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D7C-970A-4BF7-AAB6-5435191F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3CD-53F4-4307-AA7E-AF99E982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255-1D06-4F31-9ED5-AA2786CA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396-0172-47C7-B532-6DF39BF8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68C-861E-4F99-AA0D-4D2A00F4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F10-DEA2-41C4-A0C1-44853E9A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374-3672-4EAA-9FD0-243CC2F3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7CB-1D9B-4DFD-9A9C-1FF63DF3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048-1785-4C03-99D0-C2CB5AF3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77C-490A-41A9-909D-51D59CD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15A-22AB-4686-A81D-DDAC327F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10E-6EE6-4256-AAD9-196BE0B2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7280" indent="-3808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0576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fld id="{9DF5C285-6F3A-4A87-AEE5-825ACA7B41AB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27外来文字.psd"/>
          <p:cNvPicPr/>
          <p:nvPr/>
        </p:nvPicPr>
        <p:blipFill>
          <a:blip r:embed="rId1"/>
          <a:stretch/>
        </p:blipFill>
        <p:spPr>
          <a:xfrm>
            <a:off x="14406480" y="2068560"/>
            <a:ext cx="25274520" cy="7961400"/>
          </a:xfrm>
          <a:prstGeom prst="rect">
            <a:avLst/>
          </a:prstGeom>
          <a:ln w="0">
            <a:noFill/>
          </a:ln>
        </p:spPr>
      </p:pic>
      <p:pic>
        <p:nvPicPr>
          <p:cNvPr id="42" name="図 2" descr="27病院.psd"/>
          <p:cNvPicPr/>
          <p:nvPr/>
        </p:nvPicPr>
        <p:blipFill>
          <a:blip r:embed="rId2"/>
          <a:stretch/>
        </p:blipFill>
        <p:spPr>
          <a:xfrm>
            <a:off x="3313080" y="1143000"/>
            <a:ext cx="10051920" cy="84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0:47:07Z</dcterms:created>
  <dc:creator>笛田 桃子</dc:creator>
  <dc:description/>
  <dc:language>en-US</dc:language>
  <cp:lastModifiedBy>笛田 桃子</cp:lastModifiedBy>
  <dcterms:modified xsi:type="dcterms:W3CDTF">2012-09-26T05:43:26Z</dcterms:modified>
  <cp:revision>9</cp:revision>
  <dc:subject/>
  <dc:title>PowerPoint プレゼンテーション</dc:title>
</cp:coreProperties>
</file>