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F5A-026F-4E01-BCE5-6761C613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690-0F15-4D80-A4C1-D5DB78A8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5B0-E156-485B-81F7-076A8658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23C-0C2C-42ED-8F4E-F4876B57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BC0-BFE9-4892-B298-27E9DCAE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3A8-D533-4A83-ADFD-AE914F78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4EA-F4E5-41D3-A79B-92F25A01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57D-87E8-4A06-905A-FDBF8AA5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604440"/>
            <a:ext cx="962352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D37-BB89-464E-AC3E-EB9B20C5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DDC-A8DB-41BC-8FDA-EFCE8F2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4E4-9FA3-4D2F-BCEB-63A449FB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82B-7EBF-420D-8CD2-663D88A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13771080"/>
            <a:ext cx="338760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8E7F9D5A-00E7-447A-A84E-D480D9123AC5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5122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9880" y="932040"/>
            <a:ext cx="9090000" cy="449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381560" y="6424560"/>
            <a:ext cx="6159600" cy="4130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823840"/>
            <a:ext cx="10693440" cy="3298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549760" y="12341160"/>
            <a:ext cx="4442040" cy="226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03160" y="8507520"/>
            <a:ext cx="421812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4:09:51Z</dcterms:created>
  <dc:creator>fukase3</dc:creator>
  <dc:description/>
  <dc:language>en-US</dc:language>
  <cp:lastModifiedBy>fukase3</cp:lastModifiedBy>
  <dcterms:modified xsi:type="dcterms:W3CDTF">2009-05-28T02:35:28Z</dcterms:modified>
  <cp:revision>3</cp:revision>
  <dc:subject/>
  <dc:title>スライド 1</dc:title>
</cp:coreProperties>
</file>