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4B3-2CF1-442D-A56A-C60B28A2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FB2-6DD2-4446-8448-954BF07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02C-4D5A-4618-AE8B-292BC630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D8D-4581-451B-8940-20038222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B87-61C8-4DB6-8EAF-542C60F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F79-0656-4D94-B347-F26BC88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5D9-95F4-44CC-A771-8F81FB5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CCB-F885-4F08-BBB1-690CA459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DA5-E7B6-4B92-97D1-92B9E6B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F8B-9027-46E9-B762-034BC2A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066-77EB-4501-8D26-22CEDD2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9E-8CF1-4CAE-9D5D-100A6AD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C5A9928F-817A-4077-A368-1B50A90304DB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4280" y="2008080"/>
            <a:ext cx="14574960" cy="836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938760"/>
            <a:ext cx="14552640" cy="441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8680" y="39434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122520" cy="180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4600" y="133668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ご家族・地域とのコミュニケーション誌　　第１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323800" y="1968480"/>
            <a:ext cx="3520800" cy="68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75040" y="4145040"/>
            <a:ext cx="3521160" cy="68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1329920" y="6342120"/>
            <a:ext cx="35211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73480" y="4226040"/>
            <a:ext cx="314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今月の催し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23680" y="2050920"/>
            <a:ext cx="314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リハビリについ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50680" y="6404040"/>
            <a:ext cx="314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ウィルス対策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985680" y="8594640"/>
            <a:ext cx="1908360" cy="171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8680" y="61452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8680" y="83469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88240" y="39448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88240" y="61466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88240" y="83487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1114560" y="2066760"/>
            <a:ext cx="1593720" cy="170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339040" y="4214880"/>
            <a:ext cx="1257480" cy="1785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13587480" y="4186080"/>
            <a:ext cx="98424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11111040" y="8432640"/>
            <a:ext cx="3735360" cy="190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5353200" y="6566040"/>
            <a:ext cx="1625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0:40:57Z</dcterms:created>
  <dc:creator>fukase3</dc:creator>
  <dc:description/>
  <dc:language>en-US</dc:language>
  <cp:lastModifiedBy>TTBS</cp:lastModifiedBy>
  <dcterms:modified xsi:type="dcterms:W3CDTF">2009-06-19T00:21:46Z</dcterms:modified>
  <cp:revision>12</cp:revision>
  <dc:subject/>
  <dc:title>スライド 1</dc:title>
</cp:coreProperties>
</file>