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D9A-BCCD-4555-AEA1-2988387E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951-8F99-482D-9027-D88D75B8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20C-9B61-46D4-9E0C-1734B016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8D6-2B86-4740-892A-9F245EB1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2E6-BE5E-453A-84A5-A89C9DCC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276-AD58-4F7F-858B-060455EC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894-0828-40EB-B071-77B26366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0EC-1965-4CCD-AF97-D9EE738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774-0E12-49A3-9786-ED2787B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EB0-F9D6-445F-94A6-F3F8DEA5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D9F-3E4A-4A93-8C3B-E21E6E88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501-16EA-4E46-BF2E-5E226A3C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4DBCB64E-7BE0-4B85-8887-739CF017B6F8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8タイトル.psd"/>
          <p:cNvPicPr/>
          <p:nvPr/>
        </p:nvPicPr>
        <p:blipFill>
          <a:blip r:embed="rId1"/>
          <a:stretch/>
        </p:blipFill>
        <p:spPr>
          <a:xfrm>
            <a:off x="419040" y="520560"/>
            <a:ext cx="9833040" cy="1407024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4"/>
          <p:cNvSpPr/>
          <p:nvPr/>
        </p:nvSpPr>
        <p:spPr>
          <a:xfrm>
            <a:off x="2359080" y="13833360"/>
            <a:ext cx="61056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携帯電話の利用はご遠慮くださ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2" descr="8携帯イラスト.psd"/>
          <p:cNvPicPr/>
          <p:nvPr/>
        </p:nvPicPr>
        <p:blipFill>
          <a:blip r:embed="rId2"/>
          <a:stretch/>
        </p:blipFill>
        <p:spPr>
          <a:xfrm>
            <a:off x="1322280" y="7488360"/>
            <a:ext cx="7662960" cy="5632200"/>
          </a:xfrm>
          <a:prstGeom prst="rect">
            <a:avLst/>
          </a:prstGeom>
          <a:ln w="0">
            <a:noFill/>
          </a:ln>
        </p:spPr>
      </p:pic>
      <p:sp>
        <p:nvSpPr>
          <p:cNvPr id="44" name="テキスト ボックス 3"/>
          <p:cNvSpPr/>
          <p:nvPr/>
        </p:nvSpPr>
        <p:spPr>
          <a:xfrm>
            <a:off x="1544760" y="5973840"/>
            <a:ext cx="77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on’t use mobile pho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36:44Z</dcterms:created>
  <dc:creator>笛田 桃子</dc:creator>
  <dc:description/>
  <dc:language>en-US</dc:language>
  <cp:lastModifiedBy>笛田 桃子</cp:lastModifiedBy>
  <dcterms:modified xsi:type="dcterms:W3CDTF">2012-09-26T05:54:19Z</dcterms:modified>
  <cp:revision>3</cp:revision>
  <dc:subject/>
  <dc:title>PowerPoint プレゼンテーション</dc:title>
</cp:coreProperties>
</file>