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88638" cy="151241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224-CF85-4E71-A612-48708662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874224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DCC8-0C49-41D0-B217-152C50AB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F3FB-4DD8-49BA-8C59-FFEEAC93B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684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39080" y="352908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684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39080" y="8742240"/>
            <a:ext cx="30970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799-0088-48D4-B529-0B8437EB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C3A-81B4-4B9D-9344-D644405E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9C4-5DA8-42E5-973A-2D49E40C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A28-9694-455E-89E1-3A65A81D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BFA8-866F-4ED0-969A-67FCDDB4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606600"/>
            <a:ext cx="9618840" cy="116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0209-6A74-4CAF-A66F-7236393A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911-770C-402D-A069-6F1B7BB5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874224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0E5-2CF9-4229-98D8-C15BA89F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3529080"/>
            <a:ext cx="469368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8742240"/>
            <a:ext cx="9618840" cy="476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1334-A2C8-4C8F-BF7F-2471A4CB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600" y="606600"/>
            <a:ext cx="9618840" cy="25192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600" y="3529080"/>
            <a:ext cx="9618840" cy="9980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632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632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632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14017680"/>
            <a:ext cx="249408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1120" y="14017680"/>
            <a:ext cx="338616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59720" y="14017680"/>
            <a:ext cx="2494080" cy="8049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4E86B76C-F296-466F-ACBD-651F0F467A4A}" type="slidenum">
              <a:rPr b="0" lang="ja-JP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9タイトル.psd"/>
          <p:cNvPicPr/>
          <p:nvPr/>
        </p:nvPicPr>
        <p:blipFill>
          <a:blip r:embed="rId1"/>
          <a:stretch/>
        </p:blipFill>
        <p:spPr>
          <a:xfrm>
            <a:off x="419040" y="520560"/>
            <a:ext cx="9833040" cy="14070240"/>
          </a:xfrm>
          <a:prstGeom prst="rect">
            <a:avLst/>
          </a:prstGeom>
          <a:ln w="0">
            <a:noFill/>
          </a:ln>
        </p:spPr>
      </p:pic>
      <p:pic>
        <p:nvPicPr>
          <p:cNvPr id="42" name="図 2" descr="9携帯イラスト.psd"/>
          <p:cNvPicPr/>
          <p:nvPr/>
        </p:nvPicPr>
        <p:blipFill>
          <a:blip r:embed="rId2"/>
          <a:stretch/>
        </p:blipFill>
        <p:spPr>
          <a:xfrm>
            <a:off x="977760" y="7713720"/>
            <a:ext cx="8710920" cy="654048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3"/>
          <p:cNvSpPr/>
          <p:nvPr/>
        </p:nvSpPr>
        <p:spPr>
          <a:xfrm>
            <a:off x="5482800" y="6165720"/>
            <a:ext cx="3787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この場所では携帯電話がご使用出来ます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他の人のご迷惑にならないようご使用くださ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8:36:44Z</dcterms:created>
  <dc:creator>笛田 桃子</dc:creator>
  <dc:description/>
  <dc:language>en-US</dc:language>
  <cp:lastModifiedBy>笛田 桃子</cp:lastModifiedBy>
  <dcterms:modified xsi:type="dcterms:W3CDTF">2012-09-26T05:58:38Z</dcterms:modified>
  <cp:revision>5</cp:revision>
  <dc:subject/>
  <dc:title>PowerPoint プレゼンテーション</dc:title>
</cp:coreProperties>
</file>