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B2C-F56B-4A8F-A0EE-F50E4F29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280" y="588600"/>
            <a:ext cx="6427800" cy="25066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3090600"/>
            <a:ext cx="642780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6441480"/>
            <a:ext cx="642780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E9D-F23F-4238-94E1-021DAF5C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280" y="588600"/>
            <a:ext cx="6427800" cy="25066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3090600"/>
            <a:ext cx="313668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0280" y="3090600"/>
            <a:ext cx="313668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6441480"/>
            <a:ext cx="313668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0280" y="6441480"/>
            <a:ext cx="313668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300-EFF9-4BC2-8395-91D22EA6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280" y="588600"/>
            <a:ext cx="6427800" cy="25066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3090600"/>
            <a:ext cx="206964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3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9960" y="3090600"/>
            <a:ext cx="206964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3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13280" y="3090600"/>
            <a:ext cx="206964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3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6441480"/>
            <a:ext cx="206964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3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9960" y="6441480"/>
            <a:ext cx="206964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3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13280" y="6441480"/>
            <a:ext cx="206964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83000"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4E7-E721-40ED-B9B1-FA5BD3CC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280" y="588600"/>
            <a:ext cx="6427800" cy="25066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3090600"/>
            <a:ext cx="6427800" cy="64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EC1-87CC-4D5E-9ABE-01CFD0F1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280" y="588600"/>
            <a:ext cx="6427800" cy="25066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3090600"/>
            <a:ext cx="6427800" cy="64148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AED-9CAD-45A7-ABE1-01BEEE89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280" y="588600"/>
            <a:ext cx="6427800" cy="25066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3090600"/>
            <a:ext cx="3136680" cy="64148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0280" y="3090600"/>
            <a:ext cx="3136680" cy="64148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2D4-7F54-485D-8873-CA657106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280" y="588600"/>
            <a:ext cx="6427800" cy="25066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488-66FC-4724-8E34-7935D870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280" y="950400"/>
            <a:ext cx="6427800" cy="82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AE3-3B7F-43FE-922E-FDD53FA6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280" y="588600"/>
            <a:ext cx="6427800" cy="25066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3090600"/>
            <a:ext cx="313668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0280" y="3090600"/>
            <a:ext cx="3136680" cy="64148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6441480"/>
            <a:ext cx="313668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BF1-86AA-4DE8-B11E-9F29F06E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280" y="588600"/>
            <a:ext cx="6427800" cy="25066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3090600"/>
            <a:ext cx="3136680" cy="64148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0280" y="3090600"/>
            <a:ext cx="313668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0280" y="6441480"/>
            <a:ext cx="313668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3BD-1AF2-432F-8D4D-68E189CE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280" y="588600"/>
            <a:ext cx="6427800" cy="25066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3090600"/>
            <a:ext cx="313668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0280" y="3090600"/>
            <a:ext cx="313668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6441480"/>
            <a:ext cx="6427800" cy="30596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CB4-4229-4D52-94F5-50F5AD6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6280" y="950400"/>
            <a:ext cx="6427800" cy="178308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ctr">
            <a:noAutofit/>
          </a:bodyPr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3090600"/>
            <a:ext cx="6427800" cy="641484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rmAutofit fontScale="66000"/>
          </a:bodyPr>
          <a:p>
            <a:pPr marL="396000" indent="-39600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880" indent="-32976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2638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8960" indent="-26460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77080" indent="-2638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77080" indent="-2638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77080" indent="-263880">
              <a:spcBef>
                <a:spcPts val="1400"/>
              </a:spcBef>
              <a:buClr>
                <a:srgbClr val="000000"/>
              </a:buClr>
              <a:buFont typeface="Times New Roman"/>
              <a:buChar char="»"/>
              <a:tabLst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6280" y="9741960"/>
            <a:ext cx="1576440" cy="71460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Autofit/>
          </a:bodyPr>
          <a:lstStyle>
            <a:lvl1pPr indent="0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  <a:defRPr b="0" lang="en-US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41960"/>
            <a:ext cx="2395440" cy="71460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Autofit/>
          </a:bodyPr>
          <a:lstStyle>
            <a:lvl1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  <a:defRPr b="0" lang="en-US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7640" y="9741960"/>
            <a:ext cx="1576440" cy="714600"/>
          </a:xfrm>
          <a:prstGeom prst="rect">
            <a:avLst/>
          </a:prstGeom>
          <a:noFill/>
          <a:ln w="0">
            <a:noFill/>
          </a:ln>
        </p:spPr>
        <p:txBody>
          <a:bodyPr lIns="160200" rIns="160200" tIns="79920" bIns="79920" anchor="t">
            <a:noAutofit/>
          </a:bodyPr>
          <a:lstStyle>
            <a:lvl1pPr indent="0" algn="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  <a:defRPr b="0" lang="en-US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fld id="{EE5F3814-DAF2-4E90-86E4-F5DC90F0F13E}" type="slidenum"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71640" y="463680"/>
            <a:ext cx="5689440" cy="779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1386000"/>
            <a:ext cx="6646680" cy="849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36760" y="9234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くまのこどもびょうい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7434360"/>
            <a:ext cx="61927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当院では終日禁煙となっております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院内でのおたばこはご遠慮ください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ご理解とご協力をお願い致します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044720" y="1746360"/>
            <a:ext cx="5472000" cy="547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869080" y="9237600"/>
            <a:ext cx="830160" cy="40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05440" y="5418000"/>
            <a:ext cx="17762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****</cp:lastModifiedBy>
  <dcterms:modified xsi:type="dcterms:W3CDTF">2009-05-21T08:13:09Z</dcterms:modified>
  <cp:revision>29</cp:revision>
  <dc:subject/>
  <dc:title>PowerPoint プレゼンテーション</dc:title>
</cp:coreProperties>
</file>