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5124113" cy="106886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F849-CCE9-40EE-9505-41F359126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6720" y="428400"/>
            <a:ext cx="1360980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6720" y="2494080"/>
            <a:ext cx="1360980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6720" y="6178320"/>
            <a:ext cx="1360980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E3EF-BC83-4F5D-AEC0-AD7E122FF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6720" y="428400"/>
            <a:ext cx="1360980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6720" y="2494080"/>
            <a:ext cx="664128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730280" y="2494080"/>
            <a:ext cx="664128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6720" y="6178320"/>
            <a:ext cx="664128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730280" y="6178320"/>
            <a:ext cx="664128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5E17-1286-4480-AFA2-7B7E13E38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6720" y="428400"/>
            <a:ext cx="1360980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6720" y="2494080"/>
            <a:ext cx="438228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8600" y="2494080"/>
            <a:ext cx="438228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960120" y="2494080"/>
            <a:ext cx="438228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6720" y="6178320"/>
            <a:ext cx="438228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358600" y="6178320"/>
            <a:ext cx="438228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960120" y="6178320"/>
            <a:ext cx="438228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C23F-0F27-4205-B9AB-B68074DE3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6720" y="428400"/>
            <a:ext cx="1360980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6720" y="2494080"/>
            <a:ext cx="13609800" cy="705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79BF-E5FE-4E4B-811F-317D7C40F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6720" y="428400"/>
            <a:ext cx="1360980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6720" y="2494080"/>
            <a:ext cx="13609800" cy="70531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9ED8-6960-409A-ADA6-B1837EA33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6720" y="428400"/>
            <a:ext cx="1360980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2494080"/>
            <a:ext cx="6641280" cy="70531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730280" y="2494080"/>
            <a:ext cx="6641280" cy="70531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6865-F709-484A-84B5-3F40F6ED6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6720" y="428400"/>
            <a:ext cx="1360980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262E-FA92-40F2-AA04-A70EAAD27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6720" y="428400"/>
            <a:ext cx="1360980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8694-B1CC-4ADA-9582-ECBD872D4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6720" y="428400"/>
            <a:ext cx="1360980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6720" y="2494080"/>
            <a:ext cx="664128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730280" y="2494080"/>
            <a:ext cx="6641280" cy="70531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6720" y="6178320"/>
            <a:ext cx="664128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040A-991C-484D-87E1-61893A60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6720" y="428400"/>
            <a:ext cx="1360980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6720" y="2494080"/>
            <a:ext cx="6641280" cy="70531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730280" y="2494080"/>
            <a:ext cx="664128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730280" y="6178320"/>
            <a:ext cx="664128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E77B-8A59-4A8B-8DB7-66D68F5F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6720" y="428400"/>
            <a:ext cx="1360980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6720" y="2494080"/>
            <a:ext cx="664128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730280" y="2494080"/>
            <a:ext cx="664128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6720" y="6178320"/>
            <a:ext cx="1360980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433D-A470-4EA3-B003-6A2CF1C1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6720" y="428400"/>
            <a:ext cx="1360980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2494080"/>
            <a:ext cx="13609800" cy="70531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552600" indent="-55260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1" marL="1197000" indent="-46044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2" marL="1843200" indent="-3682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3" marL="2579760" indent="-36828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4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5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6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6720" y="9905760"/>
            <a:ext cx="35290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lstStyle>
            <a:lvl1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  <a:defRPr b="0" lang="ja-JP" sz="1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ja-JP" sz="1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165280" y="9905760"/>
            <a:ext cx="47926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837440" y="9905760"/>
            <a:ext cx="35290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lstStyle>
            <a:lvl1pPr indent="0" algn="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  <a:defRPr b="0" lang="ja-JP" sz="1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fld id="{AC28B76F-901C-447F-9D9D-7C362A3EA1CA}" type="slidenum">
              <a:rPr b="0" lang="ja-JP" sz="1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8"/>
          <p:cNvSpPr/>
          <p:nvPr/>
        </p:nvSpPr>
        <p:spPr>
          <a:xfrm>
            <a:off x="0" y="-14400"/>
            <a:ext cx="15123960" cy="107521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角丸四角形 28"/>
          <p:cNvSpPr/>
          <p:nvPr/>
        </p:nvSpPr>
        <p:spPr>
          <a:xfrm>
            <a:off x="549360" y="441360"/>
            <a:ext cx="14087520" cy="1177920"/>
          </a:xfrm>
          <a:prstGeom prst="roundRect">
            <a:avLst>
              <a:gd name="adj" fmla="val 16667"/>
            </a:avLst>
          </a:prstGeom>
          <a:solidFill>
            <a:srgbClr val="4f6228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ＭＳ Ｐ明朝"/>
                <a:ea typeface="ＭＳ Ｐ明朝"/>
              </a:rPr>
              <a:t>0000</a:t>
            </a:r>
            <a:r>
              <a:rPr b="0" lang="ja-JP" sz="7200" spc="-1" strike="noStrike">
                <a:solidFill>
                  <a:srgbClr val="ffffff"/>
                </a:solidFill>
                <a:latin typeface="ＭＳ Ｐ明朝"/>
                <a:ea typeface="ＭＳ Ｐ明朝"/>
              </a:rPr>
              <a:t>年</a:t>
            </a:r>
            <a:r>
              <a:rPr b="0" lang="en-US" sz="7200" spc="-1" strike="noStrike">
                <a:solidFill>
                  <a:srgbClr val="ffffff"/>
                </a:solidFill>
                <a:latin typeface="ＭＳ Ｐ明朝"/>
                <a:ea typeface="ＭＳ Ｐ明朝"/>
              </a:rPr>
              <a:t>00</a:t>
            </a:r>
            <a:r>
              <a:rPr b="0" lang="ja-JP" sz="7200" spc="-1" strike="noStrike">
                <a:solidFill>
                  <a:srgbClr val="ffffff"/>
                </a:solidFill>
                <a:latin typeface="ＭＳ Ｐ明朝"/>
                <a:ea typeface="ＭＳ Ｐ明朝"/>
              </a:rPr>
              <a:t>月　献立表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549360" y="2127240"/>
          <a:ext cx="14087520" cy="7365960"/>
        </p:xfrm>
        <a:graphic>
          <a:graphicData uri="http://schemas.openxmlformats.org/drawingml/2006/table">
            <a:tbl>
              <a:tblPr/>
              <a:tblGrid>
                <a:gridCol w="2012760"/>
                <a:gridCol w="2011320"/>
                <a:gridCol w="2013120"/>
                <a:gridCol w="2012760"/>
                <a:gridCol w="2013120"/>
                <a:gridCol w="2011320"/>
                <a:gridCol w="2013120"/>
              </a:tblGrid>
              <a:tr h="353880">
                <a:tc>
                  <a:txBody>
                    <a:bodyPr lIns="16560" rIns="16560" tIns="16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ja-JP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１日（月）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76933c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ja-JP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２日（火）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76933c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ja-JP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３日（水）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76933c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ja-JP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４日（木）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76933c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ja-JP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５日（金）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76933c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ja-JP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６日（土）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ja-JP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７日（日）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6699"/>
                    </a:solidFill>
                  </a:tcPr>
                </a:tc>
              </a:tr>
              <a:tr h="1119240">
                <a:tc>
                  <a:txBody>
                    <a:bodyPr lIns="16560" rIns="16560" tIns="16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lt;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和風ご飯の日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gt;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豆腐のステーキ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副菜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ご飯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味噌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lt;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和風ご飯の日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gt;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豆腐のステーキ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副菜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ご飯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味噌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lt;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和風ご飯の日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gt;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豆腐のステーキ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副菜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ご飯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味噌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lt;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和風ご飯の日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gt;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豆腐のステーキ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副菜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ご飯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味噌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lt;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和風ご飯の日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gt;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豆腐のステーキ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副菜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ご飯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味噌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lt;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和風ご飯の日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gt;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豆腐のステーキ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副菜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ご飯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味噌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lt;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和風ご飯の日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gt;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豆腐のステーキ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副菜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ご飯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味噌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4240">
                <a:tc>
                  <a:txBody>
                    <a:bodyPr lIns="16560" rIns="16560" tIns="16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8</a:t>
                      </a:r>
                      <a:r>
                        <a:rPr b="0" lang="ja-JP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日（月）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76933c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9</a:t>
                      </a:r>
                      <a:r>
                        <a:rPr b="0" lang="ja-JP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日（火）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76933c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0</a:t>
                      </a:r>
                      <a:r>
                        <a:rPr b="0" lang="ja-JP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日（水）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76933c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1</a:t>
                      </a:r>
                      <a:r>
                        <a:rPr b="0" lang="ja-JP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日（木）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76933c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2</a:t>
                      </a:r>
                      <a:r>
                        <a:rPr b="0" lang="ja-JP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日（金）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76933c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3</a:t>
                      </a:r>
                      <a:r>
                        <a:rPr b="0" lang="ja-JP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日（土）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4</a:t>
                      </a:r>
                      <a:r>
                        <a:rPr b="0" lang="ja-JP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日（日）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6699"/>
                    </a:solidFill>
                  </a:tcPr>
                </a:tc>
              </a:tr>
              <a:tr h="1118880">
                <a:tc>
                  <a:txBody>
                    <a:bodyPr lIns="16560" rIns="16560" tIns="16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lt;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和風ご飯の日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gt;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豆腐のステーキ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副菜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ご飯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味噌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lt;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和風ご飯の日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gt;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豆腐のステーキ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副菜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ご飯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味噌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lt;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和風ご飯の日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gt;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豆腐のステーキ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副菜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ご飯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味噌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lt;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和風ご飯の日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gt;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豆腐のステーキ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副菜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ご飯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味噌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lt;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和風ご飯の日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gt;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豆腐のステーキ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副菜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ご飯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味噌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lt;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和風ご飯の日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gt;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豆腐のステーキ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副菜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ご飯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味噌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lt;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和風ご飯の日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gt;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豆腐のステーキ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副菜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ご飯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味噌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4240">
                <a:tc>
                  <a:txBody>
                    <a:bodyPr lIns="16560" rIns="16560" tIns="16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5</a:t>
                      </a:r>
                      <a:r>
                        <a:rPr b="0" lang="ja-JP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日（月）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76933c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6</a:t>
                      </a:r>
                      <a:r>
                        <a:rPr b="0" lang="ja-JP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日（火）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76933c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7</a:t>
                      </a:r>
                      <a:r>
                        <a:rPr b="0" lang="ja-JP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日（水）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76933c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8</a:t>
                      </a:r>
                      <a:r>
                        <a:rPr b="0" lang="ja-JP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日（木）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76933c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19</a:t>
                      </a:r>
                      <a:r>
                        <a:rPr b="0" lang="ja-JP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日（金）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76933c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20</a:t>
                      </a:r>
                      <a:r>
                        <a:rPr b="0" lang="ja-JP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日（土）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21</a:t>
                      </a:r>
                      <a:r>
                        <a:rPr b="0" lang="ja-JP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日（日）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6699"/>
                    </a:solidFill>
                  </a:tcPr>
                </a:tc>
              </a:tr>
              <a:tr h="1119240">
                <a:tc>
                  <a:txBody>
                    <a:bodyPr lIns="16560" rIns="16560" tIns="16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lt;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和風ご飯の日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gt;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豆腐のステーキ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副菜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ご飯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味噌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lt;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和風ご飯の日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gt;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豆腐のステーキ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副菜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ご飯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味噌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lt;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和風ご飯の日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gt;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豆腐のステーキ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副菜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ご飯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味噌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lt;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和風ご飯の日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gt;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豆腐のステーキ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副菜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ご飯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味噌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lt;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和風ご飯の日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gt;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豆腐のステーキ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副菜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ご飯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味噌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lt;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和風ご飯の日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gt;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豆腐のステーキ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副菜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ご飯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味噌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lt;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和風ご飯の日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gt;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豆腐のステーキ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副菜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ご飯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味噌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3880">
                <a:tc>
                  <a:txBody>
                    <a:bodyPr lIns="16560" rIns="16560" tIns="16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22</a:t>
                      </a:r>
                      <a:r>
                        <a:rPr b="0" lang="ja-JP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日（月）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76933c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23</a:t>
                      </a:r>
                      <a:r>
                        <a:rPr b="0" lang="ja-JP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日（火）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76933c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24</a:t>
                      </a:r>
                      <a:r>
                        <a:rPr b="0" lang="ja-JP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日（水）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76933c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25</a:t>
                      </a:r>
                      <a:r>
                        <a:rPr b="0" lang="ja-JP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日（木）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76933c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26</a:t>
                      </a:r>
                      <a:r>
                        <a:rPr b="0" lang="ja-JP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日（金）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76933c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27</a:t>
                      </a:r>
                      <a:r>
                        <a:rPr b="0" lang="ja-JP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日（土）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28</a:t>
                      </a:r>
                      <a:r>
                        <a:rPr b="0" lang="ja-JP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日（日）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6699"/>
                    </a:solidFill>
                  </a:tcPr>
                </a:tc>
              </a:tr>
              <a:tr h="1119240">
                <a:tc>
                  <a:txBody>
                    <a:bodyPr lIns="16560" rIns="16560" tIns="16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lt;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和風ご飯の日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gt;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豆腐のステーキ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副菜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ご飯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味噌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lt;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和風ご飯の日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gt;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豆腐のステーキ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副菜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ご飯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味噌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lt;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和風ご飯の日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gt;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豆腐のステーキ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副菜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ご飯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味噌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lt;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和風ご飯の日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gt;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豆腐のステーキ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副菜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ご飯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味噌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lt;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和風ご飯の日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gt;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豆腐のステーキ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副菜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ご飯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味噌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lt;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和風ご飯の日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gt;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豆腐のステーキ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副菜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ご飯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味噌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lt;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和風ご飯の日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gt;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豆腐のステーキ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副菜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ご飯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味噌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3880">
                <a:tc>
                  <a:txBody>
                    <a:bodyPr lIns="16560" rIns="16560" tIns="16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29</a:t>
                      </a:r>
                      <a:r>
                        <a:rPr b="0" lang="ja-JP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日（月）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76933c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30</a:t>
                      </a:r>
                      <a:r>
                        <a:rPr b="0" lang="ja-JP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日（火）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76933c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31</a:t>
                      </a:r>
                      <a:r>
                        <a:rPr b="0" lang="ja-JP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日（水）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76933c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19240">
                <a:tc>
                  <a:txBody>
                    <a:bodyPr lIns="16560" rIns="16560" tIns="16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lt;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和風ご飯の日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gt;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豆腐のステーキ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副菜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ご飯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味噌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lt;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和風ご飯の日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gt;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豆腐のステーキ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副菜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ご飯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味噌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lt;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和風ご飯の日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gt;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豆腐のステーキ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副菜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ご飯</a:t>
                      </a:r>
                      <a:br>
                        <a:rPr sz="1200"/>
                      </a:b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味噌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560" rIns="16560" tIns="16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36560"/>
                          <a:tab algn="l" pos="1473120"/>
                          <a:tab algn="l" pos="2209680"/>
                          <a:tab algn="l" pos="2946240"/>
                          <a:tab algn="l" pos="3683160"/>
                          <a:tab algn="l" pos="4419720"/>
                          <a:tab algn="l" pos="5156280"/>
                          <a:tab algn="l" pos="5892840"/>
                          <a:tab algn="l" pos="6629400"/>
                          <a:tab algn="l" pos="7365960"/>
                          <a:tab algn="l" pos="8102520"/>
                          <a:tab algn="l" pos="8839080"/>
                          <a:tab algn="l" pos="9575640"/>
                          <a:tab algn="l" pos="103125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正方形/長方形 5"/>
          <p:cNvSpPr/>
          <p:nvPr/>
        </p:nvSpPr>
        <p:spPr>
          <a:xfrm>
            <a:off x="0" y="9931320"/>
            <a:ext cx="15123960" cy="814320"/>
          </a:xfrm>
          <a:prstGeom prst="rect">
            <a:avLst/>
          </a:prstGeom>
          <a:solidFill>
            <a:srgbClr val="948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図 6" descr="kondate_01.png"/>
          <p:cNvPicPr/>
          <p:nvPr/>
        </p:nvPicPr>
        <p:blipFill>
          <a:blip r:embed="rId1"/>
          <a:srcRect l="0" t="0" r="223" b="9513"/>
          <a:stretch/>
        </p:blipFill>
        <p:spPr>
          <a:xfrm>
            <a:off x="9607680" y="8086680"/>
            <a:ext cx="5516280" cy="2658960"/>
          </a:xfrm>
          <a:prstGeom prst="rect">
            <a:avLst/>
          </a:prstGeom>
          <a:ln w="0">
            <a:noFill/>
          </a:ln>
        </p:spPr>
      </p:pic>
      <p:sp>
        <p:nvSpPr>
          <p:cNvPr id="46" name="円形吹き出し 7"/>
          <p:cNvSpPr/>
          <p:nvPr/>
        </p:nvSpPr>
        <p:spPr>
          <a:xfrm>
            <a:off x="6921360" y="8412120"/>
            <a:ext cx="2455920" cy="1593720"/>
          </a:xfrm>
          <a:prstGeom prst="wedgeEllipseCallout">
            <a:avLst>
              <a:gd name="adj1" fmla="val 61444"/>
              <a:gd name="adj2" fmla="val 5009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月２回の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お楽しみメニュー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お楽しみに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テキスト ボックス 9"/>
          <p:cNvSpPr/>
          <p:nvPr/>
        </p:nvSpPr>
        <p:spPr>
          <a:xfrm>
            <a:off x="775800" y="10032840"/>
            <a:ext cx="2390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ja-JP" sz="2900" spc="-1" strike="noStrike">
                <a:solidFill>
                  <a:srgbClr val="ffffff"/>
                </a:solidFill>
                <a:latin typeface="Calibri"/>
              </a:rPr>
              <a:t>エコクリデイサービス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4T05:26:05Z</dcterms:created>
  <dc:creator>深田 龍</dc:creator>
  <dc:description/>
  <dc:language>en-US</dc:language>
  <cp:lastModifiedBy>sugimura yuki(杉村 有希 TEC □ＲＳ本□ＲＳＳＳ□エリア・ＢＰ推進)</cp:lastModifiedBy>
  <cp:lastPrinted>2013-03-08T09:30:31Z</cp:lastPrinted>
  <dcterms:modified xsi:type="dcterms:W3CDTF">2025-10-02T05:34:00Z</dcterms:modified>
  <cp:revision>21</cp:revision>
  <dc:subject/>
  <dc:title>PowerPoint プレゼンテーション</dc:title>
</cp:coreProperties>
</file>