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709-C780-4F6D-8350-5F3C0992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6720" y="2494080"/>
            <a:ext cx="136098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6720" y="6178320"/>
            <a:ext cx="136098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87F-E8A4-4841-B5AD-F7A595CC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720" y="249408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30280" y="249408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6720" y="617832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30280" y="617832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F40-3F87-4343-833D-734342AC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6720" y="2494080"/>
            <a:ext cx="4382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8600" y="2494080"/>
            <a:ext cx="4382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60120" y="2494080"/>
            <a:ext cx="4382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6720" y="6178320"/>
            <a:ext cx="4382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8600" y="6178320"/>
            <a:ext cx="4382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60120" y="6178320"/>
            <a:ext cx="4382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41C-CC49-44C3-B034-550F7A76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6720" y="2494080"/>
            <a:ext cx="13609800" cy="70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3AC-F2B8-41B7-BAC8-A1B74ED9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6720" y="2494080"/>
            <a:ext cx="1360980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C72-A94F-47F2-9348-4434B677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2494080"/>
            <a:ext cx="66412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280" y="2494080"/>
            <a:ext cx="66412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B3B-2155-4E13-A389-20620691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E70-0C68-43C0-9497-2B9A8D12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6720" y="428400"/>
            <a:ext cx="1360980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086-2E64-410A-9E4E-A09963AC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6720" y="249408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30280" y="2494080"/>
            <a:ext cx="66412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6720" y="617832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244-44D3-4955-9163-CFC7575C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6720" y="2494080"/>
            <a:ext cx="66412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30280" y="249408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30280" y="617832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5E6-0D23-4CF6-A185-7DFA9950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6720" y="249408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30280" y="249408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6720" y="6178320"/>
            <a:ext cx="136098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BBB-CA98-40FA-929F-974F0976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2494080"/>
            <a:ext cx="1360980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6720" y="990576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5280" y="9905760"/>
            <a:ext cx="47926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90576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44201425-ADDD-4975-BAB9-9A0F1EC78711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8"/>
          <p:cNvSpPr/>
          <p:nvPr/>
        </p:nvSpPr>
        <p:spPr>
          <a:xfrm>
            <a:off x="0" y="-14400"/>
            <a:ext cx="15123960" cy="1075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角丸四角形 28"/>
          <p:cNvSpPr/>
          <p:nvPr/>
        </p:nvSpPr>
        <p:spPr>
          <a:xfrm>
            <a:off x="549360" y="441360"/>
            <a:ext cx="14087520" cy="1177920"/>
          </a:xfrm>
          <a:prstGeom prst="roundRect">
            <a:avLst>
              <a:gd name="adj" fmla="val 16667"/>
            </a:avLst>
          </a:prstGeom>
          <a:solidFill>
            <a:srgbClr val="4f6228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2013</a:t>
            </a:r>
            <a:r>
              <a:rPr b="0" lang="ja-JP" sz="7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年</a:t>
            </a:r>
            <a:r>
              <a:rPr b="0" lang="en-US" sz="7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00</a:t>
            </a:r>
            <a:r>
              <a:rPr b="0" lang="ja-JP" sz="7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月　献立表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49360" y="2127240"/>
          <a:ext cx="14087520" cy="7365960"/>
        </p:xfrm>
        <a:graphic>
          <a:graphicData uri="http://schemas.openxmlformats.org/drawingml/2006/table">
            <a:tbl>
              <a:tblPr/>
              <a:tblGrid>
                <a:gridCol w="2012760"/>
                <a:gridCol w="2011320"/>
                <a:gridCol w="2013120"/>
                <a:gridCol w="2012760"/>
                <a:gridCol w="2013120"/>
                <a:gridCol w="2011320"/>
                <a:gridCol w="2013120"/>
              </a:tblGrid>
              <a:tr h="353880"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１日（月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２日（火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３日（水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４日（木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５日（金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６日（土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７日（日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1119240"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240"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8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月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火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0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水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1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木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2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金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3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土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4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日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1118880"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240"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5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月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6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火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7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水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8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木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9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金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0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土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1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日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1119240"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2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月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3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火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4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水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5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木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6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金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7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土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8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日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1119240"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9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月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0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火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1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水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19240"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正方形/長方形 5"/>
          <p:cNvSpPr/>
          <p:nvPr/>
        </p:nvSpPr>
        <p:spPr>
          <a:xfrm>
            <a:off x="0" y="9931320"/>
            <a:ext cx="15123960" cy="8143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6" descr="kondate_01.png"/>
          <p:cNvPicPr/>
          <p:nvPr/>
        </p:nvPicPr>
        <p:blipFill>
          <a:blip r:embed="rId1"/>
          <a:srcRect l="0" t="0" r="223" b="9513"/>
          <a:stretch/>
        </p:blipFill>
        <p:spPr>
          <a:xfrm>
            <a:off x="9607680" y="8086680"/>
            <a:ext cx="5516280" cy="2658960"/>
          </a:xfrm>
          <a:prstGeom prst="rect">
            <a:avLst/>
          </a:prstGeom>
          <a:ln w="0">
            <a:noFill/>
          </a:ln>
        </p:spPr>
      </p:pic>
      <p:sp>
        <p:nvSpPr>
          <p:cNvPr id="46" name="円形吹き出し 7"/>
          <p:cNvSpPr/>
          <p:nvPr/>
        </p:nvSpPr>
        <p:spPr>
          <a:xfrm>
            <a:off x="6921360" y="8412120"/>
            <a:ext cx="2455920" cy="1593720"/>
          </a:xfrm>
          <a:prstGeom prst="wedgeEllipseCallout">
            <a:avLst>
              <a:gd name="adj1" fmla="val 61444"/>
              <a:gd name="adj2" fmla="val 500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月２回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お楽しみメニュー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お楽しみに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9"/>
          <p:cNvSpPr/>
          <p:nvPr/>
        </p:nvSpPr>
        <p:spPr>
          <a:xfrm>
            <a:off x="775800" y="10032840"/>
            <a:ext cx="2390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ja-JP" sz="2900" spc="-1" strike="noStrike">
                <a:solidFill>
                  <a:srgbClr val="ffffff"/>
                </a:solidFill>
                <a:latin typeface="Calibri"/>
              </a:rPr>
              <a:t>エコクリデイサービ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win1</cp:lastModifiedBy>
  <cp:lastPrinted>2013-03-08T09:30:31Z</cp:lastPrinted>
  <dcterms:modified xsi:type="dcterms:W3CDTF">2013-03-11T01:14:03Z</dcterms:modified>
  <cp:revision>20</cp:revision>
  <dc:subject/>
  <dc:title>PowerPoint プレゼンテーション</dc:title>
</cp:coreProperties>
</file>