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151241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DF4-CC64-446B-B4FF-B0FB209B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F1B-6539-4E57-8186-3404E6CD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F75-BE80-410D-8FA3-3F69D7AA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E2F-AE97-48B7-9949-CBF7DBA7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FFD-D35D-48F1-819D-5F8336B5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A43-F851-4EF6-A92C-B4ABD142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828-B3D6-41CE-96B1-50050E85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57B-F540-4C6F-A8D9-F9277D6C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606600"/>
            <a:ext cx="961884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C0D-DB36-4567-BA7F-4BCDC161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CFB-3801-4377-8695-0959C731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2D8-3BDC-48DD-BBDF-1ECC8E1C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A32-F8A9-4AFD-A12B-D0A866E4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14017680"/>
            <a:ext cx="338616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E662E947-E7CB-4203-BCF0-96A8AE669DB4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14背景.psd"/>
          <p:cNvPicPr/>
          <p:nvPr/>
        </p:nvPicPr>
        <p:blipFill>
          <a:blip r:embed="rId1"/>
          <a:stretch/>
        </p:blipFill>
        <p:spPr>
          <a:xfrm>
            <a:off x="0" y="0"/>
            <a:ext cx="10688760" cy="1510992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3"/>
          <p:cNvSpPr/>
          <p:nvPr/>
        </p:nvSpPr>
        <p:spPr>
          <a:xfrm>
            <a:off x="1293840" y="1270080"/>
            <a:ext cx="821988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〇■</a:t>
            </a: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×△○</a:t>
            </a:r>
            <a:r>
              <a:rPr b="0" lang="ja-JP" sz="8000" spc="-1" strike="noStrike">
                <a:solidFill>
                  <a:srgbClr val="ff0000"/>
                </a:solidFill>
                <a:latin typeface="Calibri"/>
              </a:rPr>
              <a:t>講習会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6600" spc="-1" strike="noStrike">
                <a:solidFill>
                  <a:srgbClr val="ff0000"/>
                </a:solidFill>
                <a:latin typeface="Calibri"/>
              </a:rPr>
              <a:t>のご案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339920" y="3870360"/>
            <a:ext cx="803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〇〇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対象とする上記講習会を開催いたします。今回の講習会で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〇〇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先生による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○△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×○△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」をテーマにした内容を予定しております。ぜひこの機会にご参加くださ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1293840" y="5380200"/>
            <a:ext cx="7550280" cy="80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主催　　　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△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大学病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テーマ　　　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○△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○△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講師　　　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〇〇●●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先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対象者　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〇〇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県内に就業している医療従事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日時　　　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〇〇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日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場所　　　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△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大学病院　１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〇〇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費用　　　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,00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申込方法　申込書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〇〇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センターま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　　　　お送り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申込締切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〇〇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日ま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連絡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△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大学病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L/03-0000-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/oooo@oooohhhh.j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2" descr="14イラスト.psd"/>
          <p:cNvPicPr/>
          <p:nvPr/>
        </p:nvPicPr>
        <p:blipFill>
          <a:blip r:embed="rId2"/>
          <a:stretch/>
        </p:blipFill>
        <p:spPr>
          <a:xfrm>
            <a:off x="7253280" y="8920080"/>
            <a:ext cx="280368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8:36:44Z</dcterms:created>
  <dc:creator>笛田 桃子</dc:creator>
  <dc:description/>
  <dc:language>en-US</dc:language>
  <cp:lastModifiedBy>笛田 桃子</cp:lastModifiedBy>
  <dcterms:modified xsi:type="dcterms:W3CDTF">2012-09-26T06:02:28Z</dcterms:modified>
  <cp:revision>10</cp:revision>
  <dc:subject/>
  <dc:title>PowerPoint プレゼンテーション</dc:title>
</cp:coreProperties>
</file>