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379-3AE7-4C94-9A3E-505DC00C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7904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365-F23F-4910-B6A6-ACDD6C3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32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674-803F-4E41-BC24-E4FEA6DA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76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152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76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152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A6C-C861-44E7-B827-8EAD571A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CE8-0CD3-4DC1-95C4-DC61C62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429-5F74-4B17-BCA4-143AA4C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49C-4E21-4798-AD9B-B2F8B1E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3C7-03F8-4DAC-B20C-DAA7895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E20-D386-48C5-A0B6-1A3C7AF4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B09-7064-45EA-984C-1AE6B68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32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13-5965-43A2-BE7B-5E374FB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11C-4747-4E02-84AA-0934394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905760"/>
            <a:ext cx="75614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05760"/>
            <a:ext cx="102632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05760"/>
            <a:ext cx="756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1ACF3EA9-2883-4B7E-97F2-20FB1B159D35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2背景.psd"/>
          <p:cNvPicPr/>
          <p:nvPr/>
        </p:nvPicPr>
        <p:blipFill>
          <a:blip r:embed="rId1"/>
          <a:stretch/>
        </p:blipFill>
        <p:spPr>
          <a:xfrm>
            <a:off x="12600" y="25560"/>
            <a:ext cx="32364360" cy="1061244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22文字.psd"/>
          <p:cNvPicPr/>
          <p:nvPr/>
        </p:nvPicPr>
        <p:blipFill>
          <a:blip r:embed="rId2"/>
          <a:stretch/>
        </p:blipFill>
        <p:spPr>
          <a:xfrm>
            <a:off x="2527200" y="3216240"/>
            <a:ext cx="20994840" cy="3651120"/>
          </a:xfrm>
          <a:prstGeom prst="rect">
            <a:avLst/>
          </a:prstGeom>
          <a:ln w="0">
            <a:noFill/>
          </a:ln>
        </p:spPr>
      </p:pic>
      <p:pic>
        <p:nvPicPr>
          <p:cNvPr id="43" name="図 3" descr="22イラスト.psd"/>
          <p:cNvPicPr/>
          <p:nvPr/>
        </p:nvPicPr>
        <p:blipFill>
          <a:blip r:embed="rId3"/>
          <a:stretch/>
        </p:blipFill>
        <p:spPr>
          <a:xfrm>
            <a:off x="24165000" y="2973240"/>
            <a:ext cx="35290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26T06:04:49Z</dcterms:modified>
  <cp:revision>2</cp:revision>
  <dc:subject/>
  <dc:title>PowerPoint プレゼンテーション</dc:title>
</cp:coreProperties>
</file>