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DDD-31CC-4356-AD4E-59293783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EB0-6FF8-46CC-B793-99BCA700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E8D-9D26-4F74-B9BC-947347DA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408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79040"/>
            <a:ext cx="125204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D25-BE81-4BCD-84B7-A8E9F754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6C4-DEEC-4FC8-93F5-D84999A7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4B7-A3A0-45A6-98C9-4068AC6B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1B0-82EA-4F03-9A10-C71898BC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EE5-0E74-4D36-9CEF-A65FCC5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F92-2866-40C0-A117-387FDB5B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993-2199-406B-A8E6-257662C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7904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DC0-15AD-4D16-BE77-6B0DB79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96640"/>
            <a:ext cx="3888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4080"/>
            <a:ext cx="1897524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79040"/>
            <a:ext cx="3888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901-41ED-438B-B194-F716BB9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4080"/>
            <a:ext cx="3888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0576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0576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4007A48D-A4DB-4333-AFD9-AF579548EDE4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3" descr="25タイトル.psd"/>
          <p:cNvPicPr/>
          <p:nvPr/>
        </p:nvPicPr>
        <p:blipFill>
          <a:blip r:embed="rId1"/>
          <a:stretch/>
        </p:blipFill>
        <p:spPr>
          <a:xfrm>
            <a:off x="39600" y="0"/>
            <a:ext cx="43188120" cy="1068876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25十字.psd"/>
          <p:cNvPicPr/>
          <p:nvPr/>
        </p:nvPicPr>
        <p:blipFill>
          <a:blip r:embed="rId2"/>
          <a:stretch/>
        </p:blipFill>
        <p:spPr>
          <a:xfrm>
            <a:off x="2717640" y="280044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図 5" descr="25十字.psd"/>
          <p:cNvPicPr/>
          <p:nvPr/>
        </p:nvPicPr>
        <p:blipFill>
          <a:blip r:embed="rId3"/>
          <a:stretch/>
        </p:blipFill>
        <p:spPr>
          <a:xfrm>
            <a:off x="35777520" y="280044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テキスト ボックス 4"/>
          <p:cNvSpPr/>
          <p:nvPr/>
        </p:nvSpPr>
        <p:spPr>
          <a:xfrm>
            <a:off x="16073280" y="7816680"/>
            <a:ext cx="11192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1" lang="ja-JP" sz="14000" spc="-1" strike="noStrike">
                <a:solidFill>
                  <a:srgbClr val="ffffff"/>
                </a:solidFill>
                <a:latin typeface="Calibri"/>
              </a:rPr>
              <a:t>時間外通用口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26T06:25:33Z</dcterms:modified>
  <cp:revision>7</cp:revision>
  <dc:subject/>
  <dc:title>PowerPoint プレゼンテーション</dc:title>
</cp:coreProperties>
</file>