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88638" cy="7562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E4D8-BD2E-4EBD-B6A5-2FC5EB781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600" y="303120"/>
            <a:ext cx="961884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600" y="1765440"/>
            <a:ext cx="961884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600" y="4372560"/>
            <a:ext cx="961884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80ED-09DC-47B1-BF00-B55824DC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303120"/>
            <a:ext cx="961884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600" y="1765440"/>
            <a:ext cx="469368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3360" y="1765440"/>
            <a:ext cx="469368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600" y="4372560"/>
            <a:ext cx="469368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3360" y="4372560"/>
            <a:ext cx="469368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D390-0B18-45AE-BA5F-D1AB253A5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600" y="303120"/>
            <a:ext cx="961884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600" y="1765440"/>
            <a:ext cx="309708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6840" y="1765440"/>
            <a:ext cx="309708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39080" y="1765440"/>
            <a:ext cx="309708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600" y="4372560"/>
            <a:ext cx="309708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6840" y="4372560"/>
            <a:ext cx="309708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39080" y="4372560"/>
            <a:ext cx="309708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8EC2-4D2C-41CE-8226-BB7886E44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600" y="303120"/>
            <a:ext cx="961884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600" y="1765440"/>
            <a:ext cx="961884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68B8-AA72-4733-9DD9-E11E4423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600" y="303120"/>
            <a:ext cx="961884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600" y="1765440"/>
            <a:ext cx="961884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E577-0338-4B71-92D6-421B3400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600" y="303120"/>
            <a:ext cx="961884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600" y="1765440"/>
            <a:ext cx="469368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3360" y="1765440"/>
            <a:ext cx="469368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27BB-39CA-4998-A3C0-AA8D8C93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600" y="303120"/>
            <a:ext cx="961884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52BE-CB50-406C-AB9D-50512962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600" y="303120"/>
            <a:ext cx="961884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067A-E701-4B45-9889-9655C436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303120"/>
            <a:ext cx="961884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600" y="1765440"/>
            <a:ext cx="469368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3360" y="1765440"/>
            <a:ext cx="469368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600" y="4372560"/>
            <a:ext cx="469368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D025-646F-420B-88BC-423B4672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600" y="303120"/>
            <a:ext cx="961884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600" y="1765440"/>
            <a:ext cx="469368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3360" y="1765440"/>
            <a:ext cx="469368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3360" y="4372560"/>
            <a:ext cx="469368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95E2-E74A-44EF-8E9C-ED4DFE2C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600" y="303120"/>
            <a:ext cx="961884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600" y="1765440"/>
            <a:ext cx="469368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3360" y="1765440"/>
            <a:ext cx="469368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600" y="4372560"/>
            <a:ext cx="961884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88EC-B8F2-44BD-A359-A393CD3B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600" y="303120"/>
            <a:ext cx="961884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600" y="1765440"/>
            <a:ext cx="961884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08200" indent="-30960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43080" indent="-2476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41320" indent="-2473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38480" indent="-24768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38480" indent="-24768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38480" indent="-24768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7010280"/>
            <a:ext cx="2494080" cy="4017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lstStyle>
            <a:lvl1pPr indent="0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  <a:defRPr b="0" lang="ja-JP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0" lang="ja-JP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1120" y="7010280"/>
            <a:ext cx="3386160" cy="4017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59720" y="7010280"/>
            <a:ext cx="2494080" cy="4017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lstStyle>
            <a:lvl1pPr indent="0" algn="r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  <a:defRPr b="0" lang="ja-JP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fld id="{642C4CB9-11EA-4DBF-9B7D-7BC12C16E107}" type="slidenum">
              <a:rPr b="0" lang="ja-JP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1" descr="2休診日.psd"/>
          <p:cNvPicPr/>
          <p:nvPr/>
        </p:nvPicPr>
        <p:blipFill>
          <a:blip r:embed="rId1"/>
          <a:stretch/>
        </p:blipFill>
        <p:spPr>
          <a:xfrm>
            <a:off x="644400" y="493560"/>
            <a:ext cx="9394920" cy="656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4T07:03:25Z</dcterms:created>
  <dc:creator>笛田 桃子</dc:creator>
  <dc:description/>
  <dc:language>en-US</dc:language>
  <cp:lastModifiedBy>笛田 桃子</cp:lastModifiedBy>
  <dcterms:modified xsi:type="dcterms:W3CDTF">2012-09-05T01:05:23Z</dcterms:modified>
  <cp:revision>3</cp:revision>
  <dc:subject/>
  <dc:title>PowerPoint プレゼンテーション</dc:title>
</cp:coreProperties>
</file>