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7225" cy="10688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F13-7BFB-426E-944D-B31D2ED3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2916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79040"/>
            <a:ext cx="2916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A7D-FD62-47B8-8821-2C963773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7904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4320" y="617904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185-0CC5-49F4-BDA5-BBDC1A7E2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760" y="249408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1520" y="249408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7904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760" y="617904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1520" y="6179040"/>
            <a:ext cx="939060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0E1-B59B-4C0C-8803-108B8F99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4080"/>
            <a:ext cx="2916396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713-6CCB-433A-804D-79E4CA89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2916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5CD-51E7-434C-B4F5-43DF55B2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500-1C99-4D51-8E41-598D55E8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B12-FD38-49AB-AEA0-E1B84CD2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FD5B-6C54-4137-B093-653C66F2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7904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0FE-F2C4-4813-8EFE-0196DE30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4320" y="617904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920-A159-458E-8CFB-47F4E5B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96640"/>
            <a:ext cx="29163960" cy="204480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4320" y="2494080"/>
            <a:ext cx="1423188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79040"/>
            <a:ext cx="29163960" cy="3364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AF4-4AC8-490A-9B6C-8FE2EAB9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396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4080"/>
            <a:ext cx="29163960" cy="70545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1680" indent="-5716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2" marL="1907280" indent="-38088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3" marL="2671200" indent="-3808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720" y="9905760"/>
            <a:ext cx="75614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r>
              <a:rPr b="0" lang="ja-JP" sz="3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905760"/>
            <a:ext cx="1026324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905760"/>
            <a:ext cx="7561080" cy="56988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lstStyle>
            <a:lvl1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  <a:defRPr b="0" lang="ja-JP" sz="3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230480"/>
                <a:tab algn="l" pos="2460600"/>
                <a:tab algn="l" pos="3691080"/>
                <a:tab algn="l" pos="4921200"/>
                <a:tab algn="l" pos="6151680"/>
                <a:tab algn="l" pos="7381800"/>
                <a:tab algn="l" pos="8612280"/>
                <a:tab algn="l" pos="9842400"/>
              </a:tabLst>
            </a:pPr>
            <a:fld id="{4F9189D5-C10D-4B3F-BC60-680D030B97EC}" type="slidenum">
              <a:rPr b="0" lang="ja-JP" sz="3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23イラスト.psd"/>
          <p:cNvPicPr/>
          <p:nvPr/>
        </p:nvPicPr>
        <p:blipFill>
          <a:blip r:embed="rId1"/>
          <a:stretch/>
        </p:blipFill>
        <p:spPr>
          <a:xfrm>
            <a:off x="23468040" y="1612800"/>
            <a:ext cx="8997840" cy="8229600"/>
          </a:xfrm>
          <a:prstGeom prst="rect">
            <a:avLst/>
          </a:prstGeom>
          <a:ln w="0">
            <a:noFill/>
          </a:ln>
        </p:spPr>
      </p:pic>
      <p:pic>
        <p:nvPicPr>
          <p:cNvPr id="42" name="図 2" descr="23文字.psd"/>
          <p:cNvPicPr/>
          <p:nvPr/>
        </p:nvPicPr>
        <p:blipFill>
          <a:blip r:embed="rId2"/>
          <a:stretch/>
        </p:blipFill>
        <p:spPr>
          <a:xfrm>
            <a:off x="2141640" y="1854360"/>
            <a:ext cx="20421360" cy="76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0:47:07Z</dcterms:created>
  <dc:creator>笛田 桃子</dc:creator>
  <dc:description/>
  <dc:language>en-US</dc:language>
  <cp:lastModifiedBy>笛田 桃子</cp:lastModifiedBy>
  <dcterms:modified xsi:type="dcterms:W3CDTF">2012-09-26T06:28:09Z</dcterms:modified>
  <cp:revision>4</cp:revision>
  <dc:subject/>
  <dc:title>PowerPoint プレゼンテーション</dc:title>
</cp:coreProperties>
</file>