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5967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0253-3CCE-4073-B736-8728D209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636480"/>
            <a:ext cx="9090000" cy="13334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ctr">
            <a:noAutofit/>
          </a:bodyPr>
          <a:p>
            <a:pPr indent="0" algn="ctr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2185560"/>
            <a:ext cx="9090000" cy="21632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4554720"/>
            <a:ext cx="9090000" cy="21632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9D41-6B8E-4974-83FA-0EB8EE58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636480"/>
            <a:ext cx="9090000" cy="13334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ctr">
            <a:noAutofit/>
          </a:bodyPr>
          <a:p>
            <a:pPr indent="0" algn="ctr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2185560"/>
            <a:ext cx="4435560" cy="21632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9400" y="2185560"/>
            <a:ext cx="4435560" cy="21632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4554720"/>
            <a:ext cx="4435560" cy="21632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9400" y="4554720"/>
            <a:ext cx="4435560" cy="21632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6883-EE13-437B-BC8B-1E8425E7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636480"/>
            <a:ext cx="9090000" cy="13334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ctr">
            <a:noAutofit/>
          </a:bodyPr>
          <a:p>
            <a:pPr indent="0" algn="ctr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2185560"/>
            <a:ext cx="2926800" cy="21632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 fontScale="82000"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5400" y="2185560"/>
            <a:ext cx="2926800" cy="21632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 fontScale="82000"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48720" y="2185560"/>
            <a:ext cx="2926800" cy="21632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 fontScale="82000"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4554720"/>
            <a:ext cx="2926800" cy="21632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 fontScale="82000"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5400" y="4554720"/>
            <a:ext cx="2926800" cy="21632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 fontScale="82000"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48720" y="4554720"/>
            <a:ext cx="2926800" cy="21632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 fontScale="82000"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6950-9EB8-4ACE-A0F1-4AB7433A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636480"/>
            <a:ext cx="9090000" cy="13334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ctr">
            <a:noAutofit/>
          </a:bodyPr>
          <a:p>
            <a:pPr indent="0" algn="ctr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2185560"/>
            <a:ext cx="90900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D5E5-CE46-4788-BDD6-91FC3D45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636480"/>
            <a:ext cx="9090000" cy="13334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ctr">
            <a:noAutofit/>
          </a:bodyPr>
          <a:p>
            <a:pPr indent="0" algn="ctr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2185560"/>
            <a:ext cx="9090000" cy="45356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9A77-0EFC-4199-8130-7452E89A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636480"/>
            <a:ext cx="9090000" cy="13334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ctr">
            <a:noAutofit/>
          </a:bodyPr>
          <a:p>
            <a:pPr indent="0" algn="ctr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2185560"/>
            <a:ext cx="4435560" cy="45356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9400" y="2185560"/>
            <a:ext cx="4435560" cy="45356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D8F1-BC81-40AB-84FF-7B48D215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636480"/>
            <a:ext cx="9090000" cy="13334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ctr">
            <a:noAutofit/>
          </a:bodyPr>
          <a:p>
            <a:pPr indent="0" algn="ctr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B527-6A0B-415C-9770-43766153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672840"/>
            <a:ext cx="90900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1B01-3C2B-47D6-B823-CD74D6E3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636480"/>
            <a:ext cx="9090000" cy="13334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ctr">
            <a:noAutofit/>
          </a:bodyPr>
          <a:p>
            <a:pPr indent="0" algn="ctr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2185560"/>
            <a:ext cx="4435560" cy="21632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9400" y="2185560"/>
            <a:ext cx="4435560" cy="45356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4554720"/>
            <a:ext cx="4435560" cy="21632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D7CF-A902-42FF-84AA-6F109C36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636480"/>
            <a:ext cx="9090000" cy="13334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ctr">
            <a:noAutofit/>
          </a:bodyPr>
          <a:p>
            <a:pPr indent="0" algn="ctr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2185560"/>
            <a:ext cx="4435560" cy="45356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9400" y="2185560"/>
            <a:ext cx="4435560" cy="21632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9400" y="4554720"/>
            <a:ext cx="4435560" cy="21632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5F69-F636-48A6-9AEF-9E255104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636480"/>
            <a:ext cx="9090000" cy="13334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ctr">
            <a:noAutofit/>
          </a:bodyPr>
          <a:p>
            <a:pPr indent="0" algn="ctr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2185560"/>
            <a:ext cx="4435560" cy="21632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9400" y="2185560"/>
            <a:ext cx="4435560" cy="21632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4554720"/>
            <a:ext cx="9090000" cy="21632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C43D-A517-4B23-A570-2FD7E26F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672840"/>
            <a:ext cx="9090000" cy="126036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ctr">
            <a:noAutofit/>
          </a:bodyPr>
          <a:p>
            <a:pPr indent="0" algn="ctr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7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2185560"/>
            <a:ext cx="9090000" cy="45356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 fontScale="62000"/>
          </a:bodyPr>
          <a:p>
            <a:pPr marL="371880" indent="-3718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040" indent="-30996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9840" indent="-2476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37000" indent="-24876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33080" indent="-248040">
              <a:spcBef>
                <a:spcPts val="1400"/>
              </a:spcBef>
              <a:buClr>
                <a:srgbClr val="000000"/>
              </a:buClr>
              <a:buFont typeface="Times New Roman"/>
              <a:buChar char="»"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33080" indent="-248040">
              <a:spcBef>
                <a:spcPts val="1400"/>
              </a:spcBef>
              <a:buClr>
                <a:srgbClr val="000000"/>
              </a:buClr>
              <a:buFont typeface="Times New Roman"/>
              <a:buChar char="»"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33080" indent="-248040">
              <a:spcBef>
                <a:spcPts val="1400"/>
              </a:spcBef>
              <a:buClr>
                <a:srgbClr val="000000"/>
              </a:buClr>
              <a:buFont typeface="Times New Roman"/>
              <a:buChar char="»"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1360" y="6888240"/>
            <a:ext cx="2228760" cy="50616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Autofit/>
          </a:bodyPr>
          <a:lstStyle>
            <a:lvl1pPr indent="0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  <a:defRPr b="0" lang="en-US" sz="2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6888240"/>
            <a:ext cx="3387600" cy="50616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Autofit/>
          </a:bodyPr>
          <a:lstStyle>
            <a:lvl1pPr indent="0" algn="ctr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  <a:defRPr b="0" lang="en-US" sz="2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600" y="6888240"/>
            <a:ext cx="2228760" cy="50616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Autofit/>
          </a:bodyPr>
          <a:lstStyle>
            <a:lvl1pPr indent="0" algn="r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  <a:defRPr b="0" lang="en-US" sz="2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fld id="{6238F369-691C-4580-A819-75BB8294CBA5}" type="slidenum"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2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54000" y="684360"/>
            <a:ext cx="1673280" cy="5924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59080" y="5076720"/>
            <a:ext cx="1890720" cy="2041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518000" y="684360"/>
            <a:ext cx="1673280" cy="5924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059440" y="5076720"/>
            <a:ext cx="1890720" cy="2041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8083440" y="684360"/>
            <a:ext cx="1673280" cy="5924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8588520" y="5076720"/>
            <a:ext cx="18907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2:12:56Z</dcterms:created>
  <dc:creator>ttec</dc:creator>
  <dc:description/>
  <dc:language>en-US</dc:language>
  <cp:lastModifiedBy>fukase3</cp:lastModifiedBy>
  <dcterms:modified xsi:type="dcterms:W3CDTF">2009-05-08T06:48:48Z</dcterms:modified>
  <cp:revision>28</cp:revision>
  <dc:subject/>
  <dc:title>PowerPoint プレゼンテーション</dc:title>
</cp:coreProperties>
</file>