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8513-E039-4F58-8944-FE70E24B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7904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085-11B6-4F59-9F3D-668E9CF3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3064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D7F-48F2-463F-BE4C-9B4029FA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8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60480" y="249408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8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60480" y="6179040"/>
            <a:ext cx="438300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6D3-154B-48F8-8031-91DA0D85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99F-FE15-4BA8-9786-4FBDE9D8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F52-D18E-403B-84D1-BA933590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D5F-361F-4CFC-83A4-08284A49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072-82F8-4158-8A19-72636602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26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688-CECF-4262-9D76-8C7864FD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261-CE1F-418A-8837-50C1F615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30640" y="617904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CB3-6598-418F-AC41-73EFA4B1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30640" y="2494080"/>
            <a:ext cx="664272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79040"/>
            <a:ext cx="13612680" cy="3364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9D6-C94B-4F50-A7C7-957C5637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268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4080"/>
            <a:ext cx="13612680" cy="70545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1" marL="1197000" indent="-46044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2" marL="1843200" indent="-36828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3" marL="257976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4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5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lvl="6" marL="3317760" indent="-3682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905760"/>
            <a:ext cx="352908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2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440" y="9905760"/>
            <a:ext cx="478944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9600" y="9905760"/>
            <a:ext cx="3528720" cy="56988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lstStyle>
            <a:lvl1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  <a:defRPr b="0" lang="ja-JP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fld id="{047F4996-D572-4830-87BD-70C618FCA676}" type="slidenum">
              <a:rPr b="0" lang="ja-JP" sz="2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17注意事項.psd"/>
          <p:cNvPicPr/>
          <p:nvPr/>
        </p:nvPicPr>
        <p:blipFill>
          <a:blip r:embed="rId1"/>
          <a:stretch/>
        </p:blipFill>
        <p:spPr>
          <a:xfrm>
            <a:off x="3732120" y="5875200"/>
            <a:ext cx="9856800" cy="4084920"/>
          </a:xfrm>
          <a:prstGeom prst="rect">
            <a:avLst/>
          </a:prstGeom>
          <a:ln w="0">
            <a:noFill/>
          </a:ln>
        </p:spPr>
      </p:pic>
      <p:pic>
        <p:nvPicPr>
          <p:cNvPr id="42" name="図 1" descr="17ご面会について.psd"/>
          <p:cNvPicPr/>
          <p:nvPr/>
        </p:nvPicPr>
        <p:blipFill>
          <a:blip r:embed="rId2"/>
          <a:stretch/>
        </p:blipFill>
        <p:spPr>
          <a:xfrm>
            <a:off x="0" y="0"/>
            <a:ext cx="15123960" cy="256860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23"/>
          <p:cNvSpPr/>
          <p:nvPr/>
        </p:nvSpPr>
        <p:spPr>
          <a:xfrm>
            <a:off x="3695760" y="2962440"/>
            <a:ext cx="503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ご面会時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24"/>
          <p:cNvSpPr/>
          <p:nvPr/>
        </p:nvSpPr>
        <p:spPr>
          <a:xfrm>
            <a:off x="3646440" y="3726000"/>
            <a:ext cx="73119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4000" spc="-1" strike="noStrike" u="sng">
                <a:solidFill>
                  <a:srgbClr val="000000"/>
                </a:solidFill>
                <a:uFillTx/>
                <a:latin typeface="Calibri"/>
              </a:rPr>
              <a:t>平日　　　　　　　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13</a:t>
            </a:r>
            <a:r>
              <a:rPr b="0" lang="ja-JP" sz="5500" spc="-1" strike="noStrike" u="sng">
                <a:solidFill>
                  <a:srgbClr val="000000"/>
                </a:solidFill>
                <a:uFillTx/>
                <a:latin typeface="Calibri"/>
              </a:rPr>
              <a:t>時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〜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18</a:t>
            </a:r>
            <a:r>
              <a:rPr b="0" lang="ja-JP" sz="5500" spc="-1" strike="noStrike" u="sng">
                <a:solidFill>
                  <a:srgbClr val="000000"/>
                </a:solidFill>
                <a:uFillTx/>
                <a:latin typeface="Calibri"/>
              </a:rPr>
              <a:t>時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25"/>
          <p:cNvSpPr/>
          <p:nvPr/>
        </p:nvSpPr>
        <p:spPr>
          <a:xfrm>
            <a:off x="4135320" y="6789600"/>
            <a:ext cx="90378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面会の方はスタッフステーションにお申し出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発熱や咳などの風邪症状がある方や、下痢をしているなど体調不良　　　　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方は、感染防止のため面会をお断りさせていただきま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病院内へ小さなお子様の面会や多人数での面会はご遠慮くださ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●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病状その他の事情によりお断りする場合もあります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24"/>
          <p:cNvSpPr/>
          <p:nvPr/>
        </p:nvSpPr>
        <p:spPr>
          <a:xfrm>
            <a:off x="3646440" y="4654440"/>
            <a:ext cx="73119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ja-JP" sz="4000" spc="-1" strike="noStrike" u="sng">
                <a:solidFill>
                  <a:srgbClr val="000000"/>
                </a:solidFill>
                <a:uFillTx/>
                <a:latin typeface="Calibri"/>
              </a:rPr>
              <a:t>土・日・祝祭日　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13</a:t>
            </a:r>
            <a:r>
              <a:rPr b="0" lang="ja-JP" sz="5500" spc="-1" strike="noStrike" u="sng">
                <a:solidFill>
                  <a:srgbClr val="000000"/>
                </a:solidFill>
                <a:uFillTx/>
                <a:latin typeface="Calibri"/>
              </a:rPr>
              <a:t>時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〜</a:t>
            </a:r>
            <a:r>
              <a:rPr b="0" lang="en-US" sz="5500" spc="-1" strike="noStrike" u="sng">
                <a:solidFill>
                  <a:srgbClr val="000000"/>
                </a:solidFill>
                <a:uFillTx/>
                <a:latin typeface="Calibri"/>
              </a:rPr>
              <a:t>19</a:t>
            </a:r>
            <a:r>
              <a:rPr b="0" lang="ja-JP" sz="5500" spc="-1" strike="noStrike" u="sng">
                <a:solidFill>
                  <a:srgbClr val="000000"/>
                </a:solidFill>
                <a:uFillTx/>
                <a:latin typeface="Calibri"/>
              </a:rPr>
              <a:t>時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図 2" descr="17イラスト.psd"/>
          <p:cNvPicPr/>
          <p:nvPr/>
        </p:nvPicPr>
        <p:blipFill>
          <a:blip r:embed="rId3"/>
          <a:stretch/>
        </p:blipFill>
        <p:spPr>
          <a:xfrm>
            <a:off x="936720" y="5506920"/>
            <a:ext cx="24019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7:45:09Z</dcterms:created>
  <dc:creator>笛田 桃子</dc:creator>
  <dc:description/>
  <dc:language>en-US</dc:language>
  <cp:lastModifiedBy>笛田 桃子</cp:lastModifiedBy>
  <dcterms:modified xsi:type="dcterms:W3CDTF">2012-09-26T06:32:19Z</dcterms:modified>
  <cp:revision>7</cp:revision>
  <dc:subject/>
  <dc:title>PowerPoint プレゼンテーション</dc:title>
</cp:coreProperties>
</file>