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88638" cy="151241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2DDB-F55B-49AB-BDC3-91B9BF0C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874224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8453-F8A0-4B16-8003-9E621514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29E-11FE-468B-BD89-8757097B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84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908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84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908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8D8-0C32-4B85-8D20-B2C549C4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263D-F488-4E37-8D4F-BE3094D4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AFE-05E8-4555-8ED6-C5FF2B64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A7D-E91A-4EF6-B86F-389927C8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874-3B25-47E5-9D60-9AA079CD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606600"/>
            <a:ext cx="9618840" cy="116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AEFD-F667-43FD-9673-D9532220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BC9-8777-4215-9CF5-7C94B319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DE81-0359-406B-BDC2-4C0F2A6F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1770-43E1-4B9E-B086-1FA0AAB6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14017680"/>
            <a:ext cx="249408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1120" y="14017680"/>
            <a:ext cx="338616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59720" y="14017680"/>
            <a:ext cx="249408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855D3C03-C448-4476-ADEB-AC618E5EA5BE}" type="slidenum">
              <a:rPr b="0" lang="ja-JP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11メタボ説明.psd"/>
          <p:cNvPicPr/>
          <p:nvPr/>
        </p:nvPicPr>
        <p:blipFill>
          <a:blip r:embed="rId1"/>
          <a:stretch/>
        </p:blipFill>
        <p:spPr>
          <a:xfrm>
            <a:off x="355680" y="952560"/>
            <a:ext cx="9966240" cy="13209480"/>
          </a:xfrm>
          <a:prstGeom prst="rect">
            <a:avLst/>
          </a:prstGeom>
          <a:ln w="0">
            <a:noFill/>
          </a:ln>
        </p:spPr>
      </p:pic>
      <p:pic>
        <p:nvPicPr>
          <p:cNvPr id="42" name="図 2" descr="11イラスト.psd"/>
          <p:cNvPicPr/>
          <p:nvPr/>
        </p:nvPicPr>
        <p:blipFill>
          <a:blip r:embed="rId2"/>
          <a:stretch/>
        </p:blipFill>
        <p:spPr>
          <a:xfrm>
            <a:off x="7194600" y="5823000"/>
            <a:ext cx="212256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8:36:44Z</dcterms:created>
  <dc:creator>笛田 桃子</dc:creator>
  <dc:description/>
  <dc:language>en-US</dc:language>
  <cp:lastModifiedBy>笛田 桃子</cp:lastModifiedBy>
  <dcterms:modified xsi:type="dcterms:W3CDTF">2012-09-26T07:04:41Z</dcterms:modified>
  <cp:revision>6</cp:revision>
  <dc:subject/>
  <dc:title>PowerPoint プレゼンテーション</dc:title>
</cp:coreProperties>
</file>