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88638" cy="151241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587-6463-4041-9AE5-6EDE3BFE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961884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8742240"/>
            <a:ext cx="961884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C37-E2F6-4577-A642-2ED61D21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FD5-1E12-41FB-B5E5-4C305962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840" y="352908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9080" y="352908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874224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840" y="874224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9080" y="874224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A80-84EA-4ED2-9902-18B13230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3529080"/>
            <a:ext cx="9618840" cy="99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1EE5-A945-4347-AE61-AB346C09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961884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0937-E1E6-4071-9F68-C3A0EA66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AF58-E6C9-4211-9FE0-B2787BBB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E342-8D48-439D-8F76-98E877A3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606600"/>
            <a:ext cx="9618840" cy="116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4AB-AD35-4179-9C70-FC2256E2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8CB-2418-4437-9B62-302EBCC4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EEDD-731D-4A65-91AF-DD9AB39B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8742240"/>
            <a:ext cx="961884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5789-2DCD-489F-96E5-35AA6DEC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3529080"/>
            <a:ext cx="961884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14017680"/>
            <a:ext cx="249408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1120" y="14017680"/>
            <a:ext cx="338616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59720" y="14017680"/>
            <a:ext cx="249408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F0D84A2B-7830-4CB0-915E-57C28A9A4AA5}" type="slidenum">
              <a:rPr b="0" lang="ja-JP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18タイトル.psd"/>
          <p:cNvPicPr/>
          <p:nvPr/>
        </p:nvPicPr>
        <p:blipFill>
          <a:blip r:embed="rId1"/>
          <a:stretch/>
        </p:blipFill>
        <p:spPr>
          <a:xfrm>
            <a:off x="558720" y="609480"/>
            <a:ext cx="9552240" cy="13892400"/>
          </a:xfrm>
          <a:prstGeom prst="rect">
            <a:avLst/>
          </a:prstGeom>
          <a:ln w="0">
            <a:noFill/>
          </a:ln>
        </p:spPr>
      </p:pic>
      <p:sp>
        <p:nvSpPr>
          <p:cNvPr id="42" name="テキスト ボックス 3"/>
          <p:cNvSpPr/>
          <p:nvPr/>
        </p:nvSpPr>
        <p:spPr>
          <a:xfrm>
            <a:off x="1108080" y="4525920"/>
            <a:ext cx="473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Calibri"/>
              </a:rPr>
              <a:t>早期発見から早期治療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1131840" y="5149800"/>
            <a:ext cx="84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生活習慣病はかなり進行しないと自覚症状がありません。がんも何年もかかって進行するケースが多くあります。そこで重要なのが、人間ドックです。健康診断で見つからない異常が、人間ドックで見つかることもあります。これまで受けた事のない人も、自分の身体を知る為に、一度人間ドックを受診してくださ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4110120" y="1355400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〇〇〇〇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病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図 2" descr="18イラスト.psd"/>
          <p:cNvPicPr/>
          <p:nvPr/>
        </p:nvPicPr>
        <p:blipFill>
          <a:blip r:embed="rId2"/>
          <a:stretch/>
        </p:blipFill>
        <p:spPr>
          <a:xfrm>
            <a:off x="1028880" y="6997680"/>
            <a:ext cx="8577000" cy="63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8:36:44Z</dcterms:created>
  <dc:creator>笛田 桃子</dc:creator>
  <dc:description/>
  <dc:language>en-US</dc:language>
  <cp:lastModifiedBy>笛田 桃子</cp:lastModifiedBy>
  <dcterms:modified xsi:type="dcterms:W3CDTF">2012-09-26T07:06:03Z</dcterms:modified>
  <cp:revision>14</cp:revision>
  <dc:subject/>
  <dc:title>PowerPoint プレゼンテーション</dc:title>
</cp:coreProperties>
</file>