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24113" cy="106886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ADA7-C5C8-4945-9D38-1C9D1050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1361268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6179040"/>
            <a:ext cx="1361268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A1F5-E152-4412-8ACC-990747DE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3064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617904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30640" y="617904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0C96-805C-4D7D-80E8-F706C14E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880" y="249408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60480" y="249408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617904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880" y="617904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60480" y="617904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16A-10B9-4F2C-8B64-F4E352F1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2494080"/>
            <a:ext cx="1361268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F28E-DBE9-4F67-B545-C3C8B5B5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1361268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F52-18DF-4162-B391-A31A6D3F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664272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30640" y="2494080"/>
            <a:ext cx="664272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3831-D4C7-47E0-9814-184A6F69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C62C-C35D-4CA6-B552-E9228F99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26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6E66-4071-492C-845C-FE0FB7F3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30640" y="2494080"/>
            <a:ext cx="664272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617904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D303-D85B-45BD-A7B0-CCA969B1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664272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3064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30640" y="617904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7B3E-B9D1-48DE-B3FB-D9AB1ACA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3064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6179040"/>
            <a:ext cx="1361268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3CE1-5194-41F8-82DB-7DFE5A59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494080"/>
            <a:ext cx="1361268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7976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990576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440" y="9905760"/>
            <a:ext cx="47894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9600" y="9905760"/>
            <a:ext cx="352872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235F4D2D-69CE-4443-902B-480BC26344CD}" type="slidenum">
              <a:rPr b="0" lang="ja-JP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" descr="19入院手続き.psd"/>
          <p:cNvPicPr/>
          <p:nvPr/>
        </p:nvPicPr>
        <p:blipFill>
          <a:blip r:embed="rId1"/>
          <a:stretch/>
        </p:blipFill>
        <p:spPr>
          <a:xfrm>
            <a:off x="419040" y="266760"/>
            <a:ext cx="14265360" cy="10144080"/>
          </a:xfrm>
          <a:prstGeom prst="rect">
            <a:avLst/>
          </a:prstGeom>
          <a:ln w="0">
            <a:noFill/>
          </a:ln>
        </p:spPr>
      </p:pic>
      <p:sp>
        <p:nvSpPr>
          <p:cNvPr id="42" name="テキスト ボックス 2"/>
          <p:cNvSpPr/>
          <p:nvPr/>
        </p:nvSpPr>
        <p:spPr>
          <a:xfrm>
            <a:off x="3224160" y="2100240"/>
            <a:ext cx="556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入院の手続きについ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3"/>
          <p:cNvSpPr/>
          <p:nvPr/>
        </p:nvSpPr>
        <p:spPr>
          <a:xfrm>
            <a:off x="3224160" y="319104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入院当日は、指定の時刻までに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階受付にお越しくださ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4"/>
          <p:cNvSpPr/>
          <p:nvPr/>
        </p:nvSpPr>
        <p:spPr>
          <a:xfrm>
            <a:off x="3240000" y="3924360"/>
            <a:ext cx="862956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入院の時に必要な書類は、次のとおりで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『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入院証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『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緊急時連絡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『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健康保険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『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限度額適用認定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』『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老人医療受給者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『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医療の給付を証明するも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』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●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当院の診察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5"/>
          <p:cNvSpPr/>
          <p:nvPr/>
        </p:nvSpPr>
        <p:spPr>
          <a:xfrm>
            <a:off x="11166480" y="9247320"/>
            <a:ext cx="32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〇〇〇〇</a:t>
            </a:r>
            <a:r>
              <a:rPr b="0" lang="ja-JP" sz="3600" spc="-1" strike="noStrike">
                <a:solidFill>
                  <a:srgbClr val="ffffff"/>
                </a:solidFill>
                <a:latin typeface="Calibri"/>
              </a:rPr>
              <a:t>病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07:10:40Z</dcterms:created>
  <dc:creator>笛田 桃子</dc:creator>
  <dc:description/>
  <dc:language>en-US</dc:language>
  <cp:lastModifiedBy>笛田 桃子</cp:lastModifiedBy>
  <dcterms:modified xsi:type="dcterms:W3CDTF">2012-09-11T06:34:51Z</dcterms:modified>
  <cp:revision>5</cp:revision>
  <dc:subject/>
  <dc:title>PowerPoint プレゼンテーション</dc:title>
</cp:coreProperties>
</file>