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B66-D6B2-4628-A2CF-E3FCC14C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757-3C48-4DD5-8E5C-A99E8F3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017-BB1A-4EBF-B198-3155A682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5A-1360-4119-86A9-82EB66AA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417-75A1-46E9-9EBD-31FFE8D0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37B-EE14-4988-9B9B-D12E41C1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D72-D1FF-4E51-892A-8A59916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498-89BA-4172-99D2-EA877097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9A1-F47A-4B21-8E1F-0F7AC90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B84-EBC1-485C-B51A-B7C8B2F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591-BEDF-4445-9756-5747364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7A5-B73A-44BA-A1D3-097C1E1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E11-BF43-474D-A753-FA5E4EE7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8600" y="1003320"/>
            <a:ext cx="2838240" cy="885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33680" y="982800"/>
            <a:ext cx="2838600" cy="885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03680" y="6789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ちらで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携帯の電源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切り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6600" y="678960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番号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呼びい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ますの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待ち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08:56Z</dcterms:created>
  <dc:creator>fukase3</dc:creator>
  <dc:description/>
  <dc:language>en-US</dc:language>
  <cp:lastModifiedBy>TTBS</cp:lastModifiedBy>
  <dcterms:modified xsi:type="dcterms:W3CDTF">2009-06-01T07:19:25Z</dcterms:modified>
  <cp:revision>5</cp:revision>
  <dc:subject/>
  <dc:title>スライド 1</dc:title>
</cp:coreProperties>
</file>