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88638" cy="7562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BA2-8821-4998-B84E-A693CF52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961884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4372560"/>
            <a:ext cx="961884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C3C-9308-42EB-9EB7-719B7922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37256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37256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DD3-5B3E-4363-A5D6-1FFC9115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840" y="176544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9080" y="176544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437256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840" y="437256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9080" y="437256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D81-FE1F-4E1E-962B-96982362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1765440"/>
            <a:ext cx="961884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0BF-44EF-4F1D-8F76-CD36064A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961884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B80-877B-488A-B036-7D305331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469368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765440"/>
            <a:ext cx="469368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518-F075-43BC-B6F5-54B17CAC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E58-DF92-4EB0-A371-1C78F6C6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303120"/>
            <a:ext cx="96188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E3D-F6AC-4A55-8366-01EAA8DD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765440"/>
            <a:ext cx="469368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437256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0F0-6FB1-4D70-830B-C8EC7885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469368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37256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FC1-C4A1-49C0-B604-A82D4E98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4372560"/>
            <a:ext cx="961884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28F-A24B-4095-82AA-7C396C93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1765440"/>
            <a:ext cx="961884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08200" indent="-309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43080" indent="-2476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41320" indent="-2473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10280"/>
            <a:ext cx="2494080" cy="401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lstStyle>
            <a:lvl1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  <a:defRPr b="0" lang="ja-JP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ja-JP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1120" y="7010280"/>
            <a:ext cx="3386160" cy="401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59720" y="7010280"/>
            <a:ext cx="2494080" cy="401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lstStyle>
            <a:lvl1pPr indent="0" algn="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  <a:defRPr b="0" lang="ja-JP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fld id="{12E15F63-90AC-4A14-A669-2A39D2426C6E}" type="slidenum">
              <a:rPr b="0" lang="ja-JP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3診察中.psd"/>
          <p:cNvPicPr/>
          <p:nvPr/>
        </p:nvPicPr>
        <p:blipFill>
          <a:blip r:embed="rId1"/>
          <a:stretch/>
        </p:blipFill>
        <p:spPr>
          <a:xfrm>
            <a:off x="530280" y="2063880"/>
            <a:ext cx="96282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7:03:25Z</dcterms:created>
  <dc:creator>笛田 桃子</dc:creator>
  <dc:description/>
  <dc:language>en-US</dc:language>
  <cp:lastModifiedBy>笛田 桃子</cp:lastModifiedBy>
  <dcterms:modified xsi:type="dcterms:W3CDTF">2012-09-05T01:05:47Z</dcterms:modified>
  <cp:revision>4</cp:revision>
  <dc:subject/>
  <dc:title>PowerPoint プレゼンテーション</dc:title>
</cp:coreProperties>
</file>