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204-5B62-49C2-A5D7-550969B0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781-BCC5-4D08-B203-C3241633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963-629C-4D96-A49D-67797AC3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EC4-CAB7-41BB-8589-59BFDD49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F30-5606-4842-9D1A-61F459D3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394-3A7F-4C0B-BDE6-593E9F24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0A5-3242-467C-ACDA-7962E192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D1C-186D-41F9-A187-3A53510A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521-28E9-49F9-9808-F426C622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EC8-C5CC-4470-9BEC-1FE32E8D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ED7-EB17-43D8-81D0-A9FBB38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3A9-79A2-4FE2-81C2-D2C2CC6D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7280" indent="-3808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0576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fld id="{027D5125-B730-4453-87EA-6CB1E66CFA1B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26職員出入口修正.psd"/>
          <p:cNvPicPr/>
          <p:nvPr/>
        </p:nvPicPr>
        <p:blipFill>
          <a:blip r:embed="rId1"/>
          <a:stretch/>
        </p:blipFill>
        <p:spPr>
          <a:xfrm>
            <a:off x="2425680" y="1409760"/>
            <a:ext cx="38331720" cy="78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7:07Z</dcterms:created>
  <dc:creator>笛田 桃子</dc:creator>
  <dc:description/>
  <dc:language>en-US</dc:language>
  <cp:lastModifiedBy>笛田 桃子</cp:lastModifiedBy>
  <dcterms:modified xsi:type="dcterms:W3CDTF">2012-09-14T01:01:37Z</dcterms:modified>
  <cp:revision>8</cp:revision>
  <dc:subject/>
  <dc:title>PowerPoint プレゼンテーション</dc:title>
</cp:coreProperties>
</file>