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61A-C269-4A1B-82CC-C810B2AC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E89-FF19-4E88-8E72-86D16B77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037-410C-4025-9D6F-252637EA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302-D39F-4C5C-99C9-06CE4FBA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7EA-B5D7-464C-8A8E-CF82293F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99F-B08F-4A4B-A669-B7E82FCE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0EC-9ABA-4737-9200-E90D8432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389-9202-4419-ADB4-5E680B69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217-92B8-4F82-B259-14D25168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53E-5179-4766-9940-9305D52D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5D5-DBAE-4D87-9C77-22ED1267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AE4-366B-4462-9979-CFFF0206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7280" indent="-3808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0576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fld id="{479432CE-B114-4914-84DD-FD64498532EC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24総合案内修正.psd"/>
          <p:cNvPicPr/>
          <p:nvPr/>
        </p:nvPicPr>
        <p:blipFill>
          <a:blip r:embed="rId1"/>
          <a:stretch/>
        </p:blipFill>
        <p:spPr>
          <a:xfrm>
            <a:off x="2349360" y="1549440"/>
            <a:ext cx="38501640" cy="75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0:47:07Z</dcterms:created>
  <dc:creator>笛田 桃子</dc:creator>
  <dc:description/>
  <dc:language>en-US</dc:language>
  <cp:lastModifiedBy>笛田 桃子</cp:lastModifiedBy>
  <dcterms:modified xsi:type="dcterms:W3CDTF">2012-09-14T07:06:09Z</dcterms:modified>
  <cp:revision>7</cp:revision>
  <dc:subject/>
  <dc:title>PowerPoint プレゼンテーション</dc:title>
</cp:coreProperties>
</file>