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C2D-3298-471F-93FA-6B9841C7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1B1-DBD3-46D2-8F75-C3C4216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044-73EC-4D05-B418-3FE3F7EE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4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4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B77-D9A0-49A7-B6D9-9307493F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650-97BF-4124-A970-6BBD168A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C87-A6E0-4230-93CF-255B6E57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979-012F-4246-B7D5-4FA1B4B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DA6-E91D-4E3A-82AC-554978DE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26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A79-D179-411C-A0B4-57DA66A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A18-30B9-4670-A629-6FB3B1A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ADA-CA7E-456C-8E2E-536D0D1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331-BA4F-4504-B130-49B33D6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440" y="9905760"/>
            <a:ext cx="47894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600" y="9905760"/>
            <a:ext cx="35287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39AAE349-0459-4E2C-82E2-92C56A5B366B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6" descr="20退院の手続き.psd"/>
          <p:cNvPicPr/>
          <p:nvPr/>
        </p:nvPicPr>
        <p:blipFill>
          <a:blip r:embed="rId1"/>
          <a:stretch/>
        </p:blipFill>
        <p:spPr>
          <a:xfrm>
            <a:off x="457200" y="380880"/>
            <a:ext cx="14192280" cy="992520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2"/>
          <p:cNvSpPr/>
          <p:nvPr/>
        </p:nvSpPr>
        <p:spPr>
          <a:xfrm>
            <a:off x="4998960" y="2355840"/>
            <a:ext cx="55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>
                <a:solidFill>
                  <a:srgbClr val="ff4d74"/>
                </a:solidFill>
                <a:latin typeface="Calibri"/>
              </a:rPr>
              <a:t>退院の手続きについ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3794040" y="3386160"/>
            <a:ext cx="75218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主治医より</a:t>
            </a:r>
            <a:r>
              <a:rPr b="0" lang="ja-JP" sz="2400" spc="-1" strike="noStrike">
                <a:solidFill>
                  <a:srgbClr val="ff4d74"/>
                </a:solidFill>
                <a:latin typeface="Calibri"/>
              </a:rPr>
              <a:t>「退院許可」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がでましたら、ナースステーションまでお申　　　　　出ください。看護師が、退院手続きや退院後についての詳細をご案内いたし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退院当日までの請求書が発行されましたら、看護師からご連絡いたし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400" spc="-1" strike="noStrike">
                <a:solidFill>
                  <a:srgbClr val="ff4d74"/>
                </a:solidFill>
                <a:latin typeface="Calibri"/>
              </a:rPr>
              <a:t>保険証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や</a:t>
            </a:r>
            <a:r>
              <a:rPr b="0" lang="ja-JP" sz="2400" spc="-1" strike="noStrike">
                <a:solidFill>
                  <a:srgbClr val="ff4d74"/>
                </a:solidFill>
                <a:latin typeface="Calibri"/>
              </a:rPr>
              <a:t>後期高齢者医療被保険者証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などを、受付までご持参ください。また、請求書もこちらでお受取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会計窓口まで、</a:t>
            </a:r>
            <a:r>
              <a:rPr b="0" lang="ja-JP" sz="2400" spc="-1" strike="noStrike">
                <a:solidFill>
                  <a:srgbClr val="ff4d74"/>
                </a:solidFill>
                <a:latin typeface="Calibri"/>
              </a:rPr>
              <a:t>請求書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ja-JP" sz="2400" spc="-1" strike="noStrike">
                <a:solidFill>
                  <a:srgbClr val="ff4d74"/>
                </a:solidFill>
                <a:latin typeface="Calibri"/>
              </a:rPr>
              <a:t>入院診療料金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ご持参の上、ご清算をお願いいたし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ご清算が済みましたら、主治医、または病棟看護師の指示に従ってお帰り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10:40Z</dcterms:created>
  <dc:creator>笛田 桃子</dc:creator>
  <dc:description/>
  <dc:language>en-US</dc:language>
  <cp:lastModifiedBy>笛田 桃子</cp:lastModifiedBy>
  <dcterms:modified xsi:type="dcterms:W3CDTF">2012-09-11T06:35:16Z</dcterms:modified>
  <cp:revision>8</cp:revision>
  <dc:subject/>
  <dc:title>PowerPoint プレゼンテーション</dc:title>
</cp:coreProperties>
</file>