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6C0-0E0E-4B1E-86BF-EDAB6507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285-00FF-4F08-8AC6-783D576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2CA-CA32-43FD-90CA-ACB67DD3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614-5114-4262-A2C1-1FC6CA90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7F7-30B8-48AB-A6C4-9F3E9A1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1B6-B1AF-4487-9E7E-4EB84534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EF8-2FB5-418F-89F6-D428CBC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E47-293B-435A-9502-7F9BA39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0DB-2C88-477A-8A3F-C8826D0C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732-4829-4A56-9B36-211E120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E79-CCFF-4C24-B7DD-A6CAF5F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8E7-037A-452C-A8FC-4E93E69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BD9E5A32-C297-4AF1-9DC3-BF9331647424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5背景表.psd"/>
          <p:cNvPicPr/>
          <p:nvPr/>
        </p:nvPicPr>
        <p:blipFill>
          <a:blip r:embed="rId1"/>
          <a:stretch/>
        </p:blipFill>
        <p:spPr>
          <a:xfrm>
            <a:off x="2495520" y="1930320"/>
            <a:ext cx="114426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17"/>
          <p:cNvSpPr/>
          <p:nvPr/>
        </p:nvSpPr>
        <p:spPr>
          <a:xfrm>
            <a:off x="3621240" y="2538360"/>
            <a:ext cx="90532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900" spc="-1" strike="noStrike">
                <a:solidFill>
                  <a:srgbClr val="ffffff"/>
                </a:solidFill>
                <a:latin typeface="ＭＳ Ｐゴシック"/>
              </a:rPr>
              <a:t>担当医変更のお知らせ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18"/>
          <p:cNvSpPr/>
          <p:nvPr/>
        </p:nvSpPr>
        <p:spPr>
          <a:xfrm>
            <a:off x="3828960" y="4046400"/>
            <a:ext cx="895032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月より木曜午前の</a:t>
            </a:r>
            <a:r>
              <a:rPr b="0" lang="ja-JP" sz="4600" spc="-1" strike="noStrike">
                <a:solidFill>
                  <a:srgbClr val="ffff00"/>
                </a:solidFill>
                <a:latin typeface="Calibri"/>
              </a:rPr>
              <a:t>桜井先生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は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600" spc="-1" strike="noStrike">
                <a:solidFill>
                  <a:srgbClr val="ffff00"/>
                </a:solidFill>
                <a:latin typeface="Calibri"/>
              </a:rPr>
              <a:t>木村先生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へ変更になり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１２月より</a:t>
            </a:r>
            <a:r>
              <a:rPr b="0" lang="ja-JP" sz="4600" spc="-1" strike="noStrike">
                <a:solidFill>
                  <a:srgbClr val="ffff00"/>
                </a:solidFill>
                <a:latin typeface="Calibri"/>
              </a:rPr>
              <a:t>佐藤先生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の診察は</a:t>
            </a:r>
            <a:r>
              <a:rPr b="0" lang="ja-JP" sz="4600" spc="-1" strike="noStrike">
                <a:solidFill>
                  <a:srgbClr val="ffff00"/>
                </a:solidFill>
                <a:latin typeface="Calibri"/>
              </a:rPr>
              <a:t>鈴木先生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へと変更になり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9"/>
          <p:cNvSpPr/>
          <p:nvPr/>
        </p:nvSpPr>
        <p:spPr>
          <a:xfrm>
            <a:off x="9893160" y="8807400"/>
            <a:ext cx="4226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〇〇〇〇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病院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線コネクタ 3"/>
          <p:cNvSpPr/>
          <p:nvPr/>
        </p:nvSpPr>
        <p:spPr>
          <a:xfrm>
            <a:off x="3333600" y="3817800"/>
            <a:ext cx="985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図 4" descr="5イラスト.psd"/>
          <p:cNvPicPr/>
          <p:nvPr/>
        </p:nvPicPr>
        <p:blipFill>
          <a:blip r:embed="rId2"/>
          <a:stretch/>
        </p:blipFill>
        <p:spPr>
          <a:xfrm>
            <a:off x="941400" y="5689440"/>
            <a:ext cx="2663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10:40Z</dcterms:created>
  <dc:creator>笛田 桃子</dc:creator>
  <dc:description/>
  <dc:language>en-US</dc:language>
  <cp:lastModifiedBy>笛田 桃子</cp:lastModifiedBy>
  <dcterms:modified xsi:type="dcterms:W3CDTF">2012-09-26T08:23:07Z</dcterms:modified>
  <cp:revision>6</cp:revision>
  <dc:subject/>
  <dc:title>PowerPoint プレゼンテーション</dc:title>
</cp:coreProperties>
</file>