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2D5D-78E5-4C4F-B3EE-18E8F139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1361268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79040"/>
            <a:ext cx="1361268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C92-A748-4BC4-BFEF-80BF2326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3064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A20-8A49-4A1B-82A8-68EFE802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880" y="249408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60480" y="249408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7904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880" y="617904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60480" y="617904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DE6-5A91-4D66-B474-3403A34C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4080"/>
            <a:ext cx="136126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FA1-D759-4C31-BC72-7FF76121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1361268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1D05-8A14-4CB7-9FAC-6B996D0C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CBC4-DFE6-4AB4-B30E-013BDC45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AF38-C31D-4B55-888B-94F631EB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26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087-94E1-456D-84E5-00FC9659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365-CE20-4D34-9EC2-068BC8CF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3064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5D2-44BB-41DC-9C7B-BA9F75B2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79040"/>
            <a:ext cx="1361268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A2E8-695B-4E23-BAB7-882DE023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4080"/>
            <a:ext cx="1361268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90576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440" y="9905760"/>
            <a:ext cx="47894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9600" y="9905760"/>
            <a:ext cx="352872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63E71AC7-9B4F-4A3F-AB08-301287FCEB91}" type="slidenum">
              <a:rPr b="0" lang="ja-JP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12760" y="2270160"/>
          <a:ext cx="13028760" cy="6672240"/>
        </p:xfrm>
        <a:graphic>
          <a:graphicData uri="http://schemas.openxmlformats.org/drawingml/2006/table">
            <a:tbl>
              <a:tblPr/>
              <a:tblGrid>
                <a:gridCol w="938160"/>
                <a:gridCol w="1971720"/>
                <a:gridCol w="2084400"/>
                <a:gridCol w="1933560"/>
                <a:gridCol w="1989360"/>
                <a:gridCol w="2065320"/>
                <a:gridCol w="2046240"/>
              </a:tblGrid>
              <a:tr h="760320">
                <a:tc>
                  <a:txBody>
                    <a:bodyPr lIns="120240" rIns="120240" tIns="56520" bIns="56520" anchor="t">
                      <a:noAutofit/>
                    </a:bodyPr>
                    <a:p>
                      <a:pPr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1872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1872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1" lang="ja-JP" sz="3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月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1872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1" lang="ja-JP" sz="3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火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1872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1" lang="ja-JP" sz="3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水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1872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1" lang="ja-JP" sz="3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木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1872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1" lang="ja-JP" sz="3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金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1872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1" lang="ja-JP" sz="3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土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18720">
                      <a:solidFill>
                        <a:srgbClr val="0d0d0d"/>
                      </a:solidFill>
                    </a:lnR>
                    <a:lnT w="1872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986040">
                <a:tc rowSpan="3">
                  <a:txBody>
                    <a:bodyPr lIns="120240" rIns="120240" tIns="56520" bIns="56520" anchor="t">
                      <a:noAutofit/>
                    </a:bodyPr>
                    <a:p>
                      <a:pPr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1872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13680">
                      <a:solidFill>
                        <a:srgbClr val="0d0d0d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佐藤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佐藤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野田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安倍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小泉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鳩山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1872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野田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細川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伊藤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野田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細川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鈴木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1872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田中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1368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1368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1368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伊藤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1368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1368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1872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1368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6040">
                <a:tc rowSpan="3">
                  <a:txBody>
                    <a:bodyPr lIns="120240" rIns="120240" tIns="56520" bIns="56520" anchor="t">
                      <a:noAutofit/>
                    </a:bodyPr>
                    <a:p>
                      <a:pPr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1872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13680">
                      <a:solidFill>
                        <a:srgbClr val="0d0d0d"/>
                      </a:solidFill>
                    </a:lnT>
                    <a:lnB w="18720">
                      <a:solidFill>
                        <a:srgbClr val="0d0d0d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鳩山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1368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野田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1368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鈴木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1368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小泉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1368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安倍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1368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18720">
                      <a:solidFill>
                        <a:srgbClr val="0d0d0d"/>
                      </a:solidFill>
                    </a:lnR>
                    <a:lnT w="1368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小泉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安倍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細川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鳩山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佐藤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1872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野中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1872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1872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1872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1872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1872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0240" rIns="120240" tIns="56520" bIns="5652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0240" marR="120240">
                    <a:lnL w="5760">
                      <a:solidFill>
                        <a:srgbClr val="0d0d0d"/>
                      </a:solidFill>
                    </a:lnL>
                    <a:lnR w="1872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18720">
                      <a:solidFill>
                        <a:srgbClr val="0d0d0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" name="テキスト ボックス 7"/>
          <p:cNvSpPr/>
          <p:nvPr/>
        </p:nvSpPr>
        <p:spPr>
          <a:xfrm>
            <a:off x="824400" y="3911760"/>
            <a:ext cx="109476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 vert="eaVer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900" spc="-1" strike="noStrike">
                <a:solidFill>
                  <a:srgbClr val="ffffff"/>
                </a:solidFill>
                <a:latin typeface="Calibri"/>
              </a:rPr>
              <a:t>午　前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8"/>
          <p:cNvSpPr/>
          <p:nvPr/>
        </p:nvSpPr>
        <p:spPr>
          <a:xfrm>
            <a:off x="824400" y="6891480"/>
            <a:ext cx="109476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 vert="eaVer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900" spc="-1" strike="noStrike">
                <a:solidFill>
                  <a:srgbClr val="ffffff"/>
                </a:solidFill>
                <a:latin typeface="Calibri"/>
              </a:rPr>
              <a:t>午　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9"/>
          <p:cNvSpPr/>
          <p:nvPr/>
        </p:nvSpPr>
        <p:spPr>
          <a:xfrm>
            <a:off x="2158920" y="1152360"/>
            <a:ext cx="238752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5500" spc="-1" strike="noStrike">
                <a:solidFill>
                  <a:srgbClr val="000000"/>
                </a:solidFill>
                <a:latin typeface="ＭＳ Ｐゴシック"/>
              </a:rPr>
              <a:t>内科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十字形 11"/>
          <p:cNvSpPr/>
          <p:nvPr/>
        </p:nvSpPr>
        <p:spPr>
          <a:xfrm>
            <a:off x="1112760" y="1287360"/>
            <a:ext cx="806400" cy="758880"/>
          </a:xfrm>
          <a:prstGeom prst="plus">
            <a:avLst>
              <a:gd name="adj" fmla="val 25000"/>
            </a:avLst>
          </a:prstGeom>
          <a:solidFill>
            <a:srgbClr val="93cddd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no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図 12" descr="7聴診器.psd"/>
          <p:cNvPicPr/>
          <p:nvPr/>
        </p:nvPicPr>
        <p:blipFill>
          <a:blip r:embed="rId1"/>
          <a:stretch/>
        </p:blipFill>
        <p:spPr>
          <a:xfrm>
            <a:off x="6237360" y="768240"/>
            <a:ext cx="1066680" cy="1309680"/>
          </a:xfrm>
          <a:prstGeom prst="rect">
            <a:avLst/>
          </a:prstGeom>
          <a:ln w="0">
            <a:noFill/>
          </a:ln>
        </p:spPr>
      </p:pic>
      <p:sp>
        <p:nvSpPr>
          <p:cNvPr id="47" name="テキスト ボックス 14"/>
          <p:cNvSpPr/>
          <p:nvPr/>
        </p:nvSpPr>
        <p:spPr>
          <a:xfrm>
            <a:off x="1282320" y="9040680"/>
            <a:ext cx="70837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800" spc="-1" strike="noStrike">
                <a:solidFill>
                  <a:srgbClr val="0d0d0d"/>
                </a:solidFill>
                <a:latin typeface="Calibri"/>
              </a:rPr>
              <a:t>受付時間　午前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8:30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〜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12:00</a:t>
            </a:r>
            <a:r>
              <a:rPr b="0" lang="ja-JP" sz="2800" spc="-1" strike="noStrike">
                <a:solidFill>
                  <a:srgbClr val="0d0d0d"/>
                </a:solidFill>
                <a:latin typeface="Calibri"/>
              </a:rPr>
              <a:t>　午後　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13:30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〜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18: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10"/>
          <p:cNvSpPr/>
          <p:nvPr/>
        </p:nvSpPr>
        <p:spPr>
          <a:xfrm>
            <a:off x="4800600" y="1509840"/>
            <a:ext cx="5666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800" spc="-1" strike="noStrike">
                <a:solidFill>
                  <a:srgbClr val="0d0d0d"/>
                </a:solidFill>
                <a:latin typeface="Calibri"/>
              </a:rPr>
              <a:t>担当医一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8:08:59Z</dcterms:created>
  <dc:creator>笛田 桃子</dc:creator>
  <dc:description/>
  <dc:language>en-US</dc:language>
  <cp:lastModifiedBy>笛田 桃子</cp:lastModifiedBy>
  <dcterms:modified xsi:type="dcterms:W3CDTF">2012-09-11T06:29:14Z</dcterms:modified>
  <cp:revision>7</cp:revision>
  <dc:subject/>
  <dc:title>PowerPoint プレゼンテーション</dc:title>
</cp:coreProperties>
</file>