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C94-A401-4A91-806A-F1C7D2D8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98E-3481-4450-8C50-F6E142AB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433-601A-4BA2-A7EF-EAD4DAC9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616-7AB2-4621-98B1-A351CC88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C99-876B-432B-8B5E-D0D5E4D9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436-F264-4F20-B3C9-E43BAD47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50F-DF2A-4D22-BF4B-D8CDF27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796-E293-4C66-93CE-561E499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959-8D10-4F1A-BB10-AA33571D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204-9BBB-4EF1-AE3E-A2E7B35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4E5-96E8-4FE5-A5E5-4004943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58F-8ABF-4317-89EA-89E10CB8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5C5FB99C-A6E9-44CF-964D-69B634A38267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表紙背景"/>
          <p:cNvPicPr/>
          <p:nvPr/>
        </p:nvPicPr>
        <p:blipFill>
          <a:blip r:embed="rId1"/>
          <a:srcRect l="0" t="0" r="50622" b="0"/>
          <a:stretch/>
        </p:blipFill>
        <p:spPr>
          <a:xfrm>
            <a:off x="0" y="0"/>
            <a:ext cx="746748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505240" y="4700520"/>
            <a:ext cx="256212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9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ＭＳ Ｐゴシック"/>
              </a:rPr>
              <a:t>園だより</a:t>
            </a:r>
            <a:endParaRPr b="1" i="1" lang="en-US" sz="2900" spc="1" strike="noStrike">
              <a:ln w="9360">
                <a:solidFill>
                  <a:srgbClr val="0033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85960" y="5986440"/>
            <a:ext cx="2200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月号～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表紙背景"/>
          <p:cNvPicPr/>
          <p:nvPr/>
        </p:nvPicPr>
        <p:blipFill>
          <a:blip r:embed="rId2"/>
          <a:srcRect l="50597" t="0" r="67" b="-1185"/>
          <a:stretch/>
        </p:blipFill>
        <p:spPr>
          <a:xfrm>
            <a:off x="7661160" y="0"/>
            <a:ext cx="7461360" cy="108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5:37:34Z</dcterms:created>
  <dc:creator>fukase3</dc:creator>
  <dc:description/>
  <dc:language>en-US</dc:language>
  <cp:lastModifiedBy>株式会社ジーン macpro2</cp:lastModifiedBy>
  <dcterms:modified xsi:type="dcterms:W3CDTF">2013-02-05T06:23:22Z</dcterms:modified>
  <cp:revision>10</cp:revision>
  <dc:subject/>
  <dc:title>スライド 1</dc:title>
</cp:coreProperties>
</file>