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404050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E357-2F7C-4902-9737-55407C7AC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2916252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20360" y="6180840"/>
            <a:ext cx="2916252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24DF-C6C7-4690-A21A-9736B791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6360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20360" y="618084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63600" y="618084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16AF-7DEF-49FA-907C-A4DC29186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480400" y="249516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340800" y="249516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20360" y="618084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480400" y="618084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340800" y="618084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842A-2A54-4A51-922D-041F0CB63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20360" y="2495160"/>
            <a:ext cx="2916252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49"/>
              </a:spcBef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0C79-0131-4FC9-A3C2-AA946495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2916252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F3AB-D2A3-494A-9A0D-6A8BA1E5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1423116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63600" y="2495160"/>
            <a:ext cx="1423116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659D-E198-47DD-B83F-93827182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0BEC-91AA-4E9D-8C1A-0342F63C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20360" y="428400"/>
            <a:ext cx="2916252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49"/>
              </a:spcBef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F666-4014-4281-A930-6CE69E40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63600" y="2495160"/>
            <a:ext cx="1423116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20360" y="618084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CF1A-C6C4-4BE0-96C5-F7BEF349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1423116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6360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63600" y="618084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ADA9-A7A1-4241-B201-89C0A29F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6360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20360" y="6180840"/>
            <a:ext cx="2916252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4B94-197B-4644-AEAE-422AFF97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20360" y="428400"/>
            <a:ext cx="29162520" cy="1780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20360" y="2495160"/>
            <a:ext cx="2916252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 fontScale="62000"/>
          </a:bodyPr>
          <a:p>
            <a:pPr marL="571680" indent="-571680">
              <a:spcBef>
                <a:spcPts val="2149"/>
              </a:spcBef>
              <a:buClr>
                <a:srgbClr val="000000"/>
              </a:buClr>
              <a:buFont typeface="Arial"/>
              <a:buChar char="•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1" marL="1239840" indent="-476280">
              <a:spcBef>
                <a:spcPts val="2149"/>
              </a:spcBef>
              <a:buClr>
                <a:srgbClr val="000000"/>
              </a:buClr>
              <a:buFont typeface="Arial"/>
              <a:buChar char="–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2" marL="1908360" indent="-380520">
              <a:spcBef>
                <a:spcPts val="2149"/>
              </a:spcBef>
              <a:buClr>
                <a:srgbClr val="000000"/>
              </a:buClr>
              <a:buFont typeface="Arial"/>
              <a:buChar char="•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3" marL="2671200" indent="-380880">
              <a:spcBef>
                <a:spcPts val="2149"/>
              </a:spcBef>
              <a:buClr>
                <a:srgbClr val="000000"/>
              </a:buClr>
              <a:buFont typeface="Arial"/>
              <a:buChar char="–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4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5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6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20360" y="9910440"/>
            <a:ext cx="7559640" cy="56988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lstStyle>
            <a:lvl1pPr indent="0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  <a:defRPr b="0" lang="ja-JP" sz="3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3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70720" y="9910440"/>
            <a:ext cx="10261800" cy="56988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3240" y="9910440"/>
            <a:ext cx="7559640" cy="56988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lstStyle>
            <a:lvl1pPr indent="0" algn="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  <a:defRPr b="0" lang="ja-JP" sz="3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fld id="{BB066DA6-AD76-415B-A500-355B6D2DD45A}" type="slidenum">
              <a:rPr b="0" lang="ja-JP" sz="3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グループ化 87"/>
          <p:cNvGrpSpPr/>
          <p:nvPr/>
        </p:nvGrpSpPr>
        <p:grpSpPr>
          <a:xfrm>
            <a:off x="1427040" y="5032440"/>
            <a:ext cx="29530800" cy="4464000"/>
            <a:chOff x="1427040" y="5032440"/>
            <a:chExt cx="29530800" cy="4464000"/>
          </a:xfrm>
        </p:grpSpPr>
        <p:sp>
          <p:nvSpPr>
            <p:cNvPr id="42" name="Freeform 11"/>
            <p:cNvSpPr/>
            <p:nvPr/>
          </p:nvSpPr>
          <p:spPr>
            <a:xfrm>
              <a:off x="1427040" y="5032440"/>
              <a:ext cx="2666880" cy="396576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3965760"/>
                <a:gd name="textAreaBottom" fmla="*/ 3966120 h 3965760"/>
              </a:gdLst>
              <a:ahLst/>
              <a:rect l="textAreaLeft" t="textAreaTop" r="textAreaRight" b="textAreaBottom"/>
              <a:pathLst>
                <a:path w="1680" h="2498">
                  <a:moveTo>
                    <a:pt x="1632" y="2058"/>
                  </a:moveTo>
                  <a:lnTo>
                    <a:pt x="1632" y="2058"/>
                  </a:lnTo>
                  <a:lnTo>
                    <a:pt x="1618" y="2002"/>
                  </a:lnTo>
                  <a:lnTo>
                    <a:pt x="1600" y="1946"/>
                  </a:lnTo>
                  <a:lnTo>
                    <a:pt x="1568" y="1836"/>
                  </a:lnTo>
                  <a:lnTo>
                    <a:pt x="1568" y="1836"/>
                  </a:lnTo>
                  <a:lnTo>
                    <a:pt x="1564" y="1816"/>
                  </a:lnTo>
                  <a:lnTo>
                    <a:pt x="1562" y="1796"/>
                  </a:lnTo>
                  <a:lnTo>
                    <a:pt x="1558" y="1756"/>
                  </a:lnTo>
                  <a:lnTo>
                    <a:pt x="1558" y="1716"/>
                  </a:lnTo>
                  <a:lnTo>
                    <a:pt x="1560" y="1676"/>
                  </a:lnTo>
                  <a:lnTo>
                    <a:pt x="1562" y="1634"/>
                  </a:lnTo>
                  <a:lnTo>
                    <a:pt x="1562" y="1592"/>
                  </a:lnTo>
                  <a:lnTo>
                    <a:pt x="1560" y="1550"/>
                  </a:lnTo>
                  <a:lnTo>
                    <a:pt x="1558" y="1530"/>
                  </a:lnTo>
                  <a:lnTo>
                    <a:pt x="1554" y="1508"/>
                  </a:lnTo>
                  <a:lnTo>
                    <a:pt x="1554" y="1508"/>
                  </a:lnTo>
                  <a:lnTo>
                    <a:pt x="1542" y="1452"/>
                  </a:lnTo>
                  <a:lnTo>
                    <a:pt x="1534" y="1382"/>
                  </a:lnTo>
                  <a:lnTo>
                    <a:pt x="1528" y="1304"/>
                  </a:lnTo>
                  <a:lnTo>
                    <a:pt x="1524" y="1220"/>
                  </a:lnTo>
                  <a:lnTo>
                    <a:pt x="1522" y="1136"/>
                  </a:lnTo>
                  <a:lnTo>
                    <a:pt x="1522" y="1058"/>
                  </a:lnTo>
                  <a:lnTo>
                    <a:pt x="1524" y="986"/>
                  </a:lnTo>
                  <a:lnTo>
                    <a:pt x="1530" y="930"/>
                  </a:lnTo>
                  <a:lnTo>
                    <a:pt x="1530" y="930"/>
                  </a:lnTo>
                  <a:lnTo>
                    <a:pt x="1522" y="846"/>
                  </a:lnTo>
                  <a:lnTo>
                    <a:pt x="1522" y="846"/>
                  </a:lnTo>
                  <a:lnTo>
                    <a:pt x="1522" y="766"/>
                  </a:lnTo>
                  <a:lnTo>
                    <a:pt x="1524" y="690"/>
                  </a:lnTo>
                  <a:lnTo>
                    <a:pt x="1528" y="622"/>
                  </a:lnTo>
                  <a:lnTo>
                    <a:pt x="1532" y="592"/>
                  </a:lnTo>
                  <a:lnTo>
                    <a:pt x="1538" y="564"/>
                  </a:lnTo>
                  <a:lnTo>
                    <a:pt x="1538" y="564"/>
                  </a:lnTo>
                  <a:lnTo>
                    <a:pt x="1540" y="540"/>
                  </a:lnTo>
                  <a:lnTo>
                    <a:pt x="1542" y="514"/>
                  </a:lnTo>
                  <a:lnTo>
                    <a:pt x="1540" y="488"/>
                  </a:lnTo>
                  <a:lnTo>
                    <a:pt x="1538" y="462"/>
                  </a:lnTo>
                  <a:lnTo>
                    <a:pt x="1532" y="414"/>
                  </a:lnTo>
                  <a:lnTo>
                    <a:pt x="1530" y="396"/>
                  </a:lnTo>
                  <a:lnTo>
                    <a:pt x="1530" y="382"/>
                  </a:lnTo>
                  <a:lnTo>
                    <a:pt x="1530" y="382"/>
                  </a:lnTo>
                  <a:lnTo>
                    <a:pt x="1546" y="298"/>
                  </a:lnTo>
                  <a:lnTo>
                    <a:pt x="1546" y="298"/>
                  </a:lnTo>
                  <a:lnTo>
                    <a:pt x="1540" y="264"/>
                  </a:lnTo>
                  <a:lnTo>
                    <a:pt x="1536" y="220"/>
                  </a:lnTo>
                  <a:lnTo>
                    <a:pt x="1534" y="198"/>
                  </a:lnTo>
                  <a:lnTo>
                    <a:pt x="1536" y="178"/>
                  </a:lnTo>
                  <a:lnTo>
                    <a:pt x="1538" y="160"/>
                  </a:lnTo>
                  <a:lnTo>
                    <a:pt x="1542" y="152"/>
                  </a:lnTo>
                  <a:lnTo>
                    <a:pt x="1546" y="144"/>
                  </a:lnTo>
                  <a:lnTo>
                    <a:pt x="1546" y="144"/>
                  </a:lnTo>
                  <a:lnTo>
                    <a:pt x="1544" y="120"/>
                  </a:lnTo>
                  <a:lnTo>
                    <a:pt x="1538" y="104"/>
                  </a:lnTo>
                  <a:lnTo>
                    <a:pt x="1532" y="90"/>
                  </a:lnTo>
                  <a:lnTo>
                    <a:pt x="1522" y="76"/>
                  </a:lnTo>
                  <a:lnTo>
                    <a:pt x="1522" y="76"/>
                  </a:lnTo>
                  <a:lnTo>
                    <a:pt x="1418" y="78"/>
                  </a:lnTo>
                  <a:lnTo>
                    <a:pt x="1322" y="86"/>
                  </a:lnTo>
                  <a:lnTo>
                    <a:pt x="1230" y="96"/>
                  </a:lnTo>
                  <a:lnTo>
                    <a:pt x="1138" y="106"/>
                  </a:lnTo>
                  <a:lnTo>
                    <a:pt x="1138" y="106"/>
                  </a:lnTo>
                  <a:lnTo>
                    <a:pt x="1122" y="142"/>
                  </a:lnTo>
                  <a:lnTo>
                    <a:pt x="1108" y="180"/>
                  </a:lnTo>
                  <a:lnTo>
                    <a:pt x="1098" y="218"/>
                  </a:lnTo>
                  <a:lnTo>
                    <a:pt x="1088" y="260"/>
                  </a:lnTo>
                  <a:lnTo>
                    <a:pt x="1080" y="300"/>
                  </a:lnTo>
                  <a:lnTo>
                    <a:pt x="1072" y="342"/>
                  </a:lnTo>
                  <a:lnTo>
                    <a:pt x="1062" y="430"/>
                  </a:lnTo>
                  <a:lnTo>
                    <a:pt x="1056" y="522"/>
                  </a:lnTo>
                  <a:lnTo>
                    <a:pt x="1050" y="616"/>
                  </a:lnTo>
                  <a:lnTo>
                    <a:pt x="1044" y="712"/>
                  </a:lnTo>
                  <a:lnTo>
                    <a:pt x="1036" y="808"/>
                  </a:lnTo>
                  <a:lnTo>
                    <a:pt x="1036" y="808"/>
                  </a:lnTo>
                  <a:lnTo>
                    <a:pt x="1034" y="836"/>
                  </a:lnTo>
                  <a:lnTo>
                    <a:pt x="1036" y="868"/>
                  </a:lnTo>
                  <a:lnTo>
                    <a:pt x="1040" y="942"/>
                  </a:lnTo>
                  <a:lnTo>
                    <a:pt x="1040" y="980"/>
                  </a:lnTo>
                  <a:lnTo>
                    <a:pt x="1038" y="1016"/>
                  </a:lnTo>
                  <a:lnTo>
                    <a:pt x="1034" y="1032"/>
                  </a:lnTo>
                  <a:lnTo>
                    <a:pt x="1030" y="1048"/>
                  </a:lnTo>
                  <a:lnTo>
                    <a:pt x="1026" y="1062"/>
                  </a:lnTo>
                  <a:lnTo>
                    <a:pt x="1020" y="1074"/>
                  </a:lnTo>
                  <a:lnTo>
                    <a:pt x="1020" y="1074"/>
                  </a:lnTo>
                  <a:lnTo>
                    <a:pt x="1012" y="1084"/>
                  </a:lnTo>
                  <a:lnTo>
                    <a:pt x="1002" y="1090"/>
                  </a:lnTo>
                  <a:lnTo>
                    <a:pt x="992" y="1094"/>
                  </a:lnTo>
                  <a:lnTo>
                    <a:pt x="982" y="1094"/>
                  </a:lnTo>
                  <a:lnTo>
                    <a:pt x="956" y="1094"/>
                  </a:lnTo>
                  <a:lnTo>
                    <a:pt x="940" y="1094"/>
                  </a:lnTo>
                  <a:lnTo>
                    <a:pt x="924" y="1098"/>
                  </a:lnTo>
                  <a:lnTo>
                    <a:pt x="924" y="1098"/>
                  </a:lnTo>
                  <a:lnTo>
                    <a:pt x="888" y="1104"/>
                  </a:lnTo>
                  <a:lnTo>
                    <a:pt x="848" y="1110"/>
                  </a:lnTo>
                  <a:lnTo>
                    <a:pt x="808" y="1114"/>
                  </a:lnTo>
                  <a:lnTo>
                    <a:pt x="766" y="1118"/>
                  </a:lnTo>
                  <a:lnTo>
                    <a:pt x="680" y="1120"/>
                  </a:lnTo>
                  <a:lnTo>
                    <a:pt x="590" y="1120"/>
                  </a:lnTo>
                  <a:lnTo>
                    <a:pt x="590" y="1120"/>
                  </a:lnTo>
                  <a:lnTo>
                    <a:pt x="592" y="1080"/>
                  </a:lnTo>
                  <a:lnTo>
                    <a:pt x="596" y="1038"/>
                  </a:lnTo>
                  <a:lnTo>
                    <a:pt x="608" y="958"/>
                  </a:lnTo>
                  <a:lnTo>
                    <a:pt x="612" y="916"/>
                  </a:lnTo>
                  <a:lnTo>
                    <a:pt x="614" y="876"/>
                  </a:lnTo>
                  <a:lnTo>
                    <a:pt x="612" y="834"/>
                  </a:lnTo>
                  <a:lnTo>
                    <a:pt x="610" y="814"/>
                  </a:lnTo>
                  <a:lnTo>
                    <a:pt x="604" y="792"/>
                  </a:lnTo>
                  <a:lnTo>
                    <a:pt x="604" y="792"/>
                  </a:lnTo>
                  <a:lnTo>
                    <a:pt x="592" y="732"/>
                  </a:lnTo>
                  <a:lnTo>
                    <a:pt x="584" y="698"/>
                  </a:lnTo>
                  <a:lnTo>
                    <a:pt x="578" y="662"/>
                  </a:lnTo>
                  <a:lnTo>
                    <a:pt x="574" y="624"/>
                  </a:lnTo>
                  <a:lnTo>
                    <a:pt x="574" y="586"/>
                  </a:lnTo>
                  <a:lnTo>
                    <a:pt x="576" y="548"/>
                  </a:lnTo>
                  <a:lnTo>
                    <a:pt x="582" y="510"/>
                  </a:lnTo>
                  <a:lnTo>
                    <a:pt x="582" y="510"/>
                  </a:lnTo>
                  <a:lnTo>
                    <a:pt x="588" y="480"/>
                  </a:lnTo>
                  <a:lnTo>
                    <a:pt x="592" y="446"/>
                  </a:lnTo>
                  <a:lnTo>
                    <a:pt x="596" y="414"/>
                  </a:lnTo>
                  <a:lnTo>
                    <a:pt x="598" y="378"/>
                  </a:lnTo>
                  <a:lnTo>
                    <a:pt x="600" y="342"/>
                  </a:lnTo>
                  <a:lnTo>
                    <a:pt x="600" y="306"/>
                  </a:lnTo>
                  <a:lnTo>
                    <a:pt x="600" y="272"/>
                  </a:lnTo>
                  <a:lnTo>
                    <a:pt x="598" y="236"/>
                  </a:lnTo>
                  <a:lnTo>
                    <a:pt x="594" y="200"/>
                  </a:lnTo>
                  <a:lnTo>
                    <a:pt x="588" y="166"/>
                  </a:lnTo>
                  <a:lnTo>
                    <a:pt x="582" y="134"/>
                  </a:lnTo>
                  <a:lnTo>
                    <a:pt x="576" y="102"/>
                  </a:lnTo>
                  <a:lnTo>
                    <a:pt x="566" y="74"/>
                  </a:lnTo>
                  <a:lnTo>
                    <a:pt x="556" y="46"/>
                  </a:lnTo>
                  <a:lnTo>
                    <a:pt x="546" y="22"/>
                  </a:lnTo>
                  <a:lnTo>
                    <a:pt x="534" y="0"/>
                  </a:lnTo>
                  <a:lnTo>
                    <a:pt x="534" y="0"/>
                  </a:lnTo>
                  <a:lnTo>
                    <a:pt x="516" y="2"/>
                  </a:lnTo>
                  <a:lnTo>
                    <a:pt x="500" y="4"/>
                  </a:lnTo>
                  <a:lnTo>
                    <a:pt x="486" y="6"/>
                  </a:lnTo>
                  <a:lnTo>
                    <a:pt x="472" y="12"/>
                  </a:lnTo>
                  <a:lnTo>
                    <a:pt x="450" y="22"/>
                  </a:lnTo>
                  <a:lnTo>
                    <a:pt x="430" y="36"/>
                  </a:lnTo>
                  <a:lnTo>
                    <a:pt x="392" y="64"/>
                  </a:lnTo>
                  <a:lnTo>
                    <a:pt x="372" y="78"/>
                  </a:lnTo>
                  <a:lnTo>
                    <a:pt x="350" y="92"/>
                  </a:lnTo>
                  <a:lnTo>
                    <a:pt x="350" y="92"/>
                  </a:lnTo>
                  <a:lnTo>
                    <a:pt x="338" y="96"/>
                  </a:lnTo>
                  <a:lnTo>
                    <a:pt x="326" y="98"/>
                  </a:lnTo>
                  <a:lnTo>
                    <a:pt x="300" y="100"/>
                  </a:lnTo>
                  <a:lnTo>
                    <a:pt x="274" y="102"/>
                  </a:lnTo>
                  <a:lnTo>
                    <a:pt x="260" y="104"/>
                  </a:lnTo>
                  <a:lnTo>
                    <a:pt x="246" y="106"/>
                  </a:lnTo>
                  <a:lnTo>
                    <a:pt x="246" y="106"/>
                  </a:lnTo>
                  <a:lnTo>
                    <a:pt x="182" y="126"/>
                  </a:lnTo>
                  <a:lnTo>
                    <a:pt x="118" y="148"/>
                  </a:lnTo>
                  <a:lnTo>
                    <a:pt x="56" y="172"/>
                  </a:lnTo>
                  <a:lnTo>
                    <a:pt x="26" y="184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4" y="246"/>
                  </a:lnTo>
                  <a:lnTo>
                    <a:pt x="12" y="294"/>
                  </a:lnTo>
                  <a:lnTo>
                    <a:pt x="20" y="340"/>
                  </a:lnTo>
                  <a:lnTo>
                    <a:pt x="32" y="384"/>
                  </a:lnTo>
                  <a:lnTo>
                    <a:pt x="54" y="468"/>
                  </a:lnTo>
                  <a:lnTo>
                    <a:pt x="80" y="548"/>
                  </a:lnTo>
                  <a:lnTo>
                    <a:pt x="80" y="548"/>
                  </a:lnTo>
                  <a:lnTo>
                    <a:pt x="88" y="664"/>
                  </a:lnTo>
                  <a:lnTo>
                    <a:pt x="88" y="664"/>
                  </a:lnTo>
                  <a:lnTo>
                    <a:pt x="94" y="686"/>
                  </a:lnTo>
                  <a:lnTo>
                    <a:pt x="104" y="710"/>
                  </a:lnTo>
                  <a:lnTo>
                    <a:pt x="118" y="754"/>
                  </a:lnTo>
                  <a:lnTo>
                    <a:pt x="118" y="754"/>
                  </a:lnTo>
                  <a:lnTo>
                    <a:pt x="118" y="944"/>
                  </a:lnTo>
                  <a:lnTo>
                    <a:pt x="118" y="944"/>
                  </a:lnTo>
                  <a:lnTo>
                    <a:pt x="128" y="988"/>
                  </a:lnTo>
                  <a:lnTo>
                    <a:pt x="136" y="1034"/>
                  </a:lnTo>
                  <a:lnTo>
                    <a:pt x="142" y="1080"/>
                  </a:lnTo>
                  <a:lnTo>
                    <a:pt x="148" y="1128"/>
                  </a:lnTo>
                  <a:lnTo>
                    <a:pt x="150" y="1178"/>
                  </a:lnTo>
                  <a:lnTo>
                    <a:pt x="152" y="1226"/>
                  </a:lnTo>
                  <a:lnTo>
                    <a:pt x="154" y="1328"/>
                  </a:lnTo>
                  <a:lnTo>
                    <a:pt x="154" y="1540"/>
                  </a:lnTo>
                  <a:lnTo>
                    <a:pt x="154" y="1646"/>
                  </a:lnTo>
                  <a:lnTo>
                    <a:pt x="158" y="1752"/>
                  </a:lnTo>
                  <a:lnTo>
                    <a:pt x="158" y="1752"/>
                  </a:lnTo>
                  <a:lnTo>
                    <a:pt x="174" y="2142"/>
                  </a:lnTo>
                  <a:lnTo>
                    <a:pt x="174" y="2142"/>
                  </a:lnTo>
                  <a:lnTo>
                    <a:pt x="176" y="2186"/>
                  </a:lnTo>
                  <a:lnTo>
                    <a:pt x="180" y="2238"/>
                  </a:lnTo>
                  <a:lnTo>
                    <a:pt x="180" y="2264"/>
                  </a:lnTo>
                  <a:lnTo>
                    <a:pt x="178" y="2288"/>
                  </a:lnTo>
                  <a:lnTo>
                    <a:pt x="174" y="2308"/>
                  </a:lnTo>
                  <a:lnTo>
                    <a:pt x="170" y="2318"/>
                  </a:lnTo>
                  <a:lnTo>
                    <a:pt x="166" y="2324"/>
                  </a:lnTo>
                  <a:lnTo>
                    <a:pt x="166" y="2324"/>
                  </a:lnTo>
                  <a:lnTo>
                    <a:pt x="168" y="2370"/>
                  </a:lnTo>
                  <a:lnTo>
                    <a:pt x="170" y="2412"/>
                  </a:lnTo>
                  <a:lnTo>
                    <a:pt x="174" y="2450"/>
                  </a:lnTo>
                  <a:lnTo>
                    <a:pt x="182" y="2484"/>
                  </a:lnTo>
                  <a:lnTo>
                    <a:pt x="182" y="2484"/>
                  </a:lnTo>
                  <a:lnTo>
                    <a:pt x="212" y="2490"/>
                  </a:lnTo>
                  <a:lnTo>
                    <a:pt x="240" y="2494"/>
                  </a:lnTo>
                  <a:lnTo>
                    <a:pt x="270" y="2498"/>
                  </a:lnTo>
                  <a:lnTo>
                    <a:pt x="298" y="2498"/>
                  </a:lnTo>
                  <a:lnTo>
                    <a:pt x="326" y="2498"/>
                  </a:lnTo>
                  <a:lnTo>
                    <a:pt x="354" y="2496"/>
                  </a:lnTo>
                  <a:lnTo>
                    <a:pt x="410" y="2490"/>
                  </a:lnTo>
                  <a:lnTo>
                    <a:pt x="468" y="2482"/>
                  </a:lnTo>
                  <a:lnTo>
                    <a:pt x="526" y="2472"/>
                  </a:lnTo>
                  <a:lnTo>
                    <a:pt x="584" y="2462"/>
                  </a:lnTo>
                  <a:lnTo>
                    <a:pt x="644" y="2454"/>
                  </a:lnTo>
                  <a:lnTo>
                    <a:pt x="644" y="2454"/>
                  </a:lnTo>
                  <a:lnTo>
                    <a:pt x="644" y="2446"/>
                  </a:lnTo>
                  <a:lnTo>
                    <a:pt x="644" y="2446"/>
                  </a:lnTo>
                  <a:lnTo>
                    <a:pt x="652" y="2446"/>
                  </a:lnTo>
                  <a:lnTo>
                    <a:pt x="652" y="2446"/>
                  </a:lnTo>
                  <a:lnTo>
                    <a:pt x="660" y="2396"/>
                  </a:lnTo>
                  <a:lnTo>
                    <a:pt x="664" y="2338"/>
                  </a:lnTo>
                  <a:lnTo>
                    <a:pt x="666" y="2276"/>
                  </a:lnTo>
                  <a:lnTo>
                    <a:pt x="666" y="2212"/>
                  </a:lnTo>
                  <a:lnTo>
                    <a:pt x="664" y="2148"/>
                  </a:lnTo>
                  <a:lnTo>
                    <a:pt x="660" y="2086"/>
                  </a:lnTo>
                  <a:lnTo>
                    <a:pt x="654" y="2030"/>
                  </a:lnTo>
                  <a:lnTo>
                    <a:pt x="644" y="1982"/>
                  </a:lnTo>
                  <a:lnTo>
                    <a:pt x="644" y="1982"/>
                  </a:lnTo>
                  <a:lnTo>
                    <a:pt x="642" y="1962"/>
                  </a:lnTo>
                  <a:lnTo>
                    <a:pt x="638" y="1942"/>
                  </a:lnTo>
                  <a:lnTo>
                    <a:pt x="636" y="1898"/>
                  </a:lnTo>
                  <a:lnTo>
                    <a:pt x="638" y="1854"/>
                  </a:lnTo>
                  <a:lnTo>
                    <a:pt x="642" y="1810"/>
                  </a:lnTo>
                  <a:lnTo>
                    <a:pt x="650" y="1722"/>
                  </a:lnTo>
                  <a:lnTo>
                    <a:pt x="652" y="1682"/>
                  </a:lnTo>
                  <a:lnTo>
                    <a:pt x="652" y="1646"/>
                  </a:lnTo>
                  <a:lnTo>
                    <a:pt x="652" y="1646"/>
                  </a:lnTo>
                  <a:lnTo>
                    <a:pt x="650" y="1618"/>
                  </a:lnTo>
                  <a:lnTo>
                    <a:pt x="648" y="1590"/>
                  </a:lnTo>
                  <a:lnTo>
                    <a:pt x="646" y="1556"/>
                  </a:lnTo>
                  <a:lnTo>
                    <a:pt x="644" y="1516"/>
                  </a:lnTo>
                  <a:lnTo>
                    <a:pt x="644" y="1516"/>
                  </a:lnTo>
                  <a:lnTo>
                    <a:pt x="828" y="1524"/>
                  </a:lnTo>
                  <a:lnTo>
                    <a:pt x="828" y="1524"/>
                  </a:lnTo>
                  <a:lnTo>
                    <a:pt x="888" y="1510"/>
                  </a:lnTo>
                  <a:lnTo>
                    <a:pt x="922" y="1504"/>
                  </a:lnTo>
                  <a:lnTo>
                    <a:pt x="956" y="1502"/>
                  </a:lnTo>
                  <a:lnTo>
                    <a:pt x="956" y="1502"/>
                  </a:lnTo>
                  <a:lnTo>
                    <a:pt x="994" y="1500"/>
                  </a:lnTo>
                  <a:lnTo>
                    <a:pt x="1036" y="1498"/>
                  </a:lnTo>
                  <a:lnTo>
                    <a:pt x="1058" y="1498"/>
                  </a:lnTo>
                  <a:lnTo>
                    <a:pt x="1078" y="1500"/>
                  </a:lnTo>
                  <a:lnTo>
                    <a:pt x="1094" y="1504"/>
                  </a:lnTo>
                  <a:lnTo>
                    <a:pt x="1106" y="1508"/>
                  </a:lnTo>
                  <a:lnTo>
                    <a:pt x="1106" y="1508"/>
                  </a:lnTo>
                  <a:lnTo>
                    <a:pt x="1122" y="1508"/>
                  </a:lnTo>
                  <a:lnTo>
                    <a:pt x="1122" y="1508"/>
                  </a:lnTo>
                  <a:lnTo>
                    <a:pt x="1112" y="1540"/>
                  </a:lnTo>
                  <a:lnTo>
                    <a:pt x="1104" y="1574"/>
                  </a:lnTo>
                  <a:lnTo>
                    <a:pt x="1098" y="1612"/>
                  </a:lnTo>
                  <a:lnTo>
                    <a:pt x="1094" y="1652"/>
                  </a:lnTo>
                  <a:lnTo>
                    <a:pt x="1092" y="1696"/>
                  </a:lnTo>
                  <a:lnTo>
                    <a:pt x="1090" y="1740"/>
                  </a:lnTo>
                  <a:lnTo>
                    <a:pt x="1092" y="1784"/>
                  </a:lnTo>
                  <a:lnTo>
                    <a:pt x="1094" y="1830"/>
                  </a:lnTo>
                  <a:lnTo>
                    <a:pt x="1100" y="1922"/>
                  </a:lnTo>
                  <a:lnTo>
                    <a:pt x="1112" y="2010"/>
                  </a:lnTo>
                  <a:lnTo>
                    <a:pt x="1124" y="2092"/>
                  </a:lnTo>
                  <a:lnTo>
                    <a:pt x="1138" y="2164"/>
                  </a:lnTo>
                  <a:lnTo>
                    <a:pt x="1138" y="2164"/>
                  </a:lnTo>
                  <a:lnTo>
                    <a:pt x="1144" y="2196"/>
                  </a:lnTo>
                  <a:lnTo>
                    <a:pt x="1146" y="2230"/>
                  </a:lnTo>
                  <a:lnTo>
                    <a:pt x="1144" y="2296"/>
                  </a:lnTo>
                  <a:lnTo>
                    <a:pt x="1146" y="2328"/>
                  </a:lnTo>
                  <a:lnTo>
                    <a:pt x="1150" y="2358"/>
                  </a:lnTo>
                  <a:lnTo>
                    <a:pt x="1152" y="2372"/>
                  </a:lnTo>
                  <a:lnTo>
                    <a:pt x="1158" y="2384"/>
                  </a:lnTo>
                  <a:lnTo>
                    <a:pt x="1164" y="2396"/>
                  </a:lnTo>
                  <a:lnTo>
                    <a:pt x="1170" y="2408"/>
                  </a:lnTo>
                  <a:lnTo>
                    <a:pt x="1170" y="2408"/>
                  </a:lnTo>
                  <a:lnTo>
                    <a:pt x="1178" y="2424"/>
                  </a:lnTo>
                  <a:lnTo>
                    <a:pt x="1178" y="2424"/>
                  </a:lnTo>
                  <a:lnTo>
                    <a:pt x="1240" y="2424"/>
                  </a:lnTo>
                  <a:lnTo>
                    <a:pt x="1300" y="2420"/>
                  </a:lnTo>
                  <a:lnTo>
                    <a:pt x="1362" y="2416"/>
                  </a:lnTo>
                  <a:lnTo>
                    <a:pt x="1424" y="2408"/>
                  </a:lnTo>
                  <a:lnTo>
                    <a:pt x="1550" y="2392"/>
                  </a:lnTo>
                  <a:lnTo>
                    <a:pt x="1672" y="2378"/>
                  </a:lnTo>
                  <a:lnTo>
                    <a:pt x="1672" y="2378"/>
                  </a:lnTo>
                  <a:lnTo>
                    <a:pt x="1672" y="2370"/>
                  </a:lnTo>
                  <a:lnTo>
                    <a:pt x="1672" y="2370"/>
                  </a:lnTo>
                  <a:lnTo>
                    <a:pt x="1680" y="2370"/>
                  </a:lnTo>
                  <a:lnTo>
                    <a:pt x="1680" y="2370"/>
                  </a:lnTo>
                  <a:lnTo>
                    <a:pt x="1678" y="2348"/>
                  </a:lnTo>
                  <a:lnTo>
                    <a:pt x="1674" y="2330"/>
                  </a:lnTo>
                  <a:lnTo>
                    <a:pt x="1664" y="2294"/>
                  </a:lnTo>
                  <a:lnTo>
                    <a:pt x="1652" y="2260"/>
                  </a:lnTo>
                  <a:lnTo>
                    <a:pt x="1640" y="2226"/>
                  </a:lnTo>
                  <a:lnTo>
                    <a:pt x="1640" y="2226"/>
                  </a:lnTo>
                  <a:lnTo>
                    <a:pt x="1632" y="2058"/>
                  </a:lnTo>
                  <a:lnTo>
                    <a:pt x="1632" y="2058"/>
                  </a:lnTo>
                  <a:close/>
                  <a:moveTo>
                    <a:pt x="1266" y="2348"/>
                  </a:moveTo>
                  <a:lnTo>
                    <a:pt x="1266" y="2348"/>
                  </a:lnTo>
                  <a:lnTo>
                    <a:pt x="1250" y="2348"/>
                  </a:lnTo>
                  <a:lnTo>
                    <a:pt x="1250" y="2348"/>
                  </a:lnTo>
                  <a:lnTo>
                    <a:pt x="1194" y="1790"/>
                  </a:lnTo>
                  <a:lnTo>
                    <a:pt x="1194" y="1790"/>
                  </a:lnTo>
                  <a:lnTo>
                    <a:pt x="1194" y="1716"/>
                  </a:lnTo>
                  <a:lnTo>
                    <a:pt x="1194" y="1678"/>
                  </a:lnTo>
                  <a:lnTo>
                    <a:pt x="1194" y="1640"/>
                  </a:lnTo>
                  <a:lnTo>
                    <a:pt x="1198" y="1604"/>
                  </a:lnTo>
                  <a:lnTo>
                    <a:pt x="1204" y="1570"/>
                  </a:lnTo>
                  <a:lnTo>
                    <a:pt x="1208" y="1556"/>
                  </a:lnTo>
                  <a:lnTo>
                    <a:pt x="1212" y="1542"/>
                  </a:lnTo>
                  <a:lnTo>
                    <a:pt x="1220" y="1528"/>
                  </a:lnTo>
                  <a:lnTo>
                    <a:pt x="1226" y="1516"/>
                  </a:lnTo>
                  <a:lnTo>
                    <a:pt x="1226" y="1516"/>
                  </a:lnTo>
                  <a:lnTo>
                    <a:pt x="1226" y="1502"/>
                  </a:lnTo>
                  <a:lnTo>
                    <a:pt x="1222" y="1490"/>
                  </a:lnTo>
                  <a:lnTo>
                    <a:pt x="1218" y="1478"/>
                  </a:lnTo>
                  <a:lnTo>
                    <a:pt x="1212" y="1468"/>
                  </a:lnTo>
                  <a:lnTo>
                    <a:pt x="1204" y="1460"/>
                  </a:lnTo>
                  <a:lnTo>
                    <a:pt x="1194" y="1452"/>
                  </a:lnTo>
                  <a:lnTo>
                    <a:pt x="1184" y="1444"/>
                  </a:lnTo>
                  <a:lnTo>
                    <a:pt x="1172" y="1438"/>
                  </a:lnTo>
                  <a:lnTo>
                    <a:pt x="1146" y="1430"/>
                  </a:lnTo>
                  <a:lnTo>
                    <a:pt x="1116" y="1424"/>
                  </a:lnTo>
                  <a:lnTo>
                    <a:pt x="1082" y="1422"/>
                  </a:lnTo>
                  <a:lnTo>
                    <a:pt x="1048" y="1422"/>
                  </a:lnTo>
                  <a:lnTo>
                    <a:pt x="1012" y="1422"/>
                  </a:lnTo>
                  <a:lnTo>
                    <a:pt x="974" y="1426"/>
                  </a:lnTo>
                  <a:lnTo>
                    <a:pt x="904" y="1434"/>
                  </a:lnTo>
                  <a:lnTo>
                    <a:pt x="838" y="1442"/>
                  </a:lnTo>
                  <a:lnTo>
                    <a:pt x="788" y="1448"/>
                  </a:lnTo>
                  <a:lnTo>
                    <a:pt x="788" y="1448"/>
                  </a:lnTo>
                  <a:lnTo>
                    <a:pt x="762" y="1448"/>
                  </a:lnTo>
                  <a:lnTo>
                    <a:pt x="734" y="1444"/>
                  </a:lnTo>
                  <a:lnTo>
                    <a:pt x="670" y="1436"/>
                  </a:lnTo>
                  <a:lnTo>
                    <a:pt x="638" y="1434"/>
                  </a:lnTo>
                  <a:lnTo>
                    <a:pt x="606" y="1434"/>
                  </a:lnTo>
                  <a:lnTo>
                    <a:pt x="592" y="1436"/>
                  </a:lnTo>
                  <a:lnTo>
                    <a:pt x="580" y="1438"/>
                  </a:lnTo>
                  <a:lnTo>
                    <a:pt x="568" y="1442"/>
                  </a:lnTo>
                  <a:lnTo>
                    <a:pt x="558" y="1448"/>
                  </a:lnTo>
                  <a:lnTo>
                    <a:pt x="558" y="1448"/>
                  </a:lnTo>
                  <a:lnTo>
                    <a:pt x="542" y="1448"/>
                  </a:lnTo>
                  <a:lnTo>
                    <a:pt x="542" y="1448"/>
                  </a:lnTo>
                  <a:lnTo>
                    <a:pt x="550" y="1666"/>
                  </a:lnTo>
                  <a:lnTo>
                    <a:pt x="554" y="1904"/>
                  </a:lnTo>
                  <a:lnTo>
                    <a:pt x="556" y="2026"/>
                  </a:lnTo>
                  <a:lnTo>
                    <a:pt x="556" y="2148"/>
                  </a:lnTo>
                  <a:lnTo>
                    <a:pt x="554" y="2268"/>
                  </a:lnTo>
                  <a:lnTo>
                    <a:pt x="550" y="2386"/>
                  </a:lnTo>
                  <a:lnTo>
                    <a:pt x="550" y="2386"/>
                  </a:lnTo>
                  <a:lnTo>
                    <a:pt x="492" y="2388"/>
                  </a:lnTo>
                  <a:lnTo>
                    <a:pt x="422" y="2396"/>
                  </a:lnTo>
                  <a:lnTo>
                    <a:pt x="388" y="2400"/>
                  </a:lnTo>
                  <a:lnTo>
                    <a:pt x="356" y="2408"/>
                  </a:lnTo>
                  <a:lnTo>
                    <a:pt x="330" y="2414"/>
                  </a:lnTo>
                  <a:lnTo>
                    <a:pt x="310" y="2424"/>
                  </a:lnTo>
                  <a:lnTo>
                    <a:pt x="310" y="2424"/>
                  </a:lnTo>
                  <a:lnTo>
                    <a:pt x="282" y="2420"/>
                  </a:lnTo>
                  <a:lnTo>
                    <a:pt x="262" y="2416"/>
                  </a:lnTo>
                  <a:lnTo>
                    <a:pt x="262" y="2416"/>
                  </a:lnTo>
                  <a:lnTo>
                    <a:pt x="268" y="2254"/>
                  </a:lnTo>
                  <a:lnTo>
                    <a:pt x="270" y="2172"/>
                  </a:lnTo>
                  <a:lnTo>
                    <a:pt x="272" y="2088"/>
                  </a:lnTo>
                  <a:lnTo>
                    <a:pt x="272" y="2004"/>
                  </a:lnTo>
                  <a:lnTo>
                    <a:pt x="268" y="1920"/>
                  </a:lnTo>
                  <a:lnTo>
                    <a:pt x="264" y="1878"/>
                  </a:lnTo>
                  <a:lnTo>
                    <a:pt x="260" y="1836"/>
                  </a:lnTo>
                  <a:lnTo>
                    <a:pt x="254" y="1794"/>
                  </a:lnTo>
                  <a:lnTo>
                    <a:pt x="246" y="1752"/>
                  </a:lnTo>
                  <a:lnTo>
                    <a:pt x="246" y="1752"/>
                  </a:lnTo>
                  <a:lnTo>
                    <a:pt x="242" y="1728"/>
                  </a:lnTo>
                  <a:lnTo>
                    <a:pt x="240" y="1702"/>
                  </a:lnTo>
                  <a:lnTo>
                    <a:pt x="238" y="1648"/>
                  </a:lnTo>
                  <a:lnTo>
                    <a:pt x="238" y="1590"/>
                  </a:lnTo>
                  <a:lnTo>
                    <a:pt x="242" y="1532"/>
                  </a:lnTo>
                  <a:lnTo>
                    <a:pt x="248" y="1418"/>
                  </a:lnTo>
                  <a:lnTo>
                    <a:pt x="248" y="1366"/>
                  </a:lnTo>
                  <a:lnTo>
                    <a:pt x="246" y="1318"/>
                  </a:lnTo>
                  <a:lnTo>
                    <a:pt x="246" y="1318"/>
                  </a:lnTo>
                  <a:lnTo>
                    <a:pt x="198" y="838"/>
                  </a:lnTo>
                  <a:lnTo>
                    <a:pt x="198" y="838"/>
                  </a:lnTo>
                  <a:lnTo>
                    <a:pt x="206" y="828"/>
                  </a:lnTo>
                  <a:lnTo>
                    <a:pt x="214" y="818"/>
                  </a:lnTo>
                  <a:lnTo>
                    <a:pt x="224" y="806"/>
                  </a:lnTo>
                  <a:lnTo>
                    <a:pt x="230" y="792"/>
                  </a:lnTo>
                  <a:lnTo>
                    <a:pt x="230" y="792"/>
                  </a:lnTo>
                  <a:lnTo>
                    <a:pt x="232" y="782"/>
                  </a:lnTo>
                  <a:lnTo>
                    <a:pt x="232" y="770"/>
                  </a:lnTo>
                  <a:lnTo>
                    <a:pt x="228" y="756"/>
                  </a:lnTo>
                  <a:lnTo>
                    <a:pt x="222" y="742"/>
                  </a:lnTo>
                  <a:lnTo>
                    <a:pt x="208" y="712"/>
                  </a:lnTo>
                  <a:lnTo>
                    <a:pt x="202" y="698"/>
                  </a:lnTo>
                  <a:lnTo>
                    <a:pt x="198" y="686"/>
                  </a:lnTo>
                  <a:lnTo>
                    <a:pt x="198" y="686"/>
                  </a:lnTo>
                  <a:lnTo>
                    <a:pt x="198" y="602"/>
                  </a:lnTo>
                  <a:lnTo>
                    <a:pt x="198" y="602"/>
                  </a:lnTo>
                  <a:lnTo>
                    <a:pt x="182" y="534"/>
                  </a:lnTo>
                  <a:lnTo>
                    <a:pt x="160" y="442"/>
                  </a:lnTo>
                  <a:lnTo>
                    <a:pt x="148" y="396"/>
                  </a:lnTo>
                  <a:lnTo>
                    <a:pt x="136" y="354"/>
                  </a:lnTo>
                  <a:lnTo>
                    <a:pt x="122" y="320"/>
                  </a:lnTo>
                  <a:lnTo>
                    <a:pt x="116" y="308"/>
                  </a:lnTo>
                  <a:lnTo>
                    <a:pt x="110" y="298"/>
                  </a:lnTo>
                  <a:lnTo>
                    <a:pt x="110" y="298"/>
                  </a:lnTo>
                  <a:lnTo>
                    <a:pt x="112" y="260"/>
                  </a:lnTo>
                  <a:lnTo>
                    <a:pt x="116" y="242"/>
                  </a:lnTo>
                  <a:lnTo>
                    <a:pt x="118" y="228"/>
                  </a:lnTo>
                  <a:lnTo>
                    <a:pt x="118" y="228"/>
                  </a:lnTo>
                  <a:lnTo>
                    <a:pt x="208" y="208"/>
                  </a:lnTo>
                  <a:lnTo>
                    <a:pt x="258" y="198"/>
                  </a:lnTo>
                  <a:lnTo>
                    <a:pt x="308" y="186"/>
                  </a:lnTo>
                  <a:lnTo>
                    <a:pt x="356" y="172"/>
                  </a:lnTo>
                  <a:lnTo>
                    <a:pt x="400" y="156"/>
                  </a:lnTo>
                  <a:lnTo>
                    <a:pt x="420" y="148"/>
                  </a:lnTo>
                  <a:lnTo>
                    <a:pt x="438" y="138"/>
                  </a:lnTo>
                  <a:lnTo>
                    <a:pt x="456" y="126"/>
                  </a:lnTo>
                  <a:lnTo>
                    <a:pt x="470" y="114"/>
                  </a:lnTo>
                  <a:lnTo>
                    <a:pt x="470" y="114"/>
                  </a:lnTo>
                  <a:lnTo>
                    <a:pt x="486" y="114"/>
                  </a:lnTo>
                  <a:lnTo>
                    <a:pt x="486" y="114"/>
                  </a:lnTo>
                  <a:lnTo>
                    <a:pt x="488" y="150"/>
                  </a:lnTo>
                  <a:lnTo>
                    <a:pt x="490" y="188"/>
                  </a:lnTo>
                  <a:lnTo>
                    <a:pt x="498" y="268"/>
                  </a:lnTo>
                  <a:lnTo>
                    <a:pt x="502" y="308"/>
                  </a:lnTo>
                  <a:lnTo>
                    <a:pt x="502" y="350"/>
                  </a:lnTo>
                  <a:lnTo>
                    <a:pt x="500" y="388"/>
                  </a:lnTo>
                  <a:lnTo>
                    <a:pt x="498" y="408"/>
                  </a:lnTo>
                  <a:lnTo>
                    <a:pt x="494" y="426"/>
                  </a:lnTo>
                  <a:lnTo>
                    <a:pt x="494" y="426"/>
                  </a:lnTo>
                  <a:lnTo>
                    <a:pt x="482" y="478"/>
                  </a:lnTo>
                  <a:lnTo>
                    <a:pt x="478" y="508"/>
                  </a:lnTo>
                  <a:lnTo>
                    <a:pt x="474" y="538"/>
                  </a:lnTo>
                  <a:lnTo>
                    <a:pt x="472" y="570"/>
                  </a:lnTo>
                  <a:lnTo>
                    <a:pt x="470" y="602"/>
                  </a:lnTo>
                  <a:lnTo>
                    <a:pt x="472" y="634"/>
                  </a:lnTo>
                  <a:lnTo>
                    <a:pt x="478" y="664"/>
                  </a:lnTo>
                  <a:lnTo>
                    <a:pt x="478" y="664"/>
                  </a:lnTo>
                  <a:lnTo>
                    <a:pt x="492" y="724"/>
                  </a:lnTo>
                  <a:lnTo>
                    <a:pt x="498" y="756"/>
                  </a:lnTo>
                  <a:lnTo>
                    <a:pt x="502" y="784"/>
                  </a:lnTo>
                  <a:lnTo>
                    <a:pt x="502" y="784"/>
                  </a:lnTo>
                  <a:lnTo>
                    <a:pt x="504" y="822"/>
                  </a:lnTo>
                  <a:lnTo>
                    <a:pt x="506" y="866"/>
                  </a:lnTo>
                  <a:lnTo>
                    <a:pt x="506" y="916"/>
                  </a:lnTo>
                  <a:lnTo>
                    <a:pt x="504" y="966"/>
                  </a:lnTo>
                  <a:lnTo>
                    <a:pt x="502" y="1016"/>
                  </a:lnTo>
                  <a:lnTo>
                    <a:pt x="496" y="1060"/>
                  </a:lnTo>
                  <a:lnTo>
                    <a:pt x="488" y="1096"/>
                  </a:lnTo>
                  <a:lnTo>
                    <a:pt x="484" y="1110"/>
                  </a:lnTo>
                  <a:lnTo>
                    <a:pt x="478" y="1120"/>
                  </a:lnTo>
                  <a:lnTo>
                    <a:pt x="478" y="1120"/>
                  </a:lnTo>
                  <a:lnTo>
                    <a:pt x="480" y="1154"/>
                  </a:lnTo>
                  <a:lnTo>
                    <a:pt x="482" y="1168"/>
                  </a:lnTo>
                  <a:lnTo>
                    <a:pt x="486" y="1182"/>
                  </a:lnTo>
                  <a:lnTo>
                    <a:pt x="486" y="1182"/>
                  </a:lnTo>
                  <a:lnTo>
                    <a:pt x="532" y="1190"/>
                  </a:lnTo>
                  <a:lnTo>
                    <a:pt x="584" y="1198"/>
                  </a:lnTo>
                  <a:lnTo>
                    <a:pt x="638" y="1202"/>
                  </a:lnTo>
                  <a:lnTo>
                    <a:pt x="696" y="1204"/>
                  </a:lnTo>
                  <a:lnTo>
                    <a:pt x="754" y="1202"/>
                  </a:lnTo>
                  <a:lnTo>
                    <a:pt x="812" y="1198"/>
                  </a:lnTo>
                  <a:lnTo>
                    <a:pt x="868" y="1192"/>
                  </a:lnTo>
                  <a:lnTo>
                    <a:pt x="924" y="1182"/>
                  </a:lnTo>
                  <a:lnTo>
                    <a:pt x="924" y="1182"/>
                  </a:lnTo>
                  <a:lnTo>
                    <a:pt x="942" y="1178"/>
                  </a:lnTo>
                  <a:lnTo>
                    <a:pt x="964" y="1178"/>
                  </a:lnTo>
                  <a:lnTo>
                    <a:pt x="1004" y="1178"/>
                  </a:lnTo>
                  <a:lnTo>
                    <a:pt x="1024" y="1178"/>
                  </a:lnTo>
                  <a:lnTo>
                    <a:pt x="1042" y="1176"/>
                  </a:lnTo>
                  <a:lnTo>
                    <a:pt x="1060" y="1172"/>
                  </a:lnTo>
                  <a:lnTo>
                    <a:pt x="1076" y="1166"/>
                  </a:lnTo>
                  <a:lnTo>
                    <a:pt x="1076" y="1166"/>
                  </a:lnTo>
                  <a:lnTo>
                    <a:pt x="1090" y="1160"/>
                  </a:lnTo>
                  <a:lnTo>
                    <a:pt x="1100" y="1152"/>
                  </a:lnTo>
                  <a:lnTo>
                    <a:pt x="1110" y="1142"/>
                  </a:lnTo>
                  <a:lnTo>
                    <a:pt x="1118" y="1130"/>
                  </a:lnTo>
                  <a:lnTo>
                    <a:pt x="1122" y="1118"/>
                  </a:lnTo>
                  <a:lnTo>
                    <a:pt x="1126" y="1104"/>
                  </a:lnTo>
                  <a:lnTo>
                    <a:pt x="1128" y="1090"/>
                  </a:lnTo>
                  <a:lnTo>
                    <a:pt x="1130" y="1074"/>
                  </a:lnTo>
                  <a:lnTo>
                    <a:pt x="1132" y="1042"/>
                  </a:lnTo>
                  <a:lnTo>
                    <a:pt x="1132" y="1008"/>
                  </a:lnTo>
                  <a:lnTo>
                    <a:pt x="1134" y="972"/>
                  </a:lnTo>
                  <a:lnTo>
                    <a:pt x="1136" y="954"/>
                  </a:lnTo>
                  <a:lnTo>
                    <a:pt x="1138" y="938"/>
                  </a:lnTo>
                  <a:lnTo>
                    <a:pt x="1138" y="938"/>
                  </a:lnTo>
                  <a:lnTo>
                    <a:pt x="1144" y="914"/>
                  </a:lnTo>
                  <a:lnTo>
                    <a:pt x="1146" y="890"/>
                  </a:lnTo>
                  <a:lnTo>
                    <a:pt x="1148" y="864"/>
                  </a:lnTo>
                  <a:lnTo>
                    <a:pt x="1148" y="838"/>
                  </a:lnTo>
                  <a:lnTo>
                    <a:pt x="1146" y="786"/>
                  </a:lnTo>
                  <a:lnTo>
                    <a:pt x="1142" y="732"/>
                  </a:lnTo>
                  <a:lnTo>
                    <a:pt x="1138" y="676"/>
                  </a:lnTo>
                  <a:lnTo>
                    <a:pt x="1136" y="622"/>
                  </a:lnTo>
                  <a:lnTo>
                    <a:pt x="1136" y="596"/>
                  </a:lnTo>
                  <a:lnTo>
                    <a:pt x="1138" y="570"/>
                  </a:lnTo>
                  <a:lnTo>
                    <a:pt x="1142" y="544"/>
                  </a:lnTo>
                  <a:lnTo>
                    <a:pt x="1146" y="518"/>
                  </a:lnTo>
                  <a:lnTo>
                    <a:pt x="1146" y="518"/>
                  </a:lnTo>
                  <a:lnTo>
                    <a:pt x="1156" y="470"/>
                  </a:lnTo>
                  <a:lnTo>
                    <a:pt x="1166" y="418"/>
                  </a:lnTo>
                  <a:lnTo>
                    <a:pt x="1176" y="368"/>
                  </a:lnTo>
                  <a:lnTo>
                    <a:pt x="1186" y="320"/>
                  </a:lnTo>
                  <a:lnTo>
                    <a:pt x="1186" y="320"/>
                  </a:lnTo>
                  <a:lnTo>
                    <a:pt x="1190" y="302"/>
                  </a:lnTo>
                  <a:lnTo>
                    <a:pt x="1194" y="282"/>
                  </a:lnTo>
                  <a:lnTo>
                    <a:pt x="1198" y="248"/>
                  </a:lnTo>
                  <a:lnTo>
                    <a:pt x="1200" y="234"/>
                  </a:lnTo>
                  <a:lnTo>
                    <a:pt x="1204" y="218"/>
                  </a:lnTo>
                  <a:lnTo>
                    <a:pt x="1210" y="204"/>
                  </a:lnTo>
                  <a:lnTo>
                    <a:pt x="1218" y="190"/>
                  </a:lnTo>
                  <a:lnTo>
                    <a:pt x="1218" y="190"/>
                  </a:lnTo>
                  <a:lnTo>
                    <a:pt x="1218" y="176"/>
                  </a:lnTo>
                  <a:lnTo>
                    <a:pt x="1218" y="176"/>
                  </a:lnTo>
                  <a:lnTo>
                    <a:pt x="1268" y="176"/>
                  </a:lnTo>
                  <a:lnTo>
                    <a:pt x="1322" y="178"/>
                  </a:lnTo>
                  <a:lnTo>
                    <a:pt x="1348" y="176"/>
                  </a:lnTo>
                  <a:lnTo>
                    <a:pt x="1372" y="172"/>
                  </a:lnTo>
                  <a:lnTo>
                    <a:pt x="1392" y="168"/>
                  </a:lnTo>
                  <a:lnTo>
                    <a:pt x="1410" y="160"/>
                  </a:lnTo>
                  <a:lnTo>
                    <a:pt x="1410" y="160"/>
                  </a:lnTo>
                  <a:lnTo>
                    <a:pt x="1450" y="160"/>
                  </a:lnTo>
                  <a:lnTo>
                    <a:pt x="1450" y="160"/>
                  </a:lnTo>
                  <a:lnTo>
                    <a:pt x="1446" y="178"/>
                  </a:lnTo>
                  <a:lnTo>
                    <a:pt x="1442" y="212"/>
                  </a:lnTo>
                  <a:lnTo>
                    <a:pt x="1434" y="306"/>
                  </a:lnTo>
                  <a:lnTo>
                    <a:pt x="1430" y="358"/>
                  </a:lnTo>
                  <a:lnTo>
                    <a:pt x="1430" y="406"/>
                  </a:lnTo>
                  <a:lnTo>
                    <a:pt x="1430" y="446"/>
                  </a:lnTo>
                  <a:lnTo>
                    <a:pt x="1434" y="472"/>
                  </a:lnTo>
                  <a:lnTo>
                    <a:pt x="1434" y="472"/>
                  </a:lnTo>
                  <a:lnTo>
                    <a:pt x="1438" y="486"/>
                  </a:lnTo>
                  <a:lnTo>
                    <a:pt x="1442" y="506"/>
                  </a:lnTo>
                  <a:lnTo>
                    <a:pt x="1444" y="528"/>
                  </a:lnTo>
                  <a:lnTo>
                    <a:pt x="1444" y="538"/>
                  </a:lnTo>
                  <a:lnTo>
                    <a:pt x="1442" y="548"/>
                  </a:lnTo>
                  <a:lnTo>
                    <a:pt x="1442" y="548"/>
                  </a:lnTo>
                  <a:lnTo>
                    <a:pt x="1434" y="584"/>
                  </a:lnTo>
                  <a:lnTo>
                    <a:pt x="1428" y="618"/>
                  </a:lnTo>
                  <a:lnTo>
                    <a:pt x="1424" y="652"/>
                  </a:lnTo>
                  <a:lnTo>
                    <a:pt x="1422" y="686"/>
                  </a:lnTo>
                  <a:lnTo>
                    <a:pt x="1422" y="720"/>
                  </a:lnTo>
                  <a:lnTo>
                    <a:pt x="1422" y="752"/>
                  </a:lnTo>
                  <a:lnTo>
                    <a:pt x="1426" y="818"/>
                  </a:lnTo>
                  <a:lnTo>
                    <a:pt x="1438" y="954"/>
                  </a:lnTo>
                  <a:lnTo>
                    <a:pt x="1442" y="1028"/>
                  </a:lnTo>
                  <a:lnTo>
                    <a:pt x="1442" y="1066"/>
                  </a:lnTo>
                  <a:lnTo>
                    <a:pt x="1442" y="1104"/>
                  </a:lnTo>
                  <a:lnTo>
                    <a:pt x="1442" y="1104"/>
                  </a:lnTo>
                  <a:lnTo>
                    <a:pt x="1438" y="1200"/>
                  </a:lnTo>
                  <a:lnTo>
                    <a:pt x="1438" y="1252"/>
                  </a:lnTo>
                  <a:lnTo>
                    <a:pt x="1438" y="1304"/>
                  </a:lnTo>
                  <a:lnTo>
                    <a:pt x="1438" y="1356"/>
                  </a:lnTo>
                  <a:lnTo>
                    <a:pt x="1442" y="1410"/>
                  </a:lnTo>
                  <a:lnTo>
                    <a:pt x="1448" y="1460"/>
                  </a:lnTo>
                  <a:lnTo>
                    <a:pt x="1458" y="1508"/>
                  </a:lnTo>
                  <a:lnTo>
                    <a:pt x="1458" y="1508"/>
                  </a:lnTo>
                  <a:lnTo>
                    <a:pt x="1466" y="1790"/>
                  </a:lnTo>
                  <a:lnTo>
                    <a:pt x="1466" y="1790"/>
                  </a:lnTo>
                  <a:lnTo>
                    <a:pt x="1496" y="1912"/>
                  </a:lnTo>
                  <a:lnTo>
                    <a:pt x="1510" y="1974"/>
                  </a:lnTo>
                  <a:lnTo>
                    <a:pt x="1524" y="2038"/>
                  </a:lnTo>
                  <a:lnTo>
                    <a:pt x="1536" y="2104"/>
                  </a:lnTo>
                  <a:lnTo>
                    <a:pt x="1546" y="2172"/>
                  </a:lnTo>
                  <a:lnTo>
                    <a:pt x="1556" y="2240"/>
                  </a:lnTo>
                  <a:lnTo>
                    <a:pt x="1562" y="2308"/>
                  </a:lnTo>
                  <a:lnTo>
                    <a:pt x="1562" y="2308"/>
                  </a:lnTo>
                  <a:lnTo>
                    <a:pt x="1494" y="2312"/>
                  </a:lnTo>
                  <a:lnTo>
                    <a:pt x="1406" y="2320"/>
                  </a:lnTo>
                  <a:lnTo>
                    <a:pt x="1362" y="2324"/>
                  </a:lnTo>
                  <a:lnTo>
                    <a:pt x="1322" y="2330"/>
                  </a:lnTo>
                  <a:lnTo>
                    <a:pt x="1288" y="2338"/>
                  </a:lnTo>
                  <a:lnTo>
                    <a:pt x="1276" y="2342"/>
                  </a:lnTo>
                  <a:lnTo>
                    <a:pt x="1266" y="2348"/>
                  </a:lnTo>
                  <a:lnTo>
                    <a:pt x="1266" y="23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Freeform 12"/>
            <p:cNvSpPr/>
            <p:nvPr/>
          </p:nvSpPr>
          <p:spPr>
            <a:xfrm>
              <a:off x="13568400" y="5200560"/>
              <a:ext cx="2101680" cy="4029120"/>
            </a:xfrm>
            <a:custGeom>
              <a:avLst/>
              <a:gdLst>
                <a:gd name="textAreaLeft" fmla="*/ 0 w 2101680"/>
                <a:gd name="textAreaRight" fmla="*/ 2102040 w 2101680"/>
                <a:gd name="textAreaTop" fmla="*/ 0 h 4029120"/>
                <a:gd name="textAreaBottom" fmla="*/ 4029480 h 4029120"/>
              </a:gdLst>
              <a:ahLst/>
              <a:rect l="textAreaLeft" t="textAreaTop" r="textAreaRight" b="textAreaBottom"/>
              <a:pathLst>
                <a:path w="1324" h="2538">
                  <a:moveTo>
                    <a:pt x="780" y="1258"/>
                  </a:moveTo>
                  <a:lnTo>
                    <a:pt x="780" y="1258"/>
                  </a:lnTo>
                  <a:lnTo>
                    <a:pt x="780" y="1242"/>
                  </a:lnTo>
                  <a:lnTo>
                    <a:pt x="780" y="1242"/>
                  </a:lnTo>
                  <a:lnTo>
                    <a:pt x="810" y="1228"/>
                  </a:lnTo>
                  <a:lnTo>
                    <a:pt x="838" y="1212"/>
                  </a:lnTo>
                  <a:lnTo>
                    <a:pt x="866" y="1194"/>
                  </a:lnTo>
                  <a:lnTo>
                    <a:pt x="892" y="1172"/>
                  </a:lnTo>
                  <a:lnTo>
                    <a:pt x="918" y="1150"/>
                  </a:lnTo>
                  <a:lnTo>
                    <a:pt x="944" y="1124"/>
                  </a:lnTo>
                  <a:lnTo>
                    <a:pt x="970" y="1098"/>
                  </a:lnTo>
                  <a:lnTo>
                    <a:pt x="992" y="1070"/>
                  </a:lnTo>
                  <a:lnTo>
                    <a:pt x="1016" y="1040"/>
                  </a:lnTo>
                  <a:lnTo>
                    <a:pt x="1038" y="1010"/>
                  </a:lnTo>
                  <a:lnTo>
                    <a:pt x="1058" y="978"/>
                  </a:lnTo>
                  <a:lnTo>
                    <a:pt x="1076" y="944"/>
                  </a:lnTo>
                  <a:lnTo>
                    <a:pt x="1094" y="910"/>
                  </a:lnTo>
                  <a:lnTo>
                    <a:pt x="1110" y="874"/>
                  </a:lnTo>
                  <a:lnTo>
                    <a:pt x="1126" y="838"/>
                  </a:lnTo>
                  <a:lnTo>
                    <a:pt x="1140" y="800"/>
                  </a:lnTo>
                  <a:lnTo>
                    <a:pt x="1150" y="762"/>
                  </a:lnTo>
                  <a:lnTo>
                    <a:pt x="1160" y="724"/>
                  </a:lnTo>
                  <a:lnTo>
                    <a:pt x="1168" y="686"/>
                  </a:lnTo>
                  <a:lnTo>
                    <a:pt x="1174" y="646"/>
                  </a:lnTo>
                  <a:lnTo>
                    <a:pt x="1178" y="608"/>
                  </a:lnTo>
                  <a:lnTo>
                    <a:pt x="1180" y="568"/>
                  </a:lnTo>
                  <a:lnTo>
                    <a:pt x="1180" y="530"/>
                  </a:lnTo>
                  <a:lnTo>
                    <a:pt x="1178" y="490"/>
                  </a:lnTo>
                  <a:lnTo>
                    <a:pt x="1174" y="452"/>
                  </a:lnTo>
                  <a:lnTo>
                    <a:pt x="1166" y="414"/>
                  </a:lnTo>
                  <a:lnTo>
                    <a:pt x="1156" y="376"/>
                  </a:lnTo>
                  <a:lnTo>
                    <a:pt x="1144" y="338"/>
                  </a:lnTo>
                  <a:lnTo>
                    <a:pt x="1130" y="302"/>
                  </a:lnTo>
                  <a:lnTo>
                    <a:pt x="1112" y="266"/>
                  </a:lnTo>
                  <a:lnTo>
                    <a:pt x="1090" y="232"/>
                  </a:lnTo>
                  <a:lnTo>
                    <a:pt x="1068" y="198"/>
                  </a:lnTo>
                  <a:lnTo>
                    <a:pt x="1068" y="198"/>
                  </a:lnTo>
                  <a:lnTo>
                    <a:pt x="1050" y="178"/>
                  </a:lnTo>
                  <a:lnTo>
                    <a:pt x="1032" y="158"/>
                  </a:lnTo>
                  <a:lnTo>
                    <a:pt x="1012" y="142"/>
                  </a:lnTo>
                  <a:lnTo>
                    <a:pt x="990" y="126"/>
                  </a:lnTo>
                  <a:lnTo>
                    <a:pt x="968" y="112"/>
                  </a:lnTo>
                  <a:lnTo>
                    <a:pt x="944" y="100"/>
                  </a:lnTo>
                  <a:lnTo>
                    <a:pt x="918" y="88"/>
                  </a:lnTo>
                  <a:lnTo>
                    <a:pt x="892" y="78"/>
                  </a:lnTo>
                  <a:lnTo>
                    <a:pt x="838" y="60"/>
                  </a:lnTo>
                  <a:lnTo>
                    <a:pt x="780" y="44"/>
                  </a:lnTo>
                  <a:lnTo>
                    <a:pt x="654" y="16"/>
                  </a:lnTo>
                  <a:lnTo>
                    <a:pt x="654" y="16"/>
                  </a:lnTo>
                  <a:lnTo>
                    <a:pt x="632" y="12"/>
                  </a:lnTo>
                  <a:lnTo>
                    <a:pt x="610" y="10"/>
                  </a:lnTo>
                  <a:lnTo>
                    <a:pt x="564" y="10"/>
                  </a:lnTo>
                  <a:lnTo>
                    <a:pt x="518" y="8"/>
                  </a:lnTo>
                  <a:lnTo>
                    <a:pt x="498" y="6"/>
                  </a:lnTo>
                  <a:lnTo>
                    <a:pt x="478" y="0"/>
                  </a:lnTo>
                  <a:lnTo>
                    <a:pt x="478" y="0"/>
                  </a:lnTo>
                  <a:lnTo>
                    <a:pt x="464" y="6"/>
                  </a:lnTo>
                  <a:lnTo>
                    <a:pt x="450" y="12"/>
                  </a:lnTo>
                  <a:lnTo>
                    <a:pt x="434" y="14"/>
                  </a:lnTo>
                  <a:lnTo>
                    <a:pt x="416" y="16"/>
                  </a:lnTo>
                  <a:lnTo>
                    <a:pt x="382" y="18"/>
                  </a:lnTo>
                  <a:lnTo>
                    <a:pt x="366" y="20"/>
                  </a:lnTo>
                  <a:lnTo>
                    <a:pt x="350" y="24"/>
                  </a:lnTo>
                  <a:lnTo>
                    <a:pt x="350" y="24"/>
                  </a:lnTo>
                  <a:lnTo>
                    <a:pt x="314" y="36"/>
                  </a:lnTo>
                  <a:lnTo>
                    <a:pt x="276" y="52"/>
                  </a:lnTo>
                  <a:lnTo>
                    <a:pt x="240" y="70"/>
                  </a:lnTo>
                  <a:lnTo>
                    <a:pt x="204" y="88"/>
                  </a:lnTo>
                  <a:lnTo>
                    <a:pt x="170" y="110"/>
                  </a:lnTo>
                  <a:lnTo>
                    <a:pt x="140" y="134"/>
                  </a:lnTo>
                  <a:lnTo>
                    <a:pt x="112" y="158"/>
                  </a:lnTo>
                  <a:lnTo>
                    <a:pt x="88" y="184"/>
                  </a:lnTo>
                  <a:lnTo>
                    <a:pt x="88" y="184"/>
                  </a:lnTo>
                  <a:lnTo>
                    <a:pt x="72" y="180"/>
                  </a:lnTo>
                  <a:lnTo>
                    <a:pt x="64" y="176"/>
                  </a:lnTo>
                  <a:lnTo>
                    <a:pt x="64" y="176"/>
                  </a:lnTo>
                  <a:lnTo>
                    <a:pt x="24" y="176"/>
                  </a:lnTo>
                  <a:lnTo>
                    <a:pt x="24" y="176"/>
                  </a:lnTo>
                  <a:lnTo>
                    <a:pt x="14" y="234"/>
                  </a:lnTo>
                  <a:lnTo>
                    <a:pt x="6" y="294"/>
                  </a:lnTo>
                  <a:lnTo>
                    <a:pt x="2" y="354"/>
                  </a:lnTo>
                  <a:lnTo>
                    <a:pt x="0" y="416"/>
                  </a:lnTo>
                  <a:lnTo>
                    <a:pt x="0" y="476"/>
                  </a:lnTo>
                  <a:lnTo>
                    <a:pt x="2" y="538"/>
                  </a:lnTo>
                  <a:lnTo>
                    <a:pt x="8" y="662"/>
                  </a:lnTo>
                  <a:lnTo>
                    <a:pt x="18" y="784"/>
                  </a:lnTo>
                  <a:lnTo>
                    <a:pt x="28" y="906"/>
                  </a:lnTo>
                  <a:lnTo>
                    <a:pt x="36" y="1026"/>
                  </a:lnTo>
                  <a:lnTo>
                    <a:pt x="38" y="1086"/>
                  </a:lnTo>
                  <a:lnTo>
                    <a:pt x="40" y="1144"/>
                  </a:lnTo>
                  <a:lnTo>
                    <a:pt x="40" y="1144"/>
                  </a:lnTo>
                  <a:lnTo>
                    <a:pt x="40" y="1784"/>
                  </a:lnTo>
                  <a:lnTo>
                    <a:pt x="40" y="1784"/>
                  </a:lnTo>
                  <a:lnTo>
                    <a:pt x="30" y="1914"/>
                  </a:lnTo>
                  <a:lnTo>
                    <a:pt x="28" y="1982"/>
                  </a:lnTo>
                  <a:lnTo>
                    <a:pt x="30" y="2012"/>
                  </a:lnTo>
                  <a:lnTo>
                    <a:pt x="32" y="2036"/>
                  </a:lnTo>
                  <a:lnTo>
                    <a:pt x="32" y="2036"/>
                  </a:lnTo>
                  <a:lnTo>
                    <a:pt x="34" y="2056"/>
                  </a:lnTo>
                  <a:lnTo>
                    <a:pt x="34" y="2078"/>
                  </a:lnTo>
                  <a:lnTo>
                    <a:pt x="34" y="2102"/>
                  </a:lnTo>
                  <a:lnTo>
                    <a:pt x="30" y="2126"/>
                  </a:lnTo>
                  <a:lnTo>
                    <a:pt x="24" y="2172"/>
                  </a:lnTo>
                  <a:lnTo>
                    <a:pt x="16" y="2210"/>
                  </a:lnTo>
                  <a:lnTo>
                    <a:pt x="16" y="2210"/>
                  </a:lnTo>
                  <a:lnTo>
                    <a:pt x="12" y="2240"/>
                  </a:lnTo>
                  <a:lnTo>
                    <a:pt x="8" y="2272"/>
                  </a:lnTo>
                  <a:lnTo>
                    <a:pt x="8" y="2306"/>
                  </a:lnTo>
                  <a:lnTo>
                    <a:pt x="10" y="2340"/>
                  </a:lnTo>
                  <a:lnTo>
                    <a:pt x="18" y="2406"/>
                  </a:lnTo>
                  <a:lnTo>
                    <a:pt x="24" y="2462"/>
                  </a:lnTo>
                  <a:lnTo>
                    <a:pt x="24" y="2462"/>
                  </a:lnTo>
                  <a:lnTo>
                    <a:pt x="54" y="2474"/>
                  </a:lnTo>
                  <a:lnTo>
                    <a:pt x="84" y="2484"/>
                  </a:lnTo>
                  <a:lnTo>
                    <a:pt x="116" y="2490"/>
                  </a:lnTo>
                  <a:lnTo>
                    <a:pt x="150" y="2498"/>
                  </a:lnTo>
                  <a:lnTo>
                    <a:pt x="222" y="2510"/>
                  </a:lnTo>
                  <a:lnTo>
                    <a:pt x="294" y="2524"/>
                  </a:lnTo>
                  <a:lnTo>
                    <a:pt x="294" y="2524"/>
                  </a:lnTo>
                  <a:lnTo>
                    <a:pt x="422" y="2524"/>
                  </a:lnTo>
                  <a:lnTo>
                    <a:pt x="422" y="2524"/>
                  </a:lnTo>
                  <a:lnTo>
                    <a:pt x="454" y="2530"/>
                  </a:lnTo>
                  <a:lnTo>
                    <a:pt x="488" y="2534"/>
                  </a:lnTo>
                  <a:lnTo>
                    <a:pt x="520" y="2538"/>
                  </a:lnTo>
                  <a:lnTo>
                    <a:pt x="552" y="2538"/>
                  </a:lnTo>
                  <a:lnTo>
                    <a:pt x="586" y="2538"/>
                  </a:lnTo>
                  <a:lnTo>
                    <a:pt x="618" y="2538"/>
                  </a:lnTo>
                  <a:lnTo>
                    <a:pt x="650" y="2534"/>
                  </a:lnTo>
                  <a:lnTo>
                    <a:pt x="682" y="2530"/>
                  </a:lnTo>
                  <a:lnTo>
                    <a:pt x="714" y="2524"/>
                  </a:lnTo>
                  <a:lnTo>
                    <a:pt x="746" y="2518"/>
                  </a:lnTo>
                  <a:lnTo>
                    <a:pt x="776" y="2510"/>
                  </a:lnTo>
                  <a:lnTo>
                    <a:pt x="808" y="2500"/>
                  </a:lnTo>
                  <a:lnTo>
                    <a:pt x="868" y="2480"/>
                  </a:lnTo>
                  <a:lnTo>
                    <a:pt x="926" y="2454"/>
                  </a:lnTo>
                  <a:lnTo>
                    <a:pt x="980" y="2426"/>
                  </a:lnTo>
                  <a:lnTo>
                    <a:pt x="1032" y="2394"/>
                  </a:lnTo>
                  <a:lnTo>
                    <a:pt x="1080" y="2360"/>
                  </a:lnTo>
                  <a:lnTo>
                    <a:pt x="1124" y="2324"/>
                  </a:lnTo>
                  <a:lnTo>
                    <a:pt x="1164" y="2288"/>
                  </a:lnTo>
                  <a:lnTo>
                    <a:pt x="1198" y="2250"/>
                  </a:lnTo>
                  <a:lnTo>
                    <a:pt x="1228" y="2212"/>
                  </a:lnTo>
                  <a:lnTo>
                    <a:pt x="1240" y="2192"/>
                  </a:lnTo>
                  <a:lnTo>
                    <a:pt x="1250" y="2172"/>
                  </a:lnTo>
                  <a:lnTo>
                    <a:pt x="1250" y="2172"/>
                  </a:lnTo>
                  <a:lnTo>
                    <a:pt x="1264" y="2144"/>
                  </a:lnTo>
                  <a:lnTo>
                    <a:pt x="1276" y="2110"/>
                  </a:lnTo>
                  <a:lnTo>
                    <a:pt x="1286" y="2076"/>
                  </a:lnTo>
                  <a:lnTo>
                    <a:pt x="1294" y="2038"/>
                  </a:lnTo>
                  <a:lnTo>
                    <a:pt x="1300" y="2002"/>
                  </a:lnTo>
                  <a:lnTo>
                    <a:pt x="1304" y="1964"/>
                  </a:lnTo>
                  <a:lnTo>
                    <a:pt x="1306" y="1930"/>
                  </a:lnTo>
                  <a:lnTo>
                    <a:pt x="1306" y="1898"/>
                  </a:lnTo>
                  <a:lnTo>
                    <a:pt x="1306" y="1898"/>
                  </a:lnTo>
                  <a:lnTo>
                    <a:pt x="1308" y="1872"/>
                  </a:lnTo>
                  <a:lnTo>
                    <a:pt x="1314" y="1842"/>
                  </a:lnTo>
                  <a:lnTo>
                    <a:pt x="1322" y="1800"/>
                  </a:lnTo>
                  <a:lnTo>
                    <a:pt x="1322" y="1800"/>
                  </a:lnTo>
                  <a:lnTo>
                    <a:pt x="1324" y="1782"/>
                  </a:lnTo>
                  <a:lnTo>
                    <a:pt x="1322" y="1762"/>
                  </a:lnTo>
                  <a:lnTo>
                    <a:pt x="1316" y="1720"/>
                  </a:lnTo>
                  <a:lnTo>
                    <a:pt x="1308" y="1678"/>
                  </a:lnTo>
                  <a:lnTo>
                    <a:pt x="1298" y="1646"/>
                  </a:lnTo>
                  <a:lnTo>
                    <a:pt x="1298" y="1646"/>
                  </a:lnTo>
                  <a:lnTo>
                    <a:pt x="1286" y="1602"/>
                  </a:lnTo>
                  <a:lnTo>
                    <a:pt x="1270" y="1562"/>
                  </a:lnTo>
                  <a:lnTo>
                    <a:pt x="1250" y="1524"/>
                  </a:lnTo>
                  <a:lnTo>
                    <a:pt x="1230" y="1488"/>
                  </a:lnTo>
                  <a:lnTo>
                    <a:pt x="1206" y="1454"/>
                  </a:lnTo>
                  <a:lnTo>
                    <a:pt x="1180" y="1424"/>
                  </a:lnTo>
                  <a:lnTo>
                    <a:pt x="1152" y="1396"/>
                  </a:lnTo>
                  <a:lnTo>
                    <a:pt x="1122" y="1372"/>
                  </a:lnTo>
                  <a:lnTo>
                    <a:pt x="1088" y="1348"/>
                  </a:lnTo>
                  <a:lnTo>
                    <a:pt x="1052" y="1328"/>
                  </a:lnTo>
                  <a:lnTo>
                    <a:pt x="1014" y="1310"/>
                  </a:lnTo>
                  <a:lnTo>
                    <a:pt x="972" y="1296"/>
                  </a:lnTo>
                  <a:lnTo>
                    <a:pt x="928" y="1282"/>
                  </a:lnTo>
                  <a:lnTo>
                    <a:pt x="882" y="1272"/>
                  </a:lnTo>
                  <a:lnTo>
                    <a:pt x="832" y="1264"/>
                  </a:lnTo>
                  <a:lnTo>
                    <a:pt x="780" y="1258"/>
                  </a:lnTo>
                  <a:lnTo>
                    <a:pt x="780" y="1258"/>
                  </a:lnTo>
                  <a:close/>
                  <a:moveTo>
                    <a:pt x="1204" y="1906"/>
                  </a:moveTo>
                  <a:lnTo>
                    <a:pt x="1204" y="1906"/>
                  </a:lnTo>
                  <a:lnTo>
                    <a:pt x="1194" y="1948"/>
                  </a:lnTo>
                  <a:lnTo>
                    <a:pt x="1188" y="1988"/>
                  </a:lnTo>
                  <a:lnTo>
                    <a:pt x="1174" y="2060"/>
                  </a:lnTo>
                  <a:lnTo>
                    <a:pt x="1166" y="2094"/>
                  </a:lnTo>
                  <a:lnTo>
                    <a:pt x="1156" y="2126"/>
                  </a:lnTo>
                  <a:lnTo>
                    <a:pt x="1142" y="2158"/>
                  </a:lnTo>
                  <a:lnTo>
                    <a:pt x="1134" y="2172"/>
                  </a:lnTo>
                  <a:lnTo>
                    <a:pt x="1124" y="2188"/>
                  </a:lnTo>
                  <a:lnTo>
                    <a:pt x="1124" y="2188"/>
                  </a:lnTo>
                  <a:lnTo>
                    <a:pt x="1102" y="2216"/>
                  </a:lnTo>
                  <a:lnTo>
                    <a:pt x="1074" y="2242"/>
                  </a:lnTo>
                  <a:lnTo>
                    <a:pt x="1044" y="2270"/>
                  </a:lnTo>
                  <a:lnTo>
                    <a:pt x="1008" y="2294"/>
                  </a:lnTo>
                  <a:lnTo>
                    <a:pt x="970" y="2320"/>
                  </a:lnTo>
                  <a:lnTo>
                    <a:pt x="930" y="2342"/>
                  </a:lnTo>
                  <a:lnTo>
                    <a:pt x="886" y="2364"/>
                  </a:lnTo>
                  <a:lnTo>
                    <a:pt x="840" y="2384"/>
                  </a:lnTo>
                  <a:lnTo>
                    <a:pt x="792" y="2402"/>
                  </a:lnTo>
                  <a:lnTo>
                    <a:pt x="744" y="2416"/>
                  </a:lnTo>
                  <a:lnTo>
                    <a:pt x="694" y="2428"/>
                  </a:lnTo>
                  <a:lnTo>
                    <a:pt x="646" y="2436"/>
                  </a:lnTo>
                  <a:lnTo>
                    <a:pt x="596" y="2440"/>
                  </a:lnTo>
                  <a:lnTo>
                    <a:pt x="548" y="2442"/>
                  </a:lnTo>
                  <a:lnTo>
                    <a:pt x="500" y="2440"/>
                  </a:lnTo>
                  <a:lnTo>
                    <a:pt x="476" y="2436"/>
                  </a:lnTo>
                  <a:lnTo>
                    <a:pt x="454" y="2432"/>
                  </a:lnTo>
                  <a:lnTo>
                    <a:pt x="454" y="2432"/>
                  </a:lnTo>
                  <a:lnTo>
                    <a:pt x="434" y="2428"/>
                  </a:lnTo>
                  <a:lnTo>
                    <a:pt x="412" y="2426"/>
                  </a:lnTo>
                  <a:lnTo>
                    <a:pt x="368" y="2424"/>
                  </a:lnTo>
                  <a:lnTo>
                    <a:pt x="324" y="2424"/>
                  </a:lnTo>
                  <a:lnTo>
                    <a:pt x="280" y="2426"/>
                  </a:lnTo>
                  <a:lnTo>
                    <a:pt x="238" y="2428"/>
                  </a:lnTo>
                  <a:lnTo>
                    <a:pt x="198" y="2426"/>
                  </a:lnTo>
                  <a:lnTo>
                    <a:pt x="180" y="2424"/>
                  </a:lnTo>
                  <a:lnTo>
                    <a:pt x="164" y="2420"/>
                  </a:lnTo>
                  <a:lnTo>
                    <a:pt x="150" y="2416"/>
                  </a:lnTo>
                  <a:lnTo>
                    <a:pt x="136" y="2408"/>
                  </a:lnTo>
                  <a:lnTo>
                    <a:pt x="136" y="2408"/>
                  </a:lnTo>
                  <a:lnTo>
                    <a:pt x="112" y="2402"/>
                  </a:lnTo>
                  <a:lnTo>
                    <a:pt x="112" y="2402"/>
                  </a:lnTo>
                  <a:lnTo>
                    <a:pt x="112" y="2340"/>
                  </a:lnTo>
                  <a:lnTo>
                    <a:pt x="114" y="2278"/>
                  </a:lnTo>
                  <a:lnTo>
                    <a:pt x="120" y="2156"/>
                  </a:lnTo>
                  <a:lnTo>
                    <a:pt x="138" y="1918"/>
                  </a:lnTo>
                  <a:lnTo>
                    <a:pt x="144" y="1806"/>
                  </a:lnTo>
                  <a:lnTo>
                    <a:pt x="148" y="1696"/>
                  </a:lnTo>
                  <a:lnTo>
                    <a:pt x="148" y="1642"/>
                  </a:lnTo>
                  <a:lnTo>
                    <a:pt x="146" y="1592"/>
                  </a:lnTo>
                  <a:lnTo>
                    <a:pt x="142" y="1542"/>
                  </a:lnTo>
                  <a:lnTo>
                    <a:pt x="136" y="1494"/>
                  </a:lnTo>
                  <a:lnTo>
                    <a:pt x="136" y="1494"/>
                  </a:lnTo>
                  <a:lnTo>
                    <a:pt x="130" y="1454"/>
                  </a:lnTo>
                  <a:lnTo>
                    <a:pt x="130" y="1414"/>
                  </a:lnTo>
                  <a:lnTo>
                    <a:pt x="130" y="1378"/>
                  </a:lnTo>
                  <a:lnTo>
                    <a:pt x="134" y="1344"/>
                  </a:lnTo>
                  <a:lnTo>
                    <a:pt x="138" y="1270"/>
                  </a:lnTo>
                  <a:lnTo>
                    <a:pt x="138" y="1232"/>
                  </a:lnTo>
                  <a:lnTo>
                    <a:pt x="136" y="1190"/>
                  </a:lnTo>
                  <a:lnTo>
                    <a:pt x="136" y="1190"/>
                  </a:lnTo>
                  <a:lnTo>
                    <a:pt x="136" y="1076"/>
                  </a:lnTo>
                  <a:lnTo>
                    <a:pt x="136" y="1076"/>
                  </a:lnTo>
                  <a:lnTo>
                    <a:pt x="130" y="1042"/>
                  </a:lnTo>
                  <a:lnTo>
                    <a:pt x="128" y="1006"/>
                  </a:lnTo>
                  <a:lnTo>
                    <a:pt x="128" y="970"/>
                  </a:lnTo>
                  <a:lnTo>
                    <a:pt x="128" y="932"/>
                  </a:lnTo>
                  <a:lnTo>
                    <a:pt x="130" y="892"/>
                  </a:lnTo>
                  <a:lnTo>
                    <a:pt x="130" y="854"/>
                  </a:lnTo>
                  <a:lnTo>
                    <a:pt x="126" y="816"/>
                  </a:lnTo>
                  <a:lnTo>
                    <a:pt x="120" y="778"/>
                  </a:lnTo>
                  <a:lnTo>
                    <a:pt x="120" y="778"/>
                  </a:lnTo>
                  <a:lnTo>
                    <a:pt x="114" y="754"/>
                  </a:lnTo>
                  <a:lnTo>
                    <a:pt x="110" y="724"/>
                  </a:lnTo>
                  <a:lnTo>
                    <a:pt x="102" y="662"/>
                  </a:lnTo>
                  <a:lnTo>
                    <a:pt x="100" y="630"/>
                  </a:lnTo>
                  <a:lnTo>
                    <a:pt x="100" y="600"/>
                  </a:lnTo>
                  <a:lnTo>
                    <a:pt x="100" y="572"/>
                  </a:lnTo>
                  <a:lnTo>
                    <a:pt x="104" y="550"/>
                  </a:lnTo>
                  <a:lnTo>
                    <a:pt x="104" y="550"/>
                  </a:lnTo>
                  <a:lnTo>
                    <a:pt x="106" y="530"/>
                  </a:lnTo>
                  <a:lnTo>
                    <a:pt x="106" y="510"/>
                  </a:lnTo>
                  <a:lnTo>
                    <a:pt x="102" y="468"/>
                  </a:lnTo>
                  <a:lnTo>
                    <a:pt x="102" y="448"/>
                  </a:lnTo>
                  <a:lnTo>
                    <a:pt x="102" y="428"/>
                  </a:lnTo>
                  <a:lnTo>
                    <a:pt x="106" y="412"/>
                  </a:lnTo>
                  <a:lnTo>
                    <a:pt x="108" y="404"/>
                  </a:lnTo>
                  <a:lnTo>
                    <a:pt x="112" y="396"/>
                  </a:lnTo>
                  <a:lnTo>
                    <a:pt x="112" y="396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6" y="282"/>
                  </a:lnTo>
                  <a:lnTo>
                    <a:pt x="124" y="274"/>
                  </a:lnTo>
                  <a:lnTo>
                    <a:pt x="150" y="252"/>
                  </a:lnTo>
                  <a:lnTo>
                    <a:pt x="182" y="226"/>
                  </a:lnTo>
                  <a:lnTo>
                    <a:pt x="220" y="200"/>
                  </a:lnTo>
                  <a:lnTo>
                    <a:pt x="260" y="174"/>
                  </a:lnTo>
                  <a:lnTo>
                    <a:pt x="296" y="152"/>
                  </a:lnTo>
                  <a:lnTo>
                    <a:pt x="328" y="134"/>
                  </a:lnTo>
                  <a:lnTo>
                    <a:pt x="350" y="122"/>
                  </a:lnTo>
                  <a:lnTo>
                    <a:pt x="350" y="122"/>
                  </a:lnTo>
                  <a:lnTo>
                    <a:pt x="366" y="118"/>
                  </a:lnTo>
                  <a:lnTo>
                    <a:pt x="382" y="114"/>
                  </a:lnTo>
                  <a:lnTo>
                    <a:pt x="412" y="110"/>
                  </a:lnTo>
                  <a:lnTo>
                    <a:pt x="444" y="104"/>
                  </a:lnTo>
                  <a:lnTo>
                    <a:pt x="458" y="98"/>
                  </a:lnTo>
                  <a:lnTo>
                    <a:pt x="470" y="92"/>
                  </a:lnTo>
                  <a:lnTo>
                    <a:pt x="470" y="92"/>
                  </a:lnTo>
                  <a:lnTo>
                    <a:pt x="550" y="94"/>
                  </a:lnTo>
                  <a:lnTo>
                    <a:pt x="590" y="96"/>
                  </a:lnTo>
                  <a:lnTo>
                    <a:pt x="630" y="100"/>
                  </a:lnTo>
                  <a:lnTo>
                    <a:pt x="668" y="104"/>
                  </a:lnTo>
                  <a:lnTo>
                    <a:pt x="706" y="110"/>
                  </a:lnTo>
                  <a:lnTo>
                    <a:pt x="744" y="118"/>
                  </a:lnTo>
                  <a:lnTo>
                    <a:pt x="780" y="126"/>
                  </a:lnTo>
                  <a:lnTo>
                    <a:pt x="814" y="136"/>
                  </a:lnTo>
                  <a:lnTo>
                    <a:pt x="848" y="148"/>
                  </a:lnTo>
                  <a:lnTo>
                    <a:pt x="878" y="160"/>
                  </a:lnTo>
                  <a:lnTo>
                    <a:pt x="908" y="176"/>
                  </a:lnTo>
                  <a:lnTo>
                    <a:pt x="934" y="192"/>
                  </a:lnTo>
                  <a:lnTo>
                    <a:pt x="958" y="210"/>
                  </a:lnTo>
                  <a:lnTo>
                    <a:pt x="978" y="230"/>
                  </a:lnTo>
                  <a:lnTo>
                    <a:pt x="996" y="252"/>
                  </a:lnTo>
                  <a:lnTo>
                    <a:pt x="996" y="252"/>
                  </a:lnTo>
                  <a:lnTo>
                    <a:pt x="1010" y="274"/>
                  </a:lnTo>
                  <a:lnTo>
                    <a:pt x="1022" y="296"/>
                  </a:lnTo>
                  <a:lnTo>
                    <a:pt x="1034" y="318"/>
                  </a:lnTo>
                  <a:lnTo>
                    <a:pt x="1044" y="342"/>
                  </a:lnTo>
                  <a:lnTo>
                    <a:pt x="1052" y="366"/>
                  </a:lnTo>
                  <a:lnTo>
                    <a:pt x="1060" y="390"/>
                  </a:lnTo>
                  <a:lnTo>
                    <a:pt x="1066" y="416"/>
                  </a:lnTo>
                  <a:lnTo>
                    <a:pt x="1070" y="442"/>
                  </a:lnTo>
                  <a:lnTo>
                    <a:pt x="1074" y="468"/>
                  </a:lnTo>
                  <a:lnTo>
                    <a:pt x="1076" y="494"/>
                  </a:lnTo>
                  <a:lnTo>
                    <a:pt x="1078" y="548"/>
                  </a:lnTo>
                  <a:lnTo>
                    <a:pt x="1076" y="602"/>
                  </a:lnTo>
                  <a:lnTo>
                    <a:pt x="1070" y="658"/>
                  </a:lnTo>
                  <a:lnTo>
                    <a:pt x="1058" y="712"/>
                  </a:lnTo>
                  <a:lnTo>
                    <a:pt x="1044" y="764"/>
                  </a:lnTo>
                  <a:lnTo>
                    <a:pt x="1028" y="816"/>
                  </a:lnTo>
                  <a:lnTo>
                    <a:pt x="1006" y="864"/>
                  </a:lnTo>
                  <a:lnTo>
                    <a:pt x="984" y="910"/>
                  </a:lnTo>
                  <a:lnTo>
                    <a:pt x="958" y="954"/>
                  </a:lnTo>
                  <a:lnTo>
                    <a:pt x="930" y="994"/>
                  </a:lnTo>
                  <a:lnTo>
                    <a:pt x="900" y="1030"/>
                  </a:lnTo>
                  <a:lnTo>
                    <a:pt x="900" y="1030"/>
                  </a:lnTo>
                  <a:lnTo>
                    <a:pt x="882" y="1048"/>
                  </a:lnTo>
                  <a:lnTo>
                    <a:pt x="862" y="1066"/>
                  </a:lnTo>
                  <a:lnTo>
                    <a:pt x="840" y="1082"/>
                  </a:lnTo>
                  <a:lnTo>
                    <a:pt x="818" y="1098"/>
                  </a:lnTo>
                  <a:lnTo>
                    <a:pt x="772" y="1130"/>
                  </a:lnTo>
                  <a:lnTo>
                    <a:pt x="726" y="1160"/>
                  </a:lnTo>
                  <a:lnTo>
                    <a:pt x="726" y="1160"/>
                  </a:lnTo>
                  <a:lnTo>
                    <a:pt x="708" y="1172"/>
                  </a:lnTo>
                  <a:lnTo>
                    <a:pt x="692" y="1184"/>
                  </a:lnTo>
                  <a:lnTo>
                    <a:pt x="662" y="1214"/>
                  </a:lnTo>
                  <a:lnTo>
                    <a:pt x="646" y="1228"/>
                  </a:lnTo>
                  <a:lnTo>
                    <a:pt x="630" y="1240"/>
                  </a:lnTo>
                  <a:lnTo>
                    <a:pt x="610" y="1250"/>
                  </a:lnTo>
                  <a:lnTo>
                    <a:pt x="590" y="1258"/>
                  </a:lnTo>
                  <a:lnTo>
                    <a:pt x="590" y="1258"/>
                  </a:lnTo>
                  <a:lnTo>
                    <a:pt x="586" y="1268"/>
                  </a:lnTo>
                  <a:lnTo>
                    <a:pt x="582" y="1274"/>
                  </a:lnTo>
                  <a:lnTo>
                    <a:pt x="582" y="1274"/>
                  </a:lnTo>
                  <a:lnTo>
                    <a:pt x="584" y="1294"/>
                  </a:lnTo>
                  <a:lnTo>
                    <a:pt x="586" y="1310"/>
                  </a:lnTo>
                  <a:lnTo>
                    <a:pt x="590" y="1318"/>
                  </a:lnTo>
                  <a:lnTo>
                    <a:pt x="594" y="1324"/>
                  </a:lnTo>
                  <a:lnTo>
                    <a:pt x="598" y="1330"/>
                  </a:lnTo>
                  <a:lnTo>
                    <a:pt x="606" y="1334"/>
                  </a:lnTo>
                  <a:lnTo>
                    <a:pt x="606" y="1334"/>
                  </a:lnTo>
                  <a:lnTo>
                    <a:pt x="614" y="1338"/>
                  </a:lnTo>
                  <a:lnTo>
                    <a:pt x="622" y="1342"/>
                  </a:lnTo>
                  <a:lnTo>
                    <a:pt x="640" y="1344"/>
                  </a:lnTo>
                  <a:lnTo>
                    <a:pt x="662" y="1344"/>
                  </a:lnTo>
                  <a:lnTo>
                    <a:pt x="684" y="1342"/>
                  </a:lnTo>
                  <a:lnTo>
                    <a:pt x="730" y="1338"/>
                  </a:lnTo>
                  <a:lnTo>
                    <a:pt x="752" y="1338"/>
                  </a:lnTo>
                  <a:lnTo>
                    <a:pt x="772" y="1342"/>
                  </a:lnTo>
                  <a:lnTo>
                    <a:pt x="772" y="1342"/>
                  </a:lnTo>
                  <a:lnTo>
                    <a:pt x="806" y="1348"/>
                  </a:lnTo>
                  <a:lnTo>
                    <a:pt x="842" y="1356"/>
                  </a:lnTo>
                  <a:lnTo>
                    <a:pt x="880" y="1362"/>
                  </a:lnTo>
                  <a:lnTo>
                    <a:pt x="916" y="1372"/>
                  </a:lnTo>
                  <a:lnTo>
                    <a:pt x="916" y="1372"/>
                  </a:lnTo>
                  <a:lnTo>
                    <a:pt x="946" y="1382"/>
                  </a:lnTo>
                  <a:lnTo>
                    <a:pt x="974" y="1394"/>
                  </a:lnTo>
                  <a:lnTo>
                    <a:pt x="1002" y="1406"/>
                  </a:lnTo>
                  <a:lnTo>
                    <a:pt x="1026" y="1420"/>
                  </a:lnTo>
                  <a:lnTo>
                    <a:pt x="1050" y="1434"/>
                  </a:lnTo>
                  <a:lnTo>
                    <a:pt x="1072" y="1448"/>
                  </a:lnTo>
                  <a:lnTo>
                    <a:pt x="1092" y="1466"/>
                  </a:lnTo>
                  <a:lnTo>
                    <a:pt x="1110" y="1484"/>
                  </a:lnTo>
                  <a:lnTo>
                    <a:pt x="1126" y="1504"/>
                  </a:lnTo>
                  <a:lnTo>
                    <a:pt x="1142" y="1524"/>
                  </a:lnTo>
                  <a:lnTo>
                    <a:pt x="1156" y="1546"/>
                  </a:lnTo>
                  <a:lnTo>
                    <a:pt x="1170" y="1570"/>
                  </a:lnTo>
                  <a:lnTo>
                    <a:pt x="1182" y="1596"/>
                  </a:lnTo>
                  <a:lnTo>
                    <a:pt x="1192" y="1624"/>
                  </a:lnTo>
                  <a:lnTo>
                    <a:pt x="1202" y="1654"/>
                  </a:lnTo>
                  <a:lnTo>
                    <a:pt x="1212" y="1684"/>
                  </a:lnTo>
                  <a:lnTo>
                    <a:pt x="1212" y="1684"/>
                  </a:lnTo>
                  <a:lnTo>
                    <a:pt x="1216" y="1712"/>
                  </a:lnTo>
                  <a:lnTo>
                    <a:pt x="1220" y="1740"/>
                  </a:lnTo>
                  <a:lnTo>
                    <a:pt x="1220" y="1770"/>
                  </a:lnTo>
                  <a:lnTo>
                    <a:pt x="1220" y="1798"/>
                  </a:lnTo>
                  <a:lnTo>
                    <a:pt x="1216" y="1826"/>
                  </a:lnTo>
                  <a:lnTo>
                    <a:pt x="1214" y="1854"/>
                  </a:lnTo>
                  <a:lnTo>
                    <a:pt x="1204" y="1906"/>
                  </a:lnTo>
                  <a:lnTo>
                    <a:pt x="1204" y="19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Freeform 13"/>
            <p:cNvSpPr/>
            <p:nvPr/>
          </p:nvSpPr>
          <p:spPr>
            <a:xfrm>
              <a:off x="1601640" y="5213160"/>
              <a:ext cx="2305080" cy="3667320"/>
            </a:xfrm>
            <a:custGeom>
              <a:avLst/>
              <a:gdLst>
                <a:gd name="textAreaLeft" fmla="*/ 0 w 2305080"/>
                <a:gd name="textAreaRight" fmla="*/ 2305440 w 2305080"/>
                <a:gd name="textAreaTop" fmla="*/ 0 h 3667320"/>
                <a:gd name="textAreaBottom" fmla="*/ 3667680 h 3667320"/>
              </a:gdLst>
              <a:ahLst/>
              <a:rect l="textAreaLeft" t="textAreaTop" r="textAreaRight" b="textAreaBottom"/>
              <a:pathLst>
                <a:path w="1452" h="2310">
                  <a:moveTo>
                    <a:pt x="1348" y="1394"/>
                  </a:moveTo>
                  <a:lnTo>
                    <a:pt x="1348" y="1394"/>
                  </a:lnTo>
                  <a:lnTo>
                    <a:pt x="1338" y="1346"/>
                  </a:lnTo>
                  <a:lnTo>
                    <a:pt x="1332" y="1296"/>
                  </a:lnTo>
                  <a:lnTo>
                    <a:pt x="1328" y="1242"/>
                  </a:lnTo>
                  <a:lnTo>
                    <a:pt x="1328" y="1190"/>
                  </a:lnTo>
                  <a:lnTo>
                    <a:pt x="1328" y="1138"/>
                  </a:lnTo>
                  <a:lnTo>
                    <a:pt x="1328" y="1086"/>
                  </a:lnTo>
                  <a:lnTo>
                    <a:pt x="1332" y="990"/>
                  </a:lnTo>
                  <a:lnTo>
                    <a:pt x="1332" y="990"/>
                  </a:lnTo>
                  <a:lnTo>
                    <a:pt x="1332" y="952"/>
                  </a:lnTo>
                  <a:lnTo>
                    <a:pt x="1332" y="914"/>
                  </a:lnTo>
                  <a:lnTo>
                    <a:pt x="1328" y="840"/>
                  </a:lnTo>
                  <a:lnTo>
                    <a:pt x="1316" y="704"/>
                  </a:lnTo>
                  <a:lnTo>
                    <a:pt x="1312" y="638"/>
                  </a:lnTo>
                  <a:lnTo>
                    <a:pt x="1312" y="606"/>
                  </a:lnTo>
                  <a:lnTo>
                    <a:pt x="1312" y="572"/>
                  </a:lnTo>
                  <a:lnTo>
                    <a:pt x="1314" y="538"/>
                  </a:lnTo>
                  <a:lnTo>
                    <a:pt x="1318" y="504"/>
                  </a:lnTo>
                  <a:lnTo>
                    <a:pt x="1324" y="470"/>
                  </a:lnTo>
                  <a:lnTo>
                    <a:pt x="1332" y="434"/>
                  </a:lnTo>
                  <a:lnTo>
                    <a:pt x="1332" y="434"/>
                  </a:lnTo>
                  <a:lnTo>
                    <a:pt x="1334" y="424"/>
                  </a:lnTo>
                  <a:lnTo>
                    <a:pt x="1334" y="414"/>
                  </a:lnTo>
                  <a:lnTo>
                    <a:pt x="1332" y="392"/>
                  </a:lnTo>
                  <a:lnTo>
                    <a:pt x="1328" y="372"/>
                  </a:lnTo>
                  <a:lnTo>
                    <a:pt x="1324" y="358"/>
                  </a:lnTo>
                  <a:lnTo>
                    <a:pt x="1324" y="358"/>
                  </a:lnTo>
                  <a:lnTo>
                    <a:pt x="1320" y="332"/>
                  </a:lnTo>
                  <a:lnTo>
                    <a:pt x="1320" y="292"/>
                  </a:lnTo>
                  <a:lnTo>
                    <a:pt x="1320" y="244"/>
                  </a:lnTo>
                  <a:lnTo>
                    <a:pt x="1324" y="192"/>
                  </a:lnTo>
                  <a:lnTo>
                    <a:pt x="1332" y="98"/>
                  </a:lnTo>
                  <a:lnTo>
                    <a:pt x="1336" y="64"/>
                  </a:lnTo>
                  <a:lnTo>
                    <a:pt x="1340" y="46"/>
                  </a:lnTo>
                  <a:lnTo>
                    <a:pt x="1340" y="46"/>
                  </a:lnTo>
                  <a:lnTo>
                    <a:pt x="1300" y="46"/>
                  </a:lnTo>
                  <a:lnTo>
                    <a:pt x="1300" y="46"/>
                  </a:lnTo>
                  <a:lnTo>
                    <a:pt x="1282" y="54"/>
                  </a:lnTo>
                  <a:lnTo>
                    <a:pt x="1262" y="58"/>
                  </a:lnTo>
                  <a:lnTo>
                    <a:pt x="1238" y="62"/>
                  </a:lnTo>
                  <a:lnTo>
                    <a:pt x="1212" y="64"/>
                  </a:lnTo>
                  <a:lnTo>
                    <a:pt x="1158" y="62"/>
                  </a:lnTo>
                  <a:lnTo>
                    <a:pt x="1108" y="62"/>
                  </a:lnTo>
                  <a:lnTo>
                    <a:pt x="1108" y="62"/>
                  </a:lnTo>
                  <a:lnTo>
                    <a:pt x="1108" y="76"/>
                  </a:lnTo>
                  <a:lnTo>
                    <a:pt x="1108" y="76"/>
                  </a:lnTo>
                  <a:lnTo>
                    <a:pt x="1100" y="90"/>
                  </a:lnTo>
                  <a:lnTo>
                    <a:pt x="1094" y="104"/>
                  </a:lnTo>
                  <a:lnTo>
                    <a:pt x="1090" y="120"/>
                  </a:lnTo>
                  <a:lnTo>
                    <a:pt x="1088" y="134"/>
                  </a:lnTo>
                  <a:lnTo>
                    <a:pt x="1084" y="168"/>
                  </a:lnTo>
                  <a:lnTo>
                    <a:pt x="1080" y="188"/>
                  </a:lnTo>
                  <a:lnTo>
                    <a:pt x="1076" y="206"/>
                  </a:lnTo>
                  <a:lnTo>
                    <a:pt x="1076" y="206"/>
                  </a:lnTo>
                  <a:lnTo>
                    <a:pt x="1066" y="254"/>
                  </a:lnTo>
                  <a:lnTo>
                    <a:pt x="1056" y="304"/>
                  </a:lnTo>
                  <a:lnTo>
                    <a:pt x="1046" y="356"/>
                  </a:lnTo>
                  <a:lnTo>
                    <a:pt x="1036" y="404"/>
                  </a:lnTo>
                  <a:lnTo>
                    <a:pt x="1036" y="404"/>
                  </a:lnTo>
                  <a:lnTo>
                    <a:pt x="1032" y="430"/>
                  </a:lnTo>
                  <a:lnTo>
                    <a:pt x="1028" y="456"/>
                  </a:lnTo>
                  <a:lnTo>
                    <a:pt x="1026" y="482"/>
                  </a:lnTo>
                  <a:lnTo>
                    <a:pt x="1026" y="508"/>
                  </a:lnTo>
                  <a:lnTo>
                    <a:pt x="1028" y="562"/>
                  </a:lnTo>
                  <a:lnTo>
                    <a:pt x="1032" y="618"/>
                  </a:lnTo>
                  <a:lnTo>
                    <a:pt x="1036" y="672"/>
                  </a:lnTo>
                  <a:lnTo>
                    <a:pt x="1038" y="724"/>
                  </a:lnTo>
                  <a:lnTo>
                    <a:pt x="1038" y="750"/>
                  </a:lnTo>
                  <a:lnTo>
                    <a:pt x="1036" y="776"/>
                  </a:lnTo>
                  <a:lnTo>
                    <a:pt x="1034" y="800"/>
                  </a:lnTo>
                  <a:lnTo>
                    <a:pt x="1028" y="824"/>
                  </a:lnTo>
                  <a:lnTo>
                    <a:pt x="1028" y="824"/>
                  </a:lnTo>
                  <a:lnTo>
                    <a:pt x="1026" y="840"/>
                  </a:lnTo>
                  <a:lnTo>
                    <a:pt x="1024" y="858"/>
                  </a:lnTo>
                  <a:lnTo>
                    <a:pt x="1022" y="894"/>
                  </a:lnTo>
                  <a:lnTo>
                    <a:pt x="1022" y="928"/>
                  </a:lnTo>
                  <a:lnTo>
                    <a:pt x="1020" y="960"/>
                  </a:lnTo>
                  <a:lnTo>
                    <a:pt x="1018" y="976"/>
                  </a:lnTo>
                  <a:lnTo>
                    <a:pt x="1016" y="990"/>
                  </a:lnTo>
                  <a:lnTo>
                    <a:pt x="1012" y="1004"/>
                  </a:lnTo>
                  <a:lnTo>
                    <a:pt x="1008" y="1016"/>
                  </a:lnTo>
                  <a:lnTo>
                    <a:pt x="1000" y="1028"/>
                  </a:lnTo>
                  <a:lnTo>
                    <a:pt x="990" y="1038"/>
                  </a:lnTo>
                  <a:lnTo>
                    <a:pt x="980" y="1046"/>
                  </a:lnTo>
                  <a:lnTo>
                    <a:pt x="966" y="1052"/>
                  </a:lnTo>
                  <a:lnTo>
                    <a:pt x="966" y="1052"/>
                  </a:lnTo>
                  <a:lnTo>
                    <a:pt x="950" y="1058"/>
                  </a:lnTo>
                  <a:lnTo>
                    <a:pt x="932" y="1062"/>
                  </a:lnTo>
                  <a:lnTo>
                    <a:pt x="914" y="1064"/>
                  </a:lnTo>
                  <a:lnTo>
                    <a:pt x="894" y="1064"/>
                  </a:lnTo>
                  <a:lnTo>
                    <a:pt x="854" y="1064"/>
                  </a:lnTo>
                  <a:lnTo>
                    <a:pt x="832" y="1064"/>
                  </a:lnTo>
                  <a:lnTo>
                    <a:pt x="814" y="1068"/>
                  </a:lnTo>
                  <a:lnTo>
                    <a:pt x="814" y="1068"/>
                  </a:lnTo>
                  <a:lnTo>
                    <a:pt x="758" y="1078"/>
                  </a:lnTo>
                  <a:lnTo>
                    <a:pt x="702" y="1084"/>
                  </a:lnTo>
                  <a:lnTo>
                    <a:pt x="644" y="1088"/>
                  </a:lnTo>
                  <a:lnTo>
                    <a:pt x="586" y="1090"/>
                  </a:lnTo>
                  <a:lnTo>
                    <a:pt x="528" y="1088"/>
                  </a:lnTo>
                  <a:lnTo>
                    <a:pt x="474" y="1084"/>
                  </a:lnTo>
                  <a:lnTo>
                    <a:pt x="422" y="1076"/>
                  </a:lnTo>
                  <a:lnTo>
                    <a:pt x="376" y="1068"/>
                  </a:lnTo>
                  <a:lnTo>
                    <a:pt x="376" y="1068"/>
                  </a:lnTo>
                  <a:lnTo>
                    <a:pt x="372" y="1054"/>
                  </a:lnTo>
                  <a:lnTo>
                    <a:pt x="370" y="1040"/>
                  </a:lnTo>
                  <a:lnTo>
                    <a:pt x="368" y="1006"/>
                  </a:lnTo>
                  <a:lnTo>
                    <a:pt x="368" y="1006"/>
                  </a:lnTo>
                  <a:lnTo>
                    <a:pt x="374" y="996"/>
                  </a:lnTo>
                  <a:lnTo>
                    <a:pt x="378" y="982"/>
                  </a:lnTo>
                  <a:lnTo>
                    <a:pt x="386" y="946"/>
                  </a:lnTo>
                  <a:lnTo>
                    <a:pt x="392" y="902"/>
                  </a:lnTo>
                  <a:lnTo>
                    <a:pt x="394" y="852"/>
                  </a:lnTo>
                  <a:lnTo>
                    <a:pt x="396" y="802"/>
                  </a:lnTo>
                  <a:lnTo>
                    <a:pt x="396" y="752"/>
                  </a:lnTo>
                  <a:lnTo>
                    <a:pt x="394" y="708"/>
                  </a:lnTo>
                  <a:lnTo>
                    <a:pt x="392" y="670"/>
                  </a:lnTo>
                  <a:lnTo>
                    <a:pt x="392" y="670"/>
                  </a:lnTo>
                  <a:lnTo>
                    <a:pt x="388" y="642"/>
                  </a:lnTo>
                  <a:lnTo>
                    <a:pt x="382" y="610"/>
                  </a:lnTo>
                  <a:lnTo>
                    <a:pt x="368" y="550"/>
                  </a:lnTo>
                  <a:lnTo>
                    <a:pt x="368" y="550"/>
                  </a:lnTo>
                  <a:lnTo>
                    <a:pt x="362" y="520"/>
                  </a:lnTo>
                  <a:lnTo>
                    <a:pt x="360" y="488"/>
                  </a:lnTo>
                  <a:lnTo>
                    <a:pt x="362" y="456"/>
                  </a:lnTo>
                  <a:lnTo>
                    <a:pt x="364" y="424"/>
                  </a:lnTo>
                  <a:lnTo>
                    <a:pt x="368" y="394"/>
                  </a:lnTo>
                  <a:lnTo>
                    <a:pt x="372" y="364"/>
                  </a:lnTo>
                  <a:lnTo>
                    <a:pt x="384" y="312"/>
                  </a:lnTo>
                  <a:lnTo>
                    <a:pt x="384" y="312"/>
                  </a:lnTo>
                  <a:lnTo>
                    <a:pt x="388" y="294"/>
                  </a:lnTo>
                  <a:lnTo>
                    <a:pt x="390" y="274"/>
                  </a:lnTo>
                  <a:lnTo>
                    <a:pt x="392" y="236"/>
                  </a:lnTo>
                  <a:lnTo>
                    <a:pt x="392" y="194"/>
                  </a:lnTo>
                  <a:lnTo>
                    <a:pt x="388" y="154"/>
                  </a:lnTo>
                  <a:lnTo>
                    <a:pt x="380" y="74"/>
                  </a:lnTo>
                  <a:lnTo>
                    <a:pt x="378" y="36"/>
                  </a:lnTo>
                  <a:lnTo>
                    <a:pt x="376" y="0"/>
                  </a:lnTo>
                  <a:lnTo>
                    <a:pt x="376" y="0"/>
                  </a:lnTo>
                  <a:lnTo>
                    <a:pt x="360" y="0"/>
                  </a:lnTo>
                  <a:lnTo>
                    <a:pt x="360" y="0"/>
                  </a:lnTo>
                  <a:lnTo>
                    <a:pt x="346" y="12"/>
                  </a:lnTo>
                  <a:lnTo>
                    <a:pt x="328" y="24"/>
                  </a:lnTo>
                  <a:lnTo>
                    <a:pt x="310" y="34"/>
                  </a:lnTo>
                  <a:lnTo>
                    <a:pt x="290" y="42"/>
                  </a:lnTo>
                  <a:lnTo>
                    <a:pt x="246" y="58"/>
                  </a:lnTo>
                  <a:lnTo>
                    <a:pt x="198" y="72"/>
                  </a:lnTo>
                  <a:lnTo>
                    <a:pt x="148" y="84"/>
                  </a:lnTo>
                  <a:lnTo>
                    <a:pt x="98" y="9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6" y="128"/>
                  </a:lnTo>
                  <a:lnTo>
                    <a:pt x="2" y="146"/>
                  </a:lnTo>
                  <a:lnTo>
                    <a:pt x="0" y="184"/>
                  </a:lnTo>
                  <a:lnTo>
                    <a:pt x="0" y="184"/>
                  </a:lnTo>
                  <a:lnTo>
                    <a:pt x="6" y="194"/>
                  </a:lnTo>
                  <a:lnTo>
                    <a:pt x="12" y="206"/>
                  </a:lnTo>
                  <a:lnTo>
                    <a:pt x="26" y="240"/>
                  </a:lnTo>
                  <a:lnTo>
                    <a:pt x="38" y="282"/>
                  </a:lnTo>
                  <a:lnTo>
                    <a:pt x="50" y="328"/>
                  </a:lnTo>
                  <a:lnTo>
                    <a:pt x="72" y="420"/>
                  </a:lnTo>
                  <a:lnTo>
                    <a:pt x="88" y="488"/>
                  </a:lnTo>
                  <a:lnTo>
                    <a:pt x="88" y="488"/>
                  </a:lnTo>
                  <a:lnTo>
                    <a:pt x="88" y="572"/>
                  </a:lnTo>
                  <a:lnTo>
                    <a:pt x="88" y="572"/>
                  </a:lnTo>
                  <a:lnTo>
                    <a:pt x="92" y="584"/>
                  </a:lnTo>
                  <a:lnTo>
                    <a:pt x="98" y="598"/>
                  </a:lnTo>
                  <a:lnTo>
                    <a:pt x="112" y="628"/>
                  </a:lnTo>
                  <a:lnTo>
                    <a:pt x="118" y="642"/>
                  </a:lnTo>
                  <a:lnTo>
                    <a:pt x="122" y="656"/>
                  </a:lnTo>
                  <a:lnTo>
                    <a:pt x="122" y="668"/>
                  </a:lnTo>
                  <a:lnTo>
                    <a:pt x="120" y="678"/>
                  </a:lnTo>
                  <a:lnTo>
                    <a:pt x="120" y="678"/>
                  </a:lnTo>
                  <a:lnTo>
                    <a:pt x="114" y="692"/>
                  </a:lnTo>
                  <a:lnTo>
                    <a:pt x="104" y="704"/>
                  </a:lnTo>
                  <a:lnTo>
                    <a:pt x="96" y="714"/>
                  </a:lnTo>
                  <a:lnTo>
                    <a:pt x="88" y="724"/>
                  </a:lnTo>
                  <a:lnTo>
                    <a:pt x="88" y="724"/>
                  </a:lnTo>
                  <a:lnTo>
                    <a:pt x="136" y="1204"/>
                  </a:lnTo>
                  <a:lnTo>
                    <a:pt x="136" y="1204"/>
                  </a:lnTo>
                  <a:lnTo>
                    <a:pt x="138" y="1252"/>
                  </a:lnTo>
                  <a:lnTo>
                    <a:pt x="138" y="1304"/>
                  </a:lnTo>
                  <a:lnTo>
                    <a:pt x="132" y="1418"/>
                  </a:lnTo>
                  <a:lnTo>
                    <a:pt x="128" y="1476"/>
                  </a:lnTo>
                  <a:lnTo>
                    <a:pt x="128" y="1534"/>
                  </a:lnTo>
                  <a:lnTo>
                    <a:pt x="130" y="1588"/>
                  </a:lnTo>
                  <a:lnTo>
                    <a:pt x="132" y="1614"/>
                  </a:lnTo>
                  <a:lnTo>
                    <a:pt x="136" y="1638"/>
                  </a:lnTo>
                  <a:lnTo>
                    <a:pt x="136" y="1638"/>
                  </a:lnTo>
                  <a:lnTo>
                    <a:pt x="144" y="1680"/>
                  </a:lnTo>
                  <a:lnTo>
                    <a:pt x="150" y="1722"/>
                  </a:lnTo>
                  <a:lnTo>
                    <a:pt x="154" y="1764"/>
                  </a:lnTo>
                  <a:lnTo>
                    <a:pt x="158" y="1806"/>
                  </a:lnTo>
                  <a:lnTo>
                    <a:pt x="162" y="1890"/>
                  </a:lnTo>
                  <a:lnTo>
                    <a:pt x="162" y="1974"/>
                  </a:lnTo>
                  <a:lnTo>
                    <a:pt x="160" y="2058"/>
                  </a:lnTo>
                  <a:lnTo>
                    <a:pt x="158" y="2140"/>
                  </a:lnTo>
                  <a:lnTo>
                    <a:pt x="152" y="2302"/>
                  </a:lnTo>
                  <a:lnTo>
                    <a:pt x="152" y="2302"/>
                  </a:lnTo>
                  <a:lnTo>
                    <a:pt x="172" y="2306"/>
                  </a:lnTo>
                  <a:lnTo>
                    <a:pt x="200" y="2310"/>
                  </a:lnTo>
                  <a:lnTo>
                    <a:pt x="200" y="2310"/>
                  </a:lnTo>
                  <a:lnTo>
                    <a:pt x="220" y="2300"/>
                  </a:lnTo>
                  <a:lnTo>
                    <a:pt x="246" y="2294"/>
                  </a:lnTo>
                  <a:lnTo>
                    <a:pt x="278" y="2286"/>
                  </a:lnTo>
                  <a:lnTo>
                    <a:pt x="312" y="2282"/>
                  </a:lnTo>
                  <a:lnTo>
                    <a:pt x="382" y="2274"/>
                  </a:lnTo>
                  <a:lnTo>
                    <a:pt x="440" y="2272"/>
                  </a:lnTo>
                  <a:lnTo>
                    <a:pt x="440" y="2272"/>
                  </a:lnTo>
                  <a:lnTo>
                    <a:pt x="444" y="2154"/>
                  </a:lnTo>
                  <a:lnTo>
                    <a:pt x="446" y="2034"/>
                  </a:lnTo>
                  <a:lnTo>
                    <a:pt x="446" y="1912"/>
                  </a:lnTo>
                  <a:lnTo>
                    <a:pt x="444" y="1790"/>
                  </a:lnTo>
                  <a:lnTo>
                    <a:pt x="440" y="1552"/>
                  </a:lnTo>
                  <a:lnTo>
                    <a:pt x="432" y="1334"/>
                  </a:lnTo>
                  <a:lnTo>
                    <a:pt x="432" y="1334"/>
                  </a:lnTo>
                  <a:lnTo>
                    <a:pt x="448" y="1334"/>
                  </a:lnTo>
                  <a:lnTo>
                    <a:pt x="448" y="1334"/>
                  </a:lnTo>
                  <a:lnTo>
                    <a:pt x="458" y="1328"/>
                  </a:lnTo>
                  <a:lnTo>
                    <a:pt x="470" y="1324"/>
                  </a:lnTo>
                  <a:lnTo>
                    <a:pt x="482" y="1322"/>
                  </a:lnTo>
                  <a:lnTo>
                    <a:pt x="496" y="1320"/>
                  </a:lnTo>
                  <a:lnTo>
                    <a:pt x="528" y="1320"/>
                  </a:lnTo>
                  <a:lnTo>
                    <a:pt x="560" y="1322"/>
                  </a:lnTo>
                  <a:lnTo>
                    <a:pt x="624" y="1330"/>
                  </a:lnTo>
                  <a:lnTo>
                    <a:pt x="652" y="1334"/>
                  </a:lnTo>
                  <a:lnTo>
                    <a:pt x="678" y="1334"/>
                  </a:lnTo>
                  <a:lnTo>
                    <a:pt x="678" y="1334"/>
                  </a:lnTo>
                  <a:lnTo>
                    <a:pt x="728" y="1328"/>
                  </a:lnTo>
                  <a:lnTo>
                    <a:pt x="794" y="1320"/>
                  </a:lnTo>
                  <a:lnTo>
                    <a:pt x="864" y="1312"/>
                  </a:lnTo>
                  <a:lnTo>
                    <a:pt x="902" y="1308"/>
                  </a:lnTo>
                  <a:lnTo>
                    <a:pt x="938" y="1308"/>
                  </a:lnTo>
                  <a:lnTo>
                    <a:pt x="972" y="1308"/>
                  </a:lnTo>
                  <a:lnTo>
                    <a:pt x="1006" y="1310"/>
                  </a:lnTo>
                  <a:lnTo>
                    <a:pt x="1036" y="1316"/>
                  </a:lnTo>
                  <a:lnTo>
                    <a:pt x="1062" y="1324"/>
                  </a:lnTo>
                  <a:lnTo>
                    <a:pt x="1074" y="1330"/>
                  </a:lnTo>
                  <a:lnTo>
                    <a:pt x="1084" y="1338"/>
                  </a:lnTo>
                  <a:lnTo>
                    <a:pt x="1094" y="1346"/>
                  </a:lnTo>
                  <a:lnTo>
                    <a:pt x="1102" y="1354"/>
                  </a:lnTo>
                  <a:lnTo>
                    <a:pt x="1108" y="1364"/>
                  </a:lnTo>
                  <a:lnTo>
                    <a:pt x="1112" y="1376"/>
                  </a:lnTo>
                  <a:lnTo>
                    <a:pt x="1116" y="1388"/>
                  </a:lnTo>
                  <a:lnTo>
                    <a:pt x="1116" y="1402"/>
                  </a:lnTo>
                  <a:lnTo>
                    <a:pt x="1116" y="1402"/>
                  </a:lnTo>
                  <a:lnTo>
                    <a:pt x="1110" y="1414"/>
                  </a:lnTo>
                  <a:lnTo>
                    <a:pt x="1102" y="1428"/>
                  </a:lnTo>
                  <a:lnTo>
                    <a:pt x="1098" y="1442"/>
                  </a:lnTo>
                  <a:lnTo>
                    <a:pt x="1094" y="1456"/>
                  </a:lnTo>
                  <a:lnTo>
                    <a:pt x="1088" y="1490"/>
                  </a:lnTo>
                  <a:lnTo>
                    <a:pt x="1084" y="1526"/>
                  </a:lnTo>
                  <a:lnTo>
                    <a:pt x="1084" y="1564"/>
                  </a:lnTo>
                  <a:lnTo>
                    <a:pt x="1084" y="1602"/>
                  </a:lnTo>
                  <a:lnTo>
                    <a:pt x="1084" y="1676"/>
                  </a:lnTo>
                  <a:lnTo>
                    <a:pt x="1084" y="1676"/>
                  </a:lnTo>
                  <a:lnTo>
                    <a:pt x="1140" y="2234"/>
                  </a:lnTo>
                  <a:lnTo>
                    <a:pt x="1140" y="2234"/>
                  </a:lnTo>
                  <a:lnTo>
                    <a:pt x="1156" y="2234"/>
                  </a:lnTo>
                  <a:lnTo>
                    <a:pt x="1156" y="2234"/>
                  </a:lnTo>
                  <a:lnTo>
                    <a:pt x="1166" y="2228"/>
                  </a:lnTo>
                  <a:lnTo>
                    <a:pt x="1178" y="2224"/>
                  </a:lnTo>
                  <a:lnTo>
                    <a:pt x="1212" y="2216"/>
                  </a:lnTo>
                  <a:lnTo>
                    <a:pt x="1252" y="2210"/>
                  </a:lnTo>
                  <a:lnTo>
                    <a:pt x="1296" y="2206"/>
                  </a:lnTo>
                  <a:lnTo>
                    <a:pt x="1384" y="2198"/>
                  </a:lnTo>
                  <a:lnTo>
                    <a:pt x="1452" y="2194"/>
                  </a:lnTo>
                  <a:lnTo>
                    <a:pt x="1452" y="2194"/>
                  </a:lnTo>
                  <a:lnTo>
                    <a:pt x="1446" y="2126"/>
                  </a:lnTo>
                  <a:lnTo>
                    <a:pt x="1436" y="2058"/>
                  </a:lnTo>
                  <a:lnTo>
                    <a:pt x="1426" y="1990"/>
                  </a:lnTo>
                  <a:lnTo>
                    <a:pt x="1414" y="1924"/>
                  </a:lnTo>
                  <a:lnTo>
                    <a:pt x="1400" y="1860"/>
                  </a:lnTo>
                  <a:lnTo>
                    <a:pt x="1386" y="1798"/>
                  </a:lnTo>
                  <a:lnTo>
                    <a:pt x="1356" y="1676"/>
                  </a:lnTo>
                  <a:lnTo>
                    <a:pt x="1356" y="1676"/>
                  </a:lnTo>
                  <a:lnTo>
                    <a:pt x="1348" y="1394"/>
                  </a:lnTo>
                  <a:lnTo>
                    <a:pt x="1348" y="1394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Freeform 14"/>
            <p:cNvSpPr/>
            <p:nvPr/>
          </p:nvSpPr>
          <p:spPr>
            <a:xfrm>
              <a:off x="13727160" y="5346720"/>
              <a:ext cx="1777680" cy="3730680"/>
            </a:xfrm>
            <a:custGeom>
              <a:avLst/>
              <a:gdLst>
                <a:gd name="textAreaLeft" fmla="*/ 0 w 1777680"/>
                <a:gd name="textAreaRight" fmla="*/ 1778040 w 1777680"/>
                <a:gd name="textAreaTop" fmla="*/ 0 h 3730680"/>
                <a:gd name="textAreaBottom" fmla="*/ 3730680 h 3730680"/>
              </a:gdLst>
              <a:ahLst/>
              <a:rect l="textAreaLeft" t="textAreaTop" r="textAreaRight" b="textAreaBottom"/>
              <a:pathLst>
                <a:path w="1120" h="2350">
                  <a:moveTo>
                    <a:pt x="816" y="1280"/>
                  </a:moveTo>
                  <a:lnTo>
                    <a:pt x="816" y="1280"/>
                  </a:lnTo>
                  <a:lnTo>
                    <a:pt x="780" y="1270"/>
                  </a:lnTo>
                  <a:lnTo>
                    <a:pt x="742" y="1264"/>
                  </a:lnTo>
                  <a:lnTo>
                    <a:pt x="706" y="1256"/>
                  </a:lnTo>
                  <a:lnTo>
                    <a:pt x="672" y="1250"/>
                  </a:lnTo>
                  <a:lnTo>
                    <a:pt x="672" y="1250"/>
                  </a:lnTo>
                  <a:lnTo>
                    <a:pt x="652" y="1246"/>
                  </a:lnTo>
                  <a:lnTo>
                    <a:pt x="630" y="1246"/>
                  </a:lnTo>
                  <a:lnTo>
                    <a:pt x="584" y="1250"/>
                  </a:lnTo>
                  <a:lnTo>
                    <a:pt x="562" y="1252"/>
                  </a:lnTo>
                  <a:lnTo>
                    <a:pt x="540" y="1252"/>
                  </a:lnTo>
                  <a:lnTo>
                    <a:pt x="522" y="1250"/>
                  </a:lnTo>
                  <a:lnTo>
                    <a:pt x="514" y="1246"/>
                  </a:lnTo>
                  <a:lnTo>
                    <a:pt x="506" y="1242"/>
                  </a:lnTo>
                  <a:lnTo>
                    <a:pt x="506" y="1242"/>
                  </a:lnTo>
                  <a:lnTo>
                    <a:pt x="498" y="1238"/>
                  </a:lnTo>
                  <a:lnTo>
                    <a:pt x="494" y="1232"/>
                  </a:lnTo>
                  <a:lnTo>
                    <a:pt x="490" y="1226"/>
                  </a:lnTo>
                  <a:lnTo>
                    <a:pt x="486" y="1218"/>
                  </a:lnTo>
                  <a:lnTo>
                    <a:pt x="484" y="1202"/>
                  </a:lnTo>
                  <a:lnTo>
                    <a:pt x="482" y="1182"/>
                  </a:lnTo>
                  <a:lnTo>
                    <a:pt x="482" y="1182"/>
                  </a:lnTo>
                  <a:lnTo>
                    <a:pt x="486" y="1176"/>
                  </a:lnTo>
                  <a:lnTo>
                    <a:pt x="490" y="1166"/>
                  </a:lnTo>
                  <a:lnTo>
                    <a:pt x="490" y="1166"/>
                  </a:lnTo>
                  <a:lnTo>
                    <a:pt x="510" y="1158"/>
                  </a:lnTo>
                  <a:lnTo>
                    <a:pt x="530" y="1148"/>
                  </a:lnTo>
                  <a:lnTo>
                    <a:pt x="546" y="1136"/>
                  </a:lnTo>
                  <a:lnTo>
                    <a:pt x="562" y="1122"/>
                  </a:lnTo>
                  <a:lnTo>
                    <a:pt x="592" y="1092"/>
                  </a:lnTo>
                  <a:lnTo>
                    <a:pt x="608" y="1080"/>
                  </a:lnTo>
                  <a:lnTo>
                    <a:pt x="626" y="1068"/>
                  </a:lnTo>
                  <a:lnTo>
                    <a:pt x="626" y="1068"/>
                  </a:lnTo>
                  <a:lnTo>
                    <a:pt x="672" y="1038"/>
                  </a:lnTo>
                  <a:lnTo>
                    <a:pt x="718" y="1006"/>
                  </a:lnTo>
                  <a:lnTo>
                    <a:pt x="740" y="990"/>
                  </a:lnTo>
                  <a:lnTo>
                    <a:pt x="762" y="974"/>
                  </a:lnTo>
                  <a:lnTo>
                    <a:pt x="782" y="956"/>
                  </a:lnTo>
                  <a:lnTo>
                    <a:pt x="800" y="938"/>
                  </a:lnTo>
                  <a:lnTo>
                    <a:pt x="800" y="938"/>
                  </a:lnTo>
                  <a:lnTo>
                    <a:pt x="830" y="902"/>
                  </a:lnTo>
                  <a:lnTo>
                    <a:pt x="858" y="862"/>
                  </a:lnTo>
                  <a:lnTo>
                    <a:pt x="884" y="818"/>
                  </a:lnTo>
                  <a:lnTo>
                    <a:pt x="906" y="772"/>
                  </a:lnTo>
                  <a:lnTo>
                    <a:pt x="928" y="724"/>
                  </a:lnTo>
                  <a:lnTo>
                    <a:pt x="944" y="672"/>
                  </a:lnTo>
                  <a:lnTo>
                    <a:pt x="958" y="620"/>
                  </a:lnTo>
                  <a:lnTo>
                    <a:pt x="970" y="566"/>
                  </a:lnTo>
                  <a:lnTo>
                    <a:pt x="976" y="510"/>
                  </a:lnTo>
                  <a:lnTo>
                    <a:pt x="978" y="456"/>
                  </a:lnTo>
                  <a:lnTo>
                    <a:pt x="976" y="402"/>
                  </a:lnTo>
                  <a:lnTo>
                    <a:pt x="974" y="376"/>
                  </a:lnTo>
                  <a:lnTo>
                    <a:pt x="970" y="350"/>
                  </a:lnTo>
                  <a:lnTo>
                    <a:pt x="966" y="324"/>
                  </a:lnTo>
                  <a:lnTo>
                    <a:pt x="960" y="298"/>
                  </a:lnTo>
                  <a:lnTo>
                    <a:pt x="952" y="274"/>
                  </a:lnTo>
                  <a:lnTo>
                    <a:pt x="944" y="250"/>
                  </a:lnTo>
                  <a:lnTo>
                    <a:pt x="934" y="226"/>
                  </a:lnTo>
                  <a:lnTo>
                    <a:pt x="922" y="204"/>
                  </a:lnTo>
                  <a:lnTo>
                    <a:pt x="910" y="182"/>
                  </a:lnTo>
                  <a:lnTo>
                    <a:pt x="896" y="160"/>
                  </a:lnTo>
                  <a:lnTo>
                    <a:pt x="896" y="160"/>
                  </a:lnTo>
                  <a:lnTo>
                    <a:pt x="878" y="138"/>
                  </a:lnTo>
                  <a:lnTo>
                    <a:pt x="858" y="118"/>
                  </a:lnTo>
                  <a:lnTo>
                    <a:pt x="834" y="100"/>
                  </a:lnTo>
                  <a:lnTo>
                    <a:pt x="808" y="84"/>
                  </a:lnTo>
                  <a:lnTo>
                    <a:pt x="778" y="68"/>
                  </a:lnTo>
                  <a:lnTo>
                    <a:pt x="748" y="56"/>
                  </a:lnTo>
                  <a:lnTo>
                    <a:pt x="714" y="44"/>
                  </a:lnTo>
                  <a:lnTo>
                    <a:pt x="680" y="34"/>
                  </a:lnTo>
                  <a:lnTo>
                    <a:pt x="644" y="26"/>
                  </a:lnTo>
                  <a:lnTo>
                    <a:pt x="606" y="18"/>
                  </a:lnTo>
                  <a:lnTo>
                    <a:pt x="568" y="12"/>
                  </a:lnTo>
                  <a:lnTo>
                    <a:pt x="530" y="8"/>
                  </a:lnTo>
                  <a:lnTo>
                    <a:pt x="490" y="4"/>
                  </a:lnTo>
                  <a:lnTo>
                    <a:pt x="450" y="2"/>
                  </a:lnTo>
                  <a:lnTo>
                    <a:pt x="370" y="0"/>
                  </a:lnTo>
                  <a:lnTo>
                    <a:pt x="370" y="0"/>
                  </a:lnTo>
                  <a:lnTo>
                    <a:pt x="358" y="6"/>
                  </a:lnTo>
                  <a:lnTo>
                    <a:pt x="344" y="12"/>
                  </a:lnTo>
                  <a:lnTo>
                    <a:pt x="312" y="18"/>
                  </a:lnTo>
                  <a:lnTo>
                    <a:pt x="282" y="22"/>
                  </a:lnTo>
                  <a:lnTo>
                    <a:pt x="266" y="26"/>
                  </a:lnTo>
                  <a:lnTo>
                    <a:pt x="250" y="30"/>
                  </a:lnTo>
                  <a:lnTo>
                    <a:pt x="250" y="30"/>
                  </a:lnTo>
                  <a:lnTo>
                    <a:pt x="228" y="42"/>
                  </a:lnTo>
                  <a:lnTo>
                    <a:pt x="196" y="60"/>
                  </a:lnTo>
                  <a:lnTo>
                    <a:pt x="160" y="82"/>
                  </a:lnTo>
                  <a:lnTo>
                    <a:pt x="120" y="108"/>
                  </a:lnTo>
                  <a:lnTo>
                    <a:pt x="82" y="134"/>
                  </a:lnTo>
                  <a:lnTo>
                    <a:pt x="50" y="160"/>
                  </a:lnTo>
                  <a:lnTo>
                    <a:pt x="24" y="182"/>
                  </a:lnTo>
                  <a:lnTo>
                    <a:pt x="16" y="190"/>
                  </a:lnTo>
                  <a:lnTo>
                    <a:pt x="12" y="198"/>
                  </a:lnTo>
                  <a:lnTo>
                    <a:pt x="12" y="198"/>
                  </a:lnTo>
                  <a:lnTo>
                    <a:pt x="12" y="304"/>
                  </a:lnTo>
                  <a:lnTo>
                    <a:pt x="12" y="304"/>
                  </a:lnTo>
                  <a:lnTo>
                    <a:pt x="8" y="312"/>
                  </a:lnTo>
                  <a:lnTo>
                    <a:pt x="6" y="320"/>
                  </a:lnTo>
                  <a:lnTo>
                    <a:pt x="2" y="336"/>
                  </a:lnTo>
                  <a:lnTo>
                    <a:pt x="2" y="356"/>
                  </a:lnTo>
                  <a:lnTo>
                    <a:pt x="2" y="376"/>
                  </a:lnTo>
                  <a:lnTo>
                    <a:pt x="6" y="418"/>
                  </a:lnTo>
                  <a:lnTo>
                    <a:pt x="6" y="438"/>
                  </a:lnTo>
                  <a:lnTo>
                    <a:pt x="4" y="458"/>
                  </a:lnTo>
                  <a:lnTo>
                    <a:pt x="4" y="458"/>
                  </a:lnTo>
                  <a:lnTo>
                    <a:pt x="0" y="480"/>
                  </a:lnTo>
                  <a:lnTo>
                    <a:pt x="0" y="508"/>
                  </a:lnTo>
                  <a:lnTo>
                    <a:pt x="0" y="538"/>
                  </a:lnTo>
                  <a:lnTo>
                    <a:pt x="2" y="570"/>
                  </a:lnTo>
                  <a:lnTo>
                    <a:pt x="10" y="632"/>
                  </a:lnTo>
                  <a:lnTo>
                    <a:pt x="14" y="662"/>
                  </a:lnTo>
                  <a:lnTo>
                    <a:pt x="20" y="686"/>
                  </a:lnTo>
                  <a:lnTo>
                    <a:pt x="20" y="686"/>
                  </a:lnTo>
                  <a:lnTo>
                    <a:pt x="26" y="724"/>
                  </a:lnTo>
                  <a:lnTo>
                    <a:pt x="30" y="762"/>
                  </a:lnTo>
                  <a:lnTo>
                    <a:pt x="30" y="800"/>
                  </a:lnTo>
                  <a:lnTo>
                    <a:pt x="28" y="840"/>
                  </a:lnTo>
                  <a:lnTo>
                    <a:pt x="28" y="878"/>
                  </a:lnTo>
                  <a:lnTo>
                    <a:pt x="28" y="914"/>
                  </a:lnTo>
                  <a:lnTo>
                    <a:pt x="30" y="950"/>
                  </a:lnTo>
                  <a:lnTo>
                    <a:pt x="36" y="984"/>
                  </a:lnTo>
                  <a:lnTo>
                    <a:pt x="36" y="984"/>
                  </a:lnTo>
                  <a:lnTo>
                    <a:pt x="36" y="1098"/>
                  </a:lnTo>
                  <a:lnTo>
                    <a:pt x="36" y="1098"/>
                  </a:lnTo>
                  <a:lnTo>
                    <a:pt x="38" y="1140"/>
                  </a:lnTo>
                  <a:lnTo>
                    <a:pt x="38" y="1178"/>
                  </a:lnTo>
                  <a:lnTo>
                    <a:pt x="34" y="1252"/>
                  </a:lnTo>
                  <a:lnTo>
                    <a:pt x="30" y="1286"/>
                  </a:lnTo>
                  <a:lnTo>
                    <a:pt x="30" y="1322"/>
                  </a:lnTo>
                  <a:lnTo>
                    <a:pt x="30" y="1362"/>
                  </a:lnTo>
                  <a:lnTo>
                    <a:pt x="36" y="1402"/>
                  </a:lnTo>
                  <a:lnTo>
                    <a:pt x="36" y="1402"/>
                  </a:lnTo>
                  <a:lnTo>
                    <a:pt x="42" y="1450"/>
                  </a:lnTo>
                  <a:lnTo>
                    <a:pt x="46" y="1500"/>
                  </a:lnTo>
                  <a:lnTo>
                    <a:pt x="48" y="1550"/>
                  </a:lnTo>
                  <a:lnTo>
                    <a:pt x="48" y="1604"/>
                  </a:lnTo>
                  <a:lnTo>
                    <a:pt x="44" y="1714"/>
                  </a:lnTo>
                  <a:lnTo>
                    <a:pt x="38" y="1826"/>
                  </a:lnTo>
                  <a:lnTo>
                    <a:pt x="20" y="2064"/>
                  </a:lnTo>
                  <a:lnTo>
                    <a:pt x="14" y="2186"/>
                  </a:lnTo>
                  <a:lnTo>
                    <a:pt x="12" y="2248"/>
                  </a:lnTo>
                  <a:lnTo>
                    <a:pt x="12" y="2310"/>
                  </a:lnTo>
                  <a:lnTo>
                    <a:pt x="12" y="2310"/>
                  </a:lnTo>
                  <a:lnTo>
                    <a:pt x="36" y="2316"/>
                  </a:lnTo>
                  <a:lnTo>
                    <a:pt x="36" y="2316"/>
                  </a:lnTo>
                  <a:lnTo>
                    <a:pt x="50" y="2324"/>
                  </a:lnTo>
                  <a:lnTo>
                    <a:pt x="64" y="2328"/>
                  </a:lnTo>
                  <a:lnTo>
                    <a:pt x="80" y="2332"/>
                  </a:lnTo>
                  <a:lnTo>
                    <a:pt x="98" y="2334"/>
                  </a:lnTo>
                  <a:lnTo>
                    <a:pt x="138" y="2336"/>
                  </a:lnTo>
                  <a:lnTo>
                    <a:pt x="180" y="2334"/>
                  </a:lnTo>
                  <a:lnTo>
                    <a:pt x="224" y="2332"/>
                  </a:lnTo>
                  <a:lnTo>
                    <a:pt x="268" y="2332"/>
                  </a:lnTo>
                  <a:lnTo>
                    <a:pt x="312" y="2334"/>
                  </a:lnTo>
                  <a:lnTo>
                    <a:pt x="334" y="2336"/>
                  </a:lnTo>
                  <a:lnTo>
                    <a:pt x="354" y="2340"/>
                  </a:lnTo>
                  <a:lnTo>
                    <a:pt x="354" y="2340"/>
                  </a:lnTo>
                  <a:lnTo>
                    <a:pt x="376" y="2344"/>
                  </a:lnTo>
                  <a:lnTo>
                    <a:pt x="400" y="2348"/>
                  </a:lnTo>
                  <a:lnTo>
                    <a:pt x="448" y="2350"/>
                  </a:lnTo>
                  <a:lnTo>
                    <a:pt x="496" y="2348"/>
                  </a:lnTo>
                  <a:lnTo>
                    <a:pt x="546" y="2344"/>
                  </a:lnTo>
                  <a:lnTo>
                    <a:pt x="594" y="2336"/>
                  </a:lnTo>
                  <a:lnTo>
                    <a:pt x="644" y="2324"/>
                  </a:lnTo>
                  <a:lnTo>
                    <a:pt x="692" y="2310"/>
                  </a:lnTo>
                  <a:lnTo>
                    <a:pt x="740" y="2292"/>
                  </a:lnTo>
                  <a:lnTo>
                    <a:pt x="786" y="2272"/>
                  </a:lnTo>
                  <a:lnTo>
                    <a:pt x="830" y="2250"/>
                  </a:lnTo>
                  <a:lnTo>
                    <a:pt x="870" y="2228"/>
                  </a:lnTo>
                  <a:lnTo>
                    <a:pt x="908" y="2202"/>
                  </a:lnTo>
                  <a:lnTo>
                    <a:pt x="944" y="2178"/>
                  </a:lnTo>
                  <a:lnTo>
                    <a:pt x="974" y="2150"/>
                  </a:lnTo>
                  <a:lnTo>
                    <a:pt x="1002" y="2124"/>
                  </a:lnTo>
                  <a:lnTo>
                    <a:pt x="1024" y="2096"/>
                  </a:lnTo>
                  <a:lnTo>
                    <a:pt x="1024" y="2096"/>
                  </a:lnTo>
                  <a:lnTo>
                    <a:pt x="1034" y="2080"/>
                  </a:lnTo>
                  <a:lnTo>
                    <a:pt x="1042" y="2066"/>
                  </a:lnTo>
                  <a:lnTo>
                    <a:pt x="1056" y="2034"/>
                  </a:lnTo>
                  <a:lnTo>
                    <a:pt x="1066" y="2002"/>
                  </a:lnTo>
                  <a:lnTo>
                    <a:pt x="1074" y="1968"/>
                  </a:lnTo>
                  <a:lnTo>
                    <a:pt x="1088" y="1896"/>
                  </a:lnTo>
                  <a:lnTo>
                    <a:pt x="1094" y="1856"/>
                  </a:lnTo>
                  <a:lnTo>
                    <a:pt x="1104" y="1814"/>
                  </a:lnTo>
                  <a:lnTo>
                    <a:pt x="1104" y="1814"/>
                  </a:lnTo>
                  <a:lnTo>
                    <a:pt x="1114" y="1762"/>
                  </a:lnTo>
                  <a:lnTo>
                    <a:pt x="1116" y="1734"/>
                  </a:lnTo>
                  <a:lnTo>
                    <a:pt x="1120" y="1706"/>
                  </a:lnTo>
                  <a:lnTo>
                    <a:pt x="1120" y="1678"/>
                  </a:lnTo>
                  <a:lnTo>
                    <a:pt x="1120" y="1648"/>
                  </a:lnTo>
                  <a:lnTo>
                    <a:pt x="1116" y="1620"/>
                  </a:lnTo>
                  <a:lnTo>
                    <a:pt x="1112" y="1592"/>
                  </a:lnTo>
                  <a:lnTo>
                    <a:pt x="1112" y="1592"/>
                  </a:lnTo>
                  <a:lnTo>
                    <a:pt x="1102" y="1562"/>
                  </a:lnTo>
                  <a:lnTo>
                    <a:pt x="1092" y="1532"/>
                  </a:lnTo>
                  <a:lnTo>
                    <a:pt x="1082" y="1504"/>
                  </a:lnTo>
                  <a:lnTo>
                    <a:pt x="1070" y="1478"/>
                  </a:lnTo>
                  <a:lnTo>
                    <a:pt x="1056" y="1454"/>
                  </a:lnTo>
                  <a:lnTo>
                    <a:pt x="1042" y="1432"/>
                  </a:lnTo>
                  <a:lnTo>
                    <a:pt x="1026" y="1412"/>
                  </a:lnTo>
                  <a:lnTo>
                    <a:pt x="1010" y="1392"/>
                  </a:lnTo>
                  <a:lnTo>
                    <a:pt x="992" y="1374"/>
                  </a:lnTo>
                  <a:lnTo>
                    <a:pt x="972" y="1356"/>
                  </a:lnTo>
                  <a:lnTo>
                    <a:pt x="950" y="1342"/>
                  </a:lnTo>
                  <a:lnTo>
                    <a:pt x="926" y="1328"/>
                  </a:lnTo>
                  <a:lnTo>
                    <a:pt x="902" y="1314"/>
                  </a:lnTo>
                  <a:lnTo>
                    <a:pt x="874" y="1302"/>
                  </a:lnTo>
                  <a:lnTo>
                    <a:pt x="846" y="1290"/>
                  </a:lnTo>
                  <a:lnTo>
                    <a:pt x="816" y="1280"/>
                  </a:lnTo>
                  <a:lnTo>
                    <a:pt x="816" y="1280"/>
                  </a:lnTo>
                  <a:close/>
                  <a:moveTo>
                    <a:pt x="178" y="778"/>
                  </a:moveTo>
                  <a:lnTo>
                    <a:pt x="178" y="778"/>
                  </a:lnTo>
                  <a:lnTo>
                    <a:pt x="172" y="762"/>
                  </a:lnTo>
                  <a:lnTo>
                    <a:pt x="168" y="742"/>
                  </a:lnTo>
                  <a:lnTo>
                    <a:pt x="164" y="722"/>
                  </a:lnTo>
                  <a:lnTo>
                    <a:pt x="160" y="702"/>
                  </a:lnTo>
                  <a:lnTo>
                    <a:pt x="156" y="654"/>
                  </a:lnTo>
                  <a:lnTo>
                    <a:pt x="158" y="604"/>
                  </a:lnTo>
                  <a:lnTo>
                    <a:pt x="160" y="554"/>
                  </a:lnTo>
                  <a:lnTo>
                    <a:pt x="166" y="502"/>
                  </a:lnTo>
                  <a:lnTo>
                    <a:pt x="176" y="454"/>
                  </a:lnTo>
                  <a:lnTo>
                    <a:pt x="186" y="412"/>
                  </a:lnTo>
                  <a:lnTo>
                    <a:pt x="186" y="412"/>
                  </a:lnTo>
                  <a:lnTo>
                    <a:pt x="192" y="402"/>
                  </a:lnTo>
                  <a:lnTo>
                    <a:pt x="200" y="388"/>
                  </a:lnTo>
                  <a:lnTo>
                    <a:pt x="206" y="376"/>
                  </a:lnTo>
                  <a:lnTo>
                    <a:pt x="210" y="366"/>
                  </a:lnTo>
                  <a:lnTo>
                    <a:pt x="210" y="366"/>
                  </a:lnTo>
                  <a:lnTo>
                    <a:pt x="210" y="356"/>
                  </a:lnTo>
                  <a:lnTo>
                    <a:pt x="208" y="348"/>
                  </a:lnTo>
                  <a:lnTo>
                    <a:pt x="202" y="342"/>
                  </a:lnTo>
                  <a:lnTo>
                    <a:pt x="196" y="336"/>
                  </a:lnTo>
                  <a:lnTo>
                    <a:pt x="192" y="330"/>
                  </a:lnTo>
                  <a:lnTo>
                    <a:pt x="188" y="324"/>
                  </a:lnTo>
                  <a:lnTo>
                    <a:pt x="186" y="316"/>
                  </a:lnTo>
                  <a:lnTo>
                    <a:pt x="186" y="304"/>
                  </a:lnTo>
                  <a:lnTo>
                    <a:pt x="186" y="304"/>
                  </a:lnTo>
                  <a:lnTo>
                    <a:pt x="190" y="296"/>
                  </a:lnTo>
                  <a:lnTo>
                    <a:pt x="198" y="288"/>
                  </a:lnTo>
                  <a:lnTo>
                    <a:pt x="216" y="270"/>
                  </a:lnTo>
                  <a:lnTo>
                    <a:pt x="236" y="252"/>
                  </a:lnTo>
                  <a:lnTo>
                    <a:pt x="244" y="244"/>
                  </a:lnTo>
                  <a:lnTo>
                    <a:pt x="250" y="236"/>
                  </a:lnTo>
                  <a:lnTo>
                    <a:pt x="250" y="236"/>
                  </a:lnTo>
                  <a:lnTo>
                    <a:pt x="308" y="238"/>
                  </a:lnTo>
                  <a:lnTo>
                    <a:pt x="368" y="244"/>
                  </a:lnTo>
                  <a:lnTo>
                    <a:pt x="428" y="254"/>
                  </a:lnTo>
                  <a:lnTo>
                    <a:pt x="456" y="260"/>
                  </a:lnTo>
                  <a:lnTo>
                    <a:pt x="484" y="268"/>
                  </a:lnTo>
                  <a:lnTo>
                    <a:pt x="512" y="278"/>
                  </a:lnTo>
                  <a:lnTo>
                    <a:pt x="538" y="286"/>
                  </a:lnTo>
                  <a:lnTo>
                    <a:pt x="560" y="298"/>
                  </a:lnTo>
                  <a:lnTo>
                    <a:pt x="582" y="310"/>
                  </a:lnTo>
                  <a:lnTo>
                    <a:pt x="602" y="322"/>
                  </a:lnTo>
                  <a:lnTo>
                    <a:pt x="618" y="336"/>
                  </a:lnTo>
                  <a:lnTo>
                    <a:pt x="630" y="350"/>
                  </a:lnTo>
                  <a:lnTo>
                    <a:pt x="640" y="366"/>
                  </a:lnTo>
                  <a:lnTo>
                    <a:pt x="640" y="366"/>
                  </a:lnTo>
                  <a:lnTo>
                    <a:pt x="650" y="386"/>
                  </a:lnTo>
                  <a:lnTo>
                    <a:pt x="658" y="408"/>
                  </a:lnTo>
                  <a:lnTo>
                    <a:pt x="664" y="432"/>
                  </a:lnTo>
                  <a:lnTo>
                    <a:pt x="668" y="456"/>
                  </a:lnTo>
                  <a:lnTo>
                    <a:pt x="670" y="482"/>
                  </a:lnTo>
                  <a:lnTo>
                    <a:pt x="670" y="508"/>
                  </a:lnTo>
                  <a:lnTo>
                    <a:pt x="670" y="532"/>
                  </a:lnTo>
                  <a:lnTo>
                    <a:pt x="668" y="558"/>
                  </a:lnTo>
                  <a:lnTo>
                    <a:pt x="664" y="584"/>
                  </a:lnTo>
                  <a:lnTo>
                    <a:pt x="658" y="608"/>
                  </a:lnTo>
                  <a:lnTo>
                    <a:pt x="652" y="632"/>
                  </a:lnTo>
                  <a:lnTo>
                    <a:pt x="644" y="654"/>
                  </a:lnTo>
                  <a:lnTo>
                    <a:pt x="634" y="674"/>
                  </a:lnTo>
                  <a:lnTo>
                    <a:pt x="624" y="694"/>
                  </a:lnTo>
                  <a:lnTo>
                    <a:pt x="614" y="710"/>
                  </a:lnTo>
                  <a:lnTo>
                    <a:pt x="602" y="724"/>
                  </a:lnTo>
                  <a:lnTo>
                    <a:pt x="602" y="724"/>
                  </a:lnTo>
                  <a:lnTo>
                    <a:pt x="590" y="734"/>
                  </a:lnTo>
                  <a:lnTo>
                    <a:pt x="578" y="744"/>
                  </a:lnTo>
                  <a:lnTo>
                    <a:pt x="552" y="760"/>
                  </a:lnTo>
                  <a:lnTo>
                    <a:pt x="524" y="776"/>
                  </a:lnTo>
                  <a:lnTo>
                    <a:pt x="498" y="792"/>
                  </a:lnTo>
                  <a:lnTo>
                    <a:pt x="498" y="792"/>
                  </a:lnTo>
                  <a:lnTo>
                    <a:pt x="476" y="810"/>
                  </a:lnTo>
                  <a:lnTo>
                    <a:pt x="458" y="828"/>
                  </a:lnTo>
                  <a:lnTo>
                    <a:pt x="438" y="844"/>
                  </a:lnTo>
                  <a:lnTo>
                    <a:pt x="420" y="862"/>
                  </a:lnTo>
                  <a:lnTo>
                    <a:pt x="400" y="878"/>
                  </a:lnTo>
                  <a:lnTo>
                    <a:pt x="376" y="890"/>
                  </a:lnTo>
                  <a:lnTo>
                    <a:pt x="362" y="896"/>
                  </a:lnTo>
                  <a:lnTo>
                    <a:pt x="348" y="900"/>
                  </a:lnTo>
                  <a:lnTo>
                    <a:pt x="332" y="904"/>
                  </a:lnTo>
                  <a:lnTo>
                    <a:pt x="314" y="906"/>
                  </a:lnTo>
                  <a:lnTo>
                    <a:pt x="314" y="906"/>
                  </a:lnTo>
                  <a:lnTo>
                    <a:pt x="274" y="878"/>
                  </a:lnTo>
                  <a:lnTo>
                    <a:pt x="238" y="852"/>
                  </a:lnTo>
                  <a:lnTo>
                    <a:pt x="220" y="836"/>
                  </a:lnTo>
                  <a:lnTo>
                    <a:pt x="204" y="818"/>
                  </a:lnTo>
                  <a:lnTo>
                    <a:pt x="190" y="800"/>
                  </a:lnTo>
                  <a:lnTo>
                    <a:pt x="178" y="778"/>
                  </a:lnTo>
                  <a:lnTo>
                    <a:pt x="178" y="778"/>
                  </a:lnTo>
                  <a:close/>
                  <a:moveTo>
                    <a:pt x="808" y="1860"/>
                  </a:moveTo>
                  <a:lnTo>
                    <a:pt x="808" y="1860"/>
                  </a:lnTo>
                  <a:lnTo>
                    <a:pt x="802" y="1876"/>
                  </a:lnTo>
                  <a:lnTo>
                    <a:pt x="792" y="1892"/>
                  </a:lnTo>
                  <a:lnTo>
                    <a:pt x="784" y="1906"/>
                  </a:lnTo>
                  <a:lnTo>
                    <a:pt x="774" y="1920"/>
                  </a:lnTo>
                  <a:lnTo>
                    <a:pt x="762" y="1932"/>
                  </a:lnTo>
                  <a:lnTo>
                    <a:pt x="752" y="1942"/>
                  </a:lnTo>
                  <a:lnTo>
                    <a:pt x="726" y="1962"/>
                  </a:lnTo>
                  <a:lnTo>
                    <a:pt x="698" y="1980"/>
                  </a:lnTo>
                  <a:lnTo>
                    <a:pt x="668" y="1996"/>
                  </a:lnTo>
                  <a:lnTo>
                    <a:pt x="602" y="2028"/>
                  </a:lnTo>
                  <a:lnTo>
                    <a:pt x="602" y="2028"/>
                  </a:lnTo>
                  <a:lnTo>
                    <a:pt x="578" y="2038"/>
                  </a:lnTo>
                  <a:lnTo>
                    <a:pt x="546" y="2050"/>
                  </a:lnTo>
                  <a:lnTo>
                    <a:pt x="508" y="2062"/>
                  </a:lnTo>
                  <a:lnTo>
                    <a:pt x="468" y="2074"/>
                  </a:lnTo>
                  <a:lnTo>
                    <a:pt x="428" y="2082"/>
                  </a:lnTo>
                  <a:lnTo>
                    <a:pt x="408" y="2082"/>
                  </a:lnTo>
                  <a:lnTo>
                    <a:pt x="388" y="2084"/>
                  </a:lnTo>
                  <a:lnTo>
                    <a:pt x="370" y="2082"/>
                  </a:lnTo>
                  <a:lnTo>
                    <a:pt x="352" y="2078"/>
                  </a:lnTo>
                  <a:lnTo>
                    <a:pt x="336" y="2074"/>
                  </a:lnTo>
                  <a:lnTo>
                    <a:pt x="322" y="2066"/>
                  </a:lnTo>
                  <a:lnTo>
                    <a:pt x="322" y="2066"/>
                  </a:lnTo>
                  <a:lnTo>
                    <a:pt x="310" y="2060"/>
                  </a:lnTo>
                  <a:lnTo>
                    <a:pt x="298" y="2054"/>
                  </a:lnTo>
                  <a:lnTo>
                    <a:pt x="288" y="2048"/>
                  </a:lnTo>
                  <a:lnTo>
                    <a:pt x="280" y="2040"/>
                  </a:lnTo>
                  <a:lnTo>
                    <a:pt x="272" y="2030"/>
                  </a:lnTo>
                  <a:lnTo>
                    <a:pt x="266" y="2022"/>
                  </a:lnTo>
                  <a:lnTo>
                    <a:pt x="254" y="2000"/>
                  </a:lnTo>
                  <a:lnTo>
                    <a:pt x="246" y="1974"/>
                  </a:lnTo>
                  <a:lnTo>
                    <a:pt x="242" y="1948"/>
                  </a:lnTo>
                  <a:lnTo>
                    <a:pt x="240" y="1920"/>
                  </a:lnTo>
                  <a:lnTo>
                    <a:pt x="242" y="1890"/>
                  </a:lnTo>
                  <a:lnTo>
                    <a:pt x="244" y="1858"/>
                  </a:lnTo>
                  <a:lnTo>
                    <a:pt x="248" y="1828"/>
                  </a:lnTo>
                  <a:lnTo>
                    <a:pt x="260" y="1768"/>
                  </a:lnTo>
                  <a:lnTo>
                    <a:pt x="282" y="1670"/>
                  </a:lnTo>
                  <a:lnTo>
                    <a:pt x="282" y="1670"/>
                  </a:lnTo>
                  <a:lnTo>
                    <a:pt x="284" y="1656"/>
                  </a:lnTo>
                  <a:lnTo>
                    <a:pt x="284" y="1646"/>
                  </a:lnTo>
                  <a:lnTo>
                    <a:pt x="280" y="1636"/>
                  </a:lnTo>
                  <a:lnTo>
                    <a:pt x="276" y="1630"/>
                  </a:lnTo>
                  <a:lnTo>
                    <a:pt x="274" y="1624"/>
                  </a:lnTo>
                  <a:lnTo>
                    <a:pt x="272" y="1616"/>
                  </a:lnTo>
                  <a:lnTo>
                    <a:pt x="272" y="1610"/>
                  </a:lnTo>
                  <a:lnTo>
                    <a:pt x="274" y="1600"/>
                  </a:lnTo>
                  <a:lnTo>
                    <a:pt x="274" y="1600"/>
                  </a:lnTo>
                  <a:lnTo>
                    <a:pt x="282" y="1582"/>
                  </a:lnTo>
                  <a:lnTo>
                    <a:pt x="294" y="1562"/>
                  </a:lnTo>
                  <a:lnTo>
                    <a:pt x="308" y="1542"/>
                  </a:lnTo>
                  <a:lnTo>
                    <a:pt x="326" y="1524"/>
                  </a:lnTo>
                  <a:lnTo>
                    <a:pt x="344" y="1506"/>
                  </a:lnTo>
                  <a:lnTo>
                    <a:pt x="362" y="1490"/>
                  </a:lnTo>
                  <a:lnTo>
                    <a:pt x="382" y="1478"/>
                  </a:lnTo>
                  <a:lnTo>
                    <a:pt x="402" y="1470"/>
                  </a:lnTo>
                  <a:lnTo>
                    <a:pt x="402" y="1470"/>
                  </a:lnTo>
                  <a:lnTo>
                    <a:pt x="412" y="1468"/>
                  </a:lnTo>
                  <a:lnTo>
                    <a:pt x="422" y="1468"/>
                  </a:lnTo>
                  <a:lnTo>
                    <a:pt x="440" y="1468"/>
                  </a:lnTo>
                  <a:lnTo>
                    <a:pt x="458" y="1468"/>
                  </a:lnTo>
                  <a:lnTo>
                    <a:pt x="466" y="1466"/>
                  </a:lnTo>
                  <a:lnTo>
                    <a:pt x="474" y="1464"/>
                  </a:lnTo>
                  <a:lnTo>
                    <a:pt x="474" y="1464"/>
                  </a:lnTo>
                  <a:lnTo>
                    <a:pt x="514" y="1464"/>
                  </a:lnTo>
                  <a:lnTo>
                    <a:pt x="552" y="1468"/>
                  </a:lnTo>
                  <a:lnTo>
                    <a:pt x="588" y="1474"/>
                  </a:lnTo>
                  <a:lnTo>
                    <a:pt x="620" y="1482"/>
                  </a:lnTo>
                  <a:lnTo>
                    <a:pt x="650" y="1494"/>
                  </a:lnTo>
                  <a:lnTo>
                    <a:pt x="678" y="1508"/>
                  </a:lnTo>
                  <a:lnTo>
                    <a:pt x="702" y="1524"/>
                  </a:lnTo>
                  <a:lnTo>
                    <a:pt x="724" y="1542"/>
                  </a:lnTo>
                  <a:lnTo>
                    <a:pt x="742" y="1562"/>
                  </a:lnTo>
                  <a:lnTo>
                    <a:pt x="760" y="1586"/>
                  </a:lnTo>
                  <a:lnTo>
                    <a:pt x="774" y="1610"/>
                  </a:lnTo>
                  <a:lnTo>
                    <a:pt x="786" y="1638"/>
                  </a:lnTo>
                  <a:lnTo>
                    <a:pt x="794" y="1666"/>
                  </a:lnTo>
                  <a:lnTo>
                    <a:pt x="802" y="1696"/>
                  </a:lnTo>
                  <a:lnTo>
                    <a:pt x="806" y="1728"/>
                  </a:lnTo>
                  <a:lnTo>
                    <a:pt x="808" y="1760"/>
                  </a:lnTo>
                  <a:lnTo>
                    <a:pt x="808" y="1760"/>
                  </a:lnTo>
                  <a:lnTo>
                    <a:pt x="810" y="1784"/>
                  </a:lnTo>
                  <a:lnTo>
                    <a:pt x="814" y="1808"/>
                  </a:lnTo>
                  <a:lnTo>
                    <a:pt x="814" y="1820"/>
                  </a:lnTo>
                  <a:lnTo>
                    <a:pt x="814" y="1832"/>
                  </a:lnTo>
                  <a:lnTo>
                    <a:pt x="812" y="1846"/>
                  </a:lnTo>
                  <a:lnTo>
                    <a:pt x="808" y="1860"/>
                  </a:lnTo>
                  <a:lnTo>
                    <a:pt x="808" y="186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15"/>
            <p:cNvSpPr/>
            <p:nvPr/>
          </p:nvSpPr>
          <p:spPr>
            <a:xfrm>
              <a:off x="21988440" y="5365800"/>
              <a:ext cx="1825560" cy="3648240"/>
            </a:xfrm>
            <a:custGeom>
              <a:avLst/>
              <a:gdLst>
                <a:gd name="textAreaLeft" fmla="*/ 0 w 1825560"/>
                <a:gd name="textAreaRight" fmla="*/ 1825920 w 1825560"/>
                <a:gd name="textAreaTop" fmla="*/ 0 h 3648240"/>
                <a:gd name="textAreaBottom" fmla="*/ 3648600 h 3648240"/>
              </a:gdLst>
              <a:ahLst/>
              <a:rect l="textAreaLeft" t="textAreaTop" r="textAreaRight" b="textAreaBottom"/>
              <a:pathLst>
                <a:path w="1150" h="2298">
                  <a:moveTo>
                    <a:pt x="1126" y="1298"/>
                  </a:moveTo>
                  <a:lnTo>
                    <a:pt x="1126" y="1298"/>
                  </a:lnTo>
                  <a:lnTo>
                    <a:pt x="1126" y="1162"/>
                  </a:lnTo>
                  <a:lnTo>
                    <a:pt x="1126" y="1162"/>
                  </a:lnTo>
                  <a:lnTo>
                    <a:pt x="1110" y="1112"/>
                  </a:lnTo>
                  <a:lnTo>
                    <a:pt x="1088" y="1060"/>
                  </a:lnTo>
                  <a:lnTo>
                    <a:pt x="1064" y="1010"/>
                  </a:lnTo>
                  <a:lnTo>
                    <a:pt x="1038" y="960"/>
                  </a:lnTo>
                  <a:lnTo>
                    <a:pt x="1006" y="910"/>
                  </a:lnTo>
                  <a:lnTo>
                    <a:pt x="972" y="864"/>
                  </a:lnTo>
                  <a:lnTo>
                    <a:pt x="934" y="818"/>
                  </a:lnTo>
                  <a:lnTo>
                    <a:pt x="894" y="776"/>
                  </a:lnTo>
                  <a:lnTo>
                    <a:pt x="872" y="756"/>
                  </a:lnTo>
                  <a:lnTo>
                    <a:pt x="850" y="738"/>
                  </a:lnTo>
                  <a:lnTo>
                    <a:pt x="826" y="720"/>
                  </a:lnTo>
                  <a:lnTo>
                    <a:pt x="802" y="704"/>
                  </a:lnTo>
                  <a:lnTo>
                    <a:pt x="778" y="688"/>
                  </a:lnTo>
                  <a:lnTo>
                    <a:pt x="752" y="672"/>
                  </a:lnTo>
                  <a:lnTo>
                    <a:pt x="726" y="660"/>
                  </a:lnTo>
                  <a:lnTo>
                    <a:pt x="698" y="648"/>
                  </a:lnTo>
                  <a:lnTo>
                    <a:pt x="670" y="636"/>
                  </a:lnTo>
                  <a:lnTo>
                    <a:pt x="642" y="628"/>
                  </a:lnTo>
                  <a:lnTo>
                    <a:pt x="612" y="620"/>
                  </a:lnTo>
                  <a:lnTo>
                    <a:pt x="582" y="614"/>
                  </a:lnTo>
                  <a:lnTo>
                    <a:pt x="552" y="608"/>
                  </a:lnTo>
                  <a:lnTo>
                    <a:pt x="520" y="606"/>
                  </a:lnTo>
                  <a:lnTo>
                    <a:pt x="488" y="604"/>
                  </a:lnTo>
                  <a:lnTo>
                    <a:pt x="456" y="606"/>
                  </a:lnTo>
                  <a:lnTo>
                    <a:pt x="456" y="606"/>
                  </a:lnTo>
                  <a:lnTo>
                    <a:pt x="458" y="550"/>
                  </a:lnTo>
                  <a:lnTo>
                    <a:pt x="460" y="490"/>
                  </a:lnTo>
                  <a:lnTo>
                    <a:pt x="460" y="428"/>
                  </a:lnTo>
                  <a:lnTo>
                    <a:pt x="460" y="368"/>
                  </a:lnTo>
                  <a:lnTo>
                    <a:pt x="458" y="312"/>
                  </a:lnTo>
                  <a:lnTo>
                    <a:pt x="454" y="284"/>
                  </a:lnTo>
                  <a:lnTo>
                    <a:pt x="450" y="258"/>
                  </a:lnTo>
                  <a:lnTo>
                    <a:pt x="444" y="234"/>
                  </a:lnTo>
                  <a:lnTo>
                    <a:pt x="436" y="210"/>
                  </a:lnTo>
                  <a:lnTo>
                    <a:pt x="428" y="190"/>
                  </a:lnTo>
                  <a:lnTo>
                    <a:pt x="416" y="172"/>
                  </a:lnTo>
                  <a:lnTo>
                    <a:pt x="416" y="172"/>
                  </a:lnTo>
                  <a:lnTo>
                    <a:pt x="416" y="118"/>
                  </a:lnTo>
                  <a:lnTo>
                    <a:pt x="414" y="94"/>
                  </a:lnTo>
                  <a:lnTo>
                    <a:pt x="412" y="74"/>
                  </a:lnTo>
                  <a:lnTo>
                    <a:pt x="408" y="54"/>
                  </a:lnTo>
                  <a:lnTo>
                    <a:pt x="402" y="36"/>
                  </a:lnTo>
                  <a:lnTo>
                    <a:pt x="394" y="20"/>
                  </a:lnTo>
                  <a:lnTo>
                    <a:pt x="384" y="4"/>
                  </a:lnTo>
                  <a:lnTo>
                    <a:pt x="384" y="4"/>
                  </a:lnTo>
                  <a:lnTo>
                    <a:pt x="314" y="0"/>
                  </a:lnTo>
                  <a:lnTo>
                    <a:pt x="260" y="2"/>
                  </a:lnTo>
                  <a:lnTo>
                    <a:pt x="238" y="4"/>
                  </a:lnTo>
                  <a:lnTo>
                    <a:pt x="218" y="6"/>
                  </a:lnTo>
                  <a:lnTo>
                    <a:pt x="200" y="12"/>
                  </a:lnTo>
                  <a:lnTo>
                    <a:pt x="184" y="16"/>
                  </a:lnTo>
                  <a:lnTo>
                    <a:pt x="170" y="24"/>
                  </a:lnTo>
                  <a:lnTo>
                    <a:pt x="154" y="32"/>
                  </a:lnTo>
                  <a:lnTo>
                    <a:pt x="124" y="50"/>
                  </a:lnTo>
                  <a:lnTo>
                    <a:pt x="92" y="74"/>
                  </a:lnTo>
                  <a:lnTo>
                    <a:pt x="50" y="102"/>
                  </a:lnTo>
                  <a:lnTo>
                    <a:pt x="50" y="102"/>
                  </a:lnTo>
                  <a:lnTo>
                    <a:pt x="44" y="232"/>
                  </a:lnTo>
                  <a:lnTo>
                    <a:pt x="36" y="366"/>
                  </a:lnTo>
                  <a:lnTo>
                    <a:pt x="24" y="510"/>
                  </a:lnTo>
                  <a:lnTo>
                    <a:pt x="10" y="666"/>
                  </a:lnTo>
                  <a:lnTo>
                    <a:pt x="10" y="666"/>
                  </a:lnTo>
                  <a:lnTo>
                    <a:pt x="10" y="688"/>
                  </a:lnTo>
                  <a:lnTo>
                    <a:pt x="10" y="710"/>
                  </a:lnTo>
                  <a:lnTo>
                    <a:pt x="14" y="754"/>
                  </a:lnTo>
                  <a:lnTo>
                    <a:pt x="18" y="794"/>
                  </a:lnTo>
                  <a:lnTo>
                    <a:pt x="20" y="812"/>
                  </a:lnTo>
                  <a:lnTo>
                    <a:pt x="18" y="826"/>
                  </a:lnTo>
                  <a:lnTo>
                    <a:pt x="18" y="826"/>
                  </a:lnTo>
                  <a:lnTo>
                    <a:pt x="12" y="874"/>
                  </a:lnTo>
                  <a:lnTo>
                    <a:pt x="8" y="928"/>
                  </a:lnTo>
                  <a:lnTo>
                    <a:pt x="6" y="982"/>
                  </a:lnTo>
                  <a:lnTo>
                    <a:pt x="4" y="1038"/>
                  </a:lnTo>
                  <a:lnTo>
                    <a:pt x="6" y="1094"/>
                  </a:lnTo>
                  <a:lnTo>
                    <a:pt x="12" y="1148"/>
                  </a:lnTo>
                  <a:lnTo>
                    <a:pt x="18" y="1200"/>
                  </a:lnTo>
                  <a:lnTo>
                    <a:pt x="26" y="1246"/>
                  </a:lnTo>
                  <a:lnTo>
                    <a:pt x="26" y="1246"/>
                  </a:lnTo>
                  <a:lnTo>
                    <a:pt x="18" y="1550"/>
                  </a:lnTo>
                  <a:lnTo>
                    <a:pt x="18" y="1550"/>
                  </a:lnTo>
                  <a:lnTo>
                    <a:pt x="18" y="1598"/>
                  </a:lnTo>
                  <a:lnTo>
                    <a:pt x="16" y="1644"/>
                  </a:lnTo>
                  <a:lnTo>
                    <a:pt x="10" y="1734"/>
                  </a:lnTo>
                  <a:lnTo>
                    <a:pt x="4" y="1822"/>
                  </a:lnTo>
                  <a:lnTo>
                    <a:pt x="2" y="1908"/>
                  </a:lnTo>
                  <a:lnTo>
                    <a:pt x="2" y="1908"/>
                  </a:lnTo>
                  <a:lnTo>
                    <a:pt x="0" y="1998"/>
                  </a:lnTo>
                  <a:lnTo>
                    <a:pt x="0" y="2020"/>
                  </a:lnTo>
                  <a:lnTo>
                    <a:pt x="2" y="2042"/>
                  </a:lnTo>
                  <a:lnTo>
                    <a:pt x="4" y="2060"/>
                  </a:lnTo>
                  <a:lnTo>
                    <a:pt x="10" y="2076"/>
                  </a:lnTo>
                  <a:lnTo>
                    <a:pt x="10" y="2076"/>
                  </a:lnTo>
                  <a:lnTo>
                    <a:pt x="6" y="2102"/>
                  </a:lnTo>
                  <a:lnTo>
                    <a:pt x="6" y="2130"/>
                  </a:lnTo>
                  <a:lnTo>
                    <a:pt x="6" y="2144"/>
                  </a:lnTo>
                  <a:lnTo>
                    <a:pt x="8" y="2158"/>
                  </a:lnTo>
                  <a:lnTo>
                    <a:pt x="12" y="2172"/>
                  </a:lnTo>
                  <a:lnTo>
                    <a:pt x="18" y="2182"/>
                  </a:lnTo>
                  <a:lnTo>
                    <a:pt x="18" y="2182"/>
                  </a:lnTo>
                  <a:lnTo>
                    <a:pt x="26" y="2200"/>
                  </a:lnTo>
                  <a:lnTo>
                    <a:pt x="38" y="2214"/>
                  </a:lnTo>
                  <a:lnTo>
                    <a:pt x="52" y="2226"/>
                  </a:lnTo>
                  <a:lnTo>
                    <a:pt x="68" y="2236"/>
                  </a:lnTo>
                  <a:lnTo>
                    <a:pt x="86" y="2244"/>
                  </a:lnTo>
                  <a:lnTo>
                    <a:pt x="106" y="2250"/>
                  </a:lnTo>
                  <a:lnTo>
                    <a:pt x="126" y="2254"/>
                  </a:lnTo>
                  <a:lnTo>
                    <a:pt x="146" y="2256"/>
                  </a:lnTo>
                  <a:lnTo>
                    <a:pt x="170" y="2258"/>
                  </a:lnTo>
                  <a:lnTo>
                    <a:pt x="192" y="2258"/>
                  </a:lnTo>
                  <a:lnTo>
                    <a:pt x="236" y="2256"/>
                  </a:lnTo>
                  <a:lnTo>
                    <a:pt x="280" y="2250"/>
                  </a:lnTo>
                  <a:lnTo>
                    <a:pt x="320" y="2244"/>
                  </a:lnTo>
                  <a:lnTo>
                    <a:pt x="320" y="2244"/>
                  </a:lnTo>
                  <a:lnTo>
                    <a:pt x="356" y="2180"/>
                  </a:lnTo>
                  <a:lnTo>
                    <a:pt x="372" y="2146"/>
                  </a:lnTo>
                  <a:lnTo>
                    <a:pt x="384" y="2114"/>
                  </a:lnTo>
                  <a:lnTo>
                    <a:pt x="384" y="2114"/>
                  </a:lnTo>
                  <a:lnTo>
                    <a:pt x="392" y="2084"/>
                  </a:lnTo>
                  <a:lnTo>
                    <a:pt x="398" y="2052"/>
                  </a:lnTo>
                  <a:lnTo>
                    <a:pt x="400" y="2018"/>
                  </a:lnTo>
                  <a:lnTo>
                    <a:pt x="404" y="1982"/>
                  </a:lnTo>
                  <a:lnTo>
                    <a:pt x="408" y="1916"/>
                  </a:lnTo>
                  <a:lnTo>
                    <a:pt x="412" y="1884"/>
                  </a:lnTo>
                  <a:lnTo>
                    <a:pt x="416" y="1856"/>
                  </a:lnTo>
                  <a:lnTo>
                    <a:pt x="416" y="1856"/>
                  </a:lnTo>
                  <a:lnTo>
                    <a:pt x="416" y="1474"/>
                  </a:lnTo>
                  <a:lnTo>
                    <a:pt x="416" y="1474"/>
                  </a:lnTo>
                  <a:lnTo>
                    <a:pt x="418" y="1462"/>
                  </a:lnTo>
                  <a:lnTo>
                    <a:pt x="418" y="1446"/>
                  </a:lnTo>
                  <a:lnTo>
                    <a:pt x="416" y="1404"/>
                  </a:lnTo>
                  <a:lnTo>
                    <a:pt x="418" y="1354"/>
                  </a:lnTo>
                  <a:lnTo>
                    <a:pt x="420" y="1330"/>
                  </a:lnTo>
                  <a:lnTo>
                    <a:pt x="424" y="1306"/>
                  </a:lnTo>
                  <a:lnTo>
                    <a:pt x="424" y="1306"/>
                  </a:lnTo>
                  <a:lnTo>
                    <a:pt x="454" y="1190"/>
                  </a:lnTo>
                  <a:lnTo>
                    <a:pt x="480" y="1078"/>
                  </a:lnTo>
                  <a:lnTo>
                    <a:pt x="480" y="1078"/>
                  </a:lnTo>
                  <a:lnTo>
                    <a:pt x="496" y="1082"/>
                  </a:lnTo>
                  <a:lnTo>
                    <a:pt x="512" y="1086"/>
                  </a:lnTo>
                  <a:lnTo>
                    <a:pt x="528" y="1094"/>
                  </a:lnTo>
                  <a:lnTo>
                    <a:pt x="542" y="1104"/>
                  </a:lnTo>
                  <a:lnTo>
                    <a:pt x="556" y="1114"/>
                  </a:lnTo>
                  <a:lnTo>
                    <a:pt x="570" y="1126"/>
                  </a:lnTo>
                  <a:lnTo>
                    <a:pt x="582" y="1138"/>
                  </a:lnTo>
                  <a:lnTo>
                    <a:pt x="594" y="1152"/>
                  </a:lnTo>
                  <a:lnTo>
                    <a:pt x="614" y="1182"/>
                  </a:lnTo>
                  <a:lnTo>
                    <a:pt x="632" y="1214"/>
                  </a:lnTo>
                  <a:lnTo>
                    <a:pt x="646" y="1246"/>
                  </a:lnTo>
                  <a:lnTo>
                    <a:pt x="656" y="1276"/>
                  </a:lnTo>
                  <a:lnTo>
                    <a:pt x="656" y="1276"/>
                  </a:lnTo>
                  <a:lnTo>
                    <a:pt x="656" y="1376"/>
                  </a:lnTo>
                  <a:lnTo>
                    <a:pt x="656" y="1376"/>
                  </a:lnTo>
                  <a:lnTo>
                    <a:pt x="658" y="1404"/>
                  </a:lnTo>
                  <a:lnTo>
                    <a:pt x="656" y="1438"/>
                  </a:lnTo>
                  <a:lnTo>
                    <a:pt x="654" y="1478"/>
                  </a:lnTo>
                  <a:lnTo>
                    <a:pt x="648" y="1518"/>
                  </a:lnTo>
                  <a:lnTo>
                    <a:pt x="640" y="1598"/>
                  </a:lnTo>
                  <a:lnTo>
                    <a:pt x="638" y="1630"/>
                  </a:lnTo>
                  <a:lnTo>
                    <a:pt x="640" y="1658"/>
                  </a:lnTo>
                  <a:lnTo>
                    <a:pt x="640" y="1658"/>
                  </a:lnTo>
                  <a:lnTo>
                    <a:pt x="644" y="1694"/>
                  </a:lnTo>
                  <a:lnTo>
                    <a:pt x="648" y="1738"/>
                  </a:lnTo>
                  <a:lnTo>
                    <a:pt x="654" y="1840"/>
                  </a:lnTo>
                  <a:lnTo>
                    <a:pt x="656" y="1950"/>
                  </a:lnTo>
                  <a:lnTo>
                    <a:pt x="656" y="2054"/>
                  </a:lnTo>
                  <a:lnTo>
                    <a:pt x="656" y="2054"/>
                  </a:lnTo>
                  <a:lnTo>
                    <a:pt x="654" y="2074"/>
                  </a:lnTo>
                  <a:lnTo>
                    <a:pt x="650" y="2094"/>
                  </a:lnTo>
                  <a:lnTo>
                    <a:pt x="646" y="2116"/>
                  </a:lnTo>
                  <a:lnTo>
                    <a:pt x="646" y="2126"/>
                  </a:lnTo>
                  <a:lnTo>
                    <a:pt x="648" y="2138"/>
                  </a:lnTo>
                  <a:lnTo>
                    <a:pt x="648" y="2138"/>
                  </a:lnTo>
                  <a:lnTo>
                    <a:pt x="654" y="2170"/>
                  </a:lnTo>
                  <a:lnTo>
                    <a:pt x="664" y="2204"/>
                  </a:lnTo>
                  <a:lnTo>
                    <a:pt x="674" y="2240"/>
                  </a:lnTo>
                  <a:lnTo>
                    <a:pt x="680" y="2274"/>
                  </a:lnTo>
                  <a:lnTo>
                    <a:pt x="680" y="2274"/>
                  </a:lnTo>
                  <a:lnTo>
                    <a:pt x="698" y="2284"/>
                  </a:lnTo>
                  <a:lnTo>
                    <a:pt x="704" y="2290"/>
                  </a:lnTo>
                  <a:lnTo>
                    <a:pt x="712" y="2298"/>
                  </a:lnTo>
                  <a:lnTo>
                    <a:pt x="712" y="2298"/>
                  </a:lnTo>
                  <a:lnTo>
                    <a:pt x="744" y="2298"/>
                  </a:lnTo>
                  <a:lnTo>
                    <a:pt x="774" y="2294"/>
                  </a:lnTo>
                  <a:lnTo>
                    <a:pt x="800" y="2290"/>
                  </a:lnTo>
                  <a:lnTo>
                    <a:pt x="826" y="2282"/>
                  </a:lnTo>
                  <a:lnTo>
                    <a:pt x="850" y="2272"/>
                  </a:lnTo>
                  <a:lnTo>
                    <a:pt x="872" y="2262"/>
                  </a:lnTo>
                  <a:lnTo>
                    <a:pt x="918" y="2236"/>
                  </a:lnTo>
                  <a:lnTo>
                    <a:pt x="918" y="2236"/>
                  </a:lnTo>
                  <a:lnTo>
                    <a:pt x="940" y="2224"/>
                  </a:lnTo>
                  <a:lnTo>
                    <a:pt x="960" y="2214"/>
                  </a:lnTo>
                  <a:lnTo>
                    <a:pt x="1004" y="2196"/>
                  </a:lnTo>
                  <a:lnTo>
                    <a:pt x="1024" y="2186"/>
                  </a:lnTo>
                  <a:lnTo>
                    <a:pt x="1044" y="2174"/>
                  </a:lnTo>
                  <a:lnTo>
                    <a:pt x="1062" y="2160"/>
                  </a:lnTo>
                  <a:lnTo>
                    <a:pt x="1078" y="2144"/>
                  </a:lnTo>
                  <a:lnTo>
                    <a:pt x="1078" y="2144"/>
                  </a:lnTo>
                  <a:lnTo>
                    <a:pt x="1088" y="2130"/>
                  </a:lnTo>
                  <a:lnTo>
                    <a:pt x="1094" y="2116"/>
                  </a:lnTo>
                  <a:lnTo>
                    <a:pt x="1096" y="2098"/>
                  </a:lnTo>
                  <a:lnTo>
                    <a:pt x="1098" y="2082"/>
                  </a:lnTo>
                  <a:lnTo>
                    <a:pt x="1098" y="2046"/>
                  </a:lnTo>
                  <a:lnTo>
                    <a:pt x="1100" y="2030"/>
                  </a:lnTo>
                  <a:lnTo>
                    <a:pt x="1102" y="2016"/>
                  </a:lnTo>
                  <a:lnTo>
                    <a:pt x="1102" y="2016"/>
                  </a:lnTo>
                  <a:lnTo>
                    <a:pt x="1116" y="1956"/>
                  </a:lnTo>
                  <a:lnTo>
                    <a:pt x="1134" y="1894"/>
                  </a:lnTo>
                  <a:lnTo>
                    <a:pt x="1134" y="1894"/>
                  </a:lnTo>
                  <a:lnTo>
                    <a:pt x="1138" y="1870"/>
                  </a:lnTo>
                  <a:lnTo>
                    <a:pt x="1140" y="1846"/>
                  </a:lnTo>
                  <a:lnTo>
                    <a:pt x="1138" y="1794"/>
                  </a:lnTo>
                  <a:lnTo>
                    <a:pt x="1138" y="1746"/>
                  </a:lnTo>
                  <a:lnTo>
                    <a:pt x="1138" y="1722"/>
                  </a:lnTo>
                  <a:lnTo>
                    <a:pt x="1142" y="1702"/>
                  </a:lnTo>
                  <a:lnTo>
                    <a:pt x="1142" y="1702"/>
                  </a:lnTo>
                  <a:lnTo>
                    <a:pt x="1142" y="1574"/>
                  </a:lnTo>
                  <a:lnTo>
                    <a:pt x="1142" y="1574"/>
                  </a:lnTo>
                  <a:lnTo>
                    <a:pt x="1146" y="1544"/>
                  </a:lnTo>
                  <a:lnTo>
                    <a:pt x="1150" y="1510"/>
                  </a:lnTo>
                  <a:lnTo>
                    <a:pt x="1150" y="1476"/>
                  </a:lnTo>
                  <a:lnTo>
                    <a:pt x="1148" y="1440"/>
                  </a:lnTo>
                  <a:lnTo>
                    <a:pt x="1144" y="1404"/>
                  </a:lnTo>
                  <a:lnTo>
                    <a:pt x="1138" y="1368"/>
                  </a:lnTo>
                  <a:lnTo>
                    <a:pt x="1126" y="1298"/>
                  </a:lnTo>
                  <a:lnTo>
                    <a:pt x="1126" y="1298"/>
                  </a:lnTo>
                  <a:close/>
                  <a:moveTo>
                    <a:pt x="1030" y="1688"/>
                  </a:moveTo>
                  <a:lnTo>
                    <a:pt x="1030" y="1688"/>
                  </a:lnTo>
                  <a:lnTo>
                    <a:pt x="1024" y="1716"/>
                  </a:lnTo>
                  <a:lnTo>
                    <a:pt x="1020" y="1746"/>
                  </a:lnTo>
                  <a:lnTo>
                    <a:pt x="1020" y="1774"/>
                  </a:lnTo>
                  <a:lnTo>
                    <a:pt x="1018" y="1802"/>
                  </a:lnTo>
                  <a:lnTo>
                    <a:pt x="1022" y="1856"/>
                  </a:lnTo>
                  <a:lnTo>
                    <a:pt x="1024" y="1908"/>
                  </a:lnTo>
                  <a:lnTo>
                    <a:pt x="1026" y="1958"/>
                  </a:lnTo>
                  <a:lnTo>
                    <a:pt x="1024" y="1982"/>
                  </a:lnTo>
                  <a:lnTo>
                    <a:pt x="1022" y="2006"/>
                  </a:lnTo>
                  <a:lnTo>
                    <a:pt x="1016" y="2028"/>
                  </a:lnTo>
                  <a:lnTo>
                    <a:pt x="1008" y="2050"/>
                  </a:lnTo>
                  <a:lnTo>
                    <a:pt x="996" y="2072"/>
                  </a:lnTo>
                  <a:lnTo>
                    <a:pt x="982" y="2092"/>
                  </a:lnTo>
                  <a:lnTo>
                    <a:pt x="982" y="2092"/>
                  </a:lnTo>
                  <a:lnTo>
                    <a:pt x="976" y="2102"/>
                  </a:lnTo>
                  <a:lnTo>
                    <a:pt x="970" y="2114"/>
                  </a:lnTo>
                  <a:lnTo>
                    <a:pt x="960" y="2122"/>
                  </a:lnTo>
                  <a:lnTo>
                    <a:pt x="950" y="2132"/>
                  </a:lnTo>
                  <a:lnTo>
                    <a:pt x="928" y="2146"/>
                  </a:lnTo>
                  <a:lnTo>
                    <a:pt x="902" y="2158"/>
                  </a:lnTo>
                  <a:lnTo>
                    <a:pt x="846" y="2180"/>
                  </a:lnTo>
                  <a:lnTo>
                    <a:pt x="822" y="2192"/>
                  </a:lnTo>
                  <a:lnTo>
                    <a:pt x="798" y="2206"/>
                  </a:lnTo>
                  <a:lnTo>
                    <a:pt x="798" y="2206"/>
                  </a:lnTo>
                  <a:lnTo>
                    <a:pt x="768" y="2206"/>
                  </a:lnTo>
                  <a:lnTo>
                    <a:pt x="768" y="2206"/>
                  </a:lnTo>
                  <a:lnTo>
                    <a:pt x="762" y="2170"/>
                  </a:lnTo>
                  <a:lnTo>
                    <a:pt x="760" y="2132"/>
                  </a:lnTo>
                  <a:lnTo>
                    <a:pt x="760" y="2092"/>
                  </a:lnTo>
                  <a:lnTo>
                    <a:pt x="760" y="2052"/>
                  </a:lnTo>
                  <a:lnTo>
                    <a:pt x="762" y="1972"/>
                  </a:lnTo>
                  <a:lnTo>
                    <a:pt x="762" y="1936"/>
                  </a:lnTo>
                  <a:lnTo>
                    <a:pt x="760" y="1900"/>
                  </a:lnTo>
                  <a:lnTo>
                    <a:pt x="760" y="1900"/>
                  </a:lnTo>
                  <a:lnTo>
                    <a:pt x="752" y="1836"/>
                  </a:lnTo>
                  <a:lnTo>
                    <a:pt x="744" y="1760"/>
                  </a:lnTo>
                  <a:lnTo>
                    <a:pt x="742" y="1720"/>
                  </a:lnTo>
                  <a:lnTo>
                    <a:pt x="742" y="1682"/>
                  </a:lnTo>
                  <a:lnTo>
                    <a:pt x="746" y="1644"/>
                  </a:lnTo>
                  <a:lnTo>
                    <a:pt x="752" y="1612"/>
                  </a:lnTo>
                  <a:lnTo>
                    <a:pt x="752" y="1612"/>
                  </a:lnTo>
                  <a:lnTo>
                    <a:pt x="756" y="1578"/>
                  </a:lnTo>
                  <a:lnTo>
                    <a:pt x="762" y="1532"/>
                  </a:lnTo>
                  <a:lnTo>
                    <a:pt x="764" y="1480"/>
                  </a:lnTo>
                  <a:lnTo>
                    <a:pt x="766" y="1424"/>
                  </a:lnTo>
                  <a:lnTo>
                    <a:pt x="766" y="1368"/>
                  </a:lnTo>
                  <a:lnTo>
                    <a:pt x="764" y="1314"/>
                  </a:lnTo>
                  <a:lnTo>
                    <a:pt x="758" y="1270"/>
                  </a:lnTo>
                  <a:lnTo>
                    <a:pt x="756" y="1252"/>
                  </a:lnTo>
                  <a:lnTo>
                    <a:pt x="752" y="1238"/>
                  </a:lnTo>
                  <a:lnTo>
                    <a:pt x="752" y="1238"/>
                  </a:lnTo>
                  <a:lnTo>
                    <a:pt x="742" y="1218"/>
                  </a:lnTo>
                  <a:lnTo>
                    <a:pt x="732" y="1198"/>
                  </a:lnTo>
                  <a:lnTo>
                    <a:pt x="720" y="1178"/>
                  </a:lnTo>
                  <a:lnTo>
                    <a:pt x="708" y="1162"/>
                  </a:lnTo>
                  <a:lnTo>
                    <a:pt x="694" y="1144"/>
                  </a:lnTo>
                  <a:lnTo>
                    <a:pt x="680" y="1130"/>
                  </a:lnTo>
                  <a:lnTo>
                    <a:pt x="650" y="1100"/>
                  </a:lnTo>
                  <a:lnTo>
                    <a:pt x="616" y="1072"/>
                  </a:lnTo>
                  <a:lnTo>
                    <a:pt x="580" y="1046"/>
                  </a:lnTo>
                  <a:lnTo>
                    <a:pt x="546" y="1020"/>
                  </a:lnTo>
                  <a:lnTo>
                    <a:pt x="512" y="994"/>
                  </a:lnTo>
                  <a:lnTo>
                    <a:pt x="512" y="994"/>
                  </a:lnTo>
                  <a:lnTo>
                    <a:pt x="408" y="994"/>
                  </a:lnTo>
                  <a:lnTo>
                    <a:pt x="408" y="994"/>
                  </a:lnTo>
                  <a:lnTo>
                    <a:pt x="402" y="998"/>
                  </a:lnTo>
                  <a:lnTo>
                    <a:pt x="396" y="1004"/>
                  </a:lnTo>
                  <a:lnTo>
                    <a:pt x="386" y="1018"/>
                  </a:lnTo>
                  <a:lnTo>
                    <a:pt x="376" y="1038"/>
                  </a:lnTo>
                  <a:lnTo>
                    <a:pt x="368" y="1062"/>
                  </a:lnTo>
                  <a:lnTo>
                    <a:pt x="360" y="1088"/>
                  </a:lnTo>
                  <a:lnTo>
                    <a:pt x="352" y="1120"/>
                  </a:lnTo>
                  <a:lnTo>
                    <a:pt x="340" y="1186"/>
                  </a:lnTo>
                  <a:lnTo>
                    <a:pt x="332" y="1258"/>
                  </a:lnTo>
                  <a:lnTo>
                    <a:pt x="326" y="1328"/>
                  </a:lnTo>
                  <a:lnTo>
                    <a:pt x="322" y="1392"/>
                  </a:lnTo>
                  <a:lnTo>
                    <a:pt x="320" y="1444"/>
                  </a:lnTo>
                  <a:lnTo>
                    <a:pt x="320" y="1444"/>
                  </a:lnTo>
                  <a:lnTo>
                    <a:pt x="322" y="1626"/>
                  </a:lnTo>
                  <a:lnTo>
                    <a:pt x="322" y="1726"/>
                  </a:lnTo>
                  <a:lnTo>
                    <a:pt x="316" y="1828"/>
                  </a:lnTo>
                  <a:lnTo>
                    <a:pt x="314" y="1880"/>
                  </a:lnTo>
                  <a:lnTo>
                    <a:pt x="308" y="1930"/>
                  </a:lnTo>
                  <a:lnTo>
                    <a:pt x="300" y="1978"/>
                  </a:lnTo>
                  <a:lnTo>
                    <a:pt x="292" y="2024"/>
                  </a:lnTo>
                  <a:lnTo>
                    <a:pt x="280" y="2068"/>
                  </a:lnTo>
                  <a:lnTo>
                    <a:pt x="268" y="2110"/>
                  </a:lnTo>
                  <a:lnTo>
                    <a:pt x="252" y="2148"/>
                  </a:lnTo>
                  <a:lnTo>
                    <a:pt x="234" y="2182"/>
                  </a:lnTo>
                  <a:lnTo>
                    <a:pt x="234" y="2182"/>
                  </a:lnTo>
                  <a:lnTo>
                    <a:pt x="194" y="2180"/>
                  </a:lnTo>
                  <a:lnTo>
                    <a:pt x="162" y="2176"/>
                  </a:lnTo>
                  <a:lnTo>
                    <a:pt x="106" y="2160"/>
                  </a:lnTo>
                  <a:lnTo>
                    <a:pt x="106" y="2160"/>
                  </a:lnTo>
                  <a:lnTo>
                    <a:pt x="106" y="1818"/>
                  </a:lnTo>
                  <a:lnTo>
                    <a:pt x="106" y="1818"/>
                  </a:lnTo>
                  <a:lnTo>
                    <a:pt x="116" y="1760"/>
                  </a:lnTo>
                  <a:lnTo>
                    <a:pt x="122" y="1726"/>
                  </a:lnTo>
                  <a:lnTo>
                    <a:pt x="122" y="1712"/>
                  </a:lnTo>
                  <a:lnTo>
                    <a:pt x="122" y="1702"/>
                  </a:lnTo>
                  <a:lnTo>
                    <a:pt x="122" y="1702"/>
                  </a:lnTo>
                  <a:lnTo>
                    <a:pt x="116" y="1670"/>
                  </a:lnTo>
                  <a:lnTo>
                    <a:pt x="114" y="1632"/>
                  </a:lnTo>
                  <a:lnTo>
                    <a:pt x="112" y="1594"/>
                  </a:lnTo>
                  <a:lnTo>
                    <a:pt x="112" y="1556"/>
                  </a:lnTo>
                  <a:lnTo>
                    <a:pt x="116" y="1486"/>
                  </a:lnTo>
                  <a:lnTo>
                    <a:pt x="118" y="1458"/>
                  </a:lnTo>
                  <a:lnTo>
                    <a:pt x="122" y="1436"/>
                  </a:lnTo>
                  <a:lnTo>
                    <a:pt x="122" y="1436"/>
                  </a:lnTo>
                  <a:lnTo>
                    <a:pt x="128" y="1400"/>
                  </a:lnTo>
                  <a:lnTo>
                    <a:pt x="130" y="1360"/>
                  </a:lnTo>
                  <a:lnTo>
                    <a:pt x="130" y="1318"/>
                  </a:lnTo>
                  <a:lnTo>
                    <a:pt x="128" y="1278"/>
                  </a:lnTo>
                  <a:lnTo>
                    <a:pt x="124" y="1236"/>
                  </a:lnTo>
                  <a:lnTo>
                    <a:pt x="118" y="1198"/>
                  </a:lnTo>
                  <a:lnTo>
                    <a:pt x="112" y="1162"/>
                  </a:lnTo>
                  <a:lnTo>
                    <a:pt x="106" y="1132"/>
                  </a:lnTo>
                  <a:lnTo>
                    <a:pt x="106" y="1132"/>
                  </a:lnTo>
                  <a:lnTo>
                    <a:pt x="106" y="804"/>
                  </a:lnTo>
                  <a:lnTo>
                    <a:pt x="106" y="804"/>
                  </a:lnTo>
                  <a:lnTo>
                    <a:pt x="106" y="754"/>
                  </a:lnTo>
                  <a:lnTo>
                    <a:pt x="108" y="706"/>
                  </a:lnTo>
                  <a:lnTo>
                    <a:pt x="116" y="608"/>
                  </a:lnTo>
                  <a:lnTo>
                    <a:pt x="120" y="514"/>
                  </a:lnTo>
                  <a:lnTo>
                    <a:pt x="122" y="468"/>
                  </a:lnTo>
                  <a:lnTo>
                    <a:pt x="122" y="422"/>
                  </a:lnTo>
                  <a:lnTo>
                    <a:pt x="122" y="422"/>
                  </a:lnTo>
                  <a:lnTo>
                    <a:pt x="120" y="416"/>
                  </a:lnTo>
                  <a:lnTo>
                    <a:pt x="116" y="410"/>
                  </a:lnTo>
                  <a:lnTo>
                    <a:pt x="114" y="404"/>
                  </a:lnTo>
                  <a:lnTo>
                    <a:pt x="112" y="398"/>
                  </a:lnTo>
                  <a:lnTo>
                    <a:pt x="114" y="392"/>
                  </a:lnTo>
                  <a:lnTo>
                    <a:pt x="114" y="392"/>
                  </a:lnTo>
                  <a:lnTo>
                    <a:pt x="124" y="340"/>
                  </a:lnTo>
                  <a:lnTo>
                    <a:pt x="128" y="312"/>
                  </a:lnTo>
                  <a:lnTo>
                    <a:pt x="132" y="284"/>
                  </a:lnTo>
                  <a:lnTo>
                    <a:pt x="132" y="256"/>
                  </a:lnTo>
                  <a:lnTo>
                    <a:pt x="132" y="230"/>
                  </a:lnTo>
                  <a:lnTo>
                    <a:pt x="128" y="206"/>
                  </a:lnTo>
                  <a:lnTo>
                    <a:pt x="122" y="186"/>
                  </a:lnTo>
                  <a:lnTo>
                    <a:pt x="122" y="186"/>
                  </a:lnTo>
                  <a:lnTo>
                    <a:pt x="134" y="174"/>
                  </a:lnTo>
                  <a:lnTo>
                    <a:pt x="144" y="162"/>
                  </a:lnTo>
                  <a:lnTo>
                    <a:pt x="162" y="138"/>
                  </a:lnTo>
                  <a:lnTo>
                    <a:pt x="174" y="128"/>
                  </a:lnTo>
                  <a:lnTo>
                    <a:pt x="186" y="118"/>
                  </a:lnTo>
                  <a:lnTo>
                    <a:pt x="200" y="108"/>
                  </a:lnTo>
                  <a:lnTo>
                    <a:pt x="218" y="102"/>
                  </a:lnTo>
                  <a:lnTo>
                    <a:pt x="218" y="102"/>
                  </a:lnTo>
                  <a:lnTo>
                    <a:pt x="234" y="94"/>
                  </a:lnTo>
                  <a:lnTo>
                    <a:pt x="250" y="88"/>
                  </a:lnTo>
                  <a:lnTo>
                    <a:pt x="250" y="88"/>
                  </a:lnTo>
                  <a:lnTo>
                    <a:pt x="320" y="88"/>
                  </a:lnTo>
                  <a:lnTo>
                    <a:pt x="320" y="88"/>
                  </a:lnTo>
                  <a:lnTo>
                    <a:pt x="320" y="94"/>
                  </a:lnTo>
                  <a:lnTo>
                    <a:pt x="320" y="94"/>
                  </a:lnTo>
                  <a:lnTo>
                    <a:pt x="328" y="94"/>
                  </a:lnTo>
                  <a:lnTo>
                    <a:pt x="328" y="94"/>
                  </a:lnTo>
                  <a:lnTo>
                    <a:pt x="326" y="112"/>
                  </a:lnTo>
                  <a:lnTo>
                    <a:pt x="324" y="128"/>
                  </a:lnTo>
                  <a:lnTo>
                    <a:pt x="326" y="162"/>
                  </a:lnTo>
                  <a:lnTo>
                    <a:pt x="330" y="194"/>
                  </a:lnTo>
                  <a:lnTo>
                    <a:pt x="336" y="226"/>
                  </a:lnTo>
                  <a:lnTo>
                    <a:pt x="354" y="290"/>
                  </a:lnTo>
                  <a:lnTo>
                    <a:pt x="362" y="322"/>
                  </a:lnTo>
                  <a:lnTo>
                    <a:pt x="368" y="354"/>
                  </a:lnTo>
                  <a:lnTo>
                    <a:pt x="368" y="354"/>
                  </a:lnTo>
                  <a:lnTo>
                    <a:pt x="360" y="414"/>
                  </a:lnTo>
                  <a:lnTo>
                    <a:pt x="360" y="414"/>
                  </a:lnTo>
                  <a:lnTo>
                    <a:pt x="358" y="498"/>
                  </a:lnTo>
                  <a:lnTo>
                    <a:pt x="358" y="538"/>
                  </a:lnTo>
                  <a:lnTo>
                    <a:pt x="360" y="576"/>
                  </a:lnTo>
                  <a:lnTo>
                    <a:pt x="364" y="614"/>
                  </a:lnTo>
                  <a:lnTo>
                    <a:pt x="370" y="648"/>
                  </a:lnTo>
                  <a:lnTo>
                    <a:pt x="380" y="678"/>
                  </a:lnTo>
                  <a:lnTo>
                    <a:pt x="386" y="692"/>
                  </a:lnTo>
                  <a:lnTo>
                    <a:pt x="392" y="704"/>
                  </a:lnTo>
                  <a:lnTo>
                    <a:pt x="392" y="704"/>
                  </a:lnTo>
                  <a:lnTo>
                    <a:pt x="414" y="706"/>
                  </a:lnTo>
                  <a:lnTo>
                    <a:pt x="436" y="704"/>
                  </a:lnTo>
                  <a:lnTo>
                    <a:pt x="458" y="700"/>
                  </a:lnTo>
                  <a:lnTo>
                    <a:pt x="478" y="694"/>
                  </a:lnTo>
                  <a:lnTo>
                    <a:pt x="500" y="688"/>
                  </a:lnTo>
                  <a:lnTo>
                    <a:pt x="522" y="686"/>
                  </a:lnTo>
                  <a:lnTo>
                    <a:pt x="544" y="686"/>
                  </a:lnTo>
                  <a:lnTo>
                    <a:pt x="556" y="686"/>
                  </a:lnTo>
                  <a:lnTo>
                    <a:pt x="568" y="690"/>
                  </a:lnTo>
                  <a:lnTo>
                    <a:pt x="568" y="690"/>
                  </a:lnTo>
                  <a:lnTo>
                    <a:pt x="606" y="702"/>
                  </a:lnTo>
                  <a:lnTo>
                    <a:pt x="656" y="720"/>
                  </a:lnTo>
                  <a:lnTo>
                    <a:pt x="706" y="740"/>
                  </a:lnTo>
                  <a:lnTo>
                    <a:pt x="728" y="750"/>
                  </a:lnTo>
                  <a:lnTo>
                    <a:pt x="744" y="758"/>
                  </a:lnTo>
                  <a:lnTo>
                    <a:pt x="744" y="758"/>
                  </a:lnTo>
                  <a:lnTo>
                    <a:pt x="764" y="772"/>
                  </a:lnTo>
                  <a:lnTo>
                    <a:pt x="784" y="788"/>
                  </a:lnTo>
                  <a:lnTo>
                    <a:pt x="806" y="808"/>
                  </a:lnTo>
                  <a:lnTo>
                    <a:pt x="826" y="830"/>
                  </a:lnTo>
                  <a:lnTo>
                    <a:pt x="848" y="854"/>
                  </a:lnTo>
                  <a:lnTo>
                    <a:pt x="868" y="880"/>
                  </a:lnTo>
                  <a:lnTo>
                    <a:pt x="908" y="934"/>
                  </a:lnTo>
                  <a:lnTo>
                    <a:pt x="944" y="992"/>
                  </a:lnTo>
                  <a:lnTo>
                    <a:pt x="976" y="1050"/>
                  </a:lnTo>
                  <a:lnTo>
                    <a:pt x="990" y="1080"/>
                  </a:lnTo>
                  <a:lnTo>
                    <a:pt x="1004" y="1108"/>
                  </a:lnTo>
                  <a:lnTo>
                    <a:pt x="1014" y="1136"/>
                  </a:lnTo>
                  <a:lnTo>
                    <a:pt x="1022" y="1162"/>
                  </a:lnTo>
                  <a:lnTo>
                    <a:pt x="1022" y="1162"/>
                  </a:lnTo>
                  <a:lnTo>
                    <a:pt x="1030" y="1344"/>
                  </a:lnTo>
                  <a:lnTo>
                    <a:pt x="1030" y="1344"/>
                  </a:lnTo>
                  <a:lnTo>
                    <a:pt x="1038" y="1386"/>
                  </a:lnTo>
                  <a:lnTo>
                    <a:pt x="1044" y="1428"/>
                  </a:lnTo>
                  <a:lnTo>
                    <a:pt x="1048" y="1470"/>
                  </a:lnTo>
                  <a:lnTo>
                    <a:pt x="1050" y="1514"/>
                  </a:lnTo>
                  <a:lnTo>
                    <a:pt x="1048" y="1558"/>
                  </a:lnTo>
                  <a:lnTo>
                    <a:pt x="1044" y="1602"/>
                  </a:lnTo>
                  <a:lnTo>
                    <a:pt x="1038" y="1646"/>
                  </a:lnTo>
                  <a:lnTo>
                    <a:pt x="1030" y="1688"/>
                  </a:lnTo>
                  <a:lnTo>
                    <a:pt x="1030" y="16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16"/>
            <p:cNvSpPr/>
            <p:nvPr/>
          </p:nvSpPr>
          <p:spPr>
            <a:xfrm>
              <a:off x="22156920" y="5505480"/>
              <a:ext cx="1498320" cy="3362400"/>
            </a:xfrm>
            <a:custGeom>
              <a:avLst/>
              <a:gdLst>
                <a:gd name="textAreaLeft" fmla="*/ 0 w 1498320"/>
                <a:gd name="textAreaRight" fmla="*/ 1498680 w 1498320"/>
                <a:gd name="textAreaTop" fmla="*/ 0 h 3362400"/>
                <a:gd name="textAreaBottom" fmla="*/ 3362760 h 3362400"/>
              </a:gdLst>
              <a:ahLst/>
              <a:rect l="textAreaLeft" t="textAreaTop" r="textAreaRight" b="textAreaBottom"/>
              <a:pathLst>
                <a:path w="944" h="2118">
                  <a:moveTo>
                    <a:pt x="916" y="1074"/>
                  </a:moveTo>
                  <a:lnTo>
                    <a:pt x="916" y="1074"/>
                  </a:lnTo>
                  <a:lnTo>
                    <a:pt x="908" y="1048"/>
                  </a:lnTo>
                  <a:lnTo>
                    <a:pt x="898" y="1020"/>
                  </a:lnTo>
                  <a:lnTo>
                    <a:pt x="884" y="992"/>
                  </a:lnTo>
                  <a:lnTo>
                    <a:pt x="870" y="962"/>
                  </a:lnTo>
                  <a:lnTo>
                    <a:pt x="838" y="904"/>
                  </a:lnTo>
                  <a:lnTo>
                    <a:pt x="802" y="846"/>
                  </a:lnTo>
                  <a:lnTo>
                    <a:pt x="762" y="792"/>
                  </a:lnTo>
                  <a:lnTo>
                    <a:pt x="742" y="766"/>
                  </a:lnTo>
                  <a:lnTo>
                    <a:pt x="720" y="742"/>
                  </a:lnTo>
                  <a:lnTo>
                    <a:pt x="700" y="720"/>
                  </a:lnTo>
                  <a:lnTo>
                    <a:pt x="678" y="700"/>
                  </a:lnTo>
                  <a:lnTo>
                    <a:pt x="658" y="684"/>
                  </a:lnTo>
                  <a:lnTo>
                    <a:pt x="638" y="670"/>
                  </a:lnTo>
                  <a:lnTo>
                    <a:pt x="638" y="670"/>
                  </a:lnTo>
                  <a:lnTo>
                    <a:pt x="622" y="662"/>
                  </a:lnTo>
                  <a:lnTo>
                    <a:pt x="600" y="652"/>
                  </a:lnTo>
                  <a:lnTo>
                    <a:pt x="550" y="632"/>
                  </a:lnTo>
                  <a:lnTo>
                    <a:pt x="500" y="614"/>
                  </a:lnTo>
                  <a:lnTo>
                    <a:pt x="462" y="602"/>
                  </a:lnTo>
                  <a:lnTo>
                    <a:pt x="462" y="602"/>
                  </a:lnTo>
                  <a:lnTo>
                    <a:pt x="450" y="598"/>
                  </a:lnTo>
                  <a:lnTo>
                    <a:pt x="438" y="598"/>
                  </a:lnTo>
                  <a:lnTo>
                    <a:pt x="416" y="598"/>
                  </a:lnTo>
                  <a:lnTo>
                    <a:pt x="394" y="600"/>
                  </a:lnTo>
                  <a:lnTo>
                    <a:pt x="372" y="606"/>
                  </a:lnTo>
                  <a:lnTo>
                    <a:pt x="352" y="612"/>
                  </a:lnTo>
                  <a:lnTo>
                    <a:pt x="330" y="616"/>
                  </a:lnTo>
                  <a:lnTo>
                    <a:pt x="308" y="618"/>
                  </a:lnTo>
                  <a:lnTo>
                    <a:pt x="286" y="616"/>
                  </a:lnTo>
                  <a:lnTo>
                    <a:pt x="286" y="616"/>
                  </a:lnTo>
                  <a:lnTo>
                    <a:pt x="280" y="604"/>
                  </a:lnTo>
                  <a:lnTo>
                    <a:pt x="274" y="590"/>
                  </a:lnTo>
                  <a:lnTo>
                    <a:pt x="264" y="560"/>
                  </a:lnTo>
                  <a:lnTo>
                    <a:pt x="258" y="526"/>
                  </a:lnTo>
                  <a:lnTo>
                    <a:pt x="254" y="488"/>
                  </a:lnTo>
                  <a:lnTo>
                    <a:pt x="252" y="450"/>
                  </a:lnTo>
                  <a:lnTo>
                    <a:pt x="252" y="410"/>
                  </a:lnTo>
                  <a:lnTo>
                    <a:pt x="254" y="326"/>
                  </a:lnTo>
                  <a:lnTo>
                    <a:pt x="254" y="326"/>
                  </a:lnTo>
                  <a:lnTo>
                    <a:pt x="262" y="266"/>
                  </a:lnTo>
                  <a:lnTo>
                    <a:pt x="262" y="266"/>
                  </a:lnTo>
                  <a:lnTo>
                    <a:pt x="256" y="234"/>
                  </a:lnTo>
                  <a:lnTo>
                    <a:pt x="248" y="202"/>
                  </a:lnTo>
                  <a:lnTo>
                    <a:pt x="230" y="138"/>
                  </a:lnTo>
                  <a:lnTo>
                    <a:pt x="224" y="106"/>
                  </a:lnTo>
                  <a:lnTo>
                    <a:pt x="220" y="74"/>
                  </a:lnTo>
                  <a:lnTo>
                    <a:pt x="218" y="40"/>
                  </a:lnTo>
                  <a:lnTo>
                    <a:pt x="220" y="24"/>
                  </a:lnTo>
                  <a:lnTo>
                    <a:pt x="222" y="6"/>
                  </a:lnTo>
                  <a:lnTo>
                    <a:pt x="222" y="6"/>
                  </a:lnTo>
                  <a:lnTo>
                    <a:pt x="214" y="6"/>
                  </a:lnTo>
                  <a:lnTo>
                    <a:pt x="214" y="6"/>
                  </a:lnTo>
                  <a:lnTo>
                    <a:pt x="214" y="0"/>
                  </a:lnTo>
                  <a:lnTo>
                    <a:pt x="214" y="0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28" y="6"/>
                  </a:lnTo>
                  <a:lnTo>
                    <a:pt x="112" y="14"/>
                  </a:lnTo>
                  <a:lnTo>
                    <a:pt x="112" y="14"/>
                  </a:lnTo>
                  <a:lnTo>
                    <a:pt x="94" y="20"/>
                  </a:lnTo>
                  <a:lnTo>
                    <a:pt x="80" y="30"/>
                  </a:lnTo>
                  <a:lnTo>
                    <a:pt x="68" y="40"/>
                  </a:lnTo>
                  <a:lnTo>
                    <a:pt x="56" y="50"/>
                  </a:lnTo>
                  <a:lnTo>
                    <a:pt x="38" y="74"/>
                  </a:lnTo>
                  <a:lnTo>
                    <a:pt x="28" y="86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22" y="118"/>
                  </a:lnTo>
                  <a:lnTo>
                    <a:pt x="26" y="142"/>
                  </a:lnTo>
                  <a:lnTo>
                    <a:pt x="26" y="168"/>
                  </a:lnTo>
                  <a:lnTo>
                    <a:pt x="26" y="196"/>
                  </a:lnTo>
                  <a:lnTo>
                    <a:pt x="22" y="224"/>
                  </a:lnTo>
                  <a:lnTo>
                    <a:pt x="18" y="252"/>
                  </a:lnTo>
                  <a:lnTo>
                    <a:pt x="8" y="304"/>
                  </a:lnTo>
                  <a:lnTo>
                    <a:pt x="8" y="304"/>
                  </a:lnTo>
                  <a:lnTo>
                    <a:pt x="6" y="310"/>
                  </a:lnTo>
                  <a:lnTo>
                    <a:pt x="8" y="316"/>
                  </a:lnTo>
                  <a:lnTo>
                    <a:pt x="10" y="322"/>
                  </a:lnTo>
                  <a:lnTo>
                    <a:pt x="14" y="328"/>
                  </a:lnTo>
                  <a:lnTo>
                    <a:pt x="16" y="334"/>
                  </a:lnTo>
                  <a:lnTo>
                    <a:pt x="16" y="334"/>
                  </a:lnTo>
                  <a:lnTo>
                    <a:pt x="16" y="380"/>
                  </a:lnTo>
                  <a:lnTo>
                    <a:pt x="14" y="426"/>
                  </a:lnTo>
                  <a:lnTo>
                    <a:pt x="10" y="520"/>
                  </a:lnTo>
                  <a:lnTo>
                    <a:pt x="2" y="618"/>
                  </a:lnTo>
                  <a:lnTo>
                    <a:pt x="0" y="666"/>
                  </a:lnTo>
                  <a:lnTo>
                    <a:pt x="0" y="716"/>
                  </a:lnTo>
                  <a:lnTo>
                    <a:pt x="0" y="716"/>
                  </a:lnTo>
                  <a:lnTo>
                    <a:pt x="0" y="1044"/>
                  </a:lnTo>
                  <a:lnTo>
                    <a:pt x="0" y="1044"/>
                  </a:lnTo>
                  <a:lnTo>
                    <a:pt x="6" y="1074"/>
                  </a:lnTo>
                  <a:lnTo>
                    <a:pt x="12" y="1110"/>
                  </a:lnTo>
                  <a:lnTo>
                    <a:pt x="18" y="1148"/>
                  </a:lnTo>
                  <a:lnTo>
                    <a:pt x="22" y="1190"/>
                  </a:lnTo>
                  <a:lnTo>
                    <a:pt x="24" y="1230"/>
                  </a:lnTo>
                  <a:lnTo>
                    <a:pt x="24" y="1272"/>
                  </a:lnTo>
                  <a:lnTo>
                    <a:pt x="22" y="1312"/>
                  </a:lnTo>
                  <a:lnTo>
                    <a:pt x="16" y="1348"/>
                  </a:lnTo>
                  <a:lnTo>
                    <a:pt x="16" y="1348"/>
                  </a:lnTo>
                  <a:lnTo>
                    <a:pt x="12" y="1370"/>
                  </a:lnTo>
                  <a:lnTo>
                    <a:pt x="10" y="1398"/>
                  </a:lnTo>
                  <a:lnTo>
                    <a:pt x="6" y="1468"/>
                  </a:lnTo>
                  <a:lnTo>
                    <a:pt x="6" y="1506"/>
                  </a:lnTo>
                  <a:lnTo>
                    <a:pt x="8" y="1544"/>
                  </a:lnTo>
                  <a:lnTo>
                    <a:pt x="10" y="1582"/>
                  </a:lnTo>
                  <a:lnTo>
                    <a:pt x="16" y="1614"/>
                  </a:lnTo>
                  <a:lnTo>
                    <a:pt x="16" y="1614"/>
                  </a:lnTo>
                  <a:lnTo>
                    <a:pt x="16" y="1624"/>
                  </a:lnTo>
                  <a:lnTo>
                    <a:pt x="16" y="1638"/>
                  </a:lnTo>
                  <a:lnTo>
                    <a:pt x="10" y="1672"/>
                  </a:lnTo>
                  <a:lnTo>
                    <a:pt x="0" y="1730"/>
                  </a:lnTo>
                  <a:lnTo>
                    <a:pt x="0" y="1730"/>
                  </a:lnTo>
                  <a:lnTo>
                    <a:pt x="0" y="2072"/>
                  </a:lnTo>
                  <a:lnTo>
                    <a:pt x="0" y="2072"/>
                  </a:lnTo>
                  <a:lnTo>
                    <a:pt x="56" y="2088"/>
                  </a:lnTo>
                  <a:lnTo>
                    <a:pt x="88" y="2092"/>
                  </a:lnTo>
                  <a:lnTo>
                    <a:pt x="128" y="2094"/>
                  </a:lnTo>
                  <a:lnTo>
                    <a:pt x="128" y="2094"/>
                  </a:lnTo>
                  <a:lnTo>
                    <a:pt x="146" y="2060"/>
                  </a:lnTo>
                  <a:lnTo>
                    <a:pt x="162" y="2022"/>
                  </a:lnTo>
                  <a:lnTo>
                    <a:pt x="174" y="1980"/>
                  </a:lnTo>
                  <a:lnTo>
                    <a:pt x="186" y="1936"/>
                  </a:lnTo>
                  <a:lnTo>
                    <a:pt x="194" y="1890"/>
                  </a:lnTo>
                  <a:lnTo>
                    <a:pt x="202" y="1842"/>
                  </a:lnTo>
                  <a:lnTo>
                    <a:pt x="208" y="1792"/>
                  </a:lnTo>
                  <a:lnTo>
                    <a:pt x="210" y="1740"/>
                  </a:lnTo>
                  <a:lnTo>
                    <a:pt x="216" y="1638"/>
                  </a:lnTo>
                  <a:lnTo>
                    <a:pt x="216" y="1538"/>
                  </a:lnTo>
                  <a:lnTo>
                    <a:pt x="214" y="1356"/>
                  </a:lnTo>
                  <a:lnTo>
                    <a:pt x="214" y="1356"/>
                  </a:lnTo>
                  <a:lnTo>
                    <a:pt x="216" y="1304"/>
                  </a:lnTo>
                  <a:lnTo>
                    <a:pt x="220" y="1240"/>
                  </a:lnTo>
                  <a:lnTo>
                    <a:pt x="226" y="1170"/>
                  </a:lnTo>
                  <a:lnTo>
                    <a:pt x="234" y="1098"/>
                  </a:lnTo>
                  <a:lnTo>
                    <a:pt x="246" y="1032"/>
                  </a:lnTo>
                  <a:lnTo>
                    <a:pt x="254" y="1000"/>
                  </a:lnTo>
                  <a:lnTo>
                    <a:pt x="262" y="974"/>
                  </a:lnTo>
                  <a:lnTo>
                    <a:pt x="270" y="950"/>
                  </a:lnTo>
                  <a:lnTo>
                    <a:pt x="280" y="930"/>
                  </a:lnTo>
                  <a:lnTo>
                    <a:pt x="290" y="916"/>
                  </a:lnTo>
                  <a:lnTo>
                    <a:pt x="296" y="910"/>
                  </a:lnTo>
                  <a:lnTo>
                    <a:pt x="302" y="906"/>
                  </a:lnTo>
                  <a:lnTo>
                    <a:pt x="302" y="906"/>
                  </a:lnTo>
                  <a:lnTo>
                    <a:pt x="406" y="906"/>
                  </a:lnTo>
                  <a:lnTo>
                    <a:pt x="406" y="906"/>
                  </a:lnTo>
                  <a:lnTo>
                    <a:pt x="440" y="932"/>
                  </a:lnTo>
                  <a:lnTo>
                    <a:pt x="474" y="958"/>
                  </a:lnTo>
                  <a:lnTo>
                    <a:pt x="510" y="984"/>
                  </a:lnTo>
                  <a:lnTo>
                    <a:pt x="544" y="1012"/>
                  </a:lnTo>
                  <a:lnTo>
                    <a:pt x="574" y="1042"/>
                  </a:lnTo>
                  <a:lnTo>
                    <a:pt x="588" y="1056"/>
                  </a:lnTo>
                  <a:lnTo>
                    <a:pt x="602" y="1074"/>
                  </a:lnTo>
                  <a:lnTo>
                    <a:pt x="614" y="1090"/>
                  </a:lnTo>
                  <a:lnTo>
                    <a:pt x="626" y="1110"/>
                  </a:lnTo>
                  <a:lnTo>
                    <a:pt x="636" y="1130"/>
                  </a:lnTo>
                  <a:lnTo>
                    <a:pt x="646" y="1150"/>
                  </a:lnTo>
                  <a:lnTo>
                    <a:pt x="646" y="1150"/>
                  </a:lnTo>
                  <a:lnTo>
                    <a:pt x="650" y="1164"/>
                  </a:lnTo>
                  <a:lnTo>
                    <a:pt x="652" y="1182"/>
                  </a:lnTo>
                  <a:lnTo>
                    <a:pt x="658" y="1226"/>
                  </a:lnTo>
                  <a:lnTo>
                    <a:pt x="660" y="1280"/>
                  </a:lnTo>
                  <a:lnTo>
                    <a:pt x="660" y="1336"/>
                  </a:lnTo>
                  <a:lnTo>
                    <a:pt x="658" y="1392"/>
                  </a:lnTo>
                  <a:lnTo>
                    <a:pt x="656" y="1444"/>
                  </a:lnTo>
                  <a:lnTo>
                    <a:pt x="650" y="1490"/>
                  </a:lnTo>
                  <a:lnTo>
                    <a:pt x="646" y="1524"/>
                  </a:lnTo>
                  <a:lnTo>
                    <a:pt x="646" y="1524"/>
                  </a:lnTo>
                  <a:lnTo>
                    <a:pt x="640" y="1556"/>
                  </a:lnTo>
                  <a:lnTo>
                    <a:pt x="636" y="1594"/>
                  </a:lnTo>
                  <a:lnTo>
                    <a:pt x="636" y="1632"/>
                  </a:lnTo>
                  <a:lnTo>
                    <a:pt x="638" y="1672"/>
                  </a:lnTo>
                  <a:lnTo>
                    <a:pt x="646" y="1748"/>
                  </a:lnTo>
                  <a:lnTo>
                    <a:pt x="654" y="1812"/>
                  </a:lnTo>
                  <a:lnTo>
                    <a:pt x="654" y="1812"/>
                  </a:lnTo>
                  <a:lnTo>
                    <a:pt x="656" y="1848"/>
                  </a:lnTo>
                  <a:lnTo>
                    <a:pt x="656" y="1884"/>
                  </a:lnTo>
                  <a:lnTo>
                    <a:pt x="654" y="1964"/>
                  </a:lnTo>
                  <a:lnTo>
                    <a:pt x="654" y="2004"/>
                  </a:lnTo>
                  <a:lnTo>
                    <a:pt x="654" y="2044"/>
                  </a:lnTo>
                  <a:lnTo>
                    <a:pt x="656" y="2082"/>
                  </a:lnTo>
                  <a:lnTo>
                    <a:pt x="662" y="2118"/>
                  </a:lnTo>
                  <a:lnTo>
                    <a:pt x="662" y="2118"/>
                  </a:lnTo>
                  <a:lnTo>
                    <a:pt x="692" y="2118"/>
                  </a:lnTo>
                  <a:lnTo>
                    <a:pt x="692" y="2118"/>
                  </a:lnTo>
                  <a:lnTo>
                    <a:pt x="716" y="2104"/>
                  </a:lnTo>
                  <a:lnTo>
                    <a:pt x="740" y="2092"/>
                  </a:lnTo>
                  <a:lnTo>
                    <a:pt x="796" y="2070"/>
                  </a:lnTo>
                  <a:lnTo>
                    <a:pt x="822" y="2058"/>
                  </a:lnTo>
                  <a:lnTo>
                    <a:pt x="844" y="2044"/>
                  </a:lnTo>
                  <a:lnTo>
                    <a:pt x="854" y="2034"/>
                  </a:lnTo>
                  <a:lnTo>
                    <a:pt x="864" y="2026"/>
                  </a:lnTo>
                  <a:lnTo>
                    <a:pt x="870" y="2014"/>
                  </a:lnTo>
                  <a:lnTo>
                    <a:pt x="876" y="2004"/>
                  </a:lnTo>
                  <a:lnTo>
                    <a:pt x="876" y="2004"/>
                  </a:lnTo>
                  <a:lnTo>
                    <a:pt x="890" y="1984"/>
                  </a:lnTo>
                  <a:lnTo>
                    <a:pt x="902" y="1962"/>
                  </a:lnTo>
                  <a:lnTo>
                    <a:pt x="910" y="1940"/>
                  </a:lnTo>
                  <a:lnTo>
                    <a:pt x="916" y="1918"/>
                  </a:lnTo>
                  <a:lnTo>
                    <a:pt x="918" y="1894"/>
                  </a:lnTo>
                  <a:lnTo>
                    <a:pt x="920" y="1870"/>
                  </a:lnTo>
                  <a:lnTo>
                    <a:pt x="918" y="1820"/>
                  </a:lnTo>
                  <a:lnTo>
                    <a:pt x="916" y="1768"/>
                  </a:lnTo>
                  <a:lnTo>
                    <a:pt x="912" y="1714"/>
                  </a:lnTo>
                  <a:lnTo>
                    <a:pt x="914" y="1686"/>
                  </a:lnTo>
                  <a:lnTo>
                    <a:pt x="914" y="1658"/>
                  </a:lnTo>
                  <a:lnTo>
                    <a:pt x="918" y="1628"/>
                  </a:lnTo>
                  <a:lnTo>
                    <a:pt x="924" y="1600"/>
                  </a:lnTo>
                  <a:lnTo>
                    <a:pt x="924" y="1600"/>
                  </a:lnTo>
                  <a:lnTo>
                    <a:pt x="932" y="1558"/>
                  </a:lnTo>
                  <a:lnTo>
                    <a:pt x="938" y="1514"/>
                  </a:lnTo>
                  <a:lnTo>
                    <a:pt x="942" y="1470"/>
                  </a:lnTo>
                  <a:lnTo>
                    <a:pt x="944" y="1426"/>
                  </a:lnTo>
                  <a:lnTo>
                    <a:pt x="942" y="1382"/>
                  </a:lnTo>
                  <a:lnTo>
                    <a:pt x="938" y="1340"/>
                  </a:lnTo>
                  <a:lnTo>
                    <a:pt x="932" y="1298"/>
                  </a:lnTo>
                  <a:lnTo>
                    <a:pt x="924" y="1256"/>
                  </a:lnTo>
                  <a:lnTo>
                    <a:pt x="924" y="1256"/>
                  </a:lnTo>
                  <a:lnTo>
                    <a:pt x="916" y="1074"/>
                  </a:lnTo>
                  <a:lnTo>
                    <a:pt x="916" y="1074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17"/>
            <p:cNvSpPr/>
            <p:nvPr/>
          </p:nvSpPr>
          <p:spPr>
            <a:xfrm>
              <a:off x="19788120" y="5686200"/>
              <a:ext cx="1892160" cy="3222720"/>
            </a:xfrm>
            <a:custGeom>
              <a:avLst/>
              <a:gdLst>
                <a:gd name="textAreaLeft" fmla="*/ 0 w 1892160"/>
                <a:gd name="textAreaRight" fmla="*/ 1892520 w 1892160"/>
                <a:gd name="textAreaTop" fmla="*/ 0 h 3222720"/>
                <a:gd name="textAreaBottom" fmla="*/ 3223080 h 3222720"/>
              </a:gdLst>
              <a:ahLst/>
              <a:rect l="textAreaLeft" t="textAreaTop" r="textAreaRight" b="textAreaBottom"/>
              <a:pathLst>
                <a:path w="1192" h="2030">
                  <a:moveTo>
                    <a:pt x="846" y="342"/>
                  </a:moveTo>
                  <a:lnTo>
                    <a:pt x="846" y="342"/>
                  </a:lnTo>
                  <a:lnTo>
                    <a:pt x="822" y="342"/>
                  </a:lnTo>
                  <a:lnTo>
                    <a:pt x="822" y="342"/>
                  </a:lnTo>
                  <a:lnTo>
                    <a:pt x="828" y="310"/>
                  </a:lnTo>
                  <a:lnTo>
                    <a:pt x="830" y="272"/>
                  </a:lnTo>
                  <a:lnTo>
                    <a:pt x="828" y="230"/>
                  </a:lnTo>
                  <a:lnTo>
                    <a:pt x="826" y="186"/>
                  </a:lnTo>
                  <a:lnTo>
                    <a:pt x="820" y="142"/>
                  </a:lnTo>
                  <a:lnTo>
                    <a:pt x="812" y="100"/>
                  </a:lnTo>
                  <a:lnTo>
                    <a:pt x="806" y="82"/>
                  </a:lnTo>
                  <a:lnTo>
                    <a:pt x="798" y="62"/>
                  </a:lnTo>
                  <a:lnTo>
                    <a:pt x="792" y="46"/>
                  </a:lnTo>
                  <a:lnTo>
                    <a:pt x="782" y="30"/>
                  </a:lnTo>
                  <a:lnTo>
                    <a:pt x="782" y="30"/>
                  </a:lnTo>
                  <a:lnTo>
                    <a:pt x="730" y="18"/>
                  </a:lnTo>
                  <a:lnTo>
                    <a:pt x="698" y="12"/>
                  </a:lnTo>
                  <a:lnTo>
                    <a:pt x="662" y="6"/>
                  </a:lnTo>
                  <a:lnTo>
                    <a:pt x="624" y="2"/>
                  </a:lnTo>
                  <a:lnTo>
                    <a:pt x="590" y="0"/>
                  </a:lnTo>
                  <a:lnTo>
                    <a:pt x="574" y="2"/>
                  </a:lnTo>
                  <a:lnTo>
                    <a:pt x="560" y="4"/>
                  </a:lnTo>
                  <a:lnTo>
                    <a:pt x="546" y="10"/>
                  </a:lnTo>
                  <a:lnTo>
                    <a:pt x="536" y="14"/>
                  </a:lnTo>
                  <a:lnTo>
                    <a:pt x="536" y="14"/>
                  </a:lnTo>
                  <a:lnTo>
                    <a:pt x="488" y="14"/>
                  </a:lnTo>
                  <a:lnTo>
                    <a:pt x="488" y="14"/>
                  </a:lnTo>
                  <a:lnTo>
                    <a:pt x="474" y="80"/>
                  </a:lnTo>
                  <a:lnTo>
                    <a:pt x="462" y="148"/>
                  </a:lnTo>
                  <a:lnTo>
                    <a:pt x="452" y="218"/>
                  </a:lnTo>
                  <a:lnTo>
                    <a:pt x="450" y="254"/>
                  </a:lnTo>
                  <a:lnTo>
                    <a:pt x="448" y="290"/>
                  </a:lnTo>
                  <a:lnTo>
                    <a:pt x="448" y="290"/>
                  </a:lnTo>
                  <a:lnTo>
                    <a:pt x="406" y="286"/>
                  </a:lnTo>
                  <a:lnTo>
                    <a:pt x="358" y="282"/>
                  </a:lnTo>
                  <a:lnTo>
                    <a:pt x="308" y="278"/>
                  </a:lnTo>
                  <a:lnTo>
                    <a:pt x="256" y="274"/>
                  </a:lnTo>
                  <a:lnTo>
                    <a:pt x="208" y="272"/>
                  </a:lnTo>
                  <a:lnTo>
                    <a:pt x="186" y="272"/>
                  </a:lnTo>
                  <a:lnTo>
                    <a:pt x="164" y="274"/>
                  </a:lnTo>
                  <a:lnTo>
                    <a:pt x="144" y="278"/>
                  </a:lnTo>
                  <a:lnTo>
                    <a:pt x="126" y="282"/>
                  </a:lnTo>
                  <a:lnTo>
                    <a:pt x="110" y="288"/>
                  </a:lnTo>
                  <a:lnTo>
                    <a:pt x="98" y="296"/>
                  </a:lnTo>
                  <a:lnTo>
                    <a:pt x="98" y="296"/>
                  </a:lnTo>
                  <a:lnTo>
                    <a:pt x="92" y="304"/>
                  </a:lnTo>
                  <a:lnTo>
                    <a:pt x="88" y="318"/>
                  </a:lnTo>
                  <a:lnTo>
                    <a:pt x="74" y="356"/>
                  </a:lnTo>
                  <a:lnTo>
                    <a:pt x="60" y="406"/>
                  </a:lnTo>
                  <a:lnTo>
                    <a:pt x="44" y="460"/>
                  </a:lnTo>
                  <a:lnTo>
                    <a:pt x="18" y="570"/>
                  </a:lnTo>
                  <a:lnTo>
                    <a:pt x="2" y="640"/>
                  </a:lnTo>
                  <a:lnTo>
                    <a:pt x="2" y="640"/>
                  </a:lnTo>
                  <a:lnTo>
                    <a:pt x="0" y="648"/>
                  </a:lnTo>
                  <a:lnTo>
                    <a:pt x="2" y="658"/>
                  </a:lnTo>
                  <a:lnTo>
                    <a:pt x="4" y="672"/>
                  </a:lnTo>
                  <a:lnTo>
                    <a:pt x="6" y="686"/>
                  </a:lnTo>
                  <a:lnTo>
                    <a:pt x="4" y="694"/>
                  </a:lnTo>
                  <a:lnTo>
                    <a:pt x="2" y="700"/>
                  </a:lnTo>
                  <a:lnTo>
                    <a:pt x="2" y="700"/>
                  </a:lnTo>
                  <a:lnTo>
                    <a:pt x="2" y="716"/>
                  </a:lnTo>
                  <a:lnTo>
                    <a:pt x="4" y="730"/>
                  </a:lnTo>
                  <a:lnTo>
                    <a:pt x="8" y="740"/>
                  </a:lnTo>
                  <a:lnTo>
                    <a:pt x="12" y="746"/>
                  </a:lnTo>
                  <a:lnTo>
                    <a:pt x="20" y="760"/>
                  </a:lnTo>
                  <a:lnTo>
                    <a:pt x="34" y="776"/>
                  </a:lnTo>
                  <a:lnTo>
                    <a:pt x="34" y="776"/>
                  </a:lnTo>
                  <a:lnTo>
                    <a:pt x="58" y="778"/>
                  </a:lnTo>
                  <a:lnTo>
                    <a:pt x="90" y="776"/>
                  </a:lnTo>
                  <a:lnTo>
                    <a:pt x="130" y="772"/>
                  </a:lnTo>
                  <a:lnTo>
                    <a:pt x="172" y="766"/>
                  </a:lnTo>
                  <a:lnTo>
                    <a:pt x="214" y="758"/>
                  </a:lnTo>
                  <a:lnTo>
                    <a:pt x="252" y="750"/>
                  </a:lnTo>
                  <a:lnTo>
                    <a:pt x="284" y="740"/>
                  </a:lnTo>
                  <a:lnTo>
                    <a:pt x="296" y="736"/>
                  </a:lnTo>
                  <a:lnTo>
                    <a:pt x="304" y="732"/>
                  </a:lnTo>
                  <a:lnTo>
                    <a:pt x="304" y="732"/>
                  </a:lnTo>
                  <a:lnTo>
                    <a:pt x="320" y="732"/>
                  </a:lnTo>
                  <a:lnTo>
                    <a:pt x="320" y="732"/>
                  </a:lnTo>
                  <a:lnTo>
                    <a:pt x="318" y="748"/>
                  </a:lnTo>
                  <a:lnTo>
                    <a:pt x="316" y="764"/>
                  </a:lnTo>
                  <a:lnTo>
                    <a:pt x="306" y="794"/>
                  </a:lnTo>
                  <a:lnTo>
                    <a:pt x="298" y="824"/>
                  </a:lnTo>
                  <a:lnTo>
                    <a:pt x="288" y="854"/>
                  </a:lnTo>
                  <a:lnTo>
                    <a:pt x="288" y="854"/>
                  </a:lnTo>
                  <a:lnTo>
                    <a:pt x="280" y="896"/>
                  </a:lnTo>
                  <a:lnTo>
                    <a:pt x="274" y="940"/>
                  </a:lnTo>
                  <a:lnTo>
                    <a:pt x="270" y="986"/>
                  </a:lnTo>
                  <a:lnTo>
                    <a:pt x="268" y="1030"/>
                  </a:lnTo>
                  <a:lnTo>
                    <a:pt x="266" y="1074"/>
                  </a:lnTo>
                  <a:lnTo>
                    <a:pt x="262" y="1118"/>
                  </a:lnTo>
                  <a:lnTo>
                    <a:pt x="256" y="1162"/>
                  </a:lnTo>
                  <a:lnTo>
                    <a:pt x="248" y="1204"/>
                  </a:lnTo>
                  <a:lnTo>
                    <a:pt x="248" y="1204"/>
                  </a:lnTo>
                  <a:lnTo>
                    <a:pt x="248" y="1486"/>
                  </a:lnTo>
                  <a:lnTo>
                    <a:pt x="248" y="1486"/>
                  </a:lnTo>
                  <a:lnTo>
                    <a:pt x="244" y="1520"/>
                  </a:lnTo>
                  <a:lnTo>
                    <a:pt x="240" y="1554"/>
                  </a:lnTo>
                  <a:lnTo>
                    <a:pt x="238" y="1620"/>
                  </a:lnTo>
                  <a:lnTo>
                    <a:pt x="238" y="1684"/>
                  </a:lnTo>
                  <a:lnTo>
                    <a:pt x="242" y="1746"/>
                  </a:lnTo>
                  <a:lnTo>
                    <a:pt x="248" y="1810"/>
                  </a:lnTo>
                  <a:lnTo>
                    <a:pt x="256" y="1872"/>
                  </a:lnTo>
                  <a:lnTo>
                    <a:pt x="272" y="1996"/>
                  </a:lnTo>
                  <a:lnTo>
                    <a:pt x="272" y="1996"/>
                  </a:lnTo>
                  <a:lnTo>
                    <a:pt x="328" y="2026"/>
                  </a:lnTo>
                  <a:lnTo>
                    <a:pt x="328" y="2026"/>
                  </a:lnTo>
                  <a:lnTo>
                    <a:pt x="342" y="2030"/>
                  </a:lnTo>
                  <a:lnTo>
                    <a:pt x="354" y="2030"/>
                  </a:lnTo>
                  <a:lnTo>
                    <a:pt x="378" y="2030"/>
                  </a:lnTo>
                  <a:lnTo>
                    <a:pt x="402" y="2026"/>
                  </a:lnTo>
                  <a:lnTo>
                    <a:pt x="426" y="2020"/>
                  </a:lnTo>
                  <a:lnTo>
                    <a:pt x="468" y="2002"/>
                  </a:lnTo>
                  <a:lnTo>
                    <a:pt x="486" y="1994"/>
                  </a:lnTo>
                  <a:lnTo>
                    <a:pt x="504" y="1988"/>
                  </a:lnTo>
                  <a:lnTo>
                    <a:pt x="504" y="1988"/>
                  </a:lnTo>
                  <a:lnTo>
                    <a:pt x="572" y="1968"/>
                  </a:lnTo>
                  <a:lnTo>
                    <a:pt x="636" y="1944"/>
                  </a:lnTo>
                  <a:lnTo>
                    <a:pt x="698" y="1920"/>
                  </a:lnTo>
                  <a:lnTo>
                    <a:pt x="758" y="1892"/>
                  </a:lnTo>
                  <a:lnTo>
                    <a:pt x="814" y="1862"/>
                  </a:lnTo>
                  <a:lnTo>
                    <a:pt x="870" y="1830"/>
                  </a:lnTo>
                  <a:lnTo>
                    <a:pt x="922" y="1796"/>
                  </a:lnTo>
                  <a:lnTo>
                    <a:pt x="974" y="1760"/>
                  </a:lnTo>
                  <a:lnTo>
                    <a:pt x="974" y="1760"/>
                  </a:lnTo>
                  <a:lnTo>
                    <a:pt x="986" y="1750"/>
                  </a:lnTo>
                  <a:lnTo>
                    <a:pt x="994" y="1738"/>
                  </a:lnTo>
                  <a:lnTo>
                    <a:pt x="1012" y="1712"/>
                  </a:lnTo>
                  <a:lnTo>
                    <a:pt x="1026" y="1684"/>
                  </a:lnTo>
                  <a:lnTo>
                    <a:pt x="1036" y="1672"/>
                  </a:lnTo>
                  <a:lnTo>
                    <a:pt x="1046" y="1660"/>
                  </a:lnTo>
                  <a:lnTo>
                    <a:pt x="1046" y="1660"/>
                  </a:lnTo>
                  <a:lnTo>
                    <a:pt x="1044" y="1650"/>
                  </a:lnTo>
                  <a:lnTo>
                    <a:pt x="1042" y="1640"/>
                  </a:lnTo>
                  <a:lnTo>
                    <a:pt x="1038" y="1630"/>
                  </a:lnTo>
                  <a:lnTo>
                    <a:pt x="1034" y="1622"/>
                  </a:lnTo>
                  <a:lnTo>
                    <a:pt x="1022" y="1606"/>
                  </a:lnTo>
                  <a:lnTo>
                    <a:pt x="1006" y="1594"/>
                  </a:lnTo>
                  <a:lnTo>
                    <a:pt x="986" y="1582"/>
                  </a:lnTo>
                  <a:lnTo>
                    <a:pt x="964" y="1574"/>
                  </a:lnTo>
                  <a:lnTo>
                    <a:pt x="940" y="1568"/>
                  </a:lnTo>
                  <a:lnTo>
                    <a:pt x="914" y="1562"/>
                  </a:lnTo>
                  <a:lnTo>
                    <a:pt x="888" y="1558"/>
                  </a:lnTo>
                  <a:lnTo>
                    <a:pt x="860" y="1554"/>
                  </a:lnTo>
                  <a:lnTo>
                    <a:pt x="804" y="1552"/>
                  </a:lnTo>
                  <a:lnTo>
                    <a:pt x="750" y="1548"/>
                  </a:lnTo>
                  <a:lnTo>
                    <a:pt x="702" y="1546"/>
                  </a:lnTo>
                  <a:lnTo>
                    <a:pt x="702" y="1546"/>
                  </a:lnTo>
                  <a:lnTo>
                    <a:pt x="702" y="1468"/>
                  </a:lnTo>
                  <a:lnTo>
                    <a:pt x="702" y="1396"/>
                  </a:lnTo>
                  <a:lnTo>
                    <a:pt x="704" y="1362"/>
                  </a:lnTo>
                  <a:lnTo>
                    <a:pt x="708" y="1326"/>
                  </a:lnTo>
                  <a:lnTo>
                    <a:pt x="712" y="1292"/>
                  </a:lnTo>
                  <a:lnTo>
                    <a:pt x="718" y="1256"/>
                  </a:lnTo>
                  <a:lnTo>
                    <a:pt x="718" y="1256"/>
                  </a:lnTo>
                  <a:lnTo>
                    <a:pt x="722" y="1234"/>
                  </a:lnTo>
                  <a:lnTo>
                    <a:pt x="724" y="1212"/>
                  </a:lnTo>
                  <a:lnTo>
                    <a:pt x="724" y="1162"/>
                  </a:lnTo>
                  <a:lnTo>
                    <a:pt x="722" y="1114"/>
                  </a:lnTo>
                  <a:lnTo>
                    <a:pt x="724" y="1094"/>
                  </a:lnTo>
                  <a:lnTo>
                    <a:pt x="726" y="1074"/>
                  </a:lnTo>
                  <a:lnTo>
                    <a:pt x="726" y="1074"/>
                  </a:lnTo>
                  <a:lnTo>
                    <a:pt x="732" y="1040"/>
                  </a:lnTo>
                  <a:lnTo>
                    <a:pt x="734" y="1006"/>
                  </a:lnTo>
                  <a:lnTo>
                    <a:pt x="734" y="974"/>
                  </a:lnTo>
                  <a:lnTo>
                    <a:pt x="734" y="942"/>
                  </a:lnTo>
                  <a:lnTo>
                    <a:pt x="734" y="912"/>
                  </a:lnTo>
                  <a:lnTo>
                    <a:pt x="736" y="884"/>
                  </a:lnTo>
                  <a:lnTo>
                    <a:pt x="738" y="872"/>
                  </a:lnTo>
                  <a:lnTo>
                    <a:pt x="740" y="860"/>
                  </a:lnTo>
                  <a:lnTo>
                    <a:pt x="744" y="848"/>
                  </a:lnTo>
                  <a:lnTo>
                    <a:pt x="750" y="838"/>
                  </a:lnTo>
                  <a:lnTo>
                    <a:pt x="750" y="838"/>
                  </a:lnTo>
                  <a:lnTo>
                    <a:pt x="750" y="808"/>
                  </a:lnTo>
                  <a:lnTo>
                    <a:pt x="750" y="776"/>
                  </a:lnTo>
                  <a:lnTo>
                    <a:pt x="754" y="748"/>
                  </a:lnTo>
                  <a:lnTo>
                    <a:pt x="756" y="734"/>
                  </a:lnTo>
                  <a:lnTo>
                    <a:pt x="758" y="724"/>
                  </a:lnTo>
                  <a:lnTo>
                    <a:pt x="758" y="724"/>
                  </a:lnTo>
                  <a:lnTo>
                    <a:pt x="870" y="724"/>
                  </a:lnTo>
                  <a:lnTo>
                    <a:pt x="924" y="722"/>
                  </a:lnTo>
                  <a:lnTo>
                    <a:pt x="978" y="718"/>
                  </a:lnTo>
                  <a:lnTo>
                    <a:pt x="1030" y="712"/>
                  </a:lnTo>
                  <a:lnTo>
                    <a:pt x="1054" y="706"/>
                  </a:lnTo>
                  <a:lnTo>
                    <a:pt x="1076" y="700"/>
                  </a:lnTo>
                  <a:lnTo>
                    <a:pt x="1098" y="694"/>
                  </a:lnTo>
                  <a:lnTo>
                    <a:pt x="1120" y="684"/>
                  </a:lnTo>
                  <a:lnTo>
                    <a:pt x="1138" y="674"/>
                  </a:lnTo>
                  <a:lnTo>
                    <a:pt x="1158" y="662"/>
                  </a:lnTo>
                  <a:lnTo>
                    <a:pt x="1158" y="662"/>
                  </a:lnTo>
                  <a:lnTo>
                    <a:pt x="1172" y="642"/>
                  </a:lnTo>
                  <a:lnTo>
                    <a:pt x="1182" y="620"/>
                  </a:lnTo>
                  <a:lnTo>
                    <a:pt x="1188" y="598"/>
                  </a:lnTo>
                  <a:lnTo>
                    <a:pt x="1192" y="574"/>
                  </a:lnTo>
                  <a:lnTo>
                    <a:pt x="1192" y="550"/>
                  </a:lnTo>
                  <a:lnTo>
                    <a:pt x="1190" y="524"/>
                  </a:lnTo>
                  <a:lnTo>
                    <a:pt x="1186" y="500"/>
                  </a:lnTo>
                  <a:lnTo>
                    <a:pt x="1180" y="474"/>
                  </a:lnTo>
                  <a:lnTo>
                    <a:pt x="1172" y="450"/>
                  </a:lnTo>
                  <a:lnTo>
                    <a:pt x="1164" y="426"/>
                  </a:lnTo>
                  <a:lnTo>
                    <a:pt x="1142" y="382"/>
                  </a:lnTo>
                  <a:lnTo>
                    <a:pt x="1122" y="342"/>
                  </a:lnTo>
                  <a:lnTo>
                    <a:pt x="1102" y="312"/>
                  </a:lnTo>
                  <a:lnTo>
                    <a:pt x="1102" y="312"/>
                  </a:lnTo>
                  <a:lnTo>
                    <a:pt x="1038" y="310"/>
                  </a:lnTo>
                  <a:lnTo>
                    <a:pt x="1004" y="310"/>
                  </a:lnTo>
                  <a:lnTo>
                    <a:pt x="968" y="312"/>
                  </a:lnTo>
                  <a:lnTo>
                    <a:pt x="934" y="316"/>
                  </a:lnTo>
                  <a:lnTo>
                    <a:pt x="900" y="322"/>
                  </a:lnTo>
                  <a:lnTo>
                    <a:pt x="872" y="330"/>
                  </a:lnTo>
                  <a:lnTo>
                    <a:pt x="858" y="336"/>
                  </a:lnTo>
                  <a:lnTo>
                    <a:pt x="846" y="342"/>
                  </a:lnTo>
                  <a:lnTo>
                    <a:pt x="846" y="342"/>
                  </a:lnTo>
                  <a:close/>
                  <a:moveTo>
                    <a:pt x="1078" y="578"/>
                  </a:moveTo>
                  <a:lnTo>
                    <a:pt x="1078" y="578"/>
                  </a:lnTo>
                  <a:lnTo>
                    <a:pt x="1072" y="588"/>
                  </a:lnTo>
                  <a:lnTo>
                    <a:pt x="1066" y="594"/>
                  </a:lnTo>
                  <a:lnTo>
                    <a:pt x="1058" y="600"/>
                  </a:lnTo>
                  <a:lnTo>
                    <a:pt x="1050" y="606"/>
                  </a:lnTo>
                  <a:lnTo>
                    <a:pt x="1030" y="616"/>
                  </a:lnTo>
                  <a:lnTo>
                    <a:pt x="1006" y="622"/>
                  </a:lnTo>
                  <a:lnTo>
                    <a:pt x="982" y="624"/>
                  </a:lnTo>
                  <a:lnTo>
                    <a:pt x="954" y="626"/>
                  </a:lnTo>
                  <a:lnTo>
                    <a:pt x="924" y="626"/>
                  </a:lnTo>
                  <a:lnTo>
                    <a:pt x="894" y="626"/>
                  </a:lnTo>
                  <a:lnTo>
                    <a:pt x="834" y="622"/>
                  </a:lnTo>
                  <a:lnTo>
                    <a:pt x="776" y="620"/>
                  </a:lnTo>
                  <a:lnTo>
                    <a:pt x="750" y="620"/>
                  </a:lnTo>
                  <a:lnTo>
                    <a:pt x="726" y="622"/>
                  </a:lnTo>
                  <a:lnTo>
                    <a:pt x="704" y="626"/>
                  </a:lnTo>
                  <a:lnTo>
                    <a:pt x="688" y="632"/>
                  </a:lnTo>
                  <a:lnTo>
                    <a:pt x="688" y="632"/>
                  </a:lnTo>
                  <a:lnTo>
                    <a:pt x="664" y="640"/>
                  </a:lnTo>
                  <a:lnTo>
                    <a:pt x="664" y="640"/>
                  </a:lnTo>
                  <a:lnTo>
                    <a:pt x="656" y="674"/>
                  </a:lnTo>
                  <a:lnTo>
                    <a:pt x="652" y="710"/>
                  </a:lnTo>
                  <a:lnTo>
                    <a:pt x="644" y="784"/>
                  </a:lnTo>
                  <a:lnTo>
                    <a:pt x="638" y="858"/>
                  </a:lnTo>
                  <a:lnTo>
                    <a:pt x="634" y="936"/>
                  </a:lnTo>
                  <a:lnTo>
                    <a:pt x="630" y="1014"/>
                  </a:lnTo>
                  <a:lnTo>
                    <a:pt x="624" y="1094"/>
                  </a:lnTo>
                  <a:lnTo>
                    <a:pt x="618" y="1172"/>
                  </a:lnTo>
                  <a:lnTo>
                    <a:pt x="608" y="1250"/>
                  </a:lnTo>
                  <a:lnTo>
                    <a:pt x="608" y="1250"/>
                  </a:lnTo>
                  <a:lnTo>
                    <a:pt x="600" y="1302"/>
                  </a:lnTo>
                  <a:lnTo>
                    <a:pt x="596" y="1336"/>
                  </a:lnTo>
                  <a:lnTo>
                    <a:pt x="592" y="1370"/>
                  </a:lnTo>
                  <a:lnTo>
                    <a:pt x="592" y="1404"/>
                  </a:lnTo>
                  <a:lnTo>
                    <a:pt x="594" y="1436"/>
                  </a:lnTo>
                  <a:lnTo>
                    <a:pt x="598" y="1464"/>
                  </a:lnTo>
                  <a:lnTo>
                    <a:pt x="602" y="1476"/>
                  </a:lnTo>
                  <a:lnTo>
                    <a:pt x="608" y="1486"/>
                  </a:lnTo>
                  <a:lnTo>
                    <a:pt x="608" y="1486"/>
                  </a:lnTo>
                  <a:lnTo>
                    <a:pt x="606" y="1518"/>
                  </a:lnTo>
                  <a:lnTo>
                    <a:pt x="608" y="1546"/>
                  </a:lnTo>
                  <a:lnTo>
                    <a:pt x="612" y="1566"/>
                  </a:lnTo>
                  <a:lnTo>
                    <a:pt x="616" y="1584"/>
                  </a:lnTo>
                  <a:lnTo>
                    <a:pt x="622" y="1596"/>
                  </a:lnTo>
                  <a:lnTo>
                    <a:pt x="628" y="1604"/>
                  </a:lnTo>
                  <a:lnTo>
                    <a:pt x="638" y="1612"/>
                  </a:lnTo>
                  <a:lnTo>
                    <a:pt x="648" y="1616"/>
                  </a:lnTo>
                  <a:lnTo>
                    <a:pt x="660" y="1618"/>
                  </a:lnTo>
                  <a:lnTo>
                    <a:pt x="672" y="1618"/>
                  </a:lnTo>
                  <a:lnTo>
                    <a:pt x="702" y="1622"/>
                  </a:lnTo>
                  <a:lnTo>
                    <a:pt x="718" y="1624"/>
                  </a:lnTo>
                  <a:lnTo>
                    <a:pt x="736" y="1630"/>
                  </a:lnTo>
                  <a:lnTo>
                    <a:pt x="754" y="1636"/>
                  </a:lnTo>
                  <a:lnTo>
                    <a:pt x="774" y="1646"/>
                  </a:lnTo>
                  <a:lnTo>
                    <a:pt x="774" y="1646"/>
                  </a:lnTo>
                  <a:lnTo>
                    <a:pt x="934" y="1646"/>
                  </a:lnTo>
                  <a:lnTo>
                    <a:pt x="934" y="1646"/>
                  </a:lnTo>
                  <a:lnTo>
                    <a:pt x="926" y="1660"/>
                  </a:lnTo>
                  <a:lnTo>
                    <a:pt x="912" y="1676"/>
                  </a:lnTo>
                  <a:lnTo>
                    <a:pt x="894" y="1694"/>
                  </a:lnTo>
                  <a:lnTo>
                    <a:pt x="870" y="1714"/>
                  </a:lnTo>
                  <a:lnTo>
                    <a:pt x="844" y="1732"/>
                  </a:lnTo>
                  <a:lnTo>
                    <a:pt x="814" y="1752"/>
                  </a:lnTo>
                  <a:lnTo>
                    <a:pt x="750" y="1792"/>
                  </a:lnTo>
                  <a:lnTo>
                    <a:pt x="684" y="1830"/>
                  </a:lnTo>
                  <a:lnTo>
                    <a:pt x="618" y="1862"/>
                  </a:lnTo>
                  <a:lnTo>
                    <a:pt x="562" y="1888"/>
                  </a:lnTo>
                  <a:lnTo>
                    <a:pt x="520" y="1904"/>
                  </a:lnTo>
                  <a:lnTo>
                    <a:pt x="520" y="1904"/>
                  </a:lnTo>
                  <a:lnTo>
                    <a:pt x="498" y="1910"/>
                  </a:lnTo>
                  <a:lnTo>
                    <a:pt x="480" y="1914"/>
                  </a:lnTo>
                  <a:lnTo>
                    <a:pt x="442" y="1920"/>
                  </a:lnTo>
                  <a:lnTo>
                    <a:pt x="424" y="1922"/>
                  </a:lnTo>
                  <a:lnTo>
                    <a:pt x="408" y="1928"/>
                  </a:lnTo>
                  <a:lnTo>
                    <a:pt x="392" y="1934"/>
                  </a:lnTo>
                  <a:lnTo>
                    <a:pt x="376" y="1942"/>
                  </a:lnTo>
                  <a:lnTo>
                    <a:pt x="376" y="1942"/>
                  </a:lnTo>
                  <a:lnTo>
                    <a:pt x="360" y="1942"/>
                  </a:lnTo>
                  <a:lnTo>
                    <a:pt x="360" y="1942"/>
                  </a:lnTo>
                  <a:lnTo>
                    <a:pt x="362" y="1922"/>
                  </a:lnTo>
                  <a:lnTo>
                    <a:pt x="360" y="1902"/>
                  </a:lnTo>
                  <a:lnTo>
                    <a:pt x="356" y="1856"/>
                  </a:lnTo>
                  <a:lnTo>
                    <a:pt x="348" y="1808"/>
                  </a:lnTo>
                  <a:lnTo>
                    <a:pt x="336" y="1760"/>
                  </a:lnTo>
                  <a:lnTo>
                    <a:pt x="336" y="1760"/>
                  </a:lnTo>
                  <a:lnTo>
                    <a:pt x="332" y="1734"/>
                  </a:lnTo>
                  <a:lnTo>
                    <a:pt x="330" y="1706"/>
                  </a:lnTo>
                  <a:lnTo>
                    <a:pt x="330" y="1676"/>
                  </a:lnTo>
                  <a:lnTo>
                    <a:pt x="330" y="1644"/>
                  </a:lnTo>
                  <a:lnTo>
                    <a:pt x="336" y="1586"/>
                  </a:lnTo>
                  <a:lnTo>
                    <a:pt x="344" y="1538"/>
                  </a:lnTo>
                  <a:lnTo>
                    <a:pt x="344" y="1538"/>
                  </a:lnTo>
                  <a:lnTo>
                    <a:pt x="344" y="1218"/>
                  </a:lnTo>
                  <a:lnTo>
                    <a:pt x="344" y="1218"/>
                  </a:lnTo>
                  <a:lnTo>
                    <a:pt x="356" y="1162"/>
                  </a:lnTo>
                  <a:lnTo>
                    <a:pt x="364" y="1102"/>
                  </a:lnTo>
                  <a:lnTo>
                    <a:pt x="376" y="982"/>
                  </a:lnTo>
                  <a:lnTo>
                    <a:pt x="376" y="982"/>
                  </a:lnTo>
                  <a:lnTo>
                    <a:pt x="382" y="948"/>
                  </a:lnTo>
                  <a:lnTo>
                    <a:pt x="390" y="904"/>
                  </a:lnTo>
                  <a:lnTo>
                    <a:pt x="416" y="802"/>
                  </a:lnTo>
                  <a:lnTo>
                    <a:pt x="436" y="710"/>
                  </a:lnTo>
                  <a:lnTo>
                    <a:pt x="440" y="678"/>
                  </a:lnTo>
                  <a:lnTo>
                    <a:pt x="442" y="668"/>
                  </a:lnTo>
                  <a:lnTo>
                    <a:pt x="440" y="662"/>
                  </a:lnTo>
                  <a:lnTo>
                    <a:pt x="440" y="662"/>
                  </a:lnTo>
                  <a:lnTo>
                    <a:pt x="432" y="640"/>
                  </a:lnTo>
                  <a:lnTo>
                    <a:pt x="432" y="640"/>
                  </a:lnTo>
                  <a:lnTo>
                    <a:pt x="410" y="636"/>
                  </a:lnTo>
                  <a:lnTo>
                    <a:pt x="388" y="634"/>
                  </a:lnTo>
                  <a:lnTo>
                    <a:pt x="366" y="634"/>
                  </a:lnTo>
                  <a:lnTo>
                    <a:pt x="344" y="636"/>
                  </a:lnTo>
                  <a:lnTo>
                    <a:pt x="302" y="642"/>
                  </a:lnTo>
                  <a:lnTo>
                    <a:pt x="260" y="650"/>
                  </a:lnTo>
                  <a:lnTo>
                    <a:pt x="178" y="670"/>
                  </a:lnTo>
                  <a:lnTo>
                    <a:pt x="138" y="678"/>
                  </a:lnTo>
                  <a:lnTo>
                    <a:pt x="98" y="686"/>
                  </a:lnTo>
                  <a:lnTo>
                    <a:pt x="98" y="686"/>
                  </a:lnTo>
                  <a:lnTo>
                    <a:pt x="104" y="642"/>
                  </a:lnTo>
                  <a:lnTo>
                    <a:pt x="114" y="604"/>
                  </a:lnTo>
                  <a:lnTo>
                    <a:pt x="126" y="564"/>
                  </a:lnTo>
                  <a:lnTo>
                    <a:pt x="138" y="528"/>
                  </a:lnTo>
                  <a:lnTo>
                    <a:pt x="150" y="490"/>
                  </a:lnTo>
                  <a:lnTo>
                    <a:pt x="160" y="450"/>
                  </a:lnTo>
                  <a:lnTo>
                    <a:pt x="166" y="410"/>
                  </a:lnTo>
                  <a:lnTo>
                    <a:pt x="168" y="388"/>
                  </a:lnTo>
                  <a:lnTo>
                    <a:pt x="170" y="366"/>
                  </a:lnTo>
                  <a:lnTo>
                    <a:pt x="170" y="366"/>
                  </a:lnTo>
                  <a:lnTo>
                    <a:pt x="204" y="364"/>
                  </a:lnTo>
                  <a:lnTo>
                    <a:pt x="240" y="360"/>
                  </a:lnTo>
                  <a:lnTo>
                    <a:pt x="280" y="358"/>
                  </a:lnTo>
                  <a:lnTo>
                    <a:pt x="318" y="354"/>
                  </a:lnTo>
                  <a:lnTo>
                    <a:pt x="356" y="354"/>
                  </a:lnTo>
                  <a:lnTo>
                    <a:pt x="394" y="358"/>
                  </a:lnTo>
                  <a:lnTo>
                    <a:pt x="410" y="362"/>
                  </a:lnTo>
                  <a:lnTo>
                    <a:pt x="426" y="366"/>
                  </a:lnTo>
                  <a:lnTo>
                    <a:pt x="442" y="372"/>
                  </a:lnTo>
                  <a:lnTo>
                    <a:pt x="456" y="380"/>
                  </a:lnTo>
                  <a:lnTo>
                    <a:pt x="456" y="380"/>
                  </a:lnTo>
                  <a:lnTo>
                    <a:pt x="484" y="380"/>
                  </a:lnTo>
                  <a:lnTo>
                    <a:pt x="504" y="374"/>
                  </a:lnTo>
                  <a:lnTo>
                    <a:pt x="520" y="368"/>
                  </a:lnTo>
                  <a:lnTo>
                    <a:pt x="536" y="358"/>
                  </a:lnTo>
                  <a:lnTo>
                    <a:pt x="536" y="358"/>
                  </a:lnTo>
                  <a:lnTo>
                    <a:pt x="548" y="298"/>
                  </a:lnTo>
                  <a:lnTo>
                    <a:pt x="558" y="234"/>
                  </a:lnTo>
                  <a:lnTo>
                    <a:pt x="564" y="168"/>
                  </a:lnTo>
                  <a:lnTo>
                    <a:pt x="568" y="106"/>
                  </a:lnTo>
                  <a:lnTo>
                    <a:pt x="568" y="106"/>
                  </a:lnTo>
                  <a:lnTo>
                    <a:pt x="576" y="106"/>
                  </a:lnTo>
                  <a:lnTo>
                    <a:pt x="576" y="106"/>
                  </a:lnTo>
                  <a:lnTo>
                    <a:pt x="576" y="98"/>
                  </a:lnTo>
                  <a:lnTo>
                    <a:pt x="576" y="98"/>
                  </a:lnTo>
                  <a:lnTo>
                    <a:pt x="620" y="98"/>
                  </a:lnTo>
                  <a:lnTo>
                    <a:pt x="662" y="100"/>
                  </a:lnTo>
                  <a:lnTo>
                    <a:pt x="700" y="106"/>
                  </a:lnTo>
                  <a:lnTo>
                    <a:pt x="718" y="108"/>
                  </a:lnTo>
                  <a:lnTo>
                    <a:pt x="734" y="114"/>
                  </a:lnTo>
                  <a:lnTo>
                    <a:pt x="734" y="114"/>
                  </a:lnTo>
                  <a:lnTo>
                    <a:pt x="732" y="184"/>
                  </a:lnTo>
                  <a:lnTo>
                    <a:pt x="724" y="270"/>
                  </a:lnTo>
                  <a:lnTo>
                    <a:pt x="720" y="346"/>
                  </a:lnTo>
                  <a:lnTo>
                    <a:pt x="718" y="370"/>
                  </a:lnTo>
                  <a:lnTo>
                    <a:pt x="718" y="380"/>
                  </a:lnTo>
                  <a:lnTo>
                    <a:pt x="718" y="380"/>
                  </a:lnTo>
                  <a:lnTo>
                    <a:pt x="724" y="392"/>
                  </a:lnTo>
                  <a:lnTo>
                    <a:pt x="730" y="400"/>
                  </a:lnTo>
                  <a:lnTo>
                    <a:pt x="736" y="406"/>
                  </a:lnTo>
                  <a:lnTo>
                    <a:pt x="744" y="410"/>
                  </a:lnTo>
                  <a:lnTo>
                    <a:pt x="760" y="420"/>
                  </a:lnTo>
                  <a:lnTo>
                    <a:pt x="768" y="426"/>
                  </a:lnTo>
                  <a:lnTo>
                    <a:pt x="774" y="434"/>
                  </a:lnTo>
                  <a:lnTo>
                    <a:pt x="774" y="434"/>
                  </a:lnTo>
                  <a:lnTo>
                    <a:pt x="1062" y="404"/>
                  </a:lnTo>
                  <a:lnTo>
                    <a:pt x="1062" y="404"/>
                  </a:lnTo>
                  <a:lnTo>
                    <a:pt x="1066" y="424"/>
                  </a:lnTo>
                  <a:lnTo>
                    <a:pt x="1072" y="446"/>
                  </a:lnTo>
                  <a:lnTo>
                    <a:pt x="1080" y="470"/>
                  </a:lnTo>
                  <a:lnTo>
                    <a:pt x="1086" y="494"/>
                  </a:lnTo>
                  <a:lnTo>
                    <a:pt x="1090" y="518"/>
                  </a:lnTo>
                  <a:lnTo>
                    <a:pt x="1092" y="540"/>
                  </a:lnTo>
                  <a:lnTo>
                    <a:pt x="1090" y="550"/>
                  </a:lnTo>
                  <a:lnTo>
                    <a:pt x="1088" y="560"/>
                  </a:lnTo>
                  <a:lnTo>
                    <a:pt x="1084" y="570"/>
                  </a:lnTo>
                  <a:lnTo>
                    <a:pt x="1078" y="578"/>
                  </a:lnTo>
                  <a:lnTo>
                    <a:pt x="1078" y="5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18"/>
            <p:cNvSpPr/>
            <p:nvPr/>
          </p:nvSpPr>
          <p:spPr>
            <a:xfrm>
              <a:off x="13974840" y="5721120"/>
              <a:ext cx="815760" cy="1063440"/>
            </a:xfrm>
            <a:custGeom>
              <a:avLst/>
              <a:gdLst>
                <a:gd name="textAreaLeft" fmla="*/ 0 w 815760"/>
                <a:gd name="textAreaRight" fmla="*/ 816120 w 815760"/>
                <a:gd name="textAreaTop" fmla="*/ 0 h 1063440"/>
                <a:gd name="textAreaBottom" fmla="*/ 1063800 h 1063440"/>
              </a:gdLst>
              <a:ahLst/>
              <a:rect l="textAreaLeft" t="textAreaTop" r="textAreaRight" b="textAreaBottom"/>
              <a:pathLst>
                <a:path w="514" h="670">
                  <a:moveTo>
                    <a:pt x="342" y="556"/>
                  </a:moveTo>
                  <a:lnTo>
                    <a:pt x="342" y="556"/>
                  </a:lnTo>
                  <a:lnTo>
                    <a:pt x="368" y="540"/>
                  </a:lnTo>
                  <a:lnTo>
                    <a:pt x="396" y="524"/>
                  </a:lnTo>
                  <a:lnTo>
                    <a:pt x="422" y="508"/>
                  </a:lnTo>
                  <a:lnTo>
                    <a:pt x="434" y="498"/>
                  </a:lnTo>
                  <a:lnTo>
                    <a:pt x="446" y="488"/>
                  </a:lnTo>
                  <a:lnTo>
                    <a:pt x="446" y="488"/>
                  </a:lnTo>
                  <a:lnTo>
                    <a:pt x="458" y="474"/>
                  </a:lnTo>
                  <a:lnTo>
                    <a:pt x="468" y="458"/>
                  </a:lnTo>
                  <a:lnTo>
                    <a:pt x="478" y="438"/>
                  </a:lnTo>
                  <a:lnTo>
                    <a:pt x="488" y="418"/>
                  </a:lnTo>
                  <a:lnTo>
                    <a:pt x="496" y="396"/>
                  </a:lnTo>
                  <a:lnTo>
                    <a:pt x="502" y="372"/>
                  </a:lnTo>
                  <a:lnTo>
                    <a:pt x="508" y="348"/>
                  </a:lnTo>
                  <a:lnTo>
                    <a:pt x="512" y="322"/>
                  </a:lnTo>
                  <a:lnTo>
                    <a:pt x="514" y="296"/>
                  </a:lnTo>
                  <a:lnTo>
                    <a:pt x="514" y="272"/>
                  </a:lnTo>
                  <a:lnTo>
                    <a:pt x="514" y="246"/>
                  </a:lnTo>
                  <a:lnTo>
                    <a:pt x="512" y="220"/>
                  </a:lnTo>
                  <a:lnTo>
                    <a:pt x="508" y="196"/>
                  </a:lnTo>
                  <a:lnTo>
                    <a:pt x="502" y="172"/>
                  </a:lnTo>
                  <a:lnTo>
                    <a:pt x="494" y="150"/>
                  </a:lnTo>
                  <a:lnTo>
                    <a:pt x="484" y="130"/>
                  </a:lnTo>
                  <a:lnTo>
                    <a:pt x="484" y="130"/>
                  </a:lnTo>
                  <a:lnTo>
                    <a:pt x="474" y="114"/>
                  </a:lnTo>
                  <a:lnTo>
                    <a:pt x="462" y="100"/>
                  </a:lnTo>
                  <a:lnTo>
                    <a:pt x="446" y="86"/>
                  </a:lnTo>
                  <a:lnTo>
                    <a:pt x="426" y="74"/>
                  </a:lnTo>
                  <a:lnTo>
                    <a:pt x="404" y="62"/>
                  </a:lnTo>
                  <a:lnTo>
                    <a:pt x="382" y="50"/>
                  </a:lnTo>
                  <a:lnTo>
                    <a:pt x="356" y="42"/>
                  </a:lnTo>
                  <a:lnTo>
                    <a:pt x="328" y="32"/>
                  </a:lnTo>
                  <a:lnTo>
                    <a:pt x="300" y="24"/>
                  </a:lnTo>
                  <a:lnTo>
                    <a:pt x="272" y="18"/>
                  </a:lnTo>
                  <a:lnTo>
                    <a:pt x="212" y="8"/>
                  </a:lnTo>
                  <a:lnTo>
                    <a:pt x="152" y="2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88" y="8"/>
                  </a:lnTo>
                  <a:lnTo>
                    <a:pt x="80" y="16"/>
                  </a:lnTo>
                  <a:lnTo>
                    <a:pt x="60" y="34"/>
                  </a:lnTo>
                  <a:lnTo>
                    <a:pt x="42" y="52"/>
                  </a:lnTo>
                  <a:lnTo>
                    <a:pt x="34" y="60"/>
                  </a:lnTo>
                  <a:lnTo>
                    <a:pt x="30" y="68"/>
                  </a:lnTo>
                  <a:lnTo>
                    <a:pt x="30" y="68"/>
                  </a:lnTo>
                  <a:lnTo>
                    <a:pt x="30" y="80"/>
                  </a:lnTo>
                  <a:lnTo>
                    <a:pt x="32" y="88"/>
                  </a:lnTo>
                  <a:lnTo>
                    <a:pt x="36" y="94"/>
                  </a:lnTo>
                  <a:lnTo>
                    <a:pt x="40" y="100"/>
                  </a:lnTo>
                  <a:lnTo>
                    <a:pt x="46" y="106"/>
                  </a:lnTo>
                  <a:lnTo>
                    <a:pt x="52" y="112"/>
                  </a:lnTo>
                  <a:lnTo>
                    <a:pt x="54" y="120"/>
                  </a:lnTo>
                  <a:lnTo>
                    <a:pt x="54" y="130"/>
                  </a:lnTo>
                  <a:lnTo>
                    <a:pt x="54" y="130"/>
                  </a:lnTo>
                  <a:lnTo>
                    <a:pt x="50" y="140"/>
                  </a:lnTo>
                  <a:lnTo>
                    <a:pt x="44" y="152"/>
                  </a:lnTo>
                  <a:lnTo>
                    <a:pt x="36" y="166"/>
                  </a:lnTo>
                  <a:lnTo>
                    <a:pt x="30" y="176"/>
                  </a:lnTo>
                  <a:lnTo>
                    <a:pt x="30" y="176"/>
                  </a:lnTo>
                  <a:lnTo>
                    <a:pt x="20" y="218"/>
                  </a:lnTo>
                  <a:lnTo>
                    <a:pt x="10" y="266"/>
                  </a:lnTo>
                  <a:lnTo>
                    <a:pt x="4" y="318"/>
                  </a:lnTo>
                  <a:lnTo>
                    <a:pt x="2" y="368"/>
                  </a:lnTo>
                  <a:lnTo>
                    <a:pt x="0" y="418"/>
                  </a:lnTo>
                  <a:lnTo>
                    <a:pt x="4" y="466"/>
                  </a:lnTo>
                  <a:lnTo>
                    <a:pt x="8" y="486"/>
                  </a:lnTo>
                  <a:lnTo>
                    <a:pt x="12" y="506"/>
                  </a:lnTo>
                  <a:lnTo>
                    <a:pt x="16" y="526"/>
                  </a:lnTo>
                  <a:lnTo>
                    <a:pt x="22" y="542"/>
                  </a:lnTo>
                  <a:lnTo>
                    <a:pt x="22" y="542"/>
                  </a:lnTo>
                  <a:lnTo>
                    <a:pt x="34" y="564"/>
                  </a:lnTo>
                  <a:lnTo>
                    <a:pt x="48" y="582"/>
                  </a:lnTo>
                  <a:lnTo>
                    <a:pt x="64" y="600"/>
                  </a:lnTo>
                  <a:lnTo>
                    <a:pt x="82" y="616"/>
                  </a:lnTo>
                  <a:lnTo>
                    <a:pt x="118" y="642"/>
                  </a:lnTo>
                  <a:lnTo>
                    <a:pt x="158" y="670"/>
                  </a:lnTo>
                  <a:lnTo>
                    <a:pt x="158" y="670"/>
                  </a:lnTo>
                  <a:lnTo>
                    <a:pt x="176" y="668"/>
                  </a:lnTo>
                  <a:lnTo>
                    <a:pt x="192" y="664"/>
                  </a:lnTo>
                  <a:lnTo>
                    <a:pt x="206" y="660"/>
                  </a:lnTo>
                  <a:lnTo>
                    <a:pt x="220" y="654"/>
                  </a:lnTo>
                  <a:lnTo>
                    <a:pt x="244" y="642"/>
                  </a:lnTo>
                  <a:lnTo>
                    <a:pt x="264" y="626"/>
                  </a:lnTo>
                  <a:lnTo>
                    <a:pt x="282" y="608"/>
                  </a:lnTo>
                  <a:lnTo>
                    <a:pt x="302" y="592"/>
                  </a:lnTo>
                  <a:lnTo>
                    <a:pt x="320" y="574"/>
                  </a:lnTo>
                  <a:lnTo>
                    <a:pt x="342" y="556"/>
                  </a:lnTo>
                  <a:lnTo>
                    <a:pt x="342" y="556"/>
                  </a:lnTo>
                  <a:close/>
                  <a:moveTo>
                    <a:pt x="142" y="168"/>
                  </a:moveTo>
                  <a:lnTo>
                    <a:pt x="142" y="168"/>
                  </a:lnTo>
                  <a:lnTo>
                    <a:pt x="148" y="156"/>
                  </a:lnTo>
                  <a:lnTo>
                    <a:pt x="154" y="146"/>
                  </a:lnTo>
                  <a:lnTo>
                    <a:pt x="170" y="126"/>
                  </a:lnTo>
                  <a:lnTo>
                    <a:pt x="184" y="106"/>
                  </a:lnTo>
                  <a:lnTo>
                    <a:pt x="198" y="84"/>
                  </a:lnTo>
                  <a:lnTo>
                    <a:pt x="198" y="84"/>
                  </a:lnTo>
                  <a:lnTo>
                    <a:pt x="226" y="90"/>
                  </a:lnTo>
                  <a:lnTo>
                    <a:pt x="252" y="98"/>
                  </a:lnTo>
                  <a:lnTo>
                    <a:pt x="300" y="114"/>
                  </a:lnTo>
                  <a:lnTo>
                    <a:pt x="344" y="134"/>
                  </a:lnTo>
                  <a:lnTo>
                    <a:pt x="390" y="152"/>
                  </a:lnTo>
                  <a:lnTo>
                    <a:pt x="390" y="152"/>
                  </a:lnTo>
                  <a:lnTo>
                    <a:pt x="398" y="176"/>
                  </a:lnTo>
                  <a:lnTo>
                    <a:pt x="406" y="198"/>
                  </a:lnTo>
                  <a:lnTo>
                    <a:pt x="412" y="218"/>
                  </a:lnTo>
                  <a:lnTo>
                    <a:pt x="416" y="238"/>
                  </a:lnTo>
                  <a:lnTo>
                    <a:pt x="418" y="258"/>
                  </a:lnTo>
                  <a:lnTo>
                    <a:pt x="418" y="274"/>
                  </a:lnTo>
                  <a:lnTo>
                    <a:pt x="418" y="292"/>
                  </a:lnTo>
                  <a:lnTo>
                    <a:pt x="416" y="308"/>
                  </a:lnTo>
                  <a:lnTo>
                    <a:pt x="412" y="322"/>
                  </a:lnTo>
                  <a:lnTo>
                    <a:pt x="408" y="336"/>
                  </a:lnTo>
                  <a:lnTo>
                    <a:pt x="402" y="350"/>
                  </a:lnTo>
                  <a:lnTo>
                    <a:pt x="394" y="362"/>
                  </a:lnTo>
                  <a:lnTo>
                    <a:pt x="378" y="386"/>
                  </a:lnTo>
                  <a:lnTo>
                    <a:pt x="360" y="408"/>
                  </a:lnTo>
                  <a:lnTo>
                    <a:pt x="338" y="428"/>
                  </a:lnTo>
                  <a:lnTo>
                    <a:pt x="314" y="448"/>
                  </a:lnTo>
                  <a:lnTo>
                    <a:pt x="264" y="486"/>
                  </a:lnTo>
                  <a:lnTo>
                    <a:pt x="240" y="506"/>
                  </a:lnTo>
                  <a:lnTo>
                    <a:pt x="216" y="526"/>
                  </a:lnTo>
                  <a:lnTo>
                    <a:pt x="194" y="548"/>
                  </a:lnTo>
                  <a:lnTo>
                    <a:pt x="174" y="572"/>
                  </a:lnTo>
                  <a:lnTo>
                    <a:pt x="174" y="572"/>
                  </a:lnTo>
                  <a:lnTo>
                    <a:pt x="158" y="572"/>
                  </a:lnTo>
                  <a:lnTo>
                    <a:pt x="158" y="572"/>
                  </a:lnTo>
                  <a:lnTo>
                    <a:pt x="146" y="552"/>
                  </a:lnTo>
                  <a:lnTo>
                    <a:pt x="136" y="530"/>
                  </a:lnTo>
                  <a:lnTo>
                    <a:pt x="126" y="508"/>
                  </a:lnTo>
                  <a:lnTo>
                    <a:pt x="120" y="484"/>
                  </a:lnTo>
                  <a:lnTo>
                    <a:pt x="114" y="460"/>
                  </a:lnTo>
                  <a:lnTo>
                    <a:pt x="108" y="434"/>
                  </a:lnTo>
                  <a:lnTo>
                    <a:pt x="106" y="408"/>
                  </a:lnTo>
                  <a:lnTo>
                    <a:pt x="104" y="382"/>
                  </a:lnTo>
                  <a:lnTo>
                    <a:pt x="104" y="354"/>
                  </a:lnTo>
                  <a:lnTo>
                    <a:pt x="106" y="328"/>
                  </a:lnTo>
                  <a:lnTo>
                    <a:pt x="108" y="300"/>
                  </a:lnTo>
                  <a:lnTo>
                    <a:pt x="114" y="272"/>
                  </a:lnTo>
                  <a:lnTo>
                    <a:pt x="118" y="246"/>
                  </a:lnTo>
                  <a:lnTo>
                    <a:pt x="126" y="220"/>
                  </a:lnTo>
                  <a:lnTo>
                    <a:pt x="134" y="194"/>
                  </a:lnTo>
                  <a:lnTo>
                    <a:pt x="142" y="168"/>
                  </a:lnTo>
                  <a:lnTo>
                    <a:pt x="142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19"/>
            <p:cNvSpPr/>
            <p:nvPr/>
          </p:nvSpPr>
          <p:spPr>
            <a:xfrm>
              <a:off x="19943640" y="5842080"/>
              <a:ext cx="1577880" cy="2927520"/>
            </a:xfrm>
            <a:custGeom>
              <a:avLst/>
              <a:gdLst>
                <a:gd name="textAreaLeft" fmla="*/ 0 w 1577880"/>
                <a:gd name="textAreaRight" fmla="*/ 1578240 w 157788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994" h="1844">
                  <a:moveTo>
                    <a:pt x="676" y="336"/>
                  </a:moveTo>
                  <a:lnTo>
                    <a:pt x="676" y="336"/>
                  </a:lnTo>
                  <a:lnTo>
                    <a:pt x="670" y="328"/>
                  </a:lnTo>
                  <a:lnTo>
                    <a:pt x="662" y="322"/>
                  </a:lnTo>
                  <a:lnTo>
                    <a:pt x="646" y="312"/>
                  </a:lnTo>
                  <a:lnTo>
                    <a:pt x="638" y="308"/>
                  </a:lnTo>
                  <a:lnTo>
                    <a:pt x="632" y="302"/>
                  </a:lnTo>
                  <a:lnTo>
                    <a:pt x="626" y="294"/>
                  </a:lnTo>
                  <a:lnTo>
                    <a:pt x="620" y="282"/>
                  </a:lnTo>
                  <a:lnTo>
                    <a:pt x="620" y="282"/>
                  </a:lnTo>
                  <a:lnTo>
                    <a:pt x="620" y="272"/>
                  </a:lnTo>
                  <a:lnTo>
                    <a:pt x="622" y="248"/>
                  </a:lnTo>
                  <a:lnTo>
                    <a:pt x="626" y="172"/>
                  </a:lnTo>
                  <a:lnTo>
                    <a:pt x="634" y="86"/>
                  </a:lnTo>
                  <a:lnTo>
                    <a:pt x="636" y="16"/>
                  </a:lnTo>
                  <a:lnTo>
                    <a:pt x="636" y="16"/>
                  </a:lnTo>
                  <a:lnTo>
                    <a:pt x="620" y="10"/>
                  </a:lnTo>
                  <a:lnTo>
                    <a:pt x="602" y="8"/>
                  </a:lnTo>
                  <a:lnTo>
                    <a:pt x="564" y="2"/>
                  </a:lnTo>
                  <a:lnTo>
                    <a:pt x="522" y="0"/>
                  </a:lnTo>
                  <a:lnTo>
                    <a:pt x="478" y="0"/>
                  </a:lnTo>
                  <a:lnTo>
                    <a:pt x="478" y="0"/>
                  </a:lnTo>
                  <a:lnTo>
                    <a:pt x="478" y="8"/>
                  </a:lnTo>
                  <a:lnTo>
                    <a:pt x="478" y="8"/>
                  </a:lnTo>
                  <a:lnTo>
                    <a:pt x="470" y="8"/>
                  </a:lnTo>
                  <a:lnTo>
                    <a:pt x="470" y="8"/>
                  </a:lnTo>
                  <a:lnTo>
                    <a:pt x="466" y="70"/>
                  </a:lnTo>
                  <a:lnTo>
                    <a:pt x="460" y="136"/>
                  </a:lnTo>
                  <a:lnTo>
                    <a:pt x="450" y="200"/>
                  </a:lnTo>
                  <a:lnTo>
                    <a:pt x="438" y="260"/>
                  </a:lnTo>
                  <a:lnTo>
                    <a:pt x="438" y="260"/>
                  </a:lnTo>
                  <a:lnTo>
                    <a:pt x="422" y="270"/>
                  </a:lnTo>
                  <a:lnTo>
                    <a:pt x="406" y="276"/>
                  </a:lnTo>
                  <a:lnTo>
                    <a:pt x="386" y="282"/>
                  </a:lnTo>
                  <a:lnTo>
                    <a:pt x="358" y="282"/>
                  </a:lnTo>
                  <a:lnTo>
                    <a:pt x="358" y="282"/>
                  </a:lnTo>
                  <a:lnTo>
                    <a:pt x="344" y="274"/>
                  </a:lnTo>
                  <a:lnTo>
                    <a:pt x="328" y="268"/>
                  </a:lnTo>
                  <a:lnTo>
                    <a:pt x="312" y="264"/>
                  </a:lnTo>
                  <a:lnTo>
                    <a:pt x="296" y="260"/>
                  </a:lnTo>
                  <a:lnTo>
                    <a:pt x="258" y="256"/>
                  </a:lnTo>
                  <a:lnTo>
                    <a:pt x="220" y="256"/>
                  </a:lnTo>
                  <a:lnTo>
                    <a:pt x="182" y="260"/>
                  </a:lnTo>
                  <a:lnTo>
                    <a:pt x="142" y="262"/>
                  </a:lnTo>
                  <a:lnTo>
                    <a:pt x="106" y="266"/>
                  </a:lnTo>
                  <a:lnTo>
                    <a:pt x="72" y="268"/>
                  </a:lnTo>
                  <a:lnTo>
                    <a:pt x="72" y="268"/>
                  </a:lnTo>
                  <a:lnTo>
                    <a:pt x="70" y="290"/>
                  </a:lnTo>
                  <a:lnTo>
                    <a:pt x="68" y="312"/>
                  </a:lnTo>
                  <a:lnTo>
                    <a:pt x="62" y="352"/>
                  </a:lnTo>
                  <a:lnTo>
                    <a:pt x="52" y="392"/>
                  </a:lnTo>
                  <a:lnTo>
                    <a:pt x="40" y="430"/>
                  </a:lnTo>
                  <a:lnTo>
                    <a:pt x="28" y="466"/>
                  </a:lnTo>
                  <a:lnTo>
                    <a:pt x="16" y="506"/>
                  </a:lnTo>
                  <a:lnTo>
                    <a:pt x="6" y="544"/>
                  </a:lnTo>
                  <a:lnTo>
                    <a:pt x="0" y="588"/>
                  </a:lnTo>
                  <a:lnTo>
                    <a:pt x="0" y="588"/>
                  </a:lnTo>
                  <a:lnTo>
                    <a:pt x="40" y="580"/>
                  </a:lnTo>
                  <a:lnTo>
                    <a:pt x="80" y="572"/>
                  </a:lnTo>
                  <a:lnTo>
                    <a:pt x="162" y="552"/>
                  </a:lnTo>
                  <a:lnTo>
                    <a:pt x="204" y="544"/>
                  </a:lnTo>
                  <a:lnTo>
                    <a:pt x="246" y="538"/>
                  </a:lnTo>
                  <a:lnTo>
                    <a:pt x="268" y="536"/>
                  </a:lnTo>
                  <a:lnTo>
                    <a:pt x="290" y="536"/>
                  </a:lnTo>
                  <a:lnTo>
                    <a:pt x="312" y="538"/>
                  </a:lnTo>
                  <a:lnTo>
                    <a:pt x="334" y="542"/>
                  </a:lnTo>
                  <a:lnTo>
                    <a:pt x="334" y="542"/>
                  </a:lnTo>
                  <a:lnTo>
                    <a:pt x="342" y="564"/>
                  </a:lnTo>
                  <a:lnTo>
                    <a:pt x="342" y="564"/>
                  </a:lnTo>
                  <a:lnTo>
                    <a:pt x="344" y="570"/>
                  </a:lnTo>
                  <a:lnTo>
                    <a:pt x="342" y="580"/>
                  </a:lnTo>
                  <a:lnTo>
                    <a:pt x="338" y="612"/>
                  </a:lnTo>
                  <a:lnTo>
                    <a:pt x="318" y="704"/>
                  </a:lnTo>
                  <a:lnTo>
                    <a:pt x="292" y="806"/>
                  </a:lnTo>
                  <a:lnTo>
                    <a:pt x="284" y="850"/>
                  </a:lnTo>
                  <a:lnTo>
                    <a:pt x="278" y="884"/>
                  </a:lnTo>
                  <a:lnTo>
                    <a:pt x="278" y="884"/>
                  </a:lnTo>
                  <a:lnTo>
                    <a:pt x="266" y="1004"/>
                  </a:lnTo>
                  <a:lnTo>
                    <a:pt x="258" y="1064"/>
                  </a:lnTo>
                  <a:lnTo>
                    <a:pt x="246" y="1120"/>
                  </a:lnTo>
                  <a:lnTo>
                    <a:pt x="246" y="1120"/>
                  </a:lnTo>
                  <a:lnTo>
                    <a:pt x="246" y="1440"/>
                  </a:lnTo>
                  <a:lnTo>
                    <a:pt x="246" y="1440"/>
                  </a:lnTo>
                  <a:lnTo>
                    <a:pt x="238" y="1488"/>
                  </a:lnTo>
                  <a:lnTo>
                    <a:pt x="232" y="1546"/>
                  </a:lnTo>
                  <a:lnTo>
                    <a:pt x="232" y="1578"/>
                  </a:lnTo>
                  <a:lnTo>
                    <a:pt x="232" y="1608"/>
                  </a:lnTo>
                  <a:lnTo>
                    <a:pt x="234" y="1636"/>
                  </a:lnTo>
                  <a:lnTo>
                    <a:pt x="238" y="1662"/>
                  </a:lnTo>
                  <a:lnTo>
                    <a:pt x="238" y="1662"/>
                  </a:lnTo>
                  <a:lnTo>
                    <a:pt x="250" y="1710"/>
                  </a:lnTo>
                  <a:lnTo>
                    <a:pt x="258" y="1758"/>
                  </a:lnTo>
                  <a:lnTo>
                    <a:pt x="262" y="1804"/>
                  </a:lnTo>
                  <a:lnTo>
                    <a:pt x="264" y="1824"/>
                  </a:lnTo>
                  <a:lnTo>
                    <a:pt x="262" y="1844"/>
                  </a:lnTo>
                  <a:lnTo>
                    <a:pt x="262" y="1844"/>
                  </a:lnTo>
                  <a:lnTo>
                    <a:pt x="278" y="1844"/>
                  </a:lnTo>
                  <a:lnTo>
                    <a:pt x="278" y="1844"/>
                  </a:lnTo>
                  <a:lnTo>
                    <a:pt x="294" y="1836"/>
                  </a:lnTo>
                  <a:lnTo>
                    <a:pt x="310" y="1830"/>
                  </a:lnTo>
                  <a:lnTo>
                    <a:pt x="326" y="1824"/>
                  </a:lnTo>
                  <a:lnTo>
                    <a:pt x="344" y="1822"/>
                  </a:lnTo>
                  <a:lnTo>
                    <a:pt x="382" y="1816"/>
                  </a:lnTo>
                  <a:lnTo>
                    <a:pt x="400" y="1812"/>
                  </a:lnTo>
                  <a:lnTo>
                    <a:pt x="422" y="1806"/>
                  </a:lnTo>
                  <a:lnTo>
                    <a:pt x="422" y="1806"/>
                  </a:lnTo>
                  <a:lnTo>
                    <a:pt x="464" y="1790"/>
                  </a:lnTo>
                  <a:lnTo>
                    <a:pt x="520" y="1764"/>
                  </a:lnTo>
                  <a:lnTo>
                    <a:pt x="586" y="1732"/>
                  </a:lnTo>
                  <a:lnTo>
                    <a:pt x="652" y="1694"/>
                  </a:lnTo>
                  <a:lnTo>
                    <a:pt x="716" y="1654"/>
                  </a:lnTo>
                  <a:lnTo>
                    <a:pt x="746" y="1634"/>
                  </a:lnTo>
                  <a:lnTo>
                    <a:pt x="772" y="1616"/>
                  </a:lnTo>
                  <a:lnTo>
                    <a:pt x="796" y="1596"/>
                  </a:lnTo>
                  <a:lnTo>
                    <a:pt x="814" y="1578"/>
                  </a:lnTo>
                  <a:lnTo>
                    <a:pt x="828" y="1562"/>
                  </a:lnTo>
                  <a:lnTo>
                    <a:pt x="836" y="1548"/>
                  </a:lnTo>
                  <a:lnTo>
                    <a:pt x="836" y="1548"/>
                  </a:lnTo>
                  <a:lnTo>
                    <a:pt x="676" y="1548"/>
                  </a:lnTo>
                  <a:lnTo>
                    <a:pt x="676" y="1548"/>
                  </a:lnTo>
                  <a:lnTo>
                    <a:pt x="656" y="1538"/>
                  </a:lnTo>
                  <a:lnTo>
                    <a:pt x="638" y="1532"/>
                  </a:lnTo>
                  <a:lnTo>
                    <a:pt x="620" y="1526"/>
                  </a:lnTo>
                  <a:lnTo>
                    <a:pt x="604" y="1524"/>
                  </a:lnTo>
                  <a:lnTo>
                    <a:pt x="574" y="1520"/>
                  </a:lnTo>
                  <a:lnTo>
                    <a:pt x="562" y="1520"/>
                  </a:lnTo>
                  <a:lnTo>
                    <a:pt x="550" y="1518"/>
                  </a:lnTo>
                  <a:lnTo>
                    <a:pt x="540" y="1514"/>
                  </a:lnTo>
                  <a:lnTo>
                    <a:pt x="530" y="1506"/>
                  </a:lnTo>
                  <a:lnTo>
                    <a:pt x="524" y="1498"/>
                  </a:lnTo>
                  <a:lnTo>
                    <a:pt x="518" y="1486"/>
                  </a:lnTo>
                  <a:lnTo>
                    <a:pt x="514" y="1468"/>
                  </a:lnTo>
                  <a:lnTo>
                    <a:pt x="510" y="1448"/>
                  </a:lnTo>
                  <a:lnTo>
                    <a:pt x="508" y="1420"/>
                  </a:lnTo>
                  <a:lnTo>
                    <a:pt x="510" y="1388"/>
                  </a:lnTo>
                  <a:lnTo>
                    <a:pt x="510" y="1388"/>
                  </a:lnTo>
                  <a:lnTo>
                    <a:pt x="504" y="1378"/>
                  </a:lnTo>
                  <a:lnTo>
                    <a:pt x="500" y="1366"/>
                  </a:lnTo>
                  <a:lnTo>
                    <a:pt x="496" y="1338"/>
                  </a:lnTo>
                  <a:lnTo>
                    <a:pt x="494" y="1306"/>
                  </a:lnTo>
                  <a:lnTo>
                    <a:pt x="494" y="1272"/>
                  </a:lnTo>
                  <a:lnTo>
                    <a:pt x="498" y="1238"/>
                  </a:lnTo>
                  <a:lnTo>
                    <a:pt x="502" y="1204"/>
                  </a:lnTo>
                  <a:lnTo>
                    <a:pt x="510" y="1152"/>
                  </a:lnTo>
                  <a:lnTo>
                    <a:pt x="510" y="1152"/>
                  </a:lnTo>
                  <a:lnTo>
                    <a:pt x="520" y="1074"/>
                  </a:lnTo>
                  <a:lnTo>
                    <a:pt x="526" y="996"/>
                  </a:lnTo>
                  <a:lnTo>
                    <a:pt x="532" y="916"/>
                  </a:lnTo>
                  <a:lnTo>
                    <a:pt x="536" y="838"/>
                  </a:lnTo>
                  <a:lnTo>
                    <a:pt x="540" y="760"/>
                  </a:lnTo>
                  <a:lnTo>
                    <a:pt x="546" y="686"/>
                  </a:lnTo>
                  <a:lnTo>
                    <a:pt x="554" y="612"/>
                  </a:lnTo>
                  <a:lnTo>
                    <a:pt x="558" y="576"/>
                  </a:lnTo>
                  <a:lnTo>
                    <a:pt x="566" y="542"/>
                  </a:lnTo>
                  <a:lnTo>
                    <a:pt x="566" y="542"/>
                  </a:lnTo>
                  <a:lnTo>
                    <a:pt x="590" y="534"/>
                  </a:lnTo>
                  <a:lnTo>
                    <a:pt x="590" y="534"/>
                  </a:lnTo>
                  <a:lnTo>
                    <a:pt x="606" y="528"/>
                  </a:lnTo>
                  <a:lnTo>
                    <a:pt x="628" y="524"/>
                  </a:lnTo>
                  <a:lnTo>
                    <a:pt x="652" y="522"/>
                  </a:lnTo>
                  <a:lnTo>
                    <a:pt x="678" y="522"/>
                  </a:lnTo>
                  <a:lnTo>
                    <a:pt x="736" y="524"/>
                  </a:lnTo>
                  <a:lnTo>
                    <a:pt x="796" y="528"/>
                  </a:lnTo>
                  <a:lnTo>
                    <a:pt x="826" y="528"/>
                  </a:lnTo>
                  <a:lnTo>
                    <a:pt x="856" y="528"/>
                  </a:lnTo>
                  <a:lnTo>
                    <a:pt x="884" y="526"/>
                  </a:lnTo>
                  <a:lnTo>
                    <a:pt x="908" y="524"/>
                  </a:lnTo>
                  <a:lnTo>
                    <a:pt x="932" y="518"/>
                  </a:lnTo>
                  <a:lnTo>
                    <a:pt x="952" y="508"/>
                  </a:lnTo>
                  <a:lnTo>
                    <a:pt x="960" y="502"/>
                  </a:lnTo>
                  <a:lnTo>
                    <a:pt x="968" y="496"/>
                  </a:lnTo>
                  <a:lnTo>
                    <a:pt x="974" y="490"/>
                  </a:lnTo>
                  <a:lnTo>
                    <a:pt x="980" y="480"/>
                  </a:lnTo>
                  <a:lnTo>
                    <a:pt x="980" y="480"/>
                  </a:lnTo>
                  <a:lnTo>
                    <a:pt x="986" y="472"/>
                  </a:lnTo>
                  <a:lnTo>
                    <a:pt x="990" y="462"/>
                  </a:lnTo>
                  <a:lnTo>
                    <a:pt x="992" y="452"/>
                  </a:lnTo>
                  <a:lnTo>
                    <a:pt x="994" y="442"/>
                  </a:lnTo>
                  <a:lnTo>
                    <a:pt x="992" y="420"/>
                  </a:lnTo>
                  <a:lnTo>
                    <a:pt x="988" y="396"/>
                  </a:lnTo>
                  <a:lnTo>
                    <a:pt x="982" y="372"/>
                  </a:lnTo>
                  <a:lnTo>
                    <a:pt x="974" y="348"/>
                  </a:lnTo>
                  <a:lnTo>
                    <a:pt x="968" y="326"/>
                  </a:lnTo>
                  <a:lnTo>
                    <a:pt x="964" y="306"/>
                  </a:lnTo>
                  <a:lnTo>
                    <a:pt x="964" y="306"/>
                  </a:lnTo>
                  <a:lnTo>
                    <a:pt x="676" y="336"/>
                  </a:lnTo>
                  <a:lnTo>
                    <a:pt x="676" y="336"/>
                  </a:lnTo>
                  <a:close/>
                </a:path>
              </a:pathLst>
            </a:custGeom>
            <a:solidFill>
              <a:srgbClr val="fc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20"/>
            <p:cNvSpPr/>
            <p:nvPr/>
          </p:nvSpPr>
          <p:spPr>
            <a:xfrm>
              <a:off x="16178040" y="5940360"/>
              <a:ext cx="749160" cy="86364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472" h="544">
                  <a:moveTo>
                    <a:pt x="212" y="0"/>
                  </a:moveTo>
                  <a:lnTo>
                    <a:pt x="212" y="0"/>
                  </a:lnTo>
                  <a:lnTo>
                    <a:pt x="172" y="32"/>
                  </a:lnTo>
                  <a:lnTo>
                    <a:pt x="132" y="64"/>
                  </a:lnTo>
                  <a:lnTo>
                    <a:pt x="110" y="78"/>
                  </a:lnTo>
                  <a:lnTo>
                    <a:pt x="86" y="92"/>
                  </a:lnTo>
                  <a:lnTo>
                    <a:pt x="62" y="104"/>
                  </a:lnTo>
                  <a:lnTo>
                    <a:pt x="38" y="114"/>
                  </a:lnTo>
                  <a:lnTo>
                    <a:pt x="38" y="114"/>
                  </a:lnTo>
                  <a:lnTo>
                    <a:pt x="22" y="186"/>
                  </a:lnTo>
                  <a:lnTo>
                    <a:pt x="12" y="228"/>
                  </a:lnTo>
                  <a:lnTo>
                    <a:pt x="6" y="272"/>
                  </a:lnTo>
                  <a:lnTo>
                    <a:pt x="2" y="316"/>
                  </a:lnTo>
                  <a:lnTo>
                    <a:pt x="0" y="358"/>
                  </a:lnTo>
                  <a:lnTo>
                    <a:pt x="2" y="378"/>
                  </a:lnTo>
                  <a:lnTo>
                    <a:pt x="4" y="398"/>
                  </a:lnTo>
                  <a:lnTo>
                    <a:pt x="8" y="416"/>
                  </a:lnTo>
                  <a:lnTo>
                    <a:pt x="14" y="434"/>
                  </a:lnTo>
                  <a:lnTo>
                    <a:pt x="14" y="434"/>
                  </a:lnTo>
                  <a:lnTo>
                    <a:pt x="20" y="450"/>
                  </a:lnTo>
                  <a:lnTo>
                    <a:pt x="30" y="464"/>
                  </a:lnTo>
                  <a:lnTo>
                    <a:pt x="42" y="478"/>
                  </a:lnTo>
                  <a:lnTo>
                    <a:pt x="54" y="490"/>
                  </a:lnTo>
                  <a:lnTo>
                    <a:pt x="78" y="516"/>
                  </a:lnTo>
                  <a:lnTo>
                    <a:pt x="90" y="528"/>
                  </a:lnTo>
                  <a:lnTo>
                    <a:pt x="100" y="540"/>
                  </a:lnTo>
                  <a:lnTo>
                    <a:pt x="100" y="540"/>
                  </a:lnTo>
                  <a:lnTo>
                    <a:pt x="174" y="544"/>
                  </a:lnTo>
                  <a:lnTo>
                    <a:pt x="212" y="544"/>
                  </a:lnTo>
                  <a:lnTo>
                    <a:pt x="248" y="544"/>
                  </a:lnTo>
                  <a:lnTo>
                    <a:pt x="284" y="542"/>
                  </a:lnTo>
                  <a:lnTo>
                    <a:pt x="316" y="536"/>
                  </a:lnTo>
                  <a:lnTo>
                    <a:pt x="332" y="530"/>
                  </a:lnTo>
                  <a:lnTo>
                    <a:pt x="346" y="526"/>
                  </a:lnTo>
                  <a:lnTo>
                    <a:pt x="360" y="518"/>
                  </a:lnTo>
                  <a:lnTo>
                    <a:pt x="372" y="510"/>
                  </a:lnTo>
                  <a:lnTo>
                    <a:pt x="372" y="510"/>
                  </a:lnTo>
                  <a:lnTo>
                    <a:pt x="386" y="498"/>
                  </a:lnTo>
                  <a:lnTo>
                    <a:pt x="400" y="484"/>
                  </a:lnTo>
                  <a:lnTo>
                    <a:pt x="412" y="466"/>
                  </a:lnTo>
                  <a:lnTo>
                    <a:pt x="424" y="446"/>
                  </a:lnTo>
                  <a:lnTo>
                    <a:pt x="434" y="424"/>
                  </a:lnTo>
                  <a:lnTo>
                    <a:pt x="444" y="398"/>
                  </a:lnTo>
                  <a:lnTo>
                    <a:pt x="452" y="372"/>
                  </a:lnTo>
                  <a:lnTo>
                    <a:pt x="460" y="344"/>
                  </a:lnTo>
                  <a:lnTo>
                    <a:pt x="464" y="316"/>
                  </a:lnTo>
                  <a:lnTo>
                    <a:pt x="468" y="288"/>
                  </a:lnTo>
                  <a:lnTo>
                    <a:pt x="470" y="260"/>
                  </a:lnTo>
                  <a:lnTo>
                    <a:pt x="472" y="232"/>
                  </a:lnTo>
                  <a:lnTo>
                    <a:pt x="470" y="204"/>
                  </a:lnTo>
                  <a:lnTo>
                    <a:pt x="466" y="178"/>
                  </a:lnTo>
                  <a:lnTo>
                    <a:pt x="460" y="152"/>
                  </a:lnTo>
                  <a:lnTo>
                    <a:pt x="452" y="130"/>
                  </a:lnTo>
                  <a:lnTo>
                    <a:pt x="452" y="130"/>
                  </a:lnTo>
                  <a:lnTo>
                    <a:pt x="444" y="116"/>
                  </a:lnTo>
                  <a:lnTo>
                    <a:pt x="436" y="104"/>
                  </a:lnTo>
                  <a:lnTo>
                    <a:pt x="426" y="92"/>
                  </a:lnTo>
                  <a:lnTo>
                    <a:pt x="416" y="80"/>
                  </a:lnTo>
                  <a:lnTo>
                    <a:pt x="404" y="68"/>
                  </a:lnTo>
                  <a:lnTo>
                    <a:pt x="390" y="58"/>
                  </a:lnTo>
                  <a:lnTo>
                    <a:pt x="358" y="38"/>
                  </a:lnTo>
                  <a:lnTo>
                    <a:pt x="324" y="22"/>
                  </a:lnTo>
                  <a:lnTo>
                    <a:pt x="288" y="10"/>
                  </a:lnTo>
                  <a:lnTo>
                    <a:pt x="270" y="6"/>
                  </a:lnTo>
                  <a:lnTo>
                    <a:pt x="250" y="2"/>
                  </a:lnTo>
                  <a:lnTo>
                    <a:pt x="232" y="0"/>
                  </a:lnTo>
                  <a:lnTo>
                    <a:pt x="212" y="0"/>
                  </a:lnTo>
                  <a:lnTo>
                    <a:pt x="212" y="0"/>
                  </a:lnTo>
                  <a:close/>
                  <a:moveTo>
                    <a:pt x="300" y="434"/>
                  </a:moveTo>
                  <a:lnTo>
                    <a:pt x="300" y="434"/>
                  </a:lnTo>
                  <a:lnTo>
                    <a:pt x="274" y="438"/>
                  </a:lnTo>
                  <a:lnTo>
                    <a:pt x="240" y="442"/>
                  </a:lnTo>
                  <a:lnTo>
                    <a:pt x="206" y="448"/>
                  </a:lnTo>
                  <a:lnTo>
                    <a:pt x="192" y="452"/>
                  </a:lnTo>
                  <a:lnTo>
                    <a:pt x="180" y="456"/>
                  </a:lnTo>
                  <a:lnTo>
                    <a:pt x="180" y="456"/>
                  </a:lnTo>
                  <a:lnTo>
                    <a:pt x="160" y="454"/>
                  </a:lnTo>
                  <a:lnTo>
                    <a:pt x="142" y="450"/>
                  </a:lnTo>
                  <a:lnTo>
                    <a:pt x="128" y="442"/>
                  </a:lnTo>
                  <a:lnTo>
                    <a:pt x="118" y="432"/>
                  </a:lnTo>
                  <a:lnTo>
                    <a:pt x="110" y="418"/>
                  </a:lnTo>
                  <a:lnTo>
                    <a:pt x="104" y="404"/>
                  </a:lnTo>
                  <a:lnTo>
                    <a:pt x="100" y="388"/>
                  </a:lnTo>
                  <a:lnTo>
                    <a:pt x="100" y="370"/>
                  </a:lnTo>
                  <a:lnTo>
                    <a:pt x="100" y="352"/>
                  </a:lnTo>
                  <a:lnTo>
                    <a:pt x="100" y="332"/>
                  </a:lnTo>
                  <a:lnTo>
                    <a:pt x="106" y="292"/>
                  </a:lnTo>
                  <a:lnTo>
                    <a:pt x="112" y="250"/>
                  </a:lnTo>
                  <a:lnTo>
                    <a:pt x="116" y="212"/>
                  </a:lnTo>
                  <a:lnTo>
                    <a:pt x="116" y="212"/>
                  </a:lnTo>
                  <a:lnTo>
                    <a:pt x="132" y="196"/>
                  </a:lnTo>
                  <a:lnTo>
                    <a:pt x="144" y="178"/>
                  </a:lnTo>
                  <a:lnTo>
                    <a:pt x="158" y="160"/>
                  </a:lnTo>
                  <a:lnTo>
                    <a:pt x="164" y="152"/>
                  </a:lnTo>
                  <a:lnTo>
                    <a:pt x="172" y="144"/>
                  </a:lnTo>
                  <a:lnTo>
                    <a:pt x="172" y="144"/>
                  </a:lnTo>
                  <a:lnTo>
                    <a:pt x="190" y="130"/>
                  </a:lnTo>
                  <a:lnTo>
                    <a:pt x="210" y="118"/>
                  </a:lnTo>
                  <a:lnTo>
                    <a:pt x="228" y="106"/>
                  </a:lnTo>
                  <a:lnTo>
                    <a:pt x="244" y="92"/>
                  </a:lnTo>
                  <a:lnTo>
                    <a:pt x="244" y="92"/>
                  </a:lnTo>
                  <a:lnTo>
                    <a:pt x="262" y="94"/>
                  </a:lnTo>
                  <a:lnTo>
                    <a:pt x="278" y="98"/>
                  </a:lnTo>
                  <a:lnTo>
                    <a:pt x="292" y="102"/>
                  </a:lnTo>
                  <a:lnTo>
                    <a:pt x="306" y="108"/>
                  </a:lnTo>
                  <a:lnTo>
                    <a:pt x="330" y="122"/>
                  </a:lnTo>
                  <a:lnTo>
                    <a:pt x="356" y="136"/>
                  </a:lnTo>
                  <a:lnTo>
                    <a:pt x="356" y="136"/>
                  </a:lnTo>
                  <a:lnTo>
                    <a:pt x="362" y="178"/>
                  </a:lnTo>
                  <a:lnTo>
                    <a:pt x="364" y="218"/>
                  </a:lnTo>
                  <a:lnTo>
                    <a:pt x="364" y="256"/>
                  </a:lnTo>
                  <a:lnTo>
                    <a:pt x="358" y="294"/>
                  </a:lnTo>
                  <a:lnTo>
                    <a:pt x="348" y="332"/>
                  </a:lnTo>
                  <a:lnTo>
                    <a:pt x="336" y="366"/>
                  </a:lnTo>
                  <a:lnTo>
                    <a:pt x="320" y="400"/>
                  </a:lnTo>
                  <a:lnTo>
                    <a:pt x="300" y="434"/>
                  </a:lnTo>
                  <a:lnTo>
                    <a:pt x="300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21"/>
            <p:cNvSpPr/>
            <p:nvPr/>
          </p:nvSpPr>
          <p:spPr>
            <a:xfrm>
              <a:off x="17381520" y="5987880"/>
              <a:ext cx="2270160" cy="3092400"/>
            </a:xfrm>
            <a:custGeom>
              <a:avLst/>
              <a:gdLst>
                <a:gd name="textAreaLeft" fmla="*/ 0 w 2270160"/>
                <a:gd name="textAreaRight" fmla="*/ 2270520 w 2270160"/>
                <a:gd name="textAreaTop" fmla="*/ 0 h 3092400"/>
                <a:gd name="textAreaBottom" fmla="*/ 3092760 h 3092400"/>
              </a:gdLst>
              <a:ahLst/>
              <a:rect l="textAreaLeft" t="textAreaTop" r="textAreaRight" b="textAreaBottom"/>
              <a:pathLst>
                <a:path w="1430" h="1948">
                  <a:moveTo>
                    <a:pt x="1278" y="266"/>
                  </a:moveTo>
                  <a:lnTo>
                    <a:pt x="1278" y="266"/>
                  </a:lnTo>
                  <a:lnTo>
                    <a:pt x="1160" y="228"/>
                  </a:lnTo>
                  <a:lnTo>
                    <a:pt x="1160" y="228"/>
                  </a:lnTo>
                  <a:lnTo>
                    <a:pt x="1124" y="222"/>
                  </a:lnTo>
                  <a:lnTo>
                    <a:pt x="1092" y="218"/>
                  </a:lnTo>
                  <a:lnTo>
                    <a:pt x="1060" y="216"/>
                  </a:lnTo>
                  <a:lnTo>
                    <a:pt x="1030" y="216"/>
                  </a:lnTo>
                  <a:lnTo>
                    <a:pt x="1000" y="218"/>
                  </a:lnTo>
                  <a:lnTo>
                    <a:pt x="974" y="224"/>
                  </a:lnTo>
                  <a:lnTo>
                    <a:pt x="948" y="230"/>
                  </a:lnTo>
                  <a:lnTo>
                    <a:pt x="922" y="240"/>
                  </a:lnTo>
                  <a:lnTo>
                    <a:pt x="900" y="250"/>
                  </a:lnTo>
                  <a:lnTo>
                    <a:pt x="878" y="262"/>
                  </a:lnTo>
                  <a:lnTo>
                    <a:pt x="856" y="276"/>
                  </a:lnTo>
                  <a:lnTo>
                    <a:pt x="836" y="292"/>
                  </a:lnTo>
                  <a:lnTo>
                    <a:pt x="818" y="310"/>
                  </a:lnTo>
                  <a:lnTo>
                    <a:pt x="800" y="328"/>
                  </a:lnTo>
                  <a:lnTo>
                    <a:pt x="782" y="348"/>
                  </a:lnTo>
                  <a:lnTo>
                    <a:pt x="766" y="368"/>
                  </a:lnTo>
                  <a:lnTo>
                    <a:pt x="736" y="412"/>
                  </a:lnTo>
                  <a:lnTo>
                    <a:pt x="710" y="460"/>
                  </a:lnTo>
                  <a:lnTo>
                    <a:pt x="684" y="508"/>
                  </a:lnTo>
                  <a:lnTo>
                    <a:pt x="662" y="558"/>
                  </a:lnTo>
                  <a:lnTo>
                    <a:pt x="618" y="660"/>
                  </a:lnTo>
                  <a:lnTo>
                    <a:pt x="578" y="754"/>
                  </a:lnTo>
                  <a:lnTo>
                    <a:pt x="578" y="754"/>
                  </a:lnTo>
                  <a:lnTo>
                    <a:pt x="570" y="774"/>
                  </a:lnTo>
                  <a:lnTo>
                    <a:pt x="562" y="794"/>
                  </a:lnTo>
                  <a:lnTo>
                    <a:pt x="550" y="834"/>
                  </a:lnTo>
                  <a:lnTo>
                    <a:pt x="542" y="854"/>
                  </a:lnTo>
                  <a:lnTo>
                    <a:pt x="534" y="872"/>
                  </a:lnTo>
                  <a:lnTo>
                    <a:pt x="526" y="890"/>
                  </a:lnTo>
                  <a:lnTo>
                    <a:pt x="514" y="906"/>
                  </a:lnTo>
                  <a:lnTo>
                    <a:pt x="514" y="906"/>
                  </a:lnTo>
                  <a:lnTo>
                    <a:pt x="514" y="922"/>
                  </a:lnTo>
                  <a:lnTo>
                    <a:pt x="514" y="922"/>
                  </a:lnTo>
                  <a:lnTo>
                    <a:pt x="508" y="918"/>
                  </a:lnTo>
                  <a:lnTo>
                    <a:pt x="502" y="910"/>
                  </a:lnTo>
                  <a:lnTo>
                    <a:pt x="490" y="886"/>
                  </a:lnTo>
                  <a:lnTo>
                    <a:pt x="478" y="856"/>
                  </a:lnTo>
                  <a:lnTo>
                    <a:pt x="468" y="820"/>
                  </a:lnTo>
                  <a:lnTo>
                    <a:pt x="460" y="780"/>
                  </a:lnTo>
                  <a:lnTo>
                    <a:pt x="454" y="742"/>
                  </a:lnTo>
                  <a:lnTo>
                    <a:pt x="454" y="724"/>
                  </a:lnTo>
                  <a:lnTo>
                    <a:pt x="454" y="708"/>
                  </a:lnTo>
                  <a:lnTo>
                    <a:pt x="456" y="692"/>
                  </a:lnTo>
                  <a:lnTo>
                    <a:pt x="458" y="678"/>
                  </a:lnTo>
                  <a:lnTo>
                    <a:pt x="458" y="678"/>
                  </a:lnTo>
                  <a:lnTo>
                    <a:pt x="470" y="644"/>
                  </a:lnTo>
                  <a:lnTo>
                    <a:pt x="486" y="610"/>
                  </a:lnTo>
                  <a:lnTo>
                    <a:pt x="502" y="574"/>
                  </a:lnTo>
                  <a:lnTo>
                    <a:pt x="514" y="542"/>
                  </a:lnTo>
                  <a:lnTo>
                    <a:pt x="514" y="542"/>
                  </a:lnTo>
                  <a:lnTo>
                    <a:pt x="524" y="504"/>
                  </a:lnTo>
                  <a:lnTo>
                    <a:pt x="532" y="466"/>
                  </a:lnTo>
                  <a:lnTo>
                    <a:pt x="540" y="426"/>
                  </a:lnTo>
                  <a:lnTo>
                    <a:pt x="544" y="388"/>
                  </a:lnTo>
                  <a:lnTo>
                    <a:pt x="556" y="310"/>
                  </a:lnTo>
                  <a:lnTo>
                    <a:pt x="562" y="272"/>
                  </a:lnTo>
                  <a:lnTo>
                    <a:pt x="570" y="236"/>
                  </a:lnTo>
                  <a:lnTo>
                    <a:pt x="570" y="236"/>
                  </a:lnTo>
                  <a:lnTo>
                    <a:pt x="572" y="218"/>
                  </a:lnTo>
                  <a:lnTo>
                    <a:pt x="574" y="194"/>
                  </a:lnTo>
                  <a:lnTo>
                    <a:pt x="574" y="168"/>
                  </a:lnTo>
                  <a:lnTo>
                    <a:pt x="572" y="144"/>
                  </a:lnTo>
                  <a:lnTo>
                    <a:pt x="568" y="100"/>
                  </a:lnTo>
                  <a:lnTo>
                    <a:pt x="564" y="84"/>
                  </a:lnTo>
                  <a:lnTo>
                    <a:pt x="562" y="76"/>
                  </a:lnTo>
                  <a:lnTo>
                    <a:pt x="562" y="76"/>
                  </a:lnTo>
                  <a:lnTo>
                    <a:pt x="560" y="54"/>
                  </a:lnTo>
                  <a:lnTo>
                    <a:pt x="558" y="44"/>
                  </a:lnTo>
                  <a:lnTo>
                    <a:pt x="554" y="36"/>
                  </a:lnTo>
                  <a:lnTo>
                    <a:pt x="550" y="30"/>
                  </a:lnTo>
                  <a:lnTo>
                    <a:pt x="544" y="24"/>
                  </a:lnTo>
                  <a:lnTo>
                    <a:pt x="532" y="16"/>
                  </a:lnTo>
                  <a:lnTo>
                    <a:pt x="516" y="10"/>
                  </a:lnTo>
                  <a:lnTo>
                    <a:pt x="500" y="6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0" y="4"/>
                  </a:lnTo>
                  <a:lnTo>
                    <a:pt x="440" y="8"/>
                  </a:lnTo>
                  <a:lnTo>
                    <a:pt x="414" y="12"/>
                  </a:lnTo>
                  <a:lnTo>
                    <a:pt x="384" y="14"/>
                  </a:lnTo>
                  <a:lnTo>
                    <a:pt x="350" y="16"/>
                  </a:lnTo>
                  <a:lnTo>
                    <a:pt x="320" y="14"/>
                  </a:lnTo>
                  <a:lnTo>
                    <a:pt x="292" y="14"/>
                  </a:lnTo>
                  <a:lnTo>
                    <a:pt x="270" y="10"/>
                  </a:lnTo>
                  <a:lnTo>
                    <a:pt x="260" y="8"/>
                  </a:lnTo>
                  <a:lnTo>
                    <a:pt x="260" y="8"/>
                  </a:lnTo>
                  <a:lnTo>
                    <a:pt x="216" y="6"/>
                  </a:lnTo>
                  <a:lnTo>
                    <a:pt x="166" y="4"/>
                  </a:lnTo>
                  <a:lnTo>
                    <a:pt x="140" y="4"/>
                  </a:lnTo>
                  <a:lnTo>
                    <a:pt x="118" y="6"/>
                  </a:lnTo>
                  <a:lnTo>
                    <a:pt x="98" y="10"/>
                  </a:lnTo>
                  <a:lnTo>
                    <a:pt x="84" y="16"/>
                  </a:lnTo>
                  <a:lnTo>
                    <a:pt x="84" y="16"/>
                  </a:lnTo>
                  <a:lnTo>
                    <a:pt x="78" y="24"/>
                  </a:lnTo>
                  <a:lnTo>
                    <a:pt x="70" y="36"/>
                  </a:lnTo>
                  <a:lnTo>
                    <a:pt x="56" y="72"/>
                  </a:lnTo>
                  <a:lnTo>
                    <a:pt x="40" y="118"/>
                  </a:lnTo>
                  <a:lnTo>
                    <a:pt x="26" y="168"/>
                  </a:lnTo>
                  <a:lnTo>
                    <a:pt x="14" y="220"/>
                  </a:lnTo>
                  <a:lnTo>
                    <a:pt x="4" y="272"/>
                  </a:lnTo>
                  <a:lnTo>
                    <a:pt x="2" y="294"/>
                  </a:lnTo>
                  <a:lnTo>
                    <a:pt x="0" y="316"/>
                  </a:lnTo>
                  <a:lnTo>
                    <a:pt x="2" y="334"/>
                  </a:lnTo>
                  <a:lnTo>
                    <a:pt x="4" y="350"/>
                  </a:lnTo>
                  <a:lnTo>
                    <a:pt x="4" y="350"/>
                  </a:lnTo>
                  <a:lnTo>
                    <a:pt x="16" y="406"/>
                  </a:lnTo>
                  <a:lnTo>
                    <a:pt x="24" y="468"/>
                  </a:lnTo>
                  <a:lnTo>
                    <a:pt x="28" y="532"/>
                  </a:lnTo>
                  <a:lnTo>
                    <a:pt x="32" y="598"/>
                  </a:lnTo>
                  <a:lnTo>
                    <a:pt x="32" y="666"/>
                  </a:lnTo>
                  <a:lnTo>
                    <a:pt x="30" y="738"/>
                  </a:lnTo>
                  <a:lnTo>
                    <a:pt x="26" y="884"/>
                  </a:lnTo>
                  <a:lnTo>
                    <a:pt x="22" y="1032"/>
                  </a:lnTo>
                  <a:lnTo>
                    <a:pt x="22" y="1106"/>
                  </a:lnTo>
                  <a:lnTo>
                    <a:pt x="22" y="1178"/>
                  </a:lnTo>
                  <a:lnTo>
                    <a:pt x="26" y="1250"/>
                  </a:lnTo>
                  <a:lnTo>
                    <a:pt x="32" y="1318"/>
                  </a:lnTo>
                  <a:lnTo>
                    <a:pt x="40" y="1384"/>
                  </a:lnTo>
                  <a:lnTo>
                    <a:pt x="52" y="1448"/>
                  </a:lnTo>
                  <a:lnTo>
                    <a:pt x="52" y="1448"/>
                  </a:lnTo>
                  <a:lnTo>
                    <a:pt x="56" y="1472"/>
                  </a:lnTo>
                  <a:lnTo>
                    <a:pt x="60" y="1498"/>
                  </a:lnTo>
                  <a:lnTo>
                    <a:pt x="62" y="1554"/>
                  </a:lnTo>
                  <a:lnTo>
                    <a:pt x="62" y="1616"/>
                  </a:lnTo>
                  <a:lnTo>
                    <a:pt x="62" y="1678"/>
                  </a:lnTo>
                  <a:lnTo>
                    <a:pt x="62" y="1740"/>
                  </a:lnTo>
                  <a:lnTo>
                    <a:pt x="64" y="1768"/>
                  </a:lnTo>
                  <a:lnTo>
                    <a:pt x="66" y="1796"/>
                  </a:lnTo>
                  <a:lnTo>
                    <a:pt x="70" y="1820"/>
                  </a:lnTo>
                  <a:lnTo>
                    <a:pt x="76" y="1844"/>
                  </a:lnTo>
                  <a:lnTo>
                    <a:pt x="82" y="1864"/>
                  </a:lnTo>
                  <a:lnTo>
                    <a:pt x="92" y="1882"/>
                  </a:lnTo>
                  <a:lnTo>
                    <a:pt x="92" y="1882"/>
                  </a:lnTo>
                  <a:lnTo>
                    <a:pt x="92" y="1906"/>
                  </a:lnTo>
                  <a:lnTo>
                    <a:pt x="94" y="1914"/>
                  </a:lnTo>
                  <a:lnTo>
                    <a:pt x="96" y="1920"/>
                  </a:lnTo>
                  <a:lnTo>
                    <a:pt x="100" y="1924"/>
                  </a:lnTo>
                  <a:lnTo>
                    <a:pt x="106" y="1928"/>
                  </a:lnTo>
                  <a:lnTo>
                    <a:pt x="124" y="1936"/>
                  </a:lnTo>
                  <a:lnTo>
                    <a:pt x="124" y="1936"/>
                  </a:lnTo>
                  <a:lnTo>
                    <a:pt x="130" y="1940"/>
                  </a:lnTo>
                  <a:lnTo>
                    <a:pt x="140" y="1942"/>
                  </a:lnTo>
                  <a:lnTo>
                    <a:pt x="160" y="1946"/>
                  </a:lnTo>
                  <a:lnTo>
                    <a:pt x="186" y="1948"/>
                  </a:lnTo>
                  <a:lnTo>
                    <a:pt x="212" y="1948"/>
                  </a:lnTo>
                  <a:lnTo>
                    <a:pt x="238" y="1946"/>
                  </a:lnTo>
                  <a:lnTo>
                    <a:pt x="264" y="1942"/>
                  </a:lnTo>
                  <a:lnTo>
                    <a:pt x="306" y="1936"/>
                  </a:lnTo>
                  <a:lnTo>
                    <a:pt x="306" y="1936"/>
                  </a:lnTo>
                  <a:lnTo>
                    <a:pt x="482" y="1890"/>
                  </a:lnTo>
                  <a:lnTo>
                    <a:pt x="482" y="1890"/>
                  </a:lnTo>
                  <a:lnTo>
                    <a:pt x="500" y="1886"/>
                  </a:lnTo>
                  <a:lnTo>
                    <a:pt x="520" y="1884"/>
                  </a:lnTo>
                  <a:lnTo>
                    <a:pt x="558" y="1884"/>
                  </a:lnTo>
                  <a:lnTo>
                    <a:pt x="598" y="1884"/>
                  </a:lnTo>
                  <a:lnTo>
                    <a:pt x="636" y="1886"/>
                  </a:lnTo>
                  <a:lnTo>
                    <a:pt x="674" y="1888"/>
                  </a:lnTo>
                  <a:lnTo>
                    <a:pt x="708" y="1886"/>
                  </a:lnTo>
                  <a:lnTo>
                    <a:pt x="724" y="1884"/>
                  </a:lnTo>
                  <a:lnTo>
                    <a:pt x="740" y="1880"/>
                  </a:lnTo>
                  <a:lnTo>
                    <a:pt x="756" y="1874"/>
                  </a:lnTo>
                  <a:lnTo>
                    <a:pt x="768" y="1868"/>
                  </a:lnTo>
                  <a:lnTo>
                    <a:pt x="768" y="1868"/>
                  </a:lnTo>
                  <a:lnTo>
                    <a:pt x="792" y="1860"/>
                  </a:lnTo>
                  <a:lnTo>
                    <a:pt x="792" y="1860"/>
                  </a:lnTo>
                  <a:lnTo>
                    <a:pt x="792" y="1780"/>
                  </a:lnTo>
                  <a:lnTo>
                    <a:pt x="792" y="1702"/>
                  </a:lnTo>
                  <a:lnTo>
                    <a:pt x="796" y="1626"/>
                  </a:lnTo>
                  <a:lnTo>
                    <a:pt x="800" y="1552"/>
                  </a:lnTo>
                  <a:lnTo>
                    <a:pt x="806" y="1478"/>
                  </a:lnTo>
                  <a:lnTo>
                    <a:pt x="816" y="1406"/>
                  </a:lnTo>
                  <a:lnTo>
                    <a:pt x="826" y="1336"/>
                  </a:lnTo>
                  <a:lnTo>
                    <a:pt x="840" y="1270"/>
                  </a:lnTo>
                  <a:lnTo>
                    <a:pt x="856" y="1204"/>
                  </a:lnTo>
                  <a:lnTo>
                    <a:pt x="874" y="1140"/>
                  </a:lnTo>
                  <a:lnTo>
                    <a:pt x="896" y="1078"/>
                  </a:lnTo>
                  <a:lnTo>
                    <a:pt x="918" y="1020"/>
                  </a:lnTo>
                  <a:lnTo>
                    <a:pt x="944" y="962"/>
                  </a:lnTo>
                  <a:lnTo>
                    <a:pt x="974" y="908"/>
                  </a:lnTo>
                  <a:lnTo>
                    <a:pt x="1006" y="856"/>
                  </a:lnTo>
                  <a:lnTo>
                    <a:pt x="1040" y="808"/>
                  </a:lnTo>
                  <a:lnTo>
                    <a:pt x="1040" y="808"/>
                  </a:lnTo>
                  <a:lnTo>
                    <a:pt x="1058" y="786"/>
                  </a:lnTo>
                  <a:lnTo>
                    <a:pt x="1080" y="762"/>
                  </a:lnTo>
                  <a:lnTo>
                    <a:pt x="1106" y="738"/>
                  </a:lnTo>
                  <a:lnTo>
                    <a:pt x="1134" y="714"/>
                  </a:lnTo>
                  <a:lnTo>
                    <a:pt x="1194" y="664"/>
                  </a:lnTo>
                  <a:lnTo>
                    <a:pt x="1256" y="612"/>
                  </a:lnTo>
                  <a:lnTo>
                    <a:pt x="1316" y="558"/>
                  </a:lnTo>
                  <a:lnTo>
                    <a:pt x="1344" y="532"/>
                  </a:lnTo>
                  <a:lnTo>
                    <a:pt x="1368" y="506"/>
                  </a:lnTo>
                  <a:lnTo>
                    <a:pt x="1390" y="480"/>
                  </a:lnTo>
                  <a:lnTo>
                    <a:pt x="1408" y="454"/>
                  </a:lnTo>
                  <a:lnTo>
                    <a:pt x="1422" y="430"/>
                  </a:lnTo>
                  <a:lnTo>
                    <a:pt x="1426" y="416"/>
                  </a:lnTo>
                  <a:lnTo>
                    <a:pt x="1430" y="404"/>
                  </a:lnTo>
                  <a:lnTo>
                    <a:pt x="1430" y="404"/>
                  </a:lnTo>
                  <a:lnTo>
                    <a:pt x="1396" y="366"/>
                  </a:lnTo>
                  <a:lnTo>
                    <a:pt x="1362" y="330"/>
                  </a:lnTo>
                  <a:lnTo>
                    <a:pt x="1344" y="312"/>
                  </a:lnTo>
                  <a:lnTo>
                    <a:pt x="1324" y="296"/>
                  </a:lnTo>
                  <a:lnTo>
                    <a:pt x="1302" y="280"/>
                  </a:lnTo>
                  <a:lnTo>
                    <a:pt x="1278" y="266"/>
                  </a:lnTo>
                  <a:lnTo>
                    <a:pt x="1278" y="266"/>
                  </a:lnTo>
                  <a:close/>
                  <a:moveTo>
                    <a:pt x="1120" y="564"/>
                  </a:moveTo>
                  <a:lnTo>
                    <a:pt x="1120" y="564"/>
                  </a:lnTo>
                  <a:lnTo>
                    <a:pt x="1086" y="596"/>
                  </a:lnTo>
                  <a:lnTo>
                    <a:pt x="1052" y="634"/>
                  </a:lnTo>
                  <a:lnTo>
                    <a:pt x="1014" y="674"/>
                  </a:lnTo>
                  <a:lnTo>
                    <a:pt x="980" y="718"/>
                  </a:lnTo>
                  <a:lnTo>
                    <a:pt x="944" y="762"/>
                  </a:lnTo>
                  <a:lnTo>
                    <a:pt x="914" y="806"/>
                  </a:lnTo>
                  <a:lnTo>
                    <a:pt x="886" y="850"/>
                  </a:lnTo>
                  <a:lnTo>
                    <a:pt x="864" y="892"/>
                  </a:lnTo>
                  <a:lnTo>
                    <a:pt x="864" y="892"/>
                  </a:lnTo>
                  <a:lnTo>
                    <a:pt x="822" y="988"/>
                  </a:lnTo>
                  <a:lnTo>
                    <a:pt x="802" y="1038"/>
                  </a:lnTo>
                  <a:lnTo>
                    <a:pt x="784" y="1086"/>
                  </a:lnTo>
                  <a:lnTo>
                    <a:pt x="768" y="1138"/>
                  </a:lnTo>
                  <a:lnTo>
                    <a:pt x="750" y="1188"/>
                  </a:lnTo>
                  <a:lnTo>
                    <a:pt x="736" y="1242"/>
                  </a:lnTo>
                  <a:lnTo>
                    <a:pt x="722" y="1296"/>
                  </a:lnTo>
                  <a:lnTo>
                    <a:pt x="722" y="1296"/>
                  </a:lnTo>
                  <a:lnTo>
                    <a:pt x="718" y="1312"/>
                  </a:lnTo>
                  <a:lnTo>
                    <a:pt x="714" y="1332"/>
                  </a:lnTo>
                  <a:lnTo>
                    <a:pt x="712" y="1378"/>
                  </a:lnTo>
                  <a:lnTo>
                    <a:pt x="708" y="1480"/>
                  </a:lnTo>
                  <a:lnTo>
                    <a:pt x="704" y="1532"/>
                  </a:lnTo>
                  <a:lnTo>
                    <a:pt x="700" y="1578"/>
                  </a:lnTo>
                  <a:lnTo>
                    <a:pt x="696" y="1598"/>
                  </a:lnTo>
                  <a:lnTo>
                    <a:pt x="692" y="1618"/>
                  </a:lnTo>
                  <a:lnTo>
                    <a:pt x="688" y="1634"/>
                  </a:lnTo>
                  <a:lnTo>
                    <a:pt x="682" y="1646"/>
                  </a:lnTo>
                  <a:lnTo>
                    <a:pt x="682" y="1646"/>
                  </a:lnTo>
                  <a:lnTo>
                    <a:pt x="682" y="1790"/>
                  </a:lnTo>
                  <a:lnTo>
                    <a:pt x="682" y="1790"/>
                  </a:lnTo>
                  <a:lnTo>
                    <a:pt x="654" y="1794"/>
                  </a:lnTo>
                  <a:lnTo>
                    <a:pt x="624" y="1796"/>
                  </a:lnTo>
                  <a:lnTo>
                    <a:pt x="556" y="1796"/>
                  </a:lnTo>
                  <a:lnTo>
                    <a:pt x="522" y="1796"/>
                  </a:lnTo>
                  <a:lnTo>
                    <a:pt x="488" y="1798"/>
                  </a:lnTo>
                  <a:lnTo>
                    <a:pt x="456" y="1800"/>
                  </a:lnTo>
                  <a:lnTo>
                    <a:pt x="426" y="1806"/>
                  </a:lnTo>
                  <a:lnTo>
                    <a:pt x="426" y="1806"/>
                  </a:lnTo>
                  <a:lnTo>
                    <a:pt x="348" y="1828"/>
                  </a:lnTo>
                  <a:lnTo>
                    <a:pt x="268" y="1852"/>
                  </a:lnTo>
                  <a:lnTo>
                    <a:pt x="268" y="1852"/>
                  </a:lnTo>
                  <a:lnTo>
                    <a:pt x="244" y="1856"/>
                  </a:lnTo>
                  <a:lnTo>
                    <a:pt x="226" y="1856"/>
                  </a:lnTo>
                  <a:lnTo>
                    <a:pt x="214" y="1856"/>
                  </a:lnTo>
                  <a:lnTo>
                    <a:pt x="208" y="1858"/>
                  </a:lnTo>
                  <a:lnTo>
                    <a:pt x="204" y="1860"/>
                  </a:lnTo>
                  <a:lnTo>
                    <a:pt x="204" y="1860"/>
                  </a:lnTo>
                  <a:lnTo>
                    <a:pt x="198" y="1856"/>
                  </a:lnTo>
                  <a:lnTo>
                    <a:pt x="192" y="1850"/>
                  </a:lnTo>
                  <a:lnTo>
                    <a:pt x="184" y="1834"/>
                  </a:lnTo>
                  <a:lnTo>
                    <a:pt x="178" y="1814"/>
                  </a:lnTo>
                  <a:lnTo>
                    <a:pt x="172" y="1790"/>
                  </a:lnTo>
                  <a:lnTo>
                    <a:pt x="168" y="1764"/>
                  </a:lnTo>
                  <a:lnTo>
                    <a:pt x="164" y="1732"/>
                  </a:lnTo>
                  <a:lnTo>
                    <a:pt x="160" y="1668"/>
                  </a:lnTo>
                  <a:lnTo>
                    <a:pt x="156" y="1534"/>
                  </a:lnTo>
                  <a:lnTo>
                    <a:pt x="154" y="1476"/>
                  </a:lnTo>
                  <a:lnTo>
                    <a:pt x="152" y="1452"/>
                  </a:lnTo>
                  <a:lnTo>
                    <a:pt x="148" y="1432"/>
                  </a:lnTo>
                  <a:lnTo>
                    <a:pt x="148" y="1432"/>
                  </a:lnTo>
                  <a:lnTo>
                    <a:pt x="138" y="1384"/>
                  </a:lnTo>
                  <a:lnTo>
                    <a:pt x="130" y="1322"/>
                  </a:lnTo>
                  <a:lnTo>
                    <a:pt x="122" y="1252"/>
                  </a:lnTo>
                  <a:lnTo>
                    <a:pt x="118" y="1176"/>
                  </a:lnTo>
                  <a:lnTo>
                    <a:pt x="114" y="1102"/>
                  </a:lnTo>
                  <a:lnTo>
                    <a:pt x="114" y="1032"/>
                  </a:lnTo>
                  <a:lnTo>
                    <a:pt x="118" y="970"/>
                  </a:lnTo>
                  <a:lnTo>
                    <a:pt x="120" y="944"/>
                  </a:lnTo>
                  <a:lnTo>
                    <a:pt x="124" y="922"/>
                  </a:lnTo>
                  <a:lnTo>
                    <a:pt x="124" y="922"/>
                  </a:lnTo>
                  <a:lnTo>
                    <a:pt x="128" y="894"/>
                  </a:lnTo>
                  <a:lnTo>
                    <a:pt x="132" y="866"/>
                  </a:lnTo>
                  <a:lnTo>
                    <a:pt x="134" y="836"/>
                  </a:lnTo>
                  <a:lnTo>
                    <a:pt x="134" y="806"/>
                  </a:lnTo>
                  <a:lnTo>
                    <a:pt x="132" y="746"/>
                  </a:lnTo>
                  <a:lnTo>
                    <a:pt x="128" y="686"/>
                  </a:lnTo>
                  <a:lnTo>
                    <a:pt x="124" y="626"/>
                  </a:lnTo>
                  <a:lnTo>
                    <a:pt x="122" y="568"/>
                  </a:lnTo>
                  <a:lnTo>
                    <a:pt x="122" y="538"/>
                  </a:lnTo>
                  <a:lnTo>
                    <a:pt x="124" y="510"/>
                  </a:lnTo>
                  <a:lnTo>
                    <a:pt x="126" y="484"/>
                  </a:lnTo>
                  <a:lnTo>
                    <a:pt x="132" y="458"/>
                  </a:lnTo>
                  <a:lnTo>
                    <a:pt x="132" y="458"/>
                  </a:lnTo>
                  <a:lnTo>
                    <a:pt x="134" y="440"/>
                  </a:lnTo>
                  <a:lnTo>
                    <a:pt x="134" y="426"/>
                  </a:lnTo>
                  <a:lnTo>
                    <a:pt x="130" y="412"/>
                  </a:lnTo>
                  <a:lnTo>
                    <a:pt x="126" y="400"/>
                  </a:lnTo>
                  <a:lnTo>
                    <a:pt x="116" y="378"/>
                  </a:lnTo>
                  <a:lnTo>
                    <a:pt x="108" y="358"/>
                  </a:lnTo>
                  <a:lnTo>
                    <a:pt x="108" y="358"/>
                  </a:lnTo>
                  <a:lnTo>
                    <a:pt x="106" y="348"/>
                  </a:lnTo>
                  <a:lnTo>
                    <a:pt x="104" y="334"/>
                  </a:lnTo>
                  <a:lnTo>
                    <a:pt x="106" y="302"/>
                  </a:lnTo>
                  <a:lnTo>
                    <a:pt x="110" y="266"/>
                  </a:lnTo>
                  <a:lnTo>
                    <a:pt x="118" y="226"/>
                  </a:lnTo>
                  <a:lnTo>
                    <a:pt x="128" y="190"/>
                  </a:lnTo>
                  <a:lnTo>
                    <a:pt x="138" y="156"/>
                  </a:lnTo>
                  <a:lnTo>
                    <a:pt x="148" y="130"/>
                  </a:lnTo>
                  <a:lnTo>
                    <a:pt x="156" y="114"/>
                  </a:lnTo>
                  <a:lnTo>
                    <a:pt x="156" y="114"/>
                  </a:lnTo>
                  <a:lnTo>
                    <a:pt x="162" y="108"/>
                  </a:lnTo>
                  <a:lnTo>
                    <a:pt x="172" y="104"/>
                  </a:lnTo>
                  <a:lnTo>
                    <a:pt x="186" y="100"/>
                  </a:lnTo>
                  <a:lnTo>
                    <a:pt x="202" y="98"/>
                  </a:lnTo>
                  <a:lnTo>
                    <a:pt x="242" y="94"/>
                  </a:lnTo>
                  <a:lnTo>
                    <a:pt x="290" y="94"/>
                  </a:lnTo>
                  <a:lnTo>
                    <a:pt x="388" y="96"/>
                  </a:lnTo>
                  <a:lnTo>
                    <a:pt x="466" y="100"/>
                  </a:lnTo>
                  <a:lnTo>
                    <a:pt x="466" y="100"/>
                  </a:lnTo>
                  <a:lnTo>
                    <a:pt x="464" y="202"/>
                  </a:lnTo>
                  <a:lnTo>
                    <a:pt x="460" y="256"/>
                  </a:lnTo>
                  <a:lnTo>
                    <a:pt x="456" y="308"/>
                  </a:lnTo>
                  <a:lnTo>
                    <a:pt x="450" y="358"/>
                  </a:lnTo>
                  <a:lnTo>
                    <a:pt x="440" y="406"/>
                  </a:lnTo>
                  <a:lnTo>
                    <a:pt x="430" y="452"/>
                  </a:lnTo>
                  <a:lnTo>
                    <a:pt x="418" y="496"/>
                  </a:lnTo>
                  <a:lnTo>
                    <a:pt x="418" y="496"/>
                  </a:lnTo>
                  <a:lnTo>
                    <a:pt x="402" y="536"/>
                  </a:lnTo>
                  <a:lnTo>
                    <a:pt x="386" y="578"/>
                  </a:lnTo>
                  <a:lnTo>
                    <a:pt x="368" y="620"/>
                  </a:lnTo>
                  <a:lnTo>
                    <a:pt x="360" y="642"/>
                  </a:lnTo>
                  <a:lnTo>
                    <a:pt x="354" y="664"/>
                  </a:lnTo>
                  <a:lnTo>
                    <a:pt x="354" y="664"/>
                  </a:lnTo>
                  <a:lnTo>
                    <a:pt x="350" y="684"/>
                  </a:lnTo>
                  <a:lnTo>
                    <a:pt x="348" y="704"/>
                  </a:lnTo>
                  <a:lnTo>
                    <a:pt x="348" y="724"/>
                  </a:lnTo>
                  <a:lnTo>
                    <a:pt x="348" y="744"/>
                  </a:lnTo>
                  <a:lnTo>
                    <a:pt x="350" y="764"/>
                  </a:lnTo>
                  <a:lnTo>
                    <a:pt x="354" y="782"/>
                  </a:lnTo>
                  <a:lnTo>
                    <a:pt x="362" y="820"/>
                  </a:lnTo>
                  <a:lnTo>
                    <a:pt x="374" y="854"/>
                  </a:lnTo>
                  <a:lnTo>
                    <a:pt x="386" y="888"/>
                  </a:lnTo>
                  <a:lnTo>
                    <a:pt x="410" y="944"/>
                  </a:lnTo>
                  <a:lnTo>
                    <a:pt x="410" y="944"/>
                  </a:lnTo>
                  <a:lnTo>
                    <a:pt x="418" y="966"/>
                  </a:lnTo>
                  <a:lnTo>
                    <a:pt x="422" y="988"/>
                  </a:lnTo>
                  <a:lnTo>
                    <a:pt x="432" y="1032"/>
                  </a:lnTo>
                  <a:lnTo>
                    <a:pt x="438" y="1052"/>
                  </a:lnTo>
                  <a:lnTo>
                    <a:pt x="444" y="1072"/>
                  </a:lnTo>
                  <a:lnTo>
                    <a:pt x="454" y="1090"/>
                  </a:lnTo>
                  <a:lnTo>
                    <a:pt x="466" y="1106"/>
                  </a:lnTo>
                  <a:lnTo>
                    <a:pt x="466" y="1106"/>
                  </a:lnTo>
                  <a:lnTo>
                    <a:pt x="478" y="1112"/>
                  </a:lnTo>
                  <a:lnTo>
                    <a:pt x="490" y="1120"/>
                  </a:lnTo>
                  <a:lnTo>
                    <a:pt x="490" y="1120"/>
                  </a:lnTo>
                  <a:lnTo>
                    <a:pt x="506" y="1118"/>
                  </a:lnTo>
                  <a:lnTo>
                    <a:pt x="522" y="1112"/>
                  </a:lnTo>
                  <a:lnTo>
                    <a:pt x="536" y="1104"/>
                  </a:lnTo>
                  <a:lnTo>
                    <a:pt x="548" y="1094"/>
                  </a:lnTo>
                  <a:lnTo>
                    <a:pt x="558" y="1082"/>
                  </a:lnTo>
                  <a:lnTo>
                    <a:pt x="568" y="1068"/>
                  </a:lnTo>
                  <a:lnTo>
                    <a:pt x="578" y="1052"/>
                  </a:lnTo>
                  <a:lnTo>
                    <a:pt x="586" y="1034"/>
                  </a:lnTo>
                  <a:lnTo>
                    <a:pt x="600" y="998"/>
                  </a:lnTo>
                  <a:lnTo>
                    <a:pt x="612" y="962"/>
                  </a:lnTo>
                  <a:lnTo>
                    <a:pt x="622" y="928"/>
                  </a:lnTo>
                  <a:lnTo>
                    <a:pt x="634" y="900"/>
                  </a:lnTo>
                  <a:lnTo>
                    <a:pt x="634" y="900"/>
                  </a:lnTo>
                  <a:lnTo>
                    <a:pt x="662" y="830"/>
                  </a:lnTo>
                  <a:lnTo>
                    <a:pt x="696" y="748"/>
                  </a:lnTo>
                  <a:lnTo>
                    <a:pt x="734" y="658"/>
                  </a:lnTo>
                  <a:lnTo>
                    <a:pt x="754" y="612"/>
                  </a:lnTo>
                  <a:lnTo>
                    <a:pt x="776" y="568"/>
                  </a:lnTo>
                  <a:lnTo>
                    <a:pt x="798" y="524"/>
                  </a:lnTo>
                  <a:lnTo>
                    <a:pt x="822" y="482"/>
                  </a:lnTo>
                  <a:lnTo>
                    <a:pt x="848" y="444"/>
                  </a:lnTo>
                  <a:lnTo>
                    <a:pt x="874" y="410"/>
                  </a:lnTo>
                  <a:lnTo>
                    <a:pt x="902" y="378"/>
                  </a:lnTo>
                  <a:lnTo>
                    <a:pt x="916" y="364"/>
                  </a:lnTo>
                  <a:lnTo>
                    <a:pt x="930" y="352"/>
                  </a:lnTo>
                  <a:lnTo>
                    <a:pt x="946" y="342"/>
                  </a:lnTo>
                  <a:lnTo>
                    <a:pt x="960" y="334"/>
                  </a:lnTo>
                  <a:lnTo>
                    <a:pt x="976" y="326"/>
                  </a:lnTo>
                  <a:lnTo>
                    <a:pt x="992" y="320"/>
                  </a:lnTo>
                  <a:lnTo>
                    <a:pt x="992" y="320"/>
                  </a:lnTo>
                  <a:lnTo>
                    <a:pt x="1010" y="312"/>
                  </a:lnTo>
                  <a:lnTo>
                    <a:pt x="1032" y="306"/>
                  </a:lnTo>
                  <a:lnTo>
                    <a:pt x="1054" y="304"/>
                  </a:lnTo>
                  <a:lnTo>
                    <a:pt x="1076" y="304"/>
                  </a:lnTo>
                  <a:lnTo>
                    <a:pt x="1100" y="308"/>
                  </a:lnTo>
                  <a:lnTo>
                    <a:pt x="1124" y="312"/>
                  </a:lnTo>
                  <a:lnTo>
                    <a:pt x="1148" y="320"/>
                  </a:lnTo>
                  <a:lnTo>
                    <a:pt x="1174" y="328"/>
                  </a:lnTo>
                  <a:lnTo>
                    <a:pt x="1220" y="346"/>
                  </a:lnTo>
                  <a:lnTo>
                    <a:pt x="1262" y="366"/>
                  </a:lnTo>
                  <a:lnTo>
                    <a:pt x="1318" y="396"/>
                  </a:lnTo>
                  <a:lnTo>
                    <a:pt x="1318" y="396"/>
                  </a:lnTo>
                  <a:lnTo>
                    <a:pt x="1312" y="410"/>
                  </a:lnTo>
                  <a:lnTo>
                    <a:pt x="1304" y="424"/>
                  </a:lnTo>
                  <a:lnTo>
                    <a:pt x="1294" y="436"/>
                  </a:lnTo>
                  <a:lnTo>
                    <a:pt x="1282" y="448"/>
                  </a:lnTo>
                  <a:lnTo>
                    <a:pt x="1256" y="470"/>
                  </a:lnTo>
                  <a:lnTo>
                    <a:pt x="1230" y="488"/>
                  </a:lnTo>
                  <a:lnTo>
                    <a:pt x="1170" y="526"/>
                  </a:lnTo>
                  <a:lnTo>
                    <a:pt x="1144" y="544"/>
                  </a:lnTo>
                  <a:lnTo>
                    <a:pt x="1120" y="564"/>
                  </a:lnTo>
                  <a:lnTo>
                    <a:pt x="1120" y="5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2"/>
            <p:cNvSpPr/>
            <p:nvPr/>
          </p:nvSpPr>
          <p:spPr>
            <a:xfrm>
              <a:off x="16336800" y="6086520"/>
              <a:ext cx="419040" cy="57780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577800"/>
                <a:gd name="textAreaBottom" fmla="*/ 578160 h 577800"/>
              </a:gdLst>
              <a:ahLst/>
              <a:rect l="textAreaLeft" t="textAreaTop" r="textAreaRight" b="textAreaBottom"/>
              <a:pathLst>
                <a:path w="264" h="364">
                  <a:moveTo>
                    <a:pt x="144" y="0"/>
                  </a:moveTo>
                  <a:lnTo>
                    <a:pt x="144" y="0"/>
                  </a:lnTo>
                  <a:lnTo>
                    <a:pt x="128" y="14"/>
                  </a:lnTo>
                  <a:lnTo>
                    <a:pt x="110" y="26"/>
                  </a:lnTo>
                  <a:lnTo>
                    <a:pt x="90" y="38"/>
                  </a:lnTo>
                  <a:lnTo>
                    <a:pt x="72" y="52"/>
                  </a:lnTo>
                  <a:lnTo>
                    <a:pt x="72" y="52"/>
                  </a:lnTo>
                  <a:lnTo>
                    <a:pt x="64" y="60"/>
                  </a:lnTo>
                  <a:lnTo>
                    <a:pt x="58" y="68"/>
                  </a:lnTo>
                  <a:lnTo>
                    <a:pt x="44" y="86"/>
                  </a:lnTo>
                  <a:lnTo>
                    <a:pt x="32" y="104"/>
                  </a:lnTo>
                  <a:lnTo>
                    <a:pt x="16" y="120"/>
                  </a:lnTo>
                  <a:lnTo>
                    <a:pt x="16" y="120"/>
                  </a:lnTo>
                  <a:lnTo>
                    <a:pt x="12" y="158"/>
                  </a:lnTo>
                  <a:lnTo>
                    <a:pt x="6" y="200"/>
                  </a:lnTo>
                  <a:lnTo>
                    <a:pt x="0" y="240"/>
                  </a:lnTo>
                  <a:lnTo>
                    <a:pt x="0" y="260"/>
                  </a:lnTo>
                  <a:lnTo>
                    <a:pt x="0" y="278"/>
                  </a:lnTo>
                  <a:lnTo>
                    <a:pt x="0" y="296"/>
                  </a:lnTo>
                  <a:lnTo>
                    <a:pt x="4" y="312"/>
                  </a:lnTo>
                  <a:lnTo>
                    <a:pt x="10" y="326"/>
                  </a:lnTo>
                  <a:lnTo>
                    <a:pt x="18" y="340"/>
                  </a:lnTo>
                  <a:lnTo>
                    <a:pt x="28" y="350"/>
                  </a:lnTo>
                  <a:lnTo>
                    <a:pt x="42" y="358"/>
                  </a:lnTo>
                  <a:lnTo>
                    <a:pt x="60" y="362"/>
                  </a:lnTo>
                  <a:lnTo>
                    <a:pt x="80" y="364"/>
                  </a:lnTo>
                  <a:lnTo>
                    <a:pt x="80" y="364"/>
                  </a:lnTo>
                  <a:lnTo>
                    <a:pt x="92" y="360"/>
                  </a:lnTo>
                  <a:lnTo>
                    <a:pt x="106" y="356"/>
                  </a:lnTo>
                  <a:lnTo>
                    <a:pt x="140" y="350"/>
                  </a:lnTo>
                  <a:lnTo>
                    <a:pt x="174" y="346"/>
                  </a:lnTo>
                  <a:lnTo>
                    <a:pt x="200" y="342"/>
                  </a:lnTo>
                  <a:lnTo>
                    <a:pt x="200" y="342"/>
                  </a:lnTo>
                  <a:lnTo>
                    <a:pt x="220" y="308"/>
                  </a:lnTo>
                  <a:lnTo>
                    <a:pt x="236" y="274"/>
                  </a:lnTo>
                  <a:lnTo>
                    <a:pt x="248" y="240"/>
                  </a:lnTo>
                  <a:lnTo>
                    <a:pt x="258" y="202"/>
                  </a:lnTo>
                  <a:lnTo>
                    <a:pt x="264" y="164"/>
                  </a:lnTo>
                  <a:lnTo>
                    <a:pt x="264" y="126"/>
                  </a:lnTo>
                  <a:lnTo>
                    <a:pt x="262" y="86"/>
                  </a:lnTo>
                  <a:lnTo>
                    <a:pt x="256" y="44"/>
                  </a:lnTo>
                  <a:lnTo>
                    <a:pt x="256" y="44"/>
                  </a:lnTo>
                  <a:lnTo>
                    <a:pt x="230" y="30"/>
                  </a:lnTo>
                  <a:lnTo>
                    <a:pt x="206" y="16"/>
                  </a:lnTo>
                  <a:lnTo>
                    <a:pt x="192" y="10"/>
                  </a:lnTo>
                  <a:lnTo>
                    <a:pt x="178" y="6"/>
                  </a:lnTo>
                  <a:lnTo>
                    <a:pt x="162" y="2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fc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23"/>
            <p:cNvSpPr/>
            <p:nvPr/>
          </p:nvSpPr>
          <p:spPr>
            <a:xfrm>
              <a:off x="17546760" y="6137280"/>
              <a:ext cx="1927080" cy="2803680"/>
            </a:xfrm>
            <a:custGeom>
              <a:avLst/>
              <a:gdLst>
                <a:gd name="textAreaLeft" fmla="*/ 0 w 1927080"/>
                <a:gd name="textAreaRight" fmla="*/ 1927440 w 1927080"/>
                <a:gd name="textAreaTop" fmla="*/ 0 h 2803680"/>
                <a:gd name="textAreaBottom" fmla="*/ 2804040 h 2803680"/>
              </a:gdLst>
              <a:ahLst/>
              <a:rect l="textAreaLeft" t="textAreaTop" r="textAreaRight" b="textAreaBottom"/>
              <a:pathLst>
                <a:path w="1214" h="1766">
                  <a:moveTo>
                    <a:pt x="888" y="226"/>
                  </a:moveTo>
                  <a:lnTo>
                    <a:pt x="888" y="226"/>
                  </a:lnTo>
                  <a:lnTo>
                    <a:pt x="872" y="232"/>
                  </a:lnTo>
                  <a:lnTo>
                    <a:pt x="856" y="240"/>
                  </a:lnTo>
                  <a:lnTo>
                    <a:pt x="842" y="248"/>
                  </a:lnTo>
                  <a:lnTo>
                    <a:pt x="826" y="258"/>
                  </a:lnTo>
                  <a:lnTo>
                    <a:pt x="812" y="270"/>
                  </a:lnTo>
                  <a:lnTo>
                    <a:pt x="798" y="284"/>
                  </a:lnTo>
                  <a:lnTo>
                    <a:pt x="770" y="316"/>
                  </a:lnTo>
                  <a:lnTo>
                    <a:pt x="744" y="350"/>
                  </a:lnTo>
                  <a:lnTo>
                    <a:pt x="718" y="388"/>
                  </a:lnTo>
                  <a:lnTo>
                    <a:pt x="694" y="430"/>
                  </a:lnTo>
                  <a:lnTo>
                    <a:pt x="672" y="474"/>
                  </a:lnTo>
                  <a:lnTo>
                    <a:pt x="650" y="518"/>
                  </a:lnTo>
                  <a:lnTo>
                    <a:pt x="630" y="564"/>
                  </a:lnTo>
                  <a:lnTo>
                    <a:pt x="592" y="654"/>
                  </a:lnTo>
                  <a:lnTo>
                    <a:pt x="558" y="736"/>
                  </a:lnTo>
                  <a:lnTo>
                    <a:pt x="530" y="806"/>
                  </a:lnTo>
                  <a:lnTo>
                    <a:pt x="530" y="806"/>
                  </a:lnTo>
                  <a:lnTo>
                    <a:pt x="518" y="834"/>
                  </a:lnTo>
                  <a:lnTo>
                    <a:pt x="508" y="868"/>
                  </a:lnTo>
                  <a:lnTo>
                    <a:pt x="496" y="904"/>
                  </a:lnTo>
                  <a:lnTo>
                    <a:pt x="482" y="940"/>
                  </a:lnTo>
                  <a:lnTo>
                    <a:pt x="474" y="958"/>
                  </a:lnTo>
                  <a:lnTo>
                    <a:pt x="464" y="974"/>
                  </a:lnTo>
                  <a:lnTo>
                    <a:pt x="454" y="988"/>
                  </a:lnTo>
                  <a:lnTo>
                    <a:pt x="444" y="1000"/>
                  </a:lnTo>
                  <a:lnTo>
                    <a:pt x="432" y="1010"/>
                  </a:lnTo>
                  <a:lnTo>
                    <a:pt x="418" y="1018"/>
                  </a:lnTo>
                  <a:lnTo>
                    <a:pt x="402" y="1024"/>
                  </a:lnTo>
                  <a:lnTo>
                    <a:pt x="386" y="1026"/>
                  </a:lnTo>
                  <a:lnTo>
                    <a:pt x="386" y="1026"/>
                  </a:lnTo>
                  <a:lnTo>
                    <a:pt x="374" y="1018"/>
                  </a:lnTo>
                  <a:lnTo>
                    <a:pt x="362" y="1012"/>
                  </a:lnTo>
                  <a:lnTo>
                    <a:pt x="362" y="1012"/>
                  </a:lnTo>
                  <a:lnTo>
                    <a:pt x="350" y="996"/>
                  </a:lnTo>
                  <a:lnTo>
                    <a:pt x="340" y="978"/>
                  </a:lnTo>
                  <a:lnTo>
                    <a:pt x="334" y="958"/>
                  </a:lnTo>
                  <a:lnTo>
                    <a:pt x="328" y="938"/>
                  </a:lnTo>
                  <a:lnTo>
                    <a:pt x="318" y="894"/>
                  </a:lnTo>
                  <a:lnTo>
                    <a:pt x="314" y="872"/>
                  </a:lnTo>
                  <a:lnTo>
                    <a:pt x="306" y="850"/>
                  </a:lnTo>
                  <a:lnTo>
                    <a:pt x="306" y="850"/>
                  </a:lnTo>
                  <a:lnTo>
                    <a:pt x="282" y="794"/>
                  </a:lnTo>
                  <a:lnTo>
                    <a:pt x="270" y="760"/>
                  </a:lnTo>
                  <a:lnTo>
                    <a:pt x="258" y="726"/>
                  </a:lnTo>
                  <a:lnTo>
                    <a:pt x="250" y="688"/>
                  </a:lnTo>
                  <a:lnTo>
                    <a:pt x="246" y="670"/>
                  </a:lnTo>
                  <a:lnTo>
                    <a:pt x="244" y="650"/>
                  </a:lnTo>
                  <a:lnTo>
                    <a:pt x="244" y="630"/>
                  </a:lnTo>
                  <a:lnTo>
                    <a:pt x="244" y="610"/>
                  </a:lnTo>
                  <a:lnTo>
                    <a:pt x="246" y="590"/>
                  </a:lnTo>
                  <a:lnTo>
                    <a:pt x="250" y="570"/>
                  </a:lnTo>
                  <a:lnTo>
                    <a:pt x="250" y="570"/>
                  </a:lnTo>
                  <a:lnTo>
                    <a:pt x="256" y="548"/>
                  </a:lnTo>
                  <a:lnTo>
                    <a:pt x="264" y="526"/>
                  </a:lnTo>
                  <a:lnTo>
                    <a:pt x="282" y="484"/>
                  </a:lnTo>
                  <a:lnTo>
                    <a:pt x="298" y="442"/>
                  </a:lnTo>
                  <a:lnTo>
                    <a:pt x="314" y="402"/>
                  </a:lnTo>
                  <a:lnTo>
                    <a:pt x="314" y="402"/>
                  </a:lnTo>
                  <a:lnTo>
                    <a:pt x="326" y="358"/>
                  </a:lnTo>
                  <a:lnTo>
                    <a:pt x="336" y="312"/>
                  </a:lnTo>
                  <a:lnTo>
                    <a:pt x="346" y="264"/>
                  </a:lnTo>
                  <a:lnTo>
                    <a:pt x="352" y="214"/>
                  </a:lnTo>
                  <a:lnTo>
                    <a:pt x="356" y="162"/>
                  </a:lnTo>
                  <a:lnTo>
                    <a:pt x="360" y="108"/>
                  </a:lnTo>
                  <a:lnTo>
                    <a:pt x="362" y="6"/>
                  </a:lnTo>
                  <a:lnTo>
                    <a:pt x="362" y="6"/>
                  </a:lnTo>
                  <a:lnTo>
                    <a:pt x="284" y="2"/>
                  </a:lnTo>
                  <a:lnTo>
                    <a:pt x="186" y="0"/>
                  </a:lnTo>
                  <a:lnTo>
                    <a:pt x="138" y="0"/>
                  </a:lnTo>
                  <a:lnTo>
                    <a:pt x="98" y="4"/>
                  </a:lnTo>
                  <a:lnTo>
                    <a:pt x="82" y="6"/>
                  </a:lnTo>
                  <a:lnTo>
                    <a:pt x="68" y="10"/>
                  </a:lnTo>
                  <a:lnTo>
                    <a:pt x="58" y="14"/>
                  </a:lnTo>
                  <a:lnTo>
                    <a:pt x="52" y="20"/>
                  </a:lnTo>
                  <a:lnTo>
                    <a:pt x="52" y="20"/>
                  </a:lnTo>
                  <a:lnTo>
                    <a:pt x="44" y="36"/>
                  </a:lnTo>
                  <a:lnTo>
                    <a:pt x="34" y="62"/>
                  </a:lnTo>
                  <a:lnTo>
                    <a:pt x="24" y="96"/>
                  </a:lnTo>
                  <a:lnTo>
                    <a:pt x="14" y="132"/>
                  </a:lnTo>
                  <a:lnTo>
                    <a:pt x="6" y="172"/>
                  </a:lnTo>
                  <a:lnTo>
                    <a:pt x="2" y="208"/>
                  </a:lnTo>
                  <a:lnTo>
                    <a:pt x="0" y="240"/>
                  </a:lnTo>
                  <a:lnTo>
                    <a:pt x="2" y="254"/>
                  </a:lnTo>
                  <a:lnTo>
                    <a:pt x="4" y="264"/>
                  </a:lnTo>
                  <a:lnTo>
                    <a:pt x="4" y="264"/>
                  </a:lnTo>
                  <a:lnTo>
                    <a:pt x="12" y="284"/>
                  </a:lnTo>
                  <a:lnTo>
                    <a:pt x="22" y="306"/>
                  </a:lnTo>
                  <a:lnTo>
                    <a:pt x="26" y="318"/>
                  </a:lnTo>
                  <a:lnTo>
                    <a:pt x="30" y="332"/>
                  </a:lnTo>
                  <a:lnTo>
                    <a:pt x="30" y="346"/>
                  </a:lnTo>
                  <a:lnTo>
                    <a:pt x="28" y="364"/>
                  </a:lnTo>
                  <a:lnTo>
                    <a:pt x="28" y="364"/>
                  </a:lnTo>
                  <a:lnTo>
                    <a:pt x="22" y="390"/>
                  </a:lnTo>
                  <a:lnTo>
                    <a:pt x="20" y="416"/>
                  </a:lnTo>
                  <a:lnTo>
                    <a:pt x="18" y="444"/>
                  </a:lnTo>
                  <a:lnTo>
                    <a:pt x="18" y="474"/>
                  </a:lnTo>
                  <a:lnTo>
                    <a:pt x="20" y="532"/>
                  </a:lnTo>
                  <a:lnTo>
                    <a:pt x="24" y="592"/>
                  </a:lnTo>
                  <a:lnTo>
                    <a:pt x="28" y="652"/>
                  </a:lnTo>
                  <a:lnTo>
                    <a:pt x="30" y="712"/>
                  </a:lnTo>
                  <a:lnTo>
                    <a:pt x="30" y="742"/>
                  </a:lnTo>
                  <a:lnTo>
                    <a:pt x="28" y="772"/>
                  </a:lnTo>
                  <a:lnTo>
                    <a:pt x="24" y="800"/>
                  </a:lnTo>
                  <a:lnTo>
                    <a:pt x="20" y="828"/>
                  </a:lnTo>
                  <a:lnTo>
                    <a:pt x="20" y="828"/>
                  </a:lnTo>
                  <a:lnTo>
                    <a:pt x="16" y="850"/>
                  </a:lnTo>
                  <a:lnTo>
                    <a:pt x="14" y="876"/>
                  </a:lnTo>
                  <a:lnTo>
                    <a:pt x="10" y="938"/>
                  </a:lnTo>
                  <a:lnTo>
                    <a:pt x="10" y="1008"/>
                  </a:lnTo>
                  <a:lnTo>
                    <a:pt x="14" y="1082"/>
                  </a:lnTo>
                  <a:lnTo>
                    <a:pt x="18" y="1158"/>
                  </a:lnTo>
                  <a:lnTo>
                    <a:pt x="26" y="1228"/>
                  </a:lnTo>
                  <a:lnTo>
                    <a:pt x="34" y="1290"/>
                  </a:lnTo>
                  <a:lnTo>
                    <a:pt x="44" y="1338"/>
                  </a:lnTo>
                  <a:lnTo>
                    <a:pt x="44" y="1338"/>
                  </a:lnTo>
                  <a:lnTo>
                    <a:pt x="48" y="1358"/>
                  </a:lnTo>
                  <a:lnTo>
                    <a:pt x="50" y="1382"/>
                  </a:lnTo>
                  <a:lnTo>
                    <a:pt x="52" y="1440"/>
                  </a:lnTo>
                  <a:lnTo>
                    <a:pt x="56" y="1574"/>
                  </a:lnTo>
                  <a:lnTo>
                    <a:pt x="60" y="1638"/>
                  </a:lnTo>
                  <a:lnTo>
                    <a:pt x="64" y="1670"/>
                  </a:lnTo>
                  <a:lnTo>
                    <a:pt x="68" y="1696"/>
                  </a:lnTo>
                  <a:lnTo>
                    <a:pt x="74" y="1720"/>
                  </a:lnTo>
                  <a:lnTo>
                    <a:pt x="80" y="1740"/>
                  </a:lnTo>
                  <a:lnTo>
                    <a:pt x="88" y="1756"/>
                  </a:lnTo>
                  <a:lnTo>
                    <a:pt x="94" y="1762"/>
                  </a:lnTo>
                  <a:lnTo>
                    <a:pt x="100" y="1766"/>
                  </a:lnTo>
                  <a:lnTo>
                    <a:pt x="100" y="1766"/>
                  </a:lnTo>
                  <a:lnTo>
                    <a:pt x="104" y="1764"/>
                  </a:lnTo>
                  <a:lnTo>
                    <a:pt x="110" y="1762"/>
                  </a:lnTo>
                  <a:lnTo>
                    <a:pt x="122" y="1762"/>
                  </a:lnTo>
                  <a:lnTo>
                    <a:pt x="140" y="1762"/>
                  </a:lnTo>
                  <a:lnTo>
                    <a:pt x="164" y="1758"/>
                  </a:lnTo>
                  <a:lnTo>
                    <a:pt x="164" y="1758"/>
                  </a:lnTo>
                  <a:lnTo>
                    <a:pt x="244" y="1734"/>
                  </a:lnTo>
                  <a:lnTo>
                    <a:pt x="322" y="1712"/>
                  </a:lnTo>
                  <a:lnTo>
                    <a:pt x="322" y="1712"/>
                  </a:lnTo>
                  <a:lnTo>
                    <a:pt x="352" y="1706"/>
                  </a:lnTo>
                  <a:lnTo>
                    <a:pt x="384" y="1704"/>
                  </a:lnTo>
                  <a:lnTo>
                    <a:pt x="418" y="1702"/>
                  </a:lnTo>
                  <a:lnTo>
                    <a:pt x="452" y="1702"/>
                  </a:lnTo>
                  <a:lnTo>
                    <a:pt x="520" y="1702"/>
                  </a:lnTo>
                  <a:lnTo>
                    <a:pt x="550" y="1700"/>
                  </a:lnTo>
                  <a:lnTo>
                    <a:pt x="578" y="1696"/>
                  </a:lnTo>
                  <a:lnTo>
                    <a:pt x="578" y="1696"/>
                  </a:lnTo>
                  <a:lnTo>
                    <a:pt x="578" y="1552"/>
                  </a:lnTo>
                  <a:lnTo>
                    <a:pt x="578" y="1552"/>
                  </a:lnTo>
                  <a:lnTo>
                    <a:pt x="584" y="1540"/>
                  </a:lnTo>
                  <a:lnTo>
                    <a:pt x="588" y="1524"/>
                  </a:lnTo>
                  <a:lnTo>
                    <a:pt x="592" y="1504"/>
                  </a:lnTo>
                  <a:lnTo>
                    <a:pt x="596" y="1484"/>
                  </a:lnTo>
                  <a:lnTo>
                    <a:pt x="600" y="1438"/>
                  </a:lnTo>
                  <a:lnTo>
                    <a:pt x="604" y="1386"/>
                  </a:lnTo>
                  <a:lnTo>
                    <a:pt x="608" y="1284"/>
                  </a:lnTo>
                  <a:lnTo>
                    <a:pt x="610" y="1238"/>
                  </a:lnTo>
                  <a:lnTo>
                    <a:pt x="614" y="1218"/>
                  </a:lnTo>
                  <a:lnTo>
                    <a:pt x="618" y="1202"/>
                  </a:lnTo>
                  <a:lnTo>
                    <a:pt x="618" y="1202"/>
                  </a:lnTo>
                  <a:lnTo>
                    <a:pt x="632" y="1148"/>
                  </a:lnTo>
                  <a:lnTo>
                    <a:pt x="646" y="1094"/>
                  </a:lnTo>
                  <a:lnTo>
                    <a:pt x="664" y="1044"/>
                  </a:lnTo>
                  <a:lnTo>
                    <a:pt x="680" y="992"/>
                  </a:lnTo>
                  <a:lnTo>
                    <a:pt x="698" y="944"/>
                  </a:lnTo>
                  <a:lnTo>
                    <a:pt x="718" y="894"/>
                  </a:lnTo>
                  <a:lnTo>
                    <a:pt x="760" y="798"/>
                  </a:lnTo>
                  <a:lnTo>
                    <a:pt x="760" y="798"/>
                  </a:lnTo>
                  <a:lnTo>
                    <a:pt x="782" y="756"/>
                  </a:lnTo>
                  <a:lnTo>
                    <a:pt x="810" y="712"/>
                  </a:lnTo>
                  <a:lnTo>
                    <a:pt x="840" y="668"/>
                  </a:lnTo>
                  <a:lnTo>
                    <a:pt x="876" y="624"/>
                  </a:lnTo>
                  <a:lnTo>
                    <a:pt x="910" y="580"/>
                  </a:lnTo>
                  <a:lnTo>
                    <a:pt x="948" y="540"/>
                  </a:lnTo>
                  <a:lnTo>
                    <a:pt x="982" y="502"/>
                  </a:lnTo>
                  <a:lnTo>
                    <a:pt x="1016" y="470"/>
                  </a:lnTo>
                  <a:lnTo>
                    <a:pt x="1016" y="470"/>
                  </a:lnTo>
                  <a:lnTo>
                    <a:pt x="1040" y="450"/>
                  </a:lnTo>
                  <a:lnTo>
                    <a:pt x="1066" y="432"/>
                  </a:lnTo>
                  <a:lnTo>
                    <a:pt x="1126" y="394"/>
                  </a:lnTo>
                  <a:lnTo>
                    <a:pt x="1152" y="376"/>
                  </a:lnTo>
                  <a:lnTo>
                    <a:pt x="1178" y="354"/>
                  </a:lnTo>
                  <a:lnTo>
                    <a:pt x="1190" y="342"/>
                  </a:lnTo>
                  <a:lnTo>
                    <a:pt x="1200" y="330"/>
                  </a:lnTo>
                  <a:lnTo>
                    <a:pt x="1208" y="316"/>
                  </a:lnTo>
                  <a:lnTo>
                    <a:pt x="1214" y="302"/>
                  </a:lnTo>
                  <a:lnTo>
                    <a:pt x="1214" y="302"/>
                  </a:lnTo>
                  <a:lnTo>
                    <a:pt x="1158" y="272"/>
                  </a:lnTo>
                  <a:lnTo>
                    <a:pt x="1116" y="252"/>
                  </a:lnTo>
                  <a:lnTo>
                    <a:pt x="1070" y="234"/>
                  </a:lnTo>
                  <a:lnTo>
                    <a:pt x="1044" y="226"/>
                  </a:lnTo>
                  <a:lnTo>
                    <a:pt x="1020" y="218"/>
                  </a:lnTo>
                  <a:lnTo>
                    <a:pt x="996" y="214"/>
                  </a:lnTo>
                  <a:lnTo>
                    <a:pt x="972" y="210"/>
                  </a:lnTo>
                  <a:lnTo>
                    <a:pt x="950" y="210"/>
                  </a:lnTo>
                  <a:lnTo>
                    <a:pt x="928" y="212"/>
                  </a:lnTo>
                  <a:lnTo>
                    <a:pt x="906" y="218"/>
                  </a:lnTo>
                  <a:lnTo>
                    <a:pt x="888" y="226"/>
                  </a:lnTo>
                  <a:lnTo>
                    <a:pt x="888" y="226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24"/>
            <p:cNvSpPr/>
            <p:nvPr/>
          </p:nvSpPr>
          <p:spPr>
            <a:xfrm>
              <a:off x="9862920" y="6410160"/>
              <a:ext cx="2603520" cy="3086280"/>
            </a:xfrm>
            <a:custGeom>
              <a:avLst/>
              <a:gdLst>
                <a:gd name="textAreaLeft" fmla="*/ 0 w 2603520"/>
                <a:gd name="textAreaRight" fmla="*/ 2603880 w 2603520"/>
                <a:gd name="textAreaTop" fmla="*/ 0 h 3086280"/>
                <a:gd name="textAreaBottom" fmla="*/ 3086640 h 3086280"/>
              </a:gdLst>
              <a:ahLst/>
              <a:rect l="textAreaLeft" t="textAreaTop" r="textAreaRight" b="textAreaBottom"/>
              <a:pathLst>
                <a:path w="1640" h="1944">
                  <a:moveTo>
                    <a:pt x="1386" y="32"/>
                  </a:moveTo>
                  <a:lnTo>
                    <a:pt x="1386" y="32"/>
                  </a:lnTo>
                  <a:lnTo>
                    <a:pt x="1350" y="22"/>
                  </a:lnTo>
                  <a:lnTo>
                    <a:pt x="1314" y="12"/>
                  </a:lnTo>
                  <a:lnTo>
                    <a:pt x="1276" y="4"/>
                  </a:lnTo>
                  <a:lnTo>
                    <a:pt x="1256" y="2"/>
                  </a:lnTo>
                  <a:lnTo>
                    <a:pt x="1234" y="0"/>
                  </a:lnTo>
                  <a:lnTo>
                    <a:pt x="1234" y="0"/>
                  </a:lnTo>
                  <a:lnTo>
                    <a:pt x="1228" y="6"/>
                  </a:lnTo>
                  <a:lnTo>
                    <a:pt x="1218" y="8"/>
                  </a:lnTo>
                  <a:lnTo>
                    <a:pt x="1218" y="8"/>
                  </a:lnTo>
                  <a:lnTo>
                    <a:pt x="1216" y="26"/>
                  </a:lnTo>
                  <a:lnTo>
                    <a:pt x="1218" y="44"/>
                  </a:lnTo>
                  <a:lnTo>
                    <a:pt x="1218" y="60"/>
                  </a:lnTo>
                  <a:lnTo>
                    <a:pt x="1222" y="78"/>
                  </a:lnTo>
                  <a:lnTo>
                    <a:pt x="1230" y="112"/>
                  </a:lnTo>
                  <a:lnTo>
                    <a:pt x="1234" y="146"/>
                  </a:lnTo>
                  <a:lnTo>
                    <a:pt x="1234" y="146"/>
                  </a:lnTo>
                  <a:lnTo>
                    <a:pt x="1162" y="390"/>
                  </a:lnTo>
                  <a:lnTo>
                    <a:pt x="1162" y="390"/>
                  </a:lnTo>
                  <a:lnTo>
                    <a:pt x="1150" y="406"/>
                  </a:lnTo>
                  <a:lnTo>
                    <a:pt x="1138" y="420"/>
                  </a:lnTo>
                  <a:lnTo>
                    <a:pt x="1124" y="436"/>
                  </a:lnTo>
                  <a:lnTo>
                    <a:pt x="1108" y="448"/>
                  </a:lnTo>
                  <a:lnTo>
                    <a:pt x="1074" y="474"/>
                  </a:lnTo>
                  <a:lnTo>
                    <a:pt x="1040" y="500"/>
                  </a:lnTo>
                  <a:lnTo>
                    <a:pt x="1006" y="524"/>
                  </a:lnTo>
                  <a:lnTo>
                    <a:pt x="972" y="550"/>
                  </a:lnTo>
                  <a:lnTo>
                    <a:pt x="956" y="564"/>
                  </a:lnTo>
                  <a:lnTo>
                    <a:pt x="942" y="578"/>
                  </a:lnTo>
                  <a:lnTo>
                    <a:pt x="928" y="594"/>
                  </a:lnTo>
                  <a:lnTo>
                    <a:pt x="916" y="610"/>
                  </a:lnTo>
                  <a:lnTo>
                    <a:pt x="916" y="610"/>
                  </a:lnTo>
                  <a:lnTo>
                    <a:pt x="910" y="606"/>
                  </a:lnTo>
                  <a:lnTo>
                    <a:pt x="904" y="600"/>
                  </a:lnTo>
                  <a:lnTo>
                    <a:pt x="896" y="588"/>
                  </a:lnTo>
                  <a:lnTo>
                    <a:pt x="888" y="572"/>
                  </a:lnTo>
                  <a:lnTo>
                    <a:pt x="884" y="554"/>
                  </a:lnTo>
                  <a:lnTo>
                    <a:pt x="876" y="516"/>
                  </a:lnTo>
                  <a:lnTo>
                    <a:pt x="872" y="498"/>
                  </a:lnTo>
                  <a:lnTo>
                    <a:pt x="868" y="480"/>
                  </a:lnTo>
                  <a:lnTo>
                    <a:pt x="868" y="480"/>
                  </a:lnTo>
                  <a:lnTo>
                    <a:pt x="860" y="454"/>
                  </a:lnTo>
                  <a:lnTo>
                    <a:pt x="852" y="424"/>
                  </a:lnTo>
                  <a:lnTo>
                    <a:pt x="840" y="364"/>
                  </a:lnTo>
                  <a:lnTo>
                    <a:pt x="830" y="302"/>
                  </a:lnTo>
                  <a:lnTo>
                    <a:pt x="822" y="238"/>
                  </a:lnTo>
                  <a:lnTo>
                    <a:pt x="812" y="176"/>
                  </a:lnTo>
                  <a:lnTo>
                    <a:pt x="806" y="146"/>
                  </a:lnTo>
                  <a:lnTo>
                    <a:pt x="798" y="118"/>
                  </a:lnTo>
                  <a:lnTo>
                    <a:pt x="790" y="90"/>
                  </a:lnTo>
                  <a:lnTo>
                    <a:pt x="780" y="64"/>
                  </a:lnTo>
                  <a:lnTo>
                    <a:pt x="770" y="40"/>
                  </a:lnTo>
                  <a:lnTo>
                    <a:pt x="756" y="16"/>
                  </a:lnTo>
                  <a:lnTo>
                    <a:pt x="756" y="16"/>
                  </a:lnTo>
                  <a:lnTo>
                    <a:pt x="710" y="16"/>
                  </a:lnTo>
                  <a:lnTo>
                    <a:pt x="666" y="16"/>
                  </a:lnTo>
                  <a:lnTo>
                    <a:pt x="622" y="20"/>
                  </a:lnTo>
                  <a:lnTo>
                    <a:pt x="580" y="24"/>
                  </a:lnTo>
                  <a:lnTo>
                    <a:pt x="538" y="30"/>
                  </a:lnTo>
                  <a:lnTo>
                    <a:pt x="498" y="38"/>
                  </a:lnTo>
                  <a:lnTo>
                    <a:pt x="422" y="54"/>
                  </a:lnTo>
                  <a:lnTo>
                    <a:pt x="422" y="54"/>
                  </a:lnTo>
                  <a:lnTo>
                    <a:pt x="404" y="56"/>
                  </a:lnTo>
                  <a:lnTo>
                    <a:pt x="386" y="56"/>
                  </a:lnTo>
                  <a:lnTo>
                    <a:pt x="372" y="58"/>
                  </a:lnTo>
                  <a:lnTo>
                    <a:pt x="364" y="58"/>
                  </a:lnTo>
                  <a:lnTo>
                    <a:pt x="358" y="62"/>
                  </a:lnTo>
                  <a:lnTo>
                    <a:pt x="358" y="62"/>
                  </a:lnTo>
                  <a:lnTo>
                    <a:pt x="334" y="70"/>
                  </a:lnTo>
                  <a:lnTo>
                    <a:pt x="334" y="70"/>
                  </a:lnTo>
                  <a:lnTo>
                    <a:pt x="340" y="98"/>
                  </a:lnTo>
                  <a:lnTo>
                    <a:pt x="350" y="122"/>
                  </a:lnTo>
                  <a:lnTo>
                    <a:pt x="360" y="146"/>
                  </a:lnTo>
                  <a:lnTo>
                    <a:pt x="372" y="168"/>
                  </a:lnTo>
                  <a:lnTo>
                    <a:pt x="398" y="210"/>
                  </a:lnTo>
                  <a:lnTo>
                    <a:pt x="410" y="230"/>
                  </a:lnTo>
                  <a:lnTo>
                    <a:pt x="422" y="252"/>
                  </a:lnTo>
                  <a:lnTo>
                    <a:pt x="422" y="252"/>
                  </a:lnTo>
                  <a:lnTo>
                    <a:pt x="448" y="314"/>
                  </a:lnTo>
                  <a:lnTo>
                    <a:pt x="474" y="376"/>
                  </a:lnTo>
                  <a:lnTo>
                    <a:pt x="496" y="440"/>
                  </a:lnTo>
                  <a:lnTo>
                    <a:pt x="518" y="504"/>
                  </a:lnTo>
                  <a:lnTo>
                    <a:pt x="518" y="504"/>
                  </a:lnTo>
                  <a:lnTo>
                    <a:pt x="534" y="640"/>
                  </a:lnTo>
                  <a:lnTo>
                    <a:pt x="534" y="640"/>
                  </a:lnTo>
                  <a:lnTo>
                    <a:pt x="540" y="654"/>
                  </a:lnTo>
                  <a:lnTo>
                    <a:pt x="550" y="672"/>
                  </a:lnTo>
                  <a:lnTo>
                    <a:pt x="560" y="688"/>
                  </a:lnTo>
                  <a:lnTo>
                    <a:pt x="564" y="696"/>
                  </a:lnTo>
                  <a:lnTo>
                    <a:pt x="566" y="702"/>
                  </a:lnTo>
                  <a:lnTo>
                    <a:pt x="566" y="702"/>
                  </a:lnTo>
                  <a:lnTo>
                    <a:pt x="566" y="714"/>
                  </a:lnTo>
                  <a:lnTo>
                    <a:pt x="564" y="728"/>
                  </a:lnTo>
                  <a:lnTo>
                    <a:pt x="560" y="742"/>
                  </a:lnTo>
                  <a:lnTo>
                    <a:pt x="556" y="760"/>
                  </a:lnTo>
                  <a:lnTo>
                    <a:pt x="542" y="796"/>
                  </a:lnTo>
                  <a:lnTo>
                    <a:pt x="524" y="836"/>
                  </a:lnTo>
                  <a:lnTo>
                    <a:pt x="488" y="908"/>
                  </a:lnTo>
                  <a:lnTo>
                    <a:pt x="462" y="960"/>
                  </a:lnTo>
                  <a:lnTo>
                    <a:pt x="462" y="960"/>
                  </a:lnTo>
                  <a:lnTo>
                    <a:pt x="426" y="1038"/>
                  </a:lnTo>
                  <a:lnTo>
                    <a:pt x="390" y="1116"/>
                  </a:lnTo>
                  <a:lnTo>
                    <a:pt x="352" y="1190"/>
                  </a:lnTo>
                  <a:lnTo>
                    <a:pt x="310" y="1262"/>
                  </a:lnTo>
                  <a:lnTo>
                    <a:pt x="266" y="1330"/>
                  </a:lnTo>
                  <a:lnTo>
                    <a:pt x="242" y="1364"/>
                  </a:lnTo>
                  <a:lnTo>
                    <a:pt x="218" y="1396"/>
                  </a:lnTo>
                  <a:lnTo>
                    <a:pt x="194" y="1428"/>
                  </a:lnTo>
                  <a:lnTo>
                    <a:pt x="168" y="1460"/>
                  </a:lnTo>
                  <a:lnTo>
                    <a:pt x="140" y="1488"/>
                  </a:lnTo>
                  <a:lnTo>
                    <a:pt x="112" y="1518"/>
                  </a:lnTo>
                  <a:lnTo>
                    <a:pt x="112" y="1518"/>
                  </a:lnTo>
                  <a:lnTo>
                    <a:pt x="98" y="1532"/>
                  </a:lnTo>
                  <a:lnTo>
                    <a:pt x="86" y="1548"/>
                  </a:lnTo>
                  <a:lnTo>
                    <a:pt x="62" y="1580"/>
                  </a:lnTo>
                  <a:lnTo>
                    <a:pt x="48" y="1596"/>
                  </a:lnTo>
                  <a:lnTo>
                    <a:pt x="34" y="1610"/>
                  </a:lnTo>
                  <a:lnTo>
                    <a:pt x="18" y="1622"/>
                  </a:lnTo>
                  <a:lnTo>
                    <a:pt x="0" y="1632"/>
                  </a:lnTo>
                  <a:lnTo>
                    <a:pt x="0" y="1632"/>
                  </a:lnTo>
                  <a:lnTo>
                    <a:pt x="0" y="1644"/>
                  </a:lnTo>
                  <a:lnTo>
                    <a:pt x="0" y="1656"/>
                  </a:lnTo>
                  <a:lnTo>
                    <a:pt x="4" y="1668"/>
                  </a:lnTo>
                  <a:lnTo>
                    <a:pt x="8" y="1678"/>
                  </a:lnTo>
                  <a:lnTo>
                    <a:pt x="14" y="1690"/>
                  </a:lnTo>
                  <a:lnTo>
                    <a:pt x="22" y="1702"/>
                  </a:lnTo>
                  <a:lnTo>
                    <a:pt x="40" y="1724"/>
                  </a:lnTo>
                  <a:lnTo>
                    <a:pt x="64" y="1746"/>
                  </a:lnTo>
                  <a:lnTo>
                    <a:pt x="90" y="1766"/>
                  </a:lnTo>
                  <a:lnTo>
                    <a:pt x="118" y="1786"/>
                  </a:lnTo>
                  <a:lnTo>
                    <a:pt x="150" y="1806"/>
                  </a:lnTo>
                  <a:lnTo>
                    <a:pt x="214" y="1844"/>
                  </a:lnTo>
                  <a:lnTo>
                    <a:pt x="276" y="1880"/>
                  </a:lnTo>
                  <a:lnTo>
                    <a:pt x="332" y="1912"/>
                  </a:lnTo>
                  <a:lnTo>
                    <a:pt x="356" y="1928"/>
                  </a:lnTo>
                  <a:lnTo>
                    <a:pt x="374" y="1944"/>
                  </a:lnTo>
                  <a:lnTo>
                    <a:pt x="374" y="1944"/>
                  </a:lnTo>
                  <a:lnTo>
                    <a:pt x="396" y="1940"/>
                  </a:lnTo>
                  <a:lnTo>
                    <a:pt x="418" y="1930"/>
                  </a:lnTo>
                  <a:lnTo>
                    <a:pt x="440" y="1916"/>
                  </a:lnTo>
                  <a:lnTo>
                    <a:pt x="464" y="1898"/>
                  </a:lnTo>
                  <a:lnTo>
                    <a:pt x="490" y="1878"/>
                  </a:lnTo>
                  <a:lnTo>
                    <a:pt x="514" y="1856"/>
                  </a:lnTo>
                  <a:lnTo>
                    <a:pt x="538" y="1830"/>
                  </a:lnTo>
                  <a:lnTo>
                    <a:pt x="562" y="1804"/>
                  </a:lnTo>
                  <a:lnTo>
                    <a:pt x="608" y="1748"/>
                  </a:lnTo>
                  <a:lnTo>
                    <a:pt x="648" y="1696"/>
                  </a:lnTo>
                  <a:lnTo>
                    <a:pt x="682" y="1646"/>
                  </a:lnTo>
                  <a:lnTo>
                    <a:pt x="708" y="1608"/>
                  </a:lnTo>
                  <a:lnTo>
                    <a:pt x="708" y="1608"/>
                  </a:lnTo>
                  <a:lnTo>
                    <a:pt x="834" y="1422"/>
                  </a:lnTo>
                  <a:lnTo>
                    <a:pt x="964" y="1236"/>
                  </a:lnTo>
                  <a:lnTo>
                    <a:pt x="964" y="1236"/>
                  </a:lnTo>
                  <a:lnTo>
                    <a:pt x="986" y="1204"/>
                  </a:lnTo>
                  <a:lnTo>
                    <a:pt x="1012" y="1174"/>
                  </a:lnTo>
                  <a:lnTo>
                    <a:pt x="1068" y="1116"/>
                  </a:lnTo>
                  <a:lnTo>
                    <a:pt x="1122" y="1058"/>
                  </a:lnTo>
                  <a:lnTo>
                    <a:pt x="1148" y="1030"/>
                  </a:lnTo>
                  <a:lnTo>
                    <a:pt x="1170" y="1000"/>
                  </a:lnTo>
                  <a:lnTo>
                    <a:pt x="1170" y="1000"/>
                  </a:lnTo>
                  <a:lnTo>
                    <a:pt x="1196" y="964"/>
                  </a:lnTo>
                  <a:lnTo>
                    <a:pt x="1218" y="926"/>
                  </a:lnTo>
                  <a:lnTo>
                    <a:pt x="1260" y="852"/>
                  </a:lnTo>
                  <a:lnTo>
                    <a:pt x="1302" y="778"/>
                  </a:lnTo>
                  <a:lnTo>
                    <a:pt x="1322" y="740"/>
                  </a:lnTo>
                  <a:lnTo>
                    <a:pt x="1346" y="702"/>
                  </a:lnTo>
                  <a:lnTo>
                    <a:pt x="1346" y="702"/>
                  </a:lnTo>
                  <a:lnTo>
                    <a:pt x="1366" y="672"/>
                  </a:lnTo>
                  <a:lnTo>
                    <a:pt x="1388" y="642"/>
                  </a:lnTo>
                  <a:lnTo>
                    <a:pt x="1408" y="612"/>
                  </a:lnTo>
                  <a:lnTo>
                    <a:pt x="1426" y="580"/>
                  </a:lnTo>
                  <a:lnTo>
                    <a:pt x="1426" y="580"/>
                  </a:lnTo>
                  <a:lnTo>
                    <a:pt x="1512" y="398"/>
                  </a:lnTo>
                  <a:lnTo>
                    <a:pt x="1556" y="310"/>
                  </a:lnTo>
                  <a:lnTo>
                    <a:pt x="1602" y="222"/>
                  </a:lnTo>
                  <a:lnTo>
                    <a:pt x="1602" y="222"/>
                  </a:lnTo>
                  <a:lnTo>
                    <a:pt x="1616" y="196"/>
                  </a:lnTo>
                  <a:lnTo>
                    <a:pt x="1624" y="180"/>
                  </a:lnTo>
                  <a:lnTo>
                    <a:pt x="1632" y="164"/>
                  </a:lnTo>
                  <a:lnTo>
                    <a:pt x="1638" y="146"/>
                  </a:lnTo>
                  <a:lnTo>
                    <a:pt x="1640" y="130"/>
                  </a:lnTo>
                  <a:lnTo>
                    <a:pt x="1638" y="114"/>
                  </a:lnTo>
                  <a:lnTo>
                    <a:pt x="1636" y="106"/>
                  </a:lnTo>
                  <a:lnTo>
                    <a:pt x="1632" y="100"/>
                  </a:lnTo>
                  <a:lnTo>
                    <a:pt x="1632" y="100"/>
                  </a:lnTo>
                  <a:lnTo>
                    <a:pt x="1626" y="86"/>
                  </a:lnTo>
                  <a:lnTo>
                    <a:pt x="1618" y="74"/>
                  </a:lnTo>
                  <a:lnTo>
                    <a:pt x="1606" y="64"/>
                  </a:lnTo>
                  <a:lnTo>
                    <a:pt x="1596" y="56"/>
                  </a:lnTo>
                  <a:lnTo>
                    <a:pt x="1582" y="50"/>
                  </a:lnTo>
                  <a:lnTo>
                    <a:pt x="1568" y="46"/>
                  </a:lnTo>
                  <a:lnTo>
                    <a:pt x="1552" y="44"/>
                  </a:lnTo>
                  <a:lnTo>
                    <a:pt x="1536" y="42"/>
                  </a:lnTo>
                  <a:lnTo>
                    <a:pt x="1500" y="40"/>
                  </a:lnTo>
                  <a:lnTo>
                    <a:pt x="1464" y="40"/>
                  </a:lnTo>
                  <a:lnTo>
                    <a:pt x="1424" y="38"/>
                  </a:lnTo>
                  <a:lnTo>
                    <a:pt x="1406" y="34"/>
                  </a:lnTo>
                  <a:lnTo>
                    <a:pt x="1386" y="32"/>
                  </a:lnTo>
                  <a:lnTo>
                    <a:pt x="1386" y="32"/>
                  </a:lnTo>
                  <a:close/>
                  <a:moveTo>
                    <a:pt x="1226" y="62"/>
                  </a:moveTo>
                  <a:lnTo>
                    <a:pt x="1226" y="62"/>
                  </a:lnTo>
                  <a:lnTo>
                    <a:pt x="1236" y="66"/>
                  </a:lnTo>
                  <a:lnTo>
                    <a:pt x="1242" y="70"/>
                  </a:lnTo>
                  <a:lnTo>
                    <a:pt x="1242" y="70"/>
                  </a:lnTo>
                  <a:lnTo>
                    <a:pt x="1232" y="66"/>
                  </a:lnTo>
                  <a:lnTo>
                    <a:pt x="1226" y="62"/>
                  </a:lnTo>
                  <a:lnTo>
                    <a:pt x="1226" y="62"/>
                  </a:lnTo>
                  <a:close/>
                  <a:moveTo>
                    <a:pt x="1354" y="458"/>
                  </a:moveTo>
                  <a:lnTo>
                    <a:pt x="1354" y="458"/>
                  </a:lnTo>
                  <a:lnTo>
                    <a:pt x="1324" y="512"/>
                  </a:lnTo>
                  <a:lnTo>
                    <a:pt x="1294" y="564"/>
                  </a:lnTo>
                  <a:lnTo>
                    <a:pt x="1240" y="670"/>
                  </a:lnTo>
                  <a:lnTo>
                    <a:pt x="1214" y="724"/>
                  </a:lnTo>
                  <a:lnTo>
                    <a:pt x="1186" y="776"/>
                  </a:lnTo>
                  <a:lnTo>
                    <a:pt x="1156" y="826"/>
                  </a:lnTo>
                  <a:lnTo>
                    <a:pt x="1122" y="878"/>
                  </a:lnTo>
                  <a:lnTo>
                    <a:pt x="1122" y="878"/>
                  </a:lnTo>
                  <a:lnTo>
                    <a:pt x="1076" y="940"/>
                  </a:lnTo>
                  <a:lnTo>
                    <a:pt x="1028" y="1004"/>
                  </a:lnTo>
                  <a:lnTo>
                    <a:pt x="926" y="1126"/>
                  </a:lnTo>
                  <a:lnTo>
                    <a:pt x="876" y="1188"/>
                  </a:lnTo>
                  <a:lnTo>
                    <a:pt x="826" y="1250"/>
                  </a:lnTo>
                  <a:lnTo>
                    <a:pt x="778" y="1314"/>
                  </a:lnTo>
                  <a:lnTo>
                    <a:pt x="732" y="1380"/>
                  </a:lnTo>
                  <a:lnTo>
                    <a:pt x="732" y="1380"/>
                  </a:lnTo>
                  <a:lnTo>
                    <a:pt x="698" y="1436"/>
                  </a:lnTo>
                  <a:lnTo>
                    <a:pt x="660" y="1498"/>
                  </a:lnTo>
                  <a:lnTo>
                    <a:pt x="618" y="1564"/>
                  </a:lnTo>
                  <a:lnTo>
                    <a:pt x="576" y="1630"/>
                  </a:lnTo>
                  <a:lnTo>
                    <a:pt x="552" y="1662"/>
                  </a:lnTo>
                  <a:lnTo>
                    <a:pt x="530" y="1692"/>
                  </a:lnTo>
                  <a:lnTo>
                    <a:pt x="506" y="1722"/>
                  </a:lnTo>
                  <a:lnTo>
                    <a:pt x="480" y="1748"/>
                  </a:lnTo>
                  <a:lnTo>
                    <a:pt x="456" y="1774"/>
                  </a:lnTo>
                  <a:lnTo>
                    <a:pt x="428" y="1796"/>
                  </a:lnTo>
                  <a:lnTo>
                    <a:pt x="402" y="1814"/>
                  </a:lnTo>
                  <a:lnTo>
                    <a:pt x="374" y="1830"/>
                  </a:lnTo>
                  <a:lnTo>
                    <a:pt x="374" y="1830"/>
                  </a:lnTo>
                  <a:lnTo>
                    <a:pt x="368" y="1834"/>
                  </a:lnTo>
                  <a:lnTo>
                    <a:pt x="358" y="1838"/>
                  </a:lnTo>
                  <a:lnTo>
                    <a:pt x="358" y="1838"/>
                  </a:lnTo>
                  <a:lnTo>
                    <a:pt x="336" y="1816"/>
                  </a:lnTo>
                  <a:lnTo>
                    <a:pt x="310" y="1794"/>
                  </a:lnTo>
                  <a:lnTo>
                    <a:pt x="280" y="1774"/>
                  </a:lnTo>
                  <a:lnTo>
                    <a:pt x="250" y="1752"/>
                  </a:lnTo>
                  <a:lnTo>
                    <a:pt x="218" y="1734"/>
                  </a:lnTo>
                  <a:lnTo>
                    <a:pt x="186" y="1716"/>
                  </a:lnTo>
                  <a:lnTo>
                    <a:pt x="128" y="1684"/>
                  </a:lnTo>
                  <a:lnTo>
                    <a:pt x="128" y="1684"/>
                  </a:lnTo>
                  <a:lnTo>
                    <a:pt x="132" y="1668"/>
                  </a:lnTo>
                  <a:lnTo>
                    <a:pt x="138" y="1652"/>
                  </a:lnTo>
                  <a:lnTo>
                    <a:pt x="146" y="1636"/>
                  </a:lnTo>
                  <a:lnTo>
                    <a:pt x="156" y="1622"/>
                  </a:lnTo>
                  <a:lnTo>
                    <a:pt x="166" y="1608"/>
                  </a:lnTo>
                  <a:lnTo>
                    <a:pt x="178" y="1596"/>
                  </a:lnTo>
                  <a:lnTo>
                    <a:pt x="204" y="1572"/>
                  </a:lnTo>
                  <a:lnTo>
                    <a:pt x="258" y="1528"/>
                  </a:lnTo>
                  <a:lnTo>
                    <a:pt x="282" y="1504"/>
                  </a:lnTo>
                  <a:lnTo>
                    <a:pt x="292" y="1492"/>
                  </a:lnTo>
                  <a:lnTo>
                    <a:pt x="302" y="1480"/>
                  </a:lnTo>
                  <a:lnTo>
                    <a:pt x="302" y="1480"/>
                  </a:lnTo>
                  <a:lnTo>
                    <a:pt x="342" y="1418"/>
                  </a:lnTo>
                  <a:lnTo>
                    <a:pt x="378" y="1358"/>
                  </a:lnTo>
                  <a:lnTo>
                    <a:pt x="414" y="1296"/>
                  </a:lnTo>
                  <a:lnTo>
                    <a:pt x="446" y="1234"/>
                  </a:lnTo>
                  <a:lnTo>
                    <a:pt x="478" y="1170"/>
                  </a:lnTo>
                  <a:lnTo>
                    <a:pt x="510" y="1104"/>
                  </a:lnTo>
                  <a:lnTo>
                    <a:pt x="574" y="968"/>
                  </a:lnTo>
                  <a:lnTo>
                    <a:pt x="574" y="968"/>
                  </a:lnTo>
                  <a:lnTo>
                    <a:pt x="596" y="918"/>
                  </a:lnTo>
                  <a:lnTo>
                    <a:pt x="632" y="840"/>
                  </a:lnTo>
                  <a:lnTo>
                    <a:pt x="648" y="800"/>
                  </a:lnTo>
                  <a:lnTo>
                    <a:pt x="662" y="762"/>
                  </a:lnTo>
                  <a:lnTo>
                    <a:pt x="668" y="732"/>
                  </a:lnTo>
                  <a:lnTo>
                    <a:pt x="670" y="718"/>
                  </a:lnTo>
                  <a:lnTo>
                    <a:pt x="668" y="710"/>
                  </a:lnTo>
                  <a:lnTo>
                    <a:pt x="668" y="710"/>
                  </a:lnTo>
                  <a:lnTo>
                    <a:pt x="666" y="704"/>
                  </a:lnTo>
                  <a:lnTo>
                    <a:pt x="662" y="698"/>
                  </a:lnTo>
                  <a:lnTo>
                    <a:pt x="650" y="684"/>
                  </a:lnTo>
                  <a:lnTo>
                    <a:pt x="638" y="670"/>
                  </a:lnTo>
                  <a:lnTo>
                    <a:pt x="632" y="664"/>
                  </a:lnTo>
                  <a:lnTo>
                    <a:pt x="630" y="656"/>
                  </a:lnTo>
                  <a:lnTo>
                    <a:pt x="630" y="656"/>
                  </a:lnTo>
                  <a:lnTo>
                    <a:pt x="598" y="466"/>
                  </a:lnTo>
                  <a:lnTo>
                    <a:pt x="598" y="466"/>
                  </a:lnTo>
                  <a:lnTo>
                    <a:pt x="582" y="424"/>
                  </a:lnTo>
                  <a:lnTo>
                    <a:pt x="564" y="382"/>
                  </a:lnTo>
                  <a:lnTo>
                    <a:pt x="546" y="342"/>
                  </a:lnTo>
                  <a:lnTo>
                    <a:pt x="526" y="300"/>
                  </a:lnTo>
                  <a:lnTo>
                    <a:pt x="486" y="222"/>
                  </a:lnTo>
                  <a:lnTo>
                    <a:pt x="446" y="146"/>
                  </a:lnTo>
                  <a:lnTo>
                    <a:pt x="446" y="146"/>
                  </a:lnTo>
                  <a:lnTo>
                    <a:pt x="466" y="140"/>
                  </a:lnTo>
                  <a:lnTo>
                    <a:pt x="492" y="134"/>
                  </a:lnTo>
                  <a:lnTo>
                    <a:pt x="548" y="126"/>
                  </a:lnTo>
                  <a:lnTo>
                    <a:pt x="576" y="120"/>
                  </a:lnTo>
                  <a:lnTo>
                    <a:pt x="602" y="116"/>
                  </a:lnTo>
                  <a:lnTo>
                    <a:pt x="626" y="108"/>
                  </a:lnTo>
                  <a:lnTo>
                    <a:pt x="644" y="100"/>
                  </a:lnTo>
                  <a:lnTo>
                    <a:pt x="644" y="100"/>
                  </a:lnTo>
                  <a:lnTo>
                    <a:pt x="676" y="100"/>
                  </a:lnTo>
                  <a:lnTo>
                    <a:pt x="690" y="102"/>
                  </a:lnTo>
                  <a:lnTo>
                    <a:pt x="700" y="108"/>
                  </a:lnTo>
                  <a:lnTo>
                    <a:pt x="700" y="108"/>
                  </a:lnTo>
                  <a:lnTo>
                    <a:pt x="706" y="118"/>
                  </a:lnTo>
                  <a:lnTo>
                    <a:pt x="712" y="130"/>
                  </a:lnTo>
                  <a:lnTo>
                    <a:pt x="718" y="154"/>
                  </a:lnTo>
                  <a:lnTo>
                    <a:pt x="722" y="182"/>
                  </a:lnTo>
                  <a:lnTo>
                    <a:pt x="724" y="212"/>
                  </a:lnTo>
                  <a:lnTo>
                    <a:pt x="726" y="272"/>
                  </a:lnTo>
                  <a:lnTo>
                    <a:pt x="728" y="302"/>
                  </a:lnTo>
                  <a:lnTo>
                    <a:pt x="732" y="328"/>
                  </a:lnTo>
                  <a:lnTo>
                    <a:pt x="732" y="328"/>
                  </a:lnTo>
                  <a:lnTo>
                    <a:pt x="760" y="430"/>
                  </a:lnTo>
                  <a:lnTo>
                    <a:pt x="788" y="530"/>
                  </a:lnTo>
                  <a:lnTo>
                    <a:pt x="800" y="580"/>
                  </a:lnTo>
                  <a:lnTo>
                    <a:pt x="812" y="630"/>
                  </a:lnTo>
                  <a:lnTo>
                    <a:pt x="822" y="680"/>
                  </a:lnTo>
                  <a:lnTo>
                    <a:pt x="828" y="732"/>
                  </a:lnTo>
                  <a:lnTo>
                    <a:pt x="828" y="732"/>
                  </a:lnTo>
                  <a:lnTo>
                    <a:pt x="846" y="738"/>
                  </a:lnTo>
                  <a:lnTo>
                    <a:pt x="854" y="742"/>
                  </a:lnTo>
                  <a:lnTo>
                    <a:pt x="860" y="748"/>
                  </a:lnTo>
                  <a:lnTo>
                    <a:pt x="860" y="748"/>
                  </a:lnTo>
                  <a:lnTo>
                    <a:pt x="876" y="746"/>
                  </a:lnTo>
                  <a:lnTo>
                    <a:pt x="892" y="744"/>
                  </a:lnTo>
                  <a:lnTo>
                    <a:pt x="908" y="740"/>
                  </a:lnTo>
                  <a:lnTo>
                    <a:pt x="920" y="736"/>
                  </a:lnTo>
                  <a:lnTo>
                    <a:pt x="934" y="730"/>
                  </a:lnTo>
                  <a:lnTo>
                    <a:pt x="944" y="724"/>
                  </a:lnTo>
                  <a:lnTo>
                    <a:pt x="966" y="708"/>
                  </a:lnTo>
                  <a:lnTo>
                    <a:pt x="984" y="690"/>
                  </a:lnTo>
                  <a:lnTo>
                    <a:pt x="1002" y="670"/>
                  </a:lnTo>
                  <a:lnTo>
                    <a:pt x="1036" y="634"/>
                  </a:lnTo>
                  <a:lnTo>
                    <a:pt x="1036" y="634"/>
                  </a:lnTo>
                  <a:lnTo>
                    <a:pt x="1062" y="608"/>
                  </a:lnTo>
                  <a:lnTo>
                    <a:pt x="1092" y="582"/>
                  </a:lnTo>
                  <a:lnTo>
                    <a:pt x="1154" y="532"/>
                  </a:lnTo>
                  <a:lnTo>
                    <a:pt x="1184" y="508"/>
                  </a:lnTo>
                  <a:lnTo>
                    <a:pt x="1212" y="480"/>
                  </a:lnTo>
                  <a:lnTo>
                    <a:pt x="1238" y="452"/>
                  </a:lnTo>
                  <a:lnTo>
                    <a:pt x="1248" y="436"/>
                  </a:lnTo>
                  <a:lnTo>
                    <a:pt x="1258" y="420"/>
                  </a:lnTo>
                  <a:lnTo>
                    <a:pt x="1258" y="420"/>
                  </a:lnTo>
                  <a:lnTo>
                    <a:pt x="1264" y="410"/>
                  </a:lnTo>
                  <a:lnTo>
                    <a:pt x="1268" y="398"/>
                  </a:lnTo>
                  <a:lnTo>
                    <a:pt x="1272" y="376"/>
                  </a:lnTo>
                  <a:lnTo>
                    <a:pt x="1276" y="352"/>
                  </a:lnTo>
                  <a:lnTo>
                    <a:pt x="1282" y="328"/>
                  </a:lnTo>
                  <a:lnTo>
                    <a:pt x="1282" y="328"/>
                  </a:lnTo>
                  <a:lnTo>
                    <a:pt x="1298" y="286"/>
                  </a:lnTo>
                  <a:lnTo>
                    <a:pt x="1308" y="258"/>
                  </a:lnTo>
                  <a:lnTo>
                    <a:pt x="1316" y="230"/>
                  </a:lnTo>
                  <a:lnTo>
                    <a:pt x="1324" y="200"/>
                  </a:lnTo>
                  <a:lnTo>
                    <a:pt x="1326" y="170"/>
                  </a:lnTo>
                  <a:lnTo>
                    <a:pt x="1326" y="158"/>
                  </a:lnTo>
                  <a:lnTo>
                    <a:pt x="1324" y="144"/>
                  </a:lnTo>
                  <a:lnTo>
                    <a:pt x="1320" y="134"/>
                  </a:lnTo>
                  <a:lnTo>
                    <a:pt x="1314" y="122"/>
                  </a:lnTo>
                  <a:lnTo>
                    <a:pt x="1314" y="122"/>
                  </a:lnTo>
                  <a:lnTo>
                    <a:pt x="1314" y="108"/>
                  </a:lnTo>
                  <a:lnTo>
                    <a:pt x="1314" y="108"/>
                  </a:lnTo>
                  <a:lnTo>
                    <a:pt x="1412" y="118"/>
                  </a:lnTo>
                  <a:lnTo>
                    <a:pt x="1464" y="122"/>
                  </a:lnTo>
                  <a:lnTo>
                    <a:pt x="1522" y="122"/>
                  </a:lnTo>
                  <a:lnTo>
                    <a:pt x="1522" y="122"/>
                  </a:lnTo>
                  <a:lnTo>
                    <a:pt x="1518" y="142"/>
                  </a:lnTo>
                  <a:lnTo>
                    <a:pt x="1512" y="162"/>
                  </a:lnTo>
                  <a:lnTo>
                    <a:pt x="1494" y="206"/>
                  </a:lnTo>
                  <a:lnTo>
                    <a:pt x="1474" y="252"/>
                  </a:lnTo>
                  <a:lnTo>
                    <a:pt x="1450" y="298"/>
                  </a:lnTo>
                  <a:lnTo>
                    <a:pt x="1424" y="342"/>
                  </a:lnTo>
                  <a:lnTo>
                    <a:pt x="1400" y="384"/>
                  </a:lnTo>
                  <a:lnTo>
                    <a:pt x="1354" y="458"/>
                  </a:lnTo>
                  <a:lnTo>
                    <a:pt x="1354" y="4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25"/>
            <p:cNvSpPr/>
            <p:nvPr/>
          </p:nvSpPr>
          <p:spPr>
            <a:xfrm>
              <a:off x="8256240" y="6438960"/>
              <a:ext cx="1949400" cy="2994120"/>
            </a:xfrm>
            <a:custGeom>
              <a:avLst/>
              <a:gdLst>
                <a:gd name="textAreaLeft" fmla="*/ 0 w 1949400"/>
                <a:gd name="textAreaRight" fmla="*/ 1949760 w 1949400"/>
                <a:gd name="textAreaTop" fmla="*/ 0 h 2994120"/>
                <a:gd name="textAreaBottom" fmla="*/ 2994480 h 2994120"/>
              </a:gdLst>
              <a:ahLst/>
              <a:rect l="textAreaLeft" t="textAreaTop" r="textAreaRight" b="textAreaBottom"/>
              <a:pathLst>
                <a:path w="1228" h="1886">
                  <a:moveTo>
                    <a:pt x="1170" y="334"/>
                  </a:moveTo>
                  <a:lnTo>
                    <a:pt x="1170" y="334"/>
                  </a:lnTo>
                  <a:lnTo>
                    <a:pt x="1160" y="314"/>
                  </a:lnTo>
                  <a:lnTo>
                    <a:pt x="1148" y="298"/>
                  </a:lnTo>
                  <a:lnTo>
                    <a:pt x="1134" y="282"/>
                  </a:lnTo>
                  <a:lnTo>
                    <a:pt x="1120" y="268"/>
                  </a:lnTo>
                  <a:lnTo>
                    <a:pt x="1088" y="240"/>
                  </a:lnTo>
                  <a:lnTo>
                    <a:pt x="1074" y="226"/>
                  </a:lnTo>
                  <a:lnTo>
                    <a:pt x="1060" y="212"/>
                  </a:lnTo>
                  <a:lnTo>
                    <a:pt x="1060" y="212"/>
                  </a:lnTo>
                  <a:lnTo>
                    <a:pt x="1042" y="188"/>
                  </a:lnTo>
                  <a:lnTo>
                    <a:pt x="1026" y="164"/>
                  </a:lnTo>
                  <a:lnTo>
                    <a:pt x="1008" y="140"/>
                  </a:lnTo>
                  <a:lnTo>
                    <a:pt x="998" y="128"/>
                  </a:lnTo>
                  <a:lnTo>
                    <a:pt x="988" y="120"/>
                  </a:lnTo>
                  <a:lnTo>
                    <a:pt x="988" y="120"/>
                  </a:lnTo>
                  <a:lnTo>
                    <a:pt x="964" y="104"/>
                  </a:lnTo>
                  <a:lnTo>
                    <a:pt x="938" y="90"/>
                  </a:lnTo>
                  <a:lnTo>
                    <a:pt x="908" y="74"/>
                  </a:lnTo>
                  <a:lnTo>
                    <a:pt x="876" y="62"/>
                  </a:lnTo>
                  <a:lnTo>
                    <a:pt x="844" y="48"/>
                  </a:lnTo>
                  <a:lnTo>
                    <a:pt x="808" y="38"/>
                  </a:lnTo>
                  <a:lnTo>
                    <a:pt x="772" y="28"/>
                  </a:lnTo>
                  <a:lnTo>
                    <a:pt x="734" y="18"/>
                  </a:lnTo>
                  <a:lnTo>
                    <a:pt x="694" y="10"/>
                  </a:lnTo>
                  <a:lnTo>
                    <a:pt x="656" y="6"/>
                  </a:lnTo>
                  <a:lnTo>
                    <a:pt x="616" y="2"/>
                  </a:lnTo>
                  <a:lnTo>
                    <a:pt x="576" y="0"/>
                  </a:lnTo>
                  <a:lnTo>
                    <a:pt x="536" y="0"/>
                  </a:lnTo>
                  <a:lnTo>
                    <a:pt x="498" y="2"/>
                  </a:lnTo>
                  <a:lnTo>
                    <a:pt x="460" y="6"/>
                  </a:lnTo>
                  <a:lnTo>
                    <a:pt x="422" y="14"/>
                  </a:lnTo>
                  <a:lnTo>
                    <a:pt x="422" y="14"/>
                  </a:lnTo>
                  <a:lnTo>
                    <a:pt x="326" y="14"/>
                  </a:lnTo>
                  <a:lnTo>
                    <a:pt x="326" y="14"/>
                  </a:lnTo>
                  <a:lnTo>
                    <a:pt x="308" y="18"/>
                  </a:lnTo>
                  <a:lnTo>
                    <a:pt x="292" y="26"/>
                  </a:lnTo>
                  <a:lnTo>
                    <a:pt x="276" y="32"/>
                  </a:lnTo>
                  <a:lnTo>
                    <a:pt x="262" y="40"/>
                  </a:lnTo>
                  <a:lnTo>
                    <a:pt x="234" y="58"/>
                  </a:lnTo>
                  <a:lnTo>
                    <a:pt x="210" y="78"/>
                  </a:lnTo>
                  <a:lnTo>
                    <a:pt x="162" y="120"/>
                  </a:lnTo>
                  <a:lnTo>
                    <a:pt x="138" y="140"/>
                  </a:lnTo>
                  <a:lnTo>
                    <a:pt x="112" y="158"/>
                  </a:lnTo>
                  <a:lnTo>
                    <a:pt x="112" y="158"/>
                  </a:lnTo>
                  <a:lnTo>
                    <a:pt x="112" y="308"/>
                  </a:lnTo>
                  <a:lnTo>
                    <a:pt x="110" y="384"/>
                  </a:lnTo>
                  <a:lnTo>
                    <a:pt x="108" y="460"/>
                  </a:lnTo>
                  <a:lnTo>
                    <a:pt x="104" y="538"/>
                  </a:lnTo>
                  <a:lnTo>
                    <a:pt x="96" y="614"/>
                  </a:lnTo>
                  <a:lnTo>
                    <a:pt x="86" y="688"/>
                  </a:lnTo>
                  <a:lnTo>
                    <a:pt x="80" y="724"/>
                  </a:lnTo>
                  <a:lnTo>
                    <a:pt x="72" y="760"/>
                  </a:lnTo>
                  <a:lnTo>
                    <a:pt x="72" y="760"/>
                  </a:lnTo>
                  <a:lnTo>
                    <a:pt x="68" y="778"/>
                  </a:lnTo>
                  <a:lnTo>
                    <a:pt x="68" y="798"/>
                  </a:lnTo>
                  <a:lnTo>
                    <a:pt x="70" y="840"/>
                  </a:lnTo>
                  <a:lnTo>
                    <a:pt x="72" y="878"/>
                  </a:lnTo>
                  <a:lnTo>
                    <a:pt x="72" y="894"/>
                  </a:lnTo>
                  <a:lnTo>
                    <a:pt x="72" y="904"/>
                  </a:lnTo>
                  <a:lnTo>
                    <a:pt x="72" y="904"/>
                  </a:lnTo>
                  <a:lnTo>
                    <a:pt x="24" y="1346"/>
                  </a:lnTo>
                  <a:lnTo>
                    <a:pt x="24" y="1346"/>
                  </a:lnTo>
                  <a:lnTo>
                    <a:pt x="8" y="1666"/>
                  </a:lnTo>
                  <a:lnTo>
                    <a:pt x="8" y="1666"/>
                  </a:lnTo>
                  <a:lnTo>
                    <a:pt x="6" y="1700"/>
                  </a:lnTo>
                  <a:lnTo>
                    <a:pt x="2" y="1734"/>
                  </a:lnTo>
                  <a:lnTo>
                    <a:pt x="0" y="1750"/>
                  </a:lnTo>
                  <a:lnTo>
                    <a:pt x="0" y="1764"/>
                  </a:lnTo>
                  <a:lnTo>
                    <a:pt x="2" y="1778"/>
                  </a:lnTo>
                  <a:lnTo>
                    <a:pt x="8" y="1788"/>
                  </a:lnTo>
                  <a:lnTo>
                    <a:pt x="8" y="1788"/>
                  </a:lnTo>
                  <a:lnTo>
                    <a:pt x="14" y="1800"/>
                  </a:lnTo>
                  <a:lnTo>
                    <a:pt x="24" y="1810"/>
                  </a:lnTo>
                  <a:lnTo>
                    <a:pt x="38" y="1820"/>
                  </a:lnTo>
                  <a:lnTo>
                    <a:pt x="56" y="1830"/>
                  </a:lnTo>
                  <a:lnTo>
                    <a:pt x="76" y="1840"/>
                  </a:lnTo>
                  <a:lnTo>
                    <a:pt x="100" y="1848"/>
                  </a:lnTo>
                  <a:lnTo>
                    <a:pt x="150" y="1864"/>
                  </a:lnTo>
                  <a:lnTo>
                    <a:pt x="202" y="1876"/>
                  </a:lnTo>
                  <a:lnTo>
                    <a:pt x="230" y="1880"/>
                  </a:lnTo>
                  <a:lnTo>
                    <a:pt x="256" y="1884"/>
                  </a:lnTo>
                  <a:lnTo>
                    <a:pt x="282" y="1886"/>
                  </a:lnTo>
                  <a:lnTo>
                    <a:pt x="308" y="1886"/>
                  </a:lnTo>
                  <a:lnTo>
                    <a:pt x="330" y="1884"/>
                  </a:lnTo>
                  <a:lnTo>
                    <a:pt x="350" y="1880"/>
                  </a:lnTo>
                  <a:lnTo>
                    <a:pt x="350" y="1880"/>
                  </a:lnTo>
                  <a:lnTo>
                    <a:pt x="382" y="1870"/>
                  </a:lnTo>
                  <a:lnTo>
                    <a:pt x="414" y="1858"/>
                  </a:lnTo>
                  <a:lnTo>
                    <a:pt x="442" y="1842"/>
                  </a:lnTo>
                  <a:lnTo>
                    <a:pt x="470" y="1826"/>
                  </a:lnTo>
                  <a:lnTo>
                    <a:pt x="470" y="1826"/>
                  </a:lnTo>
                  <a:lnTo>
                    <a:pt x="472" y="1788"/>
                  </a:lnTo>
                  <a:lnTo>
                    <a:pt x="474" y="1754"/>
                  </a:lnTo>
                  <a:lnTo>
                    <a:pt x="478" y="1720"/>
                  </a:lnTo>
                  <a:lnTo>
                    <a:pt x="482" y="1688"/>
                  </a:lnTo>
                  <a:lnTo>
                    <a:pt x="496" y="1626"/>
                  </a:lnTo>
                  <a:lnTo>
                    <a:pt x="510" y="1568"/>
                  </a:lnTo>
                  <a:lnTo>
                    <a:pt x="510" y="1568"/>
                  </a:lnTo>
                  <a:lnTo>
                    <a:pt x="510" y="1492"/>
                  </a:lnTo>
                  <a:lnTo>
                    <a:pt x="510" y="1492"/>
                  </a:lnTo>
                  <a:lnTo>
                    <a:pt x="520" y="1446"/>
                  </a:lnTo>
                  <a:lnTo>
                    <a:pt x="526" y="1400"/>
                  </a:lnTo>
                  <a:lnTo>
                    <a:pt x="532" y="1352"/>
                  </a:lnTo>
                  <a:lnTo>
                    <a:pt x="536" y="1304"/>
                  </a:lnTo>
                  <a:lnTo>
                    <a:pt x="538" y="1256"/>
                  </a:lnTo>
                  <a:lnTo>
                    <a:pt x="540" y="1206"/>
                  </a:lnTo>
                  <a:lnTo>
                    <a:pt x="542" y="1102"/>
                  </a:lnTo>
                  <a:lnTo>
                    <a:pt x="542" y="1102"/>
                  </a:lnTo>
                  <a:lnTo>
                    <a:pt x="584" y="1104"/>
                  </a:lnTo>
                  <a:lnTo>
                    <a:pt x="624" y="1106"/>
                  </a:lnTo>
                  <a:lnTo>
                    <a:pt x="694" y="1110"/>
                  </a:lnTo>
                  <a:lnTo>
                    <a:pt x="728" y="1110"/>
                  </a:lnTo>
                  <a:lnTo>
                    <a:pt x="760" y="1108"/>
                  </a:lnTo>
                  <a:lnTo>
                    <a:pt x="794" y="1104"/>
                  </a:lnTo>
                  <a:lnTo>
                    <a:pt x="828" y="1096"/>
                  </a:lnTo>
                  <a:lnTo>
                    <a:pt x="828" y="1096"/>
                  </a:lnTo>
                  <a:lnTo>
                    <a:pt x="856" y="1086"/>
                  </a:lnTo>
                  <a:lnTo>
                    <a:pt x="884" y="1076"/>
                  </a:lnTo>
                  <a:lnTo>
                    <a:pt x="912" y="1064"/>
                  </a:lnTo>
                  <a:lnTo>
                    <a:pt x="938" y="1050"/>
                  </a:lnTo>
                  <a:lnTo>
                    <a:pt x="964" y="1036"/>
                  </a:lnTo>
                  <a:lnTo>
                    <a:pt x="988" y="1020"/>
                  </a:lnTo>
                  <a:lnTo>
                    <a:pt x="1012" y="1004"/>
                  </a:lnTo>
                  <a:lnTo>
                    <a:pt x="1034" y="986"/>
                  </a:lnTo>
                  <a:lnTo>
                    <a:pt x="1056" y="968"/>
                  </a:lnTo>
                  <a:lnTo>
                    <a:pt x="1076" y="948"/>
                  </a:lnTo>
                  <a:lnTo>
                    <a:pt x="1096" y="928"/>
                  </a:lnTo>
                  <a:lnTo>
                    <a:pt x="1114" y="908"/>
                  </a:lnTo>
                  <a:lnTo>
                    <a:pt x="1132" y="886"/>
                  </a:lnTo>
                  <a:lnTo>
                    <a:pt x="1148" y="862"/>
                  </a:lnTo>
                  <a:lnTo>
                    <a:pt x="1162" y="838"/>
                  </a:lnTo>
                  <a:lnTo>
                    <a:pt x="1176" y="814"/>
                  </a:lnTo>
                  <a:lnTo>
                    <a:pt x="1188" y="788"/>
                  </a:lnTo>
                  <a:lnTo>
                    <a:pt x="1198" y="762"/>
                  </a:lnTo>
                  <a:lnTo>
                    <a:pt x="1206" y="736"/>
                  </a:lnTo>
                  <a:lnTo>
                    <a:pt x="1214" y="708"/>
                  </a:lnTo>
                  <a:lnTo>
                    <a:pt x="1220" y="680"/>
                  </a:lnTo>
                  <a:lnTo>
                    <a:pt x="1224" y="650"/>
                  </a:lnTo>
                  <a:lnTo>
                    <a:pt x="1228" y="620"/>
                  </a:lnTo>
                  <a:lnTo>
                    <a:pt x="1228" y="590"/>
                  </a:lnTo>
                  <a:lnTo>
                    <a:pt x="1228" y="560"/>
                  </a:lnTo>
                  <a:lnTo>
                    <a:pt x="1226" y="530"/>
                  </a:lnTo>
                  <a:lnTo>
                    <a:pt x="1222" y="498"/>
                  </a:lnTo>
                  <a:lnTo>
                    <a:pt x="1216" y="466"/>
                  </a:lnTo>
                  <a:lnTo>
                    <a:pt x="1208" y="432"/>
                  </a:lnTo>
                  <a:lnTo>
                    <a:pt x="1198" y="400"/>
                  </a:lnTo>
                  <a:lnTo>
                    <a:pt x="1186" y="366"/>
                  </a:lnTo>
                  <a:lnTo>
                    <a:pt x="1170" y="334"/>
                  </a:lnTo>
                  <a:lnTo>
                    <a:pt x="1170" y="334"/>
                  </a:lnTo>
                  <a:close/>
                  <a:moveTo>
                    <a:pt x="764" y="1020"/>
                  </a:moveTo>
                  <a:lnTo>
                    <a:pt x="764" y="1020"/>
                  </a:lnTo>
                  <a:lnTo>
                    <a:pt x="746" y="1024"/>
                  </a:lnTo>
                  <a:lnTo>
                    <a:pt x="728" y="1026"/>
                  </a:lnTo>
                  <a:lnTo>
                    <a:pt x="686" y="1028"/>
                  </a:lnTo>
                  <a:lnTo>
                    <a:pt x="644" y="1028"/>
                  </a:lnTo>
                  <a:lnTo>
                    <a:pt x="602" y="1026"/>
                  </a:lnTo>
                  <a:lnTo>
                    <a:pt x="522" y="1020"/>
                  </a:lnTo>
                  <a:lnTo>
                    <a:pt x="486" y="1018"/>
                  </a:lnTo>
                  <a:lnTo>
                    <a:pt x="454" y="1020"/>
                  </a:lnTo>
                  <a:lnTo>
                    <a:pt x="454" y="1020"/>
                  </a:lnTo>
                  <a:lnTo>
                    <a:pt x="406" y="1576"/>
                  </a:lnTo>
                  <a:lnTo>
                    <a:pt x="406" y="1576"/>
                  </a:lnTo>
                  <a:lnTo>
                    <a:pt x="392" y="1626"/>
                  </a:lnTo>
                  <a:lnTo>
                    <a:pt x="380" y="1678"/>
                  </a:lnTo>
                  <a:lnTo>
                    <a:pt x="370" y="1732"/>
                  </a:lnTo>
                  <a:lnTo>
                    <a:pt x="368" y="1760"/>
                  </a:lnTo>
                  <a:lnTo>
                    <a:pt x="366" y="1788"/>
                  </a:lnTo>
                  <a:lnTo>
                    <a:pt x="366" y="1788"/>
                  </a:lnTo>
                  <a:lnTo>
                    <a:pt x="342" y="1792"/>
                  </a:lnTo>
                  <a:lnTo>
                    <a:pt x="308" y="1794"/>
                  </a:lnTo>
                  <a:lnTo>
                    <a:pt x="270" y="1796"/>
                  </a:lnTo>
                  <a:lnTo>
                    <a:pt x="228" y="1796"/>
                  </a:lnTo>
                  <a:lnTo>
                    <a:pt x="190" y="1792"/>
                  </a:lnTo>
                  <a:lnTo>
                    <a:pt x="172" y="1790"/>
                  </a:lnTo>
                  <a:lnTo>
                    <a:pt x="156" y="1786"/>
                  </a:lnTo>
                  <a:lnTo>
                    <a:pt x="140" y="1780"/>
                  </a:lnTo>
                  <a:lnTo>
                    <a:pt x="128" y="1774"/>
                  </a:lnTo>
                  <a:lnTo>
                    <a:pt x="118" y="1766"/>
                  </a:lnTo>
                  <a:lnTo>
                    <a:pt x="112" y="1758"/>
                  </a:lnTo>
                  <a:lnTo>
                    <a:pt x="112" y="1758"/>
                  </a:lnTo>
                  <a:lnTo>
                    <a:pt x="96" y="1758"/>
                  </a:lnTo>
                  <a:lnTo>
                    <a:pt x="96" y="1758"/>
                  </a:lnTo>
                  <a:lnTo>
                    <a:pt x="104" y="1752"/>
                  </a:lnTo>
                  <a:lnTo>
                    <a:pt x="108" y="1742"/>
                  </a:lnTo>
                  <a:lnTo>
                    <a:pt x="112" y="1730"/>
                  </a:lnTo>
                  <a:lnTo>
                    <a:pt x="112" y="1718"/>
                  </a:lnTo>
                  <a:lnTo>
                    <a:pt x="112" y="1688"/>
                  </a:lnTo>
                  <a:lnTo>
                    <a:pt x="112" y="1660"/>
                  </a:lnTo>
                  <a:lnTo>
                    <a:pt x="112" y="1660"/>
                  </a:lnTo>
                  <a:lnTo>
                    <a:pt x="112" y="1620"/>
                  </a:lnTo>
                  <a:lnTo>
                    <a:pt x="116" y="1580"/>
                  </a:lnTo>
                  <a:lnTo>
                    <a:pt x="120" y="1542"/>
                  </a:lnTo>
                  <a:lnTo>
                    <a:pt x="128" y="1506"/>
                  </a:lnTo>
                  <a:lnTo>
                    <a:pt x="128" y="1506"/>
                  </a:lnTo>
                  <a:lnTo>
                    <a:pt x="128" y="1384"/>
                  </a:lnTo>
                  <a:lnTo>
                    <a:pt x="128" y="1384"/>
                  </a:lnTo>
                  <a:lnTo>
                    <a:pt x="136" y="1338"/>
                  </a:lnTo>
                  <a:lnTo>
                    <a:pt x="142" y="1288"/>
                  </a:lnTo>
                  <a:lnTo>
                    <a:pt x="148" y="1240"/>
                  </a:lnTo>
                  <a:lnTo>
                    <a:pt x="152" y="1190"/>
                  </a:lnTo>
                  <a:lnTo>
                    <a:pt x="158" y="1086"/>
                  </a:lnTo>
                  <a:lnTo>
                    <a:pt x="162" y="984"/>
                  </a:lnTo>
                  <a:lnTo>
                    <a:pt x="168" y="880"/>
                  </a:lnTo>
                  <a:lnTo>
                    <a:pt x="176" y="778"/>
                  </a:lnTo>
                  <a:lnTo>
                    <a:pt x="182" y="728"/>
                  </a:lnTo>
                  <a:lnTo>
                    <a:pt x="188" y="680"/>
                  </a:lnTo>
                  <a:lnTo>
                    <a:pt x="196" y="632"/>
                  </a:lnTo>
                  <a:lnTo>
                    <a:pt x="206" y="584"/>
                  </a:lnTo>
                  <a:lnTo>
                    <a:pt x="206" y="584"/>
                  </a:lnTo>
                  <a:lnTo>
                    <a:pt x="210" y="570"/>
                  </a:lnTo>
                  <a:lnTo>
                    <a:pt x="212" y="556"/>
                  </a:lnTo>
                  <a:lnTo>
                    <a:pt x="212" y="520"/>
                  </a:lnTo>
                  <a:lnTo>
                    <a:pt x="210" y="438"/>
                  </a:lnTo>
                  <a:lnTo>
                    <a:pt x="208" y="396"/>
                  </a:lnTo>
                  <a:lnTo>
                    <a:pt x="210" y="358"/>
                  </a:lnTo>
                  <a:lnTo>
                    <a:pt x="210" y="342"/>
                  </a:lnTo>
                  <a:lnTo>
                    <a:pt x="214" y="326"/>
                  </a:lnTo>
                  <a:lnTo>
                    <a:pt x="218" y="314"/>
                  </a:lnTo>
                  <a:lnTo>
                    <a:pt x="222" y="302"/>
                  </a:lnTo>
                  <a:lnTo>
                    <a:pt x="222" y="302"/>
                  </a:lnTo>
                  <a:lnTo>
                    <a:pt x="222" y="204"/>
                  </a:lnTo>
                  <a:lnTo>
                    <a:pt x="222" y="204"/>
                  </a:lnTo>
                  <a:lnTo>
                    <a:pt x="232" y="190"/>
                  </a:lnTo>
                  <a:lnTo>
                    <a:pt x="244" y="176"/>
                  </a:lnTo>
                  <a:lnTo>
                    <a:pt x="262" y="162"/>
                  </a:lnTo>
                  <a:lnTo>
                    <a:pt x="282" y="148"/>
                  </a:lnTo>
                  <a:lnTo>
                    <a:pt x="304" y="136"/>
                  </a:lnTo>
                  <a:lnTo>
                    <a:pt x="330" y="124"/>
                  </a:lnTo>
                  <a:lnTo>
                    <a:pt x="358" y="112"/>
                  </a:lnTo>
                  <a:lnTo>
                    <a:pt x="388" y="102"/>
                  </a:lnTo>
                  <a:lnTo>
                    <a:pt x="418" y="92"/>
                  </a:lnTo>
                  <a:lnTo>
                    <a:pt x="450" y="86"/>
                  </a:lnTo>
                  <a:lnTo>
                    <a:pt x="482" y="80"/>
                  </a:lnTo>
                  <a:lnTo>
                    <a:pt x="516" y="76"/>
                  </a:lnTo>
                  <a:lnTo>
                    <a:pt x="548" y="74"/>
                  </a:lnTo>
                  <a:lnTo>
                    <a:pt x="578" y="74"/>
                  </a:lnTo>
                  <a:lnTo>
                    <a:pt x="608" y="76"/>
                  </a:lnTo>
                  <a:lnTo>
                    <a:pt x="638" y="82"/>
                  </a:lnTo>
                  <a:lnTo>
                    <a:pt x="638" y="82"/>
                  </a:lnTo>
                  <a:lnTo>
                    <a:pt x="686" y="92"/>
                  </a:lnTo>
                  <a:lnTo>
                    <a:pt x="740" y="102"/>
                  </a:lnTo>
                  <a:lnTo>
                    <a:pt x="794" y="112"/>
                  </a:lnTo>
                  <a:lnTo>
                    <a:pt x="820" y="120"/>
                  </a:lnTo>
                  <a:lnTo>
                    <a:pt x="844" y="128"/>
                  </a:lnTo>
                  <a:lnTo>
                    <a:pt x="844" y="128"/>
                  </a:lnTo>
                  <a:lnTo>
                    <a:pt x="852" y="132"/>
                  </a:lnTo>
                  <a:lnTo>
                    <a:pt x="864" y="138"/>
                  </a:lnTo>
                  <a:lnTo>
                    <a:pt x="890" y="160"/>
                  </a:lnTo>
                  <a:lnTo>
                    <a:pt x="924" y="188"/>
                  </a:lnTo>
                  <a:lnTo>
                    <a:pt x="962" y="220"/>
                  </a:lnTo>
                  <a:lnTo>
                    <a:pt x="1028" y="284"/>
                  </a:lnTo>
                  <a:lnTo>
                    <a:pt x="1054" y="308"/>
                  </a:lnTo>
                  <a:lnTo>
                    <a:pt x="1068" y="326"/>
                  </a:lnTo>
                  <a:lnTo>
                    <a:pt x="1068" y="326"/>
                  </a:lnTo>
                  <a:lnTo>
                    <a:pt x="1078" y="344"/>
                  </a:lnTo>
                  <a:lnTo>
                    <a:pt x="1084" y="362"/>
                  </a:lnTo>
                  <a:lnTo>
                    <a:pt x="1090" y="380"/>
                  </a:lnTo>
                  <a:lnTo>
                    <a:pt x="1092" y="400"/>
                  </a:lnTo>
                  <a:lnTo>
                    <a:pt x="1098" y="442"/>
                  </a:lnTo>
                  <a:lnTo>
                    <a:pt x="1102" y="464"/>
                  </a:lnTo>
                  <a:lnTo>
                    <a:pt x="1108" y="486"/>
                  </a:lnTo>
                  <a:lnTo>
                    <a:pt x="1108" y="486"/>
                  </a:lnTo>
                  <a:lnTo>
                    <a:pt x="1114" y="508"/>
                  </a:lnTo>
                  <a:lnTo>
                    <a:pt x="1118" y="532"/>
                  </a:lnTo>
                  <a:lnTo>
                    <a:pt x="1120" y="554"/>
                  </a:lnTo>
                  <a:lnTo>
                    <a:pt x="1122" y="578"/>
                  </a:lnTo>
                  <a:lnTo>
                    <a:pt x="1122" y="600"/>
                  </a:lnTo>
                  <a:lnTo>
                    <a:pt x="1122" y="622"/>
                  </a:lnTo>
                  <a:lnTo>
                    <a:pt x="1118" y="644"/>
                  </a:lnTo>
                  <a:lnTo>
                    <a:pt x="1114" y="664"/>
                  </a:lnTo>
                  <a:lnTo>
                    <a:pt x="1110" y="686"/>
                  </a:lnTo>
                  <a:lnTo>
                    <a:pt x="1104" y="706"/>
                  </a:lnTo>
                  <a:lnTo>
                    <a:pt x="1088" y="748"/>
                  </a:lnTo>
                  <a:lnTo>
                    <a:pt x="1070" y="786"/>
                  </a:lnTo>
                  <a:lnTo>
                    <a:pt x="1046" y="822"/>
                  </a:lnTo>
                  <a:lnTo>
                    <a:pt x="1020" y="856"/>
                  </a:lnTo>
                  <a:lnTo>
                    <a:pt x="990" y="890"/>
                  </a:lnTo>
                  <a:lnTo>
                    <a:pt x="958" y="918"/>
                  </a:lnTo>
                  <a:lnTo>
                    <a:pt x="922" y="946"/>
                  </a:lnTo>
                  <a:lnTo>
                    <a:pt x="886" y="968"/>
                  </a:lnTo>
                  <a:lnTo>
                    <a:pt x="846" y="990"/>
                  </a:lnTo>
                  <a:lnTo>
                    <a:pt x="806" y="1006"/>
                  </a:lnTo>
                  <a:lnTo>
                    <a:pt x="764" y="1020"/>
                  </a:lnTo>
                  <a:lnTo>
                    <a:pt x="764" y="10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26"/>
            <p:cNvSpPr/>
            <p:nvPr/>
          </p:nvSpPr>
          <p:spPr>
            <a:xfrm>
              <a:off x="11809440" y="6508800"/>
              <a:ext cx="25200" cy="126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" h="8">
                  <a:moveTo>
                    <a:pt x="0" y="0"/>
                  </a:moveTo>
                  <a:lnTo>
                    <a:pt x="0" y="0"/>
                  </a:lnTo>
                  <a:lnTo>
                    <a:pt x="6" y="4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27"/>
            <p:cNvSpPr/>
            <p:nvPr/>
          </p:nvSpPr>
          <p:spPr>
            <a:xfrm>
              <a:off x="8408880" y="6556320"/>
              <a:ext cx="1628640" cy="2733840"/>
            </a:xfrm>
            <a:custGeom>
              <a:avLst/>
              <a:gdLst>
                <a:gd name="textAreaLeft" fmla="*/ 0 w 1628640"/>
                <a:gd name="textAreaRight" fmla="*/ 1629000 w 1628640"/>
                <a:gd name="textAreaTop" fmla="*/ 0 h 2733840"/>
                <a:gd name="textAreaBottom" fmla="*/ 2733840 h 2733840"/>
              </a:gdLst>
              <a:ahLst/>
              <a:rect l="textAreaLeft" t="textAreaTop" r="textAreaRight" b="textAreaBottom"/>
              <a:pathLst>
                <a:path w="1026" h="1722">
                  <a:moveTo>
                    <a:pt x="1012" y="412"/>
                  </a:moveTo>
                  <a:lnTo>
                    <a:pt x="1012" y="412"/>
                  </a:lnTo>
                  <a:lnTo>
                    <a:pt x="1006" y="390"/>
                  </a:lnTo>
                  <a:lnTo>
                    <a:pt x="1002" y="368"/>
                  </a:lnTo>
                  <a:lnTo>
                    <a:pt x="996" y="326"/>
                  </a:lnTo>
                  <a:lnTo>
                    <a:pt x="994" y="306"/>
                  </a:lnTo>
                  <a:lnTo>
                    <a:pt x="988" y="288"/>
                  </a:lnTo>
                  <a:lnTo>
                    <a:pt x="982" y="270"/>
                  </a:lnTo>
                  <a:lnTo>
                    <a:pt x="972" y="252"/>
                  </a:lnTo>
                  <a:lnTo>
                    <a:pt x="972" y="252"/>
                  </a:lnTo>
                  <a:lnTo>
                    <a:pt x="958" y="234"/>
                  </a:lnTo>
                  <a:lnTo>
                    <a:pt x="932" y="210"/>
                  </a:lnTo>
                  <a:lnTo>
                    <a:pt x="866" y="146"/>
                  </a:lnTo>
                  <a:lnTo>
                    <a:pt x="828" y="114"/>
                  </a:lnTo>
                  <a:lnTo>
                    <a:pt x="794" y="86"/>
                  </a:lnTo>
                  <a:lnTo>
                    <a:pt x="768" y="64"/>
                  </a:lnTo>
                  <a:lnTo>
                    <a:pt x="756" y="58"/>
                  </a:lnTo>
                  <a:lnTo>
                    <a:pt x="748" y="54"/>
                  </a:lnTo>
                  <a:lnTo>
                    <a:pt x="748" y="54"/>
                  </a:lnTo>
                  <a:lnTo>
                    <a:pt x="724" y="46"/>
                  </a:lnTo>
                  <a:lnTo>
                    <a:pt x="698" y="38"/>
                  </a:lnTo>
                  <a:lnTo>
                    <a:pt x="644" y="28"/>
                  </a:lnTo>
                  <a:lnTo>
                    <a:pt x="590" y="18"/>
                  </a:lnTo>
                  <a:lnTo>
                    <a:pt x="542" y="8"/>
                  </a:lnTo>
                  <a:lnTo>
                    <a:pt x="542" y="8"/>
                  </a:lnTo>
                  <a:lnTo>
                    <a:pt x="512" y="2"/>
                  </a:lnTo>
                  <a:lnTo>
                    <a:pt x="482" y="0"/>
                  </a:lnTo>
                  <a:lnTo>
                    <a:pt x="452" y="0"/>
                  </a:lnTo>
                  <a:lnTo>
                    <a:pt x="420" y="2"/>
                  </a:lnTo>
                  <a:lnTo>
                    <a:pt x="386" y="6"/>
                  </a:lnTo>
                  <a:lnTo>
                    <a:pt x="354" y="12"/>
                  </a:lnTo>
                  <a:lnTo>
                    <a:pt x="322" y="18"/>
                  </a:lnTo>
                  <a:lnTo>
                    <a:pt x="292" y="28"/>
                  </a:lnTo>
                  <a:lnTo>
                    <a:pt x="262" y="38"/>
                  </a:lnTo>
                  <a:lnTo>
                    <a:pt x="234" y="50"/>
                  </a:lnTo>
                  <a:lnTo>
                    <a:pt x="208" y="62"/>
                  </a:lnTo>
                  <a:lnTo>
                    <a:pt x="186" y="74"/>
                  </a:lnTo>
                  <a:lnTo>
                    <a:pt x="166" y="88"/>
                  </a:lnTo>
                  <a:lnTo>
                    <a:pt x="148" y="102"/>
                  </a:lnTo>
                  <a:lnTo>
                    <a:pt x="136" y="116"/>
                  </a:lnTo>
                  <a:lnTo>
                    <a:pt x="126" y="130"/>
                  </a:lnTo>
                  <a:lnTo>
                    <a:pt x="126" y="130"/>
                  </a:lnTo>
                  <a:lnTo>
                    <a:pt x="126" y="228"/>
                  </a:lnTo>
                  <a:lnTo>
                    <a:pt x="126" y="228"/>
                  </a:lnTo>
                  <a:lnTo>
                    <a:pt x="122" y="240"/>
                  </a:lnTo>
                  <a:lnTo>
                    <a:pt x="118" y="252"/>
                  </a:lnTo>
                  <a:lnTo>
                    <a:pt x="114" y="268"/>
                  </a:lnTo>
                  <a:lnTo>
                    <a:pt x="114" y="284"/>
                  </a:lnTo>
                  <a:lnTo>
                    <a:pt x="112" y="322"/>
                  </a:lnTo>
                  <a:lnTo>
                    <a:pt x="114" y="364"/>
                  </a:lnTo>
                  <a:lnTo>
                    <a:pt x="116" y="446"/>
                  </a:lnTo>
                  <a:lnTo>
                    <a:pt x="116" y="482"/>
                  </a:lnTo>
                  <a:lnTo>
                    <a:pt x="114" y="496"/>
                  </a:lnTo>
                  <a:lnTo>
                    <a:pt x="110" y="510"/>
                  </a:lnTo>
                  <a:lnTo>
                    <a:pt x="110" y="510"/>
                  </a:lnTo>
                  <a:lnTo>
                    <a:pt x="100" y="558"/>
                  </a:lnTo>
                  <a:lnTo>
                    <a:pt x="92" y="606"/>
                  </a:lnTo>
                  <a:lnTo>
                    <a:pt x="86" y="654"/>
                  </a:lnTo>
                  <a:lnTo>
                    <a:pt x="80" y="704"/>
                  </a:lnTo>
                  <a:lnTo>
                    <a:pt x="72" y="806"/>
                  </a:lnTo>
                  <a:lnTo>
                    <a:pt x="66" y="910"/>
                  </a:lnTo>
                  <a:lnTo>
                    <a:pt x="62" y="1012"/>
                  </a:lnTo>
                  <a:lnTo>
                    <a:pt x="56" y="1116"/>
                  </a:lnTo>
                  <a:lnTo>
                    <a:pt x="52" y="1166"/>
                  </a:lnTo>
                  <a:lnTo>
                    <a:pt x="46" y="1214"/>
                  </a:lnTo>
                  <a:lnTo>
                    <a:pt x="40" y="1264"/>
                  </a:lnTo>
                  <a:lnTo>
                    <a:pt x="32" y="1310"/>
                  </a:lnTo>
                  <a:lnTo>
                    <a:pt x="32" y="1310"/>
                  </a:lnTo>
                  <a:lnTo>
                    <a:pt x="32" y="1432"/>
                  </a:lnTo>
                  <a:lnTo>
                    <a:pt x="32" y="1432"/>
                  </a:lnTo>
                  <a:lnTo>
                    <a:pt x="24" y="1468"/>
                  </a:lnTo>
                  <a:lnTo>
                    <a:pt x="20" y="1506"/>
                  </a:lnTo>
                  <a:lnTo>
                    <a:pt x="16" y="1546"/>
                  </a:lnTo>
                  <a:lnTo>
                    <a:pt x="16" y="1586"/>
                  </a:lnTo>
                  <a:lnTo>
                    <a:pt x="16" y="1586"/>
                  </a:lnTo>
                  <a:lnTo>
                    <a:pt x="16" y="1614"/>
                  </a:lnTo>
                  <a:lnTo>
                    <a:pt x="16" y="1644"/>
                  </a:lnTo>
                  <a:lnTo>
                    <a:pt x="16" y="1656"/>
                  </a:lnTo>
                  <a:lnTo>
                    <a:pt x="12" y="1668"/>
                  </a:lnTo>
                  <a:lnTo>
                    <a:pt x="8" y="1678"/>
                  </a:lnTo>
                  <a:lnTo>
                    <a:pt x="0" y="1684"/>
                  </a:lnTo>
                  <a:lnTo>
                    <a:pt x="0" y="1684"/>
                  </a:lnTo>
                  <a:lnTo>
                    <a:pt x="16" y="1684"/>
                  </a:lnTo>
                  <a:lnTo>
                    <a:pt x="16" y="1684"/>
                  </a:lnTo>
                  <a:lnTo>
                    <a:pt x="22" y="1692"/>
                  </a:lnTo>
                  <a:lnTo>
                    <a:pt x="32" y="1700"/>
                  </a:lnTo>
                  <a:lnTo>
                    <a:pt x="44" y="1706"/>
                  </a:lnTo>
                  <a:lnTo>
                    <a:pt x="60" y="1712"/>
                  </a:lnTo>
                  <a:lnTo>
                    <a:pt x="76" y="1716"/>
                  </a:lnTo>
                  <a:lnTo>
                    <a:pt x="94" y="1718"/>
                  </a:lnTo>
                  <a:lnTo>
                    <a:pt x="132" y="1722"/>
                  </a:lnTo>
                  <a:lnTo>
                    <a:pt x="174" y="1722"/>
                  </a:lnTo>
                  <a:lnTo>
                    <a:pt x="212" y="1720"/>
                  </a:lnTo>
                  <a:lnTo>
                    <a:pt x="246" y="1718"/>
                  </a:lnTo>
                  <a:lnTo>
                    <a:pt x="270" y="1714"/>
                  </a:lnTo>
                  <a:lnTo>
                    <a:pt x="270" y="1714"/>
                  </a:lnTo>
                  <a:lnTo>
                    <a:pt x="272" y="1686"/>
                  </a:lnTo>
                  <a:lnTo>
                    <a:pt x="274" y="1658"/>
                  </a:lnTo>
                  <a:lnTo>
                    <a:pt x="284" y="1604"/>
                  </a:lnTo>
                  <a:lnTo>
                    <a:pt x="296" y="1552"/>
                  </a:lnTo>
                  <a:lnTo>
                    <a:pt x="310" y="1502"/>
                  </a:lnTo>
                  <a:lnTo>
                    <a:pt x="310" y="1502"/>
                  </a:lnTo>
                  <a:lnTo>
                    <a:pt x="358" y="946"/>
                  </a:lnTo>
                  <a:lnTo>
                    <a:pt x="358" y="946"/>
                  </a:lnTo>
                  <a:lnTo>
                    <a:pt x="390" y="944"/>
                  </a:lnTo>
                  <a:lnTo>
                    <a:pt x="426" y="946"/>
                  </a:lnTo>
                  <a:lnTo>
                    <a:pt x="506" y="952"/>
                  </a:lnTo>
                  <a:lnTo>
                    <a:pt x="548" y="954"/>
                  </a:lnTo>
                  <a:lnTo>
                    <a:pt x="590" y="954"/>
                  </a:lnTo>
                  <a:lnTo>
                    <a:pt x="632" y="952"/>
                  </a:lnTo>
                  <a:lnTo>
                    <a:pt x="650" y="950"/>
                  </a:lnTo>
                  <a:lnTo>
                    <a:pt x="668" y="946"/>
                  </a:lnTo>
                  <a:lnTo>
                    <a:pt x="668" y="946"/>
                  </a:lnTo>
                  <a:lnTo>
                    <a:pt x="710" y="932"/>
                  </a:lnTo>
                  <a:lnTo>
                    <a:pt x="750" y="916"/>
                  </a:lnTo>
                  <a:lnTo>
                    <a:pt x="790" y="894"/>
                  </a:lnTo>
                  <a:lnTo>
                    <a:pt x="826" y="872"/>
                  </a:lnTo>
                  <a:lnTo>
                    <a:pt x="862" y="844"/>
                  </a:lnTo>
                  <a:lnTo>
                    <a:pt x="894" y="816"/>
                  </a:lnTo>
                  <a:lnTo>
                    <a:pt x="924" y="782"/>
                  </a:lnTo>
                  <a:lnTo>
                    <a:pt x="950" y="748"/>
                  </a:lnTo>
                  <a:lnTo>
                    <a:pt x="974" y="712"/>
                  </a:lnTo>
                  <a:lnTo>
                    <a:pt x="992" y="674"/>
                  </a:lnTo>
                  <a:lnTo>
                    <a:pt x="1008" y="632"/>
                  </a:lnTo>
                  <a:lnTo>
                    <a:pt x="1014" y="612"/>
                  </a:lnTo>
                  <a:lnTo>
                    <a:pt x="1018" y="590"/>
                  </a:lnTo>
                  <a:lnTo>
                    <a:pt x="1022" y="570"/>
                  </a:lnTo>
                  <a:lnTo>
                    <a:pt x="1026" y="548"/>
                  </a:lnTo>
                  <a:lnTo>
                    <a:pt x="1026" y="526"/>
                  </a:lnTo>
                  <a:lnTo>
                    <a:pt x="1026" y="504"/>
                  </a:lnTo>
                  <a:lnTo>
                    <a:pt x="1024" y="480"/>
                  </a:lnTo>
                  <a:lnTo>
                    <a:pt x="1022" y="458"/>
                  </a:lnTo>
                  <a:lnTo>
                    <a:pt x="1018" y="434"/>
                  </a:lnTo>
                  <a:lnTo>
                    <a:pt x="1012" y="412"/>
                  </a:lnTo>
                  <a:lnTo>
                    <a:pt x="1012" y="412"/>
                  </a:lnTo>
                  <a:close/>
                  <a:moveTo>
                    <a:pt x="574" y="572"/>
                  </a:moveTo>
                  <a:lnTo>
                    <a:pt x="574" y="572"/>
                  </a:lnTo>
                  <a:lnTo>
                    <a:pt x="560" y="596"/>
                  </a:lnTo>
                  <a:lnTo>
                    <a:pt x="550" y="614"/>
                  </a:lnTo>
                  <a:lnTo>
                    <a:pt x="544" y="622"/>
                  </a:lnTo>
                  <a:lnTo>
                    <a:pt x="534" y="628"/>
                  </a:lnTo>
                  <a:lnTo>
                    <a:pt x="524" y="634"/>
                  </a:lnTo>
                  <a:lnTo>
                    <a:pt x="510" y="640"/>
                  </a:lnTo>
                  <a:lnTo>
                    <a:pt x="510" y="640"/>
                  </a:lnTo>
                  <a:lnTo>
                    <a:pt x="502" y="646"/>
                  </a:lnTo>
                  <a:lnTo>
                    <a:pt x="494" y="650"/>
                  </a:lnTo>
                  <a:lnTo>
                    <a:pt x="476" y="654"/>
                  </a:lnTo>
                  <a:lnTo>
                    <a:pt x="456" y="654"/>
                  </a:lnTo>
                  <a:lnTo>
                    <a:pt x="436" y="654"/>
                  </a:lnTo>
                  <a:lnTo>
                    <a:pt x="418" y="650"/>
                  </a:lnTo>
                  <a:lnTo>
                    <a:pt x="398" y="644"/>
                  </a:lnTo>
                  <a:lnTo>
                    <a:pt x="366" y="632"/>
                  </a:lnTo>
                  <a:lnTo>
                    <a:pt x="366" y="632"/>
                  </a:lnTo>
                  <a:lnTo>
                    <a:pt x="352" y="626"/>
                  </a:lnTo>
                  <a:lnTo>
                    <a:pt x="338" y="618"/>
                  </a:lnTo>
                  <a:lnTo>
                    <a:pt x="328" y="610"/>
                  </a:lnTo>
                  <a:lnTo>
                    <a:pt x="316" y="602"/>
                  </a:lnTo>
                  <a:lnTo>
                    <a:pt x="308" y="592"/>
                  </a:lnTo>
                  <a:lnTo>
                    <a:pt x="298" y="580"/>
                  </a:lnTo>
                  <a:lnTo>
                    <a:pt x="284" y="558"/>
                  </a:lnTo>
                  <a:lnTo>
                    <a:pt x="274" y="532"/>
                  </a:lnTo>
                  <a:lnTo>
                    <a:pt x="268" y="504"/>
                  </a:lnTo>
                  <a:lnTo>
                    <a:pt x="264" y="474"/>
                  </a:lnTo>
                  <a:lnTo>
                    <a:pt x="264" y="444"/>
                  </a:lnTo>
                  <a:lnTo>
                    <a:pt x="266" y="414"/>
                  </a:lnTo>
                  <a:lnTo>
                    <a:pt x="270" y="382"/>
                  </a:lnTo>
                  <a:lnTo>
                    <a:pt x="276" y="352"/>
                  </a:lnTo>
                  <a:lnTo>
                    <a:pt x="284" y="320"/>
                  </a:lnTo>
                  <a:lnTo>
                    <a:pt x="294" y="292"/>
                  </a:lnTo>
                  <a:lnTo>
                    <a:pt x="304" y="264"/>
                  </a:lnTo>
                  <a:lnTo>
                    <a:pt x="314" y="238"/>
                  </a:lnTo>
                  <a:lnTo>
                    <a:pt x="326" y="214"/>
                  </a:lnTo>
                  <a:lnTo>
                    <a:pt x="326" y="214"/>
                  </a:lnTo>
                  <a:lnTo>
                    <a:pt x="344" y="214"/>
                  </a:lnTo>
                  <a:lnTo>
                    <a:pt x="360" y="216"/>
                  </a:lnTo>
                  <a:lnTo>
                    <a:pt x="372" y="220"/>
                  </a:lnTo>
                  <a:lnTo>
                    <a:pt x="380" y="224"/>
                  </a:lnTo>
                  <a:lnTo>
                    <a:pt x="396" y="234"/>
                  </a:lnTo>
                  <a:lnTo>
                    <a:pt x="404" y="240"/>
                  </a:lnTo>
                  <a:lnTo>
                    <a:pt x="414" y="244"/>
                  </a:lnTo>
                  <a:lnTo>
                    <a:pt x="414" y="244"/>
                  </a:lnTo>
                  <a:lnTo>
                    <a:pt x="420" y="246"/>
                  </a:lnTo>
                  <a:lnTo>
                    <a:pt x="428" y="246"/>
                  </a:lnTo>
                  <a:lnTo>
                    <a:pt x="442" y="244"/>
                  </a:lnTo>
                  <a:lnTo>
                    <a:pt x="452" y="238"/>
                  </a:lnTo>
                  <a:lnTo>
                    <a:pt x="462" y="236"/>
                  </a:lnTo>
                  <a:lnTo>
                    <a:pt x="462" y="236"/>
                  </a:lnTo>
                  <a:lnTo>
                    <a:pt x="472" y="238"/>
                  </a:lnTo>
                  <a:lnTo>
                    <a:pt x="484" y="240"/>
                  </a:lnTo>
                  <a:lnTo>
                    <a:pt x="506" y="248"/>
                  </a:lnTo>
                  <a:lnTo>
                    <a:pt x="528" y="260"/>
                  </a:lnTo>
                  <a:lnTo>
                    <a:pt x="550" y="266"/>
                  </a:lnTo>
                  <a:lnTo>
                    <a:pt x="550" y="266"/>
                  </a:lnTo>
                  <a:lnTo>
                    <a:pt x="572" y="308"/>
                  </a:lnTo>
                  <a:lnTo>
                    <a:pt x="590" y="346"/>
                  </a:lnTo>
                  <a:lnTo>
                    <a:pt x="604" y="380"/>
                  </a:lnTo>
                  <a:lnTo>
                    <a:pt x="610" y="396"/>
                  </a:lnTo>
                  <a:lnTo>
                    <a:pt x="614" y="414"/>
                  </a:lnTo>
                  <a:lnTo>
                    <a:pt x="616" y="430"/>
                  </a:lnTo>
                  <a:lnTo>
                    <a:pt x="616" y="448"/>
                  </a:lnTo>
                  <a:lnTo>
                    <a:pt x="614" y="466"/>
                  </a:lnTo>
                  <a:lnTo>
                    <a:pt x="610" y="486"/>
                  </a:lnTo>
                  <a:lnTo>
                    <a:pt x="604" y="504"/>
                  </a:lnTo>
                  <a:lnTo>
                    <a:pt x="596" y="526"/>
                  </a:lnTo>
                  <a:lnTo>
                    <a:pt x="586" y="548"/>
                  </a:lnTo>
                  <a:lnTo>
                    <a:pt x="574" y="572"/>
                  </a:lnTo>
                  <a:lnTo>
                    <a:pt x="574" y="572"/>
                  </a:lnTo>
                  <a:close/>
                </a:path>
              </a:pathLst>
            </a:custGeom>
            <a:solidFill>
              <a:srgbClr val="fc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28"/>
            <p:cNvSpPr/>
            <p:nvPr/>
          </p:nvSpPr>
          <p:spPr>
            <a:xfrm>
              <a:off x="10066320" y="6568920"/>
              <a:ext cx="2212920" cy="2759040"/>
            </a:xfrm>
            <a:custGeom>
              <a:avLst/>
              <a:gdLst>
                <a:gd name="textAreaLeft" fmla="*/ 0 w 2212920"/>
                <a:gd name="textAreaRight" fmla="*/ 2213280 w 2212920"/>
                <a:gd name="textAreaTop" fmla="*/ 0 h 2759040"/>
                <a:gd name="textAreaBottom" fmla="*/ 2759400 h 2759040"/>
              </a:gdLst>
              <a:ahLst/>
              <a:rect l="textAreaLeft" t="textAreaTop" r="textAreaRight" b="textAreaBottom"/>
              <a:pathLst>
                <a:path w="1394" h="1738">
                  <a:moveTo>
                    <a:pt x="1186" y="8"/>
                  </a:moveTo>
                  <a:lnTo>
                    <a:pt x="1186" y="8"/>
                  </a:lnTo>
                  <a:lnTo>
                    <a:pt x="1186" y="22"/>
                  </a:lnTo>
                  <a:lnTo>
                    <a:pt x="1186" y="22"/>
                  </a:lnTo>
                  <a:lnTo>
                    <a:pt x="1192" y="34"/>
                  </a:lnTo>
                  <a:lnTo>
                    <a:pt x="1196" y="44"/>
                  </a:lnTo>
                  <a:lnTo>
                    <a:pt x="1198" y="58"/>
                  </a:lnTo>
                  <a:lnTo>
                    <a:pt x="1198" y="70"/>
                  </a:lnTo>
                  <a:lnTo>
                    <a:pt x="1196" y="100"/>
                  </a:lnTo>
                  <a:lnTo>
                    <a:pt x="1188" y="130"/>
                  </a:lnTo>
                  <a:lnTo>
                    <a:pt x="1180" y="158"/>
                  </a:lnTo>
                  <a:lnTo>
                    <a:pt x="1170" y="186"/>
                  </a:lnTo>
                  <a:lnTo>
                    <a:pt x="1154" y="228"/>
                  </a:lnTo>
                  <a:lnTo>
                    <a:pt x="1154" y="228"/>
                  </a:lnTo>
                  <a:lnTo>
                    <a:pt x="1148" y="252"/>
                  </a:lnTo>
                  <a:lnTo>
                    <a:pt x="1144" y="276"/>
                  </a:lnTo>
                  <a:lnTo>
                    <a:pt x="1140" y="298"/>
                  </a:lnTo>
                  <a:lnTo>
                    <a:pt x="1136" y="310"/>
                  </a:lnTo>
                  <a:lnTo>
                    <a:pt x="1130" y="320"/>
                  </a:lnTo>
                  <a:lnTo>
                    <a:pt x="1130" y="320"/>
                  </a:lnTo>
                  <a:lnTo>
                    <a:pt x="1120" y="336"/>
                  </a:lnTo>
                  <a:lnTo>
                    <a:pt x="1110" y="352"/>
                  </a:lnTo>
                  <a:lnTo>
                    <a:pt x="1084" y="380"/>
                  </a:lnTo>
                  <a:lnTo>
                    <a:pt x="1056" y="408"/>
                  </a:lnTo>
                  <a:lnTo>
                    <a:pt x="1026" y="432"/>
                  </a:lnTo>
                  <a:lnTo>
                    <a:pt x="964" y="482"/>
                  </a:lnTo>
                  <a:lnTo>
                    <a:pt x="934" y="508"/>
                  </a:lnTo>
                  <a:lnTo>
                    <a:pt x="908" y="534"/>
                  </a:lnTo>
                  <a:lnTo>
                    <a:pt x="908" y="534"/>
                  </a:lnTo>
                  <a:lnTo>
                    <a:pt x="874" y="570"/>
                  </a:lnTo>
                  <a:lnTo>
                    <a:pt x="856" y="590"/>
                  </a:lnTo>
                  <a:lnTo>
                    <a:pt x="838" y="608"/>
                  </a:lnTo>
                  <a:lnTo>
                    <a:pt x="816" y="624"/>
                  </a:lnTo>
                  <a:lnTo>
                    <a:pt x="806" y="630"/>
                  </a:lnTo>
                  <a:lnTo>
                    <a:pt x="792" y="636"/>
                  </a:lnTo>
                  <a:lnTo>
                    <a:pt x="780" y="640"/>
                  </a:lnTo>
                  <a:lnTo>
                    <a:pt x="764" y="644"/>
                  </a:lnTo>
                  <a:lnTo>
                    <a:pt x="748" y="646"/>
                  </a:lnTo>
                  <a:lnTo>
                    <a:pt x="732" y="648"/>
                  </a:lnTo>
                  <a:lnTo>
                    <a:pt x="732" y="648"/>
                  </a:lnTo>
                  <a:lnTo>
                    <a:pt x="726" y="642"/>
                  </a:lnTo>
                  <a:lnTo>
                    <a:pt x="718" y="638"/>
                  </a:lnTo>
                  <a:lnTo>
                    <a:pt x="700" y="632"/>
                  </a:lnTo>
                  <a:lnTo>
                    <a:pt x="700" y="632"/>
                  </a:lnTo>
                  <a:lnTo>
                    <a:pt x="694" y="580"/>
                  </a:lnTo>
                  <a:lnTo>
                    <a:pt x="684" y="530"/>
                  </a:lnTo>
                  <a:lnTo>
                    <a:pt x="672" y="480"/>
                  </a:lnTo>
                  <a:lnTo>
                    <a:pt x="660" y="430"/>
                  </a:lnTo>
                  <a:lnTo>
                    <a:pt x="632" y="330"/>
                  </a:lnTo>
                  <a:lnTo>
                    <a:pt x="604" y="228"/>
                  </a:lnTo>
                  <a:lnTo>
                    <a:pt x="604" y="228"/>
                  </a:lnTo>
                  <a:lnTo>
                    <a:pt x="600" y="202"/>
                  </a:lnTo>
                  <a:lnTo>
                    <a:pt x="598" y="172"/>
                  </a:lnTo>
                  <a:lnTo>
                    <a:pt x="596" y="112"/>
                  </a:lnTo>
                  <a:lnTo>
                    <a:pt x="594" y="82"/>
                  </a:lnTo>
                  <a:lnTo>
                    <a:pt x="590" y="54"/>
                  </a:lnTo>
                  <a:lnTo>
                    <a:pt x="584" y="30"/>
                  </a:lnTo>
                  <a:lnTo>
                    <a:pt x="578" y="18"/>
                  </a:lnTo>
                  <a:lnTo>
                    <a:pt x="572" y="8"/>
                  </a:lnTo>
                  <a:lnTo>
                    <a:pt x="572" y="8"/>
                  </a:lnTo>
                  <a:lnTo>
                    <a:pt x="562" y="2"/>
                  </a:lnTo>
                  <a:lnTo>
                    <a:pt x="548" y="0"/>
                  </a:lnTo>
                  <a:lnTo>
                    <a:pt x="516" y="0"/>
                  </a:lnTo>
                  <a:lnTo>
                    <a:pt x="516" y="0"/>
                  </a:lnTo>
                  <a:lnTo>
                    <a:pt x="498" y="8"/>
                  </a:lnTo>
                  <a:lnTo>
                    <a:pt x="474" y="16"/>
                  </a:lnTo>
                  <a:lnTo>
                    <a:pt x="448" y="20"/>
                  </a:lnTo>
                  <a:lnTo>
                    <a:pt x="420" y="26"/>
                  </a:lnTo>
                  <a:lnTo>
                    <a:pt x="364" y="34"/>
                  </a:lnTo>
                  <a:lnTo>
                    <a:pt x="338" y="40"/>
                  </a:lnTo>
                  <a:lnTo>
                    <a:pt x="318" y="46"/>
                  </a:lnTo>
                  <a:lnTo>
                    <a:pt x="318" y="46"/>
                  </a:lnTo>
                  <a:lnTo>
                    <a:pt x="358" y="122"/>
                  </a:lnTo>
                  <a:lnTo>
                    <a:pt x="398" y="200"/>
                  </a:lnTo>
                  <a:lnTo>
                    <a:pt x="418" y="242"/>
                  </a:lnTo>
                  <a:lnTo>
                    <a:pt x="436" y="282"/>
                  </a:lnTo>
                  <a:lnTo>
                    <a:pt x="454" y="324"/>
                  </a:lnTo>
                  <a:lnTo>
                    <a:pt x="470" y="366"/>
                  </a:lnTo>
                  <a:lnTo>
                    <a:pt x="470" y="366"/>
                  </a:lnTo>
                  <a:lnTo>
                    <a:pt x="502" y="556"/>
                  </a:lnTo>
                  <a:lnTo>
                    <a:pt x="502" y="556"/>
                  </a:lnTo>
                  <a:lnTo>
                    <a:pt x="504" y="564"/>
                  </a:lnTo>
                  <a:lnTo>
                    <a:pt x="510" y="570"/>
                  </a:lnTo>
                  <a:lnTo>
                    <a:pt x="522" y="584"/>
                  </a:lnTo>
                  <a:lnTo>
                    <a:pt x="534" y="598"/>
                  </a:lnTo>
                  <a:lnTo>
                    <a:pt x="538" y="604"/>
                  </a:lnTo>
                  <a:lnTo>
                    <a:pt x="540" y="610"/>
                  </a:lnTo>
                  <a:lnTo>
                    <a:pt x="540" y="610"/>
                  </a:lnTo>
                  <a:lnTo>
                    <a:pt x="542" y="618"/>
                  </a:lnTo>
                  <a:lnTo>
                    <a:pt x="540" y="632"/>
                  </a:lnTo>
                  <a:lnTo>
                    <a:pt x="534" y="662"/>
                  </a:lnTo>
                  <a:lnTo>
                    <a:pt x="520" y="700"/>
                  </a:lnTo>
                  <a:lnTo>
                    <a:pt x="504" y="740"/>
                  </a:lnTo>
                  <a:lnTo>
                    <a:pt x="468" y="818"/>
                  </a:lnTo>
                  <a:lnTo>
                    <a:pt x="446" y="868"/>
                  </a:lnTo>
                  <a:lnTo>
                    <a:pt x="446" y="868"/>
                  </a:lnTo>
                  <a:lnTo>
                    <a:pt x="382" y="1004"/>
                  </a:lnTo>
                  <a:lnTo>
                    <a:pt x="350" y="1070"/>
                  </a:lnTo>
                  <a:lnTo>
                    <a:pt x="318" y="1134"/>
                  </a:lnTo>
                  <a:lnTo>
                    <a:pt x="286" y="1196"/>
                  </a:lnTo>
                  <a:lnTo>
                    <a:pt x="250" y="1258"/>
                  </a:lnTo>
                  <a:lnTo>
                    <a:pt x="214" y="1318"/>
                  </a:lnTo>
                  <a:lnTo>
                    <a:pt x="174" y="1380"/>
                  </a:lnTo>
                  <a:lnTo>
                    <a:pt x="174" y="1380"/>
                  </a:lnTo>
                  <a:lnTo>
                    <a:pt x="164" y="1392"/>
                  </a:lnTo>
                  <a:lnTo>
                    <a:pt x="154" y="1404"/>
                  </a:lnTo>
                  <a:lnTo>
                    <a:pt x="130" y="1428"/>
                  </a:lnTo>
                  <a:lnTo>
                    <a:pt x="76" y="1472"/>
                  </a:lnTo>
                  <a:lnTo>
                    <a:pt x="50" y="1496"/>
                  </a:lnTo>
                  <a:lnTo>
                    <a:pt x="38" y="1508"/>
                  </a:lnTo>
                  <a:lnTo>
                    <a:pt x="28" y="1522"/>
                  </a:lnTo>
                  <a:lnTo>
                    <a:pt x="18" y="1536"/>
                  </a:lnTo>
                  <a:lnTo>
                    <a:pt x="10" y="1552"/>
                  </a:lnTo>
                  <a:lnTo>
                    <a:pt x="4" y="1568"/>
                  </a:lnTo>
                  <a:lnTo>
                    <a:pt x="0" y="1584"/>
                  </a:lnTo>
                  <a:lnTo>
                    <a:pt x="0" y="1584"/>
                  </a:lnTo>
                  <a:lnTo>
                    <a:pt x="58" y="1616"/>
                  </a:lnTo>
                  <a:lnTo>
                    <a:pt x="90" y="1634"/>
                  </a:lnTo>
                  <a:lnTo>
                    <a:pt x="122" y="1652"/>
                  </a:lnTo>
                  <a:lnTo>
                    <a:pt x="152" y="1674"/>
                  </a:lnTo>
                  <a:lnTo>
                    <a:pt x="182" y="1694"/>
                  </a:lnTo>
                  <a:lnTo>
                    <a:pt x="208" y="1716"/>
                  </a:lnTo>
                  <a:lnTo>
                    <a:pt x="230" y="1738"/>
                  </a:lnTo>
                  <a:lnTo>
                    <a:pt x="230" y="1738"/>
                  </a:lnTo>
                  <a:lnTo>
                    <a:pt x="240" y="1734"/>
                  </a:lnTo>
                  <a:lnTo>
                    <a:pt x="246" y="1730"/>
                  </a:lnTo>
                  <a:lnTo>
                    <a:pt x="246" y="1730"/>
                  </a:lnTo>
                  <a:lnTo>
                    <a:pt x="274" y="1714"/>
                  </a:lnTo>
                  <a:lnTo>
                    <a:pt x="300" y="1696"/>
                  </a:lnTo>
                  <a:lnTo>
                    <a:pt x="328" y="1674"/>
                  </a:lnTo>
                  <a:lnTo>
                    <a:pt x="352" y="1648"/>
                  </a:lnTo>
                  <a:lnTo>
                    <a:pt x="378" y="1622"/>
                  </a:lnTo>
                  <a:lnTo>
                    <a:pt x="402" y="1592"/>
                  </a:lnTo>
                  <a:lnTo>
                    <a:pt x="424" y="1562"/>
                  </a:lnTo>
                  <a:lnTo>
                    <a:pt x="448" y="1530"/>
                  </a:lnTo>
                  <a:lnTo>
                    <a:pt x="490" y="1464"/>
                  </a:lnTo>
                  <a:lnTo>
                    <a:pt x="532" y="1398"/>
                  </a:lnTo>
                  <a:lnTo>
                    <a:pt x="570" y="1336"/>
                  </a:lnTo>
                  <a:lnTo>
                    <a:pt x="604" y="1280"/>
                  </a:lnTo>
                  <a:lnTo>
                    <a:pt x="604" y="1280"/>
                  </a:lnTo>
                  <a:lnTo>
                    <a:pt x="650" y="1214"/>
                  </a:lnTo>
                  <a:lnTo>
                    <a:pt x="698" y="1150"/>
                  </a:lnTo>
                  <a:lnTo>
                    <a:pt x="748" y="1088"/>
                  </a:lnTo>
                  <a:lnTo>
                    <a:pt x="798" y="1026"/>
                  </a:lnTo>
                  <a:lnTo>
                    <a:pt x="900" y="904"/>
                  </a:lnTo>
                  <a:lnTo>
                    <a:pt x="948" y="840"/>
                  </a:lnTo>
                  <a:lnTo>
                    <a:pt x="994" y="778"/>
                  </a:lnTo>
                  <a:lnTo>
                    <a:pt x="994" y="778"/>
                  </a:lnTo>
                  <a:lnTo>
                    <a:pt x="1028" y="726"/>
                  </a:lnTo>
                  <a:lnTo>
                    <a:pt x="1058" y="676"/>
                  </a:lnTo>
                  <a:lnTo>
                    <a:pt x="1086" y="624"/>
                  </a:lnTo>
                  <a:lnTo>
                    <a:pt x="1112" y="570"/>
                  </a:lnTo>
                  <a:lnTo>
                    <a:pt x="1166" y="464"/>
                  </a:lnTo>
                  <a:lnTo>
                    <a:pt x="1196" y="412"/>
                  </a:lnTo>
                  <a:lnTo>
                    <a:pt x="1226" y="358"/>
                  </a:lnTo>
                  <a:lnTo>
                    <a:pt x="1226" y="358"/>
                  </a:lnTo>
                  <a:lnTo>
                    <a:pt x="1272" y="284"/>
                  </a:lnTo>
                  <a:lnTo>
                    <a:pt x="1296" y="242"/>
                  </a:lnTo>
                  <a:lnTo>
                    <a:pt x="1322" y="198"/>
                  </a:lnTo>
                  <a:lnTo>
                    <a:pt x="1346" y="152"/>
                  </a:lnTo>
                  <a:lnTo>
                    <a:pt x="1366" y="106"/>
                  </a:lnTo>
                  <a:lnTo>
                    <a:pt x="1384" y="62"/>
                  </a:lnTo>
                  <a:lnTo>
                    <a:pt x="1390" y="42"/>
                  </a:lnTo>
                  <a:lnTo>
                    <a:pt x="1394" y="22"/>
                  </a:lnTo>
                  <a:lnTo>
                    <a:pt x="1394" y="22"/>
                  </a:lnTo>
                  <a:lnTo>
                    <a:pt x="1336" y="22"/>
                  </a:lnTo>
                  <a:lnTo>
                    <a:pt x="1284" y="18"/>
                  </a:lnTo>
                  <a:lnTo>
                    <a:pt x="1186" y="8"/>
                  </a:lnTo>
                  <a:lnTo>
                    <a:pt x="1186" y="8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29"/>
            <p:cNvSpPr/>
            <p:nvPr/>
          </p:nvSpPr>
          <p:spPr>
            <a:xfrm>
              <a:off x="6341760" y="6613560"/>
              <a:ext cx="1822320" cy="2762280"/>
            </a:xfrm>
            <a:custGeom>
              <a:avLst/>
              <a:gdLst>
                <a:gd name="textAreaLeft" fmla="*/ 0 w 1822320"/>
                <a:gd name="textAreaRight" fmla="*/ 1822680 w 1822320"/>
                <a:gd name="textAreaTop" fmla="*/ 0 h 2762280"/>
                <a:gd name="textAreaBottom" fmla="*/ 2762640 h 2762280"/>
              </a:gdLst>
              <a:ahLst/>
              <a:rect l="textAreaLeft" t="textAreaTop" r="textAreaRight" b="textAreaBottom"/>
              <a:pathLst>
                <a:path w="1148" h="1740">
                  <a:moveTo>
                    <a:pt x="1078" y="284"/>
                  </a:moveTo>
                  <a:lnTo>
                    <a:pt x="1078" y="284"/>
                  </a:lnTo>
                  <a:lnTo>
                    <a:pt x="1066" y="270"/>
                  </a:lnTo>
                  <a:lnTo>
                    <a:pt x="1054" y="254"/>
                  </a:lnTo>
                  <a:lnTo>
                    <a:pt x="1022" y="224"/>
                  </a:lnTo>
                  <a:lnTo>
                    <a:pt x="982" y="192"/>
                  </a:lnTo>
                  <a:lnTo>
                    <a:pt x="938" y="162"/>
                  </a:lnTo>
                  <a:lnTo>
                    <a:pt x="888" y="132"/>
                  </a:lnTo>
                  <a:lnTo>
                    <a:pt x="834" y="104"/>
                  </a:lnTo>
                  <a:lnTo>
                    <a:pt x="776" y="78"/>
                  </a:lnTo>
                  <a:lnTo>
                    <a:pt x="716" y="56"/>
                  </a:lnTo>
                  <a:lnTo>
                    <a:pt x="652" y="36"/>
                  </a:lnTo>
                  <a:lnTo>
                    <a:pt x="588" y="20"/>
                  </a:lnTo>
                  <a:lnTo>
                    <a:pt x="556" y="14"/>
                  </a:lnTo>
                  <a:lnTo>
                    <a:pt x="522" y="8"/>
                  </a:lnTo>
                  <a:lnTo>
                    <a:pt x="490" y="4"/>
                  </a:lnTo>
                  <a:lnTo>
                    <a:pt x="456" y="2"/>
                  </a:lnTo>
                  <a:lnTo>
                    <a:pt x="424" y="0"/>
                  </a:lnTo>
                  <a:lnTo>
                    <a:pt x="392" y="2"/>
                  </a:lnTo>
                  <a:lnTo>
                    <a:pt x="360" y="4"/>
                  </a:lnTo>
                  <a:lnTo>
                    <a:pt x="328" y="8"/>
                  </a:lnTo>
                  <a:lnTo>
                    <a:pt x="298" y="12"/>
                  </a:lnTo>
                  <a:lnTo>
                    <a:pt x="268" y="20"/>
                  </a:lnTo>
                  <a:lnTo>
                    <a:pt x="238" y="30"/>
                  </a:lnTo>
                  <a:lnTo>
                    <a:pt x="210" y="40"/>
                  </a:lnTo>
                  <a:lnTo>
                    <a:pt x="210" y="40"/>
                  </a:lnTo>
                  <a:lnTo>
                    <a:pt x="196" y="48"/>
                  </a:lnTo>
                  <a:lnTo>
                    <a:pt x="184" y="56"/>
                  </a:lnTo>
                  <a:lnTo>
                    <a:pt x="172" y="66"/>
                  </a:lnTo>
                  <a:lnTo>
                    <a:pt x="160" y="78"/>
                  </a:lnTo>
                  <a:lnTo>
                    <a:pt x="142" y="104"/>
                  </a:lnTo>
                  <a:lnTo>
                    <a:pt x="124" y="132"/>
                  </a:lnTo>
                  <a:lnTo>
                    <a:pt x="106" y="158"/>
                  </a:lnTo>
                  <a:lnTo>
                    <a:pt x="86" y="182"/>
                  </a:lnTo>
                  <a:lnTo>
                    <a:pt x="74" y="192"/>
                  </a:lnTo>
                  <a:lnTo>
                    <a:pt x="62" y="202"/>
                  </a:lnTo>
                  <a:lnTo>
                    <a:pt x="50" y="210"/>
                  </a:lnTo>
                  <a:lnTo>
                    <a:pt x="34" y="216"/>
                  </a:lnTo>
                  <a:lnTo>
                    <a:pt x="34" y="216"/>
                  </a:lnTo>
                  <a:lnTo>
                    <a:pt x="34" y="232"/>
                  </a:lnTo>
                  <a:lnTo>
                    <a:pt x="30" y="246"/>
                  </a:lnTo>
                  <a:lnTo>
                    <a:pt x="22" y="272"/>
                  </a:lnTo>
                  <a:lnTo>
                    <a:pt x="20" y="284"/>
                  </a:lnTo>
                  <a:lnTo>
                    <a:pt x="16" y="296"/>
                  </a:lnTo>
                  <a:lnTo>
                    <a:pt x="16" y="310"/>
                  </a:lnTo>
                  <a:lnTo>
                    <a:pt x="18" y="322"/>
                  </a:lnTo>
                  <a:lnTo>
                    <a:pt x="18" y="322"/>
                  </a:lnTo>
                  <a:lnTo>
                    <a:pt x="26" y="352"/>
                  </a:lnTo>
                  <a:lnTo>
                    <a:pt x="34" y="390"/>
                  </a:lnTo>
                  <a:lnTo>
                    <a:pt x="36" y="412"/>
                  </a:lnTo>
                  <a:lnTo>
                    <a:pt x="38" y="432"/>
                  </a:lnTo>
                  <a:lnTo>
                    <a:pt x="38" y="454"/>
                  </a:lnTo>
                  <a:lnTo>
                    <a:pt x="34" y="474"/>
                  </a:lnTo>
                  <a:lnTo>
                    <a:pt x="34" y="474"/>
                  </a:lnTo>
                  <a:lnTo>
                    <a:pt x="30" y="498"/>
                  </a:lnTo>
                  <a:lnTo>
                    <a:pt x="28" y="526"/>
                  </a:lnTo>
                  <a:lnTo>
                    <a:pt x="24" y="592"/>
                  </a:lnTo>
                  <a:lnTo>
                    <a:pt x="24" y="666"/>
                  </a:lnTo>
                  <a:lnTo>
                    <a:pt x="24" y="750"/>
                  </a:lnTo>
                  <a:lnTo>
                    <a:pt x="28" y="928"/>
                  </a:lnTo>
                  <a:lnTo>
                    <a:pt x="28" y="1016"/>
                  </a:lnTo>
                  <a:lnTo>
                    <a:pt x="26" y="1100"/>
                  </a:lnTo>
                  <a:lnTo>
                    <a:pt x="26" y="1100"/>
                  </a:lnTo>
                  <a:lnTo>
                    <a:pt x="24" y="1172"/>
                  </a:lnTo>
                  <a:lnTo>
                    <a:pt x="18" y="1250"/>
                  </a:lnTo>
                  <a:lnTo>
                    <a:pt x="8" y="1408"/>
                  </a:lnTo>
                  <a:lnTo>
                    <a:pt x="4" y="1486"/>
                  </a:lnTo>
                  <a:lnTo>
                    <a:pt x="2" y="1564"/>
                  </a:lnTo>
                  <a:lnTo>
                    <a:pt x="0" y="1636"/>
                  </a:lnTo>
                  <a:lnTo>
                    <a:pt x="2" y="1702"/>
                  </a:lnTo>
                  <a:lnTo>
                    <a:pt x="2" y="1702"/>
                  </a:lnTo>
                  <a:lnTo>
                    <a:pt x="40" y="1718"/>
                  </a:lnTo>
                  <a:lnTo>
                    <a:pt x="70" y="1726"/>
                  </a:lnTo>
                  <a:lnTo>
                    <a:pt x="98" y="1732"/>
                  </a:lnTo>
                  <a:lnTo>
                    <a:pt x="126" y="1732"/>
                  </a:lnTo>
                  <a:lnTo>
                    <a:pt x="184" y="1730"/>
                  </a:lnTo>
                  <a:lnTo>
                    <a:pt x="220" y="1730"/>
                  </a:lnTo>
                  <a:lnTo>
                    <a:pt x="266" y="1732"/>
                  </a:lnTo>
                  <a:lnTo>
                    <a:pt x="266" y="1732"/>
                  </a:lnTo>
                  <a:lnTo>
                    <a:pt x="292" y="1736"/>
                  </a:lnTo>
                  <a:lnTo>
                    <a:pt x="326" y="1740"/>
                  </a:lnTo>
                  <a:lnTo>
                    <a:pt x="342" y="1740"/>
                  </a:lnTo>
                  <a:lnTo>
                    <a:pt x="358" y="1740"/>
                  </a:lnTo>
                  <a:lnTo>
                    <a:pt x="372" y="1738"/>
                  </a:lnTo>
                  <a:lnTo>
                    <a:pt x="386" y="1732"/>
                  </a:lnTo>
                  <a:lnTo>
                    <a:pt x="386" y="1732"/>
                  </a:lnTo>
                  <a:lnTo>
                    <a:pt x="402" y="1732"/>
                  </a:lnTo>
                  <a:lnTo>
                    <a:pt x="402" y="1732"/>
                  </a:lnTo>
                  <a:lnTo>
                    <a:pt x="402" y="1694"/>
                  </a:lnTo>
                  <a:lnTo>
                    <a:pt x="406" y="1658"/>
                  </a:lnTo>
                  <a:lnTo>
                    <a:pt x="412" y="1622"/>
                  </a:lnTo>
                  <a:lnTo>
                    <a:pt x="418" y="1588"/>
                  </a:lnTo>
                  <a:lnTo>
                    <a:pt x="432" y="1522"/>
                  </a:lnTo>
                  <a:lnTo>
                    <a:pt x="448" y="1458"/>
                  </a:lnTo>
                  <a:lnTo>
                    <a:pt x="448" y="1458"/>
                  </a:lnTo>
                  <a:lnTo>
                    <a:pt x="460" y="1404"/>
                  </a:lnTo>
                  <a:lnTo>
                    <a:pt x="468" y="1348"/>
                  </a:lnTo>
                  <a:lnTo>
                    <a:pt x="472" y="1294"/>
                  </a:lnTo>
                  <a:lnTo>
                    <a:pt x="474" y="1238"/>
                  </a:lnTo>
                  <a:lnTo>
                    <a:pt x="476" y="1182"/>
                  </a:lnTo>
                  <a:lnTo>
                    <a:pt x="476" y="1126"/>
                  </a:lnTo>
                  <a:lnTo>
                    <a:pt x="472" y="1016"/>
                  </a:lnTo>
                  <a:lnTo>
                    <a:pt x="472" y="1016"/>
                  </a:lnTo>
                  <a:lnTo>
                    <a:pt x="510" y="1022"/>
                  </a:lnTo>
                  <a:lnTo>
                    <a:pt x="550" y="1032"/>
                  </a:lnTo>
                  <a:lnTo>
                    <a:pt x="590" y="1044"/>
                  </a:lnTo>
                  <a:lnTo>
                    <a:pt x="632" y="1054"/>
                  </a:lnTo>
                  <a:lnTo>
                    <a:pt x="674" y="1062"/>
                  </a:lnTo>
                  <a:lnTo>
                    <a:pt x="696" y="1064"/>
                  </a:lnTo>
                  <a:lnTo>
                    <a:pt x="718" y="1066"/>
                  </a:lnTo>
                  <a:lnTo>
                    <a:pt x="740" y="1066"/>
                  </a:lnTo>
                  <a:lnTo>
                    <a:pt x="762" y="1064"/>
                  </a:lnTo>
                  <a:lnTo>
                    <a:pt x="786" y="1060"/>
                  </a:lnTo>
                  <a:lnTo>
                    <a:pt x="808" y="1054"/>
                  </a:lnTo>
                  <a:lnTo>
                    <a:pt x="808" y="1054"/>
                  </a:lnTo>
                  <a:lnTo>
                    <a:pt x="846" y="1040"/>
                  </a:lnTo>
                  <a:lnTo>
                    <a:pt x="884" y="1022"/>
                  </a:lnTo>
                  <a:lnTo>
                    <a:pt x="920" y="1002"/>
                  </a:lnTo>
                  <a:lnTo>
                    <a:pt x="956" y="978"/>
                  </a:lnTo>
                  <a:lnTo>
                    <a:pt x="988" y="950"/>
                  </a:lnTo>
                  <a:lnTo>
                    <a:pt x="1020" y="918"/>
                  </a:lnTo>
                  <a:lnTo>
                    <a:pt x="1048" y="884"/>
                  </a:lnTo>
                  <a:lnTo>
                    <a:pt x="1074" y="848"/>
                  </a:lnTo>
                  <a:lnTo>
                    <a:pt x="1096" y="808"/>
                  </a:lnTo>
                  <a:lnTo>
                    <a:pt x="1116" y="766"/>
                  </a:lnTo>
                  <a:lnTo>
                    <a:pt x="1130" y="722"/>
                  </a:lnTo>
                  <a:lnTo>
                    <a:pt x="1136" y="698"/>
                  </a:lnTo>
                  <a:lnTo>
                    <a:pt x="1140" y="676"/>
                  </a:lnTo>
                  <a:lnTo>
                    <a:pt x="1144" y="650"/>
                  </a:lnTo>
                  <a:lnTo>
                    <a:pt x="1146" y="626"/>
                  </a:lnTo>
                  <a:lnTo>
                    <a:pt x="1148" y="600"/>
                  </a:lnTo>
                  <a:lnTo>
                    <a:pt x="1148" y="576"/>
                  </a:lnTo>
                  <a:lnTo>
                    <a:pt x="1146" y="548"/>
                  </a:lnTo>
                  <a:lnTo>
                    <a:pt x="1144" y="522"/>
                  </a:lnTo>
                  <a:lnTo>
                    <a:pt x="1140" y="494"/>
                  </a:lnTo>
                  <a:lnTo>
                    <a:pt x="1134" y="468"/>
                  </a:lnTo>
                  <a:lnTo>
                    <a:pt x="1134" y="468"/>
                  </a:lnTo>
                  <a:lnTo>
                    <a:pt x="1124" y="412"/>
                  </a:lnTo>
                  <a:lnTo>
                    <a:pt x="1114" y="366"/>
                  </a:lnTo>
                  <a:lnTo>
                    <a:pt x="1108" y="346"/>
                  </a:lnTo>
                  <a:lnTo>
                    <a:pt x="1102" y="326"/>
                  </a:lnTo>
                  <a:lnTo>
                    <a:pt x="1092" y="304"/>
                  </a:lnTo>
                  <a:lnTo>
                    <a:pt x="1078" y="284"/>
                  </a:lnTo>
                  <a:lnTo>
                    <a:pt x="1078" y="284"/>
                  </a:lnTo>
                  <a:close/>
                  <a:moveTo>
                    <a:pt x="926" y="872"/>
                  </a:moveTo>
                  <a:lnTo>
                    <a:pt x="926" y="872"/>
                  </a:lnTo>
                  <a:lnTo>
                    <a:pt x="908" y="888"/>
                  </a:lnTo>
                  <a:lnTo>
                    <a:pt x="886" y="904"/>
                  </a:lnTo>
                  <a:lnTo>
                    <a:pt x="860" y="920"/>
                  </a:lnTo>
                  <a:lnTo>
                    <a:pt x="834" y="936"/>
                  </a:lnTo>
                  <a:lnTo>
                    <a:pt x="806" y="950"/>
                  </a:lnTo>
                  <a:lnTo>
                    <a:pt x="776" y="962"/>
                  </a:lnTo>
                  <a:lnTo>
                    <a:pt x="748" y="972"/>
                  </a:lnTo>
                  <a:lnTo>
                    <a:pt x="720" y="978"/>
                  </a:lnTo>
                  <a:lnTo>
                    <a:pt x="720" y="978"/>
                  </a:lnTo>
                  <a:lnTo>
                    <a:pt x="702" y="980"/>
                  </a:lnTo>
                  <a:lnTo>
                    <a:pt x="682" y="980"/>
                  </a:lnTo>
                  <a:lnTo>
                    <a:pt x="664" y="980"/>
                  </a:lnTo>
                  <a:lnTo>
                    <a:pt x="646" y="978"/>
                  </a:lnTo>
                  <a:lnTo>
                    <a:pt x="608" y="970"/>
                  </a:lnTo>
                  <a:lnTo>
                    <a:pt x="572" y="960"/>
                  </a:lnTo>
                  <a:lnTo>
                    <a:pt x="502" y="934"/>
                  </a:lnTo>
                  <a:lnTo>
                    <a:pt x="470" y="924"/>
                  </a:lnTo>
                  <a:lnTo>
                    <a:pt x="440" y="916"/>
                  </a:lnTo>
                  <a:lnTo>
                    <a:pt x="440" y="916"/>
                  </a:lnTo>
                  <a:lnTo>
                    <a:pt x="430" y="916"/>
                  </a:lnTo>
                  <a:lnTo>
                    <a:pt x="422" y="916"/>
                  </a:lnTo>
                  <a:lnTo>
                    <a:pt x="414" y="918"/>
                  </a:lnTo>
                  <a:lnTo>
                    <a:pt x="406" y="920"/>
                  </a:lnTo>
                  <a:lnTo>
                    <a:pt x="392" y="926"/>
                  </a:lnTo>
                  <a:lnTo>
                    <a:pt x="378" y="932"/>
                  </a:lnTo>
                  <a:lnTo>
                    <a:pt x="378" y="932"/>
                  </a:lnTo>
                  <a:lnTo>
                    <a:pt x="378" y="976"/>
                  </a:lnTo>
                  <a:lnTo>
                    <a:pt x="380" y="1018"/>
                  </a:lnTo>
                  <a:lnTo>
                    <a:pt x="386" y="1104"/>
                  </a:lnTo>
                  <a:lnTo>
                    <a:pt x="388" y="1146"/>
                  </a:lnTo>
                  <a:lnTo>
                    <a:pt x="388" y="1188"/>
                  </a:lnTo>
                  <a:lnTo>
                    <a:pt x="384" y="1228"/>
                  </a:lnTo>
                  <a:lnTo>
                    <a:pt x="378" y="1268"/>
                  </a:lnTo>
                  <a:lnTo>
                    <a:pt x="378" y="1268"/>
                  </a:lnTo>
                  <a:lnTo>
                    <a:pt x="372" y="1290"/>
                  </a:lnTo>
                  <a:lnTo>
                    <a:pt x="370" y="1314"/>
                  </a:lnTo>
                  <a:lnTo>
                    <a:pt x="364" y="1364"/>
                  </a:lnTo>
                  <a:lnTo>
                    <a:pt x="356" y="1416"/>
                  </a:lnTo>
                  <a:lnTo>
                    <a:pt x="352" y="1440"/>
                  </a:lnTo>
                  <a:lnTo>
                    <a:pt x="346" y="1466"/>
                  </a:lnTo>
                  <a:lnTo>
                    <a:pt x="346" y="1466"/>
                  </a:lnTo>
                  <a:lnTo>
                    <a:pt x="332" y="1510"/>
                  </a:lnTo>
                  <a:lnTo>
                    <a:pt x="320" y="1556"/>
                  </a:lnTo>
                  <a:lnTo>
                    <a:pt x="314" y="1580"/>
                  </a:lnTo>
                  <a:lnTo>
                    <a:pt x="310" y="1604"/>
                  </a:lnTo>
                  <a:lnTo>
                    <a:pt x="306" y="1630"/>
                  </a:lnTo>
                  <a:lnTo>
                    <a:pt x="306" y="1656"/>
                  </a:lnTo>
                  <a:lnTo>
                    <a:pt x="306" y="1656"/>
                  </a:lnTo>
                  <a:lnTo>
                    <a:pt x="298" y="1656"/>
                  </a:lnTo>
                  <a:lnTo>
                    <a:pt x="298" y="1656"/>
                  </a:lnTo>
                  <a:lnTo>
                    <a:pt x="298" y="1664"/>
                  </a:lnTo>
                  <a:lnTo>
                    <a:pt x="298" y="1664"/>
                  </a:lnTo>
                  <a:lnTo>
                    <a:pt x="252" y="1656"/>
                  </a:lnTo>
                  <a:lnTo>
                    <a:pt x="240" y="1656"/>
                  </a:lnTo>
                  <a:lnTo>
                    <a:pt x="230" y="1656"/>
                  </a:lnTo>
                  <a:lnTo>
                    <a:pt x="220" y="1660"/>
                  </a:lnTo>
                  <a:lnTo>
                    <a:pt x="210" y="1664"/>
                  </a:lnTo>
                  <a:lnTo>
                    <a:pt x="210" y="1664"/>
                  </a:lnTo>
                  <a:lnTo>
                    <a:pt x="98" y="1664"/>
                  </a:lnTo>
                  <a:lnTo>
                    <a:pt x="98" y="1664"/>
                  </a:lnTo>
                  <a:lnTo>
                    <a:pt x="104" y="1646"/>
                  </a:lnTo>
                  <a:lnTo>
                    <a:pt x="108" y="1626"/>
                  </a:lnTo>
                  <a:lnTo>
                    <a:pt x="116" y="1584"/>
                  </a:lnTo>
                  <a:lnTo>
                    <a:pt x="118" y="1540"/>
                  </a:lnTo>
                  <a:lnTo>
                    <a:pt x="120" y="1492"/>
                  </a:lnTo>
                  <a:lnTo>
                    <a:pt x="116" y="1398"/>
                  </a:lnTo>
                  <a:lnTo>
                    <a:pt x="114" y="1306"/>
                  </a:lnTo>
                  <a:lnTo>
                    <a:pt x="114" y="1306"/>
                  </a:lnTo>
                  <a:lnTo>
                    <a:pt x="114" y="1148"/>
                  </a:lnTo>
                  <a:lnTo>
                    <a:pt x="118" y="986"/>
                  </a:lnTo>
                  <a:lnTo>
                    <a:pt x="122" y="834"/>
                  </a:lnTo>
                  <a:lnTo>
                    <a:pt x="126" y="766"/>
                  </a:lnTo>
                  <a:lnTo>
                    <a:pt x="130" y="704"/>
                  </a:lnTo>
                  <a:lnTo>
                    <a:pt x="130" y="704"/>
                  </a:lnTo>
                  <a:lnTo>
                    <a:pt x="130" y="308"/>
                  </a:lnTo>
                  <a:lnTo>
                    <a:pt x="130" y="308"/>
                  </a:lnTo>
                  <a:lnTo>
                    <a:pt x="140" y="288"/>
                  </a:lnTo>
                  <a:lnTo>
                    <a:pt x="154" y="264"/>
                  </a:lnTo>
                  <a:lnTo>
                    <a:pt x="192" y="208"/>
                  </a:lnTo>
                  <a:lnTo>
                    <a:pt x="212" y="182"/>
                  </a:lnTo>
                  <a:lnTo>
                    <a:pt x="232" y="156"/>
                  </a:lnTo>
                  <a:lnTo>
                    <a:pt x="250" y="136"/>
                  </a:lnTo>
                  <a:lnTo>
                    <a:pt x="266" y="124"/>
                  </a:lnTo>
                  <a:lnTo>
                    <a:pt x="266" y="124"/>
                  </a:lnTo>
                  <a:lnTo>
                    <a:pt x="278" y="118"/>
                  </a:lnTo>
                  <a:lnTo>
                    <a:pt x="290" y="114"/>
                  </a:lnTo>
                  <a:lnTo>
                    <a:pt x="318" y="108"/>
                  </a:lnTo>
                  <a:lnTo>
                    <a:pt x="344" y="104"/>
                  </a:lnTo>
                  <a:lnTo>
                    <a:pt x="358" y="100"/>
                  </a:lnTo>
                  <a:lnTo>
                    <a:pt x="370" y="94"/>
                  </a:lnTo>
                  <a:lnTo>
                    <a:pt x="370" y="94"/>
                  </a:lnTo>
                  <a:lnTo>
                    <a:pt x="568" y="94"/>
                  </a:lnTo>
                  <a:lnTo>
                    <a:pt x="568" y="94"/>
                  </a:lnTo>
                  <a:lnTo>
                    <a:pt x="628" y="110"/>
                  </a:lnTo>
                  <a:lnTo>
                    <a:pt x="692" y="130"/>
                  </a:lnTo>
                  <a:lnTo>
                    <a:pt x="758" y="156"/>
                  </a:lnTo>
                  <a:lnTo>
                    <a:pt x="790" y="170"/>
                  </a:lnTo>
                  <a:lnTo>
                    <a:pt x="820" y="186"/>
                  </a:lnTo>
                  <a:lnTo>
                    <a:pt x="850" y="202"/>
                  </a:lnTo>
                  <a:lnTo>
                    <a:pt x="880" y="218"/>
                  </a:lnTo>
                  <a:lnTo>
                    <a:pt x="908" y="236"/>
                  </a:lnTo>
                  <a:lnTo>
                    <a:pt x="932" y="256"/>
                  </a:lnTo>
                  <a:lnTo>
                    <a:pt x="956" y="276"/>
                  </a:lnTo>
                  <a:lnTo>
                    <a:pt x="976" y="296"/>
                  </a:lnTo>
                  <a:lnTo>
                    <a:pt x="992" y="316"/>
                  </a:lnTo>
                  <a:lnTo>
                    <a:pt x="1006" y="338"/>
                  </a:lnTo>
                  <a:lnTo>
                    <a:pt x="1006" y="338"/>
                  </a:lnTo>
                  <a:lnTo>
                    <a:pt x="1022" y="368"/>
                  </a:lnTo>
                  <a:lnTo>
                    <a:pt x="1032" y="402"/>
                  </a:lnTo>
                  <a:lnTo>
                    <a:pt x="1040" y="438"/>
                  </a:lnTo>
                  <a:lnTo>
                    <a:pt x="1046" y="474"/>
                  </a:lnTo>
                  <a:lnTo>
                    <a:pt x="1048" y="512"/>
                  </a:lnTo>
                  <a:lnTo>
                    <a:pt x="1046" y="550"/>
                  </a:lnTo>
                  <a:lnTo>
                    <a:pt x="1042" y="590"/>
                  </a:lnTo>
                  <a:lnTo>
                    <a:pt x="1038" y="628"/>
                  </a:lnTo>
                  <a:lnTo>
                    <a:pt x="1030" y="666"/>
                  </a:lnTo>
                  <a:lnTo>
                    <a:pt x="1020" y="702"/>
                  </a:lnTo>
                  <a:lnTo>
                    <a:pt x="1008" y="736"/>
                  </a:lnTo>
                  <a:lnTo>
                    <a:pt x="994" y="770"/>
                  </a:lnTo>
                  <a:lnTo>
                    <a:pt x="978" y="800"/>
                  </a:lnTo>
                  <a:lnTo>
                    <a:pt x="962" y="828"/>
                  </a:lnTo>
                  <a:lnTo>
                    <a:pt x="946" y="852"/>
                  </a:lnTo>
                  <a:lnTo>
                    <a:pt x="926" y="872"/>
                  </a:lnTo>
                  <a:lnTo>
                    <a:pt x="926" y="8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30"/>
            <p:cNvSpPr/>
            <p:nvPr/>
          </p:nvSpPr>
          <p:spPr>
            <a:xfrm>
              <a:off x="6497280" y="6762600"/>
              <a:ext cx="1508040" cy="2492280"/>
            </a:xfrm>
            <a:custGeom>
              <a:avLst/>
              <a:gdLst>
                <a:gd name="textAreaLeft" fmla="*/ 0 w 1508040"/>
                <a:gd name="textAreaRight" fmla="*/ 1508400 w 1508040"/>
                <a:gd name="textAreaTop" fmla="*/ 0 h 2492280"/>
                <a:gd name="textAreaBottom" fmla="*/ 2492640 h 2492280"/>
              </a:gdLst>
              <a:ahLst/>
              <a:rect l="textAreaLeft" t="textAreaTop" r="textAreaRight" b="textAreaBottom"/>
              <a:pathLst>
                <a:path w="950" h="1570">
                  <a:moveTo>
                    <a:pt x="470" y="0"/>
                  </a:moveTo>
                  <a:lnTo>
                    <a:pt x="470" y="0"/>
                  </a:lnTo>
                  <a:lnTo>
                    <a:pt x="272" y="0"/>
                  </a:lnTo>
                  <a:lnTo>
                    <a:pt x="272" y="0"/>
                  </a:lnTo>
                  <a:lnTo>
                    <a:pt x="260" y="6"/>
                  </a:lnTo>
                  <a:lnTo>
                    <a:pt x="246" y="10"/>
                  </a:lnTo>
                  <a:lnTo>
                    <a:pt x="220" y="14"/>
                  </a:lnTo>
                  <a:lnTo>
                    <a:pt x="192" y="20"/>
                  </a:lnTo>
                  <a:lnTo>
                    <a:pt x="180" y="24"/>
                  </a:lnTo>
                  <a:lnTo>
                    <a:pt x="168" y="30"/>
                  </a:lnTo>
                  <a:lnTo>
                    <a:pt x="168" y="30"/>
                  </a:lnTo>
                  <a:lnTo>
                    <a:pt x="152" y="42"/>
                  </a:lnTo>
                  <a:lnTo>
                    <a:pt x="134" y="62"/>
                  </a:lnTo>
                  <a:lnTo>
                    <a:pt x="114" y="88"/>
                  </a:lnTo>
                  <a:lnTo>
                    <a:pt x="94" y="114"/>
                  </a:lnTo>
                  <a:lnTo>
                    <a:pt x="56" y="170"/>
                  </a:lnTo>
                  <a:lnTo>
                    <a:pt x="42" y="194"/>
                  </a:lnTo>
                  <a:lnTo>
                    <a:pt x="32" y="214"/>
                  </a:lnTo>
                  <a:lnTo>
                    <a:pt x="32" y="214"/>
                  </a:lnTo>
                  <a:lnTo>
                    <a:pt x="32" y="610"/>
                  </a:lnTo>
                  <a:lnTo>
                    <a:pt x="32" y="610"/>
                  </a:lnTo>
                  <a:lnTo>
                    <a:pt x="28" y="672"/>
                  </a:lnTo>
                  <a:lnTo>
                    <a:pt x="24" y="740"/>
                  </a:lnTo>
                  <a:lnTo>
                    <a:pt x="20" y="892"/>
                  </a:lnTo>
                  <a:lnTo>
                    <a:pt x="16" y="1054"/>
                  </a:lnTo>
                  <a:lnTo>
                    <a:pt x="16" y="1212"/>
                  </a:lnTo>
                  <a:lnTo>
                    <a:pt x="16" y="1212"/>
                  </a:lnTo>
                  <a:lnTo>
                    <a:pt x="18" y="1304"/>
                  </a:lnTo>
                  <a:lnTo>
                    <a:pt x="22" y="1398"/>
                  </a:lnTo>
                  <a:lnTo>
                    <a:pt x="20" y="1446"/>
                  </a:lnTo>
                  <a:lnTo>
                    <a:pt x="18" y="1490"/>
                  </a:lnTo>
                  <a:lnTo>
                    <a:pt x="10" y="1532"/>
                  </a:lnTo>
                  <a:lnTo>
                    <a:pt x="6" y="1552"/>
                  </a:lnTo>
                  <a:lnTo>
                    <a:pt x="0" y="1570"/>
                  </a:lnTo>
                  <a:lnTo>
                    <a:pt x="0" y="1570"/>
                  </a:lnTo>
                  <a:lnTo>
                    <a:pt x="112" y="1570"/>
                  </a:lnTo>
                  <a:lnTo>
                    <a:pt x="112" y="1570"/>
                  </a:lnTo>
                  <a:lnTo>
                    <a:pt x="122" y="1566"/>
                  </a:lnTo>
                  <a:lnTo>
                    <a:pt x="132" y="1562"/>
                  </a:lnTo>
                  <a:lnTo>
                    <a:pt x="142" y="1562"/>
                  </a:lnTo>
                  <a:lnTo>
                    <a:pt x="154" y="1562"/>
                  </a:lnTo>
                  <a:lnTo>
                    <a:pt x="200" y="1570"/>
                  </a:lnTo>
                  <a:lnTo>
                    <a:pt x="200" y="1570"/>
                  </a:lnTo>
                  <a:lnTo>
                    <a:pt x="200" y="1562"/>
                  </a:lnTo>
                  <a:lnTo>
                    <a:pt x="200" y="1562"/>
                  </a:lnTo>
                  <a:lnTo>
                    <a:pt x="208" y="1562"/>
                  </a:lnTo>
                  <a:lnTo>
                    <a:pt x="208" y="1562"/>
                  </a:lnTo>
                  <a:lnTo>
                    <a:pt x="208" y="1536"/>
                  </a:lnTo>
                  <a:lnTo>
                    <a:pt x="212" y="1510"/>
                  </a:lnTo>
                  <a:lnTo>
                    <a:pt x="216" y="1486"/>
                  </a:lnTo>
                  <a:lnTo>
                    <a:pt x="222" y="1462"/>
                  </a:lnTo>
                  <a:lnTo>
                    <a:pt x="234" y="1416"/>
                  </a:lnTo>
                  <a:lnTo>
                    <a:pt x="248" y="1372"/>
                  </a:lnTo>
                  <a:lnTo>
                    <a:pt x="248" y="1372"/>
                  </a:lnTo>
                  <a:lnTo>
                    <a:pt x="254" y="1346"/>
                  </a:lnTo>
                  <a:lnTo>
                    <a:pt x="258" y="1322"/>
                  </a:lnTo>
                  <a:lnTo>
                    <a:pt x="266" y="1270"/>
                  </a:lnTo>
                  <a:lnTo>
                    <a:pt x="272" y="1220"/>
                  </a:lnTo>
                  <a:lnTo>
                    <a:pt x="274" y="1196"/>
                  </a:lnTo>
                  <a:lnTo>
                    <a:pt x="280" y="1174"/>
                  </a:lnTo>
                  <a:lnTo>
                    <a:pt x="280" y="1174"/>
                  </a:lnTo>
                  <a:lnTo>
                    <a:pt x="286" y="1134"/>
                  </a:lnTo>
                  <a:lnTo>
                    <a:pt x="290" y="1094"/>
                  </a:lnTo>
                  <a:lnTo>
                    <a:pt x="290" y="1052"/>
                  </a:lnTo>
                  <a:lnTo>
                    <a:pt x="288" y="1010"/>
                  </a:lnTo>
                  <a:lnTo>
                    <a:pt x="282" y="924"/>
                  </a:lnTo>
                  <a:lnTo>
                    <a:pt x="280" y="882"/>
                  </a:lnTo>
                  <a:lnTo>
                    <a:pt x="280" y="838"/>
                  </a:lnTo>
                  <a:lnTo>
                    <a:pt x="280" y="838"/>
                  </a:lnTo>
                  <a:lnTo>
                    <a:pt x="294" y="832"/>
                  </a:lnTo>
                  <a:lnTo>
                    <a:pt x="308" y="826"/>
                  </a:lnTo>
                  <a:lnTo>
                    <a:pt x="316" y="824"/>
                  </a:lnTo>
                  <a:lnTo>
                    <a:pt x="324" y="822"/>
                  </a:lnTo>
                  <a:lnTo>
                    <a:pt x="332" y="822"/>
                  </a:lnTo>
                  <a:lnTo>
                    <a:pt x="342" y="822"/>
                  </a:lnTo>
                  <a:lnTo>
                    <a:pt x="342" y="822"/>
                  </a:lnTo>
                  <a:lnTo>
                    <a:pt x="372" y="830"/>
                  </a:lnTo>
                  <a:lnTo>
                    <a:pt x="404" y="840"/>
                  </a:lnTo>
                  <a:lnTo>
                    <a:pt x="474" y="866"/>
                  </a:lnTo>
                  <a:lnTo>
                    <a:pt x="510" y="876"/>
                  </a:lnTo>
                  <a:lnTo>
                    <a:pt x="548" y="884"/>
                  </a:lnTo>
                  <a:lnTo>
                    <a:pt x="566" y="886"/>
                  </a:lnTo>
                  <a:lnTo>
                    <a:pt x="584" y="886"/>
                  </a:lnTo>
                  <a:lnTo>
                    <a:pt x="604" y="886"/>
                  </a:lnTo>
                  <a:lnTo>
                    <a:pt x="622" y="884"/>
                  </a:lnTo>
                  <a:lnTo>
                    <a:pt x="622" y="884"/>
                  </a:lnTo>
                  <a:lnTo>
                    <a:pt x="650" y="878"/>
                  </a:lnTo>
                  <a:lnTo>
                    <a:pt x="678" y="868"/>
                  </a:lnTo>
                  <a:lnTo>
                    <a:pt x="708" y="856"/>
                  </a:lnTo>
                  <a:lnTo>
                    <a:pt x="736" y="842"/>
                  </a:lnTo>
                  <a:lnTo>
                    <a:pt x="762" y="826"/>
                  </a:lnTo>
                  <a:lnTo>
                    <a:pt x="788" y="810"/>
                  </a:lnTo>
                  <a:lnTo>
                    <a:pt x="810" y="794"/>
                  </a:lnTo>
                  <a:lnTo>
                    <a:pt x="828" y="778"/>
                  </a:lnTo>
                  <a:lnTo>
                    <a:pt x="828" y="778"/>
                  </a:lnTo>
                  <a:lnTo>
                    <a:pt x="848" y="758"/>
                  </a:lnTo>
                  <a:lnTo>
                    <a:pt x="864" y="734"/>
                  </a:lnTo>
                  <a:lnTo>
                    <a:pt x="880" y="706"/>
                  </a:lnTo>
                  <a:lnTo>
                    <a:pt x="896" y="676"/>
                  </a:lnTo>
                  <a:lnTo>
                    <a:pt x="910" y="642"/>
                  </a:lnTo>
                  <a:lnTo>
                    <a:pt x="922" y="608"/>
                  </a:lnTo>
                  <a:lnTo>
                    <a:pt x="932" y="572"/>
                  </a:lnTo>
                  <a:lnTo>
                    <a:pt x="940" y="534"/>
                  </a:lnTo>
                  <a:lnTo>
                    <a:pt x="944" y="496"/>
                  </a:lnTo>
                  <a:lnTo>
                    <a:pt x="948" y="456"/>
                  </a:lnTo>
                  <a:lnTo>
                    <a:pt x="950" y="418"/>
                  </a:lnTo>
                  <a:lnTo>
                    <a:pt x="948" y="380"/>
                  </a:lnTo>
                  <a:lnTo>
                    <a:pt x="942" y="344"/>
                  </a:lnTo>
                  <a:lnTo>
                    <a:pt x="934" y="308"/>
                  </a:lnTo>
                  <a:lnTo>
                    <a:pt x="924" y="274"/>
                  </a:lnTo>
                  <a:lnTo>
                    <a:pt x="908" y="244"/>
                  </a:lnTo>
                  <a:lnTo>
                    <a:pt x="908" y="244"/>
                  </a:lnTo>
                  <a:lnTo>
                    <a:pt x="894" y="222"/>
                  </a:lnTo>
                  <a:lnTo>
                    <a:pt x="878" y="202"/>
                  </a:lnTo>
                  <a:lnTo>
                    <a:pt x="858" y="182"/>
                  </a:lnTo>
                  <a:lnTo>
                    <a:pt x="834" y="162"/>
                  </a:lnTo>
                  <a:lnTo>
                    <a:pt x="810" y="142"/>
                  </a:lnTo>
                  <a:lnTo>
                    <a:pt x="782" y="124"/>
                  </a:lnTo>
                  <a:lnTo>
                    <a:pt x="752" y="108"/>
                  </a:lnTo>
                  <a:lnTo>
                    <a:pt x="722" y="92"/>
                  </a:lnTo>
                  <a:lnTo>
                    <a:pt x="692" y="76"/>
                  </a:lnTo>
                  <a:lnTo>
                    <a:pt x="660" y="62"/>
                  </a:lnTo>
                  <a:lnTo>
                    <a:pt x="594" y="36"/>
                  </a:lnTo>
                  <a:lnTo>
                    <a:pt x="530" y="16"/>
                  </a:lnTo>
                  <a:lnTo>
                    <a:pt x="470" y="0"/>
                  </a:lnTo>
                  <a:lnTo>
                    <a:pt x="470" y="0"/>
                  </a:lnTo>
                  <a:close/>
                  <a:moveTo>
                    <a:pt x="590" y="496"/>
                  </a:moveTo>
                  <a:lnTo>
                    <a:pt x="590" y="496"/>
                  </a:lnTo>
                  <a:lnTo>
                    <a:pt x="580" y="518"/>
                  </a:lnTo>
                  <a:lnTo>
                    <a:pt x="566" y="540"/>
                  </a:lnTo>
                  <a:lnTo>
                    <a:pt x="550" y="560"/>
                  </a:lnTo>
                  <a:lnTo>
                    <a:pt x="532" y="580"/>
                  </a:lnTo>
                  <a:lnTo>
                    <a:pt x="492" y="614"/>
                  </a:lnTo>
                  <a:lnTo>
                    <a:pt x="454" y="648"/>
                  </a:lnTo>
                  <a:lnTo>
                    <a:pt x="454" y="648"/>
                  </a:lnTo>
                  <a:lnTo>
                    <a:pt x="428" y="648"/>
                  </a:lnTo>
                  <a:lnTo>
                    <a:pt x="404" y="644"/>
                  </a:lnTo>
                  <a:lnTo>
                    <a:pt x="382" y="640"/>
                  </a:lnTo>
                  <a:lnTo>
                    <a:pt x="362" y="634"/>
                  </a:lnTo>
                  <a:lnTo>
                    <a:pt x="344" y="628"/>
                  </a:lnTo>
                  <a:lnTo>
                    <a:pt x="328" y="618"/>
                  </a:lnTo>
                  <a:lnTo>
                    <a:pt x="314" y="608"/>
                  </a:lnTo>
                  <a:lnTo>
                    <a:pt x="300" y="596"/>
                  </a:lnTo>
                  <a:lnTo>
                    <a:pt x="288" y="584"/>
                  </a:lnTo>
                  <a:lnTo>
                    <a:pt x="280" y="570"/>
                  </a:lnTo>
                  <a:lnTo>
                    <a:pt x="270" y="554"/>
                  </a:lnTo>
                  <a:lnTo>
                    <a:pt x="264" y="538"/>
                  </a:lnTo>
                  <a:lnTo>
                    <a:pt x="258" y="522"/>
                  </a:lnTo>
                  <a:lnTo>
                    <a:pt x="254" y="504"/>
                  </a:lnTo>
                  <a:lnTo>
                    <a:pt x="250" y="486"/>
                  </a:lnTo>
                  <a:lnTo>
                    <a:pt x="248" y="466"/>
                  </a:lnTo>
                  <a:lnTo>
                    <a:pt x="248" y="428"/>
                  </a:lnTo>
                  <a:lnTo>
                    <a:pt x="252" y="388"/>
                  </a:lnTo>
                  <a:lnTo>
                    <a:pt x="258" y="346"/>
                  </a:lnTo>
                  <a:lnTo>
                    <a:pt x="266" y="308"/>
                  </a:lnTo>
                  <a:lnTo>
                    <a:pt x="278" y="268"/>
                  </a:lnTo>
                  <a:lnTo>
                    <a:pt x="290" y="232"/>
                  </a:lnTo>
                  <a:lnTo>
                    <a:pt x="304" y="198"/>
                  </a:lnTo>
                  <a:lnTo>
                    <a:pt x="318" y="168"/>
                  </a:lnTo>
                  <a:lnTo>
                    <a:pt x="318" y="168"/>
                  </a:lnTo>
                  <a:lnTo>
                    <a:pt x="334" y="164"/>
                  </a:lnTo>
                  <a:lnTo>
                    <a:pt x="342" y="160"/>
                  </a:lnTo>
                  <a:lnTo>
                    <a:pt x="342" y="160"/>
                  </a:lnTo>
                  <a:lnTo>
                    <a:pt x="368" y="162"/>
                  </a:lnTo>
                  <a:lnTo>
                    <a:pt x="394" y="166"/>
                  </a:lnTo>
                  <a:lnTo>
                    <a:pt x="422" y="176"/>
                  </a:lnTo>
                  <a:lnTo>
                    <a:pt x="446" y="188"/>
                  </a:lnTo>
                  <a:lnTo>
                    <a:pt x="472" y="204"/>
                  </a:lnTo>
                  <a:lnTo>
                    <a:pt x="496" y="222"/>
                  </a:lnTo>
                  <a:lnTo>
                    <a:pt x="518" y="242"/>
                  </a:lnTo>
                  <a:lnTo>
                    <a:pt x="538" y="266"/>
                  </a:lnTo>
                  <a:lnTo>
                    <a:pt x="556" y="290"/>
                  </a:lnTo>
                  <a:lnTo>
                    <a:pt x="572" y="316"/>
                  </a:lnTo>
                  <a:lnTo>
                    <a:pt x="586" y="344"/>
                  </a:lnTo>
                  <a:lnTo>
                    <a:pt x="594" y="372"/>
                  </a:lnTo>
                  <a:lnTo>
                    <a:pt x="600" y="402"/>
                  </a:lnTo>
                  <a:lnTo>
                    <a:pt x="602" y="434"/>
                  </a:lnTo>
                  <a:lnTo>
                    <a:pt x="598" y="464"/>
                  </a:lnTo>
                  <a:lnTo>
                    <a:pt x="594" y="480"/>
                  </a:lnTo>
                  <a:lnTo>
                    <a:pt x="590" y="496"/>
                  </a:lnTo>
                  <a:lnTo>
                    <a:pt x="590" y="496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31"/>
            <p:cNvSpPr/>
            <p:nvPr/>
          </p:nvSpPr>
          <p:spPr>
            <a:xfrm>
              <a:off x="4290840" y="6784920"/>
              <a:ext cx="1780920" cy="1809720"/>
            </a:xfrm>
            <a:custGeom>
              <a:avLst/>
              <a:gdLst>
                <a:gd name="textAreaLeft" fmla="*/ 0 w 1780920"/>
                <a:gd name="textAreaRight" fmla="*/ 1781280 w 1780920"/>
                <a:gd name="textAreaTop" fmla="*/ 0 h 1809720"/>
                <a:gd name="textAreaBottom" fmla="*/ 1810080 h 1809720"/>
              </a:gdLst>
              <a:ahLst/>
              <a:rect l="textAreaLeft" t="textAreaTop" r="textAreaRight" b="textAreaBottom"/>
              <a:pathLst>
                <a:path w="1122" h="1140">
                  <a:moveTo>
                    <a:pt x="1040" y="846"/>
                  </a:moveTo>
                  <a:lnTo>
                    <a:pt x="1040" y="846"/>
                  </a:lnTo>
                  <a:lnTo>
                    <a:pt x="1040" y="838"/>
                  </a:lnTo>
                  <a:lnTo>
                    <a:pt x="1040" y="826"/>
                  </a:lnTo>
                  <a:lnTo>
                    <a:pt x="1034" y="802"/>
                  </a:lnTo>
                  <a:lnTo>
                    <a:pt x="1024" y="774"/>
                  </a:lnTo>
                  <a:lnTo>
                    <a:pt x="1010" y="744"/>
                  </a:lnTo>
                  <a:lnTo>
                    <a:pt x="982" y="684"/>
                  </a:lnTo>
                  <a:lnTo>
                    <a:pt x="970" y="656"/>
                  </a:lnTo>
                  <a:lnTo>
                    <a:pt x="960" y="634"/>
                  </a:lnTo>
                  <a:lnTo>
                    <a:pt x="960" y="634"/>
                  </a:lnTo>
                  <a:lnTo>
                    <a:pt x="950" y="600"/>
                  </a:lnTo>
                  <a:lnTo>
                    <a:pt x="940" y="564"/>
                  </a:lnTo>
                  <a:lnTo>
                    <a:pt x="922" y="494"/>
                  </a:lnTo>
                  <a:lnTo>
                    <a:pt x="896" y="366"/>
                  </a:lnTo>
                  <a:lnTo>
                    <a:pt x="896" y="366"/>
                  </a:lnTo>
                  <a:lnTo>
                    <a:pt x="894" y="346"/>
                  </a:lnTo>
                  <a:lnTo>
                    <a:pt x="894" y="326"/>
                  </a:lnTo>
                  <a:lnTo>
                    <a:pt x="896" y="282"/>
                  </a:lnTo>
                  <a:lnTo>
                    <a:pt x="898" y="262"/>
                  </a:lnTo>
                  <a:lnTo>
                    <a:pt x="898" y="242"/>
                  </a:lnTo>
                  <a:lnTo>
                    <a:pt x="894" y="224"/>
                  </a:lnTo>
                  <a:lnTo>
                    <a:pt x="888" y="206"/>
                  </a:lnTo>
                  <a:lnTo>
                    <a:pt x="888" y="206"/>
                  </a:lnTo>
                  <a:lnTo>
                    <a:pt x="878" y="192"/>
                  </a:lnTo>
                  <a:lnTo>
                    <a:pt x="862" y="174"/>
                  </a:lnTo>
                  <a:lnTo>
                    <a:pt x="840" y="154"/>
                  </a:lnTo>
                  <a:lnTo>
                    <a:pt x="816" y="134"/>
                  </a:lnTo>
                  <a:lnTo>
                    <a:pt x="766" y="94"/>
                  </a:lnTo>
                  <a:lnTo>
                    <a:pt x="730" y="70"/>
                  </a:lnTo>
                  <a:lnTo>
                    <a:pt x="730" y="70"/>
                  </a:lnTo>
                  <a:lnTo>
                    <a:pt x="698" y="54"/>
                  </a:lnTo>
                  <a:lnTo>
                    <a:pt x="660" y="42"/>
                  </a:lnTo>
                  <a:lnTo>
                    <a:pt x="616" y="30"/>
                  </a:lnTo>
                  <a:lnTo>
                    <a:pt x="572" y="20"/>
                  </a:lnTo>
                  <a:lnTo>
                    <a:pt x="526" y="12"/>
                  </a:lnTo>
                  <a:lnTo>
                    <a:pt x="480" y="6"/>
                  </a:lnTo>
                  <a:lnTo>
                    <a:pt x="440" y="2"/>
                  </a:lnTo>
                  <a:lnTo>
                    <a:pt x="402" y="0"/>
                  </a:lnTo>
                  <a:lnTo>
                    <a:pt x="402" y="0"/>
                  </a:lnTo>
                  <a:lnTo>
                    <a:pt x="354" y="2"/>
                  </a:lnTo>
                  <a:lnTo>
                    <a:pt x="306" y="4"/>
                  </a:lnTo>
                  <a:lnTo>
                    <a:pt x="262" y="6"/>
                  </a:lnTo>
                  <a:lnTo>
                    <a:pt x="244" y="4"/>
                  </a:lnTo>
                  <a:lnTo>
                    <a:pt x="228" y="0"/>
                  </a:lnTo>
                  <a:lnTo>
                    <a:pt x="228" y="0"/>
                  </a:lnTo>
                  <a:lnTo>
                    <a:pt x="220" y="4"/>
                  </a:lnTo>
                  <a:lnTo>
                    <a:pt x="212" y="8"/>
                  </a:lnTo>
                  <a:lnTo>
                    <a:pt x="190" y="12"/>
                  </a:lnTo>
                  <a:lnTo>
                    <a:pt x="168" y="16"/>
                  </a:lnTo>
                  <a:lnTo>
                    <a:pt x="148" y="16"/>
                  </a:lnTo>
                  <a:lnTo>
                    <a:pt x="148" y="16"/>
                  </a:lnTo>
                  <a:lnTo>
                    <a:pt x="120" y="40"/>
                  </a:lnTo>
                  <a:lnTo>
                    <a:pt x="106" y="54"/>
                  </a:lnTo>
                  <a:lnTo>
                    <a:pt x="92" y="68"/>
                  </a:lnTo>
                  <a:lnTo>
                    <a:pt x="82" y="84"/>
                  </a:lnTo>
                  <a:lnTo>
                    <a:pt x="72" y="98"/>
                  </a:lnTo>
                  <a:lnTo>
                    <a:pt x="68" y="114"/>
                  </a:lnTo>
                  <a:lnTo>
                    <a:pt x="66" y="122"/>
                  </a:lnTo>
                  <a:lnTo>
                    <a:pt x="68" y="130"/>
                  </a:lnTo>
                  <a:lnTo>
                    <a:pt x="68" y="130"/>
                  </a:lnTo>
                  <a:lnTo>
                    <a:pt x="68" y="148"/>
                  </a:lnTo>
                  <a:lnTo>
                    <a:pt x="72" y="166"/>
                  </a:lnTo>
                  <a:lnTo>
                    <a:pt x="76" y="184"/>
                  </a:lnTo>
                  <a:lnTo>
                    <a:pt x="82" y="198"/>
                  </a:lnTo>
                  <a:lnTo>
                    <a:pt x="88" y="214"/>
                  </a:lnTo>
                  <a:lnTo>
                    <a:pt x="96" y="228"/>
                  </a:lnTo>
                  <a:lnTo>
                    <a:pt x="106" y="240"/>
                  </a:lnTo>
                  <a:lnTo>
                    <a:pt x="116" y="252"/>
                  </a:lnTo>
                  <a:lnTo>
                    <a:pt x="126" y="264"/>
                  </a:lnTo>
                  <a:lnTo>
                    <a:pt x="138" y="274"/>
                  </a:lnTo>
                  <a:lnTo>
                    <a:pt x="152" y="282"/>
                  </a:lnTo>
                  <a:lnTo>
                    <a:pt x="166" y="290"/>
                  </a:lnTo>
                  <a:lnTo>
                    <a:pt x="196" y="304"/>
                  </a:lnTo>
                  <a:lnTo>
                    <a:pt x="228" y="314"/>
                  </a:lnTo>
                  <a:lnTo>
                    <a:pt x="228" y="314"/>
                  </a:lnTo>
                  <a:lnTo>
                    <a:pt x="250" y="318"/>
                  </a:lnTo>
                  <a:lnTo>
                    <a:pt x="270" y="320"/>
                  </a:lnTo>
                  <a:lnTo>
                    <a:pt x="306" y="322"/>
                  </a:lnTo>
                  <a:lnTo>
                    <a:pt x="320" y="322"/>
                  </a:lnTo>
                  <a:lnTo>
                    <a:pt x="336" y="324"/>
                  </a:lnTo>
                  <a:lnTo>
                    <a:pt x="352" y="328"/>
                  </a:lnTo>
                  <a:lnTo>
                    <a:pt x="370" y="336"/>
                  </a:lnTo>
                  <a:lnTo>
                    <a:pt x="370" y="336"/>
                  </a:lnTo>
                  <a:lnTo>
                    <a:pt x="366" y="348"/>
                  </a:lnTo>
                  <a:lnTo>
                    <a:pt x="362" y="358"/>
                  </a:lnTo>
                  <a:lnTo>
                    <a:pt x="358" y="364"/>
                  </a:lnTo>
                  <a:lnTo>
                    <a:pt x="352" y="370"/>
                  </a:lnTo>
                  <a:lnTo>
                    <a:pt x="344" y="374"/>
                  </a:lnTo>
                  <a:lnTo>
                    <a:pt x="338" y="376"/>
                  </a:lnTo>
                  <a:lnTo>
                    <a:pt x="322" y="378"/>
                  </a:lnTo>
                  <a:lnTo>
                    <a:pt x="304" y="376"/>
                  </a:lnTo>
                  <a:lnTo>
                    <a:pt x="284" y="378"/>
                  </a:lnTo>
                  <a:lnTo>
                    <a:pt x="264" y="380"/>
                  </a:lnTo>
                  <a:lnTo>
                    <a:pt x="254" y="384"/>
                  </a:lnTo>
                  <a:lnTo>
                    <a:pt x="244" y="390"/>
                  </a:lnTo>
                  <a:lnTo>
                    <a:pt x="244" y="390"/>
                  </a:lnTo>
                  <a:lnTo>
                    <a:pt x="212" y="410"/>
                  </a:lnTo>
                  <a:lnTo>
                    <a:pt x="182" y="432"/>
                  </a:lnTo>
                  <a:lnTo>
                    <a:pt x="152" y="458"/>
                  </a:lnTo>
                  <a:lnTo>
                    <a:pt x="122" y="488"/>
                  </a:lnTo>
                  <a:lnTo>
                    <a:pt x="96" y="518"/>
                  </a:lnTo>
                  <a:lnTo>
                    <a:pt x="72" y="550"/>
                  </a:lnTo>
                  <a:lnTo>
                    <a:pt x="52" y="584"/>
                  </a:lnTo>
                  <a:lnTo>
                    <a:pt x="42" y="602"/>
                  </a:lnTo>
                  <a:lnTo>
                    <a:pt x="36" y="618"/>
                  </a:lnTo>
                  <a:lnTo>
                    <a:pt x="36" y="618"/>
                  </a:lnTo>
                  <a:lnTo>
                    <a:pt x="28" y="686"/>
                  </a:lnTo>
                  <a:lnTo>
                    <a:pt x="28" y="686"/>
                  </a:lnTo>
                  <a:lnTo>
                    <a:pt x="18" y="716"/>
                  </a:lnTo>
                  <a:lnTo>
                    <a:pt x="6" y="750"/>
                  </a:lnTo>
                  <a:lnTo>
                    <a:pt x="2" y="770"/>
                  </a:lnTo>
                  <a:lnTo>
                    <a:pt x="0" y="790"/>
                  </a:lnTo>
                  <a:lnTo>
                    <a:pt x="0" y="810"/>
                  </a:lnTo>
                  <a:lnTo>
                    <a:pt x="4" y="832"/>
                  </a:lnTo>
                  <a:lnTo>
                    <a:pt x="4" y="832"/>
                  </a:lnTo>
                  <a:lnTo>
                    <a:pt x="18" y="882"/>
                  </a:lnTo>
                  <a:lnTo>
                    <a:pt x="36" y="930"/>
                  </a:lnTo>
                  <a:lnTo>
                    <a:pt x="46" y="952"/>
                  </a:lnTo>
                  <a:lnTo>
                    <a:pt x="58" y="974"/>
                  </a:lnTo>
                  <a:lnTo>
                    <a:pt x="70" y="996"/>
                  </a:lnTo>
                  <a:lnTo>
                    <a:pt x="84" y="1016"/>
                  </a:lnTo>
                  <a:lnTo>
                    <a:pt x="98" y="1034"/>
                  </a:lnTo>
                  <a:lnTo>
                    <a:pt x="112" y="1052"/>
                  </a:lnTo>
                  <a:lnTo>
                    <a:pt x="130" y="1068"/>
                  </a:lnTo>
                  <a:lnTo>
                    <a:pt x="148" y="1084"/>
                  </a:lnTo>
                  <a:lnTo>
                    <a:pt x="168" y="1096"/>
                  </a:lnTo>
                  <a:lnTo>
                    <a:pt x="188" y="1110"/>
                  </a:lnTo>
                  <a:lnTo>
                    <a:pt x="210" y="1120"/>
                  </a:lnTo>
                  <a:lnTo>
                    <a:pt x="236" y="1128"/>
                  </a:lnTo>
                  <a:lnTo>
                    <a:pt x="236" y="1128"/>
                  </a:lnTo>
                  <a:lnTo>
                    <a:pt x="252" y="1134"/>
                  </a:lnTo>
                  <a:lnTo>
                    <a:pt x="268" y="1138"/>
                  </a:lnTo>
                  <a:lnTo>
                    <a:pt x="302" y="1140"/>
                  </a:lnTo>
                  <a:lnTo>
                    <a:pt x="336" y="1140"/>
                  </a:lnTo>
                  <a:lnTo>
                    <a:pt x="370" y="1136"/>
                  </a:lnTo>
                  <a:lnTo>
                    <a:pt x="406" y="1128"/>
                  </a:lnTo>
                  <a:lnTo>
                    <a:pt x="440" y="1118"/>
                  </a:lnTo>
                  <a:lnTo>
                    <a:pt x="472" y="1104"/>
                  </a:lnTo>
                  <a:lnTo>
                    <a:pt x="504" y="1088"/>
                  </a:lnTo>
                  <a:lnTo>
                    <a:pt x="534" y="1070"/>
                  </a:lnTo>
                  <a:lnTo>
                    <a:pt x="562" y="1052"/>
                  </a:lnTo>
                  <a:lnTo>
                    <a:pt x="588" y="1032"/>
                  </a:lnTo>
                  <a:lnTo>
                    <a:pt x="610" y="1012"/>
                  </a:lnTo>
                  <a:lnTo>
                    <a:pt x="630" y="990"/>
                  </a:lnTo>
                  <a:lnTo>
                    <a:pt x="646" y="970"/>
                  </a:lnTo>
                  <a:lnTo>
                    <a:pt x="658" y="950"/>
                  </a:lnTo>
                  <a:lnTo>
                    <a:pt x="666" y="930"/>
                  </a:lnTo>
                  <a:lnTo>
                    <a:pt x="666" y="930"/>
                  </a:lnTo>
                  <a:lnTo>
                    <a:pt x="674" y="936"/>
                  </a:lnTo>
                  <a:lnTo>
                    <a:pt x="680" y="942"/>
                  </a:lnTo>
                  <a:lnTo>
                    <a:pt x="684" y="948"/>
                  </a:lnTo>
                  <a:lnTo>
                    <a:pt x="686" y="954"/>
                  </a:lnTo>
                  <a:lnTo>
                    <a:pt x="690" y="968"/>
                  </a:lnTo>
                  <a:lnTo>
                    <a:pt x="692" y="976"/>
                  </a:lnTo>
                  <a:lnTo>
                    <a:pt x="698" y="984"/>
                  </a:lnTo>
                  <a:lnTo>
                    <a:pt x="698" y="984"/>
                  </a:lnTo>
                  <a:lnTo>
                    <a:pt x="708" y="1000"/>
                  </a:lnTo>
                  <a:lnTo>
                    <a:pt x="722" y="1018"/>
                  </a:lnTo>
                  <a:lnTo>
                    <a:pt x="738" y="1034"/>
                  </a:lnTo>
                  <a:lnTo>
                    <a:pt x="756" y="1050"/>
                  </a:lnTo>
                  <a:lnTo>
                    <a:pt x="774" y="1066"/>
                  </a:lnTo>
                  <a:lnTo>
                    <a:pt x="794" y="1080"/>
                  </a:lnTo>
                  <a:lnTo>
                    <a:pt x="812" y="1090"/>
                  </a:lnTo>
                  <a:lnTo>
                    <a:pt x="832" y="1098"/>
                  </a:lnTo>
                  <a:lnTo>
                    <a:pt x="832" y="1098"/>
                  </a:lnTo>
                  <a:lnTo>
                    <a:pt x="848" y="1108"/>
                  </a:lnTo>
                  <a:lnTo>
                    <a:pt x="866" y="1114"/>
                  </a:lnTo>
                  <a:lnTo>
                    <a:pt x="884" y="1118"/>
                  </a:lnTo>
                  <a:lnTo>
                    <a:pt x="904" y="1120"/>
                  </a:lnTo>
                  <a:lnTo>
                    <a:pt x="924" y="1120"/>
                  </a:lnTo>
                  <a:lnTo>
                    <a:pt x="944" y="1118"/>
                  </a:lnTo>
                  <a:lnTo>
                    <a:pt x="984" y="1110"/>
                  </a:lnTo>
                  <a:lnTo>
                    <a:pt x="1024" y="1100"/>
                  </a:lnTo>
                  <a:lnTo>
                    <a:pt x="1062" y="1088"/>
                  </a:lnTo>
                  <a:lnTo>
                    <a:pt x="1120" y="1068"/>
                  </a:lnTo>
                  <a:lnTo>
                    <a:pt x="1120" y="1068"/>
                  </a:lnTo>
                  <a:lnTo>
                    <a:pt x="1122" y="1048"/>
                  </a:lnTo>
                  <a:lnTo>
                    <a:pt x="1120" y="1030"/>
                  </a:lnTo>
                  <a:lnTo>
                    <a:pt x="1118" y="1012"/>
                  </a:lnTo>
                  <a:lnTo>
                    <a:pt x="1114" y="996"/>
                  </a:lnTo>
                  <a:lnTo>
                    <a:pt x="1108" y="980"/>
                  </a:lnTo>
                  <a:lnTo>
                    <a:pt x="1100" y="964"/>
                  </a:lnTo>
                  <a:lnTo>
                    <a:pt x="1084" y="934"/>
                  </a:lnTo>
                  <a:lnTo>
                    <a:pt x="1052" y="884"/>
                  </a:lnTo>
                  <a:lnTo>
                    <a:pt x="1042" y="864"/>
                  </a:lnTo>
                  <a:lnTo>
                    <a:pt x="1040" y="854"/>
                  </a:lnTo>
                  <a:lnTo>
                    <a:pt x="1040" y="846"/>
                  </a:lnTo>
                  <a:lnTo>
                    <a:pt x="1040" y="846"/>
                  </a:lnTo>
                  <a:close/>
                  <a:moveTo>
                    <a:pt x="1008" y="1022"/>
                  </a:moveTo>
                  <a:lnTo>
                    <a:pt x="1008" y="1022"/>
                  </a:lnTo>
                  <a:lnTo>
                    <a:pt x="984" y="1024"/>
                  </a:lnTo>
                  <a:lnTo>
                    <a:pt x="976" y="1026"/>
                  </a:lnTo>
                  <a:lnTo>
                    <a:pt x="968" y="1030"/>
                  </a:lnTo>
                  <a:lnTo>
                    <a:pt x="968" y="1030"/>
                  </a:lnTo>
                  <a:lnTo>
                    <a:pt x="940" y="1030"/>
                  </a:lnTo>
                  <a:lnTo>
                    <a:pt x="914" y="1026"/>
                  </a:lnTo>
                  <a:lnTo>
                    <a:pt x="890" y="1022"/>
                  </a:lnTo>
                  <a:lnTo>
                    <a:pt x="872" y="1016"/>
                  </a:lnTo>
                  <a:lnTo>
                    <a:pt x="854" y="1008"/>
                  </a:lnTo>
                  <a:lnTo>
                    <a:pt x="838" y="998"/>
                  </a:lnTo>
                  <a:lnTo>
                    <a:pt x="826" y="986"/>
                  </a:lnTo>
                  <a:lnTo>
                    <a:pt x="814" y="974"/>
                  </a:lnTo>
                  <a:lnTo>
                    <a:pt x="804" y="958"/>
                  </a:lnTo>
                  <a:lnTo>
                    <a:pt x="796" y="942"/>
                  </a:lnTo>
                  <a:lnTo>
                    <a:pt x="790" y="926"/>
                  </a:lnTo>
                  <a:lnTo>
                    <a:pt x="782" y="908"/>
                  </a:lnTo>
                  <a:lnTo>
                    <a:pt x="772" y="868"/>
                  </a:lnTo>
                  <a:lnTo>
                    <a:pt x="760" y="824"/>
                  </a:lnTo>
                  <a:lnTo>
                    <a:pt x="760" y="824"/>
                  </a:lnTo>
                  <a:lnTo>
                    <a:pt x="758" y="806"/>
                  </a:lnTo>
                  <a:lnTo>
                    <a:pt x="756" y="788"/>
                  </a:lnTo>
                  <a:lnTo>
                    <a:pt x="756" y="752"/>
                  </a:lnTo>
                  <a:lnTo>
                    <a:pt x="756" y="734"/>
                  </a:lnTo>
                  <a:lnTo>
                    <a:pt x="756" y="716"/>
                  </a:lnTo>
                  <a:lnTo>
                    <a:pt x="752" y="702"/>
                  </a:lnTo>
                  <a:lnTo>
                    <a:pt x="744" y="686"/>
                  </a:lnTo>
                  <a:lnTo>
                    <a:pt x="744" y="686"/>
                  </a:lnTo>
                  <a:lnTo>
                    <a:pt x="744" y="646"/>
                  </a:lnTo>
                  <a:lnTo>
                    <a:pt x="738" y="612"/>
                  </a:lnTo>
                  <a:lnTo>
                    <a:pt x="730" y="584"/>
                  </a:lnTo>
                  <a:lnTo>
                    <a:pt x="722" y="558"/>
                  </a:lnTo>
                  <a:lnTo>
                    <a:pt x="722" y="558"/>
                  </a:lnTo>
                  <a:lnTo>
                    <a:pt x="710" y="554"/>
                  </a:lnTo>
                  <a:lnTo>
                    <a:pt x="706" y="550"/>
                  </a:lnTo>
                  <a:lnTo>
                    <a:pt x="706" y="550"/>
                  </a:lnTo>
                  <a:lnTo>
                    <a:pt x="666" y="552"/>
                  </a:lnTo>
                  <a:lnTo>
                    <a:pt x="648" y="554"/>
                  </a:lnTo>
                  <a:lnTo>
                    <a:pt x="634" y="558"/>
                  </a:lnTo>
                  <a:lnTo>
                    <a:pt x="634" y="558"/>
                  </a:lnTo>
                  <a:lnTo>
                    <a:pt x="642" y="786"/>
                  </a:lnTo>
                  <a:lnTo>
                    <a:pt x="642" y="786"/>
                  </a:lnTo>
                  <a:lnTo>
                    <a:pt x="638" y="796"/>
                  </a:lnTo>
                  <a:lnTo>
                    <a:pt x="632" y="806"/>
                  </a:lnTo>
                  <a:lnTo>
                    <a:pt x="620" y="822"/>
                  </a:lnTo>
                  <a:lnTo>
                    <a:pt x="606" y="838"/>
                  </a:lnTo>
                  <a:lnTo>
                    <a:pt x="594" y="854"/>
                  </a:lnTo>
                  <a:lnTo>
                    <a:pt x="594" y="854"/>
                  </a:lnTo>
                  <a:lnTo>
                    <a:pt x="560" y="900"/>
                  </a:lnTo>
                  <a:lnTo>
                    <a:pt x="544" y="922"/>
                  </a:lnTo>
                  <a:lnTo>
                    <a:pt x="526" y="942"/>
                  </a:lnTo>
                  <a:lnTo>
                    <a:pt x="506" y="962"/>
                  </a:lnTo>
                  <a:lnTo>
                    <a:pt x="488" y="980"/>
                  </a:lnTo>
                  <a:lnTo>
                    <a:pt x="466" y="998"/>
                  </a:lnTo>
                  <a:lnTo>
                    <a:pt x="442" y="1014"/>
                  </a:lnTo>
                  <a:lnTo>
                    <a:pt x="442" y="1014"/>
                  </a:lnTo>
                  <a:lnTo>
                    <a:pt x="424" y="1024"/>
                  </a:lnTo>
                  <a:lnTo>
                    <a:pt x="406" y="1032"/>
                  </a:lnTo>
                  <a:lnTo>
                    <a:pt x="386" y="1042"/>
                  </a:lnTo>
                  <a:lnTo>
                    <a:pt x="378" y="1046"/>
                  </a:lnTo>
                  <a:lnTo>
                    <a:pt x="370" y="1052"/>
                  </a:lnTo>
                  <a:lnTo>
                    <a:pt x="370" y="1052"/>
                  </a:lnTo>
                  <a:lnTo>
                    <a:pt x="336" y="1052"/>
                  </a:lnTo>
                  <a:lnTo>
                    <a:pt x="304" y="1048"/>
                  </a:lnTo>
                  <a:lnTo>
                    <a:pt x="274" y="1042"/>
                  </a:lnTo>
                  <a:lnTo>
                    <a:pt x="248" y="1032"/>
                  </a:lnTo>
                  <a:lnTo>
                    <a:pt x="224" y="1020"/>
                  </a:lnTo>
                  <a:lnTo>
                    <a:pt x="202" y="1006"/>
                  </a:lnTo>
                  <a:lnTo>
                    <a:pt x="184" y="990"/>
                  </a:lnTo>
                  <a:lnTo>
                    <a:pt x="166" y="972"/>
                  </a:lnTo>
                  <a:lnTo>
                    <a:pt x="152" y="952"/>
                  </a:lnTo>
                  <a:lnTo>
                    <a:pt x="142" y="930"/>
                  </a:lnTo>
                  <a:lnTo>
                    <a:pt x="132" y="908"/>
                  </a:lnTo>
                  <a:lnTo>
                    <a:pt x="124" y="884"/>
                  </a:lnTo>
                  <a:lnTo>
                    <a:pt x="120" y="858"/>
                  </a:lnTo>
                  <a:lnTo>
                    <a:pt x="116" y="834"/>
                  </a:lnTo>
                  <a:lnTo>
                    <a:pt x="116" y="806"/>
                  </a:lnTo>
                  <a:lnTo>
                    <a:pt x="116" y="780"/>
                  </a:lnTo>
                  <a:lnTo>
                    <a:pt x="120" y="754"/>
                  </a:lnTo>
                  <a:lnTo>
                    <a:pt x="124" y="726"/>
                  </a:lnTo>
                  <a:lnTo>
                    <a:pt x="130" y="700"/>
                  </a:lnTo>
                  <a:lnTo>
                    <a:pt x="138" y="674"/>
                  </a:lnTo>
                  <a:lnTo>
                    <a:pt x="148" y="648"/>
                  </a:lnTo>
                  <a:lnTo>
                    <a:pt x="158" y="622"/>
                  </a:lnTo>
                  <a:lnTo>
                    <a:pt x="170" y="598"/>
                  </a:lnTo>
                  <a:lnTo>
                    <a:pt x="184" y="574"/>
                  </a:lnTo>
                  <a:lnTo>
                    <a:pt x="198" y="552"/>
                  </a:lnTo>
                  <a:lnTo>
                    <a:pt x="214" y="532"/>
                  </a:lnTo>
                  <a:lnTo>
                    <a:pt x="232" y="514"/>
                  </a:lnTo>
                  <a:lnTo>
                    <a:pt x="250" y="496"/>
                  </a:lnTo>
                  <a:lnTo>
                    <a:pt x="268" y="482"/>
                  </a:lnTo>
                  <a:lnTo>
                    <a:pt x="288" y="468"/>
                  </a:lnTo>
                  <a:lnTo>
                    <a:pt x="310" y="458"/>
                  </a:lnTo>
                  <a:lnTo>
                    <a:pt x="330" y="450"/>
                  </a:lnTo>
                  <a:lnTo>
                    <a:pt x="330" y="450"/>
                  </a:lnTo>
                  <a:lnTo>
                    <a:pt x="336" y="450"/>
                  </a:lnTo>
                  <a:lnTo>
                    <a:pt x="344" y="450"/>
                  </a:lnTo>
                  <a:lnTo>
                    <a:pt x="370" y="452"/>
                  </a:lnTo>
                  <a:lnTo>
                    <a:pt x="386" y="452"/>
                  </a:lnTo>
                  <a:lnTo>
                    <a:pt x="402" y="452"/>
                  </a:lnTo>
                  <a:lnTo>
                    <a:pt x="416" y="448"/>
                  </a:lnTo>
                  <a:lnTo>
                    <a:pt x="426" y="442"/>
                  </a:lnTo>
                  <a:lnTo>
                    <a:pt x="426" y="442"/>
                  </a:lnTo>
                  <a:lnTo>
                    <a:pt x="436" y="436"/>
                  </a:lnTo>
                  <a:lnTo>
                    <a:pt x="444" y="428"/>
                  </a:lnTo>
                  <a:lnTo>
                    <a:pt x="456" y="410"/>
                  </a:lnTo>
                  <a:lnTo>
                    <a:pt x="468" y="392"/>
                  </a:lnTo>
                  <a:lnTo>
                    <a:pt x="482" y="374"/>
                  </a:lnTo>
                  <a:lnTo>
                    <a:pt x="482" y="374"/>
                  </a:lnTo>
                  <a:lnTo>
                    <a:pt x="480" y="350"/>
                  </a:lnTo>
                  <a:lnTo>
                    <a:pt x="476" y="332"/>
                  </a:lnTo>
                  <a:lnTo>
                    <a:pt x="468" y="316"/>
                  </a:lnTo>
                  <a:lnTo>
                    <a:pt x="460" y="302"/>
                  </a:lnTo>
                  <a:lnTo>
                    <a:pt x="450" y="290"/>
                  </a:lnTo>
                  <a:lnTo>
                    <a:pt x="440" y="278"/>
                  </a:lnTo>
                  <a:lnTo>
                    <a:pt x="430" y="266"/>
                  </a:lnTo>
                  <a:lnTo>
                    <a:pt x="418" y="252"/>
                  </a:lnTo>
                  <a:lnTo>
                    <a:pt x="418" y="252"/>
                  </a:lnTo>
                  <a:lnTo>
                    <a:pt x="400" y="250"/>
                  </a:lnTo>
                  <a:lnTo>
                    <a:pt x="376" y="248"/>
                  </a:lnTo>
                  <a:lnTo>
                    <a:pt x="320" y="242"/>
                  </a:lnTo>
                  <a:lnTo>
                    <a:pt x="292" y="240"/>
                  </a:lnTo>
                  <a:lnTo>
                    <a:pt x="266" y="236"/>
                  </a:lnTo>
                  <a:lnTo>
                    <a:pt x="244" y="230"/>
                  </a:lnTo>
                  <a:lnTo>
                    <a:pt x="228" y="222"/>
                  </a:lnTo>
                  <a:lnTo>
                    <a:pt x="228" y="222"/>
                  </a:lnTo>
                  <a:lnTo>
                    <a:pt x="216" y="216"/>
                  </a:lnTo>
                  <a:lnTo>
                    <a:pt x="208" y="210"/>
                  </a:lnTo>
                  <a:lnTo>
                    <a:pt x="200" y="204"/>
                  </a:lnTo>
                  <a:lnTo>
                    <a:pt x="194" y="196"/>
                  </a:lnTo>
                  <a:lnTo>
                    <a:pt x="184" y="178"/>
                  </a:lnTo>
                  <a:lnTo>
                    <a:pt x="178" y="170"/>
                  </a:lnTo>
                  <a:lnTo>
                    <a:pt x="172" y="162"/>
                  </a:lnTo>
                  <a:lnTo>
                    <a:pt x="172" y="162"/>
                  </a:lnTo>
                  <a:lnTo>
                    <a:pt x="176" y="142"/>
                  </a:lnTo>
                  <a:lnTo>
                    <a:pt x="182" y="128"/>
                  </a:lnTo>
                  <a:lnTo>
                    <a:pt x="188" y="116"/>
                  </a:lnTo>
                  <a:lnTo>
                    <a:pt x="196" y="100"/>
                  </a:lnTo>
                  <a:lnTo>
                    <a:pt x="196" y="100"/>
                  </a:lnTo>
                  <a:lnTo>
                    <a:pt x="228" y="96"/>
                  </a:lnTo>
                  <a:lnTo>
                    <a:pt x="272" y="92"/>
                  </a:lnTo>
                  <a:lnTo>
                    <a:pt x="314" y="88"/>
                  </a:lnTo>
                  <a:lnTo>
                    <a:pt x="332" y="82"/>
                  </a:lnTo>
                  <a:lnTo>
                    <a:pt x="346" y="78"/>
                  </a:lnTo>
                  <a:lnTo>
                    <a:pt x="346" y="78"/>
                  </a:lnTo>
                  <a:lnTo>
                    <a:pt x="362" y="80"/>
                  </a:lnTo>
                  <a:lnTo>
                    <a:pt x="378" y="82"/>
                  </a:lnTo>
                  <a:lnTo>
                    <a:pt x="414" y="82"/>
                  </a:lnTo>
                  <a:lnTo>
                    <a:pt x="454" y="80"/>
                  </a:lnTo>
                  <a:lnTo>
                    <a:pt x="472" y="82"/>
                  </a:lnTo>
                  <a:lnTo>
                    <a:pt x="490" y="84"/>
                  </a:lnTo>
                  <a:lnTo>
                    <a:pt x="490" y="84"/>
                  </a:lnTo>
                  <a:lnTo>
                    <a:pt x="576" y="104"/>
                  </a:lnTo>
                  <a:lnTo>
                    <a:pt x="622" y="116"/>
                  </a:lnTo>
                  <a:lnTo>
                    <a:pt x="666" y="130"/>
                  </a:lnTo>
                  <a:lnTo>
                    <a:pt x="666" y="130"/>
                  </a:lnTo>
                  <a:lnTo>
                    <a:pt x="684" y="138"/>
                  </a:lnTo>
                  <a:lnTo>
                    <a:pt x="700" y="150"/>
                  </a:lnTo>
                  <a:lnTo>
                    <a:pt x="714" y="162"/>
                  </a:lnTo>
                  <a:lnTo>
                    <a:pt x="728" y="176"/>
                  </a:lnTo>
                  <a:lnTo>
                    <a:pt x="756" y="204"/>
                  </a:lnTo>
                  <a:lnTo>
                    <a:pt x="770" y="218"/>
                  </a:lnTo>
                  <a:lnTo>
                    <a:pt x="784" y="230"/>
                  </a:lnTo>
                  <a:lnTo>
                    <a:pt x="784" y="230"/>
                  </a:lnTo>
                  <a:lnTo>
                    <a:pt x="788" y="270"/>
                  </a:lnTo>
                  <a:lnTo>
                    <a:pt x="792" y="312"/>
                  </a:lnTo>
                  <a:lnTo>
                    <a:pt x="796" y="352"/>
                  </a:lnTo>
                  <a:lnTo>
                    <a:pt x="804" y="392"/>
                  </a:lnTo>
                  <a:lnTo>
                    <a:pt x="818" y="468"/>
                  </a:lnTo>
                  <a:lnTo>
                    <a:pt x="838" y="544"/>
                  </a:lnTo>
                  <a:lnTo>
                    <a:pt x="860" y="616"/>
                  </a:lnTo>
                  <a:lnTo>
                    <a:pt x="884" y="686"/>
                  </a:lnTo>
                  <a:lnTo>
                    <a:pt x="910" y="756"/>
                  </a:lnTo>
                  <a:lnTo>
                    <a:pt x="936" y="824"/>
                  </a:lnTo>
                  <a:lnTo>
                    <a:pt x="936" y="824"/>
                  </a:lnTo>
                  <a:lnTo>
                    <a:pt x="944" y="850"/>
                  </a:lnTo>
                  <a:lnTo>
                    <a:pt x="952" y="874"/>
                  </a:lnTo>
                  <a:lnTo>
                    <a:pt x="966" y="922"/>
                  </a:lnTo>
                  <a:lnTo>
                    <a:pt x="976" y="944"/>
                  </a:lnTo>
                  <a:lnTo>
                    <a:pt x="986" y="964"/>
                  </a:lnTo>
                  <a:lnTo>
                    <a:pt x="998" y="982"/>
                  </a:lnTo>
                  <a:lnTo>
                    <a:pt x="1016" y="1000"/>
                  </a:lnTo>
                  <a:lnTo>
                    <a:pt x="1016" y="1000"/>
                  </a:lnTo>
                  <a:lnTo>
                    <a:pt x="1008" y="1022"/>
                  </a:lnTo>
                  <a:lnTo>
                    <a:pt x="1008" y="10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32"/>
            <p:cNvSpPr/>
            <p:nvPr/>
          </p:nvSpPr>
          <p:spPr>
            <a:xfrm>
              <a:off x="8827920" y="6896160"/>
              <a:ext cx="558720" cy="69840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698400"/>
                <a:gd name="textAreaBottom" fmla="*/ 698760 h 698400"/>
              </a:gdLst>
              <a:ahLst/>
              <a:rect l="textAreaLeft" t="textAreaTop" r="textAreaRight" b="textAreaBottom"/>
              <a:pathLst>
                <a:path w="352" h="440">
                  <a:moveTo>
                    <a:pt x="198" y="22"/>
                  </a:moveTo>
                  <a:lnTo>
                    <a:pt x="198" y="22"/>
                  </a:lnTo>
                  <a:lnTo>
                    <a:pt x="188" y="24"/>
                  </a:lnTo>
                  <a:lnTo>
                    <a:pt x="178" y="30"/>
                  </a:lnTo>
                  <a:lnTo>
                    <a:pt x="164" y="32"/>
                  </a:lnTo>
                  <a:lnTo>
                    <a:pt x="156" y="32"/>
                  </a:lnTo>
                  <a:lnTo>
                    <a:pt x="150" y="30"/>
                  </a:lnTo>
                  <a:lnTo>
                    <a:pt x="150" y="30"/>
                  </a:lnTo>
                  <a:lnTo>
                    <a:pt x="140" y="26"/>
                  </a:lnTo>
                  <a:lnTo>
                    <a:pt x="132" y="20"/>
                  </a:lnTo>
                  <a:lnTo>
                    <a:pt x="116" y="10"/>
                  </a:lnTo>
                  <a:lnTo>
                    <a:pt x="108" y="6"/>
                  </a:lnTo>
                  <a:lnTo>
                    <a:pt x="96" y="2"/>
                  </a:lnTo>
                  <a:lnTo>
                    <a:pt x="80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50" y="24"/>
                  </a:lnTo>
                  <a:lnTo>
                    <a:pt x="40" y="50"/>
                  </a:lnTo>
                  <a:lnTo>
                    <a:pt x="30" y="78"/>
                  </a:lnTo>
                  <a:lnTo>
                    <a:pt x="20" y="106"/>
                  </a:lnTo>
                  <a:lnTo>
                    <a:pt x="12" y="138"/>
                  </a:lnTo>
                  <a:lnTo>
                    <a:pt x="6" y="168"/>
                  </a:lnTo>
                  <a:lnTo>
                    <a:pt x="2" y="200"/>
                  </a:lnTo>
                  <a:lnTo>
                    <a:pt x="0" y="230"/>
                  </a:lnTo>
                  <a:lnTo>
                    <a:pt x="0" y="260"/>
                  </a:lnTo>
                  <a:lnTo>
                    <a:pt x="4" y="290"/>
                  </a:lnTo>
                  <a:lnTo>
                    <a:pt x="10" y="318"/>
                  </a:lnTo>
                  <a:lnTo>
                    <a:pt x="20" y="344"/>
                  </a:lnTo>
                  <a:lnTo>
                    <a:pt x="34" y="366"/>
                  </a:lnTo>
                  <a:lnTo>
                    <a:pt x="44" y="378"/>
                  </a:lnTo>
                  <a:lnTo>
                    <a:pt x="52" y="388"/>
                  </a:lnTo>
                  <a:lnTo>
                    <a:pt x="64" y="396"/>
                  </a:lnTo>
                  <a:lnTo>
                    <a:pt x="74" y="404"/>
                  </a:lnTo>
                  <a:lnTo>
                    <a:pt x="88" y="412"/>
                  </a:lnTo>
                  <a:lnTo>
                    <a:pt x="102" y="418"/>
                  </a:lnTo>
                  <a:lnTo>
                    <a:pt x="102" y="418"/>
                  </a:lnTo>
                  <a:lnTo>
                    <a:pt x="134" y="430"/>
                  </a:lnTo>
                  <a:lnTo>
                    <a:pt x="154" y="436"/>
                  </a:lnTo>
                  <a:lnTo>
                    <a:pt x="172" y="440"/>
                  </a:lnTo>
                  <a:lnTo>
                    <a:pt x="192" y="440"/>
                  </a:lnTo>
                  <a:lnTo>
                    <a:pt x="212" y="440"/>
                  </a:lnTo>
                  <a:lnTo>
                    <a:pt x="230" y="436"/>
                  </a:lnTo>
                  <a:lnTo>
                    <a:pt x="238" y="432"/>
                  </a:lnTo>
                  <a:lnTo>
                    <a:pt x="246" y="426"/>
                  </a:lnTo>
                  <a:lnTo>
                    <a:pt x="246" y="426"/>
                  </a:lnTo>
                  <a:lnTo>
                    <a:pt x="260" y="420"/>
                  </a:lnTo>
                  <a:lnTo>
                    <a:pt x="270" y="414"/>
                  </a:lnTo>
                  <a:lnTo>
                    <a:pt x="280" y="408"/>
                  </a:lnTo>
                  <a:lnTo>
                    <a:pt x="286" y="400"/>
                  </a:lnTo>
                  <a:lnTo>
                    <a:pt x="296" y="382"/>
                  </a:lnTo>
                  <a:lnTo>
                    <a:pt x="310" y="358"/>
                  </a:lnTo>
                  <a:lnTo>
                    <a:pt x="310" y="358"/>
                  </a:lnTo>
                  <a:lnTo>
                    <a:pt x="322" y="334"/>
                  </a:lnTo>
                  <a:lnTo>
                    <a:pt x="332" y="312"/>
                  </a:lnTo>
                  <a:lnTo>
                    <a:pt x="340" y="290"/>
                  </a:lnTo>
                  <a:lnTo>
                    <a:pt x="346" y="272"/>
                  </a:lnTo>
                  <a:lnTo>
                    <a:pt x="350" y="252"/>
                  </a:lnTo>
                  <a:lnTo>
                    <a:pt x="352" y="234"/>
                  </a:lnTo>
                  <a:lnTo>
                    <a:pt x="352" y="216"/>
                  </a:lnTo>
                  <a:lnTo>
                    <a:pt x="350" y="200"/>
                  </a:lnTo>
                  <a:lnTo>
                    <a:pt x="346" y="182"/>
                  </a:lnTo>
                  <a:lnTo>
                    <a:pt x="340" y="166"/>
                  </a:lnTo>
                  <a:lnTo>
                    <a:pt x="326" y="132"/>
                  </a:lnTo>
                  <a:lnTo>
                    <a:pt x="308" y="94"/>
                  </a:lnTo>
                  <a:lnTo>
                    <a:pt x="286" y="52"/>
                  </a:lnTo>
                  <a:lnTo>
                    <a:pt x="286" y="52"/>
                  </a:lnTo>
                  <a:lnTo>
                    <a:pt x="264" y="46"/>
                  </a:lnTo>
                  <a:lnTo>
                    <a:pt x="242" y="34"/>
                  </a:lnTo>
                  <a:lnTo>
                    <a:pt x="220" y="26"/>
                  </a:lnTo>
                  <a:lnTo>
                    <a:pt x="208" y="24"/>
                  </a:lnTo>
                  <a:lnTo>
                    <a:pt x="198" y="22"/>
                  </a:lnTo>
                  <a:lnTo>
                    <a:pt x="198" y="22"/>
                  </a:lnTo>
                  <a:close/>
                  <a:moveTo>
                    <a:pt x="190" y="350"/>
                  </a:moveTo>
                  <a:lnTo>
                    <a:pt x="190" y="350"/>
                  </a:lnTo>
                  <a:lnTo>
                    <a:pt x="166" y="352"/>
                  </a:lnTo>
                  <a:lnTo>
                    <a:pt x="150" y="352"/>
                  </a:lnTo>
                  <a:lnTo>
                    <a:pt x="136" y="346"/>
                  </a:lnTo>
                  <a:lnTo>
                    <a:pt x="118" y="334"/>
                  </a:lnTo>
                  <a:lnTo>
                    <a:pt x="118" y="334"/>
                  </a:lnTo>
                  <a:lnTo>
                    <a:pt x="110" y="314"/>
                  </a:lnTo>
                  <a:lnTo>
                    <a:pt x="106" y="292"/>
                  </a:lnTo>
                  <a:lnTo>
                    <a:pt x="106" y="268"/>
                  </a:lnTo>
                  <a:lnTo>
                    <a:pt x="106" y="246"/>
                  </a:lnTo>
                  <a:lnTo>
                    <a:pt x="110" y="198"/>
                  </a:lnTo>
                  <a:lnTo>
                    <a:pt x="118" y="152"/>
                  </a:lnTo>
                  <a:lnTo>
                    <a:pt x="118" y="152"/>
                  </a:lnTo>
                  <a:lnTo>
                    <a:pt x="138" y="146"/>
                  </a:lnTo>
                  <a:lnTo>
                    <a:pt x="144" y="144"/>
                  </a:lnTo>
                  <a:lnTo>
                    <a:pt x="148" y="138"/>
                  </a:lnTo>
                  <a:lnTo>
                    <a:pt x="158" y="128"/>
                  </a:lnTo>
                  <a:lnTo>
                    <a:pt x="166" y="114"/>
                  </a:lnTo>
                  <a:lnTo>
                    <a:pt x="166" y="114"/>
                  </a:lnTo>
                  <a:lnTo>
                    <a:pt x="202" y="116"/>
                  </a:lnTo>
                  <a:lnTo>
                    <a:pt x="216" y="118"/>
                  </a:lnTo>
                  <a:lnTo>
                    <a:pt x="230" y="122"/>
                  </a:lnTo>
                  <a:lnTo>
                    <a:pt x="230" y="122"/>
                  </a:lnTo>
                  <a:lnTo>
                    <a:pt x="240" y="162"/>
                  </a:lnTo>
                  <a:lnTo>
                    <a:pt x="244" y="194"/>
                  </a:lnTo>
                  <a:lnTo>
                    <a:pt x="246" y="222"/>
                  </a:lnTo>
                  <a:lnTo>
                    <a:pt x="242" y="246"/>
                  </a:lnTo>
                  <a:lnTo>
                    <a:pt x="236" y="270"/>
                  </a:lnTo>
                  <a:lnTo>
                    <a:pt x="224" y="294"/>
                  </a:lnTo>
                  <a:lnTo>
                    <a:pt x="208" y="320"/>
                  </a:lnTo>
                  <a:lnTo>
                    <a:pt x="190" y="350"/>
                  </a:lnTo>
                  <a:lnTo>
                    <a:pt x="190" y="3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33"/>
            <p:cNvSpPr/>
            <p:nvPr/>
          </p:nvSpPr>
          <p:spPr>
            <a:xfrm>
              <a:off x="4474800" y="6908760"/>
              <a:ext cx="1428480" cy="1546200"/>
            </a:xfrm>
            <a:custGeom>
              <a:avLst/>
              <a:gdLst>
                <a:gd name="textAreaLeft" fmla="*/ 0 w 1428480"/>
                <a:gd name="textAreaRight" fmla="*/ 1428840 w 1428480"/>
                <a:gd name="textAreaTop" fmla="*/ 0 h 1546200"/>
                <a:gd name="textAreaBottom" fmla="*/ 1546560 h 1546200"/>
              </a:gdLst>
              <a:ahLst/>
              <a:rect l="textAreaLeft" t="textAreaTop" r="textAreaRight" b="textAreaBottom"/>
              <a:pathLst>
                <a:path w="900" h="974">
                  <a:moveTo>
                    <a:pt x="820" y="746"/>
                  </a:moveTo>
                  <a:lnTo>
                    <a:pt x="820" y="746"/>
                  </a:lnTo>
                  <a:lnTo>
                    <a:pt x="794" y="678"/>
                  </a:lnTo>
                  <a:lnTo>
                    <a:pt x="768" y="608"/>
                  </a:lnTo>
                  <a:lnTo>
                    <a:pt x="744" y="538"/>
                  </a:lnTo>
                  <a:lnTo>
                    <a:pt x="722" y="466"/>
                  </a:lnTo>
                  <a:lnTo>
                    <a:pt x="702" y="390"/>
                  </a:lnTo>
                  <a:lnTo>
                    <a:pt x="688" y="314"/>
                  </a:lnTo>
                  <a:lnTo>
                    <a:pt x="680" y="274"/>
                  </a:lnTo>
                  <a:lnTo>
                    <a:pt x="676" y="234"/>
                  </a:lnTo>
                  <a:lnTo>
                    <a:pt x="672" y="192"/>
                  </a:lnTo>
                  <a:lnTo>
                    <a:pt x="668" y="152"/>
                  </a:lnTo>
                  <a:lnTo>
                    <a:pt x="668" y="152"/>
                  </a:lnTo>
                  <a:lnTo>
                    <a:pt x="654" y="140"/>
                  </a:lnTo>
                  <a:lnTo>
                    <a:pt x="640" y="126"/>
                  </a:lnTo>
                  <a:lnTo>
                    <a:pt x="612" y="98"/>
                  </a:lnTo>
                  <a:lnTo>
                    <a:pt x="598" y="84"/>
                  </a:lnTo>
                  <a:lnTo>
                    <a:pt x="584" y="72"/>
                  </a:lnTo>
                  <a:lnTo>
                    <a:pt x="568" y="60"/>
                  </a:lnTo>
                  <a:lnTo>
                    <a:pt x="550" y="52"/>
                  </a:lnTo>
                  <a:lnTo>
                    <a:pt x="550" y="52"/>
                  </a:lnTo>
                  <a:lnTo>
                    <a:pt x="506" y="38"/>
                  </a:lnTo>
                  <a:lnTo>
                    <a:pt x="460" y="26"/>
                  </a:lnTo>
                  <a:lnTo>
                    <a:pt x="374" y="6"/>
                  </a:lnTo>
                  <a:lnTo>
                    <a:pt x="374" y="6"/>
                  </a:lnTo>
                  <a:lnTo>
                    <a:pt x="356" y="4"/>
                  </a:lnTo>
                  <a:lnTo>
                    <a:pt x="338" y="2"/>
                  </a:lnTo>
                  <a:lnTo>
                    <a:pt x="298" y="4"/>
                  </a:lnTo>
                  <a:lnTo>
                    <a:pt x="262" y="4"/>
                  </a:lnTo>
                  <a:lnTo>
                    <a:pt x="246" y="2"/>
                  </a:lnTo>
                  <a:lnTo>
                    <a:pt x="230" y="0"/>
                  </a:lnTo>
                  <a:lnTo>
                    <a:pt x="230" y="0"/>
                  </a:lnTo>
                  <a:lnTo>
                    <a:pt x="216" y="4"/>
                  </a:lnTo>
                  <a:lnTo>
                    <a:pt x="198" y="10"/>
                  </a:lnTo>
                  <a:lnTo>
                    <a:pt x="156" y="14"/>
                  </a:lnTo>
                  <a:lnTo>
                    <a:pt x="112" y="18"/>
                  </a:lnTo>
                  <a:lnTo>
                    <a:pt x="80" y="22"/>
                  </a:lnTo>
                  <a:lnTo>
                    <a:pt x="80" y="22"/>
                  </a:lnTo>
                  <a:lnTo>
                    <a:pt x="72" y="38"/>
                  </a:lnTo>
                  <a:lnTo>
                    <a:pt x="66" y="50"/>
                  </a:lnTo>
                  <a:lnTo>
                    <a:pt x="60" y="64"/>
                  </a:lnTo>
                  <a:lnTo>
                    <a:pt x="56" y="84"/>
                  </a:lnTo>
                  <a:lnTo>
                    <a:pt x="56" y="84"/>
                  </a:lnTo>
                  <a:lnTo>
                    <a:pt x="62" y="92"/>
                  </a:lnTo>
                  <a:lnTo>
                    <a:pt x="68" y="100"/>
                  </a:lnTo>
                  <a:lnTo>
                    <a:pt x="78" y="118"/>
                  </a:lnTo>
                  <a:lnTo>
                    <a:pt x="84" y="126"/>
                  </a:lnTo>
                  <a:lnTo>
                    <a:pt x="92" y="132"/>
                  </a:lnTo>
                  <a:lnTo>
                    <a:pt x="100" y="138"/>
                  </a:lnTo>
                  <a:lnTo>
                    <a:pt x="112" y="144"/>
                  </a:lnTo>
                  <a:lnTo>
                    <a:pt x="112" y="144"/>
                  </a:lnTo>
                  <a:lnTo>
                    <a:pt x="128" y="152"/>
                  </a:lnTo>
                  <a:lnTo>
                    <a:pt x="150" y="158"/>
                  </a:lnTo>
                  <a:lnTo>
                    <a:pt x="176" y="162"/>
                  </a:lnTo>
                  <a:lnTo>
                    <a:pt x="204" y="164"/>
                  </a:lnTo>
                  <a:lnTo>
                    <a:pt x="260" y="170"/>
                  </a:lnTo>
                  <a:lnTo>
                    <a:pt x="284" y="172"/>
                  </a:lnTo>
                  <a:lnTo>
                    <a:pt x="302" y="174"/>
                  </a:lnTo>
                  <a:lnTo>
                    <a:pt x="302" y="174"/>
                  </a:lnTo>
                  <a:lnTo>
                    <a:pt x="314" y="188"/>
                  </a:lnTo>
                  <a:lnTo>
                    <a:pt x="324" y="200"/>
                  </a:lnTo>
                  <a:lnTo>
                    <a:pt x="334" y="212"/>
                  </a:lnTo>
                  <a:lnTo>
                    <a:pt x="344" y="224"/>
                  </a:lnTo>
                  <a:lnTo>
                    <a:pt x="352" y="238"/>
                  </a:lnTo>
                  <a:lnTo>
                    <a:pt x="360" y="254"/>
                  </a:lnTo>
                  <a:lnTo>
                    <a:pt x="364" y="272"/>
                  </a:lnTo>
                  <a:lnTo>
                    <a:pt x="366" y="296"/>
                  </a:lnTo>
                  <a:lnTo>
                    <a:pt x="366" y="296"/>
                  </a:lnTo>
                  <a:lnTo>
                    <a:pt x="352" y="314"/>
                  </a:lnTo>
                  <a:lnTo>
                    <a:pt x="340" y="332"/>
                  </a:lnTo>
                  <a:lnTo>
                    <a:pt x="328" y="350"/>
                  </a:lnTo>
                  <a:lnTo>
                    <a:pt x="320" y="358"/>
                  </a:lnTo>
                  <a:lnTo>
                    <a:pt x="310" y="364"/>
                  </a:lnTo>
                  <a:lnTo>
                    <a:pt x="310" y="364"/>
                  </a:lnTo>
                  <a:lnTo>
                    <a:pt x="300" y="370"/>
                  </a:lnTo>
                  <a:lnTo>
                    <a:pt x="286" y="374"/>
                  </a:lnTo>
                  <a:lnTo>
                    <a:pt x="270" y="374"/>
                  </a:lnTo>
                  <a:lnTo>
                    <a:pt x="254" y="374"/>
                  </a:lnTo>
                  <a:lnTo>
                    <a:pt x="228" y="372"/>
                  </a:lnTo>
                  <a:lnTo>
                    <a:pt x="220" y="372"/>
                  </a:lnTo>
                  <a:lnTo>
                    <a:pt x="214" y="372"/>
                  </a:lnTo>
                  <a:lnTo>
                    <a:pt x="214" y="372"/>
                  </a:lnTo>
                  <a:lnTo>
                    <a:pt x="194" y="380"/>
                  </a:lnTo>
                  <a:lnTo>
                    <a:pt x="172" y="390"/>
                  </a:lnTo>
                  <a:lnTo>
                    <a:pt x="152" y="404"/>
                  </a:lnTo>
                  <a:lnTo>
                    <a:pt x="134" y="418"/>
                  </a:lnTo>
                  <a:lnTo>
                    <a:pt x="116" y="436"/>
                  </a:lnTo>
                  <a:lnTo>
                    <a:pt x="98" y="454"/>
                  </a:lnTo>
                  <a:lnTo>
                    <a:pt x="82" y="474"/>
                  </a:lnTo>
                  <a:lnTo>
                    <a:pt x="68" y="496"/>
                  </a:lnTo>
                  <a:lnTo>
                    <a:pt x="54" y="520"/>
                  </a:lnTo>
                  <a:lnTo>
                    <a:pt x="42" y="544"/>
                  </a:lnTo>
                  <a:lnTo>
                    <a:pt x="32" y="570"/>
                  </a:lnTo>
                  <a:lnTo>
                    <a:pt x="22" y="596"/>
                  </a:lnTo>
                  <a:lnTo>
                    <a:pt x="14" y="622"/>
                  </a:lnTo>
                  <a:lnTo>
                    <a:pt x="8" y="648"/>
                  </a:lnTo>
                  <a:lnTo>
                    <a:pt x="4" y="676"/>
                  </a:lnTo>
                  <a:lnTo>
                    <a:pt x="0" y="702"/>
                  </a:lnTo>
                  <a:lnTo>
                    <a:pt x="0" y="728"/>
                  </a:lnTo>
                  <a:lnTo>
                    <a:pt x="0" y="756"/>
                  </a:lnTo>
                  <a:lnTo>
                    <a:pt x="4" y="780"/>
                  </a:lnTo>
                  <a:lnTo>
                    <a:pt x="8" y="806"/>
                  </a:lnTo>
                  <a:lnTo>
                    <a:pt x="16" y="830"/>
                  </a:lnTo>
                  <a:lnTo>
                    <a:pt x="26" y="852"/>
                  </a:lnTo>
                  <a:lnTo>
                    <a:pt x="36" y="874"/>
                  </a:lnTo>
                  <a:lnTo>
                    <a:pt x="50" y="894"/>
                  </a:lnTo>
                  <a:lnTo>
                    <a:pt x="68" y="912"/>
                  </a:lnTo>
                  <a:lnTo>
                    <a:pt x="86" y="928"/>
                  </a:lnTo>
                  <a:lnTo>
                    <a:pt x="108" y="942"/>
                  </a:lnTo>
                  <a:lnTo>
                    <a:pt x="132" y="954"/>
                  </a:lnTo>
                  <a:lnTo>
                    <a:pt x="158" y="964"/>
                  </a:lnTo>
                  <a:lnTo>
                    <a:pt x="188" y="970"/>
                  </a:lnTo>
                  <a:lnTo>
                    <a:pt x="220" y="974"/>
                  </a:lnTo>
                  <a:lnTo>
                    <a:pt x="254" y="974"/>
                  </a:lnTo>
                  <a:lnTo>
                    <a:pt x="254" y="974"/>
                  </a:lnTo>
                  <a:lnTo>
                    <a:pt x="262" y="968"/>
                  </a:lnTo>
                  <a:lnTo>
                    <a:pt x="270" y="964"/>
                  </a:lnTo>
                  <a:lnTo>
                    <a:pt x="290" y="954"/>
                  </a:lnTo>
                  <a:lnTo>
                    <a:pt x="308" y="946"/>
                  </a:lnTo>
                  <a:lnTo>
                    <a:pt x="326" y="936"/>
                  </a:lnTo>
                  <a:lnTo>
                    <a:pt x="326" y="936"/>
                  </a:lnTo>
                  <a:lnTo>
                    <a:pt x="350" y="920"/>
                  </a:lnTo>
                  <a:lnTo>
                    <a:pt x="372" y="902"/>
                  </a:lnTo>
                  <a:lnTo>
                    <a:pt x="390" y="884"/>
                  </a:lnTo>
                  <a:lnTo>
                    <a:pt x="410" y="864"/>
                  </a:lnTo>
                  <a:lnTo>
                    <a:pt x="428" y="844"/>
                  </a:lnTo>
                  <a:lnTo>
                    <a:pt x="444" y="822"/>
                  </a:lnTo>
                  <a:lnTo>
                    <a:pt x="478" y="776"/>
                  </a:lnTo>
                  <a:lnTo>
                    <a:pt x="478" y="776"/>
                  </a:lnTo>
                  <a:lnTo>
                    <a:pt x="490" y="760"/>
                  </a:lnTo>
                  <a:lnTo>
                    <a:pt x="504" y="744"/>
                  </a:lnTo>
                  <a:lnTo>
                    <a:pt x="516" y="728"/>
                  </a:lnTo>
                  <a:lnTo>
                    <a:pt x="522" y="718"/>
                  </a:lnTo>
                  <a:lnTo>
                    <a:pt x="526" y="708"/>
                  </a:lnTo>
                  <a:lnTo>
                    <a:pt x="526" y="708"/>
                  </a:lnTo>
                  <a:lnTo>
                    <a:pt x="518" y="480"/>
                  </a:lnTo>
                  <a:lnTo>
                    <a:pt x="518" y="480"/>
                  </a:lnTo>
                  <a:lnTo>
                    <a:pt x="532" y="476"/>
                  </a:lnTo>
                  <a:lnTo>
                    <a:pt x="550" y="474"/>
                  </a:lnTo>
                  <a:lnTo>
                    <a:pt x="590" y="472"/>
                  </a:lnTo>
                  <a:lnTo>
                    <a:pt x="590" y="472"/>
                  </a:lnTo>
                  <a:lnTo>
                    <a:pt x="594" y="476"/>
                  </a:lnTo>
                  <a:lnTo>
                    <a:pt x="606" y="480"/>
                  </a:lnTo>
                  <a:lnTo>
                    <a:pt x="606" y="480"/>
                  </a:lnTo>
                  <a:lnTo>
                    <a:pt x="614" y="506"/>
                  </a:lnTo>
                  <a:lnTo>
                    <a:pt x="622" y="534"/>
                  </a:lnTo>
                  <a:lnTo>
                    <a:pt x="628" y="568"/>
                  </a:lnTo>
                  <a:lnTo>
                    <a:pt x="628" y="608"/>
                  </a:lnTo>
                  <a:lnTo>
                    <a:pt x="628" y="608"/>
                  </a:lnTo>
                  <a:lnTo>
                    <a:pt x="636" y="624"/>
                  </a:lnTo>
                  <a:lnTo>
                    <a:pt x="640" y="638"/>
                  </a:lnTo>
                  <a:lnTo>
                    <a:pt x="640" y="656"/>
                  </a:lnTo>
                  <a:lnTo>
                    <a:pt x="640" y="674"/>
                  </a:lnTo>
                  <a:lnTo>
                    <a:pt x="640" y="710"/>
                  </a:lnTo>
                  <a:lnTo>
                    <a:pt x="642" y="728"/>
                  </a:lnTo>
                  <a:lnTo>
                    <a:pt x="644" y="746"/>
                  </a:lnTo>
                  <a:lnTo>
                    <a:pt x="644" y="746"/>
                  </a:lnTo>
                  <a:lnTo>
                    <a:pt x="656" y="790"/>
                  </a:lnTo>
                  <a:lnTo>
                    <a:pt x="666" y="830"/>
                  </a:lnTo>
                  <a:lnTo>
                    <a:pt x="674" y="848"/>
                  </a:lnTo>
                  <a:lnTo>
                    <a:pt x="680" y="864"/>
                  </a:lnTo>
                  <a:lnTo>
                    <a:pt x="688" y="880"/>
                  </a:lnTo>
                  <a:lnTo>
                    <a:pt x="698" y="896"/>
                  </a:lnTo>
                  <a:lnTo>
                    <a:pt x="710" y="908"/>
                  </a:lnTo>
                  <a:lnTo>
                    <a:pt x="722" y="920"/>
                  </a:lnTo>
                  <a:lnTo>
                    <a:pt x="738" y="930"/>
                  </a:lnTo>
                  <a:lnTo>
                    <a:pt x="756" y="938"/>
                  </a:lnTo>
                  <a:lnTo>
                    <a:pt x="774" y="944"/>
                  </a:lnTo>
                  <a:lnTo>
                    <a:pt x="798" y="948"/>
                  </a:lnTo>
                  <a:lnTo>
                    <a:pt x="824" y="952"/>
                  </a:lnTo>
                  <a:lnTo>
                    <a:pt x="852" y="952"/>
                  </a:lnTo>
                  <a:lnTo>
                    <a:pt x="852" y="952"/>
                  </a:lnTo>
                  <a:lnTo>
                    <a:pt x="860" y="948"/>
                  </a:lnTo>
                  <a:lnTo>
                    <a:pt x="868" y="946"/>
                  </a:lnTo>
                  <a:lnTo>
                    <a:pt x="892" y="944"/>
                  </a:lnTo>
                  <a:lnTo>
                    <a:pt x="892" y="944"/>
                  </a:lnTo>
                  <a:lnTo>
                    <a:pt x="900" y="922"/>
                  </a:lnTo>
                  <a:lnTo>
                    <a:pt x="900" y="922"/>
                  </a:lnTo>
                  <a:lnTo>
                    <a:pt x="882" y="904"/>
                  </a:lnTo>
                  <a:lnTo>
                    <a:pt x="870" y="886"/>
                  </a:lnTo>
                  <a:lnTo>
                    <a:pt x="860" y="866"/>
                  </a:lnTo>
                  <a:lnTo>
                    <a:pt x="850" y="844"/>
                  </a:lnTo>
                  <a:lnTo>
                    <a:pt x="836" y="796"/>
                  </a:lnTo>
                  <a:lnTo>
                    <a:pt x="828" y="772"/>
                  </a:lnTo>
                  <a:lnTo>
                    <a:pt x="820" y="746"/>
                  </a:lnTo>
                  <a:lnTo>
                    <a:pt x="820" y="746"/>
                  </a:lnTo>
                  <a:close/>
                  <a:moveTo>
                    <a:pt x="238" y="806"/>
                  </a:moveTo>
                  <a:lnTo>
                    <a:pt x="238" y="806"/>
                  </a:lnTo>
                  <a:lnTo>
                    <a:pt x="228" y="802"/>
                  </a:lnTo>
                  <a:lnTo>
                    <a:pt x="218" y="796"/>
                  </a:lnTo>
                  <a:lnTo>
                    <a:pt x="192" y="786"/>
                  </a:lnTo>
                  <a:lnTo>
                    <a:pt x="168" y="776"/>
                  </a:lnTo>
                  <a:lnTo>
                    <a:pt x="158" y="770"/>
                  </a:lnTo>
                  <a:lnTo>
                    <a:pt x="150" y="762"/>
                  </a:lnTo>
                  <a:lnTo>
                    <a:pt x="150" y="762"/>
                  </a:lnTo>
                  <a:lnTo>
                    <a:pt x="136" y="740"/>
                  </a:lnTo>
                  <a:lnTo>
                    <a:pt x="128" y="718"/>
                  </a:lnTo>
                  <a:lnTo>
                    <a:pt x="122" y="698"/>
                  </a:lnTo>
                  <a:lnTo>
                    <a:pt x="120" y="678"/>
                  </a:lnTo>
                  <a:lnTo>
                    <a:pt x="122" y="660"/>
                  </a:lnTo>
                  <a:lnTo>
                    <a:pt x="126" y="642"/>
                  </a:lnTo>
                  <a:lnTo>
                    <a:pt x="134" y="624"/>
                  </a:lnTo>
                  <a:lnTo>
                    <a:pt x="144" y="608"/>
                  </a:lnTo>
                  <a:lnTo>
                    <a:pt x="154" y="592"/>
                  </a:lnTo>
                  <a:lnTo>
                    <a:pt x="166" y="578"/>
                  </a:lnTo>
                  <a:lnTo>
                    <a:pt x="192" y="550"/>
                  </a:lnTo>
                  <a:lnTo>
                    <a:pt x="218" y="526"/>
                  </a:lnTo>
                  <a:lnTo>
                    <a:pt x="238" y="502"/>
                  </a:lnTo>
                  <a:lnTo>
                    <a:pt x="238" y="502"/>
                  </a:lnTo>
                  <a:lnTo>
                    <a:pt x="318" y="510"/>
                  </a:lnTo>
                  <a:lnTo>
                    <a:pt x="318" y="510"/>
                  </a:lnTo>
                  <a:lnTo>
                    <a:pt x="330" y="532"/>
                  </a:lnTo>
                  <a:lnTo>
                    <a:pt x="342" y="550"/>
                  </a:lnTo>
                  <a:lnTo>
                    <a:pt x="368" y="582"/>
                  </a:lnTo>
                  <a:lnTo>
                    <a:pt x="380" y="602"/>
                  </a:lnTo>
                  <a:lnTo>
                    <a:pt x="388" y="624"/>
                  </a:lnTo>
                  <a:lnTo>
                    <a:pt x="392" y="638"/>
                  </a:lnTo>
                  <a:lnTo>
                    <a:pt x="396" y="654"/>
                  </a:lnTo>
                  <a:lnTo>
                    <a:pt x="398" y="672"/>
                  </a:lnTo>
                  <a:lnTo>
                    <a:pt x="398" y="692"/>
                  </a:lnTo>
                  <a:lnTo>
                    <a:pt x="398" y="692"/>
                  </a:lnTo>
                  <a:lnTo>
                    <a:pt x="380" y="710"/>
                  </a:lnTo>
                  <a:lnTo>
                    <a:pt x="364" y="728"/>
                  </a:lnTo>
                  <a:lnTo>
                    <a:pt x="350" y="746"/>
                  </a:lnTo>
                  <a:lnTo>
                    <a:pt x="334" y="764"/>
                  </a:lnTo>
                  <a:lnTo>
                    <a:pt x="318" y="780"/>
                  </a:lnTo>
                  <a:lnTo>
                    <a:pt x="308" y="786"/>
                  </a:lnTo>
                  <a:lnTo>
                    <a:pt x="298" y="792"/>
                  </a:lnTo>
                  <a:lnTo>
                    <a:pt x="284" y="798"/>
                  </a:lnTo>
                  <a:lnTo>
                    <a:pt x="272" y="802"/>
                  </a:lnTo>
                  <a:lnTo>
                    <a:pt x="256" y="806"/>
                  </a:lnTo>
                  <a:lnTo>
                    <a:pt x="238" y="806"/>
                  </a:lnTo>
                  <a:lnTo>
                    <a:pt x="238" y="806"/>
                  </a:lnTo>
                  <a:close/>
                </a:path>
              </a:pathLst>
            </a:custGeom>
            <a:solidFill>
              <a:srgbClr val="fc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34"/>
            <p:cNvSpPr/>
            <p:nvPr/>
          </p:nvSpPr>
          <p:spPr>
            <a:xfrm>
              <a:off x="6891120" y="7016760"/>
              <a:ext cx="561960" cy="77472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354" h="488">
                  <a:moveTo>
                    <a:pt x="94" y="0"/>
                  </a:moveTo>
                  <a:lnTo>
                    <a:pt x="94" y="0"/>
                  </a:lnTo>
                  <a:lnTo>
                    <a:pt x="86" y="4"/>
                  </a:lnTo>
                  <a:lnTo>
                    <a:pt x="70" y="8"/>
                  </a:lnTo>
                  <a:lnTo>
                    <a:pt x="70" y="8"/>
                  </a:lnTo>
                  <a:lnTo>
                    <a:pt x="56" y="38"/>
                  </a:lnTo>
                  <a:lnTo>
                    <a:pt x="42" y="72"/>
                  </a:lnTo>
                  <a:lnTo>
                    <a:pt x="30" y="108"/>
                  </a:lnTo>
                  <a:lnTo>
                    <a:pt x="18" y="148"/>
                  </a:lnTo>
                  <a:lnTo>
                    <a:pt x="10" y="186"/>
                  </a:lnTo>
                  <a:lnTo>
                    <a:pt x="4" y="228"/>
                  </a:lnTo>
                  <a:lnTo>
                    <a:pt x="0" y="268"/>
                  </a:lnTo>
                  <a:lnTo>
                    <a:pt x="0" y="306"/>
                  </a:lnTo>
                  <a:lnTo>
                    <a:pt x="2" y="326"/>
                  </a:lnTo>
                  <a:lnTo>
                    <a:pt x="6" y="344"/>
                  </a:lnTo>
                  <a:lnTo>
                    <a:pt x="10" y="362"/>
                  </a:lnTo>
                  <a:lnTo>
                    <a:pt x="16" y="378"/>
                  </a:lnTo>
                  <a:lnTo>
                    <a:pt x="22" y="394"/>
                  </a:lnTo>
                  <a:lnTo>
                    <a:pt x="32" y="410"/>
                  </a:lnTo>
                  <a:lnTo>
                    <a:pt x="40" y="424"/>
                  </a:lnTo>
                  <a:lnTo>
                    <a:pt x="52" y="436"/>
                  </a:lnTo>
                  <a:lnTo>
                    <a:pt x="66" y="448"/>
                  </a:lnTo>
                  <a:lnTo>
                    <a:pt x="80" y="458"/>
                  </a:lnTo>
                  <a:lnTo>
                    <a:pt x="96" y="468"/>
                  </a:lnTo>
                  <a:lnTo>
                    <a:pt x="114" y="474"/>
                  </a:lnTo>
                  <a:lnTo>
                    <a:pt x="134" y="480"/>
                  </a:lnTo>
                  <a:lnTo>
                    <a:pt x="156" y="484"/>
                  </a:lnTo>
                  <a:lnTo>
                    <a:pt x="180" y="488"/>
                  </a:lnTo>
                  <a:lnTo>
                    <a:pt x="206" y="488"/>
                  </a:lnTo>
                  <a:lnTo>
                    <a:pt x="206" y="488"/>
                  </a:lnTo>
                  <a:lnTo>
                    <a:pt x="244" y="454"/>
                  </a:lnTo>
                  <a:lnTo>
                    <a:pt x="284" y="420"/>
                  </a:lnTo>
                  <a:lnTo>
                    <a:pt x="302" y="400"/>
                  </a:lnTo>
                  <a:lnTo>
                    <a:pt x="318" y="380"/>
                  </a:lnTo>
                  <a:lnTo>
                    <a:pt x="332" y="358"/>
                  </a:lnTo>
                  <a:lnTo>
                    <a:pt x="342" y="336"/>
                  </a:lnTo>
                  <a:lnTo>
                    <a:pt x="342" y="336"/>
                  </a:lnTo>
                  <a:lnTo>
                    <a:pt x="346" y="320"/>
                  </a:lnTo>
                  <a:lnTo>
                    <a:pt x="350" y="304"/>
                  </a:lnTo>
                  <a:lnTo>
                    <a:pt x="354" y="274"/>
                  </a:lnTo>
                  <a:lnTo>
                    <a:pt x="352" y="242"/>
                  </a:lnTo>
                  <a:lnTo>
                    <a:pt x="346" y="212"/>
                  </a:lnTo>
                  <a:lnTo>
                    <a:pt x="338" y="184"/>
                  </a:lnTo>
                  <a:lnTo>
                    <a:pt x="324" y="156"/>
                  </a:lnTo>
                  <a:lnTo>
                    <a:pt x="308" y="130"/>
                  </a:lnTo>
                  <a:lnTo>
                    <a:pt x="290" y="106"/>
                  </a:lnTo>
                  <a:lnTo>
                    <a:pt x="270" y="82"/>
                  </a:lnTo>
                  <a:lnTo>
                    <a:pt x="248" y="62"/>
                  </a:lnTo>
                  <a:lnTo>
                    <a:pt x="224" y="44"/>
                  </a:lnTo>
                  <a:lnTo>
                    <a:pt x="198" y="28"/>
                  </a:lnTo>
                  <a:lnTo>
                    <a:pt x="174" y="16"/>
                  </a:lnTo>
                  <a:lnTo>
                    <a:pt x="146" y="6"/>
                  </a:lnTo>
                  <a:lnTo>
                    <a:pt x="120" y="2"/>
                  </a:lnTo>
                  <a:lnTo>
                    <a:pt x="94" y="0"/>
                  </a:lnTo>
                  <a:lnTo>
                    <a:pt x="94" y="0"/>
                  </a:lnTo>
                  <a:close/>
                  <a:moveTo>
                    <a:pt x="158" y="396"/>
                  </a:moveTo>
                  <a:lnTo>
                    <a:pt x="158" y="396"/>
                  </a:lnTo>
                  <a:lnTo>
                    <a:pt x="140" y="390"/>
                  </a:lnTo>
                  <a:lnTo>
                    <a:pt x="130" y="384"/>
                  </a:lnTo>
                  <a:lnTo>
                    <a:pt x="122" y="376"/>
                  </a:lnTo>
                  <a:lnTo>
                    <a:pt x="110" y="366"/>
                  </a:lnTo>
                  <a:lnTo>
                    <a:pt x="110" y="366"/>
                  </a:lnTo>
                  <a:lnTo>
                    <a:pt x="108" y="324"/>
                  </a:lnTo>
                  <a:lnTo>
                    <a:pt x="106" y="284"/>
                  </a:lnTo>
                  <a:lnTo>
                    <a:pt x="108" y="246"/>
                  </a:lnTo>
                  <a:lnTo>
                    <a:pt x="112" y="212"/>
                  </a:lnTo>
                  <a:lnTo>
                    <a:pt x="120" y="178"/>
                  </a:lnTo>
                  <a:lnTo>
                    <a:pt x="128" y="146"/>
                  </a:lnTo>
                  <a:lnTo>
                    <a:pt x="138" y="114"/>
                  </a:lnTo>
                  <a:lnTo>
                    <a:pt x="150" y="84"/>
                  </a:lnTo>
                  <a:lnTo>
                    <a:pt x="150" y="84"/>
                  </a:lnTo>
                  <a:lnTo>
                    <a:pt x="168" y="90"/>
                  </a:lnTo>
                  <a:lnTo>
                    <a:pt x="182" y="98"/>
                  </a:lnTo>
                  <a:lnTo>
                    <a:pt x="192" y="106"/>
                  </a:lnTo>
                  <a:lnTo>
                    <a:pt x="202" y="116"/>
                  </a:lnTo>
                  <a:lnTo>
                    <a:pt x="208" y="126"/>
                  </a:lnTo>
                  <a:lnTo>
                    <a:pt x="214" y="136"/>
                  </a:lnTo>
                  <a:lnTo>
                    <a:pt x="218" y="146"/>
                  </a:lnTo>
                  <a:lnTo>
                    <a:pt x="220" y="158"/>
                  </a:lnTo>
                  <a:lnTo>
                    <a:pt x="228" y="208"/>
                  </a:lnTo>
                  <a:lnTo>
                    <a:pt x="234" y="234"/>
                  </a:lnTo>
                  <a:lnTo>
                    <a:pt x="240" y="246"/>
                  </a:lnTo>
                  <a:lnTo>
                    <a:pt x="246" y="258"/>
                  </a:lnTo>
                  <a:lnTo>
                    <a:pt x="246" y="258"/>
                  </a:lnTo>
                  <a:lnTo>
                    <a:pt x="240" y="282"/>
                  </a:lnTo>
                  <a:lnTo>
                    <a:pt x="232" y="304"/>
                  </a:lnTo>
                  <a:lnTo>
                    <a:pt x="222" y="320"/>
                  </a:lnTo>
                  <a:lnTo>
                    <a:pt x="210" y="336"/>
                  </a:lnTo>
                  <a:lnTo>
                    <a:pt x="184" y="364"/>
                  </a:lnTo>
                  <a:lnTo>
                    <a:pt x="172" y="380"/>
                  </a:lnTo>
                  <a:lnTo>
                    <a:pt x="158" y="396"/>
                  </a:lnTo>
                  <a:lnTo>
                    <a:pt x="158" y="3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35"/>
            <p:cNvSpPr/>
            <p:nvPr/>
          </p:nvSpPr>
          <p:spPr>
            <a:xfrm>
              <a:off x="16156080" y="7054920"/>
              <a:ext cx="749160" cy="20415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2041560"/>
                <a:gd name="textAreaBottom" fmla="*/ 2041920 h 2041560"/>
              </a:gdLst>
              <a:ahLst/>
              <a:rect l="textAreaLeft" t="textAreaTop" r="textAreaRight" b="textAreaBottom"/>
              <a:pathLst>
                <a:path w="472" h="1286">
                  <a:moveTo>
                    <a:pt x="458" y="296"/>
                  </a:moveTo>
                  <a:lnTo>
                    <a:pt x="458" y="296"/>
                  </a:lnTo>
                  <a:lnTo>
                    <a:pt x="454" y="276"/>
                  </a:lnTo>
                  <a:lnTo>
                    <a:pt x="454" y="258"/>
                  </a:lnTo>
                  <a:lnTo>
                    <a:pt x="452" y="218"/>
                  </a:lnTo>
                  <a:lnTo>
                    <a:pt x="452" y="176"/>
                  </a:lnTo>
                  <a:lnTo>
                    <a:pt x="452" y="138"/>
                  </a:lnTo>
                  <a:lnTo>
                    <a:pt x="450" y="102"/>
                  </a:lnTo>
                  <a:lnTo>
                    <a:pt x="446" y="84"/>
                  </a:lnTo>
                  <a:lnTo>
                    <a:pt x="440" y="70"/>
                  </a:lnTo>
                  <a:lnTo>
                    <a:pt x="434" y="54"/>
                  </a:lnTo>
                  <a:lnTo>
                    <a:pt x="426" y="42"/>
                  </a:lnTo>
                  <a:lnTo>
                    <a:pt x="414" y="30"/>
                  </a:lnTo>
                  <a:lnTo>
                    <a:pt x="402" y="22"/>
                  </a:lnTo>
                  <a:lnTo>
                    <a:pt x="402" y="22"/>
                  </a:lnTo>
                  <a:lnTo>
                    <a:pt x="386" y="14"/>
                  </a:lnTo>
                  <a:lnTo>
                    <a:pt x="370" y="10"/>
                  </a:lnTo>
                  <a:lnTo>
                    <a:pt x="350" y="4"/>
                  </a:lnTo>
                  <a:lnTo>
                    <a:pt x="328" y="2"/>
                  </a:lnTo>
                  <a:lnTo>
                    <a:pt x="282" y="0"/>
                  </a:lnTo>
                  <a:lnTo>
                    <a:pt x="232" y="2"/>
                  </a:lnTo>
                  <a:lnTo>
                    <a:pt x="182" y="6"/>
                  </a:lnTo>
                  <a:lnTo>
                    <a:pt x="138" y="12"/>
                  </a:lnTo>
                  <a:lnTo>
                    <a:pt x="98" y="20"/>
                  </a:lnTo>
                  <a:lnTo>
                    <a:pt x="68" y="30"/>
                  </a:lnTo>
                  <a:lnTo>
                    <a:pt x="68" y="30"/>
                  </a:lnTo>
                  <a:lnTo>
                    <a:pt x="58" y="54"/>
                  </a:lnTo>
                  <a:lnTo>
                    <a:pt x="52" y="78"/>
                  </a:lnTo>
                  <a:lnTo>
                    <a:pt x="48" y="104"/>
                  </a:lnTo>
                  <a:lnTo>
                    <a:pt x="46" y="130"/>
                  </a:lnTo>
                  <a:lnTo>
                    <a:pt x="42" y="186"/>
                  </a:lnTo>
                  <a:lnTo>
                    <a:pt x="40" y="218"/>
                  </a:lnTo>
                  <a:lnTo>
                    <a:pt x="36" y="250"/>
                  </a:lnTo>
                  <a:lnTo>
                    <a:pt x="36" y="250"/>
                  </a:lnTo>
                  <a:lnTo>
                    <a:pt x="34" y="266"/>
                  </a:lnTo>
                  <a:lnTo>
                    <a:pt x="34" y="286"/>
                  </a:lnTo>
                  <a:lnTo>
                    <a:pt x="38" y="332"/>
                  </a:lnTo>
                  <a:lnTo>
                    <a:pt x="40" y="358"/>
                  </a:lnTo>
                  <a:lnTo>
                    <a:pt x="40" y="384"/>
                  </a:lnTo>
                  <a:lnTo>
                    <a:pt x="40" y="410"/>
                  </a:lnTo>
                  <a:lnTo>
                    <a:pt x="36" y="434"/>
                  </a:lnTo>
                  <a:lnTo>
                    <a:pt x="36" y="434"/>
                  </a:lnTo>
                  <a:lnTo>
                    <a:pt x="32" y="458"/>
                  </a:lnTo>
                  <a:lnTo>
                    <a:pt x="30" y="486"/>
                  </a:lnTo>
                  <a:lnTo>
                    <a:pt x="32" y="548"/>
                  </a:lnTo>
                  <a:lnTo>
                    <a:pt x="34" y="580"/>
                  </a:lnTo>
                  <a:lnTo>
                    <a:pt x="34" y="610"/>
                  </a:lnTo>
                  <a:lnTo>
                    <a:pt x="32" y="640"/>
                  </a:lnTo>
                  <a:lnTo>
                    <a:pt x="28" y="670"/>
                  </a:lnTo>
                  <a:lnTo>
                    <a:pt x="28" y="670"/>
                  </a:lnTo>
                  <a:lnTo>
                    <a:pt x="22" y="696"/>
                  </a:lnTo>
                  <a:lnTo>
                    <a:pt x="16" y="728"/>
                  </a:lnTo>
                  <a:lnTo>
                    <a:pt x="12" y="760"/>
                  </a:lnTo>
                  <a:lnTo>
                    <a:pt x="12" y="792"/>
                  </a:lnTo>
                  <a:lnTo>
                    <a:pt x="12" y="792"/>
                  </a:lnTo>
                  <a:lnTo>
                    <a:pt x="8" y="858"/>
                  </a:lnTo>
                  <a:lnTo>
                    <a:pt x="2" y="946"/>
                  </a:lnTo>
                  <a:lnTo>
                    <a:pt x="0" y="990"/>
                  </a:lnTo>
                  <a:lnTo>
                    <a:pt x="0" y="1028"/>
                  </a:lnTo>
                  <a:lnTo>
                    <a:pt x="4" y="1060"/>
                  </a:lnTo>
                  <a:lnTo>
                    <a:pt x="6" y="1072"/>
                  </a:lnTo>
                  <a:lnTo>
                    <a:pt x="12" y="1080"/>
                  </a:lnTo>
                  <a:lnTo>
                    <a:pt x="12" y="1080"/>
                  </a:lnTo>
                  <a:lnTo>
                    <a:pt x="14" y="1100"/>
                  </a:lnTo>
                  <a:lnTo>
                    <a:pt x="20" y="1120"/>
                  </a:lnTo>
                  <a:lnTo>
                    <a:pt x="30" y="1138"/>
                  </a:lnTo>
                  <a:lnTo>
                    <a:pt x="44" y="1156"/>
                  </a:lnTo>
                  <a:lnTo>
                    <a:pt x="62" y="1172"/>
                  </a:lnTo>
                  <a:lnTo>
                    <a:pt x="82" y="1188"/>
                  </a:lnTo>
                  <a:lnTo>
                    <a:pt x="104" y="1202"/>
                  </a:lnTo>
                  <a:lnTo>
                    <a:pt x="126" y="1218"/>
                  </a:lnTo>
                  <a:lnTo>
                    <a:pt x="152" y="1230"/>
                  </a:lnTo>
                  <a:lnTo>
                    <a:pt x="178" y="1242"/>
                  </a:lnTo>
                  <a:lnTo>
                    <a:pt x="228" y="1262"/>
                  </a:lnTo>
                  <a:lnTo>
                    <a:pt x="278" y="1278"/>
                  </a:lnTo>
                  <a:lnTo>
                    <a:pt x="322" y="1286"/>
                  </a:lnTo>
                  <a:lnTo>
                    <a:pt x="322" y="1286"/>
                  </a:lnTo>
                  <a:lnTo>
                    <a:pt x="334" y="1274"/>
                  </a:lnTo>
                  <a:lnTo>
                    <a:pt x="350" y="1264"/>
                  </a:lnTo>
                  <a:lnTo>
                    <a:pt x="366" y="1254"/>
                  </a:lnTo>
                  <a:lnTo>
                    <a:pt x="386" y="1248"/>
                  </a:lnTo>
                  <a:lnTo>
                    <a:pt x="386" y="1248"/>
                  </a:lnTo>
                  <a:lnTo>
                    <a:pt x="390" y="1222"/>
                  </a:lnTo>
                  <a:lnTo>
                    <a:pt x="398" y="1198"/>
                  </a:lnTo>
                  <a:lnTo>
                    <a:pt x="414" y="1148"/>
                  </a:lnTo>
                  <a:lnTo>
                    <a:pt x="434" y="1100"/>
                  </a:lnTo>
                  <a:lnTo>
                    <a:pt x="442" y="1076"/>
                  </a:lnTo>
                  <a:lnTo>
                    <a:pt x="450" y="1050"/>
                  </a:lnTo>
                  <a:lnTo>
                    <a:pt x="450" y="1050"/>
                  </a:lnTo>
                  <a:lnTo>
                    <a:pt x="456" y="1024"/>
                  </a:lnTo>
                  <a:lnTo>
                    <a:pt x="460" y="994"/>
                  </a:lnTo>
                  <a:lnTo>
                    <a:pt x="468" y="932"/>
                  </a:lnTo>
                  <a:lnTo>
                    <a:pt x="472" y="864"/>
                  </a:lnTo>
                  <a:lnTo>
                    <a:pt x="472" y="794"/>
                  </a:lnTo>
                  <a:lnTo>
                    <a:pt x="472" y="724"/>
                  </a:lnTo>
                  <a:lnTo>
                    <a:pt x="468" y="662"/>
                  </a:lnTo>
                  <a:lnTo>
                    <a:pt x="464" y="606"/>
                  </a:lnTo>
                  <a:lnTo>
                    <a:pt x="458" y="562"/>
                  </a:lnTo>
                  <a:lnTo>
                    <a:pt x="458" y="562"/>
                  </a:lnTo>
                  <a:lnTo>
                    <a:pt x="454" y="530"/>
                  </a:lnTo>
                  <a:lnTo>
                    <a:pt x="452" y="494"/>
                  </a:lnTo>
                  <a:lnTo>
                    <a:pt x="454" y="456"/>
                  </a:lnTo>
                  <a:lnTo>
                    <a:pt x="456" y="420"/>
                  </a:lnTo>
                  <a:lnTo>
                    <a:pt x="460" y="350"/>
                  </a:lnTo>
                  <a:lnTo>
                    <a:pt x="460" y="320"/>
                  </a:lnTo>
                  <a:lnTo>
                    <a:pt x="458" y="296"/>
                  </a:lnTo>
                  <a:lnTo>
                    <a:pt x="458" y="296"/>
                  </a:lnTo>
                  <a:close/>
                  <a:moveTo>
                    <a:pt x="354" y="966"/>
                  </a:moveTo>
                  <a:lnTo>
                    <a:pt x="354" y="966"/>
                  </a:lnTo>
                  <a:lnTo>
                    <a:pt x="338" y="1024"/>
                  </a:lnTo>
                  <a:lnTo>
                    <a:pt x="320" y="1080"/>
                  </a:lnTo>
                  <a:lnTo>
                    <a:pt x="304" y="1134"/>
                  </a:lnTo>
                  <a:lnTo>
                    <a:pt x="290" y="1188"/>
                  </a:lnTo>
                  <a:lnTo>
                    <a:pt x="290" y="1188"/>
                  </a:lnTo>
                  <a:lnTo>
                    <a:pt x="272" y="1186"/>
                  </a:lnTo>
                  <a:lnTo>
                    <a:pt x="256" y="1182"/>
                  </a:lnTo>
                  <a:lnTo>
                    <a:pt x="242" y="1178"/>
                  </a:lnTo>
                  <a:lnTo>
                    <a:pt x="230" y="1174"/>
                  </a:lnTo>
                  <a:lnTo>
                    <a:pt x="218" y="1168"/>
                  </a:lnTo>
                  <a:lnTo>
                    <a:pt x="206" y="1162"/>
                  </a:lnTo>
                  <a:lnTo>
                    <a:pt x="188" y="1146"/>
                  </a:lnTo>
                  <a:lnTo>
                    <a:pt x="154" y="1112"/>
                  </a:lnTo>
                  <a:lnTo>
                    <a:pt x="136" y="1096"/>
                  </a:lnTo>
                  <a:lnTo>
                    <a:pt x="114" y="1080"/>
                  </a:lnTo>
                  <a:lnTo>
                    <a:pt x="114" y="1080"/>
                  </a:lnTo>
                  <a:lnTo>
                    <a:pt x="114" y="954"/>
                  </a:lnTo>
                  <a:lnTo>
                    <a:pt x="114" y="846"/>
                  </a:lnTo>
                  <a:lnTo>
                    <a:pt x="116" y="794"/>
                  </a:lnTo>
                  <a:lnTo>
                    <a:pt x="120" y="742"/>
                  </a:lnTo>
                  <a:lnTo>
                    <a:pt x="128" y="688"/>
                  </a:lnTo>
                  <a:lnTo>
                    <a:pt x="138" y="632"/>
                  </a:lnTo>
                  <a:lnTo>
                    <a:pt x="138" y="632"/>
                  </a:lnTo>
                  <a:lnTo>
                    <a:pt x="144" y="600"/>
                  </a:lnTo>
                  <a:lnTo>
                    <a:pt x="144" y="570"/>
                  </a:lnTo>
                  <a:lnTo>
                    <a:pt x="144" y="540"/>
                  </a:lnTo>
                  <a:lnTo>
                    <a:pt x="142" y="510"/>
                  </a:lnTo>
                  <a:lnTo>
                    <a:pt x="138" y="454"/>
                  </a:lnTo>
                  <a:lnTo>
                    <a:pt x="136" y="430"/>
                  </a:lnTo>
                  <a:lnTo>
                    <a:pt x="138" y="410"/>
                  </a:lnTo>
                  <a:lnTo>
                    <a:pt x="138" y="410"/>
                  </a:lnTo>
                  <a:lnTo>
                    <a:pt x="140" y="400"/>
                  </a:lnTo>
                  <a:lnTo>
                    <a:pt x="140" y="388"/>
                  </a:lnTo>
                  <a:lnTo>
                    <a:pt x="138" y="364"/>
                  </a:lnTo>
                  <a:lnTo>
                    <a:pt x="130" y="326"/>
                  </a:lnTo>
                  <a:lnTo>
                    <a:pt x="130" y="326"/>
                  </a:lnTo>
                  <a:lnTo>
                    <a:pt x="130" y="320"/>
                  </a:lnTo>
                  <a:lnTo>
                    <a:pt x="130" y="312"/>
                  </a:lnTo>
                  <a:lnTo>
                    <a:pt x="132" y="298"/>
                  </a:lnTo>
                  <a:lnTo>
                    <a:pt x="138" y="280"/>
                  </a:lnTo>
                  <a:lnTo>
                    <a:pt x="138" y="280"/>
                  </a:lnTo>
                  <a:lnTo>
                    <a:pt x="142" y="256"/>
                  </a:lnTo>
                  <a:lnTo>
                    <a:pt x="142" y="232"/>
                  </a:lnTo>
                  <a:lnTo>
                    <a:pt x="140" y="190"/>
                  </a:lnTo>
                  <a:lnTo>
                    <a:pt x="140" y="170"/>
                  </a:lnTo>
                  <a:lnTo>
                    <a:pt x="142" y="148"/>
                  </a:lnTo>
                  <a:lnTo>
                    <a:pt x="146" y="124"/>
                  </a:lnTo>
                  <a:lnTo>
                    <a:pt x="154" y="98"/>
                  </a:lnTo>
                  <a:lnTo>
                    <a:pt x="154" y="98"/>
                  </a:lnTo>
                  <a:lnTo>
                    <a:pt x="338" y="98"/>
                  </a:lnTo>
                  <a:lnTo>
                    <a:pt x="338" y="98"/>
                  </a:lnTo>
                  <a:lnTo>
                    <a:pt x="338" y="106"/>
                  </a:lnTo>
                  <a:lnTo>
                    <a:pt x="338" y="106"/>
                  </a:lnTo>
                  <a:lnTo>
                    <a:pt x="346" y="106"/>
                  </a:lnTo>
                  <a:lnTo>
                    <a:pt x="346" y="106"/>
                  </a:lnTo>
                  <a:lnTo>
                    <a:pt x="348" y="262"/>
                  </a:lnTo>
                  <a:lnTo>
                    <a:pt x="352" y="430"/>
                  </a:lnTo>
                  <a:lnTo>
                    <a:pt x="354" y="596"/>
                  </a:lnTo>
                  <a:lnTo>
                    <a:pt x="354" y="746"/>
                  </a:lnTo>
                  <a:lnTo>
                    <a:pt x="354" y="746"/>
                  </a:lnTo>
                  <a:lnTo>
                    <a:pt x="354" y="772"/>
                  </a:lnTo>
                  <a:lnTo>
                    <a:pt x="356" y="798"/>
                  </a:lnTo>
                  <a:lnTo>
                    <a:pt x="360" y="854"/>
                  </a:lnTo>
                  <a:lnTo>
                    <a:pt x="362" y="882"/>
                  </a:lnTo>
                  <a:lnTo>
                    <a:pt x="362" y="910"/>
                  </a:lnTo>
                  <a:lnTo>
                    <a:pt x="360" y="938"/>
                  </a:lnTo>
                  <a:lnTo>
                    <a:pt x="354" y="966"/>
                  </a:lnTo>
                  <a:lnTo>
                    <a:pt x="354" y="9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36"/>
            <p:cNvSpPr/>
            <p:nvPr/>
          </p:nvSpPr>
          <p:spPr>
            <a:xfrm>
              <a:off x="16336800" y="7210440"/>
              <a:ext cx="393480" cy="173016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1730160"/>
                <a:gd name="textAreaBottom" fmla="*/ 1730520 h 1730160"/>
              </a:gdLst>
              <a:ahLst/>
              <a:rect l="textAreaLeft" t="textAreaTop" r="textAreaRight" b="textAreaBottom"/>
              <a:pathLst>
                <a:path w="248" h="1090">
                  <a:moveTo>
                    <a:pt x="232" y="8"/>
                  </a:moveTo>
                  <a:lnTo>
                    <a:pt x="232" y="8"/>
                  </a:lnTo>
                  <a:lnTo>
                    <a:pt x="224" y="8"/>
                  </a:lnTo>
                  <a:lnTo>
                    <a:pt x="224" y="8"/>
                  </a:lnTo>
                  <a:lnTo>
                    <a:pt x="224" y="0"/>
                  </a:lnTo>
                  <a:lnTo>
                    <a:pt x="224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2" y="26"/>
                  </a:lnTo>
                  <a:lnTo>
                    <a:pt x="28" y="50"/>
                  </a:lnTo>
                  <a:lnTo>
                    <a:pt x="26" y="72"/>
                  </a:lnTo>
                  <a:lnTo>
                    <a:pt x="26" y="92"/>
                  </a:lnTo>
                  <a:lnTo>
                    <a:pt x="28" y="134"/>
                  </a:lnTo>
                  <a:lnTo>
                    <a:pt x="28" y="158"/>
                  </a:lnTo>
                  <a:lnTo>
                    <a:pt x="24" y="182"/>
                  </a:lnTo>
                  <a:lnTo>
                    <a:pt x="24" y="182"/>
                  </a:lnTo>
                  <a:lnTo>
                    <a:pt x="18" y="200"/>
                  </a:lnTo>
                  <a:lnTo>
                    <a:pt x="16" y="214"/>
                  </a:lnTo>
                  <a:lnTo>
                    <a:pt x="16" y="222"/>
                  </a:lnTo>
                  <a:lnTo>
                    <a:pt x="16" y="228"/>
                  </a:lnTo>
                  <a:lnTo>
                    <a:pt x="16" y="228"/>
                  </a:lnTo>
                  <a:lnTo>
                    <a:pt x="24" y="266"/>
                  </a:lnTo>
                  <a:lnTo>
                    <a:pt x="26" y="290"/>
                  </a:lnTo>
                  <a:lnTo>
                    <a:pt x="26" y="302"/>
                  </a:lnTo>
                  <a:lnTo>
                    <a:pt x="24" y="312"/>
                  </a:lnTo>
                  <a:lnTo>
                    <a:pt x="24" y="312"/>
                  </a:lnTo>
                  <a:lnTo>
                    <a:pt x="22" y="332"/>
                  </a:lnTo>
                  <a:lnTo>
                    <a:pt x="24" y="356"/>
                  </a:lnTo>
                  <a:lnTo>
                    <a:pt x="28" y="412"/>
                  </a:lnTo>
                  <a:lnTo>
                    <a:pt x="30" y="442"/>
                  </a:lnTo>
                  <a:lnTo>
                    <a:pt x="30" y="472"/>
                  </a:lnTo>
                  <a:lnTo>
                    <a:pt x="30" y="502"/>
                  </a:lnTo>
                  <a:lnTo>
                    <a:pt x="24" y="534"/>
                  </a:lnTo>
                  <a:lnTo>
                    <a:pt x="24" y="534"/>
                  </a:lnTo>
                  <a:lnTo>
                    <a:pt x="14" y="590"/>
                  </a:lnTo>
                  <a:lnTo>
                    <a:pt x="6" y="644"/>
                  </a:lnTo>
                  <a:lnTo>
                    <a:pt x="2" y="696"/>
                  </a:lnTo>
                  <a:lnTo>
                    <a:pt x="0" y="748"/>
                  </a:lnTo>
                  <a:lnTo>
                    <a:pt x="0" y="856"/>
                  </a:lnTo>
                  <a:lnTo>
                    <a:pt x="0" y="982"/>
                  </a:lnTo>
                  <a:lnTo>
                    <a:pt x="0" y="982"/>
                  </a:lnTo>
                  <a:lnTo>
                    <a:pt x="22" y="998"/>
                  </a:lnTo>
                  <a:lnTo>
                    <a:pt x="40" y="1014"/>
                  </a:lnTo>
                  <a:lnTo>
                    <a:pt x="74" y="1048"/>
                  </a:lnTo>
                  <a:lnTo>
                    <a:pt x="92" y="1064"/>
                  </a:lnTo>
                  <a:lnTo>
                    <a:pt x="104" y="1070"/>
                  </a:lnTo>
                  <a:lnTo>
                    <a:pt x="116" y="1076"/>
                  </a:lnTo>
                  <a:lnTo>
                    <a:pt x="128" y="1080"/>
                  </a:lnTo>
                  <a:lnTo>
                    <a:pt x="142" y="1084"/>
                  </a:lnTo>
                  <a:lnTo>
                    <a:pt x="158" y="1088"/>
                  </a:lnTo>
                  <a:lnTo>
                    <a:pt x="176" y="1090"/>
                  </a:lnTo>
                  <a:lnTo>
                    <a:pt x="176" y="1090"/>
                  </a:lnTo>
                  <a:lnTo>
                    <a:pt x="190" y="1036"/>
                  </a:lnTo>
                  <a:lnTo>
                    <a:pt x="206" y="982"/>
                  </a:lnTo>
                  <a:lnTo>
                    <a:pt x="224" y="926"/>
                  </a:lnTo>
                  <a:lnTo>
                    <a:pt x="240" y="868"/>
                  </a:lnTo>
                  <a:lnTo>
                    <a:pt x="240" y="868"/>
                  </a:lnTo>
                  <a:lnTo>
                    <a:pt x="246" y="840"/>
                  </a:lnTo>
                  <a:lnTo>
                    <a:pt x="248" y="812"/>
                  </a:lnTo>
                  <a:lnTo>
                    <a:pt x="248" y="784"/>
                  </a:lnTo>
                  <a:lnTo>
                    <a:pt x="246" y="756"/>
                  </a:lnTo>
                  <a:lnTo>
                    <a:pt x="242" y="700"/>
                  </a:lnTo>
                  <a:lnTo>
                    <a:pt x="240" y="674"/>
                  </a:lnTo>
                  <a:lnTo>
                    <a:pt x="240" y="648"/>
                  </a:lnTo>
                  <a:lnTo>
                    <a:pt x="240" y="648"/>
                  </a:lnTo>
                  <a:lnTo>
                    <a:pt x="240" y="498"/>
                  </a:lnTo>
                  <a:lnTo>
                    <a:pt x="238" y="332"/>
                  </a:lnTo>
                  <a:lnTo>
                    <a:pt x="234" y="164"/>
                  </a:lnTo>
                  <a:lnTo>
                    <a:pt x="232" y="8"/>
                  </a:lnTo>
                  <a:lnTo>
                    <a:pt x="232" y="8"/>
                  </a:lnTo>
                  <a:close/>
                </a:path>
              </a:pathLst>
            </a:custGeom>
            <a:solidFill>
              <a:srgbClr val="fc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37"/>
            <p:cNvSpPr/>
            <p:nvPr/>
          </p:nvSpPr>
          <p:spPr>
            <a:xfrm>
              <a:off x="14108040" y="7670880"/>
              <a:ext cx="911160" cy="984240"/>
            </a:xfrm>
            <a:custGeom>
              <a:avLst/>
              <a:gdLst>
                <a:gd name="textAreaLeft" fmla="*/ 0 w 911160"/>
                <a:gd name="textAreaRight" fmla="*/ 911520 w 911160"/>
                <a:gd name="textAreaTop" fmla="*/ 0 h 984240"/>
                <a:gd name="textAreaBottom" fmla="*/ 984600 h 984240"/>
              </a:gdLst>
              <a:ahLst/>
              <a:rect l="textAreaLeft" t="textAreaTop" r="textAreaRight" b="textAreaBottom"/>
              <a:pathLst>
                <a:path w="574" h="620">
                  <a:moveTo>
                    <a:pt x="234" y="0"/>
                  </a:moveTo>
                  <a:lnTo>
                    <a:pt x="234" y="0"/>
                  </a:lnTo>
                  <a:lnTo>
                    <a:pt x="226" y="2"/>
                  </a:lnTo>
                  <a:lnTo>
                    <a:pt x="218" y="4"/>
                  </a:lnTo>
                  <a:lnTo>
                    <a:pt x="200" y="4"/>
                  </a:lnTo>
                  <a:lnTo>
                    <a:pt x="182" y="4"/>
                  </a:lnTo>
                  <a:lnTo>
                    <a:pt x="172" y="4"/>
                  </a:lnTo>
                  <a:lnTo>
                    <a:pt x="162" y="6"/>
                  </a:lnTo>
                  <a:lnTo>
                    <a:pt x="162" y="6"/>
                  </a:lnTo>
                  <a:lnTo>
                    <a:pt x="142" y="14"/>
                  </a:lnTo>
                  <a:lnTo>
                    <a:pt x="122" y="26"/>
                  </a:lnTo>
                  <a:lnTo>
                    <a:pt x="104" y="42"/>
                  </a:lnTo>
                  <a:lnTo>
                    <a:pt x="86" y="60"/>
                  </a:lnTo>
                  <a:lnTo>
                    <a:pt x="68" y="78"/>
                  </a:lnTo>
                  <a:lnTo>
                    <a:pt x="54" y="98"/>
                  </a:lnTo>
                  <a:lnTo>
                    <a:pt x="42" y="118"/>
                  </a:lnTo>
                  <a:lnTo>
                    <a:pt x="34" y="136"/>
                  </a:lnTo>
                  <a:lnTo>
                    <a:pt x="34" y="136"/>
                  </a:lnTo>
                  <a:lnTo>
                    <a:pt x="32" y="146"/>
                  </a:lnTo>
                  <a:lnTo>
                    <a:pt x="32" y="152"/>
                  </a:lnTo>
                  <a:lnTo>
                    <a:pt x="34" y="160"/>
                  </a:lnTo>
                  <a:lnTo>
                    <a:pt x="36" y="166"/>
                  </a:lnTo>
                  <a:lnTo>
                    <a:pt x="40" y="172"/>
                  </a:lnTo>
                  <a:lnTo>
                    <a:pt x="44" y="182"/>
                  </a:lnTo>
                  <a:lnTo>
                    <a:pt x="44" y="192"/>
                  </a:lnTo>
                  <a:lnTo>
                    <a:pt x="42" y="206"/>
                  </a:lnTo>
                  <a:lnTo>
                    <a:pt x="42" y="206"/>
                  </a:lnTo>
                  <a:lnTo>
                    <a:pt x="20" y="304"/>
                  </a:lnTo>
                  <a:lnTo>
                    <a:pt x="8" y="364"/>
                  </a:lnTo>
                  <a:lnTo>
                    <a:pt x="4" y="394"/>
                  </a:lnTo>
                  <a:lnTo>
                    <a:pt x="2" y="426"/>
                  </a:lnTo>
                  <a:lnTo>
                    <a:pt x="0" y="456"/>
                  </a:lnTo>
                  <a:lnTo>
                    <a:pt x="2" y="484"/>
                  </a:lnTo>
                  <a:lnTo>
                    <a:pt x="6" y="510"/>
                  </a:lnTo>
                  <a:lnTo>
                    <a:pt x="14" y="536"/>
                  </a:lnTo>
                  <a:lnTo>
                    <a:pt x="26" y="558"/>
                  </a:lnTo>
                  <a:lnTo>
                    <a:pt x="32" y="566"/>
                  </a:lnTo>
                  <a:lnTo>
                    <a:pt x="40" y="576"/>
                  </a:lnTo>
                  <a:lnTo>
                    <a:pt x="48" y="584"/>
                  </a:lnTo>
                  <a:lnTo>
                    <a:pt x="58" y="590"/>
                  </a:lnTo>
                  <a:lnTo>
                    <a:pt x="70" y="596"/>
                  </a:lnTo>
                  <a:lnTo>
                    <a:pt x="82" y="602"/>
                  </a:lnTo>
                  <a:lnTo>
                    <a:pt x="82" y="602"/>
                  </a:lnTo>
                  <a:lnTo>
                    <a:pt x="96" y="610"/>
                  </a:lnTo>
                  <a:lnTo>
                    <a:pt x="112" y="614"/>
                  </a:lnTo>
                  <a:lnTo>
                    <a:pt x="130" y="618"/>
                  </a:lnTo>
                  <a:lnTo>
                    <a:pt x="148" y="620"/>
                  </a:lnTo>
                  <a:lnTo>
                    <a:pt x="168" y="618"/>
                  </a:lnTo>
                  <a:lnTo>
                    <a:pt x="188" y="618"/>
                  </a:lnTo>
                  <a:lnTo>
                    <a:pt x="228" y="610"/>
                  </a:lnTo>
                  <a:lnTo>
                    <a:pt x="268" y="598"/>
                  </a:lnTo>
                  <a:lnTo>
                    <a:pt x="306" y="586"/>
                  </a:lnTo>
                  <a:lnTo>
                    <a:pt x="338" y="574"/>
                  </a:lnTo>
                  <a:lnTo>
                    <a:pt x="362" y="564"/>
                  </a:lnTo>
                  <a:lnTo>
                    <a:pt x="362" y="564"/>
                  </a:lnTo>
                  <a:lnTo>
                    <a:pt x="428" y="532"/>
                  </a:lnTo>
                  <a:lnTo>
                    <a:pt x="458" y="516"/>
                  </a:lnTo>
                  <a:lnTo>
                    <a:pt x="486" y="498"/>
                  </a:lnTo>
                  <a:lnTo>
                    <a:pt x="512" y="478"/>
                  </a:lnTo>
                  <a:lnTo>
                    <a:pt x="522" y="468"/>
                  </a:lnTo>
                  <a:lnTo>
                    <a:pt x="534" y="456"/>
                  </a:lnTo>
                  <a:lnTo>
                    <a:pt x="544" y="442"/>
                  </a:lnTo>
                  <a:lnTo>
                    <a:pt x="552" y="428"/>
                  </a:lnTo>
                  <a:lnTo>
                    <a:pt x="562" y="412"/>
                  </a:lnTo>
                  <a:lnTo>
                    <a:pt x="568" y="396"/>
                  </a:lnTo>
                  <a:lnTo>
                    <a:pt x="568" y="396"/>
                  </a:lnTo>
                  <a:lnTo>
                    <a:pt x="572" y="382"/>
                  </a:lnTo>
                  <a:lnTo>
                    <a:pt x="574" y="368"/>
                  </a:lnTo>
                  <a:lnTo>
                    <a:pt x="574" y="356"/>
                  </a:lnTo>
                  <a:lnTo>
                    <a:pt x="574" y="344"/>
                  </a:lnTo>
                  <a:lnTo>
                    <a:pt x="570" y="320"/>
                  </a:lnTo>
                  <a:lnTo>
                    <a:pt x="568" y="296"/>
                  </a:lnTo>
                  <a:lnTo>
                    <a:pt x="568" y="296"/>
                  </a:lnTo>
                  <a:lnTo>
                    <a:pt x="566" y="264"/>
                  </a:lnTo>
                  <a:lnTo>
                    <a:pt x="562" y="232"/>
                  </a:lnTo>
                  <a:lnTo>
                    <a:pt x="554" y="202"/>
                  </a:lnTo>
                  <a:lnTo>
                    <a:pt x="546" y="174"/>
                  </a:lnTo>
                  <a:lnTo>
                    <a:pt x="534" y="146"/>
                  </a:lnTo>
                  <a:lnTo>
                    <a:pt x="520" y="122"/>
                  </a:lnTo>
                  <a:lnTo>
                    <a:pt x="502" y="98"/>
                  </a:lnTo>
                  <a:lnTo>
                    <a:pt x="484" y="78"/>
                  </a:lnTo>
                  <a:lnTo>
                    <a:pt x="462" y="60"/>
                  </a:lnTo>
                  <a:lnTo>
                    <a:pt x="438" y="44"/>
                  </a:lnTo>
                  <a:lnTo>
                    <a:pt x="410" y="30"/>
                  </a:lnTo>
                  <a:lnTo>
                    <a:pt x="380" y="18"/>
                  </a:lnTo>
                  <a:lnTo>
                    <a:pt x="348" y="10"/>
                  </a:lnTo>
                  <a:lnTo>
                    <a:pt x="312" y="4"/>
                  </a:lnTo>
                  <a:lnTo>
                    <a:pt x="274" y="0"/>
                  </a:lnTo>
                  <a:lnTo>
                    <a:pt x="234" y="0"/>
                  </a:lnTo>
                  <a:lnTo>
                    <a:pt x="234" y="0"/>
                  </a:lnTo>
                  <a:close/>
                  <a:moveTo>
                    <a:pt x="472" y="342"/>
                  </a:moveTo>
                  <a:lnTo>
                    <a:pt x="472" y="342"/>
                  </a:lnTo>
                  <a:lnTo>
                    <a:pt x="456" y="362"/>
                  </a:lnTo>
                  <a:lnTo>
                    <a:pt x="440" y="382"/>
                  </a:lnTo>
                  <a:lnTo>
                    <a:pt x="410" y="418"/>
                  </a:lnTo>
                  <a:lnTo>
                    <a:pt x="394" y="436"/>
                  </a:lnTo>
                  <a:lnTo>
                    <a:pt x="376" y="452"/>
                  </a:lnTo>
                  <a:lnTo>
                    <a:pt x="354" y="466"/>
                  </a:lnTo>
                  <a:lnTo>
                    <a:pt x="330" y="480"/>
                  </a:lnTo>
                  <a:lnTo>
                    <a:pt x="330" y="480"/>
                  </a:lnTo>
                  <a:lnTo>
                    <a:pt x="154" y="526"/>
                  </a:lnTo>
                  <a:lnTo>
                    <a:pt x="154" y="526"/>
                  </a:lnTo>
                  <a:lnTo>
                    <a:pt x="126" y="522"/>
                  </a:lnTo>
                  <a:lnTo>
                    <a:pt x="106" y="518"/>
                  </a:lnTo>
                  <a:lnTo>
                    <a:pt x="106" y="518"/>
                  </a:lnTo>
                  <a:lnTo>
                    <a:pt x="106" y="456"/>
                  </a:lnTo>
                  <a:lnTo>
                    <a:pt x="110" y="398"/>
                  </a:lnTo>
                  <a:lnTo>
                    <a:pt x="118" y="340"/>
                  </a:lnTo>
                  <a:lnTo>
                    <a:pt x="128" y="286"/>
                  </a:lnTo>
                  <a:lnTo>
                    <a:pt x="142" y="234"/>
                  </a:lnTo>
                  <a:lnTo>
                    <a:pt x="162" y="186"/>
                  </a:lnTo>
                  <a:lnTo>
                    <a:pt x="172" y="162"/>
                  </a:lnTo>
                  <a:lnTo>
                    <a:pt x="184" y="140"/>
                  </a:lnTo>
                  <a:lnTo>
                    <a:pt x="196" y="118"/>
                  </a:lnTo>
                  <a:lnTo>
                    <a:pt x="210" y="98"/>
                  </a:lnTo>
                  <a:lnTo>
                    <a:pt x="210" y="98"/>
                  </a:lnTo>
                  <a:lnTo>
                    <a:pt x="230" y="98"/>
                  </a:lnTo>
                  <a:lnTo>
                    <a:pt x="250" y="98"/>
                  </a:lnTo>
                  <a:lnTo>
                    <a:pt x="268" y="96"/>
                  </a:lnTo>
                  <a:lnTo>
                    <a:pt x="276" y="94"/>
                  </a:lnTo>
                  <a:lnTo>
                    <a:pt x="282" y="90"/>
                  </a:lnTo>
                  <a:lnTo>
                    <a:pt x="282" y="90"/>
                  </a:lnTo>
                  <a:lnTo>
                    <a:pt x="316" y="92"/>
                  </a:lnTo>
                  <a:lnTo>
                    <a:pt x="344" y="98"/>
                  </a:lnTo>
                  <a:lnTo>
                    <a:pt x="366" y="108"/>
                  </a:lnTo>
                  <a:lnTo>
                    <a:pt x="386" y="118"/>
                  </a:lnTo>
                  <a:lnTo>
                    <a:pt x="402" y="132"/>
                  </a:lnTo>
                  <a:lnTo>
                    <a:pt x="420" y="146"/>
                  </a:lnTo>
                  <a:lnTo>
                    <a:pt x="436" y="160"/>
                  </a:lnTo>
                  <a:lnTo>
                    <a:pt x="456" y="174"/>
                  </a:lnTo>
                  <a:lnTo>
                    <a:pt x="456" y="174"/>
                  </a:lnTo>
                  <a:lnTo>
                    <a:pt x="468" y="252"/>
                  </a:lnTo>
                  <a:lnTo>
                    <a:pt x="472" y="294"/>
                  </a:lnTo>
                  <a:lnTo>
                    <a:pt x="472" y="342"/>
                  </a:lnTo>
                  <a:lnTo>
                    <a:pt x="472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38"/>
            <p:cNvSpPr/>
            <p:nvPr/>
          </p:nvSpPr>
          <p:spPr>
            <a:xfrm>
              <a:off x="4665240" y="7705800"/>
              <a:ext cx="441000" cy="482400"/>
            </a:xfrm>
            <a:custGeom>
              <a:avLst/>
              <a:gdLst>
                <a:gd name="textAreaLeft" fmla="*/ 0 w 441000"/>
                <a:gd name="textAreaRight" fmla="*/ 441360 w 44100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278" h="304">
                  <a:moveTo>
                    <a:pt x="118" y="0"/>
                  </a:moveTo>
                  <a:lnTo>
                    <a:pt x="118" y="0"/>
                  </a:lnTo>
                  <a:lnTo>
                    <a:pt x="98" y="24"/>
                  </a:lnTo>
                  <a:lnTo>
                    <a:pt x="72" y="48"/>
                  </a:lnTo>
                  <a:lnTo>
                    <a:pt x="46" y="76"/>
                  </a:lnTo>
                  <a:lnTo>
                    <a:pt x="34" y="90"/>
                  </a:lnTo>
                  <a:lnTo>
                    <a:pt x="24" y="106"/>
                  </a:lnTo>
                  <a:lnTo>
                    <a:pt x="14" y="122"/>
                  </a:lnTo>
                  <a:lnTo>
                    <a:pt x="6" y="140"/>
                  </a:lnTo>
                  <a:lnTo>
                    <a:pt x="2" y="158"/>
                  </a:lnTo>
                  <a:lnTo>
                    <a:pt x="0" y="176"/>
                  </a:lnTo>
                  <a:lnTo>
                    <a:pt x="2" y="196"/>
                  </a:lnTo>
                  <a:lnTo>
                    <a:pt x="8" y="216"/>
                  </a:lnTo>
                  <a:lnTo>
                    <a:pt x="16" y="238"/>
                  </a:lnTo>
                  <a:lnTo>
                    <a:pt x="30" y="260"/>
                  </a:lnTo>
                  <a:lnTo>
                    <a:pt x="30" y="260"/>
                  </a:lnTo>
                  <a:lnTo>
                    <a:pt x="38" y="268"/>
                  </a:lnTo>
                  <a:lnTo>
                    <a:pt x="48" y="274"/>
                  </a:lnTo>
                  <a:lnTo>
                    <a:pt x="72" y="284"/>
                  </a:lnTo>
                  <a:lnTo>
                    <a:pt x="98" y="294"/>
                  </a:lnTo>
                  <a:lnTo>
                    <a:pt x="108" y="300"/>
                  </a:lnTo>
                  <a:lnTo>
                    <a:pt x="118" y="304"/>
                  </a:lnTo>
                  <a:lnTo>
                    <a:pt x="118" y="304"/>
                  </a:lnTo>
                  <a:lnTo>
                    <a:pt x="136" y="304"/>
                  </a:lnTo>
                  <a:lnTo>
                    <a:pt x="152" y="300"/>
                  </a:lnTo>
                  <a:lnTo>
                    <a:pt x="164" y="296"/>
                  </a:lnTo>
                  <a:lnTo>
                    <a:pt x="178" y="290"/>
                  </a:lnTo>
                  <a:lnTo>
                    <a:pt x="188" y="284"/>
                  </a:lnTo>
                  <a:lnTo>
                    <a:pt x="198" y="278"/>
                  </a:lnTo>
                  <a:lnTo>
                    <a:pt x="214" y="262"/>
                  </a:lnTo>
                  <a:lnTo>
                    <a:pt x="230" y="244"/>
                  </a:lnTo>
                  <a:lnTo>
                    <a:pt x="244" y="226"/>
                  </a:lnTo>
                  <a:lnTo>
                    <a:pt x="260" y="208"/>
                  </a:lnTo>
                  <a:lnTo>
                    <a:pt x="278" y="190"/>
                  </a:lnTo>
                  <a:lnTo>
                    <a:pt x="278" y="190"/>
                  </a:lnTo>
                  <a:lnTo>
                    <a:pt x="278" y="170"/>
                  </a:lnTo>
                  <a:lnTo>
                    <a:pt x="276" y="152"/>
                  </a:lnTo>
                  <a:lnTo>
                    <a:pt x="272" y="136"/>
                  </a:lnTo>
                  <a:lnTo>
                    <a:pt x="268" y="122"/>
                  </a:lnTo>
                  <a:lnTo>
                    <a:pt x="260" y="100"/>
                  </a:lnTo>
                  <a:lnTo>
                    <a:pt x="248" y="80"/>
                  </a:lnTo>
                  <a:lnTo>
                    <a:pt x="222" y="48"/>
                  </a:lnTo>
                  <a:lnTo>
                    <a:pt x="210" y="30"/>
                  </a:lnTo>
                  <a:lnTo>
                    <a:pt x="198" y="8"/>
                  </a:lnTo>
                  <a:lnTo>
                    <a:pt x="198" y="8"/>
                  </a:lnTo>
                  <a:lnTo>
                    <a:pt x="118" y="0"/>
                  </a:lnTo>
                  <a:lnTo>
                    <a:pt x="118" y="0"/>
                  </a:lnTo>
                  <a:close/>
                  <a:moveTo>
                    <a:pt x="142" y="206"/>
                  </a:moveTo>
                  <a:lnTo>
                    <a:pt x="142" y="206"/>
                  </a:lnTo>
                  <a:lnTo>
                    <a:pt x="132" y="210"/>
                  </a:lnTo>
                  <a:lnTo>
                    <a:pt x="126" y="214"/>
                  </a:lnTo>
                  <a:lnTo>
                    <a:pt x="126" y="214"/>
                  </a:lnTo>
                  <a:lnTo>
                    <a:pt x="118" y="214"/>
                  </a:lnTo>
                  <a:lnTo>
                    <a:pt x="118" y="214"/>
                  </a:lnTo>
                  <a:lnTo>
                    <a:pt x="114" y="186"/>
                  </a:lnTo>
                  <a:lnTo>
                    <a:pt x="112" y="170"/>
                  </a:lnTo>
                  <a:lnTo>
                    <a:pt x="110" y="152"/>
                  </a:lnTo>
                  <a:lnTo>
                    <a:pt x="110" y="152"/>
                  </a:lnTo>
                  <a:lnTo>
                    <a:pt x="150" y="100"/>
                  </a:lnTo>
                  <a:lnTo>
                    <a:pt x="150" y="100"/>
                  </a:lnTo>
                  <a:lnTo>
                    <a:pt x="160" y="108"/>
                  </a:lnTo>
                  <a:lnTo>
                    <a:pt x="168" y="118"/>
                  </a:lnTo>
                  <a:lnTo>
                    <a:pt x="174" y="128"/>
                  </a:lnTo>
                  <a:lnTo>
                    <a:pt x="182" y="138"/>
                  </a:lnTo>
                  <a:lnTo>
                    <a:pt x="182" y="138"/>
                  </a:lnTo>
                  <a:lnTo>
                    <a:pt x="178" y="150"/>
                  </a:lnTo>
                  <a:lnTo>
                    <a:pt x="174" y="160"/>
                  </a:lnTo>
                  <a:lnTo>
                    <a:pt x="170" y="168"/>
                  </a:lnTo>
                  <a:lnTo>
                    <a:pt x="164" y="174"/>
                  </a:lnTo>
                  <a:lnTo>
                    <a:pt x="152" y="186"/>
                  </a:lnTo>
                  <a:lnTo>
                    <a:pt x="148" y="196"/>
                  </a:lnTo>
                  <a:lnTo>
                    <a:pt x="142" y="206"/>
                  </a:lnTo>
                  <a:lnTo>
                    <a:pt x="142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39"/>
            <p:cNvSpPr/>
            <p:nvPr/>
          </p:nvSpPr>
          <p:spPr>
            <a:xfrm>
              <a:off x="24188760" y="5553000"/>
              <a:ext cx="1838160" cy="3492720"/>
            </a:xfrm>
            <a:custGeom>
              <a:avLst/>
              <a:gdLst>
                <a:gd name="textAreaLeft" fmla="*/ 0 w 1838160"/>
                <a:gd name="textAreaRight" fmla="*/ 1838520 w 1838160"/>
                <a:gd name="textAreaTop" fmla="*/ 0 h 3492720"/>
                <a:gd name="textAreaBottom" fmla="*/ 3493080 h 3492720"/>
              </a:gdLst>
              <a:ahLst/>
              <a:rect l="textAreaLeft" t="textAreaTop" r="textAreaRight" b="textAreaBottom"/>
              <a:pathLst>
                <a:path w="1158" h="2200">
                  <a:moveTo>
                    <a:pt x="1056" y="1818"/>
                  </a:moveTo>
                  <a:lnTo>
                    <a:pt x="1056" y="1818"/>
                  </a:lnTo>
                  <a:lnTo>
                    <a:pt x="1072" y="1682"/>
                  </a:lnTo>
                  <a:lnTo>
                    <a:pt x="1086" y="1536"/>
                  </a:lnTo>
                  <a:lnTo>
                    <a:pt x="1096" y="1384"/>
                  </a:lnTo>
                  <a:lnTo>
                    <a:pt x="1102" y="1228"/>
                  </a:lnTo>
                  <a:lnTo>
                    <a:pt x="1104" y="1072"/>
                  </a:lnTo>
                  <a:lnTo>
                    <a:pt x="1102" y="916"/>
                  </a:lnTo>
                  <a:lnTo>
                    <a:pt x="1100" y="840"/>
                  </a:lnTo>
                  <a:lnTo>
                    <a:pt x="1096" y="766"/>
                  </a:lnTo>
                  <a:lnTo>
                    <a:pt x="1090" y="692"/>
                  </a:lnTo>
                  <a:lnTo>
                    <a:pt x="1084" y="620"/>
                  </a:lnTo>
                  <a:lnTo>
                    <a:pt x="1084" y="620"/>
                  </a:lnTo>
                  <a:lnTo>
                    <a:pt x="1084" y="596"/>
                  </a:lnTo>
                  <a:lnTo>
                    <a:pt x="1086" y="562"/>
                  </a:lnTo>
                  <a:lnTo>
                    <a:pt x="1092" y="480"/>
                  </a:lnTo>
                  <a:lnTo>
                    <a:pt x="1092" y="438"/>
                  </a:lnTo>
                  <a:lnTo>
                    <a:pt x="1090" y="398"/>
                  </a:lnTo>
                  <a:lnTo>
                    <a:pt x="1088" y="380"/>
                  </a:lnTo>
                  <a:lnTo>
                    <a:pt x="1086" y="364"/>
                  </a:lnTo>
                  <a:lnTo>
                    <a:pt x="1080" y="350"/>
                  </a:lnTo>
                  <a:lnTo>
                    <a:pt x="1074" y="336"/>
                  </a:lnTo>
                  <a:lnTo>
                    <a:pt x="1074" y="336"/>
                  </a:lnTo>
                  <a:lnTo>
                    <a:pt x="1076" y="240"/>
                  </a:lnTo>
                  <a:lnTo>
                    <a:pt x="1074" y="204"/>
                  </a:lnTo>
                  <a:lnTo>
                    <a:pt x="1070" y="172"/>
                  </a:lnTo>
                  <a:lnTo>
                    <a:pt x="1066" y="148"/>
                  </a:lnTo>
                  <a:lnTo>
                    <a:pt x="1060" y="128"/>
                  </a:lnTo>
                  <a:lnTo>
                    <a:pt x="1052" y="112"/>
                  </a:lnTo>
                  <a:lnTo>
                    <a:pt x="1042" y="98"/>
                  </a:lnTo>
                  <a:lnTo>
                    <a:pt x="1028" y="86"/>
                  </a:lnTo>
                  <a:lnTo>
                    <a:pt x="1014" y="78"/>
                  </a:lnTo>
                  <a:lnTo>
                    <a:pt x="978" y="58"/>
                  </a:lnTo>
                  <a:lnTo>
                    <a:pt x="930" y="36"/>
                  </a:lnTo>
                  <a:lnTo>
                    <a:pt x="902" y="20"/>
                  </a:lnTo>
                  <a:lnTo>
                    <a:pt x="870" y="0"/>
                  </a:lnTo>
                  <a:lnTo>
                    <a:pt x="870" y="0"/>
                  </a:lnTo>
                  <a:lnTo>
                    <a:pt x="846" y="0"/>
                  </a:lnTo>
                  <a:lnTo>
                    <a:pt x="824" y="4"/>
                  </a:lnTo>
                  <a:lnTo>
                    <a:pt x="806" y="8"/>
                  </a:lnTo>
                  <a:lnTo>
                    <a:pt x="792" y="12"/>
                  </a:lnTo>
                  <a:lnTo>
                    <a:pt x="780" y="20"/>
                  </a:lnTo>
                  <a:lnTo>
                    <a:pt x="772" y="28"/>
                  </a:lnTo>
                  <a:lnTo>
                    <a:pt x="764" y="38"/>
                  </a:lnTo>
                  <a:lnTo>
                    <a:pt x="758" y="50"/>
                  </a:lnTo>
                  <a:lnTo>
                    <a:pt x="750" y="76"/>
                  </a:lnTo>
                  <a:lnTo>
                    <a:pt x="744" y="104"/>
                  </a:lnTo>
                  <a:lnTo>
                    <a:pt x="736" y="136"/>
                  </a:lnTo>
                  <a:lnTo>
                    <a:pt x="730" y="152"/>
                  </a:lnTo>
                  <a:lnTo>
                    <a:pt x="722" y="168"/>
                  </a:lnTo>
                  <a:lnTo>
                    <a:pt x="722" y="168"/>
                  </a:lnTo>
                  <a:lnTo>
                    <a:pt x="710" y="196"/>
                  </a:lnTo>
                  <a:lnTo>
                    <a:pt x="698" y="224"/>
                  </a:lnTo>
                  <a:lnTo>
                    <a:pt x="688" y="254"/>
                  </a:lnTo>
                  <a:lnTo>
                    <a:pt x="678" y="286"/>
                  </a:lnTo>
                  <a:lnTo>
                    <a:pt x="670" y="316"/>
                  </a:lnTo>
                  <a:lnTo>
                    <a:pt x="664" y="350"/>
                  </a:lnTo>
                  <a:lnTo>
                    <a:pt x="658" y="384"/>
                  </a:lnTo>
                  <a:lnTo>
                    <a:pt x="654" y="416"/>
                  </a:lnTo>
                  <a:lnTo>
                    <a:pt x="648" y="486"/>
                  </a:lnTo>
                  <a:lnTo>
                    <a:pt x="646" y="556"/>
                  </a:lnTo>
                  <a:lnTo>
                    <a:pt x="650" y="624"/>
                  </a:lnTo>
                  <a:lnTo>
                    <a:pt x="652" y="658"/>
                  </a:lnTo>
                  <a:lnTo>
                    <a:pt x="658" y="692"/>
                  </a:lnTo>
                  <a:lnTo>
                    <a:pt x="658" y="692"/>
                  </a:lnTo>
                  <a:lnTo>
                    <a:pt x="648" y="754"/>
                  </a:lnTo>
                  <a:lnTo>
                    <a:pt x="648" y="754"/>
                  </a:lnTo>
                  <a:lnTo>
                    <a:pt x="646" y="820"/>
                  </a:lnTo>
                  <a:lnTo>
                    <a:pt x="646" y="884"/>
                  </a:lnTo>
                  <a:lnTo>
                    <a:pt x="648" y="1020"/>
                  </a:lnTo>
                  <a:lnTo>
                    <a:pt x="648" y="1020"/>
                  </a:lnTo>
                  <a:lnTo>
                    <a:pt x="592" y="1014"/>
                  </a:lnTo>
                  <a:lnTo>
                    <a:pt x="534" y="1010"/>
                  </a:lnTo>
                  <a:lnTo>
                    <a:pt x="474" y="1008"/>
                  </a:lnTo>
                  <a:lnTo>
                    <a:pt x="416" y="1010"/>
                  </a:lnTo>
                  <a:lnTo>
                    <a:pt x="386" y="1012"/>
                  </a:lnTo>
                  <a:lnTo>
                    <a:pt x="358" y="1014"/>
                  </a:lnTo>
                  <a:lnTo>
                    <a:pt x="332" y="1020"/>
                  </a:lnTo>
                  <a:lnTo>
                    <a:pt x="306" y="1024"/>
                  </a:lnTo>
                  <a:lnTo>
                    <a:pt x="280" y="1032"/>
                  </a:lnTo>
                  <a:lnTo>
                    <a:pt x="256" y="1040"/>
                  </a:lnTo>
                  <a:lnTo>
                    <a:pt x="234" y="1052"/>
                  </a:lnTo>
                  <a:lnTo>
                    <a:pt x="212" y="1064"/>
                  </a:lnTo>
                  <a:lnTo>
                    <a:pt x="212" y="1064"/>
                  </a:lnTo>
                  <a:lnTo>
                    <a:pt x="196" y="1076"/>
                  </a:lnTo>
                  <a:lnTo>
                    <a:pt x="182" y="1088"/>
                  </a:lnTo>
                  <a:lnTo>
                    <a:pt x="152" y="1118"/>
                  </a:lnTo>
                  <a:lnTo>
                    <a:pt x="124" y="1150"/>
                  </a:lnTo>
                  <a:lnTo>
                    <a:pt x="96" y="1188"/>
                  </a:lnTo>
                  <a:lnTo>
                    <a:pt x="74" y="1228"/>
                  </a:lnTo>
                  <a:lnTo>
                    <a:pt x="52" y="1272"/>
                  </a:lnTo>
                  <a:lnTo>
                    <a:pt x="34" y="1318"/>
                  </a:lnTo>
                  <a:lnTo>
                    <a:pt x="20" y="1366"/>
                  </a:lnTo>
                  <a:lnTo>
                    <a:pt x="8" y="1416"/>
                  </a:lnTo>
                  <a:lnTo>
                    <a:pt x="2" y="1466"/>
                  </a:lnTo>
                  <a:lnTo>
                    <a:pt x="0" y="1516"/>
                  </a:lnTo>
                  <a:lnTo>
                    <a:pt x="0" y="1542"/>
                  </a:lnTo>
                  <a:lnTo>
                    <a:pt x="2" y="1566"/>
                  </a:lnTo>
                  <a:lnTo>
                    <a:pt x="4" y="1592"/>
                  </a:lnTo>
                  <a:lnTo>
                    <a:pt x="8" y="1616"/>
                  </a:lnTo>
                  <a:lnTo>
                    <a:pt x="14" y="1640"/>
                  </a:lnTo>
                  <a:lnTo>
                    <a:pt x="22" y="1664"/>
                  </a:lnTo>
                  <a:lnTo>
                    <a:pt x="30" y="1688"/>
                  </a:lnTo>
                  <a:lnTo>
                    <a:pt x="40" y="1712"/>
                  </a:lnTo>
                  <a:lnTo>
                    <a:pt x="52" y="1734"/>
                  </a:lnTo>
                  <a:lnTo>
                    <a:pt x="64" y="1756"/>
                  </a:lnTo>
                  <a:lnTo>
                    <a:pt x="64" y="1756"/>
                  </a:lnTo>
                  <a:lnTo>
                    <a:pt x="80" y="1778"/>
                  </a:lnTo>
                  <a:lnTo>
                    <a:pt x="96" y="1798"/>
                  </a:lnTo>
                  <a:lnTo>
                    <a:pt x="112" y="1818"/>
                  </a:lnTo>
                  <a:lnTo>
                    <a:pt x="130" y="1836"/>
                  </a:lnTo>
                  <a:lnTo>
                    <a:pt x="148" y="1852"/>
                  </a:lnTo>
                  <a:lnTo>
                    <a:pt x="168" y="1868"/>
                  </a:lnTo>
                  <a:lnTo>
                    <a:pt x="188" y="1882"/>
                  </a:lnTo>
                  <a:lnTo>
                    <a:pt x="208" y="1896"/>
                  </a:lnTo>
                  <a:lnTo>
                    <a:pt x="252" y="1920"/>
                  </a:lnTo>
                  <a:lnTo>
                    <a:pt x="300" y="1942"/>
                  </a:lnTo>
                  <a:lnTo>
                    <a:pt x="352" y="1964"/>
                  </a:lnTo>
                  <a:lnTo>
                    <a:pt x="408" y="1986"/>
                  </a:lnTo>
                  <a:lnTo>
                    <a:pt x="408" y="1986"/>
                  </a:lnTo>
                  <a:lnTo>
                    <a:pt x="446" y="2004"/>
                  </a:lnTo>
                  <a:lnTo>
                    <a:pt x="492" y="2024"/>
                  </a:lnTo>
                  <a:lnTo>
                    <a:pt x="516" y="2032"/>
                  </a:lnTo>
                  <a:lnTo>
                    <a:pt x="540" y="2038"/>
                  </a:lnTo>
                  <a:lnTo>
                    <a:pt x="566" y="2042"/>
                  </a:lnTo>
                  <a:lnTo>
                    <a:pt x="580" y="2042"/>
                  </a:lnTo>
                  <a:lnTo>
                    <a:pt x="592" y="2040"/>
                  </a:lnTo>
                  <a:lnTo>
                    <a:pt x="592" y="2040"/>
                  </a:lnTo>
                  <a:lnTo>
                    <a:pt x="614" y="2034"/>
                  </a:lnTo>
                  <a:lnTo>
                    <a:pt x="634" y="2028"/>
                  </a:lnTo>
                  <a:lnTo>
                    <a:pt x="670" y="2010"/>
                  </a:lnTo>
                  <a:lnTo>
                    <a:pt x="704" y="1992"/>
                  </a:lnTo>
                  <a:lnTo>
                    <a:pt x="722" y="1984"/>
                  </a:lnTo>
                  <a:lnTo>
                    <a:pt x="740" y="1978"/>
                  </a:lnTo>
                  <a:lnTo>
                    <a:pt x="740" y="1978"/>
                  </a:lnTo>
                  <a:lnTo>
                    <a:pt x="752" y="2004"/>
                  </a:lnTo>
                  <a:lnTo>
                    <a:pt x="768" y="2028"/>
                  </a:lnTo>
                  <a:lnTo>
                    <a:pt x="784" y="2054"/>
                  </a:lnTo>
                  <a:lnTo>
                    <a:pt x="802" y="2076"/>
                  </a:lnTo>
                  <a:lnTo>
                    <a:pt x="824" y="2098"/>
                  </a:lnTo>
                  <a:lnTo>
                    <a:pt x="848" y="2118"/>
                  </a:lnTo>
                  <a:lnTo>
                    <a:pt x="872" y="2138"/>
                  </a:lnTo>
                  <a:lnTo>
                    <a:pt x="898" y="2154"/>
                  </a:lnTo>
                  <a:lnTo>
                    <a:pt x="928" y="2168"/>
                  </a:lnTo>
                  <a:lnTo>
                    <a:pt x="956" y="2180"/>
                  </a:lnTo>
                  <a:lnTo>
                    <a:pt x="988" y="2190"/>
                  </a:lnTo>
                  <a:lnTo>
                    <a:pt x="1020" y="2196"/>
                  </a:lnTo>
                  <a:lnTo>
                    <a:pt x="1054" y="2200"/>
                  </a:lnTo>
                  <a:lnTo>
                    <a:pt x="1088" y="2200"/>
                  </a:lnTo>
                  <a:lnTo>
                    <a:pt x="1122" y="2198"/>
                  </a:lnTo>
                  <a:lnTo>
                    <a:pt x="1158" y="2190"/>
                  </a:lnTo>
                  <a:lnTo>
                    <a:pt x="1158" y="2190"/>
                  </a:lnTo>
                  <a:lnTo>
                    <a:pt x="1158" y="2170"/>
                  </a:lnTo>
                  <a:lnTo>
                    <a:pt x="1154" y="2150"/>
                  </a:lnTo>
                  <a:lnTo>
                    <a:pt x="1150" y="2130"/>
                  </a:lnTo>
                  <a:lnTo>
                    <a:pt x="1142" y="2110"/>
                  </a:lnTo>
                  <a:lnTo>
                    <a:pt x="1124" y="2068"/>
                  </a:lnTo>
                  <a:lnTo>
                    <a:pt x="1102" y="2024"/>
                  </a:lnTo>
                  <a:lnTo>
                    <a:pt x="1080" y="1978"/>
                  </a:lnTo>
                  <a:lnTo>
                    <a:pt x="1072" y="1954"/>
                  </a:lnTo>
                  <a:lnTo>
                    <a:pt x="1064" y="1928"/>
                  </a:lnTo>
                  <a:lnTo>
                    <a:pt x="1058" y="1902"/>
                  </a:lnTo>
                  <a:lnTo>
                    <a:pt x="1054" y="1876"/>
                  </a:lnTo>
                  <a:lnTo>
                    <a:pt x="1054" y="1846"/>
                  </a:lnTo>
                  <a:lnTo>
                    <a:pt x="1056" y="1818"/>
                  </a:lnTo>
                  <a:lnTo>
                    <a:pt x="1056" y="1818"/>
                  </a:lnTo>
                  <a:close/>
                  <a:moveTo>
                    <a:pt x="1000" y="2084"/>
                  </a:moveTo>
                  <a:lnTo>
                    <a:pt x="1000" y="2084"/>
                  </a:lnTo>
                  <a:lnTo>
                    <a:pt x="1000" y="2092"/>
                  </a:lnTo>
                  <a:lnTo>
                    <a:pt x="1000" y="2092"/>
                  </a:lnTo>
                  <a:lnTo>
                    <a:pt x="982" y="2088"/>
                  </a:lnTo>
                  <a:lnTo>
                    <a:pt x="966" y="2082"/>
                  </a:lnTo>
                  <a:lnTo>
                    <a:pt x="950" y="2074"/>
                  </a:lnTo>
                  <a:lnTo>
                    <a:pt x="936" y="2066"/>
                  </a:lnTo>
                  <a:lnTo>
                    <a:pt x="908" y="2048"/>
                  </a:lnTo>
                  <a:lnTo>
                    <a:pt x="880" y="2030"/>
                  </a:lnTo>
                  <a:lnTo>
                    <a:pt x="880" y="2030"/>
                  </a:lnTo>
                  <a:lnTo>
                    <a:pt x="872" y="2004"/>
                  </a:lnTo>
                  <a:lnTo>
                    <a:pt x="860" y="1976"/>
                  </a:lnTo>
                  <a:lnTo>
                    <a:pt x="850" y="1946"/>
                  </a:lnTo>
                  <a:lnTo>
                    <a:pt x="840" y="1918"/>
                  </a:lnTo>
                  <a:lnTo>
                    <a:pt x="834" y="1890"/>
                  </a:lnTo>
                  <a:lnTo>
                    <a:pt x="832" y="1876"/>
                  </a:lnTo>
                  <a:lnTo>
                    <a:pt x="832" y="1864"/>
                  </a:lnTo>
                  <a:lnTo>
                    <a:pt x="834" y="1850"/>
                  </a:lnTo>
                  <a:lnTo>
                    <a:pt x="838" y="1838"/>
                  </a:lnTo>
                  <a:lnTo>
                    <a:pt x="844" y="1828"/>
                  </a:lnTo>
                  <a:lnTo>
                    <a:pt x="852" y="1818"/>
                  </a:lnTo>
                  <a:lnTo>
                    <a:pt x="852" y="1818"/>
                  </a:lnTo>
                  <a:lnTo>
                    <a:pt x="842" y="1806"/>
                  </a:lnTo>
                  <a:lnTo>
                    <a:pt x="838" y="1802"/>
                  </a:lnTo>
                  <a:lnTo>
                    <a:pt x="834" y="1790"/>
                  </a:lnTo>
                  <a:lnTo>
                    <a:pt x="834" y="1790"/>
                  </a:lnTo>
                  <a:lnTo>
                    <a:pt x="816" y="1788"/>
                  </a:lnTo>
                  <a:lnTo>
                    <a:pt x="806" y="1782"/>
                  </a:lnTo>
                  <a:lnTo>
                    <a:pt x="806" y="1782"/>
                  </a:lnTo>
                  <a:lnTo>
                    <a:pt x="786" y="1784"/>
                  </a:lnTo>
                  <a:lnTo>
                    <a:pt x="768" y="1790"/>
                  </a:lnTo>
                  <a:lnTo>
                    <a:pt x="754" y="1796"/>
                  </a:lnTo>
                  <a:lnTo>
                    <a:pt x="742" y="1804"/>
                  </a:lnTo>
                  <a:lnTo>
                    <a:pt x="730" y="1816"/>
                  </a:lnTo>
                  <a:lnTo>
                    <a:pt x="718" y="1826"/>
                  </a:lnTo>
                  <a:lnTo>
                    <a:pt x="698" y="1852"/>
                  </a:lnTo>
                  <a:lnTo>
                    <a:pt x="676" y="1876"/>
                  </a:lnTo>
                  <a:lnTo>
                    <a:pt x="664" y="1890"/>
                  </a:lnTo>
                  <a:lnTo>
                    <a:pt x="648" y="1900"/>
                  </a:lnTo>
                  <a:lnTo>
                    <a:pt x="632" y="1912"/>
                  </a:lnTo>
                  <a:lnTo>
                    <a:pt x="612" y="1920"/>
                  </a:lnTo>
                  <a:lnTo>
                    <a:pt x="590" y="1928"/>
                  </a:lnTo>
                  <a:lnTo>
                    <a:pt x="564" y="1932"/>
                  </a:lnTo>
                  <a:lnTo>
                    <a:pt x="564" y="1932"/>
                  </a:lnTo>
                  <a:lnTo>
                    <a:pt x="556" y="1936"/>
                  </a:lnTo>
                  <a:lnTo>
                    <a:pt x="548" y="1936"/>
                  </a:lnTo>
                  <a:lnTo>
                    <a:pt x="526" y="1934"/>
                  </a:lnTo>
                  <a:lnTo>
                    <a:pt x="500" y="1928"/>
                  </a:lnTo>
                  <a:lnTo>
                    <a:pt x="474" y="1918"/>
                  </a:lnTo>
                  <a:lnTo>
                    <a:pt x="420" y="1898"/>
                  </a:lnTo>
                  <a:lnTo>
                    <a:pt x="380" y="1880"/>
                  </a:lnTo>
                  <a:lnTo>
                    <a:pt x="380" y="1880"/>
                  </a:lnTo>
                  <a:lnTo>
                    <a:pt x="346" y="1866"/>
                  </a:lnTo>
                  <a:lnTo>
                    <a:pt x="314" y="1850"/>
                  </a:lnTo>
                  <a:lnTo>
                    <a:pt x="284" y="1832"/>
                  </a:lnTo>
                  <a:lnTo>
                    <a:pt x="256" y="1814"/>
                  </a:lnTo>
                  <a:lnTo>
                    <a:pt x="230" y="1792"/>
                  </a:lnTo>
                  <a:lnTo>
                    <a:pt x="206" y="1768"/>
                  </a:lnTo>
                  <a:lnTo>
                    <a:pt x="184" y="1744"/>
                  </a:lnTo>
                  <a:lnTo>
                    <a:pt x="166" y="1716"/>
                  </a:lnTo>
                  <a:lnTo>
                    <a:pt x="150" y="1688"/>
                  </a:lnTo>
                  <a:lnTo>
                    <a:pt x="136" y="1656"/>
                  </a:lnTo>
                  <a:lnTo>
                    <a:pt x="126" y="1624"/>
                  </a:lnTo>
                  <a:lnTo>
                    <a:pt x="120" y="1588"/>
                  </a:lnTo>
                  <a:lnTo>
                    <a:pt x="116" y="1552"/>
                  </a:lnTo>
                  <a:lnTo>
                    <a:pt x="116" y="1512"/>
                  </a:lnTo>
                  <a:lnTo>
                    <a:pt x="120" y="1470"/>
                  </a:lnTo>
                  <a:lnTo>
                    <a:pt x="128" y="1428"/>
                  </a:lnTo>
                  <a:lnTo>
                    <a:pt x="128" y="1428"/>
                  </a:lnTo>
                  <a:lnTo>
                    <a:pt x="138" y="1338"/>
                  </a:lnTo>
                  <a:lnTo>
                    <a:pt x="138" y="1338"/>
                  </a:lnTo>
                  <a:lnTo>
                    <a:pt x="154" y="1306"/>
                  </a:lnTo>
                  <a:lnTo>
                    <a:pt x="174" y="1276"/>
                  </a:lnTo>
                  <a:lnTo>
                    <a:pt x="196" y="1248"/>
                  </a:lnTo>
                  <a:lnTo>
                    <a:pt x="218" y="1220"/>
                  </a:lnTo>
                  <a:lnTo>
                    <a:pt x="268" y="1168"/>
                  </a:lnTo>
                  <a:lnTo>
                    <a:pt x="292" y="1144"/>
                  </a:lnTo>
                  <a:lnTo>
                    <a:pt x="314" y="1118"/>
                  </a:lnTo>
                  <a:lnTo>
                    <a:pt x="314" y="1118"/>
                  </a:lnTo>
                  <a:lnTo>
                    <a:pt x="362" y="1110"/>
                  </a:lnTo>
                  <a:lnTo>
                    <a:pt x="410" y="1102"/>
                  </a:lnTo>
                  <a:lnTo>
                    <a:pt x="460" y="1092"/>
                  </a:lnTo>
                  <a:lnTo>
                    <a:pt x="510" y="1086"/>
                  </a:lnTo>
                  <a:lnTo>
                    <a:pt x="534" y="1084"/>
                  </a:lnTo>
                  <a:lnTo>
                    <a:pt x="556" y="1084"/>
                  </a:lnTo>
                  <a:lnTo>
                    <a:pt x="580" y="1086"/>
                  </a:lnTo>
                  <a:lnTo>
                    <a:pt x="602" y="1090"/>
                  </a:lnTo>
                  <a:lnTo>
                    <a:pt x="622" y="1098"/>
                  </a:lnTo>
                  <a:lnTo>
                    <a:pt x="642" y="1106"/>
                  </a:lnTo>
                  <a:lnTo>
                    <a:pt x="660" y="1118"/>
                  </a:lnTo>
                  <a:lnTo>
                    <a:pt x="676" y="1134"/>
                  </a:lnTo>
                  <a:lnTo>
                    <a:pt x="676" y="1134"/>
                  </a:lnTo>
                  <a:lnTo>
                    <a:pt x="696" y="1134"/>
                  </a:lnTo>
                  <a:lnTo>
                    <a:pt x="710" y="1130"/>
                  </a:lnTo>
                  <a:lnTo>
                    <a:pt x="720" y="1126"/>
                  </a:lnTo>
                  <a:lnTo>
                    <a:pt x="728" y="1120"/>
                  </a:lnTo>
                  <a:lnTo>
                    <a:pt x="742" y="1108"/>
                  </a:lnTo>
                  <a:lnTo>
                    <a:pt x="748" y="1100"/>
                  </a:lnTo>
                  <a:lnTo>
                    <a:pt x="760" y="1090"/>
                  </a:lnTo>
                  <a:lnTo>
                    <a:pt x="760" y="1090"/>
                  </a:lnTo>
                  <a:lnTo>
                    <a:pt x="758" y="956"/>
                  </a:lnTo>
                  <a:lnTo>
                    <a:pt x="756" y="822"/>
                  </a:lnTo>
                  <a:lnTo>
                    <a:pt x="756" y="688"/>
                  </a:lnTo>
                  <a:lnTo>
                    <a:pt x="758" y="624"/>
                  </a:lnTo>
                  <a:lnTo>
                    <a:pt x="760" y="560"/>
                  </a:lnTo>
                  <a:lnTo>
                    <a:pt x="764" y="496"/>
                  </a:lnTo>
                  <a:lnTo>
                    <a:pt x="770" y="434"/>
                  </a:lnTo>
                  <a:lnTo>
                    <a:pt x="778" y="376"/>
                  </a:lnTo>
                  <a:lnTo>
                    <a:pt x="790" y="316"/>
                  </a:lnTo>
                  <a:lnTo>
                    <a:pt x="802" y="260"/>
                  </a:lnTo>
                  <a:lnTo>
                    <a:pt x="818" y="206"/>
                  </a:lnTo>
                  <a:lnTo>
                    <a:pt x="838" y="156"/>
                  </a:lnTo>
                  <a:lnTo>
                    <a:pt x="862" y="106"/>
                  </a:lnTo>
                  <a:lnTo>
                    <a:pt x="862" y="106"/>
                  </a:lnTo>
                  <a:lnTo>
                    <a:pt x="876" y="110"/>
                  </a:lnTo>
                  <a:lnTo>
                    <a:pt x="890" y="114"/>
                  </a:lnTo>
                  <a:lnTo>
                    <a:pt x="910" y="122"/>
                  </a:lnTo>
                  <a:lnTo>
                    <a:pt x="928" y="132"/>
                  </a:lnTo>
                  <a:lnTo>
                    <a:pt x="940" y="138"/>
                  </a:lnTo>
                  <a:lnTo>
                    <a:pt x="954" y="142"/>
                  </a:lnTo>
                  <a:lnTo>
                    <a:pt x="954" y="142"/>
                  </a:lnTo>
                  <a:lnTo>
                    <a:pt x="954" y="216"/>
                  </a:lnTo>
                  <a:lnTo>
                    <a:pt x="954" y="304"/>
                  </a:lnTo>
                  <a:lnTo>
                    <a:pt x="956" y="350"/>
                  </a:lnTo>
                  <a:lnTo>
                    <a:pt x="960" y="396"/>
                  </a:lnTo>
                  <a:lnTo>
                    <a:pt x="966" y="438"/>
                  </a:lnTo>
                  <a:lnTo>
                    <a:pt x="972" y="478"/>
                  </a:lnTo>
                  <a:lnTo>
                    <a:pt x="972" y="478"/>
                  </a:lnTo>
                  <a:lnTo>
                    <a:pt x="976" y="494"/>
                  </a:lnTo>
                  <a:lnTo>
                    <a:pt x="976" y="508"/>
                  </a:lnTo>
                  <a:lnTo>
                    <a:pt x="978" y="538"/>
                  </a:lnTo>
                  <a:lnTo>
                    <a:pt x="974" y="566"/>
                  </a:lnTo>
                  <a:lnTo>
                    <a:pt x="970" y="594"/>
                  </a:lnTo>
                  <a:lnTo>
                    <a:pt x="968" y="624"/>
                  </a:lnTo>
                  <a:lnTo>
                    <a:pt x="966" y="654"/>
                  </a:lnTo>
                  <a:lnTo>
                    <a:pt x="966" y="684"/>
                  </a:lnTo>
                  <a:lnTo>
                    <a:pt x="968" y="702"/>
                  </a:lnTo>
                  <a:lnTo>
                    <a:pt x="972" y="718"/>
                  </a:lnTo>
                  <a:lnTo>
                    <a:pt x="972" y="718"/>
                  </a:lnTo>
                  <a:lnTo>
                    <a:pt x="980" y="752"/>
                  </a:lnTo>
                  <a:lnTo>
                    <a:pt x="986" y="790"/>
                  </a:lnTo>
                  <a:lnTo>
                    <a:pt x="990" y="832"/>
                  </a:lnTo>
                  <a:lnTo>
                    <a:pt x="996" y="880"/>
                  </a:lnTo>
                  <a:lnTo>
                    <a:pt x="1000" y="982"/>
                  </a:lnTo>
                  <a:lnTo>
                    <a:pt x="1002" y="1094"/>
                  </a:lnTo>
                  <a:lnTo>
                    <a:pt x="998" y="1206"/>
                  </a:lnTo>
                  <a:lnTo>
                    <a:pt x="990" y="1314"/>
                  </a:lnTo>
                  <a:lnTo>
                    <a:pt x="986" y="1366"/>
                  </a:lnTo>
                  <a:lnTo>
                    <a:pt x="978" y="1414"/>
                  </a:lnTo>
                  <a:lnTo>
                    <a:pt x="972" y="1458"/>
                  </a:lnTo>
                  <a:lnTo>
                    <a:pt x="964" y="1498"/>
                  </a:lnTo>
                  <a:lnTo>
                    <a:pt x="964" y="1498"/>
                  </a:lnTo>
                  <a:lnTo>
                    <a:pt x="956" y="1530"/>
                  </a:lnTo>
                  <a:lnTo>
                    <a:pt x="952" y="1566"/>
                  </a:lnTo>
                  <a:lnTo>
                    <a:pt x="946" y="1604"/>
                  </a:lnTo>
                  <a:lnTo>
                    <a:pt x="944" y="1646"/>
                  </a:lnTo>
                  <a:lnTo>
                    <a:pt x="942" y="1688"/>
                  </a:lnTo>
                  <a:lnTo>
                    <a:pt x="940" y="1732"/>
                  </a:lnTo>
                  <a:lnTo>
                    <a:pt x="940" y="1776"/>
                  </a:lnTo>
                  <a:lnTo>
                    <a:pt x="942" y="1820"/>
                  </a:lnTo>
                  <a:lnTo>
                    <a:pt x="944" y="1862"/>
                  </a:lnTo>
                  <a:lnTo>
                    <a:pt x="948" y="1904"/>
                  </a:lnTo>
                  <a:lnTo>
                    <a:pt x="954" y="1942"/>
                  </a:lnTo>
                  <a:lnTo>
                    <a:pt x="960" y="1980"/>
                  </a:lnTo>
                  <a:lnTo>
                    <a:pt x="968" y="2012"/>
                  </a:lnTo>
                  <a:lnTo>
                    <a:pt x="978" y="2040"/>
                  </a:lnTo>
                  <a:lnTo>
                    <a:pt x="988" y="2064"/>
                  </a:lnTo>
                  <a:lnTo>
                    <a:pt x="1000" y="2084"/>
                  </a:lnTo>
                  <a:lnTo>
                    <a:pt x="1000" y="2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40"/>
            <p:cNvSpPr/>
            <p:nvPr/>
          </p:nvSpPr>
          <p:spPr>
            <a:xfrm>
              <a:off x="24373080" y="5721120"/>
              <a:ext cx="1406520" cy="3152880"/>
            </a:xfrm>
            <a:custGeom>
              <a:avLst/>
              <a:gdLst>
                <a:gd name="textAreaLeft" fmla="*/ 0 w 1406520"/>
                <a:gd name="textAreaRight" fmla="*/ 1406520 w 1406520"/>
                <a:gd name="textAreaTop" fmla="*/ 0 h 3152880"/>
                <a:gd name="textAreaBottom" fmla="*/ 3153240 h 3152880"/>
              </a:gdLst>
              <a:ahLst/>
              <a:rect l="textAreaLeft" t="textAreaTop" r="textAreaRight" b="textAreaBottom"/>
              <a:pathLst>
                <a:path w="886" h="1986">
                  <a:moveTo>
                    <a:pt x="856" y="612"/>
                  </a:moveTo>
                  <a:lnTo>
                    <a:pt x="856" y="612"/>
                  </a:lnTo>
                  <a:lnTo>
                    <a:pt x="852" y="596"/>
                  </a:lnTo>
                  <a:lnTo>
                    <a:pt x="850" y="578"/>
                  </a:lnTo>
                  <a:lnTo>
                    <a:pt x="850" y="548"/>
                  </a:lnTo>
                  <a:lnTo>
                    <a:pt x="852" y="518"/>
                  </a:lnTo>
                  <a:lnTo>
                    <a:pt x="854" y="488"/>
                  </a:lnTo>
                  <a:lnTo>
                    <a:pt x="858" y="460"/>
                  </a:lnTo>
                  <a:lnTo>
                    <a:pt x="862" y="432"/>
                  </a:lnTo>
                  <a:lnTo>
                    <a:pt x="860" y="402"/>
                  </a:lnTo>
                  <a:lnTo>
                    <a:pt x="860" y="388"/>
                  </a:lnTo>
                  <a:lnTo>
                    <a:pt x="856" y="372"/>
                  </a:lnTo>
                  <a:lnTo>
                    <a:pt x="856" y="372"/>
                  </a:lnTo>
                  <a:lnTo>
                    <a:pt x="850" y="332"/>
                  </a:lnTo>
                  <a:lnTo>
                    <a:pt x="844" y="290"/>
                  </a:lnTo>
                  <a:lnTo>
                    <a:pt x="840" y="244"/>
                  </a:lnTo>
                  <a:lnTo>
                    <a:pt x="838" y="198"/>
                  </a:lnTo>
                  <a:lnTo>
                    <a:pt x="838" y="110"/>
                  </a:lnTo>
                  <a:lnTo>
                    <a:pt x="838" y="36"/>
                  </a:lnTo>
                  <a:lnTo>
                    <a:pt x="838" y="36"/>
                  </a:lnTo>
                  <a:lnTo>
                    <a:pt x="824" y="32"/>
                  </a:lnTo>
                  <a:lnTo>
                    <a:pt x="812" y="26"/>
                  </a:lnTo>
                  <a:lnTo>
                    <a:pt x="794" y="16"/>
                  </a:lnTo>
                  <a:lnTo>
                    <a:pt x="774" y="8"/>
                  </a:lnTo>
                  <a:lnTo>
                    <a:pt x="760" y="4"/>
                  </a:lnTo>
                  <a:lnTo>
                    <a:pt x="746" y="0"/>
                  </a:lnTo>
                  <a:lnTo>
                    <a:pt x="746" y="0"/>
                  </a:lnTo>
                  <a:lnTo>
                    <a:pt x="722" y="50"/>
                  </a:lnTo>
                  <a:lnTo>
                    <a:pt x="702" y="100"/>
                  </a:lnTo>
                  <a:lnTo>
                    <a:pt x="686" y="154"/>
                  </a:lnTo>
                  <a:lnTo>
                    <a:pt x="674" y="210"/>
                  </a:lnTo>
                  <a:lnTo>
                    <a:pt x="662" y="270"/>
                  </a:lnTo>
                  <a:lnTo>
                    <a:pt x="654" y="328"/>
                  </a:lnTo>
                  <a:lnTo>
                    <a:pt x="648" y="390"/>
                  </a:lnTo>
                  <a:lnTo>
                    <a:pt x="644" y="454"/>
                  </a:lnTo>
                  <a:lnTo>
                    <a:pt x="642" y="518"/>
                  </a:lnTo>
                  <a:lnTo>
                    <a:pt x="640" y="582"/>
                  </a:lnTo>
                  <a:lnTo>
                    <a:pt x="640" y="716"/>
                  </a:lnTo>
                  <a:lnTo>
                    <a:pt x="642" y="850"/>
                  </a:lnTo>
                  <a:lnTo>
                    <a:pt x="644" y="984"/>
                  </a:lnTo>
                  <a:lnTo>
                    <a:pt x="644" y="984"/>
                  </a:lnTo>
                  <a:lnTo>
                    <a:pt x="632" y="994"/>
                  </a:lnTo>
                  <a:lnTo>
                    <a:pt x="626" y="1002"/>
                  </a:lnTo>
                  <a:lnTo>
                    <a:pt x="612" y="1014"/>
                  </a:lnTo>
                  <a:lnTo>
                    <a:pt x="604" y="1020"/>
                  </a:lnTo>
                  <a:lnTo>
                    <a:pt x="594" y="1024"/>
                  </a:lnTo>
                  <a:lnTo>
                    <a:pt x="580" y="1028"/>
                  </a:lnTo>
                  <a:lnTo>
                    <a:pt x="560" y="1028"/>
                  </a:lnTo>
                  <a:lnTo>
                    <a:pt x="560" y="1028"/>
                  </a:lnTo>
                  <a:lnTo>
                    <a:pt x="544" y="1012"/>
                  </a:lnTo>
                  <a:lnTo>
                    <a:pt x="526" y="1000"/>
                  </a:lnTo>
                  <a:lnTo>
                    <a:pt x="506" y="992"/>
                  </a:lnTo>
                  <a:lnTo>
                    <a:pt x="486" y="984"/>
                  </a:lnTo>
                  <a:lnTo>
                    <a:pt x="464" y="980"/>
                  </a:lnTo>
                  <a:lnTo>
                    <a:pt x="440" y="978"/>
                  </a:lnTo>
                  <a:lnTo>
                    <a:pt x="418" y="978"/>
                  </a:lnTo>
                  <a:lnTo>
                    <a:pt x="394" y="980"/>
                  </a:lnTo>
                  <a:lnTo>
                    <a:pt x="344" y="986"/>
                  </a:lnTo>
                  <a:lnTo>
                    <a:pt x="294" y="996"/>
                  </a:lnTo>
                  <a:lnTo>
                    <a:pt x="246" y="1004"/>
                  </a:lnTo>
                  <a:lnTo>
                    <a:pt x="198" y="1012"/>
                  </a:lnTo>
                  <a:lnTo>
                    <a:pt x="198" y="1012"/>
                  </a:lnTo>
                  <a:lnTo>
                    <a:pt x="176" y="1038"/>
                  </a:lnTo>
                  <a:lnTo>
                    <a:pt x="152" y="1062"/>
                  </a:lnTo>
                  <a:lnTo>
                    <a:pt x="102" y="1114"/>
                  </a:lnTo>
                  <a:lnTo>
                    <a:pt x="80" y="1142"/>
                  </a:lnTo>
                  <a:lnTo>
                    <a:pt x="58" y="1170"/>
                  </a:lnTo>
                  <a:lnTo>
                    <a:pt x="38" y="1200"/>
                  </a:lnTo>
                  <a:lnTo>
                    <a:pt x="22" y="1232"/>
                  </a:lnTo>
                  <a:lnTo>
                    <a:pt x="22" y="1232"/>
                  </a:lnTo>
                  <a:lnTo>
                    <a:pt x="12" y="1322"/>
                  </a:lnTo>
                  <a:lnTo>
                    <a:pt x="12" y="1322"/>
                  </a:lnTo>
                  <a:lnTo>
                    <a:pt x="4" y="1364"/>
                  </a:lnTo>
                  <a:lnTo>
                    <a:pt x="0" y="1406"/>
                  </a:lnTo>
                  <a:lnTo>
                    <a:pt x="0" y="1446"/>
                  </a:lnTo>
                  <a:lnTo>
                    <a:pt x="4" y="1482"/>
                  </a:lnTo>
                  <a:lnTo>
                    <a:pt x="10" y="1518"/>
                  </a:lnTo>
                  <a:lnTo>
                    <a:pt x="20" y="1550"/>
                  </a:lnTo>
                  <a:lnTo>
                    <a:pt x="34" y="1582"/>
                  </a:lnTo>
                  <a:lnTo>
                    <a:pt x="50" y="1610"/>
                  </a:lnTo>
                  <a:lnTo>
                    <a:pt x="68" y="1638"/>
                  </a:lnTo>
                  <a:lnTo>
                    <a:pt x="90" y="1662"/>
                  </a:lnTo>
                  <a:lnTo>
                    <a:pt x="114" y="1686"/>
                  </a:lnTo>
                  <a:lnTo>
                    <a:pt x="140" y="1708"/>
                  </a:lnTo>
                  <a:lnTo>
                    <a:pt x="168" y="1726"/>
                  </a:lnTo>
                  <a:lnTo>
                    <a:pt x="198" y="1744"/>
                  </a:lnTo>
                  <a:lnTo>
                    <a:pt x="230" y="1760"/>
                  </a:lnTo>
                  <a:lnTo>
                    <a:pt x="264" y="1774"/>
                  </a:lnTo>
                  <a:lnTo>
                    <a:pt x="264" y="1774"/>
                  </a:lnTo>
                  <a:lnTo>
                    <a:pt x="304" y="1792"/>
                  </a:lnTo>
                  <a:lnTo>
                    <a:pt x="358" y="1812"/>
                  </a:lnTo>
                  <a:lnTo>
                    <a:pt x="384" y="1822"/>
                  </a:lnTo>
                  <a:lnTo>
                    <a:pt x="410" y="1828"/>
                  </a:lnTo>
                  <a:lnTo>
                    <a:pt x="432" y="1830"/>
                  </a:lnTo>
                  <a:lnTo>
                    <a:pt x="440" y="1830"/>
                  </a:lnTo>
                  <a:lnTo>
                    <a:pt x="448" y="1826"/>
                  </a:lnTo>
                  <a:lnTo>
                    <a:pt x="448" y="1826"/>
                  </a:lnTo>
                  <a:lnTo>
                    <a:pt x="474" y="1822"/>
                  </a:lnTo>
                  <a:lnTo>
                    <a:pt x="496" y="1814"/>
                  </a:lnTo>
                  <a:lnTo>
                    <a:pt x="516" y="1806"/>
                  </a:lnTo>
                  <a:lnTo>
                    <a:pt x="532" y="1794"/>
                  </a:lnTo>
                  <a:lnTo>
                    <a:pt x="548" y="1784"/>
                  </a:lnTo>
                  <a:lnTo>
                    <a:pt x="560" y="1770"/>
                  </a:lnTo>
                  <a:lnTo>
                    <a:pt x="582" y="1746"/>
                  </a:lnTo>
                  <a:lnTo>
                    <a:pt x="602" y="1720"/>
                  </a:lnTo>
                  <a:lnTo>
                    <a:pt x="614" y="1710"/>
                  </a:lnTo>
                  <a:lnTo>
                    <a:pt x="626" y="1698"/>
                  </a:lnTo>
                  <a:lnTo>
                    <a:pt x="638" y="1690"/>
                  </a:lnTo>
                  <a:lnTo>
                    <a:pt x="652" y="1684"/>
                  </a:lnTo>
                  <a:lnTo>
                    <a:pt x="670" y="1678"/>
                  </a:lnTo>
                  <a:lnTo>
                    <a:pt x="690" y="1676"/>
                  </a:lnTo>
                  <a:lnTo>
                    <a:pt x="690" y="1676"/>
                  </a:lnTo>
                  <a:lnTo>
                    <a:pt x="700" y="1682"/>
                  </a:lnTo>
                  <a:lnTo>
                    <a:pt x="718" y="1684"/>
                  </a:lnTo>
                  <a:lnTo>
                    <a:pt x="718" y="1684"/>
                  </a:lnTo>
                  <a:lnTo>
                    <a:pt x="722" y="1696"/>
                  </a:lnTo>
                  <a:lnTo>
                    <a:pt x="726" y="1700"/>
                  </a:lnTo>
                  <a:lnTo>
                    <a:pt x="736" y="1712"/>
                  </a:lnTo>
                  <a:lnTo>
                    <a:pt x="736" y="1712"/>
                  </a:lnTo>
                  <a:lnTo>
                    <a:pt x="728" y="1722"/>
                  </a:lnTo>
                  <a:lnTo>
                    <a:pt x="722" y="1732"/>
                  </a:lnTo>
                  <a:lnTo>
                    <a:pt x="718" y="1744"/>
                  </a:lnTo>
                  <a:lnTo>
                    <a:pt x="716" y="1758"/>
                  </a:lnTo>
                  <a:lnTo>
                    <a:pt x="716" y="1770"/>
                  </a:lnTo>
                  <a:lnTo>
                    <a:pt x="718" y="1784"/>
                  </a:lnTo>
                  <a:lnTo>
                    <a:pt x="724" y="1812"/>
                  </a:lnTo>
                  <a:lnTo>
                    <a:pt x="734" y="1840"/>
                  </a:lnTo>
                  <a:lnTo>
                    <a:pt x="744" y="1870"/>
                  </a:lnTo>
                  <a:lnTo>
                    <a:pt x="756" y="1898"/>
                  </a:lnTo>
                  <a:lnTo>
                    <a:pt x="764" y="1924"/>
                  </a:lnTo>
                  <a:lnTo>
                    <a:pt x="764" y="1924"/>
                  </a:lnTo>
                  <a:lnTo>
                    <a:pt x="792" y="1942"/>
                  </a:lnTo>
                  <a:lnTo>
                    <a:pt x="820" y="1960"/>
                  </a:lnTo>
                  <a:lnTo>
                    <a:pt x="834" y="1968"/>
                  </a:lnTo>
                  <a:lnTo>
                    <a:pt x="850" y="1976"/>
                  </a:lnTo>
                  <a:lnTo>
                    <a:pt x="866" y="1982"/>
                  </a:lnTo>
                  <a:lnTo>
                    <a:pt x="884" y="1986"/>
                  </a:lnTo>
                  <a:lnTo>
                    <a:pt x="884" y="1986"/>
                  </a:lnTo>
                  <a:lnTo>
                    <a:pt x="884" y="1978"/>
                  </a:lnTo>
                  <a:lnTo>
                    <a:pt x="884" y="1978"/>
                  </a:lnTo>
                  <a:lnTo>
                    <a:pt x="872" y="1958"/>
                  </a:lnTo>
                  <a:lnTo>
                    <a:pt x="862" y="1934"/>
                  </a:lnTo>
                  <a:lnTo>
                    <a:pt x="852" y="1906"/>
                  </a:lnTo>
                  <a:lnTo>
                    <a:pt x="844" y="1874"/>
                  </a:lnTo>
                  <a:lnTo>
                    <a:pt x="838" y="1836"/>
                  </a:lnTo>
                  <a:lnTo>
                    <a:pt x="832" y="1798"/>
                  </a:lnTo>
                  <a:lnTo>
                    <a:pt x="828" y="1756"/>
                  </a:lnTo>
                  <a:lnTo>
                    <a:pt x="826" y="1714"/>
                  </a:lnTo>
                  <a:lnTo>
                    <a:pt x="824" y="1670"/>
                  </a:lnTo>
                  <a:lnTo>
                    <a:pt x="824" y="1626"/>
                  </a:lnTo>
                  <a:lnTo>
                    <a:pt x="826" y="1582"/>
                  </a:lnTo>
                  <a:lnTo>
                    <a:pt x="828" y="1540"/>
                  </a:lnTo>
                  <a:lnTo>
                    <a:pt x="830" y="1498"/>
                  </a:lnTo>
                  <a:lnTo>
                    <a:pt x="836" y="1460"/>
                  </a:lnTo>
                  <a:lnTo>
                    <a:pt x="840" y="1424"/>
                  </a:lnTo>
                  <a:lnTo>
                    <a:pt x="848" y="1392"/>
                  </a:lnTo>
                  <a:lnTo>
                    <a:pt x="848" y="1392"/>
                  </a:lnTo>
                  <a:lnTo>
                    <a:pt x="856" y="1352"/>
                  </a:lnTo>
                  <a:lnTo>
                    <a:pt x="862" y="1308"/>
                  </a:lnTo>
                  <a:lnTo>
                    <a:pt x="870" y="1260"/>
                  </a:lnTo>
                  <a:lnTo>
                    <a:pt x="874" y="1208"/>
                  </a:lnTo>
                  <a:lnTo>
                    <a:pt x="882" y="1100"/>
                  </a:lnTo>
                  <a:lnTo>
                    <a:pt x="886" y="988"/>
                  </a:lnTo>
                  <a:lnTo>
                    <a:pt x="884" y="876"/>
                  </a:lnTo>
                  <a:lnTo>
                    <a:pt x="880" y="774"/>
                  </a:lnTo>
                  <a:lnTo>
                    <a:pt x="874" y="726"/>
                  </a:lnTo>
                  <a:lnTo>
                    <a:pt x="870" y="684"/>
                  </a:lnTo>
                  <a:lnTo>
                    <a:pt x="864" y="646"/>
                  </a:lnTo>
                  <a:lnTo>
                    <a:pt x="856" y="612"/>
                  </a:lnTo>
                  <a:lnTo>
                    <a:pt x="856" y="612"/>
                  </a:lnTo>
                  <a:close/>
                  <a:moveTo>
                    <a:pt x="384" y="1640"/>
                  </a:moveTo>
                  <a:lnTo>
                    <a:pt x="384" y="1640"/>
                  </a:lnTo>
                  <a:lnTo>
                    <a:pt x="348" y="1616"/>
                  </a:lnTo>
                  <a:lnTo>
                    <a:pt x="310" y="1588"/>
                  </a:lnTo>
                  <a:lnTo>
                    <a:pt x="272" y="1558"/>
                  </a:lnTo>
                  <a:lnTo>
                    <a:pt x="254" y="1542"/>
                  </a:lnTo>
                  <a:lnTo>
                    <a:pt x="238" y="1524"/>
                  </a:lnTo>
                  <a:lnTo>
                    <a:pt x="224" y="1506"/>
                  </a:lnTo>
                  <a:lnTo>
                    <a:pt x="210" y="1486"/>
                  </a:lnTo>
                  <a:lnTo>
                    <a:pt x="202" y="1464"/>
                  </a:lnTo>
                  <a:lnTo>
                    <a:pt x="194" y="1440"/>
                  </a:lnTo>
                  <a:lnTo>
                    <a:pt x="192" y="1414"/>
                  </a:lnTo>
                  <a:lnTo>
                    <a:pt x="192" y="1386"/>
                  </a:lnTo>
                  <a:lnTo>
                    <a:pt x="198" y="1354"/>
                  </a:lnTo>
                  <a:lnTo>
                    <a:pt x="208" y="1322"/>
                  </a:lnTo>
                  <a:lnTo>
                    <a:pt x="208" y="1322"/>
                  </a:lnTo>
                  <a:lnTo>
                    <a:pt x="218" y="1298"/>
                  </a:lnTo>
                  <a:lnTo>
                    <a:pt x="232" y="1276"/>
                  </a:lnTo>
                  <a:lnTo>
                    <a:pt x="248" y="1254"/>
                  </a:lnTo>
                  <a:lnTo>
                    <a:pt x="266" y="1234"/>
                  </a:lnTo>
                  <a:lnTo>
                    <a:pt x="300" y="1194"/>
                  </a:lnTo>
                  <a:lnTo>
                    <a:pt x="316" y="1174"/>
                  </a:lnTo>
                  <a:lnTo>
                    <a:pt x="328" y="1154"/>
                  </a:lnTo>
                  <a:lnTo>
                    <a:pt x="328" y="1154"/>
                  </a:lnTo>
                  <a:lnTo>
                    <a:pt x="364" y="1154"/>
                  </a:lnTo>
                  <a:lnTo>
                    <a:pt x="398" y="1154"/>
                  </a:lnTo>
                  <a:lnTo>
                    <a:pt x="426" y="1158"/>
                  </a:lnTo>
                  <a:lnTo>
                    <a:pt x="452" y="1162"/>
                  </a:lnTo>
                  <a:lnTo>
                    <a:pt x="476" y="1168"/>
                  </a:lnTo>
                  <a:lnTo>
                    <a:pt x="496" y="1174"/>
                  </a:lnTo>
                  <a:lnTo>
                    <a:pt x="514" y="1182"/>
                  </a:lnTo>
                  <a:lnTo>
                    <a:pt x="532" y="1192"/>
                  </a:lnTo>
                  <a:lnTo>
                    <a:pt x="548" y="1202"/>
                  </a:lnTo>
                  <a:lnTo>
                    <a:pt x="562" y="1214"/>
                  </a:lnTo>
                  <a:lnTo>
                    <a:pt x="590" y="1240"/>
                  </a:lnTo>
                  <a:lnTo>
                    <a:pt x="652" y="1304"/>
                  </a:lnTo>
                  <a:lnTo>
                    <a:pt x="652" y="1304"/>
                  </a:lnTo>
                  <a:lnTo>
                    <a:pt x="654" y="1336"/>
                  </a:lnTo>
                  <a:lnTo>
                    <a:pt x="654" y="1368"/>
                  </a:lnTo>
                  <a:lnTo>
                    <a:pt x="650" y="1400"/>
                  </a:lnTo>
                  <a:lnTo>
                    <a:pt x="644" y="1430"/>
                  </a:lnTo>
                  <a:lnTo>
                    <a:pt x="636" y="1460"/>
                  </a:lnTo>
                  <a:lnTo>
                    <a:pt x="624" y="1488"/>
                  </a:lnTo>
                  <a:lnTo>
                    <a:pt x="612" y="1514"/>
                  </a:lnTo>
                  <a:lnTo>
                    <a:pt x="596" y="1538"/>
                  </a:lnTo>
                  <a:lnTo>
                    <a:pt x="576" y="1560"/>
                  </a:lnTo>
                  <a:lnTo>
                    <a:pt x="556" y="1580"/>
                  </a:lnTo>
                  <a:lnTo>
                    <a:pt x="534" y="1598"/>
                  </a:lnTo>
                  <a:lnTo>
                    <a:pt x="508" y="1614"/>
                  </a:lnTo>
                  <a:lnTo>
                    <a:pt x="480" y="1624"/>
                  </a:lnTo>
                  <a:lnTo>
                    <a:pt x="450" y="1634"/>
                  </a:lnTo>
                  <a:lnTo>
                    <a:pt x="418" y="1638"/>
                  </a:lnTo>
                  <a:lnTo>
                    <a:pt x="384" y="1640"/>
                  </a:lnTo>
                  <a:lnTo>
                    <a:pt x="384" y="1640"/>
                  </a:lnTo>
                  <a:close/>
                </a:path>
              </a:pathLst>
            </a:custGeom>
            <a:solidFill>
              <a:srgbClr val="fc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41"/>
            <p:cNvSpPr/>
            <p:nvPr/>
          </p:nvSpPr>
          <p:spPr>
            <a:xfrm>
              <a:off x="27979920" y="6213600"/>
              <a:ext cx="2977920" cy="3029040"/>
            </a:xfrm>
            <a:custGeom>
              <a:avLst/>
              <a:gdLst>
                <a:gd name="textAreaLeft" fmla="*/ 0 w 2977920"/>
                <a:gd name="textAreaRight" fmla="*/ 2978280 w 2977920"/>
                <a:gd name="textAreaTop" fmla="*/ 0 h 3029040"/>
                <a:gd name="textAreaBottom" fmla="*/ 3029400 h 3029040"/>
              </a:gdLst>
              <a:ahLst/>
              <a:rect l="textAreaLeft" t="textAreaTop" r="textAreaRight" b="textAreaBottom"/>
              <a:pathLst>
                <a:path w="1876" h="1908">
                  <a:moveTo>
                    <a:pt x="1866" y="248"/>
                  </a:moveTo>
                  <a:lnTo>
                    <a:pt x="1866" y="248"/>
                  </a:lnTo>
                  <a:lnTo>
                    <a:pt x="1858" y="236"/>
                  </a:lnTo>
                  <a:lnTo>
                    <a:pt x="1848" y="228"/>
                  </a:lnTo>
                  <a:lnTo>
                    <a:pt x="1838" y="220"/>
                  </a:lnTo>
                  <a:lnTo>
                    <a:pt x="1824" y="212"/>
                  </a:lnTo>
                  <a:lnTo>
                    <a:pt x="1798" y="202"/>
                  </a:lnTo>
                  <a:lnTo>
                    <a:pt x="1786" y="194"/>
                  </a:lnTo>
                  <a:lnTo>
                    <a:pt x="1774" y="186"/>
                  </a:lnTo>
                  <a:lnTo>
                    <a:pt x="1774" y="186"/>
                  </a:lnTo>
                  <a:lnTo>
                    <a:pt x="1700" y="108"/>
                  </a:lnTo>
                  <a:lnTo>
                    <a:pt x="1700" y="108"/>
                  </a:lnTo>
                  <a:lnTo>
                    <a:pt x="1674" y="90"/>
                  </a:lnTo>
                  <a:lnTo>
                    <a:pt x="1644" y="72"/>
                  </a:lnTo>
                  <a:lnTo>
                    <a:pt x="1612" y="54"/>
                  </a:lnTo>
                  <a:lnTo>
                    <a:pt x="1576" y="38"/>
                  </a:lnTo>
                  <a:lnTo>
                    <a:pt x="1540" y="24"/>
                  </a:lnTo>
                  <a:lnTo>
                    <a:pt x="1504" y="12"/>
                  </a:lnTo>
                  <a:lnTo>
                    <a:pt x="1466" y="4"/>
                  </a:lnTo>
                  <a:lnTo>
                    <a:pt x="1448" y="2"/>
                  </a:lnTo>
                  <a:lnTo>
                    <a:pt x="1430" y="0"/>
                  </a:lnTo>
                  <a:lnTo>
                    <a:pt x="1430" y="0"/>
                  </a:lnTo>
                  <a:lnTo>
                    <a:pt x="1420" y="16"/>
                  </a:lnTo>
                  <a:lnTo>
                    <a:pt x="1416" y="24"/>
                  </a:lnTo>
                  <a:lnTo>
                    <a:pt x="1412" y="36"/>
                  </a:lnTo>
                  <a:lnTo>
                    <a:pt x="1412" y="36"/>
                  </a:lnTo>
                  <a:lnTo>
                    <a:pt x="1410" y="44"/>
                  </a:lnTo>
                  <a:lnTo>
                    <a:pt x="1410" y="56"/>
                  </a:lnTo>
                  <a:lnTo>
                    <a:pt x="1414" y="82"/>
                  </a:lnTo>
                  <a:lnTo>
                    <a:pt x="1420" y="110"/>
                  </a:lnTo>
                  <a:lnTo>
                    <a:pt x="1422" y="124"/>
                  </a:lnTo>
                  <a:lnTo>
                    <a:pt x="1422" y="134"/>
                  </a:lnTo>
                  <a:lnTo>
                    <a:pt x="1422" y="134"/>
                  </a:lnTo>
                  <a:lnTo>
                    <a:pt x="1412" y="200"/>
                  </a:lnTo>
                  <a:lnTo>
                    <a:pt x="1398" y="266"/>
                  </a:lnTo>
                  <a:lnTo>
                    <a:pt x="1392" y="298"/>
                  </a:lnTo>
                  <a:lnTo>
                    <a:pt x="1382" y="328"/>
                  </a:lnTo>
                  <a:lnTo>
                    <a:pt x="1370" y="356"/>
                  </a:lnTo>
                  <a:lnTo>
                    <a:pt x="1356" y="382"/>
                  </a:lnTo>
                  <a:lnTo>
                    <a:pt x="1356" y="382"/>
                  </a:lnTo>
                  <a:lnTo>
                    <a:pt x="1340" y="404"/>
                  </a:lnTo>
                  <a:lnTo>
                    <a:pt x="1324" y="424"/>
                  </a:lnTo>
                  <a:lnTo>
                    <a:pt x="1306" y="444"/>
                  </a:lnTo>
                  <a:lnTo>
                    <a:pt x="1288" y="464"/>
                  </a:lnTo>
                  <a:lnTo>
                    <a:pt x="1248" y="500"/>
                  </a:lnTo>
                  <a:lnTo>
                    <a:pt x="1206" y="534"/>
                  </a:lnTo>
                  <a:lnTo>
                    <a:pt x="1166" y="568"/>
                  </a:lnTo>
                  <a:lnTo>
                    <a:pt x="1126" y="602"/>
                  </a:lnTo>
                  <a:lnTo>
                    <a:pt x="1108" y="622"/>
                  </a:lnTo>
                  <a:lnTo>
                    <a:pt x="1090" y="642"/>
                  </a:lnTo>
                  <a:lnTo>
                    <a:pt x="1074" y="662"/>
                  </a:lnTo>
                  <a:lnTo>
                    <a:pt x="1060" y="684"/>
                  </a:lnTo>
                  <a:lnTo>
                    <a:pt x="1060" y="684"/>
                  </a:lnTo>
                  <a:lnTo>
                    <a:pt x="1048" y="676"/>
                  </a:lnTo>
                  <a:lnTo>
                    <a:pt x="1036" y="666"/>
                  </a:lnTo>
                  <a:lnTo>
                    <a:pt x="1028" y="656"/>
                  </a:lnTo>
                  <a:lnTo>
                    <a:pt x="1020" y="644"/>
                  </a:lnTo>
                  <a:lnTo>
                    <a:pt x="1012" y="630"/>
                  </a:lnTo>
                  <a:lnTo>
                    <a:pt x="1006" y="614"/>
                  </a:lnTo>
                  <a:lnTo>
                    <a:pt x="996" y="582"/>
                  </a:lnTo>
                  <a:lnTo>
                    <a:pt x="988" y="546"/>
                  </a:lnTo>
                  <a:lnTo>
                    <a:pt x="982" y="510"/>
                  </a:lnTo>
                  <a:lnTo>
                    <a:pt x="974" y="476"/>
                  </a:lnTo>
                  <a:lnTo>
                    <a:pt x="966" y="444"/>
                  </a:lnTo>
                  <a:lnTo>
                    <a:pt x="966" y="444"/>
                  </a:lnTo>
                  <a:lnTo>
                    <a:pt x="940" y="360"/>
                  </a:lnTo>
                  <a:lnTo>
                    <a:pt x="910" y="278"/>
                  </a:lnTo>
                  <a:lnTo>
                    <a:pt x="892" y="238"/>
                  </a:lnTo>
                  <a:lnTo>
                    <a:pt x="874" y="198"/>
                  </a:lnTo>
                  <a:lnTo>
                    <a:pt x="856" y="160"/>
                  </a:lnTo>
                  <a:lnTo>
                    <a:pt x="838" y="124"/>
                  </a:lnTo>
                  <a:lnTo>
                    <a:pt x="838" y="124"/>
                  </a:lnTo>
                  <a:lnTo>
                    <a:pt x="818" y="122"/>
                  </a:lnTo>
                  <a:lnTo>
                    <a:pt x="798" y="120"/>
                  </a:lnTo>
                  <a:lnTo>
                    <a:pt x="780" y="122"/>
                  </a:lnTo>
                  <a:lnTo>
                    <a:pt x="762" y="122"/>
                  </a:lnTo>
                  <a:lnTo>
                    <a:pt x="728" y="128"/>
                  </a:lnTo>
                  <a:lnTo>
                    <a:pt x="696" y="138"/>
                  </a:lnTo>
                  <a:lnTo>
                    <a:pt x="666" y="150"/>
                  </a:lnTo>
                  <a:lnTo>
                    <a:pt x="636" y="162"/>
                  </a:lnTo>
                  <a:lnTo>
                    <a:pt x="608" y="176"/>
                  </a:lnTo>
                  <a:lnTo>
                    <a:pt x="578" y="186"/>
                  </a:lnTo>
                  <a:lnTo>
                    <a:pt x="578" y="186"/>
                  </a:lnTo>
                  <a:lnTo>
                    <a:pt x="554" y="194"/>
                  </a:lnTo>
                  <a:lnTo>
                    <a:pt x="528" y="198"/>
                  </a:lnTo>
                  <a:lnTo>
                    <a:pt x="476" y="206"/>
                  </a:lnTo>
                  <a:lnTo>
                    <a:pt x="450" y="208"/>
                  </a:lnTo>
                  <a:lnTo>
                    <a:pt x="426" y="214"/>
                  </a:lnTo>
                  <a:lnTo>
                    <a:pt x="404" y="220"/>
                  </a:lnTo>
                  <a:lnTo>
                    <a:pt x="382" y="232"/>
                  </a:lnTo>
                  <a:lnTo>
                    <a:pt x="382" y="232"/>
                  </a:lnTo>
                  <a:lnTo>
                    <a:pt x="364" y="232"/>
                  </a:lnTo>
                  <a:lnTo>
                    <a:pt x="364" y="232"/>
                  </a:lnTo>
                  <a:lnTo>
                    <a:pt x="368" y="258"/>
                  </a:lnTo>
                  <a:lnTo>
                    <a:pt x="374" y="278"/>
                  </a:lnTo>
                  <a:lnTo>
                    <a:pt x="382" y="296"/>
                  </a:lnTo>
                  <a:lnTo>
                    <a:pt x="392" y="312"/>
                  </a:lnTo>
                  <a:lnTo>
                    <a:pt x="416" y="340"/>
                  </a:lnTo>
                  <a:lnTo>
                    <a:pt x="428" y="356"/>
                  </a:lnTo>
                  <a:lnTo>
                    <a:pt x="438" y="374"/>
                  </a:lnTo>
                  <a:lnTo>
                    <a:pt x="438" y="374"/>
                  </a:lnTo>
                  <a:lnTo>
                    <a:pt x="478" y="450"/>
                  </a:lnTo>
                  <a:lnTo>
                    <a:pt x="516" y="528"/>
                  </a:lnTo>
                  <a:lnTo>
                    <a:pt x="552" y="606"/>
                  </a:lnTo>
                  <a:lnTo>
                    <a:pt x="586" y="684"/>
                  </a:lnTo>
                  <a:lnTo>
                    <a:pt x="586" y="684"/>
                  </a:lnTo>
                  <a:lnTo>
                    <a:pt x="596" y="706"/>
                  </a:lnTo>
                  <a:lnTo>
                    <a:pt x="602" y="732"/>
                  </a:lnTo>
                  <a:lnTo>
                    <a:pt x="614" y="786"/>
                  </a:lnTo>
                  <a:lnTo>
                    <a:pt x="620" y="812"/>
                  </a:lnTo>
                  <a:lnTo>
                    <a:pt x="628" y="836"/>
                  </a:lnTo>
                  <a:lnTo>
                    <a:pt x="638" y="860"/>
                  </a:lnTo>
                  <a:lnTo>
                    <a:pt x="644" y="870"/>
                  </a:lnTo>
                  <a:lnTo>
                    <a:pt x="652" y="878"/>
                  </a:lnTo>
                  <a:lnTo>
                    <a:pt x="652" y="878"/>
                  </a:lnTo>
                  <a:lnTo>
                    <a:pt x="646" y="888"/>
                  </a:lnTo>
                  <a:lnTo>
                    <a:pt x="646" y="892"/>
                  </a:lnTo>
                  <a:lnTo>
                    <a:pt x="644" y="892"/>
                  </a:lnTo>
                  <a:lnTo>
                    <a:pt x="634" y="896"/>
                  </a:lnTo>
                  <a:lnTo>
                    <a:pt x="634" y="896"/>
                  </a:lnTo>
                  <a:lnTo>
                    <a:pt x="634" y="908"/>
                  </a:lnTo>
                  <a:lnTo>
                    <a:pt x="636" y="918"/>
                  </a:lnTo>
                  <a:lnTo>
                    <a:pt x="640" y="928"/>
                  </a:lnTo>
                  <a:lnTo>
                    <a:pt x="644" y="938"/>
                  </a:lnTo>
                  <a:lnTo>
                    <a:pt x="656" y="956"/>
                  </a:lnTo>
                  <a:lnTo>
                    <a:pt x="668" y="976"/>
                  </a:lnTo>
                  <a:lnTo>
                    <a:pt x="680" y="996"/>
                  </a:lnTo>
                  <a:lnTo>
                    <a:pt x="686" y="1008"/>
                  </a:lnTo>
                  <a:lnTo>
                    <a:pt x="690" y="1020"/>
                  </a:lnTo>
                  <a:lnTo>
                    <a:pt x="692" y="1032"/>
                  </a:lnTo>
                  <a:lnTo>
                    <a:pt x="692" y="1044"/>
                  </a:lnTo>
                  <a:lnTo>
                    <a:pt x="692" y="1058"/>
                  </a:lnTo>
                  <a:lnTo>
                    <a:pt x="688" y="1074"/>
                  </a:lnTo>
                  <a:lnTo>
                    <a:pt x="688" y="1074"/>
                  </a:lnTo>
                  <a:lnTo>
                    <a:pt x="676" y="1114"/>
                  </a:lnTo>
                  <a:lnTo>
                    <a:pt x="664" y="1152"/>
                  </a:lnTo>
                  <a:lnTo>
                    <a:pt x="650" y="1184"/>
                  </a:lnTo>
                  <a:lnTo>
                    <a:pt x="636" y="1214"/>
                  </a:lnTo>
                  <a:lnTo>
                    <a:pt x="620" y="1242"/>
                  </a:lnTo>
                  <a:lnTo>
                    <a:pt x="602" y="1266"/>
                  </a:lnTo>
                  <a:lnTo>
                    <a:pt x="586" y="1288"/>
                  </a:lnTo>
                  <a:lnTo>
                    <a:pt x="566" y="1310"/>
                  </a:lnTo>
                  <a:lnTo>
                    <a:pt x="546" y="1328"/>
                  </a:lnTo>
                  <a:lnTo>
                    <a:pt x="524" y="1348"/>
                  </a:lnTo>
                  <a:lnTo>
                    <a:pt x="478" y="1384"/>
                  </a:lnTo>
                  <a:lnTo>
                    <a:pt x="364" y="1464"/>
                  </a:lnTo>
                  <a:lnTo>
                    <a:pt x="364" y="1464"/>
                  </a:lnTo>
                  <a:lnTo>
                    <a:pt x="338" y="1484"/>
                  </a:lnTo>
                  <a:lnTo>
                    <a:pt x="314" y="1508"/>
                  </a:lnTo>
                  <a:lnTo>
                    <a:pt x="270" y="1558"/>
                  </a:lnTo>
                  <a:lnTo>
                    <a:pt x="248" y="1584"/>
                  </a:lnTo>
                  <a:lnTo>
                    <a:pt x="224" y="1608"/>
                  </a:lnTo>
                  <a:lnTo>
                    <a:pt x="198" y="1630"/>
                  </a:lnTo>
                  <a:lnTo>
                    <a:pt x="184" y="1640"/>
                  </a:lnTo>
                  <a:lnTo>
                    <a:pt x="170" y="1650"/>
                  </a:lnTo>
                  <a:lnTo>
                    <a:pt x="170" y="1650"/>
                  </a:lnTo>
                  <a:lnTo>
                    <a:pt x="154" y="1656"/>
                  </a:lnTo>
                  <a:lnTo>
                    <a:pt x="138" y="1662"/>
                  </a:lnTo>
                  <a:lnTo>
                    <a:pt x="100" y="1668"/>
                  </a:lnTo>
                  <a:lnTo>
                    <a:pt x="64" y="1674"/>
                  </a:lnTo>
                  <a:lnTo>
                    <a:pt x="46" y="1678"/>
                  </a:lnTo>
                  <a:lnTo>
                    <a:pt x="30" y="1686"/>
                  </a:lnTo>
                  <a:lnTo>
                    <a:pt x="30" y="1686"/>
                  </a:lnTo>
                  <a:lnTo>
                    <a:pt x="16" y="1690"/>
                  </a:lnTo>
                  <a:lnTo>
                    <a:pt x="10" y="1692"/>
                  </a:lnTo>
                  <a:lnTo>
                    <a:pt x="8" y="1698"/>
                  </a:lnTo>
                  <a:lnTo>
                    <a:pt x="2" y="1712"/>
                  </a:lnTo>
                  <a:lnTo>
                    <a:pt x="2" y="1712"/>
                  </a:lnTo>
                  <a:lnTo>
                    <a:pt x="0" y="1720"/>
                  </a:lnTo>
                  <a:lnTo>
                    <a:pt x="0" y="1728"/>
                  </a:lnTo>
                  <a:lnTo>
                    <a:pt x="0" y="1738"/>
                  </a:lnTo>
                  <a:lnTo>
                    <a:pt x="2" y="1746"/>
                  </a:lnTo>
                  <a:lnTo>
                    <a:pt x="12" y="1764"/>
                  </a:lnTo>
                  <a:lnTo>
                    <a:pt x="24" y="1782"/>
                  </a:lnTo>
                  <a:lnTo>
                    <a:pt x="40" y="1798"/>
                  </a:lnTo>
                  <a:lnTo>
                    <a:pt x="56" y="1812"/>
                  </a:lnTo>
                  <a:lnTo>
                    <a:pt x="86" y="1836"/>
                  </a:lnTo>
                  <a:lnTo>
                    <a:pt x="86" y="1836"/>
                  </a:lnTo>
                  <a:lnTo>
                    <a:pt x="96" y="1844"/>
                  </a:lnTo>
                  <a:lnTo>
                    <a:pt x="106" y="1854"/>
                  </a:lnTo>
                  <a:lnTo>
                    <a:pt x="124" y="1874"/>
                  </a:lnTo>
                  <a:lnTo>
                    <a:pt x="134" y="1884"/>
                  </a:lnTo>
                  <a:lnTo>
                    <a:pt x="144" y="1894"/>
                  </a:lnTo>
                  <a:lnTo>
                    <a:pt x="156" y="1902"/>
                  </a:lnTo>
                  <a:lnTo>
                    <a:pt x="170" y="1906"/>
                  </a:lnTo>
                  <a:lnTo>
                    <a:pt x="170" y="1906"/>
                  </a:lnTo>
                  <a:lnTo>
                    <a:pt x="308" y="1906"/>
                  </a:lnTo>
                  <a:lnTo>
                    <a:pt x="308" y="1906"/>
                  </a:lnTo>
                  <a:lnTo>
                    <a:pt x="348" y="1908"/>
                  </a:lnTo>
                  <a:lnTo>
                    <a:pt x="386" y="1906"/>
                  </a:lnTo>
                  <a:lnTo>
                    <a:pt x="420" y="1904"/>
                  </a:lnTo>
                  <a:lnTo>
                    <a:pt x="452" y="1902"/>
                  </a:lnTo>
                  <a:lnTo>
                    <a:pt x="480" y="1898"/>
                  </a:lnTo>
                  <a:lnTo>
                    <a:pt x="508" y="1892"/>
                  </a:lnTo>
                  <a:lnTo>
                    <a:pt x="534" y="1884"/>
                  </a:lnTo>
                  <a:lnTo>
                    <a:pt x="560" y="1878"/>
                  </a:lnTo>
                  <a:lnTo>
                    <a:pt x="606" y="1858"/>
                  </a:lnTo>
                  <a:lnTo>
                    <a:pt x="654" y="1836"/>
                  </a:lnTo>
                  <a:lnTo>
                    <a:pt x="754" y="1782"/>
                  </a:lnTo>
                  <a:lnTo>
                    <a:pt x="754" y="1782"/>
                  </a:lnTo>
                  <a:lnTo>
                    <a:pt x="816" y="1748"/>
                  </a:lnTo>
                  <a:lnTo>
                    <a:pt x="876" y="1708"/>
                  </a:lnTo>
                  <a:lnTo>
                    <a:pt x="934" y="1666"/>
                  </a:lnTo>
                  <a:lnTo>
                    <a:pt x="992" y="1620"/>
                  </a:lnTo>
                  <a:lnTo>
                    <a:pt x="1048" y="1572"/>
                  </a:lnTo>
                  <a:lnTo>
                    <a:pt x="1102" y="1522"/>
                  </a:lnTo>
                  <a:lnTo>
                    <a:pt x="1156" y="1468"/>
                  </a:lnTo>
                  <a:lnTo>
                    <a:pt x="1206" y="1414"/>
                  </a:lnTo>
                  <a:lnTo>
                    <a:pt x="1256" y="1356"/>
                  </a:lnTo>
                  <a:lnTo>
                    <a:pt x="1302" y="1298"/>
                  </a:lnTo>
                  <a:lnTo>
                    <a:pt x="1348" y="1238"/>
                  </a:lnTo>
                  <a:lnTo>
                    <a:pt x="1390" y="1178"/>
                  </a:lnTo>
                  <a:lnTo>
                    <a:pt x="1432" y="1116"/>
                  </a:lnTo>
                  <a:lnTo>
                    <a:pt x="1470" y="1054"/>
                  </a:lnTo>
                  <a:lnTo>
                    <a:pt x="1508" y="994"/>
                  </a:lnTo>
                  <a:lnTo>
                    <a:pt x="1542" y="932"/>
                  </a:lnTo>
                  <a:lnTo>
                    <a:pt x="1542" y="932"/>
                  </a:lnTo>
                  <a:lnTo>
                    <a:pt x="1558" y="898"/>
                  </a:lnTo>
                  <a:lnTo>
                    <a:pt x="1576" y="862"/>
                  </a:lnTo>
                  <a:lnTo>
                    <a:pt x="1612" y="778"/>
                  </a:lnTo>
                  <a:lnTo>
                    <a:pt x="1652" y="688"/>
                  </a:lnTo>
                  <a:lnTo>
                    <a:pt x="1692" y="594"/>
                  </a:lnTo>
                  <a:lnTo>
                    <a:pt x="1736" y="502"/>
                  </a:lnTo>
                  <a:lnTo>
                    <a:pt x="1758" y="460"/>
                  </a:lnTo>
                  <a:lnTo>
                    <a:pt x="1780" y="420"/>
                  </a:lnTo>
                  <a:lnTo>
                    <a:pt x="1804" y="384"/>
                  </a:lnTo>
                  <a:lnTo>
                    <a:pt x="1826" y="352"/>
                  </a:lnTo>
                  <a:lnTo>
                    <a:pt x="1850" y="324"/>
                  </a:lnTo>
                  <a:lnTo>
                    <a:pt x="1876" y="302"/>
                  </a:lnTo>
                  <a:lnTo>
                    <a:pt x="1876" y="302"/>
                  </a:lnTo>
                  <a:lnTo>
                    <a:pt x="1874" y="272"/>
                  </a:lnTo>
                  <a:lnTo>
                    <a:pt x="1872" y="260"/>
                  </a:lnTo>
                  <a:lnTo>
                    <a:pt x="1866" y="248"/>
                  </a:lnTo>
                  <a:lnTo>
                    <a:pt x="1866" y="248"/>
                  </a:lnTo>
                  <a:close/>
                  <a:moveTo>
                    <a:pt x="1598" y="524"/>
                  </a:moveTo>
                  <a:lnTo>
                    <a:pt x="1598" y="524"/>
                  </a:lnTo>
                  <a:lnTo>
                    <a:pt x="1540" y="652"/>
                  </a:lnTo>
                  <a:lnTo>
                    <a:pt x="1486" y="776"/>
                  </a:lnTo>
                  <a:lnTo>
                    <a:pt x="1456" y="836"/>
                  </a:lnTo>
                  <a:lnTo>
                    <a:pt x="1426" y="896"/>
                  </a:lnTo>
                  <a:lnTo>
                    <a:pt x="1392" y="954"/>
                  </a:lnTo>
                  <a:lnTo>
                    <a:pt x="1356" y="1012"/>
                  </a:lnTo>
                  <a:lnTo>
                    <a:pt x="1356" y="1012"/>
                  </a:lnTo>
                  <a:lnTo>
                    <a:pt x="1332" y="1046"/>
                  </a:lnTo>
                  <a:lnTo>
                    <a:pt x="1306" y="1078"/>
                  </a:lnTo>
                  <a:lnTo>
                    <a:pt x="1250" y="1142"/>
                  </a:lnTo>
                  <a:lnTo>
                    <a:pt x="1194" y="1204"/>
                  </a:lnTo>
                  <a:lnTo>
                    <a:pt x="1168" y="1236"/>
                  </a:lnTo>
                  <a:lnTo>
                    <a:pt x="1144" y="1268"/>
                  </a:lnTo>
                  <a:lnTo>
                    <a:pt x="1144" y="1268"/>
                  </a:lnTo>
                  <a:lnTo>
                    <a:pt x="1088" y="1352"/>
                  </a:lnTo>
                  <a:lnTo>
                    <a:pt x="1058" y="1396"/>
                  </a:lnTo>
                  <a:lnTo>
                    <a:pt x="1028" y="1440"/>
                  </a:lnTo>
                  <a:lnTo>
                    <a:pt x="994" y="1482"/>
                  </a:lnTo>
                  <a:lnTo>
                    <a:pt x="960" y="1520"/>
                  </a:lnTo>
                  <a:lnTo>
                    <a:pt x="942" y="1536"/>
                  </a:lnTo>
                  <a:lnTo>
                    <a:pt x="922" y="1552"/>
                  </a:lnTo>
                  <a:lnTo>
                    <a:pt x="904" y="1566"/>
                  </a:lnTo>
                  <a:lnTo>
                    <a:pt x="884" y="1578"/>
                  </a:lnTo>
                  <a:lnTo>
                    <a:pt x="884" y="1578"/>
                  </a:lnTo>
                  <a:lnTo>
                    <a:pt x="876" y="1582"/>
                  </a:lnTo>
                  <a:lnTo>
                    <a:pt x="866" y="1586"/>
                  </a:lnTo>
                  <a:lnTo>
                    <a:pt x="850" y="1588"/>
                  </a:lnTo>
                  <a:lnTo>
                    <a:pt x="834" y="1590"/>
                  </a:lnTo>
                  <a:lnTo>
                    <a:pt x="826" y="1592"/>
                  </a:lnTo>
                  <a:lnTo>
                    <a:pt x="818" y="1596"/>
                  </a:lnTo>
                  <a:lnTo>
                    <a:pt x="818" y="1596"/>
                  </a:lnTo>
                  <a:lnTo>
                    <a:pt x="790" y="1616"/>
                  </a:lnTo>
                  <a:lnTo>
                    <a:pt x="758" y="1638"/>
                  </a:lnTo>
                  <a:lnTo>
                    <a:pt x="686" y="1692"/>
                  </a:lnTo>
                  <a:lnTo>
                    <a:pt x="648" y="1718"/>
                  </a:lnTo>
                  <a:lnTo>
                    <a:pt x="614" y="1742"/>
                  </a:lnTo>
                  <a:lnTo>
                    <a:pt x="580" y="1760"/>
                  </a:lnTo>
                  <a:lnTo>
                    <a:pt x="564" y="1768"/>
                  </a:lnTo>
                  <a:lnTo>
                    <a:pt x="550" y="1774"/>
                  </a:lnTo>
                  <a:lnTo>
                    <a:pt x="550" y="1774"/>
                  </a:lnTo>
                  <a:lnTo>
                    <a:pt x="524" y="1782"/>
                  </a:lnTo>
                  <a:lnTo>
                    <a:pt x="498" y="1786"/>
                  </a:lnTo>
                  <a:lnTo>
                    <a:pt x="474" y="1790"/>
                  </a:lnTo>
                  <a:lnTo>
                    <a:pt x="450" y="1790"/>
                  </a:lnTo>
                  <a:lnTo>
                    <a:pt x="408" y="1792"/>
                  </a:lnTo>
                  <a:lnTo>
                    <a:pt x="374" y="1792"/>
                  </a:lnTo>
                  <a:lnTo>
                    <a:pt x="374" y="1792"/>
                  </a:lnTo>
                  <a:lnTo>
                    <a:pt x="368" y="1794"/>
                  </a:lnTo>
                  <a:lnTo>
                    <a:pt x="362" y="1796"/>
                  </a:lnTo>
                  <a:lnTo>
                    <a:pt x="352" y="1802"/>
                  </a:lnTo>
                  <a:lnTo>
                    <a:pt x="344" y="1806"/>
                  </a:lnTo>
                  <a:lnTo>
                    <a:pt x="338" y="1806"/>
                  </a:lnTo>
                  <a:lnTo>
                    <a:pt x="328" y="1806"/>
                  </a:lnTo>
                  <a:lnTo>
                    <a:pt x="318" y="1800"/>
                  </a:lnTo>
                  <a:lnTo>
                    <a:pt x="318" y="1800"/>
                  </a:lnTo>
                  <a:lnTo>
                    <a:pt x="272" y="1800"/>
                  </a:lnTo>
                  <a:lnTo>
                    <a:pt x="230" y="1800"/>
                  </a:lnTo>
                  <a:lnTo>
                    <a:pt x="210" y="1796"/>
                  </a:lnTo>
                  <a:lnTo>
                    <a:pt x="192" y="1794"/>
                  </a:lnTo>
                  <a:lnTo>
                    <a:pt x="176" y="1788"/>
                  </a:lnTo>
                  <a:lnTo>
                    <a:pt x="160" y="1782"/>
                  </a:lnTo>
                  <a:lnTo>
                    <a:pt x="160" y="1782"/>
                  </a:lnTo>
                  <a:lnTo>
                    <a:pt x="166" y="1776"/>
                  </a:lnTo>
                  <a:lnTo>
                    <a:pt x="172" y="1768"/>
                  </a:lnTo>
                  <a:lnTo>
                    <a:pt x="192" y="1754"/>
                  </a:lnTo>
                  <a:lnTo>
                    <a:pt x="218" y="1738"/>
                  </a:lnTo>
                  <a:lnTo>
                    <a:pt x="246" y="1722"/>
                  </a:lnTo>
                  <a:lnTo>
                    <a:pt x="302" y="1692"/>
                  </a:lnTo>
                  <a:lnTo>
                    <a:pt x="328" y="1678"/>
                  </a:lnTo>
                  <a:lnTo>
                    <a:pt x="346" y="1668"/>
                  </a:lnTo>
                  <a:lnTo>
                    <a:pt x="346" y="1668"/>
                  </a:lnTo>
                  <a:lnTo>
                    <a:pt x="364" y="1654"/>
                  </a:lnTo>
                  <a:lnTo>
                    <a:pt x="378" y="1638"/>
                  </a:lnTo>
                  <a:lnTo>
                    <a:pt x="394" y="1622"/>
                  </a:lnTo>
                  <a:lnTo>
                    <a:pt x="408" y="1602"/>
                  </a:lnTo>
                  <a:lnTo>
                    <a:pt x="436" y="1566"/>
                  </a:lnTo>
                  <a:lnTo>
                    <a:pt x="450" y="1550"/>
                  </a:lnTo>
                  <a:lnTo>
                    <a:pt x="466" y="1534"/>
                  </a:lnTo>
                  <a:lnTo>
                    <a:pt x="466" y="1534"/>
                  </a:lnTo>
                  <a:lnTo>
                    <a:pt x="490" y="1516"/>
                  </a:lnTo>
                  <a:lnTo>
                    <a:pt x="518" y="1500"/>
                  </a:lnTo>
                  <a:lnTo>
                    <a:pt x="572" y="1468"/>
                  </a:lnTo>
                  <a:lnTo>
                    <a:pt x="600" y="1452"/>
                  </a:lnTo>
                  <a:lnTo>
                    <a:pt x="626" y="1434"/>
                  </a:lnTo>
                  <a:lnTo>
                    <a:pt x="650" y="1414"/>
                  </a:lnTo>
                  <a:lnTo>
                    <a:pt x="660" y="1404"/>
                  </a:lnTo>
                  <a:lnTo>
                    <a:pt x="670" y="1392"/>
                  </a:lnTo>
                  <a:lnTo>
                    <a:pt x="670" y="1392"/>
                  </a:lnTo>
                  <a:lnTo>
                    <a:pt x="690" y="1366"/>
                  </a:lnTo>
                  <a:lnTo>
                    <a:pt x="712" y="1326"/>
                  </a:lnTo>
                  <a:lnTo>
                    <a:pt x="738" y="1280"/>
                  </a:lnTo>
                  <a:lnTo>
                    <a:pt x="762" y="1226"/>
                  </a:lnTo>
                  <a:lnTo>
                    <a:pt x="772" y="1198"/>
                  </a:lnTo>
                  <a:lnTo>
                    <a:pt x="782" y="1172"/>
                  </a:lnTo>
                  <a:lnTo>
                    <a:pt x="790" y="1144"/>
                  </a:lnTo>
                  <a:lnTo>
                    <a:pt x="798" y="1116"/>
                  </a:lnTo>
                  <a:lnTo>
                    <a:pt x="802" y="1090"/>
                  </a:lnTo>
                  <a:lnTo>
                    <a:pt x="804" y="1066"/>
                  </a:lnTo>
                  <a:lnTo>
                    <a:pt x="804" y="1042"/>
                  </a:lnTo>
                  <a:lnTo>
                    <a:pt x="800" y="1020"/>
                  </a:lnTo>
                  <a:lnTo>
                    <a:pt x="800" y="1020"/>
                  </a:lnTo>
                  <a:lnTo>
                    <a:pt x="796" y="1006"/>
                  </a:lnTo>
                  <a:lnTo>
                    <a:pt x="788" y="992"/>
                  </a:lnTo>
                  <a:lnTo>
                    <a:pt x="772" y="968"/>
                  </a:lnTo>
                  <a:lnTo>
                    <a:pt x="756" y="944"/>
                  </a:lnTo>
                  <a:lnTo>
                    <a:pt x="750" y="934"/>
                  </a:lnTo>
                  <a:lnTo>
                    <a:pt x="744" y="922"/>
                  </a:lnTo>
                  <a:lnTo>
                    <a:pt x="744" y="922"/>
                  </a:lnTo>
                  <a:lnTo>
                    <a:pt x="744" y="860"/>
                  </a:lnTo>
                  <a:lnTo>
                    <a:pt x="744" y="860"/>
                  </a:lnTo>
                  <a:lnTo>
                    <a:pt x="698" y="702"/>
                  </a:lnTo>
                  <a:lnTo>
                    <a:pt x="698" y="702"/>
                  </a:lnTo>
                  <a:lnTo>
                    <a:pt x="676" y="654"/>
                  </a:lnTo>
                  <a:lnTo>
                    <a:pt x="652" y="606"/>
                  </a:lnTo>
                  <a:lnTo>
                    <a:pt x="602" y="512"/>
                  </a:lnTo>
                  <a:lnTo>
                    <a:pt x="576" y="466"/>
                  </a:lnTo>
                  <a:lnTo>
                    <a:pt x="552" y="418"/>
                  </a:lnTo>
                  <a:lnTo>
                    <a:pt x="530" y="368"/>
                  </a:lnTo>
                  <a:lnTo>
                    <a:pt x="512" y="320"/>
                  </a:lnTo>
                  <a:lnTo>
                    <a:pt x="512" y="320"/>
                  </a:lnTo>
                  <a:lnTo>
                    <a:pt x="542" y="310"/>
                  </a:lnTo>
                  <a:lnTo>
                    <a:pt x="574" y="302"/>
                  </a:lnTo>
                  <a:lnTo>
                    <a:pt x="640" y="286"/>
                  </a:lnTo>
                  <a:lnTo>
                    <a:pt x="672" y="278"/>
                  </a:lnTo>
                  <a:lnTo>
                    <a:pt x="702" y="268"/>
                  </a:lnTo>
                  <a:lnTo>
                    <a:pt x="728" y="256"/>
                  </a:lnTo>
                  <a:lnTo>
                    <a:pt x="754" y="240"/>
                  </a:lnTo>
                  <a:lnTo>
                    <a:pt x="754" y="240"/>
                  </a:lnTo>
                  <a:lnTo>
                    <a:pt x="764" y="244"/>
                  </a:lnTo>
                  <a:lnTo>
                    <a:pt x="774" y="248"/>
                  </a:lnTo>
                  <a:lnTo>
                    <a:pt x="782" y="252"/>
                  </a:lnTo>
                  <a:lnTo>
                    <a:pt x="788" y="260"/>
                  </a:lnTo>
                  <a:lnTo>
                    <a:pt x="794" y="266"/>
                  </a:lnTo>
                  <a:lnTo>
                    <a:pt x="798" y="274"/>
                  </a:lnTo>
                  <a:lnTo>
                    <a:pt x="806" y="292"/>
                  </a:lnTo>
                  <a:lnTo>
                    <a:pt x="812" y="312"/>
                  </a:lnTo>
                  <a:lnTo>
                    <a:pt x="816" y="332"/>
                  </a:lnTo>
                  <a:lnTo>
                    <a:pt x="822" y="352"/>
                  </a:lnTo>
                  <a:lnTo>
                    <a:pt x="828" y="374"/>
                  </a:lnTo>
                  <a:lnTo>
                    <a:pt x="828" y="374"/>
                  </a:lnTo>
                  <a:lnTo>
                    <a:pt x="834" y="394"/>
                  </a:lnTo>
                  <a:lnTo>
                    <a:pt x="840" y="418"/>
                  </a:lnTo>
                  <a:lnTo>
                    <a:pt x="850" y="468"/>
                  </a:lnTo>
                  <a:lnTo>
                    <a:pt x="860" y="518"/>
                  </a:lnTo>
                  <a:lnTo>
                    <a:pt x="866" y="544"/>
                  </a:lnTo>
                  <a:lnTo>
                    <a:pt x="874" y="568"/>
                  </a:lnTo>
                  <a:lnTo>
                    <a:pt x="874" y="568"/>
                  </a:lnTo>
                  <a:lnTo>
                    <a:pt x="892" y="608"/>
                  </a:lnTo>
                  <a:lnTo>
                    <a:pt x="912" y="648"/>
                  </a:lnTo>
                  <a:lnTo>
                    <a:pt x="932" y="688"/>
                  </a:lnTo>
                  <a:lnTo>
                    <a:pt x="948" y="728"/>
                  </a:lnTo>
                  <a:lnTo>
                    <a:pt x="948" y="728"/>
                  </a:lnTo>
                  <a:lnTo>
                    <a:pt x="952" y="742"/>
                  </a:lnTo>
                  <a:lnTo>
                    <a:pt x="956" y="756"/>
                  </a:lnTo>
                  <a:lnTo>
                    <a:pt x="960" y="784"/>
                  </a:lnTo>
                  <a:lnTo>
                    <a:pt x="966" y="810"/>
                  </a:lnTo>
                  <a:lnTo>
                    <a:pt x="970" y="822"/>
                  </a:lnTo>
                  <a:lnTo>
                    <a:pt x="976" y="834"/>
                  </a:lnTo>
                  <a:lnTo>
                    <a:pt x="976" y="834"/>
                  </a:lnTo>
                  <a:lnTo>
                    <a:pt x="982" y="848"/>
                  </a:lnTo>
                  <a:lnTo>
                    <a:pt x="992" y="858"/>
                  </a:lnTo>
                  <a:lnTo>
                    <a:pt x="1002" y="864"/>
                  </a:lnTo>
                  <a:lnTo>
                    <a:pt x="1012" y="868"/>
                  </a:lnTo>
                  <a:lnTo>
                    <a:pt x="1036" y="874"/>
                  </a:lnTo>
                  <a:lnTo>
                    <a:pt x="1060" y="878"/>
                  </a:lnTo>
                  <a:lnTo>
                    <a:pt x="1060" y="878"/>
                  </a:lnTo>
                  <a:lnTo>
                    <a:pt x="1074" y="852"/>
                  </a:lnTo>
                  <a:lnTo>
                    <a:pt x="1090" y="828"/>
                  </a:lnTo>
                  <a:lnTo>
                    <a:pt x="1106" y="804"/>
                  </a:lnTo>
                  <a:lnTo>
                    <a:pt x="1124" y="782"/>
                  </a:lnTo>
                  <a:lnTo>
                    <a:pt x="1158" y="742"/>
                  </a:lnTo>
                  <a:lnTo>
                    <a:pt x="1194" y="704"/>
                  </a:lnTo>
                  <a:lnTo>
                    <a:pt x="1232" y="670"/>
                  </a:lnTo>
                  <a:lnTo>
                    <a:pt x="1268" y="636"/>
                  </a:lnTo>
                  <a:lnTo>
                    <a:pt x="1304" y="602"/>
                  </a:lnTo>
                  <a:lnTo>
                    <a:pt x="1340" y="568"/>
                  </a:lnTo>
                  <a:lnTo>
                    <a:pt x="1372" y="532"/>
                  </a:lnTo>
                  <a:lnTo>
                    <a:pt x="1404" y="494"/>
                  </a:lnTo>
                  <a:lnTo>
                    <a:pt x="1418" y="472"/>
                  </a:lnTo>
                  <a:lnTo>
                    <a:pt x="1432" y="450"/>
                  </a:lnTo>
                  <a:lnTo>
                    <a:pt x="1444" y="428"/>
                  </a:lnTo>
                  <a:lnTo>
                    <a:pt x="1456" y="402"/>
                  </a:lnTo>
                  <a:lnTo>
                    <a:pt x="1466" y="376"/>
                  </a:lnTo>
                  <a:lnTo>
                    <a:pt x="1476" y="348"/>
                  </a:lnTo>
                  <a:lnTo>
                    <a:pt x="1484" y="318"/>
                  </a:lnTo>
                  <a:lnTo>
                    <a:pt x="1492" y="286"/>
                  </a:lnTo>
                  <a:lnTo>
                    <a:pt x="1496" y="250"/>
                  </a:lnTo>
                  <a:lnTo>
                    <a:pt x="1502" y="214"/>
                  </a:lnTo>
                  <a:lnTo>
                    <a:pt x="1504" y="176"/>
                  </a:lnTo>
                  <a:lnTo>
                    <a:pt x="1504" y="134"/>
                  </a:lnTo>
                  <a:lnTo>
                    <a:pt x="1504" y="134"/>
                  </a:lnTo>
                  <a:lnTo>
                    <a:pt x="1526" y="136"/>
                  </a:lnTo>
                  <a:lnTo>
                    <a:pt x="1544" y="140"/>
                  </a:lnTo>
                  <a:lnTo>
                    <a:pt x="1562" y="146"/>
                  </a:lnTo>
                  <a:lnTo>
                    <a:pt x="1578" y="154"/>
                  </a:lnTo>
                  <a:lnTo>
                    <a:pt x="1594" y="162"/>
                  </a:lnTo>
                  <a:lnTo>
                    <a:pt x="1608" y="170"/>
                  </a:lnTo>
                  <a:lnTo>
                    <a:pt x="1634" y="188"/>
                  </a:lnTo>
                  <a:lnTo>
                    <a:pt x="1682" y="230"/>
                  </a:lnTo>
                  <a:lnTo>
                    <a:pt x="1708" y="250"/>
                  </a:lnTo>
                  <a:lnTo>
                    <a:pt x="1722" y="258"/>
                  </a:lnTo>
                  <a:lnTo>
                    <a:pt x="1736" y="266"/>
                  </a:lnTo>
                  <a:lnTo>
                    <a:pt x="1736" y="266"/>
                  </a:lnTo>
                  <a:lnTo>
                    <a:pt x="1724" y="300"/>
                  </a:lnTo>
                  <a:lnTo>
                    <a:pt x="1708" y="334"/>
                  </a:lnTo>
                  <a:lnTo>
                    <a:pt x="1690" y="366"/>
                  </a:lnTo>
                  <a:lnTo>
                    <a:pt x="1670" y="396"/>
                  </a:lnTo>
                  <a:lnTo>
                    <a:pt x="1632" y="460"/>
                  </a:lnTo>
                  <a:lnTo>
                    <a:pt x="1614" y="492"/>
                  </a:lnTo>
                  <a:lnTo>
                    <a:pt x="1598" y="524"/>
                  </a:lnTo>
                  <a:lnTo>
                    <a:pt x="1598" y="5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42"/>
            <p:cNvSpPr/>
            <p:nvPr/>
          </p:nvSpPr>
          <p:spPr>
            <a:xfrm>
              <a:off x="26452800" y="6299280"/>
              <a:ext cx="1930320" cy="2419200"/>
            </a:xfrm>
            <a:custGeom>
              <a:avLst/>
              <a:gdLst>
                <a:gd name="textAreaLeft" fmla="*/ 0 w 1930320"/>
                <a:gd name="textAreaRight" fmla="*/ 1930680 w 1930320"/>
                <a:gd name="textAreaTop" fmla="*/ 0 h 2419200"/>
                <a:gd name="textAreaBottom" fmla="*/ 2419560 h 2419200"/>
              </a:gdLst>
              <a:ahLst/>
              <a:rect l="textAreaLeft" t="textAreaTop" r="textAreaRight" b="textAreaBottom"/>
              <a:pathLst>
                <a:path w="1216" h="1524">
                  <a:moveTo>
                    <a:pt x="1206" y="1446"/>
                  </a:moveTo>
                  <a:lnTo>
                    <a:pt x="1206" y="1446"/>
                  </a:lnTo>
                  <a:lnTo>
                    <a:pt x="1212" y="1438"/>
                  </a:lnTo>
                  <a:lnTo>
                    <a:pt x="1216" y="1428"/>
                  </a:lnTo>
                  <a:lnTo>
                    <a:pt x="1216" y="1428"/>
                  </a:lnTo>
                  <a:lnTo>
                    <a:pt x="1166" y="1388"/>
                  </a:lnTo>
                  <a:lnTo>
                    <a:pt x="1142" y="1368"/>
                  </a:lnTo>
                  <a:lnTo>
                    <a:pt x="1118" y="1348"/>
                  </a:lnTo>
                  <a:lnTo>
                    <a:pt x="1096" y="1326"/>
                  </a:lnTo>
                  <a:lnTo>
                    <a:pt x="1078" y="1302"/>
                  </a:lnTo>
                  <a:lnTo>
                    <a:pt x="1068" y="1288"/>
                  </a:lnTo>
                  <a:lnTo>
                    <a:pt x="1062" y="1274"/>
                  </a:lnTo>
                  <a:lnTo>
                    <a:pt x="1054" y="1258"/>
                  </a:lnTo>
                  <a:lnTo>
                    <a:pt x="1048" y="1242"/>
                  </a:lnTo>
                  <a:lnTo>
                    <a:pt x="1048" y="1242"/>
                  </a:lnTo>
                  <a:lnTo>
                    <a:pt x="1042" y="1214"/>
                  </a:lnTo>
                  <a:lnTo>
                    <a:pt x="1040" y="1186"/>
                  </a:lnTo>
                  <a:lnTo>
                    <a:pt x="1042" y="1160"/>
                  </a:lnTo>
                  <a:lnTo>
                    <a:pt x="1046" y="1134"/>
                  </a:lnTo>
                  <a:lnTo>
                    <a:pt x="1054" y="1108"/>
                  </a:lnTo>
                  <a:lnTo>
                    <a:pt x="1062" y="1082"/>
                  </a:lnTo>
                  <a:lnTo>
                    <a:pt x="1084" y="1028"/>
                  </a:lnTo>
                  <a:lnTo>
                    <a:pt x="1106" y="974"/>
                  </a:lnTo>
                  <a:lnTo>
                    <a:pt x="1116" y="946"/>
                  </a:lnTo>
                  <a:lnTo>
                    <a:pt x="1124" y="918"/>
                  </a:lnTo>
                  <a:lnTo>
                    <a:pt x="1128" y="888"/>
                  </a:lnTo>
                  <a:lnTo>
                    <a:pt x="1130" y="856"/>
                  </a:lnTo>
                  <a:lnTo>
                    <a:pt x="1128" y="824"/>
                  </a:lnTo>
                  <a:lnTo>
                    <a:pt x="1122" y="790"/>
                  </a:lnTo>
                  <a:lnTo>
                    <a:pt x="1122" y="790"/>
                  </a:lnTo>
                  <a:lnTo>
                    <a:pt x="1114" y="756"/>
                  </a:lnTo>
                  <a:lnTo>
                    <a:pt x="1104" y="726"/>
                  </a:lnTo>
                  <a:lnTo>
                    <a:pt x="1092" y="696"/>
                  </a:lnTo>
                  <a:lnTo>
                    <a:pt x="1080" y="666"/>
                  </a:lnTo>
                  <a:lnTo>
                    <a:pt x="1068" y="638"/>
                  </a:lnTo>
                  <a:lnTo>
                    <a:pt x="1054" y="610"/>
                  </a:lnTo>
                  <a:lnTo>
                    <a:pt x="1022" y="558"/>
                  </a:lnTo>
                  <a:lnTo>
                    <a:pt x="990" y="506"/>
                  </a:lnTo>
                  <a:lnTo>
                    <a:pt x="954" y="458"/>
                  </a:lnTo>
                  <a:lnTo>
                    <a:pt x="882" y="364"/>
                  </a:lnTo>
                  <a:lnTo>
                    <a:pt x="882" y="364"/>
                  </a:lnTo>
                  <a:lnTo>
                    <a:pt x="760" y="258"/>
                  </a:lnTo>
                  <a:lnTo>
                    <a:pt x="760" y="258"/>
                  </a:lnTo>
                  <a:lnTo>
                    <a:pt x="714" y="200"/>
                  </a:lnTo>
                  <a:lnTo>
                    <a:pt x="688" y="170"/>
                  </a:lnTo>
                  <a:lnTo>
                    <a:pt x="660" y="140"/>
                  </a:lnTo>
                  <a:lnTo>
                    <a:pt x="632" y="110"/>
                  </a:lnTo>
                  <a:lnTo>
                    <a:pt x="600" y="84"/>
                  </a:lnTo>
                  <a:lnTo>
                    <a:pt x="570" y="62"/>
                  </a:lnTo>
                  <a:lnTo>
                    <a:pt x="538" y="44"/>
                  </a:lnTo>
                  <a:lnTo>
                    <a:pt x="538" y="44"/>
                  </a:lnTo>
                  <a:lnTo>
                    <a:pt x="520" y="36"/>
                  </a:lnTo>
                  <a:lnTo>
                    <a:pt x="502" y="30"/>
                  </a:lnTo>
                  <a:lnTo>
                    <a:pt x="464" y="18"/>
                  </a:lnTo>
                  <a:lnTo>
                    <a:pt x="422" y="10"/>
                  </a:lnTo>
                  <a:lnTo>
                    <a:pt x="378" y="4"/>
                  </a:lnTo>
                  <a:lnTo>
                    <a:pt x="332" y="2"/>
                  </a:lnTo>
                  <a:lnTo>
                    <a:pt x="286" y="0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74" y="6"/>
                  </a:lnTo>
                  <a:lnTo>
                    <a:pt x="162" y="12"/>
                  </a:lnTo>
                  <a:lnTo>
                    <a:pt x="136" y="18"/>
                  </a:lnTo>
                  <a:lnTo>
                    <a:pt x="110" y="26"/>
                  </a:lnTo>
                  <a:lnTo>
                    <a:pt x="96" y="30"/>
                  </a:lnTo>
                  <a:lnTo>
                    <a:pt x="84" y="36"/>
                  </a:lnTo>
                  <a:lnTo>
                    <a:pt x="84" y="36"/>
                  </a:lnTo>
                  <a:lnTo>
                    <a:pt x="68" y="46"/>
                  </a:lnTo>
                  <a:lnTo>
                    <a:pt x="52" y="62"/>
                  </a:lnTo>
                  <a:lnTo>
                    <a:pt x="36" y="76"/>
                  </a:lnTo>
                  <a:lnTo>
                    <a:pt x="20" y="88"/>
                  </a:lnTo>
                  <a:lnTo>
                    <a:pt x="20" y="88"/>
                  </a:lnTo>
                  <a:lnTo>
                    <a:pt x="12" y="122"/>
                  </a:lnTo>
                  <a:lnTo>
                    <a:pt x="8" y="138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2" y="180"/>
                  </a:lnTo>
                  <a:lnTo>
                    <a:pt x="6" y="206"/>
                  </a:lnTo>
                  <a:lnTo>
                    <a:pt x="12" y="226"/>
                  </a:lnTo>
                  <a:lnTo>
                    <a:pt x="22" y="244"/>
                  </a:lnTo>
                  <a:lnTo>
                    <a:pt x="32" y="256"/>
                  </a:lnTo>
                  <a:lnTo>
                    <a:pt x="46" y="268"/>
                  </a:lnTo>
                  <a:lnTo>
                    <a:pt x="62" y="276"/>
                  </a:lnTo>
                  <a:lnTo>
                    <a:pt x="80" y="284"/>
                  </a:lnTo>
                  <a:lnTo>
                    <a:pt x="98" y="288"/>
                  </a:lnTo>
                  <a:lnTo>
                    <a:pt x="118" y="292"/>
                  </a:lnTo>
                  <a:lnTo>
                    <a:pt x="164" y="300"/>
                  </a:lnTo>
                  <a:lnTo>
                    <a:pt x="210" y="308"/>
                  </a:lnTo>
                  <a:lnTo>
                    <a:pt x="236" y="312"/>
                  </a:lnTo>
                  <a:lnTo>
                    <a:pt x="260" y="320"/>
                  </a:lnTo>
                  <a:lnTo>
                    <a:pt x="260" y="320"/>
                  </a:lnTo>
                  <a:lnTo>
                    <a:pt x="272" y="324"/>
                  </a:lnTo>
                  <a:lnTo>
                    <a:pt x="284" y="330"/>
                  </a:lnTo>
                  <a:lnTo>
                    <a:pt x="306" y="344"/>
                  </a:lnTo>
                  <a:lnTo>
                    <a:pt x="328" y="360"/>
                  </a:lnTo>
                  <a:lnTo>
                    <a:pt x="340" y="366"/>
                  </a:lnTo>
                  <a:lnTo>
                    <a:pt x="354" y="372"/>
                  </a:lnTo>
                  <a:lnTo>
                    <a:pt x="354" y="372"/>
                  </a:lnTo>
                  <a:lnTo>
                    <a:pt x="358" y="386"/>
                  </a:lnTo>
                  <a:lnTo>
                    <a:pt x="364" y="398"/>
                  </a:lnTo>
                  <a:lnTo>
                    <a:pt x="378" y="422"/>
                  </a:lnTo>
                  <a:lnTo>
                    <a:pt x="382" y="434"/>
                  </a:lnTo>
                  <a:lnTo>
                    <a:pt x="384" y="446"/>
                  </a:lnTo>
                  <a:lnTo>
                    <a:pt x="384" y="458"/>
                  </a:lnTo>
                  <a:lnTo>
                    <a:pt x="380" y="470"/>
                  </a:lnTo>
                  <a:lnTo>
                    <a:pt x="380" y="470"/>
                  </a:lnTo>
                  <a:lnTo>
                    <a:pt x="382" y="492"/>
                  </a:lnTo>
                  <a:lnTo>
                    <a:pt x="380" y="514"/>
                  </a:lnTo>
                  <a:lnTo>
                    <a:pt x="378" y="534"/>
                  </a:lnTo>
                  <a:lnTo>
                    <a:pt x="376" y="542"/>
                  </a:lnTo>
                  <a:lnTo>
                    <a:pt x="372" y="550"/>
                  </a:lnTo>
                  <a:lnTo>
                    <a:pt x="372" y="550"/>
                  </a:lnTo>
                  <a:lnTo>
                    <a:pt x="360" y="556"/>
                  </a:lnTo>
                  <a:lnTo>
                    <a:pt x="348" y="560"/>
                  </a:lnTo>
                  <a:lnTo>
                    <a:pt x="322" y="564"/>
                  </a:lnTo>
                  <a:lnTo>
                    <a:pt x="296" y="568"/>
                  </a:lnTo>
                  <a:lnTo>
                    <a:pt x="282" y="572"/>
                  </a:lnTo>
                  <a:lnTo>
                    <a:pt x="270" y="576"/>
                  </a:lnTo>
                  <a:lnTo>
                    <a:pt x="270" y="576"/>
                  </a:lnTo>
                  <a:lnTo>
                    <a:pt x="240" y="592"/>
                  </a:lnTo>
                  <a:lnTo>
                    <a:pt x="210" y="610"/>
                  </a:lnTo>
                  <a:lnTo>
                    <a:pt x="178" y="632"/>
                  </a:lnTo>
                  <a:lnTo>
                    <a:pt x="146" y="658"/>
                  </a:lnTo>
                  <a:lnTo>
                    <a:pt x="118" y="686"/>
                  </a:lnTo>
                  <a:lnTo>
                    <a:pt x="92" y="714"/>
                  </a:lnTo>
                  <a:lnTo>
                    <a:pt x="72" y="742"/>
                  </a:lnTo>
                  <a:lnTo>
                    <a:pt x="62" y="756"/>
                  </a:lnTo>
                  <a:lnTo>
                    <a:pt x="56" y="772"/>
                  </a:lnTo>
                  <a:lnTo>
                    <a:pt x="56" y="772"/>
                  </a:lnTo>
                  <a:lnTo>
                    <a:pt x="42" y="814"/>
                  </a:lnTo>
                  <a:lnTo>
                    <a:pt x="32" y="858"/>
                  </a:lnTo>
                  <a:lnTo>
                    <a:pt x="24" y="902"/>
                  </a:lnTo>
                  <a:lnTo>
                    <a:pt x="22" y="946"/>
                  </a:lnTo>
                  <a:lnTo>
                    <a:pt x="24" y="990"/>
                  </a:lnTo>
                  <a:lnTo>
                    <a:pt x="30" y="1032"/>
                  </a:lnTo>
                  <a:lnTo>
                    <a:pt x="38" y="1074"/>
                  </a:lnTo>
                  <a:lnTo>
                    <a:pt x="50" y="1116"/>
                  </a:lnTo>
                  <a:lnTo>
                    <a:pt x="64" y="1154"/>
                  </a:lnTo>
                  <a:lnTo>
                    <a:pt x="80" y="1192"/>
                  </a:lnTo>
                  <a:lnTo>
                    <a:pt x="100" y="1228"/>
                  </a:lnTo>
                  <a:lnTo>
                    <a:pt x="124" y="1260"/>
                  </a:lnTo>
                  <a:lnTo>
                    <a:pt x="148" y="1290"/>
                  </a:lnTo>
                  <a:lnTo>
                    <a:pt x="174" y="1316"/>
                  </a:lnTo>
                  <a:lnTo>
                    <a:pt x="202" y="1338"/>
                  </a:lnTo>
                  <a:lnTo>
                    <a:pt x="232" y="1356"/>
                  </a:lnTo>
                  <a:lnTo>
                    <a:pt x="232" y="1356"/>
                  </a:lnTo>
                  <a:lnTo>
                    <a:pt x="250" y="1364"/>
                  </a:lnTo>
                  <a:lnTo>
                    <a:pt x="266" y="1370"/>
                  </a:lnTo>
                  <a:lnTo>
                    <a:pt x="282" y="1374"/>
                  </a:lnTo>
                  <a:lnTo>
                    <a:pt x="298" y="1378"/>
                  </a:lnTo>
                  <a:lnTo>
                    <a:pt x="332" y="1384"/>
                  </a:lnTo>
                  <a:lnTo>
                    <a:pt x="372" y="1392"/>
                  </a:lnTo>
                  <a:lnTo>
                    <a:pt x="372" y="1392"/>
                  </a:lnTo>
                  <a:lnTo>
                    <a:pt x="392" y="1398"/>
                  </a:lnTo>
                  <a:lnTo>
                    <a:pt x="414" y="1406"/>
                  </a:lnTo>
                  <a:lnTo>
                    <a:pt x="428" y="1410"/>
                  </a:lnTo>
                  <a:lnTo>
                    <a:pt x="442" y="1412"/>
                  </a:lnTo>
                  <a:lnTo>
                    <a:pt x="458" y="1412"/>
                  </a:lnTo>
                  <a:lnTo>
                    <a:pt x="474" y="1410"/>
                  </a:lnTo>
                  <a:lnTo>
                    <a:pt x="474" y="1410"/>
                  </a:lnTo>
                  <a:lnTo>
                    <a:pt x="514" y="1398"/>
                  </a:lnTo>
                  <a:lnTo>
                    <a:pt x="552" y="1384"/>
                  </a:lnTo>
                  <a:lnTo>
                    <a:pt x="584" y="1368"/>
                  </a:lnTo>
                  <a:lnTo>
                    <a:pt x="616" y="1350"/>
                  </a:lnTo>
                  <a:lnTo>
                    <a:pt x="644" y="1330"/>
                  </a:lnTo>
                  <a:lnTo>
                    <a:pt x="674" y="1308"/>
                  </a:lnTo>
                  <a:lnTo>
                    <a:pt x="702" y="1288"/>
                  </a:lnTo>
                  <a:lnTo>
                    <a:pt x="734" y="1268"/>
                  </a:lnTo>
                  <a:lnTo>
                    <a:pt x="734" y="1268"/>
                  </a:lnTo>
                  <a:lnTo>
                    <a:pt x="782" y="1356"/>
                  </a:lnTo>
                  <a:lnTo>
                    <a:pt x="812" y="1408"/>
                  </a:lnTo>
                  <a:lnTo>
                    <a:pt x="824" y="1426"/>
                  </a:lnTo>
                  <a:lnTo>
                    <a:pt x="836" y="1436"/>
                  </a:lnTo>
                  <a:lnTo>
                    <a:pt x="836" y="1436"/>
                  </a:lnTo>
                  <a:lnTo>
                    <a:pt x="858" y="1450"/>
                  </a:lnTo>
                  <a:lnTo>
                    <a:pt x="886" y="1462"/>
                  </a:lnTo>
                  <a:lnTo>
                    <a:pt x="912" y="1472"/>
                  </a:lnTo>
                  <a:lnTo>
                    <a:pt x="942" y="1482"/>
                  </a:lnTo>
                  <a:lnTo>
                    <a:pt x="970" y="1490"/>
                  </a:lnTo>
                  <a:lnTo>
                    <a:pt x="998" y="1500"/>
                  </a:lnTo>
                  <a:lnTo>
                    <a:pt x="1024" y="1510"/>
                  </a:lnTo>
                  <a:lnTo>
                    <a:pt x="1048" y="1524"/>
                  </a:lnTo>
                  <a:lnTo>
                    <a:pt x="1048" y="1524"/>
                  </a:lnTo>
                  <a:lnTo>
                    <a:pt x="1072" y="1524"/>
                  </a:lnTo>
                  <a:lnTo>
                    <a:pt x="1096" y="1518"/>
                  </a:lnTo>
                  <a:lnTo>
                    <a:pt x="1122" y="1510"/>
                  </a:lnTo>
                  <a:lnTo>
                    <a:pt x="1144" y="1500"/>
                  </a:lnTo>
                  <a:lnTo>
                    <a:pt x="1164" y="1488"/>
                  </a:lnTo>
                  <a:lnTo>
                    <a:pt x="1182" y="1476"/>
                  </a:lnTo>
                  <a:lnTo>
                    <a:pt x="1196" y="1460"/>
                  </a:lnTo>
                  <a:lnTo>
                    <a:pt x="1202" y="1454"/>
                  </a:lnTo>
                  <a:lnTo>
                    <a:pt x="1206" y="1446"/>
                  </a:lnTo>
                  <a:lnTo>
                    <a:pt x="1206" y="1446"/>
                  </a:lnTo>
                  <a:close/>
                  <a:moveTo>
                    <a:pt x="1012" y="1400"/>
                  </a:moveTo>
                  <a:lnTo>
                    <a:pt x="1012" y="1400"/>
                  </a:lnTo>
                  <a:lnTo>
                    <a:pt x="980" y="1396"/>
                  </a:lnTo>
                  <a:lnTo>
                    <a:pt x="954" y="1386"/>
                  </a:lnTo>
                  <a:lnTo>
                    <a:pt x="932" y="1374"/>
                  </a:lnTo>
                  <a:lnTo>
                    <a:pt x="912" y="1360"/>
                  </a:lnTo>
                  <a:lnTo>
                    <a:pt x="896" y="1344"/>
                  </a:lnTo>
                  <a:lnTo>
                    <a:pt x="884" y="1326"/>
                  </a:lnTo>
                  <a:lnTo>
                    <a:pt x="872" y="1306"/>
                  </a:lnTo>
                  <a:lnTo>
                    <a:pt x="862" y="1284"/>
                  </a:lnTo>
                  <a:lnTo>
                    <a:pt x="846" y="1238"/>
                  </a:lnTo>
                  <a:lnTo>
                    <a:pt x="830" y="1190"/>
                  </a:lnTo>
                  <a:lnTo>
                    <a:pt x="822" y="1166"/>
                  </a:lnTo>
                  <a:lnTo>
                    <a:pt x="812" y="1144"/>
                  </a:lnTo>
                  <a:lnTo>
                    <a:pt x="802" y="1120"/>
                  </a:lnTo>
                  <a:lnTo>
                    <a:pt x="788" y="1100"/>
                  </a:lnTo>
                  <a:lnTo>
                    <a:pt x="788" y="1100"/>
                  </a:lnTo>
                  <a:lnTo>
                    <a:pt x="782" y="1088"/>
                  </a:lnTo>
                  <a:lnTo>
                    <a:pt x="776" y="1080"/>
                  </a:lnTo>
                  <a:lnTo>
                    <a:pt x="768" y="1074"/>
                  </a:lnTo>
                  <a:lnTo>
                    <a:pt x="760" y="1064"/>
                  </a:lnTo>
                  <a:lnTo>
                    <a:pt x="760" y="1064"/>
                  </a:lnTo>
                  <a:lnTo>
                    <a:pt x="744" y="1066"/>
                  </a:lnTo>
                  <a:lnTo>
                    <a:pt x="730" y="1070"/>
                  </a:lnTo>
                  <a:lnTo>
                    <a:pt x="718" y="1074"/>
                  </a:lnTo>
                  <a:lnTo>
                    <a:pt x="708" y="1078"/>
                  </a:lnTo>
                  <a:lnTo>
                    <a:pt x="700" y="1084"/>
                  </a:lnTo>
                  <a:lnTo>
                    <a:pt x="694" y="1092"/>
                  </a:lnTo>
                  <a:lnTo>
                    <a:pt x="688" y="1100"/>
                  </a:lnTo>
                  <a:lnTo>
                    <a:pt x="684" y="1108"/>
                  </a:lnTo>
                  <a:lnTo>
                    <a:pt x="678" y="1126"/>
                  </a:lnTo>
                  <a:lnTo>
                    <a:pt x="670" y="1146"/>
                  </a:lnTo>
                  <a:lnTo>
                    <a:pt x="662" y="1166"/>
                  </a:lnTo>
                  <a:lnTo>
                    <a:pt x="656" y="1178"/>
                  </a:lnTo>
                  <a:lnTo>
                    <a:pt x="650" y="1188"/>
                  </a:lnTo>
                  <a:lnTo>
                    <a:pt x="650" y="1188"/>
                  </a:lnTo>
                  <a:lnTo>
                    <a:pt x="636" y="1204"/>
                  </a:lnTo>
                  <a:lnTo>
                    <a:pt x="622" y="1220"/>
                  </a:lnTo>
                  <a:lnTo>
                    <a:pt x="604" y="1234"/>
                  </a:lnTo>
                  <a:lnTo>
                    <a:pt x="584" y="1248"/>
                  </a:lnTo>
                  <a:lnTo>
                    <a:pt x="564" y="1260"/>
                  </a:lnTo>
                  <a:lnTo>
                    <a:pt x="542" y="1272"/>
                  </a:lnTo>
                  <a:lnTo>
                    <a:pt x="518" y="1280"/>
                  </a:lnTo>
                  <a:lnTo>
                    <a:pt x="492" y="1288"/>
                  </a:lnTo>
                  <a:lnTo>
                    <a:pt x="468" y="1294"/>
                  </a:lnTo>
                  <a:lnTo>
                    <a:pt x="442" y="1298"/>
                  </a:lnTo>
                  <a:lnTo>
                    <a:pt x="416" y="1300"/>
                  </a:lnTo>
                  <a:lnTo>
                    <a:pt x="388" y="1300"/>
                  </a:lnTo>
                  <a:lnTo>
                    <a:pt x="362" y="1296"/>
                  </a:lnTo>
                  <a:lnTo>
                    <a:pt x="338" y="1290"/>
                  </a:lnTo>
                  <a:lnTo>
                    <a:pt x="312" y="1280"/>
                  </a:lnTo>
                  <a:lnTo>
                    <a:pt x="288" y="1268"/>
                  </a:lnTo>
                  <a:lnTo>
                    <a:pt x="288" y="1268"/>
                  </a:lnTo>
                  <a:lnTo>
                    <a:pt x="264" y="1250"/>
                  </a:lnTo>
                  <a:lnTo>
                    <a:pt x="240" y="1228"/>
                  </a:lnTo>
                  <a:lnTo>
                    <a:pt x="220" y="1204"/>
                  </a:lnTo>
                  <a:lnTo>
                    <a:pt x="200" y="1176"/>
                  </a:lnTo>
                  <a:lnTo>
                    <a:pt x="184" y="1146"/>
                  </a:lnTo>
                  <a:lnTo>
                    <a:pt x="170" y="1114"/>
                  </a:lnTo>
                  <a:lnTo>
                    <a:pt x="158" y="1080"/>
                  </a:lnTo>
                  <a:lnTo>
                    <a:pt x="148" y="1046"/>
                  </a:lnTo>
                  <a:lnTo>
                    <a:pt x="142" y="1010"/>
                  </a:lnTo>
                  <a:lnTo>
                    <a:pt x="140" y="974"/>
                  </a:lnTo>
                  <a:lnTo>
                    <a:pt x="140" y="936"/>
                  </a:lnTo>
                  <a:lnTo>
                    <a:pt x="144" y="902"/>
                  </a:lnTo>
                  <a:lnTo>
                    <a:pt x="150" y="866"/>
                  </a:lnTo>
                  <a:lnTo>
                    <a:pt x="162" y="832"/>
                  </a:lnTo>
                  <a:lnTo>
                    <a:pt x="176" y="800"/>
                  </a:lnTo>
                  <a:lnTo>
                    <a:pt x="186" y="786"/>
                  </a:lnTo>
                  <a:lnTo>
                    <a:pt x="196" y="772"/>
                  </a:lnTo>
                  <a:lnTo>
                    <a:pt x="196" y="772"/>
                  </a:lnTo>
                  <a:lnTo>
                    <a:pt x="208" y="756"/>
                  </a:lnTo>
                  <a:lnTo>
                    <a:pt x="224" y="740"/>
                  </a:lnTo>
                  <a:lnTo>
                    <a:pt x="238" y="728"/>
                  </a:lnTo>
                  <a:lnTo>
                    <a:pt x="256" y="714"/>
                  </a:lnTo>
                  <a:lnTo>
                    <a:pt x="272" y="704"/>
                  </a:lnTo>
                  <a:lnTo>
                    <a:pt x="292" y="694"/>
                  </a:lnTo>
                  <a:lnTo>
                    <a:pt x="332" y="676"/>
                  </a:lnTo>
                  <a:lnTo>
                    <a:pt x="374" y="660"/>
                  </a:lnTo>
                  <a:lnTo>
                    <a:pt x="418" y="646"/>
                  </a:lnTo>
                  <a:lnTo>
                    <a:pt x="510" y="620"/>
                  </a:lnTo>
                  <a:lnTo>
                    <a:pt x="510" y="620"/>
                  </a:lnTo>
                  <a:lnTo>
                    <a:pt x="504" y="574"/>
                  </a:lnTo>
                  <a:lnTo>
                    <a:pt x="498" y="530"/>
                  </a:lnTo>
                  <a:lnTo>
                    <a:pt x="490" y="488"/>
                  </a:lnTo>
                  <a:lnTo>
                    <a:pt x="480" y="450"/>
                  </a:lnTo>
                  <a:lnTo>
                    <a:pt x="468" y="414"/>
                  </a:lnTo>
                  <a:lnTo>
                    <a:pt x="454" y="382"/>
                  </a:lnTo>
                  <a:lnTo>
                    <a:pt x="438" y="350"/>
                  </a:lnTo>
                  <a:lnTo>
                    <a:pt x="418" y="324"/>
                  </a:lnTo>
                  <a:lnTo>
                    <a:pt x="394" y="300"/>
                  </a:lnTo>
                  <a:lnTo>
                    <a:pt x="368" y="278"/>
                  </a:lnTo>
                  <a:lnTo>
                    <a:pt x="336" y="260"/>
                  </a:lnTo>
                  <a:lnTo>
                    <a:pt x="302" y="244"/>
                  </a:lnTo>
                  <a:lnTo>
                    <a:pt x="262" y="232"/>
                  </a:lnTo>
                  <a:lnTo>
                    <a:pt x="218" y="222"/>
                  </a:lnTo>
                  <a:lnTo>
                    <a:pt x="168" y="216"/>
                  </a:lnTo>
                  <a:lnTo>
                    <a:pt x="112" y="212"/>
                  </a:lnTo>
                  <a:lnTo>
                    <a:pt x="112" y="212"/>
                  </a:lnTo>
                  <a:lnTo>
                    <a:pt x="112" y="168"/>
                  </a:lnTo>
                  <a:lnTo>
                    <a:pt x="112" y="168"/>
                  </a:lnTo>
                  <a:lnTo>
                    <a:pt x="154" y="146"/>
                  </a:lnTo>
                  <a:lnTo>
                    <a:pt x="198" y="126"/>
                  </a:lnTo>
                  <a:lnTo>
                    <a:pt x="220" y="118"/>
                  </a:lnTo>
                  <a:lnTo>
                    <a:pt x="242" y="112"/>
                  </a:lnTo>
                  <a:lnTo>
                    <a:pt x="264" y="106"/>
                  </a:lnTo>
                  <a:lnTo>
                    <a:pt x="288" y="102"/>
                  </a:lnTo>
                  <a:lnTo>
                    <a:pt x="310" y="98"/>
                  </a:lnTo>
                  <a:lnTo>
                    <a:pt x="334" y="98"/>
                  </a:lnTo>
                  <a:lnTo>
                    <a:pt x="360" y="98"/>
                  </a:lnTo>
                  <a:lnTo>
                    <a:pt x="384" y="100"/>
                  </a:lnTo>
                  <a:lnTo>
                    <a:pt x="410" y="106"/>
                  </a:lnTo>
                  <a:lnTo>
                    <a:pt x="436" y="112"/>
                  </a:lnTo>
                  <a:lnTo>
                    <a:pt x="464" y="122"/>
                  </a:lnTo>
                  <a:lnTo>
                    <a:pt x="492" y="132"/>
                  </a:lnTo>
                  <a:lnTo>
                    <a:pt x="492" y="132"/>
                  </a:lnTo>
                  <a:lnTo>
                    <a:pt x="506" y="140"/>
                  </a:lnTo>
                  <a:lnTo>
                    <a:pt x="522" y="148"/>
                  </a:lnTo>
                  <a:lnTo>
                    <a:pt x="550" y="168"/>
                  </a:lnTo>
                  <a:lnTo>
                    <a:pt x="576" y="192"/>
                  </a:lnTo>
                  <a:lnTo>
                    <a:pt x="600" y="218"/>
                  </a:lnTo>
                  <a:lnTo>
                    <a:pt x="624" y="246"/>
                  </a:lnTo>
                  <a:lnTo>
                    <a:pt x="646" y="274"/>
                  </a:lnTo>
                  <a:lnTo>
                    <a:pt x="686" y="328"/>
                  </a:lnTo>
                  <a:lnTo>
                    <a:pt x="686" y="328"/>
                  </a:lnTo>
                  <a:lnTo>
                    <a:pt x="780" y="408"/>
                  </a:lnTo>
                  <a:lnTo>
                    <a:pt x="780" y="408"/>
                  </a:lnTo>
                  <a:lnTo>
                    <a:pt x="846" y="492"/>
                  </a:lnTo>
                  <a:lnTo>
                    <a:pt x="878" y="538"/>
                  </a:lnTo>
                  <a:lnTo>
                    <a:pt x="908" y="584"/>
                  </a:lnTo>
                  <a:lnTo>
                    <a:pt x="938" y="632"/>
                  </a:lnTo>
                  <a:lnTo>
                    <a:pt x="962" y="682"/>
                  </a:lnTo>
                  <a:lnTo>
                    <a:pt x="974" y="708"/>
                  </a:lnTo>
                  <a:lnTo>
                    <a:pt x="984" y="734"/>
                  </a:lnTo>
                  <a:lnTo>
                    <a:pt x="994" y="762"/>
                  </a:lnTo>
                  <a:lnTo>
                    <a:pt x="1002" y="790"/>
                  </a:lnTo>
                  <a:lnTo>
                    <a:pt x="1002" y="790"/>
                  </a:lnTo>
                  <a:lnTo>
                    <a:pt x="1006" y="808"/>
                  </a:lnTo>
                  <a:lnTo>
                    <a:pt x="1008" y="826"/>
                  </a:lnTo>
                  <a:lnTo>
                    <a:pt x="1008" y="846"/>
                  </a:lnTo>
                  <a:lnTo>
                    <a:pt x="1008" y="866"/>
                  </a:lnTo>
                  <a:lnTo>
                    <a:pt x="1004" y="906"/>
                  </a:lnTo>
                  <a:lnTo>
                    <a:pt x="994" y="946"/>
                  </a:lnTo>
                  <a:lnTo>
                    <a:pt x="984" y="986"/>
                  </a:lnTo>
                  <a:lnTo>
                    <a:pt x="970" y="1028"/>
                  </a:lnTo>
                  <a:lnTo>
                    <a:pt x="946" y="1108"/>
                  </a:lnTo>
                  <a:lnTo>
                    <a:pt x="934" y="1148"/>
                  </a:lnTo>
                  <a:lnTo>
                    <a:pt x="928" y="1188"/>
                  </a:lnTo>
                  <a:lnTo>
                    <a:pt x="926" y="1206"/>
                  </a:lnTo>
                  <a:lnTo>
                    <a:pt x="924" y="1226"/>
                  </a:lnTo>
                  <a:lnTo>
                    <a:pt x="924" y="1244"/>
                  </a:lnTo>
                  <a:lnTo>
                    <a:pt x="926" y="1262"/>
                  </a:lnTo>
                  <a:lnTo>
                    <a:pt x="930" y="1280"/>
                  </a:lnTo>
                  <a:lnTo>
                    <a:pt x="936" y="1298"/>
                  </a:lnTo>
                  <a:lnTo>
                    <a:pt x="942" y="1314"/>
                  </a:lnTo>
                  <a:lnTo>
                    <a:pt x="952" y="1332"/>
                  </a:lnTo>
                  <a:lnTo>
                    <a:pt x="962" y="1348"/>
                  </a:lnTo>
                  <a:lnTo>
                    <a:pt x="976" y="1362"/>
                  </a:lnTo>
                  <a:lnTo>
                    <a:pt x="992" y="1378"/>
                  </a:lnTo>
                  <a:lnTo>
                    <a:pt x="1012" y="1392"/>
                  </a:lnTo>
                  <a:lnTo>
                    <a:pt x="1012" y="1392"/>
                  </a:lnTo>
                  <a:lnTo>
                    <a:pt x="1012" y="1400"/>
                  </a:lnTo>
                  <a:lnTo>
                    <a:pt x="1012" y="14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43"/>
            <p:cNvSpPr/>
            <p:nvPr/>
          </p:nvSpPr>
          <p:spPr>
            <a:xfrm>
              <a:off x="28233720" y="6426360"/>
              <a:ext cx="2501640" cy="2654280"/>
            </a:xfrm>
            <a:custGeom>
              <a:avLst/>
              <a:gdLst>
                <a:gd name="textAreaLeft" fmla="*/ 0 w 2501640"/>
                <a:gd name="textAreaRight" fmla="*/ 2502000 w 2501640"/>
                <a:gd name="textAreaTop" fmla="*/ 0 h 2654280"/>
                <a:gd name="textAreaBottom" fmla="*/ 2654640 h 2654280"/>
              </a:gdLst>
              <a:ahLst/>
              <a:rect l="textAreaLeft" t="textAreaTop" r="textAreaRight" b="textAreaBottom"/>
              <a:pathLst>
                <a:path w="1576" h="1672">
                  <a:moveTo>
                    <a:pt x="900" y="744"/>
                  </a:moveTo>
                  <a:lnTo>
                    <a:pt x="900" y="744"/>
                  </a:lnTo>
                  <a:lnTo>
                    <a:pt x="876" y="740"/>
                  </a:lnTo>
                  <a:lnTo>
                    <a:pt x="852" y="734"/>
                  </a:lnTo>
                  <a:lnTo>
                    <a:pt x="842" y="730"/>
                  </a:lnTo>
                  <a:lnTo>
                    <a:pt x="832" y="724"/>
                  </a:lnTo>
                  <a:lnTo>
                    <a:pt x="822" y="714"/>
                  </a:lnTo>
                  <a:lnTo>
                    <a:pt x="816" y="700"/>
                  </a:lnTo>
                  <a:lnTo>
                    <a:pt x="816" y="700"/>
                  </a:lnTo>
                  <a:lnTo>
                    <a:pt x="810" y="688"/>
                  </a:lnTo>
                  <a:lnTo>
                    <a:pt x="806" y="676"/>
                  </a:lnTo>
                  <a:lnTo>
                    <a:pt x="800" y="650"/>
                  </a:lnTo>
                  <a:lnTo>
                    <a:pt x="796" y="622"/>
                  </a:lnTo>
                  <a:lnTo>
                    <a:pt x="792" y="608"/>
                  </a:lnTo>
                  <a:lnTo>
                    <a:pt x="788" y="594"/>
                  </a:lnTo>
                  <a:lnTo>
                    <a:pt x="788" y="594"/>
                  </a:lnTo>
                  <a:lnTo>
                    <a:pt x="772" y="554"/>
                  </a:lnTo>
                  <a:lnTo>
                    <a:pt x="752" y="514"/>
                  </a:lnTo>
                  <a:lnTo>
                    <a:pt x="732" y="474"/>
                  </a:lnTo>
                  <a:lnTo>
                    <a:pt x="714" y="434"/>
                  </a:lnTo>
                  <a:lnTo>
                    <a:pt x="714" y="434"/>
                  </a:lnTo>
                  <a:lnTo>
                    <a:pt x="706" y="410"/>
                  </a:lnTo>
                  <a:lnTo>
                    <a:pt x="700" y="384"/>
                  </a:lnTo>
                  <a:lnTo>
                    <a:pt x="690" y="334"/>
                  </a:lnTo>
                  <a:lnTo>
                    <a:pt x="680" y="284"/>
                  </a:lnTo>
                  <a:lnTo>
                    <a:pt x="674" y="260"/>
                  </a:lnTo>
                  <a:lnTo>
                    <a:pt x="668" y="240"/>
                  </a:lnTo>
                  <a:lnTo>
                    <a:pt x="668" y="240"/>
                  </a:lnTo>
                  <a:lnTo>
                    <a:pt x="662" y="218"/>
                  </a:lnTo>
                  <a:lnTo>
                    <a:pt x="656" y="198"/>
                  </a:lnTo>
                  <a:lnTo>
                    <a:pt x="652" y="178"/>
                  </a:lnTo>
                  <a:lnTo>
                    <a:pt x="646" y="158"/>
                  </a:lnTo>
                  <a:lnTo>
                    <a:pt x="638" y="140"/>
                  </a:lnTo>
                  <a:lnTo>
                    <a:pt x="634" y="132"/>
                  </a:lnTo>
                  <a:lnTo>
                    <a:pt x="628" y="126"/>
                  </a:lnTo>
                  <a:lnTo>
                    <a:pt x="622" y="118"/>
                  </a:lnTo>
                  <a:lnTo>
                    <a:pt x="614" y="114"/>
                  </a:lnTo>
                  <a:lnTo>
                    <a:pt x="604" y="110"/>
                  </a:lnTo>
                  <a:lnTo>
                    <a:pt x="594" y="106"/>
                  </a:lnTo>
                  <a:lnTo>
                    <a:pt x="594" y="106"/>
                  </a:lnTo>
                  <a:lnTo>
                    <a:pt x="568" y="122"/>
                  </a:lnTo>
                  <a:lnTo>
                    <a:pt x="542" y="134"/>
                  </a:lnTo>
                  <a:lnTo>
                    <a:pt x="512" y="144"/>
                  </a:lnTo>
                  <a:lnTo>
                    <a:pt x="480" y="152"/>
                  </a:lnTo>
                  <a:lnTo>
                    <a:pt x="414" y="168"/>
                  </a:lnTo>
                  <a:lnTo>
                    <a:pt x="382" y="176"/>
                  </a:lnTo>
                  <a:lnTo>
                    <a:pt x="352" y="186"/>
                  </a:lnTo>
                  <a:lnTo>
                    <a:pt x="352" y="186"/>
                  </a:lnTo>
                  <a:lnTo>
                    <a:pt x="370" y="234"/>
                  </a:lnTo>
                  <a:lnTo>
                    <a:pt x="392" y="284"/>
                  </a:lnTo>
                  <a:lnTo>
                    <a:pt x="416" y="332"/>
                  </a:lnTo>
                  <a:lnTo>
                    <a:pt x="442" y="378"/>
                  </a:lnTo>
                  <a:lnTo>
                    <a:pt x="492" y="472"/>
                  </a:lnTo>
                  <a:lnTo>
                    <a:pt x="516" y="520"/>
                  </a:lnTo>
                  <a:lnTo>
                    <a:pt x="538" y="568"/>
                  </a:lnTo>
                  <a:lnTo>
                    <a:pt x="538" y="568"/>
                  </a:lnTo>
                  <a:lnTo>
                    <a:pt x="584" y="726"/>
                  </a:lnTo>
                  <a:lnTo>
                    <a:pt x="584" y="726"/>
                  </a:lnTo>
                  <a:lnTo>
                    <a:pt x="584" y="788"/>
                  </a:lnTo>
                  <a:lnTo>
                    <a:pt x="584" y="788"/>
                  </a:lnTo>
                  <a:lnTo>
                    <a:pt x="590" y="800"/>
                  </a:lnTo>
                  <a:lnTo>
                    <a:pt x="596" y="810"/>
                  </a:lnTo>
                  <a:lnTo>
                    <a:pt x="612" y="834"/>
                  </a:lnTo>
                  <a:lnTo>
                    <a:pt x="628" y="858"/>
                  </a:lnTo>
                  <a:lnTo>
                    <a:pt x="636" y="872"/>
                  </a:lnTo>
                  <a:lnTo>
                    <a:pt x="640" y="886"/>
                  </a:lnTo>
                  <a:lnTo>
                    <a:pt x="640" y="886"/>
                  </a:lnTo>
                  <a:lnTo>
                    <a:pt x="644" y="908"/>
                  </a:lnTo>
                  <a:lnTo>
                    <a:pt x="644" y="932"/>
                  </a:lnTo>
                  <a:lnTo>
                    <a:pt x="642" y="956"/>
                  </a:lnTo>
                  <a:lnTo>
                    <a:pt x="638" y="982"/>
                  </a:lnTo>
                  <a:lnTo>
                    <a:pt x="630" y="1010"/>
                  </a:lnTo>
                  <a:lnTo>
                    <a:pt x="622" y="1038"/>
                  </a:lnTo>
                  <a:lnTo>
                    <a:pt x="612" y="1064"/>
                  </a:lnTo>
                  <a:lnTo>
                    <a:pt x="602" y="1092"/>
                  </a:lnTo>
                  <a:lnTo>
                    <a:pt x="578" y="1146"/>
                  </a:lnTo>
                  <a:lnTo>
                    <a:pt x="552" y="1192"/>
                  </a:lnTo>
                  <a:lnTo>
                    <a:pt x="530" y="1232"/>
                  </a:lnTo>
                  <a:lnTo>
                    <a:pt x="510" y="1258"/>
                  </a:lnTo>
                  <a:lnTo>
                    <a:pt x="510" y="1258"/>
                  </a:lnTo>
                  <a:lnTo>
                    <a:pt x="500" y="1270"/>
                  </a:lnTo>
                  <a:lnTo>
                    <a:pt x="490" y="1280"/>
                  </a:lnTo>
                  <a:lnTo>
                    <a:pt x="466" y="1300"/>
                  </a:lnTo>
                  <a:lnTo>
                    <a:pt x="440" y="1318"/>
                  </a:lnTo>
                  <a:lnTo>
                    <a:pt x="412" y="1334"/>
                  </a:lnTo>
                  <a:lnTo>
                    <a:pt x="358" y="1366"/>
                  </a:lnTo>
                  <a:lnTo>
                    <a:pt x="330" y="1382"/>
                  </a:lnTo>
                  <a:lnTo>
                    <a:pt x="306" y="1400"/>
                  </a:lnTo>
                  <a:lnTo>
                    <a:pt x="306" y="1400"/>
                  </a:lnTo>
                  <a:lnTo>
                    <a:pt x="290" y="1416"/>
                  </a:lnTo>
                  <a:lnTo>
                    <a:pt x="276" y="1432"/>
                  </a:lnTo>
                  <a:lnTo>
                    <a:pt x="248" y="1468"/>
                  </a:lnTo>
                  <a:lnTo>
                    <a:pt x="234" y="1488"/>
                  </a:lnTo>
                  <a:lnTo>
                    <a:pt x="218" y="1504"/>
                  </a:lnTo>
                  <a:lnTo>
                    <a:pt x="204" y="1520"/>
                  </a:lnTo>
                  <a:lnTo>
                    <a:pt x="186" y="1534"/>
                  </a:lnTo>
                  <a:lnTo>
                    <a:pt x="186" y="1534"/>
                  </a:lnTo>
                  <a:lnTo>
                    <a:pt x="168" y="1544"/>
                  </a:lnTo>
                  <a:lnTo>
                    <a:pt x="142" y="1558"/>
                  </a:lnTo>
                  <a:lnTo>
                    <a:pt x="86" y="1588"/>
                  </a:lnTo>
                  <a:lnTo>
                    <a:pt x="58" y="1604"/>
                  </a:lnTo>
                  <a:lnTo>
                    <a:pt x="32" y="1620"/>
                  </a:lnTo>
                  <a:lnTo>
                    <a:pt x="12" y="1634"/>
                  </a:lnTo>
                  <a:lnTo>
                    <a:pt x="6" y="1642"/>
                  </a:lnTo>
                  <a:lnTo>
                    <a:pt x="0" y="1648"/>
                  </a:lnTo>
                  <a:lnTo>
                    <a:pt x="0" y="1648"/>
                  </a:lnTo>
                  <a:lnTo>
                    <a:pt x="16" y="1654"/>
                  </a:lnTo>
                  <a:lnTo>
                    <a:pt x="32" y="1660"/>
                  </a:lnTo>
                  <a:lnTo>
                    <a:pt x="50" y="1662"/>
                  </a:lnTo>
                  <a:lnTo>
                    <a:pt x="70" y="1666"/>
                  </a:lnTo>
                  <a:lnTo>
                    <a:pt x="112" y="1666"/>
                  </a:lnTo>
                  <a:lnTo>
                    <a:pt x="158" y="1666"/>
                  </a:lnTo>
                  <a:lnTo>
                    <a:pt x="158" y="1666"/>
                  </a:lnTo>
                  <a:lnTo>
                    <a:pt x="168" y="1672"/>
                  </a:lnTo>
                  <a:lnTo>
                    <a:pt x="178" y="1672"/>
                  </a:lnTo>
                  <a:lnTo>
                    <a:pt x="184" y="1672"/>
                  </a:lnTo>
                  <a:lnTo>
                    <a:pt x="192" y="1668"/>
                  </a:lnTo>
                  <a:lnTo>
                    <a:pt x="202" y="1662"/>
                  </a:lnTo>
                  <a:lnTo>
                    <a:pt x="208" y="1660"/>
                  </a:lnTo>
                  <a:lnTo>
                    <a:pt x="214" y="1658"/>
                  </a:lnTo>
                  <a:lnTo>
                    <a:pt x="214" y="1658"/>
                  </a:lnTo>
                  <a:lnTo>
                    <a:pt x="248" y="1658"/>
                  </a:lnTo>
                  <a:lnTo>
                    <a:pt x="290" y="1656"/>
                  </a:lnTo>
                  <a:lnTo>
                    <a:pt x="314" y="1656"/>
                  </a:lnTo>
                  <a:lnTo>
                    <a:pt x="338" y="1652"/>
                  </a:lnTo>
                  <a:lnTo>
                    <a:pt x="364" y="1648"/>
                  </a:lnTo>
                  <a:lnTo>
                    <a:pt x="390" y="1640"/>
                  </a:lnTo>
                  <a:lnTo>
                    <a:pt x="390" y="1640"/>
                  </a:lnTo>
                  <a:lnTo>
                    <a:pt x="404" y="1634"/>
                  </a:lnTo>
                  <a:lnTo>
                    <a:pt x="420" y="1626"/>
                  </a:lnTo>
                  <a:lnTo>
                    <a:pt x="454" y="1608"/>
                  </a:lnTo>
                  <a:lnTo>
                    <a:pt x="488" y="1584"/>
                  </a:lnTo>
                  <a:lnTo>
                    <a:pt x="526" y="1558"/>
                  </a:lnTo>
                  <a:lnTo>
                    <a:pt x="598" y="1504"/>
                  </a:lnTo>
                  <a:lnTo>
                    <a:pt x="630" y="1482"/>
                  </a:lnTo>
                  <a:lnTo>
                    <a:pt x="658" y="1462"/>
                  </a:lnTo>
                  <a:lnTo>
                    <a:pt x="658" y="1462"/>
                  </a:lnTo>
                  <a:lnTo>
                    <a:pt x="666" y="1458"/>
                  </a:lnTo>
                  <a:lnTo>
                    <a:pt x="674" y="1456"/>
                  </a:lnTo>
                  <a:lnTo>
                    <a:pt x="690" y="1454"/>
                  </a:lnTo>
                  <a:lnTo>
                    <a:pt x="706" y="1452"/>
                  </a:lnTo>
                  <a:lnTo>
                    <a:pt x="716" y="1448"/>
                  </a:lnTo>
                  <a:lnTo>
                    <a:pt x="724" y="1444"/>
                  </a:lnTo>
                  <a:lnTo>
                    <a:pt x="724" y="1444"/>
                  </a:lnTo>
                  <a:lnTo>
                    <a:pt x="744" y="1432"/>
                  </a:lnTo>
                  <a:lnTo>
                    <a:pt x="762" y="1418"/>
                  </a:lnTo>
                  <a:lnTo>
                    <a:pt x="782" y="1402"/>
                  </a:lnTo>
                  <a:lnTo>
                    <a:pt x="800" y="1386"/>
                  </a:lnTo>
                  <a:lnTo>
                    <a:pt x="834" y="1348"/>
                  </a:lnTo>
                  <a:lnTo>
                    <a:pt x="868" y="1306"/>
                  </a:lnTo>
                  <a:lnTo>
                    <a:pt x="898" y="1262"/>
                  </a:lnTo>
                  <a:lnTo>
                    <a:pt x="928" y="1218"/>
                  </a:lnTo>
                  <a:lnTo>
                    <a:pt x="984" y="1134"/>
                  </a:lnTo>
                  <a:lnTo>
                    <a:pt x="984" y="1134"/>
                  </a:lnTo>
                  <a:lnTo>
                    <a:pt x="1008" y="1102"/>
                  </a:lnTo>
                  <a:lnTo>
                    <a:pt x="1034" y="1070"/>
                  </a:lnTo>
                  <a:lnTo>
                    <a:pt x="1090" y="1008"/>
                  </a:lnTo>
                  <a:lnTo>
                    <a:pt x="1146" y="944"/>
                  </a:lnTo>
                  <a:lnTo>
                    <a:pt x="1172" y="912"/>
                  </a:lnTo>
                  <a:lnTo>
                    <a:pt x="1196" y="878"/>
                  </a:lnTo>
                  <a:lnTo>
                    <a:pt x="1196" y="878"/>
                  </a:lnTo>
                  <a:lnTo>
                    <a:pt x="1232" y="820"/>
                  </a:lnTo>
                  <a:lnTo>
                    <a:pt x="1266" y="762"/>
                  </a:lnTo>
                  <a:lnTo>
                    <a:pt x="1296" y="702"/>
                  </a:lnTo>
                  <a:lnTo>
                    <a:pt x="1326" y="642"/>
                  </a:lnTo>
                  <a:lnTo>
                    <a:pt x="1380" y="518"/>
                  </a:lnTo>
                  <a:lnTo>
                    <a:pt x="1438" y="390"/>
                  </a:lnTo>
                  <a:lnTo>
                    <a:pt x="1438" y="390"/>
                  </a:lnTo>
                  <a:lnTo>
                    <a:pt x="1454" y="358"/>
                  </a:lnTo>
                  <a:lnTo>
                    <a:pt x="1472" y="326"/>
                  </a:lnTo>
                  <a:lnTo>
                    <a:pt x="1510" y="262"/>
                  </a:lnTo>
                  <a:lnTo>
                    <a:pt x="1530" y="232"/>
                  </a:lnTo>
                  <a:lnTo>
                    <a:pt x="1548" y="200"/>
                  </a:lnTo>
                  <a:lnTo>
                    <a:pt x="1564" y="166"/>
                  </a:lnTo>
                  <a:lnTo>
                    <a:pt x="1576" y="132"/>
                  </a:lnTo>
                  <a:lnTo>
                    <a:pt x="1576" y="132"/>
                  </a:lnTo>
                  <a:lnTo>
                    <a:pt x="1562" y="124"/>
                  </a:lnTo>
                  <a:lnTo>
                    <a:pt x="1548" y="116"/>
                  </a:lnTo>
                  <a:lnTo>
                    <a:pt x="1522" y="96"/>
                  </a:lnTo>
                  <a:lnTo>
                    <a:pt x="1474" y="54"/>
                  </a:lnTo>
                  <a:lnTo>
                    <a:pt x="1448" y="36"/>
                  </a:lnTo>
                  <a:lnTo>
                    <a:pt x="1434" y="28"/>
                  </a:lnTo>
                  <a:lnTo>
                    <a:pt x="1418" y="20"/>
                  </a:lnTo>
                  <a:lnTo>
                    <a:pt x="1402" y="12"/>
                  </a:lnTo>
                  <a:lnTo>
                    <a:pt x="1384" y="6"/>
                  </a:lnTo>
                  <a:lnTo>
                    <a:pt x="1366" y="2"/>
                  </a:lnTo>
                  <a:lnTo>
                    <a:pt x="1344" y="0"/>
                  </a:lnTo>
                  <a:lnTo>
                    <a:pt x="1344" y="0"/>
                  </a:lnTo>
                  <a:lnTo>
                    <a:pt x="1344" y="42"/>
                  </a:lnTo>
                  <a:lnTo>
                    <a:pt x="1342" y="80"/>
                  </a:lnTo>
                  <a:lnTo>
                    <a:pt x="1336" y="116"/>
                  </a:lnTo>
                  <a:lnTo>
                    <a:pt x="1332" y="152"/>
                  </a:lnTo>
                  <a:lnTo>
                    <a:pt x="1324" y="184"/>
                  </a:lnTo>
                  <a:lnTo>
                    <a:pt x="1316" y="214"/>
                  </a:lnTo>
                  <a:lnTo>
                    <a:pt x="1306" y="242"/>
                  </a:lnTo>
                  <a:lnTo>
                    <a:pt x="1296" y="268"/>
                  </a:lnTo>
                  <a:lnTo>
                    <a:pt x="1284" y="294"/>
                  </a:lnTo>
                  <a:lnTo>
                    <a:pt x="1272" y="316"/>
                  </a:lnTo>
                  <a:lnTo>
                    <a:pt x="1258" y="338"/>
                  </a:lnTo>
                  <a:lnTo>
                    <a:pt x="1244" y="360"/>
                  </a:lnTo>
                  <a:lnTo>
                    <a:pt x="1212" y="398"/>
                  </a:lnTo>
                  <a:lnTo>
                    <a:pt x="1180" y="434"/>
                  </a:lnTo>
                  <a:lnTo>
                    <a:pt x="1144" y="468"/>
                  </a:lnTo>
                  <a:lnTo>
                    <a:pt x="1108" y="502"/>
                  </a:lnTo>
                  <a:lnTo>
                    <a:pt x="1072" y="536"/>
                  </a:lnTo>
                  <a:lnTo>
                    <a:pt x="1034" y="570"/>
                  </a:lnTo>
                  <a:lnTo>
                    <a:pt x="998" y="608"/>
                  </a:lnTo>
                  <a:lnTo>
                    <a:pt x="964" y="648"/>
                  </a:lnTo>
                  <a:lnTo>
                    <a:pt x="946" y="670"/>
                  </a:lnTo>
                  <a:lnTo>
                    <a:pt x="930" y="694"/>
                  </a:lnTo>
                  <a:lnTo>
                    <a:pt x="914" y="718"/>
                  </a:lnTo>
                  <a:lnTo>
                    <a:pt x="900" y="744"/>
                  </a:lnTo>
                  <a:lnTo>
                    <a:pt x="900" y="744"/>
                  </a:lnTo>
                  <a:close/>
                </a:path>
              </a:pathLst>
            </a:custGeom>
            <a:solidFill>
              <a:srgbClr val="fc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44"/>
            <p:cNvSpPr/>
            <p:nvPr/>
          </p:nvSpPr>
          <p:spPr>
            <a:xfrm>
              <a:off x="26630280" y="6454800"/>
              <a:ext cx="1428480" cy="2066760"/>
            </a:xfrm>
            <a:custGeom>
              <a:avLst/>
              <a:gdLst>
                <a:gd name="textAreaLeft" fmla="*/ 0 w 1428480"/>
                <a:gd name="textAreaRight" fmla="*/ 1428840 w 1428480"/>
                <a:gd name="textAreaTop" fmla="*/ 0 h 2066760"/>
                <a:gd name="textAreaBottom" fmla="*/ 2067120 h 2066760"/>
              </a:gdLst>
              <a:ahLst/>
              <a:rect l="textAreaLeft" t="textAreaTop" r="textAreaRight" b="textAreaBottom"/>
              <a:pathLst>
                <a:path w="900" h="1302">
                  <a:moveTo>
                    <a:pt x="890" y="692"/>
                  </a:moveTo>
                  <a:lnTo>
                    <a:pt x="890" y="692"/>
                  </a:lnTo>
                  <a:lnTo>
                    <a:pt x="882" y="664"/>
                  </a:lnTo>
                  <a:lnTo>
                    <a:pt x="872" y="636"/>
                  </a:lnTo>
                  <a:lnTo>
                    <a:pt x="862" y="610"/>
                  </a:lnTo>
                  <a:lnTo>
                    <a:pt x="850" y="584"/>
                  </a:lnTo>
                  <a:lnTo>
                    <a:pt x="826" y="534"/>
                  </a:lnTo>
                  <a:lnTo>
                    <a:pt x="796" y="486"/>
                  </a:lnTo>
                  <a:lnTo>
                    <a:pt x="766" y="440"/>
                  </a:lnTo>
                  <a:lnTo>
                    <a:pt x="734" y="394"/>
                  </a:lnTo>
                  <a:lnTo>
                    <a:pt x="668" y="310"/>
                  </a:lnTo>
                  <a:lnTo>
                    <a:pt x="668" y="310"/>
                  </a:lnTo>
                  <a:lnTo>
                    <a:pt x="574" y="230"/>
                  </a:lnTo>
                  <a:lnTo>
                    <a:pt x="574" y="230"/>
                  </a:lnTo>
                  <a:lnTo>
                    <a:pt x="534" y="176"/>
                  </a:lnTo>
                  <a:lnTo>
                    <a:pt x="512" y="148"/>
                  </a:lnTo>
                  <a:lnTo>
                    <a:pt x="488" y="120"/>
                  </a:lnTo>
                  <a:lnTo>
                    <a:pt x="464" y="94"/>
                  </a:lnTo>
                  <a:lnTo>
                    <a:pt x="438" y="70"/>
                  </a:lnTo>
                  <a:lnTo>
                    <a:pt x="410" y="50"/>
                  </a:lnTo>
                  <a:lnTo>
                    <a:pt x="394" y="42"/>
                  </a:lnTo>
                  <a:lnTo>
                    <a:pt x="380" y="34"/>
                  </a:lnTo>
                  <a:lnTo>
                    <a:pt x="380" y="34"/>
                  </a:lnTo>
                  <a:lnTo>
                    <a:pt x="352" y="24"/>
                  </a:lnTo>
                  <a:lnTo>
                    <a:pt x="324" y="14"/>
                  </a:lnTo>
                  <a:lnTo>
                    <a:pt x="298" y="8"/>
                  </a:lnTo>
                  <a:lnTo>
                    <a:pt x="272" y="2"/>
                  </a:lnTo>
                  <a:lnTo>
                    <a:pt x="248" y="0"/>
                  </a:lnTo>
                  <a:lnTo>
                    <a:pt x="222" y="0"/>
                  </a:lnTo>
                  <a:lnTo>
                    <a:pt x="198" y="0"/>
                  </a:lnTo>
                  <a:lnTo>
                    <a:pt x="176" y="4"/>
                  </a:lnTo>
                  <a:lnTo>
                    <a:pt x="152" y="8"/>
                  </a:lnTo>
                  <a:lnTo>
                    <a:pt x="130" y="14"/>
                  </a:lnTo>
                  <a:lnTo>
                    <a:pt x="108" y="20"/>
                  </a:lnTo>
                  <a:lnTo>
                    <a:pt x="86" y="28"/>
                  </a:lnTo>
                  <a:lnTo>
                    <a:pt x="42" y="48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56" y="118"/>
                  </a:lnTo>
                  <a:lnTo>
                    <a:pt x="106" y="124"/>
                  </a:lnTo>
                  <a:lnTo>
                    <a:pt x="150" y="134"/>
                  </a:lnTo>
                  <a:lnTo>
                    <a:pt x="190" y="146"/>
                  </a:lnTo>
                  <a:lnTo>
                    <a:pt x="224" y="162"/>
                  </a:lnTo>
                  <a:lnTo>
                    <a:pt x="256" y="180"/>
                  </a:lnTo>
                  <a:lnTo>
                    <a:pt x="282" y="202"/>
                  </a:lnTo>
                  <a:lnTo>
                    <a:pt x="306" y="226"/>
                  </a:lnTo>
                  <a:lnTo>
                    <a:pt x="326" y="252"/>
                  </a:lnTo>
                  <a:lnTo>
                    <a:pt x="342" y="284"/>
                  </a:lnTo>
                  <a:lnTo>
                    <a:pt x="356" y="316"/>
                  </a:lnTo>
                  <a:lnTo>
                    <a:pt x="368" y="352"/>
                  </a:lnTo>
                  <a:lnTo>
                    <a:pt x="378" y="390"/>
                  </a:lnTo>
                  <a:lnTo>
                    <a:pt x="386" y="432"/>
                  </a:lnTo>
                  <a:lnTo>
                    <a:pt x="392" y="476"/>
                  </a:lnTo>
                  <a:lnTo>
                    <a:pt x="398" y="522"/>
                  </a:lnTo>
                  <a:lnTo>
                    <a:pt x="398" y="522"/>
                  </a:lnTo>
                  <a:lnTo>
                    <a:pt x="306" y="548"/>
                  </a:lnTo>
                  <a:lnTo>
                    <a:pt x="262" y="562"/>
                  </a:lnTo>
                  <a:lnTo>
                    <a:pt x="220" y="578"/>
                  </a:lnTo>
                  <a:lnTo>
                    <a:pt x="180" y="596"/>
                  </a:lnTo>
                  <a:lnTo>
                    <a:pt x="160" y="606"/>
                  </a:lnTo>
                  <a:lnTo>
                    <a:pt x="144" y="616"/>
                  </a:lnTo>
                  <a:lnTo>
                    <a:pt x="126" y="630"/>
                  </a:lnTo>
                  <a:lnTo>
                    <a:pt x="112" y="642"/>
                  </a:lnTo>
                  <a:lnTo>
                    <a:pt x="96" y="658"/>
                  </a:lnTo>
                  <a:lnTo>
                    <a:pt x="84" y="674"/>
                  </a:lnTo>
                  <a:lnTo>
                    <a:pt x="84" y="674"/>
                  </a:lnTo>
                  <a:lnTo>
                    <a:pt x="74" y="688"/>
                  </a:lnTo>
                  <a:lnTo>
                    <a:pt x="64" y="702"/>
                  </a:lnTo>
                  <a:lnTo>
                    <a:pt x="50" y="734"/>
                  </a:lnTo>
                  <a:lnTo>
                    <a:pt x="38" y="768"/>
                  </a:lnTo>
                  <a:lnTo>
                    <a:pt x="32" y="804"/>
                  </a:lnTo>
                  <a:lnTo>
                    <a:pt x="28" y="838"/>
                  </a:lnTo>
                  <a:lnTo>
                    <a:pt x="28" y="876"/>
                  </a:lnTo>
                  <a:lnTo>
                    <a:pt x="30" y="912"/>
                  </a:lnTo>
                  <a:lnTo>
                    <a:pt x="36" y="948"/>
                  </a:lnTo>
                  <a:lnTo>
                    <a:pt x="46" y="982"/>
                  </a:lnTo>
                  <a:lnTo>
                    <a:pt x="58" y="1016"/>
                  </a:lnTo>
                  <a:lnTo>
                    <a:pt x="72" y="1048"/>
                  </a:lnTo>
                  <a:lnTo>
                    <a:pt x="88" y="1078"/>
                  </a:lnTo>
                  <a:lnTo>
                    <a:pt x="108" y="1106"/>
                  </a:lnTo>
                  <a:lnTo>
                    <a:pt x="128" y="1130"/>
                  </a:lnTo>
                  <a:lnTo>
                    <a:pt x="152" y="1152"/>
                  </a:lnTo>
                  <a:lnTo>
                    <a:pt x="176" y="1170"/>
                  </a:lnTo>
                  <a:lnTo>
                    <a:pt x="176" y="1170"/>
                  </a:lnTo>
                  <a:lnTo>
                    <a:pt x="200" y="1182"/>
                  </a:lnTo>
                  <a:lnTo>
                    <a:pt x="226" y="1192"/>
                  </a:lnTo>
                  <a:lnTo>
                    <a:pt x="250" y="1198"/>
                  </a:lnTo>
                  <a:lnTo>
                    <a:pt x="276" y="1202"/>
                  </a:lnTo>
                  <a:lnTo>
                    <a:pt x="304" y="1202"/>
                  </a:lnTo>
                  <a:lnTo>
                    <a:pt x="330" y="1200"/>
                  </a:lnTo>
                  <a:lnTo>
                    <a:pt x="356" y="1196"/>
                  </a:lnTo>
                  <a:lnTo>
                    <a:pt x="380" y="1190"/>
                  </a:lnTo>
                  <a:lnTo>
                    <a:pt x="406" y="1182"/>
                  </a:lnTo>
                  <a:lnTo>
                    <a:pt x="430" y="1174"/>
                  </a:lnTo>
                  <a:lnTo>
                    <a:pt x="452" y="1162"/>
                  </a:lnTo>
                  <a:lnTo>
                    <a:pt x="472" y="1150"/>
                  </a:lnTo>
                  <a:lnTo>
                    <a:pt x="492" y="1136"/>
                  </a:lnTo>
                  <a:lnTo>
                    <a:pt x="510" y="1122"/>
                  </a:lnTo>
                  <a:lnTo>
                    <a:pt x="524" y="1106"/>
                  </a:lnTo>
                  <a:lnTo>
                    <a:pt x="538" y="1090"/>
                  </a:lnTo>
                  <a:lnTo>
                    <a:pt x="538" y="1090"/>
                  </a:lnTo>
                  <a:lnTo>
                    <a:pt x="544" y="1080"/>
                  </a:lnTo>
                  <a:lnTo>
                    <a:pt x="550" y="1068"/>
                  </a:lnTo>
                  <a:lnTo>
                    <a:pt x="558" y="1048"/>
                  </a:lnTo>
                  <a:lnTo>
                    <a:pt x="566" y="1028"/>
                  </a:lnTo>
                  <a:lnTo>
                    <a:pt x="572" y="1010"/>
                  </a:lnTo>
                  <a:lnTo>
                    <a:pt x="576" y="1002"/>
                  </a:lnTo>
                  <a:lnTo>
                    <a:pt x="582" y="994"/>
                  </a:lnTo>
                  <a:lnTo>
                    <a:pt x="588" y="986"/>
                  </a:lnTo>
                  <a:lnTo>
                    <a:pt x="596" y="980"/>
                  </a:lnTo>
                  <a:lnTo>
                    <a:pt x="606" y="976"/>
                  </a:lnTo>
                  <a:lnTo>
                    <a:pt x="618" y="972"/>
                  </a:lnTo>
                  <a:lnTo>
                    <a:pt x="632" y="968"/>
                  </a:lnTo>
                  <a:lnTo>
                    <a:pt x="648" y="966"/>
                  </a:lnTo>
                  <a:lnTo>
                    <a:pt x="648" y="966"/>
                  </a:lnTo>
                  <a:lnTo>
                    <a:pt x="656" y="976"/>
                  </a:lnTo>
                  <a:lnTo>
                    <a:pt x="664" y="982"/>
                  </a:lnTo>
                  <a:lnTo>
                    <a:pt x="670" y="990"/>
                  </a:lnTo>
                  <a:lnTo>
                    <a:pt x="676" y="1002"/>
                  </a:lnTo>
                  <a:lnTo>
                    <a:pt x="676" y="1002"/>
                  </a:lnTo>
                  <a:lnTo>
                    <a:pt x="690" y="1022"/>
                  </a:lnTo>
                  <a:lnTo>
                    <a:pt x="700" y="1046"/>
                  </a:lnTo>
                  <a:lnTo>
                    <a:pt x="710" y="1068"/>
                  </a:lnTo>
                  <a:lnTo>
                    <a:pt x="718" y="1092"/>
                  </a:lnTo>
                  <a:lnTo>
                    <a:pt x="734" y="1140"/>
                  </a:lnTo>
                  <a:lnTo>
                    <a:pt x="750" y="1186"/>
                  </a:lnTo>
                  <a:lnTo>
                    <a:pt x="760" y="1208"/>
                  </a:lnTo>
                  <a:lnTo>
                    <a:pt x="772" y="1228"/>
                  </a:lnTo>
                  <a:lnTo>
                    <a:pt x="784" y="1246"/>
                  </a:lnTo>
                  <a:lnTo>
                    <a:pt x="800" y="1262"/>
                  </a:lnTo>
                  <a:lnTo>
                    <a:pt x="820" y="1276"/>
                  </a:lnTo>
                  <a:lnTo>
                    <a:pt x="842" y="1288"/>
                  </a:lnTo>
                  <a:lnTo>
                    <a:pt x="868" y="1298"/>
                  </a:lnTo>
                  <a:lnTo>
                    <a:pt x="900" y="1302"/>
                  </a:lnTo>
                  <a:lnTo>
                    <a:pt x="900" y="1302"/>
                  </a:lnTo>
                  <a:lnTo>
                    <a:pt x="900" y="1294"/>
                  </a:lnTo>
                  <a:lnTo>
                    <a:pt x="900" y="1294"/>
                  </a:lnTo>
                  <a:lnTo>
                    <a:pt x="880" y="1280"/>
                  </a:lnTo>
                  <a:lnTo>
                    <a:pt x="864" y="1264"/>
                  </a:lnTo>
                  <a:lnTo>
                    <a:pt x="850" y="1250"/>
                  </a:lnTo>
                  <a:lnTo>
                    <a:pt x="840" y="1234"/>
                  </a:lnTo>
                  <a:lnTo>
                    <a:pt x="830" y="1216"/>
                  </a:lnTo>
                  <a:lnTo>
                    <a:pt x="824" y="1200"/>
                  </a:lnTo>
                  <a:lnTo>
                    <a:pt x="818" y="1182"/>
                  </a:lnTo>
                  <a:lnTo>
                    <a:pt x="814" y="1164"/>
                  </a:lnTo>
                  <a:lnTo>
                    <a:pt x="812" y="1146"/>
                  </a:lnTo>
                  <a:lnTo>
                    <a:pt x="812" y="1128"/>
                  </a:lnTo>
                  <a:lnTo>
                    <a:pt x="814" y="1108"/>
                  </a:lnTo>
                  <a:lnTo>
                    <a:pt x="816" y="1090"/>
                  </a:lnTo>
                  <a:lnTo>
                    <a:pt x="822" y="1050"/>
                  </a:lnTo>
                  <a:lnTo>
                    <a:pt x="834" y="1010"/>
                  </a:lnTo>
                  <a:lnTo>
                    <a:pt x="858" y="930"/>
                  </a:lnTo>
                  <a:lnTo>
                    <a:pt x="872" y="888"/>
                  </a:lnTo>
                  <a:lnTo>
                    <a:pt x="882" y="848"/>
                  </a:lnTo>
                  <a:lnTo>
                    <a:pt x="892" y="808"/>
                  </a:lnTo>
                  <a:lnTo>
                    <a:pt x="896" y="768"/>
                  </a:lnTo>
                  <a:lnTo>
                    <a:pt x="896" y="748"/>
                  </a:lnTo>
                  <a:lnTo>
                    <a:pt x="896" y="728"/>
                  </a:lnTo>
                  <a:lnTo>
                    <a:pt x="894" y="710"/>
                  </a:lnTo>
                  <a:lnTo>
                    <a:pt x="890" y="692"/>
                  </a:lnTo>
                  <a:lnTo>
                    <a:pt x="890" y="692"/>
                  </a:lnTo>
                  <a:close/>
                  <a:moveTo>
                    <a:pt x="342" y="1028"/>
                  </a:moveTo>
                  <a:lnTo>
                    <a:pt x="342" y="1028"/>
                  </a:lnTo>
                  <a:lnTo>
                    <a:pt x="332" y="1032"/>
                  </a:lnTo>
                  <a:lnTo>
                    <a:pt x="322" y="1032"/>
                  </a:lnTo>
                  <a:lnTo>
                    <a:pt x="288" y="1028"/>
                  </a:lnTo>
                  <a:lnTo>
                    <a:pt x="288" y="1028"/>
                  </a:lnTo>
                  <a:lnTo>
                    <a:pt x="272" y="1012"/>
                  </a:lnTo>
                  <a:lnTo>
                    <a:pt x="254" y="1000"/>
                  </a:lnTo>
                  <a:lnTo>
                    <a:pt x="220" y="978"/>
                  </a:lnTo>
                  <a:lnTo>
                    <a:pt x="204" y="964"/>
                  </a:lnTo>
                  <a:lnTo>
                    <a:pt x="192" y="950"/>
                  </a:lnTo>
                  <a:lnTo>
                    <a:pt x="186" y="940"/>
                  </a:lnTo>
                  <a:lnTo>
                    <a:pt x="182" y="930"/>
                  </a:lnTo>
                  <a:lnTo>
                    <a:pt x="178" y="918"/>
                  </a:lnTo>
                  <a:lnTo>
                    <a:pt x="176" y="904"/>
                  </a:lnTo>
                  <a:lnTo>
                    <a:pt x="176" y="904"/>
                  </a:lnTo>
                  <a:lnTo>
                    <a:pt x="168" y="892"/>
                  </a:lnTo>
                  <a:lnTo>
                    <a:pt x="162" y="878"/>
                  </a:lnTo>
                  <a:lnTo>
                    <a:pt x="160" y="866"/>
                  </a:lnTo>
                  <a:lnTo>
                    <a:pt x="158" y="854"/>
                  </a:lnTo>
                  <a:lnTo>
                    <a:pt x="156" y="842"/>
                  </a:lnTo>
                  <a:lnTo>
                    <a:pt x="158" y="830"/>
                  </a:lnTo>
                  <a:lnTo>
                    <a:pt x="160" y="818"/>
                  </a:lnTo>
                  <a:lnTo>
                    <a:pt x="164" y="806"/>
                  </a:lnTo>
                  <a:lnTo>
                    <a:pt x="176" y="784"/>
                  </a:lnTo>
                  <a:lnTo>
                    <a:pt x="192" y="762"/>
                  </a:lnTo>
                  <a:lnTo>
                    <a:pt x="212" y="740"/>
                  </a:lnTo>
                  <a:lnTo>
                    <a:pt x="234" y="720"/>
                  </a:lnTo>
                  <a:lnTo>
                    <a:pt x="256" y="700"/>
                  </a:lnTo>
                  <a:lnTo>
                    <a:pt x="282" y="682"/>
                  </a:lnTo>
                  <a:lnTo>
                    <a:pt x="328" y="650"/>
                  </a:lnTo>
                  <a:lnTo>
                    <a:pt x="370" y="624"/>
                  </a:lnTo>
                  <a:lnTo>
                    <a:pt x="386" y="612"/>
                  </a:lnTo>
                  <a:lnTo>
                    <a:pt x="398" y="602"/>
                  </a:lnTo>
                  <a:lnTo>
                    <a:pt x="398" y="602"/>
                  </a:lnTo>
                  <a:lnTo>
                    <a:pt x="422" y="604"/>
                  </a:lnTo>
                  <a:lnTo>
                    <a:pt x="440" y="608"/>
                  </a:lnTo>
                  <a:lnTo>
                    <a:pt x="446" y="612"/>
                  </a:lnTo>
                  <a:lnTo>
                    <a:pt x="452" y="616"/>
                  </a:lnTo>
                  <a:lnTo>
                    <a:pt x="464" y="628"/>
                  </a:lnTo>
                  <a:lnTo>
                    <a:pt x="464" y="628"/>
                  </a:lnTo>
                  <a:lnTo>
                    <a:pt x="468" y="636"/>
                  </a:lnTo>
                  <a:lnTo>
                    <a:pt x="474" y="646"/>
                  </a:lnTo>
                  <a:lnTo>
                    <a:pt x="482" y="664"/>
                  </a:lnTo>
                  <a:lnTo>
                    <a:pt x="482" y="664"/>
                  </a:lnTo>
                  <a:lnTo>
                    <a:pt x="464" y="672"/>
                  </a:lnTo>
                  <a:lnTo>
                    <a:pt x="456" y="674"/>
                  </a:lnTo>
                  <a:lnTo>
                    <a:pt x="452" y="680"/>
                  </a:lnTo>
                  <a:lnTo>
                    <a:pt x="446" y="684"/>
                  </a:lnTo>
                  <a:lnTo>
                    <a:pt x="442" y="692"/>
                  </a:lnTo>
                  <a:lnTo>
                    <a:pt x="436" y="708"/>
                  </a:lnTo>
                  <a:lnTo>
                    <a:pt x="436" y="708"/>
                  </a:lnTo>
                  <a:lnTo>
                    <a:pt x="452" y="710"/>
                  </a:lnTo>
                  <a:lnTo>
                    <a:pt x="468" y="714"/>
                  </a:lnTo>
                  <a:lnTo>
                    <a:pt x="482" y="720"/>
                  </a:lnTo>
                  <a:lnTo>
                    <a:pt x="492" y="726"/>
                  </a:lnTo>
                  <a:lnTo>
                    <a:pt x="504" y="732"/>
                  </a:lnTo>
                  <a:lnTo>
                    <a:pt x="512" y="742"/>
                  </a:lnTo>
                  <a:lnTo>
                    <a:pt x="528" y="762"/>
                  </a:lnTo>
                  <a:lnTo>
                    <a:pt x="528" y="762"/>
                  </a:lnTo>
                  <a:lnTo>
                    <a:pt x="536" y="772"/>
                  </a:lnTo>
                  <a:lnTo>
                    <a:pt x="542" y="784"/>
                  </a:lnTo>
                  <a:lnTo>
                    <a:pt x="548" y="794"/>
                  </a:lnTo>
                  <a:lnTo>
                    <a:pt x="552" y="806"/>
                  </a:lnTo>
                  <a:lnTo>
                    <a:pt x="554" y="816"/>
                  </a:lnTo>
                  <a:lnTo>
                    <a:pt x="554" y="828"/>
                  </a:lnTo>
                  <a:lnTo>
                    <a:pt x="554" y="838"/>
                  </a:lnTo>
                  <a:lnTo>
                    <a:pt x="552" y="850"/>
                  </a:lnTo>
                  <a:lnTo>
                    <a:pt x="544" y="872"/>
                  </a:lnTo>
                  <a:lnTo>
                    <a:pt x="534" y="894"/>
                  </a:lnTo>
                  <a:lnTo>
                    <a:pt x="520" y="914"/>
                  </a:lnTo>
                  <a:lnTo>
                    <a:pt x="502" y="934"/>
                  </a:lnTo>
                  <a:lnTo>
                    <a:pt x="484" y="954"/>
                  </a:lnTo>
                  <a:lnTo>
                    <a:pt x="464" y="970"/>
                  </a:lnTo>
                  <a:lnTo>
                    <a:pt x="442" y="986"/>
                  </a:lnTo>
                  <a:lnTo>
                    <a:pt x="420" y="1000"/>
                  </a:lnTo>
                  <a:lnTo>
                    <a:pt x="400" y="1010"/>
                  </a:lnTo>
                  <a:lnTo>
                    <a:pt x="380" y="1020"/>
                  </a:lnTo>
                  <a:lnTo>
                    <a:pt x="360" y="1026"/>
                  </a:lnTo>
                  <a:lnTo>
                    <a:pt x="342" y="1028"/>
                  </a:lnTo>
                  <a:lnTo>
                    <a:pt x="342" y="1028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45"/>
            <p:cNvSpPr/>
            <p:nvPr/>
          </p:nvSpPr>
          <p:spPr>
            <a:xfrm>
              <a:off x="26877960" y="7410600"/>
              <a:ext cx="631800" cy="68256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0 h 682560"/>
                <a:gd name="textAreaBottom" fmla="*/ 682920 h 682560"/>
              </a:gdLst>
              <a:ahLst/>
              <a:rect l="textAreaLeft" t="textAreaTop" r="textAreaRight" b="textAreaBottom"/>
              <a:pathLst>
                <a:path w="398" h="430">
                  <a:moveTo>
                    <a:pt x="280" y="106"/>
                  </a:moveTo>
                  <a:lnTo>
                    <a:pt x="280" y="106"/>
                  </a:lnTo>
                  <a:lnTo>
                    <a:pt x="286" y="90"/>
                  </a:lnTo>
                  <a:lnTo>
                    <a:pt x="290" y="82"/>
                  </a:lnTo>
                  <a:lnTo>
                    <a:pt x="296" y="78"/>
                  </a:lnTo>
                  <a:lnTo>
                    <a:pt x="300" y="72"/>
                  </a:lnTo>
                  <a:lnTo>
                    <a:pt x="308" y="70"/>
                  </a:lnTo>
                  <a:lnTo>
                    <a:pt x="326" y="62"/>
                  </a:lnTo>
                  <a:lnTo>
                    <a:pt x="326" y="62"/>
                  </a:lnTo>
                  <a:lnTo>
                    <a:pt x="318" y="44"/>
                  </a:lnTo>
                  <a:lnTo>
                    <a:pt x="312" y="34"/>
                  </a:lnTo>
                  <a:lnTo>
                    <a:pt x="308" y="26"/>
                  </a:lnTo>
                  <a:lnTo>
                    <a:pt x="308" y="26"/>
                  </a:lnTo>
                  <a:lnTo>
                    <a:pt x="296" y="14"/>
                  </a:lnTo>
                  <a:lnTo>
                    <a:pt x="290" y="10"/>
                  </a:lnTo>
                  <a:lnTo>
                    <a:pt x="284" y="6"/>
                  </a:lnTo>
                  <a:lnTo>
                    <a:pt x="266" y="2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230" y="10"/>
                  </a:lnTo>
                  <a:lnTo>
                    <a:pt x="214" y="22"/>
                  </a:lnTo>
                  <a:lnTo>
                    <a:pt x="172" y="48"/>
                  </a:lnTo>
                  <a:lnTo>
                    <a:pt x="126" y="80"/>
                  </a:lnTo>
                  <a:lnTo>
                    <a:pt x="100" y="98"/>
                  </a:lnTo>
                  <a:lnTo>
                    <a:pt x="78" y="118"/>
                  </a:lnTo>
                  <a:lnTo>
                    <a:pt x="56" y="138"/>
                  </a:lnTo>
                  <a:lnTo>
                    <a:pt x="36" y="160"/>
                  </a:lnTo>
                  <a:lnTo>
                    <a:pt x="20" y="182"/>
                  </a:lnTo>
                  <a:lnTo>
                    <a:pt x="8" y="204"/>
                  </a:lnTo>
                  <a:lnTo>
                    <a:pt x="4" y="216"/>
                  </a:lnTo>
                  <a:lnTo>
                    <a:pt x="2" y="228"/>
                  </a:lnTo>
                  <a:lnTo>
                    <a:pt x="0" y="240"/>
                  </a:lnTo>
                  <a:lnTo>
                    <a:pt x="2" y="252"/>
                  </a:lnTo>
                  <a:lnTo>
                    <a:pt x="4" y="264"/>
                  </a:lnTo>
                  <a:lnTo>
                    <a:pt x="6" y="276"/>
                  </a:lnTo>
                  <a:lnTo>
                    <a:pt x="12" y="290"/>
                  </a:lnTo>
                  <a:lnTo>
                    <a:pt x="20" y="302"/>
                  </a:lnTo>
                  <a:lnTo>
                    <a:pt x="20" y="302"/>
                  </a:lnTo>
                  <a:lnTo>
                    <a:pt x="22" y="316"/>
                  </a:lnTo>
                  <a:lnTo>
                    <a:pt x="26" y="328"/>
                  </a:lnTo>
                  <a:lnTo>
                    <a:pt x="30" y="338"/>
                  </a:lnTo>
                  <a:lnTo>
                    <a:pt x="36" y="348"/>
                  </a:lnTo>
                  <a:lnTo>
                    <a:pt x="48" y="362"/>
                  </a:lnTo>
                  <a:lnTo>
                    <a:pt x="64" y="376"/>
                  </a:lnTo>
                  <a:lnTo>
                    <a:pt x="98" y="398"/>
                  </a:lnTo>
                  <a:lnTo>
                    <a:pt x="116" y="410"/>
                  </a:lnTo>
                  <a:lnTo>
                    <a:pt x="132" y="426"/>
                  </a:lnTo>
                  <a:lnTo>
                    <a:pt x="132" y="426"/>
                  </a:lnTo>
                  <a:lnTo>
                    <a:pt x="166" y="430"/>
                  </a:lnTo>
                  <a:lnTo>
                    <a:pt x="176" y="430"/>
                  </a:lnTo>
                  <a:lnTo>
                    <a:pt x="186" y="426"/>
                  </a:lnTo>
                  <a:lnTo>
                    <a:pt x="186" y="426"/>
                  </a:lnTo>
                  <a:lnTo>
                    <a:pt x="204" y="424"/>
                  </a:lnTo>
                  <a:lnTo>
                    <a:pt x="224" y="418"/>
                  </a:lnTo>
                  <a:lnTo>
                    <a:pt x="244" y="408"/>
                  </a:lnTo>
                  <a:lnTo>
                    <a:pt x="264" y="398"/>
                  </a:lnTo>
                  <a:lnTo>
                    <a:pt x="286" y="384"/>
                  </a:lnTo>
                  <a:lnTo>
                    <a:pt x="308" y="368"/>
                  </a:lnTo>
                  <a:lnTo>
                    <a:pt x="328" y="352"/>
                  </a:lnTo>
                  <a:lnTo>
                    <a:pt x="346" y="332"/>
                  </a:lnTo>
                  <a:lnTo>
                    <a:pt x="364" y="312"/>
                  </a:lnTo>
                  <a:lnTo>
                    <a:pt x="378" y="292"/>
                  </a:lnTo>
                  <a:lnTo>
                    <a:pt x="388" y="270"/>
                  </a:lnTo>
                  <a:lnTo>
                    <a:pt x="396" y="248"/>
                  </a:lnTo>
                  <a:lnTo>
                    <a:pt x="398" y="236"/>
                  </a:lnTo>
                  <a:lnTo>
                    <a:pt x="398" y="226"/>
                  </a:lnTo>
                  <a:lnTo>
                    <a:pt x="398" y="214"/>
                  </a:lnTo>
                  <a:lnTo>
                    <a:pt x="396" y="204"/>
                  </a:lnTo>
                  <a:lnTo>
                    <a:pt x="392" y="192"/>
                  </a:lnTo>
                  <a:lnTo>
                    <a:pt x="386" y="182"/>
                  </a:lnTo>
                  <a:lnTo>
                    <a:pt x="380" y="170"/>
                  </a:lnTo>
                  <a:lnTo>
                    <a:pt x="372" y="160"/>
                  </a:lnTo>
                  <a:lnTo>
                    <a:pt x="372" y="160"/>
                  </a:lnTo>
                  <a:lnTo>
                    <a:pt x="356" y="140"/>
                  </a:lnTo>
                  <a:lnTo>
                    <a:pt x="348" y="130"/>
                  </a:lnTo>
                  <a:lnTo>
                    <a:pt x="336" y="124"/>
                  </a:lnTo>
                  <a:lnTo>
                    <a:pt x="326" y="118"/>
                  </a:lnTo>
                  <a:lnTo>
                    <a:pt x="312" y="112"/>
                  </a:lnTo>
                  <a:lnTo>
                    <a:pt x="296" y="108"/>
                  </a:lnTo>
                  <a:lnTo>
                    <a:pt x="280" y="106"/>
                  </a:lnTo>
                  <a:lnTo>
                    <a:pt x="280" y="106"/>
                  </a:lnTo>
                  <a:close/>
                  <a:moveTo>
                    <a:pt x="262" y="258"/>
                  </a:moveTo>
                  <a:lnTo>
                    <a:pt x="262" y="258"/>
                  </a:lnTo>
                  <a:lnTo>
                    <a:pt x="254" y="268"/>
                  </a:lnTo>
                  <a:lnTo>
                    <a:pt x="244" y="276"/>
                  </a:lnTo>
                  <a:lnTo>
                    <a:pt x="226" y="290"/>
                  </a:lnTo>
                  <a:lnTo>
                    <a:pt x="206" y="304"/>
                  </a:lnTo>
                  <a:lnTo>
                    <a:pt x="186" y="320"/>
                  </a:lnTo>
                  <a:lnTo>
                    <a:pt x="186" y="320"/>
                  </a:lnTo>
                  <a:lnTo>
                    <a:pt x="162" y="318"/>
                  </a:lnTo>
                  <a:lnTo>
                    <a:pt x="154" y="316"/>
                  </a:lnTo>
                  <a:lnTo>
                    <a:pt x="148" y="312"/>
                  </a:lnTo>
                  <a:lnTo>
                    <a:pt x="142" y="308"/>
                  </a:lnTo>
                  <a:lnTo>
                    <a:pt x="138" y="302"/>
                  </a:lnTo>
                  <a:lnTo>
                    <a:pt x="132" y="284"/>
                  </a:lnTo>
                  <a:lnTo>
                    <a:pt x="132" y="284"/>
                  </a:lnTo>
                  <a:lnTo>
                    <a:pt x="128" y="276"/>
                  </a:lnTo>
                  <a:lnTo>
                    <a:pt x="126" y="268"/>
                  </a:lnTo>
                  <a:lnTo>
                    <a:pt x="126" y="260"/>
                  </a:lnTo>
                  <a:lnTo>
                    <a:pt x="128" y="252"/>
                  </a:lnTo>
                  <a:lnTo>
                    <a:pt x="134" y="236"/>
                  </a:lnTo>
                  <a:lnTo>
                    <a:pt x="142" y="222"/>
                  </a:lnTo>
                  <a:lnTo>
                    <a:pt x="154" y="208"/>
                  </a:lnTo>
                  <a:lnTo>
                    <a:pt x="166" y="194"/>
                  </a:lnTo>
                  <a:lnTo>
                    <a:pt x="186" y="168"/>
                  </a:lnTo>
                  <a:lnTo>
                    <a:pt x="186" y="168"/>
                  </a:lnTo>
                  <a:lnTo>
                    <a:pt x="212" y="176"/>
                  </a:lnTo>
                  <a:lnTo>
                    <a:pt x="236" y="186"/>
                  </a:lnTo>
                  <a:lnTo>
                    <a:pt x="280" y="204"/>
                  </a:lnTo>
                  <a:lnTo>
                    <a:pt x="280" y="204"/>
                  </a:lnTo>
                  <a:lnTo>
                    <a:pt x="278" y="222"/>
                  </a:lnTo>
                  <a:lnTo>
                    <a:pt x="274" y="234"/>
                  </a:lnTo>
                  <a:lnTo>
                    <a:pt x="268" y="246"/>
                  </a:lnTo>
                  <a:lnTo>
                    <a:pt x="262" y="258"/>
                  </a:lnTo>
                  <a:lnTo>
                    <a:pt x="262" y="2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46"/>
            <p:cNvSpPr/>
            <p:nvPr/>
          </p:nvSpPr>
          <p:spPr>
            <a:xfrm>
              <a:off x="24677640" y="7553520"/>
              <a:ext cx="733320" cy="771480"/>
            </a:xfrm>
            <a:custGeom>
              <a:avLst/>
              <a:gdLst>
                <a:gd name="textAreaLeft" fmla="*/ 0 w 733320"/>
                <a:gd name="textAreaRight" fmla="*/ 733680 w 733320"/>
                <a:gd name="textAreaTop" fmla="*/ 0 h 771480"/>
                <a:gd name="textAreaBottom" fmla="*/ 771840 h 771480"/>
              </a:gdLst>
              <a:ahLst/>
              <a:rect l="textAreaLeft" t="textAreaTop" r="textAreaRight" b="textAreaBottom"/>
              <a:pathLst>
                <a:path w="462" h="486">
                  <a:moveTo>
                    <a:pt x="136" y="0"/>
                  </a:moveTo>
                  <a:lnTo>
                    <a:pt x="136" y="0"/>
                  </a:lnTo>
                  <a:lnTo>
                    <a:pt x="124" y="20"/>
                  </a:lnTo>
                  <a:lnTo>
                    <a:pt x="108" y="40"/>
                  </a:lnTo>
                  <a:lnTo>
                    <a:pt x="74" y="80"/>
                  </a:lnTo>
                  <a:lnTo>
                    <a:pt x="56" y="100"/>
                  </a:lnTo>
                  <a:lnTo>
                    <a:pt x="40" y="122"/>
                  </a:lnTo>
                  <a:lnTo>
                    <a:pt x="26" y="144"/>
                  </a:lnTo>
                  <a:lnTo>
                    <a:pt x="16" y="168"/>
                  </a:lnTo>
                  <a:lnTo>
                    <a:pt x="16" y="168"/>
                  </a:lnTo>
                  <a:lnTo>
                    <a:pt x="6" y="200"/>
                  </a:lnTo>
                  <a:lnTo>
                    <a:pt x="0" y="232"/>
                  </a:lnTo>
                  <a:lnTo>
                    <a:pt x="0" y="260"/>
                  </a:lnTo>
                  <a:lnTo>
                    <a:pt x="2" y="286"/>
                  </a:lnTo>
                  <a:lnTo>
                    <a:pt x="10" y="310"/>
                  </a:lnTo>
                  <a:lnTo>
                    <a:pt x="18" y="332"/>
                  </a:lnTo>
                  <a:lnTo>
                    <a:pt x="32" y="352"/>
                  </a:lnTo>
                  <a:lnTo>
                    <a:pt x="46" y="370"/>
                  </a:lnTo>
                  <a:lnTo>
                    <a:pt x="62" y="388"/>
                  </a:lnTo>
                  <a:lnTo>
                    <a:pt x="80" y="404"/>
                  </a:lnTo>
                  <a:lnTo>
                    <a:pt x="118" y="434"/>
                  </a:lnTo>
                  <a:lnTo>
                    <a:pt x="156" y="462"/>
                  </a:lnTo>
                  <a:lnTo>
                    <a:pt x="192" y="486"/>
                  </a:lnTo>
                  <a:lnTo>
                    <a:pt x="192" y="486"/>
                  </a:lnTo>
                  <a:lnTo>
                    <a:pt x="226" y="484"/>
                  </a:lnTo>
                  <a:lnTo>
                    <a:pt x="258" y="480"/>
                  </a:lnTo>
                  <a:lnTo>
                    <a:pt x="288" y="470"/>
                  </a:lnTo>
                  <a:lnTo>
                    <a:pt x="316" y="460"/>
                  </a:lnTo>
                  <a:lnTo>
                    <a:pt x="342" y="444"/>
                  </a:lnTo>
                  <a:lnTo>
                    <a:pt x="364" y="426"/>
                  </a:lnTo>
                  <a:lnTo>
                    <a:pt x="384" y="406"/>
                  </a:lnTo>
                  <a:lnTo>
                    <a:pt x="404" y="384"/>
                  </a:lnTo>
                  <a:lnTo>
                    <a:pt x="420" y="360"/>
                  </a:lnTo>
                  <a:lnTo>
                    <a:pt x="432" y="334"/>
                  </a:lnTo>
                  <a:lnTo>
                    <a:pt x="444" y="306"/>
                  </a:lnTo>
                  <a:lnTo>
                    <a:pt x="452" y="276"/>
                  </a:lnTo>
                  <a:lnTo>
                    <a:pt x="458" y="246"/>
                  </a:lnTo>
                  <a:lnTo>
                    <a:pt x="462" y="214"/>
                  </a:lnTo>
                  <a:lnTo>
                    <a:pt x="462" y="182"/>
                  </a:lnTo>
                  <a:lnTo>
                    <a:pt x="460" y="150"/>
                  </a:lnTo>
                  <a:lnTo>
                    <a:pt x="460" y="150"/>
                  </a:lnTo>
                  <a:lnTo>
                    <a:pt x="398" y="86"/>
                  </a:lnTo>
                  <a:lnTo>
                    <a:pt x="370" y="60"/>
                  </a:lnTo>
                  <a:lnTo>
                    <a:pt x="356" y="48"/>
                  </a:lnTo>
                  <a:lnTo>
                    <a:pt x="340" y="38"/>
                  </a:lnTo>
                  <a:lnTo>
                    <a:pt x="322" y="28"/>
                  </a:lnTo>
                  <a:lnTo>
                    <a:pt x="304" y="20"/>
                  </a:lnTo>
                  <a:lnTo>
                    <a:pt x="284" y="14"/>
                  </a:lnTo>
                  <a:lnTo>
                    <a:pt x="260" y="8"/>
                  </a:lnTo>
                  <a:lnTo>
                    <a:pt x="234" y="4"/>
                  </a:lnTo>
                  <a:lnTo>
                    <a:pt x="206" y="0"/>
                  </a:lnTo>
                  <a:lnTo>
                    <a:pt x="172" y="0"/>
                  </a:lnTo>
                  <a:lnTo>
                    <a:pt x="136" y="0"/>
                  </a:lnTo>
                  <a:lnTo>
                    <a:pt x="136" y="0"/>
                  </a:lnTo>
                  <a:close/>
                  <a:moveTo>
                    <a:pt x="202" y="380"/>
                  </a:moveTo>
                  <a:lnTo>
                    <a:pt x="202" y="380"/>
                  </a:lnTo>
                  <a:lnTo>
                    <a:pt x="178" y="358"/>
                  </a:lnTo>
                  <a:lnTo>
                    <a:pt x="156" y="336"/>
                  </a:lnTo>
                  <a:lnTo>
                    <a:pt x="146" y="322"/>
                  </a:lnTo>
                  <a:lnTo>
                    <a:pt x="138" y="308"/>
                  </a:lnTo>
                  <a:lnTo>
                    <a:pt x="132" y="292"/>
                  </a:lnTo>
                  <a:lnTo>
                    <a:pt x="126" y="274"/>
                  </a:lnTo>
                  <a:lnTo>
                    <a:pt x="126" y="274"/>
                  </a:lnTo>
                  <a:lnTo>
                    <a:pt x="124" y="264"/>
                  </a:lnTo>
                  <a:lnTo>
                    <a:pt x="122" y="256"/>
                  </a:lnTo>
                  <a:lnTo>
                    <a:pt x="122" y="246"/>
                  </a:lnTo>
                  <a:lnTo>
                    <a:pt x="124" y="234"/>
                  </a:lnTo>
                  <a:lnTo>
                    <a:pt x="132" y="212"/>
                  </a:lnTo>
                  <a:lnTo>
                    <a:pt x="144" y="188"/>
                  </a:lnTo>
                  <a:lnTo>
                    <a:pt x="156" y="164"/>
                  </a:lnTo>
                  <a:lnTo>
                    <a:pt x="170" y="142"/>
                  </a:lnTo>
                  <a:lnTo>
                    <a:pt x="192" y="106"/>
                  </a:lnTo>
                  <a:lnTo>
                    <a:pt x="192" y="106"/>
                  </a:lnTo>
                  <a:lnTo>
                    <a:pt x="214" y="102"/>
                  </a:lnTo>
                  <a:lnTo>
                    <a:pt x="222" y="100"/>
                  </a:lnTo>
                  <a:lnTo>
                    <a:pt x="228" y="96"/>
                  </a:lnTo>
                  <a:lnTo>
                    <a:pt x="228" y="96"/>
                  </a:lnTo>
                  <a:lnTo>
                    <a:pt x="290" y="118"/>
                  </a:lnTo>
                  <a:lnTo>
                    <a:pt x="314" y="128"/>
                  </a:lnTo>
                  <a:lnTo>
                    <a:pt x="340" y="140"/>
                  </a:lnTo>
                  <a:lnTo>
                    <a:pt x="340" y="140"/>
                  </a:lnTo>
                  <a:lnTo>
                    <a:pt x="344" y="164"/>
                  </a:lnTo>
                  <a:lnTo>
                    <a:pt x="348" y="186"/>
                  </a:lnTo>
                  <a:lnTo>
                    <a:pt x="348" y="208"/>
                  </a:lnTo>
                  <a:lnTo>
                    <a:pt x="346" y="230"/>
                  </a:lnTo>
                  <a:lnTo>
                    <a:pt x="342" y="248"/>
                  </a:lnTo>
                  <a:lnTo>
                    <a:pt x="338" y="266"/>
                  </a:lnTo>
                  <a:lnTo>
                    <a:pt x="330" y="284"/>
                  </a:lnTo>
                  <a:lnTo>
                    <a:pt x="322" y="300"/>
                  </a:lnTo>
                  <a:lnTo>
                    <a:pt x="312" y="316"/>
                  </a:lnTo>
                  <a:lnTo>
                    <a:pt x="300" y="328"/>
                  </a:lnTo>
                  <a:lnTo>
                    <a:pt x="288" y="340"/>
                  </a:lnTo>
                  <a:lnTo>
                    <a:pt x="272" y="352"/>
                  </a:lnTo>
                  <a:lnTo>
                    <a:pt x="256" y="362"/>
                  </a:lnTo>
                  <a:lnTo>
                    <a:pt x="240" y="370"/>
                  </a:lnTo>
                  <a:lnTo>
                    <a:pt x="220" y="376"/>
                  </a:lnTo>
                  <a:lnTo>
                    <a:pt x="202" y="380"/>
                  </a:lnTo>
                  <a:lnTo>
                    <a:pt x="202" y="3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グループ化 89"/>
          <p:cNvGrpSpPr/>
          <p:nvPr/>
        </p:nvGrpSpPr>
        <p:grpSpPr>
          <a:xfrm>
            <a:off x="7469280" y="1320840"/>
            <a:ext cx="8350200" cy="3222720"/>
            <a:chOff x="7469280" y="1320840"/>
            <a:chExt cx="8350200" cy="3222720"/>
          </a:xfrm>
        </p:grpSpPr>
        <p:sp>
          <p:nvSpPr>
            <p:cNvPr id="79" name="Freeform 47"/>
            <p:cNvSpPr/>
            <p:nvPr/>
          </p:nvSpPr>
          <p:spPr>
            <a:xfrm>
              <a:off x="12431880" y="1320840"/>
              <a:ext cx="371160" cy="73332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733320"/>
                <a:gd name="textAreaBottom" fmla="*/ 733680 h 733320"/>
              </a:gdLst>
              <a:ahLst/>
              <a:rect l="textAreaLeft" t="textAreaTop" r="textAreaRight" b="textAreaBottom"/>
              <a:pathLst>
                <a:path w="234" h="462">
                  <a:moveTo>
                    <a:pt x="64" y="462"/>
                  </a:moveTo>
                  <a:lnTo>
                    <a:pt x="64" y="462"/>
                  </a:lnTo>
                  <a:lnTo>
                    <a:pt x="164" y="462"/>
                  </a:lnTo>
                  <a:lnTo>
                    <a:pt x="164" y="462"/>
                  </a:lnTo>
                  <a:lnTo>
                    <a:pt x="174" y="426"/>
                  </a:lnTo>
                  <a:lnTo>
                    <a:pt x="188" y="386"/>
                  </a:lnTo>
                  <a:lnTo>
                    <a:pt x="202" y="340"/>
                  </a:lnTo>
                  <a:lnTo>
                    <a:pt x="216" y="294"/>
                  </a:lnTo>
                  <a:lnTo>
                    <a:pt x="226" y="250"/>
                  </a:lnTo>
                  <a:lnTo>
                    <a:pt x="230" y="228"/>
                  </a:lnTo>
                  <a:lnTo>
                    <a:pt x="232" y="208"/>
                  </a:lnTo>
                  <a:lnTo>
                    <a:pt x="234" y="188"/>
                  </a:lnTo>
                  <a:lnTo>
                    <a:pt x="232" y="170"/>
                  </a:lnTo>
                  <a:lnTo>
                    <a:pt x="230" y="154"/>
                  </a:lnTo>
                  <a:lnTo>
                    <a:pt x="224" y="140"/>
                  </a:lnTo>
                  <a:lnTo>
                    <a:pt x="224" y="140"/>
                  </a:lnTo>
                  <a:lnTo>
                    <a:pt x="222" y="106"/>
                  </a:lnTo>
                  <a:lnTo>
                    <a:pt x="218" y="82"/>
                  </a:lnTo>
                  <a:lnTo>
                    <a:pt x="212" y="62"/>
                  </a:lnTo>
                  <a:lnTo>
                    <a:pt x="204" y="40"/>
                  </a:lnTo>
                  <a:lnTo>
                    <a:pt x="204" y="40"/>
                  </a:lnTo>
                  <a:lnTo>
                    <a:pt x="168" y="24"/>
                  </a:lnTo>
                  <a:lnTo>
                    <a:pt x="134" y="12"/>
                  </a:lnTo>
                  <a:lnTo>
                    <a:pt x="114" y="8"/>
                  </a:lnTo>
                  <a:lnTo>
                    <a:pt x="94" y="4"/>
                  </a:lnTo>
                  <a:lnTo>
                    <a:pt x="70" y="2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6" y="18"/>
                  </a:lnTo>
                  <a:lnTo>
                    <a:pt x="28" y="38"/>
                  </a:lnTo>
                  <a:lnTo>
                    <a:pt x="20" y="62"/>
                  </a:lnTo>
                  <a:lnTo>
                    <a:pt x="14" y="90"/>
                  </a:lnTo>
                  <a:lnTo>
                    <a:pt x="8" y="118"/>
                  </a:lnTo>
                  <a:lnTo>
                    <a:pt x="4" y="148"/>
                  </a:lnTo>
                  <a:lnTo>
                    <a:pt x="2" y="180"/>
                  </a:lnTo>
                  <a:lnTo>
                    <a:pt x="0" y="210"/>
                  </a:lnTo>
                  <a:lnTo>
                    <a:pt x="0" y="242"/>
                  </a:lnTo>
                  <a:lnTo>
                    <a:pt x="0" y="272"/>
                  </a:lnTo>
                  <a:lnTo>
                    <a:pt x="4" y="302"/>
                  </a:lnTo>
                  <a:lnTo>
                    <a:pt x="8" y="332"/>
                  </a:lnTo>
                  <a:lnTo>
                    <a:pt x="14" y="358"/>
                  </a:lnTo>
                  <a:lnTo>
                    <a:pt x="22" y="382"/>
                  </a:lnTo>
                  <a:lnTo>
                    <a:pt x="32" y="404"/>
                  </a:lnTo>
                  <a:lnTo>
                    <a:pt x="44" y="422"/>
                  </a:lnTo>
                  <a:lnTo>
                    <a:pt x="44" y="422"/>
                  </a:lnTo>
                  <a:lnTo>
                    <a:pt x="64" y="462"/>
                  </a:lnTo>
                  <a:lnTo>
                    <a:pt x="64" y="462"/>
                  </a:lnTo>
                  <a:close/>
                </a:path>
              </a:pathLst>
            </a:custGeom>
            <a:solidFill>
              <a:srgbClr val="1d20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48"/>
            <p:cNvSpPr/>
            <p:nvPr/>
          </p:nvSpPr>
          <p:spPr>
            <a:xfrm>
              <a:off x="11828520" y="1415880"/>
              <a:ext cx="387360" cy="57456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244" h="362">
                  <a:moveTo>
                    <a:pt x="244" y="342"/>
                  </a:moveTo>
                  <a:lnTo>
                    <a:pt x="244" y="342"/>
                  </a:lnTo>
                  <a:lnTo>
                    <a:pt x="240" y="288"/>
                  </a:lnTo>
                  <a:lnTo>
                    <a:pt x="236" y="242"/>
                  </a:lnTo>
                  <a:lnTo>
                    <a:pt x="228" y="200"/>
                  </a:lnTo>
                  <a:lnTo>
                    <a:pt x="220" y="162"/>
                  </a:lnTo>
                  <a:lnTo>
                    <a:pt x="208" y="126"/>
                  </a:lnTo>
                  <a:lnTo>
                    <a:pt x="194" y="90"/>
                  </a:lnTo>
                  <a:lnTo>
                    <a:pt x="162" y="20"/>
                  </a:lnTo>
                  <a:lnTo>
                    <a:pt x="162" y="2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28" y="1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0" y="44"/>
                  </a:lnTo>
                  <a:lnTo>
                    <a:pt x="0" y="68"/>
                  </a:lnTo>
                  <a:lnTo>
                    <a:pt x="2" y="90"/>
                  </a:lnTo>
                  <a:lnTo>
                    <a:pt x="6" y="112"/>
                  </a:lnTo>
                  <a:lnTo>
                    <a:pt x="12" y="134"/>
                  </a:lnTo>
                  <a:lnTo>
                    <a:pt x="18" y="154"/>
                  </a:lnTo>
                  <a:lnTo>
                    <a:pt x="32" y="196"/>
                  </a:lnTo>
                  <a:lnTo>
                    <a:pt x="50" y="236"/>
                  </a:lnTo>
                  <a:lnTo>
                    <a:pt x="68" y="276"/>
                  </a:lnTo>
                  <a:lnTo>
                    <a:pt x="86" y="318"/>
                  </a:lnTo>
                  <a:lnTo>
                    <a:pt x="102" y="362"/>
                  </a:lnTo>
                  <a:lnTo>
                    <a:pt x="102" y="362"/>
                  </a:lnTo>
                  <a:lnTo>
                    <a:pt x="146" y="360"/>
                  </a:lnTo>
                  <a:lnTo>
                    <a:pt x="182" y="356"/>
                  </a:lnTo>
                  <a:lnTo>
                    <a:pt x="214" y="350"/>
                  </a:lnTo>
                  <a:lnTo>
                    <a:pt x="244" y="342"/>
                  </a:lnTo>
                  <a:lnTo>
                    <a:pt x="244" y="342"/>
                  </a:lnTo>
                  <a:close/>
                </a:path>
              </a:pathLst>
            </a:custGeom>
            <a:solidFill>
              <a:srgbClr val="1d20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49"/>
            <p:cNvSpPr/>
            <p:nvPr/>
          </p:nvSpPr>
          <p:spPr>
            <a:xfrm>
              <a:off x="7469280" y="2022480"/>
              <a:ext cx="2000160" cy="2521080"/>
            </a:xfrm>
            <a:custGeom>
              <a:avLst/>
              <a:gdLst>
                <a:gd name="textAreaLeft" fmla="*/ 0 w 2000160"/>
                <a:gd name="textAreaRight" fmla="*/ 2000520 w 2000160"/>
                <a:gd name="textAreaTop" fmla="*/ 0 h 2521080"/>
                <a:gd name="textAreaBottom" fmla="*/ 2521440 h 2521080"/>
              </a:gdLst>
              <a:ahLst/>
              <a:rect l="textAreaLeft" t="textAreaTop" r="textAreaRight" b="textAreaBottom"/>
              <a:pathLst>
                <a:path w="1260" h="1588">
                  <a:moveTo>
                    <a:pt x="1160" y="824"/>
                  </a:moveTo>
                  <a:lnTo>
                    <a:pt x="1160" y="824"/>
                  </a:lnTo>
                  <a:lnTo>
                    <a:pt x="1140" y="826"/>
                  </a:lnTo>
                  <a:lnTo>
                    <a:pt x="1122" y="832"/>
                  </a:lnTo>
                  <a:lnTo>
                    <a:pt x="1104" y="838"/>
                  </a:lnTo>
                  <a:lnTo>
                    <a:pt x="1088" y="844"/>
                  </a:lnTo>
                  <a:lnTo>
                    <a:pt x="1070" y="854"/>
                  </a:lnTo>
                  <a:lnTo>
                    <a:pt x="1056" y="864"/>
                  </a:lnTo>
                  <a:lnTo>
                    <a:pt x="1026" y="886"/>
                  </a:lnTo>
                  <a:lnTo>
                    <a:pt x="998" y="912"/>
                  </a:lnTo>
                  <a:lnTo>
                    <a:pt x="972" y="942"/>
                  </a:lnTo>
                  <a:lnTo>
                    <a:pt x="948" y="972"/>
                  </a:lnTo>
                  <a:lnTo>
                    <a:pt x="924" y="1006"/>
                  </a:lnTo>
                  <a:lnTo>
                    <a:pt x="880" y="1074"/>
                  </a:lnTo>
                  <a:lnTo>
                    <a:pt x="836" y="1140"/>
                  </a:lnTo>
                  <a:lnTo>
                    <a:pt x="814" y="1172"/>
                  </a:lnTo>
                  <a:lnTo>
                    <a:pt x="790" y="1200"/>
                  </a:lnTo>
                  <a:lnTo>
                    <a:pt x="764" y="1224"/>
                  </a:lnTo>
                  <a:lnTo>
                    <a:pt x="738" y="1246"/>
                  </a:lnTo>
                  <a:lnTo>
                    <a:pt x="738" y="1246"/>
                  </a:lnTo>
                  <a:lnTo>
                    <a:pt x="714" y="1260"/>
                  </a:lnTo>
                  <a:lnTo>
                    <a:pt x="692" y="1272"/>
                  </a:lnTo>
                  <a:lnTo>
                    <a:pt x="650" y="1290"/>
                  </a:lnTo>
                  <a:lnTo>
                    <a:pt x="630" y="1300"/>
                  </a:lnTo>
                  <a:lnTo>
                    <a:pt x="612" y="1312"/>
                  </a:lnTo>
                  <a:lnTo>
                    <a:pt x="594" y="1326"/>
                  </a:lnTo>
                  <a:lnTo>
                    <a:pt x="576" y="1346"/>
                  </a:lnTo>
                  <a:lnTo>
                    <a:pt x="576" y="1346"/>
                  </a:lnTo>
                  <a:lnTo>
                    <a:pt x="538" y="1348"/>
                  </a:lnTo>
                  <a:lnTo>
                    <a:pt x="508" y="1352"/>
                  </a:lnTo>
                  <a:lnTo>
                    <a:pt x="482" y="1358"/>
                  </a:lnTo>
                  <a:lnTo>
                    <a:pt x="456" y="1366"/>
                  </a:lnTo>
                  <a:lnTo>
                    <a:pt x="456" y="1366"/>
                  </a:lnTo>
                  <a:lnTo>
                    <a:pt x="426" y="1342"/>
                  </a:lnTo>
                  <a:lnTo>
                    <a:pt x="398" y="1320"/>
                  </a:lnTo>
                  <a:lnTo>
                    <a:pt x="368" y="1302"/>
                  </a:lnTo>
                  <a:lnTo>
                    <a:pt x="342" y="1282"/>
                  </a:lnTo>
                  <a:lnTo>
                    <a:pt x="316" y="1260"/>
                  </a:lnTo>
                  <a:lnTo>
                    <a:pt x="304" y="1248"/>
                  </a:lnTo>
                  <a:lnTo>
                    <a:pt x="292" y="1234"/>
                  </a:lnTo>
                  <a:lnTo>
                    <a:pt x="282" y="1220"/>
                  </a:lnTo>
                  <a:lnTo>
                    <a:pt x="272" y="1204"/>
                  </a:lnTo>
                  <a:lnTo>
                    <a:pt x="262" y="1186"/>
                  </a:lnTo>
                  <a:lnTo>
                    <a:pt x="254" y="1166"/>
                  </a:lnTo>
                  <a:lnTo>
                    <a:pt x="254" y="1166"/>
                  </a:lnTo>
                  <a:lnTo>
                    <a:pt x="242" y="1142"/>
                  </a:lnTo>
                  <a:lnTo>
                    <a:pt x="230" y="1116"/>
                  </a:lnTo>
                  <a:lnTo>
                    <a:pt x="222" y="1088"/>
                  </a:lnTo>
                  <a:lnTo>
                    <a:pt x="214" y="1058"/>
                  </a:lnTo>
                  <a:lnTo>
                    <a:pt x="208" y="1026"/>
                  </a:lnTo>
                  <a:lnTo>
                    <a:pt x="204" y="994"/>
                  </a:lnTo>
                  <a:lnTo>
                    <a:pt x="202" y="960"/>
                  </a:lnTo>
                  <a:lnTo>
                    <a:pt x="200" y="924"/>
                  </a:lnTo>
                  <a:lnTo>
                    <a:pt x="200" y="850"/>
                  </a:lnTo>
                  <a:lnTo>
                    <a:pt x="204" y="774"/>
                  </a:lnTo>
                  <a:lnTo>
                    <a:pt x="210" y="696"/>
                  </a:lnTo>
                  <a:lnTo>
                    <a:pt x="218" y="616"/>
                  </a:lnTo>
                  <a:lnTo>
                    <a:pt x="232" y="458"/>
                  </a:lnTo>
                  <a:lnTo>
                    <a:pt x="238" y="382"/>
                  </a:lnTo>
                  <a:lnTo>
                    <a:pt x="240" y="310"/>
                  </a:lnTo>
                  <a:lnTo>
                    <a:pt x="238" y="276"/>
                  </a:lnTo>
                  <a:lnTo>
                    <a:pt x="238" y="242"/>
                  </a:lnTo>
                  <a:lnTo>
                    <a:pt x="234" y="210"/>
                  </a:lnTo>
                  <a:lnTo>
                    <a:pt x="230" y="180"/>
                  </a:lnTo>
                  <a:lnTo>
                    <a:pt x="224" y="152"/>
                  </a:lnTo>
                  <a:lnTo>
                    <a:pt x="216" y="126"/>
                  </a:lnTo>
                  <a:lnTo>
                    <a:pt x="206" y="102"/>
                  </a:lnTo>
                  <a:lnTo>
                    <a:pt x="194" y="80"/>
                  </a:lnTo>
                  <a:lnTo>
                    <a:pt x="194" y="80"/>
                  </a:lnTo>
                  <a:lnTo>
                    <a:pt x="184" y="60"/>
                  </a:lnTo>
                  <a:lnTo>
                    <a:pt x="172" y="44"/>
                  </a:lnTo>
                  <a:lnTo>
                    <a:pt x="158" y="30"/>
                  </a:lnTo>
                  <a:lnTo>
                    <a:pt x="144" y="20"/>
                  </a:lnTo>
                  <a:lnTo>
                    <a:pt x="126" y="12"/>
                  </a:lnTo>
                  <a:lnTo>
                    <a:pt x="106" y="8"/>
                  </a:lnTo>
                  <a:lnTo>
                    <a:pt x="82" y="2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0" y="8"/>
                  </a:lnTo>
                  <a:lnTo>
                    <a:pt x="46" y="22"/>
                  </a:lnTo>
                  <a:lnTo>
                    <a:pt x="40" y="64"/>
                  </a:lnTo>
                  <a:lnTo>
                    <a:pt x="32" y="122"/>
                  </a:lnTo>
                  <a:lnTo>
                    <a:pt x="26" y="192"/>
                  </a:lnTo>
                  <a:lnTo>
                    <a:pt x="20" y="274"/>
                  </a:lnTo>
                  <a:lnTo>
                    <a:pt x="14" y="364"/>
                  </a:lnTo>
                  <a:lnTo>
                    <a:pt x="8" y="460"/>
                  </a:lnTo>
                  <a:lnTo>
                    <a:pt x="4" y="560"/>
                  </a:lnTo>
                  <a:lnTo>
                    <a:pt x="2" y="662"/>
                  </a:lnTo>
                  <a:lnTo>
                    <a:pt x="0" y="762"/>
                  </a:lnTo>
                  <a:lnTo>
                    <a:pt x="0" y="858"/>
                  </a:lnTo>
                  <a:lnTo>
                    <a:pt x="2" y="950"/>
                  </a:lnTo>
                  <a:lnTo>
                    <a:pt x="8" y="1032"/>
                  </a:lnTo>
                  <a:lnTo>
                    <a:pt x="14" y="1104"/>
                  </a:lnTo>
                  <a:lnTo>
                    <a:pt x="22" y="1162"/>
                  </a:lnTo>
                  <a:lnTo>
                    <a:pt x="28" y="1186"/>
                  </a:lnTo>
                  <a:lnTo>
                    <a:pt x="34" y="1206"/>
                  </a:lnTo>
                  <a:lnTo>
                    <a:pt x="34" y="1206"/>
                  </a:lnTo>
                  <a:lnTo>
                    <a:pt x="48" y="1242"/>
                  </a:lnTo>
                  <a:lnTo>
                    <a:pt x="66" y="1274"/>
                  </a:lnTo>
                  <a:lnTo>
                    <a:pt x="84" y="1304"/>
                  </a:lnTo>
                  <a:lnTo>
                    <a:pt x="104" y="1332"/>
                  </a:lnTo>
                  <a:lnTo>
                    <a:pt x="126" y="1356"/>
                  </a:lnTo>
                  <a:lnTo>
                    <a:pt x="150" y="1380"/>
                  </a:lnTo>
                  <a:lnTo>
                    <a:pt x="174" y="1402"/>
                  </a:lnTo>
                  <a:lnTo>
                    <a:pt x="200" y="1422"/>
                  </a:lnTo>
                  <a:lnTo>
                    <a:pt x="252" y="1462"/>
                  </a:lnTo>
                  <a:lnTo>
                    <a:pt x="308" y="1502"/>
                  </a:lnTo>
                  <a:lnTo>
                    <a:pt x="362" y="1542"/>
                  </a:lnTo>
                  <a:lnTo>
                    <a:pt x="390" y="1564"/>
                  </a:lnTo>
                  <a:lnTo>
                    <a:pt x="416" y="1588"/>
                  </a:lnTo>
                  <a:lnTo>
                    <a:pt x="416" y="1588"/>
                  </a:lnTo>
                  <a:lnTo>
                    <a:pt x="462" y="1586"/>
                  </a:lnTo>
                  <a:lnTo>
                    <a:pt x="506" y="1582"/>
                  </a:lnTo>
                  <a:lnTo>
                    <a:pt x="548" y="1578"/>
                  </a:lnTo>
                  <a:lnTo>
                    <a:pt x="588" y="1570"/>
                  </a:lnTo>
                  <a:lnTo>
                    <a:pt x="626" y="1562"/>
                  </a:lnTo>
                  <a:lnTo>
                    <a:pt x="662" y="1550"/>
                  </a:lnTo>
                  <a:lnTo>
                    <a:pt x="696" y="1540"/>
                  </a:lnTo>
                  <a:lnTo>
                    <a:pt x="730" y="1526"/>
                  </a:lnTo>
                  <a:lnTo>
                    <a:pt x="760" y="1512"/>
                  </a:lnTo>
                  <a:lnTo>
                    <a:pt x="790" y="1496"/>
                  </a:lnTo>
                  <a:lnTo>
                    <a:pt x="818" y="1478"/>
                  </a:lnTo>
                  <a:lnTo>
                    <a:pt x="844" y="1460"/>
                  </a:lnTo>
                  <a:lnTo>
                    <a:pt x="870" y="1442"/>
                  </a:lnTo>
                  <a:lnTo>
                    <a:pt x="894" y="1420"/>
                  </a:lnTo>
                  <a:lnTo>
                    <a:pt x="918" y="1400"/>
                  </a:lnTo>
                  <a:lnTo>
                    <a:pt x="942" y="1378"/>
                  </a:lnTo>
                  <a:lnTo>
                    <a:pt x="984" y="1332"/>
                  </a:lnTo>
                  <a:lnTo>
                    <a:pt x="1024" y="1282"/>
                  </a:lnTo>
                  <a:lnTo>
                    <a:pt x="1064" y="1230"/>
                  </a:lnTo>
                  <a:lnTo>
                    <a:pt x="1102" y="1178"/>
                  </a:lnTo>
                  <a:lnTo>
                    <a:pt x="1178" y="1070"/>
                  </a:lnTo>
                  <a:lnTo>
                    <a:pt x="1218" y="1018"/>
                  </a:lnTo>
                  <a:lnTo>
                    <a:pt x="1260" y="964"/>
                  </a:lnTo>
                  <a:lnTo>
                    <a:pt x="1260" y="964"/>
                  </a:lnTo>
                  <a:lnTo>
                    <a:pt x="1254" y="928"/>
                  </a:lnTo>
                  <a:lnTo>
                    <a:pt x="1248" y="904"/>
                  </a:lnTo>
                  <a:lnTo>
                    <a:pt x="1244" y="894"/>
                  </a:lnTo>
                  <a:lnTo>
                    <a:pt x="1238" y="886"/>
                  </a:lnTo>
                  <a:lnTo>
                    <a:pt x="1220" y="864"/>
                  </a:lnTo>
                  <a:lnTo>
                    <a:pt x="1220" y="864"/>
                  </a:lnTo>
                  <a:lnTo>
                    <a:pt x="1206" y="854"/>
                  </a:lnTo>
                  <a:lnTo>
                    <a:pt x="1190" y="844"/>
                  </a:lnTo>
                  <a:lnTo>
                    <a:pt x="1174" y="834"/>
                  </a:lnTo>
                  <a:lnTo>
                    <a:pt x="1160" y="824"/>
                  </a:lnTo>
                  <a:lnTo>
                    <a:pt x="1160" y="824"/>
                  </a:lnTo>
                  <a:close/>
                </a:path>
              </a:pathLst>
            </a:custGeom>
            <a:solidFill>
              <a:srgbClr val="1d20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50"/>
            <p:cNvSpPr/>
            <p:nvPr/>
          </p:nvSpPr>
          <p:spPr>
            <a:xfrm>
              <a:off x="10809360" y="2276640"/>
              <a:ext cx="1438200" cy="2203560"/>
            </a:xfrm>
            <a:custGeom>
              <a:avLst/>
              <a:gdLst>
                <a:gd name="textAreaLeft" fmla="*/ 0 w 1438200"/>
                <a:gd name="textAreaRight" fmla="*/ 1438560 w 143820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906" h="1388">
                  <a:moveTo>
                    <a:pt x="564" y="262"/>
                  </a:moveTo>
                  <a:lnTo>
                    <a:pt x="564" y="262"/>
                  </a:lnTo>
                  <a:lnTo>
                    <a:pt x="560" y="244"/>
                  </a:lnTo>
                  <a:lnTo>
                    <a:pt x="560" y="224"/>
                  </a:lnTo>
                  <a:lnTo>
                    <a:pt x="560" y="184"/>
                  </a:lnTo>
                  <a:lnTo>
                    <a:pt x="560" y="162"/>
                  </a:lnTo>
                  <a:lnTo>
                    <a:pt x="558" y="140"/>
                  </a:lnTo>
                  <a:lnTo>
                    <a:pt x="552" y="120"/>
                  </a:lnTo>
                  <a:lnTo>
                    <a:pt x="548" y="110"/>
                  </a:lnTo>
                  <a:lnTo>
                    <a:pt x="544" y="100"/>
                  </a:lnTo>
                  <a:lnTo>
                    <a:pt x="544" y="100"/>
                  </a:lnTo>
                  <a:lnTo>
                    <a:pt x="532" y="78"/>
                  </a:lnTo>
                  <a:lnTo>
                    <a:pt x="520" y="58"/>
                  </a:lnTo>
                  <a:lnTo>
                    <a:pt x="504" y="44"/>
                  </a:lnTo>
                  <a:lnTo>
                    <a:pt x="488" y="34"/>
                  </a:lnTo>
                  <a:lnTo>
                    <a:pt x="470" y="24"/>
                  </a:lnTo>
                  <a:lnTo>
                    <a:pt x="450" y="16"/>
                  </a:lnTo>
                  <a:lnTo>
                    <a:pt x="402" y="0"/>
                  </a:lnTo>
                  <a:lnTo>
                    <a:pt x="402" y="0"/>
                  </a:lnTo>
                  <a:lnTo>
                    <a:pt x="382" y="34"/>
                  </a:lnTo>
                  <a:lnTo>
                    <a:pt x="366" y="70"/>
                  </a:lnTo>
                  <a:lnTo>
                    <a:pt x="352" y="106"/>
                  </a:lnTo>
                  <a:lnTo>
                    <a:pt x="340" y="146"/>
                  </a:lnTo>
                  <a:lnTo>
                    <a:pt x="332" y="188"/>
                  </a:lnTo>
                  <a:lnTo>
                    <a:pt x="326" y="234"/>
                  </a:lnTo>
                  <a:lnTo>
                    <a:pt x="322" y="286"/>
                  </a:lnTo>
                  <a:lnTo>
                    <a:pt x="322" y="342"/>
                  </a:lnTo>
                  <a:lnTo>
                    <a:pt x="322" y="342"/>
                  </a:lnTo>
                  <a:lnTo>
                    <a:pt x="280" y="364"/>
                  </a:lnTo>
                  <a:lnTo>
                    <a:pt x="240" y="388"/>
                  </a:lnTo>
                  <a:lnTo>
                    <a:pt x="160" y="436"/>
                  </a:lnTo>
                  <a:lnTo>
                    <a:pt x="122" y="462"/>
                  </a:lnTo>
                  <a:lnTo>
                    <a:pt x="82" y="484"/>
                  </a:lnTo>
                  <a:lnTo>
                    <a:pt x="42" y="506"/>
                  </a:lnTo>
                  <a:lnTo>
                    <a:pt x="0" y="522"/>
                  </a:lnTo>
                  <a:lnTo>
                    <a:pt x="0" y="522"/>
                  </a:lnTo>
                  <a:lnTo>
                    <a:pt x="4" y="554"/>
                  </a:lnTo>
                  <a:lnTo>
                    <a:pt x="10" y="582"/>
                  </a:lnTo>
                  <a:lnTo>
                    <a:pt x="20" y="606"/>
                  </a:lnTo>
                  <a:lnTo>
                    <a:pt x="34" y="628"/>
                  </a:lnTo>
                  <a:lnTo>
                    <a:pt x="48" y="646"/>
                  </a:lnTo>
                  <a:lnTo>
                    <a:pt x="66" y="660"/>
                  </a:lnTo>
                  <a:lnTo>
                    <a:pt x="86" y="672"/>
                  </a:lnTo>
                  <a:lnTo>
                    <a:pt x="106" y="680"/>
                  </a:lnTo>
                  <a:lnTo>
                    <a:pt x="128" y="684"/>
                  </a:lnTo>
                  <a:lnTo>
                    <a:pt x="150" y="686"/>
                  </a:lnTo>
                  <a:lnTo>
                    <a:pt x="174" y="684"/>
                  </a:lnTo>
                  <a:lnTo>
                    <a:pt x="196" y="678"/>
                  </a:lnTo>
                  <a:lnTo>
                    <a:pt x="220" y="670"/>
                  </a:lnTo>
                  <a:lnTo>
                    <a:pt x="242" y="658"/>
                  </a:lnTo>
                  <a:lnTo>
                    <a:pt x="262" y="642"/>
                  </a:lnTo>
                  <a:lnTo>
                    <a:pt x="282" y="624"/>
                  </a:lnTo>
                  <a:lnTo>
                    <a:pt x="282" y="624"/>
                  </a:lnTo>
                  <a:lnTo>
                    <a:pt x="302" y="624"/>
                  </a:lnTo>
                  <a:lnTo>
                    <a:pt x="302" y="624"/>
                  </a:lnTo>
                  <a:lnTo>
                    <a:pt x="300" y="710"/>
                  </a:lnTo>
                  <a:lnTo>
                    <a:pt x="296" y="754"/>
                  </a:lnTo>
                  <a:lnTo>
                    <a:pt x="292" y="798"/>
                  </a:lnTo>
                  <a:lnTo>
                    <a:pt x="286" y="840"/>
                  </a:lnTo>
                  <a:lnTo>
                    <a:pt x="278" y="882"/>
                  </a:lnTo>
                  <a:lnTo>
                    <a:pt x="270" y="922"/>
                  </a:lnTo>
                  <a:lnTo>
                    <a:pt x="260" y="962"/>
                  </a:lnTo>
                  <a:lnTo>
                    <a:pt x="248" y="1000"/>
                  </a:lnTo>
                  <a:lnTo>
                    <a:pt x="236" y="1038"/>
                  </a:lnTo>
                  <a:lnTo>
                    <a:pt x="220" y="1072"/>
                  </a:lnTo>
                  <a:lnTo>
                    <a:pt x="204" y="1104"/>
                  </a:lnTo>
                  <a:lnTo>
                    <a:pt x="186" y="1134"/>
                  </a:lnTo>
                  <a:lnTo>
                    <a:pt x="166" y="1162"/>
                  </a:lnTo>
                  <a:lnTo>
                    <a:pt x="144" y="1186"/>
                  </a:lnTo>
                  <a:lnTo>
                    <a:pt x="122" y="1206"/>
                  </a:lnTo>
                  <a:lnTo>
                    <a:pt x="122" y="1206"/>
                  </a:lnTo>
                  <a:lnTo>
                    <a:pt x="124" y="1246"/>
                  </a:lnTo>
                  <a:lnTo>
                    <a:pt x="128" y="1276"/>
                  </a:lnTo>
                  <a:lnTo>
                    <a:pt x="134" y="1300"/>
                  </a:lnTo>
                  <a:lnTo>
                    <a:pt x="142" y="1320"/>
                  </a:lnTo>
                  <a:lnTo>
                    <a:pt x="154" y="1336"/>
                  </a:lnTo>
                  <a:lnTo>
                    <a:pt x="166" y="1352"/>
                  </a:lnTo>
                  <a:lnTo>
                    <a:pt x="202" y="1388"/>
                  </a:lnTo>
                  <a:lnTo>
                    <a:pt x="202" y="1388"/>
                  </a:lnTo>
                  <a:lnTo>
                    <a:pt x="234" y="1384"/>
                  </a:lnTo>
                  <a:lnTo>
                    <a:pt x="264" y="1378"/>
                  </a:lnTo>
                  <a:lnTo>
                    <a:pt x="292" y="1368"/>
                  </a:lnTo>
                  <a:lnTo>
                    <a:pt x="316" y="1356"/>
                  </a:lnTo>
                  <a:lnTo>
                    <a:pt x="340" y="1342"/>
                  </a:lnTo>
                  <a:lnTo>
                    <a:pt x="360" y="1326"/>
                  </a:lnTo>
                  <a:lnTo>
                    <a:pt x="380" y="1306"/>
                  </a:lnTo>
                  <a:lnTo>
                    <a:pt x="396" y="1284"/>
                  </a:lnTo>
                  <a:lnTo>
                    <a:pt x="412" y="1260"/>
                  </a:lnTo>
                  <a:lnTo>
                    <a:pt x="426" y="1236"/>
                  </a:lnTo>
                  <a:lnTo>
                    <a:pt x="438" y="1208"/>
                  </a:lnTo>
                  <a:lnTo>
                    <a:pt x="450" y="1180"/>
                  </a:lnTo>
                  <a:lnTo>
                    <a:pt x="460" y="1150"/>
                  </a:lnTo>
                  <a:lnTo>
                    <a:pt x="468" y="1118"/>
                  </a:lnTo>
                  <a:lnTo>
                    <a:pt x="484" y="1052"/>
                  </a:lnTo>
                  <a:lnTo>
                    <a:pt x="496" y="982"/>
                  </a:lnTo>
                  <a:lnTo>
                    <a:pt x="504" y="912"/>
                  </a:lnTo>
                  <a:lnTo>
                    <a:pt x="520" y="766"/>
                  </a:lnTo>
                  <a:lnTo>
                    <a:pt x="528" y="696"/>
                  </a:lnTo>
                  <a:lnTo>
                    <a:pt x="538" y="628"/>
                  </a:lnTo>
                  <a:lnTo>
                    <a:pt x="548" y="562"/>
                  </a:lnTo>
                  <a:lnTo>
                    <a:pt x="556" y="532"/>
                  </a:lnTo>
                  <a:lnTo>
                    <a:pt x="564" y="502"/>
                  </a:lnTo>
                  <a:lnTo>
                    <a:pt x="564" y="502"/>
                  </a:lnTo>
                  <a:lnTo>
                    <a:pt x="654" y="482"/>
                  </a:lnTo>
                  <a:lnTo>
                    <a:pt x="702" y="470"/>
                  </a:lnTo>
                  <a:lnTo>
                    <a:pt x="748" y="456"/>
                  </a:lnTo>
                  <a:lnTo>
                    <a:pt x="792" y="442"/>
                  </a:lnTo>
                  <a:lnTo>
                    <a:pt x="834" y="424"/>
                  </a:lnTo>
                  <a:lnTo>
                    <a:pt x="872" y="404"/>
                  </a:lnTo>
                  <a:lnTo>
                    <a:pt x="890" y="394"/>
                  </a:lnTo>
                  <a:lnTo>
                    <a:pt x="906" y="382"/>
                  </a:lnTo>
                  <a:lnTo>
                    <a:pt x="906" y="382"/>
                  </a:lnTo>
                  <a:lnTo>
                    <a:pt x="900" y="360"/>
                  </a:lnTo>
                  <a:lnTo>
                    <a:pt x="896" y="342"/>
                  </a:lnTo>
                  <a:lnTo>
                    <a:pt x="886" y="318"/>
                  </a:lnTo>
                  <a:lnTo>
                    <a:pt x="876" y="296"/>
                  </a:lnTo>
                  <a:lnTo>
                    <a:pt x="864" y="262"/>
                  </a:lnTo>
                  <a:lnTo>
                    <a:pt x="864" y="262"/>
                  </a:lnTo>
                  <a:lnTo>
                    <a:pt x="792" y="252"/>
                  </a:lnTo>
                  <a:lnTo>
                    <a:pt x="752" y="248"/>
                  </a:lnTo>
                  <a:lnTo>
                    <a:pt x="712" y="246"/>
                  </a:lnTo>
                  <a:lnTo>
                    <a:pt x="674" y="244"/>
                  </a:lnTo>
                  <a:lnTo>
                    <a:pt x="634" y="246"/>
                  </a:lnTo>
                  <a:lnTo>
                    <a:pt x="598" y="252"/>
                  </a:lnTo>
                  <a:lnTo>
                    <a:pt x="580" y="256"/>
                  </a:lnTo>
                  <a:lnTo>
                    <a:pt x="564" y="262"/>
                  </a:lnTo>
                  <a:lnTo>
                    <a:pt x="564" y="262"/>
                  </a:lnTo>
                  <a:close/>
                </a:path>
              </a:pathLst>
            </a:custGeom>
            <a:solidFill>
              <a:srgbClr val="1d20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51"/>
            <p:cNvSpPr/>
            <p:nvPr/>
          </p:nvSpPr>
          <p:spPr>
            <a:xfrm>
              <a:off x="9945720" y="2371680"/>
              <a:ext cx="799920" cy="1895400"/>
            </a:xfrm>
            <a:custGeom>
              <a:avLst/>
              <a:gdLst>
                <a:gd name="textAreaLeft" fmla="*/ 0 w 799920"/>
                <a:gd name="textAreaRight" fmla="*/ 800280 w 799920"/>
                <a:gd name="textAreaTop" fmla="*/ 0 h 1895400"/>
                <a:gd name="textAreaBottom" fmla="*/ 1895760 h 1895400"/>
              </a:gdLst>
              <a:ahLst/>
              <a:rect l="textAreaLeft" t="textAreaTop" r="textAreaRight" b="textAreaBottom"/>
              <a:pathLst>
                <a:path w="504" h="1194">
                  <a:moveTo>
                    <a:pt x="304" y="906"/>
                  </a:moveTo>
                  <a:lnTo>
                    <a:pt x="304" y="906"/>
                  </a:lnTo>
                  <a:lnTo>
                    <a:pt x="264" y="906"/>
                  </a:lnTo>
                  <a:lnTo>
                    <a:pt x="264" y="906"/>
                  </a:lnTo>
                  <a:lnTo>
                    <a:pt x="262" y="806"/>
                  </a:lnTo>
                  <a:lnTo>
                    <a:pt x="262" y="702"/>
                  </a:lnTo>
                  <a:lnTo>
                    <a:pt x="266" y="486"/>
                  </a:lnTo>
                  <a:lnTo>
                    <a:pt x="268" y="378"/>
                  </a:lnTo>
                  <a:lnTo>
                    <a:pt x="270" y="270"/>
                  </a:lnTo>
                  <a:lnTo>
                    <a:pt x="268" y="164"/>
                  </a:lnTo>
                  <a:lnTo>
                    <a:pt x="264" y="60"/>
                  </a:lnTo>
                  <a:lnTo>
                    <a:pt x="264" y="6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12" y="12"/>
                  </a:lnTo>
                  <a:lnTo>
                    <a:pt x="102" y="20"/>
                  </a:lnTo>
                  <a:lnTo>
                    <a:pt x="92" y="30"/>
                  </a:lnTo>
                  <a:lnTo>
                    <a:pt x="82" y="40"/>
                  </a:lnTo>
                  <a:lnTo>
                    <a:pt x="82" y="40"/>
                  </a:lnTo>
                  <a:lnTo>
                    <a:pt x="66" y="66"/>
                  </a:lnTo>
                  <a:lnTo>
                    <a:pt x="54" y="94"/>
                  </a:lnTo>
                  <a:lnTo>
                    <a:pt x="42" y="124"/>
                  </a:lnTo>
                  <a:lnTo>
                    <a:pt x="32" y="158"/>
                  </a:lnTo>
                  <a:lnTo>
                    <a:pt x="22" y="194"/>
                  </a:lnTo>
                  <a:lnTo>
                    <a:pt x="16" y="232"/>
                  </a:lnTo>
                  <a:lnTo>
                    <a:pt x="10" y="272"/>
                  </a:lnTo>
                  <a:lnTo>
                    <a:pt x="6" y="314"/>
                  </a:lnTo>
                  <a:lnTo>
                    <a:pt x="2" y="356"/>
                  </a:lnTo>
                  <a:lnTo>
                    <a:pt x="0" y="400"/>
                  </a:lnTo>
                  <a:lnTo>
                    <a:pt x="0" y="446"/>
                  </a:lnTo>
                  <a:lnTo>
                    <a:pt x="2" y="492"/>
                  </a:lnTo>
                  <a:lnTo>
                    <a:pt x="4" y="538"/>
                  </a:lnTo>
                  <a:lnTo>
                    <a:pt x="8" y="586"/>
                  </a:lnTo>
                  <a:lnTo>
                    <a:pt x="20" y="678"/>
                  </a:lnTo>
                  <a:lnTo>
                    <a:pt x="34" y="770"/>
                  </a:lnTo>
                  <a:lnTo>
                    <a:pt x="44" y="814"/>
                  </a:lnTo>
                  <a:lnTo>
                    <a:pt x="54" y="858"/>
                  </a:lnTo>
                  <a:lnTo>
                    <a:pt x="66" y="898"/>
                  </a:lnTo>
                  <a:lnTo>
                    <a:pt x="78" y="938"/>
                  </a:lnTo>
                  <a:lnTo>
                    <a:pt x="90" y="976"/>
                  </a:lnTo>
                  <a:lnTo>
                    <a:pt x="104" y="1012"/>
                  </a:lnTo>
                  <a:lnTo>
                    <a:pt x="120" y="1044"/>
                  </a:lnTo>
                  <a:lnTo>
                    <a:pt x="136" y="1076"/>
                  </a:lnTo>
                  <a:lnTo>
                    <a:pt x="152" y="1102"/>
                  </a:lnTo>
                  <a:lnTo>
                    <a:pt x="168" y="1126"/>
                  </a:lnTo>
                  <a:lnTo>
                    <a:pt x="186" y="1148"/>
                  </a:lnTo>
                  <a:lnTo>
                    <a:pt x="204" y="1164"/>
                  </a:lnTo>
                  <a:lnTo>
                    <a:pt x="224" y="1178"/>
                  </a:lnTo>
                  <a:lnTo>
                    <a:pt x="242" y="1186"/>
                  </a:lnTo>
                  <a:lnTo>
                    <a:pt x="242" y="1186"/>
                  </a:lnTo>
                  <a:lnTo>
                    <a:pt x="258" y="1192"/>
                  </a:lnTo>
                  <a:lnTo>
                    <a:pt x="272" y="1194"/>
                  </a:lnTo>
                  <a:lnTo>
                    <a:pt x="288" y="1192"/>
                  </a:lnTo>
                  <a:lnTo>
                    <a:pt x="304" y="1188"/>
                  </a:lnTo>
                  <a:lnTo>
                    <a:pt x="320" y="1182"/>
                  </a:lnTo>
                  <a:lnTo>
                    <a:pt x="336" y="1172"/>
                  </a:lnTo>
                  <a:lnTo>
                    <a:pt x="352" y="1160"/>
                  </a:lnTo>
                  <a:lnTo>
                    <a:pt x="368" y="1148"/>
                  </a:lnTo>
                  <a:lnTo>
                    <a:pt x="400" y="1120"/>
                  </a:lnTo>
                  <a:lnTo>
                    <a:pt x="432" y="1092"/>
                  </a:lnTo>
                  <a:lnTo>
                    <a:pt x="460" y="1066"/>
                  </a:lnTo>
                  <a:lnTo>
                    <a:pt x="484" y="1046"/>
                  </a:lnTo>
                  <a:lnTo>
                    <a:pt x="484" y="1046"/>
                  </a:lnTo>
                  <a:lnTo>
                    <a:pt x="486" y="1018"/>
                  </a:lnTo>
                  <a:lnTo>
                    <a:pt x="490" y="998"/>
                  </a:lnTo>
                  <a:lnTo>
                    <a:pt x="494" y="982"/>
                  </a:lnTo>
                  <a:lnTo>
                    <a:pt x="504" y="966"/>
                  </a:lnTo>
                  <a:lnTo>
                    <a:pt x="504" y="966"/>
                  </a:lnTo>
                  <a:lnTo>
                    <a:pt x="498" y="922"/>
                  </a:lnTo>
                  <a:lnTo>
                    <a:pt x="494" y="906"/>
                  </a:lnTo>
                  <a:lnTo>
                    <a:pt x="490" y="894"/>
                  </a:lnTo>
                  <a:lnTo>
                    <a:pt x="480" y="872"/>
                  </a:lnTo>
                  <a:lnTo>
                    <a:pt x="464" y="844"/>
                  </a:lnTo>
                  <a:lnTo>
                    <a:pt x="464" y="844"/>
                  </a:lnTo>
                  <a:lnTo>
                    <a:pt x="408" y="842"/>
                  </a:lnTo>
                  <a:lnTo>
                    <a:pt x="388" y="844"/>
                  </a:lnTo>
                  <a:lnTo>
                    <a:pt x="370" y="846"/>
                  </a:lnTo>
                  <a:lnTo>
                    <a:pt x="354" y="854"/>
                  </a:lnTo>
                  <a:lnTo>
                    <a:pt x="338" y="866"/>
                  </a:lnTo>
                  <a:lnTo>
                    <a:pt x="322" y="882"/>
                  </a:lnTo>
                  <a:lnTo>
                    <a:pt x="304" y="906"/>
                  </a:lnTo>
                  <a:lnTo>
                    <a:pt x="304" y="906"/>
                  </a:lnTo>
                  <a:close/>
                </a:path>
              </a:pathLst>
            </a:custGeom>
            <a:solidFill>
              <a:srgbClr val="1d20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52"/>
            <p:cNvSpPr/>
            <p:nvPr/>
          </p:nvSpPr>
          <p:spPr>
            <a:xfrm>
              <a:off x="12863520" y="2689200"/>
              <a:ext cx="1060200" cy="1228680"/>
            </a:xfrm>
            <a:custGeom>
              <a:avLst/>
              <a:gdLst>
                <a:gd name="textAreaLeft" fmla="*/ 0 w 1060200"/>
                <a:gd name="textAreaRight" fmla="*/ 1060560 w 1060200"/>
                <a:gd name="textAreaTop" fmla="*/ 0 h 1228680"/>
                <a:gd name="textAreaBottom" fmla="*/ 1229040 h 1228680"/>
              </a:gdLst>
              <a:ahLst/>
              <a:rect l="textAreaLeft" t="textAreaTop" r="textAreaRight" b="textAreaBottom"/>
              <a:pathLst>
                <a:path w="668" h="774">
                  <a:moveTo>
                    <a:pt x="598" y="36"/>
                  </a:moveTo>
                  <a:lnTo>
                    <a:pt x="598" y="36"/>
                  </a:lnTo>
                  <a:lnTo>
                    <a:pt x="584" y="34"/>
                  </a:lnTo>
                  <a:lnTo>
                    <a:pt x="570" y="34"/>
                  </a:lnTo>
                  <a:lnTo>
                    <a:pt x="544" y="38"/>
                  </a:lnTo>
                  <a:lnTo>
                    <a:pt x="518" y="42"/>
                  </a:lnTo>
                  <a:lnTo>
                    <a:pt x="492" y="50"/>
                  </a:lnTo>
                  <a:lnTo>
                    <a:pt x="466" y="56"/>
                  </a:lnTo>
                  <a:lnTo>
                    <a:pt x="440" y="60"/>
                  </a:lnTo>
                  <a:lnTo>
                    <a:pt x="428" y="60"/>
                  </a:lnTo>
                  <a:lnTo>
                    <a:pt x="414" y="60"/>
                  </a:lnTo>
                  <a:lnTo>
                    <a:pt x="400" y="58"/>
                  </a:lnTo>
                  <a:lnTo>
                    <a:pt x="386" y="54"/>
                  </a:lnTo>
                  <a:lnTo>
                    <a:pt x="386" y="54"/>
                  </a:lnTo>
                  <a:lnTo>
                    <a:pt x="372" y="48"/>
                  </a:lnTo>
                  <a:lnTo>
                    <a:pt x="358" y="40"/>
                  </a:lnTo>
                  <a:lnTo>
                    <a:pt x="332" y="24"/>
                  </a:lnTo>
                  <a:lnTo>
                    <a:pt x="316" y="16"/>
                  </a:lnTo>
                  <a:lnTo>
                    <a:pt x="298" y="8"/>
                  </a:lnTo>
                  <a:lnTo>
                    <a:pt x="276" y="4"/>
                  </a:lnTo>
                  <a:lnTo>
                    <a:pt x="246" y="0"/>
                  </a:lnTo>
                  <a:lnTo>
                    <a:pt x="246" y="0"/>
                  </a:lnTo>
                  <a:lnTo>
                    <a:pt x="230" y="30"/>
                  </a:lnTo>
                  <a:lnTo>
                    <a:pt x="224" y="44"/>
                  </a:lnTo>
                  <a:lnTo>
                    <a:pt x="220" y="58"/>
                  </a:lnTo>
                  <a:lnTo>
                    <a:pt x="216" y="74"/>
                  </a:lnTo>
                  <a:lnTo>
                    <a:pt x="214" y="92"/>
                  </a:lnTo>
                  <a:lnTo>
                    <a:pt x="212" y="114"/>
                  </a:lnTo>
                  <a:lnTo>
                    <a:pt x="210" y="142"/>
                  </a:lnTo>
                  <a:lnTo>
                    <a:pt x="210" y="142"/>
                  </a:lnTo>
                  <a:lnTo>
                    <a:pt x="104" y="192"/>
                  </a:lnTo>
                  <a:lnTo>
                    <a:pt x="50" y="220"/>
                  </a:lnTo>
                  <a:lnTo>
                    <a:pt x="0" y="246"/>
                  </a:lnTo>
                  <a:lnTo>
                    <a:pt x="0" y="246"/>
                  </a:lnTo>
                  <a:lnTo>
                    <a:pt x="10" y="282"/>
                  </a:lnTo>
                  <a:lnTo>
                    <a:pt x="20" y="316"/>
                  </a:lnTo>
                  <a:lnTo>
                    <a:pt x="26" y="330"/>
                  </a:lnTo>
                  <a:lnTo>
                    <a:pt x="34" y="344"/>
                  </a:lnTo>
                  <a:lnTo>
                    <a:pt x="42" y="358"/>
                  </a:lnTo>
                  <a:lnTo>
                    <a:pt x="52" y="370"/>
                  </a:lnTo>
                  <a:lnTo>
                    <a:pt x="52" y="370"/>
                  </a:lnTo>
                  <a:lnTo>
                    <a:pt x="70" y="380"/>
                  </a:lnTo>
                  <a:lnTo>
                    <a:pt x="88" y="388"/>
                  </a:lnTo>
                  <a:lnTo>
                    <a:pt x="112" y="394"/>
                  </a:lnTo>
                  <a:lnTo>
                    <a:pt x="134" y="396"/>
                  </a:lnTo>
                  <a:lnTo>
                    <a:pt x="160" y="394"/>
                  </a:lnTo>
                  <a:lnTo>
                    <a:pt x="184" y="390"/>
                  </a:lnTo>
                  <a:lnTo>
                    <a:pt x="208" y="382"/>
                  </a:lnTo>
                  <a:lnTo>
                    <a:pt x="218" y="376"/>
                  </a:lnTo>
                  <a:lnTo>
                    <a:pt x="228" y="370"/>
                  </a:lnTo>
                  <a:lnTo>
                    <a:pt x="228" y="370"/>
                  </a:lnTo>
                  <a:lnTo>
                    <a:pt x="252" y="374"/>
                  </a:lnTo>
                  <a:lnTo>
                    <a:pt x="268" y="376"/>
                  </a:lnTo>
                  <a:lnTo>
                    <a:pt x="298" y="388"/>
                  </a:lnTo>
                  <a:lnTo>
                    <a:pt x="298" y="388"/>
                  </a:lnTo>
                  <a:lnTo>
                    <a:pt x="310" y="462"/>
                  </a:lnTo>
                  <a:lnTo>
                    <a:pt x="318" y="524"/>
                  </a:lnTo>
                  <a:lnTo>
                    <a:pt x="322" y="572"/>
                  </a:lnTo>
                  <a:lnTo>
                    <a:pt x="326" y="614"/>
                  </a:lnTo>
                  <a:lnTo>
                    <a:pt x="330" y="632"/>
                  </a:lnTo>
                  <a:lnTo>
                    <a:pt x="336" y="650"/>
                  </a:lnTo>
                  <a:lnTo>
                    <a:pt x="344" y="668"/>
                  </a:lnTo>
                  <a:lnTo>
                    <a:pt x="352" y="688"/>
                  </a:lnTo>
                  <a:lnTo>
                    <a:pt x="366" y="706"/>
                  </a:lnTo>
                  <a:lnTo>
                    <a:pt x="380" y="728"/>
                  </a:lnTo>
                  <a:lnTo>
                    <a:pt x="398" y="750"/>
                  </a:lnTo>
                  <a:lnTo>
                    <a:pt x="422" y="774"/>
                  </a:lnTo>
                  <a:lnTo>
                    <a:pt x="422" y="774"/>
                  </a:lnTo>
                  <a:lnTo>
                    <a:pt x="526" y="774"/>
                  </a:lnTo>
                  <a:lnTo>
                    <a:pt x="526" y="774"/>
                  </a:lnTo>
                  <a:lnTo>
                    <a:pt x="532" y="746"/>
                  </a:lnTo>
                  <a:lnTo>
                    <a:pt x="536" y="716"/>
                  </a:lnTo>
                  <a:lnTo>
                    <a:pt x="540" y="686"/>
                  </a:lnTo>
                  <a:lnTo>
                    <a:pt x="542" y="654"/>
                  </a:lnTo>
                  <a:lnTo>
                    <a:pt x="544" y="620"/>
                  </a:lnTo>
                  <a:lnTo>
                    <a:pt x="544" y="588"/>
                  </a:lnTo>
                  <a:lnTo>
                    <a:pt x="542" y="554"/>
                  </a:lnTo>
                  <a:lnTo>
                    <a:pt x="540" y="520"/>
                  </a:lnTo>
                  <a:lnTo>
                    <a:pt x="536" y="486"/>
                  </a:lnTo>
                  <a:lnTo>
                    <a:pt x="530" y="452"/>
                  </a:lnTo>
                  <a:lnTo>
                    <a:pt x="522" y="420"/>
                  </a:lnTo>
                  <a:lnTo>
                    <a:pt x="514" y="390"/>
                  </a:lnTo>
                  <a:lnTo>
                    <a:pt x="502" y="360"/>
                  </a:lnTo>
                  <a:lnTo>
                    <a:pt x="488" y="332"/>
                  </a:lnTo>
                  <a:lnTo>
                    <a:pt x="474" y="306"/>
                  </a:lnTo>
                  <a:lnTo>
                    <a:pt x="456" y="282"/>
                  </a:lnTo>
                  <a:lnTo>
                    <a:pt x="456" y="282"/>
                  </a:lnTo>
                  <a:lnTo>
                    <a:pt x="466" y="268"/>
                  </a:lnTo>
                  <a:lnTo>
                    <a:pt x="478" y="256"/>
                  </a:lnTo>
                  <a:lnTo>
                    <a:pt x="488" y="248"/>
                  </a:lnTo>
                  <a:lnTo>
                    <a:pt x="502" y="240"/>
                  </a:lnTo>
                  <a:lnTo>
                    <a:pt x="528" y="228"/>
                  </a:lnTo>
                  <a:lnTo>
                    <a:pt x="556" y="218"/>
                  </a:lnTo>
                  <a:lnTo>
                    <a:pt x="584" y="206"/>
                  </a:lnTo>
                  <a:lnTo>
                    <a:pt x="598" y="200"/>
                  </a:lnTo>
                  <a:lnTo>
                    <a:pt x="610" y="192"/>
                  </a:lnTo>
                  <a:lnTo>
                    <a:pt x="622" y="182"/>
                  </a:lnTo>
                  <a:lnTo>
                    <a:pt x="632" y="172"/>
                  </a:lnTo>
                  <a:lnTo>
                    <a:pt x="642" y="158"/>
                  </a:lnTo>
                  <a:lnTo>
                    <a:pt x="650" y="142"/>
                  </a:lnTo>
                  <a:lnTo>
                    <a:pt x="650" y="142"/>
                  </a:lnTo>
                  <a:lnTo>
                    <a:pt x="660" y="134"/>
                  </a:lnTo>
                  <a:lnTo>
                    <a:pt x="668" y="124"/>
                  </a:lnTo>
                  <a:lnTo>
                    <a:pt x="668" y="124"/>
                  </a:lnTo>
                  <a:lnTo>
                    <a:pt x="648" y="104"/>
                  </a:lnTo>
                  <a:lnTo>
                    <a:pt x="630" y="82"/>
                  </a:lnTo>
                  <a:lnTo>
                    <a:pt x="612" y="60"/>
                  </a:lnTo>
                  <a:lnTo>
                    <a:pt x="598" y="36"/>
                  </a:lnTo>
                  <a:lnTo>
                    <a:pt x="598" y="36"/>
                  </a:lnTo>
                  <a:close/>
                </a:path>
              </a:pathLst>
            </a:custGeom>
            <a:solidFill>
              <a:srgbClr val="1d20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53"/>
            <p:cNvSpPr/>
            <p:nvPr/>
          </p:nvSpPr>
          <p:spPr>
            <a:xfrm>
              <a:off x="14222520" y="2774880"/>
              <a:ext cx="1596960" cy="1498680"/>
            </a:xfrm>
            <a:custGeom>
              <a:avLst/>
              <a:gdLst>
                <a:gd name="textAreaLeft" fmla="*/ 0 w 1596960"/>
                <a:gd name="textAreaRight" fmla="*/ 1597320 w 1596960"/>
                <a:gd name="textAreaTop" fmla="*/ 0 h 1498680"/>
                <a:gd name="textAreaBottom" fmla="*/ 1499040 h 1498680"/>
              </a:gdLst>
              <a:ahLst/>
              <a:rect l="textAreaLeft" t="textAreaTop" r="textAreaRight" b="textAreaBottom"/>
              <a:pathLst>
                <a:path w="1006" h="944">
                  <a:moveTo>
                    <a:pt x="864" y="508"/>
                  </a:moveTo>
                  <a:lnTo>
                    <a:pt x="864" y="508"/>
                  </a:lnTo>
                  <a:lnTo>
                    <a:pt x="840" y="534"/>
                  </a:lnTo>
                  <a:lnTo>
                    <a:pt x="814" y="558"/>
                  </a:lnTo>
                  <a:lnTo>
                    <a:pt x="760" y="606"/>
                  </a:lnTo>
                  <a:lnTo>
                    <a:pt x="706" y="654"/>
                  </a:lnTo>
                  <a:lnTo>
                    <a:pt x="654" y="702"/>
                  </a:lnTo>
                  <a:lnTo>
                    <a:pt x="654" y="702"/>
                  </a:lnTo>
                  <a:lnTo>
                    <a:pt x="628" y="694"/>
                  </a:lnTo>
                  <a:lnTo>
                    <a:pt x="604" y="684"/>
                  </a:lnTo>
                  <a:lnTo>
                    <a:pt x="582" y="674"/>
                  </a:lnTo>
                  <a:lnTo>
                    <a:pt x="562" y="660"/>
                  </a:lnTo>
                  <a:lnTo>
                    <a:pt x="544" y="648"/>
                  </a:lnTo>
                  <a:lnTo>
                    <a:pt x="528" y="634"/>
                  </a:lnTo>
                  <a:lnTo>
                    <a:pt x="496" y="604"/>
                  </a:lnTo>
                  <a:lnTo>
                    <a:pt x="478" y="590"/>
                  </a:lnTo>
                  <a:lnTo>
                    <a:pt x="460" y="576"/>
                  </a:lnTo>
                  <a:lnTo>
                    <a:pt x="440" y="564"/>
                  </a:lnTo>
                  <a:lnTo>
                    <a:pt x="420" y="552"/>
                  </a:lnTo>
                  <a:lnTo>
                    <a:pt x="396" y="542"/>
                  </a:lnTo>
                  <a:lnTo>
                    <a:pt x="368" y="534"/>
                  </a:lnTo>
                  <a:lnTo>
                    <a:pt x="338" y="528"/>
                  </a:lnTo>
                  <a:lnTo>
                    <a:pt x="302" y="526"/>
                  </a:lnTo>
                  <a:lnTo>
                    <a:pt x="302" y="526"/>
                  </a:lnTo>
                  <a:lnTo>
                    <a:pt x="310" y="480"/>
                  </a:lnTo>
                  <a:lnTo>
                    <a:pt x="320" y="430"/>
                  </a:lnTo>
                  <a:lnTo>
                    <a:pt x="334" y="378"/>
                  </a:lnTo>
                  <a:lnTo>
                    <a:pt x="352" y="326"/>
                  </a:lnTo>
                  <a:lnTo>
                    <a:pt x="372" y="276"/>
                  </a:lnTo>
                  <a:lnTo>
                    <a:pt x="394" y="230"/>
                  </a:lnTo>
                  <a:lnTo>
                    <a:pt x="418" y="190"/>
                  </a:lnTo>
                  <a:lnTo>
                    <a:pt x="430" y="172"/>
                  </a:lnTo>
                  <a:lnTo>
                    <a:pt x="444" y="158"/>
                  </a:lnTo>
                  <a:lnTo>
                    <a:pt x="444" y="158"/>
                  </a:lnTo>
                  <a:lnTo>
                    <a:pt x="438" y="122"/>
                  </a:lnTo>
                  <a:lnTo>
                    <a:pt x="430" y="94"/>
                  </a:lnTo>
                  <a:lnTo>
                    <a:pt x="420" y="74"/>
                  </a:lnTo>
                  <a:lnTo>
                    <a:pt x="410" y="58"/>
                  </a:lnTo>
                  <a:lnTo>
                    <a:pt x="396" y="44"/>
                  </a:lnTo>
                  <a:lnTo>
                    <a:pt x="380" y="30"/>
                  </a:lnTo>
                  <a:lnTo>
                    <a:pt x="338" y="0"/>
                  </a:lnTo>
                  <a:lnTo>
                    <a:pt x="338" y="0"/>
                  </a:lnTo>
                  <a:lnTo>
                    <a:pt x="316" y="4"/>
                  </a:lnTo>
                  <a:lnTo>
                    <a:pt x="298" y="10"/>
                  </a:lnTo>
                  <a:lnTo>
                    <a:pt x="284" y="18"/>
                  </a:lnTo>
                  <a:lnTo>
                    <a:pt x="270" y="26"/>
                  </a:lnTo>
                  <a:lnTo>
                    <a:pt x="260" y="36"/>
                  </a:lnTo>
                  <a:lnTo>
                    <a:pt x="252" y="46"/>
                  </a:lnTo>
                  <a:lnTo>
                    <a:pt x="244" y="58"/>
                  </a:lnTo>
                  <a:lnTo>
                    <a:pt x="240" y="70"/>
                  </a:lnTo>
                  <a:lnTo>
                    <a:pt x="230" y="96"/>
                  </a:lnTo>
                  <a:lnTo>
                    <a:pt x="222" y="126"/>
                  </a:lnTo>
                  <a:lnTo>
                    <a:pt x="212" y="158"/>
                  </a:lnTo>
                  <a:lnTo>
                    <a:pt x="206" y="176"/>
                  </a:lnTo>
                  <a:lnTo>
                    <a:pt x="198" y="192"/>
                  </a:lnTo>
                  <a:lnTo>
                    <a:pt x="198" y="192"/>
                  </a:lnTo>
                  <a:lnTo>
                    <a:pt x="158" y="268"/>
                  </a:lnTo>
                  <a:lnTo>
                    <a:pt x="114" y="354"/>
                  </a:lnTo>
                  <a:lnTo>
                    <a:pt x="94" y="400"/>
                  </a:lnTo>
                  <a:lnTo>
                    <a:pt x="72" y="446"/>
                  </a:lnTo>
                  <a:lnTo>
                    <a:pt x="54" y="494"/>
                  </a:lnTo>
                  <a:lnTo>
                    <a:pt x="36" y="542"/>
                  </a:lnTo>
                  <a:lnTo>
                    <a:pt x="22" y="592"/>
                  </a:lnTo>
                  <a:lnTo>
                    <a:pt x="10" y="642"/>
                  </a:lnTo>
                  <a:lnTo>
                    <a:pt x="2" y="690"/>
                  </a:lnTo>
                  <a:lnTo>
                    <a:pt x="0" y="740"/>
                  </a:lnTo>
                  <a:lnTo>
                    <a:pt x="0" y="764"/>
                  </a:lnTo>
                  <a:lnTo>
                    <a:pt x="0" y="790"/>
                  </a:lnTo>
                  <a:lnTo>
                    <a:pt x="4" y="814"/>
                  </a:lnTo>
                  <a:lnTo>
                    <a:pt x="8" y="838"/>
                  </a:lnTo>
                  <a:lnTo>
                    <a:pt x="12" y="860"/>
                  </a:lnTo>
                  <a:lnTo>
                    <a:pt x="20" y="884"/>
                  </a:lnTo>
                  <a:lnTo>
                    <a:pt x="28" y="908"/>
                  </a:lnTo>
                  <a:lnTo>
                    <a:pt x="40" y="930"/>
                  </a:lnTo>
                  <a:lnTo>
                    <a:pt x="40" y="930"/>
                  </a:lnTo>
                  <a:lnTo>
                    <a:pt x="70" y="938"/>
                  </a:lnTo>
                  <a:lnTo>
                    <a:pt x="96" y="942"/>
                  </a:lnTo>
                  <a:lnTo>
                    <a:pt x="106" y="944"/>
                  </a:lnTo>
                  <a:lnTo>
                    <a:pt x="118" y="942"/>
                  </a:lnTo>
                  <a:lnTo>
                    <a:pt x="132" y="938"/>
                  </a:lnTo>
                  <a:lnTo>
                    <a:pt x="144" y="930"/>
                  </a:lnTo>
                  <a:lnTo>
                    <a:pt x="144" y="930"/>
                  </a:lnTo>
                  <a:lnTo>
                    <a:pt x="156" y="924"/>
                  </a:lnTo>
                  <a:lnTo>
                    <a:pt x="168" y="914"/>
                  </a:lnTo>
                  <a:lnTo>
                    <a:pt x="192" y="892"/>
                  </a:lnTo>
                  <a:lnTo>
                    <a:pt x="218" y="864"/>
                  </a:lnTo>
                  <a:lnTo>
                    <a:pt x="242" y="834"/>
                  </a:lnTo>
                  <a:lnTo>
                    <a:pt x="266" y="802"/>
                  </a:lnTo>
                  <a:lnTo>
                    <a:pt x="286" y="772"/>
                  </a:lnTo>
                  <a:lnTo>
                    <a:pt x="320" y="720"/>
                  </a:lnTo>
                  <a:lnTo>
                    <a:pt x="320" y="720"/>
                  </a:lnTo>
                  <a:lnTo>
                    <a:pt x="358" y="734"/>
                  </a:lnTo>
                  <a:lnTo>
                    <a:pt x="390" y="752"/>
                  </a:lnTo>
                  <a:lnTo>
                    <a:pt x="416" y="768"/>
                  </a:lnTo>
                  <a:lnTo>
                    <a:pt x="438" y="784"/>
                  </a:lnTo>
                  <a:lnTo>
                    <a:pt x="474" y="816"/>
                  </a:lnTo>
                  <a:lnTo>
                    <a:pt x="492" y="830"/>
                  </a:lnTo>
                  <a:lnTo>
                    <a:pt x="508" y="846"/>
                  </a:lnTo>
                  <a:lnTo>
                    <a:pt x="528" y="858"/>
                  </a:lnTo>
                  <a:lnTo>
                    <a:pt x="548" y="870"/>
                  </a:lnTo>
                  <a:lnTo>
                    <a:pt x="574" y="880"/>
                  </a:lnTo>
                  <a:lnTo>
                    <a:pt x="604" y="888"/>
                  </a:lnTo>
                  <a:lnTo>
                    <a:pt x="640" y="892"/>
                  </a:lnTo>
                  <a:lnTo>
                    <a:pt x="682" y="896"/>
                  </a:lnTo>
                  <a:lnTo>
                    <a:pt x="734" y="896"/>
                  </a:lnTo>
                  <a:lnTo>
                    <a:pt x="794" y="894"/>
                  </a:lnTo>
                  <a:lnTo>
                    <a:pt x="794" y="894"/>
                  </a:lnTo>
                  <a:lnTo>
                    <a:pt x="810" y="880"/>
                  </a:lnTo>
                  <a:lnTo>
                    <a:pt x="828" y="868"/>
                  </a:lnTo>
                  <a:lnTo>
                    <a:pt x="866" y="844"/>
                  </a:lnTo>
                  <a:lnTo>
                    <a:pt x="886" y="832"/>
                  </a:lnTo>
                  <a:lnTo>
                    <a:pt x="904" y="818"/>
                  </a:lnTo>
                  <a:lnTo>
                    <a:pt x="922" y="804"/>
                  </a:lnTo>
                  <a:lnTo>
                    <a:pt x="934" y="790"/>
                  </a:lnTo>
                  <a:lnTo>
                    <a:pt x="934" y="790"/>
                  </a:lnTo>
                  <a:lnTo>
                    <a:pt x="946" y="774"/>
                  </a:lnTo>
                  <a:lnTo>
                    <a:pt x="954" y="758"/>
                  </a:lnTo>
                  <a:lnTo>
                    <a:pt x="968" y="726"/>
                  </a:lnTo>
                  <a:lnTo>
                    <a:pt x="976" y="710"/>
                  </a:lnTo>
                  <a:lnTo>
                    <a:pt x="984" y="696"/>
                  </a:lnTo>
                  <a:lnTo>
                    <a:pt x="992" y="680"/>
                  </a:lnTo>
                  <a:lnTo>
                    <a:pt x="1006" y="666"/>
                  </a:lnTo>
                  <a:lnTo>
                    <a:pt x="1006" y="666"/>
                  </a:lnTo>
                  <a:lnTo>
                    <a:pt x="1002" y="628"/>
                  </a:lnTo>
                  <a:lnTo>
                    <a:pt x="1000" y="610"/>
                  </a:lnTo>
                  <a:lnTo>
                    <a:pt x="996" y="596"/>
                  </a:lnTo>
                  <a:lnTo>
                    <a:pt x="990" y="582"/>
                  </a:lnTo>
                  <a:lnTo>
                    <a:pt x="986" y="570"/>
                  </a:lnTo>
                  <a:lnTo>
                    <a:pt x="978" y="560"/>
                  </a:lnTo>
                  <a:lnTo>
                    <a:pt x="970" y="550"/>
                  </a:lnTo>
                  <a:lnTo>
                    <a:pt x="962" y="542"/>
                  </a:lnTo>
                  <a:lnTo>
                    <a:pt x="950" y="536"/>
                  </a:lnTo>
                  <a:lnTo>
                    <a:pt x="940" y="530"/>
                  </a:lnTo>
                  <a:lnTo>
                    <a:pt x="926" y="524"/>
                  </a:lnTo>
                  <a:lnTo>
                    <a:pt x="898" y="516"/>
                  </a:lnTo>
                  <a:lnTo>
                    <a:pt x="864" y="508"/>
                  </a:lnTo>
                  <a:lnTo>
                    <a:pt x="864" y="508"/>
                  </a:lnTo>
                  <a:close/>
                </a:path>
              </a:pathLst>
            </a:custGeom>
            <a:solidFill>
              <a:srgbClr val="1d20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54"/>
            <p:cNvSpPr/>
            <p:nvPr/>
          </p:nvSpPr>
          <p:spPr>
            <a:xfrm>
              <a:off x="12501720" y="3749760"/>
              <a:ext cx="1031760" cy="689040"/>
            </a:xfrm>
            <a:custGeom>
              <a:avLst/>
              <a:gdLst>
                <a:gd name="textAreaLeft" fmla="*/ 0 w 1031760"/>
                <a:gd name="textAreaRight" fmla="*/ 1032120 w 103176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650" h="434">
                  <a:moveTo>
                    <a:pt x="386" y="210"/>
                  </a:moveTo>
                  <a:lnTo>
                    <a:pt x="386" y="210"/>
                  </a:lnTo>
                  <a:lnTo>
                    <a:pt x="362" y="202"/>
                  </a:lnTo>
                  <a:lnTo>
                    <a:pt x="336" y="190"/>
                  </a:lnTo>
                  <a:lnTo>
                    <a:pt x="312" y="178"/>
                  </a:lnTo>
                  <a:lnTo>
                    <a:pt x="286" y="162"/>
                  </a:lnTo>
                  <a:lnTo>
                    <a:pt x="238" y="132"/>
                  </a:lnTo>
                  <a:lnTo>
                    <a:pt x="194" y="106"/>
                  </a:lnTo>
                  <a:lnTo>
                    <a:pt x="194" y="106"/>
                  </a:lnTo>
                  <a:lnTo>
                    <a:pt x="176" y="18"/>
                  </a:lnTo>
                  <a:lnTo>
                    <a:pt x="176" y="18"/>
                  </a:lnTo>
                  <a:lnTo>
                    <a:pt x="142" y="12"/>
                  </a:lnTo>
                  <a:lnTo>
                    <a:pt x="134" y="8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78" y="4"/>
                  </a:lnTo>
                  <a:lnTo>
                    <a:pt x="64" y="6"/>
                  </a:lnTo>
                  <a:lnTo>
                    <a:pt x="50" y="10"/>
                  </a:lnTo>
                  <a:lnTo>
                    <a:pt x="26" y="20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" y="52"/>
                  </a:lnTo>
                  <a:lnTo>
                    <a:pt x="4" y="70"/>
                  </a:lnTo>
                  <a:lnTo>
                    <a:pt x="10" y="88"/>
                  </a:lnTo>
                  <a:lnTo>
                    <a:pt x="16" y="108"/>
                  </a:lnTo>
                  <a:lnTo>
                    <a:pt x="32" y="146"/>
                  </a:lnTo>
                  <a:lnTo>
                    <a:pt x="52" y="186"/>
                  </a:lnTo>
                  <a:lnTo>
                    <a:pt x="78" y="226"/>
                  </a:lnTo>
                  <a:lnTo>
                    <a:pt x="106" y="266"/>
                  </a:lnTo>
                  <a:lnTo>
                    <a:pt x="140" y="302"/>
                  </a:lnTo>
                  <a:lnTo>
                    <a:pt x="174" y="336"/>
                  </a:lnTo>
                  <a:lnTo>
                    <a:pt x="212" y="366"/>
                  </a:lnTo>
                  <a:lnTo>
                    <a:pt x="232" y="380"/>
                  </a:lnTo>
                  <a:lnTo>
                    <a:pt x="252" y="392"/>
                  </a:lnTo>
                  <a:lnTo>
                    <a:pt x="272" y="404"/>
                  </a:lnTo>
                  <a:lnTo>
                    <a:pt x="292" y="412"/>
                  </a:lnTo>
                  <a:lnTo>
                    <a:pt x="312" y="420"/>
                  </a:lnTo>
                  <a:lnTo>
                    <a:pt x="332" y="428"/>
                  </a:lnTo>
                  <a:lnTo>
                    <a:pt x="352" y="432"/>
                  </a:lnTo>
                  <a:lnTo>
                    <a:pt x="374" y="434"/>
                  </a:lnTo>
                  <a:lnTo>
                    <a:pt x="394" y="434"/>
                  </a:lnTo>
                  <a:lnTo>
                    <a:pt x="414" y="434"/>
                  </a:lnTo>
                  <a:lnTo>
                    <a:pt x="434" y="430"/>
                  </a:lnTo>
                  <a:lnTo>
                    <a:pt x="454" y="424"/>
                  </a:lnTo>
                  <a:lnTo>
                    <a:pt x="472" y="414"/>
                  </a:lnTo>
                  <a:lnTo>
                    <a:pt x="492" y="404"/>
                  </a:lnTo>
                  <a:lnTo>
                    <a:pt x="492" y="404"/>
                  </a:lnTo>
                  <a:lnTo>
                    <a:pt x="524" y="402"/>
                  </a:lnTo>
                  <a:lnTo>
                    <a:pt x="550" y="400"/>
                  </a:lnTo>
                  <a:lnTo>
                    <a:pt x="570" y="396"/>
                  </a:lnTo>
                  <a:lnTo>
                    <a:pt x="586" y="390"/>
                  </a:lnTo>
                  <a:lnTo>
                    <a:pt x="602" y="382"/>
                  </a:lnTo>
                  <a:lnTo>
                    <a:pt x="616" y="374"/>
                  </a:lnTo>
                  <a:lnTo>
                    <a:pt x="650" y="352"/>
                  </a:lnTo>
                  <a:lnTo>
                    <a:pt x="650" y="352"/>
                  </a:lnTo>
                  <a:lnTo>
                    <a:pt x="646" y="314"/>
                  </a:lnTo>
                  <a:lnTo>
                    <a:pt x="640" y="284"/>
                  </a:lnTo>
                  <a:lnTo>
                    <a:pt x="634" y="260"/>
                  </a:lnTo>
                  <a:lnTo>
                    <a:pt x="624" y="242"/>
                  </a:lnTo>
                  <a:lnTo>
                    <a:pt x="614" y="230"/>
                  </a:lnTo>
                  <a:lnTo>
                    <a:pt x="602" y="220"/>
                  </a:lnTo>
                  <a:lnTo>
                    <a:pt x="588" y="216"/>
                  </a:lnTo>
                  <a:lnTo>
                    <a:pt x="572" y="214"/>
                  </a:lnTo>
                  <a:lnTo>
                    <a:pt x="554" y="214"/>
                  </a:lnTo>
                  <a:lnTo>
                    <a:pt x="536" y="216"/>
                  </a:lnTo>
                  <a:lnTo>
                    <a:pt x="492" y="220"/>
                  </a:lnTo>
                  <a:lnTo>
                    <a:pt x="468" y="222"/>
                  </a:lnTo>
                  <a:lnTo>
                    <a:pt x="442" y="220"/>
                  </a:lnTo>
                  <a:lnTo>
                    <a:pt x="416" y="218"/>
                  </a:lnTo>
                  <a:lnTo>
                    <a:pt x="386" y="210"/>
                  </a:lnTo>
                  <a:lnTo>
                    <a:pt x="386" y="210"/>
                  </a:lnTo>
                  <a:close/>
                </a:path>
              </a:pathLst>
            </a:custGeom>
            <a:solidFill>
              <a:srgbClr val="1d20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グループ化 90"/>
          <p:cNvGrpSpPr/>
          <p:nvPr/>
        </p:nvGrpSpPr>
        <p:grpSpPr>
          <a:xfrm>
            <a:off x="16854480" y="1511280"/>
            <a:ext cx="8080560" cy="3191040"/>
            <a:chOff x="16854480" y="1511280"/>
            <a:chExt cx="8080560" cy="3191040"/>
          </a:xfrm>
        </p:grpSpPr>
        <p:sp>
          <p:nvSpPr>
            <p:cNvPr id="88" name="Freeform 55"/>
            <p:cNvSpPr/>
            <p:nvPr/>
          </p:nvSpPr>
          <p:spPr>
            <a:xfrm>
              <a:off x="18854640" y="1511280"/>
              <a:ext cx="1635120" cy="1276200"/>
            </a:xfrm>
            <a:custGeom>
              <a:avLst/>
              <a:gdLst>
                <a:gd name="textAreaLeft" fmla="*/ 0 w 1635120"/>
                <a:gd name="textAreaRight" fmla="*/ 1635480 w 1635120"/>
                <a:gd name="textAreaTop" fmla="*/ 0 h 1276200"/>
                <a:gd name="textAreaBottom" fmla="*/ 1276560 h 1276200"/>
              </a:gdLst>
              <a:ahLst/>
              <a:rect l="textAreaLeft" t="textAreaTop" r="textAreaRight" b="textAreaBottom"/>
              <a:pathLst>
                <a:path w="1030" h="804">
                  <a:moveTo>
                    <a:pt x="86" y="804"/>
                  </a:moveTo>
                  <a:lnTo>
                    <a:pt x="86" y="804"/>
                  </a:lnTo>
                  <a:lnTo>
                    <a:pt x="104" y="796"/>
                  </a:lnTo>
                  <a:lnTo>
                    <a:pt x="118" y="786"/>
                  </a:lnTo>
                  <a:lnTo>
                    <a:pt x="132" y="776"/>
                  </a:lnTo>
                  <a:lnTo>
                    <a:pt x="144" y="766"/>
                  </a:lnTo>
                  <a:lnTo>
                    <a:pt x="154" y="754"/>
                  </a:lnTo>
                  <a:lnTo>
                    <a:pt x="162" y="740"/>
                  </a:lnTo>
                  <a:lnTo>
                    <a:pt x="176" y="714"/>
                  </a:lnTo>
                  <a:lnTo>
                    <a:pt x="190" y="688"/>
                  </a:lnTo>
                  <a:lnTo>
                    <a:pt x="206" y="664"/>
                  </a:lnTo>
                  <a:lnTo>
                    <a:pt x="214" y="652"/>
                  </a:lnTo>
                  <a:lnTo>
                    <a:pt x="224" y="640"/>
                  </a:lnTo>
                  <a:lnTo>
                    <a:pt x="234" y="632"/>
                  </a:lnTo>
                  <a:lnTo>
                    <a:pt x="246" y="624"/>
                  </a:lnTo>
                  <a:lnTo>
                    <a:pt x="246" y="624"/>
                  </a:lnTo>
                  <a:lnTo>
                    <a:pt x="368" y="624"/>
                  </a:lnTo>
                  <a:lnTo>
                    <a:pt x="368" y="624"/>
                  </a:lnTo>
                  <a:lnTo>
                    <a:pt x="406" y="610"/>
                  </a:lnTo>
                  <a:lnTo>
                    <a:pt x="446" y="596"/>
                  </a:lnTo>
                  <a:lnTo>
                    <a:pt x="528" y="564"/>
                  </a:lnTo>
                  <a:lnTo>
                    <a:pt x="610" y="530"/>
                  </a:lnTo>
                  <a:lnTo>
                    <a:pt x="650" y="516"/>
                  </a:lnTo>
                  <a:lnTo>
                    <a:pt x="690" y="502"/>
                  </a:lnTo>
                  <a:lnTo>
                    <a:pt x="690" y="502"/>
                  </a:lnTo>
                  <a:lnTo>
                    <a:pt x="726" y="492"/>
                  </a:lnTo>
                  <a:lnTo>
                    <a:pt x="764" y="486"/>
                  </a:lnTo>
                  <a:lnTo>
                    <a:pt x="838" y="478"/>
                  </a:lnTo>
                  <a:lnTo>
                    <a:pt x="874" y="474"/>
                  </a:lnTo>
                  <a:lnTo>
                    <a:pt x="908" y="468"/>
                  </a:lnTo>
                  <a:lnTo>
                    <a:pt x="926" y="462"/>
                  </a:lnTo>
                  <a:lnTo>
                    <a:pt x="940" y="458"/>
                  </a:lnTo>
                  <a:lnTo>
                    <a:pt x="956" y="450"/>
                  </a:lnTo>
                  <a:lnTo>
                    <a:pt x="970" y="442"/>
                  </a:lnTo>
                  <a:lnTo>
                    <a:pt x="970" y="442"/>
                  </a:lnTo>
                  <a:lnTo>
                    <a:pt x="1010" y="442"/>
                  </a:lnTo>
                  <a:lnTo>
                    <a:pt x="1010" y="442"/>
                  </a:lnTo>
                  <a:lnTo>
                    <a:pt x="1020" y="416"/>
                  </a:lnTo>
                  <a:lnTo>
                    <a:pt x="1022" y="412"/>
                  </a:lnTo>
                  <a:lnTo>
                    <a:pt x="1030" y="402"/>
                  </a:lnTo>
                  <a:lnTo>
                    <a:pt x="1030" y="402"/>
                  </a:lnTo>
                  <a:lnTo>
                    <a:pt x="1028" y="368"/>
                  </a:lnTo>
                  <a:lnTo>
                    <a:pt x="1024" y="342"/>
                  </a:lnTo>
                  <a:lnTo>
                    <a:pt x="1020" y="322"/>
                  </a:lnTo>
                  <a:lnTo>
                    <a:pt x="1012" y="306"/>
                  </a:lnTo>
                  <a:lnTo>
                    <a:pt x="1004" y="290"/>
                  </a:lnTo>
                  <a:lnTo>
                    <a:pt x="994" y="276"/>
                  </a:lnTo>
                  <a:lnTo>
                    <a:pt x="970" y="242"/>
                  </a:lnTo>
                  <a:lnTo>
                    <a:pt x="970" y="242"/>
                  </a:lnTo>
                  <a:lnTo>
                    <a:pt x="934" y="240"/>
                  </a:lnTo>
                  <a:lnTo>
                    <a:pt x="896" y="240"/>
                  </a:lnTo>
                  <a:lnTo>
                    <a:pt x="860" y="242"/>
                  </a:lnTo>
                  <a:lnTo>
                    <a:pt x="822" y="246"/>
                  </a:lnTo>
                  <a:lnTo>
                    <a:pt x="746" y="256"/>
                  </a:lnTo>
                  <a:lnTo>
                    <a:pt x="670" y="270"/>
                  </a:lnTo>
                  <a:lnTo>
                    <a:pt x="596" y="288"/>
                  </a:lnTo>
                  <a:lnTo>
                    <a:pt x="524" y="310"/>
                  </a:lnTo>
                  <a:lnTo>
                    <a:pt x="454" y="334"/>
                  </a:lnTo>
                  <a:lnTo>
                    <a:pt x="388" y="362"/>
                  </a:lnTo>
                  <a:lnTo>
                    <a:pt x="388" y="362"/>
                  </a:lnTo>
                  <a:lnTo>
                    <a:pt x="388" y="342"/>
                  </a:lnTo>
                  <a:lnTo>
                    <a:pt x="388" y="342"/>
                  </a:lnTo>
                  <a:lnTo>
                    <a:pt x="390" y="332"/>
                  </a:lnTo>
                  <a:lnTo>
                    <a:pt x="396" y="308"/>
                  </a:lnTo>
                  <a:lnTo>
                    <a:pt x="408" y="272"/>
                  </a:lnTo>
                  <a:lnTo>
                    <a:pt x="418" y="228"/>
                  </a:lnTo>
                  <a:lnTo>
                    <a:pt x="426" y="182"/>
                  </a:lnTo>
                  <a:lnTo>
                    <a:pt x="428" y="158"/>
                  </a:lnTo>
                  <a:lnTo>
                    <a:pt x="428" y="136"/>
                  </a:lnTo>
                  <a:lnTo>
                    <a:pt x="428" y="114"/>
                  </a:lnTo>
                  <a:lnTo>
                    <a:pt x="424" y="94"/>
                  </a:lnTo>
                  <a:lnTo>
                    <a:pt x="418" y="76"/>
                  </a:lnTo>
                  <a:lnTo>
                    <a:pt x="408" y="60"/>
                  </a:lnTo>
                  <a:lnTo>
                    <a:pt x="408" y="60"/>
                  </a:lnTo>
                  <a:lnTo>
                    <a:pt x="396" y="48"/>
                  </a:lnTo>
                  <a:lnTo>
                    <a:pt x="384" y="36"/>
                  </a:lnTo>
                  <a:lnTo>
                    <a:pt x="372" y="28"/>
                  </a:lnTo>
                  <a:lnTo>
                    <a:pt x="358" y="20"/>
                  </a:lnTo>
                  <a:lnTo>
                    <a:pt x="342" y="14"/>
                  </a:lnTo>
                  <a:lnTo>
                    <a:pt x="326" y="8"/>
                  </a:lnTo>
                  <a:lnTo>
                    <a:pt x="288" y="0"/>
                  </a:lnTo>
                  <a:lnTo>
                    <a:pt x="288" y="0"/>
                  </a:lnTo>
                  <a:lnTo>
                    <a:pt x="270" y="22"/>
                  </a:lnTo>
                  <a:lnTo>
                    <a:pt x="248" y="54"/>
                  </a:lnTo>
                  <a:lnTo>
                    <a:pt x="222" y="92"/>
                  </a:lnTo>
                  <a:lnTo>
                    <a:pt x="196" y="140"/>
                  </a:lnTo>
                  <a:lnTo>
                    <a:pt x="168" y="192"/>
                  </a:lnTo>
                  <a:lnTo>
                    <a:pt x="138" y="248"/>
                  </a:lnTo>
                  <a:lnTo>
                    <a:pt x="110" y="306"/>
                  </a:lnTo>
                  <a:lnTo>
                    <a:pt x="82" y="368"/>
                  </a:lnTo>
                  <a:lnTo>
                    <a:pt x="58" y="430"/>
                  </a:lnTo>
                  <a:lnTo>
                    <a:pt x="36" y="490"/>
                  </a:lnTo>
                  <a:lnTo>
                    <a:pt x="18" y="548"/>
                  </a:lnTo>
                  <a:lnTo>
                    <a:pt x="6" y="604"/>
                  </a:lnTo>
                  <a:lnTo>
                    <a:pt x="2" y="630"/>
                  </a:lnTo>
                  <a:lnTo>
                    <a:pt x="0" y="654"/>
                  </a:lnTo>
                  <a:lnTo>
                    <a:pt x="0" y="676"/>
                  </a:lnTo>
                  <a:lnTo>
                    <a:pt x="0" y="698"/>
                  </a:lnTo>
                  <a:lnTo>
                    <a:pt x="4" y="718"/>
                  </a:lnTo>
                  <a:lnTo>
                    <a:pt x="8" y="736"/>
                  </a:lnTo>
                  <a:lnTo>
                    <a:pt x="16" y="750"/>
                  </a:lnTo>
                  <a:lnTo>
                    <a:pt x="26" y="764"/>
                  </a:lnTo>
                  <a:lnTo>
                    <a:pt x="26" y="764"/>
                  </a:lnTo>
                  <a:lnTo>
                    <a:pt x="40" y="774"/>
                  </a:lnTo>
                  <a:lnTo>
                    <a:pt x="56" y="784"/>
                  </a:lnTo>
                  <a:lnTo>
                    <a:pt x="72" y="794"/>
                  </a:lnTo>
                  <a:lnTo>
                    <a:pt x="86" y="804"/>
                  </a:lnTo>
                  <a:lnTo>
                    <a:pt x="86" y="80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56"/>
            <p:cNvSpPr/>
            <p:nvPr/>
          </p:nvSpPr>
          <p:spPr>
            <a:xfrm>
              <a:off x="16854480" y="1650960"/>
              <a:ext cx="1851120" cy="3051360"/>
            </a:xfrm>
            <a:custGeom>
              <a:avLst/>
              <a:gdLst>
                <a:gd name="textAreaLeft" fmla="*/ 0 w 1851120"/>
                <a:gd name="textAreaRight" fmla="*/ 1851480 w 1851120"/>
                <a:gd name="textAreaTop" fmla="*/ 0 h 3051360"/>
                <a:gd name="textAreaBottom" fmla="*/ 3051720 h 3051360"/>
              </a:gdLst>
              <a:ahLst/>
              <a:rect l="textAreaLeft" t="textAreaTop" r="textAreaRight" b="textAreaBottom"/>
              <a:pathLst>
                <a:path w="1166" h="1922">
                  <a:moveTo>
                    <a:pt x="964" y="1360"/>
                  </a:moveTo>
                  <a:lnTo>
                    <a:pt x="964" y="1360"/>
                  </a:lnTo>
                  <a:lnTo>
                    <a:pt x="970" y="1320"/>
                  </a:lnTo>
                  <a:lnTo>
                    <a:pt x="976" y="1290"/>
                  </a:lnTo>
                  <a:lnTo>
                    <a:pt x="976" y="1278"/>
                  </a:lnTo>
                  <a:lnTo>
                    <a:pt x="976" y="1266"/>
                  </a:lnTo>
                  <a:lnTo>
                    <a:pt x="972" y="1254"/>
                  </a:lnTo>
                  <a:lnTo>
                    <a:pt x="964" y="1238"/>
                  </a:lnTo>
                  <a:lnTo>
                    <a:pt x="964" y="1238"/>
                  </a:lnTo>
                  <a:lnTo>
                    <a:pt x="954" y="1222"/>
                  </a:lnTo>
                  <a:lnTo>
                    <a:pt x="942" y="1206"/>
                  </a:lnTo>
                  <a:lnTo>
                    <a:pt x="928" y="1192"/>
                  </a:lnTo>
                  <a:lnTo>
                    <a:pt x="914" y="1180"/>
                  </a:lnTo>
                  <a:lnTo>
                    <a:pt x="898" y="1168"/>
                  </a:lnTo>
                  <a:lnTo>
                    <a:pt x="880" y="1158"/>
                  </a:lnTo>
                  <a:lnTo>
                    <a:pt x="844" y="1138"/>
                  </a:lnTo>
                  <a:lnTo>
                    <a:pt x="770" y="1102"/>
                  </a:lnTo>
                  <a:lnTo>
                    <a:pt x="734" y="1082"/>
                  </a:lnTo>
                  <a:lnTo>
                    <a:pt x="718" y="1070"/>
                  </a:lnTo>
                  <a:lnTo>
                    <a:pt x="702" y="1058"/>
                  </a:lnTo>
                  <a:lnTo>
                    <a:pt x="702" y="1058"/>
                  </a:lnTo>
                  <a:lnTo>
                    <a:pt x="696" y="1040"/>
                  </a:lnTo>
                  <a:lnTo>
                    <a:pt x="690" y="1020"/>
                  </a:lnTo>
                  <a:lnTo>
                    <a:pt x="686" y="996"/>
                  </a:lnTo>
                  <a:lnTo>
                    <a:pt x="684" y="972"/>
                  </a:lnTo>
                  <a:lnTo>
                    <a:pt x="682" y="914"/>
                  </a:lnTo>
                  <a:lnTo>
                    <a:pt x="686" y="850"/>
                  </a:lnTo>
                  <a:lnTo>
                    <a:pt x="696" y="712"/>
                  </a:lnTo>
                  <a:lnTo>
                    <a:pt x="700" y="642"/>
                  </a:lnTo>
                  <a:lnTo>
                    <a:pt x="702" y="576"/>
                  </a:lnTo>
                  <a:lnTo>
                    <a:pt x="702" y="576"/>
                  </a:lnTo>
                  <a:lnTo>
                    <a:pt x="736" y="570"/>
                  </a:lnTo>
                  <a:lnTo>
                    <a:pt x="770" y="562"/>
                  </a:lnTo>
                  <a:lnTo>
                    <a:pt x="802" y="554"/>
                  </a:lnTo>
                  <a:lnTo>
                    <a:pt x="834" y="546"/>
                  </a:lnTo>
                  <a:lnTo>
                    <a:pt x="866" y="534"/>
                  </a:lnTo>
                  <a:lnTo>
                    <a:pt x="896" y="524"/>
                  </a:lnTo>
                  <a:lnTo>
                    <a:pt x="956" y="498"/>
                  </a:lnTo>
                  <a:lnTo>
                    <a:pt x="1012" y="470"/>
                  </a:lnTo>
                  <a:lnTo>
                    <a:pt x="1066" y="438"/>
                  </a:lnTo>
                  <a:lnTo>
                    <a:pt x="1118" y="406"/>
                  </a:lnTo>
                  <a:lnTo>
                    <a:pt x="1166" y="374"/>
                  </a:lnTo>
                  <a:lnTo>
                    <a:pt x="1166" y="374"/>
                  </a:lnTo>
                  <a:lnTo>
                    <a:pt x="1164" y="348"/>
                  </a:lnTo>
                  <a:lnTo>
                    <a:pt x="1160" y="326"/>
                  </a:lnTo>
                  <a:lnTo>
                    <a:pt x="1154" y="306"/>
                  </a:lnTo>
                  <a:lnTo>
                    <a:pt x="1148" y="288"/>
                  </a:lnTo>
                  <a:lnTo>
                    <a:pt x="1140" y="274"/>
                  </a:lnTo>
                  <a:lnTo>
                    <a:pt x="1130" y="260"/>
                  </a:lnTo>
                  <a:lnTo>
                    <a:pt x="1120" y="250"/>
                  </a:lnTo>
                  <a:lnTo>
                    <a:pt x="1110" y="240"/>
                  </a:lnTo>
                  <a:lnTo>
                    <a:pt x="1096" y="234"/>
                  </a:lnTo>
                  <a:lnTo>
                    <a:pt x="1084" y="228"/>
                  </a:lnTo>
                  <a:lnTo>
                    <a:pt x="1070" y="224"/>
                  </a:lnTo>
                  <a:lnTo>
                    <a:pt x="1054" y="222"/>
                  </a:lnTo>
                  <a:lnTo>
                    <a:pt x="1038" y="222"/>
                  </a:lnTo>
                  <a:lnTo>
                    <a:pt x="1022" y="222"/>
                  </a:lnTo>
                  <a:lnTo>
                    <a:pt x="988" y="228"/>
                  </a:lnTo>
                  <a:lnTo>
                    <a:pt x="952" y="236"/>
                  </a:lnTo>
                  <a:lnTo>
                    <a:pt x="914" y="246"/>
                  </a:lnTo>
                  <a:lnTo>
                    <a:pt x="840" y="272"/>
                  </a:lnTo>
                  <a:lnTo>
                    <a:pt x="768" y="296"/>
                  </a:lnTo>
                  <a:lnTo>
                    <a:pt x="734" y="306"/>
                  </a:lnTo>
                  <a:lnTo>
                    <a:pt x="702" y="314"/>
                  </a:lnTo>
                  <a:lnTo>
                    <a:pt x="702" y="314"/>
                  </a:lnTo>
                  <a:lnTo>
                    <a:pt x="704" y="258"/>
                  </a:lnTo>
                  <a:lnTo>
                    <a:pt x="704" y="202"/>
                  </a:lnTo>
                  <a:lnTo>
                    <a:pt x="702" y="176"/>
                  </a:lnTo>
                  <a:lnTo>
                    <a:pt x="698" y="152"/>
                  </a:lnTo>
                  <a:lnTo>
                    <a:pt x="692" y="130"/>
                  </a:lnTo>
                  <a:lnTo>
                    <a:pt x="682" y="112"/>
                  </a:lnTo>
                  <a:lnTo>
                    <a:pt x="682" y="112"/>
                  </a:lnTo>
                  <a:lnTo>
                    <a:pt x="674" y="76"/>
                  </a:lnTo>
                  <a:lnTo>
                    <a:pt x="664" y="58"/>
                  </a:lnTo>
                  <a:lnTo>
                    <a:pt x="654" y="42"/>
                  </a:lnTo>
                  <a:lnTo>
                    <a:pt x="650" y="30"/>
                  </a:lnTo>
                  <a:lnTo>
                    <a:pt x="642" y="12"/>
                  </a:lnTo>
                  <a:lnTo>
                    <a:pt x="642" y="12"/>
                  </a:lnTo>
                  <a:lnTo>
                    <a:pt x="602" y="6"/>
                  </a:lnTo>
                  <a:lnTo>
                    <a:pt x="574" y="0"/>
                  </a:lnTo>
                  <a:lnTo>
                    <a:pt x="562" y="0"/>
                  </a:lnTo>
                  <a:lnTo>
                    <a:pt x="550" y="0"/>
                  </a:lnTo>
                  <a:lnTo>
                    <a:pt x="536" y="4"/>
                  </a:lnTo>
                  <a:lnTo>
                    <a:pt x="522" y="12"/>
                  </a:lnTo>
                  <a:lnTo>
                    <a:pt x="522" y="12"/>
                  </a:lnTo>
                  <a:lnTo>
                    <a:pt x="482" y="12"/>
                  </a:lnTo>
                  <a:lnTo>
                    <a:pt x="482" y="12"/>
                  </a:lnTo>
                  <a:lnTo>
                    <a:pt x="472" y="62"/>
                  </a:lnTo>
                  <a:lnTo>
                    <a:pt x="466" y="112"/>
                  </a:lnTo>
                  <a:lnTo>
                    <a:pt x="462" y="164"/>
                  </a:lnTo>
                  <a:lnTo>
                    <a:pt x="460" y="216"/>
                  </a:lnTo>
                  <a:lnTo>
                    <a:pt x="462" y="266"/>
                  </a:lnTo>
                  <a:lnTo>
                    <a:pt x="464" y="314"/>
                  </a:lnTo>
                  <a:lnTo>
                    <a:pt x="472" y="356"/>
                  </a:lnTo>
                  <a:lnTo>
                    <a:pt x="482" y="394"/>
                  </a:lnTo>
                  <a:lnTo>
                    <a:pt x="482" y="394"/>
                  </a:lnTo>
                  <a:lnTo>
                    <a:pt x="356" y="448"/>
                  </a:lnTo>
                  <a:lnTo>
                    <a:pt x="236" y="504"/>
                  </a:lnTo>
                  <a:lnTo>
                    <a:pt x="118" y="560"/>
                  </a:lnTo>
                  <a:lnTo>
                    <a:pt x="0" y="616"/>
                  </a:lnTo>
                  <a:lnTo>
                    <a:pt x="0" y="616"/>
                  </a:lnTo>
                  <a:lnTo>
                    <a:pt x="0" y="644"/>
                  </a:lnTo>
                  <a:lnTo>
                    <a:pt x="4" y="668"/>
                  </a:lnTo>
                  <a:lnTo>
                    <a:pt x="8" y="690"/>
                  </a:lnTo>
                  <a:lnTo>
                    <a:pt x="12" y="708"/>
                  </a:lnTo>
                  <a:lnTo>
                    <a:pt x="24" y="740"/>
                  </a:lnTo>
                  <a:lnTo>
                    <a:pt x="40" y="776"/>
                  </a:lnTo>
                  <a:lnTo>
                    <a:pt x="40" y="776"/>
                  </a:lnTo>
                  <a:lnTo>
                    <a:pt x="74" y="788"/>
                  </a:lnTo>
                  <a:lnTo>
                    <a:pt x="92" y="792"/>
                  </a:lnTo>
                  <a:lnTo>
                    <a:pt x="120" y="796"/>
                  </a:lnTo>
                  <a:lnTo>
                    <a:pt x="120" y="796"/>
                  </a:lnTo>
                  <a:lnTo>
                    <a:pt x="136" y="802"/>
                  </a:lnTo>
                  <a:lnTo>
                    <a:pt x="154" y="804"/>
                  </a:lnTo>
                  <a:lnTo>
                    <a:pt x="174" y="802"/>
                  </a:lnTo>
                  <a:lnTo>
                    <a:pt x="194" y="796"/>
                  </a:lnTo>
                  <a:lnTo>
                    <a:pt x="214" y="790"/>
                  </a:lnTo>
                  <a:lnTo>
                    <a:pt x="234" y="780"/>
                  </a:lnTo>
                  <a:lnTo>
                    <a:pt x="278" y="758"/>
                  </a:lnTo>
                  <a:lnTo>
                    <a:pt x="324" y="732"/>
                  </a:lnTo>
                  <a:lnTo>
                    <a:pt x="370" y="708"/>
                  </a:lnTo>
                  <a:lnTo>
                    <a:pt x="392" y="698"/>
                  </a:lnTo>
                  <a:lnTo>
                    <a:pt x="416" y="688"/>
                  </a:lnTo>
                  <a:lnTo>
                    <a:pt x="438" y="680"/>
                  </a:lnTo>
                  <a:lnTo>
                    <a:pt x="462" y="676"/>
                  </a:lnTo>
                  <a:lnTo>
                    <a:pt x="462" y="676"/>
                  </a:lnTo>
                  <a:lnTo>
                    <a:pt x="442" y="958"/>
                  </a:lnTo>
                  <a:lnTo>
                    <a:pt x="442" y="958"/>
                  </a:lnTo>
                  <a:lnTo>
                    <a:pt x="388" y="1012"/>
                  </a:lnTo>
                  <a:lnTo>
                    <a:pt x="334" y="1066"/>
                  </a:lnTo>
                  <a:lnTo>
                    <a:pt x="232" y="1180"/>
                  </a:lnTo>
                  <a:lnTo>
                    <a:pt x="182" y="1236"/>
                  </a:lnTo>
                  <a:lnTo>
                    <a:pt x="130" y="1292"/>
                  </a:lnTo>
                  <a:lnTo>
                    <a:pt x="76" y="1348"/>
                  </a:lnTo>
                  <a:lnTo>
                    <a:pt x="20" y="1400"/>
                  </a:lnTo>
                  <a:lnTo>
                    <a:pt x="20" y="1400"/>
                  </a:lnTo>
                  <a:lnTo>
                    <a:pt x="24" y="1446"/>
                  </a:lnTo>
                  <a:lnTo>
                    <a:pt x="28" y="1464"/>
                  </a:lnTo>
                  <a:lnTo>
                    <a:pt x="34" y="1480"/>
                  </a:lnTo>
                  <a:lnTo>
                    <a:pt x="44" y="1508"/>
                  </a:lnTo>
                  <a:lnTo>
                    <a:pt x="60" y="1540"/>
                  </a:lnTo>
                  <a:lnTo>
                    <a:pt x="60" y="1540"/>
                  </a:lnTo>
                  <a:lnTo>
                    <a:pt x="102" y="1558"/>
                  </a:lnTo>
                  <a:lnTo>
                    <a:pt x="122" y="1568"/>
                  </a:lnTo>
                  <a:lnTo>
                    <a:pt x="140" y="1580"/>
                  </a:lnTo>
                  <a:lnTo>
                    <a:pt x="140" y="1580"/>
                  </a:lnTo>
                  <a:lnTo>
                    <a:pt x="162" y="1576"/>
                  </a:lnTo>
                  <a:lnTo>
                    <a:pt x="182" y="1570"/>
                  </a:lnTo>
                  <a:lnTo>
                    <a:pt x="202" y="1562"/>
                  </a:lnTo>
                  <a:lnTo>
                    <a:pt x="220" y="1554"/>
                  </a:lnTo>
                  <a:lnTo>
                    <a:pt x="238" y="1544"/>
                  </a:lnTo>
                  <a:lnTo>
                    <a:pt x="256" y="1534"/>
                  </a:lnTo>
                  <a:lnTo>
                    <a:pt x="290" y="1510"/>
                  </a:lnTo>
                  <a:lnTo>
                    <a:pt x="320" y="1482"/>
                  </a:lnTo>
                  <a:lnTo>
                    <a:pt x="348" y="1456"/>
                  </a:lnTo>
                  <a:lnTo>
                    <a:pt x="402" y="1400"/>
                  </a:lnTo>
                  <a:lnTo>
                    <a:pt x="402" y="1400"/>
                  </a:lnTo>
                  <a:lnTo>
                    <a:pt x="414" y="1424"/>
                  </a:lnTo>
                  <a:lnTo>
                    <a:pt x="422" y="1448"/>
                  </a:lnTo>
                  <a:lnTo>
                    <a:pt x="428" y="1472"/>
                  </a:lnTo>
                  <a:lnTo>
                    <a:pt x="428" y="1494"/>
                  </a:lnTo>
                  <a:lnTo>
                    <a:pt x="426" y="1518"/>
                  </a:lnTo>
                  <a:lnTo>
                    <a:pt x="424" y="1542"/>
                  </a:lnTo>
                  <a:lnTo>
                    <a:pt x="418" y="1564"/>
                  </a:lnTo>
                  <a:lnTo>
                    <a:pt x="410" y="1588"/>
                  </a:lnTo>
                  <a:lnTo>
                    <a:pt x="396" y="1636"/>
                  </a:lnTo>
                  <a:lnTo>
                    <a:pt x="390" y="1658"/>
                  </a:lnTo>
                  <a:lnTo>
                    <a:pt x="384" y="1682"/>
                  </a:lnTo>
                  <a:lnTo>
                    <a:pt x="378" y="1706"/>
                  </a:lnTo>
                  <a:lnTo>
                    <a:pt x="376" y="1732"/>
                  </a:lnTo>
                  <a:lnTo>
                    <a:pt x="378" y="1756"/>
                  </a:lnTo>
                  <a:lnTo>
                    <a:pt x="382" y="1782"/>
                  </a:lnTo>
                  <a:lnTo>
                    <a:pt x="382" y="1782"/>
                  </a:lnTo>
                  <a:lnTo>
                    <a:pt x="388" y="1802"/>
                  </a:lnTo>
                  <a:lnTo>
                    <a:pt x="398" y="1820"/>
                  </a:lnTo>
                  <a:lnTo>
                    <a:pt x="410" y="1838"/>
                  </a:lnTo>
                  <a:lnTo>
                    <a:pt x="426" y="1856"/>
                  </a:lnTo>
                  <a:lnTo>
                    <a:pt x="456" y="1890"/>
                  </a:lnTo>
                  <a:lnTo>
                    <a:pt x="470" y="1906"/>
                  </a:lnTo>
                  <a:lnTo>
                    <a:pt x="482" y="1922"/>
                  </a:lnTo>
                  <a:lnTo>
                    <a:pt x="482" y="1922"/>
                  </a:lnTo>
                  <a:lnTo>
                    <a:pt x="500" y="1920"/>
                  </a:lnTo>
                  <a:lnTo>
                    <a:pt x="518" y="1914"/>
                  </a:lnTo>
                  <a:lnTo>
                    <a:pt x="534" y="1908"/>
                  </a:lnTo>
                  <a:lnTo>
                    <a:pt x="548" y="1900"/>
                  </a:lnTo>
                  <a:lnTo>
                    <a:pt x="562" y="1890"/>
                  </a:lnTo>
                  <a:lnTo>
                    <a:pt x="576" y="1878"/>
                  </a:lnTo>
                  <a:lnTo>
                    <a:pt x="588" y="1864"/>
                  </a:lnTo>
                  <a:lnTo>
                    <a:pt x="598" y="1850"/>
                  </a:lnTo>
                  <a:lnTo>
                    <a:pt x="610" y="1834"/>
                  </a:lnTo>
                  <a:lnTo>
                    <a:pt x="618" y="1816"/>
                  </a:lnTo>
                  <a:lnTo>
                    <a:pt x="636" y="1780"/>
                  </a:lnTo>
                  <a:lnTo>
                    <a:pt x="650" y="1738"/>
                  </a:lnTo>
                  <a:lnTo>
                    <a:pt x="660" y="1694"/>
                  </a:lnTo>
                  <a:lnTo>
                    <a:pt x="668" y="1646"/>
                  </a:lnTo>
                  <a:lnTo>
                    <a:pt x="674" y="1598"/>
                  </a:lnTo>
                  <a:lnTo>
                    <a:pt x="680" y="1550"/>
                  </a:lnTo>
                  <a:lnTo>
                    <a:pt x="682" y="1500"/>
                  </a:lnTo>
                  <a:lnTo>
                    <a:pt x="684" y="1406"/>
                  </a:lnTo>
                  <a:lnTo>
                    <a:pt x="682" y="1320"/>
                  </a:lnTo>
                  <a:lnTo>
                    <a:pt x="682" y="1320"/>
                  </a:lnTo>
                  <a:lnTo>
                    <a:pt x="708" y="1328"/>
                  </a:lnTo>
                  <a:lnTo>
                    <a:pt x="736" y="1338"/>
                  </a:lnTo>
                  <a:lnTo>
                    <a:pt x="798" y="1354"/>
                  </a:lnTo>
                  <a:lnTo>
                    <a:pt x="862" y="1368"/>
                  </a:lnTo>
                  <a:lnTo>
                    <a:pt x="924" y="1380"/>
                  </a:lnTo>
                  <a:lnTo>
                    <a:pt x="924" y="1380"/>
                  </a:lnTo>
                  <a:lnTo>
                    <a:pt x="938" y="1368"/>
                  </a:lnTo>
                  <a:lnTo>
                    <a:pt x="964" y="1360"/>
                  </a:lnTo>
                  <a:lnTo>
                    <a:pt x="964" y="136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57"/>
            <p:cNvSpPr/>
            <p:nvPr/>
          </p:nvSpPr>
          <p:spPr>
            <a:xfrm>
              <a:off x="18384840" y="2654280"/>
              <a:ext cx="2705040" cy="1984680"/>
            </a:xfrm>
            <a:custGeom>
              <a:avLst/>
              <a:gdLst>
                <a:gd name="textAreaLeft" fmla="*/ 0 w 2705040"/>
                <a:gd name="textAreaRight" fmla="*/ 2705400 w 2705040"/>
                <a:gd name="textAreaTop" fmla="*/ 0 h 1984680"/>
                <a:gd name="textAreaBottom" fmla="*/ 1985040 h 1984680"/>
              </a:gdLst>
              <a:ahLst/>
              <a:rect l="textAreaLeft" t="textAreaTop" r="textAreaRight" b="textAreaBottom"/>
              <a:pathLst>
                <a:path w="1704" h="1250">
                  <a:moveTo>
                    <a:pt x="1508" y="466"/>
                  </a:moveTo>
                  <a:lnTo>
                    <a:pt x="1508" y="466"/>
                  </a:lnTo>
                  <a:lnTo>
                    <a:pt x="1512" y="436"/>
                  </a:lnTo>
                  <a:lnTo>
                    <a:pt x="1518" y="404"/>
                  </a:lnTo>
                  <a:lnTo>
                    <a:pt x="1522" y="372"/>
                  </a:lnTo>
                  <a:lnTo>
                    <a:pt x="1528" y="340"/>
                  </a:lnTo>
                  <a:lnTo>
                    <a:pt x="1528" y="308"/>
                  </a:lnTo>
                  <a:lnTo>
                    <a:pt x="1528" y="278"/>
                  </a:lnTo>
                  <a:lnTo>
                    <a:pt x="1524" y="264"/>
                  </a:lnTo>
                  <a:lnTo>
                    <a:pt x="1520" y="250"/>
                  </a:lnTo>
                  <a:lnTo>
                    <a:pt x="1516" y="238"/>
                  </a:lnTo>
                  <a:lnTo>
                    <a:pt x="1508" y="224"/>
                  </a:lnTo>
                  <a:lnTo>
                    <a:pt x="1508" y="224"/>
                  </a:lnTo>
                  <a:lnTo>
                    <a:pt x="1506" y="190"/>
                  </a:lnTo>
                  <a:lnTo>
                    <a:pt x="1500" y="162"/>
                  </a:lnTo>
                  <a:lnTo>
                    <a:pt x="1496" y="140"/>
                  </a:lnTo>
                  <a:lnTo>
                    <a:pt x="1488" y="120"/>
                  </a:lnTo>
                  <a:lnTo>
                    <a:pt x="1480" y="102"/>
                  </a:lnTo>
                  <a:lnTo>
                    <a:pt x="1470" y="86"/>
                  </a:lnTo>
                  <a:lnTo>
                    <a:pt x="1448" y="44"/>
                  </a:lnTo>
                  <a:lnTo>
                    <a:pt x="1448" y="44"/>
                  </a:lnTo>
                  <a:lnTo>
                    <a:pt x="1372" y="28"/>
                  </a:lnTo>
                  <a:lnTo>
                    <a:pt x="1296" y="16"/>
                  </a:lnTo>
                  <a:lnTo>
                    <a:pt x="1222" y="8"/>
                  </a:lnTo>
                  <a:lnTo>
                    <a:pt x="1150" y="2"/>
                  </a:lnTo>
                  <a:lnTo>
                    <a:pt x="1076" y="0"/>
                  </a:lnTo>
                  <a:lnTo>
                    <a:pt x="1006" y="0"/>
                  </a:lnTo>
                  <a:lnTo>
                    <a:pt x="934" y="6"/>
                  </a:lnTo>
                  <a:lnTo>
                    <a:pt x="866" y="14"/>
                  </a:lnTo>
                  <a:lnTo>
                    <a:pt x="798" y="24"/>
                  </a:lnTo>
                  <a:lnTo>
                    <a:pt x="732" y="38"/>
                  </a:lnTo>
                  <a:lnTo>
                    <a:pt x="666" y="54"/>
                  </a:lnTo>
                  <a:lnTo>
                    <a:pt x="602" y="74"/>
                  </a:lnTo>
                  <a:lnTo>
                    <a:pt x="540" y="98"/>
                  </a:lnTo>
                  <a:lnTo>
                    <a:pt x="478" y="124"/>
                  </a:lnTo>
                  <a:lnTo>
                    <a:pt x="420" y="152"/>
                  </a:lnTo>
                  <a:lnTo>
                    <a:pt x="362" y="184"/>
                  </a:lnTo>
                  <a:lnTo>
                    <a:pt x="362" y="184"/>
                  </a:lnTo>
                  <a:lnTo>
                    <a:pt x="352" y="220"/>
                  </a:lnTo>
                  <a:lnTo>
                    <a:pt x="334" y="284"/>
                  </a:lnTo>
                  <a:lnTo>
                    <a:pt x="288" y="462"/>
                  </a:lnTo>
                  <a:lnTo>
                    <a:pt x="244" y="630"/>
                  </a:lnTo>
                  <a:lnTo>
                    <a:pt x="230" y="684"/>
                  </a:lnTo>
                  <a:lnTo>
                    <a:pt x="222" y="708"/>
                  </a:lnTo>
                  <a:lnTo>
                    <a:pt x="222" y="708"/>
                  </a:lnTo>
                  <a:lnTo>
                    <a:pt x="20" y="748"/>
                  </a:lnTo>
                  <a:lnTo>
                    <a:pt x="20" y="748"/>
                  </a:lnTo>
                  <a:lnTo>
                    <a:pt x="12" y="772"/>
                  </a:lnTo>
                  <a:lnTo>
                    <a:pt x="8" y="778"/>
                  </a:lnTo>
                  <a:lnTo>
                    <a:pt x="0" y="788"/>
                  </a:lnTo>
                  <a:lnTo>
                    <a:pt x="0" y="788"/>
                  </a:lnTo>
                  <a:lnTo>
                    <a:pt x="6" y="814"/>
                  </a:lnTo>
                  <a:lnTo>
                    <a:pt x="10" y="838"/>
                  </a:lnTo>
                  <a:lnTo>
                    <a:pt x="18" y="858"/>
                  </a:lnTo>
                  <a:lnTo>
                    <a:pt x="24" y="876"/>
                  </a:lnTo>
                  <a:lnTo>
                    <a:pt x="42" y="910"/>
                  </a:lnTo>
                  <a:lnTo>
                    <a:pt x="60" y="948"/>
                  </a:lnTo>
                  <a:lnTo>
                    <a:pt x="60" y="948"/>
                  </a:lnTo>
                  <a:lnTo>
                    <a:pt x="94" y="958"/>
                  </a:lnTo>
                  <a:lnTo>
                    <a:pt x="132" y="964"/>
                  </a:lnTo>
                  <a:lnTo>
                    <a:pt x="174" y="968"/>
                  </a:lnTo>
                  <a:lnTo>
                    <a:pt x="222" y="968"/>
                  </a:lnTo>
                  <a:lnTo>
                    <a:pt x="222" y="968"/>
                  </a:lnTo>
                  <a:lnTo>
                    <a:pt x="270" y="1104"/>
                  </a:lnTo>
                  <a:lnTo>
                    <a:pt x="296" y="1170"/>
                  </a:lnTo>
                  <a:lnTo>
                    <a:pt x="322" y="1230"/>
                  </a:lnTo>
                  <a:lnTo>
                    <a:pt x="322" y="1230"/>
                  </a:lnTo>
                  <a:lnTo>
                    <a:pt x="338" y="1234"/>
                  </a:lnTo>
                  <a:lnTo>
                    <a:pt x="358" y="1238"/>
                  </a:lnTo>
                  <a:lnTo>
                    <a:pt x="378" y="1240"/>
                  </a:lnTo>
                  <a:lnTo>
                    <a:pt x="402" y="1242"/>
                  </a:lnTo>
                  <a:lnTo>
                    <a:pt x="452" y="1242"/>
                  </a:lnTo>
                  <a:lnTo>
                    <a:pt x="506" y="1238"/>
                  </a:lnTo>
                  <a:lnTo>
                    <a:pt x="564" y="1232"/>
                  </a:lnTo>
                  <a:lnTo>
                    <a:pt x="624" y="1226"/>
                  </a:lnTo>
                  <a:lnTo>
                    <a:pt x="746" y="1210"/>
                  </a:lnTo>
                  <a:lnTo>
                    <a:pt x="806" y="1202"/>
                  </a:lnTo>
                  <a:lnTo>
                    <a:pt x="864" y="1196"/>
                  </a:lnTo>
                  <a:lnTo>
                    <a:pt x="918" y="1194"/>
                  </a:lnTo>
                  <a:lnTo>
                    <a:pt x="966" y="1196"/>
                  </a:lnTo>
                  <a:lnTo>
                    <a:pt x="988" y="1198"/>
                  </a:lnTo>
                  <a:lnTo>
                    <a:pt x="1008" y="1200"/>
                  </a:lnTo>
                  <a:lnTo>
                    <a:pt x="1028" y="1204"/>
                  </a:lnTo>
                  <a:lnTo>
                    <a:pt x="1044" y="1210"/>
                  </a:lnTo>
                  <a:lnTo>
                    <a:pt x="1058" y="1218"/>
                  </a:lnTo>
                  <a:lnTo>
                    <a:pt x="1070" y="1228"/>
                  </a:lnTo>
                  <a:lnTo>
                    <a:pt x="1080" y="1238"/>
                  </a:lnTo>
                  <a:lnTo>
                    <a:pt x="1086" y="1250"/>
                  </a:lnTo>
                  <a:lnTo>
                    <a:pt x="1086" y="1250"/>
                  </a:lnTo>
                  <a:lnTo>
                    <a:pt x="1110" y="1250"/>
                  </a:lnTo>
                  <a:lnTo>
                    <a:pt x="1134" y="1248"/>
                  </a:lnTo>
                  <a:lnTo>
                    <a:pt x="1156" y="1244"/>
                  </a:lnTo>
                  <a:lnTo>
                    <a:pt x="1178" y="1238"/>
                  </a:lnTo>
                  <a:lnTo>
                    <a:pt x="1198" y="1232"/>
                  </a:lnTo>
                  <a:lnTo>
                    <a:pt x="1218" y="1224"/>
                  </a:lnTo>
                  <a:lnTo>
                    <a:pt x="1238" y="1214"/>
                  </a:lnTo>
                  <a:lnTo>
                    <a:pt x="1256" y="1204"/>
                  </a:lnTo>
                  <a:lnTo>
                    <a:pt x="1274" y="1192"/>
                  </a:lnTo>
                  <a:lnTo>
                    <a:pt x="1290" y="1178"/>
                  </a:lnTo>
                  <a:lnTo>
                    <a:pt x="1306" y="1164"/>
                  </a:lnTo>
                  <a:lnTo>
                    <a:pt x="1320" y="1150"/>
                  </a:lnTo>
                  <a:lnTo>
                    <a:pt x="1348" y="1116"/>
                  </a:lnTo>
                  <a:lnTo>
                    <a:pt x="1372" y="1080"/>
                  </a:lnTo>
                  <a:lnTo>
                    <a:pt x="1394" y="1040"/>
                  </a:lnTo>
                  <a:lnTo>
                    <a:pt x="1412" y="998"/>
                  </a:lnTo>
                  <a:lnTo>
                    <a:pt x="1428" y="956"/>
                  </a:lnTo>
                  <a:lnTo>
                    <a:pt x="1442" y="910"/>
                  </a:lnTo>
                  <a:lnTo>
                    <a:pt x="1452" y="864"/>
                  </a:lnTo>
                  <a:lnTo>
                    <a:pt x="1460" y="818"/>
                  </a:lnTo>
                  <a:lnTo>
                    <a:pt x="1464" y="772"/>
                  </a:lnTo>
                  <a:lnTo>
                    <a:pt x="1468" y="728"/>
                  </a:lnTo>
                  <a:lnTo>
                    <a:pt x="1468" y="728"/>
                  </a:lnTo>
                  <a:lnTo>
                    <a:pt x="1526" y="716"/>
                  </a:lnTo>
                  <a:lnTo>
                    <a:pt x="1584" y="700"/>
                  </a:lnTo>
                  <a:lnTo>
                    <a:pt x="1640" y="686"/>
                  </a:lnTo>
                  <a:lnTo>
                    <a:pt x="1666" y="676"/>
                  </a:lnTo>
                  <a:lnTo>
                    <a:pt x="1688" y="666"/>
                  </a:lnTo>
                  <a:lnTo>
                    <a:pt x="1688" y="666"/>
                  </a:lnTo>
                  <a:lnTo>
                    <a:pt x="1698" y="632"/>
                  </a:lnTo>
                  <a:lnTo>
                    <a:pt x="1702" y="616"/>
                  </a:lnTo>
                  <a:lnTo>
                    <a:pt x="1704" y="602"/>
                  </a:lnTo>
                  <a:lnTo>
                    <a:pt x="1704" y="590"/>
                  </a:lnTo>
                  <a:lnTo>
                    <a:pt x="1702" y="576"/>
                  </a:lnTo>
                  <a:lnTo>
                    <a:pt x="1698" y="562"/>
                  </a:lnTo>
                  <a:lnTo>
                    <a:pt x="1688" y="546"/>
                  </a:lnTo>
                  <a:lnTo>
                    <a:pt x="1688" y="546"/>
                  </a:lnTo>
                  <a:lnTo>
                    <a:pt x="1676" y="524"/>
                  </a:lnTo>
                  <a:lnTo>
                    <a:pt x="1662" y="506"/>
                  </a:lnTo>
                  <a:lnTo>
                    <a:pt x="1644" y="490"/>
                  </a:lnTo>
                  <a:lnTo>
                    <a:pt x="1624" y="480"/>
                  </a:lnTo>
                  <a:lnTo>
                    <a:pt x="1600" y="474"/>
                  </a:lnTo>
                  <a:lnTo>
                    <a:pt x="1574" y="468"/>
                  </a:lnTo>
                  <a:lnTo>
                    <a:pt x="1544" y="466"/>
                  </a:lnTo>
                  <a:lnTo>
                    <a:pt x="1508" y="466"/>
                  </a:lnTo>
                  <a:lnTo>
                    <a:pt x="1508" y="466"/>
                  </a:lnTo>
                  <a:close/>
                  <a:moveTo>
                    <a:pt x="664" y="968"/>
                  </a:moveTo>
                  <a:lnTo>
                    <a:pt x="664" y="968"/>
                  </a:lnTo>
                  <a:lnTo>
                    <a:pt x="622" y="984"/>
                  </a:lnTo>
                  <a:lnTo>
                    <a:pt x="580" y="996"/>
                  </a:lnTo>
                  <a:lnTo>
                    <a:pt x="536" y="1004"/>
                  </a:lnTo>
                  <a:lnTo>
                    <a:pt x="510" y="1006"/>
                  </a:lnTo>
                  <a:lnTo>
                    <a:pt x="482" y="1008"/>
                  </a:lnTo>
                  <a:lnTo>
                    <a:pt x="482" y="1008"/>
                  </a:lnTo>
                  <a:lnTo>
                    <a:pt x="480" y="974"/>
                  </a:lnTo>
                  <a:lnTo>
                    <a:pt x="476" y="956"/>
                  </a:lnTo>
                  <a:lnTo>
                    <a:pt x="476" y="948"/>
                  </a:lnTo>
                  <a:lnTo>
                    <a:pt x="476" y="942"/>
                  </a:lnTo>
                  <a:lnTo>
                    <a:pt x="478" y="936"/>
                  </a:lnTo>
                  <a:lnTo>
                    <a:pt x="482" y="928"/>
                  </a:lnTo>
                  <a:lnTo>
                    <a:pt x="482" y="928"/>
                  </a:lnTo>
                  <a:lnTo>
                    <a:pt x="490" y="916"/>
                  </a:lnTo>
                  <a:lnTo>
                    <a:pt x="498" y="904"/>
                  </a:lnTo>
                  <a:lnTo>
                    <a:pt x="506" y="896"/>
                  </a:lnTo>
                  <a:lnTo>
                    <a:pt x="514" y="888"/>
                  </a:lnTo>
                  <a:lnTo>
                    <a:pt x="532" y="876"/>
                  </a:lnTo>
                  <a:lnTo>
                    <a:pt x="554" y="866"/>
                  </a:lnTo>
                  <a:lnTo>
                    <a:pt x="596" y="852"/>
                  </a:lnTo>
                  <a:lnTo>
                    <a:pt x="620" y="842"/>
                  </a:lnTo>
                  <a:lnTo>
                    <a:pt x="644" y="828"/>
                  </a:lnTo>
                  <a:lnTo>
                    <a:pt x="644" y="828"/>
                  </a:lnTo>
                  <a:lnTo>
                    <a:pt x="664" y="828"/>
                  </a:lnTo>
                  <a:lnTo>
                    <a:pt x="664" y="828"/>
                  </a:lnTo>
                  <a:lnTo>
                    <a:pt x="660" y="912"/>
                  </a:lnTo>
                  <a:lnTo>
                    <a:pt x="660" y="940"/>
                  </a:lnTo>
                  <a:lnTo>
                    <a:pt x="664" y="968"/>
                  </a:lnTo>
                  <a:lnTo>
                    <a:pt x="664" y="968"/>
                  </a:lnTo>
                  <a:close/>
                  <a:moveTo>
                    <a:pt x="744" y="546"/>
                  </a:moveTo>
                  <a:lnTo>
                    <a:pt x="744" y="546"/>
                  </a:lnTo>
                  <a:lnTo>
                    <a:pt x="692" y="556"/>
                  </a:lnTo>
                  <a:lnTo>
                    <a:pt x="638" y="568"/>
                  </a:lnTo>
                  <a:lnTo>
                    <a:pt x="610" y="576"/>
                  </a:lnTo>
                  <a:lnTo>
                    <a:pt x="586" y="586"/>
                  </a:lnTo>
                  <a:lnTo>
                    <a:pt x="562" y="596"/>
                  </a:lnTo>
                  <a:lnTo>
                    <a:pt x="542" y="606"/>
                  </a:lnTo>
                  <a:lnTo>
                    <a:pt x="542" y="606"/>
                  </a:lnTo>
                  <a:lnTo>
                    <a:pt x="502" y="606"/>
                  </a:lnTo>
                  <a:lnTo>
                    <a:pt x="502" y="606"/>
                  </a:lnTo>
                  <a:lnTo>
                    <a:pt x="508" y="574"/>
                  </a:lnTo>
                  <a:lnTo>
                    <a:pt x="514" y="544"/>
                  </a:lnTo>
                  <a:lnTo>
                    <a:pt x="522" y="514"/>
                  </a:lnTo>
                  <a:lnTo>
                    <a:pt x="530" y="484"/>
                  </a:lnTo>
                  <a:lnTo>
                    <a:pt x="542" y="456"/>
                  </a:lnTo>
                  <a:lnTo>
                    <a:pt x="554" y="430"/>
                  </a:lnTo>
                  <a:lnTo>
                    <a:pt x="568" y="408"/>
                  </a:lnTo>
                  <a:lnTo>
                    <a:pt x="584" y="386"/>
                  </a:lnTo>
                  <a:lnTo>
                    <a:pt x="584" y="386"/>
                  </a:lnTo>
                  <a:lnTo>
                    <a:pt x="590" y="370"/>
                  </a:lnTo>
                  <a:lnTo>
                    <a:pt x="598" y="358"/>
                  </a:lnTo>
                  <a:lnTo>
                    <a:pt x="604" y="348"/>
                  </a:lnTo>
                  <a:lnTo>
                    <a:pt x="614" y="338"/>
                  </a:lnTo>
                  <a:lnTo>
                    <a:pt x="622" y="330"/>
                  </a:lnTo>
                  <a:lnTo>
                    <a:pt x="632" y="324"/>
                  </a:lnTo>
                  <a:lnTo>
                    <a:pt x="652" y="312"/>
                  </a:lnTo>
                  <a:lnTo>
                    <a:pt x="696" y="292"/>
                  </a:lnTo>
                  <a:lnTo>
                    <a:pt x="720" y="280"/>
                  </a:lnTo>
                  <a:lnTo>
                    <a:pt x="744" y="264"/>
                  </a:lnTo>
                  <a:lnTo>
                    <a:pt x="744" y="264"/>
                  </a:lnTo>
                  <a:lnTo>
                    <a:pt x="804" y="264"/>
                  </a:lnTo>
                  <a:lnTo>
                    <a:pt x="804" y="264"/>
                  </a:lnTo>
                  <a:lnTo>
                    <a:pt x="744" y="546"/>
                  </a:lnTo>
                  <a:lnTo>
                    <a:pt x="744" y="546"/>
                  </a:lnTo>
                  <a:close/>
                  <a:moveTo>
                    <a:pt x="1166" y="888"/>
                  </a:moveTo>
                  <a:lnTo>
                    <a:pt x="1166" y="888"/>
                  </a:lnTo>
                  <a:lnTo>
                    <a:pt x="1106" y="898"/>
                  </a:lnTo>
                  <a:lnTo>
                    <a:pt x="1040" y="910"/>
                  </a:lnTo>
                  <a:lnTo>
                    <a:pt x="1006" y="918"/>
                  </a:lnTo>
                  <a:lnTo>
                    <a:pt x="976" y="926"/>
                  </a:lnTo>
                  <a:lnTo>
                    <a:pt x="948" y="936"/>
                  </a:lnTo>
                  <a:lnTo>
                    <a:pt x="924" y="948"/>
                  </a:lnTo>
                  <a:lnTo>
                    <a:pt x="924" y="948"/>
                  </a:lnTo>
                  <a:lnTo>
                    <a:pt x="904" y="948"/>
                  </a:lnTo>
                  <a:lnTo>
                    <a:pt x="904" y="948"/>
                  </a:lnTo>
                  <a:lnTo>
                    <a:pt x="944" y="768"/>
                  </a:lnTo>
                  <a:lnTo>
                    <a:pt x="944" y="768"/>
                  </a:lnTo>
                  <a:lnTo>
                    <a:pt x="1186" y="728"/>
                  </a:lnTo>
                  <a:lnTo>
                    <a:pt x="1186" y="728"/>
                  </a:lnTo>
                  <a:lnTo>
                    <a:pt x="1186" y="748"/>
                  </a:lnTo>
                  <a:lnTo>
                    <a:pt x="1186" y="748"/>
                  </a:lnTo>
                  <a:lnTo>
                    <a:pt x="1206" y="748"/>
                  </a:lnTo>
                  <a:lnTo>
                    <a:pt x="1206" y="748"/>
                  </a:lnTo>
                  <a:lnTo>
                    <a:pt x="1166" y="888"/>
                  </a:lnTo>
                  <a:lnTo>
                    <a:pt x="1166" y="888"/>
                  </a:lnTo>
                  <a:close/>
                  <a:moveTo>
                    <a:pt x="1246" y="506"/>
                  </a:moveTo>
                  <a:lnTo>
                    <a:pt x="1246" y="506"/>
                  </a:lnTo>
                  <a:lnTo>
                    <a:pt x="1006" y="506"/>
                  </a:lnTo>
                  <a:lnTo>
                    <a:pt x="1006" y="506"/>
                  </a:lnTo>
                  <a:lnTo>
                    <a:pt x="1012" y="476"/>
                  </a:lnTo>
                  <a:lnTo>
                    <a:pt x="1016" y="444"/>
                  </a:lnTo>
                  <a:lnTo>
                    <a:pt x="1020" y="410"/>
                  </a:lnTo>
                  <a:lnTo>
                    <a:pt x="1022" y="374"/>
                  </a:lnTo>
                  <a:lnTo>
                    <a:pt x="1022" y="340"/>
                  </a:lnTo>
                  <a:lnTo>
                    <a:pt x="1020" y="306"/>
                  </a:lnTo>
                  <a:lnTo>
                    <a:pt x="1014" y="274"/>
                  </a:lnTo>
                  <a:lnTo>
                    <a:pt x="1006" y="244"/>
                  </a:lnTo>
                  <a:lnTo>
                    <a:pt x="1006" y="244"/>
                  </a:lnTo>
                  <a:lnTo>
                    <a:pt x="1032" y="238"/>
                  </a:lnTo>
                  <a:lnTo>
                    <a:pt x="1064" y="232"/>
                  </a:lnTo>
                  <a:lnTo>
                    <a:pt x="1098" y="228"/>
                  </a:lnTo>
                  <a:lnTo>
                    <a:pt x="1134" y="226"/>
                  </a:lnTo>
                  <a:lnTo>
                    <a:pt x="1212" y="224"/>
                  </a:lnTo>
                  <a:lnTo>
                    <a:pt x="1286" y="224"/>
                  </a:lnTo>
                  <a:lnTo>
                    <a:pt x="1286" y="224"/>
                  </a:lnTo>
                  <a:lnTo>
                    <a:pt x="1284" y="254"/>
                  </a:lnTo>
                  <a:lnTo>
                    <a:pt x="1282" y="274"/>
                  </a:lnTo>
                  <a:lnTo>
                    <a:pt x="1276" y="290"/>
                  </a:lnTo>
                  <a:lnTo>
                    <a:pt x="1266" y="306"/>
                  </a:lnTo>
                  <a:lnTo>
                    <a:pt x="1266" y="306"/>
                  </a:lnTo>
                  <a:lnTo>
                    <a:pt x="1266" y="362"/>
                  </a:lnTo>
                  <a:lnTo>
                    <a:pt x="1264" y="416"/>
                  </a:lnTo>
                  <a:lnTo>
                    <a:pt x="1258" y="464"/>
                  </a:lnTo>
                  <a:lnTo>
                    <a:pt x="1252" y="486"/>
                  </a:lnTo>
                  <a:lnTo>
                    <a:pt x="1246" y="506"/>
                  </a:lnTo>
                  <a:lnTo>
                    <a:pt x="1246" y="50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58"/>
            <p:cNvSpPr/>
            <p:nvPr/>
          </p:nvSpPr>
          <p:spPr>
            <a:xfrm>
              <a:off x="21639240" y="2838600"/>
              <a:ext cx="1279440" cy="1359000"/>
            </a:xfrm>
            <a:custGeom>
              <a:avLst/>
              <a:gdLst/>
              <a:ahLst/>
              <a:rect l="l" t="t" r="r" b="b"/>
              <a:pathLst>
                <a:path w="806" h="856">
                  <a:moveTo>
                    <a:pt x="498" y="154"/>
                  </a:moveTo>
                  <a:lnTo>
                    <a:pt x="498" y="154"/>
                  </a:lnTo>
                  <a:lnTo>
                    <a:pt x="470" y="116"/>
                  </a:lnTo>
                  <a:lnTo>
                    <a:pt x="444" y="76"/>
                  </a:lnTo>
                  <a:lnTo>
                    <a:pt x="420" y="36"/>
                  </a:lnTo>
                  <a:lnTo>
                    <a:pt x="396" y="0"/>
                  </a:lnTo>
                  <a:lnTo>
                    <a:pt x="396" y="0"/>
                  </a:lnTo>
                  <a:lnTo>
                    <a:pt x="292" y="0"/>
                  </a:lnTo>
                  <a:lnTo>
                    <a:pt x="292" y="0"/>
                  </a:lnTo>
                  <a:lnTo>
                    <a:pt x="282" y="26"/>
                  </a:lnTo>
                  <a:lnTo>
                    <a:pt x="274" y="54"/>
                  </a:lnTo>
                  <a:lnTo>
                    <a:pt x="268" y="80"/>
                  </a:lnTo>
                  <a:lnTo>
                    <a:pt x="268" y="106"/>
                  </a:lnTo>
                  <a:lnTo>
                    <a:pt x="270" y="134"/>
                  </a:lnTo>
                  <a:lnTo>
                    <a:pt x="274" y="162"/>
                  </a:lnTo>
                  <a:lnTo>
                    <a:pt x="282" y="190"/>
                  </a:lnTo>
                  <a:lnTo>
                    <a:pt x="292" y="222"/>
                  </a:lnTo>
                  <a:lnTo>
                    <a:pt x="292" y="222"/>
                  </a:lnTo>
                  <a:lnTo>
                    <a:pt x="258" y="240"/>
                  </a:lnTo>
                  <a:lnTo>
                    <a:pt x="224" y="258"/>
                  </a:lnTo>
                  <a:lnTo>
                    <a:pt x="158" y="296"/>
                  </a:lnTo>
                  <a:lnTo>
                    <a:pt x="124" y="316"/>
                  </a:lnTo>
                  <a:lnTo>
                    <a:pt x="90" y="332"/>
                  </a:lnTo>
                  <a:lnTo>
                    <a:pt x="56" y="348"/>
                  </a:lnTo>
                  <a:lnTo>
                    <a:pt x="18" y="360"/>
                  </a:lnTo>
                  <a:lnTo>
                    <a:pt x="18" y="360"/>
                  </a:lnTo>
                  <a:lnTo>
                    <a:pt x="10" y="380"/>
                  </a:lnTo>
                  <a:lnTo>
                    <a:pt x="0" y="394"/>
                  </a:lnTo>
                  <a:lnTo>
                    <a:pt x="0" y="394"/>
                  </a:lnTo>
                  <a:lnTo>
                    <a:pt x="2" y="426"/>
                  </a:lnTo>
                  <a:lnTo>
                    <a:pt x="4" y="450"/>
                  </a:lnTo>
                  <a:lnTo>
                    <a:pt x="10" y="470"/>
                  </a:lnTo>
                  <a:lnTo>
                    <a:pt x="14" y="486"/>
                  </a:lnTo>
                  <a:lnTo>
                    <a:pt x="22" y="502"/>
                  </a:lnTo>
                  <a:lnTo>
                    <a:pt x="30" y="514"/>
                  </a:lnTo>
                  <a:lnTo>
                    <a:pt x="52" y="548"/>
                  </a:lnTo>
                  <a:lnTo>
                    <a:pt x="52" y="548"/>
                  </a:lnTo>
                  <a:lnTo>
                    <a:pt x="94" y="546"/>
                  </a:lnTo>
                  <a:lnTo>
                    <a:pt x="134" y="540"/>
                  </a:lnTo>
                  <a:lnTo>
                    <a:pt x="170" y="530"/>
                  </a:lnTo>
                  <a:lnTo>
                    <a:pt x="202" y="518"/>
                  </a:lnTo>
                  <a:lnTo>
                    <a:pt x="232" y="504"/>
                  </a:lnTo>
                  <a:lnTo>
                    <a:pt x="260" y="486"/>
                  </a:lnTo>
                  <a:lnTo>
                    <a:pt x="286" y="466"/>
                  </a:lnTo>
                  <a:lnTo>
                    <a:pt x="310" y="446"/>
                  </a:lnTo>
                  <a:lnTo>
                    <a:pt x="310" y="446"/>
                  </a:lnTo>
                  <a:lnTo>
                    <a:pt x="322" y="454"/>
                  </a:lnTo>
                  <a:lnTo>
                    <a:pt x="336" y="468"/>
                  </a:lnTo>
                  <a:lnTo>
                    <a:pt x="348" y="486"/>
                  </a:lnTo>
                  <a:lnTo>
                    <a:pt x="360" y="508"/>
                  </a:lnTo>
                  <a:lnTo>
                    <a:pt x="370" y="532"/>
                  </a:lnTo>
                  <a:lnTo>
                    <a:pt x="382" y="558"/>
                  </a:lnTo>
                  <a:lnTo>
                    <a:pt x="400" y="614"/>
                  </a:lnTo>
                  <a:lnTo>
                    <a:pt x="418" y="672"/>
                  </a:lnTo>
                  <a:lnTo>
                    <a:pt x="432" y="730"/>
                  </a:lnTo>
                  <a:lnTo>
                    <a:pt x="440" y="782"/>
                  </a:lnTo>
                  <a:lnTo>
                    <a:pt x="446" y="822"/>
                  </a:lnTo>
                  <a:lnTo>
                    <a:pt x="446" y="822"/>
                  </a:lnTo>
                  <a:lnTo>
                    <a:pt x="470" y="830"/>
                  </a:lnTo>
                  <a:lnTo>
                    <a:pt x="486" y="836"/>
                  </a:lnTo>
                  <a:lnTo>
                    <a:pt x="500" y="844"/>
                  </a:lnTo>
                  <a:lnTo>
                    <a:pt x="516" y="856"/>
                  </a:lnTo>
                  <a:lnTo>
                    <a:pt x="516" y="856"/>
                  </a:lnTo>
                  <a:lnTo>
                    <a:pt x="540" y="854"/>
                  </a:lnTo>
                  <a:lnTo>
                    <a:pt x="558" y="852"/>
                  </a:lnTo>
                  <a:lnTo>
                    <a:pt x="572" y="848"/>
                  </a:lnTo>
                  <a:lnTo>
                    <a:pt x="584" y="844"/>
                  </a:lnTo>
                  <a:lnTo>
                    <a:pt x="606" y="834"/>
                  </a:lnTo>
                  <a:lnTo>
                    <a:pt x="636" y="822"/>
                  </a:lnTo>
                  <a:lnTo>
                    <a:pt x="636" y="822"/>
                  </a:lnTo>
                  <a:lnTo>
                    <a:pt x="634" y="788"/>
                  </a:lnTo>
                  <a:lnTo>
                    <a:pt x="630" y="756"/>
                  </a:lnTo>
                  <a:lnTo>
                    <a:pt x="622" y="694"/>
                  </a:lnTo>
                  <a:lnTo>
                    <a:pt x="610" y="636"/>
                  </a:lnTo>
                  <a:lnTo>
                    <a:pt x="594" y="580"/>
                  </a:lnTo>
                  <a:lnTo>
                    <a:pt x="562" y="472"/>
                  </a:lnTo>
                  <a:lnTo>
                    <a:pt x="546" y="416"/>
                  </a:lnTo>
                  <a:lnTo>
                    <a:pt x="532" y="360"/>
                  </a:lnTo>
                  <a:lnTo>
                    <a:pt x="532" y="360"/>
                  </a:lnTo>
                  <a:lnTo>
                    <a:pt x="572" y="348"/>
                  </a:lnTo>
                  <a:lnTo>
                    <a:pt x="614" y="338"/>
                  </a:lnTo>
                  <a:lnTo>
                    <a:pt x="634" y="332"/>
                  </a:lnTo>
                  <a:lnTo>
                    <a:pt x="654" y="326"/>
                  </a:lnTo>
                  <a:lnTo>
                    <a:pt x="672" y="318"/>
                  </a:lnTo>
                  <a:lnTo>
                    <a:pt x="686" y="308"/>
                  </a:lnTo>
                  <a:lnTo>
                    <a:pt x="686" y="308"/>
                  </a:lnTo>
                  <a:lnTo>
                    <a:pt x="714" y="306"/>
                  </a:lnTo>
                  <a:lnTo>
                    <a:pt x="734" y="302"/>
                  </a:lnTo>
                  <a:lnTo>
                    <a:pt x="750" y="298"/>
                  </a:lnTo>
                  <a:lnTo>
                    <a:pt x="762" y="292"/>
                  </a:lnTo>
                  <a:lnTo>
                    <a:pt x="770" y="286"/>
                  </a:lnTo>
                  <a:lnTo>
                    <a:pt x="780" y="278"/>
                  </a:lnTo>
                  <a:lnTo>
                    <a:pt x="792" y="268"/>
                  </a:lnTo>
                  <a:lnTo>
                    <a:pt x="806" y="256"/>
                  </a:lnTo>
                  <a:lnTo>
                    <a:pt x="806" y="256"/>
                  </a:lnTo>
                  <a:lnTo>
                    <a:pt x="804" y="232"/>
                  </a:lnTo>
                  <a:lnTo>
                    <a:pt x="796" y="208"/>
                  </a:lnTo>
                  <a:lnTo>
                    <a:pt x="784" y="188"/>
                  </a:lnTo>
                  <a:lnTo>
                    <a:pt x="770" y="170"/>
                  </a:lnTo>
                  <a:lnTo>
                    <a:pt x="754" y="154"/>
                  </a:lnTo>
                  <a:lnTo>
                    <a:pt x="734" y="140"/>
                  </a:lnTo>
                  <a:lnTo>
                    <a:pt x="714" y="128"/>
                  </a:lnTo>
                  <a:lnTo>
                    <a:pt x="690" y="120"/>
                  </a:lnTo>
                  <a:lnTo>
                    <a:pt x="666" y="114"/>
                  </a:lnTo>
                  <a:lnTo>
                    <a:pt x="642" y="112"/>
                  </a:lnTo>
                  <a:lnTo>
                    <a:pt x="618" y="110"/>
                  </a:lnTo>
                  <a:lnTo>
                    <a:pt x="592" y="114"/>
                  </a:lnTo>
                  <a:lnTo>
                    <a:pt x="568" y="118"/>
                  </a:lnTo>
                  <a:lnTo>
                    <a:pt x="542" y="128"/>
                  </a:lnTo>
                  <a:lnTo>
                    <a:pt x="520" y="138"/>
                  </a:lnTo>
                  <a:lnTo>
                    <a:pt x="498" y="154"/>
                  </a:lnTo>
                  <a:lnTo>
                    <a:pt x="498" y="15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59"/>
            <p:cNvSpPr/>
            <p:nvPr/>
          </p:nvSpPr>
          <p:spPr>
            <a:xfrm>
              <a:off x="23081040" y="2990880"/>
              <a:ext cx="1854000" cy="1616040"/>
            </a:xfrm>
            <a:custGeom>
              <a:avLst/>
              <a:gdLst>
                <a:gd name="textAreaLeft" fmla="*/ 0 w 1854000"/>
                <a:gd name="textAreaRight" fmla="*/ 1854360 w 1854000"/>
                <a:gd name="textAreaTop" fmla="*/ 0 h 1616040"/>
                <a:gd name="textAreaBottom" fmla="*/ 1616400 h 1616040"/>
              </a:gdLst>
              <a:ahLst/>
              <a:rect l="textAreaLeft" t="textAreaTop" r="textAreaRight" b="textAreaBottom"/>
              <a:pathLst>
                <a:path w="1168" h="1018">
                  <a:moveTo>
                    <a:pt x="1150" y="624"/>
                  </a:moveTo>
                  <a:lnTo>
                    <a:pt x="1150" y="624"/>
                  </a:lnTo>
                  <a:lnTo>
                    <a:pt x="1146" y="602"/>
                  </a:lnTo>
                  <a:lnTo>
                    <a:pt x="1142" y="586"/>
                  </a:lnTo>
                  <a:lnTo>
                    <a:pt x="1136" y="574"/>
                  </a:lnTo>
                  <a:lnTo>
                    <a:pt x="1130" y="564"/>
                  </a:lnTo>
                  <a:lnTo>
                    <a:pt x="1116" y="546"/>
                  </a:lnTo>
                  <a:lnTo>
                    <a:pt x="1100" y="520"/>
                  </a:lnTo>
                  <a:lnTo>
                    <a:pt x="1100" y="520"/>
                  </a:lnTo>
                  <a:lnTo>
                    <a:pt x="1068" y="522"/>
                  </a:lnTo>
                  <a:lnTo>
                    <a:pt x="1042" y="526"/>
                  </a:lnTo>
                  <a:lnTo>
                    <a:pt x="1020" y="532"/>
                  </a:lnTo>
                  <a:lnTo>
                    <a:pt x="1000" y="540"/>
                  </a:lnTo>
                  <a:lnTo>
                    <a:pt x="984" y="550"/>
                  </a:lnTo>
                  <a:lnTo>
                    <a:pt x="972" y="560"/>
                  </a:lnTo>
                  <a:lnTo>
                    <a:pt x="960" y="570"/>
                  </a:lnTo>
                  <a:lnTo>
                    <a:pt x="950" y="582"/>
                  </a:lnTo>
                  <a:lnTo>
                    <a:pt x="932" y="610"/>
                  </a:lnTo>
                  <a:lnTo>
                    <a:pt x="914" y="638"/>
                  </a:lnTo>
                  <a:lnTo>
                    <a:pt x="904" y="652"/>
                  </a:lnTo>
                  <a:lnTo>
                    <a:pt x="890" y="666"/>
                  </a:lnTo>
                  <a:lnTo>
                    <a:pt x="876" y="678"/>
                  </a:lnTo>
                  <a:lnTo>
                    <a:pt x="860" y="692"/>
                  </a:lnTo>
                  <a:lnTo>
                    <a:pt x="860" y="692"/>
                  </a:lnTo>
                  <a:lnTo>
                    <a:pt x="840" y="702"/>
                  </a:lnTo>
                  <a:lnTo>
                    <a:pt x="820" y="712"/>
                  </a:lnTo>
                  <a:lnTo>
                    <a:pt x="780" y="726"/>
                  </a:lnTo>
                  <a:lnTo>
                    <a:pt x="760" y="732"/>
                  </a:lnTo>
                  <a:lnTo>
                    <a:pt x="740" y="740"/>
                  </a:lnTo>
                  <a:lnTo>
                    <a:pt x="722" y="748"/>
                  </a:lnTo>
                  <a:lnTo>
                    <a:pt x="704" y="760"/>
                  </a:lnTo>
                  <a:lnTo>
                    <a:pt x="704" y="760"/>
                  </a:lnTo>
                  <a:lnTo>
                    <a:pt x="682" y="750"/>
                  </a:lnTo>
                  <a:lnTo>
                    <a:pt x="660" y="740"/>
                  </a:lnTo>
                  <a:lnTo>
                    <a:pt x="640" y="726"/>
                  </a:lnTo>
                  <a:lnTo>
                    <a:pt x="622" y="712"/>
                  </a:lnTo>
                  <a:lnTo>
                    <a:pt x="586" y="680"/>
                  </a:lnTo>
                  <a:lnTo>
                    <a:pt x="550" y="648"/>
                  </a:lnTo>
                  <a:lnTo>
                    <a:pt x="516" y="618"/>
                  </a:lnTo>
                  <a:lnTo>
                    <a:pt x="496" y="604"/>
                  </a:lnTo>
                  <a:lnTo>
                    <a:pt x="476" y="590"/>
                  </a:lnTo>
                  <a:lnTo>
                    <a:pt x="454" y="578"/>
                  </a:lnTo>
                  <a:lnTo>
                    <a:pt x="432" y="568"/>
                  </a:lnTo>
                  <a:lnTo>
                    <a:pt x="406" y="560"/>
                  </a:lnTo>
                  <a:lnTo>
                    <a:pt x="380" y="554"/>
                  </a:lnTo>
                  <a:lnTo>
                    <a:pt x="380" y="554"/>
                  </a:lnTo>
                  <a:lnTo>
                    <a:pt x="384" y="538"/>
                  </a:lnTo>
                  <a:lnTo>
                    <a:pt x="388" y="520"/>
                  </a:lnTo>
                  <a:lnTo>
                    <a:pt x="402" y="486"/>
                  </a:lnTo>
                  <a:lnTo>
                    <a:pt x="420" y="454"/>
                  </a:lnTo>
                  <a:lnTo>
                    <a:pt x="440" y="422"/>
                  </a:lnTo>
                  <a:lnTo>
                    <a:pt x="482" y="360"/>
                  </a:lnTo>
                  <a:lnTo>
                    <a:pt x="526" y="298"/>
                  </a:lnTo>
                  <a:lnTo>
                    <a:pt x="544" y="268"/>
                  </a:lnTo>
                  <a:lnTo>
                    <a:pt x="562" y="236"/>
                  </a:lnTo>
                  <a:lnTo>
                    <a:pt x="576" y="204"/>
                  </a:lnTo>
                  <a:lnTo>
                    <a:pt x="586" y="170"/>
                  </a:lnTo>
                  <a:lnTo>
                    <a:pt x="588" y="154"/>
                  </a:lnTo>
                  <a:lnTo>
                    <a:pt x="590" y="136"/>
                  </a:lnTo>
                  <a:lnTo>
                    <a:pt x="590" y="118"/>
                  </a:lnTo>
                  <a:lnTo>
                    <a:pt x="590" y="100"/>
                  </a:lnTo>
                  <a:lnTo>
                    <a:pt x="586" y="82"/>
                  </a:lnTo>
                  <a:lnTo>
                    <a:pt x="582" y="62"/>
                  </a:lnTo>
                  <a:lnTo>
                    <a:pt x="576" y="44"/>
                  </a:lnTo>
                  <a:lnTo>
                    <a:pt x="568" y="24"/>
                  </a:lnTo>
                  <a:lnTo>
                    <a:pt x="568" y="24"/>
                  </a:lnTo>
                  <a:lnTo>
                    <a:pt x="538" y="10"/>
                  </a:lnTo>
                  <a:lnTo>
                    <a:pt x="512" y="2"/>
                  </a:lnTo>
                  <a:lnTo>
                    <a:pt x="500" y="0"/>
                  </a:lnTo>
                  <a:lnTo>
                    <a:pt x="488" y="0"/>
                  </a:lnTo>
                  <a:lnTo>
                    <a:pt x="476" y="2"/>
                  </a:lnTo>
                  <a:lnTo>
                    <a:pt x="464" y="6"/>
                  </a:lnTo>
                  <a:lnTo>
                    <a:pt x="464" y="6"/>
                  </a:lnTo>
                  <a:lnTo>
                    <a:pt x="448" y="12"/>
                  </a:lnTo>
                  <a:lnTo>
                    <a:pt x="436" y="18"/>
                  </a:lnTo>
                  <a:lnTo>
                    <a:pt x="424" y="24"/>
                  </a:lnTo>
                  <a:lnTo>
                    <a:pt x="414" y="34"/>
                  </a:lnTo>
                  <a:lnTo>
                    <a:pt x="406" y="42"/>
                  </a:lnTo>
                  <a:lnTo>
                    <a:pt x="398" y="52"/>
                  </a:lnTo>
                  <a:lnTo>
                    <a:pt x="388" y="76"/>
                  </a:lnTo>
                  <a:lnTo>
                    <a:pt x="378" y="100"/>
                  </a:lnTo>
                  <a:lnTo>
                    <a:pt x="370" y="126"/>
                  </a:lnTo>
                  <a:lnTo>
                    <a:pt x="358" y="152"/>
                  </a:lnTo>
                  <a:lnTo>
                    <a:pt x="344" y="178"/>
                  </a:lnTo>
                  <a:lnTo>
                    <a:pt x="344" y="178"/>
                  </a:lnTo>
                  <a:lnTo>
                    <a:pt x="266" y="300"/>
                  </a:lnTo>
                  <a:lnTo>
                    <a:pt x="226" y="360"/>
                  </a:lnTo>
                  <a:lnTo>
                    <a:pt x="188" y="420"/>
                  </a:lnTo>
                  <a:lnTo>
                    <a:pt x="152" y="482"/>
                  </a:lnTo>
                  <a:lnTo>
                    <a:pt x="118" y="548"/>
                  </a:lnTo>
                  <a:lnTo>
                    <a:pt x="84" y="618"/>
                  </a:lnTo>
                  <a:lnTo>
                    <a:pt x="54" y="692"/>
                  </a:lnTo>
                  <a:lnTo>
                    <a:pt x="54" y="692"/>
                  </a:lnTo>
                  <a:lnTo>
                    <a:pt x="32" y="744"/>
                  </a:lnTo>
                  <a:lnTo>
                    <a:pt x="20" y="774"/>
                  </a:lnTo>
                  <a:lnTo>
                    <a:pt x="10" y="806"/>
                  </a:lnTo>
                  <a:lnTo>
                    <a:pt x="2" y="838"/>
                  </a:lnTo>
                  <a:lnTo>
                    <a:pt x="0" y="856"/>
                  </a:lnTo>
                  <a:lnTo>
                    <a:pt x="0" y="872"/>
                  </a:lnTo>
                  <a:lnTo>
                    <a:pt x="2" y="888"/>
                  </a:lnTo>
                  <a:lnTo>
                    <a:pt x="6" y="904"/>
                  </a:lnTo>
                  <a:lnTo>
                    <a:pt x="10" y="918"/>
                  </a:lnTo>
                  <a:lnTo>
                    <a:pt x="18" y="932"/>
                  </a:lnTo>
                  <a:lnTo>
                    <a:pt x="18" y="932"/>
                  </a:lnTo>
                  <a:lnTo>
                    <a:pt x="24" y="952"/>
                  </a:lnTo>
                  <a:lnTo>
                    <a:pt x="30" y="966"/>
                  </a:lnTo>
                  <a:lnTo>
                    <a:pt x="34" y="976"/>
                  </a:lnTo>
                  <a:lnTo>
                    <a:pt x="40" y="982"/>
                  </a:lnTo>
                  <a:lnTo>
                    <a:pt x="52" y="996"/>
                  </a:lnTo>
                  <a:lnTo>
                    <a:pt x="60" y="1006"/>
                  </a:lnTo>
                  <a:lnTo>
                    <a:pt x="70" y="1018"/>
                  </a:lnTo>
                  <a:lnTo>
                    <a:pt x="70" y="1018"/>
                  </a:lnTo>
                  <a:lnTo>
                    <a:pt x="174" y="1000"/>
                  </a:lnTo>
                  <a:lnTo>
                    <a:pt x="174" y="1000"/>
                  </a:lnTo>
                  <a:lnTo>
                    <a:pt x="190" y="964"/>
                  </a:lnTo>
                  <a:lnTo>
                    <a:pt x="210" y="932"/>
                  </a:lnTo>
                  <a:lnTo>
                    <a:pt x="228" y="902"/>
                  </a:lnTo>
                  <a:lnTo>
                    <a:pt x="248" y="874"/>
                  </a:lnTo>
                  <a:lnTo>
                    <a:pt x="288" y="818"/>
                  </a:lnTo>
                  <a:lnTo>
                    <a:pt x="328" y="760"/>
                  </a:lnTo>
                  <a:lnTo>
                    <a:pt x="328" y="760"/>
                  </a:lnTo>
                  <a:lnTo>
                    <a:pt x="346" y="764"/>
                  </a:lnTo>
                  <a:lnTo>
                    <a:pt x="368" y="770"/>
                  </a:lnTo>
                  <a:lnTo>
                    <a:pt x="390" y="778"/>
                  </a:lnTo>
                  <a:lnTo>
                    <a:pt x="412" y="790"/>
                  </a:lnTo>
                  <a:lnTo>
                    <a:pt x="460" y="816"/>
                  </a:lnTo>
                  <a:lnTo>
                    <a:pt x="510" y="846"/>
                  </a:lnTo>
                  <a:lnTo>
                    <a:pt x="556" y="878"/>
                  </a:lnTo>
                  <a:lnTo>
                    <a:pt x="600" y="912"/>
                  </a:lnTo>
                  <a:lnTo>
                    <a:pt x="670" y="966"/>
                  </a:lnTo>
                  <a:lnTo>
                    <a:pt x="670" y="966"/>
                  </a:lnTo>
                  <a:lnTo>
                    <a:pt x="714" y="964"/>
                  </a:lnTo>
                  <a:lnTo>
                    <a:pt x="756" y="958"/>
                  </a:lnTo>
                  <a:lnTo>
                    <a:pt x="798" y="950"/>
                  </a:lnTo>
                  <a:lnTo>
                    <a:pt x="838" y="940"/>
                  </a:lnTo>
                  <a:lnTo>
                    <a:pt x="876" y="928"/>
                  </a:lnTo>
                  <a:lnTo>
                    <a:pt x="914" y="912"/>
                  </a:lnTo>
                  <a:lnTo>
                    <a:pt x="948" y="894"/>
                  </a:lnTo>
                  <a:lnTo>
                    <a:pt x="980" y="874"/>
                  </a:lnTo>
                  <a:lnTo>
                    <a:pt x="1012" y="852"/>
                  </a:lnTo>
                  <a:lnTo>
                    <a:pt x="1040" y="828"/>
                  </a:lnTo>
                  <a:lnTo>
                    <a:pt x="1066" y="802"/>
                  </a:lnTo>
                  <a:lnTo>
                    <a:pt x="1088" y="772"/>
                  </a:lnTo>
                  <a:lnTo>
                    <a:pt x="1108" y="742"/>
                  </a:lnTo>
                  <a:lnTo>
                    <a:pt x="1126" y="710"/>
                  </a:lnTo>
                  <a:lnTo>
                    <a:pt x="1140" y="676"/>
                  </a:lnTo>
                  <a:lnTo>
                    <a:pt x="1150" y="640"/>
                  </a:lnTo>
                  <a:lnTo>
                    <a:pt x="1150" y="640"/>
                  </a:lnTo>
                  <a:lnTo>
                    <a:pt x="1168" y="640"/>
                  </a:lnTo>
                  <a:lnTo>
                    <a:pt x="1168" y="640"/>
                  </a:lnTo>
                  <a:lnTo>
                    <a:pt x="1168" y="624"/>
                  </a:lnTo>
                  <a:lnTo>
                    <a:pt x="1168" y="624"/>
                  </a:lnTo>
                  <a:lnTo>
                    <a:pt x="1150" y="624"/>
                  </a:lnTo>
                  <a:lnTo>
                    <a:pt x="1150" y="62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60"/>
            <p:cNvSpPr/>
            <p:nvPr/>
          </p:nvSpPr>
          <p:spPr>
            <a:xfrm>
              <a:off x="21544200" y="3969000"/>
              <a:ext cx="990360" cy="691920"/>
            </a:xfrm>
            <a:custGeom>
              <a:avLst/>
              <a:gdLst>
                <a:gd name="textAreaLeft" fmla="*/ 0 w 990360"/>
                <a:gd name="textAreaRight" fmla="*/ 990720 w 990360"/>
                <a:gd name="textAreaTop" fmla="*/ 0 h 691920"/>
                <a:gd name="textAreaBottom" fmla="*/ 691920 h 691920"/>
              </a:gdLst>
              <a:ahLst/>
              <a:rect l="textAreaLeft" t="textAreaTop" r="textAreaRight" b="textAreaBottom"/>
              <a:pathLst>
                <a:path w="624" h="436">
                  <a:moveTo>
                    <a:pt x="382" y="180"/>
                  </a:moveTo>
                  <a:lnTo>
                    <a:pt x="382" y="180"/>
                  </a:lnTo>
                  <a:lnTo>
                    <a:pt x="358" y="172"/>
                  </a:lnTo>
                  <a:lnTo>
                    <a:pt x="336" y="162"/>
                  </a:lnTo>
                  <a:lnTo>
                    <a:pt x="316" y="150"/>
                  </a:lnTo>
                  <a:lnTo>
                    <a:pt x="296" y="136"/>
                  </a:lnTo>
                  <a:lnTo>
                    <a:pt x="264" y="108"/>
                  </a:lnTo>
                  <a:lnTo>
                    <a:pt x="232" y="78"/>
                  </a:lnTo>
                  <a:lnTo>
                    <a:pt x="198" y="50"/>
                  </a:lnTo>
                  <a:lnTo>
                    <a:pt x="180" y="38"/>
                  </a:lnTo>
                  <a:lnTo>
                    <a:pt x="162" y="26"/>
                  </a:lnTo>
                  <a:lnTo>
                    <a:pt x="140" y="16"/>
                  </a:lnTo>
                  <a:lnTo>
                    <a:pt x="116" y="8"/>
                  </a:lnTo>
                  <a:lnTo>
                    <a:pt x="90" y="4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46" y="12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12" y="46"/>
                  </a:lnTo>
                  <a:lnTo>
                    <a:pt x="8" y="5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2" y="82"/>
                  </a:lnTo>
                  <a:lnTo>
                    <a:pt x="4" y="104"/>
                  </a:lnTo>
                  <a:lnTo>
                    <a:pt x="10" y="124"/>
                  </a:lnTo>
                  <a:lnTo>
                    <a:pt x="18" y="146"/>
                  </a:lnTo>
                  <a:lnTo>
                    <a:pt x="26" y="168"/>
                  </a:lnTo>
                  <a:lnTo>
                    <a:pt x="36" y="188"/>
                  </a:lnTo>
                  <a:lnTo>
                    <a:pt x="48" y="210"/>
                  </a:lnTo>
                  <a:lnTo>
                    <a:pt x="62" y="230"/>
                  </a:lnTo>
                  <a:lnTo>
                    <a:pt x="76" y="250"/>
                  </a:lnTo>
                  <a:lnTo>
                    <a:pt x="92" y="270"/>
                  </a:lnTo>
                  <a:lnTo>
                    <a:pt x="110" y="288"/>
                  </a:lnTo>
                  <a:lnTo>
                    <a:pt x="128" y="306"/>
                  </a:lnTo>
                  <a:lnTo>
                    <a:pt x="146" y="324"/>
                  </a:lnTo>
                  <a:lnTo>
                    <a:pt x="168" y="340"/>
                  </a:lnTo>
                  <a:lnTo>
                    <a:pt x="188" y="356"/>
                  </a:lnTo>
                  <a:lnTo>
                    <a:pt x="210" y="370"/>
                  </a:lnTo>
                  <a:lnTo>
                    <a:pt x="232" y="384"/>
                  </a:lnTo>
                  <a:lnTo>
                    <a:pt x="256" y="396"/>
                  </a:lnTo>
                  <a:lnTo>
                    <a:pt x="278" y="406"/>
                  </a:lnTo>
                  <a:lnTo>
                    <a:pt x="302" y="414"/>
                  </a:lnTo>
                  <a:lnTo>
                    <a:pt x="326" y="422"/>
                  </a:lnTo>
                  <a:lnTo>
                    <a:pt x="350" y="428"/>
                  </a:lnTo>
                  <a:lnTo>
                    <a:pt x="374" y="432"/>
                  </a:lnTo>
                  <a:lnTo>
                    <a:pt x="400" y="436"/>
                  </a:lnTo>
                  <a:lnTo>
                    <a:pt x="424" y="436"/>
                  </a:lnTo>
                  <a:lnTo>
                    <a:pt x="448" y="434"/>
                  </a:lnTo>
                  <a:lnTo>
                    <a:pt x="472" y="432"/>
                  </a:lnTo>
                  <a:lnTo>
                    <a:pt x="494" y="426"/>
                  </a:lnTo>
                  <a:lnTo>
                    <a:pt x="518" y="418"/>
                  </a:lnTo>
                  <a:lnTo>
                    <a:pt x="540" y="408"/>
                  </a:lnTo>
                  <a:lnTo>
                    <a:pt x="562" y="396"/>
                  </a:lnTo>
                  <a:lnTo>
                    <a:pt x="584" y="382"/>
                  </a:lnTo>
                  <a:lnTo>
                    <a:pt x="584" y="382"/>
                  </a:lnTo>
                  <a:lnTo>
                    <a:pt x="624" y="382"/>
                  </a:lnTo>
                  <a:lnTo>
                    <a:pt x="624" y="382"/>
                  </a:lnTo>
                  <a:lnTo>
                    <a:pt x="624" y="242"/>
                  </a:lnTo>
                  <a:lnTo>
                    <a:pt x="624" y="242"/>
                  </a:lnTo>
                  <a:lnTo>
                    <a:pt x="616" y="228"/>
                  </a:lnTo>
                  <a:lnTo>
                    <a:pt x="606" y="216"/>
                  </a:lnTo>
                  <a:lnTo>
                    <a:pt x="596" y="208"/>
                  </a:lnTo>
                  <a:lnTo>
                    <a:pt x="584" y="202"/>
                  </a:lnTo>
                  <a:lnTo>
                    <a:pt x="570" y="196"/>
                  </a:lnTo>
                  <a:lnTo>
                    <a:pt x="556" y="194"/>
                  </a:lnTo>
                  <a:lnTo>
                    <a:pt x="526" y="192"/>
                  </a:lnTo>
                  <a:lnTo>
                    <a:pt x="456" y="192"/>
                  </a:lnTo>
                  <a:lnTo>
                    <a:pt x="420" y="188"/>
                  </a:lnTo>
                  <a:lnTo>
                    <a:pt x="402" y="186"/>
                  </a:lnTo>
                  <a:lnTo>
                    <a:pt x="382" y="180"/>
                  </a:lnTo>
                  <a:lnTo>
                    <a:pt x="382" y="18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グループ化 88"/>
          <p:cNvGrpSpPr/>
          <p:nvPr/>
        </p:nvGrpSpPr>
        <p:grpSpPr>
          <a:xfrm>
            <a:off x="1941480" y="1108080"/>
            <a:ext cx="4384800" cy="3666960"/>
            <a:chOff x="1941480" y="1108080"/>
            <a:chExt cx="4384800" cy="3666960"/>
          </a:xfrm>
        </p:grpSpPr>
        <p:sp>
          <p:nvSpPr>
            <p:cNvPr id="95" name="Freeform 61"/>
            <p:cNvSpPr/>
            <p:nvPr/>
          </p:nvSpPr>
          <p:spPr>
            <a:xfrm>
              <a:off x="5691240" y="3038400"/>
              <a:ext cx="199800" cy="28548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126" h="180">
                  <a:moveTo>
                    <a:pt x="112" y="40"/>
                  </a:moveTo>
                  <a:lnTo>
                    <a:pt x="112" y="40"/>
                  </a:lnTo>
                  <a:lnTo>
                    <a:pt x="108" y="32"/>
                  </a:lnTo>
                  <a:lnTo>
                    <a:pt x="104" y="26"/>
                  </a:lnTo>
                  <a:lnTo>
                    <a:pt x="94" y="16"/>
                  </a:lnTo>
                  <a:lnTo>
                    <a:pt x="84" y="1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56" y="4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38" y="12"/>
                  </a:lnTo>
                  <a:lnTo>
                    <a:pt x="36" y="12"/>
                  </a:lnTo>
                  <a:lnTo>
                    <a:pt x="36" y="14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28" y="32"/>
                  </a:lnTo>
                  <a:lnTo>
                    <a:pt x="30" y="38"/>
                  </a:lnTo>
                  <a:lnTo>
                    <a:pt x="32" y="46"/>
                  </a:lnTo>
                  <a:lnTo>
                    <a:pt x="36" y="52"/>
                  </a:lnTo>
                  <a:lnTo>
                    <a:pt x="38" y="58"/>
                  </a:lnTo>
                  <a:lnTo>
                    <a:pt x="42" y="66"/>
                  </a:lnTo>
                  <a:lnTo>
                    <a:pt x="42" y="76"/>
                  </a:lnTo>
                  <a:lnTo>
                    <a:pt x="40" y="88"/>
                  </a:lnTo>
                  <a:lnTo>
                    <a:pt x="40" y="88"/>
                  </a:lnTo>
                  <a:lnTo>
                    <a:pt x="36" y="94"/>
                  </a:lnTo>
                  <a:lnTo>
                    <a:pt x="32" y="100"/>
                  </a:lnTo>
                  <a:lnTo>
                    <a:pt x="20" y="112"/>
                  </a:lnTo>
                  <a:lnTo>
                    <a:pt x="8" y="124"/>
                  </a:lnTo>
                  <a:lnTo>
                    <a:pt x="2" y="130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4" y="146"/>
                  </a:lnTo>
                  <a:lnTo>
                    <a:pt x="8" y="154"/>
                  </a:lnTo>
                  <a:lnTo>
                    <a:pt x="12" y="162"/>
                  </a:lnTo>
                  <a:lnTo>
                    <a:pt x="16" y="176"/>
                  </a:lnTo>
                  <a:lnTo>
                    <a:pt x="16" y="176"/>
                  </a:lnTo>
                  <a:lnTo>
                    <a:pt x="48" y="180"/>
                  </a:lnTo>
                  <a:lnTo>
                    <a:pt x="60" y="180"/>
                  </a:lnTo>
                  <a:lnTo>
                    <a:pt x="72" y="176"/>
                  </a:lnTo>
                  <a:lnTo>
                    <a:pt x="72" y="176"/>
                  </a:lnTo>
                  <a:lnTo>
                    <a:pt x="80" y="174"/>
                  </a:lnTo>
                  <a:lnTo>
                    <a:pt x="86" y="168"/>
                  </a:lnTo>
                  <a:lnTo>
                    <a:pt x="100" y="154"/>
                  </a:lnTo>
                  <a:lnTo>
                    <a:pt x="112" y="138"/>
                  </a:lnTo>
                  <a:lnTo>
                    <a:pt x="120" y="118"/>
                  </a:lnTo>
                  <a:lnTo>
                    <a:pt x="126" y="98"/>
                  </a:lnTo>
                  <a:lnTo>
                    <a:pt x="126" y="76"/>
                  </a:lnTo>
                  <a:lnTo>
                    <a:pt x="124" y="66"/>
                  </a:lnTo>
                  <a:lnTo>
                    <a:pt x="122" y="58"/>
                  </a:lnTo>
                  <a:lnTo>
                    <a:pt x="116" y="48"/>
                  </a:lnTo>
                  <a:lnTo>
                    <a:pt x="112" y="40"/>
                  </a:lnTo>
                  <a:lnTo>
                    <a:pt x="11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62"/>
            <p:cNvSpPr/>
            <p:nvPr/>
          </p:nvSpPr>
          <p:spPr>
            <a:xfrm>
              <a:off x="1941480" y="1108080"/>
              <a:ext cx="4384800" cy="3666960"/>
            </a:xfrm>
            <a:custGeom>
              <a:avLst/>
              <a:gdLst>
                <a:gd name="textAreaLeft" fmla="*/ 0 w 4384800"/>
                <a:gd name="textAreaRight" fmla="*/ 4385160 w 4384800"/>
                <a:gd name="textAreaTop" fmla="*/ 0 h 3666960"/>
                <a:gd name="textAreaBottom" fmla="*/ 3667320 h 3666960"/>
              </a:gdLst>
              <a:ahLst/>
              <a:rect l="textAreaLeft" t="textAreaTop" r="textAreaRight" b="textAreaBottom"/>
              <a:pathLst>
                <a:path w="2762" h="2310">
                  <a:moveTo>
                    <a:pt x="2466" y="1624"/>
                  </a:moveTo>
                  <a:lnTo>
                    <a:pt x="2466" y="1624"/>
                  </a:lnTo>
                  <a:lnTo>
                    <a:pt x="2474" y="1616"/>
                  </a:lnTo>
                  <a:lnTo>
                    <a:pt x="2486" y="1608"/>
                  </a:lnTo>
                  <a:lnTo>
                    <a:pt x="2498" y="1606"/>
                  </a:lnTo>
                  <a:lnTo>
                    <a:pt x="2512" y="1604"/>
                  </a:lnTo>
                  <a:lnTo>
                    <a:pt x="2542" y="1600"/>
                  </a:lnTo>
                  <a:lnTo>
                    <a:pt x="2556" y="1598"/>
                  </a:lnTo>
                  <a:lnTo>
                    <a:pt x="2570" y="1592"/>
                  </a:lnTo>
                  <a:lnTo>
                    <a:pt x="2570" y="1592"/>
                  </a:lnTo>
                  <a:lnTo>
                    <a:pt x="2596" y="1578"/>
                  </a:lnTo>
                  <a:lnTo>
                    <a:pt x="2626" y="1558"/>
                  </a:lnTo>
                  <a:lnTo>
                    <a:pt x="2652" y="1534"/>
                  </a:lnTo>
                  <a:lnTo>
                    <a:pt x="2664" y="1524"/>
                  </a:lnTo>
                  <a:lnTo>
                    <a:pt x="2674" y="1512"/>
                  </a:lnTo>
                  <a:lnTo>
                    <a:pt x="2674" y="1512"/>
                  </a:lnTo>
                  <a:lnTo>
                    <a:pt x="2696" y="1484"/>
                  </a:lnTo>
                  <a:lnTo>
                    <a:pt x="2718" y="1450"/>
                  </a:lnTo>
                  <a:lnTo>
                    <a:pt x="2740" y="1416"/>
                  </a:lnTo>
                  <a:lnTo>
                    <a:pt x="2748" y="1400"/>
                  </a:lnTo>
                  <a:lnTo>
                    <a:pt x="2754" y="1384"/>
                  </a:lnTo>
                  <a:lnTo>
                    <a:pt x="2754" y="1384"/>
                  </a:lnTo>
                  <a:lnTo>
                    <a:pt x="2758" y="1368"/>
                  </a:lnTo>
                  <a:lnTo>
                    <a:pt x="2760" y="1354"/>
                  </a:lnTo>
                  <a:lnTo>
                    <a:pt x="2762" y="1338"/>
                  </a:lnTo>
                  <a:lnTo>
                    <a:pt x="2762" y="1322"/>
                  </a:lnTo>
                  <a:lnTo>
                    <a:pt x="2762" y="1306"/>
                  </a:lnTo>
                  <a:lnTo>
                    <a:pt x="2760" y="1290"/>
                  </a:lnTo>
                  <a:lnTo>
                    <a:pt x="2752" y="1260"/>
                  </a:lnTo>
                  <a:lnTo>
                    <a:pt x="2740" y="1228"/>
                  </a:lnTo>
                  <a:lnTo>
                    <a:pt x="2724" y="1198"/>
                  </a:lnTo>
                  <a:lnTo>
                    <a:pt x="2706" y="1170"/>
                  </a:lnTo>
                  <a:lnTo>
                    <a:pt x="2684" y="1144"/>
                  </a:lnTo>
                  <a:lnTo>
                    <a:pt x="2660" y="1118"/>
                  </a:lnTo>
                  <a:lnTo>
                    <a:pt x="2636" y="1094"/>
                  </a:lnTo>
                  <a:lnTo>
                    <a:pt x="2610" y="1072"/>
                  </a:lnTo>
                  <a:lnTo>
                    <a:pt x="2584" y="1054"/>
                  </a:lnTo>
                  <a:lnTo>
                    <a:pt x="2556" y="1038"/>
                  </a:lnTo>
                  <a:lnTo>
                    <a:pt x="2530" y="1024"/>
                  </a:lnTo>
                  <a:lnTo>
                    <a:pt x="2506" y="1014"/>
                  </a:lnTo>
                  <a:lnTo>
                    <a:pt x="2482" y="1008"/>
                  </a:lnTo>
                  <a:lnTo>
                    <a:pt x="2482" y="1008"/>
                  </a:lnTo>
                  <a:lnTo>
                    <a:pt x="2494" y="950"/>
                  </a:lnTo>
                  <a:lnTo>
                    <a:pt x="2504" y="894"/>
                  </a:lnTo>
                  <a:lnTo>
                    <a:pt x="2508" y="840"/>
                  </a:lnTo>
                  <a:lnTo>
                    <a:pt x="2510" y="786"/>
                  </a:lnTo>
                  <a:lnTo>
                    <a:pt x="2508" y="734"/>
                  </a:lnTo>
                  <a:lnTo>
                    <a:pt x="2502" y="684"/>
                  </a:lnTo>
                  <a:lnTo>
                    <a:pt x="2492" y="636"/>
                  </a:lnTo>
                  <a:lnTo>
                    <a:pt x="2480" y="588"/>
                  </a:lnTo>
                  <a:lnTo>
                    <a:pt x="2464" y="542"/>
                  </a:lnTo>
                  <a:lnTo>
                    <a:pt x="2446" y="498"/>
                  </a:lnTo>
                  <a:lnTo>
                    <a:pt x="2424" y="456"/>
                  </a:lnTo>
                  <a:lnTo>
                    <a:pt x="2400" y="414"/>
                  </a:lnTo>
                  <a:lnTo>
                    <a:pt x="2374" y="376"/>
                  </a:lnTo>
                  <a:lnTo>
                    <a:pt x="2344" y="338"/>
                  </a:lnTo>
                  <a:lnTo>
                    <a:pt x="2312" y="302"/>
                  </a:lnTo>
                  <a:lnTo>
                    <a:pt x="2278" y="268"/>
                  </a:lnTo>
                  <a:lnTo>
                    <a:pt x="2242" y="236"/>
                  </a:lnTo>
                  <a:lnTo>
                    <a:pt x="2204" y="206"/>
                  </a:lnTo>
                  <a:lnTo>
                    <a:pt x="2164" y="178"/>
                  </a:lnTo>
                  <a:lnTo>
                    <a:pt x="2124" y="152"/>
                  </a:lnTo>
                  <a:lnTo>
                    <a:pt x="2080" y="128"/>
                  </a:lnTo>
                  <a:lnTo>
                    <a:pt x="2036" y="106"/>
                  </a:lnTo>
                  <a:lnTo>
                    <a:pt x="1990" y="84"/>
                  </a:lnTo>
                  <a:lnTo>
                    <a:pt x="1944" y="66"/>
                  </a:lnTo>
                  <a:lnTo>
                    <a:pt x="1896" y="50"/>
                  </a:lnTo>
                  <a:lnTo>
                    <a:pt x="1848" y="36"/>
                  </a:lnTo>
                  <a:lnTo>
                    <a:pt x="1798" y="24"/>
                  </a:lnTo>
                  <a:lnTo>
                    <a:pt x="1748" y="16"/>
                  </a:lnTo>
                  <a:lnTo>
                    <a:pt x="1698" y="8"/>
                  </a:lnTo>
                  <a:lnTo>
                    <a:pt x="1646" y="2"/>
                  </a:lnTo>
                  <a:lnTo>
                    <a:pt x="1596" y="0"/>
                  </a:lnTo>
                  <a:lnTo>
                    <a:pt x="1544" y="0"/>
                  </a:lnTo>
                  <a:lnTo>
                    <a:pt x="1544" y="0"/>
                  </a:lnTo>
                  <a:lnTo>
                    <a:pt x="1538" y="2"/>
                  </a:lnTo>
                  <a:lnTo>
                    <a:pt x="1530" y="6"/>
                  </a:lnTo>
                  <a:lnTo>
                    <a:pt x="1512" y="8"/>
                  </a:lnTo>
                  <a:lnTo>
                    <a:pt x="1494" y="8"/>
                  </a:lnTo>
                  <a:lnTo>
                    <a:pt x="1474" y="8"/>
                  </a:lnTo>
                  <a:lnTo>
                    <a:pt x="1432" y="4"/>
                  </a:lnTo>
                  <a:lnTo>
                    <a:pt x="1412" y="4"/>
                  </a:lnTo>
                  <a:lnTo>
                    <a:pt x="1392" y="8"/>
                  </a:lnTo>
                  <a:lnTo>
                    <a:pt x="1392" y="8"/>
                  </a:lnTo>
                  <a:lnTo>
                    <a:pt x="1338" y="18"/>
                  </a:lnTo>
                  <a:lnTo>
                    <a:pt x="1282" y="24"/>
                  </a:lnTo>
                  <a:lnTo>
                    <a:pt x="1224" y="30"/>
                  </a:lnTo>
                  <a:lnTo>
                    <a:pt x="1168" y="34"/>
                  </a:lnTo>
                  <a:lnTo>
                    <a:pt x="1112" y="36"/>
                  </a:lnTo>
                  <a:lnTo>
                    <a:pt x="1056" y="42"/>
                  </a:lnTo>
                  <a:lnTo>
                    <a:pt x="1004" y="50"/>
                  </a:lnTo>
                  <a:lnTo>
                    <a:pt x="978" y="56"/>
                  </a:lnTo>
                  <a:lnTo>
                    <a:pt x="952" y="64"/>
                  </a:lnTo>
                  <a:lnTo>
                    <a:pt x="952" y="64"/>
                  </a:lnTo>
                  <a:lnTo>
                    <a:pt x="892" y="82"/>
                  </a:lnTo>
                  <a:lnTo>
                    <a:pt x="834" y="104"/>
                  </a:lnTo>
                  <a:lnTo>
                    <a:pt x="776" y="128"/>
                  </a:lnTo>
                  <a:lnTo>
                    <a:pt x="722" y="156"/>
                  </a:lnTo>
                  <a:lnTo>
                    <a:pt x="668" y="184"/>
                  </a:lnTo>
                  <a:lnTo>
                    <a:pt x="616" y="216"/>
                  </a:lnTo>
                  <a:lnTo>
                    <a:pt x="566" y="250"/>
                  </a:lnTo>
                  <a:lnTo>
                    <a:pt x="518" y="286"/>
                  </a:lnTo>
                  <a:lnTo>
                    <a:pt x="472" y="326"/>
                  </a:lnTo>
                  <a:lnTo>
                    <a:pt x="428" y="366"/>
                  </a:lnTo>
                  <a:lnTo>
                    <a:pt x="388" y="410"/>
                  </a:lnTo>
                  <a:lnTo>
                    <a:pt x="350" y="454"/>
                  </a:lnTo>
                  <a:lnTo>
                    <a:pt x="316" y="502"/>
                  </a:lnTo>
                  <a:lnTo>
                    <a:pt x="284" y="550"/>
                  </a:lnTo>
                  <a:lnTo>
                    <a:pt x="256" y="602"/>
                  </a:lnTo>
                  <a:lnTo>
                    <a:pt x="232" y="656"/>
                  </a:lnTo>
                  <a:lnTo>
                    <a:pt x="232" y="656"/>
                  </a:lnTo>
                  <a:lnTo>
                    <a:pt x="224" y="676"/>
                  </a:lnTo>
                  <a:lnTo>
                    <a:pt x="218" y="696"/>
                  </a:lnTo>
                  <a:lnTo>
                    <a:pt x="210" y="734"/>
                  </a:lnTo>
                  <a:lnTo>
                    <a:pt x="204" y="774"/>
                  </a:lnTo>
                  <a:lnTo>
                    <a:pt x="198" y="794"/>
                  </a:lnTo>
                  <a:lnTo>
                    <a:pt x="192" y="816"/>
                  </a:lnTo>
                  <a:lnTo>
                    <a:pt x="192" y="816"/>
                  </a:lnTo>
                  <a:lnTo>
                    <a:pt x="182" y="842"/>
                  </a:lnTo>
                  <a:lnTo>
                    <a:pt x="174" y="872"/>
                  </a:lnTo>
                  <a:lnTo>
                    <a:pt x="168" y="904"/>
                  </a:lnTo>
                  <a:lnTo>
                    <a:pt x="160" y="938"/>
                  </a:lnTo>
                  <a:lnTo>
                    <a:pt x="156" y="974"/>
                  </a:lnTo>
                  <a:lnTo>
                    <a:pt x="152" y="1010"/>
                  </a:lnTo>
                  <a:lnTo>
                    <a:pt x="150" y="1046"/>
                  </a:lnTo>
                  <a:lnTo>
                    <a:pt x="150" y="1084"/>
                  </a:lnTo>
                  <a:lnTo>
                    <a:pt x="152" y="1120"/>
                  </a:lnTo>
                  <a:lnTo>
                    <a:pt x="154" y="1156"/>
                  </a:lnTo>
                  <a:lnTo>
                    <a:pt x="160" y="1190"/>
                  </a:lnTo>
                  <a:lnTo>
                    <a:pt x="168" y="1222"/>
                  </a:lnTo>
                  <a:lnTo>
                    <a:pt x="178" y="1254"/>
                  </a:lnTo>
                  <a:lnTo>
                    <a:pt x="190" y="1282"/>
                  </a:lnTo>
                  <a:lnTo>
                    <a:pt x="206" y="1306"/>
                  </a:lnTo>
                  <a:lnTo>
                    <a:pt x="224" y="1328"/>
                  </a:lnTo>
                  <a:lnTo>
                    <a:pt x="224" y="1328"/>
                  </a:lnTo>
                  <a:lnTo>
                    <a:pt x="220" y="1334"/>
                  </a:lnTo>
                  <a:lnTo>
                    <a:pt x="214" y="1338"/>
                  </a:lnTo>
                  <a:lnTo>
                    <a:pt x="202" y="1346"/>
                  </a:lnTo>
                  <a:lnTo>
                    <a:pt x="188" y="1350"/>
                  </a:lnTo>
                  <a:lnTo>
                    <a:pt x="172" y="1354"/>
                  </a:lnTo>
                  <a:lnTo>
                    <a:pt x="140" y="1360"/>
                  </a:lnTo>
                  <a:lnTo>
                    <a:pt x="124" y="1362"/>
                  </a:lnTo>
                  <a:lnTo>
                    <a:pt x="112" y="1368"/>
                  </a:lnTo>
                  <a:lnTo>
                    <a:pt x="112" y="1368"/>
                  </a:lnTo>
                  <a:lnTo>
                    <a:pt x="94" y="1380"/>
                  </a:lnTo>
                  <a:lnTo>
                    <a:pt x="78" y="1392"/>
                  </a:lnTo>
                  <a:lnTo>
                    <a:pt x="64" y="1408"/>
                  </a:lnTo>
                  <a:lnTo>
                    <a:pt x="50" y="1426"/>
                  </a:lnTo>
                  <a:lnTo>
                    <a:pt x="36" y="1446"/>
                  </a:lnTo>
                  <a:lnTo>
                    <a:pt x="24" y="1466"/>
                  </a:lnTo>
                  <a:lnTo>
                    <a:pt x="14" y="1486"/>
                  </a:lnTo>
                  <a:lnTo>
                    <a:pt x="8" y="1504"/>
                  </a:lnTo>
                  <a:lnTo>
                    <a:pt x="8" y="1504"/>
                  </a:lnTo>
                  <a:lnTo>
                    <a:pt x="2" y="1520"/>
                  </a:lnTo>
                  <a:lnTo>
                    <a:pt x="0" y="1536"/>
                  </a:lnTo>
                  <a:lnTo>
                    <a:pt x="0" y="1550"/>
                  </a:lnTo>
                  <a:lnTo>
                    <a:pt x="2" y="1564"/>
                  </a:lnTo>
                  <a:lnTo>
                    <a:pt x="8" y="1594"/>
                  </a:lnTo>
                  <a:lnTo>
                    <a:pt x="16" y="1624"/>
                  </a:lnTo>
                  <a:lnTo>
                    <a:pt x="16" y="1624"/>
                  </a:lnTo>
                  <a:lnTo>
                    <a:pt x="26" y="1664"/>
                  </a:lnTo>
                  <a:lnTo>
                    <a:pt x="40" y="1698"/>
                  </a:lnTo>
                  <a:lnTo>
                    <a:pt x="58" y="1732"/>
                  </a:lnTo>
                  <a:lnTo>
                    <a:pt x="76" y="1760"/>
                  </a:lnTo>
                  <a:lnTo>
                    <a:pt x="98" y="1786"/>
                  </a:lnTo>
                  <a:lnTo>
                    <a:pt x="120" y="1810"/>
                  </a:lnTo>
                  <a:lnTo>
                    <a:pt x="146" y="1828"/>
                  </a:lnTo>
                  <a:lnTo>
                    <a:pt x="174" y="1844"/>
                  </a:lnTo>
                  <a:lnTo>
                    <a:pt x="204" y="1858"/>
                  </a:lnTo>
                  <a:lnTo>
                    <a:pt x="236" y="1866"/>
                  </a:lnTo>
                  <a:lnTo>
                    <a:pt x="270" y="1872"/>
                  </a:lnTo>
                  <a:lnTo>
                    <a:pt x="308" y="1876"/>
                  </a:lnTo>
                  <a:lnTo>
                    <a:pt x="346" y="1874"/>
                  </a:lnTo>
                  <a:lnTo>
                    <a:pt x="386" y="1870"/>
                  </a:lnTo>
                  <a:lnTo>
                    <a:pt x="428" y="1860"/>
                  </a:lnTo>
                  <a:lnTo>
                    <a:pt x="472" y="1848"/>
                  </a:lnTo>
                  <a:lnTo>
                    <a:pt x="472" y="1848"/>
                  </a:lnTo>
                  <a:lnTo>
                    <a:pt x="484" y="1874"/>
                  </a:lnTo>
                  <a:lnTo>
                    <a:pt x="498" y="1896"/>
                  </a:lnTo>
                  <a:lnTo>
                    <a:pt x="512" y="1918"/>
                  </a:lnTo>
                  <a:lnTo>
                    <a:pt x="528" y="1938"/>
                  </a:lnTo>
                  <a:lnTo>
                    <a:pt x="546" y="1958"/>
                  </a:lnTo>
                  <a:lnTo>
                    <a:pt x="564" y="1976"/>
                  </a:lnTo>
                  <a:lnTo>
                    <a:pt x="582" y="1994"/>
                  </a:lnTo>
                  <a:lnTo>
                    <a:pt x="602" y="2010"/>
                  </a:lnTo>
                  <a:lnTo>
                    <a:pt x="644" y="2040"/>
                  </a:lnTo>
                  <a:lnTo>
                    <a:pt x="688" y="2068"/>
                  </a:lnTo>
                  <a:lnTo>
                    <a:pt x="736" y="2096"/>
                  </a:lnTo>
                  <a:lnTo>
                    <a:pt x="784" y="2122"/>
                  </a:lnTo>
                  <a:lnTo>
                    <a:pt x="784" y="2122"/>
                  </a:lnTo>
                  <a:lnTo>
                    <a:pt x="878" y="2168"/>
                  </a:lnTo>
                  <a:lnTo>
                    <a:pt x="926" y="2192"/>
                  </a:lnTo>
                  <a:lnTo>
                    <a:pt x="976" y="2214"/>
                  </a:lnTo>
                  <a:lnTo>
                    <a:pt x="1028" y="2234"/>
                  </a:lnTo>
                  <a:lnTo>
                    <a:pt x="1080" y="2254"/>
                  </a:lnTo>
                  <a:lnTo>
                    <a:pt x="1136" y="2272"/>
                  </a:lnTo>
                  <a:lnTo>
                    <a:pt x="1192" y="2290"/>
                  </a:lnTo>
                  <a:lnTo>
                    <a:pt x="1192" y="2290"/>
                  </a:lnTo>
                  <a:lnTo>
                    <a:pt x="1240" y="2300"/>
                  </a:lnTo>
                  <a:lnTo>
                    <a:pt x="1292" y="2306"/>
                  </a:lnTo>
                  <a:lnTo>
                    <a:pt x="1346" y="2310"/>
                  </a:lnTo>
                  <a:lnTo>
                    <a:pt x="1402" y="2310"/>
                  </a:lnTo>
                  <a:lnTo>
                    <a:pt x="1458" y="2306"/>
                  </a:lnTo>
                  <a:lnTo>
                    <a:pt x="1516" y="2300"/>
                  </a:lnTo>
                  <a:lnTo>
                    <a:pt x="1572" y="2292"/>
                  </a:lnTo>
                  <a:lnTo>
                    <a:pt x="1630" y="2282"/>
                  </a:lnTo>
                  <a:lnTo>
                    <a:pt x="1684" y="2268"/>
                  </a:lnTo>
                  <a:lnTo>
                    <a:pt x="1738" y="2254"/>
                  </a:lnTo>
                  <a:lnTo>
                    <a:pt x="1790" y="2240"/>
                  </a:lnTo>
                  <a:lnTo>
                    <a:pt x="1838" y="2224"/>
                  </a:lnTo>
                  <a:lnTo>
                    <a:pt x="1884" y="2206"/>
                  </a:lnTo>
                  <a:lnTo>
                    <a:pt x="1926" y="2188"/>
                  </a:lnTo>
                  <a:lnTo>
                    <a:pt x="1962" y="2170"/>
                  </a:lnTo>
                  <a:lnTo>
                    <a:pt x="1992" y="2154"/>
                  </a:lnTo>
                  <a:lnTo>
                    <a:pt x="1992" y="2154"/>
                  </a:lnTo>
                  <a:lnTo>
                    <a:pt x="2050" y="2118"/>
                  </a:lnTo>
                  <a:lnTo>
                    <a:pt x="2104" y="2080"/>
                  </a:lnTo>
                  <a:lnTo>
                    <a:pt x="2160" y="2038"/>
                  </a:lnTo>
                  <a:lnTo>
                    <a:pt x="2212" y="1996"/>
                  </a:lnTo>
                  <a:lnTo>
                    <a:pt x="2262" y="1950"/>
                  </a:lnTo>
                  <a:lnTo>
                    <a:pt x="2310" y="1904"/>
                  </a:lnTo>
                  <a:lnTo>
                    <a:pt x="2354" y="1854"/>
                  </a:lnTo>
                  <a:lnTo>
                    <a:pt x="2374" y="1828"/>
                  </a:lnTo>
                  <a:lnTo>
                    <a:pt x="2394" y="1800"/>
                  </a:lnTo>
                  <a:lnTo>
                    <a:pt x="2394" y="1800"/>
                  </a:lnTo>
                  <a:lnTo>
                    <a:pt x="2404" y="1780"/>
                  </a:lnTo>
                  <a:lnTo>
                    <a:pt x="2414" y="1760"/>
                  </a:lnTo>
                  <a:lnTo>
                    <a:pt x="2428" y="1712"/>
                  </a:lnTo>
                  <a:lnTo>
                    <a:pt x="2436" y="1688"/>
                  </a:lnTo>
                  <a:lnTo>
                    <a:pt x="2444" y="1666"/>
                  </a:lnTo>
                  <a:lnTo>
                    <a:pt x="2454" y="1644"/>
                  </a:lnTo>
                  <a:lnTo>
                    <a:pt x="2466" y="1624"/>
                  </a:lnTo>
                  <a:lnTo>
                    <a:pt x="2466" y="1624"/>
                  </a:lnTo>
                  <a:close/>
                  <a:moveTo>
                    <a:pt x="2322" y="1032"/>
                  </a:moveTo>
                  <a:lnTo>
                    <a:pt x="2322" y="1032"/>
                  </a:lnTo>
                  <a:lnTo>
                    <a:pt x="2306" y="1030"/>
                  </a:lnTo>
                  <a:lnTo>
                    <a:pt x="2290" y="1028"/>
                  </a:lnTo>
                  <a:lnTo>
                    <a:pt x="2276" y="1024"/>
                  </a:lnTo>
                  <a:lnTo>
                    <a:pt x="2264" y="1020"/>
                  </a:lnTo>
                  <a:lnTo>
                    <a:pt x="2250" y="1014"/>
                  </a:lnTo>
                  <a:lnTo>
                    <a:pt x="2238" y="1008"/>
                  </a:lnTo>
                  <a:lnTo>
                    <a:pt x="2218" y="990"/>
                  </a:lnTo>
                  <a:lnTo>
                    <a:pt x="2198" y="972"/>
                  </a:lnTo>
                  <a:lnTo>
                    <a:pt x="2182" y="950"/>
                  </a:lnTo>
                  <a:lnTo>
                    <a:pt x="2170" y="928"/>
                  </a:lnTo>
                  <a:lnTo>
                    <a:pt x="2162" y="904"/>
                  </a:lnTo>
                  <a:lnTo>
                    <a:pt x="2162" y="904"/>
                  </a:lnTo>
                  <a:lnTo>
                    <a:pt x="2158" y="892"/>
                  </a:lnTo>
                  <a:lnTo>
                    <a:pt x="2156" y="880"/>
                  </a:lnTo>
                  <a:lnTo>
                    <a:pt x="2154" y="860"/>
                  </a:lnTo>
                  <a:lnTo>
                    <a:pt x="2152" y="842"/>
                  </a:lnTo>
                  <a:lnTo>
                    <a:pt x="2150" y="832"/>
                  </a:lnTo>
                  <a:lnTo>
                    <a:pt x="2146" y="824"/>
                  </a:lnTo>
                  <a:lnTo>
                    <a:pt x="2146" y="824"/>
                  </a:lnTo>
                  <a:lnTo>
                    <a:pt x="2146" y="752"/>
                  </a:lnTo>
                  <a:lnTo>
                    <a:pt x="2146" y="752"/>
                  </a:lnTo>
                  <a:lnTo>
                    <a:pt x="2172" y="748"/>
                  </a:lnTo>
                  <a:lnTo>
                    <a:pt x="2202" y="748"/>
                  </a:lnTo>
                  <a:lnTo>
                    <a:pt x="2264" y="750"/>
                  </a:lnTo>
                  <a:lnTo>
                    <a:pt x="2294" y="750"/>
                  </a:lnTo>
                  <a:lnTo>
                    <a:pt x="2322" y="748"/>
                  </a:lnTo>
                  <a:lnTo>
                    <a:pt x="2334" y="744"/>
                  </a:lnTo>
                  <a:lnTo>
                    <a:pt x="2348" y="740"/>
                  </a:lnTo>
                  <a:lnTo>
                    <a:pt x="2358" y="734"/>
                  </a:lnTo>
                  <a:lnTo>
                    <a:pt x="2370" y="728"/>
                  </a:lnTo>
                  <a:lnTo>
                    <a:pt x="2370" y="728"/>
                  </a:lnTo>
                  <a:lnTo>
                    <a:pt x="2386" y="728"/>
                  </a:lnTo>
                  <a:lnTo>
                    <a:pt x="2386" y="728"/>
                  </a:lnTo>
                  <a:lnTo>
                    <a:pt x="2386" y="838"/>
                  </a:lnTo>
                  <a:lnTo>
                    <a:pt x="2386" y="874"/>
                  </a:lnTo>
                  <a:lnTo>
                    <a:pt x="2382" y="904"/>
                  </a:lnTo>
                  <a:lnTo>
                    <a:pt x="2374" y="932"/>
                  </a:lnTo>
                  <a:lnTo>
                    <a:pt x="2362" y="960"/>
                  </a:lnTo>
                  <a:lnTo>
                    <a:pt x="2346" y="992"/>
                  </a:lnTo>
                  <a:lnTo>
                    <a:pt x="2322" y="1032"/>
                  </a:lnTo>
                  <a:lnTo>
                    <a:pt x="2322" y="1032"/>
                  </a:lnTo>
                  <a:close/>
                  <a:moveTo>
                    <a:pt x="256" y="1024"/>
                  </a:moveTo>
                  <a:lnTo>
                    <a:pt x="256" y="1024"/>
                  </a:lnTo>
                  <a:lnTo>
                    <a:pt x="292" y="1028"/>
                  </a:lnTo>
                  <a:lnTo>
                    <a:pt x="320" y="1028"/>
                  </a:lnTo>
                  <a:lnTo>
                    <a:pt x="344" y="1026"/>
                  </a:lnTo>
                  <a:lnTo>
                    <a:pt x="364" y="1024"/>
                  </a:lnTo>
                  <a:lnTo>
                    <a:pt x="406" y="1012"/>
                  </a:lnTo>
                  <a:lnTo>
                    <a:pt x="432" y="1006"/>
                  </a:lnTo>
                  <a:lnTo>
                    <a:pt x="464" y="1000"/>
                  </a:lnTo>
                  <a:lnTo>
                    <a:pt x="464" y="1000"/>
                  </a:lnTo>
                  <a:lnTo>
                    <a:pt x="468" y="1048"/>
                  </a:lnTo>
                  <a:lnTo>
                    <a:pt x="474" y="1094"/>
                  </a:lnTo>
                  <a:lnTo>
                    <a:pt x="478" y="1144"/>
                  </a:lnTo>
                  <a:lnTo>
                    <a:pt x="480" y="1200"/>
                  </a:lnTo>
                  <a:lnTo>
                    <a:pt x="480" y="1200"/>
                  </a:lnTo>
                  <a:lnTo>
                    <a:pt x="446" y="1236"/>
                  </a:lnTo>
                  <a:lnTo>
                    <a:pt x="430" y="1254"/>
                  </a:lnTo>
                  <a:lnTo>
                    <a:pt x="414" y="1270"/>
                  </a:lnTo>
                  <a:lnTo>
                    <a:pt x="396" y="1284"/>
                  </a:lnTo>
                  <a:lnTo>
                    <a:pt x="376" y="1298"/>
                  </a:lnTo>
                  <a:lnTo>
                    <a:pt x="354" y="1310"/>
                  </a:lnTo>
                  <a:lnTo>
                    <a:pt x="328" y="1320"/>
                  </a:lnTo>
                  <a:lnTo>
                    <a:pt x="328" y="1320"/>
                  </a:lnTo>
                  <a:lnTo>
                    <a:pt x="322" y="1324"/>
                  </a:lnTo>
                  <a:lnTo>
                    <a:pt x="312" y="1328"/>
                  </a:lnTo>
                  <a:lnTo>
                    <a:pt x="312" y="1328"/>
                  </a:lnTo>
                  <a:lnTo>
                    <a:pt x="294" y="1296"/>
                  </a:lnTo>
                  <a:lnTo>
                    <a:pt x="280" y="1262"/>
                  </a:lnTo>
                  <a:lnTo>
                    <a:pt x="270" y="1230"/>
                  </a:lnTo>
                  <a:lnTo>
                    <a:pt x="262" y="1194"/>
                  </a:lnTo>
                  <a:lnTo>
                    <a:pt x="258" y="1158"/>
                  </a:lnTo>
                  <a:lnTo>
                    <a:pt x="256" y="1118"/>
                  </a:lnTo>
                  <a:lnTo>
                    <a:pt x="254" y="1074"/>
                  </a:lnTo>
                  <a:lnTo>
                    <a:pt x="256" y="1024"/>
                  </a:lnTo>
                  <a:lnTo>
                    <a:pt x="256" y="1024"/>
                  </a:lnTo>
                  <a:close/>
                  <a:moveTo>
                    <a:pt x="2322" y="1712"/>
                  </a:moveTo>
                  <a:lnTo>
                    <a:pt x="2322" y="1712"/>
                  </a:lnTo>
                  <a:lnTo>
                    <a:pt x="2308" y="1732"/>
                  </a:lnTo>
                  <a:lnTo>
                    <a:pt x="2290" y="1758"/>
                  </a:lnTo>
                  <a:lnTo>
                    <a:pt x="2242" y="1816"/>
                  </a:lnTo>
                  <a:lnTo>
                    <a:pt x="2192" y="1872"/>
                  </a:lnTo>
                  <a:lnTo>
                    <a:pt x="2154" y="1912"/>
                  </a:lnTo>
                  <a:lnTo>
                    <a:pt x="2154" y="1912"/>
                  </a:lnTo>
                  <a:lnTo>
                    <a:pt x="2124" y="1940"/>
                  </a:lnTo>
                  <a:lnTo>
                    <a:pt x="2086" y="1970"/>
                  </a:lnTo>
                  <a:lnTo>
                    <a:pt x="2044" y="2000"/>
                  </a:lnTo>
                  <a:lnTo>
                    <a:pt x="1996" y="2030"/>
                  </a:lnTo>
                  <a:lnTo>
                    <a:pt x="1944" y="2060"/>
                  </a:lnTo>
                  <a:lnTo>
                    <a:pt x="1888" y="2088"/>
                  </a:lnTo>
                  <a:lnTo>
                    <a:pt x="1828" y="2116"/>
                  </a:lnTo>
                  <a:lnTo>
                    <a:pt x="1764" y="2142"/>
                  </a:lnTo>
                  <a:lnTo>
                    <a:pt x="1700" y="2166"/>
                  </a:lnTo>
                  <a:lnTo>
                    <a:pt x="1634" y="2186"/>
                  </a:lnTo>
                  <a:lnTo>
                    <a:pt x="1566" y="2202"/>
                  </a:lnTo>
                  <a:lnTo>
                    <a:pt x="1500" y="2214"/>
                  </a:lnTo>
                  <a:lnTo>
                    <a:pt x="1466" y="2218"/>
                  </a:lnTo>
                  <a:lnTo>
                    <a:pt x="1432" y="2222"/>
                  </a:lnTo>
                  <a:lnTo>
                    <a:pt x="1400" y="2224"/>
                  </a:lnTo>
                  <a:lnTo>
                    <a:pt x="1366" y="2224"/>
                  </a:lnTo>
                  <a:lnTo>
                    <a:pt x="1334" y="2222"/>
                  </a:lnTo>
                  <a:lnTo>
                    <a:pt x="1302" y="2220"/>
                  </a:lnTo>
                  <a:lnTo>
                    <a:pt x="1270" y="2216"/>
                  </a:lnTo>
                  <a:lnTo>
                    <a:pt x="1240" y="2210"/>
                  </a:lnTo>
                  <a:lnTo>
                    <a:pt x="1240" y="2210"/>
                  </a:lnTo>
                  <a:lnTo>
                    <a:pt x="1186" y="2196"/>
                  </a:lnTo>
                  <a:lnTo>
                    <a:pt x="1132" y="2180"/>
                  </a:lnTo>
                  <a:lnTo>
                    <a:pt x="1082" y="2162"/>
                  </a:lnTo>
                  <a:lnTo>
                    <a:pt x="1032" y="2142"/>
                  </a:lnTo>
                  <a:lnTo>
                    <a:pt x="984" y="2122"/>
                  </a:lnTo>
                  <a:lnTo>
                    <a:pt x="938" y="2102"/>
                  </a:lnTo>
                  <a:lnTo>
                    <a:pt x="848" y="2056"/>
                  </a:lnTo>
                  <a:lnTo>
                    <a:pt x="848" y="2056"/>
                  </a:lnTo>
                  <a:lnTo>
                    <a:pt x="798" y="2030"/>
                  </a:lnTo>
                  <a:lnTo>
                    <a:pt x="746" y="2002"/>
                  </a:lnTo>
                  <a:lnTo>
                    <a:pt x="720" y="1988"/>
                  </a:lnTo>
                  <a:lnTo>
                    <a:pt x="694" y="1972"/>
                  </a:lnTo>
                  <a:lnTo>
                    <a:pt x="670" y="1954"/>
                  </a:lnTo>
                  <a:lnTo>
                    <a:pt x="648" y="1936"/>
                  </a:lnTo>
                  <a:lnTo>
                    <a:pt x="626" y="1916"/>
                  </a:lnTo>
                  <a:lnTo>
                    <a:pt x="606" y="1894"/>
                  </a:lnTo>
                  <a:lnTo>
                    <a:pt x="588" y="1872"/>
                  </a:lnTo>
                  <a:lnTo>
                    <a:pt x="574" y="1846"/>
                  </a:lnTo>
                  <a:lnTo>
                    <a:pt x="562" y="1818"/>
                  </a:lnTo>
                  <a:lnTo>
                    <a:pt x="552" y="1788"/>
                  </a:lnTo>
                  <a:lnTo>
                    <a:pt x="546" y="1756"/>
                  </a:lnTo>
                  <a:lnTo>
                    <a:pt x="544" y="1720"/>
                  </a:lnTo>
                  <a:lnTo>
                    <a:pt x="544" y="1720"/>
                  </a:lnTo>
                  <a:lnTo>
                    <a:pt x="526" y="1722"/>
                  </a:lnTo>
                  <a:lnTo>
                    <a:pt x="510" y="1724"/>
                  </a:lnTo>
                  <a:lnTo>
                    <a:pt x="496" y="1726"/>
                  </a:lnTo>
                  <a:lnTo>
                    <a:pt x="484" y="1730"/>
                  </a:lnTo>
                  <a:lnTo>
                    <a:pt x="464" y="1738"/>
                  </a:lnTo>
                  <a:lnTo>
                    <a:pt x="448" y="1748"/>
                  </a:lnTo>
                  <a:lnTo>
                    <a:pt x="416" y="1772"/>
                  </a:lnTo>
                  <a:lnTo>
                    <a:pt x="398" y="1784"/>
                  </a:lnTo>
                  <a:lnTo>
                    <a:pt x="376" y="1792"/>
                  </a:lnTo>
                  <a:lnTo>
                    <a:pt x="376" y="1792"/>
                  </a:lnTo>
                  <a:lnTo>
                    <a:pt x="362" y="1798"/>
                  </a:lnTo>
                  <a:lnTo>
                    <a:pt x="348" y="1802"/>
                  </a:lnTo>
                  <a:lnTo>
                    <a:pt x="332" y="1802"/>
                  </a:lnTo>
                  <a:lnTo>
                    <a:pt x="316" y="1800"/>
                  </a:lnTo>
                  <a:lnTo>
                    <a:pt x="286" y="1792"/>
                  </a:lnTo>
                  <a:lnTo>
                    <a:pt x="264" y="1784"/>
                  </a:lnTo>
                  <a:lnTo>
                    <a:pt x="264" y="1784"/>
                  </a:lnTo>
                  <a:lnTo>
                    <a:pt x="216" y="1776"/>
                  </a:lnTo>
                  <a:lnTo>
                    <a:pt x="216" y="1776"/>
                  </a:lnTo>
                  <a:lnTo>
                    <a:pt x="202" y="1768"/>
                  </a:lnTo>
                  <a:lnTo>
                    <a:pt x="188" y="1756"/>
                  </a:lnTo>
                  <a:lnTo>
                    <a:pt x="176" y="1742"/>
                  </a:lnTo>
                  <a:lnTo>
                    <a:pt x="162" y="1726"/>
                  </a:lnTo>
                  <a:lnTo>
                    <a:pt x="150" y="1708"/>
                  </a:lnTo>
                  <a:lnTo>
                    <a:pt x="140" y="1688"/>
                  </a:lnTo>
                  <a:lnTo>
                    <a:pt x="128" y="1668"/>
                  </a:lnTo>
                  <a:lnTo>
                    <a:pt x="120" y="1646"/>
                  </a:lnTo>
                  <a:lnTo>
                    <a:pt x="112" y="1624"/>
                  </a:lnTo>
                  <a:lnTo>
                    <a:pt x="108" y="1602"/>
                  </a:lnTo>
                  <a:lnTo>
                    <a:pt x="104" y="1580"/>
                  </a:lnTo>
                  <a:lnTo>
                    <a:pt x="102" y="1556"/>
                  </a:lnTo>
                  <a:lnTo>
                    <a:pt x="104" y="1534"/>
                  </a:lnTo>
                  <a:lnTo>
                    <a:pt x="108" y="1512"/>
                  </a:lnTo>
                  <a:lnTo>
                    <a:pt x="116" y="1492"/>
                  </a:lnTo>
                  <a:lnTo>
                    <a:pt x="128" y="1472"/>
                  </a:lnTo>
                  <a:lnTo>
                    <a:pt x="128" y="1472"/>
                  </a:lnTo>
                  <a:lnTo>
                    <a:pt x="140" y="1456"/>
                  </a:lnTo>
                  <a:lnTo>
                    <a:pt x="152" y="1442"/>
                  </a:lnTo>
                  <a:lnTo>
                    <a:pt x="164" y="1432"/>
                  </a:lnTo>
                  <a:lnTo>
                    <a:pt x="176" y="1426"/>
                  </a:lnTo>
                  <a:lnTo>
                    <a:pt x="188" y="1420"/>
                  </a:lnTo>
                  <a:lnTo>
                    <a:pt x="202" y="1418"/>
                  </a:lnTo>
                  <a:lnTo>
                    <a:pt x="214" y="1416"/>
                  </a:lnTo>
                  <a:lnTo>
                    <a:pt x="228" y="1416"/>
                  </a:lnTo>
                  <a:lnTo>
                    <a:pt x="256" y="1418"/>
                  </a:lnTo>
                  <a:lnTo>
                    <a:pt x="286" y="1420"/>
                  </a:lnTo>
                  <a:lnTo>
                    <a:pt x="304" y="1418"/>
                  </a:lnTo>
                  <a:lnTo>
                    <a:pt x="322" y="1418"/>
                  </a:lnTo>
                  <a:lnTo>
                    <a:pt x="340" y="1414"/>
                  </a:lnTo>
                  <a:lnTo>
                    <a:pt x="360" y="1408"/>
                  </a:lnTo>
                  <a:lnTo>
                    <a:pt x="360" y="1408"/>
                  </a:lnTo>
                  <a:lnTo>
                    <a:pt x="374" y="1402"/>
                  </a:lnTo>
                  <a:lnTo>
                    <a:pt x="392" y="1394"/>
                  </a:lnTo>
                  <a:lnTo>
                    <a:pt x="430" y="1374"/>
                  </a:lnTo>
                  <a:lnTo>
                    <a:pt x="466" y="1350"/>
                  </a:lnTo>
                  <a:lnTo>
                    <a:pt x="496" y="1328"/>
                  </a:lnTo>
                  <a:lnTo>
                    <a:pt x="496" y="1328"/>
                  </a:lnTo>
                  <a:lnTo>
                    <a:pt x="512" y="1314"/>
                  </a:lnTo>
                  <a:lnTo>
                    <a:pt x="526" y="1294"/>
                  </a:lnTo>
                  <a:lnTo>
                    <a:pt x="538" y="1272"/>
                  </a:lnTo>
                  <a:lnTo>
                    <a:pt x="550" y="1246"/>
                  </a:lnTo>
                  <a:lnTo>
                    <a:pt x="560" y="1218"/>
                  </a:lnTo>
                  <a:lnTo>
                    <a:pt x="566" y="1188"/>
                  </a:lnTo>
                  <a:lnTo>
                    <a:pt x="572" y="1158"/>
                  </a:lnTo>
                  <a:lnTo>
                    <a:pt x="574" y="1126"/>
                  </a:lnTo>
                  <a:lnTo>
                    <a:pt x="574" y="1094"/>
                  </a:lnTo>
                  <a:lnTo>
                    <a:pt x="572" y="1064"/>
                  </a:lnTo>
                  <a:lnTo>
                    <a:pt x="568" y="1034"/>
                  </a:lnTo>
                  <a:lnTo>
                    <a:pt x="562" y="1006"/>
                  </a:lnTo>
                  <a:lnTo>
                    <a:pt x="552" y="982"/>
                  </a:lnTo>
                  <a:lnTo>
                    <a:pt x="538" y="960"/>
                  </a:lnTo>
                  <a:lnTo>
                    <a:pt x="530" y="950"/>
                  </a:lnTo>
                  <a:lnTo>
                    <a:pt x="522" y="942"/>
                  </a:lnTo>
                  <a:lnTo>
                    <a:pt x="514" y="934"/>
                  </a:lnTo>
                  <a:lnTo>
                    <a:pt x="504" y="928"/>
                  </a:lnTo>
                  <a:lnTo>
                    <a:pt x="504" y="928"/>
                  </a:lnTo>
                  <a:lnTo>
                    <a:pt x="492" y="922"/>
                  </a:lnTo>
                  <a:lnTo>
                    <a:pt x="478" y="920"/>
                  </a:lnTo>
                  <a:lnTo>
                    <a:pt x="466" y="918"/>
                  </a:lnTo>
                  <a:lnTo>
                    <a:pt x="452" y="918"/>
                  </a:lnTo>
                  <a:lnTo>
                    <a:pt x="422" y="922"/>
                  </a:lnTo>
                  <a:lnTo>
                    <a:pt x="392" y="930"/>
                  </a:lnTo>
                  <a:lnTo>
                    <a:pt x="362" y="940"/>
                  </a:lnTo>
                  <a:lnTo>
                    <a:pt x="330" y="948"/>
                  </a:lnTo>
                  <a:lnTo>
                    <a:pt x="300" y="952"/>
                  </a:lnTo>
                  <a:lnTo>
                    <a:pt x="286" y="952"/>
                  </a:lnTo>
                  <a:lnTo>
                    <a:pt x="272" y="952"/>
                  </a:lnTo>
                  <a:lnTo>
                    <a:pt x="272" y="952"/>
                  </a:lnTo>
                  <a:lnTo>
                    <a:pt x="272" y="924"/>
                  </a:lnTo>
                  <a:lnTo>
                    <a:pt x="274" y="896"/>
                  </a:lnTo>
                  <a:lnTo>
                    <a:pt x="278" y="868"/>
                  </a:lnTo>
                  <a:lnTo>
                    <a:pt x="284" y="840"/>
                  </a:lnTo>
                  <a:lnTo>
                    <a:pt x="290" y="814"/>
                  </a:lnTo>
                  <a:lnTo>
                    <a:pt x="298" y="786"/>
                  </a:lnTo>
                  <a:lnTo>
                    <a:pt x="316" y="734"/>
                  </a:lnTo>
                  <a:lnTo>
                    <a:pt x="338" y="682"/>
                  </a:lnTo>
                  <a:lnTo>
                    <a:pt x="364" y="632"/>
                  </a:lnTo>
                  <a:lnTo>
                    <a:pt x="394" y="584"/>
                  </a:lnTo>
                  <a:lnTo>
                    <a:pt x="426" y="536"/>
                  </a:lnTo>
                  <a:lnTo>
                    <a:pt x="460" y="492"/>
                  </a:lnTo>
                  <a:lnTo>
                    <a:pt x="496" y="450"/>
                  </a:lnTo>
                  <a:lnTo>
                    <a:pt x="532" y="410"/>
                  </a:lnTo>
                  <a:lnTo>
                    <a:pt x="570" y="374"/>
                  </a:lnTo>
                  <a:lnTo>
                    <a:pt x="608" y="340"/>
                  </a:lnTo>
                  <a:lnTo>
                    <a:pt x="646" y="308"/>
                  </a:lnTo>
                  <a:lnTo>
                    <a:pt x="684" y="280"/>
                  </a:lnTo>
                  <a:lnTo>
                    <a:pt x="720" y="256"/>
                  </a:lnTo>
                  <a:lnTo>
                    <a:pt x="720" y="256"/>
                  </a:lnTo>
                  <a:lnTo>
                    <a:pt x="744" y="242"/>
                  </a:lnTo>
                  <a:lnTo>
                    <a:pt x="776" y="228"/>
                  </a:lnTo>
                  <a:lnTo>
                    <a:pt x="810" y="214"/>
                  </a:lnTo>
                  <a:lnTo>
                    <a:pt x="848" y="200"/>
                  </a:lnTo>
                  <a:lnTo>
                    <a:pt x="924" y="178"/>
                  </a:lnTo>
                  <a:lnTo>
                    <a:pt x="984" y="160"/>
                  </a:lnTo>
                  <a:lnTo>
                    <a:pt x="984" y="160"/>
                  </a:lnTo>
                  <a:lnTo>
                    <a:pt x="1006" y="154"/>
                  </a:lnTo>
                  <a:lnTo>
                    <a:pt x="1030" y="148"/>
                  </a:lnTo>
                  <a:lnTo>
                    <a:pt x="1076" y="142"/>
                  </a:lnTo>
                  <a:lnTo>
                    <a:pt x="1120" y="134"/>
                  </a:lnTo>
                  <a:lnTo>
                    <a:pt x="1160" y="128"/>
                  </a:lnTo>
                  <a:lnTo>
                    <a:pt x="1160" y="128"/>
                  </a:lnTo>
                  <a:lnTo>
                    <a:pt x="1344" y="128"/>
                  </a:lnTo>
                  <a:lnTo>
                    <a:pt x="1344" y="128"/>
                  </a:lnTo>
                  <a:lnTo>
                    <a:pt x="1386" y="120"/>
                  </a:lnTo>
                  <a:lnTo>
                    <a:pt x="1428" y="114"/>
                  </a:lnTo>
                  <a:lnTo>
                    <a:pt x="1470" y="110"/>
                  </a:lnTo>
                  <a:lnTo>
                    <a:pt x="1514" y="106"/>
                  </a:lnTo>
                  <a:lnTo>
                    <a:pt x="1556" y="106"/>
                  </a:lnTo>
                  <a:lnTo>
                    <a:pt x="1598" y="108"/>
                  </a:lnTo>
                  <a:lnTo>
                    <a:pt x="1642" y="110"/>
                  </a:lnTo>
                  <a:lnTo>
                    <a:pt x="1682" y="114"/>
                  </a:lnTo>
                  <a:lnTo>
                    <a:pt x="1724" y="120"/>
                  </a:lnTo>
                  <a:lnTo>
                    <a:pt x="1764" y="126"/>
                  </a:lnTo>
                  <a:lnTo>
                    <a:pt x="1804" y="136"/>
                  </a:lnTo>
                  <a:lnTo>
                    <a:pt x="1842" y="144"/>
                  </a:lnTo>
                  <a:lnTo>
                    <a:pt x="1880" y="154"/>
                  </a:lnTo>
                  <a:lnTo>
                    <a:pt x="1916" y="166"/>
                  </a:lnTo>
                  <a:lnTo>
                    <a:pt x="1952" y="178"/>
                  </a:lnTo>
                  <a:lnTo>
                    <a:pt x="1984" y="192"/>
                  </a:lnTo>
                  <a:lnTo>
                    <a:pt x="1984" y="192"/>
                  </a:lnTo>
                  <a:lnTo>
                    <a:pt x="2034" y="214"/>
                  </a:lnTo>
                  <a:lnTo>
                    <a:pt x="2082" y="242"/>
                  </a:lnTo>
                  <a:lnTo>
                    <a:pt x="2132" y="276"/>
                  </a:lnTo>
                  <a:lnTo>
                    <a:pt x="2180" y="312"/>
                  </a:lnTo>
                  <a:lnTo>
                    <a:pt x="2224" y="352"/>
                  </a:lnTo>
                  <a:lnTo>
                    <a:pt x="2266" y="394"/>
                  </a:lnTo>
                  <a:lnTo>
                    <a:pt x="2284" y="414"/>
                  </a:lnTo>
                  <a:lnTo>
                    <a:pt x="2300" y="436"/>
                  </a:lnTo>
                  <a:lnTo>
                    <a:pt x="2316" y="458"/>
                  </a:lnTo>
                  <a:lnTo>
                    <a:pt x="2330" y="480"/>
                  </a:lnTo>
                  <a:lnTo>
                    <a:pt x="2330" y="480"/>
                  </a:lnTo>
                  <a:lnTo>
                    <a:pt x="2336" y="494"/>
                  </a:lnTo>
                  <a:lnTo>
                    <a:pt x="2342" y="510"/>
                  </a:lnTo>
                  <a:lnTo>
                    <a:pt x="2348" y="542"/>
                  </a:lnTo>
                  <a:lnTo>
                    <a:pt x="2356" y="572"/>
                  </a:lnTo>
                  <a:lnTo>
                    <a:pt x="2362" y="586"/>
                  </a:lnTo>
                  <a:lnTo>
                    <a:pt x="2370" y="600"/>
                  </a:lnTo>
                  <a:lnTo>
                    <a:pt x="2370" y="600"/>
                  </a:lnTo>
                  <a:lnTo>
                    <a:pt x="2362" y="620"/>
                  </a:lnTo>
                  <a:lnTo>
                    <a:pt x="2354" y="636"/>
                  </a:lnTo>
                  <a:lnTo>
                    <a:pt x="2344" y="648"/>
                  </a:lnTo>
                  <a:lnTo>
                    <a:pt x="2332" y="656"/>
                  </a:lnTo>
                  <a:lnTo>
                    <a:pt x="2320" y="662"/>
                  </a:lnTo>
                  <a:lnTo>
                    <a:pt x="2306" y="664"/>
                  </a:lnTo>
                  <a:lnTo>
                    <a:pt x="2290" y="666"/>
                  </a:lnTo>
                  <a:lnTo>
                    <a:pt x="2274" y="664"/>
                  </a:lnTo>
                  <a:lnTo>
                    <a:pt x="2242" y="660"/>
                  </a:lnTo>
                  <a:lnTo>
                    <a:pt x="2208" y="654"/>
                  </a:lnTo>
                  <a:lnTo>
                    <a:pt x="2192" y="652"/>
                  </a:lnTo>
                  <a:lnTo>
                    <a:pt x="2176" y="652"/>
                  </a:lnTo>
                  <a:lnTo>
                    <a:pt x="2160" y="652"/>
                  </a:lnTo>
                  <a:lnTo>
                    <a:pt x="2146" y="656"/>
                  </a:lnTo>
                  <a:lnTo>
                    <a:pt x="2146" y="656"/>
                  </a:lnTo>
                  <a:lnTo>
                    <a:pt x="2064" y="704"/>
                  </a:lnTo>
                  <a:lnTo>
                    <a:pt x="2064" y="704"/>
                  </a:lnTo>
                  <a:lnTo>
                    <a:pt x="2056" y="732"/>
                  </a:lnTo>
                  <a:lnTo>
                    <a:pt x="2052" y="760"/>
                  </a:lnTo>
                  <a:lnTo>
                    <a:pt x="2050" y="790"/>
                  </a:lnTo>
                  <a:lnTo>
                    <a:pt x="2052" y="822"/>
                  </a:lnTo>
                  <a:lnTo>
                    <a:pt x="2058" y="854"/>
                  </a:lnTo>
                  <a:lnTo>
                    <a:pt x="2066" y="884"/>
                  </a:lnTo>
                  <a:lnTo>
                    <a:pt x="2076" y="916"/>
                  </a:lnTo>
                  <a:lnTo>
                    <a:pt x="2088" y="946"/>
                  </a:lnTo>
                  <a:lnTo>
                    <a:pt x="2104" y="974"/>
                  </a:lnTo>
                  <a:lnTo>
                    <a:pt x="2120" y="1002"/>
                  </a:lnTo>
                  <a:lnTo>
                    <a:pt x="2140" y="1026"/>
                  </a:lnTo>
                  <a:lnTo>
                    <a:pt x="2160" y="1048"/>
                  </a:lnTo>
                  <a:lnTo>
                    <a:pt x="2180" y="1066"/>
                  </a:lnTo>
                  <a:lnTo>
                    <a:pt x="2202" y="1080"/>
                  </a:lnTo>
                  <a:lnTo>
                    <a:pt x="2226" y="1090"/>
                  </a:lnTo>
                  <a:lnTo>
                    <a:pt x="2238" y="1094"/>
                  </a:lnTo>
                  <a:lnTo>
                    <a:pt x="2250" y="1096"/>
                  </a:lnTo>
                  <a:lnTo>
                    <a:pt x="2250" y="1096"/>
                  </a:lnTo>
                  <a:lnTo>
                    <a:pt x="2250" y="1120"/>
                  </a:lnTo>
                  <a:lnTo>
                    <a:pt x="2254" y="1128"/>
                  </a:lnTo>
                  <a:lnTo>
                    <a:pt x="2258" y="1136"/>
                  </a:lnTo>
                  <a:lnTo>
                    <a:pt x="2258" y="1136"/>
                  </a:lnTo>
                  <a:lnTo>
                    <a:pt x="2264" y="1148"/>
                  </a:lnTo>
                  <a:lnTo>
                    <a:pt x="2272" y="1154"/>
                  </a:lnTo>
                  <a:lnTo>
                    <a:pt x="2280" y="1160"/>
                  </a:lnTo>
                  <a:lnTo>
                    <a:pt x="2290" y="1168"/>
                  </a:lnTo>
                  <a:lnTo>
                    <a:pt x="2290" y="1168"/>
                  </a:lnTo>
                  <a:lnTo>
                    <a:pt x="2306" y="1166"/>
                  </a:lnTo>
                  <a:lnTo>
                    <a:pt x="2320" y="1164"/>
                  </a:lnTo>
                  <a:lnTo>
                    <a:pt x="2332" y="1160"/>
                  </a:lnTo>
                  <a:lnTo>
                    <a:pt x="2344" y="1154"/>
                  </a:lnTo>
                  <a:lnTo>
                    <a:pt x="2364" y="1144"/>
                  </a:lnTo>
                  <a:lnTo>
                    <a:pt x="2384" y="1130"/>
                  </a:lnTo>
                  <a:lnTo>
                    <a:pt x="2404" y="1118"/>
                  </a:lnTo>
                  <a:lnTo>
                    <a:pt x="2426" y="1108"/>
                  </a:lnTo>
                  <a:lnTo>
                    <a:pt x="2438" y="1102"/>
                  </a:lnTo>
                  <a:lnTo>
                    <a:pt x="2454" y="1100"/>
                  </a:lnTo>
                  <a:lnTo>
                    <a:pt x="2470" y="1098"/>
                  </a:lnTo>
                  <a:lnTo>
                    <a:pt x="2490" y="1096"/>
                  </a:lnTo>
                  <a:lnTo>
                    <a:pt x="2490" y="1096"/>
                  </a:lnTo>
                  <a:lnTo>
                    <a:pt x="2536" y="1138"/>
                  </a:lnTo>
                  <a:lnTo>
                    <a:pt x="2568" y="1166"/>
                  </a:lnTo>
                  <a:lnTo>
                    <a:pt x="2600" y="1200"/>
                  </a:lnTo>
                  <a:lnTo>
                    <a:pt x="2616" y="1218"/>
                  </a:lnTo>
                  <a:lnTo>
                    <a:pt x="2628" y="1236"/>
                  </a:lnTo>
                  <a:lnTo>
                    <a:pt x="2640" y="1254"/>
                  </a:lnTo>
                  <a:lnTo>
                    <a:pt x="2648" y="1272"/>
                  </a:lnTo>
                  <a:lnTo>
                    <a:pt x="2652" y="1292"/>
                  </a:lnTo>
                  <a:lnTo>
                    <a:pt x="2654" y="1310"/>
                  </a:lnTo>
                  <a:lnTo>
                    <a:pt x="2650" y="1328"/>
                  </a:lnTo>
                  <a:lnTo>
                    <a:pt x="2646" y="1336"/>
                  </a:lnTo>
                  <a:lnTo>
                    <a:pt x="2642" y="1344"/>
                  </a:lnTo>
                  <a:lnTo>
                    <a:pt x="2642" y="1344"/>
                  </a:lnTo>
                  <a:lnTo>
                    <a:pt x="2640" y="1360"/>
                  </a:lnTo>
                  <a:lnTo>
                    <a:pt x="2636" y="1374"/>
                  </a:lnTo>
                  <a:lnTo>
                    <a:pt x="2630" y="1386"/>
                  </a:lnTo>
                  <a:lnTo>
                    <a:pt x="2624" y="1398"/>
                  </a:lnTo>
                  <a:lnTo>
                    <a:pt x="2610" y="1420"/>
                  </a:lnTo>
                  <a:lnTo>
                    <a:pt x="2592" y="1442"/>
                  </a:lnTo>
                  <a:lnTo>
                    <a:pt x="2572" y="1460"/>
                  </a:lnTo>
                  <a:lnTo>
                    <a:pt x="2552" y="1478"/>
                  </a:lnTo>
                  <a:lnTo>
                    <a:pt x="2532" y="1496"/>
                  </a:lnTo>
                  <a:lnTo>
                    <a:pt x="2514" y="1512"/>
                  </a:lnTo>
                  <a:lnTo>
                    <a:pt x="2514" y="1512"/>
                  </a:lnTo>
                  <a:lnTo>
                    <a:pt x="2494" y="1508"/>
                  </a:lnTo>
                  <a:lnTo>
                    <a:pt x="2480" y="1502"/>
                  </a:lnTo>
                  <a:lnTo>
                    <a:pt x="2468" y="1492"/>
                  </a:lnTo>
                  <a:lnTo>
                    <a:pt x="2458" y="1480"/>
                  </a:lnTo>
                  <a:lnTo>
                    <a:pt x="2458" y="1480"/>
                  </a:lnTo>
                  <a:lnTo>
                    <a:pt x="2436" y="1484"/>
                  </a:lnTo>
                  <a:lnTo>
                    <a:pt x="2420" y="1488"/>
                  </a:lnTo>
                  <a:lnTo>
                    <a:pt x="2404" y="1498"/>
                  </a:lnTo>
                  <a:lnTo>
                    <a:pt x="2392" y="1508"/>
                  </a:lnTo>
                  <a:lnTo>
                    <a:pt x="2382" y="1520"/>
                  </a:lnTo>
                  <a:lnTo>
                    <a:pt x="2374" y="1536"/>
                  </a:lnTo>
                  <a:lnTo>
                    <a:pt x="2368" y="1552"/>
                  </a:lnTo>
                  <a:lnTo>
                    <a:pt x="2362" y="1568"/>
                  </a:lnTo>
                  <a:lnTo>
                    <a:pt x="2352" y="1606"/>
                  </a:lnTo>
                  <a:lnTo>
                    <a:pt x="2344" y="1644"/>
                  </a:lnTo>
                  <a:lnTo>
                    <a:pt x="2334" y="1680"/>
                  </a:lnTo>
                  <a:lnTo>
                    <a:pt x="2328" y="1696"/>
                  </a:lnTo>
                  <a:lnTo>
                    <a:pt x="2322" y="1712"/>
                  </a:lnTo>
                  <a:lnTo>
                    <a:pt x="2322" y="17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63"/>
            <p:cNvSpPr/>
            <p:nvPr/>
          </p:nvSpPr>
          <p:spPr>
            <a:xfrm>
              <a:off x="2103120" y="1276200"/>
              <a:ext cx="4051440" cy="3362400"/>
            </a:xfrm>
            <a:custGeom>
              <a:avLst/>
              <a:gdLst>
                <a:gd name="textAreaLeft" fmla="*/ 0 w 4051440"/>
                <a:gd name="textAreaRight" fmla="*/ 4051800 w 4051440"/>
                <a:gd name="textAreaTop" fmla="*/ 0 h 3362400"/>
                <a:gd name="textAreaBottom" fmla="*/ 3362760 h 3362400"/>
              </a:gdLst>
              <a:ahLst/>
              <a:rect l="textAreaLeft" t="textAreaTop" r="textAreaRight" b="textAreaBottom"/>
              <a:pathLst>
                <a:path w="2552" h="2118">
                  <a:moveTo>
                    <a:pt x="2412" y="1406"/>
                  </a:moveTo>
                  <a:lnTo>
                    <a:pt x="2412" y="1406"/>
                  </a:lnTo>
                  <a:lnTo>
                    <a:pt x="2430" y="1390"/>
                  </a:lnTo>
                  <a:lnTo>
                    <a:pt x="2450" y="1372"/>
                  </a:lnTo>
                  <a:lnTo>
                    <a:pt x="2470" y="1354"/>
                  </a:lnTo>
                  <a:lnTo>
                    <a:pt x="2490" y="1336"/>
                  </a:lnTo>
                  <a:lnTo>
                    <a:pt x="2508" y="1314"/>
                  </a:lnTo>
                  <a:lnTo>
                    <a:pt x="2522" y="1292"/>
                  </a:lnTo>
                  <a:lnTo>
                    <a:pt x="2528" y="1280"/>
                  </a:lnTo>
                  <a:lnTo>
                    <a:pt x="2534" y="1268"/>
                  </a:lnTo>
                  <a:lnTo>
                    <a:pt x="2538" y="1254"/>
                  </a:lnTo>
                  <a:lnTo>
                    <a:pt x="2540" y="1238"/>
                  </a:lnTo>
                  <a:lnTo>
                    <a:pt x="2540" y="1238"/>
                  </a:lnTo>
                  <a:lnTo>
                    <a:pt x="2544" y="1230"/>
                  </a:lnTo>
                  <a:lnTo>
                    <a:pt x="2548" y="1222"/>
                  </a:lnTo>
                  <a:lnTo>
                    <a:pt x="2552" y="1204"/>
                  </a:lnTo>
                  <a:lnTo>
                    <a:pt x="2550" y="1186"/>
                  </a:lnTo>
                  <a:lnTo>
                    <a:pt x="2546" y="1166"/>
                  </a:lnTo>
                  <a:lnTo>
                    <a:pt x="2538" y="1148"/>
                  </a:lnTo>
                  <a:lnTo>
                    <a:pt x="2526" y="1130"/>
                  </a:lnTo>
                  <a:lnTo>
                    <a:pt x="2514" y="1112"/>
                  </a:lnTo>
                  <a:lnTo>
                    <a:pt x="2498" y="1094"/>
                  </a:lnTo>
                  <a:lnTo>
                    <a:pt x="2466" y="1060"/>
                  </a:lnTo>
                  <a:lnTo>
                    <a:pt x="2434" y="1032"/>
                  </a:lnTo>
                  <a:lnTo>
                    <a:pt x="2388" y="990"/>
                  </a:lnTo>
                  <a:lnTo>
                    <a:pt x="2388" y="990"/>
                  </a:lnTo>
                  <a:lnTo>
                    <a:pt x="2368" y="992"/>
                  </a:lnTo>
                  <a:lnTo>
                    <a:pt x="2352" y="994"/>
                  </a:lnTo>
                  <a:lnTo>
                    <a:pt x="2336" y="996"/>
                  </a:lnTo>
                  <a:lnTo>
                    <a:pt x="2324" y="1002"/>
                  </a:lnTo>
                  <a:lnTo>
                    <a:pt x="2302" y="1012"/>
                  </a:lnTo>
                  <a:lnTo>
                    <a:pt x="2282" y="1024"/>
                  </a:lnTo>
                  <a:lnTo>
                    <a:pt x="2262" y="1038"/>
                  </a:lnTo>
                  <a:lnTo>
                    <a:pt x="2242" y="1048"/>
                  </a:lnTo>
                  <a:lnTo>
                    <a:pt x="2230" y="1054"/>
                  </a:lnTo>
                  <a:lnTo>
                    <a:pt x="2218" y="1058"/>
                  </a:lnTo>
                  <a:lnTo>
                    <a:pt x="2204" y="1060"/>
                  </a:lnTo>
                  <a:lnTo>
                    <a:pt x="2188" y="1062"/>
                  </a:lnTo>
                  <a:lnTo>
                    <a:pt x="2188" y="1062"/>
                  </a:lnTo>
                  <a:lnTo>
                    <a:pt x="2178" y="1054"/>
                  </a:lnTo>
                  <a:lnTo>
                    <a:pt x="2170" y="1048"/>
                  </a:lnTo>
                  <a:lnTo>
                    <a:pt x="2162" y="1042"/>
                  </a:lnTo>
                  <a:lnTo>
                    <a:pt x="2156" y="1030"/>
                  </a:lnTo>
                  <a:lnTo>
                    <a:pt x="2156" y="1030"/>
                  </a:lnTo>
                  <a:lnTo>
                    <a:pt x="2152" y="1022"/>
                  </a:lnTo>
                  <a:lnTo>
                    <a:pt x="2148" y="1014"/>
                  </a:lnTo>
                  <a:lnTo>
                    <a:pt x="2148" y="990"/>
                  </a:lnTo>
                  <a:lnTo>
                    <a:pt x="2148" y="990"/>
                  </a:lnTo>
                  <a:lnTo>
                    <a:pt x="2136" y="988"/>
                  </a:lnTo>
                  <a:lnTo>
                    <a:pt x="2124" y="984"/>
                  </a:lnTo>
                  <a:lnTo>
                    <a:pt x="2100" y="974"/>
                  </a:lnTo>
                  <a:lnTo>
                    <a:pt x="2078" y="960"/>
                  </a:lnTo>
                  <a:lnTo>
                    <a:pt x="2058" y="942"/>
                  </a:lnTo>
                  <a:lnTo>
                    <a:pt x="2038" y="920"/>
                  </a:lnTo>
                  <a:lnTo>
                    <a:pt x="2018" y="896"/>
                  </a:lnTo>
                  <a:lnTo>
                    <a:pt x="2002" y="868"/>
                  </a:lnTo>
                  <a:lnTo>
                    <a:pt x="1986" y="840"/>
                  </a:lnTo>
                  <a:lnTo>
                    <a:pt x="1974" y="810"/>
                  </a:lnTo>
                  <a:lnTo>
                    <a:pt x="1964" y="778"/>
                  </a:lnTo>
                  <a:lnTo>
                    <a:pt x="1956" y="748"/>
                  </a:lnTo>
                  <a:lnTo>
                    <a:pt x="1950" y="716"/>
                  </a:lnTo>
                  <a:lnTo>
                    <a:pt x="1948" y="684"/>
                  </a:lnTo>
                  <a:lnTo>
                    <a:pt x="1950" y="654"/>
                  </a:lnTo>
                  <a:lnTo>
                    <a:pt x="1954" y="626"/>
                  </a:lnTo>
                  <a:lnTo>
                    <a:pt x="1962" y="598"/>
                  </a:lnTo>
                  <a:lnTo>
                    <a:pt x="1962" y="598"/>
                  </a:lnTo>
                  <a:lnTo>
                    <a:pt x="2044" y="550"/>
                  </a:lnTo>
                  <a:lnTo>
                    <a:pt x="2044" y="550"/>
                  </a:lnTo>
                  <a:lnTo>
                    <a:pt x="2058" y="546"/>
                  </a:lnTo>
                  <a:lnTo>
                    <a:pt x="2074" y="546"/>
                  </a:lnTo>
                  <a:lnTo>
                    <a:pt x="2090" y="546"/>
                  </a:lnTo>
                  <a:lnTo>
                    <a:pt x="2106" y="548"/>
                  </a:lnTo>
                  <a:lnTo>
                    <a:pt x="2140" y="554"/>
                  </a:lnTo>
                  <a:lnTo>
                    <a:pt x="2172" y="558"/>
                  </a:lnTo>
                  <a:lnTo>
                    <a:pt x="2188" y="560"/>
                  </a:lnTo>
                  <a:lnTo>
                    <a:pt x="2204" y="558"/>
                  </a:lnTo>
                  <a:lnTo>
                    <a:pt x="2218" y="556"/>
                  </a:lnTo>
                  <a:lnTo>
                    <a:pt x="2230" y="550"/>
                  </a:lnTo>
                  <a:lnTo>
                    <a:pt x="2242" y="542"/>
                  </a:lnTo>
                  <a:lnTo>
                    <a:pt x="2252" y="530"/>
                  </a:lnTo>
                  <a:lnTo>
                    <a:pt x="2260" y="514"/>
                  </a:lnTo>
                  <a:lnTo>
                    <a:pt x="2268" y="494"/>
                  </a:lnTo>
                  <a:lnTo>
                    <a:pt x="2268" y="494"/>
                  </a:lnTo>
                  <a:lnTo>
                    <a:pt x="2260" y="480"/>
                  </a:lnTo>
                  <a:lnTo>
                    <a:pt x="2254" y="466"/>
                  </a:lnTo>
                  <a:lnTo>
                    <a:pt x="2246" y="436"/>
                  </a:lnTo>
                  <a:lnTo>
                    <a:pt x="2240" y="404"/>
                  </a:lnTo>
                  <a:lnTo>
                    <a:pt x="2234" y="388"/>
                  </a:lnTo>
                  <a:lnTo>
                    <a:pt x="2228" y="374"/>
                  </a:lnTo>
                  <a:lnTo>
                    <a:pt x="2228" y="374"/>
                  </a:lnTo>
                  <a:lnTo>
                    <a:pt x="2214" y="352"/>
                  </a:lnTo>
                  <a:lnTo>
                    <a:pt x="2198" y="330"/>
                  </a:lnTo>
                  <a:lnTo>
                    <a:pt x="2182" y="308"/>
                  </a:lnTo>
                  <a:lnTo>
                    <a:pt x="2164" y="288"/>
                  </a:lnTo>
                  <a:lnTo>
                    <a:pt x="2122" y="246"/>
                  </a:lnTo>
                  <a:lnTo>
                    <a:pt x="2078" y="206"/>
                  </a:lnTo>
                  <a:lnTo>
                    <a:pt x="2030" y="170"/>
                  </a:lnTo>
                  <a:lnTo>
                    <a:pt x="1980" y="136"/>
                  </a:lnTo>
                  <a:lnTo>
                    <a:pt x="1932" y="108"/>
                  </a:lnTo>
                  <a:lnTo>
                    <a:pt x="1882" y="86"/>
                  </a:lnTo>
                  <a:lnTo>
                    <a:pt x="1882" y="86"/>
                  </a:lnTo>
                  <a:lnTo>
                    <a:pt x="1850" y="72"/>
                  </a:lnTo>
                  <a:lnTo>
                    <a:pt x="1814" y="60"/>
                  </a:lnTo>
                  <a:lnTo>
                    <a:pt x="1778" y="48"/>
                  </a:lnTo>
                  <a:lnTo>
                    <a:pt x="1740" y="38"/>
                  </a:lnTo>
                  <a:lnTo>
                    <a:pt x="1702" y="30"/>
                  </a:lnTo>
                  <a:lnTo>
                    <a:pt x="1662" y="20"/>
                  </a:lnTo>
                  <a:lnTo>
                    <a:pt x="1622" y="14"/>
                  </a:lnTo>
                  <a:lnTo>
                    <a:pt x="1580" y="8"/>
                  </a:lnTo>
                  <a:lnTo>
                    <a:pt x="1540" y="4"/>
                  </a:lnTo>
                  <a:lnTo>
                    <a:pt x="1496" y="2"/>
                  </a:lnTo>
                  <a:lnTo>
                    <a:pt x="1454" y="0"/>
                  </a:lnTo>
                  <a:lnTo>
                    <a:pt x="1412" y="0"/>
                  </a:lnTo>
                  <a:lnTo>
                    <a:pt x="1368" y="4"/>
                  </a:lnTo>
                  <a:lnTo>
                    <a:pt x="1326" y="8"/>
                  </a:lnTo>
                  <a:lnTo>
                    <a:pt x="1284" y="14"/>
                  </a:lnTo>
                  <a:lnTo>
                    <a:pt x="1242" y="22"/>
                  </a:lnTo>
                  <a:lnTo>
                    <a:pt x="1242" y="22"/>
                  </a:lnTo>
                  <a:lnTo>
                    <a:pt x="1058" y="22"/>
                  </a:lnTo>
                  <a:lnTo>
                    <a:pt x="1058" y="22"/>
                  </a:lnTo>
                  <a:lnTo>
                    <a:pt x="1018" y="28"/>
                  </a:lnTo>
                  <a:lnTo>
                    <a:pt x="974" y="36"/>
                  </a:lnTo>
                  <a:lnTo>
                    <a:pt x="928" y="42"/>
                  </a:lnTo>
                  <a:lnTo>
                    <a:pt x="904" y="48"/>
                  </a:lnTo>
                  <a:lnTo>
                    <a:pt x="882" y="54"/>
                  </a:lnTo>
                  <a:lnTo>
                    <a:pt x="882" y="54"/>
                  </a:lnTo>
                  <a:lnTo>
                    <a:pt x="822" y="72"/>
                  </a:lnTo>
                  <a:lnTo>
                    <a:pt x="746" y="94"/>
                  </a:lnTo>
                  <a:lnTo>
                    <a:pt x="708" y="108"/>
                  </a:lnTo>
                  <a:lnTo>
                    <a:pt x="674" y="122"/>
                  </a:lnTo>
                  <a:lnTo>
                    <a:pt x="642" y="136"/>
                  </a:lnTo>
                  <a:lnTo>
                    <a:pt x="618" y="150"/>
                  </a:lnTo>
                  <a:lnTo>
                    <a:pt x="618" y="150"/>
                  </a:lnTo>
                  <a:lnTo>
                    <a:pt x="582" y="174"/>
                  </a:lnTo>
                  <a:lnTo>
                    <a:pt x="544" y="202"/>
                  </a:lnTo>
                  <a:lnTo>
                    <a:pt x="506" y="234"/>
                  </a:lnTo>
                  <a:lnTo>
                    <a:pt x="468" y="268"/>
                  </a:lnTo>
                  <a:lnTo>
                    <a:pt x="430" y="304"/>
                  </a:lnTo>
                  <a:lnTo>
                    <a:pt x="394" y="344"/>
                  </a:lnTo>
                  <a:lnTo>
                    <a:pt x="358" y="386"/>
                  </a:lnTo>
                  <a:lnTo>
                    <a:pt x="324" y="430"/>
                  </a:lnTo>
                  <a:lnTo>
                    <a:pt x="292" y="478"/>
                  </a:lnTo>
                  <a:lnTo>
                    <a:pt x="262" y="526"/>
                  </a:lnTo>
                  <a:lnTo>
                    <a:pt x="236" y="576"/>
                  </a:lnTo>
                  <a:lnTo>
                    <a:pt x="214" y="628"/>
                  </a:lnTo>
                  <a:lnTo>
                    <a:pt x="196" y="680"/>
                  </a:lnTo>
                  <a:lnTo>
                    <a:pt x="188" y="708"/>
                  </a:lnTo>
                  <a:lnTo>
                    <a:pt x="182" y="734"/>
                  </a:lnTo>
                  <a:lnTo>
                    <a:pt x="176" y="762"/>
                  </a:lnTo>
                  <a:lnTo>
                    <a:pt x="172" y="790"/>
                  </a:lnTo>
                  <a:lnTo>
                    <a:pt x="170" y="818"/>
                  </a:lnTo>
                  <a:lnTo>
                    <a:pt x="170" y="846"/>
                  </a:lnTo>
                  <a:lnTo>
                    <a:pt x="170" y="846"/>
                  </a:lnTo>
                  <a:lnTo>
                    <a:pt x="184" y="846"/>
                  </a:lnTo>
                  <a:lnTo>
                    <a:pt x="198" y="846"/>
                  </a:lnTo>
                  <a:lnTo>
                    <a:pt x="228" y="842"/>
                  </a:lnTo>
                  <a:lnTo>
                    <a:pt x="260" y="834"/>
                  </a:lnTo>
                  <a:lnTo>
                    <a:pt x="290" y="824"/>
                  </a:lnTo>
                  <a:lnTo>
                    <a:pt x="320" y="816"/>
                  </a:lnTo>
                  <a:lnTo>
                    <a:pt x="350" y="812"/>
                  </a:lnTo>
                  <a:lnTo>
                    <a:pt x="364" y="812"/>
                  </a:lnTo>
                  <a:lnTo>
                    <a:pt x="376" y="814"/>
                  </a:lnTo>
                  <a:lnTo>
                    <a:pt x="390" y="816"/>
                  </a:lnTo>
                  <a:lnTo>
                    <a:pt x="402" y="822"/>
                  </a:lnTo>
                  <a:lnTo>
                    <a:pt x="402" y="822"/>
                  </a:lnTo>
                  <a:lnTo>
                    <a:pt x="412" y="828"/>
                  </a:lnTo>
                  <a:lnTo>
                    <a:pt x="420" y="836"/>
                  </a:lnTo>
                  <a:lnTo>
                    <a:pt x="428" y="844"/>
                  </a:lnTo>
                  <a:lnTo>
                    <a:pt x="436" y="854"/>
                  </a:lnTo>
                  <a:lnTo>
                    <a:pt x="450" y="876"/>
                  </a:lnTo>
                  <a:lnTo>
                    <a:pt x="460" y="900"/>
                  </a:lnTo>
                  <a:lnTo>
                    <a:pt x="466" y="928"/>
                  </a:lnTo>
                  <a:lnTo>
                    <a:pt x="470" y="958"/>
                  </a:lnTo>
                  <a:lnTo>
                    <a:pt x="472" y="988"/>
                  </a:lnTo>
                  <a:lnTo>
                    <a:pt x="472" y="1020"/>
                  </a:lnTo>
                  <a:lnTo>
                    <a:pt x="470" y="1052"/>
                  </a:lnTo>
                  <a:lnTo>
                    <a:pt x="464" y="1082"/>
                  </a:lnTo>
                  <a:lnTo>
                    <a:pt x="458" y="1112"/>
                  </a:lnTo>
                  <a:lnTo>
                    <a:pt x="448" y="1140"/>
                  </a:lnTo>
                  <a:lnTo>
                    <a:pt x="436" y="1166"/>
                  </a:lnTo>
                  <a:lnTo>
                    <a:pt x="424" y="1188"/>
                  </a:lnTo>
                  <a:lnTo>
                    <a:pt x="410" y="1208"/>
                  </a:lnTo>
                  <a:lnTo>
                    <a:pt x="394" y="1222"/>
                  </a:lnTo>
                  <a:lnTo>
                    <a:pt x="394" y="1222"/>
                  </a:lnTo>
                  <a:lnTo>
                    <a:pt x="364" y="1244"/>
                  </a:lnTo>
                  <a:lnTo>
                    <a:pt x="328" y="1268"/>
                  </a:lnTo>
                  <a:lnTo>
                    <a:pt x="290" y="1288"/>
                  </a:lnTo>
                  <a:lnTo>
                    <a:pt x="272" y="1296"/>
                  </a:lnTo>
                  <a:lnTo>
                    <a:pt x="258" y="1302"/>
                  </a:lnTo>
                  <a:lnTo>
                    <a:pt x="258" y="1302"/>
                  </a:lnTo>
                  <a:lnTo>
                    <a:pt x="238" y="1308"/>
                  </a:lnTo>
                  <a:lnTo>
                    <a:pt x="220" y="1312"/>
                  </a:lnTo>
                  <a:lnTo>
                    <a:pt x="202" y="1312"/>
                  </a:lnTo>
                  <a:lnTo>
                    <a:pt x="184" y="1314"/>
                  </a:lnTo>
                  <a:lnTo>
                    <a:pt x="154" y="1312"/>
                  </a:lnTo>
                  <a:lnTo>
                    <a:pt x="126" y="1310"/>
                  </a:lnTo>
                  <a:lnTo>
                    <a:pt x="112" y="1310"/>
                  </a:lnTo>
                  <a:lnTo>
                    <a:pt x="100" y="1312"/>
                  </a:lnTo>
                  <a:lnTo>
                    <a:pt x="86" y="1314"/>
                  </a:lnTo>
                  <a:lnTo>
                    <a:pt x="74" y="1320"/>
                  </a:lnTo>
                  <a:lnTo>
                    <a:pt x="62" y="1326"/>
                  </a:lnTo>
                  <a:lnTo>
                    <a:pt x="50" y="1336"/>
                  </a:lnTo>
                  <a:lnTo>
                    <a:pt x="38" y="1350"/>
                  </a:lnTo>
                  <a:lnTo>
                    <a:pt x="26" y="1366"/>
                  </a:lnTo>
                  <a:lnTo>
                    <a:pt x="26" y="1366"/>
                  </a:lnTo>
                  <a:lnTo>
                    <a:pt x="14" y="1386"/>
                  </a:lnTo>
                  <a:lnTo>
                    <a:pt x="6" y="1406"/>
                  </a:lnTo>
                  <a:lnTo>
                    <a:pt x="2" y="1428"/>
                  </a:lnTo>
                  <a:lnTo>
                    <a:pt x="0" y="1450"/>
                  </a:lnTo>
                  <a:lnTo>
                    <a:pt x="2" y="1474"/>
                  </a:lnTo>
                  <a:lnTo>
                    <a:pt x="6" y="1496"/>
                  </a:lnTo>
                  <a:lnTo>
                    <a:pt x="10" y="1518"/>
                  </a:lnTo>
                  <a:lnTo>
                    <a:pt x="18" y="1540"/>
                  </a:lnTo>
                  <a:lnTo>
                    <a:pt x="26" y="1562"/>
                  </a:lnTo>
                  <a:lnTo>
                    <a:pt x="38" y="1582"/>
                  </a:lnTo>
                  <a:lnTo>
                    <a:pt x="48" y="1602"/>
                  </a:lnTo>
                  <a:lnTo>
                    <a:pt x="60" y="1620"/>
                  </a:lnTo>
                  <a:lnTo>
                    <a:pt x="74" y="1636"/>
                  </a:lnTo>
                  <a:lnTo>
                    <a:pt x="86" y="1650"/>
                  </a:lnTo>
                  <a:lnTo>
                    <a:pt x="100" y="1662"/>
                  </a:lnTo>
                  <a:lnTo>
                    <a:pt x="114" y="1670"/>
                  </a:lnTo>
                  <a:lnTo>
                    <a:pt x="114" y="1670"/>
                  </a:lnTo>
                  <a:lnTo>
                    <a:pt x="162" y="1678"/>
                  </a:lnTo>
                  <a:lnTo>
                    <a:pt x="162" y="1678"/>
                  </a:lnTo>
                  <a:lnTo>
                    <a:pt x="184" y="1686"/>
                  </a:lnTo>
                  <a:lnTo>
                    <a:pt x="214" y="1694"/>
                  </a:lnTo>
                  <a:lnTo>
                    <a:pt x="230" y="1696"/>
                  </a:lnTo>
                  <a:lnTo>
                    <a:pt x="246" y="1696"/>
                  </a:lnTo>
                  <a:lnTo>
                    <a:pt x="260" y="1692"/>
                  </a:lnTo>
                  <a:lnTo>
                    <a:pt x="274" y="1686"/>
                  </a:lnTo>
                  <a:lnTo>
                    <a:pt x="274" y="1686"/>
                  </a:lnTo>
                  <a:lnTo>
                    <a:pt x="296" y="1678"/>
                  </a:lnTo>
                  <a:lnTo>
                    <a:pt x="314" y="1666"/>
                  </a:lnTo>
                  <a:lnTo>
                    <a:pt x="346" y="1642"/>
                  </a:lnTo>
                  <a:lnTo>
                    <a:pt x="362" y="1632"/>
                  </a:lnTo>
                  <a:lnTo>
                    <a:pt x="382" y="1624"/>
                  </a:lnTo>
                  <a:lnTo>
                    <a:pt x="394" y="1620"/>
                  </a:lnTo>
                  <a:lnTo>
                    <a:pt x="408" y="1618"/>
                  </a:lnTo>
                  <a:lnTo>
                    <a:pt x="424" y="1616"/>
                  </a:lnTo>
                  <a:lnTo>
                    <a:pt x="442" y="1614"/>
                  </a:lnTo>
                  <a:lnTo>
                    <a:pt x="442" y="1614"/>
                  </a:lnTo>
                  <a:lnTo>
                    <a:pt x="444" y="1650"/>
                  </a:lnTo>
                  <a:lnTo>
                    <a:pt x="450" y="1682"/>
                  </a:lnTo>
                  <a:lnTo>
                    <a:pt x="460" y="1712"/>
                  </a:lnTo>
                  <a:lnTo>
                    <a:pt x="472" y="1740"/>
                  </a:lnTo>
                  <a:lnTo>
                    <a:pt x="486" y="1766"/>
                  </a:lnTo>
                  <a:lnTo>
                    <a:pt x="504" y="1788"/>
                  </a:lnTo>
                  <a:lnTo>
                    <a:pt x="524" y="1810"/>
                  </a:lnTo>
                  <a:lnTo>
                    <a:pt x="546" y="1830"/>
                  </a:lnTo>
                  <a:lnTo>
                    <a:pt x="568" y="1848"/>
                  </a:lnTo>
                  <a:lnTo>
                    <a:pt x="592" y="1866"/>
                  </a:lnTo>
                  <a:lnTo>
                    <a:pt x="618" y="1882"/>
                  </a:lnTo>
                  <a:lnTo>
                    <a:pt x="644" y="1896"/>
                  </a:lnTo>
                  <a:lnTo>
                    <a:pt x="696" y="1924"/>
                  </a:lnTo>
                  <a:lnTo>
                    <a:pt x="746" y="1950"/>
                  </a:lnTo>
                  <a:lnTo>
                    <a:pt x="746" y="1950"/>
                  </a:lnTo>
                  <a:lnTo>
                    <a:pt x="836" y="1996"/>
                  </a:lnTo>
                  <a:lnTo>
                    <a:pt x="882" y="2016"/>
                  </a:lnTo>
                  <a:lnTo>
                    <a:pt x="930" y="2036"/>
                  </a:lnTo>
                  <a:lnTo>
                    <a:pt x="980" y="2056"/>
                  </a:lnTo>
                  <a:lnTo>
                    <a:pt x="1030" y="2074"/>
                  </a:lnTo>
                  <a:lnTo>
                    <a:pt x="1084" y="2090"/>
                  </a:lnTo>
                  <a:lnTo>
                    <a:pt x="1138" y="2104"/>
                  </a:lnTo>
                  <a:lnTo>
                    <a:pt x="1138" y="2104"/>
                  </a:lnTo>
                  <a:lnTo>
                    <a:pt x="1168" y="2110"/>
                  </a:lnTo>
                  <a:lnTo>
                    <a:pt x="1200" y="2114"/>
                  </a:lnTo>
                  <a:lnTo>
                    <a:pt x="1232" y="2116"/>
                  </a:lnTo>
                  <a:lnTo>
                    <a:pt x="1264" y="2118"/>
                  </a:lnTo>
                  <a:lnTo>
                    <a:pt x="1298" y="2118"/>
                  </a:lnTo>
                  <a:lnTo>
                    <a:pt x="1330" y="2116"/>
                  </a:lnTo>
                  <a:lnTo>
                    <a:pt x="1364" y="2112"/>
                  </a:lnTo>
                  <a:lnTo>
                    <a:pt x="1398" y="2108"/>
                  </a:lnTo>
                  <a:lnTo>
                    <a:pt x="1464" y="2096"/>
                  </a:lnTo>
                  <a:lnTo>
                    <a:pt x="1532" y="2080"/>
                  </a:lnTo>
                  <a:lnTo>
                    <a:pt x="1598" y="2060"/>
                  </a:lnTo>
                  <a:lnTo>
                    <a:pt x="1662" y="2036"/>
                  </a:lnTo>
                  <a:lnTo>
                    <a:pt x="1726" y="2010"/>
                  </a:lnTo>
                  <a:lnTo>
                    <a:pt x="1786" y="1982"/>
                  </a:lnTo>
                  <a:lnTo>
                    <a:pt x="1842" y="1954"/>
                  </a:lnTo>
                  <a:lnTo>
                    <a:pt x="1894" y="1924"/>
                  </a:lnTo>
                  <a:lnTo>
                    <a:pt x="1942" y="1894"/>
                  </a:lnTo>
                  <a:lnTo>
                    <a:pt x="1984" y="1864"/>
                  </a:lnTo>
                  <a:lnTo>
                    <a:pt x="2022" y="1834"/>
                  </a:lnTo>
                  <a:lnTo>
                    <a:pt x="2052" y="1806"/>
                  </a:lnTo>
                  <a:lnTo>
                    <a:pt x="2052" y="1806"/>
                  </a:lnTo>
                  <a:lnTo>
                    <a:pt x="2090" y="1766"/>
                  </a:lnTo>
                  <a:lnTo>
                    <a:pt x="2140" y="1710"/>
                  </a:lnTo>
                  <a:lnTo>
                    <a:pt x="2188" y="1652"/>
                  </a:lnTo>
                  <a:lnTo>
                    <a:pt x="2206" y="1626"/>
                  </a:lnTo>
                  <a:lnTo>
                    <a:pt x="2220" y="1606"/>
                  </a:lnTo>
                  <a:lnTo>
                    <a:pt x="2220" y="1606"/>
                  </a:lnTo>
                  <a:lnTo>
                    <a:pt x="2226" y="1590"/>
                  </a:lnTo>
                  <a:lnTo>
                    <a:pt x="2232" y="1574"/>
                  </a:lnTo>
                  <a:lnTo>
                    <a:pt x="2242" y="1538"/>
                  </a:lnTo>
                  <a:lnTo>
                    <a:pt x="2250" y="1500"/>
                  </a:lnTo>
                  <a:lnTo>
                    <a:pt x="2260" y="1462"/>
                  </a:lnTo>
                  <a:lnTo>
                    <a:pt x="2266" y="1446"/>
                  </a:lnTo>
                  <a:lnTo>
                    <a:pt x="2272" y="1430"/>
                  </a:lnTo>
                  <a:lnTo>
                    <a:pt x="2280" y="1414"/>
                  </a:lnTo>
                  <a:lnTo>
                    <a:pt x="2290" y="1402"/>
                  </a:lnTo>
                  <a:lnTo>
                    <a:pt x="2302" y="1392"/>
                  </a:lnTo>
                  <a:lnTo>
                    <a:pt x="2318" y="1382"/>
                  </a:lnTo>
                  <a:lnTo>
                    <a:pt x="2334" y="1378"/>
                  </a:lnTo>
                  <a:lnTo>
                    <a:pt x="2356" y="1374"/>
                  </a:lnTo>
                  <a:lnTo>
                    <a:pt x="2356" y="1374"/>
                  </a:lnTo>
                  <a:lnTo>
                    <a:pt x="2366" y="1386"/>
                  </a:lnTo>
                  <a:lnTo>
                    <a:pt x="2378" y="1396"/>
                  </a:lnTo>
                  <a:lnTo>
                    <a:pt x="2392" y="1402"/>
                  </a:lnTo>
                  <a:lnTo>
                    <a:pt x="2412" y="1406"/>
                  </a:lnTo>
                  <a:lnTo>
                    <a:pt x="2412" y="1406"/>
                  </a:lnTo>
                  <a:close/>
                  <a:moveTo>
                    <a:pt x="282" y="1566"/>
                  </a:moveTo>
                  <a:lnTo>
                    <a:pt x="282" y="1566"/>
                  </a:lnTo>
                  <a:lnTo>
                    <a:pt x="272" y="1572"/>
                  </a:lnTo>
                  <a:lnTo>
                    <a:pt x="260" y="1574"/>
                  </a:lnTo>
                  <a:lnTo>
                    <a:pt x="248" y="1574"/>
                  </a:lnTo>
                  <a:lnTo>
                    <a:pt x="236" y="1574"/>
                  </a:lnTo>
                  <a:lnTo>
                    <a:pt x="212" y="1566"/>
                  </a:lnTo>
                  <a:lnTo>
                    <a:pt x="194" y="1558"/>
                  </a:lnTo>
                  <a:lnTo>
                    <a:pt x="194" y="1558"/>
                  </a:lnTo>
                  <a:lnTo>
                    <a:pt x="176" y="1524"/>
                  </a:lnTo>
                  <a:lnTo>
                    <a:pt x="170" y="1510"/>
                  </a:lnTo>
                  <a:lnTo>
                    <a:pt x="164" y="1496"/>
                  </a:lnTo>
                  <a:lnTo>
                    <a:pt x="162" y="1480"/>
                  </a:lnTo>
                  <a:lnTo>
                    <a:pt x="160" y="1462"/>
                  </a:lnTo>
                  <a:lnTo>
                    <a:pt x="160" y="1440"/>
                  </a:lnTo>
                  <a:lnTo>
                    <a:pt x="162" y="1414"/>
                  </a:lnTo>
                  <a:lnTo>
                    <a:pt x="162" y="1414"/>
                  </a:lnTo>
                  <a:lnTo>
                    <a:pt x="172" y="1412"/>
                  </a:lnTo>
                  <a:lnTo>
                    <a:pt x="178" y="1406"/>
                  </a:lnTo>
                  <a:lnTo>
                    <a:pt x="178" y="1406"/>
                  </a:lnTo>
                  <a:lnTo>
                    <a:pt x="218" y="1406"/>
                  </a:lnTo>
                  <a:lnTo>
                    <a:pt x="218" y="1406"/>
                  </a:lnTo>
                  <a:lnTo>
                    <a:pt x="224" y="1428"/>
                  </a:lnTo>
                  <a:lnTo>
                    <a:pt x="230" y="1450"/>
                  </a:lnTo>
                  <a:lnTo>
                    <a:pt x="234" y="1470"/>
                  </a:lnTo>
                  <a:lnTo>
                    <a:pt x="238" y="1480"/>
                  </a:lnTo>
                  <a:lnTo>
                    <a:pt x="242" y="1486"/>
                  </a:lnTo>
                  <a:lnTo>
                    <a:pt x="242" y="1486"/>
                  </a:lnTo>
                  <a:lnTo>
                    <a:pt x="254" y="1494"/>
                  </a:lnTo>
                  <a:lnTo>
                    <a:pt x="266" y="1498"/>
                  </a:lnTo>
                  <a:lnTo>
                    <a:pt x="284" y="1506"/>
                  </a:lnTo>
                  <a:lnTo>
                    <a:pt x="292" y="1512"/>
                  </a:lnTo>
                  <a:lnTo>
                    <a:pt x="298" y="1520"/>
                  </a:lnTo>
                  <a:lnTo>
                    <a:pt x="302" y="1532"/>
                  </a:lnTo>
                  <a:lnTo>
                    <a:pt x="306" y="1550"/>
                  </a:lnTo>
                  <a:lnTo>
                    <a:pt x="306" y="1550"/>
                  </a:lnTo>
                  <a:lnTo>
                    <a:pt x="296" y="1560"/>
                  </a:lnTo>
                  <a:lnTo>
                    <a:pt x="290" y="1562"/>
                  </a:lnTo>
                  <a:lnTo>
                    <a:pt x="282" y="1566"/>
                  </a:lnTo>
                  <a:lnTo>
                    <a:pt x="282" y="1566"/>
                  </a:lnTo>
                  <a:close/>
                  <a:moveTo>
                    <a:pt x="706" y="1374"/>
                  </a:moveTo>
                  <a:lnTo>
                    <a:pt x="706" y="1374"/>
                  </a:lnTo>
                  <a:lnTo>
                    <a:pt x="692" y="1368"/>
                  </a:lnTo>
                  <a:lnTo>
                    <a:pt x="678" y="1362"/>
                  </a:lnTo>
                  <a:lnTo>
                    <a:pt x="668" y="1352"/>
                  </a:lnTo>
                  <a:lnTo>
                    <a:pt x="656" y="1344"/>
                  </a:lnTo>
                  <a:lnTo>
                    <a:pt x="638" y="1324"/>
                  </a:lnTo>
                  <a:lnTo>
                    <a:pt x="618" y="1302"/>
                  </a:lnTo>
                  <a:lnTo>
                    <a:pt x="618" y="1302"/>
                  </a:lnTo>
                  <a:lnTo>
                    <a:pt x="618" y="1276"/>
                  </a:lnTo>
                  <a:lnTo>
                    <a:pt x="620" y="1250"/>
                  </a:lnTo>
                  <a:lnTo>
                    <a:pt x="624" y="1226"/>
                  </a:lnTo>
                  <a:lnTo>
                    <a:pt x="628" y="1204"/>
                  </a:lnTo>
                  <a:lnTo>
                    <a:pt x="634" y="1182"/>
                  </a:lnTo>
                  <a:lnTo>
                    <a:pt x="640" y="1160"/>
                  </a:lnTo>
                  <a:lnTo>
                    <a:pt x="650" y="1140"/>
                  </a:lnTo>
                  <a:lnTo>
                    <a:pt x="658" y="1122"/>
                  </a:lnTo>
                  <a:lnTo>
                    <a:pt x="670" y="1104"/>
                  </a:lnTo>
                  <a:lnTo>
                    <a:pt x="680" y="1088"/>
                  </a:lnTo>
                  <a:lnTo>
                    <a:pt x="694" y="1074"/>
                  </a:lnTo>
                  <a:lnTo>
                    <a:pt x="706" y="1060"/>
                  </a:lnTo>
                  <a:lnTo>
                    <a:pt x="722" y="1046"/>
                  </a:lnTo>
                  <a:lnTo>
                    <a:pt x="736" y="1034"/>
                  </a:lnTo>
                  <a:lnTo>
                    <a:pt x="752" y="1024"/>
                  </a:lnTo>
                  <a:lnTo>
                    <a:pt x="770" y="1014"/>
                  </a:lnTo>
                  <a:lnTo>
                    <a:pt x="770" y="1014"/>
                  </a:lnTo>
                  <a:lnTo>
                    <a:pt x="788" y="1008"/>
                  </a:lnTo>
                  <a:lnTo>
                    <a:pt x="804" y="1002"/>
                  </a:lnTo>
                  <a:lnTo>
                    <a:pt x="820" y="998"/>
                  </a:lnTo>
                  <a:lnTo>
                    <a:pt x="826" y="994"/>
                  </a:lnTo>
                  <a:lnTo>
                    <a:pt x="834" y="990"/>
                  </a:lnTo>
                  <a:lnTo>
                    <a:pt x="834" y="990"/>
                  </a:lnTo>
                  <a:lnTo>
                    <a:pt x="874" y="992"/>
                  </a:lnTo>
                  <a:lnTo>
                    <a:pt x="906" y="996"/>
                  </a:lnTo>
                  <a:lnTo>
                    <a:pt x="934" y="1004"/>
                  </a:lnTo>
                  <a:lnTo>
                    <a:pt x="962" y="1014"/>
                  </a:lnTo>
                  <a:lnTo>
                    <a:pt x="962" y="1014"/>
                  </a:lnTo>
                  <a:lnTo>
                    <a:pt x="978" y="1046"/>
                  </a:lnTo>
                  <a:lnTo>
                    <a:pt x="986" y="1062"/>
                  </a:lnTo>
                  <a:lnTo>
                    <a:pt x="992" y="1078"/>
                  </a:lnTo>
                  <a:lnTo>
                    <a:pt x="996" y="1096"/>
                  </a:lnTo>
                  <a:lnTo>
                    <a:pt x="1000" y="1116"/>
                  </a:lnTo>
                  <a:lnTo>
                    <a:pt x="1002" y="1138"/>
                  </a:lnTo>
                  <a:lnTo>
                    <a:pt x="1002" y="1166"/>
                  </a:lnTo>
                  <a:lnTo>
                    <a:pt x="1002" y="1166"/>
                  </a:lnTo>
                  <a:lnTo>
                    <a:pt x="984" y="1186"/>
                  </a:lnTo>
                  <a:lnTo>
                    <a:pt x="968" y="1206"/>
                  </a:lnTo>
                  <a:lnTo>
                    <a:pt x="936" y="1248"/>
                  </a:lnTo>
                  <a:lnTo>
                    <a:pt x="906" y="1292"/>
                  </a:lnTo>
                  <a:lnTo>
                    <a:pt x="874" y="1334"/>
                  </a:lnTo>
                  <a:lnTo>
                    <a:pt x="874" y="1334"/>
                  </a:lnTo>
                  <a:lnTo>
                    <a:pt x="866" y="1342"/>
                  </a:lnTo>
                  <a:lnTo>
                    <a:pt x="856" y="1350"/>
                  </a:lnTo>
                  <a:lnTo>
                    <a:pt x="834" y="1364"/>
                  </a:lnTo>
                  <a:lnTo>
                    <a:pt x="812" y="1376"/>
                  </a:lnTo>
                  <a:lnTo>
                    <a:pt x="802" y="1382"/>
                  </a:lnTo>
                  <a:lnTo>
                    <a:pt x="794" y="1390"/>
                  </a:lnTo>
                  <a:lnTo>
                    <a:pt x="794" y="1390"/>
                  </a:lnTo>
                  <a:lnTo>
                    <a:pt x="768" y="1390"/>
                  </a:lnTo>
                  <a:lnTo>
                    <a:pt x="744" y="1388"/>
                  </a:lnTo>
                  <a:lnTo>
                    <a:pt x="724" y="1384"/>
                  </a:lnTo>
                  <a:lnTo>
                    <a:pt x="714" y="1380"/>
                  </a:lnTo>
                  <a:lnTo>
                    <a:pt x="706" y="1374"/>
                  </a:lnTo>
                  <a:lnTo>
                    <a:pt x="706" y="1374"/>
                  </a:lnTo>
                  <a:close/>
                  <a:moveTo>
                    <a:pt x="970" y="1422"/>
                  </a:moveTo>
                  <a:lnTo>
                    <a:pt x="970" y="1422"/>
                  </a:lnTo>
                  <a:lnTo>
                    <a:pt x="938" y="1518"/>
                  </a:lnTo>
                  <a:lnTo>
                    <a:pt x="938" y="1518"/>
                  </a:lnTo>
                  <a:lnTo>
                    <a:pt x="912" y="1520"/>
                  </a:lnTo>
                  <a:lnTo>
                    <a:pt x="904" y="1520"/>
                  </a:lnTo>
                  <a:lnTo>
                    <a:pt x="898" y="1518"/>
                  </a:lnTo>
                  <a:lnTo>
                    <a:pt x="898" y="1518"/>
                  </a:lnTo>
                  <a:lnTo>
                    <a:pt x="884" y="1510"/>
                  </a:lnTo>
                  <a:lnTo>
                    <a:pt x="880" y="1504"/>
                  </a:lnTo>
                  <a:lnTo>
                    <a:pt x="874" y="1494"/>
                  </a:lnTo>
                  <a:lnTo>
                    <a:pt x="874" y="1494"/>
                  </a:lnTo>
                  <a:lnTo>
                    <a:pt x="870" y="1486"/>
                  </a:lnTo>
                  <a:lnTo>
                    <a:pt x="868" y="1478"/>
                  </a:lnTo>
                  <a:lnTo>
                    <a:pt x="866" y="1468"/>
                  </a:lnTo>
                  <a:lnTo>
                    <a:pt x="868" y="1458"/>
                  </a:lnTo>
                  <a:lnTo>
                    <a:pt x="872" y="1438"/>
                  </a:lnTo>
                  <a:lnTo>
                    <a:pt x="880" y="1416"/>
                  </a:lnTo>
                  <a:lnTo>
                    <a:pt x="892" y="1396"/>
                  </a:lnTo>
                  <a:lnTo>
                    <a:pt x="904" y="1380"/>
                  </a:lnTo>
                  <a:lnTo>
                    <a:pt x="918" y="1366"/>
                  </a:lnTo>
                  <a:lnTo>
                    <a:pt x="930" y="1358"/>
                  </a:lnTo>
                  <a:lnTo>
                    <a:pt x="930" y="1358"/>
                  </a:lnTo>
                  <a:lnTo>
                    <a:pt x="944" y="1348"/>
                  </a:lnTo>
                  <a:lnTo>
                    <a:pt x="960" y="1338"/>
                  </a:lnTo>
                  <a:lnTo>
                    <a:pt x="976" y="1332"/>
                  </a:lnTo>
                  <a:lnTo>
                    <a:pt x="996" y="1330"/>
                  </a:lnTo>
                  <a:lnTo>
                    <a:pt x="1014" y="1330"/>
                  </a:lnTo>
                  <a:lnTo>
                    <a:pt x="1032" y="1330"/>
                  </a:lnTo>
                  <a:lnTo>
                    <a:pt x="1052" y="1334"/>
                  </a:lnTo>
                  <a:lnTo>
                    <a:pt x="1070" y="1340"/>
                  </a:lnTo>
                  <a:lnTo>
                    <a:pt x="1088" y="1348"/>
                  </a:lnTo>
                  <a:lnTo>
                    <a:pt x="1104" y="1358"/>
                  </a:lnTo>
                  <a:lnTo>
                    <a:pt x="1120" y="1370"/>
                  </a:lnTo>
                  <a:lnTo>
                    <a:pt x="1134" y="1382"/>
                  </a:lnTo>
                  <a:lnTo>
                    <a:pt x="1144" y="1398"/>
                  </a:lnTo>
                  <a:lnTo>
                    <a:pt x="1154" y="1412"/>
                  </a:lnTo>
                  <a:lnTo>
                    <a:pt x="1160" y="1430"/>
                  </a:lnTo>
                  <a:lnTo>
                    <a:pt x="1162" y="1446"/>
                  </a:lnTo>
                  <a:lnTo>
                    <a:pt x="1162" y="1446"/>
                  </a:lnTo>
                  <a:lnTo>
                    <a:pt x="1148" y="1454"/>
                  </a:lnTo>
                  <a:lnTo>
                    <a:pt x="1136" y="1458"/>
                  </a:lnTo>
                  <a:lnTo>
                    <a:pt x="1120" y="1462"/>
                  </a:lnTo>
                  <a:lnTo>
                    <a:pt x="1098" y="1462"/>
                  </a:lnTo>
                  <a:lnTo>
                    <a:pt x="1098" y="1462"/>
                  </a:lnTo>
                  <a:lnTo>
                    <a:pt x="1084" y="1442"/>
                  </a:lnTo>
                  <a:lnTo>
                    <a:pt x="1074" y="1432"/>
                  </a:lnTo>
                  <a:lnTo>
                    <a:pt x="1066" y="1424"/>
                  </a:lnTo>
                  <a:lnTo>
                    <a:pt x="1054" y="1418"/>
                  </a:lnTo>
                  <a:lnTo>
                    <a:pt x="1042" y="1412"/>
                  </a:lnTo>
                  <a:lnTo>
                    <a:pt x="1028" y="1408"/>
                  </a:lnTo>
                  <a:lnTo>
                    <a:pt x="1010" y="1406"/>
                  </a:lnTo>
                  <a:lnTo>
                    <a:pt x="1010" y="1406"/>
                  </a:lnTo>
                  <a:lnTo>
                    <a:pt x="1002" y="1412"/>
                  </a:lnTo>
                  <a:lnTo>
                    <a:pt x="992" y="1416"/>
                  </a:lnTo>
                  <a:lnTo>
                    <a:pt x="970" y="1422"/>
                  </a:lnTo>
                  <a:lnTo>
                    <a:pt x="970" y="1422"/>
                  </a:lnTo>
                  <a:close/>
                  <a:moveTo>
                    <a:pt x="1866" y="1766"/>
                  </a:moveTo>
                  <a:lnTo>
                    <a:pt x="1866" y="1766"/>
                  </a:lnTo>
                  <a:lnTo>
                    <a:pt x="1830" y="1768"/>
                  </a:lnTo>
                  <a:lnTo>
                    <a:pt x="1800" y="1764"/>
                  </a:lnTo>
                  <a:lnTo>
                    <a:pt x="1772" y="1758"/>
                  </a:lnTo>
                  <a:lnTo>
                    <a:pt x="1738" y="1750"/>
                  </a:lnTo>
                  <a:lnTo>
                    <a:pt x="1738" y="1750"/>
                  </a:lnTo>
                  <a:lnTo>
                    <a:pt x="1738" y="1774"/>
                  </a:lnTo>
                  <a:lnTo>
                    <a:pt x="1738" y="1774"/>
                  </a:lnTo>
                  <a:lnTo>
                    <a:pt x="1746" y="1788"/>
                  </a:lnTo>
                  <a:lnTo>
                    <a:pt x="1750" y="1800"/>
                  </a:lnTo>
                  <a:lnTo>
                    <a:pt x="1752" y="1812"/>
                  </a:lnTo>
                  <a:lnTo>
                    <a:pt x="1750" y="1824"/>
                  </a:lnTo>
                  <a:lnTo>
                    <a:pt x="1748" y="1834"/>
                  </a:lnTo>
                  <a:lnTo>
                    <a:pt x="1744" y="1846"/>
                  </a:lnTo>
                  <a:lnTo>
                    <a:pt x="1738" y="1856"/>
                  </a:lnTo>
                  <a:lnTo>
                    <a:pt x="1730" y="1866"/>
                  </a:lnTo>
                  <a:lnTo>
                    <a:pt x="1714" y="1884"/>
                  </a:lnTo>
                  <a:lnTo>
                    <a:pt x="1696" y="1902"/>
                  </a:lnTo>
                  <a:lnTo>
                    <a:pt x="1666" y="1926"/>
                  </a:lnTo>
                  <a:lnTo>
                    <a:pt x="1666" y="1926"/>
                  </a:lnTo>
                  <a:lnTo>
                    <a:pt x="1628" y="1926"/>
                  </a:lnTo>
                  <a:lnTo>
                    <a:pt x="1596" y="1922"/>
                  </a:lnTo>
                  <a:lnTo>
                    <a:pt x="1568" y="1916"/>
                  </a:lnTo>
                  <a:lnTo>
                    <a:pt x="1544" y="1906"/>
                  </a:lnTo>
                  <a:lnTo>
                    <a:pt x="1498" y="1888"/>
                  </a:lnTo>
                  <a:lnTo>
                    <a:pt x="1472" y="1878"/>
                  </a:lnTo>
                  <a:lnTo>
                    <a:pt x="1442" y="1870"/>
                  </a:lnTo>
                  <a:lnTo>
                    <a:pt x="1442" y="1870"/>
                  </a:lnTo>
                  <a:lnTo>
                    <a:pt x="1434" y="1890"/>
                  </a:lnTo>
                  <a:lnTo>
                    <a:pt x="1426" y="1906"/>
                  </a:lnTo>
                  <a:lnTo>
                    <a:pt x="1414" y="1918"/>
                  </a:lnTo>
                  <a:lnTo>
                    <a:pt x="1402" y="1930"/>
                  </a:lnTo>
                  <a:lnTo>
                    <a:pt x="1374" y="1952"/>
                  </a:lnTo>
                  <a:lnTo>
                    <a:pt x="1360" y="1962"/>
                  </a:lnTo>
                  <a:lnTo>
                    <a:pt x="1346" y="1976"/>
                  </a:lnTo>
                  <a:lnTo>
                    <a:pt x="1346" y="1976"/>
                  </a:lnTo>
                  <a:lnTo>
                    <a:pt x="1304" y="1978"/>
                  </a:lnTo>
                  <a:lnTo>
                    <a:pt x="1260" y="1980"/>
                  </a:lnTo>
                  <a:lnTo>
                    <a:pt x="1216" y="1978"/>
                  </a:lnTo>
                  <a:lnTo>
                    <a:pt x="1194" y="1974"/>
                  </a:lnTo>
                  <a:lnTo>
                    <a:pt x="1174" y="1970"/>
                  </a:lnTo>
                  <a:lnTo>
                    <a:pt x="1154" y="1964"/>
                  </a:lnTo>
                  <a:lnTo>
                    <a:pt x="1136" y="1956"/>
                  </a:lnTo>
                  <a:lnTo>
                    <a:pt x="1120" y="1946"/>
                  </a:lnTo>
                  <a:lnTo>
                    <a:pt x="1106" y="1934"/>
                  </a:lnTo>
                  <a:lnTo>
                    <a:pt x="1094" y="1920"/>
                  </a:lnTo>
                  <a:lnTo>
                    <a:pt x="1084" y="1904"/>
                  </a:lnTo>
                  <a:lnTo>
                    <a:pt x="1078" y="1884"/>
                  </a:lnTo>
                  <a:lnTo>
                    <a:pt x="1074" y="1862"/>
                  </a:lnTo>
                  <a:lnTo>
                    <a:pt x="1074" y="1862"/>
                  </a:lnTo>
                  <a:lnTo>
                    <a:pt x="1068" y="1852"/>
                  </a:lnTo>
                  <a:lnTo>
                    <a:pt x="1064" y="1840"/>
                  </a:lnTo>
                  <a:lnTo>
                    <a:pt x="1062" y="1828"/>
                  </a:lnTo>
                  <a:lnTo>
                    <a:pt x="1060" y="1816"/>
                  </a:lnTo>
                  <a:lnTo>
                    <a:pt x="1060" y="1804"/>
                  </a:lnTo>
                  <a:lnTo>
                    <a:pt x="1062" y="1792"/>
                  </a:lnTo>
                  <a:lnTo>
                    <a:pt x="1068" y="1768"/>
                  </a:lnTo>
                  <a:lnTo>
                    <a:pt x="1078" y="1746"/>
                  </a:lnTo>
                  <a:lnTo>
                    <a:pt x="1088" y="1726"/>
                  </a:lnTo>
                  <a:lnTo>
                    <a:pt x="1106" y="1694"/>
                  </a:lnTo>
                  <a:lnTo>
                    <a:pt x="1106" y="1694"/>
                  </a:lnTo>
                  <a:lnTo>
                    <a:pt x="1120" y="1674"/>
                  </a:lnTo>
                  <a:lnTo>
                    <a:pt x="1136" y="1654"/>
                  </a:lnTo>
                  <a:lnTo>
                    <a:pt x="1154" y="1634"/>
                  </a:lnTo>
                  <a:lnTo>
                    <a:pt x="1172" y="1616"/>
                  </a:lnTo>
                  <a:lnTo>
                    <a:pt x="1192" y="1598"/>
                  </a:lnTo>
                  <a:lnTo>
                    <a:pt x="1212" y="1582"/>
                  </a:lnTo>
                  <a:lnTo>
                    <a:pt x="1234" y="1566"/>
                  </a:lnTo>
                  <a:lnTo>
                    <a:pt x="1256" y="1552"/>
                  </a:lnTo>
                  <a:lnTo>
                    <a:pt x="1304" y="1524"/>
                  </a:lnTo>
                  <a:lnTo>
                    <a:pt x="1354" y="1500"/>
                  </a:lnTo>
                  <a:lnTo>
                    <a:pt x="1406" y="1480"/>
                  </a:lnTo>
                  <a:lnTo>
                    <a:pt x="1458" y="1462"/>
                  </a:lnTo>
                  <a:lnTo>
                    <a:pt x="1458" y="1462"/>
                  </a:lnTo>
                  <a:lnTo>
                    <a:pt x="1476" y="1458"/>
                  </a:lnTo>
                  <a:lnTo>
                    <a:pt x="1494" y="1458"/>
                  </a:lnTo>
                  <a:lnTo>
                    <a:pt x="1526" y="1458"/>
                  </a:lnTo>
                  <a:lnTo>
                    <a:pt x="1544" y="1458"/>
                  </a:lnTo>
                  <a:lnTo>
                    <a:pt x="1558" y="1456"/>
                  </a:lnTo>
                  <a:lnTo>
                    <a:pt x="1574" y="1452"/>
                  </a:lnTo>
                  <a:lnTo>
                    <a:pt x="1586" y="1446"/>
                  </a:lnTo>
                  <a:lnTo>
                    <a:pt x="1586" y="1446"/>
                  </a:lnTo>
                  <a:lnTo>
                    <a:pt x="1672" y="1458"/>
                  </a:lnTo>
                  <a:lnTo>
                    <a:pt x="1712" y="1464"/>
                  </a:lnTo>
                  <a:lnTo>
                    <a:pt x="1752" y="1470"/>
                  </a:lnTo>
                  <a:lnTo>
                    <a:pt x="1790" y="1478"/>
                  </a:lnTo>
                  <a:lnTo>
                    <a:pt x="1826" y="1488"/>
                  </a:lnTo>
                  <a:lnTo>
                    <a:pt x="1860" y="1502"/>
                  </a:lnTo>
                  <a:lnTo>
                    <a:pt x="1876" y="1510"/>
                  </a:lnTo>
                  <a:lnTo>
                    <a:pt x="1890" y="1518"/>
                  </a:lnTo>
                  <a:lnTo>
                    <a:pt x="1890" y="1518"/>
                  </a:lnTo>
                  <a:lnTo>
                    <a:pt x="1900" y="1526"/>
                  </a:lnTo>
                  <a:lnTo>
                    <a:pt x="1910" y="1536"/>
                  </a:lnTo>
                  <a:lnTo>
                    <a:pt x="1924" y="1556"/>
                  </a:lnTo>
                  <a:lnTo>
                    <a:pt x="1940" y="1580"/>
                  </a:lnTo>
                  <a:lnTo>
                    <a:pt x="1946" y="1590"/>
                  </a:lnTo>
                  <a:lnTo>
                    <a:pt x="1954" y="1598"/>
                  </a:lnTo>
                  <a:lnTo>
                    <a:pt x="1954" y="1598"/>
                  </a:lnTo>
                  <a:lnTo>
                    <a:pt x="1954" y="1634"/>
                  </a:lnTo>
                  <a:lnTo>
                    <a:pt x="1948" y="1662"/>
                  </a:lnTo>
                  <a:lnTo>
                    <a:pt x="1940" y="1684"/>
                  </a:lnTo>
                  <a:lnTo>
                    <a:pt x="1930" y="1704"/>
                  </a:lnTo>
                  <a:lnTo>
                    <a:pt x="1916" y="1720"/>
                  </a:lnTo>
                  <a:lnTo>
                    <a:pt x="1902" y="1734"/>
                  </a:lnTo>
                  <a:lnTo>
                    <a:pt x="1866" y="1766"/>
                  </a:lnTo>
                  <a:lnTo>
                    <a:pt x="1866" y="1766"/>
                  </a:lnTo>
                  <a:close/>
                  <a:moveTo>
                    <a:pt x="1658" y="1358"/>
                  </a:moveTo>
                  <a:lnTo>
                    <a:pt x="1658" y="1358"/>
                  </a:lnTo>
                  <a:lnTo>
                    <a:pt x="1658" y="1366"/>
                  </a:lnTo>
                  <a:lnTo>
                    <a:pt x="1658" y="1366"/>
                  </a:lnTo>
                  <a:lnTo>
                    <a:pt x="1656" y="1368"/>
                  </a:lnTo>
                  <a:lnTo>
                    <a:pt x="1654" y="1368"/>
                  </a:lnTo>
                  <a:lnTo>
                    <a:pt x="1652" y="1366"/>
                  </a:lnTo>
                  <a:lnTo>
                    <a:pt x="1650" y="1358"/>
                  </a:lnTo>
                  <a:lnTo>
                    <a:pt x="1650" y="1358"/>
                  </a:lnTo>
                  <a:lnTo>
                    <a:pt x="1636" y="1354"/>
                  </a:lnTo>
                  <a:lnTo>
                    <a:pt x="1626" y="1348"/>
                  </a:lnTo>
                  <a:lnTo>
                    <a:pt x="1618" y="1340"/>
                  </a:lnTo>
                  <a:lnTo>
                    <a:pt x="1614" y="1332"/>
                  </a:lnTo>
                  <a:lnTo>
                    <a:pt x="1610" y="1320"/>
                  </a:lnTo>
                  <a:lnTo>
                    <a:pt x="1610" y="1306"/>
                  </a:lnTo>
                  <a:lnTo>
                    <a:pt x="1610" y="1270"/>
                  </a:lnTo>
                  <a:lnTo>
                    <a:pt x="1610" y="1270"/>
                  </a:lnTo>
                  <a:lnTo>
                    <a:pt x="1698" y="1182"/>
                  </a:lnTo>
                  <a:lnTo>
                    <a:pt x="1698" y="1182"/>
                  </a:lnTo>
                  <a:lnTo>
                    <a:pt x="1718" y="1180"/>
                  </a:lnTo>
                  <a:lnTo>
                    <a:pt x="1724" y="1178"/>
                  </a:lnTo>
                  <a:lnTo>
                    <a:pt x="1730" y="1174"/>
                  </a:lnTo>
                  <a:lnTo>
                    <a:pt x="1730" y="1174"/>
                  </a:lnTo>
                  <a:lnTo>
                    <a:pt x="1754" y="1174"/>
                  </a:lnTo>
                  <a:lnTo>
                    <a:pt x="1774" y="1176"/>
                  </a:lnTo>
                  <a:lnTo>
                    <a:pt x="1810" y="1182"/>
                  </a:lnTo>
                  <a:lnTo>
                    <a:pt x="1842" y="1190"/>
                  </a:lnTo>
                  <a:lnTo>
                    <a:pt x="1874" y="1198"/>
                  </a:lnTo>
                  <a:lnTo>
                    <a:pt x="1874" y="1198"/>
                  </a:lnTo>
                  <a:lnTo>
                    <a:pt x="1892" y="1222"/>
                  </a:lnTo>
                  <a:lnTo>
                    <a:pt x="1908" y="1244"/>
                  </a:lnTo>
                  <a:lnTo>
                    <a:pt x="1916" y="1256"/>
                  </a:lnTo>
                  <a:lnTo>
                    <a:pt x="1922" y="1270"/>
                  </a:lnTo>
                  <a:lnTo>
                    <a:pt x="1928" y="1284"/>
                  </a:lnTo>
                  <a:lnTo>
                    <a:pt x="1930" y="1302"/>
                  </a:lnTo>
                  <a:lnTo>
                    <a:pt x="1930" y="1302"/>
                  </a:lnTo>
                  <a:lnTo>
                    <a:pt x="1918" y="1312"/>
                  </a:lnTo>
                  <a:lnTo>
                    <a:pt x="1910" y="1320"/>
                  </a:lnTo>
                  <a:lnTo>
                    <a:pt x="1898" y="1324"/>
                  </a:lnTo>
                  <a:lnTo>
                    <a:pt x="1874" y="1326"/>
                  </a:lnTo>
                  <a:lnTo>
                    <a:pt x="1874" y="1326"/>
                  </a:lnTo>
                  <a:lnTo>
                    <a:pt x="1866" y="1320"/>
                  </a:lnTo>
                  <a:lnTo>
                    <a:pt x="1854" y="1316"/>
                  </a:lnTo>
                  <a:lnTo>
                    <a:pt x="1844" y="1310"/>
                  </a:lnTo>
                  <a:lnTo>
                    <a:pt x="1834" y="1302"/>
                  </a:lnTo>
                  <a:lnTo>
                    <a:pt x="1834" y="1302"/>
                  </a:lnTo>
                  <a:lnTo>
                    <a:pt x="1818" y="1280"/>
                  </a:lnTo>
                  <a:lnTo>
                    <a:pt x="1812" y="1270"/>
                  </a:lnTo>
                  <a:lnTo>
                    <a:pt x="1806" y="1264"/>
                  </a:lnTo>
                  <a:lnTo>
                    <a:pt x="1798" y="1260"/>
                  </a:lnTo>
                  <a:lnTo>
                    <a:pt x="1786" y="1256"/>
                  </a:lnTo>
                  <a:lnTo>
                    <a:pt x="1770" y="1254"/>
                  </a:lnTo>
                  <a:lnTo>
                    <a:pt x="1746" y="1254"/>
                  </a:lnTo>
                  <a:lnTo>
                    <a:pt x="1746" y="1254"/>
                  </a:lnTo>
                  <a:lnTo>
                    <a:pt x="1740" y="1260"/>
                  </a:lnTo>
                  <a:lnTo>
                    <a:pt x="1732" y="1266"/>
                  </a:lnTo>
                  <a:lnTo>
                    <a:pt x="1712" y="1276"/>
                  </a:lnTo>
                  <a:lnTo>
                    <a:pt x="1694" y="1288"/>
                  </a:lnTo>
                  <a:lnTo>
                    <a:pt x="1688" y="1296"/>
                  </a:lnTo>
                  <a:lnTo>
                    <a:pt x="1682" y="1302"/>
                  </a:lnTo>
                  <a:lnTo>
                    <a:pt x="1682" y="1302"/>
                  </a:lnTo>
                  <a:lnTo>
                    <a:pt x="1678" y="1314"/>
                  </a:lnTo>
                  <a:lnTo>
                    <a:pt x="1676" y="1322"/>
                  </a:lnTo>
                  <a:lnTo>
                    <a:pt x="1676" y="1336"/>
                  </a:lnTo>
                  <a:lnTo>
                    <a:pt x="1676" y="1342"/>
                  </a:lnTo>
                  <a:lnTo>
                    <a:pt x="1674" y="1346"/>
                  </a:lnTo>
                  <a:lnTo>
                    <a:pt x="1668" y="1352"/>
                  </a:lnTo>
                  <a:lnTo>
                    <a:pt x="1658" y="1358"/>
                  </a:lnTo>
                  <a:lnTo>
                    <a:pt x="1658" y="1358"/>
                  </a:lnTo>
                  <a:close/>
                  <a:moveTo>
                    <a:pt x="2010" y="1046"/>
                  </a:moveTo>
                  <a:lnTo>
                    <a:pt x="2010" y="1046"/>
                  </a:lnTo>
                  <a:lnTo>
                    <a:pt x="2002" y="1054"/>
                  </a:lnTo>
                  <a:lnTo>
                    <a:pt x="1994" y="1064"/>
                  </a:lnTo>
                  <a:lnTo>
                    <a:pt x="1982" y="1082"/>
                  </a:lnTo>
                  <a:lnTo>
                    <a:pt x="1976" y="1090"/>
                  </a:lnTo>
                  <a:lnTo>
                    <a:pt x="1968" y="1098"/>
                  </a:lnTo>
                  <a:lnTo>
                    <a:pt x="1958" y="1104"/>
                  </a:lnTo>
                  <a:lnTo>
                    <a:pt x="1946" y="1110"/>
                  </a:lnTo>
                  <a:lnTo>
                    <a:pt x="1946" y="1110"/>
                  </a:lnTo>
                  <a:lnTo>
                    <a:pt x="1936" y="1118"/>
                  </a:lnTo>
                  <a:lnTo>
                    <a:pt x="1926" y="1124"/>
                  </a:lnTo>
                  <a:lnTo>
                    <a:pt x="1914" y="1130"/>
                  </a:lnTo>
                  <a:lnTo>
                    <a:pt x="1900" y="1134"/>
                  </a:lnTo>
                  <a:lnTo>
                    <a:pt x="1874" y="1138"/>
                  </a:lnTo>
                  <a:lnTo>
                    <a:pt x="1844" y="1138"/>
                  </a:lnTo>
                  <a:lnTo>
                    <a:pt x="1812" y="1136"/>
                  </a:lnTo>
                  <a:lnTo>
                    <a:pt x="1782" y="1130"/>
                  </a:lnTo>
                  <a:lnTo>
                    <a:pt x="1750" y="1120"/>
                  </a:lnTo>
                  <a:lnTo>
                    <a:pt x="1718" y="1108"/>
                  </a:lnTo>
                  <a:lnTo>
                    <a:pt x="1688" y="1094"/>
                  </a:lnTo>
                  <a:lnTo>
                    <a:pt x="1658" y="1078"/>
                  </a:lnTo>
                  <a:lnTo>
                    <a:pt x="1632" y="1060"/>
                  </a:lnTo>
                  <a:lnTo>
                    <a:pt x="1610" y="1040"/>
                  </a:lnTo>
                  <a:lnTo>
                    <a:pt x="1590" y="1020"/>
                  </a:lnTo>
                  <a:lnTo>
                    <a:pt x="1576" y="1000"/>
                  </a:lnTo>
                  <a:lnTo>
                    <a:pt x="1570" y="990"/>
                  </a:lnTo>
                  <a:lnTo>
                    <a:pt x="1566" y="978"/>
                  </a:lnTo>
                  <a:lnTo>
                    <a:pt x="1564" y="968"/>
                  </a:lnTo>
                  <a:lnTo>
                    <a:pt x="1562" y="958"/>
                  </a:lnTo>
                  <a:lnTo>
                    <a:pt x="1562" y="958"/>
                  </a:lnTo>
                  <a:lnTo>
                    <a:pt x="1574" y="940"/>
                  </a:lnTo>
                  <a:lnTo>
                    <a:pt x="1582" y="924"/>
                  </a:lnTo>
                  <a:lnTo>
                    <a:pt x="1590" y="906"/>
                  </a:lnTo>
                  <a:lnTo>
                    <a:pt x="1600" y="892"/>
                  </a:lnTo>
                  <a:lnTo>
                    <a:pt x="1610" y="878"/>
                  </a:lnTo>
                  <a:lnTo>
                    <a:pt x="1626" y="866"/>
                  </a:lnTo>
                  <a:lnTo>
                    <a:pt x="1634" y="862"/>
                  </a:lnTo>
                  <a:lnTo>
                    <a:pt x="1644" y="858"/>
                  </a:lnTo>
                  <a:lnTo>
                    <a:pt x="1654" y="856"/>
                  </a:lnTo>
                  <a:lnTo>
                    <a:pt x="1666" y="854"/>
                  </a:lnTo>
                  <a:lnTo>
                    <a:pt x="1666" y="854"/>
                  </a:lnTo>
                  <a:lnTo>
                    <a:pt x="1676" y="850"/>
                  </a:lnTo>
                  <a:lnTo>
                    <a:pt x="1690" y="846"/>
                  </a:lnTo>
                  <a:lnTo>
                    <a:pt x="1704" y="842"/>
                  </a:lnTo>
                  <a:lnTo>
                    <a:pt x="1714" y="838"/>
                  </a:lnTo>
                  <a:lnTo>
                    <a:pt x="1714" y="838"/>
                  </a:lnTo>
                  <a:lnTo>
                    <a:pt x="1744" y="838"/>
                  </a:lnTo>
                  <a:lnTo>
                    <a:pt x="1770" y="840"/>
                  </a:lnTo>
                  <a:lnTo>
                    <a:pt x="1796" y="844"/>
                  </a:lnTo>
                  <a:lnTo>
                    <a:pt x="1818" y="850"/>
                  </a:lnTo>
                  <a:lnTo>
                    <a:pt x="1840" y="856"/>
                  </a:lnTo>
                  <a:lnTo>
                    <a:pt x="1860" y="864"/>
                  </a:lnTo>
                  <a:lnTo>
                    <a:pt x="1880" y="874"/>
                  </a:lnTo>
                  <a:lnTo>
                    <a:pt x="1898" y="884"/>
                  </a:lnTo>
                  <a:lnTo>
                    <a:pt x="1914" y="896"/>
                  </a:lnTo>
                  <a:lnTo>
                    <a:pt x="1930" y="908"/>
                  </a:lnTo>
                  <a:lnTo>
                    <a:pt x="1962" y="934"/>
                  </a:lnTo>
                  <a:lnTo>
                    <a:pt x="1990" y="962"/>
                  </a:lnTo>
                  <a:lnTo>
                    <a:pt x="2020" y="990"/>
                  </a:lnTo>
                  <a:lnTo>
                    <a:pt x="2020" y="990"/>
                  </a:lnTo>
                  <a:lnTo>
                    <a:pt x="2014" y="1016"/>
                  </a:lnTo>
                  <a:lnTo>
                    <a:pt x="2010" y="1046"/>
                  </a:lnTo>
                  <a:lnTo>
                    <a:pt x="2010" y="1046"/>
                  </a:lnTo>
                  <a:close/>
                  <a:moveTo>
                    <a:pt x="2332" y="1286"/>
                  </a:moveTo>
                  <a:lnTo>
                    <a:pt x="2332" y="1286"/>
                  </a:lnTo>
                  <a:lnTo>
                    <a:pt x="2320" y="1290"/>
                  </a:lnTo>
                  <a:lnTo>
                    <a:pt x="2308" y="1290"/>
                  </a:lnTo>
                  <a:lnTo>
                    <a:pt x="2276" y="1286"/>
                  </a:lnTo>
                  <a:lnTo>
                    <a:pt x="2276" y="1286"/>
                  </a:lnTo>
                  <a:lnTo>
                    <a:pt x="2272" y="1272"/>
                  </a:lnTo>
                  <a:lnTo>
                    <a:pt x="2268" y="1264"/>
                  </a:lnTo>
                  <a:lnTo>
                    <a:pt x="2264" y="1256"/>
                  </a:lnTo>
                  <a:lnTo>
                    <a:pt x="2260" y="1246"/>
                  </a:lnTo>
                  <a:lnTo>
                    <a:pt x="2260" y="1246"/>
                  </a:lnTo>
                  <a:lnTo>
                    <a:pt x="2262" y="1240"/>
                  </a:lnTo>
                  <a:lnTo>
                    <a:pt x="2268" y="1234"/>
                  </a:lnTo>
                  <a:lnTo>
                    <a:pt x="2280" y="1222"/>
                  </a:lnTo>
                  <a:lnTo>
                    <a:pt x="2292" y="1210"/>
                  </a:lnTo>
                  <a:lnTo>
                    <a:pt x="2296" y="1204"/>
                  </a:lnTo>
                  <a:lnTo>
                    <a:pt x="2300" y="1198"/>
                  </a:lnTo>
                  <a:lnTo>
                    <a:pt x="2300" y="1198"/>
                  </a:lnTo>
                  <a:lnTo>
                    <a:pt x="2302" y="1186"/>
                  </a:lnTo>
                  <a:lnTo>
                    <a:pt x="2302" y="1176"/>
                  </a:lnTo>
                  <a:lnTo>
                    <a:pt x="2298" y="1168"/>
                  </a:lnTo>
                  <a:lnTo>
                    <a:pt x="2296" y="1162"/>
                  </a:lnTo>
                  <a:lnTo>
                    <a:pt x="2292" y="1156"/>
                  </a:lnTo>
                  <a:lnTo>
                    <a:pt x="2290" y="1148"/>
                  </a:lnTo>
                  <a:lnTo>
                    <a:pt x="2288" y="1142"/>
                  </a:lnTo>
                  <a:lnTo>
                    <a:pt x="2292" y="1134"/>
                  </a:lnTo>
                  <a:lnTo>
                    <a:pt x="2292" y="1134"/>
                  </a:lnTo>
                  <a:lnTo>
                    <a:pt x="2296" y="1124"/>
                  </a:lnTo>
                  <a:lnTo>
                    <a:pt x="2296" y="1122"/>
                  </a:lnTo>
                  <a:lnTo>
                    <a:pt x="2298" y="1122"/>
                  </a:lnTo>
                  <a:lnTo>
                    <a:pt x="2308" y="1118"/>
                  </a:lnTo>
                  <a:lnTo>
                    <a:pt x="2308" y="1118"/>
                  </a:lnTo>
                  <a:lnTo>
                    <a:pt x="2316" y="1114"/>
                  </a:lnTo>
                  <a:lnTo>
                    <a:pt x="2332" y="1110"/>
                  </a:lnTo>
                  <a:lnTo>
                    <a:pt x="2332" y="1110"/>
                  </a:lnTo>
                  <a:lnTo>
                    <a:pt x="2344" y="1120"/>
                  </a:lnTo>
                  <a:lnTo>
                    <a:pt x="2354" y="1126"/>
                  </a:lnTo>
                  <a:lnTo>
                    <a:pt x="2364" y="1136"/>
                  </a:lnTo>
                  <a:lnTo>
                    <a:pt x="2368" y="1142"/>
                  </a:lnTo>
                  <a:lnTo>
                    <a:pt x="2372" y="1150"/>
                  </a:lnTo>
                  <a:lnTo>
                    <a:pt x="2372" y="1150"/>
                  </a:lnTo>
                  <a:lnTo>
                    <a:pt x="2376" y="1158"/>
                  </a:lnTo>
                  <a:lnTo>
                    <a:pt x="2382" y="1168"/>
                  </a:lnTo>
                  <a:lnTo>
                    <a:pt x="2384" y="1176"/>
                  </a:lnTo>
                  <a:lnTo>
                    <a:pt x="2386" y="1186"/>
                  </a:lnTo>
                  <a:lnTo>
                    <a:pt x="2386" y="1208"/>
                  </a:lnTo>
                  <a:lnTo>
                    <a:pt x="2380" y="1228"/>
                  </a:lnTo>
                  <a:lnTo>
                    <a:pt x="2372" y="1248"/>
                  </a:lnTo>
                  <a:lnTo>
                    <a:pt x="2360" y="1264"/>
                  </a:lnTo>
                  <a:lnTo>
                    <a:pt x="2346" y="1278"/>
                  </a:lnTo>
                  <a:lnTo>
                    <a:pt x="2340" y="1284"/>
                  </a:lnTo>
                  <a:lnTo>
                    <a:pt x="2332" y="1286"/>
                  </a:lnTo>
                  <a:lnTo>
                    <a:pt x="2332" y="1286"/>
                  </a:lnTo>
                  <a:close/>
                </a:path>
              </a:pathLst>
            </a:custGeom>
            <a:solidFill>
              <a:srgbClr val="fee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64"/>
            <p:cNvSpPr/>
            <p:nvPr/>
          </p:nvSpPr>
          <p:spPr>
            <a:xfrm>
              <a:off x="5348520" y="2263680"/>
              <a:ext cx="380880" cy="48240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240" h="304">
                  <a:moveTo>
                    <a:pt x="0" y="24"/>
                  </a:moveTo>
                  <a:lnTo>
                    <a:pt x="0" y="24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4" y="104"/>
                  </a:lnTo>
                  <a:lnTo>
                    <a:pt x="6" y="114"/>
                  </a:lnTo>
                  <a:lnTo>
                    <a:pt x="8" y="132"/>
                  </a:lnTo>
                  <a:lnTo>
                    <a:pt x="10" y="152"/>
                  </a:lnTo>
                  <a:lnTo>
                    <a:pt x="12" y="164"/>
                  </a:lnTo>
                  <a:lnTo>
                    <a:pt x="16" y="176"/>
                  </a:lnTo>
                  <a:lnTo>
                    <a:pt x="16" y="176"/>
                  </a:lnTo>
                  <a:lnTo>
                    <a:pt x="24" y="200"/>
                  </a:lnTo>
                  <a:lnTo>
                    <a:pt x="36" y="222"/>
                  </a:lnTo>
                  <a:lnTo>
                    <a:pt x="52" y="244"/>
                  </a:lnTo>
                  <a:lnTo>
                    <a:pt x="72" y="262"/>
                  </a:lnTo>
                  <a:lnTo>
                    <a:pt x="92" y="280"/>
                  </a:lnTo>
                  <a:lnTo>
                    <a:pt x="104" y="286"/>
                  </a:lnTo>
                  <a:lnTo>
                    <a:pt x="118" y="292"/>
                  </a:lnTo>
                  <a:lnTo>
                    <a:pt x="130" y="296"/>
                  </a:lnTo>
                  <a:lnTo>
                    <a:pt x="144" y="300"/>
                  </a:lnTo>
                  <a:lnTo>
                    <a:pt x="160" y="302"/>
                  </a:lnTo>
                  <a:lnTo>
                    <a:pt x="176" y="304"/>
                  </a:lnTo>
                  <a:lnTo>
                    <a:pt x="176" y="304"/>
                  </a:lnTo>
                  <a:lnTo>
                    <a:pt x="200" y="264"/>
                  </a:lnTo>
                  <a:lnTo>
                    <a:pt x="216" y="232"/>
                  </a:lnTo>
                  <a:lnTo>
                    <a:pt x="228" y="204"/>
                  </a:lnTo>
                  <a:lnTo>
                    <a:pt x="236" y="176"/>
                  </a:lnTo>
                  <a:lnTo>
                    <a:pt x="240" y="146"/>
                  </a:lnTo>
                  <a:lnTo>
                    <a:pt x="240" y="110"/>
                  </a:lnTo>
                  <a:lnTo>
                    <a:pt x="240" y="0"/>
                  </a:lnTo>
                  <a:lnTo>
                    <a:pt x="240" y="0"/>
                  </a:lnTo>
                  <a:lnTo>
                    <a:pt x="224" y="0"/>
                  </a:lnTo>
                  <a:lnTo>
                    <a:pt x="224" y="0"/>
                  </a:lnTo>
                  <a:lnTo>
                    <a:pt x="212" y="6"/>
                  </a:lnTo>
                  <a:lnTo>
                    <a:pt x="202" y="12"/>
                  </a:lnTo>
                  <a:lnTo>
                    <a:pt x="188" y="16"/>
                  </a:lnTo>
                  <a:lnTo>
                    <a:pt x="176" y="20"/>
                  </a:lnTo>
                  <a:lnTo>
                    <a:pt x="148" y="22"/>
                  </a:lnTo>
                  <a:lnTo>
                    <a:pt x="118" y="22"/>
                  </a:lnTo>
                  <a:lnTo>
                    <a:pt x="56" y="20"/>
                  </a:lnTo>
                  <a:lnTo>
                    <a:pt x="26" y="2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65"/>
            <p:cNvSpPr/>
            <p:nvPr/>
          </p:nvSpPr>
          <p:spPr>
            <a:xfrm>
              <a:off x="4583160" y="2606400"/>
              <a:ext cx="726840" cy="475920"/>
            </a:xfrm>
            <a:custGeom>
              <a:avLst/>
              <a:gdLst>
                <a:gd name="textAreaLeft" fmla="*/ 0 w 726840"/>
                <a:gd name="textAreaRight" fmla="*/ 727200 w 726840"/>
                <a:gd name="textAreaTop" fmla="*/ 0 h 475920"/>
                <a:gd name="textAreaBottom" fmla="*/ 476280 h 475920"/>
              </a:gdLst>
              <a:ahLst/>
              <a:rect l="textAreaLeft" t="textAreaTop" r="textAreaRight" b="textAreaBottom"/>
              <a:pathLst>
                <a:path w="458" h="300">
                  <a:moveTo>
                    <a:pt x="152" y="0"/>
                  </a:moveTo>
                  <a:lnTo>
                    <a:pt x="152" y="0"/>
                  </a:lnTo>
                  <a:lnTo>
                    <a:pt x="142" y="4"/>
                  </a:lnTo>
                  <a:lnTo>
                    <a:pt x="128" y="8"/>
                  </a:lnTo>
                  <a:lnTo>
                    <a:pt x="114" y="12"/>
                  </a:lnTo>
                  <a:lnTo>
                    <a:pt x="104" y="16"/>
                  </a:lnTo>
                  <a:lnTo>
                    <a:pt x="104" y="16"/>
                  </a:lnTo>
                  <a:lnTo>
                    <a:pt x="92" y="18"/>
                  </a:lnTo>
                  <a:lnTo>
                    <a:pt x="82" y="20"/>
                  </a:lnTo>
                  <a:lnTo>
                    <a:pt x="72" y="24"/>
                  </a:lnTo>
                  <a:lnTo>
                    <a:pt x="64" y="28"/>
                  </a:lnTo>
                  <a:lnTo>
                    <a:pt x="48" y="40"/>
                  </a:lnTo>
                  <a:lnTo>
                    <a:pt x="38" y="54"/>
                  </a:lnTo>
                  <a:lnTo>
                    <a:pt x="28" y="68"/>
                  </a:lnTo>
                  <a:lnTo>
                    <a:pt x="20" y="86"/>
                  </a:lnTo>
                  <a:lnTo>
                    <a:pt x="12" y="102"/>
                  </a:lnTo>
                  <a:lnTo>
                    <a:pt x="0" y="120"/>
                  </a:lnTo>
                  <a:lnTo>
                    <a:pt x="0" y="120"/>
                  </a:lnTo>
                  <a:lnTo>
                    <a:pt x="2" y="130"/>
                  </a:lnTo>
                  <a:lnTo>
                    <a:pt x="4" y="140"/>
                  </a:lnTo>
                  <a:lnTo>
                    <a:pt x="8" y="152"/>
                  </a:lnTo>
                  <a:lnTo>
                    <a:pt x="14" y="162"/>
                  </a:lnTo>
                  <a:lnTo>
                    <a:pt x="28" y="182"/>
                  </a:lnTo>
                  <a:lnTo>
                    <a:pt x="48" y="202"/>
                  </a:lnTo>
                  <a:lnTo>
                    <a:pt x="70" y="222"/>
                  </a:lnTo>
                  <a:lnTo>
                    <a:pt x="96" y="240"/>
                  </a:lnTo>
                  <a:lnTo>
                    <a:pt x="126" y="256"/>
                  </a:lnTo>
                  <a:lnTo>
                    <a:pt x="156" y="270"/>
                  </a:lnTo>
                  <a:lnTo>
                    <a:pt x="188" y="282"/>
                  </a:lnTo>
                  <a:lnTo>
                    <a:pt x="220" y="292"/>
                  </a:lnTo>
                  <a:lnTo>
                    <a:pt x="250" y="298"/>
                  </a:lnTo>
                  <a:lnTo>
                    <a:pt x="282" y="300"/>
                  </a:lnTo>
                  <a:lnTo>
                    <a:pt x="312" y="300"/>
                  </a:lnTo>
                  <a:lnTo>
                    <a:pt x="338" y="296"/>
                  </a:lnTo>
                  <a:lnTo>
                    <a:pt x="352" y="292"/>
                  </a:lnTo>
                  <a:lnTo>
                    <a:pt x="364" y="286"/>
                  </a:lnTo>
                  <a:lnTo>
                    <a:pt x="374" y="280"/>
                  </a:lnTo>
                  <a:lnTo>
                    <a:pt x="384" y="272"/>
                  </a:lnTo>
                  <a:lnTo>
                    <a:pt x="384" y="272"/>
                  </a:lnTo>
                  <a:lnTo>
                    <a:pt x="396" y="266"/>
                  </a:lnTo>
                  <a:lnTo>
                    <a:pt x="406" y="260"/>
                  </a:lnTo>
                  <a:lnTo>
                    <a:pt x="414" y="252"/>
                  </a:lnTo>
                  <a:lnTo>
                    <a:pt x="420" y="244"/>
                  </a:lnTo>
                  <a:lnTo>
                    <a:pt x="432" y="226"/>
                  </a:lnTo>
                  <a:lnTo>
                    <a:pt x="440" y="216"/>
                  </a:lnTo>
                  <a:lnTo>
                    <a:pt x="448" y="208"/>
                  </a:lnTo>
                  <a:lnTo>
                    <a:pt x="448" y="208"/>
                  </a:lnTo>
                  <a:lnTo>
                    <a:pt x="452" y="178"/>
                  </a:lnTo>
                  <a:lnTo>
                    <a:pt x="458" y="152"/>
                  </a:lnTo>
                  <a:lnTo>
                    <a:pt x="458" y="152"/>
                  </a:lnTo>
                  <a:lnTo>
                    <a:pt x="428" y="124"/>
                  </a:lnTo>
                  <a:lnTo>
                    <a:pt x="400" y="96"/>
                  </a:lnTo>
                  <a:lnTo>
                    <a:pt x="368" y="70"/>
                  </a:lnTo>
                  <a:lnTo>
                    <a:pt x="352" y="58"/>
                  </a:lnTo>
                  <a:lnTo>
                    <a:pt x="336" y="46"/>
                  </a:lnTo>
                  <a:lnTo>
                    <a:pt x="318" y="36"/>
                  </a:lnTo>
                  <a:lnTo>
                    <a:pt x="298" y="26"/>
                  </a:lnTo>
                  <a:lnTo>
                    <a:pt x="278" y="18"/>
                  </a:lnTo>
                  <a:lnTo>
                    <a:pt x="256" y="12"/>
                  </a:lnTo>
                  <a:lnTo>
                    <a:pt x="234" y="6"/>
                  </a:lnTo>
                  <a:lnTo>
                    <a:pt x="208" y="2"/>
                  </a:lnTo>
                  <a:lnTo>
                    <a:pt x="182" y="0"/>
                  </a:lnTo>
                  <a:lnTo>
                    <a:pt x="152" y="0"/>
                  </a:lnTo>
                  <a:lnTo>
                    <a:pt x="152" y="0"/>
                  </a:lnTo>
                  <a:close/>
                  <a:moveTo>
                    <a:pt x="360" y="168"/>
                  </a:moveTo>
                  <a:lnTo>
                    <a:pt x="360" y="168"/>
                  </a:lnTo>
                  <a:lnTo>
                    <a:pt x="346" y="182"/>
                  </a:lnTo>
                  <a:lnTo>
                    <a:pt x="342" y="190"/>
                  </a:lnTo>
                  <a:lnTo>
                    <a:pt x="336" y="200"/>
                  </a:lnTo>
                  <a:lnTo>
                    <a:pt x="336" y="200"/>
                  </a:lnTo>
                  <a:lnTo>
                    <a:pt x="300" y="208"/>
                  </a:lnTo>
                  <a:lnTo>
                    <a:pt x="266" y="210"/>
                  </a:lnTo>
                  <a:lnTo>
                    <a:pt x="232" y="208"/>
                  </a:lnTo>
                  <a:lnTo>
                    <a:pt x="200" y="204"/>
                  </a:lnTo>
                  <a:lnTo>
                    <a:pt x="170" y="196"/>
                  </a:lnTo>
                  <a:lnTo>
                    <a:pt x="140" y="186"/>
                  </a:lnTo>
                  <a:lnTo>
                    <a:pt x="110" y="174"/>
                  </a:lnTo>
                  <a:lnTo>
                    <a:pt x="80" y="160"/>
                  </a:lnTo>
                  <a:lnTo>
                    <a:pt x="80" y="160"/>
                  </a:lnTo>
                  <a:lnTo>
                    <a:pt x="84" y="144"/>
                  </a:lnTo>
                  <a:lnTo>
                    <a:pt x="88" y="132"/>
                  </a:lnTo>
                  <a:lnTo>
                    <a:pt x="94" y="120"/>
                  </a:lnTo>
                  <a:lnTo>
                    <a:pt x="102" y="112"/>
                  </a:lnTo>
                  <a:lnTo>
                    <a:pt x="118" y="98"/>
                  </a:lnTo>
                  <a:lnTo>
                    <a:pt x="136" y="80"/>
                  </a:lnTo>
                  <a:lnTo>
                    <a:pt x="136" y="80"/>
                  </a:lnTo>
                  <a:lnTo>
                    <a:pt x="178" y="82"/>
                  </a:lnTo>
                  <a:lnTo>
                    <a:pt x="214" y="86"/>
                  </a:lnTo>
                  <a:lnTo>
                    <a:pt x="242" y="92"/>
                  </a:lnTo>
                  <a:lnTo>
                    <a:pt x="268" y="100"/>
                  </a:lnTo>
                  <a:lnTo>
                    <a:pt x="292" y="110"/>
                  </a:lnTo>
                  <a:lnTo>
                    <a:pt x="314" y="122"/>
                  </a:lnTo>
                  <a:lnTo>
                    <a:pt x="360" y="152"/>
                  </a:lnTo>
                  <a:lnTo>
                    <a:pt x="360" y="152"/>
                  </a:lnTo>
                  <a:lnTo>
                    <a:pt x="360" y="168"/>
                  </a:lnTo>
                  <a:lnTo>
                    <a:pt x="360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66"/>
            <p:cNvSpPr/>
            <p:nvPr/>
          </p:nvSpPr>
          <p:spPr>
            <a:xfrm>
              <a:off x="2344680" y="2695320"/>
              <a:ext cx="358560" cy="52056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520560"/>
                <a:gd name="textAreaBottom" fmla="*/ 520560 h 520560"/>
              </a:gdLst>
              <a:ahLst/>
              <a:rect l="textAreaLeft" t="textAreaTop" r="textAreaRight" b="textAreaBottom"/>
              <a:pathLst>
                <a:path w="226" h="328">
                  <a:moveTo>
                    <a:pt x="74" y="320"/>
                  </a:moveTo>
                  <a:lnTo>
                    <a:pt x="74" y="320"/>
                  </a:lnTo>
                  <a:lnTo>
                    <a:pt x="100" y="310"/>
                  </a:lnTo>
                  <a:lnTo>
                    <a:pt x="122" y="298"/>
                  </a:lnTo>
                  <a:lnTo>
                    <a:pt x="142" y="284"/>
                  </a:lnTo>
                  <a:lnTo>
                    <a:pt x="160" y="270"/>
                  </a:lnTo>
                  <a:lnTo>
                    <a:pt x="176" y="254"/>
                  </a:lnTo>
                  <a:lnTo>
                    <a:pt x="192" y="236"/>
                  </a:lnTo>
                  <a:lnTo>
                    <a:pt x="226" y="200"/>
                  </a:lnTo>
                  <a:lnTo>
                    <a:pt x="226" y="200"/>
                  </a:lnTo>
                  <a:lnTo>
                    <a:pt x="224" y="144"/>
                  </a:lnTo>
                  <a:lnTo>
                    <a:pt x="220" y="94"/>
                  </a:lnTo>
                  <a:lnTo>
                    <a:pt x="214" y="48"/>
                  </a:lnTo>
                  <a:lnTo>
                    <a:pt x="210" y="0"/>
                  </a:lnTo>
                  <a:lnTo>
                    <a:pt x="210" y="0"/>
                  </a:lnTo>
                  <a:lnTo>
                    <a:pt x="178" y="6"/>
                  </a:lnTo>
                  <a:lnTo>
                    <a:pt x="152" y="12"/>
                  </a:lnTo>
                  <a:lnTo>
                    <a:pt x="110" y="24"/>
                  </a:lnTo>
                  <a:lnTo>
                    <a:pt x="90" y="26"/>
                  </a:lnTo>
                  <a:lnTo>
                    <a:pt x="66" y="28"/>
                  </a:lnTo>
                  <a:lnTo>
                    <a:pt x="38" y="28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0" y="74"/>
                  </a:lnTo>
                  <a:lnTo>
                    <a:pt x="2" y="118"/>
                  </a:lnTo>
                  <a:lnTo>
                    <a:pt x="4" y="158"/>
                  </a:lnTo>
                  <a:lnTo>
                    <a:pt x="8" y="194"/>
                  </a:lnTo>
                  <a:lnTo>
                    <a:pt x="16" y="230"/>
                  </a:lnTo>
                  <a:lnTo>
                    <a:pt x="26" y="262"/>
                  </a:lnTo>
                  <a:lnTo>
                    <a:pt x="40" y="296"/>
                  </a:lnTo>
                  <a:lnTo>
                    <a:pt x="58" y="328"/>
                  </a:lnTo>
                  <a:lnTo>
                    <a:pt x="58" y="328"/>
                  </a:lnTo>
                  <a:lnTo>
                    <a:pt x="68" y="324"/>
                  </a:lnTo>
                  <a:lnTo>
                    <a:pt x="74" y="320"/>
                  </a:lnTo>
                  <a:lnTo>
                    <a:pt x="74" y="3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67"/>
            <p:cNvSpPr/>
            <p:nvPr/>
          </p:nvSpPr>
          <p:spPr>
            <a:xfrm>
              <a:off x="4710240" y="2733480"/>
              <a:ext cx="444240" cy="20628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280" h="130">
                  <a:moveTo>
                    <a:pt x="0" y="80"/>
                  </a:moveTo>
                  <a:lnTo>
                    <a:pt x="0" y="80"/>
                  </a:lnTo>
                  <a:lnTo>
                    <a:pt x="30" y="94"/>
                  </a:lnTo>
                  <a:lnTo>
                    <a:pt x="60" y="106"/>
                  </a:lnTo>
                  <a:lnTo>
                    <a:pt x="90" y="116"/>
                  </a:lnTo>
                  <a:lnTo>
                    <a:pt x="120" y="124"/>
                  </a:lnTo>
                  <a:lnTo>
                    <a:pt x="152" y="128"/>
                  </a:lnTo>
                  <a:lnTo>
                    <a:pt x="186" y="130"/>
                  </a:lnTo>
                  <a:lnTo>
                    <a:pt x="220" y="128"/>
                  </a:lnTo>
                  <a:lnTo>
                    <a:pt x="256" y="120"/>
                  </a:lnTo>
                  <a:lnTo>
                    <a:pt x="256" y="120"/>
                  </a:lnTo>
                  <a:lnTo>
                    <a:pt x="262" y="110"/>
                  </a:lnTo>
                  <a:lnTo>
                    <a:pt x="266" y="102"/>
                  </a:lnTo>
                  <a:lnTo>
                    <a:pt x="280" y="88"/>
                  </a:lnTo>
                  <a:lnTo>
                    <a:pt x="280" y="88"/>
                  </a:lnTo>
                  <a:lnTo>
                    <a:pt x="280" y="72"/>
                  </a:lnTo>
                  <a:lnTo>
                    <a:pt x="280" y="72"/>
                  </a:lnTo>
                  <a:lnTo>
                    <a:pt x="234" y="42"/>
                  </a:lnTo>
                  <a:lnTo>
                    <a:pt x="212" y="30"/>
                  </a:lnTo>
                  <a:lnTo>
                    <a:pt x="188" y="20"/>
                  </a:lnTo>
                  <a:lnTo>
                    <a:pt x="162" y="12"/>
                  </a:lnTo>
                  <a:lnTo>
                    <a:pt x="134" y="6"/>
                  </a:lnTo>
                  <a:lnTo>
                    <a:pt x="98" y="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38" y="18"/>
                  </a:lnTo>
                  <a:lnTo>
                    <a:pt x="22" y="32"/>
                  </a:lnTo>
                  <a:lnTo>
                    <a:pt x="14" y="40"/>
                  </a:lnTo>
                  <a:lnTo>
                    <a:pt x="8" y="52"/>
                  </a:lnTo>
                  <a:lnTo>
                    <a:pt x="4" y="64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68"/>
            <p:cNvSpPr/>
            <p:nvPr/>
          </p:nvSpPr>
          <p:spPr>
            <a:xfrm>
              <a:off x="3084480" y="2847960"/>
              <a:ext cx="609480" cy="63468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634680"/>
                <a:gd name="textAreaBottom" fmla="*/ 635040 h 634680"/>
              </a:gdLst>
              <a:ahLst/>
              <a:rect l="textAreaLeft" t="textAreaTop" r="textAreaRight" b="textAreaBottom"/>
              <a:pathLst>
                <a:path w="384" h="400">
                  <a:moveTo>
                    <a:pt x="256" y="344"/>
                  </a:moveTo>
                  <a:lnTo>
                    <a:pt x="256" y="344"/>
                  </a:lnTo>
                  <a:lnTo>
                    <a:pt x="288" y="302"/>
                  </a:lnTo>
                  <a:lnTo>
                    <a:pt x="318" y="258"/>
                  </a:lnTo>
                  <a:lnTo>
                    <a:pt x="350" y="216"/>
                  </a:lnTo>
                  <a:lnTo>
                    <a:pt x="366" y="196"/>
                  </a:lnTo>
                  <a:lnTo>
                    <a:pt x="384" y="176"/>
                  </a:lnTo>
                  <a:lnTo>
                    <a:pt x="384" y="176"/>
                  </a:lnTo>
                  <a:lnTo>
                    <a:pt x="384" y="148"/>
                  </a:lnTo>
                  <a:lnTo>
                    <a:pt x="382" y="126"/>
                  </a:lnTo>
                  <a:lnTo>
                    <a:pt x="378" y="106"/>
                  </a:lnTo>
                  <a:lnTo>
                    <a:pt x="374" y="88"/>
                  </a:lnTo>
                  <a:lnTo>
                    <a:pt x="368" y="72"/>
                  </a:lnTo>
                  <a:lnTo>
                    <a:pt x="360" y="56"/>
                  </a:lnTo>
                  <a:lnTo>
                    <a:pt x="344" y="24"/>
                  </a:lnTo>
                  <a:lnTo>
                    <a:pt x="344" y="24"/>
                  </a:lnTo>
                  <a:lnTo>
                    <a:pt x="316" y="14"/>
                  </a:lnTo>
                  <a:lnTo>
                    <a:pt x="288" y="6"/>
                  </a:lnTo>
                  <a:lnTo>
                    <a:pt x="256" y="2"/>
                  </a:lnTo>
                  <a:lnTo>
                    <a:pt x="216" y="0"/>
                  </a:lnTo>
                  <a:lnTo>
                    <a:pt x="216" y="0"/>
                  </a:lnTo>
                  <a:lnTo>
                    <a:pt x="208" y="4"/>
                  </a:lnTo>
                  <a:lnTo>
                    <a:pt x="202" y="8"/>
                  </a:lnTo>
                  <a:lnTo>
                    <a:pt x="186" y="12"/>
                  </a:lnTo>
                  <a:lnTo>
                    <a:pt x="170" y="18"/>
                  </a:lnTo>
                  <a:lnTo>
                    <a:pt x="152" y="24"/>
                  </a:lnTo>
                  <a:lnTo>
                    <a:pt x="152" y="24"/>
                  </a:lnTo>
                  <a:lnTo>
                    <a:pt x="134" y="34"/>
                  </a:lnTo>
                  <a:lnTo>
                    <a:pt x="118" y="44"/>
                  </a:lnTo>
                  <a:lnTo>
                    <a:pt x="104" y="56"/>
                  </a:lnTo>
                  <a:lnTo>
                    <a:pt x="88" y="70"/>
                  </a:lnTo>
                  <a:lnTo>
                    <a:pt x="76" y="84"/>
                  </a:lnTo>
                  <a:lnTo>
                    <a:pt x="62" y="98"/>
                  </a:lnTo>
                  <a:lnTo>
                    <a:pt x="52" y="114"/>
                  </a:lnTo>
                  <a:lnTo>
                    <a:pt x="40" y="132"/>
                  </a:lnTo>
                  <a:lnTo>
                    <a:pt x="32" y="150"/>
                  </a:lnTo>
                  <a:lnTo>
                    <a:pt x="22" y="170"/>
                  </a:lnTo>
                  <a:lnTo>
                    <a:pt x="16" y="192"/>
                  </a:lnTo>
                  <a:lnTo>
                    <a:pt x="10" y="214"/>
                  </a:lnTo>
                  <a:lnTo>
                    <a:pt x="6" y="236"/>
                  </a:lnTo>
                  <a:lnTo>
                    <a:pt x="2" y="260"/>
                  </a:lnTo>
                  <a:lnTo>
                    <a:pt x="0" y="286"/>
                  </a:lnTo>
                  <a:lnTo>
                    <a:pt x="0" y="312"/>
                  </a:lnTo>
                  <a:lnTo>
                    <a:pt x="0" y="312"/>
                  </a:lnTo>
                  <a:lnTo>
                    <a:pt x="20" y="334"/>
                  </a:lnTo>
                  <a:lnTo>
                    <a:pt x="38" y="354"/>
                  </a:lnTo>
                  <a:lnTo>
                    <a:pt x="50" y="362"/>
                  </a:lnTo>
                  <a:lnTo>
                    <a:pt x="60" y="372"/>
                  </a:lnTo>
                  <a:lnTo>
                    <a:pt x="74" y="378"/>
                  </a:lnTo>
                  <a:lnTo>
                    <a:pt x="88" y="384"/>
                  </a:lnTo>
                  <a:lnTo>
                    <a:pt x="88" y="384"/>
                  </a:lnTo>
                  <a:lnTo>
                    <a:pt x="96" y="390"/>
                  </a:lnTo>
                  <a:lnTo>
                    <a:pt x="106" y="394"/>
                  </a:lnTo>
                  <a:lnTo>
                    <a:pt x="126" y="398"/>
                  </a:lnTo>
                  <a:lnTo>
                    <a:pt x="150" y="400"/>
                  </a:lnTo>
                  <a:lnTo>
                    <a:pt x="176" y="400"/>
                  </a:lnTo>
                  <a:lnTo>
                    <a:pt x="176" y="400"/>
                  </a:lnTo>
                  <a:lnTo>
                    <a:pt x="184" y="392"/>
                  </a:lnTo>
                  <a:lnTo>
                    <a:pt x="194" y="386"/>
                  </a:lnTo>
                  <a:lnTo>
                    <a:pt x="216" y="374"/>
                  </a:lnTo>
                  <a:lnTo>
                    <a:pt x="238" y="360"/>
                  </a:lnTo>
                  <a:lnTo>
                    <a:pt x="248" y="352"/>
                  </a:lnTo>
                  <a:lnTo>
                    <a:pt x="256" y="344"/>
                  </a:lnTo>
                  <a:lnTo>
                    <a:pt x="256" y="344"/>
                  </a:lnTo>
                  <a:close/>
                  <a:moveTo>
                    <a:pt x="144" y="320"/>
                  </a:moveTo>
                  <a:lnTo>
                    <a:pt x="144" y="320"/>
                  </a:lnTo>
                  <a:lnTo>
                    <a:pt x="120" y="318"/>
                  </a:lnTo>
                  <a:lnTo>
                    <a:pt x="112" y="316"/>
                  </a:lnTo>
                  <a:lnTo>
                    <a:pt x="104" y="312"/>
                  </a:lnTo>
                  <a:lnTo>
                    <a:pt x="104" y="312"/>
                  </a:lnTo>
                  <a:lnTo>
                    <a:pt x="80" y="304"/>
                  </a:lnTo>
                  <a:lnTo>
                    <a:pt x="80" y="304"/>
                  </a:lnTo>
                  <a:lnTo>
                    <a:pt x="82" y="278"/>
                  </a:lnTo>
                  <a:lnTo>
                    <a:pt x="84" y="254"/>
                  </a:lnTo>
                  <a:lnTo>
                    <a:pt x="90" y="232"/>
                  </a:lnTo>
                  <a:lnTo>
                    <a:pt x="96" y="212"/>
                  </a:lnTo>
                  <a:lnTo>
                    <a:pt x="104" y="196"/>
                  </a:lnTo>
                  <a:lnTo>
                    <a:pt x="114" y="180"/>
                  </a:lnTo>
                  <a:lnTo>
                    <a:pt x="126" y="166"/>
                  </a:lnTo>
                  <a:lnTo>
                    <a:pt x="138" y="152"/>
                  </a:lnTo>
                  <a:lnTo>
                    <a:pt x="164" y="130"/>
                  </a:lnTo>
                  <a:lnTo>
                    <a:pt x="194" y="108"/>
                  </a:lnTo>
                  <a:lnTo>
                    <a:pt x="224" y="88"/>
                  </a:lnTo>
                  <a:lnTo>
                    <a:pt x="256" y="64"/>
                  </a:lnTo>
                  <a:lnTo>
                    <a:pt x="256" y="64"/>
                  </a:lnTo>
                  <a:lnTo>
                    <a:pt x="288" y="64"/>
                  </a:lnTo>
                  <a:lnTo>
                    <a:pt x="288" y="64"/>
                  </a:lnTo>
                  <a:lnTo>
                    <a:pt x="288" y="72"/>
                  </a:lnTo>
                  <a:lnTo>
                    <a:pt x="288" y="72"/>
                  </a:lnTo>
                  <a:lnTo>
                    <a:pt x="296" y="72"/>
                  </a:lnTo>
                  <a:lnTo>
                    <a:pt x="296" y="72"/>
                  </a:lnTo>
                  <a:lnTo>
                    <a:pt x="302" y="104"/>
                  </a:lnTo>
                  <a:lnTo>
                    <a:pt x="304" y="124"/>
                  </a:lnTo>
                  <a:lnTo>
                    <a:pt x="304" y="144"/>
                  </a:lnTo>
                  <a:lnTo>
                    <a:pt x="304" y="144"/>
                  </a:lnTo>
                  <a:lnTo>
                    <a:pt x="264" y="186"/>
                  </a:lnTo>
                  <a:lnTo>
                    <a:pt x="222" y="232"/>
                  </a:lnTo>
                  <a:lnTo>
                    <a:pt x="184" y="276"/>
                  </a:lnTo>
                  <a:lnTo>
                    <a:pt x="144" y="320"/>
                  </a:lnTo>
                  <a:lnTo>
                    <a:pt x="144" y="3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69"/>
            <p:cNvSpPr/>
            <p:nvPr/>
          </p:nvSpPr>
          <p:spPr>
            <a:xfrm>
              <a:off x="3211560" y="2949480"/>
              <a:ext cx="355320" cy="40608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24" h="256">
                  <a:moveTo>
                    <a:pt x="216" y="8"/>
                  </a:moveTo>
                  <a:lnTo>
                    <a:pt x="216" y="8"/>
                  </a:lnTo>
                  <a:lnTo>
                    <a:pt x="208" y="8"/>
                  </a:lnTo>
                  <a:lnTo>
                    <a:pt x="208" y="8"/>
                  </a:lnTo>
                  <a:lnTo>
                    <a:pt x="208" y="0"/>
                  </a:lnTo>
                  <a:lnTo>
                    <a:pt x="208" y="0"/>
                  </a:lnTo>
                  <a:lnTo>
                    <a:pt x="176" y="0"/>
                  </a:lnTo>
                  <a:lnTo>
                    <a:pt x="176" y="0"/>
                  </a:lnTo>
                  <a:lnTo>
                    <a:pt x="144" y="24"/>
                  </a:lnTo>
                  <a:lnTo>
                    <a:pt x="114" y="44"/>
                  </a:lnTo>
                  <a:lnTo>
                    <a:pt x="84" y="66"/>
                  </a:lnTo>
                  <a:lnTo>
                    <a:pt x="58" y="88"/>
                  </a:lnTo>
                  <a:lnTo>
                    <a:pt x="46" y="102"/>
                  </a:lnTo>
                  <a:lnTo>
                    <a:pt x="34" y="116"/>
                  </a:lnTo>
                  <a:lnTo>
                    <a:pt x="24" y="132"/>
                  </a:lnTo>
                  <a:lnTo>
                    <a:pt x="16" y="148"/>
                  </a:lnTo>
                  <a:lnTo>
                    <a:pt x="10" y="168"/>
                  </a:lnTo>
                  <a:lnTo>
                    <a:pt x="4" y="190"/>
                  </a:lnTo>
                  <a:lnTo>
                    <a:pt x="2" y="214"/>
                  </a:lnTo>
                  <a:lnTo>
                    <a:pt x="0" y="240"/>
                  </a:lnTo>
                  <a:lnTo>
                    <a:pt x="0" y="240"/>
                  </a:lnTo>
                  <a:lnTo>
                    <a:pt x="24" y="248"/>
                  </a:lnTo>
                  <a:lnTo>
                    <a:pt x="24" y="248"/>
                  </a:lnTo>
                  <a:lnTo>
                    <a:pt x="32" y="252"/>
                  </a:lnTo>
                  <a:lnTo>
                    <a:pt x="40" y="254"/>
                  </a:lnTo>
                  <a:lnTo>
                    <a:pt x="64" y="256"/>
                  </a:lnTo>
                  <a:lnTo>
                    <a:pt x="64" y="256"/>
                  </a:lnTo>
                  <a:lnTo>
                    <a:pt x="104" y="212"/>
                  </a:lnTo>
                  <a:lnTo>
                    <a:pt x="142" y="168"/>
                  </a:lnTo>
                  <a:lnTo>
                    <a:pt x="184" y="122"/>
                  </a:lnTo>
                  <a:lnTo>
                    <a:pt x="224" y="80"/>
                  </a:lnTo>
                  <a:lnTo>
                    <a:pt x="224" y="80"/>
                  </a:lnTo>
                  <a:lnTo>
                    <a:pt x="224" y="60"/>
                  </a:lnTo>
                  <a:lnTo>
                    <a:pt x="222" y="40"/>
                  </a:lnTo>
                  <a:lnTo>
                    <a:pt x="216" y="8"/>
                  </a:lnTo>
                  <a:lnTo>
                    <a:pt x="21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70"/>
            <p:cNvSpPr/>
            <p:nvPr/>
          </p:nvSpPr>
          <p:spPr>
            <a:xfrm>
              <a:off x="4659480" y="3139920"/>
              <a:ext cx="507960" cy="307800"/>
            </a:xfrm>
            <a:custGeom>
              <a:avLst/>
              <a:gdLst>
                <a:gd name="textAreaLeft" fmla="*/ 0 w 507960"/>
                <a:gd name="textAreaRight" fmla="*/ 508320 w 50796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320" h="194">
                  <a:moveTo>
                    <a:pt x="136" y="80"/>
                  </a:moveTo>
                  <a:lnTo>
                    <a:pt x="136" y="80"/>
                  </a:lnTo>
                  <a:lnTo>
                    <a:pt x="160" y="80"/>
                  </a:lnTo>
                  <a:lnTo>
                    <a:pt x="176" y="82"/>
                  </a:lnTo>
                  <a:lnTo>
                    <a:pt x="188" y="86"/>
                  </a:lnTo>
                  <a:lnTo>
                    <a:pt x="196" y="90"/>
                  </a:lnTo>
                  <a:lnTo>
                    <a:pt x="202" y="96"/>
                  </a:lnTo>
                  <a:lnTo>
                    <a:pt x="208" y="106"/>
                  </a:lnTo>
                  <a:lnTo>
                    <a:pt x="224" y="128"/>
                  </a:lnTo>
                  <a:lnTo>
                    <a:pt x="224" y="128"/>
                  </a:lnTo>
                  <a:lnTo>
                    <a:pt x="234" y="136"/>
                  </a:lnTo>
                  <a:lnTo>
                    <a:pt x="244" y="142"/>
                  </a:lnTo>
                  <a:lnTo>
                    <a:pt x="256" y="146"/>
                  </a:lnTo>
                  <a:lnTo>
                    <a:pt x="264" y="152"/>
                  </a:lnTo>
                  <a:lnTo>
                    <a:pt x="264" y="152"/>
                  </a:lnTo>
                  <a:lnTo>
                    <a:pt x="288" y="150"/>
                  </a:lnTo>
                  <a:lnTo>
                    <a:pt x="300" y="146"/>
                  </a:lnTo>
                  <a:lnTo>
                    <a:pt x="308" y="138"/>
                  </a:lnTo>
                  <a:lnTo>
                    <a:pt x="320" y="128"/>
                  </a:lnTo>
                  <a:lnTo>
                    <a:pt x="320" y="128"/>
                  </a:lnTo>
                  <a:lnTo>
                    <a:pt x="318" y="110"/>
                  </a:lnTo>
                  <a:lnTo>
                    <a:pt x="312" y="96"/>
                  </a:lnTo>
                  <a:lnTo>
                    <a:pt x="306" y="82"/>
                  </a:lnTo>
                  <a:lnTo>
                    <a:pt x="298" y="70"/>
                  </a:lnTo>
                  <a:lnTo>
                    <a:pt x="282" y="48"/>
                  </a:lnTo>
                  <a:lnTo>
                    <a:pt x="264" y="24"/>
                  </a:lnTo>
                  <a:lnTo>
                    <a:pt x="264" y="24"/>
                  </a:lnTo>
                  <a:lnTo>
                    <a:pt x="232" y="16"/>
                  </a:lnTo>
                  <a:lnTo>
                    <a:pt x="200" y="8"/>
                  </a:lnTo>
                  <a:lnTo>
                    <a:pt x="164" y="2"/>
                  </a:lnTo>
                  <a:lnTo>
                    <a:pt x="144" y="0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14" y="4"/>
                  </a:lnTo>
                  <a:lnTo>
                    <a:pt x="108" y="6"/>
                  </a:lnTo>
                  <a:lnTo>
                    <a:pt x="88" y="8"/>
                  </a:lnTo>
                  <a:lnTo>
                    <a:pt x="88" y="8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0" y="132"/>
                  </a:lnTo>
                  <a:lnTo>
                    <a:pt x="0" y="146"/>
                  </a:lnTo>
                  <a:lnTo>
                    <a:pt x="4" y="158"/>
                  </a:lnTo>
                  <a:lnTo>
                    <a:pt x="8" y="166"/>
                  </a:lnTo>
                  <a:lnTo>
                    <a:pt x="16" y="174"/>
                  </a:lnTo>
                  <a:lnTo>
                    <a:pt x="26" y="180"/>
                  </a:lnTo>
                  <a:lnTo>
                    <a:pt x="40" y="184"/>
                  </a:lnTo>
                  <a:lnTo>
                    <a:pt x="40" y="184"/>
                  </a:lnTo>
                  <a:lnTo>
                    <a:pt x="42" y="192"/>
                  </a:lnTo>
                  <a:lnTo>
                    <a:pt x="44" y="194"/>
                  </a:lnTo>
                  <a:lnTo>
                    <a:pt x="46" y="194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84"/>
                  </a:lnTo>
                  <a:lnTo>
                    <a:pt x="48" y="184"/>
                  </a:lnTo>
                  <a:lnTo>
                    <a:pt x="58" y="178"/>
                  </a:lnTo>
                  <a:lnTo>
                    <a:pt x="64" y="172"/>
                  </a:lnTo>
                  <a:lnTo>
                    <a:pt x="66" y="168"/>
                  </a:lnTo>
                  <a:lnTo>
                    <a:pt x="66" y="162"/>
                  </a:lnTo>
                  <a:lnTo>
                    <a:pt x="66" y="148"/>
                  </a:lnTo>
                  <a:lnTo>
                    <a:pt x="68" y="140"/>
                  </a:lnTo>
                  <a:lnTo>
                    <a:pt x="72" y="128"/>
                  </a:lnTo>
                  <a:lnTo>
                    <a:pt x="72" y="128"/>
                  </a:lnTo>
                  <a:lnTo>
                    <a:pt x="78" y="122"/>
                  </a:lnTo>
                  <a:lnTo>
                    <a:pt x="84" y="114"/>
                  </a:lnTo>
                  <a:lnTo>
                    <a:pt x="102" y="102"/>
                  </a:lnTo>
                  <a:lnTo>
                    <a:pt x="122" y="92"/>
                  </a:lnTo>
                  <a:lnTo>
                    <a:pt x="130" y="86"/>
                  </a:lnTo>
                  <a:lnTo>
                    <a:pt x="136" y="80"/>
                  </a:lnTo>
                  <a:lnTo>
                    <a:pt x="136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71"/>
            <p:cNvSpPr/>
            <p:nvPr/>
          </p:nvSpPr>
          <p:spPr>
            <a:xfrm>
              <a:off x="3478320" y="3387600"/>
              <a:ext cx="469800" cy="30132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296" h="190">
                  <a:moveTo>
                    <a:pt x="232" y="132"/>
                  </a:moveTo>
                  <a:lnTo>
                    <a:pt x="232" y="132"/>
                  </a:lnTo>
                  <a:lnTo>
                    <a:pt x="254" y="132"/>
                  </a:lnTo>
                  <a:lnTo>
                    <a:pt x="270" y="128"/>
                  </a:lnTo>
                  <a:lnTo>
                    <a:pt x="282" y="124"/>
                  </a:lnTo>
                  <a:lnTo>
                    <a:pt x="296" y="116"/>
                  </a:lnTo>
                  <a:lnTo>
                    <a:pt x="296" y="116"/>
                  </a:lnTo>
                  <a:lnTo>
                    <a:pt x="294" y="100"/>
                  </a:lnTo>
                  <a:lnTo>
                    <a:pt x="288" y="82"/>
                  </a:lnTo>
                  <a:lnTo>
                    <a:pt x="278" y="68"/>
                  </a:lnTo>
                  <a:lnTo>
                    <a:pt x="268" y="52"/>
                  </a:lnTo>
                  <a:lnTo>
                    <a:pt x="254" y="40"/>
                  </a:lnTo>
                  <a:lnTo>
                    <a:pt x="238" y="28"/>
                  </a:lnTo>
                  <a:lnTo>
                    <a:pt x="222" y="18"/>
                  </a:lnTo>
                  <a:lnTo>
                    <a:pt x="204" y="10"/>
                  </a:lnTo>
                  <a:lnTo>
                    <a:pt x="186" y="4"/>
                  </a:lnTo>
                  <a:lnTo>
                    <a:pt x="166" y="0"/>
                  </a:lnTo>
                  <a:lnTo>
                    <a:pt x="148" y="0"/>
                  </a:lnTo>
                  <a:lnTo>
                    <a:pt x="130" y="0"/>
                  </a:lnTo>
                  <a:lnTo>
                    <a:pt x="110" y="2"/>
                  </a:lnTo>
                  <a:lnTo>
                    <a:pt x="94" y="8"/>
                  </a:lnTo>
                  <a:lnTo>
                    <a:pt x="78" y="18"/>
                  </a:lnTo>
                  <a:lnTo>
                    <a:pt x="64" y="28"/>
                  </a:lnTo>
                  <a:lnTo>
                    <a:pt x="64" y="28"/>
                  </a:lnTo>
                  <a:lnTo>
                    <a:pt x="52" y="36"/>
                  </a:lnTo>
                  <a:lnTo>
                    <a:pt x="38" y="50"/>
                  </a:lnTo>
                  <a:lnTo>
                    <a:pt x="26" y="66"/>
                  </a:lnTo>
                  <a:lnTo>
                    <a:pt x="14" y="86"/>
                  </a:lnTo>
                  <a:lnTo>
                    <a:pt x="6" y="108"/>
                  </a:lnTo>
                  <a:lnTo>
                    <a:pt x="2" y="128"/>
                  </a:lnTo>
                  <a:lnTo>
                    <a:pt x="0" y="138"/>
                  </a:lnTo>
                  <a:lnTo>
                    <a:pt x="2" y="148"/>
                  </a:lnTo>
                  <a:lnTo>
                    <a:pt x="4" y="156"/>
                  </a:lnTo>
                  <a:lnTo>
                    <a:pt x="8" y="164"/>
                  </a:lnTo>
                  <a:lnTo>
                    <a:pt x="8" y="164"/>
                  </a:lnTo>
                  <a:lnTo>
                    <a:pt x="14" y="174"/>
                  </a:lnTo>
                  <a:lnTo>
                    <a:pt x="18" y="180"/>
                  </a:lnTo>
                  <a:lnTo>
                    <a:pt x="32" y="188"/>
                  </a:lnTo>
                  <a:lnTo>
                    <a:pt x="32" y="188"/>
                  </a:lnTo>
                  <a:lnTo>
                    <a:pt x="38" y="190"/>
                  </a:lnTo>
                  <a:lnTo>
                    <a:pt x="46" y="190"/>
                  </a:lnTo>
                  <a:lnTo>
                    <a:pt x="72" y="188"/>
                  </a:lnTo>
                  <a:lnTo>
                    <a:pt x="72" y="188"/>
                  </a:lnTo>
                  <a:lnTo>
                    <a:pt x="104" y="92"/>
                  </a:lnTo>
                  <a:lnTo>
                    <a:pt x="104" y="92"/>
                  </a:lnTo>
                  <a:lnTo>
                    <a:pt x="126" y="86"/>
                  </a:lnTo>
                  <a:lnTo>
                    <a:pt x="136" y="82"/>
                  </a:lnTo>
                  <a:lnTo>
                    <a:pt x="144" y="76"/>
                  </a:lnTo>
                  <a:lnTo>
                    <a:pt x="144" y="76"/>
                  </a:lnTo>
                  <a:lnTo>
                    <a:pt x="162" y="78"/>
                  </a:lnTo>
                  <a:lnTo>
                    <a:pt x="176" y="82"/>
                  </a:lnTo>
                  <a:lnTo>
                    <a:pt x="188" y="88"/>
                  </a:lnTo>
                  <a:lnTo>
                    <a:pt x="200" y="94"/>
                  </a:lnTo>
                  <a:lnTo>
                    <a:pt x="208" y="102"/>
                  </a:lnTo>
                  <a:lnTo>
                    <a:pt x="218" y="112"/>
                  </a:lnTo>
                  <a:lnTo>
                    <a:pt x="232" y="132"/>
                  </a:lnTo>
                  <a:lnTo>
                    <a:pt x="232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72"/>
            <p:cNvSpPr/>
            <p:nvPr/>
          </p:nvSpPr>
          <p:spPr>
            <a:xfrm>
              <a:off x="2357280" y="3508200"/>
              <a:ext cx="231480" cy="26640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146" h="168">
                  <a:moveTo>
                    <a:pt x="82" y="80"/>
                  </a:moveTo>
                  <a:lnTo>
                    <a:pt x="82" y="80"/>
                  </a:lnTo>
                  <a:lnTo>
                    <a:pt x="78" y="74"/>
                  </a:lnTo>
                  <a:lnTo>
                    <a:pt x="74" y="64"/>
                  </a:lnTo>
                  <a:lnTo>
                    <a:pt x="70" y="44"/>
                  </a:lnTo>
                  <a:lnTo>
                    <a:pt x="64" y="22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34"/>
                  </a:lnTo>
                  <a:lnTo>
                    <a:pt x="0" y="56"/>
                  </a:lnTo>
                  <a:lnTo>
                    <a:pt x="2" y="74"/>
                  </a:lnTo>
                  <a:lnTo>
                    <a:pt x="4" y="90"/>
                  </a:lnTo>
                  <a:lnTo>
                    <a:pt x="10" y="104"/>
                  </a:lnTo>
                  <a:lnTo>
                    <a:pt x="16" y="118"/>
                  </a:lnTo>
                  <a:lnTo>
                    <a:pt x="34" y="152"/>
                  </a:lnTo>
                  <a:lnTo>
                    <a:pt x="34" y="152"/>
                  </a:lnTo>
                  <a:lnTo>
                    <a:pt x="52" y="160"/>
                  </a:lnTo>
                  <a:lnTo>
                    <a:pt x="76" y="168"/>
                  </a:lnTo>
                  <a:lnTo>
                    <a:pt x="88" y="168"/>
                  </a:lnTo>
                  <a:lnTo>
                    <a:pt x="100" y="168"/>
                  </a:lnTo>
                  <a:lnTo>
                    <a:pt x="112" y="166"/>
                  </a:lnTo>
                  <a:lnTo>
                    <a:pt x="122" y="160"/>
                  </a:lnTo>
                  <a:lnTo>
                    <a:pt x="122" y="160"/>
                  </a:lnTo>
                  <a:lnTo>
                    <a:pt x="130" y="156"/>
                  </a:lnTo>
                  <a:lnTo>
                    <a:pt x="136" y="154"/>
                  </a:lnTo>
                  <a:lnTo>
                    <a:pt x="146" y="144"/>
                  </a:lnTo>
                  <a:lnTo>
                    <a:pt x="146" y="144"/>
                  </a:lnTo>
                  <a:lnTo>
                    <a:pt x="142" y="126"/>
                  </a:lnTo>
                  <a:lnTo>
                    <a:pt x="138" y="114"/>
                  </a:lnTo>
                  <a:lnTo>
                    <a:pt x="132" y="106"/>
                  </a:lnTo>
                  <a:lnTo>
                    <a:pt x="124" y="100"/>
                  </a:lnTo>
                  <a:lnTo>
                    <a:pt x="106" y="92"/>
                  </a:lnTo>
                  <a:lnTo>
                    <a:pt x="94" y="88"/>
                  </a:lnTo>
                  <a:lnTo>
                    <a:pt x="82" y="80"/>
                  </a:lnTo>
                  <a:lnTo>
                    <a:pt x="82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73"/>
            <p:cNvSpPr/>
            <p:nvPr/>
          </p:nvSpPr>
          <p:spPr>
            <a:xfrm>
              <a:off x="3786120" y="3571920"/>
              <a:ext cx="1419120" cy="847440"/>
            </a:xfrm>
            <a:custGeom>
              <a:avLst/>
              <a:gdLst>
                <a:gd name="textAreaLeft" fmla="*/ 0 w 1419120"/>
                <a:gd name="textAreaRight" fmla="*/ 1419480 w 1419120"/>
                <a:gd name="textAreaTop" fmla="*/ 0 h 847440"/>
                <a:gd name="textAreaBottom" fmla="*/ 847800 h 847440"/>
              </a:gdLst>
              <a:ahLst/>
              <a:rect l="textAreaLeft" t="textAreaTop" r="textAreaRight" b="textAreaBottom"/>
              <a:pathLst>
                <a:path w="894" h="534">
                  <a:moveTo>
                    <a:pt x="830" y="72"/>
                  </a:moveTo>
                  <a:lnTo>
                    <a:pt x="830" y="72"/>
                  </a:lnTo>
                  <a:lnTo>
                    <a:pt x="816" y="64"/>
                  </a:lnTo>
                  <a:lnTo>
                    <a:pt x="800" y="56"/>
                  </a:lnTo>
                  <a:lnTo>
                    <a:pt x="766" y="42"/>
                  </a:lnTo>
                  <a:lnTo>
                    <a:pt x="730" y="32"/>
                  </a:lnTo>
                  <a:lnTo>
                    <a:pt x="692" y="24"/>
                  </a:lnTo>
                  <a:lnTo>
                    <a:pt x="652" y="18"/>
                  </a:lnTo>
                  <a:lnTo>
                    <a:pt x="612" y="12"/>
                  </a:lnTo>
                  <a:lnTo>
                    <a:pt x="526" y="0"/>
                  </a:lnTo>
                  <a:lnTo>
                    <a:pt x="526" y="0"/>
                  </a:lnTo>
                  <a:lnTo>
                    <a:pt x="514" y="6"/>
                  </a:lnTo>
                  <a:lnTo>
                    <a:pt x="498" y="10"/>
                  </a:lnTo>
                  <a:lnTo>
                    <a:pt x="484" y="12"/>
                  </a:lnTo>
                  <a:lnTo>
                    <a:pt x="466" y="12"/>
                  </a:lnTo>
                  <a:lnTo>
                    <a:pt x="434" y="12"/>
                  </a:lnTo>
                  <a:lnTo>
                    <a:pt x="416" y="12"/>
                  </a:lnTo>
                  <a:lnTo>
                    <a:pt x="398" y="16"/>
                  </a:lnTo>
                  <a:lnTo>
                    <a:pt x="398" y="16"/>
                  </a:lnTo>
                  <a:lnTo>
                    <a:pt x="346" y="34"/>
                  </a:lnTo>
                  <a:lnTo>
                    <a:pt x="294" y="54"/>
                  </a:lnTo>
                  <a:lnTo>
                    <a:pt x="244" y="78"/>
                  </a:lnTo>
                  <a:lnTo>
                    <a:pt x="196" y="106"/>
                  </a:lnTo>
                  <a:lnTo>
                    <a:pt x="174" y="120"/>
                  </a:lnTo>
                  <a:lnTo>
                    <a:pt x="152" y="136"/>
                  </a:lnTo>
                  <a:lnTo>
                    <a:pt x="132" y="152"/>
                  </a:lnTo>
                  <a:lnTo>
                    <a:pt x="112" y="170"/>
                  </a:lnTo>
                  <a:lnTo>
                    <a:pt x="94" y="188"/>
                  </a:lnTo>
                  <a:lnTo>
                    <a:pt x="76" y="208"/>
                  </a:lnTo>
                  <a:lnTo>
                    <a:pt x="60" y="228"/>
                  </a:lnTo>
                  <a:lnTo>
                    <a:pt x="46" y="248"/>
                  </a:lnTo>
                  <a:lnTo>
                    <a:pt x="46" y="248"/>
                  </a:lnTo>
                  <a:lnTo>
                    <a:pt x="28" y="280"/>
                  </a:lnTo>
                  <a:lnTo>
                    <a:pt x="18" y="300"/>
                  </a:lnTo>
                  <a:lnTo>
                    <a:pt x="8" y="322"/>
                  </a:lnTo>
                  <a:lnTo>
                    <a:pt x="2" y="346"/>
                  </a:lnTo>
                  <a:lnTo>
                    <a:pt x="0" y="358"/>
                  </a:lnTo>
                  <a:lnTo>
                    <a:pt x="0" y="370"/>
                  </a:lnTo>
                  <a:lnTo>
                    <a:pt x="2" y="382"/>
                  </a:lnTo>
                  <a:lnTo>
                    <a:pt x="4" y="394"/>
                  </a:lnTo>
                  <a:lnTo>
                    <a:pt x="8" y="406"/>
                  </a:lnTo>
                  <a:lnTo>
                    <a:pt x="14" y="416"/>
                  </a:lnTo>
                  <a:lnTo>
                    <a:pt x="14" y="416"/>
                  </a:lnTo>
                  <a:lnTo>
                    <a:pt x="18" y="438"/>
                  </a:lnTo>
                  <a:lnTo>
                    <a:pt x="24" y="458"/>
                  </a:lnTo>
                  <a:lnTo>
                    <a:pt x="34" y="474"/>
                  </a:lnTo>
                  <a:lnTo>
                    <a:pt x="46" y="488"/>
                  </a:lnTo>
                  <a:lnTo>
                    <a:pt x="60" y="500"/>
                  </a:lnTo>
                  <a:lnTo>
                    <a:pt x="76" y="510"/>
                  </a:lnTo>
                  <a:lnTo>
                    <a:pt x="94" y="518"/>
                  </a:lnTo>
                  <a:lnTo>
                    <a:pt x="114" y="524"/>
                  </a:lnTo>
                  <a:lnTo>
                    <a:pt x="134" y="528"/>
                  </a:lnTo>
                  <a:lnTo>
                    <a:pt x="156" y="532"/>
                  </a:lnTo>
                  <a:lnTo>
                    <a:pt x="200" y="534"/>
                  </a:lnTo>
                  <a:lnTo>
                    <a:pt x="244" y="532"/>
                  </a:lnTo>
                  <a:lnTo>
                    <a:pt x="286" y="530"/>
                  </a:lnTo>
                  <a:lnTo>
                    <a:pt x="286" y="530"/>
                  </a:lnTo>
                  <a:lnTo>
                    <a:pt x="300" y="516"/>
                  </a:lnTo>
                  <a:lnTo>
                    <a:pt x="314" y="506"/>
                  </a:lnTo>
                  <a:lnTo>
                    <a:pt x="342" y="484"/>
                  </a:lnTo>
                  <a:lnTo>
                    <a:pt x="354" y="472"/>
                  </a:lnTo>
                  <a:lnTo>
                    <a:pt x="366" y="460"/>
                  </a:lnTo>
                  <a:lnTo>
                    <a:pt x="374" y="444"/>
                  </a:lnTo>
                  <a:lnTo>
                    <a:pt x="382" y="424"/>
                  </a:lnTo>
                  <a:lnTo>
                    <a:pt x="382" y="424"/>
                  </a:lnTo>
                  <a:lnTo>
                    <a:pt x="412" y="432"/>
                  </a:lnTo>
                  <a:lnTo>
                    <a:pt x="438" y="442"/>
                  </a:lnTo>
                  <a:lnTo>
                    <a:pt x="484" y="460"/>
                  </a:lnTo>
                  <a:lnTo>
                    <a:pt x="508" y="470"/>
                  </a:lnTo>
                  <a:lnTo>
                    <a:pt x="536" y="476"/>
                  </a:lnTo>
                  <a:lnTo>
                    <a:pt x="568" y="480"/>
                  </a:lnTo>
                  <a:lnTo>
                    <a:pt x="606" y="480"/>
                  </a:lnTo>
                  <a:lnTo>
                    <a:pt x="606" y="480"/>
                  </a:lnTo>
                  <a:lnTo>
                    <a:pt x="636" y="456"/>
                  </a:lnTo>
                  <a:lnTo>
                    <a:pt x="654" y="438"/>
                  </a:lnTo>
                  <a:lnTo>
                    <a:pt x="670" y="420"/>
                  </a:lnTo>
                  <a:lnTo>
                    <a:pt x="678" y="410"/>
                  </a:lnTo>
                  <a:lnTo>
                    <a:pt x="684" y="400"/>
                  </a:lnTo>
                  <a:lnTo>
                    <a:pt x="688" y="388"/>
                  </a:lnTo>
                  <a:lnTo>
                    <a:pt x="690" y="378"/>
                  </a:lnTo>
                  <a:lnTo>
                    <a:pt x="692" y="366"/>
                  </a:lnTo>
                  <a:lnTo>
                    <a:pt x="690" y="354"/>
                  </a:lnTo>
                  <a:lnTo>
                    <a:pt x="686" y="342"/>
                  </a:lnTo>
                  <a:lnTo>
                    <a:pt x="678" y="328"/>
                  </a:lnTo>
                  <a:lnTo>
                    <a:pt x="678" y="328"/>
                  </a:lnTo>
                  <a:lnTo>
                    <a:pt x="678" y="304"/>
                  </a:lnTo>
                  <a:lnTo>
                    <a:pt x="678" y="304"/>
                  </a:lnTo>
                  <a:lnTo>
                    <a:pt x="712" y="312"/>
                  </a:lnTo>
                  <a:lnTo>
                    <a:pt x="740" y="318"/>
                  </a:lnTo>
                  <a:lnTo>
                    <a:pt x="770" y="322"/>
                  </a:lnTo>
                  <a:lnTo>
                    <a:pt x="806" y="320"/>
                  </a:lnTo>
                  <a:lnTo>
                    <a:pt x="806" y="320"/>
                  </a:lnTo>
                  <a:lnTo>
                    <a:pt x="842" y="288"/>
                  </a:lnTo>
                  <a:lnTo>
                    <a:pt x="856" y="274"/>
                  </a:lnTo>
                  <a:lnTo>
                    <a:pt x="870" y="258"/>
                  </a:lnTo>
                  <a:lnTo>
                    <a:pt x="880" y="238"/>
                  </a:lnTo>
                  <a:lnTo>
                    <a:pt x="888" y="216"/>
                  </a:lnTo>
                  <a:lnTo>
                    <a:pt x="894" y="188"/>
                  </a:lnTo>
                  <a:lnTo>
                    <a:pt x="894" y="152"/>
                  </a:lnTo>
                  <a:lnTo>
                    <a:pt x="894" y="152"/>
                  </a:lnTo>
                  <a:lnTo>
                    <a:pt x="886" y="144"/>
                  </a:lnTo>
                  <a:lnTo>
                    <a:pt x="880" y="134"/>
                  </a:lnTo>
                  <a:lnTo>
                    <a:pt x="864" y="110"/>
                  </a:lnTo>
                  <a:lnTo>
                    <a:pt x="850" y="90"/>
                  </a:lnTo>
                  <a:lnTo>
                    <a:pt x="840" y="80"/>
                  </a:lnTo>
                  <a:lnTo>
                    <a:pt x="830" y="72"/>
                  </a:lnTo>
                  <a:lnTo>
                    <a:pt x="830" y="72"/>
                  </a:lnTo>
                  <a:close/>
                  <a:moveTo>
                    <a:pt x="790" y="200"/>
                  </a:moveTo>
                  <a:lnTo>
                    <a:pt x="790" y="200"/>
                  </a:lnTo>
                  <a:lnTo>
                    <a:pt x="786" y="210"/>
                  </a:lnTo>
                  <a:lnTo>
                    <a:pt x="782" y="218"/>
                  </a:lnTo>
                  <a:lnTo>
                    <a:pt x="772" y="228"/>
                  </a:lnTo>
                  <a:lnTo>
                    <a:pt x="762" y="236"/>
                  </a:lnTo>
                  <a:lnTo>
                    <a:pt x="750" y="248"/>
                  </a:lnTo>
                  <a:lnTo>
                    <a:pt x="750" y="248"/>
                  </a:lnTo>
                  <a:lnTo>
                    <a:pt x="732" y="248"/>
                  </a:lnTo>
                  <a:lnTo>
                    <a:pt x="718" y="244"/>
                  </a:lnTo>
                  <a:lnTo>
                    <a:pt x="706" y="240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60" y="234"/>
                  </a:lnTo>
                  <a:lnTo>
                    <a:pt x="634" y="238"/>
                  </a:lnTo>
                  <a:lnTo>
                    <a:pt x="612" y="246"/>
                  </a:lnTo>
                  <a:lnTo>
                    <a:pt x="590" y="256"/>
                  </a:lnTo>
                  <a:lnTo>
                    <a:pt x="590" y="256"/>
                  </a:lnTo>
                  <a:lnTo>
                    <a:pt x="592" y="286"/>
                  </a:lnTo>
                  <a:lnTo>
                    <a:pt x="592" y="318"/>
                  </a:lnTo>
                  <a:lnTo>
                    <a:pt x="590" y="348"/>
                  </a:lnTo>
                  <a:lnTo>
                    <a:pt x="588" y="360"/>
                  </a:lnTo>
                  <a:lnTo>
                    <a:pt x="582" y="368"/>
                  </a:lnTo>
                  <a:lnTo>
                    <a:pt x="582" y="368"/>
                  </a:lnTo>
                  <a:lnTo>
                    <a:pt x="576" y="380"/>
                  </a:lnTo>
                  <a:lnTo>
                    <a:pt x="572" y="386"/>
                  </a:lnTo>
                  <a:lnTo>
                    <a:pt x="566" y="392"/>
                  </a:lnTo>
                  <a:lnTo>
                    <a:pt x="558" y="400"/>
                  </a:lnTo>
                  <a:lnTo>
                    <a:pt x="558" y="400"/>
                  </a:lnTo>
                  <a:lnTo>
                    <a:pt x="534" y="400"/>
                  </a:lnTo>
                  <a:lnTo>
                    <a:pt x="512" y="398"/>
                  </a:lnTo>
                  <a:lnTo>
                    <a:pt x="492" y="392"/>
                  </a:lnTo>
                  <a:lnTo>
                    <a:pt x="472" y="386"/>
                  </a:lnTo>
                  <a:lnTo>
                    <a:pt x="456" y="378"/>
                  </a:lnTo>
                  <a:lnTo>
                    <a:pt x="440" y="370"/>
                  </a:lnTo>
                  <a:lnTo>
                    <a:pt x="426" y="358"/>
                  </a:lnTo>
                  <a:lnTo>
                    <a:pt x="414" y="344"/>
                  </a:lnTo>
                  <a:lnTo>
                    <a:pt x="414" y="344"/>
                  </a:lnTo>
                  <a:lnTo>
                    <a:pt x="334" y="344"/>
                  </a:lnTo>
                  <a:lnTo>
                    <a:pt x="334" y="344"/>
                  </a:lnTo>
                  <a:lnTo>
                    <a:pt x="330" y="348"/>
                  </a:lnTo>
                  <a:lnTo>
                    <a:pt x="326" y="354"/>
                  </a:lnTo>
                  <a:lnTo>
                    <a:pt x="322" y="368"/>
                  </a:lnTo>
                  <a:lnTo>
                    <a:pt x="316" y="382"/>
                  </a:lnTo>
                  <a:lnTo>
                    <a:pt x="314" y="388"/>
                  </a:lnTo>
                  <a:lnTo>
                    <a:pt x="310" y="392"/>
                  </a:lnTo>
                  <a:lnTo>
                    <a:pt x="310" y="392"/>
                  </a:lnTo>
                  <a:lnTo>
                    <a:pt x="292" y="410"/>
                  </a:lnTo>
                  <a:lnTo>
                    <a:pt x="270" y="426"/>
                  </a:lnTo>
                  <a:lnTo>
                    <a:pt x="250" y="440"/>
                  </a:lnTo>
                  <a:lnTo>
                    <a:pt x="230" y="456"/>
                  </a:lnTo>
                  <a:lnTo>
                    <a:pt x="230" y="456"/>
                  </a:lnTo>
                  <a:lnTo>
                    <a:pt x="202" y="456"/>
                  </a:lnTo>
                  <a:lnTo>
                    <a:pt x="180" y="454"/>
                  </a:lnTo>
                  <a:lnTo>
                    <a:pt x="160" y="450"/>
                  </a:lnTo>
                  <a:lnTo>
                    <a:pt x="144" y="444"/>
                  </a:lnTo>
                  <a:lnTo>
                    <a:pt x="130" y="438"/>
                  </a:lnTo>
                  <a:lnTo>
                    <a:pt x="116" y="430"/>
                  </a:lnTo>
                  <a:lnTo>
                    <a:pt x="86" y="408"/>
                  </a:lnTo>
                  <a:lnTo>
                    <a:pt x="86" y="408"/>
                  </a:lnTo>
                  <a:lnTo>
                    <a:pt x="90" y="380"/>
                  </a:lnTo>
                  <a:lnTo>
                    <a:pt x="96" y="352"/>
                  </a:lnTo>
                  <a:lnTo>
                    <a:pt x="104" y="328"/>
                  </a:lnTo>
                  <a:lnTo>
                    <a:pt x="114" y="304"/>
                  </a:lnTo>
                  <a:lnTo>
                    <a:pt x="126" y="282"/>
                  </a:lnTo>
                  <a:lnTo>
                    <a:pt x="140" y="262"/>
                  </a:lnTo>
                  <a:lnTo>
                    <a:pt x="156" y="244"/>
                  </a:lnTo>
                  <a:lnTo>
                    <a:pt x="174" y="226"/>
                  </a:lnTo>
                  <a:lnTo>
                    <a:pt x="192" y="212"/>
                  </a:lnTo>
                  <a:lnTo>
                    <a:pt x="212" y="196"/>
                  </a:lnTo>
                  <a:lnTo>
                    <a:pt x="232" y="184"/>
                  </a:lnTo>
                  <a:lnTo>
                    <a:pt x="254" y="172"/>
                  </a:lnTo>
                  <a:lnTo>
                    <a:pt x="298" y="148"/>
                  </a:lnTo>
                  <a:lnTo>
                    <a:pt x="342" y="128"/>
                  </a:lnTo>
                  <a:lnTo>
                    <a:pt x="342" y="128"/>
                  </a:lnTo>
                  <a:lnTo>
                    <a:pt x="360" y="122"/>
                  </a:lnTo>
                  <a:lnTo>
                    <a:pt x="376" y="118"/>
                  </a:lnTo>
                  <a:lnTo>
                    <a:pt x="412" y="110"/>
                  </a:lnTo>
                  <a:lnTo>
                    <a:pt x="446" y="102"/>
                  </a:lnTo>
                  <a:lnTo>
                    <a:pt x="464" y="96"/>
                  </a:lnTo>
                  <a:lnTo>
                    <a:pt x="478" y="88"/>
                  </a:lnTo>
                  <a:lnTo>
                    <a:pt x="478" y="88"/>
                  </a:lnTo>
                  <a:lnTo>
                    <a:pt x="494" y="88"/>
                  </a:lnTo>
                  <a:lnTo>
                    <a:pt x="514" y="88"/>
                  </a:lnTo>
                  <a:lnTo>
                    <a:pt x="560" y="84"/>
                  </a:lnTo>
                  <a:lnTo>
                    <a:pt x="584" y="82"/>
                  </a:lnTo>
                  <a:lnTo>
                    <a:pt x="608" y="82"/>
                  </a:lnTo>
                  <a:lnTo>
                    <a:pt x="632" y="84"/>
                  </a:lnTo>
                  <a:lnTo>
                    <a:pt x="654" y="88"/>
                  </a:lnTo>
                  <a:lnTo>
                    <a:pt x="654" y="88"/>
                  </a:lnTo>
                  <a:lnTo>
                    <a:pt x="672" y="94"/>
                  </a:lnTo>
                  <a:lnTo>
                    <a:pt x="690" y="102"/>
                  </a:lnTo>
                  <a:lnTo>
                    <a:pt x="724" y="116"/>
                  </a:lnTo>
                  <a:lnTo>
                    <a:pt x="758" y="132"/>
                  </a:lnTo>
                  <a:lnTo>
                    <a:pt x="774" y="140"/>
                  </a:lnTo>
                  <a:lnTo>
                    <a:pt x="790" y="144"/>
                  </a:lnTo>
                  <a:lnTo>
                    <a:pt x="790" y="144"/>
                  </a:lnTo>
                  <a:lnTo>
                    <a:pt x="794" y="160"/>
                  </a:lnTo>
                  <a:lnTo>
                    <a:pt x="798" y="174"/>
                  </a:lnTo>
                  <a:lnTo>
                    <a:pt x="796" y="188"/>
                  </a:lnTo>
                  <a:lnTo>
                    <a:pt x="794" y="194"/>
                  </a:lnTo>
                  <a:lnTo>
                    <a:pt x="790" y="200"/>
                  </a:lnTo>
                  <a:lnTo>
                    <a:pt x="790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74"/>
            <p:cNvSpPr/>
            <p:nvPr/>
          </p:nvSpPr>
          <p:spPr>
            <a:xfrm>
              <a:off x="3922560" y="3701880"/>
              <a:ext cx="1130400" cy="593640"/>
            </a:xfrm>
            <a:custGeom>
              <a:avLst/>
              <a:gdLst>
                <a:gd name="textAreaLeft" fmla="*/ 0 w 1130400"/>
                <a:gd name="textAreaRight" fmla="*/ 1130760 w 1130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712" h="374">
                  <a:moveTo>
                    <a:pt x="568" y="6"/>
                  </a:moveTo>
                  <a:lnTo>
                    <a:pt x="568" y="6"/>
                  </a:lnTo>
                  <a:lnTo>
                    <a:pt x="546" y="2"/>
                  </a:lnTo>
                  <a:lnTo>
                    <a:pt x="522" y="0"/>
                  </a:lnTo>
                  <a:lnTo>
                    <a:pt x="498" y="0"/>
                  </a:lnTo>
                  <a:lnTo>
                    <a:pt x="474" y="2"/>
                  </a:lnTo>
                  <a:lnTo>
                    <a:pt x="428" y="6"/>
                  </a:lnTo>
                  <a:lnTo>
                    <a:pt x="408" y="6"/>
                  </a:lnTo>
                  <a:lnTo>
                    <a:pt x="392" y="6"/>
                  </a:lnTo>
                  <a:lnTo>
                    <a:pt x="392" y="6"/>
                  </a:lnTo>
                  <a:lnTo>
                    <a:pt x="378" y="14"/>
                  </a:lnTo>
                  <a:lnTo>
                    <a:pt x="360" y="20"/>
                  </a:lnTo>
                  <a:lnTo>
                    <a:pt x="326" y="28"/>
                  </a:lnTo>
                  <a:lnTo>
                    <a:pt x="290" y="36"/>
                  </a:lnTo>
                  <a:lnTo>
                    <a:pt x="274" y="40"/>
                  </a:lnTo>
                  <a:lnTo>
                    <a:pt x="256" y="46"/>
                  </a:lnTo>
                  <a:lnTo>
                    <a:pt x="256" y="46"/>
                  </a:lnTo>
                  <a:lnTo>
                    <a:pt x="212" y="66"/>
                  </a:lnTo>
                  <a:lnTo>
                    <a:pt x="168" y="90"/>
                  </a:lnTo>
                  <a:lnTo>
                    <a:pt x="146" y="102"/>
                  </a:lnTo>
                  <a:lnTo>
                    <a:pt x="126" y="114"/>
                  </a:lnTo>
                  <a:lnTo>
                    <a:pt x="106" y="130"/>
                  </a:lnTo>
                  <a:lnTo>
                    <a:pt x="88" y="144"/>
                  </a:lnTo>
                  <a:lnTo>
                    <a:pt x="70" y="162"/>
                  </a:lnTo>
                  <a:lnTo>
                    <a:pt x="54" y="180"/>
                  </a:lnTo>
                  <a:lnTo>
                    <a:pt x="40" y="200"/>
                  </a:lnTo>
                  <a:lnTo>
                    <a:pt x="28" y="222"/>
                  </a:lnTo>
                  <a:lnTo>
                    <a:pt x="18" y="246"/>
                  </a:lnTo>
                  <a:lnTo>
                    <a:pt x="10" y="270"/>
                  </a:lnTo>
                  <a:lnTo>
                    <a:pt x="4" y="298"/>
                  </a:lnTo>
                  <a:lnTo>
                    <a:pt x="0" y="326"/>
                  </a:lnTo>
                  <a:lnTo>
                    <a:pt x="0" y="326"/>
                  </a:lnTo>
                  <a:lnTo>
                    <a:pt x="30" y="348"/>
                  </a:lnTo>
                  <a:lnTo>
                    <a:pt x="44" y="356"/>
                  </a:lnTo>
                  <a:lnTo>
                    <a:pt x="58" y="362"/>
                  </a:lnTo>
                  <a:lnTo>
                    <a:pt x="74" y="368"/>
                  </a:lnTo>
                  <a:lnTo>
                    <a:pt x="94" y="372"/>
                  </a:lnTo>
                  <a:lnTo>
                    <a:pt x="116" y="374"/>
                  </a:lnTo>
                  <a:lnTo>
                    <a:pt x="144" y="374"/>
                  </a:lnTo>
                  <a:lnTo>
                    <a:pt x="144" y="374"/>
                  </a:lnTo>
                  <a:lnTo>
                    <a:pt x="164" y="358"/>
                  </a:lnTo>
                  <a:lnTo>
                    <a:pt x="184" y="344"/>
                  </a:lnTo>
                  <a:lnTo>
                    <a:pt x="206" y="328"/>
                  </a:lnTo>
                  <a:lnTo>
                    <a:pt x="224" y="310"/>
                  </a:lnTo>
                  <a:lnTo>
                    <a:pt x="224" y="310"/>
                  </a:lnTo>
                  <a:lnTo>
                    <a:pt x="228" y="306"/>
                  </a:lnTo>
                  <a:lnTo>
                    <a:pt x="230" y="300"/>
                  </a:lnTo>
                  <a:lnTo>
                    <a:pt x="236" y="286"/>
                  </a:lnTo>
                  <a:lnTo>
                    <a:pt x="240" y="272"/>
                  </a:lnTo>
                  <a:lnTo>
                    <a:pt x="244" y="266"/>
                  </a:lnTo>
                  <a:lnTo>
                    <a:pt x="248" y="262"/>
                  </a:lnTo>
                  <a:lnTo>
                    <a:pt x="248" y="262"/>
                  </a:lnTo>
                  <a:lnTo>
                    <a:pt x="328" y="262"/>
                  </a:lnTo>
                  <a:lnTo>
                    <a:pt x="328" y="262"/>
                  </a:lnTo>
                  <a:lnTo>
                    <a:pt x="340" y="276"/>
                  </a:lnTo>
                  <a:lnTo>
                    <a:pt x="354" y="288"/>
                  </a:lnTo>
                  <a:lnTo>
                    <a:pt x="370" y="296"/>
                  </a:lnTo>
                  <a:lnTo>
                    <a:pt x="386" y="304"/>
                  </a:lnTo>
                  <a:lnTo>
                    <a:pt x="406" y="310"/>
                  </a:lnTo>
                  <a:lnTo>
                    <a:pt x="426" y="316"/>
                  </a:lnTo>
                  <a:lnTo>
                    <a:pt x="448" y="318"/>
                  </a:lnTo>
                  <a:lnTo>
                    <a:pt x="472" y="318"/>
                  </a:lnTo>
                  <a:lnTo>
                    <a:pt x="472" y="318"/>
                  </a:lnTo>
                  <a:lnTo>
                    <a:pt x="480" y="310"/>
                  </a:lnTo>
                  <a:lnTo>
                    <a:pt x="486" y="304"/>
                  </a:lnTo>
                  <a:lnTo>
                    <a:pt x="490" y="298"/>
                  </a:lnTo>
                  <a:lnTo>
                    <a:pt x="496" y="286"/>
                  </a:lnTo>
                  <a:lnTo>
                    <a:pt x="496" y="286"/>
                  </a:lnTo>
                  <a:lnTo>
                    <a:pt x="502" y="278"/>
                  </a:lnTo>
                  <a:lnTo>
                    <a:pt x="504" y="266"/>
                  </a:lnTo>
                  <a:lnTo>
                    <a:pt x="506" y="236"/>
                  </a:lnTo>
                  <a:lnTo>
                    <a:pt x="506" y="204"/>
                  </a:lnTo>
                  <a:lnTo>
                    <a:pt x="504" y="174"/>
                  </a:lnTo>
                  <a:lnTo>
                    <a:pt x="504" y="174"/>
                  </a:lnTo>
                  <a:lnTo>
                    <a:pt x="526" y="164"/>
                  </a:lnTo>
                  <a:lnTo>
                    <a:pt x="548" y="156"/>
                  </a:lnTo>
                  <a:lnTo>
                    <a:pt x="574" y="152"/>
                  </a:lnTo>
                  <a:lnTo>
                    <a:pt x="608" y="150"/>
                  </a:lnTo>
                  <a:lnTo>
                    <a:pt x="608" y="150"/>
                  </a:lnTo>
                  <a:lnTo>
                    <a:pt x="620" y="158"/>
                  </a:lnTo>
                  <a:lnTo>
                    <a:pt x="632" y="162"/>
                  </a:lnTo>
                  <a:lnTo>
                    <a:pt x="646" y="166"/>
                  </a:lnTo>
                  <a:lnTo>
                    <a:pt x="664" y="166"/>
                  </a:lnTo>
                  <a:lnTo>
                    <a:pt x="664" y="166"/>
                  </a:lnTo>
                  <a:lnTo>
                    <a:pt x="676" y="154"/>
                  </a:lnTo>
                  <a:lnTo>
                    <a:pt x="686" y="146"/>
                  </a:lnTo>
                  <a:lnTo>
                    <a:pt x="696" y="136"/>
                  </a:lnTo>
                  <a:lnTo>
                    <a:pt x="700" y="128"/>
                  </a:lnTo>
                  <a:lnTo>
                    <a:pt x="704" y="118"/>
                  </a:lnTo>
                  <a:lnTo>
                    <a:pt x="704" y="118"/>
                  </a:lnTo>
                  <a:lnTo>
                    <a:pt x="708" y="112"/>
                  </a:lnTo>
                  <a:lnTo>
                    <a:pt x="710" y="106"/>
                  </a:lnTo>
                  <a:lnTo>
                    <a:pt x="712" y="92"/>
                  </a:lnTo>
                  <a:lnTo>
                    <a:pt x="708" y="78"/>
                  </a:lnTo>
                  <a:lnTo>
                    <a:pt x="704" y="62"/>
                  </a:lnTo>
                  <a:lnTo>
                    <a:pt x="704" y="62"/>
                  </a:lnTo>
                  <a:lnTo>
                    <a:pt x="688" y="58"/>
                  </a:lnTo>
                  <a:lnTo>
                    <a:pt x="672" y="50"/>
                  </a:lnTo>
                  <a:lnTo>
                    <a:pt x="638" y="34"/>
                  </a:lnTo>
                  <a:lnTo>
                    <a:pt x="604" y="20"/>
                  </a:lnTo>
                  <a:lnTo>
                    <a:pt x="586" y="12"/>
                  </a:lnTo>
                  <a:lnTo>
                    <a:pt x="568" y="6"/>
                  </a:lnTo>
                  <a:lnTo>
                    <a:pt x="56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グループ化 91"/>
          <p:cNvGrpSpPr/>
          <p:nvPr/>
        </p:nvGrpSpPr>
        <p:grpSpPr>
          <a:xfrm>
            <a:off x="25849440" y="1069920"/>
            <a:ext cx="4225680" cy="4378320"/>
            <a:chOff x="25849440" y="1069920"/>
            <a:chExt cx="4225680" cy="4378320"/>
          </a:xfrm>
        </p:grpSpPr>
        <p:sp>
          <p:nvSpPr>
            <p:cNvPr id="110" name="Freeform 75"/>
            <p:cNvSpPr/>
            <p:nvPr/>
          </p:nvSpPr>
          <p:spPr>
            <a:xfrm>
              <a:off x="25849440" y="1069920"/>
              <a:ext cx="4225680" cy="4378320"/>
            </a:xfrm>
            <a:custGeom>
              <a:avLst/>
              <a:gdLst>
                <a:gd name="textAreaLeft" fmla="*/ 0 w 4225680"/>
                <a:gd name="textAreaRight" fmla="*/ 4225680 w 4225680"/>
                <a:gd name="textAreaTop" fmla="*/ 0 h 4378320"/>
                <a:gd name="textAreaBottom" fmla="*/ 4378680 h 4378320"/>
              </a:gdLst>
              <a:ahLst/>
              <a:rect l="textAreaLeft" t="textAreaTop" r="textAreaRight" b="textAreaBottom"/>
              <a:pathLst>
                <a:path w="2662" h="2758">
                  <a:moveTo>
                    <a:pt x="2544" y="1528"/>
                  </a:moveTo>
                  <a:lnTo>
                    <a:pt x="2544" y="1528"/>
                  </a:lnTo>
                  <a:lnTo>
                    <a:pt x="2560" y="1504"/>
                  </a:lnTo>
                  <a:lnTo>
                    <a:pt x="2576" y="1476"/>
                  </a:lnTo>
                  <a:lnTo>
                    <a:pt x="2592" y="1446"/>
                  </a:lnTo>
                  <a:lnTo>
                    <a:pt x="2606" y="1412"/>
                  </a:lnTo>
                  <a:lnTo>
                    <a:pt x="2620" y="1378"/>
                  </a:lnTo>
                  <a:lnTo>
                    <a:pt x="2632" y="1340"/>
                  </a:lnTo>
                  <a:lnTo>
                    <a:pt x="2642" y="1302"/>
                  </a:lnTo>
                  <a:lnTo>
                    <a:pt x="2650" y="1262"/>
                  </a:lnTo>
                  <a:lnTo>
                    <a:pt x="2658" y="1222"/>
                  </a:lnTo>
                  <a:lnTo>
                    <a:pt x="2660" y="1182"/>
                  </a:lnTo>
                  <a:lnTo>
                    <a:pt x="2662" y="1142"/>
                  </a:lnTo>
                  <a:lnTo>
                    <a:pt x="2660" y="1104"/>
                  </a:lnTo>
                  <a:lnTo>
                    <a:pt x="2654" y="1066"/>
                  </a:lnTo>
                  <a:lnTo>
                    <a:pt x="2644" y="1028"/>
                  </a:lnTo>
                  <a:lnTo>
                    <a:pt x="2632" y="994"/>
                  </a:lnTo>
                  <a:lnTo>
                    <a:pt x="2624" y="976"/>
                  </a:lnTo>
                  <a:lnTo>
                    <a:pt x="2614" y="960"/>
                  </a:lnTo>
                  <a:lnTo>
                    <a:pt x="2614" y="960"/>
                  </a:lnTo>
                  <a:lnTo>
                    <a:pt x="2602" y="944"/>
                  </a:lnTo>
                  <a:lnTo>
                    <a:pt x="2590" y="926"/>
                  </a:lnTo>
                  <a:lnTo>
                    <a:pt x="2558" y="892"/>
                  </a:lnTo>
                  <a:lnTo>
                    <a:pt x="2524" y="860"/>
                  </a:lnTo>
                  <a:lnTo>
                    <a:pt x="2506" y="848"/>
                  </a:lnTo>
                  <a:lnTo>
                    <a:pt x="2490" y="836"/>
                  </a:lnTo>
                  <a:lnTo>
                    <a:pt x="2490" y="836"/>
                  </a:lnTo>
                  <a:lnTo>
                    <a:pt x="2466" y="824"/>
                  </a:lnTo>
                  <a:lnTo>
                    <a:pt x="2444" y="814"/>
                  </a:lnTo>
                  <a:lnTo>
                    <a:pt x="2422" y="804"/>
                  </a:lnTo>
                  <a:lnTo>
                    <a:pt x="2402" y="796"/>
                  </a:lnTo>
                  <a:lnTo>
                    <a:pt x="2384" y="784"/>
                  </a:lnTo>
                  <a:lnTo>
                    <a:pt x="2368" y="770"/>
                  </a:lnTo>
                  <a:lnTo>
                    <a:pt x="2360" y="762"/>
                  </a:lnTo>
                  <a:lnTo>
                    <a:pt x="2354" y="752"/>
                  </a:lnTo>
                  <a:lnTo>
                    <a:pt x="2348" y="740"/>
                  </a:lnTo>
                  <a:lnTo>
                    <a:pt x="2342" y="726"/>
                  </a:lnTo>
                  <a:lnTo>
                    <a:pt x="2342" y="726"/>
                  </a:lnTo>
                  <a:lnTo>
                    <a:pt x="2338" y="718"/>
                  </a:lnTo>
                  <a:lnTo>
                    <a:pt x="2336" y="708"/>
                  </a:lnTo>
                  <a:lnTo>
                    <a:pt x="2330" y="676"/>
                  </a:lnTo>
                  <a:lnTo>
                    <a:pt x="2328" y="638"/>
                  </a:lnTo>
                  <a:lnTo>
                    <a:pt x="2326" y="594"/>
                  </a:lnTo>
                  <a:lnTo>
                    <a:pt x="2322" y="508"/>
                  </a:lnTo>
                  <a:lnTo>
                    <a:pt x="2318" y="474"/>
                  </a:lnTo>
                  <a:lnTo>
                    <a:pt x="2314" y="458"/>
                  </a:lnTo>
                  <a:lnTo>
                    <a:pt x="2310" y="448"/>
                  </a:lnTo>
                  <a:lnTo>
                    <a:pt x="2310" y="448"/>
                  </a:lnTo>
                  <a:lnTo>
                    <a:pt x="2294" y="406"/>
                  </a:lnTo>
                  <a:lnTo>
                    <a:pt x="2276" y="366"/>
                  </a:lnTo>
                  <a:lnTo>
                    <a:pt x="2256" y="330"/>
                  </a:lnTo>
                  <a:lnTo>
                    <a:pt x="2236" y="294"/>
                  </a:lnTo>
                  <a:lnTo>
                    <a:pt x="2212" y="260"/>
                  </a:lnTo>
                  <a:lnTo>
                    <a:pt x="2186" y="228"/>
                  </a:lnTo>
                  <a:lnTo>
                    <a:pt x="2158" y="198"/>
                  </a:lnTo>
                  <a:lnTo>
                    <a:pt x="2130" y="170"/>
                  </a:lnTo>
                  <a:lnTo>
                    <a:pt x="2098" y="142"/>
                  </a:lnTo>
                  <a:lnTo>
                    <a:pt x="2066" y="118"/>
                  </a:lnTo>
                  <a:lnTo>
                    <a:pt x="2030" y="96"/>
                  </a:lnTo>
                  <a:lnTo>
                    <a:pt x="1994" y="76"/>
                  </a:lnTo>
                  <a:lnTo>
                    <a:pt x="1956" y="56"/>
                  </a:lnTo>
                  <a:lnTo>
                    <a:pt x="1914" y="40"/>
                  </a:lnTo>
                  <a:lnTo>
                    <a:pt x="1872" y="24"/>
                  </a:lnTo>
                  <a:lnTo>
                    <a:pt x="1828" y="12"/>
                  </a:lnTo>
                  <a:lnTo>
                    <a:pt x="1828" y="12"/>
                  </a:lnTo>
                  <a:lnTo>
                    <a:pt x="1808" y="8"/>
                  </a:lnTo>
                  <a:lnTo>
                    <a:pt x="1788" y="4"/>
                  </a:lnTo>
                  <a:lnTo>
                    <a:pt x="1748" y="0"/>
                  </a:lnTo>
                  <a:lnTo>
                    <a:pt x="1708" y="0"/>
                  </a:lnTo>
                  <a:lnTo>
                    <a:pt x="1666" y="4"/>
                  </a:lnTo>
                  <a:lnTo>
                    <a:pt x="1628" y="10"/>
                  </a:lnTo>
                  <a:lnTo>
                    <a:pt x="1592" y="18"/>
                  </a:lnTo>
                  <a:lnTo>
                    <a:pt x="1526" y="34"/>
                  </a:lnTo>
                  <a:lnTo>
                    <a:pt x="1526" y="34"/>
                  </a:lnTo>
                  <a:lnTo>
                    <a:pt x="1436" y="60"/>
                  </a:lnTo>
                  <a:lnTo>
                    <a:pt x="1352" y="84"/>
                  </a:lnTo>
                  <a:lnTo>
                    <a:pt x="1312" y="98"/>
                  </a:lnTo>
                  <a:lnTo>
                    <a:pt x="1274" y="112"/>
                  </a:lnTo>
                  <a:lnTo>
                    <a:pt x="1236" y="130"/>
                  </a:lnTo>
                  <a:lnTo>
                    <a:pt x="1198" y="152"/>
                  </a:lnTo>
                  <a:lnTo>
                    <a:pt x="1198" y="152"/>
                  </a:lnTo>
                  <a:lnTo>
                    <a:pt x="1158" y="178"/>
                  </a:lnTo>
                  <a:lnTo>
                    <a:pt x="1116" y="208"/>
                  </a:lnTo>
                  <a:lnTo>
                    <a:pt x="1032" y="266"/>
                  </a:lnTo>
                  <a:lnTo>
                    <a:pt x="988" y="294"/>
                  </a:lnTo>
                  <a:lnTo>
                    <a:pt x="944" y="320"/>
                  </a:lnTo>
                  <a:lnTo>
                    <a:pt x="898" y="344"/>
                  </a:lnTo>
                  <a:lnTo>
                    <a:pt x="874" y="352"/>
                  </a:lnTo>
                  <a:lnTo>
                    <a:pt x="850" y="362"/>
                  </a:lnTo>
                  <a:lnTo>
                    <a:pt x="850" y="362"/>
                  </a:lnTo>
                  <a:lnTo>
                    <a:pt x="832" y="366"/>
                  </a:lnTo>
                  <a:lnTo>
                    <a:pt x="814" y="370"/>
                  </a:lnTo>
                  <a:lnTo>
                    <a:pt x="776" y="374"/>
                  </a:lnTo>
                  <a:lnTo>
                    <a:pt x="738" y="374"/>
                  </a:lnTo>
                  <a:lnTo>
                    <a:pt x="700" y="374"/>
                  </a:lnTo>
                  <a:lnTo>
                    <a:pt x="660" y="374"/>
                  </a:lnTo>
                  <a:lnTo>
                    <a:pt x="622" y="374"/>
                  </a:lnTo>
                  <a:lnTo>
                    <a:pt x="582" y="378"/>
                  </a:lnTo>
                  <a:lnTo>
                    <a:pt x="564" y="380"/>
                  </a:lnTo>
                  <a:lnTo>
                    <a:pt x="546" y="384"/>
                  </a:lnTo>
                  <a:lnTo>
                    <a:pt x="546" y="384"/>
                  </a:lnTo>
                  <a:lnTo>
                    <a:pt x="516" y="394"/>
                  </a:lnTo>
                  <a:lnTo>
                    <a:pt x="484" y="408"/>
                  </a:lnTo>
                  <a:lnTo>
                    <a:pt x="454" y="426"/>
                  </a:lnTo>
                  <a:lnTo>
                    <a:pt x="424" y="444"/>
                  </a:lnTo>
                  <a:lnTo>
                    <a:pt x="394" y="466"/>
                  </a:lnTo>
                  <a:lnTo>
                    <a:pt x="368" y="488"/>
                  </a:lnTo>
                  <a:lnTo>
                    <a:pt x="346" y="510"/>
                  </a:lnTo>
                  <a:lnTo>
                    <a:pt x="328" y="532"/>
                  </a:lnTo>
                  <a:lnTo>
                    <a:pt x="328" y="532"/>
                  </a:lnTo>
                  <a:lnTo>
                    <a:pt x="314" y="554"/>
                  </a:lnTo>
                  <a:lnTo>
                    <a:pt x="300" y="576"/>
                  </a:lnTo>
                  <a:lnTo>
                    <a:pt x="288" y="598"/>
                  </a:lnTo>
                  <a:lnTo>
                    <a:pt x="276" y="622"/>
                  </a:lnTo>
                  <a:lnTo>
                    <a:pt x="266" y="648"/>
                  </a:lnTo>
                  <a:lnTo>
                    <a:pt x="258" y="672"/>
                  </a:lnTo>
                  <a:lnTo>
                    <a:pt x="250" y="698"/>
                  </a:lnTo>
                  <a:lnTo>
                    <a:pt x="244" y="724"/>
                  </a:lnTo>
                  <a:lnTo>
                    <a:pt x="240" y="752"/>
                  </a:lnTo>
                  <a:lnTo>
                    <a:pt x="238" y="780"/>
                  </a:lnTo>
                  <a:lnTo>
                    <a:pt x="236" y="808"/>
                  </a:lnTo>
                  <a:lnTo>
                    <a:pt x="236" y="836"/>
                  </a:lnTo>
                  <a:lnTo>
                    <a:pt x="240" y="864"/>
                  </a:lnTo>
                  <a:lnTo>
                    <a:pt x="244" y="894"/>
                  </a:lnTo>
                  <a:lnTo>
                    <a:pt x="250" y="922"/>
                  </a:lnTo>
                  <a:lnTo>
                    <a:pt x="258" y="952"/>
                  </a:lnTo>
                  <a:lnTo>
                    <a:pt x="258" y="952"/>
                  </a:lnTo>
                  <a:lnTo>
                    <a:pt x="262" y="966"/>
                  </a:lnTo>
                  <a:lnTo>
                    <a:pt x="264" y="978"/>
                  </a:lnTo>
                  <a:lnTo>
                    <a:pt x="266" y="998"/>
                  </a:lnTo>
                  <a:lnTo>
                    <a:pt x="268" y="1006"/>
                  </a:lnTo>
                  <a:lnTo>
                    <a:pt x="270" y="1014"/>
                  </a:lnTo>
                  <a:lnTo>
                    <a:pt x="274" y="1022"/>
                  </a:lnTo>
                  <a:lnTo>
                    <a:pt x="282" y="1030"/>
                  </a:lnTo>
                  <a:lnTo>
                    <a:pt x="282" y="1030"/>
                  </a:lnTo>
                  <a:lnTo>
                    <a:pt x="282" y="1046"/>
                  </a:lnTo>
                  <a:lnTo>
                    <a:pt x="282" y="1046"/>
                  </a:lnTo>
                  <a:lnTo>
                    <a:pt x="256" y="1040"/>
                  </a:lnTo>
                  <a:lnTo>
                    <a:pt x="226" y="1038"/>
                  </a:lnTo>
                  <a:lnTo>
                    <a:pt x="210" y="1036"/>
                  </a:lnTo>
                  <a:lnTo>
                    <a:pt x="196" y="1038"/>
                  </a:lnTo>
                  <a:lnTo>
                    <a:pt x="184" y="1040"/>
                  </a:lnTo>
                  <a:lnTo>
                    <a:pt x="172" y="1046"/>
                  </a:lnTo>
                  <a:lnTo>
                    <a:pt x="172" y="1046"/>
                  </a:lnTo>
                  <a:lnTo>
                    <a:pt x="152" y="1048"/>
                  </a:lnTo>
                  <a:lnTo>
                    <a:pt x="132" y="1054"/>
                  </a:lnTo>
                  <a:lnTo>
                    <a:pt x="112" y="1062"/>
                  </a:lnTo>
                  <a:lnTo>
                    <a:pt x="96" y="1070"/>
                  </a:lnTo>
                  <a:lnTo>
                    <a:pt x="80" y="1082"/>
                  </a:lnTo>
                  <a:lnTo>
                    <a:pt x="66" y="1094"/>
                  </a:lnTo>
                  <a:lnTo>
                    <a:pt x="52" y="1108"/>
                  </a:lnTo>
                  <a:lnTo>
                    <a:pt x="42" y="1124"/>
                  </a:lnTo>
                  <a:lnTo>
                    <a:pt x="32" y="1140"/>
                  </a:lnTo>
                  <a:lnTo>
                    <a:pt x="24" y="1158"/>
                  </a:lnTo>
                  <a:lnTo>
                    <a:pt x="16" y="1176"/>
                  </a:lnTo>
                  <a:lnTo>
                    <a:pt x="10" y="1196"/>
                  </a:lnTo>
                  <a:lnTo>
                    <a:pt x="6" y="1216"/>
                  </a:lnTo>
                  <a:lnTo>
                    <a:pt x="2" y="1238"/>
                  </a:lnTo>
                  <a:lnTo>
                    <a:pt x="0" y="1258"/>
                  </a:lnTo>
                  <a:lnTo>
                    <a:pt x="0" y="1280"/>
                  </a:lnTo>
                  <a:lnTo>
                    <a:pt x="2" y="1300"/>
                  </a:lnTo>
                  <a:lnTo>
                    <a:pt x="4" y="1322"/>
                  </a:lnTo>
                  <a:lnTo>
                    <a:pt x="8" y="1344"/>
                  </a:lnTo>
                  <a:lnTo>
                    <a:pt x="12" y="1364"/>
                  </a:lnTo>
                  <a:lnTo>
                    <a:pt x="18" y="1386"/>
                  </a:lnTo>
                  <a:lnTo>
                    <a:pt x="26" y="1406"/>
                  </a:lnTo>
                  <a:lnTo>
                    <a:pt x="34" y="1424"/>
                  </a:lnTo>
                  <a:lnTo>
                    <a:pt x="44" y="1442"/>
                  </a:lnTo>
                  <a:lnTo>
                    <a:pt x="54" y="1460"/>
                  </a:lnTo>
                  <a:lnTo>
                    <a:pt x="66" y="1476"/>
                  </a:lnTo>
                  <a:lnTo>
                    <a:pt x="80" y="1492"/>
                  </a:lnTo>
                  <a:lnTo>
                    <a:pt x="94" y="1506"/>
                  </a:lnTo>
                  <a:lnTo>
                    <a:pt x="110" y="1518"/>
                  </a:lnTo>
                  <a:lnTo>
                    <a:pt x="128" y="1528"/>
                  </a:lnTo>
                  <a:lnTo>
                    <a:pt x="146" y="1536"/>
                  </a:lnTo>
                  <a:lnTo>
                    <a:pt x="164" y="1544"/>
                  </a:lnTo>
                  <a:lnTo>
                    <a:pt x="164" y="1544"/>
                  </a:lnTo>
                  <a:lnTo>
                    <a:pt x="172" y="1548"/>
                  </a:lnTo>
                  <a:lnTo>
                    <a:pt x="180" y="1550"/>
                  </a:lnTo>
                  <a:lnTo>
                    <a:pt x="204" y="1552"/>
                  </a:lnTo>
                  <a:lnTo>
                    <a:pt x="204" y="1552"/>
                  </a:lnTo>
                  <a:lnTo>
                    <a:pt x="172" y="1792"/>
                  </a:lnTo>
                  <a:lnTo>
                    <a:pt x="172" y="1792"/>
                  </a:lnTo>
                  <a:lnTo>
                    <a:pt x="170" y="1820"/>
                  </a:lnTo>
                  <a:lnTo>
                    <a:pt x="170" y="1846"/>
                  </a:lnTo>
                  <a:lnTo>
                    <a:pt x="172" y="1872"/>
                  </a:lnTo>
                  <a:lnTo>
                    <a:pt x="174" y="1898"/>
                  </a:lnTo>
                  <a:lnTo>
                    <a:pt x="184" y="1948"/>
                  </a:lnTo>
                  <a:lnTo>
                    <a:pt x="196" y="1998"/>
                  </a:lnTo>
                  <a:lnTo>
                    <a:pt x="210" y="2044"/>
                  </a:lnTo>
                  <a:lnTo>
                    <a:pt x="226" y="2088"/>
                  </a:lnTo>
                  <a:lnTo>
                    <a:pt x="258" y="2166"/>
                  </a:lnTo>
                  <a:lnTo>
                    <a:pt x="258" y="2166"/>
                  </a:lnTo>
                  <a:lnTo>
                    <a:pt x="268" y="2194"/>
                  </a:lnTo>
                  <a:lnTo>
                    <a:pt x="274" y="2220"/>
                  </a:lnTo>
                  <a:lnTo>
                    <a:pt x="280" y="2248"/>
                  </a:lnTo>
                  <a:lnTo>
                    <a:pt x="284" y="2260"/>
                  </a:lnTo>
                  <a:lnTo>
                    <a:pt x="290" y="2274"/>
                  </a:lnTo>
                  <a:lnTo>
                    <a:pt x="290" y="2274"/>
                  </a:lnTo>
                  <a:lnTo>
                    <a:pt x="298" y="2294"/>
                  </a:lnTo>
                  <a:lnTo>
                    <a:pt x="310" y="2316"/>
                  </a:lnTo>
                  <a:lnTo>
                    <a:pt x="336" y="2356"/>
                  </a:lnTo>
                  <a:lnTo>
                    <a:pt x="368" y="2394"/>
                  </a:lnTo>
                  <a:lnTo>
                    <a:pt x="402" y="2432"/>
                  </a:lnTo>
                  <a:lnTo>
                    <a:pt x="440" y="2468"/>
                  </a:lnTo>
                  <a:lnTo>
                    <a:pt x="478" y="2500"/>
                  </a:lnTo>
                  <a:lnTo>
                    <a:pt x="516" y="2530"/>
                  </a:lnTo>
                  <a:lnTo>
                    <a:pt x="554" y="2554"/>
                  </a:lnTo>
                  <a:lnTo>
                    <a:pt x="554" y="2554"/>
                  </a:lnTo>
                  <a:lnTo>
                    <a:pt x="578" y="2568"/>
                  </a:lnTo>
                  <a:lnTo>
                    <a:pt x="604" y="2582"/>
                  </a:lnTo>
                  <a:lnTo>
                    <a:pt x="630" y="2592"/>
                  </a:lnTo>
                  <a:lnTo>
                    <a:pt x="658" y="2602"/>
                  </a:lnTo>
                  <a:lnTo>
                    <a:pt x="714" y="2620"/>
                  </a:lnTo>
                  <a:lnTo>
                    <a:pt x="772" y="2640"/>
                  </a:lnTo>
                  <a:lnTo>
                    <a:pt x="772" y="2640"/>
                  </a:lnTo>
                  <a:lnTo>
                    <a:pt x="814" y="2656"/>
                  </a:lnTo>
                  <a:lnTo>
                    <a:pt x="860" y="2670"/>
                  </a:lnTo>
                  <a:lnTo>
                    <a:pt x="910" y="2686"/>
                  </a:lnTo>
                  <a:lnTo>
                    <a:pt x="964" y="2700"/>
                  </a:lnTo>
                  <a:lnTo>
                    <a:pt x="1020" y="2714"/>
                  </a:lnTo>
                  <a:lnTo>
                    <a:pt x="1076" y="2726"/>
                  </a:lnTo>
                  <a:lnTo>
                    <a:pt x="1136" y="2736"/>
                  </a:lnTo>
                  <a:lnTo>
                    <a:pt x="1196" y="2746"/>
                  </a:lnTo>
                  <a:lnTo>
                    <a:pt x="1258" y="2752"/>
                  </a:lnTo>
                  <a:lnTo>
                    <a:pt x="1318" y="2756"/>
                  </a:lnTo>
                  <a:lnTo>
                    <a:pt x="1378" y="2758"/>
                  </a:lnTo>
                  <a:lnTo>
                    <a:pt x="1438" y="2756"/>
                  </a:lnTo>
                  <a:lnTo>
                    <a:pt x="1496" y="2750"/>
                  </a:lnTo>
                  <a:lnTo>
                    <a:pt x="1552" y="2742"/>
                  </a:lnTo>
                  <a:lnTo>
                    <a:pt x="1580" y="2734"/>
                  </a:lnTo>
                  <a:lnTo>
                    <a:pt x="1606" y="2728"/>
                  </a:lnTo>
                  <a:lnTo>
                    <a:pt x="1632" y="2720"/>
                  </a:lnTo>
                  <a:lnTo>
                    <a:pt x="1658" y="2710"/>
                  </a:lnTo>
                  <a:lnTo>
                    <a:pt x="1658" y="2710"/>
                  </a:lnTo>
                  <a:lnTo>
                    <a:pt x="1702" y="2690"/>
                  </a:lnTo>
                  <a:lnTo>
                    <a:pt x="1744" y="2668"/>
                  </a:lnTo>
                  <a:lnTo>
                    <a:pt x="1784" y="2646"/>
                  </a:lnTo>
                  <a:lnTo>
                    <a:pt x="1822" y="2620"/>
                  </a:lnTo>
                  <a:lnTo>
                    <a:pt x="1860" y="2592"/>
                  </a:lnTo>
                  <a:lnTo>
                    <a:pt x="1896" y="2564"/>
                  </a:lnTo>
                  <a:lnTo>
                    <a:pt x="1928" y="2532"/>
                  </a:lnTo>
                  <a:lnTo>
                    <a:pt x="1960" y="2500"/>
                  </a:lnTo>
                  <a:lnTo>
                    <a:pt x="1990" y="2464"/>
                  </a:lnTo>
                  <a:lnTo>
                    <a:pt x="2020" y="2428"/>
                  </a:lnTo>
                  <a:lnTo>
                    <a:pt x="2046" y="2392"/>
                  </a:lnTo>
                  <a:lnTo>
                    <a:pt x="2072" y="2352"/>
                  </a:lnTo>
                  <a:lnTo>
                    <a:pt x="2094" y="2312"/>
                  </a:lnTo>
                  <a:lnTo>
                    <a:pt x="2116" y="2270"/>
                  </a:lnTo>
                  <a:lnTo>
                    <a:pt x="2136" y="2226"/>
                  </a:lnTo>
                  <a:lnTo>
                    <a:pt x="2156" y="2182"/>
                  </a:lnTo>
                  <a:lnTo>
                    <a:pt x="2156" y="2182"/>
                  </a:lnTo>
                  <a:lnTo>
                    <a:pt x="2218" y="2186"/>
                  </a:lnTo>
                  <a:lnTo>
                    <a:pt x="2274" y="2188"/>
                  </a:lnTo>
                  <a:lnTo>
                    <a:pt x="2300" y="2188"/>
                  </a:lnTo>
                  <a:lnTo>
                    <a:pt x="2326" y="2188"/>
                  </a:lnTo>
                  <a:lnTo>
                    <a:pt x="2348" y="2184"/>
                  </a:lnTo>
                  <a:lnTo>
                    <a:pt x="2370" y="2180"/>
                  </a:lnTo>
                  <a:lnTo>
                    <a:pt x="2390" y="2174"/>
                  </a:lnTo>
                  <a:lnTo>
                    <a:pt x="2410" y="2166"/>
                  </a:lnTo>
                  <a:lnTo>
                    <a:pt x="2428" y="2156"/>
                  </a:lnTo>
                  <a:lnTo>
                    <a:pt x="2446" y="2144"/>
                  </a:lnTo>
                  <a:lnTo>
                    <a:pt x="2462" y="2128"/>
                  </a:lnTo>
                  <a:lnTo>
                    <a:pt x="2476" y="2110"/>
                  </a:lnTo>
                  <a:lnTo>
                    <a:pt x="2492" y="2090"/>
                  </a:lnTo>
                  <a:lnTo>
                    <a:pt x="2506" y="2064"/>
                  </a:lnTo>
                  <a:lnTo>
                    <a:pt x="2506" y="2064"/>
                  </a:lnTo>
                  <a:lnTo>
                    <a:pt x="2518" y="2036"/>
                  </a:lnTo>
                  <a:lnTo>
                    <a:pt x="2526" y="2006"/>
                  </a:lnTo>
                  <a:lnTo>
                    <a:pt x="2532" y="1976"/>
                  </a:lnTo>
                  <a:lnTo>
                    <a:pt x="2534" y="1946"/>
                  </a:lnTo>
                  <a:lnTo>
                    <a:pt x="2534" y="1916"/>
                  </a:lnTo>
                  <a:lnTo>
                    <a:pt x="2530" y="1886"/>
                  </a:lnTo>
                  <a:lnTo>
                    <a:pt x="2524" y="1856"/>
                  </a:lnTo>
                  <a:lnTo>
                    <a:pt x="2516" y="1826"/>
                  </a:lnTo>
                  <a:lnTo>
                    <a:pt x="2506" y="1800"/>
                  </a:lnTo>
                  <a:lnTo>
                    <a:pt x="2492" y="1774"/>
                  </a:lnTo>
                  <a:lnTo>
                    <a:pt x="2478" y="1750"/>
                  </a:lnTo>
                  <a:lnTo>
                    <a:pt x="2462" y="1728"/>
                  </a:lnTo>
                  <a:lnTo>
                    <a:pt x="2444" y="1710"/>
                  </a:lnTo>
                  <a:lnTo>
                    <a:pt x="2424" y="1696"/>
                  </a:lnTo>
                  <a:lnTo>
                    <a:pt x="2402" y="1684"/>
                  </a:lnTo>
                  <a:lnTo>
                    <a:pt x="2380" y="1676"/>
                  </a:lnTo>
                  <a:lnTo>
                    <a:pt x="2380" y="1676"/>
                  </a:lnTo>
                  <a:lnTo>
                    <a:pt x="2386" y="1666"/>
                  </a:lnTo>
                  <a:lnTo>
                    <a:pt x="2394" y="1656"/>
                  </a:lnTo>
                  <a:lnTo>
                    <a:pt x="2412" y="1638"/>
                  </a:lnTo>
                  <a:lnTo>
                    <a:pt x="2434" y="1620"/>
                  </a:lnTo>
                  <a:lnTo>
                    <a:pt x="2458" y="1602"/>
                  </a:lnTo>
                  <a:lnTo>
                    <a:pt x="2508" y="1564"/>
                  </a:lnTo>
                  <a:lnTo>
                    <a:pt x="2528" y="1546"/>
                  </a:lnTo>
                  <a:lnTo>
                    <a:pt x="2544" y="1528"/>
                  </a:lnTo>
                  <a:lnTo>
                    <a:pt x="2544" y="1528"/>
                  </a:lnTo>
                  <a:close/>
                  <a:moveTo>
                    <a:pt x="2568" y="1108"/>
                  </a:moveTo>
                  <a:lnTo>
                    <a:pt x="2568" y="1108"/>
                  </a:lnTo>
                  <a:lnTo>
                    <a:pt x="2568" y="1154"/>
                  </a:lnTo>
                  <a:lnTo>
                    <a:pt x="2566" y="1198"/>
                  </a:lnTo>
                  <a:lnTo>
                    <a:pt x="2564" y="1242"/>
                  </a:lnTo>
                  <a:lnTo>
                    <a:pt x="2558" y="1284"/>
                  </a:lnTo>
                  <a:lnTo>
                    <a:pt x="2550" y="1324"/>
                  </a:lnTo>
                  <a:lnTo>
                    <a:pt x="2544" y="1342"/>
                  </a:lnTo>
                  <a:lnTo>
                    <a:pt x="2536" y="1358"/>
                  </a:lnTo>
                  <a:lnTo>
                    <a:pt x="2528" y="1374"/>
                  </a:lnTo>
                  <a:lnTo>
                    <a:pt x="2520" y="1388"/>
                  </a:lnTo>
                  <a:lnTo>
                    <a:pt x="2510" y="1400"/>
                  </a:lnTo>
                  <a:lnTo>
                    <a:pt x="2498" y="1412"/>
                  </a:lnTo>
                  <a:lnTo>
                    <a:pt x="2498" y="1412"/>
                  </a:lnTo>
                  <a:lnTo>
                    <a:pt x="2492" y="1410"/>
                  </a:lnTo>
                  <a:lnTo>
                    <a:pt x="2478" y="1404"/>
                  </a:lnTo>
                  <a:lnTo>
                    <a:pt x="2436" y="1384"/>
                  </a:lnTo>
                  <a:lnTo>
                    <a:pt x="2390" y="1362"/>
                  </a:lnTo>
                  <a:lnTo>
                    <a:pt x="2370" y="1354"/>
                  </a:lnTo>
                  <a:lnTo>
                    <a:pt x="2358" y="1350"/>
                  </a:lnTo>
                  <a:lnTo>
                    <a:pt x="2358" y="1350"/>
                  </a:lnTo>
                  <a:lnTo>
                    <a:pt x="2178" y="1364"/>
                  </a:lnTo>
                  <a:lnTo>
                    <a:pt x="2178" y="1364"/>
                  </a:lnTo>
                  <a:lnTo>
                    <a:pt x="2176" y="1348"/>
                  </a:lnTo>
                  <a:lnTo>
                    <a:pt x="2172" y="1336"/>
                  </a:lnTo>
                  <a:lnTo>
                    <a:pt x="2166" y="1326"/>
                  </a:lnTo>
                  <a:lnTo>
                    <a:pt x="2156" y="1318"/>
                  </a:lnTo>
                  <a:lnTo>
                    <a:pt x="2156" y="1318"/>
                  </a:lnTo>
                  <a:lnTo>
                    <a:pt x="2158" y="1308"/>
                  </a:lnTo>
                  <a:lnTo>
                    <a:pt x="2160" y="1298"/>
                  </a:lnTo>
                  <a:lnTo>
                    <a:pt x="2170" y="1280"/>
                  </a:lnTo>
                  <a:lnTo>
                    <a:pt x="2186" y="1260"/>
                  </a:lnTo>
                  <a:lnTo>
                    <a:pt x="2206" y="1240"/>
                  </a:lnTo>
                  <a:lnTo>
                    <a:pt x="2230" y="1222"/>
                  </a:lnTo>
                  <a:lnTo>
                    <a:pt x="2258" y="1202"/>
                  </a:lnTo>
                  <a:lnTo>
                    <a:pt x="2286" y="1186"/>
                  </a:lnTo>
                  <a:lnTo>
                    <a:pt x="2318" y="1168"/>
                  </a:lnTo>
                  <a:lnTo>
                    <a:pt x="2352" y="1154"/>
                  </a:lnTo>
                  <a:lnTo>
                    <a:pt x="2384" y="1140"/>
                  </a:lnTo>
                  <a:lnTo>
                    <a:pt x="2418" y="1128"/>
                  </a:lnTo>
                  <a:lnTo>
                    <a:pt x="2452" y="1120"/>
                  </a:lnTo>
                  <a:lnTo>
                    <a:pt x="2484" y="1112"/>
                  </a:lnTo>
                  <a:lnTo>
                    <a:pt x="2514" y="1108"/>
                  </a:lnTo>
                  <a:lnTo>
                    <a:pt x="2542" y="1106"/>
                  </a:lnTo>
                  <a:lnTo>
                    <a:pt x="2568" y="1108"/>
                  </a:lnTo>
                  <a:lnTo>
                    <a:pt x="2568" y="1108"/>
                  </a:lnTo>
                  <a:close/>
                  <a:moveTo>
                    <a:pt x="872" y="454"/>
                  </a:moveTo>
                  <a:lnTo>
                    <a:pt x="872" y="454"/>
                  </a:lnTo>
                  <a:lnTo>
                    <a:pt x="900" y="444"/>
                  </a:lnTo>
                  <a:lnTo>
                    <a:pt x="938" y="430"/>
                  </a:lnTo>
                  <a:lnTo>
                    <a:pt x="978" y="412"/>
                  </a:lnTo>
                  <a:lnTo>
                    <a:pt x="1012" y="392"/>
                  </a:lnTo>
                  <a:lnTo>
                    <a:pt x="1012" y="392"/>
                  </a:lnTo>
                  <a:lnTo>
                    <a:pt x="1056" y="364"/>
                  </a:lnTo>
                  <a:lnTo>
                    <a:pt x="1100" y="334"/>
                  </a:lnTo>
                  <a:lnTo>
                    <a:pt x="1190" y="272"/>
                  </a:lnTo>
                  <a:lnTo>
                    <a:pt x="1234" y="242"/>
                  </a:lnTo>
                  <a:lnTo>
                    <a:pt x="1280" y="214"/>
                  </a:lnTo>
                  <a:lnTo>
                    <a:pt x="1328" y="188"/>
                  </a:lnTo>
                  <a:lnTo>
                    <a:pt x="1352" y="178"/>
                  </a:lnTo>
                  <a:lnTo>
                    <a:pt x="1378" y="168"/>
                  </a:lnTo>
                  <a:lnTo>
                    <a:pt x="1378" y="168"/>
                  </a:lnTo>
                  <a:lnTo>
                    <a:pt x="1408" y="158"/>
                  </a:lnTo>
                  <a:lnTo>
                    <a:pt x="1444" y="150"/>
                  </a:lnTo>
                  <a:lnTo>
                    <a:pt x="1524" y="134"/>
                  </a:lnTo>
                  <a:lnTo>
                    <a:pt x="1564" y="128"/>
                  </a:lnTo>
                  <a:lnTo>
                    <a:pt x="1600" y="118"/>
                  </a:lnTo>
                  <a:lnTo>
                    <a:pt x="1632" y="108"/>
                  </a:lnTo>
                  <a:lnTo>
                    <a:pt x="1646" y="104"/>
                  </a:lnTo>
                  <a:lnTo>
                    <a:pt x="1658" y="98"/>
                  </a:lnTo>
                  <a:lnTo>
                    <a:pt x="1658" y="98"/>
                  </a:lnTo>
                  <a:lnTo>
                    <a:pt x="1716" y="98"/>
                  </a:lnTo>
                  <a:lnTo>
                    <a:pt x="1770" y="104"/>
                  </a:lnTo>
                  <a:lnTo>
                    <a:pt x="1820" y="112"/>
                  </a:lnTo>
                  <a:lnTo>
                    <a:pt x="1868" y="122"/>
                  </a:lnTo>
                  <a:lnTo>
                    <a:pt x="1912" y="138"/>
                  </a:lnTo>
                  <a:lnTo>
                    <a:pt x="1954" y="156"/>
                  </a:lnTo>
                  <a:lnTo>
                    <a:pt x="1994" y="176"/>
                  </a:lnTo>
                  <a:lnTo>
                    <a:pt x="2030" y="200"/>
                  </a:lnTo>
                  <a:lnTo>
                    <a:pt x="2064" y="226"/>
                  </a:lnTo>
                  <a:lnTo>
                    <a:pt x="2094" y="256"/>
                  </a:lnTo>
                  <a:lnTo>
                    <a:pt x="2122" y="288"/>
                  </a:lnTo>
                  <a:lnTo>
                    <a:pt x="2148" y="322"/>
                  </a:lnTo>
                  <a:lnTo>
                    <a:pt x="2170" y="358"/>
                  </a:lnTo>
                  <a:lnTo>
                    <a:pt x="2192" y="396"/>
                  </a:lnTo>
                  <a:lnTo>
                    <a:pt x="2210" y="436"/>
                  </a:lnTo>
                  <a:lnTo>
                    <a:pt x="2226" y="478"/>
                  </a:lnTo>
                  <a:lnTo>
                    <a:pt x="2226" y="478"/>
                  </a:lnTo>
                  <a:lnTo>
                    <a:pt x="2232" y="502"/>
                  </a:lnTo>
                  <a:lnTo>
                    <a:pt x="2238" y="524"/>
                  </a:lnTo>
                  <a:lnTo>
                    <a:pt x="2242" y="548"/>
                  </a:lnTo>
                  <a:lnTo>
                    <a:pt x="2246" y="572"/>
                  </a:lnTo>
                  <a:lnTo>
                    <a:pt x="2248" y="620"/>
                  </a:lnTo>
                  <a:lnTo>
                    <a:pt x="2248" y="664"/>
                  </a:lnTo>
                  <a:lnTo>
                    <a:pt x="2248" y="664"/>
                  </a:lnTo>
                  <a:lnTo>
                    <a:pt x="2246" y="674"/>
                  </a:lnTo>
                  <a:lnTo>
                    <a:pt x="2242" y="688"/>
                  </a:lnTo>
                  <a:lnTo>
                    <a:pt x="2240" y="702"/>
                  </a:lnTo>
                  <a:lnTo>
                    <a:pt x="2240" y="710"/>
                  </a:lnTo>
                  <a:lnTo>
                    <a:pt x="2240" y="720"/>
                  </a:lnTo>
                  <a:lnTo>
                    <a:pt x="2240" y="720"/>
                  </a:lnTo>
                  <a:lnTo>
                    <a:pt x="2246" y="740"/>
                  </a:lnTo>
                  <a:lnTo>
                    <a:pt x="2254" y="760"/>
                  </a:lnTo>
                  <a:lnTo>
                    <a:pt x="2260" y="782"/>
                  </a:lnTo>
                  <a:lnTo>
                    <a:pt x="2264" y="804"/>
                  </a:lnTo>
                  <a:lnTo>
                    <a:pt x="2264" y="804"/>
                  </a:lnTo>
                  <a:lnTo>
                    <a:pt x="2280" y="814"/>
                  </a:lnTo>
                  <a:lnTo>
                    <a:pt x="2296" y="824"/>
                  </a:lnTo>
                  <a:lnTo>
                    <a:pt x="2324" y="848"/>
                  </a:lnTo>
                  <a:lnTo>
                    <a:pt x="2350" y="872"/>
                  </a:lnTo>
                  <a:lnTo>
                    <a:pt x="2366" y="882"/>
                  </a:lnTo>
                  <a:lnTo>
                    <a:pt x="2380" y="890"/>
                  </a:lnTo>
                  <a:lnTo>
                    <a:pt x="2380" y="890"/>
                  </a:lnTo>
                  <a:lnTo>
                    <a:pt x="2412" y="902"/>
                  </a:lnTo>
                  <a:lnTo>
                    <a:pt x="2438" y="912"/>
                  </a:lnTo>
                  <a:lnTo>
                    <a:pt x="2464" y="922"/>
                  </a:lnTo>
                  <a:lnTo>
                    <a:pt x="2478" y="928"/>
                  </a:lnTo>
                  <a:lnTo>
                    <a:pt x="2490" y="936"/>
                  </a:lnTo>
                  <a:lnTo>
                    <a:pt x="2490" y="936"/>
                  </a:lnTo>
                  <a:lnTo>
                    <a:pt x="2498" y="944"/>
                  </a:lnTo>
                  <a:lnTo>
                    <a:pt x="2504" y="954"/>
                  </a:lnTo>
                  <a:lnTo>
                    <a:pt x="2516" y="972"/>
                  </a:lnTo>
                  <a:lnTo>
                    <a:pt x="2528" y="990"/>
                  </a:lnTo>
                  <a:lnTo>
                    <a:pt x="2536" y="1000"/>
                  </a:lnTo>
                  <a:lnTo>
                    <a:pt x="2544" y="1006"/>
                  </a:lnTo>
                  <a:lnTo>
                    <a:pt x="2544" y="1006"/>
                  </a:lnTo>
                  <a:lnTo>
                    <a:pt x="2540" y="1012"/>
                  </a:lnTo>
                  <a:lnTo>
                    <a:pt x="2534" y="1016"/>
                  </a:lnTo>
                  <a:lnTo>
                    <a:pt x="2518" y="1024"/>
                  </a:lnTo>
                  <a:lnTo>
                    <a:pt x="2498" y="1028"/>
                  </a:lnTo>
                  <a:lnTo>
                    <a:pt x="2476" y="1032"/>
                  </a:lnTo>
                  <a:lnTo>
                    <a:pt x="2432" y="1038"/>
                  </a:lnTo>
                  <a:lnTo>
                    <a:pt x="2412" y="1042"/>
                  </a:lnTo>
                  <a:lnTo>
                    <a:pt x="2396" y="1046"/>
                  </a:lnTo>
                  <a:lnTo>
                    <a:pt x="2396" y="1046"/>
                  </a:lnTo>
                  <a:lnTo>
                    <a:pt x="2226" y="1124"/>
                  </a:lnTo>
                  <a:lnTo>
                    <a:pt x="2226" y="1124"/>
                  </a:lnTo>
                  <a:lnTo>
                    <a:pt x="2210" y="1136"/>
                  </a:lnTo>
                  <a:lnTo>
                    <a:pt x="2194" y="1150"/>
                  </a:lnTo>
                  <a:lnTo>
                    <a:pt x="2164" y="1178"/>
                  </a:lnTo>
                  <a:lnTo>
                    <a:pt x="2148" y="1192"/>
                  </a:lnTo>
                  <a:lnTo>
                    <a:pt x="2130" y="1206"/>
                  </a:lnTo>
                  <a:lnTo>
                    <a:pt x="2112" y="1216"/>
                  </a:lnTo>
                  <a:lnTo>
                    <a:pt x="2094" y="1224"/>
                  </a:lnTo>
                  <a:lnTo>
                    <a:pt x="2094" y="1224"/>
                  </a:lnTo>
                  <a:lnTo>
                    <a:pt x="2066" y="1200"/>
                  </a:lnTo>
                  <a:lnTo>
                    <a:pt x="2032" y="1174"/>
                  </a:lnTo>
                  <a:lnTo>
                    <a:pt x="2014" y="1164"/>
                  </a:lnTo>
                  <a:lnTo>
                    <a:pt x="1996" y="1154"/>
                  </a:lnTo>
                  <a:lnTo>
                    <a:pt x="1978" y="1146"/>
                  </a:lnTo>
                  <a:lnTo>
                    <a:pt x="1962" y="1140"/>
                  </a:lnTo>
                  <a:lnTo>
                    <a:pt x="1962" y="1140"/>
                  </a:lnTo>
                  <a:lnTo>
                    <a:pt x="1936" y="1134"/>
                  </a:lnTo>
                  <a:lnTo>
                    <a:pt x="1912" y="1134"/>
                  </a:lnTo>
                  <a:lnTo>
                    <a:pt x="1888" y="1134"/>
                  </a:lnTo>
                  <a:lnTo>
                    <a:pt x="1862" y="1138"/>
                  </a:lnTo>
                  <a:lnTo>
                    <a:pt x="1836" y="1144"/>
                  </a:lnTo>
                  <a:lnTo>
                    <a:pt x="1812" y="1152"/>
                  </a:lnTo>
                  <a:lnTo>
                    <a:pt x="1760" y="1166"/>
                  </a:lnTo>
                  <a:lnTo>
                    <a:pt x="1708" y="1182"/>
                  </a:lnTo>
                  <a:lnTo>
                    <a:pt x="1682" y="1188"/>
                  </a:lnTo>
                  <a:lnTo>
                    <a:pt x="1656" y="1192"/>
                  </a:lnTo>
                  <a:lnTo>
                    <a:pt x="1632" y="1192"/>
                  </a:lnTo>
                  <a:lnTo>
                    <a:pt x="1606" y="1192"/>
                  </a:lnTo>
                  <a:lnTo>
                    <a:pt x="1582" y="1186"/>
                  </a:lnTo>
                  <a:lnTo>
                    <a:pt x="1556" y="1178"/>
                  </a:lnTo>
                  <a:lnTo>
                    <a:pt x="1556" y="1178"/>
                  </a:lnTo>
                  <a:lnTo>
                    <a:pt x="1538" y="1168"/>
                  </a:lnTo>
                  <a:lnTo>
                    <a:pt x="1520" y="1154"/>
                  </a:lnTo>
                  <a:lnTo>
                    <a:pt x="1502" y="1136"/>
                  </a:lnTo>
                  <a:lnTo>
                    <a:pt x="1486" y="1116"/>
                  </a:lnTo>
                  <a:lnTo>
                    <a:pt x="1470" y="1094"/>
                  </a:lnTo>
                  <a:lnTo>
                    <a:pt x="1454" y="1072"/>
                  </a:lnTo>
                  <a:lnTo>
                    <a:pt x="1422" y="1022"/>
                  </a:lnTo>
                  <a:lnTo>
                    <a:pt x="1392" y="970"/>
                  </a:lnTo>
                  <a:lnTo>
                    <a:pt x="1362" y="920"/>
                  </a:lnTo>
                  <a:lnTo>
                    <a:pt x="1346" y="898"/>
                  </a:lnTo>
                  <a:lnTo>
                    <a:pt x="1328" y="878"/>
                  </a:lnTo>
                  <a:lnTo>
                    <a:pt x="1310" y="860"/>
                  </a:lnTo>
                  <a:lnTo>
                    <a:pt x="1292" y="844"/>
                  </a:lnTo>
                  <a:lnTo>
                    <a:pt x="1292" y="844"/>
                  </a:lnTo>
                  <a:lnTo>
                    <a:pt x="1272" y="830"/>
                  </a:lnTo>
                  <a:lnTo>
                    <a:pt x="1250" y="818"/>
                  </a:lnTo>
                  <a:lnTo>
                    <a:pt x="1226" y="808"/>
                  </a:lnTo>
                  <a:lnTo>
                    <a:pt x="1202" y="798"/>
                  </a:lnTo>
                  <a:lnTo>
                    <a:pt x="1150" y="780"/>
                  </a:lnTo>
                  <a:lnTo>
                    <a:pt x="1098" y="766"/>
                  </a:lnTo>
                  <a:lnTo>
                    <a:pt x="1098" y="766"/>
                  </a:lnTo>
                  <a:lnTo>
                    <a:pt x="1080" y="762"/>
                  </a:lnTo>
                  <a:lnTo>
                    <a:pt x="1062" y="762"/>
                  </a:lnTo>
                  <a:lnTo>
                    <a:pt x="1028" y="762"/>
                  </a:lnTo>
                  <a:lnTo>
                    <a:pt x="1010" y="762"/>
                  </a:lnTo>
                  <a:lnTo>
                    <a:pt x="994" y="760"/>
                  </a:lnTo>
                  <a:lnTo>
                    <a:pt x="980" y="756"/>
                  </a:lnTo>
                  <a:lnTo>
                    <a:pt x="966" y="750"/>
                  </a:lnTo>
                  <a:lnTo>
                    <a:pt x="966" y="750"/>
                  </a:lnTo>
                  <a:lnTo>
                    <a:pt x="842" y="750"/>
                  </a:lnTo>
                  <a:lnTo>
                    <a:pt x="842" y="750"/>
                  </a:lnTo>
                  <a:lnTo>
                    <a:pt x="846" y="734"/>
                  </a:lnTo>
                  <a:lnTo>
                    <a:pt x="848" y="716"/>
                  </a:lnTo>
                  <a:lnTo>
                    <a:pt x="850" y="696"/>
                  </a:lnTo>
                  <a:lnTo>
                    <a:pt x="848" y="676"/>
                  </a:lnTo>
                  <a:lnTo>
                    <a:pt x="846" y="656"/>
                  </a:lnTo>
                  <a:lnTo>
                    <a:pt x="842" y="634"/>
                  </a:lnTo>
                  <a:lnTo>
                    <a:pt x="832" y="592"/>
                  </a:lnTo>
                  <a:lnTo>
                    <a:pt x="818" y="554"/>
                  </a:lnTo>
                  <a:lnTo>
                    <a:pt x="800" y="518"/>
                  </a:lnTo>
                  <a:lnTo>
                    <a:pt x="792" y="504"/>
                  </a:lnTo>
                  <a:lnTo>
                    <a:pt x="782" y="490"/>
                  </a:lnTo>
                  <a:lnTo>
                    <a:pt x="772" y="478"/>
                  </a:lnTo>
                  <a:lnTo>
                    <a:pt x="764" y="470"/>
                  </a:lnTo>
                  <a:lnTo>
                    <a:pt x="764" y="470"/>
                  </a:lnTo>
                  <a:lnTo>
                    <a:pt x="774" y="464"/>
                  </a:lnTo>
                  <a:lnTo>
                    <a:pt x="788" y="462"/>
                  </a:lnTo>
                  <a:lnTo>
                    <a:pt x="800" y="460"/>
                  </a:lnTo>
                  <a:lnTo>
                    <a:pt x="814" y="460"/>
                  </a:lnTo>
                  <a:lnTo>
                    <a:pt x="844" y="460"/>
                  </a:lnTo>
                  <a:lnTo>
                    <a:pt x="858" y="458"/>
                  </a:lnTo>
                  <a:lnTo>
                    <a:pt x="872" y="454"/>
                  </a:lnTo>
                  <a:lnTo>
                    <a:pt x="872" y="454"/>
                  </a:lnTo>
                  <a:close/>
                  <a:moveTo>
                    <a:pt x="476" y="518"/>
                  </a:moveTo>
                  <a:lnTo>
                    <a:pt x="476" y="518"/>
                  </a:lnTo>
                  <a:lnTo>
                    <a:pt x="494" y="508"/>
                  </a:lnTo>
                  <a:lnTo>
                    <a:pt x="512" y="496"/>
                  </a:lnTo>
                  <a:lnTo>
                    <a:pt x="530" y="486"/>
                  </a:lnTo>
                  <a:lnTo>
                    <a:pt x="546" y="478"/>
                  </a:lnTo>
                  <a:lnTo>
                    <a:pt x="546" y="478"/>
                  </a:lnTo>
                  <a:lnTo>
                    <a:pt x="556" y="476"/>
                  </a:lnTo>
                  <a:lnTo>
                    <a:pt x="566" y="474"/>
                  </a:lnTo>
                  <a:lnTo>
                    <a:pt x="588" y="476"/>
                  </a:lnTo>
                  <a:lnTo>
                    <a:pt x="608" y="476"/>
                  </a:lnTo>
                  <a:lnTo>
                    <a:pt x="616" y="474"/>
                  </a:lnTo>
                  <a:lnTo>
                    <a:pt x="624" y="470"/>
                  </a:lnTo>
                  <a:lnTo>
                    <a:pt x="624" y="470"/>
                  </a:lnTo>
                  <a:lnTo>
                    <a:pt x="670" y="470"/>
                  </a:lnTo>
                  <a:lnTo>
                    <a:pt x="670" y="470"/>
                  </a:lnTo>
                  <a:lnTo>
                    <a:pt x="676" y="482"/>
                  </a:lnTo>
                  <a:lnTo>
                    <a:pt x="682" y="492"/>
                  </a:lnTo>
                  <a:lnTo>
                    <a:pt x="696" y="508"/>
                  </a:lnTo>
                  <a:lnTo>
                    <a:pt x="712" y="522"/>
                  </a:lnTo>
                  <a:lnTo>
                    <a:pt x="718" y="532"/>
                  </a:lnTo>
                  <a:lnTo>
                    <a:pt x="724" y="540"/>
                  </a:lnTo>
                  <a:lnTo>
                    <a:pt x="724" y="540"/>
                  </a:lnTo>
                  <a:lnTo>
                    <a:pt x="732" y="556"/>
                  </a:lnTo>
                  <a:lnTo>
                    <a:pt x="740" y="582"/>
                  </a:lnTo>
                  <a:lnTo>
                    <a:pt x="748" y="614"/>
                  </a:lnTo>
                  <a:lnTo>
                    <a:pt x="756" y="648"/>
                  </a:lnTo>
                  <a:lnTo>
                    <a:pt x="760" y="684"/>
                  </a:lnTo>
                  <a:lnTo>
                    <a:pt x="762" y="718"/>
                  </a:lnTo>
                  <a:lnTo>
                    <a:pt x="762" y="746"/>
                  </a:lnTo>
                  <a:lnTo>
                    <a:pt x="760" y="758"/>
                  </a:lnTo>
                  <a:lnTo>
                    <a:pt x="756" y="766"/>
                  </a:lnTo>
                  <a:lnTo>
                    <a:pt x="756" y="766"/>
                  </a:lnTo>
                  <a:lnTo>
                    <a:pt x="752" y="770"/>
                  </a:lnTo>
                  <a:lnTo>
                    <a:pt x="742" y="776"/>
                  </a:lnTo>
                  <a:lnTo>
                    <a:pt x="718" y="788"/>
                  </a:lnTo>
                  <a:lnTo>
                    <a:pt x="678" y="804"/>
                  </a:lnTo>
                  <a:lnTo>
                    <a:pt x="678" y="804"/>
                  </a:lnTo>
                  <a:lnTo>
                    <a:pt x="654" y="750"/>
                  </a:lnTo>
                  <a:lnTo>
                    <a:pt x="628" y="698"/>
                  </a:lnTo>
                  <a:lnTo>
                    <a:pt x="602" y="650"/>
                  </a:lnTo>
                  <a:lnTo>
                    <a:pt x="570" y="602"/>
                  </a:lnTo>
                  <a:lnTo>
                    <a:pt x="570" y="602"/>
                  </a:lnTo>
                  <a:lnTo>
                    <a:pt x="560" y="592"/>
                  </a:lnTo>
                  <a:lnTo>
                    <a:pt x="550" y="582"/>
                  </a:lnTo>
                  <a:lnTo>
                    <a:pt x="526" y="564"/>
                  </a:lnTo>
                  <a:lnTo>
                    <a:pt x="504" y="546"/>
                  </a:lnTo>
                  <a:lnTo>
                    <a:pt x="492" y="536"/>
                  </a:lnTo>
                  <a:lnTo>
                    <a:pt x="484" y="524"/>
                  </a:lnTo>
                  <a:lnTo>
                    <a:pt x="484" y="524"/>
                  </a:lnTo>
                  <a:lnTo>
                    <a:pt x="476" y="524"/>
                  </a:lnTo>
                  <a:lnTo>
                    <a:pt x="476" y="524"/>
                  </a:lnTo>
                  <a:lnTo>
                    <a:pt x="476" y="518"/>
                  </a:lnTo>
                  <a:lnTo>
                    <a:pt x="476" y="518"/>
                  </a:lnTo>
                  <a:close/>
                  <a:moveTo>
                    <a:pt x="414" y="580"/>
                  </a:moveTo>
                  <a:lnTo>
                    <a:pt x="414" y="580"/>
                  </a:lnTo>
                  <a:lnTo>
                    <a:pt x="434" y="588"/>
                  </a:lnTo>
                  <a:lnTo>
                    <a:pt x="454" y="600"/>
                  </a:lnTo>
                  <a:lnTo>
                    <a:pt x="470" y="614"/>
                  </a:lnTo>
                  <a:lnTo>
                    <a:pt x="484" y="628"/>
                  </a:lnTo>
                  <a:lnTo>
                    <a:pt x="498" y="646"/>
                  </a:lnTo>
                  <a:lnTo>
                    <a:pt x="510" y="664"/>
                  </a:lnTo>
                  <a:lnTo>
                    <a:pt x="530" y="702"/>
                  </a:lnTo>
                  <a:lnTo>
                    <a:pt x="568" y="786"/>
                  </a:lnTo>
                  <a:lnTo>
                    <a:pt x="578" y="806"/>
                  </a:lnTo>
                  <a:lnTo>
                    <a:pt x="590" y="824"/>
                  </a:lnTo>
                  <a:lnTo>
                    <a:pt x="602" y="842"/>
                  </a:lnTo>
                  <a:lnTo>
                    <a:pt x="616" y="860"/>
                  </a:lnTo>
                  <a:lnTo>
                    <a:pt x="616" y="860"/>
                  </a:lnTo>
                  <a:lnTo>
                    <a:pt x="608" y="878"/>
                  </a:lnTo>
                  <a:lnTo>
                    <a:pt x="600" y="898"/>
                  </a:lnTo>
                  <a:lnTo>
                    <a:pt x="578" y="938"/>
                  </a:lnTo>
                  <a:lnTo>
                    <a:pt x="556" y="976"/>
                  </a:lnTo>
                  <a:lnTo>
                    <a:pt x="538" y="1014"/>
                  </a:lnTo>
                  <a:lnTo>
                    <a:pt x="538" y="1014"/>
                  </a:lnTo>
                  <a:lnTo>
                    <a:pt x="532" y="1030"/>
                  </a:lnTo>
                  <a:lnTo>
                    <a:pt x="528" y="1046"/>
                  </a:lnTo>
                  <a:lnTo>
                    <a:pt x="522" y="1076"/>
                  </a:lnTo>
                  <a:lnTo>
                    <a:pt x="518" y="1092"/>
                  </a:lnTo>
                  <a:lnTo>
                    <a:pt x="514" y="1106"/>
                  </a:lnTo>
                  <a:lnTo>
                    <a:pt x="508" y="1118"/>
                  </a:lnTo>
                  <a:lnTo>
                    <a:pt x="500" y="1132"/>
                  </a:lnTo>
                  <a:lnTo>
                    <a:pt x="500" y="1132"/>
                  </a:lnTo>
                  <a:lnTo>
                    <a:pt x="488" y="1144"/>
                  </a:lnTo>
                  <a:lnTo>
                    <a:pt x="478" y="1156"/>
                  </a:lnTo>
                  <a:lnTo>
                    <a:pt x="452" y="1178"/>
                  </a:lnTo>
                  <a:lnTo>
                    <a:pt x="428" y="1200"/>
                  </a:lnTo>
                  <a:lnTo>
                    <a:pt x="416" y="1212"/>
                  </a:lnTo>
                  <a:lnTo>
                    <a:pt x="406" y="1224"/>
                  </a:lnTo>
                  <a:lnTo>
                    <a:pt x="406" y="1224"/>
                  </a:lnTo>
                  <a:lnTo>
                    <a:pt x="400" y="1212"/>
                  </a:lnTo>
                  <a:lnTo>
                    <a:pt x="398" y="1198"/>
                  </a:lnTo>
                  <a:lnTo>
                    <a:pt x="398" y="1180"/>
                  </a:lnTo>
                  <a:lnTo>
                    <a:pt x="398" y="1164"/>
                  </a:lnTo>
                  <a:lnTo>
                    <a:pt x="398" y="1128"/>
                  </a:lnTo>
                  <a:lnTo>
                    <a:pt x="394" y="1114"/>
                  </a:lnTo>
                  <a:lnTo>
                    <a:pt x="390" y="1100"/>
                  </a:lnTo>
                  <a:lnTo>
                    <a:pt x="390" y="1100"/>
                  </a:lnTo>
                  <a:lnTo>
                    <a:pt x="376" y="1078"/>
                  </a:lnTo>
                  <a:lnTo>
                    <a:pt x="358" y="1054"/>
                  </a:lnTo>
                  <a:lnTo>
                    <a:pt x="340" y="1028"/>
                  </a:lnTo>
                  <a:lnTo>
                    <a:pt x="334" y="1014"/>
                  </a:lnTo>
                  <a:lnTo>
                    <a:pt x="328" y="1000"/>
                  </a:lnTo>
                  <a:lnTo>
                    <a:pt x="328" y="1000"/>
                  </a:lnTo>
                  <a:lnTo>
                    <a:pt x="320" y="966"/>
                  </a:lnTo>
                  <a:lnTo>
                    <a:pt x="312" y="934"/>
                  </a:lnTo>
                  <a:lnTo>
                    <a:pt x="310" y="902"/>
                  </a:lnTo>
                  <a:lnTo>
                    <a:pt x="308" y="872"/>
                  </a:lnTo>
                  <a:lnTo>
                    <a:pt x="308" y="844"/>
                  </a:lnTo>
                  <a:lnTo>
                    <a:pt x="312" y="816"/>
                  </a:lnTo>
                  <a:lnTo>
                    <a:pt x="316" y="788"/>
                  </a:lnTo>
                  <a:lnTo>
                    <a:pt x="322" y="762"/>
                  </a:lnTo>
                  <a:lnTo>
                    <a:pt x="330" y="738"/>
                  </a:lnTo>
                  <a:lnTo>
                    <a:pt x="340" y="712"/>
                  </a:lnTo>
                  <a:lnTo>
                    <a:pt x="350" y="688"/>
                  </a:lnTo>
                  <a:lnTo>
                    <a:pt x="362" y="666"/>
                  </a:lnTo>
                  <a:lnTo>
                    <a:pt x="386" y="622"/>
                  </a:lnTo>
                  <a:lnTo>
                    <a:pt x="414" y="580"/>
                  </a:lnTo>
                  <a:lnTo>
                    <a:pt x="414" y="580"/>
                  </a:lnTo>
                  <a:close/>
                  <a:moveTo>
                    <a:pt x="2436" y="1846"/>
                  </a:moveTo>
                  <a:lnTo>
                    <a:pt x="2436" y="1846"/>
                  </a:lnTo>
                  <a:lnTo>
                    <a:pt x="2436" y="1892"/>
                  </a:lnTo>
                  <a:lnTo>
                    <a:pt x="2436" y="1926"/>
                  </a:lnTo>
                  <a:lnTo>
                    <a:pt x="2432" y="1956"/>
                  </a:lnTo>
                  <a:lnTo>
                    <a:pt x="2428" y="1982"/>
                  </a:lnTo>
                  <a:lnTo>
                    <a:pt x="2418" y="2004"/>
                  </a:lnTo>
                  <a:lnTo>
                    <a:pt x="2408" y="2026"/>
                  </a:lnTo>
                  <a:lnTo>
                    <a:pt x="2392" y="2052"/>
                  </a:lnTo>
                  <a:lnTo>
                    <a:pt x="2374" y="2080"/>
                  </a:lnTo>
                  <a:lnTo>
                    <a:pt x="2374" y="2080"/>
                  </a:lnTo>
                  <a:lnTo>
                    <a:pt x="2340" y="2088"/>
                  </a:lnTo>
                  <a:lnTo>
                    <a:pt x="2306" y="2096"/>
                  </a:lnTo>
                  <a:lnTo>
                    <a:pt x="2274" y="2100"/>
                  </a:lnTo>
                  <a:lnTo>
                    <a:pt x="2242" y="2100"/>
                  </a:lnTo>
                  <a:lnTo>
                    <a:pt x="2210" y="2098"/>
                  </a:lnTo>
                  <a:lnTo>
                    <a:pt x="2196" y="2094"/>
                  </a:lnTo>
                  <a:lnTo>
                    <a:pt x="2180" y="2090"/>
                  </a:lnTo>
                  <a:lnTo>
                    <a:pt x="2166" y="2084"/>
                  </a:lnTo>
                  <a:lnTo>
                    <a:pt x="2152" y="2076"/>
                  </a:lnTo>
                  <a:lnTo>
                    <a:pt x="2138" y="2068"/>
                  </a:lnTo>
                  <a:lnTo>
                    <a:pt x="2124" y="2056"/>
                  </a:lnTo>
                  <a:lnTo>
                    <a:pt x="2124" y="2056"/>
                  </a:lnTo>
                  <a:lnTo>
                    <a:pt x="2112" y="2060"/>
                  </a:lnTo>
                  <a:lnTo>
                    <a:pt x="2102" y="2066"/>
                  </a:lnTo>
                  <a:lnTo>
                    <a:pt x="2094" y="2072"/>
                  </a:lnTo>
                  <a:lnTo>
                    <a:pt x="2088" y="2080"/>
                  </a:lnTo>
                  <a:lnTo>
                    <a:pt x="2082" y="2090"/>
                  </a:lnTo>
                  <a:lnTo>
                    <a:pt x="2076" y="2100"/>
                  </a:lnTo>
                  <a:lnTo>
                    <a:pt x="2068" y="2120"/>
                  </a:lnTo>
                  <a:lnTo>
                    <a:pt x="2056" y="2168"/>
                  </a:lnTo>
                  <a:lnTo>
                    <a:pt x="2048" y="2192"/>
                  </a:lnTo>
                  <a:lnTo>
                    <a:pt x="2038" y="2212"/>
                  </a:lnTo>
                  <a:lnTo>
                    <a:pt x="2038" y="2212"/>
                  </a:lnTo>
                  <a:lnTo>
                    <a:pt x="2010" y="2258"/>
                  </a:lnTo>
                  <a:lnTo>
                    <a:pt x="1980" y="2306"/>
                  </a:lnTo>
                  <a:lnTo>
                    <a:pt x="1948" y="2352"/>
                  </a:lnTo>
                  <a:lnTo>
                    <a:pt x="1914" y="2398"/>
                  </a:lnTo>
                  <a:lnTo>
                    <a:pt x="1876" y="2440"/>
                  </a:lnTo>
                  <a:lnTo>
                    <a:pt x="1836" y="2480"/>
                  </a:lnTo>
                  <a:lnTo>
                    <a:pt x="1816" y="2500"/>
                  </a:lnTo>
                  <a:lnTo>
                    <a:pt x="1794" y="2516"/>
                  </a:lnTo>
                  <a:lnTo>
                    <a:pt x="1774" y="2532"/>
                  </a:lnTo>
                  <a:lnTo>
                    <a:pt x="1752" y="2546"/>
                  </a:lnTo>
                  <a:lnTo>
                    <a:pt x="1752" y="2546"/>
                  </a:lnTo>
                  <a:lnTo>
                    <a:pt x="1718" y="2566"/>
                  </a:lnTo>
                  <a:lnTo>
                    <a:pt x="1684" y="2582"/>
                  </a:lnTo>
                  <a:lnTo>
                    <a:pt x="1650" y="2598"/>
                  </a:lnTo>
                  <a:lnTo>
                    <a:pt x="1614" y="2612"/>
                  </a:lnTo>
                  <a:lnTo>
                    <a:pt x="1576" y="2624"/>
                  </a:lnTo>
                  <a:lnTo>
                    <a:pt x="1538" y="2634"/>
                  </a:lnTo>
                  <a:lnTo>
                    <a:pt x="1456" y="2656"/>
                  </a:lnTo>
                  <a:lnTo>
                    <a:pt x="1456" y="2656"/>
                  </a:lnTo>
                  <a:lnTo>
                    <a:pt x="1418" y="2662"/>
                  </a:lnTo>
                  <a:lnTo>
                    <a:pt x="1382" y="2664"/>
                  </a:lnTo>
                  <a:lnTo>
                    <a:pt x="1346" y="2664"/>
                  </a:lnTo>
                  <a:lnTo>
                    <a:pt x="1310" y="2662"/>
                  </a:lnTo>
                  <a:lnTo>
                    <a:pt x="1276" y="2658"/>
                  </a:lnTo>
                  <a:lnTo>
                    <a:pt x="1242" y="2652"/>
                  </a:lnTo>
                  <a:lnTo>
                    <a:pt x="1184" y="2640"/>
                  </a:lnTo>
                  <a:lnTo>
                    <a:pt x="1184" y="2640"/>
                  </a:lnTo>
                  <a:lnTo>
                    <a:pt x="1074" y="2632"/>
                  </a:lnTo>
                  <a:lnTo>
                    <a:pt x="1074" y="2632"/>
                  </a:lnTo>
                  <a:lnTo>
                    <a:pt x="916" y="2592"/>
                  </a:lnTo>
                  <a:lnTo>
                    <a:pt x="838" y="2572"/>
                  </a:lnTo>
                  <a:lnTo>
                    <a:pt x="760" y="2548"/>
                  </a:lnTo>
                  <a:lnTo>
                    <a:pt x="722" y="2534"/>
                  </a:lnTo>
                  <a:lnTo>
                    <a:pt x="684" y="2520"/>
                  </a:lnTo>
                  <a:lnTo>
                    <a:pt x="650" y="2506"/>
                  </a:lnTo>
                  <a:lnTo>
                    <a:pt x="616" y="2488"/>
                  </a:lnTo>
                  <a:lnTo>
                    <a:pt x="584" y="2470"/>
                  </a:lnTo>
                  <a:lnTo>
                    <a:pt x="554" y="2452"/>
                  </a:lnTo>
                  <a:lnTo>
                    <a:pt x="524" y="2430"/>
                  </a:lnTo>
                  <a:lnTo>
                    <a:pt x="500" y="2406"/>
                  </a:lnTo>
                  <a:lnTo>
                    <a:pt x="500" y="2406"/>
                  </a:lnTo>
                  <a:lnTo>
                    <a:pt x="470" y="2374"/>
                  </a:lnTo>
                  <a:lnTo>
                    <a:pt x="442" y="2340"/>
                  </a:lnTo>
                  <a:lnTo>
                    <a:pt x="416" y="2302"/>
                  </a:lnTo>
                  <a:lnTo>
                    <a:pt x="392" y="2264"/>
                  </a:lnTo>
                  <a:lnTo>
                    <a:pt x="372" y="2224"/>
                  </a:lnTo>
                  <a:lnTo>
                    <a:pt x="350" y="2182"/>
                  </a:lnTo>
                  <a:lnTo>
                    <a:pt x="312" y="2096"/>
                  </a:lnTo>
                  <a:lnTo>
                    <a:pt x="312" y="2096"/>
                  </a:lnTo>
                  <a:lnTo>
                    <a:pt x="302" y="2064"/>
                  </a:lnTo>
                  <a:lnTo>
                    <a:pt x="290" y="2022"/>
                  </a:lnTo>
                  <a:lnTo>
                    <a:pt x="280" y="1974"/>
                  </a:lnTo>
                  <a:lnTo>
                    <a:pt x="272" y="1922"/>
                  </a:lnTo>
                  <a:lnTo>
                    <a:pt x="264" y="1870"/>
                  </a:lnTo>
                  <a:lnTo>
                    <a:pt x="262" y="1820"/>
                  </a:lnTo>
                  <a:lnTo>
                    <a:pt x="262" y="1774"/>
                  </a:lnTo>
                  <a:lnTo>
                    <a:pt x="264" y="1756"/>
                  </a:lnTo>
                  <a:lnTo>
                    <a:pt x="266" y="1738"/>
                  </a:lnTo>
                  <a:lnTo>
                    <a:pt x="266" y="1738"/>
                  </a:lnTo>
                  <a:lnTo>
                    <a:pt x="276" y="1690"/>
                  </a:lnTo>
                  <a:lnTo>
                    <a:pt x="288" y="1628"/>
                  </a:lnTo>
                  <a:lnTo>
                    <a:pt x="292" y="1596"/>
                  </a:lnTo>
                  <a:lnTo>
                    <a:pt x="294" y="1568"/>
                  </a:lnTo>
                  <a:lnTo>
                    <a:pt x="294" y="1544"/>
                  </a:lnTo>
                  <a:lnTo>
                    <a:pt x="292" y="1536"/>
                  </a:lnTo>
                  <a:lnTo>
                    <a:pt x="290" y="1528"/>
                  </a:lnTo>
                  <a:lnTo>
                    <a:pt x="290" y="1528"/>
                  </a:lnTo>
                  <a:lnTo>
                    <a:pt x="286" y="1500"/>
                  </a:lnTo>
                  <a:lnTo>
                    <a:pt x="282" y="1490"/>
                  </a:lnTo>
                  <a:lnTo>
                    <a:pt x="278" y="1486"/>
                  </a:lnTo>
                  <a:lnTo>
                    <a:pt x="274" y="1482"/>
                  </a:lnTo>
                  <a:lnTo>
                    <a:pt x="274" y="1482"/>
                  </a:lnTo>
                  <a:lnTo>
                    <a:pt x="180" y="1466"/>
                  </a:lnTo>
                  <a:lnTo>
                    <a:pt x="180" y="1466"/>
                  </a:lnTo>
                  <a:lnTo>
                    <a:pt x="164" y="1456"/>
                  </a:lnTo>
                  <a:lnTo>
                    <a:pt x="144" y="1438"/>
                  </a:lnTo>
                  <a:lnTo>
                    <a:pt x="124" y="1416"/>
                  </a:lnTo>
                  <a:lnTo>
                    <a:pt x="106" y="1392"/>
                  </a:lnTo>
                  <a:lnTo>
                    <a:pt x="92" y="1364"/>
                  </a:lnTo>
                  <a:lnTo>
                    <a:pt x="86" y="1350"/>
                  </a:lnTo>
                  <a:lnTo>
                    <a:pt x="82" y="1338"/>
                  </a:lnTo>
                  <a:lnTo>
                    <a:pt x="80" y="1324"/>
                  </a:lnTo>
                  <a:lnTo>
                    <a:pt x="80" y="1310"/>
                  </a:lnTo>
                  <a:lnTo>
                    <a:pt x="82" y="1298"/>
                  </a:lnTo>
                  <a:lnTo>
                    <a:pt x="86" y="1286"/>
                  </a:lnTo>
                  <a:lnTo>
                    <a:pt x="86" y="1286"/>
                  </a:lnTo>
                  <a:lnTo>
                    <a:pt x="88" y="1272"/>
                  </a:lnTo>
                  <a:lnTo>
                    <a:pt x="90" y="1256"/>
                  </a:lnTo>
                  <a:lnTo>
                    <a:pt x="94" y="1242"/>
                  </a:lnTo>
                  <a:lnTo>
                    <a:pt x="98" y="1228"/>
                  </a:lnTo>
                  <a:lnTo>
                    <a:pt x="110" y="1202"/>
                  </a:lnTo>
                  <a:lnTo>
                    <a:pt x="126" y="1178"/>
                  </a:lnTo>
                  <a:lnTo>
                    <a:pt x="144" y="1156"/>
                  </a:lnTo>
                  <a:lnTo>
                    <a:pt x="166" y="1138"/>
                  </a:lnTo>
                  <a:lnTo>
                    <a:pt x="188" y="1126"/>
                  </a:lnTo>
                  <a:lnTo>
                    <a:pt x="212" y="1116"/>
                  </a:lnTo>
                  <a:lnTo>
                    <a:pt x="212" y="1116"/>
                  </a:lnTo>
                  <a:lnTo>
                    <a:pt x="222" y="1112"/>
                  </a:lnTo>
                  <a:lnTo>
                    <a:pt x="234" y="1110"/>
                  </a:lnTo>
                  <a:lnTo>
                    <a:pt x="248" y="1112"/>
                  </a:lnTo>
                  <a:lnTo>
                    <a:pt x="262" y="1116"/>
                  </a:lnTo>
                  <a:lnTo>
                    <a:pt x="292" y="1124"/>
                  </a:lnTo>
                  <a:lnTo>
                    <a:pt x="310" y="1128"/>
                  </a:lnTo>
                  <a:lnTo>
                    <a:pt x="328" y="1132"/>
                  </a:lnTo>
                  <a:lnTo>
                    <a:pt x="328" y="1132"/>
                  </a:lnTo>
                  <a:lnTo>
                    <a:pt x="328" y="1140"/>
                  </a:lnTo>
                  <a:lnTo>
                    <a:pt x="328" y="1140"/>
                  </a:lnTo>
                  <a:lnTo>
                    <a:pt x="336" y="1140"/>
                  </a:lnTo>
                  <a:lnTo>
                    <a:pt x="336" y="1140"/>
                  </a:lnTo>
                  <a:lnTo>
                    <a:pt x="332" y="1164"/>
                  </a:lnTo>
                  <a:lnTo>
                    <a:pt x="328" y="1188"/>
                  </a:lnTo>
                  <a:lnTo>
                    <a:pt x="328" y="1210"/>
                  </a:lnTo>
                  <a:lnTo>
                    <a:pt x="328" y="1232"/>
                  </a:lnTo>
                  <a:lnTo>
                    <a:pt x="330" y="1254"/>
                  </a:lnTo>
                  <a:lnTo>
                    <a:pt x="334" y="1274"/>
                  </a:lnTo>
                  <a:lnTo>
                    <a:pt x="344" y="1318"/>
                  </a:lnTo>
                  <a:lnTo>
                    <a:pt x="344" y="1318"/>
                  </a:lnTo>
                  <a:lnTo>
                    <a:pt x="362" y="1320"/>
                  </a:lnTo>
                  <a:lnTo>
                    <a:pt x="368" y="1322"/>
                  </a:lnTo>
                  <a:lnTo>
                    <a:pt x="374" y="1326"/>
                  </a:lnTo>
                  <a:lnTo>
                    <a:pt x="374" y="1326"/>
                  </a:lnTo>
                  <a:lnTo>
                    <a:pt x="402" y="1322"/>
                  </a:lnTo>
                  <a:lnTo>
                    <a:pt x="426" y="1314"/>
                  </a:lnTo>
                  <a:lnTo>
                    <a:pt x="450" y="1302"/>
                  </a:lnTo>
                  <a:lnTo>
                    <a:pt x="472" y="1288"/>
                  </a:lnTo>
                  <a:lnTo>
                    <a:pt x="494" y="1272"/>
                  </a:lnTo>
                  <a:lnTo>
                    <a:pt x="514" y="1252"/>
                  </a:lnTo>
                  <a:lnTo>
                    <a:pt x="532" y="1232"/>
                  </a:lnTo>
                  <a:lnTo>
                    <a:pt x="548" y="1210"/>
                  </a:lnTo>
                  <a:lnTo>
                    <a:pt x="564" y="1186"/>
                  </a:lnTo>
                  <a:lnTo>
                    <a:pt x="580" y="1162"/>
                  </a:lnTo>
                  <a:lnTo>
                    <a:pt x="606" y="1112"/>
                  </a:lnTo>
                  <a:lnTo>
                    <a:pt x="628" y="1062"/>
                  </a:lnTo>
                  <a:lnTo>
                    <a:pt x="646" y="1014"/>
                  </a:lnTo>
                  <a:lnTo>
                    <a:pt x="646" y="1014"/>
                  </a:lnTo>
                  <a:lnTo>
                    <a:pt x="654" y="960"/>
                  </a:lnTo>
                  <a:lnTo>
                    <a:pt x="654" y="960"/>
                  </a:lnTo>
                  <a:lnTo>
                    <a:pt x="664" y="946"/>
                  </a:lnTo>
                  <a:lnTo>
                    <a:pt x="676" y="930"/>
                  </a:lnTo>
                  <a:lnTo>
                    <a:pt x="690" y="914"/>
                  </a:lnTo>
                  <a:lnTo>
                    <a:pt x="706" y="898"/>
                  </a:lnTo>
                  <a:lnTo>
                    <a:pt x="724" y="884"/>
                  </a:lnTo>
                  <a:lnTo>
                    <a:pt x="740" y="870"/>
                  </a:lnTo>
                  <a:lnTo>
                    <a:pt x="756" y="860"/>
                  </a:lnTo>
                  <a:lnTo>
                    <a:pt x="772" y="852"/>
                  </a:lnTo>
                  <a:lnTo>
                    <a:pt x="772" y="852"/>
                  </a:lnTo>
                  <a:lnTo>
                    <a:pt x="780" y="848"/>
                  </a:lnTo>
                  <a:lnTo>
                    <a:pt x="788" y="846"/>
                  </a:lnTo>
                  <a:lnTo>
                    <a:pt x="808" y="844"/>
                  </a:lnTo>
                  <a:lnTo>
                    <a:pt x="826" y="842"/>
                  </a:lnTo>
                  <a:lnTo>
                    <a:pt x="834" y="840"/>
                  </a:lnTo>
                  <a:lnTo>
                    <a:pt x="842" y="836"/>
                  </a:lnTo>
                  <a:lnTo>
                    <a:pt x="842" y="836"/>
                  </a:lnTo>
                  <a:lnTo>
                    <a:pt x="930" y="838"/>
                  </a:lnTo>
                  <a:lnTo>
                    <a:pt x="968" y="840"/>
                  </a:lnTo>
                  <a:lnTo>
                    <a:pt x="1006" y="842"/>
                  </a:lnTo>
                  <a:lnTo>
                    <a:pt x="1040" y="846"/>
                  </a:lnTo>
                  <a:lnTo>
                    <a:pt x="1074" y="852"/>
                  </a:lnTo>
                  <a:lnTo>
                    <a:pt x="1104" y="858"/>
                  </a:lnTo>
                  <a:lnTo>
                    <a:pt x="1132" y="866"/>
                  </a:lnTo>
                  <a:lnTo>
                    <a:pt x="1160" y="876"/>
                  </a:lnTo>
                  <a:lnTo>
                    <a:pt x="1186" y="888"/>
                  </a:lnTo>
                  <a:lnTo>
                    <a:pt x="1210" y="902"/>
                  </a:lnTo>
                  <a:lnTo>
                    <a:pt x="1232" y="918"/>
                  </a:lnTo>
                  <a:lnTo>
                    <a:pt x="1254" y="936"/>
                  </a:lnTo>
                  <a:lnTo>
                    <a:pt x="1276" y="958"/>
                  </a:lnTo>
                  <a:lnTo>
                    <a:pt x="1296" y="980"/>
                  </a:lnTo>
                  <a:lnTo>
                    <a:pt x="1316" y="1006"/>
                  </a:lnTo>
                  <a:lnTo>
                    <a:pt x="1316" y="1006"/>
                  </a:lnTo>
                  <a:lnTo>
                    <a:pt x="1334" y="1036"/>
                  </a:lnTo>
                  <a:lnTo>
                    <a:pt x="1350" y="1066"/>
                  </a:lnTo>
                  <a:lnTo>
                    <a:pt x="1384" y="1130"/>
                  </a:lnTo>
                  <a:lnTo>
                    <a:pt x="1402" y="1160"/>
                  </a:lnTo>
                  <a:lnTo>
                    <a:pt x="1422" y="1188"/>
                  </a:lnTo>
                  <a:lnTo>
                    <a:pt x="1432" y="1200"/>
                  </a:lnTo>
                  <a:lnTo>
                    <a:pt x="1444" y="1212"/>
                  </a:lnTo>
                  <a:lnTo>
                    <a:pt x="1458" y="1224"/>
                  </a:lnTo>
                  <a:lnTo>
                    <a:pt x="1472" y="1232"/>
                  </a:lnTo>
                  <a:lnTo>
                    <a:pt x="1472" y="1232"/>
                  </a:lnTo>
                  <a:lnTo>
                    <a:pt x="1500" y="1248"/>
                  </a:lnTo>
                  <a:lnTo>
                    <a:pt x="1528" y="1258"/>
                  </a:lnTo>
                  <a:lnTo>
                    <a:pt x="1558" y="1266"/>
                  </a:lnTo>
                  <a:lnTo>
                    <a:pt x="1588" y="1270"/>
                  </a:lnTo>
                  <a:lnTo>
                    <a:pt x="1618" y="1272"/>
                  </a:lnTo>
                  <a:lnTo>
                    <a:pt x="1648" y="1272"/>
                  </a:lnTo>
                  <a:lnTo>
                    <a:pt x="1678" y="1270"/>
                  </a:lnTo>
                  <a:lnTo>
                    <a:pt x="1708" y="1266"/>
                  </a:lnTo>
                  <a:lnTo>
                    <a:pt x="1770" y="1256"/>
                  </a:lnTo>
                  <a:lnTo>
                    <a:pt x="1832" y="1246"/>
                  </a:lnTo>
                  <a:lnTo>
                    <a:pt x="1896" y="1236"/>
                  </a:lnTo>
                  <a:lnTo>
                    <a:pt x="1928" y="1234"/>
                  </a:lnTo>
                  <a:lnTo>
                    <a:pt x="1962" y="1232"/>
                  </a:lnTo>
                  <a:lnTo>
                    <a:pt x="1962" y="1232"/>
                  </a:lnTo>
                  <a:lnTo>
                    <a:pt x="1996" y="1266"/>
                  </a:lnTo>
                  <a:lnTo>
                    <a:pt x="2026" y="1296"/>
                  </a:lnTo>
                  <a:lnTo>
                    <a:pt x="2040" y="1310"/>
                  </a:lnTo>
                  <a:lnTo>
                    <a:pt x="2054" y="1324"/>
                  </a:lnTo>
                  <a:lnTo>
                    <a:pt x="2064" y="1340"/>
                  </a:lnTo>
                  <a:lnTo>
                    <a:pt x="2072" y="1356"/>
                  </a:lnTo>
                  <a:lnTo>
                    <a:pt x="2080" y="1372"/>
                  </a:lnTo>
                  <a:lnTo>
                    <a:pt x="2086" y="1390"/>
                  </a:lnTo>
                  <a:lnTo>
                    <a:pt x="2088" y="1410"/>
                  </a:lnTo>
                  <a:lnTo>
                    <a:pt x="2088" y="1430"/>
                  </a:lnTo>
                  <a:lnTo>
                    <a:pt x="2086" y="1452"/>
                  </a:lnTo>
                  <a:lnTo>
                    <a:pt x="2082" y="1478"/>
                  </a:lnTo>
                  <a:lnTo>
                    <a:pt x="2074" y="1506"/>
                  </a:lnTo>
                  <a:lnTo>
                    <a:pt x="2062" y="1536"/>
                  </a:lnTo>
                  <a:lnTo>
                    <a:pt x="2062" y="1536"/>
                  </a:lnTo>
                  <a:lnTo>
                    <a:pt x="2058" y="1550"/>
                  </a:lnTo>
                  <a:lnTo>
                    <a:pt x="2054" y="1564"/>
                  </a:lnTo>
                  <a:lnTo>
                    <a:pt x="2048" y="1592"/>
                  </a:lnTo>
                  <a:lnTo>
                    <a:pt x="2042" y="1620"/>
                  </a:lnTo>
                  <a:lnTo>
                    <a:pt x="2038" y="1632"/>
                  </a:lnTo>
                  <a:lnTo>
                    <a:pt x="2030" y="1644"/>
                  </a:lnTo>
                  <a:lnTo>
                    <a:pt x="2030" y="1644"/>
                  </a:lnTo>
                  <a:lnTo>
                    <a:pt x="2032" y="1668"/>
                  </a:lnTo>
                  <a:lnTo>
                    <a:pt x="2034" y="1688"/>
                  </a:lnTo>
                  <a:lnTo>
                    <a:pt x="2038" y="1706"/>
                  </a:lnTo>
                  <a:lnTo>
                    <a:pt x="2044" y="1722"/>
                  </a:lnTo>
                  <a:lnTo>
                    <a:pt x="2050" y="1738"/>
                  </a:lnTo>
                  <a:lnTo>
                    <a:pt x="2060" y="1752"/>
                  </a:lnTo>
                  <a:lnTo>
                    <a:pt x="2070" y="1764"/>
                  </a:lnTo>
                  <a:lnTo>
                    <a:pt x="2080" y="1774"/>
                  </a:lnTo>
                  <a:lnTo>
                    <a:pt x="2092" y="1784"/>
                  </a:lnTo>
                  <a:lnTo>
                    <a:pt x="2106" y="1792"/>
                  </a:lnTo>
                  <a:lnTo>
                    <a:pt x="2134" y="1806"/>
                  </a:lnTo>
                  <a:lnTo>
                    <a:pt x="2166" y="1820"/>
                  </a:lnTo>
                  <a:lnTo>
                    <a:pt x="2202" y="1832"/>
                  </a:lnTo>
                  <a:lnTo>
                    <a:pt x="2202" y="1832"/>
                  </a:lnTo>
                  <a:lnTo>
                    <a:pt x="2182" y="1872"/>
                  </a:lnTo>
                  <a:lnTo>
                    <a:pt x="2170" y="1892"/>
                  </a:lnTo>
                  <a:lnTo>
                    <a:pt x="2164" y="1902"/>
                  </a:lnTo>
                  <a:lnTo>
                    <a:pt x="2156" y="1908"/>
                  </a:lnTo>
                  <a:lnTo>
                    <a:pt x="2156" y="1908"/>
                  </a:lnTo>
                  <a:lnTo>
                    <a:pt x="2158" y="1936"/>
                  </a:lnTo>
                  <a:lnTo>
                    <a:pt x="2160" y="1944"/>
                  </a:lnTo>
                  <a:lnTo>
                    <a:pt x="2162" y="1950"/>
                  </a:lnTo>
                  <a:lnTo>
                    <a:pt x="2170" y="1962"/>
                  </a:lnTo>
                  <a:lnTo>
                    <a:pt x="2178" y="1978"/>
                  </a:lnTo>
                  <a:lnTo>
                    <a:pt x="2178" y="1978"/>
                  </a:lnTo>
                  <a:lnTo>
                    <a:pt x="2194" y="1974"/>
                  </a:lnTo>
                  <a:lnTo>
                    <a:pt x="2208" y="1968"/>
                  </a:lnTo>
                  <a:lnTo>
                    <a:pt x="2220" y="1962"/>
                  </a:lnTo>
                  <a:lnTo>
                    <a:pt x="2230" y="1956"/>
                  </a:lnTo>
                  <a:lnTo>
                    <a:pt x="2250" y="1940"/>
                  </a:lnTo>
                  <a:lnTo>
                    <a:pt x="2272" y="1924"/>
                  </a:lnTo>
                  <a:lnTo>
                    <a:pt x="2272" y="1924"/>
                  </a:lnTo>
                  <a:lnTo>
                    <a:pt x="2278" y="1900"/>
                  </a:lnTo>
                  <a:lnTo>
                    <a:pt x="2282" y="1888"/>
                  </a:lnTo>
                  <a:lnTo>
                    <a:pt x="2288" y="1878"/>
                  </a:lnTo>
                  <a:lnTo>
                    <a:pt x="2288" y="1878"/>
                  </a:lnTo>
                  <a:lnTo>
                    <a:pt x="2280" y="1860"/>
                  </a:lnTo>
                  <a:lnTo>
                    <a:pt x="2276" y="1852"/>
                  </a:lnTo>
                  <a:lnTo>
                    <a:pt x="2272" y="1846"/>
                  </a:lnTo>
                  <a:lnTo>
                    <a:pt x="2266" y="1842"/>
                  </a:lnTo>
                  <a:lnTo>
                    <a:pt x="2260" y="1838"/>
                  </a:lnTo>
                  <a:lnTo>
                    <a:pt x="2240" y="1832"/>
                  </a:lnTo>
                  <a:lnTo>
                    <a:pt x="2240" y="1832"/>
                  </a:lnTo>
                  <a:lnTo>
                    <a:pt x="2244" y="1810"/>
                  </a:lnTo>
                  <a:lnTo>
                    <a:pt x="2246" y="1792"/>
                  </a:lnTo>
                  <a:lnTo>
                    <a:pt x="2246" y="1784"/>
                  </a:lnTo>
                  <a:lnTo>
                    <a:pt x="2244" y="1776"/>
                  </a:lnTo>
                  <a:lnTo>
                    <a:pt x="2240" y="1770"/>
                  </a:lnTo>
                  <a:lnTo>
                    <a:pt x="2234" y="1762"/>
                  </a:lnTo>
                  <a:lnTo>
                    <a:pt x="2234" y="1762"/>
                  </a:lnTo>
                  <a:lnTo>
                    <a:pt x="2234" y="1754"/>
                  </a:lnTo>
                  <a:lnTo>
                    <a:pt x="2234" y="1754"/>
                  </a:lnTo>
                  <a:lnTo>
                    <a:pt x="2272" y="1754"/>
                  </a:lnTo>
                  <a:lnTo>
                    <a:pt x="2314" y="1756"/>
                  </a:lnTo>
                  <a:lnTo>
                    <a:pt x="2334" y="1760"/>
                  </a:lnTo>
                  <a:lnTo>
                    <a:pt x="2352" y="1764"/>
                  </a:lnTo>
                  <a:lnTo>
                    <a:pt x="2368" y="1770"/>
                  </a:lnTo>
                  <a:lnTo>
                    <a:pt x="2380" y="1776"/>
                  </a:lnTo>
                  <a:lnTo>
                    <a:pt x="2380" y="1776"/>
                  </a:lnTo>
                  <a:lnTo>
                    <a:pt x="2390" y="1784"/>
                  </a:lnTo>
                  <a:lnTo>
                    <a:pt x="2398" y="1792"/>
                  </a:lnTo>
                  <a:lnTo>
                    <a:pt x="2410" y="1812"/>
                  </a:lnTo>
                  <a:lnTo>
                    <a:pt x="2420" y="1830"/>
                  </a:lnTo>
                  <a:lnTo>
                    <a:pt x="2428" y="1838"/>
                  </a:lnTo>
                  <a:lnTo>
                    <a:pt x="2436" y="1846"/>
                  </a:lnTo>
                  <a:lnTo>
                    <a:pt x="2436" y="1846"/>
                  </a:lnTo>
                  <a:close/>
                  <a:moveTo>
                    <a:pt x="2148" y="1706"/>
                  </a:moveTo>
                  <a:lnTo>
                    <a:pt x="2148" y="1706"/>
                  </a:lnTo>
                  <a:lnTo>
                    <a:pt x="2140" y="1706"/>
                  </a:lnTo>
                  <a:lnTo>
                    <a:pt x="2140" y="1706"/>
                  </a:lnTo>
                  <a:lnTo>
                    <a:pt x="2136" y="1702"/>
                  </a:lnTo>
                  <a:lnTo>
                    <a:pt x="2132" y="1698"/>
                  </a:lnTo>
                  <a:lnTo>
                    <a:pt x="2132" y="1698"/>
                  </a:lnTo>
                  <a:lnTo>
                    <a:pt x="2136" y="1662"/>
                  </a:lnTo>
                  <a:lnTo>
                    <a:pt x="2142" y="1630"/>
                  </a:lnTo>
                  <a:lnTo>
                    <a:pt x="2152" y="1600"/>
                  </a:lnTo>
                  <a:lnTo>
                    <a:pt x="2162" y="1572"/>
                  </a:lnTo>
                  <a:lnTo>
                    <a:pt x="2174" y="1544"/>
                  </a:lnTo>
                  <a:lnTo>
                    <a:pt x="2182" y="1516"/>
                  </a:lnTo>
                  <a:lnTo>
                    <a:pt x="2190" y="1486"/>
                  </a:lnTo>
                  <a:lnTo>
                    <a:pt x="2194" y="1450"/>
                  </a:lnTo>
                  <a:lnTo>
                    <a:pt x="2194" y="1450"/>
                  </a:lnTo>
                  <a:lnTo>
                    <a:pt x="2206" y="1448"/>
                  </a:lnTo>
                  <a:lnTo>
                    <a:pt x="2220" y="1444"/>
                  </a:lnTo>
                  <a:lnTo>
                    <a:pt x="2250" y="1440"/>
                  </a:lnTo>
                  <a:lnTo>
                    <a:pt x="2280" y="1436"/>
                  </a:lnTo>
                  <a:lnTo>
                    <a:pt x="2292" y="1432"/>
                  </a:lnTo>
                  <a:lnTo>
                    <a:pt x="2304" y="1426"/>
                  </a:lnTo>
                  <a:lnTo>
                    <a:pt x="2304" y="1426"/>
                  </a:lnTo>
                  <a:lnTo>
                    <a:pt x="2326" y="1430"/>
                  </a:lnTo>
                  <a:lnTo>
                    <a:pt x="2346" y="1434"/>
                  </a:lnTo>
                  <a:lnTo>
                    <a:pt x="2362" y="1440"/>
                  </a:lnTo>
                  <a:lnTo>
                    <a:pt x="2378" y="1446"/>
                  </a:lnTo>
                  <a:lnTo>
                    <a:pt x="2408" y="1460"/>
                  </a:lnTo>
                  <a:lnTo>
                    <a:pt x="2426" y="1468"/>
                  </a:lnTo>
                  <a:lnTo>
                    <a:pt x="2444" y="1474"/>
                  </a:lnTo>
                  <a:lnTo>
                    <a:pt x="2444" y="1474"/>
                  </a:lnTo>
                  <a:lnTo>
                    <a:pt x="2438" y="1486"/>
                  </a:lnTo>
                  <a:lnTo>
                    <a:pt x="2432" y="1498"/>
                  </a:lnTo>
                  <a:lnTo>
                    <a:pt x="2418" y="1518"/>
                  </a:lnTo>
                  <a:lnTo>
                    <a:pt x="2402" y="1536"/>
                  </a:lnTo>
                  <a:lnTo>
                    <a:pt x="2382" y="1552"/>
                  </a:lnTo>
                  <a:lnTo>
                    <a:pt x="2360" y="1566"/>
                  </a:lnTo>
                  <a:lnTo>
                    <a:pt x="2336" y="1578"/>
                  </a:lnTo>
                  <a:lnTo>
                    <a:pt x="2288" y="1598"/>
                  </a:lnTo>
                  <a:lnTo>
                    <a:pt x="2240" y="1620"/>
                  </a:lnTo>
                  <a:lnTo>
                    <a:pt x="2218" y="1630"/>
                  </a:lnTo>
                  <a:lnTo>
                    <a:pt x="2198" y="1642"/>
                  </a:lnTo>
                  <a:lnTo>
                    <a:pt x="2180" y="1656"/>
                  </a:lnTo>
                  <a:lnTo>
                    <a:pt x="2166" y="1670"/>
                  </a:lnTo>
                  <a:lnTo>
                    <a:pt x="2154" y="1688"/>
                  </a:lnTo>
                  <a:lnTo>
                    <a:pt x="2150" y="1696"/>
                  </a:lnTo>
                  <a:lnTo>
                    <a:pt x="2148" y="1706"/>
                  </a:lnTo>
                  <a:lnTo>
                    <a:pt x="2148" y="17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76"/>
            <p:cNvSpPr/>
            <p:nvPr/>
          </p:nvSpPr>
          <p:spPr>
            <a:xfrm>
              <a:off x="27062280" y="1225440"/>
              <a:ext cx="2825640" cy="1787400"/>
            </a:xfrm>
            <a:custGeom>
              <a:avLst/>
              <a:gdLst>
                <a:gd name="textAreaLeft" fmla="*/ 0 w 2825640"/>
                <a:gd name="textAreaRight" fmla="*/ 2826000 w 2825640"/>
                <a:gd name="textAreaTop" fmla="*/ 0 h 1787400"/>
                <a:gd name="textAreaBottom" fmla="*/ 1787760 h 1787400"/>
              </a:gdLst>
              <a:ahLst/>
              <a:rect l="textAreaLeft" t="textAreaTop" r="textAreaRight" b="textAreaBottom"/>
              <a:pathLst>
                <a:path w="1780" h="1126">
                  <a:moveTo>
                    <a:pt x="78" y="652"/>
                  </a:moveTo>
                  <a:lnTo>
                    <a:pt x="78" y="652"/>
                  </a:lnTo>
                  <a:lnTo>
                    <a:pt x="202" y="652"/>
                  </a:lnTo>
                  <a:lnTo>
                    <a:pt x="202" y="652"/>
                  </a:lnTo>
                  <a:lnTo>
                    <a:pt x="216" y="658"/>
                  </a:lnTo>
                  <a:lnTo>
                    <a:pt x="230" y="662"/>
                  </a:lnTo>
                  <a:lnTo>
                    <a:pt x="246" y="664"/>
                  </a:lnTo>
                  <a:lnTo>
                    <a:pt x="264" y="664"/>
                  </a:lnTo>
                  <a:lnTo>
                    <a:pt x="298" y="664"/>
                  </a:lnTo>
                  <a:lnTo>
                    <a:pt x="316" y="664"/>
                  </a:lnTo>
                  <a:lnTo>
                    <a:pt x="334" y="668"/>
                  </a:lnTo>
                  <a:lnTo>
                    <a:pt x="334" y="668"/>
                  </a:lnTo>
                  <a:lnTo>
                    <a:pt x="386" y="682"/>
                  </a:lnTo>
                  <a:lnTo>
                    <a:pt x="438" y="700"/>
                  </a:lnTo>
                  <a:lnTo>
                    <a:pt x="462" y="710"/>
                  </a:lnTo>
                  <a:lnTo>
                    <a:pt x="486" y="720"/>
                  </a:lnTo>
                  <a:lnTo>
                    <a:pt x="508" y="732"/>
                  </a:lnTo>
                  <a:lnTo>
                    <a:pt x="528" y="746"/>
                  </a:lnTo>
                  <a:lnTo>
                    <a:pt x="528" y="746"/>
                  </a:lnTo>
                  <a:lnTo>
                    <a:pt x="546" y="762"/>
                  </a:lnTo>
                  <a:lnTo>
                    <a:pt x="564" y="780"/>
                  </a:lnTo>
                  <a:lnTo>
                    <a:pt x="582" y="800"/>
                  </a:lnTo>
                  <a:lnTo>
                    <a:pt x="598" y="822"/>
                  </a:lnTo>
                  <a:lnTo>
                    <a:pt x="628" y="872"/>
                  </a:lnTo>
                  <a:lnTo>
                    <a:pt x="658" y="924"/>
                  </a:lnTo>
                  <a:lnTo>
                    <a:pt x="690" y="974"/>
                  </a:lnTo>
                  <a:lnTo>
                    <a:pt x="706" y="996"/>
                  </a:lnTo>
                  <a:lnTo>
                    <a:pt x="722" y="1018"/>
                  </a:lnTo>
                  <a:lnTo>
                    <a:pt x="738" y="1038"/>
                  </a:lnTo>
                  <a:lnTo>
                    <a:pt x="756" y="1056"/>
                  </a:lnTo>
                  <a:lnTo>
                    <a:pt x="774" y="1070"/>
                  </a:lnTo>
                  <a:lnTo>
                    <a:pt x="792" y="1080"/>
                  </a:lnTo>
                  <a:lnTo>
                    <a:pt x="792" y="1080"/>
                  </a:lnTo>
                  <a:lnTo>
                    <a:pt x="818" y="1088"/>
                  </a:lnTo>
                  <a:lnTo>
                    <a:pt x="842" y="1094"/>
                  </a:lnTo>
                  <a:lnTo>
                    <a:pt x="868" y="1094"/>
                  </a:lnTo>
                  <a:lnTo>
                    <a:pt x="892" y="1094"/>
                  </a:lnTo>
                  <a:lnTo>
                    <a:pt x="918" y="1090"/>
                  </a:lnTo>
                  <a:lnTo>
                    <a:pt x="944" y="1084"/>
                  </a:lnTo>
                  <a:lnTo>
                    <a:pt x="996" y="1068"/>
                  </a:lnTo>
                  <a:lnTo>
                    <a:pt x="1048" y="1054"/>
                  </a:lnTo>
                  <a:lnTo>
                    <a:pt x="1072" y="1046"/>
                  </a:lnTo>
                  <a:lnTo>
                    <a:pt x="1098" y="1040"/>
                  </a:lnTo>
                  <a:lnTo>
                    <a:pt x="1124" y="1036"/>
                  </a:lnTo>
                  <a:lnTo>
                    <a:pt x="1148" y="1036"/>
                  </a:lnTo>
                  <a:lnTo>
                    <a:pt x="1172" y="1036"/>
                  </a:lnTo>
                  <a:lnTo>
                    <a:pt x="1198" y="1042"/>
                  </a:lnTo>
                  <a:lnTo>
                    <a:pt x="1198" y="1042"/>
                  </a:lnTo>
                  <a:lnTo>
                    <a:pt x="1214" y="1048"/>
                  </a:lnTo>
                  <a:lnTo>
                    <a:pt x="1232" y="1056"/>
                  </a:lnTo>
                  <a:lnTo>
                    <a:pt x="1250" y="1066"/>
                  </a:lnTo>
                  <a:lnTo>
                    <a:pt x="1268" y="1076"/>
                  </a:lnTo>
                  <a:lnTo>
                    <a:pt x="1302" y="1102"/>
                  </a:lnTo>
                  <a:lnTo>
                    <a:pt x="1330" y="1126"/>
                  </a:lnTo>
                  <a:lnTo>
                    <a:pt x="1330" y="1126"/>
                  </a:lnTo>
                  <a:lnTo>
                    <a:pt x="1348" y="1118"/>
                  </a:lnTo>
                  <a:lnTo>
                    <a:pt x="1366" y="1108"/>
                  </a:lnTo>
                  <a:lnTo>
                    <a:pt x="1384" y="1094"/>
                  </a:lnTo>
                  <a:lnTo>
                    <a:pt x="1400" y="1080"/>
                  </a:lnTo>
                  <a:lnTo>
                    <a:pt x="1430" y="1052"/>
                  </a:lnTo>
                  <a:lnTo>
                    <a:pt x="1446" y="1038"/>
                  </a:lnTo>
                  <a:lnTo>
                    <a:pt x="1462" y="1026"/>
                  </a:lnTo>
                  <a:lnTo>
                    <a:pt x="1462" y="1026"/>
                  </a:lnTo>
                  <a:lnTo>
                    <a:pt x="1632" y="948"/>
                  </a:lnTo>
                  <a:lnTo>
                    <a:pt x="1632" y="948"/>
                  </a:lnTo>
                  <a:lnTo>
                    <a:pt x="1648" y="944"/>
                  </a:lnTo>
                  <a:lnTo>
                    <a:pt x="1668" y="940"/>
                  </a:lnTo>
                  <a:lnTo>
                    <a:pt x="1712" y="934"/>
                  </a:lnTo>
                  <a:lnTo>
                    <a:pt x="1734" y="930"/>
                  </a:lnTo>
                  <a:lnTo>
                    <a:pt x="1754" y="926"/>
                  </a:lnTo>
                  <a:lnTo>
                    <a:pt x="1770" y="918"/>
                  </a:lnTo>
                  <a:lnTo>
                    <a:pt x="1776" y="914"/>
                  </a:lnTo>
                  <a:lnTo>
                    <a:pt x="1780" y="908"/>
                  </a:lnTo>
                  <a:lnTo>
                    <a:pt x="1780" y="908"/>
                  </a:lnTo>
                  <a:lnTo>
                    <a:pt x="1772" y="902"/>
                  </a:lnTo>
                  <a:lnTo>
                    <a:pt x="1764" y="892"/>
                  </a:lnTo>
                  <a:lnTo>
                    <a:pt x="1752" y="874"/>
                  </a:lnTo>
                  <a:lnTo>
                    <a:pt x="1740" y="856"/>
                  </a:lnTo>
                  <a:lnTo>
                    <a:pt x="1734" y="846"/>
                  </a:lnTo>
                  <a:lnTo>
                    <a:pt x="1726" y="838"/>
                  </a:lnTo>
                  <a:lnTo>
                    <a:pt x="1726" y="838"/>
                  </a:lnTo>
                  <a:lnTo>
                    <a:pt x="1714" y="830"/>
                  </a:lnTo>
                  <a:lnTo>
                    <a:pt x="1700" y="824"/>
                  </a:lnTo>
                  <a:lnTo>
                    <a:pt x="1674" y="814"/>
                  </a:lnTo>
                  <a:lnTo>
                    <a:pt x="1648" y="804"/>
                  </a:lnTo>
                  <a:lnTo>
                    <a:pt x="1616" y="792"/>
                  </a:lnTo>
                  <a:lnTo>
                    <a:pt x="1616" y="792"/>
                  </a:lnTo>
                  <a:lnTo>
                    <a:pt x="1602" y="784"/>
                  </a:lnTo>
                  <a:lnTo>
                    <a:pt x="1586" y="774"/>
                  </a:lnTo>
                  <a:lnTo>
                    <a:pt x="1560" y="750"/>
                  </a:lnTo>
                  <a:lnTo>
                    <a:pt x="1532" y="726"/>
                  </a:lnTo>
                  <a:lnTo>
                    <a:pt x="1516" y="716"/>
                  </a:lnTo>
                  <a:lnTo>
                    <a:pt x="1500" y="706"/>
                  </a:lnTo>
                  <a:lnTo>
                    <a:pt x="1500" y="706"/>
                  </a:lnTo>
                  <a:lnTo>
                    <a:pt x="1496" y="684"/>
                  </a:lnTo>
                  <a:lnTo>
                    <a:pt x="1490" y="662"/>
                  </a:lnTo>
                  <a:lnTo>
                    <a:pt x="1482" y="642"/>
                  </a:lnTo>
                  <a:lnTo>
                    <a:pt x="1476" y="622"/>
                  </a:lnTo>
                  <a:lnTo>
                    <a:pt x="1476" y="622"/>
                  </a:lnTo>
                  <a:lnTo>
                    <a:pt x="1476" y="612"/>
                  </a:lnTo>
                  <a:lnTo>
                    <a:pt x="1476" y="604"/>
                  </a:lnTo>
                  <a:lnTo>
                    <a:pt x="1478" y="590"/>
                  </a:lnTo>
                  <a:lnTo>
                    <a:pt x="1482" y="576"/>
                  </a:lnTo>
                  <a:lnTo>
                    <a:pt x="1484" y="566"/>
                  </a:lnTo>
                  <a:lnTo>
                    <a:pt x="1484" y="566"/>
                  </a:lnTo>
                  <a:lnTo>
                    <a:pt x="1484" y="522"/>
                  </a:lnTo>
                  <a:lnTo>
                    <a:pt x="1482" y="474"/>
                  </a:lnTo>
                  <a:lnTo>
                    <a:pt x="1478" y="450"/>
                  </a:lnTo>
                  <a:lnTo>
                    <a:pt x="1474" y="426"/>
                  </a:lnTo>
                  <a:lnTo>
                    <a:pt x="1468" y="404"/>
                  </a:lnTo>
                  <a:lnTo>
                    <a:pt x="1462" y="380"/>
                  </a:lnTo>
                  <a:lnTo>
                    <a:pt x="1462" y="380"/>
                  </a:lnTo>
                  <a:lnTo>
                    <a:pt x="1446" y="338"/>
                  </a:lnTo>
                  <a:lnTo>
                    <a:pt x="1428" y="298"/>
                  </a:lnTo>
                  <a:lnTo>
                    <a:pt x="1406" y="260"/>
                  </a:lnTo>
                  <a:lnTo>
                    <a:pt x="1384" y="224"/>
                  </a:lnTo>
                  <a:lnTo>
                    <a:pt x="1358" y="190"/>
                  </a:lnTo>
                  <a:lnTo>
                    <a:pt x="1330" y="158"/>
                  </a:lnTo>
                  <a:lnTo>
                    <a:pt x="1300" y="128"/>
                  </a:lnTo>
                  <a:lnTo>
                    <a:pt x="1266" y="102"/>
                  </a:lnTo>
                  <a:lnTo>
                    <a:pt x="1230" y="78"/>
                  </a:lnTo>
                  <a:lnTo>
                    <a:pt x="1190" y="58"/>
                  </a:lnTo>
                  <a:lnTo>
                    <a:pt x="1148" y="40"/>
                  </a:lnTo>
                  <a:lnTo>
                    <a:pt x="1104" y="24"/>
                  </a:lnTo>
                  <a:lnTo>
                    <a:pt x="1056" y="14"/>
                  </a:lnTo>
                  <a:lnTo>
                    <a:pt x="1006" y="6"/>
                  </a:lnTo>
                  <a:lnTo>
                    <a:pt x="952" y="0"/>
                  </a:lnTo>
                  <a:lnTo>
                    <a:pt x="894" y="0"/>
                  </a:lnTo>
                  <a:lnTo>
                    <a:pt x="894" y="0"/>
                  </a:lnTo>
                  <a:lnTo>
                    <a:pt x="882" y="6"/>
                  </a:lnTo>
                  <a:lnTo>
                    <a:pt x="868" y="10"/>
                  </a:lnTo>
                  <a:lnTo>
                    <a:pt x="836" y="20"/>
                  </a:lnTo>
                  <a:lnTo>
                    <a:pt x="800" y="30"/>
                  </a:lnTo>
                  <a:lnTo>
                    <a:pt x="760" y="36"/>
                  </a:lnTo>
                  <a:lnTo>
                    <a:pt x="680" y="52"/>
                  </a:lnTo>
                  <a:lnTo>
                    <a:pt x="644" y="60"/>
                  </a:lnTo>
                  <a:lnTo>
                    <a:pt x="614" y="70"/>
                  </a:lnTo>
                  <a:lnTo>
                    <a:pt x="614" y="70"/>
                  </a:lnTo>
                  <a:lnTo>
                    <a:pt x="588" y="80"/>
                  </a:lnTo>
                  <a:lnTo>
                    <a:pt x="564" y="90"/>
                  </a:lnTo>
                  <a:lnTo>
                    <a:pt x="516" y="116"/>
                  </a:lnTo>
                  <a:lnTo>
                    <a:pt x="470" y="144"/>
                  </a:lnTo>
                  <a:lnTo>
                    <a:pt x="426" y="174"/>
                  </a:lnTo>
                  <a:lnTo>
                    <a:pt x="336" y="236"/>
                  </a:lnTo>
                  <a:lnTo>
                    <a:pt x="292" y="266"/>
                  </a:lnTo>
                  <a:lnTo>
                    <a:pt x="248" y="294"/>
                  </a:lnTo>
                  <a:lnTo>
                    <a:pt x="248" y="294"/>
                  </a:lnTo>
                  <a:lnTo>
                    <a:pt x="214" y="314"/>
                  </a:lnTo>
                  <a:lnTo>
                    <a:pt x="174" y="332"/>
                  </a:lnTo>
                  <a:lnTo>
                    <a:pt x="136" y="346"/>
                  </a:lnTo>
                  <a:lnTo>
                    <a:pt x="108" y="356"/>
                  </a:lnTo>
                  <a:lnTo>
                    <a:pt x="108" y="356"/>
                  </a:lnTo>
                  <a:lnTo>
                    <a:pt x="94" y="360"/>
                  </a:lnTo>
                  <a:lnTo>
                    <a:pt x="80" y="362"/>
                  </a:lnTo>
                  <a:lnTo>
                    <a:pt x="50" y="362"/>
                  </a:lnTo>
                  <a:lnTo>
                    <a:pt x="36" y="362"/>
                  </a:lnTo>
                  <a:lnTo>
                    <a:pt x="24" y="364"/>
                  </a:lnTo>
                  <a:lnTo>
                    <a:pt x="10" y="366"/>
                  </a:lnTo>
                  <a:lnTo>
                    <a:pt x="0" y="372"/>
                  </a:lnTo>
                  <a:lnTo>
                    <a:pt x="0" y="372"/>
                  </a:lnTo>
                  <a:lnTo>
                    <a:pt x="8" y="380"/>
                  </a:lnTo>
                  <a:lnTo>
                    <a:pt x="18" y="392"/>
                  </a:lnTo>
                  <a:lnTo>
                    <a:pt x="28" y="406"/>
                  </a:lnTo>
                  <a:lnTo>
                    <a:pt x="36" y="420"/>
                  </a:lnTo>
                  <a:lnTo>
                    <a:pt x="54" y="456"/>
                  </a:lnTo>
                  <a:lnTo>
                    <a:pt x="68" y="494"/>
                  </a:lnTo>
                  <a:lnTo>
                    <a:pt x="78" y="536"/>
                  </a:lnTo>
                  <a:lnTo>
                    <a:pt x="82" y="558"/>
                  </a:lnTo>
                  <a:lnTo>
                    <a:pt x="84" y="578"/>
                  </a:lnTo>
                  <a:lnTo>
                    <a:pt x="86" y="598"/>
                  </a:lnTo>
                  <a:lnTo>
                    <a:pt x="84" y="618"/>
                  </a:lnTo>
                  <a:lnTo>
                    <a:pt x="82" y="636"/>
                  </a:lnTo>
                  <a:lnTo>
                    <a:pt x="78" y="652"/>
                  </a:lnTo>
                  <a:lnTo>
                    <a:pt x="78" y="652"/>
                  </a:lnTo>
                  <a:close/>
                  <a:moveTo>
                    <a:pt x="1352" y="784"/>
                  </a:moveTo>
                  <a:lnTo>
                    <a:pt x="1352" y="784"/>
                  </a:lnTo>
                  <a:lnTo>
                    <a:pt x="1356" y="790"/>
                  </a:lnTo>
                  <a:lnTo>
                    <a:pt x="1360" y="800"/>
                  </a:lnTo>
                  <a:lnTo>
                    <a:pt x="1360" y="800"/>
                  </a:lnTo>
                  <a:lnTo>
                    <a:pt x="1352" y="800"/>
                  </a:lnTo>
                  <a:lnTo>
                    <a:pt x="1352" y="800"/>
                  </a:lnTo>
                  <a:lnTo>
                    <a:pt x="1352" y="784"/>
                  </a:lnTo>
                  <a:lnTo>
                    <a:pt x="1352" y="784"/>
                  </a:ln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77"/>
            <p:cNvSpPr/>
            <p:nvPr/>
          </p:nvSpPr>
          <p:spPr>
            <a:xfrm>
              <a:off x="26605080" y="1815840"/>
              <a:ext cx="453960" cy="52992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286" h="334">
                  <a:moveTo>
                    <a:pt x="94" y="132"/>
                  </a:moveTo>
                  <a:lnTo>
                    <a:pt x="94" y="132"/>
                  </a:lnTo>
                  <a:lnTo>
                    <a:pt x="126" y="180"/>
                  </a:lnTo>
                  <a:lnTo>
                    <a:pt x="152" y="228"/>
                  </a:lnTo>
                  <a:lnTo>
                    <a:pt x="178" y="280"/>
                  </a:lnTo>
                  <a:lnTo>
                    <a:pt x="202" y="334"/>
                  </a:lnTo>
                  <a:lnTo>
                    <a:pt x="202" y="334"/>
                  </a:lnTo>
                  <a:lnTo>
                    <a:pt x="242" y="318"/>
                  </a:lnTo>
                  <a:lnTo>
                    <a:pt x="266" y="306"/>
                  </a:lnTo>
                  <a:lnTo>
                    <a:pt x="276" y="300"/>
                  </a:lnTo>
                  <a:lnTo>
                    <a:pt x="280" y="296"/>
                  </a:lnTo>
                  <a:lnTo>
                    <a:pt x="280" y="296"/>
                  </a:lnTo>
                  <a:lnTo>
                    <a:pt x="284" y="288"/>
                  </a:lnTo>
                  <a:lnTo>
                    <a:pt x="286" y="276"/>
                  </a:lnTo>
                  <a:lnTo>
                    <a:pt x="286" y="248"/>
                  </a:lnTo>
                  <a:lnTo>
                    <a:pt x="284" y="214"/>
                  </a:lnTo>
                  <a:lnTo>
                    <a:pt x="280" y="178"/>
                  </a:lnTo>
                  <a:lnTo>
                    <a:pt x="272" y="144"/>
                  </a:lnTo>
                  <a:lnTo>
                    <a:pt x="264" y="112"/>
                  </a:lnTo>
                  <a:lnTo>
                    <a:pt x="256" y="86"/>
                  </a:lnTo>
                  <a:lnTo>
                    <a:pt x="248" y="70"/>
                  </a:lnTo>
                  <a:lnTo>
                    <a:pt x="248" y="70"/>
                  </a:lnTo>
                  <a:lnTo>
                    <a:pt x="242" y="62"/>
                  </a:lnTo>
                  <a:lnTo>
                    <a:pt x="236" y="52"/>
                  </a:lnTo>
                  <a:lnTo>
                    <a:pt x="220" y="38"/>
                  </a:lnTo>
                  <a:lnTo>
                    <a:pt x="206" y="22"/>
                  </a:lnTo>
                  <a:lnTo>
                    <a:pt x="200" y="12"/>
                  </a:lnTo>
                  <a:lnTo>
                    <a:pt x="194" y="0"/>
                  </a:lnTo>
                  <a:lnTo>
                    <a:pt x="194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0" y="4"/>
                  </a:lnTo>
                  <a:lnTo>
                    <a:pt x="132" y="6"/>
                  </a:lnTo>
                  <a:lnTo>
                    <a:pt x="112" y="6"/>
                  </a:lnTo>
                  <a:lnTo>
                    <a:pt x="90" y="4"/>
                  </a:lnTo>
                  <a:lnTo>
                    <a:pt x="80" y="6"/>
                  </a:lnTo>
                  <a:lnTo>
                    <a:pt x="70" y="8"/>
                  </a:lnTo>
                  <a:lnTo>
                    <a:pt x="70" y="8"/>
                  </a:lnTo>
                  <a:lnTo>
                    <a:pt x="54" y="16"/>
                  </a:lnTo>
                  <a:lnTo>
                    <a:pt x="36" y="26"/>
                  </a:lnTo>
                  <a:lnTo>
                    <a:pt x="18" y="3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16" y="66"/>
                  </a:lnTo>
                  <a:lnTo>
                    <a:pt x="28" y="76"/>
                  </a:lnTo>
                  <a:lnTo>
                    <a:pt x="50" y="94"/>
                  </a:lnTo>
                  <a:lnTo>
                    <a:pt x="74" y="112"/>
                  </a:lnTo>
                  <a:lnTo>
                    <a:pt x="84" y="122"/>
                  </a:lnTo>
                  <a:lnTo>
                    <a:pt x="94" y="132"/>
                  </a:lnTo>
                  <a:lnTo>
                    <a:pt x="94" y="1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78"/>
            <p:cNvSpPr/>
            <p:nvPr/>
          </p:nvSpPr>
          <p:spPr>
            <a:xfrm>
              <a:off x="26338320" y="1990440"/>
              <a:ext cx="488880" cy="102240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1022400"/>
                <a:gd name="textAreaBottom" fmla="*/ 1022760 h 1022400"/>
              </a:gdLst>
              <a:ahLst/>
              <a:rect l="textAreaLeft" t="textAreaTop" r="textAreaRight" b="textAreaBottom"/>
              <a:pathLst>
                <a:path w="308" h="644">
                  <a:moveTo>
                    <a:pt x="82" y="520"/>
                  </a:moveTo>
                  <a:lnTo>
                    <a:pt x="82" y="520"/>
                  </a:lnTo>
                  <a:lnTo>
                    <a:pt x="86" y="534"/>
                  </a:lnTo>
                  <a:lnTo>
                    <a:pt x="90" y="548"/>
                  </a:lnTo>
                  <a:lnTo>
                    <a:pt x="90" y="584"/>
                  </a:lnTo>
                  <a:lnTo>
                    <a:pt x="90" y="600"/>
                  </a:lnTo>
                  <a:lnTo>
                    <a:pt x="90" y="618"/>
                  </a:lnTo>
                  <a:lnTo>
                    <a:pt x="92" y="632"/>
                  </a:lnTo>
                  <a:lnTo>
                    <a:pt x="98" y="644"/>
                  </a:lnTo>
                  <a:lnTo>
                    <a:pt x="98" y="644"/>
                  </a:lnTo>
                  <a:lnTo>
                    <a:pt x="108" y="632"/>
                  </a:lnTo>
                  <a:lnTo>
                    <a:pt x="120" y="620"/>
                  </a:lnTo>
                  <a:lnTo>
                    <a:pt x="144" y="598"/>
                  </a:lnTo>
                  <a:lnTo>
                    <a:pt x="170" y="576"/>
                  </a:lnTo>
                  <a:lnTo>
                    <a:pt x="180" y="564"/>
                  </a:lnTo>
                  <a:lnTo>
                    <a:pt x="192" y="552"/>
                  </a:lnTo>
                  <a:lnTo>
                    <a:pt x="192" y="552"/>
                  </a:lnTo>
                  <a:lnTo>
                    <a:pt x="200" y="538"/>
                  </a:lnTo>
                  <a:lnTo>
                    <a:pt x="206" y="526"/>
                  </a:lnTo>
                  <a:lnTo>
                    <a:pt x="210" y="512"/>
                  </a:lnTo>
                  <a:lnTo>
                    <a:pt x="214" y="496"/>
                  </a:lnTo>
                  <a:lnTo>
                    <a:pt x="220" y="466"/>
                  </a:lnTo>
                  <a:lnTo>
                    <a:pt x="224" y="450"/>
                  </a:lnTo>
                  <a:lnTo>
                    <a:pt x="230" y="434"/>
                  </a:lnTo>
                  <a:lnTo>
                    <a:pt x="230" y="434"/>
                  </a:lnTo>
                  <a:lnTo>
                    <a:pt x="248" y="396"/>
                  </a:lnTo>
                  <a:lnTo>
                    <a:pt x="270" y="358"/>
                  </a:lnTo>
                  <a:lnTo>
                    <a:pt x="292" y="318"/>
                  </a:lnTo>
                  <a:lnTo>
                    <a:pt x="300" y="298"/>
                  </a:lnTo>
                  <a:lnTo>
                    <a:pt x="308" y="280"/>
                  </a:lnTo>
                  <a:lnTo>
                    <a:pt x="308" y="280"/>
                  </a:lnTo>
                  <a:lnTo>
                    <a:pt x="294" y="262"/>
                  </a:lnTo>
                  <a:lnTo>
                    <a:pt x="282" y="244"/>
                  </a:lnTo>
                  <a:lnTo>
                    <a:pt x="270" y="226"/>
                  </a:lnTo>
                  <a:lnTo>
                    <a:pt x="260" y="206"/>
                  </a:lnTo>
                  <a:lnTo>
                    <a:pt x="222" y="122"/>
                  </a:lnTo>
                  <a:lnTo>
                    <a:pt x="202" y="84"/>
                  </a:lnTo>
                  <a:lnTo>
                    <a:pt x="190" y="66"/>
                  </a:lnTo>
                  <a:lnTo>
                    <a:pt x="176" y="48"/>
                  </a:lnTo>
                  <a:lnTo>
                    <a:pt x="162" y="34"/>
                  </a:lnTo>
                  <a:lnTo>
                    <a:pt x="146" y="20"/>
                  </a:lnTo>
                  <a:lnTo>
                    <a:pt x="126" y="8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78" y="42"/>
                  </a:lnTo>
                  <a:lnTo>
                    <a:pt x="54" y="86"/>
                  </a:lnTo>
                  <a:lnTo>
                    <a:pt x="42" y="108"/>
                  </a:lnTo>
                  <a:lnTo>
                    <a:pt x="32" y="132"/>
                  </a:lnTo>
                  <a:lnTo>
                    <a:pt x="22" y="158"/>
                  </a:lnTo>
                  <a:lnTo>
                    <a:pt x="14" y="182"/>
                  </a:lnTo>
                  <a:lnTo>
                    <a:pt x="8" y="208"/>
                  </a:lnTo>
                  <a:lnTo>
                    <a:pt x="4" y="236"/>
                  </a:lnTo>
                  <a:lnTo>
                    <a:pt x="0" y="264"/>
                  </a:lnTo>
                  <a:lnTo>
                    <a:pt x="0" y="292"/>
                  </a:lnTo>
                  <a:lnTo>
                    <a:pt x="2" y="322"/>
                  </a:lnTo>
                  <a:lnTo>
                    <a:pt x="4" y="354"/>
                  </a:lnTo>
                  <a:lnTo>
                    <a:pt x="12" y="386"/>
                  </a:lnTo>
                  <a:lnTo>
                    <a:pt x="20" y="420"/>
                  </a:lnTo>
                  <a:lnTo>
                    <a:pt x="20" y="420"/>
                  </a:lnTo>
                  <a:lnTo>
                    <a:pt x="26" y="434"/>
                  </a:lnTo>
                  <a:lnTo>
                    <a:pt x="32" y="448"/>
                  </a:lnTo>
                  <a:lnTo>
                    <a:pt x="50" y="474"/>
                  </a:lnTo>
                  <a:lnTo>
                    <a:pt x="68" y="498"/>
                  </a:lnTo>
                  <a:lnTo>
                    <a:pt x="82" y="520"/>
                  </a:lnTo>
                  <a:lnTo>
                    <a:pt x="82" y="520"/>
                  </a:ln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79"/>
            <p:cNvSpPr/>
            <p:nvPr/>
          </p:nvSpPr>
          <p:spPr>
            <a:xfrm>
              <a:off x="25976160" y="2396880"/>
              <a:ext cx="3740040" cy="2901960"/>
            </a:xfrm>
            <a:custGeom>
              <a:avLst/>
              <a:gdLst>
                <a:gd name="textAreaLeft" fmla="*/ 0 w 3740040"/>
                <a:gd name="textAreaRight" fmla="*/ 3740400 w 3740040"/>
                <a:gd name="textAreaTop" fmla="*/ 0 h 2901960"/>
                <a:gd name="textAreaBottom" fmla="*/ 2901960 h 2901960"/>
              </a:gdLst>
              <a:ahLst/>
              <a:rect l="textAreaLeft" t="textAreaTop" r="textAreaRight" b="textAreaBottom"/>
              <a:pathLst>
                <a:path w="2356" h="1828">
                  <a:moveTo>
                    <a:pt x="2154" y="918"/>
                  </a:moveTo>
                  <a:lnTo>
                    <a:pt x="2154" y="918"/>
                  </a:lnTo>
                  <a:lnTo>
                    <a:pt x="2154" y="926"/>
                  </a:lnTo>
                  <a:lnTo>
                    <a:pt x="2154" y="926"/>
                  </a:lnTo>
                  <a:lnTo>
                    <a:pt x="2160" y="934"/>
                  </a:lnTo>
                  <a:lnTo>
                    <a:pt x="2164" y="940"/>
                  </a:lnTo>
                  <a:lnTo>
                    <a:pt x="2166" y="948"/>
                  </a:lnTo>
                  <a:lnTo>
                    <a:pt x="2166" y="956"/>
                  </a:lnTo>
                  <a:lnTo>
                    <a:pt x="2164" y="974"/>
                  </a:lnTo>
                  <a:lnTo>
                    <a:pt x="2160" y="996"/>
                  </a:lnTo>
                  <a:lnTo>
                    <a:pt x="2160" y="996"/>
                  </a:lnTo>
                  <a:lnTo>
                    <a:pt x="2180" y="1002"/>
                  </a:lnTo>
                  <a:lnTo>
                    <a:pt x="2186" y="1006"/>
                  </a:lnTo>
                  <a:lnTo>
                    <a:pt x="2192" y="1010"/>
                  </a:lnTo>
                  <a:lnTo>
                    <a:pt x="2196" y="1016"/>
                  </a:lnTo>
                  <a:lnTo>
                    <a:pt x="2200" y="1024"/>
                  </a:lnTo>
                  <a:lnTo>
                    <a:pt x="2208" y="1042"/>
                  </a:lnTo>
                  <a:lnTo>
                    <a:pt x="2208" y="1042"/>
                  </a:lnTo>
                  <a:lnTo>
                    <a:pt x="2202" y="1052"/>
                  </a:lnTo>
                  <a:lnTo>
                    <a:pt x="2198" y="1064"/>
                  </a:lnTo>
                  <a:lnTo>
                    <a:pt x="2192" y="1088"/>
                  </a:lnTo>
                  <a:lnTo>
                    <a:pt x="2192" y="1088"/>
                  </a:lnTo>
                  <a:lnTo>
                    <a:pt x="2170" y="1104"/>
                  </a:lnTo>
                  <a:lnTo>
                    <a:pt x="2150" y="1120"/>
                  </a:lnTo>
                  <a:lnTo>
                    <a:pt x="2140" y="1126"/>
                  </a:lnTo>
                  <a:lnTo>
                    <a:pt x="2128" y="1132"/>
                  </a:lnTo>
                  <a:lnTo>
                    <a:pt x="2114" y="1138"/>
                  </a:lnTo>
                  <a:lnTo>
                    <a:pt x="2098" y="1142"/>
                  </a:lnTo>
                  <a:lnTo>
                    <a:pt x="2098" y="1142"/>
                  </a:lnTo>
                  <a:lnTo>
                    <a:pt x="2090" y="1126"/>
                  </a:lnTo>
                  <a:lnTo>
                    <a:pt x="2082" y="1114"/>
                  </a:lnTo>
                  <a:lnTo>
                    <a:pt x="2080" y="1108"/>
                  </a:lnTo>
                  <a:lnTo>
                    <a:pt x="2078" y="1100"/>
                  </a:lnTo>
                  <a:lnTo>
                    <a:pt x="2076" y="1072"/>
                  </a:lnTo>
                  <a:lnTo>
                    <a:pt x="2076" y="1072"/>
                  </a:lnTo>
                  <a:lnTo>
                    <a:pt x="2084" y="1066"/>
                  </a:lnTo>
                  <a:lnTo>
                    <a:pt x="2090" y="1056"/>
                  </a:lnTo>
                  <a:lnTo>
                    <a:pt x="2102" y="1036"/>
                  </a:lnTo>
                  <a:lnTo>
                    <a:pt x="2122" y="996"/>
                  </a:lnTo>
                  <a:lnTo>
                    <a:pt x="2122" y="996"/>
                  </a:lnTo>
                  <a:lnTo>
                    <a:pt x="2086" y="984"/>
                  </a:lnTo>
                  <a:lnTo>
                    <a:pt x="2054" y="970"/>
                  </a:lnTo>
                  <a:lnTo>
                    <a:pt x="2026" y="956"/>
                  </a:lnTo>
                  <a:lnTo>
                    <a:pt x="2012" y="948"/>
                  </a:lnTo>
                  <a:lnTo>
                    <a:pt x="2000" y="938"/>
                  </a:lnTo>
                  <a:lnTo>
                    <a:pt x="1990" y="928"/>
                  </a:lnTo>
                  <a:lnTo>
                    <a:pt x="1980" y="916"/>
                  </a:lnTo>
                  <a:lnTo>
                    <a:pt x="1970" y="902"/>
                  </a:lnTo>
                  <a:lnTo>
                    <a:pt x="1964" y="886"/>
                  </a:lnTo>
                  <a:lnTo>
                    <a:pt x="1958" y="870"/>
                  </a:lnTo>
                  <a:lnTo>
                    <a:pt x="1954" y="852"/>
                  </a:lnTo>
                  <a:lnTo>
                    <a:pt x="1952" y="832"/>
                  </a:lnTo>
                  <a:lnTo>
                    <a:pt x="1950" y="808"/>
                  </a:lnTo>
                  <a:lnTo>
                    <a:pt x="1950" y="808"/>
                  </a:lnTo>
                  <a:lnTo>
                    <a:pt x="1958" y="796"/>
                  </a:lnTo>
                  <a:lnTo>
                    <a:pt x="1962" y="784"/>
                  </a:lnTo>
                  <a:lnTo>
                    <a:pt x="1968" y="756"/>
                  </a:lnTo>
                  <a:lnTo>
                    <a:pt x="1974" y="728"/>
                  </a:lnTo>
                  <a:lnTo>
                    <a:pt x="1978" y="714"/>
                  </a:lnTo>
                  <a:lnTo>
                    <a:pt x="1982" y="700"/>
                  </a:lnTo>
                  <a:lnTo>
                    <a:pt x="1982" y="700"/>
                  </a:lnTo>
                  <a:lnTo>
                    <a:pt x="1994" y="670"/>
                  </a:lnTo>
                  <a:lnTo>
                    <a:pt x="2002" y="642"/>
                  </a:lnTo>
                  <a:lnTo>
                    <a:pt x="2006" y="616"/>
                  </a:lnTo>
                  <a:lnTo>
                    <a:pt x="2008" y="594"/>
                  </a:lnTo>
                  <a:lnTo>
                    <a:pt x="2008" y="574"/>
                  </a:lnTo>
                  <a:lnTo>
                    <a:pt x="2006" y="554"/>
                  </a:lnTo>
                  <a:lnTo>
                    <a:pt x="2000" y="536"/>
                  </a:lnTo>
                  <a:lnTo>
                    <a:pt x="1992" y="520"/>
                  </a:lnTo>
                  <a:lnTo>
                    <a:pt x="1984" y="504"/>
                  </a:lnTo>
                  <a:lnTo>
                    <a:pt x="1974" y="488"/>
                  </a:lnTo>
                  <a:lnTo>
                    <a:pt x="1960" y="474"/>
                  </a:lnTo>
                  <a:lnTo>
                    <a:pt x="1946" y="460"/>
                  </a:lnTo>
                  <a:lnTo>
                    <a:pt x="1916" y="430"/>
                  </a:lnTo>
                  <a:lnTo>
                    <a:pt x="1882" y="396"/>
                  </a:lnTo>
                  <a:lnTo>
                    <a:pt x="1882" y="396"/>
                  </a:lnTo>
                  <a:lnTo>
                    <a:pt x="1848" y="398"/>
                  </a:lnTo>
                  <a:lnTo>
                    <a:pt x="1816" y="400"/>
                  </a:lnTo>
                  <a:lnTo>
                    <a:pt x="1752" y="410"/>
                  </a:lnTo>
                  <a:lnTo>
                    <a:pt x="1690" y="420"/>
                  </a:lnTo>
                  <a:lnTo>
                    <a:pt x="1628" y="430"/>
                  </a:lnTo>
                  <a:lnTo>
                    <a:pt x="1598" y="434"/>
                  </a:lnTo>
                  <a:lnTo>
                    <a:pt x="1568" y="436"/>
                  </a:lnTo>
                  <a:lnTo>
                    <a:pt x="1538" y="436"/>
                  </a:lnTo>
                  <a:lnTo>
                    <a:pt x="1508" y="434"/>
                  </a:lnTo>
                  <a:lnTo>
                    <a:pt x="1478" y="430"/>
                  </a:lnTo>
                  <a:lnTo>
                    <a:pt x="1448" y="422"/>
                  </a:lnTo>
                  <a:lnTo>
                    <a:pt x="1420" y="412"/>
                  </a:lnTo>
                  <a:lnTo>
                    <a:pt x="1392" y="396"/>
                  </a:lnTo>
                  <a:lnTo>
                    <a:pt x="1392" y="396"/>
                  </a:lnTo>
                  <a:lnTo>
                    <a:pt x="1378" y="388"/>
                  </a:lnTo>
                  <a:lnTo>
                    <a:pt x="1364" y="376"/>
                  </a:lnTo>
                  <a:lnTo>
                    <a:pt x="1352" y="364"/>
                  </a:lnTo>
                  <a:lnTo>
                    <a:pt x="1342" y="352"/>
                  </a:lnTo>
                  <a:lnTo>
                    <a:pt x="1322" y="324"/>
                  </a:lnTo>
                  <a:lnTo>
                    <a:pt x="1304" y="294"/>
                  </a:lnTo>
                  <a:lnTo>
                    <a:pt x="1270" y="230"/>
                  </a:lnTo>
                  <a:lnTo>
                    <a:pt x="1254" y="200"/>
                  </a:lnTo>
                  <a:lnTo>
                    <a:pt x="1236" y="170"/>
                  </a:lnTo>
                  <a:lnTo>
                    <a:pt x="1236" y="170"/>
                  </a:lnTo>
                  <a:lnTo>
                    <a:pt x="1216" y="144"/>
                  </a:lnTo>
                  <a:lnTo>
                    <a:pt x="1196" y="122"/>
                  </a:lnTo>
                  <a:lnTo>
                    <a:pt x="1174" y="100"/>
                  </a:lnTo>
                  <a:lnTo>
                    <a:pt x="1152" y="82"/>
                  </a:lnTo>
                  <a:lnTo>
                    <a:pt x="1130" y="66"/>
                  </a:lnTo>
                  <a:lnTo>
                    <a:pt x="1106" y="52"/>
                  </a:lnTo>
                  <a:lnTo>
                    <a:pt x="1080" y="40"/>
                  </a:lnTo>
                  <a:lnTo>
                    <a:pt x="1052" y="30"/>
                  </a:lnTo>
                  <a:lnTo>
                    <a:pt x="1024" y="22"/>
                  </a:lnTo>
                  <a:lnTo>
                    <a:pt x="994" y="16"/>
                  </a:lnTo>
                  <a:lnTo>
                    <a:pt x="960" y="10"/>
                  </a:lnTo>
                  <a:lnTo>
                    <a:pt x="926" y="6"/>
                  </a:lnTo>
                  <a:lnTo>
                    <a:pt x="888" y="4"/>
                  </a:lnTo>
                  <a:lnTo>
                    <a:pt x="850" y="2"/>
                  </a:lnTo>
                  <a:lnTo>
                    <a:pt x="762" y="0"/>
                  </a:lnTo>
                  <a:lnTo>
                    <a:pt x="762" y="0"/>
                  </a:lnTo>
                  <a:lnTo>
                    <a:pt x="754" y="4"/>
                  </a:lnTo>
                  <a:lnTo>
                    <a:pt x="746" y="6"/>
                  </a:lnTo>
                  <a:lnTo>
                    <a:pt x="728" y="8"/>
                  </a:lnTo>
                  <a:lnTo>
                    <a:pt x="708" y="10"/>
                  </a:lnTo>
                  <a:lnTo>
                    <a:pt x="700" y="12"/>
                  </a:lnTo>
                  <a:lnTo>
                    <a:pt x="692" y="16"/>
                  </a:lnTo>
                  <a:lnTo>
                    <a:pt x="692" y="16"/>
                  </a:lnTo>
                  <a:lnTo>
                    <a:pt x="676" y="24"/>
                  </a:lnTo>
                  <a:lnTo>
                    <a:pt x="660" y="34"/>
                  </a:lnTo>
                  <a:lnTo>
                    <a:pt x="644" y="48"/>
                  </a:lnTo>
                  <a:lnTo>
                    <a:pt x="626" y="62"/>
                  </a:lnTo>
                  <a:lnTo>
                    <a:pt x="610" y="78"/>
                  </a:lnTo>
                  <a:lnTo>
                    <a:pt x="596" y="94"/>
                  </a:lnTo>
                  <a:lnTo>
                    <a:pt x="584" y="110"/>
                  </a:lnTo>
                  <a:lnTo>
                    <a:pt x="574" y="124"/>
                  </a:lnTo>
                  <a:lnTo>
                    <a:pt x="574" y="124"/>
                  </a:lnTo>
                  <a:lnTo>
                    <a:pt x="566" y="178"/>
                  </a:lnTo>
                  <a:lnTo>
                    <a:pt x="566" y="178"/>
                  </a:lnTo>
                  <a:lnTo>
                    <a:pt x="548" y="226"/>
                  </a:lnTo>
                  <a:lnTo>
                    <a:pt x="526" y="276"/>
                  </a:lnTo>
                  <a:lnTo>
                    <a:pt x="500" y="326"/>
                  </a:lnTo>
                  <a:lnTo>
                    <a:pt x="484" y="350"/>
                  </a:lnTo>
                  <a:lnTo>
                    <a:pt x="468" y="374"/>
                  </a:lnTo>
                  <a:lnTo>
                    <a:pt x="452" y="396"/>
                  </a:lnTo>
                  <a:lnTo>
                    <a:pt x="434" y="416"/>
                  </a:lnTo>
                  <a:lnTo>
                    <a:pt x="414" y="436"/>
                  </a:lnTo>
                  <a:lnTo>
                    <a:pt x="392" y="452"/>
                  </a:lnTo>
                  <a:lnTo>
                    <a:pt x="370" y="466"/>
                  </a:lnTo>
                  <a:lnTo>
                    <a:pt x="346" y="478"/>
                  </a:lnTo>
                  <a:lnTo>
                    <a:pt x="322" y="486"/>
                  </a:lnTo>
                  <a:lnTo>
                    <a:pt x="294" y="490"/>
                  </a:lnTo>
                  <a:lnTo>
                    <a:pt x="294" y="490"/>
                  </a:lnTo>
                  <a:lnTo>
                    <a:pt x="288" y="486"/>
                  </a:lnTo>
                  <a:lnTo>
                    <a:pt x="282" y="484"/>
                  </a:lnTo>
                  <a:lnTo>
                    <a:pt x="264" y="482"/>
                  </a:lnTo>
                  <a:lnTo>
                    <a:pt x="264" y="482"/>
                  </a:lnTo>
                  <a:lnTo>
                    <a:pt x="254" y="438"/>
                  </a:lnTo>
                  <a:lnTo>
                    <a:pt x="250" y="418"/>
                  </a:lnTo>
                  <a:lnTo>
                    <a:pt x="248" y="396"/>
                  </a:lnTo>
                  <a:lnTo>
                    <a:pt x="248" y="374"/>
                  </a:lnTo>
                  <a:lnTo>
                    <a:pt x="248" y="352"/>
                  </a:lnTo>
                  <a:lnTo>
                    <a:pt x="252" y="328"/>
                  </a:lnTo>
                  <a:lnTo>
                    <a:pt x="256" y="304"/>
                  </a:lnTo>
                  <a:lnTo>
                    <a:pt x="256" y="304"/>
                  </a:lnTo>
                  <a:lnTo>
                    <a:pt x="248" y="304"/>
                  </a:lnTo>
                  <a:lnTo>
                    <a:pt x="248" y="304"/>
                  </a:lnTo>
                  <a:lnTo>
                    <a:pt x="248" y="296"/>
                  </a:lnTo>
                  <a:lnTo>
                    <a:pt x="248" y="296"/>
                  </a:lnTo>
                  <a:lnTo>
                    <a:pt x="230" y="292"/>
                  </a:lnTo>
                  <a:lnTo>
                    <a:pt x="212" y="288"/>
                  </a:lnTo>
                  <a:lnTo>
                    <a:pt x="182" y="280"/>
                  </a:lnTo>
                  <a:lnTo>
                    <a:pt x="168" y="276"/>
                  </a:lnTo>
                  <a:lnTo>
                    <a:pt x="154" y="274"/>
                  </a:lnTo>
                  <a:lnTo>
                    <a:pt x="142" y="276"/>
                  </a:lnTo>
                  <a:lnTo>
                    <a:pt x="132" y="280"/>
                  </a:lnTo>
                  <a:lnTo>
                    <a:pt x="132" y="280"/>
                  </a:lnTo>
                  <a:lnTo>
                    <a:pt x="108" y="290"/>
                  </a:lnTo>
                  <a:lnTo>
                    <a:pt x="86" y="302"/>
                  </a:lnTo>
                  <a:lnTo>
                    <a:pt x="64" y="320"/>
                  </a:lnTo>
                  <a:lnTo>
                    <a:pt x="46" y="342"/>
                  </a:lnTo>
                  <a:lnTo>
                    <a:pt x="30" y="366"/>
                  </a:lnTo>
                  <a:lnTo>
                    <a:pt x="18" y="392"/>
                  </a:lnTo>
                  <a:lnTo>
                    <a:pt x="14" y="406"/>
                  </a:lnTo>
                  <a:lnTo>
                    <a:pt x="10" y="420"/>
                  </a:lnTo>
                  <a:lnTo>
                    <a:pt x="8" y="436"/>
                  </a:lnTo>
                  <a:lnTo>
                    <a:pt x="6" y="450"/>
                  </a:lnTo>
                  <a:lnTo>
                    <a:pt x="6" y="450"/>
                  </a:lnTo>
                  <a:lnTo>
                    <a:pt x="2" y="462"/>
                  </a:lnTo>
                  <a:lnTo>
                    <a:pt x="0" y="474"/>
                  </a:lnTo>
                  <a:lnTo>
                    <a:pt x="0" y="488"/>
                  </a:lnTo>
                  <a:lnTo>
                    <a:pt x="2" y="502"/>
                  </a:lnTo>
                  <a:lnTo>
                    <a:pt x="6" y="514"/>
                  </a:lnTo>
                  <a:lnTo>
                    <a:pt x="12" y="528"/>
                  </a:lnTo>
                  <a:lnTo>
                    <a:pt x="26" y="556"/>
                  </a:lnTo>
                  <a:lnTo>
                    <a:pt x="44" y="580"/>
                  </a:lnTo>
                  <a:lnTo>
                    <a:pt x="64" y="602"/>
                  </a:lnTo>
                  <a:lnTo>
                    <a:pt x="84" y="620"/>
                  </a:lnTo>
                  <a:lnTo>
                    <a:pt x="100" y="630"/>
                  </a:lnTo>
                  <a:lnTo>
                    <a:pt x="100" y="630"/>
                  </a:lnTo>
                  <a:lnTo>
                    <a:pt x="194" y="646"/>
                  </a:lnTo>
                  <a:lnTo>
                    <a:pt x="194" y="646"/>
                  </a:lnTo>
                  <a:lnTo>
                    <a:pt x="198" y="650"/>
                  </a:lnTo>
                  <a:lnTo>
                    <a:pt x="202" y="654"/>
                  </a:lnTo>
                  <a:lnTo>
                    <a:pt x="206" y="664"/>
                  </a:lnTo>
                  <a:lnTo>
                    <a:pt x="210" y="692"/>
                  </a:lnTo>
                  <a:lnTo>
                    <a:pt x="210" y="692"/>
                  </a:lnTo>
                  <a:lnTo>
                    <a:pt x="212" y="700"/>
                  </a:lnTo>
                  <a:lnTo>
                    <a:pt x="214" y="708"/>
                  </a:lnTo>
                  <a:lnTo>
                    <a:pt x="214" y="732"/>
                  </a:lnTo>
                  <a:lnTo>
                    <a:pt x="212" y="760"/>
                  </a:lnTo>
                  <a:lnTo>
                    <a:pt x="208" y="792"/>
                  </a:lnTo>
                  <a:lnTo>
                    <a:pt x="196" y="854"/>
                  </a:lnTo>
                  <a:lnTo>
                    <a:pt x="186" y="902"/>
                  </a:lnTo>
                  <a:lnTo>
                    <a:pt x="186" y="902"/>
                  </a:lnTo>
                  <a:lnTo>
                    <a:pt x="184" y="920"/>
                  </a:lnTo>
                  <a:lnTo>
                    <a:pt x="182" y="938"/>
                  </a:lnTo>
                  <a:lnTo>
                    <a:pt x="182" y="984"/>
                  </a:lnTo>
                  <a:lnTo>
                    <a:pt x="184" y="1034"/>
                  </a:lnTo>
                  <a:lnTo>
                    <a:pt x="192" y="1086"/>
                  </a:lnTo>
                  <a:lnTo>
                    <a:pt x="200" y="1138"/>
                  </a:lnTo>
                  <a:lnTo>
                    <a:pt x="210" y="1186"/>
                  </a:lnTo>
                  <a:lnTo>
                    <a:pt x="222" y="1228"/>
                  </a:lnTo>
                  <a:lnTo>
                    <a:pt x="232" y="1260"/>
                  </a:lnTo>
                  <a:lnTo>
                    <a:pt x="232" y="1260"/>
                  </a:lnTo>
                  <a:lnTo>
                    <a:pt x="270" y="1346"/>
                  </a:lnTo>
                  <a:lnTo>
                    <a:pt x="292" y="1388"/>
                  </a:lnTo>
                  <a:lnTo>
                    <a:pt x="312" y="1428"/>
                  </a:lnTo>
                  <a:lnTo>
                    <a:pt x="336" y="1466"/>
                  </a:lnTo>
                  <a:lnTo>
                    <a:pt x="362" y="1504"/>
                  </a:lnTo>
                  <a:lnTo>
                    <a:pt x="390" y="1538"/>
                  </a:lnTo>
                  <a:lnTo>
                    <a:pt x="420" y="1570"/>
                  </a:lnTo>
                  <a:lnTo>
                    <a:pt x="420" y="1570"/>
                  </a:lnTo>
                  <a:lnTo>
                    <a:pt x="444" y="1594"/>
                  </a:lnTo>
                  <a:lnTo>
                    <a:pt x="474" y="1616"/>
                  </a:lnTo>
                  <a:lnTo>
                    <a:pt x="504" y="1634"/>
                  </a:lnTo>
                  <a:lnTo>
                    <a:pt x="536" y="1652"/>
                  </a:lnTo>
                  <a:lnTo>
                    <a:pt x="570" y="1670"/>
                  </a:lnTo>
                  <a:lnTo>
                    <a:pt x="604" y="1684"/>
                  </a:lnTo>
                  <a:lnTo>
                    <a:pt x="642" y="1698"/>
                  </a:lnTo>
                  <a:lnTo>
                    <a:pt x="680" y="1712"/>
                  </a:lnTo>
                  <a:lnTo>
                    <a:pt x="758" y="1736"/>
                  </a:lnTo>
                  <a:lnTo>
                    <a:pt x="836" y="1756"/>
                  </a:lnTo>
                  <a:lnTo>
                    <a:pt x="994" y="1796"/>
                  </a:lnTo>
                  <a:lnTo>
                    <a:pt x="994" y="1796"/>
                  </a:lnTo>
                  <a:lnTo>
                    <a:pt x="1104" y="1804"/>
                  </a:lnTo>
                  <a:lnTo>
                    <a:pt x="1104" y="1804"/>
                  </a:lnTo>
                  <a:lnTo>
                    <a:pt x="1162" y="1816"/>
                  </a:lnTo>
                  <a:lnTo>
                    <a:pt x="1196" y="1822"/>
                  </a:lnTo>
                  <a:lnTo>
                    <a:pt x="1230" y="1826"/>
                  </a:lnTo>
                  <a:lnTo>
                    <a:pt x="1266" y="1828"/>
                  </a:lnTo>
                  <a:lnTo>
                    <a:pt x="1302" y="1828"/>
                  </a:lnTo>
                  <a:lnTo>
                    <a:pt x="1338" y="1826"/>
                  </a:lnTo>
                  <a:lnTo>
                    <a:pt x="1376" y="1820"/>
                  </a:lnTo>
                  <a:lnTo>
                    <a:pt x="1376" y="1820"/>
                  </a:lnTo>
                  <a:lnTo>
                    <a:pt x="1458" y="1798"/>
                  </a:lnTo>
                  <a:lnTo>
                    <a:pt x="1496" y="1788"/>
                  </a:lnTo>
                  <a:lnTo>
                    <a:pt x="1534" y="1776"/>
                  </a:lnTo>
                  <a:lnTo>
                    <a:pt x="1570" y="1762"/>
                  </a:lnTo>
                  <a:lnTo>
                    <a:pt x="1604" y="1746"/>
                  </a:lnTo>
                  <a:lnTo>
                    <a:pt x="1638" y="1730"/>
                  </a:lnTo>
                  <a:lnTo>
                    <a:pt x="1672" y="1710"/>
                  </a:lnTo>
                  <a:lnTo>
                    <a:pt x="1672" y="1710"/>
                  </a:lnTo>
                  <a:lnTo>
                    <a:pt x="1694" y="1696"/>
                  </a:lnTo>
                  <a:lnTo>
                    <a:pt x="1714" y="1680"/>
                  </a:lnTo>
                  <a:lnTo>
                    <a:pt x="1736" y="1664"/>
                  </a:lnTo>
                  <a:lnTo>
                    <a:pt x="1756" y="1644"/>
                  </a:lnTo>
                  <a:lnTo>
                    <a:pt x="1796" y="1604"/>
                  </a:lnTo>
                  <a:lnTo>
                    <a:pt x="1834" y="1562"/>
                  </a:lnTo>
                  <a:lnTo>
                    <a:pt x="1868" y="1516"/>
                  </a:lnTo>
                  <a:lnTo>
                    <a:pt x="1900" y="1470"/>
                  </a:lnTo>
                  <a:lnTo>
                    <a:pt x="1930" y="1422"/>
                  </a:lnTo>
                  <a:lnTo>
                    <a:pt x="1958" y="1376"/>
                  </a:lnTo>
                  <a:lnTo>
                    <a:pt x="1958" y="1376"/>
                  </a:lnTo>
                  <a:lnTo>
                    <a:pt x="1968" y="1356"/>
                  </a:lnTo>
                  <a:lnTo>
                    <a:pt x="1976" y="1332"/>
                  </a:lnTo>
                  <a:lnTo>
                    <a:pt x="1988" y="1284"/>
                  </a:lnTo>
                  <a:lnTo>
                    <a:pt x="1996" y="1264"/>
                  </a:lnTo>
                  <a:lnTo>
                    <a:pt x="2002" y="1254"/>
                  </a:lnTo>
                  <a:lnTo>
                    <a:pt x="2008" y="1244"/>
                  </a:lnTo>
                  <a:lnTo>
                    <a:pt x="2014" y="1236"/>
                  </a:lnTo>
                  <a:lnTo>
                    <a:pt x="2022" y="1230"/>
                  </a:lnTo>
                  <a:lnTo>
                    <a:pt x="2032" y="1224"/>
                  </a:lnTo>
                  <a:lnTo>
                    <a:pt x="2044" y="1220"/>
                  </a:lnTo>
                  <a:lnTo>
                    <a:pt x="2044" y="1220"/>
                  </a:lnTo>
                  <a:lnTo>
                    <a:pt x="2058" y="1232"/>
                  </a:lnTo>
                  <a:lnTo>
                    <a:pt x="2072" y="1240"/>
                  </a:lnTo>
                  <a:lnTo>
                    <a:pt x="2086" y="1248"/>
                  </a:lnTo>
                  <a:lnTo>
                    <a:pt x="2100" y="1254"/>
                  </a:lnTo>
                  <a:lnTo>
                    <a:pt x="2116" y="1258"/>
                  </a:lnTo>
                  <a:lnTo>
                    <a:pt x="2130" y="1262"/>
                  </a:lnTo>
                  <a:lnTo>
                    <a:pt x="2162" y="1264"/>
                  </a:lnTo>
                  <a:lnTo>
                    <a:pt x="2194" y="1264"/>
                  </a:lnTo>
                  <a:lnTo>
                    <a:pt x="2226" y="1260"/>
                  </a:lnTo>
                  <a:lnTo>
                    <a:pt x="2260" y="1252"/>
                  </a:lnTo>
                  <a:lnTo>
                    <a:pt x="2294" y="1244"/>
                  </a:lnTo>
                  <a:lnTo>
                    <a:pt x="2294" y="1244"/>
                  </a:lnTo>
                  <a:lnTo>
                    <a:pt x="2312" y="1216"/>
                  </a:lnTo>
                  <a:lnTo>
                    <a:pt x="2328" y="1190"/>
                  </a:lnTo>
                  <a:lnTo>
                    <a:pt x="2338" y="1168"/>
                  </a:lnTo>
                  <a:lnTo>
                    <a:pt x="2348" y="1146"/>
                  </a:lnTo>
                  <a:lnTo>
                    <a:pt x="2352" y="1120"/>
                  </a:lnTo>
                  <a:lnTo>
                    <a:pt x="2356" y="1090"/>
                  </a:lnTo>
                  <a:lnTo>
                    <a:pt x="2356" y="1056"/>
                  </a:lnTo>
                  <a:lnTo>
                    <a:pt x="2356" y="1010"/>
                  </a:lnTo>
                  <a:lnTo>
                    <a:pt x="2356" y="1010"/>
                  </a:lnTo>
                  <a:lnTo>
                    <a:pt x="2348" y="1002"/>
                  </a:lnTo>
                  <a:lnTo>
                    <a:pt x="2340" y="994"/>
                  </a:lnTo>
                  <a:lnTo>
                    <a:pt x="2330" y="976"/>
                  </a:lnTo>
                  <a:lnTo>
                    <a:pt x="2318" y="956"/>
                  </a:lnTo>
                  <a:lnTo>
                    <a:pt x="2310" y="948"/>
                  </a:lnTo>
                  <a:lnTo>
                    <a:pt x="2300" y="940"/>
                  </a:lnTo>
                  <a:lnTo>
                    <a:pt x="2300" y="940"/>
                  </a:lnTo>
                  <a:lnTo>
                    <a:pt x="2288" y="934"/>
                  </a:lnTo>
                  <a:lnTo>
                    <a:pt x="2272" y="928"/>
                  </a:lnTo>
                  <a:lnTo>
                    <a:pt x="2254" y="924"/>
                  </a:lnTo>
                  <a:lnTo>
                    <a:pt x="2234" y="920"/>
                  </a:lnTo>
                  <a:lnTo>
                    <a:pt x="2192" y="918"/>
                  </a:lnTo>
                  <a:lnTo>
                    <a:pt x="2154" y="918"/>
                  </a:lnTo>
                  <a:lnTo>
                    <a:pt x="2154" y="918"/>
                  </a:lnTo>
                  <a:close/>
                  <a:moveTo>
                    <a:pt x="140" y="536"/>
                  </a:moveTo>
                  <a:lnTo>
                    <a:pt x="140" y="536"/>
                  </a:lnTo>
                  <a:lnTo>
                    <a:pt x="136" y="514"/>
                  </a:lnTo>
                  <a:lnTo>
                    <a:pt x="134" y="494"/>
                  </a:lnTo>
                  <a:lnTo>
                    <a:pt x="132" y="474"/>
                  </a:lnTo>
                  <a:lnTo>
                    <a:pt x="132" y="454"/>
                  </a:lnTo>
                  <a:lnTo>
                    <a:pt x="134" y="434"/>
                  </a:lnTo>
                  <a:lnTo>
                    <a:pt x="138" y="416"/>
                  </a:lnTo>
                  <a:lnTo>
                    <a:pt x="146" y="374"/>
                  </a:lnTo>
                  <a:lnTo>
                    <a:pt x="146" y="374"/>
                  </a:lnTo>
                  <a:lnTo>
                    <a:pt x="166" y="368"/>
                  </a:lnTo>
                  <a:lnTo>
                    <a:pt x="194" y="366"/>
                  </a:lnTo>
                  <a:lnTo>
                    <a:pt x="194" y="366"/>
                  </a:lnTo>
                  <a:lnTo>
                    <a:pt x="206" y="378"/>
                  </a:lnTo>
                  <a:lnTo>
                    <a:pt x="218" y="386"/>
                  </a:lnTo>
                  <a:lnTo>
                    <a:pt x="222" y="392"/>
                  </a:lnTo>
                  <a:lnTo>
                    <a:pt x="226" y="398"/>
                  </a:lnTo>
                  <a:lnTo>
                    <a:pt x="230" y="408"/>
                  </a:lnTo>
                  <a:lnTo>
                    <a:pt x="232" y="420"/>
                  </a:lnTo>
                  <a:lnTo>
                    <a:pt x="232" y="420"/>
                  </a:lnTo>
                  <a:lnTo>
                    <a:pt x="222" y="438"/>
                  </a:lnTo>
                  <a:lnTo>
                    <a:pt x="214" y="458"/>
                  </a:lnTo>
                  <a:lnTo>
                    <a:pt x="208" y="476"/>
                  </a:lnTo>
                  <a:lnTo>
                    <a:pt x="202" y="494"/>
                  </a:lnTo>
                  <a:lnTo>
                    <a:pt x="194" y="508"/>
                  </a:lnTo>
                  <a:lnTo>
                    <a:pt x="188" y="514"/>
                  </a:lnTo>
                  <a:lnTo>
                    <a:pt x="180" y="520"/>
                  </a:lnTo>
                  <a:lnTo>
                    <a:pt x="172" y="526"/>
                  </a:lnTo>
                  <a:lnTo>
                    <a:pt x="164" y="530"/>
                  </a:lnTo>
                  <a:lnTo>
                    <a:pt x="152" y="534"/>
                  </a:lnTo>
                  <a:lnTo>
                    <a:pt x="140" y="536"/>
                  </a:lnTo>
                  <a:lnTo>
                    <a:pt x="140" y="536"/>
                  </a:lnTo>
                  <a:close/>
                  <a:moveTo>
                    <a:pt x="722" y="234"/>
                  </a:moveTo>
                  <a:lnTo>
                    <a:pt x="722" y="234"/>
                  </a:lnTo>
                  <a:lnTo>
                    <a:pt x="748" y="236"/>
                  </a:lnTo>
                  <a:lnTo>
                    <a:pt x="774" y="240"/>
                  </a:lnTo>
                  <a:lnTo>
                    <a:pt x="798" y="246"/>
                  </a:lnTo>
                  <a:lnTo>
                    <a:pt x="808" y="252"/>
                  </a:lnTo>
                  <a:lnTo>
                    <a:pt x="816" y="256"/>
                  </a:lnTo>
                  <a:lnTo>
                    <a:pt x="816" y="256"/>
                  </a:lnTo>
                  <a:lnTo>
                    <a:pt x="832" y="264"/>
                  </a:lnTo>
                  <a:lnTo>
                    <a:pt x="846" y="274"/>
                  </a:lnTo>
                  <a:lnTo>
                    <a:pt x="856" y="286"/>
                  </a:lnTo>
                  <a:lnTo>
                    <a:pt x="868" y="298"/>
                  </a:lnTo>
                  <a:lnTo>
                    <a:pt x="888" y="324"/>
                  </a:lnTo>
                  <a:lnTo>
                    <a:pt x="898" y="338"/>
                  </a:lnTo>
                  <a:lnTo>
                    <a:pt x="908" y="350"/>
                  </a:lnTo>
                  <a:lnTo>
                    <a:pt x="908" y="350"/>
                  </a:lnTo>
                  <a:lnTo>
                    <a:pt x="908" y="368"/>
                  </a:lnTo>
                  <a:lnTo>
                    <a:pt x="906" y="384"/>
                  </a:lnTo>
                  <a:lnTo>
                    <a:pt x="902" y="412"/>
                  </a:lnTo>
                  <a:lnTo>
                    <a:pt x="902" y="412"/>
                  </a:lnTo>
                  <a:lnTo>
                    <a:pt x="886" y="412"/>
                  </a:lnTo>
                  <a:lnTo>
                    <a:pt x="886" y="412"/>
                  </a:lnTo>
                  <a:lnTo>
                    <a:pt x="878" y="416"/>
                  </a:lnTo>
                  <a:lnTo>
                    <a:pt x="870" y="418"/>
                  </a:lnTo>
                  <a:lnTo>
                    <a:pt x="846" y="420"/>
                  </a:lnTo>
                  <a:lnTo>
                    <a:pt x="846" y="420"/>
                  </a:lnTo>
                  <a:lnTo>
                    <a:pt x="822" y="378"/>
                  </a:lnTo>
                  <a:lnTo>
                    <a:pt x="802" y="350"/>
                  </a:lnTo>
                  <a:lnTo>
                    <a:pt x="794" y="340"/>
                  </a:lnTo>
                  <a:lnTo>
                    <a:pt x="784" y="332"/>
                  </a:lnTo>
                  <a:lnTo>
                    <a:pt x="776" y="328"/>
                  </a:lnTo>
                  <a:lnTo>
                    <a:pt x="766" y="326"/>
                  </a:lnTo>
                  <a:lnTo>
                    <a:pt x="756" y="324"/>
                  </a:lnTo>
                  <a:lnTo>
                    <a:pt x="746" y="326"/>
                  </a:lnTo>
                  <a:lnTo>
                    <a:pt x="720" y="332"/>
                  </a:lnTo>
                  <a:lnTo>
                    <a:pt x="688" y="340"/>
                  </a:lnTo>
                  <a:lnTo>
                    <a:pt x="644" y="350"/>
                  </a:lnTo>
                  <a:lnTo>
                    <a:pt x="644" y="350"/>
                  </a:lnTo>
                  <a:lnTo>
                    <a:pt x="636" y="336"/>
                  </a:lnTo>
                  <a:lnTo>
                    <a:pt x="630" y="324"/>
                  </a:lnTo>
                  <a:lnTo>
                    <a:pt x="624" y="310"/>
                  </a:lnTo>
                  <a:lnTo>
                    <a:pt x="622" y="288"/>
                  </a:lnTo>
                  <a:lnTo>
                    <a:pt x="622" y="288"/>
                  </a:lnTo>
                  <a:lnTo>
                    <a:pt x="646" y="276"/>
                  </a:lnTo>
                  <a:lnTo>
                    <a:pt x="672" y="262"/>
                  </a:lnTo>
                  <a:lnTo>
                    <a:pt x="698" y="248"/>
                  </a:lnTo>
                  <a:lnTo>
                    <a:pt x="722" y="234"/>
                  </a:lnTo>
                  <a:lnTo>
                    <a:pt x="722" y="234"/>
                  </a:lnTo>
                  <a:close/>
                  <a:moveTo>
                    <a:pt x="552" y="630"/>
                  </a:moveTo>
                  <a:lnTo>
                    <a:pt x="552" y="630"/>
                  </a:lnTo>
                  <a:lnTo>
                    <a:pt x="574" y="628"/>
                  </a:lnTo>
                  <a:lnTo>
                    <a:pt x="582" y="626"/>
                  </a:lnTo>
                  <a:lnTo>
                    <a:pt x="590" y="622"/>
                  </a:lnTo>
                  <a:lnTo>
                    <a:pt x="590" y="622"/>
                  </a:lnTo>
                  <a:lnTo>
                    <a:pt x="614" y="622"/>
                  </a:lnTo>
                  <a:lnTo>
                    <a:pt x="636" y="624"/>
                  </a:lnTo>
                  <a:lnTo>
                    <a:pt x="658" y="626"/>
                  </a:lnTo>
                  <a:lnTo>
                    <a:pt x="678" y="630"/>
                  </a:lnTo>
                  <a:lnTo>
                    <a:pt x="698" y="636"/>
                  </a:lnTo>
                  <a:lnTo>
                    <a:pt x="716" y="644"/>
                  </a:lnTo>
                  <a:lnTo>
                    <a:pt x="734" y="652"/>
                  </a:lnTo>
                  <a:lnTo>
                    <a:pt x="748" y="662"/>
                  </a:lnTo>
                  <a:lnTo>
                    <a:pt x="764" y="674"/>
                  </a:lnTo>
                  <a:lnTo>
                    <a:pt x="776" y="686"/>
                  </a:lnTo>
                  <a:lnTo>
                    <a:pt x="788" y="700"/>
                  </a:lnTo>
                  <a:lnTo>
                    <a:pt x="798" y="716"/>
                  </a:lnTo>
                  <a:lnTo>
                    <a:pt x="804" y="732"/>
                  </a:lnTo>
                  <a:lnTo>
                    <a:pt x="810" y="752"/>
                  </a:lnTo>
                  <a:lnTo>
                    <a:pt x="814" y="772"/>
                  </a:lnTo>
                  <a:lnTo>
                    <a:pt x="816" y="794"/>
                  </a:lnTo>
                  <a:lnTo>
                    <a:pt x="816" y="794"/>
                  </a:lnTo>
                  <a:lnTo>
                    <a:pt x="804" y="806"/>
                  </a:lnTo>
                  <a:lnTo>
                    <a:pt x="796" y="820"/>
                  </a:lnTo>
                  <a:lnTo>
                    <a:pt x="786" y="830"/>
                  </a:lnTo>
                  <a:lnTo>
                    <a:pt x="778" y="836"/>
                  </a:lnTo>
                  <a:lnTo>
                    <a:pt x="770" y="840"/>
                  </a:lnTo>
                  <a:lnTo>
                    <a:pt x="770" y="840"/>
                  </a:lnTo>
                  <a:lnTo>
                    <a:pt x="760" y="844"/>
                  </a:lnTo>
                  <a:lnTo>
                    <a:pt x="752" y="844"/>
                  </a:lnTo>
                  <a:lnTo>
                    <a:pt x="730" y="840"/>
                  </a:lnTo>
                  <a:lnTo>
                    <a:pt x="730" y="840"/>
                  </a:lnTo>
                  <a:lnTo>
                    <a:pt x="702" y="778"/>
                  </a:lnTo>
                  <a:lnTo>
                    <a:pt x="676" y="716"/>
                  </a:lnTo>
                  <a:lnTo>
                    <a:pt x="676" y="716"/>
                  </a:lnTo>
                  <a:lnTo>
                    <a:pt x="648" y="714"/>
                  </a:lnTo>
                  <a:lnTo>
                    <a:pt x="624" y="716"/>
                  </a:lnTo>
                  <a:lnTo>
                    <a:pt x="606" y="718"/>
                  </a:lnTo>
                  <a:lnTo>
                    <a:pt x="590" y="722"/>
                  </a:lnTo>
                  <a:lnTo>
                    <a:pt x="556" y="732"/>
                  </a:lnTo>
                  <a:lnTo>
                    <a:pt x="536" y="736"/>
                  </a:lnTo>
                  <a:lnTo>
                    <a:pt x="512" y="738"/>
                  </a:lnTo>
                  <a:lnTo>
                    <a:pt x="512" y="738"/>
                  </a:lnTo>
                  <a:lnTo>
                    <a:pt x="504" y="724"/>
                  </a:lnTo>
                  <a:lnTo>
                    <a:pt x="496" y="714"/>
                  </a:lnTo>
                  <a:lnTo>
                    <a:pt x="492" y="700"/>
                  </a:lnTo>
                  <a:lnTo>
                    <a:pt x="490" y="676"/>
                  </a:lnTo>
                  <a:lnTo>
                    <a:pt x="490" y="676"/>
                  </a:lnTo>
                  <a:lnTo>
                    <a:pt x="522" y="654"/>
                  </a:lnTo>
                  <a:lnTo>
                    <a:pt x="538" y="642"/>
                  </a:lnTo>
                  <a:lnTo>
                    <a:pt x="552" y="630"/>
                  </a:lnTo>
                  <a:lnTo>
                    <a:pt x="552" y="630"/>
                  </a:lnTo>
                  <a:close/>
                  <a:moveTo>
                    <a:pt x="1104" y="1470"/>
                  </a:moveTo>
                  <a:lnTo>
                    <a:pt x="1104" y="1470"/>
                  </a:lnTo>
                  <a:lnTo>
                    <a:pt x="1094" y="1478"/>
                  </a:lnTo>
                  <a:lnTo>
                    <a:pt x="1082" y="1484"/>
                  </a:lnTo>
                  <a:lnTo>
                    <a:pt x="1068" y="1488"/>
                  </a:lnTo>
                  <a:lnTo>
                    <a:pt x="1054" y="1492"/>
                  </a:lnTo>
                  <a:lnTo>
                    <a:pt x="1038" y="1496"/>
                  </a:lnTo>
                  <a:lnTo>
                    <a:pt x="1020" y="1496"/>
                  </a:lnTo>
                  <a:lnTo>
                    <a:pt x="982" y="1496"/>
                  </a:lnTo>
                  <a:lnTo>
                    <a:pt x="940" y="1490"/>
                  </a:lnTo>
                  <a:lnTo>
                    <a:pt x="898" y="1482"/>
                  </a:lnTo>
                  <a:lnTo>
                    <a:pt x="856" y="1468"/>
                  </a:lnTo>
                  <a:lnTo>
                    <a:pt x="814" y="1452"/>
                  </a:lnTo>
                  <a:lnTo>
                    <a:pt x="776" y="1434"/>
                  </a:lnTo>
                  <a:lnTo>
                    <a:pt x="742" y="1412"/>
                  </a:lnTo>
                  <a:lnTo>
                    <a:pt x="726" y="1400"/>
                  </a:lnTo>
                  <a:lnTo>
                    <a:pt x="712" y="1388"/>
                  </a:lnTo>
                  <a:lnTo>
                    <a:pt x="700" y="1376"/>
                  </a:lnTo>
                  <a:lnTo>
                    <a:pt x="690" y="1364"/>
                  </a:lnTo>
                  <a:lnTo>
                    <a:pt x="682" y="1350"/>
                  </a:lnTo>
                  <a:lnTo>
                    <a:pt x="676" y="1336"/>
                  </a:lnTo>
                  <a:lnTo>
                    <a:pt x="674" y="1322"/>
                  </a:lnTo>
                  <a:lnTo>
                    <a:pt x="672" y="1308"/>
                  </a:lnTo>
                  <a:lnTo>
                    <a:pt x="674" y="1294"/>
                  </a:lnTo>
                  <a:lnTo>
                    <a:pt x="680" y="1280"/>
                  </a:lnTo>
                  <a:lnTo>
                    <a:pt x="688" y="1266"/>
                  </a:lnTo>
                  <a:lnTo>
                    <a:pt x="700" y="1252"/>
                  </a:lnTo>
                  <a:lnTo>
                    <a:pt x="700" y="1252"/>
                  </a:lnTo>
                  <a:lnTo>
                    <a:pt x="712" y="1260"/>
                  </a:lnTo>
                  <a:lnTo>
                    <a:pt x="722" y="1272"/>
                  </a:lnTo>
                  <a:lnTo>
                    <a:pt x="730" y="1282"/>
                  </a:lnTo>
                  <a:lnTo>
                    <a:pt x="738" y="1294"/>
                  </a:lnTo>
                  <a:lnTo>
                    <a:pt x="750" y="1318"/>
                  </a:lnTo>
                  <a:lnTo>
                    <a:pt x="758" y="1328"/>
                  </a:lnTo>
                  <a:lnTo>
                    <a:pt x="770" y="1338"/>
                  </a:lnTo>
                  <a:lnTo>
                    <a:pt x="770" y="1338"/>
                  </a:lnTo>
                  <a:lnTo>
                    <a:pt x="784" y="1348"/>
                  </a:lnTo>
                  <a:lnTo>
                    <a:pt x="800" y="1356"/>
                  </a:lnTo>
                  <a:lnTo>
                    <a:pt x="818" y="1364"/>
                  </a:lnTo>
                  <a:lnTo>
                    <a:pt x="834" y="1370"/>
                  </a:lnTo>
                  <a:lnTo>
                    <a:pt x="852" y="1374"/>
                  </a:lnTo>
                  <a:lnTo>
                    <a:pt x="868" y="1378"/>
                  </a:lnTo>
                  <a:lnTo>
                    <a:pt x="906" y="1382"/>
                  </a:lnTo>
                  <a:lnTo>
                    <a:pt x="944" y="1382"/>
                  </a:lnTo>
                  <a:lnTo>
                    <a:pt x="982" y="1380"/>
                  </a:lnTo>
                  <a:lnTo>
                    <a:pt x="1064" y="1376"/>
                  </a:lnTo>
                  <a:lnTo>
                    <a:pt x="1064" y="1376"/>
                  </a:lnTo>
                  <a:lnTo>
                    <a:pt x="1076" y="1388"/>
                  </a:lnTo>
                  <a:lnTo>
                    <a:pt x="1086" y="1396"/>
                  </a:lnTo>
                  <a:lnTo>
                    <a:pt x="1094" y="1402"/>
                  </a:lnTo>
                  <a:lnTo>
                    <a:pt x="1104" y="1410"/>
                  </a:lnTo>
                  <a:lnTo>
                    <a:pt x="1110" y="1418"/>
                  </a:lnTo>
                  <a:lnTo>
                    <a:pt x="1114" y="1430"/>
                  </a:lnTo>
                  <a:lnTo>
                    <a:pt x="1118" y="1446"/>
                  </a:lnTo>
                  <a:lnTo>
                    <a:pt x="1118" y="1470"/>
                  </a:lnTo>
                  <a:lnTo>
                    <a:pt x="1118" y="1470"/>
                  </a:lnTo>
                  <a:lnTo>
                    <a:pt x="1104" y="1470"/>
                  </a:lnTo>
                  <a:lnTo>
                    <a:pt x="1104" y="1470"/>
                  </a:lnTo>
                  <a:close/>
                  <a:moveTo>
                    <a:pt x="1196" y="1416"/>
                  </a:moveTo>
                  <a:lnTo>
                    <a:pt x="1196" y="1416"/>
                  </a:lnTo>
                  <a:lnTo>
                    <a:pt x="1180" y="1400"/>
                  </a:lnTo>
                  <a:lnTo>
                    <a:pt x="1164" y="1380"/>
                  </a:lnTo>
                  <a:lnTo>
                    <a:pt x="1150" y="1358"/>
                  </a:lnTo>
                  <a:lnTo>
                    <a:pt x="1138" y="1332"/>
                  </a:lnTo>
                  <a:lnTo>
                    <a:pt x="1124" y="1306"/>
                  </a:lnTo>
                  <a:lnTo>
                    <a:pt x="1114" y="1278"/>
                  </a:lnTo>
                  <a:lnTo>
                    <a:pt x="1096" y="1228"/>
                  </a:lnTo>
                  <a:lnTo>
                    <a:pt x="1096" y="1228"/>
                  </a:lnTo>
                  <a:lnTo>
                    <a:pt x="1058" y="1212"/>
                  </a:lnTo>
                  <a:lnTo>
                    <a:pt x="1018" y="1198"/>
                  </a:lnTo>
                  <a:lnTo>
                    <a:pt x="980" y="1186"/>
                  </a:lnTo>
                  <a:lnTo>
                    <a:pt x="938" y="1176"/>
                  </a:lnTo>
                  <a:lnTo>
                    <a:pt x="852" y="1156"/>
                  </a:lnTo>
                  <a:lnTo>
                    <a:pt x="762" y="1136"/>
                  </a:lnTo>
                  <a:lnTo>
                    <a:pt x="762" y="1136"/>
                  </a:lnTo>
                  <a:lnTo>
                    <a:pt x="754" y="1146"/>
                  </a:lnTo>
                  <a:lnTo>
                    <a:pt x="746" y="1154"/>
                  </a:lnTo>
                  <a:lnTo>
                    <a:pt x="736" y="1162"/>
                  </a:lnTo>
                  <a:lnTo>
                    <a:pt x="728" y="1168"/>
                  </a:lnTo>
                  <a:lnTo>
                    <a:pt x="708" y="1178"/>
                  </a:lnTo>
                  <a:lnTo>
                    <a:pt x="686" y="1182"/>
                  </a:lnTo>
                  <a:lnTo>
                    <a:pt x="660" y="1184"/>
                  </a:lnTo>
                  <a:lnTo>
                    <a:pt x="634" y="1186"/>
                  </a:lnTo>
                  <a:lnTo>
                    <a:pt x="574" y="1182"/>
                  </a:lnTo>
                  <a:lnTo>
                    <a:pt x="574" y="1182"/>
                  </a:lnTo>
                  <a:lnTo>
                    <a:pt x="534" y="1116"/>
                  </a:lnTo>
                  <a:lnTo>
                    <a:pt x="516" y="1082"/>
                  </a:lnTo>
                  <a:lnTo>
                    <a:pt x="496" y="1042"/>
                  </a:lnTo>
                  <a:lnTo>
                    <a:pt x="496" y="1042"/>
                  </a:lnTo>
                  <a:lnTo>
                    <a:pt x="490" y="1042"/>
                  </a:lnTo>
                  <a:lnTo>
                    <a:pt x="490" y="1042"/>
                  </a:lnTo>
                  <a:lnTo>
                    <a:pt x="490" y="1064"/>
                  </a:lnTo>
                  <a:lnTo>
                    <a:pt x="488" y="1086"/>
                  </a:lnTo>
                  <a:lnTo>
                    <a:pt x="486" y="1108"/>
                  </a:lnTo>
                  <a:lnTo>
                    <a:pt x="482" y="1130"/>
                  </a:lnTo>
                  <a:lnTo>
                    <a:pt x="476" y="1152"/>
                  </a:lnTo>
                  <a:lnTo>
                    <a:pt x="470" y="1174"/>
                  </a:lnTo>
                  <a:lnTo>
                    <a:pt x="462" y="1194"/>
                  </a:lnTo>
                  <a:lnTo>
                    <a:pt x="454" y="1212"/>
                  </a:lnTo>
                  <a:lnTo>
                    <a:pt x="442" y="1230"/>
                  </a:lnTo>
                  <a:lnTo>
                    <a:pt x="432" y="1248"/>
                  </a:lnTo>
                  <a:lnTo>
                    <a:pt x="418" y="1262"/>
                  </a:lnTo>
                  <a:lnTo>
                    <a:pt x="404" y="1274"/>
                  </a:lnTo>
                  <a:lnTo>
                    <a:pt x="388" y="1284"/>
                  </a:lnTo>
                  <a:lnTo>
                    <a:pt x="372" y="1292"/>
                  </a:lnTo>
                  <a:lnTo>
                    <a:pt x="354" y="1296"/>
                  </a:lnTo>
                  <a:lnTo>
                    <a:pt x="334" y="1298"/>
                  </a:lnTo>
                  <a:lnTo>
                    <a:pt x="334" y="1298"/>
                  </a:lnTo>
                  <a:lnTo>
                    <a:pt x="320" y="1278"/>
                  </a:lnTo>
                  <a:lnTo>
                    <a:pt x="302" y="1260"/>
                  </a:lnTo>
                  <a:lnTo>
                    <a:pt x="302" y="1260"/>
                  </a:lnTo>
                  <a:lnTo>
                    <a:pt x="306" y="1250"/>
                  </a:lnTo>
                  <a:lnTo>
                    <a:pt x="310" y="1244"/>
                  </a:lnTo>
                  <a:lnTo>
                    <a:pt x="310" y="1244"/>
                  </a:lnTo>
                  <a:lnTo>
                    <a:pt x="318" y="1224"/>
                  </a:lnTo>
                  <a:lnTo>
                    <a:pt x="330" y="1208"/>
                  </a:lnTo>
                  <a:lnTo>
                    <a:pt x="342" y="1190"/>
                  </a:lnTo>
                  <a:lnTo>
                    <a:pt x="356" y="1174"/>
                  </a:lnTo>
                  <a:lnTo>
                    <a:pt x="370" y="1158"/>
                  </a:lnTo>
                  <a:lnTo>
                    <a:pt x="384" y="1142"/>
                  </a:lnTo>
                  <a:lnTo>
                    <a:pt x="394" y="1124"/>
                  </a:lnTo>
                  <a:lnTo>
                    <a:pt x="404" y="1104"/>
                  </a:lnTo>
                  <a:lnTo>
                    <a:pt x="404" y="1104"/>
                  </a:lnTo>
                  <a:lnTo>
                    <a:pt x="408" y="1088"/>
                  </a:lnTo>
                  <a:lnTo>
                    <a:pt x="412" y="1074"/>
                  </a:lnTo>
                  <a:lnTo>
                    <a:pt x="414" y="1060"/>
                  </a:lnTo>
                  <a:lnTo>
                    <a:pt x="414" y="1044"/>
                  </a:lnTo>
                  <a:lnTo>
                    <a:pt x="412" y="1016"/>
                  </a:lnTo>
                  <a:lnTo>
                    <a:pt x="408" y="988"/>
                  </a:lnTo>
                  <a:lnTo>
                    <a:pt x="396" y="932"/>
                  </a:lnTo>
                  <a:lnTo>
                    <a:pt x="390" y="906"/>
                  </a:lnTo>
                  <a:lnTo>
                    <a:pt x="388" y="878"/>
                  </a:lnTo>
                  <a:lnTo>
                    <a:pt x="388" y="878"/>
                  </a:lnTo>
                  <a:lnTo>
                    <a:pt x="398" y="876"/>
                  </a:lnTo>
                  <a:lnTo>
                    <a:pt x="404" y="870"/>
                  </a:lnTo>
                  <a:lnTo>
                    <a:pt x="404" y="870"/>
                  </a:lnTo>
                  <a:lnTo>
                    <a:pt x="416" y="874"/>
                  </a:lnTo>
                  <a:lnTo>
                    <a:pt x="426" y="880"/>
                  </a:lnTo>
                  <a:lnTo>
                    <a:pt x="436" y="886"/>
                  </a:lnTo>
                  <a:lnTo>
                    <a:pt x="442" y="892"/>
                  </a:lnTo>
                  <a:lnTo>
                    <a:pt x="454" y="904"/>
                  </a:lnTo>
                  <a:lnTo>
                    <a:pt x="464" y="920"/>
                  </a:lnTo>
                  <a:lnTo>
                    <a:pt x="478" y="956"/>
                  </a:lnTo>
                  <a:lnTo>
                    <a:pt x="486" y="976"/>
                  </a:lnTo>
                  <a:lnTo>
                    <a:pt x="496" y="996"/>
                  </a:lnTo>
                  <a:lnTo>
                    <a:pt x="496" y="996"/>
                  </a:lnTo>
                  <a:lnTo>
                    <a:pt x="500" y="972"/>
                  </a:lnTo>
                  <a:lnTo>
                    <a:pt x="508" y="954"/>
                  </a:lnTo>
                  <a:lnTo>
                    <a:pt x="518" y="936"/>
                  </a:lnTo>
                  <a:lnTo>
                    <a:pt x="534" y="922"/>
                  </a:lnTo>
                  <a:lnTo>
                    <a:pt x="550" y="910"/>
                  </a:lnTo>
                  <a:lnTo>
                    <a:pt x="570" y="902"/>
                  </a:lnTo>
                  <a:lnTo>
                    <a:pt x="590" y="896"/>
                  </a:lnTo>
                  <a:lnTo>
                    <a:pt x="614" y="894"/>
                  </a:lnTo>
                  <a:lnTo>
                    <a:pt x="614" y="894"/>
                  </a:lnTo>
                  <a:lnTo>
                    <a:pt x="626" y="900"/>
                  </a:lnTo>
                  <a:lnTo>
                    <a:pt x="642" y="906"/>
                  </a:lnTo>
                  <a:lnTo>
                    <a:pt x="686" y="916"/>
                  </a:lnTo>
                  <a:lnTo>
                    <a:pt x="762" y="932"/>
                  </a:lnTo>
                  <a:lnTo>
                    <a:pt x="762" y="932"/>
                  </a:lnTo>
                  <a:lnTo>
                    <a:pt x="792" y="996"/>
                  </a:lnTo>
                  <a:lnTo>
                    <a:pt x="824" y="1058"/>
                  </a:lnTo>
                  <a:lnTo>
                    <a:pt x="824" y="1058"/>
                  </a:lnTo>
                  <a:lnTo>
                    <a:pt x="840" y="1064"/>
                  </a:lnTo>
                  <a:lnTo>
                    <a:pt x="858" y="1070"/>
                  </a:lnTo>
                  <a:lnTo>
                    <a:pt x="876" y="1072"/>
                  </a:lnTo>
                  <a:lnTo>
                    <a:pt x="898" y="1072"/>
                  </a:lnTo>
                  <a:lnTo>
                    <a:pt x="940" y="1074"/>
                  </a:lnTo>
                  <a:lnTo>
                    <a:pt x="960" y="1076"/>
                  </a:lnTo>
                  <a:lnTo>
                    <a:pt x="978" y="1080"/>
                  </a:lnTo>
                  <a:lnTo>
                    <a:pt x="978" y="1080"/>
                  </a:lnTo>
                  <a:lnTo>
                    <a:pt x="1000" y="1088"/>
                  </a:lnTo>
                  <a:lnTo>
                    <a:pt x="1022" y="1098"/>
                  </a:lnTo>
                  <a:lnTo>
                    <a:pt x="1066" y="1120"/>
                  </a:lnTo>
                  <a:lnTo>
                    <a:pt x="1108" y="1142"/>
                  </a:lnTo>
                  <a:lnTo>
                    <a:pt x="1130" y="1150"/>
                  </a:lnTo>
                  <a:lnTo>
                    <a:pt x="1150" y="1158"/>
                  </a:lnTo>
                  <a:lnTo>
                    <a:pt x="1150" y="1158"/>
                  </a:lnTo>
                  <a:lnTo>
                    <a:pt x="1170" y="1142"/>
                  </a:lnTo>
                  <a:lnTo>
                    <a:pt x="1190" y="1128"/>
                  </a:lnTo>
                  <a:lnTo>
                    <a:pt x="1212" y="1120"/>
                  </a:lnTo>
                  <a:lnTo>
                    <a:pt x="1232" y="1116"/>
                  </a:lnTo>
                  <a:lnTo>
                    <a:pt x="1254" y="1114"/>
                  </a:lnTo>
                  <a:lnTo>
                    <a:pt x="1276" y="1116"/>
                  </a:lnTo>
                  <a:lnTo>
                    <a:pt x="1296" y="1122"/>
                  </a:lnTo>
                  <a:lnTo>
                    <a:pt x="1316" y="1128"/>
                  </a:lnTo>
                  <a:lnTo>
                    <a:pt x="1336" y="1138"/>
                  </a:lnTo>
                  <a:lnTo>
                    <a:pt x="1356" y="1150"/>
                  </a:lnTo>
                  <a:lnTo>
                    <a:pt x="1374" y="1162"/>
                  </a:lnTo>
                  <a:lnTo>
                    <a:pt x="1392" y="1174"/>
                  </a:lnTo>
                  <a:lnTo>
                    <a:pt x="1426" y="1202"/>
                  </a:lnTo>
                  <a:lnTo>
                    <a:pt x="1454" y="1228"/>
                  </a:lnTo>
                  <a:lnTo>
                    <a:pt x="1454" y="1228"/>
                  </a:lnTo>
                  <a:lnTo>
                    <a:pt x="1458" y="1284"/>
                  </a:lnTo>
                  <a:lnTo>
                    <a:pt x="1458" y="1306"/>
                  </a:lnTo>
                  <a:lnTo>
                    <a:pt x="1456" y="1316"/>
                  </a:lnTo>
                  <a:lnTo>
                    <a:pt x="1454" y="1322"/>
                  </a:lnTo>
                  <a:lnTo>
                    <a:pt x="1454" y="1322"/>
                  </a:lnTo>
                  <a:lnTo>
                    <a:pt x="1448" y="1342"/>
                  </a:lnTo>
                  <a:lnTo>
                    <a:pt x="1438" y="1360"/>
                  </a:lnTo>
                  <a:lnTo>
                    <a:pt x="1428" y="1376"/>
                  </a:lnTo>
                  <a:lnTo>
                    <a:pt x="1416" y="1392"/>
                  </a:lnTo>
                  <a:lnTo>
                    <a:pt x="1402" y="1406"/>
                  </a:lnTo>
                  <a:lnTo>
                    <a:pt x="1386" y="1418"/>
                  </a:lnTo>
                  <a:lnTo>
                    <a:pt x="1370" y="1428"/>
                  </a:lnTo>
                  <a:lnTo>
                    <a:pt x="1352" y="1436"/>
                  </a:lnTo>
                  <a:lnTo>
                    <a:pt x="1334" y="1442"/>
                  </a:lnTo>
                  <a:lnTo>
                    <a:pt x="1316" y="1446"/>
                  </a:lnTo>
                  <a:lnTo>
                    <a:pt x="1296" y="1448"/>
                  </a:lnTo>
                  <a:lnTo>
                    <a:pt x="1276" y="1446"/>
                  </a:lnTo>
                  <a:lnTo>
                    <a:pt x="1256" y="1442"/>
                  </a:lnTo>
                  <a:lnTo>
                    <a:pt x="1236" y="1436"/>
                  </a:lnTo>
                  <a:lnTo>
                    <a:pt x="1216" y="1428"/>
                  </a:lnTo>
                  <a:lnTo>
                    <a:pt x="1196" y="1416"/>
                  </a:lnTo>
                  <a:lnTo>
                    <a:pt x="1196" y="1416"/>
                  </a:lnTo>
                  <a:close/>
                  <a:moveTo>
                    <a:pt x="1462" y="1586"/>
                  </a:moveTo>
                  <a:lnTo>
                    <a:pt x="1462" y="1586"/>
                  </a:lnTo>
                  <a:lnTo>
                    <a:pt x="1460" y="1600"/>
                  </a:lnTo>
                  <a:lnTo>
                    <a:pt x="1460" y="1608"/>
                  </a:lnTo>
                  <a:lnTo>
                    <a:pt x="1464" y="1616"/>
                  </a:lnTo>
                  <a:lnTo>
                    <a:pt x="1468" y="1620"/>
                  </a:lnTo>
                  <a:lnTo>
                    <a:pt x="1478" y="1628"/>
                  </a:lnTo>
                  <a:lnTo>
                    <a:pt x="1482" y="1630"/>
                  </a:lnTo>
                  <a:lnTo>
                    <a:pt x="1484" y="1632"/>
                  </a:lnTo>
                  <a:lnTo>
                    <a:pt x="1484" y="1632"/>
                  </a:lnTo>
                  <a:lnTo>
                    <a:pt x="1486" y="1638"/>
                  </a:lnTo>
                  <a:lnTo>
                    <a:pt x="1484" y="1642"/>
                  </a:lnTo>
                  <a:lnTo>
                    <a:pt x="1482" y="1656"/>
                  </a:lnTo>
                  <a:lnTo>
                    <a:pt x="1478" y="1672"/>
                  </a:lnTo>
                  <a:lnTo>
                    <a:pt x="1476" y="1688"/>
                  </a:lnTo>
                  <a:lnTo>
                    <a:pt x="1476" y="1688"/>
                  </a:lnTo>
                  <a:lnTo>
                    <a:pt x="1466" y="1690"/>
                  </a:lnTo>
                  <a:lnTo>
                    <a:pt x="1452" y="1692"/>
                  </a:lnTo>
                  <a:lnTo>
                    <a:pt x="1422" y="1696"/>
                  </a:lnTo>
                  <a:lnTo>
                    <a:pt x="1422" y="1696"/>
                  </a:lnTo>
                  <a:lnTo>
                    <a:pt x="1410" y="1680"/>
                  </a:lnTo>
                  <a:lnTo>
                    <a:pt x="1400" y="1666"/>
                  </a:lnTo>
                  <a:lnTo>
                    <a:pt x="1392" y="1652"/>
                  </a:lnTo>
                  <a:lnTo>
                    <a:pt x="1386" y="1638"/>
                  </a:lnTo>
                  <a:lnTo>
                    <a:pt x="1382" y="1626"/>
                  </a:lnTo>
                  <a:lnTo>
                    <a:pt x="1378" y="1612"/>
                  </a:lnTo>
                  <a:lnTo>
                    <a:pt x="1376" y="1598"/>
                  </a:lnTo>
                  <a:lnTo>
                    <a:pt x="1376" y="1586"/>
                  </a:lnTo>
                  <a:lnTo>
                    <a:pt x="1376" y="1572"/>
                  </a:lnTo>
                  <a:lnTo>
                    <a:pt x="1378" y="1560"/>
                  </a:lnTo>
                  <a:lnTo>
                    <a:pt x="1384" y="1536"/>
                  </a:lnTo>
                  <a:lnTo>
                    <a:pt x="1396" y="1512"/>
                  </a:lnTo>
                  <a:lnTo>
                    <a:pt x="1410" y="1488"/>
                  </a:lnTo>
                  <a:lnTo>
                    <a:pt x="1426" y="1466"/>
                  </a:lnTo>
                  <a:lnTo>
                    <a:pt x="1446" y="1444"/>
                  </a:lnTo>
                  <a:lnTo>
                    <a:pt x="1466" y="1424"/>
                  </a:lnTo>
                  <a:lnTo>
                    <a:pt x="1486" y="1404"/>
                  </a:lnTo>
                  <a:lnTo>
                    <a:pt x="1526" y="1370"/>
                  </a:lnTo>
                  <a:lnTo>
                    <a:pt x="1562" y="1338"/>
                  </a:lnTo>
                  <a:lnTo>
                    <a:pt x="1562" y="1338"/>
                  </a:lnTo>
                  <a:lnTo>
                    <a:pt x="1582" y="1336"/>
                  </a:lnTo>
                  <a:lnTo>
                    <a:pt x="1588" y="1334"/>
                  </a:lnTo>
                  <a:lnTo>
                    <a:pt x="1594" y="1330"/>
                  </a:lnTo>
                  <a:lnTo>
                    <a:pt x="1594" y="1330"/>
                  </a:lnTo>
                  <a:lnTo>
                    <a:pt x="1614" y="1330"/>
                  </a:lnTo>
                  <a:lnTo>
                    <a:pt x="1632" y="1330"/>
                  </a:lnTo>
                  <a:lnTo>
                    <a:pt x="1648" y="1334"/>
                  </a:lnTo>
                  <a:lnTo>
                    <a:pt x="1660" y="1340"/>
                  </a:lnTo>
                  <a:lnTo>
                    <a:pt x="1670" y="1348"/>
                  </a:lnTo>
                  <a:lnTo>
                    <a:pt x="1678" y="1360"/>
                  </a:lnTo>
                  <a:lnTo>
                    <a:pt x="1684" y="1374"/>
                  </a:lnTo>
                  <a:lnTo>
                    <a:pt x="1686" y="1392"/>
                  </a:lnTo>
                  <a:lnTo>
                    <a:pt x="1686" y="1392"/>
                  </a:lnTo>
                  <a:lnTo>
                    <a:pt x="1616" y="1426"/>
                  </a:lnTo>
                  <a:lnTo>
                    <a:pt x="1582" y="1444"/>
                  </a:lnTo>
                  <a:lnTo>
                    <a:pt x="1548" y="1466"/>
                  </a:lnTo>
                  <a:lnTo>
                    <a:pt x="1534" y="1476"/>
                  </a:lnTo>
                  <a:lnTo>
                    <a:pt x="1518" y="1490"/>
                  </a:lnTo>
                  <a:lnTo>
                    <a:pt x="1506" y="1502"/>
                  </a:lnTo>
                  <a:lnTo>
                    <a:pt x="1494" y="1516"/>
                  </a:lnTo>
                  <a:lnTo>
                    <a:pt x="1482" y="1532"/>
                  </a:lnTo>
                  <a:lnTo>
                    <a:pt x="1474" y="1548"/>
                  </a:lnTo>
                  <a:lnTo>
                    <a:pt x="1466" y="1566"/>
                  </a:lnTo>
                  <a:lnTo>
                    <a:pt x="1462" y="1586"/>
                  </a:lnTo>
                  <a:lnTo>
                    <a:pt x="1462" y="1586"/>
                  </a:lnTo>
                  <a:close/>
                  <a:moveTo>
                    <a:pt x="1656" y="1206"/>
                  </a:moveTo>
                  <a:lnTo>
                    <a:pt x="1656" y="1206"/>
                  </a:lnTo>
                  <a:lnTo>
                    <a:pt x="1648" y="1208"/>
                  </a:lnTo>
                  <a:lnTo>
                    <a:pt x="1642" y="1210"/>
                  </a:lnTo>
                  <a:lnTo>
                    <a:pt x="1630" y="1212"/>
                  </a:lnTo>
                  <a:lnTo>
                    <a:pt x="1616" y="1208"/>
                  </a:lnTo>
                  <a:lnTo>
                    <a:pt x="1602" y="1206"/>
                  </a:lnTo>
                  <a:lnTo>
                    <a:pt x="1602" y="1206"/>
                  </a:lnTo>
                  <a:lnTo>
                    <a:pt x="1596" y="1182"/>
                  </a:lnTo>
                  <a:lnTo>
                    <a:pt x="1596" y="1160"/>
                  </a:lnTo>
                  <a:lnTo>
                    <a:pt x="1596" y="1138"/>
                  </a:lnTo>
                  <a:lnTo>
                    <a:pt x="1594" y="1120"/>
                  </a:lnTo>
                  <a:lnTo>
                    <a:pt x="1594" y="1120"/>
                  </a:lnTo>
                  <a:lnTo>
                    <a:pt x="1588" y="1102"/>
                  </a:lnTo>
                  <a:lnTo>
                    <a:pt x="1578" y="1088"/>
                  </a:lnTo>
                  <a:lnTo>
                    <a:pt x="1568" y="1074"/>
                  </a:lnTo>
                  <a:lnTo>
                    <a:pt x="1554" y="1062"/>
                  </a:lnTo>
                  <a:lnTo>
                    <a:pt x="1526" y="1040"/>
                  </a:lnTo>
                  <a:lnTo>
                    <a:pt x="1512" y="1030"/>
                  </a:lnTo>
                  <a:lnTo>
                    <a:pt x="1500" y="1018"/>
                  </a:lnTo>
                  <a:lnTo>
                    <a:pt x="1500" y="1018"/>
                  </a:lnTo>
                  <a:lnTo>
                    <a:pt x="1478" y="1020"/>
                  </a:lnTo>
                  <a:lnTo>
                    <a:pt x="1456" y="1026"/>
                  </a:lnTo>
                  <a:lnTo>
                    <a:pt x="1412" y="1040"/>
                  </a:lnTo>
                  <a:lnTo>
                    <a:pt x="1392" y="1046"/>
                  </a:lnTo>
                  <a:lnTo>
                    <a:pt x="1370" y="1050"/>
                  </a:lnTo>
                  <a:lnTo>
                    <a:pt x="1362" y="1050"/>
                  </a:lnTo>
                  <a:lnTo>
                    <a:pt x="1352" y="1048"/>
                  </a:lnTo>
                  <a:lnTo>
                    <a:pt x="1344" y="1046"/>
                  </a:lnTo>
                  <a:lnTo>
                    <a:pt x="1336" y="1042"/>
                  </a:lnTo>
                  <a:lnTo>
                    <a:pt x="1336" y="1042"/>
                  </a:lnTo>
                  <a:lnTo>
                    <a:pt x="1326" y="1028"/>
                  </a:lnTo>
                  <a:lnTo>
                    <a:pt x="1320" y="1016"/>
                  </a:lnTo>
                  <a:lnTo>
                    <a:pt x="1320" y="1004"/>
                  </a:lnTo>
                  <a:lnTo>
                    <a:pt x="1322" y="988"/>
                  </a:lnTo>
                  <a:lnTo>
                    <a:pt x="1322" y="988"/>
                  </a:lnTo>
                  <a:lnTo>
                    <a:pt x="1376" y="958"/>
                  </a:lnTo>
                  <a:lnTo>
                    <a:pt x="1404" y="942"/>
                  </a:lnTo>
                  <a:lnTo>
                    <a:pt x="1430" y="926"/>
                  </a:lnTo>
                  <a:lnTo>
                    <a:pt x="1430" y="926"/>
                  </a:lnTo>
                  <a:lnTo>
                    <a:pt x="1456" y="926"/>
                  </a:lnTo>
                  <a:lnTo>
                    <a:pt x="1482" y="928"/>
                  </a:lnTo>
                  <a:lnTo>
                    <a:pt x="1508" y="934"/>
                  </a:lnTo>
                  <a:lnTo>
                    <a:pt x="1532" y="942"/>
                  </a:lnTo>
                  <a:lnTo>
                    <a:pt x="1554" y="950"/>
                  </a:lnTo>
                  <a:lnTo>
                    <a:pt x="1576" y="960"/>
                  </a:lnTo>
                  <a:lnTo>
                    <a:pt x="1596" y="974"/>
                  </a:lnTo>
                  <a:lnTo>
                    <a:pt x="1614" y="988"/>
                  </a:lnTo>
                  <a:lnTo>
                    <a:pt x="1630" y="1004"/>
                  </a:lnTo>
                  <a:lnTo>
                    <a:pt x="1646" y="1020"/>
                  </a:lnTo>
                  <a:lnTo>
                    <a:pt x="1658" y="1038"/>
                  </a:lnTo>
                  <a:lnTo>
                    <a:pt x="1670" y="1058"/>
                  </a:lnTo>
                  <a:lnTo>
                    <a:pt x="1680" y="1080"/>
                  </a:lnTo>
                  <a:lnTo>
                    <a:pt x="1686" y="1102"/>
                  </a:lnTo>
                  <a:lnTo>
                    <a:pt x="1692" y="1126"/>
                  </a:lnTo>
                  <a:lnTo>
                    <a:pt x="1694" y="1150"/>
                  </a:lnTo>
                  <a:lnTo>
                    <a:pt x="1694" y="1150"/>
                  </a:lnTo>
                  <a:lnTo>
                    <a:pt x="1686" y="1166"/>
                  </a:lnTo>
                  <a:lnTo>
                    <a:pt x="1678" y="1180"/>
                  </a:lnTo>
                  <a:lnTo>
                    <a:pt x="1674" y="1188"/>
                  </a:lnTo>
                  <a:lnTo>
                    <a:pt x="1670" y="1194"/>
                  </a:lnTo>
                  <a:lnTo>
                    <a:pt x="1664" y="1200"/>
                  </a:lnTo>
                  <a:lnTo>
                    <a:pt x="1656" y="1206"/>
                  </a:lnTo>
                  <a:lnTo>
                    <a:pt x="1656" y="1206"/>
                  </a:lnTo>
                  <a:close/>
                  <a:moveTo>
                    <a:pt x="1818" y="824"/>
                  </a:moveTo>
                  <a:lnTo>
                    <a:pt x="1818" y="824"/>
                  </a:lnTo>
                  <a:lnTo>
                    <a:pt x="1808" y="790"/>
                  </a:lnTo>
                  <a:lnTo>
                    <a:pt x="1800" y="772"/>
                  </a:lnTo>
                  <a:lnTo>
                    <a:pt x="1792" y="756"/>
                  </a:lnTo>
                  <a:lnTo>
                    <a:pt x="1780" y="740"/>
                  </a:lnTo>
                  <a:lnTo>
                    <a:pt x="1768" y="726"/>
                  </a:lnTo>
                  <a:lnTo>
                    <a:pt x="1756" y="714"/>
                  </a:lnTo>
                  <a:lnTo>
                    <a:pt x="1742" y="708"/>
                  </a:lnTo>
                  <a:lnTo>
                    <a:pt x="1742" y="708"/>
                  </a:lnTo>
                  <a:lnTo>
                    <a:pt x="1732" y="702"/>
                  </a:lnTo>
                  <a:lnTo>
                    <a:pt x="1724" y="698"/>
                  </a:lnTo>
                  <a:lnTo>
                    <a:pt x="1714" y="694"/>
                  </a:lnTo>
                  <a:lnTo>
                    <a:pt x="1706" y="694"/>
                  </a:lnTo>
                  <a:lnTo>
                    <a:pt x="1688" y="694"/>
                  </a:lnTo>
                  <a:lnTo>
                    <a:pt x="1670" y="698"/>
                  </a:lnTo>
                  <a:lnTo>
                    <a:pt x="1632" y="712"/>
                  </a:lnTo>
                  <a:lnTo>
                    <a:pt x="1614" y="718"/>
                  </a:lnTo>
                  <a:lnTo>
                    <a:pt x="1594" y="724"/>
                  </a:lnTo>
                  <a:lnTo>
                    <a:pt x="1594" y="724"/>
                  </a:lnTo>
                  <a:lnTo>
                    <a:pt x="1580" y="700"/>
                  </a:lnTo>
                  <a:lnTo>
                    <a:pt x="1574" y="686"/>
                  </a:lnTo>
                  <a:lnTo>
                    <a:pt x="1570" y="668"/>
                  </a:lnTo>
                  <a:lnTo>
                    <a:pt x="1570" y="668"/>
                  </a:lnTo>
                  <a:lnTo>
                    <a:pt x="1580" y="660"/>
                  </a:lnTo>
                  <a:lnTo>
                    <a:pt x="1590" y="648"/>
                  </a:lnTo>
                  <a:lnTo>
                    <a:pt x="1598" y="638"/>
                  </a:lnTo>
                  <a:lnTo>
                    <a:pt x="1608" y="630"/>
                  </a:lnTo>
                  <a:lnTo>
                    <a:pt x="1608" y="630"/>
                  </a:lnTo>
                  <a:lnTo>
                    <a:pt x="1622" y="624"/>
                  </a:lnTo>
                  <a:lnTo>
                    <a:pt x="1634" y="622"/>
                  </a:lnTo>
                  <a:lnTo>
                    <a:pt x="1644" y="620"/>
                  </a:lnTo>
                  <a:lnTo>
                    <a:pt x="1656" y="614"/>
                  </a:lnTo>
                  <a:lnTo>
                    <a:pt x="1656" y="614"/>
                  </a:lnTo>
                  <a:lnTo>
                    <a:pt x="1680" y="614"/>
                  </a:lnTo>
                  <a:lnTo>
                    <a:pt x="1700" y="616"/>
                  </a:lnTo>
                  <a:lnTo>
                    <a:pt x="1736" y="620"/>
                  </a:lnTo>
                  <a:lnTo>
                    <a:pt x="1770" y="628"/>
                  </a:lnTo>
                  <a:lnTo>
                    <a:pt x="1804" y="638"/>
                  </a:lnTo>
                  <a:lnTo>
                    <a:pt x="1804" y="638"/>
                  </a:lnTo>
                  <a:lnTo>
                    <a:pt x="1816" y="656"/>
                  </a:lnTo>
                  <a:lnTo>
                    <a:pt x="1830" y="672"/>
                  </a:lnTo>
                  <a:lnTo>
                    <a:pt x="1844" y="690"/>
                  </a:lnTo>
                  <a:lnTo>
                    <a:pt x="1858" y="706"/>
                  </a:lnTo>
                  <a:lnTo>
                    <a:pt x="1870" y="724"/>
                  </a:lnTo>
                  <a:lnTo>
                    <a:pt x="1880" y="746"/>
                  </a:lnTo>
                  <a:lnTo>
                    <a:pt x="1886" y="772"/>
                  </a:lnTo>
                  <a:lnTo>
                    <a:pt x="1888" y="800"/>
                  </a:lnTo>
                  <a:lnTo>
                    <a:pt x="1888" y="800"/>
                  </a:lnTo>
                  <a:lnTo>
                    <a:pt x="1874" y="810"/>
                  </a:lnTo>
                  <a:lnTo>
                    <a:pt x="1862" y="818"/>
                  </a:lnTo>
                  <a:lnTo>
                    <a:pt x="1844" y="822"/>
                  </a:lnTo>
                  <a:lnTo>
                    <a:pt x="1818" y="824"/>
                  </a:lnTo>
                  <a:lnTo>
                    <a:pt x="1818" y="824"/>
                  </a:lnTo>
                  <a:close/>
                </a:path>
              </a:pathLst>
            </a:custGeom>
            <a:solidFill>
              <a:srgbClr val="fee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80"/>
            <p:cNvSpPr/>
            <p:nvPr/>
          </p:nvSpPr>
          <p:spPr>
            <a:xfrm>
              <a:off x="29208600" y="2469960"/>
              <a:ext cx="12600" cy="252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8" h="16">
                  <a:moveTo>
                    <a:pt x="0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4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81"/>
            <p:cNvSpPr/>
            <p:nvPr/>
          </p:nvSpPr>
          <p:spPr>
            <a:xfrm>
              <a:off x="26963640" y="2768400"/>
              <a:ext cx="453960" cy="29520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286" h="186">
                  <a:moveTo>
                    <a:pt x="224" y="186"/>
                  </a:moveTo>
                  <a:lnTo>
                    <a:pt x="224" y="186"/>
                  </a:lnTo>
                  <a:lnTo>
                    <a:pt x="248" y="184"/>
                  </a:lnTo>
                  <a:lnTo>
                    <a:pt x="256" y="182"/>
                  </a:lnTo>
                  <a:lnTo>
                    <a:pt x="264" y="178"/>
                  </a:lnTo>
                  <a:lnTo>
                    <a:pt x="264" y="178"/>
                  </a:lnTo>
                  <a:lnTo>
                    <a:pt x="280" y="178"/>
                  </a:lnTo>
                  <a:lnTo>
                    <a:pt x="280" y="178"/>
                  </a:lnTo>
                  <a:lnTo>
                    <a:pt x="284" y="150"/>
                  </a:lnTo>
                  <a:lnTo>
                    <a:pt x="286" y="134"/>
                  </a:lnTo>
                  <a:lnTo>
                    <a:pt x="286" y="116"/>
                  </a:lnTo>
                  <a:lnTo>
                    <a:pt x="286" y="116"/>
                  </a:lnTo>
                  <a:lnTo>
                    <a:pt x="276" y="104"/>
                  </a:lnTo>
                  <a:lnTo>
                    <a:pt x="266" y="90"/>
                  </a:lnTo>
                  <a:lnTo>
                    <a:pt x="246" y="64"/>
                  </a:lnTo>
                  <a:lnTo>
                    <a:pt x="234" y="52"/>
                  </a:lnTo>
                  <a:lnTo>
                    <a:pt x="224" y="40"/>
                  </a:lnTo>
                  <a:lnTo>
                    <a:pt x="210" y="30"/>
                  </a:lnTo>
                  <a:lnTo>
                    <a:pt x="194" y="22"/>
                  </a:lnTo>
                  <a:lnTo>
                    <a:pt x="194" y="22"/>
                  </a:lnTo>
                  <a:lnTo>
                    <a:pt x="186" y="18"/>
                  </a:lnTo>
                  <a:lnTo>
                    <a:pt x="176" y="12"/>
                  </a:lnTo>
                  <a:lnTo>
                    <a:pt x="152" y="6"/>
                  </a:lnTo>
                  <a:lnTo>
                    <a:pt x="126" y="2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76" y="14"/>
                  </a:lnTo>
                  <a:lnTo>
                    <a:pt x="50" y="28"/>
                  </a:lnTo>
                  <a:lnTo>
                    <a:pt x="24" y="42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2" y="76"/>
                  </a:lnTo>
                  <a:lnTo>
                    <a:pt x="8" y="90"/>
                  </a:lnTo>
                  <a:lnTo>
                    <a:pt x="14" y="102"/>
                  </a:lnTo>
                  <a:lnTo>
                    <a:pt x="22" y="116"/>
                  </a:lnTo>
                  <a:lnTo>
                    <a:pt x="22" y="116"/>
                  </a:lnTo>
                  <a:lnTo>
                    <a:pt x="66" y="106"/>
                  </a:lnTo>
                  <a:lnTo>
                    <a:pt x="98" y="98"/>
                  </a:lnTo>
                  <a:lnTo>
                    <a:pt x="124" y="92"/>
                  </a:lnTo>
                  <a:lnTo>
                    <a:pt x="134" y="90"/>
                  </a:lnTo>
                  <a:lnTo>
                    <a:pt x="144" y="92"/>
                  </a:lnTo>
                  <a:lnTo>
                    <a:pt x="154" y="94"/>
                  </a:lnTo>
                  <a:lnTo>
                    <a:pt x="162" y="98"/>
                  </a:lnTo>
                  <a:lnTo>
                    <a:pt x="172" y="106"/>
                  </a:lnTo>
                  <a:lnTo>
                    <a:pt x="180" y="116"/>
                  </a:lnTo>
                  <a:lnTo>
                    <a:pt x="200" y="144"/>
                  </a:lnTo>
                  <a:lnTo>
                    <a:pt x="224" y="186"/>
                  </a:lnTo>
                  <a:lnTo>
                    <a:pt x="224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82"/>
            <p:cNvSpPr/>
            <p:nvPr/>
          </p:nvSpPr>
          <p:spPr>
            <a:xfrm>
              <a:off x="29271960" y="2825640"/>
              <a:ext cx="653760" cy="485640"/>
            </a:xfrm>
            <a:custGeom>
              <a:avLst/>
              <a:gdLst>
                <a:gd name="textAreaLeft" fmla="*/ 0 w 653760"/>
                <a:gd name="textAreaRight" fmla="*/ 653760 w 65376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412" h="306">
                  <a:moveTo>
                    <a:pt x="0" y="212"/>
                  </a:moveTo>
                  <a:lnTo>
                    <a:pt x="0" y="212"/>
                  </a:lnTo>
                  <a:lnTo>
                    <a:pt x="10" y="220"/>
                  </a:lnTo>
                  <a:lnTo>
                    <a:pt x="16" y="230"/>
                  </a:lnTo>
                  <a:lnTo>
                    <a:pt x="20" y="242"/>
                  </a:lnTo>
                  <a:lnTo>
                    <a:pt x="22" y="258"/>
                  </a:lnTo>
                  <a:lnTo>
                    <a:pt x="22" y="258"/>
                  </a:lnTo>
                  <a:lnTo>
                    <a:pt x="202" y="244"/>
                  </a:lnTo>
                  <a:lnTo>
                    <a:pt x="202" y="244"/>
                  </a:lnTo>
                  <a:lnTo>
                    <a:pt x="214" y="248"/>
                  </a:lnTo>
                  <a:lnTo>
                    <a:pt x="234" y="256"/>
                  </a:lnTo>
                  <a:lnTo>
                    <a:pt x="280" y="278"/>
                  </a:lnTo>
                  <a:lnTo>
                    <a:pt x="322" y="298"/>
                  </a:lnTo>
                  <a:lnTo>
                    <a:pt x="336" y="304"/>
                  </a:lnTo>
                  <a:lnTo>
                    <a:pt x="342" y="306"/>
                  </a:lnTo>
                  <a:lnTo>
                    <a:pt x="342" y="306"/>
                  </a:lnTo>
                  <a:lnTo>
                    <a:pt x="354" y="294"/>
                  </a:lnTo>
                  <a:lnTo>
                    <a:pt x="364" y="282"/>
                  </a:lnTo>
                  <a:lnTo>
                    <a:pt x="372" y="268"/>
                  </a:lnTo>
                  <a:lnTo>
                    <a:pt x="380" y="252"/>
                  </a:lnTo>
                  <a:lnTo>
                    <a:pt x="388" y="236"/>
                  </a:lnTo>
                  <a:lnTo>
                    <a:pt x="394" y="218"/>
                  </a:lnTo>
                  <a:lnTo>
                    <a:pt x="402" y="178"/>
                  </a:lnTo>
                  <a:lnTo>
                    <a:pt x="408" y="136"/>
                  </a:lnTo>
                  <a:lnTo>
                    <a:pt x="410" y="92"/>
                  </a:lnTo>
                  <a:lnTo>
                    <a:pt x="412" y="48"/>
                  </a:lnTo>
                  <a:lnTo>
                    <a:pt x="412" y="2"/>
                  </a:lnTo>
                  <a:lnTo>
                    <a:pt x="412" y="2"/>
                  </a:lnTo>
                  <a:lnTo>
                    <a:pt x="386" y="0"/>
                  </a:lnTo>
                  <a:lnTo>
                    <a:pt x="358" y="2"/>
                  </a:lnTo>
                  <a:lnTo>
                    <a:pt x="328" y="6"/>
                  </a:lnTo>
                  <a:lnTo>
                    <a:pt x="296" y="14"/>
                  </a:lnTo>
                  <a:lnTo>
                    <a:pt x="262" y="22"/>
                  </a:lnTo>
                  <a:lnTo>
                    <a:pt x="228" y="34"/>
                  </a:lnTo>
                  <a:lnTo>
                    <a:pt x="196" y="48"/>
                  </a:lnTo>
                  <a:lnTo>
                    <a:pt x="162" y="62"/>
                  </a:lnTo>
                  <a:lnTo>
                    <a:pt x="130" y="80"/>
                  </a:lnTo>
                  <a:lnTo>
                    <a:pt x="102" y="96"/>
                  </a:lnTo>
                  <a:lnTo>
                    <a:pt x="74" y="116"/>
                  </a:lnTo>
                  <a:lnTo>
                    <a:pt x="50" y="134"/>
                  </a:lnTo>
                  <a:lnTo>
                    <a:pt x="30" y="154"/>
                  </a:lnTo>
                  <a:lnTo>
                    <a:pt x="14" y="174"/>
                  </a:lnTo>
                  <a:lnTo>
                    <a:pt x="4" y="192"/>
                  </a:lnTo>
                  <a:lnTo>
                    <a:pt x="2" y="202"/>
                  </a:lnTo>
                  <a:lnTo>
                    <a:pt x="0" y="212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83"/>
            <p:cNvSpPr/>
            <p:nvPr/>
          </p:nvSpPr>
          <p:spPr>
            <a:xfrm>
              <a:off x="26185680" y="2977920"/>
              <a:ext cx="158400" cy="2696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100" h="170">
                  <a:moveTo>
                    <a:pt x="62" y="0"/>
                  </a:moveTo>
                  <a:lnTo>
                    <a:pt x="62" y="0"/>
                  </a:lnTo>
                  <a:lnTo>
                    <a:pt x="34" y="2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6" y="50"/>
                  </a:lnTo>
                  <a:lnTo>
                    <a:pt x="2" y="68"/>
                  </a:lnTo>
                  <a:lnTo>
                    <a:pt x="0" y="88"/>
                  </a:lnTo>
                  <a:lnTo>
                    <a:pt x="0" y="108"/>
                  </a:lnTo>
                  <a:lnTo>
                    <a:pt x="2" y="128"/>
                  </a:lnTo>
                  <a:lnTo>
                    <a:pt x="4" y="148"/>
                  </a:lnTo>
                  <a:lnTo>
                    <a:pt x="8" y="170"/>
                  </a:lnTo>
                  <a:lnTo>
                    <a:pt x="8" y="170"/>
                  </a:lnTo>
                  <a:lnTo>
                    <a:pt x="20" y="168"/>
                  </a:lnTo>
                  <a:lnTo>
                    <a:pt x="32" y="164"/>
                  </a:lnTo>
                  <a:lnTo>
                    <a:pt x="40" y="160"/>
                  </a:lnTo>
                  <a:lnTo>
                    <a:pt x="48" y="154"/>
                  </a:lnTo>
                  <a:lnTo>
                    <a:pt x="56" y="148"/>
                  </a:lnTo>
                  <a:lnTo>
                    <a:pt x="62" y="142"/>
                  </a:lnTo>
                  <a:lnTo>
                    <a:pt x="70" y="128"/>
                  </a:lnTo>
                  <a:lnTo>
                    <a:pt x="76" y="110"/>
                  </a:lnTo>
                  <a:lnTo>
                    <a:pt x="82" y="92"/>
                  </a:lnTo>
                  <a:lnTo>
                    <a:pt x="90" y="72"/>
                  </a:lnTo>
                  <a:lnTo>
                    <a:pt x="100" y="54"/>
                  </a:lnTo>
                  <a:lnTo>
                    <a:pt x="100" y="54"/>
                  </a:lnTo>
                  <a:lnTo>
                    <a:pt x="98" y="42"/>
                  </a:lnTo>
                  <a:lnTo>
                    <a:pt x="94" y="32"/>
                  </a:lnTo>
                  <a:lnTo>
                    <a:pt x="90" y="26"/>
                  </a:lnTo>
                  <a:lnTo>
                    <a:pt x="86" y="20"/>
                  </a:lnTo>
                  <a:lnTo>
                    <a:pt x="74" y="12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84"/>
            <p:cNvSpPr/>
            <p:nvPr/>
          </p:nvSpPr>
          <p:spPr>
            <a:xfrm>
              <a:off x="29233800" y="3333600"/>
              <a:ext cx="495000" cy="44424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312" h="280">
                  <a:moveTo>
                    <a:pt x="312" y="48"/>
                  </a:moveTo>
                  <a:lnTo>
                    <a:pt x="312" y="48"/>
                  </a:lnTo>
                  <a:lnTo>
                    <a:pt x="294" y="42"/>
                  </a:lnTo>
                  <a:lnTo>
                    <a:pt x="276" y="34"/>
                  </a:lnTo>
                  <a:lnTo>
                    <a:pt x="246" y="20"/>
                  </a:lnTo>
                  <a:lnTo>
                    <a:pt x="230" y="14"/>
                  </a:lnTo>
                  <a:lnTo>
                    <a:pt x="214" y="8"/>
                  </a:lnTo>
                  <a:lnTo>
                    <a:pt x="194" y="4"/>
                  </a:lnTo>
                  <a:lnTo>
                    <a:pt x="172" y="0"/>
                  </a:lnTo>
                  <a:lnTo>
                    <a:pt x="172" y="0"/>
                  </a:lnTo>
                  <a:lnTo>
                    <a:pt x="160" y="6"/>
                  </a:lnTo>
                  <a:lnTo>
                    <a:pt x="148" y="10"/>
                  </a:lnTo>
                  <a:lnTo>
                    <a:pt x="118" y="14"/>
                  </a:lnTo>
                  <a:lnTo>
                    <a:pt x="88" y="18"/>
                  </a:lnTo>
                  <a:lnTo>
                    <a:pt x="74" y="22"/>
                  </a:lnTo>
                  <a:lnTo>
                    <a:pt x="62" y="24"/>
                  </a:lnTo>
                  <a:lnTo>
                    <a:pt x="62" y="24"/>
                  </a:lnTo>
                  <a:lnTo>
                    <a:pt x="58" y="60"/>
                  </a:lnTo>
                  <a:lnTo>
                    <a:pt x="50" y="90"/>
                  </a:lnTo>
                  <a:lnTo>
                    <a:pt x="42" y="118"/>
                  </a:lnTo>
                  <a:lnTo>
                    <a:pt x="30" y="146"/>
                  </a:lnTo>
                  <a:lnTo>
                    <a:pt x="20" y="174"/>
                  </a:lnTo>
                  <a:lnTo>
                    <a:pt x="10" y="204"/>
                  </a:lnTo>
                  <a:lnTo>
                    <a:pt x="4" y="236"/>
                  </a:lnTo>
                  <a:lnTo>
                    <a:pt x="0" y="272"/>
                  </a:lnTo>
                  <a:lnTo>
                    <a:pt x="0" y="272"/>
                  </a:lnTo>
                  <a:lnTo>
                    <a:pt x="4" y="276"/>
                  </a:lnTo>
                  <a:lnTo>
                    <a:pt x="8" y="280"/>
                  </a:lnTo>
                  <a:lnTo>
                    <a:pt x="8" y="280"/>
                  </a:lnTo>
                  <a:lnTo>
                    <a:pt x="16" y="280"/>
                  </a:lnTo>
                  <a:lnTo>
                    <a:pt x="16" y="280"/>
                  </a:lnTo>
                  <a:lnTo>
                    <a:pt x="18" y="270"/>
                  </a:lnTo>
                  <a:lnTo>
                    <a:pt x="22" y="262"/>
                  </a:lnTo>
                  <a:lnTo>
                    <a:pt x="34" y="244"/>
                  </a:lnTo>
                  <a:lnTo>
                    <a:pt x="48" y="230"/>
                  </a:lnTo>
                  <a:lnTo>
                    <a:pt x="66" y="216"/>
                  </a:lnTo>
                  <a:lnTo>
                    <a:pt x="86" y="204"/>
                  </a:lnTo>
                  <a:lnTo>
                    <a:pt x="108" y="194"/>
                  </a:lnTo>
                  <a:lnTo>
                    <a:pt x="156" y="172"/>
                  </a:lnTo>
                  <a:lnTo>
                    <a:pt x="204" y="152"/>
                  </a:lnTo>
                  <a:lnTo>
                    <a:pt x="228" y="140"/>
                  </a:lnTo>
                  <a:lnTo>
                    <a:pt x="250" y="126"/>
                  </a:lnTo>
                  <a:lnTo>
                    <a:pt x="270" y="110"/>
                  </a:lnTo>
                  <a:lnTo>
                    <a:pt x="286" y="92"/>
                  </a:lnTo>
                  <a:lnTo>
                    <a:pt x="300" y="72"/>
                  </a:lnTo>
                  <a:lnTo>
                    <a:pt x="306" y="60"/>
                  </a:lnTo>
                  <a:lnTo>
                    <a:pt x="312" y="48"/>
                  </a:lnTo>
                  <a:lnTo>
                    <a:pt x="312" y="48"/>
                  </a:ln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>
              <a:off x="28468800" y="3371760"/>
              <a:ext cx="504720" cy="333360"/>
            </a:xfrm>
            <a:custGeom>
              <a:avLst/>
              <a:gdLst>
                <a:gd name="textAreaLeft" fmla="*/ 0 w 504720"/>
                <a:gd name="textAreaRight" fmla="*/ 504720 w 5047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318" h="210">
                  <a:moveTo>
                    <a:pt x="86" y="0"/>
                  </a:moveTo>
                  <a:lnTo>
                    <a:pt x="86" y="0"/>
                  </a:lnTo>
                  <a:lnTo>
                    <a:pt x="74" y="6"/>
                  </a:lnTo>
                  <a:lnTo>
                    <a:pt x="64" y="8"/>
                  </a:lnTo>
                  <a:lnTo>
                    <a:pt x="52" y="10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28" y="24"/>
                  </a:lnTo>
                  <a:lnTo>
                    <a:pt x="20" y="34"/>
                  </a:lnTo>
                  <a:lnTo>
                    <a:pt x="10" y="46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4" y="72"/>
                  </a:lnTo>
                  <a:lnTo>
                    <a:pt x="10" y="86"/>
                  </a:lnTo>
                  <a:lnTo>
                    <a:pt x="24" y="110"/>
                  </a:lnTo>
                  <a:lnTo>
                    <a:pt x="24" y="110"/>
                  </a:lnTo>
                  <a:lnTo>
                    <a:pt x="44" y="104"/>
                  </a:lnTo>
                  <a:lnTo>
                    <a:pt x="62" y="98"/>
                  </a:lnTo>
                  <a:lnTo>
                    <a:pt x="100" y="84"/>
                  </a:lnTo>
                  <a:lnTo>
                    <a:pt x="118" y="80"/>
                  </a:lnTo>
                  <a:lnTo>
                    <a:pt x="136" y="80"/>
                  </a:lnTo>
                  <a:lnTo>
                    <a:pt x="144" y="80"/>
                  </a:lnTo>
                  <a:lnTo>
                    <a:pt x="154" y="84"/>
                  </a:lnTo>
                  <a:lnTo>
                    <a:pt x="162" y="88"/>
                  </a:lnTo>
                  <a:lnTo>
                    <a:pt x="172" y="94"/>
                  </a:lnTo>
                  <a:lnTo>
                    <a:pt x="172" y="94"/>
                  </a:lnTo>
                  <a:lnTo>
                    <a:pt x="186" y="100"/>
                  </a:lnTo>
                  <a:lnTo>
                    <a:pt x="198" y="112"/>
                  </a:lnTo>
                  <a:lnTo>
                    <a:pt x="210" y="126"/>
                  </a:lnTo>
                  <a:lnTo>
                    <a:pt x="222" y="142"/>
                  </a:lnTo>
                  <a:lnTo>
                    <a:pt x="230" y="158"/>
                  </a:lnTo>
                  <a:lnTo>
                    <a:pt x="238" y="176"/>
                  </a:lnTo>
                  <a:lnTo>
                    <a:pt x="248" y="210"/>
                  </a:lnTo>
                  <a:lnTo>
                    <a:pt x="248" y="210"/>
                  </a:lnTo>
                  <a:lnTo>
                    <a:pt x="274" y="208"/>
                  </a:lnTo>
                  <a:lnTo>
                    <a:pt x="292" y="204"/>
                  </a:lnTo>
                  <a:lnTo>
                    <a:pt x="304" y="196"/>
                  </a:lnTo>
                  <a:lnTo>
                    <a:pt x="318" y="186"/>
                  </a:lnTo>
                  <a:lnTo>
                    <a:pt x="318" y="186"/>
                  </a:lnTo>
                  <a:lnTo>
                    <a:pt x="316" y="158"/>
                  </a:lnTo>
                  <a:lnTo>
                    <a:pt x="310" y="132"/>
                  </a:lnTo>
                  <a:lnTo>
                    <a:pt x="300" y="110"/>
                  </a:lnTo>
                  <a:lnTo>
                    <a:pt x="288" y="92"/>
                  </a:lnTo>
                  <a:lnTo>
                    <a:pt x="274" y="76"/>
                  </a:lnTo>
                  <a:lnTo>
                    <a:pt x="260" y="58"/>
                  </a:lnTo>
                  <a:lnTo>
                    <a:pt x="246" y="42"/>
                  </a:lnTo>
                  <a:lnTo>
                    <a:pt x="234" y="24"/>
                  </a:lnTo>
                  <a:lnTo>
                    <a:pt x="234" y="24"/>
                  </a:lnTo>
                  <a:lnTo>
                    <a:pt x="200" y="14"/>
                  </a:lnTo>
                  <a:lnTo>
                    <a:pt x="166" y="6"/>
                  </a:lnTo>
                  <a:lnTo>
                    <a:pt x="130" y="2"/>
                  </a:lnTo>
                  <a:lnTo>
                    <a:pt x="110" y="0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>
              <a:off x="26754120" y="3384360"/>
              <a:ext cx="517320" cy="352440"/>
            </a:xfrm>
            <a:custGeom>
              <a:avLst/>
              <a:gdLst>
                <a:gd name="textAreaLeft" fmla="*/ 0 w 517320"/>
                <a:gd name="textAreaRight" fmla="*/ 517680 w 51732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326" h="222">
                  <a:moveTo>
                    <a:pt x="186" y="94"/>
                  </a:moveTo>
                  <a:lnTo>
                    <a:pt x="186" y="94"/>
                  </a:lnTo>
                  <a:lnTo>
                    <a:pt x="212" y="156"/>
                  </a:lnTo>
                  <a:lnTo>
                    <a:pt x="240" y="218"/>
                  </a:lnTo>
                  <a:lnTo>
                    <a:pt x="240" y="218"/>
                  </a:lnTo>
                  <a:lnTo>
                    <a:pt x="262" y="222"/>
                  </a:lnTo>
                  <a:lnTo>
                    <a:pt x="270" y="222"/>
                  </a:lnTo>
                  <a:lnTo>
                    <a:pt x="280" y="218"/>
                  </a:lnTo>
                  <a:lnTo>
                    <a:pt x="280" y="218"/>
                  </a:lnTo>
                  <a:lnTo>
                    <a:pt x="288" y="214"/>
                  </a:lnTo>
                  <a:lnTo>
                    <a:pt x="296" y="208"/>
                  </a:lnTo>
                  <a:lnTo>
                    <a:pt x="306" y="198"/>
                  </a:lnTo>
                  <a:lnTo>
                    <a:pt x="314" y="184"/>
                  </a:lnTo>
                  <a:lnTo>
                    <a:pt x="326" y="172"/>
                  </a:lnTo>
                  <a:lnTo>
                    <a:pt x="326" y="172"/>
                  </a:lnTo>
                  <a:lnTo>
                    <a:pt x="324" y="150"/>
                  </a:lnTo>
                  <a:lnTo>
                    <a:pt x="320" y="130"/>
                  </a:lnTo>
                  <a:lnTo>
                    <a:pt x="314" y="110"/>
                  </a:lnTo>
                  <a:lnTo>
                    <a:pt x="308" y="94"/>
                  </a:lnTo>
                  <a:lnTo>
                    <a:pt x="298" y="78"/>
                  </a:lnTo>
                  <a:lnTo>
                    <a:pt x="286" y="64"/>
                  </a:lnTo>
                  <a:lnTo>
                    <a:pt x="274" y="52"/>
                  </a:lnTo>
                  <a:lnTo>
                    <a:pt x="258" y="40"/>
                  </a:lnTo>
                  <a:lnTo>
                    <a:pt x="244" y="30"/>
                  </a:lnTo>
                  <a:lnTo>
                    <a:pt x="226" y="22"/>
                  </a:lnTo>
                  <a:lnTo>
                    <a:pt x="208" y="14"/>
                  </a:lnTo>
                  <a:lnTo>
                    <a:pt x="188" y="8"/>
                  </a:lnTo>
                  <a:lnTo>
                    <a:pt x="168" y="4"/>
                  </a:lnTo>
                  <a:lnTo>
                    <a:pt x="146" y="2"/>
                  </a:lnTo>
                  <a:lnTo>
                    <a:pt x="124" y="0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92" y="4"/>
                  </a:lnTo>
                  <a:lnTo>
                    <a:pt x="84" y="6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48" y="20"/>
                  </a:lnTo>
                  <a:lnTo>
                    <a:pt x="32" y="32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2" y="78"/>
                  </a:lnTo>
                  <a:lnTo>
                    <a:pt x="6" y="92"/>
                  </a:lnTo>
                  <a:lnTo>
                    <a:pt x="14" y="102"/>
                  </a:lnTo>
                  <a:lnTo>
                    <a:pt x="22" y="116"/>
                  </a:lnTo>
                  <a:lnTo>
                    <a:pt x="22" y="116"/>
                  </a:lnTo>
                  <a:lnTo>
                    <a:pt x="46" y="114"/>
                  </a:lnTo>
                  <a:lnTo>
                    <a:pt x="66" y="110"/>
                  </a:lnTo>
                  <a:lnTo>
                    <a:pt x="100" y="100"/>
                  </a:lnTo>
                  <a:lnTo>
                    <a:pt x="116" y="96"/>
                  </a:lnTo>
                  <a:lnTo>
                    <a:pt x="134" y="94"/>
                  </a:lnTo>
                  <a:lnTo>
                    <a:pt x="158" y="92"/>
                  </a:lnTo>
                  <a:lnTo>
                    <a:pt x="186" y="94"/>
                  </a:lnTo>
                  <a:lnTo>
                    <a:pt x="186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87"/>
            <p:cNvSpPr/>
            <p:nvPr/>
          </p:nvSpPr>
          <p:spPr>
            <a:xfrm>
              <a:off x="26455680" y="3778200"/>
              <a:ext cx="1834920" cy="917640"/>
            </a:xfrm>
            <a:custGeom>
              <a:avLst/>
              <a:gdLst>
                <a:gd name="textAreaLeft" fmla="*/ 0 w 1834920"/>
                <a:gd name="textAreaRight" fmla="*/ 1835280 w 1834920"/>
                <a:gd name="textAreaTop" fmla="*/ 0 h 917640"/>
                <a:gd name="textAreaBottom" fmla="*/ 918000 h 917640"/>
              </a:gdLst>
              <a:ahLst/>
              <a:rect l="textAreaLeft" t="textAreaTop" r="textAreaRight" b="textAreaBottom"/>
              <a:pathLst>
                <a:path w="1156" h="578">
                  <a:moveTo>
                    <a:pt x="1152" y="452"/>
                  </a:moveTo>
                  <a:lnTo>
                    <a:pt x="1152" y="452"/>
                  </a:lnTo>
                  <a:lnTo>
                    <a:pt x="1154" y="446"/>
                  </a:lnTo>
                  <a:lnTo>
                    <a:pt x="1156" y="436"/>
                  </a:lnTo>
                  <a:lnTo>
                    <a:pt x="1156" y="414"/>
                  </a:lnTo>
                  <a:lnTo>
                    <a:pt x="1152" y="358"/>
                  </a:lnTo>
                  <a:lnTo>
                    <a:pt x="1152" y="358"/>
                  </a:lnTo>
                  <a:lnTo>
                    <a:pt x="1124" y="332"/>
                  </a:lnTo>
                  <a:lnTo>
                    <a:pt x="1090" y="304"/>
                  </a:lnTo>
                  <a:lnTo>
                    <a:pt x="1072" y="292"/>
                  </a:lnTo>
                  <a:lnTo>
                    <a:pt x="1054" y="280"/>
                  </a:lnTo>
                  <a:lnTo>
                    <a:pt x="1034" y="268"/>
                  </a:lnTo>
                  <a:lnTo>
                    <a:pt x="1014" y="258"/>
                  </a:lnTo>
                  <a:lnTo>
                    <a:pt x="994" y="252"/>
                  </a:lnTo>
                  <a:lnTo>
                    <a:pt x="974" y="246"/>
                  </a:lnTo>
                  <a:lnTo>
                    <a:pt x="952" y="244"/>
                  </a:lnTo>
                  <a:lnTo>
                    <a:pt x="930" y="246"/>
                  </a:lnTo>
                  <a:lnTo>
                    <a:pt x="910" y="250"/>
                  </a:lnTo>
                  <a:lnTo>
                    <a:pt x="888" y="258"/>
                  </a:lnTo>
                  <a:lnTo>
                    <a:pt x="868" y="272"/>
                  </a:lnTo>
                  <a:lnTo>
                    <a:pt x="848" y="288"/>
                  </a:lnTo>
                  <a:lnTo>
                    <a:pt x="848" y="288"/>
                  </a:lnTo>
                  <a:lnTo>
                    <a:pt x="828" y="280"/>
                  </a:lnTo>
                  <a:lnTo>
                    <a:pt x="806" y="272"/>
                  </a:lnTo>
                  <a:lnTo>
                    <a:pt x="764" y="250"/>
                  </a:lnTo>
                  <a:lnTo>
                    <a:pt x="720" y="228"/>
                  </a:lnTo>
                  <a:lnTo>
                    <a:pt x="698" y="218"/>
                  </a:lnTo>
                  <a:lnTo>
                    <a:pt x="676" y="210"/>
                  </a:lnTo>
                  <a:lnTo>
                    <a:pt x="676" y="210"/>
                  </a:lnTo>
                  <a:lnTo>
                    <a:pt x="658" y="206"/>
                  </a:lnTo>
                  <a:lnTo>
                    <a:pt x="638" y="204"/>
                  </a:lnTo>
                  <a:lnTo>
                    <a:pt x="596" y="202"/>
                  </a:lnTo>
                  <a:lnTo>
                    <a:pt x="574" y="202"/>
                  </a:lnTo>
                  <a:lnTo>
                    <a:pt x="556" y="200"/>
                  </a:lnTo>
                  <a:lnTo>
                    <a:pt x="538" y="194"/>
                  </a:lnTo>
                  <a:lnTo>
                    <a:pt x="522" y="188"/>
                  </a:lnTo>
                  <a:lnTo>
                    <a:pt x="522" y="188"/>
                  </a:lnTo>
                  <a:lnTo>
                    <a:pt x="490" y="126"/>
                  </a:lnTo>
                  <a:lnTo>
                    <a:pt x="460" y="62"/>
                  </a:lnTo>
                  <a:lnTo>
                    <a:pt x="460" y="62"/>
                  </a:lnTo>
                  <a:lnTo>
                    <a:pt x="384" y="46"/>
                  </a:lnTo>
                  <a:lnTo>
                    <a:pt x="340" y="36"/>
                  </a:lnTo>
                  <a:lnTo>
                    <a:pt x="324" y="30"/>
                  </a:lnTo>
                  <a:lnTo>
                    <a:pt x="312" y="24"/>
                  </a:lnTo>
                  <a:lnTo>
                    <a:pt x="312" y="24"/>
                  </a:lnTo>
                  <a:lnTo>
                    <a:pt x="288" y="26"/>
                  </a:lnTo>
                  <a:lnTo>
                    <a:pt x="268" y="32"/>
                  </a:lnTo>
                  <a:lnTo>
                    <a:pt x="248" y="40"/>
                  </a:lnTo>
                  <a:lnTo>
                    <a:pt x="232" y="52"/>
                  </a:lnTo>
                  <a:lnTo>
                    <a:pt x="216" y="66"/>
                  </a:lnTo>
                  <a:lnTo>
                    <a:pt x="206" y="84"/>
                  </a:lnTo>
                  <a:lnTo>
                    <a:pt x="198" y="102"/>
                  </a:lnTo>
                  <a:lnTo>
                    <a:pt x="194" y="126"/>
                  </a:lnTo>
                  <a:lnTo>
                    <a:pt x="194" y="126"/>
                  </a:lnTo>
                  <a:lnTo>
                    <a:pt x="184" y="106"/>
                  </a:lnTo>
                  <a:lnTo>
                    <a:pt x="176" y="86"/>
                  </a:lnTo>
                  <a:lnTo>
                    <a:pt x="162" y="50"/>
                  </a:lnTo>
                  <a:lnTo>
                    <a:pt x="152" y="34"/>
                  </a:lnTo>
                  <a:lnTo>
                    <a:pt x="140" y="22"/>
                  </a:lnTo>
                  <a:lnTo>
                    <a:pt x="134" y="16"/>
                  </a:lnTo>
                  <a:lnTo>
                    <a:pt x="124" y="10"/>
                  </a:lnTo>
                  <a:lnTo>
                    <a:pt x="114" y="4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96" y="6"/>
                  </a:lnTo>
                  <a:lnTo>
                    <a:pt x="86" y="8"/>
                  </a:lnTo>
                  <a:lnTo>
                    <a:pt x="86" y="8"/>
                  </a:lnTo>
                  <a:lnTo>
                    <a:pt x="88" y="36"/>
                  </a:lnTo>
                  <a:lnTo>
                    <a:pt x="94" y="62"/>
                  </a:lnTo>
                  <a:lnTo>
                    <a:pt x="106" y="118"/>
                  </a:lnTo>
                  <a:lnTo>
                    <a:pt x="110" y="146"/>
                  </a:lnTo>
                  <a:lnTo>
                    <a:pt x="112" y="174"/>
                  </a:lnTo>
                  <a:lnTo>
                    <a:pt x="112" y="190"/>
                  </a:lnTo>
                  <a:lnTo>
                    <a:pt x="110" y="204"/>
                  </a:lnTo>
                  <a:lnTo>
                    <a:pt x="106" y="218"/>
                  </a:lnTo>
                  <a:lnTo>
                    <a:pt x="102" y="234"/>
                  </a:lnTo>
                  <a:lnTo>
                    <a:pt x="102" y="234"/>
                  </a:lnTo>
                  <a:lnTo>
                    <a:pt x="92" y="254"/>
                  </a:lnTo>
                  <a:lnTo>
                    <a:pt x="82" y="272"/>
                  </a:lnTo>
                  <a:lnTo>
                    <a:pt x="68" y="288"/>
                  </a:lnTo>
                  <a:lnTo>
                    <a:pt x="54" y="304"/>
                  </a:lnTo>
                  <a:lnTo>
                    <a:pt x="40" y="320"/>
                  </a:lnTo>
                  <a:lnTo>
                    <a:pt x="28" y="338"/>
                  </a:lnTo>
                  <a:lnTo>
                    <a:pt x="16" y="354"/>
                  </a:lnTo>
                  <a:lnTo>
                    <a:pt x="8" y="374"/>
                  </a:lnTo>
                  <a:lnTo>
                    <a:pt x="8" y="374"/>
                  </a:lnTo>
                  <a:lnTo>
                    <a:pt x="4" y="380"/>
                  </a:lnTo>
                  <a:lnTo>
                    <a:pt x="0" y="390"/>
                  </a:lnTo>
                  <a:lnTo>
                    <a:pt x="0" y="390"/>
                  </a:lnTo>
                  <a:lnTo>
                    <a:pt x="18" y="408"/>
                  </a:lnTo>
                  <a:lnTo>
                    <a:pt x="32" y="428"/>
                  </a:lnTo>
                  <a:lnTo>
                    <a:pt x="32" y="428"/>
                  </a:lnTo>
                  <a:lnTo>
                    <a:pt x="52" y="426"/>
                  </a:lnTo>
                  <a:lnTo>
                    <a:pt x="70" y="422"/>
                  </a:lnTo>
                  <a:lnTo>
                    <a:pt x="86" y="414"/>
                  </a:lnTo>
                  <a:lnTo>
                    <a:pt x="102" y="404"/>
                  </a:lnTo>
                  <a:lnTo>
                    <a:pt x="116" y="392"/>
                  </a:lnTo>
                  <a:lnTo>
                    <a:pt x="130" y="378"/>
                  </a:lnTo>
                  <a:lnTo>
                    <a:pt x="140" y="360"/>
                  </a:lnTo>
                  <a:lnTo>
                    <a:pt x="152" y="342"/>
                  </a:lnTo>
                  <a:lnTo>
                    <a:pt x="160" y="324"/>
                  </a:lnTo>
                  <a:lnTo>
                    <a:pt x="168" y="304"/>
                  </a:lnTo>
                  <a:lnTo>
                    <a:pt x="174" y="282"/>
                  </a:lnTo>
                  <a:lnTo>
                    <a:pt x="180" y="260"/>
                  </a:lnTo>
                  <a:lnTo>
                    <a:pt x="184" y="238"/>
                  </a:lnTo>
                  <a:lnTo>
                    <a:pt x="186" y="216"/>
                  </a:lnTo>
                  <a:lnTo>
                    <a:pt x="188" y="194"/>
                  </a:lnTo>
                  <a:lnTo>
                    <a:pt x="188" y="172"/>
                  </a:lnTo>
                  <a:lnTo>
                    <a:pt x="188" y="172"/>
                  </a:lnTo>
                  <a:lnTo>
                    <a:pt x="194" y="172"/>
                  </a:lnTo>
                  <a:lnTo>
                    <a:pt x="194" y="172"/>
                  </a:lnTo>
                  <a:lnTo>
                    <a:pt x="214" y="212"/>
                  </a:lnTo>
                  <a:lnTo>
                    <a:pt x="232" y="246"/>
                  </a:lnTo>
                  <a:lnTo>
                    <a:pt x="272" y="312"/>
                  </a:lnTo>
                  <a:lnTo>
                    <a:pt x="272" y="312"/>
                  </a:lnTo>
                  <a:lnTo>
                    <a:pt x="332" y="316"/>
                  </a:lnTo>
                  <a:lnTo>
                    <a:pt x="358" y="314"/>
                  </a:lnTo>
                  <a:lnTo>
                    <a:pt x="384" y="312"/>
                  </a:lnTo>
                  <a:lnTo>
                    <a:pt x="406" y="308"/>
                  </a:lnTo>
                  <a:lnTo>
                    <a:pt x="426" y="298"/>
                  </a:lnTo>
                  <a:lnTo>
                    <a:pt x="434" y="292"/>
                  </a:lnTo>
                  <a:lnTo>
                    <a:pt x="444" y="284"/>
                  </a:lnTo>
                  <a:lnTo>
                    <a:pt x="452" y="276"/>
                  </a:lnTo>
                  <a:lnTo>
                    <a:pt x="460" y="266"/>
                  </a:lnTo>
                  <a:lnTo>
                    <a:pt x="460" y="266"/>
                  </a:lnTo>
                  <a:lnTo>
                    <a:pt x="550" y="286"/>
                  </a:lnTo>
                  <a:lnTo>
                    <a:pt x="636" y="306"/>
                  </a:lnTo>
                  <a:lnTo>
                    <a:pt x="678" y="316"/>
                  </a:lnTo>
                  <a:lnTo>
                    <a:pt x="716" y="328"/>
                  </a:lnTo>
                  <a:lnTo>
                    <a:pt x="756" y="342"/>
                  </a:lnTo>
                  <a:lnTo>
                    <a:pt x="794" y="358"/>
                  </a:lnTo>
                  <a:lnTo>
                    <a:pt x="794" y="358"/>
                  </a:lnTo>
                  <a:lnTo>
                    <a:pt x="812" y="408"/>
                  </a:lnTo>
                  <a:lnTo>
                    <a:pt x="822" y="436"/>
                  </a:lnTo>
                  <a:lnTo>
                    <a:pt x="836" y="462"/>
                  </a:lnTo>
                  <a:lnTo>
                    <a:pt x="848" y="488"/>
                  </a:lnTo>
                  <a:lnTo>
                    <a:pt x="862" y="510"/>
                  </a:lnTo>
                  <a:lnTo>
                    <a:pt x="878" y="530"/>
                  </a:lnTo>
                  <a:lnTo>
                    <a:pt x="894" y="546"/>
                  </a:lnTo>
                  <a:lnTo>
                    <a:pt x="894" y="546"/>
                  </a:lnTo>
                  <a:lnTo>
                    <a:pt x="914" y="558"/>
                  </a:lnTo>
                  <a:lnTo>
                    <a:pt x="934" y="566"/>
                  </a:lnTo>
                  <a:lnTo>
                    <a:pt x="954" y="572"/>
                  </a:lnTo>
                  <a:lnTo>
                    <a:pt x="974" y="576"/>
                  </a:lnTo>
                  <a:lnTo>
                    <a:pt x="994" y="578"/>
                  </a:lnTo>
                  <a:lnTo>
                    <a:pt x="1014" y="576"/>
                  </a:lnTo>
                  <a:lnTo>
                    <a:pt x="1032" y="572"/>
                  </a:lnTo>
                  <a:lnTo>
                    <a:pt x="1050" y="566"/>
                  </a:lnTo>
                  <a:lnTo>
                    <a:pt x="1068" y="558"/>
                  </a:lnTo>
                  <a:lnTo>
                    <a:pt x="1084" y="548"/>
                  </a:lnTo>
                  <a:lnTo>
                    <a:pt x="1100" y="536"/>
                  </a:lnTo>
                  <a:lnTo>
                    <a:pt x="1114" y="522"/>
                  </a:lnTo>
                  <a:lnTo>
                    <a:pt x="1126" y="506"/>
                  </a:lnTo>
                  <a:lnTo>
                    <a:pt x="1136" y="490"/>
                  </a:lnTo>
                  <a:lnTo>
                    <a:pt x="1146" y="472"/>
                  </a:lnTo>
                  <a:lnTo>
                    <a:pt x="1152" y="452"/>
                  </a:lnTo>
                  <a:lnTo>
                    <a:pt x="1152" y="452"/>
                  </a:lnTo>
                  <a:close/>
                  <a:moveTo>
                    <a:pt x="404" y="180"/>
                  </a:moveTo>
                  <a:lnTo>
                    <a:pt x="404" y="180"/>
                  </a:lnTo>
                  <a:lnTo>
                    <a:pt x="400" y="192"/>
                  </a:lnTo>
                  <a:lnTo>
                    <a:pt x="394" y="200"/>
                  </a:lnTo>
                  <a:lnTo>
                    <a:pt x="386" y="208"/>
                  </a:lnTo>
                  <a:lnTo>
                    <a:pt x="378" y="214"/>
                  </a:lnTo>
                  <a:lnTo>
                    <a:pt x="358" y="226"/>
                  </a:lnTo>
                  <a:lnTo>
                    <a:pt x="334" y="234"/>
                  </a:lnTo>
                  <a:lnTo>
                    <a:pt x="334" y="234"/>
                  </a:lnTo>
                  <a:lnTo>
                    <a:pt x="322" y="210"/>
                  </a:lnTo>
                  <a:lnTo>
                    <a:pt x="308" y="190"/>
                  </a:lnTo>
                  <a:lnTo>
                    <a:pt x="292" y="174"/>
                  </a:lnTo>
                  <a:lnTo>
                    <a:pt x="272" y="156"/>
                  </a:lnTo>
                  <a:lnTo>
                    <a:pt x="272" y="156"/>
                  </a:lnTo>
                  <a:lnTo>
                    <a:pt x="278" y="138"/>
                  </a:lnTo>
                  <a:lnTo>
                    <a:pt x="284" y="128"/>
                  </a:lnTo>
                  <a:lnTo>
                    <a:pt x="294" y="120"/>
                  </a:lnTo>
                  <a:lnTo>
                    <a:pt x="304" y="110"/>
                  </a:lnTo>
                  <a:lnTo>
                    <a:pt x="304" y="110"/>
                  </a:lnTo>
                  <a:lnTo>
                    <a:pt x="332" y="114"/>
                  </a:lnTo>
                  <a:lnTo>
                    <a:pt x="360" y="120"/>
                  </a:lnTo>
                  <a:lnTo>
                    <a:pt x="412" y="132"/>
                  </a:lnTo>
                  <a:lnTo>
                    <a:pt x="412" y="132"/>
                  </a:lnTo>
                  <a:lnTo>
                    <a:pt x="412" y="160"/>
                  </a:lnTo>
                  <a:lnTo>
                    <a:pt x="410" y="170"/>
                  </a:lnTo>
                  <a:lnTo>
                    <a:pt x="404" y="180"/>
                  </a:lnTo>
                  <a:lnTo>
                    <a:pt x="404" y="180"/>
                  </a:lnTo>
                  <a:close/>
                  <a:moveTo>
                    <a:pt x="996" y="482"/>
                  </a:moveTo>
                  <a:lnTo>
                    <a:pt x="996" y="482"/>
                  </a:lnTo>
                  <a:lnTo>
                    <a:pt x="992" y="486"/>
                  </a:lnTo>
                  <a:lnTo>
                    <a:pt x="986" y="486"/>
                  </a:lnTo>
                  <a:lnTo>
                    <a:pt x="980" y="484"/>
                  </a:lnTo>
                  <a:lnTo>
                    <a:pt x="974" y="482"/>
                  </a:lnTo>
                  <a:lnTo>
                    <a:pt x="958" y="472"/>
                  </a:lnTo>
                  <a:lnTo>
                    <a:pt x="942" y="460"/>
                  </a:lnTo>
                  <a:lnTo>
                    <a:pt x="910" y="432"/>
                  </a:lnTo>
                  <a:lnTo>
                    <a:pt x="886" y="412"/>
                  </a:lnTo>
                  <a:lnTo>
                    <a:pt x="886" y="412"/>
                  </a:lnTo>
                  <a:lnTo>
                    <a:pt x="890" y="394"/>
                  </a:lnTo>
                  <a:lnTo>
                    <a:pt x="896" y="380"/>
                  </a:lnTo>
                  <a:lnTo>
                    <a:pt x="904" y="370"/>
                  </a:lnTo>
                  <a:lnTo>
                    <a:pt x="914" y="362"/>
                  </a:lnTo>
                  <a:lnTo>
                    <a:pt x="938" y="350"/>
                  </a:lnTo>
                  <a:lnTo>
                    <a:pt x="952" y="344"/>
                  </a:lnTo>
                  <a:lnTo>
                    <a:pt x="964" y="336"/>
                  </a:lnTo>
                  <a:lnTo>
                    <a:pt x="964" y="336"/>
                  </a:lnTo>
                  <a:lnTo>
                    <a:pt x="980" y="338"/>
                  </a:lnTo>
                  <a:lnTo>
                    <a:pt x="988" y="342"/>
                  </a:lnTo>
                  <a:lnTo>
                    <a:pt x="988" y="342"/>
                  </a:lnTo>
                  <a:lnTo>
                    <a:pt x="1002" y="346"/>
                  </a:lnTo>
                  <a:lnTo>
                    <a:pt x="1014" y="348"/>
                  </a:lnTo>
                  <a:lnTo>
                    <a:pt x="1022" y="352"/>
                  </a:lnTo>
                  <a:lnTo>
                    <a:pt x="1030" y="358"/>
                  </a:lnTo>
                  <a:lnTo>
                    <a:pt x="1042" y="368"/>
                  </a:lnTo>
                  <a:lnTo>
                    <a:pt x="1058" y="382"/>
                  </a:lnTo>
                  <a:lnTo>
                    <a:pt x="1058" y="382"/>
                  </a:lnTo>
                  <a:lnTo>
                    <a:pt x="1058" y="404"/>
                  </a:lnTo>
                  <a:lnTo>
                    <a:pt x="1054" y="420"/>
                  </a:lnTo>
                  <a:lnTo>
                    <a:pt x="1050" y="436"/>
                  </a:lnTo>
                  <a:lnTo>
                    <a:pt x="1042" y="448"/>
                  </a:lnTo>
                  <a:lnTo>
                    <a:pt x="1034" y="458"/>
                  </a:lnTo>
                  <a:lnTo>
                    <a:pt x="1022" y="468"/>
                  </a:lnTo>
                  <a:lnTo>
                    <a:pt x="1010" y="476"/>
                  </a:lnTo>
                  <a:lnTo>
                    <a:pt x="996" y="482"/>
                  </a:lnTo>
                  <a:lnTo>
                    <a:pt x="996" y="4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88"/>
            <p:cNvSpPr/>
            <p:nvPr/>
          </p:nvSpPr>
          <p:spPr>
            <a:xfrm>
              <a:off x="28071720" y="3867120"/>
              <a:ext cx="593640" cy="453960"/>
            </a:xfrm>
            <a:custGeom>
              <a:avLst/>
              <a:gdLst>
                <a:gd name="textAreaLeft" fmla="*/ 0 w 593640"/>
                <a:gd name="textAreaRight" fmla="*/ 594000 w 59364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374" h="286">
                  <a:moveTo>
                    <a:pt x="110" y="0"/>
                  </a:moveTo>
                  <a:lnTo>
                    <a:pt x="110" y="0"/>
                  </a:lnTo>
                  <a:lnTo>
                    <a:pt x="84" y="16"/>
                  </a:lnTo>
                  <a:lnTo>
                    <a:pt x="56" y="32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0" y="78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6" y="116"/>
                  </a:lnTo>
                  <a:lnTo>
                    <a:pt x="16" y="116"/>
                  </a:lnTo>
                  <a:lnTo>
                    <a:pt x="24" y="120"/>
                  </a:lnTo>
                  <a:lnTo>
                    <a:pt x="32" y="122"/>
                  </a:lnTo>
                  <a:lnTo>
                    <a:pt x="42" y="124"/>
                  </a:lnTo>
                  <a:lnTo>
                    <a:pt x="50" y="124"/>
                  </a:lnTo>
                  <a:lnTo>
                    <a:pt x="72" y="120"/>
                  </a:lnTo>
                  <a:lnTo>
                    <a:pt x="92" y="114"/>
                  </a:lnTo>
                  <a:lnTo>
                    <a:pt x="136" y="100"/>
                  </a:lnTo>
                  <a:lnTo>
                    <a:pt x="158" y="94"/>
                  </a:lnTo>
                  <a:lnTo>
                    <a:pt x="180" y="92"/>
                  </a:lnTo>
                  <a:lnTo>
                    <a:pt x="180" y="92"/>
                  </a:lnTo>
                  <a:lnTo>
                    <a:pt x="192" y="104"/>
                  </a:lnTo>
                  <a:lnTo>
                    <a:pt x="206" y="114"/>
                  </a:lnTo>
                  <a:lnTo>
                    <a:pt x="234" y="136"/>
                  </a:lnTo>
                  <a:lnTo>
                    <a:pt x="248" y="148"/>
                  </a:lnTo>
                  <a:lnTo>
                    <a:pt x="258" y="162"/>
                  </a:lnTo>
                  <a:lnTo>
                    <a:pt x="268" y="176"/>
                  </a:lnTo>
                  <a:lnTo>
                    <a:pt x="274" y="194"/>
                  </a:lnTo>
                  <a:lnTo>
                    <a:pt x="274" y="194"/>
                  </a:lnTo>
                  <a:lnTo>
                    <a:pt x="276" y="212"/>
                  </a:lnTo>
                  <a:lnTo>
                    <a:pt x="276" y="234"/>
                  </a:lnTo>
                  <a:lnTo>
                    <a:pt x="276" y="256"/>
                  </a:lnTo>
                  <a:lnTo>
                    <a:pt x="282" y="280"/>
                  </a:lnTo>
                  <a:lnTo>
                    <a:pt x="282" y="280"/>
                  </a:lnTo>
                  <a:lnTo>
                    <a:pt x="296" y="282"/>
                  </a:lnTo>
                  <a:lnTo>
                    <a:pt x="310" y="286"/>
                  </a:lnTo>
                  <a:lnTo>
                    <a:pt x="322" y="284"/>
                  </a:lnTo>
                  <a:lnTo>
                    <a:pt x="328" y="282"/>
                  </a:lnTo>
                  <a:lnTo>
                    <a:pt x="336" y="280"/>
                  </a:lnTo>
                  <a:lnTo>
                    <a:pt x="336" y="280"/>
                  </a:lnTo>
                  <a:lnTo>
                    <a:pt x="344" y="274"/>
                  </a:lnTo>
                  <a:lnTo>
                    <a:pt x="350" y="268"/>
                  </a:lnTo>
                  <a:lnTo>
                    <a:pt x="354" y="262"/>
                  </a:lnTo>
                  <a:lnTo>
                    <a:pt x="358" y="254"/>
                  </a:lnTo>
                  <a:lnTo>
                    <a:pt x="366" y="240"/>
                  </a:lnTo>
                  <a:lnTo>
                    <a:pt x="374" y="224"/>
                  </a:lnTo>
                  <a:lnTo>
                    <a:pt x="374" y="224"/>
                  </a:lnTo>
                  <a:lnTo>
                    <a:pt x="372" y="200"/>
                  </a:lnTo>
                  <a:lnTo>
                    <a:pt x="366" y="176"/>
                  </a:lnTo>
                  <a:lnTo>
                    <a:pt x="360" y="154"/>
                  </a:lnTo>
                  <a:lnTo>
                    <a:pt x="350" y="132"/>
                  </a:lnTo>
                  <a:lnTo>
                    <a:pt x="338" y="112"/>
                  </a:lnTo>
                  <a:lnTo>
                    <a:pt x="326" y="94"/>
                  </a:lnTo>
                  <a:lnTo>
                    <a:pt x="310" y="78"/>
                  </a:lnTo>
                  <a:lnTo>
                    <a:pt x="294" y="62"/>
                  </a:lnTo>
                  <a:lnTo>
                    <a:pt x="276" y="48"/>
                  </a:lnTo>
                  <a:lnTo>
                    <a:pt x="256" y="34"/>
                  </a:lnTo>
                  <a:lnTo>
                    <a:pt x="234" y="24"/>
                  </a:lnTo>
                  <a:lnTo>
                    <a:pt x="212" y="16"/>
                  </a:lnTo>
                  <a:lnTo>
                    <a:pt x="188" y="8"/>
                  </a:lnTo>
                  <a:lnTo>
                    <a:pt x="162" y="2"/>
                  </a:lnTo>
                  <a:lnTo>
                    <a:pt x="136" y="0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89"/>
            <p:cNvSpPr/>
            <p:nvPr/>
          </p:nvSpPr>
          <p:spPr>
            <a:xfrm>
              <a:off x="26887680" y="3952800"/>
              <a:ext cx="222120" cy="19656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40" h="124">
                  <a:moveTo>
                    <a:pt x="0" y="46"/>
                  </a:moveTo>
                  <a:lnTo>
                    <a:pt x="0" y="46"/>
                  </a:lnTo>
                  <a:lnTo>
                    <a:pt x="20" y="64"/>
                  </a:lnTo>
                  <a:lnTo>
                    <a:pt x="36" y="80"/>
                  </a:lnTo>
                  <a:lnTo>
                    <a:pt x="50" y="100"/>
                  </a:lnTo>
                  <a:lnTo>
                    <a:pt x="62" y="124"/>
                  </a:lnTo>
                  <a:lnTo>
                    <a:pt x="62" y="124"/>
                  </a:lnTo>
                  <a:lnTo>
                    <a:pt x="86" y="116"/>
                  </a:lnTo>
                  <a:lnTo>
                    <a:pt x="106" y="104"/>
                  </a:lnTo>
                  <a:lnTo>
                    <a:pt x="114" y="98"/>
                  </a:lnTo>
                  <a:lnTo>
                    <a:pt x="122" y="90"/>
                  </a:lnTo>
                  <a:lnTo>
                    <a:pt x="128" y="82"/>
                  </a:lnTo>
                  <a:lnTo>
                    <a:pt x="132" y="70"/>
                  </a:lnTo>
                  <a:lnTo>
                    <a:pt x="132" y="70"/>
                  </a:lnTo>
                  <a:lnTo>
                    <a:pt x="138" y="60"/>
                  </a:lnTo>
                  <a:lnTo>
                    <a:pt x="140" y="50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88" y="10"/>
                  </a:lnTo>
                  <a:lnTo>
                    <a:pt x="60" y="4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2" y="10"/>
                  </a:lnTo>
                  <a:lnTo>
                    <a:pt x="12" y="18"/>
                  </a:lnTo>
                  <a:lnTo>
                    <a:pt x="6" y="28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90"/>
            <p:cNvSpPr/>
            <p:nvPr/>
          </p:nvSpPr>
          <p:spPr>
            <a:xfrm>
              <a:off x="27862200" y="4311720"/>
              <a:ext cx="272880" cy="23796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172" h="150">
                  <a:moveTo>
                    <a:pt x="78" y="0"/>
                  </a:moveTo>
                  <a:lnTo>
                    <a:pt x="78" y="0"/>
                  </a:lnTo>
                  <a:lnTo>
                    <a:pt x="66" y="8"/>
                  </a:lnTo>
                  <a:lnTo>
                    <a:pt x="52" y="14"/>
                  </a:lnTo>
                  <a:lnTo>
                    <a:pt x="28" y="26"/>
                  </a:lnTo>
                  <a:lnTo>
                    <a:pt x="18" y="34"/>
                  </a:lnTo>
                  <a:lnTo>
                    <a:pt x="10" y="44"/>
                  </a:lnTo>
                  <a:lnTo>
                    <a:pt x="4" y="58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24" y="96"/>
                  </a:lnTo>
                  <a:lnTo>
                    <a:pt x="56" y="124"/>
                  </a:lnTo>
                  <a:lnTo>
                    <a:pt x="72" y="136"/>
                  </a:lnTo>
                  <a:lnTo>
                    <a:pt x="88" y="146"/>
                  </a:lnTo>
                  <a:lnTo>
                    <a:pt x="94" y="148"/>
                  </a:lnTo>
                  <a:lnTo>
                    <a:pt x="100" y="150"/>
                  </a:lnTo>
                  <a:lnTo>
                    <a:pt x="106" y="150"/>
                  </a:lnTo>
                  <a:lnTo>
                    <a:pt x="110" y="146"/>
                  </a:lnTo>
                  <a:lnTo>
                    <a:pt x="110" y="146"/>
                  </a:lnTo>
                  <a:lnTo>
                    <a:pt x="124" y="140"/>
                  </a:lnTo>
                  <a:lnTo>
                    <a:pt x="136" y="132"/>
                  </a:lnTo>
                  <a:lnTo>
                    <a:pt x="148" y="122"/>
                  </a:lnTo>
                  <a:lnTo>
                    <a:pt x="156" y="112"/>
                  </a:lnTo>
                  <a:lnTo>
                    <a:pt x="164" y="100"/>
                  </a:lnTo>
                  <a:lnTo>
                    <a:pt x="168" y="84"/>
                  </a:lnTo>
                  <a:lnTo>
                    <a:pt x="172" y="68"/>
                  </a:lnTo>
                  <a:lnTo>
                    <a:pt x="172" y="46"/>
                  </a:lnTo>
                  <a:lnTo>
                    <a:pt x="172" y="46"/>
                  </a:lnTo>
                  <a:lnTo>
                    <a:pt x="156" y="32"/>
                  </a:lnTo>
                  <a:lnTo>
                    <a:pt x="144" y="22"/>
                  </a:lnTo>
                  <a:lnTo>
                    <a:pt x="136" y="16"/>
                  </a:lnTo>
                  <a:lnTo>
                    <a:pt x="128" y="12"/>
                  </a:lnTo>
                  <a:lnTo>
                    <a:pt x="116" y="10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94" y="2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91"/>
            <p:cNvSpPr/>
            <p:nvPr/>
          </p:nvSpPr>
          <p:spPr>
            <a:xfrm>
              <a:off x="27043200" y="4384800"/>
              <a:ext cx="707760" cy="387360"/>
            </a:xfrm>
            <a:custGeom>
              <a:avLst/>
              <a:gdLst>
                <a:gd name="textAreaLeft" fmla="*/ 0 w 707760"/>
                <a:gd name="textAreaRight" fmla="*/ 707760 w 70776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446" h="244">
                  <a:moveTo>
                    <a:pt x="392" y="124"/>
                  </a:moveTo>
                  <a:lnTo>
                    <a:pt x="392" y="124"/>
                  </a:lnTo>
                  <a:lnTo>
                    <a:pt x="310" y="128"/>
                  </a:lnTo>
                  <a:lnTo>
                    <a:pt x="272" y="130"/>
                  </a:lnTo>
                  <a:lnTo>
                    <a:pt x="234" y="130"/>
                  </a:lnTo>
                  <a:lnTo>
                    <a:pt x="196" y="126"/>
                  </a:lnTo>
                  <a:lnTo>
                    <a:pt x="180" y="122"/>
                  </a:lnTo>
                  <a:lnTo>
                    <a:pt x="162" y="118"/>
                  </a:lnTo>
                  <a:lnTo>
                    <a:pt x="146" y="112"/>
                  </a:lnTo>
                  <a:lnTo>
                    <a:pt x="128" y="104"/>
                  </a:lnTo>
                  <a:lnTo>
                    <a:pt x="112" y="96"/>
                  </a:lnTo>
                  <a:lnTo>
                    <a:pt x="98" y="86"/>
                  </a:lnTo>
                  <a:lnTo>
                    <a:pt x="98" y="86"/>
                  </a:lnTo>
                  <a:lnTo>
                    <a:pt x="86" y="76"/>
                  </a:lnTo>
                  <a:lnTo>
                    <a:pt x="78" y="66"/>
                  </a:lnTo>
                  <a:lnTo>
                    <a:pt x="66" y="42"/>
                  </a:lnTo>
                  <a:lnTo>
                    <a:pt x="58" y="30"/>
                  </a:lnTo>
                  <a:lnTo>
                    <a:pt x="50" y="20"/>
                  </a:lnTo>
                  <a:lnTo>
                    <a:pt x="40" y="8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6" y="14"/>
                  </a:lnTo>
                  <a:lnTo>
                    <a:pt x="8" y="28"/>
                  </a:lnTo>
                  <a:lnTo>
                    <a:pt x="2" y="42"/>
                  </a:lnTo>
                  <a:lnTo>
                    <a:pt x="0" y="56"/>
                  </a:lnTo>
                  <a:lnTo>
                    <a:pt x="2" y="70"/>
                  </a:lnTo>
                  <a:lnTo>
                    <a:pt x="4" y="84"/>
                  </a:lnTo>
                  <a:lnTo>
                    <a:pt x="10" y="98"/>
                  </a:lnTo>
                  <a:lnTo>
                    <a:pt x="18" y="112"/>
                  </a:lnTo>
                  <a:lnTo>
                    <a:pt x="28" y="124"/>
                  </a:lnTo>
                  <a:lnTo>
                    <a:pt x="40" y="136"/>
                  </a:lnTo>
                  <a:lnTo>
                    <a:pt x="54" y="148"/>
                  </a:lnTo>
                  <a:lnTo>
                    <a:pt x="70" y="160"/>
                  </a:lnTo>
                  <a:lnTo>
                    <a:pt x="104" y="182"/>
                  </a:lnTo>
                  <a:lnTo>
                    <a:pt x="142" y="200"/>
                  </a:lnTo>
                  <a:lnTo>
                    <a:pt x="184" y="216"/>
                  </a:lnTo>
                  <a:lnTo>
                    <a:pt x="226" y="230"/>
                  </a:lnTo>
                  <a:lnTo>
                    <a:pt x="268" y="238"/>
                  </a:lnTo>
                  <a:lnTo>
                    <a:pt x="310" y="244"/>
                  </a:lnTo>
                  <a:lnTo>
                    <a:pt x="348" y="244"/>
                  </a:lnTo>
                  <a:lnTo>
                    <a:pt x="366" y="244"/>
                  </a:lnTo>
                  <a:lnTo>
                    <a:pt x="382" y="240"/>
                  </a:lnTo>
                  <a:lnTo>
                    <a:pt x="396" y="236"/>
                  </a:lnTo>
                  <a:lnTo>
                    <a:pt x="410" y="232"/>
                  </a:lnTo>
                  <a:lnTo>
                    <a:pt x="422" y="226"/>
                  </a:lnTo>
                  <a:lnTo>
                    <a:pt x="432" y="218"/>
                  </a:lnTo>
                  <a:lnTo>
                    <a:pt x="432" y="218"/>
                  </a:lnTo>
                  <a:lnTo>
                    <a:pt x="446" y="218"/>
                  </a:lnTo>
                  <a:lnTo>
                    <a:pt x="446" y="218"/>
                  </a:lnTo>
                  <a:lnTo>
                    <a:pt x="446" y="194"/>
                  </a:lnTo>
                  <a:lnTo>
                    <a:pt x="442" y="178"/>
                  </a:lnTo>
                  <a:lnTo>
                    <a:pt x="438" y="166"/>
                  </a:lnTo>
                  <a:lnTo>
                    <a:pt x="432" y="158"/>
                  </a:lnTo>
                  <a:lnTo>
                    <a:pt x="422" y="150"/>
                  </a:lnTo>
                  <a:lnTo>
                    <a:pt x="414" y="144"/>
                  </a:lnTo>
                  <a:lnTo>
                    <a:pt x="404" y="136"/>
                  </a:lnTo>
                  <a:lnTo>
                    <a:pt x="392" y="124"/>
                  </a:lnTo>
                  <a:lnTo>
                    <a:pt x="392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92"/>
            <p:cNvSpPr/>
            <p:nvPr/>
          </p:nvSpPr>
          <p:spPr>
            <a:xfrm>
              <a:off x="28160640" y="4508640"/>
              <a:ext cx="492120" cy="58104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310" h="366">
                  <a:moveTo>
                    <a:pt x="218" y="0"/>
                  </a:moveTo>
                  <a:lnTo>
                    <a:pt x="218" y="0"/>
                  </a:lnTo>
                  <a:lnTo>
                    <a:pt x="212" y="4"/>
                  </a:lnTo>
                  <a:lnTo>
                    <a:pt x="206" y="6"/>
                  </a:lnTo>
                  <a:lnTo>
                    <a:pt x="186" y="8"/>
                  </a:lnTo>
                  <a:lnTo>
                    <a:pt x="186" y="8"/>
                  </a:lnTo>
                  <a:lnTo>
                    <a:pt x="150" y="40"/>
                  </a:lnTo>
                  <a:lnTo>
                    <a:pt x="110" y="74"/>
                  </a:lnTo>
                  <a:lnTo>
                    <a:pt x="90" y="94"/>
                  </a:lnTo>
                  <a:lnTo>
                    <a:pt x="70" y="114"/>
                  </a:lnTo>
                  <a:lnTo>
                    <a:pt x="50" y="136"/>
                  </a:lnTo>
                  <a:lnTo>
                    <a:pt x="34" y="158"/>
                  </a:lnTo>
                  <a:lnTo>
                    <a:pt x="20" y="182"/>
                  </a:lnTo>
                  <a:lnTo>
                    <a:pt x="8" y="206"/>
                  </a:lnTo>
                  <a:lnTo>
                    <a:pt x="2" y="230"/>
                  </a:lnTo>
                  <a:lnTo>
                    <a:pt x="0" y="242"/>
                  </a:lnTo>
                  <a:lnTo>
                    <a:pt x="0" y="256"/>
                  </a:lnTo>
                  <a:lnTo>
                    <a:pt x="0" y="268"/>
                  </a:lnTo>
                  <a:lnTo>
                    <a:pt x="2" y="282"/>
                  </a:lnTo>
                  <a:lnTo>
                    <a:pt x="6" y="296"/>
                  </a:lnTo>
                  <a:lnTo>
                    <a:pt x="10" y="308"/>
                  </a:lnTo>
                  <a:lnTo>
                    <a:pt x="16" y="322"/>
                  </a:lnTo>
                  <a:lnTo>
                    <a:pt x="24" y="336"/>
                  </a:lnTo>
                  <a:lnTo>
                    <a:pt x="34" y="350"/>
                  </a:lnTo>
                  <a:lnTo>
                    <a:pt x="46" y="366"/>
                  </a:lnTo>
                  <a:lnTo>
                    <a:pt x="46" y="366"/>
                  </a:lnTo>
                  <a:lnTo>
                    <a:pt x="76" y="362"/>
                  </a:lnTo>
                  <a:lnTo>
                    <a:pt x="90" y="360"/>
                  </a:lnTo>
                  <a:lnTo>
                    <a:pt x="100" y="358"/>
                  </a:lnTo>
                  <a:lnTo>
                    <a:pt x="100" y="358"/>
                  </a:lnTo>
                  <a:lnTo>
                    <a:pt x="102" y="342"/>
                  </a:lnTo>
                  <a:lnTo>
                    <a:pt x="106" y="326"/>
                  </a:lnTo>
                  <a:lnTo>
                    <a:pt x="108" y="312"/>
                  </a:lnTo>
                  <a:lnTo>
                    <a:pt x="110" y="308"/>
                  </a:lnTo>
                  <a:lnTo>
                    <a:pt x="108" y="302"/>
                  </a:lnTo>
                  <a:lnTo>
                    <a:pt x="108" y="302"/>
                  </a:lnTo>
                  <a:lnTo>
                    <a:pt x="106" y="300"/>
                  </a:lnTo>
                  <a:lnTo>
                    <a:pt x="102" y="298"/>
                  </a:lnTo>
                  <a:lnTo>
                    <a:pt x="92" y="290"/>
                  </a:lnTo>
                  <a:lnTo>
                    <a:pt x="88" y="286"/>
                  </a:lnTo>
                  <a:lnTo>
                    <a:pt x="84" y="278"/>
                  </a:lnTo>
                  <a:lnTo>
                    <a:pt x="84" y="270"/>
                  </a:lnTo>
                  <a:lnTo>
                    <a:pt x="86" y="256"/>
                  </a:lnTo>
                  <a:lnTo>
                    <a:pt x="86" y="256"/>
                  </a:lnTo>
                  <a:lnTo>
                    <a:pt x="90" y="236"/>
                  </a:lnTo>
                  <a:lnTo>
                    <a:pt x="98" y="218"/>
                  </a:lnTo>
                  <a:lnTo>
                    <a:pt x="106" y="202"/>
                  </a:lnTo>
                  <a:lnTo>
                    <a:pt x="118" y="186"/>
                  </a:lnTo>
                  <a:lnTo>
                    <a:pt x="130" y="172"/>
                  </a:lnTo>
                  <a:lnTo>
                    <a:pt x="142" y="160"/>
                  </a:lnTo>
                  <a:lnTo>
                    <a:pt x="158" y="146"/>
                  </a:lnTo>
                  <a:lnTo>
                    <a:pt x="172" y="136"/>
                  </a:lnTo>
                  <a:lnTo>
                    <a:pt x="206" y="114"/>
                  </a:lnTo>
                  <a:lnTo>
                    <a:pt x="240" y="96"/>
                  </a:lnTo>
                  <a:lnTo>
                    <a:pt x="310" y="62"/>
                  </a:lnTo>
                  <a:lnTo>
                    <a:pt x="310" y="62"/>
                  </a:lnTo>
                  <a:lnTo>
                    <a:pt x="308" y="44"/>
                  </a:lnTo>
                  <a:lnTo>
                    <a:pt x="302" y="30"/>
                  </a:lnTo>
                  <a:lnTo>
                    <a:pt x="294" y="18"/>
                  </a:lnTo>
                  <a:lnTo>
                    <a:pt x="284" y="10"/>
                  </a:lnTo>
                  <a:lnTo>
                    <a:pt x="272" y="4"/>
                  </a:lnTo>
                  <a:lnTo>
                    <a:pt x="256" y="0"/>
                  </a:lnTo>
                  <a:lnTo>
                    <a:pt x="238" y="0"/>
                  </a:lnTo>
                  <a:lnTo>
                    <a:pt x="218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8" name="Freeform 93"/>
          <p:cNvSpPr/>
          <p:nvPr/>
        </p:nvSpPr>
        <p:spPr>
          <a:xfrm>
            <a:off x="154080" y="139680"/>
            <a:ext cx="32032440" cy="10299600"/>
          </a:xfrm>
          <a:custGeom>
            <a:avLst/>
            <a:gdLst>
              <a:gd name="textAreaLeft" fmla="*/ 0 w 32032440"/>
              <a:gd name="textAreaRight" fmla="*/ 32032800 w 32032440"/>
              <a:gd name="textAreaTop" fmla="*/ 0 h 10299600"/>
              <a:gd name="textAreaBottom" fmla="*/ 10299960 h 10299600"/>
            </a:gdLst>
            <a:ahLst/>
            <a:rect l="textAreaLeft" t="textAreaTop" r="textAreaRight" b="textAreaBottom"/>
            <a:pathLst>
              <a:path w="20178" h="6488">
                <a:moveTo>
                  <a:pt x="512" y="138"/>
                </a:moveTo>
                <a:lnTo>
                  <a:pt x="512" y="138"/>
                </a:lnTo>
                <a:lnTo>
                  <a:pt x="618" y="178"/>
                </a:lnTo>
                <a:lnTo>
                  <a:pt x="724" y="214"/>
                </a:lnTo>
                <a:lnTo>
                  <a:pt x="828" y="246"/>
                </a:lnTo>
                <a:lnTo>
                  <a:pt x="934" y="274"/>
                </a:lnTo>
                <a:lnTo>
                  <a:pt x="1038" y="300"/>
                </a:lnTo>
                <a:lnTo>
                  <a:pt x="1144" y="322"/>
                </a:lnTo>
                <a:lnTo>
                  <a:pt x="1248" y="342"/>
                </a:lnTo>
                <a:lnTo>
                  <a:pt x="1352" y="360"/>
                </a:lnTo>
                <a:lnTo>
                  <a:pt x="1456" y="374"/>
                </a:lnTo>
                <a:lnTo>
                  <a:pt x="1560" y="388"/>
                </a:lnTo>
                <a:lnTo>
                  <a:pt x="1664" y="398"/>
                </a:lnTo>
                <a:lnTo>
                  <a:pt x="1766" y="406"/>
                </a:lnTo>
                <a:lnTo>
                  <a:pt x="1870" y="414"/>
                </a:lnTo>
                <a:lnTo>
                  <a:pt x="1972" y="420"/>
                </a:lnTo>
                <a:lnTo>
                  <a:pt x="2174" y="426"/>
                </a:lnTo>
                <a:lnTo>
                  <a:pt x="2174" y="426"/>
                </a:lnTo>
                <a:lnTo>
                  <a:pt x="2374" y="430"/>
                </a:lnTo>
                <a:lnTo>
                  <a:pt x="2574" y="428"/>
                </a:lnTo>
                <a:lnTo>
                  <a:pt x="2772" y="422"/>
                </a:lnTo>
                <a:lnTo>
                  <a:pt x="2970" y="414"/>
                </a:lnTo>
                <a:lnTo>
                  <a:pt x="3168" y="404"/>
                </a:lnTo>
                <a:lnTo>
                  <a:pt x="3366" y="390"/>
                </a:lnTo>
                <a:lnTo>
                  <a:pt x="3764" y="362"/>
                </a:lnTo>
                <a:lnTo>
                  <a:pt x="3764" y="362"/>
                </a:lnTo>
                <a:lnTo>
                  <a:pt x="4164" y="332"/>
                </a:lnTo>
                <a:lnTo>
                  <a:pt x="4368" y="318"/>
                </a:lnTo>
                <a:lnTo>
                  <a:pt x="4572" y="306"/>
                </a:lnTo>
                <a:lnTo>
                  <a:pt x="4780" y="294"/>
                </a:lnTo>
                <a:lnTo>
                  <a:pt x="4992" y="288"/>
                </a:lnTo>
                <a:lnTo>
                  <a:pt x="5206" y="284"/>
                </a:lnTo>
                <a:lnTo>
                  <a:pt x="5314" y="284"/>
                </a:lnTo>
                <a:lnTo>
                  <a:pt x="5424" y="286"/>
                </a:lnTo>
                <a:lnTo>
                  <a:pt x="5424" y="286"/>
                </a:lnTo>
                <a:lnTo>
                  <a:pt x="5880" y="288"/>
                </a:lnTo>
                <a:lnTo>
                  <a:pt x="6354" y="290"/>
                </a:lnTo>
                <a:lnTo>
                  <a:pt x="7376" y="288"/>
                </a:lnTo>
                <a:lnTo>
                  <a:pt x="7376" y="288"/>
                </a:lnTo>
                <a:lnTo>
                  <a:pt x="7702" y="288"/>
                </a:lnTo>
                <a:lnTo>
                  <a:pt x="8098" y="288"/>
                </a:lnTo>
                <a:lnTo>
                  <a:pt x="8554" y="288"/>
                </a:lnTo>
                <a:lnTo>
                  <a:pt x="9070" y="290"/>
                </a:lnTo>
                <a:lnTo>
                  <a:pt x="9346" y="294"/>
                </a:lnTo>
                <a:lnTo>
                  <a:pt x="9636" y="298"/>
                </a:lnTo>
                <a:lnTo>
                  <a:pt x="9938" y="304"/>
                </a:lnTo>
                <a:lnTo>
                  <a:pt x="10250" y="312"/>
                </a:lnTo>
                <a:lnTo>
                  <a:pt x="10572" y="322"/>
                </a:lnTo>
                <a:lnTo>
                  <a:pt x="10906" y="334"/>
                </a:lnTo>
                <a:lnTo>
                  <a:pt x="11246" y="348"/>
                </a:lnTo>
                <a:lnTo>
                  <a:pt x="11596" y="364"/>
                </a:lnTo>
                <a:lnTo>
                  <a:pt x="11596" y="364"/>
                </a:lnTo>
                <a:lnTo>
                  <a:pt x="11958" y="382"/>
                </a:lnTo>
                <a:lnTo>
                  <a:pt x="12324" y="398"/>
                </a:lnTo>
                <a:lnTo>
                  <a:pt x="12698" y="410"/>
                </a:lnTo>
                <a:lnTo>
                  <a:pt x="13080" y="420"/>
                </a:lnTo>
                <a:lnTo>
                  <a:pt x="13466" y="428"/>
                </a:lnTo>
                <a:lnTo>
                  <a:pt x="13856" y="432"/>
                </a:lnTo>
                <a:lnTo>
                  <a:pt x="14252" y="434"/>
                </a:lnTo>
                <a:lnTo>
                  <a:pt x="14650" y="430"/>
                </a:lnTo>
                <a:lnTo>
                  <a:pt x="14650" y="430"/>
                </a:lnTo>
                <a:lnTo>
                  <a:pt x="14850" y="428"/>
                </a:lnTo>
                <a:lnTo>
                  <a:pt x="15052" y="424"/>
                </a:lnTo>
                <a:lnTo>
                  <a:pt x="15252" y="418"/>
                </a:lnTo>
                <a:lnTo>
                  <a:pt x="15454" y="412"/>
                </a:lnTo>
                <a:lnTo>
                  <a:pt x="15860" y="394"/>
                </a:lnTo>
                <a:lnTo>
                  <a:pt x="16266" y="374"/>
                </a:lnTo>
                <a:lnTo>
                  <a:pt x="16672" y="350"/>
                </a:lnTo>
                <a:lnTo>
                  <a:pt x="17078" y="320"/>
                </a:lnTo>
                <a:lnTo>
                  <a:pt x="17478" y="290"/>
                </a:lnTo>
                <a:lnTo>
                  <a:pt x="17878" y="256"/>
                </a:lnTo>
                <a:lnTo>
                  <a:pt x="17878" y="256"/>
                </a:lnTo>
                <a:lnTo>
                  <a:pt x="17974" y="252"/>
                </a:lnTo>
                <a:lnTo>
                  <a:pt x="18072" y="250"/>
                </a:lnTo>
                <a:lnTo>
                  <a:pt x="18170" y="250"/>
                </a:lnTo>
                <a:lnTo>
                  <a:pt x="18270" y="252"/>
                </a:lnTo>
                <a:lnTo>
                  <a:pt x="18466" y="256"/>
                </a:lnTo>
                <a:lnTo>
                  <a:pt x="18662" y="264"/>
                </a:lnTo>
                <a:lnTo>
                  <a:pt x="18662" y="264"/>
                </a:lnTo>
                <a:lnTo>
                  <a:pt x="18858" y="276"/>
                </a:lnTo>
                <a:lnTo>
                  <a:pt x="18954" y="282"/>
                </a:lnTo>
                <a:lnTo>
                  <a:pt x="19050" y="290"/>
                </a:lnTo>
                <a:lnTo>
                  <a:pt x="19146" y="298"/>
                </a:lnTo>
                <a:lnTo>
                  <a:pt x="19238" y="310"/>
                </a:lnTo>
                <a:lnTo>
                  <a:pt x="19330" y="324"/>
                </a:lnTo>
                <a:lnTo>
                  <a:pt x="19418" y="342"/>
                </a:lnTo>
                <a:lnTo>
                  <a:pt x="19418" y="342"/>
                </a:lnTo>
                <a:lnTo>
                  <a:pt x="19460" y="352"/>
                </a:lnTo>
                <a:lnTo>
                  <a:pt x="19500" y="364"/>
                </a:lnTo>
                <a:lnTo>
                  <a:pt x="19536" y="378"/>
                </a:lnTo>
                <a:lnTo>
                  <a:pt x="19568" y="392"/>
                </a:lnTo>
                <a:lnTo>
                  <a:pt x="19596" y="410"/>
                </a:lnTo>
                <a:lnTo>
                  <a:pt x="19622" y="430"/>
                </a:lnTo>
                <a:lnTo>
                  <a:pt x="19642" y="452"/>
                </a:lnTo>
                <a:lnTo>
                  <a:pt x="19652" y="464"/>
                </a:lnTo>
                <a:lnTo>
                  <a:pt x="19660" y="478"/>
                </a:lnTo>
                <a:lnTo>
                  <a:pt x="19660" y="478"/>
                </a:lnTo>
                <a:lnTo>
                  <a:pt x="19676" y="508"/>
                </a:lnTo>
                <a:lnTo>
                  <a:pt x="19692" y="542"/>
                </a:lnTo>
                <a:lnTo>
                  <a:pt x="19704" y="578"/>
                </a:lnTo>
                <a:lnTo>
                  <a:pt x="19716" y="618"/>
                </a:lnTo>
                <a:lnTo>
                  <a:pt x="19724" y="660"/>
                </a:lnTo>
                <a:lnTo>
                  <a:pt x="19732" y="702"/>
                </a:lnTo>
                <a:lnTo>
                  <a:pt x="19746" y="790"/>
                </a:lnTo>
                <a:lnTo>
                  <a:pt x="19746" y="790"/>
                </a:lnTo>
                <a:lnTo>
                  <a:pt x="19754" y="878"/>
                </a:lnTo>
                <a:lnTo>
                  <a:pt x="19760" y="968"/>
                </a:lnTo>
                <a:lnTo>
                  <a:pt x="19768" y="1150"/>
                </a:lnTo>
                <a:lnTo>
                  <a:pt x="19774" y="1332"/>
                </a:lnTo>
                <a:lnTo>
                  <a:pt x="19774" y="1512"/>
                </a:lnTo>
                <a:lnTo>
                  <a:pt x="19774" y="1512"/>
                </a:lnTo>
                <a:lnTo>
                  <a:pt x="19774" y="1690"/>
                </a:lnTo>
                <a:lnTo>
                  <a:pt x="19770" y="1868"/>
                </a:lnTo>
                <a:lnTo>
                  <a:pt x="19760" y="2216"/>
                </a:lnTo>
                <a:lnTo>
                  <a:pt x="19750" y="2560"/>
                </a:lnTo>
                <a:lnTo>
                  <a:pt x="19748" y="2728"/>
                </a:lnTo>
                <a:lnTo>
                  <a:pt x="19746" y="2894"/>
                </a:lnTo>
                <a:lnTo>
                  <a:pt x="19746" y="2894"/>
                </a:lnTo>
                <a:lnTo>
                  <a:pt x="19748" y="3060"/>
                </a:lnTo>
                <a:lnTo>
                  <a:pt x="19752" y="3222"/>
                </a:lnTo>
                <a:lnTo>
                  <a:pt x="19758" y="3380"/>
                </a:lnTo>
                <a:lnTo>
                  <a:pt x="19766" y="3536"/>
                </a:lnTo>
                <a:lnTo>
                  <a:pt x="19774" y="3690"/>
                </a:lnTo>
                <a:lnTo>
                  <a:pt x="19784" y="3838"/>
                </a:lnTo>
                <a:lnTo>
                  <a:pt x="19806" y="4128"/>
                </a:lnTo>
                <a:lnTo>
                  <a:pt x="19806" y="4128"/>
                </a:lnTo>
                <a:lnTo>
                  <a:pt x="19828" y="4404"/>
                </a:lnTo>
                <a:lnTo>
                  <a:pt x="19848" y="4664"/>
                </a:lnTo>
                <a:lnTo>
                  <a:pt x="19848" y="4664"/>
                </a:lnTo>
                <a:lnTo>
                  <a:pt x="19864" y="4912"/>
                </a:lnTo>
                <a:lnTo>
                  <a:pt x="19864" y="4912"/>
                </a:lnTo>
                <a:lnTo>
                  <a:pt x="19872" y="5030"/>
                </a:lnTo>
                <a:lnTo>
                  <a:pt x="19874" y="5088"/>
                </a:lnTo>
                <a:lnTo>
                  <a:pt x="19874" y="5102"/>
                </a:lnTo>
                <a:lnTo>
                  <a:pt x="19874" y="5102"/>
                </a:lnTo>
                <a:lnTo>
                  <a:pt x="19876" y="5118"/>
                </a:lnTo>
                <a:lnTo>
                  <a:pt x="19876" y="5122"/>
                </a:lnTo>
                <a:lnTo>
                  <a:pt x="19878" y="5128"/>
                </a:lnTo>
                <a:lnTo>
                  <a:pt x="19882" y="5156"/>
                </a:lnTo>
                <a:lnTo>
                  <a:pt x="19882" y="5156"/>
                </a:lnTo>
                <a:lnTo>
                  <a:pt x="19896" y="5264"/>
                </a:lnTo>
                <a:lnTo>
                  <a:pt x="19908" y="5370"/>
                </a:lnTo>
                <a:lnTo>
                  <a:pt x="19918" y="5472"/>
                </a:lnTo>
                <a:lnTo>
                  <a:pt x="19926" y="5568"/>
                </a:lnTo>
                <a:lnTo>
                  <a:pt x="19928" y="5660"/>
                </a:lnTo>
                <a:lnTo>
                  <a:pt x="19928" y="5746"/>
                </a:lnTo>
                <a:lnTo>
                  <a:pt x="19926" y="5826"/>
                </a:lnTo>
                <a:lnTo>
                  <a:pt x="19922" y="5864"/>
                </a:lnTo>
                <a:lnTo>
                  <a:pt x="19918" y="5900"/>
                </a:lnTo>
                <a:lnTo>
                  <a:pt x="19918" y="5900"/>
                </a:lnTo>
                <a:lnTo>
                  <a:pt x="19912" y="5930"/>
                </a:lnTo>
                <a:lnTo>
                  <a:pt x="19906" y="5958"/>
                </a:lnTo>
                <a:lnTo>
                  <a:pt x="19898" y="5984"/>
                </a:lnTo>
                <a:lnTo>
                  <a:pt x="19886" y="6008"/>
                </a:lnTo>
                <a:lnTo>
                  <a:pt x="19876" y="6028"/>
                </a:lnTo>
                <a:lnTo>
                  <a:pt x="19862" y="6048"/>
                </a:lnTo>
                <a:lnTo>
                  <a:pt x="19848" y="6066"/>
                </a:lnTo>
                <a:lnTo>
                  <a:pt x="19832" y="6080"/>
                </a:lnTo>
                <a:lnTo>
                  <a:pt x="19816" y="6094"/>
                </a:lnTo>
                <a:lnTo>
                  <a:pt x="19800" y="6106"/>
                </a:lnTo>
                <a:lnTo>
                  <a:pt x="19782" y="6118"/>
                </a:lnTo>
                <a:lnTo>
                  <a:pt x="19764" y="6126"/>
                </a:lnTo>
                <a:lnTo>
                  <a:pt x="19730" y="6144"/>
                </a:lnTo>
                <a:lnTo>
                  <a:pt x="19696" y="6156"/>
                </a:lnTo>
                <a:lnTo>
                  <a:pt x="19696" y="6156"/>
                </a:lnTo>
                <a:lnTo>
                  <a:pt x="19664" y="6166"/>
                </a:lnTo>
                <a:lnTo>
                  <a:pt x="19636" y="6172"/>
                </a:lnTo>
                <a:lnTo>
                  <a:pt x="19588" y="6180"/>
                </a:lnTo>
                <a:lnTo>
                  <a:pt x="19550" y="6186"/>
                </a:lnTo>
                <a:lnTo>
                  <a:pt x="19550" y="6186"/>
                </a:lnTo>
                <a:lnTo>
                  <a:pt x="19540" y="6188"/>
                </a:lnTo>
                <a:lnTo>
                  <a:pt x="19510" y="6190"/>
                </a:lnTo>
                <a:lnTo>
                  <a:pt x="19460" y="6192"/>
                </a:lnTo>
                <a:lnTo>
                  <a:pt x="19390" y="6192"/>
                </a:lnTo>
                <a:lnTo>
                  <a:pt x="19300" y="6188"/>
                </a:lnTo>
                <a:lnTo>
                  <a:pt x="19190" y="6180"/>
                </a:lnTo>
                <a:lnTo>
                  <a:pt x="19128" y="6172"/>
                </a:lnTo>
                <a:lnTo>
                  <a:pt x="19062" y="6164"/>
                </a:lnTo>
                <a:lnTo>
                  <a:pt x="18990" y="6152"/>
                </a:lnTo>
                <a:lnTo>
                  <a:pt x="18912" y="6140"/>
                </a:lnTo>
                <a:lnTo>
                  <a:pt x="18912" y="6140"/>
                </a:lnTo>
                <a:lnTo>
                  <a:pt x="18746" y="6110"/>
                </a:lnTo>
                <a:lnTo>
                  <a:pt x="18558" y="6078"/>
                </a:lnTo>
                <a:lnTo>
                  <a:pt x="18558" y="6078"/>
                </a:lnTo>
                <a:lnTo>
                  <a:pt x="18454" y="6064"/>
                </a:lnTo>
                <a:lnTo>
                  <a:pt x="18350" y="6052"/>
                </a:lnTo>
                <a:lnTo>
                  <a:pt x="18128" y="6030"/>
                </a:lnTo>
                <a:lnTo>
                  <a:pt x="18128" y="6030"/>
                </a:lnTo>
                <a:lnTo>
                  <a:pt x="17894" y="6012"/>
                </a:lnTo>
                <a:lnTo>
                  <a:pt x="17642" y="5994"/>
                </a:lnTo>
                <a:lnTo>
                  <a:pt x="17378" y="5980"/>
                </a:lnTo>
                <a:lnTo>
                  <a:pt x="17100" y="5968"/>
                </a:lnTo>
                <a:lnTo>
                  <a:pt x="17100" y="5968"/>
                </a:lnTo>
                <a:lnTo>
                  <a:pt x="16956" y="5962"/>
                </a:lnTo>
                <a:lnTo>
                  <a:pt x="16810" y="5958"/>
                </a:lnTo>
                <a:lnTo>
                  <a:pt x="16506" y="5952"/>
                </a:lnTo>
                <a:lnTo>
                  <a:pt x="16194" y="5952"/>
                </a:lnTo>
                <a:lnTo>
                  <a:pt x="15870" y="5954"/>
                </a:lnTo>
                <a:lnTo>
                  <a:pt x="15536" y="5958"/>
                </a:lnTo>
                <a:lnTo>
                  <a:pt x="15194" y="5966"/>
                </a:lnTo>
                <a:lnTo>
                  <a:pt x="14484" y="5984"/>
                </a:lnTo>
                <a:lnTo>
                  <a:pt x="13746" y="6004"/>
                </a:lnTo>
                <a:lnTo>
                  <a:pt x="13366" y="6014"/>
                </a:lnTo>
                <a:lnTo>
                  <a:pt x="12982" y="6022"/>
                </a:lnTo>
                <a:lnTo>
                  <a:pt x="12594" y="6028"/>
                </a:lnTo>
                <a:lnTo>
                  <a:pt x="12200" y="6032"/>
                </a:lnTo>
                <a:lnTo>
                  <a:pt x="11804" y="6034"/>
                </a:lnTo>
                <a:lnTo>
                  <a:pt x="11404" y="6032"/>
                </a:lnTo>
                <a:lnTo>
                  <a:pt x="11404" y="6032"/>
                </a:lnTo>
                <a:lnTo>
                  <a:pt x="10598" y="6038"/>
                </a:lnTo>
                <a:lnTo>
                  <a:pt x="9788" y="6048"/>
                </a:lnTo>
                <a:lnTo>
                  <a:pt x="8176" y="6070"/>
                </a:lnTo>
                <a:lnTo>
                  <a:pt x="8176" y="6070"/>
                </a:lnTo>
                <a:lnTo>
                  <a:pt x="7778" y="6076"/>
                </a:lnTo>
                <a:lnTo>
                  <a:pt x="7384" y="6082"/>
                </a:lnTo>
                <a:lnTo>
                  <a:pt x="6610" y="6088"/>
                </a:lnTo>
                <a:lnTo>
                  <a:pt x="5858" y="6092"/>
                </a:lnTo>
                <a:lnTo>
                  <a:pt x="5490" y="6096"/>
                </a:lnTo>
                <a:lnTo>
                  <a:pt x="5128" y="6100"/>
                </a:lnTo>
                <a:lnTo>
                  <a:pt x="5128" y="6100"/>
                </a:lnTo>
                <a:lnTo>
                  <a:pt x="4774" y="6112"/>
                </a:lnTo>
                <a:lnTo>
                  <a:pt x="4432" y="6126"/>
                </a:lnTo>
                <a:lnTo>
                  <a:pt x="4098" y="6140"/>
                </a:lnTo>
                <a:lnTo>
                  <a:pt x="3776" y="6152"/>
                </a:lnTo>
                <a:lnTo>
                  <a:pt x="3776" y="6152"/>
                </a:lnTo>
                <a:lnTo>
                  <a:pt x="3620" y="6158"/>
                </a:lnTo>
                <a:lnTo>
                  <a:pt x="3466" y="6160"/>
                </a:lnTo>
                <a:lnTo>
                  <a:pt x="3314" y="6162"/>
                </a:lnTo>
                <a:lnTo>
                  <a:pt x="3166" y="6164"/>
                </a:lnTo>
                <a:lnTo>
                  <a:pt x="3166" y="6164"/>
                </a:lnTo>
                <a:lnTo>
                  <a:pt x="3022" y="6162"/>
                </a:lnTo>
                <a:lnTo>
                  <a:pt x="2880" y="6158"/>
                </a:lnTo>
                <a:lnTo>
                  <a:pt x="2880" y="6158"/>
                </a:lnTo>
                <a:lnTo>
                  <a:pt x="2804" y="6158"/>
                </a:lnTo>
                <a:lnTo>
                  <a:pt x="2732" y="6158"/>
                </a:lnTo>
                <a:lnTo>
                  <a:pt x="2594" y="6162"/>
                </a:lnTo>
                <a:lnTo>
                  <a:pt x="2594" y="6162"/>
                </a:lnTo>
                <a:lnTo>
                  <a:pt x="2458" y="6168"/>
                </a:lnTo>
                <a:lnTo>
                  <a:pt x="2326" y="6176"/>
                </a:lnTo>
                <a:lnTo>
                  <a:pt x="2074" y="6192"/>
                </a:lnTo>
                <a:lnTo>
                  <a:pt x="1840" y="6210"/>
                </a:lnTo>
                <a:lnTo>
                  <a:pt x="1620" y="6222"/>
                </a:lnTo>
                <a:lnTo>
                  <a:pt x="1620" y="6222"/>
                </a:lnTo>
                <a:lnTo>
                  <a:pt x="1416" y="6232"/>
                </a:lnTo>
                <a:lnTo>
                  <a:pt x="1230" y="6238"/>
                </a:lnTo>
                <a:lnTo>
                  <a:pt x="1060" y="6238"/>
                </a:lnTo>
                <a:lnTo>
                  <a:pt x="910" y="6236"/>
                </a:lnTo>
                <a:lnTo>
                  <a:pt x="910" y="6236"/>
                </a:lnTo>
                <a:lnTo>
                  <a:pt x="778" y="6230"/>
                </a:lnTo>
                <a:lnTo>
                  <a:pt x="650" y="6222"/>
                </a:lnTo>
                <a:lnTo>
                  <a:pt x="524" y="6210"/>
                </a:lnTo>
                <a:lnTo>
                  <a:pt x="402" y="6194"/>
                </a:lnTo>
                <a:lnTo>
                  <a:pt x="402" y="6194"/>
                </a:lnTo>
                <a:lnTo>
                  <a:pt x="376" y="6190"/>
                </a:lnTo>
                <a:lnTo>
                  <a:pt x="354" y="6184"/>
                </a:lnTo>
                <a:lnTo>
                  <a:pt x="334" y="6178"/>
                </a:lnTo>
                <a:lnTo>
                  <a:pt x="318" y="6172"/>
                </a:lnTo>
                <a:lnTo>
                  <a:pt x="304" y="6164"/>
                </a:lnTo>
                <a:lnTo>
                  <a:pt x="292" y="6154"/>
                </a:lnTo>
                <a:lnTo>
                  <a:pt x="282" y="6146"/>
                </a:lnTo>
                <a:lnTo>
                  <a:pt x="274" y="6134"/>
                </a:lnTo>
                <a:lnTo>
                  <a:pt x="274" y="6134"/>
                </a:lnTo>
                <a:lnTo>
                  <a:pt x="266" y="6120"/>
                </a:lnTo>
                <a:lnTo>
                  <a:pt x="260" y="6104"/>
                </a:lnTo>
                <a:lnTo>
                  <a:pt x="254" y="6086"/>
                </a:lnTo>
                <a:lnTo>
                  <a:pt x="250" y="6064"/>
                </a:lnTo>
                <a:lnTo>
                  <a:pt x="248" y="6040"/>
                </a:lnTo>
                <a:lnTo>
                  <a:pt x="246" y="6016"/>
                </a:lnTo>
                <a:lnTo>
                  <a:pt x="244" y="5964"/>
                </a:lnTo>
                <a:lnTo>
                  <a:pt x="244" y="5964"/>
                </a:lnTo>
                <a:lnTo>
                  <a:pt x="246" y="5910"/>
                </a:lnTo>
                <a:lnTo>
                  <a:pt x="250" y="5854"/>
                </a:lnTo>
                <a:lnTo>
                  <a:pt x="264" y="5738"/>
                </a:lnTo>
                <a:lnTo>
                  <a:pt x="278" y="5620"/>
                </a:lnTo>
                <a:lnTo>
                  <a:pt x="284" y="5560"/>
                </a:lnTo>
                <a:lnTo>
                  <a:pt x="288" y="5500"/>
                </a:lnTo>
                <a:lnTo>
                  <a:pt x="288" y="5500"/>
                </a:lnTo>
                <a:lnTo>
                  <a:pt x="292" y="5438"/>
                </a:lnTo>
                <a:lnTo>
                  <a:pt x="294" y="5378"/>
                </a:lnTo>
                <a:lnTo>
                  <a:pt x="294" y="5318"/>
                </a:lnTo>
                <a:lnTo>
                  <a:pt x="294" y="5258"/>
                </a:lnTo>
                <a:lnTo>
                  <a:pt x="290" y="5144"/>
                </a:lnTo>
                <a:lnTo>
                  <a:pt x="286" y="5034"/>
                </a:lnTo>
                <a:lnTo>
                  <a:pt x="286" y="5034"/>
                </a:lnTo>
                <a:lnTo>
                  <a:pt x="282" y="4814"/>
                </a:lnTo>
                <a:lnTo>
                  <a:pt x="282" y="4708"/>
                </a:lnTo>
                <a:lnTo>
                  <a:pt x="282" y="4604"/>
                </a:lnTo>
                <a:lnTo>
                  <a:pt x="288" y="4502"/>
                </a:lnTo>
                <a:lnTo>
                  <a:pt x="292" y="4450"/>
                </a:lnTo>
                <a:lnTo>
                  <a:pt x="298" y="4400"/>
                </a:lnTo>
                <a:lnTo>
                  <a:pt x="304" y="4350"/>
                </a:lnTo>
                <a:lnTo>
                  <a:pt x="314" y="4302"/>
                </a:lnTo>
                <a:lnTo>
                  <a:pt x="324" y="4252"/>
                </a:lnTo>
                <a:lnTo>
                  <a:pt x="336" y="4204"/>
                </a:lnTo>
                <a:lnTo>
                  <a:pt x="336" y="4204"/>
                </a:lnTo>
                <a:lnTo>
                  <a:pt x="346" y="4152"/>
                </a:lnTo>
                <a:lnTo>
                  <a:pt x="354" y="4098"/>
                </a:lnTo>
                <a:lnTo>
                  <a:pt x="362" y="4042"/>
                </a:lnTo>
                <a:lnTo>
                  <a:pt x="368" y="3986"/>
                </a:lnTo>
                <a:lnTo>
                  <a:pt x="370" y="3928"/>
                </a:lnTo>
                <a:lnTo>
                  <a:pt x="370" y="3872"/>
                </a:lnTo>
                <a:lnTo>
                  <a:pt x="366" y="3816"/>
                </a:lnTo>
                <a:lnTo>
                  <a:pt x="358" y="3760"/>
                </a:lnTo>
                <a:lnTo>
                  <a:pt x="358" y="3760"/>
                </a:lnTo>
                <a:lnTo>
                  <a:pt x="342" y="3660"/>
                </a:lnTo>
                <a:lnTo>
                  <a:pt x="328" y="3564"/>
                </a:lnTo>
                <a:lnTo>
                  <a:pt x="320" y="3468"/>
                </a:lnTo>
                <a:lnTo>
                  <a:pt x="316" y="3372"/>
                </a:lnTo>
                <a:lnTo>
                  <a:pt x="316" y="3372"/>
                </a:lnTo>
                <a:lnTo>
                  <a:pt x="310" y="3172"/>
                </a:lnTo>
                <a:lnTo>
                  <a:pt x="302" y="2972"/>
                </a:lnTo>
                <a:lnTo>
                  <a:pt x="290" y="2774"/>
                </a:lnTo>
                <a:lnTo>
                  <a:pt x="278" y="2578"/>
                </a:lnTo>
                <a:lnTo>
                  <a:pt x="248" y="2182"/>
                </a:lnTo>
                <a:lnTo>
                  <a:pt x="220" y="1786"/>
                </a:lnTo>
                <a:lnTo>
                  <a:pt x="220" y="1786"/>
                </a:lnTo>
                <a:lnTo>
                  <a:pt x="206" y="1586"/>
                </a:lnTo>
                <a:lnTo>
                  <a:pt x="196" y="1384"/>
                </a:lnTo>
                <a:lnTo>
                  <a:pt x="188" y="1178"/>
                </a:lnTo>
                <a:lnTo>
                  <a:pt x="184" y="970"/>
                </a:lnTo>
                <a:lnTo>
                  <a:pt x="182" y="866"/>
                </a:lnTo>
                <a:lnTo>
                  <a:pt x="184" y="760"/>
                </a:lnTo>
                <a:lnTo>
                  <a:pt x="186" y="654"/>
                </a:lnTo>
                <a:lnTo>
                  <a:pt x="190" y="546"/>
                </a:lnTo>
                <a:lnTo>
                  <a:pt x="196" y="438"/>
                </a:lnTo>
                <a:lnTo>
                  <a:pt x="204" y="328"/>
                </a:lnTo>
                <a:lnTo>
                  <a:pt x="212" y="218"/>
                </a:lnTo>
                <a:lnTo>
                  <a:pt x="224" y="106"/>
                </a:lnTo>
                <a:lnTo>
                  <a:pt x="224" y="106"/>
                </a:lnTo>
                <a:lnTo>
                  <a:pt x="206" y="216"/>
                </a:lnTo>
                <a:lnTo>
                  <a:pt x="188" y="326"/>
                </a:lnTo>
                <a:lnTo>
                  <a:pt x="174" y="436"/>
                </a:lnTo>
                <a:lnTo>
                  <a:pt x="162" y="544"/>
                </a:lnTo>
                <a:lnTo>
                  <a:pt x="150" y="650"/>
                </a:lnTo>
                <a:lnTo>
                  <a:pt x="142" y="758"/>
                </a:lnTo>
                <a:lnTo>
                  <a:pt x="134" y="864"/>
                </a:lnTo>
                <a:lnTo>
                  <a:pt x="126" y="970"/>
                </a:lnTo>
                <a:lnTo>
                  <a:pt x="122" y="1074"/>
                </a:lnTo>
                <a:lnTo>
                  <a:pt x="118" y="1178"/>
                </a:lnTo>
                <a:lnTo>
                  <a:pt x="114" y="1384"/>
                </a:lnTo>
                <a:lnTo>
                  <a:pt x="112" y="1588"/>
                </a:lnTo>
                <a:lnTo>
                  <a:pt x="114" y="1790"/>
                </a:lnTo>
                <a:lnTo>
                  <a:pt x="114" y="1790"/>
                </a:lnTo>
                <a:lnTo>
                  <a:pt x="116" y="1990"/>
                </a:lnTo>
                <a:lnTo>
                  <a:pt x="120" y="2190"/>
                </a:lnTo>
                <a:lnTo>
                  <a:pt x="130" y="2584"/>
                </a:lnTo>
                <a:lnTo>
                  <a:pt x="134" y="2780"/>
                </a:lnTo>
                <a:lnTo>
                  <a:pt x="136" y="2978"/>
                </a:lnTo>
                <a:lnTo>
                  <a:pt x="136" y="3174"/>
                </a:lnTo>
                <a:lnTo>
                  <a:pt x="132" y="3374"/>
                </a:lnTo>
                <a:lnTo>
                  <a:pt x="132" y="3374"/>
                </a:lnTo>
                <a:lnTo>
                  <a:pt x="132" y="3424"/>
                </a:lnTo>
                <a:lnTo>
                  <a:pt x="134" y="3476"/>
                </a:lnTo>
                <a:lnTo>
                  <a:pt x="138" y="3582"/>
                </a:lnTo>
                <a:lnTo>
                  <a:pt x="148" y="3686"/>
                </a:lnTo>
                <a:lnTo>
                  <a:pt x="162" y="3786"/>
                </a:lnTo>
                <a:lnTo>
                  <a:pt x="162" y="3786"/>
                </a:lnTo>
                <a:lnTo>
                  <a:pt x="166" y="3832"/>
                </a:lnTo>
                <a:lnTo>
                  <a:pt x="168" y="3878"/>
                </a:lnTo>
                <a:lnTo>
                  <a:pt x="168" y="3922"/>
                </a:lnTo>
                <a:lnTo>
                  <a:pt x="164" y="3968"/>
                </a:lnTo>
                <a:lnTo>
                  <a:pt x="158" y="4014"/>
                </a:lnTo>
                <a:lnTo>
                  <a:pt x="150" y="4062"/>
                </a:lnTo>
                <a:lnTo>
                  <a:pt x="140" y="4108"/>
                </a:lnTo>
                <a:lnTo>
                  <a:pt x="128" y="4158"/>
                </a:lnTo>
                <a:lnTo>
                  <a:pt x="128" y="4158"/>
                </a:lnTo>
                <a:lnTo>
                  <a:pt x="114" y="4210"/>
                </a:lnTo>
                <a:lnTo>
                  <a:pt x="102" y="4264"/>
                </a:lnTo>
                <a:lnTo>
                  <a:pt x="92" y="4318"/>
                </a:lnTo>
                <a:lnTo>
                  <a:pt x="82" y="4372"/>
                </a:lnTo>
                <a:lnTo>
                  <a:pt x="76" y="4428"/>
                </a:lnTo>
                <a:lnTo>
                  <a:pt x="70" y="4482"/>
                </a:lnTo>
                <a:lnTo>
                  <a:pt x="60" y="4592"/>
                </a:lnTo>
                <a:lnTo>
                  <a:pt x="56" y="4704"/>
                </a:lnTo>
                <a:lnTo>
                  <a:pt x="54" y="4816"/>
                </a:lnTo>
                <a:lnTo>
                  <a:pt x="56" y="5038"/>
                </a:lnTo>
                <a:lnTo>
                  <a:pt x="56" y="5038"/>
                </a:lnTo>
                <a:lnTo>
                  <a:pt x="56" y="5150"/>
                </a:lnTo>
                <a:lnTo>
                  <a:pt x="58" y="5262"/>
                </a:lnTo>
                <a:lnTo>
                  <a:pt x="56" y="5372"/>
                </a:lnTo>
                <a:lnTo>
                  <a:pt x="54" y="5426"/>
                </a:lnTo>
                <a:lnTo>
                  <a:pt x="50" y="5480"/>
                </a:lnTo>
                <a:lnTo>
                  <a:pt x="50" y="5480"/>
                </a:lnTo>
                <a:lnTo>
                  <a:pt x="44" y="5536"/>
                </a:lnTo>
                <a:lnTo>
                  <a:pt x="38" y="5592"/>
                </a:lnTo>
                <a:lnTo>
                  <a:pt x="22" y="5708"/>
                </a:lnTo>
                <a:lnTo>
                  <a:pt x="8" y="5830"/>
                </a:lnTo>
                <a:lnTo>
                  <a:pt x="4" y="5894"/>
                </a:lnTo>
                <a:lnTo>
                  <a:pt x="0" y="5960"/>
                </a:lnTo>
                <a:lnTo>
                  <a:pt x="0" y="5960"/>
                </a:lnTo>
                <a:lnTo>
                  <a:pt x="0" y="6030"/>
                </a:lnTo>
                <a:lnTo>
                  <a:pt x="4" y="6066"/>
                </a:lnTo>
                <a:lnTo>
                  <a:pt x="8" y="6104"/>
                </a:lnTo>
                <a:lnTo>
                  <a:pt x="16" y="6142"/>
                </a:lnTo>
                <a:lnTo>
                  <a:pt x="28" y="6182"/>
                </a:lnTo>
                <a:lnTo>
                  <a:pt x="44" y="6224"/>
                </a:lnTo>
                <a:lnTo>
                  <a:pt x="54" y="6244"/>
                </a:lnTo>
                <a:lnTo>
                  <a:pt x="66" y="6266"/>
                </a:lnTo>
                <a:lnTo>
                  <a:pt x="66" y="6266"/>
                </a:lnTo>
                <a:lnTo>
                  <a:pt x="78" y="6286"/>
                </a:lnTo>
                <a:lnTo>
                  <a:pt x="94" y="6306"/>
                </a:lnTo>
                <a:lnTo>
                  <a:pt x="110" y="6324"/>
                </a:lnTo>
                <a:lnTo>
                  <a:pt x="128" y="6340"/>
                </a:lnTo>
                <a:lnTo>
                  <a:pt x="146" y="6354"/>
                </a:lnTo>
                <a:lnTo>
                  <a:pt x="166" y="6368"/>
                </a:lnTo>
                <a:lnTo>
                  <a:pt x="186" y="6380"/>
                </a:lnTo>
                <a:lnTo>
                  <a:pt x="206" y="6392"/>
                </a:lnTo>
                <a:lnTo>
                  <a:pt x="248" y="6410"/>
                </a:lnTo>
                <a:lnTo>
                  <a:pt x="288" y="6424"/>
                </a:lnTo>
                <a:lnTo>
                  <a:pt x="328" y="6434"/>
                </a:lnTo>
                <a:lnTo>
                  <a:pt x="364" y="6438"/>
                </a:lnTo>
                <a:lnTo>
                  <a:pt x="364" y="6438"/>
                </a:lnTo>
                <a:lnTo>
                  <a:pt x="430" y="6448"/>
                </a:lnTo>
                <a:lnTo>
                  <a:pt x="496" y="6456"/>
                </a:lnTo>
                <a:lnTo>
                  <a:pt x="630" y="6470"/>
                </a:lnTo>
                <a:lnTo>
                  <a:pt x="764" y="6480"/>
                </a:lnTo>
                <a:lnTo>
                  <a:pt x="902" y="6486"/>
                </a:lnTo>
                <a:lnTo>
                  <a:pt x="902" y="6486"/>
                </a:lnTo>
                <a:lnTo>
                  <a:pt x="1060" y="6488"/>
                </a:lnTo>
                <a:lnTo>
                  <a:pt x="1234" y="6488"/>
                </a:lnTo>
                <a:lnTo>
                  <a:pt x="1426" y="6482"/>
                </a:lnTo>
                <a:lnTo>
                  <a:pt x="1634" y="6472"/>
                </a:lnTo>
                <a:lnTo>
                  <a:pt x="1634" y="6472"/>
                </a:lnTo>
                <a:lnTo>
                  <a:pt x="1856" y="6460"/>
                </a:lnTo>
                <a:lnTo>
                  <a:pt x="2092" y="6444"/>
                </a:lnTo>
                <a:lnTo>
                  <a:pt x="2342" y="6426"/>
                </a:lnTo>
                <a:lnTo>
                  <a:pt x="2470" y="6420"/>
                </a:lnTo>
                <a:lnTo>
                  <a:pt x="2602" y="6412"/>
                </a:lnTo>
                <a:lnTo>
                  <a:pt x="2602" y="6412"/>
                </a:lnTo>
                <a:lnTo>
                  <a:pt x="2738" y="6408"/>
                </a:lnTo>
                <a:lnTo>
                  <a:pt x="2806" y="6408"/>
                </a:lnTo>
                <a:lnTo>
                  <a:pt x="2872" y="6410"/>
                </a:lnTo>
                <a:lnTo>
                  <a:pt x="2872" y="6410"/>
                </a:lnTo>
                <a:lnTo>
                  <a:pt x="3016" y="6412"/>
                </a:lnTo>
                <a:lnTo>
                  <a:pt x="3166" y="6414"/>
                </a:lnTo>
                <a:lnTo>
                  <a:pt x="3166" y="6414"/>
                </a:lnTo>
                <a:lnTo>
                  <a:pt x="3316" y="6414"/>
                </a:lnTo>
                <a:lnTo>
                  <a:pt x="3470" y="6412"/>
                </a:lnTo>
                <a:lnTo>
                  <a:pt x="3626" y="6408"/>
                </a:lnTo>
                <a:lnTo>
                  <a:pt x="3784" y="6404"/>
                </a:lnTo>
                <a:lnTo>
                  <a:pt x="3784" y="6404"/>
                </a:lnTo>
                <a:lnTo>
                  <a:pt x="4110" y="6392"/>
                </a:lnTo>
                <a:lnTo>
                  <a:pt x="4442" y="6378"/>
                </a:lnTo>
                <a:lnTo>
                  <a:pt x="4784" y="6362"/>
                </a:lnTo>
                <a:lnTo>
                  <a:pt x="5134" y="6350"/>
                </a:lnTo>
                <a:lnTo>
                  <a:pt x="5134" y="6350"/>
                </a:lnTo>
                <a:lnTo>
                  <a:pt x="5858" y="6344"/>
                </a:lnTo>
                <a:lnTo>
                  <a:pt x="6612" y="6338"/>
                </a:lnTo>
                <a:lnTo>
                  <a:pt x="7388" y="6334"/>
                </a:lnTo>
                <a:lnTo>
                  <a:pt x="7782" y="6328"/>
                </a:lnTo>
                <a:lnTo>
                  <a:pt x="8178" y="6322"/>
                </a:lnTo>
                <a:lnTo>
                  <a:pt x="8178" y="6322"/>
                </a:lnTo>
                <a:lnTo>
                  <a:pt x="9790" y="6300"/>
                </a:lnTo>
                <a:lnTo>
                  <a:pt x="10600" y="6290"/>
                </a:lnTo>
                <a:lnTo>
                  <a:pt x="11406" y="6282"/>
                </a:lnTo>
                <a:lnTo>
                  <a:pt x="11406" y="6282"/>
                </a:lnTo>
                <a:lnTo>
                  <a:pt x="11806" y="6284"/>
                </a:lnTo>
                <a:lnTo>
                  <a:pt x="12204" y="6284"/>
                </a:lnTo>
                <a:lnTo>
                  <a:pt x="12598" y="6280"/>
                </a:lnTo>
                <a:lnTo>
                  <a:pt x="12988" y="6272"/>
                </a:lnTo>
                <a:lnTo>
                  <a:pt x="13372" y="6264"/>
                </a:lnTo>
                <a:lnTo>
                  <a:pt x="13752" y="6254"/>
                </a:lnTo>
                <a:lnTo>
                  <a:pt x="14490" y="6234"/>
                </a:lnTo>
                <a:lnTo>
                  <a:pt x="15200" y="6216"/>
                </a:lnTo>
                <a:lnTo>
                  <a:pt x="15540" y="6208"/>
                </a:lnTo>
                <a:lnTo>
                  <a:pt x="15872" y="6204"/>
                </a:lnTo>
                <a:lnTo>
                  <a:pt x="16194" y="6202"/>
                </a:lnTo>
                <a:lnTo>
                  <a:pt x="16506" y="6204"/>
                </a:lnTo>
                <a:lnTo>
                  <a:pt x="16804" y="6208"/>
                </a:lnTo>
                <a:lnTo>
                  <a:pt x="16950" y="6212"/>
                </a:lnTo>
                <a:lnTo>
                  <a:pt x="17092" y="6218"/>
                </a:lnTo>
                <a:lnTo>
                  <a:pt x="17092" y="6218"/>
                </a:lnTo>
                <a:lnTo>
                  <a:pt x="17366" y="6230"/>
                </a:lnTo>
                <a:lnTo>
                  <a:pt x="17628" y="6244"/>
                </a:lnTo>
                <a:lnTo>
                  <a:pt x="17874" y="6260"/>
                </a:lnTo>
                <a:lnTo>
                  <a:pt x="18106" y="6280"/>
                </a:lnTo>
                <a:lnTo>
                  <a:pt x="18106" y="6280"/>
                </a:lnTo>
                <a:lnTo>
                  <a:pt x="18324" y="6300"/>
                </a:lnTo>
                <a:lnTo>
                  <a:pt x="18426" y="6312"/>
                </a:lnTo>
                <a:lnTo>
                  <a:pt x="18520" y="6324"/>
                </a:lnTo>
                <a:lnTo>
                  <a:pt x="18520" y="6324"/>
                </a:lnTo>
                <a:lnTo>
                  <a:pt x="18702" y="6356"/>
                </a:lnTo>
                <a:lnTo>
                  <a:pt x="18872" y="6386"/>
                </a:lnTo>
                <a:lnTo>
                  <a:pt x="18872" y="6386"/>
                </a:lnTo>
                <a:lnTo>
                  <a:pt x="18950" y="6400"/>
                </a:lnTo>
                <a:lnTo>
                  <a:pt x="19026" y="6412"/>
                </a:lnTo>
                <a:lnTo>
                  <a:pt x="19096" y="6420"/>
                </a:lnTo>
                <a:lnTo>
                  <a:pt x="19164" y="6428"/>
                </a:lnTo>
                <a:lnTo>
                  <a:pt x="19226" y="6434"/>
                </a:lnTo>
                <a:lnTo>
                  <a:pt x="19284" y="6438"/>
                </a:lnTo>
                <a:lnTo>
                  <a:pt x="19386" y="6442"/>
                </a:lnTo>
                <a:lnTo>
                  <a:pt x="19468" y="6442"/>
                </a:lnTo>
                <a:lnTo>
                  <a:pt x="19528" y="6440"/>
                </a:lnTo>
                <a:lnTo>
                  <a:pt x="19564" y="6436"/>
                </a:lnTo>
                <a:lnTo>
                  <a:pt x="19576" y="6434"/>
                </a:lnTo>
                <a:lnTo>
                  <a:pt x="19576" y="6434"/>
                </a:lnTo>
                <a:lnTo>
                  <a:pt x="19590" y="6432"/>
                </a:lnTo>
                <a:lnTo>
                  <a:pt x="19626" y="6428"/>
                </a:lnTo>
                <a:lnTo>
                  <a:pt x="19654" y="6424"/>
                </a:lnTo>
                <a:lnTo>
                  <a:pt x="19688" y="6416"/>
                </a:lnTo>
                <a:lnTo>
                  <a:pt x="19728" y="6406"/>
                </a:lnTo>
                <a:lnTo>
                  <a:pt x="19774" y="6394"/>
                </a:lnTo>
                <a:lnTo>
                  <a:pt x="19774" y="6394"/>
                </a:lnTo>
                <a:lnTo>
                  <a:pt x="19826" y="6374"/>
                </a:lnTo>
                <a:lnTo>
                  <a:pt x="19854" y="6362"/>
                </a:lnTo>
                <a:lnTo>
                  <a:pt x="19882" y="6348"/>
                </a:lnTo>
                <a:lnTo>
                  <a:pt x="19912" y="6332"/>
                </a:lnTo>
                <a:lnTo>
                  <a:pt x="19942" y="6312"/>
                </a:lnTo>
                <a:lnTo>
                  <a:pt x="19972" y="6288"/>
                </a:lnTo>
                <a:lnTo>
                  <a:pt x="20002" y="6262"/>
                </a:lnTo>
                <a:lnTo>
                  <a:pt x="20002" y="6262"/>
                </a:lnTo>
                <a:lnTo>
                  <a:pt x="20032" y="6232"/>
                </a:lnTo>
                <a:lnTo>
                  <a:pt x="20060" y="6198"/>
                </a:lnTo>
                <a:lnTo>
                  <a:pt x="20086" y="6162"/>
                </a:lnTo>
                <a:lnTo>
                  <a:pt x="20110" y="6120"/>
                </a:lnTo>
                <a:lnTo>
                  <a:pt x="20110" y="6120"/>
                </a:lnTo>
                <a:lnTo>
                  <a:pt x="20122" y="6098"/>
                </a:lnTo>
                <a:lnTo>
                  <a:pt x="20130" y="6074"/>
                </a:lnTo>
                <a:lnTo>
                  <a:pt x="20146" y="6028"/>
                </a:lnTo>
                <a:lnTo>
                  <a:pt x="20156" y="5982"/>
                </a:lnTo>
                <a:lnTo>
                  <a:pt x="20164" y="5936"/>
                </a:lnTo>
                <a:lnTo>
                  <a:pt x="20164" y="5936"/>
                </a:lnTo>
                <a:lnTo>
                  <a:pt x="20170" y="5892"/>
                </a:lnTo>
                <a:lnTo>
                  <a:pt x="20174" y="5844"/>
                </a:lnTo>
                <a:lnTo>
                  <a:pt x="20176" y="5798"/>
                </a:lnTo>
                <a:lnTo>
                  <a:pt x="20178" y="5750"/>
                </a:lnTo>
                <a:lnTo>
                  <a:pt x="20178" y="5654"/>
                </a:lnTo>
                <a:lnTo>
                  <a:pt x="20174" y="5554"/>
                </a:lnTo>
                <a:lnTo>
                  <a:pt x="20168" y="5450"/>
                </a:lnTo>
                <a:lnTo>
                  <a:pt x="20158" y="5344"/>
                </a:lnTo>
                <a:lnTo>
                  <a:pt x="20144" y="5234"/>
                </a:lnTo>
                <a:lnTo>
                  <a:pt x="20130" y="5122"/>
                </a:lnTo>
                <a:lnTo>
                  <a:pt x="20126" y="5092"/>
                </a:lnTo>
                <a:lnTo>
                  <a:pt x="20124" y="5086"/>
                </a:lnTo>
                <a:lnTo>
                  <a:pt x="20124" y="5082"/>
                </a:lnTo>
                <a:lnTo>
                  <a:pt x="20124" y="5082"/>
                </a:lnTo>
                <a:lnTo>
                  <a:pt x="20124" y="5090"/>
                </a:lnTo>
                <a:lnTo>
                  <a:pt x="20124" y="5076"/>
                </a:lnTo>
                <a:lnTo>
                  <a:pt x="20122" y="5018"/>
                </a:lnTo>
                <a:lnTo>
                  <a:pt x="20122" y="5018"/>
                </a:lnTo>
                <a:lnTo>
                  <a:pt x="20114" y="4898"/>
                </a:lnTo>
                <a:lnTo>
                  <a:pt x="20114" y="4898"/>
                </a:lnTo>
                <a:lnTo>
                  <a:pt x="20098" y="4646"/>
                </a:lnTo>
                <a:lnTo>
                  <a:pt x="20098" y="4646"/>
                </a:lnTo>
                <a:lnTo>
                  <a:pt x="20078" y="4384"/>
                </a:lnTo>
                <a:lnTo>
                  <a:pt x="20056" y="4108"/>
                </a:lnTo>
                <a:lnTo>
                  <a:pt x="20056" y="4108"/>
                </a:lnTo>
                <a:lnTo>
                  <a:pt x="20034" y="3820"/>
                </a:lnTo>
                <a:lnTo>
                  <a:pt x="20024" y="3674"/>
                </a:lnTo>
                <a:lnTo>
                  <a:pt x="20016" y="3522"/>
                </a:lnTo>
                <a:lnTo>
                  <a:pt x="20008" y="3370"/>
                </a:lnTo>
                <a:lnTo>
                  <a:pt x="20002" y="3214"/>
                </a:lnTo>
                <a:lnTo>
                  <a:pt x="19998" y="3056"/>
                </a:lnTo>
                <a:lnTo>
                  <a:pt x="19998" y="2896"/>
                </a:lnTo>
                <a:lnTo>
                  <a:pt x="19998" y="2896"/>
                </a:lnTo>
                <a:lnTo>
                  <a:pt x="19998" y="2732"/>
                </a:lnTo>
                <a:lnTo>
                  <a:pt x="20002" y="2566"/>
                </a:lnTo>
                <a:lnTo>
                  <a:pt x="20012" y="2224"/>
                </a:lnTo>
                <a:lnTo>
                  <a:pt x="20020" y="1872"/>
                </a:lnTo>
                <a:lnTo>
                  <a:pt x="20024" y="1694"/>
                </a:lnTo>
                <a:lnTo>
                  <a:pt x="20026" y="1512"/>
                </a:lnTo>
                <a:lnTo>
                  <a:pt x="20026" y="1512"/>
                </a:lnTo>
                <a:lnTo>
                  <a:pt x="20024" y="1326"/>
                </a:lnTo>
                <a:lnTo>
                  <a:pt x="20020" y="1142"/>
                </a:lnTo>
                <a:lnTo>
                  <a:pt x="20016" y="1046"/>
                </a:lnTo>
                <a:lnTo>
                  <a:pt x="20010" y="952"/>
                </a:lnTo>
                <a:lnTo>
                  <a:pt x="20004" y="854"/>
                </a:lnTo>
                <a:lnTo>
                  <a:pt x="19996" y="756"/>
                </a:lnTo>
                <a:lnTo>
                  <a:pt x="19996" y="756"/>
                </a:lnTo>
                <a:lnTo>
                  <a:pt x="19980" y="658"/>
                </a:lnTo>
                <a:lnTo>
                  <a:pt x="19970" y="608"/>
                </a:lnTo>
                <a:lnTo>
                  <a:pt x="19958" y="556"/>
                </a:lnTo>
                <a:lnTo>
                  <a:pt x="19944" y="504"/>
                </a:lnTo>
                <a:lnTo>
                  <a:pt x="19926" y="452"/>
                </a:lnTo>
                <a:lnTo>
                  <a:pt x="19902" y="398"/>
                </a:lnTo>
                <a:lnTo>
                  <a:pt x="19888" y="372"/>
                </a:lnTo>
                <a:lnTo>
                  <a:pt x="19874" y="344"/>
                </a:lnTo>
                <a:lnTo>
                  <a:pt x="19874" y="344"/>
                </a:lnTo>
                <a:lnTo>
                  <a:pt x="19856" y="318"/>
                </a:lnTo>
                <a:lnTo>
                  <a:pt x="19836" y="292"/>
                </a:lnTo>
                <a:lnTo>
                  <a:pt x="19814" y="268"/>
                </a:lnTo>
                <a:lnTo>
                  <a:pt x="19792" y="246"/>
                </a:lnTo>
                <a:lnTo>
                  <a:pt x="19766" y="224"/>
                </a:lnTo>
                <a:lnTo>
                  <a:pt x="19740" y="204"/>
                </a:lnTo>
                <a:lnTo>
                  <a:pt x="19714" y="188"/>
                </a:lnTo>
                <a:lnTo>
                  <a:pt x="19688" y="172"/>
                </a:lnTo>
                <a:lnTo>
                  <a:pt x="19688" y="172"/>
                </a:lnTo>
                <a:lnTo>
                  <a:pt x="19660" y="158"/>
                </a:lnTo>
                <a:lnTo>
                  <a:pt x="19634" y="146"/>
                </a:lnTo>
                <a:lnTo>
                  <a:pt x="19580" y="126"/>
                </a:lnTo>
                <a:lnTo>
                  <a:pt x="19526" y="110"/>
                </a:lnTo>
                <a:lnTo>
                  <a:pt x="19474" y="96"/>
                </a:lnTo>
                <a:lnTo>
                  <a:pt x="19474" y="96"/>
                </a:lnTo>
                <a:lnTo>
                  <a:pt x="19374" y="76"/>
                </a:lnTo>
                <a:lnTo>
                  <a:pt x="19272" y="62"/>
                </a:lnTo>
                <a:lnTo>
                  <a:pt x="19172" y="48"/>
                </a:lnTo>
                <a:lnTo>
                  <a:pt x="19072" y="38"/>
                </a:lnTo>
                <a:lnTo>
                  <a:pt x="18972" y="32"/>
                </a:lnTo>
                <a:lnTo>
                  <a:pt x="18872" y="24"/>
                </a:lnTo>
                <a:lnTo>
                  <a:pt x="18674" y="14"/>
                </a:lnTo>
                <a:lnTo>
                  <a:pt x="18674" y="14"/>
                </a:lnTo>
                <a:lnTo>
                  <a:pt x="18474" y="6"/>
                </a:lnTo>
                <a:lnTo>
                  <a:pt x="18274" y="0"/>
                </a:lnTo>
                <a:lnTo>
                  <a:pt x="18172" y="0"/>
                </a:lnTo>
                <a:lnTo>
                  <a:pt x="18070" y="0"/>
                </a:lnTo>
                <a:lnTo>
                  <a:pt x="17968" y="2"/>
                </a:lnTo>
                <a:lnTo>
                  <a:pt x="17866" y="4"/>
                </a:lnTo>
                <a:lnTo>
                  <a:pt x="17866" y="4"/>
                </a:lnTo>
                <a:lnTo>
                  <a:pt x="17462" y="38"/>
                </a:lnTo>
                <a:lnTo>
                  <a:pt x="17058" y="70"/>
                </a:lnTo>
                <a:lnTo>
                  <a:pt x="16656" y="98"/>
                </a:lnTo>
                <a:lnTo>
                  <a:pt x="16252" y="122"/>
                </a:lnTo>
                <a:lnTo>
                  <a:pt x="15850" y="144"/>
                </a:lnTo>
                <a:lnTo>
                  <a:pt x="15448" y="160"/>
                </a:lnTo>
                <a:lnTo>
                  <a:pt x="15046" y="172"/>
                </a:lnTo>
                <a:lnTo>
                  <a:pt x="14846" y="176"/>
                </a:lnTo>
                <a:lnTo>
                  <a:pt x="14646" y="178"/>
                </a:lnTo>
                <a:lnTo>
                  <a:pt x="14646" y="178"/>
                </a:lnTo>
                <a:lnTo>
                  <a:pt x="14250" y="182"/>
                </a:lnTo>
                <a:lnTo>
                  <a:pt x="13858" y="180"/>
                </a:lnTo>
                <a:lnTo>
                  <a:pt x="13470" y="176"/>
                </a:lnTo>
                <a:lnTo>
                  <a:pt x="13086" y="170"/>
                </a:lnTo>
                <a:lnTo>
                  <a:pt x="12706" y="158"/>
                </a:lnTo>
                <a:lnTo>
                  <a:pt x="12334" y="146"/>
                </a:lnTo>
                <a:lnTo>
                  <a:pt x="11968" y="130"/>
                </a:lnTo>
                <a:lnTo>
                  <a:pt x="11610" y="114"/>
                </a:lnTo>
                <a:lnTo>
                  <a:pt x="11610" y="114"/>
                </a:lnTo>
                <a:lnTo>
                  <a:pt x="11258" y="96"/>
                </a:lnTo>
                <a:lnTo>
                  <a:pt x="10914" y="82"/>
                </a:lnTo>
                <a:lnTo>
                  <a:pt x="10580" y="70"/>
                </a:lnTo>
                <a:lnTo>
                  <a:pt x="10256" y="60"/>
                </a:lnTo>
                <a:lnTo>
                  <a:pt x="9942" y="52"/>
                </a:lnTo>
                <a:lnTo>
                  <a:pt x="9640" y="46"/>
                </a:lnTo>
                <a:lnTo>
                  <a:pt x="9350" y="42"/>
                </a:lnTo>
                <a:lnTo>
                  <a:pt x="9072" y="40"/>
                </a:lnTo>
                <a:lnTo>
                  <a:pt x="8556" y="36"/>
                </a:lnTo>
                <a:lnTo>
                  <a:pt x="8098" y="36"/>
                </a:lnTo>
                <a:lnTo>
                  <a:pt x="7702" y="38"/>
                </a:lnTo>
                <a:lnTo>
                  <a:pt x="7374" y="38"/>
                </a:lnTo>
                <a:lnTo>
                  <a:pt x="7374" y="38"/>
                </a:lnTo>
                <a:lnTo>
                  <a:pt x="6850" y="42"/>
                </a:lnTo>
                <a:lnTo>
                  <a:pt x="6352" y="46"/>
                </a:lnTo>
                <a:lnTo>
                  <a:pt x="5424" y="54"/>
                </a:lnTo>
                <a:lnTo>
                  <a:pt x="5424" y="54"/>
                </a:lnTo>
                <a:lnTo>
                  <a:pt x="5312" y="54"/>
                </a:lnTo>
                <a:lnTo>
                  <a:pt x="5202" y="58"/>
                </a:lnTo>
                <a:lnTo>
                  <a:pt x="5092" y="60"/>
                </a:lnTo>
                <a:lnTo>
                  <a:pt x="4984" y="66"/>
                </a:lnTo>
                <a:lnTo>
                  <a:pt x="4768" y="78"/>
                </a:lnTo>
                <a:lnTo>
                  <a:pt x="4558" y="94"/>
                </a:lnTo>
                <a:lnTo>
                  <a:pt x="4350" y="114"/>
                </a:lnTo>
                <a:lnTo>
                  <a:pt x="4146" y="136"/>
                </a:lnTo>
                <a:lnTo>
                  <a:pt x="3746" y="180"/>
                </a:lnTo>
                <a:lnTo>
                  <a:pt x="3746" y="180"/>
                </a:lnTo>
                <a:lnTo>
                  <a:pt x="3352" y="224"/>
                </a:lnTo>
                <a:lnTo>
                  <a:pt x="3156" y="246"/>
                </a:lnTo>
                <a:lnTo>
                  <a:pt x="2960" y="266"/>
                </a:lnTo>
                <a:lnTo>
                  <a:pt x="2764" y="284"/>
                </a:lnTo>
                <a:lnTo>
                  <a:pt x="2568" y="300"/>
                </a:lnTo>
                <a:lnTo>
                  <a:pt x="2372" y="312"/>
                </a:lnTo>
                <a:lnTo>
                  <a:pt x="2172" y="322"/>
                </a:lnTo>
                <a:lnTo>
                  <a:pt x="2172" y="322"/>
                </a:lnTo>
                <a:lnTo>
                  <a:pt x="1972" y="326"/>
                </a:lnTo>
                <a:lnTo>
                  <a:pt x="1872" y="326"/>
                </a:lnTo>
                <a:lnTo>
                  <a:pt x="1770" y="324"/>
                </a:lnTo>
                <a:lnTo>
                  <a:pt x="1668" y="322"/>
                </a:lnTo>
                <a:lnTo>
                  <a:pt x="1566" y="318"/>
                </a:lnTo>
                <a:lnTo>
                  <a:pt x="1462" y="312"/>
                </a:lnTo>
                <a:lnTo>
                  <a:pt x="1360" y="304"/>
                </a:lnTo>
                <a:lnTo>
                  <a:pt x="1256" y="294"/>
                </a:lnTo>
                <a:lnTo>
                  <a:pt x="1150" y="280"/>
                </a:lnTo>
                <a:lnTo>
                  <a:pt x="1046" y="264"/>
                </a:lnTo>
                <a:lnTo>
                  <a:pt x="940" y="246"/>
                </a:lnTo>
                <a:lnTo>
                  <a:pt x="834" y="224"/>
                </a:lnTo>
                <a:lnTo>
                  <a:pt x="728" y="200"/>
                </a:lnTo>
                <a:lnTo>
                  <a:pt x="620" y="170"/>
                </a:lnTo>
                <a:lnTo>
                  <a:pt x="512" y="138"/>
                </a:lnTo>
                <a:lnTo>
                  <a:pt x="512" y="138"/>
                </a:lnTo>
                <a:close/>
              </a:path>
            </a:pathLst>
          </a:cu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02:10:37Z</dcterms:created>
  <dc:creator>moosawa</dc:creator>
  <dc:description/>
  <dc:language>en-US</dc:language>
  <cp:lastModifiedBy>moosawa</cp:lastModifiedBy>
  <dcterms:modified xsi:type="dcterms:W3CDTF">2010-01-13T02:13:45Z</dcterms:modified>
  <cp:revision>1</cp:revision>
  <dc:subject/>
  <dc:title>スライド 1</dc:title>
</cp:coreProperties>
</file>