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5F4-760A-412F-95D6-E478256D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F461-1346-4600-A294-5A15649A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C75-B9D0-4F6A-BDAC-D9912610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444-1C6D-4997-BE6F-26E28C11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AFB-0FE4-4D0E-86FA-E0B7EBCF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F49B-29A4-4D1F-A6AC-D122D365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9DFD-6380-4EE2-B42B-E50241C3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6E8-2570-4984-9A6A-17D28D25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3EC7-457C-495C-9939-1B803CB3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D460-E0A0-46EE-9D4B-F85EE25C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327D-B886-4908-B941-B545E1E8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7B25-2764-43A9-9387-B2680AD1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7483-6919-441A-9B82-A22D48DDE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85640" y="998640"/>
            <a:ext cx="2775240" cy="7899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432240" y="993600"/>
            <a:ext cx="2774880" cy="789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4:08:56Z</dcterms:created>
  <dc:creator>fukase3</dc:creator>
  <dc:description/>
  <dc:language>en-US</dc:language>
  <cp:lastModifiedBy>fukase3</cp:lastModifiedBy>
  <dcterms:modified xsi:type="dcterms:W3CDTF">2009-04-28T04:18:09Z</dcterms:modified>
  <cp:revision>3</cp:revision>
  <dc:subject/>
  <dc:title>スライド 1</dc:title>
</cp:coreProperties>
</file>