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688638" cy="15124113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A741-C006-4E8B-953B-AA8F9BEE7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4600" y="606600"/>
            <a:ext cx="9618840" cy="2519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4600" y="3529080"/>
            <a:ext cx="961884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4600" y="8742240"/>
            <a:ext cx="961884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780E-035E-48F3-AC4E-43EA07E43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600" y="606600"/>
            <a:ext cx="9618840" cy="2519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4600" y="3529080"/>
            <a:ext cx="469368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3360" y="3529080"/>
            <a:ext cx="469368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4600" y="8742240"/>
            <a:ext cx="469368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3360" y="8742240"/>
            <a:ext cx="469368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D416-CA8D-4B1E-8811-81AC08826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4600" y="606600"/>
            <a:ext cx="9618840" cy="2519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4600" y="3529080"/>
            <a:ext cx="309708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6840" y="3529080"/>
            <a:ext cx="309708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39080" y="3529080"/>
            <a:ext cx="309708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4600" y="8742240"/>
            <a:ext cx="309708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6840" y="8742240"/>
            <a:ext cx="309708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39080" y="8742240"/>
            <a:ext cx="309708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1EA7-77C6-407A-B8A1-FE95A03D2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4600" y="606600"/>
            <a:ext cx="9618840" cy="2519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4600" y="3529080"/>
            <a:ext cx="9618840" cy="998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EAD7-2B63-48E4-964C-AD809C5EF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4600" y="606600"/>
            <a:ext cx="9618840" cy="2519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4600" y="3529080"/>
            <a:ext cx="9618840" cy="998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2457-0278-42D6-B881-F43538336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4600" y="606600"/>
            <a:ext cx="9618840" cy="2519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4600" y="3529080"/>
            <a:ext cx="4693680" cy="998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3360" y="3529080"/>
            <a:ext cx="4693680" cy="998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B55B-CF2F-40D8-9C9E-3EA77C31D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4600" y="606600"/>
            <a:ext cx="9618840" cy="2519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49F2-479A-40D7-B4BB-6C38DF709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4600" y="606600"/>
            <a:ext cx="9618840" cy="1167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BE62-7AF2-4608-BA8C-DEA8753E9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600" y="606600"/>
            <a:ext cx="9618840" cy="2519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4600" y="3529080"/>
            <a:ext cx="469368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3360" y="3529080"/>
            <a:ext cx="4693680" cy="998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4600" y="8742240"/>
            <a:ext cx="469368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DC14-EE2E-4E27-8B83-635B74C76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4600" y="606600"/>
            <a:ext cx="9618840" cy="2519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4600" y="3529080"/>
            <a:ext cx="4693680" cy="998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3360" y="3529080"/>
            <a:ext cx="469368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3360" y="8742240"/>
            <a:ext cx="469368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7733-F23F-46CB-BD90-873C5A86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4600" y="606600"/>
            <a:ext cx="9618840" cy="2519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4600" y="3529080"/>
            <a:ext cx="469368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3360" y="3529080"/>
            <a:ext cx="469368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4600" y="8742240"/>
            <a:ext cx="961884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127E-DC6D-4982-B3A0-859BA5CC8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4600" y="606600"/>
            <a:ext cx="9618840" cy="2519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7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4600" y="3529080"/>
            <a:ext cx="9618840" cy="998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marL="552600" indent="-55260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1" marL="1197000" indent="-460440"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2" marL="1843200" indent="-36828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3" marL="2579760" indent="-368280"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4" marL="3317760" indent="-3682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5" marL="3317760" indent="-3682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6" marL="3317760" indent="-3682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4960" y="14017680"/>
            <a:ext cx="2494080" cy="8049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lstStyle>
            <a:lvl1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  <a:defRPr b="0" lang="ja-JP" sz="2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ja-JP" sz="20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1120" y="14017680"/>
            <a:ext cx="3386160" cy="8049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59720" y="14017680"/>
            <a:ext cx="2494080" cy="8049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lstStyle>
            <a:lvl1pPr indent="0" algn="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  <a:defRPr b="0" lang="ja-JP" sz="2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fld id="{E9F319E4-36CF-4D83-9808-8583437BE3D8}" type="slidenum">
              <a:rPr b="0" lang="ja-JP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図 2" descr="21背景.psd"/>
          <p:cNvPicPr/>
          <p:nvPr/>
        </p:nvPicPr>
        <p:blipFill>
          <a:blip r:embed="rId1"/>
          <a:stretch/>
        </p:blipFill>
        <p:spPr>
          <a:xfrm>
            <a:off x="0" y="22320"/>
            <a:ext cx="10688760" cy="15112800"/>
          </a:xfrm>
          <a:prstGeom prst="rect">
            <a:avLst/>
          </a:prstGeom>
          <a:ln w="0">
            <a:noFill/>
          </a:ln>
        </p:spPr>
      </p:pic>
      <p:sp>
        <p:nvSpPr>
          <p:cNvPr id="42" name="テキスト ボックス 2"/>
          <p:cNvSpPr/>
          <p:nvPr/>
        </p:nvSpPr>
        <p:spPr>
          <a:xfrm>
            <a:off x="3971880" y="13416120"/>
            <a:ext cx="295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〇〇〇〇</a:t>
            </a:r>
            <a:r>
              <a:rPr b="0" lang="ja-JP" sz="3600" spc="-1" strike="noStrike">
                <a:solidFill>
                  <a:srgbClr val="ffffff"/>
                </a:solidFill>
                <a:latin typeface="Calibri"/>
              </a:rPr>
              <a:t>病院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図 3" descr="21病院.psd"/>
          <p:cNvPicPr/>
          <p:nvPr/>
        </p:nvPicPr>
        <p:blipFill>
          <a:blip r:embed="rId2"/>
          <a:stretch/>
        </p:blipFill>
        <p:spPr>
          <a:xfrm>
            <a:off x="6423120" y="4489560"/>
            <a:ext cx="3305160" cy="2805120"/>
          </a:xfrm>
          <a:prstGeom prst="rect">
            <a:avLst/>
          </a:prstGeom>
          <a:ln w="0">
            <a:noFill/>
          </a:ln>
        </p:spPr>
      </p:pic>
      <p:pic>
        <p:nvPicPr>
          <p:cNvPr id="44" name="図 4" descr="21文字大.psd"/>
          <p:cNvPicPr/>
          <p:nvPr/>
        </p:nvPicPr>
        <p:blipFill>
          <a:blip r:embed="rId3"/>
          <a:stretch/>
        </p:blipFill>
        <p:spPr>
          <a:xfrm>
            <a:off x="1025640" y="7583400"/>
            <a:ext cx="8424720" cy="4780080"/>
          </a:xfrm>
          <a:prstGeom prst="rect">
            <a:avLst/>
          </a:prstGeom>
          <a:ln w="0">
            <a:noFill/>
          </a:ln>
        </p:spPr>
      </p:pic>
      <p:pic>
        <p:nvPicPr>
          <p:cNvPr id="45" name="図 5" descr="21文字小.psd"/>
          <p:cNvPicPr/>
          <p:nvPr/>
        </p:nvPicPr>
        <p:blipFill>
          <a:blip r:embed="rId4"/>
          <a:stretch/>
        </p:blipFill>
        <p:spPr>
          <a:xfrm>
            <a:off x="1035000" y="12407760"/>
            <a:ext cx="8693280" cy="5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4T08:36:44Z</dcterms:created>
  <dc:creator>笛田 桃子</dc:creator>
  <dc:description/>
  <dc:language>en-US</dc:language>
  <cp:lastModifiedBy>笛田 桃子</cp:lastModifiedBy>
  <dcterms:modified xsi:type="dcterms:W3CDTF">2012-09-26T08:31:18Z</dcterms:modified>
  <cp:revision>15</cp:revision>
  <dc:subject/>
  <dc:title>PowerPoint プレゼンテーション</dc:title>
</cp:coreProperties>
</file>