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97B-0E16-443D-A0C5-82872BE5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A24-0585-4AAB-9073-893EC330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4A9-9F40-4559-B3A7-3CF61823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071-0016-4AD7-8AF0-8D463A1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D3F-36DE-461F-80A8-BCAE5589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33C-5959-48BD-8546-68560E5D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97F-B2E1-4EF1-8A2A-8922AD7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3D9-AB0D-401C-985F-7EA2CCD1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911-67FA-4266-ABC6-F33811C6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B2D-30B9-41BA-B378-EDC4939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E08-99EA-44D9-8CD3-3A81CC40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615-FFF6-4DAF-9A12-0A52027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854-A15C-4346-84F7-619EDCA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210-FAD6-4CEC-BE33-01FF3FA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5C82-4DF7-4821-888E-FF9B680B3986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200" bIns="-432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56"/>
          <p:cNvSpPr/>
          <p:nvPr/>
        </p:nvSpPr>
        <p:spPr>
          <a:xfrm>
            <a:off x="0" y="24266520"/>
            <a:ext cx="10801440" cy="1893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2780640" y="1584360"/>
            <a:ext cx="5136120" cy="40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500" spc="-1" strike="noStrike">
                <a:solidFill>
                  <a:srgbClr val="000000"/>
                </a:solidFill>
                <a:latin typeface="Arial"/>
              </a:rPr>
              <a:t>「目標の先にあるもの」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図形グループ 15"/>
          <p:cNvGrpSpPr/>
          <p:nvPr/>
        </p:nvGrpSpPr>
        <p:grpSpPr>
          <a:xfrm>
            <a:off x="7877160" y="1368360"/>
            <a:ext cx="2419200" cy="7777080"/>
            <a:chOff x="7877160" y="1368360"/>
            <a:chExt cx="2419200" cy="7777080"/>
          </a:xfrm>
        </p:grpSpPr>
        <p:grpSp>
          <p:nvGrpSpPr>
            <p:cNvPr id="53" name="図形グループ 10"/>
            <p:cNvGrpSpPr/>
            <p:nvPr/>
          </p:nvGrpSpPr>
          <p:grpSpPr>
            <a:xfrm>
              <a:off x="7877160" y="1368360"/>
              <a:ext cx="2419200" cy="2419560"/>
              <a:chOff x="7877160" y="1368360"/>
              <a:chExt cx="2419200" cy="2419560"/>
            </a:xfrm>
          </p:grpSpPr>
          <p:pic>
            <p:nvPicPr>
              <p:cNvPr id="54" name="図 2" descr="kouen.png"/>
              <p:cNvPicPr/>
              <p:nvPr/>
            </p:nvPicPr>
            <p:blipFill>
              <a:blip r:embed="rId1"/>
              <a:stretch/>
            </p:blipFill>
            <p:spPr>
              <a:xfrm>
                <a:off x="7877160" y="1368360"/>
                <a:ext cx="2419200" cy="24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図 3" descr="kou.png"/>
              <p:cNvPicPr/>
              <p:nvPr/>
            </p:nvPicPr>
            <p:blipFill>
              <a:blip r:embed="rId2"/>
              <a:stretch/>
            </p:blipFill>
            <p:spPr>
              <a:xfrm>
                <a:off x="8168760" y="1653840"/>
                <a:ext cx="1836000" cy="180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図形グループ 11"/>
            <p:cNvGrpSpPr/>
            <p:nvPr/>
          </p:nvGrpSpPr>
          <p:grpSpPr>
            <a:xfrm>
              <a:off x="7877160" y="4064760"/>
              <a:ext cx="2419200" cy="2419560"/>
              <a:chOff x="7877160" y="4064760"/>
              <a:chExt cx="2419200" cy="2419560"/>
            </a:xfrm>
          </p:grpSpPr>
          <p:pic>
            <p:nvPicPr>
              <p:cNvPr id="57" name="図 13" descr="kouen.png"/>
              <p:cNvPicPr/>
              <p:nvPr/>
            </p:nvPicPr>
            <p:blipFill>
              <a:blip r:embed="rId3"/>
              <a:stretch/>
            </p:blipFill>
            <p:spPr>
              <a:xfrm>
                <a:off x="7877160" y="4064760"/>
                <a:ext cx="2419200" cy="24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図 7" descr="en.png"/>
              <p:cNvPicPr/>
              <p:nvPr/>
            </p:nvPicPr>
            <p:blipFill>
              <a:blip r:embed="rId4"/>
              <a:stretch/>
            </p:blipFill>
            <p:spPr>
              <a:xfrm>
                <a:off x="8168760" y="4332600"/>
                <a:ext cx="1836000" cy="183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図形グループ 12"/>
            <p:cNvGrpSpPr/>
            <p:nvPr/>
          </p:nvGrpSpPr>
          <p:grpSpPr>
            <a:xfrm>
              <a:off x="7877160" y="6725880"/>
              <a:ext cx="2419200" cy="2419560"/>
              <a:chOff x="7877160" y="6725880"/>
              <a:chExt cx="2419200" cy="2419560"/>
            </a:xfrm>
          </p:grpSpPr>
          <p:pic>
            <p:nvPicPr>
              <p:cNvPr id="60" name="図 14" descr="kouen.png"/>
              <p:cNvPicPr/>
              <p:nvPr/>
            </p:nvPicPr>
            <p:blipFill>
              <a:blip r:embed="rId5"/>
              <a:stretch/>
            </p:blipFill>
            <p:spPr>
              <a:xfrm>
                <a:off x="7877160" y="6725880"/>
                <a:ext cx="2419200" cy="24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図 8" descr="kai.png"/>
              <p:cNvPicPr/>
              <p:nvPr/>
            </p:nvPicPr>
            <p:blipFill>
              <a:blip r:embed="rId6"/>
              <a:stretch/>
            </p:blipFill>
            <p:spPr>
              <a:xfrm>
                <a:off x="8168760" y="6993720"/>
                <a:ext cx="1836000" cy="183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正方形/長方形 6"/>
          <p:cNvSpPr/>
          <p:nvPr/>
        </p:nvSpPr>
        <p:spPr>
          <a:xfrm>
            <a:off x="-294840" y="19081800"/>
            <a:ext cx="2742840" cy="13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400" spc="-1" strike="noStrike">
                <a:solidFill>
                  <a:srgbClr val="000000"/>
                </a:solidFill>
                <a:latin typeface="Arial"/>
              </a:rPr>
              <a:t>総合医療メンタルトレーナー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図形グループ 19"/>
          <p:cNvGrpSpPr/>
          <p:nvPr/>
        </p:nvGrpSpPr>
        <p:grpSpPr>
          <a:xfrm>
            <a:off x="752400" y="14185800"/>
            <a:ext cx="1976400" cy="4199040"/>
            <a:chOff x="752400" y="14185800"/>
            <a:chExt cx="1976400" cy="4199040"/>
          </a:xfrm>
        </p:grpSpPr>
        <p:grpSp>
          <p:nvGrpSpPr>
            <p:cNvPr id="64" name="図形グループ 26"/>
            <p:cNvGrpSpPr/>
            <p:nvPr/>
          </p:nvGrpSpPr>
          <p:grpSpPr>
            <a:xfrm>
              <a:off x="752400" y="14185800"/>
              <a:ext cx="1976400" cy="4177080"/>
              <a:chOff x="752400" y="14185800"/>
              <a:chExt cx="1976400" cy="4177080"/>
            </a:xfrm>
          </p:grpSpPr>
          <p:pic>
            <p:nvPicPr>
              <p:cNvPr id="65" name="図 34" descr="kouen.png"/>
              <p:cNvPicPr/>
              <p:nvPr/>
            </p:nvPicPr>
            <p:blipFill>
              <a:blip r:embed="rId7"/>
              <a:stretch/>
            </p:blipFill>
            <p:spPr>
              <a:xfrm>
                <a:off x="752400" y="14185800"/>
                <a:ext cx="1976400" cy="19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図 32" descr="kouen.png"/>
              <p:cNvPicPr/>
              <p:nvPr/>
            </p:nvPicPr>
            <p:blipFill>
              <a:blip r:embed="rId8"/>
              <a:stretch/>
            </p:blipFill>
            <p:spPr>
              <a:xfrm>
                <a:off x="752400" y="16387200"/>
                <a:ext cx="1976400" cy="19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正方形/長方形 6"/>
            <p:cNvSpPr/>
            <p:nvPr/>
          </p:nvSpPr>
          <p:spPr>
            <a:xfrm>
              <a:off x="884880" y="14379480"/>
              <a:ext cx="170424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0" spc="-1" strike="noStrike">
                  <a:solidFill>
                    <a:srgbClr val="ffffff"/>
                  </a:solidFill>
                  <a:latin typeface="Arial"/>
                </a:rPr>
                <a:t>講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正方形/長方形 6"/>
            <p:cNvSpPr/>
            <p:nvPr/>
          </p:nvSpPr>
          <p:spPr>
            <a:xfrm>
              <a:off x="884880" y="16562520"/>
              <a:ext cx="170424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0" spc="-1" strike="noStrike">
                  <a:solidFill>
                    <a:srgbClr val="ffffff"/>
                  </a:solidFill>
                  <a:latin typeface="Arial"/>
                </a:rPr>
                <a:t>師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正方形/長方形 6"/>
          <p:cNvSpPr/>
          <p:nvPr/>
        </p:nvSpPr>
        <p:spPr>
          <a:xfrm>
            <a:off x="684360" y="32835960"/>
            <a:ext cx="2149200" cy="116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◯◯◯◯</a:t>
            </a:r>
            <a:r>
              <a:rPr b="0" lang="ja-JP" sz="12900" spc="-1" strike="noStrike">
                <a:solidFill>
                  <a:srgbClr val="000000"/>
                </a:solidFill>
                <a:latin typeface="Arial"/>
              </a:rPr>
              <a:t>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株式会社ジーン macpro2</cp:lastModifiedBy>
  <cp:lastPrinted>2013-02-12T08:05:05Z</cp:lastPrinted>
  <dcterms:modified xsi:type="dcterms:W3CDTF">2013-02-12T08:05:10Z</dcterms:modified>
  <cp:revision>7</cp:revision>
  <dc:subject/>
  <dc:title>スライド 1</dc:title>
</cp:coreProperties>
</file>