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AC4-3A18-4259-9EF8-71725B97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1873116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70C-42DA-4D7E-9F19-985B4601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67D-CA92-46B6-B577-5B2F7D14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893-FAFE-404A-8ACC-EA9D49A0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2E7-3A1A-43E6-9818-DE655D48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AB9-B07B-4085-BFC0-50711AF9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276-DA1F-4A43-870B-83865C56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E46-E811-4B5A-A1C1-6A23F3A8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297080"/>
            <a:ext cx="9623520" cy="250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EEB-D09D-4FD7-AE28-5C7C5A7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542-7086-4870-B166-29691601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D2E-4942-40F4-838A-5B6A1FA7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31E-5F64-4DC9-A041-0FDF1647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5000"/>
          </a:bodyPr>
          <a:p>
            <a:pPr marL="785160" indent="-78516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699920" indent="-6526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2616120" indent="-52344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3663360" indent="-52344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4709160" indent="-522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4709160" indent="-522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4709160" indent="-522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29508120"/>
            <a:ext cx="2495520" cy="2251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29508120"/>
            <a:ext cx="3387600" cy="2251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29508120"/>
            <a:ext cx="2495520" cy="2251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6C2F0145-0A13-406D-A4EA-8017022EB8CD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10706040" cy="3241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16800" y="860400"/>
            <a:ext cx="2647800" cy="13601880"/>
          </a:xfrm>
          <a:custGeom>
            <a:avLst/>
            <a:gdLst/>
            <a:ahLst/>
            <a:rect l="l" t="t" r="r" b="b"/>
            <a:pathLst>
              <a:path w="1668" h="8568">
                <a:moveTo>
                  <a:pt x="1668" y="7734"/>
                </a:moveTo>
                <a:lnTo>
                  <a:pt x="1668" y="7734"/>
                </a:lnTo>
                <a:lnTo>
                  <a:pt x="1668" y="7778"/>
                </a:lnTo>
                <a:lnTo>
                  <a:pt x="1664" y="7820"/>
                </a:lnTo>
                <a:lnTo>
                  <a:pt x="1658" y="7862"/>
                </a:lnTo>
                <a:lnTo>
                  <a:pt x="1652" y="7902"/>
                </a:lnTo>
                <a:lnTo>
                  <a:pt x="1642" y="7942"/>
                </a:lnTo>
                <a:lnTo>
                  <a:pt x="1632" y="7982"/>
                </a:lnTo>
                <a:lnTo>
                  <a:pt x="1618" y="8022"/>
                </a:lnTo>
                <a:lnTo>
                  <a:pt x="1602" y="8060"/>
                </a:lnTo>
                <a:lnTo>
                  <a:pt x="1586" y="8096"/>
                </a:lnTo>
                <a:lnTo>
                  <a:pt x="1568" y="8132"/>
                </a:lnTo>
                <a:lnTo>
                  <a:pt x="1548" y="8166"/>
                </a:lnTo>
                <a:lnTo>
                  <a:pt x="1526" y="8200"/>
                </a:lnTo>
                <a:lnTo>
                  <a:pt x="1502" y="8234"/>
                </a:lnTo>
                <a:lnTo>
                  <a:pt x="1478" y="8266"/>
                </a:lnTo>
                <a:lnTo>
                  <a:pt x="1452" y="8296"/>
                </a:lnTo>
                <a:lnTo>
                  <a:pt x="1424" y="8324"/>
                </a:lnTo>
                <a:lnTo>
                  <a:pt x="1396" y="8352"/>
                </a:lnTo>
                <a:lnTo>
                  <a:pt x="1364" y="8378"/>
                </a:lnTo>
                <a:lnTo>
                  <a:pt x="1334" y="8402"/>
                </a:lnTo>
                <a:lnTo>
                  <a:pt x="1300" y="8426"/>
                </a:lnTo>
                <a:lnTo>
                  <a:pt x="1266" y="8448"/>
                </a:lnTo>
                <a:lnTo>
                  <a:pt x="1232" y="8468"/>
                </a:lnTo>
                <a:lnTo>
                  <a:pt x="1196" y="8486"/>
                </a:lnTo>
                <a:lnTo>
                  <a:pt x="1158" y="8504"/>
                </a:lnTo>
                <a:lnTo>
                  <a:pt x="1122" y="8518"/>
                </a:lnTo>
                <a:lnTo>
                  <a:pt x="1082" y="8532"/>
                </a:lnTo>
                <a:lnTo>
                  <a:pt x="1042" y="8542"/>
                </a:lnTo>
                <a:lnTo>
                  <a:pt x="1002" y="8552"/>
                </a:lnTo>
                <a:lnTo>
                  <a:pt x="962" y="8560"/>
                </a:lnTo>
                <a:lnTo>
                  <a:pt x="920" y="8564"/>
                </a:lnTo>
                <a:lnTo>
                  <a:pt x="878" y="8568"/>
                </a:lnTo>
                <a:lnTo>
                  <a:pt x="834" y="8568"/>
                </a:lnTo>
                <a:lnTo>
                  <a:pt x="834" y="8568"/>
                </a:lnTo>
                <a:lnTo>
                  <a:pt x="834" y="8568"/>
                </a:lnTo>
                <a:lnTo>
                  <a:pt x="792" y="8568"/>
                </a:lnTo>
                <a:lnTo>
                  <a:pt x="748" y="8564"/>
                </a:lnTo>
                <a:lnTo>
                  <a:pt x="708" y="8560"/>
                </a:lnTo>
                <a:lnTo>
                  <a:pt x="666" y="8552"/>
                </a:lnTo>
                <a:lnTo>
                  <a:pt x="626" y="8542"/>
                </a:lnTo>
                <a:lnTo>
                  <a:pt x="586" y="8532"/>
                </a:lnTo>
                <a:lnTo>
                  <a:pt x="548" y="8518"/>
                </a:lnTo>
                <a:lnTo>
                  <a:pt x="510" y="8504"/>
                </a:lnTo>
                <a:lnTo>
                  <a:pt x="472" y="8486"/>
                </a:lnTo>
                <a:lnTo>
                  <a:pt x="436" y="8468"/>
                </a:lnTo>
                <a:lnTo>
                  <a:pt x="402" y="8448"/>
                </a:lnTo>
                <a:lnTo>
                  <a:pt x="368" y="8426"/>
                </a:lnTo>
                <a:lnTo>
                  <a:pt x="336" y="8402"/>
                </a:lnTo>
                <a:lnTo>
                  <a:pt x="304" y="8378"/>
                </a:lnTo>
                <a:lnTo>
                  <a:pt x="274" y="8352"/>
                </a:lnTo>
                <a:lnTo>
                  <a:pt x="244" y="8324"/>
                </a:lnTo>
                <a:lnTo>
                  <a:pt x="216" y="8296"/>
                </a:lnTo>
                <a:lnTo>
                  <a:pt x="190" y="8266"/>
                </a:lnTo>
                <a:lnTo>
                  <a:pt x="166" y="8234"/>
                </a:lnTo>
                <a:lnTo>
                  <a:pt x="142" y="8200"/>
                </a:lnTo>
                <a:lnTo>
                  <a:pt x="120" y="8166"/>
                </a:lnTo>
                <a:lnTo>
                  <a:pt x="100" y="8132"/>
                </a:lnTo>
                <a:lnTo>
                  <a:pt x="82" y="8096"/>
                </a:lnTo>
                <a:lnTo>
                  <a:pt x="66" y="8060"/>
                </a:lnTo>
                <a:lnTo>
                  <a:pt x="50" y="8022"/>
                </a:lnTo>
                <a:lnTo>
                  <a:pt x="38" y="7982"/>
                </a:lnTo>
                <a:lnTo>
                  <a:pt x="26" y="7942"/>
                </a:lnTo>
                <a:lnTo>
                  <a:pt x="16" y="7902"/>
                </a:lnTo>
                <a:lnTo>
                  <a:pt x="10" y="7862"/>
                </a:lnTo>
                <a:lnTo>
                  <a:pt x="4" y="7820"/>
                </a:lnTo>
                <a:lnTo>
                  <a:pt x="0" y="7778"/>
                </a:lnTo>
                <a:lnTo>
                  <a:pt x="0" y="7734"/>
                </a:lnTo>
                <a:lnTo>
                  <a:pt x="0" y="834"/>
                </a:lnTo>
                <a:lnTo>
                  <a:pt x="0" y="834"/>
                </a:lnTo>
                <a:lnTo>
                  <a:pt x="0" y="792"/>
                </a:lnTo>
                <a:lnTo>
                  <a:pt x="4" y="750"/>
                </a:lnTo>
                <a:lnTo>
                  <a:pt x="10" y="708"/>
                </a:lnTo>
                <a:lnTo>
                  <a:pt x="16" y="666"/>
                </a:lnTo>
                <a:lnTo>
                  <a:pt x="26" y="626"/>
                </a:lnTo>
                <a:lnTo>
                  <a:pt x="38" y="586"/>
                </a:lnTo>
                <a:lnTo>
                  <a:pt x="50" y="548"/>
                </a:lnTo>
                <a:lnTo>
                  <a:pt x="66" y="510"/>
                </a:lnTo>
                <a:lnTo>
                  <a:pt x="82" y="474"/>
                </a:lnTo>
                <a:lnTo>
                  <a:pt x="100" y="438"/>
                </a:lnTo>
                <a:lnTo>
                  <a:pt x="120" y="402"/>
                </a:lnTo>
                <a:lnTo>
                  <a:pt x="142" y="368"/>
                </a:lnTo>
                <a:lnTo>
                  <a:pt x="166" y="336"/>
                </a:lnTo>
                <a:lnTo>
                  <a:pt x="190" y="304"/>
                </a:lnTo>
                <a:lnTo>
                  <a:pt x="216" y="274"/>
                </a:lnTo>
                <a:lnTo>
                  <a:pt x="244" y="244"/>
                </a:lnTo>
                <a:lnTo>
                  <a:pt x="274" y="218"/>
                </a:lnTo>
                <a:lnTo>
                  <a:pt x="304" y="192"/>
                </a:lnTo>
                <a:lnTo>
                  <a:pt x="336" y="166"/>
                </a:lnTo>
                <a:lnTo>
                  <a:pt x="368" y="144"/>
                </a:lnTo>
                <a:lnTo>
                  <a:pt x="402" y="122"/>
                </a:lnTo>
                <a:lnTo>
                  <a:pt x="436" y="102"/>
                </a:lnTo>
                <a:lnTo>
                  <a:pt x="472" y="82"/>
                </a:lnTo>
                <a:lnTo>
                  <a:pt x="510" y="66"/>
                </a:lnTo>
                <a:lnTo>
                  <a:pt x="548" y="52"/>
                </a:lnTo>
                <a:lnTo>
                  <a:pt x="586" y="38"/>
                </a:lnTo>
                <a:lnTo>
                  <a:pt x="626" y="26"/>
                </a:lnTo>
                <a:lnTo>
                  <a:pt x="666" y="18"/>
                </a:lnTo>
                <a:lnTo>
                  <a:pt x="708" y="10"/>
                </a:lnTo>
                <a:lnTo>
                  <a:pt x="748" y="4"/>
                </a:lnTo>
                <a:lnTo>
                  <a:pt x="792" y="2"/>
                </a:lnTo>
                <a:lnTo>
                  <a:pt x="834" y="0"/>
                </a:lnTo>
                <a:lnTo>
                  <a:pt x="834" y="0"/>
                </a:lnTo>
                <a:lnTo>
                  <a:pt x="834" y="0"/>
                </a:lnTo>
                <a:lnTo>
                  <a:pt x="878" y="2"/>
                </a:lnTo>
                <a:lnTo>
                  <a:pt x="920" y="4"/>
                </a:lnTo>
                <a:lnTo>
                  <a:pt x="962" y="10"/>
                </a:lnTo>
                <a:lnTo>
                  <a:pt x="1002" y="18"/>
                </a:lnTo>
                <a:lnTo>
                  <a:pt x="1042" y="26"/>
                </a:lnTo>
                <a:lnTo>
                  <a:pt x="1082" y="38"/>
                </a:lnTo>
                <a:lnTo>
                  <a:pt x="1122" y="52"/>
                </a:lnTo>
                <a:lnTo>
                  <a:pt x="1158" y="66"/>
                </a:lnTo>
                <a:lnTo>
                  <a:pt x="1196" y="82"/>
                </a:lnTo>
                <a:lnTo>
                  <a:pt x="1232" y="102"/>
                </a:lnTo>
                <a:lnTo>
                  <a:pt x="1266" y="122"/>
                </a:lnTo>
                <a:lnTo>
                  <a:pt x="1300" y="144"/>
                </a:lnTo>
                <a:lnTo>
                  <a:pt x="1334" y="166"/>
                </a:lnTo>
                <a:lnTo>
                  <a:pt x="1364" y="192"/>
                </a:lnTo>
                <a:lnTo>
                  <a:pt x="1396" y="218"/>
                </a:lnTo>
                <a:lnTo>
                  <a:pt x="1424" y="244"/>
                </a:lnTo>
                <a:lnTo>
                  <a:pt x="1452" y="274"/>
                </a:lnTo>
                <a:lnTo>
                  <a:pt x="1478" y="304"/>
                </a:lnTo>
                <a:lnTo>
                  <a:pt x="1502" y="336"/>
                </a:lnTo>
                <a:lnTo>
                  <a:pt x="1526" y="368"/>
                </a:lnTo>
                <a:lnTo>
                  <a:pt x="1548" y="402"/>
                </a:lnTo>
                <a:lnTo>
                  <a:pt x="1568" y="438"/>
                </a:lnTo>
                <a:lnTo>
                  <a:pt x="1586" y="474"/>
                </a:lnTo>
                <a:lnTo>
                  <a:pt x="1602" y="510"/>
                </a:lnTo>
                <a:lnTo>
                  <a:pt x="1618" y="548"/>
                </a:lnTo>
                <a:lnTo>
                  <a:pt x="1632" y="586"/>
                </a:lnTo>
                <a:lnTo>
                  <a:pt x="1642" y="626"/>
                </a:lnTo>
                <a:lnTo>
                  <a:pt x="1652" y="666"/>
                </a:lnTo>
                <a:lnTo>
                  <a:pt x="1658" y="708"/>
                </a:lnTo>
                <a:lnTo>
                  <a:pt x="1664" y="750"/>
                </a:lnTo>
                <a:lnTo>
                  <a:pt x="1668" y="792"/>
                </a:lnTo>
                <a:lnTo>
                  <a:pt x="1668" y="834"/>
                </a:lnTo>
                <a:lnTo>
                  <a:pt x="1668" y="77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67520" y="1225440"/>
            <a:ext cx="1717560" cy="1676520"/>
          </a:xfrm>
          <a:custGeom>
            <a:avLst/>
            <a:gdLst/>
            <a:ahLst/>
            <a:rect l="l" t="t" r="r" b="b"/>
            <a:pathLst>
              <a:path w="1082" h="1056">
                <a:moveTo>
                  <a:pt x="266" y="356"/>
                </a:moveTo>
                <a:lnTo>
                  <a:pt x="266" y="356"/>
                </a:lnTo>
                <a:lnTo>
                  <a:pt x="208" y="390"/>
                </a:lnTo>
                <a:lnTo>
                  <a:pt x="158" y="414"/>
                </a:lnTo>
                <a:lnTo>
                  <a:pt x="114" y="434"/>
                </a:lnTo>
                <a:lnTo>
                  <a:pt x="76" y="448"/>
                </a:lnTo>
                <a:lnTo>
                  <a:pt x="0" y="282"/>
                </a:lnTo>
                <a:lnTo>
                  <a:pt x="0" y="282"/>
                </a:lnTo>
                <a:lnTo>
                  <a:pt x="64" y="260"/>
                </a:lnTo>
                <a:lnTo>
                  <a:pt x="128" y="232"/>
                </a:lnTo>
                <a:lnTo>
                  <a:pt x="190" y="204"/>
                </a:lnTo>
                <a:lnTo>
                  <a:pt x="250" y="170"/>
                </a:lnTo>
                <a:lnTo>
                  <a:pt x="278" y="152"/>
                </a:lnTo>
                <a:lnTo>
                  <a:pt x="306" y="132"/>
                </a:lnTo>
                <a:lnTo>
                  <a:pt x="332" y="112"/>
                </a:lnTo>
                <a:lnTo>
                  <a:pt x="358" y="92"/>
                </a:lnTo>
                <a:lnTo>
                  <a:pt x="382" y="70"/>
                </a:lnTo>
                <a:lnTo>
                  <a:pt x="406" y="48"/>
                </a:lnTo>
                <a:lnTo>
                  <a:pt x="430" y="24"/>
                </a:lnTo>
                <a:lnTo>
                  <a:pt x="450" y="0"/>
                </a:lnTo>
                <a:lnTo>
                  <a:pt x="642" y="0"/>
                </a:lnTo>
                <a:lnTo>
                  <a:pt x="642" y="0"/>
                </a:lnTo>
                <a:lnTo>
                  <a:pt x="668" y="32"/>
                </a:lnTo>
                <a:lnTo>
                  <a:pt x="686" y="52"/>
                </a:lnTo>
                <a:lnTo>
                  <a:pt x="708" y="74"/>
                </a:lnTo>
                <a:lnTo>
                  <a:pt x="734" y="98"/>
                </a:lnTo>
                <a:lnTo>
                  <a:pt x="766" y="124"/>
                </a:lnTo>
                <a:lnTo>
                  <a:pt x="802" y="150"/>
                </a:lnTo>
                <a:lnTo>
                  <a:pt x="842" y="176"/>
                </a:lnTo>
                <a:lnTo>
                  <a:pt x="842" y="176"/>
                </a:lnTo>
                <a:lnTo>
                  <a:pt x="882" y="200"/>
                </a:lnTo>
                <a:lnTo>
                  <a:pt x="918" y="218"/>
                </a:lnTo>
                <a:lnTo>
                  <a:pt x="952" y="234"/>
                </a:lnTo>
                <a:lnTo>
                  <a:pt x="984" y="248"/>
                </a:lnTo>
                <a:lnTo>
                  <a:pt x="1040" y="268"/>
                </a:lnTo>
                <a:lnTo>
                  <a:pt x="1082" y="282"/>
                </a:lnTo>
                <a:lnTo>
                  <a:pt x="1000" y="448"/>
                </a:lnTo>
                <a:lnTo>
                  <a:pt x="1000" y="448"/>
                </a:lnTo>
                <a:lnTo>
                  <a:pt x="960" y="430"/>
                </a:lnTo>
                <a:lnTo>
                  <a:pt x="914" y="408"/>
                </a:lnTo>
                <a:lnTo>
                  <a:pt x="860" y="380"/>
                </a:lnTo>
                <a:lnTo>
                  <a:pt x="796" y="342"/>
                </a:lnTo>
                <a:lnTo>
                  <a:pt x="796" y="424"/>
                </a:lnTo>
                <a:lnTo>
                  <a:pt x="266" y="424"/>
                </a:lnTo>
                <a:lnTo>
                  <a:pt x="266" y="356"/>
                </a:lnTo>
                <a:close/>
                <a:moveTo>
                  <a:pt x="996" y="496"/>
                </a:moveTo>
                <a:lnTo>
                  <a:pt x="996" y="656"/>
                </a:lnTo>
                <a:lnTo>
                  <a:pt x="996" y="656"/>
                </a:lnTo>
                <a:lnTo>
                  <a:pt x="976" y="686"/>
                </a:lnTo>
                <a:lnTo>
                  <a:pt x="956" y="718"/>
                </a:lnTo>
                <a:lnTo>
                  <a:pt x="932" y="748"/>
                </a:lnTo>
                <a:lnTo>
                  <a:pt x="904" y="778"/>
                </a:lnTo>
                <a:lnTo>
                  <a:pt x="876" y="808"/>
                </a:lnTo>
                <a:lnTo>
                  <a:pt x="844" y="836"/>
                </a:lnTo>
                <a:lnTo>
                  <a:pt x="810" y="864"/>
                </a:lnTo>
                <a:lnTo>
                  <a:pt x="774" y="892"/>
                </a:lnTo>
                <a:lnTo>
                  <a:pt x="734" y="918"/>
                </a:lnTo>
                <a:lnTo>
                  <a:pt x="694" y="942"/>
                </a:lnTo>
                <a:lnTo>
                  <a:pt x="650" y="966"/>
                </a:lnTo>
                <a:lnTo>
                  <a:pt x="604" y="986"/>
                </a:lnTo>
                <a:lnTo>
                  <a:pt x="556" y="1006"/>
                </a:lnTo>
                <a:lnTo>
                  <a:pt x="506" y="1024"/>
                </a:lnTo>
                <a:lnTo>
                  <a:pt x="454" y="1040"/>
                </a:lnTo>
                <a:lnTo>
                  <a:pt x="398" y="1056"/>
                </a:lnTo>
                <a:lnTo>
                  <a:pt x="304" y="900"/>
                </a:lnTo>
                <a:lnTo>
                  <a:pt x="304" y="900"/>
                </a:lnTo>
                <a:lnTo>
                  <a:pt x="358" y="886"/>
                </a:lnTo>
                <a:lnTo>
                  <a:pt x="408" y="874"/>
                </a:lnTo>
                <a:lnTo>
                  <a:pt x="454" y="860"/>
                </a:lnTo>
                <a:lnTo>
                  <a:pt x="496" y="846"/>
                </a:lnTo>
                <a:lnTo>
                  <a:pt x="534" y="830"/>
                </a:lnTo>
                <a:lnTo>
                  <a:pt x="568" y="816"/>
                </a:lnTo>
                <a:lnTo>
                  <a:pt x="600" y="800"/>
                </a:lnTo>
                <a:lnTo>
                  <a:pt x="628" y="786"/>
                </a:lnTo>
                <a:lnTo>
                  <a:pt x="654" y="770"/>
                </a:lnTo>
                <a:lnTo>
                  <a:pt x="676" y="754"/>
                </a:lnTo>
                <a:lnTo>
                  <a:pt x="696" y="738"/>
                </a:lnTo>
                <a:lnTo>
                  <a:pt x="716" y="722"/>
                </a:lnTo>
                <a:lnTo>
                  <a:pt x="732" y="706"/>
                </a:lnTo>
                <a:lnTo>
                  <a:pt x="746" y="688"/>
                </a:lnTo>
                <a:lnTo>
                  <a:pt x="774" y="656"/>
                </a:lnTo>
                <a:lnTo>
                  <a:pt x="64" y="656"/>
                </a:lnTo>
                <a:lnTo>
                  <a:pt x="64" y="496"/>
                </a:lnTo>
                <a:lnTo>
                  <a:pt x="996" y="496"/>
                </a:lnTo>
                <a:close/>
                <a:moveTo>
                  <a:pt x="698" y="274"/>
                </a:moveTo>
                <a:lnTo>
                  <a:pt x="698" y="274"/>
                </a:lnTo>
                <a:lnTo>
                  <a:pt x="644" y="230"/>
                </a:lnTo>
                <a:lnTo>
                  <a:pt x="602" y="194"/>
                </a:lnTo>
                <a:lnTo>
                  <a:pt x="568" y="162"/>
                </a:lnTo>
                <a:lnTo>
                  <a:pt x="544" y="134"/>
                </a:lnTo>
                <a:lnTo>
                  <a:pt x="544" y="134"/>
                </a:lnTo>
                <a:lnTo>
                  <a:pt x="516" y="162"/>
                </a:lnTo>
                <a:lnTo>
                  <a:pt x="484" y="194"/>
                </a:lnTo>
                <a:lnTo>
                  <a:pt x="442" y="232"/>
                </a:lnTo>
                <a:lnTo>
                  <a:pt x="388" y="274"/>
                </a:lnTo>
                <a:lnTo>
                  <a:pt x="698" y="2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05680" y="3753000"/>
            <a:ext cx="1476360" cy="1606320"/>
          </a:xfrm>
          <a:custGeom>
            <a:avLst/>
            <a:gdLst/>
            <a:ahLst/>
            <a:rect l="l" t="t" r="r" b="b"/>
            <a:pathLst>
              <a:path w="930" h="1012">
                <a:moveTo>
                  <a:pt x="134" y="0"/>
                </a:moveTo>
                <a:lnTo>
                  <a:pt x="930" y="0"/>
                </a:lnTo>
                <a:lnTo>
                  <a:pt x="930" y="898"/>
                </a:lnTo>
                <a:lnTo>
                  <a:pt x="930" y="898"/>
                </a:lnTo>
                <a:lnTo>
                  <a:pt x="930" y="914"/>
                </a:lnTo>
                <a:lnTo>
                  <a:pt x="926" y="928"/>
                </a:lnTo>
                <a:lnTo>
                  <a:pt x="922" y="942"/>
                </a:lnTo>
                <a:lnTo>
                  <a:pt x="916" y="952"/>
                </a:lnTo>
                <a:lnTo>
                  <a:pt x="910" y="964"/>
                </a:lnTo>
                <a:lnTo>
                  <a:pt x="904" y="972"/>
                </a:lnTo>
                <a:lnTo>
                  <a:pt x="896" y="980"/>
                </a:lnTo>
                <a:lnTo>
                  <a:pt x="886" y="986"/>
                </a:lnTo>
                <a:lnTo>
                  <a:pt x="870" y="996"/>
                </a:lnTo>
                <a:lnTo>
                  <a:pt x="852" y="1002"/>
                </a:lnTo>
                <a:lnTo>
                  <a:pt x="836" y="1004"/>
                </a:lnTo>
                <a:lnTo>
                  <a:pt x="826" y="1004"/>
                </a:lnTo>
                <a:lnTo>
                  <a:pt x="568" y="1004"/>
                </a:lnTo>
                <a:lnTo>
                  <a:pt x="542" y="830"/>
                </a:lnTo>
                <a:lnTo>
                  <a:pt x="728" y="830"/>
                </a:lnTo>
                <a:lnTo>
                  <a:pt x="728" y="830"/>
                </a:lnTo>
                <a:lnTo>
                  <a:pt x="738" y="830"/>
                </a:lnTo>
                <a:lnTo>
                  <a:pt x="744" y="826"/>
                </a:lnTo>
                <a:lnTo>
                  <a:pt x="748" y="824"/>
                </a:lnTo>
                <a:lnTo>
                  <a:pt x="752" y="820"/>
                </a:lnTo>
                <a:lnTo>
                  <a:pt x="756" y="814"/>
                </a:lnTo>
                <a:lnTo>
                  <a:pt x="758" y="806"/>
                </a:lnTo>
                <a:lnTo>
                  <a:pt x="758" y="798"/>
                </a:lnTo>
                <a:lnTo>
                  <a:pt x="758" y="670"/>
                </a:lnTo>
                <a:lnTo>
                  <a:pt x="294" y="670"/>
                </a:lnTo>
                <a:lnTo>
                  <a:pt x="294" y="670"/>
                </a:lnTo>
                <a:lnTo>
                  <a:pt x="286" y="702"/>
                </a:lnTo>
                <a:lnTo>
                  <a:pt x="278" y="740"/>
                </a:lnTo>
                <a:lnTo>
                  <a:pt x="266" y="780"/>
                </a:lnTo>
                <a:lnTo>
                  <a:pt x="250" y="824"/>
                </a:lnTo>
                <a:lnTo>
                  <a:pt x="232" y="870"/>
                </a:lnTo>
                <a:lnTo>
                  <a:pt x="210" y="918"/>
                </a:lnTo>
                <a:lnTo>
                  <a:pt x="184" y="964"/>
                </a:lnTo>
                <a:lnTo>
                  <a:pt x="152" y="1012"/>
                </a:lnTo>
                <a:lnTo>
                  <a:pt x="0" y="892"/>
                </a:lnTo>
                <a:lnTo>
                  <a:pt x="0" y="892"/>
                </a:lnTo>
                <a:lnTo>
                  <a:pt x="26" y="854"/>
                </a:lnTo>
                <a:lnTo>
                  <a:pt x="52" y="814"/>
                </a:lnTo>
                <a:lnTo>
                  <a:pt x="74" y="768"/>
                </a:lnTo>
                <a:lnTo>
                  <a:pt x="84" y="746"/>
                </a:lnTo>
                <a:lnTo>
                  <a:pt x="94" y="720"/>
                </a:lnTo>
                <a:lnTo>
                  <a:pt x="104" y="694"/>
                </a:lnTo>
                <a:lnTo>
                  <a:pt x="112" y="666"/>
                </a:lnTo>
                <a:lnTo>
                  <a:pt x="118" y="636"/>
                </a:lnTo>
                <a:lnTo>
                  <a:pt x="124" y="606"/>
                </a:lnTo>
                <a:lnTo>
                  <a:pt x="128" y="572"/>
                </a:lnTo>
                <a:lnTo>
                  <a:pt x="132" y="538"/>
                </a:lnTo>
                <a:lnTo>
                  <a:pt x="134" y="502"/>
                </a:lnTo>
                <a:lnTo>
                  <a:pt x="134" y="462"/>
                </a:lnTo>
                <a:lnTo>
                  <a:pt x="134" y="0"/>
                </a:lnTo>
                <a:close/>
                <a:moveTo>
                  <a:pt x="306" y="258"/>
                </a:moveTo>
                <a:lnTo>
                  <a:pt x="758" y="258"/>
                </a:lnTo>
                <a:lnTo>
                  <a:pt x="758" y="158"/>
                </a:lnTo>
                <a:lnTo>
                  <a:pt x="306" y="158"/>
                </a:lnTo>
                <a:lnTo>
                  <a:pt x="306" y="258"/>
                </a:lnTo>
                <a:close/>
                <a:moveTo>
                  <a:pt x="306" y="516"/>
                </a:moveTo>
                <a:lnTo>
                  <a:pt x="758" y="516"/>
                </a:lnTo>
                <a:lnTo>
                  <a:pt x="758" y="408"/>
                </a:lnTo>
                <a:lnTo>
                  <a:pt x="306" y="408"/>
                </a:lnTo>
                <a:lnTo>
                  <a:pt x="306" y="5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28000" y="6264360"/>
            <a:ext cx="1587240" cy="1473120"/>
          </a:xfrm>
          <a:custGeom>
            <a:avLst/>
            <a:gdLst/>
            <a:ahLst/>
            <a:rect l="l" t="t" r="r" b="b"/>
            <a:pathLst>
              <a:path w="1000" h="928">
                <a:moveTo>
                  <a:pt x="452" y="762"/>
                </a:moveTo>
                <a:lnTo>
                  <a:pt x="452" y="762"/>
                </a:lnTo>
                <a:lnTo>
                  <a:pt x="500" y="758"/>
                </a:lnTo>
                <a:lnTo>
                  <a:pt x="528" y="754"/>
                </a:lnTo>
                <a:lnTo>
                  <a:pt x="558" y="750"/>
                </a:lnTo>
                <a:lnTo>
                  <a:pt x="588" y="742"/>
                </a:lnTo>
                <a:lnTo>
                  <a:pt x="618" y="734"/>
                </a:lnTo>
                <a:lnTo>
                  <a:pt x="648" y="722"/>
                </a:lnTo>
                <a:lnTo>
                  <a:pt x="678" y="708"/>
                </a:lnTo>
                <a:lnTo>
                  <a:pt x="706" y="690"/>
                </a:lnTo>
                <a:lnTo>
                  <a:pt x="732" y="668"/>
                </a:lnTo>
                <a:lnTo>
                  <a:pt x="744" y="656"/>
                </a:lnTo>
                <a:lnTo>
                  <a:pt x="756" y="642"/>
                </a:lnTo>
                <a:lnTo>
                  <a:pt x="766" y="628"/>
                </a:lnTo>
                <a:lnTo>
                  <a:pt x="776" y="612"/>
                </a:lnTo>
                <a:lnTo>
                  <a:pt x="784" y="594"/>
                </a:lnTo>
                <a:lnTo>
                  <a:pt x="792" y="576"/>
                </a:lnTo>
                <a:lnTo>
                  <a:pt x="800" y="556"/>
                </a:lnTo>
                <a:lnTo>
                  <a:pt x="804" y="536"/>
                </a:lnTo>
                <a:lnTo>
                  <a:pt x="810" y="514"/>
                </a:lnTo>
                <a:lnTo>
                  <a:pt x="812" y="490"/>
                </a:lnTo>
                <a:lnTo>
                  <a:pt x="814" y="464"/>
                </a:lnTo>
                <a:lnTo>
                  <a:pt x="816" y="438"/>
                </a:lnTo>
                <a:lnTo>
                  <a:pt x="816" y="438"/>
                </a:lnTo>
                <a:lnTo>
                  <a:pt x="814" y="400"/>
                </a:lnTo>
                <a:lnTo>
                  <a:pt x="810" y="368"/>
                </a:lnTo>
                <a:lnTo>
                  <a:pt x="804" y="340"/>
                </a:lnTo>
                <a:lnTo>
                  <a:pt x="796" y="316"/>
                </a:lnTo>
                <a:lnTo>
                  <a:pt x="788" y="296"/>
                </a:lnTo>
                <a:lnTo>
                  <a:pt x="780" y="280"/>
                </a:lnTo>
                <a:lnTo>
                  <a:pt x="762" y="256"/>
                </a:lnTo>
                <a:lnTo>
                  <a:pt x="762" y="256"/>
                </a:lnTo>
                <a:lnTo>
                  <a:pt x="746" y="236"/>
                </a:lnTo>
                <a:lnTo>
                  <a:pt x="726" y="218"/>
                </a:lnTo>
                <a:lnTo>
                  <a:pt x="706" y="204"/>
                </a:lnTo>
                <a:lnTo>
                  <a:pt x="684" y="192"/>
                </a:lnTo>
                <a:lnTo>
                  <a:pt x="662" y="182"/>
                </a:lnTo>
                <a:lnTo>
                  <a:pt x="636" y="174"/>
                </a:lnTo>
                <a:lnTo>
                  <a:pt x="610" y="168"/>
                </a:lnTo>
                <a:lnTo>
                  <a:pt x="584" y="166"/>
                </a:lnTo>
                <a:lnTo>
                  <a:pt x="584" y="166"/>
                </a:lnTo>
                <a:lnTo>
                  <a:pt x="580" y="222"/>
                </a:lnTo>
                <a:lnTo>
                  <a:pt x="574" y="264"/>
                </a:lnTo>
                <a:lnTo>
                  <a:pt x="570" y="312"/>
                </a:lnTo>
                <a:lnTo>
                  <a:pt x="560" y="364"/>
                </a:lnTo>
                <a:lnTo>
                  <a:pt x="550" y="420"/>
                </a:lnTo>
                <a:lnTo>
                  <a:pt x="538" y="478"/>
                </a:lnTo>
                <a:lnTo>
                  <a:pt x="520" y="538"/>
                </a:lnTo>
                <a:lnTo>
                  <a:pt x="500" y="596"/>
                </a:lnTo>
                <a:lnTo>
                  <a:pt x="490" y="622"/>
                </a:lnTo>
                <a:lnTo>
                  <a:pt x="478" y="650"/>
                </a:lnTo>
                <a:lnTo>
                  <a:pt x="464" y="676"/>
                </a:lnTo>
                <a:lnTo>
                  <a:pt x="450" y="700"/>
                </a:lnTo>
                <a:lnTo>
                  <a:pt x="434" y="724"/>
                </a:lnTo>
                <a:lnTo>
                  <a:pt x="418" y="746"/>
                </a:lnTo>
                <a:lnTo>
                  <a:pt x="400" y="766"/>
                </a:lnTo>
                <a:lnTo>
                  <a:pt x="382" y="784"/>
                </a:lnTo>
                <a:lnTo>
                  <a:pt x="362" y="798"/>
                </a:lnTo>
                <a:lnTo>
                  <a:pt x="340" y="812"/>
                </a:lnTo>
                <a:lnTo>
                  <a:pt x="318" y="822"/>
                </a:lnTo>
                <a:lnTo>
                  <a:pt x="294" y="830"/>
                </a:lnTo>
                <a:lnTo>
                  <a:pt x="268" y="836"/>
                </a:lnTo>
                <a:lnTo>
                  <a:pt x="240" y="838"/>
                </a:lnTo>
                <a:lnTo>
                  <a:pt x="240" y="838"/>
                </a:lnTo>
                <a:lnTo>
                  <a:pt x="214" y="836"/>
                </a:lnTo>
                <a:lnTo>
                  <a:pt x="188" y="830"/>
                </a:lnTo>
                <a:lnTo>
                  <a:pt x="164" y="822"/>
                </a:lnTo>
                <a:lnTo>
                  <a:pt x="140" y="810"/>
                </a:lnTo>
                <a:lnTo>
                  <a:pt x="120" y="796"/>
                </a:lnTo>
                <a:lnTo>
                  <a:pt x="100" y="780"/>
                </a:lnTo>
                <a:lnTo>
                  <a:pt x="82" y="762"/>
                </a:lnTo>
                <a:lnTo>
                  <a:pt x="64" y="740"/>
                </a:lnTo>
                <a:lnTo>
                  <a:pt x="50" y="716"/>
                </a:lnTo>
                <a:lnTo>
                  <a:pt x="36" y="692"/>
                </a:lnTo>
                <a:lnTo>
                  <a:pt x="26" y="664"/>
                </a:lnTo>
                <a:lnTo>
                  <a:pt x="16" y="636"/>
                </a:lnTo>
                <a:lnTo>
                  <a:pt x="10" y="608"/>
                </a:lnTo>
                <a:lnTo>
                  <a:pt x="4" y="576"/>
                </a:lnTo>
                <a:lnTo>
                  <a:pt x="0" y="546"/>
                </a:lnTo>
                <a:lnTo>
                  <a:pt x="0" y="514"/>
                </a:lnTo>
                <a:lnTo>
                  <a:pt x="0" y="514"/>
                </a:lnTo>
                <a:lnTo>
                  <a:pt x="2" y="468"/>
                </a:lnTo>
                <a:lnTo>
                  <a:pt x="8" y="422"/>
                </a:lnTo>
                <a:lnTo>
                  <a:pt x="18" y="376"/>
                </a:lnTo>
                <a:lnTo>
                  <a:pt x="32" y="330"/>
                </a:lnTo>
                <a:lnTo>
                  <a:pt x="50" y="286"/>
                </a:lnTo>
                <a:lnTo>
                  <a:pt x="72" y="244"/>
                </a:lnTo>
                <a:lnTo>
                  <a:pt x="100" y="204"/>
                </a:lnTo>
                <a:lnTo>
                  <a:pt x="114" y="184"/>
                </a:lnTo>
                <a:lnTo>
                  <a:pt x="130" y="166"/>
                </a:lnTo>
                <a:lnTo>
                  <a:pt x="148" y="148"/>
                </a:lnTo>
                <a:lnTo>
                  <a:pt x="166" y="130"/>
                </a:lnTo>
                <a:lnTo>
                  <a:pt x="184" y="114"/>
                </a:lnTo>
                <a:lnTo>
                  <a:pt x="206" y="98"/>
                </a:lnTo>
                <a:lnTo>
                  <a:pt x="226" y="84"/>
                </a:lnTo>
                <a:lnTo>
                  <a:pt x="248" y="70"/>
                </a:lnTo>
                <a:lnTo>
                  <a:pt x="272" y="58"/>
                </a:lnTo>
                <a:lnTo>
                  <a:pt x="298" y="46"/>
                </a:lnTo>
                <a:lnTo>
                  <a:pt x="322" y="36"/>
                </a:lnTo>
                <a:lnTo>
                  <a:pt x="350" y="26"/>
                </a:lnTo>
                <a:lnTo>
                  <a:pt x="378" y="18"/>
                </a:lnTo>
                <a:lnTo>
                  <a:pt x="406" y="12"/>
                </a:lnTo>
                <a:lnTo>
                  <a:pt x="436" y="6"/>
                </a:lnTo>
                <a:lnTo>
                  <a:pt x="468" y="4"/>
                </a:lnTo>
                <a:lnTo>
                  <a:pt x="500" y="0"/>
                </a:lnTo>
                <a:lnTo>
                  <a:pt x="534" y="0"/>
                </a:lnTo>
                <a:lnTo>
                  <a:pt x="534" y="0"/>
                </a:lnTo>
                <a:lnTo>
                  <a:pt x="580" y="2"/>
                </a:lnTo>
                <a:lnTo>
                  <a:pt x="626" y="6"/>
                </a:lnTo>
                <a:lnTo>
                  <a:pt x="670" y="14"/>
                </a:lnTo>
                <a:lnTo>
                  <a:pt x="714" y="26"/>
                </a:lnTo>
                <a:lnTo>
                  <a:pt x="754" y="42"/>
                </a:lnTo>
                <a:lnTo>
                  <a:pt x="792" y="60"/>
                </a:lnTo>
                <a:lnTo>
                  <a:pt x="828" y="82"/>
                </a:lnTo>
                <a:lnTo>
                  <a:pt x="862" y="108"/>
                </a:lnTo>
                <a:lnTo>
                  <a:pt x="878" y="122"/>
                </a:lnTo>
                <a:lnTo>
                  <a:pt x="892" y="138"/>
                </a:lnTo>
                <a:lnTo>
                  <a:pt x="906" y="154"/>
                </a:lnTo>
                <a:lnTo>
                  <a:pt x="920" y="172"/>
                </a:lnTo>
                <a:lnTo>
                  <a:pt x="932" y="190"/>
                </a:lnTo>
                <a:lnTo>
                  <a:pt x="942" y="208"/>
                </a:lnTo>
                <a:lnTo>
                  <a:pt x="952" y="228"/>
                </a:lnTo>
                <a:lnTo>
                  <a:pt x="962" y="250"/>
                </a:lnTo>
                <a:lnTo>
                  <a:pt x="970" y="272"/>
                </a:lnTo>
                <a:lnTo>
                  <a:pt x="978" y="294"/>
                </a:lnTo>
                <a:lnTo>
                  <a:pt x="984" y="318"/>
                </a:lnTo>
                <a:lnTo>
                  <a:pt x="990" y="344"/>
                </a:lnTo>
                <a:lnTo>
                  <a:pt x="994" y="368"/>
                </a:lnTo>
                <a:lnTo>
                  <a:pt x="998" y="396"/>
                </a:lnTo>
                <a:lnTo>
                  <a:pt x="998" y="424"/>
                </a:lnTo>
                <a:lnTo>
                  <a:pt x="1000" y="452"/>
                </a:lnTo>
                <a:lnTo>
                  <a:pt x="1000" y="452"/>
                </a:lnTo>
                <a:lnTo>
                  <a:pt x="998" y="500"/>
                </a:lnTo>
                <a:lnTo>
                  <a:pt x="992" y="548"/>
                </a:lnTo>
                <a:lnTo>
                  <a:pt x="982" y="594"/>
                </a:lnTo>
                <a:lnTo>
                  <a:pt x="976" y="618"/>
                </a:lnTo>
                <a:lnTo>
                  <a:pt x="968" y="640"/>
                </a:lnTo>
                <a:lnTo>
                  <a:pt x="958" y="662"/>
                </a:lnTo>
                <a:lnTo>
                  <a:pt x="948" y="684"/>
                </a:lnTo>
                <a:lnTo>
                  <a:pt x="934" y="706"/>
                </a:lnTo>
                <a:lnTo>
                  <a:pt x="922" y="728"/>
                </a:lnTo>
                <a:lnTo>
                  <a:pt x="906" y="750"/>
                </a:lnTo>
                <a:lnTo>
                  <a:pt x="888" y="770"/>
                </a:lnTo>
                <a:lnTo>
                  <a:pt x="870" y="790"/>
                </a:lnTo>
                <a:lnTo>
                  <a:pt x="850" y="808"/>
                </a:lnTo>
                <a:lnTo>
                  <a:pt x="850" y="808"/>
                </a:lnTo>
                <a:lnTo>
                  <a:pt x="830" y="826"/>
                </a:lnTo>
                <a:lnTo>
                  <a:pt x="808" y="840"/>
                </a:lnTo>
                <a:lnTo>
                  <a:pt x="784" y="854"/>
                </a:lnTo>
                <a:lnTo>
                  <a:pt x="760" y="866"/>
                </a:lnTo>
                <a:lnTo>
                  <a:pt x="736" y="878"/>
                </a:lnTo>
                <a:lnTo>
                  <a:pt x="712" y="886"/>
                </a:lnTo>
                <a:lnTo>
                  <a:pt x="664" y="902"/>
                </a:lnTo>
                <a:lnTo>
                  <a:pt x="620" y="912"/>
                </a:lnTo>
                <a:lnTo>
                  <a:pt x="578" y="920"/>
                </a:lnTo>
                <a:lnTo>
                  <a:pt x="542" y="924"/>
                </a:lnTo>
                <a:lnTo>
                  <a:pt x="516" y="928"/>
                </a:lnTo>
                <a:lnTo>
                  <a:pt x="452" y="762"/>
                </a:lnTo>
                <a:close/>
                <a:moveTo>
                  <a:pt x="282" y="244"/>
                </a:moveTo>
                <a:lnTo>
                  <a:pt x="282" y="244"/>
                </a:lnTo>
                <a:lnTo>
                  <a:pt x="256" y="272"/>
                </a:lnTo>
                <a:lnTo>
                  <a:pt x="234" y="302"/>
                </a:lnTo>
                <a:lnTo>
                  <a:pt x="216" y="334"/>
                </a:lnTo>
                <a:lnTo>
                  <a:pt x="200" y="368"/>
                </a:lnTo>
                <a:lnTo>
                  <a:pt x="188" y="402"/>
                </a:lnTo>
                <a:lnTo>
                  <a:pt x="180" y="438"/>
                </a:lnTo>
                <a:lnTo>
                  <a:pt x="176" y="474"/>
                </a:lnTo>
                <a:lnTo>
                  <a:pt x="174" y="512"/>
                </a:lnTo>
                <a:lnTo>
                  <a:pt x="174" y="512"/>
                </a:lnTo>
                <a:lnTo>
                  <a:pt x="174" y="530"/>
                </a:lnTo>
                <a:lnTo>
                  <a:pt x="176" y="550"/>
                </a:lnTo>
                <a:lnTo>
                  <a:pt x="180" y="574"/>
                </a:lnTo>
                <a:lnTo>
                  <a:pt x="188" y="598"/>
                </a:lnTo>
                <a:lnTo>
                  <a:pt x="198" y="618"/>
                </a:lnTo>
                <a:lnTo>
                  <a:pt x="204" y="628"/>
                </a:lnTo>
                <a:lnTo>
                  <a:pt x="210" y="636"/>
                </a:lnTo>
                <a:lnTo>
                  <a:pt x="218" y="642"/>
                </a:lnTo>
                <a:lnTo>
                  <a:pt x="228" y="648"/>
                </a:lnTo>
                <a:lnTo>
                  <a:pt x="238" y="650"/>
                </a:lnTo>
                <a:lnTo>
                  <a:pt x="248" y="652"/>
                </a:lnTo>
                <a:lnTo>
                  <a:pt x="248" y="652"/>
                </a:lnTo>
                <a:lnTo>
                  <a:pt x="262" y="650"/>
                </a:lnTo>
                <a:lnTo>
                  <a:pt x="274" y="646"/>
                </a:lnTo>
                <a:lnTo>
                  <a:pt x="284" y="640"/>
                </a:lnTo>
                <a:lnTo>
                  <a:pt x="294" y="630"/>
                </a:lnTo>
                <a:lnTo>
                  <a:pt x="304" y="618"/>
                </a:lnTo>
                <a:lnTo>
                  <a:pt x="314" y="604"/>
                </a:lnTo>
                <a:lnTo>
                  <a:pt x="334" y="568"/>
                </a:lnTo>
                <a:lnTo>
                  <a:pt x="334" y="568"/>
                </a:lnTo>
                <a:lnTo>
                  <a:pt x="344" y="544"/>
                </a:lnTo>
                <a:lnTo>
                  <a:pt x="354" y="514"/>
                </a:lnTo>
                <a:lnTo>
                  <a:pt x="366" y="476"/>
                </a:lnTo>
                <a:lnTo>
                  <a:pt x="378" y="432"/>
                </a:lnTo>
                <a:lnTo>
                  <a:pt x="390" y="380"/>
                </a:lnTo>
                <a:lnTo>
                  <a:pt x="400" y="320"/>
                </a:lnTo>
                <a:lnTo>
                  <a:pt x="408" y="252"/>
                </a:lnTo>
                <a:lnTo>
                  <a:pt x="416" y="174"/>
                </a:lnTo>
                <a:lnTo>
                  <a:pt x="416" y="174"/>
                </a:lnTo>
                <a:lnTo>
                  <a:pt x="388" y="182"/>
                </a:lnTo>
                <a:lnTo>
                  <a:pt x="356" y="194"/>
                </a:lnTo>
                <a:lnTo>
                  <a:pt x="340" y="204"/>
                </a:lnTo>
                <a:lnTo>
                  <a:pt x="320" y="214"/>
                </a:lnTo>
                <a:lnTo>
                  <a:pt x="302" y="228"/>
                </a:lnTo>
                <a:lnTo>
                  <a:pt x="282" y="244"/>
                </a:lnTo>
                <a:lnTo>
                  <a:pt x="282" y="2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48600" y="8658360"/>
            <a:ext cx="1359000" cy="1600200"/>
          </a:xfrm>
          <a:custGeom>
            <a:avLst/>
            <a:gdLst/>
            <a:ahLst/>
            <a:rect l="l" t="t" r="r" b="b"/>
            <a:pathLst>
              <a:path w="856" h="1008">
                <a:moveTo>
                  <a:pt x="0" y="0"/>
                </a:moveTo>
                <a:lnTo>
                  <a:pt x="856" y="0"/>
                </a:lnTo>
                <a:lnTo>
                  <a:pt x="856" y="1008"/>
                </a:lnTo>
                <a:lnTo>
                  <a:pt x="686" y="1008"/>
                </a:lnTo>
                <a:lnTo>
                  <a:pt x="686" y="966"/>
                </a:lnTo>
                <a:lnTo>
                  <a:pt x="170" y="966"/>
                </a:lnTo>
                <a:lnTo>
                  <a:pt x="170" y="1008"/>
                </a:lnTo>
                <a:lnTo>
                  <a:pt x="0" y="1008"/>
                </a:lnTo>
                <a:lnTo>
                  <a:pt x="0" y="0"/>
                </a:lnTo>
                <a:close/>
                <a:moveTo>
                  <a:pt x="170" y="270"/>
                </a:moveTo>
                <a:lnTo>
                  <a:pt x="686" y="270"/>
                </a:lnTo>
                <a:lnTo>
                  <a:pt x="686" y="152"/>
                </a:lnTo>
                <a:lnTo>
                  <a:pt x="170" y="152"/>
                </a:lnTo>
                <a:lnTo>
                  <a:pt x="170" y="270"/>
                </a:lnTo>
                <a:close/>
                <a:moveTo>
                  <a:pt x="170" y="536"/>
                </a:moveTo>
                <a:lnTo>
                  <a:pt x="686" y="536"/>
                </a:lnTo>
                <a:lnTo>
                  <a:pt x="686" y="412"/>
                </a:lnTo>
                <a:lnTo>
                  <a:pt x="170" y="412"/>
                </a:lnTo>
                <a:lnTo>
                  <a:pt x="170" y="536"/>
                </a:lnTo>
                <a:close/>
                <a:moveTo>
                  <a:pt x="170" y="812"/>
                </a:moveTo>
                <a:lnTo>
                  <a:pt x="686" y="812"/>
                </a:lnTo>
                <a:lnTo>
                  <a:pt x="686" y="680"/>
                </a:lnTo>
                <a:lnTo>
                  <a:pt x="170" y="680"/>
                </a:lnTo>
                <a:lnTo>
                  <a:pt x="170" y="8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67520" y="11055240"/>
            <a:ext cx="1708200" cy="1663920"/>
          </a:xfrm>
          <a:custGeom>
            <a:avLst/>
            <a:gdLst/>
            <a:ahLst/>
            <a:rect l="l" t="t" r="r" b="b"/>
            <a:pathLst>
              <a:path w="1076" h="1048">
                <a:moveTo>
                  <a:pt x="0" y="640"/>
                </a:moveTo>
                <a:lnTo>
                  <a:pt x="0" y="640"/>
                </a:lnTo>
                <a:lnTo>
                  <a:pt x="26" y="600"/>
                </a:lnTo>
                <a:lnTo>
                  <a:pt x="48" y="558"/>
                </a:lnTo>
                <a:lnTo>
                  <a:pt x="66" y="516"/>
                </a:lnTo>
                <a:lnTo>
                  <a:pt x="82" y="474"/>
                </a:lnTo>
                <a:lnTo>
                  <a:pt x="96" y="436"/>
                </a:lnTo>
                <a:lnTo>
                  <a:pt x="108" y="400"/>
                </a:lnTo>
                <a:lnTo>
                  <a:pt x="116" y="366"/>
                </a:lnTo>
                <a:lnTo>
                  <a:pt x="124" y="336"/>
                </a:lnTo>
                <a:lnTo>
                  <a:pt x="16" y="336"/>
                </a:lnTo>
                <a:lnTo>
                  <a:pt x="16" y="184"/>
                </a:lnTo>
                <a:lnTo>
                  <a:pt x="126" y="184"/>
                </a:lnTo>
                <a:lnTo>
                  <a:pt x="126" y="0"/>
                </a:lnTo>
                <a:lnTo>
                  <a:pt x="278" y="0"/>
                </a:lnTo>
                <a:lnTo>
                  <a:pt x="278" y="184"/>
                </a:lnTo>
                <a:lnTo>
                  <a:pt x="356" y="184"/>
                </a:lnTo>
                <a:lnTo>
                  <a:pt x="356" y="336"/>
                </a:lnTo>
                <a:lnTo>
                  <a:pt x="278" y="336"/>
                </a:lnTo>
                <a:lnTo>
                  <a:pt x="278" y="358"/>
                </a:lnTo>
                <a:lnTo>
                  <a:pt x="278" y="358"/>
                </a:lnTo>
                <a:lnTo>
                  <a:pt x="300" y="398"/>
                </a:lnTo>
                <a:lnTo>
                  <a:pt x="324" y="436"/>
                </a:lnTo>
                <a:lnTo>
                  <a:pt x="350" y="472"/>
                </a:lnTo>
                <a:lnTo>
                  <a:pt x="380" y="508"/>
                </a:lnTo>
                <a:lnTo>
                  <a:pt x="328" y="672"/>
                </a:lnTo>
                <a:lnTo>
                  <a:pt x="328" y="672"/>
                </a:lnTo>
                <a:lnTo>
                  <a:pt x="304" y="634"/>
                </a:lnTo>
                <a:lnTo>
                  <a:pt x="292" y="612"/>
                </a:lnTo>
                <a:lnTo>
                  <a:pt x="278" y="584"/>
                </a:lnTo>
                <a:lnTo>
                  <a:pt x="278" y="1048"/>
                </a:lnTo>
                <a:lnTo>
                  <a:pt x="126" y="1048"/>
                </a:lnTo>
                <a:lnTo>
                  <a:pt x="126" y="664"/>
                </a:lnTo>
                <a:lnTo>
                  <a:pt x="126" y="664"/>
                </a:lnTo>
                <a:lnTo>
                  <a:pt x="102" y="740"/>
                </a:lnTo>
                <a:lnTo>
                  <a:pt x="80" y="796"/>
                </a:lnTo>
                <a:lnTo>
                  <a:pt x="62" y="836"/>
                </a:lnTo>
                <a:lnTo>
                  <a:pt x="48" y="866"/>
                </a:lnTo>
                <a:lnTo>
                  <a:pt x="0" y="640"/>
                </a:lnTo>
                <a:close/>
                <a:moveTo>
                  <a:pt x="506" y="932"/>
                </a:moveTo>
                <a:lnTo>
                  <a:pt x="506" y="932"/>
                </a:lnTo>
                <a:lnTo>
                  <a:pt x="476" y="970"/>
                </a:lnTo>
                <a:lnTo>
                  <a:pt x="450" y="998"/>
                </a:lnTo>
                <a:lnTo>
                  <a:pt x="426" y="1022"/>
                </a:lnTo>
                <a:lnTo>
                  <a:pt x="406" y="1040"/>
                </a:lnTo>
                <a:lnTo>
                  <a:pt x="300" y="938"/>
                </a:lnTo>
                <a:lnTo>
                  <a:pt x="300" y="938"/>
                </a:lnTo>
                <a:lnTo>
                  <a:pt x="326" y="918"/>
                </a:lnTo>
                <a:lnTo>
                  <a:pt x="348" y="898"/>
                </a:lnTo>
                <a:lnTo>
                  <a:pt x="370" y="876"/>
                </a:lnTo>
                <a:lnTo>
                  <a:pt x="388" y="854"/>
                </a:lnTo>
                <a:lnTo>
                  <a:pt x="406" y="834"/>
                </a:lnTo>
                <a:lnTo>
                  <a:pt x="420" y="814"/>
                </a:lnTo>
                <a:lnTo>
                  <a:pt x="432" y="794"/>
                </a:lnTo>
                <a:lnTo>
                  <a:pt x="440" y="776"/>
                </a:lnTo>
                <a:lnTo>
                  <a:pt x="580" y="822"/>
                </a:lnTo>
                <a:lnTo>
                  <a:pt x="580" y="822"/>
                </a:lnTo>
                <a:lnTo>
                  <a:pt x="558" y="860"/>
                </a:lnTo>
                <a:lnTo>
                  <a:pt x="544" y="882"/>
                </a:lnTo>
                <a:lnTo>
                  <a:pt x="524" y="910"/>
                </a:lnTo>
                <a:lnTo>
                  <a:pt x="600" y="910"/>
                </a:lnTo>
                <a:lnTo>
                  <a:pt x="600" y="910"/>
                </a:lnTo>
                <a:lnTo>
                  <a:pt x="614" y="908"/>
                </a:lnTo>
                <a:lnTo>
                  <a:pt x="618" y="906"/>
                </a:lnTo>
                <a:lnTo>
                  <a:pt x="622" y="904"/>
                </a:lnTo>
                <a:lnTo>
                  <a:pt x="624" y="900"/>
                </a:lnTo>
                <a:lnTo>
                  <a:pt x="626" y="896"/>
                </a:lnTo>
                <a:lnTo>
                  <a:pt x="626" y="884"/>
                </a:lnTo>
                <a:lnTo>
                  <a:pt x="626" y="772"/>
                </a:lnTo>
                <a:lnTo>
                  <a:pt x="354" y="772"/>
                </a:lnTo>
                <a:lnTo>
                  <a:pt x="354" y="654"/>
                </a:lnTo>
                <a:lnTo>
                  <a:pt x="1066" y="654"/>
                </a:lnTo>
                <a:lnTo>
                  <a:pt x="1066" y="772"/>
                </a:lnTo>
                <a:lnTo>
                  <a:pt x="778" y="772"/>
                </a:lnTo>
                <a:lnTo>
                  <a:pt x="778" y="948"/>
                </a:lnTo>
                <a:lnTo>
                  <a:pt x="778" y="948"/>
                </a:lnTo>
                <a:lnTo>
                  <a:pt x="778" y="962"/>
                </a:lnTo>
                <a:lnTo>
                  <a:pt x="776" y="978"/>
                </a:lnTo>
                <a:lnTo>
                  <a:pt x="772" y="994"/>
                </a:lnTo>
                <a:lnTo>
                  <a:pt x="764" y="1012"/>
                </a:lnTo>
                <a:lnTo>
                  <a:pt x="760" y="1018"/>
                </a:lnTo>
                <a:lnTo>
                  <a:pt x="754" y="1026"/>
                </a:lnTo>
                <a:lnTo>
                  <a:pt x="746" y="1032"/>
                </a:lnTo>
                <a:lnTo>
                  <a:pt x="736" y="1038"/>
                </a:lnTo>
                <a:lnTo>
                  <a:pt x="724" y="1042"/>
                </a:lnTo>
                <a:lnTo>
                  <a:pt x="712" y="1046"/>
                </a:lnTo>
                <a:lnTo>
                  <a:pt x="696" y="1048"/>
                </a:lnTo>
                <a:lnTo>
                  <a:pt x="678" y="1048"/>
                </a:lnTo>
                <a:lnTo>
                  <a:pt x="522" y="1048"/>
                </a:lnTo>
                <a:lnTo>
                  <a:pt x="506" y="932"/>
                </a:lnTo>
                <a:close/>
                <a:moveTo>
                  <a:pt x="352" y="24"/>
                </a:moveTo>
                <a:lnTo>
                  <a:pt x="1066" y="24"/>
                </a:lnTo>
                <a:lnTo>
                  <a:pt x="1066" y="156"/>
                </a:lnTo>
                <a:lnTo>
                  <a:pt x="848" y="156"/>
                </a:lnTo>
                <a:lnTo>
                  <a:pt x="848" y="200"/>
                </a:lnTo>
                <a:lnTo>
                  <a:pt x="1032" y="200"/>
                </a:lnTo>
                <a:lnTo>
                  <a:pt x="1032" y="454"/>
                </a:lnTo>
                <a:lnTo>
                  <a:pt x="384" y="454"/>
                </a:lnTo>
                <a:lnTo>
                  <a:pt x="384" y="200"/>
                </a:lnTo>
                <a:lnTo>
                  <a:pt x="564" y="200"/>
                </a:lnTo>
                <a:lnTo>
                  <a:pt x="564" y="156"/>
                </a:lnTo>
                <a:lnTo>
                  <a:pt x="352" y="156"/>
                </a:lnTo>
                <a:lnTo>
                  <a:pt x="352" y="24"/>
                </a:lnTo>
                <a:close/>
                <a:moveTo>
                  <a:pt x="382" y="492"/>
                </a:moveTo>
                <a:lnTo>
                  <a:pt x="1026" y="492"/>
                </a:lnTo>
                <a:lnTo>
                  <a:pt x="1026" y="608"/>
                </a:lnTo>
                <a:lnTo>
                  <a:pt x="382" y="608"/>
                </a:lnTo>
                <a:lnTo>
                  <a:pt x="382" y="492"/>
                </a:lnTo>
                <a:close/>
                <a:moveTo>
                  <a:pt x="508" y="294"/>
                </a:moveTo>
                <a:lnTo>
                  <a:pt x="508" y="358"/>
                </a:lnTo>
                <a:lnTo>
                  <a:pt x="564" y="358"/>
                </a:lnTo>
                <a:lnTo>
                  <a:pt x="564" y="294"/>
                </a:lnTo>
                <a:lnTo>
                  <a:pt x="508" y="294"/>
                </a:lnTo>
                <a:close/>
                <a:moveTo>
                  <a:pt x="676" y="156"/>
                </a:moveTo>
                <a:lnTo>
                  <a:pt x="676" y="200"/>
                </a:lnTo>
                <a:lnTo>
                  <a:pt x="734" y="200"/>
                </a:lnTo>
                <a:lnTo>
                  <a:pt x="734" y="156"/>
                </a:lnTo>
                <a:lnTo>
                  <a:pt x="676" y="156"/>
                </a:lnTo>
                <a:close/>
                <a:moveTo>
                  <a:pt x="676" y="294"/>
                </a:moveTo>
                <a:lnTo>
                  <a:pt x="676" y="358"/>
                </a:lnTo>
                <a:lnTo>
                  <a:pt x="734" y="358"/>
                </a:lnTo>
                <a:lnTo>
                  <a:pt x="734" y="294"/>
                </a:lnTo>
                <a:lnTo>
                  <a:pt x="676" y="294"/>
                </a:lnTo>
                <a:close/>
                <a:moveTo>
                  <a:pt x="964" y="1044"/>
                </a:moveTo>
                <a:lnTo>
                  <a:pt x="964" y="1044"/>
                </a:lnTo>
                <a:lnTo>
                  <a:pt x="942" y="1020"/>
                </a:lnTo>
                <a:lnTo>
                  <a:pt x="920" y="992"/>
                </a:lnTo>
                <a:lnTo>
                  <a:pt x="898" y="964"/>
                </a:lnTo>
                <a:lnTo>
                  <a:pt x="878" y="934"/>
                </a:lnTo>
                <a:lnTo>
                  <a:pt x="860" y="904"/>
                </a:lnTo>
                <a:lnTo>
                  <a:pt x="844" y="874"/>
                </a:lnTo>
                <a:lnTo>
                  <a:pt x="818" y="822"/>
                </a:lnTo>
                <a:lnTo>
                  <a:pt x="952" y="780"/>
                </a:lnTo>
                <a:lnTo>
                  <a:pt x="952" y="780"/>
                </a:lnTo>
                <a:lnTo>
                  <a:pt x="966" y="806"/>
                </a:lnTo>
                <a:lnTo>
                  <a:pt x="978" y="830"/>
                </a:lnTo>
                <a:lnTo>
                  <a:pt x="992" y="852"/>
                </a:lnTo>
                <a:lnTo>
                  <a:pt x="1006" y="872"/>
                </a:lnTo>
                <a:lnTo>
                  <a:pt x="1022" y="892"/>
                </a:lnTo>
                <a:lnTo>
                  <a:pt x="1038" y="910"/>
                </a:lnTo>
                <a:lnTo>
                  <a:pt x="1076" y="946"/>
                </a:lnTo>
                <a:lnTo>
                  <a:pt x="964" y="1044"/>
                </a:lnTo>
                <a:close/>
                <a:moveTo>
                  <a:pt x="848" y="294"/>
                </a:moveTo>
                <a:lnTo>
                  <a:pt x="848" y="358"/>
                </a:lnTo>
                <a:lnTo>
                  <a:pt x="904" y="358"/>
                </a:lnTo>
                <a:lnTo>
                  <a:pt x="904" y="294"/>
                </a:lnTo>
                <a:lnTo>
                  <a:pt x="848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01600" y="860400"/>
            <a:ext cx="4486320" cy="4486320"/>
          </a:xfrm>
          <a:custGeom>
            <a:avLst/>
            <a:gdLst/>
            <a:ahLst/>
            <a:rect l="l" t="t" r="r" b="b"/>
            <a:pathLst>
              <a:path w="2826" h="2826">
                <a:moveTo>
                  <a:pt x="2826" y="1414"/>
                </a:moveTo>
                <a:lnTo>
                  <a:pt x="2826" y="1414"/>
                </a:lnTo>
                <a:lnTo>
                  <a:pt x="2824" y="1486"/>
                </a:lnTo>
                <a:lnTo>
                  <a:pt x="2818" y="1558"/>
                </a:lnTo>
                <a:lnTo>
                  <a:pt x="2810" y="1628"/>
                </a:lnTo>
                <a:lnTo>
                  <a:pt x="2796" y="1698"/>
                </a:lnTo>
                <a:lnTo>
                  <a:pt x="2780" y="1766"/>
                </a:lnTo>
                <a:lnTo>
                  <a:pt x="2762" y="1834"/>
                </a:lnTo>
                <a:lnTo>
                  <a:pt x="2740" y="1898"/>
                </a:lnTo>
                <a:lnTo>
                  <a:pt x="2714" y="1962"/>
                </a:lnTo>
                <a:lnTo>
                  <a:pt x="2686" y="2026"/>
                </a:lnTo>
                <a:lnTo>
                  <a:pt x="2654" y="2086"/>
                </a:lnTo>
                <a:lnTo>
                  <a:pt x="2620" y="2146"/>
                </a:lnTo>
                <a:lnTo>
                  <a:pt x="2584" y="2202"/>
                </a:lnTo>
                <a:lnTo>
                  <a:pt x="2544" y="2258"/>
                </a:lnTo>
                <a:lnTo>
                  <a:pt x="2502" y="2312"/>
                </a:lnTo>
                <a:lnTo>
                  <a:pt x="2458" y="2362"/>
                </a:lnTo>
                <a:lnTo>
                  <a:pt x="2412" y="2412"/>
                </a:lnTo>
                <a:lnTo>
                  <a:pt x="2362" y="2458"/>
                </a:lnTo>
                <a:lnTo>
                  <a:pt x="2312" y="2504"/>
                </a:lnTo>
                <a:lnTo>
                  <a:pt x="2258" y="2546"/>
                </a:lnTo>
                <a:lnTo>
                  <a:pt x="2202" y="2584"/>
                </a:lnTo>
                <a:lnTo>
                  <a:pt x="2146" y="2622"/>
                </a:lnTo>
                <a:lnTo>
                  <a:pt x="2086" y="2656"/>
                </a:lnTo>
                <a:lnTo>
                  <a:pt x="2026" y="2686"/>
                </a:lnTo>
                <a:lnTo>
                  <a:pt x="1962" y="2714"/>
                </a:lnTo>
                <a:lnTo>
                  <a:pt x="1898" y="2740"/>
                </a:lnTo>
                <a:lnTo>
                  <a:pt x="1832" y="2762"/>
                </a:lnTo>
                <a:lnTo>
                  <a:pt x="1766" y="2782"/>
                </a:lnTo>
                <a:lnTo>
                  <a:pt x="1698" y="2796"/>
                </a:lnTo>
                <a:lnTo>
                  <a:pt x="1628" y="2810"/>
                </a:lnTo>
                <a:lnTo>
                  <a:pt x="1558" y="2818"/>
                </a:lnTo>
                <a:lnTo>
                  <a:pt x="1486" y="2824"/>
                </a:lnTo>
                <a:lnTo>
                  <a:pt x="1412" y="2826"/>
                </a:lnTo>
                <a:lnTo>
                  <a:pt x="1412" y="2826"/>
                </a:lnTo>
                <a:lnTo>
                  <a:pt x="1340" y="2824"/>
                </a:lnTo>
                <a:lnTo>
                  <a:pt x="1268" y="2818"/>
                </a:lnTo>
                <a:lnTo>
                  <a:pt x="1198" y="2810"/>
                </a:lnTo>
                <a:lnTo>
                  <a:pt x="1128" y="2796"/>
                </a:lnTo>
                <a:lnTo>
                  <a:pt x="1060" y="2782"/>
                </a:lnTo>
                <a:lnTo>
                  <a:pt x="992" y="2762"/>
                </a:lnTo>
                <a:lnTo>
                  <a:pt x="928" y="2740"/>
                </a:lnTo>
                <a:lnTo>
                  <a:pt x="864" y="2714"/>
                </a:lnTo>
                <a:lnTo>
                  <a:pt x="800" y="2686"/>
                </a:lnTo>
                <a:lnTo>
                  <a:pt x="740" y="2656"/>
                </a:lnTo>
                <a:lnTo>
                  <a:pt x="680" y="2622"/>
                </a:lnTo>
                <a:lnTo>
                  <a:pt x="624" y="2584"/>
                </a:lnTo>
                <a:lnTo>
                  <a:pt x="568" y="2546"/>
                </a:lnTo>
                <a:lnTo>
                  <a:pt x="514" y="2504"/>
                </a:lnTo>
                <a:lnTo>
                  <a:pt x="464" y="2458"/>
                </a:lnTo>
                <a:lnTo>
                  <a:pt x="414" y="2412"/>
                </a:lnTo>
                <a:lnTo>
                  <a:pt x="368" y="2362"/>
                </a:lnTo>
                <a:lnTo>
                  <a:pt x="322" y="2312"/>
                </a:lnTo>
                <a:lnTo>
                  <a:pt x="280" y="2258"/>
                </a:lnTo>
                <a:lnTo>
                  <a:pt x="242" y="2202"/>
                </a:lnTo>
                <a:lnTo>
                  <a:pt x="204" y="2146"/>
                </a:lnTo>
                <a:lnTo>
                  <a:pt x="170" y="2086"/>
                </a:lnTo>
                <a:lnTo>
                  <a:pt x="140" y="2026"/>
                </a:lnTo>
                <a:lnTo>
                  <a:pt x="112" y="1962"/>
                </a:lnTo>
                <a:lnTo>
                  <a:pt x="86" y="1898"/>
                </a:lnTo>
                <a:lnTo>
                  <a:pt x="64" y="1834"/>
                </a:lnTo>
                <a:lnTo>
                  <a:pt x="44" y="1766"/>
                </a:lnTo>
                <a:lnTo>
                  <a:pt x="30" y="1698"/>
                </a:lnTo>
                <a:lnTo>
                  <a:pt x="16" y="1628"/>
                </a:lnTo>
                <a:lnTo>
                  <a:pt x="8" y="1558"/>
                </a:lnTo>
                <a:lnTo>
                  <a:pt x="2" y="1486"/>
                </a:lnTo>
                <a:lnTo>
                  <a:pt x="0" y="1414"/>
                </a:lnTo>
                <a:lnTo>
                  <a:pt x="0" y="1414"/>
                </a:lnTo>
                <a:lnTo>
                  <a:pt x="2" y="1340"/>
                </a:lnTo>
                <a:lnTo>
                  <a:pt x="8" y="1268"/>
                </a:lnTo>
                <a:lnTo>
                  <a:pt x="16" y="1198"/>
                </a:lnTo>
                <a:lnTo>
                  <a:pt x="30" y="1128"/>
                </a:lnTo>
                <a:lnTo>
                  <a:pt x="44" y="1060"/>
                </a:lnTo>
                <a:lnTo>
                  <a:pt x="64" y="994"/>
                </a:lnTo>
                <a:lnTo>
                  <a:pt x="86" y="928"/>
                </a:lnTo>
                <a:lnTo>
                  <a:pt x="112" y="864"/>
                </a:lnTo>
                <a:lnTo>
                  <a:pt x="140" y="800"/>
                </a:lnTo>
                <a:lnTo>
                  <a:pt x="170" y="740"/>
                </a:lnTo>
                <a:lnTo>
                  <a:pt x="204" y="680"/>
                </a:lnTo>
                <a:lnTo>
                  <a:pt x="242" y="624"/>
                </a:lnTo>
                <a:lnTo>
                  <a:pt x="280" y="568"/>
                </a:lnTo>
                <a:lnTo>
                  <a:pt x="322" y="514"/>
                </a:lnTo>
                <a:lnTo>
                  <a:pt x="368" y="464"/>
                </a:lnTo>
                <a:lnTo>
                  <a:pt x="414" y="414"/>
                </a:lnTo>
                <a:lnTo>
                  <a:pt x="464" y="368"/>
                </a:lnTo>
                <a:lnTo>
                  <a:pt x="514" y="324"/>
                </a:lnTo>
                <a:lnTo>
                  <a:pt x="568" y="282"/>
                </a:lnTo>
                <a:lnTo>
                  <a:pt x="624" y="242"/>
                </a:lnTo>
                <a:lnTo>
                  <a:pt x="680" y="206"/>
                </a:lnTo>
                <a:lnTo>
                  <a:pt x="740" y="172"/>
                </a:lnTo>
                <a:lnTo>
                  <a:pt x="800" y="140"/>
                </a:lnTo>
                <a:lnTo>
                  <a:pt x="864" y="112"/>
                </a:lnTo>
                <a:lnTo>
                  <a:pt x="928" y="86"/>
                </a:lnTo>
                <a:lnTo>
                  <a:pt x="992" y="64"/>
                </a:lnTo>
                <a:lnTo>
                  <a:pt x="1060" y="46"/>
                </a:lnTo>
                <a:lnTo>
                  <a:pt x="1128" y="30"/>
                </a:lnTo>
                <a:lnTo>
                  <a:pt x="1198" y="16"/>
                </a:lnTo>
                <a:lnTo>
                  <a:pt x="1268" y="8"/>
                </a:lnTo>
                <a:lnTo>
                  <a:pt x="1340" y="2"/>
                </a:lnTo>
                <a:lnTo>
                  <a:pt x="1412" y="0"/>
                </a:lnTo>
                <a:lnTo>
                  <a:pt x="1412" y="0"/>
                </a:lnTo>
                <a:lnTo>
                  <a:pt x="1486" y="2"/>
                </a:lnTo>
                <a:lnTo>
                  <a:pt x="1558" y="8"/>
                </a:lnTo>
                <a:lnTo>
                  <a:pt x="1628" y="16"/>
                </a:lnTo>
                <a:lnTo>
                  <a:pt x="1698" y="30"/>
                </a:lnTo>
                <a:lnTo>
                  <a:pt x="1766" y="46"/>
                </a:lnTo>
                <a:lnTo>
                  <a:pt x="1832" y="64"/>
                </a:lnTo>
                <a:lnTo>
                  <a:pt x="1898" y="86"/>
                </a:lnTo>
                <a:lnTo>
                  <a:pt x="1962" y="112"/>
                </a:lnTo>
                <a:lnTo>
                  <a:pt x="2026" y="140"/>
                </a:lnTo>
                <a:lnTo>
                  <a:pt x="2086" y="172"/>
                </a:lnTo>
                <a:lnTo>
                  <a:pt x="2146" y="206"/>
                </a:lnTo>
                <a:lnTo>
                  <a:pt x="2202" y="242"/>
                </a:lnTo>
                <a:lnTo>
                  <a:pt x="2258" y="282"/>
                </a:lnTo>
                <a:lnTo>
                  <a:pt x="2312" y="324"/>
                </a:lnTo>
                <a:lnTo>
                  <a:pt x="2362" y="368"/>
                </a:lnTo>
                <a:lnTo>
                  <a:pt x="2412" y="414"/>
                </a:lnTo>
                <a:lnTo>
                  <a:pt x="2458" y="464"/>
                </a:lnTo>
                <a:lnTo>
                  <a:pt x="2502" y="514"/>
                </a:lnTo>
                <a:lnTo>
                  <a:pt x="2544" y="568"/>
                </a:lnTo>
                <a:lnTo>
                  <a:pt x="2584" y="624"/>
                </a:lnTo>
                <a:lnTo>
                  <a:pt x="2620" y="680"/>
                </a:lnTo>
                <a:lnTo>
                  <a:pt x="2654" y="740"/>
                </a:lnTo>
                <a:lnTo>
                  <a:pt x="2686" y="800"/>
                </a:lnTo>
                <a:lnTo>
                  <a:pt x="2714" y="864"/>
                </a:lnTo>
                <a:lnTo>
                  <a:pt x="2740" y="928"/>
                </a:lnTo>
                <a:lnTo>
                  <a:pt x="2762" y="994"/>
                </a:lnTo>
                <a:lnTo>
                  <a:pt x="2780" y="1060"/>
                </a:lnTo>
                <a:lnTo>
                  <a:pt x="2796" y="1128"/>
                </a:lnTo>
                <a:lnTo>
                  <a:pt x="2810" y="1198"/>
                </a:lnTo>
                <a:lnTo>
                  <a:pt x="2818" y="1268"/>
                </a:lnTo>
                <a:lnTo>
                  <a:pt x="2824" y="1340"/>
                </a:lnTo>
                <a:lnTo>
                  <a:pt x="2826" y="1414"/>
                </a:lnTo>
                <a:lnTo>
                  <a:pt x="2826" y="1414"/>
                </a:lnTo>
                <a:close/>
              </a:path>
            </a:pathLst>
          </a:cu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01600" y="5670720"/>
            <a:ext cx="4486320" cy="4485960"/>
          </a:xfrm>
          <a:custGeom>
            <a:avLst/>
            <a:gdLst/>
            <a:ahLst/>
            <a:rect l="l" t="t" r="r" b="b"/>
            <a:pathLst>
              <a:path w="2826" h="2826">
                <a:moveTo>
                  <a:pt x="2826" y="1412"/>
                </a:moveTo>
                <a:lnTo>
                  <a:pt x="2826" y="1412"/>
                </a:lnTo>
                <a:lnTo>
                  <a:pt x="2824" y="1486"/>
                </a:lnTo>
                <a:lnTo>
                  <a:pt x="2818" y="1558"/>
                </a:lnTo>
                <a:lnTo>
                  <a:pt x="2810" y="1628"/>
                </a:lnTo>
                <a:lnTo>
                  <a:pt x="2796" y="1698"/>
                </a:lnTo>
                <a:lnTo>
                  <a:pt x="2780" y="1766"/>
                </a:lnTo>
                <a:lnTo>
                  <a:pt x="2762" y="1832"/>
                </a:lnTo>
                <a:lnTo>
                  <a:pt x="2740" y="1898"/>
                </a:lnTo>
                <a:lnTo>
                  <a:pt x="2714" y="1962"/>
                </a:lnTo>
                <a:lnTo>
                  <a:pt x="2686" y="2026"/>
                </a:lnTo>
                <a:lnTo>
                  <a:pt x="2654" y="2086"/>
                </a:lnTo>
                <a:lnTo>
                  <a:pt x="2620" y="2146"/>
                </a:lnTo>
                <a:lnTo>
                  <a:pt x="2584" y="2202"/>
                </a:lnTo>
                <a:lnTo>
                  <a:pt x="2544" y="2258"/>
                </a:lnTo>
                <a:lnTo>
                  <a:pt x="2502" y="2312"/>
                </a:lnTo>
                <a:lnTo>
                  <a:pt x="2458" y="2362"/>
                </a:lnTo>
                <a:lnTo>
                  <a:pt x="2412" y="2412"/>
                </a:lnTo>
                <a:lnTo>
                  <a:pt x="2362" y="2458"/>
                </a:lnTo>
                <a:lnTo>
                  <a:pt x="2312" y="2502"/>
                </a:lnTo>
                <a:lnTo>
                  <a:pt x="2258" y="2544"/>
                </a:lnTo>
                <a:lnTo>
                  <a:pt x="2202" y="2584"/>
                </a:lnTo>
                <a:lnTo>
                  <a:pt x="2146" y="2620"/>
                </a:lnTo>
                <a:lnTo>
                  <a:pt x="2086" y="2654"/>
                </a:lnTo>
                <a:lnTo>
                  <a:pt x="2026" y="2686"/>
                </a:lnTo>
                <a:lnTo>
                  <a:pt x="1962" y="2714"/>
                </a:lnTo>
                <a:lnTo>
                  <a:pt x="1898" y="2740"/>
                </a:lnTo>
                <a:lnTo>
                  <a:pt x="1832" y="2762"/>
                </a:lnTo>
                <a:lnTo>
                  <a:pt x="1766" y="2780"/>
                </a:lnTo>
                <a:lnTo>
                  <a:pt x="1698" y="2796"/>
                </a:lnTo>
                <a:lnTo>
                  <a:pt x="1628" y="2808"/>
                </a:lnTo>
                <a:lnTo>
                  <a:pt x="1558" y="2818"/>
                </a:lnTo>
                <a:lnTo>
                  <a:pt x="1486" y="2824"/>
                </a:lnTo>
                <a:lnTo>
                  <a:pt x="1412" y="2826"/>
                </a:lnTo>
                <a:lnTo>
                  <a:pt x="1412" y="2826"/>
                </a:lnTo>
                <a:lnTo>
                  <a:pt x="1340" y="2824"/>
                </a:lnTo>
                <a:lnTo>
                  <a:pt x="1268" y="2818"/>
                </a:lnTo>
                <a:lnTo>
                  <a:pt x="1198" y="2808"/>
                </a:lnTo>
                <a:lnTo>
                  <a:pt x="1128" y="2796"/>
                </a:lnTo>
                <a:lnTo>
                  <a:pt x="1060" y="2780"/>
                </a:lnTo>
                <a:lnTo>
                  <a:pt x="992" y="2762"/>
                </a:lnTo>
                <a:lnTo>
                  <a:pt x="928" y="2740"/>
                </a:lnTo>
                <a:lnTo>
                  <a:pt x="864" y="2714"/>
                </a:lnTo>
                <a:lnTo>
                  <a:pt x="800" y="2686"/>
                </a:lnTo>
                <a:lnTo>
                  <a:pt x="740" y="2654"/>
                </a:lnTo>
                <a:lnTo>
                  <a:pt x="680" y="2620"/>
                </a:lnTo>
                <a:lnTo>
                  <a:pt x="624" y="2584"/>
                </a:lnTo>
                <a:lnTo>
                  <a:pt x="568" y="2544"/>
                </a:lnTo>
                <a:lnTo>
                  <a:pt x="514" y="2502"/>
                </a:lnTo>
                <a:lnTo>
                  <a:pt x="464" y="2458"/>
                </a:lnTo>
                <a:lnTo>
                  <a:pt x="414" y="2412"/>
                </a:lnTo>
                <a:lnTo>
                  <a:pt x="368" y="2362"/>
                </a:lnTo>
                <a:lnTo>
                  <a:pt x="322" y="2312"/>
                </a:lnTo>
                <a:lnTo>
                  <a:pt x="280" y="2258"/>
                </a:lnTo>
                <a:lnTo>
                  <a:pt x="242" y="2202"/>
                </a:lnTo>
                <a:lnTo>
                  <a:pt x="204" y="2146"/>
                </a:lnTo>
                <a:lnTo>
                  <a:pt x="170" y="2086"/>
                </a:lnTo>
                <a:lnTo>
                  <a:pt x="140" y="2026"/>
                </a:lnTo>
                <a:lnTo>
                  <a:pt x="112" y="1962"/>
                </a:lnTo>
                <a:lnTo>
                  <a:pt x="86" y="1898"/>
                </a:lnTo>
                <a:lnTo>
                  <a:pt x="64" y="1832"/>
                </a:lnTo>
                <a:lnTo>
                  <a:pt x="44" y="1766"/>
                </a:lnTo>
                <a:lnTo>
                  <a:pt x="30" y="1698"/>
                </a:lnTo>
                <a:lnTo>
                  <a:pt x="16" y="1628"/>
                </a:lnTo>
                <a:lnTo>
                  <a:pt x="8" y="1558"/>
                </a:lnTo>
                <a:lnTo>
                  <a:pt x="2" y="1486"/>
                </a:lnTo>
                <a:lnTo>
                  <a:pt x="0" y="1412"/>
                </a:lnTo>
                <a:lnTo>
                  <a:pt x="0" y="1412"/>
                </a:lnTo>
                <a:lnTo>
                  <a:pt x="2" y="1340"/>
                </a:lnTo>
                <a:lnTo>
                  <a:pt x="8" y="1268"/>
                </a:lnTo>
                <a:lnTo>
                  <a:pt x="16" y="1198"/>
                </a:lnTo>
                <a:lnTo>
                  <a:pt x="30" y="1128"/>
                </a:lnTo>
                <a:lnTo>
                  <a:pt x="44" y="1060"/>
                </a:lnTo>
                <a:lnTo>
                  <a:pt x="64" y="992"/>
                </a:lnTo>
                <a:lnTo>
                  <a:pt x="86" y="928"/>
                </a:lnTo>
                <a:lnTo>
                  <a:pt x="112" y="862"/>
                </a:lnTo>
                <a:lnTo>
                  <a:pt x="140" y="800"/>
                </a:lnTo>
                <a:lnTo>
                  <a:pt x="170" y="740"/>
                </a:lnTo>
                <a:lnTo>
                  <a:pt x="204" y="680"/>
                </a:lnTo>
                <a:lnTo>
                  <a:pt x="242" y="622"/>
                </a:lnTo>
                <a:lnTo>
                  <a:pt x="280" y="568"/>
                </a:lnTo>
                <a:lnTo>
                  <a:pt x="322" y="514"/>
                </a:lnTo>
                <a:lnTo>
                  <a:pt x="368" y="464"/>
                </a:lnTo>
                <a:lnTo>
                  <a:pt x="414" y="414"/>
                </a:lnTo>
                <a:lnTo>
                  <a:pt x="464" y="368"/>
                </a:lnTo>
                <a:lnTo>
                  <a:pt x="514" y="322"/>
                </a:lnTo>
                <a:lnTo>
                  <a:pt x="568" y="280"/>
                </a:lnTo>
                <a:lnTo>
                  <a:pt x="624" y="242"/>
                </a:lnTo>
                <a:lnTo>
                  <a:pt x="680" y="204"/>
                </a:lnTo>
                <a:lnTo>
                  <a:pt x="740" y="170"/>
                </a:lnTo>
                <a:lnTo>
                  <a:pt x="800" y="140"/>
                </a:lnTo>
                <a:lnTo>
                  <a:pt x="864" y="112"/>
                </a:lnTo>
                <a:lnTo>
                  <a:pt x="928" y="86"/>
                </a:lnTo>
                <a:lnTo>
                  <a:pt x="992" y="64"/>
                </a:lnTo>
                <a:lnTo>
                  <a:pt x="1060" y="44"/>
                </a:lnTo>
                <a:lnTo>
                  <a:pt x="1128" y="28"/>
                </a:lnTo>
                <a:lnTo>
                  <a:pt x="1198" y="16"/>
                </a:lnTo>
                <a:lnTo>
                  <a:pt x="1268" y="8"/>
                </a:lnTo>
                <a:lnTo>
                  <a:pt x="1340" y="2"/>
                </a:lnTo>
                <a:lnTo>
                  <a:pt x="1412" y="0"/>
                </a:lnTo>
                <a:lnTo>
                  <a:pt x="1412" y="0"/>
                </a:lnTo>
                <a:lnTo>
                  <a:pt x="1486" y="2"/>
                </a:lnTo>
                <a:lnTo>
                  <a:pt x="1558" y="8"/>
                </a:lnTo>
                <a:lnTo>
                  <a:pt x="1628" y="16"/>
                </a:lnTo>
                <a:lnTo>
                  <a:pt x="1698" y="28"/>
                </a:lnTo>
                <a:lnTo>
                  <a:pt x="1766" y="44"/>
                </a:lnTo>
                <a:lnTo>
                  <a:pt x="1832" y="64"/>
                </a:lnTo>
                <a:lnTo>
                  <a:pt x="1898" y="86"/>
                </a:lnTo>
                <a:lnTo>
                  <a:pt x="1962" y="112"/>
                </a:lnTo>
                <a:lnTo>
                  <a:pt x="2026" y="140"/>
                </a:lnTo>
                <a:lnTo>
                  <a:pt x="2086" y="170"/>
                </a:lnTo>
                <a:lnTo>
                  <a:pt x="2146" y="204"/>
                </a:lnTo>
                <a:lnTo>
                  <a:pt x="2202" y="242"/>
                </a:lnTo>
                <a:lnTo>
                  <a:pt x="2258" y="280"/>
                </a:lnTo>
                <a:lnTo>
                  <a:pt x="2312" y="322"/>
                </a:lnTo>
                <a:lnTo>
                  <a:pt x="2362" y="368"/>
                </a:lnTo>
                <a:lnTo>
                  <a:pt x="2412" y="414"/>
                </a:lnTo>
                <a:lnTo>
                  <a:pt x="2458" y="464"/>
                </a:lnTo>
                <a:lnTo>
                  <a:pt x="2502" y="514"/>
                </a:lnTo>
                <a:lnTo>
                  <a:pt x="2544" y="568"/>
                </a:lnTo>
                <a:lnTo>
                  <a:pt x="2584" y="622"/>
                </a:lnTo>
                <a:lnTo>
                  <a:pt x="2620" y="680"/>
                </a:lnTo>
                <a:lnTo>
                  <a:pt x="2654" y="740"/>
                </a:lnTo>
                <a:lnTo>
                  <a:pt x="2686" y="800"/>
                </a:lnTo>
                <a:lnTo>
                  <a:pt x="2714" y="862"/>
                </a:lnTo>
                <a:lnTo>
                  <a:pt x="2740" y="928"/>
                </a:lnTo>
                <a:lnTo>
                  <a:pt x="2762" y="992"/>
                </a:lnTo>
                <a:lnTo>
                  <a:pt x="2780" y="1060"/>
                </a:lnTo>
                <a:lnTo>
                  <a:pt x="2796" y="1128"/>
                </a:lnTo>
                <a:lnTo>
                  <a:pt x="2810" y="1198"/>
                </a:lnTo>
                <a:lnTo>
                  <a:pt x="2818" y="1268"/>
                </a:lnTo>
                <a:lnTo>
                  <a:pt x="2824" y="1340"/>
                </a:lnTo>
                <a:lnTo>
                  <a:pt x="2826" y="1412"/>
                </a:lnTo>
                <a:lnTo>
                  <a:pt x="2826" y="1412"/>
                </a:lnTo>
                <a:close/>
              </a:path>
            </a:pathLst>
          </a:cu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1600" y="10480680"/>
            <a:ext cx="4486320" cy="4483080"/>
          </a:xfrm>
          <a:custGeom>
            <a:avLst/>
            <a:gdLst/>
            <a:ahLst/>
            <a:rect l="l" t="t" r="r" b="b"/>
            <a:pathLst>
              <a:path w="2826" h="2824">
                <a:moveTo>
                  <a:pt x="2826" y="1412"/>
                </a:moveTo>
                <a:lnTo>
                  <a:pt x="2826" y="1412"/>
                </a:lnTo>
                <a:lnTo>
                  <a:pt x="2824" y="1486"/>
                </a:lnTo>
                <a:lnTo>
                  <a:pt x="2818" y="1556"/>
                </a:lnTo>
                <a:lnTo>
                  <a:pt x="2810" y="1628"/>
                </a:lnTo>
                <a:lnTo>
                  <a:pt x="2796" y="1698"/>
                </a:lnTo>
                <a:lnTo>
                  <a:pt x="2780" y="1766"/>
                </a:lnTo>
                <a:lnTo>
                  <a:pt x="2762" y="1832"/>
                </a:lnTo>
                <a:lnTo>
                  <a:pt x="2740" y="1898"/>
                </a:lnTo>
                <a:lnTo>
                  <a:pt x="2714" y="1962"/>
                </a:lnTo>
                <a:lnTo>
                  <a:pt x="2686" y="2024"/>
                </a:lnTo>
                <a:lnTo>
                  <a:pt x="2654" y="2086"/>
                </a:lnTo>
                <a:lnTo>
                  <a:pt x="2620" y="2144"/>
                </a:lnTo>
                <a:lnTo>
                  <a:pt x="2584" y="2202"/>
                </a:lnTo>
                <a:lnTo>
                  <a:pt x="2544" y="2258"/>
                </a:lnTo>
                <a:lnTo>
                  <a:pt x="2502" y="2310"/>
                </a:lnTo>
                <a:lnTo>
                  <a:pt x="2458" y="2362"/>
                </a:lnTo>
                <a:lnTo>
                  <a:pt x="2412" y="2412"/>
                </a:lnTo>
                <a:lnTo>
                  <a:pt x="2362" y="2458"/>
                </a:lnTo>
                <a:lnTo>
                  <a:pt x="2312" y="2502"/>
                </a:lnTo>
                <a:lnTo>
                  <a:pt x="2258" y="2544"/>
                </a:lnTo>
                <a:lnTo>
                  <a:pt x="2202" y="2584"/>
                </a:lnTo>
                <a:lnTo>
                  <a:pt x="2146" y="2620"/>
                </a:lnTo>
                <a:lnTo>
                  <a:pt x="2086" y="2654"/>
                </a:lnTo>
                <a:lnTo>
                  <a:pt x="2026" y="2686"/>
                </a:lnTo>
                <a:lnTo>
                  <a:pt x="1962" y="2714"/>
                </a:lnTo>
                <a:lnTo>
                  <a:pt x="1898" y="2740"/>
                </a:lnTo>
                <a:lnTo>
                  <a:pt x="1832" y="2762"/>
                </a:lnTo>
                <a:lnTo>
                  <a:pt x="1766" y="2780"/>
                </a:lnTo>
                <a:lnTo>
                  <a:pt x="1698" y="2796"/>
                </a:lnTo>
                <a:lnTo>
                  <a:pt x="1628" y="2808"/>
                </a:lnTo>
                <a:lnTo>
                  <a:pt x="1558" y="2818"/>
                </a:lnTo>
                <a:lnTo>
                  <a:pt x="1486" y="2824"/>
                </a:lnTo>
                <a:lnTo>
                  <a:pt x="1412" y="2824"/>
                </a:lnTo>
                <a:lnTo>
                  <a:pt x="1412" y="2824"/>
                </a:lnTo>
                <a:lnTo>
                  <a:pt x="1340" y="2824"/>
                </a:lnTo>
                <a:lnTo>
                  <a:pt x="1268" y="2818"/>
                </a:lnTo>
                <a:lnTo>
                  <a:pt x="1198" y="2808"/>
                </a:lnTo>
                <a:lnTo>
                  <a:pt x="1128" y="2796"/>
                </a:lnTo>
                <a:lnTo>
                  <a:pt x="1060" y="2780"/>
                </a:lnTo>
                <a:lnTo>
                  <a:pt x="992" y="2762"/>
                </a:lnTo>
                <a:lnTo>
                  <a:pt x="928" y="2740"/>
                </a:lnTo>
                <a:lnTo>
                  <a:pt x="864" y="2714"/>
                </a:lnTo>
                <a:lnTo>
                  <a:pt x="800" y="2686"/>
                </a:lnTo>
                <a:lnTo>
                  <a:pt x="740" y="2654"/>
                </a:lnTo>
                <a:lnTo>
                  <a:pt x="680" y="2620"/>
                </a:lnTo>
                <a:lnTo>
                  <a:pt x="624" y="2584"/>
                </a:lnTo>
                <a:lnTo>
                  <a:pt x="568" y="2544"/>
                </a:lnTo>
                <a:lnTo>
                  <a:pt x="514" y="2502"/>
                </a:lnTo>
                <a:lnTo>
                  <a:pt x="464" y="2458"/>
                </a:lnTo>
                <a:lnTo>
                  <a:pt x="414" y="2412"/>
                </a:lnTo>
                <a:lnTo>
                  <a:pt x="368" y="2362"/>
                </a:lnTo>
                <a:lnTo>
                  <a:pt x="322" y="2310"/>
                </a:lnTo>
                <a:lnTo>
                  <a:pt x="280" y="2258"/>
                </a:lnTo>
                <a:lnTo>
                  <a:pt x="242" y="2202"/>
                </a:lnTo>
                <a:lnTo>
                  <a:pt x="204" y="2144"/>
                </a:lnTo>
                <a:lnTo>
                  <a:pt x="170" y="2086"/>
                </a:lnTo>
                <a:lnTo>
                  <a:pt x="140" y="2024"/>
                </a:lnTo>
                <a:lnTo>
                  <a:pt x="112" y="1962"/>
                </a:lnTo>
                <a:lnTo>
                  <a:pt x="86" y="1898"/>
                </a:lnTo>
                <a:lnTo>
                  <a:pt x="64" y="1832"/>
                </a:lnTo>
                <a:lnTo>
                  <a:pt x="44" y="1766"/>
                </a:lnTo>
                <a:lnTo>
                  <a:pt x="30" y="1698"/>
                </a:lnTo>
                <a:lnTo>
                  <a:pt x="16" y="1628"/>
                </a:lnTo>
                <a:lnTo>
                  <a:pt x="8" y="1556"/>
                </a:lnTo>
                <a:lnTo>
                  <a:pt x="2" y="1486"/>
                </a:lnTo>
                <a:lnTo>
                  <a:pt x="0" y="1412"/>
                </a:lnTo>
                <a:lnTo>
                  <a:pt x="0" y="1412"/>
                </a:lnTo>
                <a:lnTo>
                  <a:pt x="2" y="1340"/>
                </a:lnTo>
                <a:lnTo>
                  <a:pt x="8" y="1268"/>
                </a:lnTo>
                <a:lnTo>
                  <a:pt x="16" y="1198"/>
                </a:lnTo>
                <a:lnTo>
                  <a:pt x="30" y="1128"/>
                </a:lnTo>
                <a:lnTo>
                  <a:pt x="44" y="1060"/>
                </a:lnTo>
                <a:lnTo>
                  <a:pt x="64" y="992"/>
                </a:lnTo>
                <a:lnTo>
                  <a:pt x="86" y="926"/>
                </a:lnTo>
                <a:lnTo>
                  <a:pt x="112" y="862"/>
                </a:lnTo>
                <a:lnTo>
                  <a:pt x="140" y="800"/>
                </a:lnTo>
                <a:lnTo>
                  <a:pt x="170" y="740"/>
                </a:lnTo>
                <a:lnTo>
                  <a:pt x="204" y="680"/>
                </a:lnTo>
                <a:lnTo>
                  <a:pt x="242" y="622"/>
                </a:lnTo>
                <a:lnTo>
                  <a:pt x="280" y="568"/>
                </a:lnTo>
                <a:lnTo>
                  <a:pt x="322" y="514"/>
                </a:lnTo>
                <a:lnTo>
                  <a:pt x="368" y="462"/>
                </a:lnTo>
                <a:lnTo>
                  <a:pt x="414" y="414"/>
                </a:lnTo>
                <a:lnTo>
                  <a:pt x="464" y="366"/>
                </a:lnTo>
                <a:lnTo>
                  <a:pt x="514" y="322"/>
                </a:lnTo>
                <a:lnTo>
                  <a:pt x="568" y="280"/>
                </a:lnTo>
                <a:lnTo>
                  <a:pt x="624" y="242"/>
                </a:lnTo>
                <a:lnTo>
                  <a:pt x="680" y="204"/>
                </a:lnTo>
                <a:lnTo>
                  <a:pt x="740" y="170"/>
                </a:lnTo>
                <a:lnTo>
                  <a:pt x="800" y="140"/>
                </a:lnTo>
                <a:lnTo>
                  <a:pt x="864" y="110"/>
                </a:lnTo>
                <a:lnTo>
                  <a:pt x="928" y="86"/>
                </a:lnTo>
                <a:lnTo>
                  <a:pt x="992" y="64"/>
                </a:lnTo>
                <a:lnTo>
                  <a:pt x="1060" y="44"/>
                </a:lnTo>
                <a:lnTo>
                  <a:pt x="1128" y="28"/>
                </a:lnTo>
                <a:lnTo>
                  <a:pt x="1198" y="16"/>
                </a:lnTo>
                <a:lnTo>
                  <a:pt x="1268" y="8"/>
                </a:lnTo>
                <a:lnTo>
                  <a:pt x="1340" y="2"/>
                </a:lnTo>
                <a:lnTo>
                  <a:pt x="1412" y="0"/>
                </a:lnTo>
                <a:lnTo>
                  <a:pt x="1412" y="0"/>
                </a:lnTo>
                <a:lnTo>
                  <a:pt x="1486" y="2"/>
                </a:lnTo>
                <a:lnTo>
                  <a:pt x="1558" y="8"/>
                </a:lnTo>
                <a:lnTo>
                  <a:pt x="1628" y="16"/>
                </a:lnTo>
                <a:lnTo>
                  <a:pt x="1698" y="28"/>
                </a:lnTo>
                <a:lnTo>
                  <a:pt x="1766" y="44"/>
                </a:lnTo>
                <a:lnTo>
                  <a:pt x="1832" y="64"/>
                </a:lnTo>
                <a:lnTo>
                  <a:pt x="1898" y="86"/>
                </a:lnTo>
                <a:lnTo>
                  <a:pt x="1962" y="110"/>
                </a:lnTo>
                <a:lnTo>
                  <a:pt x="2026" y="140"/>
                </a:lnTo>
                <a:lnTo>
                  <a:pt x="2086" y="170"/>
                </a:lnTo>
                <a:lnTo>
                  <a:pt x="2146" y="204"/>
                </a:lnTo>
                <a:lnTo>
                  <a:pt x="2202" y="242"/>
                </a:lnTo>
                <a:lnTo>
                  <a:pt x="2258" y="280"/>
                </a:lnTo>
                <a:lnTo>
                  <a:pt x="2312" y="322"/>
                </a:lnTo>
                <a:lnTo>
                  <a:pt x="2362" y="366"/>
                </a:lnTo>
                <a:lnTo>
                  <a:pt x="2412" y="414"/>
                </a:lnTo>
                <a:lnTo>
                  <a:pt x="2458" y="462"/>
                </a:lnTo>
                <a:lnTo>
                  <a:pt x="2502" y="514"/>
                </a:lnTo>
                <a:lnTo>
                  <a:pt x="2544" y="568"/>
                </a:lnTo>
                <a:lnTo>
                  <a:pt x="2584" y="622"/>
                </a:lnTo>
                <a:lnTo>
                  <a:pt x="2620" y="680"/>
                </a:lnTo>
                <a:lnTo>
                  <a:pt x="2654" y="740"/>
                </a:lnTo>
                <a:lnTo>
                  <a:pt x="2686" y="800"/>
                </a:lnTo>
                <a:lnTo>
                  <a:pt x="2714" y="862"/>
                </a:lnTo>
                <a:lnTo>
                  <a:pt x="2740" y="926"/>
                </a:lnTo>
                <a:lnTo>
                  <a:pt x="2762" y="992"/>
                </a:lnTo>
                <a:lnTo>
                  <a:pt x="2780" y="1060"/>
                </a:lnTo>
                <a:lnTo>
                  <a:pt x="2796" y="1128"/>
                </a:lnTo>
                <a:lnTo>
                  <a:pt x="2810" y="1198"/>
                </a:lnTo>
                <a:lnTo>
                  <a:pt x="2818" y="1268"/>
                </a:lnTo>
                <a:lnTo>
                  <a:pt x="2824" y="1340"/>
                </a:lnTo>
                <a:lnTo>
                  <a:pt x="2826" y="1412"/>
                </a:lnTo>
                <a:lnTo>
                  <a:pt x="2826" y="1412"/>
                </a:lnTo>
                <a:close/>
              </a:path>
            </a:pathLst>
          </a:cu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15494040"/>
            <a:ext cx="2470320" cy="2155680"/>
          </a:xfrm>
          <a:custGeom>
            <a:avLst/>
            <a:gdLst/>
            <a:ahLst/>
            <a:rect l="l" t="t" r="r" b="b"/>
            <a:pathLst>
              <a:path w="1556" h="1358">
                <a:moveTo>
                  <a:pt x="778" y="22"/>
                </a:moveTo>
                <a:lnTo>
                  <a:pt x="778" y="22"/>
                </a:lnTo>
                <a:lnTo>
                  <a:pt x="760" y="90"/>
                </a:lnTo>
                <a:lnTo>
                  <a:pt x="748" y="140"/>
                </a:lnTo>
                <a:lnTo>
                  <a:pt x="1400" y="140"/>
                </a:lnTo>
                <a:lnTo>
                  <a:pt x="1400" y="360"/>
                </a:lnTo>
                <a:lnTo>
                  <a:pt x="668" y="360"/>
                </a:lnTo>
                <a:lnTo>
                  <a:pt x="668" y="360"/>
                </a:lnTo>
                <a:lnTo>
                  <a:pt x="642" y="414"/>
                </a:lnTo>
                <a:lnTo>
                  <a:pt x="626" y="440"/>
                </a:lnTo>
                <a:lnTo>
                  <a:pt x="608" y="472"/>
                </a:lnTo>
                <a:lnTo>
                  <a:pt x="608" y="472"/>
                </a:lnTo>
                <a:lnTo>
                  <a:pt x="644" y="458"/>
                </a:lnTo>
                <a:lnTo>
                  <a:pt x="680" y="446"/>
                </a:lnTo>
                <a:lnTo>
                  <a:pt x="712" y="438"/>
                </a:lnTo>
                <a:lnTo>
                  <a:pt x="742" y="432"/>
                </a:lnTo>
                <a:lnTo>
                  <a:pt x="766" y="430"/>
                </a:lnTo>
                <a:lnTo>
                  <a:pt x="788" y="428"/>
                </a:lnTo>
                <a:lnTo>
                  <a:pt x="818" y="426"/>
                </a:lnTo>
                <a:lnTo>
                  <a:pt x="818" y="426"/>
                </a:lnTo>
                <a:lnTo>
                  <a:pt x="852" y="428"/>
                </a:lnTo>
                <a:lnTo>
                  <a:pt x="882" y="430"/>
                </a:lnTo>
                <a:lnTo>
                  <a:pt x="910" y="436"/>
                </a:lnTo>
                <a:lnTo>
                  <a:pt x="934" y="442"/>
                </a:lnTo>
                <a:lnTo>
                  <a:pt x="958" y="450"/>
                </a:lnTo>
                <a:lnTo>
                  <a:pt x="978" y="458"/>
                </a:lnTo>
                <a:lnTo>
                  <a:pt x="998" y="468"/>
                </a:lnTo>
                <a:lnTo>
                  <a:pt x="1014" y="478"/>
                </a:lnTo>
                <a:lnTo>
                  <a:pt x="1030" y="490"/>
                </a:lnTo>
                <a:lnTo>
                  <a:pt x="1044" y="502"/>
                </a:lnTo>
                <a:lnTo>
                  <a:pt x="1066" y="524"/>
                </a:lnTo>
                <a:lnTo>
                  <a:pt x="1082" y="546"/>
                </a:lnTo>
                <a:lnTo>
                  <a:pt x="1094" y="564"/>
                </a:lnTo>
                <a:lnTo>
                  <a:pt x="1094" y="564"/>
                </a:lnTo>
                <a:lnTo>
                  <a:pt x="1220" y="524"/>
                </a:lnTo>
                <a:lnTo>
                  <a:pt x="1322" y="494"/>
                </a:lnTo>
                <a:lnTo>
                  <a:pt x="1410" y="470"/>
                </a:lnTo>
                <a:lnTo>
                  <a:pt x="1488" y="450"/>
                </a:lnTo>
                <a:lnTo>
                  <a:pt x="1556" y="678"/>
                </a:lnTo>
                <a:lnTo>
                  <a:pt x="1556" y="678"/>
                </a:lnTo>
                <a:lnTo>
                  <a:pt x="1422" y="706"/>
                </a:lnTo>
                <a:lnTo>
                  <a:pt x="1314" y="732"/>
                </a:lnTo>
                <a:lnTo>
                  <a:pt x="1226" y="756"/>
                </a:lnTo>
                <a:lnTo>
                  <a:pt x="1152" y="778"/>
                </a:lnTo>
                <a:lnTo>
                  <a:pt x="1152" y="778"/>
                </a:lnTo>
                <a:lnTo>
                  <a:pt x="1154" y="820"/>
                </a:lnTo>
                <a:lnTo>
                  <a:pt x="1156" y="864"/>
                </a:lnTo>
                <a:lnTo>
                  <a:pt x="1158" y="948"/>
                </a:lnTo>
                <a:lnTo>
                  <a:pt x="1158" y="948"/>
                </a:lnTo>
                <a:lnTo>
                  <a:pt x="1158" y="996"/>
                </a:lnTo>
                <a:lnTo>
                  <a:pt x="1154" y="1034"/>
                </a:lnTo>
                <a:lnTo>
                  <a:pt x="880" y="1034"/>
                </a:lnTo>
                <a:lnTo>
                  <a:pt x="880" y="1034"/>
                </a:lnTo>
                <a:lnTo>
                  <a:pt x="884" y="974"/>
                </a:lnTo>
                <a:lnTo>
                  <a:pt x="886" y="876"/>
                </a:lnTo>
                <a:lnTo>
                  <a:pt x="886" y="876"/>
                </a:lnTo>
                <a:lnTo>
                  <a:pt x="842" y="894"/>
                </a:lnTo>
                <a:lnTo>
                  <a:pt x="804" y="914"/>
                </a:lnTo>
                <a:lnTo>
                  <a:pt x="770" y="932"/>
                </a:lnTo>
                <a:lnTo>
                  <a:pt x="740" y="950"/>
                </a:lnTo>
                <a:lnTo>
                  <a:pt x="718" y="970"/>
                </a:lnTo>
                <a:lnTo>
                  <a:pt x="708" y="980"/>
                </a:lnTo>
                <a:lnTo>
                  <a:pt x="702" y="992"/>
                </a:lnTo>
                <a:lnTo>
                  <a:pt x="694" y="1002"/>
                </a:lnTo>
                <a:lnTo>
                  <a:pt x="690" y="1014"/>
                </a:lnTo>
                <a:lnTo>
                  <a:pt x="688" y="1026"/>
                </a:lnTo>
                <a:lnTo>
                  <a:pt x="686" y="1040"/>
                </a:lnTo>
                <a:lnTo>
                  <a:pt x="686" y="1040"/>
                </a:lnTo>
                <a:lnTo>
                  <a:pt x="688" y="1056"/>
                </a:lnTo>
                <a:lnTo>
                  <a:pt x="694" y="1070"/>
                </a:lnTo>
                <a:lnTo>
                  <a:pt x="700" y="1084"/>
                </a:lnTo>
                <a:lnTo>
                  <a:pt x="712" y="1094"/>
                </a:lnTo>
                <a:lnTo>
                  <a:pt x="724" y="1104"/>
                </a:lnTo>
                <a:lnTo>
                  <a:pt x="740" y="1112"/>
                </a:lnTo>
                <a:lnTo>
                  <a:pt x="758" y="1118"/>
                </a:lnTo>
                <a:lnTo>
                  <a:pt x="778" y="1124"/>
                </a:lnTo>
                <a:lnTo>
                  <a:pt x="800" y="1128"/>
                </a:lnTo>
                <a:lnTo>
                  <a:pt x="826" y="1132"/>
                </a:lnTo>
                <a:lnTo>
                  <a:pt x="880" y="1136"/>
                </a:lnTo>
                <a:lnTo>
                  <a:pt x="942" y="1138"/>
                </a:lnTo>
                <a:lnTo>
                  <a:pt x="1010" y="1140"/>
                </a:lnTo>
                <a:lnTo>
                  <a:pt x="1010" y="1140"/>
                </a:lnTo>
                <a:lnTo>
                  <a:pt x="1122" y="1138"/>
                </a:lnTo>
                <a:lnTo>
                  <a:pt x="1234" y="1134"/>
                </a:lnTo>
                <a:lnTo>
                  <a:pt x="1344" y="1128"/>
                </a:lnTo>
                <a:lnTo>
                  <a:pt x="1456" y="1120"/>
                </a:lnTo>
                <a:lnTo>
                  <a:pt x="1458" y="1352"/>
                </a:lnTo>
                <a:lnTo>
                  <a:pt x="1458" y="1352"/>
                </a:lnTo>
                <a:lnTo>
                  <a:pt x="1248" y="1356"/>
                </a:lnTo>
                <a:lnTo>
                  <a:pt x="1056" y="1358"/>
                </a:lnTo>
                <a:lnTo>
                  <a:pt x="1056" y="1358"/>
                </a:lnTo>
                <a:lnTo>
                  <a:pt x="988" y="1358"/>
                </a:lnTo>
                <a:lnTo>
                  <a:pt x="922" y="1356"/>
                </a:lnTo>
                <a:lnTo>
                  <a:pt x="858" y="1352"/>
                </a:lnTo>
                <a:lnTo>
                  <a:pt x="798" y="1348"/>
                </a:lnTo>
                <a:lnTo>
                  <a:pt x="738" y="1340"/>
                </a:lnTo>
                <a:lnTo>
                  <a:pt x="684" y="1332"/>
                </a:lnTo>
                <a:lnTo>
                  <a:pt x="632" y="1320"/>
                </a:lnTo>
                <a:lnTo>
                  <a:pt x="584" y="1308"/>
                </a:lnTo>
                <a:lnTo>
                  <a:pt x="584" y="1308"/>
                </a:lnTo>
                <a:lnTo>
                  <a:pt x="566" y="1300"/>
                </a:lnTo>
                <a:lnTo>
                  <a:pt x="546" y="1292"/>
                </a:lnTo>
                <a:lnTo>
                  <a:pt x="528" y="1284"/>
                </a:lnTo>
                <a:lnTo>
                  <a:pt x="510" y="1274"/>
                </a:lnTo>
                <a:lnTo>
                  <a:pt x="494" y="1262"/>
                </a:lnTo>
                <a:lnTo>
                  <a:pt x="478" y="1250"/>
                </a:lnTo>
                <a:lnTo>
                  <a:pt x="462" y="1236"/>
                </a:lnTo>
                <a:lnTo>
                  <a:pt x="448" y="1220"/>
                </a:lnTo>
                <a:lnTo>
                  <a:pt x="434" y="1204"/>
                </a:lnTo>
                <a:lnTo>
                  <a:pt x="422" y="1188"/>
                </a:lnTo>
                <a:lnTo>
                  <a:pt x="412" y="1170"/>
                </a:lnTo>
                <a:lnTo>
                  <a:pt x="402" y="1150"/>
                </a:lnTo>
                <a:lnTo>
                  <a:pt x="396" y="1130"/>
                </a:lnTo>
                <a:lnTo>
                  <a:pt x="390" y="1110"/>
                </a:lnTo>
                <a:lnTo>
                  <a:pt x="386" y="1088"/>
                </a:lnTo>
                <a:lnTo>
                  <a:pt x="386" y="1064"/>
                </a:lnTo>
                <a:lnTo>
                  <a:pt x="386" y="1064"/>
                </a:lnTo>
                <a:lnTo>
                  <a:pt x="386" y="1048"/>
                </a:lnTo>
                <a:lnTo>
                  <a:pt x="388" y="1030"/>
                </a:lnTo>
                <a:lnTo>
                  <a:pt x="392" y="1014"/>
                </a:lnTo>
                <a:lnTo>
                  <a:pt x="396" y="998"/>
                </a:lnTo>
                <a:lnTo>
                  <a:pt x="408" y="966"/>
                </a:lnTo>
                <a:lnTo>
                  <a:pt x="424" y="936"/>
                </a:lnTo>
                <a:lnTo>
                  <a:pt x="446" y="908"/>
                </a:lnTo>
                <a:lnTo>
                  <a:pt x="470" y="880"/>
                </a:lnTo>
                <a:lnTo>
                  <a:pt x="498" y="854"/>
                </a:lnTo>
                <a:lnTo>
                  <a:pt x="528" y="830"/>
                </a:lnTo>
                <a:lnTo>
                  <a:pt x="560" y="806"/>
                </a:lnTo>
                <a:lnTo>
                  <a:pt x="596" y="782"/>
                </a:lnTo>
                <a:lnTo>
                  <a:pt x="634" y="760"/>
                </a:lnTo>
                <a:lnTo>
                  <a:pt x="674" y="738"/>
                </a:lnTo>
                <a:lnTo>
                  <a:pt x="756" y="698"/>
                </a:lnTo>
                <a:lnTo>
                  <a:pt x="842" y="660"/>
                </a:lnTo>
                <a:lnTo>
                  <a:pt x="842" y="660"/>
                </a:lnTo>
                <a:lnTo>
                  <a:pt x="824" y="646"/>
                </a:lnTo>
                <a:lnTo>
                  <a:pt x="814" y="638"/>
                </a:lnTo>
                <a:lnTo>
                  <a:pt x="802" y="632"/>
                </a:lnTo>
                <a:lnTo>
                  <a:pt x="788" y="626"/>
                </a:lnTo>
                <a:lnTo>
                  <a:pt x="772" y="622"/>
                </a:lnTo>
                <a:lnTo>
                  <a:pt x="754" y="620"/>
                </a:lnTo>
                <a:lnTo>
                  <a:pt x="732" y="618"/>
                </a:lnTo>
                <a:lnTo>
                  <a:pt x="732" y="618"/>
                </a:lnTo>
                <a:lnTo>
                  <a:pt x="704" y="620"/>
                </a:lnTo>
                <a:lnTo>
                  <a:pt x="672" y="626"/>
                </a:lnTo>
                <a:lnTo>
                  <a:pt x="640" y="634"/>
                </a:lnTo>
                <a:lnTo>
                  <a:pt x="606" y="646"/>
                </a:lnTo>
                <a:lnTo>
                  <a:pt x="570" y="662"/>
                </a:lnTo>
                <a:lnTo>
                  <a:pt x="534" y="680"/>
                </a:lnTo>
                <a:lnTo>
                  <a:pt x="498" y="702"/>
                </a:lnTo>
                <a:lnTo>
                  <a:pt x="464" y="728"/>
                </a:lnTo>
                <a:lnTo>
                  <a:pt x="464" y="728"/>
                </a:lnTo>
                <a:lnTo>
                  <a:pt x="442" y="746"/>
                </a:lnTo>
                <a:lnTo>
                  <a:pt x="422" y="764"/>
                </a:lnTo>
                <a:lnTo>
                  <a:pt x="396" y="790"/>
                </a:lnTo>
                <a:lnTo>
                  <a:pt x="360" y="828"/>
                </a:lnTo>
                <a:lnTo>
                  <a:pt x="360" y="828"/>
                </a:lnTo>
                <a:lnTo>
                  <a:pt x="326" y="866"/>
                </a:lnTo>
                <a:lnTo>
                  <a:pt x="278" y="924"/>
                </a:lnTo>
                <a:lnTo>
                  <a:pt x="196" y="1016"/>
                </a:lnTo>
                <a:lnTo>
                  <a:pt x="0" y="846"/>
                </a:lnTo>
                <a:lnTo>
                  <a:pt x="0" y="846"/>
                </a:lnTo>
                <a:lnTo>
                  <a:pt x="80" y="768"/>
                </a:lnTo>
                <a:lnTo>
                  <a:pt x="148" y="700"/>
                </a:lnTo>
                <a:lnTo>
                  <a:pt x="204" y="642"/>
                </a:lnTo>
                <a:lnTo>
                  <a:pt x="250" y="586"/>
                </a:lnTo>
                <a:lnTo>
                  <a:pt x="270" y="560"/>
                </a:lnTo>
                <a:lnTo>
                  <a:pt x="288" y="534"/>
                </a:lnTo>
                <a:lnTo>
                  <a:pt x="306" y="508"/>
                </a:lnTo>
                <a:lnTo>
                  <a:pt x="322" y="482"/>
                </a:lnTo>
                <a:lnTo>
                  <a:pt x="336" y="454"/>
                </a:lnTo>
                <a:lnTo>
                  <a:pt x="352" y="424"/>
                </a:lnTo>
                <a:lnTo>
                  <a:pt x="378" y="360"/>
                </a:lnTo>
                <a:lnTo>
                  <a:pt x="68" y="360"/>
                </a:lnTo>
                <a:lnTo>
                  <a:pt x="68" y="140"/>
                </a:lnTo>
                <a:lnTo>
                  <a:pt x="450" y="140"/>
                </a:lnTo>
                <a:lnTo>
                  <a:pt x="450" y="140"/>
                </a:lnTo>
                <a:lnTo>
                  <a:pt x="464" y="80"/>
                </a:lnTo>
                <a:lnTo>
                  <a:pt x="480" y="0"/>
                </a:lnTo>
                <a:lnTo>
                  <a:pt x="77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7859240"/>
            <a:ext cx="2762280" cy="2292480"/>
          </a:xfrm>
          <a:custGeom>
            <a:avLst/>
            <a:gdLst/>
            <a:ahLst/>
            <a:rect l="l" t="t" r="r" b="b"/>
            <a:pathLst>
              <a:path w="1740" h="1444">
                <a:moveTo>
                  <a:pt x="1086" y="1304"/>
                </a:moveTo>
                <a:lnTo>
                  <a:pt x="1086" y="1304"/>
                </a:lnTo>
                <a:lnTo>
                  <a:pt x="1086" y="1322"/>
                </a:lnTo>
                <a:lnTo>
                  <a:pt x="1084" y="1340"/>
                </a:lnTo>
                <a:lnTo>
                  <a:pt x="1080" y="1356"/>
                </a:lnTo>
                <a:lnTo>
                  <a:pt x="1076" y="1370"/>
                </a:lnTo>
                <a:lnTo>
                  <a:pt x="1072" y="1382"/>
                </a:lnTo>
                <a:lnTo>
                  <a:pt x="1064" y="1394"/>
                </a:lnTo>
                <a:lnTo>
                  <a:pt x="1056" y="1402"/>
                </a:lnTo>
                <a:lnTo>
                  <a:pt x="1048" y="1410"/>
                </a:lnTo>
                <a:lnTo>
                  <a:pt x="1038" y="1418"/>
                </a:lnTo>
                <a:lnTo>
                  <a:pt x="1028" y="1424"/>
                </a:lnTo>
                <a:lnTo>
                  <a:pt x="1016" y="1428"/>
                </a:lnTo>
                <a:lnTo>
                  <a:pt x="1004" y="1432"/>
                </a:lnTo>
                <a:lnTo>
                  <a:pt x="976" y="1438"/>
                </a:lnTo>
                <a:lnTo>
                  <a:pt x="946" y="1438"/>
                </a:lnTo>
                <a:lnTo>
                  <a:pt x="768" y="1438"/>
                </a:lnTo>
                <a:lnTo>
                  <a:pt x="730" y="1258"/>
                </a:lnTo>
                <a:lnTo>
                  <a:pt x="820" y="1258"/>
                </a:lnTo>
                <a:lnTo>
                  <a:pt x="820" y="1258"/>
                </a:lnTo>
                <a:lnTo>
                  <a:pt x="840" y="1258"/>
                </a:lnTo>
                <a:lnTo>
                  <a:pt x="850" y="1256"/>
                </a:lnTo>
                <a:lnTo>
                  <a:pt x="856" y="1254"/>
                </a:lnTo>
                <a:lnTo>
                  <a:pt x="860" y="1250"/>
                </a:lnTo>
                <a:lnTo>
                  <a:pt x="864" y="1244"/>
                </a:lnTo>
                <a:lnTo>
                  <a:pt x="866" y="1238"/>
                </a:lnTo>
                <a:lnTo>
                  <a:pt x="868" y="1226"/>
                </a:lnTo>
                <a:lnTo>
                  <a:pt x="868" y="1182"/>
                </a:lnTo>
                <a:lnTo>
                  <a:pt x="676" y="1182"/>
                </a:lnTo>
                <a:lnTo>
                  <a:pt x="676" y="1438"/>
                </a:lnTo>
                <a:lnTo>
                  <a:pt x="458" y="1438"/>
                </a:lnTo>
                <a:lnTo>
                  <a:pt x="458" y="634"/>
                </a:lnTo>
                <a:lnTo>
                  <a:pt x="1054" y="634"/>
                </a:lnTo>
                <a:lnTo>
                  <a:pt x="1020" y="580"/>
                </a:lnTo>
                <a:lnTo>
                  <a:pt x="968" y="596"/>
                </a:lnTo>
                <a:lnTo>
                  <a:pt x="968" y="596"/>
                </a:lnTo>
                <a:lnTo>
                  <a:pt x="952" y="546"/>
                </a:lnTo>
                <a:lnTo>
                  <a:pt x="952" y="546"/>
                </a:lnTo>
                <a:lnTo>
                  <a:pt x="858" y="558"/>
                </a:lnTo>
                <a:lnTo>
                  <a:pt x="740" y="570"/>
                </a:lnTo>
                <a:lnTo>
                  <a:pt x="602" y="582"/>
                </a:lnTo>
                <a:lnTo>
                  <a:pt x="448" y="594"/>
                </a:lnTo>
                <a:lnTo>
                  <a:pt x="438" y="528"/>
                </a:lnTo>
                <a:lnTo>
                  <a:pt x="438" y="528"/>
                </a:lnTo>
                <a:lnTo>
                  <a:pt x="406" y="578"/>
                </a:lnTo>
                <a:lnTo>
                  <a:pt x="370" y="632"/>
                </a:lnTo>
                <a:lnTo>
                  <a:pt x="370" y="1438"/>
                </a:lnTo>
                <a:lnTo>
                  <a:pt x="124" y="1438"/>
                </a:lnTo>
                <a:lnTo>
                  <a:pt x="124" y="896"/>
                </a:lnTo>
                <a:lnTo>
                  <a:pt x="124" y="896"/>
                </a:lnTo>
                <a:lnTo>
                  <a:pt x="96" y="920"/>
                </a:lnTo>
                <a:lnTo>
                  <a:pt x="56" y="956"/>
                </a:lnTo>
                <a:lnTo>
                  <a:pt x="0" y="672"/>
                </a:lnTo>
                <a:lnTo>
                  <a:pt x="0" y="672"/>
                </a:lnTo>
                <a:lnTo>
                  <a:pt x="44" y="640"/>
                </a:lnTo>
                <a:lnTo>
                  <a:pt x="84" y="602"/>
                </a:lnTo>
                <a:lnTo>
                  <a:pt x="124" y="562"/>
                </a:lnTo>
                <a:lnTo>
                  <a:pt x="162" y="520"/>
                </a:lnTo>
                <a:lnTo>
                  <a:pt x="198" y="476"/>
                </a:lnTo>
                <a:lnTo>
                  <a:pt x="230" y="432"/>
                </a:lnTo>
                <a:lnTo>
                  <a:pt x="258" y="390"/>
                </a:lnTo>
                <a:lnTo>
                  <a:pt x="280" y="352"/>
                </a:lnTo>
                <a:lnTo>
                  <a:pt x="462" y="424"/>
                </a:lnTo>
                <a:lnTo>
                  <a:pt x="520" y="422"/>
                </a:lnTo>
                <a:lnTo>
                  <a:pt x="520" y="422"/>
                </a:lnTo>
                <a:lnTo>
                  <a:pt x="548" y="352"/>
                </a:lnTo>
                <a:lnTo>
                  <a:pt x="572" y="278"/>
                </a:lnTo>
                <a:lnTo>
                  <a:pt x="440" y="278"/>
                </a:lnTo>
                <a:lnTo>
                  <a:pt x="440" y="98"/>
                </a:lnTo>
                <a:lnTo>
                  <a:pt x="678" y="98"/>
                </a:lnTo>
                <a:lnTo>
                  <a:pt x="678" y="4"/>
                </a:lnTo>
                <a:lnTo>
                  <a:pt x="924" y="4"/>
                </a:lnTo>
                <a:lnTo>
                  <a:pt x="924" y="98"/>
                </a:lnTo>
                <a:lnTo>
                  <a:pt x="1158" y="98"/>
                </a:lnTo>
                <a:lnTo>
                  <a:pt x="1158" y="278"/>
                </a:lnTo>
                <a:lnTo>
                  <a:pt x="790" y="278"/>
                </a:lnTo>
                <a:lnTo>
                  <a:pt x="790" y="278"/>
                </a:lnTo>
                <a:lnTo>
                  <a:pt x="768" y="338"/>
                </a:lnTo>
                <a:lnTo>
                  <a:pt x="736" y="412"/>
                </a:lnTo>
                <a:lnTo>
                  <a:pt x="736" y="412"/>
                </a:lnTo>
                <a:lnTo>
                  <a:pt x="790" y="410"/>
                </a:lnTo>
                <a:lnTo>
                  <a:pt x="882" y="404"/>
                </a:lnTo>
                <a:lnTo>
                  <a:pt x="882" y="404"/>
                </a:lnTo>
                <a:lnTo>
                  <a:pt x="864" y="376"/>
                </a:lnTo>
                <a:lnTo>
                  <a:pt x="840" y="344"/>
                </a:lnTo>
                <a:lnTo>
                  <a:pt x="1008" y="290"/>
                </a:lnTo>
                <a:lnTo>
                  <a:pt x="1008" y="290"/>
                </a:lnTo>
                <a:lnTo>
                  <a:pt x="1046" y="336"/>
                </a:lnTo>
                <a:lnTo>
                  <a:pt x="1070" y="368"/>
                </a:lnTo>
                <a:lnTo>
                  <a:pt x="1100" y="410"/>
                </a:lnTo>
                <a:lnTo>
                  <a:pt x="1100" y="410"/>
                </a:lnTo>
                <a:lnTo>
                  <a:pt x="1138" y="352"/>
                </a:lnTo>
                <a:lnTo>
                  <a:pt x="1168" y="296"/>
                </a:lnTo>
                <a:lnTo>
                  <a:pt x="1192" y="242"/>
                </a:lnTo>
                <a:lnTo>
                  <a:pt x="1214" y="190"/>
                </a:lnTo>
                <a:lnTo>
                  <a:pt x="1230" y="142"/>
                </a:lnTo>
                <a:lnTo>
                  <a:pt x="1242" y="94"/>
                </a:lnTo>
                <a:lnTo>
                  <a:pt x="1252" y="46"/>
                </a:lnTo>
                <a:lnTo>
                  <a:pt x="1260" y="0"/>
                </a:lnTo>
                <a:lnTo>
                  <a:pt x="1494" y="16"/>
                </a:lnTo>
                <a:lnTo>
                  <a:pt x="1494" y="16"/>
                </a:lnTo>
                <a:lnTo>
                  <a:pt x="1484" y="70"/>
                </a:lnTo>
                <a:lnTo>
                  <a:pt x="1474" y="118"/>
                </a:lnTo>
                <a:lnTo>
                  <a:pt x="1462" y="160"/>
                </a:lnTo>
                <a:lnTo>
                  <a:pt x="1448" y="204"/>
                </a:lnTo>
                <a:lnTo>
                  <a:pt x="1720" y="204"/>
                </a:lnTo>
                <a:lnTo>
                  <a:pt x="1720" y="432"/>
                </a:lnTo>
                <a:lnTo>
                  <a:pt x="1664" y="432"/>
                </a:lnTo>
                <a:lnTo>
                  <a:pt x="1664" y="432"/>
                </a:lnTo>
                <a:lnTo>
                  <a:pt x="1664" y="472"/>
                </a:lnTo>
                <a:lnTo>
                  <a:pt x="1660" y="528"/>
                </a:lnTo>
                <a:lnTo>
                  <a:pt x="1656" y="596"/>
                </a:lnTo>
                <a:lnTo>
                  <a:pt x="1646" y="674"/>
                </a:lnTo>
                <a:lnTo>
                  <a:pt x="1632" y="758"/>
                </a:lnTo>
                <a:lnTo>
                  <a:pt x="1622" y="802"/>
                </a:lnTo>
                <a:lnTo>
                  <a:pt x="1612" y="848"/>
                </a:lnTo>
                <a:lnTo>
                  <a:pt x="1600" y="892"/>
                </a:lnTo>
                <a:lnTo>
                  <a:pt x="1584" y="938"/>
                </a:lnTo>
                <a:lnTo>
                  <a:pt x="1568" y="984"/>
                </a:lnTo>
                <a:lnTo>
                  <a:pt x="1550" y="1028"/>
                </a:lnTo>
                <a:lnTo>
                  <a:pt x="1550" y="1028"/>
                </a:lnTo>
                <a:lnTo>
                  <a:pt x="1572" y="1058"/>
                </a:lnTo>
                <a:lnTo>
                  <a:pt x="1594" y="1086"/>
                </a:lnTo>
                <a:lnTo>
                  <a:pt x="1618" y="1112"/>
                </a:lnTo>
                <a:lnTo>
                  <a:pt x="1640" y="1136"/>
                </a:lnTo>
                <a:lnTo>
                  <a:pt x="1688" y="1180"/>
                </a:lnTo>
                <a:lnTo>
                  <a:pt x="1740" y="1224"/>
                </a:lnTo>
                <a:lnTo>
                  <a:pt x="1612" y="1438"/>
                </a:lnTo>
                <a:lnTo>
                  <a:pt x="1612" y="1438"/>
                </a:lnTo>
                <a:lnTo>
                  <a:pt x="1560" y="1396"/>
                </a:lnTo>
                <a:lnTo>
                  <a:pt x="1512" y="1350"/>
                </a:lnTo>
                <a:lnTo>
                  <a:pt x="1488" y="1326"/>
                </a:lnTo>
                <a:lnTo>
                  <a:pt x="1462" y="1298"/>
                </a:lnTo>
                <a:lnTo>
                  <a:pt x="1438" y="1270"/>
                </a:lnTo>
                <a:lnTo>
                  <a:pt x="1412" y="1238"/>
                </a:lnTo>
                <a:lnTo>
                  <a:pt x="1412" y="1238"/>
                </a:lnTo>
                <a:lnTo>
                  <a:pt x="1382" y="1272"/>
                </a:lnTo>
                <a:lnTo>
                  <a:pt x="1354" y="1302"/>
                </a:lnTo>
                <a:lnTo>
                  <a:pt x="1326" y="1330"/>
                </a:lnTo>
                <a:lnTo>
                  <a:pt x="1298" y="1356"/>
                </a:lnTo>
                <a:lnTo>
                  <a:pt x="1246" y="1402"/>
                </a:lnTo>
                <a:lnTo>
                  <a:pt x="1194" y="1444"/>
                </a:lnTo>
                <a:lnTo>
                  <a:pt x="1086" y="1304"/>
                </a:lnTo>
                <a:close/>
                <a:moveTo>
                  <a:pt x="2" y="218"/>
                </a:moveTo>
                <a:lnTo>
                  <a:pt x="2" y="218"/>
                </a:lnTo>
                <a:lnTo>
                  <a:pt x="36" y="194"/>
                </a:lnTo>
                <a:lnTo>
                  <a:pt x="68" y="166"/>
                </a:lnTo>
                <a:lnTo>
                  <a:pt x="98" y="140"/>
                </a:lnTo>
                <a:lnTo>
                  <a:pt x="124" y="110"/>
                </a:lnTo>
                <a:lnTo>
                  <a:pt x="146" y="82"/>
                </a:lnTo>
                <a:lnTo>
                  <a:pt x="168" y="54"/>
                </a:lnTo>
                <a:lnTo>
                  <a:pt x="186" y="26"/>
                </a:lnTo>
                <a:lnTo>
                  <a:pt x="202" y="0"/>
                </a:lnTo>
                <a:lnTo>
                  <a:pt x="444" y="48"/>
                </a:lnTo>
                <a:lnTo>
                  <a:pt x="444" y="48"/>
                </a:lnTo>
                <a:lnTo>
                  <a:pt x="430" y="78"/>
                </a:lnTo>
                <a:lnTo>
                  <a:pt x="414" y="108"/>
                </a:lnTo>
                <a:lnTo>
                  <a:pt x="396" y="136"/>
                </a:lnTo>
                <a:lnTo>
                  <a:pt x="378" y="166"/>
                </a:lnTo>
                <a:lnTo>
                  <a:pt x="358" y="192"/>
                </a:lnTo>
                <a:lnTo>
                  <a:pt x="338" y="220"/>
                </a:lnTo>
                <a:lnTo>
                  <a:pt x="294" y="274"/>
                </a:lnTo>
                <a:lnTo>
                  <a:pt x="246" y="324"/>
                </a:lnTo>
                <a:lnTo>
                  <a:pt x="196" y="372"/>
                </a:lnTo>
                <a:lnTo>
                  <a:pt x="142" y="418"/>
                </a:lnTo>
                <a:lnTo>
                  <a:pt x="84" y="460"/>
                </a:lnTo>
                <a:lnTo>
                  <a:pt x="2" y="218"/>
                </a:lnTo>
                <a:close/>
                <a:moveTo>
                  <a:pt x="676" y="778"/>
                </a:moveTo>
                <a:lnTo>
                  <a:pt x="676" y="852"/>
                </a:lnTo>
                <a:lnTo>
                  <a:pt x="868" y="852"/>
                </a:lnTo>
                <a:lnTo>
                  <a:pt x="868" y="778"/>
                </a:lnTo>
                <a:lnTo>
                  <a:pt x="676" y="778"/>
                </a:lnTo>
                <a:close/>
                <a:moveTo>
                  <a:pt x="676" y="982"/>
                </a:moveTo>
                <a:lnTo>
                  <a:pt x="676" y="1052"/>
                </a:lnTo>
                <a:lnTo>
                  <a:pt x="868" y="1052"/>
                </a:lnTo>
                <a:lnTo>
                  <a:pt x="868" y="982"/>
                </a:lnTo>
                <a:lnTo>
                  <a:pt x="676" y="982"/>
                </a:lnTo>
                <a:close/>
                <a:moveTo>
                  <a:pt x="1086" y="684"/>
                </a:moveTo>
                <a:lnTo>
                  <a:pt x="1086" y="1220"/>
                </a:lnTo>
                <a:lnTo>
                  <a:pt x="1086" y="1220"/>
                </a:lnTo>
                <a:lnTo>
                  <a:pt x="1134" y="1186"/>
                </a:lnTo>
                <a:lnTo>
                  <a:pt x="1158" y="1166"/>
                </a:lnTo>
                <a:lnTo>
                  <a:pt x="1184" y="1146"/>
                </a:lnTo>
                <a:lnTo>
                  <a:pt x="1208" y="1122"/>
                </a:lnTo>
                <a:lnTo>
                  <a:pt x="1234" y="1096"/>
                </a:lnTo>
                <a:lnTo>
                  <a:pt x="1260" y="1068"/>
                </a:lnTo>
                <a:lnTo>
                  <a:pt x="1286" y="1034"/>
                </a:lnTo>
                <a:lnTo>
                  <a:pt x="1286" y="1034"/>
                </a:lnTo>
                <a:lnTo>
                  <a:pt x="1256" y="966"/>
                </a:lnTo>
                <a:lnTo>
                  <a:pt x="1240" y="930"/>
                </a:lnTo>
                <a:lnTo>
                  <a:pt x="1226" y="890"/>
                </a:lnTo>
                <a:lnTo>
                  <a:pt x="1212" y="848"/>
                </a:lnTo>
                <a:lnTo>
                  <a:pt x="1198" y="802"/>
                </a:lnTo>
                <a:lnTo>
                  <a:pt x="1184" y="752"/>
                </a:lnTo>
                <a:lnTo>
                  <a:pt x="1172" y="698"/>
                </a:lnTo>
                <a:lnTo>
                  <a:pt x="1172" y="698"/>
                </a:lnTo>
                <a:lnTo>
                  <a:pt x="1146" y="724"/>
                </a:lnTo>
                <a:lnTo>
                  <a:pt x="1126" y="744"/>
                </a:lnTo>
                <a:lnTo>
                  <a:pt x="1086" y="684"/>
                </a:lnTo>
                <a:close/>
                <a:moveTo>
                  <a:pt x="1356" y="432"/>
                </a:moveTo>
                <a:lnTo>
                  <a:pt x="1356" y="432"/>
                </a:lnTo>
                <a:lnTo>
                  <a:pt x="1334" y="472"/>
                </a:lnTo>
                <a:lnTo>
                  <a:pt x="1334" y="472"/>
                </a:lnTo>
                <a:lnTo>
                  <a:pt x="1340" y="520"/>
                </a:lnTo>
                <a:lnTo>
                  <a:pt x="1346" y="566"/>
                </a:lnTo>
                <a:lnTo>
                  <a:pt x="1354" y="610"/>
                </a:lnTo>
                <a:lnTo>
                  <a:pt x="1364" y="650"/>
                </a:lnTo>
                <a:lnTo>
                  <a:pt x="1374" y="688"/>
                </a:lnTo>
                <a:lnTo>
                  <a:pt x="1388" y="724"/>
                </a:lnTo>
                <a:lnTo>
                  <a:pt x="1400" y="760"/>
                </a:lnTo>
                <a:lnTo>
                  <a:pt x="1414" y="794"/>
                </a:lnTo>
                <a:lnTo>
                  <a:pt x="1414" y="794"/>
                </a:lnTo>
                <a:lnTo>
                  <a:pt x="1430" y="744"/>
                </a:lnTo>
                <a:lnTo>
                  <a:pt x="1442" y="696"/>
                </a:lnTo>
                <a:lnTo>
                  <a:pt x="1450" y="652"/>
                </a:lnTo>
                <a:lnTo>
                  <a:pt x="1456" y="606"/>
                </a:lnTo>
                <a:lnTo>
                  <a:pt x="1460" y="562"/>
                </a:lnTo>
                <a:lnTo>
                  <a:pt x="1462" y="520"/>
                </a:lnTo>
                <a:lnTo>
                  <a:pt x="1464" y="476"/>
                </a:lnTo>
                <a:lnTo>
                  <a:pt x="1462" y="432"/>
                </a:lnTo>
                <a:lnTo>
                  <a:pt x="1356" y="4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9720" y="20262960"/>
            <a:ext cx="2746440" cy="2292120"/>
          </a:xfrm>
          <a:custGeom>
            <a:avLst/>
            <a:gdLst/>
            <a:ahLst/>
            <a:rect l="l" t="t" r="r" b="b"/>
            <a:pathLst>
              <a:path w="1730" h="1444">
                <a:moveTo>
                  <a:pt x="754" y="0"/>
                </a:moveTo>
                <a:lnTo>
                  <a:pt x="1026" y="0"/>
                </a:lnTo>
                <a:lnTo>
                  <a:pt x="1026" y="98"/>
                </a:lnTo>
                <a:lnTo>
                  <a:pt x="1694" y="98"/>
                </a:lnTo>
                <a:lnTo>
                  <a:pt x="1694" y="296"/>
                </a:lnTo>
                <a:lnTo>
                  <a:pt x="394" y="296"/>
                </a:lnTo>
                <a:lnTo>
                  <a:pt x="394" y="816"/>
                </a:lnTo>
                <a:lnTo>
                  <a:pt x="394" y="816"/>
                </a:lnTo>
                <a:lnTo>
                  <a:pt x="394" y="850"/>
                </a:lnTo>
                <a:lnTo>
                  <a:pt x="390" y="886"/>
                </a:lnTo>
                <a:lnTo>
                  <a:pt x="380" y="968"/>
                </a:lnTo>
                <a:lnTo>
                  <a:pt x="368" y="1050"/>
                </a:lnTo>
                <a:lnTo>
                  <a:pt x="356" y="1122"/>
                </a:lnTo>
                <a:lnTo>
                  <a:pt x="356" y="1122"/>
                </a:lnTo>
                <a:lnTo>
                  <a:pt x="342" y="1178"/>
                </a:lnTo>
                <a:lnTo>
                  <a:pt x="328" y="1232"/>
                </a:lnTo>
                <a:lnTo>
                  <a:pt x="310" y="1278"/>
                </a:lnTo>
                <a:lnTo>
                  <a:pt x="292" y="1322"/>
                </a:lnTo>
                <a:lnTo>
                  <a:pt x="274" y="1360"/>
                </a:lnTo>
                <a:lnTo>
                  <a:pt x="256" y="1392"/>
                </a:lnTo>
                <a:lnTo>
                  <a:pt x="226" y="1442"/>
                </a:lnTo>
                <a:lnTo>
                  <a:pt x="0" y="1276"/>
                </a:lnTo>
                <a:lnTo>
                  <a:pt x="0" y="1276"/>
                </a:lnTo>
                <a:lnTo>
                  <a:pt x="30" y="1218"/>
                </a:lnTo>
                <a:lnTo>
                  <a:pt x="58" y="1160"/>
                </a:lnTo>
                <a:lnTo>
                  <a:pt x="80" y="1102"/>
                </a:lnTo>
                <a:lnTo>
                  <a:pt x="100" y="1042"/>
                </a:lnTo>
                <a:lnTo>
                  <a:pt x="114" y="980"/>
                </a:lnTo>
                <a:lnTo>
                  <a:pt x="126" y="918"/>
                </a:lnTo>
                <a:lnTo>
                  <a:pt x="132" y="856"/>
                </a:lnTo>
                <a:lnTo>
                  <a:pt x="134" y="794"/>
                </a:lnTo>
                <a:lnTo>
                  <a:pt x="134" y="98"/>
                </a:lnTo>
                <a:lnTo>
                  <a:pt x="754" y="98"/>
                </a:lnTo>
                <a:lnTo>
                  <a:pt x="754" y="0"/>
                </a:lnTo>
                <a:close/>
                <a:moveTo>
                  <a:pt x="390" y="1002"/>
                </a:moveTo>
                <a:lnTo>
                  <a:pt x="390" y="1002"/>
                </a:lnTo>
                <a:lnTo>
                  <a:pt x="450" y="1000"/>
                </a:lnTo>
                <a:lnTo>
                  <a:pt x="496" y="998"/>
                </a:lnTo>
                <a:lnTo>
                  <a:pt x="496" y="376"/>
                </a:lnTo>
                <a:lnTo>
                  <a:pt x="496" y="376"/>
                </a:lnTo>
                <a:lnTo>
                  <a:pt x="686" y="372"/>
                </a:lnTo>
                <a:lnTo>
                  <a:pt x="852" y="368"/>
                </a:lnTo>
                <a:lnTo>
                  <a:pt x="1002" y="362"/>
                </a:lnTo>
                <a:lnTo>
                  <a:pt x="1134" y="354"/>
                </a:lnTo>
                <a:lnTo>
                  <a:pt x="1250" y="344"/>
                </a:lnTo>
                <a:lnTo>
                  <a:pt x="1354" y="330"/>
                </a:lnTo>
                <a:lnTo>
                  <a:pt x="1448" y="316"/>
                </a:lnTo>
                <a:lnTo>
                  <a:pt x="1532" y="300"/>
                </a:lnTo>
                <a:lnTo>
                  <a:pt x="1620" y="490"/>
                </a:lnTo>
                <a:lnTo>
                  <a:pt x="1620" y="490"/>
                </a:lnTo>
                <a:lnTo>
                  <a:pt x="1570" y="498"/>
                </a:lnTo>
                <a:lnTo>
                  <a:pt x="1502" y="506"/>
                </a:lnTo>
                <a:lnTo>
                  <a:pt x="1404" y="516"/>
                </a:lnTo>
                <a:lnTo>
                  <a:pt x="1262" y="528"/>
                </a:lnTo>
                <a:lnTo>
                  <a:pt x="1262" y="528"/>
                </a:lnTo>
                <a:lnTo>
                  <a:pt x="1266" y="584"/>
                </a:lnTo>
                <a:lnTo>
                  <a:pt x="1272" y="640"/>
                </a:lnTo>
                <a:lnTo>
                  <a:pt x="1696" y="640"/>
                </a:lnTo>
                <a:lnTo>
                  <a:pt x="1696" y="832"/>
                </a:lnTo>
                <a:lnTo>
                  <a:pt x="1302" y="832"/>
                </a:lnTo>
                <a:lnTo>
                  <a:pt x="1302" y="832"/>
                </a:lnTo>
                <a:lnTo>
                  <a:pt x="1318" y="892"/>
                </a:lnTo>
                <a:lnTo>
                  <a:pt x="1336" y="948"/>
                </a:lnTo>
                <a:lnTo>
                  <a:pt x="1356" y="1002"/>
                </a:lnTo>
                <a:lnTo>
                  <a:pt x="1378" y="1048"/>
                </a:lnTo>
                <a:lnTo>
                  <a:pt x="1400" y="1090"/>
                </a:lnTo>
                <a:lnTo>
                  <a:pt x="1410" y="1106"/>
                </a:lnTo>
                <a:lnTo>
                  <a:pt x="1422" y="1120"/>
                </a:lnTo>
                <a:lnTo>
                  <a:pt x="1432" y="1132"/>
                </a:lnTo>
                <a:lnTo>
                  <a:pt x="1442" y="1140"/>
                </a:lnTo>
                <a:lnTo>
                  <a:pt x="1450" y="1146"/>
                </a:lnTo>
                <a:lnTo>
                  <a:pt x="1458" y="1148"/>
                </a:lnTo>
                <a:lnTo>
                  <a:pt x="1458" y="1148"/>
                </a:lnTo>
                <a:lnTo>
                  <a:pt x="1466" y="1146"/>
                </a:lnTo>
                <a:lnTo>
                  <a:pt x="1472" y="1144"/>
                </a:lnTo>
                <a:lnTo>
                  <a:pt x="1480" y="1138"/>
                </a:lnTo>
                <a:lnTo>
                  <a:pt x="1486" y="1132"/>
                </a:lnTo>
                <a:lnTo>
                  <a:pt x="1500" y="1114"/>
                </a:lnTo>
                <a:lnTo>
                  <a:pt x="1512" y="1090"/>
                </a:lnTo>
                <a:lnTo>
                  <a:pt x="1524" y="1064"/>
                </a:lnTo>
                <a:lnTo>
                  <a:pt x="1534" y="1038"/>
                </a:lnTo>
                <a:lnTo>
                  <a:pt x="1552" y="984"/>
                </a:lnTo>
                <a:lnTo>
                  <a:pt x="1730" y="1138"/>
                </a:lnTo>
                <a:lnTo>
                  <a:pt x="1730" y="1138"/>
                </a:lnTo>
                <a:lnTo>
                  <a:pt x="1722" y="1172"/>
                </a:lnTo>
                <a:lnTo>
                  <a:pt x="1708" y="1216"/>
                </a:lnTo>
                <a:lnTo>
                  <a:pt x="1690" y="1266"/>
                </a:lnTo>
                <a:lnTo>
                  <a:pt x="1678" y="1290"/>
                </a:lnTo>
                <a:lnTo>
                  <a:pt x="1664" y="1316"/>
                </a:lnTo>
                <a:lnTo>
                  <a:pt x="1648" y="1342"/>
                </a:lnTo>
                <a:lnTo>
                  <a:pt x="1632" y="1364"/>
                </a:lnTo>
                <a:lnTo>
                  <a:pt x="1614" y="1386"/>
                </a:lnTo>
                <a:lnTo>
                  <a:pt x="1592" y="1406"/>
                </a:lnTo>
                <a:lnTo>
                  <a:pt x="1570" y="1420"/>
                </a:lnTo>
                <a:lnTo>
                  <a:pt x="1546" y="1432"/>
                </a:lnTo>
                <a:lnTo>
                  <a:pt x="1532" y="1438"/>
                </a:lnTo>
                <a:lnTo>
                  <a:pt x="1518" y="1440"/>
                </a:lnTo>
                <a:lnTo>
                  <a:pt x="1504" y="1442"/>
                </a:lnTo>
                <a:lnTo>
                  <a:pt x="1490" y="1444"/>
                </a:lnTo>
                <a:lnTo>
                  <a:pt x="1490" y="1444"/>
                </a:lnTo>
                <a:lnTo>
                  <a:pt x="1470" y="1442"/>
                </a:lnTo>
                <a:lnTo>
                  <a:pt x="1452" y="1440"/>
                </a:lnTo>
                <a:lnTo>
                  <a:pt x="1432" y="1436"/>
                </a:lnTo>
                <a:lnTo>
                  <a:pt x="1414" y="1430"/>
                </a:lnTo>
                <a:lnTo>
                  <a:pt x="1396" y="1422"/>
                </a:lnTo>
                <a:lnTo>
                  <a:pt x="1378" y="1414"/>
                </a:lnTo>
                <a:lnTo>
                  <a:pt x="1360" y="1404"/>
                </a:lnTo>
                <a:lnTo>
                  <a:pt x="1342" y="1392"/>
                </a:lnTo>
                <a:lnTo>
                  <a:pt x="1308" y="1364"/>
                </a:lnTo>
                <a:lnTo>
                  <a:pt x="1276" y="1332"/>
                </a:lnTo>
                <a:lnTo>
                  <a:pt x="1244" y="1296"/>
                </a:lnTo>
                <a:lnTo>
                  <a:pt x="1214" y="1254"/>
                </a:lnTo>
                <a:lnTo>
                  <a:pt x="1184" y="1210"/>
                </a:lnTo>
                <a:lnTo>
                  <a:pt x="1158" y="1162"/>
                </a:lnTo>
                <a:lnTo>
                  <a:pt x="1132" y="1112"/>
                </a:lnTo>
                <a:lnTo>
                  <a:pt x="1110" y="1060"/>
                </a:lnTo>
                <a:lnTo>
                  <a:pt x="1088" y="1004"/>
                </a:lnTo>
                <a:lnTo>
                  <a:pt x="1070" y="948"/>
                </a:lnTo>
                <a:lnTo>
                  <a:pt x="1054" y="890"/>
                </a:lnTo>
                <a:lnTo>
                  <a:pt x="1040" y="832"/>
                </a:lnTo>
                <a:lnTo>
                  <a:pt x="748" y="832"/>
                </a:lnTo>
                <a:lnTo>
                  <a:pt x="748" y="978"/>
                </a:lnTo>
                <a:lnTo>
                  <a:pt x="748" y="978"/>
                </a:lnTo>
                <a:lnTo>
                  <a:pt x="872" y="966"/>
                </a:lnTo>
                <a:lnTo>
                  <a:pt x="990" y="952"/>
                </a:lnTo>
                <a:lnTo>
                  <a:pt x="994" y="1132"/>
                </a:lnTo>
                <a:lnTo>
                  <a:pt x="994" y="1132"/>
                </a:lnTo>
                <a:lnTo>
                  <a:pt x="922" y="1142"/>
                </a:lnTo>
                <a:lnTo>
                  <a:pt x="850" y="1154"/>
                </a:lnTo>
                <a:lnTo>
                  <a:pt x="708" y="1170"/>
                </a:lnTo>
                <a:lnTo>
                  <a:pt x="564" y="1184"/>
                </a:lnTo>
                <a:lnTo>
                  <a:pt x="420" y="1194"/>
                </a:lnTo>
                <a:lnTo>
                  <a:pt x="390" y="1002"/>
                </a:lnTo>
                <a:close/>
                <a:moveTo>
                  <a:pt x="394" y="1410"/>
                </a:moveTo>
                <a:lnTo>
                  <a:pt x="394" y="1216"/>
                </a:lnTo>
                <a:lnTo>
                  <a:pt x="1164" y="1216"/>
                </a:lnTo>
                <a:lnTo>
                  <a:pt x="1164" y="1410"/>
                </a:lnTo>
                <a:lnTo>
                  <a:pt x="394" y="1410"/>
                </a:lnTo>
                <a:close/>
                <a:moveTo>
                  <a:pt x="748" y="640"/>
                </a:moveTo>
                <a:lnTo>
                  <a:pt x="1014" y="640"/>
                </a:lnTo>
                <a:lnTo>
                  <a:pt x="1014" y="640"/>
                </a:lnTo>
                <a:lnTo>
                  <a:pt x="1006" y="544"/>
                </a:lnTo>
                <a:lnTo>
                  <a:pt x="1006" y="544"/>
                </a:lnTo>
                <a:lnTo>
                  <a:pt x="860" y="550"/>
                </a:lnTo>
                <a:lnTo>
                  <a:pt x="748" y="552"/>
                </a:lnTo>
                <a:lnTo>
                  <a:pt x="748" y="6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0440" y="22752000"/>
            <a:ext cx="2127240" cy="2098800"/>
          </a:xfrm>
          <a:custGeom>
            <a:avLst/>
            <a:gdLst/>
            <a:ahLst/>
            <a:rect l="l" t="t" r="r" b="b"/>
            <a:pathLst>
              <a:path w="1340" h="1322">
                <a:moveTo>
                  <a:pt x="314" y="4"/>
                </a:moveTo>
                <a:lnTo>
                  <a:pt x="314" y="4"/>
                </a:lnTo>
                <a:lnTo>
                  <a:pt x="308" y="106"/>
                </a:lnTo>
                <a:lnTo>
                  <a:pt x="304" y="226"/>
                </a:lnTo>
                <a:lnTo>
                  <a:pt x="296" y="476"/>
                </a:lnTo>
                <a:lnTo>
                  <a:pt x="292" y="688"/>
                </a:lnTo>
                <a:lnTo>
                  <a:pt x="290" y="792"/>
                </a:lnTo>
                <a:lnTo>
                  <a:pt x="290" y="792"/>
                </a:lnTo>
                <a:lnTo>
                  <a:pt x="290" y="828"/>
                </a:lnTo>
                <a:lnTo>
                  <a:pt x="292" y="862"/>
                </a:lnTo>
                <a:lnTo>
                  <a:pt x="296" y="892"/>
                </a:lnTo>
                <a:lnTo>
                  <a:pt x="300" y="922"/>
                </a:lnTo>
                <a:lnTo>
                  <a:pt x="308" y="948"/>
                </a:lnTo>
                <a:lnTo>
                  <a:pt x="316" y="972"/>
                </a:lnTo>
                <a:lnTo>
                  <a:pt x="328" y="994"/>
                </a:lnTo>
                <a:lnTo>
                  <a:pt x="342" y="1014"/>
                </a:lnTo>
                <a:lnTo>
                  <a:pt x="358" y="1030"/>
                </a:lnTo>
                <a:lnTo>
                  <a:pt x="378" y="1046"/>
                </a:lnTo>
                <a:lnTo>
                  <a:pt x="400" y="1058"/>
                </a:lnTo>
                <a:lnTo>
                  <a:pt x="426" y="1070"/>
                </a:lnTo>
                <a:lnTo>
                  <a:pt x="456" y="1078"/>
                </a:lnTo>
                <a:lnTo>
                  <a:pt x="490" y="1084"/>
                </a:lnTo>
                <a:lnTo>
                  <a:pt x="526" y="1086"/>
                </a:lnTo>
                <a:lnTo>
                  <a:pt x="568" y="1088"/>
                </a:lnTo>
                <a:lnTo>
                  <a:pt x="568" y="1088"/>
                </a:lnTo>
                <a:lnTo>
                  <a:pt x="602" y="1088"/>
                </a:lnTo>
                <a:lnTo>
                  <a:pt x="636" y="1084"/>
                </a:lnTo>
                <a:lnTo>
                  <a:pt x="668" y="1082"/>
                </a:lnTo>
                <a:lnTo>
                  <a:pt x="698" y="1076"/>
                </a:lnTo>
                <a:lnTo>
                  <a:pt x="726" y="1070"/>
                </a:lnTo>
                <a:lnTo>
                  <a:pt x="754" y="1062"/>
                </a:lnTo>
                <a:lnTo>
                  <a:pt x="780" y="1052"/>
                </a:lnTo>
                <a:lnTo>
                  <a:pt x="804" y="1042"/>
                </a:lnTo>
                <a:lnTo>
                  <a:pt x="826" y="1032"/>
                </a:lnTo>
                <a:lnTo>
                  <a:pt x="848" y="1020"/>
                </a:lnTo>
                <a:lnTo>
                  <a:pt x="868" y="1006"/>
                </a:lnTo>
                <a:lnTo>
                  <a:pt x="886" y="992"/>
                </a:lnTo>
                <a:lnTo>
                  <a:pt x="904" y="978"/>
                </a:lnTo>
                <a:lnTo>
                  <a:pt x="920" y="962"/>
                </a:lnTo>
                <a:lnTo>
                  <a:pt x="936" y="946"/>
                </a:lnTo>
                <a:lnTo>
                  <a:pt x="950" y="930"/>
                </a:lnTo>
                <a:lnTo>
                  <a:pt x="976" y="894"/>
                </a:lnTo>
                <a:lnTo>
                  <a:pt x="996" y="856"/>
                </a:lnTo>
                <a:lnTo>
                  <a:pt x="1016" y="818"/>
                </a:lnTo>
                <a:lnTo>
                  <a:pt x="1030" y="778"/>
                </a:lnTo>
                <a:lnTo>
                  <a:pt x="1044" y="738"/>
                </a:lnTo>
                <a:lnTo>
                  <a:pt x="1054" y="698"/>
                </a:lnTo>
                <a:lnTo>
                  <a:pt x="1062" y="660"/>
                </a:lnTo>
                <a:lnTo>
                  <a:pt x="1070" y="622"/>
                </a:lnTo>
                <a:lnTo>
                  <a:pt x="1340" y="722"/>
                </a:lnTo>
                <a:lnTo>
                  <a:pt x="1340" y="722"/>
                </a:lnTo>
                <a:lnTo>
                  <a:pt x="1330" y="760"/>
                </a:lnTo>
                <a:lnTo>
                  <a:pt x="1318" y="806"/>
                </a:lnTo>
                <a:lnTo>
                  <a:pt x="1300" y="860"/>
                </a:lnTo>
                <a:lnTo>
                  <a:pt x="1288" y="890"/>
                </a:lnTo>
                <a:lnTo>
                  <a:pt x="1274" y="920"/>
                </a:lnTo>
                <a:lnTo>
                  <a:pt x="1258" y="952"/>
                </a:lnTo>
                <a:lnTo>
                  <a:pt x="1242" y="984"/>
                </a:lnTo>
                <a:lnTo>
                  <a:pt x="1222" y="1016"/>
                </a:lnTo>
                <a:lnTo>
                  <a:pt x="1200" y="1048"/>
                </a:lnTo>
                <a:lnTo>
                  <a:pt x="1174" y="1080"/>
                </a:lnTo>
                <a:lnTo>
                  <a:pt x="1146" y="1110"/>
                </a:lnTo>
                <a:lnTo>
                  <a:pt x="1116" y="1140"/>
                </a:lnTo>
                <a:lnTo>
                  <a:pt x="1082" y="1170"/>
                </a:lnTo>
                <a:lnTo>
                  <a:pt x="1082" y="1170"/>
                </a:lnTo>
                <a:lnTo>
                  <a:pt x="1038" y="1202"/>
                </a:lnTo>
                <a:lnTo>
                  <a:pt x="1016" y="1218"/>
                </a:lnTo>
                <a:lnTo>
                  <a:pt x="992" y="1232"/>
                </a:lnTo>
                <a:lnTo>
                  <a:pt x="966" y="1246"/>
                </a:lnTo>
                <a:lnTo>
                  <a:pt x="940" y="1258"/>
                </a:lnTo>
                <a:lnTo>
                  <a:pt x="910" y="1270"/>
                </a:lnTo>
                <a:lnTo>
                  <a:pt x="882" y="1280"/>
                </a:lnTo>
                <a:lnTo>
                  <a:pt x="850" y="1290"/>
                </a:lnTo>
                <a:lnTo>
                  <a:pt x="816" y="1298"/>
                </a:lnTo>
                <a:lnTo>
                  <a:pt x="780" y="1306"/>
                </a:lnTo>
                <a:lnTo>
                  <a:pt x="744" y="1312"/>
                </a:lnTo>
                <a:lnTo>
                  <a:pt x="704" y="1316"/>
                </a:lnTo>
                <a:lnTo>
                  <a:pt x="662" y="1320"/>
                </a:lnTo>
                <a:lnTo>
                  <a:pt x="616" y="1322"/>
                </a:lnTo>
                <a:lnTo>
                  <a:pt x="570" y="1322"/>
                </a:lnTo>
                <a:lnTo>
                  <a:pt x="570" y="1322"/>
                </a:lnTo>
                <a:lnTo>
                  <a:pt x="520" y="1322"/>
                </a:lnTo>
                <a:lnTo>
                  <a:pt x="476" y="1320"/>
                </a:lnTo>
                <a:lnTo>
                  <a:pt x="432" y="1316"/>
                </a:lnTo>
                <a:lnTo>
                  <a:pt x="392" y="1310"/>
                </a:lnTo>
                <a:lnTo>
                  <a:pt x="354" y="1304"/>
                </a:lnTo>
                <a:lnTo>
                  <a:pt x="320" y="1294"/>
                </a:lnTo>
                <a:lnTo>
                  <a:pt x="286" y="1286"/>
                </a:lnTo>
                <a:lnTo>
                  <a:pt x="256" y="1274"/>
                </a:lnTo>
                <a:lnTo>
                  <a:pt x="228" y="1262"/>
                </a:lnTo>
                <a:lnTo>
                  <a:pt x="202" y="1248"/>
                </a:lnTo>
                <a:lnTo>
                  <a:pt x="178" y="1234"/>
                </a:lnTo>
                <a:lnTo>
                  <a:pt x="156" y="1218"/>
                </a:lnTo>
                <a:lnTo>
                  <a:pt x="136" y="1202"/>
                </a:lnTo>
                <a:lnTo>
                  <a:pt x="118" y="1184"/>
                </a:lnTo>
                <a:lnTo>
                  <a:pt x="100" y="1164"/>
                </a:lnTo>
                <a:lnTo>
                  <a:pt x="86" y="1144"/>
                </a:lnTo>
                <a:lnTo>
                  <a:pt x="72" y="1124"/>
                </a:lnTo>
                <a:lnTo>
                  <a:pt x="60" y="1102"/>
                </a:lnTo>
                <a:lnTo>
                  <a:pt x="50" y="1080"/>
                </a:lnTo>
                <a:lnTo>
                  <a:pt x="40" y="1056"/>
                </a:lnTo>
                <a:lnTo>
                  <a:pt x="32" y="1032"/>
                </a:lnTo>
                <a:lnTo>
                  <a:pt x="26" y="1008"/>
                </a:lnTo>
                <a:lnTo>
                  <a:pt x="14" y="958"/>
                </a:lnTo>
                <a:lnTo>
                  <a:pt x="8" y="904"/>
                </a:lnTo>
                <a:lnTo>
                  <a:pt x="4" y="848"/>
                </a:lnTo>
                <a:lnTo>
                  <a:pt x="0" y="792"/>
                </a:lnTo>
                <a:lnTo>
                  <a:pt x="0" y="736"/>
                </a:lnTo>
                <a:lnTo>
                  <a:pt x="0" y="736"/>
                </a:lnTo>
                <a:lnTo>
                  <a:pt x="4" y="364"/>
                </a:lnTo>
                <a:lnTo>
                  <a:pt x="8" y="0"/>
                </a:lnTo>
                <a:lnTo>
                  <a:pt x="31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5171560"/>
            <a:ext cx="2428920" cy="2098440"/>
          </a:xfrm>
          <a:custGeom>
            <a:avLst/>
            <a:gdLst/>
            <a:ahLst/>
            <a:rect l="l" t="t" r="r" b="b"/>
            <a:pathLst>
              <a:path w="1530" h="1322">
                <a:moveTo>
                  <a:pt x="1458" y="454"/>
                </a:moveTo>
                <a:lnTo>
                  <a:pt x="898" y="454"/>
                </a:lnTo>
                <a:lnTo>
                  <a:pt x="898" y="738"/>
                </a:lnTo>
                <a:lnTo>
                  <a:pt x="898" y="738"/>
                </a:lnTo>
                <a:lnTo>
                  <a:pt x="986" y="764"/>
                </a:lnTo>
                <a:lnTo>
                  <a:pt x="1072" y="798"/>
                </a:lnTo>
                <a:lnTo>
                  <a:pt x="1160" y="834"/>
                </a:lnTo>
                <a:lnTo>
                  <a:pt x="1244" y="872"/>
                </a:lnTo>
                <a:lnTo>
                  <a:pt x="1324" y="914"/>
                </a:lnTo>
                <a:lnTo>
                  <a:pt x="1400" y="956"/>
                </a:lnTo>
                <a:lnTo>
                  <a:pt x="1470" y="998"/>
                </a:lnTo>
                <a:lnTo>
                  <a:pt x="1530" y="1042"/>
                </a:lnTo>
                <a:lnTo>
                  <a:pt x="1332" y="1274"/>
                </a:lnTo>
                <a:lnTo>
                  <a:pt x="1332" y="1274"/>
                </a:lnTo>
                <a:lnTo>
                  <a:pt x="1284" y="1234"/>
                </a:lnTo>
                <a:lnTo>
                  <a:pt x="1232" y="1196"/>
                </a:lnTo>
                <a:lnTo>
                  <a:pt x="1178" y="1158"/>
                </a:lnTo>
                <a:lnTo>
                  <a:pt x="1120" y="1120"/>
                </a:lnTo>
                <a:lnTo>
                  <a:pt x="1062" y="1084"/>
                </a:lnTo>
                <a:lnTo>
                  <a:pt x="1004" y="1052"/>
                </a:lnTo>
                <a:lnTo>
                  <a:pt x="946" y="1020"/>
                </a:lnTo>
                <a:lnTo>
                  <a:pt x="890" y="992"/>
                </a:lnTo>
                <a:lnTo>
                  <a:pt x="890" y="1042"/>
                </a:lnTo>
                <a:lnTo>
                  <a:pt x="890" y="1042"/>
                </a:lnTo>
                <a:lnTo>
                  <a:pt x="888" y="1058"/>
                </a:lnTo>
                <a:lnTo>
                  <a:pt x="886" y="1074"/>
                </a:lnTo>
                <a:lnTo>
                  <a:pt x="878" y="1110"/>
                </a:lnTo>
                <a:lnTo>
                  <a:pt x="872" y="1128"/>
                </a:lnTo>
                <a:lnTo>
                  <a:pt x="864" y="1148"/>
                </a:lnTo>
                <a:lnTo>
                  <a:pt x="856" y="1164"/>
                </a:lnTo>
                <a:lnTo>
                  <a:pt x="846" y="1180"/>
                </a:lnTo>
                <a:lnTo>
                  <a:pt x="846" y="1180"/>
                </a:lnTo>
                <a:lnTo>
                  <a:pt x="830" y="1200"/>
                </a:lnTo>
                <a:lnTo>
                  <a:pt x="814" y="1218"/>
                </a:lnTo>
                <a:lnTo>
                  <a:pt x="798" y="1234"/>
                </a:lnTo>
                <a:lnTo>
                  <a:pt x="778" y="1248"/>
                </a:lnTo>
                <a:lnTo>
                  <a:pt x="758" y="1260"/>
                </a:lnTo>
                <a:lnTo>
                  <a:pt x="738" y="1272"/>
                </a:lnTo>
                <a:lnTo>
                  <a:pt x="714" y="1282"/>
                </a:lnTo>
                <a:lnTo>
                  <a:pt x="690" y="1290"/>
                </a:lnTo>
                <a:lnTo>
                  <a:pt x="666" y="1298"/>
                </a:lnTo>
                <a:lnTo>
                  <a:pt x="640" y="1304"/>
                </a:lnTo>
                <a:lnTo>
                  <a:pt x="614" y="1310"/>
                </a:lnTo>
                <a:lnTo>
                  <a:pt x="586" y="1314"/>
                </a:lnTo>
                <a:lnTo>
                  <a:pt x="530" y="1320"/>
                </a:lnTo>
                <a:lnTo>
                  <a:pt x="472" y="1322"/>
                </a:lnTo>
                <a:lnTo>
                  <a:pt x="472" y="1322"/>
                </a:lnTo>
                <a:lnTo>
                  <a:pt x="434" y="1320"/>
                </a:lnTo>
                <a:lnTo>
                  <a:pt x="400" y="1320"/>
                </a:lnTo>
                <a:lnTo>
                  <a:pt x="366" y="1316"/>
                </a:lnTo>
                <a:lnTo>
                  <a:pt x="336" y="1312"/>
                </a:lnTo>
                <a:lnTo>
                  <a:pt x="306" y="1308"/>
                </a:lnTo>
                <a:lnTo>
                  <a:pt x="278" y="1302"/>
                </a:lnTo>
                <a:lnTo>
                  <a:pt x="252" y="1296"/>
                </a:lnTo>
                <a:lnTo>
                  <a:pt x="228" y="1288"/>
                </a:lnTo>
                <a:lnTo>
                  <a:pt x="206" y="1280"/>
                </a:lnTo>
                <a:lnTo>
                  <a:pt x="184" y="1270"/>
                </a:lnTo>
                <a:lnTo>
                  <a:pt x="146" y="1250"/>
                </a:lnTo>
                <a:lnTo>
                  <a:pt x="112" y="1228"/>
                </a:lnTo>
                <a:lnTo>
                  <a:pt x="86" y="1204"/>
                </a:lnTo>
                <a:lnTo>
                  <a:pt x="62" y="1180"/>
                </a:lnTo>
                <a:lnTo>
                  <a:pt x="44" y="1154"/>
                </a:lnTo>
                <a:lnTo>
                  <a:pt x="28" y="1128"/>
                </a:lnTo>
                <a:lnTo>
                  <a:pt x="18" y="1104"/>
                </a:lnTo>
                <a:lnTo>
                  <a:pt x="10" y="1078"/>
                </a:lnTo>
                <a:lnTo>
                  <a:pt x="4" y="1054"/>
                </a:lnTo>
                <a:lnTo>
                  <a:pt x="2" y="1032"/>
                </a:lnTo>
                <a:lnTo>
                  <a:pt x="0" y="1012"/>
                </a:lnTo>
                <a:lnTo>
                  <a:pt x="0" y="1012"/>
                </a:lnTo>
                <a:lnTo>
                  <a:pt x="0" y="992"/>
                </a:lnTo>
                <a:lnTo>
                  <a:pt x="2" y="974"/>
                </a:lnTo>
                <a:lnTo>
                  <a:pt x="6" y="956"/>
                </a:lnTo>
                <a:lnTo>
                  <a:pt x="10" y="938"/>
                </a:lnTo>
                <a:lnTo>
                  <a:pt x="16" y="922"/>
                </a:lnTo>
                <a:lnTo>
                  <a:pt x="24" y="904"/>
                </a:lnTo>
                <a:lnTo>
                  <a:pt x="32" y="888"/>
                </a:lnTo>
                <a:lnTo>
                  <a:pt x="42" y="874"/>
                </a:lnTo>
                <a:lnTo>
                  <a:pt x="64" y="844"/>
                </a:lnTo>
                <a:lnTo>
                  <a:pt x="90" y="818"/>
                </a:lnTo>
                <a:lnTo>
                  <a:pt x="120" y="794"/>
                </a:lnTo>
                <a:lnTo>
                  <a:pt x="152" y="772"/>
                </a:lnTo>
                <a:lnTo>
                  <a:pt x="190" y="752"/>
                </a:lnTo>
                <a:lnTo>
                  <a:pt x="230" y="734"/>
                </a:lnTo>
                <a:lnTo>
                  <a:pt x="272" y="720"/>
                </a:lnTo>
                <a:lnTo>
                  <a:pt x="318" y="708"/>
                </a:lnTo>
                <a:lnTo>
                  <a:pt x="366" y="698"/>
                </a:lnTo>
                <a:lnTo>
                  <a:pt x="416" y="692"/>
                </a:lnTo>
                <a:lnTo>
                  <a:pt x="466" y="688"/>
                </a:lnTo>
                <a:lnTo>
                  <a:pt x="520" y="686"/>
                </a:lnTo>
                <a:lnTo>
                  <a:pt x="520" y="686"/>
                </a:lnTo>
                <a:lnTo>
                  <a:pt x="568" y="686"/>
                </a:lnTo>
                <a:lnTo>
                  <a:pt x="604" y="690"/>
                </a:lnTo>
                <a:lnTo>
                  <a:pt x="604" y="0"/>
                </a:lnTo>
                <a:lnTo>
                  <a:pt x="898" y="0"/>
                </a:lnTo>
                <a:lnTo>
                  <a:pt x="898" y="214"/>
                </a:lnTo>
                <a:lnTo>
                  <a:pt x="1458" y="214"/>
                </a:lnTo>
                <a:lnTo>
                  <a:pt x="1458" y="454"/>
                </a:lnTo>
                <a:close/>
                <a:moveTo>
                  <a:pt x="610" y="908"/>
                </a:moveTo>
                <a:lnTo>
                  <a:pt x="610" y="908"/>
                </a:lnTo>
                <a:lnTo>
                  <a:pt x="584" y="902"/>
                </a:lnTo>
                <a:lnTo>
                  <a:pt x="556" y="898"/>
                </a:lnTo>
                <a:lnTo>
                  <a:pt x="524" y="894"/>
                </a:lnTo>
                <a:lnTo>
                  <a:pt x="486" y="894"/>
                </a:lnTo>
                <a:lnTo>
                  <a:pt x="486" y="894"/>
                </a:lnTo>
                <a:lnTo>
                  <a:pt x="450" y="894"/>
                </a:lnTo>
                <a:lnTo>
                  <a:pt x="414" y="898"/>
                </a:lnTo>
                <a:lnTo>
                  <a:pt x="378" y="906"/>
                </a:lnTo>
                <a:lnTo>
                  <a:pt x="362" y="912"/>
                </a:lnTo>
                <a:lnTo>
                  <a:pt x="346" y="918"/>
                </a:lnTo>
                <a:lnTo>
                  <a:pt x="330" y="924"/>
                </a:lnTo>
                <a:lnTo>
                  <a:pt x="318" y="934"/>
                </a:lnTo>
                <a:lnTo>
                  <a:pt x="306" y="942"/>
                </a:lnTo>
                <a:lnTo>
                  <a:pt x="294" y="952"/>
                </a:lnTo>
                <a:lnTo>
                  <a:pt x="286" y="964"/>
                </a:lnTo>
                <a:lnTo>
                  <a:pt x="280" y="976"/>
                </a:lnTo>
                <a:lnTo>
                  <a:pt x="276" y="990"/>
                </a:lnTo>
                <a:lnTo>
                  <a:pt x="274" y="1006"/>
                </a:lnTo>
                <a:lnTo>
                  <a:pt x="274" y="1006"/>
                </a:lnTo>
                <a:lnTo>
                  <a:pt x="276" y="1022"/>
                </a:lnTo>
                <a:lnTo>
                  <a:pt x="282" y="1038"/>
                </a:lnTo>
                <a:lnTo>
                  <a:pt x="288" y="1050"/>
                </a:lnTo>
                <a:lnTo>
                  <a:pt x="298" y="1062"/>
                </a:lnTo>
                <a:lnTo>
                  <a:pt x="310" y="1072"/>
                </a:lnTo>
                <a:lnTo>
                  <a:pt x="322" y="1080"/>
                </a:lnTo>
                <a:lnTo>
                  <a:pt x="336" y="1086"/>
                </a:lnTo>
                <a:lnTo>
                  <a:pt x="352" y="1092"/>
                </a:lnTo>
                <a:lnTo>
                  <a:pt x="382" y="1098"/>
                </a:lnTo>
                <a:lnTo>
                  <a:pt x="408" y="1102"/>
                </a:lnTo>
                <a:lnTo>
                  <a:pt x="432" y="1104"/>
                </a:lnTo>
                <a:lnTo>
                  <a:pt x="444" y="1104"/>
                </a:lnTo>
                <a:lnTo>
                  <a:pt x="444" y="1104"/>
                </a:lnTo>
                <a:lnTo>
                  <a:pt x="486" y="1102"/>
                </a:lnTo>
                <a:lnTo>
                  <a:pt x="522" y="1096"/>
                </a:lnTo>
                <a:lnTo>
                  <a:pt x="536" y="1092"/>
                </a:lnTo>
                <a:lnTo>
                  <a:pt x="550" y="1088"/>
                </a:lnTo>
                <a:lnTo>
                  <a:pt x="562" y="1082"/>
                </a:lnTo>
                <a:lnTo>
                  <a:pt x="572" y="1076"/>
                </a:lnTo>
                <a:lnTo>
                  <a:pt x="582" y="1070"/>
                </a:lnTo>
                <a:lnTo>
                  <a:pt x="590" y="1062"/>
                </a:lnTo>
                <a:lnTo>
                  <a:pt x="596" y="1052"/>
                </a:lnTo>
                <a:lnTo>
                  <a:pt x="600" y="1042"/>
                </a:lnTo>
                <a:lnTo>
                  <a:pt x="604" y="1032"/>
                </a:lnTo>
                <a:lnTo>
                  <a:pt x="608" y="1022"/>
                </a:lnTo>
                <a:lnTo>
                  <a:pt x="610" y="996"/>
                </a:lnTo>
                <a:lnTo>
                  <a:pt x="610" y="9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51240" y="27530280"/>
            <a:ext cx="1977840" cy="2165400"/>
          </a:xfrm>
          <a:custGeom>
            <a:avLst/>
            <a:gdLst/>
            <a:ahLst/>
            <a:rect l="l" t="t" r="r" b="b"/>
            <a:pathLst>
              <a:path w="1246" h="1364">
                <a:moveTo>
                  <a:pt x="170" y="1140"/>
                </a:moveTo>
                <a:lnTo>
                  <a:pt x="170" y="1140"/>
                </a:lnTo>
                <a:lnTo>
                  <a:pt x="318" y="1134"/>
                </a:lnTo>
                <a:lnTo>
                  <a:pt x="392" y="1128"/>
                </a:lnTo>
                <a:lnTo>
                  <a:pt x="462" y="1122"/>
                </a:lnTo>
                <a:lnTo>
                  <a:pt x="530" y="1114"/>
                </a:lnTo>
                <a:lnTo>
                  <a:pt x="594" y="1104"/>
                </a:lnTo>
                <a:lnTo>
                  <a:pt x="654" y="1090"/>
                </a:lnTo>
                <a:lnTo>
                  <a:pt x="710" y="1074"/>
                </a:lnTo>
                <a:lnTo>
                  <a:pt x="736" y="1064"/>
                </a:lnTo>
                <a:lnTo>
                  <a:pt x="762" y="1054"/>
                </a:lnTo>
                <a:lnTo>
                  <a:pt x="786" y="1042"/>
                </a:lnTo>
                <a:lnTo>
                  <a:pt x="808" y="1030"/>
                </a:lnTo>
                <a:lnTo>
                  <a:pt x="828" y="1016"/>
                </a:lnTo>
                <a:lnTo>
                  <a:pt x="848" y="1002"/>
                </a:lnTo>
                <a:lnTo>
                  <a:pt x="866" y="986"/>
                </a:lnTo>
                <a:lnTo>
                  <a:pt x="882" y="968"/>
                </a:lnTo>
                <a:lnTo>
                  <a:pt x="896" y="950"/>
                </a:lnTo>
                <a:lnTo>
                  <a:pt x="910" y="932"/>
                </a:lnTo>
                <a:lnTo>
                  <a:pt x="920" y="910"/>
                </a:lnTo>
                <a:lnTo>
                  <a:pt x="930" y="888"/>
                </a:lnTo>
                <a:lnTo>
                  <a:pt x="938" y="864"/>
                </a:lnTo>
                <a:lnTo>
                  <a:pt x="942" y="840"/>
                </a:lnTo>
                <a:lnTo>
                  <a:pt x="946" y="812"/>
                </a:lnTo>
                <a:lnTo>
                  <a:pt x="946" y="784"/>
                </a:lnTo>
                <a:lnTo>
                  <a:pt x="946" y="784"/>
                </a:lnTo>
                <a:lnTo>
                  <a:pt x="946" y="756"/>
                </a:lnTo>
                <a:lnTo>
                  <a:pt x="942" y="732"/>
                </a:lnTo>
                <a:lnTo>
                  <a:pt x="936" y="710"/>
                </a:lnTo>
                <a:lnTo>
                  <a:pt x="928" y="690"/>
                </a:lnTo>
                <a:lnTo>
                  <a:pt x="918" y="674"/>
                </a:lnTo>
                <a:lnTo>
                  <a:pt x="908" y="658"/>
                </a:lnTo>
                <a:lnTo>
                  <a:pt x="894" y="646"/>
                </a:lnTo>
                <a:lnTo>
                  <a:pt x="880" y="636"/>
                </a:lnTo>
                <a:lnTo>
                  <a:pt x="864" y="628"/>
                </a:lnTo>
                <a:lnTo>
                  <a:pt x="848" y="622"/>
                </a:lnTo>
                <a:lnTo>
                  <a:pt x="830" y="616"/>
                </a:lnTo>
                <a:lnTo>
                  <a:pt x="812" y="612"/>
                </a:lnTo>
                <a:lnTo>
                  <a:pt x="772" y="608"/>
                </a:lnTo>
                <a:lnTo>
                  <a:pt x="732" y="608"/>
                </a:lnTo>
                <a:lnTo>
                  <a:pt x="732" y="608"/>
                </a:lnTo>
                <a:lnTo>
                  <a:pt x="672" y="610"/>
                </a:lnTo>
                <a:lnTo>
                  <a:pt x="592" y="618"/>
                </a:lnTo>
                <a:lnTo>
                  <a:pt x="498" y="628"/>
                </a:lnTo>
                <a:lnTo>
                  <a:pt x="398" y="642"/>
                </a:lnTo>
                <a:lnTo>
                  <a:pt x="200" y="670"/>
                </a:lnTo>
                <a:lnTo>
                  <a:pt x="48" y="694"/>
                </a:lnTo>
                <a:lnTo>
                  <a:pt x="0" y="444"/>
                </a:lnTo>
                <a:lnTo>
                  <a:pt x="0" y="444"/>
                </a:lnTo>
                <a:lnTo>
                  <a:pt x="104" y="438"/>
                </a:lnTo>
                <a:lnTo>
                  <a:pt x="294" y="420"/>
                </a:lnTo>
                <a:lnTo>
                  <a:pt x="294" y="420"/>
                </a:lnTo>
                <a:lnTo>
                  <a:pt x="406" y="410"/>
                </a:lnTo>
                <a:lnTo>
                  <a:pt x="530" y="398"/>
                </a:lnTo>
                <a:lnTo>
                  <a:pt x="654" y="392"/>
                </a:lnTo>
                <a:lnTo>
                  <a:pt x="712" y="388"/>
                </a:lnTo>
                <a:lnTo>
                  <a:pt x="762" y="388"/>
                </a:lnTo>
                <a:lnTo>
                  <a:pt x="762" y="388"/>
                </a:lnTo>
                <a:lnTo>
                  <a:pt x="812" y="388"/>
                </a:lnTo>
                <a:lnTo>
                  <a:pt x="862" y="392"/>
                </a:lnTo>
                <a:lnTo>
                  <a:pt x="914" y="396"/>
                </a:lnTo>
                <a:lnTo>
                  <a:pt x="966" y="406"/>
                </a:lnTo>
                <a:lnTo>
                  <a:pt x="990" y="412"/>
                </a:lnTo>
                <a:lnTo>
                  <a:pt x="1016" y="420"/>
                </a:lnTo>
                <a:lnTo>
                  <a:pt x="1040" y="430"/>
                </a:lnTo>
                <a:lnTo>
                  <a:pt x="1064" y="440"/>
                </a:lnTo>
                <a:lnTo>
                  <a:pt x="1086" y="454"/>
                </a:lnTo>
                <a:lnTo>
                  <a:pt x="1108" y="468"/>
                </a:lnTo>
                <a:lnTo>
                  <a:pt x="1130" y="484"/>
                </a:lnTo>
                <a:lnTo>
                  <a:pt x="1148" y="504"/>
                </a:lnTo>
                <a:lnTo>
                  <a:pt x="1148" y="504"/>
                </a:lnTo>
                <a:lnTo>
                  <a:pt x="1166" y="522"/>
                </a:lnTo>
                <a:lnTo>
                  <a:pt x="1180" y="542"/>
                </a:lnTo>
                <a:lnTo>
                  <a:pt x="1192" y="562"/>
                </a:lnTo>
                <a:lnTo>
                  <a:pt x="1204" y="582"/>
                </a:lnTo>
                <a:lnTo>
                  <a:pt x="1212" y="604"/>
                </a:lnTo>
                <a:lnTo>
                  <a:pt x="1220" y="624"/>
                </a:lnTo>
                <a:lnTo>
                  <a:pt x="1232" y="664"/>
                </a:lnTo>
                <a:lnTo>
                  <a:pt x="1240" y="702"/>
                </a:lnTo>
                <a:lnTo>
                  <a:pt x="1244" y="734"/>
                </a:lnTo>
                <a:lnTo>
                  <a:pt x="1246" y="760"/>
                </a:lnTo>
                <a:lnTo>
                  <a:pt x="1246" y="778"/>
                </a:lnTo>
                <a:lnTo>
                  <a:pt x="1246" y="778"/>
                </a:lnTo>
                <a:lnTo>
                  <a:pt x="1246" y="808"/>
                </a:lnTo>
                <a:lnTo>
                  <a:pt x="1244" y="836"/>
                </a:lnTo>
                <a:lnTo>
                  <a:pt x="1240" y="864"/>
                </a:lnTo>
                <a:lnTo>
                  <a:pt x="1236" y="890"/>
                </a:lnTo>
                <a:lnTo>
                  <a:pt x="1232" y="916"/>
                </a:lnTo>
                <a:lnTo>
                  <a:pt x="1226" y="938"/>
                </a:lnTo>
                <a:lnTo>
                  <a:pt x="1218" y="962"/>
                </a:lnTo>
                <a:lnTo>
                  <a:pt x="1210" y="984"/>
                </a:lnTo>
                <a:lnTo>
                  <a:pt x="1192" y="1024"/>
                </a:lnTo>
                <a:lnTo>
                  <a:pt x="1170" y="1062"/>
                </a:lnTo>
                <a:lnTo>
                  <a:pt x="1146" y="1094"/>
                </a:lnTo>
                <a:lnTo>
                  <a:pt x="1120" y="1124"/>
                </a:lnTo>
                <a:lnTo>
                  <a:pt x="1090" y="1152"/>
                </a:lnTo>
                <a:lnTo>
                  <a:pt x="1060" y="1176"/>
                </a:lnTo>
                <a:lnTo>
                  <a:pt x="1026" y="1198"/>
                </a:lnTo>
                <a:lnTo>
                  <a:pt x="994" y="1216"/>
                </a:lnTo>
                <a:lnTo>
                  <a:pt x="960" y="1234"/>
                </a:lnTo>
                <a:lnTo>
                  <a:pt x="926" y="1250"/>
                </a:lnTo>
                <a:lnTo>
                  <a:pt x="890" y="1264"/>
                </a:lnTo>
                <a:lnTo>
                  <a:pt x="856" y="1276"/>
                </a:lnTo>
                <a:lnTo>
                  <a:pt x="856" y="1276"/>
                </a:lnTo>
                <a:lnTo>
                  <a:pt x="784" y="1298"/>
                </a:lnTo>
                <a:lnTo>
                  <a:pt x="712" y="1316"/>
                </a:lnTo>
                <a:lnTo>
                  <a:pt x="636" y="1332"/>
                </a:lnTo>
                <a:lnTo>
                  <a:pt x="562" y="1344"/>
                </a:lnTo>
                <a:lnTo>
                  <a:pt x="486" y="1352"/>
                </a:lnTo>
                <a:lnTo>
                  <a:pt x="408" y="1358"/>
                </a:lnTo>
                <a:lnTo>
                  <a:pt x="332" y="1362"/>
                </a:lnTo>
                <a:lnTo>
                  <a:pt x="254" y="1364"/>
                </a:lnTo>
                <a:lnTo>
                  <a:pt x="170" y="1140"/>
                </a:lnTo>
                <a:close/>
                <a:moveTo>
                  <a:pt x="1052" y="334"/>
                </a:moveTo>
                <a:lnTo>
                  <a:pt x="1052" y="334"/>
                </a:lnTo>
                <a:lnTo>
                  <a:pt x="986" y="318"/>
                </a:lnTo>
                <a:lnTo>
                  <a:pt x="898" y="298"/>
                </a:lnTo>
                <a:lnTo>
                  <a:pt x="842" y="288"/>
                </a:lnTo>
                <a:lnTo>
                  <a:pt x="780" y="278"/>
                </a:lnTo>
                <a:lnTo>
                  <a:pt x="706" y="268"/>
                </a:lnTo>
                <a:lnTo>
                  <a:pt x="620" y="256"/>
                </a:lnTo>
                <a:lnTo>
                  <a:pt x="620" y="256"/>
                </a:lnTo>
                <a:lnTo>
                  <a:pt x="472" y="240"/>
                </a:lnTo>
                <a:lnTo>
                  <a:pt x="354" y="230"/>
                </a:lnTo>
                <a:lnTo>
                  <a:pt x="260" y="224"/>
                </a:lnTo>
                <a:lnTo>
                  <a:pt x="192" y="220"/>
                </a:lnTo>
                <a:lnTo>
                  <a:pt x="232" y="0"/>
                </a:lnTo>
                <a:lnTo>
                  <a:pt x="232" y="0"/>
                </a:lnTo>
                <a:lnTo>
                  <a:pt x="342" y="6"/>
                </a:lnTo>
                <a:lnTo>
                  <a:pt x="452" y="12"/>
                </a:lnTo>
                <a:lnTo>
                  <a:pt x="562" y="22"/>
                </a:lnTo>
                <a:lnTo>
                  <a:pt x="672" y="34"/>
                </a:lnTo>
                <a:lnTo>
                  <a:pt x="780" y="46"/>
                </a:lnTo>
                <a:lnTo>
                  <a:pt x="890" y="62"/>
                </a:lnTo>
                <a:lnTo>
                  <a:pt x="998" y="80"/>
                </a:lnTo>
                <a:lnTo>
                  <a:pt x="1104" y="102"/>
                </a:lnTo>
                <a:lnTo>
                  <a:pt x="1052" y="3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29943360"/>
            <a:ext cx="2022480" cy="1714680"/>
          </a:xfrm>
          <a:custGeom>
            <a:avLst/>
            <a:gdLst/>
            <a:ahLst/>
            <a:rect l="l" t="t" r="r" b="b"/>
            <a:pathLst>
              <a:path w="1274" h="1080">
                <a:moveTo>
                  <a:pt x="534" y="864"/>
                </a:moveTo>
                <a:lnTo>
                  <a:pt x="352" y="1080"/>
                </a:lnTo>
                <a:lnTo>
                  <a:pt x="0" y="1080"/>
                </a:lnTo>
                <a:lnTo>
                  <a:pt x="182" y="864"/>
                </a:lnTo>
                <a:lnTo>
                  <a:pt x="534" y="864"/>
                </a:lnTo>
                <a:close/>
                <a:moveTo>
                  <a:pt x="1274" y="0"/>
                </a:moveTo>
                <a:lnTo>
                  <a:pt x="582" y="762"/>
                </a:lnTo>
                <a:lnTo>
                  <a:pt x="300" y="762"/>
                </a:lnTo>
                <a:lnTo>
                  <a:pt x="896" y="0"/>
                </a:lnTo>
                <a:lnTo>
                  <a:pt x="12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9240" y="1847880"/>
            <a:ext cx="2619360" cy="2577960"/>
          </a:xfrm>
          <a:custGeom>
            <a:avLst/>
            <a:gdLst/>
            <a:ahLst/>
            <a:rect l="l" t="t" r="r" b="b"/>
            <a:pathLst>
              <a:path w="1650" h="1624">
                <a:moveTo>
                  <a:pt x="274" y="0"/>
                </a:moveTo>
                <a:lnTo>
                  <a:pt x="526" y="0"/>
                </a:lnTo>
                <a:lnTo>
                  <a:pt x="526" y="94"/>
                </a:lnTo>
                <a:lnTo>
                  <a:pt x="762" y="94"/>
                </a:lnTo>
                <a:lnTo>
                  <a:pt x="762" y="322"/>
                </a:lnTo>
                <a:lnTo>
                  <a:pt x="526" y="322"/>
                </a:lnTo>
                <a:lnTo>
                  <a:pt x="526" y="418"/>
                </a:lnTo>
                <a:lnTo>
                  <a:pt x="804" y="418"/>
                </a:lnTo>
                <a:lnTo>
                  <a:pt x="804" y="638"/>
                </a:lnTo>
                <a:lnTo>
                  <a:pt x="738" y="638"/>
                </a:lnTo>
                <a:lnTo>
                  <a:pt x="738" y="638"/>
                </a:lnTo>
                <a:lnTo>
                  <a:pt x="704" y="792"/>
                </a:lnTo>
                <a:lnTo>
                  <a:pt x="798" y="792"/>
                </a:lnTo>
                <a:lnTo>
                  <a:pt x="798" y="1022"/>
                </a:lnTo>
                <a:lnTo>
                  <a:pt x="526" y="1022"/>
                </a:lnTo>
                <a:lnTo>
                  <a:pt x="526" y="1130"/>
                </a:lnTo>
                <a:lnTo>
                  <a:pt x="772" y="1130"/>
                </a:lnTo>
                <a:lnTo>
                  <a:pt x="772" y="1364"/>
                </a:lnTo>
                <a:lnTo>
                  <a:pt x="526" y="1364"/>
                </a:lnTo>
                <a:lnTo>
                  <a:pt x="526" y="1612"/>
                </a:lnTo>
                <a:lnTo>
                  <a:pt x="274" y="1612"/>
                </a:lnTo>
                <a:lnTo>
                  <a:pt x="274" y="1364"/>
                </a:lnTo>
                <a:lnTo>
                  <a:pt x="42" y="1364"/>
                </a:lnTo>
                <a:lnTo>
                  <a:pt x="42" y="1130"/>
                </a:lnTo>
                <a:lnTo>
                  <a:pt x="274" y="1130"/>
                </a:lnTo>
                <a:lnTo>
                  <a:pt x="274" y="1022"/>
                </a:lnTo>
                <a:lnTo>
                  <a:pt x="8" y="1022"/>
                </a:lnTo>
                <a:lnTo>
                  <a:pt x="8" y="792"/>
                </a:lnTo>
                <a:lnTo>
                  <a:pt x="120" y="792"/>
                </a:lnTo>
                <a:lnTo>
                  <a:pt x="120" y="792"/>
                </a:lnTo>
                <a:lnTo>
                  <a:pt x="114" y="754"/>
                </a:lnTo>
                <a:lnTo>
                  <a:pt x="106" y="712"/>
                </a:lnTo>
                <a:lnTo>
                  <a:pt x="88" y="638"/>
                </a:lnTo>
                <a:lnTo>
                  <a:pt x="0" y="638"/>
                </a:lnTo>
                <a:lnTo>
                  <a:pt x="0" y="418"/>
                </a:lnTo>
                <a:lnTo>
                  <a:pt x="274" y="418"/>
                </a:lnTo>
                <a:lnTo>
                  <a:pt x="274" y="322"/>
                </a:lnTo>
                <a:lnTo>
                  <a:pt x="42" y="322"/>
                </a:lnTo>
                <a:lnTo>
                  <a:pt x="42" y="94"/>
                </a:lnTo>
                <a:lnTo>
                  <a:pt x="274" y="94"/>
                </a:lnTo>
                <a:lnTo>
                  <a:pt x="274" y="0"/>
                </a:lnTo>
                <a:close/>
                <a:moveTo>
                  <a:pt x="312" y="638"/>
                </a:moveTo>
                <a:lnTo>
                  <a:pt x="312" y="638"/>
                </a:lnTo>
                <a:lnTo>
                  <a:pt x="342" y="792"/>
                </a:lnTo>
                <a:lnTo>
                  <a:pt x="478" y="792"/>
                </a:lnTo>
                <a:lnTo>
                  <a:pt x="478" y="792"/>
                </a:lnTo>
                <a:lnTo>
                  <a:pt x="486" y="738"/>
                </a:lnTo>
                <a:lnTo>
                  <a:pt x="494" y="696"/>
                </a:lnTo>
                <a:lnTo>
                  <a:pt x="498" y="662"/>
                </a:lnTo>
                <a:lnTo>
                  <a:pt x="500" y="638"/>
                </a:lnTo>
                <a:lnTo>
                  <a:pt x="312" y="638"/>
                </a:lnTo>
                <a:close/>
                <a:moveTo>
                  <a:pt x="1070" y="1458"/>
                </a:moveTo>
                <a:lnTo>
                  <a:pt x="1070" y="1612"/>
                </a:lnTo>
                <a:lnTo>
                  <a:pt x="832" y="1612"/>
                </a:lnTo>
                <a:lnTo>
                  <a:pt x="832" y="42"/>
                </a:lnTo>
                <a:lnTo>
                  <a:pt x="1588" y="42"/>
                </a:lnTo>
                <a:lnTo>
                  <a:pt x="1588" y="42"/>
                </a:lnTo>
                <a:lnTo>
                  <a:pt x="1588" y="94"/>
                </a:lnTo>
                <a:lnTo>
                  <a:pt x="1586" y="156"/>
                </a:lnTo>
                <a:lnTo>
                  <a:pt x="1582" y="226"/>
                </a:lnTo>
                <a:lnTo>
                  <a:pt x="1578" y="298"/>
                </a:lnTo>
                <a:lnTo>
                  <a:pt x="1572" y="366"/>
                </a:lnTo>
                <a:lnTo>
                  <a:pt x="1566" y="428"/>
                </a:lnTo>
                <a:lnTo>
                  <a:pt x="1558" y="478"/>
                </a:lnTo>
                <a:lnTo>
                  <a:pt x="1554" y="496"/>
                </a:lnTo>
                <a:lnTo>
                  <a:pt x="1550" y="512"/>
                </a:lnTo>
                <a:lnTo>
                  <a:pt x="1550" y="512"/>
                </a:lnTo>
                <a:lnTo>
                  <a:pt x="1540" y="536"/>
                </a:lnTo>
                <a:lnTo>
                  <a:pt x="1526" y="556"/>
                </a:lnTo>
                <a:lnTo>
                  <a:pt x="1512" y="574"/>
                </a:lnTo>
                <a:lnTo>
                  <a:pt x="1494" y="588"/>
                </a:lnTo>
                <a:lnTo>
                  <a:pt x="1474" y="600"/>
                </a:lnTo>
                <a:lnTo>
                  <a:pt x="1452" y="608"/>
                </a:lnTo>
                <a:lnTo>
                  <a:pt x="1428" y="612"/>
                </a:lnTo>
                <a:lnTo>
                  <a:pt x="1402" y="614"/>
                </a:lnTo>
                <a:lnTo>
                  <a:pt x="1172" y="614"/>
                </a:lnTo>
                <a:lnTo>
                  <a:pt x="1132" y="406"/>
                </a:lnTo>
                <a:lnTo>
                  <a:pt x="1272" y="406"/>
                </a:lnTo>
                <a:lnTo>
                  <a:pt x="1272" y="406"/>
                </a:lnTo>
                <a:lnTo>
                  <a:pt x="1290" y="406"/>
                </a:lnTo>
                <a:lnTo>
                  <a:pt x="1304" y="402"/>
                </a:lnTo>
                <a:lnTo>
                  <a:pt x="1310" y="400"/>
                </a:lnTo>
                <a:lnTo>
                  <a:pt x="1314" y="396"/>
                </a:lnTo>
                <a:lnTo>
                  <a:pt x="1318" y="392"/>
                </a:lnTo>
                <a:lnTo>
                  <a:pt x="1322" y="386"/>
                </a:lnTo>
                <a:lnTo>
                  <a:pt x="1326" y="368"/>
                </a:lnTo>
                <a:lnTo>
                  <a:pt x="1330" y="346"/>
                </a:lnTo>
                <a:lnTo>
                  <a:pt x="1334" y="278"/>
                </a:lnTo>
                <a:lnTo>
                  <a:pt x="1070" y="278"/>
                </a:lnTo>
                <a:lnTo>
                  <a:pt x="1070" y="672"/>
                </a:lnTo>
                <a:lnTo>
                  <a:pt x="1598" y="672"/>
                </a:lnTo>
                <a:lnTo>
                  <a:pt x="1598" y="672"/>
                </a:lnTo>
                <a:lnTo>
                  <a:pt x="1588" y="782"/>
                </a:lnTo>
                <a:lnTo>
                  <a:pt x="1576" y="878"/>
                </a:lnTo>
                <a:lnTo>
                  <a:pt x="1564" y="960"/>
                </a:lnTo>
                <a:lnTo>
                  <a:pt x="1550" y="1028"/>
                </a:lnTo>
                <a:lnTo>
                  <a:pt x="1538" y="1084"/>
                </a:lnTo>
                <a:lnTo>
                  <a:pt x="1526" y="1130"/>
                </a:lnTo>
                <a:lnTo>
                  <a:pt x="1516" y="1164"/>
                </a:lnTo>
                <a:lnTo>
                  <a:pt x="1508" y="1188"/>
                </a:lnTo>
                <a:lnTo>
                  <a:pt x="1508" y="1188"/>
                </a:lnTo>
                <a:lnTo>
                  <a:pt x="1490" y="1234"/>
                </a:lnTo>
                <a:lnTo>
                  <a:pt x="1476" y="1266"/>
                </a:lnTo>
                <a:lnTo>
                  <a:pt x="1476" y="1266"/>
                </a:lnTo>
                <a:lnTo>
                  <a:pt x="1512" y="1294"/>
                </a:lnTo>
                <a:lnTo>
                  <a:pt x="1548" y="1322"/>
                </a:lnTo>
                <a:lnTo>
                  <a:pt x="1594" y="1352"/>
                </a:lnTo>
                <a:lnTo>
                  <a:pt x="1650" y="1388"/>
                </a:lnTo>
                <a:lnTo>
                  <a:pt x="1526" y="1616"/>
                </a:lnTo>
                <a:lnTo>
                  <a:pt x="1526" y="1616"/>
                </a:lnTo>
                <a:lnTo>
                  <a:pt x="1480" y="1590"/>
                </a:lnTo>
                <a:lnTo>
                  <a:pt x="1436" y="1558"/>
                </a:lnTo>
                <a:lnTo>
                  <a:pt x="1390" y="1520"/>
                </a:lnTo>
                <a:lnTo>
                  <a:pt x="1340" y="1472"/>
                </a:lnTo>
                <a:lnTo>
                  <a:pt x="1340" y="1472"/>
                </a:lnTo>
                <a:lnTo>
                  <a:pt x="1300" y="1518"/>
                </a:lnTo>
                <a:lnTo>
                  <a:pt x="1264" y="1556"/>
                </a:lnTo>
                <a:lnTo>
                  <a:pt x="1226" y="1590"/>
                </a:lnTo>
                <a:lnTo>
                  <a:pt x="1186" y="1624"/>
                </a:lnTo>
                <a:lnTo>
                  <a:pt x="1070" y="1458"/>
                </a:lnTo>
                <a:close/>
                <a:moveTo>
                  <a:pt x="1070" y="888"/>
                </a:moveTo>
                <a:lnTo>
                  <a:pt x="1070" y="956"/>
                </a:lnTo>
                <a:lnTo>
                  <a:pt x="1242" y="922"/>
                </a:lnTo>
                <a:lnTo>
                  <a:pt x="1242" y="922"/>
                </a:lnTo>
                <a:lnTo>
                  <a:pt x="1258" y="964"/>
                </a:lnTo>
                <a:lnTo>
                  <a:pt x="1276" y="1002"/>
                </a:lnTo>
                <a:lnTo>
                  <a:pt x="1294" y="1038"/>
                </a:lnTo>
                <a:lnTo>
                  <a:pt x="1316" y="1078"/>
                </a:lnTo>
                <a:lnTo>
                  <a:pt x="1316" y="1078"/>
                </a:lnTo>
                <a:lnTo>
                  <a:pt x="1332" y="1038"/>
                </a:lnTo>
                <a:lnTo>
                  <a:pt x="1344" y="996"/>
                </a:lnTo>
                <a:lnTo>
                  <a:pt x="1356" y="948"/>
                </a:lnTo>
                <a:lnTo>
                  <a:pt x="1368" y="888"/>
                </a:lnTo>
                <a:lnTo>
                  <a:pt x="1070" y="888"/>
                </a:lnTo>
                <a:close/>
                <a:moveTo>
                  <a:pt x="1070" y="1412"/>
                </a:moveTo>
                <a:lnTo>
                  <a:pt x="1070" y="1412"/>
                </a:lnTo>
                <a:lnTo>
                  <a:pt x="1112" y="1376"/>
                </a:lnTo>
                <a:lnTo>
                  <a:pt x="1146" y="1342"/>
                </a:lnTo>
                <a:lnTo>
                  <a:pt x="1174" y="1312"/>
                </a:lnTo>
                <a:lnTo>
                  <a:pt x="1196" y="1286"/>
                </a:lnTo>
                <a:lnTo>
                  <a:pt x="1196" y="1286"/>
                </a:lnTo>
                <a:lnTo>
                  <a:pt x="1172" y="1242"/>
                </a:lnTo>
                <a:lnTo>
                  <a:pt x="1156" y="1210"/>
                </a:lnTo>
                <a:lnTo>
                  <a:pt x="1138" y="1172"/>
                </a:lnTo>
                <a:lnTo>
                  <a:pt x="1120" y="1126"/>
                </a:lnTo>
                <a:lnTo>
                  <a:pt x="1102" y="1076"/>
                </a:lnTo>
                <a:lnTo>
                  <a:pt x="1084" y="1020"/>
                </a:lnTo>
                <a:lnTo>
                  <a:pt x="1070" y="958"/>
                </a:lnTo>
                <a:lnTo>
                  <a:pt x="1070" y="1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7560" y="6499080"/>
            <a:ext cx="2638440" cy="2590920"/>
          </a:xfrm>
          <a:custGeom>
            <a:avLst/>
            <a:gdLst/>
            <a:ahLst/>
            <a:rect l="l" t="t" r="r" b="b"/>
            <a:pathLst>
              <a:path w="1662" h="1632">
                <a:moveTo>
                  <a:pt x="1182" y="1342"/>
                </a:moveTo>
                <a:lnTo>
                  <a:pt x="1662" y="1342"/>
                </a:lnTo>
                <a:lnTo>
                  <a:pt x="1610" y="1584"/>
                </a:lnTo>
                <a:lnTo>
                  <a:pt x="774" y="1584"/>
                </a:lnTo>
                <a:lnTo>
                  <a:pt x="774" y="1584"/>
                </a:lnTo>
                <a:lnTo>
                  <a:pt x="728" y="1584"/>
                </a:lnTo>
                <a:lnTo>
                  <a:pt x="686" y="1582"/>
                </a:lnTo>
                <a:lnTo>
                  <a:pt x="646" y="1578"/>
                </a:lnTo>
                <a:lnTo>
                  <a:pt x="610" y="1572"/>
                </a:lnTo>
                <a:lnTo>
                  <a:pt x="576" y="1566"/>
                </a:lnTo>
                <a:lnTo>
                  <a:pt x="546" y="1558"/>
                </a:lnTo>
                <a:lnTo>
                  <a:pt x="520" y="1548"/>
                </a:lnTo>
                <a:lnTo>
                  <a:pt x="494" y="1538"/>
                </a:lnTo>
                <a:lnTo>
                  <a:pt x="470" y="1526"/>
                </a:lnTo>
                <a:lnTo>
                  <a:pt x="448" y="1512"/>
                </a:lnTo>
                <a:lnTo>
                  <a:pt x="428" y="1498"/>
                </a:lnTo>
                <a:lnTo>
                  <a:pt x="410" y="1484"/>
                </a:lnTo>
                <a:lnTo>
                  <a:pt x="392" y="1466"/>
                </a:lnTo>
                <a:lnTo>
                  <a:pt x="374" y="1450"/>
                </a:lnTo>
                <a:lnTo>
                  <a:pt x="342" y="1412"/>
                </a:lnTo>
                <a:lnTo>
                  <a:pt x="342" y="1412"/>
                </a:lnTo>
                <a:lnTo>
                  <a:pt x="292" y="1464"/>
                </a:lnTo>
                <a:lnTo>
                  <a:pt x="230" y="1522"/>
                </a:lnTo>
                <a:lnTo>
                  <a:pt x="196" y="1550"/>
                </a:lnTo>
                <a:lnTo>
                  <a:pt x="160" y="1580"/>
                </a:lnTo>
                <a:lnTo>
                  <a:pt x="126" y="1608"/>
                </a:lnTo>
                <a:lnTo>
                  <a:pt x="90" y="1632"/>
                </a:lnTo>
                <a:lnTo>
                  <a:pt x="0" y="1344"/>
                </a:lnTo>
                <a:lnTo>
                  <a:pt x="0" y="1344"/>
                </a:lnTo>
                <a:lnTo>
                  <a:pt x="46" y="1322"/>
                </a:lnTo>
                <a:lnTo>
                  <a:pt x="88" y="1298"/>
                </a:lnTo>
                <a:lnTo>
                  <a:pt x="126" y="1270"/>
                </a:lnTo>
                <a:lnTo>
                  <a:pt x="162" y="1244"/>
                </a:lnTo>
                <a:lnTo>
                  <a:pt x="162" y="872"/>
                </a:lnTo>
                <a:lnTo>
                  <a:pt x="22" y="872"/>
                </a:lnTo>
                <a:lnTo>
                  <a:pt x="22" y="632"/>
                </a:lnTo>
                <a:lnTo>
                  <a:pt x="398" y="632"/>
                </a:lnTo>
                <a:lnTo>
                  <a:pt x="398" y="1138"/>
                </a:lnTo>
                <a:lnTo>
                  <a:pt x="398" y="1138"/>
                </a:lnTo>
                <a:lnTo>
                  <a:pt x="406" y="1164"/>
                </a:lnTo>
                <a:lnTo>
                  <a:pt x="418" y="1194"/>
                </a:lnTo>
                <a:lnTo>
                  <a:pt x="428" y="1212"/>
                </a:lnTo>
                <a:lnTo>
                  <a:pt x="438" y="1228"/>
                </a:lnTo>
                <a:lnTo>
                  <a:pt x="452" y="1246"/>
                </a:lnTo>
                <a:lnTo>
                  <a:pt x="468" y="1262"/>
                </a:lnTo>
                <a:lnTo>
                  <a:pt x="486" y="1278"/>
                </a:lnTo>
                <a:lnTo>
                  <a:pt x="510" y="1292"/>
                </a:lnTo>
                <a:lnTo>
                  <a:pt x="536" y="1306"/>
                </a:lnTo>
                <a:lnTo>
                  <a:pt x="566" y="1318"/>
                </a:lnTo>
                <a:lnTo>
                  <a:pt x="600" y="1328"/>
                </a:lnTo>
                <a:lnTo>
                  <a:pt x="638" y="1334"/>
                </a:lnTo>
                <a:lnTo>
                  <a:pt x="682" y="1340"/>
                </a:lnTo>
                <a:lnTo>
                  <a:pt x="730" y="1342"/>
                </a:lnTo>
                <a:lnTo>
                  <a:pt x="936" y="1342"/>
                </a:lnTo>
                <a:lnTo>
                  <a:pt x="936" y="1222"/>
                </a:lnTo>
                <a:lnTo>
                  <a:pt x="470" y="1222"/>
                </a:lnTo>
                <a:lnTo>
                  <a:pt x="470" y="1008"/>
                </a:lnTo>
                <a:lnTo>
                  <a:pt x="936" y="1008"/>
                </a:lnTo>
                <a:lnTo>
                  <a:pt x="936" y="944"/>
                </a:lnTo>
                <a:lnTo>
                  <a:pt x="538" y="944"/>
                </a:lnTo>
                <a:lnTo>
                  <a:pt x="538" y="338"/>
                </a:lnTo>
                <a:lnTo>
                  <a:pt x="936" y="338"/>
                </a:lnTo>
                <a:lnTo>
                  <a:pt x="936" y="276"/>
                </a:lnTo>
                <a:lnTo>
                  <a:pt x="486" y="276"/>
                </a:lnTo>
                <a:lnTo>
                  <a:pt x="486" y="78"/>
                </a:lnTo>
                <a:lnTo>
                  <a:pt x="936" y="78"/>
                </a:lnTo>
                <a:lnTo>
                  <a:pt x="936" y="0"/>
                </a:lnTo>
                <a:lnTo>
                  <a:pt x="1182" y="0"/>
                </a:lnTo>
                <a:lnTo>
                  <a:pt x="1182" y="78"/>
                </a:lnTo>
                <a:lnTo>
                  <a:pt x="1628" y="78"/>
                </a:lnTo>
                <a:lnTo>
                  <a:pt x="1628" y="276"/>
                </a:lnTo>
                <a:lnTo>
                  <a:pt x="1182" y="276"/>
                </a:lnTo>
                <a:lnTo>
                  <a:pt x="1182" y="338"/>
                </a:lnTo>
                <a:lnTo>
                  <a:pt x="1582" y="338"/>
                </a:lnTo>
                <a:lnTo>
                  <a:pt x="1582" y="944"/>
                </a:lnTo>
                <a:lnTo>
                  <a:pt x="1182" y="944"/>
                </a:lnTo>
                <a:lnTo>
                  <a:pt x="1182" y="1008"/>
                </a:lnTo>
                <a:lnTo>
                  <a:pt x="1638" y="1008"/>
                </a:lnTo>
                <a:lnTo>
                  <a:pt x="1638" y="1222"/>
                </a:lnTo>
                <a:lnTo>
                  <a:pt x="1182" y="1222"/>
                </a:lnTo>
                <a:lnTo>
                  <a:pt x="1182" y="1342"/>
                </a:lnTo>
                <a:close/>
                <a:moveTo>
                  <a:pt x="194" y="10"/>
                </a:moveTo>
                <a:lnTo>
                  <a:pt x="194" y="10"/>
                </a:lnTo>
                <a:lnTo>
                  <a:pt x="236" y="42"/>
                </a:lnTo>
                <a:lnTo>
                  <a:pt x="274" y="74"/>
                </a:lnTo>
                <a:lnTo>
                  <a:pt x="310" y="108"/>
                </a:lnTo>
                <a:lnTo>
                  <a:pt x="344" y="140"/>
                </a:lnTo>
                <a:lnTo>
                  <a:pt x="378" y="174"/>
                </a:lnTo>
                <a:lnTo>
                  <a:pt x="408" y="208"/>
                </a:lnTo>
                <a:lnTo>
                  <a:pt x="438" y="242"/>
                </a:lnTo>
                <a:lnTo>
                  <a:pt x="464" y="278"/>
                </a:lnTo>
                <a:lnTo>
                  <a:pt x="284" y="472"/>
                </a:lnTo>
                <a:lnTo>
                  <a:pt x="284" y="472"/>
                </a:lnTo>
                <a:lnTo>
                  <a:pt x="256" y="434"/>
                </a:lnTo>
                <a:lnTo>
                  <a:pt x="226" y="394"/>
                </a:lnTo>
                <a:lnTo>
                  <a:pt x="196" y="358"/>
                </a:lnTo>
                <a:lnTo>
                  <a:pt x="166" y="322"/>
                </a:lnTo>
                <a:lnTo>
                  <a:pt x="134" y="288"/>
                </a:lnTo>
                <a:lnTo>
                  <a:pt x="100" y="254"/>
                </a:lnTo>
                <a:lnTo>
                  <a:pt x="64" y="222"/>
                </a:lnTo>
                <a:lnTo>
                  <a:pt x="26" y="192"/>
                </a:lnTo>
                <a:lnTo>
                  <a:pt x="194" y="10"/>
                </a:lnTo>
                <a:close/>
                <a:moveTo>
                  <a:pt x="776" y="494"/>
                </a:moveTo>
                <a:lnTo>
                  <a:pt x="776" y="574"/>
                </a:lnTo>
                <a:lnTo>
                  <a:pt x="936" y="574"/>
                </a:lnTo>
                <a:lnTo>
                  <a:pt x="936" y="494"/>
                </a:lnTo>
                <a:lnTo>
                  <a:pt x="776" y="494"/>
                </a:lnTo>
                <a:close/>
                <a:moveTo>
                  <a:pt x="776" y="696"/>
                </a:moveTo>
                <a:lnTo>
                  <a:pt x="776" y="776"/>
                </a:lnTo>
                <a:lnTo>
                  <a:pt x="936" y="776"/>
                </a:lnTo>
                <a:lnTo>
                  <a:pt x="936" y="696"/>
                </a:lnTo>
                <a:lnTo>
                  <a:pt x="776" y="696"/>
                </a:lnTo>
                <a:close/>
                <a:moveTo>
                  <a:pt x="1182" y="494"/>
                </a:moveTo>
                <a:lnTo>
                  <a:pt x="1182" y="574"/>
                </a:lnTo>
                <a:lnTo>
                  <a:pt x="1344" y="574"/>
                </a:lnTo>
                <a:lnTo>
                  <a:pt x="1344" y="494"/>
                </a:lnTo>
                <a:lnTo>
                  <a:pt x="1182" y="494"/>
                </a:lnTo>
                <a:close/>
                <a:moveTo>
                  <a:pt x="1182" y="696"/>
                </a:moveTo>
                <a:lnTo>
                  <a:pt x="1182" y="776"/>
                </a:lnTo>
                <a:lnTo>
                  <a:pt x="1344" y="776"/>
                </a:lnTo>
                <a:lnTo>
                  <a:pt x="1344" y="696"/>
                </a:lnTo>
                <a:lnTo>
                  <a:pt x="1182" y="6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1720" y="11302920"/>
            <a:ext cx="2549520" cy="2587680"/>
          </a:xfrm>
          <a:custGeom>
            <a:avLst/>
            <a:gdLst/>
            <a:ahLst/>
            <a:rect l="l" t="t" r="r" b="b"/>
            <a:pathLst>
              <a:path w="1606" h="1630">
                <a:moveTo>
                  <a:pt x="0" y="1004"/>
                </a:moveTo>
                <a:lnTo>
                  <a:pt x="0" y="1004"/>
                </a:lnTo>
                <a:lnTo>
                  <a:pt x="26" y="974"/>
                </a:lnTo>
                <a:lnTo>
                  <a:pt x="50" y="944"/>
                </a:lnTo>
                <a:lnTo>
                  <a:pt x="74" y="912"/>
                </a:lnTo>
                <a:lnTo>
                  <a:pt x="94" y="880"/>
                </a:lnTo>
                <a:lnTo>
                  <a:pt x="116" y="846"/>
                </a:lnTo>
                <a:lnTo>
                  <a:pt x="134" y="812"/>
                </a:lnTo>
                <a:lnTo>
                  <a:pt x="168" y="744"/>
                </a:lnTo>
                <a:lnTo>
                  <a:pt x="198" y="680"/>
                </a:lnTo>
                <a:lnTo>
                  <a:pt x="222" y="620"/>
                </a:lnTo>
                <a:lnTo>
                  <a:pt x="240" y="568"/>
                </a:lnTo>
                <a:lnTo>
                  <a:pt x="254" y="526"/>
                </a:lnTo>
                <a:lnTo>
                  <a:pt x="34" y="526"/>
                </a:lnTo>
                <a:lnTo>
                  <a:pt x="34" y="284"/>
                </a:lnTo>
                <a:lnTo>
                  <a:pt x="268" y="284"/>
                </a:lnTo>
                <a:lnTo>
                  <a:pt x="268" y="0"/>
                </a:lnTo>
                <a:lnTo>
                  <a:pt x="508" y="0"/>
                </a:lnTo>
                <a:lnTo>
                  <a:pt x="508" y="284"/>
                </a:lnTo>
                <a:lnTo>
                  <a:pt x="692" y="284"/>
                </a:lnTo>
                <a:lnTo>
                  <a:pt x="692" y="526"/>
                </a:lnTo>
                <a:lnTo>
                  <a:pt x="508" y="526"/>
                </a:lnTo>
                <a:lnTo>
                  <a:pt x="508" y="566"/>
                </a:lnTo>
                <a:lnTo>
                  <a:pt x="508" y="566"/>
                </a:lnTo>
                <a:lnTo>
                  <a:pt x="518" y="590"/>
                </a:lnTo>
                <a:lnTo>
                  <a:pt x="534" y="620"/>
                </a:lnTo>
                <a:lnTo>
                  <a:pt x="554" y="658"/>
                </a:lnTo>
                <a:lnTo>
                  <a:pt x="580" y="698"/>
                </a:lnTo>
                <a:lnTo>
                  <a:pt x="610" y="744"/>
                </a:lnTo>
                <a:lnTo>
                  <a:pt x="648" y="792"/>
                </a:lnTo>
                <a:lnTo>
                  <a:pt x="690" y="842"/>
                </a:lnTo>
                <a:lnTo>
                  <a:pt x="738" y="892"/>
                </a:lnTo>
                <a:lnTo>
                  <a:pt x="610" y="1118"/>
                </a:lnTo>
                <a:lnTo>
                  <a:pt x="610" y="1118"/>
                </a:lnTo>
                <a:lnTo>
                  <a:pt x="584" y="1078"/>
                </a:lnTo>
                <a:lnTo>
                  <a:pt x="560" y="1036"/>
                </a:lnTo>
                <a:lnTo>
                  <a:pt x="534" y="990"/>
                </a:lnTo>
                <a:lnTo>
                  <a:pt x="508" y="932"/>
                </a:lnTo>
                <a:lnTo>
                  <a:pt x="508" y="1630"/>
                </a:lnTo>
                <a:lnTo>
                  <a:pt x="268" y="1630"/>
                </a:lnTo>
                <a:lnTo>
                  <a:pt x="268" y="974"/>
                </a:lnTo>
                <a:lnTo>
                  <a:pt x="268" y="974"/>
                </a:lnTo>
                <a:lnTo>
                  <a:pt x="240" y="1046"/>
                </a:lnTo>
                <a:lnTo>
                  <a:pt x="212" y="1108"/>
                </a:lnTo>
                <a:lnTo>
                  <a:pt x="186" y="1162"/>
                </a:lnTo>
                <a:lnTo>
                  <a:pt x="162" y="1208"/>
                </a:lnTo>
                <a:lnTo>
                  <a:pt x="138" y="1246"/>
                </a:lnTo>
                <a:lnTo>
                  <a:pt x="118" y="1280"/>
                </a:lnTo>
                <a:lnTo>
                  <a:pt x="82" y="1328"/>
                </a:lnTo>
                <a:lnTo>
                  <a:pt x="0" y="1004"/>
                </a:lnTo>
                <a:close/>
                <a:moveTo>
                  <a:pt x="1606" y="50"/>
                </a:moveTo>
                <a:lnTo>
                  <a:pt x="1606" y="1630"/>
                </a:lnTo>
                <a:lnTo>
                  <a:pt x="1358" y="1630"/>
                </a:lnTo>
                <a:lnTo>
                  <a:pt x="1358" y="1564"/>
                </a:lnTo>
                <a:lnTo>
                  <a:pt x="986" y="1564"/>
                </a:lnTo>
                <a:lnTo>
                  <a:pt x="986" y="1630"/>
                </a:lnTo>
                <a:lnTo>
                  <a:pt x="742" y="1630"/>
                </a:lnTo>
                <a:lnTo>
                  <a:pt x="742" y="50"/>
                </a:lnTo>
                <a:lnTo>
                  <a:pt x="1606" y="50"/>
                </a:lnTo>
                <a:close/>
                <a:moveTo>
                  <a:pt x="986" y="292"/>
                </a:moveTo>
                <a:lnTo>
                  <a:pt x="986" y="478"/>
                </a:lnTo>
                <a:lnTo>
                  <a:pt x="1358" y="478"/>
                </a:lnTo>
                <a:lnTo>
                  <a:pt x="1358" y="292"/>
                </a:lnTo>
                <a:lnTo>
                  <a:pt x="986" y="292"/>
                </a:lnTo>
                <a:close/>
                <a:moveTo>
                  <a:pt x="986" y="706"/>
                </a:moveTo>
                <a:lnTo>
                  <a:pt x="986" y="892"/>
                </a:lnTo>
                <a:lnTo>
                  <a:pt x="1358" y="892"/>
                </a:lnTo>
                <a:lnTo>
                  <a:pt x="1358" y="706"/>
                </a:lnTo>
                <a:lnTo>
                  <a:pt x="986" y="706"/>
                </a:lnTo>
                <a:close/>
                <a:moveTo>
                  <a:pt x="986" y="1120"/>
                </a:moveTo>
                <a:lnTo>
                  <a:pt x="986" y="1320"/>
                </a:lnTo>
                <a:lnTo>
                  <a:pt x="1358" y="1320"/>
                </a:lnTo>
                <a:lnTo>
                  <a:pt x="1358" y="1120"/>
                </a:lnTo>
                <a:lnTo>
                  <a:pt x="986" y="1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4160" y="16789320"/>
            <a:ext cx="587520" cy="577800"/>
          </a:xfrm>
          <a:custGeom>
            <a:avLst/>
            <a:gdLst/>
            <a:ahLst/>
            <a:rect l="l" t="t" r="r" b="b"/>
            <a:pathLst>
              <a:path w="370" h="364">
                <a:moveTo>
                  <a:pt x="32" y="200"/>
                </a:moveTo>
                <a:lnTo>
                  <a:pt x="32" y="200"/>
                </a:lnTo>
                <a:lnTo>
                  <a:pt x="14" y="220"/>
                </a:lnTo>
                <a:lnTo>
                  <a:pt x="0" y="138"/>
                </a:lnTo>
                <a:lnTo>
                  <a:pt x="0" y="138"/>
                </a:lnTo>
                <a:lnTo>
                  <a:pt x="12" y="120"/>
                </a:lnTo>
                <a:lnTo>
                  <a:pt x="20" y="108"/>
                </a:lnTo>
                <a:lnTo>
                  <a:pt x="26" y="94"/>
                </a:lnTo>
                <a:lnTo>
                  <a:pt x="34" y="76"/>
                </a:lnTo>
                <a:lnTo>
                  <a:pt x="40" y="54"/>
                </a:lnTo>
                <a:lnTo>
                  <a:pt x="46" y="30"/>
                </a:lnTo>
                <a:lnTo>
                  <a:pt x="52" y="0"/>
                </a:lnTo>
                <a:lnTo>
                  <a:pt x="108" y="4"/>
                </a:lnTo>
                <a:lnTo>
                  <a:pt x="108" y="4"/>
                </a:lnTo>
                <a:lnTo>
                  <a:pt x="100" y="50"/>
                </a:lnTo>
                <a:lnTo>
                  <a:pt x="88" y="92"/>
                </a:lnTo>
                <a:lnTo>
                  <a:pt x="88" y="364"/>
                </a:lnTo>
                <a:lnTo>
                  <a:pt x="32" y="364"/>
                </a:lnTo>
                <a:lnTo>
                  <a:pt x="32" y="200"/>
                </a:lnTo>
                <a:close/>
                <a:moveTo>
                  <a:pt x="370" y="12"/>
                </a:moveTo>
                <a:lnTo>
                  <a:pt x="370" y="66"/>
                </a:lnTo>
                <a:lnTo>
                  <a:pt x="348" y="66"/>
                </a:lnTo>
                <a:lnTo>
                  <a:pt x="348" y="324"/>
                </a:lnTo>
                <a:lnTo>
                  <a:pt x="348" y="324"/>
                </a:lnTo>
                <a:lnTo>
                  <a:pt x="346" y="334"/>
                </a:lnTo>
                <a:lnTo>
                  <a:pt x="344" y="342"/>
                </a:lnTo>
                <a:lnTo>
                  <a:pt x="340" y="348"/>
                </a:lnTo>
                <a:lnTo>
                  <a:pt x="338" y="354"/>
                </a:lnTo>
                <a:lnTo>
                  <a:pt x="338" y="354"/>
                </a:lnTo>
                <a:lnTo>
                  <a:pt x="330" y="360"/>
                </a:lnTo>
                <a:lnTo>
                  <a:pt x="320" y="362"/>
                </a:lnTo>
                <a:lnTo>
                  <a:pt x="306" y="364"/>
                </a:lnTo>
                <a:lnTo>
                  <a:pt x="228" y="364"/>
                </a:lnTo>
                <a:lnTo>
                  <a:pt x="220" y="310"/>
                </a:lnTo>
                <a:lnTo>
                  <a:pt x="278" y="310"/>
                </a:lnTo>
                <a:lnTo>
                  <a:pt x="278" y="310"/>
                </a:lnTo>
                <a:lnTo>
                  <a:pt x="284" y="308"/>
                </a:lnTo>
                <a:lnTo>
                  <a:pt x="288" y="306"/>
                </a:lnTo>
                <a:lnTo>
                  <a:pt x="290" y="302"/>
                </a:lnTo>
                <a:lnTo>
                  <a:pt x="290" y="296"/>
                </a:lnTo>
                <a:lnTo>
                  <a:pt x="290" y="66"/>
                </a:lnTo>
                <a:lnTo>
                  <a:pt x="110" y="66"/>
                </a:lnTo>
                <a:lnTo>
                  <a:pt x="110" y="12"/>
                </a:lnTo>
                <a:lnTo>
                  <a:pt x="370" y="12"/>
                </a:lnTo>
                <a:close/>
                <a:moveTo>
                  <a:pt x="264" y="94"/>
                </a:moveTo>
                <a:lnTo>
                  <a:pt x="264" y="272"/>
                </a:lnTo>
                <a:lnTo>
                  <a:pt x="114" y="272"/>
                </a:lnTo>
                <a:lnTo>
                  <a:pt x="114" y="94"/>
                </a:lnTo>
                <a:lnTo>
                  <a:pt x="264" y="94"/>
                </a:lnTo>
                <a:close/>
                <a:moveTo>
                  <a:pt x="164" y="142"/>
                </a:moveTo>
                <a:lnTo>
                  <a:pt x="164" y="222"/>
                </a:lnTo>
                <a:lnTo>
                  <a:pt x="212" y="222"/>
                </a:lnTo>
                <a:lnTo>
                  <a:pt x="212" y="142"/>
                </a:lnTo>
                <a:lnTo>
                  <a:pt x="164" y="1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5960" y="16833960"/>
            <a:ext cx="546120" cy="511200"/>
          </a:xfrm>
          <a:custGeom>
            <a:avLst/>
            <a:gdLst/>
            <a:ahLst/>
            <a:rect l="l" t="t" r="r" b="b"/>
            <a:pathLst>
              <a:path w="344" h="322">
                <a:moveTo>
                  <a:pt x="332" y="0"/>
                </a:moveTo>
                <a:lnTo>
                  <a:pt x="338" y="0"/>
                </a:lnTo>
                <a:lnTo>
                  <a:pt x="338" y="62"/>
                </a:lnTo>
                <a:lnTo>
                  <a:pt x="338" y="62"/>
                </a:lnTo>
                <a:lnTo>
                  <a:pt x="322" y="60"/>
                </a:lnTo>
                <a:lnTo>
                  <a:pt x="294" y="60"/>
                </a:lnTo>
                <a:lnTo>
                  <a:pt x="294" y="60"/>
                </a:lnTo>
                <a:lnTo>
                  <a:pt x="278" y="60"/>
                </a:lnTo>
                <a:lnTo>
                  <a:pt x="264" y="62"/>
                </a:lnTo>
                <a:lnTo>
                  <a:pt x="264" y="62"/>
                </a:lnTo>
                <a:lnTo>
                  <a:pt x="244" y="70"/>
                </a:lnTo>
                <a:lnTo>
                  <a:pt x="224" y="80"/>
                </a:lnTo>
                <a:lnTo>
                  <a:pt x="204" y="94"/>
                </a:lnTo>
                <a:lnTo>
                  <a:pt x="184" y="110"/>
                </a:lnTo>
                <a:lnTo>
                  <a:pt x="168" y="128"/>
                </a:lnTo>
                <a:lnTo>
                  <a:pt x="154" y="148"/>
                </a:lnTo>
                <a:lnTo>
                  <a:pt x="150" y="158"/>
                </a:lnTo>
                <a:lnTo>
                  <a:pt x="146" y="168"/>
                </a:lnTo>
                <a:lnTo>
                  <a:pt x="144" y="180"/>
                </a:lnTo>
                <a:lnTo>
                  <a:pt x="142" y="190"/>
                </a:lnTo>
                <a:lnTo>
                  <a:pt x="142" y="190"/>
                </a:lnTo>
                <a:lnTo>
                  <a:pt x="144" y="198"/>
                </a:lnTo>
                <a:lnTo>
                  <a:pt x="146" y="206"/>
                </a:lnTo>
                <a:lnTo>
                  <a:pt x="148" y="214"/>
                </a:lnTo>
                <a:lnTo>
                  <a:pt x="152" y="220"/>
                </a:lnTo>
                <a:lnTo>
                  <a:pt x="164" y="230"/>
                </a:lnTo>
                <a:lnTo>
                  <a:pt x="178" y="240"/>
                </a:lnTo>
                <a:lnTo>
                  <a:pt x="192" y="246"/>
                </a:lnTo>
                <a:lnTo>
                  <a:pt x="208" y="250"/>
                </a:lnTo>
                <a:lnTo>
                  <a:pt x="236" y="254"/>
                </a:lnTo>
                <a:lnTo>
                  <a:pt x="236" y="254"/>
                </a:lnTo>
                <a:lnTo>
                  <a:pt x="278" y="256"/>
                </a:lnTo>
                <a:lnTo>
                  <a:pt x="306" y="256"/>
                </a:lnTo>
                <a:lnTo>
                  <a:pt x="300" y="322"/>
                </a:lnTo>
                <a:lnTo>
                  <a:pt x="300" y="322"/>
                </a:lnTo>
                <a:lnTo>
                  <a:pt x="240" y="318"/>
                </a:lnTo>
                <a:lnTo>
                  <a:pt x="198" y="314"/>
                </a:lnTo>
                <a:lnTo>
                  <a:pt x="164" y="304"/>
                </a:lnTo>
                <a:lnTo>
                  <a:pt x="140" y="294"/>
                </a:lnTo>
                <a:lnTo>
                  <a:pt x="140" y="294"/>
                </a:lnTo>
                <a:lnTo>
                  <a:pt x="128" y="288"/>
                </a:lnTo>
                <a:lnTo>
                  <a:pt x="116" y="280"/>
                </a:lnTo>
                <a:lnTo>
                  <a:pt x="106" y="270"/>
                </a:lnTo>
                <a:lnTo>
                  <a:pt x="98" y="260"/>
                </a:lnTo>
                <a:lnTo>
                  <a:pt x="90" y="248"/>
                </a:lnTo>
                <a:lnTo>
                  <a:pt x="84" y="234"/>
                </a:lnTo>
                <a:lnTo>
                  <a:pt x="80" y="218"/>
                </a:lnTo>
                <a:lnTo>
                  <a:pt x="78" y="200"/>
                </a:lnTo>
                <a:lnTo>
                  <a:pt x="78" y="200"/>
                </a:lnTo>
                <a:lnTo>
                  <a:pt x="80" y="186"/>
                </a:lnTo>
                <a:lnTo>
                  <a:pt x="82" y="172"/>
                </a:lnTo>
                <a:lnTo>
                  <a:pt x="84" y="160"/>
                </a:lnTo>
                <a:lnTo>
                  <a:pt x="88" y="148"/>
                </a:lnTo>
                <a:lnTo>
                  <a:pt x="100" y="126"/>
                </a:lnTo>
                <a:lnTo>
                  <a:pt x="112" y="108"/>
                </a:lnTo>
                <a:lnTo>
                  <a:pt x="126" y="92"/>
                </a:lnTo>
                <a:lnTo>
                  <a:pt x="142" y="80"/>
                </a:lnTo>
                <a:lnTo>
                  <a:pt x="164" y="62"/>
                </a:lnTo>
                <a:lnTo>
                  <a:pt x="164" y="62"/>
                </a:lnTo>
                <a:lnTo>
                  <a:pt x="30" y="70"/>
                </a:lnTo>
                <a:lnTo>
                  <a:pt x="30" y="70"/>
                </a:lnTo>
                <a:lnTo>
                  <a:pt x="2" y="72"/>
                </a:lnTo>
                <a:lnTo>
                  <a:pt x="0" y="8"/>
                </a:lnTo>
                <a:lnTo>
                  <a:pt x="0" y="8"/>
                </a:lnTo>
                <a:lnTo>
                  <a:pt x="118" y="4"/>
                </a:lnTo>
                <a:lnTo>
                  <a:pt x="250" y="0"/>
                </a:lnTo>
                <a:lnTo>
                  <a:pt x="332" y="0"/>
                </a:lnTo>
                <a:close/>
                <a:moveTo>
                  <a:pt x="258" y="178"/>
                </a:moveTo>
                <a:lnTo>
                  <a:pt x="258" y="178"/>
                </a:lnTo>
                <a:lnTo>
                  <a:pt x="244" y="150"/>
                </a:lnTo>
                <a:lnTo>
                  <a:pt x="224" y="118"/>
                </a:lnTo>
                <a:lnTo>
                  <a:pt x="256" y="102"/>
                </a:lnTo>
                <a:lnTo>
                  <a:pt x="256" y="102"/>
                </a:lnTo>
                <a:lnTo>
                  <a:pt x="276" y="130"/>
                </a:lnTo>
                <a:lnTo>
                  <a:pt x="292" y="158"/>
                </a:lnTo>
                <a:lnTo>
                  <a:pt x="258" y="178"/>
                </a:lnTo>
                <a:close/>
                <a:moveTo>
                  <a:pt x="312" y="150"/>
                </a:moveTo>
                <a:lnTo>
                  <a:pt x="312" y="150"/>
                </a:lnTo>
                <a:lnTo>
                  <a:pt x="298" y="124"/>
                </a:lnTo>
                <a:lnTo>
                  <a:pt x="288" y="108"/>
                </a:lnTo>
                <a:lnTo>
                  <a:pt x="276" y="94"/>
                </a:lnTo>
                <a:lnTo>
                  <a:pt x="308" y="76"/>
                </a:lnTo>
                <a:lnTo>
                  <a:pt x="308" y="76"/>
                </a:lnTo>
                <a:lnTo>
                  <a:pt x="328" y="102"/>
                </a:lnTo>
                <a:lnTo>
                  <a:pt x="336" y="116"/>
                </a:lnTo>
                <a:lnTo>
                  <a:pt x="344" y="130"/>
                </a:lnTo>
                <a:lnTo>
                  <a:pt x="312" y="1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9040" y="16811640"/>
            <a:ext cx="527040" cy="533520"/>
          </a:xfrm>
          <a:custGeom>
            <a:avLst/>
            <a:gdLst/>
            <a:ahLst/>
            <a:rect l="l" t="t" r="r" b="b"/>
            <a:pathLst>
              <a:path w="332" h="336">
                <a:moveTo>
                  <a:pt x="66" y="0"/>
                </a:moveTo>
                <a:lnTo>
                  <a:pt x="132" y="0"/>
                </a:lnTo>
                <a:lnTo>
                  <a:pt x="130" y="44"/>
                </a:lnTo>
                <a:lnTo>
                  <a:pt x="238" y="44"/>
                </a:lnTo>
                <a:lnTo>
                  <a:pt x="238" y="100"/>
                </a:lnTo>
                <a:lnTo>
                  <a:pt x="128" y="100"/>
                </a:lnTo>
                <a:lnTo>
                  <a:pt x="126" y="152"/>
                </a:lnTo>
                <a:lnTo>
                  <a:pt x="126" y="152"/>
                </a:lnTo>
                <a:lnTo>
                  <a:pt x="166" y="150"/>
                </a:lnTo>
                <a:lnTo>
                  <a:pt x="192" y="146"/>
                </a:lnTo>
                <a:lnTo>
                  <a:pt x="210" y="142"/>
                </a:lnTo>
                <a:lnTo>
                  <a:pt x="222" y="138"/>
                </a:lnTo>
                <a:lnTo>
                  <a:pt x="244" y="190"/>
                </a:lnTo>
                <a:lnTo>
                  <a:pt x="244" y="190"/>
                </a:lnTo>
                <a:lnTo>
                  <a:pt x="228" y="196"/>
                </a:lnTo>
                <a:lnTo>
                  <a:pt x="208" y="202"/>
                </a:lnTo>
                <a:lnTo>
                  <a:pt x="176" y="206"/>
                </a:lnTo>
                <a:lnTo>
                  <a:pt x="126" y="208"/>
                </a:lnTo>
                <a:lnTo>
                  <a:pt x="126" y="208"/>
                </a:lnTo>
                <a:lnTo>
                  <a:pt x="126" y="242"/>
                </a:lnTo>
                <a:lnTo>
                  <a:pt x="128" y="256"/>
                </a:lnTo>
                <a:lnTo>
                  <a:pt x="132" y="264"/>
                </a:lnTo>
                <a:lnTo>
                  <a:pt x="140" y="270"/>
                </a:lnTo>
                <a:lnTo>
                  <a:pt x="152" y="274"/>
                </a:lnTo>
                <a:lnTo>
                  <a:pt x="168" y="276"/>
                </a:lnTo>
                <a:lnTo>
                  <a:pt x="190" y="278"/>
                </a:lnTo>
                <a:lnTo>
                  <a:pt x="190" y="278"/>
                </a:lnTo>
                <a:lnTo>
                  <a:pt x="222" y="276"/>
                </a:lnTo>
                <a:lnTo>
                  <a:pt x="236" y="274"/>
                </a:lnTo>
                <a:lnTo>
                  <a:pt x="246" y="268"/>
                </a:lnTo>
                <a:lnTo>
                  <a:pt x="256" y="262"/>
                </a:lnTo>
                <a:lnTo>
                  <a:pt x="262" y="252"/>
                </a:lnTo>
                <a:lnTo>
                  <a:pt x="266" y="240"/>
                </a:lnTo>
                <a:lnTo>
                  <a:pt x="268" y="222"/>
                </a:lnTo>
                <a:lnTo>
                  <a:pt x="268" y="222"/>
                </a:lnTo>
                <a:lnTo>
                  <a:pt x="266" y="198"/>
                </a:lnTo>
                <a:lnTo>
                  <a:pt x="260" y="178"/>
                </a:lnTo>
                <a:lnTo>
                  <a:pt x="254" y="160"/>
                </a:lnTo>
                <a:lnTo>
                  <a:pt x="248" y="148"/>
                </a:lnTo>
                <a:lnTo>
                  <a:pt x="304" y="132"/>
                </a:lnTo>
                <a:lnTo>
                  <a:pt x="304" y="132"/>
                </a:lnTo>
                <a:lnTo>
                  <a:pt x="312" y="146"/>
                </a:lnTo>
                <a:lnTo>
                  <a:pt x="322" y="168"/>
                </a:lnTo>
                <a:lnTo>
                  <a:pt x="328" y="196"/>
                </a:lnTo>
                <a:lnTo>
                  <a:pt x="330" y="212"/>
                </a:lnTo>
                <a:lnTo>
                  <a:pt x="332" y="230"/>
                </a:lnTo>
                <a:lnTo>
                  <a:pt x="332" y="230"/>
                </a:lnTo>
                <a:lnTo>
                  <a:pt x="330" y="248"/>
                </a:lnTo>
                <a:lnTo>
                  <a:pt x="328" y="264"/>
                </a:lnTo>
                <a:lnTo>
                  <a:pt x="324" y="276"/>
                </a:lnTo>
                <a:lnTo>
                  <a:pt x="318" y="288"/>
                </a:lnTo>
                <a:lnTo>
                  <a:pt x="312" y="298"/>
                </a:lnTo>
                <a:lnTo>
                  <a:pt x="304" y="308"/>
                </a:lnTo>
                <a:lnTo>
                  <a:pt x="296" y="314"/>
                </a:lnTo>
                <a:lnTo>
                  <a:pt x="286" y="320"/>
                </a:lnTo>
                <a:lnTo>
                  <a:pt x="276" y="326"/>
                </a:lnTo>
                <a:lnTo>
                  <a:pt x="264" y="328"/>
                </a:lnTo>
                <a:lnTo>
                  <a:pt x="240" y="334"/>
                </a:lnTo>
                <a:lnTo>
                  <a:pt x="214" y="336"/>
                </a:lnTo>
                <a:lnTo>
                  <a:pt x="188" y="336"/>
                </a:lnTo>
                <a:lnTo>
                  <a:pt x="188" y="336"/>
                </a:lnTo>
                <a:lnTo>
                  <a:pt x="152" y="336"/>
                </a:lnTo>
                <a:lnTo>
                  <a:pt x="136" y="334"/>
                </a:lnTo>
                <a:lnTo>
                  <a:pt x="122" y="330"/>
                </a:lnTo>
                <a:lnTo>
                  <a:pt x="108" y="324"/>
                </a:lnTo>
                <a:lnTo>
                  <a:pt x="96" y="316"/>
                </a:lnTo>
                <a:lnTo>
                  <a:pt x="86" y="308"/>
                </a:lnTo>
                <a:lnTo>
                  <a:pt x="78" y="296"/>
                </a:lnTo>
                <a:lnTo>
                  <a:pt x="78" y="296"/>
                </a:lnTo>
                <a:lnTo>
                  <a:pt x="72" y="286"/>
                </a:lnTo>
                <a:lnTo>
                  <a:pt x="70" y="276"/>
                </a:lnTo>
                <a:lnTo>
                  <a:pt x="66" y="256"/>
                </a:lnTo>
                <a:lnTo>
                  <a:pt x="64" y="232"/>
                </a:lnTo>
                <a:lnTo>
                  <a:pt x="62" y="208"/>
                </a:lnTo>
                <a:lnTo>
                  <a:pt x="0" y="208"/>
                </a:lnTo>
                <a:lnTo>
                  <a:pt x="0" y="152"/>
                </a:lnTo>
                <a:lnTo>
                  <a:pt x="64" y="152"/>
                </a:lnTo>
                <a:lnTo>
                  <a:pt x="64" y="100"/>
                </a:lnTo>
                <a:lnTo>
                  <a:pt x="6" y="100"/>
                </a:lnTo>
                <a:lnTo>
                  <a:pt x="6" y="44"/>
                </a:lnTo>
                <a:lnTo>
                  <a:pt x="66" y="44"/>
                </a:lnTo>
                <a:lnTo>
                  <a:pt x="6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90080" y="16792560"/>
            <a:ext cx="583920" cy="574560"/>
          </a:xfrm>
          <a:custGeom>
            <a:avLst/>
            <a:gdLst/>
            <a:ahLst/>
            <a:rect l="l" t="t" r="r" b="b"/>
            <a:pathLst>
              <a:path w="368" h="362">
                <a:moveTo>
                  <a:pt x="60" y="0"/>
                </a:moveTo>
                <a:lnTo>
                  <a:pt x="118" y="0"/>
                </a:lnTo>
                <a:lnTo>
                  <a:pt x="118" y="20"/>
                </a:lnTo>
                <a:lnTo>
                  <a:pt x="170" y="20"/>
                </a:lnTo>
                <a:lnTo>
                  <a:pt x="170" y="72"/>
                </a:lnTo>
                <a:lnTo>
                  <a:pt x="118" y="72"/>
                </a:lnTo>
                <a:lnTo>
                  <a:pt x="118" y="94"/>
                </a:lnTo>
                <a:lnTo>
                  <a:pt x="180" y="94"/>
                </a:lnTo>
                <a:lnTo>
                  <a:pt x="180" y="142"/>
                </a:lnTo>
                <a:lnTo>
                  <a:pt x="164" y="142"/>
                </a:lnTo>
                <a:lnTo>
                  <a:pt x="164" y="142"/>
                </a:lnTo>
                <a:lnTo>
                  <a:pt x="156" y="176"/>
                </a:lnTo>
                <a:lnTo>
                  <a:pt x="178" y="176"/>
                </a:lnTo>
                <a:lnTo>
                  <a:pt x="178" y="228"/>
                </a:lnTo>
                <a:lnTo>
                  <a:pt x="118" y="228"/>
                </a:lnTo>
                <a:lnTo>
                  <a:pt x="118" y="252"/>
                </a:lnTo>
                <a:lnTo>
                  <a:pt x="172" y="252"/>
                </a:lnTo>
                <a:lnTo>
                  <a:pt x="172" y="304"/>
                </a:lnTo>
                <a:lnTo>
                  <a:pt x="118" y="304"/>
                </a:lnTo>
                <a:lnTo>
                  <a:pt x="118" y="360"/>
                </a:lnTo>
                <a:lnTo>
                  <a:pt x="60" y="360"/>
                </a:lnTo>
                <a:lnTo>
                  <a:pt x="60" y="304"/>
                </a:lnTo>
                <a:lnTo>
                  <a:pt x="10" y="304"/>
                </a:lnTo>
                <a:lnTo>
                  <a:pt x="10" y="252"/>
                </a:lnTo>
                <a:lnTo>
                  <a:pt x="60" y="252"/>
                </a:lnTo>
                <a:lnTo>
                  <a:pt x="60" y="228"/>
                </a:lnTo>
                <a:lnTo>
                  <a:pt x="2" y="228"/>
                </a:lnTo>
                <a:lnTo>
                  <a:pt x="2" y="176"/>
                </a:lnTo>
                <a:lnTo>
                  <a:pt x="26" y="176"/>
                </a:lnTo>
                <a:lnTo>
                  <a:pt x="26" y="176"/>
                </a:lnTo>
                <a:lnTo>
                  <a:pt x="24" y="160"/>
                </a:lnTo>
                <a:lnTo>
                  <a:pt x="20" y="142"/>
                </a:lnTo>
                <a:lnTo>
                  <a:pt x="0" y="142"/>
                </a:lnTo>
                <a:lnTo>
                  <a:pt x="0" y="94"/>
                </a:lnTo>
                <a:lnTo>
                  <a:pt x="60" y="94"/>
                </a:lnTo>
                <a:lnTo>
                  <a:pt x="60" y="72"/>
                </a:lnTo>
                <a:lnTo>
                  <a:pt x="10" y="72"/>
                </a:lnTo>
                <a:lnTo>
                  <a:pt x="10" y="20"/>
                </a:lnTo>
                <a:lnTo>
                  <a:pt x="60" y="20"/>
                </a:lnTo>
                <a:lnTo>
                  <a:pt x="60" y="0"/>
                </a:lnTo>
                <a:close/>
                <a:moveTo>
                  <a:pt x="70" y="142"/>
                </a:moveTo>
                <a:lnTo>
                  <a:pt x="70" y="142"/>
                </a:lnTo>
                <a:lnTo>
                  <a:pt x="76" y="176"/>
                </a:lnTo>
                <a:lnTo>
                  <a:pt x="106" y="176"/>
                </a:lnTo>
                <a:lnTo>
                  <a:pt x="106" y="176"/>
                </a:lnTo>
                <a:lnTo>
                  <a:pt x="110" y="156"/>
                </a:lnTo>
                <a:lnTo>
                  <a:pt x="112" y="142"/>
                </a:lnTo>
                <a:lnTo>
                  <a:pt x="70" y="142"/>
                </a:lnTo>
                <a:close/>
                <a:moveTo>
                  <a:pt x="238" y="326"/>
                </a:moveTo>
                <a:lnTo>
                  <a:pt x="238" y="360"/>
                </a:lnTo>
                <a:lnTo>
                  <a:pt x="186" y="360"/>
                </a:lnTo>
                <a:lnTo>
                  <a:pt x="186" y="10"/>
                </a:lnTo>
                <a:lnTo>
                  <a:pt x="354" y="10"/>
                </a:lnTo>
                <a:lnTo>
                  <a:pt x="354" y="10"/>
                </a:lnTo>
                <a:lnTo>
                  <a:pt x="352" y="66"/>
                </a:lnTo>
                <a:lnTo>
                  <a:pt x="350" y="96"/>
                </a:lnTo>
                <a:lnTo>
                  <a:pt x="346" y="114"/>
                </a:lnTo>
                <a:lnTo>
                  <a:pt x="346" y="114"/>
                </a:lnTo>
                <a:lnTo>
                  <a:pt x="340" y="124"/>
                </a:lnTo>
                <a:lnTo>
                  <a:pt x="334" y="132"/>
                </a:lnTo>
                <a:lnTo>
                  <a:pt x="324" y="136"/>
                </a:lnTo>
                <a:lnTo>
                  <a:pt x="312" y="138"/>
                </a:lnTo>
                <a:lnTo>
                  <a:pt x="262" y="138"/>
                </a:lnTo>
                <a:lnTo>
                  <a:pt x="252" y="90"/>
                </a:lnTo>
                <a:lnTo>
                  <a:pt x="284" y="90"/>
                </a:lnTo>
                <a:lnTo>
                  <a:pt x="284" y="90"/>
                </a:lnTo>
                <a:lnTo>
                  <a:pt x="290" y="90"/>
                </a:lnTo>
                <a:lnTo>
                  <a:pt x="294" y="86"/>
                </a:lnTo>
                <a:lnTo>
                  <a:pt x="296" y="78"/>
                </a:lnTo>
                <a:lnTo>
                  <a:pt x="298" y="62"/>
                </a:lnTo>
                <a:lnTo>
                  <a:pt x="238" y="62"/>
                </a:lnTo>
                <a:lnTo>
                  <a:pt x="238" y="150"/>
                </a:lnTo>
                <a:lnTo>
                  <a:pt x="356" y="150"/>
                </a:lnTo>
                <a:lnTo>
                  <a:pt x="356" y="150"/>
                </a:lnTo>
                <a:lnTo>
                  <a:pt x="352" y="196"/>
                </a:lnTo>
                <a:lnTo>
                  <a:pt x="346" y="230"/>
                </a:lnTo>
                <a:lnTo>
                  <a:pt x="340" y="252"/>
                </a:lnTo>
                <a:lnTo>
                  <a:pt x="336" y="266"/>
                </a:lnTo>
                <a:lnTo>
                  <a:pt x="336" y="266"/>
                </a:lnTo>
                <a:lnTo>
                  <a:pt x="330" y="282"/>
                </a:lnTo>
                <a:lnTo>
                  <a:pt x="330" y="282"/>
                </a:lnTo>
                <a:lnTo>
                  <a:pt x="346" y="296"/>
                </a:lnTo>
                <a:lnTo>
                  <a:pt x="368" y="310"/>
                </a:lnTo>
                <a:lnTo>
                  <a:pt x="340" y="360"/>
                </a:lnTo>
                <a:lnTo>
                  <a:pt x="340" y="360"/>
                </a:lnTo>
                <a:lnTo>
                  <a:pt x="320" y="348"/>
                </a:lnTo>
                <a:lnTo>
                  <a:pt x="298" y="328"/>
                </a:lnTo>
                <a:lnTo>
                  <a:pt x="298" y="328"/>
                </a:lnTo>
                <a:lnTo>
                  <a:pt x="282" y="348"/>
                </a:lnTo>
                <a:lnTo>
                  <a:pt x="264" y="362"/>
                </a:lnTo>
                <a:lnTo>
                  <a:pt x="238" y="326"/>
                </a:lnTo>
                <a:close/>
                <a:moveTo>
                  <a:pt x="238" y="198"/>
                </a:moveTo>
                <a:lnTo>
                  <a:pt x="238" y="214"/>
                </a:lnTo>
                <a:lnTo>
                  <a:pt x="276" y="206"/>
                </a:lnTo>
                <a:lnTo>
                  <a:pt x="276" y="206"/>
                </a:lnTo>
                <a:lnTo>
                  <a:pt x="284" y="224"/>
                </a:lnTo>
                <a:lnTo>
                  <a:pt x="294" y="240"/>
                </a:lnTo>
                <a:lnTo>
                  <a:pt x="294" y="240"/>
                </a:lnTo>
                <a:lnTo>
                  <a:pt x="300" y="222"/>
                </a:lnTo>
                <a:lnTo>
                  <a:pt x="306" y="198"/>
                </a:lnTo>
                <a:lnTo>
                  <a:pt x="238" y="198"/>
                </a:lnTo>
                <a:close/>
                <a:moveTo>
                  <a:pt x="238" y="316"/>
                </a:moveTo>
                <a:lnTo>
                  <a:pt x="238" y="316"/>
                </a:lnTo>
                <a:lnTo>
                  <a:pt x="256" y="300"/>
                </a:lnTo>
                <a:lnTo>
                  <a:pt x="266" y="288"/>
                </a:lnTo>
                <a:lnTo>
                  <a:pt x="266" y="288"/>
                </a:lnTo>
                <a:lnTo>
                  <a:pt x="254" y="262"/>
                </a:lnTo>
                <a:lnTo>
                  <a:pt x="246" y="240"/>
                </a:lnTo>
                <a:lnTo>
                  <a:pt x="238" y="214"/>
                </a:lnTo>
                <a:lnTo>
                  <a:pt x="238" y="3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96320" y="16789320"/>
            <a:ext cx="574560" cy="577800"/>
          </a:xfrm>
          <a:custGeom>
            <a:avLst/>
            <a:gdLst/>
            <a:ahLst/>
            <a:rect l="l" t="t" r="r" b="b"/>
            <a:pathLst>
              <a:path w="362" h="364">
                <a:moveTo>
                  <a:pt x="52" y="134"/>
                </a:moveTo>
                <a:lnTo>
                  <a:pt x="4" y="106"/>
                </a:lnTo>
                <a:lnTo>
                  <a:pt x="4" y="106"/>
                </a:lnTo>
                <a:lnTo>
                  <a:pt x="22" y="84"/>
                </a:lnTo>
                <a:lnTo>
                  <a:pt x="38" y="60"/>
                </a:lnTo>
                <a:lnTo>
                  <a:pt x="52" y="32"/>
                </a:lnTo>
                <a:lnTo>
                  <a:pt x="64" y="0"/>
                </a:lnTo>
                <a:lnTo>
                  <a:pt x="122" y="8"/>
                </a:lnTo>
                <a:lnTo>
                  <a:pt x="122" y="8"/>
                </a:lnTo>
                <a:lnTo>
                  <a:pt x="110" y="44"/>
                </a:lnTo>
                <a:lnTo>
                  <a:pt x="154" y="44"/>
                </a:lnTo>
                <a:lnTo>
                  <a:pt x="154" y="2"/>
                </a:lnTo>
                <a:lnTo>
                  <a:pt x="214" y="2"/>
                </a:lnTo>
                <a:lnTo>
                  <a:pt x="214" y="44"/>
                </a:lnTo>
                <a:lnTo>
                  <a:pt x="338" y="44"/>
                </a:lnTo>
                <a:lnTo>
                  <a:pt x="338" y="94"/>
                </a:lnTo>
                <a:lnTo>
                  <a:pt x="214" y="94"/>
                </a:lnTo>
                <a:lnTo>
                  <a:pt x="214" y="134"/>
                </a:lnTo>
                <a:lnTo>
                  <a:pt x="362" y="134"/>
                </a:lnTo>
                <a:lnTo>
                  <a:pt x="362" y="186"/>
                </a:lnTo>
                <a:lnTo>
                  <a:pt x="0" y="186"/>
                </a:lnTo>
                <a:lnTo>
                  <a:pt x="0" y="134"/>
                </a:lnTo>
                <a:lnTo>
                  <a:pt x="52" y="134"/>
                </a:lnTo>
                <a:close/>
                <a:moveTo>
                  <a:pt x="328" y="208"/>
                </a:moveTo>
                <a:lnTo>
                  <a:pt x="328" y="364"/>
                </a:lnTo>
                <a:lnTo>
                  <a:pt x="268" y="364"/>
                </a:lnTo>
                <a:lnTo>
                  <a:pt x="268" y="350"/>
                </a:lnTo>
                <a:lnTo>
                  <a:pt x="92" y="350"/>
                </a:lnTo>
                <a:lnTo>
                  <a:pt x="92" y="364"/>
                </a:lnTo>
                <a:lnTo>
                  <a:pt x="34" y="364"/>
                </a:lnTo>
                <a:lnTo>
                  <a:pt x="34" y="208"/>
                </a:lnTo>
                <a:lnTo>
                  <a:pt x="328" y="208"/>
                </a:lnTo>
                <a:close/>
                <a:moveTo>
                  <a:pt x="154" y="134"/>
                </a:moveTo>
                <a:lnTo>
                  <a:pt x="154" y="94"/>
                </a:lnTo>
                <a:lnTo>
                  <a:pt x="88" y="94"/>
                </a:lnTo>
                <a:lnTo>
                  <a:pt x="88" y="94"/>
                </a:lnTo>
                <a:lnTo>
                  <a:pt x="78" y="112"/>
                </a:lnTo>
                <a:lnTo>
                  <a:pt x="60" y="134"/>
                </a:lnTo>
                <a:lnTo>
                  <a:pt x="154" y="134"/>
                </a:lnTo>
                <a:close/>
                <a:moveTo>
                  <a:pt x="92" y="258"/>
                </a:moveTo>
                <a:lnTo>
                  <a:pt x="92" y="298"/>
                </a:lnTo>
                <a:lnTo>
                  <a:pt x="268" y="298"/>
                </a:lnTo>
                <a:lnTo>
                  <a:pt x="268" y="258"/>
                </a:lnTo>
                <a:lnTo>
                  <a:pt x="92" y="25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75640" y="16840080"/>
            <a:ext cx="104760" cy="479520"/>
          </a:xfrm>
          <a:custGeom>
            <a:avLst/>
            <a:gdLst/>
            <a:ahLst/>
            <a:rect l="l" t="t" r="r" b="b"/>
            <a:pathLst>
              <a:path w="66" h="302">
                <a:moveTo>
                  <a:pt x="66" y="0"/>
                </a:moveTo>
                <a:lnTo>
                  <a:pt x="56" y="212"/>
                </a:lnTo>
                <a:lnTo>
                  <a:pt x="8" y="212"/>
                </a:lnTo>
                <a:lnTo>
                  <a:pt x="0" y="0"/>
                </a:lnTo>
                <a:lnTo>
                  <a:pt x="66" y="0"/>
                </a:lnTo>
                <a:close/>
                <a:moveTo>
                  <a:pt x="64" y="240"/>
                </a:moveTo>
                <a:lnTo>
                  <a:pt x="64" y="302"/>
                </a:lnTo>
                <a:lnTo>
                  <a:pt x="4" y="302"/>
                </a:lnTo>
                <a:lnTo>
                  <a:pt x="4" y="240"/>
                </a:lnTo>
                <a:lnTo>
                  <a:pt x="64" y="2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92960" y="17665560"/>
            <a:ext cx="492120" cy="536760"/>
          </a:xfrm>
          <a:custGeom>
            <a:avLst/>
            <a:gdLst/>
            <a:ahLst/>
            <a:rect l="l" t="t" r="r" b="b"/>
            <a:pathLst>
              <a:path w="310" h="338">
                <a:moveTo>
                  <a:pt x="290" y="338"/>
                </a:moveTo>
                <a:lnTo>
                  <a:pt x="290" y="338"/>
                </a:lnTo>
                <a:lnTo>
                  <a:pt x="254" y="328"/>
                </a:lnTo>
                <a:lnTo>
                  <a:pt x="220" y="318"/>
                </a:lnTo>
                <a:lnTo>
                  <a:pt x="184" y="310"/>
                </a:lnTo>
                <a:lnTo>
                  <a:pt x="148" y="302"/>
                </a:lnTo>
                <a:lnTo>
                  <a:pt x="110" y="298"/>
                </a:lnTo>
                <a:lnTo>
                  <a:pt x="74" y="294"/>
                </a:lnTo>
                <a:lnTo>
                  <a:pt x="0" y="290"/>
                </a:lnTo>
                <a:lnTo>
                  <a:pt x="12" y="230"/>
                </a:lnTo>
                <a:lnTo>
                  <a:pt x="12" y="230"/>
                </a:lnTo>
                <a:lnTo>
                  <a:pt x="82" y="234"/>
                </a:lnTo>
                <a:lnTo>
                  <a:pt x="152" y="242"/>
                </a:lnTo>
                <a:lnTo>
                  <a:pt x="190" y="248"/>
                </a:lnTo>
                <a:lnTo>
                  <a:pt x="228" y="254"/>
                </a:lnTo>
                <a:lnTo>
                  <a:pt x="268" y="264"/>
                </a:lnTo>
                <a:lnTo>
                  <a:pt x="310" y="274"/>
                </a:lnTo>
                <a:lnTo>
                  <a:pt x="290" y="338"/>
                </a:lnTo>
                <a:close/>
                <a:moveTo>
                  <a:pt x="254" y="208"/>
                </a:moveTo>
                <a:lnTo>
                  <a:pt x="254" y="208"/>
                </a:lnTo>
                <a:lnTo>
                  <a:pt x="226" y="200"/>
                </a:lnTo>
                <a:lnTo>
                  <a:pt x="196" y="192"/>
                </a:lnTo>
                <a:lnTo>
                  <a:pt x="140" y="180"/>
                </a:lnTo>
                <a:lnTo>
                  <a:pt x="82" y="172"/>
                </a:lnTo>
                <a:lnTo>
                  <a:pt x="24" y="168"/>
                </a:lnTo>
                <a:lnTo>
                  <a:pt x="34" y="112"/>
                </a:lnTo>
                <a:lnTo>
                  <a:pt x="34" y="112"/>
                </a:lnTo>
                <a:lnTo>
                  <a:pt x="90" y="116"/>
                </a:lnTo>
                <a:lnTo>
                  <a:pt x="150" y="124"/>
                </a:lnTo>
                <a:lnTo>
                  <a:pt x="210" y="134"/>
                </a:lnTo>
                <a:lnTo>
                  <a:pt x="266" y="148"/>
                </a:lnTo>
                <a:lnTo>
                  <a:pt x="254" y="208"/>
                </a:lnTo>
                <a:close/>
                <a:moveTo>
                  <a:pt x="282" y="98"/>
                </a:moveTo>
                <a:lnTo>
                  <a:pt x="282" y="98"/>
                </a:lnTo>
                <a:lnTo>
                  <a:pt x="228" y="84"/>
                </a:lnTo>
                <a:lnTo>
                  <a:pt x="170" y="72"/>
                </a:lnTo>
                <a:lnTo>
                  <a:pt x="104" y="62"/>
                </a:lnTo>
                <a:lnTo>
                  <a:pt x="24" y="56"/>
                </a:lnTo>
                <a:lnTo>
                  <a:pt x="34" y="0"/>
                </a:lnTo>
                <a:lnTo>
                  <a:pt x="34" y="0"/>
                </a:lnTo>
                <a:lnTo>
                  <a:pt x="94" y="4"/>
                </a:lnTo>
                <a:lnTo>
                  <a:pt x="158" y="10"/>
                </a:lnTo>
                <a:lnTo>
                  <a:pt x="226" y="20"/>
                </a:lnTo>
                <a:lnTo>
                  <a:pt x="260" y="28"/>
                </a:lnTo>
                <a:lnTo>
                  <a:pt x="294" y="36"/>
                </a:lnTo>
                <a:lnTo>
                  <a:pt x="282" y="9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45200" y="17687880"/>
            <a:ext cx="549360" cy="511200"/>
          </a:xfrm>
          <a:custGeom>
            <a:avLst/>
            <a:gdLst/>
            <a:ahLst/>
            <a:rect l="l" t="t" r="r" b="b"/>
            <a:pathLst>
              <a:path w="346" h="322">
                <a:moveTo>
                  <a:pt x="0" y="268"/>
                </a:moveTo>
                <a:lnTo>
                  <a:pt x="0" y="268"/>
                </a:lnTo>
                <a:lnTo>
                  <a:pt x="22" y="258"/>
                </a:lnTo>
                <a:lnTo>
                  <a:pt x="54" y="242"/>
                </a:lnTo>
                <a:lnTo>
                  <a:pt x="72" y="230"/>
                </a:lnTo>
                <a:lnTo>
                  <a:pt x="92" y="216"/>
                </a:lnTo>
                <a:lnTo>
                  <a:pt x="112" y="198"/>
                </a:lnTo>
                <a:lnTo>
                  <a:pt x="134" y="178"/>
                </a:lnTo>
                <a:lnTo>
                  <a:pt x="134" y="178"/>
                </a:lnTo>
                <a:lnTo>
                  <a:pt x="150" y="158"/>
                </a:lnTo>
                <a:lnTo>
                  <a:pt x="164" y="140"/>
                </a:lnTo>
                <a:lnTo>
                  <a:pt x="176" y="122"/>
                </a:lnTo>
                <a:lnTo>
                  <a:pt x="186" y="106"/>
                </a:lnTo>
                <a:lnTo>
                  <a:pt x="200" y="80"/>
                </a:lnTo>
                <a:lnTo>
                  <a:pt x="208" y="58"/>
                </a:lnTo>
                <a:lnTo>
                  <a:pt x="24" y="58"/>
                </a:lnTo>
                <a:lnTo>
                  <a:pt x="24" y="0"/>
                </a:lnTo>
                <a:lnTo>
                  <a:pt x="290" y="0"/>
                </a:lnTo>
                <a:lnTo>
                  <a:pt x="290" y="0"/>
                </a:lnTo>
                <a:lnTo>
                  <a:pt x="286" y="26"/>
                </a:lnTo>
                <a:lnTo>
                  <a:pt x="280" y="44"/>
                </a:lnTo>
                <a:lnTo>
                  <a:pt x="274" y="62"/>
                </a:lnTo>
                <a:lnTo>
                  <a:pt x="266" y="84"/>
                </a:lnTo>
                <a:lnTo>
                  <a:pt x="254" y="110"/>
                </a:lnTo>
                <a:lnTo>
                  <a:pt x="240" y="136"/>
                </a:lnTo>
                <a:lnTo>
                  <a:pt x="220" y="164"/>
                </a:lnTo>
                <a:lnTo>
                  <a:pt x="220" y="164"/>
                </a:lnTo>
                <a:lnTo>
                  <a:pt x="254" y="188"/>
                </a:lnTo>
                <a:lnTo>
                  <a:pt x="286" y="214"/>
                </a:lnTo>
                <a:lnTo>
                  <a:pt x="316" y="242"/>
                </a:lnTo>
                <a:lnTo>
                  <a:pt x="346" y="272"/>
                </a:lnTo>
                <a:lnTo>
                  <a:pt x="294" y="322"/>
                </a:lnTo>
                <a:lnTo>
                  <a:pt x="294" y="322"/>
                </a:lnTo>
                <a:lnTo>
                  <a:pt x="266" y="290"/>
                </a:lnTo>
                <a:lnTo>
                  <a:pt x="236" y="258"/>
                </a:lnTo>
                <a:lnTo>
                  <a:pt x="208" y="230"/>
                </a:lnTo>
                <a:lnTo>
                  <a:pt x="184" y="210"/>
                </a:lnTo>
                <a:lnTo>
                  <a:pt x="184" y="210"/>
                </a:lnTo>
                <a:lnTo>
                  <a:pt x="170" y="226"/>
                </a:lnTo>
                <a:lnTo>
                  <a:pt x="144" y="250"/>
                </a:lnTo>
                <a:lnTo>
                  <a:pt x="144" y="250"/>
                </a:lnTo>
                <a:lnTo>
                  <a:pt x="126" y="266"/>
                </a:lnTo>
                <a:lnTo>
                  <a:pt x="108" y="278"/>
                </a:lnTo>
                <a:lnTo>
                  <a:pt x="78" y="298"/>
                </a:lnTo>
                <a:lnTo>
                  <a:pt x="54" y="312"/>
                </a:lnTo>
                <a:lnTo>
                  <a:pt x="36" y="320"/>
                </a:lnTo>
                <a:lnTo>
                  <a:pt x="0" y="2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1800" y="17652960"/>
            <a:ext cx="555480" cy="542880"/>
          </a:xfrm>
          <a:custGeom>
            <a:avLst/>
            <a:gdLst/>
            <a:ahLst/>
            <a:rect l="l" t="t" r="r" b="b"/>
            <a:pathLst>
              <a:path w="350" h="342">
                <a:moveTo>
                  <a:pt x="136" y="4"/>
                </a:moveTo>
                <a:lnTo>
                  <a:pt x="136" y="4"/>
                </a:lnTo>
                <a:lnTo>
                  <a:pt x="134" y="12"/>
                </a:lnTo>
                <a:lnTo>
                  <a:pt x="134" y="12"/>
                </a:lnTo>
                <a:lnTo>
                  <a:pt x="128" y="44"/>
                </a:lnTo>
                <a:lnTo>
                  <a:pt x="196" y="44"/>
                </a:lnTo>
                <a:lnTo>
                  <a:pt x="196" y="102"/>
                </a:lnTo>
                <a:lnTo>
                  <a:pt x="120" y="102"/>
                </a:lnTo>
                <a:lnTo>
                  <a:pt x="120" y="102"/>
                </a:lnTo>
                <a:lnTo>
                  <a:pt x="108" y="154"/>
                </a:lnTo>
                <a:lnTo>
                  <a:pt x="92" y="208"/>
                </a:lnTo>
                <a:lnTo>
                  <a:pt x="76" y="258"/>
                </a:lnTo>
                <a:lnTo>
                  <a:pt x="62" y="300"/>
                </a:lnTo>
                <a:lnTo>
                  <a:pt x="0" y="284"/>
                </a:lnTo>
                <a:lnTo>
                  <a:pt x="0" y="284"/>
                </a:lnTo>
                <a:lnTo>
                  <a:pt x="12" y="256"/>
                </a:lnTo>
                <a:lnTo>
                  <a:pt x="22" y="226"/>
                </a:lnTo>
                <a:lnTo>
                  <a:pt x="42" y="164"/>
                </a:lnTo>
                <a:lnTo>
                  <a:pt x="42" y="164"/>
                </a:lnTo>
                <a:lnTo>
                  <a:pt x="52" y="130"/>
                </a:lnTo>
                <a:lnTo>
                  <a:pt x="58" y="102"/>
                </a:lnTo>
                <a:lnTo>
                  <a:pt x="6" y="102"/>
                </a:lnTo>
                <a:lnTo>
                  <a:pt x="6" y="44"/>
                </a:lnTo>
                <a:lnTo>
                  <a:pt x="68" y="44"/>
                </a:lnTo>
                <a:lnTo>
                  <a:pt x="68" y="44"/>
                </a:lnTo>
                <a:lnTo>
                  <a:pt x="72" y="0"/>
                </a:lnTo>
                <a:lnTo>
                  <a:pt x="136" y="4"/>
                </a:lnTo>
                <a:close/>
                <a:moveTo>
                  <a:pt x="344" y="104"/>
                </a:moveTo>
                <a:lnTo>
                  <a:pt x="344" y="104"/>
                </a:lnTo>
                <a:lnTo>
                  <a:pt x="312" y="102"/>
                </a:lnTo>
                <a:lnTo>
                  <a:pt x="312" y="102"/>
                </a:lnTo>
                <a:lnTo>
                  <a:pt x="294" y="104"/>
                </a:lnTo>
                <a:lnTo>
                  <a:pt x="278" y="104"/>
                </a:lnTo>
                <a:lnTo>
                  <a:pt x="280" y="208"/>
                </a:lnTo>
                <a:lnTo>
                  <a:pt x="280" y="208"/>
                </a:lnTo>
                <a:lnTo>
                  <a:pt x="310" y="226"/>
                </a:lnTo>
                <a:lnTo>
                  <a:pt x="330" y="240"/>
                </a:lnTo>
                <a:lnTo>
                  <a:pt x="344" y="250"/>
                </a:lnTo>
                <a:lnTo>
                  <a:pt x="350" y="256"/>
                </a:lnTo>
                <a:lnTo>
                  <a:pt x="318" y="316"/>
                </a:lnTo>
                <a:lnTo>
                  <a:pt x="318" y="316"/>
                </a:lnTo>
                <a:lnTo>
                  <a:pt x="296" y="294"/>
                </a:lnTo>
                <a:lnTo>
                  <a:pt x="296" y="294"/>
                </a:lnTo>
                <a:lnTo>
                  <a:pt x="276" y="274"/>
                </a:lnTo>
                <a:lnTo>
                  <a:pt x="274" y="282"/>
                </a:lnTo>
                <a:lnTo>
                  <a:pt x="274" y="282"/>
                </a:lnTo>
                <a:lnTo>
                  <a:pt x="272" y="298"/>
                </a:lnTo>
                <a:lnTo>
                  <a:pt x="268" y="310"/>
                </a:lnTo>
                <a:lnTo>
                  <a:pt x="260" y="320"/>
                </a:lnTo>
                <a:lnTo>
                  <a:pt x="250" y="328"/>
                </a:lnTo>
                <a:lnTo>
                  <a:pt x="238" y="334"/>
                </a:lnTo>
                <a:lnTo>
                  <a:pt x="224" y="338"/>
                </a:lnTo>
                <a:lnTo>
                  <a:pt x="210" y="342"/>
                </a:lnTo>
                <a:lnTo>
                  <a:pt x="194" y="342"/>
                </a:lnTo>
                <a:lnTo>
                  <a:pt x="194" y="342"/>
                </a:lnTo>
                <a:lnTo>
                  <a:pt x="170" y="340"/>
                </a:lnTo>
                <a:lnTo>
                  <a:pt x="152" y="336"/>
                </a:lnTo>
                <a:lnTo>
                  <a:pt x="136" y="330"/>
                </a:lnTo>
                <a:lnTo>
                  <a:pt x="122" y="320"/>
                </a:lnTo>
                <a:lnTo>
                  <a:pt x="112" y="308"/>
                </a:lnTo>
                <a:lnTo>
                  <a:pt x="104" y="296"/>
                </a:lnTo>
                <a:lnTo>
                  <a:pt x="100" y="282"/>
                </a:lnTo>
                <a:lnTo>
                  <a:pt x="98" y="266"/>
                </a:lnTo>
                <a:lnTo>
                  <a:pt x="98" y="266"/>
                </a:lnTo>
                <a:lnTo>
                  <a:pt x="100" y="254"/>
                </a:lnTo>
                <a:lnTo>
                  <a:pt x="104" y="240"/>
                </a:lnTo>
                <a:lnTo>
                  <a:pt x="110" y="226"/>
                </a:lnTo>
                <a:lnTo>
                  <a:pt x="120" y="214"/>
                </a:lnTo>
                <a:lnTo>
                  <a:pt x="132" y="204"/>
                </a:lnTo>
                <a:lnTo>
                  <a:pt x="150" y="196"/>
                </a:lnTo>
                <a:lnTo>
                  <a:pt x="170" y="190"/>
                </a:lnTo>
                <a:lnTo>
                  <a:pt x="196" y="188"/>
                </a:lnTo>
                <a:lnTo>
                  <a:pt x="196" y="188"/>
                </a:lnTo>
                <a:lnTo>
                  <a:pt x="220" y="190"/>
                </a:lnTo>
                <a:lnTo>
                  <a:pt x="216" y="50"/>
                </a:lnTo>
                <a:lnTo>
                  <a:pt x="216" y="50"/>
                </a:lnTo>
                <a:lnTo>
                  <a:pt x="246" y="46"/>
                </a:lnTo>
                <a:lnTo>
                  <a:pt x="276" y="42"/>
                </a:lnTo>
                <a:lnTo>
                  <a:pt x="338" y="38"/>
                </a:lnTo>
                <a:lnTo>
                  <a:pt x="344" y="104"/>
                </a:lnTo>
                <a:close/>
                <a:moveTo>
                  <a:pt x="220" y="244"/>
                </a:moveTo>
                <a:lnTo>
                  <a:pt x="220" y="244"/>
                </a:lnTo>
                <a:lnTo>
                  <a:pt x="210" y="240"/>
                </a:lnTo>
                <a:lnTo>
                  <a:pt x="194" y="238"/>
                </a:lnTo>
                <a:lnTo>
                  <a:pt x="194" y="238"/>
                </a:lnTo>
                <a:lnTo>
                  <a:pt x="184" y="238"/>
                </a:lnTo>
                <a:lnTo>
                  <a:pt x="172" y="242"/>
                </a:lnTo>
                <a:lnTo>
                  <a:pt x="164" y="244"/>
                </a:lnTo>
                <a:lnTo>
                  <a:pt x="158" y="250"/>
                </a:lnTo>
                <a:lnTo>
                  <a:pt x="154" y="256"/>
                </a:lnTo>
                <a:lnTo>
                  <a:pt x="152" y="264"/>
                </a:lnTo>
                <a:lnTo>
                  <a:pt x="152" y="264"/>
                </a:lnTo>
                <a:lnTo>
                  <a:pt x="154" y="274"/>
                </a:lnTo>
                <a:lnTo>
                  <a:pt x="158" y="280"/>
                </a:lnTo>
                <a:lnTo>
                  <a:pt x="158" y="280"/>
                </a:lnTo>
                <a:lnTo>
                  <a:pt x="164" y="286"/>
                </a:lnTo>
                <a:lnTo>
                  <a:pt x="172" y="288"/>
                </a:lnTo>
                <a:lnTo>
                  <a:pt x="180" y="290"/>
                </a:lnTo>
                <a:lnTo>
                  <a:pt x="190" y="290"/>
                </a:lnTo>
                <a:lnTo>
                  <a:pt x="190" y="290"/>
                </a:lnTo>
                <a:lnTo>
                  <a:pt x="200" y="290"/>
                </a:lnTo>
                <a:lnTo>
                  <a:pt x="208" y="288"/>
                </a:lnTo>
                <a:lnTo>
                  <a:pt x="212" y="284"/>
                </a:lnTo>
                <a:lnTo>
                  <a:pt x="216" y="282"/>
                </a:lnTo>
                <a:lnTo>
                  <a:pt x="220" y="278"/>
                </a:lnTo>
                <a:lnTo>
                  <a:pt x="220" y="274"/>
                </a:lnTo>
                <a:lnTo>
                  <a:pt x="220" y="266"/>
                </a:lnTo>
                <a:lnTo>
                  <a:pt x="220" y="24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73880" y="17649720"/>
            <a:ext cx="444600" cy="555840"/>
          </a:xfrm>
          <a:custGeom>
            <a:avLst/>
            <a:gdLst/>
            <a:ahLst/>
            <a:rect l="l" t="t" r="r" b="b"/>
            <a:pathLst>
              <a:path w="280" h="350">
                <a:moveTo>
                  <a:pt x="218" y="350"/>
                </a:moveTo>
                <a:lnTo>
                  <a:pt x="218" y="350"/>
                </a:lnTo>
                <a:lnTo>
                  <a:pt x="180" y="320"/>
                </a:lnTo>
                <a:lnTo>
                  <a:pt x="142" y="294"/>
                </a:lnTo>
                <a:lnTo>
                  <a:pt x="48" y="232"/>
                </a:lnTo>
                <a:lnTo>
                  <a:pt x="48" y="232"/>
                </a:lnTo>
                <a:lnTo>
                  <a:pt x="28" y="218"/>
                </a:lnTo>
                <a:lnTo>
                  <a:pt x="12" y="206"/>
                </a:lnTo>
                <a:lnTo>
                  <a:pt x="6" y="198"/>
                </a:lnTo>
                <a:lnTo>
                  <a:pt x="2" y="192"/>
                </a:lnTo>
                <a:lnTo>
                  <a:pt x="0" y="184"/>
                </a:lnTo>
                <a:lnTo>
                  <a:pt x="0" y="176"/>
                </a:lnTo>
                <a:lnTo>
                  <a:pt x="0" y="176"/>
                </a:lnTo>
                <a:lnTo>
                  <a:pt x="0" y="166"/>
                </a:lnTo>
                <a:lnTo>
                  <a:pt x="4" y="156"/>
                </a:lnTo>
                <a:lnTo>
                  <a:pt x="14" y="146"/>
                </a:lnTo>
                <a:lnTo>
                  <a:pt x="28" y="132"/>
                </a:lnTo>
                <a:lnTo>
                  <a:pt x="28" y="132"/>
                </a:lnTo>
                <a:lnTo>
                  <a:pt x="102" y="66"/>
                </a:lnTo>
                <a:lnTo>
                  <a:pt x="138" y="32"/>
                </a:lnTo>
                <a:lnTo>
                  <a:pt x="172" y="0"/>
                </a:lnTo>
                <a:lnTo>
                  <a:pt x="240" y="34"/>
                </a:lnTo>
                <a:lnTo>
                  <a:pt x="240" y="34"/>
                </a:lnTo>
                <a:lnTo>
                  <a:pt x="202" y="66"/>
                </a:lnTo>
                <a:lnTo>
                  <a:pt x="164" y="98"/>
                </a:lnTo>
                <a:lnTo>
                  <a:pt x="86" y="158"/>
                </a:lnTo>
                <a:lnTo>
                  <a:pt x="86" y="158"/>
                </a:lnTo>
                <a:lnTo>
                  <a:pt x="80" y="164"/>
                </a:lnTo>
                <a:lnTo>
                  <a:pt x="76" y="168"/>
                </a:lnTo>
                <a:lnTo>
                  <a:pt x="74" y="172"/>
                </a:lnTo>
                <a:lnTo>
                  <a:pt x="74" y="172"/>
                </a:lnTo>
                <a:lnTo>
                  <a:pt x="76" y="178"/>
                </a:lnTo>
                <a:lnTo>
                  <a:pt x="80" y="182"/>
                </a:lnTo>
                <a:lnTo>
                  <a:pt x="94" y="190"/>
                </a:lnTo>
                <a:lnTo>
                  <a:pt x="94" y="190"/>
                </a:lnTo>
                <a:lnTo>
                  <a:pt x="144" y="218"/>
                </a:lnTo>
                <a:lnTo>
                  <a:pt x="196" y="248"/>
                </a:lnTo>
                <a:lnTo>
                  <a:pt x="242" y="278"/>
                </a:lnTo>
                <a:lnTo>
                  <a:pt x="280" y="304"/>
                </a:lnTo>
                <a:lnTo>
                  <a:pt x="218" y="3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72480" y="17640360"/>
            <a:ext cx="590760" cy="581040"/>
          </a:xfrm>
          <a:custGeom>
            <a:avLst/>
            <a:gdLst/>
            <a:ahLst/>
            <a:rect l="l" t="t" r="r" b="b"/>
            <a:pathLst>
              <a:path w="372" h="366">
                <a:moveTo>
                  <a:pt x="264" y="300"/>
                </a:moveTo>
                <a:lnTo>
                  <a:pt x="372" y="300"/>
                </a:lnTo>
                <a:lnTo>
                  <a:pt x="360" y="354"/>
                </a:lnTo>
                <a:lnTo>
                  <a:pt x="174" y="354"/>
                </a:lnTo>
                <a:lnTo>
                  <a:pt x="174" y="354"/>
                </a:lnTo>
                <a:lnTo>
                  <a:pt x="154" y="354"/>
                </a:lnTo>
                <a:lnTo>
                  <a:pt x="136" y="352"/>
                </a:lnTo>
                <a:lnTo>
                  <a:pt x="122" y="348"/>
                </a:lnTo>
                <a:lnTo>
                  <a:pt x="110" y="344"/>
                </a:lnTo>
                <a:lnTo>
                  <a:pt x="100" y="338"/>
                </a:lnTo>
                <a:lnTo>
                  <a:pt x="92" y="332"/>
                </a:lnTo>
                <a:lnTo>
                  <a:pt x="76" y="316"/>
                </a:lnTo>
                <a:lnTo>
                  <a:pt x="76" y="316"/>
                </a:lnTo>
                <a:lnTo>
                  <a:pt x="52" y="340"/>
                </a:lnTo>
                <a:lnTo>
                  <a:pt x="36" y="354"/>
                </a:lnTo>
                <a:lnTo>
                  <a:pt x="20" y="366"/>
                </a:lnTo>
                <a:lnTo>
                  <a:pt x="0" y="302"/>
                </a:lnTo>
                <a:lnTo>
                  <a:pt x="0" y="302"/>
                </a:lnTo>
                <a:lnTo>
                  <a:pt x="20" y="290"/>
                </a:lnTo>
                <a:lnTo>
                  <a:pt x="36" y="278"/>
                </a:lnTo>
                <a:lnTo>
                  <a:pt x="36" y="196"/>
                </a:lnTo>
                <a:lnTo>
                  <a:pt x="6" y="196"/>
                </a:lnTo>
                <a:lnTo>
                  <a:pt x="6" y="142"/>
                </a:lnTo>
                <a:lnTo>
                  <a:pt x="90" y="142"/>
                </a:lnTo>
                <a:lnTo>
                  <a:pt x="90" y="254"/>
                </a:lnTo>
                <a:lnTo>
                  <a:pt x="90" y="254"/>
                </a:lnTo>
                <a:lnTo>
                  <a:pt x="94" y="268"/>
                </a:lnTo>
                <a:lnTo>
                  <a:pt x="98" y="276"/>
                </a:lnTo>
                <a:lnTo>
                  <a:pt x="106" y="282"/>
                </a:lnTo>
                <a:lnTo>
                  <a:pt x="114" y="290"/>
                </a:lnTo>
                <a:lnTo>
                  <a:pt x="126" y="296"/>
                </a:lnTo>
                <a:lnTo>
                  <a:pt x="144" y="300"/>
                </a:lnTo>
                <a:lnTo>
                  <a:pt x="164" y="300"/>
                </a:lnTo>
                <a:lnTo>
                  <a:pt x="210" y="300"/>
                </a:lnTo>
                <a:lnTo>
                  <a:pt x="210" y="274"/>
                </a:lnTo>
                <a:lnTo>
                  <a:pt x="106" y="274"/>
                </a:lnTo>
                <a:lnTo>
                  <a:pt x="106" y="226"/>
                </a:lnTo>
                <a:lnTo>
                  <a:pt x="210" y="226"/>
                </a:lnTo>
                <a:lnTo>
                  <a:pt x="210" y="212"/>
                </a:lnTo>
                <a:lnTo>
                  <a:pt x="120" y="212"/>
                </a:lnTo>
                <a:lnTo>
                  <a:pt x="120" y="76"/>
                </a:lnTo>
                <a:lnTo>
                  <a:pt x="210" y="76"/>
                </a:lnTo>
                <a:lnTo>
                  <a:pt x="210" y="62"/>
                </a:lnTo>
                <a:lnTo>
                  <a:pt x="110" y="62"/>
                </a:lnTo>
                <a:lnTo>
                  <a:pt x="110" y="18"/>
                </a:lnTo>
                <a:lnTo>
                  <a:pt x="210" y="18"/>
                </a:lnTo>
                <a:lnTo>
                  <a:pt x="210" y="0"/>
                </a:lnTo>
                <a:lnTo>
                  <a:pt x="264" y="0"/>
                </a:lnTo>
                <a:lnTo>
                  <a:pt x="264" y="18"/>
                </a:lnTo>
                <a:lnTo>
                  <a:pt x="364" y="18"/>
                </a:lnTo>
                <a:lnTo>
                  <a:pt x="364" y="62"/>
                </a:lnTo>
                <a:lnTo>
                  <a:pt x="264" y="62"/>
                </a:lnTo>
                <a:lnTo>
                  <a:pt x="264" y="76"/>
                </a:lnTo>
                <a:lnTo>
                  <a:pt x="354" y="76"/>
                </a:lnTo>
                <a:lnTo>
                  <a:pt x="354" y="212"/>
                </a:lnTo>
                <a:lnTo>
                  <a:pt x="264" y="212"/>
                </a:lnTo>
                <a:lnTo>
                  <a:pt x="264" y="226"/>
                </a:lnTo>
                <a:lnTo>
                  <a:pt x="366" y="226"/>
                </a:lnTo>
                <a:lnTo>
                  <a:pt x="366" y="274"/>
                </a:lnTo>
                <a:lnTo>
                  <a:pt x="264" y="274"/>
                </a:lnTo>
                <a:lnTo>
                  <a:pt x="264" y="300"/>
                </a:lnTo>
                <a:close/>
                <a:moveTo>
                  <a:pt x="44" y="4"/>
                </a:moveTo>
                <a:lnTo>
                  <a:pt x="44" y="4"/>
                </a:lnTo>
                <a:lnTo>
                  <a:pt x="62" y="18"/>
                </a:lnTo>
                <a:lnTo>
                  <a:pt x="78" y="32"/>
                </a:lnTo>
                <a:lnTo>
                  <a:pt x="92" y="48"/>
                </a:lnTo>
                <a:lnTo>
                  <a:pt x="104" y="62"/>
                </a:lnTo>
                <a:lnTo>
                  <a:pt x="64" y="106"/>
                </a:lnTo>
                <a:lnTo>
                  <a:pt x="64" y="106"/>
                </a:lnTo>
                <a:lnTo>
                  <a:pt x="52" y="90"/>
                </a:lnTo>
                <a:lnTo>
                  <a:pt x="38" y="72"/>
                </a:lnTo>
                <a:lnTo>
                  <a:pt x="22" y="58"/>
                </a:lnTo>
                <a:lnTo>
                  <a:pt x="6" y="44"/>
                </a:lnTo>
                <a:lnTo>
                  <a:pt x="44" y="4"/>
                </a:lnTo>
                <a:close/>
                <a:moveTo>
                  <a:pt x="174" y="112"/>
                </a:moveTo>
                <a:lnTo>
                  <a:pt x="174" y="130"/>
                </a:lnTo>
                <a:lnTo>
                  <a:pt x="210" y="130"/>
                </a:lnTo>
                <a:lnTo>
                  <a:pt x="210" y="112"/>
                </a:lnTo>
                <a:lnTo>
                  <a:pt x="174" y="112"/>
                </a:lnTo>
                <a:close/>
                <a:moveTo>
                  <a:pt x="174" y="156"/>
                </a:moveTo>
                <a:lnTo>
                  <a:pt x="174" y="174"/>
                </a:lnTo>
                <a:lnTo>
                  <a:pt x="210" y="174"/>
                </a:lnTo>
                <a:lnTo>
                  <a:pt x="210" y="156"/>
                </a:lnTo>
                <a:lnTo>
                  <a:pt x="174" y="156"/>
                </a:lnTo>
                <a:close/>
                <a:moveTo>
                  <a:pt x="264" y="112"/>
                </a:moveTo>
                <a:lnTo>
                  <a:pt x="264" y="130"/>
                </a:lnTo>
                <a:lnTo>
                  <a:pt x="300" y="130"/>
                </a:lnTo>
                <a:lnTo>
                  <a:pt x="300" y="112"/>
                </a:lnTo>
                <a:lnTo>
                  <a:pt x="264" y="112"/>
                </a:lnTo>
                <a:close/>
                <a:moveTo>
                  <a:pt x="264" y="156"/>
                </a:moveTo>
                <a:lnTo>
                  <a:pt x="264" y="174"/>
                </a:lnTo>
                <a:lnTo>
                  <a:pt x="300" y="174"/>
                </a:lnTo>
                <a:lnTo>
                  <a:pt x="300" y="156"/>
                </a:lnTo>
                <a:lnTo>
                  <a:pt x="264" y="15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79080" y="17640360"/>
            <a:ext cx="596880" cy="577800"/>
          </a:xfrm>
          <a:custGeom>
            <a:avLst/>
            <a:gdLst/>
            <a:ahLst/>
            <a:rect l="l" t="t" r="r" b="b"/>
            <a:pathLst>
              <a:path w="376" h="364">
                <a:moveTo>
                  <a:pt x="162" y="202"/>
                </a:moveTo>
                <a:lnTo>
                  <a:pt x="122" y="216"/>
                </a:lnTo>
                <a:lnTo>
                  <a:pt x="122" y="216"/>
                </a:lnTo>
                <a:lnTo>
                  <a:pt x="120" y="202"/>
                </a:lnTo>
                <a:lnTo>
                  <a:pt x="120" y="202"/>
                </a:lnTo>
                <a:lnTo>
                  <a:pt x="106" y="202"/>
                </a:lnTo>
                <a:lnTo>
                  <a:pt x="106" y="364"/>
                </a:lnTo>
                <a:lnTo>
                  <a:pt x="60" y="364"/>
                </a:lnTo>
                <a:lnTo>
                  <a:pt x="60" y="208"/>
                </a:lnTo>
                <a:lnTo>
                  <a:pt x="60" y="208"/>
                </a:lnTo>
                <a:lnTo>
                  <a:pt x="22" y="212"/>
                </a:lnTo>
                <a:lnTo>
                  <a:pt x="22" y="212"/>
                </a:lnTo>
                <a:lnTo>
                  <a:pt x="8" y="214"/>
                </a:lnTo>
                <a:lnTo>
                  <a:pt x="4" y="162"/>
                </a:lnTo>
                <a:lnTo>
                  <a:pt x="4" y="162"/>
                </a:lnTo>
                <a:lnTo>
                  <a:pt x="26" y="162"/>
                </a:lnTo>
                <a:lnTo>
                  <a:pt x="26" y="162"/>
                </a:lnTo>
                <a:lnTo>
                  <a:pt x="44" y="138"/>
                </a:lnTo>
                <a:lnTo>
                  <a:pt x="44" y="138"/>
                </a:lnTo>
                <a:lnTo>
                  <a:pt x="32" y="122"/>
                </a:lnTo>
                <a:lnTo>
                  <a:pt x="20" y="110"/>
                </a:lnTo>
                <a:lnTo>
                  <a:pt x="0" y="92"/>
                </a:lnTo>
                <a:lnTo>
                  <a:pt x="20" y="40"/>
                </a:lnTo>
                <a:lnTo>
                  <a:pt x="20" y="40"/>
                </a:lnTo>
                <a:lnTo>
                  <a:pt x="32" y="50"/>
                </a:lnTo>
                <a:lnTo>
                  <a:pt x="32" y="50"/>
                </a:lnTo>
                <a:lnTo>
                  <a:pt x="48" y="20"/>
                </a:lnTo>
                <a:lnTo>
                  <a:pt x="56" y="0"/>
                </a:lnTo>
                <a:lnTo>
                  <a:pt x="104" y="10"/>
                </a:lnTo>
                <a:lnTo>
                  <a:pt x="104" y="10"/>
                </a:lnTo>
                <a:lnTo>
                  <a:pt x="94" y="30"/>
                </a:lnTo>
                <a:lnTo>
                  <a:pt x="82" y="50"/>
                </a:lnTo>
                <a:lnTo>
                  <a:pt x="62" y="80"/>
                </a:lnTo>
                <a:lnTo>
                  <a:pt x="62" y="80"/>
                </a:lnTo>
                <a:lnTo>
                  <a:pt x="76" y="94"/>
                </a:lnTo>
                <a:lnTo>
                  <a:pt x="76" y="94"/>
                </a:lnTo>
                <a:lnTo>
                  <a:pt x="90" y="70"/>
                </a:lnTo>
                <a:lnTo>
                  <a:pt x="108" y="38"/>
                </a:lnTo>
                <a:lnTo>
                  <a:pt x="152" y="56"/>
                </a:lnTo>
                <a:lnTo>
                  <a:pt x="152" y="56"/>
                </a:lnTo>
                <a:lnTo>
                  <a:pt x="144" y="70"/>
                </a:lnTo>
                <a:lnTo>
                  <a:pt x="144" y="70"/>
                </a:lnTo>
                <a:lnTo>
                  <a:pt x="168" y="50"/>
                </a:lnTo>
                <a:lnTo>
                  <a:pt x="186" y="34"/>
                </a:lnTo>
                <a:lnTo>
                  <a:pt x="200" y="16"/>
                </a:lnTo>
                <a:lnTo>
                  <a:pt x="210" y="0"/>
                </a:lnTo>
                <a:lnTo>
                  <a:pt x="268" y="4"/>
                </a:lnTo>
                <a:lnTo>
                  <a:pt x="268" y="4"/>
                </a:lnTo>
                <a:lnTo>
                  <a:pt x="264" y="14"/>
                </a:lnTo>
                <a:lnTo>
                  <a:pt x="258" y="26"/>
                </a:lnTo>
                <a:lnTo>
                  <a:pt x="350" y="26"/>
                </a:lnTo>
                <a:lnTo>
                  <a:pt x="350" y="74"/>
                </a:lnTo>
                <a:lnTo>
                  <a:pt x="350" y="74"/>
                </a:lnTo>
                <a:lnTo>
                  <a:pt x="334" y="100"/>
                </a:lnTo>
                <a:lnTo>
                  <a:pt x="322" y="116"/>
                </a:lnTo>
                <a:lnTo>
                  <a:pt x="302" y="134"/>
                </a:lnTo>
                <a:lnTo>
                  <a:pt x="302" y="134"/>
                </a:lnTo>
                <a:lnTo>
                  <a:pt x="326" y="144"/>
                </a:lnTo>
                <a:lnTo>
                  <a:pt x="344" y="150"/>
                </a:lnTo>
                <a:lnTo>
                  <a:pt x="376" y="158"/>
                </a:lnTo>
                <a:lnTo>
                  <a:pt x="350" y="212"/>
                </a:lnTo>
                <a:lnTo>
                  <a:pt x="348" y="212"/>
                </a:lnTo>
                <a:lnTo>
                  <a:pt x="348" y="364"/>
                </a:lnTo>
                <a:lnTo>
                  <a:pt x="294" y="364"/>
                </a:lnTo>
                <a:lnTo>
                  <a:pt x="294" y="350"/>
                </a:lnTo>
                <a:lnTo>
                  <a:pt x="222" y="350"/>
                </a:lnTo>
                <a:lnTo>
                  <a:pt x="222" y="364"/>
                </a:lnTo>
                <a:lnTo>
                  <a:pt x="168" y="364"/>
                </a:lnTo>
                <a:lnTo>
                  <a:pt x="168" y="212"/>
                </a:lnTo>
                <a:lnTo>
                  <a:pt x="162" y="202"/>
                </a:lnTo>
                <a:close/>
                <a:moveTo>
                  <a:pt x="50" y="228"/>
                </a:moveTo>
                <a:lnTo>
                  <a:pt x="50" y="228"/>
                </a:lnTo>
                <a:lnTo>
                  <a:pt x="48" y="278"/>
                </a:lnTo>
                <a:lnTo>
                  <a:pt x="44" y="312"/>
                </a:lnTo>
                <a:lnTo>
                  <a:pt x="38" y="346"/>
                </a:lnTo>
                <a:lnTo>
                  <a:pt x="0" y="320"/>
                </a:lnTo>
                <a:lnTo>
                  <a:pt x="0" y="320"/>
                </a:lnTo>
                <a:lnTo>
                  <a:pt x="6" y="292"/>
                </a:lnTo>
                <a:lnTo>
                  <a:pt x="10" y="264"/>
                </a:lnTo>
                <a:lnTo>
                  <a:pt x="12" y="224"/>
                </a:lnTo>
                <a:lnTo>
                  <a:pt x="50" y="228"/>
                </a:lnTo>
                <a:close/>
                <a:moveTo>
                  <a:pt x="138" y="78"/>
                </a:moveTo>
                <a:lnTo>
                  <a:pt x="138" y="78"/>
                </a:lnTo>
                <a:lnTo>
                  <a:pt x="106" y="128"/>
                </a:lnTo>
                <a:lnTo>
                  <a:pt x="80" y="158"/>
                </a:lnTo>
                <a:lnTo>
                  <a:pt x="80" y="158"/>
                </a:lnTo>
                <a:lnTo>
                  <a:pt x="110" y="158"/>
                </a:lnTo>
                <a:lnTo>
                  <a:pt x="110" y="158"/>
                </a:lnTo>
                <a:lnTo>
                  <a:pt x="102" y="134"/>
                </a:lnTo>
                <a:lnTo>
                  <a:pt x="140" y="120"/>
                </a:lnTo>
                <a:lnTo>
                  <a:pt x="140" y="120"/>
                </a:lnTo>
                <a:lnTo>
                  <a:pt x="146" y="138"/>
                </a:lnTo>
                <a:lnTo>
                  <a:pt x="154" y="158"/>
                </a:lnTo>
                <a:lnTo>
                  <a:pt x="154" y="158"/>
                </a:lnTo>
                <a:lnTo>
                  <a:pt x="182" y="148"/>
                </a:lnTo>
                <a:lnTo>
                  <a:pt x="212" y="136"/>
                </a:lnTo>
                <a:lnTo>
                  <a:pt x="212" y="136"/>
                </a:lnTo>
                <a:lnTo>
                  <a:pt x="198" y="118"/>
                </a:lnTo>
                <a:lnTo>
                  <a:pt x="186" y="106"/>
                </a:lnTo>
                <a:lnTo>
                  <a:pt x="186" y="106"/>
                </a:lnTo>
                <a:lnTo>
                  <a:pt x="162" y="122"/>
                </a:lnTo>
                <a:lnTo>
                  <a:pt x="138" y="78"/>
                </a:lnTo>
                <a:close/>
                <a:moveTo>
                  <a:pt x="148" y="222"/>
                </a:moveTo>
                <a:lnTo>
                  <a:pt x="148" y="222"/>
                </a:lnTo>
                <a:lnTo>
                  <a:pt x="156" y="272"/>
                </a:lnTo>
                <a:lnTo>
                  <a:pt x="158" y="310"/>
                </a:lnTo>
                <a:lnTo>
                  <a:pt x="122" y="318"/>
                </a:lnTo>
                <a:lnTo>
                  <a:pt x="122" y="318"/>
                </a:lnTo>
                <a:lnTo>
                  <a:pt x="122" y="296"/>
                </a:lnTo>
                <a:lnTo>
                  <a:pt x="120" y="272"/>
                </a:lnTo>
                <a:lnTo>
                  <a:pt x="114" y="228"/>
                </a:lnTo>
                <a:lnTo>
                  <a:pt x="148" y="222"/>
                </a:lnTo>
                <a:close/>
                <a:moveTo>
                  <a:pt x="330" y="206"/>
                </a:moveTo>
                <a:lnTo>
                  <a:pt x="330" y="206"/>
                </a:lnTo>
                <a:lnTo>
                  <a:pt x="302" y="196"/>
                </a:lnTo>
                <a:lnTo>
                  <a:pt x="282" y="186"/>
                </a:lnTo>
                <a:lnTo>
                  <a:pt x="256" y="170"/>
                </a:lnTo>
                <a:lnTo>
                  <a:pt x="256" y="170"/>
                </a:lnTo>
                <a:lnTo>
                  <a:pt x="224" y="190"/>
                </a:lnTo>
                <a:lnTo>
                  <a:pt x="204" y="198"/>
                </a:lnTo>
                <a:lnTo>
                  <a:pt x="182" y="206"/>
                </a:lnTo>
                <a:lnTo>
                  <a:pt x="330" y="206"/>
                </a:lnTo>
                <a:close/>
                <a:moveTo>
                  <a:pt x="222" y="74"/>
                </a:moveTo>
                <a:lnTo>
                  <a:pt x="222" y="74"/>
                </a:lnTo>
                <a:lnTo>
                  <a:pt x="222" y="74"/>
                </a:lnTo>
                <a:lnTo>
                  <a:pt x="238" y="92"/>
                </a:lnTo>
                <a:lnTo>
                  <a:pt x="258" y="108"/>
                </a:lnTo>
                <a:lnTo>
                  <a:pt x="258" y="108"/>
                </a:lnTo>
                <a:lnTo>
                  <a:pt x="278" y="90"/>
                </a:lnTo>
                <a:lnTo>
                  <a:pt x="292" y="74"/>
                </a:lnTo>
                <a:lnTo>
                  <a:pt x="222" y="74"/>
                </a:lnTo>
                <a:close/>
                <a:moveTo>
                  <a:pt x="222" y="256"/>
                </a:moveTo>
                <a:lnTo>
                  <a:pt x="222" y="298"/>
                </a:lnTo>
                <a:lnTo>
                  <a:pt x="294" y="298"/>
                </a:lnTo>
                <a:lnTo>
                  <a:pt x="294" y="256"/>
                </a:lnTo>
                <a:lnTo>
                  <a:pt x="222" y="25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067760" y="17691120"/>
            <a:ext cx="101880" cy="476280"/>
          </a:xfrm>
          <a:custGeom>
            <a:avLst/>
            <a:gdLst/>
            <a:ahLst/>
            <a:rect l="l" t="t" r="r" b="b"/>
            <a:pathLst>
              <a:path w="64" h="300">
                <a:moveTo>
                  <a:pt x="64" y="0"/>
                </a:moveTo>
                <a:lnTo>
                  <a:pt x="56" y="212"/>
                </a:lnTo>
                <a:lnTo>
                  <a:pt x="8" y="212"/>
                </a:lnTo>
                <a:lnTo>
                  <a:pt x="0" y="0"/>
                </a:lnTo>
                <a:lnTo>
                  <a:pt x="64" y="0"/>
                </a:lnTo>
                <a:close/>
                <a:moveTo>
                  <a:pt x="62" y="240"/>
                </a:moveTo>
                <a:lnTo>
                  <a:pt x="62" y="300"/>
                </a:lnTo>
                <a:lnTo>
                  <a:pt x="2" y="300"/>
                </a:lnTo>
                <a:lnTo>
                  <a:pt x="2" y="240"/>
                </a:lnTo>
                <a:lnTo>
                  <a:pt x="62" y="2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3240" y="18726120"/>
            <a:ext cx="56196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74000" y="18491040"/>
            <a:ext cx="593640" cy="574920"/>
          </a:xfrm>
          <a:custGeom>
            <a:avLst/>
            <a:gdLst/>
            <a:ahLst/>
            <a:rect l="l" t="t" r="r" b="b"/>
            <a:pathLst>
              <a:path w="374" h="362">
                <a:moveTo>
                  <a:pt x="156" y="0"/>
                </a:moveTo>
                <a:lnTo>
                  <a:pt x="218" y="0"/>
                </a:lnTo>
                <a:lnTo>
                  <a:pt x="218" y="60"/>
                </a:lnTo>
                <a:lnTo>
                  <a:pt x="218" y="60"/>
                </a:lnTo>
                <a:lnTo>
                  <a:pt x="220" y="82"/>
                </a:lnTo>
                <a:lnTo>
                  <a:pt x="226" y="114"/>
                </a:lnTo>
                <a:lnTo>
                  <a:pt x="230" y="134"/>
                </a:lnTo>
                <a:lnTo>
                  <a:pt x="236" y="156"/>
                </a:lnTo>
                <a:lnTo>
                  <a:pt x="244" y="178"/>
                </a:lnTo>
                <a:lnTo>
                  <a:pt x="254" y="200"/>
                </a:lnTo>
                <a:lnTo>
                  <a:pt x="254" y="200"/>
                </a:lnTo>
                <a:lnTo>
                  <a:pt x="264" y="218"/>
                </a:lnTo>
                <a:lnTo>
                  <a:pt x="276" y="234"/>
                </a:lnTo>
                <a:lnTo>
                  <a:pt x="290" y="250"/>
                </a:lnTo>
                <a:lnTo>
                  <a:pt x="304" y="264"/>
                </a:lnTo>
                <a:lnTo>
                  <a:pt x="320" y="276"/>
                </a:lnTo>
                <a:lnTo>
                  <a:pt x="338" y="288"/>
                </a:lnTo>
                <a:lnTo>
                  <a:pt x="356" y="298"/>
                </a:lnTo>
                <a:lnTo>
                  <a:pt x="374" y="308"/>
                </a:lnTo>
                <a:lnTo>
                  <a:pt x="336" y="362"/>
                </a:lnTo>
                <a:lnTo>
                  <a:pt x="336" y="362"/>
                </a:lnTo>
                <a:lnTo>
                  <a:pt x="306" y="344"/>
                </a:lnTo>
                <a:lnTo>
                  <a:pt x="280" y="324"/>
                </a:lnTo>
                <a:lnTo>
                  <a:pt x="256" y="302"/>
                </a:lnTo>
                <a:lnTo>
                  <a:pt x="238" y="280"/>
                </a:lnTo>
                <a:lnTo>
                  <a:pt x="222" y="256"/>
                </a:lnTo>
                <a:lnTo>
                  <a:pt x="208" y="232"/>
                </a:lnTo>
                <a:lnTo>
                  <a:pt x="196" y="208"/>
                </a:lnTo>
                <a:lnTo>
                  <a:pt x="188" y="184"/>
                </a:lnTo>
                <a:lnTo>
                  <a:pt x="188" y="184"/>
                </a:lnTo>
                <a:lnTo>
                  <a:pt x="182" y="200"/>
                </a:lnTo>
                <a:lnTo>
                  <a:pt x="170" y="226"/>
                </a:lnTo>
                <a:lnTo>
                  <a:pt x="152" y="258"/>
                </a:lnTo>
                <a:lnTo>
                  <a:pt x="142" y="274"/>
                </a:lnTo>
                <a:lnTo>
                  <a:pt x="128" y="292"/>
                </a:lnTo>
                <a:lnTo>
                  <a:pt x="128" y="292"/>
                </a:lnTo>
                <a:lnTo>
                  <a:pt x="108" y="312"/>
                </a:lnTo>
                <a:lnTo>
                  <a:pt x="86" y="332"/>
                </a:lnTo>
                <a:lnTo>
                  <a:pt x="64" y="348"/>
                </a:lnTo>
                <a:lnTo>
                  <a:pt x="38" y="362"/>
                </a:lnTo>
                <a:lnTo>
                  <a:pt x="0" y="308"/>
                </a:lnTo>
                <a:lnTo>
                  <a:pt x="0" y="308"/>
                </a:lnTo>
                <a:lnTo>
                  <a:pt x="10" y="304"/>
                </a:lnTo>
                <a:lnTo>
                  <a:pt x="10" y="304"/>
                </a:lnTo>
                <a:lnTo>
                  <a:pt x="24" y="296"/>
                </a:lnTo>
                <a:lnTo>
                  <a:pt x="38" y="288"/>
                </a:lnTo>
                <a:lnTo>
                  <a:pt x="54" y="276"/>
                </a:lnTo>
                <a:lnTo>
                  <a:pt x="70" y="264"/>
                </a:lnTo>
                <a:lnTo>
                  <a:pt x="86" y="250"/>
                </a:lnTo>
                <a:lnTo>
                  <a:pt x="100" y="232"/>
                </a:lnTo>
                <a:lnTo>
                  <a:pt x="114" y="214"/>
                </a:lnTo>
                <a:lnTo>
                  <a:pt x="126" y="192"/>
                </a:lnTo>
                <a:lnTo>
                  <a:pt x="126" y="192"/>
                </a:lnTo>
                <a:lnTo>
                  <a:pt x="138" y="162"/>
                </a:lnTo>
                <a:lnTo>
                  <a:pt x="148" y="128"/>
                </a:lnTo>
                <a:lnTo>
                  <a:pt x="154" y="94"/>
                </a:lnTo>
                <a:lnTo>
                  <a:pt x="156" y="60"/>
                </a:lnTo>
                <a:lnTo>
                  <a:pt x="15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05800" y="18532440"/>
            <a:ext cx="542880" cy="511200"/>
          </a:xfrm>
          <a:custGeom>
            <a:avLst/>
            <a:gdLst/>
            <a:ahLst/>
            <a:rect l="l" t="t" r="r" b="b"/>
            <a:pathLst>
              <a:path w="342" h="322">
                <a:moveTo>
                  <a:pt x="330" y="0"/>
                </a:moveTo>
                <a:lnTo>
                  <a:pt x="336" y="0"/>
                </a:lnTo>
                <a:lnTo>
                  <a:pt x="336" y="62"/>
                </a:lnTo>
                <a:lnTo>
                  <a:pt x="336" y="62"/>
                </a:lnTo>
                <a:lnTo>
                  <a:pt x="320" y="60"/>
                </a:lnTo>
                <a:lnTo>
                  <a:pt x="292" y="60"/>
                </a:lnTo>
                <a:lnTo>
                  <a:pt x="292" y="60"/>
                </a:lnTo>
                <a:lnTo>
                  <a:pt x="276" y="60"/>
                </a:lnTo>
                <a:lnTo>
                  <a:pt x="264" y="62"/>
                </a:lnTo>
                <a:lnTo>
                  <a:pt x="264" y="62"/>
                </a:lnTo>
                <a:lnTo>
                  <a:pt x="244" y="70"/>
                </a:lnTo>
                <a:lnTo>
                  <a:pt x="222" y="80"/>
                </a:lnTo>
                <a:lnTo>
                  <a:pt x="202" y="94"/>
                </a:lnTo>
                <a:lnTo>
                  <a:pt x="182" y="110"/>
                </a:lnTo>
                <a:lnTo>
                  <a:pt x="166" y="128"/>
                </a:lnTo>
                <a:lnTo>
                  <a:pt x="152" y="148"/>
                </a:lnTo>
                <a:lnTo>
                  <a:pt x="148" y="158"/>
                </a:lnTo>
                <a:lnTo>
                  <a:pt x="144" y="170"/>
                </a:lnTo>
                <a:lnTo>
                  <a:pt x="142" y="180"/>
                </a:lnTo>
                <a:lnTo>
                  <a:pt x="142" y="190"/>
                </a:lnTo>
                <a:lnTo>
                  <a:pt x="142" y="190"/>
                </a:lnTo>
                <a:lnTo>
                  <a:pt x="142" y="198"/>
                </a:lnTo>
                <a:lnTo>
                  <a:pt x="144" y="206"/>
                </a:lnTo>
                <a:lnTo>
                  <a:pt x="146" y="214"/>
                </a:lnTo>
                <a:lnTo>
                  <a:pt x="152" y="220"/>
                </a:lnTo>
                <a:lnTo>
                  <a:pt x="162" y="232"/>
                </a:lnTo>
                <a:lnTo>
                  <a:pt x="176" y="240"/>
                </a:lnTo>
                <a:lnTo>
                  <a:pt x="192" y="246"/>
                </a:lnTo>
                <a:lnTo>
                  <a:pt x="206" y="250"/>
                </a:lnTo>
                <a:lnTo>
                  <a:pt x="236" y="254"/>
                </a:lnTo>
                <a:lnTo>
                  <a:pt x="236" y="254"/>
                </a:lnTo>
                <a:lnTo>
                  <a:pt x="278" y="258"/>
                </a:lnTo>
                <a:lnTo>
                  <a:pt x="304" y="256"/>
                </a:lnTo>
                <a:lnTo>
                  <a:pt x="298" y="322"/>
                </a:lnTo>
                <a:lnTo>
                  <a:pt x="298" y="322"/>
                </a:lnTo>
                <a:lnTo>
                  <a:pt x="240" y="320"/>
                </a:lnTo>
                <a:lnTo>
                  <a:pt x="196" y="314"/>
                </a:lnTo>
                <a:lnTo>
                  <a:pt x="164" y="306"/>
                </a:lnTo>
                <a:lnTo>
                  <a:pt x="138" y="294"/>
                </a:lnTo>
                <a:lnTo>
                  <a:pt x="138" y="294"/>
                </a:lnTo>
                <a:lnTo>
                  <a:pt x="126" y="288"/>
                </a:lnTo>
                <a:lnTo>
                  <a:pt x="116" y="280"/>
                </a:lnTo>
                <a:lnTo>
                  <a:pt x="106" y="272"/>
                </a:lnTo>
                <a:lnTo>
                  <a:pt x="96" y="260"/>
                </a:lnTo>
                <a:lnTo>
                  <a:pt x="88" y="248"/>
                </a:lnTo>
                <a:lnTo>
                  <a:pt x="82" y="234"/>
                </a:lnTo>
                <a:lnTo>
                  <a:pt x="78" y="218"/>
                </a:lnTo>
                <a:lnTo>
                  <a:pt x="78" y="200"/>
                </a:lnTo>
                <a:lnTo>
                  <a:pt x="78" y="200"/>
                </a:lnTo>
                <a:lnTo>
                  <a:pt x="78" y="186"/>
                </a:lnTo>
                <a:lnTo>
                  <a:pt x="80" y="172"/>
                </a:lnTo>
                <a:lnTo>
                  <a:pt x="84" y="160"/>
                </a:lnTo>
                <a:lnTo>
                  <a:pt x="88" y="148"/>
                </a:lnTo>
                <a:lnTo>
                  <a:pt x="98" y="126"/>
                </a:lnTo>
                <a:lnTo>
                  <a:pt x="112" y="108"/>
                </a:lnTo>
                <a:lnTo>
                  <a:pt x="126" y="92"/>
                </a:lnTo>
                <a:lnTo>
                  <a:pt x="140" y="80"/>
                </a:lnTo>
                <a:lnTo>
                  <a:pt x="164" y="62"/>
                </a:lnTo>
                <a:lnTo>
                  <a:pt x="164" y="62"/>
                </a:lnTo>
                <a:lnTo>
                  <a:pt x="28" y="70"/>
                </a:lnTo>
                <a:lnTo>
                  <a:pt x="28" y="70"/>
                </a:lnTo>
                <a:lnTo>
                  <a:pt x="2" y="72"/>
                </a:lnTo>
                <a:lnTo>
                  <a:pt x="0" y="8"/>
                </a:lnTo>
                <a:lnTo>
                  <a:pt x="0" y="8"/>
                </a:lnTo>
                <a:lnTo>
                  <a:pt x="116" y="4"/>
                </a:lnTo>
                <a:lnTo>
                  <a:pt x="248" y="0"/>
                </a:lnTo>
                <a:lnTo>
                  <a:pt x="330" y="0"/>
                </a:lnTo>
                <a:close/>
                <a:moveTo>
                  <a:pt x="256" y="178"/>
                </a:moveTo>
                <a:lnTo>
                  <a:pt x="256" y="178"/>
                </a:lnTo>
                <a:lnTo>
                  <a:pt x="242" y="150"/>
                </a:lnTo>
                <a:lnTo>
                  <a:pt x="222" y="118"/>
                </a:lnTo>
                <a:lnTo>
                  <a:pt x="256" y="102"/>
                </a:lnTo>
                <a:lnTo>
                  <a:pt x="256" y="102"/>
                </a:lnTo>
                <a:lnTo>
                  <a:pt x="274" y="130"/>
                </a:lnTo>
                <a:lnTo>
                  <a:pt x="290" y="158"/>
                </a:lnTo>
                <a:lnTo>
                  <a:pt x="256" y="178"/>
                </a:lnTo>
                <a:close/>
                <a:moveTo>
                  <a:pt x="310" y="150"/>
                </a:moveTo>
                <a:lnTo>
                  <a:pt x="310" y="150"/>
                </a:lnTo>
                <a:lnTo>
                  <a:pt x="296" y="126"/>
                </a:lnTo>
                <a:lnTo>
                  <a:pt x="286" y="110"/>
                </a:lnTo>
                <a:lnTo>
                  <a:pt x="274" y="94"/>
                </a:lnTo>
                <a:lnTo>
                  <a:pt x="308" y="76"/>
                </a:lnTo>
                <a:lnTo>
                  <a:pt x="308" y="76"/>
                </a:lnTo>
                <a:lnTo>
                  <a:pt x="326" y="102"/>
                </a:lnTo>
                <a:lnTo>
                  <a:pt x="334" y="116"/>
                </a:lnTo>
                <a:lnTo>
                  <a:pt x="342" y="130"/>
                </a:lnTo>
                <a:lnTo>
                  <a:pt x="310" y="1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90080" y="18491040"/>
            <a:ext cx="583920" cy="574920"/>
          </a:xfrm>
          <a:custGeom>
            <a:avLst/>
            <a:gdLst/>
            <a:ahLst/>
            <a:rect l="l" t="t" r="r" b="b"/>
            <a:pathLst>
              <a:path w="368" h="362">
                <a:moveTo>
                  <a:pt x="110" y="116"/>
                </a:moveTo>
                <a:lnTo>
                  <a:pt x="96" y="116"/>
                </a:lnTo>
                <a:lnTo>
                  <a:pt x="96" y="166"/>
                </a:lnTo>
                <a:lnTo>
                  <a:pt x="96" y="166"/>
                </a:lnTo>
                <a:lnTo>
                  <a:pt x="126" y="156"/>
                </a:lnTo>
                <a:lnTo>
                  <a:pt x="128" y="210"/>
                </a:lnTo>
                <a:lnTo>
                  <a:pt x="128" y="210"/>
                </a:lnTo>
                <a:lnTo>
                  <a:pt x="96" y="222"/>
                </a:lnTo>
                <a:lnTo>
                  <a:pt x="96" y="332"/>
                </a:lnTo>
                <a:lnTo>
                  <a:pt x="96" y="332"/>
                </a:lnTo>
                <a:lnTo>
                  <a:pt x="96" y="340"/>
                </a:lnTo>
                <a:lnTo>
                  <a:pt x="92" y="348"/>
                </a:lnTo>
                <a:lnTo>
                  <a:pt x="88" y="354"/>
                </a:lnTo>
                <a:lnTo>
                  <a:pt x="82" y="358"/>
                </a:lnTo>
                <a:lnTo>
                  <a:pt x="72" y="362"/>
                </a:lnTo>
                <a:lnTo>
                  <a:pt x="66" y="362"/>
                </a:lnTo>
                <a:lnTo>
                  <a:pt x="12" y="362"/>
                </a:lnTo>
                <a:lnTo>
                  <a:pt x="4" y="304"/>
                </a:lnTo>
                <a:lnTo>
                  <a:pt x="32" y="304"/>
                </a:lnTo>
                <a:lnTo>
                  <a:pt x="32" y="304"/>
                </a:lnTo>
                <a:lnTo>
                  <a:pt x="38" y="302"/>
                </a:lnTo>
                <a:lnTo>
                  <a:pt x="42" y="302"/>
                </a:lnTo>
                <a:lnTo>
                  <a:pt x="42" y="298"/>
                </a:lnTo>
                <a:lnTo>
                  <a:pt x="42" y="294"/>
                </a:lnTo>
                <a:lnTo>
                  <a:pt x="42" y="240"/>
                </a:lnTo>
                <a:lnTo>
                  <a:pt x="42" y="240"/>
                </a:lnTo>
                <a:lnTo>
                  <a:pt x="22" y="246"/>
                </a:lnTo>
                <a:lnTo>
                  <a:pt x="6" y="250"/>
                </a:lnTo>
                <a:lnTo>
                  <a:pt x="0" y="192"/>
                </a:lnTo>
                <a:lnTo>
                  <a:pt x="0" y="192"/>
                </a:lnTo>
                <a:lnTo>
                  <a:pt x="42" y="182"/>
                </a:lnTo>
                <a:lnTo>
                  <a:pt x="42" y="116"/>
                </a:lnTo>
                <a:lnTo>
                  <a:pt x="2" y="116"/>
                </a:lnTo>
                <a:lnTo>
                  <a:pt x="2" y="62"/>
                </a:lnTo>
                <a:lnTo>
                  <a:pt x="42" y="62"/>
                </a:lnTo>
                <a:lnTo>
                  <a:pt x="42" y="0"/>
                </a:lnTo>
                <a:lnTo>
                  <a:pt x="96" y="0"/>
                </a:lnTo>
                <a:lnTo>
                  <a:pt x="96" y="62"/>
                </a:lnTo>
                <a:lnTo>
                  <a:pt x="128" y="62"/>
                </a:lnTo>
                <a:lnTo>
                  <a:pt x="128" y="88"/>
                </a:lnTo>
                <a:lnTo>
                  <a:pt x="128" y="88"/>
                </a:lnTo>
                <a:lnTo>
                  <a:pt x="136" y="76"/>
                </a:lnTo>
                <a:lnTo>
                  <a:pt x="146" y="58"/>
                </a:lnTo>
                <a:lnTo>
                  <a:pt x="158" y="30"/>
                </a:lnTo>
                <a:lnTo>
                  <a:pt x="162" y="16"/>
                </a:lnTo>
                <a:lnTo>
                  <a:pt x="166" y="0"/>
                </a:lnTo>
                <a:lnTo>
                  <a:pt x="220" y="4"/>
                </a:lnTo>
                <a:lnTo>
                  <a:pt x="220" y="4"/>
                </a:lnTo>
                <a:lnTo>
                  <a:pt x="212" y="32"/>
                </a:lnTo>
                <a:lnTo>
                  <a:pt x="354" y="32"/>
                </a:lnTo>
                <a:lnTo>
                  <a:pt x="354" y="32"/>
                </a:lnTo>
                <a:lnTo>
                  <a:pt x="354" y="154"/>
                </a:lnTo>
                <a:lnTo>
                  <a:pt x="352" y="200"/>
                </a:lnTo>
                <a:lnTo>
                  <a:pt x="348" y="230"/>
                </a:lnTo>
                <a:lnTo>
                  <a:pt x="348" y="230"/>
                </a:lnTo>
                <a:lnTo>
                  <a:pt x="344" y="240"/>
                </a:lnTo>
                <a:lnTo>
                  <a:pt x="342" y="248"/>
                </a:lnTo>
                <a:lnTo>
                  <a:pt x="338" y="254"/>
                </a:lnTo>
                <a:lnTo>
                  <a:pt x="332" y="258"/>
                </a:lnTo>
                <a:lnTo>
                  <a:pt x="368" y="268"/>
                </a:lnTo>
                <a:lnTo>
                  <a:pt x="368" y="268"/>
                </a:lnTo>
                <a:lnTo>
                  <a:pt x="364" y="310"/>
                </a:lnTo>
                <a:lnTo>
                  <a:pt x="362" y="326"/>
                </a:lnTo>
                <a:lnTo>
                  <a:pt x="358" y="338"/>
                </a:lnTo>
                <a:lnTo>
                  <a:pt x="352" y="346"/>
                </a:lnTo>
                <a:lnTo>
                  <a:pt x="344" y="354"/>
                </a:lnTo>
                <a:lnTo>
                  <a:pt x="334" y="356"/>
                </a:lnTo>
                <a:lnTo>
                  <a:pt x="320" y="358"/>
                </a:lnTo>
                <a:lnTo>
                  <a:pt x="184" y="358"/>
                </a:lnTo>
                <a:lnTo>
                  <a:pt x="184" y="358"/>
                </a:lnTo>
                <a:lnTo>
                  <a:pt x="170" y="356"/>
                </a:lnTo>
                <a:lnTo>
                  <a:pt x="162" y="356"/>
                </a:lnTo>
                <a:lnTo>
                  <a:pt x="156" y="352"/>
                </a:lnTo>
                <a:lnTo>
                  <a:pt x="152" y="348"/>
                </a:lnTo>
                <a:lnTo>
                  <a:pt x="146" y="342"/>
                </a:lnTo>
                <a:lnTo>
                  <a:pt x="144" y="332"/>
                </a:lnTo>
                <a:lnTo>
                  <a:pt x="144" y="320"/>
                </a:lnTo>
                <a:lnTo>
                  <a:pt x="144" y="190"/>
                </a:lnTo>
                <a:lnTo>
                  <a:pt x="228" y="190"/>
                </a:lnTo>
                <a:lnTo>
                  <a:pt x="228" y="158"/>
                </a:lnTo>
                <a:lnTo>
                  <a:pt x="150" y="158"/>
                </a:lnTo>
                <a:lnTo>
                  <a:pt x="150" y="148"/>
                </a:lnTo>
                <a:lnTo>
                  <a:pt x="150" y="148"/>
                </a:lnTo>
                <a:lnTo>
                  <a:pt x="140" y="158"/>
                </a:lnTo>
                <a:lnTo>
                  <a:pt x="110" y="116"/>
                </a:lnTo>
                <a:close/>
                <a:moveTo>
                  <a:pt x="192" y="86"/>
                </a:moveTo>
                <a:lnTo>
                  <a:pt x="192" y="86"/>
                </a:lnTo>
                <a:lnTo>
                  <a:pt x="180" y="108"/>
                </a:lnTo>
                <a:lnTo>
                  <a:pt x="278" y="108"/>
                </a:lnTo>
                <a:lnTo>
                  <a:pt x="278" y="216"/>
                </a:lnTo>
                <a:lnTo>
                  <a:pt x="288" y="216"/>
                </a:lnTo>
                <a:lnTo>
                  <a:pt x="288" y="216"/>
                </a:lnTo>
                <a:lnTo>
                  <a:pt x="294" y="214"/>
                </a:lnTo>
                <a:lnTo>
                  <a:pt x="296" y="214"/>
                </a:lnTo>
                <a:lnTo>
                  <a:pt x="298" y="210"/>
                </a:lnTo>
                <a:lnTo>
                  <a:pt x="298" y="210"/>
                </a:lnTo>
                <a:lnTo>
                  <a:pt x="300" y="196"/>
                </a:lnTo>
                <a:lnTo>
                  <a:pt x="300" y="170"/>
                </a:lnTo>
                <a:lnTo>
                  <a:pt x="302" y="86"/>
                </a:lnTo>
                <a:lnTo>
                  <a:pt x="192" y="86"/>
                </a:lnTo>
                <a:close/>
                <a:moveTo>
                  <a:pt x="200" y="240"/>
                </a:moveTo>
                <a:lnTo>
                  <a:pt x="200" y="294"/>
                </a:lnTo>
                <a:lnTo>
                  <a:pt x="200" y="294"/>
                </a:lnTo>
                <a:lnTo>
                  <a:pt x="200" y="300"/>
                </a:lnTo>
                <a:lnTo>
                  <a:pt x="200" y="302"/>
                </a:lnTo>
                <a:lnTo>
                  <a:pt x="204" y="304"/>
                </a:lnTo>
                <a:lnTo>
                  <a:pt x="210" y="306"/>
                </a:lnTo>
                <a:lnTo>
                  <a:pt x="302" y="306"/>
                </a:lnTo>
                <a:lnTo>
                  <a:pt x="302" y="306"/>
                </a:lnTo>
                <a:lnTo>
                  <a:pt x="308" y="304"/>
                </a:lnTo>
                <a:lnTo>
                  <a:pt x="310" y="302"/>
                </a:lnTo>
                <a:lnTo>
                  <a:pt x="314" y="296"/>
                </a:lnTo>
                <a:lnTo>
                  <a:pt x="314" y="296"/>
                </a:lnTo>
                <a:lnTo>
                  <a:pt x="316" y="284"/>
                </a:lnTo>
                <a:lnTo>
                  <a:pt x="316" y="266"/>
                </a:lnTo>
                <a:lnTo>
                  <a:pt x="316" y="266"/>
                </a:lnTo>
                <a:lnTo>
                  <a:pt x="274" y="266"/>
                </a:lnTo>
                <a:lnTo>
                  <a:pt x="268" y="240"/>
                </a:lnTo>
                <a:lnTo>
                  <a:pt x="200" y="2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08920" y="18504000"/>
            <a:ext cx="533520" cy="542880"/>
          </a:xfrm>
          <a:custGeom>
            <a:avLst/>
            <a:gdLst/>
            <a:ahLst/>
            <a:rect l="l" t="t" r="r" b="b"/>
            <a:pathLst>
              <a:path w="336" h="342">
                <a:moveTo>
                  <a:pt x="260" y="88"/>
                </a:moveTo>
                <a:lnTo>
                  <a:pt x="260" y="136"/>
                </a:lnTo>
                <a:lnTo>
                  <a:pt x="260" y="136"/>
                </a:lnTo>
                <a:lnTo>
                  <a:pt x="242" y="150"/>
                </a:lnTo>
                <a:lnTo>
                  <a:pt x="216" y="168"/>
                </a:lnTo>
                <a:lnTo>
                  <a:pt x="182" y="196"/>
                </a:lnTo>
                <a:lnTo>
                  <a:pt x="182" y="196"/>
                </a:lnTo>
                <a:lnTo>
                  <a:pt x="196" y="192"/>
                </a:lnTo>
                <a:lnTo>
                  <a:pt x="204" y="192"/>
                </a:lnTo>
                <a:lnTo>
                  <a:pt x="204" y="192"/>
                </a:lnTo>
                <a:lnTo>
                  <a:pt x="214" y="192"/>
                </a:lnTo>
                <a:lnTo>
                  <a:pt x="222" y="196"/>
                </a:lnTo>
                <a:lnTo>
                  <a:pt x="228" y="200"/>
                </a:lnTo>
                <a:lnTo>
                  <a:pt x="232" y="206"/>
                </a:lnTo>
                <a:lnTo>
                  <a:pt x="236" y="214"/>
                </a:lnTo>
                <a:lnTo>
                  <a:pt x="238" y="222"/>
                </a:lnTo>
                <a:lnTo>
                  <a:pt x="238" y="238"/>
                </a:lnTo>
                <a:lnTo>
                  <a:pt x="238" y="252"/>
                </a:lnTo>
                <a:lnTo>
                  <a:pt x="238" y="252"/>
                </a:lnTo>
                <a:lnTo>
                  <a:pt x="240" y="266"/>
                </a:lnTo>
                <a:lnTo>
                  <a:pt x="240" y="270"/>
                </a:lnTo>
                <a:lnTo>
                  <a:pt x="244" y="274"/>
                </a:lnTo>
                <a:lnTo>
                  <a:pt x="248" y="278"/>
                </a:lnTo>
                <a:lnTo>
                  <a:pt x="252" y="280"/>
                </a:lnTo>
                <a:lnTo>
                  <a:pt x="272" y="282"/>
                </a:lnTo>
                <a:lnTo>
                  <a:pt x="272" y="282"/>
                </a:lnTo>
                <a:lnTo>
                  <a:pt x="312" y="280"/>
                </a:lnTo>
                <a:lnTo>
                  <a:pt x="336" y="278"/>
                </a:lnTo>
                <a:lnTo>
                  <a:pt x="336" y="338"/>
                </a:lnTo>
                <a:lnTo>
                  <a:pt x="336" y="338"/>
                </a:lnTo>
                <a:lnTo>
                  <a:pt x="286" y="340"/>
                </a:lnTo>
                <a:lnTo>
                  <a:pt x="286" y="340"/>
                </a:lnTo>
                <a:lnTo>
                  <a:pt x="252" y="340"/>
                </a:lnTo>
                <a:lnTo>
                  <a:pt x="226" y="336"/>
                </a:lnTo>
                <a:lnTo>
                  <a:pt x="216" y="332"/>
                </a:lnTo>
                <a:lnTo>
                  <a:pt x="206" y="330"/>
                </a:lnTo>
                <a:lnTo>
                  <a:pt x="200" y="324"/>
                </a:lnTo>
                <a:lnTo>
                  <a:pt x="194" y="318"/>
                </a:lnTo>
                <a:lnTo>
                  <a:pt x="194" y="318"/>
                </a:lnTo>
                <a:lnTo>
                  <a:pt x="190" y="312"/>
                </a:lnTo>
                <a:lnTo>
                  <a:pt x="188" y="304"/>
                </a:lnTo>
                <a:lnTo>
                  <a:pt x="184" y="292"/>
                </a:lnTo>
                <a:lnTo>
                  <a:pt x="182" y="280"/>
                </a:lnTo>
                <a:lnTo>
                  <a:pt x="182" y="262"/>
                </a:lnTo>
                <a:lnTo>
                  <a:pt x="182" y="262"/>
                </a:lnTo>
                <a:lnTo>
                  <a:pt x="182" y="254"/>
                </a:lnTo>
                <a:lnTo>
                  <a:pt x="180" y="246"/>
                </a:lnTo>
                <a:lnTo>
                  <a:pt x="178" y="242"/>
                </a:lnTo>
                <a:lnTo>
                  <a:pt x="174" y="240"/>
                </a:lnTo>
                <a:lnTo>
                  <a:pt x="170" y="238"/>
                </a:lnTo>
                <a:lnTo>
                  <a:pt x="164" y="238"/>
                </a:lnTo>
                <a:lnTo>
                  <a:pt x="164" y="238"/>
                </a:lnTo>
                <a:lnTo>
                  <a:pt x="152" y="238"/>
                </a:lnTo>
                <a:lnTo>
                  <a:pt x="144" y="242"/>
                </a:lnTo>
                <a:lnTo>
                  <a:pt x="130" y="250"/>
                </a:lnTo>
                <a:lnTo>
                  <a:pt x="130" y="250"/>
                </a:lnTo>
                <a:lnTo>
                  <a:pt x="42" y="342"/>
                </a:lnTo>
                <a:lnTo>
                  <a:pt x="0" y="296"/>
                </a:lnTo>
                <a:lnTo>
                  <a:pt x="0" y="296"/>
                </a:lnTo>
                <a:lnTo>
                  <a:pt x="92" y="210"/>
                </a:lnTo>
                <a:lnTo>
                  <a:pt x="92" y="210"/>
                </a:lnTo>
                <a:lnTo>
                  <a:pt x="138" y="170"/>
                </a:lnTo>
                <a:lnTo>
                  <a:pt x="170" y="142"/>
                </a:lnTo>
                <a:lnTo>
                  <a:pt x="30" y="148"/>
                </a:lnTo>
                <a:lnTo>
                  <a:pt x="30" y="90"/>
                </a:lnTo>
                <a:lnTo>
                  <a:pt x="260" y="88"/>
                </a:lnTo>
                <a:close/>
                <a:moveTo>
                  <a:pt x="264" y="72"/>
                </a:moveTo>
                <a:lnTo>
                  <a:pt x="264" y="72"/>
                </a:lnTo>
                <a:lnTo>
                  <a:pt x="220" y="64"/>
                </a:lnTo>
                <a:lnTo>
                  <a:pt x="172" y="58"/>
                </a:lnTo>
                <a:lnTo>
                  <a:pt x="122" y="54"/>
                </a:lnTo>
                <a:lnTo>
                  <a:pt x="76" y="52"/>
                </a:lnTo>
                <a:lnTo>
                  <a:pt x="82" y="0"/>
                </a:lnTo>
                <a:lnTo>
                  <a:pt x="82" y="0"/>
                </a:lnTo>
                <a:lnTo>
                  <a:pt x="130" y="2"/>
                </a:lnTo>
                <a:lnTo>
                  <a:pt x="178" y="4"/>
                </a:lnTo>
                <a:lnTo>
                  <a:pt x="224" y="10"/>
                </a:lnTo>
                <a:lnTo>
                  <a:pt x="272" y="18"/>
                </a:lnTo>
                <a:lnTo>
                  <a:pt x="264" y="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12280" y="18507240"/>
            <a:ext cx="555480" cy="545760"/>
          </a:xfrm>
          <a:custGeom>
            <a:avLst/>
            <a:gdLst/>
            <a:ahLst/>
            <a:rect l="l" t="t" r="r" b="b"/>
            <a:pathLst>
              <a:path w="350" h="344">
                <a:moveTo>
                  <a:pt x="174" y="0"/>
                </a:moveTo>
                <a:lnTo>
                  <a:pt x="236" y="0"/>
                </a:lnTo>
                <a:lnTo>
                  <a:pt x="236" y="36"/>
                </a:lnTo>
                <a:lnTo>
                  <a:pt x="336" y="36"/>
                </a:lnTo>
                <a:lnTo>
                  <a:pt x="336" y="92"/>
                </a:lnTo>
                <a:lnTo>
                  <a:pt x="236" y="92"/>
                </a:lnTo>
                <a:lnTo>
                  <a:pt x="236" y="176"/>
                </a:lnTo>
                <a:lnTo>
                  <a:pt x="236" y="176"/>
                </a:lnTo>
                <a:lnTo>
                  <a:pt x="240" y="194"/>
                </a:lnTo>
                <a:lnTo>
                  <a:pt x="242" y="216"/>
                </a:lnTo>
                <a:lnTo>
                  <a:pt x="242" y="216"/>
                </a:lnTo>
                <a:lnTo>
                  <a:pt x="240" y="238"/>
                </a:lnTo>
                <a:lnTo>
                  <a:pt x="236" y="258"/>
                </a:lnTo>
                <a:lnTo>
                  <a:pt x="230" y="274"/>
                </a:lnTo>
                <a:lnTo>
                  <a:pt x="220" y="288"/>
                </a:lnTo>
                <a:lnTo>
                  <a:pt x="210" y="300"/>
                </a:lnTo>
                <a:lnTo>
                  <a:pt x="200" y="312"/>
                </a:lnTo>
                <a:lnTo>
                  <a:pt x="188" y="320"/>
                </a:lnTo>
                <a:lnTo>
                  <a:pt x="174" y="326"/>
                </a:lnTo>
                <a:lnTo>
                  <a:pt x="174" y="326"/>
                </a:lnTo>
                <a:lnTo>
                  <a:pt x="158" y="332"/>
                </a:lnTo>
                <a:lnTo>
                  <a:pt x="136" y="338"/>
                </a:lnTo>
                <a:lnTo>
                  <a:pt x="110" y="342"/>
                </a:lnTo>
                <a:lnTo>
                  <a:pt x="74" y="344"/>
                </a:lnTo>
                <a:lnTo>
                  <a:pt x="54" y="290"/>
                </a:lnTo>
                <a:lnTo>
                  <a:pt x="54" y="290"/>
                </a:lnTo>
                <a:lnTo>
                  <a:pt x="96" y="290"/>
                </a:lnTo>
                <a:lnTo>
                  <a:pt x="116" y="288"/>
                </a:lnTo>
                <a:lnTo>
                  <a:pt x="136" y="282"/>
                </a:lnTo>
                <a:lnTo>
                  <a:pt x="136" y="282"/>
                </a:lnTo>
                <a:lnTo>
                  <a:pt x="154" y="276"/>
                </a:lnTo>
                <a:lnTo>
                  <a:pt x="166" y="270"/>
                </a:lnTo>
                <a:lnTo>
                  <a:pt x="172" y="262"/>
                </a:lnTo>
                <a:lnTo>
                  <a:pt x="178" y="254"/>
                </a:lnTo>
                <a:lnTo>
                  <a:pt x="178" y="254"/>
                </a:lnTo>
                <a:lnTo>
                  <a:pt x="172" y="258"/>
                </a:lnTo>
                <a:lnTo>
                  <a:pt x="164" y="262"/>
                </a:lnTo>
                <a:lnTo>
                  <a:pt x="154" y="264"/>
                </a:lnTo>
                <a:lnTo>
                  <a:pt x="140" y="266"/>
                </a:lnTo>
                <a:lnTo>
                  <a:pt x="140" y="266"/>
                </a:lnTo>
                <a:lnTo>
                  <a:pt x="124" y="264"/>
                </a:lnTo>
                <a:lnTo>
                  <a:pt x="108" y="260"/>
                </a:lnTo>
                <a:lnTo>
                  <a:pt x="96" y="252"/>
                </a:lnTo>
                <a:lnTo>
                  <a:pt x="84" y="242"/>
                </a:lnTo>
                <a:lnTo>
                  <a:pt x="76" y="232"/>
                </a:lnTo>
                <a:lnTo>
                  <a:pt x="68" y="218"/>
                </a:lnTo>
                <a:lnTo>
                  <a:pt x="64" y="202"/>
                </a:lnTo>
                <a:lnTo>
                  <a:pt x="64" y="186"/>
                </a:lnTo>
                <a:lnTo>
                  <a:pt x="64" y="186"/>
                </a:lnTo>
                <a:lnTo>
                  <a:pt x="64" y="170"/>
                </a:lnTo>
                <a:lnTo>
                  <a:pt x="70" y="156"/>
                </a:lnTo>
                <a:lnTo>
                  <a:pt x="76" y="142"/>
                </a:lnTo>
                <a:lnTo>
                  <a:pt x="86" y="130"/>
                </a:lnTo>
                <a:lnTo>
                  <a:pt x="98" y="120"/>
                </a:lnTo>
                <a:lnTo>
                  <a:pt x="112" y="112"/>
                </a:lnTo>
                <a:lnTo>
                  <a:pt x="128" y="108"/>
                </a:lnTo>
                <a:lnTo>
                  <a:pt x="144" y="106"/>
                </a:lnTo>
                <a:lnTo>
                  <a:pt x="144" y="106"/>
                </a:lnTo>
                <a:lnTo>
                  <a:pt x="156" y="108"/>
                </a:lnTo>
                <a:lnTo>
                  <a:pt x="164" y="108"/>
                </a:lnTo>
                <a:lnTo>
                  <a:pt x="174" y="112"/>
                </a:lnTo>
                <a:lnTo>
                  <a:pt x="174" y="92"/>
                </a:lnTo>
                <a:lnTo>
                  <a:pt x="0" y="92"/>
                </a:lnTo>
                <a:lnTo>
                  <a:pt x="0" y="36"/>
                </a:lnTo>
                <a:lnTo>
                  <a:pt x="174" y="36"/>
                </a:lnTo>
                <a:lnTo>
                  <a:pt x="174" y="0"/>
                </a:lnTo>
                <a:close/>
                <a:moveTo>
                  <a:pt x="178" y="180"/>
                </a:moveTo>
                <a:lnTo>
                  <a:pt x="178" y="180"/>
                </a:lnTo>
                <a:lnTo>
                  <a:pt x="176" y="170"/>
                </a:lnTo>
                <a:lnTo>
                  <a:pt x="172" y="164"/>
                </a:lnTo>
                <a:lnTo>
                  <a:pt x="172" y="164"/>
                </a:lnTo>
                <a:lnTo>
                  <a:pt x="162" y="156"/>
                </a:lnTo>
                <a:lnTo>
                  <a:pt x="156" y="154"/>
                </a:lnTo>
                <a:lnTo>
                  <a:pt x="150" y="154"/>
                </a:lnTo>
                <a:lnTo>
                  <a:pt x="150" y="154"/>
                </a:lnTo>
                <a:lnTo>
                  <a:pt x="140" y="156"/>
                </a:lnTo>
                <a:lnTo>
                  <a:pt x="130" y="160"/>
                </a:lnTo>
                <a:lnTo>
                  <a:pt x="126" y="164"/>
                </a:lnTo>
                <a:lnTo>
                  <a:pt x="122" y="170"/>
                </a:lnTo>
                <a:lnTo>
                  <a:pt x="120" y="178"/>
                </a:lnTo>
                <a:lnTo>
                  <a:pt x="118" y="188"/>
                </a:lnTo>
                <a:lnTo>
                  <a:pt x="118" y="188"/>
                </a:lnTo>
                <a:lnTo>
                  <a:pt x="120" y="200"/>
                </a:lnTo>
                <a:lnTo>
                  <a:pt x="126" y="210"/>
                </a:lnTo>
                <a:lnTo>
                  <a:pt x="132" y="214"/>
                </a:lnTo>
                <a:lnTo>
                  <a:pt x="136" y="218"/>
                </a:lnTo>
                <a:lnTo>
                  <a:pt x="142" y="220"/>
                </a:lnTo>
                <a:lnTo>
                  <a:pt x="150" y="220"/>
                </a:lnTo>
                <a:lnTo>
                  <a:pt x="150" y="220"/>
                </a:lnTo>
                <a:lnTo>
                  <a:pt x="156" y="218"/>
                </a:lnTo>
                <a:lnTo>
                  <a:pt x="166" y="216"/>
                </a:lnTo>
                <a:lnTo>
                  <a:pt x="170" y="212"/>
                </a:lnTo>
                <a:lnTo>
                  <a:pt x="174" y="206"/>
                </a:lnTo>
                <a:lnTo>
                  <a:pt x="178" y="200"/>
                </a:lnTo>
                <a:lnTo>
                  <a:pt x="178" y="190"/>
                </a:lnTo>
                <a:lnTo>
                  <a:pt x="178" y="180"/>
                </a:lnTo>
                <a:close/>
                <a:moveTo>
                  <a:pt x="266" y="194"/>
                </a:moveTo>
                <a:lnTo>
                  <a:pt x="266" y="194"/>
                </a:lnTo>
                <a:lnTo>
                  <a:pt x="258" y="162"/>
                </a:lnTo>
                <a:lnTo>
                  <a:pt x="248" y="132"/>
                </a:lnTo>
                <a:lnTo>
                  <a:pt x="278" y="122"/>
                </a:lnTo>
                <a:lnTo>
                  <a:pt x="278" y="122"/>
                </a:lnTo>
                <a:lnTo>
                  <a:pt x="290" y="154"/>
                </a:lnTo>
                <a:lnTo>
                  <a:pt x="298" y="184"/>
                </a:lnTo>
                <a:lnTo>
                  <a:pt x="266" y="194"/>
                </a:lnTo>
                <a:close/>
                <a:moveTo>
                  <a:pt x="318" y="182"/>
                </a:moveTo>
                <a:lnTo>
                  <a:pt x="318" y="182"/>
                </a:lnTo>
                <a:lnTo>
                  <a:pt x="310" y="154"/>
                </a:lnTo>
                <a:lnTo>
                  <a:pt x="296" y="120"/>
                </a:lnTo>
                <a:lnTo>
                  <a:pt x="328" y="110"/>
                </a:lnTo>
                <a:lnTo>
                  <a:pt x="328" y="110"/>
                </a:lnTo>
                <a:lnTo>
                  <a:pt x="340" y="138"/>
                </a:lnTo>
                <a:lnTo>
                  <a:pt x="346" y="154"/>
                </a:lnTo>
                <a:lnTo>
                  <a:pt x="350" y="172"/>
                </a:lnTo>
                <a:lnTo>
                  <a:pt x="318" y="18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125000" y="18846720"/>
            <a:ext cx="206280" cy="200160"/>
          </a:xfrm>
          <a:custGeom>
            <a:avLst/>
            <a:gdLst/>
            <a:ahLst/>
            <a:rect l="l" t="t" r="r" b="b"/>
            <a:pathLst>
              <a:path w="130" h="126">
                <a:moveTo>
                  <a:pt x="76" y="126"/>
                </a:moveTo>
                <a:lnTo>
                  <a:pt x="76" y="126"/>
                </a:lnTo>
                <a:lnTo>
                  <a:pt x="42" y="82"/>
                </a:lnTo>
                <a:lnTo>
                  <a:pt x="22" y="56"/>
                </a:lnTo>
                <a:lnTo>
                  <a:pt x="0" y="32"/>
                </a:lnTo>
                <a:lnTo>
                  <a:pt x="48" y="0"/>
                </a:lnTo>
                <a:lnTo>
                  <a:pt x="48" y="0"/>
                </a:lnTo>
                <a:lnTo>
                  <a:pt x="70" y="22"/>
                </a:lnTo>
                <a:lnTo>
                  <a:pt x="92" y="46"/>
                </a:lnTo>
                <a:lnTo>
                  <a:pt x="130" y="90"/>
                </a:lnTo>
                <a:lnTo>
                  <a:pt x="76" y="12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67400" y="19338840"/>
            <a:ext cx="593640" cy="581040"/>
          </a:xfrm>
          <a:custGeom>
            <a:avLst/>
            <a:gdLst/>
            <a:ahLst/>
            <a:rect l="l" t="t" r="r" b="b"/>
            <a:pathLst>
              <a:path w="374" h="366">
                <a:moveTo>
                  <a:pt x="178" y="216"/>
                </a:moveTo>
                <a:lnTo>
                  <a:pt x="178" y="262"/>
                </a:lnTo>
                <a:lnTo>
                  <a:pt x="178" y="262"/>
                </a:lnTo>
                <a:lnTo>
                  <a:pt x="182" y="240"/>
                </a:lnTo>
                <a:lnTo>
                  <a:pt x="184" y="220"/>
                </a:lnTo>
                <a:lnTo>
                  <a:pt x="186" y="188"/>
                </a:lnTo>
                <a:lnTo>
                  <a:pt x="232" y="190"/>
                </a:lnTo>
                <a:lnTo>
                  <a:pt x="232" y="190"/>
                </a:lnTo>
                <a:lnTo>
                  <a:pt x="232" y="222"/>
                </a:lnTo>
                <a:lnTo>
                  <a:pt x="230" y="244"/>
                </a:lnTo>
                <a:lnTo>
                  <a:pt x="230" y="244"/>
                </a:lnTo>
                <a:lnTo>
                  <a:pt x="236" y="260"/>
                </a:lnTo>
                <a:lnTo>
                  <a:pt x="246" y="276"/>
                </a:lnTo>
                <a:lnTo>
                  <a:pt x="246" y="174"/>
                </a:lnTo>
                <a:lnTo>
                  <a:pt x="178" y="174"/>
                </a:lnTo>
                <a:lnTo>
                  <a:pt x="178" y="124"/>
                </a:lnTo>
                <a:lnTo>
                  <a:pt x="254" y="124"/>
                </a:lnTo>
                <a:lnTo>
                  <a:pt x="254" y="124"/>
                </a:lnTo>
                <a:lnTo>
                  <a:pt x="228" y="106"/>
                </a:lnTo>
                <a:lnTo>
                  <a:pt x="198" y="90"/>
                </a:lnTo>
                <a:lnTo>
                  <a:pt x="230" y="60"/>
                </a:lnTo>
                <a:lnTo>
                  <a:pt x="182" y="60"/>
                </a:lnTo>
                <a:lnTo>
                  <a:pt x="182" y="12"/>
                </a:lnTo>
                <a:lnTo>
                  <a:pt x="360" y="12"/>
                </a:lnTo>
                <a:lnTo>
                  <a:pt x="360" y="58"/>
                </a:lnTo>
                <a:lnTo>
                  <a:pt x="360" y="58"/>
                </a:lnTo>
                <a:lnTo>
                  <a:pt x="344" y="74"/>
                </a:lnTo>
                <a:lnTo>
                  <a:pt x="328" y="86"/>
                </a:lnTo>
                <a:lnTo>
                  <a:pt x="306" y="102"/>
                </a:lnTo>
                <a:lnTo>
                  <a:pt x="306" y="102"/>
                </a:lnTo>
                <a:lnTo>
                  <a:pt x="322" y="116"/>
                </a:lnTo>
                <a:lnTo>
                  <a:pt x="312" y="124"/>
                </a:lnTo>
                <a:lnTo>
                  <a:pt x="366" y="124"/>
                </a:lnTo>
                <a:lnTo>
                  <a:pt x="366" y="174"/>
                </a:lnTo>
                <a:lnTo>
                  <a:pt x="366" y="174"/>
                </a:lnTo>
                <a:lnTo>
                  <a:pt x="360" y="190"/>
                </a:lnTo>
                <a:lnTo>
                  <a:pt x="350" y="208"/>
                </a:lnTo>
                <a:lnTo>
                  <a:pt x="308" y="198"/>
                </a:lnTo>
                <a:lnTo>
                  <a:pt x="308" y="198"/>
                </a:lnTo>
                <a:lnTo>
                  <a:pt x="316" y="186"/>
                </a:lnTo>
                <a:lnTo>
                  <a:pt x="320" y="174"/>
                </a:lnTo>
                <a:lnTo>
                  <a:pt x="294" y="174"/>
                </a:lnTo>
                <a:lnTo>
                  <a:pt x="294" y="214"/>
                </a:lnTo>
                <a:lnTo>
                  <a:pt x="358" y="214"/>
                </a:lnTo>
                <a:lnTo>
                  <a:pt x="358" y="264"/>
                </a:lnTo>
                <a:lnTo>
                  <a:pt x="294" y="264"/>
                </a:lnTo>
                <a:lnTo>
                  <a:pt x="294" y="302"/>
                </a:lnTo>
                <a:lnTo>
                  <a:pt x="294" y="302"/>
                </a:lnTo>
                <a:lnTo>
                  <a:pt x="332" y="304"/>
                </a:lnTo>
                <a:lnTo>
                  <a:pt x="374" y="304"/>
                </a:lnTo>
                <a:lnTo>
                  <a:pt x="366" y="360"/>
                </a:lnTo>
                <a:lnTo>
                  <a:pt x="366" y="360"/>
                </a:lnTo>
                <a:lnTo>
                  <a:pt x="312" y="360"/>
                </a:lnTo>
                <a:lnTo>
                  <a:pt x="290" y="358"/>
                </a:lnTo>
                <a:lnTo>
                  <a:pt x="272" y="354"/>
                </a:lnTo>
                <a:lnTo>
                  <a:pt x="256" y="348"/>
                </a:lnTo>
                <a:lnTo>
                  <a:pt x="240" y="338"/>
                </a:lnTo>
                <a:lnTo>
                  <a:pt x="228" y="326"/>
                </a:lnTo>
                <a:lnTo>
                  <a:pt x="216" y="310"/>
                </a:lnTo>
                <a:lnTo>
                  <a:pt x="216" y="310"/>
                </a:lnTo>
                <a:lnTo>
                  <a:pt x="206" y="332"/>
                </a:lnTo>
                <a:lnTo>
                  <a:pt x="198" y="348"/>
                </a:lnTo>
                <a:lnTo>
                  <a:pt x="190" y="358"/>
                </a:lnTo>
                <a:lnTo>
                  <a:pt x="184" y="366"/>
                </a:lnTo>
                <a:lnTo>
                  <a:pt x="142" y="334"/>
                </a:lnTo>
                <a:lnTo>
                  <a:pt x="136" y="342"/>
                </a:lnTo>
                <a:lnTo>
                  <a:pt x="136" y="342"/>
                </a:lnTo>
                <a:lnTo>
                  <a:pt x="124" y="330"/>
                </a:lnTo>
                <a:lnTo>
                  <a:pt x="114" y="320"/>
                </a:lnTo>
                <a:lnTo>
                  <a:pt x="102" y="300"/>
                </a:lnTo>
                <a:lnTo>
                  <a:pt x="102" y="300"/>
                </a:lnTo>
                <a:lnTo>
                  <a:pt x="94" y="312"/>
                </a:lnTo>
                <a:lnTo>
                  <a:pt x="84" y="324"/>
                </a:lnTo>
                <a:lnTo>
                  <a:pt x="68" y="340"/>
                </a:lnTo>
                <a:lnTo>
                  <a:pt x="50" y="354"/>
                </a:lnTo>
                <a:lnTo>
                  <a:pt x="32" y="362"/>
                </a:lnTo>
                <a:lnTo>
                  <a:pt x="0" y="314"/>
                </a:lnTo>
                <a:lnTo>
                  <a:pt x="0" y="314"/>
                </a:lnTo>
                <a:lnTo>
                  <a:pt x="14" y="308"/>
                </a:lnTo>
                <a:lnTo>
                  <a:pt x="32" y="298"/>
                </a:lnTo>
                <a:lnTo>
                  <a:pt x="40" y="290"/>
                </a:lnTo>
                <a:lnTo>
                  <a:pt x="48" y="284"/>
                </a:lnTo>
                <a:lnTo>
                  <a:pt x="56" y="274"/>
                </a:lnTo>
                <a:lnTo>
                  <a:pt x="64" y="264"/>
                </a:lnTo>
                <a:lnTo>
                  <a:pt x="6" y="264"/>
                </a:lnTo>
                <a:lnTo>
                  <a:pt x="6" y="216"/>
                </a:lnTo>
                <a:lnTo>
                  <a:pt x="40" y="216"/>
                </a:lnTo>
                <a:lnTo>
                  <a:pt x="0" y="190"/>
                </a:lnTo>
                <a:lnTo>
                  <a:pt x="0" y="190"/>
                </a:lnTo>
                <a:lnTo>
                  <a:pt x="10" y="174"/>
                </a:lnTo>
                <a:lnTo>
                  <a:pt x="18" y="158"/>
                </a:lnTo>
                <a:lnTo>
                  <a:pt x="24" y="142"/>
                </a:lnTo>
                <a:lnTo>
                  <a:pt x="30" y="124"/>
                </a:lnTo>
                <a:lnTo>
                  <a:pt x="30" y="124"/>
                </a:lnTo>
                <a:lnTo>
                  <a:pt x="24" y="122"/>
                </a:lnTo>
                <a:lnTo>
                  <a:pt x="20" y="116"/>
                </a:lnTo>
                <a:lnTo>
                  <a:pt x="16" y="108"/>
                </a:lnTo>
                <a:lnTo>
                  <a:pt x="14" y="98"/>
                </a:lnTo>
                <a:lnTo>
                  <a:pt x="14" y="2"/>
                </a:lnTo>
                <a:lnTo>
                  <a:pt x="68" y="2"/>
                </a:lnTo>
                <a:lnTo>
                  <a:pt x="68" y="24"/>
                </a:lnTo>
                <a:lnTo>
                  <a:pt x="68" y="24"/>
                </a:lnTo>
                <a:lnTo>
                  <a:pt x="82" y="22"/>
                </a:lnTo>
                <a:lnTo>
                  <a:pt x="100" y="18"/>
                </a:lnTo>
                <a:lnTo>
                  <a:pt x="120" y="12"/>
                </a:lnTo>
                <a:lnTo>
                  <a:pt x="148" y="0"/>
                </a:lnTo>
                <a:lnTo>
                  <a:pt x="174" y="42"/>
                </a:lnTo>
                <a:lnTo>
                  <a:pt x="174" y="42"/>
                </a:lnTo>
                <a:lnTo>
                  <a:pt x="146" y="52"/>
                </a:lnTo>
                <a:lnTo>
                  <a:pt x="118" y="60"/>
                </a:lnTo>
                <a:lnTo>
                  <a:pt x="90" y="66"/>
                </a:lnTo>
                <a:lnTo>
                  <a:pt x="68" y="68"/>
                </a:lnTo>
                <a:lnTo>
                  <a:pt x="68" y="78"/>
                </a:lnTo>
                <a:lnTo>
                  <a:pt x="68" y="78"/>
                </a:lnTo>
                <a:lnTo>
                  <a:pt x="70" y="82"/>
                </a:lnTo>
                <a:lnTo>
                  <a:pt x="72" y="84"/>
                </a:lnTo>
                <a:lnTo>
                  <a:pt x="76" y="84"/>
                </a:lnTo>
                <a:lnTo>
                  <a:pt x="118" y="84"/>
                </a:lnTo>
                <a:lnTo>
                  <a:pt x="118" y="84"/>
                </a:lnTo>
                <a:lnTo>
                  <a:pt x="124" y="84"/>
                </a:lnTo>
                <a:lnTo>
                  <a:pt x="126" y="82"/>
                </a:lnTo>
                <a:lnTo>
                  <a:pt x="128" y="78"/>
                </a:lnTo>
                <a:lnTo>
                  <a:pt x="128" y="78"/>
                </a:lnTo>
                <a:lnTo>
                  <a:pt x="130" y="70"/>
                </a:lnTo>
                <a:lnTo>
                  <a:pt x="134" y="56"/>
                </a:lnTo>
                <a:lnTo>
                  <a:pt x="182" y="68"/>
                </a:lnTo>
                <a:lnTo>
                  <a:pt x="182" y="68"/>
                </a:lnTo>
                <a:lnTo>
                  <a:pt x="178" y="92"/>
                </a:lnTo>
                <a:lnTo>
                  <a:pt x="174" y="104"/>
                </a:lnTo>
                <a:lnTo>
                  <a:pt x="170" y="112"/>
                </a:lnTo>
                <a:lnTo>
                  <a:pt x="170" y="112"/>
                </a:lnTo>
                <a:lnTo>
                  <a:pt x="168" y="116"/>
                </a:lnTo>
                <a:lnTo>
                  <a:pt x="162" y="122"/>
                </a:lnTo>
                <a:lnTo>
                  <a:pt x="154" y="126"/>
                </a:lnTo>
                <a:lnTo>
                  <a:pt x="142" y="128"/>
                </a:lnTo>
                <a:lnTo>
                  <a:pt x="74" y="128"/>
                </a:lnTo>
                <a:lnTo>
                  <a:pt x="80" y="130"/>
                </a:lnTo>
                <a:lnTo>
                  <a:pt x="80" y="130"/>
                </a:lnTo>
                <a:lnTo>
                  <a:pt x="74" y="148"/>
                </a:lnTo>
                <a:lnTo>
                  <a:pt x="166" y="148"/>
                </a:lnTo>
                <a:lnTo>
                  <a:pt x="166" y="194"/>
                </a:lnTo>
                <a:lnTo>
                  <a:pt x="126" y="194"/>
                </a:lnTo>
                <a:lnTo>
                  <a:pt x="126" y="194"/>
                </a:lnTo>
                <a:lnTo>
                  <a:pt x="126" y="216"/>
                </a:lnTo>
                <a:lnTo>
                  <a:pt x="178" y="216"/>
                </a:lnTo>
                <a:close/>
                <a:moveTo>
                  <a:pt x="76" y="216"/>
                </a:moveTo>
                <a:lnTo>
                  <a:pt x="76" y="216"/>
                </a:lnTo>
                <a:lnTo>
                  <a:pt x="76" y="194"/>
                </a:lnTo>
                <a:lnTo>
                  <a:pt x="56" y="194"/>
                </a:lnTo>
                <a:lnTo>
                  <a:pt x="56" y="194"/>
                </a:lnTo>
                <a:lnTo>
                  <a:pt x="50" y="206"/>
                </a:lnTo>
                <a:lnTo>
                  <a:pt x="42" y="216"/>
                </a:lnTo>
                <a:lnTo>
                  <a:pt x="76" y="216"/>
                </a:lnTo>
                <a:close/>
                <a:moveTo>
                  <a:pt x="130" y="264"/>
                </a:moveTo>
                <a:lnTo>
                  <a:pt x="130" y="264"/>
                </a:lnTo>
                <a:lnTo>
                  <a:pt x="144" y="280"/>
                </a:lnTo>
                <a:lnTo>
                  <a:pt x="164" y="298"/>
                </a:lnTo>
                <a:lnTo>
                  <a:pt x="164" y="298"/>
                </a:lnTo>
                <a:lnTo>
                  <a:pt x="172" y="280"/>
                </a:lnTo>
                <a:lnTo>
                  <a:pt x="176" y="264"/>
                </a:lnTo>
                <a:lnTo>
                  <a:pt x="130" y="264"/>
                </a:lnTo>
                <a:close/>
                <a:moveTo>
                  <a:pt x="234" y="60"/>
                </a:moveTo>
                <a:lnTo>
                  <a:pt x="234" y="60"/>
                </a:lnTo>
                <a:lnTo>
                  <a:pt x="270" y="80"/>
                </a:lnTo>
                <a:lnTo>
                  <a:pt x="270" y="80"/>
                </a:lnTo>
                <a:lnTo>
                  <a:pt x="284" y="68"/>
                </a:lnTo>
                <a:lnTo>
                  <a:pt x="292" y="60"/>
                </a:lnTo>
                <a:lnTo>
                  <a:pt x="234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9200" y="19361160"/>
            <a:ext cx="542880" cy="555480"/>
          </a:xfrm>
          <a:custGeom>
            <a:avLst/>
            <a:gdLst/>
            <a:ahLst/>
            <a:rect l="l" t="t" r="r" b="b"/>
            <a:pathLst>
              <a:path w="342" h="350">
                <a:moveTo>
                  <a:pt x="0" y="0"/>
                </a:moveTo>
                <a:lnTo>
                  <a:pt x="158" y="0"/>
                </a:lnTo>
                <a:lnTo>
                  <a:pt x="158" y="160"/>
                </a:lnTo>
                <a:lnTo>
                  <a:pt x="58" y="160"/>
                </a:lnTo>
                <a:lnTo>
                  <a:pt x="58" y="350"/>
                </a:lnTo>
                <a:lnTo>
                  <a:pt x="0" y="350"/>
                </a:lnTo>
                <a:lnTo>
                  <a:pt x="0" y="0"/>
                </a:lnTo>
                <a:close/>
                <a:moveTo>
                  <a:pt x="58" y="44"/>
                </a:moveTo>
                <a:lnTo>
                  <a:pt x="58" y="64"/>
                </a:lnTo>
                <a:lnTo>
                  <a:pt x="102" y="64"/>
                </a:lnTo>
                <a:lnTo>
                  <a:pt x="102" y="44"/>
                </a:lnTo>
                <a:lnTo>
                  <a:pt x="58" y="44"/>
                </a:lnTo>
                <a:close/>
                <a:moveTo>
                  <a:pt x="58" y="98"/>
                </a:moveTo>
                <a:lnTo>
                  <a:pt x="58" y="118"/>
                </a:lnTo>
                <a:lnTo>
                  <a:pt x="102" y="118"/>
                </a:lnTo>
                <a:lnTo>
                  <a:pt x="102" y="98"/>
                </a:lnTo>
                <a:lnTo>
                  <a:pt x="58" y="98"/>
                </a:lnTo>
                <a:close/>
                <a:moveTo>
                  <a:pt x="252" y="292"/>
                </a:moveTo>
                <a:lnTo>
                  <a:pt x="274" y="292"/>
                </a:lnTo>
                <a:lnTo>
                  <a:pt x="274" y="292"/>
                </a:lnTo>
                <a:lnTo>
                  <a:pt x="280" y="290"/>
                </a:lnTo>
                <a:lnTo>
                  <a:pt x="284" y="290"/>
                </a:lnTo>
                <a:lnTo>
                  <a:pt x="286" y="286"/>
                </a:lnTo>
                <a:lnTo>
                  <a:pt x="286" y="280"/>
                </a:lnTo>
                <a:lnTo>
                  <a:pt x="286" y="160"/>
                </a:lnTo>
                <a:lnTo>
                  <a:pt x="184" y="160"/>
                </a:lnTo>
                <a:lnTo>
                  <a:pt x="184" y="0"/>
                </a:lnTo>
                <a:lnTo>
                  <a:pt x="342" y="0"/>
                </a:lnTo>
                <a:lnTo>
                  <a:pt x="342" y="310"/>
                </a:lnTo>
                <a:lnTo>
                  <a:pt x="342" y="310"/>
                </a:lnTo>
                <a:lnTo>
                  <a:pt x="340" y="324"/>
                </a:lnTo>
                <a:lnTo>
                  <a:pt x="338" y="332"/>
                </a:lnTo>
                <a:lnTo>
                  <a:pt x="334" y="340"/>
                </a:lnTo>
                <a:lnTo>
                  <a:pt x="334" y="340"/>
                </a:lnTo>
                <a:lnTo>
                  <a:pt x="326" y="346"/>
                </a:lnTo>
                <a:lnTo>
                  <a:pt x="318" y="348"/>
                </a:lnTo>
                <a:lnTo>
                  <a:pt x="312" y="350"/>
                </a:lnTo>
                <a:lnTo>
                  <a:pt x="304" y="350"/>
                </a:lnTo>
                <a:lnTo>
                  <a:pt x="234" y="350"/>
                </a:lnTo>
                <a:lnTo>
                  <a:pt x="228" y="316"/>
                </a:lnTo>
                <a:lnTo>
                  <a:pt x="90" y="316"/>
                </a:lnTo>
                <a:lnTo>
                  <a:pt x="90" y="182"/>
                </a:lnTo>
                <a:lnTo>
                  <a:pt x="252" y="182"/>
                </a:lnTo>
                <a:lnTo>
                  <a:pt x="252" y="292"/>
                </a:lnTo>
                <a:close/>
                <a:moveTo>
                  <a:pt x="144" y="228"/>
                </a:moveTo>
                <a:lnTo>
                  <a:pt x="144" y="266"/>
                </a:lnTo>
                <a:lnTo>
                  <a:pt x="200" y="266"/>
                </a:lnTo>
                <a:lnTo>
                  <a:pt x="200" y="228"/>
                </a:lnTo>
                <a:lnTo>
                  <a:pt x="144" y="228"/>
                </a:lnTo>
                <a:close/>
                <a:moveTo>
                  <a:pt x="240" y="44"/>
                </a:moveTo>
                <a:lnTo>
                  <a:pt x="240" y="64"/>
                </a:lnTo>
                <a:lnTo>
                  <a:pt x="286" y="64"/>
                </a:lnTo>
                <a:lnTo>
                  <a:pt x="286" y="44"/>
                </a:lnTo>
                <a:lnTo>
                  <a:pt x="240" y="44"/>
                </a:lnTo>
                <a:close/>
                <a:moveTo>
                  <a:pt x="240" y="98"/>
                </a:moveTo>
                <a:lnTo>
                  <a:pt x="240" y="118"/>
                </a:lnTo>
                <a:lnTo>
                  <a:pt x="286" y="118"/>
                </a:lnTo>
                <a:lnTo>
                  <a:pt x="286" y="98"/>
                </a:lnTo>
                <a:lnTo>
                  <a:pt x="240" y="9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24880" y="19364400"/>
            <a:ext cx="530280" cy="527040"/>
          </a:xfrm>
          <a:custGeom>
            <a:avLst/>
            <a:gdLst/>
            <a:ahLst/>
            <a:rect l="l" t="t" r="r" b="b"/>
            <a:pathLst>
              <a:path w="334" h="332">
                <a:moveTo>
                  <a:pt x="74" y="4"/>
                </a:moveTo>
                <a:lnTo>
                  <a:pt x="74" y="4"/>
                </a:lnTo>
                <a:lnTo>
                  <a:pt x="66" y="52"/>
                </a:lnTo>
                <a:lnTo>
                  <a:pt x="62" y="100"/>
                </a:lnTo>
                <a:lnTo>
                  <a:pt x="60" y="140"/>
                </a:lnTo>
                <a:lnTo>
                  <a:pt x="60" y="170"/>
                </a:lnTo>
                <a:lnTo>
                  <a:pt x="60" y="170"/>
                </a:lnTo>
                <a:lnTo>
                  <a:pt x="60" y="208"/>
                </a:lnTo>
                <a:lnTo>
                  <a:pt x="62" y="248"/>
                </a:lnTo>
                <a:lnTo>
                  <a:pt x="66" y="286"/>
                </a:lnTo>
                <a:lnTo>
                  <a:pt x="72" y="326"/>
                </a:lnTo>
                <a:lnTo>
                  <a:pt x="10" y="332"/>
                </a:lnTo>
                <a:lnTo>
                  <a:pt x="10" y="332"/>
                </a:lnTo>
                <a:lnTo>
                  <a:pt x="6" y="294"/>
                </a:lnTo>
                <a:lnTo>
                  <a:pt x="2" y="254"/>
                </a:lnTo>
                <a:lnTo>
                  <a:pt x="0" y="210"/>
                </a:lnTo>
                <a:lnTo>
                  <a:pt x="0" y="164"/>
                </a:lnTo>
                <a:lnTo>
                  <a:pt x="0" y="164"/>
                </a:lnTo>
                <a:lnTo>
                  <a:pt x="0" y="134"/>
                </a:lnTo>
                <a:lnTo>
                  <a:pt x="2" y="94"/>
                </a:lnTo>
                <a:lnTo>
                  <a:pt x="6" y="48"/>
                </a:lnTo>
                <a:lnTo>
                  <a:pt x="12" y="0"/>
                </a:lnTo>
                <a:lnTo>
                  <a:pt x="74" y="4"/>
                </a:lnTo>
                <a:close/>
                <a:moveTo>
                  <a:pt x="198" y="62"/>
                </a:moveTo>
                <a:lnTo>
                  <a:pt x="198" y="2"/>
                </a:lnTo>
                <a:lnTo>
                  <a:pt x="258" y="2"/>
                </a:lnTo>
                <a:lnTo>
                  <a:pt x="258" y="62"/>
                </a:lnTo>
                <a:lnTo>
                  <a:pt x="324" y="62"/>
                </a:lnTo>
                <a:lnTo>
                  <a:pt x="324" y="118"/>
                </a:lnTo>
                <a:lnTo>
                  <a:pt x="260" y="118"/>
                </a:lnTo>
                <a:lnTo>
                  <a:pt x="260" y="204"/>
                </a:lnTo>
                <a:lnTo>
                  <a:pt x="260" y="204"/>
                </a:lnTo>
                <a:lnTo>
                  <a:pt x="282" y="214"/>
                </a:lnTo>
                <a:lnTo>
                  <a:pt x="302" y="228"/>
                </a:lnTo>
                <a:lnTo>
                  <a:pt x="320" y="242"/>
                </a:lnTo>
                <a:lnTo>
                  <a:pt x="334" y="256"/>
                </a:lnTo>
                <a:lnTo>
                  <a:pt x="296" y="308"/>
                </a:lnTo>
                <a:lnTo>
                  <a:pt x="296" y="308"/>
                </a:lnTo>
                <a:lnTo>
                  <a:pt x="274" y="284"/>
                </a:lnTo>
                <a:lnTo>
                  <a:pt x="256" y="270"/>
                </a:lnTo>
                <a:lnTo>
                  <a:pt x="256" y="270"/>
                </a:lnTo>
                <a:lnTo>
                  <a:pt x="254" y="288"/>
                </a:lnTo>
                <a:lnTo>
                  <a:pt x="250" y="296"/>
                </a:lnTo>
                <a:lnTo>
                  <a:pt x="246" y="306"/>
                </a:lnTo>
                <a:lnTo>
                  <a:pt x="246" y="306"/>
                </a:lnTo>
                <a:lnTo>
                  <a:pt x="238" y="312"/>
                </a:lnTo>
                <a:lnTo>
                  <a:pt x="232" y="318"/>
                </a:lnTo>
                <a:lnTo>
                  <a:pt x="224" y="324"/>
                </a:lnTo>
                <a:lnTo>
                  <a:pt x="214" y="326"/>
                </a:lnTo>
                <a:lnTo>
                  <a:pt x="196" y="332"/>
                </a:lnTo>
                <a:lnTo>
                  <a:pt x="176" y="332"/>
                </a:lnTo>
                <a:lnTo>
                  <a:pt x="176" y="332"/>
                </a:lnTo>
                <a:lnTo>
                  <a:pt x="164" y="332"/>
                </a:lnTo>
                <a:lnTo>
                  <a:pt x="150" y="330"/>
                </a:lnTo>
                <a:lnTo>
                  <a:pt x="132" y="326"/>
                </a:lnTo>
                <a:lnTo>
                  <a:pt x="116" y="318"/>
                </a:lnTo>
                <a:lnTo>
                  <a:pt x="116" y="318"/>
                </a:lnTo>
                <a:lnTo>
                  <a:pt x="108" y="312"/>
                </a:lnTo>
                <a:lnTo>
                  <a:pt x="102" y="306"/>
                </a:lnTo>
                <a:lnTo>
                  <a:pt x="92" y="292"/>
                </a:lnTo>
                <a:lnTo>
                  <a:pt x="86" y="276"/>
                </a:lnTo>
                <a:lnTo>
                  <a:pt x="84" y="258"/>
                </a:lnTo>
                <a:lnTo>
                  <a:pt x="84" y="258"/>
                </a:lnTo>
                <a:lnTo>
                  <a:pt x="86" y="244"/>
                </a:lnTo>
                <a:lnTo>
                  <a:pt x="90" y="230"/>
                </a:lnTo>
                <a:lnTo>
                  <a:pt x="98" y="218"/>
                </a:lnTo>
                <a:lnTo>
                  <a:pt x="106" y="206"/>
                </a:lnTo>
                <a:lnTo>
                  <a:pt x="120" y="198"/>
                </a:lnTo>
                <a:lnTo>
                  <a:pt x="134" y="190"/>
                </a:lnTo>
                <a:lnTo>
                  <a:pt x="154" y="186"/>
                </a:lnTo>
                <a:lnTo>
                  <a:pt x="174" y="184"/>
                </a:lnTo>
                <a:lnTo>
                  <a:pt x="174" y="184"/>
                </a:lnTo>
                <a:lnTo>
                  <a:pt x="190" y="184"/>
                </a:lnTo>
                <a:lnTo>
                  <a:pt x="200" y="186"/>
                </a:lnTo>
                <a:lnTo>
                  <a:pt x="198" y="118"/>
                </a:lnTo>
                <a:lnTo>
                  <a:pt x="92" y="118"/>
                </a:lnTo>
                <a:lnTo>
                  <a:pt x="92" y="62"/>
                </a:lnTo>
                <a:lnTo>
                  <a:pt x="198" y="62"/>
                </a:lnTo>
                <a:close/>
                <a:moveTo>
                  <a:pt x="200" y="240"/>
                </a:moveTo>
                <a:lnTo>
                  <a:pt x="200" y="240"/>
                </a:lnTo>
                <a:lnTo>
                  <a:pt x="188" y="236"/>
                </a:lnTo>
                <a:lnTo>
                  <a:pt x="174" y="234"/>
                </a:lnTo>
                <a:lnTo>
                  <a:pt x="174" y="234"/>
                </a:lnTo>
                <a:lnTo>
                  <a:pt x="164" y="234"/>
                </a:lnTo>
                <a:lnTo>
                  <a:pt x="158" y="236"/>
                </a:lnTo>
                <a:lnTo>
                  <a:pt x="152" y="238"/>
                </a:lnTo>
                <a:lnTo>
                  <a:pt x="146" y="242"/>
                </a:lnTo>
                <a:lnTo>
                  <a:pt x="142" y="246"/>
                </a:lnTo>
                <a:lnTo>
                  <a:pt x="140" y="250"/>
                </a:lnTo>
                <a:lnTo>
                  <a:pt x="138" y="258"/>
                </a:lnTo>
                <a:lnTo>
                  <a:pt x="138" y="258"/>
                </a:lnTo>
                <a:lnTo>
                  <a:pt x="138" y="268"/>
                </a:lnTo>
                <a:lnTo>
                  <a:pt x="146" y="276"/>
                </a:lnTo>
                <a:lnTo>
                  <a:pt x="150" y="278"/>
                </a:lnTo>
                <a:lnTo>
                  <a:pt x="156" y="280"/>
                </a:lnTo>
                <a:lnTo>
                  <a:pt x="172" y="282"/>
                </a:lnTo>
                <a:lnTo>
                  <a:pt x="172" y="282"/>
                </a:lnTo>
                <a:lnTo>
                  <a:pt x="180" y="282"/>
                </a:lnTo>
                <a:lnTo>
                  <a:pt x="188" y="280"/>
                </a:lnTo>
                <a:lnTo>
                  <a:pt x="194" y="278"/>
                </a:lnTo>
                <a:lnTo>
                  <a:pt x="196" y="274"/>
                </a:lnTo>
                <a:lnTo>
                  <a:pt x="198" y="272"/>
                </a:lnTo>
                <a:lnTo>
                  <a:pt x="200" y="268"/>
                </a:lnTo>
                <a:lnTo>
                  <a:pt x="200" y="258"/>
                </a:lnTo>
                <a:lnTo>
                  <a:pt x="200" y="2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83600" y="19338840"/>
            <a:ext cx="571320" cy="577800"/>
          </a:xfrm>
          <a:custGeom>
            <a:avLst/>
            <a:gdLst/>
            <a:ahLst/>
            <a:rect l="l" t="t" r="r" b="b"/>
            <a:pathLst>
              <a:path w="360" h="364">
                <a:moveTo>
                  <a:pt x="0" y="224"/>
                </a:moveTo>
                <a:lnTo>
                  <a:pt x="0" y="224"/>
                </a:lnTo>
                <a:lnTo>
                  <a:pt x="12" y="212"/>
                </a:lnTo>
                <a:lnTo>
                  <a:pt x="22" y="196"/>
                </a:lnTo>
                <a:lnTo>
                  <a:pt x="38" y="166"/>
                </a:lnTo>
                <a:lnTo>
                  <a:pt x="50" y="140"/>
                </a:lnTo>
                <a:lnTo>
                  <a:pt x="58" y="118"/>
                </a:lnTo>
                <a:lnTo>
                  <a:pt x="8" y="118"/>
                </a:lnTo>
                <a:lnTo>
                  <a:pt x="8" y="64"/>
                </a:lnTo>
                <a:lnTo>
                  <a:pt x="60" y="64"/>
                </a:lnTo>
                <a:lnTo>
                  <a:pt x="60" y="0"/>
                </a:lnTo>
                <a:lnTo>
                  <a:pt x="114" y="0"/>
                </a:lnTo>
                <a:lnTo>
                  <a:pt x="114" y="64"/>
                </a:lnTo>
                <a:lnTo>
                  <a:pt x="156" y="64"/>
                </a:lnTo>
                <a:lnTo>
                  <a:pt x="156" y="118"/>
                </a:lnTo>
                <a:lnTo>
                  <a:pt x="114" y="118"/>
                </a:lnTo>
                <a:lnTo>
                  <a:pt x="114" y="128"/>
                </a:lnTo>
                <a:lnTo>
                  <a:pt x="114" y="128"/>
                </a:lnTo>
                <a:lnTo>
                  <a:pt x="120" y="140"/>
                </a:lnTo>
                <a:lnTo>
                  <a:pt x="130" y="156"/>
                </a:lnTo>
                <a:lnTo>
                  <a:pt x="146" y="178"/>
                </a:lnTo>
                <a:lnTo>
                  <a:pt x="166" y="200"/>
                </a:lnTo>
                <a:lnTo>
                  <a:pt x="136" y="250"/>
                </a:lnTo>
                <a:lnTo>
                  <a:pt x="136" y="250"/>
                </a:lnTo>
                <a:lnTo>
                  <a:pt x="126" y="232"/>
                </a:lnTo>
                <a:lnTo>
                  <a:pt x="114" y="208"/>
                </a:lnTo>
                <a:lnTo>
                  <a:pt x="114" y="364"/>
                </a:lnTo>
                <a:lnTo>
                  <a:pt x="60" y="364"/>
                </a:lnTo>
                <a:lnTo>
                  <a:pt x="60" y="218"/>
                </a:lnTo>
                <a:lnTo>
                  <a:pt x="60" y="218"/>
                </a:lnTo>
                <a:lnTo>
                  <a:pt x="48" y="248"/>
                </a:lnTo>
                <a:lnTo>
                  <a:pt x="36" y="270"/>
                </a:lnTo>
                <a:lnTo>
                  <a:pt x="26" y="286"/>
                </a:lnTo>
                <a:lnTo>
                  <a:pt x="20" y="298"/>
                </a:lnTo>
                <a:lnTo>
                  <a:pt x="0" y="224"/>
                </a:lnTo>
                <a:close/>
                <a:moveTo>
                  <a:pt x="360" y="12"/>
                </a:moveTo>
                <a:lnTo>
                  <a:pt x="360" y="364"/>
                </a:lnTo>
                <a:lnTo>
                  <a:pt x="304" y="364"/>
                </a:lnTo>
                <a:lnTo>
                  <a:pt x="304" y="350"/>
                </a:lnTo>
                <a:lnTo>
                  <a:pt x="220" y="350"/>
                </a:lnTo>
                <a:lnTo>
                  <a:pt x="220" y="364"/>
                </a:lnTo>
                <a:lnTo>
                  <a:pt x="166" y="364"/>
                </a:lnTo>
                <a:lnTo>
                  <a:pt x="166" y="12"/>
                </a:lnTo>
                <a:lnTo>
                  <a:pt x="360" y="12"/>
                </a:lnTo>
                <a:close/>
                <a:moveTo>
                  <a:pt x="220" y="66"/>
                </a:moveTo>
                <a:lnTo>
                  <a:pt x="220" y="108"/>
                </a:lnTo>
                <a:lnTo>
                  <a:pt x="304" y="108"/>
                </a:lnTo>
                <a:lnTo>
                  <a:pt x="304" y="66"/>
                </a:lnTo>
                <a:lnTo>
                  <a:pt x="220" y="66"/>
                </a:lnTo>
                <a:close/>
                <a:moveTo>
                  <a:pt x="220" y="158"/>
                </a:moveTo>
                <a:lnTo>
                  <a:pt x="220" y="200"/>
                </a:lnTo>
                <a:lnTo>
                  <a:pt x="304" y="200"/>
                </a:lnTo>
                <a:lnTo>
                  <a:pt x="304" y="158"/>
                </a:lnTo>
                <a:lnTo>
                  <a:pt x="220" y="158"/>
                </a:lnTo>
                <a:close/>
                <a:moveTo>
                  <a:pt x="220" y="250"/>
                </a:moveTo>
                <a:lnTo>
                  <a:pt x="220" y="296"/>
                </a:lnTo>
                <a:lnTo>
                  <a:pt x="304" y="296"/>
                </a:lnTo>
                <a:lnTo>
                  <a:pt x="304" y="250"/>
                </a:lnTo>
                <a:lnTo>
                  <a:pt x="220" y="2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02800" y="19342080"/>
            <a:ext cx="584280" cy="577800"/>
          </a:xfrm>
          <a:custGeom>
            <a:avLst/>
            <a:gdLst/>
            <a:ahLst/>
            <a:rect l="l" t="t" r="r" b="b"/>
            <a:pathLst>
              <a:path w="368" h="364">
                <a:moveTo>
                  <a:pt x="0" y="66"/>
                </a:moveTo>
                <a:lnTo>
                  <a:pt x="142" y="66"/>
                </a:lnTo>
                <a:lnTo>
                  <a:pt x="142" y="108"/>
                </a:lnTo>
                <a:lnTo>
                  <a:pt x="0" y="108"/>
                </a:lnTo>
                <a:lnTo>
                  <a:pt x="0" y="66"/>
                </a:lnTo>
                <a:close/>
                <a:moveTo>
                  <a:pt x="188" y="186"/>
                </a:moveTo>
                <a:lnTo>
                  <a:pt x="188" y="186"/>
                </a:lnTo>
                <a:lnTo>
                  <a:pt x="200" y="220"/>
                </a:lnTo>
                <a:lnTo>
                  <a:pt x="206" y="238"/>
                </a:lnTo>
                <a:lnTo>
                  <a:pt x="210" y="258"/>
                </a:lnTo>
                <a:lnTo>
                  <a:pt x="210" y="258"/>
                </a:lnTo>
                <a:lnTo>
                  <a:pt x="218" y="240"/>
                </a:lnTo>
                <a:lnTo>
                  <a:pt x="222" y="222"/>
                </a:lnTo>
                <a:lnTo>
                  <a:pt x="224" y="206"/>
                </a:lnTo>
                <a:lnTo>
                  <a:pt x="224" y="190"/>
                </a:lnTo>
                <a:lnTo>
                  <a:pt x="224" y="166"/>
                </a:lnTo>
                <a:lnTo>
                  <a:pt x="276" y="166"/>
                </a:lnTo>
                <a:lnTo>
                  <a:pt x="276" y="190"/>
                </a:lnTo>
                <a:lnTo>
                  <a:pt x="276" y="190"/>
                </a:lnTo>
                <a:lnTo>
                  <a:pt x="276" y="206"/>
                </a:lnTo>
                <a:lnTo>
                  <a:pt x="278" y="222"/>
                </a:lnTo>
                <a:lnTo>
                  <a:pt x="282" y="236"/>
                </a:lnTo>
                <a:lnTo>
                  <a:pt x="290" y="254"/>
                </a:lnTo>
                <a:lnTo>
                  <a:pt x="290" y="254"/>
                </a:lnTo>
                <a:lnTo>
                  <a:pt x="302" y="220"/>
                </a:lnTo>
                <a:lnTo>
                  <a:pt x="312" y="184"/>
                </a:lnTo>
                <a:lnTo>
                  <a:pt x="362" y="198"/>
                </a:lnTo>
                <a:lnTo>
                  <a:pt x="362" y="198"/>
                </a:lnTo>
                <a:lnTo>
                  <a:pt x="356" y="220"/>
                </a:lnTo>
                <a:lnTo>
                  <a:pt x="348" y="242"/>
                </a:lnTo>
                <a:lnTo>
                  <a:pt x="334" y="272"/>
                </a:lnTo>
                <a:lnTo>
                  <a:pt x="292" y="258"/>
                </a:lnTo>
                <a:lnTo>
                  <a:pt x="292" y="258"/>
                </a:lnTo>
                <a:lnTo>
                  <a:pt x="300" y="270"/>
                </a:lnTo>
                <a:lnTo>
                  <a:pt x="310" y="280"/>
                </a:lnTo>
                <a:lnTo>
                  <a:pt x="322" y="288"/>
                </a:lnTo>
                <a:lnTo>
                  <a:pt x="332" y="294"/>
                </a:lnTo>
                <a:lnTo>
                  <a:pt x="352" y="304"/>
                </a:lnTo>
                <a:lnTo>
                  <a:pt x="368" y="310"/>
                </a:lnTo>
                <a:lnTo>
                  <a:pt x="342" y="364"/>
                </a:lnTo>
                <a:lnTo>
                  <a:pt x="342" y="364"/>
                </a:lnTo>
                <a:lnTo>
                  <a:pt x="322" y="352"/>
                </a:lnTo>
                <a:lnTo>
                  <a:pt x="304" y="342"/>
                </a:lnTo>
                <a:lnTo>
                  <a:pt x="290" y="330"/>
                </a:lnTo>
                <a:lnTo>
                  <a:pt x="278" y="320"/>
                </a:lnTo>
                <a:lnTo>
                  <a:pt x="270" y="308"/>
                </a:lnTo>
                <a:lnTo>
                  <a:pt x="262" y="298"/>
                </a:lnTo>
                <a:lnTo>
                  <a:pt x="252" y="278"/>
                </a:lnTo>
                <a:lnTo>
                  <a:pt x="252" y="278"/>
                </a:lnTo>
                <a:lnTo>
                  <a:pt x="242" y="294"/>
                </a:lnTo>
                <a:lnTo>
                  <a:pt x="232" y="308"/>
                </a:lnTo>
                <a:lnTo>
                  <a:pt x="220" y="322"/>
                </a:lnTo>
                <a:lnTo>
                  <a:pt x="208" y="334"/>
                </a:lnTo>
                <a:lnTo>
                  <a:pt x="196" y="342"/>
                </a:lnTo>
                <a:lnTo>
                  <a:pt x="182" y="352"/>
                </a:lnTo>
                <a:lnTo>
                  <a:pt x="156" y="364"/>
                </a:lnTo>
                <a:lnTo>
                  <a:pt x="132" y="320"/>
                </a:lnTo>
                <a:lnTo>
                  <a:pt x="132" y="348"/>
                </a:lnTo>
                <a:lnTo>
                  <a:pt x="58" y="348"/>
                </a:lnTo>
                <a:lnTo>
                  <a:pt x="58" y="362"/>
                </a:lnTo>
                <a:lnTo>
                  <a:pt x="8" y="362"/>
                </a:lnTo>
                <a:lnTo>
                  <a:pt x="8" y="238"/>
                </a:lnTo>
                <a:lnTo>
                  <a:pt x="132" y="238"/>
                </a:lnTo>
                <a:lnTo>
                  <a:pt x="132" y="310"/>
                </a:lnTo>
                <a:lnTo>
                  <a:pt x="132" y="310"/>
                </a:lnTo>
                <a:lnTo>
                  <a:pt x="160" y="300"/>
                </a:lnTo>
                <a:lnTo>
                  <a:pt x="182" y="288"/>
                </a:lnTo>
                <a:lnTo>
                  <a:pt x="198" y="274"/>
                </a:lnTo>
                <a:lnTo>
                  <a:pt x="210" y="258"/>
                </a:lnTo>
                <a:lnTo>
                  <a:pt x="162" y="272"/>
                </a:lnTo>
                <a:lnTo>
                  <a:pt x="162" y="272"/>
                </a:lnTo>
                <a:lnTo>
                  <a:pt x="154" y="230"/>
                </a:lnTo>
                <a:lnTo>
                  <a:pt x="142" y="200"/>
                </a:lnTo>
                <a:lnTo>
                  <a:pt x="188" y="186"/>
                </a:lnTo>
                <a:close/>
                <a:moveTo>
                  <a:pt x="10" y="8"/>
                </a:moveTo>
                <a:lnTo>
                  <a:pt x="132" y="8"/>
                </a:lnTo>
                <a:lnTo>
                  <a:pt x="132" y="50"/>
                </a:lnTo>
                <a:lnTo>
                  <a:pt x="10" y="50"/>
                </a:lnTo>
                <a:lnTo>
                  <a:pt x="10" y="8"/>
                </a:lnTo>
                <a:close/>
                <a:moveTo>
                  <a:pt x="10" y="122"/>
                </a:moveTo>
                <a:lnTo>
                  <a:pt x="132" y="122"/>
                </a:lnTo>
                <a:lnTo>
                  <a:pt x="132" y="164"/>
                </a:lnTo>
                <a:lnTo>
                  <a:pt x="10" y="164"/>
                </a:lnTo>
                <a:lnTo>
                  <a:pt x="10" y="122"/>
                </a:lnTo>
                <a:close/>
                <a:moveTo>
                  <a:pt x="10" y="180"/>
                </a:moveTo>
                <a:lnTo>
                  <a:pt x="132" y="180"/>
                </a:lnTo>
                <a:lnTo>
                  <a:pt x="132" y="222"/>
                </a:lnTo>
                <a:lnTo>
                  <a:pt x="10" y="222"/>
                </a:lnTo>
                <a:lnTo>
                  <a:pt x="10" y="180"/>
                </a:lnTo>
                <a:close/>
                <a:moveTo>
                  <a:pt x="58" y="278"/>
                </a:moveTo>
                <a:lnTo>
                  <a:pt x="58" y="306"/>
                </a:lnTo>
                <a:lnTo>
                  <a:pt x="90" y="306"/>
                </a:lnTo>
                <a:lnTo>
                  <a:pt x="90" y="278"/>
                </a:lnTo>
                <a:lnTo>
                  <a:pt x="58" y="278"/>
                </a:lnTo>
                <a:close/>
                <a:moveTo>
                  <a:pt x="278" y="20"/>
                </a:moveTo>
                <a:lnTo>
                  <a:pt x="278" y="20"/>
                </a:lnTo>
                <a:lnTo>
                  <a:pt x="278" y="34"/>
                </a:lnTo>
                <a:lnTo>
                  <a:pt x="278" y="46"/>
                </a:lnTo>
                <a:lnTo>
                  <a:pt x="282" y="60"/>
                </a:lnTo>
                <a:lnTo>
                  <a:pt x="288" y="74"/>
                </a:lnTo>
                <a:lnTo>
                  <a:pt x="288" y="74"/>
                </a:lnTo>
                <a:lnTo>
                  <a:pt x="302" y="42"/>
                </a:lnTo>
                <a:lnTo>
                  <a:pt x="310" y="10"/>
                </a:lnTo>
                <a:lnTo>
                  <a:pt x="358" y="26"/>
                </a:lnTo>
                <a:lnTo>
                  <a:pt x="358" y="26"/>
                </a:lnTo>
                <a:lnTo>
                  <a:pt x="346" y="66"/>
                </a:lnTo>
                <a:lnTo>
                  <a:pt x="332" y="96"/>
                </a:lnTo>
                <a:lnTo>
                  <a:pt x="292" y="80"/>
                </a:lnTo>
                <a:lnTo>
                  <a:pt x="292" y="80"/>
                </a:lnTo>
                <a:lnTo>
                  <a:pt x="302" y="94"/>
                </a:lnTo>
                <a:lnTo>
                  <a:pt x="314" y="104"/>
                </a:lnTo>
                <a:lnTo>
                  <a:pt x="324" y="114"/>
                </a:lnTo>
                <a:lnTo>
                  <a:pt x="334" y="120"/>
                </a:lnTo>
                <a:lnTo>
                  <a:pt x="354" y="130"/>
                </a:lnTo>
                <a:lnTo>
                  <a:pt x="368" y="136"/>
                </a:lnTo>
                <a:lnTo>
                  <a:pt x="342" y="188"/>
                </a:lnTo>
                <a:lnTo>
                  <a:pt x="342" y="188"/>
                </a:lnTo>
                <a:lnTo>
                  <a:pt x="330" y="184"/>
                </a:lnTo>
                <a:lnTo>
                  <a:pt x="318" y="176"/>
                </a:lnTo>
                <a:lnTo>
                  <a:pt x="302" y="166"/>
                </a:lnTo>
                <a:lnTo>
                  <a:pt x="286" y="152"/>
                </a:lnTo>
                <a:lnTo>
                  <a:pt x="286" y="152"/>
                </a:lnTo>
                <a:lnTo>
                  <a:pt x="272" y="136"/>
                </a:lnTo>
                <a:lnTo>
                  <a:pt x="264" y="122"/>
                </a:lnTo>
                <a:lnTo>
                  <a:pt x="258" y="110"/>
                </a:lnTo>
                <a:lnTo>
                  <a:pt x="252" y="100"/>
                </a:lnTo>
                <a:lnTo>
                  <a:pt x="252" y="100"/>
                </a:lnTo>
                <a:lnTo>
                  <a:pt x="242" y="118"/>
                </a:lnTo>
                <a:lnTo>
                  <a:pt x="236" y="130"/>
                </a:lnTo>
                <a:lnTo>
                  <a:pt x="226" y="142"/>
                </a:lnTo>
                <a:lnTo>
                  <a:pt x="214" y="154"/>
                </a:lnTo>
                <a:lnTo>
                  <a:pt x="200" y="166"/>
                </a:lnTo>
                <a:lnTo>
                  <a:pt x="182" y="178"/>
                </a:lnTo>
                <a:lnTo>
                  <a:pt x="160" y="188"/>
                </a:lnTo>
                <a:lnTo>
                  <a:pt x="134" y="136"/>
                </a:lnTo>
                <a:lnTo>
                  <a:pt x="134" y="136"/>
                </a:lnTo>
                <a:lnTo>
                  <a:pt x="146" y="132"/>
                </a:lnTo>
                <a:lnTo>
                  <a:pt x="162" y="126"/>
                </a:lnTo>
                <a:lnTo>
                  <a:pt x="178" y="116"/>
                </a:lnTo>
                <a:lnTo>
                  <a:pt x="188" y="108"/>
                </a:lnTo>
                <a:lnTo>
                  <a:pt x="196" y="100"/>
                </a:lnTo>
                <a:lnTo>
                  <a:pt x="196" y="100"/>
                </a:lnTo>
                <a:lnTo>
                  <a:pt x="206" y="88"/>
                </a:lnTo>
                <a:lnTo>
                  <a:pt x="212" y="76"/>
                </a:lnTo>
                <a:lnTo>
                  <a:pt x="218" y="66"/>
                </a:lnTo>
                <a:lnTo>
                  <a:pt x="220" y="56"/>
                </a:lnTo>
                <a:lnTo>
                  <a:pt x="224" y="36"/>
                </a:lnTo>
                <a:lnTo>
                  <a:pt x="224" y="22"/>
                </a:lnTo>
                <a:lnTo>
                  <a:pt x="224" y="0"/>
                </a:lnTo>
                <a:lnTo>
                  <a:pt x="278" y="0"/>
                </a:lnTo>
                <a:lnTo>
                  <a:pt x="278" y="20"/>
                </a:lnTo>
                <a:close/>
                <a:moveTo>
                  <a:pt x="190" y="12"/>
                </a:moveTo>
                <a:lnTo>
                  <a:pt x="190" y="12"/>
                </a:lnTo>
                <a:lnTo>
                  <a:pt x="196" y="28"/>
                </a:lnTo>
                <a:lnTo>
                  <a:pt x="202" y="46"/>
                </a:lnTo>
                <a:lnTo>
                  <a:pt x="208" y="82"/>
                </a:lnTo>
                <a:lnTo>
                  <a:pt x="158" y="96"/>
                </a:lnTo>
                <a:lnTo>
                  <a:pt x="158" y="96"/>
                </a:lnTo>
                <a:lnTo>
                  <a:pt x="158" y="82"/>
                </a:lnTo>
                <a:lnTo>
                  <a:pt x="156" y="66"/>
                </a:lnTo>
                <a:lnTo>
                  <a:pt x="152" y="48"/>
                </a:lnTo>
                <a:lnTo>
                  <a:pt x="144" y="24"/>
                </a:lnTo>
                <a:lnTo>
                  <a:pt x="19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82120" y="19389600"/>
            <a:ext cx="101520" cy="479520"/>
          </a:xfrm>
          <a:custGeom>
            <a:avLst/>
            <a:gdLst/>
            <a:ahLst/>
            <a:rect l="l" t="t" r="r" b="b"/>
            <a:pathLst>
              <a:path w="64" h="302">
                <a:moveTo>
                  <a:pt x="64" y="0"/>
                </a:moveTo>
                <a:lnTo>
                  <a:pt x="56" y="212"/>
                </a:lnTo>
                <a:lnTo>
                  <a:pt x="8" y="212"/>
                </a:lnTo>
                <a:lnTo>
                  <a:pt x="0" y="0"/>
                </a:lnTo>
                <a:lnTo>
                  <a:pt x="64" y="0"/>
                </a:lnTo>
                <a:close/>
                <a:moveTo>
                  <a:pt x="64" y="240"/>
                </a:moveTo>
                <a:lnTo>
                  <a:pt x="64" y="302"/>
                </a:lnTo>
                <a:lnTo>
                  <a:pt x="2" y="302"/>
                </a:lnTo>
                <a:lnTo>
                  <a:pt x="2" y="240"/>
                </a:lnTo>
                <a:lnTo>
                  <a:pt x="64" y="2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98840" y="21963240"/>
            <a:ext cx="8185320" cy="146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17:03Z</dcterms:created>
  <dc:creator>NEC-PCuser</dc:creator>
  <dc:description/>
  <dc:language>en-US</dc:language>
  <cp:lastModifiedBy>NEC-PCuser</cp:lastModifiedBy>
  <dcterms:modified xsi:type="dcterms:W3CDTF">2009-05-15T03:20:04Z</dcterms:modified>
  <cp:revision>1</cp:revision>
  <dc:subject/>
  <dc:title>スライド 1</dc:title>
</cp:coreProperties>
</file>