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49B0-9A7D-4656-84D7-347A3684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C2A-36CC-4AB8-BA0E-73F1101A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545-A2D4-404D-90D0-3EB57A11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204-7AD9-4CE5-8CB1-9DE0443E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810-7663-42CF-B62E-13813425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AB8-E3A6-474E-B7F8-D5E37D2B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EF1-F675-4160-9CBE-1BF5A869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ECF-9B90-45B0-B42B-890DAF0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34E-1A29-4787-826C-C82DAF0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B7F-52E7-4023-8DFF-7BA93DF9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7A2-FE3C-4174-BEAF-6B52F42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980-EE02-423B-8FED-A415CD5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CB7-EA6A-4215-AD81-8D0AA26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738-FF99-4815-8829-07EFDFA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8D9E-0A66-4AC2-968C-718098317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-11160" y="-27000"/>
            <a:ext cx="9966240" cy="69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78"/>
          <p:cNvGrpSpPr/>
          <p:nvPr/>
        </p:nvGrpSpPr>
        <p:grpSpPr>
          <a:xfrm>
            <a:off x="7920" y="-4680"/>
            <a:ext cx="9927000" cy="6860160"/>
            <a:chOff x="7920" y="-4680"/>
            <a:chExt cx="9927000" cy="6860160"/>
          </a:xfrm>
        </p:grpSpPr>
        <p:sp>
          <p:nvSpPr>
            <p:cNvPr id="50" name="Rectangle 7"/>
            <p:cNvSpPr/>
            <p:nvPr/>
          </p:nvSpPr>
          <p:spPr>
            <a:xfrm>
              <a:off x="7920" y="-4680"/>
              <a:ext cx="9927000" cy="6860160"/>
            </a:xfrm>
            <a:prstGeom prst="rect">
              <a:avLst/>
            </a:prstGeom>
            <a:solidFill>
              <a:srgbClr val="58a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171360" y="677880"/>
              <a:ext cx="9600120" cy="5990040"/>
            </a:xfrm>
            <a:custGeom>
              <a:avLst/>
              <a:gdLst>
                <a:gd name="textAreaLeft" fmla="*/ 0 w 9600120"/>
                <a:gd name="textAreaRight" fmla="*/ 9600480 w 9600120"/>
                <a:gd name="textAreaTop" fmla="*/ 0 h 5990040"/>
                <a:gd name="textAreaBottom" fmla="*/ 5990400 h 5990040"/>
              </a:gdLst>
              <a:ahLst/>
              <a:rect l="textAreaLeft" t="textAreaTop" r="textAreaRight" b="textAreaBottom"/>
              <a:pathLst>
                <a:path w="1996" h="1088">
                  <a:moveTo>
                    <a:pt x="1996" y="1048"/>
                  </a:moveTo>
                  <a:lnTo>
                    <a:pt x="1996" y="1048"/>
                  </a:lnTo>
                  <a:lnTo>
                    <a:pt x="1996" y="1058"/>
                  </a:lnTo>
                  <a:lnTo>
                    <a:pt x="1992" y="1064"/>
                  </a:lnTo>
                  <a:lnTo>
                    <a:pt x="1990" y="1072"/>
                  </a:lnTo>
                  <a:lnTo>
                    <a:pt x="1984" y="1078"/>
                  </a:lnTo>
                  <a:lnTo>
                    <a:pt x="1978" y="1082"/>
                  </a:lnTo>
                  <a:lnTo>
                    <a:pt x="1972" y="1086"/>
                  </a:lnTo>
                  <a:lnTo>
                    <a:pt x="1964" y="1088"/>
                  </a:lnTo>
                  <a:lnTo>
                    <a:pt x="1956" y="1088"/>
                  </a:lnTo>
                  <a:lnTo>
                    <a:pt x="40" y="1088"/>
                  </a:lnTo>
                  <a:lnTo>
                    <a:pt x="32" y="1088"/>
                  </a:lnTo>
                  <a:lnTo>
                    <a:pt x="24" y="1086"/>
                  </a:lnTo>
                  <a:lnTo>
                    <a:pt x="18" y="1082"/>
                  </a:lnTo>
                  <a:lnTo>
                    <a:pt x="12" y="1078"/>
                  </a:lnTo>
                  <a:lnTo>
                    <a:pt x="8" y="1072"/>
                  </a:lnTo>
                  <a:lnTo>
                    <a:pt x="4" y="1064"/>
                  </a:lnTo>
                  <a:lnTo>
                    <a:pt x="2" y="1058"/>
                  </a:lnTo>
                  <a:lnTo>
                    <a:pt x="0" y="1048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1956" y="0"/>
                  </a:lnTo>
                  <a:lnTo>
                    <a:pt x="1964" y="0"/>
                  </a:lnTo>
                  <a:lnTo>
                    <a:pt x="1972" y="4"/>
                  </a:lnTo>
                  <a:lnTo>
                    <a:pt x="1978" y="6"/>
                  </a:lnTo>
                  <a:lnTo>
                    <a:pt x="1984" y="12"/>
                  </a:lnTo>
                  <a:lnTo>
                    <a:pt x="1990" y="18"/>
                  </a:lnTo>
                  <a:lnTo>
                    <a:pt x="1992" y="24"/>
                  </a:lnTo>
                  <a:lnTo>
                    <a:pt x="1996" y="32"/>
                  </a:lnTo>
                  <a:lnTo>
                    <a:pt x="1996" y="40"/>
                  </a:lnTo>
                  <a:lnTo>
                    <a:pt x="1996" y="1048"/>
                  </a:lnTo>
                  <a:close/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1979640" y="17640"/>
              <a:ext cx="5983200" cy="957240"/>
            </a:xfrm>
            <a:custGeom>
              <a:avLst/>
              <a:gdLst>
                <a:gd name="textAreaLeft" fmla="*/ 0 w 5983200"/>
                <a:gd name="textAreaRight" fmla="*/ 5983560 w 598320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244" h="174">
                  <a:moveTo>
                    <a:pt x="1244" y="0"/>
                  </a:moveTo>
                  <a:lnTo>
                    <a:pt x="1244" y="128"/>
                  </a:lnTo>
                  <a:lnTo>
                    <a:pt x="1244" y="138"/>
                  </a:lnTo>
                  <a:lnTo>
                    <a:pt x="1240" y="146"/>
                  </a:lnTo>
                  <a:lnTo>
                    <a:pt x="1236" y="154"/>
                  </a:lnTo>
                  <a:lnTo>
                    <a:pt x="1230" y="160"/>
                  </a:lnTo>
                  <a:lnTo>
                    <a:pt x="1224" y="166"/>
                  </a:lnTo>
                  <a:lnTo>
                    <a:pt x="1216" y="170"/>
                  </a:lnTo>
                  <a:lnTo>
                    <a:pt x="1208" y="172"/>
                  </a:lnTo>
                  <a:lnTo>
                    <a:pt x="1198" y="174"/>
                  </a:lnTo>
                  <a:lnTo>
                    <a:pt x="46" y="174"/>
                  </a:lnTo>
                  <a:lnTo>
                    <a:pt x="36" y="172"/>
                  </a:lnTo>
                  <a:lnTo>
                    <a:pt x="28" y="170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8" y="154"/>
                  </a:lnTo>
                  <a:lnTo>
                    <a:pt x="4" y="146"/>
                  </a:lnTo>
                  <a:lnTo>
                    <a:pt x="2" y="138"/>
                  </a:lnTo>
                  <a:lnTo>
                    <a:pt x="0" y="128"/>
                  </a:lnTo>
                  <a:lnTo>
                    <a:pt x="0" y="0"/>
                  </a:lnTo>
                  <a:lnTo>
                    <a:pt x="12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58ab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6"/>
          <p:cNvSpPr/>
          <p:nvPr/>
        </p:nvSpPr>
        <p:spPr>
          <a:xfrm>
            <a:off x="430200" y="1239840"/>
            <a:ext cx="2838600" cy="4395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430200" y="1679400"/>
            <a:ext cx="148284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V="1">
            <a:off x="1913040" y="1679400"/>
            <a:ext cx="4680" cy="44136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600120" y="13273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社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600120" y="17683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藤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2345040" y="176832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430200" y="2373480"/>
            <a:ext cx="2838600" cy="44100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30200" y="2814480"/>
            <a:ext cx="1482840" cy="43992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 flipV="1">
            <a:off x="1913040" y="2814480"/>
            <a:ext cx="4680" cy="43992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25040" y="245124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総務人事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600120" y="28908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宮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2325240" y="28908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430200" y="5502240"/>
            <a:ext cx="2838600" cy="43992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430200" y="5942160"/>
            <a:ext cx="1482840" cy="44100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6"/>
          <p:cNvSpPr/>
          <p:nvPr/>
        </p:nvSpPr>
        <p:spPr>
          <a:xfrm flipV="1">
            <a:off x="1913040" y="5941800"/>
            <a:ext cx="4680" cy="44100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642240" y="558972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経理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600120" y="6031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木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325240" y="603108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430200" y="3497400"/>
            <a:ext cx="2838600" cy="4395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"/>
          <p:cNvSpPr/>
          <p:nvPr/>
        </p:nvSpPr>
        <p:spPr>
          <a:xfrm>
            <a:off x="430200" y="3936960"/>
            <a:ext cx="148284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430200" y="4378320"/>
            <a:ext cx="1482840" cy="43992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430200" y="4818240"/>
            <a:ext cx="1482840" cy="44100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 flipH="1">
            <a:off x="429840" y="4829040"/>
            <a:ext cx="2838600" cy="64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29840" y="2109960"/>
            <a:ext cx="283860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9"/>
          <p:cNvSpPr/>
          <p:nvPr/>
        </p:nvSpPr>
        <p:spPr>
          <a:xfrm flipH="1">
            <a:off x="429840" y="3232080"/>
            <a:ext cx="2838600" cy="64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0"/>
          <p:cNvSpPr/>
          <p:nvPr/>
        </p:nvSpPr>
        <p:spPr>
          <a:xfrm flipH="1">
            <a:off x="429840" y="5237280"/>
            <a:ext cx="2838600" cy="612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1"/>
          <p:cNvSpPr/>
          <p:nvPr/>
        </p:nvSpPr>
        <p:spPr>
          <a:xfrm flipH="1">
            <a:off x="429840" y="6372360"/>
            <a:ext cx="283860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2"/>
          <p:cNvSpPr/>
          <p:nvPr/>
        </p:nvSpPr>
        <p:spPr>
          <a:xfrm flipH="1">
            <a:off x="429840" y="4389480"/>
            <a:ext cx="283860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1913040" y="3936600"/>
            <a:ext cx="4680" cy="13222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725040" y="35751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経営推進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5"/>
          <p:cNvSpPr/>
          <p:nvPr/>
        </p:nvSpPr>
        <p:spPr>
          <a:xfrm>
            <a:off x="600120" y="4014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鈴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6"/>
          <p:cNvSpPr/>
          <p:nvPr/>
        </p:nvSpPr>
        <p:spPr>
          <a:xfrm>
            <a:off x="2325240" y="401472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600120" y="44877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武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2325240" y="448776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5"/>
          <p:cNvSpPr/>
          <p:nvPr/>
        </p:nvSpPr>
        <p:spPr>
          <a:xfrm>
            <a:off x="600120" y="49068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斉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6"/>
          <p:cNvSpPr/>
          <p:nvPr/>
        </p:nvSpPr>
        <p:spPr>
          <a:xfrm>
            <a:off x="2325240" y="49068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0"/>
          <p:cNvSpPr/>
          <p:nvPr/>
        </p:nvSpPr>
        <p:spPr>
          <a:xfrm>
            <a:off x="3548160" y="1239840"/>
            <a:ext cx="2838240" cy="4395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1"/>
          <p:cNvSpPr/>
          <p:nvPr/>
        </p:nvSpPr>
        <p:spPr>
          <a:xfrm>
            <a:off x="3548160" y="1679400"/>
            <a:ext cx="283824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2"/>
          <p:cNvSpPr/>
          <p:nvPr/>
        </p:nvSpPr>
        <p:spPr>
          <a:xfrm>
            <a:off x="3548160" y="2120760"/>
            <a:ext cx="1481040" cy="43992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3"/>
          <p:cNvSpPr/>
          <p:nvPr/>
        </p:nvSpPr>
        <p:spPr>
          <a:xfrm>
            <a:off x="3548160" y="2560680"/>
            <a:ext cx="148104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4"/>
          <p:cNvSpPr/>
          <p:nvPr/>
        </p:nvSpPr>
        <p:spPr>
          <a:xfrm flipH="1">
            <a:off x="3548160" y="2583000"/>
            <a:ext cx="2838240" cy="612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5"/>
          <p:cNvSpPr/>
          <p:nvPr/>
        </p:nvSpPr>
        <p:spPr>
          <a:xfrm flipH="1">
            <a:off x="3548160" y="2143080"/>
            <a:ext cx="283824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6"/>
          <p:cNvSpPr/>
          <p:nvPr/>
        </p:nvSpPr>
        <p:spPr>
          <a:xfrm>
            <a:off x="3925080" y="13273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情報システム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7"/>
          <p:cNvSpPr/>
          <p:nvPr/>
        </p:nvSpPr>
        <p:spPr>
          <a:xfrm>
            <a:off x="3842280" y="176832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木チー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8"/>
          <p:cNvSpPr/>
          <p:nvPr/>
        </p:nvSpPr>
        <p:spPr>
          <a:xfrm>
            <a:off x="3717000" y="2230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9"/>
          <p:cNvSpPr/>
          <p:nvPr/>
        </p:nvSpPr>
        <p:spPr>
          <a:xfrm>
            <a:off x="5443200" y="223056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3"/>
          <p:cNvSpPr/>
          <p:nvPr/>
        </p:nvSpPr>
        <p:spPr>
          <a:xfrm>
            <a:off x="3717000" y="2649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佐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4"/>
          <p:cNvSpPr/>
          <p:nvPr/>
        </p:nvSpPr>
        <p:spPr>
          <a:xfrm>
            <a:off x="5404320" y="26496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3548160" y="3002040"/>
            <a:ext cx="1481040" cy="4395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9"/>
          <p:cNvSpPr/>
          <p:nvPr/>
        </p:nvSpPr>
        <p:spPr>
          <a:xfrm>
            <a:off x="3758400" y="308916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佐々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0"/>
          <p:cNvSpPr/>
          <p:nvPr/>
        </p:nvSpPr>
        <p:spPr>
          <a:xfrm>
            <a:off x="5443200" y="308916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4"/>
          <p:cNvSpPr/>
          <p:nvPr/>
        </p:nvSpPr>
        <p:spPr>
          <a:xfrm flipV="1">
            <a:off x="5029200" y="2120400"/>
            <a:ext cx="4680" cy="132084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5"/>
          <p:cNvSpPr/>
          <p:nvPr/>
        </p:nvSpPr>
        <p:spPr>
          <a:xfrm flipH="1">
            <a:off x="3548160" y="3024360"/>
            <a:ext cx="283824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6"/>
          <p:cNvSpPr/>
          <p:nvPr/>
        </p:nvSpPr>
        <p:spPr>
          <a:xfrm>
            <a:off x="3548160" y="3441600"/>
            <a:ext cx="283824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7"/>
          <p:cNvSpPr/>
          <p:nvPr/>
        </p:nvSpPr>
        <p:spPr>
          <a:xfrm flipH="1">
            <a:off x="3548160" y="3463920"/>
            <a:ext cx="2838240" cy="64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8"/>
          <p:cNvSpPr/>
          <p:nvPr/>
        </p:nvSpPr>
        <p:spPr>
          <a:xfrm>
            <a:off x="3548160" y="3882960"/>
            <a:ext cx="1481040" cy="43992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9"/>
          <p:cNvSpPr/>
          <p:nvPr/>
        </p:nvSpPr>
        <p:spPr>
          <a:xfrm flipH="1">
            <a:off x="3548160" y="3905280"/>
            <a:ext cx="283824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0"/>
          <p:cNvSpPr/>
          <p:nvPr/>
        </p:nvSpPr>
        <p:spPr>
          <a:xfrm>
            <a:off x="3548160" y="4322880"/>
            <a:ext cx="148104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1"/>
          <p:cNvSpPr/>
          <p:nvPr/>
        </p:nvSpPr>
        <p:spPr>
          <a:xfrm flipH="1">
            <a:off x="3548160" y="4344840"/>
            <a:ext cx="2838240" cy="64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2"/>
          <p:cNvSpPr/>
          <p:nvPr/>
        </p:nvSpPr>
        <p:spPr>
          <a:xfrm flipH="1">
            <a:off x="3548160" y="4753080"/>
            <a:ext cx="283824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3"/>
          <p:cNvSpPr/>
          <p:nvPr/>
        </p:nvSpPr>
        <p:spPr>
          <a:xfrm>
            <a:off x="3842280" y="354168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谷口チー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4"/>
          <p:cNvSpPr/>
          <p:nvPr/>
        </p:nvSpPr>
        <p:spPr>
          <a:xfrm>
            <a:off x="3717000" y="40147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谷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5"/>
          <p:cNvSpPr/>
          <p:nvPr/>
        </p:nvSpPr>
        <p:spPr>
          <a:xfrm>
            <a:off x="5443200" y="401472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9"/>
          <p:cNvSpPr/>
          <p:nvPr/>
        </p:nvSpPr>
        <p:spPr>
          <a:xfrm>
            <a:off x="3717000" y="44337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山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0"/>
          <p:cNvSpPr/>
          <p:nvPr/>
        </p:nvSpPr>
        <p:spPr>
          <a:xfrm>
            <a:off x="5443200" y="443376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4"/>
          <p:cNvSpPr/>
          <p:nvPr/>
        </p:nvSpPr>
        <p:spPr>
          <a:xfrm flipV="1">
            <a:off x="5029200" y="3882960"/>
            <a:ext cx="4680" cy="8812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5"/>
          <p:cNvSpPr/>
          <p:nvPr/>
        </p:nvSpPr>
        <p:spPr>
          <a:xfrm>
            <a:off x="3548160" y="5502240"/>
            <a:ext cx="1481040" cy="43992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6"/>
          <p:cNvSpPr/>
          <p:nvPr/>
        </p:nvSpPr>
        <p:spPr>
          <a:xfrm flipH="1">
            <a:off x="3548160" y="5524560"/>
            <a:ext cx="283824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7"/>
          <p:cNvSpPr/>
          <p:nvPr/>
        </p:nvSpPr>
        <p:spPr>
          <a:xfrm>
            <a:off x="3548160" y="5942160"/>
            <a:ext cx="1481040" cy="44100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8"/>
          <p:cNvSpPr/>
          <p:nvPr/>
        </p:nvSpPr>
        <p:spPr>
          <a:xfrm flipH="1">
            <a:off x="3548160" y="5964120"/>
            <a:ext cx="2838240" cy="64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9"/>
          <p:cNvSpPr/>
          <p:nvPr/>
        </p:nvSpPr>
        <p:spPr>
          <a:xfrm>
            <a:off x="3717000" y="56228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工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"/>
          <p:cNvSpPr/>
          <p:nvPr/>
        </p:nvSpPr>
        <p:spPr>
          <a:xfrm>
            <a:off x="5443200" y="562284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4"/>
          <p:cNvSpPr/>
          <p:nvPr/>
        </p:nvSpPr>
        <p:spPr>
          <a:xfrm>
            <a:off x="3717000" y="60530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牛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5"/>
          <p:cNvSpPr/>
          <p:nvPr/>
        </p:nvSpPr>
        <p:spPr>
          <a:xfrm>
            <a:off x="5443200" y="605304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9"/>
          <p:cNvSpPr/>
          <p:nvPr/>
        </p:nvSpPr>
        <p:spPr>
          <a:xfrm flipV="1">
            <a:off x="5029200" y="5501880"/>
            <a:ext cx="4680" cy="88092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0"/>
          <p:cNvSpPr/>
          <p:nvPr/>
        </p:nvSpPr>
        <p:spPr>
          <a:xfrm>
            <a:off x="6664320" y="1239840"/>
            <a:ext cx="2838600" cy="4395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1"/>
          <p:cNvSpPr/>
          <p:nvPr/>
        </p:nvSpPr>
        <p:spPr>
          <a:xfrm>
            <a:off x="6664320" y="1679400"/>
            <a:ext cx="149220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2"/>
          <p:cNvSpPr/>
          <p:nvPr/>
        </p:nvSpPr>
        <p:spPr>
          <a:xfrm>
            <a:off x="6664320" y="2120760"/>
            <a:ext cx="1492200" cy="43992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3"/>
          <p:cNvSpPr/>
          <p:nvPr/>
        </p:nvSpPr>
        <p:spPr>
          <a:xfrm>
            <a:off x="6664320" y="2560680"/>
            <a:ext cx="149220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4"/>
          <p:cNvSpPr/>
          <p:nvPr/>
        </p:nvSpPr>
        <p:spPr>
          <a:xfrm flipH="1">
            <a:off x="6663960" y="2583000"/>
            <a:ext cx="2838600" cy="612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5"/>
          <p:cNvSpPr/>
          <p:nvPr/>
        </p:nvSpPr>
        <p:spPr>
          <a:xfrm flipH="1">
            <a:off x="6663960" y="2143080"/>
            <a:ext cx="283860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6959160" y="132732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営業推進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6834960" y="2230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渡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8560080" y="223056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2"/>
          <p:cNvSpPr/>
          <p:nvPr/>
        </p:nvSpPr>
        <p:spPr>
          <a:xfrm>
            <a:off x="6834960" y="2649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3"/>
          <p:cNvSpPr/>
          <p:nvPr/>
        </p:nvSpPr>
        <p:spPr>
          <a:xfrm>
            <a:off x="8560080" y="26496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7"/>
          <p:cNvSpPr/>
          <p:nvPr/>
        </p:nvSpPr>
        <p:spPr>
          <a:xfrm flipV="1">
            <a:off x="8156520" y="1679400"/>
            <a:ext cx="4680" cy="132264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8"/>
          <p:cNvSpPr/>
          <p:nvPr/>
        </p:nvSpPr>
        <p:spPr>
          <a:xfrm flipH="1">
            <a:off x="6663960" y="3024360"/>
            <a:ext cx="283860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9"/>
          <p:cNvSpPr/>
          <p:nvPr/>
        </p:nvSpPr>
        <p:spPr>
          <a:xfrm>
            <a:off x="6834960" y="176832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今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0"/>
          <p:cNvSpPr/>
          <p:nvPr/>
        </p:nvSpPr>
        <p:spPr>
          <a:xfrm>
            <a:off x="8560080" y="176832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4"/>
          <p:cNvSpPr/>
          <p:nvPr/>
        </p:nvSpPr>
        <p:spPr>
          <a:xfrm>
            <a:off x="6664320" y="3265560"/>
            <a:ext cx="2838600" cy="4413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5"/>
          <p:cNvSpPr/>
          <p:nvPr/>
        </p:nvSpPr>
        <p:spPr>
          <a:xfrm>
            <a:off x="6664320" y="3706920"/>
            <a:ext cx="1492200" cy="4395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6"/>
          <p:cNvSpPr/>
          <p:nvPr/>
        </p:nvSpPr>
        <p:spPr>
          <a:xfrm>
            <a:off x="7084440" y="3343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マーケティング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7"/>
          <p:cNvSpPr/>
          <p:nvPr/>
        </p:nvSpPr>
        <p:spPr>
          <a:xfrm flipV="1">
            <a:off x="8156520" y="3706560"/>
            <a:ext cx="4680" cy="43956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8"/>
          <p:cNvSpPr/>
          <p:nvPr/>
        </p:nvSpPr>
        <p:spPr>
          <a:xfrm>
            <a:off x="6834960" y="37828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今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9"/>
          <p:cNvSpPr/>
          <p:nvPr/>
        </p:nvSpPr>
        <p:spPr>
          <a:xfrm>
            <a:off x="8560080" y="378288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3"/>
          <p:cNvSpPr/>
          <p:nvPr/>
        </p:nvSpPr>
        <p:spPr>
          <a:xfrm>
            <a:off x="6664320" y="4389480"/>
            <a:ext cx="2838600" cy="4395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4"/>
          <p:cNvSpPr/>
          <p:nvPr/>
        </p:nvSpPr>
        <p:spPr>
          <a:xfrm>
            <a:off x="6664320" y="4829040"/>
            <a:ext cx="1492200" cy="441360"/>
          </a:xfrm>
          <a:prstGeom prst="rect">
            <a:avLst/>
          </a:prstGeom>
          <a:solidFill>
            <a:srgbClr val="d2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5"/>
          <p:cNvSpPr/>
          <p:nvPr/>
        </p:nvSpPr>
        <p:spPr>
          <a:xfrm>
            <a:off x="6959160" y="446580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企画調整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6"/>
          <p:cNvSpPr/>
          <p:nvPr/>
        </p:nvSpPr>
        <p:spPr>
          <a:xfrm flipV="1">
            <a:off x="8156520" y="4829040"/>
            <a:ext cx="4680" cy="44136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7"/>
          <p:cNvSpPr/>
          <p:nvPr/>
        </p:nvSpPr>
        <p:spPr>
          <a:xfrm>
            <a:off x="6834960" y="49068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8"/>
          <p:cNvSpPr/>
          <p:nvPr/>
        </p:nvSpPr>
        <p:spPr>
          <a:xfrm>
            <a:off x="8560080" y="49068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3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72"/>
          <p:cNvSpPr/>
          <p:nvPr/>
        </p:nvSpPr>
        <p:spPr>
          <a:xfrm flipH="1">
            <a:off x="3548160" y="6372360"/>
            <a:ext cx="2838240" cy="46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3"/>
          <p:cNvSpPr/>
          <p:nvPr/>
        </p:nvSpPr>
        <p:spPr>
          <a:xfrm flipH="1">
            <a:off x="6663960" y="4124160"/>
            <a:ext cx="2838600" cy="648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4"/>
          <p:cNvSpPr/>
          <p:nvPr/>
        </p:nvSpPr>
        <p:spPr>
          <a:xfrm flipH="1">
            <a:off x="6663960" y="5248440"/>
            <a:ext cx="2838600" cy="6120"/>
          </a:xfrm>
          <a:prstGeom prst="line">
            <a:avLst/>
          </a:prstGeom>
          <a:ln w="9360">
            <a:solidFill>
              <a:srgbClr val="58ab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5"/>
          <p:cNvSpPr/>
          <p:nvPr/>
        </p:nvSpPr>
        <p:spPr>
          <a:xfrm>
            <a:off x="3548160" y="5072040"/>
            <a:ext cx="2838240" cy="441360"/>
          </a:xfrm>
          <a:prstGeom prst="rect">
            <a:avLst/>
          </a:prstGeom>
          <a:solidFill>
            <a:srgbClr val="58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6"/>
          <p:cNvSpPr/>
          <p:nvPr/>
        </p:nvSpPr>
        <p:spPr>
          <a:xfrm>
            <a:off x="3758400" y="516096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取引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9" descr="C:\Documents and Settings\moosawa\My Documents\テックTTBS\クリップアート化200905\PPT納品データ\活用２\OK\naisen_08simo\名称未設定-2.png"/>
          <p:cNvPicPr/>
          <p:nvPr/>
        </p:nvPicPr>
        <p:blipFill>
          <a:blip r:embed="rId1"/>
          <a:stretch/>
        </p:blipFill>
        <p:spPr>
          <a:xfrm>
            <a:off x="2297160" y="249120"/>
            <a:ext cx="606240" cy="480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6" descr="C:\Documents and Settings\moosawa\My Documents\テックTTBS\クリップアート化200905\PPT納品データ\活用２\naisen_08simo\名称未設定-1.wmf"/>
          <p:cNvPicPr/>
          <p:nvPr/>
        </p:nvPicPr>
        <p:blipFill>
          <a:blip r:embed="rId2"/>
          <a:srcRect l="30934" t="0" r="0" b="0"/>
          <a:stretch/>
        </p:blipFill>
        <p:spPr>
          <a:xfrm>
            <a:off x="4448160" y="299880"/>
            <a:ext cx="321948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50:15Z</dcterms:created>
  <dc:creator>NEC-PCuser</dc:creator>
  <dc:description/>
  <dc:language>en-US</dc:language>
  <cp:lastModifiedBy>kkato</cp:lastModifiedBy>
  <dcterms:modified xsi:type="dcterms:W3CDTF">2015-03-19T19:55:00Z</dcterms:modified>
  <cp:revision>4</cp:revision>
  <dc:subject/>
  <dc:title>スライド 1</dc:title>
</cp:coreProperties>
</file>