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0240" y="685440"/>
            <a:ext cx="8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2618-85B2-4EFE-8A93-12EDA3B41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6D5F-1F21-47ED-99EC-4E425580D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3000240" y="685800"/>
            <a:ext cx="85752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85F-15B6-4358-82D6-07C84B0D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874-75D2-458A-B891-99C3B561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78A-3D63-4044-874B-7F81EB71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E45-2B80-4BDB-A899-C5C018D6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036-ED3A-4EA0-89FC-0CFABD0A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CBF-097F-46A6-9A55-97E032DB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D4B-E4AB-42E7-9F06-C34C554F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584-3837-47F7-A75F-C5813D8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4CC-B601-40BA-A00D-1496271E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B9C-4AC9-4DFD-96A3-B7386FE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9DC-7846-4E1F-98D9-7E82D132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5F4-A7F2-44BF-949B-BE0879A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6000"/>
          </a:bodyPr>
          <a:p>
            <a:pPr marL="878040" indent="-8780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1904760" indent="-7322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2930400" indent="-584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4102920" indent="-584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6066-532B-4430-AFEF-09D67ACB50A1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0" y="0"/>
            <a:ext cx="10801440" cy="43224480"/>
          </a:xfrm>
          <a:prstGeom prst="rect">
            <a:avLst/>
          </a:prstGeom>
          <a:solidFill>
            <a:srgbClr val="8cc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680" y="7099200"/>
            <a:ext cx="10693440" cy="1800"/>
          </a:xfrm>
          <a:custGeom>
            <a:avLst/>
            <a:gdLst>
              <a:gd name="textAreaLeft" fmla="*/ 0 w 10693440"/>
              <a:gd name="textAreaRight" fmla="*/ 10693440 w 10693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736" h="1588">
                <a:moveTo>
                  <a:pt x="6736" y="0"/>
                </a:moveTo>
                <a:lnTo>
                  <a:pt x="0" y="0"/>
                </a:lnTo>
                <a:lnTo>
                  <a:pt x="6736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3200" bIns="-432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56"/>
          <p:cNvSpPr/>
          <p:nvPr/>
        </p:nvSpPr>
        <p:spPr>
          <a:xfrm>
            <a:off x="0" y="0"/>
            <a:ext cx="2952720" cy="4320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-2018520" y="26571600"/>
            <a:ext cx="4755240" cy="166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0" spc="-1" strike="noStrike">
                <a:solidFill>
                  <a:srgbClr val="ffffff"/>
                </a:solidFill>
                <a:latin typeface="Arial"/>
              </a:rPr>
              <a:t>東芝</a:t>
            </a:r>
            <a:r>
              <a:rPr b="0" lang="en-US" sz="15000" spc="-1" strike="noStrike">
                <a:solidFill>
                  <a:srgbClr val="ffffff"/>
                </a:solidFill>
                <a:latin typeface="Arial"/>
              </a:rPr>
              <a:t>◯◯</a:t>
            </a:r>
            <a:r>
              <a:rPr b="0" lang="ja-JP" sz="15000" spc="-1" strike="noStrike">
                <a:solidFill>
                  <a:srgbClr val="ffffff"/>
                </a:solidFill>
                <a:latin typeface="Arial"/>
              </a:rPr>
              <a:t>株式会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図形グループ 12"/>
          <p:cNvGrpSpPr/>
          <p:nvPr/>
        </p:nvGrpSpPr>
        <p:grpSpPr>
          <a:xfrm>
            <a:off x="3684600" y="25639560"/>
            <a:ext cx="6180120" cy="17276760"/>
            <a:chOff x="3684600" y="25639560"/>
            <a:chExt cx="6180120" cy="17276760"/>
          </a:xfrm>
        </p:grpSpPr>
        <p:pic>
          <p:nvPicPr>
            <p:cNvPr id="53" name="図 4" descr="semina01.png"/>
            <p:cNvPicPr/>
            <p:nvPr/>
          </p:nvPicPr>
          <p:blipFill>
            <a:blip r:embed="rId1"/>
            <a:stretch/>
          </p:blipFill>
          <p:spPr>
            <a:xfrm>
              <a:off x="3684600" y="25639560"/>
              <a:ext cx="6180120" cy="172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図 5" descr="semina.png"/>
            <p:cNvPicPr/>
            <p:nvPr/>
          </p:nvPicPr>
          <p:blipFill>
            <a:blip r:embed="rId2"/>
            <a:stretch/>
          </p:blipFill>
          <p:spPr>
            <a:xfrm>
              <a:off x="4178880" y="26163000"/>
              <a:ext cx="5026680" cy="1608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図形グループ 14"/>
          <p:cNvGrpSpPr/>
          <p:nvPr/>
        </p:nvGrpSpPr>
        <p:grpSpPr>
          <a:xfrm>
            <a:off x="3600360" y="17714880"/>
            <a:ext cx="6632640" cy="7991640"/>
            <a:chOff x="3600360" y="17714880"/>
            <a:chExt cx="6632640" cy="7991640"/>
          </a:xfrm>
        </p:grpSpPr>
        <p:sp>
          <p:nvSpPr>
            <p:cNvPr id="56" name="正方形/長方形 13"/>
            <p:cNvSpPr/>
            <p:nvPr/>
          </p:nvSpPr>
          <p:spPr>
            <a:xfrm>
              <a:off x="3600360" y="17714880"/>
              <a:ext cx="3826440" cy="382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086280"/>
                  <a:tab algn="l" pos="6172200"/>
                  <a:tab algn="l" pos="925848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正方形/長方形 35"/>
            <p:cNvSpPr/>
            <p:nvPr/>
          </p:nvSpPr>
          <p:spPr>
            <a:xfrm>
              <a:off x="6406560" y="21880800"/>
              <a:ext cx="3826440" cy="382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086280"/>
                  <a:tab algn="l" pos="6172200"/>
                  <a:tab algn="l" pos="925848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図 16" descr="kaizen01.png"/>
          <p:cNvPicPr/>
          <p:nvPr/>
        </p:nvPicPr>
        <p:blipFill>
          <a:blip r:embed="rId3"/>
          <a:stretch/>
        </p:blipFill>
        <p:spPr>
          <a:xfrm>
            <a:off x="3816360" y="17930880"/>
            <a:ext cx="3240000" cy="3467160"/>
          </a:xfrm>
          <a:prstGeom prst="rect">
            <a:avLst/>
          </a:prstGeom>
          <a:ln w="0">
            <a:noFill/>
          </a:ln>
        </p:spPr>
      </p:pic>
      <p:pic>
        <p:nvPicPr>
          <p:cNvPr id="59" name="図 17" descr="kaizen02.png"/>
          <p:cNvPicPr/>
          <p:nvPr/>
        </p:nvPicPr>
        <p:blipFill>
          <a:blip r:embed="rId4"/>
          <a:stretch/>
        </p:blipFill>
        <p:spPr>
          <a:xfrm>
            <a:off x="6624720" y="22107600"/>
            <a:ext cx="3240000" cy="3467160"/>
          </a:xfrm>
          <a:prstGeom prst="rect">
            <a:avLst/>
          </a:prstGeom>
          <a:ln w="0">
            <a:noFill/>
          </a:ln>
        </p:spPr>
      </p:pic>
      <p:grpSp>
        <p:nvGrpSpPr>
          <p:cNvPr id="60" name="図形グループ 4"/>
          <p:cNvGrpSpPr/>
          <p:nvPr/>
        </p:nvGrpSpPr>
        <p:grpSpPr>
          <a:xfrm>
            <a:off x="3745080" y="7750080"/>
            <a:ext cx="6284880" cy="9820440"/>
            <a:chOff x="3745080" y="7750080"/>
            <a:chExt cx="6284880" cy="9820440"/>
          </a:xfrm>
        </p:grpSpPr>
        <p:pic>
          <p:nvPicPr>
            <p:cNvPr id="61" name="図 2" descr="gyoumuwaku.png"/>
            <p:cNvPicPr/>
            <p:nvPr/>
          </p:nvPicPr>
          <p:blipFill>
            <a:blip r:embed="rId5"/>
            <a:stretch/>
          </p:blipFill>
          <p:spPr>
            <a:xfrm>
              <a:off x="3745080" y="7750080"/>
              <a:ext cx="6284880" cy="9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図 3" descr="gyoumu.png"/>
            <p:cNvPicPr/>
            <p:nvPr/>
          </p:nvPicPr>
          <p:blipFill>
            <a:blip r:embed="rId6"/>
            <a:stretch/>
          </p:blipFill>
          <p:spPr>
            <a:xfrm>
              <a:off x="4286160" y="8291160"/>
              <a:ext cx="5045400" cy="85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図 5" descr="zinnzi01.psd"/>
          <p:cNvPicPr/>
          <p:nvPr/>
        </p:nvPicPr>
        <p:blipFill>
          <a:blip r:embed="rId7"/>
          <a:stretch/>
        </p:blipFill>
        <p:spPr>
          <a:xfrm>
            <a:off x="4392720" y="1471680"/>
            <a:ext cx="4824360" cy="5297400"/>
          </a:xfrm>
          <a:prstGeom prst="rect">
            <a:avLst/>
          </a:prstGeom>
          <a:ln w="0">
            <a:noFill/>
          </a:ln>
        </p:spPr>
      </p:pic>
      <p:sp>
        <p:nvSpPr>
          <p:cNvPr id="64" name="角丸四角形 6"/>
          <p:cNvSpPr/>
          <p:nvPr/>
        </p:nvSpPr>
        <p:spPr>
          <a:xfrm>
            <a:off x="3672000" y="865080"/>
            <a:ext cx="6481800" cy="6480360"/>
          </a:xfrm>
          <a:prstGeom prst="roundRect">
            <a:avLst>
              <a:gd name="adj" fmla="val 16667"/>
            </a:avLst>
          </a:prstGeom>
          <a:noFill/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10"/>
          <p:cNvSpPr/>
          <p:nvPr/>
        </p:nvSpPr>
        <p:spPr>
          <a:xfrm>
            <a:off x="29556000" y="22860000"/>
            <a:ext cx="184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0:36Z</dcterms:created>
  <dc:creator>NEC-PCuser</dc:creator>
  <dc:description/>
  <dc:language>en-US</dc:language>
  <cp:lastModifiedBy>株式会社ジーン macpro2</cp:lastModifiedBy>
  <cp:lastPrinted>2013-02-12T08:41:02Z</cp:lastPrinted>
  <dcterms:modified xsi:type="dcterms:W3CDTF">2013-02-12T08:41:04Z</dcterms:modified>
  <cp:revision>10</cp:revision>
  <dc:subject/>
  <dc:title>スライド 1</dc:title>
</cp:coreProperties>
</file>