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0240" y="685440"/>
            <a:ext cx="8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r>
              <a:rPr b="0" lang="en-US" sz="1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8A72-BDCD-4CA2-BABE-952AFC61D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7E44-115F-4BC4-80C5-2E4A7D40A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3000240" y="685800"/>
            <a:ext cx="85752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617-6637-4317-8EE7-B917FEAC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57B-C17A-4802-8A9C-64592DE6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A20-376A-47D6-A931-5169A8FB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DBD-3CAE-48A7-988B-08D5B1A9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0A1-38D5-4C82-A76E-A91AA465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7CFD-675B-413E-954A-C513523F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724E-9A9F-4DB5-9A46-B9EDD31B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35F8-7213-4C7E-B089-6FF5512C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1730520"/>
            <a:ext cx="972180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1DE-3516-4367-8100-6A86801C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7C4-CF86-451D-9EE7-57EA8BFC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7972-CAB4-41FF-82E8-94553889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7ED-625A-4ACC-81AE-7A017E1E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r>
              <a:rPr b="0" lang="en-US" sz="1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77000"/>
          </a:bodyPr>
          <a:p>
            <a:pPr marL="891000" indent="-8910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931040" indent="-743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2970360" indent="-5940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4158360" indent="-59400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5346360" indent="-59400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5346360" indent="-59400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5346360" indent="-59400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39344760"/>
            <a:ext cx="25210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39344760"/>
            <a:ext cx="34192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39344760"/>
            <a:ext cx="252072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0E5A-B5D3-4CF9-9963-F4570F475EB8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-71280" y="0"/>
            <a:ext cx="10845720" cy="432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"/>
          <p:cNvSpPr/>
          <p:nvPr/>
        </p:nvSpPr>
        <p:spPr>
          <a:xfrm>
            <a:off x="4680" y="7099200"/>
            <a:ext cx="10693440" cy="1800"/>
          </a:xfrm>
          <a:custGeom>
            <a:avLst/>
            <a:gdLst>
              <a:gd name="textAreaLeft" fmla="*/ 0 w 10693440"/>
              <a:gd name="textAreaRight" fmla="*/ 10693440 w 10693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736" h="1588">
                <a:moveTo>
                  <a:pt x="6736" y="0"/>
                </a:moveTo>
                <a:lnTo>
                  <a:pt x="0" y="0"/>
                </a:lnTo>
                <a:lnTo>
                  <a:pt x="6736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正方形/長方形 2"/>
          <p:cNvSpPr/>
          <p:nvPr/>
        </p:nvSpPr>
        <p:spPr>
          <a:xfrm>
            <a:off x="0" y="0"/>
            <a:ext cx="10801440" cy="252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56"/>
          <p:cNvSpPr/>
          <p:nvPr/>
        </p:nvSpPr>
        <p:spPr>
          <a:xfrm>
            <a:off x="0" y="40684320"/>
            <a:ext cx="10801440" cy="252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正方形/長方形 6"/>
          <p:cNvSpPr/>
          <p:nvPr/>
        </p:nvSpPr>
        <p:spPr>
          <a:xfrm>
            <a:off x="5078520" y="3889440"/>
            <a:ext cx="5056200" cy="342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0" spc="-1" strike="noStrike">
                <a:solidFill>
                  <a:srgbClr val="000000"/>
                </a:solidFill>
                <a:latin typeface="Arial"/>
              </a:rPr>
              <a:t>株式会社　</a:t>
            </a:r>
            <a:r>
              <a:rPr b="0" lang="en-US" sz="16000" spc="-1" strike="noStrike">
                <a:solidFill>
                  <a:srgbClr val="000000"/>
                </a:solidFill>
                <a:latin typeface="Arial"/>
              </a:rPr>
              <a:t>◯◯</a:t>
            </a:r>
            <a:r>
              <a:rPr b="0" lang="ja-JP" sz="16000" spc="-1" strike="noStrike">
                <a:solidFill>
                  <a:srgbClr val="000000"/>
                </a:solidFill>
                <a:latin typeface="Arial"/>
              </a:rPr>
              <a:t>コーポレーション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1" descr="senkou.png"/>
          <p:cNvPicPr/>
          <p:nvPr/>
        </p:nvPicPr>
        <p:blipFill>
          <a:blip r:embed="rId1"/>
          <a:stretch/>
        </p:blipFill>
        <p:spPr>
          <a:xfrm>
            <a:off x="1017720" y="5616720"/>
            <a:ext cx="6183360" cy="3298032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2"/>
          <p:cNvSpPr/>
          <p:nvPr/>
        </p:nvSpPr>
        <p:spPr>
          <a:xfrm>
            <a:off x="16152840" y="13757400"/>
            <a:ext cx="18576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20:36Z</dcterms:created>
  <dc:creator>NEC-PCuser</dc:creator>
  <dc:description/>
  <dc:language>en-US</dc:language>
  <cp:lastModifiedBy>株式会社ジーン macpro2</cp:lastModifiedBy>
  <cp:lastPrinted>2013-02-12T08:06:21Z</cp:lastPrinted>
  <dcterms:modified xsi:type="dcterms:W3CDTF">2013-02-12T08:06:23Z</dcterms:modified>
  <cp:revision>5</cp:revision>
  <dc:subject/>
  <dc:title>スライド 1</dc:title>
</cp:coreProperties>
</file>