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79976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0240" y="685440"/>
            <a:ext cx="8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r>
              <a:rPr b="0" lang="en-US" sz="1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7DA0-36FC-498E-91AA-E74982F31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342D-AB07-41C7-9444-26A43EEE1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3000240" y="685800"/>
            <a:ext cx="85752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0ED-9B93-4A37-A32F-3DF42C08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2497392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76E8-FCF8-445A-9EC4-C2192994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2EFC-D5EA-409C-8342-31A18990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82D-277B-448C-B9DA-D423F031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7FE8-E2B8-41FC-8352-C975EDC8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4B35-413E-475A-BE9C-91AA21AD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2B0-BA5E-4E5E-BA8E-AF7B3BA8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DE58-D29D-46A3-B49A-511C64F6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1730520"/>
            <a:ext cx="972180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209-9ED8-45C2-9BF5-91503DC4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E44C-64D1-4330-8BAC-5F612E27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5800-21EC-4EDE-9B14-9B418A70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1A23-3D67-49D0-BC6B-4F16A860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r>
              <a:rPr b="0" lang="en-US" sz="1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77000"/>
          </a:bodyPr>
          <a:p>
            <a:pPr marL="891000" indent="-8910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1931040" indent="-7430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2970360" indent="-5940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4158360" indent="-59400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5346360" indent="-59400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5346360" indent="-59400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5346360" indent="-59400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39344760"/>
            <a:ext cx="252108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39344760"/>
            <a:ext cx="341928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39344760"/>
            <a:ext cx="252072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C796-39E3-4A07-86B4-66249350563F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/>
          <p:cNvSpPr/>
          <p:nvPr/>
        </p:nvSpPr>
        <p:spPr>
          <a:xfrm>
            <a:off x="-71280" y="0"/>
            <a:ext cx="10845720" cy="432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0"/>
          <p:cNvSpPr/>
          <p:nvPr/>
        </p:nvSpPr>
        <p:spPr>
          <a:xfrm>
            <a:off x="4680" y="7099200"/>
            <a:ext cx="10693440" cy="1800"/>
          </a:xfrm>
          <a:custGeom>
            <a:avLst/>
            <a:gdLst>
              <a:gd name="textAreaLeft" fmla="*/ 0 w 10693440"/>
              <a:gd name="textAreaRight" fmla="*/ 10693440 w 10693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736" h="1588">
                <a:moveTo>
                  <a:pt x="6736" y="0"/>
                </a:moveTo>
                <a:lnTo>
                  <a:pt x="0" y="0"/>
                </a:lnTo>
                <a:lnTo>
                  <a:pt x="6736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正方形/長方形 2"/>
          <p:cNvSpPr/>
          <p:nvPr/>
        </p:nvSpPr>
        <p:spPr>
          <a:xfrm>
            <a:off x="0" y="0"/>
            <a:ext cx="10801440" cy="2521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56"/>
          <p:cNvSpPr/>
          <p:nvPr/>
        </p:nvSpPr>
        <p:spPr>
          <a:xfrm>
            <a:off x="0" y="40829040"/>
            <a:ext cx="10801440" cy="2520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正方形/長方形 6"/>
          <p:cNvSpPr/>
          <p:nvPr/>
        </p:nvSpPr>
        <p:spPr>
          <a:xfrm>
            <a:off x="5078520" y="3889440"/>
            <a:ext cx="5056200" cy="342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0" spc="-1" strike="noStrike">
                <a:solidFill>
                  <a:srgbClr val="000000"/>
                </a:solidFill>
                <a:latin typeface="Arial"/>
              </a:rPr>
              <a:t>株式会社　</a:t>
            </a:r>
            <a:r>
              <a:rPr b="0" lang="en-US" sz="16000" spc="-1" strike="noStrike">
                <a:solidFill>
                  <a:srgbClr val="000000"/>
                </a:solidFill>
                <a:latin typeface="Arial"/>
              </a:rPr>
              <a:t>◯◯</a:t>
            </a:r>
            <a:r>
              <a:rPr b="0" lang="ja-JP" sz="16000" spc="-1" strike="noStrike">
                <a:solidFill>
                  <a:srgbClr val="000000"/>
                </a:solidFill>
                <a:latin typeface="Arial"/>
              </a:rPr>
              <a:t>コーポレーション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9" descr="名称未設定-5.gif"/>
          <p:cNvPicPr/>
          <p:nvPr/>
        </p:nvPicPr>
        <p:blipFill>
          <a:blip r:embed="rId1"/>
          <a:stretch/>
        </p:blipFill>
        <p:spPr>
          <a:xfrm>
            <a:off x="1152360" y="4968720"/>
            <a:ext cx="5956560" cy="338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20:36Z</dcterms:created>
  <dc:creator>NEC-PCuser</dc:creator>
  <dc:description/>
  <dc:language>en-US</dc:language>
  <cp:lastModifiedBy>tec</cp:lastModifiedBy>
  <cp:lastPrinted>2013-02-12T08:06:21Z</cp:lastPrinted>
  <dcterms:modified xsi:type="dcterms:W3CDTF">2013-03-22T05:23:11Z</dcterms:modified>
  <cp:revision>6</cp:revision>
  <dc:subject/>
  <dc:title>スライド 1</dc:title>
</cp:coreProperties>
</file>