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4760" y="685440"/>
            <a:ext cx="4848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C5F-3AEB-4C91-A84F-1414C05C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4332-45B9-460B-A600-2DB32B5E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4760" y="685800"/>
            <a:ext cx="48484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E07-47A6-4C7C-9E25-CC473DEE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A51-5816-4FB1-8493-38576BFB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74C-C636-4092-A452-51BE4C5F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4CA-FFFE-4D3F-98CC-3D1FDC52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8C0-F71E-407D-B7EA-FA8CBE55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581-673E-4C32-A421-C380E14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489-E26A-40F6-AA99-3951157F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92D-397F-4AF2-A725-8FB9453B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5B8-A57E-411A-A7F9-EB89E0A4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DD2-D214-45B3-8C68-1B59B48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F6D-F61F-4A30-B09C-54A420D2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FFB-9739-4F08-8B8E-BF2D01A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C359-D54D-48CD-8C76-BF716C955F5A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0" y="-3240"/>
            <a:ext cx="15135120" cy="10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0" y="-3240"/>
            <a:ext cx="15125760" cy="536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711360" y="714240"/>
            <a:ext cx="14420520" cy="464832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"/>
          <p:cNvSpPr/>
          <p:nvPr/>
        </p:nvSpPr>
        <p:spPr>
          <a:xfrm>
            <a:off x="9360" y="1244520"/>
            <a:ext cx="13750920" cy="2457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2203560" y="1660680"/>
            <a:ext cx="1428480" cy="145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375080" y="2346480"/>
            <a:ext cx="140976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3"/>
          <p:cNvSpPr/>
          <p:nvPr/>
        </p:nvSpPr>
        <p:spPr>
          <a:xfrm>
            <a:off x="6505560" y="1679400"/>
            <a:ext cx="1479600" cy="143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>
            <a:off x="8686800" y="1657440"/>
            <a:ext cx="1460520" cy="145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10855440" y="1679400"/>
            <a:ext cx="1422360" cy="137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3530520" y="3565440"/>
            <a:ext cx="11598480" cy="1241640"/>
          </a:xfrm>
          <a:prstGeom prst="pie">
            <a:avLst/>
          </a:prstGeom>
          <a:solidFill>
            <a:srgbClr val="9ec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4505400" y="3936960"/>
            <a:ext cx="323640" cy="4698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>
            <a:off x="5038560" y="3936960"/>
            <a:ext cx="66960" cy="4698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5334120" y="4073400"/>
            <a:ext cx="17784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0"/>
          <p:cNvSpPr/>
          <p:nvPr/>
        </p:nvSpPr>
        <p:spPr>
          <a:xfrm>
            <a:off x="5695920" y="4073400"/>
            <a:ext cx="25092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1"/>
          <p:cNvSpPr/>
          <p:nvPr/>
        </p:nvSpPr>
        <p:spPr>
          <a:xfrm>
            <a:off x="6134040" y="3975120"/>
            <a:ext cx="196920" cy="441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2"/>
          <p:cNvSpPr/>
          <p:nvPr/>
        </p:nvSpPr>
        <p:spPr>
          <a:xfrm>
            <a:off x="6873840" y="4073400"/>
            <a:ext cx="45396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3"/>
          <p:cNvSpPr/>
          <p:nvPr/>
        </p:nvSpPr>
        <p:spPr>
          <a:xfrm>
            <a:off x="7531200" y="4073400"/>
            <a:ext cx="28872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"/>
          <p:cNvSpPr/>
          <p:nvPr/>
        </p:nvSpPr>
        <p:spPr>
          <a:xfrm>
            <a:off x="8013600" y="4073400"/>
            <a:ext cx="28908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8486640" y="3975120"/>
            <a:ext cx="196920" cy="441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8889840" y="3936960"/>
            <a:ext cx="66960" cy="4698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9182160" y="4073400"/>
            <a:ext cx="26676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8"/>
          <p:cNvSpPr/>
          <p:nvPr/>
        </p:nvSpPr>
        <p:spPr>
          <a:xfrm>
            <a:off x="9655200" y="4070520"/>
            <a:ext cx="298440" cy="4190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9"/>
          <p:cNvSpPr/>
          <p:nvPr/>
        </p:nvSpPr>
        <p:spPr>
          <a:xfrm>
            <a:off x="10496520" y="4073400"/>
            <a:ext cx="18108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0"/>
          <p:cNvSpPr/>
          <p:nvPr/>
        </p:nvSpPr>
        <p:spPr>
          <a:xfrm>
            <a:off x="10858680" y="4073400"/>
            <a:ext cx="28548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11341080" y="4073400"/>
            <a:ext cx="28584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11833200" y="4073400"/>
            <a:ext cx="45396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"/>
          <p:cNvPicPr/>
          <p:nvPr/>
        </p:nvPicPr>
        <p:blipFill>
          <a:blip r:embed="rId3"/>
          <a:stretch/>
        </p:blipFill>
        <p:spPr>
          <a:xfrm>
            <a:off x="0" y="5330880"/>
            <a:ext cx="15125760" cy="536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"/>
          <p:cNvPicPr/>
          <p:nvPr/>
        </p:nvPicPr>
        <p:blipFill>
          <a:blip r:embed="rId4"/>
          <a:stretch/>
        </p:blipFill>
        <p:spPr>
          <a:xfrm>
            <a:off x="711360" y="6054840"/>
            <a:ext cx="14420520" cy="4638600"/>
          </a:xfrm>
          <a:prstGeom prst="rect">
            <a:avLst/>
          </a:prstGeom>
          <a:ln w="0">
            <a:noFill/>
          </a:ln>
        </p:spPr>
      </p:pic>
      <p:sp>
        <p:nvSpPr>
          <p:cNvPr id="76" name="Freeform 35"/>
          <p:cNvSpPr/>
          <p:nvPr/>
        </p:nvSpPr>
        <p:spPr>
          <a:xfrm>
            <a:off x="9360" y="6591240"/>
            <a:ext cx="13750920" cy="2457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2178000" y="7007400"/>
            <a:ext cx="1482840" cy="1454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3927600" y="7013520"/>
            <a:ext cx="1457280" cy="142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8"/>
          <p:cNvSpPr/>
          <p:nvPr/>
        </p:nvSpPr>
        <p:spPr>
          <a:xfrm>
            <a:off x="5838840" y="7226280"/>
            <a:ext cx="1073160" cy="106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7454880" y="7686720"/>
            <a:ext cx="1343160" cy="111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0"/>
          <p:cNvSpPr/>
          <p:nvPr/>
        </p:nvSpPr>
        <p:spPr>
          <a:xfrm>
            <a:off x="9223200" y="7089840"/>
            <a:ext cx="1279800" cy="12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10922040" y="7686720"/>
            <a:ext cx="1343160" cy="111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2"/>
          <p:cNvSpPr/>
          <p:nvPr/>
        </p:nvSpPr>
        <p:spPr>
          <a:xfrm>
            <a:off x="3530520" y="8912160"/>
            <a:ext cx="11598480" cy="1241640"/>
          </a:xfrm>
          <a:prstGeom prst="pie">
            <a:avLst/>
          </a:prstGeom>
          <a:solidFill>
            <a:srgbClr val="e7b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3"/>
          <p:cNvSpPr/>
          <p:nvPr/>
        </p:nvSpPr>
        <p:spPr>
          <a:xfrm>
            <a:off x="4502160" y="9283680"/>
            <a:ext cx="352440" cy="4698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4"/>
          <p:cNvSpPr/>
          <p:nvPr/>
        </p:nvSpPr>
        <p:spPr>
          <a:xfrm>
            <a:off x="5048280" y="9420120"/>
            <a:ext cx="28872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5533920" y="9420120"/>
            <a:ext cx="25092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6"/>
          <p:cNvSpPr/>
          <p:nvPr/>
        </p:nvSpPr>
        <p:spPr>
          <a:xfrm>
            <a:off x="5972040" y="9321840"/>
            <a:ext cx="196920" cy="441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7"/>
          <p:cNvSpPr/>
          <p:nvPr/>
        </p:nvSpPr>
        <p:spPr>
          <a:xfrm>
            <a:off x="6699240" y="9420120"/>
            <a:ext cx="28908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8"/>
          <p:cNvSpPr/>
          <p:nvPr/>
        </p:nvSpPr>
        <p:spPr>
          <a:xfrm>
            <a:off x="7182000" y="9420120"/>
            <a:ext cx="28872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9"/>
          <p:cNvSpPr/>
          <p:nvPr/>
        </p:nvSpPr>
        <p:spPr>
          <a:xfrm>
            <a:off x="7677000" y="9420120"/>
            <a:ext cx="17784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0"/>
          <p:cNvSpPr/>
          <p:nvPr/>
        </p:nvSpPr>
        <p:spPr>
          <a:xfrm>
            <a:off x="8045280" y="9420120"/>
            <a:ext cx="27000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8518680" y="9420120"/>
            <a:ext cx="288720" cy="343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9013680" y="9420120"/>
            <a:ext cx="177840" cy="3333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3:08Z</dcterms:created>
  <dc:creator>NEC-PCuser</dc:creator>
  <dc:description/>
  <dc:language>en-US</dc:language>
  <cp:lastModifiedBy>moosawa</cp:lastModifiedBy>
  <dcterms:modified xsi:type="dcterms:W3CDTF">2009-05-28T22:30:01Z</dcterms:modified>
  <cp:revision>1</cp:revision>
  <dc:subject/>
  <dc:title>スライド 1</dc:title>
</cp:coreProperties>
</file>