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00450" cy="7235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76520" y="685440"/>
            <a:ext cx="17049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106-CC79-4BED-A022-91957B415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DFE-95B2-4329-B514-ACB98EC5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576520" y="685800"/>
            <a:ext cx="170496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7BF-33B7-406E-A8A2-15C7E419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324180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4183200"/>
            <a:ext cx="324180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91B-2319-4458-9BDD-C87ED309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0320" y="168912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418320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0320" y="418320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775-F48C-40F8-9E37-C665B194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10436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75120" y="1689120"/>
            <a:ext cx="10436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1320" y="1689120"/>
            <a:ext cx="10436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4183200"/>
            <a:ext cx="10436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75120" y="4183200"/>
            <a:ext cx="10436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1320" y="4183200"/>
            <a:ext cx="10436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C12-2D97-4F57-B2E3-A458133F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1689120"/>
            <a:ext cx="32418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A79-CF9D-4F24-B54A-390BDDC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32418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182-1B0F-4A78-B7E5-A2672246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158184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0320" y="1689120"/>
            <a:ext cx="158184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49A-B311-4040-9140-B3AA943A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1F1-A81B-45D4-A4FB-58FFD444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290160"/>
            <a:ext cx="324180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F1D-A1B6-4898-9867-256A73E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" y="1689120"/>
            <a:ext cx="158184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418320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ADC-A34C-425C-85D9-D7F7AC59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158184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" y="168912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0320" y="418320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19B-4F2A-48DB-8412-8DBEAC3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175320"/>
            <a:ext cx="324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68912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0320" y="1689120"/>
            <a:ext cx="158184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4183200"/>
            <a:ext cx="324180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545-8709-4D90-B75B-9D779F5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290160"/>
            <a:ext cx="32418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689120"/>
            <a:ext cx="32418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6591240"/>
            <a:ext cx="841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30480" y="6591240"/>
            <a:ext cx="11397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79400" y="6591240"/>
            <a:ext cx="841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B0E-FBBC-4B0F-A373-C8E544B5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0" y="-7920"/>
            <a:ext cx="3625920" cy="72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"/>
          <p:cNvSpPr/>
          <p:nvPr/>
        </p:nvSpPr>
        <p:spPr>
          <a:xfrm>
            <a:off x="12600" y="4680"/>
            <a:ext cx="3600720" cy="7220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240" y="3611520"/>
            <a:ext cx="3610080" cy="36194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"/>
          <p:cNvSpPr/>
          <p:nvPr/>
        </p:nvSpPr>
        <p:spPr>
          <a:xfrm>
            <a:off x="174600" y="3786120"/>
            <a:ext cx="3276720" cy="327672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263520" y="3878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263520" y="5450040"/>
            <a:ext cx="3095640" cy="152388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3"/>
          <p:cNvSpPr/>
          <p:nvPr/>
        </p:nvSpPr>
        <p:spPr>
          <a:xfrm>
            <a:off x="1101600" y="4484520"/>
            <a:ext cx="352440" cy="33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>
            <a:off x="1501920" y="4462560"/>
            <a:ext cx="28548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1882800" y="4465800"/>
            <a:ext cx="342720" cy="39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2298600" y="4497480"/>
            <a:ext cx="330480" cy="33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460440" y="5075280"/>
            <a:ext cx="35568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>
            <a:off x="860400" y="5056200"/>
            <a:ext cx="39996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1317600" y="5062680"/>
            <a:ext cx="20952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0"/>
          <p:cNvSpPr/>
          <p:nvPr/>
        </p:nvSpPr>
        <p:spPr>
          <a:xfrm>
            <a:off x="1619280" y="5056200"/>
            <a:ext cx="19368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1"/>
          <p:cNvSpPr/>
          <p:nvPr/>
        </p:nvSpPr>
        <p:spPr>
          <a:xfrm>
            <a:off x="1895400" y="5068800"/>
            <a:ext cx="36216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2"/>
          <p:cNvSpPr/>
          <p:nvPr/>
        </p:nvSpPr>
        <p:spPr>
          <a:xfrm>
            <a:off x="2301840" y="5072040"/>
            <a:ext cx="279360" cy="36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3"/>
          <p:cNvSpPr/>
          <p:nvPr/>
        </p:nvSpPr>
        <p:spPr>
          <a:xfrm>
            <a:off x="2635200" y="5122800"/>
            <a:ext cx="349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"/>
          <p:cNvSpPr/>
          <p:nvPr/>
        </p:nvSpPr>
        <p:spPr>
          <a:xfrm>
            <a:off x="3054240" y="5310360"/>
            <a:ext cx="123840" cy="12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758880" y="5958000"/>
            <a:ext cx="263520" cy="260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1035000" y="5951520"/>
            <a:ext cx="260280" cy="2667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1311120" y="5958000"/>
            <a:ext cx="260640" cy="260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8"/>
          <p:cNvSpPr/>
          <p:nvPr/>
        </p:nvSpPr>
        <p:spPr>
          <a:xfrm>
            <a:off x="1584360" y="5958000"/>
            <a:ext cx="218880" cy="260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9"/>
          <p:cNvSpPr/>
          <p:nvPr/>
        </p:nvSpPr>
        <p:spPr>
          <a:xfrm>
            <a:off x="1927080" y="5958000"/>
            <a:ext cx="222480" cy="260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0"/>
          <p:cNvSpPr/>
          <p:nvPr/>
        </p:nvSpPr>
        <p:spPr>
          <a:xfrm>
            <a:off x="2158920" y="5958000"/>
            <a:ext cx="241560" cy="260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2416320" y="5958000"/>
            <a:ext cx="215640" cy="260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2647800" y="5958000"/>
            <a:ext cx="216000" cy="260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276200" y="6580080"/>
            <a:ext cx="66960" cy="12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1355760" y="6576840"/>
            <a:ext cx="10476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5"/>
          <p:cNvSpPr/>
          <p:nvPr/>
        </p:nvSpPr>
        <p:spPr>
          <a:xfrm>
            <a:off x="1473120" y="6576840"/>
            <a:ext cx="13356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1666800" y="6576840"/>
            <a:ext cx="1080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1793880" y="6580080"/>
            <a:ext cx="92160" cy="12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8"/>
          <p:cNvSpPr/>
          <p:nvPr/>
        </p:nvSpPr>
        <p:spPr>
          <a:xfrm>
            <a:off x="1882800" y="6580080"/>
            <a:ext cx="101520" cy="12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1994040" y="6576840"/>
            <a:ext cx="7272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0"/>
          <p:cNvSpPr/>
          <p:nvPr/>
        </p:nvSpPr>
        <p:spPr>
          <a:xfrm>
            <a:off x="2076480" y="6580080"/>
            <a:ext cx="92160" cy="12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2158920" y="6580080"/>
            <a:ext cx="114480" cy="12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2"/>
          <p:cNvSpPr/>
          <p:nvPr/>
        </p:nvSpPr>
        <p:spPr>
          <a:xfrm>
            <a:off x="2289240" y="6580080"/>
            <a:ext cx="66600" cy="12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5:59Z</dcterms:created>
  <dc:creator>NEC-PCuser</dc:creator>
  <dc:description/>
  <dc:language>en-US</dc:language>
  <cp:lastModifiedBy>moosawa</cp:lastModifiedBy>
  <dcterms:modified xsi:type="dcterms:W3CDTF">2009-05-28T22:45:32Z</dcterms:modified>
  <cp:revision>1</cp:revision>
  <dc:subject/>
  <dc:title>スライド 1</dc:title>
</cp:coreProperties>
</file>