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1D34-B086-422B-817D-3591D61A3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168F-2C74-4976-925F-817E101B3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64B-0311-482C-99C7-CBA75140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5840"/>
            <a:ext cx="864216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A6C-0185-4E55-ABB0-18878B91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5840"/>
            <a:ext cx="421704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5840"/>
            <a:ext cx="421704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D93-18D8-48E1-89F1-BB0CDEDA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5840"/>
            <a:ext cx="278244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5840"/>
            <a:ext cx="278244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5840"/>
            <a:ext cx="278244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F74-E573-4C18-83B0-D8204AA6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5840"/>
            <a:ext cx="8642160" cy="84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3FF-EA61-4663-9376-D1436F6D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5840"/>
            <a:ext cx="8642160" cy="8450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E1E-463A-421F-9381-84FB8054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5840"/>
            <a:ext cx="4217040" cy="8450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5840"/>
            <a:ext cx="4217040" cy="8450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F45-CAA1-4032-A8E0-B936DE6F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580-0A05-4F2E-B922-57AC0C39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DE2-3C1F-4FDF-ADAD-954631D6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5840"/>
            <a:ext cx="421704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5840"/>
            <a:ext cx="4217040" cy="8450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BFA-58BD-46CA-B9D1-39980FE6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5840"/>
            <a:ext cx="4217040" cy="8450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5840"/>
            <a:ext cx="421704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3C39-EB56-43D6-BD6C-FB15AA94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5840"/>
            <a:ext cx="421704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5840"/>
            <a:ext cx="421704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30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C48-C933-4A08-BE78-A87A0D36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5840"/>
            <a:ext cx="8642160" cy="8450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824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824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824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A08B-7B1C-4970-B7C8-C76DE4C103F8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66" descr="C:\Documents and Settings\moosawa\My Documents\テックTTBS\クリップアート化200905\PPT納品データ\活用\uketsuke_pop_v9\名称未設定-1.png"/>
          <p:cNvPicPr/>
          <p:nvPr/>
        </p:nvPicPr>
        <p:blipFill>
          <a:blip r:embed="rId1"/>
          <a:stretch/>
        </p:blipFill>
        <p:spPr>
          <a:xfrm>
            <a:off x="514440" y="399960"/>
            <a:ext cx="8388360" cy="106999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7"/>
          <p:cNvSpPr/>
          <p:nvPr/>
        </p:nvSpPr>
        <p:spPr>
          <a:xfrm>
            <a:off x="1104840" y="399960"/>
            <a:ext cx="7296120" cy="12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1"/>
          <p:cNvSpPr/>
          <p:nvPr/>
        </p:nvSpPr>
        <p:spPr>
          <a:xfrm>
            <a:off x="2575080" y="4471920"/>
            <a:ext cx="1662120" cy="136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2"/>
          <p:cNvSpPr/>
          <p:nvPr/>
        </p:nvSpPr>
        <p:spPr>
          <a:xfrm>
            <a:off x="5265720" y="4487760"/>
            <a:ext cx="1698480" cy="136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3"/>
          <p:cNvSpPr/>
          <p:nvPr/>
        </p:nvSpPr>
        <p:spPr>
          <a:xfrm>
            <a:off x="2362320" y="6356520"/>
            <a:ext cx="9360" cy="9360"/>
          </a:xfrm>
          <a:prstGeom prst="pie">
            <a:avLst/>
          </a:prstGeom>
          <a:solidFill>
            <a:srgbClr val="ff8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44"/>
          <p:cNvSpPr/>
          <p:nvPr/>
        </p:nvSpPr>
        <p:spPr>
          <a:xfrm>
            <a:off x="5249880" y="1830240"/>
            <a:ext cx="1662120" cy="1360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45"/>
          <p:cNvSpPr/>
          <p:nvPr/>
        </p:nvSpPr>
        <p:spPr>
          <a:xfrm>
            <a:off x="2525760" y="1817640"/>
            <a:ext cx="1698480" cy="136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線コネクタ 269"/>
          <p:cNvSpPr/>
          <p:nvPr/>
        </p:nvSpPr>
        <p:spPr>
          <a:xfrm>
            <a:off x="1085760" y="3800520"/>
            <a:ext cx="728676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27:19Z</dcterms:created>
  <dc:creator>NEC-PCuser</dc:creator>
  <dc:description/>
  <dc:language>en-US</dc:language>
  <cp:lastModifiedBy>moosawa</cp:lastModifiedBy>
  <dcterms:modified xsi:type="dcterms:W3CDTF">2009-05-28T22:42:43Z</dcterms:modified>
  <cp:revision>4</cp:revision>
  <dc:subject/>
  <dc:title>スライド 1</dc:title>
</cp:coreProperties>
</file>