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7225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2B8-AA86-4411-A721-2C44510E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E8E-8D5C-419C-9E47-ECC26974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0A3-4B74-49B5-B6DB-42CB8E4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26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784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26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BA6-1470-4768-B697-AD8B88A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C4E-A776-4AC8-8E07-BA06D26A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A35-23EA-4288-89B5-5ED4510D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8E0-E5DE-4662-974E-FF697D5E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AA7-F5E2-4C1C-ACD0-93E5AFBA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7840" y="428400"/>
            <a:ext cx="291700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70C-24D0-4221-B323-76BC88BE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BA0-D4FF-4F9D-8AB2-6B4C7AE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5D0-8023-4F93-BDB4-7FCE476C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A68-7803-4783-B3E3-9B0B1197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7840" y="9905760"/>
            <a:ext cx="75657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640" y="9905760"/>
            <a:ext cx="102664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1440" y="9905760"/>
            <a:ext cx="75661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D8D56032-BC49-4A06-8689-440FF78065BD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8" descr="murasaki.jpg"/>
          <p:cNvPicPr/>
          <p:nvPr/>
        </p:nvPicPr>
        <p:blipFill>
          <a:blip r:embed="rId1"/>
          <a:srcRect l="0" t="41557" r="0" b="11359"/>
          <a:stretch/>
        </p:blipFill>
        <p:spPr>
          <a:xfrm>
            <a:off x="-380880" y="0"/>
            <a:ext cx="32786640" cy="10688760"/>
          </a:xfrm>
          <a:prstGeom prst="rect">
            <a:avLst/>
          </a:prstGeom>
          <a:ln w="0">
            <a:noFill/>
          </a:ln>
        </p:spPr>
      </p:pic>
      <p:sp>
        <p:nvSpPr>
          <p:cNvPr id="42" name="正方形/長方形 15"/>
          <p:cNvSpPr/>
          <p:nvPr/>
        </p:nvSpPr>
        <p:spPr>
          <a:xfrm>
            <a:off x="15320880" y="5008680"/>
            <a:ext cx="1604484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オーディオ関連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3" descr=""/>
          <p:cNvPicPr/>
          <p:nvPr/>
        </p:nvPicPr>
        <p:blipFill>
          <a:blip r:embed="rId2"/>
          <a:stretch/>
        </p:blipFill>
        <p:spPr>
          <a:xfrm>
            <a:off x="12442680" y="5251320"/>
            <a:ext cx="2440080" cy="1782720"/>
          </a:xfrm>
          <a:prstGeom prst="rect">
            <a:avLst/>
          </a:prstGeom>
          <a:ln w="0">
            <a:noFill/>
          </a:ln>
        </p:spPr>
      </p:pic>
      <p:sp>
        <p:nvSpPr>
          <p:cNvPr id="44" name="正方形/長方形 4"/>
          <p:cNvSpPr/>
          <p:nvPr/>
        </p:nvSpPr>
        <p:spPr>
          <a:xfrm>
            <a:off x="20768400" y="7601040"/>
            <a:ext cx="764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7000" spc="-1" strike="noStrike">
                <a:solidFill>
                  <a:srgbClr val="ffffff"/>
                </a:solidFill>
                <a:latin typeface="Calibri"/>
              </a:rPr>
              <a:t>最新機種から定番アイテムまで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株式会社ジーン macpro2</cp:lastModifiedBy>
  <cp:lastPrinted>2013-02-19T06:31:18Z</cp:lastPrinted>
  <dcterms:modified xsi:type="dcterms:W3CDTF">2013-02-19T06:31:45Z</dcterms:modified>
  <cp:revision>20</cp:revision>
  <dc:subject/>
  <dc:title>PowerPoint プレゼンテーション</dc:title>
</cp:coreProperties>
</file>