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C01-60E0-4837-991B-5F40C280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EAC-7AB0-4496-8DEE-956A790A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53B-0BC0-49E5-A0F1-1E110D5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032-96C6-44CC-935D-16C12F3F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F47-3313-4551-81EF-35B94C1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B8B-7535-419A-8219-600CCF8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BC4-FF1A-429E-8AEB-ACE1E5C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9DF-A74C-45B5-A177-058CC4C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5CD-12B7-4C69-BAA5-0F87C47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8FD-D6FF-47E3-8631-6264204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02E-64E5-414F-B89F-5366E4D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DCE-6821-45FB-A935-610114E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F0CB798A-B940-422C-829B-BF5575708B1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book02.jpg"/>
          <p:cNvPicPr/>
          <p:nvPr/>
        </p:nvPicPr>
        <p:blipFill>
          <a:blip r:embed="rId1"/>
          <a:stretch/>
        </p:blipFill>
        <p:spPr>
          <a:xfrm>
            <a:off x="-34920" y="0"/>
            <a:ext cx="10723680" cy="15123960"/>
          </a:xfrm>
          <a:prstGeom prst="rect">
            <a:avLst/>
          </a:prstGeom>
          <a:ln w="0">
            <a:noFill/>
          </a:ln>
        </p:spPr>
      </p:pic>
      <p:grpSp>
        <p:nvGrpSpPr>
          <p:cNvPr id="42" name="図形グループ 2"/>
          <p:cNvGrpSpPr/>
          <p:nvPr/>
        </p:nvGrpSpPr>
        <p:grpSpPr>
          <a:xfrm>
            <a:off x="1643040" y="2786040"/>
            <a:ext cx="7489800" cy="9298080"/>
            <a:chOff x="1643040" y="2786040"/>
            <a:chExt cx="7489800" cy="9298080"/>
          </a:xfrm>
        </p:grpSpPr>
        <p:pic>
          <p:nvPicPr>
            <p:cNvPr id="43" name="図 3" descr=""/>
            <p:cNvPicPr/>
            <p:nvPr/>
          </p:nvPicPr>
          <p:blipFill>
            <a:blip r:embed="rId2"/>
            <a:stretch/>
          </p:blipFill>
          <p:spPr>
            <a:xfrm>
              <a:off x="1643040" y="10166400"/>
              <a:ext cx="748980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4" descr=""/>
            <p:cNvPicPr/>
            <p:nvPr/>
          </p:nvPicPr>
          <p:blipFill>
            <a:blip r:embed="rId3"/>
            <a:stretch/>
          </p:blipFill>
          <p:spPr>
            <a:xfrm>
              <a:off x="1643040" y="2786040"/>
              <a:ext cx="7489800" cy="66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図 5" descr=""/>
            <p:cNvPicPr/>
            <p:nvPr/>
          </p:nvPicPr>
          <p:blipFill>
            <a:blip r:embed="rId4"/>
            <a:stretch/>
          </p:blipFill>
          <p:spPr>
            <a:xfrm>
              <a:off x="3073320" y="3872880"/>
              <a:ext cx="4629240" cy="451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株式会社ジーン macpro2</cp:lastModifiedBy>
  <cp:lastPrinted>2013-02-19T07:05:06Z</cp:lastPrinted>
  <dcterms:modified xsi:type="dcterms:W3CDTF">2013-02-19T07:05:08Z</dcterms:modified>
  <cp:revision>21</cp:revision>
  <dc:subject/>
  <dc:title>PowerPoint プレゼンテーション</dc:title>
</cp:coreProperties>
</file>