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020-7830-4174-B339-37C9C4EB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F51-BED0-40B2-98D3-AA8CF01F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6A1-60CC-4E89-A46B-7FF527CF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778-CA50-4E95-BAB3-904778A2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FD9-E3D4-4466-B846-9B5D27C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666-D825-4FDE-81A2-861B135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ED1-81F6-4DFF-B76B-517D9278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3D6-A548-4E8A-8DE0-E526B87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96F-8089-47A8-8C13-52A27CD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F24-1373-4195-8230-B5747FB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3AC-E007-4772-90F7-749BC29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CE4-BF68-447D-964C-B2F5917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1E5EE451-AB74-409D-9AE3-520163BE58EC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43198920" cy="1073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79560" y="1920960"/>
            <a:ext cx="13770000" cy="681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6062480" y="3287880"/>
            <a:ext cx="25998480" cy="42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154280" y="1219320"/>
            <a:ext cx="1799928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6103520" y="7823160"/>
            <a:ext cx="20104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8:02:46Z</dcterms:created>
  <dc:creator>fukase3</dc:creator>
  <dc:description/>
  <dc:language>en-US</dc:language>
  <cp:lastModifiedBy>fukase3</cp:lastModifiedBy>
  <dcterms:modified xsi:type="dcterms:W3CDTF">2009-05-08T08:05:46Z</dcterms:modified>
  <cp:revision>1</cp:revision>
  <dc:subject/>
  <dc:title>スライド 1</dc:title>
</cp:coreProperties>
</file>