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206988" cy="106886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D04A-7B8C-4A07-B370-F6A8E4585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360" y="428400"/>
            <a:ext cx="3888396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360" y="2494080"/>
            <a:ext cx="3888396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360" y="6179040"/>
            <a:ext cx="3888396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9C3C-94CD-4FF7-878B-CB97F84B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360" y="428400"/>
            <a:ext cx="3888396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360" y="2494080"/>
            <a:ext cx="1897524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84920" y="2494080"/>
            <a:ext cx="1897524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360" y="6179040"/>
            <a:ext cx="1897524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84920" y="6179040"/>
            <a:ext cx="1897524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97AF-56C9-43F9-872A-BC2FDEE25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360" y="428400"/>
            <a:ext cx="3888396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360" y="2494080"/>
            <a:ext cx="1252044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307200" y="2494080"/>
            <a:ext cx="1252044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54040" y="2494080"/>
            <a:ext cx="1252044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360" y="6179040"/>
            <a:ext cx="1252044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307200" y="6179040"/>
            <a:ext cx="1252044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54040" y="6179040"/>
            <a:ext cx="1252044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C1D0-243C-421E-863E-BC4225F41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360" y="428400"/>
            <a:ext cx="3888396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360" y="2494080"/>
            <a:ext cx="38883960" cy="70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DFCB-A84D-440F-8561-3908EB7D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360" y="428400"/>
            <a:ext cx="3888396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360" y="2494080"/>
            <a:ext cx="38883960" cy="7054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31A4-B0D9-4437-8107-3CC62BCE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360" y="428400"/>
            <a:ext cx="3888396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360" y="2494080"/>
            <a:ext cx="18975240" cy="7054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84920" y="2494080"/>
            <a:ext cx="18975240" cy="7054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1E0A-CABD-4983-9F2D-329B97A7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360" y="428400"/>
            <a:ext cx="3888396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D185-5A4D-40FE-AED5-28483EBB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360" y="428400"/>
            <a:ext cx="3888396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53C2-AD54-465C-B1F8-B925FC34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360" y="428400"/>
            <a:ext cx="3888396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360" y="2494080"/>
            <a:ext cx="1897524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84920" y="2494080"/>
            <a:ext cx="18975240" cy="7054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360" y="6179040"/>
            <a:ext cx="1897524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569D-A0B6-4BFB-8170-BE2C3480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360" y="428400"/>
            <a:ext cx="3888396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360" y="2494080"/>
            <a:ext cx="18975240" cy="7054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84920" y="2494080"/>
            <a:ext cx="1897524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84920" y="6179040"/>
            <a:ext cx="1897524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7785-5349-4B65-8F31-5D702497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360" y="428400"/>
            <a:ext cx="3888396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360" y="2494080"/>
            <a:ext cx="1897524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84920" y="2494080"/>
            <a:ext cx="1897524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360" y="6179040"/>
            <a:ext cx="3888396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2209-109A-4432-9A32-B3BBE1EF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360" y="428400"/>
            <a:ext cx="3888396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360" y="2494080"/>
            <a:ext cx="38883960" cy="7054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1" marL="1197000" indent="-46044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2" marL="1843200" indent="-3682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3" marL="2579760" indent="-3682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4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5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6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60360" y="990576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  <a:defRPr b="0" lang="ja-JP" sz="1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1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61800" y="9905760"/>
            <a:ext cx="13681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63960" y="990576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 algn="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  <a:defRPr b="0" lang="ja-JP" sz="1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fld id="{E14EE691-EDFD-4EF9-888F-E6ED0AE6E1C7}" type="slidenum">
              <a:rPr b="0" lang="ja-JP" sz="1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1" descr="cashcard_haikei_01.jpg"/>
          <p:cNvPicPr/>
          <p:nvPr/>
        </p:nvPicPr>
        <p:blipFill>
          <a:blip r:embed="rId1"/>
          <a:stretch/>
        </p:blipFill>
        <p:spPr>
          <a:xfrm>
            <a:off x="0" y="0"/>
            <a:ext cx="43186320" cy="10688760"/>
          </a:xfrm>
          <a:prstGeom prst="rect">
            <a:avLst/>
          </a:prstGeom>
          <a:ln w="0">
            <a:noFill/>
          </a:ln>
        </p:spPr>
      </p:pic>
      <p:sp>
        <p:nvSpPr>
          <p:cNvPr id="42" name="円形吹き出し 32"/>
          <p:cNvSpPr/>
          <p:nvPr/>
        </p:nvSpPr>
        <p:spPr>
          <a:xfrm>
            <a:off x="26330400" y="423720"/>
            <a:ext cx="6603840" cy="4105440"/>
          </a:xfrm>
          <a:prstGeom prst="wedgeEllipseCallout">
            <a:avLst>
              <a:gd name="adj1" fmla="val -35699"/>
              <a:gd name="adj2" fmla="val 5940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6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期間限定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6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２０１３年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6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００月末まで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正方形/長方形 9"/>
          <p:cNvSpPr/>
          <p:nvPr/>
        </p:nvSpPr>
        <p:spPr>
          <a:xfrm>
            <a:off x="2075040" y="1397160"/>
            <a:ext cx="276429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15000" spc="-1" strike="noStrike">
                <a:solidFill>
                  <a:srgbClr val="000000"/>
                </a:solidFill>
                <a:latin typeface="Calibri"/>
                <a:ea typeface="HGP創英角ｺﾞｼｯｸUB"/>
              </a:rPr>
              <a:t>エコクリスタルプレミアムカード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角丸四角形 28"/>
          <p:cNvSpPr/>
          <p:nvPr/>
        </p:nvSpPr>
        <p:spPr>
          <a:xfrm>
            <a:off x="11810880" y="7577280"/>
            <a:ext cx="8128080" cy="22017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3800" spc="-1" strike="noStrike">
                <a:solidFill>
                  <a:srgbClr val="ffff00"/>
                </a:solidFill>
                <a:latin typeface="HGP創英角ｺﾞｼｯｸUB"/>
                <a:ea typeface="HGP創英角ｺﾞｼｯｸUB"/>
              </a:rPr>
              <a:t>2000pt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正方形/長方形 31" descr=""/>
          <p:cNvPicPr/>
          <p:nvPr/>
        </p:nvPicPr>
        <p:blipFill>
          <a:blip r:embed="rId2"/>
          <a:stretch/>
        </p:blipFill>
        <p:spPr>
          <a:xfrm>
            <a:off x="1987560" y="3657600"/>
            <a:ext cx="32978880" cy="3760920"/>
          </a:xfrm>
          <a:prstGeom prst="rect">
            <a:avLst/>
          </a:prstGeom>
          <a:ln w="0">
            <a:noFill/>
          </a:ln>
        </p:spPr>
      </p:pic>
      <p:pic>
        <p:nvPicPr>
          <p:cNvPr id="46" name="図 1" descr="cashcard_01.png"/>
          <p:cNvPicPr/>
          <p:nvPr/>
        </p:nvPicPr>
        <p:blipFill>
          <a:blip r:embed="rId3"/>
          <a:stretch/>
        </p:blipFill>
        <p:spPr>
          <a:xfrm>
            <a:off x="32637240" y="2664000"/>
            <a:ext cx="9518760" cy="6914880"/>
          </a:xfrm>
          <a:prstGeom prst="rect">
            <a:avLst/>
          </a:prstGeom>
          <a:ln w="0">
            <a:noFill/>
          </a:ln>
        </p:spPr>
      </p:pic>
      <p:sp>
        <p:nvSpPr>
          <p:cNvPr id="47" name="正方形/長方形 9"/>
          <p:cNvSpPr/>
          <p:nvPr/>
        </p:nvSpPr>
        <p:spPr>
          <a:xfrm>
            <a:off x="1989000" y="7864560"/>
            <a:ext cx="11684160" cy="16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11500" spc="-1" strike="noStrike">
                <a:solidFill>
                  <a:srgbClr val="000000"/>
                </a:solidFill>
                <a:latin typeface="Calibri"/>
                <a:ea typeface="HGP創英角ｺﾞｼｯｸUB"/>
              </a:rPr>
              <a:t>エコクリポイント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正方形/長方形 9"/>
          <p:cNvSpPr/>
          <p:nvPr/>
        </p:nvSpPr>
        <p:spPr>
          <a:xfrm>
            <a:off x="20256480" y="7864560"/>
            <a:ext cx="12931920" cy="16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11500" spc="-1" strike="noStrike">
                <a:solidFill>
                  <a:srgbClr val="000000"/>
                </a:solidFill>
                <a:latin typeface="Calibri"/>
                <a:ea typeface="HGP創英角ｺﾞｼｯｸUB"/>
              </a:rPr>
              <a:t>もれなくプレゼント！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4T05:26:05Z</dcterms:created>
  <dc:creator>深田 龍</dc:creator>
  <dc:description/>
  <dc:language>en-US</dc:language>
  <cp:lastModifiedBy>深田 龍</cp:lastModifiedBy>
  <dcterms:modified xsi:type="dcterms:W3CDTF">2013-02-18T07:35:48Z</dcterms:modified>
  <cp:revision>15</cp:revision>
  <dc:subject/>
  <dc:title>PowerPoint プレゼンテーション</dc:title>
</cp:coreProperties>
</file>