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2ED-6CE3-4B59-9C49-16C7C23A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418-8E03-49BB-965A-EF212268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508-B8FA-4252-AF97-87680A4B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A22-60B0-4FD9-A1E9-B464CB7A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8EC4-9B14-4076-B879-F4E8E86B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A9B-AA4C-44B1-A931-845BE665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695-A436-4040-B769-7B4EC75A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327-2799-41B9-B16F-DDC959C8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E3D-EC2F-4A32-B2C4-EA51ABBD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44B-A66F-460B-B7B1-F12B20C8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A6C-A771-4D0F-BA1C-7D0873FF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940-BACA-4DA5-BE8A-78C4BC28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1135-0AD8-4AD2-833B-C1FE30CFFA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6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2" descr="フェイス.png"/>
          <p:cNvPicPr/>
          <p:nvPr/>
        </p:nvPicPr>
        <p:blipFill>
          <a:blip r:embed="rId1"/>
          <a:stretch/>
        </p:blipFill>
        <p:spPr>
          <a:xfrm>
            <a:off x="450720" y="182520"/>
            <a:ext cx="1563840" cy="2421000"/>
          </a:xfrm>
          <a:prstGeom prst="rect">
            <a:avLst/>
          </a:prstGeom>
          <a:ln w="0">
            <a:noFill/>
          </a:ln>
        </p:spPr>
      </p:pic>
      <p:sp>
        <p:nvSpPr>
          <p:cNvPr id="43" name="正方形/長方形 18"/>
          <p:cNvSpPr/>
          <p:nvPr/>
        </p:nvSpPr>
        <p:spPr>
          <a:xfrm>
            <a:off x="272880" y="2565360"/>
            <a:ext cx="9360000" cy="395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1983600" y="2638440"/>
            <a:ext cx="475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ツヤビーフェイスペーパ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5"/>
          <p:cNvSpPr/>
          <p:nvPr/>
        </p:nvSpPr>
        <p:spPr>
          <a:xfrm>
            <a:off x="1145520" y="2844720"/>
            <a:ext cx="60559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0" spc="-1" strike="noStrike">
                <a:solidFill>
                  <a:srgbClr val="3366ff"/>
                </a:solidFill>
                <a:latin typeface="Arial Black"/>
              </a:rPr>
              <a:t>378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5"/>
          <p:cNvSpPr/>
          <p:nvPr/>
        </p:nvSpPr>
        <p:spPr>
          <a:xfrm>
            <a:off x="4228920" y="765000"/>
            <a:ext cx="33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顔・首・腕・体・ニキビも防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洗顔ペーパー</a:t>
            </a:r>
            <a:r>
              <a:rPr b="0" lang="en-US" sz="5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5"/>
          <p:cNvSpPr/>
          <p:nvPr/>
        </p:nvSpPr>
        <p:spPr>
          <a:xfrm>
            <a:off x="8012880" y="4481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税込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5"/>
          <p:cNvSpPr/>
          <p:nvPr/>
        </p:nvSpPr>
        <p:spPr>
          <a:xfrm>
            <a:off x="8220240" y="491328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0" spc="-1" strike="noStrike">
                <a:solidFill>
                  <a:srgbClr val="3366ff"/>
                </a:solidFill>
                <a:latin typeface="Calibri"/>
                <a:ea typeface="ＭＳ Ｐゴシック"/>
              </a:rPr>
              <a:t>円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5"/>
          <p:cNvSpPr/>
          <p:nvPr/>
        </p:nvSpPr>
        <p:spPr>
          <a:xfrm>
            <a:off x="4246560" y="26028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☆</a:t>
            </a:r>
            <a:r>
              <a:rPr b="1" lang="ja-JP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どこでも使ってください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7:21:11Z</dcterms:created>
  <dc:creator>tec</dc:creator>
  <dc:description/>
  <dc:language>en-US</dc:language>
  <cp:lastModifiedBy>win1</cp:lastModifiedBy>
  <cp:lastPrinted>2013-02-13T11:22:41Z</cp:lastPrinted>
  <dcterms:modified xsi:type="dcterms:W3CDTF">2013-03-11T01:18:19Z</dcterms:modified>
  <cp:revision>28</cp:revision>
  <dc:subject/>
  <dc:title>スライド 1</dc:title>
</cp:coreProperties>
</file>