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09B-CC34-4D69-AC48-3CE33489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11A-9275-4899-9B3D-E118B73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5E1-EE28-41AD-8515-A11AAEE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26B-885F-4B4F-82BA-1A7DBDE6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3A6-BAB1-4961-9201-7FE68CC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CB1-E1AB-4A93-B655-7E0DA677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FB0-9FEE-4787-8778-B951D45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980-9DEF-48D7-8440-38569D1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54D-E2B8-4EB6-9D7B-B56FA82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D6D-37DD-467A-A385-3B024E8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ACE-2097-4B07-A900-B071329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639-6557-48DD-BB61-8D0213D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F470-70B0-4237-B44E-8836E8068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C:\Users\USER\Desktop\waku.png"/>
          <p:cNvPicPr/>
          <p:nvPr/>
        </p:nvPicPr>
        <p:blipFill>
          <a:blip r:embed="rId1"/>
          <a:stretch/>
        </p:blipFill>
        <p:spPr>
          <a:xfrm>
            <a:off x="4699080" y="3213000"/>
            <a:ext cx="5180040" cy="356868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26"/>
          <p:cNvSpPr/>
          <p:nvPr/>
        </p:nvSpPr>
        <p:spPr>
          <a:xfrm>
            <a:off x="1425600" y="1773360"/>
            <a:ext cx="907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ガーデニングシクラメン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8699400" y="-304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線コネクタ 6"/>
          <p:cNvSpPr/>
          <p:nvPr/>
        </p:nvSpPr>
        <p:spPr>
          <a:xfrm>
            <a:off x="560520" y="1628640"/>
            <a:ext cx="900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線コネクタ 21"/>
          <p:cNvSpPr/>
          <p:nvPr/>
        </p:nvSpPr>
        <p:spPr>
          <a:xfrm>
            <a:off x="200160" y="3213000"/>
            <a:ext cx="936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円/楕円 2"/>
          <p:cNvSpPr/>
          <p:nvPr/>
        </p:nvSpPr>
        <p:spPr>
          <a:xfrm>
            <a:off x="1496880" y="260280"/>
            <a:ext cx="1584360" cy="1584360"/>
          </a:xfrm>
          <a:prstGeom prst="ellipse">
            <a:avLst/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9"/>
          <p:cNvSpPr/>
          <p:nvPr/>
        </p:nvSpPr>
        <p:spPr>
          <a:xfrm>
            <a:off x="3224160" y="333360"/>
            <a:ext cx="668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cc0066"/>
                </a:solidFill>
                <a:latin typeface="HGS創英角ｺﾞｼｯｸUB"/>
                <a:ea typeface="HGS創英角ｺﾞｼｯｸUB"/>
              </a:rPr>
              <a:t>八ヶ丘高原から優良生産者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cc0066"/>
                </a:solidFill>
                <a:latin typeface="HGS創英角ｺﾞｼｯｸUB"/>
                <a:ea typeface="HGS創英角ｺﾞｼｯｸUB"/>
              </a:rPr>
              <a:t>良質なガーデニングシクラメン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0" descr=""/>
          <p:cNvPicPr/>
          <p:nvPr/>
        </p:nvPicPr>
        <p:blipFill>
          <a:blip r:embed="rId2"/>
          <a:stretch/>
        </p:blipFill>
        <p:spPr>
          <a:xfrm>
            <a:off x="1743120" y="735120"/>
            <a:ext cx="1092240" cy="658800"/>
          </a:xfrm>
          <a:prstGeom prst="rect">
            <a:avLst/>
          </a:prstGeom>
          <a:ln w="0">
            <a:noFill/>
          </a:ln>
        </p:spPr>
      </p:pic>
      <p:sp>
        <p:nvSpPr>
          <p:cNvPr id="50" name="正方形/長方形 11"/>
          <p:cNvSpPr/>
          <p:nvPr/>
        </p:nvSpPr>
        <p:spPr>
          <a:xfrm>
            <a:off x="4952880" y="3573360"/>
            <a:ext cx="43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はるばる八ヶ丘香華からやってき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優良生産者の良質なガーデニングシク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メン！元気な株は北陸の冬でも大丈夫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庭植え・鉢植え、どちらでも楽しめ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お花の少ない時期で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華やかにお庭を彩ってくれます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" descr="3512829.jpeg"/>
          <p:cNvPicPr/>
          <p:nvPr/>
        </p:nvPicPr>
        <p:blipFill>
          <a:blip r:embed="rId3"/>
          <a:stretch/>
        </p:blipFill>
        <p:spPr>
          <a:xfrm>
            <a:off x="488880" y="342900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図 1" descr="hanaya.png"/>
          <p:cNvPicPr/>
          <p:nvPr/>
        </p:nvPicPr>
        <p:blipFill>
          <a:blip r:embed="rId4"/>
          <a:stretch/>
        </p:blipFill>
        <p:spPr>
          <a:xfrm>
            <a:off x="128520" y="260280"/>
            <a:ext cx="1584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株式会社ジーン macpro2</cp:lastModifiedBy>
  <cp:lastPrinted>2013-02-13T10:10:37Z</cp:lastPrinted>
  <dcterms:modified xsi:type="dcterms:W3CDTF">2013-03-08T08:28:14Z</dcterms:modified>
  <cp:revision>26</cp:revision>
  <dc:subject/>
  <dc:title>スライド 1</dc:title>
</cp:coreProperties>
</file>