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09E-DC38-4639-AC56-FD510303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A7B-CB67-4634-BB4A-39BEB486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265-AC03-480D-BB82-83D61B7C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9BD-A366-4CBE-BE0C-BC032A0F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473-7058-4333-B24B-7C225D9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48C-768D-40D8-8D6F-436F0FB7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226-1E9E-4A72-8255-28D8966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726-A276-4D9C-82B2-CE2A88F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7AD-023F-4D95-B3C5-6FE06F7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C39-38E5-442B-938C-77F8B8E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033-F76F-40EA-A087-BDAB17A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4C3-1241-489C-8FD7-E0390261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A3FC8617-38D9-4193-8F7F-DC6AB533990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a_00.wmf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41303520"/>
            <a:ext cx="10693440" cy="1898640"/>
          </a:xfrm>
          <a:prstGeom prst="rect">
            <a:avLst/>
          </a:prstGeom>
          <a:solidFill>
            <a:srgbClr val="006e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7896240"/>
            <a:ext cx="10693440" cy="1670040"/>
          </a:xfrm>
          <a:prstGeom prst="rect">
            <a:avLst/>
          </a:pr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3"/>
          <p:cNvSpPr/>
          <p:nvPr/>
        </p:nvSpPr>
        <p:spPr>
          <a:xfrm>
            <a:off x="4073400" y="14563800"/>
            <a:ext cx="4622760" cy="4622760"/>
          </a:xfrm>
          <a:custGeom>
            <a:avLst/>
            <a:gdLst>
              <a:gd name="textAreaLeft" fmla="*/ 0 w 4622760"/>
              <a:gd name="textAreaRight" fmla="*/ 4623120 w 4622760"/>
              <a:gd name="textAreaTop" fmla="*/ 0 h 4622760"/>
              <a:gd name="textAreaBottom" fmla="*/ 4623120 h 4622760"/>
            </a:gdLst>
            <a:ahLst/>
            <a:rect l="textAreaLeft" t="textAreaTop" r="textAreaRight" b="textAreaBottom"/>
            <a:pathLst>
              <a:path w="2912" h="2912">
                <a:moveTo>
                  <a:pt x="2912" y="1456"/>
                </a:moveTo>
                <a:lnTo>
                  <a:pt x="2912" y="1456"/>
                </a:lnTo>
                <a:lnTo>
                  <a:pt x="2910" y="1532"/>
                </a:lnTo>
                <a:lnTo>
                  <a:pt x="2906" y="1606"/>
                </a:lnTo>
                <a:lnTo>
                  <a:pt x="2896" y="1678"/>
                </a:lnTo>
                <a:lnTo>
                  <a:pt x="2884" y="1750"/>
                </a:lnTo>
                <a:lnTo>
                  <a:pt x="2866" y="1820"/>
                </a:lnTo>
                <a:lnTo>
                  <a:pt x="2848" y="1890"/>
                </a:lnTo>
                <a:lnTo>
                  <a:pt x="2824" y="1958"/>
                </a:lnTo>
                <a:lnTo>
                  <a:pt x="2798" y="2024"/>
                </a:lnTo>
                <a:lnTo>
                  <a:pt x="2770" y="2088"/>
                </a:lnTo>
                <a:lnTo>
                  <a:pt x="2736" y="2150"/>
                </a:lnTo>
                <a:lnTo>
                  <a:pt x="2702" y="2212"/>
                </a:lnTo>
                <a:lnTo>
                  <a:pt x="2664" y="2270"/>
                </a:lnTo>
                <a:lnTo>
                  <a:pt x="2624" y="2328"/>
                </a:lnTo>
                <a:lnTo>
                  <a:pt x="2580" y="2384"/>
                </a:lnTo>
                <a:lnTo>
                  <a:pt x="2534" y="2436"/>
                </a:lnTo>
                <a:lnTo>
                  <a:pt x="2486" y="2486"/>
                </a:lnTo>
                <a:lnTo>
                  <a:pt x="2436" y="2534"/>
                </a:lnTo>
                <a:lnTo>
                  <a:pt x="2382" y="2580"/>
                </a:lnTo>
                <a:lnTo>
                  <a:pt x="2328" y="2624"/>
                </a:lnTo>
                <a:lnTo>
                  <a:pt x="2270" y="2664"/>
                </a:lnTo>
                <a:lnTo>
                  <a:pt x="2212" y="2702"/>
                </a:lnTo>
                <a:lnTo>
                  <a:pt x="2150" y="2738"/>
                </a:lnTo>
                <a:lnTo>
                  <a:pt x="2088" y="2770"/>
                </a:lnTo>
                <a:lnTo>
                  <a:pt x="2024" y="2798"/>
                </a:lnTo>
                <a:lnTo>
                  <a:pt x="1958" y="2824"/>
                </a:lnTo>
                <a:lnTo>
                  <a:pt x="1890" y="2848"/>
                </a:lnTo>
                <a:lnTo>
                  <a:pt x="1820" y="2868"/>
                </a:lnTo>
                <a:lnTo>
                  <a:pt x="1750" y="2884"/>
                </a:lnTo>
                <a:lnTo>
                  <a:pt x="1678" y="2896"/>
                </a:lnTo>
                <a:lnTo>
                  <a:pt x="1606" y="2906"/>
                </a:lnTo>
                <a:lnTo>
                  <a:pt x="1532" y="2910"/>
                </a:lnTo>
                <a:lnTo>
                  <a:pt x="1456" y="2912"/>
                </a:lnTo>
                <a:lnTo>
                  <a:pt x="1456" y="2912"/>
                </a:lnTo>
                <a:lnTo>
                  <a:pt x="1382" y="2910"/>
                </a:lnTo>
                <a:lnTo>
                  <a:pt x="1308" y="2906"/>
                </a:lnTo>
                <a:lnTo>
                  <a:pt x="1234" y="2896"/>
                </a:lnTo>
                <a:lnTo>
                  <a:pt x="1164" y="2884"/>
                </a:lnTo>
                <a:lnTo>
                  <a:pt x="1092" y="2868"/>
                </a:lnTo>
                <a:lnTo>
                  <a:pt x="1024" y="2848"/>
                </a:lnTo>
                <a:lnTo>
                  <a:pt x="956" y="2824"/>
                </a:lnTo>
                <a:lnTo>
                  <a:pt x="890" y="2798"/>
                </a:lnTo>
                <a:lnTo>
                  <a:pt x="826" y="2770"/>
                </a:lnTo>
                <a:lnTo>
                  <a:pt x="762" y="2738"/>
                </a:lnTo>
                <a:lnTo>
                  <a:pt x="702" y="2702"/>
                </a:lnTo>
                <a:lnTo>
                  <a:pt x="642" y="2664"/>
                </a:lnTo>
                <a:lnTo>
                  <a:pt x="586" y="2624"/>
                </a:lnTo>
                <a:lnTo>
                  <a:pt x="530" y="2580"/>
                </a:lnTo>
                <a:lnTo>
                  <a:pt x="478" y="2534"/>
                </a:lnTo>
                <a:lnTo>
                  <a:pt x="428" y="2486"/>
                </a:lnTo>
                <a:lnTo>
                  <a:pt x="378" y="2436"/>
                </a:lnTo>
                <a:lnTo>
                  <a:pt x="334" y="2384"/>
                </a:lnTo>
                <a:lnTo>
                  <a:pt x="290" y="2328"/>
                </a:lnTo>
                <a:lnTo>
                  <a:pt x="250" y="2270"/>
                </a:lnTo>
                <a:lnTo>
                  <a:pt x="212" y="2212"/>
                </a:lnTo>
                <a:lnTo>
                  <a:pt x="176" y="2150"/>
                </a:lnTo>
                <a:lnTo>
                  <a:pt x="144" y="2088"/>
                </a:lnTo>
                <a:lnTo>
                  <a:pt x="116" y="2024"/>
                </a:lnTo>
                <a:lnTo>
                  <a:pt x="90" y="1958"/>
                </a:lnTo>
                <a:lnTo>
                  <a:pt x="66" y="1890"/>
                </a:lnTo>
                <a:lnTo>
                  <a:pt x="46" y="1820"/>
                </a:lnTo>
                <a:lnTo>
                  <a:pt x="30" y="1750"/>
                </a:lnTo>
                <a:lnTo>
                  <a:pt x="18" y="1678"/>
                </a:lnTo>
                <a:lnTo>
                  <a:pt x="8" y="1606"/>
                </a:lnTo>
                <a:lnTo>
                  <a:pt x="2" y="1532"/>
                </a:lnTo>
                <a:lnTo>
                  <a:pt x="0" y="1456"/>
                </a:lnTo>
                <a:lnTo>
                  <a:pt x="0" y="1456"/>
                </a:lnTo>
                <a:lnTo>
                  <a:pt x="2" y="1382"/>
                </a:lnTo>
                <a:lnTo>
                  <a:pt x="8" y="1308"/>
                </a:lnTo>
                <a:lnTo>
                  <a:pt x="18" y="1236"/>
                </a:lnTo>
                <a:lnTo>
                  <a:pt x="30" y="1164"/>
                </a:lnTo>
                <a:lnTo>
                  <a:pt x="46" y="1094"/>
                </a:lnTo>
                <a:lnTo>
                  <a:pt x="66" y="1024"/>
                </a:lnTo>
                <a:lnTo>
                  <a:pt x="90" y="956"/>
                </a:lnTo>
                <a:lnTo>
                  <a:pt x="116" y="890"/>
                </a:lnTo>
                <a:lnTo>
                  <a:pt x="144" y="826"/>
                </a:lnTo>
                <a:lnTo>
                  <a:pt x="176" y="762"/>
                </a:lnTo>
                <a:lnTo>
                  <a:pt x="212" y="702"/>
                </a:lnTo>
                <a:lnTo>
                  <a:pt x="250" y="642"/>
                </a:lnTo>
                <a:lnTo>
                  <a:pt x="290" y="586"/>
                </a:lnTo>
                <a:lnTo>
                  <a:pt x="334" y="530"/>
                </a:lnTo>
                <a:lnTo>
                  <a:pt x="378" y="478"/>
                </a:lnTo>
                <a:lnTo>
                  <a:pt x="428" y="428"/>
                </a:lnTo>
                <a:lnTo>
                  <a:pt x="478" y="380"/>
                </a:lnTo>
                <a:lnTo>
                  <a:pt x="530" y="334"/>
                </a:lnTo>
                <a:lnTo>
                  <a:pt x="586" y="290"/>
                </a:lnTo>
                <a:lnTo>
                  <a:pt x="642" y="250"/>
                </a:lnTo>
                <a:lnTo>
                  <a:pt x="702" y="212"/>
                </a:lnTo>
                <a:lnTo>
                  <a:pt x="762" y="176"/>
                </a:lnTo>
                <a:lnTo>
                  <a:pt x="826" y="144"/>
                </a:lnTo>
                <a:lnTo>
                  <a:pt x="890" y="116"/>
                </a:lnTo>
                <a:lnTo>
                  <a:pt x="956" y="90"/>
                </a:lnTo>
                <a:lnTo>
                  <a:pt x="1024" y="66"/>
                </a:lnTo>
                <a:lnTo>
                  <a:pt x="1092" y="46"/>
                </a:lnTo>
                <a:lnTo>
                  <a:pt x="1164" y="30"/>
                </a:lnTo>
                <a:lnTo>
                  <a:pt x="1234" y="18"/>
                </a:lnTo>
                <a:lnTo>
                  <a:pt x="1308" y="8"/>
                </a:lnTo>
                <a:lnTo>
                  <a:pt x="1382" y="2"/>
                </a:lnTo>
                <a:lnTo>
                  <a:pt x="1456" y="0"/>
                </a:lnTo>
                <a:lnTo>
                  <a:pt x="1456" y="0"/>
                </a:lnTo>
                <a:lnTo>
                  <a:pt x="1532" y="2"/>
                </a:lnTo>
                <a:lnTo>
                  <a:pt x="1606" y="8"/>
                </a:lnTo>
                <a:lnTo>
                  <a:pt x="1678" y="18"/>
                </a:lnTo>
                <a:lnTo>
                  <a:pt x="1750" y="30"/>
                </a:lnTo>
                <a:lnTo>
                  <a:pt x="1820" y="46"/>
                </a:lnTo>
                <a:lnTo>
                  <a:pt x="1890" y="66"/>
                </a:lnTo>
                <a:lnTo>
                  <a:pt x="1958" y="90"/>
                </a:lnTo>
                <a:lnTo>
                  <a:pt x="2024" y="116"/>
                </a:lnTo>
                <a:lnTo>
                  <a:pt x="2088" y="144"/>
                </a:lnTo>
                <a:lnTo>
                  <a:pt x="2150" y="176"/>
                </a:lnTo>
                <a:lnTo>
                  <a:pt x="2212" y="212"/>
                </a:lnTo>
                <a:lnTo>
                  <a:pt x="2270" y="250"/>
                </a:lnTo>
                <a:lnTo>
                  <a:pt x="2328" y="290"/>
                </a:lnTo>
                <a:lnTo>
                  <a:pt x="2382" y="334"/>
                </a:lnTo>
                <a:lnTo>
                  <a:pt x="2436" y="380"/>
                </a:lnTo>
                <a:lnTo>
                  <a:pt x="2486" y="428"/>
                </a:lnTo>
                <a:lnTo>
                  <a:pt x="2534" y="478"/>
                </a:lnTo>
                <a:lnTo>
                  <a:pt x="2580" y="530"/>
                </a:lnTo>
                <a:lnTo>
                  <a:pt x="2624" y="586"/>
                </a:lnTo>
                <a:lnTo>
                  <a:pt x="2664" y="642"/>
                </a:lnTo>
                <a:lnTo>
                  <a:pt x="2702" y="702"/>
                </a:lnTo>
                <a:lnTo>
                  <a:pt x="2736" y="762"/>
                </a:lnTo>
                <a:lnTo>
                  <a:pt x="2770" y="826"/>
                </a:lnTo>
                <a:lnTo>
                  <a:pt x="2798" y="890"/>
                </a:lnTo>
                <a:lnTo>
                  <a:pt x="2824" y="956"/>
                </a:lnTo>
                <a:lnTo>
                  <a:pt x="2848" y="1024"/>
                </a:lnTo>
                <a:lnTo>
                  <a:pt x="2866" y="1094"/>
                </a:lnTo>
                <a:lnTo>
                  <a:pt x="2884" y="1164"/>
                </a:lnTo>
                <a:lnTo>
                  <a:pt x="2896" y="1236"/>
                </a:lnTo>
                <a:lnTo>
                  <a:pt x="2906" y="1308"/>
                </a:lnTo>
                <a:lnTo>
                  <a:pt x="2910" y="1382"/>
                </a:lnTo>
                <a:lnTo>
                  <a:pt x="2912" y="1456"/>
                </a:lnTo>
                <a:lnTo>
                  <a:pt x="2912" y="1456"/>
                </a:lnTo>
                <a:close/>
              </a:path>
            </a:pathLst>
          </a:cu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17"/>
          <p:cNvSpPr/>
          <p:nvPr/>
        </p:nvSpPr>
        <p:spPr>
          <a:xfrm>
            <a:off x="324000" y="9861480"/>
            <a:ext cx="6248160" cy="6248520"/>
          </a:xfrm>
          <a:custGeom>
            <a:avLst/>
            <a:gdLst>
              <a:gd name="textAreaLeft" fmla="*/ 0 w 6248160"/>
              <a:gd name="textAreaRight" fmla="*/ 6248520 w 6248160"/>
              <a:gd name="textAreaTop" fmla="*/ 0 h 6248520"/>
              <a:gd name="textAreaBottom" fmla="*/ 6248880 h 6248520"/>
            </a:gdLst>
            <a:ahLst/>
            <a:rect l="textAreaLeft" t="textAreaTop" r="textAreaRight" b="textAreaBottom"/>
            <a:pathLst>
              <a:path w="3936" h="3936">
                <a:moveTo>
                  <a:pt x="3936" y="1968"/>
                </a:moveTo>
                <a:lnTo>
                  <a:pt x="3936" y="1968"/>
                </a:lnTo>
                <a:lnTo>
                  <a:pt x="3934" y="2018"/>
                </a:lnTo>
                <a:lnTo>
                  <a:pt x="3932" y="2068"/>
                </a:lnTo>
                <a:lnTo>
                  <a:pt x="3930" y="2118"/>
                </a:lnTo>
                <a:lnTo>
                  <a:pt x="3926" y="2168"/>
                </a:lnTo>
                <a:lnTo>
                  <a:pt x="3920" y="2218"/>
                </a:lnTo>
                <a:lnTo>
                  <a:pt x="3912" y="2268"/>
                </a:lnTo>
                <a:lnTo>
                  <a:pt x="3904" y="2316"/>
                </a:lnTo>
                <a:lnTo>
                  <a:pt x="3896" y="2364"/>
                </a:lnTo>
                <a:lnTo>
                  <a:pt x="3884" y="2412"/>
                </a:lnTo>
                <a:lnTo>
                  <a:pt x="3874" y="2460"/>
                </a:lnTo>
                <a:lnTo>
                  <a:pt x="3860" y="2506"/>
                </a:lnTo>
                <a:lnTo>
                  <a:pt x="3846" y="2552"/>
                </a:lnTo>
                <a:lnTo>
                  <a:pt x="3816" y="2644"/>
                </a:lnTo>
                <a:lnTo>
                  <a:pt x="3780" y="2734"/>
                </a:lnTo>
                <a:lnTo>
                  <a:pt x="3742" y="2820"/>
                </a:lnTo>
                <a:lnTo>
                  <a:pt x="3698" y="2906"/>
                </a:lnTo>
                <a:lnTo>
                  <a:pt x="3650" y="2988"/>
                </a:lnTo>
                <a:lnTo>
                  <a:pt x="3600" y="3068"/>
                </a:lnTo>
                <a:lnTo>
                  <a:pt x="3544" y="3144"/>
                </a:lnTo>
                <a:lnTo>
                  <a:pt x="3486" y="3220"/>
                </a:lnTo>
                <a:lnTo>
                  <a:pt x="3424" y="3290"/>
                </a:lnTo>
                <a:lnTo>
                  <a:pt x="3360" y="3358"/>
                </a:lnTo>
                <a:lnTo>
                  <a:pt x="3290" y="3424"/>
                </a:lnTo>
                <a:lnTo>
                  <a:pt x="3220" y="3486"/>
                </a:lnTo>
                <a:lnTo>
                  <a:pt x="3144" y="3544"/>
                </a:lnTo>
                <a:lnTo>
                  <a:pt x="3068" y="3600"/>
                </a:lnTo>
                <a:lnTo>
                  <a:pt x="2988" y="3650"/>
                </a:lnTo>
                <a:lnTo>
                  <a:pt x="2906" y="3698"/>
                </a:lnTo>
                <a:lnTo>
                  <a:pt x="2820" y="3742"/>
                </a:lnTo>
                <a:lnTo>
                  <a:pt x="2734" y="3780"/>
                </a:lnTo>
                <a:lnTo>
                  <a:pt x="2644" y="3816"/>
                </a:lnTo>
                <a:lnTo>
                  <a:pt x="2552" y="3846"/>
                </a:lnTo>
                <a:lnTo>
                  <a:pt x="2506" y="3860"/>
                </a:lnTo>
                <a:lnTo>
                  <a:pt x="2460" y="3874"/>
                </a:lnTo>
                <a:lnTo>
                  <a:pt x="2412" y="3884"/>
                </a:lnTo>
                <a:lnTo>
                  <a:pt x="2364" y="3896"/>
                </a:lnTo>
                <a:lnTo>
                  <a:pt x="2316" y="3904"/>
                </a:lnTo>
                <a:lnTo>
                  <a:pt x="2268" y="3912"/>
                </a:lnTo>
                <a:lnTo>
                  <a:pt x="2218" y="3920"/>
                </a:lnTo>
                <a:lnTo>
                  <a:pt x="2168" y="3926"/>
                </a:lnTo>
                <a:lnTo>
                  <a:pt x="2120" y="3930"/>
                </a:lnTo>
                <a:lnTo>
                  <a:pt x="2068" y="3932"/>
                </a:lnTo>
                <a:lnTo>
                  <a:pt x="2018" y="3934"/>
                </a:lnTo>
                <a:lnTo>
                  <a:pt x="1968" y="3936"/>
                </a:lnTo>
                <a:lnTo>
                  <a:pt x="1968" y="3936"/>
                </a:lnTo>
                <a:lnTo>
                  <a:pt x="1916" y="3934"/>
                </a:lnTo>
                <a:lnTo>
                  <a:pt x="1866" y="3932"/>
                </a:lnTo>
                <a:lnTo>
                  <a:pt x="1816" y="3930"/>
                </a:lnTo>
                <a:lnTo>
                  <a:pt x="1766" y="3926"/>
                </a:lnTo>
                <a:lnTo>
                  <a:pt x="1718" y="3920"/>
                </a:lnTo>
                <a:lnTo>
                  <a:pt x="1668" y="3912"/>
                </a:lnTo>
                <a:lnTo>
                  <a:pt x="1620" y="3904"/>
                </a:lnTo>
                <a:lnTo>
                  <a:pt x="1572" y="3896"/>
                </a:lnTo>
                <a:lnTo>
                  <a:pt x="1524" y="3884"/>
                </a:lnTo>
                <a:lnTo>
                  <a:pt x="1476" y="3874"/>
                </a:lnTo>
                <a:lnTo>
                  <a:pt x="1430" y="3860"/>
                </a:lnTo>
                <a:lnTo>
                  <a:pt x="1382" y="3846"/>
                </a:lnTo>
                <a:lnTo>
                  <a:pt x="1292" y="3816"/>
                </a:lnTo>
                <a:lnTo>
                  <a:pt x="1202" y="3780"/>
                </a:lnTo>
                <a:lnTo>
                  <a:pt x="1114" y="3742"/>
                </a:lnTo>
                <a:lnTo>
                  <a:pt x="1030" y="3698"/>
                </a:lnTo>
                <a:lnTo>
                  <a:pt x="948" y="3650"/>
                </a:lnTo>
                <a:lnTo>
                  <a:pt x="868" y="3600"/>
                </a:lnTo>
                <a:lnTo>
                  <a:pt x="790" y="3544"/>
                </a:lnTo>
                <a:lnTo>
                  <a:pt x="716" y="3486"/>
                </a:lnTo>
                <a:lnTo>
                  <a:pt x="644" y="3424"/>
                </a:lnTo>
                <a:lnTo>
                  <a:pt x="576" y="3358"/>
                </a:lnTo>
                <a:lnTo>
                  <a:pt x="512" y="3290"/>
                </a:lnTo>
                <a:lnTo>
                  <a:pt x="450" y="3220"/>
                </a:lnTo>
                <a:lnTo>
                  <a:pt x="390" y="3144"/>
                </a:lnTo>
                <a:lnTo>
                  <a:pt x="336" y="3068"/>
                </a:lnTo>
                <a:lnTo>
                  <a:pt x="284" y="2988"/>
                </a:lnTo>
                <a:lnTo>
                  <a:pt x="238" y="2906"/>
                </a:lnTo>
                <a:lnTo>
                  <a:pt x="194" y="2820"/>
                </a:lnTo>
                <a:lnTo>
                  <a:pt x="154" y="2734"/>
                </a:lnTo>
                <a:lnTo>
                  <a:pt x="120" y="2644"/>
                </a:lnTo>
                <a:lnTo>
                  <a:pt x="88" y="2552"/>
                </a:lnTo>
                <a:lnTo>
                  <a:pt x="74" y="2506"/>
                </a:lnTo>
                <a:lnTo>
                  <a:pt x="62" y="2460"/>
                </a:lnTo>
                <a:lnTo>
                  <a:pt x="50" y="2412"/>
                </a:lnTo>
                <a:lnTo>
                  <a:pt x="40" y="2364"/>
                </a:lnTo>
                <a:lnTo>
                  <a:pt x="30" y="2316"/>
                </a:lnTo>
                <a:lnTo>
                  <a:pt x="22" y="2268"/>
                </a:lnTo>
                <a:lnTo>
                  <a:pt x="16" y="2218"/>
                </a:lnTo>
                <a:lnTo>
                  <a:pt x="10" y="2168"/>
                </a:lnTo>
                <a:lnTo>
                  <a:pt x="6" y="2118"/>
                </a:lnTo>
                <a:lnTo>
                  <a:pt x="2" y="2068"/>
                </a:lnTo>
                <a:lnTo>
                  <a:pt x="0" y="2018"/>
                </a:lnTo>
                <a:lnTo>
                  <a:pt x="0" y="1968"/>
                </a:lnTo>
                <a:lnTo>
                  <a:pt x="0" y="1968"/>
                </a:lnTo>
                <a:lnTo>
                  <a:pt x="0" y="1916"/>
                </a:lnTo>
                <a:lnTo>
                  <a:pt x="2" y="1866"/>
                </a:lnTo>
                <a:lnTo>
                  <a:pt x="6" y="1816"/>
                </a:lnTo>
                <a:lnTo>
                  <a:pt x="10" y="1766"/>
                </a:lnTo>
                <a:lnTo>
                  <a:pt x="16" y="1716"/>
                </a:lnTo>
                <a:lnTo>
                  <a:pt x="22" y="1668"/>
                </a:lnTo>
                <a:lnTo>
                  <a:pt x="30" y="1620"/>
                </a:lnTo>
                <a:lnTo>
                  <a:pt x="40" y="1572"/>
                </a:lnTo>
                <a:lnTo>
                  <a:pt x="50" y="1524"/>
                </a:lnTo>
                <a:lnTo>
                  <a:pt x="62" y="1476"/>
                </a:lnTo>
                <a:lnTo>
                  <a:pt x="74" y="1428"/>
                </a:lnTo>
                <a:lnTo>
                  <a:pt x="88" y="1382"/>
                </a:lnTo>
                <a:lnTo>
                  <a:pt x="120" y="1292"/>
                </a:lnTo>
                <a:lnTo>
                  <a:pt x="154" y="1202"/>
                </a:lnTo>
                <a:lnTo>
                  <a:pt x="194" y="1114"/>
                </a:lnTo>
                <a:lnTo>
                  <a:pt x="238" y="1030"/>
                </a:lnTo>
                <a:lnTo>
                  <a:pt x="284" y="948"/>
                </a:lnTo>
                <a:lnTo>
                  <a:pt x="336" y="868"/>
                </a:lnTo>
                <a:lnTo>
                  <a:pt x="390" y="790"/>
                </a:lnTo>
                <a:lnTo>
                  <a:pt x="450" y="716"/>
                </a:lnTo>
                <a:lnTo>
                  <a:pt x="512" y="644"/>
                </a:lnTo>
                <a:lnTo>
                  <a:pt x="576" y="576"/>
                </a:lnTo>
                <a:lnTo>
                  <a:pt x="644" y="512"/>
                </a:lnTo>
                <a:lnTo>
                  <a:pt x="716" y="450"/>
                </a:lnTo>
                <a:lnTo>
                  <a:pt x="790" y="390"/>
                </a:lnTo>
                <a:lnTo>
                  <a:pt x="868" y="336"/>
                </a:lnTo>
                <a:lnTo>
                  <a:pt x="948" y="284"/>
                </a:lnTo>
                <a:lnTo>
                  <a:pt x="1030" y="238"/>
                </a:lnTo>
                <a:lnTo>
                  <a:pt x="1114" y="194"/>
                </a:lnTo>
                <a:lnTo>
                  <a:pt x="1202" y="154"/>
                </a:lnTo>
                <a:lnTo>
                  <a:pt x="1292" y="120"/>
                </a:lnTo>
                <a:lnTo>
                  <a:pt x="1382" y="88"/>
                </a:lnTo>
                <a:lnTo>
                  <a:pt x="1430" y="74"/>
                </a:lnTo>
                <a:lnTo>
                  <a:pt x="1476" y="62"/>
                </a:lnTo>
                <a:lnTo>
                  <a:pt x="1524" y="50"/>
                </a:lnTo>
                <a:lnTo>
                  <a:pt x="1572" y="40"/>
                </a:lnTo>
                <a:lnTo>
                  <a:pt x="1620" y="30"/>
                </a:lnTo>
                <a:lnTo>
                  <a:pt x="1668" y="22"/>
                </a:lnTo>
                <a:lnTo>
                  <a:pt x="1718" y="16"/>
                </a:lnTo>
                <a:lnTo>
                  <a:pt x="1766" y="10"/>
                </a:lnTo>
                <a:lnTo>
                  <a:pt x="1816" y="6"/>
                </a:lnTo>
                <a:lnTo>
                  <a:pt x="1866" y="2"/>
                </a:lnTo>
                <a:lnTo>
                  <a:pt x="1916" y="0"/>
                </a:lnTo>
                <a:lnTo>
                  <a:pt x="1968" y="0"/>
                </a:lnTo>
                <a:lnTo>
                  <a:pt x="1968" y="0"/>
                </a:lnTo>
                <a:lnTo>
                  <a:pt x="2018" y="0"/>
                </a:lnTo>
                <a:lnTo>
                  <a:pt x="2068" y="2"/>
                </a:lnTo>
                <a:lnTo>
                  <a:pt x="2120" y="6"/>
                </a:lnTo>
                <a:lnTo>
                  <a:pt x="2168" y="10"/>
                </a:lnTo>
                <a:lnTo>
                  <a:pt x="2218" y="16"/>
                </a:lnTo>
                <a:lnTo>
                  <a:pt x="2268" y="22"/>
                </a:lnTo>
                <a:lnTo>
                  <a:pt x="2316" y="30"/>
                </a:lnTo>
                <a:lnTo>
                  <a:pt x="2364" y="40"/>
                </a:lnTo>
                <a:lnTo>
                  <a:pt x="2412" y="50"/>
                </a:lnTo>
                <a:lnTo>
                  <a:pt x="2460" y="62"/>
                </a:lnTo>
                <a:lnTo>
                  <a:pt x="2506" y="74"/>
                </a:lnTo>
                <a:lnTo>
                  <a:pt x="2552" y="88"/>
                </a:lnTo>
                <a:lnTo>
                  <a:pt x="2644" y="120"/>
                </a:lnTo>
                <a:lnTo>
                  <a:pt x="2734" y="154"/>
                </a:lnTo>
                <a:lnTo>
                  <a:pt x="2820" y="194"/>
                </a:lnTo>
                <a:lnTo>
                  <a:pt x="2906" y="238"/>
                </a:lnTo>
                <a:lnTo>
                  <a:pt x="2988" y="284"/>
                </a:lnTo>
                <a:lnTo>
                  <a:pt x="3068" y="336"/>
                </a:lnTo>
                <a:lnTo>
                  <a:pt x="3144" y="390"/>
                </a:lnTo>
                <a:lnTo>
                  <a:pt x="3220" y="450"/>
                </a:lnTo>
                <a:lnTo>
                  <a:pt x="3290" y="512"/>
                </a:lnTo>
                <a:lnTo>
                  <a:pt x="3360" y="576"/>
                </a:lnTo>
                <a:lnTo>
                  <a:pt x="3424" y="644"/>
                </a:lnTo>
                <a:lnTo>
                  <a:pt x="3486" y="716"/>
                </a:lnTo>
                <a:lnTo>
                  <a:pt x="3544" y="790"/>
                </a:lnTo>
                <a:lnTo>
                  <a:pt x="3600" y="868"/>
                </a:lnTo>
                <a:lnTo>
                  <a:pt x="3650" y="948"/>
                </a:lnTo>
                <a:lnTo>
                  <a:pt x="3698" y="1030"/>
                </a:lnTo>
                <a:lnTo>
                  <a:pt x="3742" y="1114"/>
                </a:lnTo>
                <a:lnTo>
                  <a:pt x="3780" y="1202"/>
                </a:lnTo>
                <a:lnTo>
                  <a:pt x="3816" y="1292"/>
                </a:lnTo>
                <a:lnTo>
                  <a:pt x="3846" y="1382"/>
                </a:lnTo>
                <a:lnTo>
                  <a:pt x="3860" y="1428"/>
                </a:lnTo>
                <a:lnTo>
                  <a:pt x="3874" y="1476"/>
                </a:lnTo>
                <a:lnTo>
                  <a:pt x="3884" y="1524"/>
                </a:lnTo>
                <a:lnTo>
                  <a:pt x="3896" y="1572"/>
                </a:lnTo>
                <a:lnTo>
                  <a:pt x="3904" y="1620"/>
                </a:lnTo>
                <a:lnTo>
                  <a:pt x="3912" y="1668"/>
                </a:lnTo>
                <a:lnTo>
                  <a:pt x="3920" y="1716"/>
                </a:lnTo>
                <a:lnTo>
                  <a:pt x="3926" y="1766"/>
                </a:lnTo>
                <a:lnTo>
                  <a:pt x="3930" y="1816"/>
                </a:lnTo>
                <a:lnTo>
                  <a:pt x="3932" y="1866"/>
                </a:lnTo>
                <a:lnTo>
                  <a:pt x="3934" y="1916"/>
                </a:lnTo>
                <a:lnTo>
                  <a:pt x="3936" y="1968"/>
                </a:lnTo>
                <a:lnTo>
                  <a:pt x="3936" y="1968"/>
                </a:lnTo>
                <a:close/>
              </a:path>
            </a:pathLst>
          </a:custGeom>
          <a:solidFill>
            <a:srgbClr val="ee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893080" y="3240"/>
            <a:ext cx="1800360" cy="43198920"/>
          </a:xfrm>
          <a:prstGeom prst="rect">
            <a:avLst/>
          </a:prstGeom>
          <a:solidFill>
            <a:srgbClr val="ff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1"/>
          <p:cNvGrpSpPr/>
          <p:nvPr/>
        </p:nvGrpSpPr>
        <p:grpSpPr>
          <a:xfrm>
            <a:off x="9210600" y="1397160"/>
            <a:ext cx="1076400" cy="8746920"/>
            <a:chOff x="9210600" y="1397160"/>
            <a:chExt cx="1076400" cy="8746920"/>
          </a:xfrm>
        </p:grpSpPr>
        <p:sp>
          <p:nvSpPr>
            <p:cNvPr id="48" name="Freeform 5"/>
            <p:cNvSpPr/>
            <p:nvPr/>
          </p:nvSpPr>
          <p:spPr>
            <a:xfrm>
              <a:off x="9216720" y="1397160"/>
              <a:ext cx="1003680" cy="812520"/>
            </a:xfrm>
            <a:custGeom>
              <a:avLst/>
              <a:gdLst>
                <a:gd name="textAreaLeft" fmla="*/ 0 w 1003680"/>
                <a:gd name="textAreaRight" fmla="*/ 1004040 w 100368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632" h="512">
                  <a:moveTo>
                    <a:pt x="110" y="2"/>
                  </a:moveTo>
                  <a:lnTo>
                    <a:pt x="110" y="2"/>
                  </a:lnTo>
                  <a:lnTo>
                    <a:pt x="128" y="0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64" y="14"/>
                  </a:lnTo>
                  <a:lnTo>
                    <a:pt x="178" y="24"/>
                  </a:lnTo>
                  <a:lnTo>
                    <a:pt x="178" y="24"/>
                  </a:lnTo>
                  <a:lnTo>
                    <a:pt x="190" y="38"/>
                  </a:lnTo>
                  <a:lnTo>
                    <a:pt x="196" y="56"/>
                  </a:lnTo>
                  <a:lnTo>
                    <a:pt x="196" y="56"/>
                  </a:lnTo>
                  <a:lnTo>
                    <a:pt x="198" y="64"/>
                  </a:lnTo>
                  <a:lnTo>
                    <a:pt x="198" y="72"/>
                  </a:lnTo>
                  <a:lnTo>
                    <a:pt x="196" y="82"/>
                  </a:lnTo>
                  <a:lnTo>
                    <a:pt x="194" y="90"/>
                  </a:lnTo>
                  <a:lnTo>
                    <a:pt x="194" y="90"/>
                  </a:lnTo>
                  <a:lnTo>
                    <a:pt x="188" y="98"/>
                  </a:lnTo>
                  <a:lnTo>
                    <a:pt x="184" y="106"/>
                  </a:lnTo>
                  <a:lnTo>
                    <a:pt x="178" y="112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58" y="128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36" y="166"/>
                  </a:lnTo>
                  <a:lnTo>
                    <a:pt x="128" y="190"/>
                  </a:lnTo>
                  <a:lnTo>
                    <a:pt x="128" y="190"/>
                  </a:lnTo>
                  <a:lnTo>
                    <a:pt x="124" y="206"/>
                  </a:lnTo>
                  <a:lnTo>
                    <a:pt x="122" y="224"/>
                  </a:lnTo>
                  <a:lnTo>
                    <a:pt x="122" y="224"/>
                  </a:lnTo>
                  <a:lnTo>
                    <a:pt x="122" y="260"/>
                  </a:lnTo>
                  <a:lnTo>
                    <a:pt x="122" y="260"/>
                  </a:lnTo>
                  <a:lnTo>
                    <a:pt x="128" y="288"/>
                  </a:lnTo>
                  <a:lnTo>
                    <a:pt x="128" y="288"/>
                  </a:lnTo>
                  <a:lnTo>
                    <a:pt x="134" y="300"/>
                  </a:lnTo>
                  <a:lnTo>
                    <a:pt x="146" y="314"/>
                  </a:lnTo>
                  <a:lnTo>
                    <a:pt x="146" y="314"/>
                  </a:lnTo>
                  <a:lnTo>
                    <a:pt x="152" y="322"/>
                  </a:lnTo>
                  <a:lnTo>
                    <a:pt x="158" y="330"/>
                  </a:lnTo>
                  <a:lnTo>
                    <a:pt x="166" y="336"/>
                  </a:lnTo>
                  <a:lnTo>
                    <a:pt x="174" y="340"/>
                  </a:lnTo>
                  <a:lnTo>
                    <a:pt x="174" y="340"/>
                  </a:lnTo>
                  <a:lnTo>
                    <a:pt x="192" y="346"/>
                  </a:lnTo>
                  <a:lnTo>
                    <a:pt x="208" y="348"/>
                  </a:lnTo>
                  <a:lnTo>
                    <a:pt x="208" y="348"/>
                  </a:lnTo>
                  <a:lnTo>
                    <a:pt x="224" y="346"/>
                  </a:lnTo>
                  <a:lnTo>
                    <a:pt x="240" y="338"/>
                  </a:lnTo>
                  <a:lnTo>
                    <a:pt x="240" y="338"/>
                  </a:lnTo>
                  <a:lnTo>
                    <a:pt x="246" y="334"/>
                  </a:lnTo>
                  <a:lnTo>
                    <a:pt x="250" y="328"/>
                  </a:lnTo>
                  <a:lnTo>
                    <a:pt x="256" y="322"/>
                  </a:lnTo>
                  <a:lnTo>
                    <a:pt x="258" y="314"/>
                  </a:lnTo>
                  <a:lnTo>
                    <a:pt x="258" y="314"/>
                  </a:lnTo>
                  <a:lnTo>
                    <a:pt x="268" y="282"/>
                  </a:lnTo>
                  <a:lnTo>
                    <a:pt x="276" y="250"/>
                  </a:lnTo>
                  <a:lnTo>
                    <a:pt x="276" y="250"/>
                  </a:lnTo>
                  <a:lnTo>
                    <a:pt x="282" y="220"/>
                  </a:lnTo>
                  <a:lnTo>
                    <a:pt x="290" y="190"/>
                  </a:lnTo>
                  <a:lnTo>
                    <a:pt x="290" y="190"/>
                  </a:lnTo>
                  <a:lnTo>
                    <a:pt x="300" y="160"/>
                  </a:lnTo>
                  <a:lnTo>
                    <a:pt x="314" y="134"/>
                  </a:lnTo>
                  <a:lnTo>
                    <a:pt x="314" y="134"/>
                  </a:lnTo>
                  <a:lnTo>
                    <a:pt x="324" y="124"/>
                  </a:lnTo>
                  <a:lnTo>
                    <a:pt x="334" y="112"/>
                  </a:lnTo>
                  <a:lnTo>
                    <a:pt x="346" y="102"/>
                  </a:lnTo>
                  <a:lnTo>
                    <a:pt x="360" y="94"/>
                  </a:lnTo>
                  <a:lnTo>
                    <a:pt x="360" y="94"/>
                  </a:lnTo>
                  <a:lnTo>
                    <a:pt x="376" y="86"/>
                  </a:lnTo>
                  <a:lnTo>
                    <a:pt x="390" y="82"/>
                  </a:lnTo>
                  <a:lnTo>
                    <a:pt x="390" y="82"/>
                  </a:lnTo>
                  <a:lnTo>
                    <a:pt x="420" y="82"/>
                  </a:lnTo>
                  <a:lnTo>
                    <a:pt x="420" y="82"/>
                  </a:lnTo>
                  <a:lnTo>
                    <a:pt x="442" y="84"/>
                  </a:lnTo>
                  <a:lnTo>
                    <a:pt x="464" y="88"/>
                  </a:lnTo>
                  <a:lnTo>
                    <a:pt x="482" y="96"/>
                  </a:lnTo>
                  <a:lnTo>
                    <a:pt x="498" y="106"/>
                  </a:lnTo>
                  <a:lnTo>
                    <a:pt x="498" y="106"/>
                  </a:lnTo>
                  <a:lnTo>
                    <a:pt x="528" y="132"/>
                  </a:lnTo>
                  <a:lnTo>
                    <a:pt x="556" y="160"/>
                  </a:lnTo>
                  <a:lnTo>
                    <a:pt x="556" y="160"/>
                  </a:lnTo>
                  <a:lnTo>
                    <a:pt x="572" y="178"/>
                  </a:lnTo>
                  <a:lnTo>
                    <a:pt x="586" y="198"/>
                  </a:lnTo>
                  <a:lnTo>
                    <a:pt x="596" y="220"/>
                  </a:lnTo>
                  <a:lnTo>
                    <a:pt x="606" y="240"/>
                  </a:lnTo>
                  <a:lnTo>
                    <a:pt x="606" y="240"/>
                  </a:lnTo>
                  <a:lnTo>
                    <a:pt x="614" y="262"/>
                  </a:lnTo>
                  <a:lnTo>
                    <a:pt x="622" y="284"/>
                  </a:lnTo>
                  <a:lnTo>
                    <a:pt x="626" y="306"/>
                  </a:lnTo>
                  <a:lnTo>
                    <a:pt x="630" y="328"/>
                  </a:lnTo>
                  <a:lnTo>
                    <a:pt x="630" y="328"/>
                  </a:lnTo>
                  <a:lnTo>
                    <a:pt x="632" y="348"/>
                  </a:lnTo>
                  <a:lnTo>
                    <a:pt x="632" y="370"/>
                  </a:lnTo>
                  <a:lnTo>
                    <a:pt x="630" y="392"/>
                  </a:lnTo>
                  <a:lnTo>
                    <a:pt x="628" y="412"/>
                  </a:lnTo>
                  <a:lnTo>
                    <a:pt x="628" y="412"/>
                  </a:lnTo>
                  <a:lnTo>
                    <a:pt x="624" y="434"/>
                  </a:lnTo>
                  <a:lnTo>
                    <a:pt x="618" y="452"/>
                  </a:lnTo>
                  <a:lnTo>
                    <a:pt x="612" y="472"/>
                  </a:lnTo>
                  <a:lnTo>
                    <a:pt x="604" y="490"/>
                  </a:lnTo>
                  <a:lnTo>
                    <a:pt x="604" y="490"/>
                  </a:lnTo>
                  <a:lnTo>
                    <a:pt x="598" y="500"/>
                  </a:lnTo>
                  <a:lnTo>
                    <a:pt x="592" y="506"/>
                  </a:lnTo>
                  <a:lnTo>
                    <a:pt x="584" y="510"/>
                  </a:lnTo>
                  <a:lnTo>
                    <a:pt x="574" y="512"/>
                  </a:lnTo>
                  <a:lnTo>
                    <a:pt x="574" y="512"/>
                  </a:lnTo>
                  <a:lnTo>
                    <a:pt x="564" y="512"/>
                  </a:lnTo>
                  <a:lnTo>
                    <a:pt x="554" y="510"/>
                  </a:lnTo>
                  <a:lnTo>
                    <a:pt x="544" y="508"/>
                  </a:lnTo>
                  <a:lnTo>
                    <a:pt x="534" y="504"/>
                  </a:lnTo>
                  <a:lnTo>
                    <a:pt x="534" y="504"/>
                  </a:lnTo>
                  <a:lnTo>
                    <a:pt x="526" y="498"/>
                  </a:lnTo>
                  <a:lnTo>
                    <a:pt x="518" y="492"/>
                  </a:lnTo>
                  <a:lnTo>
                    <a:pt x="510" y="484"/>
                  </a:lnTo>
                  <a:lnTo>
                    <a:pt x="502" y="474"/>
                  </a:lnTo>
                  <a:lnTo>
                    <a:pt x="502" y="474"/>
                  </a:lnTo>
                  <a:lnTo>
                    <a:pt x="498" y="464"/>
                  </a:lnTo>
                  <a:lnTo>
                    <a:pt x="494" y="454"/>
                  </a:lnTo>
                  <a:lnTo>
                    <a:pt x="494" y="444"/>
                  </a:lnTo>
                  <a:lnTo>
                    <a:pt x="494" y="434"/>
                  </a:lnTo>
                  <a:lnTo>
                    <a:pt x="494" y="434"/>
                  </a:lnTo>
                  <a:lnTo>
                    <a:pt x="504" y="394"/>
                  </a:lnTo>
                  <a:lnTo>
                    <a:pt x="504" y="394"/>
                  </a:lnTo>
                  <a:lnTo>
                    <a:pt x="514" y="356"/>
                  </a:lnTo>
                  <a:lnTo>
                    <a:pt x="514" y="356"/>
                  </a:lnTo>
                  <a:lnTo>
                    <a:pt x="516" y="340"/>
                  </a:lnTo>
                  <a:lnTo>
                    <a:pt x="514" y="322"/>
                  </a:lnTo>
                  <a:lnTo>
                    <a:pt x="514" y="322"/>
                  </a:lnTo>
                  <a:lnTo>
                    <a:pt x="512" y="304"/>
                  </a:lnTo>
                  <a:lnTo>
                    <a:pt x="508" y="288"/>
                  </a:lnTo>
                  <a:lnTo>
                    <a:pt x="508" y="288"/>
                  </a:lnTo>
                  <a:lnTo>
                    <a:pt x="498" y="256"/>
                  </a:lnTo>
                  <a:lnTo>
                    <a:pt x="498" y="256"/>
                  </a:lnTo>
                  <a:lnTo>
                    <a:pt x="494" y="244"/>
                  </a:lnTo>
                  <a:lnTo>
                    <a:pt x="488" y="234"/>
                  </a:lnTo>
                  <a:lnTo>
                    <a:pt x="488" y="234"/>
                  </a:lnTo>
                  <a:lnTo>
                    <a:pt x="480" y="224"/>
                  </a:lnTo>
                  <a:lnTo>
                    <a:pt x="470" y="214"/>
                  </a:lnTo>
                  <a:lnTo>
                    <a:pt x="470" y="214"/>
                  </a:lnTo>
                  <a:lnTo>
                    <a:pt x="460" y="206"/>
                  </a:lnTo>
                  <a:lnTo>
                    <a:pt x="446" y="202"/>
                  </a:lnTo>
                  <a:lnTo>
                    <a:pt x="446" y="202"/>
                  </a:lnTo>
                  <a:lnTo>
                    <a:pt x="438" y="200"/>
                  </a:lnTo>
                  <a:lnTo>
                    <a:pt x="432" y="200"/>
                  </a:lnTo>
                  <a:lnTo>
                    <a:pt x="426" y="202"/>
                  </a:lnTo>
                  <a:lnTo>
                    <a:pt x="420" y="208"/>
                  </a:lnTo>
                  <a:lnTo>
                    <a:pt x="420" y="208"/>
                  </a:lnTo>
                  <a:lnTo>
                    <a:pt x="410" y="220"/>
                  </a:lnTo>
                  <a:lnTo>
                    <a:pt x="404" y="234"/>
                  </a:lnTo>
                  <a:lnTo>
                    <a:pt x="404" y="234"/>
                  </a:lnTo>
                  <a:lnTo>
                    <a:pt x="392" y="296"/>
                  </a:lnTo>
                  <a:lnTo>
                    <a:pt x="392" y="296"/>
                  </a:lnTo>
                  <a:lnTo>
                    <a:pt x="384" y="328"/>
                  </a:lnTo>
                  <a:lnTo>
                    <a:pt x="374" y="358"/>
                  </a:lnTo>
                  <a:lnTo>
                    <a:pt x="374" y="358"/>
                  </a:lnTo>
                  <a:lnTo>
                    <a:pt x="362" y="388"/>
                  </a:lnTo>
                  <a:lnTo>
                    <a:pt x="346" y="412"/>
                  </a:lnTo>
                  <a:lnTo>
                    <a:pt x="346" y="412"/>
                  </a:lnTo>
                  <a:lnTo>
                    <a:pt x="336" y="424"/>
                  </a:lnTo>
                  <a:lnTo>
                    <a:pt x="326" y="434"/>
                  </a:lnTo>
                  <a:lnTo>
                    <a:pt x="314" y="444"/>
                  </a:lnTo>
                  <a:lnTo>
                    <a:pt x="300" y="450"/>
                  </a:lnTo>
                  <a:lnTo>
                    <a:pt x="300" y="450"/>
                  </a:lnTo>
                  <a:lnTo>
                    <a:pt x="288" y="458"/>
                  </a:lnTo>
                  <a:lnTo>
                    <a:pt x="274" y="464"/>
                  </a:lnTo>
                  <a:lnTo>
                    <a:pt x="260" y="468"/>
                  </a:lnTo>
                  <a:lnTo>
                    <a:pt x="244" y="470"/>
                  </a:lnTo>
                  <a:lnTo>
                    <a:pt x="244" y="470"/>
                  </a:lnTo>
                  <a:lnTo>
                    <a:pt x="228" y="470"/>
                  </a:lnTo>
                  <a:lnTo>
                    <a:pt x="212" y="468"/>
                  </a:lnTo>
                  <a:lnTo>
                    <a:pt x="196" y="466"/>
                  </a:lnTo>
                  <a:lnTo>
                    <a:pt x="180" y="462"/>
                  </a:lnTo>
                  <a:lnTo>
                    <a:pt x="180" y="462"/>
                  </a:lnTo>
                  <a:lnTo>
                    <a:pt x="164" y="456"/>
                  </a:lnTo>
                  <a:lnTo>
                    <a:pt x="150" y="450"/>
                  </a:lnTo>
                  <a:lnTo>
                    <a:pt x="120" y="432"/>
                  </a:lnTo>
                  <a:lnTo>
                    <a:pt x="120" y="432"/>
                  </a:lnTo>
                  <a:lnTo>
                    <a:pt x="106" y="422"/>
                  </a:lnTo>
                  <a:lnTo>
                    <a:pt x="92" y="412"/>
                  </a:lnTo>
                  <a:lnTo>
                    <a:pt x="80" y="400"/>
                  </a:lnTo>
                  <a:lnTo>
                    <a:pt x="68" y="386"/>
                  </a:lnTo>
                  <a:lnTo>
                    <a:pt x="68" y="386"/>
                  </a:lnTo>
                  <a:lnTo>
                    <a:pt x="54" y="368"/>
                  </a:lnTo>
                  <a:lnTo>
                    <a:pt x="42" y="348"/>
                  </a:lnTo>
                  <a:lnTo>
                    <a:pt x="42" y="348"/>
                  </a:lnTo>
                  <a:lnTo>
                    <a:pt x="20" y="308"/>
                  </a:lnTo>
                  <a:lnTo>
                    <a:pt x="20" y="308"/>
                  </a:lnTo>
                  <a:lnTo>
                    <a:pt x="12" y="286"/>
                  </a:lnTo>
                  <a:lnTo>
                    <a:pt x="6" y="264"/>
                  </a:lnTo>
                  <a:lnTo>
                    <a:pt x="2" y="24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2" y="198"/>
                  </a:lnTo>
                  <a:lnTo>
                    <a:pt x="4" y="178"/>
                  </a:lnTo>
                  <a:lnTo>
                    <a:pt x="8" y="15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20" y="116"/>
                  </a:lnTo>
                  <a:lnTo>
                    <a:pt x="30" y="96"/>
                  </a:lnTo>
                  <a:lnTo>
                    <a:pt x="38" y="7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62" y="44"/>
                  </a:lnTo>
                  <a:lnTo>
                    <a:pt x="74" y="30"/>
                  </a:lnTo>
                  <a:lnTo>
                    <a:pt x="88" y="18"/>
                  </a:lnTo>
                  <a:lnTo>
                    <a:pt x="102" y="6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9210600" y="2203560"/>
              <a:ext cx="1063800" cy="87624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70" h="552">
                  <a:moveTo>
                    <a:pt x="586" y="122"/>
                  </a:moveTo>
                  <a:lnTo>
                    <a:pt x="586" y="122"/>
                  </a:lnTo>
                  <a:lnTo>
                    <a:pt x="596" y="128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616" y="146"/>
                  </a:lnTo>
                  <a:lnTo>
                    <a:pt x="624" y="156"/>
                  </a:lnTo>
                  <a:lnTo>
                    <a:pt x="624" y="156"/>
                  </a:lnTo>
                  <a:lnTo>
                    <a:pt x="632" y="168"/>
                  </a:lnTo>
                  <a:lnTo>
                    <a:pt x="636" y="180"/>
                  </a:lnTo>
                  <a:lnTo>
                    <a:pt x="636" y="180"/>
                  </a:lnTo>
                  <a:lnTo>
                    <a:pt x="638" y="190"/>
                  </a:lnTo>
                  <a:lnTo>
                    <a:pt x="636" y="202"/>
                  </a:lnTo>
                  <a:lnTo>
                    <a:pt x="636" y="202"/>
                  </a:lnTo>
                  <a:lnTo>
                    <a:pt x="648" y="240"/>
                  </a:lnTo>
                  <a:lnTo>
                    <a:pt x="660" y="280"/>
                  </a:lnTo>
                  <a:lnTo>
                    <a:pt x="660" y="280"/>
                  </a:lnTo>
                  <a:lnTo>
                    <a:pt x="666" y="318"/>
                  </a:lnTo>
                  <a:lnTo>
                    <a:pt x="670" y="356"/>
                  </a:lnTo>
                  <a:lnTo>
                    <a:pt x="670" y="356"/>
                  </a:lnTo>
                  <a:lnTo>
                    <a:pt x="670" y="374"/>
                  </a:lnTo>
                  <a:lnTo>
                    <a:pt x="670" y="392"/>
                  </a:lnTo>
                  <a:lnTo>
                    <a:pt x="666" y="410"/>
                  </a:lnTo>
                  <a:lnTo>
                    <a:pt x="664" y="426"/>
                  </a:lnTo>
                  <a:lnTo>
                    <a:pt x="664" y="426"/>
                  </a:lnTo>
                  <a:lnTo>
                    <a:pt x="658" y="444"/>
                  </a:lnTo>
                  <a:lnTo>
                    <a:pt x="652" y="460"/>
                  </a:lnTo>
                  <a:lnTo>
                    <a:pt x="644" y="474"/>
                  </a:lnTo>
                  <a:lnTo>
                    <a:pt x="634" y="490"/>
                  </a:lnTo>
                  <a:lnTo>
                    <a:pt x="634" y="490"/>
                  </a:lnTo>
                  <a:lnTo>
                    <a:pt x="624" y="500"/>
                  </a:lnTo>
                  <a:lnTo>
                    <a:pt x="614" y="510"/>
                  </a:lnTo>
                  <a:lnTo>
                    <a:pt x="602" y="518"/>
                  </a:lnTo>
                  <a:lnTo>
                    <a:pt x="590" y="526"/>
                  </a:lnTo>
                  <a:lnTo>
                    <a:pt x="590" y="526"/>
                  </a:lnTo>
                  <a:lnTo>
                    <a:pt x="564" y="540"/>
                  </a:lnTo>
                  <a:lnTo>
                    <a:pt x="536" y="548"/>
                  </a:lnTo>
                  <a:lnTo>
                    <a:pt x="536" y="548"/>
                  </a:lnTo>
                  <a:lnTo>
                    <a:pt x="510" y="552"/>
                  </a:lnTo>
                  <a:lnTo>
                    <a:pt x="484" y="552"/>
                  </a:lnTo>
                  <a:lnTo>
                    <a:pt x="458" y="550"/>
                  </a:lnTo>
                  <a:lnTo>
                    <a:pt x="432" y="546"/>
                  </a:lnTo>
                  <a:lnTo>
                    <a:pt x="432" y="546"/>
                  </a:lnTo>
                  <a:lnTo>
                    <a:pt x="408" y="538"/>
                  </a:lnTo>
                  <a:lnTo>
                    <a:pt x="384" y="526"/>
                  </a:lnTo>
                  <a:lnTo>
                    <a:pt x="360" y="514"/>
                  </a:lnTo>
                  <a:lnTo>
                    <a:pt x="338" y="500"/>
                  </a:lnTo>
                  <a:lnTo>
                    <a:pt x="338" y="500"/>
                  </a:lnTo>
                  <a:lnTo>
                    <a:pt x="316" y="482"/>
                  </a:lnTo>
                  <a:lnTo>
                    <a:pt x="296" y="464"/>
                  </a:lnTo>
                  <a:lnTo>
                    <a:pt x="278" y="442"/>
                  </a:lnTo>
                  <a:lnTo>
                    <a:pt x="260" y="420"/>
                  </a:lnTo>
                  <a:lnTo>
                    <a:pt x="260" y="420"/>
                  </a:lnTo>
                  <a:lnTo>
                    <a:pt x="244" y="396"/>
                  </a:lnTo>
                  <a:lnTo>
                    <a:pt x="232" y="370"/>
                  </a:lnTo>
                  <a:lnTo>
                    <a:pt x="220" y="344"/>
                  </a:lnTo>
                  <a:lnTo>
                    <a:pt x="212" y="316"/>
                  </a:lnTo>
                  <a:lnTo>
                    <a:pt x="212" y="316"/>
                  </a:lnTo>
                  <a:lnTo>
                    <a:pt x="206" y="294"/>
                  </a:lnTo>
                  <a:lnTo>
                    <a:pt x="202" y="272"/>
                  </a:lnTo>
                  <a:lnTo>
                    <a:pt x="200" y="252"/>
                  </a:lnTo>
                  <a:lnTo>
                    <a:pt x="200" y="230"/>
                  </a:lnTo>
                  <a:lnTo>
                    <a:pt x="200" y="230"/>
                  </a:lnTo>
                  <a:lnTo>
                    <a:pt x="202" y="190"/>
                  </a:lnTo>
                  <a:lnTo>
                    <a:pt x="206" y="150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68" y="120"/>
                  </a:lnTo>
                  <a:lnTo>
                    <a:pt x="68" y="120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34" y="10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16" y="90"/>
                  </a:lnTo>
                  <a:lnTo>
                    <a:pt x="10" y="82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38" y="34"/>
                  </a:lnTo>
                  <a:lnTo>
                    <a:pt x="244" y="28"/>
                  </a:lnTo>
                  <a:lnTo>
                    <a:pt x="250" y="22"/>
                  </a:lnTo>
                  <a:lnTo>
                    <a:pt x="256" y="20"/>
                  </a:lnTo>
                  <a:lnTo>
                    <a:pt x="256" y="20"/>
                  </a:lnTo>
                  <a:lnTo>
                    <a:pt x="270" y="16"/>
                  </a:lnTo>
                  <a:lnTo>
                    <a:pt x="286" y="18"/>
                  </a:lnTo>
                  <a:lnTo>
                    <a:pt x="286" y="18"/>
                  </a:lnTo>
                  <a:lnTo>
                    <a:pt x="300" y="24"/>
                  </a:lnTo>
                  <a:lnTo>
                    <a:pt x="314" y="34"/>
                  </a:lnTo>
                  <a:lnTo>
                    <a:pt x="314" y="34"/>
                  </a:lnTo>
                  <a:lnTo>
                    <a:pt x="326" y="48"/>
                  </a:lnTo>
                  <a:lnTo>
                    <a:pt x="336" y="64"/>
                  </a:lnTo>
                  <a:lnTo>
                    <a:pt x="580" y="120"/>
                  </a:lnTo>
                  <a:lnTo>
                    <a:pt x="586" y="122"/>
                  </a:lnTo>
                  <a:close/>
                  <a:moveTo>
                    <a:pt x="544" y="392"/>
                  </a:moveTo>
                  <a:lnTo>
                    <a:pt x="544" y="392"/>
                  </a:lnTo>
                  <a:lnTo>
                    <a:pt x="550" y="372"/>
                  </a:lnTo>
                  <a:lnTo>
                    <a:pt x="554" y="352"/>
                  </a:lnTo>
                  <a:lnTo>
                    <a:pt x="556" y="332"/>
                  </a:lnTo>
                  <a:lnTo>
                    <a:pt x="554" y="312"/>
                  </a:lnTo>
                  <a:lnTo>
                    <a:pt x="554" y="312"/>
                  </a:lnTo>
                  <a:lnTo>
                    <a:pt x="550" y="290"/>
                  </a:lnTo>
                  <a:lnTo>
                    <a:pt x="544" y="268"/>
                  </a:lnTo>
                  <a:lnTo>
                    <a:pt x="538" y="246"/>
                  </a:lnTo>
                  <a:lnTo>
                    <a:pt x="528" y="224"/>
                  </a:lnTo>
                  <a:lnTo>
                    <a:pt x="320" y="176"/>
                  </a:lnTo>
                  <a:lnTo>
                    <a:pt x="320" y="176"/>
                  </a:lnTo>
                  <a:lnTo>
                    <a:pt x="318" y="198"/>
                  </a:lnTo>
                  <a:lnTo>
                    <a:pt x="316" y="222"/>
                  </a:lnTo>
                  <a:lnTo>
                    <a:pt x="316" y="244"/>
                  </a:lnTo>
                  <a:lnTo>
                    <a:pt x="316" y="268"/>
                  </a:lnTo>
                  <a:lnTo>
                    <a:pt x="316" y="268"/>
                  </a:lnTo>
                  <a:lnTo>
                    <a:pt x="320" y="292"/>
                  </a:lnTo>
                  <a:lnTo>
                    <a:pt x="326" y="314"/>
                  </a:lnTo>
                  <a:lnTo>
                    <a:pt x="334" y="338"/>
                  </a:lnTo>
                  <a:lnTo>
                    <a:pt x="346" y="360"/>
                  </a:lnTo>
                  <a:lnTo>
                    <a:pt x="346" y="360"/>
                  </a:lnTo>
                  <a:lnTo>
                    <a:pt x="354" y="376"/>
                  </a:lnTo>
                  <a:lnTo>
                    <a:pt x="366" y="388"/>
                  </a:lnTo>
                  <a:lnTo>
                    <a:pt x="378" y="400"/>
                  </a:lnTo>
                  <a:lnTo>
                    <a:pt x="392" y="410"/>
                  </a:lnTo>
                  <a:lnTo>
                    <a:pt x="392" y="410"/>
                  </a:lnTo>
                  <a:lnTo>
                    <a:pt x="406" y="416"/>
                  </a:lnTo>
                  <a:lnTo>
                    <a:pt x="420" y="422"/>
                  </a:lnTo>
                  <a:lnTo>
                    <a:pt x="434" y="428"/>
                  </a:lnTo>
                  <a:lnTo>
                    <a:pt x="448" y="430"/>
                  </a:lnTo>
                  <a:lnTo>
                    <a:pt x="448" y="430"/>
                  </a:lnTo>
                  <a:lnTo>
                    <a:pt x="462" y="432"/>
                  </a:lnTo>
                  <a:lnTo>
                    <a:pt x="476" y="430"/>
                  </a:lnTo>
                  <a:lnTo>
                    <a:pt x="490" y="428"/>
                  </a:lnTo>
                  <a:lnTo>
                    <a:pt x="502" y="424"/>
                  </a:lnTo>
                  <a:lnTo>
                    <a:pt x="502" y="424"/>
                  </a:lnTo>
                  <a:lnTo>
                    <a:pt x="516" y="418"/>
                  </a:lnTo>
                  <a:lnTo>
                    <a:pt x="526" y="410"/>
                  </a:lnTo>
                  <a:lnTo>
                    <a:pt x="536" y="402"/>
                  </a:lnTo>
                  <a:lnTo>
                    <a:pt x="544" y="392"/>
                  </a:lnTo>
                  <a:lnTo>
                    <a:pt x="544" y="39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9226440" y="3038400"/>
              <a:ext cx="1060560" cy="8604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668" h="542">
                  <a:moveTo>
                    <a:pt x="62" y="118"/>
                  </a:moveTo>
                  <a:lnTo>
                    <a:pt x="62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0" y="9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10" y="68"/>
                  </a:lnTo>
                  <a:lnTo>
                    <a:pt x="6" y="5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154" y="24"/>
                  </a:lnTo>
                  <a:lnTo>
                    <a:pt x="270" y="48"/>
                  </a:lnTo>
                  <a:lnTo>
                    <a:pt x="270" y="48"/>
                  </a:lnTo>
                  <a:lnTo>
                    <a:pt x="504" y="104"/>
                  </a:lnTo>
                  <a:lnTo>
                    <a:pt x="504" y="104"/>
                  </a:lnTo>
                  <a:lnTo>
                    <a:pt x="512" y="92"/>
                  </a:lnTo>
                  <a:lnTo>
                    <a:pt x="516" y="88"/>
                  </a:lnTo>
                  <a:lnTo>
                    <a:pt x="522" y="84"/>
                  </a:lnTo>
                  <a:lnTo>
                    <a:pt x="522" y="84"/>
                  </a:lnTo>
                  <a:lnTo>
                    <a:pt x="534" y="80"/>
                  </a:lnTo>
                  <a:lnTo>
                    <a:pt x="548" y="80"/>
                  </a:lnTo>
                  <a:lnTo>
                    <a:pt x="548" y="80"/>
                  </a:lnTo>
                  <a:lnTo>
                    <a:pt x="562" y="84"/>
                  </a:lnTo>
                  <a:lnTo>
                    <a:pt x="576" y="90"/>
                  </a:lnTo>
                  <a:lnTo>
                    <a:pt x="576" y="90"/>
                  </a:lnTo>
                  <a:lnTo>
                    <a:pt x="588" y="100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12" y="126"/>
                  </a:lnTo>
                  <a:lnTo>
                    <a:pt x="622" y="144"/>
                  </a:lnTo>
                  <a:lnTo>
                    <a:pt x="622" y="144"/>
                  </a:lnTo>
                  <a:lnTo>
                    <a:pt x="630" y="166"/>
                  </a:lnTo>
                  <a:lnTo>
                    <a:pt x="640" y="188"/>
                  </a:lnTo>
                  <a:lnTo>
                    <a:pt x="640" y="188"/>
                  </a:lnTo>
                  <a:lnTo>
                    <a:pt x="652" y="234"/>
                  </a:lnTo>
                  <a:lnTo>
                    <a:pt x="652" y="234"/>
                  </a:lnTo>
                  <a:lnTo>
                    <a:pt x="662" y="272"/>
                  </a:lnTo>
                  <a:lnTo>
                    <a:pt x="662" y="272"/>
                  </a:lnTo>
                  <a:lnTo>
                    <a:pt x="666" y="302"/>
                  </a:lnTo>
                  <a:lnTo>
                    <a:pt x="668" y="334"/>
                  </a:lnTo>
                  <a:lnTo>
                    <a:pt x="666" y="364"/>
                  </a:lnTo>
                  <a:lnTo>
                    <a:pt x="662" y="392"/>
                  </a:lnTo>
                  <a:lnTo>
                    <a:pt x="662" y="392"/>
                  </a:lnTo>
                  <a:lnTo>
                    <a:pt x="654" y="420"/>
                  </a:lnTo>
                  <a:lnTo>
                    <a:pt x="642" y="446"/>
                  </a:lnTo>
                  <a:lnTo>
                    <a:pt x="630" y="470"/>
                  </a:lnTo>
                  <a:lnTo>
                    <a:pt x="614" y="490"/>
                  </a:lnTo>
                  <a:lnTo>
                    <a:pt x="614" y="490"/>
                  </a:lnTo>
                  <a:lnTo>
                    <a:pt x="596" y="508"/>
                  </a:lnTo>
                  <a:lnTo>
                    <a:pt x="576" y="522"/>
                  </a:lnTo>
                  <a:lnTo>
                    <a:pt x="554" y="532"/>
                  </a:lnTo>
                  <a:lnTo>
                    <a:pt x="528" y="538"/>
                  </a:lnTo>
                  <a:lnTo>
                    <a:pt x="528" y="538"/>
                  </a:lnTo>
                  <a:lnTo>
                    <a:pt x="514" y="540"/>
                  </a:lnTo>
                  <a:lnTo>
                    <a:pt x="500" y="542"/>
                  </a:lnTo>
                  <a:lnTo>
                    <a:pt x="486" y="540"/>
                  </a:lnTo>
                  <a:lnTo>
                    <a:pt x="470" y="538"/>
                  </a:lnTo>
                  <a:lnTo>
                    <a:pt x="454" y="534"/>
                  </a:lnTo>
                  <a:lnTo>
                    <a:pt x="438" y="530"/>
                  </a:lnTo>
                  <a:lnTo>
                    <a:pt x="406" y="516"/>
                  </a:lnTo>
                  <a:lnTo>
                    <a:pt x="406" y="516"/>
                  </a:lnTo>
                  <a:lnTo>
                    <a:pt x="386" y="504"/>
                  </a:lnTo>
                  <a:lnTo>
                    <a:pt x="366" y="492"/>
                  </a:lnTo>
                  <a:lnTo>
                    <a:pt x="366" y="492"/>
                  </a:lnTo>
                  <a:lnTo>
                    <a:pt x="348" y="478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08" y="440"/>
                  </a:lnTo>
                  <a:lnTo>
                    <a:pt x="288" y="416"/>
                  </a:lnTo>
                  <a:lnTo>
                    <a:pt x="288" y="416"/>
                  </a:lnTo>
                  <a:lnTo>
                    <a:pt x="270" y="388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32" y="372"/>
                  </a:lnTo>
                  <a:lnTo>
                    <a:pt x="212" y="384"/>
                  </a:lnTo>
                  <a:lnTo>
                    <a:pt x="212" y="384"/>
                  </a:lnTo>
                  <a:lnTo>
                    <a:pt x="192" y="398"/>
                  </a:lnTo>
                  <a:lnTo>
                    <a:pt x="174" y="412"/>
                  </a:lnTo>
                  <a:lnTo>
                    <a:pt x="174" y="412"/>
                  </a:lnTo>
                  <a:lnTo>
                    <a:pt x="152" y="430"/>
                  </a:lnTo>
                  <a:lnTo>
                    <a:pt x="152" y="430"/>
                  </a:lnTo>
                  <a:lnTo>
                    <a:pt x="122" y="452"/>
                  </a:lnTo>
                  <a:lnTo>
                    <a:pt x="122" y="452"/>
                  </a:lnTo>
                  <a:lnTo>
                    <a:pt x="106" y="460"/>
                  </a:lnTo>
                  <a:lnTo>
                    <a:pt x="90" y="468"/>
                  </a:lnTo>
                  <a:lnTo>
                    <a:pt x="90" y="468"/>
                  </a:lnTo>
                  <a:lnTo>
                    <a:pt x="76" y="472"/>
                  </a:lnTo>
                  <a:lnTo>
                    <a:pt x="70" y="474"/>
                  </a:lnTo>
                  <a:lnTo>
                    <a:pt x="64" y="472"/>
                  </a:lnTo>
                  <a:lnTo>
                    <a:pt x="64" y="472"/>
                  </a:lnTo>
                  <a:lnTo>
                    <a:pt x="46" y="466"/>
                  </a:lnTo>
                  <a:lnTo>
                    <a:pt x="30" y="454"/>
                  </a:lnTo>
                  <a:lnTo>
                    <a:pt x="30" y="454"/>
                  </a:lnTo>
                  <a:lnTo>
                    <a:pt x="18" y="442"/>
                  </a:lnTo>
                  <a:lnTo>
                    <a:pt x="8" y="428"/>
                  </a:lnTo>
                  <a:lnTo>
                    <a:pt x="8" y="428"/>
                  </a:lnTo>
                  <a:lnTo>
                    <a:pt x="2" y="412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2" y="382"/>
                  </a:lnTo>
                  <a:lnTo>
                    <a:pt x="6" y="376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24" y="356"/>
                  </a:lnTo>
                  <a:lnTo>
                    <a:pt x="42" y="344"/>
                  </a:lnTo>
                  <a:lnTo>
                    <a:pt x="42" y="344"/>
                  </a:lnTo>
                  <a:lnTo>
                    <a:pt x="76" y="322"/>
                  </a:lnTo>
                  <a:lnTo>
                    <a:pt x="76" y="322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212" y="230"/>
                  </a:lnTo>
                  <a:lnTo>
                    <a:pt x="212" y="23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4" y="150"/>
                  </a:lnTo>
                  <a:lnTo>
                    <a:pt x="68" y="120"/>
                  </a:lnTo>
                  <a:lnTo>
                    <a:pt x="62" y="118"/>
                  </a:lnTo>
                  <a:close/>
                  <a:moveTo>
                    <a:pt x="524" y="396"/>
                  </a:moveTo>
                  <a:lnTo>
                    <a:pt x="524" y="396"/>
                  </a:lnTo>
                  <a:lnTo>
                    <a:pt x="534" y="378"/>
                  </a:lnTo>
                  <a:lnTo>
                    <a:pt x="542" y="360"/>
                  </a:lnTo>
                  <a:lnTo>
                    <a:pt x="548" y="340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0" y="296"/>
                  </a:lnTo>
                  <a:lnTo>
                    <a:pt x="548" y="272"/>
                  </a:lnTo>
                  <a:lnTo>
                    <a:pt x="544" y="250"/>
                  </a:lnTo>
                  <a:lnTo>
                    <a:pt x="538" y="228"/>
                  </a:lnTo>
                  <a:lnTo>
                    <a:pt x="322" y="178"/>
                  </a:lnTo>
                  <a:lnTo>
                    <a:pt x="322" y="178"/>
                  </a:lnTo>
                  <a:lnTo>
                    <a:pt x="326" y="222"/>
                  </a:lnTo>
                  <a:lnTo>
                    <a:pt x="332" y="264"/>
                  </a:lnTo>
                  <a:lnTo>
                    <a:pt x="332" y="264"/>
                  </a:lnTo>
                  <a:lnTo>
                    <a:pt x="338" y="286"/>
                  </a:lnTo>
                  <a:lnTo>
                    <a:pt x="346" y="308"/>
                  </a:lnTo>
                  <a:lnTo>
                    <a:pt x="356" y="330"/>
                  </a:lnTo>
                  <a:lnTo>
                    <a:pt x="368" y="350"/>
                  </a:lnTo>
                  <a:lnTo>
                    <a:pt x="368" y="350"/>
                  </a:lnTo>
                  <a:lnTo>
                    <a:pt x="386" y="372"/>
                  </a:lnTo>
                  <a:lnTo>
                    <a:pt x="404" y="390"/>
                  </a:lnTo>
                  <a:lnTo>
                    <a:pt x="404" y="390"/>
                  </a:lnTo>
                  <a:lnTo>
                    <a:pt x="426" y="404"/>
                  </a:lnTo>
                  <a:lnTo>
                    <a:pt x="446" y="414"/>
                  </a:lnTo>
                  <a:lnTo>
                    <a:pt x="446" y="414"/>
                  </a:lnTo>
                  <a:lnTo>
                    <a:pt x="458" y="416"/>
                  </a:lnTo>
                  <a:lnTo>
                    <a:pt x="468" y="418"/>
                  </a:lnTo>
                  <a:lnTo>
                    <a:pt x="478" y="418"/>
                  </a:lnTo>
                  <a:lnTo>
                    <a:pt x="488" y="418"/>
                  </a:lnTo>
                  <a:lnTo>
                    <a:pt x="488" y="418"/>
                  </a:lnTo>
                  <a:lnTo>
                    <a:pt x="498" y="414"/>
                  </a:lnTo>
                  <a:lnTo>
                    <a:pt x="508" y="410"/>
                  </a:lnTo>
                  <a:lnTo>
                    <a:pt x="516" y="404"/>
                  </a:lnTo>
                  <a:lnTo>
                    <a:pt x="524" y="396"/>
                  </a:lnTo>
                  <a:lnTo>
                    <a:pt x="524" y="39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9254880" y="3924360"/>
              <a:ext cx="978120" cy="67608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616" h="426">
                  <a:moveTo>
                    <a:pt x="120" y="264"/>
                  </a:moveTo>
                  <a:lnTo>
                    <a:pt x="120" y="264"/>
                  </a:lnTo>
                  <a:lnTo>
                    <a:pt x="118" y="276"/>
                  </a:lnTo>
                  <a:lnTo>
                    <a:pt x="116" y="286"/>
                  </a:lnTo>
                  <a:lnTo>
                    <a:pt x="112" y="294"/>
                  </a:lnTo>
                  <a:lnTo>
                    <a:pt x="106" y="302"/>
                  </a:lnTo>
                  <a:lnTo>
                    <a:pt x="106" y="302"/>
                  </a:lnTo>
                  <a:lnTo>
                    <a:pt x="98" y="308"/>
                  </a:lnTo>
                  <a:lnTo>
                    <a:pt x="90" y="312"/>
                  </a:lnTo>
                  <a:lnTo>
                    <a:pt x="82" y="314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64" y="316"/>
                  </a:lnTo>
                  <a:lnTo>
                    <a:pt x="56" y="314"/>
                  </a:lnTo>
                  <a:lnTo>
                    <a:pt x="46" y="310"/>
                  </a:lnTo>
                  <a:lnTo>
                    <a:pt x="38" y="304"/>
                  </a:lnTo>
                  <a:lnTo>
                    <a:pt x="38" y="304"/>
                  </a:lnTo>
                  <a:lnTo>
                    <a:pt x="30" y="298"/>
                  </a:lnTo>
                  <a:lnTo>
                    <a:pt x="22" y="290"/>
                  </a:lnTo>
                  <a:lnTo>
                    <a:pt x="16" y="278"/>
                  </a:lnTo>
                  <a:lnTo>
                    <a:pt x="10" y="266"/>
                  </a:lnTo>
                  <a:lnTo>
                    <a:pt x="10" y="266"/>
                  </a:lnTo>
                  <a:lnTo>
                    <a:pt x="4" y="246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4" y="104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10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82" y="10"/>
                  </a:lnTo>
                  <a:lnTo>
                    <a:pt x="90" y="14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10" y="38"/>
                  </a:lnTo>
                  <a:lnTo>
                    <a:pt x="116" y="48"/>
                  </a:lnTo>
                  <a:lnTo>
                    <a:pt x="118" y="58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2" y="92"/>
                  </a:lnTo>
                  <a:lnTo>
                    <a:pt x="120" y="112"/>
                  </a:lnTo>
                  <a:lnTo>
                    <a:pt x="500" y="200"/>
                  </a:lnTo>
                  <a:lnTo>
                    <a:pt x="500" y="200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500" y="150"/>
                  </a:lnTo>
                  <a:lnTo>
                    <a:pt x="504" y="142"/>
                  </a:lnTo>
                  <a:lnTo>
                    <a:pt x="508" y="132"/>
                  </a:lnTo>
                  <a:lnTo>
                    <a:pt x="514" y="124"/>
                  </a:lnTo>
                  <a:lnTo>
                    <a:pt x="514" y="124"/>
                  </a:lnTo>
                  <a:lnTo>
                    <a:pt x="518" y="120"/>
                  </a:lnTo>
                  <a:lnTo>
                    <a:pt x="524" y="114"/>
                  </a:lnTo>
                  <a:lnTo>
                    <a:pt x="532" y="112"/>
                  </a:lnTo>
                  <a:lnTo>
                    <a:pt x="538" y="110"/>
                  </a:lnTo>
                  <a:lnTo>
                    <a:pt x="538" y="110"/>
                  </a:lnTo>
                  <a:lnTo>
                    <a:pt x="552" y="112"/>
                  </a:lnTo>
                  <a:lnTo>
                    <a:pt x="566" y="116"/>
                  </a:lnTo>
                  <a:lnTo>
                    <a:pt x="566" y="116"/>
                  </a:lnTo>
                  <a:lnTo>
                    <a:pt x="580" y="124"/>
                  </a:lnTo>
                  <a:lnTo>
                    <a:pt x="592" y="134"/>
                  </a:lnTo>
                  <a:lnTo>
                    <a:pt x="592" y="134"/>
                  </a:lnTo>
                  <a:lnTo>
                    <a:pt x="602" y="148"/>
                  </a:lnTo>
                  <a:lnTo>
                    <a:pt x="610" y="162"/>
                  </a:lnTo>
                  <a:lnTo>
                    <a:pt x="610" y="162"/>
                  </a:lnTo>
                  <a:lnTo>
                    <a:pt x="614" y="178"/>
                  </a:lnTo>
                  <a:lnTo>
                    <a:pt x="616" y="192"/>
                  </a:lnTo>
                  <a:lnTo>
                    <a:pt x="616" y="192"/>
                  </a:lnTo>
                  <a:lnTo>
                    <a:pt x="616" y="290"/>
                  </a:lnTo>
                  <a:lnTo>
                    <a:pt x="616" y="290"/>
                  </a:lnTo>
                  <a:lnTo>
                    <a:pt x="616" y="390"/>
                  </a:lnTo>
                  <a:lnTo>
                    <a:pt x="616" y="390"/>
                  </a:lnTo>
                  <a:lnTo>
                    <a:pt x="616" y="394"/>
                  </a:lnTo>
                  <a:lnTo>
                    <a:pt x="612" y="398"/>
                  </a:lnTo>
                  <a:lnTo>
                    <a:pt x="612" y="398"/>
                  </a:lnTo>
                  <a:lnTo>
                    <a:pt x="608" y="406"/>
                  </a:lnTo>
                  <a:lnTo>
                    <a:pt x="608" y="406"/>
                  </a:lnTo>
                  <a:lnTo>
                    <a:pt x="602" y="414"/>
                  </a:lnTo>
                  <a:lnTo>
                    <a:pt x="594" y="420"/>
                  </a:lnTo>
                  <a:lnTo>
                    <a:pt x="584" y="424"/>
                  </a:lnTo>
                  <a:lnTo>
                    <a:pt x="572" y="426"/>
                  </a:lnTo>
                  <a:lnTo>
                    <a:pt x="572" y="426"/>
                  </a:lnTo>
                  <a:lnTo>
                    <a:pt x="562" y="426"/>
                  </a:lnTo>
                  <a:lnTo>
                    <a:pt x="550" y="424"/>
                  </a:lnTo>
                  <a:lnTo>
                    <a:pt x="538" y="418"/>
                  </a:lnTo>
                  <a:lnTo>
                    <a:pt x="528" y="410"/>
                  </a:lnTo>
                  <a:lnTo>
                    <a:pt x="528" y="410"/>
                  </a:lnTo>
                  <a:lnTo>
                    <a:pt x="518" y="400"/>
                  </a:lnTo>
                  <a:lnTo>
                    <a:pt x="510" y="390"/>
                  </a:lnTo>
                  <a:lnTo>
                    <a:pt x="510" y="390"/>
                  </a:lnTo>
                  <a:lnTo>
                    <a:pt x="504" y="378"/>
                  </a:lnTo>
                  <a:lnTo>
                    <a:pt x="502" y="366"/>
                  </a:lnTo>
                  <a:lnTo>
                    <a:pt x="502" y="366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500" y="318"/>
                  </a:lnTo>
                  <a:lnTo>
                    <a:pt x="118" y="230"/>
                  </a:lnTo>
                  <a:lnTo>
                    <a:pt x="118" y="230"/>
                  </a:lnTo>
                  <a:lnTo>
                    <a:pt x="118" y="244"/>
                  </a:lnTo>
                  <a:lnTo>
                    <a:pt x="118" y="244"/>
                  </a:lnTo>
                  <a:lnTo>
                    <a:pt x="120" y="258"/>
                  </a:lnTo>
                  <a:lnTo>
                    <a:pt x="120" y="26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9223200" y="4537080"/>
              <a:ext cx="1041480" cy="1015920"/>
            </a:xfrm>
            <a:custGeom>
              <a:avLst/>
              <a:gdLst>
                <a:gd name="textAreaLeft" fmla="*/ 0 w 1041480"/>
                <a:gd name="textAreaRight" fmla="*/ 1041480 w 104148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656" h="640">
                  <a:moveTo>
                    <a:pt x="608" y="524"/>
                  </a:moveTo>
                  <a:lnTo>
                    <a:pt x="608" y="524"/>
                  </a:lnTo>
                  <a:lnTo>
                    <a:pt x="624" y="536"/>
                  </a:lnTo>
                  <a:lnTo>
                    <a:pt x="638" y="550"/>
                  </a:lnTo>
                  <a:lnTo>
                    <a:pt x="638" y="550"/>
                  </a:lnTo>
                  <a:lnTo>
                    <a:pt x="648" y="566"/>
                  </a:lnTo>
                  <a:lnTo>
                    <a:pt x="654" y="582"/>
                  </a:lnTo>
                  <a:lnTo>
                    <a:pt x="654" y="582"/>
                  </a:lnTo>
                  <a:lnTo>
                    <a:pt x="656" y="598"/>
                  </a:lnTo>
                  <a:lnTo>
                    <a:pt x="656" y="604"/>
                  </a:lnTo>
                  <a:lnTo>
                    <a:pt x="652" y="612"/>
                  </a:lnTo>
                  <a:lnTo>
                    <a:pt x="652" y="612"/>
                  </a:lnTo>
                  <a:lnTo>
                    <a:pt x="650" y="618"/>
                  </a:lnTo>
                  <a:lnTo>
                    <a:pt x="644" y="624"/>
                  </a:lnTo>
                  <a:lnTo>
                    <a:pt x="638" y="630"/>
                  </a:lnTo>
                  <a:lnTo>
                    <a:pt x="630" y="634"/>
                  </a:lnTo>
                  <a:lnTo>
                    <a:pt x="630" y="634"/>
                  </a:lnTo>
                  <a:lnTo>
                    <a:pt x="618" y="638"/>
                  </a:lnTo>
                  <a:lnTo>
                    <a:pt x="618" y="638"/>
                  </a:lnTo>
                  <a:lnTo>
                    <a:pt x="612" y="640"/>
                  </a:lnTo>
                  <a:lnTo>
                    <a:pt x="606" y="640"/>
                  </a:lnTo>
                  <a:lnTo>
                    <a:pt x="606" y="640"/>
                  </a:lnTo>
                  <a:lnTo>
                    <a:pt x="470" y="608"/>
                  </a:lnTo>
                  <a:lnTo>
                    <a:pt x="332" y="574"/>
                  </a:lnTo>
                  <a:lnTo>
                    <a:pt x="332" y="574"/>
                  </a:lnTo>
                  <a:lnTo>
                    <a:pt x="196" y="538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50" y="498"/>
                  </a:lnTo>
                  <a:lnTo>
                    <a:pt x="40" y="492"/>
                  </a:lnTo>
                  <a:lnTo>
                    <a:pt x="32" y="486"/>
                  </a:lnTo>
                  <a:lnTo>
                    <a:pt x="26" y="478"/>
                  </a:lnTo>
                  <a:lnTo>
                    <a:pt x="26" y="478"/>
                  </a:lnTo>
                  <a:lnTo>
                    <a:pt x="16" y="462"/>
                  </a:lnTo>
                  <a:lnTo>
                    <a:pt x="10" y="444"/>
                  </a:lnTo>
                  <a:lnTo>
                    <a:pt x="10" y="444"/>
                  </a:lnTo>
                  <a:lnTo>
                    <a:pt x="8" y="434"/>
                  </a:lnTo>
                  <a:lnTo>
                    <a:pt x="8" y="426"/>
                  </a:lnTo>
                  <a:lnTo>
                    <a:pt x="10" y="416"/>
                  </a:lnTo>
                  <a:lnTo>
                    <a:pt x="14" y="408"/>
                  </a:lnTo>
                  <a:lnTo>
                    <a:pt x="14" y="408"/>
                  </a:lnTo>
                  <a:lnTo>
                    <a:pt x="18" y="400"/>
                  </a:lnTo>
                  <a:lnTo>
                    <a:pt x="24" y="394"/>
                  </a:lnTo>
                  <a:lnTo>
                    <a:pt x="30" y="390"/>
                  </a:lnTo>
                  <a:lnTo>
                    <a:pt x="38" y="388"/>
                  </a:lnTo>
                  <a:lnTo>
                    <a:pt x="38" y="388"/>
                  </a:lnTo>
                  <a:lnTo>
                    <a:pt x="40" y="386"/>
                  </a:lnTo>
                  <a:lnTo>
                    <a:pt x="38" y="386"/>
                  </a:lnTo>
                  <a:lnTo>
                    <a:pt x="38" y="386"/>
                  </a:lnTo>
                  <a:lnTo>
                    <a:pt x="88" y="366"/>
                  </a:lnTo>
                  <a:lnTo>
                    <a:pt x="138" y="346"/>
                  </a:lnTo>
                  <a:lnTo>
                    <a:pt x="186" y="324"/>
                  </a:lnTo>
                  <a:lnTo>
                    <a:pt x="234" y="300"/>
                  </a:lnTo>
                  <a:lnTo>
                    <a:pt x="234" y="300"/>
                  </a:lnTo>
                  <a:lnTo>
                    <a:pt x="328" y="252"/>
                  </a:lnTo>
                  <a:lnTo>
                    <a:pt x="422" y="200"/>
                  </a:lnTo>
                  <a:lnTo>
                    <a:pt x="206" y="150"/>
                  </a:lnTo>
                  <a:lnTo>
                    <a:pt x="206" y="150"/>
                  </a:lnTo>
                  <a:lnTo>
                    <a:pt x="132" y="134"/>
                  </a:lnTo>
                  <a:lnTo>
                    <a:pt x="132" y="134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26" y="96"/>
                  </a:lnTo>
                  <a:lnTo>
                    <a:pt x="16" y="88"/>
                  </a:lnTo>
                  <a:lnTo>
                    <a:pt x="10" y="8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326" y="64"/>
                  </a:lnTo>
                  <a:lnTo>
                    <a:pt x="326" y="64"/>
                  </a:lnTo>
                  <a:lnTo>
                    <a:pt x="400" y="80"/>
                  </a:lnTo>
                  <a:lnTo>
                    <a:pt x="400" y="80"/>
                  </a:lnTo>
                  <a:lnTo>
                    <a:pt x="460" y="94"/>
                  </a:lnTo>
                  <a:lnTo>
                    <a:pt x="460" y="94"/>
                  </a:lnTo>
                  <a:lnTo>
                    <a:pt x="524" y="108"/>
                  </a:lnTo>
                  <a:lnTo>
                    <a:pt x="524" y="108"/>
                  </a:lnTo>
                  <a:lnTo>
                    <a:pt x="588" y="122"/>
                  </a:lnTo>
                  <a:lnTo>
                    <a:pt x="588" y="122"/>
                  </a:lnTo>
                  <a:lnTo>
                    <a:pt x="604" y="128"/>
                  </a:lnTo>
                  <a:lnTo>
                    <a:pt x="616" y="136"/>
                  </a:lnTo>
                  <a:lnTo>
                    <a:pt x="616" y="136"/>
                  </a:lnTo>
                  <a:lnTo>
                    <a:pt x="626" y="148"/>
                  </a:lnTo>
                  <a:lnTo>
                    <a:pt x="634" y="162"/>
                  </a:lnTo>
                  <a:lnTo>
                    <a:pt x="634" y="162"/>
                  </a:lnTo>
                  <a:lnTo>
                    <a:pt x="640" y="176"/>
                  </a:lnTo>
                  <a:lnTo>
                    <a:pt x="642" y="190"/>
                  </a:lnTo>
                  <a:lnTo>
                    <a:pt x="642" y="190"/>
                  </a:lnTo>
                  <a:lnTo>
                    <a:pt x="640" y="204"/>
                  </a:lnTo>
                  <a:lnTo>
                    <a:pt x="638" y="216"/>
                  </a:lnTo>
                  <a:lnTo>
                    <a:pt x="638" y="216"/>
                  </a:lnTo>
                  <a:lnTo>
                    <a:pt x="632" y="228"/>
                  </a:lnTo>
                  <a:lnTo>
                    <a:pt x="622" y="236"/>
                  </a:lnTo>
                  <a:lnTo>
                    <a:pt x="622" y="236"/>
                  </a:lnTo>
                  <a:lnTo>
                    <a:pt x="596" y="254"/>
                  </a:lnTo>
                  <a:lnTo>
                    <a:pt x="596" y="254"/>
                  </a:lnTo>
                  <a:lnTo>
                    <a:pt x="568" y="270"/>
                  </a:lnTo>
                  <a:lnTo>
                    <a:pt x="568" y="270"/>
                  </a:lnTo>
                  <a:lnTo>
                    <a:pt x="546" y="280"/>
                  </a:lnTo>
                  <a:lnTo>
                    <a:pt x="546" y="280"/>
                  </a:lnTo>
                  <a:lnTo>
                    <a:pt x="476" y="322"/>
                  </a:lnTo>
                  <a:lnTo>
                    <a:pt x="476" y="322"/>
                  </a:lnTo>
                  <a:lnTo>
                    <a:pt x="400" y="364"/>
                  </a:lnTo>
                  <a:lnTo>
                    <a:pt x="400" y="364"/>
                  </a:lnTo>
                  <a:lnTo>
                    <a:pt x="328" y="402"/>
                  </a:lnTo>
                  <a:lnTo>
                    <a:pt x="328" y="402"/>
                  </a:lnTo>
                  <a:lnTo>
                    <a:pt x="256" y="436"/>
                  </a:lnTo>
                  <a:lnTo>
                    <a:pt x="256" y="436"/>
                  </a:lnTo>
                  <a:lnTo>
                    <a:pt x="428" y="480"/>
                  </a:lnTo>
                  <a:lnTo>
                    <a:pt x="428" y="480"/>
                  </a:lnTo>
                  <a:lnTo>
                    <a:pt x="602" y="522"/>
                  </a:lnTo>
                  <a:lnTo>
                    <a:pt x="608" y="52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9223200" y="5540400"/>
              <a:ext cx="1025640" cy="89820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646" h="566">
                  <a:moveTo>
                    <a:pt x="380" y="514"/>
                  </a:moveTo>
                  <a:lnTo>
                    <a:pt x="380" y="514"/>
                  </a:lnTo>
                  <a:lnTo>
                    <a:pt x="378" y="522"/>
                  </a:lnTo>
                  <a:lnTo>
                    <a:pt x="372" y="530"/>
                  </a:lnTo>
                  <a:lnTo>
                    <a:pt x="368" y="538"/>
                  </a:lnTo>
                  <a:lnTo>
                    <a:pt x="362" y="542"/>
                  </a:lnTo>
                  <a:lnTo>
                    <a:pt x="362" y="542"/>
                  </a:lnTo>
                  <a:lnTo>
                    <a:pt x="356" y="548"/>
                  </a:lnTo>
                  <a:lnTo>
                    <a:pt x="348" y="550"/>
                  </a:lnTo>
                  <a:lnTo>
                    <a:pt x="340" y="552"/>
                  </a:lnTo>
                  <a:lnTo>
                    <a:pt x="332" y="554"/>
                  </a:lnTo>
                  <a:lnTo>
                    <a:pt x="332" y="554"/>
                  </a:lnTo>
                  <a:lnTo>
                    <a:pt x="326" y="554"/>
                  </a:lnTo>
                  <a:lnTo>
                    <a:pt x="318" y="552"/>
                  </a:lnTo>
                  <a:lnTo>
                    <a:pt x="302" y="544"/>
                  </a:lnTo>
                  <a:lnTo>
                    <a:pt x="302" y="544"/>
                  </a:lnTo>
                  <a:lnTo>
                    <a:pt x="294" y="538"/>
                  </a:lnTo>
                  <a:lnTo>
                    <a:pt x="286" y="532"/>
                  </a:lnTo>
                  <a:lnTo>
                    <a:pt x="280" y="522"/>
                  </a:lnTo>
                  <a:lnTo>
                    <a:pt x="274" y="512"/>
                  </a:lnTo>
                  <a:lnTo>
                    <a:pt x="274" y="512"/>
                  </a:lnTo>
                  <a:lnTo>
                    <a:pt x="266" y="508"/>
                  </a:lnTo>
                  <a:lnTo>
                    <a:pt x="250" y="506"/>
                  </a:lnTo>
                  <a:lnTo>
                    <a:pt x="250" y="506"/>
                  </a:lnTo>
                  <a:lnTo>
                    <a:pt x="202" y="496"/>
                  </a:lnTo>
                  <a:lnTo>
                    <a:pt x="202" y="496"/>
                  </a:lnTo>
                  <a:lnTo>
                    <a:pt x="148" y="482"/>
                  </a:lnTo>
                  <a:lnTo>
                    <a:pt x="148" y="482"/>
                  </a:lnTo>
                  <a:lnTo>
                    <a:pt x="124" y="474"/>
                  </a:lnTo>
                  <a:lnTo>
                    <a:pt x="106" y="464"/>
                  </a:lnTo>
                  <a:lnTo>
                    <a:pt x="106" y="464"/>
                  </a:lnTo>
                  <a:lnTo>
                    <a:pt x="94" y="454"/>
                  </a:lnTo>
                  <a:lnTo>
                    <a:pt x="84" y="442"/>
                  </a:lnTo>
                  <a:lnTo>
                    <a:pt x="84" y="442"/>
                  </a:lnTo>
                  <a:lnTo>
                    <a:pt x="66" y="418"/>
                  </a:lnTo>
                  <a:lnTo>
                    <a:pt x="66" y="418"/>
                  </a:lnTo>
                  <a:lnTo>
                    <a:pt x="52" y="396"/>
                  </a:lnTo>
                  <a:lnTo>
                    <a:pt x="40" y="376"/>
                  </a:lnTo>
                  <a:lnTo>
                    <a:pt x="28" y="354"/>
                  </a:lnTo>
                  <a:lnTo>
                    <a:pt x="20" y="332"/>
                  </a:lnTo>
                  <a:lnTo>
                    <a:pt x="20" y="332"/>
                  </a:lnTo>
                  <a:lnTo>
                    <a:pt x="14" y="310"/>
                  </a:lnTo>
                  <a:lnTo>
                    <a:pt x="8" y="288"/>
                  </a:lnTo>
                  <a:lnTo>
                    <a:pt x="4" y="266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24"/>
                  </a:lnTo>
                  <a:lnTo>
                    <a:pt x="2" y="204"/>
                  </a:lnTo>
                  <a:lnTo>
                    <a:pt x="6" y="182"/>
                  </a:lnTo>
                  <a:lnTo>
                    <a:pt x="10" y="162"/>
                  </a:lnTo>
                  <a:lnTo>
                    <a:pt x="10" y="162"/>
                  </a:lnTo>
                  <a:lnTo>
                    <a:pt x="16" y="144"/>
                  </a:lnTo>
                  <a:lnTo>
                    <a:pt x="24" y="124"/>
                  </a:lnTo>
                  <a:lnTo>
                    <a:pt x="34" y="10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64" y="70"/>
                  </a:lnTo>
                  <a:lnTo>
                    <a:pt x="82" y="52"/>
                  </a:lnTo>
                  <a:lnTo>
                    <a:pt x="104" y="3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54" y="14"/>
                  </a:lnTo>
                  <a:lnTo>
                    <a:pt x="180" y="6"/>
                  </a:lnTo>
                  <a:lnTo>
                    <a:pt x="206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72" y="0"/>
                  </a:lnTo>
                  <a:lnTo>
                    <a:pt x="310" y="6"/>
                  </a:lnTo>
                  <a:lnTo>
                    <a:pt x="310" y="6"/>
                  </a:lnTo>
                  <a:lnTo>
                    <a:pt x="350" y="16"/>
                  </a:lnTo>
                  <a:lnTo>
                    <a:pt x="390" y="30"/>
                  </a:lnTo>
                  <a:lnTo>
                    <a:pt x="390" y="30"/>
                  </a:lnTo>
                  <a:lnTo>
                    <a:pt x="428" y="50"/>
                  </a:lnTo>
                  <a:lnTo>
                    <a:pt x="464" y="72"/>
                  </a:lnTo>
                  <a:lnTo>
                    <a:pt x="464" y="72"/>
                  </a:lnTo>
                  <a:lnTo>
                    <a:pt x="480" y="86"/>
                  </a:lnTo>
                  <a:lnTo>
                    <a:pt x="498" y="100"/>
                  </a:lnTo>
                  <a:lnTo>
                    <a:pt x="512" y="114"/>
                  </a:lnTo>
                  <a:lnTo>
                    <a:pt x="528" y="130"/>
                  </a:lnTo>
                  <a:lnTo>
                    <a:pt x="528" y="130"/>
                  </a:lnTo>
                  <a:lnTo>
                    <a:pt x="544" y="150"/>
                  </a:lnTo>
                  <a:lnTo>
                    <a:pt x="558" y="170"/>
                  </a:lnTo>
                  <a:lnTo>
                    <a:pt x="572" y="192"/>
                  </a:lnTo>
                  <a:lnTo>
                    <a:pt x="584" y="214"/>
                  </a:lnTo>
                  <a:lnTo>
                    <a:pt x="584" y="214"/>
                  </a:lnTo>
                  <a:lnTo>
                    <a:pt x="604" y="258"/>
                  </a:lnTo>
                  <a:lnTo>
                    <a:pt x="622" y="304"/>
                  </a:lnTo>
                  <a:lnTo>
                    <a:pt x="622" y="304"/>
                  </a:lnTo>
                  <a:lnTo>
                    <a:pt x="634" y="340"/>
                  </a:lnTo>
                  <a:lnTo>
                    <a:pt x="642" y="376"/>
                  </a:lnTo>
                  <a:lnTo>
                    <a:pt x="642" y="376"/>
                  </a:lnTo>
                  <a:lnTo>
                    <a:pt x="646" y="412"/>
                  </a:lnTo>
                  <a:lnTo>
                    <a:pt x="646" y="446"/>
                  </a:lnTo>
                  <a:lnTo>
                    <a:pt x="646" y="446"/>
                  </a:lnTo>
                  <a:lnTo>
                    <a:pt x="644" y="474"/>
                  </a:lnTo>
                  <a:lnTo>
                    <a:pt x="638" y="502"/>
                  </a:lnTo>
                  <a:lnTo>
                    <a:pt x="638" y="502"/>
                  </a:lnTo>
                  <a:lnTo>
                    <a:pt x="632" y="516"/>
                  </a:lnTo>
                  <a:lnTo>
                    <a:pt x="628" y="530"/>
                  </a:lnTo>
                  <a:lnTo>
                    <a:pt x="620" y="540"/>
                  </a:lnTo>
                  <a:lnTo>
                    <a:pt x="612" y="550"/>
                  </a:lnTo>
                  <a:lnTo>
                    <a:pt x="612" y="550"/>
                  </a:lnTo>
                  <a:lnTo>
                    <a:pt x="602" y="558"/>
                  </a:lnTo>
                  <a:lnTo>
                    <a:pt x="590" y="562"/>
                  </a:lnTo>
                  <a:lnTo>
                    <a:pt x="590" y="562"/>
                  </a:lnTo>
                  <a:lnTo>
                    <a:pt x="578" y="566"/>
                  </a:lnTo>
                  <a:lnTo>
                    <a:pt x="566" y="566"/>
                  </a:lnTo>
                  <a:lnTo>
                    <a:pt x="566" y="566"/>
                  </a:lnTo>
                  <a:lnTo>
                    <a:pt x="552" y="562"/>
                  </a:lnTo>
                  <a:lnTo>
                    <a:pt x="540" y="556"/>
                  </a:lnTo>
                  <a:lnTo>
                    <a:pt x="540" y="556"/>
                  </a:lnTo>
                  <a:lnTo>
                    <a:pt x="530" y="546"/>
                  </a:lnTo>
                  <a:lnTo>
                    <a:pt x="520" y="534"/>
                  </a:lnTo>
                  <a:lnTo>
                    <a:pt x="520" y="534"/>
                  </a:lnTo>
                  <a:lnTo>
                    <a:pt x="512" y="520"/>
                  </a:lnTo>
                  <a:lnTo>
                    <a:pt x="508" y="506"/>
                  </a:lnTo>
                  <a:lnTo>
                    <a:pt x="508" y="506"/>
                  </a:lnTo>
                  <a:lnTo>
                    <a:pt x="508" y="492"/>
                  </a:lnTo>
                  <a:lnTo>
                    <a:pt x="510" y="478"/>
                  </a:lnTo>
                  <a:lnTo>
                    <a:pt x="510" y="478"/>
                  </a:lnTo>
                  <a:lnTo>
                    <a:pt x="514" y="464"/>
                  </a:lnTo>
                  <a:lnTo>
                    <a:pt x="520" y="450"/>
                  </a:lnTo>
                  <a:lnTo>
                    <a:pt x="520" y="450"/>
                  </a:lnTo>
                  <a:lnTo>
                    <a:pt x="528" y="426"/>
                  </a:lnTo>
                  <a:lnTo>
                    <a:pt x="528" y="426"/>
                  </a:lnTo>
                  <a:lnTo>
                    <a:pt x="532" y="416"/>
                  </a:lnTo>
                  <a:lnTo>
                    <a:pt x="532" y="404"/>
                  </a:lnTo>
                  <a:lnTo>
                    <a:pt x="532" y="404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18" y="344"/>
                  </a:lnTo>
                  <a:lnTo>
                    <a:pt x="506" y="308"/>
                  </a:lnTo>
                  <a:lnTo>
                    <a:pt x="506" y="308"/>
                  </a:lnTo>
                  <a:lnTo>
                    <a:pt x="490" y="272"/>
                  </a:lnTo>
                  <a:lnTo>
                    <a:pt x="472" y="238"/>
                  </a:lnTo>
                  <a:lnTo>
                    <a:pt x="472" y="238"/>
                  </a:lnTo>
                  <a:lnTo>
                    <a:pt x="462" y="220"/>
                  </a:lnTo>
                  <a:lnTo>
                    <a:pt x="450" y="206"/>
                  </a:lnTo>
                  <a:lnTo>
                    <a:pt x="438" y="190"/>
                  </a:lnTo>
                  <a:lnTo>
                    <a:pt x="424" y="176"/>
                  </a:lnTo>
                  <a:lnTo>
                    <a:pt x="424" y="176"/>
                  </a:lnTo>
                  <a:lnTo>
                    <a:pt x="410" y="164"/>
                  </a:lnTo>
                  <a:lnTo>
                    <a:pt x="394" y="154"/>
                  </a:lnTo>
                  <a:lnTo>
                    <a:pt x="376" y="144"/>
                  </a:lnTo>
                  <a:lnTo>
                    <a:pt x="358" y="136"/>
                  </a:lnTo>
                  <a:lnTo>
                    <a:pt x="358" y="136"/>
                  </a:lnTo>
                  <a:lnTo>
                    <a:pt x="332" y="126"/>
                  </a:lnTo>
                  <a:lnTo>
                    <a:pt x="308" y="122"/>
                  </a:lnTo>
                  <a:lnTo>
                    <a:pt x="284" y="118"/>
                  </a:lnTo>
                  <a:lnTo>
                    <a:pt x="260" y="118"/>
                  </a:lnTo>
                  <a:lnTo>
                    <a:pt x="260" y="118"/>
                  </a:lnTo>
                  <a:lnTo>
                    <a:pt x="236" y="120"/>
                  </a:lnTo>
                  <a:lnTo>
                    <a:pt x="214" y="124"/>
                  </a:lnTo>
                  <a:lnTo>
                    <a:pt x="194" y="132"/>
                  </a:lnTo>
                  <a:lnTo>
                    <a:pt x="176" y="144"/>
                  </a:lnTo>
                  <a:lnTo>
                    <a:pt x="176" y="144"/>
                  </a:lnTo>
                  <a:lnTo>
                    <a:pt x="164" y="152"/>
                  </a:lnTo>
                  <a:lnTo>
                    <a:pt x="154" y="162"/>
                  </a:lnTo>
                  <a:lnTo>
                    <a:pt x="144" y="174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0" y="200"/>
                  </a:lnTo>
                  <a:lnTo>
                    <a:pt x="126" y="214"/>
                  </a:lnTo>
                  <a:lnTo>
                    <a:pt x="122" y="228"/>
                  </a:lnTo>
                  <a:lnTo>
                    <a:pt x="120" y="242"/>
                  </a:lnTo>
                  <a:lnTo>
                    <a:pt x="120" y="242"/>
                  </a:lnTo>
                  <a:lnTo>
                    <a:pt x="118" y="258"/>
                  </a:lnTo>
                  <a:lnTo>
                    <a:pt x="120" y="274"/>
                  </a:lnTo>
                  <a:lnTo>
                    <a:pt x="122" y="290"/>
                  </a:lnTo>
                  <a:lnTo>
                    <a:pt x="126" y="306"/>
                  </a:lnTo>
                  <a:lnTo>
                    <a:pt x="126" y="306"/>
                  </a:lnTo>
                  <a:lnTo>
                    <a:pt x="132" y="322"/>
                  </a:lnTo>
                  <a:lnTo>
                    <a:pt x="140" y="338"/>
                  </a:lnTo>
                  <a:lnTo>
                    <a:pt x="148" y="354"/>
                  </a:lnTo>
                  <a:lnTo>
                    <a:pt x="160" y="368"/>
                  </a:lnTo>
                  <a:lnTo>
                    <a:pt x="262" y="392"/>
                  </a:lnTo>
                  <a:lnTo>
                    <a:pt x="262" y="392"/>
                  </a:lnTo>
                  <a:lnTo>
                    <a:pt x="260" y="352"/>
                  </a:lnTo>
                  <a:lnTo>
                    <a:pt x="260" y="352"/>
                  </a:lnTo>
                  <a:lnTo>
                    <a:pt x="256" y="310"/>
                  </a:lnTo>
                  <a:lnTo>
                    <a:pt x="256" y="310"/>
                  </a:lnTo>
                  <a:lnTo>
                    <a:pt x="256" y="290"/>
                  </a:lnTo>
                  <a:lnTo>
                    <a:pt x="260" y="270"/>
                  </a:lnTo>
                  <a:lnTo>
                    <a:pt x="260" y="270"/>
                  </a:lnTo>
                  <a:lnTo>
                    <a:pt x="264" y="254"/>
                  </a:lnTo>
                  <a:lnTo>
                    <a:pt x="272" y="238"/>
                  </a:lnTo>
                  <a:lnTo>
                    <a:pt x="272" y="238"/>
                  </a:lnTo>
                  <a:lnTo>
                    <a:pt x="278" y="230"/>
                  </a:lnTo>
                  <a:lnTo>
                    <a:pt x="284" y="226"/>
                  </a:lnTo>
                  <a:lnTo>
                    <a:pt x="290" y="222"/>
                  </a:lnTo>
                  <a:lnTo>
                    <a:pt x="298" y="220"/>
                  </a:lnTo>
                  <a:lnTo>
                    <a:pt x="298" y="220"/>
                  </a:lnTo>
                  <a:lnTo>
                    <a:pt x="314" y="220"/>
                  </a:lnTo>
                  <a:lnTo>
                    <a:pt x="330" y="224"/>
                  </a:lnTo>
                  <a:lnTo>
                    <a:pt x="330" y="224"/>
                  </a:lnTo>
                  <a:lnTo>
                    <a:pt x="344" y="232"/>
                  </a:lnTo>
                  <a:lnTo>
                    <a:pt x="358" y="244"/>
                  </a:lnTo>
                  <a:lnTo>
                    <a:pt x="358" y="244"/>
                  </a:lnTo>
                  <a:lnTo>
                    <a:pt x="364" y="252"/>
                  </a:lnTo>
                  <a:lnTo>
                    <a:pt x="370" y="260"/>
                  </a:lnTo>
                  <a:lnTo>
                    <a:pt x="374" y="268"/>
                  </a:lnTo>
                  <a:lnTo>
                    <a:pt x="376" y="278"/>
                  </a:lnTo>
                  <a:lnTo>
                    <a:pt x="376" y="278"/>
                  </a:lnTo>
                  <a:lnTo>
                    <a:pt x="378" y="300"/>
                  </a:lnTo>
                  <a:lnTo>
                    <a:pt x="378" y="300"/>
                  </a:lnTo>
                  <a:lnTo>
                    <a:pt x="380" y="326"/>
                  </a:lnTo>
                  <a:lnTo>
                    <a:pt x="380" y="326"/>
                  </a:lnTo>
                  <a:lnTo>
                    <a:pt x="378" y="348"/>
                  </a:lnTo>
                  <a:lnTo>
                    <a:pt x="378" y="348"/>
                  </a:lnTo>
                  <a:lnTo>
                    <a:pt x="378" y="364"/>
                  </a:lnTo>
                  <a:lnTo>
                    <a:pt x="378" y="364"/>
                  </a:lnTo>
                  <a:lnTo>
                    <a:pt x="380" y="440"/>
                  </a:lnTo>
                  <a:lnTo>
                    <a:pt x="380" y="440"/>
                  </a:lnTo>
                  <a:lnTo>
                    <a:pt x="380" y="514"/>
                  </a:lnTo>
                  <a:lnTo>
                    <a:pt x="380" y="51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9226440" y="7000920"/>
              <a:ext cx="1000440" cy="79344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630" h="500">
                  <a:moveTo>
                    <a:pt x="24" y="94"/>
                  </a:moveTo>
                  <a:lnTo>
                    <a:pt x="24" y="94"/>
                  </a:lnTo>
                  <a:lnTo>
                    <a:pt x="10" y="76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288" y="52"/>
                  </a:lnTo>
                  <a:lnTo>
                    <a:pt x="288" y="52"/>
                  </a:lnTo>
                  <a:lnTo>
                    <a:pt x="296" y="44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0" y="38"/>
                  </a:lnTo>
                  <a:lnTo>
                    <a:pt x="334" y="38"/>
                  </a:lnTo>
                  <a:lnTo>
                    <a:pt x="334" y="38"/>
                  </a:lnTo>
                  <a:lnTo>
                    <a:pt x="348" y="44"/>
                  </a:lnTo>
                  <a:lnTo>
                    <a:pt x="360" y="52"/>
                  </a:lnTo>
                  <a:lnTo>
                    <a:pt x="360" y="52"/>
                  </a:lnTo>
                  <a:lnTo>
                    <a:pt x="372" y="62"/>
                  </a:lnTo>
                  <a:lnTo>
                    <a:pt x="382" y="74"/>
                  </a:lnTo>
                  <a:lnTo>
                    <a:pt x="382" y="74"/>
                  </a:lnTo>
                  <a:lnTo>
                    <a:pt x="412" y="82"/>
                  </a:lnTo>
                  <a:lnTo>
                    <a:pt x="412" y="82"/>
                  </a:lnTo>
                  <a:lnTo>
                    <a:pt x="436" y="88"/>
                  </a:lnTo>
                  <a:lnTo>
                    <a:pt x="436" y="88"/>
                  </a:lnTo>
                  <a:lnTo>
                    <a:pt x="460" y="92"/>
                  </a:lnTo>
                  <a:lnTo>
                    <a:pt x="460" y="92"/>
                  </a:lnTo>
                  <a:lnTo>
                    <a:pt x="488" y="98"/>
                  </a:lnTo>
                  <a:lnTo>
                    <a:pt x="488" y="98"/>
                  </a:lnTo>
                  <a:lnTo>
                    <a:pt x="500" y="98"/>
                  </a:lnTo>
                  <a:lnTo>
                    <a:pt x="514" y="96"/>
                  </a:lnTo>
                  <a:lnTo>
                    <a:pt x="514" y="96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52" y="94"/>
                  </a:lnTo>
                  <a:lnTo>
                    <a:pt x="566" y="96"/>
                  </a:lnTo>
                  <a:lnTo>
                    <a:pt x="566" y="96"/>
                  </a:lnTo>
                  <a:lnTo>
                    <a:pt x="578" y="104"/>
                  </a:lnTo>
                  <a:lnTo>
                    <a:pt x="592" y="114"/>
                  </a:lnTo>
                  <a:lnTo>
                    <a:pt x="592" y="114"/>
                  </a:lnTo>
                  <a:lnTo>
                    <a:pt x="600" y="124"/>
                  </a:lnTo>
                  <a:lnTo>
                    <a:pt x="606" y="134"/>
                  </a:lnTo>
                  <a:lnTo>
                    <a:pt x="610" y="144"/>
                  </a:lnTo>
                  <a:lnTo>
                    <a:pt x="612" y="154"/>
                  </a:lnTo>
                  <a:lnTo>
                    <a:pt x="612" y="154"/>
                  </a:lnTo>
                  <a:lnTo>
                    <a:pt x="618" y="196"/>
                  </a:lnTo>
                  <a:lnTo>
                    <a:pt x="618" y="196"/>
                  </a:lnTo>
                  <a:lnTo>
                    <a:pt x="620" y="242"/>
                  </a:lnTo>
                  <a:lnTo>
                    <a:pt x="620" y="286"/>
                  </a:lnTo>
                  <a:lnTo>
                    <a:pt x="620" y="286"/>
                  </a:lnTo>
                  <a:lnTo>
                    <a:pt x="622" y="374"/>
                  </a:lnTo>
                  <a:lnTo>
                    <a:pt x="622" y="374"/>
                  </a:lnTo>
                  <a:lnTo>
                    <a:pt x="624" y="400"/>
                  </a:lnTo>
                  <a:lnTo>
                    <a:pt x="624" y="400"/>
                  </a:lnTo>
                  <a:lnTo>
                    <a:pt x="628" y="430"/>
                  </a:lnTo>
                  <a:lnTo>
                    <a:pt x="628" y="430"/>
                  </a:lnTo>
                  <a:lnTo>
                    <a:pt x="630" y="444"/>
                  </a:lnTo>
                  <a:lnTo>
                    <a:pt x="628" y="458"/>
                  </a:lnTo>
                  <a:lnTo>
                    <a:pt x="628" y="458"/>
                  </a:lnTo>
                  <a:lnTo>
                    <a:pt x="626" y="472"/>
                  </a:lnTo>
                  <a:lnTo>
                    <a:pt x="620" y="482"/>
                  </a:lnTo>
                  <a:lnTo>
                    <a:pt x="620" y="482"/>
                  </a:lnTo>
                  <a:lnTo>
                    <a:pt x="610" y="492"/>
                  </a:lnTo>
                  <a:lnTo>
                    <a:pt x="604" y="496"/>
                  </a:lnTo>
                  <a:lnTo>
                    <a:pt x="598" y="498"/>
                  </a:lnTo>
                  <a:lnTo>
                    <a:pt x="598" y="498"/>
                  </a:lnTo>
                  <a:lnTo>
                    <a:pt x="584" y="500"/>
                  </a:lnTo>
                  <a:lnTo>
                    <a:pt x="570" y="498"/>
                  </a:lnTo>
                  <a:lnTo>
                    <a:pt x="570" y="498"/>
                  </a:lnTo>
                  <a:lnTo>
                    <a:pt x="556" y="492"/>
                  </a:lnTo>
                  <a:lnTo>
                    <a:pt x="542" y="484"/>
                  </a:lnTo>
                  <a:lnTo>
                    <a:pt x="542" y="484"/>
                  </a:lnTo>
                  <a:lnTo>
                    <a:pt x="530" y="472"/>
                  </a:lnTo>
                  <a:lnTo>
                    <a:pt x="522" y="458"/>
                  </a:lnTo>
                  <a:lnTo>
                    <a:pt x="522" y="458"/>
                  </a:lnTo>
                  <a:lnTo>
                    <a:pt x="516" y="442"/>
                  </a:lnTo>
                  <a:lnTo>
                    <a:pt x="512" y="428"/>
                  </a:lnTo>
                  <a:lnTo>
                    <a:pt x="508" y="414"/>
                  </a:lnTo>
                  <a:lnTo>
                    <a:pt x="508" y="400"/>
                  </a:lnTo>
                  <a:lnTo>
                    <a:pt x="508" y="400"/>
                  </a:lnTo>
                  <a:lnTo>
                    <a:pt x="506" y="342"/>
                  </a:lnTo>
                  <a:lnTo>
                    <a:pt x="506" y="342"/>
                  </a:lnTo>
                  <a:lnTo>
                    <a:pt x="506" y="280"/>
                  </a:lnTo>
                  <a:lnTo>
                    <a:pt x="506" y="280"/>
                  </a:lnTo>
                  <a:lnTo>
                    <a:pt x="504" y="216"/>
                  </a:lnTo>
                  <a:lnTo>
                    <a:pt x="504" y="216"/>
                  </a:lnTo>
                  <a:lnTo>
                    <a:pt x="462" y="208"/>
                  </a:lnTo>
                  <a:lnTo>
                    <a:pt x="462" y="208"/>
                  </a:lnTo>
                  <a:lnTo>
                    <a:pt x="388" y="192"/>
                  </a:lnTo>
                  <a:lnTo>
                    <a:pt x="388" y="192"/>
                  </a:lnTo>
                  <a:lnTo>
                    <a:pt x="390" y="256"/>
                  </a:lnTo>
                  <a:lnTo>
                    <a:pt x="390" y="256"/>
                  </a:lnTo>
                  <a:lnTo>
                    <a:pt x="392" y="288"/>
                  </a:lnTo>
                  <a:lnTo>
                    <a:pt x="396" y="318"/>
                  </a:lnTo>
                  <a:lnTo>
                    <a:pt x="396" y="318"/>
                  </a:lnTo>
                  <a:lnTo>
                    <a:pt x="398" y="336"/>
                  </a:lnTo>
                  <a:lnTo>
                    <a:pt x="402" y="354"/>
                  </a:lnTo>
                  <a:lnTo>
                    <a:pt x="402" y="354"/>
                  </a:lnTo>
                  <a:lnTo>
                    <a:pt x="406" y="374"/>
                  </a:lnTo>
                  <a:lnTo>
                    <a:pt x="406" y="390"/>
                  </a:lnTo>
                  <a:lnTo>
                    <a:pt x="406" y="390"/>
                  </a:lnTo>
                  <a:lnTo>
                    <a:pt x="404" y="400"/>
                  </a:lnTo>
                  <a:lnTo>
                    <a:pt x="402" y="408"/>
                  </a:lnTo>
                  <a:lnTo>
                    <a:pt x="398" y="414"/>
                  </a:lnTo>
                  <a:lnTo>
                    <a:pt x="392" y="420"/>
                  </a:lnTo>
                  <a:lnTo>
                    <a:pt x="392" y="420"/>
                  </a:lnTo>
                  <a:lnTo>
                    <a:pt x="386" y="426"/>
                  </a:lnTo>
                  <a:lnTo>
                    <a:pt x="378" y="430"/>
                  </a:lnTo>
                  <a:lnTo>
                    <a:pt x="372" y="432"/>
                  </a:lnTo>
                  <a:lnTo>
                    <a:pt x="364" y="434"/>
                  </a:lnTo>
                  <a:lnTo>
                    <a:pt x="364" y="434"/>
                  </a:lnTo>
                  <a:lnTo>
                    <a:pt x="356" y="434"/>
                  </a:lnTo>
                  <a:lnTo>
                    <a:pt x="348" y="432"/>
                  </a:lnTo>
                  <a:lnTo>
                    <a:pt x="340" y="430"/>
                  </a:lnTo>
                  <a:lnTo>
                    <a:pt x="330" y="426"/>
                  </a:lnTo>
                  <a:lnTo>
                    <a:pt x="330" y="426"/>
                  </a:lnTo>
                  <a:lnTo>
                    <a:pt x="322" y="420"/>
                  </a:lnTo>
                  <a:lnTo>
                    <a:pt x="316" y="412"/>
                  </a:lnTo>
                  <a:lnTo>
                    <a:pt x="308" y="404"/>
                  </a:lnTo>
                  <a:lnTo>
                    <a:pt x="302" y="394"/>
                  </a:lnTo>
                  <a:lnTo>
                    <a:pt x="302" y="394"/>
                  </a:lnTo>
                  <a:lnTo>
                    <a:pt x="292" y="366"/>
                  </a:lnTo>
                  <a:lnTo>
                    <a:pt x="284" y="338"/>
                  </a:lnTo>
                  <a:lnTo>
                    <a:pt x="284" y="338"/>
                  </a:lnTo>
                  <a:lnTo>
                    <a:pt x="278" y="308"/>
                  </a:lnTo>
                  <a:lnTo>
                    <a:pt x="274" y="280"/>
                  </a:lnTo>
                  <a:lnTo>
                    <a:pt x="274" y="280"/>
                  </a:lnTo>
                  <a:lnTo>
                    <a:pt x="272" y="250"/>
                  </a:lnTo>
                  <a:lnTo>
                    <a:pt x="272" y="222"/>
                  </a:lnTo>
                  <a:lnTo>
                    <a:pt x="272" y="222"/>
                  </a:lnTo>
                  <a:lnTo>
                    <a:pt x="274" y="16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50" y="112"/>
                  </a:lnTo>
                  <a:lnTo>
                    <a:pt x="40" y="108"/>
                  </a:lnTo>
                  <a:lnTo>
                    <a:pt x="32" y="100"/>
                  </a:lnTo>
                  <a:lnTo>
                    <a:pt x="24" y="94"/>
                  </a:lnTo>
                  <a:lnTo>
                    <a:pt x="24" y="9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9235800" y="7674120"/>
              <a:ext cx="1028880" cy="96516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648" h="608">
                  <a:moveTo>
                    <a:pt x="60" y="538"/>
                  </a:moveTo>
                  <a:lnTo>
                    <a:pt x="60" y="538"/>
                  </a:lnTo>
                  <a:lnTo>
                    <a:pt x="40" y="528"/>
                  </a:lnTo>
                  <a:lnTo>
                    <a:pt x="24" y="514"/>
                  </a:lnTo>
                  <a:lnTo>
                    <a:pt x="24" y="514"/>
                  </a:lnTo>
                  <a:lnTo>
                    <a:pt x="12" y="500"/>
                  </a:lnTo>
                  <a:lnTo>
                    <a:pt x="4" y="484"/>
                  </a:lnTo>
                  <a:lnTo>
                    <a:pt x="4" y="484"/>
                  </a:lnTo>
                  <a:lnTo>
                    <a:pt x="0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4" y="444"/>
                  </a:lnTo>
                  <a:lnTo>
                    <a:pt x="10" y="438"/>
                  </a:lnTo>
                  <a:lnTo>
                    <a:pt x="16" y="432"/>
                  </a:lnTo>
                  <a:lnTo>
                    <a:pt x="24" y="426"/>
                  </a:lnTo>
                  <a:lnTo>
                    <a:pt x="24" y="426"/>
                  </a:lnTo>
                  <a:lnTo>
                    <a:pt x="32" y="422"/>
                  </a:lnTo>
                  <a:lnTo>
                    <a:pt x="40" y="420"/>
                  </a:lnTo>
                  <a:lnTo>
                    <a:pt x="48" y="418"/>
                  </a:lnTo>
                  <a:lnTo>
                    <a:pt x="58" y="420"/>
                  </a:lnTo>
                  <a:lnTo>
                    <a:pt x="58" y="420"/>
                  </a:lnTo>
                  <a:lnTo>
                    <a:pt x="76" y="422"/>
                  </a:lnTo>
                  <a:lnTo>
                    <a:pt x="94" y="422"/>
                  </a:lnTo>
                  <a:lnTo>
                    <a:pt x="94" y="422"/>
                  </a:lnTo>
                  <a:lnTo>
                    <a:pt x="148" y="424"/>
                  </a:lnTo>
                  <a:lnTo>
                    <a:pt x="204" y="420"/>
                  </a:lnTo>
                  <a:lnTo>
                    <a:pt x="204" y="420"/>
                  </a:lnTo>
                  <a:lnTo>
                    <a:pt x="202" y="302"/>
                  </a:lnTo>
                  <a:lnTo>
                    <a:pt x="202" y="302"/>
                  </a:lnTo>
                  <a:lnTo>
                    <a:pt x="202" y="186"/>
                  </a:lnTo>
                  <a:lnTo>
                    <a:pt x="202" y="186"/>
                  </a:lnTo>
                  <a:lnTo>
                    <a:pt x="150" y="158"/>
                  </a:lnTo>
                  <a:lnTo>
                    <a:pt x="150" y="158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2" y="100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16" y="82"/>
                  </a:lnTo>
                  <a:lnTo>
                    <a:pt x="10" y="72"/>
                  </a:lnTo>
                  <a:lnTo>
                    <a:pt x="4" y="6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106" y="16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74" y="102"/>
                  </a:lnTo>
                  <a:lnTo>
                    <a:pt x="354" y="146"/>
                  </a:lnTo>
                  <a:lnTo>
                    <a:pt x="432" y="194"/>
                  </a:lnTo>
                  <a:lnTo>
                    <a:pt x="510" y="244"/>
                  </a:lnTo>
                  <a:lnTo>
                    <a:pt x="510" y="244"/>
                  </a:lnTo>
                  <a:lnTo>
                    <a:pt x="536" y="262"/>
                  </a:lnTo>
                  <a:lnTo>
                    <a:pt x="536" y="262"/>
                  </a:lnTo>
                  <a:lnTo>
                    <a:pt x="560" y="280"/>
                  </a:lnTo>
                  <a:lnTo>
                    <a:pt x="560" y="280"/>
                  </a:lnTo>
                  <a:lnTo>
                    <a:pt x="590" y="300"/>
                  </a:lnTo>
                  <a:lnTo>
                    <a:pt x="590" y="300"/>
                  </a:lnTo>
                  <a:lnTo>
                    <a:pt x="604" y="310"/>
                  </a:lnTo>
                  <a:lnTo>
                    <a:pt x="618" y="322"/>
                  </a:lnTo>
                  <a:lnTo>
                    <a:pt x="618" y="322"/>
                  </a:lnTo>
                  <a:lnTo>
                    <a:pt x="630" y="334"/>
                  </a:lnTo>
                  <a:lnTo>
                    <a:pt x="640" y="348"/>
                  </a:lnTo>
                  <a:lnTo>
                    <a:pt x="640" y="348"/>
                  </a:lnTo>
                  <a:lnTo>
                    <a:pt x="644" y="356"/>
                  </a:lnTo>
                  <a:lnTo>
                    <a:pt x="646" y="364"/>
                  </a:lnTo>
                  <a:lnTo>
                    <a:pt x="648" y="382"/>
                  </a:lnTo>
                  <a:lnTo>
                    <a:pt x="648" y="382"/>
                  </a:lnTo>
                  <a:lnTo>
                    <a:pt x="648" y="392"/>
                  </a:lnTo>
                  <a:lnTo>
                    <a:pt x="644" y="402"/>
                  </a:lnTo>
                  <a:lnTo>
                    <a:pt x="640" y="410"/>
                  </a:lnTo>
                  <a:lnTo>
                    <a:pt x="634" y="418"/>
                  </a:lnTo>
                  <a:lnTo>
                    <a:pt x="634" y="418"/>
                  </a:lnTo>
                  <a:lnTo>
                    <a:pt x="600" y="442"/>
                  </a:lnTo>
                  <a:lnTo>
                    <a:pt x="564" y="462"/>
                  </a:lnTo>
                  <a:lnTo>
                    <a:pt x="526" y="478"/>
                  </a:lnTo>
                  <a:lnTo>
                    <a:pt x="486" y="492"/>
                  </a:lnTo>
                  <a:lnTo>
                    <a:pt x="486" y="492"/>
                  </a:lnTo>
                  <a:lnTo>
                    <a:pt x="446" y="502"/>
                  </a:lnTo>
                  <a:lnTo>
                    <a:pt x="404" y="512"/>
                  </a:lnTo>
                  <a:lnTo>
                    <a:pt x="362" y="520"/>
                  </a:lnTo>
                  <a:lnTo>
                    <a:pt x="320" y="528"/>
                  </a:lnTo>
                  <a:lnTo>
                    <a:pt x="320" y="528"/>
                  </a:lnTo>
                  <a:lnTo>
                    <a:pt x="320" y="568"/>
                  </a:lnTo>
                  <a:lnTo>
                    <a:pt x="320" y="568"/>
                  </a:lnTo>
                  <a:lnTo>
                    <a:pt x="318" y="576"/>
                  </a:lnTo>
                  <a:lnTo>
                    <a:pt x="314" y="584"/>
                  </a:lnTo>
                  <a:lnTo>
                    <a:pt x="310" y="592"/>
                  </a:lnTo>
                  <a:lnTo>
                    <a:pt x="302" y="598"/>
                  </a:lnTo>
                  <a:lnTo>
                    <a:pt x="302" y="598"/>
                  </a:lnTo>
                  <a:lnTo>
                    <a:pt x="296" y="602"/>
                  </a:lnTo>
                  <a:lnTo>
                    <a:pt x="288" y="606"/>
                  </a:lnTo>
                  <a:lnTo>
                    <a:pt x="282" y="606"/>
                  </a:lnTo>
                  <a:lnTo>
                    <a:pt x="274" y="608"/>
                  </a:lnTo>
                  <a:lnTo>
                    <a:pt x="274" y="608"/>
                  </a:lnTo>
                  <a:lnTo>
                    <a:pt x="258" y="604"/>
                  </a:lnTo>
                  <a:lnTo>
                    <a:pt x="244" y="598"/>
                  </a:lnTo>
                  <a:lnTo>
                    <a:pt x="244" y="598"/>
                  </a:lnTo>
                  <a:lnTo>
                    <a:pt x="230" y="588"/>
                  </a:lnTo>
                  <a:lnTo>
                    <a:pt x="220" y="574"/>
                  </a:lnTo>
                  <a:lnTo>
                    <a:pt x="220" y="574"/>
                  </a:lnTo>
                  <a:lnTo>
                    <a:pt x="210" y="560"/>
                  </a:lnTo>
                  <a:lnTo>
                    <a:pt x="204" y="542"/>
                  </a:lnTo>
                  <a:lnTo>
                    <a:pt x="204" y="542"/>
                  </a:lnTo>
                  <a:lnTo>
                    <a:pt x="172" y="544"/>
                  </a:lnTo>
                  <a:lnTo>
                    <a:pt x="136" y="542"/>
                  </a:lnTo>
                  <a:lnTo>
                    <a:pt x="136" y="542"/>
                  </a:lnTo>
                  <a:lnTo>
                    <a:pt x="102" y="542"/>
                  </a:lnTo>
                  <a:lnTo>
                    <a:pt x="66" y="538"/>
                  </a:lnTo>
                  <a:lnTo>
                    <a:pt x="60" y="538"/>
                  </a:lnTo>
                  <a:close/>
                  <a:moveTo>
                    <a:pt x="320" y="402"/>
                  </a:moveTo>
                  <a:lnTo>
                    <a:pt x="320" y="402"/>
                  </a:lnTo>
                  <a:lnTo>
                    <a:pt x="362" y="394"/>
                  </a:lnTo>
                  <a:lnTo>
                    <a:pt x="406" y="384"/>
                  </a:lnTo>
                  <a:lnTo>
                    <a:pt x="406" y="384"/>
                  </a:lnTo>
                  <a:lnTo>
                    <a:pt x="446" y="370"/>
                  </a:lnTo>
                  <a:lnTo>
                    <a:pt x="486" y="356"/>
                  </a:lnTo>
                  <a:lnTo>
                    <a:pt x="486" y="356"/>
                  </a:lnTo>
                  <a:lnTo>
                    <a:pt x="402" y="300"/>
                  </a:lnTo>
                  <a:lnTo>
                    <a:pt x="402" y="300"/>
                  </a:lnTo>
                  <a:lnTo>
                    <a:pt x="360" y="274"/>
                  </a:lnTo>
                  <a:lnTo>
                    <a:pt x="318" y="250"/>
                  </a:lnTo>
                  <a:lnTo>
                    <a:pt x="318" y="250"/>
                  </a:lnTo>
                  <a:lnTo>
                    <a:pt x="318" y="328"/>
                  </a:lnTo>
                  <a:lnTo>
                    <a:pt x="318" y="328"/>
                  </a:lnTo>
                  <a:lnTo>
                    <a:pt x="320" y="402"/>
                  </a:lnTo>
                  <a:lnTo>
                    <a:pt x="320" y="40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9254880" y="8642520"/>
              <a:ext cx="978120" cy="6793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616" h="428">
                  <a:moveTo>
                    <a:pt x="120" y="266"/>
                  </a:moveTo>
                  <a:lnTo>
                    <a:pt x="120" y="266"/>
                  </a:lnTo>
                  <a:lnTo>
                    <a:pt x="118" y="276"/>
                  </a:lnTo>
                  <a:lnTo>
                    <a:pt x="116" y="288"/>
                  </a:lnTo>
                  <a:lnTo>
                    <a:pt x="112" y="296"/>
                  </a:lnTo>
                  <a:lnTo>
                    <a:pt x="106" y="304"/>
                  </a:lnTo>
                  <a:lnTo>
                    <a:pt x="106" y="304"/>
                  </a:lnTo>
                  <a:lnTo>
                    <a:pt x="98" y="308"/>
                  </a:lnTo>
                  <a:lnTo>
                    <a:pt x="90" y="312"/>
                  </a:lnTo>
                  <a:lnTo>
                    <a:pt x="82" y="316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64" y="316"/>
                  </a:lnTo>
                  <a:lnTo>
                    <a:pt x="56" y="314"/>
                  </a:lnTo>
                  <a:lnTo>
                    <a:pt x="46" y="310"/>
                  </a:lnTo>
                  <a:lnTo>
                    <a:pt x="38" y="306"/>
                  </a:lnTo>
                  <a:lnTo>
                    <a:pt x="38" y="306"/>
                  </a:lnTo>
                  <a:lnTo>
                    <a:pt x="30" y="298"/>
                  </a:lnTo>
                  <a:lnTo>
                    <a:pt x="22" y="290"/>
                  </a:lnTo>
                  <a:lnTo>
                    <a:pt x="16" y="280"/>
                  </a:lnTo>
                  <a:lnTo>
                    <a:pt x="10" y="268"/>
                  </a:lnTo>
                  <a:lnTo>
                    <a:pt x="10" y="268"/>
                  </a:lnTo>
                  <a:lnTo>
                    <a:pt x="4" y="248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4" y="10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82" y="10"/>
                  </a:lnTo>
                  <a:lnTo>
                    <a:pt x="90" y="16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10" y="40"/>
                  </a:lnTo>
                  <a:lnTo>
                    <a:pt x="116" y="50"/>
                  </a:lnTo>
                  <a:lnTo>
                    <a:pt x="118" y="60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2" y="92"/>
                  </a:lnTo>
                  <a:lnTo>
                    <a:pt x="120" y="114"/>
                  </a:lnTo>
                  <a:lnTo>
                    <a:pt x="500" y="202"/>
                  </a:lnTo>
                  <a:lnTo>
                    <a:pt x="500" y="202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500" y="152"/>
                  </a:lnTo>
                  <a:lnTo>
                    <a:pt x="504" y="142"/>
                  </a:lnTo>
                  <a:lnTo>
                    <a:pt x="508" y="134"/>
                  </a:lnTo>
                  <a:lnTo>
                    <a:pt x="514" y="126"/>
                  </a:lnTo>
                  <a:lnTo>
                    <a:pt x="514" y="126"/>
                  </a:lnTo>
                  <a:lnTo>
                    <a:pt x="518" y="120"/>
                  </a:lnTo>
                  <a:lnTo>
                    <a:pt x="524" y="116"/>
                  </a:lnTo>
                  <a:lnTo>
                    <a:pt x="532" y="114"/>
                  </a:lnTo>
                  <a:lnTo>
                    <a:pt x="538" y="112"/>
                  </a:lnTo>
                  <a:lnTo>
                    <a:pt x="538" y="112"/>
                  </a:lnTo>
                  <a:lnTo>
                    <a:pt x="552" y="112"/>
                  </a:lnTo>
                  <a:lnTo>
                    <a:pt x="566" y="116"/>
                  </a:lnTo>
                  <a:lnTo>
                    <a:pt x="566" y="116"/>
                  </a:lnTo>
                  <a:lnTo>
                    <a:pt x="580" y="124"/>
                  </a:lnTo>
                  <a:lnTo>
                    <a:pt x="592" y="136"/>
                  </a:lnTo>
                  <a:lnTo>
                    <a:pt x="592" y="136"/>
                  </a:lnTo>
                  <a:lnTo>
                    <a:pt x="602" y="150"/>
                  </a:lnTo>
                  <a:lnTo>
                    <a:pt x="610" y="164"/>
                  </a:lnTo>
                  <a:lnTo>
                    <a:pt x="610" y="164"/>
                  </a:lnTo>
                  <a:lnTo>
                    <a:pt x="614" y="178"/>
                  </a:lnTo>
                  <a:lnTo>
                    <a:pt x="616" y="194"/>
                  </a:lnTo>
                  <a:lnTo>
                    <a:pt x="616" y="194"/>
                  </a:lnTo>
                  <a:lnTo>
                    <a:pt x="616" y="292"/>
                  </a:lnTo>
                  <a:lnTo>
                    <a:pt x="616" y="292"/>
                  </a:lnTo>
                  <a:lnTo>
                    <a:pt x="616" y="390"/>
                  </a:lnTo>
                  <a:lnTo>
                    <a:pt x="616" y="390"/>
                  </a:lnTo>
                  <a:lnTo>
                    <a:pt x="616" y="394"/>
                  </a:lnTo>
                  <a:lnTo>
                    <a:pt x="612" y="398"/>
                  </a:lnTo>
                  <a:lnTo>
                    <a:pt x="612" y="398"/>
                  </a:lnTo>
                  <a:lnTo>
                    <a:pt x="608" y="406"/>
                  </a:lnTo>
                  <a:lnTo>
                    <a:pt x="608" y="406"/>
                  </a:lnTo>
                  <a:lnTo>
                    <a:pt x="602" y="416"/>
                  </a:lnTo>
                  <a:lnTo>
                    <a:pt x="594" y="422"/>
                  </a:lnTo>
                  <a:lnTo>
                    <a:pt x="584" y="426"/>
                  </a:lnTo>
                  <a:lnTo>
                    <a:pt x="572" y="428"/>
                  </a:lnTo>
                  <a:lnTo>
                    <a:pt x="572" y="428"/>
                  </a:lnTo>
                  <a:lnTo>
                    <a:pt x="562" y="428"/>
                  </a:lnTo>
                  <a:lnTo>
                    <a:pt x="550" y="426"/>
                  </a:lnTo>
                  <a:lnTo>
                    <a:pt x="538" y="420"/>
                  </a:lnTo>
                  <a:lnTo>
                    <a:pt x="528" y="412"/>
                  </a:lnTo>
                  <a:lnTo>
                    <a:pt x="528" y="412"/>
                  </a:lnTo>
                  <a:lnTo>
                    <a:pt x="518" y="402"/>
                  </a:lnTo>
                  <a:lnTo>
                    <a:pt x="510" y="392"/>
                  </a:lnTo>
                  <a:lnTo>
                    <a:pt x="510" y="392"/>
                  </a:lnTo>
                  <a:lnTo>
                    <a:pt x="504" y="380"/>
                  </a:lnTo>
                  <a:lnTo>
                    <a:pt x="502" y="368"/>
                  </a:lnTo>
                  <a:lnTo>
                    <a:pt x="502" y="368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500" y="318"/>
                  </a:lnTo>
                  <a:lnTo>
                    <a:pt x="118" y="230"/>
                  </a:lnTo>
                  <a:lnTo>
                    <a:pt x="118" y="230"/>
                  </a:lnTo>
                  <a:lnTo>
                    <a:pt x="118" y="244"/>
                  </a:lnTo>
                  <a:lnTo>
                    <a:pt x="118" y="244"/>
                  </a:lnTo>
                  <a:lnTo>
                    <a:pt x="120" y="258"/>
                  </a:lnTo>
                  <a:lnTo>
                    <a:pt x="120" y="26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9226440" y="9286920"/>
              <a:ext cx="1060560" cy="8571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668" h="540">
                  <a:moveTo>
                    <a:pt x="62" y="118"/>
                  </a:moveTo>
                  <a:lnTo>
                    <a:pt x="62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0" y="9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10" y="68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154" y="22"/>
                  </a:lnTo>
                  <a:lnTo>
                    <a:pt x="270" y="48"/>
                  </a:lnTo>
                  <a:lnTo>
                    <a:pt x="270" y="48"/>
                  </a:lnTo>
                  <a:lnTo>
                    <a:pt x="504" y="102"/>
                  </a:lnTo>
                  <a:lnTo>
                    <a:pt x="504" y="102"/>
                  </a:lnTo>
                  <a:lnTo>
                    <a:pt x="512" y="90"/>
                  </a:lnTo>
                  <a:lnTo>
                    <a:pt x="516" y="86"/>
                  </a:lnTo>
                  <a:lnTo>
                    <a:pt x="522" y="84"/>
                  </a:lnTo>
                  <a:lnTo>
                    <a:pt x="522" y="84"/>
                  </a:lnTo>
                  <a:lnTo>
                    <a:pt x="534" y="80"/>
                  </a:lnTo>
                  <a:lnTo>
                    <a:pt x="548" y="80"/>
                  </a:lnTo>
                  <a:lnTo>
                    <a:pt x="548" y="80"/>
                  </a:lnTo>
                  <a:lnTo>
                    <a:pt x="562" y="84"/>
                  </a:lnTo>
                  <a:lnTo>
                    <a:pt x="576" y="90"/>
                  </a:lnTo>
                  <a:lnTo>
                    <a:pt x="576" y="90"/>
                  </a:lnTo>
                  <a:lnTo>
                    <a:pt x="588" y="100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12" y="126"/>
                  </a:lnTo>
                  <a:lnTo>
                    <a:pt x="622" y="144"/>
                  </a:lnTo>
                  <a:lnTo>
                    <a:pt x="622" y="144"/>
                  </a:lnTo>
                  <a:lnTo>
                    <a:pt x="630" y="166"/>
                  </a:lnTo>
                  <a:lnTo>
                    <a:pt x="640" y="188"/>
                  </a:lnTo>
                  <a:lnTo>
                    <a:pt x="640" y="188"/>
                  </a:lnTo>
                  <a:lnTo>
                    <a:pt x="652" y="234"/>
                  </a:lnTo>
                  <a:lnTo>
                    <a:pt x="652" y="234"/>
                  </a:lnTo>
                  <a:lnTo>
                    <a:pt x="662" y="270"/>
                  </a:lnTo>
                  <a:lnTo>
                    <a:pt x="662" y="270"/>
                  </a:lnTo>
                  <a:lnTo>
                    <a:pt x="666" y="302"/>
                  </a:lnTo>
                  <a:lnTo>
                    <a:pt x="668" y="332"/>
                  </a:lnTo>
                  <a:lnTo>
                    <a:pt x="666" y="362"/>
                  </a:lnTo>
                  <a:lnTo>
                    <a:pt x="662" y="392"/>
                  </a:lnTo>
                  <a:lnTo>
                    <a:pt x="662" y="392"/>
                  </a:lnTo>
                  <a:lnTo>
                    <a:pt x="654" y="420"/>
                  </a:lnTo>
                  <a:lnTo>
                    <a:pt x="642" y="446"/>
                  </a:lnTo>
                  <a:lnTo>
                    <a:pt x="630" y="468"/>
                  </a:lnTo>
                  <a:lnTo>
                    <a:pt x="614" y="490"/>
                  </a:lnTo>
                  <a:lnTo>
                    <a:pt x="614" y="490"/>
                  </a:lnTo>
                  <a:lnTo>
                    <a:pt x="596" y="506"/>
                  </a:lnTo>
                  <a:lnTo>
                    <a:pt x="576" y="520"/>
                  </a:lnTo>
                  <a:lnTo>
                    <a:pt x="554" y="532"/>
                  </a:lnTo>
                  <a:lnTo>
                    <a:pt x="528" y="538"/>
                  </a:lnTo>
                  <a:lnTo>
                    <a:pt x="528" y="538"/>
                  </a:lnTo>
                  <a:lnTo>
                    <a:pt x="514" y="540"/>
                  </a:lnTo>
                  <a:lnTo>
                    <a:pt x="500" y="540"/>
                  </a:lnTo>
                  <a:lnTo>
                    <a:pt x="486" y="540"/>
                  </a:lnTo>
                  <a:lnTo>
                    <a:pt x="470" y="538"/>
                  </a:lnTo>
                  <a:lnTo>
                    <a:pt x="454" y="534"/>
                  </a:lnTo>
                  <a:lnTo>
                    <a:pt x="438" y="530"/>
                  </a:lnTo>
                  <a:lnTo>
                    <a:pt x="406" y="514"/>
                  </a:lnTo>
                  <a:lnTo>
                    <a:pt x="406" y="514"/>
                  </a:lnTo>
                  <a:lnTo>
                    <a:pt x="386" y="504"/>
                  </a:lnTo>
                  <a:lnTo>
                    <a:pt x="366" y="492"/>
                  </a:lnTo>
                  <a:lnTo>
                    <a:pt x="366" y="492"/>
                  </a:lnTo>
                  <a:lnTo>
                    <a:pt x="348" y="478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08" y="440"/>
                  </a:lnTo>
                  <a:lnTo>
                    <a:pt x="288" y="416"/>
                  </a:lnTo>
                  <a:lnTo>
                    <a:pt x="288" y="416"/>
                  </a:lnTo>
                  <a:lnTo>
                    <a:pt x="270" y="388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32" y="372"/>
                  </a:lnTo>
                  <a:lnTo>
                    <a:pt x="212" y="384"/>
                  </a:lnTo>
                  <a:lnTo>
                    <a:pt x="212" y="384"/>
                  </a:lnTo>
                  <a:lnTo>
                    <a:pt x="192" y="396"/>
                  </a:lnTo>
                  <a:lnTo>
                    <a:pt x="174" y="412"/>
                  </a:lnTo>
                  <a:lnTo>
                    <a:pt x="174" y="412"/>
                  </a:lnTo>
                  <a:lnTo>
                    <a:pt x="152" y="430"/>
                  </a:lnTo>
                  <a:lnTo>
                    <a:pt x="152" y="430"/>
                  </a:lnTo>
                  <a:lnTo>
                    <a:pt x="122" y="452"/>
                  </a:lnTo>
                  <a:lnTo>
                    <a:pt x="122" y="452"/>
                  </a:lnTo>
                  <a:lnTo>
                    <a:pt x="106" y="460"/>
                  </a:lnTo>
                  <a:lnTo>
                    <a:pt x="90" y="468"/>
                  </a:lnTo>
                  <a:lnTo>
                    <a:pt x="90" y="468"/>
                  </a:lnTo>
                  <a:lnTo>
                    <a:pt x="76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4" y="472"/>
                  </a:lnTo>
                  <a:lnTo>
                    <a:pt x="46" y="464"/>
                  </a:lnTo>
                  <a:lnTo>
                    <a:pt x="30" y="454"/>
                  </a:lnTo>
                  <a:lnTo>
                    <a:pt x="30" y="454"/>
                  </a:lnTo>
                  <a:lnTo>
                    <a:pt x="18" y="440"/>
                  </a:lnTo>
                  <a:lnTo>
                    <a:pt x="8" y="426"/>
                  </a:lnTo>
                  <a:lnTo>
                    <a:pt x="8" y="426"/>
                  </a:lnTo>
                  <a:lnTo>
                    <a:pt x="2" y="412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88"/>
                  </a:lnTo>
                  <a:lnTo>
                    <a:pt x="2" y="382"/>
                  </a:lnTo>
                  <a:lnTo>
                    <a:pt x="6" y="374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24" y="354"/>
                  </a:lnTo>
                  <a:lnTo>
                    <a:pt x="42" y="344"/>
                  </a:lnTo>
                  <a:lnTo>
                    <a:pt x="42" y="344"/>
                  </a:lnTo>
                  <a:lnTo>
                    <a:pt x="76" y="322"/>
                  </a:lnTo>
                  <a:lnTo>
                    <a:pt x="76" y="322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212" y="230"/>
                  </a:lnTo>
                  <a:lnTo>
                    <a:pt x="212" y="23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4" y="150"/>
                  </a:lnTo>
                  <a:lnTo>
                    <a:pt x="68" y="118"/>
                  </a:lnTo>
                  <a:lnTo>
                    <a:pt x="62" y="118"/>
                  </a:lnTo>
                  <a:close/>
                  <a:moveTo>
                    <a:pt x="524" y="396"/>
                  </a:moveTo>
                  <a:lnTo>
                    <a:pt x="524" y="396"/>
                  </a:lnTo>
                  <a:lnTo>
                    <a:pt x="534" y="378"/>
                  </a:lnTo>
                  <a:lnTo>
                    <a:pt x="542" y="360"/>
                  </a:lnTo>
                  <a:lnTo>
                    <a:pt x="548" y="340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0" y="296"/>
                  </a:lnTo>
                  <a:lnTo>
                    <a:pt x="548" y="272"/>
                  </a:lnTo>
                  <a:lnTo>
                    <a:pt x="544" y="250"/>
                  </a:lnTo>
                  <a:lnTo>
                    <a:pt x="538" y="228"/>
                  </a:lnTo>
                  <a:lnTo>
                    <a:pt x="322" y="178"/>
                  </a:lnTo>
                  <a:lnTo>
                    <a:pt x="322" y="178"/>
                  </a:lnTo>
                  <a:lnTo>
                    <a:pt x="326" y="220"/>
                  </a:lnTo>
                  <a:lnTo>
                    <a:pt x="332" y="264"/>
                  </a:lnTo>
                  <a:lnTo>
                    <a:pt x="332" y="264"/>
                  </a:lnTo>
                  <a:lnTo>
                    <a:pt x="338" y="286"/>
                  </a:lnTo>
                  <a:lnTo>
                    <a:pt x="346" y="308"/>
                  </a:lnTo>
                  <a:lnTo>
                    <a:pt x="356" y="328"/>
                  </a:lnTo>
                  <a:lnTo>
                    <a:pt x="368" y="350"/>
                  </a:lnTo>
                  <a:lnTo>
                    <a:pt x="368" y="350"/>
                  </a:lnTo>
                  <a:lnTo>
                    <a:pt x="386" y="370"/>
                  </a:lnTo>
                  <a:lnTo>
                    <a:pt x="404" y="390"/>
                  </a:lnTo>
                  <a:lnTo>
                    <a:pt x="404" y="390"/>
                  </a:lnTo>
                  <a:lnTo>
                    <a:pt x="426" y="404"/>
                  </a:lnTo>
                  <a:lnTo>
                    <a:pt x="446" y="414"/>
                  </a:lnTo>
                  <a:lnTo>
                    <a:pt x="446" y="414"/>
                  </a:lnTo>
                  <a:lnTo>
                    <a:pt x="458" y="416"/>
                  </a:lnTo>
                  <a:lnTo>
                    <a:pt x="468" y="418"/>
                  </a:lnTo>
                  <a:lnTo>
                    <a:pt x="478" y="418"/>
                  </a:lnTo>
                  <a:lnTo>
                    <a:pt x="488" y="418"/>
                  </a:lnTo>
                  <a:lnTo>
                    <a:pt x="488" y="418"/>
                  </a:lnTo>
                  <a:lnTo>
                    <a:pt x="498" y="414"/>
                  </a:lnTo>
                  <a:lnTo>
                    <a:pt x="508" y="410"/>
                  </a:lnTo>
                  <a:lnTo>
                    <a:pt x="516" y="404"/>
                  </a:lnTo>
                  <a:lnTo>
                    <a:pt x="524" y="396"/>
                  </a:lnTo>
                  <a:lnTo>
                    <a:pt x="524" y="39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グループ化 22"/>
          <p:cNvGrpSpPr/>
          <p:nvPr/>
        </p:nvGrpSpPr>
        <p:grpSpPr>
          <a:xfrm>
            <a:off x="9210600" y="33699600"/>
            <a:ext cx="1076400" cy="8746920"/>
            <a:chOff x="9210600" y="33699600"/>
            <a:chExt cx="1076400" cy="8746920"/>
          </a:xfrm>
        </p:grpSpPr>
        <p:sp>
          <p:nvSpPr>
            <p:cNvPr id="59" name="Freeform 15"/>
            <p:cNvSpPr/>
            <p:nvPr/>
          </p:nvSpPr>
          <p:spPr>
            <a:xfrm>
              <a:off x="9216720" y="33699600"/>
              <a:ext cx="1003680" cy="812520"/>
            </a:xfrm>
            <a:custGeom>
              <a:avLst/>
              <a:gdLst>
                <a:gd name="textAreaLeft" fmla="*/ 0 w 1003680"/>
                <a:gd name="textAreaRight" fmla="*/ 1004040 w 100368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632" h="512">
                  <a:moveTo>
                    <a:pt x="110" y="2"/>
                  </a:moveTo>
                  <a:lnTo>
                    <a:pt x="110" y="2"/>
                  </a:lnTo>
                  <a:lnTo>
                    <a:pt x="128" y="0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64" y="14"/>
                  </a:lnTo>
                  <a:lnTo>
                    <a:pt x="178" y="24"/>
                  </a:lnTo>
                  <a:lnTo>
                    <a:pt x="178" y="24"/>
                  </a:lnTo>
                  <a:lnTo>
                    <a:pt x="190" y="38"/>
                  </a:lnTo>
                  <a:lnTo>
                    <a:pt x="196" y="56"/>
                  </a:lnTo>
                  <a:lnTo>
                    <a:pt x="196" y="56"/>
                  </a:lnTo>
                  <a:lnTo>
                    <a:pt x="198" y="64"/>
                  </a:lnTo>
                  <a:lnTo>
                    <a:pt x="198" y="72"/>
                  </a:lnTo>
                  <a:lnTo>
                    <a:pt x="196" y="82"/>
                  </a:lnTo>
                  <a:lnTo>
                    <a:pt x="194" y="90"/>
                  </a:lnTo>
                  <a:lnTo>
                    <a:pt x="194" y="90"/>
                  </a:lnTo>
                  <a:lnTo>
                    <a:pt x="188" y="98"/>
                  </a:lnTo>
                  <a:lnTo>
                    <a:pt x="184" y="106"/>
                  </a:lnTo>
                  <a:lnTo>
                    <a:pt x="178" y="112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58" y="128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36" y="166"/>
                  </a:lnTo>
                  <a:lnTo>
                    <a:pt x="128" y="188"/>
                  </a:lnTo>
                  <a:lnTo>
                    <a:pt x="128" y="188"/>
                  </a:lnTo>
                  <a:lnTo>
                    <a:pt x="124" y="206"/>
                  </a:lnTo>
                  <a:lnTo>
                    <a:pt x="122" y="224"/>
                  </a:lnTo>
                  <a:lnTo>
                    <a:pt x="122" y="224"/>
                  </a:lnTo>
                  <a:lnTo>
                    <a:pt x="122" y="260"/>
                  </a:lnTo>
                  <a:lnTo>
                    <a:pt x="122" y="260"/>
                  </a:lnTo>
                  <a:lnTo>
                    <a:pt x="128" y="288"/>
                  </a:lnTo>
                  <a:lnTo>
                    <a:pt x="128" y="288"/>
                  </a:lnTo>
                  <a:lnTo>
                    <a:pt x="134" y="300"/>
                  </a:lnTo>
                  <a:lnTo>
                    <a:pt x="146" y="314"/>
                  </a:lnTo>
                  <a:lnTo>
                    <a:pt x="146" y="314"/>
                  </a:lnTo>
                  <a:lnTo>
                    <a:pt x="152" y="322"/>
                  </a:lnTo>
                  <a:lnTo>
                    <a:pt x="158" y="330"/>
                  </a:lnTo>
                  <a:lnTo>
                    <a:pt x="166" y="336"/>
                  </a:lnTo>
                  <a:lnTo>
                    <a:pt x="174" y="340"/>
                  </a:lnTo>
                  <a:lnTo>
                    <a:pt x="174" y="340"/>
                  </a:lnTo>
                  <a:lnTo>
                    <a:pt x="192" y="346"/>
                  </a:lnTo>
                  <a:lnTo>
                    <a:pt x="208" y="348"/>
                  </a:lnTo>
                  <a:lnTo>
                    <a:pt x="208" y="348"/>
                  </a:lnTo>
                  <a:lnTo>
                    <a:pt x="224" y="346"/>
                  </a:lnTo>
                  <a:lnTo>
                    <a:pt x="240" y="338"/>
                  </a:lnTo>
                  <a:lnTo>
                    <a:pt x="240" y="338"/>
                  </a:lnTo>
                  <a:lnTo>
                    <a:pt x="246" y="334"/>
                  </a:lnTo>
                  <a:lnTo>
                    <a:pt x="250" y="328"/>
                  </a:lnTo>
                  <a:lnTo>
                    <a:pt x="256" y="322"/>
                  </a:lnTo>
                  <a:lnTo>
                    <a:pt x="258" y="314"/>
                  </a:lnTo>
                  <a:lnTo>
                    <a:pt x="258" y="314"/>
                  </a:lnTo>
                  <a:lnTo>
                    <a:pt x="268" y="282"/>
                  </a:lnTo>
                  <a:lnTo>
                    <a:pt x="276" y="250"/>
                  </a:lnTo>
                  <a:lnTo>
                    <a:pt x="276" y="250"/>
                  </a:lnTo>
                  <a:lnTo>
                    <a:pt x="282" y="220"/>
                  </a:lnTo>
                  <a:lnTo>
                    <a:pt x="290" y="188"/>
                  </a:lnTo>
                  <a:lnTo>
                    <a:pt x="290" y="188"/>
                  </a:lnTo>
                  <a:lnTo>
                    <a:pt x="300" y="160"/>
                  </a:lnTo>
                  <a:lnTo>
                    <a:pt x="314" y="134"/>
                  </a:lnTo>
                  <a:lnTo>
                    <a:pt x="314" y="134"/>
                  </a:lnTo>
                  <a:lnTo>
                    <a:pt x="324" y="122"/>
                  </a:lnTo>
                  <a:lnTo>
                    <a:pt x="334" y="112"/>
                  </a:lnTo>
                  <a:lnTo>
                    <a:pt x="346" y="102"/>
                  </a:lnTo>
                  <a:lnTo>
                    <a:pt x="360" y="94"/>
                  </a:lnTo>
                  <a:lnTo>
                    <a:pt x="360" y="94"/>
                  </a:lnTo>
                  <a:lnTo>
                    <a:pt x="376" y="86"/>
                  </a:lnTo>
                  <a:lnTo>
                    <a:pt x="390" y="82"/>
                  </a:lnTo>
                  <a:lnTo>
                    <a:pt x="390" y="82"/>
                  </a:lnTo>
                  <a:lnTo>
                    <a:pt x="420" y="82"/>
                  </a:lnTo>
                  <a:lnTo>
                    <a:pt x="420" y="82"/>
                  </a:lnTo>
                  <a:lnTo>
                    <a:pt x="442" y="84"/>
                  </a:lnTo>
                  <a:lnTo>
                    <a:pt x="464" y="88"/>
                  </a:lnTo>
                  <a:lnTo>
                    <a:pt x="482" y="96"/>
                  </a:lnTo>
                  <a:lnTo>
                    <a:pt x="498" y="106"/>
                  </a:lnTo>
                  <a:lnTo>
                    <a:pt x="498" y="106"/>
                  </a:lnTo>
                  <a:lnTo>
                    <a:pt x="528" y="132"/>
                  </a:lnTo>
                  <a:lnTo>
                    <a:pt x="556" y="160"/>
                  </a:lnTo>
                  <a:lnTo>
                    <a:pt x="556" y="160"/>
                  </a:lnTo>
                  <a:lnTo>
                    <a:pt x="572" y="178"/>
                  </a:lnTo>
                  <a:lnTo>
                    <a:pt x="586" y="198"/>
                  </a:lnTo>
                  <a:lnTo>
                    <a:pt x="596" y="220"/>
                  </a:lnTo>
                  <a:lnTo>
                    <a:pt x="606" y="240"/>
                  </a:lnTo>
                  <a:lnTo>
                    <a:pt x="606" y="240"/>
                  </a:lnTo>
                  <a:lnTo>
                    <a:pt x="614" y="262"/>
                  </a:lnTo>
                  <a:lnTo>
                    <a:pt x="622" y="284"/>
                  </a:lnTo>
                  <a:lnTo>
                    <a:pt x="626" y="306"/>
                  </a:lnTo>
                  <a:lnTo>
                    <a:pt x="630" y="328"/>
                  </a:lnTo>
                  <a:lnTo>
                    <a:pt x="630" y="328"/>
                  </a:lnTo>
                  <a:lnTo>
                    <a:pt x="632" y="348"/>
                  </a:lnTo>
                  <a:lnTo>
                    <a:pt x="632" y="370"/>
                  </a:lnTo>
                  <a:lnTo>
                    <a:pt x="630" y="392"/>
                  </a:lnTo>
                  <a:lnTo>
                    <a:pt x="628" y="412"/>
                  </a:lnTo>
                  <a:lnTo>
                    <a:pt x="628" y="412"/>
                  </a:lnTo>
                  <a:lnTo>
                    <a:pt x="624" y="434"/>
                  </a:lnTo>
                  <a:lnTo>
                    <a:pt x="618" y="452"/>
                  </a:lnTo>
                  <a:lnTo>
                    <a:pt x="612" y="472"/>
                  </a:lnTo>
                  <a:lnTo>
                    <a:pt x="604" y="490"/>
                  </a:lnTo>
                  <a:lnTo>
                    <a:pt x="604" y="490"/>
                  </a:lnTo>
                  <a:lnTo>
                    <a:pt x="598" y="498"/>
                  </a:lnTo>
                  <a:lnTo>
                    <a:pt x="592" y="506"/>
                  </a:lnTo>
                  <a:lnTo>
                    <a:pt x="584" y="510"/>
                  </a:lnTo>
                  <a:lnTo>
                    <a:pt x="574" y="512"/>
                  </a:lnTo>
                  <a:lnTo>
                    <a:pt x="574" y="512"/>
                  </a:lnTo>
                  <a:lnTo>
                    <a:pt x="564" y="512"/>
                  </a:lnTo>
                  <a:lnTo>
                    <a:pt x="554" y="510"/>
                  </a:lnTo>
                  <a:lnTo>
                    <a:pt x="544" y="508"/>
                  </a:lnTo>
                  <a:lnTo>
                    <a:pt x="534" y="504"/>
                  </a:lnTo>
                  <a:lnTo>
                    <a:pt x="534" y="504"/>
                  </a:lnTo>
                  <a:lnTo>
                    <a:pt x="526" y="498"/>
                  </a:lnTo>
                  <a:lnTo>
                    <a:pt x="518" y="492"/>
                  </a:lnTo>
                  <a:lnTo>
                    <a:pt x="510" y="484"/>
                  </a:lnTo>
                  <a:lnTo>
                    <a:pt x="502" y="474"/>
                  </a:lnTo>
                  <a:lnTo>
                    <a:pt x="502" y="474"/>
                  </a:lnTo>
                  <a:lnTo>
                    <a:pt x="498" y="464"/>
                  </a:lnTo>
                  <a:lnTo>
                    <a:pt x="494" y="454"/>
                  </a:lnTo>
                  <a:lnTo>
                    <a:pt x="494" y="444"/>
                  </a:lnTo>
                  <a:lnTo>
                    <a:pt x="494" y="434"/>
                  </a:lnTo>
                  <a:lnTo>
                    <a:pt x="494" y="434"/>
                  </a:lnTo>
                  <a:lnTo>
                    <a:pt x="504" y="394"/>
                  </a:lnTo>
                  <a:lnTo>
                    <a:pt x="504" y="394"/>
                  </a:lnTo>
                  <a:lnTo>
                    <a:pt x="514" y="356"/>
                  </a:lnTo>
                  <a:lnTo>
                    <a:pt x="514" y="356"/>
                  </a:lnTo>
                  <a:lnTo>
                    <a:pt x="516" y="340"/>
                  </a:lnTo>
                  <a:lnTo>
                    <a:pt x="514" y="322"/>
                  </a:lnTo>
                  <a:lnTo>
                    <a:pt x="514" y="322"/>
                  </a:lnTo>
                  <a:lnTo>
                    <a:pt x="512" y="304"/>
                  </a:lnTo>
                  <a:lnTo>
                    <a:pt x="508" y="288"/>
                  </a:lnTo>
                  <a:lnTo>
                    <a:pt x="508" y="288"/>
                  </a:lnTo>
                  <a:lnTo>
                    <a:pt x="498" y="256"/>
                  </a:lnTo>
                  <a:lnTo>
                    <a:pt x="498" y="256"/>
                  </a:lnTo>
                  <a:lnTo>
                    <a:pt x="494" y="244"/>
                  </a:lnTo>
                  <a:lnTo>
                    <a:pt x="488" y="234"/>
                  </a:lnTo>
                  <a:lnTo>
                    <a:pt x="488" y="234"/>
                  </a:lnTo>
                  <a:lnTo>
                    <a:pt x="480" y="224"/>
                  </a:lnTo>
                  <a:lnTo>
                    <a:pt x="470" y="214"/>
                  </a:lnTo>
                  <a:lnTo>
                    <a:pt x="470" y="214"/>
                  </a:lnTo>
                  <a:lnTo>
                    <a:pt x="460" y="206"/>
                  </a:lnTo>
                  <a:lnTo>
                    <a:pt x="446" y="202"/>
                  </a:lnTo>
                  <a:lnTo>
                    <a:pt x="446" y="202"/>
                  </a:lnTo>
                  <a:lnTo>
                    <a:pt x="438" y="200"/>
                  </a:lnTo>
                  <a:lnTo>
                    <a:pt x="432" y="200"/>
                  </a:lnTo>
                  <a:lnTo>
                    <a:pt x="426" y="202"/>
                  </a:lnTo>
                  <a:lnTo>
                    <a:pt x="420" y="208"/>
                  </a:lnTo>
                  <a:lnTo>
                    <a:pt x="420" y="208"/>
                  </a:lnTo>
                  <a:lnTo>
                    <a:pt x="410" y="220"/>
                  </a:lnTo>
                  <a:lnTo>
                    <a:pt x="404" y="234"/>
                  </a:lnTo>
                  <a:lnTo>
                    <a:pt x="404" y="234"/>
                  </a:lnTo>
                  <a:lnTo>
                    <a:pt x="392" y="296"/>
                  </a:lnTo>
                  <a:lnTo>
                    <a:pt x="392" y="296"/>
                  </a:lnTo>
                  <a:lnTo>
                    <a:pt x="384" y="328"/>
                  </a:lnTo>
                  <a:lnTo>
                    <a:pt x="374" y="358"/>
                  </a:lnTo>
                  <a:lnTo>
                    <a:pt x="374" y="358"/>
                  </a:lnTo>
                  <a:lnTo>
                    <a:pt x="362" y="388"/>
                  </a:lnTo>
                  <a:lnTo>
                    <a:pt x="346" y="412"/>
                  </a:lnTo>
                  <a:lnTo>
                    <a:pt x="346" y="412"/>
                  </a:lnTo>
                  <a:lnTo>
                    <a:pt x="336" y="424"/>
                  </a:lnTo>
                  <a:lnTo>
                    <a:pt x="326" y="434"/>
                  </a:lnTo>
                  <a:lnTo>
                    <a:pt x="314" y="444"/>
                  </a:lnTo>
                  <a:lnTo>
                    <a:pt x="300" y="450"/>
                  </a:lnTo>
                  <a:lnTo>
                    <a:pt x="300" y="450"/>
                  </a:lnTo>
                  <a:lnTo>
                    <a:pt x="288" y="458"/>
                  </a:lnTo>
                  <a:lnTo>
                    <a:pt x="274" y="464"/>
                  </a:lnTo>
                  <a:lnTo>
                    <a:pt x="260" y="466"/>
                  </a:lnTo>
                  <a:lnTo>
                    <a:pt x="244" y="468"/>
                  </a:lnTo>
                  <a:lnTo>
                    <a:pt x="244" y="468"/>
                  </a:lnTo>
                  <a:lnTo>
                    <a:pt x="228" y="470"/>
                  </a:lnTo>
                  <a:lnTo>
                    <a:pt x="212" y="468"/>
                  </a:lnTo>
                  <a:lnTo>
                    <a:pt x="196" y="466"/>
                  </a:lnTo>
                  <a:lnTo>
                    <a:pt x="180" y="462"/>
                  </a:lnTo>
                  <a:lnTo>
                    <a:pt x="180" y="462"/>
                  </a:lnTo>
                  <a:lnTo>
                    <a:pt x="164" y="456"/>
                  </a:lnTo>
                  <a:lnTo>
                    <a:pt x="150" y="450"/>
                  </a:lnTo>
                  <a:lnTo>
                    <a:pt x="120" y="432"/>
                  </a:lnTo>
                  <a:lnTo>
                    <a:pt x="120" y="432"/>
                  </a:lnTo>
                  <a:lnTo>
                    <a:pt x="106" y="422"/>
                  </a:lnTo>
                  <a:lnTo>
                    <a:pt x="92" y="412"/>
                  </a:lnTo>
                  <a:lnTo>
                    <a:pt x="80" y="400"/>
                  </a:lnTo>
                  <a:lnTo>
                    <a:pt x="68" y="386"/>
                  </a:lnTo>
                  <a:lnTo>
                    <a:pt x="68" y="386"/>
                  </a:lnTo>
                  <a:lnTo>
                    <a:pt x="54" y="368"/>
                  </a:lnTo>
                  <a:lnTo>
                    <a:pt x="42" y="348"/>
                  </a:lnTo>
                  <a:lnTo>
                    <a:pt x="42" y="348"/>
                  </a:lnTo>
                  <a:lnTo>
                    <a:pt x="20" y="308"/>
                  </a:lnTo>
                  <a:lnTo>
                    <a:pt x="20" y="308"/>
                  </a:lnTo>
                  <a:lnTo>
                    <a:pt x="12" y="286"/>
                  </a:lnTo>
                  <a:lnTo>
                    <a:pt x="6" y="264"/>
                  </a:lnTo>
                  <a:lnTo>
                    <a:pt x="2" y="24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2" y="198"/>
                  </a:lnTo>
                  <a:lnTo>
                    <a:pt x="4" y="178"/>
                  </a:lnTo>
                  <a:lnTo>
                    <a:pt x="8" y="15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20" y="116"/>
                  </a:lnTo>
                  <a:lnTo>
                    <a:pt x="30" y="96"/>
                  </a:lnTo>
                  <a:lnTo>
                    <a:pt x="38" y="7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62" y="44"/>
                  </a:lnTo>
                  <a:lnTo>
                    <a:pt x="74" y="30"/>
                  </a:lnTo>
                  <a:lnTo>
                    <a:pt x="88" y="18"/>
                  </a:lnTo>
                  <a:lnTo>
                    <a:pt x="102" y="6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9210600" y="34506000"/>
              <a:ext cx="1063800" cy="87624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70" h="552">
                  <a:moveTo>
                    <a:pt x="586" y="122"/>
                  </a:moveTo>
                  <a:lnTo>
                    <a:pt x="586" y="122"/>
                  </a:lnTo>
                  <a:lnTo>
                    <a:pt x="596" y="128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616" y="146"/>
                  </a:lnTo>
                  <a:lnTo>
                    <a:pt x="624" y="156"/>
                  </a:lnTo>
                  <a:lnTo>
                    <a:pt x="624" y="156"/>
                  </a:lnTo>
                  <a:lnTo>
                    <a:pt x="632" y="168"/>
                  </a:lnTo>
                  <a:lnTo>
                    <a:pt x="636" y="180"/>
                  </a:lnTo>
                  <a:lnTo>
                    <a:pt x="636" y="180"/>
                  </a:lnTo>
                  <a:lnTo>
                    <a:pt x="638" y="190"/>
                  </a:lnTo>
                  <a:lnTo>
                    <a:pt x="636" y="202"/>
                  </a:lnTo>
                  <a:lnTo>
                    <a:pt x="636" y="202"/>
                  </a:lnTo>
                  <a:lnTo>
                    <a:pt x="648" y="240"/>
                  </a:lnTo>
                  <a:lnTo>
                    <a:pt x="660" y="280"/>
                  </a:lnTo>
                  <a:lnTo>
                    <a:pt x="660" y="280"/>
                  </a:lnTo>
                  <a:lnTo>
                    <a:pt x="666" y="318"/>
                  </a:lnTo>
                  <a:lnTo>
                    <a:pt x="670" y="356"/>
                  </a:lnTo>
                  <a:lnTo>
                    <a:pt x="670" y="356"/>
                  </a:lnTo>
                  <a:lnTo>
                    <a:pt x="670" y="374"/>
                  </a:lnTo>
                  <a:lnTo>
                    <a:pt x="670" y="392"/>
                  </a:lnTo>
                  <a:lnTo>
                    <a:pt x="666" y="410"/>
                  </a:lnTo>
                  <a:lnTo>
                    <a:pt x="664" y="426"/>
                  </a:lnTo>
                  <a:lnTo>
                    <a:pt x="664" y="426"/>
                  </a:lnTo>
                  <a:lnTo>
                    <a:pt x="658" y="444"/>
                  </a:lnTo>
                  <a:lnTo>
                    <a:pt x="652" y="460"/>
                  </a:lnTo>
                  <a:lnTo>
                    <a:pt x="644" y="474"/>
                  </a:lnTo>
                  <a:lnTo>
                    <a:pt x="634" y="490"/>
                  </a:lnTo>
                  <a:lnTo>
                    <a:pt x="634" y="490"/>
                  </a:lnTo>
                  <a:lnTo>
                    <a:pt x="624" y="500"/>
                  </a:lnTo>
                  <a:lnTo>
                    <a:pt x="614" y="510"/>
                  </a:lnTo>
                  <a:lnTo>
                    <a:pt x="602" y="518"/>
                  </a:lnTo>
                  <a:lnTo>
                    <a:pt x="590" y="526"/>
                  </a:lnTo>
                  <a:lnTo>
                    <a:pt x="590" y="526"/>
                  </a:lnTo>
                  <a:lnTo>
                    <a:pt x="564" y="540"/>
                  </a:lnTo>
                  <a:lnTo>
                    <a:pt x="536" y="548"/>
                  </a:lnTo>
                  <a:lnTo>
                    <a:pt x="536" y="548"/>
                  </a:lnTo>
                  <a:lnTo>
                    <a:pt x="510" y="552"/>
                  </a:lnTo>
                  <a:lnTo>
                    <a:pt x="484" y="552"/>
                  </a:lnTo>
                  <a:lnTo>
                    <a:pt x="458" y="550"/>
                  </a:lnTo>
                  <a:lnTo>
                    <a:pt x="432" y="546"/>
                  </a:lnTo>
                  <a:lnTo>
                    <a:pt x="432" y="546"/>
                  </a:lnTo>
                  <a:lnTo>
                    <a:pt x="408" y="538"/>
                  </a:lnTo>
                  <a:lnTo>
                    <a:pt x="384" y="526"/>
                  </a:lnTo>
                  <a:lnTo>
                    <a:pt x="360" y="514"/>
                  </a:lnTo>
                  <a:lnTo>
                    <a:pt x="338" y="500"/>
                  </a:lnTo>
                  <a:lnTo>
                    <a:pt x="338" y="500"/>
                  </a:lnTo>
                  <a:lnTo>
                    <a:pt x="316" y="482"/>
                  </a:lnTo>
                  <a:lnTo>
                    <a:pt x="296" y="464"/>
                  </a:lnTo>
                  <a:lnTo>
                    <a:pt x="278" y="442"/>
                  </a:lnTo>
                  <a:lnTo>
                    <a:pt x="260" y="420"/>
                  </a:lnTo>
                  <a:lnTo>
                    <a:pt x="260" y="420"/>
                  </a:lnTo>
                  <a:lnTo>
                    <a:pt x="244" y="396"/>
                  </a:lnTo>
                  <a:lnTo>
                    <a:pt x="232" y="370"/>
                  </a:lnTo>
                  <a:lnTo>
                    <a:pt x="220" y="344"/>
                  </a:lnTo>
                  <a:lnTo>
                    <a:pt x="212" y="316"/>
                  </a:lnTo>
                  <a:lnTo>
                    <a:pt x="212" y="316"/>
                  </a:lnTo>
                  <a:lnTo>
                    <a:pt x="206" y="294"/>
                  </a:lnTo>
                  <a:lnTo>
                    <a:pt x="202" y="272"/>
                  </a:lnTo>
                  <a:lnTo>
                    <a:pt x="200" y="252"/>
                  </a:lnTo>
                  <a:lnTo>
                    <a:pt x="200" y="230"/>
                  </a:lnTo>
                  <a:lnTo>
                    <a:pt x="200" y="230"/>
                  </a:lnTo>
                  <a:lnTo>
                    <a:pt x="202" y="190"/>
                  </a:lnTo>
                  <a:lnTo>
                    <a:pt x="206" y="150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90" y="124"/>
                  </a:lnTo>
                  <a:lnTo>
                    <a:pt x="90" y="124"/>
                  </a:lnTo>
                  <a:lnTo>
                    <a:pt x="68" y="120"/>
                  </a:lnTo>
                  <a:lnTo>
                    <a:pt x="68" y="120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34" y="10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16" y="90"/>
                  </a:lnTo>
                  <a:lnTo>
                    <a:pt x="10" y="82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38" y="34"/>
                  </a:lnTo>
                  <a:lnTo>
                    <a:pt x="244" y="28"/>
                  </a:lnTo>
                  <a:lnTo>
                    <a:pt x="250" y="22"/>
                  </a:lnTo>
                  <a:lnTo>
                    <a:pt x="256" y="20"/>
                  </a:lnTo>
                  <a:lnTo>
                    <a:pt x="256" y="20"/>
                  </a:lnTo>
                  <a:lnTo>
                    <a:pt x="270" y="16"/>
                  </a:lnTo>
                  <a:lnTo>
                    <a:pt x="286" y="18"/>
                  </a:lnTo>
                  <a:lnTo>
                    <a:pt x="286" y="18"/>
                  </a:lnTo>
                  <a:lnTo>
                    <a:pt x="300" y="24"/>
                  </a:lnTo>
                  <a:lnTo>
                    <a:pt x="314" y="34"/>
                  </a:lnTo>
                  <a:lnTo>
                    <a:pt x="314" y="34"/>
                  </a:lnTo>
                  <a:lnTo>
                    <a:pt x="326" y="48"/>
                  </a:lnTo>
                  <a:lnTo>
                    <a:pt x="336" y="64"/>
                  </a:lnTo>
                  <a:lnTo>
                    <a:pt x="580" y="120"/>
                  </a:lnTo>
                  <a:lnTo>
                    <a:pt x="586" y="122"/>
                  </a:lnTo>
                  <a:close/>
                  <a:moveTo>
                    <a:pt x="544" y="392"/>
                  </a:moveTo>
                  <a:lnTo>
                    <a:pt x="544" y="392"/>
                  </a:lnTo>
                  <a:lnTo>
                    <a:pt x="550" y="372"/>
                  </a:lnTo>
                  <a:lnTo>
                    <a:pt x="554" y="352"/>
                  </a:lnTo>
                  <a:lnTo>
                    <a:pt x="556" y="332"/>
                  </a:lnTo>
                  <a:lnTo>
                    <a:pt x="554" y="312"/>
                  </a:lnTo>
                  <a:lnTo>
                    <a:pt x="554" y="312"/>
                  </a:lnTo>
                  <a:lnTo>
                    <a:pt x="550" y="290"/>
                  </a:lnTo>
                  <a:lnTo>
                    <a:pt x="544" y="268"/>
                  </a:lnTo>
                  <a:lnTo>
                    <a:pt x="538" y="246"/>
                  </a:lnTo>
                  <a:lnTo>
                    <a:pt x="528" y="224"/>
                  </a:lnTo>
                  <a:lnTo>
                    <a:pt x="320" y="176"/>
                  </a:lnTo>
                  <a:lnTo>
                    <a:pt x="320" y="176"/>
                  </a:lnTo>
                  <a:lnTo>
                    <a:pt x="318" y="198"/>
                  </a:lnTo>
                  <a:lnTo>
                    <a:pt x="316" y="222"/>
                  </a:lnTo>
                  <a:lnTo>
                    <a:pt x="316" y="244"/>
                  </a:lnTo>
                  <a:lnTo>
                    <a:pt x="316" y="268"/>
                  </a:lnTo>
                  <a:lnTo>
                    <a:pt x="316" y="268"/>
                  </a:lnTo>
                  <a:lnTo>
                    <a:pt x="320" y="292"/>
                  </a:lnTo>
                  <a:lnTo>
                    <a:pt x="326" y="314"/>
                  </a:lnTo>
                  <a:lnTo>
                    <a:pt x="334" y="338"/>
                  </a:lnTo>
                  <a:lnTo>
                    <a:pt x="346" y="360"/>
                  </a:lnTo>
                  <a:lnTo>
                    <a:pt x="346" y="360"/>
                  </a:lnTo>
                  <a:lnTo>
                    <a:pt x="354" y="376"/>
                  </a:lnTo>
                  <a:lnTo>
                    <a:pt x="366" y="388"/>
                  </a:lnTo>
                  <a:lnTo>
                    <a:pt x="378" y="400"/>
                  </a:lnTo>
                  <a:lnTo>
                    <a:pt x="392" y="410"/>
                  </a:lnTo>
                  <a:lnTo>
                    <a:pt x="392" y="410"/>
                  </a:lnTo>
                  <a:lnTo>
                    <a:pt x="406" y="416"/>
                  </a:lnTo>
                  <a:lnTo>
                    <a:pt x="420" y="422"/>
                  </a:lnTo>
                  <a:lnTo>
                    <a:pt x="434" y="428"/>
                  </a:lnTo>
                  <a:lnTo>
                    <a:pt x="448" y="430"/>
                  </a:lnTo>
                  <a:lnTo>
                    <a:pt x="448" y="430"/>
                  </a:lnTo>
                  <a:lnTo>
                    <a:pt x="462" y="430"/>
                  </a:lnTo>
                  <a:lnTo>
                    <a:pt x="476" y="430"/>
                  </a:lnTo>
                  <a:lnTo>
                    <a:pt x="490" y="428"/>
                  </a:lnTo>
                  <a:lnTo>
                    <a:pt x="502" y="424"/>
                  </a:lnTo>
                  <a:lnTo>
                    <a:pt x="502" y="424"/>
                  </a:lnTo>
                  <a:lnTo>
                    <a:pt x="516" y="418"/>
                  </a:lnTo>
                  <a:lnTo>
                    <a:pt x="526" y="410"/>
                  </a:lnTo>
                  <a:lnTo>
                    <a:pt x="536" y="402"/>
                  </a:lnTo>
                  <a:lnTo>
                    <a:pt x="544" y="392"/>
                  </a:lnTo>
                  <a:lnTo>
                    <a:pt x="544" y="39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9226440" y="35340840"/>
              <a:ext cx="1060560" cy="86040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668" h="542">
                  <a:moveTo>
                    <a:pt x="62" y="118"/>
                  </a:moveTo>
                  <a:lnTo>
                    <a:pt x="62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0" y="9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10" y="68"/>
                  </a:lnTo>
                  <a:lnTo>
                    <a:pt x="6" y="5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154" y="24"/>
                  </a:lnTo>
                  <a:lnTo>
                    <a:pt x="270" y="48"/>
                  </a:lnTo>
                  <a:lnTo>
                    <a:pt x="270" y="48"/>
                  </a:lnTo>
                  <a:lnTo>
                    <a:pt x="504" y="104"/>
                  </a:lnTo>
                  <a:lnTo>
                    <a:pt x="504" y="104"/>
                  </a:lnTo>
                  <a:lnTo>
                    <a:pt x="512" y="92"/>
                  </a:lnTo>
                  <a:lnTo>
                    <a:pt x="516" y="88"/>
                  </a:lnTo>
                  <a:lnTo>
                    <a:pt x="522" y="84"/>
                  </a:lnTo>
                  <a:lnTo>
                    <a:pt x="522" y="84"/>
                  </a:lnTo>
                  <a:lnTo>
                    <a:pt x="534" y="80"/>
                  </a:lnTo>
                  <a:lnTo>
                    <a:pt x="548" y="80"/>
                  </a:lnTo>
                  <a:lnTo>
                    <a:pt x="548" y="80"/>
                  </a:lnTo>
                  <a:lnTo>
                    <a:pt x="562" y="84"/>
                  </a:lnTo>
                  <a:lnTo>
                    <a:pt x="576" y="90"/>
                  </a:lnTo>
                  <a:lnTo>
                    <a:pt x="576" y="90"/>
                  </a:lnTo>
                  <a:lnTo>
                    <a:pt x="588" y="100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12" y="126"/>
                  </a:lnTo>
                  <a:lnTo>
                    <a:pt x="622" y="144"/>
                  </a:lnTo>
                  <a:lnTo>
                    <a:pt x="622" y="144"/>
                  </a:lnTo>
                  <a:lnTo>
                    <a:pt x="630" y="166"/>
                  </a:lnTo>
                  <a:lnTo>
                    <a:pt x="640" y="188"/>
                  </a:lnTo>
                  <a:lnTo>
                    <a:pt x="640" y="188"/>
                  </a:lnTo>
                  <a:lnTo>
                    <a:pt x="652" y="234"/>
                  </a:lnTo>
                  <a:lnTo>
                    <a:pt x="652" y="234"/>
                  </a:lnTo>
                  <a:lnTo>
                    <a:pt x="662" y="272"/>
                  </a:lnTo>
                  <a:lnTo>
                    <a:pt x="662" y="272"/>
                  </a:lnTo>
                  <a:lnTo>
                    <a:pt x="666" y="302"/>
                  </a:lnTo>
                  <a:lnTo>
                    <a:pt x="668" y="334"/>
                  </a:lnTo>
                  <a:lnTo>
                    <a:pt x="666" y="364"/>
                  </a:lnTo>
                  <a:lnTo>
                    <a:pt x="662" y="392"/>
                  </a:lnTo>
                  <a:lnTo>
                    <a:pt x="662" y="392"/>
                  </a:lnTo>
                  <a:lnTo>
                    <a:pt x="654" y="420"/>
                  </a:lnTo>
                  <a:lnTo>
                    <a:pt x="642" y="446"/>
                  </a:lnTo>
                  <a:lnTo>
                    <a:pt x="630" y="470"/>
                  </a:lnTo>
                  <a:lnTo>
                    <a:pt x="614" y="490"/>
                  </a:lnTo>
                  <a:lnTo>
                    <a:pt x="614" y="490"/>
                  </a:lnTo>
                  <a:lnTo>
                    <a:pt x="596" y="508"/>
                  </a:lnTo>
                  <a:lnTo>
                    <a:pt x="576" y="522"/>
                  </a:lnTo>
                  <a:lnTo>
                    <a:pt x="554" y="532"/>
                  </a:lnTo>
                  <a:lnTo>
                    <a:pt x="528" y="538"/>
                  </a:lnTo>
                  <a:lnTo>
                    <a:pt x="528" y="538"/>
                  </a:lnTo>
                  <a:lnTo>
                    <a:pt x="514" y="540"/>
                  </a:lnTo>
                  <a:lnTo>
                    <a:pt x="500" y="542"/>
                  </a:lnTo>
                  <a:lnTo>
                    <a:pt x="486" y="540"/>
                  </a:lnTo>
                  <a:lnTo>
                    <a:pt x="470" y="538"/>
                  </a:lnTo>
                  <a:lnTo>
                    <a:pt x="454" y="534"/>
                  </a:lnTo>
                  <a:lnTo>
                    <a:pt x="438" y="530"/>
                  </a:lnTo>
                  <a:lnTo>
                    <a:pt x="406" y="516"/>
                  </a:lnTo>
                  <a:lnTo>
                    <a:pt x="406" y="516"/>
                  </a:lnTo>
                  <a:lnTo>
                    <a:pt x="386" y="504"/>
                  </a:lnTo>
                  <a:lnTo>
                    <a:pt x="366" y="492"/>
                  </a:lnTo>
                  <a:lnTo>
                    <a:pt x="366" y="492"/>
                  </a:lnTo>
                  <a:lnTo>
                    <a:pt x="348" y="478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08" y="440"/>
                  </a:lnTo>
                  <a:lnTo>
                    <a:pt x="288" y="416"/>
                  </a:lnTo>
                  <a:lnTo>
                    <a:pt x="288" y="416"/>
                  </a:lnTo>
                  <a:lnTo>
                    <a:pt x="270" y="388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32" y="372"/>
                  </a:lnTo>
                  <a:lnTo>
                    <a:pt x="212" y="384"/>
                  </a:lnTo>
                  <a:lnTo>
                    <a:pt x="212" y="384"/>
                  </a:lnTo>
                  <a:lnTo>
                    <a:pt x="192" y="398"/>
                  </a:lnTo>
                  <a:lnTo>
                    <a:pt x="174" y="412"/>
                  </a:lnTo>
                  <a:lnTo>
                    <a:pt x="174" y="412"/>
                  </a:lnTo>
                  <a:lnTo>
                    <a:pt x="152" y="430"/>
                  </a:lnTo>
                  <a:lnTo>
                    <a:pt x="152" y="430"/>
                  </a:lnTo>
                  <a:lnTo>
                    <a:pt x="122" y="452"/>
                  </a:lnTo>
                  <a:lnTo>
                    <a:pt x="122" y="452"/>
                  </a:lnTo>
                  <a:lnTo>
                    <a:pt x="106" y="460"/>
                  </a:lnTo>
                  <a:lnTo>
                    <a:pt x="90" y="468"/>
                  </a:lnTo>
                  <a:lnTo>
                    <a:pt x="90" y="468"/>
                  </a:lnTo>
                  <a:lnTo>
                    <a:pt x="76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4" y="472"/>
                  </a:lnTo>
                  <a:lnTo>
                    <a:pt x="46" y="464"/>
                  </a:lnTo>
                  <a:lnTo>
                    <a:pt x="30" y="454"/>
                  </a:lnTo>
                  <a:lnTo>
                    <a:pt x="30" y="454"/>
                  </a:lnTo>
                  <a:lnTo>
                    <a:pt x="18" y="442"/>
                  </a:lnTo>
                  <a:lnTo>
                    <a:pt x="8" y="426"/>
                  </a:lnTo>
                  <a:lnTo>
                    <a:pt x="8" y="426"/>
                  </a:lnTo>
                  <a:lnTo>
                    <a:pt x="2" y="412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0"/>
                  </a:lnTo>
                  <a:lnTo>
                    <a:pt x="2" y="382"/>
                  </a:lnTo>
                  <a:lnTo>
                    <a:pt x="6" y="376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24" y="356"/>
                  </a:lnTo>
                  <a:lnTo>
                    <a:pt x="42" y="344"/>
                  </a:lnTo>
                  <a:lnTo>
                    <a:pt x="42" y="344"/>
                  </a:lnTo>
                  <a:lnTo>
                    <a:pt x="76" y="322"/>
                  </a:lnTo>
                  <a:lnTo>
                    <a:pt x="76" y="322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212" y="230"/>
                  </a:lnTo>
                  <a:lnTo>
                    <a:pt x="212" y="23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4" y="150"/>
                  </a:lnTo>
                  <a:lnTo>
                    <a:pt x="68" y="120"/>
                  </a:lnTo>
                  <a:lnTo>
                    <a:pt x="62" y="118"/>
                  </a:lnTo>
                  <a:close/>
                  <a:moveTo>
                    <a:pt x="524" y="396"/>
                  </a:moveTo>
                  <a:lnTo>
                    <a:pt x="524" y="396"/>
                  </a:lnTo>
                  <a:lnTo>
                    <a:pt x="534" y="378"/>
                  </a:lnTo>
                  <a:lnTo>
                    <a:pt x="542" y="360"/>
                  </a:lnTo>
                  <a:lnTo>
                    <a:pt x="548" y="340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0" y="296"/>
                  </a:lnTo>
                  <a:lnTo>
                    <a:pt x="548" y="272"/>
                  </a:lnTo>
                  <a:lnTo>
                    <a:pt x="544" y="250"/>
                  </a:lnTo>
                  <a:lnTo>
                    <a:pt x="538" y="228"/>
                  </a:lnTo>
                  <a:lnTo>
                    <a:pt x="322" y="178"/>
                  </a:lnTo>
                  <a:lnTo>
                    <a:pt x="322" y="178"/>
                  </a:lnTo>
                  <a:lnTo>
                    <a:pt x="326" y="222"/>
                  </a:lnTo>
                  <a:lnTo>
                    <a:pt x="332" y="264"/>
                  </a:lnTo>
                  <a:lnTo>
                    <a:pt x="332" y="264"/>
                  </a:lnTo>
                  <a:lnTo>
                    <a:pt x="338" y="286"/>
                  </a:lnTo>
                  <a:lnTo>
                    <a:pt x="346" y="308"/>
                  </a:lnTo>
                  <a:lnTo>
                    <a:pt x="356" y="330"/>
                  </a:lnTo>
                  <a:lnTo>
                    <a:pt x="368" y="350"/>
                  </a:lnTo>
                  <a:lnTo>
                    <a:pt x="368" y="350"/>
                  </a:lnTo>
                  <a:lnTo>
                    <a:pt x="386" y="372"/>
                  </a:lnTo>
                  <a:lnTo>
                    <a:pt x="404" y="390"/>
                  </a:lnTo>
                  <a:lnTo>
                    <a:pt x="404" y="390"/>
                  </a:lnTo>
                  <a:lnTo>
                    <a:pt x="426" y="404"/>
                  </a:lnTo>
                  <a:lnTo>
                    <a:pt x="446" y="414"/>
                  </a:lnTo>
                  <a:lnTo>
                    <a:pt x="446" y="414"/>
                  </a:lnTo>
                  <a:lnTo>
                    <a:pt x="458" y="416"/>
                  </a:lnTo>
                  <a:lnTo>
                    <a:pt x="468" y="418"/>
                  </a:lnTo>
                  <a:lnTo>
                    <a:pt x="478" y="418"/>
                  </a:lnTo>
                  <a:lnTo>
                    <a:pt x="488" y="418"/>
                  </a:lnTo>
                  <a:lnTo>
                    <a:pt x="488" y="418"/>
                  </a:lnTo>
                  <a:lnTo>
                    <a:pt x="498" y="414"/>
                  </a:lnTo>
                  <a:lnTo>
                    <a:pt x="508" y="410"/>
                  </a:lnTo>
                  <a:lnTo>
                    <a:pt x="516" y="404"/>
                  </a:lnTo>
                  <a:lnTo>
                    <a:pt x="524" y="396"/>
                  </a:lnTo>
                  <a:lnTo>
                    <a:pt x="524" y="39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9254880" y="36226800"/>
              <a:ext cx="978120" cy="67608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616" h="426">
                  <a:moveTo>
                    <a:pt x="120" y="264"/>
                  </a:moveTo>
                  <a:lnTo>
                    <a:pt x="120" y="264"/>
                  </a:lnTo>
                  <a:lnTo>
                    <a:pt x="118" y="276"/>
                  </a:lnTo>
                  <a:lnTo>
                    <a:pt x="116" y="286"/>
                  </a:lnTo>
                  <a:lnTo>
                    <a:pt x="112" y="294"/>
                  </a:lnTo>
                  <a:lnTo>
                    <a:pt x="106" y="302"/>
                  </a:lnTo>
                  <a:lnTo>
                    <a:pt x="106" y="302"/>
                  </a:lnTo>
                  <a:lnTo>
                    <a:pt x="98" y="308"/>
                  </a:lnTo>
                  <a:lnTo>
                    <a:pt x="90" y="312"/>
                  </a:lnTo>
                  <a:lnTo>
                    <a:pt x="82" y="314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64" y="314"/>
                  </a:lnTo>
                  <a:lnTo>
                    <a:pt x="56" y="312"/>
                  </a:lnTo>
                  <a:lnTo>
                    <a:pt x="46" y="310"/>
                  </a:lnTo>
                  <a:lnTo>
                    <a:pt x="38" y="304"/>
                  </a:lnTo>
                  <a:lnTo>
                    <a:pt x="38" y="304"/>
                  </a:lnTo>
                  <a:lnTo>
                    <a:pt x="30" y="298"/>
                  </a:lnTo>
                  <a:lnTo>
                    <a:pt x="22" y="288"/>
                  </a:lnTo>
                  <a:lnTo>
                    <a:pt x="16" y="278"/>
                  </a:lnTo>
                  <a:lnTo>
                    <a:pt x="10" y="266"/>
                  </a:lnTo>
                  <a:lnTo>
                    <a:pt x="10" y="266"/>
                  </a:lnTo>
                  <a:lnTo>
                    <a:pt x="4" y="246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4" y="104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10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82" y="10"/>
                  </a:lnTo>
                  <a:lnTo>
                    <a:pt x="90" y="14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10" y="38"/>
                  </a:lnTo>
                  <a:lnTo>
                    <a:pt x="116" y="48"/>
                  </a:lnTo>
                  <a:lnTo>
                    <a:pt x="118" y="58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2" y="92"/>
                  </a:lnTo>
                  <a:lnTo>
                    <a:pt x="120" y="112"/>
                  </a:lnTo>
                  <a:lnTo>
                    <a:pt x="500" y="200"/>
                  </a:lnTo>
                  <a:lnTo>
                    <a:pt x="500" y="200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500" y="150"/>
                  </a:lnTo>
                  <a:lnTo>
                    <a:pt x="504" y="142"/>
                  </a:lnTo>
                  <a:lnTo>
                    <a:pt x="508" y="132"/>
                  </a:lnTo>
                  <a:lnTo>
                    <a:pt x="514" y="124"/>
                  </a:lnTo>
                  <a:lnTo>
                    <a:pt x="514" y="124"/>
                  </a:lnTo>
                  <a:lnTo>
                    <a:pt x="518" y="118"/>
                  </a:lnTo>
                  <a:lnTo>
                    <a:pt x="524" y="114"/>
                  </a:lnTo>
                  <a:lnTo>
                    <a:pt x="532" y="112"/>
                  </a:lnTo>
                  <a:lnTo>
                    <a:pt x="538" y="110"/>
                  </a:lnTo>
                  <a:lnTo>
                    <a:pt x="538" y="110"/>
                  </a:lnTo>
                  <a:lnTo>
                    <a:pt x="552" y="112"/>
                  </a:lnTo>
                  <a:lnTo>
                    <a:pt x="566" y="116"/>
                  </a:lnTo>
                  <a:lnTo>
                    <a:pt x="566" y="116"/>
                  </a:lnTo>
                  <a:lnTo>
                    <a:pt x="580" y="124"/>
                  </a:lnTo>
                  <a:lnTo>
                    <a:pt x="592" y="134"/>
                  </a:lnTo>
                  <a:lnTo>
                    <a:pt x="592" y="134"/>
                  </a:lnTo>
                  <a:lnTo>
                    <a:pt x="602" y="148"/>
                  </a:lnTo>
                  <a:lnTo>
                    <a:pt x="610" y="162"/>
                  </a:lnTo>
                  <a:lnTo>
                    <a:pt x="610" y="162"/>
                  </a:lnTo>
                  <a:lnTo>
                    <a:pt x="614" y="178"/>
                  </a:lnTo>
                  <a:lnTo>
                    <a:pt x="616" y="192"/>
                  </a:lnTo>
                  <a:lnTo>
                    <a:pt x="616" y="192"/>
                  </a:lnTo>
                  <a:lnTo>
                    <a:pt x="616" y="290"/>
                  </a:lnTo>
                  <a:lnTo>
                    <a:pt x="616" y="290"/>
                  </a:lnTo>
                  <a:lnTo>
                    <a:pt x="616" y="388"/>
                  </a:lnTo>
                  <a:lnTo>
                    <a:pt x="616" y="388"/>
                  </a:lnTo>
                  <a:lnTo>
                    <a:pt x="616" y="394"/>
                  </a:lnTo>
                  <a:lnTo>
                    <a:pt x="612" y="398"/>
                  </a:lnTo>
                  <a:lnTo>
                    <a:pt x="612" y="398"/>
                  </a:lnTo>
                  <a:lnTo>
                    <a:pt x="608" y="406"/>
                  </a:lnTo>
                  <a:lnTo>
                    <a:pt x="608" y="406"/>
                  </a:lnTo>
                  <a:lnTo>
                    <a:pt x="602" y="414"/>
                  </a:lnTo>
                  <a:lnTo>
                    <a:pt x="594" y="420"/>
                  </a:lnTo>
                  <a:lnTo>
                    <a:pt x="584" y="424"/>
                  </a:lnTo>
                  <a:lnTo>
                    <a:pt x="572" y="426"/>
                  </a:lnTo>
                  <a:lnTo>
                    <a:pt x="572" y="426"/>
                  </a:lnTo>
                  <a:lnTo>
                    <a:pt x="562" y="426"/>
                  </a:lnTo>
                  <a:lnTo>
                    <a:pt x="550" y="424"/>
                  </a:lnTo>
                  <a:lnTo>
                    <a:pt x="538" y="418"/>
                  </a:lnTo>
                  <a:lnTo>
                    <a:pt x="528" y="410"/>
                  </a:lnTo>
                  <a:lnTo>
                    <a:pt x="528" y="410"/>
                  </a:lnTo>
                  <a:lnTo>
                    <a:pt x="518" y="400"/>
                  </a:lnTo>
                  <a:lnTo>
                    <a:pt x="510" y="390"/>
                  </a:lnTo>
                  <a:lnTo>
                    <a:pt x="510" y="390"/>
                  </a:lnTo>
                  <a:lnTo>
                    <a:pt x="504" y="378"/>
                  </a:lnTo>
                  <a:lnTo>
                    <a:pt x="502" y="366"/>
                  </a:lnTo>
                  <a:lnTo>
                    <a:pt x="502" y="366"/>
                  </a:lnTo>
                  <a:lnTo>
                    <a:pt x="500" y="340"/>
                  </a:lnTo>
                  <a:lnTo>
                    <a:pt x="500" y="340"/>
                  </a:lnTo>
                  <a:lnTo>
                    <a:pt x="500" y="318"/>
                  </a:lnTo>
                  <a:lnTo>
                    <a:pt x="118" y="230"/>
                  </a:lnTo>
                  <a:lnTo>
                    <a:pt x="118" y="230"/>
                  </a:lnTo>
                  <a:lnTo>
                    <a:pt x="118" y="244"/>
                  </a:lnTo>
                  <a:lnTo>
                    <a:pt x="118" y="244"/>
                  </a:lnTo>
                  <a:lnTo>
                    <a:pt x="120" y="258"/>
                  </a:lnTo>
                  <a:lnTo>
                    <a:pt x="120" y="26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9223200" y="36839520"/>
              <a:ext cx="1041480" cy="1015920"/>
            </a:xfrm>
            <a:custGeom>
              <a:avLst/>
              <a:gdLst>
                <a:gd name="textAreaLeft" fmla="*/ 0 w 1041480"/>
                <a:gd name="textAreaRight" fmla="*/ 1041480 w 104148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656" h="640">
                  <a:moveTo>
                    <a:pt x="608" y="524"/>
                  </a:moveTo>
                  <a:lnTo>
                    <a:pt x="608" y="524"/>
                  </a:lnTo>
                  <a:lnTo>
                    <a:pt x="624" y="534"/>
                  </a:lnTo>
                  <a:lnTo>
                    <a:pt x="638" y="550"/>
                  </a:lnTo>
                  <a:lnTo>
                    <a:pt x="638" y="550"/>
                  </a:lnTo>
                  <a:lnTo>
                    <a:pt x="648" y="566"/>
                  </a:lnTo>
                  <a:lnTo>
                    <a:pt x="654" y="582"/>
                  </a:lnTo>
                  <a:lnTo>
                    <a:pt x="654" y="582"/>
                  </a:lnTo>
                  <a:lnTo>
                    <a:pt x="656" y="598"/>
                  </a:lnTo>
                  <a:lnTo>
                    <a:pt x="656" y="604"/>
                  </a:lnTo>
                  <a:lnTo>
                    <a:pt x="652" y="612"/>
                  </a:lnTo>
                  <a:lnTo>
                    <a:pt x="652" y="612"/>
                  </a:lnTo>
                  <a:lnTo>
                    <a:pt x="650" y="618"/>
                  </a:lnTo>
                  <a:lnTo>
                    <a:pt x="644" y="624"/>
                  </a:lnTo>
                  <a:lnTo>
                    <a:pt x="638" y="630"/>
                  </a:lnTo>
                  <a:lnTo>
                    <a:pt x="630" y="634"/>
                  </a:lnTo>
                  <a:lnTo>
                    <a:pt x="630" y="634"/>
                  </a:lnTo>
                  <a:lnTo>
                    <a:pt x="618" y="638"/>
                  </a:lnTo>
                  <a:lnTo>
                    <a:pt x="618" y="638"/>
                  </a:lnTo>
                  <a:lnTo>
                    <a:pt x="612" y="640"/>
                  </a:lnTo>
                  <a:lnTo>
                    <a:pt x="606" y="638"/>
                  </a:lnTo>
                  <a:lnTo>
                    <a:pt x="606" y="638"/>
                  </a:lnTo>
                  <a:lnTo>
                    <a:pt x="470" y="608"/>
                  </a:lnTo>
                  <a:lnTo>
                    <a:pt x="332" y="574"/>
                  </a:lnTo>
                  <a:lnTo>
                    <a:pt x="332" y="574"/>
                  </a:lnTo>
                  <a:lnTo>
                    <a:pt x="196" y="538"/>
                  </a:lnTo>
                  <a:lnTo>
                    <a:pt x="60" y="500"/>
                  </a:lnTo>
                  <a:lnTo>
                    <a:pt x="60" y="500"/>
                  </a:lnTo>
                  <a:lnTo>
                    <a:pt x="50" y="498"/>
                  </a:lnTo>
                  <a:lnTo>
                    <a:pt x="40" y="492"/>
                  </a:lnTo>
                  <a:lnTo>
                    <a:pt x="32" y="486"/>
                  </a:lnTo>
                  <a:lnTo>
                    <a:pt x="26" y="478"/>
                  </a:lnTo>
                  <a:lnTo>
                    <a:pt x="26" y="478"/>
                  </a:lnTo>
                  <a:lnTo>
                    <a:pt x="16" y="462"/>
                  </a:lnTo>
                  <a:lnTo>
                    <a:pt x="10" y="444"/>
                  </a:lnTo>
                  <a:lnTo>
                    <a:pt x="10" y="444"/>
                  </a:lnTo>
                  <a:lnTo>
                    <a:pt x="8" y="434"/>
                  </a:lnTo>
                  <a:lnTo>
                    <a:pt x="8" y="426"/>
                  </a:lnTo>
                  <a:lnTo>
                    <a:pt x="10" y="416"/>
                  </a:lnTo>
                  <a:lnTo>
                    <a:pt x="14" y="408"/>
                  </a:lnTo>
                  <a:lnTo>
                    <a:pt x="14" y="408"/>
                  </a:lnTo>
                  <a:lnTo>
                    <a:pt x="18" y="400"/>
                  </a:lnTo>
                  <a:lnTo>
                    <a:pt x="24" y="394"/>
                  </a:lnTo>
                  <a:lnTo>
                    <a:pt x="30" y="390"/>
                  </a:lnTo>
                  <a:lnTo>
                    <a:pt x="38" y="388"/>
                  </a:lnTo>
                  <a:lnTo>
                    <a:pt x="38" y="388"/>
                  </a:lnTo>
                  <a:lnTo>
                    <a:pt x="40" y="386"/>
                  </a:lnTo>
                  <a:lnTo>
                    <a:pt x="38" y="386"/>
                  </a:lnTo>
                  <a:lnTo>
                    <a:pt x="38" y="386"/>
                  </a:lnTo>
                  <a:lnTo>
                    <a:pt x="88" y="366"/>
                  </a:lnTo>
                  <a:lnTo>
                    <a:pt x="138" y="346"/>
                  </a:lnTo>
                  <a:lnTo>
                    <a:pt x="186" y="324"/>
                  </a:lnTo>
                  <a:lnTo>
                    <a:pt x="234" y="300"/>
                  </a:lnTo>
                  <a:lnTo>
                    <a:pt x="234" y="300"/>
                  </a:lnTo>
                  <a:lnTo>
                    <a:pt x="328" y="252"/>
                  </a:lnTo>
                  <a:lnTo>
                    <a:pt x="422" y="200"/>
                  </a:lnTo>
                  <a:lnTo>
                    <a:pt x="206" y="150"/>
                  </a:lnTo>
                  <a:lnTo>
                    <a:pt x="206" y="150"/>
                  </a:lnTo>
                  <a:lnTo>
                    <a:pt x="132" y="134"/>
                  </a:lnTo>
                  <a:lnTo>
                    <a:pt x="132" y="134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26" y="96"/>
                  </a:lnTo>
                  <a:lnTo>
                    <a:pt x="16" y="88"/>
                  </a:lnTo>
                  <a:lnTo>
                    <a:pt x="10" y="8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244" y="44"/>
                  </a:lnTo>
                  <a:lnTo>
                    <a:pt x="244" y="44"/>
                  </a:lnTo>
                  <a:lnTo>
                    <a:pt x="326" y="64"/>
                  </a:lnTo>
                  <a:lnTo>
                    <a:pt x="326" y="64"/>
                  </a:lnTo>
                  <a:lnTo>
                    <a:pt x="400" y="80"/>
                  </a:lnTo>
                  <a:lnTo>
                    <a:pt x="400" y="80"/>
                  </a:lnTo>
                  <a:lnTo>
                    <a:pt x="460" y="94"/>
                  </a:lnTo>
                  <a:lnTo>
                    <a:pt x="460" y="94"/>
                  </a:lnTo>
                  <a:lnTo>
                    <a:pt x="524" y="108"/>
                  </a:lnTo>
                  <a:lnTo>
                    <a:pt x="524" y="108"/>
                  </a:lnTo>
                  <a:lnTo>
                    <a:pt x="588" y="122"/>
                  </a:lnTo>
                  <a:lnTo>
                    <a:pt x="588" y="122"/>
                  </a:lnTo>
                  <a:lnTo>
                    <a:pt x="604" y="128"/>
                  </a:lnTo>
                  <a:lnTo>
                    <a:pt x="616" y="136"/>
                  </a:lnTo>
                  <a:lnTo>
                    <a:pt x="616" y="136"/>
                  </a:lnTo>
                  <a:lnTo>
                    <a:pt x="626" y="148"/>
                  </a:lnTo>
                  <a:lnTo>
                    <a:pt x="634" y="162"/>
                  </a:lnTo>
                  <a:lnTo>
                    <a:pt x="634" y="162"/>
                  </a:lnTo>
                  <a:lnTo>
                    <a:pt x="640" y="176"/>
                  </a:lnTo>
                  <a:lnTo>
                    <a:pt x="642" y="190"/>
                  </a:lnTo>
                  <a:lnTo>
                    <a:pt x="642" y="190"/>
                  </a:lnTo>
                  <a:lnTo>
                    <a:pt x="640" y="204"/>
                  </a:lnTo>
                  <a:lnTo>
                    <a:pt x="638" y="216"/>
                  </a:lnTo>
                  <a:lnTo>
                    <a:pt x="638" y="216"/>
                  </a:lnTo>
                  <a:lnTo>
                    <a:pt x="632" y="226"/>
                  </a:lnTo>
                  <a:lnTo>
                    <a:pt x="622" y="236"/>
                  </a:lnTo>
                  <a:lnTo>
                    <a:pt x="622" y="236"/>
                  </a:lnTo>
                  <a:lnTo>
                    <a:pt x="596" y="254"/>
                  </a:lnTo>
                  <a:lnTo>
                    <a:pt x="596" y="254"/>
                  </a:lnTo>
                  <a:lnTo>
                    <a:pt x="568" y="270"/>
                  </a:lnTo>
                  <a:lnTo>
                    <a:pt x="568" y="270"/>
                  </a:lnTo>
                  <a:lnTo>
                    <a:pt x="546" y="280"/>
                  </a:lnTo>
                  <a:lnTo>
                    <a:pt x="546" y="280"/>
                  </a:lnTo>
                  <a:lnTo>
                    <a:pt x="476" y="322"/>
                  </a:lnTo>
                  <a:lnTo>
                    <a:pt x="476" y="322"/>
                  </a:lnTo>
                  <a:lnTo>
                    <a:pt x="400" y="364"/>
                  </a:lnTo>
                  <a:lnTo>
                    <a:pt x="400" y="364"/>
                  </a:lnTo>
                  <a:lnTo>
                    <a:pt x="328" y="402"/>
                  </a:lnTo>
                  <a:lnTo>
                    <a:pt x="328" y="402"/>
                  </a:lnTo>
                  <a:lnTo>
                    <a:pt x="256" y="436"/>
                  </a:lnTo>
                  <a:lnTo>
                    <a:pt x="256" y="436"/>
                  </a:lnTo>
                  <a:lnTo>
                    <a:pt x="428" y="480"/>
                  </a:lnTo>
                  <a:lnTo>
                    <a:pt x="428" y="480"/>
                  </a:lnTo>
                  <a:lnTo>
                    <a:pt x="602" y="522"/>
                  </a:lnTo>
                  <a:lnTo>
                    <a:pt x="608" y="52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9223200" y="37842840"/>
              <a:ext cx="1025640" cy="89820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646" h="566">
                  <a:moveTo>
                    <a:pt x="380" y="514"/>
                  </a:moveTo>
                  <a:lnTo>
                    <a:pt x="380" y="514"/>
                  </a:lnTo>
                  <a:lnTo>
                    <a:pt x="378" y="522"/>
                  </a:lnTo>
                  <a:lnTo>
                    <a:pt x="372" y="530"/>
                  </a:lnTo>
                  <a:lnTo>
                    <a:pt x="368" y="538"/>
                  </a:lnTo>
                  <a:lnTo>
                    <a:pt x="362" y="542"/>
                  </a:lnTo>
                  <a:lnTo>
                    <a:pt x="362" y="542"/>
                  </a:lnTo>
                  <a:lnTo>
                    <a:pt x="356" y="548"/>
                  </a:lnTo>
                  <a:lnTo>
                    <a:pt x="348" y="550"/>
                  </a:lnTo>
                  <a:lnTo>
                    <a:pt x="340" y="552"/>
                  </a:lnTo>
                  <a:lnTo>
                    <a:pt x="332" y="554"/>
                  </a:lnTo>
                  <a:lnTo>
                    <a:pt x="332" y="554"/>
                  </a:lnTo>
                  <a:lnTo>
                    <a:pt x="326" y="554"/>
                  </a:lnTo>
                  <a:lnTo>
                    <a:pt x="318" y="552"/>
                  </a:lnTo>
                  <a:lnTo>
                    <a:pt x="302" y="544"/>
                  </a:lnTo>
                  <a:lnTo>
                    <a:pt x="302" y="544"/>
                  </a:lnTo>
                  <a:lnTo>
                    <a:pt x="294" y="538"/>
                  </a:lnTo>
                  <a:lnTo>
                    <a:pt x="286" y="532"/>
                  </a:lnTo>
                  <a:lnTo>
                    <a:pt x="280" y="522"/>
                  </a:lnTo>
                  <a:lnTo>
                    <a:pt x="274" y="512"/>
                  </a:lnTo>
                  <a:lnTo>
                    <a:pt x="274" y="512"/>
                  </a:lnTo>
                  <a:lnTo>
                    <a:pt x="266" y="508"/>
                  </a:lnTo>
                  <a:lnTo>
                    <a:pt x="250" y="506"/>
                  </a:lnTo>
                  <a:lnTo>
                    <a:pt x="250" y="506"/>
                  </a:lnTo>
                  <a:lnTo>
                    <a:pt x="202" y="496"/>
                  </a:lnTo>
                  <a:lnTo>
                    <a:pt x="202" y="496"/>
                  </a:lnTo>
                  <a:lnTo>
                    <a:pt x="148" y="482"/>
                  </a:lnTo>
                  <a:lnTo>
                    <a:pt x="148" y="482"/>
                  </a:lnTo>
                  <a:lnTo>
                    <a:pt x="124" y="474"/>
                  </a:lnTo>
                  <a:lnTo>
                    <a:pt x="106" y="464"/>
                  </a:lnTo>
                  <a:lnTo>
                    <a:pt x="106" y="464"/>
                  </a:lnTo>
                  <a:lnTo>
                    <a:pt x="94" y="454"/>
                  </a:lnTo>
                  <a:lnTo>
                    <a:pt x="84" y="442"/>
                  </a:lnTo>
                  <a:lnTo>
                    <a:pt x="84" y="442"/>
                  </a:lnTo>
                  <a:lnTo>
                    <a:pt x="66" y="418"/>
                  </a:lnTo>
                  <a:lnTo>
                    <a:pt x="66" y="418"/>
                  </a:lnTo>
                  <a:lnTo>
                    <a:pt x="52" y="396"/>
                  </a:lnTo>
                  <a:lnTo>
                    <a:pt x="40" y="376"/>
                  </a:lnTo>
                  <a:lnTo>
                    <a:pt x="28" y="354"/>
                  </a:lnTo>
                  <a:lnTo>
                    <a:pt x="20" y="332"/>
                  </a:lnTo>
                  <a:lnTo>
                    <a:pt x="20" y="332"/>
                  </a:lnTo>
                  <a:lnTo>
                    <a:pt x="14" y="310"/>
                  </a:lnTo>
                  <a:lnTo>
                    <a:pt x="8" y="288"/>
                  </a:lnTo>
                  <a:lnTo>
                    <a:pt x="4" y="266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24"/>
                  </a:lnTo>
                  <a:lnTo>
                    <a:pt x="2" y="204"/>
                  </a:lnTo>
                  <a:lnTo>
                    <a:pt x="6" y="182"/>
                  </a:lnTo>
                  <a:lnTo>
                    <a:pt x="10" y="162"/>
                  </a:lnTo>
                  <a:lnTo>
                    <a:pt x="10" y="162"/>
                  </a:lnTo>
                  <a:lnTo>
                    <a:pt x="16" y="144"/>
                  </a:lnTo>
                  <a:lnTo>
                    <a:pt x="24" y="124"/>
                  </a:lnTo>
                  <a:lnTo>
                    <a:pt x="34" y="10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64" y="70"/>
                  </a:lnTo>
                  <a:lnTo>
                    <a:pt x="82" y="52"/>
                  </a:lnTo>
                  <a:lnTo>
                    <a:pt x="104" y="3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54" y="14"/>
                  </a:lnTo>
                  <a:lnTo>
                    <a:pt x="180" y="6"/>
                  </a:lnTo>
                  <a:lnTo>
                    <a:pt x="206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72" y="0"/>
                  </a:lnTo>
                  <a:lnTo>
                    <a:pt x="310" y="6"/>
                  </a:lnTo>
                  <a:lnTo>
                    <a:pt x="310" y="6"/>
                  </a:lnTo>
                  <a:lnTo>
                    <a:pt x="350" y="16"/>
                  </a:lnTo>
                  <a:lnTo>
                    <a:pt x="390" y="30"/>
                  </a:lnTo>
                  <a:lnTo>
                    <a:pt x="390" y="30"/>
                  </a:lnTo>
                  <a:lnTo>
                    <a:pt x="428" y="50"/>
                  </a:lnTo>
                  <a:lnTo>
                    <a:pt x="464" y="72"/>
                  </a:lnTo>
                  <a:lnTo>
                    <a:pt x="464" y="72"/>
                  </a:lnTo>
                  <a:lnTo>
                    <a:pt x="480" y="86"/>
                  </a:lnTo>
                  <a:lnTo>
                    <a:pt x="498" y="100"/>
                  </a:lnTo>
                  <a:lnTo>
                    <a:pt x="512" y="114"/>
                  </a:lnTo>
                  <a:lnTo>
                    <a:pt x="528" y="130"/>
                  </a:lnTo>
                  <a:lnTo>
                    <a:pt x="528" y="130"/>
                  </a:lnTo>
                  <a:lnTo>
                    <a:pt x="544" y="150"/>
                  </a:lnTo>
                  <a:lnTo>
                    <a:pt x="558" y="170"/>
                  </a:lnTo>
                  <a:lnTo>
                    <a:pt x="572" y="192"/>
                  </a:lnTo>
                  <a:lnTo>
                    <a:pt x="584" y="214"/>
                  </a:lnTo>
                  <a:lnTo>
                    <a:pt x="584" y="214"/>
                  </a:lnTo>
                  <a:lnTo>
                    <a:pt x="604" y="258"/>
                  </a:lnTo>
                  <a:lnTo>
                    <a:pt x="622" y="304"/>
                  </a:lnTo>
                  <a:lnTo>
                    <a:pt x="622" y="304"/>
                  </a:lnTo>
                  <a:lnTo>
                    <a:pt x="634" y="340"/>
                  </a:lnTo>
                  <a:lnTo>
                    <a:pt x="642" y="376"/>
                  </a:lnTo>
                  <a:lnTo>
                    <a:pt x="642" y="376"/>
                  </a:lnTo>
                  <a:lnTo>
                    <a:pt x="646" y="412"/>
                  </a:lnTo>
                  <a:lnTo>
                    <a:pt x="646" y="446"/>
                  </a:lnTo>
                  <a:lnTo>
                    <a:pt x="646" y="446"/>
                  </a:lnTo>
                  <a:lnTo>
                    <a:pt x="644" y="474"/>
                  </a:lnTo>
                  <a:lnTo>
                    <a:pt x="638" y="502"/>
                  </a:lnTo>
                  <a:lnTo>
                    <a:pt x="638" y="502"/>
                  </a:lnTo>
                  <a:lnTo>
                    <a:pt x="632" y="516"/>
                  </a:lnTo>
                  <a:lnTo>
                    <a:pt x="628" y="528"/>
                  </a:lnTo>
                  <a:lnTo>
                    <a:pt x="620" y="540"/>
                  </a:lnTo>
                  <a:lnTo>
                    <a:pt x="612" y="550"/>
                  </a:lnTo>
                  <a:lnTo>
                    <a:pt x="612" y="550"/>
                  </a:lnTo>
                  <a:lnTo>
                    <a:pt x="602" y="558"/>
                  </a:lnTo>
                  <a:lnTo>
                    <a:pt x="590" y="562"/>
                  </a:lnTo>
                  <a:lnTo>
                    <a:pt x="590" y="562"/>
                  </a:lnTo>
                  <a:lnTo>
                    <a:pt x="578" y="566"/>
                  </a:lnTo>
                  <a:lnTo>
                    <a:pt x="566" y="566"/>
                  </a:lnTo>
                  <a:lnTo>
                    <a:pt x="566" y="566"/>
                  </a:lnTo>
                  <a:lnTo>
                    <a:pt x="552" y="562"/>
                  </a:lnTo>
                  <a:lnTo>
                    <a:pt x="540" y="556"/>
                  </a:lnTo>
                  <a:lnTo>
                    <a:pt x="540" y="556"/>
                  </a:lnTo>
                  <a:lnTo>
                    <a:pt x="530" y="546"/>
                  </a:lnTo>
                  <a:lnTo>
                    <a:pt x="520" y="534"/>
                  </a:lnTo>
                  <a:lnTo>
                    <a:pt x="520" y="534"/>
                  </a:lnTo>
                  <a:lnTo>
                    <a:pt x="512" y="520"/>
                  </a:lnTo>
                  <a:lnTo>
                    <a:pt x="508" y="506"/>
                  </a:lnTo>
                  <a:lnTo>
                    <a:pt x="508" y="506"/>
                  </a:lnTo>
                  <a:lnTo>
                    <a:pt x="508" y="492"/>
                  </a:lnTo>
                  <a:lnTo>
                    <a:pt x="510" y="478"/>
                  </a:lnTo>
                  <a:lnTo>
                    <a:pt x="510" y="478"/>
                  </a:lnTo>
                  <a:lnTo>
                    <a:pt x="514" y="464"/>
                  </a:lnTo>
                  <a:lnTo>
                    <a:pt x="520" y="450"/>
                  </a:lnTo>
                  <a:lnTo>
                    <a:pt x="520" y="450"/>
                  </a:lnTo>
                  <a:lnTo>
                    <a:pt x="528" y="426"/>
                  </a:lnTo>
                  <a:lnTo>
                    <a:pt x="528" y="426"/>
                  </a:lnTo>
                  <a:lnTo>
                    <a:pt x="532" y="416"/>
                  </a:lnTo>
                  <a:lnTo>
                    <a:pt x="532" y="404"/>
                  </a:lnTo>
                  <a:lnTo>
                    <a:pt x="532" y="404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18" y="344"/>
                  </a:lnTo>
                  <a:lnTo>
                    <a:pt x="506" y="308"/>
                  </a:lnTo>
                  <a:lnTo>
                    <a:pt x="506" y="308"/>
                  </a:lnTo>
                  <a:lnTo>
                    <a:pt x="490" y="272"/>
                  </a:lnTo>
                  <a:lnTo>
                    <a:pt x="472" y="238"/>
                  </a:lnTo>
                  <a:lnTo>
                    <a:pt x="472" y="238"/>
                  </a:lnTo>
                  <a:lnTo>
                    <a:pt x="462" y="220"/>
                  </a:lnTo>
                  <a:lnTo>
                    <a:pt x="450" y="206"/>
                  </a:lnTo>
                  <a:lnTo>
                    <a:pt x="438" y="190"/>
                  </a:lnTo>
                  <a:lnTo>
                    <a:pt x="424" y="176"/>
                  </a:lnTo>
                  <a:lnTo>
                    <a:pt x="424" y="176"/>
                  </a:lnTo>
                  <a:lnTo>
                    <a:pt x="410" y="164"/>
                  </a:lnTo>
                  <a:lnTo>
                    <a:pt x="394" y="152"/>
                  </a:lnTo>
                  <a:lnTo>
                    <a:pt x="376" y="144"/>
                  </a:lnTo>
                  <a:lnTo>
                    <a:pt x="358" y="136"/>
                  </a:lnTo>
                  <a:lnTo>
                    <a:pt x="358" y="136"/>
                  </a:lnTo>
                  <a:lnTo>
                    <a:pt x="332" y="126"/>
                  </a:lnTo>
                  <a:lnTo>
                    <a:pt x="308" y="122"/>
                  </a:lnTo>
                  <a:lnTo>
                    <a:pt x="284" y="118"/>
                  </a:lnTo>
                  <a:lnTo>
                    <a:pt x="260" y="118"/>
                  </a:lnTo>
                  <a:lnTo>
                    <a:pt x="260" y="118"/>
                  </a:lnTo>
                  <a:lnTo>
                    <a:pt x="236" y="120"/>
                  </a:lnTo>
                  <a:lnTo>
                    <a:pt x="214" y="124"/>
                  </a:lnTo>
                  <a:lnTo>
                    <a:pt x="194" y="132"/>
                  </a:lnTo>
                  <a:lnTo>
                    <a:pt x="176" y="144"/>
                  </a:lnTo>
                  <a:lnTo>
                    <a:pt x="176" y="144"/>
                  </a:lnTo>
                  <a:lnTo>
                    <a:pt x="164" y="152"/>
                  </a:lnTo>
                  <a:lnTo>
                    <a:pt x="154" y="162"/>
                  </a:lnTo>
                  <a:lnTo>
                    <a:pt x="144" y="174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0" y="200"/>
                  </a:lnTo>
                  <a:lnTo>
                    <a:pt x="126" y="214"/>
                  </a:lnTo>
                  <a:lnTo>
                    <a:pt x="122" y="228"/>
                  </a:lnTo>
                  <a:lnTo>
                    <a:pt x="120" y="242"/>
                  </a:lnTo>
                  <a:lnTo>
                    <a:pt x="120" y="242"/>
                  </a:lnTo>
                  <a:lnTo>
                    <a:pt x="118" y="258"/>
                  </a:lnTo>
                  <a:lnTo>
                    <a:pt x="120" y="274"/>
                  </a:lnTo>
                  <a:lnTo>
                    <a:pt x="122" y="290"/>
                  </a:lnTo>
                  <a:lnTo>
                    <a:pt x="126" y="306"/>
                  </a:lnTo>
                  <a:lnTo>
                    <a:pt x="126" y="306"/>
                  </a:lnTo>
                  <a:lnTo>
                    <a:pt x="132" y="322"/>
                  </a:lnTo>
                  <a:lnTo>
                    <a:pt x="140" y="338"/>
                  </a:lnTo>
                  <a:lnTo>
                    <a:pt x="148" y="354"/>
                  </a:lnTo>
                  <a:lnTo>
                    <a:pt x="160" y="368"/>
                  </a:lnTo>
                  <a:lnTo>
                    <a:pt x="262" y="392"/>
                  </a:lnTo>
                  <a:lnTo>
                    <a:pt x="262" y="392"/>
                  </a:lnTo>
                  <a:lnTo>
                    <a:pt x="260" y="352"/>
                  </a:lnTo>
                  <a:lnTo>
                    <a:pt x="260" y="352"/>
                  </a:lnTo>
                  <a:lnTo>
                    <a:pt x="256" y="310"/>
                  </a:lnTo>
                  <a:lnTo>
                    <a:pt x="256" y="310"/>
                  </a:lnTo>
                  <a:lnTo>
                    <a:pt x="256" y="290"/>
                  </a:lnTo>
                  <a:lnTo>
                    <a:pt x="260" y="270"/>
                  </a:lnTo>
                  <a:lnTo>
                    <a:pt x="260" y="270"/>
                  </a:lnTo>
                  <a:lnTo>
                    <a:pt x="264" y="252"/>
                  </a:lnTo>
                  <a:lnTo>
                    <a:pt x="272" y="236"/>
                  </a:lnTo>
                  <a:lnTo>
                    <a:pt x="272" y="236"/>
                  </a:lnTo>
                  <a:lnTo>
                    <a:pt x="278" y="230"/>
                  </a:lnTo>
                  <a:lnTo>
                    <a:pt x="284" y="226"/>
                  </a:lnTo>
                  <a:lnTo>
                    <a:pt x="290" y="222"/>
                  </a:lnTo>
                  <a:lnTo>
                    <a:pt x="298" y="220"/>
                  </a:lnTo>
                  <a:lnTo>
                    <a:pt x="298" y="220"/>
                  </a:lnTo>
                  <a:lnTo>
                    <a:pt x="314" y="220"/>
                  </a:lnTo>
                  <a:lnTo>
                    <a:pt x="330" y="224"/>
                  </a:lnTo>
                  <a:lnTo>
                    <a:pt x="330" y="224"/>
                  </a:lnTo>
                  <a:lnTo>
                    <a:pt x="344" y="232"/>
                  </a:lnTo>
                  <a:lnTo>
                    <a:pt x="358" y="244"/>
                  </a:lnTo>
                  <a:lnTo>
                    <a:pt x="358" y="244"/>
                  </a:lnTo>
                  <a:lnTo>
                    <a:pt x="364" y="252"/>
                  </a:lnTo>
                  <a:lnTo>
                    <a:pt x="370" y="260"/>
                  </a:lnTo>
                  <a:lnTo>
                    <a:pt x="374" y="268"/>
                  </a:lnTo>
                  <a:lnTo>
                    <a:pt x="376" y="278"/>
                  </a:lnTo>
                  <a:lnTo>
                    <a:pt x="376" y="278"/>
                  </a:lnTo>
                  <a:lnTo>
                    <a:pt x="378" y="300"/>
                  </a:lnTo>
                  <a:lnTo>
                    <a:pt x="378" y="300"/>
                  </a:lnTo>
                  <a:lnTo>
                    <a:pt x="380" y="326"/>
                  </a:lnTo>
                  <a:lnTo>
                    <a:pt x="380" y="326"/>
                  </a:lnTo>
                  <a:lnTo>
                    <a:pt x="378" y="348"/>
                  </a:lnTo>
                  <a:lnTo>
                    <a:pt x="378" y="348"/>
                  </a:lnTo>
                  <a:lnTo>
                    <a:pt x="378" y="364"/>
                  </a:lnTo>
                  <a:lnTo>
                    <a:pt x="378" y="364"/>
                  </a:lnTo>
                  <a:lnTo>
                    <a:pt x="380" y="440"/>
                  </a:lnTo>
                  <a:lnTo>
                    <a:pt x="380" y="440"/>
                  </a:lnTo>
                  <a:lnTo>
                    <a:pt x="380" y="514"/>
                  </a:lnTo>
                  <a:lnTo>
                    <a:pt x="380" y="51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1"/>
            <p:cNvSpPr/>
            <p:nvPr/>
          </p:nvSpPr>
          <p:spPr>
            <a:xfrm>
              <a:off x="9226440" y="39303360"/>
              <a:ext cx="1000440" cy="79344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630" h="500">
                  <a:moveTo>
                    <a:pt x="24" y="94"/>
                  </a:moveTo>
                  <a:lnTo>
                    <a:pt x="24" y="94"/>
                  </a:lnTo>
                  <a:lnTo>
                    <a:pt x="10" y="76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288" y="52"/>
                  </a:lnTo>
                  <a:lnTo>
                    <a:pt x="288" y="52"/>
                  </a:lnTo>
                  <a:lnTo>
                    <a:pt x="296" y="44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0" y="38"/>
                  </a:lnTo>
                  <a:lnTo>
                    <a:pt x="334" y="38"/>
                  </a:lnTo>
                  <a:lnTo>
                    <a:pt x="334" y="38"/>
                  </a:lnTo>
                  <a:lnTo>
                    <a:pt x="348" y="44"/>
                  </a:lnTo>
                  <a:lnTo>
                    <a:pt x="360" y="52"/>
                  </a:lnTo>
                  <a:lnTo>
                    <a:pt x="360" y="52"/>
                  </a:lnTo>
                  <a:lnTo>
                    <a:pt x="372" y="62"/>
                  </a:lnTo>
                  <a:lnTo>
                    <a:pt x="382" y="74"/>
                  </a:lnTo>
                  <a:lnTo>
                    <a:pt x="382" y="74"/>
                  </a:lnTo>
                  <a:lnTo>
                    <a:pt x="412" y="80"/>
                  </a:lnTo>
                  <a:lnTo>
                    <a:pt x="412" y="80"/>
                  </a:lnTo>
                  <a:lnTo>
                    <a:pt x="436" y="86"/>
                  </a:lnTo>
                  <a:lnTo>
                    <a:pt x="436" y="86"/>
                  </a:lnTo>
                  <a:lnTo>
                    <a:pt x="460" y="92"/>
                  </a:lnTo>
                  <a:lnTo>
                    <a:pt x="460" y="92"/>
                  </a:lnTo>
                  <a:lnTo>
                    <a:pt x="488" y="96"/>
                  </a:lnTo>
                  <a:lnTo>
                    <a:pt x="488" y="96"/>
                  </a:lnTo>
                  <a:lnTo>
                    <a:pt x="500" y="98"/>
                  </a:lnTo>
                  <a:lnTo>
                    <a:pt x="514" y="96"/>
                  </a:lnTo>
                  <a:lnTo>
                    <a:pt x="514" y="96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52" y="94"/>
                  </a:lnTo>
                  <a:lnTo>
                    <a:pt x="566" y="96"/>
                  </a:lnTo>
                  <a:lnTo>
                    <a:pt x="566" y="96"/>
                  </a:lnTo>
                  <a:lnTo>
                    <a:pt x="578" y="104"/>
                  </a:lnTo>
                  <a:lnTo>
                    <a:pt x="592" y="114"/>
                  </a:lnTo>
                  <a:lnTo>
                    <a:pt x="592" y="114"/>
                  </a:lnTo>
                  <a:lnTo>
                    <a:pt x="600" y="124"/>
                  </a:lnTo>
                  <a:lnTo>
                    <a:pt x="606" y="134"/>
                  </a:lnTo>
                  <a:lnTo>
                    <a:pt x="610" y="144"/>
                  </a:lnTo>
                  <a:lnTo>
                    <a:pt x="612" y="154"/>
                  </a:lnTo>
                  <a:lnTo>
                    <a:pt x="612" y="154"/>
                  </a:lnTo>
                  <a:lnTo>
                    <a:pt x="618" y="196"/>
                  </a:lnTo>
                  <a:lnTo>
                    <a:pt x="618" y="196"/>
                  </a:lnTo>
                  <a:lnTo>
                    <a:pt x="620" y="242"/>
                  </a:lnTo>
                  <a:lnTo>
                    <a:pt x="620" y="286"/>
                  </a:lnTo>
                  <a:lnTo>
                    <a:pt x="620" y="286"/>
                  </a:lnTo>
                  <a:lnTo>
                    <a:pt x="622" y="374"/>
                  </a:lnTo>
                  <a:lnTo>
                    <a:pt x="622" y="374"/>
                  </a:lnTo>
                  <a:lnTo>
                    <a:pt x="624" y="400"/>
                  </a:lnTo>
                  <a:lnTo>
                    <a:pt x="624" y="400"/>
                  </a:lnTo>
                  <a:lnTo>
                    <a:pt x="628" y="430"/>
                  </a:lnTo>
                  <a:lnTo>
                    <a:pt x="628" y="430"/>
                  </a:lnTo>
                  <a:lnTo>
                    <a:pt x="630" y="444"/>
                  </a:lnTo>
                  <a:lnTo>
                    <a:pt x="628" y="458"/>
                  </a:lnTo>
                  <a:lnTo>
                    <a:pt x="628" y="458"/>
                  </a:lnTo>
                  <a:lnTo>
                    <a:pt x="626" y="472"/>
                  </a:lnTo>
                  <a:lnTo>
                    <a:pt x="620" y="482"/>
                  </a:lnTo>
                  <a:lnTo>
                    <a:pt x="620" y="482"/>
                  </a:lnTo>
                  <a:lnTo>
                    <a:pt x="610" y="492"/>
                  </a:lnTo>
                  <a:lnTo>
                    <a:pt x="604" y="496"/>
                  </a:lnTo>
                  <a:lnTo>
                    <a:pt x="598" y="498"/>
                  </a:lnTo>
                  <a:lnTo>
                    <a:pt x="598" y="498"/>
                  </a:lnTo>
                  <a:lnTo>
                    <a:pt x="584" y="500"/>
                  </a:lnTo>
                  <a:lnTo>
                    <a:pt x="570" y="498"/>
                  </a:lnTo>
                  <a:lnTo>
                    <a:pt x="570" y="498"/>
                  </a:lnTo>
                  <a:lnTo>
                    <a:pt x="556" y="492"/>
                  </a:lnTo>
                  <a:lnTo>
                    <a:pt x="542" y="484"/>
                  </a:lnTo>
                  <a:lnTo>
                    <a:pt x="542" y="484"/>
                  </a:lnTo>
                  <a:lnTo>
                    <a:pt x="530" y="472"/>
                  </a:lnTo>
                  <a:lnTo>
                    <a:pt x="522" y="456"/>
                  </a:lnTo>
                  <a:lnTo>
                    <a:pt x="522" y="456"/>
                  </a:lnTo>
                  <a:lnTo>
                    <a:pt x="516" y="442"/>
                  </a:lnTo>
                  <a:lnTo>
                    <a:pt x="512" y="428"/>
                  </a:lnTo>
                  <a:lnTo>
                    <a:pt x="508" y="414"/>
                  </a:lnTo>
                  <a:lnTo>
                    <a:pt x="508" y="400"/>
                  </a:lnTo>
                  <a:lnTo>
                    <a:pt x="508" y="400"/>
                  </a:lnTo>
                  <a:lnTo>
                    <a:pt x="506" y="342"/>
                  </a:lnTo>
                  <a:lnTo>
                    <a:pt x="506" y="342"/>
                  </a:lnTo>
                  <a:lnTo>
                    <a:pt x="506" y="280"/>
                  </a:lnTo>
                  <a:lnTo>
                    <a:pt x="506" y="280"/>
                  </a:lnTo>
                  <a:lnTo>
                    <a:pt x="504" y="216"/>
                  </a:lnTo>
                  <a:lnTo>
                    <a:pt x="504" y="216"/>
                  </a:lnTo>
                  <a:lnTo>
                    <a:pt x="462" y="208"/>
                  </a:lnTo>
                  <a:lnTo>
                    <a:pt x="462" y="208"/>
                  </a:lnTo>
                  <a:lnTo>
                    <a:pt x="388" y="192"/>
                  </a:lnTo>
                  <a:lnTo>
                    <a:pt x="388" y="192"/>
                  </a:lnTo>
                  <a:lnTo>
                    <a:pt x="390" y="256"/>
                  </a:lnTo>
                  <a:lnTo>
                    <a:pt x="390" y="256"/>
                  </a:lnTo>
                  <a:lnTo>
                    <a:pt x="392" y="288"/>
                  </a:lnTo>
                  <a:lnTo>
                    <a:pt x="396" y="318"/>
                  </a:lnTo>
                  <a:lnTo>
                    <a:pt x="396" y="318"/>
                  </a:lnTo>
                  <a:lnTo>
                    <a:pt x="398" y="336"/>
                  </a:lnTo>
                  <a:lnTo>
                    <a:pt x="402" y="354"/>
                  </a:lnTo>
                  <a:lnTo>
                    <a:pt x="402" y="354"/>
                  </a:lnTo>
                  <a:lnTo>
                    <a:pt x="406" y="374"/>
                  </a:lnTo>
                  <a:lnTo>
                    <a:pt x="406" y="390"/>
                  </a:lnTo>
                  <a:lnTo>
                    <a:pt x="406" y="390"/>
                  </a:lnTo>
                  <a:lnTo>
                    <a:pt x="404" y="398"/>
                  </a:lnTo>
                  <a:lnTo>
                    <a:pt x="402" y="406"/>
                  </a:lnTo>
                  <a:lnTo>
                    <a:pt x="398" y="414"/>
                  </a:lnTo>
                  <a:lnTo>
                    <a:pt x="392" y="420"/>
                  </a:lnTo>
                  <a:lnTo>
                    <a:pt x="392" y="420"/>
                  </a:lnTo>
                  <a:lnTo>
                    <a:pt x="386" y="426"/>
                  </a:lnTo>
                  <a:lnTo>
                    <a:pt x="378" y="430"/>
                  </a:lnTo>
                  <a:lnTo>
                    <a:pt x="372" y="432"/>
                  </a:lnTo>
                  <a:lnTo>
                    <a:pt x="364" y="434"/>
                  </a:lnTo>
                  <a:lnTo>
                    <a:pt x="364" y="434"/>
                  </a:lnTo>
                  <a:lnTo>
                    <a:pt x="356" y="434"/>
                  </a:lnTo>
                  <a:lnTo>
                    <a:pt x="348" y="432"/>
                  </a:lnTo>
                  <a:lnTo>
                    <a:pt x="340" y="430"/>
                  </a:lnTo>
                  <a:lnTo>
                    <a:pt x="330" y="426"/>
                  </a:lnTo>
                  <a:lnTo>
                    <a:pt x="330" y="426"/>
                  </a:lnTo>
                  <a:lnTo>
                    <a:pt x="322" y="420"/>
                  </a:lnTo>
                  <a:lnTo>
                    <a:pt x="316" y="412"/>
                  </a:lnTo>
                  <a:lnTo>
                    <a:pt x="308" y="404"/>
                  </a:lnTo>
                  <a:lnTo>
                    <a:pt x="302" y="394"/>
                  </a:lnTo>
                  <a:lnTo>
                    <a:pt x="302" y="394"/>
                  </a:lnTo>
                  <a:lnTo>
                    <a:pt x="292" y="366"/>
                  </a:lnTo>
                  <a:lnTo>
                    <a:pt x="284" y="338"/>
                  </a:lnTo>
                  <a:lnTo>
                    <a:pt x="284" y="338"/>
                  </a:lnTo>
                  <a:lnTo>
                    <a:pt x="278" y="308"/>
                  </a:lnTo>
                  <a:lnTo>
                    <a:pt x="274" y="280"/>
                  </a:lnTo>
                  <a:lnTo>
                    <a:pt x="274" y="280"/>
                  </a:lnTo>
                  <a:lnTo>
                    <a:pt x="272" y="250"/>
                  </a:lnTo>
                  <a:lnTo>
                    <a:pt x="272" y="222"/>
                  </a:lnTo>
                  <a:lnTo>
                    <a:pt x="272" y="222"/>
                  </a:lnTo>
                  <a:lnTo>
                    <a:pt x="274" y="16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50" y="112"/>
                  </a:lnTo>
                  <a:lnTo>
                    <a:pt x="40" y="108"/>
                  </a:lnTo>
                  <a:lnTo>
                    <a:pt x="32" y="100"/>
                  </a:lnTo>
                  <a:lnTo>
                    <a:pt x="24" y="94"/>
                  </a:lnTo>
                  <a:lnTo>
                    <a:pt x="24" y="94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"/>
            <p:cNvSpPr/>
            <p:nvPr/>
          </p:nvSpPr>
          <p:spPr>
            <a:xfrm>
              <a:off x="9235800" y="39976560"/>
              <a:ext cx="1028880" cy="96516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648" h="608">
                  <a:moveTo>
                    <a:pt x="60" y="538"/>
                  </a:moveTo>
                  <a:lnTo>
                    <a:pt x="60" y="538"/>
                  </a:lnTo>
                  <a:lnTo>
                    <a:pt x="40" y="528"/>
                  </a:lnTo>
                  <a:lnTo>
                    <a:pt x="24" y="514"/>
                  </a:lnTo>
                  <a:lnTo>
                    <a:pt x="24" y="514"/>
                  </a:lnTo>
                  <a:lnTo>
                    <a:pt x="12" y="500"/>
                  </a:lnTo>
                  <a:lnTo>
                    <a:pt x="4" y="484"/>
                  </a:lnTo>
                  <a:lnTo>
                    <a:pt x="4" y="484"/>
                  </a:lnTo>
                  <a:lnTo>
                    <a:pt x="0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4" y="444"/>
                  </a:lnTo>
                  <a:lnTo>
                    <a:pt x="10" y="438"/>
                  </a:lnTo>
                  <a:lnTo>
                    <a:pt x="16" y="430"/>
                  </a:lnTo>
                  <a:lnTo>
                    <a:pt x="24" y="426"/>
                  </a:lnTo>
                  <a:lnTo>
                    <a:pt x="24" y="426"/>
                  </a:lnTo>
                  <a:lnTo>
                    <a:pt x="32" y="422"/>
                  </a:lnTo>
                  <a:lnTo>
                    <a:pt x="40" y="420"/>
                  </a:lnTo>
                  <a:lnTo>
                    <a:pt x="48" y="418"/>
                  </a:lnTo>
                  <a:lnTo>
                    <a:pt x="58" y="420"/>
                  </a:lnTo>
                  <a:lnTo>
                    <a:pt x="58" y="420"/>
                  </a:lnTo>
                  <a:lnTo>
                    <a:pt x="76" y="422"/>
                  </a:lnTo>
                  <a:lnTo>
                    <a:pt x="94" y="422"/>
                  </a:lnTo>
                  <a:lnTo>
                    <a:pt x="94" y="422"/>
                  </a:lnTo>
                  <a:lnTo>
                    <a:pt x="148" y="424"/>
                  </a:lnTo>
                  <a:lnTo>
                    <a:pt x="204" y="420"/>
                  </a:lnTo>
                  <a:lnTo>
                    <a:pt x="204" y="420"/>
                  </a:lnTo>
                  <a:lnTo>
                    <a:pt x="202" y="302"/>
                  </a:lnTo>
                  <a:lnTo>
                    <a:pt x="202" y="302"/>
                  </a:lnTo>
                  <a:lnTo>
                    <a:pt x="202" y="186"/>
                  </a:lnTo>
                  <a:lnTo>
                    <a:pt x="202" y="186"/>
                  </a:lnTo>
                  <a:lnTo>
                    <a:pt x="176" y="172"/>
                  </a:lnTo>
                  <a:lnTo>
                    <a:pt x="150" y="158"/>
                  </a:lnTo>
                  <a:lnTo>
                    <a:pt x="150" y="158"/>
                  </a:lnTo>
                  <a:lnTo>
                    <a:pt x="100" y="134"/>
                  </a:lnTo>
                  <a:lnTo>
                    <a:pt x="100" y="134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2" y="100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16" y="82"/>
                  </a:lnTo>
                  <a:lnTo>
                    <a:pt x="10" y="72"/>
                  </a:lnTo>
                  <a:lnTo>
                    <a:pt x="4" y="6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6" y="2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106" y="16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74" y="102"/>
                  </a:lnTo>
                  <a:lnTo>
                    <a:pt x="354" y="146"/>
                  </a:lnTo>
                  <a:lnTo>
                    <a:pt x="432" y="194"/>
                  </a:lnTo>
                  <a:lnTo>
                    <a:pt x="510" y="244"/>
                  </a:lnTo>
                  <a:lnTo>
                    <a:pt x="510" y="244"/>
                  </a:lnTo>
                  <a:lnTo>
                    <a:pt x="536" y="262"/>
                  </a:lnTo>
                  <a:lnTo>
                    <a:pt x="536" y="262"/>
                  </a:lnTo>
                  <a:lnTo>
                    <a:pt x="560" y="280"/>
                  </a:lnTo>
                  <a:lnTo>
                    <a:pt x="560" y="280"/>
                  </a:lnTo>
                  <a:lnTo>
                    <a:pt x="590" y="300"/>
                  </a:lnTo>
                  <a:lnTo>
                    <a:pt x="590" y="300"/>
                  </a:lnTo>
                  <a:lnTo>
                    <a:pt x="604" y="310"/>
                  </a:lnTo>
                  <a:lnTo>
                    <a:pt x="618" y="322"/>
                  </a:lnTo>
                  <a:lnTo>
                    <a:pt x="618" y="322"/>
                  </a:lnTo>
                  <a:lnTo>
                    <a:pt x="630" y="334"/>
                  </a:lnTo>
                  <a:lnTo>
                    <a:pt x="640" y="348"/>
                  </a:lnTo>
                  <a:lnTo>
                    <a:pt x="640" y="348"/>
                  </a:lnTo>
                  <a:lnTo>
                    <a:pt x="644" y="356"/>
                  </a:lnTo>
                  <a:lnTo>
                    <a:pt x="646" y="364"/>
                  </a:lnTo>
                  <a:lnTo>
                    <a:pt x="648" y="382"/>
                  </a:lnTo>
                  <a:lnTo>
                    <a:pt x="648" y="382"/>
                  </a:lnTo>
                  <a:lnTo>
                    <a:pt x="648" y="392"/>
                  </a:lnTo>
                  <a:lnTo>
                    <a:pt x="644" y="402"/>
                  </a:lnTo>
                  <a:lnTo>
                    <a:pt x="640" y="410"/>
                  </a:lnTo>
                  <a:lnTo>
                    <a:pt x="634" y="418"/>
                  </a:lnTo>
                  <a:lnTo>
                    <a:pt x="634" y="418"/>
                  </a:lnTo>
                  <a:lnTo>
                    <a:pt x="600" y="442"/>
                  </a:lnTo>
                  <a:lnTo>
                    <a:pt x="564" y="462"/>
                  </a:lnTo>
                  <a:lnTo>
                    <a:pt x="526" y="478"/>
                  </a:lnTo>
                  <a:lnTo>
                    <a:pt x="486" y="492"/>
                  </a:lnTo>
                  <a:lnTo>
                    <a:pt x="486" y="492"/>
                  </a:lnTo>
                  <a:lnTo>
                    <a:pt x="446" y="502"/>
                  </a:lnTo>
                  <a:lnTo>
                    <a:pt x="404" y="512"/>
                  </a:lnTo>
                  <a:lnTo>
                    <a:pt x="362" y="520"/>
                  </a:lnTo>
                  <a:lnTo>
                    <a:pt x="320" y="528"/>
                  </a:lnTo>
                  <a:lnTo>
                    <a:pt x="320" y="528"/>
                  </a:lnTo>
                  <a:lnTo>
                    <a:pt x="320" y="568"/>
                  </a:lnTo>
                  <a:lnTo>
                    <a:pt x="320" y="568"/>
                  </a:lnTo>
                  <a:lnTo>
                    <a:pt x="318" y="576"/>
                  </a:lnTo>
                  <a:lnTo>
                    <a:pt x="314" y="584"/>
                  </a:lnTo>
                  <a:lnTo>
                    <a:pt x="310" y="592"/>
                  </a:lnTo>
                  <a:lnTo>
                    <a:pt x="302" y="598"/>
                  </a:lnTo>
                  <a:lnTo>
                    <a:pt x="302" y="598"/>
                  </a:lnTo>
                  <a:lnTo>
                    <a:pt x="296" y="602"/>
                  </a:lnTo>
                  <a:lnTo>
                    <a:pt x="288" y="606"/>
                  </a:lnTo>
                  <a:lnTo>
                    <a:pt x="282" y="606"/>
                  </a:lnTo>
                  <a:lnTo>
                    <a:pt x="274" y="608"/>
                  </a:lnTo>
                  <a:lnTo>
                    <a:pt x="274" y="608"/>
                  </a:lnTo>
                  <a:lnTo>
                    <a:pt x="258" y="604"/>
                  </a:lnTo>
                  <a:lnTo>
                    <a:pt x="244" y="598"/>
                  </a:lnTo>
                  <a:lnTo>
                    <a:pt x="244" y="598"/>
                  </a:lnTo>
                  <a:lnTo>
                    <a:pt x="230" y="588"/>
                  </a:lnTo>
                  <a:lnTo>
                    <a:pt x="220" y="574"/>
                  </a:lnTo>
                  <a:lnTo>
                    <a:pt x="220" y="574"/>
                  </a:lnTo>
                  <a:lnTo>
                    <a:pt x="210" y="560"/>
                  </a:lnTo>
                  <a:lnTo>
                    <a:pt x="204" y="542"/>
                  </a:lnTo>
                  <a:lnTo>
                    <a:pt x="204" y="542"/>
                  </a:lnTo>
                  <a:lnTo>
                    <a:pt x="172" y="544"/>
                  </a:lnTo>
                  <a:lnTo>
                    <a:pt x="136" y="542"/>
                  </a:lnTo>
                  <a:lnTo>
                    <a:pt x="136" y="542"/>
                  </a:lnTo>
                  <a:lnTo>
                    <a:pt x="102" y="542"/>
                  </a:lnTo>
                  <a:lnTo>
                    <a:pt x="66" y="538"/>
                  </a:lnTo>
                  <a:lnTo>
                    <a:pt x="60" y="538"/>
                  </a:lnTo>
                  <a:close/>
                  <a:moveTo>
                    <a:pt x="320" y="402"/>
                  </a:moveTo>
                  <a:lnTo>
                    <a:pt x="320" y="402"/>
                  </a:lnTo>
                  <a:lnTo>
                    <a:pt x="362" y="394"/>
                  </a:lnTo>
                  <a:lnTo>
                    <a:pt x="406" y="382"/>
                  </a:lnTo>
                  <a:lnTo>
                    <a:pt x="406" y="382"/>
                  </a:lnTo>
                  <a:lnTo>
                    <a:pt x="446" y="370"/>
                  </a:lnTo>
                  <a:lnTo>
                    <a:pt x="486" y="356"/>
                  </a:lnTo>
                  <a:lnTo>
                    <a:pt x="486" y="356"/>
                  </a:lnTo>
                  <a:lnTo>
                    <a:pt x="402" y="300"/>
                  </a:lnTo>
                  <a:lnTo>
                    <a:pt x="402" y="300"/>
                  </a:lnTo>
                  <a:lnTo>
                    <a:pt x="360" y="274"/>
                  </a:lnTo>
                  <a:lnTo>
                    <a:pt x="318" y="250"/>
                  </a:lnTo>
                  <a:lnTo>
                    <a:pt x="318" y="250"/>
                  </a:lnTo>
                  <a:lnTo>
                    <a:pt x="318" y="328"/>
                  </a:lnTo>
                  <a:lnTo>
                    <a:pt x="318" y="328"/>
                  </a:lnTo>
                  <a:lnTo>
                    <a:pt x="320" y="402"/>
                  </a:lnTo>
                  <a:lnTo>
                    <a:pt x="320" y="402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3"/>
            <p:cNvSpPr/>
            <p:nvPr/>
          </p:nvSpPr>
          <p:spPr>
            <a:xfrm>
              <a:off x="9254880" y="40944960"/>
              <a:ext cx="978120" cy="6793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616" h="428">
                  <a:moveTo>
                    <a:pt x="120" y="266"/>
                  </a:moveTo>
                  <a:lnTo>
                    <a:pt x="120" y="266"/>
                  </a:lnTo>
                  <a:lnTo>
                    <a:pt x="118" y="276"/>
                  </a:lnTo>
                  <a:lnTo>
                    <a:pt x="116" y="286"/>
                  </a:lnTo>
                  <a:lnTo>
                    <a:pt x="112" y="296"/>
                  </a:lnTo>
                  <a:lnTo>
                    <a:pt x="106" y="302"/>
                  </a:lnTo>
                  <a:lnTo>
                    <a:pt x="106" y="302"/>
                  </a:lnTo>
                  <a:lnTo>
                    <a:pt x="98" y="308"/>
                  </a:lnTo>
                  <a:lnTo>
                    <a:pt x="90" y="312"/>
                  </a:lnTo>
                  <a:lnTo>
                    <a:pt x="82" y="316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64" y="316"/>
                  </a:lnTo>
                  <a:lnTo>
                    <a:pt x="56" y="314"/>
                  </a:lnTo>
                  <a:lnTo>
                    <a:pt x="46" y="310"/>
                  </a:lnTo>
                  <a:lnTo>
                    <a:pt x="38" y="306"/>
                  </a:lnTo>
                  <a:lnTo>
                    <a:pt x="38" y="306"/>
                  </a:lnTo>
                  <a:lnTo>
                    <a:pt x="30" y="298"/>
                  </a:lnTo>
                  <a:lnTo>
                    <a:pt x="22" y="290"/>
                  </a:lnTo>
                  <a:lnTo>
                    <a:pt x="16" y="280"/>
                  </a:lnTo>
                  <a:lnTo>
                    <a:pt x="10" y="268"/>
                  </a:lnTo>
                  <a:lnTo>
                    <a:pt x="10" y="268"/>
                  </a:lnTo>
                  <a:lnTo>
                    <a:pt x="4" y="248"/>
                  </a:lnTo>
                  <a:lnTo>
                    <a:pt x="2" y="224"/>
                  </a:lnTo>
                  <a:lnTo>
                    <a:pt x="2" y="224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4" y="10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38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82" y="10"/>
                  </a:lnTo>
                  <a:lnTo>
                    <a:pt x="90" y="16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10" y="40"/>
                  </a:lnTo>
                  <a:lnTo>
                    <a:pt x="116" y="50"/>
                  </a:lnTo>
                  <a:lnTo>
                    <a:pt x="118" y="60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2" y="92"/>
                  </a:lnTo>
                  <a:lnTo>
                    <a:pt x="120" y="114"/>
                  </a:lnTo>
                  <a:lnTo>
                    <a:pt x="500" y="202"/>
                  </a:lnTo>
                  <a:lnTo>
                    <a:pt x="500" y="202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500" y="152"/>
                  </a:lnTo>
                  <a:lnTo>
                    <a:pt x="504" y="142"/>
                  </a:lnTo>
                  <a:lnTo>
                    <a:pt x="508" y="134"/>
                  </a:lnTo>
                  <a:lnTo>
                    <a:pt x="514" y="126"/>
                  </a:lnTo>
                  <a:lnTo>
                    <a:pt x="514" y="126"/>
                  </a:lnTo>
                  <a:lnTo>
                    <a:pt x="518" y="120"/>
                  </a:lnTo>
                  <a:lnTo>
                    <a:pt x="524" y="116"/>
                  </a:lnTo>
                  <a:lnTo>
                    <a:pt x="532" y="114"/>
                  </a:lnTo>
                  <a:lnTo>
                    <a:pt x="538" y="112"/>
                  </a:lnTo>
                  <a:lnTo>
                    <a:pt x="538" y="112"/>
                  </a:lnTo>
                  <a:lnTo>
                    <a:pt x="552" y="112"/>
                  </a:lnTo>
                  <a:lnTo>
                    <a:pt x="566" y="116"/>
                  </a:lnTo>
                  <a:lnTo>
                    <a:pt x="566" y="116"/>
                  </a:lnTo>
                  <a:lnTo>
                    <a:pt x="580" y="124"/>
                  </a:lnTo>
                  <a:lnTo>
                    <a:pt x="592" y="136"/>
                  </a:lnTo>
                  <a:lnTo>
                    <a:pt x="592" y="136"/>
                  </a:lnTo>
                  <a:lnTo>
                    <a:pt x="602" y="150"/>
                  </a:lnTo>
                  <a:lnTo>
                    <a:pt x="610" y="164"/>
                  </a:lnTo>
                  <a:lnTo>
                    <a:pt x="610" y="164"/>
                  </a:lnTo>
                  <a:lnTo>
                    <a:pt x="614" y="178"/>
                  </a:lnTo>
                  <a:lnTo>
                    <a:pt x="616" y="194"/>
                  </a:lnTo>
                  <a:lnTo>
                    <a:pt x="616" y="194"/>
                  </a:lnTo>
                  <a:lnTo>
                    <a:pt x="616" y="292"/>
                  </a:lnTo>
                  <a:lnTo>
                    <a:pt x="616" y="292"/>
                  </a:lnTo>
                  <a:lnTo>
                    <a:pt x="616" y="390"/>
                  </a:lnTo>
                  <a:lnTo>
                    <a:pt x="616" y="390"/>
                  </a:lnTo>
                  <a:lnTo>
                    <a:pt x="616" y="394"/>
                  </a:lnTo>
                  <a:lnTo>
                    <a:pt x="612" y="398"/>
                  </a:lnTo>
                  <a:lnTo>
                    <a:pt x="612" y="398"/>
                  </a:lnTo>
                  <a:lnTo>
                    <a:pt x="608" y="406"/>
                  </a:lnTo>
                  <a:lnTo>
                    <a:pt x="608" y="406"/>
                  </a:lnTo>
                  <a:lnTo>
                    <a:pt x="602" y="416"/>
                  </a:lnTo>
                  <a:lnTo>
                    <a:pt x="594" y="422"/>
                  </a:lnTo>
                  <a:lnTo>
                    <a:pt x="584" y="426"/>
                  </a:lnTo>
                  <a:lnTo>
                    <a:pt x="572" y="428"/>
                  </a:lnTo>
                  <a:lnTo>
                    <a:pt x="572" y="428"/>
                  </a:lnTo>
                  <a:lnTo>
                    <a:pt x="562" y="428"/>
                  </a:lnTo>
                  <a:lnTo>
                    <a:pt x="550" y="426"/>
                  </a:lnTo>
                  <a:lnTo>
                    <a:pt x="538" y="420"/>
                  </a:lnTo>
                  <a:lnTo>
                    <a:pt x="528" y="412"/>
                  </a:lnTo>
                  <a:lnTo>
                    <a:pt x="528" y="412"/>
                  </a:lnTo>
                  <a:lnTo>
                    <a:pt x="518" y="402"/>
                  </a:lnTo>
                  <a:lnTo>
                    <a:pt x="510" y="392"/>
                  </a:lnTo>
                  <a:lnTo>
                    <a:pt x="510" y="392"/>
                  </a:lnTo>
                  <a:lnTo>
                    <a:pt x="504" y="380"/>
                  </a:lnTo>
                  <a:lnTo>
                    <a:pt x="502" y="368"/>
                  </a:lnTo>
                  <a:lnTo>
                    <a:pt x="502" y="368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500" y="318"/>
                  </a:lnTo>
                  <a:lnTo>
                    <a:pt x="118" y="230"/>
                  </a:lnTo>
                  <a:lnTo>
                    <a:pt x="118" y="230"/>
                  </a:lnTo>
                  <a:lnTo>
                    <a:pt x="118" y="244"/>
                  </a:lnTo>
                  <a:lnTo>
                    <a:pt x="118" y="244"/>
                  </a:lnTo>
                  <a:lnTo>
                    <a:pt x="120" y="258"/>
                  </a:lnTo>
                  <a:lnTo>
                    <a:pt x="120" y="26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9226440" y="41589360"/>
              <a:ext cx="1060560" cy="8571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668" h="540">
                  <a:moveTo>
                    <a:pt x="62" y="118"/>
                  </a:moveTo>
                  <a:lnTo>
                    <a:pt x="62" y="118"/>
                  </a:lnTo>
                  <a:lnTo>
                    <a:pt x="50" y="112"/>
                  </a:lnTo>
                  <a:lnTo>
                    <a:pt x="40" y="106"/>
                  </a:lnTo>
                  <a:lnTo>
                    <a:pt x="30" y="9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10" y="68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3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154" y="22"/>
                  </a:lnTo>
                  <a:lnTo>
                    <a:pt x="270" y="48"/>
                  </a:lnTo>
                  <a:lnTo>
                    <a:pt x="270" y="48"/>
                  </a:lnTo>
                  <a:lnTo>
                    <a:pt x="504" y="102"/>
                  </a:lnTo>
                  <a:lnTo>
                    <a:pt x="504" y="102"/>
                  </a:lnTo>
                  <a:lnTo>
                    <a:pt x="512" y="90"/>
                  </a:lnTo>
                  <a:lnTo>
                    <a:pt x="516" y="86"/>
                  </a:lnTo>
                  <a:lnTo>
                    <a:pt x="522" y="84"/>
                  </a:lnTo>
                  <a:lnTo>
                    <a:pt x="522" y="84"/>
                  </a:lnTo>
                  <a:lnTo>
                    <a:pt x="534" y="80"/>
                  </a:lnTo>
                  <a:lnTo>
                    <a:pt x="548" y="80"/>
                  </a:lnTo>
                  <a:lnTo>
                    <a:pt x="548" y="80"/>
                  </a:lnTo>
                  <a:lnTo>
                    <a:pt x="562" y="84"/>
                  </a:lnTo>
                  <a:lnTo>
                    <a:pt x="576" y="90"/>
                  </a:lnTo>
                  <a:lnTo>
                    <a:pt x="576" y="90"/>
                  </a:lnTo>
                  <a:lnTo>
                    <a:pt x="588" y="100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12" y="126"/>
                  </a:lnTo>
                  <a:lnTo>
                    <a:pt x="622" y="144"/>
                  </a:lnTo>
                  <a:lnTo>
                    <a:pt x="622" y="144"/>
                  </a:lnTo>
                  <a:lnTo>
                    <a:pt x="630" y="164"/>
                  </a:lnTo>
                  <a:lnTo>
                    <a:pt x="640" y="188"/>
                  </a:lnTo>
                  <a:lnTo>
                    <a:pt x="640" y="188"/>
                  </a:lnTo>
                  <a:lnTo>
                    <a:pt x="652" y="234"/>
                  </a:lnTo>
                  <a:lnTo>
                    <a:pt x="652" y="234"/>
                  </a:lnTo>
                  <a:lnTo>
                    <a:pt x="662" y="270"/>
                  </a:lnTo>
                  <a:lnTo>
                    <a:pt x="662" y="270"/>
                  </a:lnTo>
                  <a:lnTo>
                    <a:pt x="666" y="302"/>
                  </a:lnTo>
                  <a:lnTo>
                    <a:pt x="668" y="332"/>
                  </a:lnTo>
                  <a:lnTo>
                    <a:pt x="666" y="362"/>
                  </a:lnTo>
                  <a:lnTo>
                    <a:pt x="662" y="392"/>
                  </a:lnTo>
                  <a:lnTo>
                    <a:pt x="662" y="392"/>
                  </a:lnTo>
                  <a:lnTo>
                    <a:pt x="654" y="420"/>
                  </a:lnTo>
                  <a:lnTo>
                    <a:pt x="642" y="446"/>
                  </a:lnTo>
                  <a:lnTo>
                    <a:pt x="630" y="468"/>
                  </a:lnTo>
                  <a:lnTo>
                    <a:pt x="614" y="490"/>
                  </a:lnTo>
                  <a:lnTo>
                    <a:pt x="614" y="490"/>
                  </a:lnTo>
                  <a:lnTo>
                    <a:pt x="596" y="506"/>
                  </a:lnTo>
                  <a:lnTo>
                    <a:pt x="576" y="520"/>
                  </a:lnTo>
                  <a:lnTo>
                    <a:pt x="554" y="532"/>
                  </a:lnTo>
                  <a:lnTo>
                    <a:pt x="528" y="538"/>
                  </a:lnTo>
                  <a:lnTo>
                    <a:pt x="528" y="538"/>
                  </a:lnTo>
                  <a:lnTo>
                    <a:pt x="514" y="540"/>
                  </a:lnTo>
                  <a:lnTo>
                    <a:pt x="500" y="540"/>
                  </a:lnTo>
                  <a:lnTo>
                    <a:pt x="486" y="540"/>
                  </a:lnTo>
                  <a:lnTo>
                    <a:pt x="470" y="538"/>
                  </a:lnTo>
                  <a:lnTo>
                    <a:pt x="454" y="534"/>
                  </a:lnTo>
                  <a:lnTo>
                    <a:pt x="438" y="530"/>
                  </a:lnTo>
                  <a:lnTo>
                    <a:pt x="406" y="514"/>
                  </a:lnTo>
                  <a:lnTo>
                    <a:pt x="406" y="514"/>
                  </a:lnTo>
                  <a:lnTo>
                    <a:pt x="386" y="504"/>
                  </a:lnTo>
                  <a:lnTo>
                    <a:pt x="366" y="492"/>
                  </a:lnTo>
                  <a:lnTo>
                    <a:pt x="366" y="492"/>
                  </a:lnTo>
                  <a:lnTo>
                    <a:pt x="348" y="478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08" y="440"/>
                  </a:lnTo>
                  <a:lnTo>
                    <a:pt x="288" y="416"/>
                  </a:lnTo>
                  <a:lnTo>
                    <a:pt x="288" y="416"/>
                  </a:lnTo>
                  <a:lnTo>
                    <a:pt x="270" y="388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32" y="372"/>
                  </a:lnTo>
                  <a:lnTo>
                    <a:pt x="212" y="384"/>
                  </a:lnTo>
                  <a:lnTo>
                    <a:pt x="212" y="384"/>
                  </a:lnTo>
                  <a:lnTo>
                    <a:pt x="192" y="396"/>
                  </a:lnTo>
                  <a:lnTo>
                    <a:pt x="174" y="412"/>
                  </a:lnTo>
                  <a:lnTo>
                    <a:pt x="174" y="412"/>
                  </a:lnTo>
                  <a:lnTo>
                    <a:pt x="152" y="430"/>
                  </a:lnTo>
                  <a:lnTo>
                    <a:pt x="152" y="430"/>
                  </a:lnTo>
                  <a:lnTo>
                    <a:pt x="122" y="450"/>
                  </a:lnTo>
                  <a:lnTo>
                    <a:pt x="122" y="450"/>
                  </a:lnTo>
                  <a:lnTo>
                    <a:pt x="106" y="460"/>
                  </a:lnTo>
                  <a:lnTo>
                    <a:pt x="90" y="468"/>
                  </a:lnTo>
                  <a:lnTo>
                    <a:pt x="90" y="468"/>
                  </a:lnTo>
                  <a:lnTo>
                    <a:pt x="76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4" y="472"/>
                  </a:lnTo>
                  <a:lnTo>
                    <a:pt x="46" y="464"/>
                  </a:lnTo>
                  <a:lnTo>
                    <a:pt x="30" y="454"/>
                  </a:lnTo>
                  <a:lnTo>
                    <a:pt x="30" y="454"/>
                  </a:lnTo>
                  <a:lnTo>
                    <a:pt x="18" y="440"/>
                  </a:lnTo>
                  <a:lnTo>
                    <a:pt x="8" y="426"/>
                  </a:lnTo>
                  <a:lnTo>
                    <a:pt x="8" y="426"/>
                  </a:lnTo>
                  <a:lnTo>
                    <a:pt x="2" y="412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88"/>
                  </a:lnTo>
                  <a:lnTo>
                    <a:pt x="2" y="382"/>
                  </a:lnTo>
                  <a:lnTo>
                    <a:pt x="6" y="374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24" y="354"/>
                  </a:lnTo>
                  <a:lnTo>
                    <a:pt x="42" y="342"/>
                  </a:lnTo>
                  <a:lnTo>
                    <a:pt x="42" y="342"/>
                  </a:lnTo>
                  <a:lnTo>
                    <a:pt x="76" y="322"/>
                  </a:lnTo>
                  <a:lnTo>
                    <a:pt x="76" y="322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212" y="230"/>
                  </a:lnTo>
                  <a:lnTo>
                    <a:pt x="212" y="23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4" y="150"/>
                  </a:lnTo>
                  <a:lnTo>
                    <a:pt x="68" y="118"/>
                  </a:lnTo>
                  <a:lnTo>
                    <a:pt x="62" y="118"/>
                  </a:lnTo>
                  <a:close/>
                  <a:moveTo>
                    <a:pt x="524" y="396"/>
                  </a:moveTo>
                  <a:lnTo>
                    <a:pt x="524" y="396"/>
                  </a:lnTo>
                  <a:lnTo>
                    <a:pt x="534" y="378"/>
                  </a:lnTo>
                  <a:lnTo>
                    <a:pt x="542" y="360"/>
                  </a:lnTo>
                  <a:lnTo>
                    <a:pt x="548" y="340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0" y="294"/>
                  </a:lnTo>
                  <a:lnTo>
                    <a:pt x="548" y="272"/>
                  </a:lnTo>
                  <a:lnTo>
                    <a:pt x="544" y="250"/>
                  </a:lnTo>
                  <a:lnTo>
                    <a:pt x="538" y="226"/>
                  </a:lnTo>
                  <a:lnTo>
                    <a:pt x="322" y="178"/>
                  </a:lnTo>
                  <a:lnTo>
                    <a:pt x="322" y="178"/>
                  </a:lnTo>
                  <a:lnTo>
                    <a:pt x="326" y="220"/>
                  </a:lnTo>
                  <a:lnTo>
                    <a:pt x="332" y="264"/>
                  </a:lnTo>
                  <a:lnTo>
                    <a:pt x="332" y="264"/>
                  </a:lnTo>
                  <a:lnTo>
                    <a:pt x="338" y="286"/>
                  </a:lnTo>
                  <a:lnTo>
                    <a:pt x="346" y="308"/>
                  </a:lnTo>
                  <a:lnTo>
                    <a:pt x="356" y="328"/>
                  </a:lnTo>
                  <a:lnTo>
                    <a:pt x="368" y="350"/>
                  </a:lnTo>
                  <a:lnTo>
                    <a:pt x="368" y="350"/>
                  </a:lnTo>
                  <a:lnTo>
                    <a:pt x="386" y="370"/>
                  </a:lnTo>
                  <a:lnTo>
                    <a:pt x="404" y="388"/>
                  </a:lnTo>
                  <a:lnTo>
                    <a:pt x="404" y="388"/>
                  </a:lnTo>
                  <a:lnTo>
                    <a:pt x="426" y="404"/>
                  </a:lnTo>
                  <a:lnTo>
                    <a:pt x="446" y="414"/>
                  </a:lnTo>
                  <a:lnTo>
                    <a:pt x="446" y="414"/>
                  </a:lnTo>
                  <a:lnTo>
                    <a:pt x="458" y="416"/>
                  </a:lnTo>
                  <a:lnTo>
                    <a:pt x="468" y="418"/>
                  </a:lnTo>
                  <a:lnTo>
                    <a:pt x="478" y="418"/>
                  </a:lnTo>
                  <a:lnTo>
                    <a:pt x="488" y="418"/>
                  </a:lnTo>
                  <a:lnTo>
                    <a:pt x="488" y="418"/>
                  </a:lnTo>
                  <a:lnTo>
                    <a:pt x="498" y="414"/>
                  </a:lnTo>
                  <a:lnTo>
                    <a:pt x="508" y="410"/>
                  </a:lnTo>
                  <a:lnTo>
                    <a:pt x="516" y="404"/>
                  </a:lnTo>
                  <a:lnTo>
                    <a:pt x="524" y="396"/>
                  </a:lnTo>
                  <a:lnTo>
                    <a:pt x="524" y="396"/>
                  </a:lnTo>
                  <a:close/>
                </a:path>
              </a:pathLst>
            </a:custGeom>
            <a:solidFill>
              <a:srgbClr val="ea5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グループ化 75"/>
          <p:cNvGrpSpPr/>
          <p:nvPr/>
        </p:nvGrpSpPr>
        <p:grpSpPr>
          <a:xfrm>
            <a:off x="955800" y="10547280"/>
            <a:ext cx="7172280" cy="23841000"/>
            <a:chOff x="955800" y="10547280"/>
            <a:chExt cx="7172280" cy="23841000"/>
          </a:xfrm>
        </p:grpSpPr>
        <p:sp>
          <p:nvSpPr>
            <p:cNvPr id="70" name="Freeform 64"/>
            <p:cNvSpPr/>
            <p:nvPr/>
          </p:nvSpPr>
          <p:spPr>
            <a:xfrm>
              <a:off x="4657680" y="21167640"/>
              <a:ext cx="3327480" cy="324144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41440"/>
                <a:gd name="textAreaBottom" fmla="*/ 3241800 h 3241440"/>
              </a:gdLst>
              <a:ahLst/>
              <a:rect l="textAreaLeft" t="textAreaTop" r="textAreaRight" b="textAreaBottom"/>
              <a:pathLst>
                <a:path w="2096" h="2042">
                  <a:moveTo>
                    <a:pt x="2022" y="1620"/>
                  </a:moveTo>
                  <a:lnTo>
                    <a:pt x="2022" y="1620"/>
                  </a:lnTo>
                  <a:lnTo>
                    <a:pt x="1964" y="1614"/>
                  </a:lnTo>
                  <a:lnTo>
                    <a:pt x="1910" y="1610"/>
                  </a:lnTo>
                  <a:lnTo>
                    <a:pt x="1858" y="1602"/>
                  </a:lnTo>
                  <a:lnTo>
                    <a:pt x="1808" y="1594"/>
                  </a:lnTo>
                  <a:lnTo>
                    <a:pt x="1760" y="1586"/>
                  </a:lnTo>
                  <a:lnTo>
                    <a:pt x="1716" y="1574"/>
                  </a:lnTo>
                  <a:lnTo>
                    <a:pt x="1674" y="1564"/>
                  </a:lnTo>
                  <a:lnTo>
                    <a:pt x="1634" y="1550"/>
                  </a:lnTo>
                  <a:lnTo>
                    <a:pt x="1634" y="1550"/>
                  </a:lnTo>
                  <a:lnTo>
                    <a:pt x="1800" y="1556"/>
                  </a:lnTo>
                  <a:lnTo>
                    <a:pt x="1968" y="1562"/>
                  </a:lnTo>
                  <a:lnTo>
                    <a:pt x="1968" y="1562"/>
                  </a:lnTo>
                  <a:lnTo>
                    <a:pt x="1984" y="1560"/>
                  </a:lnTo>
                  <a:lnTo>
                    <a:pt x="2000" y="1556"/>
                  </a:lnTo>
                  <a:lnTo>
                    <a:pt x="2014" y="1550"/>
                  </a:lnTo>
                  <a:lnTo>
                    <a:pt x="2026" y="1540"/>
                  </a:lnTo>
                  <a:lnTo>
                    <a:pt x="2026" y="1540"/>
                  </a:lnTo>
                  <a:lnTo>
                    <a:pt x="2036" y="1528"/>
                  </a:lnTo>
                  <a:lnTo>
                    <a:pt x="2044" y="1514"/>
                  </a:lnTo>
                  <a:lnTo>
                    <a:pt x="2048" y="1500"/>
                  </a:lnTo>
                  <a:lnTo>
                    <a:pt x="2050" y="1484"/>
                  </a:lnTo>
                  <a:lnTo>
                    <a:pt x="2050" y="1220"/>
                  </a:lnTo>
                  <a:lnTo>
                    <a:pt x="2050" y="1220"/>
                  </a:lnTo>
                  <a:lnTo>
                    <a:pt x="2048" y="1206"/>
                  </a:lnTo>
                  <a:lnTo>
                    <a:pt x="2044" y="1190"/>
                  </a:lnTo>
                  <a:lnTo>
                    <a:pt x="2036" y="1176"/>
                  </a:lnTo>
                  <a:lnTo>
                    <a:pt x="2026" y="1164"/>
                  </a:lnTo>
                  <a:lnTo>
                    <a:pt x="2026" y="1164"/>
                  </a:lnTo>
                  <a:lnTo>
                    <a:pt x="2014" y="1154"/>
                  </a:lnTo>
                  <a:lnTo>
                    <a:pt x="2000" y="1148"/>
                  </a:lnTo>
                  <a:lnTo>
                    <a:pt x="1986" y="1144"/>
                  </a:lnTo>
                  <a:lnTo>
                    <a:pt x="1970" y="1142"/>
                  </a:lnTo>
                  <a:lnTo>
                    <a:pt x="1970" y="1142"/>
                  </a:lnTo>
                  <a:lnTo>
                    <a:pt x="1804" y="1148"/>
                  </a:lnTo>
                  <a:lnTo>
                    <a:pt x="1804" y="934"/>
                  </a:lnTo>
                  <a:lnTo>
                    <a:pt x="1804" y="934"/>
                  </a:lnTo>
                  <a:lnTo>
                    <a:pt x="1806" y="934"/>
                  </a:lnTo>
                  <a:lnTo>
                    <a:pt x="1806" y="934"/>
                  </a:lnTo>
                  <a:lnTo>
                    <a:pt x="1822" y="934"/>
                  </a:lnTo>
                  <a:lnTo>
                    <a:pt x="1838" y="930"/>
                  </a:lnTo>
                  <a:lnTo>
                    <a:pt x="1852" y="922"/>
                  </a:lnTo>
                  <a:lnTo>
                    <a:pt x="1864" y="912"/>
                  </a:lnTo>
                  <a:lnTo>
                    <a:pt x="1864" y="912"/>
                  </a:lnTo>
                  <a:lnTo>
                    <a:pt x="1874" y="900"/>
                  </a:lnTo>
                  <a:lnTo>
                    <a:pt x="1882" y="886"/>
                  </a:lnTo>
                  <a:lnTo>
                    <a:pt x="1886" y="872"/>
                  </a:lnTo>
                  <a:lnTo>
                    <a:pt x="1888" y="856"/>
                  </a:lnTo>
                  <a:lnTo>
                    <a:pt x="1888" y="766"/>
                  </a:lnTo>
                  <a:lnTo>
                    <a:pt x="1962" y="766"/>
                  </a:lnTo>
                  <a:lnTo>
                    <a:pt x="1962" y="766"/>
                  </a:lnTo>
                  <a:lnTo>
                    <a:pt x="1978" y="764"/>
                  </a:lnTo>
                  <a:lnTo>
                    <a:pt x="1992" y="760"/>
                  </a:lnTo>
                  <a:lnTo>
                    <a:pt x="2006" y="752"/>
                  </a:lnTo>
                  <a:lnTo>
                    <a:pt x="2018" y="742"/>
                  </a:lnTo>
                  <a:lnTo>
                    <a:pt x="2018" y="742"/>
                  </a:lnTo>
                  <a:lnTo>
                    <a:pt x="2028" y="728"/>
                  </a:lnTo>
                  <a:lnTo>
                    <a:pt x="2036" y="714"/>
                  </a:lnTo>
                  <a:lnTo>
                    <a:pt x="2038" y="698"/>
                  </a:lnTo>
                  <a:lnTo>
                    <a:pt x="2040" y="682"/>
                  </a:lnTo>
                  <a:lnTo>
                    <a:pt x="2040" y="682"/>
                  </a:lnTo>
                  <a:lnTo>
                    <a:pt x="2034" y="592"/>
                  </a:lnTo>
                  <a:lnTo>
                    <a:pt x="2032" y="486"/>
                  </a:lnTo>
                  <a:lnTo>
                    <a:pt x="2032" y="288"/>
                  </a:lnTo>
                  <a:lnTo>
                    <a:pt x="2032" y="222"/>
                  </a:lnTo>
                  <a:lnTo>
                    <a:pt x="2032" y="222"/>
                  </a:lnTo>
                  <a:lnTo>
                    <a:pt x="2030" y="206"/>
                  </a:lnTo>
                  <a:lnTo>
                    <a:pt x="2026" y="192"/>
                  </a:lnTo>
                  <a:lnTo>
                    <a:pt x="2018" y="178"/>
                  </a:lnTo>
                  <a:lnTo>
                    <a:pt x="2008" y="168"/>
                  </a:lnTo>
                  <a:lnTo>
                    <a:pt x="1996" y="158"/>
                  </a:lnTo>
                  <a:lnTo>
                    <a:pt x="1984" y="150"/>
                  </a:lnTo>
                  <a:lnTo>
                    <a:pt x="1968" y="146"/>
                  </a:lnTo>
                  <a:lnTo>
                    <a:pt x="1954" y="144"/>
                  </a:lnTo>
                  <a:lnTo>
                    <a:pt x="1298" y="144"/>
                  </a:lnTo>
                  <a:lnTo>
                    <a:pt x="1298" y="144"/>
                  </a:lnTo>
                  <a:lnTo>
                    <a:pt x="1300" y="122"/>
                  </a:lnTo>
                  <a:lnTo>
                    <a:pt x="1300" y="122"/>
                  </a:lnTo>
                  <a:lnTo>
                    <a:pt x="1298" y="104"/>
                  </a:lnTo>
                  <a:lnTo>
                    <a:pt x="1294" y="86"/>
                  </a:lnTo>
                  <a:lnTo>
                    <a:pt x="1286" y="70"/>
                  </a:lnTo>
                  <a:lnTo>
                    <a:pt x="1274" y="54"/>
                  </a:lnTo>
                  <a:lnTo>
                    <a:pt x="1258" y="42"/>
                  </a:lnTo>
                  <a:lnTo>
                    <a:pt x="1240" y="30"/>
                  </a:lnTo>
                  <a:lnTo>
                    <a:pt x="1218" y="22"/>
                  </a:lnTo>
                  <a:lnTo>
                    <a:pt x="1190" y="18"/>
                  </a:lnTo>
                  <a:lnTo>
                    <a:pt x="1190" y="18"/>
                  </a:lnTo>
                  <a:lnTo>
                    <a:pt x="1034" y="6"/>
                  </a:lnTo>
                  <a:lnTo>
                    <a:pt x="956" y="2"/>
                  </a:lnTo>
                  <a:lnTo>
                    <a:pt x="886" y="0"/>
                  </a:lnTo>
                  <a:lnTo>
                    <a:pt x="886" y="0"/>
                  </a:lnTo>
                  <a:lnTo>
                    <a:pt x="884" y="0"/>
                  </a:lnTo>
                  <a:lnTo>
                    <a:pt x="874" y="0"/>
                  </a:lnTo>
                  <a:lnTo>
                    <a:pt x="874" y="0"/>
                  </a:lnTo>
                  <a:lnTo>
                    <a:pt x="860" y="0"/>
                  </a:lnTo>
                  <a:lnTo>
                    <a:pt x="846" y="2"/>
                  </a:lnTo>
                  <a:lnTo>
                    <a:pt x="834" y="4"/>
                  </a:lnTo>
                  <a:lnTo>
                    <a:pt x="822" y="8"/>
                  </a:lnTo>
                  <a:lnTo>
                    <a:pt x="812" y="14"/>
                  </a:lnTo>
                  <a:lnTo>
                    <a:pt x="804" y="20"/>
                  </a:lnTo>
                  <a:lnTo>
                    <a:pt x="790" y="32"/>
                  </a:lnTo>
                  <a:lnTo>
                    <a:pt x="780" y="48"/>
                  </a:lnTo>
                  <a:lnTo>
                    <a:pt x="774" y="62"/>
                  </a:lnTo>
                  <a:lnTo>
                    <a:pt x="770" y="78"/>
                  </a:lnTo>
                  <a:lnTo>
                    <a:pt x="770" y="92"/>
                  </a:lnTo>
                  <a:lnTo>
                    <a:pt x="770" y="92"/>
                  </a:lnTo>
                  <a:lnTo>
                    <a:pt x="770" y="106"/>
                  </a:lnTo>
                  <a:lnTo>
                    <a:pt x="772" y="118"/>
                  </a:lnTo>
                  <a:lnTo>
                    <a:pt x="780" y="144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28" y="146"/>
                  </a:lnTo>
                  <a:lnTo>
                    <a:pt x="112" y="150"/>
                  </a:lnTo>
                  <a:lnTo>
                    <a:pt x="100" y="158"/>
                  </a:lnTo>
                  <a:lnTo>
                    <a:pt x="88" y="168"/>
                  </a:lnTo>
                  <a:lnTo>
                    <a:pt x="78" y="178"/>
                  </a:lnTo>
                  <a:lnTo>
                    <a:pt x="70" y="192"/>
                  </a:lnTo>
                  <a:lnTo>
                    <a:pt x="66" y="206"/>
                  </a:lnTo>
                  <a:lnTo>
                    <a:pt x="64" y="222"/>
                  </a:lnTo>
                  <a:lnTo>
                    <a:pt x="64" y="288"/>
                  </a:lnTo>
                  <a:lnTo>
                    <a:pt x="64" y="288"/>
                  </a:lnTo>
                  <a:lnTo>
                    <a:pt x="64" y="482"/>
                  </a:lnTo>
                  <a:lnTo>
                    <a:pt x="62" y="590"/>
                  </a:lnTo>
                  <a:lnTo>
                    <a:pt x="56" y="682"/>
                  </a:lnTo>
                  <a:lnTo>
                    <a:pt x="56" y="682"/>
                  </a:lnTo>
                  <a:lnTo>
                    <a:pt x="58" y="698"/>
                  </a:lnTo>
                  <a:lnTo>
                    <a:pt x="60" y="714"/>
                  </a:lnTo>
                  <a:lnTo>
                    <a:pt x="68" y="728"/>
                  </a:lnTo>
                  <a:lnTo>
                    <a:pt x="78" y="742"/>
                  </a:lnTo>
                  <a:lnTo>
                    <a:pt x="78" y="742"/>
                  </a:lnTo>
                  <a:lnTo>
                    <a:pt x="90" y="752"/>
                  </a:lnTo>
                  <a:lnTo>
                    <a:pt x="104" y="760"/>
                  </a:lnTo>
                  <a:lnTo>
                    <a:pt x="118" y="764"/>
                  </a:lnTo>
                  <a:lnTo>
                    <a:pt x="134" y="766"/>
                  </a:lnTo>
                  <a:lnTo>
                    <a:pt x="208" y="766"/>
                  </a:lnTo>
                  <a:lnTo>
                    <a:pt x="208" y="856"/>
                  </a:lnTo>
                  <a:lnTo>
                    <a:pt x="208" y="856"/>
                  </a:lnTo>
                  <a:lnTo>
                    <a:pt x="210" y="872"/>
                  </a:lnTo>
                  <a:lnTo>
                    <a:pt x="214" y="886"/>
                  </a:lnTo>
                  <a:lnTo>
                    <a:pt x="222" y="900"/>
                  </a:lnTo>
                  <a:lnTo>
                    <a:pt x="232" y="912"/>
                  </a:lnTo>
                  <a:lnTo>
                    <a:pt x="232" y="912"/>
                  </a:lnTo>
                  <a:lnTo>
                    <a:pt x="244" y="922"/>
                  </a:lnTo>
                  <a:lnTo>
                    <a:pt x="258" y="928"/>
                  </a:lnTo>
                  <a:lnTo>
                    <a:pt x="272" y="934"/>
                  </a:lnTo>
                  <a:lnTo>
                    <a:pt x="288" y="934"/>
                  </a:lnTo>
                  <a:lnTo>
                    <a:pt x="288" y="934"/>
                  </a:lnTo>
                  <a:lnTo>
                    <a:pt x="288" y="934"/>
                  </a:lnTo>
                  <a:lnTo>
                    <a:pt x="288" y="1146"/>
                  </a:lnTo>
                  <a:lnTo>
                    <a:pt x="288" y="1146"/>
                  </a:lnTo>
                  <a:lnTo>
                    <a:pt x="126" y="1140"/>
                  </a:lnTo>
                  <a:lnTo>
                    <a:pt x="126" y="1140"/>
                  </a:lnTo>
                  <a:lnTo>
                    <a:pt x="112" y="1142"/>
                  </a:lnTo>
                  <a:lnTo>
                    <a:pt x="96" y="1146"/>
                  </a:lnTo>
                  <a:lnTo>
                    <a:pt x="82" y="1152"/>
                  </a:lnTo>
                  <a:lnTo>
                    <a:pt x="70" y="1162"/>
                  </a:lnTo>
                  <a:lnTo>
                    <a:pt x="70" y="1162"/>
                  </a:lnTo>
                  <a:lnTo>
                    <a:pt x="60" y="1174"/>
                  </a:lnTo>
                  <a:lnTo>
                    <a:pt x="52" y="1188"/>
                  </a:lnTo>
                  <a:lnTo>
                    <a:pt x="48" y="1202"/>
                  </a:lnTo>
                  <a:lnTo>
                    <a:pt x="46" y="1218"/>
                  </a:lnTo>
                  <a:lnTo>
                    <a:pt x="46" y="1484"/>
                  </a:lnTo>
                  <a:lnTo>
                    <a:pt x="46" y="1484"/>
                  </a:lnTo>
                  <a:lnTo>
                    <a:pt x="48" y="1500"/>
                  </a:lnTo>
                  <a:lnTo>
                    <a:pt x="52" y="1514"/>
                  </a:lnTo>
                  <a:lnTo>
                    <a:pt x="60" y="1528"/>
                  </a:lnTo>
                  <a:lnTo>
                    <a:pt x="70" y="1540"/>
                  </a:lnTo>
                  <a:lnTo>
                    <a:pt x="70" y="1540"/>
                  </a:lnTo>
                  <a:lnTo>
                    <a:pt x="82" y="1550"/>
                  </a:lnTo>
                  <a:lnTo>
                    <a:pt x="96" y="1556"/>
                  </a:lnTo>
                  <a:lnTo>
                    <a:pt x="112" y="1560"/>
                  </a:lnTo>
                  <a:lnTo>
                    <a:pt x="128" y="1562"/>
                  </a:lnTo>
                  <a:lnTo>
                    <a:pt x="128" y="1562"/>
                  </a:lnTo>
                  <a:lnTo>
                    <a:pt x="402" y="1552"/>
                  </a:lnTo>
                  <a:lnTo>
                    <a:pt x="402" y="1552"/>
                  </a:lnTo>
                  <a:lnTo>
                    <a:pt x="330" y="1572"/>
                  </a:lnTo>
                  <a:lnTo>
                    <a:pt x="250" y="1590"/>
                  </a:lnTo>
                  <a:lnTo>
                    <a:pt x="164" y="1606"/>
                  </a:lnTo>
                  <a:lnTo>
                    <a:pt x="68" y="1620"/>
                  </a:lnTo>
                  <a:lnTo>
                    <a:pt x="68" y="1620"/>
                  </a:lnTo>
                  <a:lnTo>
                    <a:pt x="58" y="1622"/>
                  </a:lnTo>
                  <a:lnTo>
                    <a:pt x="48" y="1626"/>
                  </a:lnTo>
                  <a:lnTo>
                    <a:pt x="38" y="1630"/>
                  </a:lnTo>
                  <a:lnTo>
                    <a:pt x="30" y="1636"/>
                  </a:lnTo>
                  <a:lnTo>
                    <a:pt x="22" y="1642"/>
                  </a:lnTo>
                  <a:lnTo>
                    <a:pt x="16" y="1650"/>
                  </a:lnTo>
                  <a:lnTo>
                    <a:pt x="10" y="1658"/>
                  </a:lnTo>
                  <a:lnTo>
                    <a:pt x="6" y="1668"/>
                  </a:lnTo>
                  <a:lnTo>
                    <a:pt x="6" y="1668"/>
                  </a:lnTo>
                  <a:lnTo>
                    <a:pt x="2" y="1678"/>
                  </a:lnTo>
                  <a:lnTo>
                    <a:pt x="0" y="1688"/>
                  </a:lnTo>
                  <a:lnTo>
                    <a:pt x="0" y="1698"/>
                  </a:lnTo>
                  <a:lnTo>
                    <a:pt x="2" y="1710"/>
                  </a:lnTo>
                  <a:lnTo>
                    <a:pt x="4" y="1720"/>
                  </a:lnTo>
                  <a:lnTo>
                    <a:pt x="8" y="1728"/>
                  </a:lnTo>
                  <a:lnTo>
                    <a:pt x="12" y="1738"/>
                  </a:lnTo>
                  <a:lnTo>
                    <a:pt x="18" y="1746"/>
                  </a:lnTo>
                  <a:lnTo>
                    <a:pt x="18" y="1746"/>
                  </a:lnTo>
                  <a:lnTo>
                    <a:pt x="48" y="1788"/>
                  </a:lnTo>
                  <a:lnTo>
                    <a:pt x="74" y="1830"/>
                  </a:lnTo>
                  <a:lnTo>
                    <a:pt x="96" y="1870"/>
                  </a:lnTo>
                  <a:lnTo>
                    <a:pt x="114" y="1906"/>
                  </a:lnTo>
                  <a:lnTo>
                    <a:pt x="126" y="1938"/>
                  </a:lnTo>
                  <a:lnTo>
                    <a:pt x="134" y="1962"/>
                  </a:lnTo>
                  <a:lnTo>
                    <a:pt x="142" y="1984"/>
                  </a:lnTo>
                  <a:lnTo>
                    <a:pt x="142" y="1984"/>
                  </a:lnTo>
                  <a:lnTo>
                    <a:pt x="146" y="1996"/>
                  </a:lnTo>
                  <a:lnTo>
                    <a:pt x="152" y="2008"/>
                  </a:lnTo>
                  <a:lnTo>
                    <a:pt x="160" y="2018"/>
                  </a:lnTo>
                  <a:lnTo>
                    <a:pt x="170" y="2026"/>
                  </a:lnTo>
                  <a:lnTo>
                    <a:pt x="180" y="2034"/>
                  </a:lnTo>
                  <a:lnTo>
                    <a:pt x="192" y="2038"/>
                  </a:lnTo>
                  <a:lnTo>
                    <a:pt x="204" y="2042"/>
                  </a:lnTo>
                  <a:lnTo>
                    <a:pt x="218" y="2042"/>
                  </a:lnTo>
                  <a:lnTo>
                    <a:pt x="218" y="2042"/>
                  </a:lnTo>
                  <a:lnTo>
                    <a:pt x="234" y="2040"/>
                  </a:lnTo>
                  <a:lnTo>
                    <a:pt x="234" y="2040"/>
                  </a:lnTo>
                  <a:lnTo>
                    <a:pt x="304" y="2024"/>
                  </a:lnTo>
                  <a:lnTo>
                    <a:pt x="372" y="2008"/>
                  </a:lnTo>
                  <a:lnTo>
                    <a:pt x="436" y="1990"/>
                  </a:lnTo>
                  <a:lnTo>
                    <a:pt x="500" y="1970"/>
                  </a:lnTo>
                  <a:lnTo>
                    <a:pt x="560" y="1950"/>
                  </a:lnTo>
                  <a:lnTo>
                    <a:pt x="616" y="1928"/>
                  </a:lnTo>
                  <a:lnTo>
                    <a:pt x="672" y="1904"/>
                  </a:lnTo>
                  <a:lnTo>
                    <a:pt x="724" y="1880"/>
                  </a:lnTo>
                  <a:lnTo>
                    <a:pt x="774" y="1856"/>
                  </a:lnTo>
                  <a:lnTo>
                    <a:pt x="820" y="1828"/>
                  </a:lnTo>
                  <a:lnTo>
                    <a:pt x="864" y="1800"/>
                  </a:lnTo>
                  <a:lnTo>
                    <a:pt x="906" y="1772"/>
                  </a:lnTo>
                  <a:lnTo>
                    <a:pt x="946" y="1742"/>
                  </a:lnTo>
                  <a:lnTo>
                    <a:pt x="982" y="1710"/>
                  </a:lnTo>
                  <a:lnTo>
                    <a:pt x="1016" y="1678"/>
                  </a:lnTo>
                  <a:lnTo>
                    <a:pt x="1046" y="1644"/>
                  </a:lnTo>
                  <a:lnTo>
                    <a:pt x="1046" y="1644"/>
                  </a:lnTo>
                  <a:lnTo>
                    <a:pt x="1090" y="1692"/>
                  </a:lnTo>
                  <a:lnTo>
                    <a:pt x="1136" y="1736"/>
                  </a:lnTo>
                  <a:lnTo>
                    <a:pt x="1184" y="1776"/>
                  </a:lnTo>
                  <a:lnTo>
                    <a:pt x="1232" y="1812"/>
                  </a:lnTo>
                  <a:lnTo>
                    <a:pt x="1284" y="1846"/>
                  </a:lnTo>
                  <a:lnTo>
                    <a:pt x="1334" y="1876"/>
                  </a:lnTo>
                  <a:lnTo>
                    <a:pt x="1388" y="1902"/>
                  </a:lnTo>
                  <a:lnTo>
                    <a:pt x="1442" y="1926"/>
                  </a:lnTo>
                  <a:lnTo>
                    <a:pt x="1496" y="1948"/>
                  </a:lnTo>
                  <a:lnTo>
                    <a:pt x="1550" y="1966"/>
                  </a:lnTo>
                  <a:lnTo>
                    <a:pt x="1606" y="1982"/>
                  </a:lnTo>
                  <a:lnTo>
                    <a:pt x="1660" y="1998"/>
                  </a:lnTo>
                  <a:lnTo>
                    <a:pt x="1716" y="2010"/>
                  </a:lnTo>
                  <a:lnTo>
                    <a:pt x="1770" y="2022"/>
                  </a:lnTo>
                  <a:lnTo>
                    <a:pt x="1878" y="2042"/>
                  </a:lnTo>
                  <a:lnTo>
                    <a:pt x="1878" y="2042"/>
                  </a:lnTo>
                  <a:lnTo>
                    <a:pt x="1894" y="2042"/>
                  </a:lnTo>
                  <a:lnTo>
                    <a:pt x="1908" y="2040"/>
                  </a:lnTo>
                  <a:lnTo>
                    <a:pt x="1922" y="2036"/>
                  </a:lnTo>
                  <a:lnTo>
                    <a:pt x="1934" y="2030"/>
                  </a:lnTo>
                  <a:lnTo>
                    <a:pt x="1946" y="2020"/>
                  </a:lnTo>
                  <a:lnTo>
                    <a:pt x="1956" y="2008"/>
                  </a:lnTo>
                  <a:lnTo>
                    <a:pt x="1962" y="1996"/>
                  </a:lnTo>
                  <a:lnTo>
                    <a:pt x="1968" y="1982"/>
                  </a:lnTo>
                  <a:lnTo>
                    <a:pt x="1968" y="1982"/>
                  </a:lnTo>
                  <a:lnTo>
                    <a:pt x="1974" y="1958"/>
                  </a:lnTo>
                  <a:lnTo>
                    <a:pt x="1982" y="1932"/>
                  </a:lnTo>
                  <a:lnTo>
                    <a:pt x="1994" y="1900"/>
                  </a:lnTo>
                  <a:lnTo>
                    <a:pt x="2008" y="1862"/>
                  </a:lnTo>
                  <a:lnTo>
                    <a:pt x="2028" y="1824"/>
                  </a:lnTo>
                  <a:lnTo>
                    <a:pt x="2052" y="1784"/>
                  </a:lnTo>
                  <a:lnTo>
                    <a:pt x="2064" y="1764"/>
                  </a:lnTo>
                  <a:lnTo>
                    <a:pt x="2078" y="1746"/>
                  </a:lnTo>
                  <a:lnTo>
                    <a:pt x="2078" y="1746"/>
                  </a:lnTo>
                  <a:lnTo>
                    <a:pt x="2084" y="1738"/>
                  </a:lnTo>
                  <a:lnTo>
                    <a:pt x="2090" y="1728"/>
                  </a:lnTo>
                  <a:lnTo>
                    <a:pt x="2092" y="1718"/>
                  </a:lnTo>
                  <a:lnTo>
                    <a:pt x="2094" y="1708"/>
                  </a:lnTo>
                  <a:lnTo>
                    <a:pt x="2096" y="1698"/>
                  </a:lnTo>
                  <a:lnTo>
                    <a:pt x="2094" y="1686"/>
                  </a:lnTo>
                  <a:lnTo>
                    <a:pt x="2092" y="1676"/>
                  </a:lnTo>
                  <a:lnTo>
                    <a:pt x="2090" y="1666"/>
                  </a:lnTo>
                  <a:lnTo>
                    <a:pt x="2090" y="1666"/>
                  </a:lnTo>
                  <a:lnTo>
                    <a:pt x="2084" y="1656"/>
                  </a:lnTo>
                  <a:lnTo>
                    <a:pt x="2078" y="1648"/>
                  </a:lnTo>
                  <a:lnTo>
                    <a:pt x="2070" y="1640"/>
                  </a:lnTo>
                  <a:lnTo>
                    <a:pt x="2062" y="1634"/>
                  </a:lnTo>
                  <a:lnTo>
                    <a:pt x="2054" y="1628"/>
                  </a:lnTo>
                  <a:lnTo>
                    <a:pt x="2044" y="1624"/>
                  </a:lnTo>
                  <a:lnTo>
                    <a:pt x="2034" y="1620"/>
                  </a:lnTo>
                  <a:lnTo>
                    <a:pt x="2022" y="1620"/>
                  </a:lnTo>
                  <a:lnTo>
                    <a:pt x="2022" y="1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65"/>
            <p:cNvSpPr/>
            <p:nvPr/>
          </p:nvSpPr>
          <p:spPr>
            <a:xfrm>
              <a:off x="4657680" y="24453720"/>
              <a:ext cx="3327480" cy="324468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096" h="2044">
                  <a:moveTo>
                    <a:pt x="2014" y="144"/>
                  </a:moveTo>
                  <a:lnTo>
                    <a:pt x="2014" y="144"/>
                  </a:lnTo>
                  <a:lnTo>
                    <a:pt x="1886" y="148"/>
                  </a:lnTo>
                  <a:lnTo>
                    <a:pt x="1748" y="152"/>
                  </a:lnTo>
                  <a:lnTo>
                    <a:pt x="1470" y="156"/>
                  </a:lnTo>
                  <a:lnTo>
                    <a:pt x="1470" y="156"/>
                  </a:lnTo>
                  <a:lnTo>
                    <a:pt x="1470" y="150"/>
                  </a:lnTo>
                  <a:lnTo>
                    <a:pt x="1470" y="150"/>
                  </a:lnTo>
                  <a:lnTo>
                    <a:pt x="1468" y="132"/>
                  </a:lnTo>
                  <a:lnTo>
                    <a:pt x="1464" y="116"/>
                  </a:lnTo>
                  <a:lnTo>
                    <a:pt x="1458" y="100"/>
                  </a:lnTo>
                  <a:lnTo>
                    <a:pt x="1446" y="86"/>
                  </a:lnTo>
                  <a:lnTo>
                    <a:pt x="1434" y="72"/>
                  </a:lnTo>
                  <a:lnTo>
                    <a:pt x="1418" y="60"/>
                  </a:lnTo>
                  <a:lnTo>
                    <a:pt x="1398" y="50"/>
                  </a:lnTo>
                  <a:lnTo>
                    <a:pt x="1374" y="44"/>
                  </a:lnTo>
                  <a:lnTo>
                    <a:pt x="1374" y="44"/>
                  </a:lnTo>
                  <a:lnTo>
                    <a:pt x="1314" y="32"/>
                  </a:lnTo>
                  <a:lnTo>
                    <a:pt x="1252" y="22"/>
                  </a:lnTo>
                  <a:lnTo>
                    <a:pt x="1190" y="12"/>
                  </a:lnTo>
                  <a:lnTo>
                    <a:pt x="1130" y="6"/>
                  </a:lnTo>
                  <a:lnTo>
                    <a:pt x="1130" y="6"/>
                  </a:lnTo>
                  <a:lnTo>
                    <a:pt x="1118" y="2"/>
                  </a:lnTo>
                  <a:lnTo>
                    <a:pt x="1102" y="0"/>
                  </a:lnTo>
                  <a:lnTo>
                    <a:pt x="1102" y="0"/>
                  </a:lnTo>
                  <a:lnTo>
                    <a:pt x="1090" y="2"/>
                  </a:lnTo>
                  <a:lnTo>
                    <a:pt x="1078" y="4"/>
                  </a:lnTo>
                  <a:lnTo>
                    <a:pt x="1062" y="8"/>
                  </a:lnTo>
                  <a:lnTo>
                    <a:pt x="1048" y="16"/>
                  </a:lnTo>
                  <a:lnTo>
                    <a:pt x="1034" y="28"/>
                  </a:lnTo>
                  <a:lnTo>
                    <a:pt x="1028" y="36"/>
                  </a:lnTo>
                  <a:lnTo>
                    <a:pt x="1022" y="46"/>
                  </a:lnTo>
                  <a:lnTo>
                    <a:pt x="1016" y="56"/>
                  </a:lnTo>
                  <a:lnTo>
                    <a:pt x="1012" y="68"/>
                  </a:lnTo>
                  <a:lnTo>
                    <a:pt x="1008" y="82"/>
                  </a:lnTo>
                  <a:lnTo>
                    <a:pt x="1006" y="98"/>
                  </a:lnTo>
                  <a:lnTo>
                    <a:pt x="1006" y="98"/>
                  </a:lnTo>
                  <a:lnTo>
                    <a:pt x="1004" y="116"/>
                  </a:lnTo>
                  <a:lnTo>
                    <a:pt x="1004" y="116"/>
                  </a:lnTo>
                  <a:lnTo>
                    <a:pt x="1002" y="128"/>
                  </a:lnTo>
                  <a:lnTo>
                    <a:pt x="996" y="140"/>
                  </a:lnTo>
                  <a:lnTo>
                    <a:pt x="980" y="172"/>
                  </a:lnTo>
                  <a:lnTo>
                    <a:pt x="956" y="210"/>
                  </a:lnTo>
                  <a:lnTo>
                    <a:pt x="924" y="254"/>
                  </a:lnTo>
                  <a:lnTo>
                    <a:pt x="924" y="254"/>
                  </a:lnTo>
                  <a:lnTo>
                    <a:pt x="906" y="248"/>
                  </a:lnTo>
                  <a:lnTo>
                    <a:pt x="888" y="248"/>
                  </a:lnTo>
                  <a:lnTo>
                    <a:pt x="888" y="248"/>
                  </a:lnTo>
                  <a:lnTo>
                    <a:pt x="718" y="256"/>
                  </a:lnTo>
                  <a:lnTo>
                    <a:pt x="718" y="256"/>
                  </a:lnTo>
                  <a:lnTo>
                    <a:pt x="720" y="234"/>
                  </a:lnTo>
                  <a:lnTo>
                    <a:pt x="720" y="234"/>
                  </a:lnTo>
                  <a:lnTo>
                    <a:pt x="720" y="228"/>
                  </a:lnTo>
                  <a:lnTo>
                    <a:pt x="720" y="228"/>
                  </a:lnTo>
                  <a:lnTo>
                    <a:pt x="722" y="218"/>
                  </a:lnTo>
                  <a:lnTo>
                    <a:pt x="722" y="218"/>
                  </a:lnTo>
                  <a:lnTo>
                    <a:pt x="722" y="218"/>
                  </a:lnTo>
                  <a:lnTo>
                    <a:pt x="722" y="218"/>
                  </a:lnTo>
                  <a:lnTo>
                    <a:pt x="726" y="214"/>
                  </a:lnTo>
                  <a:lnTo>
                    <a:pt x="726" y="214"/>
                  </a:lnTo>
                  <a:lnTo>
                    <a:pt x="742" y="192"/>
                  </a:lnTo>
                  <a:lnTo>
                    <a:pt x="752" y="172"/>
                  </a:lnTo>
                  <a:lnTo>
                    <a:pt x="760" y="150"/>
                  </a:lnTo>
                  <a:lnTo>
                    <a:pt x="762" y="128"/>
                  </a:lnTo>
                  <a:lnTo>
                    <a:pt x="762" y="128"/>
                  </a:lnTo>
                  <a:lnTo>
                    <a:pt x="760" y="118"/>
                  </a:lnTo>
                  <a:lnTo>
                    <a:pt x="758" y="106"/>
                  </a:lnTo>
                  <a:lnTo>
                    <a:pt x="754" y="90"/>
                  </a:lnTo>
                  <a:lnTo>
                    <a:pt x="746" y="74"/>
                  </a:lnTo>
                  <a:lnTo>
                    <a:pt x="734" y="58"/>
                  </a:lnTo>
                  <a:lnTo>
                    <a:pt x="726" y="52"/>
                  </a:lnTo>
                  <a:lnTo>
                    <a:pt x="716" y="44"/>
                  </a:lnTo>
                  <a:lnTo>
                    <a:pt x="704" y="38"/>
                  </a:lnTo>
                  <a:lnTo>
                    <a:pt x="692" y="32"/>
                  </a:lnTo>
                  <a:lnTo>
                    <a:pt x="678" y="28"/>
                  </a:lnTo>
                  <a:lnTo>
                    <a:pt x="662" y="24"/>
                  </a:lnTo>
                  <a:lnTo>
                    <a:pt x="662" y="24"/>
                  </a:lnTo>
                  <a:lnTo>
                    <a:pt x="658" y="24"/>
                  </a:lnTo>
                  <a:lnTo>
                    <a:pt x="658" y="24"/>
                  </a:lnTo>
                  <a:lnTo>
                    <a:pt x="586" y="16"/>
                  </a:lnTo>
                  <a:lnTo>
                    <a:pt x="516" y="8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90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64" y="2"/>
                  </a:lnTo>
                  <a:lnTo>
                    <a:pt x="350" y="4"/>
                  </a:lnTo>
                  <a:lnTo>
                    <a:pt x="338" y="6"/>
                  </a:lnTo>
                  <a:lnTo>
                    <a:pt x="328" y="10"/>
                  </a:lnTo>
                  <a:lnTo>
                    <a:pt x="318" y="16"/>
                  </a:lnTo>
                  <a:lnTo>
                    <a:pt x="310" y="20"/>
                  </a:lnTo>
                  <a:lnTo>
                    <a:pt x="296" y="34"/>
                  </a:lnTo>
                  <a:lnTo>
                    <a:pt x="286" y="48"/>
                  </a:lnTo>
                  <a:lnTo>
                    <a:pt x="278" y="64"/>
                  </a:lnTo>
                  <a:lnTo>
                    <a:pt x="276" y="80"/>
                  </a:lnTo>
                  <a:lnTo>
                    <a:pt x="274" y="94"/>
                  </a:lnTo>
                  <a:lnTo>
                    <a:pt x="274" y="94"/>
                  </a:lnTo>
                  <a:lnTo>
                    <a:pt x="274" y="106"/>
                  </a:lnTo>
                  <a:lnTo>
                    <a:pt x="276" y="116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8" y="160"/>
                  </a:lnTo>
                  <a:lnTo>
                    <a:pt x="288" y="160"/>
                  </a:lnTo>
                  <a:lnTo>
                    <a:pt x="290" y="164"/>
                  </a:lnTo>
                  <a:lnTo>
                    <a:pt x="290" y="164"/>
                  </a:lnTo>
                  <a:lnTo>
                    <a:pt x="294" y="196"/>
                  </a:lnTo>
                  <a:lnTo>
                    <a:pt x="298" y="260"/>
                  </a:lnTo>
                  <a:lnTo>
                    <a:pt x="298" y="260"/>
                  </a:lnTo>
                  <a:lnTo>
                    <a:pt x="196" y="254"/>
                  </a:lnTo>
                  <a:lnTo>
                    <a:pt x="100" y="248"/>
                  </a:lnTo>
                  <a:lnTo>
                    <a:pt x="100" y="248"/>
                  </a:lnTo>
                  <a:lnTo>
                    <a:pt x="84" y="248"/>
                  </a:lnTo>
                  <a:lnTo>
                    <a:pt x="68" y="252"/>
                  </a:lnTo>
                  <a:lnTo>
                    <a:pt x="54" y="258"/>
                  </a:lnTo>
                  <a:lnTo>
                    <a:pt x="40" y="268"/>
                  </a:lnTo>
                  <a:lnTo>
                    <a:pt x="40" y="268"/>
                  </a:lnTo>
                  <a:lnTo>
                    <a:pt x="30" y="280"/>
                  </a:lnTo>
                  <a:lnTo>
                    <a:pt x="22" y="294"/>
                  </a:lnTo>
                  <a:lnTo>
                    <a:pt x="16" y="310"/>
                  </a:lnTo>
                  <a:lnTo>
                    <a:pt x="16" y="326"/>
                  </a:lnTo>
                  <a:lnTo>
                    <a:pt x="16" y="600"/>
                  </a:lnTo>
                  <a:lnTo>
                    <a:pt x="16" y="600"/>
                  </a:lnTo>
                  <a:lnTo>
                    <a:pt x="16" y="616"/>
                  </a:lnTo>
                  <a:lnTo>
                    <a:pt x="22" y="632"/>
                  </a:lnTo>
                  <a:lnTo>
                    <a:pt x="28" y="646"/>
                  </a:lnTo>
                  <a:lnTo>
                    <a:pt x="38" y="658"/>
                  </a:lnTo>
                  <a:lnTo>
                    <a:pt x="38" y="658"/>
                  </a:lnTo>
                  <a:lnTo>
                    <a:pt x="52" y="666"/>
                  </a:lnTo>
                  <a:lnTo>
                    <a:pt x="66" y="674"/>
                  </a:lnTo>
                  <a:lnTo>
                    <a:pt x="80" y="678"/>
                  </a:lnTo>
                  <a:lnTo>
                    <a:pt x="96" y="678"/>
                  </a:lnTo>
                  <a:lnTo>
                    <a:pt x="96" y="678"/>
                  </a:lnTo>
                  <a:lnTo>
                    <a:pt x="164" y="676"/>
                  </a:lnTo>
                  <a:lnTo>
                    <a:pt x="164" y="676"/>
                  </a:lnTo>
                  <a:lnTo>
                    <a:pt x="162" y="844"/>
                  </a:lnTo>
                  <a:lnTo>
                    <a:pt x="156" y="994"/>
                  </a:lnTo>
                  <a:lnTo>
                    <a:pt x="152" y="1064"/>
                  </a:lnTo>
                  <a:lnTo>
                    <a:pt x="146" y="1132"/>
                  </a:lnTo>
                  <a:lnTo>
                    <a:pt x="140" y="1196"/>
                  </a:lnTo>
                  <a:lnTo>
                    <a:pt x="132" y="1258"/>
                  </a:lnTo>
                  <a:lnTo>
                    <a:pt x="122" y="1318"/>
                  </a:lnTo>
                  <a:lnTo>
                    <a:pt x="112" y="1376"/>
                  </a:lnTo>
                  <a:lnTo>
                    <a:pt x="100" y="1434"/>
                  </a:lnTo>
                  <a:lnTo>
                    <a:pt x="84" y="1490"/>
                  </a:lnTo>
                  <a:lnTo>
                    <a:pt x="68" y="1544"/>
                  </a:lnTo>
                  <a:lnTo>
                    <a:pt x="50" y="1598"/>
                  </a:lnTo>
                  <a:lnTo>
                    <a:pt x="30" y="1652"/>
                  </a:lnTo>
                  <a:lnTo>
                    <a:pt x="8" y="1706"/>
                  </a:lnTo>
                  <a:lnTo>
                    <a:pt x="8" y="1706"/>
                  </a:lnTo>
                  <a:lnTo>
                    <a:pt x="2" y="1720"/>
                  </a:lnTo>
                  <a:lnTo>
                    <a:pt x="0" y="1732"/>
                  </a:lnTo>
                  <a:lnTo>
                    <a:pt x="0" y="1746"/>
                  </a:lnTo>
                  <a:lnTo>
                    <a:pt x="4" y="1758"/>
                  </a:lnTo>
                  <a:lnTo>
                    <a:pt x="8" y="1770"/>
                  </a:lnTo>
                  <a:lnTo>
                    <a:pt x="14" y="1782"/>
                  </a:lnTo>
                  <a:lnTo>
                    <a:pt x="22" y="1792"/>
                  </a:lnTo>
                  <a:lnTo>
                    <a:pt x="32" y="1800"/>
                  </a:lnTo>
                  <a:lnTo>
                    <a:pt x="32" y="1800"/>
                  </a:lnTo>
                  <a:lnTo>
                    <a:pt x="68" y="1830"/>
                  </a:lnTo>
                  <a:lnTo>
                    <a:pt x="102" y="1864"/>
                  </a:lnTo>
                  <a:lnTo>
                    <a:pt x="132" y="1898"/>
                  </a:lnTo>
                  <a:lnTo>
                    <a:pt x="160" y="1930"/>
                  </a:lnTo>
                  <a:lnTo>
                    <a:pt x="200" y="1984"/>
                  </a:lnTo>
                  <a:lnTo>
                    <a:pt x="216" y="2008"/>
                  </a:lnTo>
                  <a:lnTo>
                    <a:pt x="216" y="2008"/>
                  </a:lnTo>
                  <a:lnTo>
                    <a:pt x="222" y="2016"/>
                  </a:lnTo>
                  <a:lnTo>
                    <a:pt x="228" y="2024"/>
                  </a:lnTo>
                  <a:lnTo>
                    <a:pt x="236" y="2030"/>
                  </a:lnTo>
                  <a:lnTo>
                    <a:pt x="244" y="2034"/>
                  </a:lnTo>
                  <a:lnTo>
                    <a:pt x="252" y="2038"/>
                  </a:lnTo>
                  <a:lnTo>
                    <a:pt x="262" y="2042"/>
                  </a:lnTo>
                  <a:lnTo>
                    <a:pt x="272" y="2044"/>
                  </a:lnTo>
                  <a:lnTo>
                    <a:pt x="282" y="2044"/>
                  </a:lnTo>
                  <a:lnTo>
                    <a:pt x="282" y="2044"/>
                  </a:lnTo>
                  <a:lnTo>
                    <a:pt x="288" y="2044"/>
                  </a:lnTo>
                  <a:lnTo>
                    <a:pt x="288" y="2044"/>
                  </a:lnTo>
                  <a:lnTo>
                    <a:pt x="298" y="2042"/>
                  </a:lnTo>
                  <a:lnTo>
                    <a:pt x="308" y="2040"/>
                  </a:lnTo>
                  <a:lnTo>
                    <a:pt x="318" y="2034"/>
                  </a:lnTo>
                  <a:lnTo>
                    <a:pt x="328" y="2030"/>
                  </a:lnTo>
                  <a:lnTo>
                    <a:pt x="336" y="2022"/>
                  </a:lnTo>
                  <a:lnTo>
                    <a:pt x="342" y="2014"/>
                  </a:lnTo>
                  <a:lnTo>
                    <a:pt x="348" y="2006"/>
                  </a:lnTo>
                  <a:lnTo>
                    <a:pt x="354" y="1996"/>
                  </a:lnTo>
                  <a:lnTo>
                    <a:pt x="354" y="1996"/>
                  </a:lnTo>
                  <a:lnTo>
                    <a:pt x="360" y="1982"/>
                  </a:lnTo>
                  <a:lnTo>
                    <a:pt x="360" y="1982"/>
                  </a:lnTo>
                  <a:lnTo>
                    <a:pt x="372" y="1996"/>
                  </a:lnTo>
                  <a:lnTo>
                    <a:pt x="386" y="2008"/>
                  </a:lnTo>
                  <a:lnTo>
                    <a:pt x="404" y="2016"/>
                  </a:lnTo>
                  <a:lnTo>
                    <a:pt x="412" y="2018"/>
                  </a:lnTo>
                  <a:lnTo>
                    <a:pt x="422" y="2018"/>
                  </a:lnTo>
                  <a:lnTo>
                    <a:pt x="440" y="2020"/>
                  </a:lnTo>
                  <a:lnTo>
                    <a:pt x="440" y="2020"/>
                  </a:lnTo>
                  <a:lnTo>
                    <a:pt x="490" y="2022"/>
                  </a:lnTo>
                  <a:lnTo>
                    <a:pt x="534" y="2024"/>
                  </a:lnTo>
                  <a:lnTo>
                    <a:pt x="534" y="2024"/>
                  </a:lnTo>
                  <a:lnTo>
                    <a:pt x="570" y="2022"/>
                  </a:lnTo>
                  <a:lnTo>
                    <a:pt x="608" y="2020"/>
                  </a:lnTo>
                  <a:lnTo>
                    <a:pt x="644" y="2016"/>
                  </a:lnTo>
                  <a:lnTo>
                    <a:pt x="682" y="2008"/>
                  </a:lnTo>
                  <a:lnTo>
                    <a:pt x="716" y="1996"/>
                  </a:lnTo>
                  <a:lnTo>
                    <a:pt x="734" y="1988"/>
                  </a:lnTo>
                  <a:lnTo>
                    <a:pt x="750" y="1980"/>
                  </a:lnTo>
                  <a:lnTo>
                    <a:pt x="766" y="1970"/>
                  </a:lnTo>
                  <a:lnTo>
                    <a:pt x="782" y="1960"/>
                  </a:lnTo>
                  <a:lnTo>
                    <a:pt x="796" y="1946"/>
                  </a:lnTo>
                  <a:lnTo>
                    <a:pt x="810" y="1932"/>
                  </a:lnTo>
                  <a:lnTo>
                    <a:pt x="810" y="1932"/>
                  </a:lnTo>
                  <a:lnTo>
                    <a:pt x="828" y="1910"/>
                  </a:lnTo>
                  <a:lnTo>
                    <a:pt x="842" y="1886"/>
                  </a:lnTo>
                  <a:lnTo>
                    <a:pt x="856" y="1860"/>
                  </a:lnTo>
                  <a:lnTo>
                    <a:pt x="866" y="1834"/>
                  </a:lnTo>
                  <a:lnTo>
                    <a:pt x="876" y="1806"/>
                  </a:lnTo>
                  <a:lnTo>
                    <a:pt x="884" y="1776"/>
                  </a:lnTo>
                  <a:lnTo>
                    <a:pt x="890" y="1746"/>
                  </a:lnTo>
                  <a:lnTo>
                    <a:pt x="894" y="1714"/>
                  </a:lnTo>
                  <a:lnTo>
                    <a:pt x="894" y="1714"/>
                  </a:lnTo>
                  <a:lnTo>
                    <a:pt x="896" y="1744"/>
                  </a:lnTo>
                  <a:lnTo>
                    <a:pt x="900" y="1774"/>
                  </a:lnTo>
                  <a:lnTo>
                    <a:pt x="908" y="1802"/>
                  </a:lnTo>
                  <a:lnTo>
                    <a:pt x="916" y="1826"/>
                  </a:lnTo>
                  <a:lnTo>
                    <a:pt x="926" y="1852"/>
                  </a:lnTo>
                  <a:lnTo>
                    <a:pt x="938" y="1874"/>
                  </a:lnTo>
                  <a:lnTo>
                    <a:pt x="950" y="1894"/>
                  </a:lnTo>
                  <a:lnTo>
                    <a:pt x="966" y="1914"/>
                  </a:lnTo>
                  <a:lnTo>
                    <a:pt x="984" y="1932"/>
                  </a:lnTo>
                  <a:lnTo>
                    <a:pt x="1002" y="1946"/>
                  </a:lnTo>
                  <a:lnTo>
                    <a:pt x="1022" y="1960"/>
                  </a:lnTo>
                  <a:lnTo>
                    <a:pt x="1044" y="1974"/>
                  </a:lnTo>
                  <a:lnTo>
                    <a:pt x="1068" y="1984"/>
                  </a:lnTo>
                  <a:lnTo>
                    <a:pt x="1094" y="1992"/>
                  </a:lnTo>
                  <a:lnTo>
                    <a:pt x="1120" y="2000"/>
                  </a:lnTo>
                  <a:lnTo>
                    <a:pt x="1150" y="2004"/>
                  </a:lnTo>
                  <a:lnTo>
                    <a:pt x="1150" y="2004"/>
                  </a:lnTo>
                  <a:lnTo>
                    <a:pt x="1150" y="2004"/>
                  </a:lnTo>
                  <a:lnTo>
                    <a:pt x="1150" y="2004"/>
                  </a:lnTo>
                  <a:lnTo>
                    <a:pt x="1210" y="2010"/>
                  </a:lnTo>
                  <a:lnTo>
                    <a:pt x="1284" y="2014"/>
                  </a:lnTo>
                  <a:lnTo>
                    <a:pt x="1372" y="2016"/>
                  </a:lnTo>
                  <a:lnTo>
                    <a:pt x="1466" y="2018"/>
                  </a:lnTo>
                  <a:lnTo>
                    <a:pt x="1466" y="2018"/>
                  </a:lnTo>
                  <a:lnTo>
                    <a:pt x="1554" y="2016"/>
                  </a:lnTo>
                  <a:lnTo>
                    <a:pt x="1634" y="2014"/>
                  </a:lnTo>
                  <a:lnTo>
                    <a:pt x="1704" y="2010"/>
                  </a:lnTo>
                  <a:lnTo>
                    <a:pt x="1760" y="2004"/>
                  </a:lnTo>
                  <a:lnTo>
                    <a:pt x="1760" y="2004"/>
                  </a:lnTo>
                  <a:lnTo>
                    <a:pt x="1762" y="2004"/>
                  </a:lnTo>
                  <a:lnTo>
                    <a:pt x="1762" y="2004"/>
                  </a:lnTo>
                  <a:lnTo>
                    <a:pt x="1814" y="1996"/>
                  </a:lnTo>
                  <a:lnTo>
                    <a:pt x="1842" y="1988"/>
                  </a:lnTo>
                  <a:lnTo>
                    <a:pt x="1870" y="1980"/>
                  </a:lnTo>
                  <a:lnTo>
                    <a:pt x="1900" y="1966"/>
                  </a:lnTo>
                  <a:lnTo>
                    <a:pt x="1928" y="1950"/>
                  </a:lnTo>
                  <a:lnTo>
                    <a:pt x="1942" y="1938"/>
                  </a:lnTo>
                  <a:lnTo>
                    <a:pt x="1954" y="1928"/>
                  </a:lnTo>
                  <a:lnTo>
                    <a:pt x="1968" y="1914"/>
                  </a:lnTo>
                  <a:lnTo>
                    <a:pt x="1980" y="1900"/>
                  </a:lnTo>
                  <a:lnTo>
                    <a:pt x="1980" y="1900"/>
                  </a:lnTo>
                  <a:lnTo>
                    <a:pt x="1998" y="1872"/>
                  </a:lnTo>
                  <a:lnTo>
                    <a:pt x="2016" y="1840"/>
                  </a:lnTo>
                  <a:lnTo>
                    <a:pt x="2032" y="1804"/>
                  </a:lnTo>
                  <a:lnTo>
                    <a:pt x="2046" y="1762"/>
                  </a:lnTo>
                  <a:lnTo>
                    <a:pt x="2060" y="1714"/>
                  </a:lnTo>
                  <a:lnTo>
                    <a:pt x="2072" y="1660"/>
                  </a:lnTo>
                  <a:lnTo>
                    <a:pt x="2082" y="1600"/>
                  </a:lnTo>
                  <a:lnTo>
                    <a:pt x="2092" y="1534"/>
                  </a:lnTo>
                  <a:lnTo>
                    <a:pt x="2092" y="1534"/>
                  </a:lnTo>
                  <a:lnTo>
                    <a:pt x="2094" y="1518"/>
                  </a:lnTo>
                  <a:lnTo>
                    <a:pt x="2092" y="1504"/>
                  </a:lnTo>
                  <a:lnTo>
                    <a:pt x="2086" y="1492"/>
                  </a:lnTo>
                  <a:lnTo>
                    <a:pt x="2080" y="1480"/>
                  </a:lnTo>
                  <a:lnTo>
                    <a:pt x="2072" y="1468"/>
                  </a:lnTo>
                  <a:lnTo>
                    <a:pt x="2060" y="1460"/>
                  </a:lnTo>
                  <a:lnTo>
                    <a:pt x="2048" y="1452"/>
                  </a:lnTo>
                  <a:lnTo>
                    <a:pt x="2034" y="1446"/>
                  </a:lnTo>
                  <a:lnTo>
                    <a:pt x="2034" y="1446"/>
                  </a:lnTo>
                  <a:lnTo>
                    <a:pt x="2014" y="1442"/>
                  </a:lnTo>
                  <a:lnTo>
                    <a:pt x="1992" y="1434"/>
                  </a:lnTo>
                  <a:lnTo>
                    <a:pt x="1964" y="1422"/>
                  </a:lnTo>
                  <a:lnTo>
                    <a:pt x="1964" y="1422"/>
                  </a:lnTo>
                  <a:lnTo>
                    <a:pt x="1972" y="1402"/>
                  </a:lnTo>
                  <a:lnTo>
                    <a:pt x="1980" y="1382"/>
                  </a:lnTo>
                  <a:lnTo>
                    <a:pt x="1990" y="1336"/>
                  </a:lnTo>
                  <a:lnTo>
                    <a:pt x="2000" y="1286"/>
                  </a:lnTo>
                  <a:lnTo>
                    <a:pt x="2006" y="1232"/>
                  </a:lnTo>
                  <a:lnTo>
                    <a:pt x="2006" y="1232"/>
                  </a:lnTo>
                  <a:lnTo>
                    <a:pt x="2020" y="1114"/>
                  </a:lnTo>
                  <a:lnTo>
                    <a:pt x="2030" y="998"/>
                  </a:lnTo>
                  <a:lnTo>
                    <a:pt x="2038" y="858"/>
                  </a:lnTo>
                  <a:lnTo>
                    <a:pt x="2044" y="670"/>
                  </a:lnTo>
                  <a:lnTo>
                    <a:pt x="2044" y="670"/>
                  </a:lnTo>
                  <a:lnTo>
                    <a:pt x="2042" y="654"/>
                  </a:lnTo>
                  <a:lnTo>
                    <a:pt x="2036" y="636"/>
                  </a:lnTo>
                  <a:lnTo>
                    <a:pt x="2028" y="622"/>
                  </a:lnTo>
                  <a:lnTo>
                    <a:pt x="2016" y="610"/>
                  </a:lnTo>
                  <a:lnTo>
                    <a:pt x="2016" y="610"/>
                  </a:lnTo>
                  <a:lnTo>
                    <a:pt x="2002" y="600"/>
                  </a:lnTo>
                  <a:lnTo>
                    <a:pt x="1986" y="594"/>
                  </a:lnTo>
                  <a:lnTo>
                    <a:pt x="1968" y="592"/>
                  </a:lnTo>
                  <a:lnTo>
                    <a:pt x="1950" y="592"/>
                  </a:lnTo>
                  <a:lnTo>
                    <a:pt x="1950" y="592"/>
                  </a:lnTo>
                  <a:lnTo>
                    <a:pt x="1804" y="620"/>
                  </a:lnTo>
                  <a:lnTo>
                    <a:pt x="1658" y="644"/>
                  </a:lnTo>
                  <a:lnTo>
                    <a:pt x="1658" y="644"/>
                  </a:lnTo>
                  <a:lnTo>
                    <a:pt x="1660" y="630"/>
                  </a:lnTo>
                  <a:lnTo>
                    <a:pt x="1660" y="630"/>
                  </a:lnTo>
                  <a:lnTo>
                    <a:pt x="1664" y="624"/>
                  </a:lnTo>
                  <a:lnTo>
                    <a:pt x="1664" y="624"/>
                  </a:lnTo>
                  <a:lnTo>
                    <a:pt x="1670" y="612"/>
                  </a:lnTo>
                  <a:lnTo>
                    <a:pt x="1670" y="612"/>
                  </a:lnTo>
                  <a:lnTo>
                    <a:pt x="1676" y="602"/>
                  </a:lnTo>
                  <a:lnTo>
                    <a:pt x="1676" y="602"/>
                  </a:lnTo>
                  <a:lnTo>
                    <a:pt x="1686" y="586"/>
                  </a:lnTo>
                  <a:lnTo>
                    <a:pt x="1690" y="574"/>
                  </a:lnTo>
                  <a:lnTo>
                    <a:pt x="1694" y="562"/>
                  </a:lnTo>
                  <a:lnTo>
                    <a:pt x="1694" y="562"/>
                  </a:lnTo>
                  <a:lnTo>
                    <a:pt x="1862" y="566"/>
                  </a:lnTo>
                  <a:lnTo>
                    <a:pt x="2014" y="568"/>
                  </a:lnTo>
                  <a:lnTo>
                    <a:pt x="2014" y="568"/>
                  </a:lnTo>
                  <a:lnTo>
                    <a:pt x="2030" y="568"/>
                  </a:lnTo>
                  <a:lnTo>
                    <a:pt x="2046" y="564"/>
                  </a:lnTo>
                  <a:lnTo>
                    <a:pt x="2060" y="556"/>
                  </a:lnTo>
                  <a:lnTo>
                    <a:pt x="2072" y="548"/>
                  </a:lnTo>
                  <a:lnTo>
                    <a:pt x="2072" y="548"/>
                  </a:lnTo>
                  <a:lnTo>
                    <a:pt x="2082" y="536"/>
                  </a:lnTo>
                  <a:lnTo>
                    <a:pt x="2090" y="522"/>
                  </a:lnTo>
                  <a:lnTo>
                    <a:pt x="2094" y="506"/>
                  </a:lnTo>
                  <a:lnTo>
                    <a:pt x="2096" y="490"/>
                  </a:lnTo>
                  <a:lnTo>
                    <a:pt x="2096" y="222"/>
                  </a:lnTo>
                  <a:lnTo>
                    <a:pt x="2096" y="222"/>
                  </a:lnTo>
                  <a:lnTo>
                    <a:pt x="2094" y="206"/>
                  </a:lnTo>
                  <a:lnTo>
                    <a:pt x="2090" y="192"/>
                  </a:lnTo>
                  <a:lnTo>
                    <a:pt x="2082" y="178"/>
                  </a:lnTo>
                  <a:lnTo>
                    <a:pt x="2072" y="166"/>
                  </a:lnTo>
                  <a:lnTo>
                    <a:pt x="2072" y="166"/>
                  </a:lnTo>
                  <a:lnTo>
                    <a:pt x="2060" y="156"/>
                  </a:lnTo>
                  <a:lnTo>
                    <a:pt x="2046" y="148"/>
                  </a:lnTo>
                  <a:lnTo>
                    <a:pt x="2030" y="144"/>
                  </a:lnTo>
                  <a:lnTo>
                    <a:pt x="2014" y="144"/>
                  </a:lnTo>
                  <a:lnTo>
                    <a:pt x="2014" y="144"/>
                  </a:lnTo>
                  <a:close/>
                  <a:moveTo>
                    <a:pt x="642" y="670"/>
                  </a:moveTo>
                  <a:lnTo>
                    <a:pt x="572" y="670"/>
                  </a:lnTo>
                  <a:lnTo>
                    <a:pt x="572" y="670"/>
                  </a:lnTo>
                  <a:lnTo>
                    <a:pt x="572" y="668"/>
                  </a:lnTo>
                  <a:lnTo>
                    <a:pt x="572" y="668"/>
                  </a:lnTo>
                  <a:lnTo>
                    <a:pt x="642" y="670"/>
                  </a:lnTo>
                  <a:lnTo>
                    <a:pt x="642" y="670"/>
                  </a:lnTo>
                  <a:close/>
                  <a:moveTo>
                    <a:pt x="492" y="1566"/>
                  </a:moveTo>
                  <a:lnTo>
                    <a:pt x="492" y="1566"/>
                  </a:lnTo>
                  <a:lnTo>
                    <a:pt x="488" y="1600"/>
                  </a:lnTo>
                  <a:lnTo>
                    <a:pt x="488" y="1600"/>
                  </a:lnTo>
                  <a:lnTo>
                    <a:pt x="488" y="1602"/>
                  </a:lnTo>
                  <a:lnTo>
                    <a:pt x="488" y="1602"/>
                  </a:lnTo>
                  <a:lnTo>
                    <a:pt x="484" y="1602"/>
                  </a:lnTo>
                  <a:lnTo>
                    <a:pt x="484" y="1602"/>
                  </a:lnTo>
                  <a:lnTo>
                    <a:pt x="492" y="1566"/>
                  </a:lnTo>
                  <a:lnTo>
                    <a:pt x="492" y="1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66"/>
            <p:cNvSpPr/>
            <p:nvPr/>
          </p:nvSpPr>
          <p:spPr>
            <a:xfrm>
              <a:off x="4842000" y="27749520"/>
              <a:ext cx="2965320" cy="3235320"/>
            </a:xfrm>
            <a:custGeom>
              <a:avLst/>
              <a:gdLst>
                <a:gd name="textAreaLeft" fmla="*/ 0 w 2965320"/>
                <a:gd name="textAreaRight" fmla="*/ 2965680 w 2965320"/>
                <a:gd name="textAreaTop" fmla="*/ 0 h 3235320"/>
                <a:gd name="textAreaBottom" fmla="*/ 3235680 h 3235320"/>
              </a:gdLst>
              <a:ahLst/>
              <a:rect l="textAreaLeft" t="textAreaTop" r="textAreaRight" b="textAreaBottom"/>
              <a:pathLst>
                <a:path w="1868" h="2038">
                  <a:moveTo>
                    <a:pt x="1860" y="418"/>
                  </a:moveTo>
                  <a:lnTo>
                    <a:pt x="1860" y="418"/>
                  </a:lnTo>
                  <a:lnTo>
                    <a:pt x="1858" y="402"/>
                  </a:lnTo>
                  <a:lnTo>
                    <a:pt x="1854" y="388"/>
                  </a:lnTo>
                  <a:lnTo>
                    <a:pt x="1846" y="374"/>
                  </a:lnTo>
                  <a:lnTo>
                    <a:pt x="1836" y="364"/>
                  </a:lnTo>
                  <a:lnTo>
                    <a:pt x="1824" y="354"/>
                  </a:lnTo>
                  <a:lnTo>
                    <a:pt x="1812" y="346"/>
                  </a:lnTo>
                  <a:lnTo>
                    <a:pt x="1798" y="342"/>
                  </a:lnTo>
                  <a:lnTo>
                    <a:pt x="1782" y="340"/>
                  </a:lnTo>
                  <a:lnTo>
                    <a:pt x="1154" y="340"/>
                  </a:lnTo>
                  <a:lnTo>
                    <a:pt x="1154" y="340"/>
                  </a:lnTo>
                  <a:lnTo>
                    <a:pt x="1154" y="332"/>
                  </a:lnTo>
                  <a:lnTo>
                    <a:pt x="1154" y="332"/>
                  </a:lnTo>
                  <a:lnTo>
                    <a:pt x="1156" y="246"/>
                  </a:lnTo>
                  <a:lnTo>
                    <a:pt x="1156" y="246"/>
                  </a:lnTo>
                  <a:lnTo>
                    <a:pt x="1158" y="244"/>
                  </a:lnTo>
                  <a:lnTo>
                    <a:pt x="1158" y="244"/>
                  </a:lnTo>
                  <a:lnTo>
                    <a:pt x="1166" y="234"/>
                  </a:lnTo>
                  <a:lnTo>
                    <a:pt x="1166" y="234"/>
                  </a:lnTo>
                  <a:lnTo>
                    <a:pt x="1176" y="222"/>
                  </a:lnTo>
                  <a:lnTo>
                    <a:pt x="1184" y="212"/>
                  </a:lnTo>
                  <a:lnTo>
                    <a:pt x="1192" y="200"/>
                  </a:lnTo>
                  <a:lnTo>
                    <a:pt x="1200" y="188"/>
                  </a:lnTo>
                  <a:lnTo>
                    <a:pt x="1204" y="176"/>
                  </a:lnTo>
                  <a:lnTo>
                    <a:pt x="1208" y="164"/>
                  </a:lnTo>
                  <a:lnTo>
                    <a:pt x="1210" y="152"/>
                  </a:lnTo>
                  <a:lnTo>
                    <a:pt x="1210" y="138"/>
                  </a:lnTo>
                  <a:lnTo>
                    <a:pt x="1210" y="138"/>
                  </a:lnTo>
                  <a:lnTo>
                    <a:pt x="1210" y="122"/>
                  </a:lnTo>
                  <a:lnTo>
                    <a:pt x="1206" y="106"/>
                  </a:lnTo>
                  <a:lnTo>
                    <a:pt x="1198" y="90"/>
                  </a:lnTo>
                  <a:lnTo>
                    <a:pt x="1188" y="74"/>
                  </a:lnTo>
                  <a:lnTo>
                    <a:pt x="1174" y="60"/>
                  </a:lnTo>
                  <a:lnTo>
                    <a:pt x="1156" y="46"/>
                  </a:lnTo>
                  <a:lnTo>
                    <a:pt x="1134" y="38"/>
                  </a:lnTo>
                  <a:lnTo>
                    <a:pt x="1106" y="30"/>
                  </a:lnTo>
                  <a:lnTo>
                    <a:pt x="1106" y="30"/>
                  </a:lnTo>
                  <a:lnTo>
                    <a:pt x="1104" y="30"/>
                  </a:lnTo>
                  <a:lnTo>
                    <a:pt x="1104" y="30"/>
                  </a:lnTo>
                  <a:lnTo>
                    <a:pt x="1030" y="20"/>
                  </a:lnTo>
                  <a:lnTo>
                    <a:pt x="944" y="12"/>
                  </a:lnTo>
                  <a:lnTo>
                    <a:pt x="858" y="6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76" y="0"/>
                  </a:lnTo>
                  <a:lnTo>
                    <a:pt x="760" y="0"/>
                  </a:lnTo>
                  <a:lnTo>
                    <a:pt x="76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6"/>
                  </a:lnTo>
                  <a:lnTo>
                    <a:pt x="708" y="10"/>
                  </a:lnTo>
                  <a:lnTo>
                    <a:pt x="698" y="14"/>
                  </a:lnTo>
                  <a:lnTo>
                    <a:pt x="690" y="20"/>
                  </a:lnTo>
                  <a:lnTo>
                    <a:pt x="674" y="34"/>
                  </a:lnTo>
                  <a:lnTo>
                    <a:pt x="664" y="48"/>
                  </a:lnTo>
                  <a:lnTo>
                    <a:pt x="658" y="64"/>
                  </a:lnTo>
                  <a:lnTo>
                    <a:pt x="654" y="80"/>
                  </a:lnTo>
                  <a:lnTo>
                    <a:pt x="654" y="92"/>
                  </a:lnTo>
                  <a:lnTo>
                    <a:pt x="654" y="92"/>
                  </a:lnTo>
                  <a:lnTo>
                    <a:pt x="654" y="112"/>
                  </a:lnTo>
                  <a:lnTo>
                    <a:pt x="660" y="128"/>
                  </a:lnTo>
                  <a:lnTo>
                    <a:pt x="666" y="146"/>
                  </a:lnTo>
                  <a:lnTo>
                    <a:pt x="674" y="164"/>
                  </a:lnTo>
                  <a:lnTo>
                    <a:pt x="674" y="164"/>
                  </a:lnTo>
                  <a:lnTo>
                    <a:pt x="678" y="222"/>
                  </a:lnTo>
                  <a:lnTo>
                    <a:pt x="682" y="340"/>
                  </a:lnTo>
                  <a:lnTo>
                    <a:pt x="88" y="340"/>
                  </a:lnTo>
                  <a:lnTo>
                    <a:pt x="88" y="340"/>
                  </a:lnTo>
                  <a:lnTo>
                    <a:pt x="74" y="342"/>
                  </a:lnTo>
                  <a:lnTo>
                    <a:pt x="58" y="346"/>
                  </a:lnTo>
                  <a:lnTo>
                    <a:pt x="46" y="354"/>
                  </a:lnTo>
                  <a:lnTo>
                    <a:pt x="34" y="364"/>
                  </a:lnTo>
                  <a:lnTo>
                    <a:pt x="24" y="374"/>
                  </a:lnTo>
                  <a:lnTo>
                    <a:pt x="16" y="388"/>
                  </a:lnTo>
                  <a:lnTo>
                    <a:pt x="12" y="402"/>
                  </a:lnTo>
                  <a:lnTo>
                    <a:pt x="10" y="418"/>
                  </a:lnTo>
                  <a:lnTo>
                    <a:pt x="10" y="638"/>
                  </a:lnTo>
                  <a:lnTo>
                    <a:pt x="10" y="638"/>
                  </a:lnTo>
                  <a:lnTo>
                    <a:pt x="10" y="996"/>
                  </a:lnTo>
                  <a:lnTo>
                    <a:pt x="6" y="1248"/>
                  </a:lnTo>
                  <a:lnTo>
                    <a:pt x="0" y="1492"/>
                  </a:lnTo>
                  <a:lnTo>
                    <a:pt x="0" y="1492"/>
                  </a:lnTo>
                  <a:lnTo>
                    <a:pt x="2" y="1508"/>
                  </a:lnTo>
                  <a:lnTo>
                    <a:pt x="6" y="1524"/>
                  </a:lnTo>
                  <a:lnTo>
                    <a:pt x="12" y="1538"/>
                  </a:lnTo>
                  <a:lnTo>
                    <a:pt x="22" y="1550"/>
                  </a:lnTo>
                  <a:lnTo>
                    <a:pt x="22" y="1550"/>
                  </a:lnTo>
                  <a:lnTo>
                    <a:pt x="34" y="1560"/>
                  </a:lnTo>
                  <a:lnTo>
                    <a:pt x="48" y="1568"/>
                  </a:lnTo>
                  <a:lnTo>
                    <a:pt x="62" y="1572"/>
                  </a:lnTo>
                  <a:lnTo>
                    <a:pt x="78" y="1574"/>
                  </a:lnTo>
                  <a:lnTo>
                    <a:pt x="394" y="1574"/>
                  </a:lnTo>
                  <a:lnTo>
                    <a:pt x="394" y="1574"/>
                  </a:lnTo>
                  <a:lnTo>
                    <a:pt x="410" y="1572"/>
                  </a:lnTo>
                  <a:lnTo>
                    <a:pt x="424" y="1568"/>
                  </a:lnTo>
                  <a:lnTo>
                    <a:pt x="438" y="1560"/>
                  </a:lnTo>
                  <a:lnTo>
                    <a:pt x="450" y="1550"/>
                  </a:lnTo>
                  <a:lnTo>
                    <a:pt x="450" y="1550"/>
                  </a:lnTo>
                  <a:lnTo>
                    <a:pt x="460" y="1536"/>
                  </a:lnTo>
                  <a:lnTo>
                    <a:pt x="466" y="1522"/>
                  </a:lnTo>
                  <a:lnTo>
                    <a:pt x="470" y="1506"/>
                  </a:lnTo>
                  <a:lnTo>
                    <a:pt x="472" y="1492"/>
                  </a:lnTo>
                  <a:lnTo>
                    <a:pt x="472" y="1492"/>
                  </a:lnTo>
                  <a:lnTo>
                    <a:pt x="470" y="1460"/>
                  </a:lnTo>
                  <a:lnTo>
                    <a:pt x="682" y="1460"/>
                  </a:lnTo>
                  <a:lnTo>
                    <a:pt x="682" y="1460"/>
                  </a:lnTo>
                  <a:lnTo>
                    <a:pt x="682" y="1460"/>
                  </a:lnTo>
                  <a:lnTo>
                    <a:pt x="676" y="1958"/>
                  </a:lnTo>
                  <a:lnTo>
                    <a:pt x="676" y="1958"/>
                  </a:lnTo>
                  <a:lnTo>
                    <a:pt x="678" y="1974"/>
                  </a:lnTo>
                  <a:lnTo>
                    <a:pt x="682" y="1988"/>
                  </a:lnTo>
                  <a:lnTo>
                    <a:pt x="688" y="2002"/>
                  </a:lnTo>
                  <a:lnTo>
                    <a:pt x="698" y="2014"/>
                  </a:lnTo>
                  <a:lnTo>
                    <a:pt x="698" y="2014"/>
                  </a:lnTo>
                  <a:lnTo>
                    <a:pt x="710" y="2024"/>
                  </a:lnTo>
                  <a:lnTo>
                    <a:pt x="724" y="2032"/>
                  </a:lnTo>
                  <a:lnTo>
                    <a:pt x="738" y="2036"/>
                  </a:lnTo>
                  <a:lnTo>
                    <a:pt x="754" y="2038"/>
                  </a:lnTo>
                  <a:lnTo>
                    <a:pt x="1084" y="2038"/>
                  </a:lnTo>
                  <a:lnTo>
                    <a:pt x="1084" y="2038"/>
                  </a:lnTo>
                  <a:lnTo>
                    <a:pt x="1098" y="2036"/>
                  </a:lnTo>
                  <a:lnTo>
                    <a:pt x="1114" y="2032"/>
                  </a:lnTo>
                  <a:lnTo>
                    <a:pt x="1126" y="2024"/>
                  </a:lnTo>
                  <a:lnTo>
                    <a:pt x="1138" y="2014"/>
                  </a:lnTo>
                  <a:lnTo>
                    <a:pt x="1138" y="2014"/>
                  </a:lnTo>
                  <a:lnTo>
                    <a:pt x="1148" y="2002"/>
                  </a:lnTo>
                  <a:lnTo>
                    <a:pt x="1156" y="1988"/>
                  </a:lnTo>
                  <a:lnTo>
                    <a:pt x="1160" y="1974"/>
                  </a:lnTo>
                  <a:lnTo>
                    <a:pt x="1162" y="1958"/>
                  </a:lnTo>
                  <a:lnTo>
                    <a:pt x="1156" y="1460"/>
                  </a:lnTo>
                  <a:lnTo>
                    <a:pt x="1398" y="1460"/>
                  </a:lnTo>
                  <a:lnTo>
                    <a:pt x="1398" y="1460"/>
                  </a:lnTo>
                  <a:lnTo>
                    <a:pt x="1396" y="1492"/>
                  </a:lnTo>
                  <a:lnTo>
                    <a:pt x="1396" y="1492"/>
                  </a:lnTo>
                  <a:lnTo>
                    <a:pt x="1398" y="1506"/>
                  </a:lnTo>
                  <a:lnTo>
                    <a:pt x="1402" y="1522"/>
                  </a:lnTo>
                  <a:lnTo>
                    <a:pt x="1408" y="1536"/>
                  </a:lnTo>
                  <a:lnTo>
                    <a:pt x="1418" y="1550"/>
                  </a:lnTo>
                  <a:lnTo>
                    <a:pt x="1418" y="1550"/>
                  </a:lnTo>
                  <a:lnTo>
                    <a:pt x="1430" y="1560"/>
                  </a:lnTo>
                  <a:lnTo>
                    <a:pt x="1444" y="1568"/>
                  </a:lnTo>
                  <a:lnTo>
                    <a:pt x="1458" y="1572"/>
                  </a:lnTo>
                  <a:lnTo>
                    <a:pt x="1474" y="1574"/>
                  </a:lnTo>
                  <a:lnTo>
                    <a:pt x="1790" y="1574"/>
                  </a:lnTo>
                  <a:lnTo>
                    <a:pt x="1790" y="1574"/>
                  </a:lnTo>
                  <a:lnTo>
                    <a:pt x="1806" y="1572"/>
                  </a:lnTo>
                  <a:lnTo>
                    <a:pt x="1820" y="1568"/>
                  </a:lnTo>
                  <a:lnTo>
                    <a:pt x="1834" y="1560"/>
                  </a:lnTo>
                  <a:lnTo>
                    <a:pt x="1846" y="1550"/>
                  </a:lnTo>
                  <a:lnTo>
                    <a:pt x="1846" y="1550"/>
                  </a:lnTo>
                  <a:lnTo>
                    <a:pt x="1856" y="1538"/>
                  </a:lnTo>
                  <a:lnTo>
                    <a:pt x="1862" y="1524"/>
                  </a:lnTo>
                  <a:lnTo>
                    <a:pt x="1866" y="1508"/>
                  </a:lnTo>
                  <a:lnTo>
                    <a:pt x="1868" y="1492"/>
                  </a:lnTo>
                  <a:lnTo>
                    <a:pt x="1868" y="1492"/>
                  </a:lnTo>
                  <a:lnTo>
                    <a:pt x="1862" y="1298"/>
                  </a:lnTo>
                  <a:lnTo>
                    <a:pt x="1860" y="1084"/>
                  </a:lnTo>
                  <a:lnTo>
                    <a:pt x="1860" y="684"/>
                  </a:lnTo>
                  <a:lnTo>
                    <a:pt x="1860" y="418"/>
                  </a:lnTo>
                  <a:close/>
                  <a:moveTo>
                    <a:pt x="1408" y="770"/>
                  </a:moveTo>
                  <a:lnTo>
                    <a:pt x="1408" y="1030"/>
                  </a:lnTo>
                  <a:lnTo>
                    <a:pt x="1152" y="1030"/>
                  </a:lnTo>
                  <a:lnTo>
                    <a:pt x="1152" y="770"/>
                  </a:lnTo>
                  <a:lnTo>
                    <a:pt x="1408" y="770"/>
                  </a:lnTo>
                  <a:close/>
                  <a:moveTo>
                    <a:pt x="464" y="1030"/>
                  </a:moveTo>
                  <a:lnTo>
                    <a:pt x="464" y="770"/>
                  </a:lnTo>
                  <a:lnTo>
                    <a:pt x="686" y="770"/>
                  </a:lnTo>
                  <a:lnTo>
                    <a:pt x="686" y="812"/>
                  </a:lnTo>
                  <a:lnTo>
                    <a:pt x="686" y="812"/>
                  </a:lnTo>
                  <a:lnTo>
                    <a:pt x="686" y="1030"/>
                  </a:lnTo>
                  <a:lnTo>
                    <a:pt x="464" y="1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7"/>
            <p:cNvSpPr/>
            <p:nvPr/>
          </p:nvSpPr>
          <p:spPr>
            <a:xfrm>
              <a:off x="1177920" y="16589160"/>
              <a:ext cx="2981160" cy="3232080"/>
            </a:xfrm>
            <a:custGeom>
              <a:avLst/>
              <a:gdLst>
                <a:gd name="textAreaLeft" fmla="*/ 0 w 2981160"/>
                <a:gd name="textAreaRight" fmla="*/ 2981520 w 2981160"/>
                <a:gd name="textAreaTop" fmla="*/ 0 h 3232080"/>
                <a:gd name="textAreaBottom" fmla="*/ 3232440 h 3232080"/>
              </a:gdLst>
              <a:ahLst/>
              <a:rect l="textAreaLeft" t="textAreaTop" r="textAreaRight" b="textAreaBottom"/>
              <a:pathLst>
                <a:path w="1878" h="2036">
                  <a:moveTo>
                    <a:pt x="18" y="1074"/>
                  </a:moveTo>
                  <a:lnTo>
                    <a:pt x="18" y="1074"/>
                  </a:lnTo>
                  <a:lnTo>
                    <a:pt x="8" y="1086"/>
                  </a:lnTo>
                  <a:lnTo>
                    <a:pt x="2" y="1102"/>
                  </a:lnTo>
                  <a:lnTo>
                    <a:pt x="0" y="1118"/>
                  </a:lnTo>
                  <a:lnTo>
                    <a:pt x="0" y="1134"/>
                  </a:lnTo>
                  <a:lnTo>
                    <a:pt x="40" y="1450"/>
                  </a:lnTo>
                  <a:lnTo>
                    <a:pt x="40" y="1450"/>
                  </a:lnTo>
                  <a:lnTo>
                    <a:pt x="42" y="1464"/>
                  </a:lnTo>
                  <a:lnTo>
                    <a:pt x="48" y="1478"/>
                  </a:lnTo>
                  <a:lnTo>
                    <a:pt x="58" y="1490"/>
                  </a:lnTo>
                  <a:lnTo>
                    <a:pt x="68" y="1502"/>
                  </a:lnTo>
                  <a:lnTo>
                    <a:pt x="68" y="1502"/>
                  </a:lnTo>
                  <a:lnTo>
                    <a:pt x="82" y="1510"/>
                  </a:lnTo>
                  <a:lnTo>
                    <a:pt x="96" y="1516"/>
                  </a:lnTo>
                  <a:lnTo>
                    <a:pt x="112" y="1518"/>
                  </a:lnTo>
                  <a:lnTo>
                    <a:pt x="126" y="1518"/>
                  </a:lnTo>
                  <a:lnTo>
                    <a:pt x="126" y="1518"/>
                  </a:lnTo>
                  <a:lnTo>
                    <a:pt x="226" y="1504"/>
                  </a:lnTo>
                  <a:lnTo>
                    <a:pt x="226" y="1504"/>
                  </a:lnTo>
                  <a:lnTo>
                    <a:pt x="462" y="1474"/>
                  </a:lnTo>
                  <a:lnTo>
                    <a:pt x="748" y="1440"/>
                  </a:lnTo>
                  <a:lnTo>
                    <a:pt x="748" y="1440"/>
                  </a:lnTo>
                  <a:lnTo>
                    <a:pt x="784" y="1754"/>
                  </a:lnTo>
                  <a:lnTo>
                    <a:pt x="806" y="1964"/>
                  </a:lnTo>
                  <a:lnTo>
                    <a:pt x="806" y="1964"/>
                  </a:lnTo>
                  <a:lnTo>
                    <a:pt x="808" y="1980"/>
                  </a:lnTo>
                  <a:lnTo>
                    <a:pt x="814" y="1994"/>
                  </a:lnTo>
                  <a:lnTo>
                    <a:pt x="824" y="2008"/>
                  </a:lnTo>
                  <a:lnTo>
                    <a:pt x="834" y="2018"/>
                  </a:lnTo>
                  <a:lnTo>
                    <a:pt x="834" y="2018"/>
                  </a:lnTo>
                  <a:lnTo>
                    <a:pt x="846" y="2026"/>
                  </a:lnTo>
                  <a:lnTo>
                    <a:pt x="858" y="2032"/>
                  </a:lnTo>
                  <a:lnTo>
                    <a:pt x="870" y="2034"/>
                  </a:lnTo>
                  <a:lnTo>
                    <a:pt x="884" y="2036"/>
                  </a:lnTo>
                  <a:lnTo>
                    <a:pt x="884" y="2036"/>
                  </a:lnTo>
                  <a:lnTo>
                    <a:pt x="894" y="2036"/>
                  </a:lnTo>
                  <a:lnTo>
                    <a:pt x="1228" y="1994"/>
                  </a:lnTo>
                  <a:lnTo>
                    <a:pt x="1228" y="1994"/>
                  </a:lnTo>
                  <a:lnTo>
                    <a:pt x="1244" y="1990"/>
                  </a:lnTo>
                  <a:lnTo>
                    <a:pt x="1258" y="1984"/>
                  </a:lnTo>
                  <a:lnTo>
                    <a:pt x="1270" y="1974"/>
                  </a:lnTo>
                  <a:lnTo>
                    <a:pt x="1282" y="1962"/>
                  </a:lnTo>
                  <a:lnTo>
                    <a:pt x="1282" y="1962"/>
                  </a:lnTo>
                  <a:lnTo>
                    <a:pt x="1290" y="1948"/>
                  </a:lnTo>
                  <a:lnTo>
                    <a:pt x="1294" y="1932"/>
                  </a:lnTo>
                  <a:lnTo>
                    <a:pt x="1296" y="1918"/>
                  </a:lnTo>
                  <a:lnTo>
                    <a:pt x="1296" y="1902"/>
                  </a:lnTo>
                  <a:lnTo>
                    <a:pt x="1296" y="1902"/>
                  </a:lnTo>
                  <a:lnTo>
                    <a:pt x="1276" y="1792"/>
                  </a:lnTo>
                  <a:lnTo>
                    <a:pt x="1254" y="1666"/>
                  </a:lnTo>
                  <a:lnTo>
                    <a:pt x="1210" y="1386"/>
                  </a:lnTo>
                  <a:lnTo>
                    <a:pt x="1210" y="1386"/>
                  </a:lnTo>
                  <a:lnTo>
                    <a:pt x="1494" y="1358"/>
                  </a:lnTo>
                  <a:lnTo>
                    <a:pt x="1648" y="1346"/>
                  </a:lnTo>
                  <a:lnTo>
                    <a:pt x="1806" y="1332"/>
                  </a:lnTo>
                  <a:lnTo>
                    <a:pt x="1806" y="1332"/>
                  </a:lnTo>
                  <a:lnTo>
                    <a:pt x="1822" y="1330"/>
                  </a:lnTo>
                  <a:lnTo>
                    <a:pt x="1836" y="1324"/>
                  </a:lnTo>
                  <a:lnTo>
                    <a:pt x="1850" y="1316"/>
                  </a:lnTo>
                  <a:lnTo>
                    <a:pt x="1860" y="1304"/>
                  </a:lnTo>
                  <a:lnTo>
                    <a:pt x="1860" y="1304"/>
                  </a:lnTo>
                  <a:lnTo>
                    <a:pt x="1870" y="1292"/>
                  </a:lnTo>
                  <a:lnTo>
                    <a:pt x="1876" y="1276"/>
                  </a:lnTo>
                  <a:lnTo>
                    <a:pt x="1878" y="1262"/>
                  </a:lnTo>
                  <a:lnTo>
                    <a:pt x="1878" y="1246"/>
                  </a:lnTo>
                  <a:lnTo>
                    <a:pt x="1840" y="942"/>
                  </a:lnTo>
                  <a:lnTo>
                    <a:pt x="1840" y="942"/>
                  </a:lnTo>
                  <a:lnTo>
                    <a:pt x="1838" y="926"/>
                  </a:lnTo>
                  <a:lnTo>
                    <a:pt x="1830" y="912"/>
                  </a:lnTo>
                  <a:lnTo>
                    <a:pt x="1822" y="898"/>
                  </a:lnTo>
                  <a:lnTo>
                    <a:pt x="1810" y="888"/>
                  </a:lnTo>
                  <a:lnTo>
                    <a:pt x="1810" y="888"/>
                  </a:lnTo>
                  <a:lnTo>
                    <a:pt x="1796" y="880"/>
                  </a:lnTo>
                  <a:lnTo>
                    <a:pt x="1780" y="876"/>
                  </a:lnTo>
                  <a:lnTo>
                    <a:pt x="1766" y="872"/>
                  </a:lnTo>
                  <a:lnTo>
                    <a:pt x="1750" y="874"/>
                  </a:lnTo>
                  <a:lnTo>
                    <a:pt x="1750" y="874"/>
                  </a:lnTo>
                  <a:lnTo>
                    <a:pt x="1640" y="892"/>
                  </a:lnTo>
                  <a:lnTo>
                    <a:pt x="1504" y="912"/>
                  </a:lnTo>
                  <a:lnTo>
                    <a:pt x="1340" y="932"/>
                  </a:lnTo>
                  <a:lnTo>
                    <a:pt x="1148" y="954"/>
                  </a:lnTo>
                  <a:lnTo>
                    <a:pt x="1148" y="954"/>
                  </a:lnTo>
                  <a:lnTo>
                    <a:pt x="1128" y="800"/>
                  </a:lnTo>
                  <a:lnTo>
                    <a:pt x="1128" y="800"/>
                  </a:lnTo>
                  <a:lnTo>
                    <a:pt x="1374" y="778"/>
                  </a:lnTo>
                  <a:lnTo>
                    <a:pt x="1486" y="768"/>
                  </a:lnTo>
                  <a:lnTo>
                    <a:pt x="1592" y="762"/>
                  </a:lnTo>
                  <a:lnTo>
                    <a:pt x="1592" y="762"/>
                  </a:lnTo>
                  <a:lnTo>
                    <a:pt x="1606" y="758"/>
                  </a:lnTo>
                  <a:lnTo>
                    <a:pt x="1622" y="754"/>
                  </a:lnTo>
                  <a:lnTo>
                    <a:pt x="1634" y="746"/>
                  </a:lnTo>
                  <a:lnTo>
                    <a:pt x="1646" y="734"/>
                  </a:lnTo>
                  <a:lnTo>
                    <a:pt x="1646" y="734"/>
                  </a:lnTo>
                  <a:lnTo>
                    <a:pt x="1654" y="722"/>
                  </a:lnTo>
                  <a:lnTo>
                    <a:pt x="1660" y="708"/>
                  </a:lnTo>
                  <a:lnTo>
                    <a:pt x="1664" y="692"/>
                  </a:lnTo>
                  <a:lnTo>
                    <a:pt x="1664" y="676"/>
                  </a:lnTo>
                  <a:lnTo>
                    <a:pt x="1640" y="370"/>
                  </a:lnTo>
                  <a:lnTo>
                    <a:pt x="1640" y="370"/>
                  </a:lnTo>
                  <a:lnTo>
                    <a:pt x="1636" y="352"/>
                  </a:lnTo>
                  <a:lnTo>
                    <a:pt x="1630" y="338"/>
                  </a:lnTo>
                  <a:lnTo>
                    <a:pt x="1620" y="324"/>
                  </a:lnTo>
                  <a:lnTo>
                    <a:pt x="1608" y="312"/>
                  </a:lnTo>
                  <a:lnTo>
                    <a:pt x="1608" y="312"/>
                  </a:lnTo>
                  <a:lnTo>
                    <a:pt x="1594" y="304"/>
                  </a:lnTo>
                  <a:lnTo>
                    <a:pt x="1578" y="300"/>
                  </a:lnTo>
                  <a:lnTo>
                    <a:pt x="1562" y="298"/>
                  </a:lnTo>
                  <a:lnTo>
                    <a:pt x="1546" y="298"/>
                  </a:lnTo>
                  <a:lnTo>
                    <a:pt x="1546" y="298"/>
                  </a:lnTo>
                  <a:lnTo>
                    <a:pt x="1456" y="316"/>
                  </a:lnTo>
                  <a:lnTo>
                    <a:pt x="1344" y="332"/>
                  </a:lnTo>
                  <a:lnTo>
                    <a:pt x="1218" y="350"/>
                  </a:lnTo>
                  <a:lnTo>
                    <a:pt x="1078" y="368"/>
                  </a:lnTo>
                  <a:lnTo>
                    <a:pt x="1078" y="368"/>
                  </a:lnTo>
                  <a:lnTo>
                    <a:pt x="1068" y="236"/>
                  </a:lnTo>
                  <a:lnTo>
                    <a:pt x="1068" y="236"/>
                  </a:lnTo>
                  <a:lnTo>
                    <a:pt x="1068" y="232"/>
                  </a:lnTo>
                  <a:lnTo>
                    <a:pt x="1068" y="232"/>
                  </a:lnTo>
                  <a:lnTo>
                    <a:pt x="1066" y="216"/>
                  </a:lnTo>
                  <a:lnTo>
                    <a:pt x="1066" y="200"/>
                  </a:lnTo>
                  <a:lnTo>
                    <a:pt x="1066" y="200"/>
                  </a:lnTo>
                  <a:lnTo>
                    <a:pt x="1066" y="196"/>
                  </a:lnTo>
                  <a:lnTo>
                    <a:pt x="1066" y="196"/>
                  </a:lnTo>
                  <a:lnTo>
                    <a:pt x="1082" y="174"/>
                  </a:lnTo>
                  <a:lnTo>
                    <a:pt x="1092" y="152"/>
                  </a:lnTo>
                  <a:lnTo>
                    <a:pt x="1100" y="130"/>
                  </a:lnTo>
                  <a:lnTo>
                    <a:pt x="1102" y="108"/>
                  </a:lnTo>
                  <a:lnTo>
                    <a:pt x="1102" y="108"/>
                  </a:lnTo>
                  <a:lnTo>
                    <a:pt x="1100" y="100"/>
                  </a:lnTo>
                  <a:lnTo>
                    <a:pt x="1098" y="86"/>
                  </a:lnTo>
                  <a:lnTo>
                    <a:pt x="1094" y="68"/>
                  </a:lnTo>
                  <a:lnTo>
                    <a:pt x="1088" y="60"/>
                  </a:lnTo>
                  <a:lnTo>
                    <a:pt x="1084" y="50"/>
                  </a:lnTo>
                  <a:lnTo>
                    <a:pt x="1076" y="40"/>
                  </a:lnTo>
                  <a:lnTo>
                    <a:pt x="1066" y="30"/>
                  </a:lnTo>
                  <a:lnTo>
                    <a:pt x="1056" y="22"/>
                  </a:lnTo>
                  <a:lnTo>
                    <a:pt x="1044" y="16"/>
                  </a:lnTo>
                  <a:lnTo>
                    <a:pt x="1028" y="8"/>
                  </a:lnTo>
                  <a:lnTo>
                    <a:pt x="1010" y="4"/>
                  </a:lnTo>
                  <a:lnTo>
                    <a:pt x="990" y="0"/>
                  </a:lnTo>
                  <a:lnTo>
                    <a:pt x="966" y="0"/>
                  </a:lnTo>
                  <a:lnTo>
                    <a:pt x="960" y="0"/>
                  </a:lnTo>
                  <a:lnTo>
                    <a:pt x="960" y="0"/>
                  </a:lnTo>
                  <a:lnTo>
                    <a:pt x="818" y="2"/>
                  </a:lnTo>
                  <a:lnTo>
                    <a:pt x="678" y="8"/>
                  </a:lnTo>
                  <a:lnTo>
                    <a:pt x="678" y="8"/>
                  </a:lnTo>
                  <a:lnTo>
                    <a:pt x="658" y="8"/>
                  </a:lnTo>
                  <a:lnTo>
                    <a:pt x="638" y="12"/>
                  </a:lnTo>
                  <a:lnTo>
                    <a:pt x="638" y="12"/>
                  </a:lnTo>
                  <a:lnTo>
                    <a:pt x="620" y="16"/>
                  </a:lnTo>
                  <a:lnTo>
                    <a:pt x="606" y="22"/>
                  </a:lnTo>
                  <a:lnTo>
                    <a:pt x="606" y="22"/>
                  </a:lnTo>
                  <a:lnTo>
                    <a:pt x="596" y="28"/>
                  </a:lnTo>
                  <a:lnTo>
                    <a:pt x="586" y="36"/>
                  </a:lnTo>
                  <a:lnTo>
                    <a:pt x="578" y="44"/>
                  </a:lnTo>
                  <a:lnTo>
                    <a:pt x="572" y="54"/>
                  </a:lnTo>
                  <a:lnTo>
                    <a:pt x="566" y="64"/>
                  </a:lnTo>
                  <a:lnTo>
                    <a:pt x="562" y="76"/>
                  </a:lnTo>
                  <a:lnTo>
                    <a:pt x="558" y="88"/>
                  </a:lnTo>
                  <a:lnTo>
                    <a:pt x="558" y="102"/>
                  </a:lnTo>
                  <a:lnTo>
                    <a:pt x="558" y="102"/>
                  </a:lnTo>
                  <a:lnTo>
                    <a:pt x="558" y="114"/>
                  </a:lnTo>
                  <a:lnTo>
                    <a:pt x="562" y="132"/>
                  </a:lnTo>
                  <a:lnTo>
                    <a:pt x="562" y="132"/>
                  </a:lnTo>
                  <a:lnTo>
                    <a:pt x="566" y="146"/>
                  </a:lnTo>
                  <a:lnTo>
                    <a:pt x="566" y="146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68" y="160"/>
                  </a:lnTo>
                  <a:lnTo>
                    <a:pt x="568" y="160"/>
                  </a:lnTo>
                  <a:lnTo>
                    <a:pt x="590" y="272"/>
                  </a:lnTo>
                  <a:lnTo>
                    <a:pt x="614" y="416"/>
                  </a:lnTo>
                  <a:lnTo>
                    <a:pt x="614" y="416"/>
                  </a:lnTo>
                  <a:lnTo>
                    <a:pt x="466" y="428"/>
                  </a:lnTo>
                  <a:lnTo>
                    <a:pt x="340" y="438"/>
                  </a:lnTo>
                  <a:lnTo>
                    <a:pt x="234" y="444"/>
                  </a:lnTo>
                  <a:lnTo>
                    <a:pt x="148" y="446"/>
                  </a:lnTo>
                  <a:lnTo>
                    <a:pt x="148" y="446"/>
                  </a:lnTo>
                  <a:lnTo>
                    <a:pt x="132" y="448"/>
                  </a:lnTo>
                  <a:lnTo>
                    <a:pt x="118" y="454"/>
                  </a:lnTo>
                  <a:lnTo>
                    <a:pt x="104" y="462"/>
                  </a:lnTo>
                  <a:lnTo>
                    <a:pt x="92" y="474"/>
                  </a:lnTo>
                  <a:lnTo>
                    <a:pt x="92" y="474"/>
                  </a:lnTo>
                  <a:lnTo>
                    <a:pt x="82" y="486"/>
                  </a:lnTo>
                  <a:lnTo>
                    <a:pt x="76" y="502"/>
                  </a:lnTo>
                  <a:lnTo>
                    <a:pt x="72" y="518"/>
                  </a:lnTo>
                  <a:lnTo>
                    <a:pt x="72" y="534"/>
                  </a:lnTo>
                  <a:lnTo>
                    <a:pt x="108" y="846"/>
                  </a:lnTo>
                  <a:lnTo>
                    <a:pt x="108" y="846"/>
                  </a:lnTo>
                  <a:lnTo>
                    <a:pt x="110" y="862"/>
                  </a:lnTo>
                  <a:lnTo>
                    <a:pt x="118" y="876"/>
                  </a:lnTo>
                  <a:lnTo>
                    <a:pt x="126" y="888"/>
                  </a:lnTo>
                  <a:lnTo>
                    <a:pt x="138" y="900"/>
                  </a:lnTo>
                  <a:lnTo>
                    <a:pt x="138" y="900"/>
                  </a:lnTo>
                  <a:lnTo>
                    <a:pt x="152" y="908"/>
                  </a:lnTo>
                  <a:lnTo>
                    <a:pt x="166" y="912"/>
                  </a:lnTo>
                  <a:lnTo>
                    <a:pt x="182" y="916"/>
                  </a:lnTo>
                  <a:lnTo>
                    <a:pt x="198" y="914"/>
                  </a:lnTo>
                  <a:lnTo>
                    <a:pt x="198" y="914"/>
                  </a:lnTo>
                  <a:lnTo>
                    <a:pt x="296" y="900"/>
                  </a:lnTo>
                  <a:lnTo>
                    <a:pt x="412" y="884"/>
                  </a:lnTo>
                  <a:lnTo>
                    <a:pt x="540" y="866"/>
                  </a:lnTo>
                  <a:lnTo>
                    <a:pt x="676" y="850"/>
                  </a:lnTo>
                  <a:lnTo>
                    <a:pt x="676" y="850"/>
                  </a:lnTo>
                  <a:lnTo>
                    <a:pt x="684" y="904"/>
                  </a:lnTo>
                  <a:lnTo>
                    <a:pt x="684" y="904"/>
                  </a:lnTo>
                  <a:lnTo>
                    <a:pt x="696" y="1000"/>
                  </a:lnTo>
                  <a:lnTo>
                    <a:pt x="696" y="1000"/>
                  </a:lnTo>
                  <a:lnTo>
                    <a:pt x="498" y="1018"/>
                  </a:lnTo>
                  <a:lnTo>
                    <a:pt x="328" y="1030"/>
                  </a:lnTo>
                  <a:lnTo>
                    <a:pt x="186" y="1040"/>
                  </a:lnTo>
                  <a:lnTo>
                    <a:pt x="74" y="1046"/>
                  </a:lnTo>
                  <a:lnTo>
                    <a:pt x="74" y="1046"/>
                  </a:lnTo>
                  <a:lnTo>
                    <a:pt x="58" y="1048"/>
                  </a:lnTo>
                  <a:lnTo>
                    <a:pt x="42" y="1054"/>
                  </a:lnTo>
                  <a:lnTo>
                    <a:pt x="30" y="1062"/>
                  </a:lnTo>
                  <a:lnTo>
                    <a:pt x="18" y="1074"/>
                  </a:lnTo>
                  <a:lnTo>
                    <a:pt x="1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8"/>
            <p:cNvSpPr/>
            <p:nvPr/>
          </p:nvSpPr>
          <p:spPr>
            <a:xfrm>
              <a:off x="1577880" y="20059560"/>
              <a:ext cx="2663640" cy="2644560"/>
            </a:xfrm>
            <a:custGeom>
              <a:avLst/>
              <a:gdLst>
                <a:gd name="textAreaLeft" fmla="*/ 0 w 2663640"/>
                <a:gd name="textAreaRight" fmla="*/ 2663640 w 2663640"/>
                <a:gd name="textAreaTop" fmla="*/ 0 h 2644560"/>
                <a:gd name="textAreaBottom" fmla="*/ 2644920 h 2644560"/>
              </a:gdLst>
              <a:ahLst/>
              <a:rect l="textAreaLeft" t="textAreaTop" r="textAreaRight" b="textAreaBottom"/>
              <a:pathLst>
                <a:path w="1678" h="1666">
                  <a:moveTo>
                    <a:pt x="1620" y="352"/>
                  </a:moveTo>
                  <a:lnTo>
                    <a:pt x="1620" y="352"/>
                  </a:lnTo>
                  <a:lnTo>
                    <a:pt x="1582" y="326"/>
                  </a:lnTo>
                  <a:lnTo>
                    <a:pt x="1534" y="300"/>
                  </a:lnTo>
                  <a:lnTo>
                    <a:pt x="1490" y="274"/>
                  </a:lnTo>
                  <a:lnTo>
                    <a:pt x="1454" y="258"/>
                  </a:lnTo>
                  <a:lnTo>
                    <a:pt x="1454" y="258"/>
                  </a:lnTo>
                  <a:lnTo>
                    <a:pt x="1440" y="250"/>
                  </a:lnTo>
                  <a:lnTo>
                    <a:pt x="1422" y="244"/>
                  </a:lnTo>
                  <a:lnTo>
                    <a:pt x="1404" y="240"/>
                  </a:lnTo>
                  <a:lnTo>
                    <a:pt x="1384" y="238"/>
                  </a:lnTo>
                  <a:lnTo>
                    <a:pt x="1384" y="238"/>
                  </a:lnTo>
                  <a:lnTo>
                    <a:pt x="1368" y="238"/>
                  </a:lnTo>
                  <a:lnTo>
                    <a:pt x="1354" y="242"/>
                  </a:lnTo>
                  <a:lnTo>
                    <a:pt x="1330" y="250"/>
                  </a:lnTo>
                  <a:lnTo>
                    <a:pt x="1330" y="250"/>
                  </a:lnTo>
                  <a:lnTo>
                    <a:pt x="1308" y="258"/>
                  </a:lnTo>
                  <a:lnTo>
                    <a:pt x="1308" y="258"/>
                  </a:lnTo>
                  <a:lnTo>
                    <a:pt x="1288" y="268"/>
                  </a:lnTo>
                  <a:lnTo>
                    <a:pt x="1288" y="268"/>
                  </a:lnTo>
                  <a:lnTo>
                    <a:pt x="1284" y="268"/>
                  </a:lnTo>
                  <a:lnTo>
                    <a:pt x="1284" y="268"/>
                  </a:lnTo>
                  <a:lnTo>
                    <a:pt x="1100" y="302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26" y="194"/>
                  </a:lnTo>
                  <a:lnTo>
                    <a:pt x="826" y="194"/>
                  </a:lnTo>
                  <a:lnTo>
                    <a:pt x="824" y="188"/>
                  </a:lnTo>
                  <a:lnTo>
                    <a:pt x="824" y="188"/>
                  </a:lnTo>
                  <a:lnTo>
                    <a:pt x="824" y="184"/>
                  </a:lnTo>
                  <a:lnTo>
                    <a:pt x="824" y="184"/>
                  </a:lnTo>
                  <a:lnTo>
                    <a:pt x="824" y="178"/>
                  </a:lnTo>
                  <a:lnTo>
                    <a:pt x="824" y="178"/>
                  </a:lnTo>
                  <a:lnTo>
                    <a:pt x="824" y="178"/>
                  </a:lnTo>
                  <a:lnTo>
                    <a:pt x="824" y="178"/>
                  </a:lnTo>
                  <a:lnTo>
                    <a:pt x="830" y="164"/>
                  </a:lnTo>
                  <a:lnTo>
                    <a:pt x="830" y="164"/>
                  </a:lnTo>
                  <a:lnTo>
                    <a:pt x="838" y="136"/>
                  </a:lnTo>
                  <a:lnTo>
                    <a:pt x="840" y="122"/>
                  </a:lnTo>
                  <a:lnTo>
                    <a:pt x="842" y="110"/>
                  </a:lnTo>
                  <a:lnTo>
                    <a:pt x="842" y="110"/>
                  </a:lnTo>
                  <a:lnTo>
                    <a:pt x="840" y="90"/>
                  </a:lnTo>
                  <a:lnTo>
                    <a:pt x="834" y="70"/>
                  </a:lnTo>
                  <a:lnTo>
                    <a:pt x="824" y="52"/>
                  </a:lnTo>
                  <a:lnTo>
                    <a:pt x="810" y="36"/>
                  </a:lnTo>
                  <a:lnTo>
                    <a:pt x="802" y="28"/>
                  </a:lnTo>
                  <a:lnTo>
                    <a:pt x="794" y="22"/>
                  </a:lnTo>
                  <a:lnTo>
                    <a:pt x="782" y="16"/>
                  </a:lnTo>
                  <a:lnTo>
                    <a:pt x="772" y="10"/>
                  </a:lnTo>
                  <a:lnTo>
                    <a:pt x="758" y="6"/>
                  </a:lnTo>
                  <a:lnTo>
                    <a:pt x="746" y="4"/>
                  </a:lnTo>
                  <a:lnTo>
                    <a:pt x="730" y="2"/>
                  </a:lnTo>
                  <a:lnTo>
                    <a:pt x="714" y="0"/>
                  </a:lnTo>
                  <a:lnTo>
                    <a:pt x="702" y="0"/>
                  </a:lnTo>
                  <a:lnTo>
                    <a:pt x="702" y="0"/>
                  </a:lnTo>
                  <a:lnTo>
                    <a:pt x="696" y="2"/>
                  </a:lnTo>
                  <a:lnTo>
                    <a:pt x="696" y="2"/>
                  </a:lnTo>
                  <a:lnTo>
                    <a:pt x="658" y="4"/>
                  </a:lnTo>
                  <a:lnTo>
                    <a:pt x="658" y="4"/>
                  </a:lnTo>
                  <a:lnTo>
                    <a:pt x="552" y="14"/>
                  </a:lnTo>
                  <a:lnTo>
                    <a:pt x="500" y="20"/>
                  </a:lnTo>
                  <a:lnTo>
                    <a:pt x="460" y="24"/>
                  </a:lnTo>
                  <a:lnTo>
                    <a:pt x="460" y="24"/>
                  </a:lnTo>
                  <a:lnTo>
                    <a:pt x="458" y="24"/>
                  </a:lnTo>
                  <a:lnTo>
                    <a:pt x="458" y="24"/>
                  </a:lnTo>
                  <a:lnTo>
                    <a:pt x="454" y="26"/>
                  </a:lnTo>
                  <a:lnTo>
                    <a:pt x="454" y="26"/>
                  </a:lnTo>
                  <a:lnTo>
                    <a:pt x="438" y="28"/>
                  </a:lnTo>
                  <a:lnTo>
                    <a:pt x="420" y="32"/>
                  </a:lnTo>
                  <a:lnTo>
                    <a:pt x="408" y="36"/>
                  </a:lnTo>
                  <a:lnTo>
                    <a:pt x="398" y="42"/>
                  </a:lnTo>
                  <a:lnTo>
                    <a:pt x="388" y="48"/>
                  </a:lnTo>
                  <a:lnTo>
                    <a:pt x="378" y="56"/>
                  </a:lnTo>
                  <a:lnTo>
                    <a:pt x="378" y="56"/>
                  </a:lnTo>
                  <a:lnTo>
                    <a:pt x="366" y="72"/>
                  </a:lnTo>
                  <a:lnTo>
                    <a:pt x="358" y="90"/>
                  </a:lnTo>
                  <a:lnTo>
                    <a:pt x="352" y="108"/>
                  </a:lnTo>
                  <a:lnTo>
                    <a:pt x="350" y="128"/>
                  </a:lnTo>
                  <a:lnTo>
                    <a:pt x="350" y="128"/>
                  </a:lnTo>
                  <a:lnTo>
                    <a:pt x="352" y="152"/>
                  </a:lnTo>
                  <a:lnTo>
                    <a:pt x="360" y="180"/>
                  </a:lnTo>
                  <a:lnTo>
                    <a:pt x="360" y="180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8" y="218"/>
                  </a:lnTo>
                  <a:lnTo>
                    <a:pt x="368" y="218"/>
                  </a:lnTo>
                  <a:lnTo>
                    <a:pt x="392" y="322"/>
                  </a:lnTo>
                  <a:lnTo>
                    <a:pt x="412" y="420"/>
                  </a:lnTo>
                  <a:lnTo>
                    <a:pt x="412" y="420"/>
                  </a:lnTo>
                  <a:lnTo>
                    <a:pt x="244" y="442"/>
                  </a:lnTo>
                  <a:lnTo>
                    <a:pt x="156" y="452"/>
                  </a:lnTo>
                  <a:lnTo>
                    <a:pt x="72" y="460"/>
                  </a:lnTo>
                  <a:lnTo>
                    <a:pt x="72" y="460"/>
                  </a:lnTo>
                  <a:lnTo>
                    <a:pt x="56" y="464"/>
                  </a:lnTo>
                  <a:lnTo>
                    <a:pt x="40" y="470"/>
                  </a:lnTo>
                  <a:lnTo>
                    <a:pt x="26" y="480"/>
                  </a:lnTo>
                  <a:lnTo>
                    <a:pt x="16" y="492"/>
                  </a:lnTo>
                  <a:lnTo>
                    <a:pt x="16" y="492"/>
                  </a:lnTo>
                  <a:lnTo>
                    <a:pt x="6" y="508"/>
                  </a:lnTo>
                  <a:lnTo>
                    <a:pt x="2" y="524"/>
                  </a:lnTo>
                  <a:lnTo>
                    <a:pt x="0" y="540"/>
                  </a:lnTo>
                  <a:lnTo>
                    <a:pt x="2" y="558"/>
                  </a:lnTo>
                  <a:lnTo>
                    <a:pt x="74" y="842"/>
                  </a:lnTo>
                  <a:lnTo>
                    <a:pt x="74" y="842"/>
                  </a:lnTo>
                  <a:lnTo>
                    <a:pt x="78" y="856"/>
                  </a:lnTo>
                  <a:lnTo>
                    <a:pt x="86" y="870"/>
                  </a:lnTo>
                  <a:lnTo>
                    <a:pt x="96" y="880"/>
                  </a:lnTo>
                  <a:lnTo>
                    <a:pt x="108" y="890"/>
                  </a:lnTo>
                  <a:lnTo>
                    <a:pt x="122" y="896"/>
                  </a:lnTo>
                  <a:lnTo>
                    <a:pt x="136" y="900"/>
                  </a:lnTo>
                  <a:lnTo>
                    <a:pt x="150" y="902"/>
                  </a:lnTo>
                  <a:lnTo>
                    <a:pt x="166" y="900"/>
                  </a:lnTo>
                  <a:lnTo>
                    <a:pt x="166" y="900"/>
                  </a:lnTo>
                  <a:lnTo>
                    <a:pt x="496" y="828"/>
                  </a:lnTo>
                  <a:lnTo>
                    <a:pt x="496" y="828"/>
                  </a:lnTo>
                  <a:lnTo>
                    <a:pt x="568" y="1204"/>
                  </a:lnTo>
                  <a:lnTo>
                    <a:pt x="638" y="1602"/>
                  </a:lnTo>
                  <a:lnTo>
                    <a:pt x="638" y="1602"/>
                  </a:lnTo>
                  <a:lnTo>
                    <a:pt x="642" y="1616"/>
                  </a:lnTo>
                  <a:lnTo>
                    <a:pt x="650" y="1630"/>
                  </a:lnTo>
                  <a:lnTo>
                    <a:pt x="658" y="1642"/>
                  </a:lnTo>
                  <a:lnTo>
                    <a:pt x="670" y="1652"/>
                  </a:lnTo>
                  <a:lnTo>
                    <a:pt x="670" y="1652"/>
                  </a:lnTo>
                  <a:lnTo>
                    <a:pt x="682" y="1658"/>
                  </a:lnTo>
                  <a:lnTo>
                    <a:pt x="692" y="1664"/>
                  </a:lnTo>
                  <a:lnTo>
                    <a:pt x="704" y="1666"/>
                  </a:lnTo>
                  <a:lnTo>
                    <a:pt x="714" y="1666"/>
                  </a:lnTo>
                  <a:lnTo>
                    <a:pt x="714" y="1666"/>
                  </a:lnTo>
                  <a:lnTo>
                    <a:pt x="730" y="1664"/>
                  </a:lnTo>
                  <a:lnTo>
                    <a:pt x="1032" y="1602"/>
                  </a:lnTo>
                  <a:lnTo>
                    <a:pt x="1032" y="1602"/>
                  </a:lnTo>
                  <a:lnTo>
                    <a:pt x="1048" y="1598"/>
                  </a:lnTo>
                  <a:lnTo>
                    <a:pt x="1062" y="1590"/>
                  </a:lnTo>
                  <a:lnTo>
                    <a:pt x="1074" y="1580"/>
                  </a:lnTo>
                  <a:lnTo>
                    <a:pt x="1084" y="1566"/>
                  </a:lnTo>
                  <a:lnTo>
                    <a:pt x="1084" y="1566"/>
                  </a:lnTo>
                  <a:lnTo>
                    <a:pt x="1090" y="1552"/>
                  </a:lnTo>
                  <a:lnTo>
                    <a:pt x="1094" y="1536"/>
                  </a:lnTo>
                  <a:lnTo>
                    <a:pt x="1094" y="1522"/>
                  </a:lnTo>
                  <a:lnTo>
                    <a:pt x="1092" y="1506"/>
                  </a:lnTo>
                  <a:lnTo>
                    <a:pt x="1092" y="1506"/>
                  </a:lnTo>
                  <a:lnTo>
                    <a:pt x="1064" y="1402"/>
                  </a:lnTo>
                  <a:lnTo>
                    <a:pt x="1036" y="1286"/>
                  </a:lnTo>
                  <a:lnTo>
                    <a:pt x="1008" y="1154"/>
                  </a:lnTo>
                  <a:lnTo>
                    <a:pt x="976" y="1012"/>
                  </a:lnTo>
                  <a:lnTo>
                    <a:pt x="976" y="1012"/>
                  </a:lnTo>
                  <a:lnTo>
                    <a:pt x="1018" y="1034"/>
                  </a:lnTo>
                  <a:lnTo>
                    <a:pt x="1064" y="1062"/>
                  </a:lnTo>
                  <a:lnTo>
                    <a:pt x="1112" y="1094"/>
                  </a:lnTo>
                  <a:lnTo>
                    <a:pt x="1160" y="1126"/>
                  </a:lnTo>
                  <a:lnTo>
                    <a:pt x="1160" y="1126"/>
                  </a:lnTo>
                  <a:lnTo>
                    <a:pt x="1174" y="1134"/>
                  </a:lnTo>
                  <a:lnTo>
                    <a:pt x="1188" y="1140"/>
                  </a:lnTo>
                  <a:lnTo>
                    <a:pt x="1202" y="1142"/>
                  </a:lnTo>
                  <a:lnTo>
                    <a:pt x="1216" y="1142"/>
                  </a:lnTo>
                  <a:lnTo>
                    <a:pt x="1230" y="1140"/>
                  </a:lnTo>
                  <a:lnTo>
                    <a:pt x="1244" y="1134"/>
                  </a:lnTo>
                  <a:lnTo>
                    <a:pt x="1256" y="1126"/>
                  </a:lnTo>
                  <a:lnTo>
                    <a:pt x="1266" y="1116"/>
                  </a:lnTo>
                  <a:lnTo>
                    <a:pt x="1266" y="1116"/>
                  </a:lnTo>
                  <a:lnTo>
                    <a:pt x="1320" y="1052"/>
                  </a:lnTo>
                  <a:lnTo>
                    <a:pt x="1370" y="986"/>
                  </a:lnTo>
                  <a:lnTo>
                    <a:pt x="1416" y="920"/>
                  </a:lnTo>
                  <a:lnTo>
                    <a:pt x="1460" y="852"/>
                  </a:lnTo>
                  <a:lnTo>
                    <a:pt x="1500" y="788"/>
                  </a:lnTo>
                  <a:lnTo>
                    <a:pt x="1536" y="726"/>
                  </a:lnTo>
                  <a:lnTo>
                    <a:pt x="1568" y="670"/>
                  </a:lnTo>
                  <a:lnTo>
                    <a:pt x="1594" y="618"/>
                  </a:lnTo>
                  <a:lnTo>
                    <a:pt x="1594" y="618"/>
                  </a:lnTo>
                  <a:lnTo>
                    <a:pt x="1606" y="592"/>
                  </a:lnTo>
                  <a:lnTo>
                    <a:pt x="1606" y="592"/>
                  </a:lnTo>
                  <a:lnTo>
                    <a:pt x="1630" y="546"/>
                  </a:lnTo>
                  <a:lnTo>
                    <a:pt x="1630" y="546"/>
                  </a:lnTo>
                  <a:lnTo>
                    <a:pt x="1646" y="530"/>
                  </a:lnTo>
                  <a:lnTo>
                    <a:pt x="1662" y="508"/>
                  </a:lnTo>
                  <a:lnTo>
                    <a:pt x="1668" y="496"/>
                  </a:lnTo>
                  <a:lnTo>
                    <a:pt x="1674" y="482"/>
                  </a:lnTo>
                  <a:lnTo>
                    <a:pt x="1678" y="468"/>
                  </a:lnTo>
                  <a:lnTo>
                    <a:pt x="1678" y="452"/>
                  </a:lnTo>
                  <a:lnTo>
                    <a:pt x="1678" y="452"/>
                  </a:lnTo>
                  <a:lnTo>
                    <a:pt x="1676" y="430"/>
                  </a:lnTo>
                  <a:lnTo>
                    <a:pt x="1674" y="418"/>
                  </a:lnTo>
                  <a:lnTo>
                    <a:pt x="1668" y="406"/>
                  </a:lnTo>
                  <a:lnTo>
                    <a:pt x="1662" y="392"/>
                  </a:lnTo>
                  <a:lnTo>
                    <a:pt x="1650" y="378"/>
                  </a:lnTo>
                  <a:lnTo>
                    <a:pt x="1638" y="364"/>
                  </a:lnTo>
                  <a:lnTo>
                    <a:pt x="1620" y="352"/>
                  </a:lnTo>
                  <a:lnTo>
                    <a:pt x="1620" y="352"/>
                  </a:lnTo>
                  <a:close/>
                  <a:moveTo>
                    <a:pt x="1032" y="716"/>
                  </a:moveTo>
                  <a:lnTo>
                    <a:pt x="1032" y="716"/>
                  </a:lnTo>
                  <a:lnTo>
                    <a:pt x="986" y="768"/>
                  </a:lnTo>
                  <a:lnTo>
                    <a:pt x="938" y="818"/>
                  </a:lnTo>
                  <a:lnTo>
                    <a:pt x="938" y="818"/>
                  </a:lnTo>
                  <a:lnTo>
                    <a:pt x="922" y="738"/>
                  </a:lnTo>
                  <a:lnTo>
                    <a:pt x="922" y="738"/>
                  </a:lnTo>
                  <a:lnTo>
                    <a:pt x="1032" y="716"/>
                  </a:lnTo>
                  <a:lnTo>
                    <a:pt x="1032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69"/>
            <p:cNvSpPr/>
            <p:nvPr/>
          </p:nvSpPr>
          <p:spPr>
            <a:xfrm>
              <a:off x="1285920" y="23571000"/>
              <a:ext cx="2921040" cy="247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473200"/>
                <a:gd name="textAreaBottom" fmla="*/ 2473560 h 2473200"/>
              </a:gdLst>
              <a:ahLst/>
              <a:rect l="textAreaLeft" t="textAreaTop" r="textAreaRight" b="textAreaBottom"/>
              <a:pathLst>
                <a:path w="1840" h="1558">
                  <a:moveTo>
                    <a:pt x="22" y="1204"/>
                  </a:moveTo>
                  <a:lnTo>
                    <a:pt x="22" y="1204"/>
                  </a:lnTo>
                  <a:lnTo>
                    <a:pt x="42" y="1240"/>
                  </a:lnTo>
                  <a:lnTo>
                    <a:pt x="66" y="1278"/>
                  </a:lnTo>
                  <a:lnTo>
                    <a:pt x="118" y="1356"/>
                  </a:lnTo>
                  <a:lnTo>
                    <a:pt x="170" y="1430"/>
                  </a:lnTo>
                  <a:lnTo>
                    <a:pt x="212" y="1488"/>
                  </a:lnTo>
                  <a:lnTo>
                    <a:pt x="212" y="1488"/>
                  </a:lnTo>
                  <a:lnTo>
                    <a:pt x="224" y="1504"/>
                  </a:lnTo>
                  <a:lnTo>
                    <a:pt x="236" y="1518"/>
                  </a:lnTo>
                  <a:lnTo>
                    <a:pt x="250" y="1530"/>
                  </a:lnTo>
                  <a:lnTo>
                    <a:pt x="264" y="1540"/>
                  </a:lnTo>
                  <a:lnTo>
                    <a:pt x="278" y="1548"/>
                  </a:lnTo>
                  <a:lnTo>
                    <a:pt x="294" y="1554"/>
                  </a:lnTo>
                  <a:lnTo>
                    <a:pt x="310" y="1558"/>
                  </a:lnTo>
                  <a:lnTo>
                    <a:pt x="326" y="1558"/>
                  </a:lnTo>
                  <a:lnTo>
                    <a:pt x="326" y="1558"/>
                  </a:lnTo>
                  <a:lnTo>
                    <a:pt x="334" y="1558"/>
                  </a:lnTo>
                  <a:lnTo>
                    <a:pt x="346" y="1556"/>
                  </a:lnTo>
                  <a:lnTo>
                    <a:pt x="362" y="1552"/>
                  </a:lnTo>
                  <a:lnTo>
                    <a:pt x="378" y="1544"/>
                  </a:lnTo>
                  <a:lnTo>
                    <a:pt x="394" y="1534"/>
                  </a:lnTo>
                  <a:lnTo>
                    <a:pt x="410" y="1518"/>
                  </a:lnTo>
                  <a:lnTo>
                    <a:pt x="418" y="1508"/>
                  </a:lnTo>
                  <a:lnTo>
                    <a:pt x="426" y="1496"/>
                  </a:lnTo>
                  <a:lnTo>
                    <a:pt x="432" y="1482"/>
                  </a:lnTo>
                  <a:lnTo>
                    <a:pt x="438" y="1468"/>
                  </a:lnTo>
                  <a:lnTo>
                    <a:pt x="438" y="1468"/>
                  </a:lnTo>
                  <a:lnTo>
                    <a:pt x="462" y="1458"/>
                  </a:lnTo>
                  <a:lnTo>
                    <a:pt x="462" y="1458"/>
                  </a:lnTo>
                  <a:lnTo>
                    <a:pt x="508" y="1440"/>
                  </a:lnTo>
                  <a:lnTo>
                    <a:pt x="508" y="1440"/>
                  </a:lnTo>
                  <a:lnTo>
                    <a:pt x="596" y="1402"/>
                  </a:lnTo>
                  <a:lnTo>
                    <a:pt x="686" y="1360"/>
                  </a:lnTo>
                  <a:lnTo>
                    <a:pt x="774" y="1314"/>
                  </a:lnTo>
                  <a:lnTo>
                    <a:pt x="862" y="1264"/>
                  </a:lnTo>
                  <a:lnTo>
                    <a:pt x="950" y="1212"/>
                  </a:lnTo>
                  <a:lnTo>
                    <a:pt x="1038" y="1154"/>
                  </a:lnTo>
                  <a:lnTo>
                    <a:pt x="1124" y="1094"/>
                  </a:lnTo>
                  <a:lnTo>
                    <a:pt x="1210" y="1030"/>
                  </a:lnTo>
                  <a:lnTo>
                    <a:pt x="1294" y="964"/>
                  </a:lnTo>
                  <a:lnTo>
                    <a:pt x="1376" y="896"/>
                  </a:lnTo>
                  <a:lnTo>
                    <a:pt x="1456" y="824"/>
                  </a:lnTo>
                  <a:lnTo>
                    <a:pt x="1534" y="750"/>
                  </a:lnTo>
                  <a:lnTo>
                    <a:pt x="1610" y="674"/>
                  </a:lnTo>
                  <a:lnTo>
                    <a:pt x="1684" y="596"/>
                  </a:lnTo>
                  <a:lnTo>
                    <a:pt x="1756" y="516"/>
                  </a:lnTo>
                  <a:lnTo>
                    <a:pt x="1822" y="434"/>
                  </a:lnTo>
                  <a:lnTo>
                    <a:pt x="1822" y="434"/>
                  </a:lnTo>
                  <a:lnTo>
                    <a:pt x="1830" y="424"/>
                  </a:lnTo>
                  <a:lnTo>
                    <a:pt x="1834" y="412"/>
                  </a:lnTo>
                  <a:lnTo>
                    <a:pt x="1838" y="400"/>
                  </a:lnTo>
                  <a:lnTo>
                    <a:pt x="1840" y="388"/>
                  </a:lnTo>
                  <a:lnTo>
                    <a:pt x="1840" y="376"/>
                  </a:lnTo>
                  <a:lnTo>
                    <a:pt x="1838" y="364"/>
                  </a:lnTo>
                  <a:lnTo>
                    <a:pt x="1834" y="354"/>
                  </a:lnTo>
                  <a:lnTo>
                    <a:pt x="1828" y="342"/>
                  </a:lnTo>
                  <a:lnTo>
                    <a:pt x="1828" y="342"/>
                  </a:lnTo>
                  <a:lnTo>
                    <a:pt x="1796" y="294"/>
                  </a:lnTo>
                  <a:lnTo>
                    <a:pt x="1796" y="294"/>
                  </a:lnTo>
                  <a:lnTo>
                    <a:pt x="1762" y="240"/>
                  </a:lnTo>
                  <a:lnTo>
                    <a:pt x="1728" y="184"/>
                  </a:lnTo>
                  <a:lnTo>
                    <a:pt x="1692" y="120"/>
                  </a:lnTo>
                  <a:lnTo>
                    <a:pt x="1656" y="46"/>
                  </a:lnTo>
                  <a:lnTo>
                    <a:pt x="1656" y="46"/>
                  </a:lnTo>
                  <a:lnTo>
                    <a:pt x="1650" y="36"/>
                  </a:lnTo>
                  <a:lnTo>
                    <a:pt x="1644" y="28"/>
                  </a:lnTo>
                  <a:lnTo>
                    <a:pt x="1638" y="22"/>
                  </a:lnTo>
                  <a:lnTo>
                    <a:pt x="1630" y="14"/>
                  </a:lnTo>
                  <a:lnTo>
                    <a:pt x="1622" y="10"/>
                  </a:lnTo>
                  <a:lnTo>
                    <a:pt x="1612" y="6"/>
                  </a:lnTo>
                  <a:lnTo>
                    <a:pt x="1602" y="2"/>
                  </a:lnTo>
                  <a:lnTo>
                    <a:pt x="1592" y="0"/>
                  </a:lnTo>
                  <a:lnTo>
                    <a:pt x="1592" y="0"/>
                  </a:lnTo>
                  <a:lnTo>
                    <a:pt x="1582" y="0"/>
                  </a:lnTo>
                  <a:lnTo>
                    <a:pt x="1572" y="2"/>
                  </a:lnTo>
                  <a:lnTo>
                    <a:pt x="1562" y="4"/>
                  </a:lnTo>
                  <a:lnTo>
                    <a:pt x="1552" y="8"/>
                  </a:lnTo>
                  <a:lnTo>
                    <a:pt x="1542" y="12"/>
                  </a:lnTo>
                  <a:lnTo>
                    <a:pt x="1534" y="18"/>
                  </a:lnTo>
                  <a:lnTo>
                    <a:pt x="1528" y="26"/>
                  </a:lnTo>
                  <a:lnTo>
                    <a:pt x="1520" y="34"/>
                  </a:lnTo>
                  <a:lnTo>
                    <a:pt x="1520" y="34"/>
                  </a:lnTo>
                  <a:lnTo>
                    <a:pt x="1462" y="114"/>
                  </a:lnTo>
                  <a:lnTo>
                    <a:pt x="1396" y="196"/>
                  </a:lnTo>
                  <a:lnTo>
                    <a:pt x="1324" y="278"/>
                  </a:lnTo>
                  <a:lnTo>
                    <a:pt x="1248" y="358"/>
                  </a:lnTo>
                  <a:lnTo>
                    <a:pt x="1166" y="436"/>
                  </a:lnTo>
                  <a:lnTo>
                    <a:pt x="1080" y="514"/>
                  </a:lnTo>
                  <a:lnTo>
                    <a:pt x="990" y="588"/>
                  </a:lnTo>
                  <a:lnTo>
                    <a:pt x="896" y="660"/>
                  </a:lnTo>
                  <a:lnTo>
                    <a:pt x="850" y="694"/>
                  </a:lnTo>
                  <a:lnTo>
                    <a:pt x="802" y="728"/>
                  </a:lnTo>
                  <a:lnTo>
                    <a:pt x="752" y="760"/>
                  </a:lnTo>
                  <a:lnTo>
                    <a:pt x="702" y="790"/>
                  </a:lnTo>
                  <a:lnTo>
                    <a:pt x="654" y="820"/>
                  </a:lnTo>
                  <a:lnTo>
                    <a:pt x="602" y="848"/>
                  </a:lnTo>
                  <a:lnTo>
                    <a:pt x="552" y="876"/>
                  </a:lnTo>
                  <a:lnTo>
                    <a:pt x="502" y="900"/>
                  </a:lnTo>
                  <a:lnTo>
                    <a:pt x="450" y="924"/>
                  </a:lnTo>
                  <a:lnTo>
                    <a:pt x="400" y="946"/>
                  </a:lnTo>
                  <a:lnTo>
                    <a:pt x="348" y="966"/>
                  </a:lnTo>
                  <a:lnTo>
                    <a:pt x="296" y="984"/>
                  </a:lnTo>
                  <a:lnTo>
                    <a:pt x="244" y="1000"/>
                  </a:lnTo>
                  <a:lnTo>
                    <a:pt x="194" y="1014"/>
                  </a:lnTo>
                  <a:lnTo>
                    <a:pt x="142" y="1026"/>
                  </a:lnTo>
                  <a:lnTo>
                    <a:pt x="92" y="1036"/>
                  </a:lnTo>
                  <a:lnTo>
                    <a:pt x="92" y="1036"/>
                  </a:lnTo>
                  <a:lnTo>
                    <a:pt x="90" y="1038"/>
                  </a:lnTo>
                  <a:lnTo>
                    <a:pt x="90" y="1038"/>
                  </a:lnTo>
                  <a:lnTo>
                    <a:pt x="64" y="1044"/>
                  </a:lnTo>
                  <a:lnTo>
                    <a:pt x="46" y="1050"/>
                  </a:lnTo>
                  <a:lnTo>
                    <a:pt x="46" y="1050"/>
                  </a:lnTo>
                  <a:lnTo>
                    <a:pt x="34" y="1058"/>
                  </a:lnTo>
                  <a:lnTo>
                    <a:pt x="26" y="1066"/>
                  </a:lnTo>
                  <a:lnTo>
                    <a:pt x="18" y="1074"/>
                  </a:lnTo>
                  <a:lnTo>
                    <a:pt x="10" y="1084"/>
                  </a:lnTo>
                  <a:lnTo>
                    <a:pt x="4" y="1098"/>
                  </a:lnTo>
                  <a:lnTo>
                    <a:pt x="0" y="1112"/>
                  </a:lnTo>
                  <a:lnTo>
                    <a:pt x="0" y="1130"/>
                  </a:lnTo>
                  <a:lnTo>
                    <a:pt x="0" y="1130"/>
                  </a:lnTo>
                  <a:lnTo>
                    <a:pt x="0" y="1146"/>
                  </a:lnTo>
                  <a:lnTo>
                    <a:pt x="4" y="1162"/>
                  </a:lnTo>
                  <a:lnTo>
                    <a:pt x="10" y="1180"/>
                  </a:lnTo>
                  <a:lnTo>
                    <a:pt x="18" y="1198"/>
                  </a:lnTo>
                  <a:lnTo>
                    <a:pt x="18" y="1198"/>
                  </a:lnTo>
                  <a:lnTo>
                    <a:pt x="22" y="1204"/>
                  </a:lnTo>
                  <a:lnTo>
                    <a:pt x="22" y="1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0"/>
            <p:cNvSpPr/>
            <p:nvPr/>
          </p:nvSpPr>
          <p:spPr>
            <a:xfrm>
              <a:off x="1209600" y="23110560"/>
              <a:ext cx="1476360" cy="127296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930" h="802">
                  <a:moveTo>
                    <a:pt x="648" y="802"/>
                  </a:moveTo>
                  <a:lnTo>
                    <a:pt x="648" y="802"/>
                  </a:lnTo>
                  <a:lnTo>
                    <a:pt x="654" y="802"/>
                  </a:lnTo>
                  <a:lnTo>
                    <a:pt x="654" y="802"/>
                  </a:lnTo>
                  <a:lnTo>
                    <a:pt x="672" y="798"/>
                  </a:lnTo>
                  <a:lnTo>
                    <a:pt x="688" y="792"/>
                  </a:lnTo>
                  <a:lnTo>
                    <a:pt x="700" y="782"/>
                  </a:lnTo>
                  <a:lnTo>
                    <a:pt x="712" y="768"/>
                  </a:lnTo>
                  <a:lnTo>
                    <a:pt x="916" y="472"/>
                  </a:lnTo>
                  <a:lnTo>
                    <a:pt x="916" y="472"/>
                  </a:lnTo>
                  <a:lnTo>
                    <a:pt x="924" y="458"/>
                  </a:lnTo>
                  <a:lnTo>
                    <a:pt x="928" y="444"/>
                  </a:lnTo>
                  <a:lnTo>
                    <a:pt x="930" y="430"/>
                  </a:lnTo>
                  <a:lnTo>
                    <a:pt x="928" y="416"/>
                  </a:lnTo>
                  <a:lnTo>
                    <a:pt x="926" y="402"/>
                  </a:lnTo>
                  <a:lnTo>
                    <a:pt x="920" y="390"/>
                  </a:lnTo>
                  <a:lnTo>
                    <a:pt x="912" y="378"/>
                  </a:lnTo>
                  <a:lnTo>
                    <a:pt x="902" y="366"/>
                  </a:lnTo>
                  <a:lnTo>
                    <a:pt x="902" y="366"/>
                  </a:lnTo>
                  <a:lnTo>
                    <a:pt x="852" y="328"/>
                  </a:lnTo>
                  <a:lnTo>
                    <a:pt x="796" y="288"/>
                  </a:lnTo>
                  <a:lnTo>
                    <a:pt x="734" y="246"/>
                  </a:lnTo>
                  <a:lnTo>
                    <a:pt x="662" y="202"/>
                  </a:lnTo>
                  <a:lnTo>
                    <a:pt x="584" y="156"/>
                  </a:lnTo>
                  <a:lnTo>
                    <a:pt x="498" y="108"/>
                  </a:lnTo>
                  <a:lnTo>
                    <a:pt x="406" y="60"/>
                  </a:lnTo>
                  <a:lnTo>
                    <a:pt x="304" y="8"/>
                  </a:lnTo>
                  <a:lnTo>
                    <a:pt x="304" y="8"/>
                  </a:lnTo>
                  <a:lnTo>
                    <a:pt x="292" y="2"/>
                  </a:lnTo>
                  <a:lnTo>
                    <a:pt x="278" y="0"/>
                  </a:lnTo>
                  <a:lnTo>
                    <a:pt x="264" y="0"/>
                  </a:lnTo>
                  <a:lnTo>
                    <a:pt x="252" y="2"/>
                  </a:lnTo>
                  <a:lnTo>
                    <a:pt x="238" y="6"/>
                  </a:lnTo>
                  <a:lnTo>
                    <a:pt x="226" y="12"/>
                  </a:lnTo>
                  <a:lnTo>
                    <a:pt x="216" y="20"/>
                  </a:lnTo>
                  <a:lnTo>
                    <a:pt x="206" y="32"/>
                  </a:lnTo>
                  <a:lnTo>
                    <a:pt x="16" y="288"/>
                  </a:lnTo>
                  <a:lnTo>
                    <a:pt x="16" y="288"/>
                  </a:lnTo>
                  <a:lnTo>
                    <a:pt x="6" y="304"/>
                  </a:lnTo>
                  <a:lnTo>
                    <a:pt x="2" y="320"/>
                  </a:lnTo>
                  <a:lnTo>
                    <a:pt x="0" y="336"/>
                  </a:lnTo>
                  <a:lnTo>
                    <a:pt x="2" y="354"/>
                  </a:lnTo>
                  <a:lnTo>
                    <a:pt x="2" y="354"/>
                  </a:lnTo>
                  <a:lnTo>
                    <a:pt x="8" y="370"/>
                  </a:lnTo>
                  <a:lnTo>
                    <a:pt x="16" y="384"/>
                  </a:lnTo>
                  <a:lnTo>
                    <a:pt x="28" y="396"/>
                  </a:lnTo>
                  <a:lnTo>
                    <a:pt x="42" y="406"/>
                  </a:lnTo>
                  <a:lnTo>
                    <a:pt x="42" y="406"/>
                  </a:lnTo>
                  <a:lnTo>
                    <a:pt x="98" y="434"/>
                  </a:lnTo>
                  <a:lnTo>
                    <a:pt x="160" y="468"/>
                  </a:lnTo>
                  <a:lnTo>
                    <a:pt x="228" y="508"/>
                  </a:lnTo>
                  <a:lnTo>
                    <a:pt x="302" y="552"/>
                  </a:lnTo>
                  <a:lnTo>
                    <a:pt x="376" y="602"/>
                  </a:lnTo>
                  <a:lnTo>
                    <a:pt x="452" y="658"/>
                  </a:lnTo>
                  <a:lnTo>
                    <a:pt x="488" y="686"/>
                  </a:lnTo>
                  <a:lnTo>
                    <a:pt x="524" y="716"/>
                  </a:lnTo>
                  <a:lnTo>
                    <a:pt x="558" y="748"/>
                  </a:lnTo>
                  <a:lnTo>
                    <a:pt x="592" y="780"/>
                  </a:lnTo>
                  <a:lnTo>
                    <a:pt x="592" y="780"/>
                  </a:lnTo>
                  <a:lnTo>
                    <a:pt x="604" y="790"/>
                  </a:lnTo>
                  <a:lnTo>
                    <a:pt x="618" y="796"/>
                  </a:lnTo>
                  <a:lnTo>
                    <a:pt x="632" y="802"/>
                  </a:lnTo>
                  <a:lnTo>
                    <a:pt x="648" y="802"/>
                  </a:lnTo>
                  <a:lnTo>
                    <a:pt x="648" y="8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1"/>
            <p:cNvSpPr/>
            <p:nvPr/>
          </p:nvSpPr>
          <p:spPr>
            <a:xfrm>
              <a:off x="955800" y="26136360"/>
              <a:ext cx="3409920" cy="2768400"/>
            </a:xfrm>
            <a:custGeom>
              <a:avLst/>
              <a:gdLst>
                <a:gd name="textAreaLeft" fmla="*/ 0 w 3409920"/>
                <a:gd name="textAreaRight" fmla="*/ 3410280 w 340992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2148" h="1744">
                  <a:moveTo>
                    <a:pt x="2118" y="1278"/>
                  </a:moveTo>
                  <a:lnTo>
                    <a:pt x="2118" y="1278"/>
                  </a:lnTo>
                  <a:lnTo>
                    <a:pt x="2046" y="1222"/>
                  </a:lnTo>
                  <a:lnTo>
                    <a:pt x="1978" y="1166"/>
                  </a:lnTo>
                  <a:lnTo>
                    <a:pt x="1912" y="1108"/>
                  </a:lnTo>
                  <a:lnTo>
                    <a:pt x="1846" y="1052"/>
                  </a:lnTo>
                  <a:lnTo>
                    <a:pt x="1724" y="942"/>
                  </a:lnTo>
                  <a:lnTo>
                    <a:pt x="1612" y="836"/>
                  </a:lnTo>
                  <a:lnTo>
                    <a:pt x="1612" y="836"/>
                  </a:lnTo>
                  <a:lnTo>
                    <a:pt x="1522" y="752"/>
                  </a:lnTo>
                  <a:lnTo>
                    <a:pt x="1522" y="752"/>
                  </a:lnTo>
                  <a:lnTo>
                    <a:pt x="1546" y="754"/>
                  </a:lnTo>
                  <a:lnTo>
                    <a:pt x="1570" y="756"/>
                  </a:lnTo>
                  <a:lnTo>
                    <a:pt x="1570" y="756"/>
                  </a:lnTo>
                  <a:lnTo>
                    <a:pt x="1610" y="754"/>
                  </a:lnTo>
                  <a:lnTo>
                    <a:pt x="1646" y="748"/>
                  </a:lnTo>
                  <a:lnTo>
                    <a:pt x="1682" y="738"/>
                  </a:lnTo>
                  <a:lnTo>
                    <a:pt x="1718" y="726"/>
                  </a:lnTo>
                  <a:lnTo>
                    <a:pt x="1750" y="710"/>
                  </a:lnTo>
                  <a:lnTo>
                    <a:pt x="1782" y="690"/>
                  </a:lnTo>
                  <a:lnTo>
                    <a:pt x="1810" y="668"/>
                  </a:lnTo>
                  <a:lnTo>
                    <a:pt x="1838" y="644"/>
                  </a:lnTo>
                  <a:lnTo>
                    <a:pt x="1862" y="618"/>
                  </a:lnTo>
                  <a:lnTo>
                    <a:pt x="1884" y="588"/>
                  </a:lnTo>
                  <a:lnTo>
                    <a:pt x="1902" y="558"/>
                  </a:lnTo>
                  <a:lnTo>
                    <a:pt x="1918" y="524"/>
                  </a:lnTo>
                  <a:lnTo>
                    <a:pt x="1932" y="490"/>
                  </a:lnTo>
                  <a:lnTo>
                    <a:pt x="1940" y="454"/>
                  </a:lnTo>
                  <a:lnTo>
                    <a:pt x="1946" y="416"/>
                  </a:lnTo>
                  <a:lnTo>
                    <a:pt x="1948" y="378"/>
                  </a:lnTo>
                  <a:lnTo>
                    <a:pt x="1948" y="378"/>
                  </a:lnTo>
                  <a:lnTo>
                    <a:pt x="1946" y="338"/>
                  </a:lnTo>
                  <a:lnTo>
                    <a:pt x="1940" y="302"/>
                  </a:lnTo>
                  <a:lnTo>
                    <a:pt x="1932" y="266"/>
                  </a:lnTo>
                  <a:lnTo>
                    <a:pt x="1918" y="230"/>
                  </a:lnTo>
                  <a:lnTo>
                    <a:pt x="1902" y="198"/>
                  </a:lnTo>
                  <a:lnTo>
                    <a:pt x="1884" y="166"/>
                  </a:lnTo>
                  <a:lnTo>
                    <a:pt x="1862" y="138"/>
                  </a:lnTo>
                  <a:lnTo>
                    <a:pt x="1838" y="110"/>
                  </a:lnTo>
                  <a:lnTo>
                    <a:pt x="1810" y="86"/>
                  </a:lnTo>
                  <a:lnTo>
                    <a:pt x="1782" y="64"/>
                  </a:lnTo>
                  <a:lnTo>
                    <a:pt x="1750" y="46"/>
                  </a:lnTo>
                  <a:lnTo>
                    <a:pt x="1718" y="30"/>
                  </a:lnTo>
                  <a:lnTo>
                    <a:pt x="1682" y="16"/>
                  </a:lnTo>
                  <a:lnTo>
                    <a:pt x="1646" y="8"/>
                  </a:lnTo>
                  <a:lnTo>
                    <a:pt x="1610" y="2"/>
                  </a:lnTo>
                  <a:lnTo>
                    <a:pt x="1570" y="0"/>
                  </a:lnTo>
                  <a:lnTo>
                    <a:pt x="1570" y="0"/>
                  </a:lnTo>
                  <a:lnTo>
                    <a:pt x="1532" y="2"/>
                  </a:lnTo>
                  <a:lnTo>
                    <a:pt x="1494" y="8"/>
                  </a:lnTo>
                  <a:lnTo>
                    <a:pt x="1458" y="16"/>
                  </a:lnTo>
                  <a:lnTo>
                    <a:pt x="1424" y="30"/>
                  </a:lnTo>
                  <a:lnTo>
                    <a:pt x="1390" y="46"/>
                  </a:lnTo>
                  <a:lnTo>
                    <a:pt x="1360" y="64"/>
                  </a:lnTo>
                  <a:lnTo>
                    <a:pt x="1330" y="86"/>
                  </a:lnTo>
                  <a:lnTo>
                    <a:pt x="1304" y="110"/>
                  </a:lnTo>
                  <a:lnTo>
                    <a:pt x="1280" y="138"/>
                  </a:lnTo>
                  <a:lnTo>
                    <a:pt x="1258" y="166"/>
                  </a:lnTo>
                  <a:lnTo>
                    <a:pt x="1238" y="198"/>
                  </a:lnTo>
                  <a:lnTo>
                    <a:pt x="1222" y="230"/>
                  </a:lnTo>
                  <a:lnTo>
                    <a:pt x="1210" y="266"/>
                  </a:lnTo>
                  <a:lnTo>
                    <a:pt x="1200" y="302"/>
                  </a:lnTo>
                  <a:lnTo>
                    <a:pt x="1194" y="338"/>
                  </a:lnTo>
                  <a:lnTo>
                    <a:pt x="1192" y="378"/>
                  </a:lnTo>
                  <a:lnTo>
                    <a:pt x="1192" y="378"/>
                  </a:lnTo>
                  <a:lnTo>
                    <a:pt x="1194" y="410"/>
                  </a:lnTo>
                  <a:lnTo>
                    <a:pt x="1198" y="442"/>
                  </a:lnTo>
                  <a:lnTo>
                    <a:pt x="1198" y="442"/>
                  </a:lnTo>
                  <a:lnTo>
                    <a:pt x="1124" y="374"/>
                  </a:lnTo>
                  <a:lnTo>
                    <a:pt x="1124" y="374"/>
                  </a:lnTo>
                  <a:lnTo>
                    <a:pt x="1124" y="374"/>
                  </a:lnTo>
                  <a:lnTo>
                    <a:pt x="1124" y="374"/>
                  </a:lnTo>
                  <a:lnTo>
                    <a:pt x="1088" y="342"/>
                  </a:lnTo>
                  <a:lnTo>
                    <a:pt x="1050" y="316"/>
                  </a:lnTo>
                  <a:lnTo>
                    <a:pt x="1012" y="294"/>
                  </a:lnTo>
                  <a:lnTo>
                    <a:pt x="974" y="274"/>
                  </a:lnTo>
                  <a:lnTo>
                    <a:pt x="936" y="260"/>
                  </a:lnTo>
                  <a:lnTo>
                    <a:pt x="898" y="250"/>
                  </a:lnTo>
                  <a:lnTo>
                    <a:pt x="860" y="244"/>
                  </a:lnTo>
                  <a:lnTo>
                    <a:pt x="822" y="240"/>
                  </a:lnTo>
                  <a:lnTo>
                    <a:pt x="822" y="240"/>
                  </a:lnTo>
                  <a:lnTo>
                    <a:pt x="802" y="242"/>
                  </a:lnTo>
                  <a:lnTo>
                    <a:pt x="782" y="244"/>
                  </a:lnTo>
                  <a:lnTo>
                    <a:pt x="762" y="246"/>
                  </a:lnTo>
                  <a:lnTo>
                    <a:pt x="740" y="250"/>
                  </a:lnTo>
                  <a:lnTo>
                    <a:pt x="722" y="256"/>
                  </a:lnTo>
                  <a:lnTo>
                    <a:pt x="702" y="262"/>
                  </a:lnTo>
                  <a:lnTo>
                    <a:pt x="664" y="280"/>
                  </a:lnTo>
                  <a:lnTo>
                    <a:pt x="626" y="300"/>
                  </a:lnTo>
                  <a:lnTo>
                    <a:pt x="590" y="328"/>
                  </a:lnTo>
                  <a:lnTo>
                    <a:pt x="556" y="358"/>
                  </a:lnTo>
                  <a:lnTo>
                    <a:pt x="522" y="392"/>
                  </a:lnTo>
                  <a:lnTo>
                    <a:pt x="522" y="392"/>
                  </a:lnTo>
                  <a:lnTo>
                    <a:pt x="440" y="486"/>
                  </a:lnTo>
                  <a:lnTo>
                    <a:pt x="346" y="592"/>
                  </a:lnTo>
                  <a:lnTo>
                    <a:pt x="242" y="706"/>
                  </a:lnTo>
                  <a:lnTo>
                    <a:pt x="136" y="820"/>
                  </a:lnTo>
                  <a:lnTo>
                    <a:pt x="136" y="820"/>
                  </a:lnTo>
                  <a:lnTo>
                    <a:pt x="94" y="862"/>
                  </a:lnTo>
                  <a:lnTo>
                    <a:pt x="64" y="894"/>
                  </a:lnTo>
                  <a:lnTo>
                    <a:pt x="64" y="894"/>
                  </a:lnTo>
                  <a:lnTo>
                    <a:pt x="60" y="898"/>
                  </a:lnTo>
                  <a:lnTo>
                    <a:pt x="60" y="898"/>
                  </a:lnTo>
                  <a:lnTo>
                    <a:pt x="20" y="944"/>
                  </a:lnTo>
                  <a:lnTo>
                    <a:pt x="20" y="944"/>
                  </a:lnTo>
                  <a:lnTo>
                    <a:pt x="12" y="958"/>
                  </a:lnTo>
                  <a:lnTo>
                    <a:pt x="12" y="958"/>
                  </a:lnTo>
                  <a:lnTo>
                    <a:pt x="4" y="976"/>
                  </a:lnTo>
                  <a:lnTo>
                    <a:pt x="2" y="990"/>
                  </a:lnTo>
                  <a:lnTo>
                    <a:pt x="0" y="1008"/>
                  </a:lnTo>
                  <a:lnTo>
                    <a:pt x="0" y="1008"/>
                  </a:lnTo>
                  <a:lnTo>
                    <a:pt x="2" y="1030"/>
                  </a:lnTo>
                  <a:lnTo>
                    <a:pt x="8" y="1050"/>
                  </a:lnTo>
                  <a:lnTo>
                    <a:pt x="20" y="1070"/>
                  </a:lnTo>
                  <a:lnTo>
                    <a:pt x="34" y="1088"/>
                  </a:lnTo>
                  <a:lnTo>
                    <a:pt x="34" y="1088"/>
                  </a:lnTo>
                  <a:lnTo>
                    <a:pt x="82" y="1138"/>
                  </a:lnTo>
                  <a:lnTo>
                    <a:pt x="140" y="1196"/>
                  </a:lnTo>
                  <a:lnTo>
                    <a:pt x="250" y="1300"/>
                  </a:lnTo>
                  <a:lnTo>
                    <a:pt x="250" y="1300"/>
                  </a:lnTo>
                  <a:lnTo>
                    <a:pt x="250" y="1302"/>
                  </a:lnTo>
                  <a:lnTo>
                    <a:pt x="250" y="1302"/>
                  </a:lnTo>
                  <a:lnTo>
                    <a:pt x="268" y="1314"/>
                  </a:lnTo>
                  <a:lnTo>
                    <a:pt x="288" y="1328"/>
                  </a:lnTo>
                  <a:lnTo>
                    <a:pt x="300" y="1334"/>
                  </a:lnTo>
                  <a:lnTo>
                    <a:pt x="314" y="1338"/>
                  </a:lnTo>
                  <a:lnTo>
                    <a:pt x="328" y="1340"/>
                  </a:lnTo>
                  <a:lnTo>
                    <a:pt x="342" y="1342"/>
                  </a:lnTo>
                  <a:lnTo>
                    <a:pt x="342" y="1342"/>
                  </a:lnTo>
                  <a:lnTo>
                    <a:pt x="358" y="1340"/>
                  </a:lnTo>
                  <a:lnTo>
                    <a:pt x="376" y="1336"/>
                  </a:lnTo>
                  <a:lnTo>
                    <a:pt x="392" y="1328"/>
                  </a:lnTo>
                  <a:lnTo>
                    <a:pt x="408" y="1318"/>
                  </a:lnTo>
                  <a:lnTo>
                    <a:pt x="422" y="1304"/>
                  </a:lnTo>
                  <a:lnTo>
                    <a:pt x="436" y="1286"/>
                  </a:lnTo>
                  <a:lnTo>
                    <a:pt x="446" y="1264"/>
                  </a:lnTo>
                  <a:lnTo>
                    <a:pt x="454" y="1236"/>
                  </a:lnTo>
                  <a:lnTo>
                    <a:pt x="454" y="1236"/>
                  </a:lnTo>
                  <a:lnTo>
                    <a:pt x="462" y="1224"/>
                  </a:lnTo>
                  <a:lnTo>
                    <a:pt x="472" y="1210"/>
                  </a:lnTo>
                  <a:lnTo>
                    <a:pt x="472" y="1210"/>
                  </a:lnTo>
                  <a:lnTo>
                    <a:pt x="486" y="1190"/>
                  </a:lnTo>
                  <a:lnTo>
                    <a:pt x="486" y="1190"/>
                  </a:lnTo>
                  <a:lnTo>
                    <a:pt x="488" y="1188"/>
                  </a:lnTo>
                  <a:lnTo>
                    <a:pt x="488" y="1188"/>
                  </a:lnTo>
                  <a:lnTo>
                    <a:pt x="532" y="1122"/>
                  </a:lnTo>
                  <a:lnTo>
                    <a:pt x="580" y="1054"/>
                  </a:lnTo>
                  <a:lnTo>
                    <a:pt x="626" y="992"/>
                  </a:lnTo>
                  <a:lnTo>
                    <a:pt x="664" y="942"/>
                  </a:lnTo>
                  <a:lnTo>
                    <a:pt x="664" y="942"/>
                  </a:lnTo>
                  <a:lnTo>
                    <a:pt x="722" y="870"/>
                  </a:lnTo>
                  <a:lnTo>
                    <a:pt x="782" y="794"/>
                  </a:lnTo>
                  <a:lnTo>
                    <a:pt x="782" y="794"/>
                  </a:lnTo>
                  <a:lnTo>
                    <a:pt x="828" y="738"/>
                  </a:lnTo>
                  <a:lnTo>
                    <a:pt x="828" y="738"/>
                  </a:lnTo>
                  <a:lnTo>
                    <a:pt x="832" y="740"/>
                  </a:lnTo>
                  <a:lnTo>
                    <a:pt x="832" y="740"/>
                  </a:lnTo>
                  <a:lnTo>
                    <a:pt x="928" y="834"/>
                  </a:lnTo>
                  <a:lnTo>
                    <a:pt x="1026" y="934"/>
                  </a:lnTo>
                  <a:lnTo>
                    <a:pt x="1228" y="1146"/>
                  </a:lnTo>
                  <a:lnTo>
                    <a:pt x="1228" y="1146"/>
                  </a:lnTo>
                  <a:lnTo>
                    <a:pt x="1368" y="1292"/>
                  </a:lnTo>
                  <a:lnTo>
                    <a:pt x="1510" y="1438"/>
                  </a:lnTo>
                  <a:lnTo>
                    <a:pt x="1584" y="1512"/>
                  </a:lnTo>
                  <a:lnTo>
                    <a:pt x="1656" y="1584"/>
                  </a:lnTo>
                  <a:lnTo>
                    <a:pt x="1732" y="1654"/>
                  </a:lnTo>
                  <a:lnTo>
                    <a:pt x="1806" y="1724"/>
                  </a:lnTo>
                  <a:lnTo>
                    <a:pt x="1806" y="1724"/>
                  </a:lnTo>
                  <a:lnTo>
                    <a:pt x="1818" y="1732"/>
                  </a:lnTo>
                  <a:lnTo>
                    <a:pt x="1832" y="1740"/>
                  </a:lnTo>
                  <a:lnTo>
                    <a:pt x="1846" y="1744"/>
                  </a:lnTo>
                  <a:lnTo>
                    <a:pt x="1860" y="1744"/>
                  </a:lnTo>
                  <a:lnTo>
                    <a:pt x="1860" y="1744"/>
                  </a:lnTo>
                  <a:lnTo>
                    <a:pt x="1870" y="1744"/>
                  </a:lnTo>
                  <a:lnTo>
                    <a:pt x="1870" y="1744"/>
                  </a:lnTo>
                  <a:lnTo>
                    <a:pt x="1888" y="1740"/>
                  </a:lnTo>
                  <a:lnTo>
                    <a:pt x="1902" y="1732"/>
                  </a:lnTo>
                  <a:lnTo>
                    <a:pt x="1916" y="1720"/>
                  </a:lnTo>
                  <a:lnTo>
                    <a:pt x="1926" y="1708"/>
                  </a:lnTo>
                  <a:lnTo>
                    <a:pt x="1926" y="1708"/>
                  </a:lnTo>
                  <a:lnTo>
                    <a:pt x="1984" y="1614"/>
                  </a:lnTo>
                  <a:lnTo>
                    <a:pt x="2044" y="1524"/>
                  </a:lnTo>
                  <a:lnTo>
                    <a:pt x="2044" y="1524"/>
                  </a:lnTo>
                  <a:lnTo>
                    <a:pt x="2136" y="1382"/>
                  </a:lnTo>
                  <a:lnTo>
                    <a:pt x="2136" y="1382"/>
                  </a:lnTo>
                  <a:lnTo>
                    <a:pt x="2142" y="1368"/>
                  </a:lnTo>
                  <a:lnTo>
                    <a:pt x="2146" y="1354"/>
                  </a:lnTo>
                  <a:lnTo>
                    <a:pt x="2148" y="1340"/>
                  </a:lnTo>
                  <a:lnTo>
                    <a:pt x="2146" y="1326"/>
                  </a:lnTo>
                  <a:lnTo>
                    <a:pt x="2142" y="1312"/>
                  </a:lnTo>
                  <a:lnTo>
                    <a:pt x="2136" y="1300"/>
                  </a:lnTo>
                  <a:lnTo>
                    <a:pt x="2128" y="1288"/>
                  </a:lnTo>
                  <a:lnTo>
                    <a:pt x="2118" y="1278"/>
                  </a:lnTo>
                  <a:lnTo>
                    <a:pt x="2118" y="1278"/>
                  </a:lnTo>
                  <a:close/>
                  <a:moveTo>
                    <a:pt x="1570" y="414"/>
                  </a:moveTo>
                  <a:lnTo>
                    <a:pt x="1570" y="414"/>
                  </a:lnTo>
                  <a:lnTo>
                    <a:pt x="1562" y="412"/>
                  </a:lnTo>
                  <a:lnTo>
                    <a:pt x="1556" y="410"/>
                  </a:lnTo>
                  <a:lnTo>
                    <a:pt x="1550" y="408"/>
                  </a:lnTo>
                  <a:lnTo>
                    <a:pt x="1544" y="402"/>
                  </a:lnTo>
                  <a:lnTo>
                    <a:pt x="1538" y="398"/>
                  </a:lnTo>
                  <a:lnTo>
                    <a:pt x="1536" y="392"/>
                  </a:lnTo>
                  <a:lnTo>
                    <a:pt x="1534" y="384"/>
                  </a:lnTo>
                  <a:lnTo>
                    <a:pt x="1532" y="378"/>
                  </a:lnTo>
                  <a:lnTo>
                    <a:pt x="1532" y="378"/>
                  </a:lnTo>
                  <a:lnTo>
                    <a:pt x="1534" y="370"/>
                  </a:lnTo>
                  <a:lnTo>
                    <a:pt x="1536" y="362"/>
                  </a:lnTo>
                  <a:lnTo>
                    <a:pt x="1538" y="356"/>
                  </a:lnTo>
                  <a:lnTo>
                    <a:pt x="1544" y="350"/>
                  </a:lnTo>
                  <a:lnTo>
                    <a:pt x="1550" y="346"/>
                  </a:lnTo>
                  <a:lnTo>
                    <a:pt x="1556" y="342"/>
                  </a:lnTo>
                  <a:lnTo>
                    <a:pt x="1562" y="340"/>
                  </a:lnTo>
                  <a:lnTo>
                    <a:pt x="1570" y="340"/>
                  </a:lnTo>
                  <a:lnTo>
                    <a:pt x="1570" y="340"/>
                  </a:lnTo>
                  <a:lnTo>
                    <a:pt x="1578" y="340"/>
                  </a:lnTo>
                  <a:lnTo>
                    <a:pt x="1586" y="342"/>
                  </a:lnTo>
                  <a:lnTo>
                    <a:pt x="1592" y="346"/>
                  </a:lnTo>
                  <a:lnTo>
                    <a:pt x="1598" y="350"/>
                  </a:lnTo>
                  <a:lnTo>
                    <a:pt x="1602" y="356"/>
                  </a:lnTo>
                  <a:lnTo>
                    <a:pt x="1606" y="362"/>
                  </a:lnTo>
                  <a:lnTo>
                    <a:pt x="1608" y="370"/>
                  </a:lnTo>
                  <a:lnTo>
                    <a:pt x="1608" y="378"/>
                  </a:lnTo>
                  <a:lnTo>
                    <a:pt x="1608" y="378"/>
                  </a:lnTo>
                  <a:lnTo>
                    <a:pt x="1608" y="384"/>
                  </a:lnTo>
                  <a:lnTo>
                    <a:pt x="1606" y="392"/>
                  </a:lnTo>
                  <a:lnTo>
                    <a:pt x="1602" y="398"/>
                  </a:lnTo>
                  <a:lnTo>
                    <a:pt x="1598" y="402"/>
                  </a:lnTo>
                  <a:lnTo>
                    <a:pt x="1592" y="408"/>
                  </a:lnTo>
                  <a:lnTo>
                    <a:pt x="1586" y="410"/>
                  </a:lnTo>
                  <a:lnTo>
                    <a:pt x="1578" y="412"/>
                  </a:lnTo>
                  <a:lnTo>
                    <a:pt x="1570" y="414"/>
                  </a:lnTo>
                  <a:lnTo>
                    <a:pt x="1570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72"/>
            <p:cNvSpPr/>
            <p:nvPr/>
          </p:nvSpPr>
          <p:spPr>
            <a:xfrm>
              <a:off x="2174760" y="28866960"/>
              <a:ext cx="685800" cy="2260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432" h="1424">
                  <a:moveTo>
                    <a:pt x="404" y="26"/>
                  </a:moveTo>
                  <a:lnTo>
                    <a:pt x="404" y="26"/>
                  </a:lnTo>
                  <a:lnTo>
                    <a:pt x="392" y="14"/>
                  </a:lnTo>
                  <a:lnTo>
                    <a:pt x="378" y="6"/>
                  </a:lnTo>
                  <a:lnTo>
                    <a:pt x="364" y="2"/>
                  </a:lnTo>
                  <a:lnTo>
                    <a:pt x="34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6" y="6"/>
                  </a:lnTo>
                  <a:lnTo>
                    <a:pt x="32" y="1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0" y="38"/>
                  </a:lnTo>
                  <a:lnTo>
                    <a:pt x="4" y="52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38"/>
                  </a:lnTo>
                  <a:lnTo>
                    <a:pt x="6" y="214"/>
                  </a:lnTo>
                  <a:lnTo>
                    <a:pt x="10" y="416"/>
                  </a:lnTo>
                  <a:lnTo>
                    <a:pt x="12" y="662"/>
                  </a:lnTo>
                  <a:lnTo>
                    <a:pt x="14" y="916"/>
                  </a:lnTo>
                  <a:lnTo>
                    <a:pt x="14" y="916"/>
                  </a:lnTo>
                  <a:lnTo>
                    <a:pt x="12" y="1096"/>
                  </a:lnTo>
                  <a:lnTo>
                    <a:pt x="12" y="1220"/>
                  </a:lnTo>
                  <a:lnTo>
                    <a:pt x="10" y="1298"/>
                  </a:lnTo>
                  <a:lnTo>
                    <a:pt x="8" y="1340"/>
                  </a:lnTo>
                  <a:lnTo>
                    <a:pt x="8" y="1340"/>
                  </a:lnTo>
                  <a:lnTo>
                    <a:pt x="8" y="1356"/>
                  </a:lnTo>
                  <a:lnTo>
                    <a:pt x="12" y="1372"/>
                  </a:lnTo>
                  <a:lnTo>
                    <a:pt x="18" y="1386"/>
                  </a:lnTo>
                  <a:lnTo>
                    <a:pt x="28" y="1398"/>
                  </a:lnTo>
                  <a:lnTo>
                    <a:pt x="28" y="1398"/>
                  </a:lnTo>
                  <a:lnTo>
                    <a:pt x="40" y="1410"/>
                  </a:lnTo>
                  <a:lnTo>
                    <a:pt x="54" y="1418"/>
                  </a:lnTo>
                  <a:lnTo>
                    <a:pt x="70" y="1422"/>
                  </a:lnTo>
                  <a:lnTo>
                    <a:pt x="86" y="1424"/>
                  </a:lnTo>
                  <a:lnTo>
                    <a:pt x="86" y="1424"/>
                  </a:lnTo>
                  <a:lnTo>
                    <a:pt x="86" y="1424"/>
                  </a:lnTo>
                  <a:lnTo>
                    <a:pt x="354" y="1422"/>
                  </a:lnTo>
                  <a:lnTo>
                    <a:pt x="354" y="1422"/>
                  </a:lnTo>
                  <a:lnTo>
                    <a:pt x="370" y="1420"/>
                  </a:lnTo>
                  <a:lnTo>
                    <a:pt x="386" y="1416"/>
                  </a:lnTo>
                  <a:lnTo>
                    <a:pt x="400" y="1408"/>
                  </a:lnTo>
                  <a:lnTo>
                    <a:pt x="412" y="1396"/>
                  </a:lnTo>
                  <a:lnTo>
                    <a:pt x="412" y="1396"/>
                  </a:lnTo>
                  <a:lnTo>
                    <a:pt x="420" y="1384"/>
                  </a:lnTo>
                  <a:lnTo>
                    <a:pt x="428" y="1368"/>
                  </a:lnTo>
                  <a:lnTo>
                    <a:pt x="430" y="1352"/>
                  </a:lnTo>
                  <a:lnTo>
                    <a:pt x="432" y="1336"/>
                  </a:lnTo>
                  <a:lnTo>
                    <a:pt x="432" y="1336"/>
                  </a:lnTo>
                  <a:lnTo>
                    <a:pt x="428" y="1290"/>
                  </a:lnTo>
                  <a:lnTo>
                    <a:pt x="426" y="1224"/>
                  </a:lnTo>
                  <a:lnTo>
                    <a:pt x="420" y="1040"/>
                  </a:lnTo>
                  <a:lnTo>
                    <a:pt x="418" y="810"/>
                  </a:lnTo>
                  <a:lnTo>
                    <a:pt x="416" y="560"/>
                  </a:lnTo>
                  <a:lnTo>
                    <a:pt x="416" y="560"/>
                  </a:lnTo>
                  <a:lnTo>
                    <a:pt x="416" y="398"/>
                  </a:lnTo>
                  <a:lnTo>
                    <a:pt x="418" y="260"/>
                  </a:lnTo>
                  <a:lnTo>
                    <a:pt x="422" y="154"/>
                  </a:lnTo>
                  <a:lnTo>
                    <a:pt x="424" y="86"/>
                  </a:lnTo>
                  <a:lnTo>
                    <a:pt x="424" y="86"/>
                  </a:lnTo>
                  <a:lnTo>
                    <a:pt x="424" y="68"/>
                  </a:lnTo>
                  <a:lnTo>
                    <a:pt x="422" y="54"/>
                  </a:lnTo>
                  <a:lnTo>
                    <a:pt x="414" y="38"/>
                  </a:lnTo>
                  <a:lnTo>
                    <a:pt x="404" y="26"/>
                  </a:lnTo>
                  <a:lnTo>
                    <a:pt x="40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73"/>
            <p:cNvSpPr/>
            <p:nvPr/>
          </p:nvSpPr>
          <p:spPr>
            <a:xfrm>
              <a:off x="1285920" y="31775400"/>
              <a:ext cx="2921040" cy="247320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473200"/>
                <a:gd name="textAreaBottom" fmla="*/ 2473560 h 2473200"/>
              </a:gdLst>
              <a:ahLst/>
              <a:rect l="textAreaLeft" t="textAreaTop" r="textAreaRight" b="textAreaBottom"/>
              <a:pathLst>
                <a:path w="1840" h="1558">
                  <a:moveTo>
                    <a:pt x="1796" y="292"/>
                  </a:moveTo>
                  <a:lnTo>
                    <a:pt x="1796" y="292"/>
                  </a:lnTo>
                  <a:lnTo>
                    <a:pt x="1762" y="238"/>
                  </a:lnTo>
                  <a:lnTo>
                    <a:pt x="1728" y="182"/>
                  </a:lnTo>
                  <a:lnTo>
                    <a:pt x="1692" y="120"/>
                  </a:lnTo>
                  <a:lnTo>
                    <a:pt x="1656" y="44"/>
                  </a:lnTo>
                  <a:lnTo>
                    <a:pt x="1656" y="44"/>
                  </a:lnTo>
                  <a:lnTo>
                    <a:pt x="1650" y="36"/>
                  </a:lnTo>
                  <a:lnTo>
                    <a:pt x="1644" y="28"/>
                  </a:lnTo>
                  <a:lnTo>
                    <a:pt x="1638" y="20"/>
                  </a:lnTo>
                  <a:lnTo>
                    <a:pt x="1630" y="14"/>
                  </a:lnTo>
                  <a:lnTo>
                    <a:pt x="1622" y="8"/>
                  </a:lnTo>
                  <a:lnTo>
                    <a:pt x="1612" y="4"/>
                  </a:lnTo>
                  <a:lnTo>
                    <a:pt x="1602" y="2"/>
                  </a:lnTo>
                  <a:lnTo>
                    <a:pt x="1592" y="0"/>
                  </a:lnTo>
                  <a:lnTo>
                    <a:pt x="1592" y="0"/>
                  </a:lnTo>
                  <a:lnTo>
                    <a:pt x="1582" y="0"/>
                  </a:lnTo>
                  <a:lnTo>
                    <a:pt x="1572" y="0"/>
                  </a:lnTo>
                  <a:lnTo>
                    <a:pt x="1562" y="4"/>
                  </a:lnTo>
                  <a:lnTo>
                    <a:pt x="1552" y="6"/>
                  </a:lnTo>
                  <a:lnTo>
                    <a:pt x="1542" y="12"/>
                  </a:lnTo>
                  <a:lnTo>
                    <a:pt x="1534" y="18"/>
                  </a:lnTo>
                  <a:lnTo>
                    <a:pt x="1528" y="24"/>
                  </a:lnTo>
                  <a:lnTo>
                    <a:pt x="1520" y="32"/>
                  </a:lnTo>
                  <a:lnTo>
                    <a:pt x="1520" y="32"/>
                  </a:lnTo>
                  <a:lnTo>
                    <a:pt x="1462" y="114"/>
                  </a:lnTo>
                  <a:lnTo>
                    <a:pt x="1396" y="194"/>
                  </a:lnTo>
                  <a:lnTo>
                    <a:pt x="1324" y="276"/>
                  </a:lnTo>
                  <a:lnTo>
                    <a:pt x="1248" y="356"/>
                  </a:lnTo>
                  <a:lnTo>
                    <a:pt x="1166" y="436"/>
                  </a:lnTo>
                  <a:lnTo>
                    <a:pt x="1080" y="514"/>
                  </a:lnTo>
                  <a:lnTo>
                    <a:pt x="990" y="588"/>
                  </a:lnTo>
                  <a:lnTo>
                    <a:pt x="896" y="660"/>
                  </a:lnTo>
                  <a:lnTo>
                    <a:pt x="850" y="694"/>
                  </a:lnTo>
                  <a:lnTo>
                    <a:pt x="802" y="726"/>
                  </a:lnTo>
                  <a:lnTo>
                    <a:pt x="752" y="758"/>
                  </a:lnTo>
                  <a:lnTo>
                    <a:pt x="702" y="790"/>
                  </a:lnTo>
                  <a:lnTo>
                    <a:pt x="654" y="820"/>
                  </a:lnTo>
                  <a:lnTo>
                    <a:pt x="602" y="848"/>
                  </a:lnTo>
                  <a:lnTo>
                    <a:pt x="552" y="874"/>
                  </a:lnTo>
                  <a:lnTo>
                    <a:pt x="502" y="900"/>
                  </a:lnTo>
                  <a:lnTo>
                    <a:pt x="450" y="924"/>
                  </a:lnTo>
                  <a:lnTo>
                    <a:pt x="400" y="944"/>
                  </a:lnTo>
                  <a:lnTo>
                    <a:pt x="348" y="964"/>
                  </a:lnTo>
                  <a:lnTo>
                    <a:pt x="296" y="984"/>
                  </a:lnTo>
                  <a:lnTo>
                    <a:pt x="244" y="1000"/>
                  </a:lnTo>
                  <a:lnTo>
                    <a:pt x="194" y="1014"/>
                  </a:lnTo>
                  <a:lnTo>
                    <a:pt x="142" y="1026"/>
                  </a:lnTo>
                  <a:lnTo>
                    <a:pt x="92" y="1036"/>
                  </a:lnTo>
                  <a:lnTo>
                    <a:pt x="92" y="1036"/>
                  </a:lnTo>
                  <a:lnTo>
                    <a:pt x="90" y="1036"/>
                  </a:lnTo>
                  <a:lnTo>
                    <a:pt x="90" y="1036"/>
                  </a:lnTo>
                  <a:lnTo>
                    <a:pt x="64" y="1042"/>
                  </a:lnTo>
                  <a:lnTo>
                    <a:pt x="46" y="1050"/>
                  </a:lnTo>
                  <a:lnTo>
                    <a:pt x="46" y="1050"/>
                  </a:lnTo>
                  <a:lnTo>
                    <a:pt x="34" y="1058"/>
                  </a:lnTo>
                  <a:lnTo>
                    <a:pt x="26" y="1064"/>
                  </a:lnTo>
                  <a:lnTo>
                    <a:pt x="18" y="1072"/>
                  </a:lnTo>
                  <a:lnTo>
                    <a:pt x="10" y="1084"/>
                  </a:lnTo>
                  <a:lnTo>
                    <a:pt x="4" y="1096"/>
                  </a:lnTo>
                  <a:lnTo>
                    <a:pt x="0" y="1112"/>
                  </a:lnTo>
                  <a:lnTo>
                    <a:pt x="0" y="1130"/>
                  </a:lnTo>
                  <a:lnTo>
                    <a:pt x="0" y="1130"/>
                  </a:lnTo>
                  <a:lnTo>
                    <a:pt x="0" y="1146"/>
                  </a:lnTo>
                  <a:lnTo>
                    <a:pt x="4" y="1162"/>
                  </a:lnTo>
                  <a:lnTo>
                    <a:pt x="10" y="1178"/>
                  </a:lnTo>
                  <a:lnTo>
                    <a:pt x="18" y="1196"/>
                  </a:lnTo>
                  <a:lnTo>
                    <a:pt x="18" y="1196"/>
                  </a:lnTo>
                  <a:lnTo>
                    <a:pt x="22" y="1204"/>
                  </a:lnTo>
                  <a:lnTo>
                    <a:pt x="22" y="1204"/>
                  </a:lnTo>
                  <a:lnTo>
                    <a:pt x="42" y="1238"/>
                  </a:lnTo>
                  <a:lnTo>
                    <a:pt x="66" y="1276"/>
                  </a:lnTo>
                  <a:lnTo>
                    <a:pt x="118" y="1356"/>
                  </a:lnTo>
                  <a:lnTo>
                    <a:pt x="170" y="1428"/>
                  </a:lnTo>
                  <a:lnTo>
                    <a:pt x="212" y="1486"/>
                  </a:lnTo>
                  <a:lnTo>
                    <a:pt x="212" y="1486"/>
                  </a:lnTo>
                  <a:lnTo>
                    <a:pt x="224" y="1502"/>
                  </a:lnTo>
                  <a:lnTo>
                    <a:pt x="236" y="1518"/>
                  </a:lnTo>
                  <a:lnTo>
                    <a:pt x="250" y="1530"/>
                  </a:lnTo>
                  <a:lnTo>
                    <a:pt x="264" y="1540"/>
                  </a:lnTo>
                  <a:lnTo>
                    <a:pt x="278" y="1548"/>
                  </a:lnTo>
                  <a:lnTo>
                    <a:pt x="294" y="1552"/>
                  </a:lnTo>
                  <a:lnTo>
                    <a:pt x="310" y="1556"/>
                  </a:lnTo>
                  <a:lnTo>
                    <a:pt x="326" y="1558"/>
                  </a:lnTo>
                  <a:lnTo>
                    <a:pt x="326" y="1558"/>
                  </a:lnTo>
                  <a:lnTo>
                    <a:pt x="334" y="1556"/>
                  </a:lnTo>
                  <a:lnTo>
                    <a:pt x="346" y="1554"/>
                  </a:lnTo>
                  <a:lnTo>
                    <a:pt x="362" y="1550"/>
                  </a:lnTo>
                  <a:lnTo>
                    <a:pt x="378" y="1544"/>
                  </a:lnTo>
                  <a:lnTo>
                    <a:pt x="394" y="1532"/>
                  </a:lnTo>
                  <a:lnTo>
                    <a:pt x="410" y="1516"/>
                  </a:lnTo>
                  <a:lnTo>
                    <a:pt x="418" y="1506"/>
                  </a:lnTo>
                  <a:lnTo>
                    <a:pt x="426" y="1494"/>
                  </a:lnTo>
                  <a:lnTo>
                    <a:pt x="432" y="1482"/>
                  </a:lnTo>
                  <a:lnTo>
                    <a:pt x="438" y="1466"/>
                  </a:lnTo>
                  <a:lnTo>
                    <a:pt x="438" y="1466"/>
                  </a:lnTo>
                  <a:lnTo>
                    <a:pt x="462" y="1458"/>
                  </a:lnTo>
                  <a:lnTo>
                    <a:pt x="462" y="1458"/>
                  </a:lnTo>
                  <a:lnTo>
                    <a:pt x="508" y="1440"/>
                  </a:lnTo>
                  <a:lnTo>
                    <a:pt x="508" y="1440"/>
                  </a:lnTo>
                  <a:lnTo>
                    <a:pt x="596" y="1402"/>
                  </a:lnTo>
                  <a:lnTo>
                    <a:pt x="686" y="1360"/>
                  </a:lnTo>
                  <a:lnTo>
                    <a:pt x="774" y="1314"/>
                  </a:lnTo>
                  <a:lnTo>
                    <a:pt x="862" y="1264"/>
                  </a:lnTo>
                  <a:lnTo>
                    <a:pt x="950" y="1210"/>
                  </a:lnTo>
                  <a:lnTo>
                    <a:pt x="1038" y="1154"/>
                  </a:lnTo>
                  <a:lnTo>
                    <a:pt x="1124" y="1092"/>
                  </a:lnTo>
                  <a:lnTo>
                    <a:pt x="1210" y="1030"/>
                  </a:lnTo>
                  <a:lnTo>
                    <a:pt x="1294" y="964"/>
                  </a:lnTo>
                  <a:lnTo>
                    <a:pt x="1376" y="894"/>
                  </a:lnTo>
                  <a:lnTo>
                    <a:pt x="1456" y="822"/>
                  </a:lnTo>
                  <a:lnTo>
                    <a:pt x="1534" y="748"/>
                  </a:lnTo>
                  <a:lnTo>
                    <a:pt x="1610" y="672"/>
                  </a:lnTo>
                  <a:lnTo>
                    <a:pt x="1684" y="594"/>
                  </a:lnTo>
                  <a:lnTo>
                    <a:pt x="1756" y="514"/>
                  </a:lnTo>
                  <a:lnTo>
                    <a:pt x="1822" y="432"/>
                  </a:lnTo>
                  <a:lnTo>
                    <a:pt x="1822" y="432"/>
                  </a:lnTo>
                  <a:lnTo>
                    <a:pt x="1830" y="422"/>
                  </a:lnTo>
                  <a:lnTo>
                    <a:pt x="1834" y="410"/>
                  </a:lnTo>
                  <a:lnTo>
                    <a:pt x="1838" y="400"/>
                  </a:lnTo>
                  <a:lnTo>
                    <a:pt x="1840" y="388"/>
                  </a:lnTo>
                  <a:lnTo>
                    <a:pt x="1840" y="376"/>
                  </a:lnTo>
                  <a:lnTo>
                    <a:pt x="1838" y="364"/>
                  </a:lnTo>
                  <a:lnTo>
                    <a:pt x="1834" y="352"/>
                  </a:lnTo>
                  <a:lnTo>
                    <a:pt x="1828" y="342"/>
                  </a:lnTo>
                  <a:lnTo>
                    <a:pt x="1828" y="342"/>
                  </a:lnTo>
                  <a:lnTo>
                    <a:pt x="1796" y="292"/>
                  </a:lnTo>
                  <a:lnTo>
                    <a:pt x="1796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74"/>
            <p:cNvSpPr/>
            <p:nvPr/>
          </p:nvSpPr>
          <p:spPr>
            <a:xfrm>
              <a:off x="1209600" y="31311720"/>
              <a:ext cx="1476360" cy="127620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930" h="804">
                  <a:moveTo>
                    <a:pt x="648" y="804"/>
                  </a:moveTo>
                  <a:lnTo>
                    <a:pt x="648" y="804"/>
                  </a:lnTo>
                  <a:lnTo>
                    <a:pt x="654" y="804"/>
                  </a:lnTo>
                  <a:lnTo>
                    <a:pt x="654" y="804"/>
                  </a:lnTo>
                  <a:lnTo>
                    <a:pt x="672" y="800"/>
                  </a:lnTo>
                  <a:lnTo>
                    <a:pt x="688" y="792"/>
                  </a:lnTo>
                  <a:lnTo>
                    <a:pt x="700" y="782"/>
                  </a:lnTo>
                  <a:lnTo>
                    <a:pt x="712" y="770"/>
                  </a:lnTo>
                  <a:lnTo>
                    <a:pt x="916" y="472"/>
                  </a:lnTo>
                  <a:lnTo>
                    <a:pt x="916" y="472"/>
                  </a:lnTo>
                  <a:lnTo>
                    <a:pt x="924" y="460"/>
                  </a:lnTo>
                  <a:lnTo>
                    <a:pt x="928" y="446"/>
                  </a:lnTo>
                  <a:lnTo>
                    <a:pt x="930" y="432"/>
                  </a:lnTo>
                  <a:lnTo>
                    <a:pt x="928" y="418"/>
                  </a:lnTo>
                  <a:lnTo>
                    <a:pt x="926" y="404"/>
                  </a:lnTo>
                  <a:lnTo>
                    <a:pt x="920" y="390"/>
                  </a:lnTo>
                  <a:lnTo>
                    <a:pt x="912" y="378"/>
                  </a:lnTo>
                  <a:lnTo>
                    <a:pt x="902" y="368"/>
                  </a:lnTo>
                  <a:lnTo>
                    <a:pt x="902" y="368"/>
                  </a:lnTo>
                  <a:lnTo>
                    <a:pt x="852" y="328"/>
                  </a:lnTo>
                  <a:lnTo>
                    <a:pt x="796" y="288"/>
                  </a:lnTo>
                  <a:lnTo>
                    <a:pt x="734" y="246"/>
                  </a:lnTo>
                  <a:lnTo>
                    <a:pt x="662" y="202"/>
                  </a:lnTo>
                  <a:lnTo>
                    <a:pt x="584" y="158"/>
                  </a:lnTo>
                  <a:lnTo>
                    <a:pt x="498" y="110"/>
                  </a:lnTo>
                  <a:lnTo>
                    <a:pt x="406" y="60"/>
                  </a:lnTo>
                  <a:lnTo>
                    <a:pt x="304" y="8"/>
                  </a:lnTo>
                  <a:lnTo>
                    <a:pt x="304" y="8"/>
                  </a:lnTo>
                  <a:lnTo>
                    <a:pt x="292" y="4"/>
                  </a:lnTo>
                  <a:lnTo>
                    <a:pt x="278" y="0"/>
                  </a:lnTo>
                  <a:lnTo>
                    <a:pt x="264" y="0"/>
                  </a:lnTo>
                  <a:lnTo>
                    <a:pt x="252" y="2"/>
                  </a:lnTo>
                  <a:lnTo>
                    <a:pt x="238" y="6"/>
                  </a:lnTo>
                  <a:lnTo>
                    <a:pt x="226" y="14"/>
                  </a:lnTo>
                  <a:lnTo>
                    <a:pt x="216" y="22"/>
                  </a:lnTo>
                  <a:lnTo>
                    <a:pt x="206" y="32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6" y="304"/>
                  </a:lnTo>
                  <a:lnTo>
                    <a:pt x="2" y="320"/>
                  </a:lnTo>
                  <a:lnTo>
                    <a:pt x="0" y="338"/>
                  </a:lnTo>
                  <a:lnTo>
                    <a:pt x="2" y="354"/>
                  </a:lnTo>
                  <a:lnTo>
                    <a:pt x="2" y="354"/>
                  </a:lnTo>
                  <a:lnTo>
                    <a:pt x="8" y="370"/>
                  </a:lnTo>
                  <a:lnTo>
                    <a:pt x="16" y="386"/>
                  </a:lnTo>
                  <a:lnTo>
                    <a:pt x="28" y="398"/>
                  </a:lnTo>
                  <a:lnTo>
                    <a:pt x="42" y="406"/>
                  </a:lnTo>
                  <a:lnTo>
                    <a:pt x="42" y="406"/>
                  </a:lnTo>
                  <a:lnTo>
                    <a:pt x="98" y="434"/>
                  </a:lnTo>
                  <a:lnTo>
                    <a:pt x="160" y="468"/>
                  </a:lnTo>
                  <a:lnTo>
                    <a:pt x="228" y="508"/>
                  </a:lnTo>
                  <a:lnTo>
                    <a:pt x="302" y="554"/>
                  </a:lnTo>
                  <a:lnTo>
                    <a:pt x="376" y="604"/>
                  </a:lnTo>
                  <a:lnTo>
                    <a:pt x="452" y="658"/>
                  </a:lnTo>
                  <a:lnTo>
                    <a:pt x="488" y="688"/>
                  </a:lnTo>
                  <a:lnTo>
                    <a:pt x="524" y="718"/>
                  </a:lnTo>
                  <a:lnTo>
                    <a:pt x="558" y="748"/>
                  </a:lnTo>
                  <a:lnTo>
                    <a:pt x="592" y="780"/>
                  </a:lnTo>
                  <a:lnTo>
                    <a:pt x="592" y="780"/>
                  </a:lnTo>
                  <a:lnTo>
                    <a:pt x="604" y="790"/>
                  </a:lnTo>
                  <a:lnTo>
                    <a:pt x="618" y="798"/>
                  </a:lnTo>
                  <a:lnTo>
                    <a:pt x="632" y="802"/>
                  </a:lnTo>
                  <a:lnTo>
                    <a:pt x="648" y="804"/>
                  </a:lnTo>
                  <a:lnTo>
                    <a:pt x="648" y="8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4683240" y="15077880"/>
              <a:ext cx="3444840" cy="359064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3590640"/>
                <a:gd name="textAreaBottom" fmla="*/ 3591000 h 3590640"/>
              </a:gdLst>
              <a:ahLst/>
              <a:rect l="textAreaLeft" t="textAreaTop" r="textAreaRight" b="textAreaBottom"/>
              <a:pathLst>
                <a:path w="2170" h="2262">
                  <a:moveTo>
                    <a:pt x="2092" y="304"/>
                  </a:moveTo>
                  <a:lnTo>
                    <a:pt x="970" y="130"/>
                  </a:lnTo>
                  <a:lnTo>
                    <a:pt x="970" y="130"/>
                  </a:lnTo>
                  <a:lnTo>
                    <a:pt x="958" y="130"/>
                  </a:lnTo>
                  <a:lnTo>
                    <a:pt x="948" y="130"/>
                  </a:lnTo>
                  <a:lnTo>
                    <a:pt x="948" y="130"/>
                  </a:lnTo>
                  <a:lnTo>
                    <a:pt x="936" y="120"/>
                  </a:lnTo>
                  <a:lnTo>
                    <a:pt x="924" y="112"/>
                  </a:lnTo>
                  <a:lnTo>
                    <a:pt x="908" y="102"/>
                  </a:lnTo>
                  <a:lnTo>
                    <a:pt x="892" y="96"/>
                  </a:lnTo>
                  <a:lnTo>
                    <a:pt x="892" y="96"/>
                  </a:lnTo>
                  <a:lnTo>
                    <a:pt x="834" y="74"/>
                  </a:lnTo>
                  <a:lnTo>
                    <a:pt x="778" y="54"/>
                  </a:lnTo>
                  <a:lnTo>
                    <a:pt x="720" y="34"/>
                  </a:lnTo>
                  <a:lnTo>
                    <a:pt x="658" y="16"/>
                  </a:lnTo>
                  <a:lnTo>
                    <a:pt x="658" y="16"/>
                  </a:lnTo>
                  <a:lnTo>
                    <a:pt x="656" y="14"/>
                  </a:lnTo>
                  <a:lnTo>
                    <a:pt x="656" y="14"/>
                  </a:lnTo>
                  <a:lnTo>
                    <a:pt x="640" y="8"/>
                  </a:lnTo>
                  <a:lnTo>
                    <a:pt x="628" y="4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00" y="0"/>
                  </a:lnTo>
                  <a:lnTo>
                    <a:pt x="600" y="0"/>
                  </a:lnTo>
                  <a:lnTo>
                    <a:pt x="584" y="0"/>
                  </a:lnTo>
                  <a:lnTo>
                    <a:pt x="572" y="2"/>
                  </a:lnTo>
                  <a:lnTo>
                    <a:pt x="560" y="6"/>
                  </a:lnTo>
                  <a:lnTo>
                    <a:pt x="550" y="12"/>
                  </a:lnTo>
                  <a:lnTo>
                    <a:pt x="540" y="18"/>
                  </a:lnTo>
                  <a:lnTo>
                    <a:pt x="532" y="24"/>
                  </a:lnTo>
                  <a:lnTo>
                    <a:pt x="518" y="40"/>
                  </a:lnTo>
                  <a:lnTo>
                    <a:pt x="508" y="58"/>
                  </a:lnTo>
                  <a:lnTo>
                    <a:pt x="500" y="76"/>
                  </a:lnTo>
                  <a:lnTo>
                    <a:pt x="490" y="106"/>
                  </a:lnTo>
                  <a:lnTo>
                    <a:pt x="488" y="114"/>
                  </a:lnTo>
                  <a:lnTo>
                    <a:pt x="488" y="114"/>
                  </a:lnTo>
                  <a:lnTo>
                    <a:pt x="480" y="134"/>
                  </a:lnTo>
                  <a:lnTo>
                    <a:pt x="462" y="162"/>
                  </a:lnTo>
                  <a:lnTo>
                    <a:pt x="434" y="198"/>
                  </a:lnTo>
                  <a:lnTo>
                    <a:pt x="396" y="238"/>
                  </a:lnTo>
                  <a:lnTo>
                    <a:pt x="374" y="260"/>
                  </a:lnTo>
                  <a:lnTo>
                    <a:pt x="348" y="284"/>
                  </a:lnTo>
                  <a:lnTo>
                    <a:pt x="320" y="308"/>
                  </a:lnTo>
                  <a:lnTo>
                    <a:pt x="288" y="332"/>
                  </a:lnTo>
                  <a:lnTo>
                    <a:pt x="254" y="356"/>
                  </a:lnTo>
                  <a:lnTo>
                    <a:pt x="218" y="380"/>
                  </a:lnTo>
                  <a:lnTo>
                    <a:pt x="178" y="404"/>
                  </a:lnTo>
                  <a:lnTo>
                    <a:pt x="134" y="430"/>
                  </a:lnTo>
                  <a:lnTo>
                    <a:pt x="134" y="430"/>
                  </a:lnTo>
                  <a:lnTo>
                    <a:pt x="120" y="438"/>
                  </a:lnTo>
                  <a:lnTo>
                    <a:pt x="108" y="452"/>
                  </a:lnTo>
                  <a:lnTo>
                    <a:pt x="98" y="466"/>
                  </a:lnTo>
                  <a:lnTo>
                    <a:pt x="90" y="480"/>
                  </a:lnTo>
                  <a:lnTo>
                    <a:pt x="86" y="498"/>
                  </a:lnTo>
                  <a:lnTo>
                    <a:pt x="86" y="514"/>
                  </a:lnTo>
                  <a:lnTo>
                    <a:pt x="88" y="532"/>
                  </a:lnTo>
                  <a:lnTo>
                    <a:pt x="94" y="548"/>
                  </a:lnTo>
                  <a:lnTo>
                    <a:pt x="94" y="548"/>
                  </a:lnTo>
                  <a:lnTo>
                    <a:pt x="104" y="570"/>
                  </a:lnTo>
                  <a:lnTo>
                    <a:pt x="112" y="592"/>
                  </a:lnTo>
                  <a:lnTo>
                    <a:pt x="124" y="636"/>
                  </a:lnTo>
                  <a:lnTo>
                    <a:pt x="134" y="680"/>
                  </a:lnTo>
                  <a:lnTo>
                    <a:pt x="142" y="720"/>
                  </a:lnTo>
                  <a:lnTo>
                    <a:pt x="146" y="756"/>
                  </a:lnTo>
                  <a:lnTo>
                    <a:pt x="148" y="784"/>
                  </a:lnTo>
                  <a:lnTo>
                    <a:pt x="150" y="810"/>
                  </a:lnTo>
                  <a:lnTo>
                    <a:pt x="150" y="810"/>
                  </a:lnTo>
                  <a:lnTo>
                    <a:pt x="150" y="822"/>
                  </a:lnTo>
                  <a:lnTo>
                    <a:pt x="154" y="834"/>
                  </a:lnTo>
                  <a:lnTo>
                    <a:pt x="158" y="844"/>
                  </a:lnTo>
                  <a:lnTo>
                    <a:pt x="162" y="856"/>
                  </a:lnTo>
                  <a:lnTo>
                    <a:pt x="170" y="866"/>
                  </a:lnTo>
                  <a:lnTo>
                    <a:pt x="178" y="874"/>
                  </a:lnTo>
                  <a:lnTo>
                    <a:pt x="186" y="882"/>
                  </a:lnTo>
                  <a:lnTo>
                    <a:pt x="198" y="888"/>
                  </a:lnTo>
                  <a:lnTo>
                    <a:pt x="198" y="888"/>
                  </a:lnTo>
                  <a:lnTo>
                    <a:pt x="202" y="890"/>
                  </a:lnTo>
                  <a:lnTo>
                    <a:pt x="202" y="890"/>
                  </a:lnTo>
                  <a:lnTo>
                    <a:pt x="168" y="914"/>
                  </a:lnTo>
                  <a:lnTo>
                    <a:pt x="132" y="936"/>
                  </a:lnTo>
                  <a:lnTo>
                    <a:pt x="92" y="958"/>
                  </a:lnTo>
                  <a:lnTo>
                    <a:pt x="52" y="980"/>
                  </a:lnTo>
                  <a:lnTo>
                    <a:pt x="52" y="980"/>
                  </a:lnTo>
                  <a:lnTo>
                    <a:pt x="36" y="990"/>
                  </a:lnTo>
                  <a:lnTo>
                    <a:pt x="24" y="1002"/>
                  </a:lnTo>
                  <a:lnTo>
                    <a:pt x="14" y="1014"/>
                  </a:lnTo>
                  <a:lnTo>
                    <a:pt x="6" y="1030"/>
                  </a:lnTo>
                  <a:lnTo>
                    <a:pt x="2" y="1046"/>
                  </a:lnTo>
                  <a:lnTo>
                    <a:pt x="0" y="1062"/>
                  </a:lnTo>
                  <a:lnTo>
                    <a:pt x="2" y="1080"/>
                  </a:lnTo>
                  <a:lnTo>
                    <a:pt x="8" y="1096"/>
                  </a:lnTo>
                  <a:lnTo>
                    <a:pt x="8" y="1096"/>
                  </a:lnTo>
                  <a:lnTo>
                    <a:pt x="16" y="1118"/>
                  </a:lnTo>
                  <a:lnTo>
                    <a:pt x="22" y="1142"/>
                  </a:lnTo>
                  <a:lnTo>
                    <a:pt x="34" y="1188"/>
                  </a:lnTo>
                  <a:lnTo>
                    <a:pt x="42" y="1234"/>
                  </a:lnTo>
                  <a:lnTo>
                    <a:pt x="48" y="1276"/>
                  </a:lnTo>
                  <a:lnTo>
                    <a:pt x="50" y="1314"/>
                  </a:lnTo>
                  <a:lnTo>
                    <a:pt x="52" y="1344"/>
                  </a:lnTo>
                  <a:lnTo>
                    <a:pt x="52" y="1372"/>
                  </a:lnTo>
                  <a:lnTo>
                    <a:pt x="52" y="1372"/>
                  </a:lnTo>
                  <a:lnTo>
                    <a:pt x="52" y="1384"/>
                  </a:lnTo>
                  <a:lnTo>
                    <a:pt x="54" y="1396"/>
                  </a:lnTo>
                  <a:lnTo>
                    <a:pt x="58" y="1406"/>
                  </a:lnTo>
                  <a:lnTo>
                    <a:pt x="64" y="1418"/>
                  </a:lnTo>
                  <a:lnTo>
                    <a:pt x="70" y="1428"/>
                  </a:lnTo>
                  <a:lnTo>
                    <a:pt x="78" y="1438"/>
                  </a:lnTo>
                  <a:lnTo>
                    <a:pt x="86" y="1446"/>
                  </a:lnTo>
                  <a:lnTo>
                    <a:pt x="96" y="1452"/>
                  </a:lnTo>
                  <a:lnTo>
                    <a:pt x="96" y="1452"/>
                  </a:lnTo>
                  <a:lnTo>
                    <a:pt x="108" y="1458"/>
                  </a:lnTo>
                  <a:lnTo>
                    <a:pt x="118" y="1462"/>
                  </a:lnTo>
                  <a:lnTo>
                    <a:pt x="130" y="1464"/>
                  </a:lnTo>
                  <a:lnTo>
                    <a:pt x="142" y="1464"/>
                  </a:lnTo>
                  <a:lnTo>
                    <a:pt x="154" y="1464"/>
                  </a:lnTo>
                  <a:lnTo>
                    <a:pt x="166" y="1462"/>
                  </a:lnTo>
                  <a:lnTo>
                    <a:pt x="178" y="1458"/>
                  </a:lnTo>
                  <a:lnTo>
                    <a:pt x="188" y="1454"/>
                  </a:lnTo>
                  <a:lnTo>
                    <a:pt x="188" y="1454"/>
                  </a:lnTo>
                  <a:lnTo>
                    <a:pt x="144" y="1718"/>
                  </a:lnTo>
                  <a:lnTo>
                    <a:pt x="122" y="1850"/>
                  </a:lnTo>
                  <a:lnTo>
                    <a:pt x="98" y="1970"/>
                  </a:lnTo>
                  <a:lnTo>
                    <a:pt x="98" y="1970"/>
                  </a:lnTo>
                  <a:lnTo>
                    <a:pt x="96" y="1988"/>
                  </a:lnTo>
                  <a:lnTo>
                    <a:pt x="98" y="2008"/>
                  </a:lnTo>
                  <a:lnTo>
                    <a:pt x="104" y="2024"/>
                  </a:lnTo>
                  <a:lnTo>
                    <a:pt x="114" y="2040"/>
                  </a:lnTo>
                  <a:lnTo>
                    <a:pt x="114" y="2040"/>
                  </a:lnTo>
                  <a:lnTo>
                    <a:pt x="126" y="2054"/>
                  </a:lnTo>
                  <a:lnTo>
                    <a:pt x="140" y="2066"/>
                  </a:lnTo>
                  <a:lnTo>
                    <a:pt x="156" y="2074"/>
                  </a:lnTo>
                  <a:lnTo>
                    <a:pt x="174" y="2078"/>
                  </a:lnTo>
                  <a:lnTo>
                    <a:pt x="464" y="2124"/>
                  </a:lnTo>
                  <a:lnTo>
                    <a:pt x="464" y="2124"/>
                  </a:lnTo>
                  <a:lnTo>
                    <a:pt x="482" y="2124"/>
                  </a:lnTo>
                  <a:lnTo>
                    <a:pt x="502" y="2122"/>
                  </a:lnTo>
                  <a:lnTo>
                    <a:pt x="518" y="2116"/>
                  </a:lnTo>
                  <a:lnTo>
                    <a:pt x="534" y="2106"/>
                  </a:lnTo>
                  <a:lnTo>
                    <a:pt x="534" y="2106"/>
                  </a:lnTo>
                  <a:lnTo>
                    <a:pt x="548" y="2094"/>
                  </a:lnTo>
                  <a:lnTo>
                    <a:pt x="558" y="2078"/>
                  </a:lnTo>
                  <a:lnTo>
                    <a:pt x="566" y="2062"/>
                  </a:lnTo>
                  <a:lnTo>
                    <a:pt x="570" y="2042"/>
                  </a:lnTo>
                  <a:lnTo>
                    <a:pt x="570" y="2042"/>
                  </a:lnTo>
                  <a:lnTo>
                    <a:pt x="590" y="1882"/>
                  </a:lnTo>
                  <a:lnTo>
                    <a:pt x="614" y="1702"/>
                  </a:lnTo>
                  <a:lnTo>
                    <a:pt x="614" y="1702"/>
                  </a:lnTo>
                  <a:lnTo>
                    <a:pt x="624" y="1716"/>
                  </a:lnTo>
                  <a:lnTo>
                    <a:pt x="634" y="1726"/>
                  </a:lnTo>
                  <a:lnTo>
                    <a:pt x="634" y="1726"/>
                  </a:lnTo>
                  <a:lnTo>
                    <a:pt x="724" y="1808"/>
                  </a:lnTo>
                  <a:lnTo>
                    <a:pt x="806" y="1890"/>
                  </a:lnTo>
                  <a:lnTo>
                    <a:pt x="844" y="1930"/>
                  </a:lnTo>
                  <a:lnTo>
                    <a:pt x="880" y="1970"/>
                  </a:lnTo>
                  <a:lnTo>
                    <a:pt x="916" y="2010"/>
                  </a:lnTo>
                  <a:lnTo>
                    <a:pt x="950" y="2052"/>
                  </a:lnTo>
                  <a:lnTo>
                    <a:pt x="950" y="2052"/>
                  </a:lnTo>
                  <a:lnTo>
                    <a:pt x="962" y="2064"/>
                  </a:lnTo>
                  <a:lnTo>
                    <a:pt x="976" y="2074"/>
                  </a:lnTo>
                  <a:lnTo>
                    <a:pt x="992" y="2082"/>
                  </a:lnTo>
                  <a:lnTo>
                    <a:pt x="1008" y="2086"/>
                  </a:lnTo>
                  <a:lnTo>
                    <a:pt x="1026" y="2086"/>
                  </a:lnTo>
                  <a:lnTo>
                    <a:pt x="1042" y="2084"/>
                  </a:lnTo>
                  <a:lnTo>
                    <a:pt x="1058" y="2078"/>
                  </a:lnTo>
                  <a:lnTo>
                    <a:pt x="1074" y="2070"/>
                  </a:lnTo>
                  <a:lnTo>
                    <a:pt x="1116" y="2042"/>
                  </a:lnTo>
                  <a:lnTo>
                    <a:pt x="1116" y="2042"/>
                  </a:lnTo>
                  <a:lnTo>
                    <a:pt x="1118" y="2108"/>
                  </a:lnTo>
                  <a:lnTo>
                    <a:pt x="1118" y="2136"/>
                  </a:lnTo>
                  <a:lnTo>
                    <a:pt x="1118" y="2136"/>
                  </a:lnTo>
                  <a:lnTo>
                    <a:pt x="1118" y="2152"/>
                  </a:lnTo>
                  <a:lnTo>
                    <a:pt x="1122" y="2168"/>
                  </a:lnTo>
                  <a:lnTo>
                    <a:pt x="1128" y="2182"/>
                  </a:lnTo>
                  <a:lnTo>
                    <a:pt x="1138" y="2196"/>
                  </a:lnTo>
                  <a:lnTo>
                    <a:pt x="1148" y="2208"/>
                  </a:lnTo>
                  <a:lnTo>
                    <a:pt x="1160" y="2216"/>
                  </a:lnTo>
                  <a:lnTo>
                    <a:pt x="1174" y="2224"/>
                  </a:lnTo>
                  <a:lnTo>
                    <a:pt x="1190" y="2230"/>
                  </a:lnTo>
                  <a:lnTo>
                    <a:pt x="1190" y="2230"/>
                  </a:lnTo>
                  <a:lnTo>
                    <a:pt x="1244" y="2240"/>
                  </a:lnTo>
                  <a:lnTo>
                    <a:pt x="1294" y="2248"/>
                  </a:lnTo>
                  <a:lnTo>
                    <a:pt x="1294" y="2248"/>
                  </a:lnTo>
                  <a:lnTo>
                    <a:pt x="1340" y="2254"/>
                  </a:lnTo>
                  <a:lnTo>
                    <a:pt x="1384" y="2258"/>
                  </a:lnTo>
                  <a:lnTo>
                    <a:pt x="1424" y="2262"/>
                  </a:lnTo>
                  <a:lnTo>
                    <a:pt x="1462" y="2262"/>
                  </a:lnTo>
                  <a:lnTo>
                    <a:pt x="1462" y="2262"/>
                  </a:lnTo>
                  <a:lnTo>
                    <a:pt x="1510" y="2260"/>
                  </a:lnTo>
                  <a:lnTo>
                    <a:pt x="1554" y="2254"/>
                  </a:lnTo>
                  <a:lnTo>
                    <a:pt x="1592" y="2246"/>
                  </a:lnTo>
                  <a:lnTo>
                    <a:pt x="1628" y="2234"/>
                  </a:lnTo>
                  <a:lnTo>
                    <a:pt x="1660" y="2218"/>
                  </a:lnTo>
                  <a:lnTo>
                    <a:pt x="1688" y="2202"/>
                  </a:lnTo>
                  <a:lnTo>
                    <a:pt x="1712" y="2182"/>
                  </a:lnTo>
                  <a:lnTo>
                    <a:pt x="1734" y="2160"/>
                  </a:lnTo>
                  <a:lnTo>
                    <a:pt x="1752" y="2136"/>
                  </a:lnTo>
                  <a:lnTo>
                    <a:pt x="1768" y="2110"/>
                  </a:lnTo>
                  <a:lnTo>
                    <a:pt x="1780" y="2082"/>
                  </a:lnTo>
                  <a:lnTo>
                    <a:pt x="1792" y="2054"/>
                  </a:lnTo>
                  <a:lnTo>
                    <a:pt x="1800" y="2024"/>
                  </a:lnTo>
                  <a:lnTo>
                    <a:pt x="1808" y="1996"/>
                  </a:lnTo>
                  <a:lnTo>
                    <a:pt x="1814" y="1964"/>
                  </a:lnTo>
                  <a:lnTo>
                    <a:pt x="1820" y="1934"/>
                  </a:lnTo>
                  <a:lnTo>
                    <a:pt x="1838" y="1818"/>
                  </a:lnTo>
                  <a:lnTo>
                    <a:pt x="1838" y="1818"/>
                  </a:lnTo>
                  <a:lnTo>
                    <a:pt x="1864" y="1822"/>
                  </a:lnTo>
                  <a:lnTo>
                    <a:pt x="1864" y="1822"/>
                  </a:lnTo>
                  <a:lnTo>
                    <a:pt x="1982" y="1842"/>
                  </a:lnTo>
                  <a:lnTo>
                    <a:pt x="1982" y="1842"/>
                  </a:lnTo>
                  <a:lnTo>
                    <a:pt x="2000" y="1844"/>
                  </a:lnTo>
                  <a:lnTo>
                    <a:pt x="2018" y="1842"/>
                  </a:lnTo>
                  <a:lnTo>
                    <a:pt x="2036" y="1836"/>
                  </a:lnTo>
                  <a:lnTo>
                    <a:pt x="2052" y="1826"/>
                  </a:lnTo>
                  <a:lnTo>
                    <a:pt x="2052" y="1826"/>
                  </a:lnTo>
                  <a:lnTo>
                    <a:pt x="2066" y="1814"/>
                  </a:lnTo>
                  <a:lnTo>
                    <a:pt x="2076" y="1800"/>
                  </a:lnTo>
                  <a:lnTo>
                    <a:pt x="2084" y="1784"/>
                  </a:lnTo>
                  <a:lnTo>
                    <a:pt x="2088" y="1766"/>
                  </a:lnTo>
                  <a:lnTo>
                    <a:pt x="2128" y="1510"/>
                  </a:lnTo>
                  <a:lnTo>
                    <a:pt x="2128" y="1510"/>
                  </a:lnTo>
                  <a:lnTo>
                    <a:pt x="2130" y="1490"/>
                  </a:lnTo>
                  <a:lnTo>
                    <a:pt x="2126" y="1472"/>
                  </a:lnTo>
                  <a:lnTo>
                    <a:pt x="2120" y="1456"/>
                  </a:lnTo>
                  <a:lnTo>
                    <a:pt x="2110" y="1440"/>
                  </a:lnTo>
                  <a:lnTo>
                    <a:pt x="2110" y="1440"/>
                  </a:lnTo>
                  <a:lnTo>
                    <a:pt x="2104" y="1432"/>
                  </a:lnTo>
                  <a:lnTo>
                    <a:pt x="2096" y="1424"/>
                  </a:lnTo>
                  <a:lnTo>
                    <a:pt x="2086" y="1418"/>
                  </a:lnTo>
                  <a:lnTo>
                    <a:pt x="2076" y="1412"/>
                  </a:lnTo>
                  <a:lnTo>
                    <a:pt x="2110" y="1194"/>
                  </a:lnTo>
                  <a:lnTo>
                    <a:pt x="2110" y="1194"/>
                  </a:lnTo>
                  <a:lnTo>
                    <a:pt x="2112" y="1176"/>
                  </a:lnTo>
                  <a:lnTo>
                    <a:pt x="2108" y="1158"/>
                  </a:lnTo>
                  <a:lnTo>
                    <a:pt x="2102" y="1142"/>
                  </a:lnTo>
                  <a:lnTo>
                    <a:pt x="2092" y="1126"/>
                  </a:lnTo>
                  <a:lnTo>
                    <a:pt x="2092" y="1126"/>
                  </a:lnTo>
                  <a:lnTo>
                    <a:pt x="2080" y="1110"/>
                  </a:lnTo>
                  <a:lnTo>
                    <a:pt x="2062" y="1100"/>
                  </a:lnTo>
                  <a:lnTo>
                    <a:pt x="2170" y="408"/>
                  </a:lnTo>
                  <a:lnTo>
                    <a:pt x="2170" y="408"/>
                  </a:lnTo>
                  <a:lnTo>
                    <a:pt x="2170" y="390"/>
                  </a:lnTo>
                  <a:lnTo>
                    <a:pt x="2168" y="372"/>
                  </a:lnTo>
                  <a:lnTo>
                    <a:pt x="2162" y="356"/>
                  </a:lnTo>
                  <a:lnTo>
                    <a:pt x="2152" y="340"/>
                  </a:lnTo>
                  <a:lnTo>
                    <a:pt x="2140" y="328"/>
                  </a:lnTo>
                  <a:lnTo>
                    <a:pt x="2126" y="316"/>
                  </a:lnTo>
                  <a:lnTo>
                    <a:pt x="2110" y="308"/>
                  </a:lnTo>
                  <a:lnTo>
                    <a:pt x="2092" y="304"/>
                  </a:lnTo>
                  <a:lnTo>
                    <a:pt x="2092" y="304"/>
                  </a:lnTo>
                  <a:close/>
                  <a:moveTo>
                    <a:pt x="806" y="584"/>
                  </a:moveTo>
                  <a:lnTo>
                    <a:pt x="806" y="584"/>
                  </a:lnTo>
                  <a:lnTo>
                    <a:pt x="722" y="550"/>
                  </a:lnTo>
                  <a:lnTo>
                    <a:pt x="722" y="550"/>
                  </a:lnTo>
                  <a:lnTo>
                    <a:pt x="778" y="488"/>
                  </a:lnTo>
                  <a:lnTo>
                    <a:pt x="830" y="426"/>
                  </a:lnTo>
                  <a:lnTo>
                    <a:pt x="806" y="584"/>
                  </a:lnTo>
                  <a:close/>
                  <a:moveTo>
                    <a:pt x="1366" y="1740"/>
                  </a:moveTo>
                  <a:lnTo>
                    <a:pt x="1358" y="1792"/>
                  </a:lnTo>
                  <a:lnTo>
                    <a:pt x="1358" y="1792"/>
                  </a:lnTo>
                  <a:lnTo>
                    <a:pt x="1344" y="1790"/>
                  </a:lnTo>
                  <a:lnTo>
                    <a:pt x="1344" y="1790"/>
                  </a:lnTo>
                  <a:lnTo>
                    <a:pt x="1328" y="1786"/>
                  </a:lnTo>
                  <a:lnTo>
                    <a:pt x="1328" y="1786"/>
                  </a:lnTo>
                  <a:lnTo>
                    <a:pt x="1318" y="1774"/>
                  </a:lnTo>
                  <a:lnTo>
                    <a:pt x="1318" y="1774"/>
                  </a:lnTo>
                  <a:lnTo>
                    <a:pt x="1274" y="1726"/>
                  </a:lnTo>
                  <a:lnTo>
                    <a:pt x="1366" y="1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76"/>
            <p:cNvSpPr/>
            <p:nvPr/>
          </p:nvSpPr>
          <p:spPr>
            <a:xfrm>
              <a:off x="1015920" y="10547280"/>
              <a:ext cx="5143680" cy="5086080"/>
            </a:xfrm>
            <a:custGeom>
              <a:avLst/>
              <a:gdLst>
                <a:gd name="textAreaLeft" fmla="*/ 0 w 5143680"/>
                <a:gd name="textAreaRight" fmla="*/ 5143680 w 5143680"/>
                <a:gd name="textAreaTop" fmla="*/ 0 h 5086080"/>
                <a:gd name="textAreaBottom" fmla="*/ 5086440 h 5086080"/>
              </a:gdLst>
              <a:ahLst/>
              <a:rect l="textAreaLeft" t="textAreaTop" r="textAreaRight" b="textAreaBottom"/>
              <a:pathLst>
                <a:path w="3240" h="3204">
                  <a:moveTo>
                    <a:pt x="2018" y="2432"/>
                  </a:moveTo>
                  <a:lnTo>
                    <a:pt x="2018" y="2432"/>
                  </a:lnTo>
                  <a:lnTo>
                    <a:pt x="2276" y="2392"/>
                  </a:lnTo>
                  <a:lnTo>
                    <a:pt x="2546" y="2352"/>
                  </a:lnTo>
                  <a:lnTo>
                    <a:pt x="2826" y="2312"/>
                  </a:lnTo>
                  <a:lnTo>
                    <a:pt x="3120" y="2270"/>
                  </a:lnTo>
                  <a:lnTo>
                    <a:pt x="3240" y="2254"/>
                  </a:lnTo>
                  <a:lnTo>
                    <a:pt x="3130" y="1568"/>
                  </a:lnTo>
                  <a:lnTo>
                    <a:pt x="3008" y="1592"/>
                  </a:lnTo>
                  <a:lnTo>
                    <a:pt x="3008" y="1592"/>
                  </a:lnTo>
                  <a:lnTo>
                    <a:pt x="2776" y="1638"/>
                  </a:lnTo>
                  <a:lnTo>
                    <a:pt x="2514" y="0"/>
                  </a:lnTo>
                  <a:lnTo>
                    <a:pt x="94" y="388"/>
                  </a:lnTo>
                  <a:lnTo>
                    <a:pt x="356" y="2026"/>
                  </a:lnTo>
                  <a:lnTo>
                    <a:pt x="356" y="2026"/>
                  </a:lnTo>
                  <a:lnTo>
                    <a:pt x="122" y="2056"/>
                  </a:lnTo>
                  <a:lnTo>
                    <a:pt x="0" y="2070"/>
                  </a:lnTo>
                  <a:lnTo>
                    <a:pt x="110" y="2758"/>
                  </a:lnTo>
                  <a:lnTo>
                    <a:pt x="230" y="2736"/>
                  </a:lnTo>
                  <a:lnTo>
                    <a:pt x="230" y="2736"/>
                  </a:lnTo>
                  <a:lnTo>
                    <a:pt x="516" y="2684"/>
                  </a:lnTo>
                  <a:lnTo>
                    <a:pt x="788" y="2634"/>
                  </a:lnTo>
                  <a:lnTo>
                    <a:pt x="1052" y="2588"/>
                  </a:lnTo>
                  <a:lnTo>
                    <a:pt x="1306" y="2546"/>
                  </a:lnTo>
                  <a:lnTo>
                    <a:pt x="1306" y="2546"/>
                  </a:lnTo>
                  <a:lnTo>
                    <a:pt x="1350" y="2836"/>
                  </a:lnTo>
                  <a:lnTo>
                    <a:pt x="1382" y="3080"/>
                  </a:lnTo>
                  <a:lnTo>
                    <a:pt x="1398" y="3204"/>
                  </a:lnTo>
                  <a:lnTo>
                    <a:pt x="2138" y="3084"/>
                  </a:lnTo>
                  <a:lnTo>
                    <a:pt x="2114" y="2964"/>
                  </a:lnTo>
                  <a:lnTo>
                    <a:pt x="2114" y="2964"/>
                  </a:lnTo>
                  <a:lnTo>
                    <a:pt x="2068" y="2714"/>
                  </a:lnTo>
                  <a:lnTo>
                    <a:pt x="2018" y="2432"/>
                  </a:lnTo>
                  <a:lnTo>
                    <a:pt x="2018" y="2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77"/>
            <p:cNvSpPr/>
            <p:nvPr/>
          </p:nvSpPr>
          <p:spPr>
            <a:xfrm>
              <a:off x="4978440" y="31295880"/>
              <a:ext cx="1320840" cy="287964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832" h="1814">
                  <a:moveTo>
                    <a:pt x="684" y="856"/>
                  </a:moveTo>
                  <a:lnTo>
                    <a:pt x="684" y="856"/>
                  </a:lnTo>
                  <a:lnTo>
                    <a:pt x="716" y="722"/>
                  </a:lnTo>
                  <a:lnTo>
                    <a:pt x="746" y="578"/>
                  </a:lnTo>
                  <a:lnTo>
                    <a:pt x="806" y="284"/>
                  </a:lnTo>
                  <a:lnTo>
                    <a:pt x="806" y="284"/>
                  </a:lnTo>
                  <a:lnTo>
                    <a:pt x="830" y="164"/>
                  </a:lnTo>
                  <a:lnTo>
                    <a:pt x="830" y="164"/>
                  </a:lnTo>
                  <a:lnTo>
                    <a:pt x="832" y="148"/>
                  </a:lnTo>
                  <a:lnTo>
                    <a:pt x="830" y="132"/>
                  </a:lnTo>
                  <a:lnTo>
                    <a:pt x="826" y="118"/>
                  </a:lnTo>
                  <a:lnTo>
                    <a:pt x="818" y="104"/>
                  </a:lnTo>
                  <a:lnTo>
                    <a:pt x="818" y="104"/>
                  </a:lnTo>
                  <a:lnTo>
                    <a:pt x="808" y="92"/>
                  </a:lnTo>
                  <a:lnTo>
                    <a:pt x="798" y="82"/>
                  </a:lnTo>
                  <a:lnTo>
                    <a:pt x="784" y="76"/>
                  </a:lnTo>
                  <a:lnTo>
                    <a:pt x="768" y="72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390" y="0"/>
                  </a:lnTo>
                  <a:lnTo>
                    <a:pt x="374" y="2"/>
                  </a:lnTo>
                  <a:lnTo>
                    <a:pt x="360" y="6"/>
                  </a:lnTo>
                  <a:lnTo>
                    <a:pt x="346" y="14"/>
                  </a:lnTo>
                  <a:lnTo>
                    <a:pt x="346" y="14"/>
                  </a:lnTo>
                  <a:lnTo>
                    <a:pt x="334" y="24"/>
                  </a:lnTo>
                  <a:lnTo>
                    <a:pt x="324" y="36"/>
                  </a:lnTo>
                  <a:lnTo>
                    <a:pt x="318" y="48"/>
                  </a:lnTo>
                  <a:lnTo>
                    <a:pt x="314" y="64"/>
                  </a:lnTo>
                  <a:lnTo>
                    <a:pt x="314" y="64"/>
                  </a:lnTo>
                  <a:lnTo>
                    <a:pt x="286" y="208"/>
                  </a:lnTo>
                  <a:lnTo>
                    <a:pt x="286" y="208"/>
                  </a:lnTo>
                  <a:lnTo>
                    <a:pt x="236" y="488"/>
                  </a:lnTo>
                  <a:lnTo>
                    <a:pt x="212" y="624"/>
                  </a:lnTo>
                  <a:lnTo>
                    <a:pt x="190" y="754"/>
                  </a:lnTo>
                  <a:lnTo>
                    <a:pt x="190" y="754"/>
                  </a:lnTo>
                  <a:lnTo>
                    <a:pt x="180" y="844"/>
                  </a:lnTo>
                  <a:lnTo>
                    <a:pt x="166" y="992"/>
                  </a:lnTo>
                  <a:lnTo>
                    <a:pt x="146" y="1226"/>
                  </a:lnTo>
                  <a:lnTo>
                    <a:pt x="146" y="1226"/>
                  </a:lnTo>
                  <a:lnTo>
                    <a:pt x="146" y="1238"/>
                  </a:lnTo>
                  <a:lnTo>
                    <a:pt x="148" y="1250"/>
                  </a:lnTo>
                  <a:lnTo>
                    <a:pt x="148" y="1250"/>
                  </a:lnTo>
                  <a:lnTo>
                    <a:pt x="136" y="1250"/>
                  </a:lnTo>
                  <a:lnTo>
                    <a:pt x="122" y="1252"/>
                  </a:lnTo>
                  <a:lnTo>
                    <a:pt x="110" y="1256"/>
                  </a:lnTo>
                  <a:lnTo>
                    <a:pt x="100" y="1262"/>
                  </a:lnTo>
                  <a:lnTo>
                    <a:pt x="100" y="1262"/>
                  </a:lnTo>
                  <a:lnTo>
                    <a:pt x="88" y="1272"/>
                  </a:lnTo>
                  <a:lnTo>
                    <a:pt x="78" y="1284"/>
                  </a:lnTo>
                  <a:lnTo>
                    <a:pt x="70" y="1298"/>
                  </a:lnTo>
                  <a:lnTo>
                    <a:pt x="66" y="1312"/>
                  </a:lnTo>
                  <a:lnTo>
                    <a:pt x="2" y="1648"/>
                  </a:lnTo>
                  <a:lnTo>
                    <a:pt x="2" y="1648"/>
                  </a:lnTo>
                  <a:lnTo>
                    <a:pt x="0" y="1664"/>
                  </a:lnTo>
                  <a:lnTo>
                    <a:pt x="2" y="1680"/>
                  </a:lnTo>
                  <a:lnTo>
                    <a:pt x="6" y="1694"/>
                  </a:lnTo>
                  <a:lnTo>
                    <a:pt x="14" y="1706"/>
                  </a:lnTo>
                  <a:lnTo>
                    <a:pt x="22" y="1718"/>
                  </a:lnTo>
                  <a:lnTo>
                    <a:pt x="34" y="1728"/>
                  </a:lnTo>
                  <a:lnTo>
                    <a:pt x="48" y="1734"/>
                  </a:lnTo>
                  <a:lnTo>
                    <a:pt x="64" y="1740"/>
                  </a:lnTo>
                  <a:lnTo>
                    <a:pt x="432" y="1812"/>
                  </a:lnTo>
                  <a:lnTo>
                    <a:pt x="432" y="1812"/>
                  </a:lnTo>
                  <a:lnTo>
                    <a:pt x="448" y="1814"/>
                  </a:lnTo>
                  <a:lnTo>
                    <a:pt x="448" y="1814"/>
                  </a:lnTo>
                  <a:lnTo>
                    <a:pt x="460" y="1814"/>
                  </a:lnTo>
                  <a:lnTo>
                    <a:pt x="470" y="1810"/>
                  </a:lnTo>
                  <a:lnTo>
                    <a:pt x="482" y="1806"/>
                  </a:lnTo>
                  <a:lnTo>
                    <a:pt x="492" y="1802"/>
                  </a:lnTo>
                  <a:lnTo>
                    <a:pt x="492" y="1802"/>
                  </a:lnTo>
                  <a:lnTo>
                    <a:pt x="504" y="1792"/>
                  </a:lnTo>
                  <a:lnTo>
                    <a:pt x="514" y="1780"/>
                  </a:lnTo>
                  <a:lnTo>
                    <a:pt x="520" y="1766"/>
                  </a:lnTo>
                  <a:lnTo>
                    <a:pt x="524" y="1752"/>
                  </a:lnTo>
                  <a:lnTo>
                    <a:pt x="590" y="1414"/>
                  </a:lnTo>
                  <a:lnTo>
                    <a:pt x="590" y="1414"/>
                  </a:lnTo>
                  <a:lnTo>
                    <a:pt x="592" y="1398"/>
                  </a:lnTo>
                  <a:lnTo>
                    <a:pt x="590" y="1382"/>
                  </a:lnTo>
                  <a:lnTo>
                    <a:pt x="584" y="1368"/>
                  </a:lnTo>
                  <a:lnTo>
                    <a:pt x="578" y="1354"/>
                  </a:lnTo>
                  <a:lnTo>
                    <a:pt x="578" y="1354"/>
                  </a:lnTo>
                  <a:lnTo>
                    <a:pt x="570" y="1346"/>
                  </a:lnTo>
                  <a:lnTo>
                    <a:pt x="562" y="1338"/>
                  </a:lnTo>
                  <a:lnTo>
                    <a:pt x="552" y="1332"/>
                  </a:lnTo>
                  <a:lnTo>
                    <a:pt x="542" y="1326"/>
                  </a:lnTo>
                  <a:lnTo>
                    <a:pt x="542" y="1326"/>
                  </a:lnTo>
                  <a:lnTo>
                    <a:pt x="548" y="1316"/>
                  </a:lnTo>
                  <a:lnTo>
                    <a:pt x="552" y="1306"/>
                  </a:lnTo>
                  <a:lnTo>
                    <a:pt x="552" y="1306"/>
                  </a:lnTo>
                  <a:lnTo>
                    <a:pt x="620" y="1082"/>
                  </a:lnTo>
                  <a:lnTo>
                    <a:pt x="660" y="940"/>
                  </a:lnTo>
                  <a:lnTo>
                    <a:pt x="684" y="856"/>
                  </a:lnTo>
                  <a:lnTo>
                    <a:pt x="684" y="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78"/>
            <p:cNvSpPr/>
            <p:nvPr/>
          </p:nvSpPr>
          <p:spPr>
            <a:xfrm>
              <a:off x="6083640" y="31508640"/>
              <a:ext cx="1320840" cy="287964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832" h="1814">
                  <a:moveTo>
                    <a:pt x="768" y="72"/>
                  </a:moveTo>
                  <a:lnTo>
                    <a:pt x="404" y="0"/>
                  </a:lnTo>
                  <a:lnTo>
                    <a:pt x="404" y="0"/>
                  </a:lnTo>
                  <a:lnTo>
                    <a:pt x="388" y="0"/>
                  </a:lnTo>
                  <a:lnTo>
                    <a:pt x="374" y="2"/>
                  </a:lnTo>
                  <a:lnTo>
                    <a:pt x="360" y="6"/>
                  </a:lnTo>
                  <a:lnTo>
                    <a:pt x="346" y="14"/>
                  </a:lnTo>
                  <a:lnTo>
                    <a:pt x="346" y="14"/>
                  </a:lnTo>
                  <a:lnTo>
                    <a:pt x="334" y="24"/>
                  </a:lnTo>
                  <a:lnTo>
                    <a:pt x="324" y="34"/>
                  </a:lnTo>
                  <a:lnTo>
                    <a:pt x="318" y="48"/>
                  </a:lnTo>
                  <a:lnTo>
                    <a:pt x="312" y="64"/>
                  </a:lnTo>
                  <a:lnTo>
                    <a:pt x="312" y="64"/>
                  </a:lnTo>
                  <a:lnTo>
                    <a:pt x="286" y="208"/>
                  </a:lnTo>
                  <a:lnTo>
                    <a:pt x="286" y="208"/>
                  </a:lnTo>
                  <a:lnTo>
                    <a:pt x="234" y="488"/>
                  </a:lnTo>
                  <a:lnTo>
                    <a:pt x="212" y="624"/>
                  </a:lnTo>
                  <a:lnTo>
                    <a:pt x="190" y="754"/>
                  </a:lnTo>
                  <a:lnTo>
                    <a:pt x="190" y="754"/>
                  </a:lnTo>
                  <a:lnTo>
                    <a:pt x="180" y="844"/>
                  </a:lnTo>
                  <a:lnTo>
                    <a:pt x="166" y="992"/>
                  </a:lnTo>
                  <a:lnTo>
                    <a:pt x="146" y="1226"/>
                  </a:lnTo>
                  <a:lnTo>
                    <a:pt x="146" y="1226"/>
                  </a:lnTo>
                  <a:lnTo>
                    <a:pt x="146" y="1238"/>
                  </a:lnTo>
                  <a:lnTo>
                    <a:pt x="148" y="1250"/>
                  </a:lnTo>
                  <a:lnTo>
                    <a:pt x="148" y="1250"/>
                  </a:lnTo>
                  <a:lnTo>
                    <a:pt x="134" y="1250"/>
                  </a:lnTo>
                  <a:lnTo>
                    <a:pt x="120" y="1252"/>
                  </a:lnTo>
                  <a:lnTo>
                    <a:pt x="108" y="1258"/>
                  </a:lnTo>
                  <a:lnTo>
                    <a:pt x="96" y="1266"/>
                  </a:lnTo>
                  <a:lnTo>
                    <a:pt x="86" y="1274"/>
                  </a:lnTo>
                  <a:lnTo>
                    <a:pt x="76" y="1286"/>
                  </a:lnTo>
                  <a:lnTo>
                    <a:pt x="70" y="1298"/>
                  </a:lnTo>
                  <a:lnTo>
                    <a:pt x="66" y="1312"/>
                  </a:lnTo>
                  <a:lnTo>
                    <a:pt x="2" y="1648"/>
                  </a:lnTo>
                  <a:lnTo>
                    <a:pt x="2" y="1648"/>
                  </a:lnTo>
                  <a:lnTo>
                    <a:pt x="0" y="1664"/>
                  </a:lnTo>
                  <a:lnTo>
                    <a:pt x="2" y="1680"/>
                  </a:lnTo>
                  <a:lnTo>
                    <a:pt x="6" y="1694"/>
                  </a:lnTo>
                  <a:lnTo>
                    <a:pt x="14" y="1706"/>
                  </a:lnTo>
                  <a:lnTo>
                    <a:pt x="22" y="1718"/>
                  </a:lnTo>
                  <a:lnTo>
                    <a:pt x="34" y="1728"/>
                  </a:lnTo>
                  <a:lnTo>
                    <a:pt x="48" y="1734"/>
                  </a:lnTo>
                  <a:lnTo>
                    <a:pt x="62" y="1740"/>
                  </a:lnTo>
                  <a:lnTo>
                    <a:pt x="432" y="1812"/>
                  </a:lnTo>
                  <a:lnTo>
                    <a:pt x="432" y="1812"/>
                  </a:lnTo>
                  <a:lnTo>
                    <a:pt x="448" y="1814"/>
                  </a:lnTo>
                  <a:lnTo>
                    <a:pt x="448" y="1814"/>
                  </a:lnTo>
                  <a:lnTo>
                    <a:pt x="460" y="1814"/>
                  </a:lnTo>
                  <a:lnTo>
                    <a:pt x="470" y="1810"/>
                  </a:lnTo>
                  <a:lnTo>
                    <a:pt x="482" y="1806"/>
                  </a:lnTo>
                  <a:lnTo>
                    <a:pt x="492" y="1802"/>
                  </a:lnTo>
                  <a:lnTo>
                    <a:pt x="492" y="1802"/>
                  </a:lnTo>
                  <a:lnTo>
                    <a:pt x="504" y="1792"/>
                  </a:lnTo>
                  <a:lnTo>
                    <a:pt x="512" y="1780"/>
                  </a:lnTo>
                  <a:lnTo>
                    <a:pt x="520" y="1766"/>
                  </a:lnTo>
                  <a:lnTo>
                    <a:pt x="524" y="1752"/>
                  </a:lnTo>
                  <a:lnTo>
                    <a:pt x="590" y="1414"/>
                  </a:lnTo>
                  <a:lnTo>
                    <a:pt x="590" y="1414"/>
                  </a:lnTo>
                  <a:lnTo>
                    <a:pt x="590" y="1398"/>
                  </a:lnTo>
                  <a:lnTo>
                    <a:pt x="590" y="1382"/>
                  </a:lnTo>
                  <a:lnTo>
                    <a:pt x="584" y="1368"/>
                  </a:lnTo>
                  <a:lnTo>
                    <a:pt x="578" y="1354"/>
                  </a:lnTo>
                  <a:lnTo>
                    <a:pt x="578" y="1354"/>
                  </a:lnTo>
                  <a:lnTo>
                    <a:pt x="570" y="1346"/>
                  </a:lnTo>
                  <a:lnTo>
                    <a:pt x="562" y="1338"/>
                  </a:lnTo>
                  <a:lnTo>
                    <a:pt x="552" y="1332"/>
                  </a:lnTo>
                  <a:lnTo>
                    <a:pt x="542" y="1326"/>
                  </a:lnTo>
                  <a:lnTo>
                    <a:pt x="542" y="1326"/>
                  </a:lnTo>
                  <a:lnTo>
                    <a:pt x="548" y="1316"/>
                  </a:lnTo>
                  <a:lnTo>
                    <a:pt x="552" y="1306"/>
                  </a:lnTo>
                  <a:lnTo>
                    <a:pt x="552" y="1306"/>
                  </a:lnTo>
                  <a:lnTo>
                    <a:pt x="620" y="1082"/>
                  </a:lnTo>
                  <a:lnTo>
                    <a:pt x="660" y="940"/>
                  </a:lnTo>
                  <a:lnTo>
                    <a:pt x="684" y="856"/>
                  </a:lnTo>
                  <a:lnTo>
                    <a:pt x="684" y="856"/>
                  </a:lnTo>
                  <a:lnTo>
                    <a:pt x="716" y="722"/>
                  </a:lnTo>
                  <a:lnTo>
                    <a:pt x="746" y="580"/>
                  </a:lnTo>
                  <a:lnTo>
                    <a:pt x="806" y="284"/>
                  </a:lnTo>
                  <a:lnTo>
                    <a:pt x="806" y="284"/>
                  </a:lnTo>
                  <a:lnTo>
                    <a:pt x="830" y="164"/>
                  </a:lnTo>
                  <a:lnTo>
                    <a:pt x="830" y="164"/>
                  </a:lnTo>
                  <a:lnTo>
                    <a:pt x="832" y="148"/>
                  </a:lnTo>
                  <a:lnTo>
                    <a:pt x="830" y="132"/>
                  </a:lnTo>
                  <a:lnTo>
                    <a:pt x="826" y="118"/>
                  </a:lnTo>
                  <a:lnTo>
                    <a:pt x="818" y="104"/>
                  </a:lnTo>
                  <a:lnTo>
                    <a:pt x="818" y="104"/>
                  </a:lnTo>
                  <a:lnTo>
                    <a:pt x="808" y="92"/>
                  </a:lnTo>
                  <a:lnTo>
                    <a:pt x="796" y="82"/>
                  </a:lnTo>
                  <a:lnTo>
                    <a:pt x="784" y="76"/>
                  </a:lnTo>
                  <a:lnTo>
                    <a:pt x="768" y="72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79"/>
            <p:cNvSpPr/>
            <p:nvPr/>
          </p:nvSpPr>
          <p:spPr>
            <a:xfrm>
              <a:off x="4781520" y="21291480"/>
              <a:ext cx="3079800" cy="29937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2993760"/>
                <a:gd name="textAreaBottom" fmla="*/ 2994120 h 2993760"/>
              </a:gdLst>
              <a:ahLst/>
              <a:rect l="textAreaLeft" t="textAreaTop" r="textAreaRight" b="textAreaBottom"/>
              <a:pathLst>
                <a:path w="1940" h="1886">
                  <a:moveTo>
                    <a:pt x="1814" y="1886"/>
                  </a:moveTo>
                  <a:lnTo>
                    <a:pt x="1814" y="1886"/>
                  </a:lnTo>
                  <a:lnTo>
                    <a:pt x="1746" y="1874"/>
                  </a:lnTo>
                  <a:lnTo>
                    <a:pt x="1680" y="1862"/>
                  </a:lnTo>
                  <a:lnTo>
                    <a:pt x="1618" y="1848"/>
                  </a:lnTo>
                  <a:lnTo>
                    <a:pt x="1556" y="1832"/>
                  </a:lnTo>
                  <a:lnTo>
                    <a:pt x="1496" y="1814"/>
                  </a:lnTo>
                  <a:lnTo>
                    <a:pt x="1438" y="1794"/>
                  </a:lnTo>
                  <a:lnTo>
                    <a:pt x="1382" y="1772"/>
                  </a:lnTo>
                  <a:lnTo>
                    <a:pt x="1328" y="1746"/>
                  </a:lnTo>
                  <a:lnTo>
                    <a:pt x="1276" y="1718"/>
                  </a:lnTo>
                  <a:lnTo>
                    <a:pt x="1226" y="1688"/>
                  </a:lnTo>
                  <a:lnTo>
                    <a:pt x="1178" y="1656"/>
                  </a:lnTo>
                  <a:lnTo>
                    <a:pt x="1132" y="1618"/>
                  </a:lnTo>
                  <a:lnTo>
                    <a:pt x="1088" y="1578"/>
                  </a:lnTo>
                  <a:lnTo>
                    <a:pt x="1046" y="1536"/>
                  </a:lnTo>
                  <a:lnTo>
                    <a:pt x="1006" y="1488"/>
                  </a:lnTo>
                  <a:lnTo>
                    <a:pt x="968" y="1436"/>
                  </a:lnTo>
                  <a:lnTo>
                    <a:pt x="968" y="1436"/>
                  </a:lnTo>
                  <a:lnTo>
                    <a:pt x="952" y="1460"/>
                  </a:lnTo>
                  <a:lnTo>
                    <a:pt x="936" y="1484"/>
                  </a:lnTo>
                  <a:lnTo>
                    <a:pt x="918" y="1506"/>
                  </a:lnTo>
                  <a:lnTo>
                    <a:pt x="900" y="1526"/>
                  </a:lnTo>
                  <a:lnTo>
                    <a:pt x="860" y="1568"/>
                  </a:lnTo>
                  <a:lnTo>
                    <a:pt x="816" y="1606"/>
                  </a:lnTo>
                  <a:lnTo>
                    <a:pt x="768" y="1640"/>
                  </a:lnTo>
                  <a:lnTo>
                    <a:pt x="718" y="1674"/>
                  </a:lnTo>
                  <a:lnTo>
                    <a:pt x="666" y="1704"/>
                  </a:lnTo>
                  <a:lnTo>
                    <a:pt x="612" y="1732"/>
                  </a:lnTo>
                  <a:lnTo>
                    <a:pt x="554" y="1758"/>
                  </a:lnTo>
                  <a:lnTo>
                    <a:pt x="496" y="1782"/>
                  </a:lnTo>
                  <a:lnTo>
                    <a:pt x="438" y="1804"/>
                  </a:lnTo>
                  <a:lnTo>
                    <a:pt x="378" y="1824"/>
                  </a:lnTo>
                  <a:lnTo>
                    <a:pt x="318" y="1842"/>
                  </a:lnTo>
                  <a:lnTo>
                    <a:pt x="258" y="1858"/>
                  </a:lnTo>
                  <a:lnTo>
                    <a:pt x="198" y="1874"/>
                  </a:lnTo>
                  <a:lnTo>
                    <a:pt x="140" y="1886"/>
                  </a:lnTo>
                  <a:lnTo>
                    <a:pt x="140" y="1886"/>
                  </a:lnTo>
                  <a:lnTo>
                    <a:pt x="132" y="1862"/>
                  </a:lnTo>
                  <a:lnTo>
                    <a:pt x="122" y="1834"/>
                  </a:lnTo>
                  <a:lnTo>
                    <a:pt x="108" y="1800"/>
                  </a:lnTo>
                  <a:lnTo>
                    <a:pt x="90" y="1758"/>
                  </a:lnTo>
                  <a:lnTo>
                    <a:pt x="66" y="1714"/>
                  </a:lnTo>
                  <a:lnTo>
                    <a:pt x="36" y="1666"/>
                  </a:lnTo>
                  <a:lnTo>
                    <a:pt x="18" y="1642"/>
                  </a:lnTo>
                  <a:lnTo>
                    <a:pt x="0" y="1620"/>
                  </a:lnTo>
                  <a:lnTo>
                    <a:pt x="0" y="1620"/>
                  </a:lnTo>
                  <a:lnTo>
                    <a:pt x="102" y="1604"/>
                  </a:lnTo>
                  <a:lnTo>
                    <a:pt x="200" y="1586"/>
                  </a:lnTo>
                  <a:lnTo>
                    <a:pt x="246" y="1576"/>
                  </a:lnTo>
                  <a:lnTo>
                    <a:pt x="290" y="1564"/>
                  </a:lnTo>
                  <a:lnTo>
                    <a:pt x="334" y="1552"/>
                  </a:lnTo>
                  <a:lnTo>
                    <a:pt x="374" y="1540"/>
                  </a:lnTo>
                  <a:lnTo>
                    <a:pt x="414" y="1524"/>
                  </a:lnTo>
                  <a:lnTo>
                    <a:pt x="452" y="1510"/>
                  </a:lnTo>
                  <a:lnTo>
                    <a:pt x="488" y="1492"/>
                  </a:lnTo>
                  <a:lnTo>
                    <a:pt x="524" y="1474"/>
                  </a:lnTo>
                  <a:lnTo>
                    <a:pt x="556" y="1456"/>
                  </a:lnTo>
                  <a:lnTo>
                    <a:pt x="586" y="1436"/>
                  </a:lnTo>
                  <a:lnTo>
                    <a:pt x="616" y="1412"/>
                  </a:lnTo>
                  <a:lnTo>
                    <a:pt x="642" y="1390"/>
                  </a:lnTo>
                  <a:lnTo>
                    <a:pt x="642" y="1390"/>
                  </a:lnTo>
                  <a:lnTo>
                    <a:pt x="488" y="1392"/>
                  </a:lnTo>
                  <a:lnTo>
                    <a:pt x="336" y="1396"/>
                  </a:lnTo>
                  <a:lnTo>
                    <a:pt x="188" y="1400"/>
                  </a:lnTo>
                  <a:lnTo>
                    <a:pt x="46" y="1406"/>
                  </a:lnTo>
                  <a:lnTo>
                    <a:pt x="46" y="1140"/>
                  </a:lnTo>
                  <a:lnTo>
                    <a:pt x="46" y="1140"/>
                  </a:lnTo>
                  <a:lnTo>
                    <a:pt x="218" y="1146"/>
                  </a:lnTo>
                  <a:lnTo>
                    <a:pt x="398" y="1152"/>
                  </a:lnTo>
                  <a:lnTo>
                    <a:pt x="584" y="1154"/>
                  </a:lnTo>
                  <a:lnTo>
                    <a:pt x="774" y="1158"/>
                  </a:lnTo>
                  <a:lnTo>
                    <a:pt x="774" y="1158"/>
                  </a:lnTo>
                  <a:lnTo>
                    <a:pt x="792" y="1068"/>
                  </a:lnTo>
                  <a:lnTo>
                    <a:pt x="792" y="1068"/>
                  </a:lnTo>
                  <a:lnTo>
                    <a:pt x="542" y="1074"/>
                  </a:lnTo>
                  <a:lnTo>
                    <a:pt x="412" y="1078"/>
                  </a:lnTo>
                  <a:lnTo>
                    <a:pt x="288" y="1082"/>
                  </a:lnTo>
                  <a:lnTo>
                    <a:pt x="288" y="828"/>
                  </a:lnTo>
                  <a:lnTo>
                    <a:pt x="288" y="828"/>
                  </a:lnTo>
                  <a:lnTo>
                    <a:pt x="416" y="834"/>
                  </a:lnTo>
                  <a:lnTo>
                    <a:pt x="552" y="838"/>
                  </a:lnTo>
                  <a:lnTo>
                    <a:pt x="810" y="844"/>
                  </a:lnTo>
                  <a:lnTo>
                    <a:pt x="810" y="844"/>
                  </a:lnTo>
                  <a:lnTo>
                    <a:pt x="810" y="766"/>
                  </a:lnTo>
                  <a:lnTo>
                    <a:pt x="810" y="766"/>
                  </a:lnTo>
                  <a:lnTo>
                    <a:pt x="510" y="770"/>
                  </a:lnTo>
                  <a:lnTo>
                    <a:pt x="352" y="774"/>
                  </a:lnTo>
                  <a:lnTo>
                    <a:pt x="208" y="778"/>
                  </a:lnTo>
                  <a:lnTo>
                    <a:pt x="208" y="610"/>
                  </a:lnTo>
                  <a:lnTo>
                    <a:pt x="56" y="610"/>
                  </a:lnTo>
                  <a:lnTo>
                    <a:pt x="56" y="610"/>
                  </a:lnTo>
                  <a:lnTo>
                    <a:pt x="62" y="516"/>
                  </a:lnTo>
                  <a:lnTo>
                    <a:pt x="64" y="408"/>
                  </a:lnTo>
                  <a:lnTo>
                    <a:pt x="64" y="210"/>
                  </a:lnTo>
                  <a:lnTo>
                    <a:pt x="64" y="210"/>
                  </a:lnTo>
                  <a:lnTo>
                    <a:pt x="64" y="144"/>
                  </a:lnTo>
                  <a:lnTo>
                    <a:pt x="794" y="144"/>
                  </a:lnTo>
                  <a:lnTo>
                    <a:pt x="794" y="144"/>
                  </a:lnTo>
                  <a:lnTo>
                    <a:pt x="794" y="120"/>
                  </a:lnTo>
                  <a:lnTo>
                    <a:pt x="792" y="98"/>
                  </a:lnTo>
                  <a:lnTo>
                    <a:pt x="788" y="78"/>
                  </a:lnTo>
                  <a:lnTo>
                    <a:pt x="784" y="62"/>
                  </a:lnTo>
                  <a:lnTo>
                    <a:pt x="784" y="62"/>
                  </a:lnTo>
                  <a:lnTo>
                    <a:pt x="774" y="32"/>
                  </a:lnTo>
                  <a:lnTo>
                    <a:pt x="770" y="22"/>
                  </a:lnTo>
                  <a:lnTo>
                    <a:pt x="770" y="14"/>
                  </a:lnTo>
                  <a:lnTo>
                    <a:pt x="770" y="14"/>
                  </a:lnTo>
                  <a:lnTo>
                    <a:pt x="770" y="8"/>
                  </a:lnTo>
                  <a:lnTo>
                    <a:pt x="774" y="2"/>
                  </a:lnTo>
                  <a:lnTo>
                    <a:pt x="784" y="0"/>
                  </a:lnTo>
                  <a:lnTo>
                    <a:pt x="796" y="0"/>
                  </a:lnTo>
                  <a:lnTo>
                    <a:pt x="796" y="0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874" y="2"/>
                  </a:lnTo>
                  <a:lnTo>
                    <a:pt x="950" y="6"/>
                  </a:lnTo>
                  <a:lnTo>
                    <a:pt x="1106" y="18"/>
                  </a:lnTo>
                  <a:lnTo>
                    <a:pt x="1106" y="18"/>
                  </a:lnTo>
                  <a:lnTo>
                    <a:pt x="1124" y="20"/>
                  </a:lnTo>
                  <a:lnTo>
                    <a:pt x="1136" y="26"/>
                  </a:lnTo>
                  <a:lnTo>
                    <a:pt x="1140" y="30"/>
                  </a:lnTo>
                  <a:lnTo>
                    <a:pt x="1142" y="34"/>
                  </a:lnTo>
                  <a:lnTo>
                    <a:pt x="1144" y="44"/>
                  </a:lnTo>
                  <a:lnTo>
                    <a:pt x="1144" y="44"/>
                  </a:lnTo>
                  <a:lnTo>
                    <a:pt x="1142" y="54"/>
                  </a:lnTo>
                  <a:lnTo>
                    <a:pt x="1140" y="62"/>
                  </a:lnTo>
                  <a:lnTo>
                    <a:pt x="1134" y="70"/>
                  </a:lnTo>
                  <a:lnTo>
                    <a:pt x="1128" y="80"/>
                  </a:lnTo>
                  <a:lnTo>
                    <a:pt x="1128" y="80"/>
                  </a:lnTo>
                  <a:lnTo>
                    <a:pt x="1112" y="98"/>
                  </a:lnTo>
                  <a:lnTo>
                    <a:pt x="1104" y="112"/>
                  </a:lnTo>
                  <a:lnTo>
                    <a:pt x="1100" y="126"/>
                  </a:lnTo>
                  <a:lnTo>
                    <a:pt x="1098" y="144"/>
                  </a:lnTo>
                  <a:lnTo>
                    <a:pt x="1876" y="144"/>
                  </a:lnTo>
                  <a:lnTo>
                    <a:pt x="1876" y="144"/>
                  </a:lnTo>
                  <a:lnTo>
                    <a:pt x="1876" y="210"/>
                  </a:lnTo>
                  <a:lnTo>
                    <a:pt x="1876" y="210"/>
                  </a:lnTo>
                  <a:lnTo>
                    <a:pt x="1876" y="410"/>
                  </a:lnTo>
                  <a:lnTo>
                    <a:pt x="1878" y="518"/>
                  </a:lnTo>
                  <a:lnTo>
                    <a:pt x="1884" y="610"/>
                  </a:lnTo>
                  <a:lnTo>
                    <a:pt x="1732" y="610"/>
                  </a:lnTo>
                  <a:lnTo>
                    <a:pt x="1732" y="778"/>
                  </a:lnTo>
                  <a:lnTo>
                    <a:pt x="1732" y="778"/>
                  </a:lnTo>
                  <a:lnTo>
                    <a:pt x="1582" y="774"/>
                  </a:lnTo>
                  <a:lnTo>
                    <a:pt x="1418" y="770"/>
                  </a:lnTo>
                  <a:lnTo>
                    <a:pt x="1418" y="770"/>
                  </a:lnTo>
                  <a:lnTo>
                    <a:pt x="1254" y="766"/>
                  </a:lnTo>
                  <a:lnTo>
                    <a:pt x="1098" y="766"/>
                  </a:lnTo>
                  <a:lnTo>
                    <a:pt x="1098" y="766"/>
                  </a:lnTo>
                  <a:lnTo>
                    <a:pt x="1096" y="844"/>
                  </a:lnTo>
                  <a:lnTo>
                    <a:pt x="1096" y="844"/>
                  </a:lnTo>
                  <a:lnTo>
                    <a:pt x="1368" y="838"/>
                  </a:lnTo>
                  <a:lnTo>
                    <a:pt x="1648" y="828"/>
                  </a:lnTo>
                  <a:lnTo>
                    <a:pt x="1648" y="1082"/>
                  </a:lnTo>
                  <a:lnTo>
                    <a:pt x="1648" y="1082"/>
                  </a:lnTo>
                  <a:lnTo>
                    <a:pt x="1578" y="1078"/>
                  </a:lnTo>
                  <a:lnTo>
                    <a:pt x="1508" y="1076"/>
                  </a:lnTo>
                  <a:lnTo>
                    <a:pt x="1362" y="1072"/>
                  </a:lnTo>
                  <a:lnTo>
                    <a:pt x="1362" y="1072"/>
                  </a:lnTo>
                  <a:lnTo>
                    <a:pt x="1216" y="1070"/>
                  </a:lnTo>
                  <a:lnTo>
                    <a:pt x="1080" y="1068"/>
                  </a:lnTo>
                  <a:lnTo>
                    <a:pt x="1080" y="1068"/>
                  </a:lnTo>
                  <a:lnTo>
                    <a:pt x="1076" y="1112"/>
                  </a:lnTo>
                  <a:lnTo>
                    <a:pt x="1068" y="1158"/>
                  </a:lnTo>
                  <a:lnTo>
                    <a:pt x="1068" y="1158"/>
                  </a:lnTo>
                  <a:lnTo>
                    <a:pt x="1284" y="1156"/>
                  </a:lnTo>
                  <a:lnTo>
                    <a:pt x="1496" y="1154"/>
                  </a:lnTo>
                  <a:lnTo>
                    <a:pt x="1700" y="1148"/>
                  </a:lnTo>
                  <a:lnTo>
                    <a:pt x="1894" y="1142"/>
                  </a:lnTo>
                  <a:lnTo>
                    <a:pt x="1894" y="1406"/>
                  </a:lnTo>
                  <a:lnTo>
                    <a:pt x="1894" y="1406"/>
                  </a:lnTo>
                  <a:lnTo>
                    <a:pt x="1748" y="1400"/>
                  </a:lnTo>
                  <a:lnTo>
                    <a:pt x="1594" y="1396"/>
                  </a:lnTo>
                  <a:lnTo>
                    <a:pt x="1434" y="1392"/>
                  </a:lnTo>
                  <a:lnTo>
                    <a:pt x="1270" y="1390"/>
                  </a:lnTo>
                  <a:lnTo>
                    <a:pt x="1270" y="1390"/>
                  </a:lnTo>
                  <a:lnTo>
                    <a:pt x="1298" y="1416"/>
                  </a:lnTo>
                  <a:lnTo>
                    <a:pt x="1328" y="1440"/>
                  </a:lnTo>
                  <a:lnTo>
                    <a:pt x="1358" y="1462"/>
                  </a:lnTo>
                  <a:lnTo>
                    <a:pt x="1392" y="1482"/>
                  </a:lnTo>
                  <a:lnTo>
                    <a:pt x="1426" y="1502"/>
                  </a:lnTo>
                  <a:lnTo>
                    <a:pt x="1462" y="1520"/>
                  </a:lnTo>
                  <a:lnTo>
                    <a:pt x="1502" y="1536"/>
                  </a:lnTo>
                  <a:lnTo>
                    <a:pt x="1542" y="1550"/>
                  </a:lnTo>
                  <a:lnTo>
                    <a:pt x="1584" y="1564"/>
                  </a:lnTo>
                  <a:lnTo>
                    <a:pt x="1628" y="1574"/>
                  </a:lnTo>
                  <a:lnTo>
                    <a:pt x="1676" y="1586"/>
                  </a:lnTo>
                  <a:lnTo>
                    <a:pt x="1724" y="1594"/>
                  </a:lnTo>
                  <a:lnTo>
                    <a:pt x="1774" y="1602"/>
                  </a:lnTo>
                  <a:lnTo>
                    <a:pt x="1828" y="1610"/>
                  </a:lnTo>
                  <a:lnTo>
                    <a:pt x="1882" y="1614"/>
                  </a:lnTo>
                  <a:lnTo>
                    <a:pt x="1940" y="1620"/>
                  </a:lnTo>
                  <a:lnTo>
                    <a:pt x="1940" y="1620"/>
                  </a:lnTo>
                  <a:lnTo>
                    <a:pt x="1924" y="1640"/>
                  </a:lnTo>
                  <a:lnTo>
                    <a:pt x="1908" y="1662"/>
                  </a:lnTo>
                  <a:lnTo>
                    <a:pt x="1882" y="1708"/>
                  </a:lnTo>
                  <a:lnTo>
                    <a:pt x="1860" y="1752"/>
                  </a:lnTo>
                  <a:lnTo>
                    <a:pt x="1842" y="1794"/>
                  </a:lnTo>
                  <a:lnTo>
                    <a:pt x="1830" y="1832"/>
                  </a:lnTo>
                  <a:lnTo>
                    <a:pt x="1820" y="1860"/>
                  </a:lnTo>
                  <a:lnTo>
                    <a:pt x="1814" y="1886"/>
                  </a:lnTo>
                  <a:lnTo>
                    <a:pt x="1814" y="1886"/>
                  </a:lnTo>
                  <a:close/>
                  <a:moveTo>
                    <a:pt x="344" y="396"/>
                  </a:moveTo>
                  <a:lnTo>
                    <a:pt x="344" y="396"/>
                  </a:lnTo>
                  <a:lnTo>
                    <a:pt x="344" y="520"/>
                  </a:lnTo>
                  <a:lnTo>
                    <a:pt x="344" y="520"/>
                  </a:lnTo>
                  <a:lnTo>
                    <a:pt x="574" y="528"/>
                  </a:lnTo>
                  <a:lnTo>
                    <a:pt x="574" y="528"/>
                  </a:lnTo>
                  <a:lnTo>
                    <a:pt x="802" y="532"/>
                  </a:lnTo>
                  <a:lnTo>
                    <a:pt x="802" y="532"/>
                  </a:lnTo>
                  <a:lnTo>
                    <a:pt x="798" y="492"/>
                  </a:lnTo>
                  <a:lnTo>
                    <a:pt x="794" y="466"/>
                  </a:lnTo>
                  <a:lnTo>
                    <a:pt x="794" y="466"/>
                  </a:lnTo>
                  <a:lnTo>
                    <a:pt x="788" y="444"/>
                  </a:lnTo>
                  <a:lnTo>
                    <a:pt x="786" y="426"/>
                  </a:lnTo>
                  <a:lnTo>
                    <a:pt x="786" y="426"/>
                  </a:lnTo>
                  <a:lnTo>
                    <a:pt x="788" y="416"/>
                  </a:lnTo>
                  <a:lnTo>
                    <a:pt x="790" y="414"/>
                  </a:lnTo>
                  <a:lnTo>
                    <a:pt x="792" y="410"/>
                  </a:lnTo>
                  <a:lnTo>
                    <a:pt x="804" y="406"/>
                  </a:lnTo>
                  <a:lnTo>
                    <a:pt x="818" y="406"/>
                  </a:lnTo>
                  <a:lnTo>
                    <a:pt x="818" y="406"/>
                  </a:lnTo>
                  <a:lnTo>
                    <a:pt x="834" y="406"/>
                  </a:lnTo>
                  <a:lnTo>
                    <a:pt x="834" y="406"/>
                  </a:lnTo>
                  <a:lnTo>
                    <a:pt x="906" y="410"/>
                  </a:lnTo>
                  <a:lnTo>
                    <a:pt x="976" y="418"/>
                  </a:lnTo>
                  <a:lnTo>
                    <a:pt x="1046" y="426"/>
                  </a:lnTo>
                  <a:lnTo>
                    <a:pt x="1116" y="436"/>
                  </a:lnTo>
                  <a:lnTo>
                    <a:pt x="1116" y="436"/>
                  </a:lnTo>
                  <a:lnTo>
                    <a:pt x="1128" y="440"/>
                  </a:lnTo>
                  <a:lnTo>
                    <a:pt x="1138" y="446"/>
                  </a:lnTo>
                  <a:lnTo>
                    <a:pt x="1144" y="454"/>
                  </a:lnTo>
                  <a:lnTo>
                    <a:pt x="1146" y="464"/>
                  </a:lnTo>
                  <a:lnTo>
                    <a:pt x="1146" y="464"/>
                  </a:lnTo>
                  <a:lnTo>
                    <a:pt x="1144" y="472"/>
                  </a:lnTo>
                  <a:lnTo>
                    <a:pt x="1140" y="482"/>
                  </a:lnTo>
                  <a:lnTo>
                    <a:pt x="1134" y="492"/>
                  </a:lnTo>
                  <a:lnTo>
                    <a:pt x="1124" y="504"/>
                  </a:lnTo>
                  <a:lnTo>
                    <a:pt x="1124" y="504"/>
                  </a:lnTo>
                  <a:lnTo>
                    <a:pt x="1116" y="512"/>
                  </a:lnTo>
                  <a:lnTo>
                    <a:pt x="1110" y="518"/>
                  </a:lnTo>
                  <a:lnTo>
                    <a:pt x="1100" y="532"/>
                  </a:lnTo>
                  <a:lnTo>
                    <a:pt x="1100" y="532"/>
                  </a:lnTo>
                  <a:lnTo>
                    <a:pt x="1350" y="528"/>
                  </a:lnTo>
                  <a:lnTo>
                    <a:pt x="1472" y="524"/>
                  </a:lnTo>
                  <a:lnTo>
                    <a:pt x="1594" y="520"/>
                  </a:lnTo>
                  <a:lnTo>
                    <a:pt x="1594" y="520"/>
                  </a:lnTo>
                  <a:lnTo>
                    <a:pt x="1596" y="446"/>
                  </a:lnTo>
                  <a:lnTo>
                    <a:pt x="1596" y="396"/>
                  </a:lnTo>
                  <a:lnTo>
                    <a:pt x="344" y="39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0"/>
            <p:cNvSpPr/>
            <p:nvPr/>
          </p:nvSpPr>
          <p:spPr>
            <a:xfrm>
              <a:off x="4781520" y="24577560"/>
              <a:ext cx="3079800" cy="299700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2997000"/>
                <a:gd name="textAreaBottom" fmla="*/ 2997360 h 2997000"/>
              </a:gdLst>
              <a:ahLst/>
              <a:rect l="textAreaLeft" t="textAreaTop" r="textAreaRight" b="textAreaBottom"/>
              <a:pathLst>
                <a:path w="1940" h="1888">
                  <a:moveTo>
                    <a:pt x="1102" y="404"/>
                  </a:moveTo>
                  <a:lnTo>
                    <a:pt x="1102" y="404"/>
                  </a:lnTo>
                  <a:lnTo>
                    <a:pt x="1080" y="438"/>
                  </a:lnTo>
                  <a:lnTo>
                    <a:pt x="1054" y="470"/>
                  </a:lnTo>
                  <a:lnTo>
                    <a:pt x="1026" y="502"/>
                  </a:lnTo>
                  <a:lnTo>
                    <a:pt x="994" y="534"/>
                  </a:lnTo>
                  <a:lnTo>
                    <a:pt x="994" y="534"/>
                  </a:lnTo>
                  <a:lnTo>
                    <a:pt x="1076" y="540"/>
                  </a:lnTo>
                  <a:lnTo>
                    <a:pt x="1156" y="550"/>
                  </a:lnTo>
                  <a:lnTo>
                    <a:pt x="1156" y="550"/>
                  </a:lnTo>
                  <a:lnTo>
                    <a:pt x="1172" y="552"/>
                  </a:lnTo>
                  <a:lnTo>
                    <a:pt x="1182" y="556"/>
                  </a:lnTo>
                  <a:lnTo>
                    <a:pt x="1188" y="564"/>
                  </a:lnTo>
                  <a:lnTo>
                    <a:pt x="1190" y="570"/>
                  </a:lnTo>
                  <a:lnTo>
                    <a:pt x="1190" y="570"/>
                  </a:lnTo>
                  <a:lnTo>
                    <a:pt x="1188" y="580"/>
                  </a:lnTo>
                  <a:lnTo>
                    <a:pt x="1184" y="592"/>
                  </a:lnTo>
                  <a:lnTo>
                    <a:pt x="1178" y="604"/>
                  </a:lnTo>
                  <a:lnTo>
                    <a:pt x="1168" y="616"/>
                  </a:lnTo>
                  <a:lnTo>
                    <a:pt x="1168" y="616"/>
                  </a:lnTo>
                  <a:lnTo>
                    <a:pt x="1158" y="630"/>
                  </a:lnTo>
                  <a:lnTo>
                    <a:pt x="1152" y="642"/>
                  </a:lnTo>
                  <a:lnTo>
                    <a:pt x="1150" y="658"/>
                  </a:lnTo>
                  <a:lnTo>
                    <a:pt x="1148" y="676"/>
                  </a:lnTo>
                  <a:lnTo>
                    <a:pt x="1148" y="676"/>
                  </a:lnTo>
                  <a:lnTo>
                    <a:pt x="1148" y="700"/>
                  </a:lnTo>
                  <a:lnTo>
                    <a:pt x="1148" y="700"/>
                  </a:lnTo>
                  <a:lnTo>
                    <a:pt x="1254" y="688"/>
                  </a:lnTo>
                  <a:lnTo>
                    <a:pt x="1254" y="688"/>
                  </a:lnTo>
                  <a:lnTo>
                    <a:pt x="1252" y="550"/>
                  </a:lnTo>
                  <a:lnTo>
                    <a:pt x="1250" y="506"/>
                  </a:lnTo>
                  <a:lnTo>
                    <a:pt x="1248" y="480"/>
                  </a:lnTo>
                  <a:lnTo>
                    <a:pt x="1248" y="480"/>
                  </a:lnTo>
                  <a:lnTo>
                    <a:pt x="1240" y="452"/>
                  </a:lnTo>
                  <a:lnTo>
                    <a:pt x="1238" y="442"/>
                  </a:lnTo>
                  <a:lnTo>
                    <a:pt x="1238" y="432"/>
                  </a:lnTo>
                  <a:lnTo>
                    <a:pt x="1238" y="432"/>
                  </a:lnTo>
                  <a:lnTo>
                    <a:pt x="1238" y="426"/>
                  </a:lnTo>
                  <a:lnTo>
                    <a:pt x="1242" y="422"/>
                  </a:lnTo>
                  <a:lnTo>
                    <a:pt x="1250" y="420"/>
                  </a:lnTo>
                  <a:lnTo>
                    <a:pt x="1262" y="420"/>
                  </a:lnTo>
                  <a:lnTo>
                    <a:pt x="1262" y="420"/>
                  </a:lnTo>
                  <a:lnTo>
                    <a:pt x="1272" y="420"/>
                  </a:lnTo>
                  <a:lnTo>
                    <a:pt x="1272" y="420"/>
                  </a:lnTo>
                  <a:lnTo>
                    <a:pt x="1328" y="422"/>
                  </a:lnTo>
                  <a:lnTo>
                    <a:pt x="1390" y="426"/>
                  </a:lnTo>
                  <a:lnTo>
                    <a:pt x="1452" y="430"/>
                  </a:lnTo>
                  <a:lnTo>
                    <a:pt x="1504" y="438"/>
                  </a:lnTo>
                  <a:lnTo>
                    <a:pt x="1504" y="438"/>
                  </a:lnTo>
                  <a:lnTo>
                    <a:pt x="1522" y="440"/>
                  </a:lnTo>
                  <a:lnTo>
                    <a:pt x="1534" y="446"/>
                  </a:lnTo>
                  <a:lnTo>
                    <a:pt x="1540" y="454"/>
                  </a:lnTo>
                  <a:lnTo>
                    <a:pt x="1542" y="460"/>
                  </a:lnTo>
                  <a:lnTo>
                    <a:pt x="1542" y="460"/>
                  </a:lnTo>
                  <a:lnTo>
                    <a:pt x="1540" y="468"/>
                  </a:lnTo>
                  <a:lnTo>
                    <a:pt x="1536" y="478"/>
                  </a:lnTo>
                  <a:lnTo>
                    <a:pt x="1524" y="500"/>
                  </a:lnTo>
                  <a:lnTo>
                    <a:pt x="1524" y="500"/>
                  </a:lnTo>
                  <a:lnTo>
                    <a:pt x="1514" y="516"/>
                  </a:lnTo>
                  <a:lnTo>
                    <a:pt x="1508" y="530"/>
                  </a:lnTo>
                  <a:lnTo>
                    <a:pt x="1504" y="544"/>
                  </a:lnTo>
                  <a:lnTo>
                    <a:pt x="1502" y="564"/>
                  </a:lnTo>
                  <a:lnTo>
                    <a:pt x="1502" y="564"/>
                  </a:lnTo>
                  <a:lnTo>
                    <a:pt x="1502" y="596"/>
                  </a:lnTo>
                  <a:lnTo>
                    <a:pt x="1500" y="658"/>
                  </a:lnTo>
                  <a:lnTo>
                    <a:pt x="1500" y="658"/>
                  </a:lnTo>
                  <a:lnTo>
                    <a:pt x="1694" y="626"/>
                  </a:lnTo>
                  <a:lnTo>
                    <a:pt x="1790" y="610"/>
                  </a:lnTo>
                  <a:lnTo>
                    <a:pt x="1888" y="592"/>
                  </a:lnTo>
                  <a:lnTo>
                    <a:pt x="1888" y="592"/>
                  </a:lnTo>
                  <a:lnTo>
                    <a:pt x="1882" y="778"/>
                  </a:lnTo>
                  <a:lnTo>
                    <a:pt x="1874" y="916"/>
                  </a:lnTo>
                  <a:lnTo>
                    <a:pt x="1864" y="1028"/>
                  </a:lnTo>
                  <a:lnTo>
                    <a:pt x="1850" y="1144"/>
                  </a:lnTo>
                  <a:lnTo>
                    <a:pt x="1850" y="1144"/>
                  </a:lnTo>
                  <a:lnTo>
                    <a:pt x="1844" y="1188"/>
                  </a:lnTo>
                  <a:lnTo>
                    <a:pt x="1838" y="1228"/>
                  </a:lnTo>
                  <a:lnTo>
                    <a:pt x="1832" y="1264"/>
                  </a:lnTo>
                  <a:lnTo>
                    <a:pt x="1822" y="1294"/>
                  </a:lnTo>
                  <a:lnTo>
                    <a:pt x="1812" y="1318"/>
                  </a:lnTo>
                  <a:lnTo>
                    <a:pt x="1798" y="1340"/>
                  </a:lnTo>
                  <a:lnTo>
                    <a:pt x="1782" y="1358"/>
                  </a:lnTo>
                  <a:lnTo>
                    <a:pt x="1774" y="1366"/>
                  </a:lnTo>
                  <a:lnTo>
                    <a:pt x="1764" y="1372"/>
                  </a:lnTo>
                  <a:lnTo>
                    <a:pt x="1764" y="1372"/>
                  </a:lnTo>
                  <a:lnTo>
                    <a:pt x="1798" y="1390"/>
                  </a:lnTo>
                  <a:lnTo>
                    <a:pt x="1830" y="1406"/>
                  </a:lnTo>
                  <a:lnTo>
                    <a:pt x="1858" y="1418"/>
                  </a:lnTo>
                  <a:lnTo>
                    <a:pt x="1884" y="1428"/>
                  </a:lnTo>
                  <a:lnTo>
                    <a:pt x="1924" y="1440"/>
                  </a:lnTo>
                  <a:lnTo>
                    <a:pt x="1938" y="1444"/>
                  </a:lnTo>
                  <a:lnTo>
                    <a:pt x="1938" y="1444"/>
                  </a:lnTo>
                  <a:lnTo>
                    <a:pt x="1928" y="1508"/>
                  </a:lnTo>
                  <a:lnTo>
                    <a:pt x="1918" y="1564"/>
                  </a:lnTo>
                  <a:lnTo>
                    <a:pt x="1906" y="1614"/>
                  </a:lnTo>
                  <a:lnTo>
                    <a:pt x="1896" y="1656"/>
                  </a:lnTo>
                  <a:lnTo>
                    <a:pt x="1884" y="1692"/>
                  </a:lnTo>
                  <a:lnTo>
                    <a:pt x="1870" y="1724"/>
                  </a:lnTo>
                  <a:lnTo>
                    <a:pt x="1856" y="1752"/>
                  </a:lnTo>
                  <a:lnTo>
                    <a:pt x="1840" y="1774"/>
                  </a:lnTo>
                  <a:lnTo>
                    <a:pt x="1824" y="1792"/>
                  </a:lnTo>
                  <a:lnTo>
                    <a:pt x="1806" y="1806"/>
                  </a:lnTo>
                  <a:lnTo>
                    <a:pt x="1788" y="1818"/>
                  </a:lnTo>
                  <a:lnTo>
                    <a:pt x="1768" y="1828"/>
                  </a:lnTo>
                  <a:lnTo>
                    <a:pt x="1746" y="1834"/>
                  </a:lnTo>
                  <a:lnTo>
                    <a:pt x="1724" y="1840"/>
                  </a:lnTo>
                  <a:lnTo>
                    <a:pt x="1672" y="1848"/>
                  </a:lnTo>
                  <a:lnTo>
                    <a:pt x="1672" y="1848"/>
                  </a:lnTo>
                  <a:lnTo>
                    <a:pt x="1616" y="1854"/>
                  </a:lnTo>
                  <a:lnTo>
                    <a:pt x="1548" y="1858"/>
                  </a:lnTo>
                  <a:lnTo>
                    <a:pt x="1470" y="1860"/>
                  </a:lnTo>
                  <a:lnTo>
                    <a:pt x="1388" y="1860"/>
                  </a:lnTo>
                  <a:lnTo>
                    <a:pt x="1388" y="1860"/>
                  </a:lnTo>
                  <a:lnTo>
                    <a:pt x="1300" y="1860"/>
                  </a:lnTo>
                  <a:lnTo>
                    <a:pt x="1216" y="1858"/>
                  </a:lnTo>
                  <a:lnTo>
                    <a:pt x="1142" y="1854"/>
                  </a:lnTo>
                  <a:lnTo>
                    <a:pt x="1082" y="1848"/>
                  </a:lnTo>
                  <a:lnTo>
                    <a:pt x="1082" y="1848"/>
                  </a:lnTo>
                  <a:lnTo>
                    <a:pt x="1060" y="1844"/>
                  </a:lnTo>
                  <a:lnTo>
                    <a:pt x="1038" y="1840"/>
                  </a:lnTo>
                  <a:lnTo>
                    <a:pt x="1018" y="1832"/>
                  </a:lnTo>
                  <a:lnTo>
                    <a:pt x="1000" y="1824"/>
                  </a:lnTo>
                  <a:lnTo>
                    <a:pt x="984" y="1816"/>
                  </a:lnTo>
                  <a:lnTo>
                    <a:pt x="968" y="1804"/>
                  </a:lnTo>
                  <a:lnTo>
                    <a:pt x="954" y="1792"/>
                  </a:lnTo>
                  <a:lnTo>
                    <a:pt x="942" y="1778"/>
                  </a:lnTo>
                  <a:lnTo>
                    <a:pt x="930" y="1762"/>
                  </a:lnTo>
                  <a:lnTo>
                    <a:pt x="920" y="1746"/>
                  </a:lnTo>
                  <a:lnTo>
                    <a:pt x="912" y="1726"/>
                  </a:lnTo>
                  <a:lnTo>
                    <a:pt x="906" y="1706"/>
                  </a:lnTo>
                  <a:lnTo>
                    <a:pt x="900" y="1684"/>
                  </a:lnTo>
                  <a:lnTo>
                    <a:pt x="896" y="1662"/>
                  </a:lnTo>
                  <a:lnTo>
                    <a:pt x="894" y="1636"/>
                  </a:lnTo>
                  <a:lnTo>
                    <a:pt x="894" y="1610"/>
                  </a:lnTo>
                  <a:lnTo>
                    <a:pt x="894" y="1610"/>
                  </a:lnTo>
                  <a:lnTo>
                    <a:pt x="894" y="1604"/>
                  </a:lnTo>
                  <a:lnTo>
                    <a:pt x="894" y="1604"/>
                  </a:lnTo>
                  <a:lnTo>
                    <a:pt x="898" y="1316"/>
                  </a:lnTo>
                  <a:lnTo>
                    <a:pt x="900" y="1002"/>
                  </a:lnTo>
                  <a:lnTo>
                    <a:pt x="900" y="1002"/>
                  </a:lnTo>
                  <a:lnTo>
                    <a:pt x="868" y="1006"/>
                  </a:lnTo>
                  <a:lnTo>
                    <a:pt x="838" y="1010"/>
                  </a:lnTo>
                  <a:lnTo>
                    <a:pt x="804" y="734"/>
                  </a:lnTo>
                  <a:lnTo>
                    <a:pt x="804" y="734"/>
                  </a:lnTo>
                  <a:lnTo>
                    <a:pt x="896" y="728"/>
                  </a:lnTo>
                  <a:lnTo>
                    <a:pt x="896" y="728"/>
                  </a:lnTo>
                  <a:lnTo>
                    <a:pt x="894" y="674"/>
                  </a:lnTo>
                  <a:lnTo>
                    <a:pt x="894" y="632"/>
                  </a:lnTo>
                  <a:lnTo>
                    <a:pt x="894" y="632"/>
                  </a:lnTo>
                  <a:lnTo>
                    <a:pt x="856" y="662"/>
                  </a:lnTo>
                  <a:lnTo>
                    <a:pt x="818" y="690"/>
                  </a:lnTo>
                  <a:lnTo>
                    <a:pt x="818" y="690"/>
                  </a:lnTo>
                  <a:lnTo>
                    <a:pt x="816" y="676"/>
                  </a:lnTo>
                  <a:lnTo>
                    <a:pt x="806" y="640"/>
                  </a:lnTo>
                  <a:lnTo>
                    <a:pt x="788" y="584"/>
                  </a:lnTo>
                  <a:lnTo>
                    <a:pt x="776" y="554"/>
                  </a:lnTo>
                  <a:lnTo>
                    <a:pt x="760" y="520"/>
                  </a:lnTo>
                  <a:lnTo>
                    <a:pt x="760" y="520"/>
                  </a:lnTo>
                  <a:lnTo>
                    <a:pt x="672" y="516"/>
                  </a:lnTo>
                  <a:lnTo>
                    <a:pt x="586" y="514"/>
                  </a:lnTo>
                  <a:lnTo>
                    <a:pt x="416" y="512"/>
                  </a:lnTo>
                  <a:lnTo>
                    <a:pt x="416" y="512"/>
                  </a:lnTo>
                  <a:lnTo>
                    <a:pt x="414" y="670"/>
                  </a:lnTo>
                  <a:lnTo>
                    <a:pt x="778" y="670"/>
                  </a:lnTo>
                  <a:lnTo>
                    <a:pt x="778" y="670"/>
                  </a:lnTo>
                  <a:lnTo>
                    <a:pt x="774" y="910"/>
                  </a:lnTo>
                  <a:lnTo>
                    <a:pt x="768" y="1146"/>
                  </a:lnTo>
                  <a:lnTo>
                    <a:pt x="764" y="1258"/>
                  </a:lnTo>
                  <a:lnTo>
                    <a:pt x="760" y="1364"/>
                  </a:lnTo>
                  <a:lnTo>
                    <a:pt x="754" y="1464"/>
                  </a:lnTo>
                  <a:lnTo>
                    <a:pt x="746" y="1556"/>
                  </a:lnTo>
                  <a:lnTo>
                    <a:pt x="746" y="1556"/>
                  </a:lnTo>
                  <a:lnTo>
                    <a:pt x="742" y="1600"/>
                  </a:lnTo>
                  <a:lnTo>
                    <a:pt x="736" y="1638"/>
                  </a:lnTo>
                  <a:lnTo>
                    <a:pt x="730" y="1674"/>
                  </a:lnTo>
                  <a:lnTo>
                    <a:pt x="722" y="1706"/>
                  </a:lnTo>
                  <a:lnTo>
                    <a:pt x="714" y="1736"/>
                  </a:lnTo>
                  <a:lnTo>
                    <a:pt x="702" y="1760"/>
                  </a:lnTo>
                  <a:lnTo>
                    <a:pt x="690" y="1782"/>
                  </a:lnTo>
                  <a:lnTo>
                    <a:pt x="674" y="1802"/>
                  </a:lnTo>
                  <a:lnTo>
                    <a:pt x="658" y="1818"/>
                  </a:lnTo>
                  <a:lnTo>
                    <a:pt x="638" y="1832"/>
                  </a:lnTo>
                  <a:lnTo>
                    <a:pt x="614" y="1844"/>
                  </a:lnTo>
                  <a:lnTo>
                    <a:pt x="590" y="1852"/>
                  </a:lnTo>
                  <a:lnTo>
                    <a:pt x="562" y="1860"/>
                  </a:lnTo>
                  <a:lnTo>
                    <a:pt x="530" y="1864"/>
                  </a:lnTo>
                  <a:lnTo>
                    <a:pt x="494" y="1866"/>
                  </a:lnTo>
                  <a:lnTo>
                    <a:pt x="456" y="1868"/>
                  </a:lnTo>
                  <a:lnTo>
                    <a:pt x="456" y="1868"/>
                  </a:lnTo>
                  <a:lnTo>
                    <a:pt x="406" y="1866"/>
                  </a:lnTo>
                  <a:lnTo>
                    <a:pt x="348" y="1864"/>
                  </a:lnTo>
                  <a:lnTo>
                    <a:pt x="348" y="1864"/>
                  </a:lnTo>
                  <a:lnTo>
                    <a:pt x="348" y="1842"/>
                  </a:lnTo>
                  <a:lnTo>
                    <a:pt x="342" y="1786"/>
                  </a:lnTo>
                  <a:lnTo>
                    <a:pt x="338" y="1748"/>
                  </a:lnTo>
                  <a:lnTo>
                    <a:pt x="330" y="1706"/>
                  </a:lnTo>
                  <a:lnTo>
                    <a:pt x="318" y="1658"/>
                  </a:lnTo>
                  <a:lnTo>
                    <a:pt x="302" y="1608"/>
                  </a:lnTo>
                  <a:lnTo>
                    <a:pt x="302" y="1608"/>
                  </a:lnTo>
                  <a:lnTo>
                    <a:pt x="282" y="1678"/>
                  </a:lnTo>
                  <a:lnTo>
                    <a:pt x="258" y="1746"/>
                  </a:lnTo>
                  <a:lnTo>
                    <a:pt x="232" y="1816"/>
                  </a:lnTo>
                  <a:lnTo>
                    <a:pt x="204" y="1888"/>
                  </a:lnTo>
                  <a:lnTo>
                    <a:pt x="204" y="1888"/>
                  </a:lnTo>
                  <a:lnTo>
                    <a:pt x="188" y="1864"/>
                  </a:lnTo>
                  <a:lnTo>
                    <a:pt x="168" y="1838"/>
                  </a:lnTo>
                  <a:lnTo>
                    <a:pt x="144" y="1806"/>
                  </a:lnTo>
                  <a:lnTo>
                    <a:pt x="114" y="1770"/>
                  </a:lnTo>
                  <a:lnTo>
                    <a:pt x="80" y="1732"/>
                  </a:lnTo>
                  <a:lnTo>
                    <a:pt x="42" y="1694"/>
                  </a:lnTo>
                  <a:lnTo>
                    <a:pt x="22" y="1676"/>
                  </a:lnTo>
                  <a:lnTo>
                    <a:pt x="0" y="1660"/>
                  </a:lnTo>
                  <a:lnTo>
                    <a:pt x="0" y="1660"/>
                  </a:lnTo>
                  <a:lnTo>
                    <a:pt x="26" y="1600"/>
                  </a:lnTo>
                  <a:lnTo>
                    <a:pt x="48" y="1542"/>
                  </a:lnTo>
                  <a:lnTo>
                    <a:pt x="68" y="1482"/>
                  </a:lnTo>
                  <a:lnTo>
                    <a:pt x="84" y="1422"/>
                  </a:lnTo>
                  <a:lnTo>
                    <a:pt x="100" y="1362"/>
                  </a:lnTo>
                  <a:lnTo>
                    <a:pt x="114" y="1300"/>
                  </a:lnTo>
                  <a:lnTo>
                    <a:pt x="124" y="1236"/>
                  </a:lnTo>
                  <a:lnTo>
                    <a:pt x="134" y="1170"/>
                  </a:lnTo>
                  <a:lnTo>
                    <a:pt x="142" y="1102"/>
                  </a:lnTo>
                  <a:lnTo>
                    <a:pt x="148" y="1030"/>
                  </a:lnTo>
                  <a:lnTo>
                    <a:pt x="154" y="954"/>
                  </a:lnTo>
                  <a:lnTo>
                    <a:pt x="158" y="876"/>
                  </a:lnTo>
                  <a:lnTo>
                    <a:pt x="162" y="706"/>
                  </a:lnTo>
                  <a:lnTo>
                    <a:pt x="164" y="516"/>
                  </a:lnTo>
                  <a:lnTo>
                    <a:pt x="164" y="516"/>
                  </a:lnTo>
                  <a:lnTo>
                    <a:pt x="16" y="522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88" y="252"/>
                  </a:lnTo>
                  <a:lnTo>
                    <a:pt x="162" y="256"/>
                  </a:lnTo>
                  <a:lnTo>
                    <a:pt x="300" y="262"/>
                  </a:lnTo>
                  <a:lnTo>
                    <a:pt x="300" y="262"/>
                  </a:lnTo>
                  <a:lnTo>
                    <a:pt x="300" y="198"/>
                  </a:lnTo>
                  <a:lnTo>
                    <a:pt x="296" y="140"/>
                  </a:lnTo>
                  <a:lnTo>
                    <a:pt x="292" y="94"/>
                  </a:lnTo>
                  <a:lnTo>
                    <a:pt x="286" y="62"/>
                  </a:lnTo>
                  <a:lnTo>
                    <a:pt x="286" y="62"/>
                  </a:lnTo>
                  <a:lnTo>
                    <a:pt x="278" y="32"/>
                  </a:lnTo>
                  <a:lnTo>
                    <a:pt x="276" y="22"/>
                  </a:lnTo>
                  <a:lnTo>
                    <a:pt x="274" y="16"/>
                  </a:lnTo>
                  <a:lnTo>
                    <a:pt x="274" y="16"/>
                  </a:lnTo>
                  <a:lnTo>
                    <a:pt x="276" y="8"/>
                  </a:lnTo>
                  <a:lnTo>
                    <a:pt x="280" y="4"/>
                  </a:lnTo>
                  <a:lnTo>
                    <a:pt x="288" y="2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436" y="10"/>
                  </a:lnTo>
                  <a:lnTo>
                    <a:pt x="502" y="16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86" y="28"/>
                  </a:lnTo>
                  <a:lnTo>
                    <a:pt x="598" y="34"/>
                  </a:lnTo>
                  <a:lnTo>
                    <a:pt x="604" y="40"/>
                  </a:lnTo>
                  <a:lnTo>
                    <a:pt x="606" y="50"/>
                  </a:lnTo>
                  <a:lnTo>
                    <a:pt x="606" y="50"/>
                  </a:lnTo>
                  <a:lnTo>
                    <a:pt x="604" y="58"/>
                  </a:lnTo>
                  <a:lnTo>
                    <a:pt x="602" y="68"/>
                  </a:lnTo>
                  <a:lnTo>
                    <a:pt x="596" y="76"/>
                  </a:lnTo>
                  <a:lnTo>
                    <a:pt x="588" y="86"/>
                  </a:lnTo>
                  <a:lnTo>
                    <a:pt x="588" y="86"/>
                  </a:lnTo>
                  <a:lnTo>
                    <a:pt x="576" y="100"/>
                  </a:lnTo>
                  <a:lnTo>
                    <a:pt x="570" y="114"/>
                  </a:lnTo>
                  <a:lnTo>
                    <a:pt x="566" y="130"/>
                  </a:lnTo>
                  <a:lnTo>
                    <a:pt x="564" y="148"/>
                  </a:lnTo>
                  <a:lnTo>
                    <a:pt x="564" y="148"/>
                  </a:lnTo>
                  <a:lnTo>
                    <a:pt x="562" y="196"/>
                  </a:lnTo>
                  <a:lnTo>
                    <a:pt x="560" y="260"/>
                  </a:lnTo>
                  <a:lnTo>
                    <a:pt x="560" y="260"/>
                  </a:lnTo>
                  <a:lnTo>
                    <a:pt x="684" y="256"/>
                  </a:lnTo>
                  <a:lnTo>
                    <a:pt x="814" y="248"/>
                  </a:lnTo>
                  <a:lnTo>
                    <a:pt x="814" y="328"/>
                  </a:lnTo>
                  <a:lnTo>
                    <a:pt x="814" y="328"/>
                  </a:lnTo>
                  <a:lnTo>
                    <a:pt x="850" y="290"/>
                  </a:lnTo>
                  <a:lnTo>
                    <a:pt x="884" y="252"/>
                  </a:lnTo>
                  <a:lnTo>
                    <a:pt x="914" y="214"/>
                  </a:lnTo>
                  <a:lnTo>
                    <a:pt x="942" y="178"/>
                  </a:lnTo>
                  <a:lnTo>
                    <a:pt x="964" y="142"/>
                  </a:lnTo>
                  <a:lnTo>
                    <a:pt x="982" y="110"/>
                  </a:lnTo>
                  <a:lnTo>
                    <a:pt x="996" y="80"/>
                  </a:lnTo>
                  <a:lnTo>
                    <a:pt x="1004" y="52"/>
                  </a:lnTo>
                  <a:lnTo>
                    <a:pt x="1004" y="52"/>
                  </a:lnTo>
                  <a:lnTo>
                    <a:pt x="1006" y="28"/>
                  </a:lnTo>
                  <a:lnTo>
                    <a:pt x="1008" y="12"/>
                  </a:lnTo>
                  <a:lnTo>
                    <a:pt x="1010" y="8"/>
                  </a:lnTo>
                  <a:lnTo>
                    <a:pt x="1012" y="4"/>
                  </a:lnTo>
                  <a:lnTo>
                    <a:pt x="1018" y="2"/>
                  </a:lnTo>
                  <a:lnTo>
                    <a:pt x="1024" y="0"/>
                  </a:lnTo>
                  <a:lnTo>
                    <a:pt x="1024" y="0"/>
                  </a:lnTo>
                  <a:lnTo>
                    <a:pt x="1030" y="2"/>
                  </a:lnTo>
                  <a:lnTo>
                    <a:pt x="1038" y="4"/>
                  </a:lnTo>
                  <a:lnTo>
                    <a:pt x="1038" y="4"/>
                  </a:lnTo>
                  <a:lnTo>
                    <a:pt x="1098" y="12"/>
                  </a:lnTo>
                  <a:lnTo>
                    <a:pt x="1158" y="20"/>
                  </a:lnTo>
                  <a:lnTo>
                    <a:pt x="1220" y="30"/>
                  </a:lnTo>
                  <a:lnTo>
                    <a:pt x="1280" y="42"/>
                  </a:lnTo>
                  <a:lnTo>
                    <a:pt x="1280" y="42"/>
                  </a:lnTo>
                  <a:lnTo>
                    <a:pt x="1296" y="46"/>
                  </a:lnTo>
                  <a:lnTo>
                    <a:pt x="1306" y="54"/>
                  </a:lnTo>
                  <a:lnTo>
                    <a:pt x="1312" y="62"/>
                  </a:lnTo>
                  <a:lnTo>
                    <a:pt x="1314" y="72"/>
                  </a:lnTo>
                  <a:lnTo>
                    <a:pt x="1314" y="72"/>
                  </a:lnTo>
                  <a:lnTo>
                    <a:pt x="1312" y="80"/>
                  </a:lnTo>
                  <a:lnTo>
                    <a:pt x="1308" y="88"/>
                  </a:lnTo>
                  <a:lnTo>
                    <a:pt x="1300" y="96"/>
                  </a:lnTo>
                  <a:lnTo>
                    <a:pt x="1292" y="104"/>
                  </a:lnTo>
                  <a:lnTo>
                    <a:pt x="1292" y="104"/>
                  </a:lnTo>
                  <a:lnTo>
                    <a:pt x="1276" y="118"/>
                  </a:lnTo>
                  <a:lnTo>
                    <a:pt x="1264" y="132"/>
                  </a:lnTo>
                  <a:lnTo>
                    <a:pt x="1256" y="144"/>
                  </a:lnTo>
                  <a:lnTo>
                    <a:pt x="1250" y="156"/>
                  </a:lnTo>
                  <a:lnTo>
                    <a:pt x="1250" y="156"/>
                  </a:lnTo>
                  <a:lnTo>
                    <a:pt x="1414" y="156"/>
                  </a:lnTo>
                  <a:lnTo>
                    <a:pt x="1594" y="154"/>
                  </a:lnTo>
                  <a:lnTo>
                    <a:pt x="1776" y="150"/>
                  </a:lnTo>
                  <a:lnTo>
                    <a:pt x="1940" y="144"/>
                  </a:lnTo>
                  <a:lnTo>
                    <a:pt x="1940" y="412"/>
                  </a:lnTo>
                  <a:lnTo>
                    <a:pt x="1940" y="412"/>
                  </a:lnTo>
                  <a:lnTo>
                    <a:pt x="1724" y="408"/>
                  </a:lnTo>
                  <a:lnTo>
                    <a:pt x="1490" y="406"/>
                  </a:lnTo>
                  <a:lnTo>
                    <a:pt x="1102" y="404"/>
                  </a:lnTo>
                  <a:lnTo>
                    <a:pt x="1102" y="404"/>
                  </a:lnTo>
                  <a:close/>
                  <a:moveTo>
                    <a:pt x="406" y="912"/>
                  </a:moveTo>
                  <a:lnTo>
                    <a:pt x="406" y="912"/>
                  </a:lnTo>
                  <a:lnTo>
                    <a:pt x="402" y="1008"/>
                  </a:lnTo>
                  <a:lnTo>
                    <a:pt x="394" y="1100"/>
                  </a:lnTo>
                  <a:lnTo>
                    <a:pt x="384" y="1188"/>
                  </a:lnTo>
                  <a:lnTo>
                    <a:pt x="374" y="1272"/>
                  </a:lnTo>
                  <a:lnTo>
                    <a:pt x="360" y="1356"/>
                  </a:lnTo>
                  <a:lnTo>
                    <a:pt x="346" y="1436"/>
                  </a:lnTo>
                  <a:lnTo>
                    <a:pt x="328" y="1516"/>
                  </a:lnTo>
                  <a:lnTo>
                    <a:pt x="308" y="1594"/>
                  </a:lnTo>
                  <a:lnTo>
                    <a:pt x="308" y="1594"/>
                  </a:lnTo>
                  <a:lnTo>
                    <a:pt x="362" y="1600"/>
                  </a:lnTo>
                  <a:lnTo>
                    <a:pt x="406" y="1602"/>
                  </a:lnTo>
                  <a:lnTo>
                    <a:pt x="406" y="1602"/>
                  </a:lnTo>
                  <a:lnTo>
                    <a:pt x="428" y="1602"/>
                  </a:lnTo>
                  <a:lnTo>
                    <a:pt x="444" y="1598"/>
                  </a:lnTo>
                  <a:lnTo>
                    <a:pt x="458" y="1594"/>
                  </a:lnTo>
                  <a:lnTo>
                    <a:pt x="468" y="1586"/>
                  </a:lnTo>
                  <a:lnTo>
                    <a:pt x="476" y="1576"/>
                  </a:lnTo>
                  <a:lnTo>
                    <a:pt x="480" y="1564"/>
                  </a:lnTo>
                  <a:lnTo>
                    <a:pt x="484" y="1550"/>
                  </a:lnTo>
                  <a:lnTo>
                    <a:pt x="488" y="1532"/>
                  </a:lnTo>
                  <a:lnTo>
                    <a:pt x="488" y="1532"/>
                  </a:lnTo>
                  <a:lnTo>
                    <a:pt x="494" y="1464"/>
                  </a:lnTo>
                  <a:lnTo>
                    <a:pt x="502" y="1390"/>
                  </a:lnTo>
                  <a:lnTo>
                    <a:pt x="512" y="1228"/>
                  </a:lnTo>
                  <a:lnTo>
                    <a:pt x="520" y="1062"/>
                  </a:lnTo>
                  <a:lnTo>
                    <a:pt x="522" y="912"/>
                  </a:lnTo>
                  <a:lnTo>
                    <a:pt x="406" y="912"/>
                  </a:lnTo>
                  <a:close/>
                  <a:moveTo>
                    <a:pt x="1630" y="1394"/>
                  </a:moveTo>
                  <a:lnTo>
                    <a:pt x="1630" y="1394"/>
                  </a:lnTo>
                  <a:lnTo>
                    <a:pt x="1596" y="1394"/>
                  </a:lnTo>
                  <a:lnTo>
                    <a:pt x="1556" y="1390"/>
                  </a:lnTo>
                  <a:lnTo>
                    <a:pt x="1556" y="1390"/>
                  </a:lnTo>
                  <a:lnTo>
                    <a:pt x="1556" y="1384"/>
                  </a:lnTo>
                  <a:lnTo>
                    <a:pt x="1556" y="1384"/>
                  </a:lnTo>
                  <a:lnTo>
                    <a:pt x="1556" y="1350"/>
                  </a:lnTo>
                  <a:lnTo>
                    <a:pt x="1554" y="1324"/>
                  </a:lnTo>
                  <a:lnTo>
                    <a:pt x="1550" y="1292"/>
                  </a:lnTo>
                  <a:lnTo>
                    <a:pt x="1544" y="1256"/>
                  </a:lnTo>
                  <a:lnTo>
                    <a:pt x="1534" y="1216"/>
                  </a:lnTo>
                  <a:lnTo>
                    <a:pt x="1522" y="1174"/>
                  </a:lnTo>
                  <a:lnTo>
                    <a:pt x="1506" y="1130"/>
                  </a:lnTo>
                  <a:lnTo>
                    <a:pt x="1506" y="1130"/>
                  </a:lnTo>
                  <a:lnTo>
                    <a:pt x="1546" y="1136"/>
                  </a:lnTo>
                  <a:lnTo>
                    <a:pt x="1572" y="1138"/>
                  </a:lnTo>
                  <a:lnTo>
                    <a:pt x="1572" y="1138"/>
                  </a:lnTo>
                  <a:lnTo>
                    <a:pt x="1586" y="1138"/>
                  </a:lnTo>
                  <a:lnTo>
                    <a:pt x="1598" y="1136"/>
                  </a:lnTo>
                  <a:lnTo>
                    <a:pt x="1606" y="1132"/>
                  </a:lnTo>
                  <a:lnTo>
                    <a:pt x="1614" y="1126"/>
                  </a:lnTo>
                  <a:lnTo>
                    <a:pt x="1618" y="1120"/>
                  </a:lnTo>
                  <a:lnTo>
                    <a:pt x="1622" y="1112"/>
                  </a:lnTo>
                  <a:lnTo>
                    <a:pt x="1626" y="1090"/>
                  </a:lnTo>
                  <a:lnTo>
                    <a:pt x="1626" y="1090"/>
                  </a:lnTo>
                  <a:lnTo>
                    <a:pt x="1634" y="1006"/>
                  </a:lnTo>
                  <a:lnTo>
                    <a:pt x="1636" y="954"/>
                  </a:lnTo>
                  <a:lnTo>
                    <a:pt x="1638" y="906"/>
                  </a:lnTo>
                  <a:lnTo>
                    <a:pt x="1638" y="906"/>
                  </a:lnTo>
                  <a:lnTo>
                    <a:pt x="1576" y="912"/>
                  </a:lnTo>
                  <a:lnTo>
                    <a:pt x="1500" y="920"/>
                  </a:lnTo>
                  <a:lnTo>
                    <a:pt x="1500" y="920"/>
                  </a:lnTo>
                  <a:lnTo>
                    <a:pt x="1504" y="1214"/>
                  </a:lnTo>
                  <a:lnTo>
                    <a:pt x="1506" y="1358"/>
                  </a:lnTo>
                  <a:lnTo>
                    <a:pt x="1510" y="1488"/>
                  </a:lnTo>
                  <a:lnTo>
                    <a:pt x="1242" y="1488"/>
                  </a:lnTo>
                  <a:lnTo>
                    <a:pt x="1242" y="1488"/>
                  </a:lnTo>
                  <a:lnTo>
                    <a:pt x="1248" y="1234"/>
                  </a:lnTo>
                  <a:lnTo>
                    <a:pt x="1252" y="952"/>
                  </a:lnTo>
                  <a:lnTo>
                    <a:pt x="1252" y="952"/>
                  </a:lnTo>
                  <a:lnTo>
                    <a:pt x="1148" y="964"/>
                  </a:lnTo>
                  <a:lnTo>
                    <a:pt x="1148" y="964"/>
                  </a:lnTo>
                  <a:lnTo>
                    <a:pt x="1148" y="1540"/>
                  </a:lnTo>
                  <a:lnTo>
                    <a:pt x="1148" y="1540"/>
                  </a:lnTo>
                  <a:lnTo>
                    <a:pt x="1148" y="1554"/>
                  </a:lnTo>
                  <a:lnTo>
                    <a:pt x="1152" y="1566"/>
                  </a:lnTo>
                  <a:lnTo>
                    <a:pt x="1154" y="1570"/>
                  </a:lnTo>
                  <a:lnTo>
                    <a:pt x="1156" y="1576"/>
                  </a:lnTo>
                  <a:lnTo>
                    <a:pt x="1162" y="1578"/>
                  </a:lnTo>
                  <a:lnTo>
                    <a:pt x="1166" y="1582"/>
                  </a:lnTo>
                  <a:lnTo>
                    <a:pt x="1166" y="1582"/>
                  </a:lnTo>
                  <a:lnTo>
                    <a:pt x="1174" y="1584"/>
                  </a:lnTo>
                  <a:lnTo>
                    <a:pt x="1182" y="1586"/>
                  </a:lnTo>
                  <a:lnTo>
                    <a:pt x="1182" y="1586"/>
                  </a:lnTo>
                  <a:lnTo>
                    <a:pt x="1218" y="1590"/>
                  </a:lnTo>
                  <a:lnTo>
                    <a:pt x="1268" y="1592"/>
                  </a:lnTo>
                  <a:lnTo>
                    <a:pt x="1388" y="1594"/>
                  </a:lnTo>
                  <a:lnTo>
                    <a:pt x="1388" y="1594"/>
                  </a:lnTo>
                  <a:lnTo>
                    <a:pt x="1496" y="1592"/>
                  </a:lnTo>
                  <a:lnTo>
                    <a:pt x="1542" y="1590"/>
                  </a:lnTo>
                  <a:lnTo>
                    <a:pt x="1576" y="1586"/>
                  </a:lnTo>
                  <a:lnTo>
                    <a:pt x="1576" y="1586"/>
                  </a:lnTo>
                  <a:lnTo>
                    <a:pt x="1596" y="1582"/>
                  </a:lnTo>
                  <a:lnTo>
                    <a:pt x="1614" y="1576"/>
                  </a:lnTo>
                  <a:lnTo>
                    <a:pt x="1620" y="1572"/>
                  </a:lnTo>
                  <a:lnTo>
                    <a:pt x="1628" y="1566"/>
                  </a:lnTo>
                  <a:lnTo>
                    <a:pt x="1634" y="1560"/>
                  </a:lnTo>
                  <a:lnTo>
                    <a:pt x="1640" y="1552"/>
                  </a:lnTo>
                  <a:lnTo>
                    <a:pt x="1646" y="1540"/>
                  </a:lnTo>
                  <a:lnTo>
                    <a:pt x="1650" y="1528"/>
                  </a:lnTo>
                  <a:lnTo>
                    <a:pt x="1660" y="1496"/>
                  </a:lnTo>
                  <a:lnTo>
                    <a:pt x="1668" y="1450"/>
                  </a:lnTo>
                  <a:lnTo>
                    <a:pt x="1674" y="1392"/>
                  </a:lnTo>
                  <a:lnTo>
                    <a:pt x="1674" y="1392"/>
                  </a:lnTo>
                  <a:lnTo>
                    <a:pt x="1630" y="1394"/>
                  </a:lnTo>
                  <a:lnTo>
                    <a:pt x="1630" y="139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81"/>
            <p:cNvSpPr/>
            <p:nvPr/>
          </p:nvSpPr>
          <p:spPr>
            <a:xfrm>
              <a:off x="4965840" y="27873360"/>
              <a:ext cx="2717640" cy="2987640"/>
            </a:xfrm>
            <a:custGeom>
              <a:avLst/>
              <a:gdLst>
                <a:gd name="textAreaLeft" fmla="*/ 0 w 2717640"/>
                <a:gd name="textAreaRight" fmla="*/ 2717640 w 2717640"/>
                <a:gd name="textAreaTop" fmla="*/ 0 h 2987640"/>
                <a:gd name="textAreaBottom" fmla="*/ 2988000 h 2987640"/>
              </a:gdLst>
              <a:ahLst/>
              <a:rect l="textAreaLeft" t="textAreaTop" r="textAreaRight" b="textAreaBottom"/>
              <a:pathLst>
                <a:path w="1712" h="1882">
                  <a:moveTo>
                    <a:pt x="1396" y="1418"/>
                  </a:moveTo>
                  <a:lnTo>
                    <a:pt x="1396" y="1418"/>
                  </a:lnTo>
                  <a:lnTo>
                    <a:pt x="1400" y="1360"/>
                  </a:lnTo>
                  <a:lnTo>
                    <a:pt x="1400" y="1304"/>
                  </a:lnTo>
                  <a:lnTo>
                    <a:pt x="1000" y="1304"/>
                  </a:lnTo>
                  <a:lnTo>
                    <a:pt x="1006" y="1882"/>
                  </a:lnTo>
                  <a:lnTo>
                    <a:pt x="676" y="1882"/>
                  </a:lnTo>
                  <a:lnTo>
                    <a:pt x="676" y="1882"/>
                  </a:lnTo>
                  <a:lnTo>
                    <a:pt x="682" y="1304"/>
                  </a:lnTo>
                  <a:lnTo>
                    <a:pt x="312" y="1304"/>
                  </a:lnTo>
                  <a:lnTo>
                    <a:pt x="312" y="1304"/>
                  </a:lnTo>
                  <a:lnTo>
                    <a:pt x="316" y="1418"/>
                  </a:lnTo>
                  <a:lnTo>
                    <a:pt x="0" y="1418"/>
                  </a:lnTo>
                  <a:lnTo>
                    <a:pt x="0" y="1418"/>
                  </a:lnTo>
                  <a:lnTo>
                    <a:pt x="6" y="1204"/>
                  </a:lnTo>
                  <a:lnTo>
                    <a:pt x="8" y="974"/>
                  </a:lnTo>
                  <a:lnTo>
                    <a:pt x="10" y="560"/>
                  </a:lnTo>
                  <a:lnTo>
                    <a:pt x="10" y="340"/>
                  </a:lnTo>
                  <a:lnTo>
                    <a:pt x="684" y="340"/>
                  </a:lnTo>
                  <a:lnTo>
                    <a:pt x="684" y="340"/>
                  </a:lnTo>
                  <a:lnTo>
                    <a:pt x="682" y="232"/>
                  </a:lnTo>
                  <a:lnTo>
                    <a:pt x="678" y="148"/>
                  </a:lnTo>
                  <a:lnTo>
                    <a:pt x="674" y="90"/>
                  </a:lnTo>
                  <a:lnTo>
                    <a:pt x="672" y="72"/>
                  </a:lnTo>
                  <a:lnTo>
                    <a:pt x="670" y="60"/>
                  </a:lnTo>
                  <a:lnTo>
                    <a:pt x="670" y="60"/>
                  </a:lnTo>
                  <a:lnTo>
                    <a:pt x="658" y="34"/>
                  </a:lnTo>
                  <a:lnTo>
                    <a:pt x="654" y="24"/>
                  </a:lnTo>
                  <a:lnTo>
                    <a:pt x="654" y="14"/>
                  </a:lnTo>
                  <a:lnTo>
                    <a:pt x="654" y="14"/>
                  </a:lnTo>
                  <a:lnTo>
                    <a:pt x="654" y="8"/>
                  </a:lnTo>
                  <a:lnTo>
                    <a:pt x="660" y="4"/>
                  </a:lnTo>
                  <a:lnTo>
                    <a:pt x="668" y="2"/>
                  </a:lnTo>
                  <a:lnTo>
                    <a:pt x="682" y="0"/>
                  </a:lnTo>
                  <a:lnTo>
                    <a:pt x="682" y="0"/>
                  </a:lnTo>
                  <a:lnTo>
                    <a:pt x="692" y="0"/>
                  </a:lnTo>
                  <a:lnTo>
                    <a:pt x="692" y="0"/>
                  </a:lnTo>
                  <a:lnTo>
                    <a:pt x="698" y="0"/>
                  </a:lnTo>
                  <a:lnTo>
                    <a:pt x="698" y="0"/>
                  </a:lnTo>
                  <a:lnTo>
                    <a:pt x="776" y="4"/>
                  </a:lnTo>
                  <a:lnTo>
                    <a:pt x="860" y="12"/>
                  </a:lnTo>
                  <a:lnTo>
                    <a:pt x="942" y="20"/>
                  </a:lnTo>
                  <a:lnTo>
                    <a:pt x="1016" y="30"/>
                  </a:lnTo>
                  <a:lnTo>
                    <a:pt x="1016" y="30"/>
                  </a:lnTo>
                  <a:lnTo>
                    <a:pt x="1032" y="34"/>
                  </a:lnTo>
                  <a:lnTo>
                    <a:pt x="1044" y="40"/>
                  </a:lnTo>
                  <a:lnTo>
                    <a:pt x="1050" y="44"/>
                  </a:lnTo>
                  <a:lnTo>
                    <a:pt x="1052" y="50"/>
                  </a:lnTo>
                  <a:lnTo>
                    <a:pt x="1054" y="54"/>
                  </a:lnTo>
                  <a:lnTo>
                    <a:pt x="1054" y="60"/>
                  </a:lnTo>
                  <a:lnTo>
                    <a:pt x="1054" y="60"/>
                  </a:lnTo>
                  <a:lnTo>
                    <a:pt x="1054" y="70"/>
                  </a:lnTo>
                  <a:lnTo>
                    <a:pt x="1048" y="80"/>
                  </a:lnTo>
                  <a:lnTo>
                    <a:pt x="1042" y="90"/>
                  </a:lnTo>
                  <a:lnTo>
                    <a:pt x="1032" y="100"/>
                  </a:lnTo>
                  <a:lnTo>
                    <a:pt x="1032" y="100"/>
                  </a:lnTo>
                  <a:lnTo>
                    <a:pt x="1020" y="114"/>
                  </a:lnTo>
                  <a:lnTo>
                    <a:pt x="1010" y="130"/>
                  </a:lnTo>
                  <a:lnTo>
                    <a:pt x="1004" y="146"/>
                  </a:lnTo>
                  <a:lnTo>
                    <a:pt x="1002" y="154"/>
                  </a:lnTo>
                  <a:lnTo>
                    <a:pt x="1002" y="164"/>
                  </a:lnTo>
                  <a:lnTo>
                    <a:pt x="1002" y="164"/>
                  </a:lnTo>
                  <a:lnTo>
                    <a:pt x="1000" y="236"/>
                  </a:lnTo>
                  <a:lnTo>
                    <a:pt x="996" y="340"/>
                  </a:lnTo>
                  <a:lnTo>
                    <a:pt x="1704" y="340"/>
                  </a:lnTo>
                  <a:lnTo>
                    <a:pt x="1704" y="606"/>
                  </a:lnTo>
                  <a:lnTo>
                    <a:pt x="1704" y="606"/>
                  </a:lnTo>
                  <a:lnTo>
                    <a:pt x="1704" y="1010"/>
                  </a:lnTo>
                  <a:lnTo>
                    <a:pt x="1706" y="1222"/>
                  </a:lnTo>
                  <a:lnTo>
                    <a:pt x="1712" y="1418"/>
                  </a:lnTo>
                  <a:lnTo>
                    <a:pt x="1396" y="1418"/>
                  </a:lnTo>
                  <a:close/>
                  <a:moveTo>
                    <a:pt x="686" y="614"/>
                  </a:moveTo>
                  <a:lnTo>
                    <a:pt x="308" y="614"/>
                  </a:lnTo>
                  <a:lnTo>
                    <a:pt x="308" y="856"/>
                  </a:lnTo>
                  <a:lnTo>
                    <a:pt x="308" y="1030"/>
                  </a:lnTo>
                  <a:lnTo>
                    <a:pt x="684" y="1030"/>
                  </a:lnTo>
                  <a:lnTo>
                    <a:pt x="684" y="1030"/>
                  </a:lnTo>
                  <a:lnTo>
                    <a:pt x="686" y="878"/>
                  </a:lnTo>
                  <a:lnTo>
                    <a:pt x="686" y="734"/>
                  </a:lnTo>
                  <a:lnTo>
                    <a:pt x="686" y="614"/>
                  </a:lnTo>
                  <a:close/>
                  <a:moveTo>
                    <a:pt x="1408" y="856"/>
                  </a:moveTo>
                  <a:lnTo>
                    <a:pt x="1408" y="614"/>
                  </a:lnTo>
                  <a:lnTo>
                    <a:pt x="996" y="614"/>
                  </a:lnTo>
                  <a:lnTo>
                    <a:pt x="996" y="882"/>
                  </a:lnTo>
                  <a:lnTo>
                    <a:pt x="996" y="1030"/>
                  </a:lnTo>
                  <a:lnTo>
                    <a:pt x="1408" y="1030"/>
                  </a:lnTo>
                  <a:lnTo>
                    <a:pt x="1408" y="85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82"/>
            <p:cNvSpPr/>
            <p:nvPr/>
          </p:nvSpPr>
          <p:spPr>
            <a:xfrm>
              <a:off x="1301760" y="16713000"/>
              <a:ext cx="2733480" cy="29844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1722" h="1880">
                  <a:moveTo>
                    <a:pt x="1042" y="1240"/>
                  </a:moveTo>
                  <a:lnTo>
                    <a:pt x="1042" y="1240"/>
                  </a:lnTo>
                  <a:lnTo>
                    <a:pt x="1068" y="1408"/>
                  </a:lnTo>
                  <a:lnTo>
                    <a:pt x="1094" y="1566"/>
                  </a:lnTo>
                  <a:lnTo>
                    <a:pt x="1118" y="1712"/>
                  </a:lnTo>
                  <a:lnTo>
                    <a:pt x="1140" y="1838"/>
                  </a:lnTo>
                  <a:lnTo>
                    <a:pt x="806" y="1880"/>
                  </a:lnTo>
                  <a:lnTo>
                    <a:pt x="806" y="1880"/>
                  </a:lnTo>
                  <a:lnTo>
                    <a:pt x="778" y="1610"/>
                  </a:lnTo>
                  <a:lnTo>
                    <a:pt x="740" y="1274"/>
                  </a:lnTo>
                  <a:lnTo>
                    <a:pt x="740" y="1274"/>
                  </a:lnTo>
                  <a:lnTo>
                    <a:pt x="530" y="1300"/>
                  </a:lnTo>
                  <a:lnTo>
                    <a:pt x="342" y="1322"/>
                  </a:lnTo>
                  <a:lnTo>
                    <a:pt x="38" y="1362"/>
                  </a:lnTo>
                  <a:lnTo>
                    <a:pt x="0" y="1046"/>
                  </a:lnTo>
                  <a:lnTo>
                    <a:pt x="0" y="1046"/>
                  </a:lnTo>
                  <a:lnTo>
                    <a:pt x="138" y="1038"/>
                  </a:lnTo>
                  <a:lnTo>
                    <a:pt x="308" y="1026"/>
                  </a:lnTo>
                  <a:lnTo>
                    <a:pt x="500" y="1012"/>
                  </a:lnTo>
                  <a:lnTo>
                    <a:pt x="706" y="994"/>
                  </a:lnTo>
                  <a:lnTo>
                    <a:pt x="706" y="994"/>
                  </a:lnTo>
                  <a:lnTo>
                    <a:pt x="686" y="838"/>
                  </a:lnTo>
                  <a:lnTo>
                    <a:pt x="666" y="686"/>
                  </a:lnTo>
                  <a:lnTo>
                    <a:pt x="666" y="686"/>
                  </a:lnTo>
                  <a:lnTo>
                    <a:pt x="500" y="706"/>
                  </a:lnTo>
                  <a:lnTo>
                    <a:pt x="348" y="724"/>
                  </a:lnTo>
                  <a:lnTo>
                    <a:pt x="216" y="742"/>
                  </a:lnTo>
                  <a:lnTo>
                    <a:pt x="108" y="758"/>
                  </a:lnTo>
                  <a:lnTo>
                    <a:pt x="72" y="448"/>
                  </a:lnTo>
                  <a:lnTo>
                    <a:pt x="72" y="448"/>
                  </a:lnTo>
                  <a:lnTo>
                    <a:pt x="186" y="442"/>
                  </a:lnTo>
                  <a:lnTo>
                    <a:pt x="320" y="434"/>
                  </a:lnTo>
                  <a:lnTo>
                    <a:pt x="468" y="422"/>
                  </a:lnTo>
                  <a:lnTo>
                    <a:pt x="626" y="408"/>
                  </a:lnTo>
                  <a:lnTo>
                    <a:pt x="626" y="408"/>
                  </a:lnTo>
                  <a:lnTo>
                    <a:pt x="596" y="216"/>
                  </a:lnTo>
                  <a:lnTo>
                    <a:pt x="582" y="134"/>
                  </a:lnTo>
                  <a:lnTo>
                    <a:pt x="566" y="64"/>
                  </a:lnTo>
                  <a:lnTo>
                    <a:pt x="566" y="64"/>
                  </a:lnTo>
                  <a:lnTo>
                    <a:pt x="562" y="48"/>
                  </a:lnTo>
                  <a:lnTo>
                    <a:pt x="560" y="36"/>
                  </a:lnTo>
                  <a:lnTo>
                    <a:pt x="560" y="36"/>
                  </a:lnTo>
                  <a:lnTo>
                    <a:pt x="558" y="30"/>
                  </a:lnTo>
                  <a:lnTo>
                    <a:pt x="558" y="24"/>
                  </a:lnTo>
                  <a:lnTo>
                    <a:pt x="558" y="24"/>
                  </a:lnTo>
                  <a:lnTo>
                    <a:pt x="558" y="20"/>
                  </a:lnTo>
                  <a:lnTo>
                    <a:pt x="560" y="16"/>
                  </a:lnTo>
                  <a:lnTo>
                    <a:pt x="566" y="12"/>
                  </a:lnTo>
                  <a:lnTo>
                    <a:pt x="566" y="12"/>
                  </a:lnTo>
                  <a:lnTo>
                    <a:pt x="570" y="10"/>
                  </a:lnTo>
                  <a:lnTo>
                    <a:pt x="572" y="10"/>
                  </a:lnTo>
                  <a:lnTo>
                    <a:pt x="572" y="10"/>
                  </a:lnTo>
                  <a:lnTo>
                    <a:pt x="586" y="8"/>
                  </a:lnTo>
                  <a:lnTo>
                    <a:pt x="602" y="8"/>
                  </a:lnTo>
                  <a:lnTo>
                    <a:pt x="602" y="8"/>
                  </a:lnTo>
                  <a:lnTo>
                    <a:pt x="740" y="2"/>
                  </a:lnTo>
                  <a:lnTo>
                    <a:pt x="882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888" y="0"/>
                  </a:lnTo>
                  <a:lnTo>
                    <a:pt x="904" y="0"/>
                  </a:lnTo>
                  <a:lnTo>
                    <a:pt x="916" y="2"/>
                  </a:lnTo>
                  <a:lnTo>
                    <a:pt x="924" y="4"/>
                  </a:lnTo>
                  <a:lnTo>
                    <a:pt x="932" y="8"/>
                  </a:lnTo>
                  <a:lnTo>
                    <a:pt x="938" y="12"/>
                  </a:lnTo>
                  <a:lnTo>
                    <a:pt x="942" y="18"/>
                  </a:lnTo>
                  <a:lnTo>
                    <a:pt x="944" y="24"/>
                  </a:lnTo>
                  <a:lnTo>
                    <a:pt x="946" y="30"/>
                  </a:lnTo>
                  <a:lnTo>
                    <a:pt x="946" y="30"/>
                  </a:lnTo>
                  <a:lnTo>
                    <a:pt x="944" y="40"/>
                  </a:lnTo>
                  <a:lnTo>
                    <a:pt x="938" y="52"/>
                  </a:lnTo>
                  <a:lnTo>
                    <a:pt x="930" y="64"/>
                  </a:lnTo>
                  <a:lnTo>
                    <a:pt x="922" y="74"/>
                  </a:lnTo>
                  <a:lnTo>
                    <a:pt x="922" y="74"/>
                  </a:lnTo>
                  <a:lnTo>
                    <a:pt x="916" y="84"/>
                  </a:lnTo>
                  <a:lnTo>
                    <a:pt x="912" y="94"/>
                  </a:lnTo>
                  <a:lnTo>
                    <a:pt x="910" y="106"/>
                  </a:lnTo>
                  <a:lnTo>
                    <a:pt x="910" y="122"/>
                  </a:lnTo>
                  <a:lnTo>
                    <a:pt x="910" y="122"/>
                  </a:lnTo>
                  <a:lnTo>
                    <a:pt x="910" y="142"/>
                  </a:lnTo>
                  <a:lnTo>
                    <a:pt x="912" y="164"/>
                  </a:lnTo>
                  <a:lnTo>
                    <a:pt x="912" y="164"/>
                  </a:lnTo>
                  <a:lnTo>
                    <a:pt x="920" y="262"/>
                  </a:lnTo>
                  <a:lnTo>
                    <a:pt x="930" y="376"/>
                  </a:lnTo>
                  <a:lnTo>
                    <a:pt x="930" y="376"/>
                  </a:lnTo>
                  <a:lnTo>
                    <a:pt x="1094" y="358"/>
                  </a:lnTo>
                  <a:lnTo>
                    <a:pt x="1244" y="336"/>
                  </a:lnTo>
                  <a:lnTo>
                    <a:pt x="1376" y="316"/>
                  </a:lnTo>
                  <a:lnTo>
                    <a:pt x="1484" y="298"/>
                  </a:lnTo>
                  <a:lnTo>
                    <a:pt x="1508" y="606"/>
                  </a:lnTo>
                  <a:lnTo>
                    <a:pt x="1508" y="606"/>
                  </a:lnTo>
                  <a:lnTo>
                    <a:pt x="1380" y="614"/>
                  </a:lnTo>
                  <a:lnTo>
                    <a:pt x="1244" y="626"/>
                  </a:lnTo>
                  <a:lnTo>
                    <a:pt x="962" y="652"/>
                  </a:lnTo>
                  <a:lnTo>
                    <a:pt x="962" y="652"/>
                  </a:lnTo>
                  <a:lnTo>
                    <a:pt x="982" y="806"/>
                  </a:lnTo>
                  <a:lnTo>
                    <a:pt x="1004" y="962"/>
                  </a:lnTo>
                  <a:lnTo>
                    <a:pt x="1004" y="962"/>
                  </a:lnTo>
                  <a:lnTo>
                    <a:pt x="1198" y="940"/>
                  </a:lnTo>
                  <a:lnTo>
                    <a:pt x="1382" y="918"/>
                  </a:lnTo>
                  <a:lnTo>
                    <a:pt x="1546" y="896"/>
                  </a:lnTo>
                  <a:lnTo>
                    <a:pt x="1686" y="874"/>
                  </a:lnTo>
                  <a:lnTo>
                    <a:pt x="1722" y="1176"/>
                  </a:lnTo>
                  <a:lnTo>
                    <a:pt x="1722" y="1176"/>
                  </a:lnTo>
                  <a:lnTo>
                    <a:pt x="1550" y="1190"/>
                  </a:lnTo>
                  <a:lnTo>
                    <a:pt x="1378" y="1206"/>
                  </a:lnTo>
                  <a:lnTo>
                    <a:pt x="1042" y="1240"/>
                  </a:lnTo>
                  <a:lnTo>
                    <a:pt x="1042" y="124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83"/>
            <p:cNvSpPr/>
            <p:nvPr/>
          </p:nvSpPr>
          <p:spPr>
            <a:xfrm>
              <a:off x="1701720" y="20186640"/>
              <a:ext cx="2415960" cy="239364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393640"/>
                <a:gd name="textAreaBottom" fmla="*/ 2394000 h 2393640"/>
              </a:gdLst>
              <a:ahLst/>
              <a:rect l="textAreaLeft" t="textAreaTop" r="textAreaRight" b="textAreaBottom"/>
              <a:pathLst>
                <a:path w="1522" h="1508">
                  <a:moveTo>
                    <a:pt x="1494" y="414"/>
                  </a:moveTo>
                  <a:lnTo>
                    <a:pt x="1494" y="414"/>
                  </a:lnTo>
                  <a:lnTo>
                    <a:pt x="1490" y="420"/>
                  </a:lnTo>
                  <a:lnTo>
                    <a:pt x="1484" y="430"/>
                  </a:lnTo>
                  <a:lnTo>
                    <a:pt x="1470" y="456"/>
                  </a:lnTo>
                  <a:lnTo>
                    <a:pt x="1446" y="502"/>
                  </a:lnTo>
                  <a:lnTo>
                    <a:pt x="1446" y="502"/>
                  </a:lnTo>
                  <a:lnTo>
                    <a:pt x="1420" y="554"/>
                  </a:lnTo>
                  <a:lnTo>
                    <a:pt x="1388" y="610"/>
                  </a:lnTo>
                  <a:lnTo>
                    <a:pt x="1354" y="670"/>
                  </a:lnTo>
                  <a:lnTo>
                    <a:pt x="1314" y="734"/>
                  </a:lnTo>
                  <a:lnTo>
                    <a:pt x="1272" y="798"/>
                  </a:lnTo>
                  <a:lnTo>
                    <a:pt x="1226" y="862"/>
                  </a:lnTo>
                  <a:lnTo>
                    <a:pt x="1178" y="924"/>
                  </a:lnTo>
                  <a:lnTo>
                    <a:pt x="1130" y="984"/>
                  </a:lnTo>
                  <a:lnTo>
                    <a:pt x="1130" y="984"/>
                  </a:lnTo>
                  <a:lnTo>
                    <a:pt x="1092" y="958"/>
                  </a:lnTo>
                  <a:lnTo>
                    <a:pt x="1054" y="932"/>
                  </a:lnTo>
                  <a:lnTo>
                    <a:pt x="1016" y="908"/>
                  </a:lnTo>
                  <a:lnTo>
                    <a:pt x="980" y="886"/>
                  </a:lnTo>
                  <a:lnTo>
                    <a:pt x="918" y="852"/>
                  </a:lnTo>
                  <a:lnTo>
                    <a:pt x="876" y="832"/>
                  </a:lnTo>
                  <a:lnTo>
                    <a:pt x="876" y="832"/>
                  </a:lnTo>
                  <a:lnTo>
                    <a:pt x="914" y="796"/>
                  </a:lnTo>
                  <a:lnTo>
                    <a:pt x="950" y="758"/>
                  </a:lnTo>
                  <a:lnTo>
                    <a:pt x="986" y="718"/>
                  </a:lnTo>
                  <a:lnTo>
                    <a:pt x="1022" y="678"/>
                  </a:lnTo>
                  <a:lnTo>
                    <a:pt x="1054" y="638"/>
                  </a:lnTo>
                  <a:lnTo>
                    <a:pt x="1084" y="598"/>
                  </a:lnTo>
                  <a:lnTo>
                    <a:pt x="1110" y="560"/>
                  </a:lnTo>
                  <a:lnTo>
                    <a:pt x="1134" y="522"/>
                  </a:lnTo>
                  <a:lnTo>
                    <a:pt x="1134" y="522"/>
                  </a:lnTo>
                  <a:lnTo>
                    <a:pt x="952" y="558"/>
                  </a:lnTo>
                  <a:lnTo>
                    <a:pt x="754" y="598"/>
                  </a:lnTo>
                  <a:lnTo>
                    <a:pt x="754" y="598"/>
                  </a:lnTo>
                  <a:lnTo>
                    <a:pt x="794" y="812"/>
                  </a:lnTo>
                  <a:lnTo>
                    <a:pt x="840" y="1034"/>
                  </a:lnTo>
                  <a:lnTo>
                    <a:pt x="864" y="1144"/>
                  </a:lnTo>
                  <a:lnTo>
                    <a:pt x="888" y="1250"/>
                  </a:lnTo>
                  <a:lnTo>
                    <a:pt x="914" y="1350"/>
                  </a:lnTo>
                  <a:lnTo>
                    <a:pt x="938" y="1446"/>
                  </a:lnTo>
                  <a:lnTo>
                    <a:pt x="636" y="1508"/>
                  </a:lnTo>
                  <a:lnTo>
                    <a:pt x="636" y="1508"/>
                  </a:lnTo>
                  <a:lnTo>
                    <a:pt x="600" y="1298"/>
                  </a:lnTo>
                  <a:lnTo>
                    <a:pt x="562" y="1084"/>
                  </a:lnTo>
                  <a:lnTo>
                    <a:pt x="520" y="868"/>
                  </a:lnTo>
                  <a:lnTo>
                    <a:pt x="478" y="654"/>
                  </a:lnTo>
                  <a:lnTo>
                    <a:pt x="478" y="654"/>
                  </a:lnTo>
                  <a:lnTo>
                    <a:pt x="72" y="744"/>
                  </a:lnTo>
                  <a:lnTo>
                    <a:pt x="0" y="458"/>
                  </a:lnTo>
                  <a:lnTo>
                    <a:pt x="0" y="458"/>
                  </a:lnTo>
                  <a:lnTo>
                    <a:pt x="102" y="448"/>
                  </a:lnTo>
                  <a:lnTo>
                    <a:pt x="208" y="436"/>
                  </a:lnTo>
                  <a:lnTo>
                    <a:pt x="316" y="422"/>
                  </a:lnTo>
                  <a:lnTo>
                    <a:pt x="426" y="404"/>
                  </a:lnTo>
                  <a:lnTo>
                    <a:pt x="426" y="404"/>
                  </a:lnTo>
                  <a:lnTo>
                    <a:pt x="398" y="258"/>
                  </a:lnTo>
                  <a:lnTo>
                    <a:pt x="366" y="120"/>
                  </a:lnTo>
                  <a:lnTo>
                    <a:pt x="366" y="120"/>
                  </a:lnTo>
                  <a:lnTo>
                    <a:pt x="356" y="78"/>
                  </a:lnTo>
                  <a:lnTo>
                    <a:pt x="356" y="78"/>
                  </a:lnTo>
                  <a:lnTo>
                    <a:pt x="352" y="62"/>
                  </a:lnTo>
                  <a:lnTo>
                    <a:pt x="350" y="48"/>
                  </a:lnTo>
                  <a:lnTo>
                    <a:pt x="350" y="48"/>
                  </a:lnTo>
                  <a:lnTo>
                    <a:pt x="352" y="40"/>
                  </a:lnTo>
                  <a:lnTo>
                    <a:pt x="356" y="32"/>
                  </a:lnTo>
                  <a:lnTo>
                    <a:pt x="356" y="32"/>
                  </a:lnTo>
                  <a:lnTo>
                    <a:pt x="364" y="28"/>
                  </a:lnTo>
                  <a:lnTo>
                    <a:pt x="374" y="24"/>
                  </a:lnTo>
                  <a:lnTo>
                    <a:pt x="394" y="22"/>
                  </a:lnTo>
                  <a:lnTo>
                    <a:pt x="394" y="22"/>
                  </a:lnTo>
                  <a:lnTo>
                    <a:pt x="446" y="16"/>
                  </a:lnTo>
                  <a:lnTo>
                    <a:pt x="512" y="8"/>
                  </a:lnTo>
                  <a:lnTo>
                    <a:pt x="624" y="0"/>
                  </a:lnTo>
                  <a:lnTo>
                    <a:pt x="624" y="0"/>
                  </a:lnTo>
                  <a:lnTo>
                    <a:pt x="636" y="0"/>
                  </a:lnTo>
                  <a:lnTo>
                    <a:pt x="636" y="0"/>
                  </a:lnTo>
                  <a:lnTo>
                    <a:pt x="656" y="0"/>
                  </a:lnTo>
                  <a:lnTo>
                    <a:pt x="664" y="2"/>
                  </a:lnTo>
                  <a:lnTo>
                    <a:pt x="672" y="6"/>
                  </a:lnTo>
                  <a:lnTo>
                    <a:pt x="678" y="10"/>
                  </a:lnTo>
                  <a:lnTo>
                    <a:pt x="682" y="16"/>
                  </a:lnTo>
                  <a:lnTo>
                    <a:pt x="684" y="22"/>
                  </a:lnTo>
                  <a:lnTo>
                    <a:pt x="684" y="30"/>
                  </a:lnTo>
                  <a:lnTo>
                    <a:pt x="684" y="30"/>
                  </a:lnTo>
                  <a:lnTo>
                    <a:pt x="684" y="42"/>
                  </a:lnTo>
                  <a:lnTo>
                    <a:pt x="678" y="56"/>
                  </a:lnTo>
                  <a:lnTo>
                    <a:pt x="678" y="56"/>
                  </a:lnTo>
                  <a:lnTo>
                    <a:pt x="670" y="76"/>
                  </a:lnTo>
                  <a:lnTo>
                    <a:pt x="668" y="86"/>
                  </a:lnTo>
                  <a:lnTo>
                    <a:pt x="666" y="98"/>
                  </a:lnTo>
                  <a:lnTo>
                    <a:pt x="666" y="98"/>
                  </a:lnTo>
                  <a:lnTo>
                    <a:pt x="670" y="126"/>
                  </a:lnTo>
                  <a:lnTo>
                    <a:pt x="670" y="126"/>
                  </a:lnTo>
                  <a:lnTo>
                    <a:pt x="686" y="226"/>
                  </a:lnTo>
                  <a:lnTo>
                    <a:pt x="710" y="356"/>
                  </a:lnTo>
                  <a:lnTo>
                    <a:pt x="710" y="356"/>
                  </a:lnTo>
                  <a:lnTo>
                    <a:pt x="998" y="306"/>
                  </a:lnTo>
                  <a:lnTo>
                    <a:pt x="1222" y="266"/>
                  </a:lnTo>
                  <a:lnTo>
                    <a:pt x="1222" y="266"/>
                  </a:lnTo>
                  <a:lnTo>
                    <a:pt x="1234" y="262"/>
                  </a:lnTo>
                  <a:lnTo>
                    <a:pt x="1250" y="256"/>
                  </a:lnTo>
                  <a:lnTo>
                    <a:pt x="1282" y="242"/>
                  </a:lnTo>
                  <a:lnTo>
                    <a:pt x="1282" y="242"/>
                  </a:lnTo>
                  <a:lnTo>
                    <a:pt x="1294" y="238"/>
                  </a:lnTo>
                  <a:lnTo>
                    <a:pt x="1306" y="236"/>
                  </a:lnTo>
                  <a:lnTo>
                    <a:pt x="1306" y="236"/>
                  </a:lnTo>
                  <a:lnTo>
                    <a:pt x="1314" y="236"/>
                  </a:lnTo>
                  <a:lnTo>
                    <a:pt x="1322" y="240"/>
                  </a:lnTo>
                  <a:lnTo>
                    <a:pt x="1344" y="248"/>
                  </a:lnTo>
                  <a:lnTo>
                    <a:pt x="1344" y="248"/>
                  </a:lnTo>
                  <a:lnTo>
                    <a:pt x="1374" y="264"/>
                  </a:lnTo>
                  <a:lnTo>
                    <a:pt x="1418" y="286"/>
                  </a:lnTo>
                  <a:lnTo>
                    <a:pt x="1462" y="312"/>
                  </a:lnTo>
                  <a:lnTo>
                    <a:pt x="1498" y="336"/>
                  </a:lnTo>
                  <a:lnTo>
                    <a:pt x="1498" y="336"/>
                  </a:lnTo>
                  <a:lnTo>
                    <a:pt x="1510" y="346"/>
                  </a:lnTo>
                  <a:lnTo>
                    <a:pt x="1516" y="354"/>
                  </a:lnTo>
                  <a:lnTo>
                    <a:pt x="1522" y="362"/>
                  </a:lnTo>
                  <a:lnTo>
                    <a:pt x="1522" y="372"/>
                  </a:lnTo>
                  <a:lnTo>
                    <a:pt x="1522" y="372"/>
                  </a:lnTo>
                  <a:lnTo>
                    <a:pt x="1522" y="376"/>
                  </a:lnTo>
                  <a:lnTo>
                    <a:pt x="1520" y="382"/>
                  </a:lnTo>
                  <a:lnTo>
                    <a:pt x="1514" y="392"/>
                  </a:lnTo>
                  <a:lnTo>
                    <a:pt x="1504" y="404"/>
                  </a:lnTo>
                  <a:lnTo>
                    <a:pt x="1494" y="414"/>
                  </a:lnTo>
                  <a:lnTo>
                    <a:pt x="1494" y="41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84"/>
            <p:cNvSpPr/>
            <p:nvPr/>
          </p:nvSpPr>
          <p:spPr>
            <a:xfrm>
              <a:off x="1333440" y="23234400"/>
              <a:ext cx="2749320" cy="2685960"/>
            </a:xfrm>
            <a:custGeom>
              <a:avLst/>
              <a:gdLst>
                <a:gd name="textAreaLeft" fmla="*/ 0 w 2749320"/>
                <a:gd name="textAreaRight" fmla="*/ 2749680 w 2749320"/>
                <a:gd name="textAreaTop" fmla="*/ 0 h 2685960"/>
                <a:gd name="textAreaBottom" fmla="*/ 2686320 h 2685960"/>
              </a:gdLst>
              <a:ahLst/>
              <a:rect l="textAreaLeft" t="textAreaTop" r="textAreaRight" b="textAreaBottom"/>
              <a:pathLst>
                <a:path w="1732" h="1692">
                  <a:moveTo>
                    <a:pt x="570" y="646"/>
                  </a:moveTo>
                  <a:lnTo>
                    <a:pt x="570" y="646"/>
                  </a:lnTo>
                  <a:lnTo>
                    <a:pt x="540" y="618"/>
                  </a:lnTo>
                  <a:lnTo>
                    <a:pt x="510" y="590"/>
                  </a:lnTo>
                  <a:lnTo>
                    <a:pt x="444" y="536"/>
                  </a:lnTo>
                  <a:lnTo>
                    <a:pt x="376" y="482"/>
                  </a:lnTo>
                  <a:lnTo>
                    <a:pt x="302" y="432"/>
                  </a:lnTo>
                  <a:lnTo>
                    <a:pt x="228" y="384"/>
                  </a:lnTo>
                  <a:lnTo>
                    <a:pt x="152" y="340"/>
                  </a:lnTo>
                  <a:lnTo>
                    <a:pt x="76" y="296"/>
                  </a:lnTo>
                  <a:lnTo>
                    <a:pt x="0" y="258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334" y="74"/>
                  </a:lnTo>
                  <a:lnTo>
                    <a:pt x="412" y="116"/>
                  </a:lnTo>
                  <a:lnTo>
                    <a:pt x="490" y="160"/>
                  </a:lnTo>
                  <a:lnTo>
                    <a:pt x="568" y="206"/>
                  </a:lnTo>
                  <a:lnTo>
                    <a:pt x="642" y="254"/>
                  </a:lnTo>
                  <a:lnTo>
                    <a:pt x="712" y="302"/>
                  </a:lnTo>
                  <a:lnTo>
                    <a:pt x="744" y="326"/>
                  </a:lnTo>
                  <a:lnTo>
                    <a:pt x="774" y="350"/>
                  </a:lnTo>
                  <a:lnTo>
                    <a:pt x="570" y="646"/>
                  </a:lnTo>
                  <a:close/>
                  <a:moveTo>
                    <a:pt x="448" y="1580"/>
                  </a:moveTo>
                  <a:lnTo>
                    <a:pt x="448" y="1580"/>
                  </a:lnTo>
                  <a:lnTo>
                    <a:pt x="404" y="1598"/>
                  </a:lnTo>
                  <a:lnTo>
                    <a:pt x="370" y="1610"/>
                  </a:lnTo>
                  <a:lnTo>
                    <a:pt x="370" y="1610"/>
                  </a:lnTo>
                  <a:lnTo>
                    <a:pt x="358" y="1618"/>
                  </a:lnTo>
                  <a:lnTo>
                    <a:pt x="350" y="1626"/>
                  </a:lnTo>
                  <a:lnTo>
                    <a:pt x="344" y="1634"/>
                  </a:lnTo>
                  <a:lnTo>
                    <a:pt x="338" y="1642"/>
                  </a:lnTo>
                  <a:lnTo>
                    <a:pt x="338" y="1642"/>
                  </a:lnTo>
                  <a:lnTo>
                    <a:pt x="332" y="1662"/>
                  </a:lnTo>
                  <a:lnTo>
                    <a:pt x="322" y="1678"/>
                  </a:lnTo>
                  <a:lnTo>
                    <a:pt x="316" y="1684"/>
                  </a:lnTo>
                  <a:lnTo>
                    <a:pt x="310" y="1688"/>
                  </a:lnTo>
                  <a:lnTo>
                    <a:pt x="302" y="1690"/>
                  </a:lnTo>
                  <a:lnTo>
                    <a:pt x="296" y="1692"/>
                  </a:lnTo>
                  <a:lnTo>
                    <a:pt x="296" y="1692"/>
                  </a:lnTo>
                  <a:lnTo>
                    <a:pt x="284" y="1690"/>
                  </a:lnTo>
                  <a:lnTo>
                    <a:pt x="272" y="1684"/>
                  </a:lnTo>
                  <a:lnTo>
                    <a:pt x="258" y="1672"/>
                  </a:lnTo>
                  <a:lnTo>
                    <a:pt x="246" y="1654"/>
                  </a:lnTo>
                  <a:lnTo>
                    <a:pt x="246" y="1654"/>
                  </a:lnTo>
                  <a:lnTo>
                    <a:pt x="202" y="1596"/>
                  </a:lnTo>
                  <a:lnTo>
                    <a:pt x="152" y="1524"/>
                  </a:lnTo>
                  <a:lnTo>
                    <a:pt x="102" y="1448"/>
                  </a:lnTo>
                  <a:lnTo>
                    <a:pt x="80" y="1412"/>
                  </a:lnTo>
                  <a:lnTo>
                    <a:pt x="60" y="1378"/>
                  </a:lnTo>
                  <a:lnTo>
                    <a:pt x="60" y="1378"/>
                  </a:lnTo>
                  <a:lnTo>
                    <a:pt x="50" y="1356"/>
                  </a:lnTo>
                  <a:lnTo>
                    <a:pt x="48" y="1342"/>
                  </a:lnTo>
                  <a:lnTo>
                    <a:pt x="48" y="1342"/>
                  </a:lnTo>
                  <a:lnTo>
                    <a:pt x="48" y="1336"/>
                  </a:lnTo>
                  <a:lnTo>
                    <a:pt x="50" y="1334"/>
                  </a:lnTo>
                  <a:lnTo>
                    <a:pt x="52" y="1332"/>
                  </a:lnTo>
                  <a:lnTo>
                    <a:pt x="52" y="1332"/>
                  </a:lnTo>
                  <a:lnTo>
                    <a:pt x="62" y="1330"/>
                  </a:lnTo>
                  <a:lnTo>
                    <a:pt x="74" y="1326"/>
                  </a:lnTo>
                  <a:lnTo>
                    <a:pt x="74" y="1326"/>
                  </a:lnTo>
                  <a:lnTo>
                    <a:pt x="128" y="1316"/>
                  </a:lnTo>
                  <a:lnTo>
                    <a:pt x="180" y="1304"/>
                  </a:lnTo>
                  <a:lnTo>
                    <a:pt x="234" y="1288"/>
                  </a:lnTo>
                  <a:lnTo>
                    <a:pt x="288" y="1272"/>
                  </a:lnTo>
                  <a:lnTo>
                    <a:pt x="340" y="1254"/>
                  </a:lnTo>
                  <a:lnTo>
                    <a:pt x="394" y="1234"/>
                  </a:lnTo>
                  <a:lnTo>
                    <a:pt x="446" y="1210"/>
                  </a:lnTo>
                  <a:lnTo>
                    <a:pt x="500" y="1186"/>
                  </a:lnTo>
                  <a:lnTo>
                    <a:pt x="552" y="1162"/>
                  </a:lnTo>
                  <a:lnTo>
                    <a:pt x="604" y="1134"/>
                  </a:lnTo>
                  <a:lnTo>
                    <a:pt x="656" y="1106"/>
                  </a:lnTo>
                  <a:lnTo>
                    <a:pt x="706" y="1076"/>
                  </a:lnTo>
                  <a:lnTo>
                    <a:pt x="758" y="1044"/>
                  </a:lnTo>
                  <a:lnTo>
                    <a:pt x="808" y="1010"/>
                  </a:lnTo>
                  <a:lnTo>
                    <a:pt x="858" y="976"/>
                  </a:lnTo>
                  <a:lnTo>
                    <a:pt x="906" y="942"/>
                  </a:lnTo>
                  <a:lnTo>
                    <a:pt x="956" y="906"/>
                  </a:lnTo>
                  <a:lnTo>
                    <a:pt x="1002" y="868"/>
                  </a:lnTo>
                  <a:lnTo>
                    <a:pt x="1050" y="830"/>
                  </a:lnTo>
                  <a:lnTo>
                    <a:pt x="1096" y="792"/>
                  </a:lnTo>
                  <a:lnTo>
                    <a:pt x="1184" y="712"/>
                  </a:lnTo>
                  <a:lnTo>
                    <a:pt x="1268" y="630"/>
                  </a:lnTo>
                  <a:lnTo>
                    <a:pt x="1348" y="546"/>
                  </a:lnTo>
                  <a:lnTo>
                    <a:pt x="1424" y="462"/>
                  </a:lnTo>
                  <a:lnTo>
                    <a:pt x="1492" y="376"/>
                  </a:lnTo>
                  <a:lnTo>
                    <a:pt x="1524" y="334"/>
                  </a:lnTo>
                  <a:lnTo>
                    <a:pt x="1554" y="290"/>
                  </a:lnTo>
                  <a:lnTo>
                    <a:pt x="1554" y="290"/>
                  </a:lnTo>
                  <a:lnTo>
                    <a:pt x="1578" y="340"/>
                  </a:lnTo>
                  <a:lnTo>
                    <a:pt x="1600" y="384"/>
                  </a:lnTo>
                  <a:lnTo>
                    <a:pt x="1622" y="422"/>
                  </a:lnTo>
                  <a:lnTo>
                    <a:pt x="1644" y="460"/>
                  </a:lnTo>
                  <a:lnTo>
                    <a:pt x="1686" y="528"/>
                  </a:lnTo>
                  <a:lnTo>
                    <a:pt x="1732" y="596"/>
                  </a:lnTo>
                  <a:lnTo>
                    <a:pt x="1732" y="596"/>
                  </a:lnTo>
                  <a:lnTo>
                    <a:pt x="1664" y="678"/>
                  </a:lnTo>
                  <a:lnTo>
                    <a:pt x="1594" y="756"/>
                  </a:lnTo>
                  <a:lnTo>
                    <a:pt x="1522" y="834"/>
                  </a:lnTo>
                  <a:lnTo>
                    <a:pt x="1448" y="908"/>
                  </a:lnTo>
                  <a:lnTo>
                    <a:pt x="1370" y="982"/>
                  </a:lnTo>
                  <a:lnTo>
                    <a:pt x="1292" y="1052"/>
                  </a:lnTo>
                  <a:lnTo>
                    <a:pt x="1212" y="1118"/>
                  </a:lnTo>
                  <a:lnTo>
                    <a:pt x="1130" y="1184"/>
                  </a:lnTo>
                  <a:lnTo>
                    <a:pt x="1046" y="1244"/>
                  </a:lnTo>
                  <a:lnTo>
                    <a:pt x="962" y="1304"/>
                  </a:lnTo>
                  <a:lnTo>
                    <a:pt x="876" y="1358"/>
                  </a:lnTo>
                  <a:lnTo>
                    <a:pt x="792" y="1410"/>
                  </a:lnTo>
                  <a:lnTo>
                    <a:pt x="706" y="1458"/>
                  </a:lnTo>
                  <a:lnTo>
                    <a:pt x="620" y="1502"/>
                  </a:lnTo>
                  <a:lnTo>
                    <a:pt x="534" y="1544"/>
                  </a:lnTo>
                  <a:lnTo>
                    <a:pt x="448" y="1580"/>
                  </a:lnTo>
                  <a:lnTo>
                    <a:pt x="448" y="158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85"/>
            <p:cNvSpPr/>
            <p:nvPr/>
          </p:nvSpPr>
          <p:spPr>
            <a:xfrm>
              <a:off x="1079280" y="26260200"/>
              <a:ext cx="3162240" cy="2520720"/>
            </a:xfrm>
            <a:custGeom>
              <a:avLst/>
              <a:gdLst>
                <a:gd name="textAreaLeft" fmla="*/ 0 w 3162240"/>
                <a:gd name="textAreaRight" fmla="*/ 3162600 w 3162240"/>
                <a:gd name="textAreaTop" fmla="*/ 0 h 2520720"/>
                <a:gd name="textAreaBottom" fmla="*/ 2521080 h 2520720"/>
              </a:gdLst>
              <a:ahLst/>
              <a:rect l="textAreaLeft" t="textAreaTop" r="textAreaRight" b="textAreaBottom"/>
              <a:pathLst>
                <a:path w="1992" h="1588">
                  <a:moveTo>
                    <a:pt x="1782" y="1588"/>
                  </a:moveTo>
                  <a:lnTo>
                    <a:pt x="1782" y="1588"/>
                  </a:lnTo>
                  <a:lnTo>
                    <a:pt x="1716" y="1528"/>
                  </a:lnTo>
                  <a:lnTo>
                    <a:pt x="1650" y="1466"/>
                  </a:lnTo>
                  <a:lnTo>
                    <a:pt x="1522" y="1340"/>
                  </a:lnTo>
                  <a:lnTo>
                    <a:pt x="1396" y="1210"/>
                  </a:lnTo>
                  <a:lnTo>
                    <a:pt x="1272" y="1082"/>
                  </a:lnTo>
                  <a:lnTo>
                    <a:pt x="1034" y="832"/>
                  </a:lnTo>
                  <a:lnTo>
                    <a:pt x="920" y="716"/>
                  </a:lnTo>
                  <a:lnTo>
                    <a:pt x="806" y="604"/>
                  </a:lnTo>
                  <a:lnTo>
                    <a:pt x="806" y="604"/>
                  </a:lnTo>
                  <a:lnTo>
                    <a:pt x="790" y="590"/>
                  </a:lnTo>
                  <a:lnTo>
                    <a:pt x="774" y="580"/>
                  </a:lnTo>
                  <a:lnTo>
                    <a:pt x="758" y="574"/>
                  </a:lnTo>
                  <a:lnTo>
                    <a:pt x="744" y="572"/>
                  </a:lnTo>
                  <a:lnTo>
                    <a:pt x="744" y="572"/>
                  </a:lnTo>
                  <a:lnTo>
                    <a:pt x="732" y="574"/>
                  </a:lnTo>
                  <a:lnTo>
                    <a:pt x="720" y="580"/>
                  </a:lnTo>
                  <a:lnTo>
                    <a:pt x="708" y="588"/>
                  </a:lnTo>
                  <a:lnTo>
                    <a:pt x="696" y="600"/>
                  </a:lnTo>
                  <a:lnTo>
                    <a:pt x="696" y="600"/>
                  </a:lnTo>
                  <a:lnTo>
                    <a:pt x="610" y="708"/>
                  </a:lnTo>
                  <a:lnTo>
                    <a:pt x="524" y="816"/>
                  </a:lnTo>
                  <a:lnTo>
                    <a:pt x="524" y="816"/>
                  </a:lnTo>
                  <a:lnTo>
                    <a:pt x="478" y="876"/>
                  </a:lnTo>
                  <a:lnTo>
                    <a:pt x="430" y="942"/>
                  </a:lnTo>
                  <a:lnTo>
                    <a:pt x="384" y="1006"/>
                  </a:lnTo>
                  <a:lnTo>
                    <a:pt x="342" y="1068"/>
                  </a:lnTo>
                  <a:lnTo>
                    <a:pt x="342" y="1068"/>
                  </a:lnTo>
                  <a:lnTo>
                    <a:pt x="318" y="1104"/>
                  </a:lnTo>
                  <a:lnTo>
                    <a:pt x="306" y="1122"/>
                  </a:lnTo>
                  <a:lnTo>
                    <a:pt x="302" y="1130"/>
                  </a:lnTo>
                  <a:lnTo>
                    <a:pt x="300" y="1140"/>
                  </a:lnTo>
                  <a:lnTo>
                    <a:pt x="300" y="1140"/>
                  </a:lnTo>
                  <a:lnTo>
                    <a:pt x="294" y="1156"/>
                  </a:lnTo>
                  <a:lnTo>
                    <a:pt x="288" y="1170"/>
                  </a:lnTo>
                  <a:lnTo>
                    <a:pt x="284" y="1176"/>
                  </a:lnTo>
                  <a:lnTo>
                    <a:pt x="278" y="1180"/>
                  </a:lnTo>
                  <a:lnTo>
                    <a:pt x="272" y="1184"/>
                  </a:lnTo>
                  <a:lnTo>
                    <a:pt x="264" y="1184"/>
                  </a:lnTo>
                  <a:lnTo>
                    <a:pt x="264" y="1184"/>
                  </a:lnTo>
                  <a:lnTo>
                    <a:pt x="256" y="1184"/>
                  </a:lnTo>
                  <a:lnTo>
                    <a:pt x="246" y="1180"/>
                  </a:lnTo>
                  <a:lnTo>
                    <a:pt x="236" y="1174"/>
                  </a:lnTo>
                  <a:lnTo>
                    <a:pt x="224" y="1164"/>
                  </a:lnTo>
                  <a:lnTo>
                    <a:pt x="224" y="1164"/>
                  </a:lnTo>
                  <a:lnTo>
                    <a:pt x="118" y="1064"/>
                  </a:lnTo>
                  <a:lnTo>
                    <a:pt x="60" y="1006"/>
                  </a:lnTo>
                  <a:lnTo>
                    <a:pt x="12" y="956"/>
                  </a:lnTo>
                  <a:lnTo>
                    <a:pt x="12" y="956"/>
                  </a:lnTo>
                  <a:lnTo>
                    <a:pt x="6" y="948"/>
                  </a:lnTo>
                  <a:lnTo>
                    <a:pt x="2" y="942"/>
                  </a:lnTo>
                  <a:lnTo>
                    <a:pt x="0" y="934"/>
                  </a:lnTo>
                  <a:lnTo>
                    <a:pt x="0" y="930"/>
                  </a:lnTo>
                  <a:lnTo>
                    <a:pt x="0" y="930"/>
                  </a:lnTo>
                  <a:lnTo>
                    <a:pt x="2" y="922"/>
                  </a:lnTo>
                  <a:lnTo>
                    <a:pt x="4" y="914"/>
                  </a:lnTo>
                  <a:lnTo>
                    <a:pt x="4" y="914"/>
                  </a:lnTo>
                  <a:lnTo>
                    <a:pt x="42" y="872"/>
                  </a:lnTo>
                  <a:lnTo>
                    <a:pt x="42" y="872"/>
                  </a:lnTo>
                  <a:lnTo>
                    <a:pt x="74" y="840"/>
                  </a:lnTo>
                  <a:lnTo>
                    <a:pt x="114" y="796"/>
                  </a:lnTo>
                  <a:lnTo>
                    <a:pt x="114" y="796"/>
                  </a:lnTo>
                  <a:lnTo>
                    <a:pt x="212" y="692"/>
                  </a:lnTo>
                  <a:lnTo>
                    <a:pt x="312" y="582"/>
                  </a:lnTo>
                  <a:lnTo>
                    <a:pt x="410" y="472"/>
                  </a:lnTo>
                  <a:lnTo>
                    <a:pt x="502" y="366"/>
                  </a:lnTo>
                  <a:lnTo>
                    <a:pt x="502" y="366"/>
                  </a:lnTo>
                  <a:lnTo>
                    <a:pt x="530" y="338"/>
                  </a:lnTo>
                  <a:lnTo>
                    <a:pt x="558" y="312"/>
                  </a:lnTo>
                  <a:lnTo>
                    <a:pt x="588" y="290"/>
                  </a:lnTo>
                  <a:lnTo>
                    <a:pt x="618" y="274"/>
                  </a:lnTo>
                  <a:lnTo>
                    <a:pt x="648" y="260"/>
                  </a:lnTo>
                  <a:lnTo>
                    <a:pt x="680" y="250"/>
                  </a:lnTo>
                  <a:lnTo>
                    <a:pt x="712" y="244"/>
                  </a:lnTo>
                  <a:lnTo>
                    <a:pt x="744" y="242"/>
                  </a:lnTo>
                  <a:lnTo>
                    <a:pt x="744" y="242"/>
                  </a:lnTo>
                  <a:lnTo>
                    <a:pt x="774" y="242"/>
                  </a:lnTo>
                  <a:lnTo>
                    <a:pt x="806" y="248"/>
                  </a:lnTo>
                  <a:lnTo>
                    <a:pt x="836" y="256"/>
                  </a:lnTo>
                  <a:lnTo>
                    <a:pt x="868" y="270"/>
                  </a:lnTo>
                  <a:lnTo>
                    <a:pt x="900" y="286"/>
                  </a:lnTo>
                  <a:lnTo>
                    <a:pt x="930" y="304"/>
                  </a:lnTo>
                  <a:lnTo>
                    <a:pt x="962" y="328"/>
                  </a:lnTo>
                  <a:lnTo>
                    <a:pt x="994" y="354"/>
                  </a:lnTo>
                  <a:lnTo>
                    <a:pt x="994" y="354"/>
                  </a:lnTo>
                  <a:lnTo>
                    <a:pt x="1114" y="466"/>
                  </a:lnTo>
                  <a:lnTo>
                    <a:pt x="1234" y="582"/>
                  </a:lnTo>
                  <a:lnTo>
                    <a:pt x="1356" y="698"/>
                  </a:lnTo>
                  <a:lnTo>
                    <a:pt x="1480" y="814"/>
                  </a:lnTo>
                  <a:lnTo>
                    <a:pt x="1480" y="814"/>
                  </a:lnTo>
                  <a:lnTo>
                    <a:pt x="1602" y="928"/>
                  </a:lnTo>
                  <a:lnTo>
                    <a:pt x="1726" y="1042"/>
                  </a:lnTo>
                  <a:lnTo>
                    <a:pt x="1790" y="1098"/>
                  </a:lnTo>
                  <a:lnTo>
                    <a:pt x="1856" y="1152"/>
                  </a:lnTo>
                  <a:lnTo>
                    <a:pt x="1922" y="1208"/>
                  </a:lnTo>
                  <a:lnTo>
                    <a:pt x="1992" y="1262"/>
                  </a:lnTo>
                  <a:lnTo>
                    <a:pt x="1992" y="1262"/>
                  </a:lnTo>
                  <a:lnTo>
                    <a:pt x="1940" y="1342"/>
                  </a:lnTo>
                  <a:lnTo>
                    <a:pt x="1888" y="1422"/>
                  </a:lnTo>
                  <a:lnTo>
                    <a:pt x="1834" y="1504"/>
                  </a:lnTo>
                  <a:lnTo>
                    <a:pt x="1782" y="1588"/>
                  </a:lnTo>
                  <a:lnTo>
                    <a:pt x="1782" y="1588"/>
                  </a:lnTo>
                  <a:close/>
                  <a:moveTo>
                    <a:pt x="1492" y="598"/>
                  </a:moveTo>
                  <a:lnTo>
                    <a:pt x="1492" y="598"/>
                  </a:lnTo>
                  <a:lnTo>
                    <a:pt x="1462" y="598"/>
                  </a:lnTo>
                  <a:lnTo>
                    <a:pt x="1432" y="592"/>
                  </a:lnTo>
                  <a:lnTo>
                    <a:pt x="1404" y="586"/>
                  </a:lnTo>
                  <a:lnTo>
                    <a:pt x="1376" y="576"/>
                  </a:lnTo>
                  <a:lnTo>
                    <a:pt x="1350" y="562"/>
                  </a:lnTo>
                  <a:lnTo>
                    <a:pt x="1324" y="548"/>
                  </a:lnTo>
                  <a:lnTo>
                    <a:pt x="1302" y="530"/>
                  </a:lnTo>
                  <a:lnTo>
                    <a:pt x="1280" y="510"/>
                  </a:lnTo>
                  <a:lnTo>
                    <a:pt x="1262" y="490"/>
                  </a:lnTo>
                  <a:lnTo>
                    <a:pt x="1244" y="466"/>
                  </a:lnTo>
                  <a:lnTo>
                    <a:pt x="1230" y="442"/>
                  </a:lnTo>
                  <a:lnTo>
                    <a:pt x="1216" y="416"/>
                  </a:lnTo>
                  <a:lnTo>
                    <a:pt x="1206" y="388"/>
                  </a:lnTo>
                  <a:lnTo>
                    <a:pt x="1200" y="360"/>
                  </a:lnTo>
                  <a:lnTo>
                    <a:pt x="1194" y="330"/>
                  </a:lnTo>
                  <a:lnTo>
                    <a:pt x="1194" y="300"/>
                  </a:lnTo>
                  <a:lnTo>
                    <a:pt x="1194" y="300"/>
                  </a:lnTo>
                  <a:lnTo>
                    <a:pt x="1194" y="268"/>
                  </a:lnTo>
                  <a:lnTo>
                    <a:pt x="1200" y="238"/>
                  </a:lnTo>
                  <a:lnTo>
                    <a:pt x="1206" y="210"/>
                  </a:lnTo>
                  <a:lnTo>
                    <a:pt x="1216" y="182"/>
                  </a:lnTo>
                  <a:lnTo>
                    <a:pt x="1230" y="156"/>
                  </a:lnTo>
                  <a:lnTo>
                    <a:pt x="1244" y="132"/>
                  </a:lnTo>
                  <a:lnTo>
                    <a:pt x="1262" y="108"/>
                  </a:lnTo>
                  <a:lnTo>
                    <a:pt x="1280" y="88"/>
                  </a:lnTo>
                  <a:lnTo>
                    <a:pt x="1302" y="68"/>
                  </a:lnTo>
                  <a:lnTo>
                    <a:pt x="1324" y="50"/>
                  </a:lnTo>
                  <a:lnTo>
                    <a:pt x="1350" y="36"/>
                  </a:lnTo>
                  <a:lnTo>
                    <a:pt x="1376" y="24"/>
                  </a:lnTo>
                  <a:lnTo>
                    <a:pt x="1404" y="14"/>
                  </a:lnTo>
                  <a:lnTo>
                    <a:pt x="1432" y="6"/>
                  </a:lnTo>
                  <a:lnTo>
                    <a:pt x="1462" y="2"/>
                  </a:lnTo>
                  <a:lnTo>
                    <a:pt x="1492" y="0"/>
                  </a:lnTo>
                  <a:lnTo>
                    <a:pt x="1492" y="0"/>
                  </a:lnTo>
                  <a:lnTo>
                    <a:pt x="1522" y="2"/>
                  </a:lnTo>
                  <a:lnTo>
                    <a:pt x="1552" y="6"/>
                  </a:lnTo>
                  <a:lnTo>
                    <a:pt x="1582" y="14"/>
                  </a:lnTo>
                  <a:lnTo>
                    <a:pt x="1608" y="24"/>
                  </a:lnTo>
                  <a:lnTo>
                    <a:pt x="1634" y="36"/>
                  </a:lnTo>
                  <a:lnTo>
                    <a:pt x="1660" y="50"/>
                  </a:lnTo>
                  <a:lnTo>
                    <a:pt x="1682" y="68"/>
                  </a:lnTo>
                  <a:lnTo>
                    <a:pt x="1704" y="88"/>
                  </a:lnTo>
                  <a:lnTo>
                    <a:pt x="1724" y="108"/>
                  </a:lnTo>
                  <a:lnTo>
                    <a:pt x="1740" y="132"/>
                  </a:lnTo>
                  <a:lnTo>
                    <a:pt x="1756" y="156"/>
                  </a:lnTo>
                  <a:lnTo>
                    <a:pt x="1768" y="182"/>
                  </a:lnTo>
                  <a:lnTo>
                    <a:pt x="1778" y="210"/>
                  </a:lnTo>
                  <a:lnTo>
                    <a:pt x="1786" y="238"/>
                  </a:lnTo>
                  <a:lnTo>
                    <a:pt x="1790" y="268"/>
                  </a:lnTo>
                  <a:lnTo>
                    <a:pt x="1792" y="300"/>
                  </a:lnTo>
                  <a:lnTo>
                    <a:pt x="1792" y="300"/>
                  </a:lnTo>
                  <a:lnTo>
                    <a:pt x="1790" y="330"/>
                  </a:lnTo>
                  <a:lnTo>
                    <a:pt x="1786" y="360"/>
                  </a:lnTo>
                  <a:lnTo>
                    <a:pt x="1778" y="388"/>
                  </a:lnTo>
                  <a:lnTo>
                    <a:pt x="1768" y="416"/>
                  </a:lnTo>
                  <a:lnTo>
                    <a:pt x="1756" y="442"/>
                  </a:lnTo>
                  <a:lnTo>
                    <a:pt x="1740" y="466"/>
                  </a:lnTo>
                  <a:lnTo>
                    <a:pt x="1724" y="490"/>
                  </a:lnTo>
                  <a:lnTo>
                    <a:pt x="1704" y="510"/>
                  </a:lnTo>
                  <a:lnTo>
                    <a:pt x="1682" y="530"/>
                  </a:lnTo>
                  <a:lnTo>
                    <a:pt x="1660" y="548"/>
                  </a:lnTo>
                  <a:lnTo>
                    <a:pt x="1634" y="562"/>
                  </a:lnTo>
                  <a:lnTo>
                    <a:pt x="1608" y="576"/>
                  </a:lnTo>
                  <a:lnTo>
                    <a:pt x="1582" y="586"/>
                  </a:lnTo>
                  <a:lnTo>
                    <a:pt x="1552" y="592"/>
                  </a:lnTo>
                  <a:lnTo>
                    <a:pt x="1522" y="598"/>
                  </a:lnTo>
                  <a:lnTo>
                    <a:pt x="1492" y="598"/>
                  </a:lnTo>
                  <a:lnTo>
                    <a:pt x="1492" y="598"/>
                  </a:lnTo>
                  <a:close/>
                  <a:moveTo>
                    <a:pt x="1492" y="182"/>
                  </a:moveTo>
                  <a:lnTo>
                    <a:pt x="1492" y="182"/>
                  </a:lnTo>
                  <a:lnTo>
                    <a:pt x="1480" y="184"/>
                  </a:lnTo>
                  <a:lnTo>
                    <a:pt x="1468" y="186"/>
                  </a:lnTo>
                  <a:lnTo>
                    <a:pt x="1448" y="192"/>
                  </a:lnTo>
                  <a:lnTo>
                    <a:pt x="1428" y="202"/>
                  </a:lnTo>
                  <a:lnTo>
                    <a:pt x="1410" y="218"/>
                  </a:lnTo>
                  <a:lnTo>
                    <a:pt x="1396" y="234"/>
                  </a:lnTo>
                  <a:lnTo>
                    <a:pt x="1386" y="254"/>
                  </a:lnTo>
                  <a:lnTo>
                    <a:pt x="1378" y="276"/>
                  </a:lnTo>
                  <a:lnTo>
                    <a:pt x="1376" y="288"/>
                  </a:lnTo>
                  <a:lnTo>
                    <a:pt x="1376" y="300"/>
                  </a:lnTo>
                  <a:lnTo>
                    <a:pt x="1376" y="300"/>
                  </a:lnTo>
                  <a:lnTo>
                    <a:pt x="1376" y="310"/>
                  </a:lnTo>
                  <a:lnTo>
                    <a:pt x="1378" y="322"/>
                  </a:lnTo>
                  <a:lnTo>
                    <a:pt x="1386" y="344"/>
                  </a:lnTo>
                  <a:lnTo>
                    <a:pt x="1396" y="362"/>
                  </a:lnTo>
                  <a:lnTo>
                    <a:pt x="1410" y="380"/>
                  </a:lnTo>
                  <a:lnTo>
                    <a:pt x="1428" y="394"/>
                  </a:lnTo>
                  <a:lnTo>
                    <a:pt x="1448" y="404"/>
                  </a:lnTo>
                  <a:lnTo>
                    <a:pt x="1468" y="412"/>
                  </a:lnTo>
                  <a:lnTo>
                    <a:pt x="1480" y="414"/>
                  </a:lnTo>
                  <a:lnTo>
                    <a:pt x="1492" y="414"/>
                  </a:lnTo>
                  <a:lnTo>
                    <a:pt x="1492" y="414"/>
                  </a:lnTo>
                  <a:lnTo>
                    <a:pt x="1504" y="414"/>
                  </a:lnTo>
                  <a:lnTo>
                    <a:pt x="1516" y="412"/>
                  </a:lnTo>
                  <a:lnTo>
                    <a:pt x="1538" y="404"/>
                  </a:lnTo>
                  <a:lnTo>
                    <a:pt x="1558" y="394"/>
                  </a:lnTo>
                  <a:lnTo>
                    <a:pt x="1574" y="380"/>
                  </a:lnTo>
                  <a:lnTo>
                    <a:pt x="1590" y="362"/>
                  </a:lnTo>
                  <a:lnTo>
                    <a:pt x="1600" y="344"/>
                  </a:lnTo>
                  <a:lnTo>
                    <a:pt x="1606" y="322"/>
                  </a:lnTo>
                  <a:lnTo>
                    <a:pt x="1608" y="310"/>
                  </a:lnTo>
                  <a:lnTo>
                    <a:pt x="1608" y="300"/>
                  </a:lnTo>
                  <a:lnTo>
                    <a:pt x="1608" y="300"/>
                  </a:lnTo>
                  <a:lnTo>
                    <a:pt x="1608" y="288"/>
                  </a:lnTo>
                  <a:lnTo>
                    <a:pt x="1606" y="276"/>
                  </a:lnTo>
                  <a:lnTo>
                    <a:pt x="1600" y="254"/>
                  </a:lnTo>
                  <a:lnTo>
                    <a:pt x="1590" y="234"/>
                  </a:lnTo>
                  <a:lnTo>
                    <a:pt x="1574" y="218"/>
                  </a:lnTo>
                  <a:lnTo>
                    <a:pt x="1558" y="202"/>
                  </a:lnTo>
                  <a:lnTo>
                    <a:pt x="1538" y="192"/>
                  </a:lnTo>
                  <a:lnTo>
                    <a:pt x="1516" y="186"/>
                  </a:lnTo>
                  <a:lnTo>
                    <a:pt x="1504" y="184"/>
                  </a:lnTo>
                  <a:lnTo>
                    <a:pt x="1492" y="182"/>
                  </a:lnTo>
                  <a:lnTo>
                    <a:pt x="1492" y="182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86"/>
            <p:cNvSpPr/>
            <p:nvPr/>
          </p:nvSpPr>
          <p:spPr>
            <a:xfrm>
              <a:off x="2298600" y="28990800"/>
              <a:ext cx="438120" cy="20127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276" h="1268">
                  <a:moveTo>
                    <a:pt x="268" y="0"/>
                  </a:moveTo>
                  <a:lnTo>
                    <a:pt x="268" y="0"/>
                  </a:lnTo>
                  <a:lnTo>
                    <a:pt x="264" y="76"/>
                  </a:lnTo>
                  <a:lnTo>
                    <a:pt x="262" y="186"/>
                  </a:lnTo>
                  <a:lnTo>
                    <a:pt x="260" y="324"/>
                  </a:lnTo>
                  <a:lnTo>
                    <a:pt x="260" y="482"/>
                  </a:lnTo>
                  <a:lnTo>
                    <a:pt x="260" y="482"/>
                  </a:lnTo>
                  <a:lnTo>
                    <a:pt x="260" y="722"/>
                  </a:lnTo>
                  <a:lnTo>
                    <a:pt x="264" y="954"/>
                  </a:lnTo>
                  <a:lnTo>
                    <a:pt x="268" y="1144"/>
                  </a:lnTo>
                  <a:lnTo>
                    <a:pt x="272" y="1216"/>
                  </a:lnTo>
                  <a:lnTo>
                    <a:pt x="276" y="1266"/>
                  </a:lnTo>
                  <a:lnTo>
                    <a:pt x="8" y="1268"/>
                  </a:lnTo>
                  <a:lnTo>
                    <a:pt x="8" y="1268"/>
                  </a:lnTo>
                  <a:lnTo>
                    <a:pt x="10" y="1200"/>
                  </a:lnTo>
                  <a:lnTo>
                    <a:pt x="12" y="1102"/>
                  </a:lnTo>
                  <a:lnTo>
                    <a:pt x="14" y="838"/>
                  </a:lnTo>
                  <a:lnTo>
                    <a:pt x="14" y="838"/>
                  </a:lnTo>
                  <a:lnTo>
                    <a:pt x="12" y="584"/>
                  </a:lnTo>
                  <a:lnTo>
                    <a:pt x="10" y="338"/>
                  </a:lnTo>
                  <a:lnTo>
                    <a:pt x="6" y="132"/>
                  </a:lnTo>
                  <a:lnTo>
                    <a:pt x="2" y="54"/>
                  </a:lnTo>
                  <a:lnTo>
                    <a:pt x="0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87"/>
            <p:cNvSpPr/>
            <p:nvPr/>
          </p:nvSpPr>
          <p:spPr>
            <a:xfrm>
              <a:off x="1333440" y="31435560"/>
              <a:ext cx="2749320" cy="2685960"/>
            </a:xfrm>
            <a:custGeom>
              <a:avLst/>
              <a:gdLst>
                <a:gd name="textAreaLeft" fmla="*/ 0 w 2749320"/>
                <a:gd name="textAreaRight" fmla="*/ 2749680 w 2749320"/>
                <a:gd name="textAreaTop" fmla="*/ 0 h 2685960"/>
                <a:gd name="textAreaBottom" fmla="*/ 2686320 h 2685960"/>
              </a:gdLst>
              <a:ahLst/>
              <a:rect l="textAreaLeft" t="textAreaTop" r="textAreaRight" b="textAreaBottom"/>
              <a:pathLst>
                <a:path w="1732" h="1692">
                  <a:moveTo>
                    <a:pt x="570" y="648"/>
                  </a:moveTo>
                  <a:lnTo>
                    <a:pt x="570" y="648"/>
                  </a:lnTo>
                  <a:lnTo>
                    <a:pt x="540" y="618"/>
                  </a:lnTo>
                  <a:lnTo>
                    <a:pt x="510" y="590"/>
                  </a:lnTo>
                  <a:lnTo>
                    <a:pt x="444" y="536"/>
                  </a:lnTo>
                  <a:lnTo>
                    <a:pt x="376" y="484"/>
                  </a:lnTo>
                  <a:lnTo>
                    <a:pt x="302" y="434"/>
                  </a:lnTo>
                  <a:lnTo>
                    <a:pt x="228" y="386"/>
                  </a:lnTo>
                  <a:lnTo>
                    <a:pt x="152" y="340"/>
                  </a:lnTo>
                  <a:lnTo>
                    <a:pt x="76" y="298"/>
                  </a:lnTo>
                  <a:lnTo>
                    <a:pt x="0" y="258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334" y="74"/>
                  </a:lnTo>
                  <a:lnTo>
                    <a:pt x="412" y="116"/>
                  </a:lnTo>
                  <a:lnTo>
                    <a:pt x="490" y="160"/>
                  </a:lnTo>
                  <a:lnTo>
                    <a:pt x="568" y="206"/>
                  </a:lnTo>
                  <a:lnTo>
                    <a:pt x="642" y="254"/>
                  </a:lnTo>
                  <a:lnTo>
                    <a:pt x="712" y="302"/>
                  </a:lnTo>
                  <a:lnTo>
                    <a:pt x="744" y="326"/>
                  </a:lnTo>
                  <a:lnTo>
                    <a:pt x="774" y="350"/>
                  </a:lnTo>
                  <a:lnTo>
                    <a:pt x="570" y="648"/>
                  </a:lnTo>
                  <a:close/>
                  <a:moveTo>
                    <a:pt x="448" y="1580"/>
                  </a:moveTo>
                  <a:lnTo>
                    <a:pt x="448" y="1580"/>
                  </a:lnTo>
                  <a:lnTo>
                    <a:pt x="404" y="1598"/>
                  </a:lnTo>
                  <a:lnTo>
                    <a:pt x="370" y="1612"/>
                  </a:lnTo>
                  <a:lnTo>
                    <a:pt x="370" y="1612"/>
                  </a:lnTo>
                  <a:lnTo>
                    <a:pt x="358" y="1620"/>
                  </a:lnTo>
                  <a:lnTo>
                    <a:pt x="350" y="1626"/>
                  </a:lnTo>
                  <a:lnTo>
                    <a:pt x="344" y="1634"/>
                  </a:lnTo>
                  <a:lnTo>
                    <a:pt x="338" y="1642"/>
                  </a:lnTo>
                  <a:lnTo>
                    <a:pt x="338" y="1642"/>
                  </a:lnTo>
                  <a:lnTo>
                    <a:pt x="332" y="1662"/>
                  </a:lnTo>
                  <a:lnTo>
                    <a:pt x="322" y="1678"/>
                  </a:lnTo>
                  <a:lnTo>
                    <a:pt x="316" y="1684"/>
                  </a:lnTo>
                  <a:lnTo>
                    <a:pt x="310" y="1688"/>
                  </a:lnTo>
                  <a:lnTo>
                    <a:pt x="302" y="1692"/>
                  </a:lnTo>
                  <a:lnTo>
                    <a:pt x="296" y="1692"/>
                  </a:lnTo>
                  <a:lnTo>
                    <a:pt x="296" y="1692"/>
                  </a:lnTo>
                  <a:lnTo>
                    <a:pt x="284" y="1690"/>
                  </a:lnTo>
                  <a:lnTo>
                    <a:pt x="272" y="1684"/>
                  </a:lnTo>
                  <a:lnTo>
                    <a:pt x="258" y="1672"/>
                  </a:lnTo>
                  <a:lnTo>
                    <a:pt x="246" y="1656"/>
                  </a:lnTo>
                  <a:lnTo>
                    <a:pt x="246" y="1656"/>
                  </a:lnTo>
                  <a:lnTo>
                    <a:pt x="202" y="1596"/>
                  </a:lnTo>
                  <a:lnTo>
                    <a:pt x="152" y="1524"/>
                  </a:lnTo>
                  <a:lnTo>
                    <a:pt x="102" y="1448"/>
                  </a:lnTo>
                  <a:lnTo>
                    <a:pt x="80" y="1412"/>
                  </a:lnTo>
                  <a:lnTo>
                    <a:pt x="60" y="1378"/>
                  </a:lnTo>
                  <a:lnTo>
                    <a:pt x="60" y="1378"/>
                  </a:lnTo>
                  <a:lnTo>
                    <a:pt x="50" y="1356"/>
                  </a:lnTo>
                  <a:lnTo>
                    <a:pt x="48" y="1344"/>
                  </a:lnTo>
                  <a:lnTo>
                    <a:pt x="48" y="1344"/>
                  </a:lnTo>
                  <a:lnTo>
                    <a:pt x="48" y="1338"/>
                  </a:lnTo>
                  <a:lnTo>
                    <a:pt x="50" y="1336"/>
                  </a:lnTo>
                  <a:lnTo>
                    <a:pt x="52" y="1334"/>
                  </a:lnTo>
                  <a:lnTo>
                    <a:pt x="52" y="1334"/>
                  </a:lnTo>
                  <a:lnTo>
                    <a:pt x="62" y="1330"/>
                  </a:lnTo>
                  <a:lnTo>
                    <a:pt x="74" y="1326"/>
                  </a:lnTo>
                  <a:lnTo>
                    <a:pt x="74" y="1326"/>
                  </a:lnTo>
                  <a:lnTo>
                    <a:pt x="128" y="1316"/>
                  </a:lnTo>
                  <a:lnTo>
                    <a:pt x="180" y="1304"/>
                  </a:lnTo>
                  <a:lnTo>
                    <a:pt x="234" y="1290"/>
                  </a:lnTo>
                  <a:lnTo>
                    <a:pt x="288" y="1272"/>
                  </a:lnTo>
                  <a:lnTo>
                    <a:pt x="340" y="1254"/>
                  </a:lnTo>
                  <a:lnTo>
                    <a:pt x="394" y="1234"/>
                  </a:lnTo>
                  <a:lnTo>
                    <a:pt x="446" y="1212"/>
                  </a:lnTo>
                  <a:lnTo>
                    <a:pt x="500" y="1188"/>
                  </a:lnTo>
                  <a:lnTo>
                    <a:pt x="552" y="1162"/>
                  </a:lnTo>
                  <a:lnTo>
                    <a:pt x="604" y="1134"/>
                  </a:lnTo>
                  <a:lnTo>
                    <a:pt x="656" y="1106"/>
                  </a:lnTo>
                  <a:lnTo>
                    <a:pt x="706" y="1076"/>
                  </a:lnTo>
                  <a:lnTo>
                    <a:pt x="758" y="1044"/>
                  </a:lnTo>
                  <a:lnTo>
                    <a:pt x="808" y="1012"/>
                  </a:lnTo>
                  <a:lnTo>
                    <a:pt x="858" y="978"/>
                  </a:lnTo>
                  <a:lnTo>
                    <a:pt x="906" y="942"/>
                  </a:lnTo>
                  <a:lnTo>
                    <a:pt x="956" y="906"/>
                  </a:lnTo>
                  <a:lnTo>
                    <a:pt x="1002" y="870"/>
                  </a:lnTo>
                  <a:lnTo>
                    <a:pt x="1050" y="832"/>
                  </a:lnTo>
                  <a:lnTo>
                    <a:pt x="1096" y="792"/>
                  </a:lnTo>
                  <a:lnTo>
                    <a:pt x="1184" y="712"/>
                  </a:lnTo>
                  <a:lnTo>
                    <a:pt x="1268" y="630"/>
                  </a:lnTo>
                  <a:lnTo>
                    <a:pt x="1348" y="548"/>
                  </a:lnTo>
                  <a:lnTo>
                    <a:pt x="1424" y="462"/>
                  </a:lnTo>
                  <a:lnTo>
                    <a:pt x="1492" y="376"/>
                  </a:lnTo>
                  <a:lnTo>
                    <a:pt x="1524" y="334"/>
                  </a:lnTo>
                  <a:lnTo>
                    <a:pt x="1554" y="292"/>
                  </a:lnTo>
                  <a:lnTo>
                    <a:pt x="1554" y="292"/>
                  </a:lnTo>
                  <a:lnTo>
                    <a:pt x="1578" y="340"/>
                  </a:lnTo>
                  <a:lnTo>
                    <a:pt x="1600" y="384"/>
                  </a:lnTo>
                  <a:lnTo>
                    <a:pt x="1622" y="424"/>
                  </a:lnTo>
                  <a:lnTo>
                    <a:pt x="1644" y="460"/>
                  </a:lnTo>
                  <a:lnTo>
                    <a:pt x="1686" y="528"/>
                  </a:lnTo>
                  <a:lnTo>
                    <a:pt x="1732" y="598"/>
                  </a:lnTo>
                  <a:lnTo>
                    <a:pt x="1732" y="598"/>
                  </a:lnTo>
                  <a:lnTo>
                    <a:pt x="1664" y="678"/>
                  </a:lnTo>
                  <a:lnTo>
                    <a:pt x="1594" y="758"/>
                  </a:lnTo>
                  <a:lnTo>
                    <a:pt x="1522" y="834"/>
                  </a:lnTo>
                  <a:lnTo>
                    <a:pt x="1448" y="910"/>
                  </a:lnTo>
                  <a:lnTo>
                    <a:pt x="1370" y="982"/>
                  </a:lnTo>
                  <a:lnTo>
                    <a:pt x="1292" y="1052"/>
                  </a:lnTo>
                  <a:lnTo>
                    <a:pt x="1212" y="1120"/>
                  </a:lnTo>
                  <a:lnTo>
                    <a:pt x="1130" y="1184"/>
                  </a:lnTo>
                  <a:lnTo>
                    <a:pt x="1046" y="1246"/>
                  </a:lnTo>
                  <a:lnTo>
                    <a:pt x="962" y="1304"/>
                  </a:lnTo>
                  <a:lnTo>
                    <a:pt x="876" y="1360"/>
                  </a:lnTo>
                  <a:lnTo>
                    <a:pt x="792" y="1412"/>
                  </a:lnTo>
                  <a:lnTo>
                    <a:pt x="706" y="1460"/>
                  </a:lnTo>
                  <a:lnTo>
                    <a:pt x="620" y="1504"/>
                  </a:lnTo>
                  <a:lnTo>
                    <a:pt x="534" y="1544"/>
                  </a:lnTo>
                  <a:lnTo>
                    <a:pt x="448" y="1580"/>
                  </a:lnTo>
                  <a:lnTo>
                    <a:pt x="448" y="158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8"/>
            <p:cNvSpPr/>
            <p:nvPr/>
          </p:nvSpPr>
          <p:spPr>
            <a:xfrm>
              <a:off x="4829400" y="15224040"/>
              <a:ext cx="3152880" cy="3298680"/>
            </a:xfrm>
            <a:custGeom>
              <a:avLst/>
              <a:gdLst>
                <a:gd name="textAreaLeft" fmla="*/ 0 w 3152880"/>
                <a:gd name="textAreaRight" fmla="*/ 3153240 w 3152880"/>
                <a:gd name="textAreaTop" fmla="*/ 0 h 3298680"/>
                <a:gd name="textAreaBottom" fmla="*/ 3299040 h 3298680"/>
              </a:gdLst>
              <a:ahLst/>
              <a:rect l="textAreaLeft" t="textAreaTop" r="textAreaRight" b="textAreaBottom"/>
              <a:pathLst>
                <a:path w="1986" h="2078">
                  <a:moveTo>
                    <a:pt x="730" y="666"/>
                  </a:moveTo>
                  <a:lnTo>
                    <a:pt x="730" y="666"/>
                  </a:lnTo>
                  <a:lnTo>
                    <a:pt x="710" y="676"/>
                  </a:lnTo>
                  <a:lnTo>
                    <a:pt x="698" y="686"/>
                  </a:lnTo>
                  <a:lnTo>
                    <a:pt x="686" y="696"/>
                  </a:lnTo>
                  <a:lnTo>
                    <a:pt x="678" y="710"/>
                  </a:lnTo>
                  <a:lnTo>
                    <a:pt x="678" y="710"/>
                  </a:lnTo>
                  <a:lnTo>
                    <a:pt x="646" y="756"/>
                  </a:lnTo>
                  <a:lnTo>
                    <a:pt x="614" y="802"/>
                  </a:lnTo>
                  <a:lnTo>
                    <a:pt x="578" y="846"/>
                  </a:lnTo>
                  <a:lnTo>
                    <a:pt x="542" y="890"/>
                  </a:lnTo>
                  <a:lnTo>
                    <a:pt x="542" y="890"/>
                  </a:lnTo>
                  <a:lnTo>
                    <a:pt x="508" y="1100"/>
                  </a:lnTo>
                  <a:lnTo>
                    <a:pt x="468" y="1354"/>
                  </a:lnTo>
                  <a:lnTo>
                    <a:pt x="468" y="1354"/>
                  </a:lnTo>
                  <a:lnTo>
                    <a:pt x="420" y="1672"/>
                  </a:lnTo>
                  <a:lnTo>
                    <a:pt x="402" y="1818"/>
                  </a:lnTo>
                  <a:lnTo>
                    <a:pt x="386" y="1940"/>
                  </a:lnTo>
                  <a:lnTo>
                    <a:pt x="96" y="1896"/>
                  </a:lnTo>
                  <a:lnTo>
                    <a:pt x="96" y="1896"/>
                  </a:lnTo>
                  <a:lnTo>
                    <a:pt x="128" y="1728"/>
                  </a:lnTo>
                  <a:lnTo>
                    <a:pt x="160" y="1540"/>
                  </a:lnTo>
                  <a:lnTo>
                    <a:pt x="190" y="1350"/>
                  </a:lnTo>
                  <a:lnTo>
                    <a:pt x="218" y="1174"/>
                  </a:lnTo>
                  <a:lnTo>
                    <a:pt x="218" y="1174"/>
                  </a:lnTo>
                  <a:lnTo>
                    <a:pt x="180" y="1202"/>
                  </a:lnTo>
                  <a:lnTo>
                    <a:pt x="138" y="1228"/>
                  </a:lnTo>
                  <a:lnTo>
                    <a:pt x="96" y="1256"/>
                  </a:lnTo>
                  <a:lnTo>
                    <a:pt x="52" y="1280"/>
                  </a:lnTo>
                  <a:lnTo>
                    <a:pt x="52" y="1280"/>
                  </a:lnTo>
                  <a:lnTo>
                    <a:pt x="52" y="1252"/>
                  </a:lnTo>
                  <a:lnTo>
                    <a:pt x="50" y="1218"/>
                  </a:lnTo>
                  <a:lnTo>
                    <a:pt x="46" y="1176"/>
                  </a:lnTo>
                  <a:lnTo>
                    <a:pt x="40" y="1128"/>
                  </a:lnTo>
                  <a:lnTo>
                    <a:pt x="32" y="1076"/>
                  </a:lnTo>
                  <a:lnTo>
                    <a:pt x="18" y="1022"/>
                  </a:lnTo>
                  <a:lnTo>
                    <a:pt x="10" y="996"/>
                  </a:lnTo>
                  <a:lnTo>
                    <a:pt x="0" y="970"/>
                  </a:lnTo>
                  <a:lnTo>
                    <a:pt x="0" y="970"/>
                  </a:lnTo>
                  <a:lnTo>
                    <a:pt x="56" y="940"/>
                  </a:lnTo>
                  <a:lnTo>
                    <a:pt x="106" y="910"/>
                  </a:lnTo>
                  <a:lnTo>
                    <a:pt x="154" y="880"/>
                  </a:lnTo>
                  <a:lnTo>
                    <a:pt x="196" y="850"/>
                  </a:lnTo>
                  <a:lnTo>
                    <a:pt x="236" y="818"/>
                  </a:lnTo>
                  <a:lnTo>
                    <a:pt x="272" y="788"/>
                  </a:lnTo>
                  <a:lnTo>
                    <a:pt x="304" y="756"/>
                  </a:lnTo>
                  <a:lnTo>
                    <a:pt x="332" y="728"/>
                  </a:lnTo>
                  <a:lnTo>
                    <a:pt x="358" y="698"/>
                  </a:lnTo>
                  <a:lnTo>
                    <a:pt x="380" y="672"/>
                  </a:lnTo>
                  <a:lnTo>
                    <a:pt x="398" y="646"/>
                  </a:lnTo>
                  <a:lnTo>
                    <a:pt x="414" y="622"/>
                  </a:lnTo>
                  <a:lnTo>
                    <a:pt x="428" y="600"/>
                  </a:lnTo>
                  <a:lnTo>
                    <a:pt x="438" y="580"/>
                  </a:lnTo>
                  <a:lnTo>
                    <a:pt x="446" y="564"/>
                  </a:lnTo>
                  <a:lnTo>
                    <a:pt x="450" y="550"/>
                  </a:lnTo>
                  <a:lnTo>
                    <a:pt x="450" y="550"/>
                  </a:lnTo>
                  <a:lnTo>
                    <a:pt x="456" y="526"/>
                  </a:lnTo>
                  <a:lnTo>
                    <a:pt x="462" y="512"/>
                  </a:lnTo>
                  <a:lnTo>
                    <a:pt x="464" y="508"/>
                  </a:lnTo>
                  <a:lnTo>
                    <a:pt x="466" y="504"/>
                  </a:lnTo>
                  <a:lnTo>
                    <a:pt x="470" y="504"/>
                  </a:lnTo>
                  <a:lnTo>
                    <a:pt x="474" y="504"/>
                  </a:lnTo>
                  <a:lnTo>
                    <a:pt x="474" y="504"/>
                  </a:lnTo>
                  <a:lnTo>
                    <a:pt x="486" y="506"/>
                  </a:lnTo>
                  <a:lnTo>
                    <a:pt x="502" y="512"/>
                  </a:lnTo>
                  <a:lnTo>
                    <a:pt x="502" y="512"/>
                  </a:lnTo>
                  <a:lnTo>
                    <a:pt x="554" y="530"/>
                  </a:lnTo>
                  <a:lnTo>
                    <a:pt x="608" y="548"/>
                  </a:lnTo>
                  <a:lnTo>
                    <a:pt x="666" y="570"/>
                  </a:lnTo>
                  <a:lnTo>
                    <a:pt x="726" y="596"/>
                  </a:lnTo>
                  <a:lnTo>
                    <a:pt x="726" y="596"/>
                  </a:lnTo>
                  <a:lnTo>
                    <a:pt x="742" y="604"/>
                  </a:lnTo>
                  <a:lnTo>
                    <a:pt x="754" y="614"/>
                  </a:lnTo>
                  <a:lnTo>
                    <a:pt x="758" y="618"/>
                  </a:lnTo>
                  <a:lnTo>
                    <a:pt x="760" y="624"/>
                  </a:lnTo>
                  <a:lnTo>
                    <a:pt x="762" y="628"/>
                  </a:lnTo>
                  <a:lnTo>
                    <a:pt x="762" y="634"/>
                  </a:lnTo>
                  <a:lnTo>
                    <a:pt x="762" y="634"/>
                  </a:lnTo>
                  <a:lnTo>
                    <a:pt x="758" y="642"/>
                  </a:lnTo>
                  <a:lnTo>
                    <a:pt x="752" y="650"/>
                  </a:lnTo>
                  <a:lnTo>
                    <a:pt x="742" y="658"/>
                  </a:lnTo>
                  <a:lnTo>
                    <a:pt x="730" y="666"/>
                  </a:lnTo>
                  <a:lnTo>
                    <a:pt x="730" y="666"/>
                  </a:lnTo>
                  <a:close/>
                  <a:moveTo>
                    <a:pt x="770" y="160"/>
                  </a:moveTo>
                  <a:lnTo>
                    <a:pt x="770" y="160"/>
                  </a:lnTo>
                  <a:lnTo>
                    <a:pt x="752" y="170"/>
                  </a:lnTo>
                  <a:lnTo>
                    <a:pt x="738" y="180"/>
                  </a:lnTo>
                  <a:lnTo>
                    <a:pt x="728" y="192"/>
                  </a:lnTo>
                  <a:lnTo>
                    <a:pt x="718" y="204"/>
                  </a:lnTo>
                  <a:lnTo>
                    <a:pt x="718" y="204"/>
                  </a:lnTo>
                  <a:lnTo>
                    <a:pt x="698" y="236"/>
                  </a:lnTo>
                  <a:lnTo>
                    <a:pt x="674" y="266"/>
                  </a:lnTo>
                  <a:lnTo>
                    <a:pt x="648" y="298"/>
                  </a:lnTo>
                  <a:lnTo>
                    <a:pt x="622" y="330"/>
                  </a:lnTo>
                  <a:lnTo>
                    <a:pt x="592" y="364"/>
                  </a:lnTo>
                  <a:lnTo>
                    <a:pt x="562" y="396"/>
                  </a:lnTo>
                  <a:lnTo>
                    <a:pt x="530" y="428"/>
                  </a:lnTo>
                  <a:lnTo>
                    <a:pt x="494" y="460"/>
                  </a:lnTo>
                  <a:lnTo>
                    <a:pt x="458" y="492"/>
                  </a:lnTo>
                  <a:lnTo>
                    <a:pt x="420" y="526"/>
                  </a:lnTo>
                  <a:lnTo>
                    <a:pt x="380" y="558"/>
                  </a:lnTo>
                  <a:lnTo>
                    <a:pt x="338" y="590"/>
                  </a:lnTo>
                  <a:lnTo>
                    <a:pt x="294" y="622"/>
                  </a:lnTo>
                  <a:lnTo>
                    <a:pt x="248" y="654"/>
                  </a:lnTo>
                  <a:lnTo>
                    <a:pt x="200" y="684"/>
                  </a:lnTo>
                  <a:lnTo>
                    <a:pt x="150" y="716"/>
                  </a:lnTo>
                  <a:lnTo>
                    <a:pt x="150" y="716"/>
                  </a:lnTo>
                  <a:lnTo>
                    <a:pt x="148" y="688"/>
                  </a:lnTo>
                  <a:lnTo>
                    <a:pt x="146" y="656"/>
                  </a:lnTo>
                  <a:lnTo>
                    <a:pt x="140" y="618"/>
                  </a:lnTo>
                  <a:lnTo>
                    <a:pt x="132" y="572"/>
                  </a:lnTo>
                  <a:lnTo>
                    <a:pt x="122" y="522"/>
                  </a:lnTo>
                  <a:lnTo>
                    <a:pt x="106" y="470"/>
                  </a:lnTo>
                  <a:lnTo>
                    <a:pt x="96" y="444"/>
                  </a:lnTo>
                  <a:lnTo>
                    <a:pt x="86" y="418"/>
                  </a:lnTo>
                  <a:lnTo>
                    <a:pt x="86" y="418"/>
                  </a:lnTo>
                  <a:lnTo>
                    <a:pt x="134" y="392"/>
                  </a:lnTo>
                  <a:lnTo>
                    <a:pt x="178" y="364"/>
                  </a:lnTo>
                  <a:lnTo>
                    <a:pt x="218" y="338"/>
                  </a:lnTo>
                  <a:lnTo>
                    <a:pt x="256" y="310"/>
                  </a:lnTo>
                  <a:lnTo>
                    <a:pt x="290" y="284"/>
                  </a:lnTo>
                  <a:lnTo>
                    <a:pt x="322" y="256"/>
                  </a:lnTo>
                  <a:lnTo>
                    <a:pt x="350" y="230"/>
                  </a:lnTo>
                  <a:lnTo>
                    <a:pt x="376" y="204"/>
                  </a:lnTo>
                  <a:lnTo>
                    <a:pt x="398" y="180"/>
                  </a:lnTo>
                  <a:lnTo>
                    <a:pt x="420" y="156"/>
                  </a:lnTo>
                  <a:lnTo>
                    <a:pt x="436" y="134"/>
                  </a:lnTo>
                  <a:lnTo>
                    <a:pt x="452" y="114"/>
                  </a:lnTo>
                  <a:lnTo>
                    <a:pt x="464" y="94"/>
                  </a:lnTo>
                  <a:lnTo>
                    <a:pt x="474" y="76"/>
                  </a:lnTo>
                  <a:lnTo>
                    <a:pt x="480" y="62"/>
                  </a:lnTo>
                  <a:lnTo>
                    <a:pt x="484" y="48"/>
                  </a:lnTo>
                  <a:lnTo>
                    <a:pt x="484" y="48"/>
                  </a:lnTo>
                  <a:lnTo>
                    <a:pt x="492" y="24"/>
                  </a:lnTo>
                  <a:lnTo>
                    <a:pt x="496" y="10"/>
                  </a:lnTo>
                  <a:lnTo>
                    <a:pt x="498" y="4"/>
                  </a:lnTo>
                  <a:lnTo>
                    <a:pt x="502" y="2"/>
                  </a:lnTo>
                  <a:lnTo>
                    <a:pt x="506" y="0"/>
                  </a:lnTo>
                  <a:lnTo>
                    <a:pt x="510" y="0"/>
                  </a:lnTo>
                  <a:lnTo>
                    <a:pt x="510" y="0"/>
                  </a:lnTo>
                  <a:lnTo>
                    <a:pt x="522" y="4"/>
                  </a:lnTo>
                  <a:lnTo>
                    <a:pt x="536" y="10"/>
                  </a:lnTo>
                  <a:lnTo>
                    <a:pt x="536" y="10"/>
                  </a:lnTo>
                  <a:lnTo>
                    <a:pt x="594" y="28"/>
                  </a:lnTo>
                  <a:lnTo>
                    <a:pt x="650" y="46"/>
                  </a:lnTo>
                  <a:lnTo>
                    <a:pt x="708" y="66"/>
                  </a:lnTo>
                  <a:lnTo>
                    <a:pt x="766" y="88"/>
                  </a:lnTo>
                  <a:lnTo>
                    <a:pt x="766" y="88"/>
                  </a:lnTo>
                  <a:lnTo>
                    <a:pt x="784" y="98"/>
                  </a:lnTo>
                  <a:lnTo>
                    <a:pt x="794" y="108"/>
                  </a:lnTo>
                  <a:lnTo>
                    <a:pt x="798" y="112"/>
                  </a:lnTo>
                  <a:lnTo>
                    <a:pt x="800" y="118"/>
                  </a:lnTo>
                  <a:lnTo>
                    <a:pt x="802" y="124"/>
                  </a:lnTo>
                  <a:lnTo>
                    <a:pt x="802" y="128"/>
                  </a:lnTo>
                  <a:lnTo>
                    <a:pt x="802" y="128"/>
                  </a:lnTo>
                  <a:lnTo>
                    <a:pt x="798" y="136"/>
                  </a:lnTo>
                  <a:lnTo>
                    <a:pt x="792" y="144"/>
                  </a:lnTo>
                  <a:lnTo>
                    <a:pt x="782" y="152"/>
                  </a:lnTo>
                  <a:lnTo>
                    <a:pt x="770" y="160"/>
                  </a:lnTo>
                  <a:lnTo>
                    <a:pt x="770" y="160"/>
                  </a:lnTo>
                  <a:close/>
                  <a:moveTo>
                    <a:pt x="1670" y="1618"/>
                  </a:moveTo>
                  <a:lnTo>
                    <a:pt x="1638" y="1828"/>
                  </a:lnTo>
                  <a:lnTo>
                    <a:pt x="1638" y="1828"/>
                  </a:lnTo>
                  <a:lnTo>
                    <a:pt x="1630" y="1864"/>
                  </a:lnTo>
                  <a:lnTo>
                    <a:pt x="1624" y="1898"/>
                  </a:lnTo>
                  <a:lnTo>
                    <a:pt x="1614" y="1928"/>
                  </a:lnTo>
                  <a:lnTo>
                    <a:pt x="1604" y="1956"/>
                  </a:lnTo>
                  <a:lnTo>
                    <a:pt x="1590" y="1982"/>
                  </a:lnTo>
                  <a:lnTo>
                    <a:pt x="1574" y="2004"/>
                  </a:lnTo>
                  <a:lnTo>
                    <a:pt x="1556" y="2024"/>
                  </a:lnTo>
                  <a:lnTo>
                    <a:pt x="1534" y="2040"/>
                  </a:lnTo>
                  <a:lnTo>
                    <a:pt x="1510" y="2054"/>
                  </a:lnTo>
                  <a:lnTo>
                    <a:pt x="1482" y="2064"/>
                  </a:lnTo>
                  <a:lnTo>
                    <a:pt x="1448" y="2072"/>
                  </a:lnTo>
                  <a:lnTo>
                    <a:pt x="1412" y="2076"/>
                  </a:lnTo>
                  <a:lnTo>
                    <a:pt x="1370" y="2078"/>
                  </a:lnTo>
                  <a:lnTo>
                    <a:pt x="1324" y="2076"/>
                  </a:lnTo>
                  <a:lnTo>
                    <a:pt x="1274" y="2072"/>
                  </a:lnTo>
                  <a:lnTo>
                    <a:pt x="1216" y="2064"/>
                  </a:lnTo>
                  <a:lnTo>
                    <a:pt x="1216" y="2064"/>
                  </a:lnTo>
                  <a:lnTo>
                    <a:pt x="1168" y="2056"/>
                  </a:lnTo>
                  <a:lnTo>
                    <a:pt x="1118" y="2048"/>
                  </a:lnTo>
                  <a:lnTo>
                    <a:pt x="1118" y="2048"/>
                  </a:lnTo>
                  <a:lnTo>
                    <a:pt x="1118" y="2024"/>
                  </a:lnTo>
                  <a:lnTo>
                    <a:pt x="1116" y="1964"/>
                  </a:lnTo>
                  <a:lnTo>
                    <a:pt x="1114" y="1924"/>
                  </a:lnTo>
                  <a:lnTo>
                    <a:pt x="1110" y="1880"/>
                  </a:lnTo>
                  <a:lnTo>
                    <a:pt x="1104" y="1834"/>
                  </a:lnTo>
                  <a:lnTo>
                    <a:pt x="1096" y="1788"/>
                  </a:lnTo>
                  <a:lnTo>
                    <a:pt x="930" y="1902"/>
                  </a:lnTo>
                  <a:lnTo>
                    <a:pt x="930" y="1902"/>
                  </a:lnTo>
                  <a:lnTo>
                    <a:pt x="892" y="1856"/>
                  </a:lnTo>
                  <a:lnTo>
                    <a:pt x="852" y="1812"/>
                  </a:lnTo>
                  <a:lnTo>
                    <a:pt x="812" y="1768"/>
                  </a:lnTo>
                  <a:lnTo>
                    <a:pt x="772" y="1726"/>
                  </a:lnTo>
                  <a:lnTo>
                    <a:pt x="688" y="1644"/>
                  </a:lnTo>
                  <a:lnTo>
                    <a:pt x="604" y="1566"/>
                  </a:lnTo>
                  <a:lnTo>
                    <a:pt x="750" y="1476"/>
                  </a:lnTo>
                  <a:lnTo>
                    <a:pt x="750" y="1476"/>
                  </a:lnTo>
                  <a:lnTo>
                    <a:pt x="632" y="1460"/>
                  </a:lnTo>
                  <a:lnTo>
                    <a:pt x="512" y="1444"/>
                  </a:lnTo>
                  <a:lnTo>
                    <a:pt x="552" y="1188"/>
                  </a:lnTo>
                  <a:lnTo>
                    <a:pt x="552" y="1188"/>
                  </a:lnTo>
                  <a:lnTo>
                    <a:pt x="912" y="1252"/>
                  </a:lnTo>
                  <a:lnTo>
                    <a:pt x="1090" y="1282"/>
                  </a:lnTo>
                  <a:lnTo>
                    <a:pt x="1268" y="1310"/>
                  </a:lnTo>
                  <a:lnTo>
                    <a:pt x="1268" y="1310"/>
                  </a:lnTo>
                  <a:lnTo>
                    <a:pt x="1414" y="1332"/>
                  </a:lnTo>
                  <a:lnTo>
                    <a:pt x="1426" y="1256"/>
                  </a:lnTo>
                  <a:lnTo>
                    <a:pt x="1426" y="1256"/>
                  </a:lnTo>
                  <a:lnTo>
                    <a:pt x="1244" y="1228"/>
                  </a:lnTo>
                  <a:lnTo>
                    <a:pt x="1244" y="1228"/>
                  </a:lnTo>
                  <a:lnTo>
                    <a:pt x="1096" y="1206"/>
                  </a:lnTo>
                  <a:lnTo>
                    <a:pt x="950" y="1186"/>
                  </a:lnTo>
                  <a:lnTo>
                    <a:pt x="800" y="1166"/>
                  </a:lnTo>
                  <a:lnTo>
                    <a:pt x="648" y="1148"/>
                  </a:lnTo>
                  <a:lnTo>
                    <a:pt x="686" y="898"/>
                  </a:lnTo>
                  <a:lnTo>
                    <a:pt x="686" y="898"/>
                  </a:lnTo>
                  <a:lnTo>
                    <a:pt x="996" y="954"/>
                  </a:lnTo>
                  <a:lnTo>
                    <a:pt x="1148" y="978"/>
                  </a:lnTo>
                  <a:lnTo>
                    <a:pt x="1298" y="1002"/>
                  </a:lnTo>
                  <a:lnTo>
                    <a:pt x="1298" y="1002"/>
                  </a:lnTo>
                  <a:lnTo>
                    <a:pt x="1452" y="1026"/>
                  </a:lnTo>
                  <a:lnTo>
                    <a:pt x="1606" y="1048"/>
                  </a:lnTo>
                  <a:lnTo>
                    <a:pt x="1928" y="1088"/>
                  </a:lnTo>
                  <a:lnTo>
                    <a:pt x="1888" y="1338"/>
                  </a:lnTo>
                  <a:lnTo>
                    <a:pt x="1888" y="1338"/>
                  </a:lnTo>
                  <a:lnTo>
                    <a:pt x="1802" y="1322"/>
                  </a:lnTo>
                  <a:lnTo>
                    <a:pt x="1760" y="1314"/>
                  </a:lnTo>
                  <a:lnTo>
                    <a:pt x="1718" y="1306"/>
                  </a:lnTo>
                  <a:lnTo>
                    <a:pt x="1708" y="1374"/>
                  </a:lnTo>
                  <a:lnTo>
                    <a:pt x="1708" y="1374"/>
                  </a:lnTo>
                  <a:lnTo>
                    <a:pt x="1946" y="1404"/>
                  </a:lnTo>
                  <a:lnTo>
                    <a:pt x="1906" y="1660"/>
                  </a:lnTo>
                  <a:lnTo>
                    <a:pt x="1906" y="1660"/>
                  </a:lnTo>
                  <a:lnTo>
                    <a:pt x="1670" y="1618"/>
                  </a:lnTo>
                  <a:lnTo>
                    <a:pt x="1670" y="1618"/>
                  </a:lnTo>
                  <a:close/>
                  <a:moveTo>
                    <a:pt x="752" y="852"/>
                  </a:moveTo>
                  <a:lnTo>
                    <a:pt x="864" y="130"/>
                  </a:lnTo>
                  <a:lnTo>
                    <a:pt x="1986" y="302"/>
                  </a:lnTo>
                  <a:lnTo>
                    <a:pt x="1874" y="1024"/>
                  </a:lnTo>
                  <a:lnTo>
                    <a:pt x="752" y="852"/>
                  </a:lnTo>
                  <a:close/>
                  <a:moveTo>
                    <a:pt x="1378" y="1572"/>
                  </a:moveTo>
                  <a:lnTo>
                    <a:pt x="1378" y="1572"/>
                  </a:lnTo>
                  <a:lnTo>
                    <a:pt x="1216" y="1546"/>
                  </a:lnTo>
                  <a:lnTo>
                    <a:pt x="1216" y="1546"/>
                  </a:lnTo>
                  <a:lnTo>
                    <a:pt x="904" y="1498"/>
                  </a:lnTo>
                  <a:lnTo>
                    <a:pt x="904" y="1498"/>
                  </a:lnTo>
                  <a:lnTo>
                    <a:pt x="964" y="1552"/>
                  </a:lnTo>
                  <a:lnTo>
                    <a:pt x="1026" y="1610"/>
                  </a:lnTo>
                  <a:lnTo>
                    <a:pt x="1090" y="1674"/>
                  </a:lnTo>
                  <a:lnTo>
                    <a:pt x="1158" y="1744"/>
                  </a:lnTo>
                  <a:lnTo>
                    <a:pt x="1124" y="1764"/>
                  </a:lnTo>
                  <a:lnTo>
                    <a:pt x="1124" y="1764"/>
                  </a:lnTo>
                  <a:lnTo>
                    <a:pt x="1188" y="1780"/>
                  </a:lnTo>
                  <a:lnTo>
                    <a:pt x="1238" y="1788"/>
                  </a:lnTo>
                  <a:lnTo>
                    <a:pt x="1238" y="1788"/>
                  </a:lnTo>
                  <a:lnTo>
                    <a:pt x="1268" y="1792"/>
                  </a:lnTo>
                  <a:lnTo>
                    <a:pt x="1294" y="1792"/>
                  </a:lnTo>
                  <a:lnTo>
                    <a:pt x="1312" y="1788"/>
                  </a:lnTo>
                  <a:lnTo>
                    <a:pt x="1320" y="1786"/>
                  </a:lnTo>
                  <a:lnTo>
                    <a:pt x="1328" y="1782"/>
                  </a:lnTo>
                  <a:lnTo>
                    <a:pt x="1334" y="1776"/>
                  </a:lnTo>
                  <a:lnTo>
                    <a:pt x="1338" y="1770"/>
                  </a:lnTo>
                  <a:lnTo>
                    <a:pt x="1346" y="1756"/>
                  </a:lnTo>
                  <a:lnTo>
                    <a:pt x="1352" y="1736"/>
                  </a:lnTo>
                  <a:lnTo>
                    <a:pt x="1356" y="1714"/>
                  </a:lnTo>
                  <a:lnTo>
                    <a:pt x="1378" y="1572"/>
                  </a:lnTo>
                  <a:close/>
                  <a:moveTo>
                    <a:pt x="1646" y="710"/>
                  </a:moveTo>
                  <a:lnTo>
                    <a:pt x="1064" y="620"/>
                  </a:lnTo>
                  <a:lnTo>
                    <a:pt x="1054" y="688"/>
                  </a:lnTo>
                  <a:lnTo>
                    <a:pt x="1636" y="778"/>
                  </a:lnTo>
                  <a:lnTo>
                    <a:pt x="1646" y="710"/>
                  </a:lnTo>
                  <a:close/>
                  <a:moveTo>
                    <a:pt x="1684" y="466"/>
                  </a:moveTo>
                  <a:lnTo>
                    <a:pt x="1102" y="378"/>
                  </a:lnTo>
                  <a:lnTo>
                    <a:pt x="1094" y="436"/>
                  </a:lnTo>
                  <a:lnTo>
                    <a:pt x="1674" y="526"/>
                  </a:lnTo>
                  <a:lnTo>
                    <a:pt x="1684" y="46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89"/>
            <p:cNvSpPr/>
            <p:nvPr/>
          </p:nvSpPr>
          <p:spPr>
            <a:xfrm>
              <a:off x="1235160" y="10762920"/>
              <a:ext cx="4705200" cy="4651200"/>
            </a:xfrm>
            <a:custGeom>
              <a:avLst/>
              <a:gdLst>
                <a:gd name="textAreaLeft" fmla="*/ 0 w 4705200"/>
                <a:gd name="textAreaRight" fmla="*/ 4705560 w 4705200"/>
                <a:gd name="textAreaTop" fmla="*/ 0 h 4651200"/>
                <a:gd name="textAreaBottom" fmla="*/ 4651560 h 4651200"/>
              </a:gdLst>
              <a:ahLst/>
              <a:rect l="textAreaLeft" t="textAreaTop" r="textAreaRight" b="textAreaBottom"/>
              <a:pathLst>
                <a:path w="2964" h="2930">
                  <a:moveTo>
                    <a:pt x="1740" y="2196"/>
                  </a:moveTo>
                  <a:lnTo>
                    <a:pt x="1740" y="2196"/>
                  </a:lnTo>
                  <a:lnTo>
                    <a:pt x="1802" y="2544"/>
                  </a:lnTo>
                  <a:lnTo>
                    <a:pt x="1832" y="2704"/>
                  </a:lnTo>
                  <a:lnTo>
                    <a:pt x="1858" y="2850"/>
                  </a:lnTo>
                  <a:lnTo>
                    <a:pt x="1364" y="2930"/>
                  </a:lnTo>
                  <a:lnTo>
                    <a:pt x="1364" y="2930"/>
                  </a:lnTo>
                  <a:lnTo>
                    <a:pt x="1344" y="2784"/>
                  </a:lnTo>
                  <a:lnTo>
                    <a:pt x="1322" y="2622"/>
                  </a:lnTo>
                  <a:lnTo>
                    <a:pt x="1296" y="2450"/>
                  </a:lnTo>
                  <a:lnTo>
                    <a:pt x="1268" y="2272"/>
                  </a:lnTo>
                  <a:lnTo>
                    <a:pt x="1268" y="2272"/>
                  </a:lnTo>
                  <a:lnTo>
                    <a:pt x="964" y="2322"/>
                  </a:lnTo>
                  <a:lnTo>
                    <a:pt x="662" y="2374"/>
                  </a:lnTo>
                  <a:lnTo>
                    <a:pt x="364" y="2428"/>
                  </a:lnTo>
                  <a:lnTo>
                    <a:pt x="70" y="2482"/>
                  </a:lnTo>
                  <a:lnTo>
                    <a:pt x="0" y="2040"/>
                  </a:lnTo>
                  <a:lnTo>
                    <a:pt x="0" y="2040"/>
                  </a:lnTo>
                  <a:lnTo>
                    <a:pt x="298" y="2002"/>
                  </a:lnTo>
                  <a:lnTo>
                    <a:pt x="598" y="1960"/>
                  </a:lnTo>
                  <a:lnTo>
                    <a:pt x="900" y="1916"/>
                  </a:lnTo>
                  <a:lnTo>
                    <a:pt x="1206" y="1870"/>
                  </a:lnTo>
                  <a:lnTo>
                    <a:pt x="1170" y="1648"/>
                  </a:lnTo>
                  <a:lnTo>
                    <a:pt x="324" y="1784"/>
                  </a:lnTo>
                  <a:lnTo>
                    <a:pt x="92" y="352"/>
                  </a:lnTo>
                  <a:lnTo>
                    <a:pt x="2276" y="0"/>
                  </a:lnTo>
                  <a:lnTo>
                    <a:pt x="2506" y="1432"/>
                  </a:lnTo>
                  <a:lnTo>
                    <a:pt x="1640" y="1572"/>
                  </a:lnTo>
                  <a:lnTo>
                    <a:pt x="1676" y="1794"/>
                  </a:lnTo>
                  <a:lnTo>
                    <a:pt x="1676" y="1794"/>
                  </a:lnTo>
                  <a:lnTo>
                    <a:pt x="1982" y="1742"/>
                  </a:lnTo>
                  <a:lnTo>
                    <a:pt x="2286" y="1688"/>
                  </a:lnTo>
                  <a:lnTo>
                    <a:pt x="2592" y="1632"/>
                  </a:lnTo>
                  <a:lnTo>
                    <a:pt x="2894" y="1574"/>
                  </a:lnTo>
                  <a:lnTo>
                    <a:pt x="2964" y="2016"/>
                  </a:lnTo>
                  <a:lnTo>
                    <a:pt x="2964" y="2016"/>
                  </a:lnTo>
                  <a:lnTo>
                    <a:pt x="2662" y="2058"/>
                  </a:lnTo>
                  <a:lnTo>
                    <a:pt x="2358" y="2102"/>
                  </a:lnTo>
                  <a:lnTo>
                    <a:pt x="2050" y="2148"/>
                  </a:lnTo>
                  <a:lnTo>
                    <a:pt x="1740" y="2196"/>
                  </a:lnTo>
                  <a:lnTo>
                    <a:pt x="1740" y="2196"/>
                  </a:lnTo>
                  <a:close/>
                  <a:moveTo>
                    <a:pt x="1896" y="436"/>
                  </a:moveTo>
                  <a:lnTo>
                    <a:pt x="590" y="646"/>
                  </a:lnTo>
                  <a:lnTo>
                    <a:pt x="618" y="816"/>
                  </a:lnTo>
                  <a:lnTo>
                    <a:pt x="1922" y="606"/>
                  </a:lnTo>
                  <a:lnTo>
                    <a:pt x="1896" y="436"/>
                  </a:lnTo>
                  <a:close/>
                  <a:moveTo>
                    <a:pt x="1978" y="950"/>
                  </a:moveTo>
                  <a:lnTo>
                    <a:pt x="674" y="1160"/>
                  </a:lnTo>
                  <a:lnTo>
                    <a:pt x="704" y="1348"/>
                  </a:lnTo>
                  <a:lnTo>
                    <a:pt x="2008" y="1138"/>
                  </a:lnTo>
                  <a:lnTo>
                    <a:pt x="1978" y="95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90"/>
            <p:cNvSpPr/>
            <p:nvPr/>
          </p:nvSpPr>
          <p:spPr>
            <a:xfrm>
              <a:off x="5102280" y="31419720"/>
              <a:ext cx="1073160" cy="263196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631960"/>
                <a:gd name="textAreaBottom" fmla="*/ 2631960 h 2631960"/>
              </a:gdLst>
              <a:ahLst/>
              <a:rect l="textAreaLeft" t="textAreaTop" r="textAreaRight" b="textAreaBottom"/>
              <a:pathLst>
                <a:path w="676" h="1658">
                  <a:moveTo>
                    <a:pt x="0" y="1586"/>
                  </a:moveTo>
                  <a:lnTo>
                    <a:pt x="64" y="1250"/>
                  </a:lnTo>
                  <a:lnTo>
                    <a:pt x="436" y="1320"/>
                  </a:lnTo>
                  <a:lnTo>
                    <a:pt x="370" y="1658"/>
                  </a:lnTo>
                  <a:lnTo>
                    <a:pt x="0" y="1586"/>
                  </a:lnTo>
                  <a:close/>
                  <a:moveTo>
                    <a:pt x="530" y="758"/>
                  </a:moveTo>
                  <a:lnTo>
                    <a:pt x="530" y="758"/>
                  </a:lnTo>
                  <a:lnTo>
                    <a:pt x="508" y="840"/>
                  </a:lnTo>
                  <a:lnTo>
                    <a:pt x="468" y="980"/>
                  </a:lnTo>
                  <a:lnTo>
                    <a:pt x="400" y="1202"/>
                  </a:lnTo>
                  <a:lnTo>
                    <a:pt x="146" y="1154"/>
                  </a:lnTo>
                  <a:lnTo>
                    <a:pt x="146" y="1154"/>
                  </a:lnTo>
                  <a:lnTo>
                    <a:pt x="166" y="920"/>
                  </a:lnTo>
                  <a:lnTo>
                    <a:pt x="180" y="774"/>
                  </a:lnTo>
                  <a:lnTo>
                    <a:pt x="190" y="688"/>
                  </a:lnTo>
                  <a:lnTo>
                    <a:pt x="190" y="688"/>
                  </a:lnTo>
                  <a:lnTo>
                    <a:pt x="216" y="524"/>
                  </a:lnTo>
                  <a:lnTo>
                    <a:pt x="248" y="352"/>
                  </a:lnTo>
                  <a:lnTo>
                    <a:pt x="312" y="0"/>
                  </a:lnTo>
                  <a:lnTo>
                    <a:pt x="676" y="70"/>
                  </a:lnTo>
                  <a:lnTo>
                    <a:pt x="676" y="70"/>
                  </a:lnTo>
                  <a:lnTo>
                    <a:pt x="604" y="424"/>
                  </a:lnTo>
                  <a:lnTo>
                    <a:pt x="568" y="598"/>
                  </a:lnTo>
                  <a:lnTo>
                    <a:pt x="530" y="758"/>
                  </a:lnTo>
                  <a:lnTo>
                    <a:pt x="530" y="75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6207480" y="31632480"/>
              <a:ext cx="1073160" cy="263196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631960"/>
                <a:gd name="textAreaBottom" fmla="*/ 2631960 h 2631960"/>
              </a:gdLst>
              <a:ahLst/>
              <a:rect l="textAreaLeft" t="textAreaTop" r="textAreaRight" b="textAreaBottom"/>
              <a:pathLst>
                <a:path w="676" h="1658">
                  <a:moveTo>
                    <a:pt x="0" y="1584"/>
                  </a:moveTo>
                  <a:lnTo>
                    <a:pt x="64" y="1250"/>
                  </a:lnTo>
                  <a:lnTo>
                    <a:pt x="434" y="1320"/>
                  </a:lnTo>
                  <a:lnTo>
                    <a:pt x="370" y="1658"/>
                  </a:lnTo>
                  <a:lnTo>
                    <a:pt x="0" y="1584"/>
                  </a:lnTo>
                  <a:close/>
                  <a:moveTo>
                    <a:pt x="530" y="758"/>
                  </a:moveTo>
                  <a:lnTo>
                    <a:pt x="530" y="758"/>
                  </a:lnTo>
                  <a:lnTo>
                    <a:pt x="508" y="840"/>
                  </a:lnTo>
                  <a:lnTo>
                    <a:pt x="466" y="980"/>
                  </a:lnTo>
                  <a:lnTo>
                    <a:pt x="400" y="1202"/>
                  </a:lnTo>
                  <a:lnTo>
                    <a:pt x="146" y="1154"/>
                  </a:lnTo>
                  <a:lnTo>
                    <a:pt x="146" y="1154"/>
                  </a:lnTo>
                  <a:lnTo>
                    <a:pt x="166" y="920"/>
                  </a:lnTo>
                  <a:lnTo>
                    <a:pt x="180" y="774"/>
                  </a:lnTo>
                  <a:lnTo>
                    <a:pt x="190" y="686"/>
                  </a:lnTo>
                  <a:lnTo>
                    <a:pt x="190" y="686"/>
                  </a:lnTo>
                  <a:lnTo>
                    <a:pt x="216" y="524"/>
                  </a:lnTo>
                  <a:lnTo>
                    <a:pt x="246" y="352"/>
                  </a:lnTo>
                  <a:lnTo>
                    <a:pt x="312" y="0"/>
                  </a:lnTo>
                  <a:lnTo>
                    <a:pt x="676" y="70"/>
                  </a:lnTo>
                  <a:lnTo>
                    <a:pt x="676" y="70"/>
                  </a:lnTo>
                  <a:lnTo>
                    <a:pt x="604" y="424"/>
                  </a:lnTo>
                  <a:lnTo>
                    <a:pt x="568" y="598"/>
                  </a:lnTo>
                  <a:lnTo>
                    <a:pt x="530" y="758"/>
                  </a:lnTo>
                  <a:lnTo>
                    <a:pt x="530" y="758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テキスト ボックス 104"/>
          <p:cNvSpPr/>
          <p:nvPr/>
        </p:nvSpPr>
        <p:spPr>
          <a:xfrm>
            <a:off x="325440" y="414957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8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自動車学校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131200" y="8232840"/>
            <a:ext cx="48290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ffffff"/>
                </a:solidFill>
                <a:latin typeface="Arial"/>
              </a:rPr>
              <a:t>お申込みはお早めに！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9303120" y="8437680"/>
            <a:ext cx="1277640" cy="249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7200" spc="-1" strike="noStrike">
                <a:solidFill>
                  <a:srgbClr val="008000"/>
                </a:solidFill>
                <a:latin typeface="Arial"/>
              </a:rPr>
              <a:t>春休みを利用してライセンスを取得しよう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2:12:24Z</dcterms:created>
  <dc:creator>seisaku</dc:creator>
  <dc:description/>
  <dc:language>en-US</dc:language>
  <cp:lastModifiedBy>ttec</cp:lastModifiedBy>
  <dcterms:modified xsi:type="dcterms:W3CDTF">2012-05-31T03:29:43Z</dcterms:modified>
  <cp:revision>3</cp:revision>
  <dc:subject/>
  <dc:title>スライド 1</dc:title>
</cp:coreProperties>
</file>