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A79-3347-4A13-A8DE-7C6C4DE9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0B3-D551-4DC7-8D2E-F62C611F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AF1A-CFE0-411A-810E-31A14AF5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039-BC8A-495C-9863-A27024F8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0CA3-55A0-436F-80BF-4AFEB61E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DF2-7117-4B67-9AE4-6F80801A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421-E6F5-45FF-901E-DC803AAD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3BF1-F911-461F-805C-726D59FE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875-620B-4074-A6FC-86C6756A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3F65-7546-44FE-B4CD-02A39CFB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B7DE-C5F7-4375-A297-2DB771A4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34D-5264-42E7-8C99-8650BE72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E5063761-B657-4EE0-A13C-B5EEC6E32CBC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宝石店向けちらし_表面.jpg"/>
          <p:cNvPicPr/>
          <p:nvPr/>
        </p:nvPicPr>
        <p:blipFill>
          <a:blip r:embed="rId1"/>
          <a:stretch/>
        </p:blipFill>
        <p:spPr>
          <a:xfrm>
            <a:off x="0" y="0"/>
            <a:ext cx="15122520" cy="10693440"/>
          </a:xfrm>
          <a:prstGeom prst="rect">
            <a:avLst/>
          </a:prstGeom>
          <a:ln w="0">
            <a:noFill/>
          </a:ln>
        </p:spPr>
      </p:pic>
      <p:grpSp>
        <p:nvGrpSpPr>
          <p:cNvPr id="42" name="グループ化 4"/>
          <p:cNvGrpSpPr/>
          <p:nvPr/>
        </p:nvGrpSpPr>
        <p:grpSpPr>
          <a:xfrm>
            <a:off x="9339120" y="289080"/>
            <a:ext cx="5426280" cy="4848120"/>
            <a:chOff x="9339120" y="289080"/>
            <a:chExt cx="5426280" cy="4848120"/>
          </a:xfrm>
        </p:grpSpPr>
        <p:sp>
          <p:nvSpPr>
            <p:cNvPr id="43" name="Freeform 5"/>
            <p:cNvSpPr/>
            <p:nvPr/>
          </p:nvSpPr>
          <p:spPr>
            <a:xfrm>
              <a:off x="11434680" y="1355760"/>
              <a:ext cx="431640" cy="4633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72" h="292">
                  <a:moveTo>
                    <a:pt x="266" y="94"/>
                  </a:moveTo>
                  <a:lnTo>
                    <a:pt x="266" y="94"/>
                  </a:lnTo>
                  <a:lnTo>
                    <a:pt x="252" y="72"/>
                  </a:lnTo>
                  <a:lnTo>
                    <a:pt x="234" y="50"/>
                  </a:lnTo>
                  <a:lnTo>
                    <a:pt x="214" y="34"/>
                  </a:lnTo>
                  <a:lnTo>
                    <a:pt x="192" y="20"/>
                  </a:lnTo>
                  <a:lnTo>
                    <a:pt x="170" y="10"/>
                  </a:lnTo>
                  <a:lnTo>
                    <a:pt x="146" y="2"/>
                  </a:lnTo>
                  <a:lnTo>
                    <a:pt x="120" y="0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10"/>
                  </a:lnTo>
                  <a:lnTo>
                    <a:pt x="52" y="18"/>
                  </a:lnTo>
                  <a:lnTo>
                    <a:pt x="34" y="30"/>
                  </a:lnTo>
                  <a:lnTo>
                    <a:pt x="28" y="36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12" y="58"/>
                  </a:lnTo>
                  <a:lnTo>
                    <a:pt x="6" y="74"/>
                  </a:lnTo>
                  <a:lnTo>
                    <a:pt x="2" y="92"/>
                  </a:lnTo>
                  <a:lnTo>
                    <a:pt x="0" y="110"/>
                  </a:lnTo>
                  <a:lnTo>
                    <a:pt x="0" y="128"/>
                  </a:lnTo>
                  <a:lnTo>
                    <a:pt x="4" y="144"/>
                  </a:lnTo>
                  <a:lnTo>
                    <a:pt x="12" y="158"/>
                  </a:lnTo>
                  <a:lnTo>
                    <a:pt x="22" y="170"/>
                  </a:lnTo>
                  <a:lnTo>
                    <a:pt x="22" y="170"/>
                  </a:lnTo>
                  <a:lnTo>
                    <a:pt x="20" y="154"/>
                  </a:lnTo>
                  <a:lnTo>
                    <a:pt x="20" y="140"/>
                  </a:lnTo>
                  <a:lnTo>
                    <a:pt x="22" y="126"/>
                  </a:lnTo>
                  <a:lnTo>
                    <a:pt x="24" y="114"/>
                  </a:lnTo>
                  <a:lnTo>
                    <a:pt x="28" y="102"/>
                  </a:lnTo>
                  <a:lnTo>
                    <a:pt x="34" y="92"/>
                  </a:lnTo>
                  <a:lnTo>
                    <a:pt x="38" y="82"/>
                  </a:lnTo>
                  <a:lnTo>
                    <a:pt x="44" y="74"/>
                  </a:lnTo>
                  <a:lnTo>
                    <a:pt x="52" y="66"/>
                  </a:lnTo>
                  <a:lnTo>
                    <a:pt x="60" y="60"/>
                  </a:lnTo>
                  <a:lnTo>
                    <a:pt x="68" y="56"/>
                  </a:lnTo>
                  <a:lnTo>
                    <a:pt x="76" y="52"/>
                  </a:lnTo>
                  <a:lnTo>
                    <a:pt x="84" y="48"/>
                  </a:lnTo>
                  <a:lnTo>
                    <a:pt x="94" y="48"/>
                  </a:lnTo>
                  <a:lnTo>
                    <a:pt x="104" y="48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36" y="56"/>
                  </a:lnTo>
                  <a:lnTo>
                    <a:pt x="154" y="64"/>
                  </a:lnTo>
                  <a:lnTo>
                    <a:pt x="166" y="74"/>
                  </a:lnTo>
                  <a:lnTo>
                    <a:pt x="172" y="86"/>
                  </a:lnTo>
                  <a:lnTo>
                    <a:pt x="174" y="98"/>
                  </a:lnTo>
                  <a:lnTo>
                    <a:pt x="174" y="110"/>
                  </a:lnTo>
                  <a:lnTo>
                    <a:pt x="168" y="122"/>
                  </a:lnTo>
                  <a:lnTo>
                    <a:pt x="162" y="134"/>
                  </a:lnTo>
                  <a:lnTo>
                    <a:pt x="152" y="142"/>
                  </a:lnTo>
                  <a:lnTo>
                    <a:pt x="142" y="150"/>
                  </a:lnTo>
                  <a:lnTo>
                    <a:pt x="132" y="156"/>
                  </a:lnTo>
                  <a:lnTo>
                    <a:pt x="122" y="156"/>
                  </a:lnTo>
                  <a:lnTo>
                    <a:pt x="112" y="156"/>
                  </a:lnTo>
                  <a:lnTo>
                    <a:pt x="104" y="150"/>
                  </a:lnTo>
                  <a:lnTo>
                    <a:pt x="98" y="140"/>
                  </a:lnTo>
                  <a:lnTo>
                    <a:pt x="94" y="124"/>
                  </a:lnTo>
                  <a:lnTo>
                    <a:pt x="94" y="124"/>
                  </a:lnTo>
                  <a:lnTo>
                    <a:pt x="84" y="138"/>
                  </a:lnTo>
                  <a:lnTo>
                    <a:pt x="78" y="152"/>
                  </a:lnTo>
                  <a:lnTo>
                    <a:pt x="74" y="166"/>
                  </a:lnTo>
                  <a:lnTo>
                    <a:pt x="72" y="180"/>
                  </a:lnTo>
                  <a:lnTo>
                    <a:pt x="72" y="192"/>
                  </a:lnTo>
                  <a:lnTo>
                    <a:pt x="74" y="202"/>
                  </a:lnTo>
                  <a:lnTo>
                    <a:pt x="80" y="212"/>
                  </a:lnTo>
                  <a:lnTo>
                    <a:pt x="86" y="222"/>
                  </a:lnTo>
                  <a:lnTo>
                    <a:pt x="94" y="228"/>
                  </a:lnTo>
                  <a:lnTo>
                    <a:pt x="102" y="234"/>
                  </a:lnTo>
                  <a:lnTo>
                    <a:pt x="112" y="240"/>
                  </a:lnTo>
                  <a:lnTo>
                    <a:pt x="124" y="242"/>
                  </a:lnTo>
                  <a:lnTo>
                    <a:pt x="136" y="244"/>
                  </a:lnTo>
                  <a:lnTo>
                    <a:pt x="150" y="244"/>
                  </a:lnTo>
                  <a:lnTo>
                    <a:pt x="164" y="242"/>
                  </a:lnTo>
                  <a:lnTo>
                    <a:pt x="178" y="236"/>
                  </a:lnTo>
                  <a:lnTo>
                    <a:pt x="178" y="236"/>
                  </a:lnTo>
                  <a:lnTo>
                    <a:pt x="190" y="260"/>
                  </a:lnTo>
                  <a:lnTo>
                    <a:pt x="206" y="292"/>
                  </a:lnTo>
                  <a:lnTo>
                    <a:pt x="206" y="292"/>
                  </a:lnTo>
                  <a:lnTo>
                    <a:pt x="220" y="280"/>
                  </a:lnTo>
                  <a:lnTo>
                    <a:pt x="232" y="268"/>
                  </a:lnTo>
                  <a:lnTo>
                    <a:pt x="240" y="256"/>
                  </a:lnTo>
                  <a:lnTo>
                    <a:pt x="248" y="244"/>
                  </a:lnTo>
                  <a:lnTo>
                    <a:pt x="258" y="218"/>
                  </a:lnTo>
                  <a:lnTo>
                    <a:pt x="268" y="190"/>
                  </a:lnTo>
                  <a:lnTo>
                    <a:pt x="268" y="190"/>
                  </a:lnTo>
                  <a:lnTo>
                    <a:pt x="270" y="180"/>
                  </a:lnTo>
                  <a:lnTo>
                    <a:pt x="272" y="170"/>
                  </a:lnTo>
                  <a:lnTo>
                    <a:pt x="272" y="140"/>
                  </a:lnTo>
                  <a:lnTo>
                    <a:pt x="270" y="114"/>
                  </a:lnTo>
                  <a:lnTo>
                    <a:pt x="268" y="102"/>
                  </a:lnTo>
                  <a:lnTo>
                    <a:pt x="266" y="94"/>
                  </a:lnTo>
                  <a:lnTo>
                    <a:pt x="266" y="94"/>
                  </a:lnTo>
                  <a:close/>
                  <a:moveTo>
                    <a:pt x="220" y="226"/>
                  </a:moveTo>
                  <a:lnTo>
                    <a:pt x="220" y="226"/>
                  </a:lnTo>
                  <a:lnTo>
                    <a:pt x="208" y="198"/>
                  </a:lnTo>
                  <a:lnTo>
                    <a:pt x="202" y="188"/>
                  </a:lnTo>
                  <a:lnTo>
                    <a:pt x="194" y="182"/>
                  </a:lnTo>
                  <a:lnTo>
                    <a:pt x="194" y="182"/>
                  </a:lnTo>
                  <a:lnTo>
                    <a:pt x="190" y="188"/>
                  </a:lnTo>
                  <a:lnTo>
                    <a:pt x="182" y="196"/>
                  </a:lnTo>
                  <a:lnTo>
                    <a:pt x="172" y="200"/>
                  </a:lnTo>
                  <a:lnTo>
                    <a:pt x="162" y="204"/>
                  </a:lnTo>
                  <a:lnTo>
                    <a:pt x="150" y="206"/>
                  </a:lnTo>
                  <a:lnTo>
                    <a:pt x="140" y="206"/>
                  </a:lnTo>
                  <a:lnTo>
                    <a:pt x="130" y="202"/>
                  </a:lnTo>
                  <a:lnTo>
                    <a:pt x="120" y="196"/>
                  </a:lnTo>
                  <a:lnTo>
                    <a:pt x="120" y="196"/>
                  </a:lnTo>
                  <a:lnTo>
                    <a:pt x="134" y="194"/>
                  </a:lnTo>
                  <a:lnTo>
                    <a:pt x="150" y="190"/>
                  </a:lnTo>
                  <a:lnTo>
                    <a:pt x="168" y="180"/>
                  </a:lnTo>
                  <a:lnTo>
                    <a:pt x="176" y="174"/>
                  </a:lnTo>
                  <a:lnTo>
                    <a:pt x="184" y="168"/>
                  </a:lnTo>
                  <a:lnTo>
                    <a:pt x="192" y="158"/>
                  </a:lnTo>
                  <a:lnTo>
                    <a:pt x="198" y="150"/>
                  </a:lnTo>
                  <a:lnTo>
                    <a:pt x="204" y="138"/>
                  </a:lnTo>
                  <a:lnTo>
                    <a:pt x="208" y="126"/>
                  </a:lnTo>
                  <a:lnTo>
                    <a:pt x="210" y="114"/>
                  </a:lnTo>
                  <a:lnTo>
                    <a:pt x="210" y="100"/>
                  </a:lnTo>
                  <a:lnTo>
                    <a:pt x="206" y="84"/>
                  </a:lnTo>
                  <a:lnTo>
                    <a:pt x="200" y="66"/>
                  </a:lnTo>
                  <a:lnTo>
                    <a:pt x="200" y="66"/>
                  </a:lnTo>
                  <a:lnTo>
                    <a:pt x="210" y="80"/>
                  </a:lnTo>
                  <a:lnTo>
                    <a:pt x="218" y="94"/>
                  </a:lnTo>
                  <a:lnTo>
                    <a:pt x="226" y="110"/>
                  </a:lnTo>
                  <a:lnTo>
                    <a:pt x="230" y="126"/>
                  </a:lnTo>
                  <a:lnTo>
                    <a:pt x="232" y="146"/>
                  </a:lnTo>
                  <a:lnTo>
                    <a:pt x="232" y="170"/>
                  </a:lnTo>
                  <a:lnTo>
                    <a:pt x="228" y="196"/>
                  </a:lnTo>
                  <a:lnTo>
                    <a:pt x="220" y="226"/>
                  </a:lnTo>
                  <a:lnTo>
                    <a:pt x="220" y="226"/>
                  </a:lnTo>
                  <a:close/>
                </a:path>
              </a:pathLst>
            </a:custGeom>
            <a:solidFill>
              <a:srgbClr val="947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>
              <a:off x="9339120" y="371520"/>
              <a:ext cx="4178520" cy="1514520"/>
            </a:xfrm>
            <a:custGeom>
              <a:avLst/>
              <a:gdLst>
                <a:gd name="textAreaLeft" fmla="*/ 0 w 4178520"/>
                <a:gd name="textAreaRight" fmla="*/ 4178880 w 4178520"/>
                <a:gd name="textAreaTop" fmla="*/ 0 h 1514520"/>
                <a:gd name="textAreaBottom" fmla="*/ 1514880 h 1514520"/>
              </a:gdLst>
              <a:ahLst/>
              <a:rect l="textAreaLeft" t="textAreaTop" r="textAreaRight" b="textAreaBottom"/>
              <a:pathLst>
                <a:path w="2632" h="954">
                  <a:moveTo>
                    <a:pt x="2632" y="56"/>
                  </a:moveTo>
                  <a:lnTo>
                    <a:pt x="2632" y="56"/>
                  </a:lnTo>
                  <a:lnTo>
                    <a:pt x="2600" y="44"/>
                  </a:lnTo>
                  <a:lnTo>
                    <a:pt x="2568" y="34"/>
                  </a:lnTo>
                  <a:lnTo>
                    <a:pt x="2536" y="26"/>
                  </a:lnTo>
                  <a:lnTo>
                    <a:pt x="2504" y="18"/>
                  </a:lnTo>
                  <a:lnTo>
                    <a:pt x="2470" y="12"/>
                  </a:lnTo>
                  <a:lnTo>
                    <a:pt x="2438" y="6"/>
                  </a:lnTo>
                  <a:lnTo>
                    <a:pt x="2372" y="0"/>
                  </a:lnTo>
                  <a:lnTo>
                    <a:pt x="2306" y="0"/>
                  </a:lnTo>
                  <a:lnTo>
                    <a:pt x="2276" y="0"/>
                  </a:lnTo>
                  <a:lnTo>
                    <a:pt x="2246" y="2"/>
                  </a:lnTo>
                  <a:lnTo>
                    <a:pt x="2216" y="6"/>
                  </a:lnTo>
                  <a:lnTo>
                    <a:pt x="2188" y="10"/>
                  </a:lnTo>
                  <a:lnTo>
                    <a:pt x="2160" y="16"/>
                  </a:lnTo>
                  <a:lnTo>
                    <a:pt x="2134" y="22"/>
                  </a:lnTo>
                  <a:lnTo>
                    <a:pt x="2134" y="22"/>
                  </a:lnTo>
                  <a:lnTo>
                    <a:pt x="2072" y="42"/>
                  </a:lnTo>
                  <a:lnTo>
                    <a:pt x="2016" y="64"/>
                  </a:lnTo>
                  <a:lnTo>
                    <a:pt x="1962" y="88"/>
                  </a:lnTo>
                  <a:lnTo>
                    <a:pt x="1914" y="112"/>
                  </a:lnTo>
                  <a:lnTo>
                    <a:pt x="1868" y="138"/>
                  </a:lnTo>
                  <a:lnTo>
                    <a:pt x="1826" y="164"/>
                  </a:lnTo>
                  <a:lnTo>
                    <a:pt x="1788" y="190"/>
                  </a:lnTo>
                  <a:lnTo>
                    <a:pt x="1754" y="216"/>
                  </a:lnTo>
                  <a:lnTo>
                    <a:pt x="1754" y="216"/>
                  </a:lnTo>
                  <a:lnTo>
                    <a:pt x="1732" y="232"/>
                  </a:lnTo>
                  <a:lnTo>
                    <a:pt x="1706" y="246"/>
                  </a:lnTo>
                  <a:lnTo>
                    <a:pt x="1680" y="260"/>
                  </a:lnTo>
                  <a:lnTo>
                    <a:pt x="1652" y="272"/>
                  </a:lnTo>
                  <a:lnTo>
                    <a:pt x="1624" y="282"/>
                  </a:lnTo>
                  <a:lnTo>
                    <a:pt x="1594" y="290"/>
                  </a:lnTo>
                  <a:lnTo>
                    <a:pt x="1566" y="296"/>
                  </a:lnTo>
                  <a:lnTo>
                    <a:pt x="1536" y="300"/>
                  </a:lnTo>
                  <a:lnTo>
                    <a:pt x="1508" y="302"/>
                  </a:lnTo>
                  <a:lnTo>
                    <a:pt x="1482" y="302"/>
                  </a:lnTo>
                  <a:lnTo>
                    <a:pt x="1456" y="300"/>
                  </a:lnTo>
                  <a:lnTo>
                    <a:pt x="1432" y="294"/>
                  </a:lnTo>
                  <a:lnTo>
                    <a:pt x="1410" y="286"/>
                  </a:lnTo>
                  <a:lnTo>
                    <a:pt x="1392" y="274"/>
                  </a:lnTo>
                  <a:lnTo>
                    <a:pt x="1376" y="260"/>
                  </a:lnTo>
                  <a:lnTo>
                    <a:pt x="1370" y="252"/>
                  </a:lnTo>
                  <a:lnTo>
                    <a:pt x="1364" y="244"/>
                  </a:lnTo>
                  <a:lnTo>
                    <a:pt x="1364" y="244"/>
                  </a:lnTo>
                  <a:lnTo>
                    <a:pt x="1356" y="226"/>
                  </a:lnTo>
                  <a:lnTo>
                    <a:pt x="1352" y="208"/>
                  </a:lnTo>
                  <a:lnTo>
                    <a:pt x="1348" y="192"/>
                  </a:lnTo>
                  <a:lnTo>
                    <a:pt x="1348" y="176"/>
                  </a:lnTo>
                  <a:lnTo>
                    <a:pt x="1350" y="162"/>
                  </a:lnTo>
                  <a:lnTo>
                    <a:pt x="1354" y="146"/>
                  </a:lnTo>
                  <a:lnTo>
                    <a:pt x="1362" y="118"/>
                  </a:lnTo>
                  <a:lnTo>
                    <a:pt x="1362" y="118"/>
                  </a:lnTo>
                  <a:lnTo>
                    <a:pt x="1368" y="108"/>
                  </a:lnTo>
                  <a:lnTo>
                    <a:pt x="1374" y="98"/>
                  </a:lnTo>
                  <a:lnTo>
                    <a:pt x="1382" y="88"/>
                  </a:lnTo>
                  <a:lnTo>
                    <a:pt x="1390" y="82"/>
                  </a:lnTo>
                  <a:lnTo>
                    <a:pt x="1400" y="74"/>
                  </a:lnTo>
                  <a:lnTo>
                    <a:pt x="1410" y="68"/>
                  </a:lnTo>
                  <a:lnTo>
                    <a:pt x="1422" y="64"/>
                  </a:lnTo>
                  <a:lnTo>
                    <a:pt x="1432" y="62"/>
                  </a:lnTo>
                  <a:lnTo>
                    <a:pt x="1444" y="60"/>
                  </a:lnTo>
                  <a:lnTo>
                    <a:pt x="1458" y="60"/>
                  </a:lnTo>
                  <a:lnTo>
                    <a:pt x="1470" y="60"/>
                  </a:lnTo>
                  <a:lnTo>
                    <a:pt x="1482" y="64"/>
                  </a:lnTo>
                  <a:lnTo>
                    <a:pt x="1496" y="68"/>
                  </a:lnTo>
                  <a:lnTo>
                    <a:pt x="1508" y="74"/>
                  </a:lnTo>
                  <a:lnTo>
                    <a:pt x="1522" y="80"/>
                  </a:lnTo>
                  <a:lnTo>
                    <a:pt x="1534" y="90"/>
                  </a:lnTo>
                  <a:lnTo>
                    <a:pt x="1534" y="90"/>
                  </a:lnTo>
                  <a:lnTo>
                    <a:pt x="1518" y="88"/>
                  </a:lnTo>
                  <a:lnTo>
                    <a:pt x="1504" y="88"/>
                  </a:lnTo>
                  <a:lnTo>
                    <a:pt x="1492" y="92"/>
                  </a:lnTo>
                  <a:lnTo>
                    <a:pt x="1480" y="96"/>
                  </a:lnTo>
                  <a:lnTo>
                    <a:pt x="1470" y="104"/>
                  </a:lnTo>
                  <a:lnTo>
                    <a:pt x="1462" y="112"/>
                  </a:lnTo>
                  <a:lnTo>
                    <a:pt x="1454" y="120"/>
                  </a:lnTo>
                  <a:lnTo>
                    <a:pt x="1448" y="130"/>
                  </a:lnTo>
                  <a:lnTo>
                    <a:pt x="1444" y="140"/>
                  </a:lnTo>
                  <a:lnTo>
                    <a:pt x="1442" y="152"/>
                  </a:lnTo>
                  <a:lnTo>
                    <a:pt x="1440" y="162"/>
                  </a:lnTo>
                  <a:lnTo>
                    <a:pt x="1440" y="174"/>
                  </a:lnTo>
                  <a:lnTo>
                    <a:pt x="1442" y="184"/>
                  </a:lnTo>
                  <a:lnTo>
                    <a:pt x="1444" y="194"/>
                  </a:lnTo>
                  <a:lnTo>
                    <a:pt x="1448" y="204"/>
                  </a:lnTo>
                  <a:lnTo>
                    <a:pt x="1454" y="212"/>
                  </a:lnTo>
                  <a:lnTo>
                    <a:pt x="1454" y="212"/>
                  </a:lnTo>
                  <a:lnTo>
                    <a:pt x="1464" y="220"/>
                  </a:lnTo>
                  <a:lnTo>
                    <a:pt x="1472" y="228"/>
                  </a:lnTo>
                  <a:lnTo>
                    <a:pt x="1482" y="234"/>
                  </a:lnTo>
                  <a:lnTo>
                    <a:pt x="1492" y="238"/>
                  </a:lnTo>
                  <a:lnTo>
                    <a:pt x="1502" y="242"/>
                  </a:lnTo>
                  <a:lnTo>
                    <a:pt x="1512" y="244"/>
                  </a:lnTo>
                  <a:lnTo>
                    <a:pt x="1522" y="244"/>
                  </a:lnTo>
                  <a:lnTo>
                    <a:pt x="1532" y="244"/>
                  </a:lnTo>
                  <a:lnTo>
                    <a:pt x="1552" y="238"/>
                  </a:lnTo>
                  <a:lnTo>
                    <a:pt x="1570" y="230"/>
                  </a:lnTo>
                  <a:lnTo>
                    <a:pt x="1586" y="218"/>
                  </a:lnTo>
                  <a:lnTo>
                    <a:pt x="1600" y="202"/>
                  </a:lnTo>
                  <a:lnTo>
                    <a:pt x="1600" y="202"/>
                  </a:lnTo>
                  <a:lnTo>
                    <a:pt x="1612" y="184"/>
                  </a:lnTo>
                  <a:lnTo>
                    <a:pt x="1616" y="174"/>
                  </a:lnTo>
                  <a:lnTo>
                    <a:pt x="1618" y="164"/>
                  </a:lnTo>
                  <a:lnTo>
                    <a:pt x="1620" y="154"/>
                  </a:lnTo>
                  <a:lnTo>
                    <a:pt x="1620" y="142"/>
                  </a:lnTo>
                  <a:lnTo>
                    <a:pt x="1618" y="130"/>
                  </a:lnTo>
                  <a:lnTo>
                    <a:pt x="1616" y="120"/>
                  </a:lnTo>
                  <a:lnTo>
                    <a:pt x="1614" y="108"/>
                  </a:lnTo>
                  <a:lnTo>
                    <a:pt x="1608" y="96"/>
                  </a:lnTo>
                  <a:lnTo>
                    <a:pt x="1602" y="86"/>
                  </a:lnTo>
                  <a:lnTo>
                    <a:pt x="1592" y="74"/>
                  </a:lnTo>
                  <a:lnTo>
                    <a:pt x="1582" y="64"/>
                  </a:lnTo>
                  <a:lnTo>
                    <a:pt x="1572" y="54"/>
                  </a:lnTo>
                  <a:lnTo>
                    <a:pt x="1558" y="46"/>
                  </a:lnTo>
                  <a:lnTo>
                    <a:pt x="1542" y="38"/>
                  </a:lnTo>
                  <a:lnTo>
                    <a:pt x="1542" y="38"/>
                  </a:lnTo>
                  <a:lnTo>
                    <a:pt x="1526" y="30"/>
                  </a:lnTo>
                  <a:lnTo>
                    <a:pt x="1508" y="24"/>
                  </a:lnTo>
                  <a:lnTo>
                    <a:pt x="1488" y="20"/>
                  </a:lnTo>
                  <a:lnTo>
                    <a:pt x="1470" y="18"/>
                  </a:lnTo>
                  <a:lnTo>
                    <a:pt x="1450" y="18"/>
                  </a:lnTo>
                  <a:lnTo>
                    <a:pt x="1432" y="20"/>
                  </a:lnTo>
                  <a:lnTo>
                    <a:pt x="1412" y="22"/>
                  </a:lnTo>
                  <a:lnTo>
                    <a:pt x="1394" y="28"/>
                  </a:lnTo>
                  <a:lnTo>
                    <a:pt x="1376" y="34"/>
                  </a:lnTo>
                  <a:lnTo>
                    <a:pt x="1358" y="44"/>
                  </a:lnTo>
                  <a:lnTo>
                    <a:pt x="1340" y="54"/>
                  </a:lnTo>
                  <a:lnTo>
                    <a:pt x="1326" y="66"/>
                  </a:lnTo>
                  <a:lnTo>
                    <a:pt x="1310" y="82"/>
                  </a:lnTo>
                  <a:lnTo>
                    <a:pt x="1298" y="98"/>
                  </a:lnTo>
                  <a:lnTo>
                    <a:pt x="1286" y="118"/>
                  </a:lnTo>
                  <a:lnTo>
                    <a:pt x="1276" y="140"/>
                  </a:lnTo>
                  <a:lnTo>
                    <a:pt x="1276" y="140"/>
                  </a:lnTo>
                  <a:lnTo>
                    <a:pt x="1268" y="164"/>
                  </a:lnTo>
                  <a:lnTo>
                    <a:pt x="1262" y="184"/>
                  </a:lnTo>
                  <a:lnTo>
                    <a:pt x="1258" y="204"/>
                  </a:lnTo>
                  <a:lnTo>
                    <a:pt x="1256" y="222"/>
                  </a:lnTo>
                  <a:lnTo>
                    <a:pt x="1256" y="238"/>
                  </a:lnTo>
                  <a:lnTo>
                    <a:pt x="1258" y="254"/>
                  </a:lnTo>
                  <a:lnTo>
                    <a:pt x="1262" y="268"/>
                  </a:lnTo>
                  <a:lnTo>
                    <a:pt x="1266" y="280"/>
                  </a:lnTo>
                  <a:lnTo>
                    <a:pt x="1272" y="290"/>
                  </a:lnTo>
                  <a:lnTo>
                    <a:pt x="1278" y="300"/>
                  </a:lnTo>
                  <a:lnTo>
                    <a:pt x="1292" y="318"/>
                  </a:lnTo>
                  <a:lnTo>
                    <a:pt x="1308" y="334"/>
                  </a:lnTo>
                  <a:lnTo>
                    <a:pt x="1324" y="346"/>
                  </a:lnTo>
                  <a:lnTo>
                    <a:pt x="1324" y="346"/>
                  </a:lnTo>
                  <a:lnTo>
                    <a:pt x="1282" y="350"/>
                  </a:lnTo>
                  <a:lnTo>
                    <a:pt x="1248" y="348"/>
                  </a:lnTo>
                  <a:lnTo>
                    <a:pt x="1224" y="346"/>
                  </a:lnTo>
                  <a:lnTo>
                    <a:pt x="1208" y="342"/>
                  </a:lnTo>
                  <a:lnTo>
                    <a:pt x="1208" y="342"/>
                  </a:lnTo>
                  <a:lnTo>
                    <a:pt x="1240" y="364"/>
                  </a:lnTo>
                  <a:lnTo>
                    <a:pt x="1276" y="384"/>
                  </a:lnTo>
                  <a:lnTo>
                    <a:pt x="1316" y="400"/>
                  </a:lnTo>
                  <a:lnTo>
                    <a:pt x="1358" y="412"/>
                  </a:lnTo>
                  <a:lnTo>
                    <a:pt x="1380" y="418"/>
                  </a:lnTo>
                  <a:lnTo>
                    <a:pt x="1400" y="420"/>
                  </a:lnTo>
                  <a:lnTo>
                    <a:pt x="1422" y="422"/>
                  </a:lnTo>
                  <a:lnTo>
                    <a:pt x="1442" y="424"/>
                  </a:lnTo>
                  <a:lnTo>
                    <a:pt x="1462" y="422"/>
                  </a:lnTo>
                  <a:lnTo>
                    <a:pt x="1482" y="420"/>
                  </a:lnTo>
                  <a:lnTo>
                    <a:pt x="1500" y="416"/>
                  </a:lnTo>
                  <a:lnTo>
                    <a:pt x="1518" y="410"/>
                  </a:lnTo>
                  <a:lnTo>
                    <a:pt x="1518" y="410"/>
                  </a:lnTo>
                  <a:lnTo>
                    <a:pt x="1480" y="452"/>
                  </a:lnTo>
                  <a:lnTo>
                    <a:pt x="1442" y="488"/>
                  </a:lnTo>
                  <a:lnTo>
                    <a:pt x="1406" y="516"/>
                  </a:lnTo>
                  <a:lnTo>
                    <a:pt x="1370" y="540"/>
                  </a:lnTo>
                  <a:lnTo>
                    <a:pt x="1336" y="556"/>
                  </a:lnTo>
                  <a:lnTo>
                    <a:pt x="1304" y="568"/>
                  </a:lnTo>
                  <a:lnTo>
                    <a:pt x="1274" y="576"/>
                  </a:lnTo>
                  <a:lnTo>
                    <a:pt x="1246" y="576"/>
                  </a:lnTo>
                  <a:lnTo>
                    <a:pt x="1232" y="576"/>
                  </a:lnTo>
                  <a:lnTo>
                    <a:pt x="1220" y="574"/>
                  </a:lnTo>
                  <a:lnTo>
                    <a:pt x="1208" y="570"/>
                  </a:lnTo>
                  <a:lnTo>
                    <a:pt x="1196" y="566"/>
                  </a:lnTo>
                  <a:lnTo>
                    <a:pt x="1186" y="560"/>
                  </a:lnTo>
                  <a:lnTo>
                    <a:pt x="1176" y="554"/>
                  </a:lnTo>
                  <a:lnTo>
                    <a:pt x="1166" y="548"/>
                  </a:lnTo>
                  <a:lnTo>
                    <a:pt x="1158" y="540"/>
                  </a:lnTo>
                  <a:lnTo>
                    <a:pt x="1144" y="520"/>
                  </a:lnTo>
                  <a:lnTo>
                    <a:pt x="1132" y="498"/>
                  </a:lnTo>
                  <a:lnTo>
                    <a:pt x="1126" y="472"/>
                  </a:lnTo>
                  <a:lnTo>
                    <a:pt x="1122" y="446"/>
                  </a:lnTo>
                  <a:lnTo>
                    <a:pt x="1122" y="446"/>
                  </a:lnTo>
                  <a:lnTo>
                    <a:pt x="1108" y="446"/>
                  </a:lnTo>
                  <a:lnTo>
                    <a:pt x="1096" y="448"/>
                  </a:lnTo>
                  <a:lnTo>
                    <a:pt x="1088" y="452"/>
                  </a:lnTo>
                  <a:lnTo>
                    <a:pt x="1080" y="460"/>
                  </a:lnTo>
                  <a:lnTo>
                    <a:pt x="1076" y="468"/>
                  </a:lnTo>
                  <a:lnTo>
                    <a:pt x="1072" y="476"/>
                  </a:lnTo>
                  <a:lnTo>
                    <a:pt x="1072" y="486"/>
                  </a:lnTo>
                  <a:lnTo>
                    <a:pt x="1076" y="496"/>
                  </a:lnTo>
                  <a:lnTo>
                    <a:pt x="1076" y="496"/>
                  </a:lnTo>
                  <a:lnTo>
                    <a:pt x="1064" y="490"/>
                  </a:lnTo>
                  <a:lnTo>
                    <a:pt x="1054" y="482"/>
                  </a:lnTo>
                  <a:lnTo>
                    <a:pt x="1046" y="474"/>
                  </a:lnTo>
                  <a:lnTo>
                    <a:pt x="1042" y="464"/>
                  </a:lnTo>
                  <a:lnTo>
                    <a:pt x="1038" y="456"/>
                  </a:lnTo>
                  <a:lnTo>
                    <a:pt x="1038" y="446"/>
                  </a:lnTo>
                  <a:lnTo>
                    <a:pt x="1038" y="438"/>
                  </a:lnTo>
                  <a:lnTo>
                    <a:pt x="1040" y="428"/>
                  </a:lnTo>
                  <a:lnTo>
                    <a:pt x="1046" y="410"/>
                  </a:lnTo>
                  <a:lnTo>
                    <a:pt x="1056" y="394"/>
                  </a:lnTo>
                  <a:lnTo>
                    <a:pt x="1068" y="380"/>
                  </a:lnTo>
                  <a:lnTo>
                    <a:pt x="1082" y="370"/>
                  </a:lnTo>
                  <a:lnTo>
                    <a:pt x="1082" y="370"/>
                  </a:lnTo>
                  <a:lnTo>
                    <a:pt x="1068" y="368"/>
                  </a:lnTo>
                  <a:lnTo>
                    <a:pt x="1056" y="366"/>
                  </a:lnTo>
                  <a:lnTo>
                    <a:pt x="1046" y="366"/>
                  </a:lnTo>
                  <a:lnTo>
                    <a:pt x="1034" y="370"/>
                  </a:lnTo>
                  <a:lnTo>
                    <a:pt x="1024" y="374"/>
                  </a:lnTo>
                  <a:lnTo>
                    <a:pt x="1016" y="380"/>
                  </a:lnTo>
                  <a:lnTo>
                    <a:pt x="1008" y="388"/>
                  </a:lnTo>
                  <a:lnTo>
                    <a:pt x="1000" y="396"/>
                  </a:lnTo>
                  <a:lnTo>
                    <a:pt x="994" y="404"/>
                  </a:lnTo>
                  <a:lnTo>
                    <a:pt x="988" y="414"/>
                  </a:lnTo>
                  <a:lnTo>
                    <a:pt x="984" y="426"/>
                  </a:lnTo>
                  <a:lnTo>
                    <a:pt x="980" y="436"/>
                  </a:lnTo>
                  <a:lnTo>
                    <a:pt x="978" y="446"/>
                  </a:lnTo>
                  <a:lnTo>
                    <a:pt x="978" y="456"/>
                  </a:lnTo>
                  <a:lnTo>
                    <a:pt x="980" y="468"/>
                  </a:lnTo>
                  <a:lnTo>
                    <a:pt x="982" y="476"/>
                  </a:lnTo>
                  <a:lnTo>
                    <a:pt x="982" y="476"/>
                  </a:lnTo>
                  <a:lnTo>
                    <a:pt x="890" y="410"/>
                  </a:lnTo>
                  <a:lnTo>
                    <a:pt x="890" y="410"/>
                  </a:lnTo>
                  <a:lnTo>
                    <a:pt x="900" y="432"/>
                  </a:lnTo>
                  <a:lnTo>
                    <a:pt x="912" y="454"/>
                  </a:lnTo>
                  <a:lnTo>
                    <a:pt x="926" y="472"/>
                  </a:lnTo>
                  <a:lnTo>
                    <a:pt x="940" y="490"/>
                  </a:lnTo>
                  <a:lnTo>
                    <a:pt x="956" y="508"/>
                  </a:lnTo>
                  <a:lnTo>
                    <a:pt x="974" y="524"/>
                  </a:lnTo>
                  <a:lnTo>
                    <a:pt x="992" y="538"/>
                  </a:lnTo>
                  <a:lnTo>
                    <a:pt x="1012" y="552"/>
                  </a:lnTo>
                  <a:lnTo>
                    <a:pt x="1032" y="564"/>
                  </a:lnTo>
                  <a:lnTo>
                    <a:pt x="1054" y="574"/>
                  </a:lnTo>
                  <a:lnTo>
                    <a:pt x="1076" y="584"/>
                  </a:lnTo>
                  <a:lnTo>
                    <a:pt x="1100" y="592"/>
                  </a:lnTo>
                  <a:lnTo>
                    <a:pt x="1126" y="600"/>
                  </a:lnTo>
                  <a:lnTo>
                    <a:pt x="1152" y="606"/>
                  </a:lnTo>
                  <a:lnTo>
                    <a:pt x="1178" y="610"/>
                  </a:lnTo>
                  <a:lnTo>
                    <a:pt x="1206" y="612"/>
                  </a:lnTo>
                  <a:lnTo>
                    <a:pt x="1206" y="612"/>
                  </a:lnTo>
                  <a:lnTo>
                    <a:pt x="1142" y="616"/>
                  </a:lnTo>
                  <a:lnTo>
                    <a:pt x="1086" y="614"/>
                  </a:lnTo>
                  <a:lnTo>
                    <a:pt x="1036" y="610"/>
                  </a:lnTo>
                  <a:lnTo>
                    <a:pt x="990" y="602"/>
                  </a:lnTo>
                  <a:lnTo>
                    <a:pt x="952" y="592"/>
                  </a:lnTo>
                  <a:lnTo>
                    <a:pt x="920" y="578"/>
                  </a:lnTo>
                  <a:lnTo>
                    <a:pt x="906" y="570"/>
                  </a:lnTo>
                  <a:lnTo>
                    <a:pt x="894" y="562"/>
                  </a:lnTo>
                  <a:lnTo>
                    <a:pt x="882" y="554"/>
                  </a:lnTo>
                  <a:lnTo>
                    <a:pt x="872" y="544"/>
                  </a:lnTo>
                  <a:lnTo>
                    <a:pt x="864" y="534"/>
                  </a:lnTo>
                  <a:lnTo>
                    <a:pt x="856" y="524"/>
                  </a:lnTo>
                  <a:lnTo>
                    <a:pt x="850" y="514"/>
                  </a:lnTo>
                  <a:lnTo>
                    <a:pt x="846" y="502"/>
                  </a:lnTo>
                  <a:lnTo>
                    <a:pt x="842" y="490"/>
                  </a:lnTo>
                  <a:lnTo>
                    <a:pt x="840" y="478"/>
                  </a:lnTo>
                  <a:lnTo>
                    <a:pt x="840" y="454"/>
                  </a:lnTo>
                  <a:lnTo>
                    <a:pt x="842" y="430"/>
                  </a:lnTo>
                  <a:lnTo>
                    <a:pt x="850" y="404"/>
                  </a:lnTo>
                  <a:lnTo>
                    <a:pt x="862" y="378"/>
                  </a:lnTo>
                  <a:lnTo>
                    <a:pt x="878" y="352"/>
                  </a:lnTo>
                  <a:lnTo>
                    <a:pt x="878" y="352"/>
                  </a:lnTo>
                  <a:lnTo>
                    <a:pt x="862" y="360"/>
                  </a:lnTo>
                  <a:lnTo>
                    <a:pt x="844" y="374"/>
                  </a:lnTo>
                  <a:lnTo>
                    <a:pt x="826" y="394"/>
                  </a:lnTo>
                  <a:lnTo>
                    <a:pt x="810" y="416"/>
                  </a:lnTo>
                  <a:lnTo>
                    <a:pt x="796" y="438"/>
                  </a:lnTo>
                  <a:lnTo>
                    <a:pt x="790" y="452"/>
                  </a:lnTo>
                  <a:lnTo>
                    <a:pt x="786" y="464"/>
                  </a:lnTo>
                  <a:lnTo>
                    <a:pt x="782" y="476"/>
                  </a:lnTo>
                  <a:lnTo>
                    <a:pt x="782" y="488"/>
                  </a:lnTo>
                  <a:lnTo>
                    <a:pt x="782" y="498"/>
                  </a:lnTo>
                  <a:lnTo>
                    <a:pt x="786" y="510"/>
                  </a:lnTo>
                  <a:lnTo>
                    <a:pt x="786" y="510"/>
                  </a:lnTo>
                  <a:lnTo>
                    <a:pt x="774" y="500"/>
                  </a:lnTo>
                  <a:lnTo>
                    <a:pt x="766" y="492"/>
                  </a:lnTo>
                  <a:lnTo>
                    <a:pt x="758" y="482"/>
                  </a:lnTo>
                  <a:lnTo>
                    <a:pt x="750" y="470"/>
                  </a:lnTo>
                  <a:lnTo>
                    <a:pt x="744" y="458"/>
                  </a:lnTo>
                  <a:lnTo>
                    <a:pt x="740" y="446"/>
                  </a:lnTo>
                  <a:lnTo>
                    <a:pt x="734" y="422"/>
                  </a:lnTo>
                  <a:lnTo>
                    <a:pt x="732" y="396"/>
                  </a:lnTo>
                  <a:lnTo>
                    <a:pt x="734" y="368"/>
                  </a:lnTo>
                  <a:lnTo>
                    <a:pt x="740" y="342"/>
                  </a:lnTo>
                  <a:lnTo>
                    <a:pt x="748" y="316"/>
                  </a:lnTo>
                  <a:lnTo>
                    <a:pt x="760" y="292"/>
                  </a:lnTo>
                  <a:lnTo>
                    <a:pt x="776" y="270"/>
                  </a:lnTo>
                  <a:lnTo>
                    <a:pt x="792" y="252"/>
                  </a:lnTo>
                  <a:lnTo>
                    <a:pt x="812" y="236"/>
                  </a:lnTo>
                  <a:lnTo>
                    <a:pt x="822" y="230"/>
                  </a:lnTo>
                  <a:lnTo>
                    <a:pt x="834" y="224"/>
                  </a:lnTo>
                  <a:lnTo>
                    <a:pt x="846" y="220"/>
                  </a:lnTo>
                  <a:lnTo>
                    <a:pt x="858" y="218"/>
                  </a:lnTo>
                  <a:lnTo>
                    <a:pt x="870" y="216"/>
                  </a:lnTo>
                  <a:lnTo>
                    <a:pt x="882" y="216"/>
                  </a:lnTo>
                  <a:lnTo>
                    <a:pt x="896" y="218"/>
                  </a:lnTo>
                  <a:lnTo>
                    <a:pt x="908" y="220"/>
                  </a:lnTo>
                  <a:lnTo>
                    <a:pt x="908" y="220"/>
                  </a:lnTo>
                  <a:lnTo>
                    <a:pt x="912" y="206"/>
                  </a:lnTo>
                  <a:lnTo>
                    <a:pt x="912" y="194"/>
                  </a:lnTo>
                  <a:lnTo>
                    <a:pt x="912" y="182"/>
                  </a:lnTo>
                  <a:lnTo>
                    <a:pt x="910" y="170"/>
                  </a:lnTo>
                  <a:lnTo>
                    <a:pt x="906" y="160"/>
                  </a:lnTo>
                  <a:lnTo>
                    <a:pt x="900" y="152"/>
                  </a:lnTo>
                  <a:lnTo>
                    <a:pt x="894" y="144"/>
                  </a:lnTo>
                  <a:lnTo>
                    <a:pt x="886" y="138"/>
                  </a:lnTo>
                  <a:lnTo>
                    <a:pt x="870" y="126"/>
                  </a:lnTo>
                  <a:lnTo>
                    <a:pt x="852" y="118"/>
                  </a:lnTo>
                  <a:lnTo>
                    <a:pt x="832" y="116"/>
                  </a:lnTo>
                  <a:lnTo>
                    <a:pt x="816" y="116"/>
                  </a:lnTo>
                  <a:lnTo>
                    <a:pt x="816" y="116"/>
                  </a:lnTo>
                  <a:lnTo>
                    <a:pt x="832" y="104"/>
                  </a:lnTo>
                  <a:lnTo>
                    <a:pt x="852" y="94"/>
                  </a:lnTo>
                  <a:lnTo>
                    <a:pt x="872" y="86"/>
                  </a:lnTo>
                  <a:lnTo>
                    <a:pt x="892" y="80"/>
                  </a:lnTo>
                  <a:lnTo>
                    <a:pt x="914" y="78"/>
                  </a:lnTo>
                  <a:lnTo>
                    <a:pt x="936" y="76"/>
                  </a:lnTo>
                  <a:lnTo>
                    <a:pt x="956" y="78"/>
                  </a:lnTo>
                  <a:lnTo>
                    <a:pt x="976" y="80"/>
                  </a:lnTo>
                  <a:lnTo>
                    <a:pt x="994" y="86"/>
                  </a:lnTo>
                  <a:lnTo>
                    <a:pt x="1010" y="94"/>
                  </a:lnTo>
                  <a:lnTo>
                    <a:pt x="1024" y="104"/>
                  </a:lnTo>
                  <a:lnTo>
                    <a:pt x="1034" y="116"/>
                  </a:lnTo>
                  <a:lnTo>
                    <a:pt x="1042" y="130"/>
                  </a:lnTo>
                  <a:lnTo>
                    <a:pt x="1044" y="148"/>
                  </a:lnTo>
                  <a:lnTo>
                    <a:pt x="1042" y="166"/>
                  </a:lnTo>
                  <a:lnTo>
                    <a:pt x="1036" y="186"/>
                  </a:lnTo>
                  <a:lnTo>
                    <a:pt x="1036" y="186"/>
                  </a:lnTo>
                  <a:lnTo>
                    <a:pt x="1020" y="180"/>
                  </a:lnTo>
                  <a:lnTo>
                    <a:pt x="1006" y="178"/>
                  </a:lnTo>
                  <a:lnTo>
                    <a:pt x="994" y="178"/>
                  </a:lnTo>
                  <a:lnTo>
                    <a:pt x="984" y="182"/>
                  </a:lnTo>
                  <a:lnTo>
                    <a:pt x="974" y="188"/>
                  </a:lnTo>
                  <a:lnTo>
                    <a:pt x="966" y="196"/>
                  </a:lnTo>
                  <a:lnTo>
                    <a:pt x="960" y="204"/>
                  </a:lnTo>
                  <a:lnTo>
                    <a:pt x="956" y="214"/>
                  </a:lnTo>
                  <a:lnTo>
                    <a:pt x="952" y="226"/>
                  </a:lnTo>
                  <a:lnTo>
                    <a:pt x="952" y="238"/>
                  </a:lnTo>
                  <a:lnTo>
                    <a:pt x="954" y="250"/>
                  </a:lnTo>
                  <a:lnTo>
                    <a:pt x="958" y="262"/>
                  </a:lnTo>
                  <a:lnTo>
                    <a:pt x="964" y="274"/>
                  </a:lnTo>
                  <a:lnTo>
                    <a:pt x="972" y="286"/>
                  </a:lnTo>
                  <a:lnTo>
                    <a:pt x="982" y="296"/>
                  </a:lnTo>
                  <a:lnTo>
                    <a:pt x="996" y="304"/>
                  </a:lnTo>
                  <a:lnTo>
                    <a:pt x="996" y="304"/>
                  </a:lnTo>
                  <a:lnTo>
                    <a:pt x="1008" y="308"/>
                  </a:lnTo>
                  <a:lnTo>
                    <a:pt x="1020" y="312"/>
                  </a:lnTo>
                  <a:lnTo>
                    <a:pt x="1034" y="316"/>
                  </a:lnTo>
                  <a:lnTo>
                    <a:pt x="1046" y="318"/>
                  </a:lnTo>
                  <a:lnTo>
                    <a:pt x="1060" y="318"/>
                  </a:lnTo>
                  <a:lnTo>
                    <a:pt x="1074" y="316"/>
                  </a:lnTo>
                  <a:lnTo>
                    <a:pt x="1086" y="314"/>
                  </a:lnTo>
                  <a:lnTo>
                    <a:pt x="1100" y="312"/>
                  </a:lnTo>
                  <a:lnTo>
                    <a:pt x="1112" y="308"/>
                  </a:lnTo>
                  <a:lnTo>
                    <a:pt x="1124" y="302"/>
                  </a:lnTo>
                  <a:lnTo>
                    <a:pt x="1134" y="296"/>
                  </a:lnTo>
                  <a:lnTo>
                    <a:pt x="1144" y="288"/>
                  </a:lnTo>
                  <a:lnTo>
                    <a:pt x="1154" y="278"/>
                  </a:lnTo>
                  <a:lnTo>
                    <a:pt x="1162" y="268"/>
                  </a:lnTo>
                  <a:lnTo>
                    <a:pt x="1168" y="258"/>
                  </a:lnTo>
                  <a:lnTo>
                    <a:pt x="1174" y="246"/>
                  </a:lnTo>
                  <a:lnTo>
                    <a:pt x="1174" y="246"/>
                  </a:lnTo>
                  <a:lnTo>
                    <a:pt x="1178" y="232"/>
                  </a:lnTo>
                  <a:lnTo>
                    <a:pt x="1180" y="218"/>
                  </a:lnTo>
                  <a:lnTo>
                    <a:pt x="1182" y="206"/>
                  </a:lnTo>
                  <a:lnTo>
                    <a:pt x="1180" y="190"/>
                  </a:lnTo>
                  <a:lnTo>
                    <a:pt x="1178" y="176"/>
                  </a:lnTo>
                  <a:lnTo>
                    <a:pt x="1176" y="162"/>
                  </a:lnTo>
                  <a:lnTo>
                    <a:pt x="1170" y="148"/>
                  </a:lnTo>
                  <a:lnTo>
                    <a:pt x="1164" y="134"/>
                  </a:lnTo>
                  <a:lnTo>
                    <a:pt x="1156" y="120"/>
                  </a:lnTo>
                  <a:lnTo>
                    <a:pt x="1148" y="106"/>
                  </a:lnTo>
                  <a:lnTo>
                    <a:pt x="1138" y="94"/>
                  </a:lnTo>
                  <a:lnTo>
                    <a:pt x="1126" y="82"/>
                  </a:lnTo>
                  <a:lnTo>
                    <a:pt x="1114" y="72"/>
                  </a:lnTo>
                  <a:lnTo>
                    <a:pt x="1100" y="62"/>
                  </a:lnTo>
                  <a:lnTo>
                    <a:pt x="1086" y="54"/>
                  </a:lnTo>
                  <a:lnTo>
                    <a:pt x="1070" y="46"/>
                  </a:lnTo>
                  <a:lnTo>
                    <a:pt x="1070" y="46"/>
                  </a:lnTo>
                  <a:lnTo>
                    <a:pt x="1046" y="38"/>
                  </a:lnTo>
                  <a:lnTo>
                    <a:pt x="1022" y="34"/>
                  </a:lnTo>
                  <a:lnTo>
                    <a:pt x="994" y="30"/>
                  </a:lnTo>
                  <a:lnTo>
                    <a:pt x="966" y="30"/>
                  </a:lnTo>
                  <a:lnTo>
                    <a:pt x="938" y="32"/>
                  </a:lnTo>
                  <a:lnTo>
                    <a:pt x="910" y="38"/>
                  </a:lnTo>
                  <a:lnTo>
                    <a:pt x="882" y="44"/>
                  </a:lnTo>
                  <a:lnTo>
                    <a:pt x="852" y="56"/>
                  </a:lnTo>
                  <a:lnTo>
                    <a:pt x="826" y="68"/>
                  </a:lnTo>
                  <a:lnTo>
                    <a:pt x="800" y="86"/>
                  </a:lnTo>
                  <a:lnTo>
                    <a:pt x="776" y="104"/>
                  </a:lnTo>
                  <a:lnTo>
                    <a:pt x="752" y="128"/>
                  </a:lnTo>
                  <a:lnTo>
                    <a:pt x="734" y="152"/>
                  </a:lnTo>
                  <a:lnTo>
                    <a:pt x="716" y="182"/>
                  </a:lnTo>
                  <a:lnTo>
                    <a:pt x="702" y="214"/>
                  </a:lnTo>
                  <a:lnTo>
                    <a:pt x="692" y="250"/>
                  </a:lnTo>
                  <a:lnTo>
                    <a:pt x="692" y="250"/>
                  </a:lnTo>
                  <a:lnTo>
                    <a:pt x="678" y="208"/>
                  </a:lnTo>
                  <a:lnTo>
                    <a:pt x="662" y="170"/>
                  </a:lnTo>
                  <a:lnTo>
                    <a:pt x="642" y="138"/>
                  </a:lnTo>
                  <a:lnTo>
                    <a:pt x="618" y="108"/>
                  </a:lnTo>
                  <a:lnTo>
                    <a:pt x="594" y="84"/>
                  </a:lnTo>
                  <a:lnTo>
                    <a:pt x="568" y="62"/>
                  </a:lnTo>
                  <a:lnTo>
                    <a:pt x="540" y="46"/>
                  </a:lnTo>
                  <a:lnTo>
                    <a:pt x="510" y="32"/>
                  </a:lnTo>
                  <a:lnTo>
                    <a:pt x="480" y="22"/>
                  </a:lnTo>
                  <a:lnTo>
                    <a:pt x="450" y="16"/>
                  </a:lnTo>
                  <a:lnTo>
                    <a:pt x="420" y="12"/>
                  </a:lnTo>
                  <a:lnTo>
                    <a:pt x="390" y="12"/>
                  </a:lnTo>
                  <a:lnTo>
                    <a:pt x="360" y="14"/>
                  </a:lnTo>
                  <a:lnTo>
                    <a:pt x="332" y="20"/>
                  </a:lnTo>
                  <a:lnTo>
                    <a:pt x="304" y="28"/>
                  </a:lnTo>
                  <a:lnTo>
                    <a:pt x="280" y="38"/>
                  </a:lnTo>
                  <a:lnTo>
                    <a:pt x="280" y="38"/>
                  </a:lnTo>
                  <a:lnTo>
                    <a:pt x="272" y="30"/>
                  </a:lnTo>
                  <a:lnTo>
                    <a:pt x="264" y="26"/>
                  </a:lnTo>
                  <a:lnTo>
                    <a:pt x="256" y="24"/>
                  </a:lnTo>
                  <a:lnTo>
                    <a:pt x="250" y="24"/>
                  </a:lnTo>
                  <a:lnTo>
                    <a:pt x="244" y="24"/>
                  </a:lnTo>
                  <a:lnTo>
                    <a:pt x="238" y="26"/>
                  </a:lnTo>
                  <a:lnTo>
                    <a:pt x="228" y="34"/>
                  </a:lnTo>
                  <a:lnTo>
                    <a:pt x="220" y="44"/>
                  </a:lnTo>
                  <a:lnTo>
                    <a:pt x="214" y="58"/>
                  </a:lnTo>
                  <a:lnTo>
                    <a:pt x="210" y="70"/>
                  </a:lnTo>
                  <a:lnTo>
                    <a:pt x="206" y="82"/>
                  </a:lnTo>
                  <a:lnTo>
                    <a:pt x="206" y="82"/>
                  </a:lnTo>
                  <a:lnTo>
                    <a:pt x="200" y="100"/>
                  </a:lnTo>
                  <a:lnTo>
                    <a:pt x="192" y="114"/>
                  </a:lnTo>
                  <a:lnTo>
                    <a:pt x="180" y="126"/>
                  </a:lnTo>
                  <a:lnTo>
                    <a:pt x="166" y="136"/>
                  </a:lnTo>
                  <a:lnTo>
                    <a:pt x="152" y="140"/>
                  </a:lnTo>
                  <a:lnTo>
                    <a:pt x="146" y="140"/>
                  </a:lnTo>
                  <a:lnTo>
                    <a:pt x="138" y="140"/>
                  </a:lnTo>
                  <a:lnTo>
                    <a:pt x="130" y="138"/>
                  </a:lnTo>
                  <a:lnTo>
                    <a:pt x="124" y="134"/>
                  </a:lnTo>
                  <a:lnTo>
                    <a:pt x="118" y="128"/>
                  </a:lnTo>
                  <a:lnTo>
                    <a:pt x="112" y="122"/>
                  </a:lnTo>
                  <a:lnTo>
                    <a:pt x="112" y="122"/>
                  </a:lnTo>
                  <a:lnTo>
                    <a:pt x="108" y="114"/>
                  </a:lnTo>
                  <a:lnTo>
                    <a:pt x="104" y="106"/>
                  </a:lnTo>
                  <a:lnTo>
                    <a:pt x="102" y="98"/>
                  </a:lnTo>
                  <a:lnTo>
                    <a:pt x="102" y="92"/>
                  </a:lnTo>
                  <a:lnTo>
                    <a:pt x="102" y="84"/>
                  </a:lnTo>
                  <a:lnTo>
                    <a:pt x="104" y="78"/>
                  </a:lnTo>
                  <a:lnTo>
                    <a:pt x="112" y="66"/>
                  </a:lnTo>
                  <a:lnTo>
                    <a:pt x="122" y="58"/>
                  </a:lnTo>
                  <a:lnTo>
                    <a:pt x="134" y="50"/>
                  </a:lnTo>
                  <a:lnTo>
                    <a:pt x="150" y="46"/>
                  </a:lnTo>
                  <a:lnTo>
                    <a:pt x="166" y="44"/>
                  </a:lnTo>
                  <a:lnTo>
                    <a:pt x="166" y="44"/>
                  </a:lnTo>
                  <a:lnTo>
                    <a:pt x="154" y="34"/>
                  </a:lnTo>
                  <a:lnTo>
                    <a:pt x="140" y="28"/>
                  </a:lnTo>
                  <a:lnTo>
                    <a:pt x="128" y="22"/>
                  </a:lnTo>
                  <a:lnTo>
                    <a:pt x="114" y="20"/>
                  </a:lnTo>
                  <a:lnTo>
                    <a:pt x="102" y="18"/>
                  </a:lnTo>
                  <a:lnTo>
                    <a:pt x="88" y="16"/>
                  </a:lnTo>
                  <a:lnTo>
                    <a:pt x="76" y="18"/>
                  </a:lnTo>
                  <a:lnTo>
                    <a:pt x="64" y="20"/>
                  </a:lnTo>
                  <a:lnTo>
                    <a:pt x="52" y="24"/>
                  </a:lnTo>
                  <a:lnTo>
                    <a:pt x="40" y="30"/>
                  </a:lnTo>
                  <a:lnTo>
                    <a:pt x="30" y="38"/>
                  </a:lnTo>
                  <a:lnTo>
                    <a:pt x="22" y="46"/>
                  </a:lnTo>
                  <a:lnTo>
                    <a:pt x="14" y="56"/>
                  </a:lnTo>
                  <a:lnTo>
                    <a:pt x="8" y="68"/>
                  </a:lnTo>
                  <a:lnTo>
                    <a:pt x="2" y="8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108"/>
                  </a:lnTo>
                  <a:lnTo>
                    <a:pt x="2" y="122"/>
                  </a:lnTo>
                  <a:lnTo>
                    <a:pt x="8" y="136"/>
                  </a:lnTo>
                  <a:lnTo>
                    <a:pt x="18" y="148"/>
                  </a:lnTo>
                  <a:lnTo>
                    <a:pt x="28" y="162"/>
                  </a:lnTo>
                  <a:lnTo>
                    <a:pt x="40" y="172"/>
                  </a:lnTo>
                  <a:lnTo>
                    <a:pt x="54" y="184"/>
                  </a:lnTo>
                  <a:lnTo>
                    <a:pt x="70" y="192"/>
                  </a:lnTo>
                  <a:lnTo>
                    <a:pt x="86" y="198"/>
                  </a:lnTo>
                  <a:lnTo>
                    <a:pt x="104" y="204"/>
                  </a:lnTo>
                  <a:lnTo>
                    <a:pt x="120" y="206"/>
                  </a:lnTo>
                  <a:lnTo>
                    <a:pt x="138" y="204"/>
                  </a:lnTo>
                  <a:lnTo>
                    <a:pt x="154" y="200"/>
                  </a:lnTo>
                  <a:lnTo>
                    <a:pt x="170" y="194"/>
                  </a:lnTo>
                  <a:lnTo>
                    <a:pt x="184" y="182"/>
                  </a:lnTo>
                  <a:lnTo>
                    <a:pt x="196" y="168"/>
                  </a:lnTo>
                  <a:lnTo>
                    <a:pt x="196" y="168"/>
                  </a:lnTo>
                  <a:lnTo>
                    <a:pt x="212" y="146"/>
                  </a:lnTo>
                  <a:lnTo>
                    <a:pt x="222" y="128"/>
                  </a:lnTo>
                  <a:lnTo>
                    <a:pt x="238" y="98"/>
                  </a:lnTo>
                  <a:lnTo>
                    <a:pt x="246" y="88"/>
                  </a:lnTo>
                  <a:lnTo>
                    <a:pt x="254" y="82"/>
                  </a:lnTo>
                  <a:lnTo>
                    <a:pt x="262" y="78"/>
                  </a:lnTo>
                  <a:lnTo>
                    <a:pt x="276" y="78"/>
                  </a:lnTo>
                  <a:lnTo>
                    <a:pt x="276" y="78"/>
                  </a:lnTo>
                  <a:lnTo>
                    <a:pt x="264" y="90"/>
                  </a:lnTo>
                  <a:lnTo>
                    <a:pt x="256" y="102"/>
                  </a:lnTo>
                  <a:lnTo>
                    <a:pt x="248" y="116"/>
                  </a:lnTo>
                  <a:lnTo>
                    <a:pt x="242" y="130"/>
                  </a:lnTo>
                  <a:lnTo>
                    <a:pt x="238" y="144"/>
                  </a:lnTo>
                  <a:lnTo>
                    <a:pt x="234" y="158"/>
                  </a:lnTo>
                  <a:lnTo>
                    <a:pt x="232" y="172"/>
                  </a:lnTo>
                  <a:lnTo>
                    <a:pt x="230" y="186"/>
                  </a:lnTo>
                  <a:lnTo>
                    <a:pt x="232" y="214"/>
                  </a:lnTo>
                  <a:lnTo>
                    <a:pt x="238" y="238"/>
                  </a:lnTo>
                  <a:lnTo>
                    <a:pt x="242" y="250"/>
                  </a:lnTo>
                  <a:lnTo>
                    <a:pt x="246" y="260"/>
                  </a:lnTo>
                  <a:lnTo>
                    <a:pt x="254" y="270"/>
                  </a:lnTo>
                  <a:lnTo>
                    <a:pt x="260" y="278"/>
                  </a:lnTo>
                  <a:lnTo>
                    <a:pt x="260" y="278"/>
                  </a:lnTo>
                  <a:lnTo>
                    <a:pt x="272" y="288"/>
                  </a:lnTo>
                  <a:lnTo>
                    <a:pt x="284" y="298"/>
                  </a:lnTo>
                  <a:lnTo>
                    <a:pt x="298" y="304"/>
                  </a:lnTo>
                  <a:lnTo>
                    <a:pt x="312" y="308"/>
                  </a:lnTo>
                  <a:lnTo>
                    <a:pt x="326" y="312"/>
                  </a:lnTo>
                  <a:lnTo>
                    <a:pt x="340" y="312"/>
                  </a:lnTo>
                  <a:lnTo>
                    <a:pt x="352" y="310"/>
                  </a:lnTo>
                  <a:lnTo>
                    <a:pt x="366" y="306"/>
                  </a:lnTo>
                  <a:lnTo>
                    <a:pt x="376" y="298"/>
                  </a:lnTo>
                  <a:lnTo>
                    <a:pt x="386" y="288"/>
                  </a:lnTo>
                  <a:lnTo>
                    <a:pt x="394" y="276"/>
                  </a:lnTo>
                  <a:lnTo>
                    <a:pt x="398" y="262"/>
                  </a:lnTo>
                  <a:lnTo>
                    <a:pt x="402" y="244"/>
                  </a:lnTo>
                  <a:lnTo>
                    <a:pt x="400" y="222"/>
                  </a:lnTo>
                  <a:lnTo>
                    <a:pt x="396" y="196"/>
                  </a:lnTo>
                  <a:lnTo>
                    <a:pt x="390" y="168"/>
                  </a:lnTo>
                  <a:lnTo>
                    <a:pt x="390" y="168"/>
                  </a:lnTo>
                  <a:lnTo>
                    <a:pt x="378" y="182"/>
                  </a:lnTo>
                  <a:lnTo>
                    <a:pt x="368" y="194"/>
                  </a:lnTo>
                  <a:lnTo>
                    <a:pt x="360" y="202"/>
                  </a:lnTo>
                  <a:lnTo>
                    <a:pt x="350" y="210"/>
                  </a:lnTo>
                  <a:lnTo>
                    <a:pt x="340" y="214"/>
                  </a:lnTo>
                  <a:lnTo>
                    <a:pt x="330" y="218"/>
                  </a:lnTo>
                  <a:lnTo>
                    <a:pt x="322" y="218"/>
                  </a:lnTo>
                  <a:lnTo>
                    <a:pt x="314" y="218"/>
                  </a:lnTo>
                  <a:lnTo>
                    <a:pt x="306" y="216"/>
                  </a:lnTo>
                  <a:lnTo>
                    <a:pt x="300" y="212"/>
                  </a:lnTo>
                  <a:lnTo>
                    <a:pt x="294" y="208"/>
                  </a:lnTo>
                  <a:lnTo>
                    <a:pt x="288" y="202"/>
                  </a:lnTo>
                  <a:lnTo>
                    <a:pt x="282" y="196"/>
                  </a:lnTo>
                  <a:lnTo>
                    <a:pt x="280" y="188"/>
                  </a:lnTo>
                  <a:lnTo>
                    <a:pt x="276" y="172"/>
                  </a:lnTo>
                  <a:lnTo>
                    <a:pt x="276" y="172"/>
                  </a:lnTo>
                  <a:lnTo>
                    <a:pt x="276" y="154"/>
                  </a:lnTo>
                  <a:lnTo>
                    <a:pt x="280" y="138"/>
                  </a:lnTo>
                  <a:lnTo>
                    <a:pt x="288" y="122"/>
                  </a:lnTo>
                  <a:lnTo>
                    <a:pt x="298" y="108"/>
                  </a:lnTo>
                  <a:lnTo>
                    <a:pt x="310" y="96"/>
                  </a:lnTo>
                  <a:lnTo>
                    <a:pt x="324" y="86"/>
                  </a:lnTo>
                  <a:lnTo>
                    <a:pt x="340" y="78"/>
                  </a:lnTo>
                  <a:lnTo>
                    <a:pt x="356" y="74"/>
                  </a:lnTo>
                  <a:lnTo>
                    <a:pt x="356" y="74"/>
                  </a:lnTo>
                  <a:lnTo>
                    <a:pt x="352" y="92"/>
                  </a:lnTo>
                  <a:lnTo>
                    <a:pt x="352" y="106"/>
                  </a:lnTo>
                  <a:lnTo>
                    <a:pt x="354" y="118"/>
                  </a:lnTo>
                  <a:lnTo>
                    <a:pt x="360" y="128"/>
                  </a:lnTo>
                  <a:lnTo>
                    <a:pt x="366" y="134"/>
                  </a:lnTo>
                  <a:lnTo>
                    <a:pt x="372" y="138"/>
                  </a:lnTo>
                  <a:lnTo>
                    <a:pt x="378" y="140"/>
                  </a:lnTo>
                  <a:lnTo>
                    <a:pt x="378" y="140"/>
                  </a:lnTo>
                  <a:lnTo>
                    <a:pt x="384" y="128"/>
                  </a:lnTo>
                  <a:lnTo>
                    <a:pt x="392" y="116"/>
                  </a:lnTo>
                  <a:lnTo>
                    <a:pt x="402" y="104"/>
                  </a:lnTo>
                  <a:lnTo>
                    <a:pt x="414" y="96"/>
                  </a:lnTo>
                  <a:lnTo>
                    <a:pt x="428" y="88"/>
                  </a:lnTo>
                  <a:lnTo>
                    <a:pt x="444" y="82"/>
                  </a:lnTo>
                  <a:lnTo>
                    <a:pt x="460" y="78"/>
                  </a:lnTo>
                  <a:lnTo>
                    <a:pt x="476" y="76"/>
                  </a:lnTo>
                  <a:lnTo>
                    <a:pt x="492" y="78"/>
                  </a:lnTo>
                  <a:lnTo>
                    <a:pt x="508" y="82"/>
                  </a:lnTo>
                  <a:lnTo>
                    <a:pt x="522" y="88"/>
                  </a:lnTo>
                  <a:lnTo>
                    <a:pt x="536" y="100"/>
                  </a:lnTo>
                  <a:lnTo>
                    <a:pt x="546" y="114"/>
                  </a:lnTo>
                  <a:lnTo>
                    <a:pt x="554" y="134"/>
                  </a:lnTo>
                  <a:lnTo>
                    <a:pt x="558" y="156"/>
                  </a:lnTo>
                  <a:lnTo>
                    <a:pt x="560" y="184"/>
                  </a:lnTo>
                  <a:lnTo>
                    <a:pt x="560" y="184"/>
                  </a:lnTo>
                  <a:lnTo>
                    <a:pt x="568" y="176"/>
                  </a:lnTo>
                  <a:lnTo>
                    <a:pt x="578" y="170"/>
                  </a:lnTo>
                  <a:lnTo>
                    <a:pt x="590" y="168"/>
                  </a:lnTo>
                  <a:lnTo>
                    <a:pt x="602" y="172"/>
                  </a:lnTo>
                  <a:lnTo>
                    <a:pt x="614" y="178"/>
                  </a:lnTo>
                  <a:lnTo>
                    <a:pt x="624" y="188"/>
                  </a:lnTo>
                  <a:lnTo>
                    <a:pt x="634" y="202"/>
                  </a:lnTo>
                  <a:lnTo>
                    <a:pt x="640" y="220"/>
                  </a:lnTo>
                  <a:lnTo>
                    <a:pt x="640" y="220"/>
                  </a:lnTo>
                  <a:lnTo>
                    <a:pt x="640" y="232"/>
                  </a:lnTo>
                  <a:lnTo>
                    <a:pt x="638" y="248"/>
                  </a:lnTo>
                  <a:lnTo>
                    <a:pt x="630" y="262"/>
                  </a:lnTo>
                  <a:lnTo>
                    <a:pt x="622" y="274"/>
                  </a:lnTo>
                  <a:lnTo>
                    <a:pt x="614" y="280"/>
                  </a:lnTo>
                  <a:lnTo>
                    <a:pt x="608" y="284"/>
                  </a:lnTo>
                  <a:lnTo>
                    <a:pt x="600" y="288"/>
                  </a:lnTo>
                  <a:lnTo>
                    <a:pt x="592" y="288"/>
                  </a:lnTo>
                  <a:lnTo>
                    <a:pt x="582" y="288"/>
                  </a:lnTo>
                  <a:lnTo>
                    <a:pt x="572" y="284"/>
                  </a:lnTo>
                  <a:lnTo>
                    <a:pt x="560" y="280"/>
                  </a:lnTo>
                  <a:lnTo>
                    <a:pt x="548" y="272"/>
                  </a:lnTo>
                  <a:lnTo>
                    <a:pt x="548" y="272"/>
                  </a:lnTo>
                  <a:lnTo>
                    <a:pt x="546" y="282"/>
                  </a:lnTo>
                  <a:lnTo>
                    <a:pt x="546" y="292"/>
                  </a:lnTo>
                  <a:lnTo>
                    <a:pt x="548" y="300"/>
                  </a:lnTo>
                  <a:lnTo>
                    <a:pt x="552" y="308"/>
                  </a:lnTo>
                  <a:lnTo>
                    <a:pt x="558" y="316"/>
                  </a:lnTo>
                  <a:lnTo>
                    <a:pt x="566" y="322"/>
                  </a:lnTo>
                  <a:lnTo>
                    <a:pt x="576" y="328"/>
                  </a:lnTo>
                  <a:lnTo>
                    <a:pt x="586" y="334"/>
                  </a:lnTo>
                  <a:lnTo>
                    <a:pt x="586" y="334"/>
                  </a:lnTo>
                  <a:lnTo>
                    <a:pt x="574" y="340"/>
                  </a:lnTo>
                  <a:lnTo>
                    <a:pt x="560" y="346"/>
                  </a:lnTo>
                  <a:lnTo>
                    <a:pt x="548" y="348"/>
                  </a:lnTo>
                  <a:lnTo>
                    <a:pt x="534" y="348"/>
                  </a:lnTo>
                  <a:lnTo>
                    <a:pt x="522" y="346"/>
                  </a:lnTo>
                  <a:lnTo>
                    <a:pt x="512" y="344"/>
                  </a:lnTo>
                  <a:lnTo>
                    <a:pt x="500" y="338"/>
                  </a:lnTo>
                  <a:lnTo>
                    <a:pt x="492" y="332"/>
                  </a:lnTo>
                  <a:lnTo>
                    <a:pt x="484" y="326"/>
                  </a:lnTo>
                  <a:lnTo>
                    <a:pt x="480" y="318"/>
                  </a:lnTo>
                  <a:lnTo>
                    <a:pt x="476" y="310"/>
                  </a:lnTo>
                  <a:lnTo>
                    <a:pt x="476" y="300"/>
                  </a:lnTo>
                  <a:lnTo>
                    <a:pt x="478" y="290"/>
                  </a:lnTo>
                  <a:lnTo>
                    <a:pt x="482" y="280"/>
                  </a:lnTo>
                  <a:lnTo>
                    <a:pt x="490" y="270"/>
                  </a:lnTo>
                  <a:lnTo>
                    <a:pt x="502" y="260"/>
                  </a:lnTo>
                  <a:lnTo>
                    <a:pt x="502" y="260"/>
                  </a:lnTo>
                  <a:lnTo>
                    <a:pt x="488" y="266"/>
                  </a:lnTo>
                  <a:lnTo>
                    <a:pt x="476" y="274"/>
                  </a:lnTo>
                  <a:lnTo>
                    <a:pt x="466" y="282"/>
                  </a:lnTo>
                  <a:lnTo>
                    <a:pt x="456" y="292"/>
                  </a:lnTo>
                  <a:lnTo>
                    <a:pt x="450" y="302"/>
                  </a:lnTo>
                  <a:lnTo>
                    <a:pt x="446" y="310"/>
                  </a:lnTo>
                  <a:lnTo>
                    <a:pt x="444" y="320"/>
                  </a:lnTo>
                  <a:lnTo>
                    <a:pt x="444" y="330"/>
                  </a:lnTo>
                  <a:lnTo>
                    <a:pt x="444" y="340"/>
                  </a:lnTo>
                  <a:lnTo>
                    <a:pt x="446" y="350"/>
                  </a:lnTo>
                  <a:lnTo>
                    <a:pt x="450" y="360"/>
                  </a:lnTo>
                  <a:lnTo>
                    <a:pt x="456" y="370"/>
                  </a:lnTo>
                  <a:lnTo>
                    <a:pt x="468" y="388"/>
                  </a:lnTo>
                  <a:lnTo>
                    <a:pt x="486" y="404"/>
                  </a:lnTo>
                  <a:lnTo>
                    <a:pt x="506" y="416"/>
                  </a:lnTo>
                  <a:lnTo>
                    <a:pt x="530" y="426"/>
                  </a:lnTo>
                  <a:lnTo>
                    <a:pt x="542" y="428"/>
                  </a:lnTo>
                  <a:lnTo>
                    <a:pt x="554" y="430"/>
                  </a:lnTo>
                  <a:lnTo>
                    <a:pt x="568" y="430"/>
                  </a:lnTo>
                  <a:lnTo>
                    <a:pt x="580" y="428"/>
                  </a:lnTo>
                  <a:lnTo>
                    <a:pt x="594" y="426"/>
                  </a:lnTo>
                  <a:lnTo>
                    <a:pt x="606" y="422"/>
                  </a:lnTo>
                  <a:lnTo>
                    <a:pt x="618" y="416"/>
                  </a:lnTo>
                  <a:lnTo>
                    <a:pt x="630" y="408"/>
                  </a:lnTo>
                  <a:lnTo>
                    <a:pt x="642" y="398"/>
                  </a:lnTo>
                  <a:lnTo>
                    <a:pt x="654" y="386"/>
                  </a:lnTo>
                  <a:lnTo>
                    <a:pt x="664" y="372"/>
                  </a:lnTo>
                  <a:lnTo>
                    <a:pt x="674" y="354"/>
                  </a:lnTo>
                  <a:lnTo>
                    <a:pt x="674" y="354"/>
                  </a:lnTo>
                  <a:lnTo>
                    <a:pt x="678" y="392"/>
                  </a:lnTo>
                  <a:lnTo>
                    <a:pt x="686" y="428"/>
                  </a:lnTo>
                  <a:lnTo>
                    <a:pt x="698" y="462"/>
                  </a:lnTo>
                  <a:lnTo>
                    <a:pt x="704" y="478"/>
                  </a:lnTo>
                  <a:lnTo>
                    <a:pt x="714" y="494"/>
                  </a:lnTo>
                  <a:lnTo>
                    <a:pt x="724" y="510"/>
                  </a:lnTo>
                  <a:lnTo>
                    <a:pt x="734" y="524"/>
                  </a:lnTo>
                  <a:lnTo>
                    <a:pt x="746" y="538"/>
                  </a:lnTo>
                  <a:lnTo>
                    <a:pt x="758" y="552"/>
                  </a:lnTo>
                  <a:lnTo>
                    <a:pt x="774" y="564"/>
                  </a:lnTo>
                  <a:lnTo>
                    <a:pt x="788" y="576"/>
                  </a:lnTo>
                  <a:lnTo>
                    <a:pt x="806" y="588"/>
                  </a:lnTo>
                  <a:lnTo>
                    <a:pt x="824" y="598"/>
                  </a:lnTo>
                  <a:lnTo>
                    <a:pt x="844" y="608"/>
                  </a:lnTo>
                  <a:lnTo>
                    <a:pt x="864" y="616"/>
                  </a:lnTo>
                  <a:lnTo>
                    <a:pt x="886" y="624"/>
                  </a:lnTo>
                  <a:lnTo>
                    <a:pt x="910" y="630"/>
                  </a:lnTo>
                  <a:lnTo>
                    <a:pt x="936" y="636"/>
                  </a:lnTo>
                  <a:lnTo>
                    <a:pt x="962" y="642"/>
                  </a:lnTo>
                  <a:lnTo>
                    <a:pt x="990" y="646"/>
                  </a:lnTo>
                  <a:lnTo>
                    <a:pt x="1020" y="648"/>
                  </a:lnTo>
                  <a:lnTo>
                    <a:pt x="1084" y="652"/>
                  </a:lnTo>
                  <a:lnTo>
                    <a:pt x="1154" y="650"/>
                  </a:lnTo>
                  <a:lnTo>
                    <a:pt x="1230" y="642"/>
                  </a:lnTo>
                  <a:lnTo>
                    <a:pt x="1314" y="630"/>
                  </a:lnTo>
                  <a:lnTo>
                    <a:pt x="1314" y="630"/>
                  </a:lnTo>
                  <a:lnTo>
                    <a:pt x="1342" y="622"/>
                  </a:lnTo>
                  <a:lnTo>
                    <a:pt x="1380" y="612"/>
                  </a:lnTo>
                  <a:lnTo>
                    <a:pt x="1416" y="598"/>
                  </a:lnTo>
                  <a:lnTo>
                    <a:pt x="1432" y="590"/>
                  </a:lnTo>
                  <a:lnTo>
                    <a:pt x="1442" y="584"/>
                  </a:lnTo>
                  <a:lnTo>
                    <a:pt x="1442" y="584"/>
                  </a:lnTo>
                  <a:lnTo>
                    <a:pt x="1506" y="538"/>
                  </a:lnTo>
                  <a:lnTo>
                    <a:pt x="1544" y="510"/>
                  </a:lnTo>
                  <a:lnTo>
                    <a:pt x="1586" y="476"/>
                  </a:lnTo>
                  <a:lnTo>
                    <a:pt x="1626" y="442"/>
                  </a:lnTo>
                  <a:lnTo>
                    <a:pt x="1662" y="406"/>
                  </a:lnTo>
                  <a:lnTo>
                    <a:pt x="1694" y="372"/>
                  </a:lnTo>
                  <a:lnTo>
                    <a:pt x="1706" y="354"/>
                  </a:lnTo>
                  <a:lnTo>
                    <a:pt x="1718" y="338"/>
                  </a:lnTo>
                  <a:lnTo>
                    <a:pt x="1718" y="338"/>
                  </a:lnTo>
                  <a:lnTo>
                    <a:pt x="1694" y="398"/>
                  </a:lnTo>
                  <a:lnTo>
                    <a:pt x="1668" y="460"/>
                  </a:lnTo>
                  <a:lnTo>
                    <a:pt x="1668" y="460"/>
                  </a:lnTo>
                  <a:lnTo>
                    <a:pt x="1646" y="518"/>
                  </a:lnTo>
                  <a:lnTo>
                    <a:pt x="1626" y="576"/>
                  </a:lnTo>
                  <a:lnTo>
                    <a:pt x="1620" y="602"/>
                  </a:lnTo>
                  <a:lnTo>
                    <a:pt x="1614" y="628"/>
                  </a:lnTo>
                  <a:lnTo>
                    <a:pt x="1612" y="652"/>
                  </a:lnTo>
                  <a:lnTo>
                    <a:pt x="1612" y="676"/>
                  </a:lnTo>
                  <a:lnTo>
                    <a:pt x="1612" y="676"/>
                  </a:lnTo>
                  <a:lnTo>
                    <a:pt x="1610" y="700"/>
                  </a:lnTo>
                  <a:lnTo>
                    <a:pt x="1610" y="728"/>
                  </a:lnTo>
                  <a:lnTo>
                    <a:pt x="1612" y="756"/>
                  </a:lnTo>
                  <a:lnTo>
                    <a:pt x="1616" y="784"/>
                  </a:lnTo>
                  <a:lnTo>
                    <a:pt x="1616" y="784"/>
                  </a:lnTo>
                  <a:lnTo>
                    <a:pt x="1624" y="804"/>
                  </a:lnTo>
                  <a:lnTo>
                    <a:pt x="1634" y="824"/>
                  </a:lnTo>
                  <a:lnTo>
                    <a:pt x="1642" y="842"/>
                  </a:lnTo>
                  <a:lnTo>
                    <a:pt x="1654" y="860"/>
                  </a:lnTo>
                  <a:lnTo>
                    <a:pt x="1664" y="876"/>
                  </a:lnTo>
                  <a:lnTo>
                    <a:pt x="1676" y="890"/>
                  </a:lnTo>
                  <a:lnTo>
                    <a:pt x="1690" y="902"/>
                  </a:lnTo>
                  <a:lnTo>
                    <a:pt x="1702" y="914"/>
                  </a:lnTo>
                  <a:lnTo>
                    <a:pt x="1716" y="924"/>
                  </a:lnTo>
                  <a:lnTo>
                    <a:pt x="1732" y="932"/>
                  </a:lnTo>
                  <a:lnTo>
                    <a:pt x="1748" y="940"/>
                  </a:lnTo>
                  <a:lnTo>
                    <a:pt x="1764" y="946"/>
                  </a:lnTo>
                  <a:lnTo>
                    <a:pt x="1780" y="950"/>
                  </a:lnTo>
                  <a:lnTo>
                    <a:pt x="1796" y="952"/>
                  </a:lnTo>
                  <a:lnTo>
                    <a:pt x="1814" y="954"/>
                  </a:lnTo>
                  <a:lnTo>
                    <a:pt x="1832" y="954"/>
                  </a:lnTo>
                  <a:lnTo>
                    <a:pt x="1832" y="954"/>
                  </a:lnTo>
                  <a:lnTo>
                    <a:pt x="1824" y="942"/>
                  </a:lnTo>
                  <a:lnTo>
                    <a:pt x="1818" y="934"/>
                  </a:lnTo>
                  <a:lnTo>
                    <a:pt x="1802" y="920"/>
                  </a:lnTo>
                  <a:lnTo>
                    <a:pt x="1788" y="912"/>
                  </a:lnTo>
                  <a:lnTo>
                    <a:pt x="1782" y="906"/>
                  </a:lnTo>
                  <a:lnTo>
                    <a:pt x="1778" y="900"/>
                  </a:lnTo>
                  <a:lnTo>
                    <a:pt x="1778" y="900"/>
                  </a:lnTo>
                  <a:lnTo>
                    <a:pt x="1796" y="906"/>
                  </a:lnTo>
                  <a:lnTo>
                    <a:pt x="1822" y="908"/>
                  </a:lnTo>
                  <a:lnTo>
                    <a:pt x="1836" y="906"/>
                  </a:lnTo>
                  <a:lnTo>
                    <a:pt x="1852" y="904"/>
                  </a:lnTo>
                  <a:lnTo>
                    <a:pt x="1868" y="900"/>
                  </a:lnTo>
                  <a:lnTo>
                    <a:pt x="1884" y="894"/>
                  </a:lnTo>
                  <a:lnTo>
                    <a:pt x="1900" y="886"/>
                  </a:lnTo>
                  <a:lnTo>
                    <a:pt x="1916" y="878"/>
                  </a:lnTo>
                  <a:lnTo>
                    <a:pt x="1930" y="866"/>
                  </a:lnTo>
                  <a:lnTo>
                    <a:pt x="1946" y="850"/>
                  </a:lnTo>
                  <a:lnTo>
                    <a:pt x="1958" y="834"/>
                  </a:lnTo>
                  <a:lnTo>
                    <a:pt x="1970" y="814"/>
                  </a:lnTo>
                  <a:lnTo>
                    <a:pt x="1980" y="792"/>
                  </a:lnTo>
                  <a:lnTo>
                    <a:pt x="1990" y="766"/>
                  </a:lnTo>
                  <a:lnTo>
                    <a:pt x="1990" y="766"/>
                  </a:lnTo>
                  <a:lnTo>
                    <a:pt x="1960" y="790"/>
                  </a:lnTo>
                  <a:lnTo>
                    <a:pt x="1932" y="808"/>
                  </a:lnTo>
                  <a:lnTo>
                    <a:pt x="1904" y="820"/>
                  </a:lnTo>
                  <a:lnTo>
                    <a:pt x="1892" y="824"/>
                  </a:lnTo>
                  <a:lnTo>
                    <a:pt x="1878" y="826"/>
                  </a:lnTo>
                  <a:lnTo>
                    <a:pt x="1866" y="828"/>
                  </a:lnTo>
                  <a:lnTo>
                    <a:pt x="1854" y="828"/>
                  </a:lnTo>
                  <a:lnTo>
                    <a:pt x="1842" y="826"/>
                  </a:lnTo>
                  <a:lnTo>
                    <a:pt x="1832" y="824"/>
                  </a:lnTo>
                  <a:lnTo>
                    <a:pt x="1822" y="822"/>
                  </a:lnTo>
                  <a:lnTo>
                    <a:pt x="1812" y="816"/>
                  </a:lnTo>
                  <a:lnTo>
                    <a:pt x="1792" y="804"/>
                  </a:lnTo>
                  <a:lnTo>
                    <a:pt x="1792" y="804"/>
                  </a:lnTo>
                  <a:lnTo>
                    <a:pt x="1810" y="804"/>
                  </a:lnTo>
                  <a:lnTo>
                    <a:pt x="1826" y="798"/>
                  </a:lnTo>
                  <a:lnTo>
                    <a:pt x="1840" y="792"/>
                  </a:lnTo>
                  <a:lnTo>
                    <a:pt x="1854" y="784"/>
                  </a:lnTo>
                  <a:lnTo>
                    <a:pt x="1866" y="772"/>
                  </a:lnTo>
                  <a:lnTo>
                    <a:pt x="1876" y="758"/>
                  </a:lnTo>
                  <a:lnTo>
                    <a:pt x="1886" y="744"/>
                  </a:lnTo>
                  <a:lnTo>
                    <a:pt x="1894" y="726"/>
                  </a:lnTo>
                  <a:lnTo>
                    <a:pt x="1894" y="726"/>
                  </a:lnTo>
                  <a:lnTo>
                    <a:pt x="1876" y="732"/>
                  </a:lnTo>
                  <a:lnTo>
                    <a:pt x="1858" y="736"/>
                  </a:lnTo>
                  <a:lnTo>
                    <a:pt x="1840" y="736"/>
                  </a:lnTo>
                  <a:lnTo>
                    <a:pt x="1824" y="732"/>
                  </a:lnTo>
                  <a:lnTo>
                    <a:pt x="1806" y="728"/>
                  </a:lnTo>
                  <a:lnTo>
                    <a:pt x="1790" y="720"/>
                  </a:lnTo>
                  <a:lnTo>
                    <a:pt x="1774" y="710"/>
                  </a:lnTo>
                  <a:lnTo>
                    <a:pt x="1760" y="696"/>
                  </a:lnTo>
                  <a:lnTo>
                    <a:pt x="1746" y="682"/>
                  </a:lnTo>
                  <a:lnTo>
                    <a:pt x="1734" y="666"/>
                  </a:lnTo>
                  <a:lnTo>
                    <a:pt x="1726" y="648"/>
                  </a:lnTo>
                  <a:lnTo>
                    <a:pt x="1718" y="626"/>
                  </a:lnTo>
                  <a:lnTo>
                    <a:pt x="1714" y="604"/>
                  </a:lnTo>
                  <a:lnTo>
                    <a:pt x="1712" y="580"/>
                  </a:lnTo>
                  <a:lnTo>
                    <a:pt x="1712" y="556"/>
                  </a:lnTo>
                  <a:lnTo>
                    <a:pt x="1716" y="530"/>
                  </a:lnTo>
                  <a:lnTo>
                    <a:pt x="1716" y="530"/>
                  </a:lnTo>
                  <a:lnTo>
                    <a:pt x="1722" y="506"/>
                  </a:lnTo>
                  <a:lnTo>
                    <a:pt x="1730" y="480"/>
                  </a:lnTo>
                  <a:lnTo>
                    <a:pt x="1730" y="480"/>
                  </a:lnTo>
                  <a:lnTo>
                    <a:pt x="1730" y="498"/>
                  </a:lnTo>
                  <a:lnTo>
                    <a:pt x="1732" y="514"/>
                  </a:lnTo>
                  <a:lnTo>
                    <a:pt x="1736" y="530"/>
                  </a:lnTo>
                  <a:lnTo>
                    <a:pt x="1740" y="544"/>
                  </a:lnTo>
                  <a:lnTo>
                    <a:pt x="1748" y="556"/>
                  </a:lnTo>
                  <a:lnTo>
                    <a:pt x="1756" y="568"/>
                  </a:lnTo>
                  <a:lnTo>
                    <a:pt x="1766" y="578"/>
                  </a:lnTo>
                  <a:lnTo>
                    <a:pt x="1778" y="588"/>
                  </a:lnTo>
                  <a:lnTo>
                    <a:pt x="1790" y="596"/>
                  </a:lnTo>
                  <a:lnTo>
                    <a:pt x="1804" y="604"/>
                  </a:lnTo>
                  <a:lnTo>
                    <a:pt x="1818" y="610"/>
                  </a:lnTo>
                  <a:lnTo>
                    <a:pt x="1834" y="614"/>
                  </a:lnTo>
                  <a:lnTo>
                    <a:pt x="1850" y="618"/>
                  </a:lnTo>
                  <a:lnTo>
                    <a:pt x="1866" y="622"/>
                  </a:lnTo>
                  <a:lnTo>
                    <a:pt x="1900" y="622"/>
                  </a:lnTo>
                  <a:lnTo>
                    <a:pt x="1900" y="622"/>
                  </a:lnTo>
                  <a:lnTo>
                    <a:pt x="1930" y="618"/>
                  </a:lnTo>
                  <a:lnTo>
                    <a:pt x="1968" y="608"/>
                  </a:lnTo>
                  <a:lnTo>
                    <a:pt x="1986" y="602"/>
                  </a:lnTo>
                  <a:lnTo>
                    <a:pt x="2004" y="594"/>
                  </a:lnTo>
                  <a:lnTo>
                    <a:pt x="2022" y="584"/>
                  </a:lnTo>
                  <a:lnTo>
                    <a:pt x="2040" y="574"/>
                  </a:lnTo>
                  <a:lnTo>
                    <a:pt x="2040" y="574"/>
                  </a:lnTo>
                  <a:lnTo>
                    <a:pt x="2052" y="566"/>
                  </a:lnTo>
                  <a:lnTo>
                    <a:pt x="2052" y="566"/>
                  </a:lnTo>
                  <a:lnTo>
                    <a:pt x="2070" y="548"/>
                  </a:lnTo>
                  <a:lnTo>
                    <a:pt x="2084" y="532"/>
                  </a:lnTo>
                  <a:lnTo>
                    <a:pt x="2094" y="514"/>
                  </a:lnTo>
                  <a:lnTo>
                    <a:pt x="2100" y="496"/>
                  </a:lnTo>
                  <a:lnTo>
                    <a:pt x="2104" y="478"/>
                  </a:lnTo>
                  <a:lnTo>
                    <a:pt x="2104" y="460"/>
                  </a:lnTo>
                  <a:lnTo>
                    <a:pt x="2102" y="444"/>
                  </a:lnTo>
                  <a:lnTo>
                    <a:pt x="2098" y="428"/>
                  </a:lnTo>
                  <a:lnTo>
                    <a:pt x="2090" y="412"/>
                  </a:lnTo>
                  <a:lnTo>
                    <a:pt x="2082" y="398"/>
                  </a:lnTo>
                  <a:lnTo>
                    <a:pt x="2072" y="386"/>
                  </a:lnTo>
                  <a:lnTo>
                    <a:pt x="2062" y="374"/>
                  </a:lnTo>
                  <a:lnTo>
                    <a:pt x="2050" y="366"/>
                  </a:lnTo>
                  <a:lnTo>
                    <a:pt x="2036" y="358"/>
                  </a:lnTo>
                  <a:lnTo>
                    <a:pt x="2024" y="354"/>
                  </a:lnTo>
                  <a:lnTo>
                    <a:pt x="2010" y="352"/>
                  </a:lnTo>
                  <a:lnTo>
                    <a:pt x="2010" y="352"/>
                  </a:lnTo>
                  <a:lnTo>
                    <a:pt x="1994" y="352"/>
                  </a:lnTo>
                  <a:lnTo>
                    <a:pt x="1982" y="354"/>
                  </a:lnTo>
                  <a:lnTo>
                    <a:pt x="1970" y="358"/>
                  </a:lnTo>
                  <a:lnTo>
                    <a:pt x="1958" y="362"/>
                  </a:lnTo>
                  <a:lnTo>
                    <a:pt x="1948" y="370"/>
                  </a:lnTo>
                  <a:lnTo>
                    <a:pt x="1938" y="378"/>
                  </a:lnTo>
                  <a:lnTo>
                    <a:pt x="1930" y="388"/>
                  </a:lnTo>
                  <a:lnTo>
                    <a:pt x="1924" y="398"/>
                  </a:lnTo>
                  <a:lnTo>
                    <a:pt x="1920" y="410"/>
                  </a:lnTo>
                  <a:lnTo>
                    <a:pt x="1916" y="422"/>
                  </a:lnTo>
                  <a:lnTo>
                    <a:pt x="1914" y="436"/>
                  </a:lnTo>
                  <a:lnTo>
                    <a:pt x="1914" y="448"/>
                  </a:lnTo>
                  <a:lnTo>
                    <a:pt x="1914" y="462"/>
                  </a:lnTo>
                  <a:lnTo>
                    <a:pt x="1916" y="476"/>
                  </a:lnTo>
                  <a:lnTo>
                    <a:pt x="1920" y="490"/>
                  </a:lnTo>
                  <a:lnTo>
                    <a:pt x="1926" y="502"/>
                  </a:lnTo>
                  <a:lnTo>
                    <a:pt x="1926" y="502"/>
                  </a:lnTo>
                  <a:lnTo>
                    <a:pt x="1932" y="488"/>
                  </a:lnTo>
                  <a:lnTo>
                    <a:pt x="1940" y="474"/>
                  </a:lnTo>
                  <a:lnTo>
                    <a:pt x="1948" y="464"/>
                  </a:lnTo>
                  <a:lnTo>
                    <a:pt x="1960" y="456"/>
                  </a:lnTo>
                  <a:lnTo>
                    <a:pt x="1972" y="450"/>
                  </a:lnTo>
                  <a:lnTo>
                    <a:pt x="1980" y="450"/>
                  </a:lnTo>
                  <a:lnTo>
                    <a:pt x="1986" y="450"/>
                  </a:lnTo>
                  <a:lnTo>
                    <a:pt x="1994" y="452"/>
                  </a:lnTo>
                  <a:lnTo>
                    <a:pt x="2000" y="456"/>
                  </a:lnTo>
                  <a:lnTo>
                    <a:pt x="2006" y="460"/>
                  </a:lnTo>
                  <a:lnTo>
                    <a:pt x="2014" y="466"/>
                  </a:lnTo>
                  <a:lnTo>
                    <a:pt x="2014" y="466"/>
                  </a:lnTo>
                  <a:lnTo>
                    <a:pt x="2020" y="474"/>
                  </a:lnTo>
                  <a:lnTo>
                    <a:pt x="2024" y="480"/>
                  </a:lnTo>
                  <a:lnTo>
                    <a:pt x="2026" y="488"/>
                  </a:lnTo>
                  <a:lnTo>
                    <a:pt x="2028" y="496"/>
                  </a:lnTo>
                  <a:lnTo>
                    <a:pt x="2028" y="504"/>
                  </a:lnTo>
                  <a:lnTo>
                    <a:pt x="2028" y="512"/>
                  </a:lnTo>
                  <a:lnTo>
                    <a:pt x="2022" y="526"/>
                  </a:lnTo>
                  <a:lnTo>
                    <a:pt x="2014" y="542"/>
                  </a:lnTo>
                  <a:lnTo>
                    <a:pt x="2000" y="556"/>
                  </a:lnTo>
                  <a:lnTo>
                    <a:pt x="1986" y="570"/>
                  </a:lnTo>
                  <a:lnTo>
                    <a:pt x="1968" y="584"/>
                  </a:lnTo>
                  <a:lnTo>
                    <a:pt x="1968" y="584"/>
                  </a:lnTo>
                  <a:lnTo>
                    <a:pt x="1952" y="592"/>
                  </a:lnTo>
                  <a:lnTo>
                    <a:pt x="1936" y="596"/>
                  </a:lnTo>
                  <a:lnTo>
                    <a:pt x="1920" y="600"/>
                  </a:lnTo>
                  <a:lnTo>
                    <a:pt x="1898" y="602"/>
                  </a:lnTo>
                  <a:lnTo>
                    <a:pt x="1898" y="602"/>
                  </a:lnTo>
                  <a:lnTo>
                    <a:pt x="1882" y="600"/>
                  </a:lnTo>
                  <a:lnTo>
                    <a:pt x="1868" y="598"/>
                  </a:lnTo>
                  <a:lnTo>
                    <a:pt x="1852" y="592"/>
                  </a:lnTo>
                  <a:lnTo>
                    <a:pt x="1838" y="584"/>
                  </a:lnTo>
                  <a:lnTo>
                    <a:pt x="1824" y="574"/>
                  </a:lnTo>
                  <a:lnTo>
                    <a:pt x="1812" y="560"/>
                  </a:lnTo>
                  <a:lnTo>
                    <a:pt x="1802" y="546"/>
                  </a:lnTo>
                  <a:lnTo>
                    <a:pt x="1792" y="528"/>
                  </a:lnTo>
                  <a:lnTo>
                    <a:pt x="1786" y="506"/>
                  </a:lnTo>
                  <a:lnTo>
                    <a:pt x="1782" y="484"/>
                  </a:lnTo>
                  <a:lnTo>
                    <a:pt x="1780" y="458"/>
                  </a:lnTo>
                  <a:lnTo>
                    <a:pt x="1782" y="430"/>
                  </a:lnTo>
                  <a:lnTo>
                    <a:pt x="1786" y="400"/>
                  </a:lnTo>
                  <a:lnTo>
                    <a:pt x="1794" y="368"/>
                  </a:lnTo>
                  <a:lnTo>
                    <a:pt x="1806" y="332"/>
                  </a:lnTo>
                  <a:lnTo>
                    <a:pt x="1822" y="294"/>
                  </a:lnTo>
                  <a:lnTo>
                    <a:pt x="1822" y="294"/>
                  </a:lnTo>
                  <a:lnTo>
                    <a:pt x="1822" y="312"/>
                  </a:lnTo>
                  <a:lnTo>
                    <a:pt x="1826" y="330"/>
                  </a:lnTo>
                  <a:lnTo>
                    <a:pt x="1830" y="346"/>
                  </a:lnTo>
                  <a:lnTo>
                    <a:pt x="1838" y="362"/>
                  </a:lnTo>
                  <a:lnTo>
                    <a:pt x="1846" y="376"/>
                  </a:lnTo>
                  <a:lnTo>
                    <a:pt x="1856" y="386"/>
                  </a:lnTo>
                  <a:lnTo>
                    <a:pt x="1870" y="394"/>
                  </a:lnTo>
                  <a:lnTo>
                    <a:pt x="1876" y="396"/>
                  </a:lnTo>
                  <a:lnTo>
                    <a:pt x="1884" y="398"/>
                  </a:lnTo>
                  <a:lnTo>
                    <a:pt x="1884" y="398"/>
                  </a:lnTo>
                  <a:lnTo>
                    <a:pt x="1876" y="380"/>
                  </a:lnTo>
                  <a:lnTo>
                    <a:pt x="1868" y="364"/>
                  </a:lnTo>
                  <a:lnTo>
                    <a:pt x="1864" y="346"/>
                  </a:lnTo>
                  <a:lnTo>
                    <a:pt x="1862" y="326"/>
                  </a:lnTo>
                  <a:lnTo>
                    <a:pt x="1862" y="306"/>
                  </a:lnTo>
                  <a:lnTo>
                    <a:pt x="1866" y="288"/>
                  </a:lnTo>
                  <a:lnTo>
                    <a:pt x="1868" y="268"/>
                  </a:lnTo>
                  <a:lnTo>
                    <a:pt x="1874" y="248"/>
                  </a:lnTo>
                  <a:lnTo>
                    <a:pt x="1882" y="230"/>
                  </a:lnTo>
                  <a:lnTo>
                    <a:pt x="1892" y="210"/>
                  </a:lnTo>
                  <a:lnTo>
                    <a:pt x="1902" y="194"/>
                  </a:lnTo>
                  <a:lnTo>
                    <a:pt x="1914" y="178"/>
                  </a:lnTo>
                  <a:lnTo>
                    <a:pt x="1926" y="164"/>
                  </a:lnTo>
                  <a:lnTo>
                    <a:pt x="1940" y="150"/>
                  </a:lnTo>
                  <a:lnTo>
                    <a:pt x="1956" y="138"/>
                  </a:lnTo>
                  <a:lnTo>
                    <a:pt x="1972" y="130"/>
                  </a:lnTo>
                  <a:lnTo>
                    <a:pt x="1972" y="130"/>
                  </a:lnTo>
                  <a:lnTo>
                    <a:pt x="1984" y="140"/>
                  </a:lnTo>
                  <a:lnTo>
                    <a:pt x="2002" y="150"/>
                  </a:lnTo>
                  <a:lnTo>
                    <a:pt x="2024" y="158"/>
                  </a:lnTo>
                  <a:lnTo>
                    <a:pt x="2048" y="164"/>
                  </a:lnTo>
                  <a:lnTo>
                    <a:pt x="2070" y="168"/>
                  </a:lnTo>
                  <a:lnTo>
                    <a:pt x="2092" y="168"/>
                  </a:lnTo>
                  <a:lnTo>
                    <a:pt x="2102" y="166"/>
                  </a:lnTo>
                  <a:lnTo>
                    <a:pt x="2110" y="162"/>
                  </a:lnTo>
                  <a:lnTo>
                    <a:pt x="2116" y="158"/>
                  </a:lnTo>
                  <a:lnTo>
                    <a:pt x="2122" y="152"/>
                  </a:lnTo>
                  <a:lnTo>
                    <a:pt x="2122" y="152"/>
                  </a:lnTo>
                  <a:lnTo>
                    <a:pt x="2112" y="184"/>
                  </a:lnTo>
                  <a:lnTo>
                    <a:pt x="2104" y="214"/>
                  </a:lnTo>
                  <a:lnTo>
                    <a:pt x="2100" y="242"/>
                  </a:lnTo>
                  <a:lnTo>
                    <a:pt x="2100" y="268"/>
                  </a:lnTo>
                  <a:lnTo>
                    <a:pt x="2104" y="290"/>
                  </a:lnTo>
                  <a:lnTo>
                    <a:pt x="2106" y="300"/>
                  </a:lnTo>
                  <a:lnTo>
                    <a:pt x="2110" y="310"/>
                  </a:lnTo>
                  <a:lnTo>
                    <a:pt x="2116" y="316"/>
                  </a:lnTo>
                  <a:lnTo>
                    <a:pt x="2122" y="322"/>
                  </a:lnTo>
                  <a:lnTo>
                    <a:pt x="2130" y="326"/>
                  </a:lnTo>
                  <a:lnTo>
                    <a:pt x="2138" y="330"/>
                  </a:lnTo>
                  <a:lnTo>
                    <a:pt x="2138" y="330"/>
                  </a:lnTo>
                  <a:lnTo>
                    <a:pt x="2136" y="314"/>
                  </a:lnTo>
                  <a:lnTo>
                    <a:pt x="2136" y="296"/>
                  </a:lnTo>
                  <a:lnTo>
                    <a:pt x="2140" y="276"/>
                  </a:lnTo>
                  <a:lnTo>
                    <a:pt x="2148" y="256"/>
                  </a:lnTo>
                  <a:lnTo>
                    <a:pt x="2158" y="236"/>
                  </a:lnTo>
                  <a:lnTo>
                    <a:pt x="2172" y="216"/>
                  </a:lnTo>
                  <a:lnTo>
                    <a:pt x="2188" y="194"/>
                  </a:lnTo>
                  <a:lnTo>
                    <a:pt x="2206" y="176"/>
                  </a:lnTo>
                  <a:lnTo>
                    <a:pt x="2228" y="156"/>
                  </a:lnTo>
                  <a:lnTo>
                    <a:pt x="2252" y="138"/>
                  </a:lnTo>
                  <a:lnTo>
                    <a:pt x="2276" y="122"/>
                  </a:lnTo>
                  <a:lnTo>
                    <a:pt x="2304" y="108"/>
                  </a:lnTo>
                  <a:lnTo>
                    <a:pt x="2332" y="96"/>
                  </a:lnTo>
                  <a:lnTo>
                    <a:pt x="2362" y="88"/>
                  </a:lnTo>
                  <a:lnTo>
                    <a:pt x="2394" y="80"/>
                  </a:lnTo>
                  <a:lnTo>
                    <a:pt x="2426" y="78"/>
                  </a:lnTo>
                  <a:lnTo>
                    <a:pt x="2426" y="78"/>
                  </a:lnTo>
                  <a:lnTo>
                    <a:pt x="2474" y="78"/>
                  </a:lnTo>
                  <a:lnTo>
                    <a:pt x="2522" y="84"/>
                  </a:lnTo>
                  <a:lnTo>
                    <a:pt x="2570" y="94"/>
                  </a:lnTo>
                  <a:lnTo>
                    <a:pt x="2616" y="106"/>
                  </a:lnTo>
                  <a:lnTo>
                    <a:pt x="2632" y="56"/>
                  </a:lnTo>
                  <a:close/>
                  <a:moveTo>
                    <a:pt x="1946" y="426"/>
                  </a:moveTo>
                  <a:lnTo>
                    <a:pt x="1946" y="426"/>
                  </a:lnTo>
                  <a:lnTo>
                    <a:pt x="1950" y="414"/>
                  </a:lnTo>
                  <a:lnTo>
                    <a:pt x="1956" y="402"/>
                  </a:lnTo>
                  <a:lnTo>
                    <a:pt x="1962" y="394"/>
                  </a:lnTo>
                  <a:lnTo>
                    <a:pt x="1970" y="388"/>
                  </a:lnTo>
                  <a:lnTo>
                    <a:pt x="1978" y="382"/>
                  </a:lnTo>
                  <a:lnTo>
                    <a:pt x="1986" y="378"/>
                  </a:lnTo>
                  <a:lnTo>
                    <a:pt x="1996" y="376"/>
                  </a:lnTo>
                  <a:lnTo>
                    <a:pt x="2004" y="376"/>
                  </a:lnTo>
                  <a:lnTo>
                    <a:pt x="2014" y="376"/>
                  </a:lnTo>
                  <a:lnTo>
                    <a:pt x="2022" y="378"/>
                  </a:lnTo>
                  <a:lnTo>
                    <a:pt x="2030" y="382"/>
                  </a:lnTo>
                  <a:lnTo>
                    <a:pt x="2036" y="386"/>
                  </a:lnTo>
                  <a:lnTo>
                    <a:pt x="2042" y="392"/>
                  </a:lnTo>
                  <a:lnTo>
                    <a:pt x="2046" y="398"/>
                  </a:lnTo>
                  <a:lnTo>
                    <a:pt x="2050" y="406"/>
                  </a:lnTo>
                  <a:lnTo>
                    <a:pt x="2050" y="416"/>
                  </a:lnTo>
                  <a:lnTo>
                    <a:pt x="2050" y="416"/>
                  </a:lnTo>
                  <a:lnTo>
                    <a:pt x="2038" y="408"/>
                  </a:lnTo>
                  <a:lnTo>
                    <a:pt x="2026" y="404"/>
                  </a:lnTo>
                  <a:lnTo>
                    <a:pt x="2012" y="402"/>
                  </a:lnTo>
                  <a:lnTo>
                    <a:pt x="1998" y="400"/>
                  </a:lnTo>
                  <a:lnTo>
                    <a:pt x="1984" y="402"/>
                  </a:lnTo>
                  <a:lnTo>
                    <a:pt x="1970" y="408"/>
                  </a:lnTo>
                  <a:lnTo>
                    <a:pt x="1958" y="414"/>
                  </a:lnTo>
                  <a:lnTo>
                    <a:pt x="1946" y="426"/>
                  </a:lnTo>
                  <a:lnTo>
                    <a:pt x="1946" y="426"/>
                  </a:lnTo>
                  <a:close/>
                  <a:moveTo>
                    <a:pt x="1836" y="766"/>
                  </a:moveTo>
                  <a:lnTo>
                    <a:pt x="1836" y="766"/>
                  </a:lnTo>
                  <a:lnTo>
                    <a:pt x="1826" y="772"/>
                  </a:lnTo>
                  <a:lnTo>
                    <a:pt x="1814" y="778"/>
                  </a:lnTo>
                  <a:lnTo>
                    <a:pt x="1800" y="782"/>
                  </a:lnTo>
                  <a:lnTo>
                    <a:pt x="1784" y="784"/>
                  </a:lnTo>
                  <a:lnTo>
                    <a:pt x="1770" y="786"/>
                  </a:lnTo>
                  <a:lnTo>
                    <a:pt x="1756" y="786"/>
                  </a:lnTo>
                  <a:lnTo>
                    <a:pt x="1730" y="782"/>
                  </a:lnTo>
                  <a:lnTo>
                    <a:pt x="1730" y="782"/>
                  </a:lnTo>
                  <a:lnTo>
                    <a:pt x="1730" y="792"/>
                  </a:lnTo>
                  <a:lnTo>
                    <a:pt x="1732" y="800"/>
                  </a:lnTo>
                  <a:lnTo>
                    <a:pt x="1734" y="808"/>
                  </a:lnTo>
                  <a:lnTo>
                    <a:pt x="1738" y="816"/>
                  </a:lnTo>
                  <a:lnTo>
                    <a:pt x="1750" y="832"/>
                  </a:lnTo>
                  <a:lnTo>
                    <a:pt x="1766" y="844"/>
                  </a:lnTo>
                  <a:lnTo>
                    <a:pt x="1786" y="854"/>
                  </a:lnTo>
                  <a:lnTo>
                    <a:pt x="1808" y="860"/>
                  </a:lnTo>
                  <a:lnTo>
                    <a:pt x="1834" y="862"/>
                  </a:lnTo>
                  <a:lnTo>
                    <a:pt x="1860" y="860"/>
                  </a:lnTo>
                  <a:lnTo>
                    <a:pt x="1860" y="860"/>
                  </a:lnTo>
                  <a:lnTo>
                    <a:pt x="1840" y="868"/>
                  </a:lnTo>
                  <a:lnTo>
                    <a:pt x="1818" y="872"/>
                  </a:lnTo>
                  <a:lnTo>
                    <a:pt x="1792" y="876"/>
                  </a:lnTo>
                  <a:lnTo>
                    <a:pt x="1768" y="874"/>
                  </a:lnTo>
                  <a:lnTo>
                    <a:pt x="1754" y="872"/>
                  </a:lnTo>
                  <a:lnTo>
                    <a:pt x="1742" y="868"/>
                  </a:lnTo>
                  <a:lnTo>
                    <a:pt x="1730" y="862"/>
                  </a:lnTo>
                  <a:lnTo>
                    <a:pt x="1718" y="856"/>
                  </a:lnTo>
                  <a:lnTo>
                    <a:pt x="1708" y="846"/>
                  </a:lnTo>
                  <a:lnTo>
                    <a:pt x="1696" y="836"/>
                  </a:lnTo>
                  <a:lnTo>
                    <a:pt x="1686" y="824"/>
                  </a:lnTo>
                  <a:lnTo>
                    <a:pt x="1678" y="810"/>
                  </a:lnTo>
                  <a:lnTo>
                    <a:pt x="1678" y="810"/>
                  </a:lnTo>
                  <a:lnTo>
                    <a:pt x="1664" y="784"/>
                  </a:lnTo>
                  <a:lnTo>
                    <a:pt x="1654" y="756"/>
                  </a:lnTo>
                  <a:lnTo>
                    <a:pt x="1648" y="726"/>
                  </a:lnTo>
                  <a:lnTo>
                    <a:pt x="1646" y="696"/>
                  </a:lnTo>
                  <a:lnTo>
                    <a:pt x="1646" y="662"/>
                  </a:lnTo>
                  <a:lnTo>
                    <a:pt x="1650" y="628"/>
                  </a:lnTo>
                  <a:lnTo>
                    <a:pt x="1658" y="588"/>
                  </a:lnTo>
                  <a:lnTo>
                    <a:pt x="1672" y="548"/>
                  </a:lnTo>
                  <a:lnTo>
                    <a:pt x="1672" y="548"/>
                  </a:lnTo>
                  <a:lnTo>
                    <a:pt x="1666" y="580"/>
                  </a:lnTo>
                  <a:lnTo>
                    <a:pt x="1664" y="608"/>
                  </a:lnTo>
                  <a:lnTo>
                    <a:pt x="1664" y="634"/>
                  </a:lnTo>
                  <a:lnTo>
                    <a:pt x="1664" y="656"/>
                  </a:lnTo>
                  <a:lnTo>
                    <a:pt x="1668" y="676"/>
                  </a:lnTo>
                  <a:lnTo>
                    <a:pt x="1674" y="692"/>
                  </a:lnTo>
                  <a:lnTo>
                    <a:pt x="1682" y="706"/>
                  </a:lnTo>
                  <a:lnTo>
                    <a:pt x="1692" y="718"/>
                  </a:lnTo>
                  <a:lnTo>
                    <a:pt x="1704" y="728"/>
                  </a:lnTo>
                  <a:lnTo>
                    <a:pt x="1718" y="738"/>
                  </a:lnTo>
                  <a:lnTo>
                    <a:pt x="1732" y="744"/>
                  </a:lnTo>
                  <a:lnTo>
                    <a:pt x="1750" y="750"/>
                  </a:lnTo>
                  <a:lnTo>
                    <a:pt x="1770" y="754"/>
                  </a:lnTo>
                  <a:lnTo>
                    <a:pt x="1790" y="758"/>
                  </a:lnTo>
                  <a:lnTo>
                    <a:pt x="1836" y="766"/>
                  </a:lnTo>
                  <a:lnTo>
                    <a:pt x="1836" y="766"/>
                  </a:lnTo>
                  <a:close/>
                  <a:moveTo>
                    <a:pt x="632" y="338"/>
                  </a:moveTo>
                  <a:lnTo>
                    <a:pt x="632" y="338"/>
                  </a:lnTo>
                  <a:lnTo>
                    <a:pt x="630" y="350"/>
                  </a:lnTo>
                  <a:lnTo>
                    <a:pt x="626" y="362"/>
                  </a:lnTo>
                  <a:lnTo>
                    <a:pt x="622" y="372"/>
                  </a:lnTo>
                  <a:lnTo>
                    <a:pt x="616" y="382"/>
                  </a:lnTo>
                  <a:lnTo>
                    <a:pt x="608" y="390"/>
                  </a:lnTo>
                  <a:lnTo>
                    <a:pt x="600" y="396"/>
                  </a:lnTo>
                  <a:lnTo>
                    <a:pt x="592" y="402"/>
                  </a:lnTo>
                  <a:lnTo>
                    <a:pt x="584" y="406"/>
                  </a:lnTo>
                  <a:lnTo>
                    <a:pt x="574" y="408"/>
                  </a:lnTo>
                  <a:lnTo>
                    <a:pt x="564" y="410"/>
                  </a:lnTo>
                  <a:lnTo>
                    <a:pt x="554" y="408"/>
                  </a:lnTo>
                  <a:lnTo>
                    <a:pt x="544" y="406"/>
                  </a:lnTo>
                  <a:lnTo>
                    <a:pt x="534" y="402"/>
                  </a:lnTo>
                  <a:lnTo>
                    <a:pt x="526" y="396"/>
                  </a:lnTo>
                  <a:lnTo>
                    <a:pt x="516" y="386"/>
                  </a:lnTo>
                  <a:lnTo>
                    <a:pt x="508" y="376"/>
                  </a:lnTo>
                  <a:lnTo>
                    <a:pt x="508" y="376"/>
                  </a:lnTo>
                  <a:lnTo>
                    <a:pt x="524" y="380"/>
                  </a:lnTo>
                  <a:lnTo>
                    <a:pt x="542" y="382"/>
                  </a:lnTo>
                  <a:lnTo>
                    <a:pt x="560" y="380"/>
                  </a:lnTo>
                  <a:lnTo>
                    <a:pt x="578" y="376"/>
                  </a:lnTo>
                  <a:lnTo>
                    <a:pt x="594" y="370"/>
                  </a:lnTo>
                  <a:lnTo>
                    <a:pt x="610" y="360"/>
                  </a:lnTo>
                  <a:lnTo>
                    <a:pt x="622" y="350"/>
                  </a:lnTo>
                  <a:lnTo>
                    <a:pt x="632" y="338"/>
                  </a:lnTo>
                  <a:lnTo>
                    <a:pt x="632" y="338"/>
                  </a:lnTo>
                  <a:close/>
                  <a:moveTo>
                    <a:pt x="86" y="46"/>
                  </a:moveTo>
                  <a:lnTo>
                    <a:pt x="86" y="46"/>
                  </a:lnTo>
                  <a:lnTo>
                    <a:pt x="72" y="56"/>
                  </a:lnTo>
                  <a:lnTo>
                    <a:pt x="62" y="66"/>
                  </a:lnTo>
                  <a:lnTo>
                    <a:pt x="56" y="80"/>
                  </a:lnTo>
                  <a:lnTo>
                    <a:pt x="50" y="92"/>
                  </a:lnTo>
                  <a:lnTo>
                    <a:pt x="48" y="106"/>
                  </a:lnTo>
                  <a:lnTo>
                    <a:pt x="48" y="120"/>
                  </a:lnTo>
                  <a:lnTo>
                    <a:pt x="50" y="134"/>
                  </a:lnTo>
                  <a:lnTo>
                    <a:pt x="54" y="146"/>
                  </a:lnTo>
                  <a:lnTo>
                    <a:pt x="54" y="146"/>
                  </a:lnTo>
                  <a:lnTo>
                    <a:pt x="46" y="144"/>
                  </a:lnTo>
                  <a:lnTo>
                    <a:pt x="40" y="140"/>
                  </a:lnTo>
                  <a:lnTo>
                    <a:pt x="34" y="134"/>
                  </a:lnTo>
                  <a:lnTo>
                    <a:pt x="28" y="128"/>
                  </a:lnTo>
                  <a:lnTo>
                    <a:pt x="26" y="120"/>
                  </a:lnTo>
                  <a:lnTo>
                    <a:pt x="24" y="112"/>
                  </a:lnTo>
                  <a:lnTo>
                    <a:pt x="24" y="104"/>
                  </a:lnTo>
                  <a:lnTo>
                    <a:pt x="24" y="94"/>
                  </a:lnTo>
                  <a:lnTo>
                    <a:pt x="28" y="86"/>
                  </a:lnTo>
                  <a:lnTo>
                    <a:pt x="32" y="78"/>
                  </a:lnTo>
                  <a:lnTo>
                    <a:pt x="36" y="70"/>
                  </a:lnTo>
                  <a:lnTo>
                    <a:pt x="44" y="62"/>
                  </a:lnTo>
                  <a:lnTo>
                    <a:pt x="52" y="56"/>
                  </a:lnTo>
                  <a:lnTo>
                    <a:pt x="62" y="52"/>
                  </a:lnTo>
                  <a:lnTo>
                    <a:pt x="72" y="48"/>
                  </a:lnTo>
                  <a:lnTo>
                    <a:pt x="86" y="46"/>
                  </a:lnTo>
                  <a:lnTo>
                    <a:pt x="86" y="46"/>
                  </a:lnTo>
                  <a:close/>
                  <a:moveTo>
                    <a:pt x="1112" y="144"/>
                  </a:moveTo>
                  <a:lnTo>
                    <a:pt x="1112" y="144"/>
                  </a:lnTo>
                  <a:lnTo>
                    <a:pt x="1122" y="168"/>
                  </a:lnTo>
                  <a:lnTo>
                    <a:pt x="1128" y="190"/>
                  </a:lnTo>
                  <a:lnTo>
                    <a:pt x="1132" y="208"/>
                  </a:lnTo>
                  <a:lnTo>
                    <a:pt x="1132" y="224"/>
                  </a:lnTo>
                  <a:lnTo>
                    <a:pt x="1128" y="238"/>
                  </a:lnTo>
                  <a:lnTo>
                    <a:pt x="1124" y="250"/>
                  </a:lnTo>
                  <a:lnTo>
                    <a:pt x="1116" y="260"/>
                  </a:lnTo>
                  <a:lnTo>
                    <a:pt x="1108" y="266"/>
                  </a:lnTo>
                  <a:lnTo>
                    <a:pt x="1096" y="272"/>
                  </a:lnTo>
                  <a:lnTo>
                    <a:pt x="1086" y="274"/>
                  </a:lnTo>
                  <a:lnTo>
                    <a:pt x="1074" y="276"/>
                  </a:lnTo>
                  <a:lnTo>
                    <a:pt x="1062" y="278"/>
                  </a:lnTo>
                  <a:lnTo>
                    <a:pt x="1038" y="276"/>
                  </a:lnTo>
                  <a:lnTo>
                    <a:pt x="1018" y="270"/>
                  </a:lnTo>
                  <a:lnTo>
                    <a:pt x="1018" y="270"/>
                  </a:lnTo>
                  <a:lnTo>
                    <a:pt x="1008" y="264"/>
                  </a:lnTo>
                  <a:lnTo>
                    <a:pt x="1000" y="256"/>
                  </a:lnTo>
                  <a:lnTo>
                    <a:pt x="996" y="248"/>
                  </a:lnTo>
                  <a:lnTo>
                    <a:pt x="994" y="238"/>
                  </a:lnTo>
                  <a:lnTo>
                    <a:pt x="996" y="230"/>
                  </a:lnTo>
                  <a:lnTo>
                    <a:pt x="1000" y="224"/>
                  </a:lnTo>
                  <a:lnTo>
                    <a:pt x="1008" y="222"/>
                  </a:lnTo>
                  <a:lnTo>
                    <a:pt x="1016" y="222"/>
                  </a:lnTo>
                  <a:lnTo>
                    <a:pt x="1016" y="222"/>
                  </a:lnTo>
                  <a:lnTo>
                    <a:pt x="1044" y="228"/>
                  </a:lnTo>
                  <a:lnTo>
                    <a:pt x="1054" y="228"/>
                  </a:lnTo>
                  <a:lnTo>
                    <a:pt x="1062" y="228"/>
                  </a:lnTo>
                  <a:lnTo>
                    <a:pt x="1070" y="224"/>
                  </a:lnTo>
                  <a:lnTo>
                    <a:pt x="1078" y="222"/>
                  </a:lnTo>
                  <a:lnTo>
                    <a:pt x="1082" y="218"/>
                  </a:lnTo>
                  <a:lnTo>
                    <a:pt x="1086" y="212"/>
                  </a:lnTo>
                  <a:lnTo>
                    <a:pt x="1094" y="198"/>
                  </a:lnTo>
                  <a:lnTo>
                    <a:pt x="1100" y="182"/>
                  </a:lnTo>
                  <a:lnTo>
                    <a:pt x="1106" y="164"/>
                  </a:lnTo>
                  <a:lnTo>
                    <a:pt x="1112" y="144"/>
                  </a:lnTo>
                  <a:lnTo>
                    <a:pt x="1112" y="144"/>
                  </a:lnTo>
                  <a:close/>
                  <a:moveTo>
                    <a:pt x="730" y="290"/>
                  </a:moveTo>
                  <a:lnTo>
                    <a:pt x="730" y="290"/>
                  </a:lnTo>
                  <a:lnTo>
                    <a:pt x="732" y="270"/>
                  </a:lnTo>
                  <a:lnTo>
                    <a:pt x="734" y="254"/>
                  </a:lnTo>
                  <a:lnTo>
                    <a:pt x="738" y="236"/>
                  </a:lnTo>
                  <a:lnTo>
                    <a:pt x="742" y="222"/>
                  </a:lnTo>
                  <a:lnTo>
                    <a:pt x="748" y="208"/>
                  </a:lnTo>
                  <a:lnTo>
                    <a:pt x="754" y="194"/>
                  </a:lnTo>
                  <a:lnTo>
                    <a:pt x="762" y="182"/>
                  </a:lnTo>
                  <a:lnTo>
                    <a:pt x="770" y="172"/>
                  </a:lnTo>
                  <a:lnTo>
                    <a:pt x="778" y="164"/>
                  </a:lnTo>
                  <a:lnTo>
                    <a:pt x="788" y="158"/>
                  </a:lnTo>
                  <a:lnTo>
                    <a:pt x="798" y="154"/>
                  </a:lnTo>
                  <a:lnTo>
                    <a:pt x="808" y="152"/>
                  </a:lnTo>
                  <a:lnTo>
                    <a:pt x="818" y="152"/>
                  </a:lnTo>
                  <a:lnTo>
                    <a:pt x="828" y="154"/>
                  </a:lnTo>
                  <a:lnTo>
                    <a:pt x="838" y="158"/>
                  </a:lnTo>
                  <a:lnTo>
                    <a:pt x="848" y="166"/>
                  </a:lnTo>
                  <a:lnTo>
                    <a:pt x="848" y="166"/>
                  </a:lnTo>
                  <a:lnTo>
                    <a:pt x="830" y="172"/>
                  </a:lnTo>
                  <a:lnTo>
                    <a:pt x="812" y="180"/>
                  </a:lnTo>
                  <a:lnTo>
                    <a:pt x="796" y="190"/>
                  </a:lnTo>
                  <a:lnTo>
                    <a:pt x="780" y="204"/>
                  </a:lnTo>
                  <a:lnTo>
                    <a:pt x="766" y="220"/>
                  </a:lnTo>
                  <a:lnTo>
                    <a:pt x="754" y="240"/>
                  </a:lnTo>
                  <a:lnTo>
                    <a:pt x="742" y="262"/>
                  </a:lnTo>
                  <a:lnTo>
                    <a:pt x="730" y="290"/>
                  </a:lnTo>
                  <a:lnTo>
                    <a:pt x="730" y="290"/>
                  </a:lnTo>
                  <a:close/>
                  <a:moveTo>
                    <a:pt x="1594" y="148"/>
                  </a:moveTo>
                  <a:lnTo>
                    <a:pt x="1594" y="148"/>
                  </a:lnTo>
                  <a:lnTo>
                    <a:pt x="1594" y="160"/>
                  </a:lnTo>
                  <a:lnTo>
                    <a:pt x="1590" y="170"/>
                  </a:lnTo>
                  <a:lnTo>
                    <a:pt x="1586" y="180"/>
                  </a:lnTo>
                  <a:lnTo>
                    <a:pt x="1580" y="188"/>
                  </a:lnTo>
                  <a:lnTo>
                    <a:pt x="1574" y="194"/>
                  </a:lnTo>
                  <a:lnTo>
                    <a:pt x="1566" y="200"/>
                  </a:lnTo>
                  <a:lnTo>
                    <a:pt x="1556" y="204"/>
                  </a:lnTo>
                  <a:lnTo>
                    <a:pt x="1548" y="208"/>
                  </a:lnTo>
                  <a:lnTo>
                    <a:pt x="1538" y="210"/>
                  </a:lnTo>
                  <a:lnTo>
                    <a:pt x="1528" y="212"/>
                  </a:lnTo>
                  <a:lnTo>
                    <a:pt x="1518" y="210"/>
                  </a:lnTo>
                  <a:lnTo>
                    <a:pt x="1510" y="210"/>
                  </a:lnTo>
                  <a:lnTo>
                    <a:pt x="1500" y="206"/>
                  </a:lnTo>
                  <a:lnTo>
                    <a:pt x="1492" y="202"/>
                  </a:lnTo>
                  <a:lnTo>
                    <a:pt x="1484" y="198"/>
                  </a:lnTo>
                  <a:lnTo>
                    <a:pt x="1476" y="192"/>
                  </a:lnTo>
                  <a:lnTo>
                    <a:pt x="1476" y="192"/>
                  </a:lnTo>
                  <a:lnTo>
                    <a:pt x="1478" y="188"/>
                  </a:lnTo>
                  <a:lnTo>
                    <a:pt x="1482" y="186"/>
                  </a:lnTo>
                  <a:lnTo>
                    <a:pt x="1494" y="182"/>
                  </a:lnTo>
                  <a:lnTo>
                    <a:pt x="1528" y="180"/>
                  </a:lnTo>
                  <a:lnTo>
                    <a:pt x="1548" y="178"/>
                  </a:lnTo>
                  <a:lnTo>
                    <a:pt x="1568" y="174"/>
                  </a:lnTo>
                  <a:lnTo>
                    <a:pt x="1576" y="170"/>
                  </a:lnTo>
                  <a:lnTo>
                    <a:pt x="1584" y="164"/>
                  </a:lnTo>
                  <a:lnTo>
                    <a:pt x="1590" y="158"/>
                  </a:lnTo>
                  <a:lnTo>
                    <a:pt x="1594" y="148"/>
                  </a:lnTo>
                  <a:lnTo>
                    <a:pt x="1594" y="148"/>
                  </a:lnTo>
                  <a:close/>
                  <a:moveTo>
                    <a:pt x="2440" y="40"/>
                  </a:moveTo>
                  <a:lnTo>
                    <a:pt x="2440" y="40"/>
                  </a:lnTo>
                  <a:lnTo>
                    <a:pt x="2390" y="44"/>
                  </a:lnTo>
                  <a:lnTo>
                    <a:pt x="2344" y="54"/>
                  </a:lnTo>
                  <a:lnTo>
                    <a:pt x="2300" y="66"/>
                  </a:lnTo>
                  <a:lnTo>
                    <a:pt x="2262" y="82"/>
                  </a:lnTo>
                  <a:lnTo>
                    <a:pt x="2230" y="98"/>
                  </a:lnTo>
                  <a:lnTo>
                    <a:pt x="2202" y="116"/>
                  </a:lnTo>
                  <a:lnTo>
                    <a:pt x="2178" y="136"/>
                  </a:lnTo>
                  <a:lnTo>
                    <a:pt x="2162" y="156"/>
                  </a:lnTo>
                  <a:lnTo>
                    <a:pt x="2162" y="156"/>
                  </a:lnTo>
                  <a:lnTo>
                    <a:pt x="2158" y="142"/>
                  </a:lnTo>
                  <a:lnTo>
                    <a:pt x="2160" y="128"/>
                  </a:lnTo>
                  <a:lnTo>
                    <a:pt x="2162" y="116"/>
                  </a:lnTo>
                  <a:lnTo>
                    <a:pt x="2166" y="104"/>
                  </a:lnTo>
                  <a:lnTo>
                    <a:pt x="2176" y="86"/>
                  </a:lnTo>
                  <a:lnTo>
                    <a:pt x="2180" y="78"/>
                  </a:lnTo>
                  <a:lnTo>
                    <a:pt x="2180" y="78"/>
                  </a:lnTo>
                  <a:lnTo>
                    <a:pt x="2132" y="96"/>
                  </a:lnTo>
                  <a:lnTo>
                    <a:pt x="2110" y="104"/>
                  </a:lnTo>
                  <a:lnTo>
                    <a:pt x="2088" y="110"/>
                  </a:lnTo>
                  <a:lnTo>
                    <a:pt x="2068" y="114"/>
                  </a:lnTo>
                  <a:lnTo>
                    <a:pt x="2046" y="116"/>
                  </a:lnTo>
                  <a:lnTo>
                    <a:pt x="2024" y="112"/>
                  </a:lnTo>
                  <a:lnTo>
                    <a:pt x="2004" y="106"/>
                  </a:lnTo>
                  <a:lnTo>
                    <a:pt x="2004" y="106"/>
                  </a:lnTo>
                  <a:lnTo>
                    <a:pt x="2022" y="96"/>
                  </a:lnTo>
                  <a:lnTo>
                    <a:pt x="2044" y="86"/>
                  </a:lnTo>
                  <a:lnTo>
                    <a:pt x="2066" y="76"/>
                  </a:lnTo>
                  <a:lnTo>
                    <a:pt x="2090" y="68"/>
                  </a:lnTo>
                  <a:lnTo>
                    <a:pt x="2144" y="54"/>
                  </a:lnTo>
                  <a:lnTo>
                    <a:pt x="2200" y="42"/>
                  </a:lnTo>
                  <a:lnTo>
                    <a:pt x="2260" y="34"/>
                  </a:lnTo>
                  <a:lnTo>
                    <a:pt x="2320" y="32"/>
                  </a:lnTo>
                  <a:lnTo>
                    <a:pt x="2350" y="32"/>
                  </a:lnTo>
                  <a:lnTo>
                    <a:pt x="2380" y="34"/>
                  </a:lnTo>
                  <a:lnTo>
                    <a:pt x="2410" y="36"/>
                  </a:lnTo>
                  <a:lnTo>
                    <a:pt x="2440" y="40"/>
                  </a:lnTo>
                  <a:lnTo>
                    <a:pt x="2440" y="40"/>
                  </a:lnTo>
                  <a:close/>
                </a:path>
              </a:pathLst>
            </a:custGeom>
            <a:solidFill>
              <a:srgbClr val="947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7"/>
            <p:cNvSpPr/>
            <p:nvPr/>
          </p:nvSpPr>
          <p:spPr>
            <a:xfrm>
              <a:off x="12485520" y="1650960"/>
              <a:ext cx="609480" cy="7617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384" h="480">
                  <a:moveTo>
                    <a:pt x="0" y="152"/>
                  </a:moveTo>
                  <a:lnTo>
                    <a:pt x="0" y="152"/>
                  </a:lnTo>
                  <a:lnTo>
                    <a:pt x="2" y="168"/>
                  </a:lnTo>
                  <a:lnTo>
                    <a:pt x="8" y="182"/>
                  </a:lnTo>
                  <a:lnTo>
                    <a:pt x="14" y="196"/>
                  </a:lnTo>
                  <a:lnTo>
                    <a:pt x="22" y="208"/>
                  </a:lnTo>
                  <a:lnTo>
                    <a:pt x="32" y="218"/>
                  </a:lnTo>
                  <a:lnTo>
                    <a:pt x="42" y="226"/>
                  </a:lnTo>
                  <a:lnTo>
                    <a:pt x="54" y="234"/>
                  </a:lnTo>
                  <a:lnTo>
                    <a:pt x="66" y="238"/>
                  </a:lnTo>
                  <a:lnTo>
                    <a:pt x="80" y="240"/>
                  </a:lnTo>
                  <a:lnTo>
                    <a:pt x="92" y="238"/>
                  </a:lnTo>
                  <a:lnTo>
                    <a:pt x="106" y="232"/>
                  </a:lnTo>
                  <a:lnTo>
                    <a:pt x="120" y="224"/>
                  </a:lnTo>
                  <a:lnTo>
                    <a:pt x="134" y="210"/>
                  </a:lnTo>
                  <a:lnTo>
                    <a:pt x="146" y="194"/>
                  </a:lnTo>
                  <a:lnTo>
                    <a:pt x="158" y="172"/>
                  </a:lnTo>
                  <a:lnTo>
                    <a:pt x="170" y="144"/>
                  </a:lnTo>
                  <a:lnTo>
                    <a:pt x="170" y="144"/>
                  </a:lnTo>
                  <a:lnTo>
                    <a:pt x="152" y="150"/>
                  </a:lnTo>
                  <a:lnTo>
                    <a:pt x="138" y="152"/>
                  </a:lnTo>
                  <a:lnTo>
                    <a:pt x="124" y="152"/>
                  </a:lnTo>
                  <a:lnTo>
                    <a:pt x="112" y="152"/>
                  </a:lnTo>
                  <a:lnTo>
                    <a:pt x="102" y="150"/>
                  </a:lnTo>
                  <a:lnTo>
                    <a:pt x="94" y="148"/>
                  </a:lnTo>
                  <a:lnTo>
                    <a:pt x="86" y="142"/>
                  </a:lnTo>
                  <a:lnTo>
                    <a:pt x="80" y="138"/>
                  </a:lnTo>
                  <a:lnTo>
                    <a:pt x="74" y="132"/>
                  </a:lnTo>
                  <a:lnTo>
                    <a:pt x="72" y="124"/>
                  </a:lnTo>
                  <a:lnTo>
                    <a:pt x="68" y="116"/>
                  </a:lnTo>
                  <a:lnTo>
                    <a:pt x="68" y="110"/>
                  </a:lnTo>
                  <a:lnTo>
                    <a:pt x="68" y="102"/>
                  </a:lnTo>
                  <a:lnTo>
                    <a:pt x="70" y="92"/>
                  </a:lnTo>
                  <a:lnTo>
                    <a:pt x="76" y="78"/>
                  </a:lnTo>
                  <a:lnTo>
                    <a:pt x="76" y="78"/>
                  </a:lnTo>
                  <a:lnTo>
                    <a:pt x="88" y="64"/>
                  </a:lnTo>
                  <a:lnTo>
                    <a:pt x="102" y="52"/>
                  </a:lnTo>
                  <a:lnTo>
                    <a:pt x="118" y="46"/>
                  </a:lnTo>
                  <a:lnTo>
                    <a:pt x="134" y="40"/>
                  </a:lnTo>
                  <a:lnTo>
                    <a:pt x="152" y="38"/>
                  </a:lnTo>
                  <a:lnTo>
                    <a:pt x="170" y="40"/>
                  </a:lnTo>
                  <a:lnTo>
                    <a:pt x="186" y="42"/>
                  </a:lnTo>
                  <a:lnTo>
                    <a:pt x="200" y="50"/>
                  </a:lnTo>
                  <a:lnTo>
                    <a:pt x="200" y="50"/>
                  </a:lnTo>
                  <a:lnTo>
                    <a:pt x="186" y="60"/>
                  </a:lnTo>
                  <a:lnTo>
                    <a:pt x="178" y="72"/>
                  </a:lnTo>
                  <a:lnTo>
                    <a:pt x="172" y="84"/>
                  </a:lnTo>
                  <a:lnTo>
                    <a:pt x="172" y="94"/>
                  </a:lnTo>
                  <a:lnTo>
                    <a:pt x="172" y="102"/>
                  </a:lnTo>
                  <a:lnTo>
                    <a:pt x="174" y="110"/>
                  </a:lnTo>
                  <a:lnTo>
                    <a:pt x="178" y="116"/>
                  </a:lnTo>
                  <a:lnTo>
                    <a:pt x="178" y="116"/>
                  </a:lnTo>
                  <a:lnTo>
                    <a:pt x="190" y="108"/>
                  </a:lnTo>
                  <a:lnTo>
                    <a:pt x="204" y="104"/>
                  </a:lnTo>
                  <a:lnTo>
                    <a:pt x="218" y="102"/>
                  </a:lnTo>
                  <a:lnTo>
                    <a:pt x="234" y="102"/>
                  </a:lnTo>
                  <a:lnTo>
                    <a:pt x="250" y="104"/>
                  </a:lnTo>
                  <a:lnTo>
                    <a:pt x="266" y="108"/>
                  </a:lnTo>
                  <a:lnTo>
                    <a:pt x="282" y="116"/>
                  </a:lnTo>
                  <a:lnTo>
                    <a:pt x="296" y="124"/>
                  </a:lnTo>
                  <a:lnTo>
                    <a:pt x="308" y="136"/>
                  </a:lnTo>
                  <a:lnTo>
                    <a:pt x="316" y="148"/>
                  </a:lnTo>
                  <a:lnTo>
                    <a:pt x="324" y="162"/>
                  </a:lnTo>
                  <a:lnTo>
                    <a:pt x="328" y="180"/>
                  </a:lnTo>
                  <a:lnTo>
                    <a:pt x="326" y="198"/>
                  </a:lnTo>
                  <a:lnTo>
                    <a:pt x="320" y="218"/>
                  </a:lnTo>
                  <a:lnTo>
                    <a:pt x="310" y="238"/>
                  </a:lnTo>
                  <a:lnTo>
                    <a:pt x="294" y="260"/>
                  </a:lnTo>
                  <a:lnTo>
                    <a:pt x="294" y="260"/>
                  </a:lnTo>
                  <a:lnTo>
                    <a:pt x="306" y="258"/>
                  </a:lnTo>
                  <a:lnTo>
                    <a:pt x="318" y="262"/>
                  </a:lnTo>
                  <a:lnTo>
                    <a:pt x="328" y="268"/>
                  </a:lnTo>
                  <a:lnTo>
                    <a:pt x="336" y="276"/>
                  </a:lnTo>
                  <a:lnTo>
                    <a:pt x="342" y="288"/>
                  </a:lnTo>
                  <a:lnTo>
                    <a:pt x="344" y="304"/>
                  </a:lnTo>
                  <a:lnTo>
                    <a:pt x="342" y="320"/>
                  </a:lnTo>
                  <a:lnTo>
                    <a:pt x="336" y="338"/>
                  </a:lnTo>
                  <a:lnTo>
                    <a:pt x="336" y="338"/>
                  </a:lnTo>
                  <a:lnTo>
                    <a:pt x="328" y="348"/>
                  </a:lnTo>
                  <a:lnTo>
                    <a:pt x="318" y="358"/>
                  </a:lnTo>
                  <a:lnTo>
                    <a:pt x="304" y="366"/>
                  </a:lnTo>
                  <a:lnTo>
                    <a:pt x="288" y="370"/>
                  </a:lnTo>
                  <a:lnTo>
                    <a:pt x="280" y="370"/>
                  </a:lnTo>
                  <a:lnTo>
                    <a:pt x="272" y="370"/>
                  </a:lnTo>
                  <a:lnTo>
                    <a:pt x="264" y="366"/>
                  </a:lnTo>
                  <a:lnTo>
                    <a:pt x="256" y="362"/>
                  </a:lnTo>
                  <a:lnTo>
                    <a:pt x="248" y="356"/>
                  </a:lnTo>
                  <a:lnTo>
                    <a:pt x="242" y="348"/>
                  </a:lnTo>
                  <a:lnTo>
                    <a:pt x="236" y="336"/>
                  </a:lnTo>
                  <a:lnTo>
                    <a:pt x="232" y="324"/>
                  </a:lnTo>
                  <a:lnTo>
                    <a:pt x="232" y="324"/>
                  </a:lnTo>
                  <a:lnTo>
                    <a:pt x="224" y="330"/>
                  </a:lnTo>
                  <a:lnTo>
                    <a:pt x="218" y="338"/>
                  </a:lnTo>
                  <a:lnTo>
                    <a:pt x="216" y="346"/>
                  </a:lnTo>
                  <a:lnTo>
                    <a:pt x="214" y="354"/>
                  </a:lnTo>
                  <a:lnTo>
                    <a:pt x="214" y="364"/>
                  </a:lnTo>
                  <a:lnTo>
                    <a:pt x="216" y="374"/>
                  </a:lnTo>
                  <a:lnTo>
                    <a:pt x="218" y="384"/>
                  </a:lnTo>
                  <a:lnTo>
                    <a:pt x="224" y="396"/>
                  </a:lnTo>
                  <a:lnTo>
                    <a:pt x="224" y="396"/>
                  </a:lnTo>
                  <a:lnTo>
                    <a:pt x="210" y="394"/>
                  </a:lnTo>
                  <a:lnTo>
                    <a:pt x="196" y="388"/>
                  </a:lnTo>
                  <a:lnTo>
                    <a:pt x="186" y="382"/>
                  </a:lnTo>
                  <a:lnTo>
                    <a:pt x="174" y="376"/>
                  </a:lnTo>
                  <a:lnTo>
                    <a:pt x="166" y="366"/>
                  </a:lnTo>
                  <a:lnTo>
                    <a:pt x="160" y="356"/>
                  </a:lnTo>
                  <a:lnTo>
                    <a:pt x="154" y="348"/>
                  </a:lnTo>
                  <a:lnTo>
                    <a:pt x="150" y="338"/>
                  </a:lnTo>
                  <a:lnTo>
                    <a:pt x="148" y="328"/>
                  </a:lnTo>
                  <a:lnTo>
                    <a:pt x="150" y="318"/>
                  </a:lnTo>
                  <a:lnTo>
                    <a:pt x="152" y="308"/>
                  </a:lnTo>
                  <a:lnTo>
                    <a:pt x="158" y="300"/>
                  </a:lnTo>
                  <a:lnTo>
                    <a:pt x="164" y="294"/>
                  </a:lnTo>
                  <a:lnTo>
                    <a:pt x="174" y="290"/>
                  </a:lnTo>
                  <a:lnTo>
                    <a:pt x="188" y="286"/>
                  </a:lnTo>
                  <a:lnTo>
                    <a:pt x="204" y="286"/>
                  </a:lnTo>
                  <a:lnTo>
                    <a:pt x="204" y="286"/>
                  </a:lnTo>
                  <a:lnTo>
                    <a:pt x="188" y="282"/>
                  </a:lnTo>
                  <a:lnTo>
                    <a:pt x="172" y="280"/>
                  </a:lnTo>
                  <a:lnTo>
                    <a:pt x="160" y="282"/>
                  </a:lnTo>
                  <a:lnTo>
                    <a:pt x="148" y="284"/>
                  </a:lnTo>
                  <a:lnTo>
                    <a:pt x="136" y="286"/>
                  </a:lnTo>
                  <a:lnTo>
                    <a:pt x="128" y="292"/>
                  </a:lnTo>
                  <a:lnTo>
                    <a:pt x="120" y="298"/>
                  </a:lnTo>
                  <a:lnTo>
                    <a:pt x="112" y="306"/>
                  </a:lnTo>
                  <a:lnTo>
                    <a:pt x="108" y="314"/>
                  </a:lnTo>
                  <a:lnTo>
                    <a:pt x="104" y="324"/>
                  </a:lnTo>
                  <a:lnTo>
                    <a:pt x="100" y="334"/>
                  </a:lnTo>
                  <a:lnTo>
                    <a:pt x="98" y="344"/>
                  </a:lnTo>
                  <a:lnTo>
                    <a:pt x="98" y="366"/>
                  </a:lnTo>
                  <a:lnTo>
                    <a:pt x="102" y="390"/>
                  </a:lnTo>
                  <a:lnTo>
                    <a:pt x="110" y="412"/>
                  </a:lnTo>
                  <a:lnTo>
                    <a:pt x="124" y="434"/>
                  </a:lnTo>
                  <a:lnTo>
                    <a:pt x="132" y="444"/>
                  </a:lnTo>
                  <a:lnTo>
                    <a:pt x="140" y="452"/>
                  </a:lnTo>
                  <a:lnTo>
                    <a:pt x="150" y="460"/>
                  </a:lnTo>
                  <a:lnTo>
                    <a:pt x="162" y="468"/>
                  </a:lnTo>
                  <a:lnTo>
                    <a:pt x="174" y="472"/>
                  </a:lnTo>
                  <a:lnTo>
                    <a:pt x="186" y="478"/>
                  </a:lnTo>
                  <a:lnTo>
                    <a:pt x="200" y="480"/>
                  </a:lnTo>
                  <a:lnTo>
                    <a:pt x="214" y="480"/>
                  </a:lnTo>
                  <a:lnTo>
                    <a:pt x="230" y="480"/>
                  </a:lnTo>
                  <a:lnTo>
                    <a:pt x="246" y="478"/>
                  </a:lnTo>
                  <a:lnTo>
                    <a:pt x="264" y="474"/>
                  </a:lnTo>
                  <a:lnTo>
                    <a:pt x="282" y="466"/>
                  </a:lnTo>
                  <a:lnTo>
                    <a:pt x="282" y="466"/>
                  </a:lnTo>
                  <a:lnTo>
                    <a:pt x="290" y="460"/>
                  </a:lnTo>
                  <a:lnTo>
                    <a:pt x="300" y="452"/>
                  </a:lnTo>
                  <a:lnTo>
                    <a:pt x="312" y="442"/>
                  </a:lnTo>
                  <a:lnTo>
                    <a:pt x="322" y="430"/>
                  </a:lnTo>
                  <a:lnTo>
                    <a:pt x="342" y="402"/>
                  </a:lnTo>
                  <a:lnTo>
                    <a:pt x="358" y="374"/>
                  </a:lnTo>
                  <a:lnTo>
                    <a:pt x="358" y="374"/>
                  </a:lnTo>
                  <a:lnTo>
                    <a:pt x="366" y="352"/>
                  </a:lnTo>
                  <a:lnTo>
                    <a:pt x="372" y="332"/>
                  </a:lnTo>
                  <a:lnTo>
                    <a:pt x="378" y="312"/>
                  </a:lnTo>
                  <a:lnTo>
                    <a:pt x="382" y="292"/>
                  </a:lnTo>
                  <a:lnTo>
                    <a:pt x="384" y="272"/>
                  </a:lnTo>
                  <a:lnTo>
                    <a:pt x="384" y="254"/>
                  </a:lnTo>
                  <a:lnTo>
                    <a:pt x="384" y="234"/>
                  </a:lnTo>
                  <a:lnTo>
                    <a:pt x="382" y="216"/>
                  </a:lnTo>
                  <a:lnTo>
                    <a:pt x="376" y="182"/>
                  </a:lnTo>
                  <a:lnTo>
                    <a:pt x="366" y="150"/>
                  </a:lnTo>
                  <a:lnTo>
                    <a:pt x="352" y="122"/>
                  </a:lnTo>
                  <a:lnTo>
                    <a:pt x="336" y="96"/>
                  </a:lnTo>
                  <a:lnTo>
                    <a:pt x="316" y="72"/>
                  </a:lnTo>
                  <a:lnTo>
                    <a:pt x="294" y="50"/>
                  </a:lnTo>
                  <a:lnTo>
                    <a:pt x="270" y="34"/>
                  </a:lnTo>
                  <a:lnTo>
                    <a:pt x="244" y="20"/>
                  </a:lnTo>
                  <a:lnTo>
                    <a:pt x="218" y="10"/>
                  </a:lnTo>
                  <a:lnTo>
                    <a:pt x="192" y="4"/>
                  </a:lnTo>
                  <a:lnTo>
                    <a:pt x="164" y="0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22" y="6"/>
                  </a:lnTo>
                  <a:lnTo>
                    <a:pt x="106" y="10"/>
                  </a:lnTo>
                  <a:lnTo>
                    <a:pt x="92" y="16"/>
                  </a:lnTo>
                  <a:lnTo>
                    <a:pt x="78" y="24"/>
                  </a:lnTo>
                  <a:lnTo>
                    <a:pt x="66" y="32"/>
                  </a:lnTo>
                  <a:lnTo>
                    <a:pt x="54" y="40"/>
                  </a:lnTo>
                  <a:lnTo>
                    <a:pt x="44" y="50"/>
                  </a:lnTo>
                  <a:lnTo>
                    <a:pt x="34" y="62"/>
                  </a:lnTo>
                  <a:lnTo>
                    <a:pt x="18" y="84"/>
                  </a:lnTo>
                  <a:lnTo>
                    <a:pt x="6" y="108"/>
                  </a:lnTo>
                  <a:lnTo>
                    <a:pt x="2" y="118"/>
                  </a:lnTo>
                  <a:lnTo>
                    <a:pt x="0" y="130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0" y="152"/>
                  </a:lnTo>
                  <a:close/>
                  <a:moveTo>
                    <a:pt x="258" y="426"/>
                  </a:moveTo>
                  <a:lnTo>
                    <a:pt x="258" y="426"/>
                  </a:lnTo>
                  <a:lnTo>
                    <a:pt x="248" y="436"/>
                  </a:lnTo>
                  <a:lnTo>
                    <a:pt x="238" y="442"/>
                  </a:lnTo>
                  <a:lnTo>
                    <a:pt x="228" y="448"/>
                  </a:lnTo>
                  <a:lnTo>
                    <a:pt x="218" y="450"/>
                  </a:lnTo>
                  <a:lnTo>
                    <a:pt x="208" y="454"/>
                  </a:lnTo>
                  <a:lnTo>
                    <a:pt x="198" y="454"/>
                  </a:lnTo>
                  <a:lnTo>
                    <a:pt x="188" y="454"/>
                  </a:lnTo>
                  <a:lnTo>
                    <a:pt x="178" y="450"/>
                  </a:lnTo>
                  <a:lnTo>
                    <a:pt x="168" y="448"/>
                  </a:lnTo>
                  <a:lnTo>
                    <a:pt x="160" y="442"/>
                  </a:lnTo>
                  <a:lnTo>
                    <a:pt x="154" y="436"/>
                  </a:lnTo>
                  <a:lnTo>
                    <a:pt x="146" y="428"/>
                  </a:lnTo>
                  <a:lnTo>
                    <a:pt x="142" y="418"/>
                  </a:lnTo>
                  <a:lnTo>
                    <a:pt x="138" y="408"/>
                  </a:lnTo>
                  <a:lnTo>
                    <a:pt x="136" y="394"/>
                  </a:lnTo>
                  <a:lnTo>
                    <a:pt x="136" y="382"/>
                  </a:lnTo>
                  <a:lnTo>
                    <a:pt x="136" y="382"/>
                  </a:lnTo>
                  <a:lnTo>
                    <a:pt x="146" y="394"/>
                  </a:lnTo>
                  <a:lnTo>
                    <a:pt x="160" y="406"/>
                  </a:lnTo>
                  <a:lnTo>
                    <a:pt x="176" y="416"/>
                  </a:lnTo>
                  <a:lnTo>
                    <a:pt x="192" y="424"/>
                  </a:lnTo>
                  <a:lnTo>
                    <a:pt x="210" y="428"/>
                  </a:lnTo>
                  <a:lnTo>
                    <a:pt x="226" y="430"/>
                  </a:lnTo>
                  <a:lnTo>
                    <a:pt x="242" y="430"/>
                  </a:lnTo>
                  <a:lnTo>
                    <a:pt x="258" y="426"/>
                  </a:lnTo>
                  <a:lnTo>
                    <a:pt x="258" y="426"/>
                  </a:lnTo>
                  <a:close/>
                </a:path>
              </a:pathLst>
            </a:custGeom>
            <a:solidFill>
              <a:srgbClr val="947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8"/>
            <p:cNvSpPr/>
            <p:nvPr/>
          </p:nvSpPr>
          <p:spPr>
            <a:xfrm>
              <a:off x="13212720" y="2619360"/>
              <a:ext cx="463320" cy="431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92" h="272">
                  <a:moveTo>
                    <a:pt x="198" y="6"/>
                  </a:moveTo>
                  <a:lnTo>
                    <a:pt x="198" y="6"/>
                  </a:lnTo>
                  <a:lnTo>
                    <a:pt x="190" y="4"/>
                  </a:lnTo>
                  <a:lnTo>
                    <a:pt x="178" y="0"/>
                  </a:lnTo>
                  <a:lnTo>
                    <a:pt x="152" y="0"/>
                  </a:lnTo>
                  <a:lnTo>
                    <a:pt x="122" y="0"/>
                  </a:lnTo>
                  <a:lnTo>
                    <a:pt x="112" y="2"/>
                  </a:lnTo>
                  <a:lnTo>
                    <a:pt x="102" y="4"/>
                  </a:lnTo>
                  <a:lnTo>
                    <a:pt x="102" y="4"/>
                  </a:lnTo>
                  <a:lnTo>
                    <a:pt x="74" y="14"/>
                  </a:lnTo>
                  <a:lnTo>
                    <a:pt x="48" y="24"/>
                  </a:lnTo>
                  <a:lnTo>
                    <a:pt x="36" y="32"/>
                  </a:lnTo>
                  <a:lnTo>
                    <a:pt x="24" y="40"/>
                  </a:lnTo>
                  <a:lnTo>
                    <a:pt x="12" y="5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2" y="84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52" y="110"/>
                  </a:lnTo>
                  <a:lnTo>
                    <a:pt x="48" y="122"/>
                  </a:lnTo>
                  <a:lnTo>
                    <a:pt x="48" y="136"/>
                  </a:lnTo>
                  <a:lnTo>
                    <a:pt x="50" y="148"/>
                  </a:lnTo>
                  <a:lnTo>
                    <a:pt x="54" y="160"/>
                  </a:lnTo>
                  <a:lnTo>
                    <a:pt x="58" y="170"/>
                  </a:lnTo>
                  <a:lnTo>
                    <a:pt x="64" y="180"/>
                  </a:lnTo>
                  <a:lnTo>
                    <a:pt x="72" y="186"/>
                  </a:lnTo>
                  <a:lnTo>
                    <a:pt x="80" y="192"/>
                  </a:lnTo>
                  <a:lnTo>
                    <a:pt x="90" y="198"/>
                  </a:lnTo>
                  <a:lnTo>
                    <a:pt x="102" y="200"/>
                  </a:lnTo>
                  <a:lnTo>
                    <a:pt x="114" y="200"/>
                  </a:lnTo>
                  <a:lnTo>
                    <a:pt x="126" y="198"/>
                  </a:lnTo>
                  <a:lnTo>
                    <a:pt x="140" y="194"/>
                  </a:lnTo>
                  <a:lnTo>
                    <a:pt x="154" y="186"/>
                  </a:lnTo>
                  <a:lnTo>
                    <a:pt x="168" y="178"/>
                  </a:lnTo>
                  <a:lnTo>
                    <a:pt x="168" y="178"/>
                  </a:lnTo>
                  <a:lnTo>
                    <a:pt x="154" y="174"/>
                  </a:lnTo>
                  <a:lnTo>
                    <a:pt x="144" y="168"/>
                  </a:lnTo>
                  <a:lnTo>
                    <a:pt x="138" y="160"/>
                  </a:lnTo>
                  <a:lnTo>
                    <a:pt x="136" y="150"/>
                  </a:lnTo>
                  <a:lnTo>
                    <a:pt x="138" y="140"/>
                  </a:lnTo>
                  <a:lnTo>
                    <a:pt x="142" y="130"/>
                  </a:lnTo>
                  <a:lnTo>
                    <a:pt x="150" y="120"/>
                  </a:lnTo>
                  <a:lnTo>
                    <a:pt x="160" y="110"/>
                  </a:lnTo>
                  <a:lnTo>
                    <a:pt x="170" y="104"/>
                  </a:lnTo>
                  <a:lnTo>
                    <a:pt x="182" y="98"/>
                  </a:lnTo>
                  <a:lnTo>
                    <a:pt x="194" y="96"/>
                  </a:lnTo>
                  <a:lnTo>
                    <a:pt x="206" y="98"/>
                  </a:lnTo>
                  <a:lnTo>
                    <a:pt x="218" y="106"/>
                  </a:lnTo>
                  <a:lnTo>
                    <a:pt x="228" y="118"/>
                  </a:lnTo>
                  <a:lnTo>
                    <a:pt x="238" y="134"/>
                  </a:lnTo>
                  <a:lnTo>
                    <a:pt x="244" y="158"/>
                  </a:lnTo>
                  <a:lnTo>
                    <a:pt x="244" y="158"/>
                  </a:lnTo>
                  <a:lnTo>
                    <a:pt x="246" y="168"/>
                  </a:lnTo>
                  <a:lnTo>
                    <a:pt x="246" y="178"/>
                  </a:lnTo>
                  <a:lnTo>
                    <a:pt x="244" y="186"/>
                  </a:lnTo>
                  <a:lnTo>
                    <a:pt x="242" y="196"/>
                  </a:lnTo>
                  <a:lnTo>
                    <a:pt x="238" y="204"/>
                  </a:lnTo>
                  <a:lnTo>
                    <a:pt x="232" y="212"/>
                  </a:lnTo>
                  <a:lnTo>
                    <a:pt x="226" y="220"/>
                  </a:lnTo>
                  <a:lnTo>
                    <a:pt x="220" y="226"/>
                  </a:lnTo>
                  <a:lnTo>
                    <a:pt x="210" y="232"/>
                  </a:lnTo>
                  <a:lnTo>
                    <a:pt x="202" y="238"/>
                  </a:lnTo>
                  <a:lnTo>
                    <a:pt x="190" y="244"/>
                  </a:lnTo>
                  <a:lnTo>
                    <a:pt x="180" y="246"/>
                  </a:lnTo>
                  <a:lnTo>
                    <a:pt x="166" y="250"/>
                  </a:lnTo>
                  <a:lnTo>
                    <a:pt x="154" y="252"/>
                  </a:lnTo>
                  <a:lnTo>
                    <a:pt x="140" y="252"/>
                  </a:lnTo>
                  <a:lnTo>
                    <a:pt x="124" y="250"/>
                  </a:lnTo>
                  <a:lnTo>
                    <a:pt x="124" y="250"/>
                  </a:lnTo>
                  <a:lnTo>
                    <a:pt x="136" y="260"/>
                  </a:lnTo>
                  <a:lnTo>
                    <a:pt x="150" y="268"/>
                  </a:lnTo>
                  <a:lnTo>
                    <a:pt x="166" y="272"/>
                  </a:lnTo>
                  <a:lnTo>
                    <a:pt x="184" y="272"/>
                  </a:lnTo>
                  <a:lnTo>
                    <a:pt x="202" y="270"/>
                  </a:lnTo>
                  <a:lnTo>
                    <a:pt x="218" y="266"/>
                  </a:lnTo>
                  <a:lnTo>
                    <a:pt x="236" y="258"/>
                  </a:lnTo>
                  <a:lnTo>
                    <a:pt x="250" y="250"/>
                  </a:lnTo>
                  <a:lnTo>
                    <a:pt x="250" y="250"/>
                  </a:lnTo>
                  <a:lnTo>
                    <a:pt x="258" y="244"/>
                  </a:lnTo>
                  <a:lnTo>
                    <a:pt x="264" y="236"/>
                  </a:lnTo>
                  <a:lnTo>
                    <a:pt x="274" y="220"/>
                  </a:lnTo>
                  <a:lnTo>
                    <a:pt x="284" y="200"/>
                  </a:lnTo>
                  <a:lnTo>
                    <a:pt x="290" y="176"/>
                  </a:lnTo>
                  <a:lnTo>
                    <a:pt x="290" y="176"/>
                  </a:lnTo>
                  <a:lnTo>
                    <a:pt x="292" y="150"/>
                  </a:lnTo>
                  <a:lnTo>
                    <a:pt x="290" y="126"/>
                  </a:lnTo>
                  <a:lnTo>
                    <a:pt x="284" y="102"/>
                  </a:lnTo>
                  <a:lnTo>
                    <a:pt x="272" y="78"/>
                  </a:lnTo>
                  <a:lnTo>
                    <a:pt x="258" y="56"/>
                  </a:lnTo>
                  <a:lnTo>
                    <a:pt x="242" y="38"/>
                  </a:lnTo>
                  <a:lnTo>
                    <a:pt x="220" y="20"/>
                  </a:lnTo>
                  <a:lnTo>
                    <a:pt x="198" y="6"/>
                  </a:lnTo>
                  <a:lnTo>
                    <a:pt x="198" y="6"/>
                  </a:lnTo>
                  <a:close/>
                  <a:moveTo>
                    <a:pt x="226" y="72"/>
                  </a:moveTo>
                  <a:lnTo>
                    <a:pt x="226" y="72"/>
                  </a:lnTo>
                  <a:lnTo>
                    <a:pt x="208" y="66"/>
                  </a:lnTo>
                  <a:lnTo>
                    <a:pt x="192" y="62"/>
                  </a:lnTo>
                  <a:lnTo>
                    <a:pt x="178" y="62"/>
                  </a:lnTo>
                  <a:lnTo>
                    <a:pt x="166" y="64"/>
                  </a:lnTo>
                  <a:lnTo>
                    <a:pt x="154" y="68"/>
                  </a:lnTo>
                  <a:lnTo>
                    <a:pt x="144" y="72"/>
                  </a:lnTo>
                  <a:lnTo>
                    <a:pt x="134" y="80"/>
                  </a:lnTo>
                  <a:lnTo>
                    <a:pt x="126" y="88"/>
                  </a:lnTo>
                  <a:lnTo>
                    <a:pt x="118" y="96"/>
                  </a:lnTo>
                  <a:lnTo>
                    <a:pt x="112" y="104"/>
                  </a:lnTo>
                  <a:lnTo>
                    <a:pt x="104" y="122"/>
                  </a:lnTo>
                  <a:lnTo>
                    <a:pt x="98" y="140"/>
                  </a:lnTo>
                  <a:lnTo>
                    <a:pt x="96" y="152"/>
                  </a:lnTo>
                  <a:lnTo>
                    <a:pt x="96" y="152"/>
                  </a:lnTo>
                  <a:lnTo>
                    <a:pt x="90" y="144"/>
                  </a:lnTo>
                  <a:lnTo>
                    <a:pt x="88" y="134"/>
                  </a:lnTo>
                  <a:lnTo>
                    <a:pt x="86" y="122"/>
                  </a:lnTo>
                  <a:lnTo>
                    <a:pt x="88" y="112"/>
                  </a:lnTo>
                  <a:lnTo>
                    <a:pt x="92" y="100"/>
                  </a:lnTo>
                  <a:lnTo>
                    <a:pt x="98" y="90"/>
                  </a:lnTo>
                  <a:lnTo>
                    <a:pt x="104" y="84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04" y="70"/>
                  </a:lnTo>
                  <a:lnTo>
                    <a:pt x="94" y="64"/>
                  </a:lnTo>
                  <a:lnTo>
                    <a:pt x="66" y="52"/>
                  </a:lnTo>
                  <a:lnTo>
                    <a:pt x="66" y="52"/>
                  </a:lnTo>
                  <a:lnTo>
                    <a:pt x="96" y="44"/>
                  </a:lnTo>
                  <a:lnTo>
                    <a:pt x="122" y="40"/>
                  </a:lnTo>
                  <a:lnTo>
                    <a:pt x="146" y="40"/>
                  </a:lnTo>
                  <a:lnTo>
                    <a:pt x="166" y="42"/>
                  </a:lnTo>
                  <a:lnTo>
                    <a:pt x="184" y="46"/>
                  </a:lnTo>
                  <a:lnTo>
                    <a:pt x="198" y="54"/>
                  </a:lnTo>
                  <a:lnTo>
                    <a:pt x="212" y="62"/>
                  </a:lnTo>
                  <a:lnTo>
                    <a:pt x="226" y="72"/>
                  </a:lnTo>
                  <a:lnTo>
                    <a:pt x="226" y="72"/>
                  </a:lnTo>
                  <a:close/>
                </a:path>
              </a:pathLst>
            </a:custGeom>
            <a:solidFill>
              <a:srgbClr val="947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9"/>
            <p:cNvSpPr/>
            <p:nvPr/>
          </p:nvSpPr>
          <p:spPr>
            <a:xfrm>
              <a:off x="12790440" y="311040"/>
              <a:ext cx="1952640" cy="4826160"/>
            </a:xfrm>
            <a:custGeom>
              <a:avLst/>
              <a:gdLst>
                <a:gd name="textAreaLeft" fmla="*/ 0 w 1952640"/>
                <a:gd name="textAreaRight" fmla="*/ 1952640 w 1952640"/>
                <a:gd name="textAreaTop" fmla="*/ 0 h 4826160"/>
                <a:gd name="textAreaBottom" fmla="*/ 4826520 h 4826160"/>
              </a:gdLst>
              <a:ahLst/>
              <a:rect l="textAreaLeft" t="textAreaTop" r="textAreaRight" b="textAreaBottom"/>
              <a:pathLst>
                <a:path w="1230" h="3040">
                  <a:moveTo>
                    <a:pt x="1190" y="98"/>
                  </a:moveTo>
                  <a:lnTo>
                    <a:pt x="1190" y="98"/>
                  </a:lnTo>
                  <a:lnTo>
                    <a:pt x="1190" y="80"/>
                  </a:lnTo>
                  <a:lnTo>
                    <a:pt x="1188" y="66"/>
                  </a:lnTo>
                  <a:lnTo>
                    <a:pt x="1184" y="52"/>
                  </a:lnTo>
                  <a:lnTo>
                    <a:pt x="1178" y="40"/>
                  </a:lnTo>
                  <a:lnTo>
                    <a:pt x="1170" y="30"/>
                  </a:lnTo>
                  <a:lnTo>
                    <a:pt x="1162" y="22"/>
                  </a:lnTo>
                  <a:lnTo>
                    <a:pt x="1152" y="14"/>
                  </a:lnTo>
                  <a:lnTo>
                    <a:pt x="1142" y="8"/>
                  </a:lnTo>
                  <a:lnTo>
                    <a:pt x="1130" y="4"/>
                  </a:lnTo>
                  <a:lnTo>
                    <a:pt x="1118" y="2"/>
                  </a:lnTo>
                  <a:lnTo>
                    <a:pt x="1108" y="2"/>
                  </a:lnTo>
                  <a:lnTo>
                    <a:pt x="1096" y="4"/>
                  </a:lnTo>
                  <a:lnTo>
                    <a:pt x="1086" y="8"/>
                  </a:lnTo>
                  <a:lnTo>
                    <a:pt x="1078" y="14"/>
                  </a:lnTo>
                  <a:lnTo>
                    <a:pt x="1070" y="22"/>
                  </a:lnTo>
                  <a:lnTo>
                    <a:pt x="1062" y="32"/>
                  </a:lnTo>
                  <a:lnTo>
                    <a:pt x="1062" y="32"/>
                  </a:lnTo>
                  <a:lnTo>
                    <a:pt x="1058" y="44"/>
                  </a:lnTo>
                  <a:lnTo>
                    <a:pt x="1056" y="54"/>
                  </a:lnTo>
                  <a:lnTo>
                    <a:pt x="1054" y="64"/>
                  </a:lnTo>
                  <a:lnTo>
                    <a:pt x="1054" y="72"/>
                  </a:lnTo>
                  <a:lnTo>
                    <a:pt x="1054" y="82"/>
                  </a:lnTo>
                  <a:lnTo>
                    <a:pt x="1056" y="90"/>
                  </a:lnTo>
                  <a:lnTo>
                    <a:pt x="1064" y="104"/>
                  </a:lnTo>
                  <a:lnTo>
                    <a:pt x="1074" y="116"/>
                  </a:lnTo>
                  <a:lnTo>
                    <a:pt x="1086" y="124"/>
                  </a:lnTo>
                  <a:lnTo>
                    <a:pt x="1100" y="130"/>
                  </a:lnTo>
                  <a:lnTo>
                    <a:pt x="1112" y="130"/>
                  </a:lnTo>
                  <a:lnTo>
                    <a:pt x="1112" y="130"/>
                  </a:lnTo>
                  <a:lnTo>
                    <a:pt x="1106" y="144"/>
                  </a:lnTo>
                  <a:lnTo>
                    <a:pt x="1096" y="156"/>
                  </a:lnTo>
                  <a:lnTo>
                    <a:pt x="1084" y="170"/>
                  </a:lnTo>
                  <a:lnTo>
                    <a:pt x="1072" y="182"/>
                  </a:lnTo>
                  <a:lnTo>
                    <a:pt x="1058" y="194"/>
                  </a:lnTo>
                  <a:lnTo>
                    <a:pt x="1042" y="202"/>
                  </a:lnTo>
                  <a:lnTo>
                    <a:pt x="1026" y="206"/>
                  </a:lnTo>
                  <a:lnTo>
                    <a:pt x="1018" y="208"/>
                  </a:lnTo>
                  <a:lnTo>
                    <a:pt x="1010" y="208"/>
                  </a:lnTo>
                  <a:lnTo>
                    <a:pt x="1010" y="208"/>
                  </a:lnTo>
                  <a:lnTo>
                    <a:pt x="992" y="204"/>
                  </a:lnTo>
                  <a:lnTo>
                    <a:pt x="978" y="196"/>
                  </a:lnTo>
                  <a:lnTo>
                    <a:pt x="964" y="184"/>
                  </a:lnTo>
                  <a:lnTo>
                    <a:pt x="948" y="170"/>
                  </a:lnTo>
                  <a:lnTo>
                    <a:pt x="948" y="170"/>
                  </a:lnTo>
                  <a:lnTo>
                    <a:pt x="938" y="156"/>
                  </a:lnTo>
                  <a:lnTo>
                    <a:pt x="934" y="150"/>
                  </a:lnTo>
                  <a:lnTo>
                    <a:pt x="930" y="140"/>
                  </a:lnTo>
                  <a:lnTo>
                    <a:pt x="928" y="132"/>
                  </a:lnTo>
                  <a:lnTo>
                    <a:pt x="928" y="122"/>
                  </a:lnTo>
                  <a:lnTo>
                    <a:pt x="928" y="112"/>
                  </a:lnTo>
                  <a:lnTo>
                    <a:pt x="930" y="100"/>
                  </a:lnTo>
                  <a:lnTo>
                    <a:pt x="934" y="90"/>
                  </a:lnTo>
                  <a:lnTo>
                    <a:pt x="940" y="78"/>
                  </a:lnTo>
                  <a:lnTo>
                    <a:pt x="946" y="66"/>
                  </a:lnTo>
                  <a:lnTo>
                    <a:pt x="956" y="54"/>
                  </a:lnTo>
                  <a:lnTo>
                    <a:pt x="966" y="40"/>
                  </a:lnTo>
                  <a:lnTo>
                    <a:pt x="980" y="28"/>
                  </a:lnTo>
                  <a:lnTo>
                    <a:pt x="996" y="16"/>
                  </a:lnTo>
                  <a:lnTo>
                    <a:pt x="1014" y="4"/>
                  </a:lnTo>
                  <a:lnTo>
                    <a:pt x="1014" y="4"/>
                  </a:lnTo>
                  <a:lnTo>
                    <a:pt x="1000" y="2"/>
                  </a:lnTo>
                  <a:lnTo>
                    <a:pt x="986" y="0"/>
                  </a:lnTo>
                  <a:lnTo>
                    <a:pt x="972" y="2"/>
                  </a:lnTo>
                  <a:lnTo>
                    <a:pt x="960" y="6"/>
                  </a:lnTo>
                  <a:lnTo>
                    <a:pt x="948" y="10"/>
                  </a:lnTo>
                  <a:lnTo>
                    <a:pt x="938" y="16"/>
                  </a:lnTo>
                  <a:lnTo>
                    <a:pt x="928" y="24"/>
                  </a:lnTo>
                  <a:lnTo>
                    <a:pt x="920" y="34"/>
                  </a:lnTo>
                  <a:lnTo>
                    <a:pt x="912" y="42"/>
                  </a:lnTo>
                  <a:lnTo>
                    <a:pt x="906" y="54"/>
                  </a:lnTo>
                  <a:lnTo>
                    <a:pt x="902" y="64"/>
                  </a:lnTo>
                  <a:lnTo>
                    <a:pt x="898" y="76"/>
                  </a:lnTo>
                  <a:lnTo>
                    <a:pt x="894" y="88"/>
                  </a:lnTo>
                  <a:lnTo>
                    <a:pt x="892" y="100"/>
                  </a:lnTo>
                  <a:lnTo>
                    <a:pt x="892" y="112"/>
                  </a:lnTo>
                  <a:lnTo>
                    <a:pt x="894" y="124"/>
                  </a:lnTo>
                  <a:lnTo>
                    <a:pt x="894" y="124"/>
                  </a:lnTo>
                  <a:lnTo>
                    <a:pt x="864" y="110"/>
                  </a:lnTo>
                  <a:lnTo>
                    <a:pt x="832" y="98"/>
                  </a:lnTo>
                  <a:lnTo>
                    <a:pt x="802" y="90"/>
                  </a:lnTo>
                  <a:lnTo>
                    <a:pt x="770" y="82"/>
                  </a:lnTo>
                  <a:lnTo>
                    <a:pt x="740" y="76"/>
                  </a:lnTo>
                  <a:lnTo>
                    <a:pt x="710" y="72"/>
                  </a:lnTo>
                  <a:lnTo>
                    <a:pt x="678" y="68"/>
                  </a:lnTo>
                  <a:lnTo>
                    <a:pt x="648" y="68"/>
                  </a:lnTo>
                  <a:lnTo>
                    <a:pt x="618" y="68"/>
                  </a:lnTo>
                  <a:lnTo>
                    <a:pt x="588" y="68"/>
                  </a:lnTo>
                  <a:lnTo>
                    <a:pt x="530" y="76"/>
                  </a:lnTo>
                  <a:lnTo>
                    <a:pt x="472" y="86"/>
                  </a:lnTo>
                  <a:lnTo>
                    <a:pt x="418" y="100"/>
                  </a:lnTo>
                  <a:lnTo>
                    <a:pt x="366" y="118"/>
                  </a:lnTo>
                  <a:lnTo>
                    <a:pt x="318" y="136"/>
                  </a:lnTo>
                  <a:lnTo>
                    <a:pt x="274" y="156"/>
                  </a:lnTo>
                  <a:lnTo>
                    <a:pt x="234" y="178"/>
                  </a:lnTo>
                  <a:lnTo>
                    <a:pt x="198" y="200"/>
                  </a:lnTo>
                  <a:lnTo>
                    <a:pt x="168" y="220"/>
                  </a:lnTo>
                  <a:lnTo>
                    <a:pt x="142" y="238"/>
                  </a:lnTo>
                  <a:lnTo>
                    <a:pt x="124" y="256"/>
                  </a:lnTo>
                  <a:lnTo>
                    <a:pt x="124" y="256"/>
                  </a:lnTo>
                  <a:lnTo>
                    <a:pt x="92" y="292"/>
                  </a:lnTo>
                  <a:lnTo>
                    <a:pt x="76" y="312"/>
                  </a:lnTo>
                  <a:lnTo>
                    <a:pt x="62" y="332"/>
                  </a:lnTo>
                  <a:lnTo>
                    <a:pt x="62" y="332"/>
                  </a:lnTo>
                  <a:lnTo>
                    <a:pt x="48" y="356"/>
                  </a:lnTo>
                  <a:lnTo>
                    <a:pt x="32" y="384"/>
                  </a:lnTo>
                  <a:lnTo>
                    <a:pt x="18" y="418"/>
                  </a:lnTo>
                  <a:lnTo>
                    <a:pt x="12" y="438"/>
                  </a:lnTo>
                  <a:lnTo>
                    <a:pt x="6" y="460"/>
                  </a:lnTo>
                  <a:lnTo>
                    <a:pt x="2" y="484"/>
                  </a:lnTo>
                  <a:lnTo>
                    <a:pt x="0" y="508"/>
                  </a:lnTo>
                  <a:lnTo>
                    <a:pt x="0" y="536"/>
                  </a:lnTo>
                  <a:lnTo>
                    <a:pt x="2" y="566"/>
                  </a:lnTo>
                  <a:lnTo>
                    <a:pt x="6" y="598"/>
                  </a:lnTo>
                  <a:lnTo>
                    <a:pt x="12" y="634"/>
                  </a:lnTo>
                  <a:lnTo>
                    <a:pt x="24" y="672"/>
                  </a:lnTo>
                  <a:lnTo>
                    <a:pt x="38" y="712"/>
                  </a:lnTo>
                  <a:lnTo>
                    <a:pt x="38" y="712"/>
                  </a:lnTo>
                  <a:lnTo>
                    <a:pt x="56" y="760"/>
                  </a:lnTo>
                  <a:lnTo>
                    <a:pt x="78" y="802"/>
                  </a:lnTo>
                  <a:lnTo>
                    <a:pt x="102" y="840"/>
                  </a:lnTo>
                  <a:lnTo>
                    <a:pt x="128" y="874"/>
                  </a:lnTo>
                  <a:lnTo>
                    <a:pt x="156" y="902"/>
                  </a:lnTo>
                  <a:lnTo>
                    <a:pt x="186" y="928"/>
                  </a:lnTo>
                  <a:lnTo>
                    <a:pt x="216" y="948"/>
                  </a:lnTo>
                  <a:lnTo>
                    <a:pt x="248" y="964"/>
                  </a:lnTo>
                  <a:lnTo>
                    <a:pt x="282" y="976"/>
                  </a:lnTo>
                  <a:lnTo>
                    <a:pt x="318" y="984"/>
                  </a:lnTo>
                  <a:lnTo>
                    <a:pt x="352" y="990"/>
                  </a:lnTo>
                  <a:lnTo>
                    <a:pt x="388" y="990"/>
                  </a:lnTo>
                  <a:lnTo>
                    <a:pt x="426" y="986"/>
                  </a:lnTo>
                  <a:lnTo>
                    <a:pt x="462" y="980"/>
                  </a:lnTo>
                  <a:lnTo>
                    <a:pt x="500" y="970"/>
                  </a:lnTo>
                  <a:lnTo>
                    <a:pt x="536" y="956"/>
                  </a:lnTo>
                  <a:lnTo>
                    <a:pt x="536" y="956"/>
                  </a:lnTo>
                  <a:lnTo>
                    <a:pt x="556" y="946"/>
                  </a:lnTo>
                  <a:lnTo>
                    <a:pt x="574" y="938"/>
                  </a:lnTo>
                  <a:lnTo>
                    <a:pt x="590" y="926"/>
                  </a:lnTo>
                  <a:lnTo>
                    <a:pt x="606" y="916"/>
                  </a:lnTo>
                  <a:lnTo>
                    <a:pt x="620" y="904"/>
                  </a:lnTo>
                  <a:lnTo>
                    <a:pt x="634" y="890"/>
                  </a:lnTo>
                  <a:lnTo>
                    <a:pt x="658" y="864"/>
                  </a:lnTo>
                  <a:lnTo>
                    <a:pt x="678" y="834"/>
                  </a:lnTo>
                  <a:lnTo>
                    <a:pt x="694" y="802"/>
                  </a:lnTo>
                  <a:lnTo>
                    <a:pt x="706" y="770"/>
                  </a:lnTo>
                  <a:lnTo>
                    <a:pt x="714" y="736"/>
                  </a:lnTo>
                  <a:lnTo>
                    <a:pt x="718" y="702"/>
                  </a:lnTo>
                  <a:lnTo>
                    <a:pt x="718" y="668"/>
                  </a:lnTo>
                  <a:lnTo>
                    <a:pt x="714" y="634"/>
                  </a:lnTo>
                  <a:lnTo>
                    <a:pt x="708" y="602"/>
                  </a:lnTo>
                  <a:lnTo>
                    <a:pt x="698" y="570"/>
                  </a:lnTo>
                  <a:lnTo>
                    <a:pt x="684" y="540"/>
                  </a:lnTo>
                  <a:lnTo>
                    <a:pt x="666" y="512"/>
                  </a:lnTo>
                  <a:lnTo>
                    <a:pt x="644" y="486"/>
                  </a:lnTo>
                  <a:lnTo>
                    <a:pt x="644" y="486"/>
                  </a:lnTo>
                  <a:lnTo>
                    <a:pt x="630" y="472"/>
                  </a:lnTo>
                  <a:lnTo>
                    <a:pt x="616" y="462"/>
                  </a:lnTo>
                  <a:lnTo>
                    <a:pt x="600" y="452"/>
                  </a:lnTo>
                  <a:lnTo>
                    <a:pt x="586" y="444"/>
                  </a:lnTo>
                  <a:lnTo>
                    <a:pt x="570" y="438"/>
                  </a:lnTo>
                  <a:lnTo>
                    <a:pt x="554" y="434"/>
                  </a:lnTo>
                  <a:lnTo>
                    <a:pt x="538" y="432"/>
                  </a:lnTo>
                  <a:lnTo>
                    <a:pt x="522" y="432"/>
                  </a:lnTo>
                  <a:lnTo>
                    <a:pt x="508" y="432"/>
                  </a:lnTo>
                  <a:lnTo>
                    <a:pt x="492" y="434"/>
                  </a:lnTo>
                  <a:lnTo>
                    <a:pt x="478" y="438"/>
                  </a:lnTo>
                  <a:lnTo>
                    <a:pt x="464" y="444"/>
                  </a:lnTo>
                  <a:lnTo>
                    <a:pt x="450" y="450"/>
                  </a:lnTo>
                  <a:lnTo>
                    <a:pt x="438" y="458"/>
                  </a:lnTo>
                  <a:lnTo>
                    <a:pt x="428" y="468"/>
                  </a:lnTo>
                  <a:lnTo>
                    <a:pt x="418" y="478"/>
                  </a:lnTo>
                  <a:lnTo>
                    <a:pt x="418" y="478"/>
                  </a:lnTo>
                  <a:lnTo>
                    <a:pt x="410" y="488"/>
                  </a:lnTo>
                  <a:lnTo>
                    <a:pt x="404" y="500"/>
                  </a:lnTo>
                  <a:lnTo>
                    <a:pt x="398" y="512"/>
                  </a:lnTo>
                  <a:lnTo>
                    <a:pt x="396" y="524"/>
                  </a:lnTo>
                  <a:lnTo>
                    <a:pt x="394" y="536"/>
                  </a:lnTo>
                  <a:lnTo>
                    <a:pt x="394" y="550"/>
                  </a:lnTo>
                  <a:lnTo>
                    <a:pt x="396" y="576"/>
                  </a:lnTo>
                  <a:lnTo>
                    <a:pt x="402" y="600"/>
                  </a:lnTo>
                  <a:lnTo>
                    <a:pt x="412" y="622"/>
                  </a:lnTo>
                  <a:lnTo>
                    <a:pt x="418" y="630"/>
                  </a:lnTo>
                  <a:lnTo>
                    <a:pt x="426" y="640"/>
                  </a:lnTo>
                  <a:lnTo>
                    <a:pt x="432" y="646"/>
                  </a:lnTo>
                  <a:lnTo>
                    <a:pt x="440" y="652"/>
                  </a:lnTo>
                  <a:lnTo>
                    <a:pt x="440" y="652"/>
                  </a:lnTo>
                  <a:lnTo>
                    <a:pt x="452" y="656"/>
                  </a:lnTo>
                  <a:lnTo>
                    <a:pt x="462" y="660"/>
                  </a:lnTo>
                  <a:lnTo>
                    <a:pt x="474" y="662"/>
                  </a:lnTo>
                  <a:lnTo>
                    <a:pt x="484" y="662"/>
                  </a:lnTo>
                  <a:lnTo>
                    <a:pt x="494" y="662"/>
                  </a:lnTo>
                  <a:lnTo>
                    <a:pt x="504" y="660"/>
                  </a:lnTo>
                  <a:lnTo>
                    <a:pt x="514" y="656"/>
                  </a:lnTo>
                  <a:lnTo>
                    <a:pt x="524" y="652"/>
                  </a:lnTo>
                  <a:lnTo>
                    <a:pt x="540" y="640"/>
                  </a:lnTo>
                  <a:lnTo>
                    <a:pt x="554" y="626"/>
                  </a:lnTo>
                  <a:lnTo>
                    <a:pt x="558" y="616"/>
                  </a:lnTo>
                  <a:lnTo>
                    <a:pt x="562" y="608"/>
                  </a:lnTo>
                  <a:lnTo>
                    <a:pt x="566" y="598"/>
                  </a:lnTo>
                  <a:lnTo>
                    <a:pt x="568" y="588"/>
                  </a:lnTo>
                  <a:lnTo>
                    <a:pt x="568" y="588"/>
                  </a:lnTo>
                  <a:lnTo>
                    <a:pt x="586" y="602"/>
                  </a:lnTo>
                  <a:lnTo>
                    <a:pt x="604" y="616"/>
                  </a:lnTo>
                  <a:lnTo>
                    <a:pt x="618" y="634"/>
                  </a:lnTo>
                  <a:lnTo>
                    <a:pt x="630" y="652"/>
                  </a:lnTo>
                  <a:lnTo>
                    <a:pt x="640" y="672"/>
                  </a:lnTo>
                  <a:lnTo>
                    <a:pt x="648" y="692"/>
                  </a:lnTo>
                  <a:lnTo>
                    <a:pt x="654" y="714"/>
                  </a:lnTo>
                  <a:lnTo>
                    <a:pt x="656" y="736"/>
                  </a:lnTo>
                  <a:lnTo>
                    <a:pt x="656" y="758"/>
                  </a:lnTo>
                  <a:lnTo>
                    <a:pt x="652" y="780"/>
                  </a:lnTo>
                  <a:lnTo>
                    <a:pt x="648" y="802"/>
                  </a:lnTo>
                  <a:lnTo>
                    <a:pt x="640" y="822"/>
                  </a:lnTo>
                  <a:lnTo>
                    <a:pt x="628" y="842"/>
                  </a:lnTo>
                  <a:lnTo>
                    <a:pt x="616" y="862"/>
                  </a:lnTo>
                  <a:lnTo>
                    <a:pt x="600" y="880"/>
                  </a:lnTo>
                  <a:lnTo>
                    <a:pt x="580" y="896"/>
                  </a:lnTo>
                  <a:lnTo>
                    <a:pt x="580" y="896"/>
                  </a:lnTo>
                  <a:lnTo>
                    <a:pt x="588" y="884"/>
                  </a:lnTo>
                  <a:lnTo>
                    <a:pt x="594" y="872"/>
                  </a:lnTo>
                  <a:lnTo>
                    <a:pt x="598" y="856"/>
                  </a:lnTo>
                  <a:lnTo>
                    <a:pt x="600" y="842"/>
                  </a:lnTo>
                  <a:lnTo>
                    <a:pt x="602" y="826"/>
                  </a:lnTo>
                  <a:lnTo>
                    <a:pt x="600" y="810"/>
                  </a:lnTo>
                  <a:lnTo>
                    <a:pt x="596" y="794"/>
                  </a:lnTo>
                  <a:lnTo>
                    <a:pt x="592" y="778"/>
                  </a:lnTo>
                  <a:lnTo>
                    <a:pt x="592" y="778"/>
                  </a:lnTo>
                  <a:lnTo>
                    <a:pt x="586" y="764"/>
                  </a:lnTo>
                  <a:lnTo>
                    <a:pt x="576" y="754"/>
                  </a:lnTo>
                  <a:lnTo>
                    <a:pt x="562" y="744"/>
                  </a:lnTo>
                  <a:lnTo>
                    <a:pt x="546" y="736"/>
                  </a:lnTo>
                  <a:lnTo>
                    <a:pt x="526" y="732"/>
                  </a:lnTo>
                  <a:lnTo>
                    <a:pt x="506" y="732"/>
                  </a:lnTo>
                  <a:lnTo>
                    <a:pt x="482" y="736"/>
                  </a:lnTo>
                  <a:lnTo>
                    <a:pt x="472" y="740"/>
                  </a:lnTo>
                  <a:lnTo>
                    <a:pt x="460" y="746"/>
                  </a:lnTo>
                  <a:lnTo>
                    <a:pt x="460" y="746"/>
                  </a:lnTo>
                  <a:lnTo>
                    <a:pt x="468" y="750"/>
                  </a:lnTo>
                  <a:lnTo>
                    <a:pt x="478" y="758"/>
                  </a:lnTo>
                  <a:lnTo>
                    <a:pt x="486" y="764"/>
                  </a:lnTo>
                  <a:lnTo>
                    <a:pt x="492" y="772"/>
                  </a:lnTo>
                  <a:lnTo>
                    <a:pt x="498" y="780"/>
                  </a:lnTo>
                  <a:lnTo>
                    <a:pt x="502" y="788"/>
                  </a:lnTo>
                  <a:lnTo>
                    <a:pt x="506" y="808"/>
                  </a:lnTo>
                  <a:lnTo>
                    <a:pt x="508" y="828"/>
                  </a:lnTo>
                  <a:lnTo>
                    <a:pt x="504" y="848"/>
                  </a:lnTo>
                  <a:lnTo>
                    <a:pt x="496" y="870"/>
                  </a:lnTo>
                  <a:lnTo>
                    <a:pt x="484" y="890"/>
                  </a:lnTo>
                  <a:lnTo>
                    <a:pt x="484" y="890"/>
                  </a:lnTo>
                  <a:lnTo>
                    <a:pt x="472" y="902"/>
                  </a:lnTo>
                  <a:lnTo>
                    <a:pt x="458" y="912"/>
                  </a:lnTo>
                  <a:lnTo>
                    <a:pt x="442" y="922"/>
                  </a:lnTo>
                  <a:lnTo>
                    <a:pt x="424" y="930"/>
                  </a:lnTo>
                  <a:lnTo>
                    <a:pt x="406" y="938"/>
                  </a:lnTo>
                  <a:lnTo>
                    <a:pt x="384" y="942"/>
                  </a:lnTo>
                  <a:lnTo>
                    <a:pt x="362" y="944"/>
                  </a:lnTo>
                  <a:lnTo>
                    <a:pt x="340" y="946"/>
                  </a:lnTo>
                  <a:lnTo>
                    <a:pt x="316" y="944"/>
                  </a:lnTo>
                  <a:lnTo>
                    <a:pt x="292" y="940"/>
                  </a:lnTo>
                  <a:lnTo>
                    <a:pt x="270" y="932"/>
                  </a:lnTo>
                  <a:lnTo>
                    <a:pt x="246" y="924"/>
                  </a:lnTo>
                  <a:lnTo>
                    <a:pt x="224" y="912"/>
                  </a:lnTo>
                  <a:lnTo>
                    <a:pt x="202" y="896"/>
                  </a:lnTo>
                  <a:lnTo>
                    <a:pt x="182" y="878"/>
                  </a:lnTo>
                  <a:lnTo>
                    <a:pt x="162" y="856"/>
                  </a:lnTo>
                  <a:lnTo>
                    <a:pt x="162" y="856"/>
                  </a:lnTo>
                  <a:lnTo>
                    <a:pt x="174" y="860"/>
                  </a:lnTo>
                  <a:lnTo>
                    <a:pt x="186" y="862"/>
                  </a:lnTo>
                  <a:lnTo>
                    <a:pt x="200" y="862"/>
                  </a:lnTo>
                  <a:lnTo>
                    <a:pt x="212" y="860"/>
                  </a:lnTo>
                  <a:lnTo>
                    <a:pt x="226" y="858"/>
                  </a:lnTo>
                  <a:lnTo>
                    <a:pt x="240" y="854"/>
                  </a:lnTo>
                  <a:lnTo>
                    <a:pt x="254" y="850"/>
                  </a:lnTo>
                  <a:lnTo>
                    <a:pt x="268" y="844"/>
                  </a:lnTo>
                  <a:lnTo>
                    <a:pt x="280" y="836"/>
                  </a:lnTo>
                  <a:lnTo>
                    <a:pt x="290" y="828"/>
                  </a:lnTo>
                  <a:lnTo>
                    <a:pt x="300" y="818"/>
                  </a:lnTo>
                  <a:lnTo>
                    <a:pt x="308" y="808"/>
                  </a:lnTo>
                  <a:lnTo>
                    <a:pt x="312" y="798"/>
                  </a:lnTo>
                  <a:lnTo>
                    <a:pt x="316" y="786"/>
                  </a:lnTo>
                  <a:lnTo>
                    <a:pt x="316" y="772"/>
                  </a:lnTo>
                  <a:lnTo>
                    <a:pt x="314" y="760"/>
                  </a:lnTo>
                  <a:lnTo>
                    <a:pt x="314" y="760"/>
                  </a:lnTo>
                  <a:lnTo>
                    <a:pt x="304" y="768"/>
                  </a:lnTo>
                  <a:lnTo>
                    <a:pt x="292" y="774"/>
                  </a:lnTo>
                  <a:lnTo>
                    <a:pt x="280" y="778"/>
                  </a:lnTo>
                  <a:lnTo>
                    <a:pt x="266" y="780"/>
                  </a:lnTo>
                  <a:lnTo>
                    <a:pt x="252" y="780"/>
                  </a:lnTo>
                  <a:lnTo>
                    <a:pt x="236" y="780"/>
                  </a:lnTo>
                  <a:lnTo>
                    <a:pt x="220" y="778"/>
                  </a:lnTo>
                  <a:lnTo>
                    <a:pt x="206" y="772"/>
                  </a:lnTo>
                  <a:lnTo>
                    <a:pt x="190" y="766"/>
                  </a:lnTo>
                  <a:lnTo>
                    <a:pt x="176" y="760"/>
                  </a:lnTo>
                  <a:lnTo>
                    <a:pt x="160" y="750"/>
                  </a:lnTo>
                  <a:lnTo>
                    <a:pt x="146" y="740"/>
                  </a:lnTo>
                  <a:lnTo>
                    <a:pt x="134" y="728"/>
                  </a:lnTo>
                  <a:lnTo>
                    <a:pt x="122" y="714"/>
                  </a:lnTo>
                  <a:lnTo>
                    <a:pt x="110" y="698"/>
                  </a:lnTo>
                  <a:lnTo>
                    <a:pt x="102" y="682"/>
                  </a:lnTo>
                  <a:lnTo>
                    <a:pt x="102" y="682"/>
                  </a:lnTo>
                  <a:lnTo>
                    <a:pt x="82" y="636"/>
                  </a:lnTo>
                  <a:lnTo>
                    <a:pt x="72" y="612"/>
                  </a:lnTo>
                  <a:lnTo>
                    <a:pt x="66" y="588"/>
                  </a:lnTo>
                  <a:lnTo>
                    <a:pt x="60" y="562"/>
                  </a:lnTo>
                  <a:lnTo>
                    <a:pt x="56" y="536"/>
                  </a:lnTo>
                  <a:lnTo>
                    <a:pt x="52" y="510"/>
                  </a:lnTo>
                  <a:lnTo>
                    <a:pt x="52" y="484"/>
                  </a:lnTo>
                  <a:lnTo>
                    <a:pt x="56" y="456"/>
                  </a:lnTo>
                  <a:lnTo>
                    <a:pt x="60" y="428"/>
                  </a:lnTo>
                  <a:lnTo>
                    <a:pt x="68" y="402"/>
                  </a:lnTo>
                  <a:lnTo>
                    <a:pt x="80" y="374"/>
                  </a:lnTo>
                  <a:lnTo>
                    <a:pt x="96" y="346"/>
                  </a:lnTo>
                  <a:lnTo>
                    <a:pt x="114" y="320"/>
                  </a:lnTo>
                  <a:lnTo>
                    <a:pt x="138" y="292"/>
                  </a:lnTo>
                  <a:lnTo>
                    <a:pt x="164" y="266"/>
                  </a:lnTo>
                  <a:lnTo>
                    <a:pt x="164" y="266"/>
                  </a:lnTo>
                  <a:lnTo>
                    <a:pt x="152" y="290"/>
                  </a:lnTo>
                  <a:lnTo>
                    <a:pt x="142" y="314"/>
                  </a:lnTo>
                  <a:lnTo>
                    <a:pt x="134" y="340"/>
                  </a:lnTo>
                  <a:lnTo>
                    <a:pt x="126" y="368"/>
                  </a:lnTo>
                  <a:lnTo>
                    <a:pt x="122" y="396"/>
                  </a:lnTo>
                  <a:lnTo>
                    <a:pt x="120" y="426"/>
                  </a:lnTo>
                  <a:lnTo>
                    <a:pt x="118" y="456"/>
                  </a:lnTo>
                  <a:lnTo>
                    <a:pt x="120" y="486"/>
                  </a:lnTo>
                  <a:lnTo>
                    <a:pt x="120" y="486"/>
                  </a:lnTo>
                  <a:lnTo>
                    <a:pt x="122" y="518"/>
                  </a:lnTo>
                  <a:lnTo>
                    <a:pt x="130" y="550"/>
                  </a:lnTo>
                  <a:lnTo>
                    <a:pt x="138" y="578"/>
                  </a:lnTo>
                  <a:lnTo>
                    <a:pt x="148" y="606"/>
                  </a:lnTo>
                  <a:lnTo>
                    <a:pt x="166" y="646"/>
                  </a:lnTo>
                  <a:lnTo>
                    <a:pt x="174" y="660"/>
                  </a:lnTo>
                  <a:lnTo>
                    <a:pt x="174" y="660"/>
                  </a:lnTo>
                  <a:lnTo>
                    <a:pt x="172" y="644"/>
                  </a:lnTo>
                  <a:lnTo>
                    <a:pt x="170" y="606"/>
                  </a:lnTo>
                  <a:lnTo>
                    <a:pt x="170" y="584"/>
                  </a:lnTo>
                  <a:lnTo>
                    <a:pt x="170" y="560"/>
                  </a:lnTo>
                  <a:lnTo>
                    <a:pt x="174" y="538"/>
                  </a:lnTo>
                  <a:lnTo>
                    <a:pt x="180" y="520"/>
                  </a:lnTo>
                  <a:lnTo>
                    <a:pt x="180" y="520"/>
                  </a:lnTo>
                  <a:lnTo>
                    <a:pt x="186" y="532"/>
                  </a:lnTo>
                  <a:lnTo>
                    <a:pt x="192" y="542"/>
                  </a:lnTo>
                  <a:lnTo>
                    <a:pt x="200" y="552"/>
                  </a:lnTo>
                  <a:lnTo>
                    <a:pt x="208" y="560"/>
                  </a:lnTo>
                  <a:lnTo>
                    <a:pt x="218" y="568"/>
                  </a:lnTo>
                  <a:lnTo>
                    <a:pt x="226" y="572"/>
                  </a:lnTo>
                  <a:lnTo>
                    <a:pt x="236" y="576"/>
                  </a:lnTo>
                  <a:lnTo>
                    <a:pt x="246" y="578"/>
                  </a:lnTo>
                  <a:lnTo>
                    <a:pt x="256" y="580"/>
                  </a:lnTo>
                  <a:lnTo>
                    <a:pt x="266" y="578"/>
                  </a:lnTo>
                  <a:lnTo>
                    <a:pt x="274" y="576"/>
                  </a:lnTo>
                  <a:lnTo>
                    <a:pt x="282" y="570"/>
                  </a:lnTo>
                  <a:lnTo>
                    <a:pt x="290" y="564"/>
                  </a:lnTo>
                  <a:lnTo>
                    <a:pt x="296" y="554"/>
                  </a:lnTo>
                  <a:lnTo>
                    <a:pt x="300" y="544"/>
                  </a:lnTo>
                  <a:lnTo>
                    <a:pt x="304" y="532"/>
                  </a:lnTo>
                  <a:lnTo>
                    <a:pt x="304" y="532"/>
                  </a:lnTo>
                  <a:lnTo>
                    <a:pt x="290" y="532"/>
                  </a:lnTo>
                  <a:lnTo>
                    <a:pt x="278" y="530"/>
                  </a:lnTo>
                  <a:lnTo>
                    <a:pt x="266" y="526"/>
                  </a:lnTo>
                  <a:lnTo>
                    <a:pt x="254" y="522"/>
                  </a:lnTo>
                  <a:lnTo>
                    <a:pt x="242" y="516"/>
                  </a:lnTo>
                  <a:lnTo>
                    <a:pt x="232" y="508"/>
                  </a:lnTo>
                  <a:lnTo>
                    <a:pt x="222" y="498"/>
                  </a:lnTo>
                  <a:lnTo>
                    <a:pt x="214" y="488"/>
                  </a:lnTo>
                  <a:lnTo>
                    <a:pt x="206" y="478"/>
                  </a:lnTo>
                  <a:lnTo>
                    <a:pt x="200" y="464"/>
                  </a:lnTo>
                  <a:lnTo>
                    <a:pt x="194" y="452"/>
                  </a:lnTo>
                  <a:lnTo>
                    <a:pt x="188" y="438"/>
                  </a:lnTo>
                  <a:lnTo>
                    <a:pt x="182" y="408"/>
                  </a:lnTo>
                  <a:lnTo>
                    <a:pt x="180" y="392"/>
                  </a:lnTo>
                  <a:lnTo>
                    <a:pt x="180" y="376"/>
                  </a:lnTo>
                  <a:lnTo>
                    <a:pt x="180" y="360"/>
                  </a:lnTo>
                  <a:lnTo>
                    <a:pt x="182" y="344"/>
                  </a:lnTo>
                  <a:lnTo>
                    <a:pt x="186" y="328"/>
                  </a:lnTo>
                  <a:lnTo>
                    <a:pt x="190" y="312"/>
                  </a:lnTo>
                  <a:lnTo>
                    <a:pt x="196" y="296"/>
                  </a:lnTo>
                  <a:lnTo>
                    <a:pt x="204" y="280"/>
                  </a:lnTo>
                  <a:lnTo>
                    <a:pt x="214" y="264"/>
                  </a:lnTo>
                  <a:lnTo>
                    <a:pt x="224" y="250"/>
                  </a:lnTo>
                  <a:lnTo>
                    <a:pt x="236" y="236"/>
                  </a:lnTo>
                  <a:lnTo>
                    <a:pt x="250" y="222"/>
                  </a:lnTo>
                  <a:lnTo>
                    <a:pt x="266" y="210"/>
                  </a:lnTo>
                  <a:lnTo>
                    <a:pt x="284" y="198"/>
                  </a:lnTo>
                  <a:lnTo>
                    <a:pt x="304" y="186"/>
                  </a:lnTo>
                  <a:lnTo>
                    <a:pt x="324" y="178"/>
                  </a:lnTo>
                  <a:lnTo>
                    <a:pt x="348" y="170"/>
                  </a:lnTo>
                  <a:lnTo>
                    <a:pt x="372" y="162"/>
                  </a:lnTo>
                  <a:lnTo>
                    <a:pt x="372" y="162"/>
                  </a:lnTo>
                  <a:lnTo>
                    <a:pt x="344" y="180"/>
                  </a:lnTo>
                  <a:lnTo>
                    <a:pt x="324" y="198"/>
                  </a:lnTo>
                  <a:lnTo>
                    <a:pt x="308" y="214"/>
                  </a:lnTo>
                  <a:lnTo>
                    <a:pt x="298" y="230"/>
                  </a:lnTo>
                  <a:lnTo>
                    <a:pt x="294" y="238"/>
                  </a:lnTo>
                  <a:lnTo>
                    <a:pt x="292" y="244"/>
                  </a:lnTo>
                  <a:lnTo>
                    <a:pt x="292" y="252"/>
                  </a:lnTo>
                  <a:lnTo>
                    <a:pt x="294" y="258"/>
                  </a:lnTo>
                  <a:lnTo>
                    <a:pt x="296" y="262"/>
                  </a:lnTo>
                  <a:lnTo>
                    <a:pt x="300" y="268"/>
                  </a:lnTo>
                  <a:lnTo>
                    <a:pt x="306" y="272"/>
                  </a:lnTo>
                  <a:lnTo>
                    <a:pt x="314" y="276"/>
                  </a:lnTo>
                  <a:lnTo>
                    <a:pt x="314" y="276"/>
                  </a:lnTo>
                  <a:lnTo>
                    <a:pt x="308" y="294"/>
                  </a:lnTo>
                  <a:lnTo>
                    <a:pt x="306" y="314"/>
                  </a:lnTo>
                  <a:lnTo>
                    <a:pt x="306" y="326"/>
                  </a:lnTo>
                  <a:lnTo>
                    <a:pt x="308" y="338"/>
                  </a:lnTo>
                  <a:lnTo>
                    <a:pt x="312" y="348"/>
                  </a:lnTo>
                  <a:lnTo>
                    <a:pt x="316" y="358"/>
                  </a:lnTo>
                  <a:lnTo>
                    <a:pt x="324" y="368"/>
                  </a:lnTo>
                  <a:lnTo>
                    <a:pt x="332" y="376"/>
                  </a:lnTo>
                  <a:lnTo>
                    <a:pt x="344" y="384"/>
                  </a:lnTo>
                  <a:lnTo>
                    <a:pt x="358" y="388"/>
                  </a:lnTo>
                  <a:lnTo>
                    <a:pt x="376" y="390"/>
                  </a:lnTo>
                  <a:lnTo>
                    <a:pt x="394" y="390"/>
                  </a:lnTo>
                  <a:lnTo>
                    <a:pt x="418" y="388"/>
                  </a:lnTo>
                  <a:lnTo>
                    <a:pt x="444" y="380"/>
                  </a:lnTo>
                  <a:lnTo>
                    <a:pt x="444" y="380"/>
                  </a:lnTo>
                  <a:lnTo>
                    <a:pt x="424" y="374"/>
                  </a:lnTo>
                  <a:lnTo>
                    <a:pt x="410" y="368"/>
                  </a:lnTo>
                  <a:lnTo>
                    <a:pt x="398" y="358"/>
                  </a:lnTo>
                  <a:lnTo>
                    <a:pt x="390" y="348"/>
                  </a:lnTo>
                  <a:lnTo>
                    <a:pt x="386" y="338"/>
                  </a:lnTo>
                  <a:lnTo>
                    <a:pt x="384" y="326"/>
                  </a:lnTo>
                  <a:lnTo>
                    <a:pt x="384" y="314"/>
                  </a:lnTo>
                  <a:lnTo>
                    <a:pt x="388" y="304"/>
                  </a:lnTo>
                  <a:lnTo>
                    <a:pt x="394" y="292"/>
                  </a:lnTo>
                  <a:lnTo>
                    <a:pt x="402" y="282"/>
                  </a:lnTo>
                  <a:lnTo>
                    <a:pt x="412" y="270"/>
                  </a:lnTo>
                  <a:lnTo>
                    <a:pt x="422" y="262"/>
                  </a:lnTo>
                  <a:lnTo>
                    <a:pt x="434" y="254"/>
                  </a:lnTo>
                  <a:lnTo>
                    <a:pt x="446" y="246"/>
                  </a:lnTo>
                  <a:lnTo>
                    <a:pt x="460" y="240"/>
                  </a:lnTo>
                  <a:lnTo>
                    <a:pt x="474" y="238"/>
                  </a:lnTo>
                  <a:lnTo>
                    <a:pt x="474" y="238"/>
                  </a:lnTo>
                  <a:lnTo>
                    <a:pt x="478" y="246"/>
                  </a:lnTo>
                  <a:lnTo>
                    <a:pt x="484" y="256"/>
                  </a:lnTo>
                  <a:lnTo>
                    <a:pt x="490" y="264"/>
                  </a:lnTo>
                  <a:lnTo>
                    <a:pt x="498" y="270"/>
                  </a:lnTo>
                  <a:lnTo>
                    <a:pt x="508" y="276"/>
                  </a:lnTo>
                  <a:lnTo>
                    <a:pt x="516" y="282"/>
                  </a:lnTo>
                  <a:lnTo>
                    <a:pt x="526" y="286"/>
                  </a:lnTo>
                  <a:lnTo>
                    <a:pt x="538" y="288"/>
                  </a:lnTo>
                  <a:lnTo>
                    <a:pt x="548" y="288"/>
                  </a:lnTo>
                  <a:lnTo>
                    <a:pt x="558" y="286"/>
                  </a:lnTo>
                  <a:lnTo>
                    <a:pt x="568" y="284"/>
                  </a:lnTo>
                  <a:lnTo>
                    <a:pt x="576" y="280"/>
                  </a:lnTo>
                  <a:lnTo>
                    <a:pt x="584" y="272"/>
                  </a:lnTo>
                  <a:lnTo>
                    <a:pt x="592" y="264"/>
                  </a:lnTo>
                  <a:lnTo>
                    <a:pt x="598" y="252"/>
                  </a:lnTo>
                  <a:lnTo>
                    <a:pt x="602" y="240"/>
                  </a:lnTo>
                  <a:lnTo>
                    <a:pt x="602" y="240"/>
                  </a:lnTo>
                  <a:lnTo>
                    <a:pt x="624" y="252"/>
                  </a:lnTo>
                  <a:lnTo>
                    <a:pt x="642" y="268"/>
                  </a:lnTo>
                  <a:lnTo>
                    <a:pt x="650" y="276"/>
                  </a:lnTo>
                  <a:lnTo>
                    <a:pt x="656" y="284"/>
                  </a:lnTo>
                  <a:lnTo>
                    <a:pt x="662" y="294"/>
                  </a:lnTo>
                  <a:lnTo>
                    <a:pt x="666" y="304"/>
                  </a:lnTo>
                  <a:lnTo>
                    <a:pt x="668" y="314"/>
                  </a:lnTo>
                  <a:lnTo>
                    <a:pt x="668" y="324"/>
                  </a:lnTo>
                  <a:lnTo>
                    <a:pt x="668" y="334"/>
                  </a:lnTo>
                  <a:lnTo>
                    <a:pt x="664" y="344"/>
                  </a:lnTo>
                  <a:lnTo>
                    <a:pt x="658" y="356"/>
                  </a:lnTo>
                  <a:lnTo>
                    <a:pt x="652" y="366"/>
                  </a:lnTo>
                  <a:lnTo>
                    <a:pt x="642" y="376"/>
                  </a:lnTo>
                  <a:lnTo>
                    <a:pt x="630" y="386"/>
                  </a:lnTo>
                  <a:lnTo>
                    <a:pt x="630" y="386"/>
                  </a:lnTo>
                  <a:lnTo>
                    <a:pt x="644" y="388"/>
                  </a:lnTo>
                  <a:lnTo>
                    <a:pt x="660" y="390"/>
                  </a:lnTo>
                  <a:lnTo>
                    <a:pt x="674" y="390"/>
                  </a:lnTo>
                  <a:lnTo>
                    <a:pt x="686" y="388"/>
                  </a:lnTo>
                  <a:lnTo>
                    <a:pt x="698" y="384"/>
                  </a:lnTo>
                  <a:lnTo>
                    <a:pt x="710" y="380"/>
                  </a:lnTo>
                  <a:lnTo>
                    <a:pt x="720" y="374"/>
                  </a:lnTo>
                  <a:lnTo>
                    <a:pt x="728" y="366"/>
                  </a:lnTo>
                  <a:lnTo>
                    <a:pt x="736" y="358"/>
                  </a:lnTo>
                  <a:lnTo>
                    <a:pt x="742" y="348"/>
                  </a:lnTo>
                  <a:lnTo>
                    <a:pt x="746" y="336"/>
                  </a:lnTo>
                  <a:lnTo>
                    <a:pt x="748" y="324"/>
                  </a:lnTo>
                  <a:lnTo>
                    <a:pt x="748" y="308"/>
                  </a:lnTo>
                  <a:lnTo>
                    <a:pt x="746" y="292"/>
                  </a:lnTo>
                  <a:lnTo>
                    <a:pt x="740" y="276"/>
                  </a:lnTo>
                  <a:lnTo>
                    <a:pt x="734" y="258"/>
                  </a:lnTo>
                  <a:lnTo>
                    <a:pt x="734" y="258"/>
                  </a:lnTo>
                  <a:lnTo>
                    <a:pt x="742" y="258"/>
                  </a:lnTo>
                  <a:lnTo>
                    <a:pt x="750" y="256"/>
                  </a:lnTo>
                  <a:lnTo>
                    <a:pt x="756" y="252"/>
                  </a:lnTo>
                  <a:lnTo>
                    <a:pt x="762" y="248"/>
                  </a:lnTo>
                  <a:lnTo>
                    <a:pt x="768" y="242"/>
                  </a:lnTo>
                  <a:lnTo>
                    <a:pt x="770" y="234"/>
                  </a:lnTo>
                  <a:lnTo>
                    <a:pt x="774" y="226"/>
                  </a:lnTo>
                  <a:lnTo>
                    <a:pt x="774" y="216"/>
                  </a:lnTo>
                  <a:lnTo>
                    <a:pt x="774" y="206"/>
                  </a:lnTo>
                  <a:lnTo>
                    <a:pt x="772" y="194"/>
                  </a:lnTo>
                  <a:lnTo>
                    <a:pt x="768" y="184"/>
                  </a:lnTo>
                  <a:lnTo>
                    <a:pt x="762" y="172"/>
                  </a:lnTo>
                  <a:lnTo>
                    <a:pt x="756" y="158"/>
                  </a:lnTo>
                  <a:lnTo>
                    <a:pt x="746" y="146"/>
                  </a:lnTo>
                  <a:lnTo>
                    <a:pt x="734" y="134"/>
                  </a:lnTo>
                  <a:lnTo>
                    <a:pt x="722" y="122"/>
                  </a:lnTo>
                  <a:lnTo>
                    <a:pt x="722" y="122"/>
                  </a:lnTo>
                  <a:lnTo>
                    <a:pt x="750" y="130"/>
                  </a:lnTo>
                  <a:lnTo>
                    <a:pt x="774" y="142"/>
                  </a:lnTo>
                  <a:lnTo>
                    <a:pt x="798" y="156"/>
                  </a:lnTo>
                  <a:lnTo>
                    <a:pt x="818" y="172"/>
                  </a:lnTo>
                  <a:lnTo>
                    <a:pt x="836" y="190"/>
                  </a:lnTo>
                  <a:lnTo>
                    <a:pt x="854" y="208"/>
                  </a:lnTo>
                  <a:lnTo>
                    <a:pt x="868" y="228"/>
                  </a:lnTo>
                  <a:lnTo>
                    <a:pt x="880" y="248"/>
                  </a:lnTo>
                  <a:lnTo>
                    <a:pt x="890" y="270"/>
                  </a:lnTo>
                  <a:lnTo>
                    <a:pt x="898" y="292"/>
                  </a:lnTo>
                  <a:lnTo>
                    <a:pt x="904" y="312"/>
                  </a:lnTo>
                  <a:lnTo>
                    <a:pt x="908" y="334"/>
                  </a:lnTo>
                  <a:lnTo>
                    <a:pt x="910" y="354"/>
                  </a:lnTo>
                  <a:lnTo>
                    <a:pt x="912" y="374"/>
                  </a:lnTo>
                  <a:lnTo>
                    <a:pt x="910" y="392"/>
                  </a:lnTo>
                  <a:lnTo>
                    <a:pt x="908" y="408"/>
                  </a:lnTo>
                  <a:lnTo>
                    <a:pt x="908" y="408"/>
                  </a:lnTo>
                  <a:lnTo>
                    <a:pt x="906" y="422"/>
                  </a:lnTo>
                  <a:lnTo>
                    <a:pt x="900" y="434"/>
                  </a:lnTo>
                  <a:lnTo>
                    <a:pt x="888" y="456"/>
                  </a:lnTo>
                  <a:lnTo>
                    <a:pt x="874" y="474"/>
                  </a:lnTo>
                  <a:lnTo>
                    <a:pt x="856" y="490"/>
                  </a:lnTo>
                  <a:lnTo>
                    <a:pt x="836" y="502"/>
                  </a:lnTo>
                  <a:lnTo>
                    <a:pt x="816" y="510"/>
                  </a:lnTo>
                  <a:lnTo>
                    <a:pt x="796" y="514"/>
                  </a:lnTo>
                  <a:lnTo>
                    <a:pt x="786" y="514"/>
                  </a:lnTo>
                  <a:lnTo>
                    <a:pt x="776" y="512"/>
                  </a:lnTo>
                  <a:lnTo>
                    <a:pt x="776" y="512"/>
                  </a:lnTo>
                  <a:lnTo>
                    <a:pt x="782" y="536"/>
                  </a:lnTo>
                  <a:lnTo>
                    <a:pt x="792" y="552"/>
                  </a:lnTo>
                  <a:lnTo>
                    <a:pt x="804" y="564"/>
                  </a:lnTo>
                  <a:lnTo>
                    <a:pt x="818" y="574"/>
                  </a:lnTo>
                  <a:lnTo>
                    <a:pt x="832" y="576"/>
                  </a:lnTo>
                  <a:lnTo>
                    <a:pt x="848" y="576"/>
                  </a:lnTo>
                  <a:lnTo>
                    <a:pt x="862" y="572"/>
                  </a:lnTo>
                  <a:lnTo>
                    <a:pt x="878" y="564"/>
                  </a:lnTo>
                  <a:lnTo>
                    <a:pt x="878" y="564"/>
                  </a:lnTo>
                  <a:lnTo>
                    <a:pt x="886" y="568"/>
                  </a:lnTo>
                  <a:lnTo>
                    <a:pt x="892" y="576"/>
                  </a:lnTo>
                  <a:lnTo>
                    <a:pt x="900" y="584"/>
                  </a:lnTo>
                  <a:lnTo>
                    <a:pt x="904" y="592"/>
                  </a:lnTo>
                  <a:lnTo>
                    <a:pt x="908" y="602"/>
                  </a:lnTo>
                  <a:lnTo>
                    <a:pt x="910" y="612"/>
                  </a:lnTo>
                  <a:lnTo>
                    <a:pt x="908" y="622"/>
                  </a:lnTo>
                  <a:lnTo>
                    <a:pt x="906" y="632"/>
                  </a:lnTo>
                  <a:lnTo>
                    <a:pt x="906" y="632"/>
                  </a:lnTo>
                  <a:lnTo>
                    <a:pt x="900" y="644"/>
                  </a:lnTo>
                  <a:lnTo>
                    <a:pt x="892" y="652"/>
                  </a:lnTo>
                  <a:lnTo>
                    <a:pt x="882" y="656"/>
                  </a:lnTo>
                  <a:lnTo>
                    <a:pt x="872" y="656"/>
                  </a:lnTo>
                  <a:lnTo>
                    <a:pt x="862" y="654"/>
                  </a:lnTo>
                  <a:lnTo>
                    <a:pt x="852" y="648"/>
                  </a:lnTo>
                  <a:lnTo>
                    <a:pt x="844" y="642"/>
                  </a:lnTo>
                  <a:lnTo>
                    <a:pt x="836" y="632"/>
                  </a:lnTo>
                  <a:lnTo>
                    <a:pt x="836" y="632"/>
                  </a:lnTo>
                  <a:lnTo>
                    <a:pt x="836" y="644"/>
                  </a:lnTo>
                  <a:lnTo>
                    <a:pt x="836" y="654"/>
                  </a:lnTo>
                  <a:lnTo>
                    <a:pt x="838" y="664"/>
                  </a:lnTo>
                  <a:lnTo>
                    <a:pt x="842" y="674"/>
                  </a:lnTo>
                  <a:lnTo>
                    <a:pt x="852" y="692"/>
                  </a:lnTo>
                  <a:lnTo>
                    <a:pt x="864" y="706"/>
                  </a:lnTo>
                  <a:lnTo>
                    <a:pt x="872" y="710"/>
                  </a:lnTo>
                  <a:lnTo>
                    <a:pt x="880" y="716"/>
                  </a:lnTo>
                  <a:lnTo>
                    <a:pt x="890" y="718"/>
                  </a:lnTo>
                  <a:lnTo>
                    <a:pt x="898" y="720"/>
                  </a:lnTo>
                  <a:lnTo>
                    <a:pt x="908" y="722"/>
                  </a:lnTo>
                  <a:lnTo>
                    <a:pt x="918" y="720"/>
                  </a:lnTo>
                  <a:lnTo>
                    <a:pt x="928" y="718"/>
                  </a:lnTo>
                  <a:lnTo>
                    <a:pt x="938" y="714"/>
                  </a:lnTo>
                  <a:lnTo>
                    <a:pt x="938" y="714"/>
                  </a:lnTo>
                  <a:lnTo>
                    <a:pt x="946" y="708"/>
                  </a:lnTo>
                  <a:lnTo>
                    <a:pt x="952" y="700"/>
                  </a:lnTo>
                  <a:lnTo>
                    <a:pt x="956" y="692"/>
                  </a:lnTo>
                  <a:lnTo>
                    <a:pt x="960" y="682"/>
                  </a:lnTo>
                  <a:lnTo>
                    <a:pt x="964" y="670"/>
                  </a:lnTo>
                  <a:lnTo>
                    <a:pt x="964" y="658"/>
                  </a:lnTo>
                  <a:lnTo>
                    <a:pt x="964" y="646"/>
                  </a:lnTo>
                  <a:lnTo>
                    <a:pt x="962" y="634"/>
                  </a:lnTo>
                  <a:lnTo>
                    <a:pt x="958" y="620"/>
                  </a:lnTo>
                  <a:lnTo>
                    <a:pt x="954" y="608"/>
                  </a:lnTo>
                  <a:lnTo>
                    <a:pt x="946" y="596"/>
                  </a:lnTo>
                  <a:lnTo>
                    <a:pt x="938" y="584"/>
                  </a:lnTo>
                  <a:lnTo>
                    <a:pt x="928" y="574"/>
                  </a:lnTo>
                  <a:lnTo>
                    <a:pt x="918" y="566"/>
                  </a:lnTo>
                  <a:lnTo>
                    <a:pt x="904" y="560"/>
                  </a:lnTo>
                  <a:lnTo>
                    <a:pt x="890" y="554"/>
                  </a:lnTo>
                  <a:lnTo>
                    <a:pt x="890" y="554"/>
                  </a:lnTo>
                  <a:lnTo>
                    <a:pt x="900" y="544"/>
                  </a:lnTo>
                  <a:lnTo>
                    <a:pt x="910" y="530"/>
                  </a:lnTo>
                  <a:lnTo>
                    <a:pt x="918" y="516"/>
                  </a:lnTo>
                  <a:lnTo>
                    <a:pt x="926" y="498"/>
                  </a:lnTo>
                  <a:lnTo>
                    <a:pt x="926" y="498"/>
                  </a:lnTo>
                  <a:lnTo>
                    <a:pt x="926" y="504"/>
                  </a:lnTo>
                  <a:lnTo>
                    <a:pt x="928" y="512"/>
                  </a:lnTo>
                  <a:lnTo>
                    <a:pt x="936" y="524"/>
                  </a:lnTo>
                  <a:lnTo>
                    <a:pt x="948" y="538"/>
                  </a:lnTo>
                  <a:lnTo>
                    <a:pt x="964" y="550"/>
                  </a:lnTo>
                  <a:lnTo>
                    <a:pt x="964" y="550"/>
                  </a:lnTo>
                  <a:lnTo>
                    <a:pt x="970" y="536"/>
                  </a:lnTo>
                  <a:lnTo>
                    <a:pt x="976" y="520"/>
                  </a:lnTo>
                  <a:lnTo>
                    <a:pt x="978" y="502"/>
                  </a:lnTo>
                  <a:lnTo>
                    <a:pt x="980" y="482"/>
                  </a:lnTo>
                  <a:lnTo>
                    <a:pt x="982" y="460"/>
                  </a:lnTo>
                  <a:lnTo>
                    <a:pt x="980" y="438"/>
                  </a:lnTo>
                  <a:lnTo>
                    <a:pt x="978" y="414"/>
                  </a:lnTo>
                  <a:lnTo>
                    <a:pt x="974" y="390"/>
                  </a:lnTo>
                  <a:lnTo>
                    <a:pt x="964" y="340"/>
                  </a:lnTo>
                  <a:lnTo>
                    <a:pt x="948" y="290"/>
                  </a:lnTo>
                  <a:lnTo>
                    <a:pt x="928" y="240"/>
                  </a:lnTo>
                  <a:lnTo>
                    <a:pt x="916" y="218"/>
                  </a:lnTo>
                  <a:lnTo>
                    <a:pt x="904" y="194"/>
                  </a:lnTo>
                  <a:lnTo>
                    <a:pt x="904" y="194"/>
                  </a:lnTo>
                  <a:lnTo>
                    <a:pt x="930" y="214"/>
                  </a:lnTo>
                  <a:lnTo>
                    <a:pt x="954" y="234"/>
                  </a:lnTo>
                  <a:lnTo>
                    <a:pt x="974" y="256"/>
                  </a:lnTo>
                  <a:lnTo>
                    <a:pt x="994" y="280"/>
                  </a:lnTo>
                  <a:lnTo>
                    <a:pt x="1012" y="304"/>
                  </a:lnTo>
                  <a:lnTo>
                    <a:pt x="1030" y="330"/>
                  </a:lnTo>
                  <a:lnTo>
                    <a:pt x="1044" y="356"/>
                  </a:lnTo>
                  <a:lnTo>
                    <a:pt x="1058" y="382"/>
                  </a:lnTo>
                  <a:lnTo>
                    <a:pt x="1068" y="410"/>
                  </a:lnTo>
                  <a:lnTo>
                    <a:pt x="1078" y="438"/>
                  </a:lnTo>
                  <a:lnTo>
                    <a:pt x="1086" y="468"/>
                  </a:lnTo>
                  <a:lnTo>
                    <a:pt x="1092" y="496"/>
                  </a:lnTo>
                  <a:lnTo>
                    <a:pt x="1098" y="526"/>
                  </a:lnTo>
                  <a:lnTo>
                    <a:pt x="1100" y="554"/>
                  </a:lnTo>
                  <a:lnTo>
                    <a:pt x="1102" y="584"/>
                  </a:lnTo>
                  <a:lnTo>
                    <a:pt x="1102" y="612"/>
                  </a:lnTo>
                  <a:lnTo>
                    <a:pt x="1102" y="612"/>
                  </a:lnTo>
                  <a:lnTo>
                    <a:pt x="1100" y="644"/>
                  </a:lnTo>
                  <a:lnTo>
                    <a:pt x="1094" y="676"/>
                  </a:lnTo>
                  <a:lnTo>
                    <a:pt x="1086" y="706"/>
                  </a:lnTo>
                  <a:lnTo>
                    <a:pt x="1074" y="736"/>
                  </a:lnTo>
                  <a:lnTo>
                    <a:pt x="1060" y="762"/>
                  </a:lnTo>
                  <a:lnTo>
                    <a:pt x="1044" y="788"/>
                  </a:lnTo>
                  <a:lnTo>
                    <a:pt x="1026" y="812"/>
                  </a:lnTo>
                  <a:lnTo>
                    <a:pt x="1006" y="832"/>
                  </a:lnTo>
                  <a:lnTo>
                    <a:pt x="988" y="852"/>
                  </a:lnTo>
                  <a:lnTo>
                    <a:pt x="966" y="868"/>
                  </a:lnTo>
                  <a:lnTo>
                    <a:pt x="946" y="882"/>
                  </a:lnTo>
                  <a:lnTo>
                    <a:pt x="926" y="892"/>
                  </a:lnTo>
                  <a:lnTo>
                    <a:pt x="906" y="900"/>
                  </a:lnTo>
                  <a:lnTo>
                    <a:pt x="886" y="904"/>
                  </a:lnTo>
                  <a:lnTo>
                    <a:pt x="868" y="904"/>
                  </a:lnTo>
                  <a:lnTo>
                    <a:pt x="852" y="902"/>
                  </a:lnTo>
                  <a:lnTo>
                    <a:pt x="852" y="902"/>
                  </a:lnTo>
                  <a:lnTo>
                    <a:pt x="856" y="910"/>
                  </a:lnTo>
                  <a:lnTo>
                    <a:pt x="860" y="918"/>
                  </a:lnTo>
                  <a:lnTo>
                    <a:pt x="866" y="924"/>
                  </a:lnTo>
                  <a:lnTo>
                    <a:pt x="874" y="930"/>
                  </a:lnTo>
                  <a:lnTo>
                    <a:pt x="882" y="934"/>
                  </a:lnTo>
                  <a:lnTo>
                    <a:pt x="892" y="936"/>
                  </a:lnTo>
                  <a:lnTo>
                    <a:pt x="914" y="940"/>
                  </a:lnTo>
                  <a:lnTo>
                    <a:pt x="940" y="940"/>
                  </a:lnTo>
                  <a:lnTo>
                    <a:pt x="970" y="936"/>
                  </a:lnTo>
                  <a:lnTo>
                    <a:pt x="1000" y="928"/>
                  </a:lnTo>
                  <a:lnTo>
                    <a:pt x="1030" y="916"/>
                  </a:lnTo>
                  <a:lnTo>
                    <a:pt x="1030" y="916"/>
                  </a:lnTo>
                  <a:lnTo>
                    <a:pt x="1024" y="922"/>
                  </a:lnTo>
                  <a:lnTo>
                    <a:pt x="1020" y="930"/>
                  </a:lnTo>
                  <a:lnTo>
                    <a:pt x="1016" y="938"/>
                  </a:lnTo>
                  <a:lnTo>
                    <a:pt x="1016" y="948"/>
                  </a:lnTo>
                  <a:lnTo>
                    <a:pt x="1014" y="970"/>
                  </a:lnTo>
                  <a:lnTo>
                    <a:pt x="1018" y="992"/>
                  </a:lnTo>
                  <a:lnTo>
                    <a:pt x="1026" y="1016"/>
                  </a:lnTo>
                  <a:lnTo>
                    <a:pt x="1034" y="1036"/>
                  </a:lnTo>
                  <a:lnTo>
                    <a:pt x="1044" y="1054"/>
                  </a:lnTo>
                  <a:lnTo>
                    <a:pt x="1054" y="1066"/>
                  </a:lnTo>
                  <a:lnTo>
                    <a:pt x="1054" y="1066"/>
                  </a:lnTo>
                  <a:lnTo>
                    <a:pt x="1044" y="1084"/>
                  </a:lnTo>
                  <a:lnTo>
                    <a:pt x="1034" y="1098"/>
                  </a:lnTo>
                  <a:lnTo>
                    <a:pt x="1020" y="1112"/>
                  </a:lnTo>
                  <a:lnTo>
                    <a:pt x="1006" y="1126"/>
                  </a:lnTo>
                  <a:lnTo>
                    <a:pt x="990" y="1138"/>
                  </a:lnTo>
                  <a:lnTo>
                    <a:pt x="972" y="1148"/>
                  </a:lnTo>
                  <a:lnTo>
                    <a:pt x="954" y="1158"/>
                  </a:lnTo>
                  <a:lnTo>
                    <a:pt x="936" y="1166"/>
                  </a:lnTo>
                  <a:lnTo>
                    <a:pt x="916" y="1170"/>
                  </a:lnTo>
                  <a:lnTo>
                    <a:pt x="896" y="1174"/>
                  </a:lnTo>
                  <a:lnTo>
                    <a:pt x="876" y="1178"/>
                  </a:lnTo>
                  <a:lnTo>
                    <a:pt x="858" y="1178"/>
                  </a:lnTo>
                  <a:lnTo>
                    <a:pt x="838" y="1176"/>
                  </a:lnTo>
                  <a:lnTo>
                    <a:pt x="820" y="1172"/>
                  </a:lnTo>
                  <a:lnTo>
                    <a:pt x="802" y="1166"/>
                  </a:lnTo>
                  <a:lnTo>
                    <a:pt x="786" y="1156"/>
                  </a:lnTo>
                  <a:lnTo>
                    <a:pt x="786" y="1156"/>
                  </a:lnTo>
                  <a:lnTo>
                    <a:pt x="788" y="1164"/>
                  </a:lnTo>
                  <a:lnTo>
                    <a:pt x="790" y="1172"/>
                  </a:lnTo>
                  <a:lnTo>
                    <a:pt x="796" y="1184"/>
                  </a:lnTo>
                  <a:lnTo>
                    <a:pt x="808" y="1194"/>
                  </a:lnTo>
                  <a:lnTo>
                    <a:pt x="822" y="1204"/>
                  </a:lnTo>
                  <a:lnTo>
                    <a:pt x="838" y="1210"/>
                  </a:lnTo>
                  <a:lnTo>
                    <a:pt x="854" y="1214"/>
                  </a:lnTo>
                  <a:lnTo>
                    <a:pt x="872" y="1218"/>
                  </a:lnTo>
                  <a:lnTo>
                    <a:pt x="890" y="1218"/>
                  </a:lnTo>
                  <a:lnTo>
                    <a:pt x="890" y="1218"/>
                  </a:lnTo>
                  <a:lnTo>
                    <a:pt x="852" y="1234"/>
                  </a:lnTo>
                  <a:lnTo>
                    <a:pt x="816" y="1246"/>
                  </a:lnTo>
                  <a:lnTo>
                    <a:pt x="784" y="1254"/>
                  </a:lnTo>
                  <a:lnTo>
                    <a:pt x="754" y="1260"/>
                  </a:lnTo>
                  <a:lnTo>
                    <a:pt x="726" y="1260"/>
                  </a:lnTo>
                  <a:lnTo>
                    <a:pt x="700" y="1260"/>
                  </a:lnTo>
                  <a:lnTo>
                    <a:pt x="678" y="1256"/>
                  </a:lnTo>
                  <a:lnTo>
                    <a:pt x="656" y="1248"/>
                  </a:lnTo>
                  <a:lnTo>
                    <a:pt x="638" y="1240"/>
                  </a:lnTo>
                  <a:lnTo>
                    <a:pt x="624" y="1230"/>
                  </a:lnTo>
                  <a:lnTo>
                    <a:pt x="610" y="1218"/>
                  </a:lnTo>
                  <a:lnTo>
                    <a:pt x="600" y="1204"/>
                  </a:lnTo>
                  <a:lnTo>
                    <a:pt x="592" y="1190"/>
                  </a:lnTo>
                  <a:lnTo>
                    <a:pt x="586" y="1174"/>
                  </a:lnTo>
                  <a:lnTo>
                    <a:pt x="582" y="1158"/>
                  </a:lnTo>
                  <a:lnTo>
                    <a:pt x="582" y="1142"/>
                  </a:lnTo>
                  <a:lnTo>
                    <a:pt x="582" y="1142"/>
                  </a:lnTo>
                  <a:lnTo>
                    <a:pt x="584" y="1122"/>
                  </a:lnTo>
                  <a:lnTo>
                    <a:pt x="586" y="1104"/>
                  </a:lnTo>
                  <a:lnTo>
                    <a:pt x="592" y="1090"/>
                  </a:lnTo>
                  <a:lnTo>
                    <a:pt x="600" y="1074"/>
                  </a:lnTo>
                  <a:lnTo>
                    <a:pt x="600" y="1074"/>
                  </a:lnTo>
                  <a:lnTo>
                    <a:pt x="612" y="1056"/>
                  </a:lnTo>
                  <a:lnTo>
                    <a:pt x="626" y="1040"/>
                  </a:lnTo>
                  <a:lnTo>
                    <a:pt x="640" y="1028"/>
                  </a:lnTo>
                  <a:lnTo>
                    <a:pt x="656" y="1018"/>
                  </a:lnTo>
                  <a:lnTo>
                    <a:pt x="672" y="1014"/>
                  </a:lnTo>
                  <a:lnTo>
                    <a:pt x="680" y="1012"/>
                  </a:lnTo>
                  <a:lnTo>
                    <a:pt x="688" y="1012"/>
                  </a:lnTo>
                  <a:lnTo>
                    <a:pt x="694" y="1014"/>
                  </a:lnTo>
                  <a:lnTo>
                    <a:pt x="702" y="1018"/>
                  </a:lnTo>
                  <a:lnTo>
                    <a:pt x="710" y="1022"/>
                  </a:lnTo>
                  <a:lnTo>
                    <a:pt x="716" y="1028"/>
                  </a:lnTo>
                  <a:lnTo>
                    <a:pt x="716" y="1028"/>
                  </a:lnTo>
                  <a:lnTo>
                    <a:pt x="722" y="1034"/>
                  </a:lnTo>
                  <a:lnTo>
                    <a:pt x="728" y="1040"/>
                  </a:lnTo>
                  <a:lnTo>
                    <a:pt x="730" y="1048"/>
                  </a:lnTo>
                  <a:lnTo>
                    <a:pt x="732" y="1054"/>
                  </a:lnTo>
                  <a:lnTo>
                    <a:pt x="734" y="1062"/>
                  </a:lnTo>
                  <a:lnTo>
                    <a:pt x="732" y="1068"/>
                  </a:lnTo>
                  <a:lnTo>
                    <a:pt x="728" y="1080"/>
                  </a:lnTo>
                  <a:lnTo>
                    <a:pt x="720" y="1092"/>
                  </a:lnTo>
                  <a:lnTo>
                    <a:pt x="708" y="1102"/>
                  </a:lnTo>
                  <a:lnTo>
                    <a:pt x="696" y="1110"/>
                  </a:lnTo>
                  <a:lnTo>
                    <a:pt x="680" y="1114"/>
                  </a:lnTo>
                  <a:lnTo>
                    <a:pt x="680" y="1114"/>
                  </a:lnTo>
                  <a:lnTo>
                    <a:pt x="694" y="1120"/>
                  </a:lnTo>
                  <a:lnTo>
                    <a:pt x="708" y="1124"/>
                  </a:lnTo>
                  <a:lnTo>
                    <a:pt x="722" y="1126"/>
                  </a:lnTo>
                  <a:lnTo>
                    <a:pt x="734" y="1128"/>
                  </a:lnTo>
                  <a:lnTo>
                    <a:pt x="748" y="1128"/>
                  </a:lnTo>
                  <a:lnTo>
                    <a:pt x="760" y="1124"/>
                  </a:lnTo>
                  <a:lnTo>
                    <a:pt x="774" y="1122"/>
                  </a:lnTo>
                  <a:lnTo>
                    <a:pt x="784" y="1116"/>
                  </a:lnTo>
                  <a:lnTo>
                    <a:pt x="796" y="1110"/>
                  </a:lnTo>
                  <a:lnTo>
                    <a:pt x="804" y="1102"/>
                  </a:lnTo>
                  <a:lnTo>
                    <a:pt x="814" y="1092"/>
                  </a:lnTo>
                  <a:lnTo>
                    <a:pt x="820" y="1082"/>
                  </a:lnTo>
                  <a:lnTo>
                    <a:pt x="826" y="1072"/>
                  </a:lnTo>
                  <a:lnTo>
                    <a:pt x="830" y="1058"/>
                  </a:lnTo>
                  <a:lnTo>
                    <a:pt x="832" y="1046"/>
                  </a:lnTo>
                  <a:lnTo>
                    <a:pt x="832" y="1030"/>
                  </a:lnTo>
                  <a:lnTo>
                    <a:pt x="832" y="1030"/>
                  </a:lnTo>
                  <a:lnTo>
                    <a:pt x="830" y="1018"/>
                  </a:lnTo>
                  <a:lnTo>
                    <a:pt x="824" y="1004"/>
                  </a:lnTo>
                  <a:lnTo>
                    <a:pt x="818" y="992"/>
                  </a:lnTo>
                  <a:lnTo>
                    <a:pt x="808" y="978"/>
                  </a:lnTo>
                  <a:lnTo>
                    <a:pt x="798" y="968"/>
                  </a:lnTo>
                  <a:lnTo>
                    <a:pt x="784" y="958"/>
                  </a:lnTo>
                  <a:lnTo>
                    <a:pt x="770" y="950"/>
                  </a:lnTo>
                  <a:lnTo>
                    <a:pt x="756" y="944"/>
                  </a:lnTo>
                  <a:lnTo>
                    <a:pt x="740" y="938"/>
                  </a:lnTo>
                  <a:lnTo>
                    <a:pt x="722" y="936"/>
                  </a:lnTo>
                  <a:lnTo>
                    <a:pt x="704" y="938"/>
                  </a:lnTo>
                  <a:lnTo>
                    <a:pt x="686" y="942"/>
                  </a:lnTo>
                  <a:lnTo>
                    <a:pt x="670" y="948"/>
                  </a:lnTo>
                  <a:lnTo>
                    <a:pt x="652" y="958"/>
                  </a:lnTo>
                  <a:lnTo>
                    <a:pt x="634" y="972"/>
                  </a:lnTo>
                  <a:lnTo>
                    <a:pt x="618" y="990"/>
                  </a:lnTo>
                  <a:lnTo>
                    <a:pt x="618" y="990"/>
                  </a:lnTo>
                  <a:lnTo>
                    <a:pt x="610" y="1002"/>
                  </a:lnTo>
                  <a:lnTo>
                    <a:pt x="610" y="1002"/>
                  </a:lnTo>
                  <a:lnTo>
                    <a:pt x="598" y="1018"/>
                  </a:lnTo>
                  <a:lnTo>
                    <a:pt x="590" y="1036"/>
                  </a:lnTo>
                  <a:lnTo>
                    <a:pt x="582" y="1056"/>
                  </a:lnTo>
                  <a:lnTo>
                    <a:pt x="574" y="1074"/>
                  </a:lnTo>
                  <a:lnTo>
                    <a:pt x="566" y="1110"/>
                  </a:lnTo>
                  <a:lnTo>
                    <a:pt x="560" y="1142"/>
                  </a:lnTo>
                  <a:lnTo>
                    <a:pt x="560" y="1142"/>
                  </a:lnTo>
                  <a:lnTo>
                    <a:pt x="562" y="1176"/>
                  </a:lnTo>
                  <a:lnTo>
                    <a:pt x="566" y="1192"/>
                  </a:lnTo>
                  <a:lnTo>
                    <a:pt x="570" y="1208"/>
                  </a:lnTo>
                  <a:lnTo>
                    <a:pt x="574" y="1222"/>
                  </a:lnTo>
                  <a:lnTo>
                    <a:pt x="580" y="1238"/>
                  </a:lnTo>
                  <a:lnTo>
                    <a:pt x="588" y="1252"/>
                  </a:lnTo>
                  <a:lnTo>
                    <a:pt x="596" y="1264"/>
                  </a:lnTo>
                  <a:lnTo>
                    <a:pt x="606" y="1276"/>
                  </a:lnTo>
                  <a:lnTo>
                    <a:pt x="616" y="1286"/>
                  </a:lnTo>
                  <a:lnTo>
                    <a:pt x="628" y="1294"/>
                  </a:lnTo>
                  <a:lnTo>
                    <a:pt x="640" y="1300"/>
                  </a:lnTo>
                  <a:lnTo>
                    <a:pt x="654" y="1306"/>
                  </a:lnTo>
                  <a:lnTo>
                    <a:pt x="670" y="1310"/>
                  </a:lnTo>
                  <a:lnTo>
                    <a:pt x="686" y="1312"/>
                  </a:lnTo>
                  <a:lnTo>
                    <a:pt x="704" y="1310"/>
                  </a:lnTo>
                  <a:lnTo>
                    <a:pt x="704" y="1310"/>
                  </a:lnTo>
                  <a:lnTo>
                    <a:pt x="680" y="1320"/>
                  </a:lnTo>
                  <a:lnTo>
                    <a:pt x="656" y="1326"/>
                  </a:lnTo>
                  <a:lnTo>
                    <a:pt x="656" y="1326"/>
                  </a:lnTo>
                  <a:lnTo>
                    <a:pt x="628" y="1330"/>
                  </a:lnTo>
                  <a:lnTo>
                    <a:pt x="604" y="1330"/>
                  </a:lnTo>
                  <a:lnTo>
                    <a:pt x="580" y="1328"/>
                  </a:lnTo>
                  <a:lnTo>
                    <a:pt x="558" y="1324"/>
                  </a:lnTo>
                  <a:lnTo>
                    <a:pt x="538" y="1316"/>
                  </a:lnTo>
                  <a:lnTo>
                    <a:pt x="518" y="1308"/>
                  </a:lnTo>
                  <a:lnTo>
                    <a:pt x="502" y="1296"/>
                  </a:lnTo>
                  <a:lnTo>
                    <a:pt x="488" y="1282"/>
                  </a:lnTo>
                  <a:lnTo>
                    <a:pt x="474" y="1268"/>
                  </a:lnTo>
                  <a:lnTo>
                    <a:pt x="464" y="1252"/>
                  </a:lnTo>
                  <a:lnTo>
                    <a:pt x="456" y="1236"/>
                  </a:lnTo>
                  <a:lnTo>
                    <a:pt x="452" y="1220"/>
                  </a:lnTo>
                  <a:lnTo>
                    <a:pt x="448" y="1202"/>
                  </a:lnTo>
                  <a:lnTo>
                    <a:pt x="448" y="1184"/>
                  </a:lnTo>
                  <a:lnTo>
                    <a:pt x="452" y="1166"/>
                  </a:lnTo>
                  <a:lnTo>
                    <a:pt x="458" y="1148"/>
                  </a:lnTo>
                  <a:lnTo>
                    <a:pt x="458" y="1148"/>
                  </a:lnTo>
                  <a:lnTo>
                    <a:pt x="440" y="1158"/>
                  </a:lnTo>
                  <a:lnTo>
                    <a:pt x="426" y="1166"/>
                  </a:lnTo>
                  <a:lnTo>
                    <a:pt x="412" y="1178"/>
                  </a:lnTo>
                  <a:lnTo>
                    <a:pt x="400" y="1188"/>
                  </a:lnTo>
                  <a:lnTo>
                    <a:pt x="392" y="1202"/>
                  </a:lnTo>
                  <a:lnTo>
                    <a:pt x="386" y="1216"/>
                  </a:lnTo>
                  <a:lnTo>
                    <a:pt x="382" y="1232"/>
                  </a:lnTo>
                  <a:lnTo>
                    <a:pt x="380" y="1250"/>
                  </a:lnTo>
                  <a:lnTo>
                    <a:pt x="380" y="1250"/>
                  </a:lnTo>
                  <a:lnTo>
                    <a:pt x="368" y="1232"/>
                  </a:lnTo>
                  <a:lnTo>
                    <a:pt x="362" y="1222"/>
                  </a:lnTo>
                  <a:lnTo>
                    <a:pt x="360" y="1210"/>
                  </a:lnTo>
                  <a:lnTo>
                    <a:pt x="358" y="1200"/>
                  </a:lnTo>
                  <a:lnTo>
                    <a:pt x="356" y="1188"/>
                  </a:lnTo>
                  <a:lnTo>
                    <a:pt x="356" y="1176"/>
                  </a:lnTo>
                  <a:lnTo>
                    <a:pt x="358" y="1164"/>
                  </a:lnTo>
                  <a:lnTo>
                    <a:pt x="360" y="1152"/>
                  </a:lnTo>
                  <a:lnTo>
                    <a:pt x="364" y="1138"/>
                  </a:lnTo>
                  <a:lnTo>
                    <a:pt x="376" y="1112"/>
                  </a:lnTo>
                  <a:lnTo>
                    <a:pt x="394" y="1084"/>
                  </a:lnTo>
                  <a:lnTo>
                    <a:pt x="418" y="1054"/>
                  </a:lnTo>
                  <a:lnTo>
                    <a:pt x="418" y="1054"/>
                  </a:lnTo>
                  <a:lnTo>
                    <a:pt x="392" y="1062"/>
                  </a:lnTo>
                  <a:lnTo>
                    <a:pt x="370" y="1072"/>
                  </a:lnTo>
                  <a:lnTo>
                    <a:pt x="350" y="1084"/>
                  </a:lnTo>
                  <a:lnTo>
                    <a:pt x="332" y="1098"/>
                  </a:lnTo>
                  <a:lnTo>
                    <a:pt x="318" y="1112"/>
                  </a:lnTo>
                  <a:lnTo>
                    <a:pt x="306" y="1128"/>
                  </a:lnTo>
                  <a:lnTo>
                    <a:pt x="296" y="1144"/>
                  </a:lnTo>
                  <a:lnTo>
                    <a:pt x="290" y="1160"/>
                  </a:lnTo>
                  <a:lnTo>
                    <a:pt x="284" y="1176"/>
                  </a:lnTo>
                  <a:lnTo>
                    <a:pt x="280" y="1192"/>
                  </a:lnTo>
                  <a:lnTo>
                    <a:pt x="278" y="1206"/>
                  </a:lnTo>
                  <a:lnTo>
                    <a:pt x="276" y="1222"/>
                  </a:lnTo>
                  <a:lnTo>
                    <a:pt x="278" y="1246"/>
                  </a:lnTo>
                  <a:lnTo>
                    <a:pt x="284" y="1266"/>
                  </a:lnTo>
                  <a:lnTo>
                    <a:pt x="284" y="1266"/>
                  </a:lnTo>
                  <a:lnTo>
                    <a:pt x="278" y="1260"/>
                  </a:lnTo>
                  <a:lnTo>
                    <a:pt x="272" y="1254"/>
                  </a:lnTo>
                  <a:lnTo>
                    <a:pt x="264" y="1242"/>
                  </a:lnTo>
                  <a:lnTo>
                    <a:pt x="250" y="1226"/>
                  </a:lnTo>
                  <a:lnTo>
                    <a:pt x="242" y="1218"/>
                  </a:lnTo>
                  <a:lnTo>
                    <a:pt x="230" y="1212"/>
                  </a:lnTo>
                  <a:lnTo>
                    <a:pt x="230" y="1212"/>
                  </a:lnTo>
                  <a:lnTo>
                    <a:pt x="230" y="1230"/>
                  </a:lnTo>
                  <a:lnTo>
                    <a:pt x="232" y="1246"/>
                  </a:lnTo>
                  <a:lnTo>
                    <a:pt x="234" y="1264"/>
                  </a:lnTo>
                  <a:lnTo>
                    <a:pt x="240" y="1280"/>
                  </a:lnTo>
                  <a:lnTo>
                    <a:pt x="246" y="1296"/>
                  </a:lnTo>
                  <a:lnTo>
                    <a:pt x="252" y="1312"/>
                  </a:lnTo>
                  <a:lnTo>
                    <a:pt x="260" y="1326"/>
                  </a:lnTo>
                  <a:lnTo>
                    <a:pt x="272" y="1340"/>
                  </a:lnTo>
                  <a:lnTo>
                    <a:pt x="282" y="1354"/>
                  </a:lnTo>
                  <a:lnTo>
                    <a:pt x="296" y="1366"/>
                  </a:lnTo>
                  <a:lnTo>
                    <a:pt x="310" y="1378"/>
                  </a:lnTo>
                  <a:lnTo>
                    <a:pt x="326" y="1390"/>
                  </a:lnTo>
                  <a:lnTo>
                    <a:pt x="342" y="1400"/>
                  </a:lnTo>
                  <a:lnTo>
                    <a:pt x="360" y="1410"/>
                  </a:lnTo>
                  <a:lnTo>
                    <a:pt x="380" y="1418"/>
                  </a:lnTo>
                  <a:lnTo>
                    <a:pt x="402" y="1426"/>
                  </a:lnTo>
                  <a:lnTo>
                    <a:pt x="402" y="1426"/>
                  </a:lnTo>
                  <a:lnTo>
                    <a:pt x="428" y="1430"/>
                  </a:lnTo>
                  <a:lnTo>
                    <a:pt x="458" y="1432"/>
                  </a:lnTo>
                  <a:lnTo>
                    <a:pt x="486" y="1432"/>
                  </a:lnTo>
                  <a:lnTo>
                    <a:pt x="510" y="1430"/>
                  </a:lnTo>
                  <a:lnTo>
                    <a:pt x="510" y="1430"/>
                  </a:lnTo>
                  <a:lnTo>
                    <a:pt x="532" y="1430"/>
                  </a:lnTo>
                  <a:lnTo>
                    <a:pt x="556" y="1428"/>
                  </a:lnTo>
                  <a:lnTo>
                    <a:pt x="582" y="1422"/>
                  </a:lnTo>
                  <a:lnTo>
                    <a:pt x="610" y="1414"/>
                  </a:lnTo>
                  <a:lnTo>
                    <a:pt x="666" y="1396"/>
                  </a:lnTo>
                  <a:lnTo>
                    <a:pt x="726" y="1372"/>
                  </a:lnTo>
                  <a:lnTo>
                    <a:pt x="726" y="1372"/>
                  </a:lnTo>
                  <a:lnTo>
                    <a:pt x="788" y="1346"/>
                  </a:lnTo>
                  <a:lnTo>
                    <a:pt x="846" y="1322"/>
                  </a:lnTo>
                  <a:lnTo>
                    <a:pt x="846" y="1322"/>
                  </a:lnTo>
                  <a:lnTo>
                    <a:pt x="830" y="1334"/>
                  </a:lnTo>
                  <a:lnTo>
                    <a:pt x="814" y="1346"/>
                  </a:lnTo>
                  <a:lnTo>
                    <a:pt x="778" y="1378"/>
                  </a:lnTo>
                  <a:lnTo>
                    <a:pt x="744" y="1416"/>
                  </a:lnTo>
                  <a:lnTo>
                    <a:pt x="708" y="1456"/>
                  </a:lnTo>
                  <a:lnTo>
                    <a:pt x="676" y="1496"/>
                  </a:lnTo>
                  <a:lnTo>
                    <a:pt x="646" y="1536"/>
                  </a:lnTo>
                  <a:lnTo>
                    <a:pt x="602" y="1600"/>
                  </a:lnTo>
                  <a:lnTo>
                    <a:pt x="602" y="1600"/>
                  </a:lnTo>
                  <a:lnTo>
                    <a:pt x="596" y="1610"/>
                  </a:lnTo>
                  <a:lnTo>
                    <a:pt x="588" y="1626"/>
                  </a:lnTo>
                  <a:lnTo>
                    <a:pt x="574" y="1662"/>
                  </a:lnTo>
                  <a:lnTo>
                    <a:pt x="564" y="1700"/>
                  </a:lnTo>
                  <a:lnTo>
                    <a:pt x="556" y="1728"/>
                  </a:lnTo>
                  <a:lnTo>
                    <a:pt x="556" y="1728"/>
                  </a:lnTo>
                  <a:lnTo>
                    <a:pt x="544" y="1812"/>
                  </a:lnTo>
                  <a:lnTo>
                    <a:pt x="538" y="1888"/>
                  </a:lnTo>
                  <a:lnTo>
                    <a:pt x="536" y="1958"/>
                  </a:lnTo>
                  <a:lnTo>
                    <a:pt x="540" y="2022"/>
                  </a:lnTo>
                  <a:lnTo>
                    <a:pt x="542" y="2052"/>
                  </a:lnTo>
                  <a:lnTo>
                    <a:pt x="546" y="2080"/>
                  </a:lnTo>
                  <a:lnTo>
                    <a:pt x="552" y="2106"/>
                  </a:lnTo>
                  <a:lnTo>
                    <a:pt x="558" y="2132"/>
                  </a:lnTo>
                  <a:lnTo>
                    <a:pt x="564" y="2154"/>
                  </a:lnTo>
                  <a:lnTo>
                    <a:pt x="572" y="2178"/>
                  </a:lnTo>
                  <a:lnTo>
                    <a:pt x="582" y="2198"/>
                  </a:lnTo>
                  <a:lnTo>
                    <a:pt x="592" y="2218"/>
                  </a:lnTo>
                  <a:lnTo>
                    <a:pt x="602" y="2236"/>
                  </a:lnTo>
                  <a:lnTo>
                    <a:pt x="614" y="2252"/>
                  </a:lnTo>
                  <a:lnTo>
                    <a:pt x="626" y="2268"/>
                  </a:lnTo>
                  <a:lnTo>
                    <a:pt x="638" y="2282"/>
                  </a:lnTo>
                  <a:lnTo>
                    <a:pt x="652" y="2296"/>
                  </a:lnTo>
                  <a:lnTo>
                    <a:pt x="666" y="2308"/>
                  </a:lnTo>
                  <a:lnTo>
                    <a:pt x="680" y="2318"/>
                  </a:lnTo>
                  <a:lnTo>
                    <a:pt x="696" y="2328"/>
                  </a:lnTo>
                  <a:lnTo>
                    <a:pt x="712" y="2336"/>
                  </a:lnTo>
                  <a:lnTo>
                    <a:pt x="728" y="2344"/>
                  </a:lnTo>
                  <a:lnTo>
                    <a:pt x="762" y="2354"/>
                  </a:lnTo>
                  <a:lnTo>
                    <a:pt x="798" y="2362"/>
                  </a:lnTo>
                  <a:lnTo>
                    <a:pt x="836" y="2366"/>
                  </a:lnTo>
                  <a:lnTo>
                    <a:pt x="836" y="2366"/>
                  </a:lnTo>
                  <a:lnTo>
                    <a:pt x="818" y="2376"/>
                  </a:lnTo>
                  <a:lnTo>
                    <a:pt x="804" y="2386"/>
                  </a:lnTo>
                  <a:lnTo>
                    <a:pt x="792" y="2398"/>
                  </a:lnTo>
                  <a:lnTo>
                    <a:pt x="782" y="2410"/>
                  </a:lnTo>
                  <a:lnTo>
                    <a:pt x="774" y="2422"/>
                  </a:lnTo>
                  <a:lnTo>
                    <a:pt x="768" y="2434"/>
                  </a:lnTo>
                  <a:lnTo>
                    <a:pt x="764" y="2448"/>
                  </a:lnTo>
                  <a:lnTo>
                    <a:pt x="762" y="2460"/>
                  </a:lnTo>
                  <a:lnTo>
                    <a:pt x="760" y="2474"/>
                  </a:lnTo>
                  <a:lnTo>
                    <a:pt x="760" y="2486"/>
                  </a:lnTo>
                  <a:lnTo>
                    <a:pt x="762" y="2498"/>
                  </a:lnTo>
                  <a:lnTo>
                    <a:pt x="766" y="2510"/>
                  </a:lnTo>
                  <a:lnTo>
                    <a:pt x="774" y="2534"/>
                  </a:lnTo>
                  <a:lnTo>
                    <a:pt x="788" y="2554"/>
                  </a:lnTo>
                  <a:lnTo>
                    <a:pt x="802" y="2572"/>
                  </a:lnTo>
                  <a:lnTo>
                    <a:pt x="820" y="2586"/>
                  </a:lnTo>
                  <a:lnTo>
                    <a:pt x="830" y="2590"/>
                  </a:lnTo>
                  <a:lnTo>
                    <a:pt x="840" y="2594"/>
                  </a:lnTo>
                  <a:lnTo>
                    <a:pt x="850" y="2596"/>
                  </a:lnTo>
                  <a:lnTo>
                    <a:pt x="860" y="2596"/>
                  </a:lnTo>
                  <a:lnTo>
                    <a:pt x="870" y="2596"/>
                  </a:lnTo>
                  <a:lnTo>
                    <a:pt x="880" y="2594"/>
                  </a:lnTo>
                  <a:lnTo>
                    <a:pt x="890" y="2590"/>
                  </a:lnTo>
                  <a:lnTo>
                    <a:pt x="900" y="2584"/>
                  </a:lnTo>
                  <a:lnTo>
                    <a:pt x="908" y="2574"/>
                  </a:lnTo>
                  <a:lnTo>
                    <a:pt x="916" y="2564"/>
                  </a:lnTo>
                  <a:lnTo>
                    <a:pt x="924" y="2552"/>
                  </a:lnTo>
                  <a:lnTo>
                    <a:pt x="932" y="2538"/>
                  </a:lnTo>
                  <a:lnTo>
                    <a:pt x="932" y="2538"/>
                  </a:lnTo>
                  <a:lnTo>
                    <a:pt x="922" y="2550"/>
                  </a:lnTo>
                  <a:lnTo>
                    <a:pt x="910" y="2558"/>
                  </a:lnTo>
                  <a:lnTo>
                    <a:pt x="900" y="2562"/>
                  </a:lnTo>
                  <a:lnTo>
                    <a:pt x="892" y="2564"/>
                  </a:lnTo>
                  <a:lnTo>
                    <a:pt x="882" y="2564"/>
                  </a:lnTo>
                  <a:lnTo>
                    <a:pt x="874" y="2560"/>
                  </a:lnTo>
                  <a:lnTo>
                    <a:pt x="866" y="2556"/>
                  </a:lnTo>
                  <a:lnTo>
                    <a:pt x="858" y="2548"/>
                  </a:lnTo>
                  <a:lnTo>
                    <a:pt x="852" y="2540"/>
                  </a:lnTo>
                  <a:lnTo>
                    <a:pt x="848" y="2530"/>
                  </a:lnTo>
                  <a:lnTo>
                    <a:pt x="844" y="2518"/>
                  </a:lnTo>
                  <a:lnTo>
                    <a:pt x="844" y="2506"/>
                  </a:lnTo>
                  <a:lnTo>
                    <a:pt x="844" y="2492"/>
                  </a:lnTo>
                  <a:lnTo>
                    <a:pt x="846" y="2480"/>
                  </a:lnTo>
                  <a:lnTo>
                    <a:pt x="850" y="2466"/>
                  </a:lnTo>
                  <a:lnTo>
                    <a:pt x="856" y="2454"/>
                  </a:lnTo>
                  <a:lnTo>
                    <a:pt x="856" y="2454"/>
                  </a:lnTo>
                  <a:lnTo>
                    <a:pt x="862" y="2464"/>
                  </a:lnTo>
                  <a:lnTo>
                    <a:pt x="868" y="2474"/>
                  </a:lnTo>
                  <a:lnTo>
                    <a:pt x="876" y="2482"/>
                  </a:lnTo>
                  <a:lnTo>
                    <a:pt x="882" y="2488"/>
                  </a:lnTo>
                  <a:lnTo>
                    <a:pt x="890" y="2492"/>
                  </a:lnTo>
                  <a:lnTo>
                    <a:pt x="900" y="2494"/>
                  </a:lnTo>
                  <a:lnTo>
                    <a:pt x="908" y="2494"/>
                  </a:lnTo>
                  <a:lnTo>
                    <a:pt x="918" y="2492"/>
                  </a:lnTo>
                  <a:lnTo>
                    <a:pt x="918" y="2492"/>
                  </a:lnTo>
                  <a:lnTo>
                    <a:pt x="910" y="2480"/>
                  </a:lnTo>
                  <a:lnTo>
                    <a:pt x="906" y="2468"/>
                  </a:lnTo>
                  <a:lnTo>
                    <a:pt x="902" y="2458"/>
                  </a:lnTo>
                  <a:lnTo>
                    <a:pt x="902" y="2448"/>
                  </a:lnTo>
                  <a:lnTo>
                    <a:pt x="904" y="2440"/>
                  </a:lnTo>
                  <a:lnTo>
                    <a:pt x="906" y="2432"/>
                  </a:lnTo>
                  <a:lnTo>
                    <a:pt x="910" y="2426"/>
                  </a:lnTo>
                  <a:lnTo>
                    <a:pt x="916" y="2418"/>
                  </a:lnTo>
                  <a:lnTo>
                    <a:pt x="928" y="2410"/>
                  </a:lnTo>
                  <a:lnTo>
                    <a:pt x="944" y="2402"/>
                  </a:lnTo>
                  <a:lnTo>
                    <a:pt x="958" y="2400"/>
                  </a:lnTo>
                  <a:lnTo>
                    <a:pt x="970" y="2400"/>
                  </a:lnTo>
                  <a:lnTo>
                    <a:pt x="970" y="2400"/>
                  </a:lnTo>
                  <a:lnTo>
                    <a:pt x="988" y="2406"/>
                  </a:lnTo>
                  <a:lnTo>
                    <a:pt x="1002" y="2414"/>
                  </a:lnTo>
                  <a:lnTo>
                    <a:pt x="1014" y="2426"/>
                  </a:lnTo>
                  <a:lnTo>
                    <a:pt x="1020" y="2438"/>
                  </a:lnTo>
                  <a:lnTo>
                    <a:pt x="1022" y="2450"/>
                  </a:lnTo>
                  <a:lnTo>
                    <a:pt x="1020" y="2462"/>
                  </a:lnTo>
                  <a:lnTo>
                    <a:pt x="1014" y="2472"/>
                  </a:lnTo>
                  <a:lnTo>
                    <a:pt x="1006" y="2480"/>
                  </a:lnTo>
                  <a:lnTo>
                    <a:pt x="1006" y="2480"/>
                  </a:lnTo>
                  <a:lnTo>
                    <a:pt x="1034" y="2480"/>
                  </a:lnTo>
                  <a:lnTo>
                    <a:pt x="1058" y="2486"/>
                  </a:lnTo>
                  <a:lnTo>
                    <a:pt x="1076" y="2494"/>
                  </a:lnTo>
                  <a:lnTo>
                    <a:pt x="1090" y="2504"/>
                  </a:lnTo>
                  <a:lnTo>
                    <a:pt x="1102" y="2516"/>
                  </a:lnTo>
                  <a:lnTo>
                    <a:pt x="1110" y="2530"/>
                  </a:lnTo>
                  <a:lnTo>
                    <a:pt x="1114" y="2546"/>
                  </a:lnTo>
                  <a:lnTo>
                    <a:pt x="1116" y="2562"/>
                  </a:lnTo>
                  <a:lnTo>
                    <a:pt x="1114" y="2578"/>
                  </a:lnTo>
                  <a:lnTo>
                    <a:pt x="1110" y="2596"/>
                  </a:lnTo>
                  <a:lnTo>
                    <a:pt x="1104" y="2610"/>
                  </a:lnTo>
                  <a:lnTo>
                    <a:pt x="1096" y="2624"/>
                  </a:lnTo>
                  <a:lnTo>
                    <a:pt x="1086" y="2638"/>
                  </a:lnTo>
                  <a:lnTo>
                    <a:pt x="1076" y="2648"/>
                  </a:lnTo>
                  <a:lnTo>
                    <a:pt x="1064" y="2656"/>
                  </a:lnTo>
                  <a:lnTo>
                    <a:pt x="1050" y="2660"/>
                  </a:lnTo>
                  <a:lnTo>
                    <a:pt x="1050" y="2660"/>
                  </a:lnTo>
                  <a:lnTo>
                    <a:pt x="1054" y="2666"/>
                  </a:lnTo>
                  <a:lnTo>
                    <a:pt x="1058" y="2672"/>
                  </a:lnTo>
                  <a:lnTo>
                    <a:pt x="1064" y="2678"/>
                  </a:lnTo>
                  <a:lnTo>
                    <a:pt x="1074" y="2684"/>
                  </a:lnTo>
                  <a:lnTo>
                    <a:pt x="1084" y="2688"/>
                  </a:lnTo>
                  <a:lnTo>
                    <a:pt x="1100" y="2688"/>
                  </a:lnTo>
                  <a:lnTo>
                    <a:pt x="1118" y="2684"/>
                  </a:lnTo>
                  <a:lnTo>
                    <a:pt x="1118" y="2684"/>
                  </a:lnTo>
                  <a:lnTo>
                    <a:pt x="1114" y="2698"/>
                  </a:lnTo>
                  <a:lnTo>
                    <a:pt x="1106" y="2714"/>
                  </a:lnTo>
                  <a:lnTo>
                    <a:pt x="1096" y="2728"/>
                  </a:lnTo>
                  <a:lnTo>
                    <a:pt x="1084" y="2742"/>
                  </a:lnTo>
                  <a:lnTo>
                    <a:pt x="1070" y="2752"/>
                  </a:lnTo>
                  <a:lnTo>
                    <a:pt x="1054" y="2760"/>
                  </a:lnTo>
                  <a:lnTo>
                    <a:pt x="1038" y="2764"/>
                  </a:lnTo>
                  <a:lnTo>
                    <a:pt x="1020" y="2764"/>
                  </a:lnTo>
                  <a:lnTo>
                    <a:pt x="1020" y="2764"/>
                  </a:lnTo>
                  <a:lnTo>
                    <a:pt x="1004" y="2760"/>
                  </a:lnTo>
                  <a:lnTo>
                    <a:pt x="996" y="2756"/>
                  </a:lnTo>
                  <a:lnTo>
                    <a:pt x="990" y="2752"/>
                  </a:lnTo>
                  <a:lnTo>
                    <a:pt x="984" y="2746"/>
                  </a:lnTo>
                  <a:lnTo>
                    <a:pt x="980" y="2740"/>
                  </a:lnTo>
                  <a:lnTo>
                    <a:pt x="976" y="2734"/>
                  </a:lnTo>
                  <a:lnTo>
                    <a:pt x="974" y="2726"/>
                  </a:lnTo>
                  <a:lnTo>
                    <a:pt x="974" y="2718"/>
                  </a:lnTo>
                  <a:lnTo>
                    <a:pt x="974" y="2708"/>
                  </a:lnTo>
                  <a:lnTo>
                    <a:pt x="978" y="2700"/>
                  </a:lnTo>
                  <a:lnTo>
                    <a:pt x="982" y="2690"/>
                  </a:lnTo>
                  <a:lnTo>
                    <a:pt x="988" y="2680"/>
                  </a:lnTo>
                  <a:lnTo>
                    <a:pt x="998" y="2670"/>
                  </a:lnTo>
                  <a:lnTo>
                    <a:pt x="1010" y="2660"/>
                  </a:lnTo>
                  <a:lnTo>
                    <a:pt x="1022" y="2650"/>
                  </a:lnTo>
                  <a:lnTo>
                    <a:pt x="1022" y="2650"/>
                  </a:lnTo>
                  <a:lnTo>
                    <a:pt x="994" y="2642"/>
                  </a:lnTo>
                  <a:lnTo>
                    <a:pt x="970" y="2640"/>
                  </a:lnTo>
                  <a:lnTo>
                    <a:pt x="948" y="2638"/>
                  </a:lnTo>
                  <a:lnTo>
                    <a:pt x="930" y="2642"/>
                  </a:lnTo>
                  <a:lnTo>
                    <a:pt x="914" y="2646"/>
                  </a:lnTo>
                  <a:lnTo>
                    <a:pt x="902" y="2654"/>
                  </a:lnTo>
                  <a:lnTo>
                    <a:pt x="894" y="2664"/>
                  </a:lnTo>
                  <a:lnTo>
                    <a:pt x="886" y="2676"/>
                  </a:lnTo>
                  <a:lnTo>
                    <a:pt x="882" y="2688"/>
                  </a:lnTo>
                  <a:lnTo>
                    <a:pt x="880" y="2700"/>
                  </a:lnTo>
                  <a:lnTo>
                    <a:pt x="880" y="2714"/>
                  </a:lnTo>
                  <a:lnTo>
                    <a:pt x="884" y="2728"/>
                  </a:lnTo>
                  <a:lnTo>
                    <a:pt x="888" y="2742"/>
                  </a:lnTo>
                  <a:lnTo>
                    <a:pt x="894" y="2756"/>
                  </a:lnTo>
                  <a:lnTo>
                    <a:pt x="904" y="2768"/>
                  </a:lnTo>
                  <a:lnTo>
                    <a:pt x="914" y="2780"/>
                  </a:lnTo>
                  <a:lnTo>
                    <a:pt x="914" y="2780"/>
                  </a:lnTo>
                  <a:lnTo>
                    <a:pt x="922" y="2786"/>
                  </a:lnTo>
                  <a:lnTo>
                    <a:pt x="932" y="2792"/>
                  </a:lnTo>
                  <a:lnTo>
                    <a:pt x="942" y="2798"/>
                  </a:lnTo>
                  <a:lnTo>
                    <a:pt x="954" y="2802"/>
                  </a:lnTo>
                  <a:lnTo>
                    <a:pt x="978" y="2808"/>
                  </a:lnTo>
                  <a:lnTo>
                    <a:pt x="1006" y="2810"/>
                  </a:lnTo>
                  <a:lnTo>
                    <a:pt x="1020" y="2808"/>
                  </a:lnTo>
                  <a:lnTo>
                    <a:pt x="1034" y="2806"/>
                  </a:lnTo>
                  <a:lnTo>
                    <a:pt x="1048" y="2802"/>
                  </a:lnTo>
                  <a:lnTo>
                    <a:pt x="1062" y="2798"/>
                  </a:lnTo>
                  <a:lnTo>
                    <a:pt x="1076" y="2790"/>
                  </a:lnTo>
                  <a:lnTo>
                    <a:pt x="1090" y="2784"/>
                  </a:lnTo>
                  <a:lnTo>
                    <a:pt x="1102" y="2774"/>
                  </a:lnTo>
                  <a:lnTo>
                    <a:pt x="1114" y="2764"/>
                  </a:lnTo>
                  <a:lnTo>
                    <a:pt x="1114" y="2764"/>
                  </a:lnTo>
                  <a:lnTo>
                    <a:pt x="1114" y="2776"/>
                  </a:lnTo>
                  <a:lnTo>
                    <a:pt x="1110" y="2786"/>
                  </a:lnTo>
                  <a:lnTo>
                    <a:pt x="1104" y="2794"/>
                  </a:lnTo>
                  <a:lnTo>
                    <a:pt x="1094" y="2800"/>
                  </a:lnTo>
                  <a:lnTo>
                    <a:pt x="1066" y="2816"/>
                  </a:lnTo>
                  <a:lnTo>
                    <a:pt x="1046" y="2828"/>
                  </a:lnTo>
                  <a:lnTo>
                    <a:pt x="1024" y="2842"/>
                  </a:lnTo>
                  <a:lnTo>
                    <a:pt x="1024" y="2842"/>
                  </a:lnTo>
                  <a:lnTo>
                    <a:pt x="1010" y="2856"/>
                  </a:lnTo>
                  <a:lnTo>
                    <a:pt x="1000" y="2870"/>
                  </a:lnTo>
                  <a:lnTo>
                    <a:pt x="992" y="2886"/>
                  </a:lnTo>
                  <a:lnTo>
                    <a:pt x="988" y="2902"/>
                  </a:lnTo>
                  <a:lnTo>
                    <a:pt x="988" y="2920"/>
                  </a:lnTo>
                  <a:lnTo>
                    <a:pt x="990" y="2936"/>
                  </a:lnTo>
                  <a:lnTo>
                    <a:pt x="994" y="2952"/>
                  </a:lnTo>
                  <a:lnTo>
                    <a:pt x="1002" y="2970"/>
                  </a:lnTo>
                  <a:lnTo>
                    <a:pt x="1010" y="2984"/>
                  </a:lnTo>
                  <a:lnTo>
                    <a:pt x="1020" y="2998"/>
                  </a:lnTo>
                  <a:lnTo>
                    <a:pt x="1032" y="3012"/>
                  </a:lnTo>
                  <a:lnTo>
                    <a:pt x="1044" y="3022"/>
                  </a:lnTo>
                  <a:lnTo>
                    <a:pt x="1058" y="3030"/>
                  </a:lnTo>
                  <a:lnTo>
                    <a:pt x="1072" y="3036"/>
                  </a:lnTo>
                  <a:lnTo>
                    <a:pt x="1086" y="3040"/>
                  </a:lnTo>
                  <a:lnTo>
                    <a:pt x="1100" y="3040"/>
                  </a:lnTo>
                  <a:lnTo>
                    <a:pt x="1100" y="3040"/>
                  </a:lnTo>
                  <a:lnTo>
                    <a:pt x="1114" y="3036"/>
                  </a:lnTo>
                  <a:lnTo>
                    <a:pt x="1126" y="3032"/>
                  </a:lnTo>
                  <a:lnTo>
                    <a:pt x="1138" y="3024"/>
                  </a:lnTo>
                  <a:lnTo>
                    <a:pt x="1148" y="3018"/>
                  </a:lnTo>
                  <a:lnTo>
                    <a:pt x="1156" y="3008"/>
                  </a:lnTo>
                  <a:lnTo>
                    <a:pt x="1164" y="2998"/>
                  </a:lnTo>
                  <a:lnTo>
                    <a:pt x="1168" y="2986"/>
                  </a:lnTo>
                  <a:lnTo>
                    <a:pt x="1172" y="2976"/>
                  </a:lnTo>
                  <a:lnTo>
                    <a:pt x="1176" y="2962"/>
                  </a:lnTo>
                  <a:lnTo>
                    <a:pt x="1176" y="2950"/>
                  </a:lnTo>
                  <a:lnTo>
                    <a:pt x="1176" y="2936"/>
                  </a:lnTo>
                  <a:lnTo>
                    <a:pt x="1174" y="2924"/>
                  </a:lnTo>
                  <a:lnTo>
                    <a:pt x="1170" y="2910"/>
                  </a:lnTo>
                  <a:lnTo>
                    <a:pt x="1164" y="2898"/>
                  </a:lnTo>
                  <a:lnTo>
                    <a:pt x="1158" y="2886"/>
                  </a:lnTo>
                  <a:lnTo>
                    <a:pt x="1150" y="2874"/>
                  </a:lnTo>
                  <a:lnTo>
                    <a:pt x="1150" y="2874"/>
                  </a:lnTo>
                  <a:lnTo>
                    <a:pt x="1148" y="2890"/>
                  </a:lnTo>
                  <a:lnTo>
                    <a:pt x="1144" y="2904"/>
                  </a:lnTo>
                  <a:lnTo>
                    <a:pt x="1136" y="2916"/>
                  </a:lnTo>
                  <a:lnTo>
                    <a:pt x="1126" y="2928"/>
                  </a:lnTo>
                  <a:lnTo>
                    <a:pt x="1114" y="2934"/>
                  </a:lnTo>
                  <a:lnTo>
                    <a:pt x="1108" y="2936"/>
                  </a:lnTo>
                  <a:lnTo>
                    <a:pt x="1102" y="2936"/>
                  </a:lnTo>
                  <a:lnTo>
                    <a:pt x="1094" y="2936"/>
                  </a:lnTo>
                  <a:lnTo>
                    <a:pt x="1088" y="2934"/>
                  </a:lnTo>
                  <a:lnTo>
                    <a:pt x="1080" y="2932"/>
                  </a:lnTo>
                  <a:lnTo>
                    <a:pt x="1072" y="2928"/>
                  </a:lnTo>
                  <a:lnTo>
                    <a:pt x="1072" y="2928"/>
                  </a:lnTo>
                  <a:lnTo>
                    <a:pt x="1064" y="2922"/>
                  </a:lnTo>
                  <a:lnTo>
                    <a:pt x="1060" y="2916"/>
                  </a:lnTo>
                  <a:lnTo>
                    <a:pt x="1056" y="2908"/>
                  </a:lnTo>
                  <a:lnTo>
                    <a:pt x="1054" y="2902"/>
                  </a:lnTo>
                  <a:lnTo>
                    <a:pt x="1052" y="2894"/>
                  </a:lnTo>
                  <a:lnTo>
                    <a:pt x="1052" y="2886"/>
                  </a:lnTo>
                  <a:lnTo>
                    <a:pt x="1058" y="2872"/>
                  </a:lnTo>
                  <a:lnTo>
                    <a:pt x="1066" y="2858"/>
                  </a:lnTo>
                  <a:lnTo>
                    <a:pt x="1078" y="2846"/>
                  </a:lnTo>
                  <a:lnTo>
                    <a:pt x="1092" y="2838"/>
                  </a:lnTo>
                  <a:lnTo>
                    <a:pt x="1110" y="2832"/>
                  </a:lnTo>
                  <a:lnTo>
                    <a:pt x="1110" y="2832"/>
                  </a:lnTo>
                  <a:lnTo>
                    <a:pt x="1122" y="2830"/>
                  </a:lnTo>
                  <a:lnTo>
                    <a:pt x="1134" y="2826"/>
                  </a:lnTo>
                  <a:lnTo>
                    <a:pt x="1148" y="2820"/>
                  </a:lnTo>
                  <a:lnTo>
                    <a:pt x="1158" y="2812"/>
                  </a:lnTo>
                  <a:lnTo>
                    <a:pt x="1166" y="2802"/>
                  </a:lnTo>
                  <a:lnTo>
                    <a:pt x="1168" y="2796"/>
                  </a:lnTo>
                  <a:lnTo>
                    <a:pt x="1170" y="2790"/>
                  </a:lnTo>
                  <a:lnTo>
                    <a:pt x="1168" y="2782"/>
                  </a:lnTo>
                  <a:lnTo>
                    <a:pt x="1166" y="2776"/>
                  </a:lnTo>
                  <a:lnTo>
                    <a:pt x="1162" y="2768"/>
                  </a:lnTo>
                  <a:lnTo>
                    <a:pt x="1154" y="2758"/>
                  </a:lnTo>
                  <a:lnTo>
                    <a:pt x="1154" y="2758"/>
                  </a:lnTo>
                  <a:lnTo>
                    <a:pt x="1164" y="2734"/>
                  </a:lnTo>
                  <a:lnTo>
                    <a:pt x="1172" y="2706"/>
                  </a:lnTo>
                  <a:lnTo>
                    <a:pt x="1178" y="2678"/>
                  </a:lnTo>
                  <a:lnTo>
                    <a:pt x="1180" y="2650"/>
                  </a:lnTo>
                  <a:lnTo>
                    <a:pt x="1180" y="2620"/>
                  </a:lnTo>
                  <a:lnTo>
                    <a:pt x="1176" y="2588"/>
                  </a:lnTo>
                  <a:lnTo>
                    <a:pt x="1170" y="2558"/>
                  </a:lnTo>
                  <a:lnTo>
                    <a:pt x="1158" y="2528"/>
                  </a:lnTo>
                  <a:lnTo>
                    <a:pt x="1146" y="2500"/>
                  </a:lnTo>
                  <a:lnTo>
                    <a:pt x="1128" y="2472"/>
                  </a:lnTo>
                  <a:lnTo>
                    <a:pt x="1106" y="2446"/>
                  </a:lnTo>
                  <a:lnTo>
                    <a:pt x="1082" y="2420"/>
                  </a:lnTo>
                  <a:lnTo>
                    <a:pt x="1052" y="2398"/>
                  </a:lnTo>
                  <a:lnTo>
                    <a:pt x="1020" y="2378"/>
                  </a:lnTo>
                  <a:lnTo>
                    <a:pt x="982" y="2362"/>
                  </a:lnTo>
                  <a:lnTo>
                    <a:pt x="940" y="2348"/>
                  </a:lnTo>
                  <a:lnTo>
                    <a:pt x="940" y="2348"/>
                  </a:lnTo>
                  <a:lnTo>
                    <a:pt x="976" y="2338"/>
                  </a:lnTo>
                  <a:lnTo>
                    <a:pt x="1008" y="2324"/>
                  </a:lnTo>
                  <a:lnTo>
                    <a:pt x="1036" y="2306"/>
                  </a:lnTo>
                  <a:lnTo>
                    <a:pt x="1062" y="2286"/>
                  </a:lnTo>
                  <a:lnTo>
                    <a:pt x="1084" y="2264"/>
                  </a:lnTo>
                  <a:lnTo>
                    <a:pt x="1104" y="2240"/>
                  </a:lnTo>
                  <a:lnTo>
                    <a:pt x="1120" y="2214"/>
                  </a:lnTo>
                  <a:lnTo>
                    <a:pt x="1134" y="2186"/>
                  </a:lnTo>
                  <a:lnTo>
                    <a:pt x="1144" y="2158"/>
                  </a:lnTo>
                  <a:lnTo>
                    <a:pt x="1152" y="2128"/>
                  </a:lnTo>
                  <a:lnTo>
                    <a:pt x="1156" y="2100"/>
                  </a:lnTo>
                  <a:lnTo>
                    <a:pt x="1158" y="2072"/>
                  </a:lnTo>
                  <a:lnTo>
                    <a:pt x="1158" y="2044"/>
                  </a:lnTo>
                  <a:lnTo>
                    <a:pt x="1156" y="2018"/>
                  </a:lnTo>
                  <a:lnTo>
                    <a:pt x="1150" y="1992"/>
                  </a:lnTo>
                  <a:lnTo>
                    <a:pt x="1142" y="1968"/>
                  </a:lnTo>
                  <a:lnTo>
                    <a:pt x="1142" y="1968"/>
                  </a:lnTo>
                  <a:lnTo>
                    <a:pt x="1134" y="1952"/>
                  </a:lnTo>
                  <a:lnTo>
                    <a:pt x="1126" y="1938"/>
                  </a:lnTo>
                  <a:lnTo>
                    <a:pt x="1116" y="1924"/>
                  </a:lnTo>
                  <a:lnTo>
                    <a:pt x="1106" y="1912"/>
                  </a:lnTo>
                  <a:lnTo>
                    <a:pt x="1094" y="1900"/>
                  </a:lnTo>
                  <a:lnTo>
                    <a:pt x="1080" y="1890"/>
                  </a:lnTo>
                  <a:lnTo>
                    <a:pt x="1068" y="1882"/>
                  </a:lnTo>
                  <a:lnTo>
                    <a:pt x="1054" y="1874"/>
                  </a:lnTo>
                  <a:lnTo>
                    <a:pt x="1040" y="1868"/>
                  </a:lnTo>
                  <a:lnTo>
                    <a:pt x="1026" y="1864"/>
                  </a:lnTo>
                  <a:lnTo>
                    <a:pt x="1010" y="1860"/>
                  </a:lnTo>
                  <a:lnTo>
                    <a:pt x="996" y="1858"/>
                  </a:lnTo>
                  <a:lnTo>
                    <a:pt x="982" y="1858"/>
                  </a:lnTo>
                  <a:lnTo>
                    <a:pt x="968" y="1860"/>
                  </a:lnTo>
                  <a:lnTo>
                    <a:pt x="956" y="1862"/>
                  </a:lnTo>
                  <a:lnTo>
                    <a:pt x="942" y="1866"/>
                  </a:lnTo>
                  <a:lnTo>
                    <a:pt x="942" y="1866"/>
                  </a:lnTo>
                  <a:lnTo>
                    <a:pt x="930" y="1872"/>
                  </a:lnTo>
                  <a:lnTo>
                    <a:pt x="918" y="1878"/>
                  </a:lnTo>
                  <a:lnTo>
                    <a:pt x="908" y="1886"/>
                  </a:lnTo>
                  <a:lnTo>
                    <a:pt x="900" y="1896"/>
                  </a:lnTo>
                  <a:lnTo>
                    <a:pt x="892" y="1906"/>
                  </a:lnTo>
                  <a:lnTo>
                    <a:pt x="886" y="1916"/>
                  </a:lnTo>
                  <a:lnTo>
                    <a:pt x="880" y="1928"/>
                  </a:lnTo>
                  <a:lnTo>
                    <a:pt x="876" y="1942"/>
                  </a:lnTo>
                  <a:lnTo>
                    <a:pt x="872" y="1954"/>
                  </a:lnTo>
                  <a:lnTo>
                    <a:pt x="872" y="1966"/>
                  </a:lnTo>
                  <a:lnTo>
                    <a:pt x="870" y="1980"/>
                  </a:lnTo>
                  <a:lnTo>
                    <a:pt x="870" y="1994"/>
                  </a:lnTo>
                  <a:lnTo>
                    <a:pt x="872" y="2006"/>
                  </a:lnTo>
                  <a:lnTo>
                    <a:pt x="876" y="2020"/>
                  </a:lnTo>
                  <a:lnTo>
                    <a:pt x="880" y="2032"/>
                  </a:lnTo>
                  <a:lnTo>
                    <a:pt x="884" y="2044"/>
                  </a:lnTo>
                  <a:lnTo>
                    <a:pt x="884" y="2044"/>
                  </a:lnTo>
                  <a:lnTo>
                    <a:pt x="894" y="2058"/>
                  </a:lnTo>
                  <a:lnTo>
                    <a:pt x="904" y="2068"/>
                  </a:lnTo>
                  <a:lnTo>
                    <a:pt x="914" y="2076"/>
                  </a:lnTo>
                  <a:lnTo>
                    <a:pt x="926" y="2082"/>
                  </a:lnTo>
                  <a:lnTo>
                    <a:pt x="938" y="2086"/>
                  </a:lnTo>
                  <a:lnTo>
                    <a:pt x="950" y="2088"/>
                  </a:lnTo>
                  <a:lnTo>
                    <a:pt x="962" y="2086"/>
                  </a:lnTo>
                  <a:lnTo>
                    <a:pt x="974" y="2084"/>
                  </a:lnTo>
                  <a:lnTo>
                    <a:pt x="984" y="2080"/>
                  </a:lnTo>
                  <a:lnTo>
                    <a:pt x="994" y="2074"/>
                  </a:lnTo>
                  <a:lnTo>
                    <a:pt x="1000" y="2066"/>
                  </a:lnTo>
                  <a:lnTo>
                    <a:pt x="1006" y="2056"/>
                  </a:lnTo>
                  <a:lnTo>
                    <a:pt x="1010" y="2046"/>
                  </a:lnTo>
                  <a:lnTo>
                    <a:pt x="1010" y="2032"/>
                  </a:lnTo>
                  <a:lnTo>
                    <a:pt x="1008" y="2018"/>
                  </a:lnTo>
                  <a:lnTo>
                    <a:pt x="1002" y="2004"/>
                  </a:lnTo>
                  <a:lnTo>
                    <a:pt x="1002" y="2004"/>
                  </a:lnTo>
                  <a:lnTo>
                    <a:pt x="1022" y="1996"/>
                  </a:lnTo>
                  <a:lnTo>
                    <a:pt x="1040" y="1994"/>
                  </a:lnTo>
                  <a:lnTo>
                    <a:pt x="1058" y="1998"/>
                  </a:lnTo>
                  <a:lnTo>
                    <a:pt x="1072" y="2004"/>
                  </a:lnTo>
                  <a:lnTo>
                    <a:pt x="1084" y="2014"/>
                  </a:lnTo>
                  <a:lnTo>
                    <a:pt x="1094" y="2028"/>
                  </a:lnTo>
                  <a:lnTo>
                    <a:pt x="1102" y="2044"/>
                  </a:lnTo>
                  <a:lnTo>
                    <a:pt x="1108" y="2062"/>
                  </a:lnTo>
                  <a:lnTo>
                    <a:pt x="1112" y="2082"/>
                  </a:lnTo>
                  <a:lnTo>
                    <a:pt x="1112" y="2102"/>
                  </a:lnTo>
                  <a:lnTo>
                    <a:pt x="1112" y="2124"/>
                  </a:lnTo>
                  <a:lnTo>
                    <a:pt x="1108" y="2146"/>
                  </a:lnTo>
                  <a:lnTo>
                    <a:pt x="1102" y="2168"/>
                  </a:lnTo>
                  <a:lnTo>
                    <a:pt x="1096" y="2188"/>
                  </a:lnTo>
                  <a:lnTo>
                    <a:pt x="1086" y="2206"/>
                  </a:lnTo>
                  <a:lnTo>
                    <a:pt x="1074" y="2224"/>
                  </a:lnTo>
                  <a:lnTo>
                    <a:pt x="1074" y="2224"/>
                  </a:lnTo>
                  <a:lnTo>
                    <a:pt x="1074" y="2206"/>
                  </a:lnTo>
                  <a:lnTo>
                    <a:pt x="1070" y="2188"/>
                  </a:lnTo>
                  <a:lnTo>
                    <a:pt x="1062" y="2170"/>
                  </a:lnTo>
                  <a:lnTo>
                    <a:pt x="1052" y="2152"/>
                  </a:lnTo>
                  <a:lnTo>
                    <a:pt x="1044" y="2146"/>
                  </a:lnTo>
                  <a:lnTo>
                    <a:pt x="1036" y="2140"/>
                  </a:lnTo>
                  <a:lnTo>
                    <a:pt x="1028" y="2134"/>
                  </a:lnTo>
                  <a:lnTo>
                    <a:pt x="1018" y="2130"/>
                  </a:lnTo>
                  <a:lnTo>
                    <a:pt x="1008" y="2128"/>
                  </a:lnTo>
                  <a:lnTo>
                    <a:pt x="996" y="2126"/>
                  </a:lnTo>
                  <a:lnTo>
                    <a:pt x="982" y="2128"/>
                  </a:lnTo>
                  <a:lnTo>
                    <a:pt x="968" y="2132"/>
                  </a:lnTo>
                  <a:lnTo>
                    <a:pt x="968" y="2132"/>
                  </a:lnTo>
                  <a:lnTo>
                    <a:pt x="972" y="2144"/>
                  </a:lnTo>
                  <a:lnTo>
                    <a:pt x="974" y="2158"/>
                  </a:lnTo>
                  <a:lnTo>
                    <a:pt x="974" y="2170"/>
                  </a:lnTo>
                  <a:lnTo>
                    <a:pt x="972" y="2182"/>
                  </a:lnTo>
                  <a:lnTo>
                    <a:pt x="968" y="2194"/>
                  </a:lnTo>
                  <a:lnTo>
                    <a:pt x="964" y="2206"/>
                  </a:lnTo>
                  <a:lnTo>
                    <a:pt x="960" y="2216"/>
                  </a:lnTo>
                  <a:lnTo>
                    <a:pt x="954" y="2228"/>
                  </a:lnTo>
                  <a:lnTo>
                    <a:pt x="938" y="2248"/>
                  </a:lnTo>
                  <a:lnTo>
                    <a:pt x="918" y="2264"/>
                  </a:lnTo>
                  <a:lnTo>
                    <a:pt x="896" y="2280"/>
                  </a:lnTo>
                  <a:lnTo>
                    <a:pt x="872" y="2292"/>
                  </a:lnTo>
                  <a:lnTo>
                    <a:pt x="848" y="2300"/>
                  </a:lnTo>
                  <a:lnTo>
                    <a:pt x="820" y="2306"/>
                  </a:lnTo>
                  <a:lnTo>
                    <a:pt x="794" y="2308"/>
                  </a:lnTo>
                  <a:lnTo>
                    <a:pt x="768" y="2306"/>
                  </a:lnTo>
                  <a:lnTo>
                    <a:pt x="742" y="2300"/>
                  </a:lnTo>
                  <a:lnTo>
                    <a:pt x="730" y="2296"/>
                  </a:lnTo>
                  <a:lnTo>
                    <a:pt x="720" y="2290"/>
                  </a:lnTo>
                  <a:lnTo>
                    <a:pt x="708" y="2284"/>
                  </a:lnTo>
                  <a:lnTo>
                    <a:pt x="698" y="2276"/>
                  </a:lnTo>
                  <a:lnTo>
                    <a:pt x="688" y="2266"/>
                  </a:lnTo>
                  <a:lnTo>
                    <a:pt x="680" y="2256"/>
                  </a:lnTo>
                  <a:lnTo>
                    <a:pt x="680" y="2256"/>
                  </a:lnTo>
                  <a:lnTo>
                    <a:pt x="690" y="2258"/>
                  </a:lnTo>
                  <a:lnTo>
                    <a:pt x="702" y="2260"/>
                  </a:lnTo>
                  <a:lnTo>
                    <a:pt x="714" y="2258"/>
                  </a:lnTo>
                  <a:lnTo>
                    <a:pt x="726" y="2256"/>
                  </a:lnTo>
                  <a:lnTo>
                    <a:pt x="738" y="2252"/>
                  </a:lnTo>
                  <a:lnTo>
                    <a:pt x="750" y="2246"/>
                  </a:lnTo>
                  <a:lnTo>
                    <a:pt x="774" y="2232"/>
                  </a:lnTo>
                  <a:lnTo>
                    <a:pt x="796" y="2214"/>
                  </a:lnTo>
                  <a:lnTo>
                    <a:pt x="814" y="2196"/>
                  </a:lnTo>
                  <a:lnTo>
                    <a:pt x="828" y="2178"/>
                  </a:lnTo>
                  <a:lnTo>
                    <a:pt x="836" y="2162"/>
                  </a:lnTo>
                  <a:lnTo>
                    <a:pt x="836" y="2162"/>
                  </a:lnTo>
                  <a:lnTo>
                    <a:pt x="812" y="2178"/>
                  </a:lnTo>
                  <a:lnTo>
                    <a:pt x="786" y="2190"/>
                  </a:lnTo>
                  <a:lnTo>
                    <a:pt x="760" y="2198"/>
                  </a:lnTo>
                  <a:lnTo>
                    <a:pt x="734" y="2202"/>
                  </a:lnTo>
                  <a:lnTo>
                    <a:pt x="710" y="2200"/>
                  </a:lnTo>
                  <a:lnTo>
                    <a:pt x="698" y="2198"/>
                  </a:lnTo>
                  <a:lnTo>
                    <a:pt x="688" y="2194"/>
                  </a:lnTo>
                  <a:lnTo>
                    <a:pt x="676" y="2190"/>
                  </a:lnTo>
                  <a:lnTo>
                    <a:pt x="666" y="2184"/>
                  </a:lnTo>
                  <a:lnTo>
                    <a:pt x="654" y="2178"/>
                  </a:lnTo>
                  <a:lnTo>
                    <a:pt x="644" y="2168"/>
                  </a:lnTo>
                  <a:lnTo>
                    <a:pt x="636" y="2158"/>
                  </a:lnTo>
                  <a:lnTo>
                    <a:pt x="626" y="2148"/>
                  </a:lnTo>
                  <a:lnTo>
                    <a:pt x="618" y="2136"/>
                  </a:lnTo>
                  <a:lnTo>
                    <a:pt x="610" y="2122"/>
                  </a:lnTo>
                  <a:lnTo>
                    <a:pt x="596" y="2088"/>
                  </a:lnTo>
                  <a:lnTo>
                    <a:pt x="586" y="2050"/>
                  </a:lnTo>
                  <a:lnTo>
                    <a:pt x="578" y="2006"/>
                  </a:lnTo>
                  <a:lnTo>
                    <a:pt x="574" y="1956"/>
                  </a:lnTo>
                  <a:lnTo>
                    <a:pt x="572" y="1900"/>
                  </a:lnTo>
                  <a:lnTo>
                    <a:pt x="574" y="1836"/>
                  </a:lnTo>
                  <a:lnTo>
                    <a:pt x="574" y="1836"/>
                  </a:lnTo>
                  <a:lnTo>
                    <a:pt x="578" y="1864"/>
                  </a:lnTo>
                  <a:lnTo>
                    <a:pt x="582" y="1890"/>
                  </a:lnTo>
                  <a:lnTo>
                    <a:pt x="588" y="1916"/>
                  </a:lnTo>
                  <a:lnTo>
                    <a:pt x="596" y="1940"/>
                  </a:lnTo>
                  <a:lnTo>
                    <a:pt x="604" y="1964"/>
                  </a:lnTo>
                  <a:lnTo>
                    <a:pt x="614" y="1988"/>
                  </a:lnTo>
                  <a:lnTo>
                    <a:pt x="624" y="2010"/>
                  </a:lnTo>
                  <a:lnTo>
                    <a:pt x="636" y="2030"/>
                  </a:lnTo>
                  <a:lnTo>
                    <a:pt x="650" y="2050"/>
                  </a:lnTo>
                  <a:lnTo>
                    <a:pt x="664" y="2068"/>
                  </a:lnTo>
                  <a:lnTo>
                    <a:pt x="680" y="2086"/>
                  </a:lnTo>
                  <a:lnTo>
                    <a:pt x="698" y="2102"/>
                  </a:lnTo>
                  <a:lnTo>
                    <a:pt x="716" y="2116"/>
                  </a:lnTo>
                  <a:lnTo>
                    <a:pt x="736" y="2128"/>
                  </a:lnTo>
                  <a:lnTo>
                    <a:pt x="756" y="2140"/>
                  </a:lnTo>
                  <a:lnTo>
                    <a:pt x="778" y="2150"/>
                  </a:lnTo>
                  <a:lnTo>
                    <a:pt x="778" y="2150"/>
                  </a:lnTo>
                  <a:lnTo>
                    <a:pt x="712" y="2060"/>
                  </a:lnTo>
                  <a:lnTo>
                    <a:pt x="712" y="2060"/>
                  </a:lnTo>
                  <a:lnTo>
                    <a:pt x="722" y="2062"/>
                  </a:lnTo>
                  <a:lnTo>
                    <a:pt x="732" y="2062"/>
                  </a:lnTo>
                  <a:lnTo>
                    <a:pt x="742" y="2062"/>
                  </a:lnTo>
                  <a:lnTo>
                    <a:pt x="752" y="2060"/>
                  </a:lnTo>
                  <a:lnTo>
                    <a:pt x="764" y="2056"/>
                  </a:lnTo>
                  <a:lnTo>
                    <a:pt x="774" y="2052"/>
                  </a:lnTo>
                  <a:lnTo>
                    <a:pt x="784" y="2048"/>
                  </a:lnTo>
                  <a:lnTo>
                    <a:pt x="792" y="2040"/>
                  </a:lnTo>
                  <a:lnTo>
                    <a:pt x="800" y="2034"/>
                  </a:lnTo>
                  <a:lnTo>
                    <a:pt x="808" y="2024"/>
                  </a:lnTo>
                  <a:lnTo>
                    <a:pt x="814" y="2016"/>
                  </a:lnTo>
                  <a:lnTo>
                    <a:pt x="818" y="2006"/>
                  </a:lnTo>
                  <a:lnTo>
                    <a:pt x="822" y="1994"/>
                  </a:lnTo>
                  <a:lnTo>
                    <a:pt x="822" y="1984"/>
                  </a:lnTo>
                  <a:lnTo>
                    <a:pt x="820" y="1972"/>
                  </a:lnTo>
                  <a:lnTo>
                    <a:pt x="818" y="1960"/>
                  </a:lnTo>
                  <a:lnTo>
                    <a:pt x="818" y="1960"/>
                  </a:lnTo>
                  <a:lnTo>
                    <a:pt x="808" y="1972"/>
                  </a:lnTo>
                  <a:lnTo>
                    <a:pt x="794" y="1984"/>
                  </a:lnTo>
                  <a:lnTo>
                    <a:pt x="778" y="1994"/>
                  </a:lnTo>
                  <a:lnTo>
                    <a:pt x="760" y="2002"/>
                  </a:lnTo>
                  <a:lnTo>
                    <a:pt x="752" y="2004"/>
                  </a:lnTo>
                  <a:lnTo>
                    <a:pt x="742" y="2004"/>
                  </a:lnTo>
                  <a:lnTo>
                    <a:pt x="732" y="2002"/>
                  </a:lnTo>
                  <a:lnTo>
                    <a:pt x="724" y="2000"/>
                  </a:lnTo>
                  <a:lnTo>
                    <a:pt x="714" y="1994"/>
                  </a:lnTo>
                  <a:lnTo>
                    <a:pt x="706" y="1986"/>
                  </a:lnTo>
                  <a:lnTo>
                    <a:pt x="698" y="1978"/>
                  </a:lnTo>
                  <a:lnTo>
                    <a:pt x="692" y="1966"/>
                  </a:lnTo>
                  <a:lnTo>
                    <a:pt x="692" y="1966"/>
                  </a:lnTo>
                  <a:lnTo>
                    <a:pt x="702" y="1968"/>
                  </a:lnTo>
                  <a:lnTo>
                    <a:pt x="712" y="1968"/>
                  </a:lnTo>
                  <a:lnTo>
                    <a:pt x="720" y="1966"/>
                  </a:lnTo>
                  <a:lnTo>
                    <a:pt x="728" y="1960"/>
                  </a:lnTo>
                  <a:lnTo>
                    <a:pt x="736" y="1954"/>
                  </a:lnTo>
                  <a:lnTo>
                    <a:pt x="740" y="1944"/>
                  </a:lnTo>
                  <a:lnTo>
                    <a:pt x="742" y="1932"/>
                  </a:lnTo>
                  <a:lnTo>
                    <a:pt x="742" y="1918"/>
                  </a:lnTo>
                  <a:lnTo>
                    <a:pt x="742" y="1918"/>
                  </a:lnTo>
                  <a:lnTo>
                    <a:pt x="714" y="1916"/>
                  </a:lnTo>
                  <a:lnTo>
                    <a:pt x="690" y="1908"/>
                  </a:lnTo>
                  <a:lnTo>
                    <a:pt x="668" y="1898"/>
                  </a:lnTo>
                  <a:lnTo>
                    <a:pt x="648" y="1884"/>
                  </a:lnTo>
                  <a:lnTo>
                    <a:pt x="640" y="1876"/>
                  </a:lnTo>
                  <a:lnTo>
                    <a:pt x="632" y="1866"/>
                  </a:lnTo>
                  <a:lnTo>
                    <a:pt x="626" y="1856"/>
                  </a:lnTo>
                  <a:lnTo>
                    <a:pt x="622" y="1846"/>
                  </a:lnTo>
                  <a:lnTo>
                    <a:pt x="616" y="1834"/>
                  </a:lnTo>
                  <a:lnTo>
                    <a:pt x="614" y="1822"/>
                  </a:lnTo>
                  <a:lnTo>
                    <a:pt x="612" y="1810"/>
                  </a:lnTo>
                  <a:lnTo>
                    <a:pt x="610" y="1796"/>
                  </a:lnTo>
                  <a:lnTo>
                    <a:pt x="612" y="1768"/>
                  </a:lnTo>
                  <a:lnTo>
                    <a:pt x="618" y="1738"/>
                  </a:lnTo>
                  <a:lnTo>
                    <a:pt x="630" y="1704"/>
                  </a:lnTo>
                  <a:lnTo>
                    <a:pt x="646" y="1670"/>
                  </a:lnTo>
                  <a:lnTo>
                    <a:pt x="670" y="1636"/>
                  </a:lnTo>
                  <a:lnTo>
                    <a:pt x="698" y="1598"/>
                  </a:lnTo>
                  <a:lnTo>
                    <a:pt x="734" y="1560"/>
                  </a:lnTo>
                  <a:lnTo>
                    <a:pt x="776" y="1522"/>
                  </a:lnTo>
                  <a:lnTo>
                    <a:pt x="776" y="1522"/>
                  </a:lnTo>
                  <a:lnTo>
                    <a:pt x="770" y="1540"/>
                  </a:lnTo>
                  <a:lnTo>
                    <a:pt x="766" y="1558"/>
                  </a:lnTo>
                  <a:lnTo>
                    <a:pt x="764" y="1578"/>
                  </a:lnTo>
                  <a:lnTo>
                    <a:pt x="762" y="1598"/>
                  </a:lnTo>
                  <a:lnTo>
                    <a:pt x="764" y="1620"/>
                  </a:lnTo>
                  <a:lnTo>
                    <a:pt x="766" y="1640"/>
                  </a:lnTo>
                  <a:lnTo>
                    <a:pt x="768" y="1662"/>
                  </a:lnTo>
                  <a:lnTo>
                    <a:pt x="774" y="1682"/>
                  </a:lnTo>
                  <a:lnTo>
                    <a:pt x="786" y="1724"/>
                  </a:lnTo>
                  <a:lnTo>
                    <a:pt x="802" y="1764"/>
                  </a:lnTo>
                  <a:lnTo>
                    <a:pt x="822" y="1800"/>
                  </a:lnTo>
                  <a:lnTo>
                    <a:pt x="846" y="1834"/>
                  </a:lnTo>
                  <a:lnTo>
                    <a:pt x="846" y="1834"/>
                  </a:lnTo>
                  <a:lnTo>
                    <a:pt x="842" y="1816"/>
                  </a:lnTo>
                  <a:lnTo>
                    <a:pt x="838" y="1792"/>
                  </a:lnTo>
                  <a:lnTo>
                    <a:pt x="838" y="1758"/>
                  </a:lnTo>
                  <a:lnTo>
                    <a:pt x="840" y="1716"/>
                  </a:lnTo>
                  <a:lnTo>
                    <a:pt x="840" y="1716"/>
                  </a:lnTo>
                  <a:lnTo>
                    <a:pt x="854" y="1732"/>
                  </a:lnTo>
                  <a:lnTo>
                    <a:pt x="868" y="1748"/>
                  </a:lnTo>
                  <a:lnTo>
                    <a:pt x="886" y="1762"/>
                  </a:lnTo>
                  <a:lnTo>
                    <a:pt x="896" y="1768"/>
                  </a:lnTo>
                  <a:lnTo>
                    <a:pt x="908" y="1774"/>
                  </a:lnTo>
                  <a:lnTo>
                    <a:pt x="920" y="1778"/>
                  </a:lnTo>
                  <a:lnTo>
                    <a:pt x="934" y="1782"/>
                  </a:lnTo>
                  <a:lnTo>
                    <a:pt x="948" y="1784"/>
                  </a:lnTo>
                  <a:lnTo>
                    <a:pt x="964" y="1782"/>
                  </a:lnTo>
                  <a:lnTo>
                    <a:pt x="982" y="1782"/>
                  </a:lnTo>
                  <a:lnTo>
                    <a:pt x="1002" y="1778"/>
                  </a:lnTo>
                  <a:lnTo>
                    <a:pt x="1024" y="1772"/>
                  </a:lnTo>
                  <a:lnTo>
                    <a:pt x="1048" y="1762"/>
                  </a:lnTo>
                  <a:lnTo>
                    <a:pt x="1048" y="1762"/>
                  </a:lnTo>
                  <a:lnTo>
                    <a:pt x="1068" y="1752"/>
                  </a:lnTo>
                  <a:lnTo>
                    <a:pt x="1088" y="1742"/>
                  </a:lnTo>
                  <a:lnTo>
                    <a:pt x="1104" y="1728"/>
                  </a:lnTo>
                  <a:lnTo>
                    <a:pt x="1120" y="1714"/>
                  </a:lnTo>
                  <a:lnTo>
                    <a:pt x="1132" y="1698"/>
                  </a:lnTo>
                  <a:lnTo>
                    <a:pt x="1144" y="1680"/>
                  </a:lnTo>
                  <a:lnTo>
                    <a:pt x="1152" y="1664"/>
                  </a:lnTo>
                  <a:lnTo>
                    <a:pt x="1158" y="1644"/>
                  </a:lnTo>
                  <a:lnTo>
                    <a:pt x="1164" y="1626"/>
                  </a:lnTo>
                  <a:lnTo>
                    <a:pt x="1166" y="1606"/>
                  </a:lnTo>
                  <a:lnTo>
                    <a:pt x="1168" y="1588"/>
                  </a:lnTo>
                  <a:lnTo>
                    <a:pt x="1168" y="1568"/>
                  </a:lnTo>
                  <a:lnTo>
                    <a:pt x="1164" y="1550"/>
                  </a:lnTo>
                  <a:lnTo>
                    <a:pt x="1160" y="1532"/>
                  </a:lnTo>
                  <a:lnTo>
                    <a:pt x="1156" y="1514"/>
                  </a:lnTo>
                  <a:lnTo>
                    <a:pt x="1148" y="1496"/>
                  </a:lnTo>
                  <a:lnTo>
                    <a:pt x="1148" y="1496"/>
                  </a:lnTo>
                  <a:lnTo>
                    <a:pt x="1140" y="1482"/>
                  </a:lnTo>
                  <a:lnTo>
                    <a:pt x="1130" y="1468"/>
                  </a:lnTo>
                  <a:lnTo>
                    <a:pt x="1120" y="1456"/>
                  </a:lnTo>
                  <a:lnTo>
                    <a:pt x="1110" y="1446"/>
                  </a:lnTo>
                  <a:lnTo>
                    <a:pt x="1100" y="1438"/>
                  </a:lnTo>
                  <a:lnTo>
                    <a:pt x="1088" y="1432"/>
                  </a:lnTo>
                  <a:lnTo>
                    <a:pt x="1078" y="1426"/>
                  </a:lnTo>
                  <a:lnTo>
                    <a:pt x="1066" y="1422"/>
                  </a:lnTo>
                  <a:lnTo>
                    <a:pt x="1054" y="1420"/>
                  </a:lnTo>
                  <a:lnTo>
                    <a:pt x="1042" y="1420"/>
                  </a:lnTo>
                  <a:lnTo>
                    <a:pt x="1032" y="1420"/>
                  </a:lnTo>
                  <a:lnTo>
                    <a:pt x="1020" y="1422"/>
                  </a:lnTo>
                  <a:lnTo>
                    <a:pt x="1010" y="1424"/>
                  </a:lnTo>
                  <a:lnTo>
                    <a:pt x="1000" y="1428"/>
                  </a:lnTo>
                  <a:lnTo>
                    <a:pt x="982" y="1438"/>
                  </a:lnTo>
                  <a:lnTo>
                    <a:pt x="982" y="1438"/>
                  </a:lnTo>
                  <a:lnTo>
                    <a:pt x="968" y="1452"/>
                  </a:lnTo>
                  <a:lnTo>
                    <a:pt x="956" y="1470"/>
                  </a:lnTo>
                  <a:lnTo>
                    <a:pt x="946" y="1488"/>
                  </a:lnTo>
                  <a:lnTo>
                    <a:pt x="942" y="1508"/>
                  </a:lnTo>
                  <a:lnTo>
                    <a:pt x="942" y="1518"/>
                  </a:lnTo>
                  <a:lnTo>
                    <a:pt x="942" y="1528"/>
                  </a:lnTo>
                  <a:lnTo>
                    <a:pt x="944" y="1538"/>
                  </a:lnTo>
                  <a:lnTo>
                    <a:pt x="946" y="1548"/>
                  </a:lnTo>
                  <a:lnTo>
                    <a:pt x="952" y="1558"/>
                  </a:lnTo>
                  <a:lnTo>
                    <a:pt x="958" y="1568"/>
                  </a:lnTo>
                  <a:lnTo>
                    <a:pt x="966" y="1576"/>
                  </a:lnTo>
                  <a:lnTo>
                    <a:pt x="974" y="1586"/>
                  </a:lnTo>
                  <a:lnTo>
                    <a:pt x="974" y="1586"/>
                  </a:lnTo>
                  <a:lnTo>
                    <a:pt x="982" y="1592"/>
                  </a:lnTo>
                  <a:lnTo>
                    <a:pt x="992" y="1596"/>
                  </a:lnTo>
                  <a:lnTo>
                    <a:pt x="1002" y="1598"/>
                  </a:lnTo>
                  <a:lnTo>
                    <a:pt x="1012" y="1600"/>
                  </a:lnTo>
                  <a:lnTo>
                    <a:pt x="1024" y="1600"/>
                  </a:lnTo>
                  <a:lnTo>
                    <a:pt x="1034" y="1598"/>
                  </a:lnTo>
                  <a:lnTo>
                    <a:pt x="1046" y="1594"/>
                  </a:lnTo>
                  <a:lnTo>
                    <a:pt x="1056" y="1590"/>
                  </a:lnTo>
                  <a:lnTo>
                    <a:pt x="1066" y="1584"/>
                  </a:lnTo>
                  <a:lnTo>
                    <a:pt x="1074" y="1578"/>
                  </a:lnTo>
                  <a:lnTo>
                    <a:pt x="1082" y="1568"/>
                  </a:lnTo>
                  <a:lnTo>
                    <a:pt x="1090" y="1558"/>
                  </a:lnTo>
                  <a:lnTo>
                    <a:pt x="1094" y="1548"/>
                  </a:lnTo>
                  <a:lnTo>
                    <a:pt x="1096" y="1534"/>
                  </a:lnTo>
                  <a:lnTo>
                    <a:pt x="1098" y="1520"/>
                  </a:lnTo>
                  <a:lnTo>
                    <a:pt x="1096" y="1506"/>
                  </a:lnTo>
                  <a:lnTo>
                    <a:pt x="1096" y="1506"/>
                  </a:lnTo>
                  <a:lnTo>
                    <a:pt x="1106" y="1518"/>
                  </a:lnTo>
                  <a:lnTo>
                    <a:pt x="1112" y="1530"/>
                  </a:lnTo>
                  <a:lnTo>
                    <a:pt x="1118" y="1544"/>
                  </a:lnTo>
                  <a:lnTo>
                    <a:pt x="1122" y="1556"/>
                  </a:lnTo>
                  <a:lnTo>
                    <a:pt x="1126" y="1568"/>
                  </a:lnTo>
                  <a:lnTo>
                    <a:pt x="1126" y="1582"/>
                  </a:lnTo>
                  <a:lnTo>
                    <a:pt x="1126" y="1594"/>
                  </a:lnTo>
                  <a:lnTo>
                    <a:pt x="1124" y="1606"/>
                  </a:lnTo>
                  <a:lnTo>
                    <a:pt x="1122" y="1618"/>
                  </a:lnTo>
                  <a:lnTo>
                    <a:pt x="1118" y="1628"/>
                  </a:lnTo>
                  <a:lnTo>
                    <a:pt x="1112" y="1638"/>
                  </a:lnTo>
                  <a:lnTo>
                    <a:pt x="1106" y="1648"/>
                  </a:lnTo>
                  <a:lnTo>
                    <a:pt x="1098" y="1656"/>
                  </a:lnTo>
                  <a:lnTo>
                    <a:pt x="1088" y="1664"/>
                  </a:lnTo>
                  <a:lnTo>
                    <a:pt x="1078" y="1670"/>
                  </a:lnTo>
                  <a:lnTo>
                    <a:pt x="1068" y="1676"/>
                  </a:lnTo>
                  <a:lnTo>
                    <a:pt x="1068" y="1676"/>
                  </a:lnTo>
                  <a:lnTo>
                    <a:pt x="1040" y="1686"/>
                  </a:lnTo>
                  <a:lnTo>
                    <a:pt x="1024" y="1688"/>
                  </a:lnTo>
                  <a:lnTo>
                    <a:pt x="1010" y="1690"/>
                  </a:lnTo>
                  <a:lnTo>
                    <a:pt x="994" y="1690"/>
                  </a:lnTo>
                  <a:lnTo>
                    <a:pt x="978" y="1688"/>
                  </a:lnTo>
                  <a:lnTo>
                    <a:pt x="960" y="1684"/>
                  </a:lnTo>
                  <a:lnTo>
                    <a:pt x="944" y="1676"/>
                  </a:lnTo>
                  <a:lnTo>
                    <a:pt x="944" y="1676"/>
                  </a:lnTo>
                  <a:lnTo>
                    <a:pt x="934" y="1670"/>
                  </a:lnTo>
                  <a:lnTo>
                    <a:pt x="926" y="1664"/>
                  </a:lnTo>
                  <a:lnTo>
                    <a:pt x="912" y="1648"/>
                  </a:lnTo>
                  <a:lnTo>
                    <a:pt x="900" y="1630"/>
                  </a:lnTo>
                  <a:lnTo>
                    <a:pt x="892" y="1608"/>
                  </a:lnTo>
                  <a:lnTo>
                    <a:pt x="886" y="1584"/>
                  </a:lnTo>
                  <a:lnTo>
                    <a:pt x="884" y="1558"/>
                  </a:lnTo>
                  <a:lnTo>
                    <a:pt x="882" y="1532"/>
                  </a:lnTo>
                  <a:lnTo>
                    <a:pt x="884" y="1504"/>
                  </a:lnTo>
                  <a:lnTo>
                    <a:pt x="888" y="1474"/>
                  </a:lnTo>
                  <a:lnTo>
                    <a:pt x="894" y="1446"/>
                  </a:lnTo>
                  <a:lnTo>
                    <a:pt x="904" y="1416"/>
                  </a:lnTo>
                  <a:lnTo>
                    <a:pt x="914" y="1388"/>
                  </a:lnTo>
                  <a:lnTo>
                    <a:pt x="924" y="1360"/>
                  </a:lnTo>
                  <a:lnTo>
                    <a:pt x="938" y="1334"/>
                  </a:lnTo>
                  <a:lnTo>
                    <a:pt x="952" y="1308"/>
                  </a:lnTo>
                  <a:lnTo>
                    <a:pt x="968" y="1286"/>
                  </a:lnTo>
                  <a:lnTo>
                    <a:pt x="968" y="1286"/>
                  </a:lnTo>
                  <a:lnTo>
                    <a:pt x="994" y="1252"/>
                  </a:lnTo>
                  <a:lnTo>
                    <a:pt x="1020" y="1214"/>
                  </a:lnTo>
                  <a:lnTo>
                    <a:pt x="1046" y="1172"/>
                  </a:lnTo>
                  <a:lnTo>
                    <a:pt x="1072" y="1126"/>
                  </a:lnTo>
                  <a:lnTo>
                    <a:pt x="1096" y="1076"/>
                  </a:lnTo>
                  <a:lnTo>
                    <a:pt x="1120" y="1024"/>
                  </a:lnTo>
                  <a:lnTo>
                    <a:pt x="1140" y="966"/>
                  </a:lnTo>
                  <a:lnTo>
                    <a:pt x="1160" y="904"/>
                  </a:lnTo>
                  <a:lnTo>
                    <a:pt x="1160" y="904"/>
                  </a:lnTo>
                  <a:lnTo>
                    <a:pt x="1168" y="870"/>
                  </a:lnTo>
                  <a:lnTo>
                    <a:pt x="1176" y="832"/>
                  </a:lnTo>
                  <a:lnTo>
                    <a:pt x="1180" y="794"/>
                  </a:lnTo>
                  <a:lnTo>
                    <a:pt x="1182" y="752"/>
                  </a:lnTo>
                  <a:lnTo>
                    <a:pt x="1182" y="710"/>
                  </a:lnTo>
                  <a:lnTo>
                    <a:pt x="1180" y="668"/>
                  </a:lnTo>
                  <a:lnTo>
                    <a:pt x="1176" y="624"/>
                  </a:lnTo>
                  <a:lnTo>
                    <a:pt x="1170" y="580"/>
                  </a:lnTo>
                  <a:lnTo>
                    <a:pt x="1162" y="536"/>
                  </a:lnTo>
                  <a:lnTo>
                    <a:pt x="1152" y="492"/>
                  </a:lnTo>
                  <a:lnTo>
                    <a:pt x="1140" y="448"/>
                  </a:lnTo>
                  <a:lnTo>
                    <a:pt x="1124" y="406"/>
                  </a:lnTo>
                  <a:lnTo>
                    <a:pt x="1108" y="366"/>
                  </a:lnTo>
                  <a:lnTo>
                    <a:pt x="1088" y="328"/>
                  </a:lnTo>
                  <a:lnTo>
                    <a:pt x="1066" y="292"/>
                  </a:lnTo>
                  <a:lnTo>
                    <a:pt x="1042" y="260"/>
                  </a:lnTo>
                  <a:lnTo>
                    <a:pt x="1042" y="260"/>
                  </a:lnTo>
                  <a:lnTo>
                    <a:pt x="1064" y="266"/>
                  </a:lnTo>
                  <a:lnTo>
                    <a:pt x="1088" y="270"/>
                  </a:lnTo>
                  <a:lnTo>
                    <a:pt x="1114" y="272"/>
                  </a:lnTo>
                  <a:lnTo>
                    <a:pt x="1140" y="270"/>
                  </a:lnTo>
                  <a:lnTo>
                    <a:pt x="1166" y="266"/>
                  </a:lnTo>
                  <a:lnTo>
                    <a:pt x="1190" y="258"/>
                  </a:lnTo>
                  <a:lnTo>
                    <a:pt x="1200" y="252"/>
                  </a:lnTo>
                  <a:lnTo>
                    <a:pt x="1210" y="246"/>
                  </a:lnTo>
                  <a:lnTo>
                    <a:pt x="1220" y="238"/>
                  </a:lnTo>
                  <a:lnTo>
                    <a:pt x="1230" y="228"/>
                  </a:lnTo>
                  <a:lnTo>
                    <a:pt x="1230" y="228"/>
                  </a:lnTo>
                  <a:lnTo>
                    <a:pt x="1216" y="234"/>
                  </a:lnTo>
                  <a:lnTo>
                    <a:pt x="1198" y="236"/>
                  </a:lnTo>
                  <a:lnTo>
                    <a:pt x="1180" y="236"/>
                  </a:lnTo>
                  <a:lnTo>
                    <a:pt x="1160" y="236"/>
                  </a:lnTo>
                  <a:lnTo>
                    <a:pt x="1138" y="232"/>
                  </a:lnTo>
                  <a:lnTo>
                    <a:pt x="1118" y="226"/>
                  </a:lnTo>
                  <a:lnTo>
                    <a:pt x="1098" y="220"/>
                  </a:lnTo>
                  <a:lnTo>
                    <a:pt x="1082" y="210"/>
                  </a:lnTo>
                  <a:lnTo>
                    <a:pt x="1082" y="210"/>
                  </a:lnTo>
                  <a:lnTo>
                    <a:pt x="1098" y="208"/>
                  </a:lnTo>
                  <a:lnTo>
                    <a:pt x="1116" y="202"/>
                  </a:lnTo>
                  <a:lnTo>
                    <a:pt x="1132" y="192"/>
                  </a:lnTo>
                  <a:lnTo>
                    <a:pt x="1148" y="180"/>
                  </a:lnTo>
                  <a:lnTo>
                    <a:pt x="1164" y="166"/>
                  </a:lnTo>
                  <a:lnTo>
                    <a:pt x="1176" y="146"/>
                  </a:lnTo>
                  <a:lnTo>
                    <a:pt x="1184" y="124"/>
                  </a:lnTo>
                  <a:lnTo>
                    <a:pt x="1188" y="110"/>
                  </a:lnTo>
                  <a:lnTo>
                    <a:pt x="1190" y="98"/>
                  </a:lnTo>
                  <a:lnTo>
                    <a:pt x="1190" y="98"/>
                  </a:lnTo>
                  <a:close/>
                  <a:moveTo>
                    <a:pt x="1036" y="1444"/>
                  </a:moveTo>
                  <a:lnTo>
                    <a:pt x="1036" y="1444"/>
                  </a:lnTo>
                  <a:lnTo>
                    <a:pt x="1028" y="1450"/>
                  </a:lnTo>
                  <a:lnTo>
                    <a:pt x="1020" y="1456"/>
                  </a:lnTo>
                  <a:lnTo>
                    <a:pt x="1016" y="1464"/>
                  </a:lnTo>
                  <a:lnTo>
                    <a:pt x="1012" y="1472"/>
                  </a:lnTo>
                  <a:lnTo>
                    <a:pt x="1006" y="1492"/>
                  </a:lnTo>
                  <a:lnTo>
                    <a:pt x="1004" y="1510"/>
                  </a:lnTo>
                  <a:lnTo>
                    <a:pt x="1004" y="1546"/>
                  </a:lnTo>
                  <a:lnTo>
                    <a:pt x="1000" y="1558"/>
                  </a:lnTo>
                  <a:lnTo>
                    <a:pt x="998" y="1562"/>
                  </a:lnTo>
                  <a:lnTo>
                    <a:pt x="994" y="1562"/>
                  </a:lnTo>
                  <a:lnTo>
                    <a:pt x="994" y="1562"/>
                  </a:lnTo>
                  <a:lnTo>
                    <a:pt x="988" y="1556"/>
                  </a:lnTo>
                  <a:lnTo>
                    <a:pt x="982" y="1548"/>
                  </a:lnTo>
                  <a:lnTo>
                    <a:pt x="978" y="1540"/>
                  </a:lnTo>
                  <a:lnTo>
                    <a:pt x="976" y="1530"/>
                  </a:lnTo>
                  <a:lnTo>
                    <a:pt x="974" y="1520"/>
                  </a:lnTo>
                  <a:lnTo>
                    <a:pt x="974" y="1512"/>
                  </a:lnTo>
                  <a:lnTo>
                    <a:pt x="976" y="1502"/>
                  </a:lnTo>
                  <a:lnTo>
                    <a:pt x="978" y="1492"/>
                  </a:lnTo>
                  <a:lnTo>
                    <a:pt x="980" y="1482"/>
                  </a:lnTo>
                  <a:lnTo>
                    <a:pt x="986" y="1474"/>
                  </a:lnTo>
                  <a:lnTo>
                    <a:pt x="990" y="1466"/>
                  </a:lnTo>
                  <a:lnTo>
                    <a:pt x="998" y="1460"/>
                  </a:lnTo>
                  <a:lnTo>
                    <a:pt x="1006" y="1454"/>
                  </a:lnTo>
                  <a:lnTo>
                    <a:pt x="1014" y="1448"/>
                  </a:lnTo>
                  <a:lnTo>
                    <a:pt x="1026" y="1446"/>
                  </a:lnTo>
                  <a:lnTo>
                    <a:pt x="1036" y="1444"/>
                  </a:lnTo>
                  <a:lnTo>
                    <a:pt x="1036" y="1444"/>
                  </a:lnTo>
                  <a:close/>
                  <a:moveTo>
                    <a:pt x="1044" y="1926"/>
                  </a:moveTo>
                  <a:lnTo>
                    <a:pt x="1044" y="1926"/>
                  </a:lnTo>
                  <a:lnTo>
                    <a:pt x="1024" y="1934"/>
                  </a:lnTo>
                  <a:lnTo>
                    <a:pt x="1006" y="1940"/>
                  </a:lnTo>
                  <a:lnTo>
                    <a:pt x="988" y="1946"/>
                  </a:lnTo>
                  <a:lnTo>
                    <a:pt x="976" y="1952"/>
                  </a:lnTo>
                  <a:lnTo>
                    <a:pt x="970" y="1958"/>
                  </a:lnTo>
                  <a:lnTo>
                    <a:pt x="966" y="1962"/>
                  </a:lnTo>
                  <a:lnTo>
                    <a:pt x="962" y="1970"/>
                  </a:lnTo>
                  <a:lnTo>
                    <a:pt x="960" y="1976"/>
                  </a:lnTo>
                  <a:lnTo>
                    <a:pt x="960" y="1986"/>
                  </a:lnTo>
                  <a:lnTo>
                    <a:pt x="960" y="1996"/>
                  </a:lnTo>
                  <a:lnTo>
                    <a:pt x="966" y="2022"/>
                  </a:lnTo>
                  <a:lnTo>
                    <a:pt x="966" y="2022"/>
                  </a:lnTo>
                  <a:lnTo>
                    <a:pt x="966" y="2032"/>
                  </a:lnTo>
                  <a:lnTo>
                    <a:pt x="964" y="2040"/>
                  </a:lnTo>
                  <a:lnTo>
                    <a:pt x="958" y="2044"/>
                  </a:lnTo>
                  <a:lnTo>
                    <a:pt x="950" y="2044"/>
                  </a:lnTo>
                  <a:lnTo>
                    <a:pt x="940" y="2044"/>
                  </a:lnTo>
                  <a:lnTo>
                    <a:pt x="932" y="2040"/>
                  </a:lnTo>
                  <a:lnTo>
                    <a:pt x="924" y="2032"/>
                  </a:lnTo>
                  <a:lnTo>
                    <a:pt x="918" y="2022"/>
                  </a:lnTo>
                  <a:lnTo>
                    <a:pt x="918" y="2022"/>
                  </a:lnTo>
                  <a:lnTo>
                    <a:pt x="912" y="2002"/>
                  </a:lnTo>
                  <a:lnTo>
                    <a:pt x="910" y="1978"/>
                  </a:lnTo>
                  <a:lnTo>
                    <a:pt x="910" y="1966"/>
                  </a:lnTo>
                  <a:lnTo>
                    <a:pt x="912" y="1954"/>
                  </a:lnTo>
                  <a:lnTo>
                    <a:pt x="916" y="1944"/>
                  </a:lnTo>
                  <a:lnTo>
                    <a:pt x="922" y="1932"/>
                  </a:lnTo>
                  <a:lnTo>
                    <a:pt x="928" y="1924"/>
                  </a:lnTo>
                  <a:lnTo>
                    <a:pt x="938" y="1916"/>
                  </a:lnTo>
                  <a:lnTo>
                    <a:pt x="948" y="1912"/>
                  </a:lnTo>
                  <a:lnTo>
                    <a:pt x="962" y="1908"/>
                  </a:lnTo>
                  <a:lnTo>
                    <a:pt x="978" y="1908"/>
                  </a:lnTo>
                  <a:lnTo>
                    <a:pt x="998" y="1910"/>
                  </a:lnTo>
                  <a:lnTo>
                    <a:pt x="1020" y="1916"/>
                  </a:lnTo>
                  <a:lnTo>
                    <a:pt x="1044" y="1926"/>
                  </a:lnTo>
                  <a:lnTo>
                    <a:pt x="1044" y="1926"/>
                  </a:lnTo>
                  <a:close/>
                  <a:moveTo>
                    <a:pt x="1046" y="2984"/>
                  </a:moveTo>
                  <a:lnTo>
                    <a:pt x="1046" y="2984"/>
                  </a:lnTo>
                  <a:lnTo>
                    <a:pt x="1060" y="2988"/>
                  </a:lnTo>
                  <a:lnTo>
                    <a:pt x="1074" y="2990"/>
                  </a:lnTo>
                  <a:lnTo>
                    <a:pt x="1088" y="2990"/>
                  </a:lnTo>
                  <a:lnTo>
                    <a:pt x="1100" y="2988"/>
                  </a:lnTo>
                  <a:lnTo>
                    <a:pt x="1114" y="2984"/>
                  </a:lnTo>
                  <a:lnTo>
                    <a:pt x="1126" y="2976"/>
                  </a:lnTo>
                  <a:lnTo>
                    <a:pt x="1138" y="2966"/>
                  </a:lnTo>
                  <a:lnTo>
                    <a:pt x="1146" y="2954"/>
                  </a:lnTo>
                  <a:lnTo>
                    <a:pt x="1146" y="2954"/>
                  </a:lnTo>
                  <a:lnTo>
                    <a:pt x="1146" y="2966"/>
                  </a:lnTo>
                  <a:lnTo>
                    <a:pt x="1142" y="2978"/>
                  </a:lnTo>
                  <a:lnTo>
                    <a:pt x="1136" y="2988"/>
                  </a:lnTo>
                  <a:lnTo>
                    <a:pt x="1130" y="2996"/>
                  </a:lnTo>
                  <a:lnTo>
                    <a:pt x="1124" y="3002"/>
                  </a:lnTo>
                  <a:lnTo>
                    <a:pt x="1116" y="3008"/>
                  </a:lnTo>
                  <a:lnTo>
                    <a:pt x="1108" y="3012"/>
                  </a:lnTo>
                  <a:lnTo>
                    <a:pt x="1100" y="3014"/>
                  </a:lnTo>
                  <a:lnTo>
                    <a:pt x="1090" y="3016"/>
                  </a:lnTo>
                  <a:lnTo>
                    <a:pt x="1082" y="3014"/>
                  </a:lnTo>
                  <a:lnTo>
                    <a:pt x="1074" y="3014"/>
                  </a:lnTo>
                  <a:lnTo>
                    <a:pt x="1066" y="3010"/>
                  </a:lnTo>
                  <a:lnTo>
                    <a:pt x="1060" y="3006"/>
                  </a:lnTo>
                  <a:lnTo>
                    <a:pt x="1054" y="3000"/>
                  </a:lnTo>
                  <a:lnTo>
                    <a:pt x="1050" y="2992"/>
                  </a:lnTo>
                  <a:lnTo>
                    <a:pt x="1046" y="2984"/>
                  </a:lnTo>
                  <a:lnTo>
                    <a:pt x="1046" y="2984"/>
                  </a:lnTo>
                  <a:close/>
                  <a:moveTo>
                    <a:pt x="900" y="2310"/>
                  </a:moveTo>
                  <a:lnTo>
                    <a:pt x="900" y="2310"/>
                  </a:lnTo>
                  <a:lnTo>
                    <a:pt x="928" y="2298"/>
                  </a:lnTo>
                  <a:lnTo>
                    <a:pt x="950" y="2286"/>
                  </a:lnTo>
                  <a:lnTo>
                    <a:pt x="970" y="2274"/>
                  </a:lnTo>
                  <a:lnTo>
                    <a:pt x="986" y="2258"/>
                  </a:lnTo>
                  <a:lnTo>
                    <a:pt x="998" y="2244"/>
                  </a:lnTo>
                  <a:lnTo>
                    <a:pt x="1010" y="2226"/>
                  </a:lnTo>
                  <a:lnTo>
                    <a:pt x="1018" y="2208"/>
                  </a:lnTo>
                  <a:lnTo>
                    <a:pt x="1024" y="2190"/>
                  </a:lnTo>
                  <a:lnTo>
                    <a:pt x="1024" y="2190"/>
                  </a:lnTo>
                  <a:lnTo>
                    <a:pt x="1032" y="2200"/>
                  </a:lnTo>
                  <a:lnTo>
                    <a:pt x="1036" y="2212"/>
                  </a:lnTo>
                  <a:lnTo>
                    <a:pt x="1038" y="2222"/>
                  </a:lnTo>
                  <a:lnTo>
                    <a:pt x="1038" y="2232"/>
                  </a:lnTo>
                  <a:lnTo>
                    <a:pt x="1036" y="2242"/>
                  </a:lnTo>
                  <a:lnTo>
                    <a:pt x="1032" y="2252"/>
                  </a:lnTo>
                  <a:lnTo>
                    <a:pt x="1024" y="2260"/>
                  </a:lnTo>
                  <a:lnTo>
                    <a:pt x="1016" y="2270"/>
                  </a:lnTo>
                  <a:lnTo>
                    <a:pt x="1006" y="2278"/>
                  </a:lnTo>
                  <a:lnTo>
                    <a:pt x="996" y="2284"/>
                  </a:lnTo>
                  <a:lnTo>
                    <a:pt x="982" y="2292"/>
                  </a:lnTo>
                  <a:lnTo>
                    <a:pt x="968" y="2298"/>
                  </a:lnTo>
                  <a:lnTo>
                    <a:pt x="952" y="2302"/>
                  </a:lnTo>
                  <a:lnTo>
                    <a:pt x="936" y="2306"/>
                  </a:lnTo>
                  <a:lnTo>
                    <a:pt x="918" y="2308"/>
                  </a:lnTo>
                  <a:lnTo>
                    <a:pt x="900" y="2310"/>
                  </a:lnTo>
                  <a:lnTo>
                    <a:pt x="900" y="2310"/>
                  </a:lnTo>
                  <a:close/>
                  <a:moveTo>
                    <a:pt x="852" y="2408"/>
                  </a:moveTo>
                  <a:lnTo>
                    <a:pt x="852" y="2408"/>
                  </a:lnTo>
                  <a:lnTo>
                    <a:pt x="840" y="2418"/>
                  </a:lnTo>
                  <a:lnTo>
                    <a:pt x="830" y="2430"/>
                  </a:lnTo>
                  <a:lnTo>
                    <a:pt x="822" y="2446"/>
                  </a:lnTo>
                  <a:lnTo>
                    <a:pt x="814" y="2462"/>
                  </a:lnTo>
                  <a:lnTo>
                    <a:pt x="810" y="2480"/>
                  </a:lnTo>
                  <a:lnTo>
                    <a:pt x="808" y="2498"/>
                  </a:lnTo>
                  <a:lnTo>
                    <a:pt x="810" y="2516"/>
                  </a:lnTo>
                  <a:lnTo>
                    <a:pt x="814" y="2532"/>
                  </a:lnTo>
                  <a:lnTo>
                    <a:pt x="814" y="2532"/>
                  </a:lnTo>
                  <a:lnTo>
                    <a:pt x="804" y="2524"/>
                  </a:lnTo>
                  <a:lnTo>
                    <a:pt x="796" y="2514"/>
                  </a:lnTo>
                  <a:lnTo>
                    <a:pt x="788" y="2506"/>
                  </a:lnTo>
                  <a:lnTo>
                    <a:pt x="784" y="2496"/>
                  </a:lnTo>
                  <a:lnTo>
                    <a:pt x="782" y="2486"/>
                  </a:lnTo>
                  <a:lnTo>
                    <a:pt x="782" y="2476"/>
                  </a:lnTo>
                  <a:lnTo>
                    <a:pt x="782" y="2466"/>
                  </a:lnTo>
                  <a:lnTo>
                    <a:pt x="784" y="2458"/>
                  </a:lnTo>
                  <a:lnTo>
                    <a:pt x="788" y="2448"/>
                  </a:lnTo>
                  <a:lnTo>
                    <a:pt x="794" y="2440"/>
                  </a:lnTo>
                  <a:lnTo>
                    <a:pt x="802" y="2432"/>
                  </a:lnTo>
                  <a:lnTo>
                    <a:pt x="810" y="2426"/>
                  </a:lnTo>
                  <a:lnTo>
                    <a:pt x="818" y="2420"/>
                  </a:lnTo>
                  <a:lnTo>
                    <a:pt x="828" y="2414"/>
                  </a:lnTo>
                  <a:lnTo>
                    <a:pt x="840" y="2410"/>
                  </a:lnTo>
                  <a:lnTo>
                    <a:pt x="852" y="2408"/>
                  </a:lnTo>
                  <a:lnTo>
                    <a:pt x="852" y="2408"/>
                  </a:lnTo>
                  <a:close/>
                  <a:moveTo>
                    <a:pt x="638" y="1370"/>
                  </a:moveTo>
                  <a:lnTo>
                    <a:pt x="638" y="1370"/>
                  </a:lnTo>
                  <a:lnTo>
                    <a:pt x="596" y="1382"/>
                  </a:lnTo>
                  <a:lnTo>
                    <a:pt x="558" y="1392"/>
                  </a:lnTo>
                  <a:lnTo>
                    <a:pt x="522" y="1396"/>
                  </a:lnTo>
                  <a:lnTo>
                    <a:pt x="490" y="1396"/>
                  </a:lnTo>
                  <a:lnTo>
                    <a:pt x="458" y="1394"/>
                  </a:lnTo>
                  <a:lnTo>
                    <a:pt x="430" y="1388"/>
                  </a:lnTo>
                  <a:lnTo>
                    <a:pt x="402" y="1378"/>
                  </a:lnTo>
                  <a:lnTo>
                    <a:pt x="374" y="1364"/>
                  </a:lnTo>
                  <a:lnTo>
                    <a:pt x="374" y="1364"/>
                  </a:lnTo>
                  <a:lnTo>
                    <a:pt x="360" y="1356"/>
                  </a:lnTo>
                  <a:lnTo>
                    <a:pt x="348" y="1346"/>
                  </a:lnTo>
                  <a:lnTo>
                    <a:pt x="338" y="1336"/>
                  </a:lnTo>
                  <a:lnTo>
                    <a:pt x="330" y="1324"/>
                  </a:lnTo>
                  <a:lnTo>
                    <a:pt x="322" y="1312"/>
                  </a:lnTo>
                  <a:lnTo>
                    <a:pt x="318" y="1300"/>
                  </a:lnTo>
                  <a:lnTo>
                    <a:pt x="314" y="1288"/>
                  </a:lnTo>
                  <a:lnTo>
                    <a:pt x="310" y="1276"/>
                  </a:lnTo>
                  <a:lnTo>
                    <a:pt x="308" y="1250"/>
                  </a:lnTo>
                  <a:lnTo>
                    <a:pt x="312" y="1226"/>
                  </a:lnTo>
                  <a:lnTo>
                    <a:pt x="316" y="1202"/>
                  </a:lnTo>
                  <a:lnTo>
                    <a:pt x="324" y="1182"/>
                  </a:lnTo>
                  <a:lnTo>
                    <a:pt x="324" y="1182"/>
                  </a:lnTo>
                  <a:lnTo>
                    <a:pt x="322" y="1208"/>
                  </a:lnTo>
                  <a:lnTo>
                    <a:pt x="324" y="1234"/>
                  </a:lnTo>
                  <a:lnTo>
                    <a:pt x="330" y="1256"/>
                  </a:lnTo>
                  <a:lnTo>
                    <a:pt x="340" y="1276"/>
                  </a:lnTo>
                  <a:lnTo>
                    <a:pt x="352" y="1292"/>
                  </a:lnTo>
                  <a:lnTo>
                    <a:pt x="368" y="1304"/>
                  </a:lnTo>
                  <a:lnTo>
                    <a:pt x="376" y="1308"/>
                  </a:lnTo>
                  <a:lnTo>
                    <a:pt x="384" y="1312"/>
                  </a:lnTo>
                  <a:lnTo>
                    <a:pt x="392" y="1312"/>
                  </a:lnTo>
                  <a:lnTo>
                    <a:pt x="402" y="1312"/>
                  </a:lnTo>
                  <a:lnTo>
                    <a:pt x="402" y="1312"/>
                  </a:lnTo>
                  <a:lnTo>
                    <a:pt x="398" y="1288"/>
                  </a:lnTo>
                  <a:lnTo>
                    <a:pt x="398" y="1272"/>
                  </a:lnTo>
                  <a:lnTo>
                    <a:pt x="400" y="1258"/>
                  </a:lnTo>
                  <a:lnTo>
                    <a:pt x="402" y="1244"/>
                  </a:lnTo>
                  <a:lnTo>
                    <a:pt x="406" y="1230"/>
                  </a:lnTo>
                  <a:lnTo>
                    <a:pt x="412" y="1218"/>
                  </a:lnTo>
                  <a:lnTo>
                    <a:pt x="418" y="1206"/>
                  </a:lnTo>
                  <a:lnTo>
                    <a:pt x="418" y="1206"/>
                  </a:lnTo>
                  <a:lnTo>
                    <a:pt x="426" y="1252"/>
                  </a:lnTo>
                  <a:lnTo>
                    <a:pt x="430" y="1274"/>
                  </a:lnTo>
                  <a:lnTo>
                    <a:pt x="434" y="1292"/>
                  </a:lnTo>
                  <a:lnTo>
                    <a:pt x="440" y="1310"/>
                  </a:lnTo>
                  <a:lnTo>
                    <a:pt x="448" y="1326"/>
                  </a:lnTo>
                  <a:lnTo>
                    <a:pt x="456" y="1338"/>
                  </a:lnTo>
                  <a:lnTo>
                    <a:pt x="466" y="1350"/>
                  </a:lnTo>
                  <a:lnTo>
                    <a:pt x="478" y="1360"/>
                  </a:lnTo>
                  <a:lnTo>
                    <a:pt x="492" y="1368"/>
                  </a:lnTo>
                  <a:lnTo>
                    <a:pt x="510" y="1374"/>
                  </a:lnTo>
                  <a:lnTo>
                    <a:pt x="528" y="1378"/>
                  </a:lnTo>
                  <a:lnTo>
                    <a:pt x="550" y="1378"/>
                  </a:lnTo>
                  <a:lnTo>
                    <a:pt x="576" y="1378"/>
                  </a:lnTo>
                  <a:lnTo>
                    <a:pt x="604" y="1376"/>
                  </a:lnTo>
                  <a:lnTo>
                    <a:pt x="638" y="1370"/>
                  </a:lnTo>
                  <a:lnTo>
                    <a:pt x="638" y="1370"/>
                  </a:lnTo>
                  <a:close/>
                  <a:moveTo>
                    <a:pt x="758" y="1096"/>
                  </a:moveTo>
                  <a:lnTo>
                    <a:pt x="758" y="1096"/>
                  </a:lnTo>
                  <a:lnTo>
                    <a:pt x="768" y="1084"/>
                  </a:lnTo>
                  <a:lnTo>
                    <a:pt x="776" y="1070"/>
                  </a:lnTo>
                  <a:lnTo>
                    <a:pt x="780" y="1056"/>
                  </a:lnTo>
                  <a:lnTo>
                    <a:pt x="782" y="1042"/>
                  </a:lnTo>
                  <a:lnTo>
                    <a:pt x="782" y="1028"/>
                  </a:lnTo>
                  <a:lnTo>
                    <a:pt x="780" y="1016"/>
                  </a:lnTo>
                  <a:lnTo>
                    <a:pt x="774" y="1002"/>
                  </a:lnTo>
                  <a:lnTo>
                    <a:pt x="768" y="990"/>
                  </a:lnTo>
                  <a:lnTo>
                    <a:pt x="768" y="990"/>
                  </a:lnTo>
                  <a:lnTo>
                    <a:pt x="776" y="992"/>
                  </a:lnTo>
                  <a:lnTo>
                    <a:pt x="784" y="994"/>
                  </a:lnTo>
                  <a:lnTo>
                    <a:pt x="790" y="998"/>
                  </a:lnTo>
                  <a:lnTo>
                    <a:pt x="796" y="1004"/>
                  </a:lnTo>
                  <a:lnTo>
                    <a:pt x="802" y="1010"/>
                  </a:lnTo>
                  <a:lnTo>
                    <a:pt x="804" y="1018"/>
                  </a:lnTo>
                  <a:lnTo>
                    <a:pt x="806" y="1026"/>
                  </a:lnTo>
                  <a:lnTo>
                    <a:pt x="808" y="1036"/>
                  </a:lnTo>
                  <a:lnTo>
                    <a:pt x="806" y="1044"/>
                  </a:lnTo>
                  <a:lnTo>
                    <a:pt x="804" y="1054"/>
                  </a:lnTo>
                  <a:lnTo>
                    <a:pt x="802" y="1062"/>
                  </a:lnTo>
                  <a:lnTo>
                    <a:pt x="796" y="1070"/>
                  </a:lnTo>
                  <a:lnTo>
                    <a:pt x="790" y="1078"/>
                  </a:lnTo>
                  <a:lnTo>
                    <a:pt x="780" y="1086"/>
                  </a:lnTo>
                  <a:lnTo>
                    <a:pt x="770" y="1090"/>
                  </a:lnTo>
                  <a:lnTo>
                    <a:pt x="758" y="1096"/>
                  </a:lnTo>
                  <a:lnTo>
                    <a:pt x="758" y="1096"/>
                  </a:lnTo>
                  <a:close/>
                  <a:moveTo>
                    <a:pt x="1142" y="600"/>
                  </a:moveTo>
                  <a:lnTo>
                    <a:pt x="1142" y="600"/>
                  </a:lnTo>
                  <a:lnTo>
                    <a:pt x="1146" y="628"/>
                  </a:lnTo>
                  <a:lnTo>
                    <a:pt x="1148" y="658"/>
                  </a:lnTo>
                  <a:lnTo>
                    <a:pt x="1150" y="688"/>
                  </a:lnTo>
                  <a:lnTo>
                    <a:pt x="1150" y="718"/>
                  </a:lnTo>
                  <a:lnTo>
                    <a:pt x="1146" y="778"/>
                  </a:lnTo>
                  <a:lnTo>
                    <a:pt x="1140" y="838"/>
                  </a:lnTo>
                  <a:lnTo>
                    <a:pt x="1130" y="896"/>
                  </a:lnTo>
                  <a:lnTo>
                    <a:pt x="1114" y="948"/>
                  </a:lnTo>
                  <a:lnTo>
                    <a:pt x="1106" y="972"/>
                  </a:lnTo>
                  <a:lnTo>
                    <a:pt x="1098" y="996"/>
                  </a:lnTo>
                  <a:lnTo>
                    <a:pt x="1088" y="1016"/>
                  </a:lnTo>
                  <a:lnTo>
                    <a:pt x="1076" y="1036"/>
                  </a:lnTo>
                  <a:lnTo>
                    <a:pt x="1076" y="1036"/>
                  </a:lnTo>
                  <a:lnTo>
                    <a:pt x="1070" y="1014"/>
                  </a:lnTo>
                  <a:lnTo>
                    <a:pt x="1068" y="994"/>
                  </a:lnTo>
                  <a:lnTo>
                    <a:pt x="1068" y="972"/>
                  </a:lnTo>
                  <a:lnTo>
                    <a:pt x="1072" y="950"/>
                  </a:lnTo>
                  <a:lnTo>
                    <a:pt x="1078" y="928"/>
                  </a:lnTo>
                  <a:lnTo>
                    <a:pt x="1086" y="906"/>
                  </a:lnTo>
                  <a:lnTo>
                    <a:pt x="1104" y="858"/>
                  </a:lnTo>
                  <a:lnTo>
                    <a:pt x="1104" y="858"/>
                  </a:lnTo>
                  <a:lnTo>
                    <a:pt x="1096" y="864"/>
                  </a:lnTo>
                  <a:lnTo>
                    <a:pt x="1078" y="872"/>
                  </a:lnTo>
                  <a:lnTo>
                    <a:pt x="1066" y="876"/>
                  </a:lnTo>
                  <a:lnTo>
                    <a:pt x="1054" y="880"/>
                  </a:lnTo>
                  <a:lnTo>
                    <a:pt x="1040" y="880"/>
                  </a:lnTo>
                  <a:lnTo>
                    <a:pt x="1026" y="878"/>
                  </a:lnTo>
                  <a:lnTo>
                    <a:pt x="1026" y="878"/>
                  </a:lnTo>
                  <a:lnTo>
                    <a:pt x="1046" y="860"/>
                  </a:lnTo>
                  <a:lnTo>
                    <a:pt x="1066" y="838"/>
                  </a:lnTo>
                  <a:lnTo>
                    <a:pt x="1084" y="810"/>
                  </a:lnTo>
                  <a:lnTo>
                    <a:pt x="1100" y="776"/>
                  </a:lnTo>
                  <a:lnTo>
                    <a:pt x="1116" y="738"/>
                  </a:lnTo>
                  <a:lnTo>
                    <a:pt x="1128" y="696"/>
                  </a:lnTo>
                  <a:lnTo>
                    <a:pt x="1136" y="650"/>
                  </a:lnTo>
                  <a:lnTo>
                    <a:pt x="1142" y="600"/>
                  </a:lnTo>
                  <a:lnTo>
                    <a:pt x="1142" y="600"/>
                  </a:lnTo>
                  <a:close/>
                  <a:moveTo>
                    <a:pt x="624" y="528"/>
                  </a:moveTo>
                  <a:lnTo>
                    <a:pt x="624" y="528"/>
                  </a:lnTo>
                  <a:lnTo>
                    <a:pt x="604" y="522"/>
                  </a:lnTo>
                  <a:lnTo>
                    <a:pt x="584" y="516"/>
                  </a:lnTo>
                  <a:lnTo>
                    <a:pt x="568" y="512"/>
                  </a:lnTo>
                  <a:lnTo>
                    <a:pt x="552" y="512"/>
                  </a:lnTo>
                  <a:lnTo>
                    <a:pt x="546" y="512"/>
                  </a:lnTo>
                  <a:lnTo>
                    <a:pt x="540" y="514"/>
                  </a:lnTo>
                  <a:lnTo>
                    <a:pt x="534" y="518"/>
                  </a:lnTo>
                  <a:lnTo>
                    <a:pt x="528" y="524"/>
                  </a:lnTo>
                  <a:lnTo>
                    <a:pt x="524" y="530"/>
                  </a:lnTo>
                  <a:lnTo>
                    <a:pt x="520" y="540"/>
                  </a:lnTo>
                  <a:lnTo>
                    <a:pt x="512" y="564"/>
                  </a:lnTo>
                  <a:lnTo>
                    <a:pt x="512" y="564"/>
                  </a:lnTo>
                  <a:lnTo>
                    <a:pt x="510" y="570"/>
                  </a:lnTo>
                  <a:lnTo>
                    <a:pt x="506" y="574"/>
                  </a:lnTo>
                  <a:lnTo>
                    <a:pt x="496" y="582"/>
                  </a:lnTo>
                  <a:lnTo>
                    <a:pt x="484" y="586"/>
                  </a:lnTo>
                  <a:lnTo>
                    <a:pt x="470" y="586"/>
                  </a:lnTo>
                  <a:lnTo>
                    <a:pt x="462" y="584"/>
                  </a:lnTo>
                  <a:lnTo>
                    <a:pt x="456" y="580"/>
                  </a:lnTo>
                  <a:lnTo>
                    <a:pt x="452" y="576"/>
                  </a:lnTo>
                  <a:lnTo>
                    <a:pt x="446" y="570"/>
                  </a:lnTo>
                  <a:lnTo>
                    <a:pt x="444" y="562"/>
                  </a:lnTo>
                  <a:lnTo>
                    <a:pt x="440" y="552"/>
                  </a:lnTo>
                  <a:lnTo>
                    <a:pt x="440" y="542"/>
                  </a:lnTo>
                  <a:lnTo>
                    <a:pt x="442" y="528"/>
                  </a:lnTo>
                  <a:lnTo>
                    <a:pt x="442" y="528"/>
                  </a:lnTo>
                  <a:lnTo>
                    <a:pt x="444" y="520"/>
                  </a:lnTo>
                  <a:lnTo>
                    <a:pt x="448" y="508"/>
                  </a:lnTo>
                  <a:lnTo>
                    <a:pt x="454" y="498"/>
                  </a:lnTo>
                  <a:lnTo>
                    <a:pt x="460" y="488"/>
                  </a:lnTo>
                  <a:lnTo>
                    <a:pt x="468" y="480"/>
                  </a:lnTo>
                  <a:lnTo>
                    <a:pt x="478" y="472"/>
                  </a:lnTo>
                  <a:lnTo>
                    <a:pt x="490" y="464"/>
                  </a:lnTo>
                  <a:lnTo>
                    <a:pt x="502" y="460"/>
                  </a:lnTo>
                  <a:lnTo>
                    <a:pt x="514" y="456"/>
                  </a:lnTo>
                  <a:lnTo>
                    <a:pt x="528" y="456"/>
                  </a:lnTo>
                  <a:lnTo>
                    <a:pt x="542" y="460"/>
                  </a:lnTo>
                  <a:lnTo>
                    <a:pt x="558" y="464"/>
                  </a:lnTo>
                  <a:lnTo>
                    <a:pt x="574" y="474"/>
                  </a:lnTo>
                  <a:lnTo>
                    <a:pt x="590" y="488"/>
                  </a:lnTo>
                  <a:lnTo>
                    <a:pt x="606" y="506"/>
                  </a:lnTo>
                  <a:lnTo>
                    <a:pt x="624" y="528"/>
                  </a:lnTo>
                  <a:lnTo>
                    <a:pt x="624" y="528"/>
                  </a:lnTo>
                  <a:close/>
                  <a:moveTo>
                    <a:pt x="480" y="188"/>
                  </a:moveTo>
                  <a:lnTo>
                    <a:pt x="480" y="188"/>
                  </a:lnTo>
                  <a:lnTo>
                    <a:pt x="468" y="194"/>
                  </a:lnTo>
                  <a:lnTo>
                    <a:pt x="456" y="200"/>
                  </a:lnTo>
                  <a:lnTo>
                    <a:pt x="430" y="218"/>
                  </a:lnTo>
                  <a:lnTo>
                    <a:pt x="406" y="236"/>
                  </a:lnTo>
                  <a:lnTo>
                    <a:pt x="384" y="250"/>
                  </a:lnTo>
                  <a:lnTo>
                    <a:pt x="384" y="250"/>
                  </a:lnTo>
                  <a:lnTo>
                    <a:pt x="396" y="240"/>
                  </a:lnTo>
                  <a:lnTo>
                    <a:pt x="402" y="232"/>
                  </a:lnTo>
                  <a:lnTo>
                    <a:pt x="408" y="224"/>
                  </a:lnTo>
                  <a:lnTo>
                    <a:pt x="410" y="218"/>
                  </a:lnTo>
                  <a:lnTo>
                    <a:pt x="416" y="204"/>
                  </a:lnTo>
                  <a:lnTo>
                    <a:pt x="422" y="196"/>
                  </a:lnTo>
                  <a:lnTo>
                    <a:pt x="430" y="188"/>
                  </a:lnTo>
                  <a:lnTo>
                    <a:pt x="430" y="188"/>
                  </a:lnTo>
                  <a:lnTo>
                    <a:pt x="448" y="170"/>
                  </a:lnTo>
                  <a:lnTo>
                    <a:pt x="456" y="162"/>
                  </a:lnTo>
                  <a:lnTo>
                    <a:pt x="460" y="154"/>
                  </a:lnTo>
                  <a:lnTo>
                    <a:pt x="462" y="148"/>
                  </a:lnTo>
                  <a:lnTo>
                    <a:pt x="462" y="142"/>
                  </a:lnTo>
                  <a:lnTo>
                    <a:pt x="462" y="136"/>
                  </a:lnTo>
                  <a:lnTo>
                    <a:pt x="462" y="130"/>
                  </a:lnTo>
                  <a:lnTo>
                    <a:pt x="514" y="120"/>
                  </a:lnTo>
                  <a:lnTo>
                    <a:pt x="514" y="120"/>
                  </a:lnTo>
                  <a:lnTo>
                    <a:pt x="518" y="124"/>
                  </a:lnTo>
                  <a:lnTo>
                    <a:pt x="522" y="128"/>
                  </a:lnTo>
                  <a:lnTo>
                    <a:pt x="524" y="132"/>
                  </a:lnTo>
                  <a:lnTo>
                    <a:pt x="526" y="138"/>
                  </a:lnTo>
                  <a:lnTo>
                    <a:pt x="524" y="146"/>
                  </a:lnTo>
                  <a:lnTo>
                    <a:pt x="520" y="156"/>
                  </a:lnTo>
                  <a:lnTo>
                    <a:pt x="512" y="166"/>
                  </a:lnTo>
                  <a:lnTo>
                    <a:pt x="502" y="176"/>
                  </a:lnTo>
                  <a:lnTo>
                    <a:pt x="490" y="182"/>
                  </a:lnTo>
                  <a:lnTo>
                    <a:pt x="480" y="188"/>
                  </a:lnTo>
                  <a:lnTo>
                    <a:pt x="480" y="188"/>
                  </a:lnTo>
                  <a:close/>
                  <a:moveTo>
                    <a:pt x="702" y="212"/>
                  </a:moveTo>
                  <a:lnTo>
                    <a:pt x="702" y="212"/>
                  </a:lnTo>
                  <a:lnTo>
                    <a:pt x="650" y="192"/>
                  </a:lnTo>
                  <a:lnTo>
                    <a:pt x="624" y="184"/>
                  </a:lnTo>
                  <a:lnTo>
                    <a:pt x="598" y="178"/>
                  </a:lnTo>
                  <a:lnTo>
                    <a:pt x="598" y="178"/>
                  </a:lnTo>
                  <a:lnTo>
                    <a:pt x="586" y="176"/>
                  </a:lnTo>
                  <a:lnTo>
                    <a:pt x="574" y="170"/>
                  </a:lnTo>
                  <a:lnTo>
                    <a:pt x="564" y="164"/>
                  </a:lnTo>
                  <a:lnTo>
                    <a:pt x="556" y="156"/>
                  </a:lnTo>
                  <a:lnTo>
                    <a:pt x="550" y="146"/>
                  </a:lnTo>
                  <a:lnTo>
                    <a:pt x="548" y="138"/>
                  </a:lnTo>
                  <a:lnTo>
                    <a:pt x="548" y="132"/>
                  </a:lnTo>
                  <a:lnTo>
                    <a:pt x="550" y="128"/>
                  </a:lnTo>
                  <a:lnTo>
                    <a:pt x="552" y="122"/>
                  </a:lnTo>
                  <a:lnTo>
                    <a:pt x="556" y="118"/>
                  </a:lnTo>
                  <a:lnTo>
                    <a:pt x="610" y="116"/>
                  </a:lnTo>
                  <a:lnTo>
                    <a:pt x="610" y="116"/>
                  </a:lnTo>
                  <a:lnTo>
                    <a:pt x="610" y="128"/>
                  </a:lnTo>
                  <a:lnTo>
                    <a:pt x="612" y="134"/>
                  </a:lnTo>
                  <a:lnTo>
                    <a:pt x="614" y="142"/>
                  </a:lnTo>
                  <a:lnTo>
                    <a:pt x="620" y="148"/>
                  </a:lnTo>
                  <a:lnTo>
                    <a:pt x="626" y="154"/>
                  </a:lnTo>
                  <a:lnTo>
                    <a:pt x="646" y="168"/>
                  </a:lnTo>
                  <a:lnTo>
                    <a:pt x="646" y="168"/>
                  </a:lnTo>
                  <a:lnTo>
                    <a:pt x="656" y="174"/>
                  </a:lnTo>
                  <a:lnTo>
                    <a:pt x="664" y="180"/>
                  </a:lnTo>
                  <a:lnTo>
                    <a:pt x="670" y="188"/>
                  </a:lnTo>
                  <a:lnTo>
                    <a:pt x="680" y="198"/>
                  </a:lnTo>
                  <a:lnTo>
                    <a:pt x="702" y="212"/>
                  </a:lnTo>
                  <a:lnTo>
                    <a:pt x="702" y="212"/>
                  </a:lnTo>
                  <a:close/>
                  <a:moveTo>
                    <a:pt x="1168" y="94"/>
                  </a:moveTo>
                  <a:lnTo>
                    <a:pt x="1168" y="94"/>
                  </a:lnTo>
                  <a:lnTo>
                    <a:pt x="1164" y="86"/>
                  </a:lnTo>
                  <a:lnTo>
                    <a:pt x="1160" y="80"/>
                  </a:lnTo>
                  <a:lnTo>
                    <a:pt x="1154" y="74"/>
                  </a:lnTo>
                  <a:lnTo>
                    <a:pt x="1148" y="70"/>
                  </a:lnTo>
                  <a:lnTo>
                    <a:pt x="1134" y="64"/>
                  </a:lnTo>
                  <a:lnTo>
                    <a:pt x="1120" y="60"/>
                  </a:lnTo>
                  <a:lnTo>
                    <a:pt x="1092" y="56"/>
                  </a:lnTo>
                  <a:lnTo>
                    <a:pt x="1084" y="52"/>
                  </a:lnTo>
                  <a:lnTo>
                    <a:pt x="1082" y="50"/>
                  </a:lnTo>
                  <a:lnTo>
                    <a:pt x="1080" y="46"/>
                  </a:lnTo>
                  <a:lnTo>
                    <a:pt x="1080" y="46"/>
                  </a:lnTo>
                  <a:lnTo>
                    <a:pt x="1086" y="40"/>
                  </a:lnTo>
                  <a:lnTo>
                    <a:pt x="1092" y="36"/>
                  </a:lnTo>
                  <a:lnTo>
                    <a:pt x="1098" y="34"/>
                  </a:lnTo>
                  <a:lnTo>
                    <a:pt x="1106" y="32"/>
                  </a:lnTo>
                  <a:lnTo>
                    <a:pt x="1120" y="30"/>
                  </a:lnTo>
                  <a:lnTo>
                    <a:pt x="1134" y="36"/>
                  </a:lnTo>
                  <a:lnTo>
                    <a:pt x="1148" y="44"/>
                  </a:lnTo>
                  <a:lnTo>
                    <a:pt x="1154" y="50"/>
                  </a:lnTo>
                  <a:lnTo>
                    <a:pt x="1158" y="56"/>
                  </a:lnTo>
                  <a:lnTo>
                    <a:pt x="1162" y="66"/>
                  </a:lnTo>
                  <a:lnTo>
                    <a:pt x="1166" y="74"/>
                  </a:lnTo>
                  <a:lnTo>
                    <a:pt x="1168" y="84"/>
                  </a:lnTo>
                  <a:lnTo>
                    <a:pt x="1168" y="94"/>
                  </a:lnTo>
                  <a:lnTo>
                    <a:pt x="1168" y="94"/>
                  </a:lnTo>
                  <a:close/>
                </a:path>
              </a:pathLst>
            </a:custGeom>
            <a:solidFill>
              <a:srgbClr val="947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5"/>
            <p:cNvSpPr/>
            <p:nvPr/>
          </p:nvSpPr>
          <p:spPr>
            <a:xfrm>
              <a:off x="11460240" y="1333440"/>
              <a:ext cx="431640" cy="46008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72" h="290">
                  <a:moveTo>
                    <a:pt x="266" y="94"/>
                  </a:moveTo>
                  <a:lnTo>
                    <a:pt x="266" y="94"/>
                  </a:lnTo>
                  <a:lnTo>
                    <a:pt x="250" y="70"/>
                  </a:lnTo>
                  <a:lnTo>
                    <a:pt x="234" y="50"/>
                  </a:lnTo>
                  <a:lnTo>
                    <a:pt x="214" y="32"/>
                  </a:lnTo>
                  <a:lnTo>
                    <a:pt x="192" y="18"/>
                  </a:lnTo>
                  <a:lnTo>
                    <a:pt x="170" y="8"/>
                  </a:lnTo>
                  <a:lnTo>
                    <a:pt x="146" y="2"/>
                  </a:lnTo>
                  <a:lnTo>
                    <a:pt x="120" y="0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8"/>
                  </a:lnTo>
                  <a:lnTo>
                    <a:pt x="50" y="16"/>
                  </a:lnTo>
                  <a:lnTo>
                    <a:pt x="34" y="28"/>
                  </a:lnTo>
                  <a:lnTo>
                    <a:pt x="26" y="34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12" y="56"/>
                  </a:lnTo>
                  <a:lnTo>
                    <a:pt x="6" y="74"/>
                  </a:lnTo>
                  <a:lnTo>
                    <a:pt x="0" y="90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4" y="142"/>
                  </a:lnTo>
                  <a:lnTo>
                    <a:pt x="10" y="156"/>
                  </a:lnTo>
                  <a:lnTo>
                    <a:pt x="20" y="168"/>
                  </a:lnTo>
                  <a:lnTo>
                    <a:pt x="20" y="168"/>
                  </a:lnTo>
                  <a:lnTo>
                    <a:pt x="20" y="152"/>
                  </a:lnTo>
                  <a:lnTo>
                    <a:pt x="20" y="138"/>
                  </a:lnTo>
                  <a:lnTo>
                    <a:pt x="22" y="126"/>
                  </a:lnTo>
                  <a:lnTo>
                    <a:pt x="24" y="112"/>
                  </a:lnTo>
                  <a:lnTo>
                    <a:pt x="28" y="102"/>
                  </a:lnTo>
                  <a:lnTo>
                    <a:pt x="32" y="90"/>
                  </a:lnTo>
                  <a:lnTo>
                    <a:pt x="38" y="82"/>
                  </a:lnTo>
                  <a:lnTo>
                    <a:pt x="44" y="72"/>
                  </a:lnTo>
                  <a:lnTo>
                    <a:pt x="52" y="66"/>
                  </a:lnTo>
                  <a:lnTo>
                    <a:pt x="58" y="60"/>
                  </a:lnTo>
                  <a:lnTo>
                    <a:pt x="66" y="54"/>
                  </a:lnTo>
                  <a:lnTo>
                    <a:pt x="76" y="50"/>
                  </a:lnTo>
                  <a:lnTo>
                    <a:pt x="84" y="48"/>
                  </a:lnTo>
                  <a:lnTo>
                    <a:pt x="94" y="46"/>
                  </a:lnTo>
                  <a:lnTo>
                    <a:pt x="102" y="46"/>
                  </a:lnTo>
                  <a:lnTo>
                    <a:pt x="112" y="48"/>
                  </a:lnTo>
                  <a:lnTo>
                    <a:pt x="112" y="48"/>
                  </a:lnTo>
                  <a:lnTo>
                    <a:pt x="136" y="54"/>
                  </a:lnTo>
                  <a:lnTo>
                    <a:pt x="154" y="64"/>
                  </a:lnTo>
                  <a:lnTo>
                    <a:pt x="166" y="74"/>
                  </a:lnTo>
                  <a:lnTo>
                    <a:pt x="172" y="86"/>
                  </a:lnTo>
                  <a:lnTo>
                    <a:pt x="174" y="98"/>
                  </a:lnTo>
                  <a:lnTo>
                    <a:pt x="172" y="110"/>
                  </a:lnTo>
                  <a:lnTo>
                    <a:pt x="168" y="122"/>
                  </a:lnTo>
                  <a:lnTo>
                    <a:pt x="160" y="132"/>
                  </a:lnTo>
                  <a:lnTo>
                    <a:pt x="152" y="142"/>
                  </a:lnTo>
                  <a:lnTo>
                    <a:pt x="142" y="148"/>
                  </a:lnTo>
                  <a:lnTo>
                    <a:pt x="130" y="154"/>
                  </a:lnTo>
                  <a:lnTo>
                    <a:pt x="120" y="156"/>
                  </a:lnTo>
                  <a:lnTo>
                    <a:pt x="110" y="154"/>
                  </a:lnTo>
                  <a:lnTo>
                    <a:pt x="102" y="148"/>
                  </a:lnTo>
                  <a:lnTo>
                    <a:pt x="96" y="138"/>
                  </a:lnTo>
                  <a:lnTo>
                    <a:pt x="94" y="122"/>
                  </a:lnTo>
                  <a:lnTo>
                    <a:pt x="94" y="122"/>
                  </a:lnTo>
                  <a:lnTo>
                    <a:pt x="84" y="138"/>
                  </a:lnTo>
                  <a:lnTo>
                    <a:pt x="78" y="152"/>
                  </a:lnTo>
                  <a:lnTo>
                    <a:pt x="74" y="166"/>
                  </a:lnTo>
                  <a:lnTo>
                    <a:pt x="72" y="178"/>
                  </a:lnTo>
                  <a:lnTo>
                    <a:pt x="72" y="190"/>
                  </a:lnTo>
                  <a:lnTo>
                    <a:pt x="74" y="202"/>
                  </a:lnTo>
                  <a:lnTo>
                    <a:pt x="78" y="212"/>
                  </a:lnTo>
                  <a:lnTo>
                    <a:pt x="84" y="220"/>
                  </a:lnTo>
                  <a:lnTo>
                    <a:pt x="92" y="228"/>
                  </a:lnTo>
                  <a:lnTo>
                    <a:pt x="102" y="234"/>
                  </a:lnTo>
                  <a:lnTo>
                    <a:pt x="112" y="238"/>
                  </a:lnTo>
                  <a:lnTo>
                    <a:pt x="124" y="242"/>
                  </a:lnTo>
                  <a:lnTo>
                    <a:pt x="136" y="242"/>
                  </a:lnTo>
                  <a:lnTo>
                    <a:pt x="148" y="242"/>
                  </a:lnTo>
                  <a:lnTo>
                    <a:pt x="162" y="240"/>
                  </a:lnTo>
                  <a:lnTo>
                    <a:pt x="176" y="236"/>
                  </a:lnTo>
                  <a:lnTo>
                    <a:pt x="176" y="236"/>
                  </a:lnTo>
                  <a:lnTo>
                    <a:pt x="188" y="260"/>
                  </a:lnTo>
                  <a:lnTo>
                    <a:pt x="206" y="290"/>
                  </a:lnTo>
                  <a:lnTo>
                    <a:pt x="206" y="290"/>
                  </a:lnTo>
                  <a:lnTo>
                    <a:pt x="220" y="278"/>
                  </a:lnTo>
                  <a:lnTo>
                    <a:pt x="232" y="266"/>
                  </a:lnTo>
                  <a:lnTo>
                    <a:pt x="240" y="254"/>
                  </a:lnTo>
                  <a:lnTo>
                    <a:pt x="248" y="242"/>
                  </a:lnTo>
                  <a:lnTo>
                    <a:pt x="258" y="216"/>
                  </a:lnTo>
                  <a:lnTo>
                    <a:pt x="268" y="188"/>
                  </a:lnTo>
                  <a:lnTo>
                    <a:pt x="268" y="188"/>
                  </a:lnTo>
                  <a:lnTo>
                    <a:pt x="270" y="180"/>
                  </a:lnTo>
                  <a:lnTo>
                    <a:pt x="272" y="168"/>
                  </a:lnTo>
                  <a:lnTo>
                    <a:pt x="272" y="140"/>
                  </a:lnTo>
                  <a:lnTo>
                    <a:pt x="270" y="112"/>
                  </a:lnTo>
                  <a:lnTo>
                    <a:pt x="268" y="102"/>
                  </a:lnTo>
                  <a:lnTo>
                    <a:pt x="266" y="94"/>
                  </a:lnTo>
                  <a:lnTo>
                    <a:pt x="266" y="94"/>
                  </a:lnTo>
                  <a:close/>
                  <a:moveTo>
                    <a:pt x="220" y="224"/>
                  </a:moveTo>
                  <a:lnTo>
                    <a:pt x="220" y="224"/>
                  </a:lnTo>
                  <a:lnTo>
                    <a:pt x="208" y="198"/>
                  </a:lnTo>
                  <a:lnTo>
                    <a:pt x="20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88" y="188"/>
                  </a:lnTo>
                  <a:lnTo>
                    <a:pt x="180" y="194"/>
                  </a:lnTo>
                  <a:lnTo>
                    <a:pt x="172" y="200"/>
                  </a:lnTo>
                  <a:lnTo>
                    <a:pt x="160" y="202"/>
                  </a:lnTo>
                  <a:lnTo>
                    <a:pt x="150" y="204"/>
                  </a:lnTo>
                  <a:lnTo>
                    <a:pt x="138" y="204"/>
                  </a:lnTo>
                  <a:lnTo>
                    <a:pt x="128" y="200"/>
                  </a:lnTo>
                  <a:lnTo>
                    <a:pt x="120" y="194"/>
                  </a:lnTo>
                  <a:lnTo>
                    <a:pt x="120" y="194"/>
                  </a:lnTo>
                  <a:lnTo>
                    <a:pt x="132" y="194"/>
                  </a:lnTo>
                  <a:lnTo>
                    <a:pt x="148" y="188"/>
                  </a:lnTo>
                  <a:lnTo>
                    <a:pt x="166" y="180"/>
                  </a:lnTo>
                  <a:lnTo>
                    <a:pt x="176" y="172"/>
                  </a:lnTo>
                  <a:lnTo>
                    <a:pt x="184" y="166"/>
                  </a:lnTo>
                  <a:lnTo>
                    <a:pt x="192" y="158"/>
                  </a:lnTo>
                  <a:lnTo>
                    <a:pt x="198" y="148"/>
                  </a:lnTo>
                  <a:lnTo>
                    <a:pt x="204" y="138"/>
                  </a:lnTo>
                  <a:lnTo>
                    <a:pt x="208" y="126"/>
                  </a:lnTo>
                  <a:lnTo>
                    <a:pt x="208" y="112"/>
                  </a:lnTo>
                  <a:lnTo>
                    <a:pt x="208" y="98"/>
                  </a:lnTo>
                  <a:lnTo>
                    <a:pt x="206" y="82"/>
                  </a:lnTo>
                  <a:lnTo>
                    <a:pt x="200" y="66"/>
                  </a:lnTo>
                  <a:lnTo>
                    <a:pt x="200" y="66"/>
                  </a:lnTo>
                  <a:lnTo>
                    <a:pt x="210" y="78"/>
                  </a:lnTo>
                  <a:lnTo>
                    <a:pt x="218" y="92"/>
                  </a:lnTo>
                  <a:lnTo>
                    <a:pt x="224" y="108"/>
                  </a:lnTo>
                  <a:lnTo>
                    <a:pt x="230" y="126"/>
                  </a:lnTo>
                  <a:lnTo>
                    <a:pt x="232" y="146"/>
                  </a:lnTo>
                  <a:lnTo>
                    <a:pt x="232" y="168"/>
                  </a:lnTo>
                  <a:lnTo>
                    <a:pt x="228" y="194"/>
                  </a:lnTo>
                  <a:lnTo>
                    <a:pt x="220" y="224"/>
                  </a:lnTo>
                  <a:lnTo>
                    <a:pt x="220" y="224"/>
                  </a:lnTo>
                  <a:close/>
                </a:path>
              </a:pathLst>
            </a:custGeom>
            <a:solidFill>
              <a:srgbClr val="cabb8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6"/>
            <p:cNvSpPr/>
            <p:nvPr/>
          </p:nvSpPr>
          <p:spPr>
            <a:xfrm>
              <a:off x="9361080" y="345960"/>
              <a:ext cx="4181760" cy="1514520"/>
            </a:xfrm>
            <a:custGeom>
              <a:avLst/>
              <a:gdLst>
                <a:gd name="textAreaLeft" fmla="*/ 0 w 4181760"/>
                <a:gd name="textAreaRight" fmla="*/ 4182120 w 4181760"/>
                <a:gd name="textAreaTop" fmla="*/ 0 h 1514520"/>
                <a:gd name="textAreaBottom" fmla="*/ 1514880 h 1514520"/>
              </a:gdLst>
              <a:ahLst/>
              <a:rect l="textAreaLeft" t="textAreaTop" r="textAreaRight" b="textAreaBottom"/>
              <a:pathLst>
                <a:path w="2634" h="954">
                  <a:moveTo>
                    <a:pt x="2634" y="56"/>
                  </a:moveTo>
                  <a:lnTo>
                    <a:pt x="2634" y="56"/>
                  </a:lnTo>
                  <a:lnTo>
                    <a:pt x="2602" y="44"/>
                  </a:lnTo>
                  <a:lnTo>
                    <a:pt x="2570" y="34"/>
                  </a:lnTo>
                  <a:lnTo>
                    <a:pt x="2538" y="26"/>
                  </a:lnTo>
                  <a:lnTo>
                    <a:pt x="2504" y="18"/>
                  </a:lnTo>
                  <a:lnTo>
                    <a:pt x="2472" y="12"/>
                  </a:lnTo>
                  <a:lnTo>
                    <a:pt x="2438" y="8"/>
                  </a:lnTo>
                  <a:lnTo>
                    <a:pt x="2372" y="2"/>
                  </a:lnTo>
                  <a:lnTo>
                    <a:pt x="2308" y="0"/>
                  </a:lnTo>
                  <a:lnTo>
                    <a:pt x="2276" y="0"/>
                  </a:lnTo>
                  <a:lnTo>
                    <a:pt x="2246" y="2"/>
                  </a:lnTo>
                  <a:lnTo>
                    <a:pt x="2216" y="6"/>
                  </a:lnTo>
                  <a:lnTo>
                    <a:pt x="2188" y="10"/>
                  </a:lnTo>
                  <a:lnTo>
                    <a:pt x="2162" y="16"/>
                  </a:lnTo>
                  <a:lnTo>
                    <a:pt x="2136" y="22"/>
                  </a:lnTo>
                  <a:lnTo>
                    <a:pt x="2136" y="22"/>
                  </a:lnTo>
                  <a:lnTo>
                    <a:pt x="2074" y="42"/>
                  </a:lnTo>
                  <a:lnTo>
                    <a:pt x="2016" y="64"/>
                  </a:lnTo>
                  <a:lnTo>
                    <a:pt x="1964" y="88"/>
                  </a:lnTo>
                  <a:lnTo>
                    <a:pt x="1914" y="114"/>
                  </a:lnTo>
                  <a:lnTo>
                    <a:pt x="1870" y="138"/>
                  </a:lnTo>
                  <a:lnTo>
                    <a:pt x="1828" y="164"/>
                  </a:lnTo>
                  <a:lnTo>
                    <a:pt x="1790" y="192"/>
                  </a:lnTo>
                  <a:lnTo>
                    <a:pt x="1756" y="216"/>
                  </a:lnTo>
                  <a:lnTo>
                    <a:pt x="1756" y="216"/>
                  </a:lnTo>
                  <a:lnTo>
                    <a:pt x="1732" y="232"/>
                  </a:lnTo>
                  <a:lnTo>
                    <a:pt x="1708" y="248"/>
                  </a:lnTo>
                  <a:lnTo>
                    <a:pt x="1682" y="260"/>
                  </a:lnTo>
                  <a:lnTo>
                    <a:pt x="1654" y="272"/>
                  </a:lnTo>
                  <a:lnTo>
                    <a:pt x="1626" y="282"/>
                  </a:lnTo>
                  <a:lnTo>
                    <a:pt x="1596" y="290"/>
                  </a:lnTo>
                  <a:lnTo>
                    <a:pt x="1568" y="298"/>
                  </a:lnTo>
                  <a:lnTo>
                    <a:pt x="1538" y="302"/>
                  </a:lnTo>
                  <a:lnTo>
                    <a:pt x="1510" y="304"/>
                  </a:lnTo>
                  <a:lnTo>
                    <a:pt x="1482" y="304"/>
                  </a:lnTo>
                  <a:lnTo>
                    <a:pt x="1458" y="300"/>
                  </a:lnTo>
                  <a:lnTo>
                    <a:pt x="1434" y="294"/>
                  </a:lnTo>
                  <a:lnTo>
                    <a:pt x="1412" y="286"/>
                  </a:lnTo>
                  <a:lnTo>
                    <a:pt x="1394" y="276"/>
                  </a:lnTo>
                  <a:lnTo>
                    <a:pt x="1378" y="262"/>
                  </a:lnTo>
                  <a:lnTo>
                    <a:pt x="1372" y="252"/>
                  </a:lnTo>
                  <a:lnTo>
                    <a:pt x="1366" y="244"/>
                  </a:lnTo>
                  <a:lnTo>
                    <a:pt x="1366" y="244"/>
                  </a:lnTo>
                  <a:lnTo>
                    <a:pt x="1358" y="226"/>
                  </a:lnTo>
                  <a:lnTo>
                    <a:pt x="1352" y="210"/>
                  </a:lnTo>
                  <a:lnTo>
                    <a:pt x="1350" y="194"/>
                  </a:lnTo>
                  <a:lnTo>
                    <a:pt x="1350" y="178"/>
                  </a:lnTo>
                  <a:lnTo>
                    <a:pt x="1352" y="162"/>
                  </a:lnTo>
                  <a:lnTo>
                    <a:pt x="1354" y="148"/>
                  </a:lnTo>
                  <a:lnTo>
                    <a:pt x="1364" y="120"/>
                  </a:lnTo>
                  <a:lnTo>
                    <a:pt x="1364" y="120"/>
                  </a:lnTo>
                  <a:lnTo>
                    <a:pt x="1370" y="108"/>
                  </a:lnTo>
                  <a:lnTo>
                    <a:pt x="1376" y="98"/>
                  </a:lnTo>
                  <a:lnTo>
                    <a:pt x="1384" y="90"/>
                  </a:lnTo>
                  <a:lnTo>
                    <a:pt x="1392" y="82"/>
                  </a:lnTo>
                  <a:lnTo>
                    <a:pt x="1402" y="76"/>
                  </a:lnTo>
                  <a:lnTo>
                    <a:pt x="1412" y="70"/>
                  </a:lnTo>
                  <a:lnTo>
                    <a:pt x="1422" y="66"/>
                  </a:lnTo>
                  <a:lnTo>
                    <a:pt x="1434" y="62"/>
                  </a:lnTo>
                  <a:lnTo>
                    <a:pt x="1446" y="60"/>
                  </a:lnTo>
                  <a:lnTo>
                    <a:pt x="1458" y="60"/>
                  </a:lnTo>
                  <a:lnTo>
                    <a:pt x="1472" y="62"/>
                  </a:lnTo>
                  <a:lnTo>
                    <a:pt x="1484" y="64"/>
                  </a:lnTo>
                  <a:lnTo>
                    <a:pt x="1498" y="68"/>
                  </a:lnTo>
                  <a:lnTo>
                    <a:pt x="1510" y="74"/>
                  </a:lnTo>
                  <a:lnTo>
                    <a:pt x="1522" y="82"/>
                  </a:lnTo>
                  <a:lnTo>
                    <a:pt x="1534" y="90"/>
                  </a:lnTo>
                  <a:lnTo>
                    <a:pt x="1534" y="90"/>
                  </a:lnTo>
                  <a:lnTo>
                    <a:pt x="1520" y="88"/>
                  </a:lnTo>
                  <a:lnTo>
                    <a:pt x="1506" y="90"/>
                  </a:lnTo>
                  <a:lnTo>
                    <a:pt x="1492" y="92"/>
                  </a:lnTo>
                  <a:lnTo>
                    <a:pt x="1482" y="98"/>
                  </a:lnTo>
                  <a:lnTo>
                    <a:pt x="1472" y="104"/>
                  </a:lnTo>
                  <a:lnTo>
                    <a:pt x="1464" y="112"/>
                  </a:lnTo>
                  <a:lnTo>
                    <a:pt x="1456" y="120"/>
                  </a:lnTo>
                  <a:lnTo>
                    <a:pt x="1450" y="130"/>
                  </a:lnTo>
                  <a:lnTo>
                    <a:pt x="1446" y="142"/>
                  </a:lnTo>
                  <a:lnTo>
                    <a:pt x="1442" y="152"/>
                  </a:lnTo>
                  <a:lnTo>
                    <a:pt x="1442" y="164"/>
                  </a:lnTo>
                  <a:lnTo>
                    <a:pt x="1442" y="174"/>
                  </a:lnTo>
                  <a:lnTo>
                    <a:pt x="1442" y="186"/>
                  </a:lnTo>
                  <a:lnTo>
                    <a:pt x="1446" y="196"/>
                  </a:lnTo>
                  <a:lnTo>
                    <a:pt x="1450" y="204"/>
                  </a:lnTo>
                  <a:lnTo>
                    <a:pt x="1456" y="212"/>
                  </a:lnTo>
                  <a:lnTo>
                    <a:pt x="1456" y="212"/>
                  </a:lnTo>
                  <a:lnTo>
                    <a:pt x="1464" y="222"/>
                  </a:lnTo>
                  <a:lnTo>
                    <a:pt x="1474" y="230"/>
                  </a:lnTo>
                  <a:lnTo>
                    <a:pt x="1484" y="236"/>
                  </a:lnTo>
                  <a:lnTo>
                    <a:pt x="1494" y="240"/>
                  </a:lnTo>
                  <a:lnTo>
                    <a:pt x="1504" y="242"/>
                  </a:lnTo>
                  <a:lnTo>
                    <a:pt x="1514" y="244"/>
                  </a:lnTo>
                  <a:lnTo>
                    <a:pt x="1524" y="246"/>
                  </a:lnTo>
                  <a:lnTo>
                    <a:pt x="1534" y="244"/>
                  </a:lnTo>
                  <a:lnTo>
                    <a:pt x="1554" y="240"/>
                  </a:lnTo>
                  <a:lnTo>
                    <a:pt x="1572" y="230"/>
                  </a:lnTo>
                  <a:lnTo>
                    <a:pt x="1588" y="218"/>
                  </a:lnTo>
                  <a:lnTo>
                    <a:pt x="1602" y="204"/>
                  </a:lnTo>
                  <a:lnTo>
                    <a:pt x="1602" y="204"/>
                  </a:lnTo>
                  <a:lnTo>
                    <a:pt x="1612" y="186"/>
                  </a:lnTo>
                  <a:lnTo>
                    <a:pt x="1616" y="176"/>
                  </a:lnTo>
                  <a:lnTo>
                    <a:pt x="1620" y="164"/>
                  </a:lnTo>
                  <a:lnTo>
                    <a:pt x="1620" y="154"/>
                  </a:lnTo>
                  <a:lnTo>
                    <a:pt x="1622" y="142"/>
                  </a:lnTo>
                  <a:lnTo>
                    <a:pt x="1620" y="132"/>
                  </a:lnTo>
                  <a:lnTo>
                    <a:pt x="1618" y="120"/>
                  </a:lnTo>
                  <a:lnTo>
                    <a:pt x="1614" y="108"/>
                  </a:lnTo>
                  <a:lnTo>
                    <a:pt x="1610" y="98"/>
                  </a:lnTo>
                  <a:lnTo>
                    <a:pt x="1602" y="86"/>
                  </a:lnTo>
                  <a:lnTo>
                    <a:pt x="1594" y="76"/>
                  </a:lnTo>
                  <a:lnTo>
                    <a:pt x="1584" y="66"/>
                  </a:lnTo>
                  <a:lnTo>
                    <a:pt x="1572" y="56"/>
                  </a:lnTo>
                  <a:lnTo>
                    <a:pt x="1558" y="46"/>
                  </a:lnTo>
                  <a:lnTo>
                    <a:pt x="1544" y="38"/>
                  </a:lnTo>
                  <a:lnTo>
                    <a:pt x="1544" y="38"/>
                  </a:lnTo>
                  <a:lnTo>
                    <a:pt x="1526" y="32"/>
                  </a:lnTo>
                  <a:lnTo>
                    <a:pt x="1508" y="26"/>
                  </a:lnTo>
                  <a:lnTo>
                    <a:pt x="1490" y="22"/>
                  </a:lnTo>
                  <a:lnTo>
                    <a:pt x="1472" y="20"/>
                  </a:lnTo>
                  <a:lnTo>
                    <a:pt x="1452" y="18"/>
                  </a:lnTo>
                  <a:lnTo>
                    <a:pt x="1432" y="20"/>
                  </a:lnTo>
                  <a:lnTo>
                    <a:pt x="1414" y="24"/>
                  </a:lnTo>
                  <a:lnTo>
                    <a:pt x="1394" y="28"/>
                  </a:lnTo>
                  <a:lnTo>
                    <a:pt x="1376" y="36"/>
                  </a:lnTo>
                  <a:lnTo>
                    <a:pt x="1358" y="44"/>
                  </a:lnTo>
                  <a:lnTo>
                    <a:pt x="1342" y="54"/>
                  </a:lnTo>
                  <a:lnTo>
                    <a:pt x="1326" y="68"/>
                  </a:lnTo>
                  <a:lnTo>
                    <a:pt x="1312" y="82"/>
                  </a:lnTo>
                  <a:lnTo>
                    <a:pt x="1298" y="100"/>
                  </a:lnTo>
                  <a:lnTo>
                    <a:pt x="1288" y="118"/>
                  </a:lnTo>
                  <a:lnTo>
                    <a:pt x="1278" y="140"/>
                  </a:lnTo>
                  <a:lnTo>
                    <a:pt x="1278" y="140"/>
                  </a:lnTo>
                  <a:lnTo>
                    <a:pt x="1270" y="164"/>
                  </a:lnTo>
                  <a:lnTo>
                    <a:pt x="1264" y="186"/>
                  </a:lnTo>
                  <a:lnTo>
                    <a:pt x="1260" y="206"/>
                  </a:lnTo>
                  <a:lnTo>
                    <a:pt x="1258" y="224"/>
                  </a:lnTo>
                  <a:lnTo>
                    <a:pt x="1258" y="240"/>
                  </a:lnTo>
                  <a:lnTo>
                    <a:pt x="1260" y="254"/>
                  </a:lnTo>
                  <a:lnTo>
                    <a:pt x="1262" y="268"/>
                  </a:lnTo>
                  <a:lnTo>
                    <a:pt x="1266" y="280"/>
                  </a:lnTo>
                  <a:lnTo>
                    <a:pt x="1272" y="292"/>
                  </a:lnTo>
                  <a:lnTo>
                    <a:pt x="1278" y="302"/>
                  </a:lnTo>
                  <a:lnTo>
                    <a:pt x="1294" y="318"/>
                  </a:lnTo>
                  <a:lnTo>
                    <a:pt x="1310" y="334"/>
                  </a:lnTo>
                  <a:lnTo>
                    <a:pt x="1326" y="348"/>
                  </a:lnTo>
                  <a:lnTo>
                    <a:pt x="1326" y="348"/>
                  </a:lnTo>
                  <a:lnTo>
                    <a:pt x="1284" y="350"/>
                  </a:lnTo>
                  <a:lnTo>
                    <a:pt x="1250" y="350"/>
                  </a:lnTo>
                  <a:lnTo>
                    <a:pt x="1226" y="346"/>
                  </a:lnTo>
                  <a:lnTo>
                    <a:pt x="1208" y="342"/>
                  </a:lnTo>
                  <a:lnTo>
                    <a:pt x="1208" y="342"/>
                  </a:lnTo>
                  <a:lnTo>
                    <a:pt x="1240" y="366"/>
                  </a:lnTo>
                  <a:lnTo>
                    <a:pt x="1278" y="384"/>
                  </a:lnTo>
                  <a:lnTo>
                    <a:pt x="1318" y="402"/>
                  </a:lnTo>
                  <a:lnTo>
                    <a:pt x="1360" y="414"/>
                  </a:lnTo>
                  <a:lnTo>
                    <a:pt x="1380" y="418"/>
                  </a:lnTo>
                  <a:lnTo>
                    <a:pt x="1402" y="422"/>
                  </a:lnTo>
                  <a:lnTo>
                    <a:pt x="1422" y="424"/>
                  </a:lnTo>
                  <a:lnTo>
                    <a:pt x="1444" y="424"/>
                  </a:lnTo>
                  <a:lnTo>
                    <a:pt x="1464" y="422"/>
                  </a:lnTo>
                  <a:lnTo>
                    <a:pt x="1482" y="420"/>
                  </a:lnTo>
                  <a:lnTo>
                    <a:pt x="1502" y="416"/>
                  </a:lnTo>
                  <a:lnTo>
                    <a:pt x="1520" y="410"/>
                  </a:lnTo>
                  <a:lnTo>
                    <a:pt x="1520" y="410"/>
                  </a:lnTo>
                  <a:lnTo>
                    <a:pt x="1482" y="452"/>
                  </a:lnTo>
                  <a:lnTo>
                    <a:pt x="1444" y="488"/>
                  </a:lnTo>
                  <a:lnTo>
                    <a:pt x="1408" y="518"/>
                  </a:lnTo>
                  <a:lnTo>
                    <a:pt x="1372" y="540"/>
                  </a:lnTo>
                  <a:lnTo>
                    <a:pt x="1338" y="558"/>
                  </a:lnTo>
                  <a:lnTo>
                    <a:pt x="1306" y="570"/>
                  </a:lnTo>
                  <a:lnTo>
                    <a:pt x="1274" y="576"/>
                  </a:lnTo>
                  <a:lnTo>
                    <a:pt x="1246" y="578"/>
                  </a:lnTo>
                  <a:lnTo>
                    <a:pt x="1234" y="576"/>
                  </a:lnTo>
                  <a:lnTo>
                    <a:pt x="1220" y="574"/>
                  </a:lnTo>
                  <a:lnTo>
                    <a:pt x="1208" y="572"/>
                  </a:lnTo>
                  <a:lnTo>
                    <a:pt x="1198" y="566"/>
                  </a:lnTo>
                  <a:lnTo>
                    <a:pt x="1186" y="562"/>
                  </a:lnTo>
                  <a:lnTo>
                    <a:pt x="1176" y="556"/>
                  </a:lnTo>
                  <a:lnTo>
                    <a:pt x="1168" y="548"/>
                  </a:lnTo>
                  <a:lnTo>
                    <a:pt x="1160" y="540"/>
                  </a:lnTo>
                  <a:lnTo>
                    <a:pt x="1144" y="522"/>
                  </a:lnTo>
                  <a:lnTo>
                    <a:pt x="1134" y="498"/>
                  </a:lnTo>
                  <a:lnTo>
                    <a:pt x="1126" y="474"/>
                  </a:lnTo>
                  <a:lnTo>
                    <a:pt x="1124" y="446"/>
                  </a:lnTo>
                  <a:lnTo>
                    <a:pt x="1124" y="446"/>
                  </a:lnTo>
                  <a:lnTo>
                    <a:pt x="1110" y="446"/>
                  </a:lnTo>
                  <a:lnTo>
                    <a:pt x="1098" y="448"/>
                  </a:lnTo>
                  <a:lnTo>
                    <a:pt x="1088" y="454"/>
                  </a:lnTo>
                  <a:lnTo>
                    <a:pt x="1082" y="460"/>
                  </a:lnTo>
                  <a:lnTo>
                    <a:pt x="1076" y="468"/>
                  </a:lnTo>
                  <a:lnTo>
                    <a:pt x="1074" y="476"/>
                  </a:lnTo>
                  <a:lnTo>
                    <a:pt x="1074" y="486"/>
                  </a:lnTo>
                  <a:lnTo>
                    <a:pt x="1076" y="498"/>
                  </a:lnTo>
                  <a:lnTo>
                    <a:pt x="1076" y="498"/>
                  </a:lnTo>
                  <a:lnTo>
                    <a:pt x="1064" y="490"/>
                  </a:lnTo>
                  <a:lnTo>
                    <a:pt x="1056" y="482"/>
                  </a:lnTo>
                  <a:lnTo>
                    <a:pt x="1048" y="474"/>
                  </a:lnTo>
                  <a:lnTo>
                    <a:pt x="1044" y="466"/>
                  </a:lnTo>
                  <a:lnTo>
                    <a:pt x="1040" y="456"/>
                  </a:lnTo>
                  <a:lnTo>
                    <a:pt x="1038" y="448"/>
                  </a:lnTo>
                  <a:lnTo>
                    <a:pt x="1038" y="438"/>
                  </a:lnTo>
                  <a:lnTo>
                    <a:pt x="1040" y="428"/>
                  </a:lnTo>
                  <a:lnTo>
                    <a:pt x="1048" y="410"/>
                  </a:lnTo>
                  <a:lnTo>
                    <a:pt x="1058" y="394"/>
                  </a:lnTo>
                  <a:lnTo>
                    <a:pt x="1070" y="382"/>
                  </a:lnTo>
                  <a:lnTo>
                    <a:pt x="1082" y="372"/>
                  </a:lnTo>
                  <a:lnTo>
                    <a:pt x="1082" y="372"/>
                  </a:lnTo>
                  <a:lnTo>
                    <a:pt x="1070" y="368"/>
                  </a:lnTo>
                  <a:lnTo>
                    <a:pt x="1058" y="366"/>
                  </a:lnTo>
                  <a:lnTo>
                    <a:pt x="1046" y="368"/>
                  </a:lnTo>
                  <a:lnTo>
                    <a:pt x="1036" y="370"/>
                  </a:lnTo>
                  <a:lnTo>
                    <a:pt x="1026" y="374"/>
                  </a:lnTo>
                  <a:lnTo>
                    <a:pt x="1016" y="380"/>
                  </a:lnTo>
                  <a:lnTo>
                    <a:pt x="1008" y="388"/>
                  </a:lnTo>
                  <a:lnTo>
                    <a:pt x="1002" y="396"/>
                  </a:lnTo>
                  <a:lnTo>
                    <a:pt x="994" y="406"/>
                  </a:lnTo>
                  <a:lnTo>
                    <a:pt x="990" y="416"/>
                  </a:lnTo>
                  <a:lnTo>
                    <a:pt x="986" y="426"/>
                  </a:lnTo>
                  <a:lnTo>
                    <a:pt x="982" y="436"/>
                  </a:lnTo>
                  <a:lnTo>
                    <a:pt x="980" y="448"/>
                  </a:lnTo>
                  <a:lnTo>
                    <a:pt x="980" y="458"/>
                  </a:lnTo>
                  <a:lnTo>
                    <a:pt x="980" y="468"/>
                  </a:lnTo>
                  <a:lnTo>
                    <a:pt x="982" y="478"/>
                  </a:lnTo>
                  <a:lnTo>
                    <a:pt x="982" y="478"/>
                  </a:lnTo>
                  <a:lnTo>
                    <a:pt x="892" y="412"/>
                  </a:lnTo>
                  <a:lnTo>
                    <a:pt x="892" y="412"/>
                  </a:lnTo>
                  <a:lnTo>
                    <a:pt x="902" y="434"/>
                  </a:lnTo>
                  <a:lnTo>
                    <a:pt x="914" y="454"/>
                  </a:lnTo>
                  <a:lnTo>
                    <a:pt x="926" y="474"/>
                  </a:lnTo>
                  <a:lnTo>
                    <a:pt x="942" y="492"/>
                  </a:lnTo>
                  <a:lnTo>
                    <a:pt x="958" y="508"/>
                  </a:lnTo>
                  <a:lnTo>
                    <a:pt x="974" y="524"/>
                  </a:lnTo>
                  <a:lnTo>
                    <a:pt x="992" y="540"/>
                  </a:lnTo>
                  <a:lnTo>
                    <a:pt x="1012" y="552"/>
                  </a:lnTo>
                  <a:lnTo>
                    <a:pt x="1034" y="564"/>
                  </a:lnTo>
                  <a:lnTo>
                    <a:pt x="1056" y="576"/>
                  </a:lnTo>
                  <a:lnTo>
                    <a:pt x="1078" y="586"/>
                  </a:lnTo>
                  <a:lnTo>
                    <a:pt x="1102" y="594"/>
                  </a:lnTo>
                  <a:lnTo>
                    <a:pt x="1128" y="600"/>
                  </a:lnTo>
                  <a:lnTo>
                    <a:pt x="1152" y="606"/>
                  </a:lnTo>
                  <a:lnTo>
                    <a:pt x="1180" y="610"/>
                  </a:lnTo>
                  <a:lnTo>
                    <a:pt x="1206" y="614"/>
                  </a:lnTo>
                  <a:lnTo>
                    <a:pt x="1206" y="614"/>
                  </a:lnTo>
                  <a:lnTo>
                    <a:pt x="1144" y="616"/>
                  </a:lnTo>
                  <a:lnTo>
                    <a:pt x="1086" y="616"/>
                  </a:lnTo>
                  <a:lnTo>
                    <a:pt x="1036" y="610"/>
                  </a:lnTo>
                  <a:lnTo>
                    <a:pt x="992" y="604"/>
                  </a:lnTo>
                  <a:lnTo>
                    <a:pt x="954" y="592"/>
                  </a:lnTo>
                  <a:lnTo>
                    <a:pt x="922" y="578"/>
                  </a:lnTo>
                  <a:lnTo>
                    <a:pt x="908" y="572"/>
                  </a:lnTo>
                  <a:lnTo>
                    <a:pt x="896" y="562"/>
                  </a:lnTo>
                  <a:lnTo>
                    <a:pt x="884" y="554"/>
                  </a:lnTo>
                  <a:lnTo>
                    <a:pt x="874" y="544"/>
                  </a:lnTo>
                  <a:lnTo>
                    <a:pt x="866" y="534"/>
                  </a:lnTo>
                  <a:lnTo>
                    <a:pt x="858" y="524"/>
                  </a:lnTo>
                  <a:lnTo>
                    <a:pt x="852" y="514"/>
                  </a:lnTo>
                  <a:lnTo>
                    <a:pt x="848" y="502"/>
                  </a:lnTo>
                  <a:lnTo>
                    <a:pt x="844" y="492"/>
                  </a:lnTo>
                  <a:lnTo>
                    <a:pt x="842" y="480"/>
                  </a:lnTo>
                  <a:lnTo>
                    <a:pt x="840" y="456"/>
                  </a:lnTo>
                  <a:lnTo>
                    <a:pt x="844" y="430"/>
                  </a:lnTo>
                  <a:lnTo>
                    <a:pt x="852" y="404"/>
                  </a:lnTo>
                  <a:lnTo>
                    <a:pt x="864" y="378"/>
                  </a:lnTo>
                  <a:lnTo>
                    <a:pt x="880" y="352"/>
                  </a:lnTo>
                  <a:lnTo>
                    <a:pt x="880" y="352"/>
                  </a:lnTo>
                  <a:lnTo>
                    <a:pt x="864" y="362"/>
                  </a:lnTo>
                  <a:lnTo>
                    <a:pt x="846" y="376"/>
                  </a:lnTo>
                  <a:lnTo>
                    <a:pt x="828" y="394"/>
                  </a:lnTo>
                  <a:lnTo>
                    <a:pt x="810" y="416"/>
                  </a:lnTo>
                  <a:lnTo>
                    <a:pt x="796" y="440"/>
                  </a:lnTo>
                  <a:lnTo>
                    <a:pt x="792" y="452"/>
                  </a:lnTo>
                  <a:lnTo>
                    <a:pt x="786" y="464"/>
                  </a:lnTo>
                  <a:lnTo>
                    <a:pt x="784" y="476"/>
                  </a:lnTo>
                  <a:lnTo>
                    <a:pt x="782" y="488"/>
                  </a:lnTo>
                  <a:lnTo>
                    <a:pt x="784" y="500"/>
                  </a:lnTo>
                  <a:lnTo>
                    <a:pt x="786" y="510"/>
                  </a:lnTo>
                  <a:lnTo>
                    <a:pt x="786" y="510"/>
                  </a:lnTo>
                  <a:lnTo>
                    <a:pt x="776" y="502"/>
                  </a:lnTo>
                  <a:lnTo>
                    <a:pt x="766" y="492"/>
                  </a:lnTo>
                  <a:lnTo>
                    <a:pt x="758" y="482"/>
                  </a:lnTo>
                  <a:lnTo>
                    <a:pt x="752" y="470"/>
                  </a:lnTo>
                  <a:lnTo>
                    <a:pt x="746" y="460"/>
                  </a:lnTo>
                  <a:lnTo>
                    <a:pt x="742" y="448"/>
                  </a:lnTo>
                  <a:lnTo>
                    <a:pt x="736" y="422"/>
                  </a:lnTo>
                  <a:lnTo>
                    <a:pt x="734" y="396"/>
                  </a:lnTo>
                  <a:lnTo>
                    <a:pt x="736" y="370"/>
                  </a:lnTo>
                  <a:lnTo>
                    <a:pt x="742" y="342"/>
                  </a:lnTo>
                  <a:lnTo>
                    <a:pt x="750" y="318"/>
                  </a:lnTo>
                  <a:lnTo>
                    <a:pt x="762" y="294"/>
                  </a:lnTo>
                  <a:lnTo>
                    <a:pt x="776" y="272"/>
                  </a:lnTo>
                  <a:lnTo>
                    <a:pt x="794" y="252"/>
                  </a:lnTo>
                  <a:lnTo>
                    <a:pt x="814" y="236"/>
                  </a:lnTo>
                  <a:lnTo>
                    <a:pt x="824" y="230"/>
                  </a:lnTo>
                  <a:lnTo>
                    <a:pt x="836" y="224"/>
                  </a:lnTo>
                  <a:lnTo>
                    <a:pt x="846" y="220"/>
                  </a:lnTo>
                  <a:lnTo>
                    <a:pt x="858" y="218"/>
                  </a:lnTo>
                  <a:lnTo>
                    <a:pt x="870" y="216"/>
                  </a:lnTo>
                  <a:lnTo>
                    <a:pt x="884" y="216"/>
                  </a:lnTo>
                  <a:lnTo>
                    <a:pt x="896" y="218"/>
                  </a:lnTo>
                  <a:lnTo>
                    <a:pt x="910" y="222"/>
                  </a:lnTo>
                  <a:lnTo>
                    <a:pt x="910" y="222"/>
                  </a:lnTo>
                  <a:lnTo>
                    <a:pt x="912" y="208"/>
                  </a:lnTo>
                  <a:lnTo>
                    <a:pt x="914" y="194"/>
                  </a:lnTo>
                  <a:lnTo>
                    <a:pt x="912" y="182"/>
                  </a:lnTo>
                  <a:lnTo>
                    <a:pt x="910" y="172"/>
                  </a:lnTo>
                  <a:lnTo>
                    <a:pt x="906" y="162"/>
                  </a:lnTo>
                  <a:lnTo>
                    <a:pt x="902" y="152"/>
                  </a:lnTo>
                  <a:lnTo>
                    <a:pt x="896" y="144"/>
                  </a:lnTo>
                  <a:lnTo>
                    <a:pt x="888" y="138"/>
                  </a:lnTo>
                  <a:lnTo>
                    <a:pt x="872" y="126"/>
                  </a:lnTo>
                  <a:lnTo>
                    <a:pt x="852" y="120"/>
                  </a:lnTo>
                  <a:lnTo>
                    <a:pt x="834" y="116"/>
                  </a:lnTo>
                  <a:lnTo>
                    <a:pt x="816" y="116"/>
                  </a:lnTo>
                  <a:lnTo>
                    <a:pt x="816" y="116"/>
                  </a:lnTo>
                  <a:lnTo>
                    <a:pt x="834" y="104"/>
                  </a:lnTo>
                  <a:lnTo>
                    <a:pt x="852" y="94"/>
                  </a:lnTo>
                  <a:lnTo>
                    <a:pt x="872" y="86"/>
                  </a:lnTo>
                  <a:lnTo>
                    <a:pt x="894" y="82"/>
                  </a:lnTo>
                  <a:lnTo>
                    <a:pt x="916" y="78"/>
                  </a:lnTo>
                  <a:lnTo>
                    <a:pt x="938" y="78"/>
                  </a:lnTo>
                  <a:lnTo>
                    <a:pt x="958" y="78"/>
                  </a:lnTo>
                  <a:lnTo>
                    <a:pt x="978" y="82"/>
                  </a:lnTo>
                  <a:lnTo>
                    <a:pt x="996" y="88"/>
                  </a:lnTo>
                  <a:lnTo>
                    <a:pt x="1012" y="96"/>
                  </a:lnTo>
                  <a:lnTo>
                    <a:pt x="1026" y="106"/>
                  </a:lnTo>
                  <a:lnTo>
                    <a:pt x="1036" y="118"/>
                  </a:lnTo>
                  <a:lnTo>
                    <a:pt x="1042" y="132"/>
                  </a:lnTo>
                  <a:lnTo>
                    <a:pt x="1046" y="148"/>
                  </a:lnTo>
                  <a:lnTo>
                    <a:pt x="1044" y="166"/>
                  </a:lnTo>
                  <a:lnTo>
                    <a:pt x="1036" y="188"/>
                  </a:lnTo>
                  <a:lnTo>
                    <a:pt x="1036" y="188"/>
                  </a:lnTo>
                  <a:lnTo>
                    <a:pt x="1022" y="182"/>
                  </a:lnTo>
                  <a:lnTo>
                    <a:pt x="1008" y="180"/>
                  </a:lnTo>
                  <a:lnTo>
                    <a:pt x="996" y="180"/>
                  </a:lnTo>
                  <a:lnTo>
                    <a:pt x="984" y="182"/>
                  </a:lnTo>
                  <a:lnTo>
                    <a:pt x="976" y="188"/>
                  </a:lnTo>
                  <a:lnTo>
                    <a:pt x="968" y="196"/>
                  </a:lnTo>
                  <a:lnTo>
                    <a:pt x="960" y="206"/>
                  </a:lnTo>
                  <a:lnTo>
                    <a:pt x="956" y="216"/>
                  </a:lnTo>
                  <a:lnTo>
                    <a:pt x="954" y="228"/>
                  </a:lnTo>
                  <a:lnTo>
                    <a:pt x="954" y="240"/>
                  </a:lnTo>
                  <a:lnTo>
                    <a:pt x="954" y="252"/>
                  </a:lnTo>
                  <a:lnTo>
                    <a:pt x="958" y="264"/>
                  </a:lnTo>
                  <a:lnTo>
                    <a:pt x="964" y="276"/>
                  </a:lnTo>
                  <a:lnTo>
                    <a:pt x="972" y="286"/>
                  </a:lnTo>
                  <a:lnTo>
                    <a:pt x="984" y="296"/>
                  </a:lnTo>
                  <a:lnTo>
                    <a:pt x="996" y="304"/>
                  </a:lnTo>
                  <a:lnTo>
                    <a:pt x="996" y="304"/>
                  </a:lnTo>
                  <a:lnTo>
                    <a:pt x="1010" y="310"/>
                  </a:lnTo>
                  <a:lnTo>
                    <a:pt x="1022" y="314"/>
                  </a:lnTo>
                  <a:lnTo>
                    <a:pt x="1034" y="316"/>
                  </a:lnTo>
                  <a:lnTo>
                    <a:pt x="1048" y="318"/>
                  </a:lnTo>
                  <a:lnTo>
                    <a:pt x="1062" y="318"/>
                  </a:lnTo>
                  <a:lnTo>
                    <a:pt x="1074" y="318"/>
                  </a:lnTo>
                  <a:lnTo>
                    <a:pt x="1088" y="316"/>
                  </a:lnTo>
                  <a:lnTo>
                    <a:pt x="1100" y="312"/>
                  </a:lnTo>
                  <a:lnTo>
                    <a:pt x="1112" y="308"/>
                  </a:lnTo>
                  <a:lnTo>
                    <a:pt x="1124" y="302"/>
                  </a:lnTo>
                  <a:lnTo>
                    <a:pt x="1136" y="296"/>
                  </a:lnTo>
                  <a:lnTo>
                    <a:pt x="1146" y="288"/>
                  </a:lnTo>
                  <a:lnTo>
                    <a:pt x="1154" y="280"/>
                  </a:lnTo>
                  <a:lnTo>
                    <a:pt x="1164" y="270"/>
                  </a:lnTo>
                  <a:lnTo>
                    <a:pt x="1170" y="258"/>
                  </a:lnTo>
                  <a:lnTo>
                    <a:pt x="1176" y="246"/>
                  </a:lnTo>
                  <a:lnTo>
                    <a:pt x="1176" y="246"/>
                  </a:lnTo>
                  <a:lnTo>
                    <a:pt x="1180" y="234"/>
                  </a:lnTo>
                  <a:lnTo>
                    <a:pt x="1182" y="220"/>
                  </a:lnTo>
                  <a:lnTo>
                    <a:pt x="1182" y="206"/>
                  </a:lnTo>
                  <a:lnTo>
                    <a:pt x="1182" y="192"/>
                  </a:lnTo>
                  <a:lnTo>
                    <a:pt x="1180" y="178"/>
                  </a:lnTo>
                  <a:lnTo>
                    <a:pt x="1176" y="162"/>
                  </a:lnTo>
                  <a:lnTo>
                    <a:pt x="1172" y="148"/>
                  </a:lnTo>
                  <a:lnTo>
                    <a:pt x="1166" y="134"/>
                  </a:lnTo>
                  <a:lnTo>
                    <a:pt x="1158" y="120"/>
                  </a:lnTo>
                  <a:lnTo>
                    <a:pt x="1150" y="108"/>
                  </a:lnTo>
                  <a:lnTo>
                    <a:pt x="1140" y="94"/>
                  </a:lnTo>
                  <a:lnTo>
                    <a:pt x="1128" y="84"/>
                  </a:lnTo>
                  <a:lnTo>
                    <a:pt x="1116" y="72"/>
                  </a:lnTo>
                  <a:lnTo>
                    <a:pt x="1102" y="62"/>
                  </a:lnTo>
                  <a:lnTo>
                    <a:pt x="1088" y="54"/>
                  </a:lnTo>
                  <a:lnTo>
                    <a:pt x="1072" y="46"/>
                  </a:lnTo>
                  <a:lnTo>
                    <a:pt x="1072" y="46"/>
                  </a:lnTo>
                  <a:lnTo>
                    <a:pt x="1048" y="40"/>
                  </a:lnTo>
                  <a:lnTo>
                    <a:pt x="1022" y="34"/>
                  </a:lnTo>
                  <a:lnTo>
                    <a:pt x="996" y="30"/>
                  </a:lnTo>
                  <a:lnTo>
                    <a:pt x="968" y="30"/>
                  </a:lnTo>
                  <a:lnTo>
                    <a:pt x="940" y="32"/>
                  </a:lnTo>
                  <a:lnTo>
                    <a:pt x="910" y="38"/>
                  </a:lnTo>
                  <a:lnTo>
                    <a:pt x="882" y="46"/>
                  </a:lnTo>
                  <a:lnTo>
                    <a:pt x="854" y="56"/>
                  </a:lnTo>
                  <a:lnTo>
                    <a:pt x="826" y="70"/>
                  </a:lnTo>
                  <a:lnTo>
                    <a:pt x="800" y="86"/>
                  </a:lnTo>
                  <a:lnTo>
                    <a:pt x="776" y="106"/>
                  </a:lnTo>
                  <a:lnTo>
                    <a:pt x="754" y="128"/>
                  </a:lnTo>
                  <a:lnTo>
                    <a:pt x="734" y="154"/>
                  </a:lnTo>
                  <a:lnTo>
                    <a:pt x="718" y="182"/>
                  </a:lnTo>
                  <a:lnTo>
                    <a:pt x="704" y="214"/>
                  </a:lnTo>
                  <a:lnTo>
                    <a:pt x="694" y="250"/>
                  </a:lnTo>
                  <a:lnTo>
                    <a:pt x="694" y="250"/>
                  </a:lnTo>
                  <a:lnTo>
                    <a:pt x="680" y="208"/>
                  </a:lnTo>
                  <a:lnTo>
                    <a:pt x="662" y="172"/>
                  </a:lnTo>
                  <a:lnTo>
                    <a:pt x="642" y="138"/>
                  </a:lnTo>
                  <a:lnTo>
                    <a:pt x="620" y="110"/>
                  </a:lnTo>
                  <a:lnTo>
                    <a:pt x="596" y="84"/>
                  </a:lnTo>
                  <a:lnTo>
                    <a:pt x="568" y="64"/>
                  </a:lnTo>
                  <a:lnTo>
                    <a:pt x="540" y="46"/>
                  </a:lnTo>
                  <a:lnTo>
                    <a:pt x="512" y="32"/>
                  </a:lnTo>
                  <a:lnTo>
                    <a:pt x="482" y="22"/>
                  </a:lnTo>
                  <a:lnTo>
                    <a:pt x="450" y="16"/>
                  </a:lnTo>
                  <a:lnTo>
                    <a:pt x="420" y="12"/>
                  </a:lnTo>
                  <a:lnTo>
                    <a:pt x="390" y="12"/>
                  </a:lnTo>
                  <a:lnTo>
                    <a:pt x="362" y="14"/>
                  </a:lnTo>
                  <a:lnTo>
                    <a:pt x="332" y="20"/>
                  </a:lnTo>
                  <a:lnTo>
                    <a:pt x="306" y="28"/>
                  </a:lnTo>
                  <a:lnTo>
                    <a:pt x="280" y="38"/>
                  </a:lnTo>
                  <a:lnTo>
                    <a:pt x="280" y="38"/>
                  </a:lnTo>
                  <a:lnTo>
                    <a:pt x="272" y="32"/>
                  </a:lnTo>
                  <a:lnTo>
                    <a:pt x="264" y="28"/>
                  </a:lnTo>
                  <a:lnTo>
                    <a:pt x="258" y="24"/>
                  </a:lnTo>
                  <a:lnTo>
                    <a:pt x="250" y="24"/>
                  </a:lnTo>
                  <a:lnTo>
                    <a:pt x="244" y="24"/>
                  </a:lnTo>
                  <a:lnTo>
                    <a:pt x="238" y="26"/>
                  </a:lnTo>
                  <a:lnTo>
                    <a:pt x="228" y="34"/>
                  </a:lnTo>
                  <a:lnTo>
                    <a:pt x="220" y="46"/>
                  </a:lnTo>
                  <a:lnTo>
                    <a:pt x="214" y="58"/>
                  </a:lnTo>
                  <a:lnTo>
                    <a:pt x="210" y="72"/>
                  </a:lnTo>
                  <a:lnTo>
                    <a:pt x="208" y="84"/>
                  </a:lnTo>
                  <a:lnTo>
                    <a:pt x="208" y="84"/>
                  </a:lnTo>
                  <a:lnTo>
                    <a:pt x="202" y="100"/>
                  </a:lnTo>
                  <a:lnTo>
                    <a:pt x="194" y="116"/>
                  </a:lnTo>
                  <a:lnTo>
                    <a:pt x="182" y="128"/>
                  </a:lnTo>
                  <a:lnTo>
                    <a:pt x="168" y="136"/>
                  </a:lnTo>
                  <a:lnTo>
                    <a:pt x="154" y="140"/>
                  </a:lnTo>
                  <a:lnTo>
                    <a:pt x="146" y="142"/>
                  </a:lnTo>
                  <a:lnTo>
                    <a:pt x="140" y="140"/>
                  </a:lnTo>
                  <a:lnTo>
                    <a:pt x="132" y="138"/>
                  </a:lnTo>
                  <a:lnTo>
                    <a:pt x="126" y="134"/>
                  </a:lnTo>
                  <a:lnTo>
                    <a:pt x="120" y="128"/>
                  </a:lnTo>
                  <a:lnTo>
                    <a:pt x="114" y="122"/>
                  </a:lnTo>
                  <a:lnTo>
                    <a:pt x="114" y="122"/>
                  </a:lnTo>
                  <a:lnTo>
                    <a:pt x="108" y="114"/>
                  </a:lnTo>
                  <a:lnTo>
                    <a:pt x="106" y="106"/>
                  </a:lnTo>
                  <a:lnTo>
                    <a:pt x="104" y="100"/>
                  </a:lnTo>
                  <a:lnTo>
                    <a:pt x="104" y="92"/>
                  </a:lnTo>
                  <a:lnTo>
                    <a:pt x="104" y="86"/>
                  </a:lnTo>
                  <a:lnTo>
                    <a:pt x="106" y="78"/>
                  </a:lnTo>
                  <a:lnTo>
                    <a:pt x="112" y="68"/>
                  </a:lnTo>
                  <a:lnTo>
                    <a:pt x="124" y="58"/>
                  </a:lnTo>
                  <a:lnTo>
                    <a:pt x="136" y="50"/>
                  </a:lnTo>
                  <a:lnTo>
                    <a:pt x="150" y="46"/>
                  </a:lnTo>
                  <a:lnTo>
                    <a:pt x="166" y="44"/>
                  </a:lnTo>
                  <a:lnTo>
                    <a:pt x="166" y="44"/>
                  </a:lnTo>
                  <a:lnTo>
                    <a:pt x="154" y="36"/>
                  </a:lnTo>
                  <a:lnTo>
                    <a:pt x="142" y="28"/>
                  </a:lnTo>
                  <a:lnTo>
                    <a:pt x="130" y="24"/>
                  </a:lnTo>
                  <a:lnTo>
                    <a:pt x="116" y="20"/>
                  </a:lnTo>
                  <a:lnTo>
                    <a:pt x="102" y="18"/>
                  </a:lnTo>
                  <a:lnTo>
                    <a:pt x="90" y="18"/>
                  </a:lnTo>
                  <a:lnTo>
                    <a:pt x="78" y="18"/>
                  </a:lnTo>
                  <a:lnTo>
                    <a:pt x="64" y="22"/>
                  </a:lnTo>
                  <a:lnTo>
                    <a:pt x="52" y="26"/>
                  </a:lnTo>
                  <a:lnTo>
                    <a:pt x="42" y="30"/>
                  </a:lnTo>
                  <a:lnTo>
                    <a:pt x="32" y="38"/>
                  </a:lnTo>
                  <a:lnTo>
                    <a:pt x="22" y="46"/>
                  </a:lnTo>
                  <a:lnTo>
                    <a:pt x="16" y="56"/>
                  </a:lnTo>
                  <a:lnTo>
                    <a:pt x="8" y="68"/>
                  </a:lnTo>
                  <a:lnTo>
                    <a:pt x="4" y="80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0" y="108"/>
                  </a:lnTo>
                  <a:lnTo>
                    <a:pt x="4" y="122"/>
                  </a:lnTo>
                  <a:lnTo>
                    <a:pt x="10" y="136"/>
                  </a:lnTo>
                  <a:lnTo>
                    <a:pt x="18" y="150"/>
                  </a:lnTo>
                  <a:lnTo>
                    <a:pt x="30" y="162"/>
                  </a:lnTo>
                  <a:lnTo>
                    <a:pt x="42" y="174"/>
                  </a:lnTo>
                  <a:lnTo>
                    <a:pt x="56" y="184"/>
                  </a:lnTo>
                  <a:lnTo>
                    <a:pt x="72" y="192"/>
                  </a:lnTo>
                  <a:lnTo>
                    <a:pt x="88" y="200"/>
                  </a:lnTo>
                  <a:lnTo>
                    <a:pt x="104" y="204"/>
                  </a:lnTo>
                  <a:lnTo>
                    <a:pt x="122" y="206"/>
                  </a:lnTo>
                  <a:lnTo>
                    <a:pt x="138" y="206"/>
                  </a:lnTo>
                  <a:lnTo>
                    <a:pt x="154" y="202"/>
                  </a:lnTo>
                  <a:lnTo>
                    <a:pt x="170" y="194"/>
                  </a:lnTo>
                  <a:lnTo>
                    <a:pt x="186" y="184"/>
                  </a:lnTo>
                  <a:lnTo>
                    <a:pt x="198" y="168"/>
                  </a:lnTo>
                  <a:lnTo>
                    <a:pt x="198" y="168"/>
                  </a:lnTo>
                  <a:lnTo>
                    <a:pt x="212" y="146"/>
                  </a:lnTo>
                  <a:lnTo>
                    <a:pt x="224" y="128"/>
                  </a:lnTo>
                  <a:lnTo>
                    <a:pt x="240" y="98"/>
                  </a:lnTo>
                  <a:lnTo>
                    <a:pt x="246" y="88"/>
                  </a:lnTo>
                  <a:lnTo>
                    <a:pt x="254" y="82"/>
                  </a:lnTo>
                  <a:lnTo>
                    <a:pt x="264" y="78"/>
                  </a:lnTo>
                  <a:lnTo>
                    <a:pt x="276" y="78"/>
                  </a:lnTo>
                  <a:lnTo>
                    <a:pt x="276" y="78"/>
                  </a:lnTo>
                  <a:lnTo>
                    <a:pt x="266" y="90"/>
                  </a:lnTo>
                  <a:lnTo>
                    <a:pt x="258" y="104"/>
                  </a:lnTo>
                  <a:lnTo>
                    <a:pt x="250" y="116"/>
                  </a:lnTo>
                  <a:lnTo>
                    <a:pt x="244" y="130"/>
                  </a:lnTo>
                  <a:lnTo>
                    <a:pt x="238" y="144"/>
                  </a:lnTo>
                  <a:lnTo>
                    <a:pt x="234" y="158"/>
                  </a:lnTo>
                  <a:lnTo>
                    <a:pt x="232" y="174"/>
                  </a:lnTo>
                  <a:lnTo>
                    <a:pt x="232" y="188"/>
                  </a:lnTo>
                  <a:lnTo>
                    <a:pt x="232" y="214"/>
                  </a:lnTo>
                  <a:lnTo>
                    <a:pt x="238" y="240"/>
                  </a:lnTo>
                  <a:lnTo>
                    <a:pt x="242" y="252"/>
                  </a:lnTo>
                  <a:lnTo>
                    <a:pt x="248" y="262"/>
                  </a:lnTo>
                  <a:lnTo>
                    <a:pt x="254" y="272"/>
                  </a:lnTo>
                  <a:lnTo>
                    <a:pt x="262" y="280"/>
                  </a:lnTo>
                  <a:lnTo>
                    <a:pt x="262" y="280"/>
                  </a:lnTo>
                  <a:lnTo>
                    <a:pt x="272" y="290"/>
                  </a:lnTo>
                  <a:lnTo>
                    <a:pt x="286" y="298"/>
                  </a:lnTo>
                  <a:lnTo>
                    <a:pt x="298" y="304"/>
                  </a:lnTo>
                  <a:lnTo>
                    <a:pt x="312" y="310"/>
                  </a:lnTo>
                  <a:lnTo>
                    <a:pt x="326" y="312"/>
                  </a:lnTo>
                  <a:lnTo>
                    <a:pt x="340" y="312"/>
                  </a:lnTo>
                  <a:lnTo>
                    <a:pt x="354" y="310"/>
                  </a:lnTo>
                  <a:lnTo>
                    <a:pt x="366" y="306"/>
                  </a:lnTo>
                  <a:lnTo>
                    <a:pt x="378" y="300"/>
                  </a:lnTo>
                  <a:lnTo>
                    <a:pt x="386" y="290"/>
                  </a:lnTo>
                  <a:lnTo>
                    <a:pt x="394" y="278"/>
                  </a:lnTo>
                  <a:lnTo>
                    <a:pt x="400" y="262"/>
                  </a:lnTo>
                  <a:lnTo>
                    <a:pt x="402" y="244"/>
                  </a:lnTo>
                  <a:lnTo>
                    <a:pt x="402" y="222"/>
                  </a:lnTo>
                  <a:lnTo>
                    <a:pt x="398" y="198"/>
                  </a:lnTo>
                  <a:lnTo>
                    <a:pt x="390" y="170"/>
                  </a:lnTo>
                  <a:lnTo>
                    <a:pt x="390" y="170"/>
                  </a:lnTo>
                  <a:lnTo>
                    <a:pt x="380" y="184"/>
                  </a:lnTo>
                  <a:lnTo>
                    <a:pt x="370" y="194"/>
                  </a:lnTo>
                  <a:lnTo>
                    <a:pt x="360" y="204"/>
                  </a:lnTo>
                  <a:lnTo>
                    <a:pt x="350" y="210"/>
                  </a:lnTo>
                  <a:lnTo>
                    <a:pt x="342" y="216"/>
                  </a:lnTo>
                  <a:lnTo>
                    <a:pt x="332" y="218"/>
                  </a:lnTo>
                  <a:lnTo>
                    <a:pt x="324" y="220"/>
                  </a:lnTo>
                  <a:lnTo>
                    <a:pt x="316" y="218"/>
                  </a:lnTo>
                  <a:lnTo>
                    <a:pt x="308" y="216"/>
                  </a:lnTo>
                  <a:lnTo>
                    <a:pt x="300" y="214"/>
                  </a:lnTo>
                  <a:lnTo>
                    <a:pt x="294" y="208"/>
                  </a:lnTo>
                  <a:lnTo>
                    <a:pt x="288" y="204"/>
                  </a:lnTo>
                  <a:lnTo>
                    <a:pt x="284" y="196"/>
                  </a:lnTo>
                  <a:lnTo>
                    <a:pt x="280" y="190"/>
                  </a:lnTo>
                  <a:lnTo>
                    <a:pt x="276" y="172"/>
                  </a:lnTo>
                  <a:lnTo>
                    <a:pt x="276" y="172"/>
                  </a:lnTo>
                  <a:lnTo>
                    <a:pt x="276" y="156"/>
                  </a:lnTo>
                  <a:lnTo>
                    <a:pt x="280" y="138"/>
                  </a:lnTo>
                  <a:lnTo>
                    <a:pt x="288" y="122"/>
                  </a:lnTo>
                  <a:lnTo>
                    <a:pt x="300" y="108"/>
                  </a:lnTo>
                  <a:lnTo>
                    <a:pt x="312" y="96"/>
                  </a:lnTo>
                  <a:lnTo>
                    <a:pt x="326" y="86"/>
                  </a:lnTo>
                  <a:lnTo>
                    <a:pt x="342" y="80"/>
                  </a:lnTo>
                  <a:lnTo>
                    <a:pt x="356" y="76"/>
                  </a:lnTo>
                  <a:lnTo>
                    <a:pt x="356" y="76"/>
                  </a:lnTo>
                  <a:lnTo>
                    <a:pt x="352" y="92"/>
                  </a:lnTo>
                  <a:lnTo>
                    <a:pt x="352" y="108"/>
                  </a:lnTo>
                  <a:lnTo>
                    <a:pt x="356" y="120"/>
                  </a:lnTo>
                  <a:lnTo>
                    <a:pt x="362" y="128"/>
                  </a:lnTo>
                  <a:lnTo>
                    <a:pt x="368" y="134"/>
                  </a:lnTo>
                  <a:lnTo>
                    <a:pt x="374" y="138"/>
                  </a:lnTo>
                  <a:lnTo>
                    <a:pt x="380" y="142"/>
                  </a:lnTo>
                  <a:lnTo>
                    <a:pt x="380" y="142"/>
                  </a:lnTo>
                  <a:lnTo>
                    <a:pt x="384" y="128"/>
                  </a:lnTo>
                  <a:lnTo>
                    <a:pt x="392" y="116"/>
                  </a:lnTo>
                  <a:lnTo>
                    <a:pt x="402" y="106"/>
                  </a:lnTo>
                  <a:lnTo>
                    <a:pt x="416" y="96"/>
                  </a:lnTo>
                  <a:lnTo>
                    <a:pt x="430" y="88"/>
                  </a:lnTo>
                  <a:lnTo>
                    <a:pt x="446" y="82"/>
                  </a:lnTo>
                  <a:lnTo>
                    <a:pt x="462" y="78"/>
                  </a:lnTo>
                  <a:lnTo>
                    <a:pt x="478" y="76"/>
                  </a:lnTo>
                  <a:lnTo>
                    <a:pt x="494" y="78"/>
                  </a:lnTo>
                  <a:lnTo>
                    <a:pt x="510" y="82"/>
                  </a:lnTo>
                  <a:lnTo>
                    <a:pt x="524" y="90"/>
                  </a:lnTo>
                  <a:lnTo>
                    <a:pt x="536" y="100"/>
                  </a:lnTo>
                  <a:lnTo>
                    <a:pt x="548" y="116"/>
                  </a:lnTo>
                  <a:lnTo>
                    <a:pt x="554" y="134"/>
                  </a:lnTo>
                  <a:lnTo>
                    <a:pt x="560" y="158"/>
                  </a:lnTo>
                  <a:lnTo>
                    <a:pt x="560" y="184"/>
                  </a:lnTo>
                  <a:lnTo>
                    <a:pt x="560" y="184"/>
                  </a:lnTo>
                  <a:lnTo>
                    <a:pt x="568" y="176"/>
                  </a:lnTo>
                  <a:lnTo>
                    <a:pt x="580" y="172"/>
                  </a:lnTo>
                  <a:lnTo>
                    <a:pt x="590" y="170"/>
                  </a:lnTo>
                  <a:lnTo>
                    <a:pt x="604" y="172"/>
                  </a:lnTo>
                  <a:lnTo>
                    <a:pt x="616" y="178"/>
                  </a:lnTo>
                  <a:lnTo>
                    <a:pt x="626" y="188"/>
                  </a:lnTo>
                  <a:lnTo>
                    <a:pt x="634" y="202"/>
                  </a:lnTo>
                  <a:lnTo>
                    <a:pt x="640" y="222"/>
                  </a:lnTo>
                  <a:lnTo>
                    <a:pt x="640" y="222"/>
                  </a:lnTo>
                  <a:lnTo>
                    <a:pt x="642" y="234"/>
                  </a:lnTo>
                  <a:lnTo>
                    <a:pt x="638" y="248"/>
                  </a:lnTo>
                  <a:lnTo>
                    <a:pt x="632" y="262"/>
                  </a:lnTo>
                  <a:lnTo>
                    <a:pt x="622" y="276"/>
                  </a:lnTo>
                  <a:lnTo>
                    <a:pt x="616" y="280"/>
                  </a:lnTo>
                  <a:lnTo>
                    <a:pt x="610" y="284"/>
                  </a:lnTo>
                  <a:lnTo>
                    <a:pt x="602" y="288"/>
                  </a:lnTo>
                  <a:lnTo>
                    <a:pt x="592" y="288"/>
                  </a:lnTo>
                  <a:lnTo>
                    <a:pt x="582" y="288"/>
                  </a:lnTo>
                  <a:lnTo>
                    <a:pt x="572" y="286"/>
                  </a:lnTo>
                  <a:lnTo>
                    <a:pt x="562" y="280"/>
                  </a:lnTo>
                  <a:lnTo>
                    <a:pt x="548" y="272"/>
                  </a:lnTo>
                  <a:lnTo>
                    <a:pt x="548" y="272"/>
                  </a:lnTo>
                  <a:lnTo>
                    <a:pt x="548" y="282"/>
                  </a:lnTo>
                  <a:lnTo>
                    <a:pt x="548" y="292"/>
                  </a:lnTo>
                  <a:lnTo>
                    <a:pt x="550" y="300"/>
                  </a:lnTo>
                  <a:lnTo>
                    <a:pt x="554" y="308"/>
                  </a:lnTo>
                  <a:lnTo>
                    <a:pt x="560" y="316"/>
                  </a:lnTo>
                  <a:lnTo>
                    <a:pt x="568" y="324"/>
                  </a:lnTo>
                  <a:lnTo>
                    <a:pt x="576" y="330"/>
                  </a:lnTo>
                  <a:lnTo>
                    <a:pt x="588" y="336"/>
                  </a:lnTo>
                  <a:lnTo>
                    <a:pt x="588" y="336"/>
                  </a:lnTo>
                  <a:lnTo>
                    <a:pt x="574" y="342"/>
                  </a:lnTo>
                  <a:lnTo>
                    <a:pt x="562" y="346"/>
                  </a:lnTo>
                  <a:lnTo>
                    <a:pt x="548" y="348"/>
                  </a:lnTo>
                  <a:lnTo>
                    <a:pt x="536" y="348"/>
                  </a:lnTo>
                  <a:lnTo>
                    <a:pt x="524" y="346"/>
                  </a:lnTo>
                  <a:lnTo>
                    <a:pt x="512" y="344"/>
                  </a:lnTo>
                  <a:lnTo>
                    <a:pt x="502" y="340"/>
                  </a:lnTo>
                  <a:lnTo>
                    <a:pt x="494" y="334"/>
                  </a:lnTo>
                  <a:lnTo>
                    <a:pt x="486" y="326"/>
                  </a:lnTo>
                  <a:lnTo>
                    <a:pt x="480" y="318"/>
                  </a:lnTo>
                  <a:lnTo>
                    <a:pt x="478" y="310"/>
                  </a:lnTo>
                  <a:lnTo>
                    <a:pt x="476" y="300"/>
                  </a:lnTo>
                  <a:lnTo>
                    <a:pt x="478" y="290"/>
                  </a:lnTo>
                  <a:lnTo>
                    <a:pt x="484" y="280"/>
                  </a:lnTo>
                  <a:lnTo>
                    <a:pt x="492" y="270"/>
                  </a:lnTo>
                  <a:lnTo>
                    <a:pt x="504" y="260"/>
                  </a:lnTo>
                  <a:lnTo>
                    <a:pt x="504" y="260"/>
                  </a:lnTo>
                  <a:lnTo>
                    <a:pt x="490" y="268"/>
                  </a:lnTo>
                  <a:lnTo>
                    <a:pt x="476" y="276"/>
                  </a:lnTo>
                  <a:lnTo>
                    <a:pt x="466" y="284"/>
                  </a:lnTo>
                  <a:lnTo>
                    <a:pt x="458" y="292"/>
                  </a:lnTo>
                  <a:lnTo>
                    <a:pt x="452" y="302"/>
                  </a:lnTo>
                  <a:lnTo>
                    <a:pt x="448" y="312"/>
                  </a:lnTo>
                  <a:lnTo>
                    <a:pt x="446" y="322"/>
                  </a:lnTo>
                  <a:lnTo>
                    <a:pt x="444" y="332"/>
                  </a:lnTo>
                  <a:lnTo>
                    <a:pt x="446" y="342"/>
                  </a:lnTo>
                  <a:lnTo>
                    <a:pt x="448" y="352"/>
                  </a:lnTo>
                  <a:lnTo>
                    <a:pt x="452" y="362"/>
                  </a:lnTo>
                  <a:lnTo>
                    <a:pt x="456" y="370"/>
                  </a:lnTo>
                  <a:lnTo>
                    <a:pt x="470" y="388"/>
                  </a:lnTo>
                  <a:lnTo>
                    <a:pt x="488" y="404"/>
                  </a:lnTo>
                  <a:lnTo>
                    <a:pt x="508" y="418"/>
                  </a:lnTo>
                  <a:lnTo>
                    <a:pt x="532" y="426"/>
                  </a:lnTo>
                  <a:lnTo>
                    <a:pt x="544" y="430"/>
                  </a:lnTo>
                  <a:lnTo>
                    <a:pt x="556" y="430"/>
                  </a:lnTo>
                  <a:lnTo>
                    <a:pt x="568" y="430"/>
                  </a:lnTo>
                  <a:lnTo>
                    <a:pt x="582" y="430"/>
                  </a:lnTo>
                  <a:lnTo>
                    <a:pt x="594" y="426"/>
                  </a:lnTo>
                  <a:lnTo>
                    <a:pt x="608" y="422"/>
                  </a:lnTo>
                  <a:lnTo>
                    <a:pt x="620" y="416"/>
                  </a:lnTo>
                  <a:lnTo>
                    <a:pt x="632" y="408"/>
                  </a:lnTo>
                  <a:lnTo>
                    <a:pt x="644" y="398"/>
                  </a:lnTo>
                  <a:lnTo>
                    <a:pt x="656" y="386"/>
                  </a:lnTo>
                  <a:lnTo>
                    <a:pt x="666" y="372"/>
                  </a:lnTo>
                  <a:lnTo>
                    <a:pt x="676" y="356"/>
                  </a:lnTo>
                  <a:lnTo>
                    <a:pt x="676" y="356"/>
                  </a:lnTo>
                  <a:lnTo>
                    <a:pt x="680" y="392"/>
                  </a:lnTo>
                  <a:lnTo>
                    <a:pt x="688" y="428"/>
                  </a:lnTo>
                  <a:lnTo>
                    <a:pt x="698" y="462"/>
                  </a:lnTo>
                  <a:lnTo>
                    <a:pt x="706" y="478"/>
                  </a:lnTo>
                  <a:lnTo>
                    <a:pt x="714" y="494"/>
                  </a:lnTo>
                  <a:lnTo>
                    <a:pt x="724" y="510"/>
                  </a:lnTo>
                  <a:lnTo>
                    <a:pt x="736" y="524"/>
                  </a:lnTo>
                  <a:lnTo>
                    <a:pt x="748" y="538"/>
                  </a:lnTo>
                  <a:lnTo>
                    <a:pt x="760" y="552"/>
                  </a:lnTo>
                  <a:lnTo>
                    <a:pt x="774" y="564"/>
                  </a:lnTo>
                  <a:lnTo>
                    <a:pt x="790" y="576"/>
                  </a:lnTo>
                  <a:lnTo>
                    <a:pt x="808" y="588"/>
                  </a:lnTo>
                  <a:lnTo>
                    <a:pt x="826" y="598"/>
                  </a:lnTo>
                  <a:lnTo>
                    <a:pt x="844" y="608"/>
                  </a:lnTo>
                  <a:lnTo>
                    <a:pt x="866" y="616"/>
                  </a:lnTo>
                  <a:lnTo>
                    <a:pt x="888" y="624"/>
                  </a:lnTo>
                  <a:lnTo>
                    <a:pt x="912" y="632"/>
                  </a:lnTo>
                  <a:lnTo>
                    <a:pt x="936" y="638"/>
                  </a:lnTo>
                  <a:lnTo>
                    <a:pt x="964" y="642"/>
                  </a:lnTo>
                  <a:lnTo>
                    <a:pt x="992" y="646"/>
                  </a:lnTo>
                  <a:lnTo>
                    <a:pt x="1022" y="650"/>
                  </a:lnTo>
                  <a:lnTo>
                    <a:pt x="1084" y="652"/>
                  </a:lnTo>
                  <a:lnTo>
                    <a:pt x="1156" y="650"/>
                  </a:lnTo>
                  <a:lnTo>
                    <a:pt x="1232" y="642"/>
                  </a:lnTo>
                  <a:lnTo>
                    <a:pt x="1316" y="630"/>
                  </a:lnTo>
                  <a:lnTo>
                    <a:pt x="1316" y="630"/>
                  </a:lnTo>
                  <a:lnTo>
                    <a:pt x="1344" y="624"/>
                  </a:lnTo>
                  <a:lnTo>
                    <a:pt x="1382" y="612"/>
                  </a:lnTo>
                  <a:lnTo>
                    <a:pt x="1418" y="598"/>
                  </a:lnTo>
                  <a:lnTo>
                    <a:pt x="1432" y="592"/>
                  </a:lnTo>
                  <a:lnTo>
                    <a:pt x="1444" y="584"/>
                  </a:lnTo>
                  <a:lnTo>
                    <a:pt x="1444" y="584"/>
                  </a:lnTo>
                  <a:lnTo>
                    <a:pt x="1508" y="540"/>
                  </a:lnTo>
                  <a:lnTo>
                    <a:pt x="1546" y="510"/>
                  </a:lnTo>
                  <a:lnTo>
                    <a:pt x="1586" y="476"/>
                  </a:lnTo>
                  <a:lnTo>
                    <a:pt x="1626" y="442"/>
                  </a:lnTo>
                  <a:lnTo>
                    <a:pt x="1664" y="406"/>
                  </a:lnTo>
                  <a:lnTo>
                    <a:pt x="1696" y="372"/>
                  </a:lnTo>
                  <a:lnTo>
                    <a:pt x="1708" y="354"/>
                  </a:lnTo>
                  <a:lnTo>
                    <a:pt x="1718" y="338"/>
                  </a:lnTo>
                  <a:lnTo>
                    <a:pt x="1718" y="338"/>
                  </a:lnTo>
                  <a:lnTo>
                    <a:pt x="1696" y="398"/>
                  </a:lnTo>
                  <a:lnTo>
                    <a:pt x="1670" y="460"/>
                  </a:lnTo>
                  <a:lnTo>
                    <a:pt x="1670" y="460"/>
                  </a:lnTo>
                  <a:lnTo>
                    <a:pt x="1648" y="520"/>
                  </a:lnTo>
                  <a:lnTo>
                    <a:pt x="1628" y="576"/>
                  </a:lnTo>
                  <a:lnTo>
                    <a:pt x="1620" y="604"/>
                  </a:lnTo>
                  <a:lnTo>
                    <a:pt x="1616" y="630"/>
                  </a:lnTo>
                  <a:lnTo>
                    <a:pt x="1614" y="654"/>
                  </a:lnTo>
                  <a:lnTo>
                    <a:pt x="1614" y="676"/>
                  </a:lnTo>
                  <a:lnTo>
                    <a:pt x="1614" y="676"/>
                  </a:lnTo>
                  <a:lnTo>
                    <a:pt x="1612" y="700"/>
                  </a:lnTo>
                  <a:lnTo>
                    <a:pt x="1612" y="728"/>
                  </a:lnTo>
                  <a:lnTo>
                    <a:pt x="1614" y="756"/>
                  </a:lnTo>
                  <a:lnTo>
                    <a:pt x="1618" y="784"/>
                  </a:lnTo>
                  <a:lnTo>
                    <a:pt x="1618" y="784"/>
                  </a:lnTo>
                  <a:lnTo>
                    <a:pt x="1626" y="806"/>
                  </a:lnTo>
                  <a:lnTo>
                    <a:pt x="1634" y="824"/>
                  </a:lnTo>
                  <a:lnTo>
                    <a:pt x="1644" y="844"/>
                  </a:lnTo>
                  <a:lnTo>
                    <a:pt x="1654" y="860"/>
                  </a:lnTo>
                  <a:lnTo>
                    <a:pt x="1666" y="876"/>
                  </a:lnTo>
                  <a:lnTo>
                    <a:pt x="1678" y="890"/>
                  </a:lnTo>
                  <a:lnTo>
                    <a:pt x="1690" y="902"/>
                  </a:lnTo>
                  <a:lnTo>
                    <a:pt x="1704" y="914"/>
                  </a:lnTo>
                  <a:lnTo>
                    <a:pt x="1718" y="924"/>
                  </a:lnTo>
                  <a:lnTo>
                    <a:pt x="1732" y="932"/>
                  </a:lnTo>
                  <a:lnTo>
                    <a:pt x="1748" y="940"/>
                  </a:lnTo>
                  <a:lnTo>
                    <a:pt x="1764" y="946"/>
                  </a:lnTo>
                  <a:lnTo>
                    <a:pt x="1780" y="950"/>
                  </a:lnTo>
                  <a:lnTo>
                    <a:pt x="1798" y="952"/>
                  </a:lnTo>
                  <a:lnTo>
                    <a:pt x="1816" y="954"/>
                  </a:lnTo>
                  <a:lnTo>
                    <a:pt x="1834" y="954"/>
                  </a:lnTo>
                  <a:lnTo>
                    <a:pt x="1834" y="954"/>
                  </a:lnTo>
                  <a:lnTo>
                    <a:pt x="1826" y="942"/>
                  </a:lnTo>
                  <a:lnTo>
                    <a:pt x="1818" y="934"/>
                  </a:lnTo>
                  <a:lnTo>
                    <a:pt x="1804" y="922"/>
                  </a:lnTo>
                  <a:lnTo>
                    <a:pt x="1790" y="912"/>
                  </a:lnTo>
                  <a:lnTo>
                    <a:pt x="1784" y="908"/>
                  </a:lnTo>
                  <a:lnTo>
                    <a:pt x="1778" y="902"/>
                  </a:lnTo>
                  <a:lnTo>
                    <a:pt x="1778" y="902"/>
                  </a:lnTo>
                  <a:lnTo>
                    <a:pt x="1798" y="906"/>
                  </a:lnTo>
                  <a:lnTo>
                    <a:pt x="1824" y="908"/>
                  </a:lnTo>
                  <a:lnTo>
                    <a:pt x="1838" y="908"/>
                  </a:lnTo>
                  <a:lnTo>
                    <a:pt x="1854" y="904"/>
                  </a:lnTo>
                  <a:lnTo>
                    <a:pt x="1870" y="900"/>
                  </a:lnTo>
                  <a:lnTo>
                    <a:pt x="1886" y="896"/>
                  </a:lnTo>
                  <a:lnTo>
                    <a:pt x="1902" y="888"/>
                  </a:lnTo>
                  <a:lnTo>
                    <a:pt x="1916" y="878"/>
                  </a:lnTo>
                  <a:lnTo>
                    <a:pt x="1932" y="866"/>
                  </a:lnTo>
                  <a:lnTo>
                    <a:pt x="1946" y="852"/>
                  </a:lnTo>
                  <a:lnTo>
                    <a:pt x="1960" y="834"/>
                  </a:lnTo>
                  <a:lnTo>
                    <a:pt x="1972" y="814"/>
                  </a:lnTo>
                  <a:lnTo>
                    <a:pt x="1982" y="792"/>
                  </a:lnTo>
                  <a:lnTo>
                    <a:pt x="1990" y="766"/>
                  </a:lnTo>
                  <a:lnTo>
                    <a:pt x="1990" y="766"/>
                  </a:lnTo>
                  <a:lnTo>
                    <a:pt x="1960" y="790"/>
                  </a:lnTo>
                  <a:lnTo>
                    <a:pt x="1932" y="808"/>
                  </a:lnTo>
                  <a:lnTo>
                    <a:pt x="1906" y="820"/>
                  </a:lnTo>
                  <a:lnTo>
                    <a:pt x="1892" y="824"/>
                  </a:lnTo>
                  <a:lnTo>
                    <a:pt x="1880" y="826"/>
                  </a:lnTo>
                  <a:lnTo>
                    <a:pt x="1868" y="828"/>
                  </a:lnTo>
                  <a:lnTo>
                    <a:pt x="1856" y="828"/>
                  </a:lnTo>
                  <a:lnTo>
                    <a:pt x="1844" y="828"/>
                  </a:lnTo>
                  <a:lnTo>
                    <a:pt x="1834" y="826"/>
                  </a:lnTo>
                  <a:lnTo>
                    <a:pt x="1822" y="822"/>
                  </a:lnTo>
                  <a:lnTo>
                    <a:pt x="1812" y="818"/>
                  </a:lnTo>
                  <a:lnTo>
                    <a:pt x="1794" y="804"/>
                  </a:lnTo>
                  <a:lnTo>
                    <a:pt x="1794" y="804"/>
                  </a:lnTo>
                  <a:lnTo>
                    <a:pt x="1812" y="804"/>
                  </a:lnTo>
                  <a:lnTo>
                    <a:pt x="1828" y="800"/>
                  </a:lnTo>
                  <a:lnTo>
                    <a:pt x="1842" y="792"/>
                  </a:lnTo>
                  <a:lnTo>
                    <a:pt x="1854" y="784"/>
                  </a:lnTo>
                  <a:lnTo>
                    <a:pt x="1866" y="772"/>
                  </a:lnTo>
                  <a:lnTo>
                    <a:pt x="1876" y="760"/>
                  </a:lnTo>
                  <a:lnTo>
                    <a:pt x="1886" y="744"/>
                  </a:lnTo>
                  <a:lnTo>
                    <a:pt x="1896" y="728"/>
                  </a:lnTo>
                  <a:lnTo>
                    <a:pt x="1896" y="728"/>
                  </a:lnTo>
                  <a:lnTo>
                    <a:pt x="1878" y="734"/>
                  </a:lnTo>
                  <a:lnTo>
                    <a:pt x="1860" y="736"/>
                  </a:lnTo>
                  <a:lnTo>
                    <a:pt x="1842" y="736"/>
                  </a:lnTo>
                  <a:lnTo>
                    <a:pt x="1824" y="734"/>
                  </a:lnTo>
                  <a:lnTo>
                    <a:pt x="1808" y="728"/>
                  </a:lnTo>
                  <a:lnTo>
                    <a:pt x="1790" y="720"/>
                  </a:lnTo>
                  <a:lnTo>
                    <a:pt x="1776" y="710"/>
                  </a:lnTo>
                  <a:lnTo>
                    <a:pt x="1760" y="698"/>
                  </a:lnTo>
                  <a:lnTo>
                    <a:pt x="1748" y="684"/>
                  </a:lnTo>
                  <a:lnTo>
                    <a:pt x="1736" y="666"/>
                  </a:lnTo>
                  <a:lnTo>
                    <a:pt x="1726" y="648"/>
                  </a:lnTo>
                  <a:lnTo>
                    <a:pt x="1720" y="628"/>
                  </a:lnTo>
                  <a:lnTo>
                    <a:pt x="1714" y="606"/>
                  </a:lnTo>
                  <a:lnTo>
                    <a:pt x="1712" y="582"/>
                  </a:lnTo>
                  <a:lnTo>
                    <a:pt x="1712" y="556"/>
                  </a:lnTo>
                  <a:lnTo>
                    <a:pt x="1716" y="530"/>
                  </a:lnTo>
                  <a:lnTo>
                    <a:pt x="1716" y="530"/>
                  </a:lnTo>
                  <a:lnTo>
                    <a:pt x="1722" y="506"/>
                  </a:lnTo>
                  <a:lnTo>
                    <a:pt x="1732" y="480"/>
                  </a:lnTo>
                  <a:lnTo>
                    <a:pt x="1732" y="480"/>
                  </a:lnTo>
                  <a:lnTo>
                    <a:pt x="1732" y="498"/>
                  </a:lnTo>
                  <a:lnTo>
                    <a:pt x="1732" y="514"/>
                  </a:lnTo>
                  <a:lnTo>
                    <a:pt x="1736" y="530"/>
                  </a:lnTo>
                  <a:lnTo>
                    <a:pt x="1742" y="544"/>
                  </a:lnTo>
                  <a:lnTo>
                    <a:pt x="1748" y="558"/>
                  </a:lnTo>
                  <a:lnTo>
                    <a:pt x="1758" y="570"/>
                  </a:lnTo>
                  <a:lnTo>
                    <a:pt x="1768" y="580"/>
                  </a:lnTo>
                  <a:lnTo>
                    <a:pt x="1780" y="590"/>
                  </a:lnTo>
                  <a:lnTo>
                    <a:pt x="1792" y="598"/>
                  </a:lnTo>
                  <a:lnTo>
                    <a:pt x="1806" y="604"/>
                  </a:lnTo>
                  <a:lnTo>
                    <a:pt x="1820" y="610"/>
                  </a:lnTo>
                  <a:lnTo>
                    <a:pt x="1836" y="616"/>
                  </a:lnTo>
                  <a:lnTo>
                    <a:pt x="1852" y="620"/>
                  </a:lnTo>
                  <a:lnTo>
                    <a:pt x="1868" y="622"/>
                  </a:lnTo>
                  <a:lnTo>
                    <a:pt x="1902" y="624"/>
                  </a:lnTo>
                  <a:lnTo>
                    <a:pt x="1902" y="624"/>
                  </a:lnTo>
                  <a:lnTo>
                    <a:pt x="1932" y="618"/>
                  </a:lnTo>
                  <a:lnTo>
                    <a:pt x="1968" y="610"/>
                  </a:lnTo>
                  <a:lnTo>
                    <a:pt x="1988" y="602"/>
                  </a:lnTo>
                  <a:lnTo>
                    <a:pt x="2006" y="594"/>
                  </a:lnTo>
                  <a:lnTo>
                    <a:pt x="2024" y="586"/>
                  </a:lnTo>
                  <a:lnTo>
                    <a:pt x="2042" y="574"/>
                  </a:lnTo>
                  <a:lnTo>
                    <a:pt x="2042" y="574"/>
                  </a:lnTo>
                  <a:lnTo>
                    <a:pt x="2054" y="566"/>
                  </a:lnTo>
                  <a:lnTo>
                    <a:pt x="2054" y="566"/>
                  </a:lnTo>
                  <a:lnTo>
                    <a:pt x="2070" y="550"/>
                  </a:lnTo>
                  <a:lnTo>
                    <a:pt x="2084" y="532"/>
                  </a:lnTo>
                  <a:lnTo>
                    <a:pt x="2094" y="514"/>
                  </a:lnTo>
                  <a:lnTo>
                    <a:pt x="2102" y="496"/>
                  </a:lnTo>
                  <a:lnTo>
                    <a:pt x="2104" y="478"/>
                  </a:lnTo>
                  <a:lnTo>
                    <a:pt x="2106" y="462"/>
                  </a:lnTo>
                  <a:lnTo>
                    <a:pt x="2104" y="444"/>
                  </a:lnTo>
                  <a:lnTo>
                    <a:pt x="2098" y="428"/>
                  </a:lnTo>
                  <a:lnTo>
                    <a:pt x="2092" y="412"/>
                  </a:lnTo>
                  <a:lnTo>
                    <a:pt x="2084" y="398"/>
                  </a:lnTo>
                  <a:lnTo>
                    <a:pt x="2074" y="386"/>
                  </a:lnTo>
                  <a:lnTo>
                    <a:pt x="2062" y="374"/>
                  </a:lnTo>
                  <a:lnTo>
                    <a:pt x="2050" y="366"/>
                  </a:lnTo>
                  <a:lnTo>
                    <a:pt x="2038" y="358"/>
                  </a:lnTo>
                  <a:lnTo>
                    <a:pt x="2024" y="354"/>
                  </a:lnTo>
                  <a:lnTo>
                    <a:pt x="2010" y="352"/>
                  </a:lnTo>
                  <a:lnTo>
                    <a:pt x="2010" y="352"/>
                  </a:lnTo>
                  <a:lnTo>
                    <a:pt x="1996" y="352"/>
                  </a:lnTo>
                  <a:lnTo>
                    <a:pt x="1982" y="354"/>
                  </a:lnTo>
                  <a:lnTo>
                    <a:pt x="1970" y="358"/>
                  </a:lnTo>
                  <a:lnTo>
                    <a:pt x="1958" y="364"/>
                  </a:lnTo>
                  <a:lnTo>
                    <a:pt x="1948" y="370"/>
                  </a:lnTo>
                  <a:lnTo>
                    <a:pt x="1940" y="380"/>
                  </a:lnTo>
                  <a:lnTo>
                    <a:pt x="1932" y="388"/>
                  </a:lnTo>
                  <a:lnTo>
                    <a:pt x="1926" y="400"/>
                  </a:lnTo>
                  <a:lnTo>
                    <a:pt x="1920" y="412"/>
                  </a:lnTo>
                  <a:lnTo>
                    <a:pt x="1918" y="424"/>
                  </a:lnTo>
                  <a:lnTo>
                    <a:pt x="1916" y="436"/>
                  </a:lnTo>
                  <a:lnTo>
                    <a:pt x="1914" y="450"/>
                  </a:lnTo>
                  <a:lnTo>
                    <a:pt x="1916" y="464"/>
                  </a:lnTo>
                  <a:lnTo>
                    <a:pt x="1918" y="476"/>
                  </a:lnTo>
                  <a:lnTo>
                    <a:pt x="1922" y="490"/>
                  </a:lnTo>
                  <a:lnTo>
                    <a:pt x="1928" y="504"/>
                  </a:lnTo>
                  <a:lnTo>
                    <a:pt x="1928" y="504"/>
                  </a:lnTo>
                  <a:lnTo>
                    <a:pt x="1932" y="488"/>
                  </a:lnTo>
                  <a:lnTo>
                    <a:pt x="1940" y="476"/>
                  </a:lnTo>
                  <a:lnTo>
                    <a:pt x="1950" y="464"/>
                  </a:lnTo>
                  <a:lnTo>
                    <a:pt x="1962" y="456"/>
                  </a:lnTo>
                  <a:lnTo>
                    <a:pt x="1974" y="452"/>
                  </a:lnTo>
                  <a:lnTo>
                    <a:pt x="1980" y="450"/>
                  </a:lnTo>
                  <a:lnTo>
                    <a:pt x="1988" y="452"/>
                  </a:lnTo>
                  <a:lnTo>
                    <a:pt x="1994" y="454"/>
                  </a:lnTo>
                  <a:lnTo>
                    <a:pt x="2002" y="456"/>
                  </a:lnTo>
                  <a:lnTo>
                    <a:pt x="2008" y="462"/>
                  </a:lnTo>
                  <a:lnTo>
                    <a:pt x="2014" y="468"/>
                  </a:lnTo>
                  <a:lnTo>
                    <a:pt x="2014" y="468"/>
                  </a:lnTo>
                  <a:lnTo>
                    <a:pt x="2020" y="474"/>
                  </a:lnTo>
                  <a:lnTo>
                    <a:pt x="2024" y="482"/>
                  </a:lnTo>
                  <a:lnTo>
                    <a:pt x="2028" y="488"/>
                  </a:lnTo>
                  <a:lnTo>
                    <a:pt x="2030" y="496"/>
                  </a:lnTo>
                  <a:lnTo>
                    <a:pt x="2030" y="504"/>
                  </a:lnTo>
                  <a:lnTo>
                    <a:pt x="2028" y="512"/>
                  </a:lnTo>
                  <a:lnTo>
                    <a:pt x="2024" y="528"/>
                  </a:lnTo>
                  <a:lnTo>
                    <a:pt x="2014" y="542"/>
                  </a:lnTo>
                  <a:lnTo>
                    <a:pt x="2002" y="558"/>
                  </a:lnTo>
                  <a:lnTo>
                    <a:pt x="1986" y="572"/>
                  </a:lnTo>
                  <a:lnTo>
                    <a:pt x="1968" y="584"/>
                  </a:lnTo>
                  <a:lnTo>
                    <a:pt x="1968" y="584"/>
                  </a:lnTo>
                  <a:lnTo>
                    <a:pt x="1954" y="592"/>
                  </a:lnTo>
                  <a:lnTo>
                    <a:pt x="1938" y="598"/>
                  </a:lnTo>
                  <a:lnTo>
                    <a:pt x="1920" y="600"/>
                  </a:lnTo>
                  <a:lnTo>
                    <a:pt x="1900" y="602"/>
                  </a:lnTo>
                  <a:lnTo>
                    <a:pt x="1900" y="602"/>
                  </a:lnTo>
                  <a:lnTo>
                    <a:pt x="1884" y="602"/>
                  </a:lnTo>
                  <a:lnTo>
                    <a:pt x="1868" y="598"/>
                  </a:lnTo>
                  <a:lnTo>
                    <a:pt x="1854" y="592"/>
                  </a:lnTo>
                  <a:lnTo>
                    <a:pt x="1838" y="584"/>
                  </a:lnTo>
                  <a:lnTo>
                    <a:pt x="1826" y="574"/>
                  </a:lnTo>
                  <a:lnTo>
                    <a:pt x="1812" y="562"/>
                  </a:lnTo>
                  <a:lnTo>
                    <a:pt x="1802" y="546"/>
                  </a:lnTo>
                  <a:lnTo>
                    <a:pt x="1794" y="528"/>
                  </a:lnTo>
                  <a:lnTo>
                    <a:pt x="1788" y="508"/>
                  </a:lnTo>
                  <a:lnTo>
                    <a:pt x="1782" y="484"/>
                  </a:lnTo>
                  <a:lnTo>
                    <a:pt x="1782" y="460"/>
                  </a:lnTo>
                  <a:lnTo>
                    <a:pt x="1782" y="432"/>
                  </a:lnTo>
                  <a:lnTo>
                    <a:pt x="1788" y="402"/>
                  </a:lnTo>
                  <a:lnTo>
                    <a:pt x="1796" y="368"/>
                  </a:lnTo>
                  <a:lnTo>
                    <a:pt x="1808" y="332"/>
                  </a:lnTo>
                  <a:lnTo>
                    <a:pt x="1822" y="294"/>
                  </a:lnTo>
                  <a:lnTo>
                    <a:pt x="1822" y="294"/>
                  </a:lnTo>
                  <a:lnTo>
                    <a:pt x="1824" y="312"/>
                  </a:lnTo>
                  <a:lnTo>
                    <a:pt x="1826" y="330"/>
                  </a:lnTo>
                  <a:lnTo>
                    <a:pt x="1832" y="348"/>
                  </a:lnTo>
                  <a:lnTo>
                    <a:pt x="1838" y="364"/>
                  </a:lnTo>
                  <a:lnTo>
                    <a:pt x="1848" y="376"/>
                  </a:lnTo>
                  <a:lnTo>
                    <a:pt x="1858" y="388"/>
                  </a:lnTo>
                  <a:lnTo>
                    <a:pt x="1870" y="394"/>
                  </a:lnTo>
                  <a:lnTo>
                    <a:pt x="1878" y="396"/>
                  </a:lnTo>
                  <a:lnTo>
                    <a:pt x="1886" y="398"/>
                  </a:lnTo>
                  <a:lnTo>
                    <a:pt x="1886" y="398"/>
                  </a:lnTo>
                  <a:lnTo>
                    <a:pt x="1876" y="382"/>
                  </a:lnTo>
                  <a:lnTo>
                    <a:pt x="1870" y="364"/>
                  </a:lnTo>
                  <a:lnTo>
                    <a:pt x="1866" y="346"/>
                  </a:lnTo>
                  <a:lnTo>
                    <a:pt x="1864" y="326"/>
                  </a:lnTo>
                  <a:lnTo>
                    <a:pt x="1864" y="308"/>
                  </a:lnTo>
                  <a:lnTo>
                    <a:pt x="1866" y="288"/>
                  </a:lnTo>
                  <a:lnTo>
                    <a:pt x="1870" y="268"/>
                  </a:lnTo>
                  <a:lnTo>
                    <a:pt x="1876" y="248"/>
                  </a:lnTo>
                  <a:lnTo>
                    <a:pt x="1884" y="230"/>
                  </a:lnTo>
                  <a:lnTo>
                    <a:pt x="1892" y="212"/>
                  </a:lnTo>
                  <a:lnTo>
                    <a:pt x="1902" y="194"/>
                  </a:lnTo>
                  <a:lnTo>
                    <a:pt x="1914" y="178"/>
                  </a:lnTo>
                  <a:lnTo>
                    <a:pt x="1928" y="164"/>
                  </a:lnTo>
                  <a:lnTo>
                    <a:pt x="1942" y="150"/>
                  </a:lnTo>
                  <a:lnTo>
                    <a:pt x="1958" y="140"/>
                  </a:lnTo>
                  <a:lnTo>
                    <a:pt x="1974" y="130"/>
                  </a:lnTo>
                  <a:lnTo>
                    <a:pt x="1974" y="130"/>
                  </a:lnTo>
                  <a:lnTo>
                    <a:pt x="1986" y="140"/>
                  </a:lnTo>
                  <a:lnTo>
                    <a:pt x="2004" y="150"/>
                  </a:lnTo>
                  <a:lnTo>
                    <a:pt x="2026" y="158"/>
                  </a:lnTo>
                  <a:lnTo>
                    <a:pt x="2048" y="164"/>
                  </a:lnTo>
                  <a:lnTo>
                    <a:pt x="2072" y="168"/>
                  </a:lnTo>
                  <a:lnTo>
                    <a:pt x="2092" y="168"/>
                  </a:lnTo>
                  <a:lnTo>
                    <a:pt x="2102" y="166"/>
                  </a:lnTo>
                  <a:lnTo>
                    <a:pt x="2110" y="164"/>
                  </a:lnTo>
                  <a:lnTo>
                    <a:pt x="2118" y="160"/>
                  </a:lnTo>
                  <a:lnTo>
                    <a:pt x="2124" y="154"/>
                  </a:lnTo>
                  <a:lnTo>
                    <a:pt x="2124" y="154"/>
                  </a:lnTo>
                  <a:lnTo>
                    <a:pt x="2112" y="184"/>
                  </a:lnTo>
                  <a:lnTo>
                    <a:pt x="2104" y="214"/>
                  </a:lnTo>
                  <a:lnTo>
                    <a:pt x="2100" y="242"/>
                  </a:lnTo>
                  <a:lnTo>
                    <a:pt x="2100" y="268"/>
                  </a:lnTo>
                  <a:lnTo>
                    <a:pt x="2104" y="292"/>
                  </a:lnTo>
                  <a:lnTo>
                    <a:pt x="2108" y="302"/>
                  </a:lnTo>
                  <a:lnTo>
                    <a:pt x="2112" y="310"/>
                  </a:lnTo>
                  <a:lnTo>
                    <a:pt x="2118" y="318"/>
                  </a:lnTo>
                  <a:lnTo>
                    <a:pt x="2124" y="324"/>
                  </a:lnTo>
                  <a:lnTo>
                    <a:pt x="2132" y="328"/>
                  </a:lnTo>
                  <a:lnTo>
                    <a:pt x="2140" y="330"/>
                  </a:lnTo>
                  <a:lnTo>
                    <a:pt x="2140" y="330"/>
                  </a:lnTo>
                  <a:lnTo>
                    <a:pt x="2136" y="314"/>
                  </a:lnTo>
                  <a:lnTo>
                    <a:pt x="2138" y="296"/>
                  </a:lnTo>
                  <a:lnTo>
                    <a:pt x="2142" y="278"/>
                  </a:lnTo>
                  <a:lnTo>
                    <a:pt x="2150" y="258"/>
                  </a:lnTo>
                  <a:lnTo>
                    <a:pt x="2160" y="236"/>
                  </a:lnTo>
                  <a:lnTo>
                    <a:pt x="2174" y="216"/>
                  </a:lnTo>
                  <a:lnTo>
                    <a:pt x="2190" y="196"/>
                  </a:lnTo>
                  <a:lnTo>
                    <a:pt x="2208" y="176"/>
                  </a:lnTo>
                  <a:lnTo>
                    <a:pt x="2230" y="156"/>
                  </a:lnTo>
                  <a:lnTo>
                    <a:pt x="2252" y="140"/>
                  </a:lnTo>
                  <a:lnTo>
                    <a:pt x="2278" y="122"/>
                  </a:lnTo>
                  <a:lnTo>
                    <a:pt x="2304" y="108"/>
                  </a:lnTo>
                  <a:lnTo>
                    <a:pt x="2334" y="96"/>
                  </a:lnTo>
                  <a:lnTo>
                    <a:pt x="2364" y="88"/>
                  </a:lnTo>
                  <a:lnTo>
                    <a:pt x="2396" y="82"/>
                  </a:lnTo>
                  <a:lnTo>
                    <a:pt x="2428" y="78"/>
                  </a:lnTo>
                  <a:lnTo>
                    <a:pt x="2428" y="78"/>
                  </a:lnTo>
                  <a:lnTo>
                    <a:pt x="2476" y="80"/>
                  </a:lnTo>
                  <a:lnTo>
                    <a:pt x="2522" y="84"/>
                  </a:lnTo>
                  <a:lnTo>
                    <a:pt x="2570" y="94"/>
                  </a:lnTo>
                  <a:lnTo>
                    <a:pt x="2618" y="108"/>
                  </a:lnTo>
                  <a:lnTo>
                    <a:pt x="2634" y="56"/>
                  </a:lnTo>
                  <a:close/>
                  <a:moveTo>
                    <a:pt x="1946" y="426"/>
                  </a:moveTo>
                  <a:lnTo>
                    <a:pt x="1946" y="426"/>
                  </a:lnTo>
                  <a:lnTo>
                    <a:pt x="1952" y="414"/>
                  </a:lnTo>
                  <a:lnTo>
                    <a:pt x="1956" y="404"/>
                  </a:lnTo>
                  <a:lnTo>
                    <a:pt x="1964" y="394"/>
                  </a:lnTo>
                  <a:lnTo>
                    <a:pt x="1972" y="388"/>
                  </a:lnTo>
                  <a:lnTo>
                    <a:pt x="1980" y="382"/>
                  </a:lnTo>
                  <a:lnTo>
                    <a:pt x="1988" y="380"/>
                  </a:lnTo>
                  <a:lnTo>
                    <a:pt x="1998" y="378"/>
                  </a:lnTo>
                  <a:lnTo>
                    <a:pt x="2006" y="376"/>
                  </a:lnTo>
                  <a:lnTo>
                    <a:pt x="2014" y="378"/>
                  </a:lnTo>
                  <a:lnTo>
                    <a:pt x="2024" y="380"/>
                  </a:lnTo>
                  <a:lnTo>
                    <a:pt x="2030" y="382"/>
                  </a:lnTo>
                  <a:lnTo>
                    <a:pt x="2038" y="388"/>
                  </a:lnTo>
                  <a:lnTo>
                    <a:pt x="2044" y="392"/>
                  </a:lnTo>
                  <a:lnTo>
                    <a:pt x="2048" y="400"/>
                  </a:lnTo>
                  <a:lnTo>
                    <a:pt x="2050" y="408"/>
                  </a:lnTo>
                  <a:lnTo>
                    <a:pt x="2052" y="416"/>
                  </a:lnTo>
                  <a:lnTo>
                    <a:pt x="2052" y="416"/>
                  </a:lnTo>
                  <a:lnTo>
                    <a:pt x="2040" y="410"/>
                  </a:lnTo>
                  <a:lnTo>
                    <a:pt x="2026" y="404"/>
                  </a:lnTo>
                  <a:lnTo>
                    <a:pt x="2012" y="402"/>
                  </a:lnTo>
                  <a:lnTo>
                    <a:pt x="1998" y="402"/>
                  </a:lnTo>
                  <a:lnTo>
                    <a:pt x="1984" y="404"/>
                  </a:lnTo>
                  <a:lnTo>
                    <a:pt x="1972" y="408"/>
                  </a:lnTo>
                  <a:lnTo>
                    <a:pt x="1958" y="416"/>
                  </a:lnTo>
                  <a:lnTo>
                    <a:pt x="1946" y="426"/>
                  </a:lnTo>
                  <a:lnTo>
                    <a:pt x="1946" y="426"/>
                  </a:lnTo>
                  <a:close/>
                  <a:moveTo>
                    <a:pt x="1838" y="766"/>
                  </a:moveTo>
                  <a:lnTo>
                    <a:pt x="1838" y="766"/>
                  </a:lnTo>
                  <a:lnTo>
                    <a:pt x="1826" y="774"/>
                  </a:lnTo>
                  <a:lnTo>
                    <a:pt x="1814" y="780"/>
                  </a:lnTo>
                  <a:lnTo>
                    <a:pt x="1800" y="784"/>
                  </a:lnTo>
                  <a:lnTo>
                    <a:pt x="1786" y="786"/>
                  </a:lnTo>
                  <a:lnTo>
                    <a:pt x="1772" y="786"/>
                  </a:lnTo>
                  <a:lnTo>
                    <a:pt x="1756" y="786"/>
                  </a:lnTo>
                  <a:lnTo>
                    <a:pt x="1732" y="784"/>
                  </a:lnTo>
                  <a:lnTo>
                    <a:pt x="1732" y="784"/>
                  </a:lnTo>
                  <a:lnTo>
                    <a:pt x="1732" y="792"/>
                  </a:lnTo>
                  <a:lnTo>
                    <a:pt x="1732" y="802"/>
                  </a:lnTo>
                  <a:lnTo>
                    <a:pt x="1736" y="810"/>
                  </a:lnTo>
                  <a:lnTo>
                    <a:pt x="1740" y="818"/>
                  </a:lnTo>
                  <a:lnTo>
                    <a:pt x="1752" y="832"/>
                  </a:lnTo>
                  <a:lnTo>
                    <a:pt x="1768" y="844"/>
                  </a:lnTo>
                  <a:lnTo>
                    <a:pt x="1788" y="854"/>
                  </a:lnTo>
                  <a:lnTo>
                    <a:pt x="1810" y="860"/>
                  </a:lnTo>
                  <a:lnTo>
                    <a:pt x="1836" y="862"/>
                  </a:lnTo>
                  <a:lnTo>
                    <a:pt x="1862" y="860"/>
                  </a:lnTo>
                  <a:lnTo>
                    <a:pt x="1862" y="860"/>
                  </a:lnTo>
                  <a:lnTo>
                    <a:pt x="1842" y="868"/>
                  </a:lnTo>
                  <a:lnTo>
                    <a:pt x="1818" y="874"/>
                  </a:lnTo>
                  <a:lnTo>
                    <a:pt x="1794" y="876"/>
                  </a:lnTo>
                  <a:lnTo>
                    <a:pt x="1768" y="874"/>
                  </a:lnTo>
                  <a:lnTo>
                    <a:pt x="1756" y="872"/>
                  </a:lnTo>
                  <a:lnTo>
                    <a:pt x="1744" y="868"/>
                  </a:lnTo>
                  <a:lnTo>
                    <a:pt x="1732" y="862"/>
                  </a:lnTo>
                  <a:lnTo>
                    <a:pt x="1720" y="856"/>
                  </a:lnTo>
                  <a:lnTo>
                    <a:pt x="1708" y="848"/>
                  </a:lnTo>
                  <a:lnTo>
                    <a:pt x="1698" y="836"/>
                  </a:lnTo>
                  <a:lnTo>
                    <a:pt x="1688" y="824"/>
                  </a:lnTo>
                  <a:lnTo>
                    <a:pt x="1680" y="810"/>
                  </a:lnTo>
                  <a:lnTo>
                    <a:pt x="1680" y="810"/>
                  </a:lnTo>
                  <a:lnTo>
                    <a:pt x="1666" y="784"/>
                  </a:lnTo>
                  <a:lnTo>
                    <a:pt x="1656" y="756"/>
                  </a:lnTo>
                  <a:lnTo>
                    <a:pt x="1650" y="728"/>
                  </a:lnTo>
                  <a:lnTo>
                    <a:pt x="1646" y="696"/>
                  </a:lnTo>
                  <a:lnTo>
                    <a:pt x="1648" y="664"/>
                  </a:lnTo>
                  <a:lnTo>
                    <a:pt x="1652" y="628"/>
                  </a:lnTo>
                  <a:lnTo>
                    <a:pt x="1660" y="590"/>
                  </a:lnTo>
                  <a:lnTo>
                    <a:pt x="1672" y="548"/>
                  </a:lnTo>
                  <a:lnTo>
                    <a:pt x="1672" y="548"/>
                  </a:lnTo>
                  <a:lnTo>
                    <a:pt x="1668" y="580"/>
                  </a:lnTo>
                  <a:lnTo>
                    <a:pt x="1664" y="610"/>
                  </a:lnTo>
                  <a:lnTo>
                    <a:pt x="1664" y="634"/>
                  </a:lnTo>
                  <a:lnTo>
                    <a:pt x="1666" y="656"/>
                  </a:lnTo>
                  <a:lnTo>
                    <a:pt x="1670" y="676"/>
                  </a:lnTo>
                  <a:lnTo>
                    <a:pt x="1676" y="694"/>
                  </a:lnTo>
                  <a:lnTo>
                    <a:pt x="1684" y="708"/>
                  </a:lnTo>
                  <a:lnTo>
                    <a:pt x="1694" y="720"/>
                  </a:lnTo>
                  <a:lnTo>
                    <a:pt x="1704" y="730"/>
                  </a:lnTo>
                  <a:lnTo>
                    <a:pt x="1718" y="738"/>
                  </a:lnTo>
                  <a:lnTo>
                    <a:pt x="1734" y="746"/>
                  </a:lnTo>
                  <a:lnTo>
                    <a:pt x="1752" y="750"/>
                  </a:lnTo>
                  <a:lnTo>
                    <a:pt x="1770" y="756"/>
                  </a:lnTo>
                  <a:lnTo>
                    <a:pt x="1792" y="760"/>
                  </a:lnTo>
                  <a:lnTo>
                    <a:pt x="1838" y="766"/>
                  </a:lnTo>
                  <a:lnTo>
                    <a:pt x="1838" y="766"/>
                  </a:lnTo>
                  <a:close/>
                  <a:moveTo>
                    <a:pt x="634" y="338"/>
                  </a:moveTo>
                  <a:lnTo>
                    <a:pt x="634" y="338"/>
                  </a:lnTo>
                  <a:lnTo>
                    <a:pt x="630" y="350"/>
                  </a:lnTo>
                  <a:lnTo>
                    <a:pt x="628" y="362"/>
                  </a:lnTo>
                  <a:lnTo>
                    <a:pt x="622" y="372"/>
                  </a:lnTo>
                  <a:lnTo>
                    <a:pt x="616" y="382"/>
                  </a:lnTo>
                  <a:lnTo>
                    <a:pt x="610" y="390"/>
                  </a:lnTo>
                  <a:lnTo>
                    <a:pt x="602" y="396"/>
                  </a:lnTo>
                  <a:lnTo>
                    <a:pt x="594" y="402"/>
                  </a:lnTo>
                  <a:lnTo>
                    <a:pt x="584" y="406"/>
                  </a:lnTo>
                  <a:lnTo>
                    <a:pt x="576" y="410"/>
                  </a:lnTo>
                  <a:lnTo>
                    <a:pt x="566" y="410"/>
                  </a:lnTo>
                  <a:lnTo>
                    <a:pt x="556" y="410"/>
                  </a:lnTo>
                  <a:lnTo>
                    <a:pt x="546" y="406"/>
                  </a:lnTo>
                  <a:lnTo>
                    <a:pt x="536" y="402"/>
                  </a:lnTo>
                  <a:lnTo>
                    <a:pt x="526" y="396"/>
                  </a:lnTo>
                  <a:lnTo>
                    <a:pt x="518" y="388"/>
                  </a:lnTo>
                  <a:lnTo>
                    <a:pt x="510" y="376"/>
                  </a:lnTo>
                  <a:lnTo>
                    <a:pt x="510" y="376"/>
                  </a:lnTo>
                  <a:lnTo>
                    <a:pt x="526" y="382"/>
                  </a:lnTo>
                  <a:lnTo>
                    <a:pt x="544" y="382"/>
                  </a:lnTo>
                  <a:lnTo>
                    <a:pt x="562" y="382"/>
                  </a:lnTo>
                  <a:lnTo>
                    <a:pt x="580" y="376"/>
                  </a:lnTo>
                  <a:lnTo>
                    <a:pt x="596" y="370"/>
                  </a:lnTo>
                  <a:lnTo>
                    <a:pt x="610" y="362"/>
                  </a:lnTo>
                  <a:lnTo>
                    <a:pt x="624" y="350"/>
                  </a:lnTo>
                  <a:lnTo>
                    <a:pt x="634" y="338"/>
                  </a:lnTo>
                  <a:lnTo>
                    <a:pt x="634" y="338"/>
                  </a:lnTo>
                  <a:close/>
                  <a:moveTo>
                    <a:pt x="86" y="46"/>
                  </a:moveTo>
                  <a:lnTo>
                    <a:pt x="86" y="46"/>
                  </a:lnTo>
                  <a:lnTo>
                    <a:pt x="74" y="56"/>
                  </a:lnTo>
                  <a:lnTo>
                    <a:pt x="64" y="68"/>
                  </a:lnTo>
                  <a:lnTo>
                    <a:pt x="56" y="80"/>
                  </a:lnTo>
                  <a:lnTo>
                    <a:pt x="52" y="94"/>
                  </a:lnTo>
                  <a:lnTo>
                    <a:pt x="50" y="106"/>
                  </a:lnTo>
                  <a:lnTo>
                    <a:pt x="50" y="120"/>
                  </a:lnTo>
                  <a:lnTo>
                    <a:pt x="52" y="134"/>
                  </a:lnTo>
                  <a:lnTo>
                    <a:pt x="56" y="148"/>
                  </a:lnTo>
                  <a:lnTo>
                    <a:pt x="56" y="148"/>
                  </a:lnTo>
                  <a:lnTo>
                    <a:pt x="48" y="144"/>
                  </a:lnTo>
                  <a:lnTo>
                    <a:pt x="40" y="140"/>
                  </a:lnTo>
                  <a:lnTo>
                    <a:pt x="34" y="134"/>
                  </a:lnTo>
                  <a:lnTo>
                    <a:pt x="30" y="128"/>
                  </a:lnTo>
                  <a:lnTo>
                    <a:pt x="28" y="120"/>
                  </a:lnTo>
                  <a:lnTo>
                    <a:pt x="26" y="112"/>
                  </a:lnTo>
                  <a:lnTo>
                    <a:pt x="26" y="104"/>
                  </a:lnTo>
                  <a:lnTo>
                    <a:pt x="26" y="96"/>
                  </a:lnTo>
                  <a:lnTo>
                    <a:pt x="28" y="86"/>
                  </a:lnTo>
                  <a:lnTo>
                    <a:pt x="32" y="78"/>
                  </a:lnTo>
                  <a:lnTo>
                    <a:pt x="38" y="70"/>
                  </a:lnTo>
                  <a:lnTo>
                    <a:pt x="44" y="64"/>
                  </a:lnTo>
                  <a:lnTo>
                    <a:pt x="52" y="58"/>
                  </a:lnTo>
                  <a:lnTo>
                    <a:pt x="62" y="52"/>
                  </a:lnTo>
                  <a:lnTo>
                    <a:pt x="74" y="48"/>
                  </a:lnTo>
                  <a:lnTo>
                    <a:pt x="86" y="46"/>
                  </a:lnTo>
                  <a:lnTo>
                    <a:pt x="86" y="46"/>
                  </a:lnTo>
                  <a:close/>
                  <a:moveTo>
                    <a:pt x="1114" y="144"/>
                  </a:moveTo>
                  <a:lnTo>
                    <a:pt x="1114" y="144"/>
                  </a:lnTo>
                  <a:lnTo>
                    <a:pt x="1124" y="168"/>
                  </a:lnTo>
                  <a:lnTo>
                    <a:pt x="1130" y="190"/>
                  </a:lnTo>
                  <a:lnTo>
                    <a:pt x="1132" y="210"/>
                  </a:lnTo>
                  <a:lnTo>
                    <a:pt x="1132" y="226"/>
                  </a:lnTo>
                  <a:lnTo>
                    <a:pt x="1130" y="240"/>
                  </a:lnTo>
                  <a:lnTo>
                    <a:pt x="1124" y="250"/>
                  </a:lnTo>
                  <a:lnTo>
                    <a:pt x="1118" y="260"/>
                  </a:lnTo>
                  <a:lnTo>
                    <a:pt x="1108" y="266"/>
                  </a:lnTo>
                  <a:lnTo>
                    <a:pt x="1098" y="272"/>
                  </a:lnTo>
                  <a:lnTo>
                    <a:pt x="1086" y="276"/>
                  </a:lnTo>
                  <a:lnTo>
                    <a:pt x="1076" y="278"/>
                  </a:lnTo>
                  <a:lnTo>
                    <a:pt x="1064" y="278"/>
                  </a:lnTo>
                  <a:lnTo>
                    <a:pt x="1040" y="276"/>
                  </a:lnTo>
                  <a:lnTo>
                    <a:pt x="1020" y="270"/>
                  </a:lnTo>
                  <a:lnTo>
                    <a:pt x="1020" y="270"/>
                  </a:lnTo>
                  <a:lnTo>
                    <a:pt x="1010" y="264"/>
                  </a:lnTo>
                  <a:lnTo>
                    <a:pt x="1002" y="258"/>
                  </a:lnTo>
                  <a:lnTo>
                    <a:pt x="998" y="248"/>
                  </a:lnTo>
                  <a:lnTo>
                    <a:pt x="996" y="240"/>
                  </a:lnTo>
                  <a:lnTo>
                    <a:pt x="998" y="232"/>
                  </a:lnTo>
                  <a:lnTo>
                    <a:pt x="1002" y="226"/>
                  </a:lnTo>
                  <a:lnTo>
                    <a:pt x="1008" y="222"/>
                  </a:lnTo>
                  <a:lnTo>
                    <a:pt x="1018" y="224"/>
                  </a:lnTo>
                  <a:lnTo>
                    <a:pt x="1018" y="224"/>
                  </a:lnTo>
                  <a:lnTo>
                    <a:pt x="1044" y="228"/>
                  </a:lnTo>
                  <a:lnTo>
                    <a:pt x="1056" y="228"/>
                  </a:lnTo>
                  <a:lnTo>
                    <a:pt x="1064" y="228"/>
                  </a:lnTo>
                  <a:lnTo>
                    <a:pt x="1072" y="226"/>
                  </a:lnTo>
                  <a:lnTo>
                    <a:pt x="1078" y="222"/>
                  </a:lnTo>
                  <a:lnTo>
                    <a:pt x="1084" y="218"/>
                  </a:lnTo>
                  <a:lnTo>
                    <a:pt x="1088" y="212"/>
                  </a:lnTo>
                  <a:lnTo>
                    <a:pt x="1096" y="200"/>
                  </a:lnTo>
                  <a:lnTo>
                    <a:pt x="1102" y="184"/>
                  </a:lnTo>
                  <a:lnTo>
                    <a:pt x="1106" y="164"/>
                  </a:lnTo>
                  <a:lnTo>
                    <a:pt x="1114" y="144"/>
                  </a:lnTo>
                  <a:lnTo>
                    <a:pt x="1114" y="144"/>
                  </a:lnTo>
                  <a:close/>
                  <a:moveTo>
                    <a:pt x="732" y="290"/>
                  </a:moveTo>
                  <a:lnTo>
                    <a:pt x="732" y="290"/>
                  </a:lnTo>
                  <a:lnTo>
                    <a:pt x="732" y="272"/>
                  </a:lnTo>
                  <a:lnTo>
                    <a:pt x="736" y="254"/>
                  </a:lnTo>
                  <a:lnTo>
                    <a:pt x="740" y="238"/>
                  </a:lnTo>
                  <a:lnTo>
                    <a:pt x="744" y="222"/>
                  </a:lnTo>
                  <a:lnTo>
                    <a:pt x="750" y="208"/>
                  </a:lnTo>
                  <a:lnTo>
                    <a:pt x="756" y="194"/>
                  </a:lnTo>
                  <a:lnTo>
                    <a:pt x="764" y="184"/>
                  </a:lnTo>
                  <a:lnTo>
                    <a:pt x="772" y="174"/>
                  </a:lnTo>
                  <a:lnTo>
                    <a:pt x="780" y="166"/>
                  </a:lnTo>
                  <a:lnTo>
                    <a:pt x="790" y="158"/>
                  </a:lnTo>
                  <a:lnTo>
                    <a:pt x="798" y="154"/>
                  </a:lnTo>
                  <a:lnTo>
                    <a:pt x="808" y="152"/>
                  </a:lnTo>
                  <a:lnTo>
                    <a:pt x="818" y="152"/>
                  </a:lnTo>
                  <a:lnTo>
                    <a:pt x="830" y="154"/>
                  </a:lnTo>
                  <a:lnTo>
                    <a:pt x="840" y="158"/>
                  </a:lnTo>
                  <a:lnTo>
                    <a:pt x="850" y="166"/>
                  </a:lnTo>
                  <a:lnTo>
                    <a:pt x="850" y="166"/>
                  </a:lnTo>
                  <a:lnTo>
                    <a:pt x="832" y="172"/>
                  </a:lnTo>
                  <a:lnTo>
                    <a:pt x="814" y="180"/>
                  </a:lnTo>
                  <a:lnTo>
                    <a:pt x="798" y="192"/>
                  </a:lnTo>
                  <a:lnTo>
                    <a:pt x="782" y="204"/>
                  </a:lnTo>
                  <a:lnTo>
                    <a:pt x="768" y="220"/>
                  </a:lnTo>
                  <a:lnTo>
                    <a:pt x="754" y="240"/>
                  </a:lnTo>
                  <a:lnTo>
                    <a:pt x="742" y="262"/>
                  </a:lnTo>
                  <a:lnTo>
                    <a:pt x="732" y="290"/>
                  </a:lnTo>
                  <a:lnTo>
                    <a:pt x="732" y="290"/>
                  </a:lnTo>
                  <a:close/>
                  <a:moveTo>
                    <a:pt x="1596" y="150"/>
                  </a:moveTo>
                  <a:lnTo>
                    <a:pt x="1596" y="150"/>
                  </a:lnTo>
                  <a:lnTo>
                    <a:pt x="1594" y="160"/>
                  </a:lnTo>
                  <a:lnTo>
                    <a:pt x="1592" y="172"/>
                  </a:lnTo>
                  <a:lnTo>
                    <a:pt x="1588" y="180"/>
                  </a:lnTo>
                  <a:lnTo>
                    <a:pt x="1582" y="188"/>
                  </a:lnTo>
                  <a:lnTo>
                    <a:pt x="1574" y="196"/>
                  </a:lnTo>
                  <a:lnTo>
                    <a:pt x="1566" y="200"/>
                  </a:lnTo>
                  <a:lnTo>
                    <a:pt x="1558" y="206"/>
                  </a:lnTo>
                  <a:lnTo>
                    <a:pt x="1550" y="208"/>
                  </a:lnTo>
                  <a:lnTo>
                    <a:pt x="1540" y="212"/>
                  </a:lnTo>
                  <a:lnTo>
                    <a:pt x="1530" y="212"/>
                  </a:lnTo>
                  <a:lnTo>
                    <a:pt x="1520" y="212"/>
                  </a:lnTo>
                  <a:lnTo>
                    <a:pt x="1510" y="210"/>
                  </a:lnTo>
                  <a:lnTo>
                    <a:pt x="1502" y="208"/>
                  </a:lnTo>
                  <a:lnTo>
                    <a:pt x="1492" y="204"/>
                  </a:lnTo>
                  <a:lnTo>
                    <a:pt x="1484" y="198"/>
                  </a:lnTo>
                  <a:lnTo>
                    <a:pt x="1478" y="192"/>
                  </a:lnTo>
                  <a:lnTo>
                    <a:pt x="1478" y="192"/>
                  </a:lnTo>
                  <a:lnTo>
                    <a:pt x="1480" y="188"/>
                  </a:lnTo>
                  <a:lnTo>
                    <a:pt x="1484" y="186"/>
                  </a:lnTo>
                  <a:lnTo>
                    <a:pt x="1494" y="184"/>
                  </a:lnTo>
                  <a:lnTo>
                    <a:pt x="1530" y="182"/>
                  </a:lnTo>
                  <a:lnTo>
                    <a:pt x="1550" y="180"/>
                  </a:lnTo>
                  <a:lnTo>
                    <a:pt x="1568" y="174"/>
                  </a:lnTo>
                  <a:lnTo>
                    <a:pt x="1576" y="170"/>
                  </a:lnTo>
                  <a:lnTo>
                    <a:pt x="1584" y="164"/>
                  </a:lnTo>
                  <a:lnTo>
                    <a:pt x="1590" y="158"/>
                  </a:lnTo>
                  <a:lnTo>
                    <a:pt x="1596" y="150"/>
                  </a:lnTo>
                  <a:lnTo>
                    <a:pt x="1596" y="150"/>
                  </a:lnTo>
                  <a:close/>
                  <a:moveTo>
                    <a:pt x="2440" y="40"/>
                  </a:moveTo>
                  <a:lnTo>
                    <a:pt x="2440" y="40"/>
                  </a:lnTo>
                  <a:lnTo>
                    <a:pt x="2390" y="46"/>
                  </a:lnTo>
                  <a:lnTo>
                    <a:pt x="2344" y="54"/>
                  </a:lnTo>
                  <a:lnTo>
                    <a:pt x="2302" y="66"/>
                  </a:lnTo>
                  <a:lnTo>
                    <a:pt x="2264" y="82"/>
                  </a:lnTo>
                  <a:lnTo>
                    <a:pt x="2230" y="100"/>
                  </a:lnTo>
                  <a:lnTo>
                    <a:pt x="2202" y="118"/>
                  </a:lnTo>
                  <a:lnTo>
                    <a:pt x="2180" y="136"/>
                  </a:lnTo>
                  <a:lnTo>
                    <a:pt x="2162" y="156"/>
                  </a:lnTo>
                  <a:lnTo>
                    <a:pt x="2162" y="156"/>
                  </a:lnTo>
                  <a:lnTo>
                    <a:pt x="2160" y="142"/>
                  </a:lnTo>
                  <a:lnTo>
                    <a:pt x="2160" y="130"/>
                  </a:lnTo>
                  <a:lnTo>
                    <a:pt x="2164" y="116"/>
                  </a:lnTo>
                  <a:lnTo>
                    <a:pt x="2168" y="104"/>
                  </a:lnTo>
                  <a:lnTo>
                    <a:pt x="2178" y="86"/>
                  </a:lnTo>
                  <a:lnTo>
                    <a:pt x="2182" y="78"/>
                  </a:lnTo>
                  <a:lnTo>
                    <a:pt x="2182" y="78"/>
                  </a:lnTo>
                  <a:lnTo>
                    <a:pt x="2134" y="98"/>
                  </a:lnTo>
                  <a:lnTo>
                    <a:pt x="2112" y="106"/>
                  </a:lnTo>
                  <a:lnTo>
                    <a:pt x="2090" y="112"/>
                  </a:lnTo>
                  <a:lnTo>
                    <a:pt x="2068" y="114"/>
                  </a:lnTo>
                  <a:lnTo>
                    <a:pt x="2048" y="116"/>
                  </a:lnTo>
                  <a:lnTo>
                    <a:pt x="2026" y="114"/>
                  </a:lnTo>
                  <a:lnTo>
                    <a:pt x="2004" y="106"/>
                  </a:lnTo>
                  <a:lnTo>
                    <a:pt x="2004" y="106"/>
                  </a:lnTo>
                  <a:lnTo>
                    <a:pt x="2024" y="96"/>
                  </a:lnTo>
                  <a:lnTo>
                    <a:pt x="2046" y="86"/>
                  </a:lnTo>
                  <a:lnTo>
                    <a:pt x="2068" y="78"/>
                  </a:lnTo>
                  <a:lnTo>
                    <a:pt x="2092" y="68"/>
                  </a:lnTo>
                  <a:lnTo>
                    <a:pt x="2144" y="54"/>
                  </a:lnTo>
                  <a:lnTo>
                    <a:pt x="2202" y="42"/>
                  </a:lnTo>
                  <a:lnTo>
                    <a:pt x="2260" y="36"/>
                  </a:lnTo>
                  <a:lnTo>
                    <a:pt x="2322" y="32"/>
                  </a:lnTo>
                  <a:lnTo>
                    <a:pt x="2352" y="32"/>
                  </a:lnTo>
                  <a:lnTo>
                    <a:pt x="2382" y="34"/>
                  </a:lnTo>
                  <a:lnTo>
                    <a:pt x="2412" y="36"/>
                  </a:lnTo>
                  <a:lnTo>
                    <a:pt x="2440" y="40"/>
                  </a:lnTo>
                  <a:lnTo>
                    <a:pt x="2440" y="40"/>
                  </a:lnTo>
                  <a:close/>
                </a:path>
              </a:pathLst>
            </a:custGeom>
            <a:solidFill>
              <a:srgbClr val="cabb8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7"/>
            <p:cNvSpPr/>
            <p:nvPr/>
          </p:nvSpPr>
          <p:spPr>
            <a:xfrm>
              <a:off x="12507840" y="1629000"/>
              <a:ext cx="612720" cy="76176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386" h="480">
                  <a:moveTo>
                    <a:pt x="2" y="152"/>
                  </a:moveTo>
                  <a:lnTo>
                    <a:pt x="2" y="152"/>
                  </a:lnTo>
                  <a:lnTo>
                    <a:pt x="4" y="166"/>
                  </a:lnTo>
                  <a:lnTo>
                    <a:pt x="8" y="180"/>
                  </a:lnTo>
                  <a:lnTo>
                    <a:pt x="16" y="194"/>
                  </a:lnTo>
                  <a:lnTo>
                    <a:pt x="24" y="206"/>
                  </a:lnTo>
                  <a:lnTo>
                    <a:pt x="32" y="216"/>
                  </a:lnTo>
                  <a:lnTo>
                    <a:pt x="44" y="226"/>
                  </a:lnTo>
                  <a:lnTo>
                    <a:pt x="56" y="232"/>
                  </a:lnTo>
                  <a:lnTo>
                    <a:pt x="68" y="236"/>
                  </a:lnTo>
                  <a:lnTo>
                    <a:pt x="80" y="238"/>
                  </a:lnTo>
                  <a:lnTo>
                    <a:pt x="94" y="236"/>
                  </a:lnTo>
                  <a:lnTo>
                    <a:pt x="108" y="230"/>
                  </a:lnTo>
                  <a:lnTo>
                    <a:pt x="122" y="222"/>
                  </a:lnTo>
                  <a:lnTo>
                    <a:pt x="134" y="210"/>
                  </a:lnTo>
                  <a:lnTo>
                    <a:pt x="148" y="192"/>
                  </a:lnTo>
                  <a:lnTo>
                    <a:pt x="160" y="170"/>
                  </a:lnTo>
                  <a:lnTo>
                    <a:pt x="170" y="142"/>
                  </a:lnTo>
                  <a:lnTo>
                    <a:pt x="170" y="142"/>
                  </a:lnTo>
                  <a:lnTo>
                    <a:pt x="154" y="148"/>
                  </a:lnTo>
                  <a:lnTo>
                    <a:pt x="140" y="150"/>
                  </a:lnTo>
                  <a:lnTo>
                    <a:pt x="126" y="152"/>
                  </a:lnTo>
                  <a:lnTo>
                    <a:pt x="114" y="152"/>
                  </a:lnTo>
                  <a:lnTo>
                    <a:pt x="104" y="150"/>
                  </a:lnTo>
                  <a:lnTo>
                    <a:pt x="94" y="146"/>
                  </a:lnTo>
                  <a:lnTo>
                    <a:pt x="86" y="142"/>
                  </a:lnTo>
                  <a:lnTo>
                    <a:pt x="80" y="136"/>
                  </a:lnTo>
                  <a:lnTo>
                    <a:pt x="76" y="130"/>
                  </a:lnTo>
                  <a:lnTo>
                    <a:pt x="72" y="124"/>
                  </a:lnTo>
                  <a:lnTo>
                    <a:pt x="70" y="116"/>
                  </a:lnTo>
                  <a:lnTo>
                    <a:pt x="70" y="108"/>
                  </a:lnTo>
                  <a:lnTo>
                    <a:pt x="70" y="100"/>
                  </a:lnTo>
                  <a:lnTo>
                    <a:pt x="72" y="92"/>
                  </a:lnTo>
                  <a:lnTo>
                    <a:pt x="78" y="76"/>
                  </a:lnTo>
                  <a:lnTo>
                    <a:pt x="78" y="76"/>
                  </a:lnTo>
                  <a:lnTo>
                    <a:pt x="88" y="62"/>
                  </a:lnTo>
                  <a:lnTo>
                    <a:pt x="102" y="52"/>
                  </a:lnTo>
                  <a:lnTo>
                    <a:pt x="118" y="44"/>
                  </a:lnTo>
                  <a:lnTo>
                    <a:pt x="136" y="40"/>
                  </a:lnTo>
                  <a:lnTo>
                    <a:pt x="152" y="38"/>
                  </a:lnTo>
                  <a:lnTo>
                    <a:pt x="170" y="38"/>
                  </a:lnTo>
                  <a:lnTo>
                    <a:pt x="186" y="42"/>
                  </a:lnTo>
                  <a:lnTo>
                    <a:pt x="202" y="48"/>
                  </a:lnTo>
                  <a:lnTo>
                    <a:pt x="202" y="48"/>
                  </a:lnTo>
                  <a:lnTo>
                    <a:pt x="188" y="60"/>
                  </a:lnTo>
                  <a:lnTo>
                    <a:pt x="178" y="72"/>
                  </a:lnTo>
                  <a:lnTo>
                    <a:pt x="174" y="82"/>
                  </a:lnTo>
                  <a:lnTo>
                    <a:pt x="172" y="92"/>
                  </a:lnTo>
                  <a:lnTo>
                    <a:pt x="174" y="102"/>
                  </a:lnTo>
                  <a:lnTo>
                    <a:pt x="176" y="108"/>
                  </a:lnTo>
                  <a:lnTo>
                    <a:pt x="180" y="114"/>
                  </a:lnTo>
                  <a:lnTo>
                    <a:pt x="180" y="114"/>
                  </a:lnTo>
                  <a:lnTo>
                    <a:pt x="190" y="108"/>
                  </a:lnTo>
                  <a:lnTo>
                    <a:pt x="204" y="102"/>
                  </a:lnTo>
                  <a:lnTo>
                    <a:pt x="220" y="100"/>
                  </a:lnTo>
                  <a:lnTo>
                    <a:pt x="236" y="100"/>
                  </a:lnTo>
                  <a:lnTo>
                    <a:pt x="252" y="102"/>
                  </a:lnTo>
                  <a:lnTo>
                    <a:pt x="268" y="108"/>
                  </a:lnTo>
                  <a:lnTo>
                    <a:pt x="282" y="114"/>
                  </a:lnTo>
                  <a:lnTo>
                    <a:pt x="296" y="124"/>
                  </a:lnTo>
                  <a:lnTo>
                    <a:pt x="308" y="134"/>
                  </a:lnTo>
                  <a:lnTo>
                    <a:pt x="318" y="146"/>
                  </a:lnTo>
                  <a:lnTo>
                    <a:pt x="324" y="162"/>
                  </a:lnTo>
                  <a:lnTo>
                    <a:pt x="328" y="178"/>
                  </a:lnTo>
                  <a:lnTo>
                    <a:pt x="328" y="196"/>
                  </a:lnTo>
                  <a:lnTo>
                    <a:pt x="322" y="216"/>
                  </a:lnTo>
                  <a:lnTo>
                    <a:pt x="312" y="236"/>
                  </a:lnTo>
                  <a:lnTo>
                    <a:pt x="296" y="260"/>
                  </a:lnTo>
                  <a:lnTo>
                    <a:pt x="296" y="260"/>
                  </a:lnTo>
                  <a:lnTo>
                    <a:pt x="308" y="258"/>
                  </a:lnTo>
                  <a:lnTo>
                    <a:pt x="318" y="260"/>
                  </a:lnTo>
                  <a:lnTo>
                    <a:pt x="328" y="266"/>
                  </a:lnTo>
                  <a:lnTo>
                    <a:pt x="338" y="276"/>
                  </a:lnTo>
                  <a:lnTo>
                    <a:pt x="342" y="288"/>
                  </a:lnTo>
                  <a:lnTo>
                    <a:pt x="346" y="302"/>
                  </a:lnTo>
                  <a:lnTo>
                    <a:pt x="344" y="318"/>
                  </a:lnTo>
                  <a:lnTo>
                    <a:pt x="336" y="338"/>
                  </a:lnTo>
                  <a:lnTo>
                    <a:pt x="336" y="338"/>
                  </a:lnTo>
                  <a:lnTo>
                    <a:pt x="330" y="348"/>
                  </a:lnTo>
                  <a:lnTo>
                    <a:pt x="318" y="356"/>
                  </a:lnTo>
                  <a:lnTo>
                    <a:pt x="304" y="364"/>
                  </a:lnTo>
                  <a:lnTo>
                    <a:pt x="290" y="368"/>
                  </a:lnTo>
                  <a:lnTo>
                    <a:pt x="280" y="370"/>
                  </a:lnTo>
                  <a:lnTo>
                    <a:pt x="272" y="368"/>
                  </a:lnTo>
                  <a:lnTo>
                    <a:pt x="264" y="366"/>
                  </a:lnTo>
                  <a:lnTo>
                    <a:pt x="258" y="362"/>
                  </a:lnTo>
                  <a:lnTo>
                    <a:pt x="250" y="354"/>
                  </a:lnTo>
                  <a:lnTo>
                    <a:pt x="244" y="346"/>
                  </a:lnTo>
                  <a:lnTo>
                    <a:pt x="238" y="336"/>
                  </a:lnTo>
                  <a:lnTo>
                    <a:pt x="232" y="322"/>
                  </a:lnTo>
                  <a:lnTo>
                    <a:pt x="232" y="322"/>
                  </a:lnTo>
                  <a:lnTo>
                    <a:pt x="226" y="328"/>
                  </a:lnTo>
                  <a:lnTo>
                    <a:pt x="220" y="336"/>
                  </a:lnTo>
                  <a:lnTo>
                    <a:pt x="216" y="344"/>
                  </a:lnTo>
                  <a:lnTo>
                    <a:pt x="214" y="354"/>
                  </a:lnTo>
                  <a:lnTo>
                    <a:pt x="214" y="362"/>
                  </a:lnTo>
                  <a:lnTo>
                    <a:pt x="216" y="374"/>
                  </a:lnTo>
                  <a:lnTo>
                    <a:pt x="220" y="384"/>
                  </a:lnTo>
                  <a:lnTo>
                    <a:pt x="226" y="394"/>
                  </a:lnTo>
                  <a:lnTo>
                    <a:pt x="226" y="394"/>
                  </a:lnTo>
                  <a:lnTo>
                    <a:pt x="210" y="392"/>
                  </a:lnTo>
                  <a:lnTo>
                    <a:pt x="198" y="388"/>
                  </a:lnTo>
                  <a:lnTo>
                    <a:pt x="186" y="382"/>
                  </a:lnTo>
                  <a:lnTo>
                    <a:pt x="176" y="374"/>
                  </a:lnTo>
                  <a:lnTo>
                    <a:pt x="168" y="366"/>
                  </a:lnTo>
                  <a:lnTo>
                    <a:pt x="160" y="356"/>
                  </a:lnTo>
                  <a:lnTo>
                    <a:pt x="156" y="346"/>
                  </a:lnTo>
                  <a:lnTo>
                    <a:pt x="152" y="336"/>
                  </a:lnTo>
                  <a:lnTo>
                    <a:pt x="150" y="326"/>
                  </a:lnTo>
                  <a:lnTo>
                    <a:pt x="150" y="316"/>
                  </a:lnTo>
                  <a:lnTo>
                    <a:pt x="154" y="308"/>
                  </a:lnTo>
                  <a:lnTo>
                    <a:pt x="158" y="300"/>
                  </a:lnTo>
                  <a:lnTo>
                    <a:pt x="166" y="294"/>
                  </a:lnTo>
                  <a:lnTo>
                    <a:pt x="176" y="288"/>
                  </a:lnTo>
                  <a:lnTo>
                    <a:pt x="188" y="286"/>
                  </a:lnTo>
                  <a:lnTo>
                    <a:pt x="204" y="284"/>
                  </a:lnTo>
                  <a:lnTo>
                    <a:pt x="204" y="284"/>
                  </a:lnTo>
                  <a:lnTo>
                    <a:pt x="188" y="282"/>
                  </a:lnTo>
                  <a:lnTo>
                    <a:pt x="174" y="280"/>
                  </a:lnTo>
                  <a:lnTo>
                    <a:pt x="160" y="280"/>
                  </a:lnTo>
                  <a:lnTo>
                    <a:pt x="148" y="282"/>
                  </a:lnTo>
                  <a:lnTo>
                    <a:pt x="138" y="286"/>
                  </a:lnTo>
                  <a:lnTo>
                    <a:pt x="128" y="290"/>
                  </a:lnTo>
                  <a:lnTo>
                    <a:pt x="120" y="296"/>
                  </a:lnTo>
                  <a:lnTo>
                    <a:pt x="114" y="304"/>
                  </a:lnTo>
                  <a:lnTo>
                    <a:pt x="108" y="312"/>
                  </a:lnTo>
                  <a:lnTo>
                    <a:pt x="104" y="322"/>
                  </a:lnTo>
                  <a:lnTo>
                    <a:pt x="102" y="332"/>
                  </a:lnTo>
                  <a:lnTo>
                    <a:pt x="100" y="342"/>
                  </a:lnTo>
                  <a:lnTo>
                    <a:pt x="100" y="366"/>
                  </a:lnTo>
                  <a:lnTo>
                    <a:pt x="104" y="388"/>
                  </a:lnTo>
                  <a:lnTo>
                    <a:pt x="112" y="412"/>
                  </a:lnTo>
                  <a:lnTo>
                    <a:pt x="124" y="432"/>
                  </a:lnTo>
                  <a:lnTo>
                    <a:pt x="132" y="442"/>
                  </a:lnTo>
                  <a:lnTo>
                    <a:pt x="142" y="452"/>
                  </a:lnTo>
                  <a:lnTo>
                    <a:pt x="152" y="460"/>
                  </a:lnTo>
                  <a:lnTo>
                    <a:pt x="162" y="466"/>
                  </a:lnTo>
                  <a:lnTo>
                    <a:pt x="174" y="472"/>
                  </a:lnTo>
                  <a:lnTo>
                    <a:pt x="188" y="476"/>
                  </a:lnTo>
                  <a:lnTo>
                    <a:pt x="200" y="478"/>
                  </a:lnTo>
                  <a:lnTo>
                    <a:pt x="216" y="480"/>
                  </a:lnTo>
                  <a:lnTo>
                    <a:pt x="232" y="478"/>
                  </a:lnTo>
                  <a:lnTo>
                    <a:pt x="248" y="476"/>
                  </a:lnTo>
                  <a:lnTo>
                    <a:pt x="264" y="472"/>
                  </a:lnTo>
                  <a:lnTo>
                    <a:pt x="282" y="464"/>
                  </a:lnTo>
                  <a:lnTo>
                    <a:pt x="282" y="464"/>
                  </a:lnTo>
                  <a:lnTo>
                    <a:pt x="292" y="460"/>
                  </a:lnTo>
                  <a:lnTo>
                    <a:pt x="302" y="452"/>
                  </a:lnTo>
                  <a:lnTo>
                    <a:pt x="312" y="442"/>
                  </a:lnTo>
                  <a:lnTo>
                    <a:pt x="322" y="430"/>
                  </a:lnTo>
                  <a:lnTo>
                    <a:pt x="342" y="402"/>
                  </a:lnTo>
                  <a:lnTo>
                    <a:pt x="360" y="372"/>
                  </a:lnTo>
                  <a:lnTo>
                    <a:pt x="360" y="372"/>
                  </a:lnTo>
                  <a:lnTo>
                    <a:pt x="368" y="350"/>
                  </a:lnTo>
                  <a:lnTo>
                    <a:pt x="374" y="330"/>
                  </a:lnTo>
                  <a:lnTo>
                    <a:pt x="378" y="310"/>
                  </a:lnTo>
                  <a:lnTo>
                    <a:pt x="382" y="290"/>
                  </a:lnTo>
                  <a:lnTo>
                    <a:pt x="384" y="270"/>
                  </a:lnTo>
                  <a:lnTo>
                    <a:pt x="386" y="252"/>
                  </a:lnTo>
                  <a:lnTo>
                    <a:pt x="386" y="234"/>
                  </a:lnTo>
                  <a:lnTo>
                    <a:pt x="384" y="216"/>
                  </a:lnTo>
                  <a:lnTo>
                    <a:pt x="378" y="182"/>
                  </a:lnTo>
                  <a:lnTo>
                    <a:pt x="368" y="150"/>
                  </a:lnTo>
                  <a:lnTo>
                    <a:pt x="354" y="120"/>
                  </a:lnTo>
                  <a:lnTo>
                    <a:pt x="336" y="94"/>
                  </a:lnTo>
                  <a:lnTo>
                    <a:pt x="318" y="70"/>
                  </a:lnTo>
                  <a:lnTo>
                    <a:pt x="296" y="50"/>
                  </a:lnTo>
                  <a:lnTo>
                    <a:pt x="272" y="32"/>
                  </a:lnTo>
                  <a:lnTo>
                    <a:pt x="246" y="18"/>
                  </a:lnTo>
                  <a:lnTo>
                    <a:pt x="220" y="8"/>
                  </a:lnTo>
                  <a:lnTo>
                    <a:pt x="192" y="2"/>
                  </a:lnTo>
                  <a:lnTo>
                    <a:pt x="166" y="0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22" y="4"/>
                  </a:lnTo>
                  <a:lnTo>
                    <a:pt x="108" y="10"/>
                  </a:lnTo>
                  <a:lnTo>
                    <a:pt x="94" y="14"/>
                  </a:lnTo>
                  <a:lnTo>
                    <a:pt x="80" y="22"/>
                  </a:lnTo>
                  <a:lnTo>
                    <a:pt x="66" y="30"/>
                  </a:lnTo>
                  <a:lnTo>
                    <a:pt x="56" y="40"/>
                  </a:lnTo>
                  <a:lnTo>
                    <a:pt x="44" y="50"/>
                  </a:lnTo>
                  <a:lnTo>
                    <a:pt x="34" y="60"/>
                  </a:lnTo>
                  <a:lnTo>
                    <a:pt x="18" y="82"/>
                  </a:lnTo>
                  <a:lnTo>
                    <a:pt x="8" y="106"/>
                  </a:lnTo>
                  <a:lnTo>
                    <a:pt x="4" y="118"/>
                  </a:lnTo>
                  <a:lnTo>
                    <a:pt x="2" y="130"/>
                  </a:lnTo>
                  <a:lnTo>
                    <a:pt x="0" y="140"/>
                  </a:lnTo>
                  <a:lnTo>
                    <a:pt x="2" y="152"/>
                  </a:lnTo>
                  <a:lnTo>
                    <a:pt x="2" y="152"/>
                  </a:lnTo>
                  <a:close/>
                  <a:moveTo>
                    <a:pt x="260" y="426"/>
                  </a:moveTo>
                  <a:lnTo>
                    <a:pt x="260" y="426"/>
                  </a:lnTo>
                  <a:lnTo>
                    <a:pt x="250" y="434"/>
                  </a:lnTo>
                  <a:lnTo>
                    <a:pt x="240" y="440"/>
                  </a:lnTo>
                  <a:lnTo>
                    <a:pt x="230" y="446"/>
                  </a:lnTo>
                  <a:lnTo>
                    <a:pt x="220" y="450"/>
                  </a:lnTo>
                  <a:lnTo>
                    <a:pt x="210" y="452"/>
                  </a:lnTo>
                  <a:lnTo>
                    <a:pt x="198" y="452"/>
                  </a:lnTo>
                  <a:lnTo>
                    <a:pt x="188" y="452"/>
                  </a:lnTo>
                  <a:lnTo>
                    <a:pt x="180" y="450"/>
                  </a:lnTo>
                  <a:lnTo>
                    <a:pt x="170" y="446"/>
                  </a:lnTo>
                  <a:lnTo>
                    <a:pt x="162" y="440"/>
                  </a:lnTo>
                  <a:lnTo>
                    <a:pt x="154" y="434"/>
                  </a:lnTo>
                  <a:lnTo>
                    <a:pt x="148" y="426"/>
                  </a:lnTo>
                  <a:lnTo>
                    <a:pt x="144" y="416"/>
                  </a:lnTo>
                  <a:lnTo>
                    <a:pt x="140" y="406"/>
                  </a:lnTo>
                  <a:lnTo>
                    <a:pt x="138" y="394"/>
                  </a:lnTo>
                  <a:lnTo>
                    <a:pt x="138" y="380"/>
                  </a:lnTo>
                  <a:lnTo>
                    <a:pt x="138" y="380"/>
                  </a:lnTo>
                  <a:lnTo>
                    <a:pt x="148" y="394"/>
                  </a:lnTo>
                  <a:lnTo>
                    <a:pt x="162" y="406"/>
                  </a:lnTo>
                  <a:lnTo>
                    <a:pt x="176" y="416"/>
                  </a:lnTo>
                  <a:lnTo>
                    <a:pt x="194" y="422"/>
                  </a:lnTo>
                  <a:lnTo>
                    <a:pt x="210" y="428"/>
                  </a:lnTo>
                  <a:lnTo>
                    <a:pt x="228" y="430"/>
                  </a:lnTo>
                  <a:lnTo>
                    <a:pt x="244" y="430"/>
                  </a:lnTo>
                  <a:lnTo>
                    <a:pt x="260" y="426"/>
                  </a:lnTo>
                  <a:lnTo>
                    <a:pt x="260" y="426"/>
                  </a:lnTo>
                  <a:close/>
                </a:path>
              </a:pathLst>
            </a:custGeom>
            <a:solidFill>
              <a:srgbClr val="cabb8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13238280" y="2594160"/>
              <a:ext cx="463320" cy="431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92" h="272">
                  <a:moveTo>
                    <a:pt x="196" y="6"/>
                  </a:moveTo>
                  <a:lnTo>
                    <a:pt x="196" y="6"/>
                  </a:lnTo>
                  <a:lnTo>
                    <a:pt x="188" y="4"/>
                  </a:lnTo>
                  <a:lnTo>
                    <a:pt x="178" y="2"/>
                  </a:lnTo>
                  <a:lnTo>
                    <a:pt x="150" y="0"/>
                  </a:lnTo>
                  <a:lnTo>
                    <a:pt x="122" y="0"/>
                  </a:lnTo>
                  <a:lnTo>
                    <a:pt x="110" y="2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74" y="14"/>
                  </a:lnTo>
                  <a:lnTo>
                    <a:pt x="48" y="26"/>
                  </a:lnTo>
                  <a:lnTo>
                    <a:pt x="36" y="32"/>
                  </a:lnTo>
                  <a:lnTo>
                    <a:pt x="24" y="42"/>
                  </a:lnTo>
                  <a:lnTo>
                    <a:pt x="12" y="5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30" y="84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50" y="110"/>
                  </a:lnTo>
                  <a:lnTo>
                    <a:pt x="48" y="124"/>
                  </a:lnTo>
                  <a:lnTo>
                    <a:pt x="48" y="136"/>
                  </a:lnTo>
                  <a:lnTo>
                    <a:pt x="50" y="148"/>
                  </a:lnTo>
                  <a:lnTo>
                    <a:pt x="52" y="160"/>
                  </a:lnTo>
                  <a:lnTo>
                    <a:pt x="58" y="170"/>
                  </a:lnTo>
                  <a:lnTo>
                    <a:pt x="64" y="180"/>
                  </a:lnTo>
                  <a:lnTo>
                    <a:pt x="70" y="188"/>
                  </a:lnTo>
                  <a:lnTo>
                    <a:pt x="80" y="194"/>
                  </a:lnTo>
                  <a:lnTo>
                    <a:pt x="90" y="198"/>
                  </a:lnTo>
                  <a:lnTo>
                    <a:pt x="102" y="200"/>
                  </a:lnTo>
                  <a:lnTo>
                    <a:pt x="114" y="200"/>
                  </a:lnTo>
                  <a:lnTo>
                    <a:pt x="126" y="198"/>
                  </a:lnTo>
                  <a:lnTo>
                    <a:pt x="140" y="194"/>
                  </a:lnTo>
                  <a:lnTo>
                    <a:pt x="154" y="188"/>
                  </a:lnTo>
                  <a:lnTo>
                    <a:pt x="168" y="178"/>
                  </a:lnTo>
                  <a:lnTo>
                    <a:pt x="168" y="178"/>
                  </a:lnTo>
                  <a:lnTo>
                    <a:pt x="152" y="176"/>
                  </a:lnTo>
                  <a:lnTo>
                    <a:pt x="142" y="170"/>
                  </a:lnTo>
                  <a:lnTo>
                    <a:pt x="136" y="162"/>
                  </a:lnTo>
                  <a:lnTo>
                    <a:pt x="134" y="152"/>
                  </a:lnTo>
                  <a:lnTo>
                    <a:pt x="136" y="142"/>
                  </a:lnTo>
                  <a:lnTo>
                    <a:pt x="142" y="130"/>
                  </a:lnTo>
                  <a:lnTo>
                    <a:pt x="148" y="120"/>
                  </a:lnTo>
                  <a:lnTo>
                    <a:pt x="158" y="112"/>
                  </a:lnTo>
                  <a:lnTo>
                    <a:pt x="170" y="104"/>
                  </a:lnTo>
                  <a:lnTo>
                    <a:pt x="180" y="100"/>
                  </a:lnTo>
                  <a:lnTo>
                    <a:pt x="194" y="98"/>
                  </a:lnTo>
                  <a:lnTo>
                    <a:pt x="206" y="100"/>
                  </a:lnTo>
                  <a:lnTo>
                    <a:pt x="216" y="106"/>
                  </a:lnTo>
                  <a:lnTo>
                    <a:pt x="228" y="118"/>
                  </a:lnTo>
                  <a:lnTo>
                    <a:pt x="236" y="136"/>
                  </a:lnTo>
                  <a:lnTo>
                    <a:pt x="244" y="160"/>
                  </a:lnTo>
                  <a:lnTo>
                    <a:pt x="244" y="160"/>
                  </a:lnTo>
                  <a:lnTo>
                    <a:pt x="244" y="168"/>
                  </a:lnTo>
                  <a:lnTo>
                    <a:pt x="244" y="178"/>
                  </a:lnTo>
                  <a:lnTo>
                    <a:pt x="244" y="188"/>
                  </a:lnTo>
                  <a:lnTo>
                    <a:pt x="240" y="196"/>
                  </a:lnTo>
                  <a:lnTo>
                    <a:pt x="236" y="204"/>
                  </a:lnTo>
                  <a:lnTo>
                    <a:pt x="232" y="212"/>
                  </a:lnTo>
                  <a:lnTo>
                    <a:pt x="226" y="220"/>
                  </a:lnTo>
                  <a:lnTo>
                    <a:pt x="218" y="228"/>
                  </a:lnTo>
                  <a:lnTo>
                    <a:pt x="210" y="234"/>
                  </a:lnTo>
                  <a:lnTo>
                    <a:pt x="200" y="240"/>
                  </a:lnTo>
                  <a:lnTo>
                    <a:pt x="190" y="244"/>
                  </a:lnTo>
                  <a:lnTo>
                    <a:pt x="178" y="248"/>
                  </a:lnTo>
                  <a:lnTo>
                    <a:pt x="166" y="250"/>
                  </a:lnTo>
                  <a:lnTo>
                    <a:pt x="152" y="252"/>
                  </a:lnTo>
                  <a:lnTo>
                    <a:pt x="138" y="252"/>
                  </a:lnTo>
                  <a:lnTo>
                    <a:pt x="124" y="252"/>
                  </a:lnTo>
                  <a:lnTo>
                    <a:pt x="124" y="252"/>
                  </a:lnTo>
                  <a:lnTo>
                    <a:pt x="134" y="262"/>
                  </a:lnTo>
                  <a:lnTo>
                    <a:pt x="148" y="268"/>
                  </a:lnTo>
                  <a:lnTo>
                    <a:pt x="164" y="272"/>
                  </a:lnTo>
                  <a:lnTo>
                    <a:pt x="182" y="272"/>
                  </a:lnTo>
                  <a:lnTo>
                    <a:pt x="200" y="270"/>
                  </a:lnTo>
                  <a:lnTo>
                    <a:pt x="218" y="266"/>
                  </a:lnTo>
                  <a:lnTo>
                    <a:pt x="234" y="260"/>
                  </a:lnTo>
                  <a:lnTo>
                    <a:pt x="250" y="250"/>
                  </a:lnTo>
                  <a:lnTo>
                    <a:pt x="250" y="250"/>
                  </a:lnTo>
                  <a:lnTo>
                    <a:pt x="256" y="244"/>
                  </a:lnTo>
                  <a:lnTo>
                    <a:pt x="264" y="238"/>
                  </a:lnTo>
                  <a:lnTo>
                    <a:pt x="274" y="220"/>
                  </a:lnTo>
                  <a:lnTo>
                    <a:pt x="282" y="200"/>
                  </a:lnTo>
                  <a:lnTo>
                    <a:pt x="290" y="176"/>
                  </a:lnTo>
                  <a:lnTo>
                    <a:pt x="290" y="176"/>
                  </a:lnTo>
                  <a:lnTo>
                    <a:pt x="292" y="150"/>
                  </a:lnTo>
                  <a:lnTo>
                    <a:pt x="290" y="126"/>
                  </a:lnTo>
                  <a:lnTo>
                    <a:pt x="282" y="102"/>
                  </a:lnTo>
                  <a:lnTo>
                    <a:pt x="272" y="80"/>
                  </a:lnTo>
                  <a:lnTo>
                    <a:pt x="258" y="58"/>
                  </a:lnTo>
                  <a:lnTo>
                    <a:pt x="240" y="38"/>
                  </a:lnTo>
                  <a:lnTo>
                    <a:pt x="220" y="20"/>
                  </a:lnTo>
                  <a:lnTo>
                    <a:pt x="196" y="6"/>
                  </a:lnTo>
                  <a:lnTo>
                    <a:pt x="196" y="6"/>
                  </a:lnTo>
                  <a:close/>
                  <a:moveTo>
                    <a:pt x="224" y="72"/>
                  </a:moveTo>
                  <a:lnTo>
                    <a:pt x="224" y="72"/>
                  </a:lnTo>
                  <a:lnTo>
                    <a:pt x="208" y="66"/>
                  </a:lnTo>
                  <a:lnTo>
                    <a:pt x="192" y="64"/>
                  </a:lnTo>
                  <a:lnTo>
                    <a:pt x="178" y="62"/>
                  </a:lnTo>
                  <a:lnTo>
                    <a:pt x="164" y="64"/>
                  </a:lnTo>
                  <a:lnTo>
                    <a:pt x="152" y="68"/>
                  </a:lnTo>
                  <a:lnTo>
                    <a:pt x="142" y="74"/>
                  </a:lnTo>
                  <a:lnTo>
                    <a:pt x="132" y="80"/>
                  </a:lnTo>
                  <a:lnTo>
                    <a:pt x="124" y="88"/>
                  </a:lnTo>
                  <a:lnTo>
                    <a:pt x="118" y="96"/>
                  </a:lnTo>
                  <a:lnTo>
                    <a:pt x="112" y="106"/>
                  </a:lnTo>
                  <a:lnTo>
                    <a:pt x="102" y="124"/>
                  </a:lnTo>
                  <a:lnTo>
                    <a:pt x="98" y="140"/>
                  </a:lnTo>
                  <a:lnTo>
                    <a:pt x="96" y="152"/>
                  </a:lnTo>
                  <a:lnTo>
                    <a:pt x="96" y="152"/>
                  </a:lnTo>
                  <a:lnTo>
                    <a:pt x="90" y="144"/>
                  </a:lnTo>
                  <a:lnTo>
                    <a:pt x="86" y="134"/>
                  </a:lnTo>
                  <a:lnTo>
                    <a:pt x="86" y="122"/>
                  </a:lnTo>
                  <a:lnTo>
                    <a:pt x="88" y="112"/>
                  </a:lnTo>
                  <a:lnTo>
                    <a:pt x="92" y="102"/>
                  </a:lnTo>
                  <a:lnTo>
                    <a:pt x="96" y="92"/>
                  </a:lnTo>
                  <a:lnTo>
                    <a:pt x="102" y="84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04" y="72"/>
                  </a:lnTo>
                  <a:lnTo>
                    <a:pt x="92" y="64"/>
                  </a:lnTo>
                  <a:lnTo>
                    <a:pt x="66" y="52"/>
                  </a:lnTo>
                  <a:lnTo>
                    <a:pt x="66" y="52"/>
                  </a:lnTo>
                  <a:lnTo>
                    <a:pt x="96" y="44"/>
                  </a:lnTo>
                  <a:lnTo>
                    <a:pt x="122" y="40"/>
                  </a:lnTo>
                  <a:lnTo>
                    <a:pt x="144" y="40"/>
                  </a:lnTo>
                  <a:lnTo>
                    <a:pt x="164" y="42"/>
                  </a:lnTo>
                  <a:lnTo>
                    <a:pt x="182" y="48"/>
                  </a:lnTo>
                  <a:lnTo>
                    <a:pt x="198" y="54"/>
                  </a:lnTo>
                  <a:lnTo>
                    <a:pt x="212" y="62"/>
                  </a:lnTo>
                  <a:lnTo>
                    <a:pt x="224" y="72"/>
                  </a:lnTo>
                  <a:lnTo>
                    <a:pt x="224" y="72"/>
                  </a:lnTo>
                  <a:close/>
                </a:path>
              </a:pathLst>
            </a:custGeom>
            <a:solidFill>
              <a:srgbClr val="cabb8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9"/>
            <p:cNvSpPr/>
            <p:nvPr/>
          </p:nvSpPr>
          <p:spPr>
            <a:xfrm>
              <a:off x="12812760" y="289080"/>
              <a:ext cx="1952640" cy="4822920"/>
            </a:xfrm>
            <a:custGeom>
              <a:avLst/>
              <a:gdLst>
                <a:gd name="textAreaLeft" fmla="*/ 0 w 1952640"/>
                <a:gd name="textAreaRight" fmla="*/ 1952640 w 1952640"/>
                <a:gd name="textAreaTop" fmla="*/ 0 h 4822920"/>
                <a:gd name="textAreaBottom" fmla="*/ 4823280 h 4822920"/>
              </a:gdLst>
              <a:ahLst/>
              <a:rect l="textAreaLeft" t="textAreaTop" r="textAreaRight" b="textAreaBottom"/>
              <a:pathLst>
                <a:path w="1230" h="3038">
                  <a:moveTo>
                    <a:pt x="1192" y="96"/>
                  </a:moveTo>
                  <a:lnTo>
                    <a:pt x="1192" y="96"/>
                  </a:lnTo>
                  <a:lnTo>
                    <a:pt x="1192" y="80"/>
                  </a:lnTo>
                  <a:lnTo>
                    <a:pt x="1190" y="64"/>
                  </a:lnTo>
                  <a:lnTo>
                    <a:pt x="1186" y="52"/>
                  </a:lnTo>
                  <a:lnTo>
                    <a:pt x="1180" y="40"/>
                  </a:lnTo>
                  <a:lnTo>
                    <a:pt x="1172" y="28"/>
                  </a:lnTo>
                  <a:lnTo>
                    <a:pt x="1164" y="20"/>
                  </a:lnTo>
                  <a:lnTo>
                    <a:pt x="1154" y="12"/>
                  </a:lnTo>
                  <a:lnTo>
                    <a:pt x="1142" y="8"/>
                  </a:lnTo>
                  <a:lnTo>
                    <a:pt x="1132" y="4"/>
                  </a:lnTo>
                  <a:lnTo>
                    <a:pt x="1120" y="2"/>
                  </a:lnTo>
                  <a:lnTo>
                    <a:pt x="1108" y="2"/>
                  </a:lnTo>
                  <a:lnTo>
                    <a:pt x="1098" y="4"/>
                  </a:lnTo>
                  <a:lnTo>
                    <a:pt x="1088" y="8"/>
                  </a:lnTo>
                  <a:lnTo>
                    <a:pt x="1078" y="14"/>
                  </a:lnTo>
                  <a:lnTo>
                    <a:pt x="1070" y="22"/>
                  </a:lnTo>
                  <a:lnTo>
                    <a:pt x="1064" y="32"/>
                  </a:lnTo>
                  <a:lnTo>
                    <a:pt x="1064" y="32"/>
                  </a:lnTo>
                  <a:lnTo>
                    <a:pt x="1060" y="42"/>
                  </a:lnTo>
                  <a:lnTo>
                    <a:pt x="1056" y="52"/>
                  </a:lnTo>
                  <a:lnTo>
                    <a:pt x="1056" y="62"/>
                  </a:lnTo>
                  <a:lnTo>
                    <a:pt x="1056" y="72"/>
                  </a:lnTo>
                  <a:lnTo>
                    <a:pt x="1056" y="80"/>
                  </a:lnTo>
                  <a:lnTo>
                    <a:pt x="1058" y="88"/>
                  </a:lnTo>
                  <a:lnTo>
                    <a:pt x="1066" y="102"/>
                  </a:lnTo>
                  <a:lnTo>
                    <a:pt x="1076" y="114"/>
                  </a:lnTo>
                  <a:lnTo>
                    <a:pt x="1088" y="122"/>
                  </a:lnTo>
                  <a:lnTo>
                    <a:pt x="1100" y="128"/>
                  </a:lnTo>
                  <a:lnTo>
                    <a:pt x="1114" y="130"/>
                  </a:lnTo>
                  <a:lnTo>
                    <a:pt x="1114" y="130"/>
                  </a:lnTo>
                  <a:lnTo>
                    <a:pt x="1106" y="142"/>
                  </a:lnTo>
                  <a:lnTo>
                    <a:pt x="1096" y="156"/>
                  </a:lnTo>
                  <a:lnTo>
                    <a:pt x="1086" y="168"/>
                  </a:lnTo>
                  <a:lnTo>
                    <a:pt x="1072" y="182"/>
                  </a:lnTo>
                  <a:lnTo>
                    <a:pt x="1058" y="192"/>
                  </a:lnTo>
                  <a:lnTo>
                    <a:pt x="1044" y="200"/>
                  </a:lnTo>
                  <a:lnTo>
                    <a:pt x="1028" y="206"/>
                  </a:lnTo>
                  <a:lnTo>
                    <a:pt x="1020" y="206"/>
                  </a:lnTo>
                  <a:lnTo>
                    <a:pt x="1010" y="206"/>
                  </a:lnTo>
                  <a:lnTo>
                    <a:pt x="1010" y="206"/>
                  </a:lnTo>
                  <a:lnTo>
                    <a:pt x="994" y="202"/>
                  </a:lnTo>
                  <a:lnTo>
                    <a:pt x="980" y="196"/>
                  </a:lnTo>
                  <a:lnTo>
                    <a:pt x="966" y="184"/>
                  </a:lnTo>
                  <a:lnTo>
                    <a:pt x="948" y="168"/>
                  </a:lnTo>
                  <a:lnTo>
                    <a:pt x="948" y="168"/>
                  </a:lnTo>
                  <a:lnTo>
                    <a:pt x="938" y="156"/>
                  </a:lnTo>
                  <a:lnTo>
                    <a:pt x="934" y="148"/>
                  </a:lnTo>
                  <a:lnTo>
                    <a:pt x="932" y="140"/>
                  </a:lnTo>
                  <a:lnTo>
                    <a:pt x="930" y="130"/>
                  </a:lnTo>
                  <a:lnTo>
                    <a:pt x="928" y="120"/>
                  </a:lnTo>
                  <a:lnTo>
                    <a:pt x="930" y="110"/>
                  </a:lnTo>
                  <a:lnTo>
                    <a:pt x="932" y="100"/>
                  </a:lnTo>
                  <a:lnTo>
                    <a:pt x="936" y="88"/>
                  </a:lnTo>
                  <a:lnTo>
                    <a:pt x="940" y="76"/>
                  </a:lnTo>
                  <a:lnTo>
                    <a:pt x="948" y="64"/>
                  </a:lnTo>
                  <a:lnTo>
                    <a:pt x="956" y="52"/>
                  </a:lnTo>
                  <a:lnTo>
                    <a:pt x="968" y="40"/>
                  </a:lnTo>
                  <a:lnTo>
                    <a:pt x="982" y="28"/>
                  </a:lnTo>
                  <a:lnTo>
                    <a:pt x="998" y="14"/>
                  </a:lnTo>
                  <a:lnTo>
                    <a:pt x="1016" y="2"/>
                  </a:lnTo>
                  <a:lnTo>
                    <a:pt x="1016" y="2"/>
                  </a:lnTo>
                  <a:lnTo>
                    <a:pt x="1000" y="0"/>
                  </a:lnTo>
                  <a:lnTo>
                    <a:pt x="986" y="0"/>
                  </a:lnTo>
                  <a:lnTo>
                    <a:pt x="974" y="2"/>
                  </a:lnTo>
                  <a:lnTo>
                    <a:pt x="962" y="4"/>
                  </a:lnTo>
                  <a:lnTo>
                    <a:pt x="950" y="10"/>
                  </a:lnTo>
                  <a:lnTo>
                    <a:pt x="940" y="16"/>
                  </a:lnTo>
                  <a:lnTo>
                    <a:pt x="930" y="24"/>
                  </a:lnTo>
                  <a:lnTo>
                    <a:pt x="922" y="32"/>
                  </a:lnTo>
                  <a:lnTo>
                    <a:pt x="914" y="42"/>
                  </a:lnTo>
                  <a:lnTo>
                    <a:pt x="908" y="52"/>
                  </a:lnTo>
                  <a:lnTo>
                    <a:pt x="902" y="64"/>
                  </a:lnTo>
                  <a:lnTo>
                    <a:pt x="898" y="74"/>
                  </a:lnTo>
                  <a:lnTo>
                    <a:pt x="896" y="86"/>
                  </a:lnTo>
                  <a:lnTo>
                    <a:pt x="894" y="98"/>
                  </a:lnTo>
                  <a:lnTo>
                    <a:pt x="894" y="110"/>
                  </a:lnTo>
                  <a:lnTo>
                    <a:pt x="894" y="122"/>
                  </a:lnTo>
                  <a:lnTo>
                    <a:pt x="894" y="122"/>
                  </a:lnTo>
                  <a:lnTo>
                    <a:pt x="864" y="108"/>
                  </a:lnTo>
                  <a:lnTo>
                    <a:pt x="834" y="98"/>
                  </a:lnTo>
                  <a:lnTo>
                    <a:pt x="802" y="88"/>
                  </a:lnTo>
                  <a:lnTo>
                    <a:pt x="772" y="80"/>
                  </a:lnTo>
                  <a:lnTo>
                    <a:pt x="742" y="74"/>
                  </a:lnTo>
                  <a:lnTo>
                    <a:pt x="710" y="70"/>
                  </a:lnTo>
                  <a:lnTo>
                    <a:pt x="680" y="68"/>
                  </a:lnTo>
                  <a:lnTo>
                    <a:pt x="650" y="66"/>
                  </a:lnTo>
                  <a:lnTo>
                    <a:pt x="620" y="66"/>
                  </a:lnTo>
                  <a:lnTo>
                    <a:pt x="590" y="68"/>
                  </a:lnTo>
                  <a:lnTo>
                    <a:pt x="530" y="74"/>
                  </a:lnTo>
                  <a:lnTo>
                    <a:pt x="474" y="84"/>
                  </a:lnTo>
                  <a:lnTo>
                    <a:pt x="420" y="98"/>
                  </a:lnTo>
                  <a:lnTo>
                    <a:pt x="368" y="116"/>
                  </a:lnTo>
                  <a:lnTo>
                    <a:pt x="320" y="134"/>
                  </a:lnTo>
                  <a:lnTo>
                    <a:pt x="274" y="156"/>
                  </a:lnTo>
                  <a:lnTo>
                    <a:pt x="234" y="176"/>
                  </a:lnTo>
                  <a:lnTo>
                    <a:pt x="198" y="198"/>
                  </a:lnTo>
                  <a:lnTo>
                    <a:pt x="168" y="218"/>
                  </a:lnTo>
                  <a:lnTo>
                    <a:pt x="144" y="238"/>
                  </a:lnTo>
                  <a:lnTo>
                    <a:pt x="126" y="254"/>
                  </a:lnTo>
                  <a:lnTo>
                    <a:pt x="126" y="254"/>
                  </a:lnTo>
                  <a:lnTo>
                    <a:pt x="92" y="290"/>
                  </a:lnTo>
                  <a:lnTo>
                    <a:pt x="76" y="310"/>
                  </a:lnTo>
                  <a:lnTo>
                    <a:pt x="64" y="330"/>
                  </a:lnTo>
                  <a:lnTo>
                    <a:pt x="64" y="330"/>
                  </a:lnTo>
                  <a:lnTo>
                    <a:pt x="50" y="354"/>
                  </a:lnTo>
                  <a:lnTo>
                    <a:pt x="34" y="382"/>
                  </a:lnTo>
                  <a:lnTo>
                    <a:pt x="18" y="418"/>
                  </a:lnTo>
                  <a:lnTo>
                    <a:pt x="12" y="436"/>
                  </a:lnTo>
                  <a:lnTo>
                    <a:pt x="8" y="458"/>
                  </a:lnTo>
                  <a:lnTo>
                    <a:pt x="4" y="482"/>
                  </a:lnTo>
                  <a:lnTo>
                    <a:pt x="0" y="508"/>
                  </a:lnTo>
                  <a:lnTo>
                    <a:pt x="0" y="534"/>
                  </a:lnTo>
                  <a:lnTo>
                    <a:pt x="2" y="564"/>
                  </a:lnTo>
                  <a:lnTo>
                    <a:pt x="6" y="598"/>
                  </a:lnTo>
                  <a:lnTo>
                    <a:pt x="14" y="632"/>
                  </a:lnTo>
                  <a:lnTo>
                    <a:pt x="24" y="670"/>
                  </a:lnTo>
                  <a:lnTo>
                    <a:pt x="38" y="712"/>
                  </a:lnTo>
                  <a:lnTo>
                    <a:pt x="38" y="712"/>
                  </a:lnTo>
                  <a:lnTo>
                    <a:pt x="58" y="758"/>
                  </a:lnTo>
                  <a:lnTo>
                    <a:pt x="80" y="800"/>
                  </a:lnTo>
                  <a:lnTo>
                    <a:pt x="104" y="838"/>
                  </a:lnTo>
                  <a:lnTo>
                    <a:pt x="130" y="872"/>
                  </a:lnTo>
                  <a:lnTo>
                    <a:pt x="158" y="900"/>
                  </a:lnTo>
                  <a:lnTo>
                    <a:pt x="186" y="926"/>
                  </a:lnTo>
                  <a:lnTo>
                    <a:pt x="218" y="946"/>
                  </a:lnTo>
                  <a:lnTo>
                    <a:pt x="250" y="962"/>
                  </a:lnTo>
                  <a:lnTo>
                    <a:pt x="284" y="976"/>
                  </a:lnTo>
                  <a:lnTo>
                    <a:pt x="318" y="984"/>
                  </a:lnTo>
                  <a:lnTo>
                    <a:pt x="354" y="988"/>
                  </a:lnTo>
                  <a:lnTo>
                    <a:pt x="390" y="988"/>
                  </a:lnTo>
                  <a:lnTo>
                    <a:pt x="426" y="986"/>
                  </a:lnTo>
                  <a:lnTo>
                    <a:pt x="464" y="978"/>
                  </a:lnTo>
                  <a:lnTo>
                    <a:pt x="500" y="968"/>
                  </a:lnTo>
                  <a:lnTo>
                    <a:pt x="538" y="954"/>
                  </a:lnTo>
                  <a:lnTo>
                    <a:pt x="538" y="954"/>
                  </a:lnTo>
                  <a:lnTo>
                    <a:pt x="558" y="946"/>
                  </a:lnTo>
                  <a:lnTo>
                    <a:pt x="574" y="936"/>
                  </a:lnTo>
                  <a:lnTo>
                    <a:pt x="592" y="926"/>
                  </a:lnTo>
                  <a:lnTo>
                    <a:pt x="608" y="914"/>
                  </a:lnTo>
                  <a:lnTo>
                    <a:pt x="622" y="902"/>
                  </a:lnTo>
                  <a:lnTo>
                    <a:pt x="636" y="890"/>
                  </a:lnTo>
                  <a:lnTo>
                    <a:pt x="660" y="862"/>
                  </a:lnTo>
                  <a:lnTo>
                    <a:pt x="680" y="832"/>
                  </a:lnTo>
                  <a:lnTo>
                    <a:pt x="696" y="800"/>
                  </a:lnTo>
                  <a:lnTo>
                    <a:pt x="708" y="768"/>
                  </a:lnTo>
                  <a:lnTo>
                    <a:pt x="716" y="734"/>
                  </a:lnTo>
                  <a:lnTo>
                    <a:pt x="720" y="700"/>
                  </a:lnTo>
                  <a:lnTo>
                    <a:pt x="720" y="666"/>
                  </a:lnTo>
                  <a:lnTo>
                    <a:pt x="716" y="632"/>
                  </a:lnTo>
                  <a:lnTo>
                    <a:pt x="710" y="600"/>
                  </a:lnTo>
                  <a:lnTo>
                    <a:pt x="698" y="568"/>
                  </a:lnTo>
                  <a:lnTo>
                    <a:pt x="684" y="538"/>
                  </a:lnTo>
                  <a:lnTo>
                    <a:pt x="666" y="510"/>
                  </a:lnTo>
                  <a:lnTo>
                    <a:pt x="646" y="486"/>
                  </a:lnTo>
                  <a:lnTo>
                    <a:pt x="646" y="486"/>
                  </a:lnTo>
                  <a:lnTo>
                    <a:pt x="632" y="472"/>
                  </a:lnTo>
                  <a:lnTo>
                    <a:pt x="616" y="460"/>
                  </a:lnTo>
                  <a:lnTo>
                    <a:pt x="602" y="450"/>
                  </a:lnTo>
                  <a:lnTo>
                    <a:pt x="586" y="442"/>
                  </a:lnTo>
                  <a:lnTo>
                    <a:pt x="570" y="438"/>
                  </a:lnTo>
                  <a:lnTo>
                    <a:pt x="554" y="434"/>
                  </a:lnTo>
                  <a:lnTo>
                    <a:pt x="540" y="430"/>
                  </a:lnTo>
                  <a:lnTo>
                    <a:pt x="524" y="430"/>
                  </a:lnTo>
                  <a:lnTo>
                    <a:pt x="508" y="432"/>
                  </a:lnTo>
                  <a:lnTo>
                    <a:pt x="494" y="434"/>
                  </a:lnTo>
                  <a:lnTo>
                    <a:pt x="480" y="438"/>
                  </a:lnTo>
                  <a:lnTo>
                    <a:pt x="466" y="442"/>
                  </a:lnTo>
                  <a:lnTo>
                    <a:pt x="452" y="450"/>
                  </a:lnTo>
                  <a:lnTo>
                    <a:pt x="440" y="458"/>
                  </a:lnTo>
                  <a:lnTo>
                    <a:pt x="428" y="466"/>
                  </a:lnTo>
                  <a:lnTo>
                    <a:pt x="418" y="476"/>
                  </a:lnTo>
                  <a:lnTo>
                    <a:pt x="418" y="476"/>
                  </a:lnTo>
                  <a:lnTo>
                    <a:pt x="410" y="488"/>
                  </a:lnTo>
                  <a:lnTo>
                    <a:pt x="404" y="498"/>
                  </a:lnTo>
                  <a:lnTo>
                    <a:pt x="400" y="510"/>
                  </a:lnTo>
                  <a:lnTo>
                    <a:pt x="396" y="522"/>
                  </a:lnTo>
                  <a:lnTo>
                    <a:pt x="394" y="536"/>
                  </a:lnTo>
                  <a:lnTo>
                    <a:pt x="394" y="548"/>
                  </a:lnTo>
                  <a:lnTo>
                    <a:pt x="396" y="574"/>
                  </a:lnTo>
                  <a:lnTo>
                    <a:pt x="404" y="598"/>
                  </a:lnTo>
                  <a:lnTo>
                    <a:pt x="414" y="620"/>
                  </a:lnTo>
                  <a:lnTo>
                    <a:pt x="420" y="630"/>
                  </a:lnTo>
                  <a:lnTo>
                    <a:pt x="426" y="638"/>
                  </a:lnTo>
                  <a:lnTo>
                    <a:pt x="434" y="644"/>
                  </a:lnTo>
                  <a:lnTo>
                    <a:pt x="442" y="650"/>
                  </a:lnTo>
                  <a:lnTo>
                    <a:pt x="442" y="650"/>
                  </a:lnTo>
                  <a:lnTo>
                    <a:pt x="452" y="654"/>
                  </a:lnTo>
                  <a:lnTo>
                    <a:pt x="464" y="658"/>
                  </a:lnTo>
                  <a:lnTo>
                    <a:pt x="474" y="660"/>
                  </a:lnTo>
                  <a:lnTo>
                    <a:pt x="486" y="660"/>
                  </a:lnTo>
                  <a:lnTo>
                    <a:pt x="496" y="660"/>
                  </a:lnTo>
                  <a:lnTo>
                    <a:pt x="506" y="658"/>
                  </a:lnTo>
                  <a:lnTo>
                    <a:pt x="516" y="654"/>
                  </a:lnTo>
                  <a:lnTo>
                    <a:pt x="524" y="650"/>
                  </a:lnTo>
                  <a:lnTo>
                    <a:pt x="542" y="640"/>
                  </a:lnTo>
                  <a:lnTo>
                    <a:pt x="554" y="624"/>
                  </a:lnTo>
                  <a:lnTo>
                    <a:pt x="560" y="616"/>
                  </a:lnTo>
                  <a:lnTo>
                    <a:pt x="564" y="606"/>
                  </a:lnTo>
                  <a:lnTo>
                    <a:pt x="566" y="596"/>
                  </a:lnTo>
                  <a:lnTo>
                    <a:pt x="568" y="586"/>
                  </a:lnTo>
                  <a:lnTo>
                    <a:pt x="568" y="586"/>
                  </a:lnTo>
                  <a:lnTo>
                    <a:pt x="588" y="600"/>
                  </a:lnTo>
                  <a:lnTo>
                    <a:pt x="606" y="616"/>
                  </a:lnTo>
                  <a:lnTo>
                    <a:pt x="620" y="632"/>
                  </a:lnTo>
                  <a:lnTo>
                    <a:pt x="632" y="650"/>
                  </a:lnTo>
                  <a:lnTo>
                    <a:pt x="642" y="670"/>
                  </a:lnTo>
                  <a:lnTo>
                    <a:pt x="650" y="692"/>
                  </a:lnTo>
                  <a:lnTo>
                    <a:pt x="654" y="712"/>
                  </a:lnTo>
                  <a:lnTo>
                    <a:pt x="656" y="734"/>
                  </a:lnTo>
                  <a:lnTo>
                    <a:pt x="656" y="756"/>
                  </a:lnTo>
                  <a:lnTo>
                    <a:pt x="654" y="778"/>
                  </a:lnTo>
                  <a:lnTo>
                    <a:pt x="648" y="800"/>
                  </a:lnTo>
                  <a:lnTo>
                    <a:pt x="640" y="820"/>
                  </a:lnTo>
                  <a:lnTo>
                    <a:pt x="630" y="842"/>
                  </a:lnTo>
                  <a:lnTo>
                    <a:pt x="616" y="860"/>
                  </a:lnTo>
                  <a:lnTo>
                    <a:pt x="600" y="878"/>
                  </a:lnTo>
                  <a:lnTo>
                    <a:pt x="582" y="896"/>
                  </a:lnTo>
                  <a:lnTo>
                    <a:pt x="582" y="896"/>
                  </a:lnTo>
                  <a:lnTo>
                    <a:pt x="590" y="884"/>
                  </a:lnTo>
                  <a:lnTo>
                    <a:pt x="596" y="870"/>
                  </a:lnTo>
                  <a:lnTo>
                    <a:pt x="600" y="856"/>
                  </a:lnTo>
                  <a:lnTo>
                    <a:pt x="602" y="840"/>
                  </a:lnTo>
                  <a:lnTo>
                    <a:pt x="602" y="824"/>
                  </a:lnTo>
                  <a:lnTo>
                    <a:pt x="600" y="808"/>
                  </a:lnTo>
                  <a:lnTo>
                    <a:pt x="598" y="792"/>
                  </a:lnTo>
                  <a:lnTo>
                    <a:pt x="594" y="776"/>
                  </a:lnTo>
                  <a:lnTo>
                    <a:pt x="594" y="776"/>
                  </a:lnTo>
                  <a:lnTo>
                    <a:pt x="586" y="764"/>
                  </a:lnTo>
                  <a:lnTo>
                    <a:pt x="576" y="752"/>
                  </a:lnTo>
                  <a:lnTo>
                    <a:pt x="562" y="742"/>
                  </a:lnTo>
                  <a:lnTo>
                    <a:pt x="546" y="736"/>
                  </a:lnTo>
                  <a:lnTo>
                    <a:pt x="528" y="730"/>
                  </a:lnTo>
                  <a:lnTo>
                    <a:pt x="506" y="730"/>
                  </a:lnTo>
                  <a:lnTo>
                    <a:pt x="484" y="734"/>
                  </a:lnTo>
                  <a:lnTo>
                    <a:pt x="472" y="738"/>
                  </a:lnTo>
                  <a:lnTo>
                    <a:pt x="460" y="744"/>
                  </a:lnTo>
                  <a:lnTo>
                    <a:pt x="460" y="744"/>
                  </a:lnTo>
                  <a:lnTo>
                    <a:pt x="470" y="750"/>
                  </a:lnTo>
                  <a:lnTo>
                    <a:pt x="478" y="756"/>
                  </a:lnTo>
                  <a:lnTo>
                    <a:pt x="486" y="762"/>
                  </a:lnTo>
                  <a:lnTo>
                    <a:pt x="492" y="770"/>
                  </a:lnTo>
                  <a:lnTo>
                    <a:pt x="498" y="778"/>
                  </a:lnTo>
                  <a:lnTo>
                    <a:pt x="502" y="788"/>
                  </a:lnTo>
                  <a:lnTo>
                    <a:pt x="508" y="806"/>
                  </a:lnTo>
                  <a:lnTo>
                    <a:pt x="510" y="826"/>
                  </a:lnTo>
                  <a:lnTo>
                    <a:pt x="506" y="848"/>
                  </a:lnTo>
                  <a:lnTo>
                    <a:pt x="498" y="868"/>
                  </a:lnTo>
                  <a:lnTo>
                    <a:pt x="484" y="888"/>
                  </a:lnTo>
                  <a:lnTo>
                    <a:pt x="484" y="888"/>
                  </a:lnTo>
                  <a:lnTo>
                    <a:pt x="474" y="900"/>
                  </a:lnTo>
                  <a:lnTo>
                    <a:pt x="460" y="912"/>
                  </a:lnTo>
                  <a:lnTo>
                    <a:pt x="444" y="922"/>
                  </a:lnTo>
                  <a:lnTo>
                    <a:pt x="426" y="930"/>
                  </a:lnTo>
                  <a:lnTo>
                    <a:pt x="406" y="936"/>
                  </a:lnTo>
                  <a:lnTo>
                    <a:pt x="386" y="940"/>
                  </a:lnTo>
                  <a:lnTo>
                    <a:pt x="364" y="944"/>
                  </a:lnTo>
                  <a:lnTo>
                    <a:pt x="340" y="944"/>
                  </a:lnTo>
                  <a:lnTo>
                    <a:pt x="318" y="942"/>
                  </a:lnTo>
                  <a:lnTo>
                    <a:pt x="294" y="938"/>
                  </a:lnTo>
                  <a:lnTo>
                    <a:pt x="270" y="932"/>
                  </a:lnTo>
                  <a:lnTo>
                    <a:pt x="248" y="922"/>
                  </a:lnTo>
                  <a:lnTo>
                    <a:pt x="224" y="910"/>
                  </a:lnTo>
                  <a:lnTo>
                    <a:pt x="204" y="896"/>
                  </a:lnTo>
                  <a:lnTo>
                    <a:pt x="182" y="876"/>
                  </a:lnTo>
                  <a:lnTo>
                    <a:pt x="164" y="856"/>
                  </a:lnTo>
                  <a:lnTo>
                    <a:pt x="164" y="856"/>
                  </a:lnTo>
                  <a:lnTo>
                    <a:pt x="176" y="858"/>
                  </a:lnTo>
                  <a:lnTo>
                    <a:pt x="188" y="860"/>
                  </a:lnTo>
                  <a:lnTo>
                    <a:pt x="200" y="860"/>
                  </a:lnTo>
                  <a:lnTo>
                    <a:pt x="214" y="860"/>
                  </a:lnTo>
                  <a:lnTo>
                    <a:pt x="228" y="856"/>
                  </a:lnTo>
                  <a:lnTo>
                    <a:pt x="242" y="854"/>
                  </a:lnTo>
                  <a:lnTo>
                    <a:pt x="256" y="848"/>
                  </a:lnTo>
                  <a:lnTo>
                    <a:pt x="268" y="842"/>
                  </a:lnTo>
                  <a:lnTo>
                    <a:pt x="280" y="834"/>
                  </a:lnTo>
                  <a:lnTo>
                    <a:pt x="292" y="826"/>
                  </a:lnTo>
                  <a:lnTo>
                    <a:pt x="300" y="818"/>
                  </a:lnTo>
                  <a:lnTo>
                    <a:pt x="308" y="808"/>
                  </a:lnTo>
                  <a:lnTo>
                    <a:pt x="314" y="796"/>
                  </a:lnTo>
                  <a:lnTo>
                    <a:pt x="318" y="784"/>
                  </a:lnTo>
                  <a:lnTo>
                    <a:pt x="318" y="772"/>
                  </a:lnTo>
                  <a:lnTo>
                    <a:pt x="316" y="758"/>
                  </a:lnTo>
                  <a:lnTo>
                    <a:pt x="316" y="758"/>
                  </a:lnTo>
                  <a:lnTo>
                    <a:pt x="304" y="766"/>
                  </a:lnTo>
                  <a:lnTo>
                    <a:pt x="294" y="772"/>
                  </a:lnTo>
                  <a:lnTo>
                    <a:pt x="280" y="776"/>
                  </a:lnTo>
                  <a:lnTo>
                    <a:pt x="266" y="778"/>
                  </a:lnTo>
                  <a:lnTo>
                    <a:pt x="252" y="780"/>
                  </a:lnTo>
                  <a:lnTo>
                    <a:pt x="238" y="778"/>
                  </a:lnTo>
                  <a:lnTo>
                    <a:pt x="222" y="776"/>
                  </a:lnTo>
                  <a:lnTo>
                    <a:pt x="206" y="772"/>
                  </a:lnTo>
                  <a:lnTo>
                    <a:pt x="192" y="766"/>
                  </a:lnTo>
                  <a:lnTo>
                    <a:pt x="176" y="758"/>
                  </a:lnTo>
                  <a:lnTo>
                    <a:pt x="162" y="748"/>
                  </a:lnTo>
                  <a:lnTo>
                    <a:pt x="148" y="738"/>
                  </a:lnTo>
                  <a:lnTo>
                    <a:pt x="134" y="726"/>
                  </a:lnTo>
                  <a:lnTo>
                    <a:pt x="122" y="712"/>
                  </a:lnTo>
                  <a:lnTo>
                    <a:pt x="112" y="696"/>
                  </a:lnTo>
                  <a:lnTo>
                    <a:pt x="102" y="680"/>
                  </a:lnTo>
                  <a:lnTo>
                    <a:pt x="102" y="680"/>
                  </a:lnTo>
                  <a:lnTo>
                    <a:pt x="82" y="634"/>
                  </a:lnTo>
                  <a:lnTo>
                    <a:pt x="74" y="610"/>
                  </a:lnTo>
                  <a:lnTo>
                    <a:pt x="66" y="586"/>
                  </a:lnTo>
                  <a:lnTo>
                    <a:pt x="60" y="560"/>
                  </a:lnTo>
                  <a:lnTo>
                    <a:pt x="56" y="534"/>
                  </a:lnTo>
                  <a:lnTo>
                    <a:pt x="54" y="508"/>
                  </a:lnTo>
                  <a:lnTo>
                    <a:pt x="54" y="482"/>
                  </a:lnTo>
                  <a:lnTo>
                    <a:pt x="56" y="454"/>
                  </a:lnTo>
                  <a:lnTo>
                    <a:pt x="62" y="428"/>
                  </a:lnTo>
                  <a:lnTo>
                    <a:pt x="70" y="400"/>
                  </a:lnTo>
                  <a:lnTo>
                    <a:pt x="82" y="372"/>
                  </a:lnTo>
                  <a:lnTo>
                    <a:pt x="96" y="346"/>
                  </a:lnTo>
                  <a:lnTo>
                    <a:pt x="116" y="318"/>
                  </a:lnTo>
                  <a:lnTo>
                    <a:pt x="138" y="292"/>
                  </a:lnTo>
                  <a:lnTo>
                    <a:pt x="166" y="264"/>
                  </a:lnTo>
                  <a:lnTo>
                    <a:pt x="166" y="264"/>
                  </a:lnTo>
                  <a:lnTo>
                    <a:pt x="154" y="288"/>
                  </a:lnTo>
                  <a:lnTo>
                    <a:pt x="142" y="312"/>
                  </a:lnTo>
                  <a:lnTo>
                    <a:pt x="134" y="338"/>
                  </a:lnTo>
                  <a:lnTo>
                    <a:pt x="128" y="366"/>
                  </a:lnTo>
                  <a:lnTo>
                    <a:pt x="124" y="394"/>
                  </a:lnTo>
                  <a:lnTo>
                    <a:pt x="122" y="424"/>
                  </a:lnTo>
                  <a:lnTo>
                    <a:pt x="120" y="454"/>
                  </a:lnTo>
                  <a:lnTo>
                    <a:pt x="120" y="486"/>
                  </a:lnTo>
                  <a:lnTo>
                    <a:pt x="120" y="486"/>
                  </a:lnTo>
                  <a:lnTo>
                    <a:pt x="124" y="518"/>
                  </a:lnTo>
                  <a:lnTo>
                    <a:pt x="130" y="548"/>
                  </a:lnTo>
                  <a:lnTo>
                    <a:pt x="140" y="578"/>
                  </a:lnTo>
                  <a:lnTo>
                    <a:pt x="150" y="604"/>
                  </a:lnTo>
                  <a:lnTo>
                    <a:pt x="166" y="644"/>
                  </a:lnTo>
                  <a:lnTo>
                    <a:pt x="174" y="660"/>
                  </a:lnTo>
                  <a:lnTo>
                    <a:pt x="174" y="660"/>
                  </a:lnTo>
                  <a:lnTo>
                    <a:pt x="174" y="644"/>
                  </a:lnTo>
                  <a:lnTo>
                    <a:pt x="170" y="606"/>
                  </a:lnTo>
                  <a:lnTo>
                    <a:pt x="170" y="582"/>
                  </a:lnTo>
                  <a:lnTo>
                    <a:pt x="172" y="560"/>
                  </a:lnTo>
                  <a:lnTo>
                    <a:pt x="176" y="538"/>
                  </a:lnTo>
                  <a:lnTo>
                    <a:pt x="182" y="518"/>
                  </a:lnTo>
                  <a:lnTo>
                    <a:pt x="182" y="518"/>
                  </a:lnTo>
                  <a:lnTo>
                    <a:pt x="188" y="530"/>
                  </a:lnTo>
                  <a:lnTo>
                    <a:pt x="194" y="542"/>
                  </a:lnTo>
                  <a:lnTo>
                    <a:pt x="202" y="550"/>
                  </a:lnTo>
                  <a:lnTo>
                    <a:pt x="210" y="560"/>
                  </a:lnTo>
                  <a:lnTo>
                    <a:pt x="218" y="566"/>
                  </a:lnTo>
                  <a:lnTo>
                    <a:pt x="228" y="572"/>
                  </a:lnTo>
                  <a:lnTo>
                    <a:pt x="238" y="576"/>
                  </a:lnTo>
                  <a:lnTo>
                    <a:pt x="248" y="578"/>
                  </a:lnTo>
                  <a:lnTo>
                    <a:pt x="258" y="578"/>
                  </a:lnTo>
                  <a:lnTo>
                    <a:pt x="266" y="576"/>
                  </a:lnTo>
                  <a:lnTo>
                    <a:pt x="276" y="574"/>
                  </a:lnTo>
                  <a:lnTo>
                    <a:pt x="284" y="570"/>
                  </a:lnTo>
                  <a:lnTo>
                    <a:pt x="290" y="562"/>
                  </a:lnTo>
                  <a:lnTo>
                    <a:pt x="296" y="554"/>
                  </a:lnTo>
                  <a:lnTo>
                    <a:pt x="302" y="542"/>
                  </a:lnTo>
                  <a:lnTo>
                    <a:pt x="304" y="530"/>
                  </a:lnTo>
                  <a:lnTo>
                    <a:pt x="304" y="530"/>
                  </a:lnTo>
                  <a:lnTo>
                    <a:pt x="292" y="530"/>
                  </a:lnTo>
                  <a:lnTo>
                    <a:pt x="278" y="528"/>
                  </a:lnTo>
                  <a:lnTo>
                    <a:pt x="266" y="526"/>
                  </a:lnTo>
                  <a:lnTo>
                    <a:pt x="254" y="520"/>
                  </a:lnTo>
                  <a:lnTo>
                    <a:pt x="244" y="514"/>
                  </a:lnTo>
                  <a:lnTo>
                    <a:pt x="234" y="506"/>
                  </a:lnTo>
                  <a:lnTo>
                    <a:pt x="224" y="498"/>
                  </a:lnTo>
                  <a:lnTo>
                    <a:pt x="216" y="488"/>
                  </a:lnTo>
                  <a:lnTo>
                    <a:pt x="208" y="476"/>
                  </a:lnTo>
                  <a:lnTo>
                    <a:pt x="200" y="464"/>
                  </a:lnTo>
                  <a:lnTo>
                    <a:pt x="194" y="450"/>
                  </a:lnTo>
                  <a:lnTo>
                    <a:pt x="190" y="436"/>
                  </a:lnTo>
                  <a:lnTo>
                    <a:pt x="182" y="406"/>
                  </a:lnTo>
                  <a:lnTo>
                    <a:pt x="182" y="392"/>
                  </a:lnTo>
                  <a:lnTo>
                    <a:pt x="180" y="376"/>
                  </a:lnTo>
                  <a:lnTo>
                    <a:pt x="182" y="358"/>
                  </a:lnTo>
                  <a:lnTo>
                    <a:pt x="184" y="342"/>
                  </a:lnTo>
                  <a:lnTo>
                    <a:pt x="186" y="326"/>
                  </a:lnTo>
                  <a:lnTo>
                    <a:pt x="192" y="310"/>
                  </a:lnTo>
                  <a:lnTo>
                    <a:pt x="198" y="294"/>
                  </a:lnTo>
                  <a:lnTo>
                    <a:pt x="206" y="278"/>
                  </a:lnTo>
                  <a:lnTo>
                    <a:pt x="214" y="262"/>
                  </a:lnTo>
                  <a:lnTo>
                    <a:pt x="226" y="248"/>
                  </a:lnTo>
                  <a:lnTo>
                    <a:pt x="238" y="234"/>
                  </a:lnTo>
                  <a:lnTo>
                    <a:pt x="252" y="220"/>
                  </a:lnTo>
                  <a:lnTo>
                    <a:pt x="268" y="208"/>
                  </a:lnTo>
                  <a:lnTo>
                    <a:pt x="286" y="196"/>
                  </a:lnTo>
                  <a:lnTo>
                    <a:pt x="304" y="186"/>
                  </a:lnTo>
                  <a:lnTo>
                    <a:pt x="326" y="176"/>
                  </a:lnTo>
                  <a:lnTo>
                    <a:pt x="348" y="168"/>
                  </a:lnTo>
                  <a:lnTo>
                    <a:pt x="374" y="160"/>
                  </a:lnTo>
                  <a:lnTo>
                    <a:pt x="374" y="160"/>
                  </a:lnTo>
                  <a:lnTo>
                    <a:pt x="346" y="180"/>
                  </a:lnTo>
                  <a:lnTo>
                    <a:pt x="324" y="196"/>
                  </a:lnTo>
                  <a:lnTo>
                    <a:pt x="308" y="214"/>
                  </a:lnTo>
                  <a:lnTo>
                    <a:pt x="298" y="230"/>
                  </a:lnTo>
                  <a:lnTo>
                    <a:pt x="296" y="236"/>
                  </a:lnTo>
                  <a:lnTo>
                    <a:pt x="294" y="244"/>
                  </a:lnTo>
                  <a:lnTo>
                    <a:pt x="294" y="250"/>
                  </a:lnTo>
                  <a:lnTo>
                    <a:pt x="296" y="256"/>
                  </a:lnTo>
                  <a:lnTo>
                    <a:pt x="298" y="262"/>
                  </a:lnTo>
                  <a:lnTo>
                    <a:pt x="302" y="266"/>
                  </a:lnTo>
                  <a:lnTo>
                    <a:pt x="308" y="270"/>
                  </a:lnTo>
                  <a:lnTo>
                    <a:pt x="314" y="274"/>
                  </a:lnTo>
                  <a:lnTo>
                    <a:pt x="314" y="274"/>
                  </a:lnTo>
                  <a:lnTo>
                    <a:pt x="310" y="292"/>
                  </a:lnTo>
                  <a:lnTo>
                    <a:pt x="306" y="314"/>
                  </a:lnTo>
                  <a:lnTo>
                    <a:pt x="308" y="324"/>
                  </a:lnTo>
                  <a:lnTo>
                    <a:pt x="310" y="336"/>
                  </a:lnTo>
                  <a:lnTo>
                    <a:pt x="312" y="348"/>
                  </a:lnTo>
                  <a:lnTo>
                    <a:pt x="318" y="358"/>
                  </a:lnTo>
                  <a:lnTo>
                    <a:pt x="324" y="368"/>
                  </a:lnTo>
                  <a:lnTo>
                    <a:pt x="334" y="376"/>
                  </a:lnTo>
                  <a:lnTo>
                    <a:pt x="346" y="382"/>
                  </a:lnTo>
                  <a:lnTo>
                    <a:pt x="360" y="386"/>
                  </a:lnTo>
                  <a:lnTo>
                    <a:pt x="376" y="390"/>
                  </a:lnTo>
                  <a:lnTo>
                    <a:pt x="396" y="388"/>
                  </a:lnTo>
                  <a:lnTo>
                    <a:pt x="420" y="386"/>
                  </a:lnTo>
                  <a:lnTo>
                    <a:pt x="446" y="380"/>
                  </a:lnTo>
                  <a:lnTo>
                    <a:pt x="446" y="380"/>
                  </a:lnTo>
                  <a:lnTo>
                    <a:pt x="426" y="374"/>
                  </a:lnTo>
                  <a:lnTo>
                    <a:pt x="410" y="366"/>
                  </a:lnTo>
                  <a:lnTo>
                    <a:pt x="400" y="356"/>
                  </a:lnTo>
                  <a:lnTo>
                    <a:pt x="392" y="348"/>
                  </a:lnTo>
                  <a:lnTo>
                    <a:pt x="386" y="336"/>
                  </a:lnTo>
                  <a:lnTo>
                    <a:pt x="386" y="326"/>
                  </a:lnTo>
                  <a:lnTo>
                    <a:pt x="386" y="314"/>
                  </a:lnTo>
                  <a:lnTo>
                    <a:pt x="390" y="302"/>
                  </a:lnTo>
                  <a:lnTo>
                    <a:pt x="396" y="290"/>
                  </a:lnTo>
                  <a:lnTo>
                    <a:pt x="404" y="280"/>
                  </a:lnTo>
                  <a:lnTo>
                    <a:pt x="412" y="270"/>
                  </a:lnTo>
                  <a:lnTo>
                    <a:pt x="424" y="260"/>
                  </a:lnTo>
                  <a:lnTo>
                    <a:pt x="436" y="252"/>
                  </a:lnTo>
                  <a:lnTo>
                    <a:pt x="448" y="244"/>
                  </a:lnTo>
                  <a:lnTo>
                    <a:pt x="462" y="240"/>
                  </a:lnTo>
                  <a:lnTo>
                    <a:pt x="474" y="236"/>
                  </a:lnTo>
                  <a:lnTo>
                    <a:pt x="474" y="236"/>
                  </a:lnTo>
                  <a:lnTo>
                    <a:pt x="478" y="246"/>
                  </a:lnTo>
                  <a:lnTo>
                    <a:pt x="484" y="254"/>
                  </a:lnTo>
                  <a:lnTo>
                    <a:pt x="492" y="262"/>
                  </a:lnTo>
                  <a:lnTo>
                    <a:pt x="500" y="270"/>
                  </a:lnTo>
                  <a:lnTo>
                    <a:pt x="508" y="276"/>
                  </a:lnTo>
                  <a:lnTo>
                    <a:pt x="518" y="280"/>
                  </a:lnTo>
                  <a:lnTo>
                    <a:pt x="528" y="284"/>
                  </a:lnTo>
                  <a:lnTo>
                    <a:pt x="538" y="286"/>
                  </a:lnTo>
                  <a:lnTo>
                    <a:pt x="548" y="286"/>
                  </a:lnTo>
                  <a:lnTo>
                    <a:pt x="560" y="286"/>
                  </a:lnTo>
                  <a:lnTo>
                    <a:pt x="568" y="282"/>
                  </a:lnTo>
                  <a:lnTo>
                    <a:pt x="578" y="278"/>
                  </a:lnTo>
                  <a:lnTo>
                    <a:pt x="586" y="272"/>
                  </a:lnTo>
                  <a:lnTo>
                    <a:pt x="594" y="262"/>
                  </a:lnTo>
                  <a:lnTo>
                    <a:pt x="600" y="252"/>
                  </a:lnTo>
                  <a:lnTo>
                    <a:pt x="604" y="238"/>
                  </a:lnTo>
                  <a:lnTo>
                    <a:pt x="604" y="238"/>
                  </a:lnTo>
                  <a:lnTo>
                    <a:pt x="626" y="250"/>
                  </a:lnTo>
                  <a:lnTo>
                    <a:pt x="644" y="266"/>
                  </a:lnTo>
                  <a:lnTo>
                    <a:pt x="652" y="274"/>
                  </a:lnTo>
                  <a:lnTo>
                    <a:pt x="658" y="284"/>
                  </a:lnTo>
                  <a:lnTo>
                    <a:pt x="664" y="292"/>
                  </a:lnTo>
                  <a:lnTo>
                    <a:pt x="668" y="302"/>
                  </a:lnTo>
                  <a:lnTo>
                    <a:pt x="670" y="312"/>
                  </a:lnTo>
                  <a:lnTo>
                    <a:pt x="670" y="322"/>
                  </a:lnTo>
                  <a:lnTo>
                    <a:pt x="668" y="334"/>
                  </a:lnTo>
                  <a:lnTo>
                    <a:pt x="666" y="344"/>
                  </a:lnTo>
                  <a:lnTo>
                    <a:pt x="660" y="354"/>
                  </a:lnTo>
                  <a:lnTo>
                    <a:pt x="652" y="364"/>
                  </a:lnTo>
                  <a:lnTo>
                    <a:pt x="642" y="374"/>
                  </a:lnTo>
                  <a:lnTo>
                    <a:pt x="630" y="384"/>
                  </a:lnTo>
                  <a:lnTo>
                    <a:pt x="630" y="384"/>
                  </a:lnTo>
                  <a:lnTo>
                    <a:pt x="646" y="386"/>
                  </a:lnTo>
                  <a:lnTo>
                    <a:pt x="660" y="388"/>
                  </a:lnTo>
                  <a:lnTo>
                    <a:pt x="674" y="388"/>
                  </a:lnTo>
                  <a:lnTo>
                    <a:pt x="688" y="386"/>
                  </a:lnTo>
                  <a:lnTo>
                    <a:pt x="700" y="384"/>
                  </a:lnTo>
                  <a:lnTo>
                    <a:pt x="710" y="378"/>
                  </a:lnTo>
                  <a:lnTo>
                    <a:pt x="722" y="372"/>
                  </a:lnTo>
                  <a:lnTo>
                    <a:pt x="730" y="366"/>
                  </a:lnTo>
                  <a:lnTo>
                    <a:pt x="738" y="356"/>
                  </a:lnTo>
                  <a:lnTo>
                    <a:pt x="742" y="346"/>
                  </a:lnTo>
                  <a:lnTo>
                    <a:pt x="746" y="334"/>
                  </a:lnTo>
                  <a:lnTo>
                    <a:pt x="748" y="322"/>
                  </a:lnTo>
                  <a:lnTo>
                    <a:pt x="748" y="308"/>
                  </a:lnTo>
                  <a:lnTo>
                    <a:pt x="746" y="292"/>
                  </a:lnTo>
                  <a:lnTo>
                    <a:pt x="742" y="274"/>
                  </a:lnTo>
                  <a:lnTo>
                    <a:pt x="736" y="256"/>
                  </a:lnTo>
                  <a:lnTo>
                    <a:pt x="736" y="256"/>
                  </a:lnTo>
                  <a:lnTo>
                    <a:pt x="744" y="256"/>
                  </a:lnTo>
                  <a:lnTo>
                    <a:pt x="752" y="254"/>
                  </a:lnTo>
                  <a:lnTo>
                    <a:pt x="758" y="250"/>
                  </a:lnTo>
                  <a:lnTo>
                    <a:pt x="764" y="246"/>
                  </a:lnTo>
                  <a:lnTo>
                    <a:pt x="768" y="240"/>
                  </a:lnTo>
                  <a:lnTo>
                    <a:pt x="772" y="232"/>
                  </a:lnTo>
                  <a:lnTo>
                    <a:pt x="774" y="224"/>
                  </a:lnTo>
                  <a:lnTo>
                    <a:pt x="776" y="214"/>
                  </a:lnTo>
                  <a:lnTo>
                    <a:pt x="774" y="204"/>
                  </a:lnTo>
                  <a:lnTo>
                    <a:pt x="772" y="194"/>
                  </a:lnTo>
                  <a:lnTo>
                    <a:pt x="770" y="182"/>
                  </a:lnTo>
                  <a:lnTo>
                    <a:pt x="764" y="170"/>
                  </a:lnTo>
                  <a:lnTo>
                    <a:pt x="756" y="158"/>
                  </a:lnTo>
                  <a:lnTo>
                    <a:pt x="748" y="144"/>
                  </a:lnTo>
                  <a:lnTo>
                    <a:pt x="736" y="132"/>
                  </a:lnTo>
                  <a:lnTo>
                    <a:pt x="722" y="120"/>
                  </a:lnTo>
                  <a:lnTo>
                    <a:pt x="722" y="120"/>
                  </a:lnTo>
                  <a:lnTo>
                    <a:pt x="750" y="130"/>
                  </a:lnTo>
                  <a:lnTo>
                    <a:pt x="776" y="140"/>
                  </a:lnTo>
                  <a:lnTo>
                    <a:pt x="800" y="154"/>
                  </a:lnTo>
                  <a:lnTo>
                    <a:pt x="820" y="170"/>
                  </a:lnTo>
                  <a:lnTo>
                    <a:pt x="838" y="188"/>
                  </a:lnTo>
                  <a:lnTo>
                    <a:pt x="854" y="206"/>
                  </a:lnTo>
                  <a:lnTo>
                    <a:pt x="868" y="226"/>
                  </a:lnTo>
                  <a:lnTo>
                    <a:pt x="880" y="248"/>
                  </a:lnTo>
                  <a:lnTo>
                    <a:pt x="890" y="268"/>
                  </a:lnTo>
                  <a:lnTo>
                    <a:pt x="898" y="290"/>
                  </a:lnTo>
                  <a:lnTo>
                    <a:pt x="904" y="312"/>
                  </a:lnTo>
                  <a:lnTo>
                    <a:pt x="910" y="332"/>
                  </a:lnTo>
                  <a:lnTo>
                    <a:pt x="912" y="354"/>
                  </a:lnTo>
                  <a:lnTo>
                    <a:pt x="912" y="372"/>
                  </a:lnTo>
                  <a:lnTo>
                    <a:pt x="912" y="390"/>
                  </a:lnTo>
                  <a:lnTo>
                    <a:pt x="910" y="408"/>
                  </a:lnTo>
                  <a:lnTo>
                    <a:pt x="910" y="408"/>
                  </a:lnTo>
                  <a:lnTo>
                    <a:pt x="906" y="420"/>
                  </a:lnTo>
                  <a:lnTo>
                    <a:pt x="902" y="432"/>
                  </a:lnTo>
                  <a:lnTo>
                    <a:pt x="890" y="454"/>
                  </a:lnTo>
                  <a:lnTo>
                    <a:pt x="874" y="474"/>
                  </a:lnTo>
                  <a:lnTo>
                    <a:pt x="856" y="490"/>
                  </a:lnTo>
                  <a:lnTo>
                    <a:pt x="838" y="502"/>
                  </a:lnTo>
                  <a:lnTo>
                    <a:pt x="816" y="510"/>
                  </a:lnTo>
                  <a:lnTo>
                    <a:pt x="796" y="512"/>
                  </a:lnTo>
                  <a:lnTo>
                    <a:pt x="786" y="512"/>
                  </a:lnTo>
                  <a:lnTo>
                    <a:pt x="778" y="512"/>
                  </a:lnTo>
                  <a:lnTo>
                    <a:pt x="778" y="512"/>
                  </a:lnTo>
                  <a:lnTo>
                    <a:pt x="784" y="534"/>
                  </a:lnTo>
                  <a:lnTo>
                    <a:pt x="794" y="552"/>
                  </a:lnTo>
                  <a:lnTo>
                    <a:pt x="806" y="564"/>
                  </a:lnTo>
                  <a:lnTo>
                    <a:pt x="818" y="572"/>
                  </a:lnTo>
                  <a:lnTo>
                    <a:pt x="834" y="576"/>
                  </a:lnTo>
                  <a:lnTo>
                    <a:pt x="848" y="576"/>
                  </a:lnTo>
                  <a:lnTo>
                    <a:pt x="864" y="570"/>
                  </a:lnTo>
                  <a:lnTo>
                    <a:pt x="880" y="562"/>
                  </a:lnTo>
                  <a:lnTo>
                    <a:pt x="880" y="562"/>
                  </a:lnTo>
                  <a:lnTo>
                    <a:pt x="886" y="568"/>
                  </a:lnTo>
                  <a:lnTo>
                    <a:pt x="894" y="574"/>
                  </a:lnTo>
                  <a:lnTo>
                    <a:pt x="900" y="582"/>
                  </a:lnTo>
                  <a:lnTo>
                    <a:pt x="906" y="592"/>
                  </a:lnTo>
                  <a:lnTo>
                    <a:pt x="908" y="602"/>
                  </a:lnTo>
                  <a:lnTo>
                    <a:pt x="910" y="612"/>
                  </a:lnTo>
                  <a:lnTo>
                    <a:pt x="910" y="622"/>
                  </a:lnTo>
                  <a:lnTo>
                    <a:pt x="908" y="632"/>
                  </a:lnTo>
                  <a:lnTo>
                    <a:pt x="908" y="632"/>
                  </a:lnTo>
                  <a:lnTo>
                    <a:pt x="902" y="642"/>
                  </a:lnTo>
                  <a:lnTo>
                    <a:pt x="894" y="650"/>
                  </a:lnTo>
                  <a:lnTo>
                    <a:pt x="884" y="654"/>
                  </a:lnTo>
                  <a:lnTo>
                    <a:pt x="874" y="654"/>
                  </a:lnTo>
                  <a:lnTo>
                    <a:pt x="864" y="652"/>
                  </a:lnTo>
                  <a:lnTo>
                    <a:pt x="854" y="648"/>
                  </a:lnTo>
                  <a:lnTo>
                    <a:pt x="844" y="640"/>
                  </a:lnTo>
                  <a:lnTo>
                    <a:pt x="836" y="632"/>
                  </a:lnTo>
                  <a:lnTo>
                    <a:pt x="836" y="632"/>
                  </a:lnTo>
                  <a:lnTo>
                    <a:pt x="836" y="642"/>
                  </a:lnTo>
                  <a:lnTo>
                    <a:pt x="838" y="654"/>
                  </a:lnTo>
                  <a:lnTo>
                    <a:pt x="840" y="664"/>
                  </a:lnTo>
                  <a:lnTo>
                    <a:pt x="844" y="672"/>
                  </a:lnTo>
                  <a:lnTo>
                    <a:pt x="854" y="690"/>
                  </a:lnTo>
                  <a:lnTo>
                    <a:pt x="866" y="704"/>
                  </a:lnTo>
                  <a:lnTo>
                    <a:pt x="874" y="710"/>
                  </a:lnTo>
                  <a:lnTo>
                    <a:pt x="882" y="714"/>
                  </a:lnTo>
                  <a:lnTo>
                    <a:pt x="890" y="718"/>
                  </a:lnTo>
                  <a:lnTo>
                    <a:pt x="900" y="720"/>
                  </a:lnTo>
                  <a:lnTo>
                    <a:pt x="908" y="720"/>
                  </a:lnTo>
                  <a:lnTo>
                    <a:pt x="918" y="718"/>
                  </a:lnTo>
                  <a:lnTo>
                    <a:pt x="928" y="716"/>
                  </a:lnTo>
                  <a:lnTo>
                    <a:pt x="938" y="712"/>
                  </a:lnTo>
                  <a:lnTo>
                    <a:pt x="938" y="712"/>
                  </a:lnTo>
                  <a:lnTo>
                    <a:pt x="946" y="706"/>
                  </a:lnTo>
                  <a:lnTo>
                    <a:pt x="954" y="700"/>
                  </a:lnTo>
                  <a:lnTo>
                    <a:pt x="958" y="690"/>
                  </a:lnTo>
                  <a:lnTo>
                    <a:pt x="962" y="680"/>
                  </a:lnTo>
                  <a:lnTo>
                    <a:pt x="964" y="670"/>
                  </a:lnTo>
                  <a:lnTo>
                    <a:pt x="966" y="658"/>
                  </a:lnTo>
                  <a:lnTo>
                    <a:pt x="964" y="644"/>
                  </a:lnTo>
                  <a:lnTo>
                    <a:pt x="964" y="632"/>
                  </a:lnTo>
                  <a:lnTo>
                    <a:pt x="960" y="620"/>
                  </a:lnTo>
                  <a:lnTo>
                    <a:pt x="954" y="606"/>
                  </a:lnTo>
                  <a:lnTo>
                    <a:pt x="948" y="594"/>
                  </a:lnTo>
                  <a:lnTo>
                    <a:pt x="940" y="584"/>
                  </a:lnTo>
                  <a:lnTo>
                    <a:pt x="930" y="574"/>
                  </a:lnTo>
                  <a:lnTo>
                    <a:pt x="918" y="566"/>
                  </a:lnTo>
                  <a:lnTo>
                    <a:pt x="906" y="558"/>
                  </a:lnTo>
                  <a:lnTo>
                    <a:pt x="890" y="554"/>
                  </a:lnTo>
                  <a:lnTo>
                    <a:pt x="890" y="554"/>
                  </a:lnTo>
                  <a:lnTo>
                    <a:pt x="902" y="542"/>
                  </a:lnTo>
                  <a:lnTo>
                    <a:pt x="912" y="528"/>
                  </a:lnTo>
                  <a:lnTo>
                    <a:pt x="920" y="514"/>
                  </a:lnTo>
                  <a:lnTo>
                    <a:pt x="928" y="496"/>
                  </a:lnTo>
                  <a:lnTo>
                    <a:pt x="928" y="496"/>
                  </a:lnTo>
                  <a:lnTo>
                    <a:pt x="928" y="504"/>
                  </a:lnTo>
                  <a:lnTo>
                    <a:pt x="930" y="510"/>
                  </a:lnTo>
                  <a:lnTo>
                    <a:pt x="936" y="524"/>
                  </a:lnTo>
                  <a:lnTo>
                    <a:pt x="948" y="536"/>
                  </a:lnTo>
                  <a:lnTo>
                    <a:pt x="964" y="550"/>
                  </a:lnTo>
                  <a:lnTo>
                    <a:pt x="964" y="550"/>
                  </a:lnTo>
                  <a:lnTo>
                    <a:pt x="972" y="534"/>
                  </a:lnTo>
                  <a:lnTo>
                    <a:pt x="976" y="518"/>
                  </a:lnTo>
                  <a:lnTo>
                    <a:pt x="980" y="500"/>
                  </a:lnTo>
                  <a:lnTo>
                    <a:pt x="982" y="480"/>
                  </a:lnTo>
                  <a:lnTo>
                    <a:pt x="982" y="458"/>
                  </a:lnTo>
                  <a:lnTo>
                    <a:pt x="982" y="436"/>
                  </a:lnTo>
                  <a:lnTo>
                    <a:pt x="980" y="414"/>
                  </a:lnTo>
                  <a:lnTo>
                    <a:pt x="976" y="388"/>
                  </a:lnTo>
                  <a:lnTo>
                    <a:pt x="964" y="340"/>
                  </a:lnTo>
                  <a:lnTo>
                    <a:pt x="950" y="288"/>
                  </a:lnTo>
                  <a:lnTo>
                    <a:pt x="930" y="240"/>
                  </a:lnTo>
                  <a:lnTo>
                    <a:pt x="918" y="216"/>
                  </a:lnTo>
                  <a:lnTo>
                    <a:pt x="906" y="194"/>
                  </a:lnTo>
                  <a:lnTo>
                    <a:pt x="906" y="194"/>
                  </a:lnTo>
                  <a:lnTo>
                    <a:pt x="930" y="212"/>
                  </a:lnTo>
                  <a:lnTo>
                    <a:pt x="954" y="234"/>
                  </a:lnTo>
                  <a:lnTo>
                    <a:pt x="976" y="256"/>
                  </a:lnTo>
                  <a:lnTo>
                    <a:pt x="996" y="278"/>
                  </a:lnTo>
                  <a:lnTo>
                    <a:pt x="1014" y="302"/>
                  </a:lnTo>
                  <a:lnTo>
                    <a:pt x="1030" y="328"/>
                  </a:lnTo>
                  <a:lnTo>
                    <a:pt x="1046" y="354"/>
                  </a:lnTo>
                  <a:lnTo>
                    <a:pt x="1058" y="382"/>
                  </a:lnTo>
                  <a:lnTo>
                    <a:pt x="1070" y="410"/>
                  </a:lnTo>
                  <a:lnTo>
                    <a:pt x="1080" y="438"/>
                  </a:lnTo>
                  <a:lnTo>
                    <a:pt x="1088" y="466"/>
                  </a:lnTo>
                  <a:lnTo>
                    <a:pt x="1094" y="494"/>
                  </a:lnTo>
                  <a:lnTo>
                    <a:pt x="1098" y="524"/>
                  </a:lnTo>
                  <a:lnTo>
                    <a:pt x="1102" y="554"/>
                  </a:lnTo>
                  <a:lnTo>
                    <a:pt x="1104" y="582"/>
                  </a:lnTo>
                  <a:lnTo>
                    <a:pt x="1104" y="612"/>
                  </a:lnTo>
                  <a:lnTo>
                    <a:pt x="1104" y="612"/>
                  </a:lnTo>
                  <a:lnTo>
                    <a:pt x="1102" y="644"/>
                  </a:lnTo>
                  <a:lnTo>
                    <a:pt x="1096" y="676"/>
                  </a:lnTo>
                  <a:lnTo>
                    <a:pt x="1086" y="706"/>
                  </a:lnTo>
                  <a:lnTo>
                    <a:pt x="1074" y="734"/>
                  </a:lnTo>
                  <a:lnTo>
                    <a:pt x="1060" y="762"/>
                  </a:lnTo>
                  <a:lnTo>
                    <a:pt x="1044" y="786"/>
                  </a:lnTo>
                  <a:lnTo>
                    <a:pt x="1028" y="810"/>
                  </a:lnTo>
                  <a:lnTo>
                    <a:pt x="1008" y="832"/>
                  </a:lnTo>
                  <a:lnTo>
                    <a:pt x="988" y="850"/>
                  </a:lnTo>
                  <a:lnTo>
                    <a:pt x="968" y="866"/>
                  </a:lnTo>
                  <a:lnTo>
                    <a:pt x="948" y="880"/>
                  </a:lnTo>
                  <a:lnTo>
                    <a:pt x="926" y="890"/>
                  </a:lnTo>
                  <a:lnTo>
                    <a:pt x="908" y="898"/>
                  </a:lnTo>
                  <a:lnTo>
                    <a:pt x="888" y="902"/>
                  </a:lnTo>
                  <a:lnTo>
                    <a:pt x="870" y="904"/>
                  </a:lnTo>
                  <a:lnTo>
                    <a:pt x="854" y="900"/>
                  </a:lnTo>
                  <a:lnTo>
                    <a:pt x="854" y="900"/>
                  </a:lnTo>
                  <a:lnTo>
                    <a:pt x="856" y="910"/>
                  </a:lnTo>
                  <a:lnTo>
                    <a:pt x="862" y="916"/>
                  </a:lnTo>
                  <a:lnTo>
                    <a:pt x="868" y="922"/>
                  </a:lnTo>
                  <a:lnTo>
                    <a:pt x="874" y="928"/>
                  </a:lnTo>
                  <a:lnTo>
                    <a:pt x="884" y="932"/>
                  </a:lnTo>
                  <a:lnTo>
                    <a:pt x="894" y="936"/>
                  </a:lnTo>
                  <a:lnTo>
                    <a:pt x="916" y="940"/>
                  </a:lnTo>
                  <a:lnTo>
                    <a:pt x="942" y="938"/>
                  </a:lnTo>
                  <a:lnTo>
                    <a:pt x="970" y="934"/>
                  </a:lnTo>
                  <a:lnTo>
                    <a:pt x="1000" y="926"/>
                  </a:lnTo>
                  <a:lnTo>
                    <a:pt x="1032" y="916"/>
                  </a:lnTo>
                  <a:lnTo>
                    <a:pt x="1032" y="916"/>
                  </a:lnTo>
                  <a:lnTo>
                    <a:pt x="1026" y="922"/>
                  </a:lnTo>
                  <a:lnTo>
                    <a:pt x="1020" y="928"/>
                  </a:lnTo>
                  <a:lnTo>
                    <a:pt x="1018" y="936"/>
                  </a:lnTo>
                  <a:lnTo>
                    <a:pt x="1016" y="946"/>
                  </a:lnTo>
                  <a:lnTo>
                    <a:pt x="1016" y="968"/>
                  </a:lnTo>
                  <a:lnTo>
                    <a:pt x="1020" y="992"/>
                  </a:lnTo>
                  <a:lnTo>
                    <a:pt x="1026" y="1014"/>
                  </a:lnTo>
                  <a:lnTo>
                    <a:pt x="1034" y="1036"/>
                  </a:lnTo>
                  <a:lnTo>
                    <a:pt x="1044" y="1054"/>
                  </a:lnTo>
                  <a:lnTo>
                    <a:pt x="1054" y="1066"/>
                  </a:lnTo>
                  <a:lnTo>
                    <a:pt x="1054" y="1066"/>
                  </a:lnTo>
                  <a:lnTo>
                    <a:pt x="1046" y="1082"/>
                  </a:lnTo>
                  <a:lnTo>
                    <a:pt x="1034" y="1098"/>
                  </a:lnTo>
                  <a:lnTo>
                    <a:pt x="1022" y="1112"/>
                  </a:lnTo>
                  <a:lnTo>
                    <a:pt x="1008" y="1124"/>
                  </a:lnTo>
                  <a:lnTo>
                    <a:pt x="992" y="1136"/>
                  </a:lnTo>
                  <a:lnTo>
                    <a:pt x="974" y="1148"/>
                  </a:lnTo>
                  <a:lnTo>
                    <a:pt x="956" y="1156"/>
                  </a:lnTo>
                  <a:lnTo>
                    <a:pt x="936" y="1164"/>
                  </a:lnTo>
                  <a:lnTo>
                    <a:pt x="918" y="1170"/>
                  </a:lnTo>
                  <a:lnTo>
                    <a:pt x="898" y="1174"/>
                  </a:lnTo>
                  <a:lnTo>
                    <a:pt x="878" y="1176"/>
                  </a:lnTo>
                  <a:lnTo>
                    <a:pt x="858" y="1176"/>
                  </a:lnTo>
                  <a:lnTo>
                    <a:pt x="840" y="1174"/>
                  </a:lnTo>
                  <a:lnTo>
                    <a:pt x="822" y="1170"/>
                  </a:lnTo>
                  <a:lnTo>
                    <a:pt x="804" y="1164"/>
                  </a:lnTo>
                  <a:lnTo>
                    <a:pt x="788" y="1156"/>
                  </a:lnTo>
                  <a:lnTo>
                    <a:pt x="788" y="1156"/>
                  </a:lnTo>
                  <a:lnTo>
                    <a:pt x="788" y="1162"/>
                  </a:lnTo>
                  <a:lnTo>
                    <a:pt x="790" y="1170"/>
                  </a:lnTo>
                  <a:lnTo>
                    <a:pt x="798" y="1182"/>
                  </a:lnTo>
                  <a:lnTo>
                    <a:pt x="810" y="1194"/>
                  </a:lnTo>
                  <a:lnTo>
                    <a:pt x="822" y="1202"/>
                  </a:lnTo>
                  <a:lnTo>
                    <a:pt x="838" y="1208"/>
                  </a:lnTo>
                  <a:lnTo>
                    <a:pt x="856" y="1214"/>
                  </a:lnTo>
                  <a:lnTo>
                    <a:pt x="874" y="1216"/>
                  </a:lnTo>
                  <a:lnTo>
                    <a:pt x="892" y="1218"/>
                  </a:lnTo>
                  <a:lnTo>
                    <a:pt x="892" y="1218"/>
                  </a:lnTo>
                  <a:lnTo>
                    <a:pt x="854" y="1234"/>
                  </a:lnTo>
                  <a:lnTo>
                    <a:pt x="818" y="1246"/>
                  </a:lnTo>
                  <a:lnTo>
                    <a:pt x="784" y="1254"/>
                  </a:lnTo>
                  <a:lnTo>
                    <a:pt x="754" y="1258"/>
                  </a:lnTo>
                  <a:lnTo>
                    <a:pt x="726" y="1260"/>
                  </a:lnTo>
                  <a:lnTo>
                    <a:pt x="702" y="1258"/>
                  </a:lnTo>
                  <a:lnTo>
                    <a:pt x="678" y="1254"/>
                  </a:lnTo>
                  <a:lnTo>
                    <a:pt x="658" y="1248"/>
                  </a:lnTo>
                  <a:lnTo>
                    <a:pt x="640" y="1238"/>
                  </a:lnTo>
                  <a:lnTo>
                    <a:pt x="624" y="1228"/>
                  </a:lnTo>
                  <a:lnTo>
                    <a:pt x="612" y="1216"/>
                  </a:lnTo>
                  <a:lnTo>
                    <a:pt x="602" y="1202"/>
                  </a:lnTo>
                  <a:lnTo>
                    <a:pt x="594" y="1188"/>
                  </a:lnTo>
                  <a:lnTo>
                    <a:pt x="588" y="1174"/>
                  </a:lnTo>
                  <a:lnTo>
                    <a:pt x="584" y="1158"/>
                  </a:lnTo>
                  <a:lnTo>
                    <a:pt x="584" y="1142"/>
                  </a:lnTo>
                  <a:lnTo>
                    <a:pt x="584" y="1142"/>
                  </a:lnTo>
                  <a:lnTo>
                    <a:pt x="584" y="1120"/>
                  </a:lnTo>
                  <a:lnTo>
                    <a:pt x="588" y="1104"/>
                  </a:lnTo>
                  <a:lnTo>
                    <a:pt x="594" y="1088"/>
                  </a:lnTo>
                  <a:lnTo>
                    <a:pt x="600" y="1072"/>
                  </a:lnTo>
                  <a:lnTo>
                    <a:pt x="600" y="1072"/>
                  </a:lnTo>
                  <a:lnTo>
                    <a:pt x="614" y="1054"/>
                  </a:lnTo>
                  <a:lnTo>
                    <a:pt x="628" y="1040"/>
                  </a:lnTo>
                  <a:lnTo>
                    <a:pt x="642" y="1026"/>
                  </a:lnTo>
                  <a:lnTo>
                    <a:pt x="658" y="1018"/>
                  </a:lnTo>
                  <a:lnTo>
                    <a:pt x="672" y="1012"/>
                  </a:lnTo>
                  <a:lnTo>
                    <a:pt x="680" y="1012"/>
                  </a:lnTo>
                  <a:lnTo>
                    <a:pt x="688" y="1012"/>
                  </a:lnTo>
                  <a:lnTo>
                    <a:pt x="696" y="1014"/>
                  </a:lnTo>
                  <a:lnTo>
                    <a:pt x="704" y="1016"/>
                  </a:lnTo>
                  <a:lnTo>
                    <a:pt x="710" y="1020"/>
                  </a:lnTo>
                  <a:lnTo>
                    <a:pt x="718" y="1026"/>
                  </a:lnTo>
                  <a:lnTo>
                    <a:pt x="718" y="1026"/>
                  </a:lnTo>
                  <a:lnTo>
                    <a:pt x="724" y="1032"/>
                  </a:lnTo>
                  <a:lnTo>
                    <a:pt x="728" y="1040"/>
                  </a:lnTo>
                  <a:lnTo>
                    <a:pt x="732" y="1046"/>
                  </a:lnTo>
                  <a:lnTo>
                    <a:pt x="734" y="1054"/>
                  </a:lnTo>
                  <a:lnTo>
                    <a:pt x="734" y="1060"/>
                  </a:lnTo>
                  <a:lnTo>
                    <a:pt x="734" y="1066"/>
                  </a:lnTo>
                  <a:lnTo>
                    <a:pt x="730" y="1080"/>
                  </a:lnTo>
                  <a:lnTo>
                    <a:pt x="722" y="1090"/>
                  </a:lnTo>
                  <a:lnTo>
                    <a:pt x="710" y="1100"/>
                  </a:lnTo>
                  <a:lnTo>
                    <a:pt x="696" y="1108"/>
                  </a:lnTo>
                  <a:lnTo>
                    <a:pt x="682" y="1114"/>
                  </a:lnTo>
                  <a:lnTo>
                    <a:pt x="682" y="1114"/>
                  </a:lnTo>
                  <a:lnTo>
                    <a:pt x="696" y="1120"/>
                  </a:lnTo>
                  <a:lnTo>
                    <a:pt x="708" y="1124"/>
                  </a:lnTo>
                  <a:lnTo>
                    <a:pt x="722" y="1126"/>
                  </a:lnTo>
                  <a:lnTo>
                    <a:pt x="736" y="1126"/>
                  </a:lnTo>
                  <a:lnTo>
                    <a:pt x="750" y="1126"/>
                  </a:lnTo>
                  <a:lnTo>
                    <a:pt x="762" y="1124"/>
                  </a:lnTo>
                  <a:lnTo>
                    <a:pt x="774" y="1120"/>
                  </a:lnTo>
                  <a:lnTo>
                    <a:pt x="786" y="1114"/>
                  </a:lnTo>
                  <a:lnTo>
                    <a:pt x="796" y="1108"/>
                  </a:lnTo>
                  <a:lnTo>
                    <a:pt x="806" y="1100"/>
                  </a:lnTo>
                  <a:lnTo>
                    <a:pt x="814" y="1092"/>
                  </a:lnTo>
                  <a:lnTo>
                    <a:pt x="822" y="1082"/>
                  </a:lnTo>
                  <a:lnTo>
                    <a:pt x="828" y="1070"/>
                  </a:lnTo>
                  <a:lnTo>
                    <a:pt x="832" y="1058"/>
                  </a:lnTo>
                  <a:lnTo>
                    <a:pt x="834" y="1044"/>
                  </a:lnTo>
                  <a:lnTo>
                    <a:pt x="834" y="1030"/>
                  </a:lnTo>
                  <a:lnTo>
                    <a:pt x="834" y="1030"/>
                  </a:lnTo>
                  <a:lnTo>
                    <a:pt x="830" y="1016"/>
                  </a:lnTo>
                  <a:lnTo>
                    <a:pt x="826" y="1002"/>
                  </a:lnTo>
                  <a:lnTo>
                    <a:pt x="818" y="990"/>
                  </a:lnTo>
                  <a:lnTo>
                    <a:pt x="810" y="978"/>
                  </a:lnTo>
                  <a:lnTo>
                    <a:pt x="798" y="966"/>
                  </a:lnTo>
                  <a:lnTo>
                    <a:pt x="786" y="956"/>
                  </a:lnTo>
                  <a:lnTo>
                    <a:pt x="772" y="948"/>
                  </a:lnTo>
                  <a:lnTo>
                    <a:pt x="756" y="942"/>
                  </a:lnTo>
                  <a:lnTo>
                    <a:pt x="740" y="938"/>
                  </a:lnTo>
                  <a:lnTo>
                    <a:pt x="724" y="936"/>
                  </a:lnTo>
                  <a:lnTo>
                    <a:pt x="706" y="936"/>
                  </a:lnTo>
                  <a:lnTo>
                    <a:pt x="688" y="940"/>
                  </a:lnTo>
                  <a:lnTo>
                    <a:pt x="670" y="946"/>
                  </a:lnTo>
                  <a:lnTo>
                    <a:pt x="652" y="956"/>
                  </a:lnTo>
                  <a:lnTo>
                    <a:pt x="636" y="970"/>
                  </a:lnTo>
                  <a:lnTo>
                    <a:pt x="618" y="988"/>
                  </a:lnTo>
                  <a:lnTo>
                    <a:pt x="618" y="988"/>
                  </a:lnTo>
                  <a:lnTo>
                    <a:pt x="610" y="1000"/>
                  </a:lnTo>
                  <a:lnTo>
                    <a:pt x="610" y="1000"/>
                  </a:lnTo>
                  <a:lnTo>
                    <a:pt x="600" y="1018"/>
                  </a:lnTo>
                  <a:lnTo>
                    <a:pt x="590" y="1036"/>
                  </a:lnTo>
                  <a:lnTo>
                    <a:pt x="582" y="1054"/>
                  </a:lnTo>
                  <a:lnTo>
                    <a:pt x="576" y="1074"/>
                  </a:lnTo>
                  <a:lnTo>
                    <a:pt x="566" y="1110"/>
                  </a:lnTo>
                  <a:lnTo>
                    <a:pt x="562" y="1140"/>
                  </a:lnTo>
                  <a:lnTo>
                    <a:pt x="562" y="1140"/>
                  </a:lnTo>
                  <a:lnTo>
                    <a:pt x="564" y="1174"/>
                  </a:lnTo>
                  <a:lnTo>
                    <a:pt x="566" y="1190"/>
                  </a:lnTo>
                  <a:lnTo>
                    <a:pt x="570" y="1206"/>
                  </a:lnTo>
                  <a:lnTo>
                    <a:pt x="576" y="1222"/>
                  </a:lnTo>
                  <a:lnTo>
                    <a:pt x="582" y="1236"/>
                  </a:lnTo>
                  <a:lnTo>
                    <a:pt x="588" y="1250"/>
                  </a:lnTo>
                  <a:lnTo>
                    <a:pt x="598" y="1262"/>
                  </a:lnTo>
                  <a:lnTo>
                    <a:pt x="606" y="1274"/>
                  </a:lnTo>
                  <a:lnTo>
                    <a:pt x="618" y="1284"/>
                  </a:lnTo>
                  <a:lnTo>
                    <a:pt x="630" y="1292"/>
                  </a:lnTo>
                  <a:lnTo>
                    <a:pt x="642" y="1300"/>
                  </a:lnTo>
                  <a:lnTo>
                    <a:pt x="656" y="1304"/>
                  </a:lnTo>
                  <a:lnTo>
                    <a:pt x="672" y="1308"/>
                  </a:lnTo>
                  <a:lnTo>
                    <a:pt x="688" y="1310"/>
                  </a:lnTo>
                  <a:lnTo>
                    <a:pt x="706" y="1310"/>
                  </a:lnTo>
                  <a:lnTo>
                    <a:pt x="706" y="1310"/>
                  </a:lnTo>
                  <a:lnTo>
                    <a:pt x="680" y="1318"/>
                  </a:lnTo>
                  <a:lnTo>
                    <a:pt x="656" y="1324"/>
                  </a:lnTo>
                  <a:lnTo>
                    <a:pt x="656" y="1324"/>
                  </a:lnTo>
                  <a:lnTo>
                    <a:pt x="630" y="1328"/>
                  </a:lnTo>
                  <a:lnTo>
                    <a:pt x="604" y="1330"/>
                  </a:lnTo>
                  <a:lnTo>
                    <a:pt x="582" y="1328"/>
                  </a:lnTo>
                  <a:lnTo>
                    <a:pt x="560" y="1322"/>
                  </a:lnTo>
                  <a:lnTo>
                    <a:pt x="538" y="1316"/>
                  </a:lnTo>
                  <a:lnTo>
                    <a:pt x="520" y="1306"/>
                  </a:lnTo>
                  <a:lnTo>
                    <a:pt x="504" y="1294"/>
                  </a:lnTo>
                  <a:lnTo>
                    <a:pt x="488" y="1282"/>
                  </a:lnTo>
                  <a:lnTo>
                    <a:pt x="476" y="1268"/>
                  </a:lnTo>
                  <a:lnTo>
                    <a:pt x="466" y="1252"/>
                  </a:lnTo>
                  <a:lnTo>
                    <a:pt x="458" y="1234"/>
                  </a:lnTo>
                  <a:lnTo>
                    <a:pt x="452" y="1218"/>
                  </a:lnTo>
                  <a:lnTo>
                    <a:pt x="450" y="1200"/>
                  </a:lnTo>
                  <a:lnTo>
                    <a:pt x="450" y="1182"/>
                  </a:lnTo>
                  <a:lnTo>
                    <a:pt x="452" y="1164"/>
                  </a:lnTo>
                  <a:lnTo>
                    <a:pt x="458" y="1148"/>
                  </a:lnTo>
                  <a:lnTo>
                    <a:pt x="458" y="1148"/>
                  </a:lnTo>
                  <a:lnTo>
                    <a:pt x="442" y="1156"/>
                  </a:lnTo>
                  <a:lnTo>
                    <a:pt x="426" y="1166"/>
                  </a:lnTo>
                  <a:lnTo>
                    <a:pt x="414" y="1176"/>
                  </a:lnTo>
                  <a:lnTo>
                    <a:pt x="402" y="1188"/>
                  </a:lnTo>
                  <a:lnTo>
                    <a:pt x="392" y="1200"/>
                  </a:lnTo>
                  <a:lnTo>
                    <a:pt x="386" y="1214"/>
                  </a:lnTo>
                  <a:lnTo>
                    <a:pt x="382" y="1230"/>
                  </a:lnTo>
                  <a:lnTo>
                    <a:pt x="382" y="1248"/>
                  </a:lnTo>
                  <a:lnTo>
                    <a:pt x="382" y="1248"/>
                  </a:lnTo>
                  <a:lnTo>
                    <a:pt x="368" y="1230"/>
                  </a:lnTo>
                  <a:lnTo>
                    <a:pt x="364" y="1220"/>
                  </a:lnTo>
                  <a:lnTo>
                    <a:pt x="360" y="1210"/>
                  </a:lnTo>
                  <a:lnTo>
                    <a:pt x="358" y="1198"/>
                  </a:lnTo>
                  <a:lnTo>
                    <a:pt x="358" y="1188"/>
                  </a:lnTo>
                  <a:lnTo>
                    <a:pt x="358" y="1176"/>
                  </a:lnTo>
                  <a:lnTo>
                    <a:pt x="358" y="1164"/>
                  </a:lnTo>
                  <a:lnTo>
                    <a:pt x="362" y="1150"/>
                  </a:lnTo>
                  <a:lnTo>
                    <a:pt x="366" y="1138"/>
                  </a:lnTo>
                  <a:lnTo>
                    <a:pt x="378" y="1110"/>
                  </a:lnTo>
                  <a:lnTo>
                    <a:pt x="396" y="1082"/>
                  </a:lnTo>
                  <a:lnTo>
                    <a:pt x="420" y="1052"/>
                  </a:lnTo>
                  <a:lnTo>
                    <a:pt x="420" y="1052"/>
                  </a:lnTo>
                  <a:lnTo>
                    <a:pt x="394" y="1060"/>
                  </a:lnTo>
                  <a:lnTo>
                    <a:pt x="370" y="1072"/>
                  </a:lnTo>
                  <a:lnTo>
                    <a:pt x="350" y="1084"/>
                  </a:lnTo>
                  <a:lnTo>
                    <a:pt x="334" y="1096"/>
                  </a:lnTo>
                  <a:lnTo>
                    <a:pt x="320" y="1110"/>
                  </a:lnTo>
                  <a:lnTo>
                    <a:pt x="308" y="1126"/>
                  </a:lnTo>
                  <a:lnTo>
                    <a:pt x="298" y="1142"/>
                  </a:lnTo>
                  <a:lnTo>
                    <a:pt x="290" y="1158"/>
                  </a:lnTo>
                  <a:lnTo>
                    <a:pt x="284" y="1174"/>
                  </a:lnTo>
                  <a:lnTo>
                    <a:pt x="282" y="1190"/>
                  </a:lnTo>
                  <a:lnTo>
                    <a:pt x="278" y="1206"/>
                  </a:lnTo>
                  <a:lnTo>
                    <a:pt x="278" y="1220"/>
                  </a:lnTo>
                  <a:lnTo>
                    <a:pt x="280" y="1246"/>
                  </a:lnTo>
                  <a:lnTo>
                    <a:pt x="284" y="1264"/>
                  </a:lnTo>
                  <a:lnTo>
                    <a:pt x="284" y="1264"/>
                  </a:lnTo>
                  <a:lnTo>
                    <a:pt x="278" y="1260"/>
                  </a:lnTo>
                  <a:lnTo>
                    <a:pt x="274" y="1254"/>
                  </a:lnTo>
                  <a:lnTo>
                    <a:pt x="264" y="1240"/>
                  </a:lnTo>
                  <a:lnTo>
                    <a:pt x="252" y="1224"/>
                  </a:lnTo>
                  <a:lnTo>
                    <a:pt x="244" y="1218"/>
                  </a:lnTo>
                  <a:lnTo>
                    <a:pt x="232" y="1210"/>
                  </a:lnTo>
                  <a:lnTo>
                    <a:pt x="232" y="1210"/>
                  </a:lnTo>
                  <a:lnTo>
                    <a:pt x="232" y="1228"/>
                  </a:lnTo>
                  <a:lnTo>
                    <a:pt x="234" y="1246"/>
                  </a:lnTo>
                  <a:lnTo>
                    <a:pt x="236" y="1262"/>
                  </a:lnTo>
                  <a:lnTo>
                    <a:pt x="240" y="1280"/>
                  </a:lnTo>
                  <a:lnTo>
                    <a:pt x="246" y="1296"/>
                  </a:lnTo>
                  <a:lnTo>
                    <a:pt x="254" y="1310"/>
                  </a:lnTo>
                  <a:lnTo>
                    <a:pt x="262" y="1326"/>
                  </a:lnTo>
                  <a:lnTo>
                    <a:pt x="272" y="1340"/>
                  </a:lnTo>
                  <a:lnTo>
                    <a:pt x="284" y="1352"/>
                  </a:lnTo>
                  <a:lnTo>
                    <a:pt x="296" y="1366"/>
                  </a:lnTo>
                  <a:lnTo>
                    <a:pt x="310" y="1378"/>
                  </a:lnTo>
                  <a:lnTo>
                    <a:pt x="326" y="1388"/>
                  </a:lnTo>
                  <a:lnTo>
                    <a:pt x="344" y="1398"/>
                  </a:lnTo>
                  <a:lnTo>
                    <a:pt x="362" y="1408"/>
                  </a:lnTo>
                  <a:lnTo>
                    <a:pt x="382" y="1418"/>
                  </a:lnTo>
                  <a:lnTo>
                    <a:pt x="402" y="1424"/>
                  </a:lnTo>
                  <a:lnTo>
                    <a:pt x="402" y="1424"/>
                  </a:lnTo>
                  <a:lnTo>
                    <a:pt x="430" y="1428"/>
                  </a:lnTo>
                  <a:lnTo>
                    <a:pt x="458" y="1430"/>
                  </a:lnTo>
                  <a:lnTo>
                    <a:pt x="486" y="1430"/>
                  </a:lnTo>
                  <a:lnTo>
                    <a:pt x="510" y="1428"/>
                  </a:lnTo>
                  <a:lnTo>
                    <a:pt x="510" y="1428"/>
                  </a:lnTo>
                  <a:lnTo>
                    <a:pt x="534" y="1428"/>
                  </a:lnTo>
                  <a:lnTo>
                    <a:pt x="558" y="1426"/>
                  </a:lnTo>
                  <a:lnTo>
                    <a:pt x="584" y="1420"/>
                  </a:lnTo>
                  <a:lnTo>
                    <a:pt x="610" y="1414"/>
                  </a:lnTo>
                  <a:lnTo>
                    <a:pt x="668" y="1394"/>
                  </a:lnTo>
                  <a:lnTo>
                    <a:pt x="726" y="1370"/>
                  </a:lnTo>
                  <a:lnTo>
                    <a:pt x="726" y="1370"/>
                  </a:lnTo>
                  <a:lnTo>
                    <a:pt x="788" y="1344"/>
                  </a:lnTo>
                  <a:lnTo>
                    <a:pt x="848" y="1322"/>
                  </a:lnTo>
                  <a:lnTo>
                    <a:pt x="848" y="1322"/>
                  </a:lnTo>
                  <a:lnTo>
                    <a:pt x="832" y="1332"/>
                  </a:lnTo>
                  <a:lnTo>
                    <a:pt x="814" y="1346"/>
                  </a:lnTo>
                  <a:lnTo>
                    <a:pt x="780" y="1376"/>
                  </a:lnTo>
                  <a:lnTo>
                    <a:pt x="744" y="1414"/>
                  </a:lnTo>
                  <a:lnTo>
                    <a:pt x="710" y="1454"/>
                  </a:lnTo>
                  <a:lnTo>
                    <a:pt x="678" y="1496"/>
                  </a:lnTo>
                  <a:lnTo>
                    <a:pt x="648" y="1534"/>
                  </a:lnTo>
                  <a:lnTo>
                    <a:pt x="604" y="1598"/>
                  </a:lnTo>
                  <a:lnTo>
                    <a:pt x="604" y="1598"/>
                  </a:lnTo>
                  <a:lnTo>
                    <a:pt x="596" y="1610"/>
                  </a:lnTo>
                  <a:lnTo>
                    <a:pt x="590" y="1624"/>
                  </a:lnTo>
                  <a:lnTo>
                    <a:pt x="576" y="1660"/>
                  </a:lnTo>
                  <a:lnTo>
                    <a:pt x="566" y="1698"/>
                  </a:lnTo>
                  <a:lnTo>
                    <a:pt x="558" y="1726"/>
                  </a:lnTo>
                  <a:lnTo>
                    <a:pt x="558" y="1726"/>
                  </a:lnTo>
                  <a:lnTo>
                    <a:pt x="546" y="1810"/>
                  </a:lnTo>
                  <a:lnTo>
                    <a:pt x="540" y="1886"/>
                  </a:lnTo>
                  <a:lnTo>
                    <a:pt x="538" y="1956"/>
                  </a:lnTo>
                  <a:lnTo>
                    <a:pt x="540" y="2020"/>
                  </a:lnTo>
                  <a:lnTo>
                    <a:pt x="544" y="2050"/>
                  </a:lnTo>
                  <a:lnTo>
                    <a:pt x="548" y="2078"/>
                  </a:lnTo>
                  <a:lnTo>
                    <a:pt x="554" y="2104"/>
                  </a:lnTo>
                  <a:lnTo>
                    <a:pt x="560" y="2130"/>
                  </a:lnTo>
                  <a:lnTo>
                    <a:pt x="566" y="2154"/>
                  </a:lnTo>
                  <a:lnTo>
                    <a:pt x="574" y="2176"/>
                  </a:lnTo>
                  <a:lnTo>
                    <a:pt x="584" y="2196"/>
                  </a:lnTo>
                  <a:lnTo>
                    <a:pt x="592" y="2216"/>
                  </a:lnTo>
                  <a:lnTo>
                    <a:pt x="604" y="2234"/>
                  </a:lnTo>
                  <a:lnTo>
                    <a:pt x="614" y="2252"/>
                  </a:lnTo>
                  <a:lnTo>
                    <a:pt x="626" y="2266"/>
                  </a:lnTo>
                  <a:lnTo>
                    <a:pt x="640" y="2282"/>
                  </a:lnTo>
                  <a:lnTo>
                    <a:pt x="652" y="2294"/>
                  </a:lnTo>
                  <a:lnTo>
                    <a:pt x="668" y="2306"/>
                  </a:lnTo>
                  <a:lnTo>
                    <a:pt x="682" y="2316"/>
                  </a:lnTo>
                  <a:lnTo>
                    <a:pt x="698" y="2326"/>
                  </a:lnTo>
                  <a:lnTo>
                    <a:pt x="712" y="2334"/>
                  </a:lnTo>
                  <a:lnTo>
                    <a:pt x="730" y="2342"/>
                  </a:lnTo>
                  <a:lnTo>
                    <a:pt x="764" y="2354"/>
                  </a:lnTo>
                  <a:lnTo>
                    <a:pt x="800" y="2362"/>
                  </a:lnTo>
                  <a:lnTo>
                    <a:pt x="836" y="2364"/>
                  </a:lnTo>
                  <a:lnTo>
                    <a:pt x="836" y="2364"/>
                  </a:lnTo>
                  <a:lnTo>
                    <a:pt x="820" y="2374"/>
                  </a:lnTo>
                  <a:lnTo>
                    <a:pt x="806" y="2386"/>
                  </a:lnTo>
                  <a:lnTo>
                    <a:pt x="794" y="2396"/>
                  </a:lnTo>
                  <a:lnTo>
                    <a:pt x="784" y="2408"/>
                  </a:lnTo>
                  <a:lnTo>
                    <a:pt x="776" y="2420"/>
                  </a:lnTo>
                  <a:lnTo>
                    <a:pt x="770" y="2434"/>
                  </a:lnTo>
                  <a:lnTo>
                    <a:pt x="766" y="2446"/>
                  </a:lnTo>
                  <a:lnTo>
                    <a:pt x="762" y="2460"/>
                  </a:lnTo>
                  <a:lnTo>
                    <a:pt x="762" y="2472"/>
                  </a:lnTo>
                  <a:lnTo>
                    <a:pt x="762" y="2484"/>
                  </a:lnTo>
                  <a:lnTo>
                    <a:pt x="764" y="2498"/>
                  </a:lnTo>
                  <a:lnTo>
                    <a:pt x="766" y="2510"/>
                  </a:lnTo>
                  <a:lnTo>
                    <a:pt x="776" y="2532"/>
                  </a:lnTo>
                  <a:lnTo>
                    <a:pt x="788" y="2554"/>
                  </a:lnTo>
                  <a:lnTo>
                    <a:pt x="804" y="2570"/>
                  </a:lnTo>
                  <a:lnTo>
                    <a:pt x="822" y="2584"/>
                  </a:lnTo>
                  <a:lnTo>
                    <a:pt x="832" y="2588"/>
                  </a:lnTo>
                  <a:lnTo>
                    <a:pt x="842" y="2592"/>
                  </a:lnTo>
                  <a:lnTo>
                    <a:pt x="852" y="2594"/>
                  </a:lnTo>
                  <a:lnTo>
                    <a:pt x="862" y="2596"/>
                  </a:lnTo>
                  <a:lnTo>
                    <a:pt x="872" y="2594"/>
                  </a:lnTo>
                  <a:lnTo>
                    <a:pt x="882" y="2592"/>
                  </a:lnTo>
                  <a:lnTo>
                    <a:pt x="892" y="2588"/>
                  </a:lnTo>
                  <a:lnTo>
                    <a:pt x="900" y="2582"/>
                  </a:lnTo>
                  <a:lnTo>
                    <a:pt x="910" y="2574"/>
                  </a:lnTo>
                  <a:lnTo>
                    <a:pt x="918" y="2564"/>
                  </a:lnTo>
                  <a:lnTo>
                    <a:pt x="926" y="2550"/>
                  </a:lnTo>
                  <a:lnTo>
                    <a:pt x="932" y="2536"/>
                  </a:lnTo>
                  <a:lnTo>
                    <a:pt x="932" y="2536"/>
                  </a:lnTo>
                  <a:lnTo>
                    <a:pt x="922" y="2548"/>
                  </a:lnTo>
                  <a:lnTo>
                    <a:pt x="912" y="2556"/>
                  </a:lnTo>
                  <a:lnTo>
                    <a:pt x="902" y="2562"/>
                  </a:lnTo>
                  <a:lnTo>
                    <a:pt x="892" y="2564"/>
                  </a:lnTo>
                  <a:lnTo>
                    <a:pt x="884" y="2562"/>
                  </a:lnTo>
                  <a:lnTo>
                    <a:pt x="874" y="2560"/>
                  </a:lnTo>
                  <a:lnTo>
                    <a:pt x="866" y="2554"/>
                  </a:lnTo>
                  <a:lnTo>
                    <a:pt x="860" y="2546"/>
                  </a:lnTo>
                  <a:lnTo>
                    <a:pt x="854" y="2538"/>
                  </a:lnTo>
                  <a:lnTo>
                    <a:pt x="850" y="2528"/>
                  </a:lnTo>
                  <a:lnTo>
                    <a:pt x="846" y="2516"/>
                  </a:lnTo>
                  <a:lnTo>
                    <a:pt x="844" y="2504"/>
                  </a:lnTo>
                  <a:lnTo>
                    <a:pt x="844" y="2492"/>
                  </a:lnTo>
                  <a:lnTo>
                    <a:pt x="846" y="2478"/>
                  </a:lnTo>
                  <a:lnTo>
                    <a:pt x="850" y="2466"/>
                  </a:lnTo>
                  <a:lnTo>
                    <a:pt x="858" y="2452"/>
                  </a:lnTo>
                  <a:lnTo>
                    <a:pt x="858" y="2452"/>
                  </a:lnTo>
                  <a:lnTo>
                    <a:pt x="864" y="2464"/>
                  </a:lnTo>
                  <a:lnTo>
                    <a:pt x="870" y="2472"/>
                  </a:lnTo>
                  <a:lnTo>
                    <a:pt x="876" y="2480"/>
                  </a:lnTo>
                  <a:lnTo>
                    <a:pt x="884" y="2486"/>
                  </a:lnTo>
                  <a:lnTo>
                    <a:pt x="892" y="2490"/>
                  </a:lnTo>
                  <a:lnTo>
                    <a:pt x="900" y="2492"/>
                  </a:lnTo>
                  <a:lnTo>
                    <a:pt x="910" y="2492"/>
                  </a:lnTo>
                  <a:lnTo>
                    <a:pt x="920" y="2492"/>
                  </a:lnTo>
                  <a:lnTo>
                    <a:pt x="920" y="2492"/>
                  </a:lnTo>
                  <a:lnTo>
                    <a:pt x="912" y="2478"/>
                  </a:lnTo>
                  <a:lnTo>
                    <a:pt x="906" y="2468"/>
                  </a:lnTo>
                  <a:lnTo>
                    <a:pt x="904" y="2458"/>
                  </a:lnTo>
                  <a:lnTo>
                    <a:pt x="904" y="2448"/>
                  </a:lnTo>
                  <a:lnTo>
                    <a:pt x="904" y="2438"/>
                  </a:lnTo>
                  <a:lnTo>
                    <a:pt x="908" y="2430"/>
                  </a:lnTo>
                  <a:lnTo>
                    <a:pt x="912" y="2424"/>
                  </a:lnTo>
                  <a:lnTo>
                    <a:pt x="916" y="2418"/>
                  </a:lnTo>
                  <a:lnTo>
                    <a:pt x="930" y="2408"/>
                  </a:lnTo>
                  <a:lnTo>
                    <a:pt x="944" y="2402"/>
                  </a:lnTo>
                  <a:lnTo>
                    <a:pt x="958" y="2398"/>
                  </a:lnTo>
                  <a:lnTo>
                    <a:pt x="970" y="2398"/>
                  </a:lnTo>
                  <a:lnTo>
                    <a:pt x="970" y="2398"/>
                  </a:lnTo>
                  <a:lnTo>
                    <a:pt x="990" y="2404"/>
                  </a:lnTo>
                  <a:lnTo>
                    <a:pt x="1004" y="2414"/>
                  </a:lnTo>
                  <a:lnTo>
                    <a:pt x="1014" y="2424"/>
                  </a:lnTo>
                  <a:lnTo>
                    <a:pt x="1020" y="2436"/>
                  </a:lnTo>
                  <a:lnTo>
                    <a:pt x="1022" y="2448"/>
                  </a:lnTo>
                  <a:lnTo>
                    <a:pt x="1022" y="2460"/>
                  </a:lnTo>
                  <a:lnTo>
                    <a:pt x="1016" y="2470"/>
                  </a:lnTo>
                  <a:lnTo>
                    <a:pt x="1008" y="2478"/>
                  </a:lnTo>
                  <a:lnTo>
                    <a:pt x="1008" y="2478"/>
                  </a:lnTo>
                  <a:lnTo>
                    <a:pt x="1036" y="2480"/>
                  </a:lnTo>
                  <a:lnTo>
                    <a:pt x="1058" y="2484"/>
                  </a:lnTo>
                  <a:lnTo>
                    <a:pt x="1078" y="2492"/>
                  </a:lnTo>
                  <a:lnTo>
                    <a:pt x="1092" y="2502"/>
                  </a:lnTo>
                  <a:lnTo>
                    <a:pt x="1104" y="2514"/>
                  </a:lnTo>
                  <a:lnTo>
                    <a:pt x="1110" y="2530"/>
                  </a:lnTo>
                  <a:lnTo>
                    <a:pt x="1116" y="2544"/>
                  </a:lnTo>
                  <a:lnTo>
                    <a:pt x="1116" y="2562"/>
                  </a:lnTo>
                  <a:lnTo>
                    <a:pt x="1116" y="2578"/>
                  </a:lnTo>
                  <a:lnTo>
                    <a:pt x="1112" y="2594"/>
                  </a:lnTo>
                  <a:lnTo>
                    <a:pt x="1106" y="2610"/>
                  </a:lnTo>
                  <a:lnTo>
                    <a:pt x="1098" y="2624"/>
                  </a:lnTo>
                  <a:lnTo>
                    <a:pt x="1088" y="2636"/>
                  </a:lnTo>
                  <a:lnTo>
                    <a:pt x="1078" y="2646"/>
                  </a:lnTo>
                  <a:lnTo>
                    <a:pt x="1064" y="2654"/>
                  </a:lnTo>
                  <a:lnTo>
                    <a:pt x="1052" y="2660"/>
                  </a:lnTo>
                  <a:lnTo>
                    <a:pt x="1052" y="2660"/>
                  </a:lnTo>
                  <a:lnTo>
                    <a:pt x="1056" y="2666"/>
                  </a:lnTo>
                  <a:lnTo>
                    <a:pt x="1060" y="2672"/>
                  </a:lnTo>
                  <a:lnTo>
                    <a:pt x="1066" y="2678"/>
                  </a:lnTo>
                  <a:lnTo>
                    <a:pt x="1074" y="2682"/>
                  </a:lnTo>
                  <a:lnTo>
                    <a:pt x="1086" y="2686"/>
                  </a:lnTo>
                  <a:lnTo>
                    <a:pt x="1100" y="2686"/>
                  </a:lnTo>
                  <a:lnTo>
                    <a:pt x="1118" y="2682"/>
                  </a:lnTo>
                  <a:lnTo>
                    <a:pt x="1118" y="2682"/>
                  </a:lnTo>
                  <a:lnTo>
                    <a:pt x="1114" y="2698"/>
                  </a:lnTo>
                  <a:lnTo>
                    <a:pt x="1108" y="2712"/>
                  </a:lnTo>
                  <a:lnTo>
                    <a:pt x="1098" y="2728"/>
                  </a:lnTo>
                  <a:lnTo>
                    <a:pt x="1086" y="2740"/>
                  </a:lnTo>
                  <a:lnTo>
                    <a:pt x="1072" y="2750"/>
                  </a:lnTo>
                  <a:lnTo>
                    <a:pt x="1056" y="2758"/>
                  </a:lnTo>
                  <a:lnTo>
                    <a:pt x="1038" y="2762"/>
                  </a:lnTo>
                  <a:lnTo>
                    <a:pt x="1022" y="2764"/>
                  </a:lnTo>
                  <a:lnTo>
                    <a:pt x="1022" y="2764"/>
                  </a:lnTo>
                  <a:lnTo>
                    <a:pt x="1004" y="2758"/>
                  </a:lnTo>
                  <a:lnTo>
                    <a:pt x="998" y="2756"/>
                  </a:lnTo>
                  <a:lnTo>
                    <a:pt x="990" y="2750"/>
                  </a:lnTo>
                  <a:lnTo>
                    <a:pt x="986" y="2746"/>
                  </a:lnTo>
                  <a:lnTo>
                    <a:pt x="980" y="2738"/>
                  </a:lnTo>
                  <a:lnTo>
                    <a:pt x="978" y="2732"/>
                  </a:lnTo>
                  <a:lnTo>
                    <a:pt x="976" y="2724"/>
                  </a:lnTo>
                  <a:lnTo>
                    <a:pt x="974" y="2716"/>
                  </a:lnTo>
                  <a:lnTo>
                    <a:pt x="976" y="2708"/>
                  </a:lnTo>
                  <a:lnTo>
                    <a:pt x="978" y="2698"/>
                  </a:lnTo>
                  <a:lnTo>
                    <a:pt x="984" y="2688"/>
                  </a:lnTo>
                  <a:lnTo>
                    <a:pt x="990" y="2680"/>
                  </a:lnTo>
                  <a:lnTo>
                    <a:pt x="1000" y="2670"/>
                  </a:lnTo>
                  <a:lnTo>
                    <a:pt x="1010" y="2660"/>
                  </a:lnTo>
                  <a:lnTo>
                    <a:pt x="1024" y="2650"/>
                  </a:lnTo>
                  <a:lnTo>
                    <a:pt x="1024" y="2650"/>
                  </a:lnTo>
                  <a:lnTo>
                    <a:pt x="996" y="2642"/>
                  </a:lnTo>
                  <a:lnTo>
                    <a:pt x="972" y="2638"/>
                  </a:lnTo>
                  <a:lnTo>
                    <a:pt x="950" y="2638"/>
                  </a:lnTo>
                  <a:lnTo>
                    <a:pt x="932" y="2640"/>
                  </a:lnTo>
                  <a:lnTo>
                    <a:pt x="916" y="2646"/>
                  </a:lnTo>
                  <a:lnTo>
                    <a:pt x="904" y="2652"/>
                  </a:lnTo>
                  <a:lnTo>
                    <a:pt x="894" y="2662"/>
                  </a:lnTo>
                  <a:lnTo>
                    <a:pt x="888" y="2674"/>
                  </a:lnTo>
                  <a:lnTo>
                    <a:pt x="884" y="2686"/>
                  </a:lnTo>
                  <a:lnTo>
                    <a:pt x="882" y="2700"/>
                  </a:lnTo>
                  <a:lnTo>
                    <a:pt x="882" y="2714"/>
                  </a:lnTo>
                  <a:lnTo>
                    <a:pt x="884" y="2728"/>
                  </a:lnTo>
                  <a:lnTo>
                    <a:pt x="890" y="2742"/>
                  </a:lnTo>
                  <a:lnTo>
                    <a:pt x="896" y="2754"/>
                  </a:lnTo>
                  <a:lnTo>
                    <a:pt x="904" y="2768"/>
                  </a:lnTo>
                  <a:lnTo>
                    <a:pt x="914" y="2778"/>
                  </a:lnTo>
                  <a:lnTo>
                    <a:pt x="914" y="2778"/>
                  </a:lnTo>
                  <a:lnTo>
                    <a:pt x="924" y="2786"/>
                  </a:lnTo>
                  <a:lnTo>
                    <a:pt x="932" y="2792"/>
                  </a:lnTo>
                  <a:lnTo>
                    <a:pt x="944" y="2796"/>
                  </a:lnTo>
                  <a:lnTo>
                    <a:pt x="954" y="2802"/>
                  </a:lnTo>
                  <a:lnTo>
                    <a:pt x="980" y="2806"/>
                  </a:lnTo>
                  <a:lnTo>
                    <a:pt x="1008" y="2808"/>
                  </a:lnTo>
                  <a:lnTo>
                    <a:pt x="1022" y="2806"/>
                  </a:lnTo>
                  <a:lnTo>
                    <a:pt x="1036" y="2804"/>
                  </a:lnTo>
                  <a:lnTo>
                    <a:pt x="1050" y="2800"/>
                  </a:lnTo>
                  <a:lnTo>
                    <a:pt x="1064" y="2796"/>
                  </a:lnTo>
                  <a:lnTo>
                    <a:pt x="1078" y="2790"/>
                  </a:lnTo>
                  <a:lnTo>
                    <a:pt x="1090" y="2782"/>
                  </a:lnTo>
                  <a:lnTo>
                    <a:pt x="1104" y="2772"/>
                  </a:lnTo>
                  <a:lnTo>
                    <a:pt x="1116" y="2762"/>
                  </a:lnTo>
                  <a:lnTo>
                    <a:pt x="1116" y="2762"/>
                  </a:lnTo>
                  <a:lnTo>
                    <a:pt x="1116" y="2774"/>
                  </a:lnTo>
                  <a:lnTo>
                    <a:pt x="1112" y="2784"/>
                  </a:lnTo>
                  <a:lnTo>
                    <a:pt x="1106" y="2792"/>
                  </a:lnTo>
                  <a:lnTo>
                    <a:pt x="1096" y="2800"/>
                  </a:lnTo>
                  <a:lnTo>
                    <a:pt x="1066" y="2816"/>
                  </a:lnTo>
                  <a:lnTo>
                    <a:pt x="1048" y="2826"/>
                  </a:lnTo>
                  <a:lnTo>
                    <a:pt x="1026" y="2842"/>
                  </a:lnTo>
                  <a:lnTo>
                    <a:pt x="1026" y="2842"/>
                  </a:lnTo>
                  <a:lnTo>
                    <a:pt x="1012" y="2854"/>
                  </a:lnTo>
                  <a:lnTo>
                    <a:pt x="1000" y="2868"/>
                  </a:lnTo>
                  <a:lnTo>
                    <a:pt x="994" y="2884"/>
                  </a:lnTo>
                  <a:lnTo>
                    <a:pt x="990" y="2900"/>
                  </a:lnTo>
                  <a:lnTo>
                    <a:pt x="988" y="2918"/>
                  </a:lnTo>
                  <a:lnTo>
                    <a:pt x="992" y="2934"/>
                  </a:lnTo>
                  <a:lnTo>
                    <a:pt x="996" y="2952"/>
                  </a:lnTo>
                  <a:lnTo>
                    <a:pt x="1002" y="2968"/>
                  </a:lnTo>
                  <a:lnTo>
                    <a:pt x="1012" y="2984"/>
                  </a:lnTo>
                  <a:lnTo>
                    <a:pt x="1022" y="2998"/>
                  </a:lnTo>
                  <a:lnTo>
                    <a:pt x="1034" y="3010"/>
                  </a:lnTo>
                  <a:lnTo>
                    <a:pt x="1046" y="3020"/>
                  </a:lnTo>
                  <a:lnTo>
                    <a:pt x="1060" y="3030"/>
                  </a:lnTo>
                  <a:lnTo>
                    <a:pt x="1074" y="3036"/>
                  </a:lnTo>
                  <a:lnTo>
                    <a:pt x="1088" y="3038"/>
                  </a:lnTo>
                  <a:lnTo>
                    <a:pt x="1100" y="3038"/>
                  </a:lnTo>
                  <a:lnTo>
                    <a:pt x="1100" y="3038"/>
                  </a:lnTo>
                  <a:lnTo>
                    <a:pt x="1114" y="3034"/>
                  </a:lnTo>
                  <a:lnTo>
                    <a:pt x="1128" y="3030"/>
                  </a:lnTo>
                  <a:lnTo>
                    <a:pt x="1140" y="3024"/>
                  </a:lnTo>
                  <a:lnTo>
                    <a:pt x="1150" y="3016"/>
                  </a:lnTo>
                  <a:lnTo>
                    <a:pt x="1158" y="3006"/>
                  </a:lnTo>
                  <a:lnTo>
                    <a:pt x="1164" y="2996"/>
                  </a:lnTo>
                  <a:lnTo>
                    <a:pt x="1170" y="2986"/>
                  </a:lnTo>
                  <a:lnTo>
                    <a:pt x="1174" y="2974"/>
                  </a:lnTo>
                  <a:lnTo>
                    <a:pt x="1176" y="2962"/>
                  </a:lnTo>
                  <a:lnTo>
                    <a:pt x="1178" y="2948"/>
                  </a:lnTo>
                  <a:lnTo>
                    <a:pt x="1178" y="2936"/>
                  </a:lnTo>
                  <a:lnTo>
                    <a:pt x="1176" y="2922"/>
                  </a:lnTo>
                  <a:lnTo>
                    <a:pt x="1172" y="2910"/>
                  </a:lnTo>
                  <a:lnTo>
                    <a:pt x="1166" y="2896"/>
                  </a:lnTo>
                  <a:lnTo>
                    <a:pt x="1160" y="2884"/>
                  </a:lnTo>
                  <a:lnTo>
                    <a:pt x="1150" y="2872"/>
                  </a:lnTo>
                  <a:lnTo>
                    <a:pt x="1150" y="2872"/>
                  </a:lnTo>
                  <a:lnTo>
                    <a:pt x="1150" y="2888"/>
                  </a:lnTo>
                  <a:lnTo>
                    <a:pt x="1144" y="2902"/>
                  </a:lnTo>
                  <a:lnTo>
                    <a:pt x="1138" y="2916"/>
                  </a:lnTo>
                  <a:lnTo>
                    <a:pt x="1128" y="2926"/>
                  </a:lnTo>
                  <a:lnTo>
                    <a:pt x="1116" y="2932"/>
                  </a:lnTo>
                  <a:lnTo>
                    <a:pt x="1110" y="2934"/>
                  </a:lnTo>
                  <a:lnTo>
                    <a:pt x="1104" y="2936"/>
                  </a:lnTo>
                  <a:lnTo>
                    <a:pt x="1096" y="2936"/>
                  </a:lnTo>
                  <a:lnTo>
                    <a:pt x="1088" y="2934"/>
                  </a:lnTo>
                  <a:lnTo>
                    <a:pt x="1082" y="2930"/>
                  </a:lnTo>
                  <a:lnTo>
                    <a:pt x="1074" y="2926"/>
                  </a:lnTo>
                  <a:lnTo>
                    <a:pt x="1074" y="2926"/>
                  </a:lnTo>
                  <a:lnTo>
                    <a:pt x="1066" y="2920"/>
                  </a:lnTo>
                  <a:lnTo>
                    <a:pt x="1060" y="2914"/>
                  </a:lnTo>
                  <a:lnTo>
                    <a:pt x="1056" y="2908"/>
                  </a:lnTo>
                  <a:lnTo>
                    <a:pt x="1054" y="2900"/>
                  </a:lnTo>
                  <a:lnTo>
                    <a:pt x="1054" y="2892"/>
                  </a:lnTo>
                  <a:lnTo>
                    <a:pt x="1054" y="2886"/>
                  </a:lnTo>
                  <a:lnTo>
                    <a:pt x="1058" y="2870"/>
                  </a:lnTo>
                  <a:lnTo>
                    <a:pt x="1068" y="2858"/>
                  </a:lnTo>
                  <a:lnTo>
                    <a:pt x="1080" y="2846"/>
                  </a:lnTo>
                  <a:lnTo>
                    <a:pt x="1094" y="2836"/>
                  </a:lnTo>
                  <a:lnTo>
                    <a:pt x="1110" y="2832"/>
                  </a:lnTo>
                  <a:lnTo>
                    <a:pt x="1110" y="2832"/>
                  </a:lnTo>
                  <a:lnTo>
                    <a:pt x="1122" y="2828"/>
                  </a:lnTo>
                  <a:lnTo>
                    <a:pt x="1136" y="2824"/>
                  </a:lnTo>
                  <a:lnTo>
                    <a:pt x="1148" y="2818"/>
                  </a:lnTo>
                  <a:lnTo>
                    <a:pt x="1160" y="2810"/>
                  </a:lnTo>
                  <a:lnTo>
                    <a:pt x="1168" y="2800"/>
                  </a:lnTo>
                  <a:lnTo>
                    <a:pt x="1170" y="2794"/>
                  </a:lnTo>
                  <a:lnTo>
                    <a:pt x="1170" y="2788"/>
                  </a:lnTo>
                  <a:lnTo>
                    <a:pt x="1170" y="2782"/>
                  </a:lnTo>
                  <a:lnTo>
                    <a:pt x="1166" y="2774"/>
                  </a:lnTo>
                  <a:lnTo>
                    <a:pt x="1162" y="2766"/>
                  </a:lnTo>
                  <a:lnTo>
                    <a:pt x="1156" y="2758"/>
                  </a:lnTo>
                  <a:lnTo>
                    <a:pt x="1156" y="2758"/>
                  </a:lnTo>
                  <a:lnTo>
                    <a:pt x="1166" y="2732"/>
                  </a:lnTo>
                  <a:lnTo>
                    <a:pt x="1174" y="2706"/>
                  </a:lnTo>
                  <a:lnTo>
                    <a:pt x="1178" y="2678"/>
                  </a:lnTo>
                  <a:lnTo>
                    <a:pt x="1182" y="2648"/>
                  </a:lnTo>
                  <a:lnTo>
                    <a:pt x="1180" y="2618"/>
                  </a:lnTo>
                  <a:lnTo>
                    <a:pt x="1178" y="2588"/>
                  </a:lnTo>
                  <a:lnTo>
                    <a:pt x="1170" y="2558"/>
                  </a:lnTo>
                  <a:lnTo>
                    <a:pt x="1160" y="2528"/>
                  </a:lnTo>
                  <a:lnTo>
                    <a:pt x="1146" y="2498"/>
                  </a:lnTo>
                  <a:lnTo>
                    <a:pt x="1130" y="2470"/>
                  </a:lnTo>
                  <a:lnTo>
                    <a:pt x="1108" y="2444"/>
                  </a:lnTo>
                  <a:lnTo>
                    <a:pt x="1084" y="2420"/>
                  </a:lnTo>
                  <a:lnTo>
                    <a:pt x="1054" y="2396"/>
                  </a:lnTo>
                  <a:lnTo>
                    <a:pt x="1020" y="2378"/>
                  </a:lnTo>
                  <a:lnTo>
                    <a:pt x="984" y="2360"/>
                  </a:lnTo>
                  <a:lnTo>
                    <a:pt x="942" y="2346"/>
                  </a:lnTo>
                  <a:lnTo>
                    <a:pt x="942" y="2346"/>
                  </a:lnTo>
                  <a:lnTo>
                    <a:pt x="976" y="2336"/>
                  </a:lnTo>
                  <a:lnTo>
                    <a:pt x="1010" y="2322"/>
                  </a:lnTo>
                  <a:lnTo>
                    <a:pt x="1038" y="2304"/>
                  </a:lnTo>
                  <a:lnTo>
                    <a:pt x="1064" y="2284"/>
                  </a:lnTo>
                  <a:lnTo>
                    <a:pt x="1086" y="2262"/>
                  </a:lnTo>
                  <a:lnTo>
                    <a:pt x="1106" y="2238"/>
                  </a:lnTo>
                  <a:lnTo>
                    <a:pt x="1122" y="2212"/>
                  </a:lnTo>
                  <a:lnTo>
                    <a:pt x="1134" y="2184"/>
                  </a:lnTo>
                  <a:lnTo>
                    <a:pt x="1146" y="2156"/>
                  </a:lnTo>
                  <a:lnTo>
                    <a:pt x="1152" y="2128"/>
                  </a:lnTo>
                  <a:lnTo>
                    <a:pt x="1158" y="2098"/>
                  </a:lnTo>
                  <a:lnTo>
                    <a:pt x="1160" y="2070"/>
                  </a:lnTo>
                  <a:lnTo>
                    <a:pt x="1160" y="2042"/>
                  </a:lnTo>
                  <a:lnTo>
                    <a:pt x="1156" y="2016"/>
                  </a:lnTo>
                  <a:lnTo>
                    <a:pt x="1150" y="1990"/>
                  </a:lnTo>
                  <a:lnTo>
                    <a:pt x="1144" y="1968"/>
                  </a:lnTo>
                  <a:lnTo>
                    <a:pt x="1144" y="1968"/>
                  </a:lnTo>
                  <a:lnTo>
                    <a:pt x="1136" y="1952"/>
                  </a:lnTo>
                  <a:lnTo>
                    <a:pt x="1128" y="1936"/>
                  </a:lnTo>
                  <a:lnTo>
                    <a:pt x="1118" y="1924"/>
                  </a:lnTo>
                  <a:lnTo>
                    <a:pt x="1106" y="1910"/>
                  </a:lnTo>
                  <a:lnTo>
                    <a:pt x="1094" y="1900"/>
                  </a:lnTo>
                  <a:lnTo>
                    <a:pt x="1082" y="1890"/>
                  </a:lnTo>
                  <a:lnTo>
                    <a:pt x="1068" y="1882"/>
                  </a:lnTo>
                  <a:lnTo>
                    <a:pt x="1056" y="1874"/>
                  </a:lnTo>
                  <a:lnTo>
                    <a:pt x="1040" y="1868"/>
                  </a:lnTo>
                  <a:lnTo>
                    <a:pt x="1026" y="1862"/>
                  </a:lnTo>
                  <a:lnTo>
                    <a:pt x="1012" y="1860"/>
                  </a:lnTo>
                  <a:lnTo>
                    <a:pt x="998" y="1858"/>
                  </a:lnTo>
                  <a:lnTo>
                    <a:pt x="984" y="1858"/>
                  </a:lnTo>
                  <a:lnTo>
                    <a:pt x="970" y="1858"/>
                  </a:lnTo>
                  <a:lnTo>
                    <a:pt x="956" y="1860"/>
                  </a:lnTo>
                  <a:lnTo>
                    <a:pt x="944" y="1864"/>
                  </a:lnTo>
                  <a:lnTo>
                    <a:pt x="944" y="1864"/>
                  </a:lnTo>
                  <a:lnTo>
                    <a:pt x="932" y="1870"/>
                  </a:lnTo>
                  <a:lnTo>
                    <a:pt x="920" y="1876"/>
                  </a:lnTo>
                  <a:lnTo>
                    <a:pt x="910" y="1884"/>
                  </a:lnTo>
                  <a:lnTo>
                    <a:pt x="902" y="1894"/>
                  </a:lnTo>
                  <a:lnTo>
                    <a:pt x="894" y="1904"/>
                  </a:lnTo>
                  <a:lnTo>
                    <a:pt x="886" y="1916"/>
                  </a:lnTo>
                  <a:lnTo>
                    <a:pt x="882" y="1928"/>
                  </a:lnTo>
                  <a:lnTo>
                    <a:pt x="878" y="1940"/>
                  </a:lnTo>
                  <a:lnTo>
                    <a:pt x="874" y="1952"/>
                  </a:lnTo>
                  <a:lnTo>
                    <a:pt x="872" y="1966"/>
                  </a:lnTo>
                  <a:lnTo>
                    <a:pt x="872" y="1978"/>
                  </a:lnTo>
                  <a:lnTo>
                    <a:pt x="872" y="1992"/>
                  </a:lnTo>
                  <a:lnTo>
                    <a:pt x="874" y="2006"/>
                  </a:lnTo>
                  <a:lnTo>
                    <a:pt x="876" y="2018"/>
                  </a:lnTo>
                  <a:lnTo>
                    <a:pt x="880" y="2032"/>
                  </a:lnTo>
                  <a:lnTo>
                    <a:pt x="886" y="2044"/>
                  </a:lnTo>
                  <a:lnTo>
                    <a:pt x="886" y="2044"/>
                  </a:lnTo>
                  <a:lnTo>
                    <a:pt x="894" y="2056"/>
                  </a:lnTo>
                  <a:lnTo>
                    <a:pt x="904" y="2068"/>
                  </a:lnTo>
                  <a:lnTo>
                    <a:pt x="916" y="2076"/>
                  </a:lnTo>
                  <a:lnTo>
                    <a:pt x="926" y="2082"/>
                  </a:lnTo>
                  <a:lnTo>
                    <a:pt x="940" y="2084"/>
                  </a:lnTo>
                  <a:lnTo>
                    <a:pt x="952" y="2086"/>
                  </a:lnTo>
                  <a:lnTo>
                    <a:pt x="964" y="2086"/>
                  </a:lnTo>
                  <a:lnTo>
                    <a:pt x="974" y="2084"/>
                  </a:lnTo>
                  <a:lnTo>
                    <a:pt x="986" y="2078"/>
                  </a:lnTo>
                  <a:lnTo>
                    <a:pt x="994" y="2072"/>
                  </a:lnTo>
                  <a:lnTo>
                    <a:pt x="1002" y="2064"/>
                  </a:lnTo>
                  <a:lnTo>
                    <a:pt x="1008" y="2054"/>
                  </a:lnTo>
                  <a:lnTo>
                    <a:pt x="1010" y="2044"/>
                  </a:lnTo>
                  <a:lnTo>
                    <a:pt x="1012" y="2032"/>
                  </a:lnTo>
                  <a:lnTo>
                    <a:pt x="1008" y="2018"/>
                  </a:lnTo>
                  <a:lnTo>
                    <a:pt x="1002" y="2002"/>
                  </a:lnTo>
                  <a:lnTo>
                    <a:pt x="1002" y="2002"/>
                  </a:lnTo>
                  <a:lnTo>
                    <a:pt x="1024" y="1996"/>
                  </a:lnTo>
                  <a:lnTo>
                    <a:pt x="1042" y="1994"/>
                  </a:lnTo>
                  <a:lnTo>
                    <a:pt x="1058" y="1996"/>
                  </a:lnTo>
                  <a:lnTo>
                    <a:pt x="1072" y="2002"/>
                  </a:lnTo>
                  <a:lnTo>
                    <a:pt x="1086" y="2014"/>
                  </a:lnTo>
                  <a:lnTo>
                    <a:pt x="1096" y="2026"/>
                  </a:lnTo>
                  <a:lnTo>
                    <a:pt x="1104" y="2042"/>
                  </a:lnTo>
                  <a:lnTo>
                    <a:pt x="1108" y="2060"/>
                  </a:lnTo>
                  <a:lnTo>
                    <a:pt x="1112" y="2080"/>
                  </a:lnTo>
                  <a:lnTo>
                    <a:pt x="1114" y="2102"/>
                  </a:lnTo>
                  <a:lnTo>
                    <a:pt x="1112" y="2124"/>
                  </a:lnTo>
                  <a:lnTo>
                    <a:pt x="1110" y="2144"/>
                  </a:lnTo>
                  <a:lnTo>
                    <a:pt x="1104" y="2166"/>
                  </a:lnTo>
                  <a:lnTo>
                    <a:pt x="1096" y="2186"/>
                  </a:lnTo>
                  <a:lnTo>
                    <a:pt x="1086" y="2206"/>
                  </a:lnTo>
                  <a:lnTo>
                    <a:pt x="1074" y="2222"/>
                  </a:lnTo>
                  <a:lnTo>
                    <a:pt x="1074" y="2222"/>
                  </a:lnTo>
                  <a:lnTo>
                    <a:pt x="1076" y="2206"/>
                  </a:lnTo>
                  <a:lnTo>
                    <a:pt x="1072" y="2186"/>
                  </a:lnTo>
                  <a:lnTo>
                    <a:pt x="1064" y="2168"/>
                  </a:lnTo>
                  <a:lnTo>
                    <a:pt x="1054" y="2152"/>
                  </a:lnTo>
                  <a:lnTo>
                    <a:pt x="1046" y="2144"/>
                  </a:lnTo>
                  <a:lnTo>
                    <a:pt x="1038" y="2138"/>
                  </a:lnTo>
                  <a:lnTo>
                    <a:pt x="1030" y="2132"/>
                  </a:lnTo>
                  <a:lnTo>
                    <a:pt x="1020" y="2128"/>
                  </a:lnTo>
                  <a:lnTo>
                    <a:pt x="1008" y="2126"/>
                  </a:lnTo>
                  <a:lnTo>
                    <a:pt x="996" y="2126"/>
                  </a:lnTo>
                  <a:lnTo>
                    <a:pt x="984" y="2126"/>
                  </a:lnTo>
                  <a:lnTo>
                    <a:pt x="970" y="2130"/>
                  </a:lnTo>
                  <a:lnTo>
                    <a:pt x="970" y="2130"/>
                  </a:lnTo>
                  <a:lnTo>
                    <a:pt x="972" y="2144"/>
                  </a:lnTo>
                  <a:lnTo>
                    <a:pt x="974" y="2156"/>
                  </a:lnTo>
                  <a:lnTo>
                    <a:pt x="974" y="2168"/>
                  </a:lnTo>
                  <a:lnTo>
                    <a:pt x="972" y="2180"/>
                  </a:lnTo>
                  <a:lnTo>
                    <a:pt x="970" y="2192"/>
                  </a:lnTo>
                  <a:lnTo>
                    <a:pt x="966" y="2204"/>
                  </a:lnTo>
                  <a:lnTo>
                    <a:pt x="960" y="2216"/>
                  </a:lnTo>
                  <a:lnTo>
                    <a:pt x="954" y="2226"/>
                  </a:lnTo>
                  <a:lnTo>
                    <a:pt x="940" y="2246"/>
                  </a:lnTo>
                  <a:lnTo>
                    <a:pt x="920" y="2264"/>
                  </a:lnTo>
                  <a:lnTo>
                    <a:pt x="898" y="2278"/>
                  </a:lnTo>
                  <a:lnTo>
                    <a:pt x="874" y="2290"/>
                  </a:lnTo>
                  <a:lnTo>
                    <a:pt x="848" y="2300"/>
                  </a:lnTo>
                  <a:lnTo>
                    <a:pt x="822" y="2304"/>
                  </a:lnTo>
                  <a:lnTo>
                    <a:pt x="796" y="2306"/>
                  </a:lnTo>
                  <a:lnTo>
                    <a:pt x="770" y="2306"/>
                  </a:lnTo>
                  <a:lnTo>
                    <a:pt x="744" y="2300"/>
                  </a:lnTo>
                  <a:lnTo>
                    <a:pt x="732" y="2294"/>
                  </a:lnTo>
                  <a:lnTo>
                    <a:pt x="720" y="2290"/>
                  </a:lnTo>
                  <a:lnTo>
                    <a:pt x="710" y="2282"/>
                  </a:lnTo>
                  <a:lnTo>
                    <a:pt x="700" y="2274"/>
                  </a:lnTo>
                  <a:lnTo>
                    <a:pt x="690" y="2266"/>
                  </a:lnTo>
                  <a:lnTo>
                    <a:pt x="682" y="2254"/>
                  </a:lnTo>
                  <a:lnTo>
                    <a:pt x="682" y="2254"/>
                  </a:lnTo>
                  <a:lnTo>
                    <a:pt x="692" y="2258"/>
                  </a:lnTo>
                  <a:lnTo>
                    <a:pt x="704" y="2258"/>
                  </a:lnTo>
                  <a:lnTo>
                    <a:pt x="716" y="2256"/>
                  </a:lnTo>
                  <a:lnTo>
                    <a:pt x="728" y="2254"/>
                  </a:lnTo>
                  <a:lnTo>
                    <a:pt x="740" y="2250"/>
                  </a:lnTo>
                  <a:lnTo>
                    <a:pt x="752" y="2244"/>
                  </a:lnTo>
                  <a:lnTo>
                    <a:pt x="776" y="2230"/>
                  </a:lnTo>
                  <a:lnTo>
                    <a:pt x="798" y="2214"/>
                  </a:lnTo>
                  <a:lnTo>
                    <a:pt x="816" y="2194"/>
                  </a:lnTo>
                  <a:lnTo>
                    <a:pt x="830" y="2176"/>
                  </a:lnTo>
                  <a:lnTo>
                    <a:pt x="838" y="2160"/>
                  </a:lnTo>
                  <a:lnTo>
                    <a:pt x="838" y="2160"/>
                  </a:lnTo>
                  <a:lnTo>
                    <a:pt x="812" y="2176"/>
                  </a:lnTo>
                  <a:lnTo>
                    <a:pt x="786" y="2188"/>
                  </a:lnTo>
                  <a:lnTo>
                    <a:pt x="760" y="2196"/>
                  </a:lnTo>
                  <a:lnTo>
                    <a:pt x="736" y="2200"/>
                  </a:lnTo>
                  <a:lnTo>
                    <a:pt x="712" y="2200"/>
                  </a:lnTo>
                  <a:lnTo>
                    <a:pt x="700" y="2198"/>
                  </a:lnTo>
                  <a:lnTo>
                    <a:pt x="688" y="2194"/>
                  </a:lnTo>
                  <a:lnTo>
                    <a:pt x="678" y="2188"/>
                  </a:lnTo>
                  <a:lnTo>
                    <a:pt x="666" y="2184"/>
                  </a:lnTo>
                  <a:lnTo>
                    <a:pt x="656" y="2176"/>
                  </a:lnTo>
                  <a:lnTo>
                    <a:pt x="646" y="2168"/>
                  </a:lnTo>
                  <a:lnTo>
                    <a:pt x="636" y="2158"/>
                  </a:lnTo>
                  <a:lnTo>
                    <a:pt x="628" y="2146"/>
                  </a:lnTo>
                  <a:lnTo>
                    <a:pt x="620" y="2134"/>
                  </a:lnTo>
                  <a:lnTo>
                    <a:pt x="612" y="2120"/>
                  </a:lnTo>
                  <a:lnTo>
                    <a:pt x="598" y="2088"/>
                  </a:lnTo>
                  <a:lnTo>
                    <a:pt x="588" y="2050"/>
                  </a:lnTo>
                  <a:lnTo>
                    <a:pt x="580" y="2006"/>
                  </a:lnTo>
                  <a:lnTo>
                    <a:pt x="574" y="1954"/>
                  </a:lnTo>
                  <a:lnTo>
                    <a:pt x="574" y="1898"/>
                  </a:lnTo>
                  <a:lnTo>
                    <a:pt x="576" y="1834"/>
                  </a:lnTo>
                  <a:lnTo>
                    <a:pt x="576" y="1834"/>
                  </a:lnTo>
                  <a:lnTo>
                    <a:pt x="580" y="1862"/>
                  </a:lnTo>
                  <a:lnTo>
                    <a:pt x="584" y="1888"/>
                  </a:lnTo>
                  <a:lnTo>
                    <a:pt x="590" y="1914"/>
                  </a:lnTo>
                  <a:lnTo>
                    <a:pt x="596" y="1940"/>
                  </a:lnTo>
                  <a:lnTo>
                    <a:pt x="604" y="1964"/>
                  </a:lnTo>
                  <a:lnTo>
                    <a:pt x="614" y="1986"/>
                  </a:lnTo>
                  <a:lnTo>
                    <a:pt x="626" y="2008"/>
                  </a:lnTo>
                  <a:lnTo>
                    <a:pt x="638" y="2028"/>
                  </a:lnTo>
                  <a:lnTo>
                    <a:pt x="652" y="2048"/>
                  </a:lnTo>
                  <a:lnTo>
                    <a:pt x="666" y="2066"/>
                  </a:lnTo>
                  <a:lnTo>
                    <a:pt x="682" y="2084"/>
                  </a:lnTo>
                  <a:lnTo>
                    <a:pt x="698" y="2100"/>
                  </a:lnTo>
                  <a:lnTo>
                    <a:pt x="718" y="2114"/>
                  </a:lnTo>
                  <a:lnTo>
                    <a:pt x="736" y="2128"/>
                  </a:lnTo>
                  <a:lnTo>
                    <a:pt x="758" y="2140"/>
                  </a:lnTo>
                  <a:lnTo>
                    <a:pt x="780" y="2150"/>
                  </a:lnTo>
                  <a:lnTo>
                    <a:pt x="780" y="2150"/>
                  </a:lnTo>
                  <a:lnTo>
                    <a:pt x="714" y="2058"/>
                  </a:lnTo>
                  <a:lnTo>
                    <a:pt x="714" y="2058"/>
                  </a:lnTo>
                  <a:lnTo>
                    <a:pt x="722" y="2060"/>
                  </a:lnTo>
                  <a:lnTo>
                    <a:pt x="732" y="2062"/>
                  </a:lnTo>
                  <a:lnTo>
                    <a:pt x="744" y="2060"/>
                  </a:lnTo>
                  <a:lnTo>
                    <a:pt x="754" y="2058"/>
                  </a:lnTo>
                  <a:lnTo>
                    <a:pt x="764" y="2056"/>
                  </a:lnTo>
                  <a:lnTo>
                    <a:pt x="774" y="2052"/>
                  </a:lnTo>
                  <a:lnTo>
                    <a:pt x="784" y="2046"/>
                  </a:lnTo>
                  <a:lnTo>
                    <a:pt x="794" y="2040"/>
                  </a:lnTo>
                  <a:lnTo>
                    <a:pt x="802" y="2032"/>
                  </a:lnTo>
                  <a:lnTo>
                    <a:pt x="810" y="2024"/>
                  </a:lnTo>
                  <a:lnTo>
                    <a:pt x="816" y="2014"/>
                  </a:lnTo>
                  <a:lnTo>
                    <a:pt x="820" y="2004"/>
                  </a:lnTo>
                  <a:lnTo>
                    <a:pt x="822" y="1994"/>
                  </a:lnTo>
                  <a:lnTo>
                    <a:pt x="824" y="1982"/>
                  </a:lnTo>
                  <a:lnTo>
                    <a:pt x="822" y="1970"/>
                  </a:lnTo>
                  <a:lnTo>
                    <a:pt x="818" y="1958"/>
                  </a:lnTo>
                  <a:lnTo>
                    <a:pt x="818" y="1958"/>
                  </a:lnTo>
                  <a:lnTo>
                    <a:pt x="808" y="1970"/>
                  </a:lnTo>
                  <a:lnTo>
                    <a:pt x="796" y="1984"/>
                  </a:lnTo>
                  <a:lnTo>
                    <a:pt x="780" y="1994"/>
                  </a:lnTo>
                  <a:lnTo>
                    <a:pt x="762" y="2000"/>
                  </a:lnTo>
                  <a:lnTo>
                    <a:pt x="752" y="2002"/>
                  </a:lnTo>
                  <a:lnTo>
                    <a:pt x="744" y="2002"/>
                  </a:lnTo>
                  <a:lnTo>
                    <a:pt x="734" y="2000"/>
                  </a:lnTo>
                  <a:lnTo>
                    <a:pt x="724" y="1998"/>
                  </a:lnTo>
                  <a:lnTo>
                    <a:pt x="716" y="1992"/>
                  </a:lnTo>
                  <a:lnTo>
                    <a:pt x="708" y="1986"/>
                  </a:lnTo>
                  <a:lnTo>
                    <a:pt x="700" y="1976"/>
                  </a:lnTo>
                  <a:lnTo>
                    <a:pt x="692" y="1964"/>
                  </a:lnTo>
                  <a:lnTo>
                    <a:pt x="692" y="1964"/>
                  </a:lnTo>
                  <a:lnTo>
                    <a:pt x="704" y="1966"/>
                  </a:lnTo>
                  <a:lnTo>
                    <a:pt x="712" y="1966"/>
                  </a:lnTo>
                  <a:lnTo>
                    <a:pt x="722" y="1964"/>
                  </a:lnTo>
                  <a:lnTo>
                    <a:pt x="730" y="1960"/>
                  </a:lnTo>
                  <a:lnTo>
                    <a:pt x="736" y="1952"/>
                  </a:lnTo>
                  <a:lnTo>
                    <a:pt x="742" y="1942"/>
                  </a:lnTo>
                  <a:lnTo>
                    <a:pt x="744" y="1932"/>
                  </a:lnTo>
                  <a:lnTo>
                    <a:pt x="744" y="1918"/>
                  </a:lnTo>
                  <a:lnTo>
                    <a:pt x="744" y="1918"/>
                  </a:lnTo>
                  <a:lnTo>
                    <a:pt x="716" y="1914"/>
                  </a:lnTo>
                  <a:lnTo>
                    <a:pt x="690" y="1908"/>
                  </a:lnTo>
                  <a:lnTo>
                    <a:pt x="668" y="1896"/>
                  </a:lnTo>
                  <a:lnTo>
                    <a:pt x="650" y="1882"/>
                  </a:lnTo>
                  <a:lnTo>
                    <a:pt x="642" y="1874"/>
                  </a:lnTo>
                  <a:lnTo>
                    <a:pt x="634" y="1864"/>
                  </a:lnTo>
                  <a:lnTo>
                    <a:pt x="628" y="1854"/>
                  </a:lnTo>
                  <a:lnTo>
                    <a:pt x="622" y="1844"/>
                  </a:lnTo>
                  <a:lnTo>
                    <a:pt x="618" y="1832"/>
                  </a:lnTo>
                  <a:lnTo>
                    <a:pt x="614" y="1820"/>
                  </a:lnTo>
                  <a:lnTo>
                    <a:pt x="612" y="1808"/>
                  </a:lnTo>
                  <a:lnTo>
                    <a:pt x="612" y="1794"/>
                  </a:lnTo>
                  <a:lnTo>
                    <a:pt x="612" y="1766"/>
                  </a:lnTo>
                  <a:lnTo>
                    <a:pt x="620" y="1736"/>
                  </a:lnTo>
                  <a:lnTo>
                    <a:pt x="630" y="1704"/>
                  </a:lnTo>
                  <a:lnTo>
                    <a:pt x="648" y="1670"/>
                  </a:lnTo>
                  <a:lnTo>
                    <a:pt x="670" y="1634"/>
                  </a:lnTo>
                  <a:lnTo>
                    <a:pt x="700" y="1598"/>
                  </a:lnTo>
                  <a:lnTo>
                    <a:pt x="736" y="1560"/>
                  </a:lnTo>
                  <a:lnTo>
                    <a:pt x="778" y="1520"/>
                  </a:lnTo>
                  <a:lnTo>
                    <a:pt x="778" y="1520"/>
                  </a:lnTo>
                  <a:lnTo>
                    <a:pt x="772" y="1538"/>
                  </a:lnTo>
                  <a:lnTo>
                    <a:pt x="768" y="1558"/>
                  </a:lnTo>
                  <a:lnTo>
                    <a:pt x="766" y="1578"/>
                  </a:lnTo>
                  <a:lnTo>
                    <a:pt x="764" y="1598"/>
                  </a:lnTo>
                  <a:lnTo>
                    <a:pt x="764" y="1618"/>
                  </a:lnTo>
                  <a:lnTo>
                    <a:pt x="766" y="1640"/>
                  </a:lnTo>
                  <a:lnTo>
                    <a:pt x="770" y="1660"/>
                  </a:lnTo>
                  <a:lnTo>
                    <a:pt x="774" y="1682"/>
                  </a:lnTo>
                  <a:lnTo>
                    <a:pt x="788" y="1722"/>
                  </a:lnTo>
                  <a:lnTo>
                    <a:pt x="804" y="1762"/>
                  </a:lnTo>
                  <a:lnTo>
                    <a:pt x="824" y="1800"/>
                  </a:lnTo>
                  <a:lnTo>
                    <a:pt x="846" y="1832"/>
                  </a:lnTo>
                  <a:lnTo>
                    <a:pt x="846" y="1832"/>
                  </a:lnTo>
                  <a:lnTo>
                    <a:pt x="844" y="1814"/>
                  </a:lnTo>
                  <a:lnTo>
                    <a:pt x="840" y="1790"/>
                  </a:lnTo>
                  <a:lnTo>
                    <a:pt x="838" y="1758"/>
                  </a:lnTo>
                  <a:lnTo>
                    <a:pt x="840" y="1714"/>
                  </a:lnTo>
                  <a:lnTo>
                    <a:pt x="840" y="1714"/>
                  </a:lnTo>
                  <a:lnTo>
                    <a:pt x="854" y="1730"/>
                  </a:lnTo>
                  <a:lnTo>
                    <a:pt x="870" y="1746"/>
                  </a:lnTo>
                  <a:lnTo>
                    <a:pt x="888" y="1762"/>
                  </a:lnTo>
                  <a:lnTo>
                    <a:pt x="898" y="1768"/>
                  </a:lnTo>
                  <a:lnTo>
                    <a:pt x="908" y="1774"/>
                  </a:lnTo>
                  <a:lnTo>
                    <a:pt x="922" y="1778"/>
                  </a:lnTo>
                  <a:lnTo>
                    <a:pt x="934" y="1780"/>
                  </a:lnTo>
                  <a:lnTo>
                    <a:pt x="950" y="1782"/>
                  </a:lnTo>
                  <a:lnTo>
                    <a:pt x="966" y="1782"/>
                  </a:lnTo>
                  <a:lnTo>
                    <a:pt x="984" y="1780"/>
                  </a:lnTo>
                  <a:lnTo>
                    <a:pt x="1004" y="1776"/>
                  </a:lnTo>
                  <a:lnTo>
                    <a:pt x="1026" y="1770"/>
                  </a:lnTo>
                  <a:lnTo>
                    <a:pt x="1048" y="1762"/>
                  </a:lnTo>
                  <a:lnTo>
                    <a:pt x="1048" y="1762"/>
                  </a:lnTo>
                  <a:lnTo>
                    <a:pt x="1070" y="1752"/>
                  </a:lnTo>
                  <a:lnTo>
                    <a:pt x="1090" y="1740"/>
                  </a:lnTo>
                  <a:lnTo>
                    <a:pt x="1106" y="1726"/>
                  </a:lnTo>
                  <a:lnTo>
                    <a:pt x="1120" y="1712"/>
                  </a:lnTo>
                  <a:lnTo>
                    <a:pt x="1134" y="1696"/>
                  </a:lnTo>
                  <a:lnTo>
                    <a:pt x="1144" y="1680"/>
                  </a:lnTo>
                  <a:lnTo>
                    <a:pt x="1154" y="1662"/>
                  </a:lnTo>
                  <a:lnTo>
                    <a:pt x="1160" y="1644"/>
                  </a:lnTo>
                  <a:lnTo>
                    <a:pt x="1164" y="1624"/>
                  </a:lnTo>
                  <a:lnTo>
                    <a:pt x="1168" y="1606"/>
                  </a:lnTo>
                  <a:lnTo>
                    <a:pt x="1168" y="1586"/>
                  </a:lnTo>
                  <a:lnTo>
                    <a:pt x="1168" y="1568"/>
                  </a:lnTo>
                  <a:lnTo>
                    <a:pt x="1166" y="1548"/>
                  </a:lnTo>
                  <a:lnTo>
                    <a:pt x="1162" y="1530"/>
                  </a:lnTo>
                  <a:lnTo>
                    <a:pt x="1156" y="1512"/>
                  </a:lnTo>
                  <a:lnTo>
                    <a:pt x="1150" y="1496"/>
                  </a:lnTo>
                  <a:lnTo>
                    <a:pt x="1150" y="1496"/>
                  </a:lnTo>
                  <a:lnTo>
                    <a:pt x="1140" y="1480"/>
                  </a:lnTo>
                  <a:lnTo>
                    <a:pt x="1132" y="1466"/>
                  </a:lnTo>
                  <a:lnTo>
                    <a:pt x="1122" y="1454"/>
                  </a:lnTo>
                  <a:lnTo>
                    <a:pt x="1112" y="1444"/>
                  </a:lnTo>
                  <a:lnTo>
                    <a:pt x="1100" y="1436"/>
                  </a:lnTo>
                  <a:lnTo>
                    <a:pt x="1090" y="1430"/>
                  </a:lnTo>
                  <a:lnTo>
                    <a:pt x="1078" y="1424"/>
                  </a:lnTo>
                  <a:lnTo>
                    <a:pt x="1066" y="1422"/>
                  </a:lnTo>
                  <a:lnTo>
                    <a:pt x="1056" y="1418"/>
                  </a:lnTo>
                  <a:lnTo>
                    <a:pt x="1044" y="1418"/>
                  </a:lnTo>
                  <a:lnTo>
                    <a:pt x="1034" y="1418"/>
                  </a:lnTo>
                  <a:lnTo>
                    <a:pt x="1022" y="1420"/>
                  </a:lnTo>
                  <a:lnTo>
                    <a:pt x="1012" y="1422"/>
                  </a:lnTo>
                  <a:lnTo>
                    <a:pt x="1002" y="1426"/>
                  </a:lnTo>
                  <a:lnTo>
                    <a:pt x="984" y="1438"/>
                  </a:lnTo>
                  <a:lnTo>
                    <a:pt x="984" y="1438"/>
                  </a:lnTo>
                  <a:lnTo>
                    <a:pt x="968" y="1452"/>
                  </a:lnTo>
                  <a:lnTo>
                    <a:pt x="956" y="1468"/>
                  </a:lnTo>
                  <a:lnTo>
                    <a:pt x="948" y="1486"/>
                  </a:lnTo>
                  <a:lnTo>
                    <a:pt x="944" y="1506"/>
                  </a:lnTo>
                  <a:lnTo>
                    <a:pt x="942" y="1516"/>
                  </a:lnTo>
                  <a:lnTo>
                    <a:pt x="944" y="1526"/>
                  </a:lnTo>
                  <a:lnTo>
                    <a:pt x="944" y="1536"/>
                  </a:lnTo>
                  <a:lnTo>
                    <a:pt x="948" y="1546"/>
                  </a:lnTo>
                  <a:lnTo>
                    <a:pt x="952" y="1556"/>
                  </a:lnTo>
                  <a:lnTo>
                    <a:pt x="958" y="1566"/>
                  </a:lnTo>
                  <a:lnTo>
                    <a:pt x="966" y="1576"/>
                  </a:lnTo>
                  <a:lnTo>
                    <a:pt x="976" y="1584"/>
                  </a:lnTo>
                  <a:lnTo>
                    <a:pt x="976" y="1584"/>
                  </a:lnTo>
                  <a:lnTo>
                    <a:pt x="984" y="1590"/>
                  </a:lnTo>
                  <a:lnTo>
                    <a:pt x="992" y="1594"/>
                  </a:lnTo>
                  <a:lnTo>
                    <a:pt x="1002" y="1596"/>
                  </a:lnTo>
                  <a:lnTo>
                    <a:pt x="1014" y="1598"/>
                  </a:lnTo>
                  <a:lnTo>
                    <a:pt x="1024" y="1598"/>
                  </a:lnTo>
                  <a:lnTo>
                    <a:pt x="1036" y="1596"/>
                  </a:lnTo>
                  <a:lnTo>
                    <a:pt x="1046" y="1594"/>
                  </a:lnTo>
                  <a:lnTo>
                    <a:pt x="1058" y="1588"/>
                  </a:lnTo>
                  <a:lnTo>
                    <a:pt x="1066" y="1584"/>
                  </a:lnTo>
                  <a:lnTo>
                    <a:pt x="1076" y="1576"/>
                  </a:lnTo>
                  <a:lnTo>
                    <a:pt x="1084" y="1568"/>
                  </a:lnTo>
                  <a:lnTo>
                    <a:pt x="1090" y="1558"/>
                  </a:lnTo>
                  <a:lnTo>
                    <a:pt x="1096" y="1546"/>
                  </a:lnTo>
                  <a:lnTo>
                    <a:pt x="1098" y="1534"/>
                  </a:lnTo>
                  <a:lnTo>
                    <a:pt x="1098" y="1520"/>
                  </a:lnTo>
                  <a:lnTo>
                    <a:pt x="1098" y="1504"/>
                  </a:lnTo>
                  <a:lnTo>
                    <a:pt x="1098" y="1504"/>
                  </a:lnTo>
                  <a:lnTo>
                    <a:pt x="1106" y="1516"/>
                  </a:lnTo>
                  <a:lnTo>
                    <a:pt x="1114" y="1528"/>
                  </a:lnTo>
                  <a:lnTo>
                    <a:pt x="1120" y="1542"/>
                  </a:lnTo>
                  <a:lnTo>
                    <a:pt x="1124" y="1554"/>
                  </a:lnTo>
                  <a:lnTo>
                    <a:pt x="1126" y="1568"/>
                  </a:lnTo>
                  <a:lnTo>
                    <a:pt x="1128" y="1580"/>
                  </a:lnTo>
                  <a:lnTo>
                    <a:pt x="1128" y="1592"/>
                  </a:lnTo>
                  <a:lnTo>
                    <a:pt x="1126" y="1604"/>
                  </a:lnTo>
                  <a:lnTo>
                    <a:pt x="1122" y="1616"/>
                  </a:lnTo>
                  <a:lnTo>
                    <a:pt x="1118" y="1628"/>
                  </a:lnTo>
                  <a:lnTo>
                    <a:pt x="1114" y="1638"/>
                  </a:lnTo>
                  <a:lnTo>
                    <a:pt x="1106" y="1648"/>
                  </a:lnTo>
                  <a:lnTo>
                    <a:pt x="1098" y="1656"/>
                  </a:lnTo>
                  <a:lnTo>
                    <a:pt x="1090" y="1664"/>
                  </a:lnTo>
                  <a:lnTo>
                    <a:pt x="1080" y="1670"/>
                  </a:lnTo>
                  <a:lnTo>
                    <a:pt x="1068" y="1674"/>
                  </a:lnTo>
                  <a:lnTo>
                    <a:pt x="1068" y="1674"/>
                  </a:lnTo>
                  <a:lnTo>
                    <a:pt x="1040" y="1684"/>
                  </a:lnTo>
                  <a:lnTo>
                    <a:pt x="1026" y="1688"/>
                  </a:lnTo>
                  <a:lnTo>
                    <a:pt x="1012" y="1690"/>
                  </a:lnTo>
                  <a:lnTo>
                    <a:pt x="996" y="1690"/>
                  </a:lnTo>
                  <a:lnTo>
                    <a:pt x="980" y="1686"/>
                  </a:lnTo>
                  <a:lnTo>
                    <a:pt x="962" y="1682"/>
                  </a:lnTo>
                  <a:lnTo>
                    <a:pt x="944" y="1674"/>
                  </a:lnTo>
                  <a:lnTo>
                    <a:pt x="944" y="1674"/>
                  </a:lnTo>
                  <a:lnTo>
                    <a:pt x="936" y="1668"/>
                  </a:lnTo>
                  <a:lnTo>
                    <a:pt x="928" y="1662"/>
                  </a:lnTo>
                  <a:lnTo>
                    <a:pt x="912" y="1646"/>
                  </a:lnTo>
                  <a:lnTo>
                    <a:pt x="902" y="1628"/>
                  </a:lnTo>
                  <a:lnTo>
                    <a:pt x="894" y="1606"/>
                  </a:lnTo>
                  <a:lnTo>
                    <a:pt x="888" y="1582"/>
                  </a:lnTo>
                  <a:lnTo>
                    <a:pt x="884" y="1558"/>
                  </a:lnTo>
                  <a:lnTo>
                    <a:pt x="884" y="1530"/>
                  </a:lnTo>
                  <a:lnTo>
                    <a:pt x="886" y="1502"/>
                  </a:lnTo>
                  <a:lnTo>
                    <a:pt x="890" y="1474"/>
                  </a:lnTo>
                  <a:lnTo>
                    <a:pt x="896" y="1444"/>
                  </a:lnTo>
                  <a:lnTo>
                    <a:pt x="904" y="1414"/>
                  </a:lnTo>
                  <a:lnTo>
                    <a:pt x="914" y="1386"/>
                  </a:lnTo>
                  <a:lnTo>
                    <a:pt x="926" y="1358"/>
                  </a:lnTo>
                  <a:lnTo>
                    <a:pt x="940" y="1332"/>
                  </a:lnTo>
                  <a:lnTo>
                    <a:pt x="954" y="1308"/>
                  </a:lnTo>
                  <a:lnTo>
                    <a:pt x="970" y="1284"/>
                  </a:lnTo>
                  <a:lnTo>
                    <a:pt x="970" y="1284"/>
                  </a:lnTo>
                  <a:lnTo>
                    <a:pt x="996" y="1250"/>
                  </a:lnTo>
                  <a:lnTo>
                    <a:pt x="1022" y="1212"/>
                  </a:lnTo>
                  <a:lnTo>
                    <a:pt x="1046" y="1170"/>
                  </a:lnTo>
                  <a:lnTo>
                    <a:pt x="1072" y="1124"/>
                  </a:lnTo>
                  <a:lnTo>
                    <a:pt x="1096" y="1076"/>
                  </a:lnTo>
                  <a:lnTo>
                    <a:pt x="1120" y="1022"/>
                  </a:lnTo>
                  <a:lnTo>
                    <a:pt x="1142" y="964"/>
                  </a:lnTo>
                  <a:lnTo>
                    <a:pt x="1162" y="902"/>
                  </a:lnTo>
                  <a:lnTo>
                    <a:pt x="1162" y="902"/>
                  </a:lnTo>
                  <a:lnTo>
                    <a:pt x="1170" y="868"/>
                  </a:lnTo>
                  <a:lnTo>
                    <a:pt x="1176" y="832"/>
                  </a:lnTo>
                  <a:lnTo>
                    <a:pt x="1180" y="792"/>
                  </a:lnTo>
                  <a:lnTo>
                    <a:pt x="1184" y="752"/>
                  </a:lnTo>
                  <a:lnTo>
                    <a:pt x="1184" y="710"/>
                  </a:lnTo>
                  <a:lnTo>
                    <a:pt x="1182" y="666"/>
                  </a:lnTo>
                  <a:lnTo>
                    <a:pt x="1178" y="622"/>
                  </a:lnTo>
                  <a:lnTo>
                    <a:pt x="1172" y="578"/>
                  </a:lnTo>
                  <a:lnTo>
                    <a:pt x="1164" y="534"/>
                  </a:lnTo>
                  <a:lnTo>
                    <a:pt x="1154" y="490"/>
                  </a:lnTo>
                  <a:lnTo>
                    <a:pt x="1140" y="448"/>
                  </a:lnTo>
                  <a:lnTo>
                    <a:pt x="1126" y="406"/>
                  </a:lnTo>
                  <a:lnTo>
                    <a:pt x="1108" y="366"/>
                  </a:lnTo>
                  <a:lnTo>
                    <a:pt x="1088" y="328"/>
                  </a:lnTo>
                  <a:lnTo>
                    <a:pt x="1068" y="292"/>
                  </a:lnTo>
                  <a:lnTo>
                    <a:pt x="1042" y="258"/>
                  </a:lnTo>
                  <a:lnTo>
                    <a:pt x="1042" y="258"/>
                  </a:lnTo>
                  <a:lnTo>
                    <a:pt x="1066" y="264"/>
                  </a:lnTo>
                  <a:lnTo>
                    <a:pt x="1090" y="268"/>
                  </a:lnTo>
                  <a:lnTo>
                    <a:pt x="1116" y="270"/>
                  </a:lnTo>
                  <a:lnTo>
                    <a:pt x="1140" y="270"/>
                  </a:lnTo>
                  <a:lnTo>
                    <a:pt x="1166" y="264"/>
                  </a:lnTo>
                  <a:lnTo>
                    <a:pt x="1190" y="256"/>
                  </a:lnTo>
                  <a:lnTo>
                    <a:pt x="1202" y="252"/>
                  </a:lnTo>
                  <a:lnTo>
                    <a:pt x="1212" y="244"/>
                  </a:lnTo>
                  <a:lnTo>
                    <a:pt x="1222" y="236"/>
                  </a:lnTo>
                  <a:lnTo>
                    <a:pt x="1230" y="228"/>
                  </a:lnTo>
                  <a:lnTo>
                    <a:pt x="1230" y="228"/>
                  </a:lnTo>
                  <a:lnTo>
                    <a:pt x="1216" y="232"/>
                  </a:lnTo>
                  <a:lnTo>
                    <a:pt x="1200" y="234"/>
                  </a:lnTo>
                  <a:lnTo>
                    <a:pt x="1180" y="236"/>
                  </a:lnTo>
                  <a:lnTo>
                    <a:pt x="1160" y="234"/>
                  </a:lnTo>
                  <a:lnTo>
                    <a:pt x="1140" y="230"/>
                  </a:lnTo>
                  <a:lnTo>
                    <a:pt x="1120" y="226"/>
                  </a:lnTo>
                  <a:lnTo>
                    <a:pt x="1100" y="218"/>
                  </a:lnTo>
                  <a:lnTo>
                    <a:pt x="1084" y="208"/>
                  </a:lnTo>
                  <a:lnTo>
                    <a:pt x="1084" y="208"/>
                  </a:lnTo>
                  <a:lnTo>
                    <a:pt x="1100" y="206"/>
                  </a:lnTo>
                  <a:lnTo>
                    <a:pt x="1116" y="200"/>
                  </a:lnTo>
                  <a:lnTo>
                    <a:pt x="1134" y="192"/>
                  </a:lnTo>
                  <a:lnTo>
                    <a:pt x="1150" y="180"/>
                  </a:lnTo>
                  <a:lnTo>
                    <a:pt x="1164" y="164"/>
                  </a:lnTo>
                  <a:lnTo>
                    <a:pt x="1176" y="146"/>
                  </a:lnTo>
                  <a:lnTo>
                    <a:pt x="1186" y="122"/>
                  </a:lnTo>
                  <a:lnTo>
                    <a:pt x="1188" y="110"/>
                  </a:lnTo>
                  <a:lnTo>
                    <a:pt x="1192" y="96"/>
                  </a:lnTo>
                  <a:lnTo>
                    <a:pt x="1192" y="96"/>
                  </a:lnTo>
                  <a:close/>
                  <a:moveTo>
                    <a:pt x="1038" y="1444"/>
                  </a:moveTo>
                  <a:lnTo>
                    <a:pt x="1038" y="1444"/>
                  </a:lnTo>
                  <a:lnTo>
                    <a:pt x="1030" y="1448"/>
                  </a:lnTo>
                  <a:lnTo>
                    <a:pt x="1022" y="1454"/>
                  </a:lnTo>
                  <a:lnTo>
                    <a:pt x="1016" y="1462"/>
                  </a:lnTo>
                  <a:lnTo>
                    <a:pt x="1012" y="1470"/>
                  </a:lnTo>
                  <a:lnTo>
                    <a:pt x="1008" y="1490"/>
                  </a:lnTo>
                  <a:lnTo>
                    <a:pt x="1006" y="1510"/>
                  </a:lnTo>
                  <a:lnTo>
                    <a:pt x="1004" y="1544"/>
                  </a:lnTo>
                  <a:lnTo>
                    <a:pt x="1002" y="1556"/>
                  </a:lnTo>
                  <a:lnTo>
                    <a:pt x="1000" y="1560"/>
                  </a:lnTo>
                  <a:lnTo>
                    <a:pt x="996" y="1562"/>
                  </a:lnTo>
                  <a:lnTo>
                    <a:pt x="996" y="1562"/>
                  </a:lnTo>
                  <a:lnTo>
                    <a:pt x="990" y="1554"/>
                  </a:lnTo>
                  <a:lnTo>
                    <a:pt x="984" y="1546"/>
                  </a:lnTo>
                  <a:lnTo>
                    <a:pt x="980" y="1538"/>
                  </a:lnTo>
                  <a:lnTo>
                    <a:pt x="978" y="1530"/>
                  </a:lnTo>
                  <a:lnTo>
                    <a:pt x="976" y="1520"/>
                  </a:lnTo>
                  <a:lnTo>
                    <a:pt x="976" y="1510"/>
                  </a:lnTo>
                  <a:lnTo>
                    <a:pt x="976" y="1500"/>
                  </a:lnTo>
                  <a:lnTo>
                    <a:pt x="978" y="1490"/>
                  </a:lnTo>
                  <a:lnTo>
                    <a:pt x="982" y="1482"/>
                  </a:lnTo>
                  <a:lnTo>
                    <a:pt x="986" y="1472"/>
                  </a:lnTo>
                  <a:lnTo>
                    <a:pt x="992" y="1464"/>
                  </a:lnTo>
                  <a:lnTo>
                    <a:pt x="998" y="1458"/>
                  </a:lnTo>
                  <a:lnTo>
                    <a:pt x="1006" y="1452"/>
                  </a:lnTo>
                  <a:lnTo>
                    <a:pt x="1016" y="1448"/>
                  </a:lnTo>
                  <a:lnTo>
                    <a:pt x="1026" y="1444"/>
                  </a:lnTo>
                  <a:lnTo>
                    <a:pt x="1038" y="1444"/>
                  </a:lnTo>
                  <a:lnTo>
                    <a:pt x="1038" y="1444"/>
                  </a:lnTo>
                  <a:close/>
                  <a:moveTo>
                    <a:pt x="1046" y="1926"/>
                  </a:moveTo>
                  <a:lnTo>
                    <a:pt x="1046" y="1926"/>
                  </a:lnTo>
                  <a:lnTo>
                    <a:pt x="1026" y="1932"/>
                  </a:lnTo>
                  <a:lnTo>
                    <a:pt x="1006" y="1938"/>
                  </a:lnTo>
                  <a:lnTo>
                    <a:pt x="990" y="1944"/>
                  </a:lnTo>
                  <a:lnTo>
                    <a:pt x="976" y="1952"/>
                  </a:lnTo>
                  <a:lnTo>
                    <a:pt x="972" y="1956"/>
                  </a:lnTo>
                  <a:lnTo>
                    <a:pt x="968" y="1962"/>
                  </a:lnTo>
                  <a:lnTo>
                    <a:pt x="964" y="1968"/>
                  </a:lnTo>
                  <a:lnTo>
                    <a:pt x="962" y="1976"/>
                  </a:lnTo>
                  <a:lnTo>
                    <a:pt x="962" y="1984"/>
                  </a:lnTo>
                  <a:lnTo>
                    <a:pt x="962" y="1994"/>
                  </a:lnTo>
                  <a:lnTo>
                    <a:pt x="968" y="2022"/>
                  </a:lnTo>
                  <a:lnTo>
                    <a:pt x="968" y="2022"/>
                  </a:lnTo>
                  <a:lnTo>
                    <a:pt x="968" y="2032"/>
                  </a:lnTo>
                  <a:lnTo>
                    <a:pt x="964" y="2038"/>
                  </a:lnTo>
                  <a:lnTo>
                    <a:pt x="958" y="2042"/>
                  </a:lnTo>
                  <a:lnTo>
                    <a:pt x="950" y="2044"/>
                  </a:lnTo>
                  <a:lnTo>
                    <a:pt x="942" y="2042"/>
                  </a:lnTo>
                  <a:lnTo>
                    <a:pt x="934" y="2038"/>
                  </a:lnTo>
                  <a:lnTo>
                    <a:pt x="926" y="2030"/>
                  </a:lnTo>
                  <a:lnTo>
                    <a:pt x="920" y="2020"/>
                  </a:lnTo>
                  <a:lnTo>
                    <a:pt x="920" y="2020"/>
                  </a:lnTo>
                  <a:lnTo>
                    <a:pt x="914" y="2000"/>
                  </a:lnTo>
                  <a:lnTo>
                    <a:pt x="912" y="1976"/>
                  </a:lnTo>
                  <a:lnTo>
                    <a:pt x="912" y="1964"/>
                  </a:lnTo>
                  <a:lnTo>
                    <a:pt x="914" y="1952"/>
                  </a:lnTo>
                  <a:lnTo>
                    <a:pt x="918" y="1942"/>
                  </a:lnTo>
                  <a:lnTo>
                    <a:pt x="922" y="1932"/>
                  </a:lnTo>
                  <a:lnTo>
                    <a:pt x="930" y="1922"/>
                  </a:lnTo>
                  <a:lnTo>
                    <a:pt x="938" y="1916"/>
                  </a:lnTo>
                  <a:lnTo>
                    <a:pt x="950" y="1910"/>
                  </a:lnTo>
                  <a:lnTo>
                    <a:pt x="964" y="1908"/>
                  </a:lnTo>
                  <a:lnTo>
                    <a:pt x="980" y="1906"/>
                  </a:lnTo>
                  <a:lnTo>
                    <a:pt x="998" y="1910"/>
                  </a:lnTo>
                  <a:lnTo>
                    <a:pt x="1020" y="1916"/>
                  </a:lnTo>
                  <a:lnTo>
                    <a:pt x="1046" y="1926"/>
                  </a:lnTo>
                  <a:lnTo>
                    <a:pt x="1046" y="1926"/>
                  </a:lnTo>
                  <a:close/>
                  <a:moveTo>
                    <a:pt x="1048" y="2984"/>
                  </a:moveTo>
                  <a:lnTo>
                    <a:pt x="1048" y="2984"/>
                  </a:lnTo>
                  <a:lnTo>
                    <a:pt x="1060" y="2988"/>
                  </a:lnTo>
                  <a:lnTo>
                    <a:pt x="1074" y="2990"/>
                  </a:lnTo>
                  <a:lnTo>
                    <a:pt x="1088" y="2990"/>
                  </a:lnTo>
                  <a:lnTo>
                    <a:pt x="1102" y="2986"/>
                  </a:lnTo>
                  <a:lnTo>
                    <a:pt x="1116" y="2982"/>
                  </a:lnTo>
                  <a:lnTo>
                    <a:pt x="1128" y="2974"/>
                  </a:lnTo>
                  <a:lnTo>
                    <a:pt x="1138" y="2964"/>
                  </a:lnTo>
                  <a:lnTo>
                    <a:pt x="1148" y="2952"/>
                  </a:lnTo>
                  <a:lnTo>
                    <a:pt x="1148" y="2952"/>
                  </a:lnTo>
                  <a:lnTo>
                    <a:pt x="1146" y="2966"/>
                  </a:lnTo>
                  <a:lnTo>
                    <a:pt x="1144" y="2976"/>
                  </a:lnTo>
                  <a:lnTo>
                    <a:pt x="1138" y="2986"/>
                  </a:lnTo>
                  <a:lnTo>
                    <a:pt x="1132" y="2994"/>
                  </a:lnTo>
                  <a:lnTo>
                    <a:pt x="1126" y="3002"/>
                  </a:lnTo>
                  <a:lnTo>
                    <a:pt x="1118" y="3006"/>
                  </a:lnTo>
                  <a:lnTo>
                    <a:pt x="1108" y="3010"/>
                  </a:lnTo>
                  <a:lnTo>
                    <a:pt x="1100" y="3012"/>
                  </a:lnTo>
                  <a:lnTo>
                    <a:pt x="1092" y="3014"/>
                  </a:lnTo>
                  <a:lnTo>
                    <a:pt x="1084" y="3014"/>
                  </a:lnTo>
                  <a:lnTo>
                    <a:pt x="1074" y="3012"/>
                  </a:lnTo>
                  <a:lnTo>
                    <a:pt x="1068" y="3008"/>
                  </a:lnTo>
                  <a:lnTo>
                    <a:pt x="1060" y="3004"/>
                  </a:lnTo>
                  <a:lnTo>
                    <a:pt x="1054" y="2998"/>
                  </a:lnTo>
                  <a:lnTo>
                    <a:pt x="1050" y="2992"/>
                  </a:lnTo>
                  <a:lnTo>
                    <a:pt x="1048" y="2984"/>
                  </a:lnTo>
                  <a:lnTo>
                    <a:pt x="1048" y="2984"/>
                  </a:lnTo>
                  <a:close/>
                  <a:moveTo>
                    <a:pt x="902" y="2308"/>
                  </a:moveTo>
                  <a:lnTo>
                    <a:pt x="902" y="2308"/>
                  </a:lnTo>
                  <a:lnTo>
                    <a:pt x="928" y="2298"/>
                  </a:lnTo>
                  <a:lnTo>
                    <a:pt x="952" y="2286"/>
                  </a:lnTo>
                  <a:lnTo>
                    <a:pt x="972" y="2272"/>
                  </a:lnTo>
                  <a:lnTo>
                    <a:pt x="988" y="2258"/>
                  </a:lnTo>
                  <a:lnTo>
                    <a:pt x="1000" y="2242"/>
                  </a:lnTo>
                  <a:lnTo>
                    <a:pt x="1010" y="2226"/>
                  </a:lnTo>
                  <a:lnTo>
                    <a:pt x="1018" y="2208"/>
                  </a:lnTo>
                  <a:lnTo>
                    <a:pt x="1026" y="2190"/>
                  </a:lnTo>
                  <a:lnTo>
                    <a:pt x="1026" y="2190"/>
                  </a:lnTo>
                  <a:lnTo>
                    <a:pt x="1032" y="2200"/>
                  </a:lnTo>
                  <a:lnTo>
                    <a:pt x="1038" y="2210"/>
                  </a:lnTo>
                  <a:lnTo>
                    <a:pt x="1040" y="2220"/>
                  </a:lnTo>
                  <a:lnTo>
                    <a:pt x="1040" y="2230"/>
                  </a:lnTo>
                  <a:lnTo>
                    <a:pt x="1036" y="2240"/>
                  </a:lnTo>
                  <a:lnTo>
                    <a:pt x="1032" y="2250"/>
                  </a:lnTo>
                  <a:lnTo>
                    <a:pt x="1026" y="2260"/>
                  </a:lnTo>
                  <a:lnTo>
                    <a:pt x="1018" y="2268"/>
                  </a:lnTo>
                  <a:lnTo>
                    <a:pt x="1008" y="2276"/>
                  </a:lnTo>
                  <a:lnTo>
                    <a:pt x="996" y="2284"/>
                  </a:lnTo>
                  <a:lnTo>
                    <a:pt x="984" y="2290"/>
                  </a:lnTo>
                  <a:lnTo>
                    <a:pt x="970" y="2296"/>
                  </a:lnTo>
                  <a:lnTo>
                    <a:pt x="954" y="2300"/>
                  </a:lnTo>
                  <a:lnTo>
                    <a:pt x="938" y="2304"/>
                  </a:lnTo>
                  <a:lnTo>
                    <a:pt x="920" y="2308"/>
                  </a:lnTo>
                  <a:lnTo>
                    <a:pt x="902" y="2308"/>
                  </a:lnTo>
                  <a:lnTo>
                    <a:pt x="902" y="2308"/>
                  </a:lnTo>
                  <a:close/>
                  <a:moveTo>
                    <a:pt x="854" y="2408"/>
                  </a:moveTo>
                  <a:lnTo>
                    <a:pt x="854" y="2408"/>
                  </a:lnTo>
                  <a:lnTo>
                    <a:pt x="842" y="2416"/>
                  </a:lnTo>
                  <a:lnTo>
                    <a:pt x="832" y="2430"/>
                  </a:lnTo>
                  <a:lnTo>
                    <a:pt x="822" y="2444"/>
                  </a:lnTo>
                  <a:lnTo>
                    <a:pt x="816" y="2462"/>
                  </a:lnTo>
                  <a:lnTo>
                    <a:pt x="812" y="2478"/>
                  </a:lnTo>
                  <a:lnTo>
                    <a:pt x="810" y="2496"/>
                  </a:lnTo>
                  <a:lnTo>
                    <a:pt x="812" y="2514"/>
                  </a:lnTo>
                  <a:lnTo>
                    <a:pt x="816" y="2532"/>
                  </a:lnTo>
                  <a:lnTo>
                    <a:pt x="816" y="2532"/>
                  </a:lnTo>
                  <a:lnTo>
                    <a:pt x="806" y="2522"/>
                  </a:lnTo>
                  <a:lnTo>
                    <a:pt x="796" y="2514"/>
                  </a:lnTo>
                  <a:lnTo>
                    <a:pt x="790" y="2504"/>
                  </a:lnTo>
                  <a:lnTo>
                    <a:pt x="786" y="2494"/>
                  </a:lnTo>
                  <a:lnTo>
                    <a:pt x="784" y="2484"/>
                  </a:lnTo>
                  <a:lnTo>
                    <a:pt x="782" y="2474"/>
                  </a:lnTo>
                  <a:lnTo>
                    <a:pt x="784" y="2466"/>
                  </a:lnTo>
                  <a:lnTo>
                    <a:pt x="786" y="2456"/>
                  </a:lnTo>
                  <a:lnTo>
                    <a:pt x="790" y="2446"/>
                  </a:lnTo>
                  <a:lnTo>
                    <a:pt x="796" y="2438"/>
                  </a:lnTo>
                  <a:lnTo>
                    <a:pt x="802" y="2430"/>
                  </a:lnTo>
                  <a:lnTo>
                    <a:pt x="810" y="2424"/>
                  </a:lnTo>
                  <a:lnTo>
                    <a:pt x="820" y="2418"/>
                  </a:lnTo>
                  <a:lnTo>
                    <a:pt x="830" y="2412"/>
                  </a:lnTo>
                  <a:lnTo>
                    <a:pt x="842" y="2410"/>
                  </a:lnTo>
                  <a:lnTo>
                    <a:pt x="854" y="2408"/>
                  </a:lnTo>
                  <a:lnTo>
                    <a:pt x="854" y="2408"/>
                  </a:lnTo>
                  <a:close/>
                  <a:moveTo>
                    <a:pt x="638" y="1368"/>
                  </a:moveTo>
                  <a:lnTo>
                    <a:pt x="638" y="1368"/>
                  </a:lnTo>
                  <a:lnTo>
                    <a:pt x="598" y="1382"/>
                  </a:lnTo>
                  <a:lnTo>
                    <a:pt x="560" y="1390"/>
                  </a:lnTo>
                  <a:lnTo>
                    <a:pt x="524" y="1394"/>
                  </a:lnTo>
                  <a:lnTo>
                    <a:pt x="490" y="1396"/>
                  </a:lnTo>
                  <a:lnTo>
                    <a:pt x="460" y="1392"/>
                  </a:lnTo>
                  <a:lnTo>
                    <a:pt x="430" y="1386"/>
                  </a:lnTo>
                  <a:lnTo>
                    <a:pt x="402" y="1376"/>
                  </a:lnTo>
                  <a:lnTo>
                    <a:pt x="376" y="1364"/>
                  </a:lnTo>
                  <a:lnTo>
                    <a:pt x="376" y="1364"/>
                  </a:lnTo>
                  <a:lnTo>
                    <a:pt x="362" y="1354"/>
                  </a:lnTo>
                  <a:lnTo>
                    <a:pt x="350" y="1344"/>
                  </a:lnTo>
                  <a:lnTo>
                    <a:pt x="340" y="1334"/>
                  </a:lnTo>
                  <a:lnTo>
                    <a:pt x="330" y="1324"/>
                  </a:lnTo>
                  <a:lnTo>
                    <a:pt x="324" y="1312"/>
                  </a:lnTo>
                  <a:lnTo>
                    <a:pt x="318" y="1300"/>
                  </a:lnTo>
                  <a:lnTo>
                    <a:pt x="314" y="1286"/>
                  </a:lnTo>
                  <a:lnTo>
                    <a:pt x="312" y="1274"/>
                  </a:lnTo>
                  <a:lnTo>
                    <a:pt x="310" y="1248"/>
                  </a:lnTo>
                  <a:lnTo>
                    <a:pt x="312" y="1224"/>
                  </a:lnTo>
                  <a:lnTo>
                    <a:pt x="318" y="1202"/>
                  </a:lnTo>
                  <a:lnTo>
                    <a:pt x="326" y="1180"/>
                  </a:lnTo>
                  <a:lnTo>
                    <a:pt x="326" y="1180"/>
                  </a:lnTo>
                  <a:lnTo>
                    <a:pt x="324" y="1208"/>
                  </a:lnTo>
                  <a:lnTo>
                    <a:pt x="326" y="1232"/>
                  </a:lnTo>
                  <a:lnTo>
                    <a:pt x="332" y="1256"/>
                  </a:lnTo>
                  <a:lnTo>
                    <a:pt x="342" y="1276"/>
                  </a:lnTo>
                  <a:lnTo>
                    <a:pt x="354" y="1292"/>
                  </a:lnTo>
                  <a:lnTo>
                    <a:pt x="368" y="1302"/>
                  </a:lnTo>
                  <a:lnTo>
                    <a:pt x="376" y="1306"/>
                  </a:lnTo>
                  <a:lnTo>
                    <a:pt x="386" y="1310"/>
                  </a:lnTo>
                  <a:lnTo>
                    <a:pt x="394" y="1312"/>
                  </a:lnTo>
                  <a:lnTo>
                    <a:pt x="402" y="1312"/>
                  </a:lnTo>
                  <a:lnTo>
                    <a:pt x="402" y="1312"/>
                  </a:lnTo>
                  <a:lnTo>
                    <a:pt x="400" y="1286"/>
                  </a:lnTo>
                  <a:lnTo>
                    <a:pt x="400" y="1272"/>
                  </a:lnTo>
                  <a:lnTo>
                    <a:pt x="400" y="1256"/>
                  </a:lnTo>
                  <a:lnTo>
                    <a:pt x="402" y="1242"/>
                  </a:lnTo>
                  <a:lnTo>
                    <a:pt x="406" y="1228"/>
                  </a:lnTo>
                  <a:lnTo>
                    <a:pt x="412" y="1216"/>
                  </a:lnTo>
                  <a:lnTo>
                    <a:pt x="420" y="1206"/>
                  </a:lnTo>
                  <a:lnTo>
                    <a:pt x="420" y="1206"/>
                  </a:lnTo>
                  <a:lnTo>
                    <a:pt x="426" y="1252"/>
                  </a:lnTo>
                  <a:lnTo>
                    <a:pt x="430" y="1272"/>
                  </a:lnTo>
                  <a:lnTo>
                    <a:pt x="436" y="1292"/>
                  </a:lnTo>
                  <a:lnTo>
                    <a:pt x="442" y="1308"/>
                  </a:lnTo>
                  <a:lnTo>
                    <a:pt x="448" y="1324"/>
                  </a:lnTo>
                  <a:lnTo>
                    <a:pt x="458" y="1338"/>
                  </a:lnTo>
                  <a:lnTo>
                    <a:pt x="468" y="1350"/>
                  </a:lnTo>
                  <a:lnTo>
                    <a:pt x="480" y="1358"/>
                  </a:lnTo>
                  <a:lnTo>
                    <a:pt x="494" y="1366"/>
                  </a:lnTo>
                  <a:lnTo>
                    <a:pt x="510" y="1372"/>
                  </a:lnTo>
                  <a:lnTo>
                    <a:pt x="530" y="1376"/>
                  </a:lnTo>
                  <a:lnTo>
                    <a:pt x="552" y="1378"/>
                  </a:lnTo>
                  <a:lnTo>
                    <a:pt x="578" y="1376"/>
                  </a:lnTo>
                  <a:lnTo>
                    <a:pt x="606" y="1374"/>
                  </a:lnTo>
                  <a:lnTo>
                    <a:pt x="638" y="1368"/>
                  </a:lnTo>
                  <a:lnTo>
                    <a:pt x="638" y="1368"/>
                  </a:lnTo>
                  <a:close/>
                  <a:moveTo>
                    <a:pt x="760" y="1094"/>
                  </a:moveTo>
                  <a:lnTo>
                    <a:pt x="760" y="1094"/>
                  </a:lnTo>
                  <a:lnTo>
                    <a:pt x="770" y="1082"/>
                  </a:lnTo>
                  <a:lnTo>
                    <a:pt x="778" y="1070"/>
                  </a:lnTo>
                  <a:lnTo>
                    <a:pt x="782" y="1056"/>
                  </a:lnTo>
                  <a:lnTo>
                    <a:pt x="784" y="1042"/>
                  </a:lnTo>
                  <a:lnTo>
                    <a:pt x="784" y="1028"/>
                  </a:lnTo>
                  <a:lnTo>
                    <a:pt x="780" y="1014"/>
                  </a:lnTo>
                  <a:lnTo>
                    <a:pt x="776" y="1002"/>
                  </a:lnTo>
                  <a:lnTo>
                    <a:pt x="768" y="990"/>
                  </a:lnTo>
                  <a:lnTo>
                    <a:pt x="768" y="990"/>
                  </a:lnTo>
                  <a:lnTo>
                    <a:pt x="778" y="990"/>
                  </a:lnTo>
                  <a:lnTo>
                    <a:pt x="786" y="992"/>
                  </a:lnTo>
                  <a:lnTo>
                    <a:pt x="792" y="998"/>
                  </a:lnTo>
                  <a:lnTo>
                    <a:pt x="798" y="1002"/>
                  </a:lnTo>
                  <a:lnTo>
                    <a:pt x="802" y="1010"/>
                  </a:lnTo>
                  <a:lnTo>
                    <a:pt x="806" y="1018"/>
                  </a:lnTo>
                  <a:lnTo>
                    <a:pt x="808" y="1026"/>
                  </a:lnTo>
                  <a:lnTo>
                    <a:pt x="808" y="1034"/>
                  </a:lnTo>
                  <a:lnTo>
                    <a:pt x="808" y="1044"/>
                  </a:lnTo>
                  <a:lnTo>
                    <a:pt x="806" y="1052"/>
                  </a:lnTo>
                  <a:lnTo>
                    <a:pt x="802" y="1062"/>
                  </a:lnTo>
                  <a:lnTo>
                    <a:pt x="798" y="1070"/>
                  </a:lnTo>
                  <a:lnTo>
                    <a:pt x="790" y="1078"/>
                  </a:lnTo>
                  <a:lnTo>
                    <a:pt x="782" y="1084"/>
                  </a:lnTo>
                  <a:lnTo>
                    <a:pt x="772" y="1090"/>
                  </a:lnTo>
                  <a:lnTo>
                    <a:pt x="760" y="1094"/>
                  </a:lnTo>
                  <a:lnTo>
                    <a:pt x="760" y="1094"/>
                  </a:lnTo>
                  <a:close/>
                  <a:moveTo>
                    <a:pt x="1142" y="598"/>
                  </a:moveTo>
                  <a:lnTo>
                    <a:pt x="1142" y="598"/>
                  </a:lnTo>
                  <a:lnTo>
                    <a:pt x="1146" y="626"/>
                  </a:lnTo>
                  <a:lnTo>
                    <a:pt x="1150" y="656"/>
                  </a:lnTo>
                  <a:lnTo>
                    <a:pt x="1150" y="686"/>
                  </a:lnTo>
                  <a:lnTo>
                    <a:pt x="1150" y="718"/>
                  </a:lnTo>
                  <a:lnTo>
                    <a:pt x="1148" y="778"/>
                  </a:lnTo>
                  <a:lnTo>
                    <a:pt x="1142" y="838"/>
                  </a:lnTo>
                  <a:lnTo>
                    <a:pt x="1130" y="894"/>
                  </a:lnTo>
                  <a:lnTo>
                    <a:pt x="1116" y="946"/>
                  </a:lnTo>
                  <a:lnTo>
                    <a:pt x="1108" y="972"/>
                  </a:lnTo>
                  <a:lnTo>
                    <a:pt x="1098" y="994"/>
                  </a:lnTo>
                  <a:lnTo>
                    <a:pt x="1088" y="1014"/>
                  </a:lnTo>
                  <a:lnTo>
                    <a:pt x="1078" y="1034"/>
                  </a:lnTo>
                  <a:lnTo>
                    <a:pt x="1078" y="1034"/>
                  </a:lnTo>
                  <a:lnTo>
                    <a:pt x="1072" y="1012"/>
                  </a:lnTo>
                  <a:lnTo>
                    <a:pt x="1070" y="992"/>
                  </a:lnTo>
                  <a:lnTo>
                    <a:pt x="1070" y="970"/>
                  </a:lnTo>
                  <a:lnTo>
                    <a:pt x="1074" y="950"/>
                  </a:lnTo>
                  <a:lnTo>
                    <a:pt x="1080" y="928"/>
                  </a:lnTo>
                  <a:lnTo>
                    <a:pt x="1086" y="904"/>
                  </a:lnTo>
                  <a:lnTo>
                    <a:pt x="1106" y="858"/>
                  </a:lnTo>
                  <a:lnTo>
                    <a:pt x="1106" y="858"/>
                  </a:lnTo>
                  <a:lnTo>
                    <a:pt x="1098" y="862"/>
                  </a:lnTo>
                  <a:lnTo>
                    <a:pt x="1080" y="872"/>
                  </a:lnTo>
                  <a:lnTo>
                    <a:pt x="1068" y="876"/>
                  </a:lnTo>
                  <a:lnTo>
                    <a:pt x="1054" y="878"/>
                  </a:lnTo>
                  <a:lnTo>
                    <a:pt x="1042" y="880"/>
                  </a:lnTo>
                  <a:lnTo>
                    <a:pt x="1028" y="876"/>
                  </a:lnTo>
                  <a:lnTo>
                    <a:pt x="1028" y="876"/>
                  </a:lnTo>
                  <a:lnTo>
                    <a:pt x="1048" y="860"/>
                  </a:lnTo>
                  <a:lnTo>
                    <a:pt x="1066" y="836"/>
                  </a:lnTo>
                  <a:lnTo>
                    <a:pt x="1084" y="808"/>
                  </a:lnTo>
                  <a:lnTo>
                    <a:pt x="1102" y="774"/>
                  </a:lnTo>
                  <a:lnTo>
                    <a:pt x="1116" y="736"/>
                  </a:lnTo>
                  <a:lnTo>
                    <a:pt x="1128" y="694"/>
                  </a:lnTo>
                  <a:lnTo>
                    <a:pt x="1138" y="648"/>
                  </a:lnTo>
                  <a:lnTo>
                    <a:pt x="1142" y="598"/>
                  </a:lnTo>
                  <a:lnTo>
                    <a:pt x="1142" y="598"/>
                  </a:lnTo>
                  <a:close/>
                  <a:moveTo>
                    <a:pt x="626" y="526"/>
                  </a:moveTo>
                  <a:lnTo>
                    <a:pt x="626" y="526"/>
                  </a:lnTo>
                  <a:lnTo>
                    <a:pt x="604" y="522"/>
                  </a:lnTo>
                  <a:lnTo>
                    <a:pt x="586" y="516"/>
                  </a:lnTo>
                  <a:lnTo>
                    <a:pt x="568" y="512"/>
                  </a:lnTo>
                  <a:lnTo>
                    <a:pt x="554" y="510"/>
                  </a:lnTo>
                  <a:lnTo>
                    <a:pt x="548" y="510"/>
                  </a:lnTo>
                  <a:lnTo>
                    <a:pt x="540" y="512"/>
                  </a:lnTo>
                  <a:lnTo>
                    <a:pt x="536" y="516"/>
                  </a:lnTo>
                  <a:lnTo>
                    <a:pt x="530" y="522"/>
                  </a:lnTo>
                  <a:lnTo>
                    <a:pt x="524" y="530"/>
                  </a:lnTo>
                  <a:lnTo>
                    <a:pt x="520" y="538"/>
                  </a:lnTo>
                  <a:lnTo>
                    <a:pt x="512" y="564"/>
                  </a:lnTo>
                  <a:lnTo>
                    <a:pt x="512" y="564"/>
                  </a:lnTo>
                  <a:lnTo>
                    <a:pt x="510" y="568"/>
                  </a:lnTo>
                  <a:lnTo>
                    <a:pt x="508" y="574"/>
                  </a:lnTo>
                  <a:lnTo>
                    <a:pt x="498" y="580"/>
                  </a:lnTo>
                  <a:lnTo>
                    <a:pt x="484" y="584"/>
                  </a:lnTo>
                  <a:lnTo>
                    <a:pt x="470" y="584"/>
                  </a:lnTo>
                  <a:lnTo>
                    <a:pt x="464" y="582"/>
                  </a:lnTo>
                  <a:lnTo>
                    <a:pt x="458" y="580"/>
                  </a:lnTo>
                  <a:lnTo>
                    <a:pt x="452" y="574"/>
                  </a:lnTo>
                  <a:lnTo>
                    <a:pt x="448" y="568"/>
                  </a:lnTo>
                  <a:lnTo>
                    <a:pt x="444" y="560"/>
                  </a:lnTo>
                  <a:lnTo>
                    <a:pt x="442" y="552"/>
                  </a:lnTo>
                  <a:lnTo>
                    <a:pt x="442" y="540"/>
                  </a:lnTo>
                  <a:lnTo>
                    <a:pt x="442" y="528"/>
                  </a:lnTo>
                  <a:lnTo>
                    <a:pt x="442" y="528"/>
                  </a:lnTo>
                  <a:lnTo>
                    <a:pt x="446" y="518"/>
                  </a:lnTo>
                  <a:lnTo>
                    <a:pt x="450" y="508"/>
                  </a:lnTo>
                  <a:lnTo>
                    <a:pt x="454" y="498"/>
                  </a:lnTo>
                  <a:lnTo>
                    <a:pt x="462" y="488"/>
                  </a:lnTo>
                  <a:lnTo>
                    <a:pt x="470" y="478"/>
                  </a:lnTo>
                  <a:lnTo>
                    <a:pt x="480" y="470"/>
                  </a:lnTo>
                  <a:lnTo>
                    <a:pt x="490" y="464"/>
                  </a:lnTo>
                  <a:lnTo>
                    <a:pt x="502" y="458"/>
                  </a:lnTo>
                  <a:lnTo>
                    <a:pt x="516" y="456"/>
                  </a:lnTo>
                  <a:lnTo>
                    <a:pt x="528" y="456"/>
                  </a:lnTo>
                  <a:lnTo>
                    <a:pt x="544" y="458"/>
                  </a:lnTo>
                  <a:lnTo>
                    <a:pt x="558" y="464"/>
                  </a:lnTo>
                  <a:lnTo>
                    <a:pt x="574" y="472"/>
                  </a:lnTo>
                  <a:lnTo>
                    <a:pt x="592" y="486"/>
                  </a:lnTo>
                  <a:lnTo>
                    <a:pt x="608" y="504"/>
                  </a:lnTo>
                  <a:lnTo>
                    <a:pt x="626" y="526"/>
                  </a:lnTo>
                  <a:lnTo>
                    <a:pt x="626" y="526"/>
                  </a:lnTo>
                  <a:close/>
                  <a:moveTo>
                    <a:pt x="480" y="186"/>
                  </a:moveTo>
                  <a:lnTo>
                    <a:pt x="480" y="186"/>
                  </a:lnTo>
                  <a:lnTo>
                    <a:pt x="468" y="192"/>
                  </a:lnTo>
                  <a:lnTo>
                    <a:pt x="456" y="200"/>
                  </a:lnTo>
                  <a:lnTo>
                    <a:pt x="432" y="216"/>
                  </a:lnTo>
                  <a:lnTo>
                    <a:pt x="408" y="234"/>
                  </a:lnTo>
                  <a:lnTo>
                    <a:pt x="384" y="250"/>
                  </a:lnTo>
                  <a:lnTo>
                    <a:pt x="384" y="250"/>
                  </a:lnTo>
                  <a:lnTo>
                    <a:pt x="396" y="240"/>
                  </a:lnTo>
                  <a:lnTo>
                    <a:pt x="404" y="230"/>
                  </a:lnTo>
                  <a:lnTo>
                    <a:pt x="408" y="222"/>
                  </a:lnTo>
                  <a:lnTo>
                    <a:pt x="412" y="216"/>
                  </a:lnTo>
                  <a:lnTo>
                    <a:pt x="418" y="202"/>
                  </a:lnTo>
                  <a:lnTo>
                    <a:pt x="422" y="196"/>
                  </a:lnTo>
                  <a:lnTo>
                    <a:pt x="432" y="186"/>
                  </a:lnTo>
                  <a:lnTo>
                    <a:pt x="432" y="186"/>
                  </a:lnTo>
                  <a:lnTo>
                    <a:pt x="450" y="168"/>
                  </a:lnTo>
                  <a:lnTo>
                    <a:pt x="456" y="160"/>
                  </a:lnTo>
                  <a:lnTo>
                    <a:pt x="460" y="154"/>
                  </a:lnTo>
                  <a:lnTo>
                    <a:pt x="464" y="146"/>
                  </a:lnTo>
                  <a:lnTo>
                    <a:pt x="464" y="140"/>
                  </a:lnTo>
                  <a:lnTo>
                    <a:pt x="464" y="134"/>
                  </a:lnTo>
                  <a:lnTo>
                    <a:pt x="462" y="128"/>
                  </a:lnTo>
                  <a:lnTo>
                    <a:pt x="514" y="120"/>
                  </a:lnTo>
                  <a:lnTo>
                    <a:pt x="514" y="120"/>
                  </a:lnTo>
                  <a:lnTo>
                    <a:pt x="520" y="122"/>
                  </a:lnTo>
                  <a:lnTo>
                    <a:pt x="524" y="126"/>
                  </a:lnTo>
                  <a:lnTo>
                    <a:pt x="526" y="132"/>
                  </a:lnTo>
                  <a:lnTo>
                    <a:pt x="526" y="136"/>
                  </a:lnTo>
                  <a:lnTo>
                    <a:pt x="526" y="146"/>
                  </a:lnTo>
                  <a:lnTo>
                    <a:pt x="520" y="156"/>
                  </a:lnTo>
                  <a:lnTo>
                    <a:pt x="514" y="166"/>
                  </a:lnTo>
                  <a:lnTo>
                    <a:pt x="504" y="174"/>
                  </a:lnTo>
                  <a:lnTo>
                    <a:pt x="492" y="182"/>
                  </a:lnTo>
                  <a:lnTo>
                    <a:pt x="480" y="186"/>
                  </a:lnTo>
                  <a:lnTo>
                    <a:pt x="480" y="186"/>
                  </a:lnTo>
                  <a:close/>
                  <a:moveTo>
                    <a:pt x="704" y="210"/>
                  </a:moveTo>
                  <a:lnTo>
                    <a:pt x="704" y="210"/>
                  </a:lnTo>
                  <a:lnTo>
                    <a:pt x="652" y="192"/>
                  </a:lnTo>
                  <a:lnTo>
                    <a:pt x="626" y="182"/>
                  </a:lnTo>
                  <a:lnTo>
                    <a:pt x="600" y="178"/>
                  </a:lnTo>
                  <a:lnTo>
                    <a:pt x="600" y="178"/>
                  </a:lnTo>
                  <a:lnTo>
                    <a:pt x="588" y="174"/>
                  </a:lnTo>
                  <a:lnTo>
                    <a:pt x="576" y="168"/>
                  </a:lnTo>
                  <a:lnTo>
                    <a:pt x="566" y="162"/>
                  </a:lnTo>
                  <a:lnTo>
                    <a:pt x="556" y="154"/>
                  </a:lnTo>
                  <a:lnTo>
                    <a:pt x="550" y="146"/>
                  </a:lnTo>
                  <a:lnTo>
                    <a:pt x="548" y="136"/>
                  </a:lnTo>
                  <a:lnTo>
                    <a:pt x="548" y="132"/>
                  </a:lnTo>
                  <a:lnTo>
                    <a:pt x="550" y="126"/>
                  </a:lnTo>
                  <a:lnTo>
                    <a:pt x="554" y="122"/>
                  </a:lnTo>
                  <a:lnTo>
                    <a:pt x="558" y="118"/>
                  </a:lnTo>
                  <a:lnTo>
                    <a:pt x="612" y="116"/>
                  </a:lnTo>
                  <a:lnTo>
                    <a:pt x="612" y="116"/>
                  </a:lnTo>
                  <a:lnTo>
                    <a:pt x="610" y="128"/>
                  </a:lnTo>
                  <a:lnTo>
                    <a:pt x="612" y="134"/>
                  </a:lnTo>
                  <a:lnTo>
                    <a:pt x="616" y="140"/>
                  </a:lnTo>
                  <a:lnTo>
                    <a:pt x="620" y="146"/>
                  </a:lnTo>
                  <a:lnTo>
                    <a:pt x="628" y="152"/>
                  </a:lnTo>
                  <a:lnTo>
                    <a:pt x="648" y="166"/>
                  </a:lnTo>
                  <a:lnTo>
                    <a:pt x="648" y="166"/>
                  </a:lnTo>
                  <a:lnTo>
                    <a:pt x="658" y="174"/>
                  </a:lnTo>
                  <a:lnTo>
                    <a:pt x="664" y="178"/>
                  </a:lnTo>
                  <a:lnTo>
                    <a:pt x="672" y="188"/>
                  </a:lnTo>
                  <a:lnTo>
                    <a:pt x="682" y="196"/>
                  </a:lnTo>
                  <a:lnTo>
                    <a:pt x="704" y="210"/>
                  </a:lnTo>
                  <a:lnTo>
                    <a:pt x="704" y="210"/>
                  </a:lnTo>
                  <a:close/>
                  <a:moveTo>
                    <a:pt x="1170" y="94"/>
                  </a:moveTo>
                  <a:lnTo>
                    <a:pt x="1170" y="94"/>
                  </a:lnTo>
                  <a:lnTo>
                    <a:pt x="1166" y="86"/>
                  </a:lnTo>
                  <a:lnTo>
                    <a:pt x="1162" y="78"/>
                  </a:lnTo>
                  <a:lnTo>
                    <a:pt x="1156" y="72"/>
                  </a:lnTo>
                  <a:lnTo>
                    <a:pt x="1150" y="68"/>
                  </a:lnTo>
                  <a:lnTo>
                    <a:pt x="1136" y="62"/>
                  </a:lnTo>
                  <a:lnTo>
                    <a:pt x="1120" y="58"/>
                  </a:lnTo>
                  <a:lnTo>
                    <a:pt x="1094" y="54"/>
                  </a:lnTo>
                  <a:lnTo>
                    <a:pt x="1086" y="50"/>
                  </a:lnTo>
                  <a:lnTo>
                    <a:pt x="1082" y="48"/>
                  </a:lnTo>
                  <a:lnTo>
                    <a:pt x="1082" y="44"/>
                  </a:lnTo>
                  <a:lnTo>
                    <a:pt x="1082" y="44"/>
                  </a:lnTo>
                  <a:lnTo>
                    <a:pt x="1086" y="40"/>
                  </a:lnTo>
                  <a:lnTo>
                    <a:pt x="1092" y="34"/>
                  </a:lnTo>
                  <a:lnTo>
                    <a:pt x="1100" y="32"/>
                  </a:lnTo>
                  <a:lnTo>
                    <a:pt x="1106" y="30"/>
                  </a:lnTo>
                  <a:lnTo>
                    <a:pt x="1122" y="30"/>
                  </a:lnTo>
                  <a:lnTo>
                    <a:pt x="1136" y="34"/>
                  </a:lnTo>
                  <a:lnTo>
                    <a:pt x="1148" y="42"/>
                  </a:lnTo>
                  <a:lnTo>
                    <a:pt x="1154" y="48"/>
                  </a:lnTo>
                  <a:lnTo>
                    <a:pt x="1160" y="56"/>
                  </a:lnTo>
                  <a:lnTo>
                    <a:pt x="1164" y="64"/>
                  </a:lnTo>
                  <a:lnTo>
                    <a:pt x="1166" y="72"/>
                  </a:lnTo>
                  <a:lnTo>
                    <a:pt x="1168" y="82"/>
                  </a:lnTo>
                  <a:lnTo>
                    <a:pt x="1170" y="94"/>
                  </a:lnTo>
                  <a:lnTo>
                    <a:pt x="1170" y="94"/>
                  </a:lnTo>
                  <a:close/>
                </a:path>
              </a:pathLst>
            </a:custGeom>
            <a:solidFill>
              <a:srgbClr val="cabb8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グループ化 15"/>
          <p:cNvGrpSpPr/>
          <p:nvPr/>
        </p:nvGrpSpPr>
        <p:grpSpPr>
          <a:xfrm>
            <a:off x="9339120" y="5559480"/>
            <a:ext cx="5426280" cy="4848120"/>
            <a:chOff x="9339120" y="5559480"/>
            <a:chExt cx="5426280" cy="4848120"/>
          </a:xfrm>
        </p:grpSpPr>
        <p:sp>
          <p:nvSpPr>
            <p:cNvPr id="54" name="Freeform 10"/>
            <p:cNvSpPr/>
            <p:nvPr/>
          </p:nvSpPr>
          <p:spPr>
            <a:xfrm>
              <a:off x="11434680" y="8902800"/>
              <a:ext cx="431640" cy="4633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72" h="292">
                  <a:moveTo>
                    <a:pt x="268" y="102"/>
                  </a:moveTo>
                  <a:lnTo>
                    <a:pt x="268" y="102"/>
                  </a:lnTo>
                  <a:lnTo>
                    <a:pt x="258" y="74"/>
                  </a:lnTo>
                  <a:lnTo>
                    <a:pt x="248" y="48"/>
                  </a:lnTo>
                  <a:lnTo>
                    <a:pt x="240" y="36"/>
                  </a:lnTo>
                  <a:lnTo>
                    <a:pt x="232" y="24"/>
                  </a:lnTo>
                  <a:lnTo>
                    <a:pt x="220" y="12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190" y="30"/>
                  </a:lnTo>
                  <a:lnTo>
                    <a:pt x="178" y="54"/>
                  </a:lnTo>
                  <a:lnTo>
                    <a:pt x="178" y="54"/>
                  </a:lnTo>
                  <a:lnTo>
                    <a:pt x="164" y="50"/>
                  </a:lnTo>
                  <a:lnTo>
                    <a:pt x="150" y="48"/>
                  </a:lnTo>
                  <a:lnTo>
                    <a:pt x="136" y="48"/>
                  </a:lnTo>
                  <a:lnTo>
                    <a:pt x="124" y="48"/>
                  </a:lnTo>
                  <a:lnTo>
                    <a:pt x="112" y="52"/>
                  </a:lnTo>
                  <a:lnTo>
                    <a:pt x="102" y="56"/>
                  </a:lnTo>
                  <a:lnTo>
                    <a:pt x="94" y="62"/>
                  </a:lnTo>
                  <a:lnTo>
                    <a:pt x="86" y="70"/>
                  </a:lnTo>
                  <a:lnTo>
                    <a:pt x="80" y="80"/>
                  </a:lnTo>
                  <a:lnTo>
                    <a:pt x="74" y="90"/>
                  </a:lnTo>
                  <a:lnTo>
                    <a:pt x="72" y="100"/>
                  </a:lnTo>
                  <a:lnTo>
                    <a:pt x="72" y="112"/>
                  </a:lnTo>
                  <a:lnTo>
                    <a:pt x="74" y="126"/>
                  </a:lnTo>
                  <a:lnTo>
                    <a:pt x="78" y="138"/>
                  </a:lnTo>
                  <a:lnTo>
                    <a:pt x="84" y="152"/>
                  </a:lnTo>
                  <a:lnTo>
                    <a:pt x="94" y="168"/>
                  </a:lnTo>
                  <a:lnTo>
                    <a:pt x="94" y="168"/>
                  </a:lnTo>
                  <a:lnTo>
                    <a:pt x="98" y="152"/>
                  </a:lnTo>
                  <a:lnTo>
                    <a:pt x="104" y="142"/>
                  </a:lnTo>
                  <a:lnTo>
                    <a:pt x="112" y="136"/>
                  </a:lnTo>
                  <a:lnTo>
                    <a:pt x="122" y="134"/>
                  </a:lnTo>
                  <a:lnTo>
                    <a:pt x="132" y="136"/>
                  </a:lnTo>
                  <a:lnTo>
                    <a:pt x="142" y="142"/>
                  </a:lnTo>
                  <a:lnTo>
                    <a:pt x="152" y="148"/>
                  </a:lnTo>
                  <a:lnTo>
                    <a:pt x="162" y="158"/>
                  </a:lnTo>
                  <a:lnTo>
                    <a:pt x="168" y="170"/>
                  </a:lnTo>
                  <a:lnTo>
                    <a:pt x="174" y="180"/>
                  </a:lnTo>
                  <a:lnTo>
                    <a:pt x="174" y="194"/>
                  </a:lnTo>
                  <a:lnTo>
                    <a:pt x="172" y="206"/>
                  </a:lnTo>
                  <a:lnTo>
                    <a:pt x="166" y="216"/>
                  </a:lnTo>
                  <a:lnTo>
                    <a:pt x="154" y="228"/>
                  </a:lnTo>
                  <a:lnTo>
                    <a:pt x="136" y="236"/>
                  </a:lnTo>
                  <a:lnTo>
                    <a:pt x="114" y="242"/>
                  </a:lnTo>
                  <a:lnTo>
                    <a:pt x="114" y="242"/>
                  </a:lnTo>
                  <a:lnTo>
                    <a:pt x="104" y="244"/>
                  </a:lnTo>
                  <a:lnTo>
                    <a:pt x="94" y="244"/>
                  </a:lnTo>
                  <a:lnTo>
                    <a:pt x="84" y="242"/>
                  </a:lnTo>
                  <a:lnTo>
                    <a:pt x="76" y="240"/>
                  </a:lnTo>
                  <a:lnTo>
                    <a:pt x="68" y="236"/>
                  </a:lnTo>
                  <a:lnTo>
                    <a:pt x="60" y="232"/>
                  </a:lnTo>
                  <a:lnTo>
                    <a:pt x="52" y="224"/>
                  </a:lnTo>
                  <a:lnTo>
                    <a:pt x="44" y="218"/>
                  </a:lnTo>
                  <a:lnTo>
                    <a:pt x="38" y="210"/>
                  </a:lnTo>
                  <a:lnTo>
                    <a:pt x="34" y="200"/>
                  </a:lnTo>
                  <a:lnTo>
                    <a:pt x="28" y="190"/>
                  </a:lnTo>
                  <a:lnTo>
                    <a:pt x="24" y="178"/>
                  </a:lnTo>
                  <a:lnTo>
                    <a:pt x="22" y="166"/>
                  </a:lnTo>
                  <a:lnTo>
                    <a:pt x="20" y="152"/>
                  </a:lnTo>
                  <a:lnTo>
                    <a:pt x="20" y="138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12" y="134"/>
                  </a:lnTo>
                  <a:lnTo>
                    <a:pt x="4" y="148"/>
                  </a:lnTo>
                  <a:lnTo>
                    <a:pt x="0" y="164"/>
                  </a:lnTo>
                  <a:lnTo>
                    <a:pt x="0" y="182"/>
                  </a:lnTo>
                  <a:lnTo>
                    <a:pt x="2" y="200"/>
                  </a:lnTo>
                  <a:lnTo>
                    <a:pt x="6" y="218"/>
                  </a:lnTo>
                  <a:lnTo>
                    <a:pt x="12" y="234"/>
                  </a:lnTo>
                  <a:lnTo>
                    <a:pt x="22" y="248"/>
                  </a:lnTo>
                  <a:lnTo>
                    <a:pt x="22" y="248"/>
                  </a:lnTo>
                  <a:lnTo>
                    <a:pt x="28" y="256"/>
                  </a:lnTo>
                  <a:lnTo>
                    <a:pt x="34" y="262"/>
                  </a:lnTo>
                  <a:lnTo>
                    <a:pt x="52" y="274"/>
                  </a:lnTo>
                  <a:lnTo>
                    <a:pt x="72" y="282"/>
                  </a:lnTo>
                  <a:lnTo>
                    <a:pt x="96" y="288"/>
                  </a:lnTo>
                  <a:lnTo>
                    <a:pt x="96" y="288"/>
                  </a:lnTo>
                  <a:lnTo>
                    <a:pt x="120" y="292"/>
                  </a:lnTo>
                  <a:lnTo>
                    <a:pt x="146" y="288"/>
                  </a:lnTo>
                  <a:lnTo>
                    <a:pt x="170" y="282"/>
                  </a:lnTo>
                  <a:lnTo>
                    <a:pt x="192" y="272"/>
                  </a:lnTo>
                  <a:lnTo>
                    <a:pt x="214" y="258"/>
                  </a:lnTo>
                  <a:lnTo>
                    <a:pt x="234" y="240"/>
                  </a:lnTo>
                  <a:lnTo>
                    <a:pt x="252" y="220"/>
                  </a:lnTo>
                  <a:lnTo>
                    <a:pt x="266" y="196"/>
                  </a:lnTo>
                  <a:lnTo>
                    <a:pt x="266" y="196"/>
                  </a:lnTo>
                  <a:lnTo>
                    <a:pt x="268" y="190"/>
                  </a:lnTo>
                  <a:lnTo>
                    <a:pt x="270" y="178"/>
                  </a:lnTo>
                  <a:lnTo>
                    <a:pt x="272" y="150"/>
                  </a:lnTo>
                  <a:lnTo>
                    <a:pt x="272" y="122"/>
                  </a:lnTo>
                  <a:lnTo>
                    <a:pt x="270" y="110"/>
                  </a:lnTo>
                  <a:lnTo>
                    <a:pt x="268" y="102"/>
                  </a:lnTo>
                  <a:lnTo>
                    <a:pt x="268" y="102"/>
                  </a:lnTo>
                  <a:close/>
                  <a:moveTo>
                    <a:pt x="200" y="224"/>
                  </a:moveTo>
                  <a:lnTo>
                    <a:pt x="200" y="224"/>
                  </a:lnTo>
                  <a:lnTo>
                    <a:pt x="206" y="208"/>
                  </a:lnTo>
                  <a:lnTo>
                    <a:pt x="210" y="192"/>
                  </a:lnTo>
                  <a:lnTo>
                    <a:pt x="210" y="178"/>
                  </a:lnTo>
                  <a:lnTo>
                    <a:pt x="208" y="164"/>
                  </a:lnTo>
                  <a:lnTo>
                    <a:pt x="204" y="152"/>
                  </a:lnTo>
                  <a:lnTo>
                    <a:pt x="198" y="142"/>
                  </a:lnTo>
                  <a:lnTo>
                    <a:pt x="192" y="132"/>
                  </a:lnTo>
                  <a:lnTo>
                    <a:pt x="184" y="124"/>
                  </a:lnTo>
                  <a:lnTo>
                    <a:pt x="176" y="118"/>
                  </a:lnTo>
                  <a:lnTo>
                    <a:pt x="168" y="112"/>
                  </a:lnTo>
                  <a:lnTo>
                    <a:pt x="150" y="102"/>
                  </a:lnTo>
                  <a:lnTo>
                    <a:pt x="134" y="98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30" y="90"/>
                  </a:lnTo>
                  <a:lnTo>
                    <a:pt x="140" y="86"/>
                  </a:lnTo>
                  <a:lnTo>
                    <a:pt x="150" y="86"/>
                  </a:lnTo>
                  <a:lnTo>
                    <a:pt x="162" y="88"/>
                  </a:lnTo>
                  <a:lnTo>
                    <a:pt x="172" y="92"/>
                  </a:lnTo>
                  <a:lnTo>
                    <a:pt x="182" y="96"/>
                  </a:lnTo>
                  <a:lnTo>
                    <a:pt x="190" y="102"/>
                  </a:lnTo>
                  <a:lnTo>
                    <a:pt x="194" y="110"/>
                  </a:lnTo>
                  <a:lnTo>
                    <a:pt x="194" y="110"/>
                  </a:lnTo>
                  <a:lnTo>
                    <a:pt x="202" y="104"/>
                  </a:lnTo>
                  <a:lnTo>
                    <a:pt x="208" y="92"/>
                  </a:lnTo>
                  <a:lnTo>
                    <a:pt x="220" y="66"/>
                  </a:lnTo>
                  <a:lnTo>
                    <a:pt x="220" y="66"/>
                  </a:lnTo>
                  <a:lnTo>
                    <a:pt x="228" y="96"/>
                  </a:lnTo>
                  <a:lnTo>
                    <a:pt x="232" y="122"/>
                  </a:lnTo>
                  <a:lnTo>
                    <a:pt x="232" y="146"/>
                  </a:lnTo>
                  <a:lnTo>
                    <a:pt x="230" y="166"/>
                  </a:lnTo>
                  <a:lnTo>
                    <a:pt x="226" y="182"/>
                  </a:lnTo>
                  <a:lnTo>
                    <a:pt x="218" y="198"/>
                  </a:lnTo>
                  <a:lnTo>
                    <a:pt x="210" y="212"/>
                  </a:lnTo>
                  <a:lnTo>
                    <a:pt x="200" y="224"/>
                  </a:lnTo>
                  <a:lnTo>
                    <a:pt x="200" y="224"/>
                  </a:lnTo>
                  <a:close/>
                </a:path>
              </a:pathLst>
            </a:custGeom>
            <a:solidFill>
              <a:srgbClr val="947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1"/>
            <p:cNvSpPr/>
            <p:nvPr/>
          </p:nvSpPr>
          <p:spPr>
            <a:xfrm>
              <a:off x="9339120" y="8836200"/>
              <a:ext cx="4178520" cy="1514520"/>
            </a:xfrm>
            <a:custGeom>
              <a:avLst/>
              <a:gdLst>
                <a:gd name="textAreaLeft" fmla="*/ 0 w 4178520"/>
                <a:gd name="textAreaRight" fmla="*/ 4178880 w 4178520"/>
                <a:gd name="textAreaTop" fmla="*/ 0 h 1514520"/>
                <a:gd name="textAreaBottom" fmla="*/ 1514880 h 1514520"/>
              </a:gdLst>
              <a:ahLst/>
              <a:rect l="textAreaLeft" t="textAreaTop" r="textAreaRight" b="textAreaBottom"/>
              <a:pathLst>
                <a:path w="2632" h="954">
                  <a:moveTo>
                    <a:pt x="2616" y="848"/>
                  </a:moveTo>
                  <a:lnTo>
                    <a:pt x="2616" y="848"/>
                  </a:lnTo>
                  <a:lnTo>
                    <a:pt x="2570" y="860"/>
                  </a:lnTo>
                  <a:lnTo>
                    <a:pt x="2522" y="870"/>
                  </a:lnTo>
                  <a:lnTo>
                    <a:pt x="2474" y="874"/>
                  </a:lnTo>
                  <a:lnTo>
                    <a:pt x="2426" y="876"/>
                  </a:lnTo>
                  <a:lnTo>
                    <a:pt x="2426" y="876"/>
                  </a:lnTo>
                  <a:lnTo>
                    <a:pt x="2394" y="872"/>
                  </a:lnTo>
                  <a:lnTo>
                    <a:pt x="2362" y="866"/>
                  </a:lnTo>
                  <a:lnTo>
                    <a:pt x="2332" y="858"/>
                  </a:lnTo>
                  <a:lnTo>
                    <a:pt x="2304" y="846"/>
                  </a:lnTo>
                  <a:lnTo>
                    <a:pt x="2276" y="832"/>
                  </a:lnTo>
                  <a:lnTo>
                    <a:pt x="2252" y="816"/>
                  </a:lnTo>
                  <a:lnTo>
                    <a:pt x="2228" y="798"/>
                  </a:lnTo>
                  <a:lnTo>
                    <a:pt x="2206" y="778"/>
                  </a:lnTo>
                  <a:lnTo>
                    <a:pt x="2188" y="758"/>
                  </a:lnTo>
                  <a:lnTo>
                    <a:pt x="2172" y="738"/>
                  </a:lnTo>
                  <a:lnTo>
                    <a:pt x="2158" y="718"/>
                  </a:lnTo>
                  <a:lnTo>
                    <a:pt x="2148" y="698"/>
                  </a:lnTo>
                  <a:lnTo>
                    <a:pt x="2140" y="678"/>
                  </a:lnTo>
                  <a:lnTo>
                    <a:pt x="2136" y="658"/>
                  </a:lnTo>
                  <a:lnTo>
                    <a:pt x="2136" y="640"/>
                  </a:lnTo>
                  <a:lnTo>
                    <a:pt x="2138" y="624"/>
                  </a:lnTo>
                  <a:lnTo>
                    <a:pt x="2138" y="624"/>
                  </a:lnTo>
                  <a:lnTo>
                    <a:pt x="2130" y="626"/>
                  </a:lnTo>
                  <a:lnTo>
                    <a:pt x="2122" y="632"/>
                  </a:lnTo>
                  <a:lnTo>
                    <a:pt x="2116" y="638"/>
                  </a:lnTo>
                  <a:lnTo>
                    <a:pt x="2110" y="644"/>
                  </a:lnTo>
                  <a:lnTo>
                    <a:pt x="2106" y="654"/>
                  </a:lnTo>
                  <a:lnTo>
                    <a:pt x="2104" y="662"/>
                  </a:lnTo>
                  <a:lnTo>
                    <a:pt x="2100" y="686"/>
                  </a:lnTo>
                  <a:lnTo>
                    <a:pt x="2100" y="712"/>
                  </a:lnTo>
                  <a:lnTo>
                    <a:pt x="2104" y="740"/>
                  </a:lnTo>
                  <a:lnTo>
                    <a:pt x="2112" y="770"/>
                  </a:lnTo>
                  <a:lnTo>
                    <a:pt x="2122" y="802"/>
                  </a:lnTo>
                  <a:lnTo>
                    <a:pt x="2122" y="802"/>
                  </a:lnTo>
                  <a:lnTo>
                    <a:pt x="2116" y="796"/>
                  </a:lnTo>
                  <a:lnTo>
                    <a:pt x="2110" y="790"/>
                  </a:lnTo>
                  <a:lnTo>
                    <a:pt x="2102" y="788"/>
                  </a:lnTo>
                  <a:lnTo>
                    <a:pt x="2092" y="786"/>
                  </a:lnTo>
                  <a:lnTo>
                    <a:pt x="2070" y="786"/>
                  </a:lnTo>
                  <a:lnTo>
                    <a:pt x="2048" y="790"/>
                  </a:lnTo>
                  <a:lnTo>
                    <a:pt x="2024" y="796"/>
                  </a:lnTo>
                  <a:lnTo>
                    <a:pt x="2002" y="804"/>
                  </a:lnTo>
                  <a:lnTo>
                    <a:pt x="1984" y="814"/>
                  </a:lnTo>
                  <a:lnTo>
                    <a:pt x="1972" y="824"/>
                  </a:lnTo>
                  <a:lnTo>
                    <a:pt x="1972" y="824"/>
                  </a:lnTo>
                  <a:lnTo>
                    <a:pt x="1956" y="814"/>
                  </a:lnTo>
                  <a:lnTo>
                    <a:pt x="1940" y="804"/>
                  </a:lnTo>
                  <a:lnTo>
                    <a:pt x="1926" y="790"/>
                  </a:lnTo>
                  <a:lnTo>
                    <a:pt x="1914" y="776"/>
                  </a:lnTo>
                  <a:lnTo>
                    <a:pt x="1902" y="760"/>
                  </a:lnTo>
                  <a:lnTo>
                    <a:pt x="1892" y="742"/>
                  </a:lnTo>
                  <a:lnTo>
                    <a:pt x="1882" y="724"/>
                  </a:lnTo>
                  <a:lnTo>
                    <a:pt x="1874" y="706"/>
                  </a:lnTo>
                  <a:lnTo>
                    <a:pt x="1868" y="686"/>
                  </a:lnTo>
                  <a:lnTo>
                    <a:pt x="1866" y="666"/>
                  </a:lnTo>
                  <a:lnTo>
                    <a:pt x="1862" y="646"/>
                  </a:lnTo>
                  <a:lnTo>
                    <a:pt x="1862" y="628"/>
                  </a:lnTo>
                  <a:lnTo>
                    <a:pt x="1864" y="608"/>
                  </a:lnTo>
                  <a:lnTo>
                    <a:pt x="1868" y="590"/>
                  </a:lnTo>
                  <a:lnTo>
                    <a:pt x="1876" y="572"/>
                  </a:lnTo>
                  <a:lnTo>
                    <a:pt x="1884" y="556"/>
                  </a:lnTo>
                  <a:lnTo>
                    <a:pt x="1884" y="556"/>
                  </a:lnTo>
                  <a:lnTo>
                    <a:pt x="1876" y="558"/>
                  </a:lnTo>
                  <a:lnTo>
                    <a:pt x="1870" y="560"/>
                  </a:lnTo>
                  <a:lnTo>
                    <a:pt x="1856" y="566"/>
                  </a:lnTo>
                  <a:lnTo>
                    <a:pt x="1846" y="578"/>
                  </a:lnTo>
                  <a:lnTo>
                    <a:pt x="1838" y="592"/>
                  </a:lnTo>
                  <a:lnTo>
                    <a:pt x="1830" y="608"/>
                  </a:lnTo>
                  <a:lnTo>
                    <a:pt x="1826" y="624"/>
                  </a:lnTo>
                  <a:lnTo>
                    <a:pt x="1822" y="642"/>
                  </a:lnTo>
                  <a:lnTo>
                    <a:pt x="1822" y="660"/>
                  </a:lnTo>
                  <a:lnTo>
                    <a:pt x="1822" y="660"/>
                  </a:lnTo>
                  <a:lnTo>
                    <a:pt x="1806" y="622"/>
                  </a:lnTo>
                  <a:lnTo>
                    <a:pt x="1794" y="586"/>
                  </a:lnTo>
                  <a:lnTo>
                    <a:pt x="1786" y="554"/>
                  </a:lnTo>
                  <a:lnTo>
                    <a:pt x="1782" y="522"/>
                  </a:lnTo>
                  <a:lnTo>
                    <a:pt x="1780" y="494"/>
                  </a:lnTo>
                  <a:lnTo>
                    <a:pt x="1782" y="470"/>
                  </a:lnTo>
                  <a:lnTo>
                    <a:pt x="1786" y="446"/>
                  </a:lnTo>
                  <a:lnTo>
                    <a:pt x="1792" y="426"/>
                  </a:lnTo>
                  <a:lnTo>
                    <a:pt x="1802" y="408"/>
                  </a:lnTo>
                  <a:lnTo>
                    <a:pt x="1812" y="394"/>
                  </a:lnTo>
                  <a:lnTo>
                    <a:pt x="1824" y="380"/>
                  </a:lnTo>
                  <a:lnTo>
                    <a:pt x="1838" y="370"/>
                  </a:lnTo>
                  <a:lnTo>
                    <a:pt x="1852" y="362"/>
                  </a:lnTo>
                  <a:lnTo>
                    <a:pt x="1868" y="356"/>
                  </a:lnTo>
                  <a:lnTo>
                    <a:pt x="1882" y="352"/>
                  </a:lnTo>
                  <a:lnTo>
                    <a:pt x="1898" y="352"/>
                  </a:lnTo>
                  <a:lnTo>
                    <a:pt x="1898" y="352"/>
                  </a:lnTo>
                  <a:lnTo>
                    <a:pt x="1920" y="354"/>
                  </a:lnTo>
                  <a:lnTo>
                    <a:pt x="1936" y="356"/>
                  </a:lnTo>
                  <a:lnTo>
                    <a:pt x="1952" y="362"/>
                  </a:lnTo>
                  <a:lnTo>
                    <a:pt x="1968" y="370"/>
                  </a:lnTo>
                  <a:lnTo>
                    <a:pt x="1968" y="370"/>
                  </a:lnTo>
                  <a:lnTo>
                    <a:pt x="1986" y="382"/>
                  </a:lnTo>
                  <a:lnTo>
                    <a:pt x="2000" y="396"/>
                  </a:lnTo>
                  <a:lnTo>
                    <a:pt x="2014" y="412"/>
                  </a:lnTo>
                  <a:lnTo>
                    <a:pt x="2022" y="426"/>
                  </a:lnTo>
                  <a:lnTo>
                    <a:pt x="2028" y="442"/>
                  </a:lnTo>
                  <a:lnTo>
                    <a:pt x="2028" y="450"/>
                  </a:lnTo>
                  <a:lnTo>
                    <a:pt x="2028" y="458"/>
                  </a:lnTo>
                  <a:lnTo>
                    <a:pt x="2026" y="466"/>
                  </a:lnTo>
                  <a:lnTo>
                    <a:pt x="2024" y="472"/>
                  </a:lnTo>
                  <a:lnTo>
                    <a:pt x="2020" y="480"/>
                  </a:lnTo>
                  <a:lnTo>
                    <a:pt x="2014" y="488"/>
                  </a:lnTo>
                  <a:lnTo>
                    <a:pt x="2014" y="488"/>
                  </a:lnTo>
                  <a:lnTo>
                    <a:pt x="2006" y="494"/>
                  </a:lnTo>
                  <a:lnTo>
                    <a:pt x="2000" y="498"/>
                  </a:lnTo>
                  <a:lnTo>
                    <a:pt x="1994" y="502"/>
                  </a:lnTo>
                  <a:lnTo>
                    <a:pt x="1986" y="502"/>
                  </a:lnTo>
                  <a:lnTo>
                    <a:pt x="1980" y="504"/>
                  </a:lnTo>
                  <a:lnTo>
                    <a:pt x="1972" y="502"/>
                  </a:lnTo>
                  <a:lnTo>
                    <a:pt x="1960" y="498"/>
                  </a:lnTo>
                  <a:lnTo>
                    <a:pt x="1948" y="490"/>
                  </a:lnTo>
                  <a:lnTo>
                    <a:pt x="1940" y="480"/>
                  </a:lnTo>
                  <a:lnTo>
                    <a:pt x="1932" y="466"/>
                  </a:lnTo>
                  <a:lnTo>
                    <a:pt x="1926" y="450"/>
                  </a:lnTo>
                  <a:lnTo>
                    <a:pt x="1926" y="450"/>
                  </a:lnTo>
                  <a:lnTo>
                    <a:pt x="1920" y="464"/>
                  </a:lnTo>
                  <a:lnTo>
                    <a:pt x="1916" y="478"/>
                  </a:lnTo>
                  <a:lnTo>
                    <a:pt x="1914" y="492"/>
                  </a:lnTo>
                  <a:lnTo>
                    <a:pt x="1914" y="504"/>
                  </a:lnTo>
                  <a:lnTo>
                    <a:pt x="1914" y="518"/>
                  </a:lnTo>
                  <a:lnTo>
                    <a:pt x="1916" y="530"/>
                  </a:lnTo>
                  <a:lnTo>
                    <a:pt x="1920" y="544"/>
                  </a:lnTo>
                  <a:lnTo>
                    <a:pt x="1924" y="554"/>
                  </a:lnTo>
                  <a:lnTo>
                    <a:pt x="1930" y="566"/>
                  </a:lnTo>
                  <a:lnTo>
                    <a:pt x="1938" y="576"/>
                  </a:lnTo>
                  <a:lnTo>
                    <a:pt x="1948" y="584"/>
                  </a:lnTo>
                  <a:lnTo>
                    <a:pt x="1958" y="590"/>
                  </a:lnTo>
                  <a:lnTo>
                    <a:pt x="1970" y="596"/>
                  </a:lnTo>
                  <a:lnTo>
                    <a:pt x="1982" y="600"/>
                  </a:lnTo>
                  <a:lnTo>
                    <a:pt x="1994" y="602"/>
                  </a:lnTo>
                  <a:lnTo>
                    <a:pt x="2010" y="602"/>
                  </a:lnTo>
                  <a:lnTo>
                    <a:pt x="2010" y="602"/>
                  </a:lnTo>
                  <a:lnTo>
                    <a:pt x="2024" y="600"/>
                  </a:lnTo>
                  <a:lnTo>
                    <a:pt x="2036" y="596"/>
                  </a:lnTo>
                  <a:lnTo>
                    <a:pt x="2050" y="588"/>
                  </a:lnTo>
                  <a:lnTo>
                    <a:pt x="2062" y="580"/>
                  </a:lnTo>
                  <a:lnTo>
                    <a:pt x="2072" y="568"/>
                  </a:lnTo>
                  <a:lnTo>
                    <a:pt x="2082" y="556"/>
                  </a:lnTo>
                  <a:lnTo>
                    <a:pt x="2090" y="542"/>
                  </a:lnTo>
                  <a:lnTo>
                    <a:pt x="2098" y="526"/>
                  </a:lnTo>
                  <a:lnTo>
                    <a:pt x="2102" y="510"/>
                  </a:lnTo>
                  <a:lnTo>
                    <a:pt x="2104" y="494"/>
                  </a:lnTo>
                  <a:lnTo>
                    <a:pt x="2104" y="476"/>
                  </a:lnTo>
                  <a:lnTo>
                    <a:pt x="2100" y="458"/>
                  </a:lnTo>
                  <a:lnTo>
                    <a:pt x="2094" y="440"/>
                  </a:lnTo>
                  <a:lnTo>
                    <a:pt x="2084" y="422"/>
                  </a:lnTo>
                  <a:lnTo>
                    <a:pt x="2070" y="406"/>
                  </a:lnTo>
                  <a:lnTo>
                    <a:pt x="2052" y="388"/>
                  </a:lnTo>
                  <a:lnTo>
                    <a:pt x="2052" y="388"/>
                  </a:lnTo>
                  <a:lnTo>
                    <a:pt x="2040" y="380"/>
                  </a:lnTo>
                  <a:lnTo>
                    <a:pt x="2040" y="380"/>
                  </a:lnTo>
                  <a:lnTo>
                    <a:pt x="2022" y="370"/>
                  </a:lnTo>
                  <a:lnTo>
                    <a:pt x="2004" y="360"/>
                  </a:lnTo>
                  <a:lnTo>
                    <a:pt x="1986" y="352"/>
                  </a:lnTo>
                  <a:lnTo>
                    <a:pt x="1968" y="346"/>
                  </a:lnTo>
                  <a:lnTo>
                    <a:pt x="1930" y="336"/>
                  </a:lnTo>
                  <a:lnTo>
                    <a:pt x="1900" y="330"/>
                  </a:lnTo>
                  <a:lnTo>
                    <a:pt x="1900" y="330"/>
                  </a:lnTo>
                  <a:lnTo>
                    <a:pt x="1866" y="332"/>
                  </a:lnTo>
                  <a:lnTo>
                    <a:pt x="1850" y="336"/>
                  </a:lnTo>
                  <a:lnTo>
                    <a:pt x="1834" y="338"/>
                  </a:lnTo>
                  <a:lnTo>
                    <a:pt x="1818" y="344"/>
                  </a:lnTo>
                  <a:lnTo>
                    <a:pt x="1804" y="350"/>
                  </a:lnTo>
                  <a:lnTo>
                    <a:pt x="1790" y="356"/>
                  </a:lnTo>
                  <a:lnTo>
                    <a:pt x="1778" y="366"/>
                  </a:lnTo>
                  <a:lnTo>
                    <a:pt x="1766" y="374"/>
                  </a:lnTo>
                  <a:lnTo>
                    <a:pt x="1756" y="386"/>
                  </a:lnTo>
                  <a:lnTo>
                    <a:pt x="1748" y="398"/>
                  </a:lnTo>
                  <a:lnTo>
                    <a:pt x="1740" y="410"/>
                  </a:lnTo>
                  <a:lnTo>
                    <a:pt x="1736" y="424"/>
                  </a:lnTo>
                  <a:lnTo>
                    <a:pt x="1732" y="440"/>
                  </a:lnTo>
                  <a:lnTo>
                    <a:pt x="1730" y="456"/>
                  </a:lnTo>
                  <a:lnTo>
                    <a:pt x="1730" y="474"/>
                  </a:lnTo>
                  <a:lnTo>
                    <a:pt x="1730" y="474"/>
                  </a:lnTo>
                  <a:lnTo>
                    <a:pt x="1722" y="448"/>
                  </a:lnTo>
                  <a:lnTo>
                    <a:pt x="1716" y="424"/>
                  </a:lnTo>
                  <a:lnTo>
                    <a:pt x="1716" y="424"/>
                  </a:lnTo>
                  <a:lnTo>
                    <a:pt x="1712" y="398"/>
                  </a:lnTo>
                  <a:lnTo>
                    <a:pt x="1712" y="372"/>
                  </a:lnTo>
                  <a:lnTo>
                    <a:pt x="1714" y="350"/>
                  </a:lnTo>
                  <a:lnTo>
                    <a:pt x="1718" y="328"/>
                  </a:lnTo>
                  <a:lnTo>
                    <a:pt x="1726" y="306"/>
                  </a:lnTo>
                  <a:lnTo>
                    <a:pt x="1734" y="288"/>
                  </a:lnTo>
                  <a:lnTo>
                    <a:pt x="1746" y="272"/>
                  </a:lnTo>
                  <a:lnTo>
                    <a:pt x="1760" y="256"/>
                  </a:lnTo>
                  <a:lnTo>
                    <a:pt x="1774" y="244"/>
                  </a:lnTo>
                  <a:lnTo>
                    <a:pt x="1790" y="234"/>
                  </a:lnTo>
                  <a:lnTo>
                    <a:pt x="1806" y="226"/>
                  </a:lnTo>
                  <a:lnTo>
                    <a:pt x="1824" y="220"/>
                  </a:lnTo>
                  <a:lnTo>
                    <a:pt x="1840" y="218"/>
                  </a:lnTo>
                  <a:lnTo>
                    <a:pt x="1858" y="218"/>
                  </a:lnTo>
                  <a:lnTo>
                    <a:pt x="1876" y="222"/>
                  </a:lnTo>
                  <a:lnTo>
                    <a:pt x="1894" y="228"/>
                  </a:lnTo>
                  <a:lnTo>
                    <a:pt x="1894" y="228"/>
                  </a:lnTo>
                  <a:lnTo>
                    <a:pt x="1886" y="210"/>
                  </a:lnTo>
                  <a:lnTo>
                    <a:pt x="1876" y="196"/>
                  </a:lnTo>
                  <a:lnTo>
                    <a:pt x="1866" y="182"/>
                  </a:lnTo>
                  <a:lnTo>
                    <a:pt x="1854" y="170"/>
                  </a:lnTo>
                  <a:lnTo>
                    <a:pt x="1840" y="162"/>
                  </a:lnTo>
                  <a:lnTo>
                    <a:pt x="1826" y="154"/>
                  </a:lnTo>
                  <a:lnTo>
                    <a:pt x="1810" y="150"/>
                  </a:lnTo>
                  <a:lnTo>
                    <a:pt x="1792" y="150"/>
                  </a:lnTo>
                  <a:lnTo>
                    <a:pt x="1792" y="150"/>
                  </a:lnTo>
                  <a:lnTo>
                    <a:pt x="1812" y="138"/>
                  </a:lnTo>
                  <a:lnTo>
                    <a:pt x="1822" y="132"/>
                  </a:lnTo>
                  <a:lnTo>
                    <a:pt x="1832" y="130"/>
                  </a:lnTo>
                  <a:lnTo>
                    <a:pt x="1842" y="126"/>
                  </a:lnTo>
                  <a:lnTo>
                    <a:pt x="1854" y="126"/>
                  </a:lnTo>
                  <a:lnTo>
                    <a:pt x="1866" y="126"/>
                  </a:lnTo>
                  <a:lnTo>
                    <a:pt x="1878" y="128"/>
                  </a:lnTo>
                  <a:lnTo>
                    <a:pt x="1892" y="130"/>
                  </a:lnTo>
                  <a:lnTo>
                    <a:pt x="1904" y="134"/>
                  </a:lnTo>
                  <a:lnTo>
                    <a:pt x="1932" y="146"/>
                  </a:lnTo>
                  <a:lnTo>
                    <a:pt x="1960" y="164"/>
                  </a:lnTo>
                  <a:lnTo>
                    <a:pt x="1990" y="188"/>
                  </a:lnTo>
                  <a:lnTo>
                    <a:pt x="1990" y="188"/>
                  </a:lnTo>
                  <a:lnTo>
                    <a:pt x="1980" y="162"/>
                  </a:lnTo>
                  <a:lnTo>
                    <a:pt x="1970" y="140"/>
                  </a:lnTo>
                  <a:lnTo>
                    <a:pt x="1958" y="120"/>
                  </a:lnTo>
                  <a:lnTo>
                    <a:pt x="1946" y="102"/>
                  </a:lnTo>
                  <a:lnTo>
                    <a:pt x="1930" y="88"/>
                  </a:lnTo>
                  <a:lnTo>
                    <a:pt x="1916" y="76"/>
                  </a:lnTo>
                  <a:lnTo>
                    <a:pt x="1900" y="66"/>
                  </a:lnTo>
                  <a:lnTo>
                    <a:pt x="1884" y="60"/>
                  </a:lnTo>
                  <a:lnTo>
                    <a:pt x="1868" y="54"/>
                  </a:lnTo>
                  <a:lnTo>
                    <a:pt x="1852" y="50"/>
                  </a:lnTo>
                  <a:lnTo>
                    <a:pt x="1836" y="48"/>
                  </a:lnTo>
                  <a:lnTo>
                    <a:pt x="1822" y="46"/>
                  </a:lnTo>
                  <a:lnTo>
                    <a:pt x="1796" y="48"/>
                  </a:lnTo>
                  <a:lnTo>
                    <a:pt x="1778" y="52"/>
                  </a:lnTo>
                  <a:lnTo>
                    <a:pt x="1778" y="52"/>
                  </a:lnTo>
                  <a:lnTo>
                    <a:pt x="1782" y="46"/>
                  </a:lnTo>
                  <a:lnTo>
                    <a:pt x="1788" y="42"/>
                  </a:lnTo>
                  <a:lnTo>
                    <a:pt x="1802" y="32"/>
                  </a:lnTo>
                  <a:lnTo>
                    <a:pt x="1818" y="20"/>
                  </a:lnTo>
                  <a:lnTo>
                    <a:pt x="1824" y="12"/>
                  </a:lnTo>
                  <a:lnTo>
                    <a:pt x="1832" y="0"/>
                  </a:lnTo>
                  <a:lnTo>
                    <a:pt x="1832" y="0"/>
                  </a:lnTo>
                  <a:lnTo>
                    <a:pt x="1814" y="0"/>
                  </a:lnTo>
                  <a:lnTo>
                    <a:pt x="1796" y="2"/>
                  </a:lnTo>
                  <a:lnTo>
                    <a:pt x="1780" y="4"/>
                  </a:lnTo>
                  <a:lnTo>
                    <a:pt x="1764" y="8"/>
                  </a:lnTo>
                  <a:lnTo>
                    <a:pt x="1748" y="14"/>
                  </a:lnTo>
                  <a:lnTo>
                    <a:pt x="1732" y="22"/>
                  </a:lnTo>
                  <a:lnTo>
                    <a:pt x="1716" y="30"/>
                  </a:lnTo>
                  <a:lnTo>
                    <a:pt x="1702" y="40"/>
                  </a:lnTo>
                  <a:lnTo>
                    <a:pt x="1690" y="52"/>
                  </a:lnTo>
                  <a:lnTo>
                    <a:pt x="1676" y="64"/>
                  </a:lnTo>
                  <a:lnTo>
                    <a:pt x="1664" y="78"/>
                  </a:lnTo>
                  <a:lnTo>
                    <a:pt x="1654" y="94"/>
                  </a:lnTo>
                  <a:lnTo>
                    <a:pt x="1642" y="112"/>
                  </a:lnTo>
                  <a:lnTo>
                    <a:pt x="1634" y="130"/>
                  </a:lnTo>
                  <a:lnTo>
                    <a:pt x="1624" y="150"/>
                  </a:lnTo>
                  <a:lnTo>
                    <a:pt x="1616" y="170"/>
                  </a:lnTo>
                  <a:lnTo>
                    <a:pt x="1616" y="170"/>
                  </a:lnTo>
                  <a:lnTo>
                    <a:pt x="1612" y="198"/>
                  </a:lnTo>
                  <a:lnTo>
                    <a:pt x="1610" y="226"/>
                  </a:lnTo>
                  <a:lnTo>
                    <a:pt x="1610" y="254"/>
                  </a:lnTo>
                  <a:lnTo>
                    <a:pt x="1612" y="278"/>
                  </a:lnTo>
                  <a:lnTo>
                    <a:pt x="1612" y="278"/>
                  </a:lnTo>
                  <a:lnTo>
                    <a:pt x="1612" y="300"/>
                  </a:lnTo>
                  <a:lnTo>
                    <a:pt x="1614" y="326"/>
                  </a:lnTo>
                  <a:lnTo>
                    <a:pt x="1620" y="352"/>
                  </a:lnTo>
                  <a:lnTo>
                    <a:pt x="1626" y="378"/>
                  </a:lnTo>
                  <a:lnTo>
                    <a:pt x="1646" y="436"/>
                  </a:lnTo>
                  <a:lnTo>
                    <a:pt x="1668" y="494"/>
                  </a:lnTo>
                  <a:lnTo>
                    <a:pt x="1668" y="494"/>
                  </a:lnTo>
                  <a:lnTo>
                    <a:pt x="1694" y="556"/>
                  </a:lnTo>
                  <a:lnTo>
                    <a:pt x="1718" y="616"/>
                  </a:lnTo>
                  <a:lnTo>
                    <a:pt x="1718" y="616"/>
                  </a:lnTo>
                  <a:lnTo>
                    <a:pt x="1706" y="600"/>
                  </a:lnTo>
                  <a:lnTo>
                    <a:pt x="1694" y="582"/>
                  </a:lnTo>
                  <a:lnTo>
                    <a:pt x="1662" y="548"/>
                  </a:lnTo>
                  <a:lnTo>
                    <a:pt x="1626" y="512"/>
                  </a:lnTo>
                  <a:lnTo>
                    <a:pt x="1586" y="478"/>
                  </a:lnTo>
                  <a:lnTo>
                    <a:pt x="1544" y="444"/>
                  </a:lnTo>
                  <a:lnTo>
                    <a:pt x="1506" y="414"/>
                  </a:lnTo>
                  <a:lnTo>
                    <a:pt x="1442" y="370"/>
                  </a:lnTo>
                  <a:lnTo>
                    <a:pt x="1442" y="370"/>
                  </a:lnTo>
                  <a:lnTo>
                    <a:pt x="1432" y="362"/>
                  </a:lnTo>
                  <a:lnTo>
                    <a:pt x="1416" y="356"/>
                  </a:lnTo>
                  <a:lnTo>
                    <a:pt x="1380" y="342"/>
                  </a:lnTo>
                  <a:lnTo>
                    <a:pt x="1342" y="332"/>
                  </a:lnTo>
                  <a:lnTo>
                    <a:pt x="1314" y="324"/>
                  </a:lnTo>
                  <a:lnTo>
                    <a:pt x="1314" y="324"/>
                  </a:lnTo>
                  <a:lnTo>
                    <a:pt x="1230" y="312"/>
                  </a:lnTo>
                  <a:lnTo>
                    <a:pt x="1154" y="304"/>
                  </a:lnTo>
                  <a:lnTo>
                    <a:pt x="1084" y="302"/>
                  </a:lnTo>
                  <a:lnTo>
                    <a:pt x="1020" y="304"/>
                  </a:lnTo>
                  <a:lnTo>
                    <a:pt x="990" y="308"/>
                  </a:lnTo>
                  <a:lnTo>
                    <a:pt x="962" y="312"/>
                  </a:lnTo>
                  <a:lnTo>
                    <a:pt x="936" y="316"/>
                  </a:lnTo>
                  <a:lnTo>
                    <a:pt x="910" y="322"/>
                  </a:lnTo>
                  <a:lnTo>
                    <a:pt x="886" y="330"/>
                  </a:lnTo>
                  <a:lnTo>
                    <a:pt x="864" y="338"/>
                  </a:lnTo>
                  <a:lnTo>
                    <a:pt x="844" y="346"/>
                  </a:lnTo>
                  <a:lnTo>
                    <a:pt x="824" y="356"/>
                  </a:lnTo>
                  <a:lnTo>
                    <a:pt x="806" y="366"/>
                  </a:lnTo>
                  <a:lnTo>
                    <a:pt x="788" y="378"/>
                  </a:lnTo>
                  <a:lnTo>
                    <a:pt x="774" y="390"/>
                  </a:lnTo>
                  <a:lnTo>
                    <a:pt x="758" y="402"/>
                  </a:lnTo>
                  <a:lnTo>
                    <a:pt x="746" y="416"/>
                  </a:lnTo>
                  <a:lnTo>
                    <a:pt x="734" y="430"/>
                  </a:lnTo>
                  <a:lnTo>
                    <a:pt x="724" y="444"/>
                  </a:lnTo>
                  <a:lnTo>
                    <a:pt x="714" y="460"/>
                  </a:lnTo>
                  <a:lnTo>
                    <a:pt x="704" y="476"/>
                  </a:lnTo>
                  <a:lnTo>
                    <a:pt x="698" y="492"/>
                  </a:lnTo>
                  <a:lnTo>
                    <a:pt x="686" y="526"/>
                  </a:lnTo>
                  <a:lnTo>
                    <a:pt x="678" y="562"/>
                  </a:lnTo>
                  <a:lnTo>
                    <a:pt x="674" y="598"/>
                  </a:lnTo>
                  <a:lnTo>
                    <a:pt x="674" y="598"/>
                  </a:lnTo>
                  <a:lnTo>
                    <a:pt x="664" y="582"/>
                  </a:lnTo>
                  <a:lnTo>
                    <a:pt x="654" y="568"/>
                  </a:lnTo>
                  <a:lnTo>
                    <a:pt x="642" y="556"/>
                  </a:lnTo>
                  <a:lnTo>
                    <a:pt x="630" y="546"/>
                  </a:lnTo>
                  <a:lnTo>
                    <a:pt x="618" y="538"/>
                  </a:lnTo>
                  <a:lnTo>
                    <a:pt x="606" y="532"/>
                  </a:lnTo>
                  <a:lnTo>
                    <a:pt x="594" y="528"/>
                  </a:lnTo>
                  <a:lnTo>
                    <a:pt x="580" y="524"/>
                  </a:lnTo>
                  <a:lnTo>
                    <a:pt x="568" y="524"/>
                  </a:lnTo>
                  <a:lnTo>
                    <a:pt x="554" y="524"/>
                  </a:lnTo>
                  <a:lnTo>
                    <a:pt x="542" y="526"/>
                  </a:lnTo>
                  <a:lnTo>
                    <a:pt x="530" y="528"/>
                  </a:lnTo>
                  <a:lnTo>
                    <a:pt x="506" y="536"/>
                  </a:lnTo>
                  <a:lnTo>
                    <a:pt x="486" y="550"/>
                  </a:lnTo>
                  <a:lnTo>
                    <a:pt x="468" y="566"/>
                  </a:lnTo>
                  <a:lnTo>
                    <a:pt x="456" y="584"/>
                  </a:lnTo>
                  <a:lnTo>
                    <a:pt x="450" y="594"/>
                  </a:lnTo>
                  <a:lnTo>
                    <a:pt x="446" y="602"/>
                  </a:lnTo>
                  <a:lnTo>
                    <a:pt x="444" y="612"/>
                  </a:lnTo>
                  <a:lnTo>
                    <a:pt x="444" y="622"/>
                  </a:lnTo>
                  <a:lnTo>
                    <a:pt x="444" y="632"/>
                  </a:lnTo>
                  <a:lnTo>
                    <a:pt x="446" y="642"/>
                  </a:lnTo>
                  <a:lnTo>
                    <a:pt x="450" y="652"/>
                  </a:lnTo>
                  <a:lnTo>
                    <a:pt x="456" y="662"/>
                  </a:lnTo>
                  <a:lnTo>
                    <a:pt x="466" y="670"/>
                  </a:lnTo>
                  <a:lnTo>
                    <a:pt x="476" y="680"/>
                  </a:lnTo>
                  <a:lnTo>
                    <a:pt x="488" y="686"/>
                  </a:lnTo>
                  <a:lnTo>
                    <a:pt x="502" y="694"/>
                  </a:lnTo>
                  <a:lnTo>
                    <a:pt x="502" y="694"/>
                  </a:lnTo>
                  <a:lnTo>
                    <a:pt x="490" y="684"/>
                  </a:lnTo>
                  <a:lnTo>
                    <a:pt x="482" y="674"/>
                  </a:lnTo>
                  <a:lnTo>
                    <a:pt x="478" y="664"/>
                  </a:lnTo>
                  <a:lnTo>
                    <a:pt x="476" y="654"/>
                  </a:lnTo>
                  <a:lnTo>
                    <a:pt x="476" y="644"/>
                  </a:lnTo>
                  <a:lnTo>
                    <a:pt x="480" y="636"/>
                  </a:lnTo>
                  <a:lnTo>
                    <a:pt x="484" y="628"/>
                  </a:lnTo>
                  <a:lnTo>
                    <a:pt x="492" y="620"/>
                  </a:lnTo>
                  <a:lnTo>
                    <a:pt x="500" y="616"/>
                  </a:lnTo>
                  <a:lnTo>
                    <a:pt x="512" y="610"/>
                  </a:lnTo>
                  <a:lnTo>
                    <a:pt x="522" y="608"/>
                  </a:lnTo>
                  <a:lnTo>
                    <a:pt x="534" y="606"/>
                  </a:lnTo>
                  <a:lnTo>
                    <a:pt x="548" y="606"/>
                  </a:lnTo>
                  <a:lnTo>
                    <a:pt x="560" y="608"/>
                  </a:lnTo>
                  <a:lnTo>
                    <a:pt x="574" y="612"/>
                  </a:lnTo>
                  <a:lnTo>
                    <a:pt x="586" y="620"/>
                  </a:lnTo>
                  <a:lnTo>
                    <a:pt x="586" y="620"/>
                  </a:lnTo>
                  <a:lnTo>
                    <a:pt x="576" y="624"/>
                  </a:lnTo>
                  <a:lnTo>
                    <a:pt x="566" y="632"/>
                  </a:lnTo>
                  <a:lnTo>
                    <a:pt x="558" y="638"/>
                  </a:lnTo>
                  <a:lnTo>
                    <a:pt x="552" y="646"/>
                  </a:lnTo>
                  <a:lnTo>
                    <a:pt x="548" y="654"/>
                  </a:lnTo>
                  <a:lnTo>
                    <a:pt x="546" y="662"/>
                  </a:lnTo>
                  <a:lnTo>
                    <a:pt x="546" y="672"/>
                  </a:lnTo>
                  <a:lnTo>
                    <a:pt x="548" y="682"/>
                  </a:lnTo>
                  <a:lnTo>
                    <a:pt x="548" y="682"/>
                  </a:lnTo>
                  <a:lnTo>
                    <a:pt x="560" y="674"/>
                  </a:lnTo>
                  <a:lnTo>
                    <a:pt x="572" y="668"/>
                  </a:lnTo>
                  <a:lnTo>
                    <a:pt x="582" y="666"/>
                  </a:lnTo>
                  <a:lnTo>
                    <a:pt x="592" y="666"/>
                  </a:lnTo>
                  <a:lnTo>
                    <a:pt x="600" y="666"/>
                  </a:lnTo>
                  <a:lnTo>
                    <a:pt x="608" y="670"/>
                  </a:lnTo>
                  <a:lnTo>
                    <a:pt x="614" y="674"/>
                  </a:lnTo>
                  <a:lnTo>
                    <a:pt x="622" y="678"/>
                  </a:lnTo>
                  <a:lnTo>
                    <a:pt x="630" y="692"/>
                  </a:lnTo>
                  <a:lnTo>
                    <a:pt x="638" y="706"/>
                  </a:lnTo>
                  <a:lnTo>
                    <a:pt x="640" y="720"/>
                  </a:lnTo>
                  <a:lnTo>
                    <a:pt x="640" y="732"/>
                  </a:lnTo>
                  <a:lnTo>
                    <a:pt x="640" y="732"/>
                  </a:lnTo>
                  <a:lnTo>
                    <a:pt x="634" y="752"/>
                  </a:lnTo>
                  <a:lnTo>
                    <a:pt x="624" y="766"/>
                  </a:lnTo>
                  <a:lnTo>
                    <a:pt x="614" y="776"/>
                  </a:lnTo>
                  <a:lnTo>
                    <a:pt x="602" y="782"/>
                  </a:lnTo>
                  <a:lnTo>
                    <a:pt x="590" y="784"/>
                  </a:lnTo>
                  <a:lnTo>
                    <a:pt x="578" y="784"/>
                  </a:lnTo>
                  <a:lnTo>
                    <a:pt x="568" y="778"/>
                  </a:lnTo>
                  <a:lnTo>
                    <a:pt x="560" y="770"/>
                  </a:lnTo>
                  <a:lnTo>
                    <a:pt x="560" y="770"/>
                  </a:lnTo>
                  <a:lnTo>
                    <a:pt x="558" y="798"/>
                  </a:lnTo>
                  <a:lnTo>
                    <a:pt x="554" y="820"/>
                  </a:lnTo>
                  <a:lnTo>
                    <a:pt x="546" y="840"/>
                  </a:lnTo>
                  <a:lnTo>
                    <a:pt x="536" y="854"/>
                  </a:lnTo>
                  <a:lnTo>
                    <a:pt x="522" y="864"/>
                  </a:lnTo>
                  <a:lnTo>
                    <a:pt x="508" y="872"/>
                  </a:lnTo>
                  <a:lnTo>
                    <a:pt x="492" y="876"/>
                  </a:lnTo>
                  <a:lnTo>
                    <a:pt x="476" y="878"/>
                  </a:lnTo>
                  <a:lnTo>
                    <a:pt x="460" y="876"/>
                  </a:lnTo>
                  <a:lnTo>
                    <a:pt x="444" y="872"/>
                  </a:lnTo>
                  <a:lnTo>
                    <a:pt x="428" y="866"/>
                  </a:lnTo>
                  <a:lnTo>
                    <a:pt x="414" y="858"/>
                  </a:lnTo>
                  <a:lnTo>
                    <a:pt x="402" y="848"/>
                  </a:lnTo>
                  <a:lnTo>
                    <a:pt x="392" y="838"/>
                  </a:lnTo>
                  <a:lnTo>
                    <a:pt x="384" y="826"/>
                  </a:lnTo>
                  <a:lnTo>
                    <a:pt x="378" y="812"/>
                  </a:lnTo>
                  <a:lnTo>
                    <a:pt x="378" y="812"/>
                  </a:lnTo>
                  <a:lnTo>
                    <a:pt x="372" y="816"/>
                  </a:lnTo>
                  <a:lnTo>
                    <a:pt x="366" y="820"/>
                  </a:lnTo>
                  <a:lnTo>
                    <a:pt x="360" y="826"/>
                  </a:lnTo>
                  <a:lnTo>
                    <a:pt x="354" y="836"/>
                  </a:lnTo>
                  <a:lnTo>
                    <a:pt x="352" y="846"/>
                  </a:lnTo>
                  <a:lnTo>
                    <a:pt x="352" y="862"/>
                  </a:lnTo>
                  <a:lnTo>
                    <a:pt x="356" y="880"/>
                  </a:lnTo>
                  <a:lnTo>
                    <a:pt x="356" y="880"/>
                  </a:lnTo>
                  <a:lnTo>
                    <a:pt x="340" y="876"/>
                  </a:lnTo>
                  <a:lnTo>
                    <a:pt x="324" y="868"/>
                  </a:lnTo>
                  <a:lnTo>
                    <a:pt x="310" y="858"/>
                  </a:lnTo>
                  <a:lnTo>
                    <a:pt x="298" y="846"/>
                  </a:lnTo>
                  <a:lnTo>
                    <a:pt x="288" y="832"/>
                  </a:lnTo>
                  <a:lnTo>
                    <a:pt x="280" y="816"/>
                  </a:lnTo>
                  <a:lnTo>
                    <a:pt x="276" y="800"/>
                  </a:lnTo>
                  <a:lnTo>
                    <a:pt x="276" y="782"/>
                  </a:lnTo>
                  <a:lnTo>
                    <a:pt x="276" y="782"/>
                  </a:lnTo>
                  <a:lnTo>
                    <a:pt x="280" y="764"/>
                  </a:lnTo>
                  <a:lnTo>
                    <a:pt x="282" y="758"/>
                  </a:lnTo>
                  <a:lnTo>
                    <a:pt x="288" y="752"/>
                  </a:lnTo>
                  <a:lnTo>
                    <a:pt x="294" y="746"/>
                  </a:lnTo>
                  <a:lnTo>
                    <a:pt x="300" y="740"/>
                  </a:lnTo>
                  <a:lnTo>
                    <a:pt x="306" y="738"/>
                  </a:lnTo>
                  <a:lnTo>
                    <a:pt x="314" y="736"/>
                  </a:lnTo>
                  <a:lnTo>
                    <a:pt x="322" y="736"/>
                  </a:lnTo>
                  <a:lnTo>
                    <a:pt x="330" y="736"/>
                  </a:lnTo>
                  <a:lnTo>
                    <a:pt x="340" y="740"/>
                  </a:lnTo>
                  <a:lnTo>
                    <a:pt x="350" y="744"/>
                  </a:lnTo>
                  <a:lnTo>
                    <a:pt x="360" y="750"/>
                  </a:lnTo>
                  <a:lnTo>
                    <a:pt x="368" y="760"/>
                  </a:lnTo>
                  <a:lnTo>
                    <a:pt x="378" y="772"/>
                  </a:lnTo>
                  <a:lnTo>
                    <a:pt x="390" y="784"/>
                  </a:lnTo>
                  <a:lnTo>
                    <a:pt x="390" y="784"/>
                  </a:lnTo>
                  <a:lnTo>
                    <a:pt x="396" y="756"/>
                  </a:lnTo>
                  <a:lnTo>
                    <a:pt x="400" y="732"/>
                  </a:lnTo>
                  <a:lnTo>
                    <a:pt x="402" y="710"/>
                  </a:lnTo>
                  <a:lnTo>
                    <a:pt x="398" y="692"/>
                  </a:lnTo>
                  <a:lnTo>
                    <a:pt x="394" y="678"/>
                  </a:lnTo>
                  <a:lnTo>
                    <a:pt x="386" y="664"/>
                  </a:lnTo>
                  <a:lnTo>
                    <a:pt x="376" y="656"/>
                  </a:lnTo>
                  <a:lnTo>
                    <a:pt x="366" y="648"/>
                  </a:lnTo>
                  <a:lnTo>
                    <a:pt x="352" y="644"/>
                  </a:lnTo>
                  <a:lnTo>
                    <a:pt x="340" y="642"/>
                  </a:lnTo>
                  <a:lnTo>
                    <a:pt x="326" y="642"/>
                  </a:lnTo>
                  <a:lnTo>
                    <a:pt x="312" y="646"/>
                  </a:lnTo>
                  <a:lnTo>
                    <a:pt x="298" y="650"/>
                  </a:lnTo>
                  <a:lnTo>
                    <a:pt x="284" y="656"/>
                  </a:lnTo>
                  <a:lnTo>
                    <a:pt x="272" y="664"/>
                  </a:lnTo>
                  <a:lnTo>
                    <a:pt x="260" y="674"/>
                  </a:lnTo>
                  <a:lnTo>
                    <a:pt x="260" y="674"/>
                  </a:lnTo>
                  <a:lnTo>
                    <a:pt x="254" y="684"/>
                  </a:lnTo>
                  <a:lnTo>
                    <a:pt x="246" y="692"/>
                  </a:lnTo>
                  <a:lnTo>
                    <a:pt x="242" y="704"/>
                  </a:lnTo>
                  <a:lnTo>
                    <a:pt x="238" y="714"/>
                  </a:lnTo>
                  <a:lnTo>
                    <a:pt x="232" y="740"/>
                  </a:lnTo>
                  <a:lnTo>
                    <a:pt x="230" y="768"/>
                  </a:lnTo>
                  <a:lnTo>
                    <a:pt x="232" y="782"/>
                  </a:lnTo>
                  <a:lnTo>
                    <a:pt x="234" y="796"/>
                  </a:lnTo>
                  <a:lnTo>
                    <a:pt x="238" y="810"/>
                  </a:lnTo>
                  <a:lnTo>
                    <a:pt x="242" y="824"/>
                  </a:lnTo>
                  <a:lnTo>
                    <a:pt x="248" y="838"/>
                  </a:lnTo>
                  <a:lnTo>
                    <a:pt x="256" y="850"/>
                  </a:lnTo>
                  <a:lnTo>
                    <a:pt x="264" y="864"/>
                  </a:lnTo>
                  <a:lnTo>
                    <a:pt x="276" y="876"/>
                  </a:lnTo>
                  <a:lnTo>
                    <a:pt x="276" y="876"/>
                  </a:lnTo>
                  <a:lnTo>
                    <a:pt x="262" y="876"/>
                  </a:lnTo>
                  <a:lnTo>
                    <a:pt x="254" y="872"/>
                  </a:lnTo>
                  <a:lnTo>
                    <a:pt x="246" y="866"/>
                  </a:lnTo>
                  <a:lnTo>
                    <a:pt x="238" y="856"/>
                  </a:lnTo>
                  <a:lnTo>
                    <a:pt x="222" y="826"/>
                  </a:lnTo>
                  <a:lnTo>
                    <a:pt x="212" y="808"/>
                  </a:lnTo>
                  <a:lnTo>
                    <a:pt x="196" y="786"/>
                  </a:lnTo>
                  <a:lnTo>
                    <a:pt x="196" y="786"/>
                  </a:lnTo>
                  <a:lnTo>
                    <a:pt x="184" y="772"/>
                  </a:lnTo>
                  <a:lnTo>
                    <a:pt x="170" y="760"/>
                  </a:lnTo>
                  <a:lnTo>
                    <a:pt x="154" y="752"/>
                  </a:lnTo>
                  <a:lnTo>
                    <a:pt x="138" y="750"/>
                  </a:lnTo>
                  <a:lnTo>
                    <a:pt x="120" y="748"/>
                  </a:lnTo>
                  <a:lnTo>
                    <a:pt x="104" y="750"/>
                  </a:lnTo>
                  <a:lnTo>
                    <a:pt x="86" y="754"/>
                  </a:lnTo>
                  <a:lnTo>
                    <a:pt x="70" y="762"/>
                  </a:lnTo>
                  <a:lnTo>
                    <a:pt x="54" y="770"/>
                  </a:lnTo>
                  <a:lnTo>
                    <a:pt x="40" y="780"/>
                  </a:lnTo>
                  <a:lnTo>
                    <a:pt x="28" y="792"/>
                  </a:lnTo>
                  <a:lnTo>
                    <a:pt x="18" y="804"/>
                  </a:lnTo>
                  <a:lnTo>
                    <a:pt x="8" y="818"/>
                  </a:lnTo>
                  <a:lnTo>
                    <a:pt x="2" y="832"/>
                  </a:lnTo>
                  <a:lnTo>
                    <a:pt x="0" y="846"/>
                  </a:lnTo>
                  <a:lnTo>
                    <a:pt x="0" y="860"/>
                  </a:lnTo>
                  <a:lnTo>
                    <a:pt x="0" y="860"/>
                  </a:lnTo>
                  <a:lnTo>
                    <a:pt x="2" y="874"/>
                  </a:lnTo>
                  <a:lnTo>
                    <a:pt x="8" y="886"/>
                  </a:lnTo>
                  <a:lnTo>
                    <a:pt x="14" y="898"/>
                  </a:lnTo>
                  <a:lnTo>
                    <a:pt x="22" y="908"/>
                  </a:lnTo>
                  <a:lnTo>
                    <a:pt x="30" y="916"/>
                  </a:lnTo>
                  <a:lnTo>
                    <a:pt x="40" y="924"/>
                  </a:lnTo>
                  <a:lnTo>
                    <a:pt x="52" y="930"/>
                  </a:lnTo>
                  <a:lnTo>
                    <a:pt x="64" y="934"/>
                  </a:lnTo>
                  <a:lnTo>
                    <a:pt x="76" y="936"/>
                  </a:lnTo>
                  <a:lnTo>
                    <a:pt x="88" y="936"/>
                  </a:lnTo>
                  <a:lnTo>
                    <a:pt x="102" y="936"/>
                  </a:lnTo>
                  <a:lnTo>
                    <a:pt x="114" y="934"/>
                  </a:lnTo>
                  <a:lnTo>
                    <a:pt x="128" y="930"/>
                  </a:lnTo>
                  <a:lnTo>
                    <a:pt x="140" y="926"/>
                  </a:lnTo>
                  <a:lnTo>
                    <a:pt x="154" y="918"/>
                  </a:lnTo>
                  <a:lnTo>
                    <a:pt x="166" y="910"/>
                  </a:lnTo>
                  <a:lnTo>
                    <a:pt x="166" y="910"/>
                  </a:lnTo>
                  <a:lnTo>
                    <a:pt x="150" y="908"/>
                  </a:lnTo>
                  <a:lnTo>
                    <a:pt x="134" y="904"/>
                  </a:lnTo>
                  <a:lnTo>
                    <a:pt x="122" y="896"/>
                  </a:lnTo>
                  <a:lnTo>
                    <a:pt x="112" y="886"/>
                  </a:lnTo>
                  <a:lnTo>
                    <a:pt x="104" y="876"/>
                  </a:lnTo>
                  <a:lnTo>
                    <a:pt x="102" y="870"/>
                  </a:lnTo>
                  <a:lnTo>
                    <a:pt x="102" y="862"/>
                  </a:lnTo>
                  <a:lnTo>
                    <a:pt x="102" y="856"/>
                  </a:lnTo>
                  <a:lnTo>
                    <a:pt x="104" y="848"/>
                  </a:lnTo>
                  <a:lnTo>
                    <a:pt x="108" y="840"/>
                  </a:lnTo>
                  <a:lnTo>
                    <a:pt x="112" y="832"/>
                  </a:lnTo>
                  <a:lnTo>
                    <a:pt x="112" y="832"/>
                  </a:lnTo>
                  <a:lnTo>
                    <a:pt x="118" y="826"/>
                  </a:lnTo>
                  <a:lnTo>
                    <a:pt x="124" y="820"/>
                  </a:lnTo>
                  <a:lnTo>
                    <a:pt x="130" y="816"/>
                  </a:lnTo>
                  <a:lnTo>
                    <a:pt x="138" y="814"/>
                  </a:lnTo>
                  <a:lnTo>
                    <a:pt x="146" y="814"/>
                  </a:lnTo>
                  <a:lnTo>
                    <a:pt x="152" y="814"/>
                  </a:lnTo>
                  <a:lnTo>
                    <a:pt x="166" y="818"/>
                  </a:lnTo>
                  <a:lnTo>
                    <a:pt x="180" y="828"/>
                  </a:lnTo>
                  <a:lnTo>
                    <a:pt x="192" y="840"/>
                  </a:lnTo>
                  <a:lnTo>
                    <a:pt x="200" y="854"/>
                  </a:lnTo>
                  <a:lnTo>
                    <a:pt x="206" y="870"/>
                  </a:lnTo>
                  <a:lnTo>
                    <a:pt x="206" y="870"/>
                  </a:lnTo>
                  <a:lnTo>
                    <a:pt x="210" y="882"/>
                  </a:lnTo>
                  <a:lnTo>
                    <a:pt x="214" y="896"/>
                  </a:lnTo>
                  <a:lnTo>
                    <a:pt x="220" y="908"/>
                  </a:lnTo>
                  <a:lnTo>
                    <a:pt x="228" y="920"/>
                  </a:lnTo>
                  <a:lnTo>
                    <a:pt x="238" y="928"/>
                  </a:lnTo>
                  <a:lnTo>
                    <a:pt x="244" y="930"/>
                  </a:lnTo>
                  <a:lnTo>
                    <a:pt x="250" y="930"/>
                  </a:lnTo>
                  <a:lnTo>
                    <a:pt x="256" y="930"/>
                  </a:lnTo>
                  <a:lnTo>
                    <a:pt x="264" y="928"/>
                  </a:lnTo>
                  <a:lnTo>
                    <a:pt x="272" y="922"/>
                  </a:lnTo>
                  <a:lnTo>
                    <a:pt x="280" y="916"/>
                  </a:lnTo>
                  <a:lnTo>
                    <a:pt x="280" y="916"/>
                  </a:lnTo>
                  <a:lnTo>
                    <a:pt x="304" y="926"/>
                  </a:lnTo>
                  <a:lnTo>
                    <a:pt x="332" y="934"/>
                  </a:lnTo>
                  <a:lnTo>
                    <a:pt x="360" y="940"/>
                  </a:lnTo>
                  <a:lnTo>
                    <a:pt x="390" y="942"/>
                  </a:lnTo>
                  <a:lnTo>
                    <a:pt x="420" y="942"/>
                  </a:lnTo>
                  <a:lnTo>
                    <a:pt x="450" y="938"/>
                  </a:lnTo>
                  <a:lnTo>
                    <a:pt x="480" y="932"/>
                  </a:lnTo>
                  <a:lnTo>
                    <a:pt x="510" y="922"/>
                  </a:lnTo>
                  <a:lnTo>
                    <a:pt x="540" y="908"/>
                  </a:lnTo>
                  <a:lnTo>
                    <a:pt x="568" y="890"/>
                  </a:lnTo>
                  <a:lnTo>
                    <a:pt x="594" y="870"/>
                  </a:lnTo>
                  <a:lnTo>
                    <a:pt x="618" y="846"/>
                  </a:lnTo>
                  <a:lnTo>
                    <a:pt x="642" y="816"/>
                  </a:lnTo>
                  <a:lnTo>
                    <a:pt x="662" y="784"/>
                  </a:lnTo>
                  <a:lnTo>
                    <a:pt x="678" y="746"/>
                  </a:lnTo>
                  <a:lnTo>
                    <a:pt x="692" y="704"/>
                  </a:lnTo>
                  <a:lnTo>
                    <a:pt x="692" y="704"/>
                  </a:lnTo>
                  <a:lnTo>
                    <a:pt x="702" y="740"/>
                  </a:lnTo>
                  <a:lnTo>
                    <a:pt x="716" y="772"/>
                  </a:lnTo>
                  <a:lnTo>
                    <a:pt x="734" y="800"/>
                  </a:lnTo>
                  <a:lnTo>
                    <a:pt x="752" y="826"/>
                  </a:lnTo>
                  <a:lnTo>
                    <a:pt x="776" y="850"/>
                  </a:lnTo>
                  <a:lnTo>
                    <a:pt x="800" y="868"/>
                  </a:lnTo>
                  <a:lnTo>
                    <a:pt x="826" y="884"/>
                  </a:lnTo>
                  <a:lnTo>
                    <a:pt x="852" y="898"/>
                  </a:lnTo>
                  <a:lnTo>
                    <a:pt x="882" y="908"/>
                  </a:lnTo>
                  <a:lnTo>
                    <a:pt x="910" y="916"/>
                  </a:lnTo>
                  <a:lnTo>
                    <a:pt x="938" y="922"/>
                  </a:lnTo>
                  <a:lnTo>
                    <a:pt x="966" y="924"/>
                  </a:lnTo>
                  <a:lnTo>
                    <a:pt x="994" y="924"/>
                  </a:lnTo>
                  <a:lnTo>
                    <a:pt x="1022" y="920"/>
                  </a:lnTo>
                  <a:lnTo>
                    <a:pt x="1046" y="916"/>
                  </a:lnTo>
                  <a:lnTo>
                    <a:pt x="1070" y="908"/>
                  </a:lnTo>
                  <a:lnTo>
                    <a:pt x="1070" y="908"/>
                  </a:lnTo>
                  <a:lnTo>
                    <a:pt x="1086" y="900"/>
                  </a:lnTo>
                  <a:lnTo>
                    <a:pt x="1100" y="892"/>
                  </a:lnTo>
                  <a:lnTo>
                    <a:pt x="1114" y="882"/>
                  </a:lnTo>
                  <a:lnTo>
                    <a:pt x="1126" y="872"/>
                  </a:lnTo>
                  <a:lnTo>
                    <a:pt x="1138" y="860"/>
                  </a:lnTo>
                  <a:lnTo>
                    <a:pt x="1148" y="846"/>
                  </a:lnTo>
                  <a:lnTo>
                    <a:pt x="1156" y="834"/>
                  </a:lnTo>
                  <a:lnTo>
                    <a:pt x="1164" y="820"/>
                  </a:lnTo>
                  <a:lnTo>
                    <a:pt x="1170" y="806"/>
                  </a:lnTo>
                  <a:lnTo>
                    <a:pt x="1176" y="792"/>
                  </a:lnTo>
                  <a:lnTo>
                    <a:pt x="1178" y="778"/>
                  </a:lnTo>
                  <a:lnTo>
                    <a:pt x="1180" y="762"/>
                  </a:lnTo>
                  <a:lnTo>
                    <a:pt x="1182" y="748"/>
                  </a:lnTo>
                  <a:lnTo>
                    <a:pt x="1180" y="734"/>
                  </a:lnTo>
                  <a:lnTo>
                    <a:pt x="1178" y="722"/>
                  </a:lnTo>
                  <a:lnTo>
                    <a:pt x="1174" y="708"/>
                  </a:lnTo>
                  <a:lnTo>
                    <a:pt x="1174" y="708"/>
                  </a:lnTo>
                  <a:lnTo>
                    <a:pt x="1168" y="696"/>
                  </a:lnTo>
                  <a:lnTo>
                    <a:pt x="1162" y="686"/>
                  </a:lnTo>
                  <a:lnTo>
                    <a:pt x="1154" y="674"/>
                  </a:lnTo>
                  <a:lnTo>
                    <a:pt x="1144" y="666"/>
                  </a:lnTo>
                  <a:lnTo>
                    <a:pt x="1134" y="658"/>
                  </a:lnTo>
                  <a:lnTo>
                    <a:pt x="1124" y="652"/>
                  </a:lnTo>
                  <a:lnTo>
                    <a:pt x="1112" y="646"/>
                  </a:lnTo>
                  <a:lnTo>
                    <a:pt x="1100" y="642"/>
                  </a:lnTo>
                  <a:lnTo>
                    <a:pt x="1086" y="638"/>
                  </a:lnTo>
                  <a:lnTo>
                    <a:pt x="1074" y="636"/>
                  </a:lnTo>
                  <a:lnTo>
                    <a:pt x="1060" y="636"/>
                  </a:lnTo>
                  <a:lnTo>
                    <a:pt x="1046" y="636"/>
                  </a:lnTo>
                  <a:lnTo>
                    <a:pt x="1034" y="638"/>
                  </a:lnTo>
                  <a:lnTo>
                    <a:pt x="1020" y="640"/>
                  </a:lnTo>
                  <a:lnTo>
                    <a:pt x="1008" y="644"/>
                  </a:lnTo>
                  <a:lnTo>
                    <a:pt x="996" y="650"/>
                  </a:lnTo>
                  <a:lnTo>
                    <a:pt x="996" y="650"/>
                  </a:lnTo>
                  <a:lnTo>
                    <a:pt x="982" y="658"/>
                  </a:lnTo>
                  <a:lnTo>
                    <a:pt x="972" y="668"/>
                  </a:lnTo>
                  <a:lnTo>
                    <a:pt x="964" y="680"/>
                  </a:lnTo>
                  <a:lnTo>
                    <a:pt x="958" y="690"/>
                  </a:lnTo>
                  <a:lnTo>
                    <a:pt x="954" y="702"/>
                  </a:lnTo>
                  <a:lnTo>
                    <a:pt x="952" y="716"/>
                  </a:lnTo>
                  <a:lnTo>
                    <a:pt x="952" y="728"/>
                  </a:lnTo>
                  <a:lnTo>
                    <a:pt x="956" y="738"/>
                  </a:lnTo>
                  <a:lnTo>
                    <a:pt x="960" y="750"/>
                  </a:lnTo>
                  <a:lnTo>
                    <a:pt x="966" y="758"/>
                  </a:lnTo>
                  <a:lnTo>
                    <a:pt x="974" y="766"/>
                  </a:lnTo>
                  <a:lnTo>
                    <a:pt x="984" y="772"/>
                  </a:lnTo>
                  <a:lnTo>
                    <a:pt x="994" y="774"/>
                  </a:lnTo>
                  <a:lnTo>
                    <a:pt x="1006" y="776"/>
                  </a:lnTo>
                  <a:lnTo>
                    <a:pt x="1020" y="772"/>
                  </a:lnTo>
                  <a:lnTo>
                    <a:pt x="1036" y="766"/>
                  </a:lnTo>
                  <a:lnTo>
                    <a:pt x="1036" y="766"/>
                  </a:lnTo>
                  <a:lnTo>
                    <a:pt x="1042" y="788"/>
                  </a:lnTo>
                  <a:lnTo>
                    <a:pt x="1044" y="806"/>
                  </a:lnTo>
                  <a:lnTo>
                    <a:pt x="1042" y="822"/>
                  </a:lnTo>
                  <a:lnTo>
                    <a:pt x="1034" y="838"/>
                  </a:lnTo>
                  <a:lnTo>
                    <a:pt x="1024" y="850"/>
                  </a:lnTo>
                  <a:lnTo>
                    <a:pt x="1010" y="860"/>
                  </a:lnTo>
                  <a:lnTo>
                    <a:pt x="994" y="868"/>
                  </a:lnTo>
                  <a:lnTo>
                    <a:pt x="976" y="872"/>
                  </a:lnTo>
                  <a:lnTo>
                    <a:pt x="956" y="876"/>
                  </a:lnTo>
                  <a:lnTo>
                    <a:pt x="936" y="878"/>
                  </a:lnTo>
                  <a:lnTo>
                    <a:pt x="914" y="876"/>
                  </a:lnTo>
                  <a:lnTo>
                    <a:pt x="892" y="874"/>
                  </a:lnTo>
                  <a:lnTo>
                    <a:pt x="872" y="868"/>
                  </a:lnTo>
                  <a:lnTo>
                    <a:pt x="852" y="860"/>
                  </a:lnTo>
                  <a:lnTo>
                    <a:pt x="832" y="850"/>
                  </a:lnTo>
                  <a:lnTo>
                    <a:pt x="816" y="838"/>
                  </a:lnTo>
                  <a:lnTo>
                    <a:pt x="816" y="838"/>
                  </a:lnTo>
                  <a:lnTo>
                    <a:pt x="832" y="838"/>
                  </a:lnTo>
                  <a:lnTo>
                    <a:pt x="852" y="834"/>
                  </a:lnTo>
                  <a:lnTo>
                    <a:pt x="870" y="828"/>
                  </a:lnTo>
                  <a:lnTo>
                    <a:pt x="886" y="816"/>
                  </a:lnTo>
                  <a:lnTo>
                    <a:pt x="894" y="810"/>
                  </a:lnTo>
                  <a:lnTo>
                    <a:pt x="900" y="802"/>
                  </a:lnTo>
                  <a:lnTo>
                    <a:pt x="906" y="792"/>
                  </a:lnTo>
                  <a:lnTo>
                    <a:pt x="910" y="782"/>
                  </a:lnTo>
                  <a:lnTo>
                    <a:pt x="912" y="772"/>
                  </a:lnTo>
                  <a:lnTo>
                    <a:pt x="912" y="760"/>
                  </a:lnTo>
                  <a:lnTo>
                    <a:pt x="912" y="748"/>
                  </a:lnTo>
                  <a:lnTo>
                    <a:pt x="908" y="734"/>
                  </a:lnTo>
                  <a:lnTo>
                    <a:pt x="908" y="734"/>
                  </a:lnTo>
                  <a:lnTo>
                    <a:pt x="896" y="736"/>
                  </a:lnTo>
                  <a:lnTo>
                    <a:pt x="882" y="738"/>
                  </a:lnTo>
                  <a:lnTo>
                    <a:pt x="870" y="738"/>
                  </a:lnTo>
                  <a:lnTo>
                    <a:pt x="858" y="736"/>
                  </a:lnTo>
                  <a:lnTo>
                    <a:pt x="846" y="734"/>
                  </a:lnTo>
                  <a:lnTo>
                    <a:pt x="834" y="730"/>
                  </a:lnTo>
                  <a:lnTo>
                    <a:pt x="822" y="724"/>
                  </a:lnTo>
                  <a:lnTo>
                    <a:pt x="812" y="718"/>
                  </a:lnTo>
                  <a:lnTo>
                    <a:pt x="792" y="702"/>
                  </a:lnTo>
                  <a:lnTo>
                    <a:pt x="776" y="682"/>
                  </a:lnTo>
                  <a:lnTo>
                    <a:pt x="760" y="662"/>
                  </a:lnTo>
                  <a:lnTo>
                    <a:pt x="748" y="636"/>
                  </a:lnTo>
                  <a:lnTo>
                    <a:pt x="740" y="612"/>
                  </a:lnTo>
                  <a:lnTo>
                    <a:pt x="734" y="584"/>
                  </a:lnTo>
                  <a:lnTo>
                    <a:pt x="732" y="558"/>
                  </a:lnTo>
                  <a:lnTo>
                    <a:pt x="734" y="532"/>
                  </a:lnTo>
                  <a:lnTo>
                    <a:pt x="740" y="506"/>
                  </a:lnTo>
                  <a:lnTo>
                    <a:pt x="744" y="494"/>
                  </a:lnTo>
                  <a:lnTo>
                    <a:pt x="750" y="484"/>
                  </a:lnTo>
                  <a:lnTo>
                    <a:pt x="758" y="472"/>
                  </a:lnTo>
                  <a:lnTo>
                    <a:pt x="766" y="462"/>
                  </a:lnTo>
                  <a:lnTo>
                    <a:pt x="774" y="452"/>
                  </a:lnTo>
                  <a:lnTo>
                    <a:pt x="786" y="444"/>
                  </a:lnTo>
                  <a:lnTo>
                    <a:pt x="786" y="444"/>
                  </a:lnTo>
                  <a:lnTo>
                    <a:pt x="782" y="456"/>
                  </a:lnTo>
                  <a:lnTo>
                    <a:pt x="782" y="466"/>
                  </a:lnTo>
                  <a:lnTo>
                    <a:pt x="782" y="478"/>
                  </a:lnTo>
                  <a:lnTo>
                    <a:pt x="786" y="490"/>
                  </a:lnTo>
                  <a:lnTo>
                    <a:pt x="790" y="502"/>
                  </a:lnTo>
                  <a:lnTo>
                    <a:pt x="796" y="514"/>
                  </a:lnTo>
                  <a:lnTo>
                    <a:pt x="810" y="538"/>
                  </a:lnTo>
                  <a:lnTo>
                    <a:pt x="826" y="560"/>
                  </a:lnTo>
                  <a:lnTo>
                    <a:pt x="844" y="578"/>
                  </a:lnTo>
                  <a:lnTo>
                    <a:pt x="862" y="592"/>
                  </a:lnTo>
                  <a:lnTo>
                    <a:pt x="878" y="602"/>
                  </a:lnTo>
                  <a:lnTo>
                    <a:pt x="878" y="602"/>
                  </a:lnTo>
                  <a:lnTo>
                    <a:pt x="862" y="576"/>
                  </a:lnTo>
                  <a:lnTo>
                    <a:pt x="850" y="550"/>
                  </a:lnTo>
                  <a:lnTo>
                    <a:pt x="842" y="524"/>
                  </a:lnTo>
                  <a:lnTo>
                    <a:pt x="840" y="500"/>
                  </a:lnTo>
                  <a:lnTo>
                    <a:pt x="840" y="474"/>
                  </a:lnTo>
                  <a:lnTo>
                    <a:pt x="842" y="462"/>
                  </a:lnTo>
                  <a:lnTo>
                    <a:pt x="846" y="452"/>
                  </a:lnTo>
                  <a:lnTo>
                    <a:pt x="850" y="440"/>
                  </a:lnTo>
                  <a:lnTo>
                    <a:pt x="856" y="430"/>
                  </a:lnTo>
                  <a:lnTo>
                    <a:pt x="864" y="420"/>
                  </a:lnTo>
                  <a:lnTo>
                    <a:pt x="872" y="410"/>
                  </a:lnTo>
                  <a:lnTo>
                    <a:pt x="882" y="400"/>
                  </a:lnTo>
                  <a:lnTo>
                    <a:pt x="894" y="392"/>
                  </a:lnTo>
                  <a:lnTo>
                    <a:pt x="906" y="384"/>
                  </a:lnTo>
                  <a:lnTo>
                    <a:pt x="920" y="376"/>
                  </a:lnTo>
                  <a:lnTo>
                    <a:pt x="952" y="362"/>
                  </a:lnTo>
                  <a:lnTo>
                    <a:pt x="990" y="352"/>
                  </a:lnTo>
                  <a:lnTo>
                    <a:pt x="1036" y="344"/>
                  </a:lnTo>
                  <a:lnTo>
                    <a:pt x="1086" y="338"/>
                  </a:lnTo>
                  <a:lnTo>
                    <a:pt x="1142" y="338"/>
                  </a:lnTo>
                  <a:lnTo>
                    <a:pt x="1206" y="342"/>
                  </a:lnTo>
                  <a:lnTo>
                    <a:pt x="1206" y="342"/>
                  </a:lnTo>
                  <a:lnTo>
                    <a:pt x="1178" y="344"/>
                  </a:lnTo>
                  <a:lnTo>
                    <a:pt x="1152" y="348"/>
                  </a:lnTo>
                  <a:lnTo>
                    <a:pt x="1126" y="354"/>
                  </a:lnTo>
                  <a:lnTo>
                    <a:pt x="1100" y="360"/>
                  </a:lnTo>
                  <a:lnTo>
                    <a:pt x="1076" y="370"/>
                  </a:lnTo>
                  <a:lnTo>
                    <a:pt x="1054" y="378"/>
                  </a:lnTo>
                  <a:lnTo>
                    <a:pt x="1032" y="390"/>
                  </a:lnTo>
                  <a:lnTo>
                    <a:pt x="1012" y="402"/>
                  </a:lnTo>
                  <a:lnTo>
                    <a:pt x="992" y="416"/>
                  </a:lnTo>
                  <a:lnTo>
                    <a:pt x="974" y="430"/>
                  </a:lnTo>
                  <a:lnTo>
                    <a:pt x="956" y="446"/>
                  </a:lnTo>
                  <a:lnTo>
                    <a:pt x="940" y="462"/>
                  </a:lnTo>
                  <a:lnTo>
                    <a:pt x="926" y="480"/>
                  </a:lnTo>
                  <a:lnTo>
                    <a:pt x="912" y="500"/>
                  </a:lnTo>
                  <a:lnTo>
                    <a:pt x="900" y="522"/>
                  </a:lnTo>
                  <a:lnTo>
                    <a:pt x="890" y="542"/>
                  </a:lnTo>
                  <a:lnTo>
                    <a:pt x="890" y="542"/>
                  </a:lnTo>
                  <a:lnTo>
                    <a:pt x="982" y="476"/>
                  </a:lnTo>
                  <a:lnTo>
                    <a:pt x="982" y="476"/>
                  </a:lnTo>
                  <a:lnTo>
                    <a:pt x="980" y="486"/>
                  </a:lnTo>
                  <a:lnTo>
                    <a:pt x="978" y="496"/>
                  </a:lnTo>
                  <a:lnTo>
                    <a:pt x="978" y="508"/>
                  </a:lnTo>
                  <a:lnTo>
                    <a:pt x="980" y="518"/>
                  </a:lnTo>
                  <a:lnTo>
                    <a:pt x="984" y="528"/>
                  </a:lnTo>
                  <a:lnTo>
                    <a:pt x="988" y="538"/>
                  </a:lnTo>
                  <a:lnTo>
                    <a:pt x="994" y="548"/>
                  </a:lnTo>
                  <a:lnTo>
                    <a:pt x="1000" y="558"/>
                  </a:lnTo>
                  <a:lnTo>
                    <a:pt x="1008" y="566"/>
                  </a:lnTo>
                  <a:lnTo>
                    <a:pt x="1016" y="574"/>
                  </a:lnTo>
                  <a:lnTo>
                    <a:pt x="1024" y="580"/>
                  </a:lnTo>
                  <a:lnTo>
                    <a:pt x="1034" y="584"/>
                  </a:lnTo>
                  <a:lnTo>
                    <a:pt x="1046" y="586"/>
                  </a:lnTo>
                  <a:lnTo>
                    <a:pt x="1056" y="588"/>
                  </a:lnTo>
                  <a:lnTo>
                    <a:pt x="1068" y="586"/>
                  </a:lnTo>
                  <a:lnTo>
                    <a:pt x="1082" y="584"/>
                  </a:lnTo>
                  <a:lnTo>
                    <a:pt x="1082" y="584"/>
                  </a:lnTo>
                  <a:lnTo>
                    <a:pt x="1068" y="574"/>
                  </a:lnTo>
                  <a:lnTo>
                    <a:pt x="1056" y="560"/>
                  </a:lnTo>
                  <a:lnTo>
                    <a:pt x="1046" y="544"/>
                  </a:lnTo>
                  <a:lnTo>
                    <a:pt x="1040" y="526"/>
                  </a:lnTo>
                  <a:lnTo>
                    <a:pt x="1038" y="516"/>
                  </a:lnTo>
                  <a:lnTo>
                    <a:pt x="1038" y="508"/>
                  </a:lnTo>
                  <a:lnTo>
                    <a:pt x="1038" y="498"/>
                  </a:lnTo>
                  <a:lnTo>
                    <a:pt x="1042" y="490"/>
                  </a:lnTo>
                  <a:lnTo>
                    <a:pt x="1046" y="480"/>
                  </a:lnTo>
                  <a:lnTo>
                    <a:pt x="1054" y="472"/>
                  </a:lnTo>
                  <a:lnTo>
                    <a:pt x="1064" y="464"/>
                  </a:lnTo>
                  <a:lnTo>
                    <a:pt x="1076" y="458"/>
                  </a:lnTo>
                  <a:lnTo>
                    <a:pt x="1076" y="458"/>
                  </a:lnTo>
                  <a:lnTo>
                    <a:pt x="1072" y="468"/>
                  </a:lnTo>
                  <a:lnTo>
                    <a:pt x="1072" y="478"/>
                  </a:lnTo>
                  <a:lnTo>
                    <a:pt x="1076" y="486"/>
                  </a:lnTo>
                  <a:lnTo>
                    <a:pt x="1080" y="494"/>
                  </a:lnTo>
                  <a:lnTo>
                    <a:pt x="1088" y="502"/>
                  </a:lnTo>
                  <a:lnTo>
                    <a:pt x="1096" y="506"/>
                  </a:lnTo>
                  <a:lnTo>
                    <a:pt x="1108" y="508"/>
                  </a:lnTo>
                  <a:lnTo>
                    <a:pt x="1122" y="508"/>
                  </a:lnTo>
                  <a:lnTo>
                    <a:pt x="1122" y="508"/>
                  </a:lnTo>
                  <a:lnTo>
                    <a:pt x="1126" y="480"/>
                  </a:lnTo>
                  <a:lnTo>
                    <a:pt x="1132" y="456"/>
                  </a:lnTo>
                  <a:lnTo>
                    <a:pt x="1144" y="434"/>
                  </a:lnTo>
                  <a:lnTo>
                    <a:pt x="1158" y="414"/>
                  </a:lnTo>
                  <a:lnTo>
                    <a:pt x="1166" y="406"/>
                  </a:lnTo>
                  <a:lnTo>
                    <a:pt x="1176" y="400"/>
                  </a:lnTo>
                  <a:lnTo>
                    <a:pt x="1186" y="392"/>
                  </a:lnTo>
                  <a:lnTo>
                    <a:pt x="1196" y="388"/>
                  </a:lnTo>
                  <a:lnTo>
                    <a:pt x="1208" y="384"/>
                  </a:lnTo>
                  <a:lnTo>
                    <a:pt x="1220" y="380"/>
                  </a:lnTo>
                  <a:lnTo>
                    <a:pt x="1232" y="378"/>
                  </a:lnTo>
                  <a:lnTo>
                    <a:pt x="1246" y="376"/>
                  </a:lnTo>
                  <a:lnTo>
                    <a:pt x="1274" y="378"/>
                  </a:lnTo>
                  <a:lnTo>
                    <a:pt x="1304" y="384"/>
                  </a:lnTo>
                  <a:lnTo>
                    <a:pt x="1336" y="396"/>
                  </a:lnTo>
                  <a:lnTo>
                    <a:pt x="1370" y="414"/>
                  </a:lnTo>
                  <a:lnTo>
                    <a:pt x="1406" y="438"/>
                  </a:lnTo>
                  <a:lnTo>
                    <a:pt x="1442" y="466"/>
                  </a:lnTo>
                  <a:lnTo>
                    <a:pt x="1480" y="502"/>
                  </a:lnTo>
                  <a:lnTo>
                    <a:pt x="1518" y="544"/>
                  </a:lnTo>
                  <a:lnTo>
                    <a:pt x="1518" y="544"/>
                  </a:lnTo>
                  <a:lnTo>
                    <a:pt x="1500" y="538"/>
                  </a:lnTo>
                  <a:lnTo>
                    <a:pt x="1482" y="534"/>
                  </a:lnTo>
                  <a:lnTo>
                    <a:pt x="1462" y="532"/>
                  </a:lnTo>
                  <a:lnTo>
                    <a:pt x="1442" y="530"/>
                  </a:lnTo>
                  <a:lnTo>
                    <a:pt x="1422" y="532"/>
                  </a:lnTo>
                  <a:lnTo>
                    <a:pt x="1400" y="532"/>
                  </a:lnTo>
                  <a:lnTo>
                    <a:pt x="1380" y="536"/>
                  </a:lnTo>
                  <a:lnTo>
                    <a:pt x="1358" y="540"/>
                  </a:lnTo>
                  <a:lnTo>
                    <a:pt x="1316" y="554"/>
                  </a:lnTo>
                  <a:lnTo>
                    <a:pt x="1276" y="570"/>
                  </a:lnTo>
                  <a:lnTo>
                    <a:pt x="1240" y="590"/>
                  </a:lnTo>
                  <a:lnTo>
                    <a:pt x="1208" y="612"/>
                  </a:lnTo>
                  <a:lnTo>
                    <a:pt x="1208" y="612"/>
                  </a:lnTo>
                  <a:lnTo>
                    <a:pt x="1224" y="608"/>
                  </a:lnTo>
                  <a:lnTo>
                    <a:pt x="1248" y="606"/>
                  </a:lnTo>
                  <a:lnTo>
                    <a:pt x="1282" y="604"/>
                  </a:lnTo>
                  <a:lnTo>
                    <a:pt x="1324" y="606"/>
                  </a:lnTo>
                  <a:lnTo>
                    <a:pt x="1324" y="606"/>
                  </a:lnTo>
                  <a:lnTo>
                    <a:pt x="1308" y="620"/>
                  </a:lnTo>
                  <a:lnTo>
                    <a:pt x="1292" y="636"/>
                  </a:lnTo>
                  <a:lnTo>
                    <a:pt x="1278" y="654"/>
                  </a:lnTo>
                  <a:lnTo>
                    <a:pt x="1272" y="664"/>
                  </a:lnTo>
                  <a:lnTo>
                    <a:pt x="1266" y="674"/>
                  </a:lnTo>
                  <a:lnTo>
                    <a:pt x="1262" y="686"/>
                  </a:lnTo>
                  <a:lnTo>
                    <a:pt x="1258" y="700"/>
                  </a:lnTo>
                  <a:lnTo>
                    <a:pt x="1256" y="714"/>
                  </a:lnTo>
                  <a:lnTo>
                    <a:pt x="1256" y="732"/>
                  </a:lnTo>
                  <a:lnTo>
                    <a:pt x="1258" y="750"/>
                  </a:lnTo>
                  <a:lnTo>
                    <a:pt x="1262" y="768"/>
                  </a:lnTo>
                  <a:lnTo>
                    <a:pt x="1268" y="790"/>
                  </a:lnTo>
                  <a:lnTo>
                    <a:pt x="1276" y="814"/>
                  </a:lnTo>
                  <a:lnTo>
                    <a:pt x="1276" y="814"/>
                  </a:lnTo>
                  <a:lnTo>
                    <a:pt x="1286" y="836"/>
                  </a:lnTo>
                  <a:lnTo>
                    <a:pt x="1298" y="854"/>
                  </a:lnTo>
                  <a:lnTo>
                    <a:pt x="1310" y="872"/>
                  </a:lnTo>
                  <a:lnTo>
                    <a:pt x="1326" y="886"/>
                  </a:lnTo>
                  <a:lnTo>
                    <a:pt x="1340" y="900"/>
                  </a:lnTo>
                  <a:lnTo>
                    <a:pt x="1358" y="910"/>
                  </a:lnTo>
                  <a:lnTo>
                    <a:pt x="1376" y="920"/>
                  </a:lnTo>
                  <a:lnTo>
                    <a:pt x="1394" y="926"/>
                  </a:lnTo>
                  <a:lnTo>
                    <a:pt x="1412" y="932"/>
                  </a:lnTo>
                  <a:lnTo>
                    <a:pt x="1432" y="934"/>
                  </a:lnTo>
                  <a:lnTo>
                    <a:pt x="1450" y="936"/>
                  </a:lnTo>
                  <a:lnTo>
                    <a:pt x="1470" y="934"/>
                  </a:lnTo>
                  <a:lnTo>
                    <a:pt x="1488" y="932"/>
                  </a:lnTo>
                  <a:lnTo>
                    <a:pt x="1508" y="928"/>
                  </a:lnTo>
                  <a:lnTo>
                    <a:pt x="1526" y="924"/>
                  </a:lnTo>
                  <a:lnTo>
                    <a:pt x="1542" y="916"/>
                  </a:lnTo>
                  <a:lnTo>
                    <a:pt x="1542" y="916"/>
                  </a:lnTo>
                  <a:lnTo>
                    <a:pt x="1558" y="908"/>
                  </a:lnTo>
                  <a:lnTo>
                    <a:pt x="1572" y="898"/>
                  </a:lnTo>
                  <a:lnTo>
                    <a:pt x="1582" y="888"/>
                  </a:lnTo>
                  <a:lnTo>
                    <a:pt x="1592" y="878"/>
                  </a:lnTo>
                  <a:lnTo>
                    <a:pt x="1602" y="868"/>
                  </a:lnTo>
                  <a:lnTo>
                    <a:pt x="1608" y="856"/>
                  </a:lnTo>
                  <a:lnTo>
                    <a:pt x="1614" y="846"/>
                  </a:lnTo>
                  <a:lnTo>
                    <a:pt x="1616" y="834"/>
                  </a:lnTo>
                  <a:lnTo>
                    <a:pt x="1618" y="822"/>
                  </a:lnTo>
                  <a:lnTo>
                    <a:pt x="1620" y="812"/>
                  </a:lnTo>
                  <a:lnTo>
                    <a:pt x="1620" y="800"/>
                  </a:lnTo>
                  <a:lnTo>
                    <a:pt x="1618" y="790"/>
                  </a:lnTo>
                  <a:lnTo>
                    <a:pt x="1616" y="780"/>
                  </a:lnTo>
                  <a:lnTo>
                    <a:pt x="1612" y="770"/>
                  </a:lnTo>
                  <a:lnTo>
                    <a:pt x="1600" y="752"/>
                  </a:lnTo>
                  <a:lnTo>
                    <a:pt x="1600" y="752"/>
                  </a:lnTo>
                  <a:lnTo>
                    <a:pt x="1586" y="736"/>
                  </a:lnTo>
                  <a:lnTo>
                    <a:pt x="1570" y="724"/>
                  </a:lnTo>
                  <a:lnTo>
                    <a:pt x="1552" y="714"/>
                  </a:lnTo>
                  <a:lnTo>
                    <a:pt x="1532" y="710"/>
                  </a:lnTo>
                  <a:lnTo>
                    <a:pt x="1522" y="710"/>
                  </a:lnTo>
                  <a:lnTo>
                    <a:pt x="1512" y="710"/>
                  </a:lnTo>
                  <a:lnTo>
                    <a:pt x="1502" y="712"/>
                  </a:lnTo>
                  <a:lnTo>
                    <a:pt x="1492" y="714"/>
                  </a:lnTo>
                  <a:lnTo>
                    <a:pt x="1482" y="720"/>
                  </a:lnTo>
                  <a:lnTo>
                    <a:pt x="1472" y="726"/>
                  </a:lnTo>
                  <a:lnTo>
                    <a:pt x="1464" y="732"/>
                  </a:lnTo>
                  <a:lnTo>
                    <a:pt x="1454" y="742"/>
                  </a:lnTo>
                  <a:lnTo>
                    <a:pt x="1454" y="742"/>
                  </a:lnTo>
                  <a:lnTo>
                    <a:pt x="1448" y="750"/>
                  </a:lnTo>
                  <a:lnTo>
                    <a:pt x="1444" y="760"/>
                  </a:lnTo>
                  <a:lnTo>
                    <a:pt x="1442" y="770"/>
                  </a:lnTo>
                  <a:lnTo>
                    <a:pt x="1440" y="780"/>
                  </a:lnTo>
                  <a:lnTo>
                    <a:pt x="1440" y="790"/>
                  </a:lnTo>
                  <a:lnTo>
                    <a:pt x="1442" y="802"/>
                  </a:lnTo>
                  <a:lnTo>
                    <a:pt x="1444" y="812"/>
                  </a:lnTo>
                  <a:lnTo>
                    <a:pt x="1448" y="824"/>
                  </a:lnTo>
                  <a:lnTo>
                    <a:pt x="1454" y="834"/>
                  </a:lnTo>
                  <a:lnTo>
                    <a:pt x="1462" y="842"/>
                  </a:lnTo>
                  <a:lnTo>
                    <a:pt x="1470" y="850"/>
                  </a:lnTo>
                  <a:lnTo>
                    <a:pt x="1480" y="856"/>
                  </a:lnTo>
                  <a:lnTo>
                    <a:pt x="1492" y="862"/>
                  </a:lnTo>
                  <a:lnTo>
                    <a:pt x="1504" y="864"/>
                  </a:lnTo>
                  <a:lnTo>
                    <a:pt x="1518" y="866"/>
                  </a:lnTo>
                  <a:lnTo>
                    <a:pt x="1534" y="864"/>
                  </a:lnTo>
                  <a:lnTo>
                    <a:pt x="1534" y="864"/>
                  </a:lnTo>
                  <a:lnTo>
                    <a:pt x="1522" y="874"/>
                  </a:lnTo>
                  <a:lnTo>
                    <a:pt x="1508" y="880"/>
                  </a:lnTo>
                  <a:lnTo>
                    <a:pt x="1496" y="886"/>
                  </a:lnTo>
                  <a:lnTo>
                    <a:pt x="1482" y="890"/>
                  </a:lnTo>
                  <a:lnTo>
                    <a:pt x="1470" y="892"/>
                  </a:lnTo>
                  <a:lnTo>
                    <a:pt x="1458" y="894"/>
                  </a:lnTo>
                  <a:lnTo>
                    <a:pt x="1444" y="894"/>
                  </a:lnTo>
                  <a:lnTo>
                    <a:pt x="1432" y="892"/>
                  </a:lnTo>
                  <a:lnTo>
                    <a:pt x="1422" y="888"/>
                  </a:lnTo>
                  <a:lnTo>
                    <a:pt x="1410" y="884"/>
                  </a:lnTo>
                  <a:lnTo>
                    <a:pt x="1400" y="880"/>
                  </a:lnTo>
                  <a:lnTo>
                    <a:pt x="1390" y="872"/>
                  </a:lnTo>
                  <a:lnTo>
                    <a:pt x="1382" y="864"/>
                  </a:lnTo>
                  <a:lnTo>
                    <a:pt x="1374" y="856"/>
                  </a:lnTo>
                  <a:lnTo>
                    <a:pt x="1368" y="846"/>
                  </a:lnTo>
                  <a:lnTo>
                    <a:pt x="1362" y="834"/>
                  </a:lnTo>
                  <a:lnTo>
                    <a:pt x="1362" y="834"/>
                  </a:lnTo>
                  <a:lnTo>
                    <a:pt x="1354" y="806"/>
                  </a:lnTo>
                  <a:lnTo>
                    <a:pt x="1350" y="792"/>
                  </a:lnTo>
                  <a:lnTo>
                    <a:pt x="1348" y="776"/>
                  </a:lnTo>
                  <a:lnTo>
                    <a:pt x="1348" y="762"/>
                  </a:lnTo>
                  <a:lnTo>
                    <a:pt x="1352" y="744"/>
                  </a:lnTo>
                  <a:lnTo>
                    <a:pt x="1356" y="728"/>
                  </a:lnTo>
                  <a:lnTo>
                    <a:pt x="1364" y="710"/>
                  </a:lnTo>
                  <a:lnTo>
                    <a:pt x="1364" y="710"/>
                  </a:lnTo>
                  <a:lnTo>
                    <a:pt x="1370" y="702"/>
                  </a:lnTo>
                  <a:lnTo>
                    <a:pt x="1376" y="694"/>
                  </a:lnTo>
                  <a:lnTo>
                    <a:pt x="1392" y="680"/>
                  </a:lnTo>
                  <a:lnTo>
                    <a:pt x="1410" y="668"/>
                  </a:lnTo>
                  <a:lnTo>
                    <a:pt x="1432" y="660"/>
                  </a:lnTo>
                  <a:lnTo>
                    <a:pt x="1456" y="654"/>
                  </a:lnTo>
                  <a:lnTo>
                    <a:pt x="1482" y="652"/>
                  </a:lnTo>
                  <a:lnTo>
                    <a:pt x="1508" y="650"/>
                  </a:lnTo>
                  <a:lnTo>
                    <a:pt x="1536" y="652"/>
                  </a:lnTo>
                  <a:lnTo>
                    <a:pt x="1566" y="658"/>
                  </a:lnTo>
                  <a:lnTo>
                    <a:pt x="1594" y="664"/>
                  </a:lnTo>
                  <a:lnTo>
                    <a:pt x="1624" y="672"/>
                  </a:lnTo>
                  <a:lnTo>
                    <a:pt x="1652" y="682"/>
                  </a:lnTo>
                  <a:lnTo>
                    <a:pt x="1680" y="694"/>
                  </a:lnTo>
                  <a:lnTo>
                    <a:pt x="1706" y="706"/>
                  </a:lnTo>
                  <a:lnTo>
                    <a:pt x="1732" y="722"/>
                  </a:lnTo>
                  <a:lnTo>
                    <a:pt x="1754" y="738"/>
                  </a:lnTo>
                  <a:lnTo>
                    <a:pt x="1754" y="738"/>
                  </a:lnTo>
                  <a:lnTo>
                    <a:pt x="1788" y="764"/>
                  </a:lnTo>
                  <a:lnTo>
                    <a:pt x="1826" y="790"/>
                  </a:lnTo>
                  <a:lnTo>
                    <a:pt x="1868" y="816"/>
                  </a:lnTo>
                  <a:lnTo>
                    <a:pt x="1914" y="842"/>
                  </a:lnTo>
                  <a:lnTo>
                    <a:pt x="1962" y="866"/>
                  </a:lnTo>
                  <a:lnTo>
                    <a:pt x="2016" y="890"/>
                  </a:lnTo>
                  <a:lnTo>
                    <a:pt x="2072" y="912"/>
                  </a:lnTo>
                  <a:lnTo>
                    <a:pt x="2134" y="932"/>
                  </a:lnTo>
                  <a:lnTo>
                    <a:pt x="2134" y="932"/>
                  </a:lnTo>
                  <a:lnTo>
                    <a:pt x="2160" y="938"/>
                  </a:lnTo>
                  <a:lnTo>
                    <a:pt x="2188" y="944"/>
                  </a:lnTo>
                  <a:lnTo>
                    <a:pt x="2216" y="948"/>
                  </a:lnTo>
                  <a:lnTo>
                    <a:pt x="2246" y="952"/>
                  </a:lnTo>
                  <a:lnTo>
                    <a:pt x="2276" y="954"/>
                  </a:lnTo>
                  <a:lnTo>
                    <a:pt x="2306" y="954"/>
                  </a:lnTo>
                  <a:lnTo>
                    <a:pt x="2372" y="954"/>
                  </a:lnTo>
                  <a:lnTo>
                    <a:pt x="2438" y="946"/>
                  </a:lnTo>
                  <a:lnTo>
                    <a:pt x="2470" y="942"/>
                  </a:lnTo>
                  <a:lnTo>
                    <a:pt x="2504" y="936"/>
                  </a:lnTo>
                  <a:lnTo>
                    <a:pt x="2536" y="928"/>
                  </a:lnTo>
                  <a:lnTo>
                    <a:pt x="2568" y="920"/>
                  </a:lnTo>
                  <a:lnTo>
                    <a:pt x="2600" y="910"/>
                  </a:lnTo>
                  <a:lnTo>
                    <a:pt x="2632" y="898"/>
                  </a:lnTo>
                  <a:lnTo>
                    <a:pt x="2616" y="848"/>
                  </a:lnTo>
                  <a:close/>
                  <a:moveTo>
                    <a:pt x="2050" y="538"/>
                  </a:moveTo>
                  <a:lnTo>
                    <a:pt x="2050" y="538"/>
                  </a:lnTo>
                  <a:lnTo>
                    <a:pt x="2050" y="546"/>
                  </a:lnTo>
                  <a:lnTo>
                    <a:pt x="2046" y="554"/>
                  </a:lnTo>
                  <a:lnTo>
                    <a:pt x="2042" y="562"/>
                  </a:lnTo>
                  <a:lnTo>
                    <a:pt x="2036" y="568"/>
                  </a:lnTo>
                  <a:lnTo>
                    <a:pt x="2030" y="572"/>
                  </a:lnTo>
                  <a:lnTo>
                    <a:pt x="2022" y="576"/>
                  </a:lnTo>
                  <a:lnTo>
                    <a:pt x="2014" y="578"/>
                  </a:lnTo>
                  <a:lnTo>
                    <a:pt x="2004" y="578"/>
                  </a:lnTo>
                  <a:lnTo>
                    <a:pt x="1996" y="578"/>
                  </a:lnTo>
                  <a:lnTo>
                    <a:pt x="1986" y="576"/>
                  </a:lnTo>
                  <a:lnTo>
                    <a:pt x="1978" y="572"/>
                  </a:lnTo>
                  <a:lnTo>
                    <a:pt x="1970" y="566"/>
                  </a:lnTo>
                  <a:lnTo>
                    <a:pt x="1962" y="560"/>
                  </a:lnTo>
                  <a:lnTo>
                    <a:pt x="1956" y="550"/>
                  </a:lnTo>
                  <a:lnTo>
                    <a:pt x="1950" y="540"/>
                  </a:lnTo>
                  <a:lnTo>
                    <a:pt x="1946" y="528"/>
                  </a:lnTo>
                  <a:lnTo>
                    <a:pt x="1946" y="528"/>
                  </a:lnTo>
                  <a:lnTo>
                    <a:pt x="1958" y="538"/>
                  </a:lnTo>
                  <a:lnTo>
                    <a:pt x="1970" y="546"/>
                  </a:lnTo>
                  <a:lnTo>
                    <a:pt x="1984" y="550"/>
                  </a:lnTo>
                  <a:lnTo>
                    <a:pt x="1998" y="552"/>
                  </a:lnTo>
                  <a:lnTo>
                    <a:pt x="2012" y="552"/>
                  </a:lnTo>
                  <a:lnTo>
                    <a:pt x="2026" y="550"/>
                  </a:lnTo>
                  <a:lnTo>
                    <a:pt x="2038" y="544"/>
                  </a:lnTo>
                  <a:lnTo>
                    <a:pt x="2050" y="538"/>
                  </a:lnTo>
                  <a:lnTo>
                    <a:pt x="2050" y="538"/>
                  </a:lnTo>
                  <a:close/>
                  <a:moveTo>
                    <a:pt x="1672" y="406"/>
                  </a:moveTo>
                  <a:lnTo>
                    <a:pt x="1672" y="406"/>
                  </a:lnTo>
                  <a:lnTo>
                    <a:pt x="1658" y="364"/>
                  </a:lnTo>
                  <a:lnTo>
                    <a:pt x="1650" y="326"/>
                  </a:lnTo>
                  <a:lnTo>
                    <a:pt x="1646" y="292"/>
                  </a:lnTo>
                  <a:lnTo>
                    <a:pt x="1646" y="258"/>
                  </a:lnTo>
                  <a:lnTo>
                    <a:pt x="1648" y="228"/>
                  </a:lnTo>
                  <a:lnTo>
                    <a:pt x="1654" y="198"/>
                  </a:lnTo>
                  <a:lnTo>
                    <a:pt x="1664" y="170"/>
                  </a:lnTo>
                  <a:lnTo>
                    <a:pt x="1678" y="144"/>
                  </a:lnTo>
                  <a:lnTo>
                    <a:pt x="1678" y="144"/>
                  </a:lnTo>
                  <a:lnTo>
                    <a:pt x="1686" y="130"/>
                  </a:lnTo>
                  <a:lnTo>
                    <a:pt x="1696" y="118"/>
                  </a:lnTo>
                  <a:lnTo>
                    <a:pt x="1708" y="108"/>
                  </a:lnTo>
                  <a:lnTo>
                    <a:pt x="1718" y="98"/>
                  </a:lnTo>
                  <a:lnTo>
                    <a:pt x="1730" y="92"/>
                  </a:lnTo>
                  <a:lnTo>
                    <a:pt x="1742" y="86"/>
                  </a:lnTo>
                  <a:lnTo>
                    <a:pt x="1754" y="82"/>
                  </a:lnTo>
                  <a:lnTo>
                    <a:pt x="1768" y="80"/>
                  </a:lnTo>
                  <a:lnTo>
                    <a:pt x="1792" y="78"/>
                  </a:lnTo>
                  <a:lnTo>
                    <a:pt x="1818" y="80"/>
                  </a:lnTo>
                  <a:lnTo>
                    <a:pt x="1840" y="86"/>
                  </a:lnTo>
                  <a:lnTo>
                    <a:pt x="1860" y="94"/>
                  </a:lnTo>
                  <a:lnTo>
                    <a:pt x="1860" y="94"/>
                  </a:lnTo>
                  <a:lnTo>
                    <a:pt x="1834" y="92"/>
                  </a:lnTo>
                  <a:lnTo>
                    <a:pt x="1808" y="94"/>
                  </a:lnTo>
                  <a:lnTo>
                    <a:pt x="1786" y="100"/>
                  </a:lnTo>
                  <a:lnTo>
                    <a:pt x="1766" y="110"/>
                  </a:lnTo>
                  <a:lnTo>
                    <a:pt x="1750" y="122"/>
                  </a:lnTo>
                  <a:lnTo>
                    <a:pt x="1738" y="136"/>
                  </a:lnTo>
                  <a:lnTo>
                    <a:pt x="1734" y="144"/>
                  </a:lnTo>
                  <a:lnTo>
                    <a:pt x="1732" y="154"/>
                  </a:lnTo>
                  <a:lnTo>
                    <a:pt x="1730" y="162"/>
                  </a:lnTo>
                  <a:lnTo>
                    <a:pt x="1730" y="170"/>
                  </a:lnTo>
                  <a:lnTo>
                    <a:pt x="1730" y="170"/>
                  </a:lnTo>
                  <a:lnTo>
                    <a:pt x="1756" y="168"/>
                  </a:lnTo>
                  <a:lnTo>
                    <a:pt x="1770" y="168"/>
                  </a:lnTo>
                  <a:lnTo>
                    <a:pt x="1784" y="168"/>
                  </a:lnTo>
                  <a:lnTo>
                    <a:pt x="1800" y="172"/>
                  </a:lnTo>
                  <a:lnTo>
                    <a:pt x="1814" y="176"/>
                  </a:lnTo>
                  <a:lnTo>
                    <a:pt x="1826" y="180"/>
                  </a:lnTo>
                  <a:lnTo>
                    <a:pt x="1836" y="188"/>
                  </a:lnTo>
                  <a:lnTo>
                    <a:pt x="1836" y="188"/>
                  </a:lnTo>
                  <a:lnTo>
                    <a:pt x="1790" y="194"/>
                  </a:lnTo>
                  <a:lnTo>
                    <a:pt x="1770" y="198"/>
                  </a:lnTo>
                  <a:lnTo>
                    <a:pt x="1750" y="204"/>
                  </a:lnTo>
                  <a:lnTo>
                    <a:pt x="1732" y="210"/>
                  </a:lnTo>
                  <a:lnTo>
                    <a:pt x="1718" y="216"/>
                  </a:lnTo>
                  <a:lnTo>
                    <a:pt x="1704" y="224"/>
                  </a:lnTo>
                  <a:lnTo>
                    <a:pt x="1692" y="234"/>
                  </a:lnTo>
                  <a:lnTo>
                    <a:pt x="1682" y="248"/>
                  </a:lnTo>
                  <a:lnTo>
                    <a:pt x="1674" y="262"/>
                  </a:lnTo>
                  <a:lnTo>
                    <a:pt x="1668" y="278"/>
                  </a:lnTo>
                  <a:lnTo>
                    <a:pt x="1664" y="298"/>
                  </a:lnTo>
                  <a:lnTo>
                    <a:pt x="1664" y="320"/>
                  </a:lnTo>
                  <a:lnTo>
                    <a:pt x="1664" y="344"/>
                  </a:lnTo>
                  <a:lnTo>
                    <a:pt x="1666" y="374"/>
                  </a:lnTo>
                  <a:lnTo>
                    <a:pt x="1672" y="406"/>
                  </a:lnTo>
                  <a:lnTo>
                    <a:pt x="1672" y="406"/>
                  </a:lnTo>
                  <a:close/>
                  <a:moveTo>
                    <a:pt x="508" y="578"/>
                  </a:moveTo>
                  <a:lnTo>
                    <a:pt x="508" y="578"/>
                  </a:lnTo>
                  <a:lnTo>
                    <a:pt x="516" y="566"/>
                  </a:lnTo>
                  <a:lnTo>
                    <a:pt x="526" y="558"/>
                  </a:lnTo>
                  <a:lnTo>
                    <a:pt x="534" y="552"/>
                  </a:lnTo>
                  <a:lnTo>
                    <a:pt x="544" y="548"/>
                  </a:lnTo>
                  <a:lnTo>
                    <a:pt x="554" y="544"/>
                  </a:lnTo>
                  <a:lnTo>
                    <a:pt x="564" y="544"/>
                  </a:lnTo>
                  <a:lnTo>
                    <a:pt x="574" y="546"/>
                  </a:lnTo>
                  <a:lnTo>
                    <a:pt x="584" y="548"/>
                  </a:lnTo>
                  <a:lnTo>
                    <a:pt x="592" y="552"/>
                  </a:lnTo>
                  <a:lnTo>
                    <a:pt x="600" y="558"/>
                  </a:lnTo>
                  <a:lnTo>
                    <a:pt x="608" y="564"/>
                  </a:lnTo>
                  <a:lnTo>
                    <a:pt x="616" y="572"/>
                  </a:lnTo>
                  <a:lnTo>
                    <a:pt x="622" y="582"/>
                  </a:lnTo>
                  <a:lnTo>
                    <a:pt x="626" y="592"/>
                  </a:lnTo>
                  <a:lnTo>
                    <a:pt x="630" y="604"/>
                  </a:lnTo>
                  <a:lnTo>
                    <a:pt x="632" y="616"/>
                  </a:lnTo>
                  <a:lnTo>
                    <a:pt x="632" y="616"/>
                  </a:lnTo>
                  <a:lnTo>
                    <a:pt x="622" y="604"/>
                  </a:lnTo>
                  <a:lnTo>
                    <a:pt x="610" y="594"/>
                  </a:lnTo>
                  <a:lnTo>
                    <a:pt x="594" y="584"/>
                  </a:lnTo>
                  <a:lnTo>
                    <a:pt x="578" y="578"/>
                  </a:lnTo>
                  <a:lnTo>
                    <a:pt x="560" y="574"/>
                  </a:lnTo>
                  <a:lnTo>
                    <a:pt x="542" y="572"/>
                  </a:lnTo>
                  <a:lnTo>
                    <a:pt x="524" y="572"/>
                  </a:lnTo>
                  <a:lnTo>
                    <a:pt x="508" y="578"/>
                  </a:lnTo>
                  <a:lnTo>
                    <a:pt x="508" y="578"/>
                  </a:lnTo>
                  <a:close/>
                  <a:moveTo>
                    <a:pt x="54" y="806"/>
                  </a:moveTo>
                  <a:lnTo>
                    <a:pt x="54" y="806"/>
                  </a:lnTo>
                  <a:lnTo>
                    <a:pt x="50" y="820"/>
                  </a:lnTo>
                  <a:lnTo>
                    <a:pt x="48" y="834"/>
                  </a:lnTo>
                  <a:lnTo>
                    <a:pt x="48" y="848"/>
                  </a:lnTo>
                  <a:lnTo>
                    <a:pt x="50" y="862"/>
                  </a:lnTo>
                  <a:lnTo>
                    <a:pt x="56" y="874"/>
                  </a:lnTo>
                  <a:lnTo>
                    <a:pt x="62" y="886"/>
                  </a:lnTo>
                  <a:lnTo>
                    <a:pt x="72" y="898"/>
                  </a:lnTo>
                  <a:lnTo>
                    <a:pt x="86" y="908"/>
                  </a:lnTo>
                  <a:lnTo>
                    <a:pt x="86" y="908"/>
                  </a:lnTo>
                  <a:lnTo>
                    <a:pt x="72" y="906"/>
                  </a:lnTo>
                  <a:lnTo>
                    <a:pt x="62" y="902"/>
                  </a:lnTo>
                  <a:lnTo>
                    <a:pt x="52" y="898"/>
                  </a:lnTo>
                  <a:lnTo>
                    <a:pt x="44" y="892"/>
                  </a:lnTo>
                  <a:lnTo>
                    <a:pt x="36" y="884"/>
                  </a:lnTo>
                  <a:lnTo>
                    <a:pt x="32" y="876"/>
                  </a:lnTo>
                  <a:lnTo>
                    <a:pt x="28" y="868"/>
                  </a:lnTo>
                  <a:lnTo>
                    <a:pt x="24" y="860"/>
                  </a:lnTo>
                  <a:lnTo>
                    <a:pt x="24" y="850"/>
                  </a:lnTo>
                  <a:lnTo>
                    <a:pt x="24" y="842"/>
                  </a:lnTo>
                  <a:lnTo>
                    <a:pt x="26" y="834"/>
                  </a:lnTo>
                  <a:lnTo>
                    <a:pt x="28" y="826"/>
                  </a:lnTo>
                  <a:lnTo>
                    <a:pt x="34" y="820"/>
                  </a:lnTo>
                  <a:lnTo>
                    <a:pt x="40" y="814"/>
                  </a:lnTo>
                  <a:lnTo>
                    <a:pt x="46" y="810"/>
                  </a:lnTo>
                  <a:lnTo>
                    <a:pt x="54" y="806"/>
                  </a:lnTo>
                  <a:lnTo>
                    <a:pt x="54" y="806"/>
                  </a:lnTo>
                  <a:close/>
                  <a:moveTo>
                    <a:pt x="1016" y="732"/>
                  </a:moveTo>
                  <a:lnTo>
                    <a:pt x="1016" y="732"/>
                  </a:lnTo>
                  <a:lnTo>
                    <a:pt x="1008" y="732"/>
                  </a:lnTo>
                  <a:lnTo>
                    <a:pt x="1000" y="728"/>
                  </a:lnTo>
                  <a:lnTo>
                    <a:pt x="996" y="722"/>
                  </a:lnTo>
                  <a:lnTo>
                    <a:pt x="994" y="714"/>
                  </a:lnTo>
                  <a:lnTo>
                    <a:pt x="996" y="706"/>
                  </a:lnTo>
                  <a:lnTo>
                    <a:pt x="1000" y="698"/>
                  </a:lnTo>
                  <a:lnTo>
                    <a:pt x="1008" y="690"/>
                  </a:lnTo>
                  <a:lnTo>
                    <a:pt x="1018" y="684"/>
                  </a:lnTo>
                  <a:lnTo>
                    <a:pt x="1018" y="684"/>
                  </a:lnTo>
                  <a:lnTo>
                    <a:pt x="1038" y="678"/>
                  </a:lnTo>
                  <a:lnTo>
                    <a:pt x="1062" y="676"/>
                  </a:lnTo>
                  <a:lnTo>
                    <a:pt x="1074" y="676"/>
                  </a:lnTo>
                  <a:lnTo>
                    <a:pt x="1086" y="678"/>
                  </a:lnTo>
                  <a:lnTo>
                    <a:pt x="1096" y="682"/>
                  </a:lnTo>
                  <a:lnTo>
                    <a:pt x="1108" y="688"/>
                  </a:lnTo>
                  <a:lnTo>
                    <a:pt x="1116" y="694"/>
                  </a:lnTo>
                  <a:lnTo>
                    <a:pt x="1124" y="704"/>
                  </a:lnTo>
                  <a:lnTo>
                    <a:pt x="1128" y="714"/>
                  </a:lnTo>
                  <a:lnTo>
                    <a:pt x="1132" y="728"/>
                  </a:lnTo>
                  <a:lnTo>
                    <a:pt x="1132" y="744"/>
                  </a:lnTo>
                  <a:lnTo>
                    <a:pt x="1128" y="764"/>
                  </a:lnTo>
                  <a:lnTo>
                    <a:pt x="1122" y="786"/>
                  </a:lnTo>
                  <a:lnTo>
                    <a:pt x="1112" y="810"/>
                  </a:lnTo>
                  <a:lnTo>
                    <a:pt x="1112" y="810"/>
                  </a:lnTo>
                  <a:lnTo>
                    <a:pt x="1106" y="790"/>
                  </a:lnTo>
                  <a:lnTo>
                    <a:pt x="1100" y="770"/>
                  </a:lnTo>
                  <a:lnTo>
                    <a:pt x="1094" y="754"/>
                  </a:lnTo>
                  <a:lnTo>
                    <a:pt x="1086" y="742"/>
                  </a:lnTo>
                  <a:lnTo>
                    <a:pt x="1082" y="736"/>
                  </a:lnTo>
                  <a:lnTo>
                    <a:pt x="1078" y="732"/>
                  </a:lnTo>
                  <a:lnTo>
                    <a:pt x="1070" y="728"/>
                  </a:lnTo>
                  <a:lnTo>
                    <a:pt x="1062" y="726"/>
                  </a:lnTo>
                  <a:lnTo>
                    <a:pt x="1054" y="726"/>
                  </a:lnTo>
                  <a:lnTo>
                    <a:pt x="1044" y="726"/>
                  </a:lnTo>
                  <a:lnTo>
                    <a:pt x="1016" y="732"/>
                  </a:lnTo>
                  <a:lnTo>
                    <a:pt x="1016" y="732"/>
                  </a:lnTo>
                  <a:close/>
                  <a:moveTo>
                    <a:pt x="848" y="788"/>
                  </a:moveTo>
                  <a:lnTo>
                    <a:pt x="848" y="788"/>
                  </a:lnTo>
                  <a:lnTo>
                    <a:pt x="838" y="796"/>
                  </a:lnTo>
                  <a:lnTo>
                    <a:pt x="828" y="800"/>
                  </a:lnTo>
                  <a:lnTo>
                    <a:pt x="818" y="802"/>
                  </a:lnTo>
                  <a:lnTo>
                    <a:pt x="808" y="802"/>
                  </a:lnTo>
                  <a:lnTo>
                    <a:pt x="798" y="800"/>
                  </a:lnTo>
                  <a:lnTo>
                    <a:pt x="788" y="796"/>
                  </a:lnTo>
                  <a:lnTo>
                    <a:pt x="778" y="790"/>
                  </a:lnTo>
                  <a:lnTo>
                    <a:pt x="770" y="780"/>
                  </a:lnTo>
                  <a:lnTo>
                    <a:pt x="762" y="770"/>
                  </a:lnTo>
                  <a:lnTo>
                    <a:pt x="754" y="760"/>
                  </a:lnTo>
                  <a:lnTo>
                    <a:pt x="748" y="746"/>
                  </a:lnTo>
                  <a:lnTo>
                    <a:pt x="742" y="732"/>
                  </a:lnTo>
                  <a:lnTo>
                    <a:pt x="738" y="716"/>
                  </a:lnTo>
                  <a:lnTo>
                    <a:pt x="734" y="700"/>
                  </a:lnTo>
                  <a:lnTo>
                    <a:pt x="732" y="682"/>
                  </a:lnTo>
                  <a:lnTo>
                    <a:pt x="730" y="664"/>
                  </a:lnTo>
                  <a:lnTo>
                    <a:pt x="730" y="664"/>
                  </a:lnTo>
                  <a:lnTo>
                    <a:pt x="742" y="692"/>
                  </a:lnTo>
                  <a:lnTo>
                    <a:pt x="754" y="714"/>
                  </a:lnTo>
                  <a:lnTo>
                    <a:pt x="766" y="734"/>
                  </a:lnTo>
                  <a:lnTo>
                    <a:pt x="780" y="750"/>
                  </a:lnTo>
                  <a:lnTo>
                    <a:pt x="796" y="764"/>
                  </a:lnTo>
                  <a:lnTo>
                    <a:pt x="812" y="774"/>
                  </a:lnTo>
                  <a:lnTo>
                    <a:pt x="830" y="782"/>
                  </a:lnTo>
                  <a:lnTo>
                    <a:pt x="848" y="788"/>
                  </a:lnTo>
                  <a:lnTo>
                    <a:pt x="848" y="788"/>
                  </a:lnTo>
                  <a:close/>
                  <a:moveTo>
                    <a:pt x="1476" y="762"/>
                  </a:moveTo>
                  <a:lnTo>
                    <a:pt x="1476" y="762"/>
                  </a:lnTo>
                  <a:lnTo>
                    <a:pt x="1484" y="756"/>
                  </a:lnTo>
                  <a:lnTo>
                    <a:pt x="1492" y="750"/>
                  </a:lnTo>
                  <a:lnTo>
                    <a:pt x="1500" y="746"/>
                  </a:lnTo>
                  <a:lnTo>
                    <a:pt x="1510" y="744"/>
                  </a:lnTo>
                  <a:lnTo>
                    <a:pt x="1518" y="742"/>
                  </a:lnTo>
                  <a:lnTo>
                    <a:pt x="1528" y="742"/>
                  </a:lnTo>
                  <a:lnTo>
                    <a:pt x="1538" y="744"/>
                  </a:lnTo>
                  <a:lnTo>
                    <a:pt x="1548" y="746"/>
                  </a:lnTo>
                  <a:lnTo>
                    <a:pt x="1556" y="748"/>
                  </a:lnTo>
                  <a:lnTo>
                    <a:pt x="1566" y="754"/>
                  </a:lnTo>
                  <a:lnTo>
                    <a:pt x="1574" y="760"/>
                  </a:lnTo>
                  <a:lnTo>
                    <a:pt x="1580" y="766"/>
                  </a:lnTo>
                  <a:lnTo>
                    <a:pt x="1586" y="774"/>
                  </a:lnTo>
                  <a:lnTo>
                    <a:pt x="1590" y="784"/>
                  </a:lnTo>
                  <a:lnTo>
                    <a:pt x="1594" y="794"/>
                  </a:lnTo>
                  <a:lnTo>
                    <a:pt x="1594" y="804"/>
                  </a:lnTo>
                  <a:lnTo>
                    <a:pt x="1594" y="804"/>
                  </a:lnTo>
                  <a:lnTo>
                    <a:pt x="1590" y="796"/>
                  </a:lnTo>
                  <a:lnTo>
                    <a:pt x="1584" y="790"/>
                  </a:lnTo>
                  <a:lnTo>
                    <a:pt x="1576" y="784"/>
                  </a:lnTo>
                  <a:lnTo>
                    <a:pt x="1568" y="780"/>
                  </a:lnTo>
                  <a:lnTo>
                    <a:pt x="1548" y="774"/>
                  </a:lnTo>
                  <a:lnTo>
                    <a:pt x="1528" y="772"/>
                  </a:lnTo>
                  <a:lnTo>
                    <a:pt x="1494" y="770"/>
                  </a:lnTo>
                  <a:lnTo>
                    <a:pt x="1482" y="768"/>
                  </a:lnTo>
                  <a:lnTo>
                    <a:pt x="1478" y="766"/>
                  </a:lnTo>
                  <a:lnTo>
                    <a:pt x="1476" y="762"/>
                  </a:lnTo>
                  <a:lnTo>
                    <a:pt x="1476" y="762"/>
                  </a:lnTo>
                  <a:close/>
                  <a:moveTo>
                    <a:pt x="2004" y="848"/>
                  </a:moveTo>
                  <a:lnTo>
                    <a:pt x="2004" y="848"/>
                  </a:lnTo>
                  <a:lnTo>
                    <a:pt x="2024" y="842"/>
                  </a:lnTo>
                  <a:lnTo>
                    <a:pt x="2046" y="838"/>
                  </a:lnTo>
                  <a:lnTo>
                    <a:pt x="2068" y="840"/>
                  </a:lnTo>
                  <a:lnTo>
                    <a:pt x="2088" y="844"/>
                  </a:lnTo>
                  <a:lnTo>
                    <a:pt x="2110" y="848"/>
                  </a:lnTo>
                  <a:lnTo>
                    <a:pt x="2132" y="856"/>
                  </a:lnTo>
                  <a:lnTo>
                    <a:pt x="2180" y="876"/>
                  </a:lnTo>
                  <a:lnTo>
                    <a:pt x="2180" y="876"/>
                  </a:lnTo>
                  <a:lnTo>
                    <a:pt x="2176" y="868"/>
                  </a:lnTo>
                  <a:lnTo>
                    <a:pt x="2166" y="850"/>
                  </a:lnTo>
                  <a:lnTo>
                    <a:pt x="2162" y="838"/>
                  </a:lnTo>
                  <a:lnTo>
                    <a:pt x="2160" y="824"/>
                  </a:lnTo>
                  <a:lnTo>
                    <a:pt x="2158" y="812"/>
                  </a:lnTo>
                  <a:lnTo>
                    <a:pt x="2162" y="798"/>
                  </a:lnTo>
                  <a:lnTo>
                    <a:pt x="2162" y="798"/>
                  </a:lnTo>
                  <a:lnTo>
                    <a:pt x="2178" y="818"/>
                  </a:lnTo>
                  <a:lnTo>
                    <a:pt x="2202" y="836"/>
                  </a:lnTo>
                  <a:lnTo>
                    <a:pt x="2230" y="856"/>
                  </a:lnTo>
                  <a:lnTo>
                    <a:pt x="2262" y="872"/>
                  </a:lnTo>
                  <a:lnTo>
                    <a:pt x="2300" y="888"/>
                  </a:lnTo>
                  <a:lnTo>
                    <a:pt x="2344" y="900"/>
                  </a:lnTo>
                  <a:lnTo>
                    <a:pt x="2390" y="908"/>
                  </a:lnTo>
                  <a:lnTo>
                    <a:pt x="2440" y="914"/>
                  </a:lnTo>
                  <a:lnTo>
                    <a:pt x="2440" y="914"/>
                  </a:lnTo>
                  <a:lnTo>
                    <a:pt x="2410" y="918"/>
                  </a:lnTo>
                  <a:lnTo>
                    <a:pt x="2380" y="920"/>
                  </a:lnTo>
                  <a:lnTo>
                    <a:pt x="2350" y="922"/>
                  </a:lnTo>
                  <a:lnTo>
                    <a:pt x="2320" y="922"/>
                  </a:lnTo>
                  <a:lnTo>
                    <a:pt x="2260" y="918"/>
                  </a:lnTo>
                  <a:lnTo>
                    <a:pt x="2200" y="912"/>
                  </a:lnTo>
                  <a:lnTo>
                    <a:pt x="2144" y="900"/>
                  </a:lnTo>
                  <a:lnTo>
                    <a:pt x="2090" y="886"/>
                  </a:lnTo>
                  <a:lnTo>
                    <a:pt x="2066" y="878"/>
                  </a:lnTo>
                  <a:lnTo>
                    <a:pt x="2044" y="868"/>
                  </a:lnTo>
                  <a:lnTo>
                    <a:pt x="2022" y="858"/>
                  </a:lnTo>
                  <a:lnTo>
                    <a:pt x="2004" y="848"/>
                  </a:lnTo>
                  <a:lnTo>
                    <a:pt x="2004" y="848"/>
                  </a:lnTo>
                  <a:close/>
                </a:path>
              </a:pathLst>
            </a:custGeom>
            <a:solidFill>
              <a:srgbClr val="947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2"/>
            <p:cNvSpPr/>
            <p:nvPr/>
          </p:nvSpPr>
          <p:spPr>
            <a:xfrm>
              <a:off x="12485520" y="8305920"/>
              <a:ext cx="609480" cy="7617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384" h="480">
                  <a:moveTo>
                    <a:pt x="138" y="480"/>
                  </a:moveTo>
                  <a:lnTo>
                    <a:pt x="138" y="480"/>
                  </a:lnTo>
                  <a:lnTo>
                    <a:pt x="164" y="480"/>
                  </a:lnTo>
                  <a:lnTo>
                    <a:pt x="192" y="478"/>
                  </a:lnTo>
                  <a:lnTo>
                    <a:pt x="218" y="472"/>
                  </a:lnTo>
                  <a:lnTo>
                    <a:pt x="244" y="462"/>
                  </a:lnTo>
                  <a:lnTo>
                    <a:pt x="270" y="448"/>
                  </a:lnTo>
                  <a:lnTo>
                    <a:pt x="294" y="430"/>
                  </a:lnTo>
                  <a:lnTo>
                    <a:pt x="316" y="410"/>
                  </a:lnTo>
                  <a:lnTo>
                    <a:pt x="336" y="386"/>
                  </a:lnTo>
                  <a:lnTo>
                    <a:pt x="352" y="360"/>
                  </a:lnTo>
                  <a:lnTo>
                    <a:pt x="366" y="330"/>
                  </a:lnTo>
                  <a:lnTo>
                    <a:pt x="376" y="298"/>
                  </a:lnTo>
                  <a:lnTo>
                    <a:pt x="382" y="264"/>
                  </a:lnTo>
                  <a:lnTo>
                    <a:pt x="384" y="246"/>
                  </a:lnTo>
                  <a:lnTo>
                    <a:pt x="384" y="228"/>
                  </a:lnTo>
                  <a:lnTo>
                    <a:pt x="384" y="210"/>
                  </a:lnTo>
                  <a:lnTo>
                    <a:pt x="382" y="190"/>
                  </a:lnTo>
                  <a:lnTo>
                    <a:pt x="378" y="170"/>
                  </a:lnTo>
                  <a:lnTo>
                    <a:pt x="372" y="150"/>
                  </a:lnTo>
                  <a:lnTo>
                    <a:pt x="366" y="130"/>
                  </a:lnTo>
                  <a:lnTo>
                    <a:pt x="358" y="108"/>
                  </a:lnTo>
                  <a:lnTo>
                    <a:pt x="358" y="108"/>
                  </a:lnTo>
                  <a:lnTo>
                    <a:pt x="342" y="78"/>
                  </a:lnTo>
                  <a:lnTo>
                    <a:pt x="322" y="52"/>
                  </a:lnTo>
                  <a:lnTo>
                    <a:pt x="312" y="40"/>
                  </a:lnTo>
                  <a:lnTo>
                    <a:pt x="300" y="28"/>
                  </a:lnTo>
                  <a:lnTo>
                    <a:pt x="290" y="20"/>
                  </a:lnTo>
                  <a:lnTo>
                    <a:pt x="282" y="16"/>
                  </a:lnTo>
                  <a:lnTo>
                    <a:pt x="282" y="16"/>
                  </a:lnTo>
                  <a:lnTo>
                    <a:pt x="264" y="8"/>
                  </a:lnTo>
                  <a:lnTo>
                    <a:pt x="246" y="4"/>
                  </a:lnTo>
                  <a:lnTo>
                    <a:pt x="230" y="2"/>
                  </a:lnTo>
                  <a:lnTo>
                    <a:pt x="214" y="0"/>
                  </a:lnTo>
                  <a:lnTo>
                    <a:pt x="200" y="2"/>
                  </a:lnTo>
                  <a:lnTo>
                    <a:pt x="186" y="4"/>
                  </a:lnTo>
                  <a:lnTo>
                    <a:pt x="174" y="8"/>
                  </a:lnTo>
                  <a:lnTo>
                    <a:pt x="162" y="14"/>
                  </a:lnTo>
                  <a:lnTo>
                    <a:pt x="150" y="22"/>
                  </a:lnTo>
                  <a:lnTo>
                    <a:pt x="140" y="30"/>
                  </a:lnTo>
                  <a:lnTo>
                    <a:pt x="132" y="38"/>
                  </a:lnTo>
                  <a:lnTo>
                    <a:pt x="124" y="48"/>
                  </a:lnTo>
                  <a:lnTo>
                    <a:pt x="110" y="68"/>
                  </a:lnTo>
                  <a:lnTo>
                    <a:pt x="102" y="92"/>
                  </a:lnTo>
                  <a:lnTo>
                    <a:pt x="98" y="114"/>
                  </a:lnTo>
                  <a:lnTo>
                    <a:pt x="98" y="138"/>
                  </a:lnTo>
                  <a:lnTo>
                    <a:pt x="100" y="148"/>
                  </a:lnTo>
                  <a:lnTo>
                    <a:pt x="104" y="158"/>
                  </a:lnTo>
                  <a:lnTo>
                    <a:pt x="108" y="168"/>
                  </a:lnTo>
                  <a:lnTo>
                    <a:pt x="112" y="176"/>
                  </a:lnTo>
                  <a:lnTo>
                    <a:pt x="120" y="184"/>
                  </a:lnTo>
                  <a:lnTo>
                    <a:pt x="128" y="190"/>
                  </a:lnTo>
                  <a:lnTo>
                    <a:pt x="136" y="194"/>
                  </a:lnTo>
                  <a:lnTo>
                    <a:pt x="148" y="198"/>
                  </a:lnTo>
                  <a:lnTo>
                    <a:pt x="160" y="200"/>
                  </a:lnTo>
                  <a:lnTo>
                    <a:pt x="172" y="200"/>
                  </a:lnTo>
                  <a:lnTo>
                    <a:pt x="188" y="200"/>
                  </a:lnTo>
                  <a:lnTo>
                    <a:pt x="204" y="196"/>
                  </a:lnTo>
                  <a:lnTo>
                    <a:pt x="204" y="196"/>
                  </a:lnTo>
                  <a:lnTo>
                    <a:pt x="188" y="196"/>
                  </a:lnTo>
                  <a:lnTo>
                    <a:pt x="174" y="192"/>
                  </a:lnTo>
                  <a:lnTo>
                    <a:pt x="164" y="188"/>
                  </a:lnTo>
                  <a:lnTo>
                    <a:pt x="158" y="180"/>
                  </a:lnTo>
                  <a:lnTo>
                    <a:pt x="152" y="172"/>
                  </a:lnTo>
                  <a:lnTo>
                    <a:pt x="150" y="164"/>
                  </a:lnTo>
                  <a:lnTo>
                    <a:pt x="148" y="154"/>
                  </a:lnTo>
                  <a:lnTo>
                    <a:pt x="150" y="144"/>
                  </a:lnTo>
                  <a:lnTo>
                    <a:pt x="154" y="134"/>
                  </a:lnTo>
                  <a:lnTo>
                    <a:pt x="160" y="124"/>
                  </a:lnTo>
                  <a:lnTo>
                    <a:pt x="166" y="116"/>
                  </a:lnTo>
                  <a:lnTo>
                    <a:pt x="174" y="106"/>
                  </a:lnTo>
                  <a:lnTo>
                    <a:pt x="186" y="100"/>
                  </a:lnTo>
                  <a:lnTo>
                    <a:pt x="196" y="92"/>
                  </a:lnTo>
                  <a:lnTo>
                    <a:pt x="210" y="88"/>
                  </a:lnTo>
                  <a:lnTo>
                    <a:pt x="224" y="86"/>
                  </a:lnTo>
                  <a:lnTo>
                    <a:pt x="224" y="86"/>
                  </a:lnTo>
                  <a:lnTo>
                    <a:pt x="218" y="96"/>
                  </a:lnTo>
                  <a:lnTo>
                    <a:pt x="216" y="108"/>
                  </a:lnTo>
                  <a:lnTo>
                    <a:pt x="214" y="118"/>
                  </a:lnTo>
                  <a:lnTo>
                    <a:pt x="214" y="126"/>
                  </a:lnTo>
                  <a:lnTo>
                    <a:pt x="216" y="136"/>
                  </a:lnTo>
                  <a:lnTo>
                    <a:pt x="218" y="144"/>
                  </a:lnTo>
                  <a:lnTo>
                    <a:pt x="224" y="152"/>
                  </a:lnTo>
                  <a:lnTo>
                    <a:pt x="232" y="158"/>
                  </a:lnTo>
                  <a:lnTo>
                    <a:pt x="232" y="158"/>
                  </a:lnTo>
                  <a:lnTo>
                    <a:pt x="236" y="144"/>
                  </a:lnTo>
                  <a:lnTo>
                    <a:pt x="242" y="134"/>
                  </a:lnTo>
                  <a:lnTo>
                    <a:pt x="248" y="126"/>
                  </a:lnTo>
                  <a:lnTo>
                    <a:pt x="256" y="120"/>
                  </a:lnTo>
                  <a:lnTo>
                    <a:pt x="264" y="114"/>
                  </a:lnTo>
                  <a:lnTo>
                    <a:pt x="272" y="112"/>
                  </a:lnTo>
                  <a:lnTo>
                    <a:pt x="280" y="112"/>
                  </a:lnTo>
                  <a:lnTo>
                    <a:pt x="288" y="112"/>
                  </a:lnTo>
                  <a:lnTo>
                    <a:pt x="304" y="116"/>
                  </a:lnTo>
                  <a:lnTo>
                    <a:pt x="318" y="124"/>
                  </a:lnTo>
                  <a:lnTo>
                    <a:pt x="328" y="134"/>
                  </a:lnTo>
                  <a:lnTo>
                    <a:pt x="336" y="144"/>
                  </a:lnTo>
                  <a:lnTo>
                    <a:pt x="336" y="144"/>
                  </a:lnTo>
                  <a:lnTo>
                    <a:pt x="342" y="162"/>
                  </a:lnTo>
                  <a:lnTo>
                    <a:pt x="344" y="178"/>
                  </a:lnTo>
                  <a:lnTo>
                    <a:pt x="342" y="194"/>
                  </a:lnTo>
                  <a:lnTo>
                    <a:pt x="336" y="206"/>
                  </a:lnTo>
                  <a:lnTo>
                    <a:pt x="328" y="214"/>
                  </a:lnTo>
                  <a:lnTo>
                    <a:pt x="318" y="220"/>
                  </a:lnTo>
                  <a:lnTo>
                    <a:pt x="306" y="222"/>
                  </a:lnTo>
                  <a:lnTo>
                    <a:pt x="294" y="222"/>
                  </a:lnTo>
                  <a:lnTo>
                    <a:pt x="294" y="222"/>
                  </a:lnTo>
                  <a:lnTo>
                    <a:pt x="310" y="244"/>
                  </a:lnTo>
                  <a:lnTo>
                    <a:pt x="320" y="264"/>
                  </a:lnTo>
                  <a:lnTo>
                    <a:pt x="326" y="284"/>
                  </a:lnTo>
                  <a:lnTo>
                    <a:pt x="328" y="302"/>
                  </a:lnTo>
                  <a:lnTo>
                    <a:pt x="324" y="318"/>
                  </a:lnTo>
                  <a:lnTo>
                    <a:pt x="316" y="334"/>
                  </a:lnTo>
                  <a:lnTo>
                    <a:pt x="308" y="346"/>
                  </a:lnTo>
                  <a:lnTo>
                    <a:pt x="296" y="358"/>
                  </a:lnTo>
                  <a:lnTo>
                    <a:pt x="282" y="366"/>
                  </a:lnTo>
                  <a:lnTo>
                    <a:pt x="266" y="374"/>
                  </a:lnTo>
                  <a:lnTo>
                    <a:pt x="250" y="378"/>
                  </a:lnTo>
                  <a:lnTo>
                    <a:pt x="234" y="380"/>
                  </a:lnTo>
                  <a:lnTo>
                    <a:pt x="218" y="380"/>
                  </a:lnTo>
                  <a:lnTo>
                    <a:pt x="204" y="378"/>
                  </a:lnTo>
                  <a:lnTo>
                    <a:pt x="190" y="374"/>
                  </a:lnTo>
                  <a:lnTo>
                    <a:pt x="178" y="366"/>
                  </a:lnTo>
                  <a:lnTo>
                    <a:pt x="178" y="366"/>
                  </a:lnTo>
                  <a:lnTo>
                    <a:pt x="174" y="372"/>
                  </a:lnTo>
                  <a:lnTo>
                    <a:pt x="172" y="378"/>
                  </a:lnTo>
                  <a:lnTo>
                    <a:pt x="172" y="388"/>
                  </a:lnTo>
                  <a:lnTo>
                    <a:pt x="172" y="398"/>
                  </a:lnTo>
                  <a:lnTo>
                    <a:pt x="178" y="410"/>
                  </a:lnTo>
                  <a:lnTo>
                    <a:pt x="186" y="420"/>
                  </a:lnTo>
                  <a:lnTo>
                    <a:pt x="200" y="432"/>
                  </a:lnTo>
                  <a:lnTo>
                    <a:pt x="200" y="432"/>
                  </a:lnTo>
                  <a:lnTo>
                    <a:pt x="186" y="438"/>
                  </a:lnTo>
                  <a:lnTo>
                    <a:pt x="170" y="442"/>
                  </a:lnTo>
                  <a:lnTo>
                    <a:pt x="152" y="444"/>
                  </a:lnTo>
                  <a:lnTo>
                    <a:pt x="134" y="442"/>
                  </a:lnTo>
                  <a:lnTo>
                    <a:pt x="118" y="436"/>
                  </a:lnTo>
                  <a:lnTo>
                    <a:pt x="102" y="428"/>
                  </a:lnTo>
                  <a:lnTo>
                    <a:pt x="88" y="418"/>
                  </a:lnTo>
                  <a:lnTo>
                    <a:pt x="76" y="404"/>
                  </a:lnTo>
                  <a:lnTo>
                    <a:pt x="76" y="404"/>
                  </a:lnTo>
                  <a:lnTo>
                    <a:pt x="70" y="388"/>
                  </a:lnTo>
                  <a:lnTo>
                    <a:pt x="68" y="380"/>
                  </a:lnTo>
                  <a:lnTo>
                    <a:pt x="68" y="372"/>
                  </a:lnTo>
                  <a:lnTo>
                    <a:pt x="68" y="364"/>
                  </a:lnTo>
                  <a:lnTo>
                    <a:pt x="72" y="358"/>
                  </a:lnTo>
                  <a:lnTo>
                    <a:pt x="74" y="350"/>
                  </a:lnTo>
                  <a:lnTo>
                    <a:pt x="80" y="344"/>
                  </a:lnTo>
                  <a:lnTo>
                    <a:pt x="86" y="338"/>
                  </a:lnTo>
                  <a:lnTo>
                    <a:pt x="94" y="334"/>
                  </a:lnTo>
                  <a:lnTo>
                    <a:pt x="102" y="332"/>
                  </a:lnTo>
                  <a:lnTo>
                    <a:pt x="112" y="330"/>
                  </a:lnTo>
                  <a:lnTo>
                    <a:pt x="124" y="328"/>
                  </a:lnTo>
                  <a:lnTo>
                    <a:pt x="138" y="330"/>
                  </a:lnTo>
                  <a:lnTo>
                    <a:pt x="152" y="332"/>
                  </a:lnTo>
                  <a:lnTo>
                    <a:pt x="170" y="338"/>
                  </a:lnTo>
                  <a:lnTo>
                    <a:pt x="170" y="338"/>
                  </a:lnTo>
                  <a:lnTo>
                    <a:pt x="158" y="310"/>
                  </a:lnTo>
                  <a:lnTo>
                    <a:pt x="146" y="288"/>
                  </a:lnTo>
                  <a:lnTo>
                    <a:pt x="134" y="272"/>
                  </a:lnTo>
                  <a:lnTo>
                    <a:pt x="120" y="258"/>
                  </a:lnTo>
                  <a:lnTo>
                    <a:pt x="106" y="250"/>
                  </a:lnTo>
                  <a:lnTo>
                    <a:pt x="92" y="244"/>
                  </a:lnTo>
                  <a:lnTo>
                    <a:pt x="80" y="242"/>
                  </a:lnTo>
                  <a:lnTo>
                    <a:pt x="66" y="244"/>
                  </a:lnTo>
                  <a:lnTo>
                    <a:pt x="54" y="248"/>
                  </a:lnTo>
                  <a:lnTo>
                    <a:pt x="42" y="254"/>
                  </a:lnTo>
                  <a:lnTo>
                    <a:pt x="32" y="264"/>
                  </a:lnTo>
                  <a:lnTo>
                    <a:pt x="22" y="274"/>
                  </a:lnTo>
                  <a:lnTo>
                    <a:pt x="14" y="286"/>
                  </a:lnTo>
                  <a:lnTo>
                    <a:pt x="8" y="300"/>
                  </a:lnTo>
                  <a:lnTo>
                    <a:pt x="2" y="314"/>
                  </a:lnTo>
                  <a:lnTo>
                    <a:pt x="0" y="330"/>
                  </a:lnTo>
                  <a:lnTo>
                    <a:pt x="0" y="330"/>
                  </a:lnTo>
                  <a:lnTo>
                    <a:pt x="0" y="340"/>
                  </a:lnTo>
                  <a:lnTo>
                    <a:pt x="0" y="352"/>
                  </a:lnTo>
                  <a:lnTo>
                    <a:pt x="2" y="362"/>
                  </a:lnTo>
                  <a:lnTo>
                    <a:pt x="6" y="374"/>
                  </a:lnTo>
                  <a:lnTo>
                    <a:pt x="18" y="398"/>
                  </a:lnTo>
                  <a:lnTo>
                    <a:pt x="34" y="420"/>
                  </a:lnTo>
                  <a:lnTo>
                    <a:pt x="44" y="430"/>
                  </a:lnTo>
                  <a:lnTo>
                    <a:pt x="54" y="440"/>
                  </a:lnTo>
                  <a:lnTo>
                    <a:pt x="66" y="450"/>
                  </a:lnTo>
                  <a:lnTo>
                    <a:pt x="78" y="458"/>
                  </a:lnTo>
                  <a:lnTo>
                    <a:pt x="92" y="466"/>
                  </a:lnTo>
                  <a:lnTo>
                    <a:pt x="106" y="472"/>
                  </a:lnTo>
                  <a:lnTo>
                    <a:pt x="122" y="476"/>
                  </a:lnTo>
                  <a:lnTo>
                    <a:pt x="138" y="480"/>
                  </a:lnTo>
                  <a:lnTo>
                    <a:pt x="138" y="480"/>
                  </a:lnTo>
                  <a:close/>
                  <a:moveTo>
                    <a:pt x="136" y="100"/>
                  </a:moveTo>
                  <a:lnTo>
                    <a:pt x="136" y="100"/>
                  </a:lnTo>
                  <a:lnTo>
                    <a:pt x="136" y="86"/>
                  </a:lnTo>
                  <a:lnTo>
                    <a:pt x="138" y="74"/>
                  </a:lnTo>
                  <a:lnTo>
                    <a:pt x="142" y="64"/>
                  </a:lnTo>
                  <a:lnTo>
                    <a:pt x="146" y="54"/>
                  </a:lnTo>
                  <a:lnTo>
                    <a:pt x="154" y="46"/>
                  </a:lnTo>
                  <a:lnTo>
                    <a:pt x="160" y="40"/>
                  </a:lnTo>
                  <a:lnTo>
                    <a:pt x="168" y="34"/>
                  </a:lnTo>
                  <a:lnTo>
                    <a:pt x="178" y="30"/>
                  </a:lnTo>
                  <a:lnTo>
                    <a:pt x="188" y="28"/>
                  </a:lnTo>
                  <a:lnTo>
                    <a:pt x="198" y="28"/>
                  </a:lnTo>
                  <a:lnTo>
                    <a:pt x="208" y="28"/>
                  </a:lnTo>
                  <a:lnTo>
                    <a:pt x="218" y="30"/>
                  </a:lnTo>
                  <a:lnTo>
                    <a:pt x="228" y="34"/>
                  </a:lnTo>
                  <a:lnTo>
                    <a:pt x="238" y="40"/>
                  </a:lnTo>
                  <a:lnTo>
                    <a:pt x="248" y="46"/>
                  </a:lnTo>
                  <a:lnTo>
                    <a:pt x="258" y="54"/>
                  </a:lnTo>
                  <a:lnTo>
                    <a:pt x="258" y="54"/>
                  </a:lnTo>
                  <a:lnTo>
                    <a:pt x="242" y="52"/>
                  </a:lnTo>
                  <a:lnTo>
                    <a:pt x="226" y="50"/>
                  </a:lnTo>
                  <a:lnTo>
                    <a:pt x="210" y="52"/>
                  </a:lnTo>
                  <a:lnTo>
                    <a:pt x="192" y="58"/>
                  </a:lnTo>
                  <a:lnTo>
                    <a:pt x="176" y="66"/>
                  </a:lnTo>
                  <a:lnTo>
                    <a:pt x="160" y="74"/>
                  </a:lnTo>
                  <a:lnTo>
                    <a:pt x="146" y="86"/>
                  </a:lnTo>
                  <a:lnTo>
                    <a:pt x="136" y="100"/>
                  </a:lnTo>
                  <a:lnTo>
                    <a:pt x="136" y="100"/>
                  </a:lnTo>
                  <a:close/>
                </a:path>
              </a:pathLst>
            </a:custGeom>
            <a:solidFill>
              <a:srgbClr val="947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3"/>
            <p:cNvSpPr/>
            <p:nvPr/>
          </p:nvSpPr>
          <p:spPr>
            <a:xfrm>
              <a:off x="13212720" y="7670880"/>
              <a:ext cx="463320" cy="431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92" h="272">
                  <a:moveTo>
                    <a:pt x="290" y="96"/>
                  </a:moveTo>
                  <a:lnTo>
                    <a:pt x="290" y="96"/>
                  </a:lnTo>
                  <a:lnTo>
                    <a:pt x="284" y="72"/>
                  </a:lnTo>
                  <a:lnTo>
                    <a:pt x="274" y="52"/>
                  </a:lnTo>
                  <a:lnTo>
                    <a:pt x="264" y="34"/>
                  </a:lnTo>
                  <a:lnTo>
                    <a:pt x="258" y="28"/>
                  </a:lnTo>
                  <a:lnTo>
                    <a:pt x="250" y="22"/>
                  </a:lnTo>
                  <a:lnTo>
                    <a:pt x="250" y="22"/>
                  </a:lnTo>
                  <a:lnTo>
                    <a:pt x="236" y="12"/>
                  </a:lnTo>
                  <a:lnTo>
                    <a:pt x="218" y="6"/>
                  </a:lnTo>
                  <a:lnTo>
                    <a:pt x="202" y="2"/>
                  </a:lnTo>
                  <a:lnTo>
                    <a:pt x="184" y="0"/>
                  </a:lnTo>
                  <a:lnTo>
                    <a:pt x="166" y="0"/>
                  </a:lnTo>
                  <a:lnTo>
                    <a:pt x="150" y="4"/>
                  </a:lnTo>
                  <a:lnTo>
                    <a:pt x="136" y="10"/>
                  </a:lnTo>
                  <a:lnTo>
                    <a:pt x="124" y="20"/>
                  </a:lnTo>
                  <a:lnTo>
                    <a:pt x="124" y="20"/>
                  </a:lnTo>
                  <a:lnTo>
                    <a:pt x="140" y="20"/>
                  </a:lnTo>
                  <a:lnTo>
                    <a:pt x="154" y="20"/>
                  </a:lnTo>
                  <a:lnTo>
                    <a:pt x="166" y="22"/>
                  </a:lnTo>
                  <a:lnTo>
                    <a:pt x="180" y="24"/>
                  </a:lnTo>
                  <a:lnTo>
                    <a:pt x="190" y="28"/>
                  </a:lnTo>
                  <a:lnTo>
                    <a:pt x="202" y="34"/>
                  </a:lnTo>
                  <a:lnTo>
                    <a:pt x="210" y="38"/>
                  </a:lnTo>
                  <a:lnTo>
                    <a:pt x="220" y="46"/>
                  </a:lnTo>
                  <a:lnTo>
                    <a:pt x="226" y="52"/>
                  </a:lnTo>
                  <a:lnTo>
                    <a:pt x="232" y="60"/>
                  </a:lnTo>
                  <a:lnTo>
                    <a:pt x="238" y="68"/>
                  </a:lnTo>
                  <a:lnTo>
                    <a:pt x="242" y="76"/>
                  </a:lnTo>
                  <a:lnTo>
                    <a:pt x="244" y="86"/>
                  </a:lnTo>
                  <a:lnTo>
                    <a:pt x="246" y="94"/>
                  </a:lnTo>
                  <a:lnTo>
                    <a:pt x="246" y="104"/>
                  </a:lnTo>
                  <a:lnTo>
                    <a:pt x="244" y="114"/>
                  </a:lnTo>
                  <a:lnTo>
                    <a:pt x="244" y="114"/>
                  </a:lnTo>
                  <a:lnTo>
                    <a:pt x="238" y="138"/>
                  </a:lnTo>
                  <a:lnTo>
                    <a:pt x="228" y="154"/>
                  </a:lnTo>
                  <a:lnTo>
                    <a:pt x="218" y="166"/>
                  </a:lnTo>
                  <a:lnTo>
                    <a:pt x="206" y="172"/>
                  </a:lnTo>
                  <a:lnTo>
                    <a:pt x="194" y="174"/>
                  </a:lnTo>
                  <a:lnTo>
                    <a:pt x="182" y="174"/>
                  </a:lnTo>
                  <a:lnTo>
                    <a:pt x="170" y="168"/>
                  </a:lnTo>
                  <a:lnTo>
                    <a:pt x="160" y="160"/>
                  </a:lnTo>
                  <a:lnTo>
                    <a:pt x="150" y="152"/>
                  </a:lnTo>
                  <a:lnTo>
                    <a:pt x="142" y="142"/>
                  </a:lnTo>
                  <a:lnTo>
                    <a:pt x="138" y="132"/>
                  </a:lnTo>
                  <a:lnTo>
                    <a:pt x="136" y="120"/>
                  </a:lnTo>
                  <a:lnTo>
                    <a:pt x="138" y="112"/>
                  </a:lnTo>
                  <a:lnTo>
                    <a:pt x="144" y="104"/>
                  </a:lnTo>
                  <a:lnTo>
                    <a:pt x="154" y="98"/>
                  </a:lnTo>
                  <a:lnTo>
                    <a:pt x="168" y="94"/>
                  </a:lnTo>
                  <a:lnTo>
                    <a:pt x="168" y="94"/>
                  </a:lnTo>
                  <a:lnTo>
                    <a:pt x="154" y="84"/>
                  </a:lnTo>
                  <a:lnTo>
                    <a:pt x="140" y="78"/>
                  </a:lnTo>
                  <a:lnTo>
                    <a:pt x="126" y="74"/>
                  </a:lnTo>
                  <a:lnTo>
                    <a:pt x="114" y="72"/>
                  </a:lnTo>
                  <a:lnTo>
                    <a:pt x="102" y="72"/>
                  </a:lnTo>
                  <a:lnTo>
                    <a:pt x="90" y="74"/>
                  </a:lnTo>
                  <a:lnTo>
                    <a:pt x="80" y="78"/>
                  </a:lnTo>
                  <a:lnTo>
                    <a:pt x="72" y="84"/>
                  </a:lnTo>
                  <a:lnTo>
                    <a:pt x="64" y="92"/>
                  </a:lnTo>
                  <a:lnTo>
                    <a:pt x="58" y="102"/>
                  </a:lnTo>
                  <a:lnTo>
                    <a:pt x="54" y="112"/>
                  </a:lnTo>
                  <a:lnTo>
                    <a:pt x="50" y="124"/>
                  </a:lnTo>
                  <a:lnTo>
                    <a:pt x="48" y="136"/>
                  </a:lnTo>
                  <a:lnTo>
                    <a:pt x="48" y="148"/>
                  </a:lnTo>
                  <a:lnTo>
                    <a:pt x="52" y="162"/>
                  </a:lnTo>
                  <a:lnTo>
                    <a:pt x="56" y="176"/>
                  </a:lnTo>
                  <a:lnTo>
                    <a:pt x="56" y="176"/>
                  </a:lnTo>
                  <a:lnTo>
                    <a:pt x="32" y="188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12" y="220"/>
                  </a:lnTo>
                  <a:lnTo>
                    <a:pt x="24" y="230"/>
                  </a:lnTo>
                  <a:lnTo>
                    <a:pt x="36" y="240"/>
                  </a:lnTo>
                  <a:lnTo>
                    <a:pt x="48" y="248"/>
                  </a:lnTo>
                  <a:lnTo>
                    <a:pt x="74" y="258"/>
                  </a:lnTo>
                  <a:lnTo>
                    <a:pt x="102" y="268"/>
                  </a:lnTo>
                  <a:lnTo>
                    <a:pt x="102" y="268"/>
                  </a:lnTo>
                  <a:lnTo>
                    <a:pt x="112" y="270"/>
                  </a:lnTo>
                  <a:lnTo>
                    <a:pt x="122" y="272"/>
                  </a:lnTo>
                  <a:lnTo>
                    <a:pt x="152" y="272"/>
                  </a:lnTo>
                  <a:lnTo>
                    <a:pt x="178" y="270"/>
                  </a:lnTo>
                  <a:lnTo>
                    <a:pt x="190" y="268"/>
                  </a:lnTo>
                  <a:lnTo>
                    <a:pt x="198" y="266"/>
                  </a:lnTo>
                  <a:lnTo>
                    <a:pt x="198" y="266"/>
                  </a:lnTo>
                  <a:lnTo>
                    <a:pt x="220" y="252"/>
                  </a:lnTo>
                  <a:lnTo>
                    <a:pt x="242" y="234"/>
                  </a:lnTo>
                  <a:lnTo>
                    <a:pt x="258" y="214"/>
                  </a:lnTo>
                  <a:lnTo>
                    <a:pt x="272" y="194"/>
                  </a:lnTo>
                  <a:lnTo>
                    <a:pt x="284" y="170"/>
                  </a:lnTo>
                  <a:lnTo>
                    <a:pt x="290" y="146"/>
                  </a:lnTo>
                  <a:lnTo>
                    <a:pt x="292" y="122"/>
                  </a:lnTo>
                  <a:lnTo>
                    <a:pt x="290" y="96"/>
                  </a:lnTo>
                  <a:lnTo>
                    <a:pt x="290" y="96"/>
                  </a:lnTo>
                  <a:close/>
                  <a:moveTo>
                    <a:pt x="66" y="220"/>
                  </a:moveTo>
                  <a:lnTo>
                    <a:pt x="66" y="220"/>
                  </a:lnTo>
                  <a:lnTo>
                    <a:pt x="94" y="208"/>
                  </a:lnTo>
                  <a:lnTo>
                    <a:pt x="104" y="200"/>
                  </a:lnTo>
                  <a:lnTo>
                    <a:pt x="112" y="194"/>
                  </a:lnTo>
                  <a:lnTo>
                    <a:pt x="112" y="194"/>
                  </a:lnTo>
                  <a:lnTo>
                    <a:pt x="104" y="188"/>
                  </a:lnTo>
                  <a:lnTo>
                    <a:pt x="98" y="180"/>
                  </a:lnTo>
                  <a:lnTo>
                    <a:pt x="92" y="172"/>
                  </a:lnTo>
                  <a:lnTo>
                    <a:pt x="88" y="160"/>
                  </a:lnTo>
                  <a:lnTo>
                    <a:pt x="86" y="150"/>
                  </a:lnTo>
                  <a:lnTo>
                    <a:pt x="88" y="138"/>
                  </a:lnTo>
                  <a:lnTo>
                    <a:pt x="90" y="128"/>
                  </a:lnTo>
                  <a:lnTo>
                    <a:pt x="96" y="120"/>
                  </a:lnTo>
                  <a:lnTo>
                    <a:pt x="96" y="120"/>
                  </a:lnTo>
                  <a:lnTo>
                    <a:pt x="98" y="132"/>
                  </a:lnTo>
                  <a:lnTo>
                    <a:pt x="104" y="150"/>
                  </a:lnTo>
                  <a:lnTo>
                    <a:pt x="112" y="168"/>
                  </a:lnTo>
                  <a:lnTo>
                    <a:pt x="118" y="176"/>
                  </a:lnTo>
                  <a:lnTo>
                    <a:pt x="126" y="184"/>
                  </a:lnTo>
                  <a:lnTo>
                    <a:pt x="134" y="192"/>
                  </a:lnTo>
                  <a:lnTo>
                    <a:pt x="144" y="198"/>
                  </a:lnTo>
                  <a:lnTo>
                    <a:pt x="154" y="204"/>
                  </a:lnTo>
                  <a:lnTo>
                    <a:pt x="166" y="208"/>
                  </a:lnTo>
                  <a:lnTo>
                    <a:pt x="178" y="210"/>
                  </a:lnTo>
                  <a:lnTo>
                    <a:pt x="192" y="208"/>
                  </a:lnTo>
                  <a:lnTo>
                    <a:pt x="208" y="206"/>
                  </a:lnTo>
                  <a:lnTo>
                    <a:pt x="226" y="200"/>
                  </a:lnTo>
                  <a:lnTo>
                    <a:pt x="226" y="200"/>
                  </a:lnTo>
                  <a:lnTo>
                    <a:pt x="212" y="210"/>
                  </a:lnTo>
                  <a:lnTo>
                    <a:pt x="198" y="218"/>
                  </a:lnTo>
                  <a:lnTo>
                    <a:pt x="184" y="226"/>
                  </a:lnTo>
                  <a:lnTo>
                    <a:pt x="166" y="230"/>
                  </a:lnTo>
                  <a:lnTo>
                    <a:pt x="146" y="232"/>
                  </a:lnTo>
                  <a:lnTo>
                    <a:pt x="122" y="232"/>
                  </a:lnTo>
                  <a:lnTo>
                    <a:pt x="96" y="228"/>
                  </a:lnTo>
                  <a:lnTo>
                    <a:pt x="66" y="220"/>
                  </a:lnTo>
                  <a:lnTo>
                    <a:pt x="66" y="220"/>
                  </a:lnTo>
                  <a:close/>
                </a:path>
              </a:pathLst>
            </a:custGeom>
            <a:solidFill>
              <a:srgbClr val="947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4"/>
            <p:cNvSpPr/>
            <p:nvPr/>
          </p:nvSpPr>
          <p:spPr>
            <a:xfrm>
              <a:off x="12790440" y="5584680"/>
              <a:ext cx="1952640" cy="4822920"/>
            </a:xfrm>
            <a:custGeom>
              <a:avLst/>
              <a:gdLst>
                <a:gd name="textAreaLeft" fmla="*/ 0 w 1952640"/>
                <a:gd name="textAreaRight" fmla="*/ 1952640 w 1952640"/>
                <a:gd name="textAreaTop" fmla="*/ 0 h 4822920"/>
                <a:gd name="textAreaBottom" fmla="*/ 4823280 h 4822920"/>
              </a:gdLst>
              <a:ahLst/>
              <a:rect l="textAreaLeft" t="textAreaTop" r="textAreaRight" b="textAreaBottom"/>
              <a:pathLst>
                <a:path w="1230" h="3038">
                  <a:moveTo>
                    <a:pt x="1082" y="2830"/>
                  </a:moveTo>
                  <a:lnTo>
                    <a:pt x="1082" y="2830"/>
                  </a:lnTo>
                  <a:lnTo>
                    <a:pt x="1098" y="2820"/>
                  </a:lnTo>
                  <a:lnTo>
                    <a:pt x="1118" y="2812"/>
                  </a:lnTo>
                  <a:lnTo>
                    <a:pt x="1138" y="2808"/>
                  </a:lnTo>
                  <a:lnTo>
                    <a:pt x="1160" y="2804"/>
                  </a:lnTo>
                  <a:lnTo>
                    <a:pt x="1180" y="2804"/>
                  </a:lnTo>
                  <a:lnTo>
                    <a:pt x="1198" y="2804"/>
                  </a:lnTo>
                  <a:lnTo>
                    <a:pt x="1216" y="2806"/>
                  </a:lnTo>
                  <a:lnTo>
                    <a:pt x="1230" y="2810"/>
                  </a:lnTo>
                  <a:lnTo>
                    <a:pt x="1230" y="2810"/>
                  </a:lnTo>
                  <a:lnTo>
                    <a:pt x="1220" y="2802"/>
                  </a:lnTo>
                  <a:lnTo>
                    <a:pt x="1210" y="2794"/>
                  </a:lnTo>
                  <a:lnTo>
                    <a:pt x="1200" y="2788"/>
                  </a:lnTo>
                  <a:lnTo>
                    <a:pt x="1190" y="2782"/>
                  </a:lnTo>
                  <a:lnTo>
                    <a:pt x="1166" y="2774"/>
                  </a:lnTo>
                  <a:lnTo>
                    <a:pt x="1140" y="2768"/>
                  </a:lnTo>
                  <a:lnTo>
                    <a:pt x="1114" y="2768"/>
                  </a:lnTo>
                  <a:lnTo>
                    <a:pt x="1088" y="2770"/>
                  </a:lnTo>
                  <a:lnTo>
                    <a:pt x="1064" y="2774"/>
                  </a:lnTo>
                  <a:lnTo>
                    <a:pt x="1042" y="2780"/>
                  </a:lnTo>
                  <a:lnTo>
                    <a:pt x="1042" y="2780"/>
                  </a:lnTo>
                  <a:lnTo>
                    <a:pt x="1066" y="2748"/>
                  </a:lnTo>
                  <a:lnTo>
                    <a:pt x="1088" y="2712"/>
                  </a:lnTo>
                  <a:lnTo>
                    <a:pt x="1108" y="2672"/>
                  </a:lnTo>
                  <a:lnTo>
                    <a:pt x="1124" y="2632"/>
                  </a:lnTo>
                  <a:lnTo>
                    <a:pt x="1140" y="2592"/>
                  </a:lnTo>
                  <a:lnTo>
                    <a:pt x="1152" y="2548"/>
                  </a:lnTo>
                  <a:lnTo>
                    <a:pt x="1162" y="2504"/>
                  </a:lnTo>
                  <a:lnTo>
                    <a:pt x="1170" y="2460"/>
                  </a:lnTo>
                  <a:lnTo>
                    <a:pt x="1176" y="2416"/>
                  </a:lnTo>
                  <a:lnTo>
                    <a:pt x="1180" y="2372"/>
                  </a:lnTo>
                  <a:lnTo>
                    <a:pt x="1182" y="2330"/>
                  </a:lnTo>
                  <a:lnTo>
                    <a:pt x="1182" y="2288"/>
                  </a:lnTo>
                  <a:lnTo>
                    <a:pt x="1180" y="2246"/>
                  </a:lnTo>
                  <a:lnTo>
                    <a:pt x="1176" y="2208"/>
                  </a:lnTo>
                  <a:lnTo>
                    <a:pt x="1168" y="2170"/>
                  </a:lnTo>
                  <a:lnTo>
                    <a:pt x="1160" y="2136"/>
                  </a:lnTo>
                  <a:lnTo>
                    <a:pt x="1160" y="2136"/>
                  </a:lnTo>
                  <a:lnTo>
                    <a:pt x="1140" y="2074"/>
                  </a:lnTo>
                  <a:lnTo>
                    <a:pt x="1120" y="2016"/>
                  </a:lnTo>
                  <a:lnTo>
                    <a:pt x="1096" y="1962"/>
                  </a:lnTo>
                  <a:lnTo>
                    <a:pt x="1072" y="1914"/>
                  </a:lnTo>
                  <a:lnTo>
                    <a:pt x="1046" y="1868"/>
                  </a:lnTo>
                  <a:lnTo>
                    <a:pt x="1020" y="1826"/>
                  </a:lnTo>
                  <a:lnTo>
                    <a:pt x="994" y="1788"/>
                  </a:lnTo>
                  <a:lnTo>
                    <a:pt x="968" y="1754"/>
                  </a:lnTo>
                  <a:lnTo>
                    <a:pt x="968" y="1754"/>
                  </a:lnTo>
                  <a:lnTo>
                    <a:pt x="952" y="1732"/>
                  </a:lnTo>
                  <a:lnTo>
                    <a:pt x="938" y="1706"/>
                  </a:lnTo>
                  <a:lnTo>
                    <a:pt x="924" y="1680"/>
                  </a:lnTo>
                  <a:lnTo>
                    <a:pt x="914" y="1652"/>
                  </a:lnTo>
                  <a:lnTo>
                    <a:pt x="904" y="1624"/>
                  </a:lnTo>
                  <a:lnTo>
                    <a:pt x="894" y="1594"/>
                  </a:lnTo>
                  <a:lnTo>
                    <a:pt x="888" y="1566"/>
                  </a:lnTo>
                  <a:lnTo>
                    <a:pt x="884" y="1536"/>
                  </a:lnTo>
                  <a:lnTo>
                    <a:pt x="882" y="1508"/>
                  </a:lnTo>
                  <a:lnTo>
                    <a:pt x="884" y="1482"/>
                  </a:lnTo>
                  <a:lnTo>
                    <a:pt x="886" y="1456"/>
                  </a:lnTo>
                  <a:lnTo>
                    <a:pt x="892" y="1432"/>
                  </a:lnTo>
                  <a:lnTo>
                    <a:pt x="900" y="1410"/>
                  </a:lnTo>
                  <a:lnTo>
                    <a:pt x="912" y="1392"/>
                  </a:lnTo>
                  <a:lnTo>
                    <a:pt x="926" y="1376"/>
                  </a:lnTo>
                  <a:lnTo>
                    <a:pt x="934" y="1370"/>
                  </a:lnTo>
                  <a:lnTo>
                    <a:pt x="944" y="1364"/>
                  </a:lnTo>
                  <a:lnTo>
                    <a:pt x="944" y="1364"/>
                  </a:lnTo>
                  <a:lnTo>
                    <a:pt x="960" y="1356"/>
                  </a:lnTo>
                  <a:lnTo>
                    <a:pt x="978" y="1352"/>
                  </a:lnTo>
                  <a:lnTo>
                    <a:pt x="994" y="1350"/>
                  </a:lnTo>
                  <a:lnTo>
                    <a:pt x="1010" y="1348"/>
                  </a:lnTo>
                  <a:lnTo>
                    <a:pt x="1024" y="1350"/>
                  </a:lnTo>
                  <a:lnTo>
                    <a:pt x="1040" y="1354"/>
                  </a:lnTo>
                  <a:lnTo>
                    <a:pt x="1068" y="1364"/>
                  </a:lnTo>
                  <a:lnTo>
                    <a:pt x="1068" y="1364"/>
                  </a:lnTo>
                  <a:lnTo>
                    <a:pt x="1078" y="1368"/>
                  </a:lnTo>
                  <a:lnTo>
                    <a:pt x="1088" y="1376"/>
                  </a:lnTo>
                  <a:lnTo>
                    <a:pt x="1098" y="1382"/>
                  </a:lnTo>
                  <a:lnTo>
                    <a:pt x="1106" y="1392"/>
                  </a:lnTo>
                  <a:lnTo>
                    <a:pt x="1112" y="1400"/>
                  </a:lnTo>
                  <a:lnTo>
                    <a:pt x="1118" y="1412"/>
                  </a:lnTo>
                  <a:lnTo>
                    <a:pt x="1122" y="1422"/>
                  </a:lnTo>
                  <a:lnTo>
                    <a:pt x="1124" y="1434"/>
                  </a:lnTo>
                  <a:lnTo>
                    <a:pt x="1126" y="1446"/>
                  </a:lnTo>
                  <a:lnTo>
                    <a:pt x="1126" y="1458"/>
                  </a:lnTo>
                  <a:lnTo>
                    <a:pt x="1126" y="1470"/>
                  </a:lnTo>
                  <a:lnTo>
                    <a:pt x="1122" y="1484"/>
                  </a:lnTo>
                  <a:lnTo>
                    <a:pt x="1118" y="1496"/>
                  </a:lnTo>
                  <a:lnTo>
                    <a:pt x="1112" y="1510"/>
                  </a:lnTo>
                  <a:lnTo>
                    <a:pt x="1106" y="1522"/>
                  </a:lnTo>
                  <a:lnTo>
                    <a:pt x="1096" y="1534"/>
                  </a:lnTo>
                  <a:lnTo>
                    <a:pt x="1096" y="1534"/>
                  </a:lnTo>
                  <a:lnTo>
                    <a:pt x="1098" y="1518"/>
                  </a:lnTo>
                  <a:lnTo>
                    <a:pt x="1096" y="1504"/>
                  </a:lnTo>
                  <a:lnTo>
                    <a:pt x="1094" y="1492"/>
                  </a:lnTo>
                  <a:lnTo>
                    <a:pt x="1090" y="1480"/>
                  </a:lnTo>
                  <a:lnTo>
                    <a:pt x="1082" y="1470"/>
                  </a:lnTo>
                  <a:lnTo>
                    <a:pt x="1074" y="1462"/>
                  </a:lnTo>
                  <a:lnTo>
                    <a:pt x="1066" y="1456"/>
                  </a:lnTo>
                  <a:lnTo>
                    <a:pt x="1056" y="1450"/>
                  </a:lnTo>
                  <a:lnTo>
                    <a:pt x="1046" y="1446"/>
                  </a:lnTo>
                  <a:lnTo>
                    <a:pt x="1034" y="1442"/>
                  </a:lnTo>
                  <a:lnTo>
                    <a:pt x="1024" y="1440"/>
                  </a:lnTo>
                  <a:lnTo>
                    <a:pt x="1012" y="1440"/>
                  </a:lnTo>
                  <a:lnTo>
                    <a:pt x="1002" y="1442"/>
                  </a:lnTo>
                  <a:lnTo>
                    <a:pt x="992" y="1444"/>
                  </a:lnTo>
                  <a:lnTo>
                    <a:pt x="982" y="1448"/>
                  </a:lnTo>
                  <a:lnTo>
                    <a:pt x="974" y="1454"/>
                  </a:lnTo>
                  <a:lnTo>
                    <a:pt x="974" y="1454"/>
                  </a:lnTo>
                  <a:lnTo>
                    <a:pt x="966" y="1464"/>
                  </a:lnTo>
                  <a:lnTo>
                    <a:pt x="958" y="1472"/>
                  </a:lnTo>
                  <a:lnTo>
                    <a:pt x="952" y="1482"/>
                  </a:lnTo>
                  <a:lnTo>
                    <a:pt x="946" y="1492"/>
                  </a:lnTo>
                  <a:lnTo>
                    <a:pt x="944" y="1502"/>
                  </a:lnTo>
                  <a:lnTo>
                    <a:pt x="942" y="1512"/>
                  </a:lnTo>
                  <a:lnTo>
                    <a:pt x="942" y="1522"/>
                  </a:lnTo>
                  <a:lnTo>
                    <a:pt x="942" y="1532"/>
                  </a:lnTo>
                  <a:lnTo>
                    <a:pt x="946" y="1552"/>
                  </a:lnTo>
                  <a:lnTo>
                    <a:pt x="956" y="1570"/>
                  </a:lnTo>
                  <a:lnTo>
                    <a:pt x="968" y="1586"/>
                  </a:lnTo>
                  <a:lnTo>
                    <a:pt x="982" y="1600"/>
                  </a:lnTo>
                  <a:lnTo>
                    <a:pt x="982" y="1600"/>
                  </a:lnTo>
                  <a:lnTo>
                    <a:pt x="1000" y="1612"/>
                  </a:lnTo>
                  <a:lnTo>
                    <a:pt x="1010" y="1616"/>
                  </a:lnTo>
                  <a:lnTo>
                    <a:pt x="1020" y="1618"/>
                  </a:lnTo>
                  <a:lnTo>
                    <a:pt x="1032" y="1620"/>
                  </a:lnTo>
                  <a:lnTo>
                    <a:pt x="1042" y="1620"/>
                  </a:lnTo>
                  <a:lnTo>
                    <a:pt x="1054" y="1620"/>
                  </a:lnTo>
                  <a:lnTo>
                    <a:pt x="1066" y="1618"/>
                  </a:lnTo>
                  <a:lnTo>
                    <a:pt x="1078" y="1614"/>
                  </a:lnTo>
                  <a:lnTo>
                    <a:pt x="1088" y="1608"/>
                  </a:lnTo>
                  <a:lnTo>
                    <a:pt x="1100" y="1602"/>
                  </a:lnTo>
                  <a:lnTo>
                    <a:pt x="1110" y="1594"/>
                  </a:lnTo>
                  <a:lnTo>
                    <a:pt x="1120" y="1584"/>
                  </a:lnTo>
                  <a:lnTo>
                    <a:pt x="1130" y="1572"/>
                  </a:lnTo>
                  <a:lnTo>
                    <a:pt x="1140" y="1558"/>
                  </a:lnTo>
                  <a:lnTo>
                    <a:pt x="1148" y="1544"/>
                  </a:lnTo>
                  <a:lnTo>
                    <a:pt x="1148" y="1544"/>
                  </a:lnTo>
                  <a:lnTo>
                    <a:pt x="1156" y="1526"/>
                  </a:lnTo>
                  <a:lnTo>
                    <a:pt x="1160" y="1508"/>
                  </a:lnTo>
                  <a:lnTo>
                    <a:pt x="1164" y="1490"/>
                  </a:lnTo>
                  <a:lnTo>
                    <a:pt x="1168" y="1470"/>
                  </a:lnTo>
                  <a:lnTo>
                    <a:pt x="1168" y="1452"/>
                  </a:lnTo>
                  <a:lnTo>
                    <a:pt x="1166" y="1432"/>
                  </a:lnTo>
                  <a:lnTo>
                    <a:pt x="1164" y="1414"/>
                  </a:lnTo>
                  <a:lnTo>
                    <a:pt x="1158" y="1394"/>
                  </a:lnTo>
                  <a:lnTo>
                    <a:pt x="1152" y="1376"/>
                  </a:lnTo>
                  <a:lnTo>
                    <a:pt x="1144" y="1358"/>
                  </a:lnTo>
                  <a:lnTo>
                    <a:pt x="1132" y="1342"/>
                  </a:lnTo>
                  <a:lnTo>
                    <a:pt x="1120" y="1326"/>
                  </a:lnTo>
                  <a:lnTo>
                    <a:pt x="1104" y="1312"/>
                  </a:lnTo>
                  <a:lnTo>
                    <a:pt x="1088" y="1298"/>
                  </a:lnTo>
                  <a:lnTo>
                    <a:pt x="1068" y="1286"/>
                  </a:lnTo>
                  <a:lnTo>
                    <a:pt x="1048" y="1276"/>
                  </a:lnTo>
                  <a:lnTo>
                    <a:pt x="1048" y="1276"/>
                  </a:lnTo>
                  <a:lnTo>
                    <a:pt x="1024" y="1268"/>
                  </a:lnTo>
                  <a:lnTo>
                    <a:pt x="1002" y="1262"/>
                  </a:lnTo>
                  <a:lnTo>
                    <a:pt x="982" y="1258"/>
                  </a:lnTo>
                  <a:lnTo>
                    <a:pt x="964" y="1256"/>
                  </a:lnTo>
                  <a:lnTo>
                    <a:pt x="948" y="1256"/>
                  </a:lnTo>
                  <a:lnTo>
                    <a:pt x="934" y="1258"/>
                  </a:lnTo>
                  <a:lnTo>
                    <a:pt x="920" y="1262"/>
                  </a:lnTo>
                  <a:lnTo>
                    <a:pt x="908" y="1266"/>
                  </a:lnTo>
                  <a:lnTo>
                    <a:pt x="896" y="1270"/>
                  </a:lnTo>
                  <a:lnTo>
                    <a:pt x="886" y="1276"/>
                  </a:lnTo>
                  <a:lnTo>
                    <a:pt x="868" y="1292"/>
                  </a:lnTo>
                  <a:lnTo>
                    <a:pt x="854" y="1308"/>
                  </a:lnTo>
                  <a:lnTo>
                    <a:pt x="840" y="1324"/>
                  </a:lnTo>
                  <a:lnTo>
                    <a:pt x="840" y="1324"/>
                  </a:lnTo>
                  <a:lnTo>
                    <a:pt x="838" y="1282"/>
                  </a:lnTo>
                  <a:lnTo>
                    <a:pt x="838" y="1248"/>
                  </a:lnTo>
                  <a:lnTo>
                    <a:pt x="842" y="1224"/>
                  </a:lnTo>
                  <a:lnTo>
                    <a:pt x="846" y="1206"/>
                  </a:lnTo>
                  <a:lnTo>
                    <a:pt x="846" y="1206"/>
                  </a:lnTo>
                  <a:lnTo>
                    <a:pt x="822" y="1238"/>
                  </a:lnTo>
                  <a:lnTo>
                    <a:pt x="802" y="1276"/>
                  </a:lnTo>
                  <a:lnTo>
                    <a:pt x="786" y="1316"/>
                  </a:lnTo>
                  <a:lnTo>
                    <a:pt x="774" y="1356"/>
                  </a:lnTo>
                  <a:lnTo>
                    <a:pt x="768" y="1378"/>
                  </a:lnTo>
                  <a:lnTo>
                    <a:pt x="766" y="1400"/>
                  </a:lnTo>
                  <a:lnTo>
                    <a:pt x="764" y="1420"/>
                  </a:lnTo>
                  <a:lnTo>
                    <a:pt x="762" y="1440"/>
                  </a:lnTo>
                  <a:lnTo>
                    <a:pt x="764" y="1460"/>
                  </a:lnTo>
                  <a:lnTo>
                    <a:pt x="766" y="1480"/>
                  </a:lnTo>
                  <a:lnTo>
                    <a:pt x="770" y="1500"/>
                  </a:lnTo>
                  <a:lnTo>
                    <a:pt x="776" y="1518"/>
                  </a:lnTo>
                  <a:lnTo>
                    <a:pt x="776" y="1518"/>
                  </a:lnTo>
                  <a:lnTo>
                    <a:pt x="734" y="1478"/>
                  </a:lnTo>
                  <a:lnTo>
                    <a:pt x="698" y="1442"/>
                  </a:lnTo>
                  <a:lnTo>
                    <a:pt x="670" y="1404"/>
                  </a:lnTo>
                  <a:lnTo>
                    <a:pt x="646" y="1368"/>
                  </a:lnTo>
                  <a:lnTo>
                    <a:pt x="630" y="1334"/>
                  </a:lnTo>
                  <a:lnTo>
                    <a:pt x="618" y="1302"/>
                  </a:lnTo>
                  <a:lnTo>
                    <a:pt x="612" y="1272"/>
                  </a:lnTo>
                  <a:lnTo>
                    <a:pt x="610" y="1244"/>
                  </a:lnTo>
                  <a:lnTo>
                    <a:pt x="612" y="1230"/>
                  </a:lnTo>
                  <a:lnTo>
                    <a:pt x="614" y="1218"/>
                  </a:lnTo>
                  <a:lnTo>
                    <a:pt x="616" y="1206"/>
                  </a:lnTo>
                  <a:lnTo>
                    <a:pt x="622" y="1194"/>
                  </a:lnTo>
                  <a:lnTo>
                    <a:pt x="626" y="1184"/>
                  </a:lnTo>
                  <a:lnTo>
                    <a:pt x="632" y="1174"/>
                  </a:lnTo>
                  <a:lnTo>
                    <a:pt x="640" y="1164"/>
                  </a:lnTo>
                  <a:lnTo>
                    <a:pt x="648" y="1156"/>
                  </a:lnTo>
                  <a:lnTo>
                    <a:pt x="668" y="1142"/>
                  </a:lnTo>
                  <a:lnTo>
                    <a:pt x="690" y="1132"/>
                  </a:lnTo>
                  <a:lnTo>
                    <a:pt x="714" y="1124"/>
                  </a:lnTo>
                  <a:lnTo>
                    <a:pt x="742" y="1120"/>
                  </a:lnTo>
                  <a:lnTo>
                    <a:pt x="742" y="1120"/>
                  </a:lnTo>
                  <a:lnTo>
                    <a:pt x="742" y="1108"/>
                  </a:lnTo>
                  <a:lnTo>
                    <a:pt x="740" y="1096"/>
                  </a:lnTo>
                  <a:lnTo>
                    <a:pt x="736" y="1086"/>
                  </a:lnTo>
                  <a:lnTo>
                    <a:pt x="728" y="1080"/>
                  </a:lnTo>
                  <a:lnTo>
                    <a:pt x="720" y="1074"/>
                  </a:lnTo>
                  <a:lnTo>
                    <a:pt x="712" y="1072"/>
                  </a:lnTo>
                  <a:lnTo>
                    <a:pt x="702" y="1072"/>
                  </a:lnTo>
                  <a:lnTo>
                    <a:pt x="692" y="1074"/>
                  </a:lnTo>
                  <a:lnTo>
                    <a:pt x="692" y="1074"/>
                  </a:lnTo>
                  <a:lnTo>
                    <a:pt x="698" y="1062"/>
                  </a:lnTo>
                  <a:lnTo>
                    <a:pt x="706" y="1052"/>
                  </a:lnTo>
                  <a:lnTo>
                    <a:pt x="714" y="1046"/>
                  </a:lnTo>
                  <a:lnTo>
                    <a:pt x="724" y="1040"/>
                  </a:lnTo>
                  <a:lnTo>
                    <a:pt x="732" y="1038"/>
                  </a:lnTo>
                  <a:lnTo>
                    <a:pt x="742" y="1036"/>
                  </a:lnTo>
                  <a:lnTo>
                    <a:pt x="752" y="1036"/>
                  </a:lnTo>
                  <a:lnTo>
                    <a:pt x="760" y="1038"/>
                  </a:lnTo>
                  <a:lnTo>
                    <a:pt x="778" y="1044"/>
                  </a:lnTo>
                  <a:lnTo>
                    <a:pt x="794" y="1056"/>
                  </a:lnTo>
                  <a:lnTo>
                    <a:pt x="808" y="1068"/>
                  </a:lnTo>
                  <a:lnTo>
                    <a:pt x="818" y="1080"/>
                  </a:lnTo>
                  <a:lnTo>
                    <a:pt x="818" y="1080"/>
                  </a:lnTo>
                  <a:lnTo>
                    <a:pt x="820" y="1068"/>
                  </a:lnTo>
                  <a:lnTo>
                    <a:pt x="822" y="1056"/>
                  </a:lnTo>
                  <a:lnTo>
                    <a:pt x="822" y="1044"/>
                  </a:lnTo>
                  <a:lnTo>
                    <a:pt x="818" y="1034"/>
                  </a:lnTo>
                  <a:lnTo>
                    <a:pt x="814" y="1024"/>
                  </a:lnTo>
                  <a:lnTo>
                    <a:pt x="808" y="1014"/>
                  </a:lnTo>
                  <a:lnTo>
                    <a:pt x="800" y="1006"/>
                  </a:lnTo>
                  <a:lnTo>
                    <a:pt x="792" y="998"/>
                  </a:lnTo>
                  <a:lnTo>
                    <a:pt x="784" y="992"/>
                  </a:lnTo>
                  <a:lnTo>
                    <a:pt x="774" y="988"/>
                  </a:lnTo>
                  <a:lnTo>
                    <a:pt x="764" y="982"/>
                  </a:lnTo>
                  <a:lnTo>
                    <a:pt x="752" y="980"/>
                  </a:lnTo>
                  <a:lnTo>
                    <a:pt x="742" y="978"/>
                  </a:lnTo>
                  <a:lnTo>
                    <a:pt x="732" y="978"/>
                  </a:lnTo>
                  <a:lnTo>
                    <a:pt x="722" y="978"/>
                  </a:lnTo>
                  <a:lnTo>
                    <a:pt x="712" y="980"/>
                  </a:lnTo>
                  <a:lnTo>
                    <a:pt x="712" y="980"/>
                  </a:lnTo>
                  <a:lnTo>
                    <a:pt x="778" y="890"/>
                  </a:lnTo>
                  <a:lnTo>
                    <a:pt x="778" y="890"/>
                  </a:lnTo>
                  <a:lnTo>
                    <a:pt x="756" y="900"/>
                  </a:lnTo>
                  <a:lnTo>
                    <a:pt x="736" y="910"/>
                  </a:lnTo>
                  <a:lnTo>
                    <a:pt x="716" y="924"/>
                  </a:lnTo>
                  <a:lnTo>
                    <a:pt x="698" y="938"/>
                  </a:lnTo>
                  <a:lnTo>
                    <a:pt x="680" y="954"/>
                  </a:lnTo>
                  <a:lnTo>
                    <a:pt x="664" y="972"/>
                  </a:lnTo>
                  <a:lnTo>
                    <a:pt x="650" y="990"/>
                  </a:lnTo>
                  <a:lnTo>
                    <a:pt x="636" y="1010"/>
                  </a:lnTo>
                  <a:lnTo>
                    <a:pt x="624" y="1030"/>
                  </a:lnTo>
                  <a:lnTo>
                    <a:pt x="614" y="1052"/>
                  </a:lnTo>
                  <a:lnTo>
                    <a:pt x="604" y="1076"/>
                  </a:lnTo>
                  <a:lnTo>
                    <a:pt x="596" y="1098"/>
                  </a:lnTo>
                  <a:lnTo>
                    <a:pt x="588" y="1124"/>
                  </a:lnTo>
                  <a:lnTo>
                    <a:pt x="582" y="1150"/>
                  </a:lnTo>
                  <a:lnTo>
                    <a:pt x="578" y="1176"/>
                  </a:lnTo>
                  <a:lnTo>
                    <a:pt x="574" y="1204"/>
                  </a:lnTo>
                  <a:lnTo>
                    <a:pt x="574" y="1204"/>
                  </a:lnTo>
                  <a:lnTo>
                    <a:pt x="572" y="1140"/>
                  </a:lnTo>
                  <a:lnTo>
                    <a:pt x="574" y="1084"/>
                  </a:lnTo>
                  <a:lnTo>
                    <a:pt x="578" y="1032"/>
                  </a:lnTo>
                  <a:lnTo>
                    <a:pt x="586" y="988"/>
                  </a:lnTo>
                  <a:lnTo>
                    <a:pt x="596" y="950"/>
                  </a:lnTo>
                  <a:lnTo>
                    <a:pt x="610" y="918"/>
                  </a:lnTo>
                  <a:lnTo>
                    <a:pt x="618" y="904"/>
                  </a:lnTo>
                  <a:lnTo>
                    <a:pt x="626" y="892"/>
                  </a:lnTo>
                  <a:lnTo>
                    <a:pt x="636" y="880"/>
                  </a:lnTo>
                  <a:lnTo>
                    <a:pt x="644" y="872"/>
                  </a:lnTo>
                  <a:lnTo>
                    <a:pt x="654" y="862"/>
                  </a:lnTo>
                  <a:lnTo>
                    <a:pt x="666" y="856"/>
                  </a:lnTo>
                  <a:lnTo>
                    <a:pt x="676" y="850"/>
                  </a:lnTo>
                  <a:lnTo>
                    <a:pt x="688" y="844"/>
                  </a:lnTo>
                  <a:lnTo>
                    <a:pt x="698" y="842"/>
                  </a:lnTo>
                  <a:lnTo>
                    <a:pt x="710" y="840"/>
                  </a:lnTo>
                  <a:lnTo>
                    <a:pt x="734" y="838"/>
                  </a:lnTo>
                  <a:lnTo>
                    <a:pt x="760" y="842"/>
                  </a:lnTo>
                  <a:lnTo>
                    <a:pt x="786" y="850"/>
                  </a:lnTo>
                  <a:lnTo>
                    <a:pt x="812" y="862"/>
                  </a:lnTo>
                  <a:lnTo>
                    <a:pt x="836" y="878"/>
                  </a:lnTo>
                  <a:lnTo>
                    <a:pt x="836" y="878"/>
                  </a:lnTo>
                  <a:lnTo>
                    <a:pt x="828" y="862"/>
                  </a:lnTo>
                  <a:lnTo>
                    <a:pt x="814" y="844"/>
                  </a:lnTo>
                  <a:lnTo>
                    <a:pt x="796" y="826"/>
                  </a:lnTo>
                  <a:lnTo>
                    <a:pt x="774" y="808"/>
                  </a:lnTo>
                  <a:lnTo>
                    <a:pt x="750" y="794"/>
                  </a:lnTo>
                  <a:lnTo>
                    <a:pt x="738" y="788"/>
                  </a:lnTo>
                  <a:lnTo>
                    <a:pt x="726" y="784"/>
                  </a:lnTo>
                  <a:lnTo>
                    <a:pt x="714" y="782"/>
                  </a:lnTo>
                  <a:lnTo>
                    <a:pt x="702" y="780"/>
                  </a:lnTo>
                  <a:lnTo>
                    <a:pt x="690" y="780"/>
                  </a:lnTo>
                  <a:lnTo>
                    <a:pt x="680" y="784"/>
                  </a:lnTo>
                  <a:lnTo>
                    <a:pt x="680" y="784"/>
                  </a:lnTo>
                  <a:lnTo>
                    <a:pt x="688" y="774"/>
                  </a:lnTo>
                  <a:lnTo>
                    <a:pt x="698" y="764"/>
                  </a:lnTo>
                  <a:lnTo>
                    <a:pt x="708" y="756"/>
                  </a:lnTo>
                  <a:lnTo>
                    <a:pt x="720" y="750"/>
                  </a:lnTo>
                  <a:lnTo>
                    <a:pt x="730" y="744"/>
                  </a:lnTo>
                  <a:lnTo>
                    <a:pt x="742" y="740"/>
                  </a:lnTo>
                  <a:lnTo>
                    <a:pt x="768" y="734"/>
                  </a:lnTo>
                  <a:lnTo>
                    <a:pt x="794" y="732"/>
                  </a:lnTo>
                  <a:lnTo>
                    <a:pt x="820" y="734"/>
                  </a:lnTo>
                  <a:lnTo>
                    <a:pt x="848" y="740"/>
                  </a:lnTo>
                  <a:lnTo>
                    <a:pt x="872" y="748"/>
                  </a:lnTo>
                  <a:lnTo>
                    <a:pt x="896" y="760"/>
                  </a:lnTo>
                  <a:lnTo>
                    <a:pt x="918" y="776"/>
                  </a:lnTo>
                  <a:lnTo>
                    <a:pt x="938" y="792"/>
                  </a:lnTo>
                  <a:lnTo>
                    <a:pt x="954" y="812"/>
                  </a:lnTo>
                  <a:lnTo>
                    <a:pt x="960" y="822"/>
                  </a:lnTo>
                  <a:lnTo>
                    <a:pt x="964" y="834"/>
                  </a:lnTo>
                  <a:lnTo>
                    <a:pt x="968" y="846"/>
                  </a:lnTo>
                  <a:lnTo>
                    <a:pt x="972" y="858"/>
                  </a:lnTo>
                  <a:lnTo>
                    <a:pt x="974" y="870"/>
                  </a:lnTo>
                  <a:lnTo>
                    <a:pt x="974" y="882"/>
                  </a:lnTo>
                  <a:lnTo>
                    <a:pt x="972" y="896"/>
                  </a:lnTo>
                  <a:lnTo>
                    <a:pt x="968" y="908"/>
                  </a:lnTo>
                  <a:lnTo>
                    <a:pt x="968" y="908"/>
                  </a:lnTo>
                  <a:lnTo>
                    <a:pt x="982" y="912"/>
                  </a:lnTo>
                  <a:lnTo>
                    <a:pt x="996" y="912"/>
                  </a:lnTo>
                  <a:lnTo>
                    <a:pt x="1008" y="912"/>
                  </a:lnTo>
                  <a:lnTo>
                    <a:pt x="1018" y="910"/>
                  </a:lnTo>
                  <a:lnTo>
                    <a:pt x="1028" y="906"/>
                  </a:lnTo>
                  <a:lnTo>
                    <a:pt x="1036" y="900"/>
                  </a:lnTo>
                  <a:lnTo>
                    <a:pt x="1044" y="894"/>
                  </a:lnTo>
                  <a:lnTo>
                    <a:pt x="1052" y="886"/>
                  </a:lnTo>
                  <a:lnTo>
                    <a:pt x="1062" y="870"/>
                  </a:lnTo>
                  <a:lnTo>
                    <a:pt x="1070" y="852"/>
                  </a:lnTo>
                  <a:lnTo>
                    <a:pt x="1074" y="834"/>
                  </a:lnTo>
                  <a:lnTo>
                    <a:pt x="1074" y="816"/>
                  </a:lnTo>
                  <a:lnTo>
                    <a:pt x="1074" y="816"/>
                  </a:lnTo>
                  <a:lnTo>
                    <a:pt x="1086" y="832"/>
                  </a:lnTo>
                  <a:lnTo>
                    <a:pt x="1096" y="852"/>
                  </a:lnTo>
                  <a:lnTo>
                    <a:pt x="1102" y="872"/>
                  </a:lnTo>
                  <a:lnTo>
                    <a:pt x="1108" y="894"/>
                  </a:lnTo>
                  <a:lnTo>
                    <a:pt x="1112" y="916"/>
                  </a:lnTo>
                  <a:lnTo>
                    <a:pt x="1112" y="936"/>
                  </a:lnTo>
                  <a:lnTo>
                    <a:pt x="1112" y="958"/>
                  </a:lnTo>
                  <a:lnTo>
                    <a:pt x="1108" y="978"/>
                  </a:lnTo>
                  <a:lnTo>
                    <a:pt x="1102" y="996"/>
                  </a:lnTo>
                  <a:lnTo>
                    <a:pt x="1094" y="1012"/>
                  </a:lnTo>
                  <a:lnTo>
                    <a:pt x="1084" y="1026"/>
                  </a:lnTo>
                  <a:lnTo>
                    <a:pt x="1072" y="1036"/>
                  </a:lnTo>
                  <a:lnTo>
                    <a:pt x="1058" y="1042"/>
                  </a:lnTo>
                  <a:lnTo>
                    <a:pt x="1040" y="1044"/>
                  </a:lnTo>
                  <a:lnTo>
                    <a:pt x="1022" y="1042"/>
                  </a:lnTo>
                  <a:lnTo>
                    <a:pt x="1002" y="1036"/>
                  </a:lnTo>
                  <a:lnTo>
                    <a:pt x="1002" y="1036"/>
                  </a:lnTo>
                  <a:lnTo>
                    <a:pt x="1008" y="1020"/>
                  </a:lnTo>
                  <a:lnTo>
                    <a:pt x="1010" y="1008"/>
                  </a:lnTo>
                  <a:lnTo>
                    <a:pt x="1010" y="994"/>
                  </a:lnTo>
                  <a:lnTo>
                    <a:pt x="1006" y="984"/>
                  </a:lnTo>
                  <a:lnTo>
                    <a:pt x="1000" y="974"/>
                  </a:lnTo>
                  <a:lnTo>
                    <a:pt x="994" y="966"/>
                  </a:lnTo>
                  <a:lnTo>
                    <a:pt x="984" y="960"/>
                  </a:lnTo>
                  <a:lnTo>
                    <a:pt x="974" y="956"/>
                  </a:lnTo>
                  <a:lnTo>
                    <a:pt x="962" y="952"/>
                  </a:lnTo>
                  <a:lnTo>
                    <a:pt x="950" y="952"/>
                  </a:lnTo>
                  <a:lnTo>
                    <a:pt x="938" y="954"/>
                  </a:lnTo>
                  <a:lnTo>
                    <a:pt x="926" y="958"/>
                  </a:lnTo>
                  <a:lnTo>
                    <a:pt x="914" y="964"/>
                  </a:lnTo>
                  <a:lnTo>
                    <a:pt x="904" y="972"/>
                  </a:lnTo>
                  <a:lnTo>
                    <a:pt x="894" y="982"/>
                  </a:lnTo>
                  <a:lnTo>
                    <a:pt x="884" y="996"/>
                  </a:lnTo>
                  <a:lnTo>
                    <a:pt x="884" y="996"/>
                  </a:lnTo>
                  <a:lnTo>
                    <a:pt x="880" y="1008"/>
                  </a:lnTo>
                  <a:lnTo>
                    <a:pt x="876" y="1020"/>
                  </a:lnTo>
                  <a:lnTo>
                    <a:pt x="872" y="1032"/>
                  </a:lnTo>
                  <a:lnTo>
                    <a:pt x="870" y="1046"/>
                  </a:lnTo>
                  <a:lnTo>
                    <a:pt x="870" y="1060"/>
                  </a:lnTo>
                  <a:lnTo>
                    <a:pt x="872" y="1072"/>
                  </a:lnTo>
                  <a:lnTo>
                    <a:pt x="872" y="1086"/>
                  </a:lnTo>
                  <a:lnTo>
                    <a:pt x="876" y="1098"/>
                  </a:lnTo>
                  <a:lnTo>
                    <a:pt x="880" y="1110"/>
                  </a:lnTo>
                  <a:lnTo>
                    <a:pt x="886" y="1122"/>
                  </a:lnTo>
                  <a:lnTo>
                    <a:pt x="892" y="1134"/>
                  </a:lnTo>
                  <a:lnTo>
                    <a:pt x="900" y="1144"/>
                  </a:lnTo>
                  <a:lnTo>
                    <a:pt x="908" y="1154"/>
                  </a:lnTo>
                  <a:lnTo>
                    <a:pt x="918" y="1162"/>
                  </a:lnTo>
                  <a:lnTo>
                    <a:pt x="930" y="1168"/>
                  </a:lnTo>
                  <a:lnTo>
                    <a:pt x="942" y="1174"/>
                  </a:lnTo>
                  <a:lnTo>
                    <a:pt x="942" y="1174"/>
                  </a:lnTo>
                  <a:lnTo>
                    <a:pt x="956" y="1178"/>
                  </a:lnTo>
                  <a:lnTo>
                    <a:pt x="968" y="1180"/>
                  </a:lnTo>
                  <a:lnTo>
                    <a:pt x="982" y="1182"/>
                  </a:lnTo>
                  <a:lnTo>
                    <a:pt x="996" y="1180"/>
                  </a:lnTo>
                  <a:lnTo>
                    <a:pt x="1010" y="1178"/>
                  </a:lnTo>
                  <a:lnTo>
                    <a:pt x="1026" y="1176"/>
                  </a:lnTo>
                  <a:lnTo>
                    <a:pt x="1040" y="1170"/>
                  </a:lnTo>
                  <a:lnTo>
                    <a:pt x="1054" y="1164"/>
                  </a:lnTo>
                  <a:lnTo>
                    <a:pt x="1068" y="1158"/>
                  </a:lnTo>
                  <a:lnTo>
                    <a:pt x="1080" y="1148"/>
                  </a:lnTo>
                  <a:lnTo>
                    <a:pt x="1094" y="1138"/>
                  </a:lnTo>
                  <a:lnTo>
                    <a:pt x="1106" y="1128"/>
                  </a:lnTo>
                  <a:lnTo>
                    <a:pt x="1116" y="1116"/>
                  </a:lnTo>
                  <a:lnTo>
                    <a:pt x="1126" y="1102"/>
                  </a:lnTo>
                  <a:lnTo>
                    <a:pt x="1134" y="1086"/>
                  </a:lnTo>
                  <a:lnTo>
                    <a:pt x="1142" y="1072"/>
                  </a:lnTo>
                  <a:lnTo>
                    <a:pt x="1142" y="1072"/>
                  </a:lnTo>
                  <a:lnTo>
                    <a:pt x="1150" y="1048"/>
                  </a:lnTo>
                  <a:lnTo>
                    <a:pt x="1156" y="1022"/>
                  </a:lnTo>
                  <a:lnTo>
                    <a:pt x="1158" y="996"/>
                  </a:lnTo>
                  <a:lnTo>
                    <a:pt x="1158" y="968"/>
                  </a:lnTo>
                  <a:lnTo>
                    <a:pt x="1156" y="940"/>
                  </a:lnTo>
                  <a:lnTo>
                    <a:pt x="1152" y="910"/>
                  </a:lnTo>
                  <a:lnTo>
                    <a:pt x="1144" y="882"/>
                  </a:lnTo>
                  <a:lnTo>
                    <a:pt x="1134" y="854"/>
                  </a:lnTo>
                  <a:lnTo>
                    <a:pt x="1120" y="826"/>
                  </a:lnTo>
                  <a:lnTo>
                    <a:pt x="1104" y="800"/>
                  </a:lnTo>
                  <a:lnTo>
                    <a:pt x="1084" y="776"/>
                  </a:lnTo>
                  <a:lnTo>
                    <a:pt x="1062" y="754"/>
                  </a:lnTo>
                  <a:lnTo>
                    <a:pt x="1036" y="734"/>
                  </a:lnTo>
                  <a:lnTo>
                    <a:pt x="1008" y="716"/>
                  </a:lnTo>
                  <a:lnTo>
                    <a:pt x="976" y="702"/>
                  </a:lnTo>
                  <a:lnTo>
                    <a:pt x="940" y="692"/>
                  </a:lnTo>
                  <a:lnTo>
                    <a:pt x="940" y="692"/>
                  </a:lnTo>
                  <a:lnTo>
                    <a:pt x="982" y="678"/>
                  </a:lnTo>
                  <a:lnTo>
                    <a:pt x="1020" y="662"/>
                  </a:lnTo>
                  <a:lnTo>
                    <a:pt x="1052" y="642"/>
                  </a:lnTo>
                  <a:lnTo>
                    <a:pt x="1082" y="620"/>
                  </a:lnTo>
                  <a:lnTo>
                    <a:pt x="1106" y="594"/>
                  </a:lnTo>
                  <a:lnTo>
                    <a:pt x="1128" y="568"/>
                  </a:lnTo>
                  <a:lnTo>
                    <a:pt x="1146" y="540"/>
                  </a:lnTo>
                  <a:lnTo>
                    <a:pt x="1158" y="510"/>
                  </a:lnTo>
                  <a:lnTo>
                    <a:pt x="1170" y="482"/>
                  </a:lnTo>
                  <a:lnTo>
                    <a:pt x="1176" y="450"/>
                  </a:lnTo>
                  <a:lnTo>
                    <a:pt x="1180" y="420"/>
                  </a:lnTo>
                  <a:lnTo>
                    <a:pt x="1180" y="390"/>
                  </a:lnTo>
                  <a:lnTo>
                    <a:pt x="1178" y="362"/>
                  </a:lnTo>
                  <a:lnTo>
                    <a:pt x="1172" y="332"/>
                  </a:lnTo>
                  <a:lnTo>
                    <a:pt x="1164" y="306"/>
                  </a:lnTo>
                  <a:lnTo>
                    <a:pt x="1154" y="280"/>
                  </a:lnTo>
                  <a:lnTo>
                    <a:pt x="1154" y="280"/>
                  </a:lnTo>
                  <a:lnTo>
                    <a:pt x="1162" y="272"/>
                  </a:lnTo>
                  <a:lnTo>
                    <a:pt x="1166" y="264"/>
                  </a:lnTo>
                  <a:lnTo>
                    <a:pt x="1168" y="258"/>
                  </a:lnTo>
                  <a:lnTo>
                    <a:pt x="1170" y="250"/>
                  </a:lnTo>
                  <a:lnTo>
                    <a:pt x="1168" y="244"/>
                  </a:lnTo>
                  <a:lnTo>
                    <a:pt x="1166" y="238"/>
                  </a:lnTo>
                  <a:lnTo>
                    <a:pt x="1158" y="228"/>
                  </a:lnTo>
                  <a:lnTo>
                    <a:pt x="1148" y="220"/>
                  </a:lnTo>
                  <a:lnTo>
                    <a:pt x="1134" y="214"/>
                  </a:lnTo>
                  <a:lnTo>
                    <a:pt x="1122" y="210"/>
                  </a:lnTo>
                  <a:lnTo>
                    <a:pt x="1110" y="208"/>
                  </a:lnTo>
                  <a:lnTo>
                    <a:pt x="1110" y="208"/>
                  </a:lnTo>
                  <a:lnTo>
                    <a:pt x="1092" y="202"/>
                  </a:lnTo>
                  <a:lnTo>
                    <a:pt x="1078" y="192"/>
                  </a:lnTo>
                  <a:lnTo>
                    <a:pt x="1066" y="180"/>
                  </a:lnTo>
                  <a:lnTo>
                    <a:pt x="1058" y="168"/>
                  </a:lnTo>
                  <a:lnTo>
                    <a:pt x="1052" y="152"/>
                  </a:lnTo>
                  <a:lnTo>
                    <a:pt x="1052" y="146"/>
                  </a:lnTo>
                  <a:lnTo>
                    <a:pt x="1054" y="138"/>
                  </a:lnTo>
                  <a:lnTo>
                    <a:pt x="1056" y="132"/>
                  </a:lnTo>
                  <a:lnTo>
                    <a:pt x="1060" y="124"/>
                  </a:lnTo>
                  <a:lnTo>
                    <a:pt x="1064" y="118"/>
                  </a:lnTo>
                  <a:lnTo>
                    <a:pt x="1072" y="112"/>
                  </a:lnTo>
                  <a:lnTo>
                    <a:pt x="1072" y="112"/>
                  </a:lnTo>
                  <a:lnTo>
                    <a:pt x="1080" y="108"/>
                  </a:lnTo>
                  <a:lnTo>
                    <a:pt x="1088" y="104"/>
                  </a:lnTo>
                  <a:lnTo>
                    <a:pt x="1094" y="104"/>
                  </a:lnTo>
                  <a:lnTo>
                    <a:pt x="1102" y="102"/>
                  </a:lnTo>
                  <a:lnTo>
                    <a:pt x="1108" y="104"/>
                  </a:lnTo>
                  <a:lnTo>
                    <a:pt x="1114" y="106"/>
                  </a:lnTo>
                  <a:lnTo>
                    <a:pt x="1126" y="112"/>
                  </a:lnTo>
                  <a:lnTo>
                    <a:pt x="1136" y="122"/>
                  </a:lnTo>
                  <a:lnTo>
                    <a:pt x="1144" y="136"/>
                  </a:lnTo>
                  <a:lnTo>
                    <a:pt x="1148" y="150"/>
                  </a:lnTo>
                  <a:lnTo>
                    <a:pt x="1150" y="166"/>
                  </a:lnTo>
                  <a:lnTo>
                    <a:pt x="1150" y="166"/>
                  </a:lnTo>
                  <a:lnTo>
                    <a:pt x="1158" y="154"/>
                  </a:lnTo>
                  <a:lnTo>
                    <a:pt x="1164" y="142"/>
                  </a:lnTo>
                  <a:lnTo>
                    <a:pt x="1170" y="128"/>
                  </a:lnTo>
                  <a:lnTo>
                    <a:pt x="1174" y="116"/>
                  </a:lnTo>
                  <a:lnTo>
                    <a:pt x="1176" y="102"/>
                  </a:lnTo>
                  <a:lnTo>
                    <a:pt x="1176" y="90"/>
                  </a:lnTo>
                  <a:lnTo>
                    <a:pt x="1176" y="76"/>
                  </a:lnTo>
                  <a:lnTo>
                    <a:pt x="1172" y="64"/>
                  </a:lnTo>
                  <a:lnTo>
                    <a:pt x="1168" y="52"/>
                  </a:lnTo>
                  <a:lnTo>
                    <a:pt x="1164" y="42"/>
                  </a:lnTo>
                  <a:lnTo>
                    <a:pt x="1156" y="32"/>
                  </a:lnTo>
                  <a:lnTo>
                    <a:pt x="1148" y="22"/>
                  </a:lnTo>
                  <a:lnTo>
                    <a:pt x="1138" y="14"/>
                  </a:lnTo>
                  <a:lnTo>
                    <a:pt x="1126" y="8"/>
                  </a:lnTo>
                  <a:lnTo>
                    <a:pt x="1114" y="4"/>
                  </a:lnTo>
                  <a:lnTo>
                    <a:pt x="1100" y="0"/>
                  </a:lnTo>
                  <a:lnTo>
                    <a:pt x="1100" y="0"/>
                  </a:lnTo>
                  <a:lnTo>
                    <a:pt x="1086" y="0"/>
                  </a:lnTo>
                  <a:lnTo>
                    <a:pt x="1072" y="4"/>
                  </a:lnTo>
                  <a:lnTo>
                    <a:pt x="1058" y="10"/>
                  </a:lnTo>
                  <a:lnTo>
                    <a:pt x="1044" y="18"/>
                  </a:lnTo>
                  <a:lnTo>
                    <a:pt x="1032" y="28"/>
                  </a:lnTo>
                  <a:lnTo>
                    <a:pt x="1020" y="40"/>
                  </a:lnTo>
                  <a:lnTo>
                    <a:pt x="1010" y="56"/>
                  </a:lnTo>
                  <a:lnTo>
                    <a:pt x="1002" y="70"/>
                  </a:lnTo>
                  <a:lnTo>
                    <a:pt x="994" y="86"/>
                  </a:lnTo>
                  <a:lnTo>
                    <a:pt x="990" y="104"/>
                  </a:lnTo>
                  <a:lnTo>
                    <a:pt x="988" y="120"/>
                  </a:lnTo>
                  <a:lnTo>
                    <a:pt x="988" y="138"/>
                  </a:lnTo>
                  <a:lnTo>
                    <a:pt x="992" y="154"/>
                  </a:lnTo>
                  <a:lnTo>
                    <a:pt x="1000" y="170"/>
                  </a:lnTo>
                  <a:lnTo>
                    <a:pt x="1010" y="184"/>
                  </a:lnTo>
                  <a:lnTo>
                    <a:pt x="1024" y="198"/>
                  </a:lnTo>
                  <a:lnTo>
                    <a:pt x="1024" y="198"/>
                  </a:lnTo>
                  <a:lnTo>
                    <a:pt x="1046" y="212"/>
                  </a:lnTo>
                  <a:lnTo>
                    <a:pt x="1066" y="222"/>
                  </a:lnTo>
                  <a:lnTo>
                    <a:pt x="1094" y="238"/>
                  </a:lnTo>
                  <a:lnTo>
                    <a:pt x="1104" y="246"/>
                  </a:lnTo>
                  <a:lnTo>
                    <a:pt x="1110" y="254"/>
                  </a:lnTo>
                  <a:lnTo>
                    <a:pt x="1114" y="264"/>
                  </a:lnTo>
                  <a:lnTo>
                    <a:pt x="1114" y="276"/>
                  </a:lnTo>
                  <a:lnTo>
                    <a:pt x="1114" y="276"/>
                  </a:lnTo>
                  <a:lnTo>
                    <a:pt x="1102" y="266"/>
                  </a:lnTo>
                  <a:lnTo>
                    <a:pt x="1090" y="256"/>
                  </a:lnTo>
                  <a:lnTo>
                    <a:pt x="1076" y="248"/>
                  </a:lnTo>
                  <a:lnTo>
                    <a:pt x="1062" y="242"/>
                  </a:lnTo>
                  <a:lnTo>
                    <a:pt x="1048" y="238"/>
                  </a:lnTo>
                  <a:lnTo>
                    <a:pt x="1034" y="234"/>
                  </a:lnTo>
                  <a:lnTo>
                    <a:pt x="1020" y="232"/>
                  </a:lnTo>
                  <a:lnTo>
                    <a:pt x="1006" y="230"/>
                  </a:lnTo>
                  <a:lnTo>
                    <a:pt x="978" y="232"/>
                  </a:lnTo>
                  <a:lnTo>
                    <a:pt x="954" y="238"/>
                  </a:lnTo>
                  <a:lnTo>
                    <a:pt x="942" y="242"/>
                  </a:lnTo>
                  <a:lnTo>
                    <a:pt x="932" y="246"/>
                  </a:lnTo>
                  <a:lnTo>
                    <a:pt x="922" y="252"/>
                  </a:lnTo>
                  <a:lnTo>
                    <a:pt x="914" y="260"/>
                  </a:lnTo>
                  <a:lnTo>
                    <a:pt x="914" y="260"/>
                  </a:lnTo>
                  <a:lnTo>
                    <a:pt x="904" y="272"/>
                  </a:lnTo>
                  <a:lnTo>
                    <a:pt x="894" y="284"/>
                  </a:lnTo>
                  <a:lnTo>
                    <a:pt x="888" y="296"/>
                  </a:lnTo>
                  <a:lnTo>
                    <a:pt x="884" y="310"/>
                  </a:lnTo>
                  <a:lnTo>
                    <a:pt x="880" y="324"/>
                  </a:lnTo>
                  <a:lnTo>
                    <a:pt x="880" y="338"/>
                  </a:lnTo>
                  <a:lnTo>
                    <a:pt x="882" y="352"/>
                  </a:lnTo>
                  <a:lnTo>
                    <a:pt x="886" y="364"/>
                  </a:lnTo>
                  <a:lnTo>
                    <a:pt x="894" y="376"/>
                  </a:lnTo>
                  <a:lnTo>
                    <a:pt x="902" y="386"/>
                  </a:lnTo>
                  <a:lnTo>
                    <a:pt x="914" y="392"/>
                  </a:lnTo>
                  <a:lnTo>
                    <a:pt x="930" y="398"/>
                  </a:lnTo>
                  <a:lnTo>
                    <a:pt x="948" y="400"/>
                  </a:lnTo>
                  <a:lnTo>
                    <a:pt x="970" y="400"/>
                  </a:lnTo>
                  <a:lnTo>
                    <a:pt x="994" y="396"/>
                  </a:lnTo>
                  <a:lnTo>
                    <a:pt x="1022" y="390"/>
                  </a:lnTo>
                  <a:lnTo>
                    <a:pt x="1022" y="390"/>
                  </a:lnTo>
                  <a:lnTo>
                    <a:pt x="1010" y="380"/>
                  </a:lnTo>
                  <a:lnTo>
                    <a:pt x="998" y="370"/>
                  </a:lnTo>
                  <a:lnTo>
                    <a:pt x="988" y="360"/>
                  </a:lnTo>
                  <a:lnTo>
                    <a:pt x="982" y="350"/>
                  </a:lnTo>
                  <a:lnTo>
                    <a:pt x="978" y="340"/>
                  </a:lnTo>
                  <a:lnTo>
                    <a:pt x="974" y="330"/>
                  </a:lnTo>
                  <a:lnTo>
                    <a:pt x="974" y="322"/>
                  </a:lnTo>
                  <a:lnTo>
                    <a:pt x="974" y="314"/>
                  </a:lnTo>
                  <a:lnTo>
                    <a:pt x="976" y="306"/>
                  </a:lnTo>
                  <a:lnTo>
                    <a:pt x="980" y="300"/>
                  </a:lnTo>
                  <a:lnTo>
                    <a:pt x="984" y="294"/>
                  </a:lnTo>
                  <a:lnTo>
                    <a:pt x="990" y="288"/>
                  </a:lnTo>
                  <a:lnTo>
                    <a:pt x="996" y="284"/>
                  </a:lnTo>
                  <a:lnTo>
                    <a:pt x="1004" y="280"/>
                  </a:lnTo>
                  <a:lnTo>
                    <a:pt x="1020" y="276"/>
                  </a:lnTo>
                  <a:lnTo>
                    <a:pt x="1020" y="276"/>
                  </a:lnTo>
                  <a:lnTo>
                    <a:pt x="1038" y="276"/>
                  </a:lnTo>
                  <a:lnTo>
                    <a:pt x="1054" y="280"/>
                  </a:lnTo>
                  <a:lnTo>
                    <a:pt x="1070" y="288"/>
                  </a:lnTo>
                  <a:lnTo>
                    <a:pt x="1084" y="298"/>
                  </a:lnTo>
                  <a:lnTo>
                    <a:pt x="1096" y="312"/>
                  </a:lnTo>
                  <a:lnTo>
                    <a:pt x="1106" y="326"/>
                  </a:lnTo>
                  <a:lnTo>
                    <a:pt x="1114" y="340"/>
                  </a:lnTo>
                  <a:lnTo>
                    <a:pt x="1118" y="356"/>
                  </a:lnTo>
                  <a:lnTo>
                    <a:pt x="1118" y="356"/>
                  </a:lnTo>
                  <a:lnTo>
                    <a:pt x="1100" y="352"/>
                  </a:lnTo>
                  <a:lnTo>
                    <a:pt x="1084" y="352"/>
                  </a:lnTo>
                  <a:lnTo>
                    <a:pt x="1074" y="356"/>
                  </a:lnTo>
                  <a:lnTo>
                    <a:pt x="1064" y="360"/>
                  </a:lnTo>
                  <a:lnTo>
                    <a:pt x="1058" y="368"/>
                  </a:lnTo>
                  <a:lnTo>
                    <a:pt x="1054" y="374"/>
                  </a:lnTo>
                  <a:lnTo>
                    <a:pt x="1050" y="380"/>
                  </a:lnTo>
                  <a:lnTo>
                    <a:pt x="1050" y="380"/>
                  </a:lnTo>
                  <a:lnTo>
                    <a:pt x="1064" y="384"/>
                  </a:lnTo>
                  <a:lnTo>
                    <a:pt x="1076" y="392"/>
                  </a:lnTo>
                  <a:lnTo>
                    <a:pt x="1086" y="402"/>
                  </a:lnTo>
                  <a:lnTo>
                    <a:pt x="1096" y="414"/>
                  </a:lnTo>
                  <a:lnTo>
                    <a:pt x="1104" y="428"/>
                  </a:lnTo>
                  <a:lnTo>
                    <a:pt x="1110" y="444"/>
                  </a:lnTo>
                  <a:lnTo>
                    <a:pt x="1114" y="460"/>
                  </a:lnTo>
                  <a:lnTo>
                    <a:pt x="1116" y="478"/>
                  </a:lnTo>
                  <a:lnTo>
                    <a:pt x="1114" y="494"/>
                  </a:lnTo>
                  <a:lnTo>
                    <a:pt x="1110" y="510"/>
                  </a:lnTo>
                  <a:lnTo>
                    <a:pt x="1102" y="524"/>
                  </a:lnTo>
                  <a:lnTo>
                    <a:pt x="1090" y="536"/>
                  </a:lnTo>
                  <a:lnTo>
                    <a:pt x="1076" y="546"/>
                  </a:lnTo>
                  <a:lnTo>
                    <a:pt x="1058" y="554"/>
                  </a:lnTo>
                  <a:lnTo>
                    <a:pt x="1034" y="558"/>
                  </a:lnTo>
                  <a:lnTo>
                    <a:pt x="1006" y="560"/>
                  </a:lnTo>
                  <a:lnTo>
                    <a:pt x="1006" y="560"/>
                  </a:lnTo>
                  <a:lnTo>
                    <a:pt x="1014" y="568"/>
                  </a:lnTo>
                  <a:lnTo>
                    <a:pt x="1020" y="578"/>
                  </a:lnTo>
                  <a:lnTo>
                    <a:pt x="1022" y="590"/>
                  </a:lnTo>
                  <a:lnTo>
                    <a:pt x="1020" y="602"/>
                  </a:lnTo>
                  <a:lnTo>
                    <a:pt x="1014" y="614"/>
                  </a:lnTo>
                  <a:lnTo>
                    <a:pt x="1002" y="624"/>
                  </a:lnTo>
                  <a:lnTo>
                    <a:pt x="988" y="634"/>
                  </a:lnTo>
                  <a:lnTo>
                    <a:pt x="970" y="640"/>
                  </a:lnTo>
                  <a:lnTo>
                    <a:pt x="970" y="640"/>
                  </a:lnTo>
                  <a:lnTo>
                    <a:pt x="958" y="640"/>
                  </a:lnTo>
                  <a:lnTo>
                    <a:pt x="944" y="636"/>
                  </a:lnTo>
                  <a:lnTo>
                    <a:pt x="928" y="630"/>
                  </a:lnTo>
                  <a:lnTo>
                    <a:pt x="916" y="620"/>
                  </a:lnTo>
                  <a:lnTo>
                    <a:pt x="910" y="614"/>
                  </a:lnTo>
                  <a:lnTo>
                    <a:pt x="906" y="608"/>
                  </a:lnTo>
                  <a:lnTo>
                    <a:pt x="904" y="600"/>
                  </a:lnTo>
                  <a:lnTo>
                    <a:pt x="902" y="590"/>
                  </a:lnTo>
                  <a:lnTo>
                    <a:pt x="902" y="582"/>
                  </a:lnTo>
                  <a:lnTo>
                    <a:pt x="906" y="570"/>
                  </a:lnTo>
                  <a:lnTo>
                    <a:pt x="910" y="560"/>
                  </a:lnTo>
                  <a:lnTo>
                    <a:pt x="918" y="548"/>
                  </a:lnTo>
                  <a:lnTo>
                    <a:pt x="918" y="548"/>
                  </a:lnTo>
                  <a:lnTo>
                    <a:pt x="908" y="546"/>
                  </a:lnTo>
                  <a:lnTo>
                    <a:pt x="900" y="546"/>
                  </a:lnTo>
                  <a:lnTo>
                    <a:pt x="890" y="548"/>
                  </a:lnTo>
                  <a:lnTo>
                    <a:pt x="882" y="552"/>
                  </a:lnTo>
                  <a:lnTo>
                    <a:pt x="876" y="558"/>
                  </a:lnTo>
                  <a:lnTo>
                    <a:pt x="868" y="566"/>
                  </a:lnTo>
                  <a:lnTo>
                    <a:pt x="862" y="574"/>
                  </a:lnTo>
                  <a:lnTo>
                    <a:pt x="856" y="586"/>
                  </a:lnTo>
                  <a:lnTo>
                    <a:pt x="856" y="586"/>
                  </a:lnTo>
                  <a:lnTo>
                    <a:pt x="850" y="572"/>
                  </a:lnTo>
                  <a:lnTo>
                    <a:pt x="846" y="560"/>
                  </a:lnTo>
                  <a:lnTo>
                    <a:pt x="844" y="546"/>
                  </a:lnTo>
                  <a:lnTo>
                    <a:pt x="844" y="534"/>
                  </a:lnTo>
                  <a:lnTo>
                    <a:pt x="844" y="522"/>
                  </a:lnTo>
                  <a:lnTo>
                    <a:pt x="848" y="510"/>
                  </a:lnTo>
                  <a:lnTo>
                    <a:pt x="852" y="500"/>
                  </a:lnTo>
                  <a:lnTo>
                    <a:pt x="858" y="492"/>
                  </a:lnTo>
                  <a:lnTo>
                    <a:pt x="866" y="484"/>
                  </a:lnTo>
                  <a:lnTo>
                    <a:pt x="874" y="478"/>
                  </a:lnTo>
                  <a:lnTo>
                    <a:pt x="882" y="476"/>
                  </a:lnTo>
                  <a:lnTo>
                    <a:pt x="892" y="476"/>
                  </a:lnTo>
                  <a:lnTo>
                    <a:pt x="900" y="478"/>
                  </a:lnTo>
                  <a:lnTo>
                    <a:pt x="910" y="482"/>
                  </a:lnTo>
                  <a:lnTo>
                    <a:pt x="922" y="490"/>
                  </a:lnTo>
                  <a:lnTo>
                    <a:pt x="932" y="502"/>
                  </a:lnTo>
                  <a:lnTo>
                    <a:pt x="932" y="502"/>
                  </a:lnTo>
                  <a:lnTo>
                    <a:pt x="924" y="488"/>
                  </a:lnTo>
                  <a:lnTo>
                    <a:pt x="916" y="476"/>
                  </a:lnTo>
                  <a:lnTo>
                    <a:pt x="908" y="464"/>
                  </a:lnTo>
                  <a:lnTo>
                    <a:pt x="900" y="456"/>
                  </a:lnTo>
                  <a:lnTo>
                    <a:pt x="890" y="450"/>
                  </a:lnTo>
                  <a:lnTo>
                    <a:pt x="880" y="446"/>
                  </a:lnTo>
                  <a:lnTo>
                    <a:pt x="870" y="444"/>
                  </a:lnTo>
                  <a:lnTo>
                    <a:pt x="860" y="442"/>
                  </a:lnTo>
                  <a:lnTo>
                    <a:pt x="850" y="444"/>
                  </a:lnTo>
                  <a:lnTo>
                    <a:pt x="840" y="446"/>
                  </a:lnTo>
                  <a:lnTo>
                    <a:pt x="830" y="450"/>
                  </a:lnTo>
                  <a:lnTo>
                    <a:pt x="820" y="454"/>
                  </a:lnTo>
                  <a:lnTo>
                    <a:pt x="802" y="468"/>
                  </a:lnTo>
                  <a:lnTo>
                    <a:pt x="788" y="486"/>
                  </a:lnTo>
                  <a:lnTo>
                    <a:pt x="774" y="506"/>
                  </a:lnTo>
                  <a:lnTo>
                    <a:pt x="766" y="530"/>
                  </a:lnTo>
                  <a:lnTo>
                    <a:pt x="762" y="542"/>
                  </a:lnTo>
                  <a:lnTo>
                    <a:pt x="760" y="554"/>
                  </a:lnTo>
                  <a:lnTo>
                    <a:pt x="760" y="566"/>
                  </a:lnTo>
                  <a:lnTo>
                    <a:pt x="762" y="580"/>
                  </a:lnTo>
                  <a:lnTo>
                    <a:pt x="764" y="592"/>
                  </a:lnTo>
                  <a:lnTo>
                    <a:pt x="768" y="604"/>
                  </a:lnTo>
                  <a:lnTo>
                    <a:pt x="774" y="618"/>
                  </a:lnTo>
                  <a:lnTo>
                    <a:pt x="782" y="630"/>
                  </a:lnTo>
                  <a:lnTo>
                    <a:pt x="792" y="642"/>
                  </a:lnTo>
                  <a:lnTo>
                    <a:pt x="804" y="652"/>
                  </a:lnTo>
                  <a:lnTo>
                    <a:pt x="818" y="664"/>
                  </a:lnTo>
                  <a:lnTo>
                    <a:pt x="836" y="674"/>
                  </a:lnTo>
                  <a:lnTo>
                    <a:pt x="836" y="674"/>
                  </a:lnTo>
                  <a:lnTo>
                    <a:pt x="798" y="678"/>
                  </a:lnTo>
                  <a:lnTo>
                    <a:pt x="762" y="684"/>
                  </a:lnTo>
                  <a:lnTo>
                    <a:pt x="728" y="696"/>
                  </a:lnTo>
                  <a:lnTo>
                    <a:pt x="712" y="704"/>
                  </a:lnTo>
                  <a:lnTo>
                    <a:pt x="696" y="712"/>
                  </a:lnTo>
                  <a:lnTo>
                    <a:pt x="680" y="722"/>
                  </a:lnTo>
                  <a:lnTo>
                    <a:pt x="666" y="732"/>
                  </a:lnTo>
                  <a:lnTo>
                    <a:pt x="652" y="744"/>
                  </a:lnTo>
                  <a:lnTo>
                    <a:pt x="638" y="758"/>
                  </a:lnTo>
                  <a:lnTo>
                    <a:pt x="626" y="772"/>
                  </a:lnTo>
                  <a:lnTo>
                    <a:pt x="614" y="788"/>
                  </a:lnTo>
                  <a:lnTo>
                    <a:pt x="602" y="804"/>
                  </a:lnTo>
                  <a:lnTo>
                    <a:pt x="592" y="822"/>
                  </a:lnTo>
                  <a:lnTo>
                    <a:pt x="582" y="842"/>
                  </a:lnTo>
                  <a:lnTo>
                    <a:pt x="572" y="862"/>
                  </a:lnTo>
                  <a:lnTo>
                    <a:pt x="564" y="884"/>
                  </a:lnTo>
                  <a:lnTo>
                    <a:pt x="558" y="908"/>
                  </a:lnTo>
                  <a:lnTo>
                    <a:pt x="552" y="934"/>
                  </a:lnTo>
                  <a:lnTo>
                    <a:pt x="546" y="960"/>
                  </a:lnTo>
                  <a:lnTo>
                    <a:pt x="542" y="988"/>
                  </a:lnTo>
                  <a:lnTo>
                    <a:pt x="540" y="1018"/>
                  </a:lnTo>
                  <a:lnTo>
                    <a:pt x="536" y="1082"/>
                  </a:lnTo>
                  <a:lnTo>
                    <a:pt x="538" y="1152"/>
                  </a:lnTo>
                  <a:lnTo>
                    <a:pt x="544" y="1228"/>
                  </a:lnTo>
                  <a:lnTo>
                    <a:pt x="556" y="1312"/>
                  </a:lnTo>
                  <a:lnTo>
                    <a:pt x="556" y="1312"/>
                  </a:lnTo>
                  <a:lnTo>
                    <a:pt x="564" y="1340"/>
                  </a:lnTo>
                  <a:lnTo>
                    <a:pt x="574" y="1378"/>
                  </a:lnTo>
                  <a:lnTo>
                    <a:pt x="588" y="1414"/>
                  </a:lnTo>
                  <a:lnTo>
                    <a:pt x="596" y="1430"/>
                  </a:lnTo>
                  <a:lnTo>
                    <a:pt x="602" y="1440"/>
                  </a:lnTo>
                  <a:lnTo>
                    <a:pt x="602" y="1440"/>
                  </a:lnTo>
                  <a:lnTo>
                    <a:pt x="646" y="1504"/>
                  </a:lnTo>
                  <a:lnTo>
                    <a:pt x="676" y="1544"/>
                  </a:lnTo>
                  <a:lnTo>
                    <a:pt x="708" y="1584"/>
                  </a:lnTo>
                  <a:lnTo>
                    <a:pt x="744" y="1624"/>
                  </a:lnTo>
                  <a:lnTo>
                    <a:pt x="778" y="1662"/>
                  </a:lnTo>
                  <a:lnTo>
                    <a:pt x="814" y="1694"/>
                  </a:lnTo>
                  <a:lnTo>
                    <a:pt x="830" y="1706"/>
                  </a:lnTo>
                  <a:lnTo>
                    <a:pt x="846" y="1716"/>
                  </a:lnTo>
                  <a:lnTo>
                    <a:pt x="846" y="1716"/>
                  </a:lnTo>
                  <a:lnTo>
                    <a:pt x="788" y="1694"/>
                  </a:lnTo>
                  <a:lnTo>
                    <a:pt x="726" y="1668"/>
                  </a:lnTo>
                  <a:lnTo>
                    <a:pt x="726" y="1668"/>
                  </a:lnTo>
                  <a:lnTo>
                    <a:pt x="666" y="1644"/>
                  </a:lnTo>
                  <a:lnTo>
                    <a:pt x="610" y="1624"/>
                  </a:lnTo>
                  <a:lnTo>
                    <a:pt x="582" y="1618"/>
                  </a:lnTo>
                  <a:lnTo>
                    <a:pt x="556" y="1612"/>
                  </a:lnTo>
                  <a:lnTo>
                    <a:pt x="532" y="1610"/>
                  </a:lnTo>
                  <a:lnTo>
                    <a:pt x="510" y="1610"/>
                  </a:lnTo>
                  <a:lnTo>
                    <a:pt x="510" y="1610"/>
                  </a:lnTo>
                  <a:lnTo>
                    <a:pt x="486" y="1608"/>
                  </a:lnTo>
                  <a:lnTo>
                    <a:pt x="458" y="1608"/>
                  </a:lnTo>
                  <a:lnTo>
                    <a:pt x="428" y="1610"/>
                  </a:lnTo>
                  <a:lnTo>
                    <a:pt x="402" y="1614"/>
                  </a:lnTo>
                  <a:lnTo>
                    <a:pt x="402" y="1614"/>
                  </a:lnTo>
                  <a:lnTo>
                    <a:pt x="380" y="1622"/>
                  </a:lnTo>
                  <a:lnTo>
                    <a:pt x="360" y="1630"/>
                  </a:lnTo>
                  <a:lnTo>
                    <a:pt x="342" y="1640"/>
                  </a:lnTo>
                  <a:lnTo>
                    <a:pt x="326" y="1650"/>
                  </a:lnTo>
                  <a:lnTo>
                    <a:pt x="310" y="1660"/>
                  </a:lnTo>
                  <a:lnTo>
                    <a:pt x="296" y="1672"/>
                  </a:lnTo>
                  <a:lnTo>
                    <a:pt x="282" y="1686"/>
                  </a:lnTo>
                  <a:lnTo>
                    <a:pt x="272" y="1700"/>
                  </a:lnTo>
                  <a:lnTo>
                    <a:pt x="260" y="1714"/>
                  </a:lnTo>
                  <a:lnTo>
                    <a:pt x="252" y="1728"/>
                  </a:lnTo>
                  <a:lnTo>
                    <a:pt x="246" y="1744"/>
                  </a:lnTo>
                  <a:lnTo>
                    <a:pt x="240" y="1760"/>
                  </a:lnTo>
                  <a:lnTo>
                    <a:pt x="234" y="1776"/>
                  </a:lnTo>
                  <a:lnTo>
                    <a:pt x="232" y="1792"/>
                  </a:lnTo>
                  <a:lnTo>
                    <a:pt x="230" y="1810"/>
                  </a:lnTo>
                  <a:lnTo>
                    <a:pt x="230" y="1828"/>
                  </a:lnTo>
                  <a:lnTo>
                    <a:pt x="230" y="1828"/>
                  </a:lnTo>
                  <a:lnTo>
                    <a:pt x="242" y="1822"/>
                  </a:lnTo>
                  <a:lnTo>
                    <a:pt x="250" y="1814"/>
                  </a:lnTo>
                  <a:lnTo>
                    <a:pt x="264" y="1798"/>
                  </a:lnTo>
                  <a:lnTo>
                    <a:pt x="272" y="1784"/>
                  </a:lnTo>
                  <a:lnTo>
                    <a:pt x="278" y="1778"/>
                  </a:lnTo>
                  <a:lnTo>
                    <a:pt x="284" y="1774"/>
                  </a:lnTo>
                  <a:lnTo>
                    <a:pt x="284" y="1774"/>
                  </a:lnTo>
                  <a:lnTo>
                    <a:pt x="278" y="1792"/>
                  </a:lnTo>
                  <a:lnTo>
                    <a:pt x="276" y="1818"/>
                  </a:lnTo>
                  <a:lnTo>
                    <a:pt x="278" y="1832"/>
                  </a:lnTo>
                  <a:lnTo>
                    <a:pt x="280" y="1848"/>
                  </a:lnTo>
                  <a:lnTo>
                    <a:pt x="284" y="1864"/>
                  </a:lnTo>
                  <a:lnTo>
                    <a:pt x="290" y="1880"/>
                  </a:lnTo>
                  <a:lnTo>
                    <a:pt x="296" y="1896"/>
                  </a:lnTo>
                  <a:lnTo>
                    <a:pt x="306" y="1912"/>
                  </a:lnTo>
                  <a:lnTo>
                    <a:pt x="318" y="1928"/>
                  </a:lnTo>
                  <a:lnTo>
                    <a:pt x="332" y="1942"/>
                  </a:lnTo>
                  <a:lnTo>
                    <a:pt x="350" y="1956"/>
                  </a:lnTo>
                  <a:lnTo>
                    <a:pt x="370" y="1968"/>
                  </a:lnTo>
                  <a:lnTo>
                    <a:pt x="392" y="1978"/>
                  </a:lnTo>
                  <a:lnTo>
                    <a:pt x="418" y="1986"/>
                  </a:lnTo>
                  <a:lnTo>
                    <a:pt x="418" y="1986"/>
                  </a:lnTo>
                  <a:lnTo>
                    <a:pt x="394" y="1956"/>
                  </a:lnTo>
                  <a:lnTo>
                    <a:pt x="376" y="1928"/>
                  </a:lnTo>
                  <a:lnTo>
                    <a:pt x="364" y="1900"/>
                  </a:lnTo>
                  <a:lnTo>
                    <a:pt x="360" y="1888"/>
                  </a:lnTo>
                  <a:lnTo>
                    <a:pt x="358" y="1876"/>
                  </a:lnTo>
                  <a:lnTo>
                    <a:pt x="356" y="1864"/>
                  </a:lnTo>
                  <a:lnTo>
                    <a:pt x="356" y="1852"/>
                  </a:lnTo>
                  <a:lnTo>
                    <a:pt x="358" y="1840"/>
                  </a:lnTo>
                  <a:lnTo>
                    <a:pt x="360" y="1828"/>
                  </a:lnTo>
                  <a:lnTo>
                    <a:pt x="362" y="1818"/>
                  </a:lnTo>
                  <a:lnTo>
                    <a:pt x="368" y="1808"/>
                  </a:lnTo>
                  <a:lnTo>
                    <a:pt x="380" y="1790"/>
                  </a:lnTo>
                  <a:lnTo>
                    <a:pt x="380" y="1790"/>
                  </a:lnTo>
                  <a:lnTo>
                    <a:pt x="382" y="1808"/>
                  </a:lnTo>
                  <a:lnTo>
                    <a:pt x="386" y="1824"/>
                  </a:lnTo>
                  <a:lnTo>
                    <a:pt x="392" y="1838"/>
                  </a:lnTo>
                  <a:lnTo>
                    <a:pt x="400" y="1850"/>
                  </a:lnTo>
                  <a:lnTo>
                    <a:pt x="412" y="1862"/>
                  </a:lnTo>
                  <a:lnTo>
                    <a:pt x="426" y="1872"/>
                  </a:lnTo>
                  <a:lnTo>
                    <a:pt x="440" y="1882"/>
                  </a:lnTo>
                  <a:lnTo>
                    <a:pt x="458" y="1892"/>
                  </a:lnTo>
                  <a:lnTo>
                    <a:pt x="458" y="1892"/>
                  </a:lnTo>
                  <a:lnTo>
                    <a:pt x="452" y="1874"/>
                  </a:lnTo>
                  <a:lnTo>
                    <a:pt x="448" y="1856"/>
                  </a:lnTo>
                  <a:lnTo>
                    <a:pt x="448" y="1838"/>
                  </a:lnTo>
                  <a:lnTo>
                    <a:pt x="452" y="1820"/>
                  </a:lnTo>
                  <a:lnTo>
                    <a:pt x="456" y="1804"/>
                  </a:lnTo>
                  <a:lnTo>
                    <a:pt x="464" y="1786"/>
                  </a:lnTo>
                  <a:lnTo>
                    <a:pt x="474" y="1772"/>
                  </a:lnTo>
                  <a:lnTo>
                    <a:pt x="488" y="1756"/>
                  </a:lnTo>
                  <a:lnTo>
                    <a:pt x="502" y="1744"/>
                  </a:lnTo>
                  <a:lnTo>
                    <a:pt x="518" y="1732"/>
                  </a:lnTo>
                  <a:lnTo>
                    <a:pt x="538" y="1724"/>
                  </a:lnTo>
                  <a:lnTo>
                    <a:pt x="558" y="1716"/>
                  </a:lnTo>
                  <a:lnTo>
                    <a:pt x="580" y="1712"/>
                  </a:lnTo>
                  <a:lnTo>
                    <a:pt x="604" y="1710"/>
                  </a:lnTo>
                  <a:lnTo>
                    <a:pt x="628" y="1710"/>
                  </a:lnTo>
                  <a:lnTo>
                    <a:pt x="656" y="1714"/>
                  </a:lnTo>
                  <a:lnTo>
                    <a:pt x="656" y="1714"/>
                  </a:lnTo>
                  <a:lnTo>
                    <a:pt x="680" y="1720"/>
                  </a:lnTo>
                  <a:lnTo>
                    <a:pt x="704" y="1730"/>
                  </a:lnTo>
                  <a:lnTo>
                    <a:pt x="704" y="1730"/>
                  </a:lnTo>
                  <a:lnTo>
                    <a:pt x="686" y="1728"/>
                  </a:lnTo>
                  <a:lnTo>
                    <a:pt x="670" y="1730"/>
                  </a:lnTo>
                  <a:lnTo>
                    <a:pt x="654" y="1734"/>
                  </a:lnTo>
                  <a:lnTo>
                    <a:pt x="640" y="1738"/>
                  </a:lnTo>
                  <a:lnTo>
                    <a:pt x="628" y="1746"/>
                  </a:lnTo>
                  <a:lnTo>
                    <a:pt x="616" y="1754"/>
                  </a:lnTo>
                  <a:lnTo>
                    <a:pt x="606" y="1764"/>
                  </a:lnTo>
                  <a:lnTo>
                    <a:pt x="596" y="1776"/>
                  </a:lnTo>
                  <a:lnTo>
                    <a:pt x="588" y="1788"/>
                  </a:lnTo>
                  <a:lnTo>
                    <a:pt x="580" y="1802"/>
                  </a:lnTo>
                  <a:lnTo>
                    <a:pt x="574" y="1816"/>
                  </a:lnTo>
                  <a:lnTo>
                    <a:pt x="570" y="1832"/>
                  </a:lnTo>
                  <a:lnTo>
                    <a:pt x="566" y="1848"/>
                  </a:lnTo>
                  <a:lnTo>
                    <a:pt x="562" y="1864"/>
                  </a:lnTo>
                  <a:lnTo>
                    <a:pt x="560" y="1898"/>
                  </a:lnTo>
                  <a:lnTo>
                    <a:pt x="560" y="1898"/>
                  </a:lnTo>
                  <a:lnTo>
                    <a:pt x="566" y="1928"/>
                  </a:lnTo>
                  <a:lnTo>
                    <a:pt x="574" y="1966"/>
                  </a:lnTo>
                  <a:lnTo>
                    <a:pt x="582" y="1984"/>
                  </a:lnTo>
                  <a:lnTo>
                    <a:pt x="590" y="2002"/>
                  </a:lnTo>
                  <a:lnTo>
                    <a:pt x="598" y="2022"/>
                  </a:lnTo>
                  <a:lnTo>
                    <a:pt x="610" y="2038"/>
                  </a:lnTo>
                  <a:lnTo>
                    <a:pt x="610" y="2038"/>
                  </a:lnTo>
                  <a:lnTo>
                    <a:pt x="618" y="2050"/>
                  </a:lnTo>
                  <a:lnTo>
                    <a:pt x="618" y="2050"/>
                  </a:lnTo>
                  <a:lnTo>
                    <a:pt x="634" y="2068"/>
                  </a:lnTo>
                  <a:lnTo>
                    <a:pt x="652" y="2082"/>
                  </a:lnTo>
                  <a:lnTo>
                    <a:pt x="670" y="2092"/>
                  </a:lnTo>
                  <a:lnTo>
                    <a:pt x="686" y="2098"/>
                  </a:lnTo>
                  <a:lnTo>
                    <a:pt x="704" y="2102"/>
                  </a:lnTo>
                  <a:lnTo>
                    <a:pt x="722" y="2102"/>
                  </a:lnTo>
                  <a:lnTo>
                    <a:pt x="740" y="2100"/>
                  </a:lnTo>
                  <a:lnTo>
                    <a:pt x="756" y="2096"/>
                  </a:lnTo>
                  <a:lnTo>
                    <a:pt x="770" y="2090"/>
                  </a:lnTo>
                  <a:lnTo>
                    <a:pt x="784" y="2082"/>
                  </a:lnTo>
                  <a:lnTo>
                    <a:pt x="798" y="2072"/>
                  </a:lnTo>
                  <a:lnTo>
                    <a:pt x="808" y="2060"/>
                  </a:lnTo>
                  <a:lnTo>
                    <a:pt x="818" y="2048"/>
                  </a:lnTo>
                  <a:lnTo>
                    <a:pt x="824" y="2036"/>
                  </a:lnTo>
                  <a:lnTo>
                    <a:pt x="830" y="2022"/>
                  </a:lnTo>
                  <a:lnTo>
                    <a:pt x="832" y="2008"/>
                  </a:lnTo>
                  <a:lnTo>
                    <a:pt x="832" y="2008"/>
                  </a:lnTo>
                  <a:lnTo>
                    <a:pt x="832" y="1994"/>
                  </a:lnTo>
                  <a:lnTo>
                    <a:pt x="830" y="1980"/>
                  </a:lnTo>
                  <a:lnTo>
                    <a:pt x="826" y="1968"/>
                  </a:lnTo>
                  <a:lnTo>
                    <a:pt x="820" y="1956"/>
                  </a:lnTo>
                  <a:lnTo>
                    <a:pt x="814" y="1946"/>
                  </a:lnTo>
                  <a:lnTo>
                    <a:pt x="804" y="1938"/>
                  </a:lnTo>
                  <a:lnTo>
                    <a:pt x="796" y="1930"/>
                  </a:lnTo>
                  <a:lnTo>
                    <a:pt x="784" y="1924"/>
                  </a:lnTo>
                  <a:lnTo>
                    <a:pt x="774" y="1918"/>
                  </a:lnTo>
                  <a:lnTo>
                    <a:pt x="760" y="1914"/>
                  </a:lnTo>
                  <a:lnTo>
                    <a:pt x="748" y="1912"/>
                  </a:lnTo>
                  <a:lnTo>
                    <a:pt x="734" y="1912"/>
                  </a:lnTo>
                  <a:lnTo>
                    <a:pt x="722" y="1912"/>
                  </a:lnTo>
                  <a:lnTo>
                    <a:pt x="708" y="1916"/>
                  </a:lnTo>
                  <a:lnTo>
                    <a:pt x="694" y="1920"/>
                  </a:lnTo>
                  <a:lnTo>
                    <a:pt x="680" y="1924"/>
                  </a:lnTo>
                  <a:lnTo>
                    <a:pt x="680" y="1924"/>
                  </a:lnTo>
                  <a:lnTo>
                    <a:pt x="696" y="1930"/>
                  </a:lnTo>
                  <a:lnTo>
                    <a:pt x="708" y="1938"/>
                  </a:lnTo>
                  <a:lnTo>
                    <a:pt x="720" y="1948"/>
                  </a:lnTo>
                  <a:lnTo>
                    <a:pt x="728" y="1958"/>
                  </a:lnTo>
                  <a:lnTo>
                    <a:pt x="732" y="1972"/>
                  </a:lnTo>
                  <a:lnTo>
                    <a:pt x="734" y="1978"/>
                  </a:lnTo>
                  <a:lnTo>
                    <a:pt x="732" y="1986"/>
                  </a:lnTo>
                  <a:lnTo>
                    <a:pt x="730" y="1992"/>
                  </a:lnTo>
                  <a:lnTo>
                    <a:pt x="728" y="1998"/>
                  </a:lnTo>
                  <a:lnTo>
                    <a:pt x="722" y="2006"/>
                  </a:lnTo>
                  <a:lnTo>
                    <a:pt x="716" y="2012"/>
                  </a:lnTo>
                  <a:lnTo>
                    <a:pt x="716" y="2012"/>
                  </a:lnTo>
                  <a:lnTo>
                    <a:pt x="710" y="2018"/>
                  </a:lnTo>
                  <a:lnTo>
                    <a:pt x="702" y="2022"/>
                  </a:lnTo>
                  <a:lnTo>
                    <a:pt x="694" y="2026"/>
                  </a:lnTo>
                  <a:lnTo>
                    <a:pt x="688" y="2026"/>
                  </a:lnTo>
                  <a:lnTo>
                    <a:pt x="680" y="2026"/>
                  </a:lnTo>
                  <a:lnTo>
                    <a:pt x="672" y="2026"/>
                  </a:lnTo>
                  <a:lnTo>
                    <a:pt x="656" y="2020"/>
                  </a:lnTo>
                  <a:lnTo>
                    <a:pt x="640" y="2012"/>
                  </a:lnTo>
                  <a:lnTo>
                    <a:pt x="626" y="1998"/>
                  </a:lnTo>
                  <a:lnTo>
                    <a:pt x="612" y="1984"/>
                  </a:lnTo>
                  <a:lnTo>
                    <a:pt x="600" y="1966"/>
                  </a:lnTo>
                  <a:lnTo>
                    <a:pt x="600" y="1966"/>
                  </a:lnTo>
                  <a:lnTo>
                    <a:pt x="592" y="1950"/>
                  </a:lnTo>
                  <a:lnTo>
                    <a:pt x="586" y="1934"/>
                  </a:lnTo>
                  <a:lnTo>
                    <a:pt x="584" y="1918"/>
                  </a:lnTo>
                  <a:lnTo>
                    <a:pt x="582" y="1896"/>
                  </a:lnTo>
                  <a:lnTo>
                    <a:pt x="582" y="1896"/>
                  </a:lnTo>
                  <a:lnTo>
                    <a:pt x="582" y="1880"/>
                  </a:lnTo>
                  <a:lnTo>
                    <a:pt x="586" y="1864"/>
                  </a:lnTo>
                  <a:lnTo>
                    <a:pt x="592" y="1850"/>
                  </a:lnTo>
                  <a:lnTo>
                    <a:pt x="600" y="1836"/>
                  </a:lnTo>
                  <a:lnTo>
                    <a:pt x="610" y="1822"/>
                  </a:lnTo>
                  <a:lnTo>
                    <a:pt x="624" y="1810"/>
                  </a:lnTo>
                  <a:lnTo>
                    <a:pt x="638" y="1800"/>
                  </a:lnTo>
                  <a:lnTo>
                    <a:pt x="656" y="1790"/>
                  </a:lnTo>
                  <a:lnTo>
                    <a:pt x="678" y="1784"/>
                  </a:lnTo>
                  <a:lnTo>
                    <a:pt x="700" y="1780"/>
                  </a:lnTo>
                  <a:lnTo>
                    <a:pt x="726" y="1778"/>
                  </a:lnTo>
                  <a:lnTo>
                    <a:pt x="754" y="1780"/>
                  </a:lnTo>
                  <a:lnTo>
                    <a:pt x="784" y="1786"/>
                  </a:lnTo>
                  <a:lnTo>
                    <a:pt x="816" y="1794"/>
                  </a:lnTo>
                  <a:lnTo>
                    <a:pt x="852" y="1806"/>
                  </a:lnTo>
                  <a:lnTo>
                    <a:pt x="890" y="1822"/>
                  </a:lnTo>
                  <a:lnTo>
                    <a:pt x="890" y="1822"/>
                  </a:lnTo>
                  <a:lnTo>
                    <a:pt x="872" y="1822"/>
                  </a:lnTo>
                  <a:lnTo>
                    <a:pt x="854" y="1824"/>
                  </a:lnTo>
                  <a:lnTo>
                    <a:pt x="838" y="1830"/>
                  </a:lnTo>
                  <a:lnTo>
                    <a:pt x="822" y="1836"/>
                  </a:lnTo>
                  <a:lnTo>
                    <a:pt x="808" y="1844"/>
                  </a:lnTo>
                  <a:lnTo>
                    <a:pt x="796" y="1856"/>
                  </a:lnTo>
                  <a:lnTo>
                    <a:pt x="790" y="1868"/>
                  </a:lnTo>
                  <a:lnTo>
                    <a:pt x="788" y="1876"/>
                  </a:lnTo>
                  <a:lnTo>
                    <a:pt x="786" y="1884"/>
                  </a:lnTo>
                  <a:lnTo>
                    <a:pt x="786" y="1884"/>
                  </a:lnTo>
                  <a:lnTo>
                    <a:pt x="802" y="1874"/>
                  </a:lnTo>
                  <a:lnTo>
                    <a:pt x="820" y="1868"/>
                  </a:lnTo>
                  <a:lnTo>
                    <a:pt x="838" y="1864"/>
                  </a:lnTo>
                  <a:lnTo>
                    <a:pt x="858" y="1862"/>
                  </a:lnTo>
                  <a:lnTo>
                    <a:pt x="876" y="1862"/>
                  </a:lnTo>
                  <a:lnTo>
                    <a:pt x="896" y="1864"/>
                  </a:lnTo>
                  <a:lnTo>
                    <a:pt x="916" y="1868"/>
                  </a:lnTo>
                  <a:lnTo>
                    <a:pt x="936" y="1874"/>
                  </a:lnTo>
                  <a:lnTo>
                    <a:pt x="954" y="1882"/>
                  </a:lnTo>
                  <a:lnTo>
                    <a:pt x="972" y="1892"/>
                  </a:lnTo>
                  <a:lnTo>
                    <a:pt x="990" y="1902"/>
                  </a:lnTo>
                  <a:lnTo>
                    <a:pt x="1006" y="1914"/>
                  </a:lnTo>
                  <a:lnTo>
                    <a:pt x="1020" y="1926"/>
                  </a:lnTo>
                  <a:lnTo>
                    <a:pt x="1034" y="1940"/>
                  </a:lnTo>
                  <a:lnTo>
                    <a:pt x="1044" y="1956"/>
                  </a:lnTo>
                  <a:lnTo>
                    <a:pt x="1054" y="1972"/>
                  </a:lnTo>
                  <a:lnTo>
                    <a:pt x="1054" y="1972"/>
                  </a:lnTo>
                  <a:lnTo>
                    <a:pt x="1044" y="1986"/>
                  </a:lnTo>
                  <a:lnTo>
                    <a:pt x="1034" y="2002"/>
                  </a:lnTo>
                  <a:lnTo>
                    <a:pt x="1026" y="2024"/>
                  </a:lnTo>
                  <a:lnTo>
                    <a:pt x="1018" y="2048"/>
                  </a:lnTo>
                  <a:lnTo>
                    <a:pt x="1014" y="2070"/>
                  </a:lnTo>
                  <a:lnTo>
                    <a:pt x="1016" y="2092"/>
                  </a:lnTo>
                  <a:lnTo>
                    <a:pt x="1016" y="2102"/>
                  </a:lnTo>
                  <a:lnTo>
                    <a:pt x="1020" y="2110"/>
                  </a:lnTo>
                  <a:lnTo>
                    <a:pt x="1024" y="2118"/>
                  </a:lnTo>
                  <a:lnTo>
                    <a:pt x="1030" y="2122"/>
                  </a:lnTo>
                  <a:lnTo>
                    <a:pt x="1030" y="2122"/>
                  </a:lnTo>
                  <a:lnTo>
                    <a:pt x="1000" y="2112"/>
                  </a:lnTo>
                  <a:lnTo>
                    <a:pt x="970" y="2104"/>
                  </a:lnTo>
                  <a:lnTo>
                    <a:pt x="940" y="2100"/>
                  </a:lnTo>
                  <a:lnTo>
                    <a:pt x="914" y="2100"/>
                  </a:lnTo>
                  <a:lnTo>
                    <a:pt x="892" y="2102"/>
                  </a:lnTo>
                  <a:lnTo>
                    <a:pt x="882" y="2106"/>
                  </a:lnTo>
                  <a:lnTo>
                    <a:pt x="874" y="2110"/>
                  </a:lnTo>
                  <a:lnTo>
                    <a:pt x="866" y="2116"/>
                  </a:lnTo>
                  <a:lnTo>
                    <a:pt x="860" y="2122"/>
                  </a:lnTo>
                  <a:lnTo>
                    <a:pt x="856" y="2130"/>
                  </a:lnTo>
                  <a:lnTo>
                    <a:pt x="852" y="2138"/>
                  </a:lnTo>
                  <a:lnTo>
                    <a:pt x="852" y="2138"/>
                  </a:lnTo>
                  <a:lnTo>
                    <a:pt x="868" y="2136"/>
                  </a:lnTo>
                  <a:lnTo>
                    <a:pt x="886" y="2136"/>
                  </a:lnTo>
                  <a:lnTo>
                    <a:pt x="906" y="2140"/>
                  </a:lnTo>
                  <a:lnTo>
                    <a:pt x="926" y="2148"/>
                  </a:lnTo>
                  <a:lnTo>
                    <a:pt x="946" y="2158"/>
                  </a:lnTo>
                  <a:lnTo>
                    <a:pt x="966" y="2172"/>
                  </a:lnTo>
                  <a:lnTo>
                    <a:pt x="988" y="2188"/>
                  </a:lnTo>
                  <a:lnTo>
                    <a:pt x="1006" y="2208"/>
                  </a:lnTo>
                  <a:lnTo>
                    <a:pt x="1026" y="2228"/>
                  </a:lnTo>
                  <a:lnTo>
                    <a:pt x="1044" y="2252"/>
                  </a:lnTo>
                  <a:lnTo>
                    <a:pt x="1060" y="2276"/>
                  </a:lnTo>
                  <a:lnTo>
                    <a:pt x="1074" y="2304"/>
                  </a:lnTo>
                  <a:lnTo>
                    <a:pt x="1086" y="2332"/>
                  </a:lnTo>
                  <a:lnTo>
                    <a:pt x="1094" y="2364"/>
                  </a:lnTo>
                  <a:lnTo>
                    <a:pt x="1100" y="2394"/>
                  </a:lnTo>
                  <a:lnTo>
                    <a:pt x="1102" y="2428"/>
                  </a:lnTo>
                  <a:lnTo>
                    <a:pt x="1102" y="2428"/>
                  </a:lnTo>
                  <a:lnTo>
                    <a:pt x="1102" y="2456"/>
                  </a:lnTo>
                  <a:lnTo>
                    <a:pt x="1100" y="2486"/>
                  </a:lnTo>
                  <a:lnTo>
                    <a:pt x="1098" y="2514"/>
                  </a:lnTo>
                  <a:lnTo>
                    <a:pt x="1092" y="2544"/>
                  </a:lnTo>
                  <a:lnTo>
                    <a:pt x="1086" y="2572"/>
                  </a:lnTo>
                  <a:lnTo>
                    <a:pt x="1078" y="2602"/>
                  </a:lnTo>
                  <a:lnTo>
                    <a:pt x="1068" y="2630"/>
                  </a:lnTo>
                  <a:lnTo>
                    <a:pt x="1058" y="2656"/>
                  </a:lnTo>
                  <a:lnTo>
                    <a:pt x="1044" y="2684"/>
                  </a:lnTo>
                  <a:lnTo>
                    <a:pt x="1030" y="2710"/>
                  </a:lnTo>
                  <a:lnTo>
                    <a:pt x="1012" y="2736"/>
                  </a:lnTo>
                  <a:lnTo>
                    <a:pt x="994" y="2760"/>
                  </a:lnTo>
                  <a:lnTo>
                    <a:pt x="974" y="2784"/>
                  </a:lnTo>
                  <a:lnTo>
                    <a:pt x="954" y="2806"/>
                  </a:lnTo>
                  <a:lnTo>
                    <a:pt x="930" y="2826"/>
                  </a:lnTo>
                  <a:lnTo>
                    <a:pt x="904" y="2846"/>
                  </a:lnTo>
                  <a:lnTo>
                    <a:pt x="904" y="2846"/>
                  </a:lnTo>
                  <a:lnTo>
                    <a:pt x="916" y="2822"/>
                  </a:lnTo>
                  <a:lnTo>
                    <a:pt x="928" y="2798"/>
                  </a:lnTo>
                  <a:lnTo>
                    <a:pt x="948" y="2750"/>
                  </a:lnTo>
                  <a:lnTo>
                    <a:pt x="964" y="2700"/>
                  </a:lnTo>
                  <a:lnTo>
                    <a:pt x="974" y="2650"/>
                  </a:lnTo>
                  <a:lnTo>
                    <a:pt x="978" y="2626"/>
                  </a:lnTo>
                  <a:lnTo>
                    <a:pt x="980" y="2602"/>
                  </a:lnTo>
                  <a:lnTo>
                    <a:pt x="982" y="2580"/>
                  </a:lnTo>
                  <a:lnTo>
                    <a:pt x="980" y="2558"/>
                  </a:lnTo>
                  <a:lnTo>
                    <a:pt x="978" y="2538"/>
                  </a:lnTo>
                  <a:lnTo>
                    <a:pt x="976" y="2520"/>
                  </a:lnTo>
                  <a:lnTo>
                    <a:pt x="970" y="2504"/>
                  </a:lnTo>
                  <a:lnTo>
                    <a:pt x="964" y="2488"/>
                  </a:lnTo>
                  <a:lnTo>
                    <a:pt x="964" y="2488"/>
                  </a:lnTo>
                  <a:lnTo>
                    <a:pt x="948" y="2502"/>
                  </a:lnTo>
                  <a:lnTo>
                    <a:pt x="936" y="2514"/>
                  </a:lnTo>
                  <a:lnTo>
                    <a:pt x="928" y="2528"/>
                  </a:lnTo>
                  <a:lnTo>
                    <a:pt x="926" y="2536"/>
                  </a:lnTo>
                  <a:lnTo>
                    <a:pt x="926" y="2542"/>
                  </a:lnTo>
                  <a:lnTo>
                    <a:pt x="926" y="2542"/>
                  </a:lnTo>
                  <a:lnTo>
                    <a:pt x="918" y="2524"/>
                  </a:lnTo>
                  <a:lnTo>
                    <a:pt x="910" y="2510"/>
                  </a:lnTo>
                  <a:lnTo>
                    <a:pt x="900" y="2496"/>
                  </a:lnTo>
                  <a:lnTo>
                    <a:pt x="890" y="2486"/>
                  </a:lnTo>
                  <a:lnTo>
                    <a:pt x="890" y="2486"/>
                  </a:lnTo>
                  <a:lnTo>
                    <a:pt x="904" y="2480"/>
                  </a:lnTo>
                  <a:lnTo>
                    <a:pt x="918" y="2474"/>
                  </a:lnTo>
                  <a:lnTo>
                    <a:pt x="928" y="2464"/>
                  </a:lnTo>
                  <a:lnTo>
                    <a:pt x="938" y="2454"/>
                  </a:lnTo>
                  <a:lnTo>
                    <a:pt x="946" y="2444"/>
                  </a:lnTo>
                  <a:lnTo>
                    <a:pt x="954" y="2432"/>
                  </a:lnTo>
                  <a:lnTo>
                    <a:pt x="958" y="2420"/>
                  </a:lnTo>
                  <a:lnTo>
                    <a:pt x="962" y="2406"/>
                  </a:lnTo>
                  <a:lnTo>
                    <a:pt x="964" y="2394"/>
                  </a:lnTo>
                  <a:lnTo>
                    <a:pt x="964" y="2380"/>
                  </a:lnTo>
                  <a:lnTo>
                    <a:pt x="964" y="2368"/>
                  </a:lnTo>
                  <a:lnTo>
                    <a:pt x="960" y="2358"/>
                  </a:lnTo>
                  <a:lnTo>
                    <a:pt x="956" y="2348"/>
                  </a:lnTo>
                  <a:lnTo>
                    <a:pt x="952" y="2338"/>
                  </a:lnTo>
                  <a:lnTo>
                    <a:pt x="946" y="2332"/>
                  </a:lnTo>
                  <a:lnTo>
                    <a:pt x="938" y="2326"/>
                  </a:lnTo>
                  <a:lnTo>
                    <a:pt x="938" y="2326"/>
                  </a:lnTo>
                  <a:lnTo>
                    <a:pt x="928" y="2322"/>
                  </a:lnTo>
                  <a:lnTo>
                    <a:pt x="918" y="2320"/>
                  </a:lnTo>
                  <a:lnTo>
                    <a:pt x="908" y="2318"/>
                  </a:lnTo>
                  <a:lnTo>
                    <a:pt x="898" y="2320"/>
                  </a:lnTo>
                  <a:lnTo>
                    <a:pt x="890" y="2320"/>
                  </a:lnTo>
                  <a:lnTo>
                    <a:pt x="880" y="2324"/>
                  </a:lnTo>
                  <a:lnTo>
                    <a:pt x="872" y="2328"/>
                  </a:lnTo>
                  <a:lnTo>
                    <a:pt x="864" y="2334"/>
                  </a:lnTo>
                  <a:lnTo>
                    <a:pt x="852" y="2348"/>
                  </a:lnTo>
                  <a:lnTo>
                    <a:pt x="842" y="2366"/>
                  </a:lnTo>
                  <a:lnTo>
                    <a:pt x="838" y="2376"/>
                  </a:lnTo>
                  <a:lnTo>
                    <a:pt x="836" y="2386"/>
                  </a:lnTo>
                  <a:lnTo>
                    <a:pt x="836" y="2396"/>
                  </a:lnTo>
                  <a:lnTo>
                    <a:pt x="836" y="2406"/>
                  </a:lnTo>
                  <a:lnTo>
                    <a:pt x="836" y="2406"/>
                  </a:lnTo>
                  <a:lnTo>
                    <a:pt x="844" y="2398"/>
                  </a:lnTo>
                  <a:lnTo>
                    <a:pt x="852" y="2390"/>
                  </a:lnTo>
                  <a:lnTo>
                    <a:pt x="862" y="2386"/>
                  </a:lnTo>
                  <a:lnTo>
                    <a:pt x="872" y="2384"/>
                  </a:lnTo>
                  <a:lnTo>
                    <a:pt x="882" y="2384"/>
                  </a:lnTo>
                  <a:lnTo>
                    <a:pt x="892" y="2388"/>
                  </a:lnTo>
                  <a:lnTo>
                    <a:pt x="900" y="2396"/>
                  </a:lnTo>
                  <a:lnTo>
                    <a:pt x="906" y="2406"/>
                  </a:lnTo>
                  <a:lnTo>
                    <a:pt x="906" y="2406"/>
                  </a:lnTo>
                  <a:lnTo>
                    <a:pt x="908" y="2416"/>
                  </a:lnTo>
                  <a:lnTo>
                    <a:pt x="910" y="2428"/>
                  </a:lnTo>
                  <a:lnTo>
                    <a:pt x="908" y="2438"/>
                  </a:lnTo>
                  <a:lnTo>
                    <a:pt x="904" y="2446"/>
                  </a:lnTo>
                  <a:lnTo>
                    <a:pt x="900" y="2456"/>
                  </a:lnTo>
                  <a:lnTo>
                    <a:pt x="892" y="2464"/>
                  </a:lnTo>
                  <a:lnTo>
                    <a:pt x="886" y="2470"/>
                  </a:lnTo>
                  <a:lnTo>
                    <a:pt x="878" y="2476"/>
                  </a:lnTo>
                  <a:lnTo>
                    <a:pt x="878" y="2476"/>
                  </a:lnTo>
                  <a:lnTo>
                    <a:pt x="862" y="2468"/>
                  </a:lnTo>
                  <a:lnTo>
                    <a:pt x="848" y="2464"/>
                  </a:lnTo>
                  <a:lnTo>
                    <a:pt x="832" y="2462"/>
                  </a:lnTo>
                  <a:lnTo>
                    <a:pt x="818" y="2466"/>
                  </a:lnTo>
                  <a:lnTo>
                    <a:pt x="804" y="2474"/>
                  </a:lnTo>
                  <a:lnTo>
                    <a:pt x="792" y="2488"/>
                  </a:lnTo>
                  <a:lnTo>
                    <a:pt x="782" y="2504"/>
                  </a:lnTo>
                  <a:lnTo>
                    <a:pt x="776" y="2526"/>
                  </a:lnTo>
                  <a:lnTo>
                    <a:pt x="776" y="2526"/>
                  </a:lnTo>
                  <a:lnTo>
                    <a:pt x="786" y="2526"/>
                  </a:lnTo>
                  <a:lnTo>
                    <a:pt x="796" y="2526"/>
                  </a:lnTo>
                  <a:lnTo>
                    <a:pt x="816" y="2530"/>
                  </a:lnTo>
                  <a:lnTo>
                    <a:pt x="836" y="2538"/>
                  </a:lnTo>
                  <a:lnTo>
                    <a:pt x="856" y="2550"/>
                  </a:lnTo>
                  <a:lnTo>
                    <a:pt x="874" y="2566"/>
                  </a:lnTo>
                  <a:lnTo>
                    <a:pt x="888" y="2584"/>
                  </a:lnTo>
                  <a:lnTo>
                    <a:pt x="900" y="2606"/>
                  </a:lnTo>
                  <a:lnTo>
                    <a:pt x="906" y="2618"/>
                  </a:lnTo>
                  <a:lnTo>
                    <a:pt x="908" y="2630"/>
                  </a:lnTo>
                  <a:lnTo>
                    <a:pt x="908" y="2630"/>
                  </a:lnTo>
                  <a:lnTo>
                    <a:pt x="910" y="2648"/>
                  </a:lnTo>
                  <a:lnTo>
                    <a:pt x="912" y="2666"/>
                  </a:lnTo>
                  <a:lnTo>
                    <a:pt x="910" y="2686"/>
                  </a:lnTo>
                  <a:lnTo>
                    <a:pt x="908" y="2706"/>
                  </a:lnTo>
                  <a:lnTo>
                    <a:pt x="904" y="2726"/>
                  </a:lnTo>
                  <a:lnTo>
                    <a:pt x="898" y="2748"/>
                  </a:lnTo>
                  <a:lnTo>
                    <a:pt x="890" y="2770"/>
                  </a:lnTo>
                  <a:lnTo>
                    <a:pt x="880" y="2790"/>
                  </a:lnTo>
                  <a:lnTo>
                    <a:pt x="868" y="2812"/>
                  </a:lnTo>
                  <a:lnTo>
                    <a:pt x="854" y="2832"/>
                  </a:lnTo>
                  <a:lnTo>
                    <a:pt x="836" y="2850"/>
                  </a:lnTo>
                  <a:lnTo>
                    <a:pt x="818" y="2868"/>
                  </a:lnTo>
                  <a:lnTo>
                    <a:pt x="798" y="2884"/>
                  </a:lnTo>
                  <a:lnTo>
                    <a:pt x="774" y="2898"/>
                  </a:lnTo>
                  <a:lnTo>
                    <a:pt x="750" y="2910"/>
                  </a:lnTo>
                  <a:lnTo>
                    <a:pt x="722" y="2918"/>
                  </a:lnTo>
                  <a:lnTo>
                    <a:pt x="722" y="2918"/>
                  </a:lnTo>
                  <a:lnTo>
                    <a:pt x="734" y="2906"/>
                  </a:lnTo>
                  <a:lnTo>
                    <a:pt x="746" y="2894"/>
                  </a:lnTo>
                  <a:lnTo>
                    <a:pt x="756" y="2880"/>
                  </a:lnTo>
                  <a:lnTo>
                    <a:pt x="762" y="2868"/>
                  </a:lnTo>
                  <a:lnTo>
                    <a:pt x="768" y="2856"/>
                  </a:lnTo>
                  <a:lnTo>
                    <a:pt x="772" y="2846"/>
                  </a:lnTo>
                  <a:lnTo>
                    <a:pt x="774" y="2834"/>
                  </a:lnTo>
                  <a:lnTo>
                    <a:pt x="774" y="2824"/>
                  </a:lnTo>
                  <a:lnTo>
                    <a:pt x="774" y="2814"/>
                  </a:lnTo>
                  <a:lnTo>
                    <a:pt x="770" y="2806"/>
                  </a:lnTo>
                  <a:lnTo>
                    <a:pt x="768" y="2798"/>
                  </a:lnTo>
                  <a:lnTo>
                    <a:pt x="762" y="2792"/>
                  </a:lnTo>
                  <a:lnTo>
                    <a:pt x="756" y="2788"/>
                  </a:lnTo>
                  <a:lnTo>
                    <a:pt x="750" y="2784"/>
                  </a:lnTo>
                  <a:lnTo>
                    <a:pt x="742" y="2782"/>
                  </a:lnTo>
                  <a:lnTo>
                    <a:pt x="734" y="2782"/>
                  </a:lnTo>
                  <a:lnTo>
                    <a:pt x="734" y="2782"/>
                  </a:lnTo>
                  <a:lnTo>
                    <a:pt x="740" y="2764"/>
                  </a:lnTo>
                  <a:lnTo>
                    <a:pt x="746" y="2746"/>
                  </a:lnTo>
                  <a:lnTo>
                    <a:pt x="748" y="2732"/>
                  </a:lnTo>
                  <a:lnTo>
                    <a:pt x="748" y="2716"/>
                  </a:lnTo>
                  <a:lnTo>
                    <a:pt x="746" y="2704"/>
                  </a:lnTo>
                  <a:lnTo>
                    <a:pt x="742" y="2692"/>
                  </a:lnTo>
                  <a:lnTo>
                    <a:pt x="736" y="2682"/>
                  </a:lnTo>
                  <a:lnTo>
                    <a:pt x="728" y="2672"/>
                  </a:lnTo>
                  <a:lnTo>
                    <a:pt x="720" y="2666"/>
                  </a:lnTo>
                  <a:lnTo>
                    <a:pt x="710" y="2660"/>
                  </a:lnTo>
                  <a:lnTo>
                    <a:pt x="698" y="2654"/>
                  </a:lnTo>
                  <a:lnTo>
                    <a:pt x="686" y="2652"/>
                  </a:lnTo>
                  <a:lnTo>
                    <a:pt x="674" y="2650"/>
                  </a:lnTo>
                  <a:lnTo>
                    <a:pt x="660" y="2650"/>
                  </a:lnTo>
                  <a:lnTo>
                    <a:pt x="644" y="2652"/>
                  </a:lnTo>
                  <a:lnTo>
                    <a:pt x="630" y="2654"/>
                  </a:lnTo>
                  <a:lnTo>
                    <a:pt x="630" y="2654"/>
                  </a:lnTo>
                  <a:lnTo>
                    <a:pt x="642" y="2664"/>
                  </a:lnTo>
                  <a:lnTo>
                    <a:pt x="652" y="2674"/>
                  </a:lnTo>
                  <a:lnTo>
                    <a:pt x="658" y="2684"/>
                  </a:lnTo>
                  <a:lnTo>
                    <a:pt x="664" y="2694"/>
                  </a:lnTo>
                  <a:lnTo>
                    <a:pt x="668" y="2706"/>
                  </a:lnTo>
                  <a:lnTo>
                    <a:pt x="668" y="2716"/>
                  </a:lnTo>
                  <a:lnTo>
                    <a:pt x="668" y="2726"/>
                  </a:lnTo>
                  <a:lnTo>
                    <a:pt x="666" y="2736"/>
                  </a:lnTo>
                  <a:lnTo>
                    <a:pt x="662" y="2746"/>
                  </a:lnTo>
                  <a:lnTo>
                    <a:pt x="656" y="2754"/>
                  </a:lnTo>
                  <a:lnTo>
                    <a:pt x="650" y="2764"/>
                  </a:lnTo>
                  <a:lnTo>
                    <a:pt x="642" y="2772"/>
                  </a:lnTo>
                  <a:lnTo>
                    <a:pt x="624" y="2788"/>
                  </a:lnTo>
                  <a:lnTo>
                    <a:pt x="602" y="2800"/>
                  </a:lnTo>
                  <a:lnTo>
                    <a:pt x="602" y="2800"/>
                  </a:lnTo>
                  <a:lnTo>
                    <a:pt x="598" y="2786"/>
                  </a:lnTo>
                  <a:lnTo>
                    <a:pt x="592" y="2776"/>
                  </a:lnTo>
                  <a:lnTo>
                    <a:pt x="584" y="2768"/>
                  </a:lnTo>
                  <a:lnTo>
                    <a:pt x="576" y="2760"/>
                  </a:lnTo>
                  <a:lnTo>
                    <a:pt x="568" y="2756"/>
                  </a:lnTo>
                  <a:lnTo>
                    <a:pt x="558" y="2752"/>
                  </a:lnTo>
                  <a:lnTo>
                    <a:pt x="548" y="2752"/>
                  </a:lnTo>
                  <a:lnTo>
                    <a:pt x="538" y="2752"/>
                  </a:lnTo>
                  <a:lnTo>
                    <a:pt x="526" y="2754"/>
                  </a:lnTo>
                  <a:lnTo>
                    <a:pt x="516" y="2758"/>
                  </a:lnTo>
                  <a:lnTo>
                    <a:pt x="508" y="2762"/>
                  </a:lnTo>
                  <a:lnTo>
                    <a:pt x="498" y="2768"/>
                  </a:lnTo>
                  <a:lnTo>
                    <a:pt x="490" y="2776"/>
                  </a:lnTo>
                  <a:lnTo>
                    <a:pt x="484" y="2784"/>
                  </a:lnTo>
                  <a:lnTo>
                    <a:pt x="478" y="2792"/>
                  </a:lnTo>
                  <a:lnTo>
                    <a:pt x="474" y="2802"/>
                  </a:lnTo>
                  <a:lnTo>
                    <a:pt x="474" y="2802"/>
                  </a:lnTo>
                  <a:lnTo>
                    <a:pt x="460" y="2798"/>
                  </a:lnTo>
                  <a:lnTo>
                    <a:pt x="446" y="2794"/>
                  </a:lnTo>
                  <a:lnTo>
                    <a:pt x="434" y="2786"/>
                  </a:lnTo>
                  <a:lnTo>
                    <a:pt x="422" y="2778"/>
                  </a:lnTo>
                  <a:lnTo>
                    <a:pt x="412" y="2768"/>
                  </a:lnTo>
                  <a:lnTo>
                    <a:pt x="402" y="2758"/>
                  </a:lnTo>
                  <a:lnTo>
                    <a:pt x="394" y="2748"/>
                  </a:lnTo>
                  <a:lnTo>
                    <a:pt x="388" y="2736"/>
                  </a:lnTo>
                  <a:lnTo>
                    <a:pt x="384" y="2724"/>
                  </a:lnTo>
                  <a:lnTo>
                    <a:pt x="384" y="2714"/>
                  </a:lnTo>
                  <a:lnTo>
                    <a:pt x="386" y="2702"/>
                  </a:lnTo>
                  <a:lnTo>
                    <a:pt x="390" y="2692"/>
                  </a:lnTo>
                  <a:lnTo>
                    <a:pt x="398" y="2682"/>
                  </a:lnTo>
                  <a:lnTo>
                    <a:pt x="410" y="2672"/>
                  </a:lnTo>
                  <a:lnTo>
                    <a:pt x="424" y="2664"/>
                  </a:lnTo>
                  <a:lnTo>
                    <a:pt x="444" y="2658"/>
                  </a:lnTo>
                  <a:lnTo>
                    <a:pt x="444" y="2658"/>
                  </a:lnTo>
                  <a:lnTo>
                    <a:pt x="418" y="2652"/>
                  </a:lnTo>
                  <a:lnTo>
                    <a:pt x="394" y="2650"/>
                  </a:lnTo>
                  <a:lnTo>
                    <a:pt x="376" y="2650"/>
                  </a:lnTo>
                  <a:lnTo>
                    <a:pt x="358" y="2652"/>
                  </a:lnTo>
                  <a:lnTo>
                    <a:pt x="344" y="2656"/>
                  </a:lnTo>
                  <a:lnTo>
                    <a:pt x="332" y="2662"/>
                  </a:lnTo>
                  <a:lnTo>
                    <a:pt x="324" y="2672"/>
                  </a:lnTo>
                  <a:lnTo>
                    <a:pt x="316" y="2680"/>
                  </a:lnTo>
                  <a:lnTo>
                    <a:pt x="312" y="2692"/>
                  </a:lnTo>
                  <a:lnTo>
                    <a:pt x="308" y="2702"/>
                  </a:lnTo>
                  <a:lnTo>
                    <a:pt x="306" y="2714"/>
                  </a:lnTo>
                  <a:lnTo>
                    <a:pt x="306" y="2726"/>
                  </a:lnTo>
                  <a:lnTo>
                    <a:pt x="308" y="2746"/>
                  </a:lnTo>
                  <a:lnTo>
                    <a:pt x="314" y="2764"/>
                  </a:lnTo>
                  <a:lnTo>
                    <a:pt x="314" y="2764"/>
                  </a:lnTo>
                  <a:lnTo>
                    <a:pt x="306" y="2768"/>
                  </a:lnTo>
                  <a:lnTo>
                    <a:pt x="300" y="2772"/>
                  </a:lnTo>
                  <a:lnTo>
                    <a:pt x="296" y="2776"/>
                  </a:lnTo>
                  <a:lnTo>
                    <a:pt x="294" y="2782"/>
                  </a:lnTo>
                  <a:lnTo>
                    <a:pt x="292" y="2788"/>
                  </a:lnTo>
                  <a:lnTo>
                    <a:pt x="292" y="2794"/>
                  </a:lnTo>
                  <a:lnTo>
                    <a:pt x="294" y="2802"/>
                  </a:lnTo>
                  <a:lnTo>
                    <a:pt x="298" y="2810"/>
                  </a:lnTo>
                  <a:lnTo>
                    <a:pt x="308" y="2824"/>
                  </a:lnTo>
                  <a:lnTo>
                    <a:pt x="324" y="2842"/>
                  </a:lnTo>
                  <a:lnTo>
                    <a:pt x="344" y="2860"/>
                  </a:lnTo>
                  <a:lnTo>
                    <a:pt x="372" y="2878"/>
                  </a:lnTo>
                  <a:lnTo>
                    <a:pt x="372" y="2878"/>
                  </a:lnTo>
                  <a:lnTo>
                    <a:pt x="348" y="2870"/>
                  </a:lnTo>
                  <a:lnTo>
                    <a:pt x="324" y="2862"/>
                  </a:lnTo>
                  <a:lnTo>
                    <a:pt x="304" y="2852"/>
                  </a:lnTo>
                  <a:lnTo>
                    <a:pt x="284" y="2842"/>
                  </a:lnTo>
                  <a:lnTo>
                    <a:pt x="266" y="2830"/>
                  </a:lnTo>
                  <a:lnTo>
                    <a:pt x="250" y="2818"/>
                  </a:lnTo>
                  <a:lnTo>
                    <a:pt x="236" y="2804"/>
                  </a:lnTo>
                  <a:lnTo>
                    <a:pt x="224" y="2790"/>
                  </a:lnTo>
                  <a:lnTo>
                    <a:pt x="214" y="2776"/>
                  </a:lnTo>
                  <a:lnTo>
                    <a:pt x="204" y="2760"/>
                  </a:lnTo>
                  <a:lnTo>
                    <a:pt x="196" y="2744"/>
                  </a:lnTo>
                  <a:lnTo>
                    <a:pt x="190" y="2728"/>
                  </a:lnTo>
                  <a:lnTo>
                    <a:pt x="186" y="2712"/>
                  </a:lnTo>
                  <a:lnTo>
                    <a:pt x="182" y="2696"/>
                  </a:lnTo>
                  <a:lnTo>
                    <a:pt x="180" y="2680"/>
                  </a:lnTo>
                  <a:lnTo>
                    <a:pt x="180" y="2664"/>
                  </a:lnTo>
                  <a:lnTo>
                    <a:pt x="180" y="2648"/>
                  </a:lnTo>
                  <a:lnTo>
                    <a:pt x="182" y="2632"/>
                  </a:lnTo>
                  <a:lnTo>
                    <a:pt x="188" y="2602"/>
                  </a:lnTo>
                  <a:lnTo>
                    <a:pt x="194" y="2588"/>
                  </a:lnTo>
                  <a:lnTo>
                    <a:pt x="200" y="2574"/>
                  </a:lnTo>
                  <a:lnTo>
                    <a:pt x="206" y="2562"/>
                  </a:lnTo>
                  <a:lnTo>
                    <a:pt x="214" y="2550"/>
                  </a:lnTo>
                  <a:lnTo>
                    <a:pt x="222" y="2540"/>
                  </a:lnTo>
                  <a:lnTo>
                    <a:pt x="232" y="2532"/>
                  </a:lnTo>
                  <a:lnTo>
                    <a:pt x="242" y="2524"/>
                  </a:lnTo>
                  <a:lnTo>
                    <a:pt x="254" y="2518"/>
                  </a:lnTo>
                  <a:lnTo>
                    <a:pt x="266" y="2512"/>
                  </a:lnTo>
                  <a:lnTo>
                    <a:pt x="278" y="2510"/>
                  </a:lnTo>
                  <a:lnTo>
                    <a:pt x="290" y="2508"/>
                  </a:lnTo>
                  <a:lnTo>
                    <a:pt x="304" y="2508"/>
                  </a:lnTo>
                  <a:lnTo>
                    <a:pt x="304" y="2508"/>
                  </a:lnTo>
                  <a:lnTo>
                    <a:pt x="300" y="2496"/>
                  </a:lnTo>
                  <a:lnTo>
                    <a:pt x="296" y="2484"/>
                  </a:lnTo>
                  <a:lnTo>
                    <a:pt x="290" y="2476"/>
                  </a:lnTo>
                  <a:lnTo>
                    <a:pt x="282" y="2470"/>
                  </a:lnTo>
                  <a:lnTo>
                    <a:pt x="274" y="2464"/>
                  </a:lnTo>
                  <a:lnTo>
                    <a:pt x="266" y="2462"/>
                  </a:lnTo>
                  <a:lnTo>
                    <a:pt x="256" y="2460"/>
                  </a:lnTo>
                  <a:lnTo>
                    <a:pt x="246" y="2460"/>
                  </a:lnTo>
                  <a:lnTo>
                    <a:pt x="236" y="2464"/>
                  </a:lnTo>
                  <a:lnTo>
                    <a:pt x="226" y="2466"/>
                  </a:lnTo>
                  <a:lnTo>
                    <a:pt x="218" y="2472"/>
                  </a:lnTo>
                  <a:lnTo>
                    <a:pt x="208" y="2480"/>
                  </a:lnTo>
                  <a:lnTo>
                    <a:pt x="200" y="2488"/>
                  </a:lnTo>
                  <a:lnTo>
                    <a:pt x="192" y="2498"/>
                  </a:lnTo>
                  <a:lnTo>
                    <a:pt x="186" y="2508"/>
                  </a:lnTo>
                  <a:lnTo>
                    <a:pt x="180" y="2520"/>
                  </a:lnTo>
                  <a:lnTo>
                    <a:pt x="180" y="2520"/>
                  </a:lnTo>
                  <a:lnTo>
                    <a:pt x="174" y="2500"/>
                  </a:lnTo>
                  <a:lnTo>
                    <a:pt x="170" y="2478"/>
                  </a:lnTo>
                  <a:lnTo>
                    <a:pt x="170" y="2456"/>
                  </a:lnTo>
                  <a:lnTo>
                    <a:pt x="170" y="2432"/>
                  </a:lnTo>
                  <a:lnTo>
                    <a:pt x="172" y="2394"/>
                  </a:lnTo>
                  <a:lnTo>
                    <a:pt x="174" y="2380"/>
                  </a:lnTo>
                  <a:lnTo>
                    <a:pt x="174" y="2380"/>
                  </a:lnTo>
                  <a:lnTo>
                    <a:pt x="166" y="2394"/>
                  </a:lnTo>
                  <a:lnTo>
                    <a:pt x="148" y="2434"/>
                  </a:lnTo>
                  <a:lnTo>
                    <a:pt x="138" y="2460"/>
                  </a:lnTo>
                  <a:lnTo>
                    <a:pt x="130" y="2490"/>
                  </a:lnTo>
                  <a:lnTo>
                    <a:pt x="122" y="2522"/>
                  </a:lnTo>
                  <a:lnTo>
                    <a:pt x="120" y="2552"/>
                  </a:lnTo>
                  <a:lnTo>
                    <a:pt x="120" y="2552"/>
                  </a:lnTo>
                  <a:lnTo>
                    <a:pt x="118" y="2584"/>
                  </a:lnTo>
                  <a:lnTo>
                    <a:pt x="120" y="2614"/>
                  </a:lnTo>
                  <a:lnTo>
                    <a:pt x="122" y="2644"/>
                  </a:lnTo>
                  <a:lnTo>
                    <a:pt x="126" y="2672"/>
                  </a:lnTo>
                  <a:lnTo>
                    <a:pt x="134" y="2700"/>
                  </a:lnTo>
                  <a:lnTo>
                    <a:pt x="142" y="2726"/>
                  </a:lnTo>
                  <a:lnTo>
                    <a:pt x="152" y="2750"/>
                  </a:lnTo>
                  <a:lnTo>
                    <a:pt x="164" y="2774"/>
                  </a:lnTo>
                  <a:lnTo>
                    <a:pt x="164" y="2774"/>
                  </a:lnTo>
                  <a:lnTo>
                    <a:pt x="138" y="2748"/>
                  </a:lnTo>
                  <a:lnTo>
                    <a:pt x="114" y="2720"/>
                  </a:lnTo>
                  <a:lnTo>
                    <a:pt x="96" y="2692"/>
                  </a:lnTo>
                  <a:lnTo>
                    <a:pt x="80" y="2666"/>
                  </a:lnTo>
                  <a:lnTo>
                    <a:pt x="68" y="2638"/>
                  </a:lnTo>
                  <a:lnTo>
                    <a:pt x="60" y="2610"/>
                  </a:lnTo>
                  <a:lnTo>
                    <a:pt x="56" y="2584"/>
                  </a:lnTo>
                  <a:lnTo>
                    <a:pt x="52" y="2556"/>
                  </a:lnTo>
                  <a:lnTo>
                    <a:pt x="52" y="2530"/>
                  </a:lnTo>
                  <a:lnTo>
                    <a:pt x="56" y="2504"/>
                  </a:lnTo>
                  <a:lnTo>
                    <a:pt x="60" y="2478"/>
                  </a:lnTo>
                  <a:lnTo>
                    <a:pt x="66" y="2452"/>
                  </a:lnTo>
                  <a:lnTo>
                    <a:pt x="72" y="2428"/>
                  </a:lnTo>
                  <a:lnTo>
                    <a:pt x="82" y="2404"/>
                  </a:lnTo>
                  <a:lnTo>
                    <a:pt x="102" y="2358"/>
                  </a:lnTo>
                  <a:lnTo>
                    <a:pt x="102" y="2358"/>
                  </a:lnTo>
                  <a:lnTo>
                    <a:pt x="110" y="2342"/>
                  </a:lnTo>
                  <a:lnTo>
                    <a:pt x="122" y="2326"/>
                  </a:lnTo>
                  <a:lnTo>
                    <a:pt x="134" y="2312"/>
                  </a:lnTo>
                  <a:lnTo>
                    <a:pt x="146" y="2300"/>
                  </a:lnTo>
                  <a:lnTo>
                    <a:pt x="160" y="2290"/>
                  </a:lnTo>
                  <a:lnTo>
                    <a:pt x="176" y="2280"/>
                  </a:lnTo>
                  <a:lnTo>
                    <a:pt x="190" y="2272"/>
                  </a:lnTo>
                  <a:lnTo>
                    <a:pt x="206" y="2266"/>
                  </a:lnTo>
                  <a:lnTo>
                    <a:pt x="220" y="2262"/>
                  </a:lnTo>
                  <a:lnTo>
                    <a:pt x="236" y="2260"/>
                  </a:lnTo>
                  <a:lnTo>
                    <a:pt x="252" y="2258"/>
                  </a:lnTo>
                  <a:lnTo>
                    <a:pt x="266" y="2260"/>
                  </a:lnTo>
                  <a:lnTo>
                    <a:pt x="280" y="2262"/>
                  </a:lnTo>
                  <a:lnTo>
                    <a:pt x="292" y="2266"/>
                  </a:lnTo>
                  <a:lnTo>
                    <a:pt x="304" y="2272"/>
                  </a:lnTo>
                  <a:lnTo>
                    <a:pt x="314" y="2280"/>
                  </a:lnTo>
                  <a:lnTo>
                    <a:pt x="314" y="2280"/>
                  </a:lnTo>
                  <a:lnTo>
                    <a:pt x="316" y="2266"/>
                  </a:lnTo>
                  <a:lnTo>
                    <a:pt x="316" y="2254"/>
                  </a:lnTo>
                  <a:lnTo>
                    <a:pt x="312" y="2242"/>
                  </a:lnTo>
                  <a:lnTo>
                    <a:pt x="308" y="2232"/>
                  </a:lnTo>
                  <a:lnTo>
                    <a:pt x="300" y="2220"/>
                  </a:lnTo>
                  <a:lnTo>
                    <a:pt x="290" y="2212"/>
                  </a:lnTo>
                  <a:lnTo>
                    <a:pt x="280" y="2204"/>
                  </a:lnTo>
                  <a:lnTo>
                    <a:pt x="268" y="2196"/>
                  </a:lnTo>
                  <a:lnTo>
                    <a:pt x="254" y="2190"/>
                  </a:lnTo>
                  <a:lnTo>
                    <a:pt x="240" y="2186"/>
                  </a:lnTo>
                  <a:lnTo>
                    <a:pt x="226" y="2182"/>
                  </a:lnTo>
                  <a:lnTo>
                    <a:pt x="212" y="2180"/>
                  </a:lnTo>
                  <a:lnTo>
                    <a:pt x="200" y="2178"/>
                  </a:lnTo>
                  <a:lnTo>
                    <a:pt x="186" y="2178"/>
                  </a:lnTo>
                  <a:lnTo>
                    <a:pt x="174" y="2180"/>
                  </a:lnTo>
                  <a:lnTo>
                    <a:pt x="162" y="2182"/>
                  </a:lnTo>
                  <a:lnTo>
                    <a:pt x="162" y="2182"/>
                  </a:lnTo>
                  <a:lnTo>
                    <a:pt x="182" y="2162"/>
                  </a:lnTo>
                  <a:lnTo>
                    <a:pt x="202" y="2144"/>
                  </a:lnTo>
                  <a:lnTo>
                    <a:pt x="224" y="2128"/>
                  </a:lnTo>
                  <a:lnTo>
                    <a:pt x="246" y="2116"/>
                  </a:lnTo>
                  <a:lnTo>
                    <a:pt x="270" y="2106"/>
                  </a:lnTo>
                  <a:lnTo>
                    <a:pt x="292" y="2100"/>
                  </a:lnTo>
                  <a:lnTo>
                    <a:pt x="316" y="2096"/>
                  </a:lnTo>
                  <a:lnTo>
                    <a:pt x="340" y="2094"/>
                  </a:lnTo>
                  <a:lnTo>
                    <a:pt x="362" y="2096"/>
                  </a:lnTo>
                  <a:lnTo>
                    <a:pt x="384" y="2098"/>
                  </a:lnTo>
                  <a:lnTo>
                    <a:pt x="406" y="2102"/>
                  </a:lnTo>
                  <a:lnTo>
                    <a:pt x="424" y="2108"/>
                  </a:lnTo>
                  <a:lnTo>
                    <a:pt x="442" y="2118"/>
                  </a:lnTo>
                  <a:lnTo>
                    <a:pt x="458" y="2126"/>
                  </a:lnTo>
                  <a:lnTo>
                    <a:pt x="472" y="2138"/>
                  </a:lnTo>
                  <a:lnTo>
                    <a:pt x="484" y="2150"/>
                  </a:lnTo>
                  <a:lnTo>
                    <a:pt x="484" y="2150"/>
                  </a:lnTo>
                  <a:lnTo>
                    <a:pt x="496" y="2170"/>
                  </a:lnTo>
                  <a:lnTo>
                    <a:pt x="504" y="2190"/>
                  </a:lnTo>
                  <a:lnTo>
                    <a:pt x="508" y="2212"/>
                  </a:lnTo>
                  <a:lnTo>
                    <a:pt x="506" y="2232"/>
                  </a:lnTo>
                  <a:lnTo>
                    <a:pt x="502" y="2250"/>
                  </a:lnTo>
                  <a:lnTo>
                    <a:pt x="498" y="2260"/>
                  </a:lnTo>
                  <a:lnTo>
                    <a:pt x="492" y="2268"/>
                  </a:lnTo>
                  <a:lnTo>
                    <a:pt x="486" y="2276"/>
                  </a:lnTo>
                  <a:lnTo>
                    <a:pt x="478" y="2282"/>
                  </a:lnTo>
                  <a:lnTo>
                    <a:pt x="468" y="2288"/>
                  </a:lnTo>
                  <a:lnTo>
                    <a:pt x="460" y="2294"/>
                  </a:lnTo>
                  <a:lnTo>
                    <a:pt x="460" y="2294"/>
                  </a:lnTo>
                  <a:lnTo>
                    <a:pt x="472" y="2300"/>
                  </a:lnTo>
                  <a:lnTo>
                    <a:pt x="482" y="2304"/>
                  </a:lnTo>
                  <a:lnTo>
                    <a:pt x="506" y="2308"/>
                  </a:lnTo>
                  <a:lnTo>
                    <a:pt x="526" y="2308"/>
                  </a:lnTo>
                  <a:lnTo>
                    <a:pt x="546" y="2304"/>
                  </a:lnTo>
                  <a:lnTo>
                    <a:pt x="562" y="2296"/>
                  </a:lnTo>
                  <a:lnTo>
                    <a:pt x="576" y="2286"/>
                  </a:lnTo>
                  <a:lnTo>
                    <a:pt x="586" y="2274"/>
                  </a:lnTo>
                  <a:lnTo>
                    <a:pt x="592" y="2262"/>
                  </a:lnTo>
                  <a:lnTo>
                    <a:pt x="592" y="2262"/>
                  </a:lnTo>
                  <a:lnTo>
                    <a:pt x="596" y="2246"/>
                  </a:lnTo>
                  <a:lnTo>
                    <a:pt x="600" y="2230"/>
                  </a:lnTo>
                  <a:lnTo>
                    <a:pt x="602" y="2214"/>
                  </a:lnTo>
                  <a:lnTo>
                    <a:pt x="600" y="2198"/>
                  </a:lnTo>
                  <a:lnTo>
                    <a:pt x="598" y="2184"/>
                  </a:lnTo>
                  <a:lnTo>
                    <a:pt x="594" y="2168"/>
                  </a:lnTo>
                  <a:lnTo>
                    <a:pt x="588" y="2156"/>
                  </a:lnTo>
                  <a:lnTo>
                    <a:pt x="580" y="2144"/>
                  </a:lnTo>
                  <a:lnTo>
                    <a:pt x="580" y="2144"/>
                  </a:lnTo>
                  <a:lnTo>
                    <a:pt x="600" y="2160"/>
                  </a:lnTo>
                  <a:lnTo>
                    <a:pt x="616" y="2178"/>
                  </a:lnTo>
                  <a:lnTo>
                    <a:pt x="628" y="2198"/>
                  </a:lnTo>
                  <a:lnTo>
                    <a:pt x="640" y="2218"/>
                  </a:lnTo>
                  <a:lnTo>
                    <a:pt x="648" y="2238"/>
                  </a:lnTo>
                  <a:lnTo>
                    <a:pt x="652" y="2260"/>
                  </a:lnTo>
                  <a:lnTo>
                    <a:pt x="656" y="2282"/>
                  </a:lnTo>
                  <a:lnTo>
                    <a:pt x="656" y="2304"/>
                  </a:lnTo>
                  <a:lnTo>
                    <a:pt x="654" y="2326"/>
                  </a:lnTo>
                  <a:lnTo>
                    <a:pt x="648" y="2348"/>
                  </a:lnTo>
                  <a:lnTo>
                    <a:pt x="640" y="2368"/>
                  </a:lnTo>
                  <a:lnTo>
                    <a:pt x="630" y="2388"/>
                  </a:lnTo>
                  <a:lnTo>
                    <a:pt x="618" y="2406"/>
                  </a:lnTo>
                  <a:lnTo>
                    <a:pt x="604" y="2422"/>
                  </a:lnTo>
                  <a:lnTo>
                    <a:pt x="586" y="2438"/>
                  </a:lnTo>
                  <a:lnTo>
                    <a:pt x="568" y="2452"/>
                  </a:lnTo>
                  <a:lnTo>
                    <a:pt x="568" y="2452"/>
                  </a:lnTo>
                  <a:lnTo>
                    <a:pt x="566" y="2442"/>
                  </a:lnTo>
                  <a:lnTo>
                    <a:pt x="562" y="2432"/>
                  </a:lnTo>
                  <a:lnTo>
                    <a:pt x="558" y="2422"/>
                  </a:lnTo>
                  <a:lnTo>
                    <a:pt x="554" y="2414"/>
                  </a:lnTo>
                  <a:lnTo>
                    <a:pt x="540" y="2400"/>
                  </a:lnTo>
                  <a:lnTo>
                    <a:pt x="524" y="2388"/>
                  </a:lnTo>
                  <a:lnTo>
                    <a:pt x="514" y="2384"/>
                  </a:lnTo>
                  <a:lnTo>
                    <a:pt x="504" y="2380"/>
                  </a:lnTo>
                  <a:lnTo>
                    <a:pt x="494" y="2378"/>
                  </a:lnTo>
                  <a:lnTo>
                    <a:pt x="484" y="2378"/>
                  </a:lnTo>
                  <a:lnTo>
                    <a:pt x="474" y="2378"/>
                  </a:lnTo>
                  <a:lnTo>
                    <a:pt x="462" y="2380"/>
                  </a:lnTo>
                  <a:lnTo>
                    <a:pt x="452" y="2384"/>
                  </a:lnTo>
                  <a:lnTo>
                    <a:pt x="440" y="2388"/>
                  </a:lnTo>
                  <a:lnTo>
                    <a:pt x="440" y="2388"/>
                  </a:lnTo>
                  <a:lnTo>
                    <a:pt x="432" y="2394"/>
                  </a:lnTo>
                  <a:lnTo>
                    <a:pt x="426" y="2400"/>
                  </a:lnTo>
                  <a:lnTo>
                    <a:pt x="418" y="2408"/>
                  </a:lnTo>
                  <a:lnTo>
                    <a:pt x="412" y="2418"/>
                  </a:lnTo>
                  <a:lnTo>
                    <a:pt x="402" y="2440"/>
                  </a:lnTo>
                  <a:lnTo>
                    <a:pt x="396" y="2464"/>
                  </a:lnTo>
                  <a:lnTo>
                    <a:pt x="394" y="2490"/>
                  </a:lnTo>
                  <a:lnTo>
                    <a:pt x="394" y="2502"/>
                  </a:lnTo>
                  <a:lnTo>
                    <a:pt x="396" y="2516"/>
                  </a:lnTo>
                  <a:lnTo>
                    <a:pt x="398" y="2528"/>
                  </a:lnTo>
                  <a:lnTo>
                    <a:pt x="404" y="2540"/>
                  </a:lnTo>
                  <a:lnTo>
                    <a:pt x="410" y="2550"/>
                  </a:lnTo>
                  <a:lnTo>
                    <a:pt x="418" y="2562"/>
                  </a:lnTo>
                  <a:lnTo>
                    <a:pt x="418" y="2562"/>
                  </a:lnTo>
                  <a:lnTo>
                    <a:pt x="428" y="2572"/>
                  </a:lnTo>
                  <a:lnTo>
                    <a:pt x="438" y="2580"/>
                  </a:lnTo>
                  <a:lnTo>
                    <a:pt x="450" y="2588"/>
                  </a:lnTo>
                  <a:lnTo>
                    <a:pt x="464" y="2596"/>
                  </a:lnTo>
                  <a:lnTo>
                    <a:pt x="478" y="2600"/>
                  </a:lnTo>
                  <a:lnTo>
                    <a:pt x="492" y="2604"/>
                  </a:lnTo>
                  <a:lnTo>
                    <a:pt x="508" y="2608"/>
                  </a:lnTo>
                  <a:lnTo>
                    <a:pt x="522" y="2608"/>
                  </a:lnTo>
                  <a:lnTo>
                    <a:pt x="538" y="2608"/>
                  </a:lnTo>
                  <a:lnTo>
                    <a:pt x="554" y="2606"/>
                  </a:lnTo>
                  <a:lnTo>
                    <a:pt x="570" y="2602"/>
                  </a:lnTo>
                  <a:lnTo>
                    <a:pt x="586" y="2596"/>
                  </a:lnTo>
                  <a:lnTo>
                    <a:pt x="600" y="2588"/>
                  </a:lnTo>
                  <a:lnTo>
                    <a:pt x="616" y="2578"/>
                  </a:lnTo>
                  <a:lnTo>
                    <a:pt x="630" y="2566"/>
                  </a:lnTo>
                  <a:lnTo>
                    <a:pt x="644" y="2554"/>
                  </a:lnTo>
                  <a:lnTo>
                    <a:pt x="644" y="2554"/>
                  </a:lnTo>
                  <a:lnTo>
                    <a:pt x="666" y="2528"/>
                  </a:lnTo>
                  <a:lnTo>
                    <a:pt x="684" y="2500"/>
                  </a:lnTo>
                  <a:lnTo>
                    <a:pt x="698" y="2470"/>
                  </a:lnTo>
                  <a:lnTo>
                    <a:pt x="708" y="2438"/>
                  </a:lnTo>
                  <a:lnTo>
                    <a:pt x="714" y="2406"/>
                  </a:lnTo>
                  <a:lnTo>
                    <a:pt x="718" y="2372"/>
                  </a:lnTo>
                  <a:lnTo>
                    <a:pt x="718" y="2338"/>
                  </a:lnTo>
                  <a:lnTo>
                    <a:pt x="714" y="2304"/>
                  </a:lnTo>
                  <a:lnTo>
                    <a:pt x="706" y="2270"/>
                  </a:lnTo>
                  <a:lnTo>
                    <a:pt x="694" y="2238"/>
                  </a:lnTo>
                  <a:lnTo>
                    <a:pt x="678" y="2206"/>
                  </a:lnTo>
                  <a:lnTo>
                    <a:pt x="658" y="2176"/>
                  </a:lnTo>
                  <a:lnTo>
                    <a:pt x="634" y="2148"/>
                  </a:lnTo>
                  <a:lnTo>
                    <a:pt x="620" y="2136"/>
                  </a:lnTo>
                  <a:lnTo>
                    <a:pt x="606" y="2124"/>
                  </a:lnTo>
                  <a:lnTo>
                    <a:pt x="590" y="2112"/>
                  </a:lnTo>
                  <a:lnTo>
                    <a:pt x="574" y="2102"/>
                  </a:lnTo>
                  <a:lnTo>
                    <a:pt x="556" y="2092"/>
                  </a:lnTo>
                  <a:lnTo>
                    <a:pt x="536" y="2084"/>
                  </a:lnTo>
                  <a:lnTo>
                    <a:pt x="536" y="2084"/>
                  </a:lnTo>
                  <a:lnTo>
                    <a:pt x="500" y="2070"/>
                  </a:lnTo>
                  <a:lnTo>
                    <a:pt x="462" y="2060"/>
                  </a:lnTo>
                  <a:lnTo>
                    <a:pt x="426" y="2052"/>
                  </a:lnTo>
                  <a:lnTo>
                    <a:pt x="388" y="2050"/>
                  </a:lnTo>
                  <a:lnTo>
                    <a:pt x="352" y="2050"/>
                  </a:lnTo>
                  <a:lnTo>
                    <a:pt x="318" y="2054"/>
                  </a:lnTo>
                  <a:lnTo>
                    <a:pt x="282" y="2064"/>
                  </a:lnTo>
                  <a:lnTo>
                    <a:pt x="248" y="2076"/>
                  </a:lnTo>
                  <a:lnTo>
                    <a:pt x="216" y="2092"/>
                  </a:lnTo>
                  <a:lnTo>
                    <a:pt x="186" y="2112"/>
                  </a:lnTo>
                  <a:lnTo>
                    <a:pt x="156" y="2138"/>
                  </a:lnTo>
                  <a:lnTo>
                    <a:pt x="128" y="2166"/>
                  </a:lnTo>
                  <a:lnTo>
                    <a:pt x="102" y="2200"/>
                  </a:lnTo>
                  <a:lnTo>
                    <a:pt x="78" y="2238"/>
                  </a:lnTo>
                  <a:lnTo>
                    <a:pt x="56" y="2280"/>
                  </a:lnTo>
                  <a:lnTo>
                    <a:pt x="38" y="2326"/>
                  </a:lnTo>
                  <a:lnTo>
                    <a:pt x="38" y="2326"/>
                  </a:lnTo>
                  <a:lnTo>
                    <a:pt x="24" y="2368"/>
                  </a:lnTo>
                  <a:lnTo>
                    <a:pt x="12" y="2406"/>
                  </a:lnTo>
                  <a:lnTo>
                    <a:pt x="6" y="2440"/>
                  </a:lnTo>
                  <a:lnTo>
                    <a:pt x="2" y="2474"/>
                  </a:lnTo>
                  <a:lnTo>
                    <a:pt x="0" y="2504"/>
                  </a:lnTo>
                  <a:lnTo>
                    <a:pt x="0" y="2532"/>
                  </a:lnTo>
                  <a:lnTo>
                    <a:pt x="2" y="2556"/>
                  </a:lnTo>
                  <a:lnTo>
                    <a:pt x="6" y="2580"/>
                  </a:lnTo>
                  <a:lnTo>
                    <a:pt x="12" y="2602"/>
                  </a:lnTo>
                  <a:lnTo>
                    <a:pt x="18" y="2622"/>
                  </a:lnTo>
                  <a:lnTo>
                    <a:pt x="32" y="2656"/>
                  </a:lnTo>
                  <a:lnTo>
                    <a:pt x="48" y="2684"/>
                  </a:lnTo>
                  <a:lnTo>
                    <a:pt x="62" y="2708"/>
                  </a:lnTo>
                  <a:lnTo>
                    <a:pt x="62" y="2708"/>
                  </a:lnTo>
                  <a:lnTo>
                    <a:pt x="76" y="2728"/>
                  </a:lnTo>
                  <a:lnTo>
                    <a:pt x="92" y="2748"/>
                  </a:lnTo>
                  <a:lnTo>
                    <a:pt x="124" y="2784"/>
                  </a:lnTo>
                  <a:lnTo>
                    <a:pt x="124" y="2784"/>
                  </a:lnTo>
                  <a:lnTo>
                    <a:pt x="142" y="2800"/>
                  </a:lnTo>
                  <a:lnTo>
                    <a:pt x="168" y="2820"/>
                  </a:lnTo>
                  <a:lnTo>
                    <a:pt x="198" y="2840"/>
                  </a:lnTo>
                  <a:lnTo>
                    <a:pt x="234" y="2862"/>
                  </a:lnTo>
                  <a:lnTo>
                    <a:pt x="274" y="2884"/>
                  </a:lnTo>
                  <a:lnTo>
                    <a:pt x="318" y="2904"/>
                  </a:lnTo>
                  <a:lnTo>
                    <a:pt x="366" y="2922"/>
                  </a:lnTo>
                  <a:lnTo>
                    <a:pt x="418" y="2940"/>
                  </a:lnTo>
                  <a:lnTo>
                    <a:pt x="472" y="2954"/>
                  </a:lnTo>
                  <a:lnTo>
                    <a:pt x="530" y="2964"/>
                  </a:lnTo>
                  <a:lnTo>
                    <a:pt x="588" y="2970"/>
                  </a:lnTo>
                  <a:lnTo>
                    <a:pt x="618" y="2972"/>
                  </a:lnTo>
                  <a:lnTo>
                    <a:pt x="648" y="2972"/>
                  </a:lnTo>
                  <a:lnTo>
                    <a:pt x="678" y="2972"/>
                  </a:lnTo>
                  <a:lnTo>
                    <a:pt x="710" y="2968"/>
                  </a:lnTo>
                  <a:lnTo>
                    <a:pt x="740" y="2964"/>
                  </a:lnTo>
                  <a:lnTo>
                    <a:pt x="770" y="2958"/>
                  </a:lnTo>
                  <a:lnTo>
                    <a:pt x="802" y="2950"/>
                  </a:lnTo>
                  <a:lnTo>
                    <a:pt x="832" y="2940"/>
                  </a:lnTo>
                  <a:lnTo>
                    <a:pt x="864" y="2930"/>
                  </a:lnTo>
                  <a:lnTo>
                    <a:pt x="894" y="2916"/>
                  </a:lnTo>
                  <a:lnTo>
                    <a:pt x="894" y="2916"/>
                  </a:lnTo>
                  <a:lnTo>
                    <a:pt x="892" y="2928"/>
                  </a:lnTo>
                  <a:lnTo>
                    <a:pt x="892" y="2940"/>
                  </a:lnTo>
                  <a:lnTo>
                    <a:pt x="894" y="2952"/>
                  </a:lnTo>
                  <a:lnTo>
                    <a:pt x="898" y="2964"/>
                  </a:lnTo>
                  <a:lnTo>
                    <a:pt x="902" y="2976"/>
                  </a:lnTo>
                  <a:lnTo>
                    <a:pt x="906" y="2986"/>
                  </a:lnTo>
                  <a:lnTo>
                    <a:pt x="912" y="2996"/>
                  </a:lnTo>
                  <a:lnTo>
                    <a:pt x="920" y="3006"/>
                  </a:lnTo>
                  <a:lnTo>
                    <a:pt x="928" y="3016"/>
                  </a:lnTo>
                  <a:lnTo>
                    <a:pt x="938" y="3022"/>
                  </a:lnTo>
                  <a:lnTo>
                    <a:pt x="948" y="3028"/>
                  </a:lnTo>
                  <a:lnTo>
                    <a:pt x="960" y="3034"/>
                  </a:lnTo>
                  <a:lnTo>
                    <a:pt x="972" y="3038"/>
                  </a:lnTo>
                  <a:lnTo>
                    <a:pt x="986" y="3038"/>
                  </a:lnTo>
                  <a:lnTo>
                    <a:pt x="1000" y="3038"/>
                  </a:lnTo>
                  <a:lnTo>
                    <a:pt x="1014" y="3036"/>
                  </a:lnTo>
                  <a:lnTo>
                    <a:pt x="1014" y="3036"/>
                  </a:lnTo>
                  <a:lnTo>
                    <a:pt x="996" y="3024"/>
                  </a:lnTo>
                  <a:lnTo>
                    <a:pt x="980" y="3012"/>
                  </a:lnTo>
                  <a:lnTo>
                    <a:pt x="966" y="2998"/>
                  </a:lnTo>
                  <a:lnTo>
                    <a:pt x="956" y="2986"/>
                  </a:lnTo>
                  <a:lnTo>
                    <a:pt x="946" y="2974"/>
                  </a:lnTo>
                  <a:lnTo>
                    <a:pt x="940" y="2962"/>
                  </a:lnTo>
                  <a:lnTo>
                    <a:pt x="934" y="2950"/>
                  </a:lnTo>
                  <a:lnTo>
                    <a:pt x="930" y="2940"/>
                  </a:lnTo>
                  <a:lnTo>
                    <a:pt x="928" y="2928"/>
                  </a:lnTo>
                  <a:lnTo>
                    <a:pt x="928" y="2918"/>
                  </a:lnTo>
                  <a:lnTo>
                    <a:pt x="928" y="2908"/>
                  </a:lnTo>
                  <a:lnTo>
                    <a:pt x="930" y="2898"/>
                  </a:lnTo>
                  <a:lnTo>
                    <a:pt x="934" y="2890"/>
                  </a:lnTo>
                  <a:lnTo>
                    <a:pt x="938" y="2882"/>
                  </a:lnTo>
                  <a:lnTo>
                    <a:pt x="948" y="2870"/>
                  </a:lnTo>
                  <a:lnTo>
                    <a:pt x="948" y="2870"/>
                  </a:lnTo>
                  <a:lnTo>
                    <a:pt x="964" y="2854"/>
                  </a:lnTo>
                  <a:lnTo>
                    <a:pt x="978" y="2844"/>
                  </a:lnTo>
                  <a:lnTo>
                    <a:pt x="992" y="2836"/>
                  </a:lnTo>
                  <a:lnTo>
                    <a:pt x="1010" y="2832"/>
                  </a:lnTo>
                  <a:lnTo>
                    <a:pt x="1010" y="2832"/>
                  </a:lnTo>
                  <a:lnTo>
                    <a:pt x="1018" y="2832"/>
                  </a:lnTo>
                  <a:lnTo>
                    <a:pt x="1026" y="2832"/>
                  </a:lnTo>
                  <a:lnTo>
                    <a:pt x="1042" y="2838"/>
                  </a:lnTo>
                  <a:lnTo>
                    <a:pt x="1058" y="2846"/>
                  </a:lnTo>
                  <a:lnTo>
                    <a:pt x="1072" y="2858"/>
                  </a:lnTo>
                  <a:lnTo>
                    <a:pt x="1084" y="2870"/>
                  </a:lnTo>
                  <a:lnTo>
                    <a:pt x="1096" y="2884"/>
                  </a:lnTo>
                  <a:lnTo>
                    <a:pt x="1106" y="2896"/>
                  </a:lnTo>
                  <a:lnTo>
                    <a:pt x="1112" y="2908"/>
                  </a:lnTo>
                  <a:lnTo>
                    <a:pt x="1112" y="2908"/>
                  </a:lnTo>
                  <a:lnTo>
                    <a:pt x="1100" y="2910"/>
                  </a:lnTo>
                  <a:lnTo>
                    <a:pt x="1086" y="2916"/>
                  </a:lnTo>
                  <a:lnTo>
                    <a:pt x="1074" y="2924"/>
                  </a:lnTo>
                  <a:lnTo>
                    <a:pt x="1064" y="2936"/>
                  </a:lnTo>
                  <a:lnTo>
                    <a:pt x="1056" y="2950"/>
                  </a:lnTo>
                  <a:lnTo>
                    <a:pt x="1054" y="2958"/>
                  </a:lnTo>
                  <a:lnTo>
                    <a:pt x="1054" y="2966"/>
                  </a:lnTo>
                  <a:lnTo>
                    <a:pt x="1054" y="2976"/>
                  </a:lnTo>
                  <a:lnTo>
                    <a:pt x="1056" y="2986"/>
                  </a:lnTo>
                  <a:lnTo>
                    <a:pt x="1058" y="2996"/>
                  </a:lnTo>
                  <a:lnTo>
                    <a:pt x="1062" y="3006"/>
                  </a:lnTo>
                  <a:lnTo>
                    <a:pt x="1062" y="3006"/>
                  </a:lnTo>
                  <a:lnTo>
                    <a:pt x="1070" y="3018"/>
                  </a:lnTo>
                  <a:lnTo>
                    <a:pt x="1078" y="3026"/>
                  </a:lnTo>
                  <a:lnTo>
                    <a:pt x="1086" y="3032"/>
                  </a:lnTo>
                  <a:lnTo>
                    <a:pt x="1096" y="3034"/>
                  </a:lnTo>
                  <a:lnTo>
                    <a:pt x="1108" y="3036"/>
                  </a:lnTo>
                  <a:lnTo>
                    <a:pt x="1118" y="3036"/>
                  </a:lnTo>
                  <a:lnTo>
                    <a:pt x="1130" y="3034"/>
                  </a:lnTo>
                  <a:lnTo>
                    <a:pt x="1142" y="3032"/>
                  </a:lnTo>
                  <a:lnTo>
                    <a:pt x="1152" y="3026"/>
                  </a:lnTo>
                  <a:lnTo>
                    <a:pt x="1162" y="3018"/>
                  </a:lnTo>
                  <a:lnTo>
                    <a:pt x="1170" y="3010"/>
                  </a:lnTo>
                  <a:lnTo>
                    <a:pt x="1178" y="3000"/>
                  </a:lnTo>
                  <a:lnTo>
                    <a:pt x="1184" y="2988"/>
                  </a:lnTo>
                  <a:lnTo>
                    <a:pt x="1188" y="2974"/>
                  </a:lnTo>
                  <a:lnTo>
                    <a:pt x="1190" y="2958"/>
                  </a:lnTo>
                  <a:lnTo>
                    <a:pt x="1190" y="2942"/>
                  </a:lnTo>
                  <a:lnTo>
                    <a:pt x="1190" y="2942"/>
                  </a:lnTo>
                  <a:lnTo>
                    <a:pt x="1188" y="2928"/>
                  </a:lnTo>
                  <a:lnTo>
                    <a:pt x="1184" y="2916"/>
                  </a:lnTo>
                  <a:lnTo>
                    <a:pt x="1176" y="2894"/>
                  </a:lnTo>
                  <a:lnTo>
                    <a:pt x="1164" y="2874"/>
                  </a:lnTo>
                  <a:lnTo>
                    <a:pt x="1148" y="2858"/>
                  </a:lnTo>
                  <a:lnTo>
                    <a:pt x="1132" y="2846"/>
                  </a:lnTo>
                  <a:lnTo>
                    <a:pt x="1116" y="2838"/>
                  </a:lnTo>
                  <a:lnTo>
                    <a:pt x="1098" y="2832"/>
                  </a:lnTo>
                  <a:lnTo>
                    <a:pt x="1082" y="2830"/>
                  </a:lnTo>
                  <a:lnTo>
                    <a:pt x="1082" y="2830"/>
                  </a:lnTo>
                  <a:close/>
                  <a:moveTo>
                    <a:pt x="994" y="1476"/>
                  </a:moveTo>
                  <a:lnTo>
                    <a:pt x="994" y="1476"/>
                  </a:lnTo>
                  <a:lnTo>
                    <a:pt x="998" y="1478"/>
                  </a:lnTo>
                  <a:lnTo>
                    <a:pt x="1000" y="1482"/>
                  </a:lnTo>
                  <a:lnTo>
                    <a:pt x="1004" y="1494"/>
                  </a:lnTo>
                  <a:lnTo>
                    <a:pt x="1004" y="1528"/>
                  </a:lnTo>
                  <a:lnTo>
                    <a:pt x="1006" y="1548"/>
                  </a:lnTo>
                  <a:lnTo>
                    <a:pt x="1012" y="1568"/>
                  </a:lnTo>
                  <a:lnTo>
                    <a:pt x="1016" y="1576"/>
                  </a:lnTo>
                  <a:lnTo>
                    <a:pt x="1020" y="1584"/>
                  </a:lnTo>
                  <a:lnTo>
                    <a:pt x="1028" y="1590"/>
                  </a:lnTo>
                  <a:lnTo>
                    <a:pt x="1036" y="1594"/>
                  </a:lnTo>
                  <a:lnTo>
                    <a:pt x="1036" y="1594"/>
                  </a:lnTo>
                  <a:lnTo>
                    <a:pt x="1026" y="1594"/>
                  </a:lnTo>
                  <a:lnTo>
                    <a:pt x="1014" y="1590"/>
                  </a:lnTo>
                  <a:lnTo>
                    <a:pt x="1006" y="1586"/>
                  </a:lnTo>
                  <a:lnTo>
                    <a:pt x="998" y="1580"/>
                  </a:lnTo>
                  <a:lnTo>
                    <a:pt x="990" y="1574"/>
                  </a:lnTo>
                  <a:lnTo>
                    <a:pt x="986" y="1566"/>
                  </a:lnTo>
                  <a:lnTo>
                    <a:pt x="980" y="1558"/>
                  </a:lnTo>
                  <a:lnTo>
                    <a:pt x="978" y="1548"/>
                  </a:lnTo>
                  <a:lnTo>
                    <a:pt x="976" y="1538"/>
                  </a:lnTo>
                  <a:lnTo>
                    <a:pt x="974" y="1528"/>
                  </a:lnTo>
                  <a:lnTo>
                    <a:pt x="974" y="1518"/>
                  </a:lnTo>
                  <a:lnTo>
                    <a:pt x="976" y="1510"/>
                  </a:lnTo>
                  <a:lnTo>
                    <a:pt x="978" y="1500"/>
                  </a:lnTo>
                  <a:lnTo>
                    <a:pt x="982" y="1492"/>
                  </a:lnTo>
                  <a:lnTo>
                    <a:pt x="988" y="1484"/>
                  </a:lnTo>
                  <a:lnTo>
                    <a:pt x="994" y="1476"/>
                  </a:lnTo>
                  <a:lnTo>
                    <a:pt x="994" y="1476"/>
                  </a:lnTo>
                  <a:close/>
                  <a:moveTo>
                    <a:pt x="918" y="1018"/>
                  </a:moveTo>
                  <a:lnTo>
                    <a:pt x="918" y="1018"/>
                  </a:lnTo>
                  <a:lnTo>
                    <a:pt x="924" y="1008"/>
                  </a:lnTo>
                  <a:lnTo>
                    <a:pt x="932" y="1000"/>
                  </a:lnTo>
                  <a:lnTo>
                    <a:pt x="940" y="996"/>
                  </a:lnTo>
                  <a:lnTo>
                    <a:pt x="950" y="994"/>
                  </a:lnTo>
                  <a:lnTo>
                    <a:pt x="958" y="996"/>
                  </a:lnTo>
                  <a:lnTo>
                    <a:pt x="964" y="1000"/>
                  </a:lnTo>
                  <a:lnTo>
                    <a:pt x="966" y="1008"/>
                  </a:lnTo>
                  <a:lnTo>
                    <a:pt x="966" y="1016"/>
                  </a:lnTo>
                  <a:lnTo>
                    <a:pt x="966" y="1016"/>
                  </a:lnTo>
                  <a:lnTo>
                    <a:pt x="960" y="1044"/>
                  </a:lnTo>
                  <a:lnTo>
                    <a:pt x="960" y="1054"/>
                  </a:lnTo>
                  <a:lnTo>
                    <a:pt x="960" y="1062"/>
                  </a:lnTo>
                  <a:lnTo>
                    <a:pt x="962" y="1070"/>
                  </a:lnTo>
                  <a:lnTo>
                    <a:pt x="966" y="1076"/>
                  </a:lnTo>
                  <a:lnTo>
                    <a:pt x="970" y="1082"/>
                  </a:lnTo>
                  <a:lnTo>
                    <a:pt x="976" y="1086"/>
                  </a:lnTo>
                  <a:lnTo>
                    <a:pt x="988" y="1094"/>
                  </a:lnTo>
                  <a:lnTo>
                    <a:pt x="1006" y="1100"/>
                  </a:lnTo>
                  <a:lnTo>
                    <a:pt x="1024" y="1106"/>
                  </a:lnTo>
                  <a:lnTo>
                    <a:pt x="1044" y="1114"/>
                  </a:lnTo>
                  <a:lnTo>
                    <a:pt x="1044" y="1114"/>
                  </a:lnTo>
                  <a:lnTo>
                    <a:pt x="1020" y="1122"/>
                  </a:lnTo>
                  <a:lnTo>
                    <a:pt x="998" y="1128"/>
                  </a:lnTo>
                  <a:lnTo>
                    <a:pt x="978" y="1132"/>
                  </a:lnTo>
                  <a:lnTo>
                    <a:pt x="962" y="1132"/>
                  </a:lnTo>
                  <a:lnTo>
                    <a:pt x="948" y="1128"/>
                  </a:lnTo>
                  <a:lnTo>
                    <a:pt x="938" y="1124"/>
                  </a:lnTo>
                  <a:lnTo>
                    <a:pt x="928" y="1116"/>
                  </a:lnTo>
                  <a:lnTo>
                    <a:pt x="922" y="1106"/>
                  </a:lnTo>
                  <a:lnTo>
                    <a:pt x="916" y="1096"/>
                  </a:lnTo>
                  <a:lnTo>
                    <a:pt x="912" y="1086"/>
                  </a:lnTo>
                  <a:lnTo>
                    <a:pt x="910" y="1074"/>
                  </a:lnTo>
                  <a:lnTo>
                    <a:pt x="910" y="1062"/>
                  </a:lnTo>
                  <a:lnTo>
                    <a:pt x="912" y="1038"/>
                  </a:lnTo>
                  <a:lnTo>
                    <a:pt x="918" y="1018"/>
                  </a:lnTo>
                  <a:lnTo>
                    <a:pt x="918" y="1018"/>
                  </a:lnTo>
                  <a:close/>
                  <a:moveTo>
                    <a:pt x="1146" y="86"/>
                  </a:moveTo>
                  <a:lnTo>
                    <a:pt x="1146" y="86"/>
                  </a:lnTo>
                  <a:lnTo>
                    <a:pt x="1138" y="74"/>
                  </a:lnTo>
                  <a:lnTo>
                    <a:pt x="1126" y="64"/>
                  </a:lnTo>
                  <a:lnTo>
                    <a:pt x="1114" y="56"/>
                  </a:lnTo>
                  <a:lnTo>
                    <a:pt x="1100" y="52"/>
                  </a:lnTo>
                  <a:lnTo>
                    <a:pt x="1088" y="48"/>
                  </a:lnTo>
                  <a:lnTo>
                    <a:pt x="1074" y="48"/>
                  </a:lnTo>
                  <a:lnTo>
                    <a:pt x="1060" y="50"/>
                  </a:lnTo>
                  <a:lnTo>
                    <a:pt x="1046" y="56"/>
                  </a:lnTo>
                  <a:lnTo>
                    <a:pt x="1046" y="56"/>
                  </a:lnTo>
                  <a:lnTo>
                    <a:pt x="1050" y="46"/>
                  </a:lnTo>
                  <a:lnTo>
                    <a:pt x="1054" y="40"/>
                  </a:lnTo>
                  <a:lnTo>
                    <a:pt x="1060" y="34"/>
                  </a:lnTo>
                  <a:lnTo>
                    <a:pt x="1066" y="30"/>
                  </a:lnTo>
                  <a:lnTo>
                    <a:pt x="1074" y="26"/>
                  </a:lnTo>
                  <a:lnTo>
                    <a:pt x="1082" y="24"/>
                  </a:lnTo>
                  <a:lnTo>
                    <a:pt x="1090" y="24"/>
                  </a:lnTo>
                  <a:lnTo>
                    <a:pt x="1100" y="26"/>
                  </a:lnTo>
                  <a:lnTo>
                    <a:pt x="1108" y="28"/>
                  </a:lnTo>
                  <a:lnTo>
                    <a:pt x="1116" y="32"/>
                  </a:lnTo>
                  <a:lnTo>
                    <a:pt x="1124" y="38"/>
                  </a:lnTo>
                  <a:lnTo>
                    <a:pt x="1130" y="44"/>
                  </a:lnTo>
                  <a:lnTo>
                    <a:pt x="1136" y="52"/>
                  </a:lnTo>
                  <a:lnTo>
                    <a:pt x="1142" y="62"/>
                  </a:lnTo>
                  <a:lnTo>
                    <a:pt x="1146" y="74"/>
                  </a:lnTo>
                  <a:lnTo>
                    <a:pt x="1146" y="86"/>
                  </a:lnTo>
                  <a:lnTo>
                    <a:pt x="1146" y="86"/>
                  </a:lnTo>
                  <a:close/>
                  <a:moveTo>
                    <a:pt x="1024" y="850"/>
                  </a:moveTo>
                  <a:lnTo>
                    <a:pt x="1024" y="850"/>
                  </a:lnTo>
                  <a:lnTo>
                    <a:pt x="1018" y="830"/>
                  </a:lnTo>
                  <a:lnTo>
                    <a:pt x="1010" y="814"/>
                  </a:lnTo>
                  <a:lnTo>
                    <a:pt x="998" y="796"/>
                  </a:lnTo>
                  <a:lnTo>
                    <a:pt x="986" y="782"/>
                  </a:lnTo>
                  <a:lnTo>
                    <a:pt x="970" y="766"/>
                  </a:lnTo>
                  <a:lnTo>
                    <a:pt x="950" y="754"/>
                  </a:lnTo>
                  <a:lnTo>
                    <a:pt x="928" y="740"/>
                  </a:lnTo>
                  <a:lnTo>
                    <a:pt x="900" y="730"/>
                  </a:lnTo>
                  <a:lnTo>
                    <a:pt x="900" y="730"/>
                  </a:lnTo>
                  <a:lnTo>
                    <a:pt x="918" y="732"/>
                  </a:lnTo>
                  <a:lnTo>
                    <a:pt x="936" y="734"/>
                  </a:lnTo>
                  <a:lnTo>
                    <a:pt x="952" y="738"/>
                  </a:lnTo>
                  <a:lnTo>
                    <a:pt x="968" y="742"/>
                  </a:lnTo>
                  <a:lnTo>
                    <a:pt x="982" y="748"/>
                  </a:lnTo>
                  <a:lnTo>
                    <a:pt x="996" y="756"/>
                  </a:lnTo>
                  <a:lnTo>
                    <a:pt x="1006" y="762"/>
                  </a:lnTo>
                  <a:lnTo>
                    <a:pt x="1016" y="770"/>
                  </a:lnTo>
                  <a:lnTo>
                    <a:pt x="1024" y="780"/>
                  </a:lnTo>
                  <a:lnTo>
                    <a:pt x="1032" y="788"/>
                  </a:lnTo>
                  <a:lnTo>
                    <a:pt x="1036" y="798"/>
                  </a:lnTo>
                  <a:lnTo>
                    <a:pt x="1038" y="808"/>
                  </a:lnTo>
                  <a:lnTo>
                    <a:pt x="1038" y="818"/>
                  </a:lnTo>
                  <a:lnTo>
                    <a:pt x="1036" y="828"/>
                  </a:lnTo>
                  <a:lnTo>
                    <a:pt x="1032" y="838"/>
                  </a:lnTo>
                  <a:lnTo>
                    <a:pt x="1024" y="850"/>
                  </a:lnTo>
                  <a:lnTo>
                    <a:pt x="1024" y="850"/>
                  </a:lnTo>
                  <a:close/>
                  <a:moveTo>
                    <a:pt x="814" y="508"/>
                  </a:moveTo>
                  <a:lnTo>
                    <a:pt x="814" y="508"/>
                  </a:lnTo>
                  <a:lnTo>
                    <a:pt x="810" y="524"/>
                  </a:lnTo>
                  <a:lnTo>
                    <a:pt x="808" y="542"/>
                  </a:lnTo>
                  <a:lnTo>
                    <a:pt x="810" y="560"/>
                  </a:lnTo>
                  <a:lnTo>
                    <a:pt x="814" y="578"/>
                  </a:lnTo>
                  <a:lnTo>
                    <a:pt x="822" y="594"/>
                  </a:lnTo>
                  <a:lnTo>
                    <a:pt x="830" y="608"/>
                  </a:lnTo>
                  <a:lnTo>
                    <a:pt x="840" y="622"/>
                  </a:lnTo>
                  <a:lnTo>
                    <a:pt x="852" y="632"/>
                  </a:lnTo>
                  <a:lnTo>
                    <a:pt x="852" y="632"/>
                  </a:lnTo>
                  <a:lnTo>
                    <a:pt x="840" y="630"/>
                  </a:lnTo>
                  <a:lnTo>
                    <a:pt x="828" y="626"/>
                  </a:lnTo>
                  <a:lnTo>
                    <a:pt x="818" y="620"/>
                  </a:lnTo>
                  <a:lnTo>
                    <a:pt x="810" y="614"/>
                  </a:lnTo>
                  <a:lnTo>
                    <a:pt x="802" y="608"/>
                  </a:lnTo>
                  <a:lnTo>
                    <a:pt x="794" y="600"/>
                  </a:lnTo>
                  <a:lnTo>
                    <a:pt x="788" y="592"/>
                  </a:lnTo>
                  <a:lnTo>
                    <a:pt x="784" y="582"/>
                  </a:lnTo>
                  <a:lnTo>
                    <a:pt x="782" y="574"/>
                  </a:lnTo>
                  <a:lnTo>
                    <a:pt x="782" y="564"/>
                  </a:lnTo>
                  <a:lnTo>
                    <a:pt x="782" y="554"/>
                  </a:lnTo>
                  <a:lnTo>
                    <a:pt x="784" y="544"/>
                  </a:lnTo>
                  <a:lnTo>
                    <a:pt x="788" y="534"/>
                  </a:lnTo>
                  <a:lnTo>
                    <a:pt x="796" y="524"/>
                  </a:lnTo>
                  <a:lnTo>
                    <a:pt x="804" y="516"/>
                  </a:lnTo>
                  <a:lnTo>
                    <a:pt x="814" y="508"/>
                  </a:lnTo>
                  <a:lnTo>
                    <a:pt x="814" y="508"/>
                  </a:lnTo>
                  <a:close/>
                  <a:moveTo>
                    <a:pt x="418" y="1834"/>
                  </a:moveTo>
                  <a:lnTo>
                    <a:pt x="418" y="1834"/>
                  </a:lnTo>
                  <a:lnTo>
                    <a:pt x="412" y="1822"/>
                  </a:lnTo>
                  <a:lnTo>
                    <a:pt x="406" y="1810"/>
                  </a:lnTo>
                  <a:lnTo>
                    <a:pt x="402" y="1796"/>
                  </a:lnTo>
                  <a:lnTo>
                    <a:pt x="400" y="1782"/>
                  </a:lnTo>
                  <a:lnTo>
                    <a:pt x="398" y="1766"/>
                  </a:lnTo>
                  <a:lnTo>
                    <a:pt x="398" y="1752"/>
                  </a:lnTo>
                  <a:lnTo>
                    <a:pt x="402" y="1726"/>
                  </a:lnTo>
                  <a:lnTo>
                    <a:pt x="402" y="1726"/>
                  </a:lnTo>
                  <a:lnTo>
                    <a:pt x="392" y="1728"/>
                  </a:lnTo>
                  <a:lnTo>
                    <a:pt x="384" y="1728"/>
                  </a:lnTo>
                  <a:lnTo>
                    <a:pt x="376" y="1732"/>
                  </a:lnTo>
                  <a:lnTo>
                    <a:pt x="368" y="1736"/>
                  </a:lnTo>
                  <a:lnTo>
                    <a:pt x="352" y="1748"/>
                  </a:lnTo>
                  <a:lnTo>
                    <a:pt x="340" y="1764"/>
                  </a:lnTo>
                  <a:lnTo>
                    <a:pt x="330" y="1782"/>
                  </a:lnTo>
                  <a:lnTo>
                    <a:pt x="324" y="1806"/>
                  </a:lnTo>
                  <a:lnTo>
                    <a:pt x="322" y="1830"/>
                  </a:lnTo>
                  <a:lnTo>
                    <a:pt x="324" y="1858"/>
                  </a:lnTo>
                  <a:lnTo>
                    <a:pt x="324" y="1858"/>
                  </a:lnTo>
                  <a:lnTo>
                    <a:pt x="316" y="1836"/>
                  </a:lnTo>
                  <a:lnTo>
                    <a:pt x="312" y="1814"/>
                  </a:lnTo>
                  <a:lnTo>
                    <a:pt x="308" y="1790"/>
                  </a:lnTo>
                  <a:lnTo>
                    <a:pt x="310" y="1764"/>
                  </a:lnTo>
                  <a:lnTo>
                    <a:pt x="314" y="1752"/>
                  </a:lnTo>
                  <a:lnTo>
                    <a:pt x="318" y="1740"/>
                  </a:lnTo>
                  <a:lnTo>
                    <a:pt x="322" y="1728"/>
                  </a:lnTo>
                  <a:lnTo>
                    <a:pt x="330" y="1716"/>
                  </a:lnTo>
                  <a:lnTo>
                    <a:pt x="338" y="1704"/>
                  </a:lnTo>
                  <a:lnTo>
                    <a:pt x="348" y="1694"/>
                  </a:lnTo>
                  <a:lnTo>
                    <a:pt x="360" y="1684"/>
                  </a:lnTo>
                  <a:lnTo>
                    <a:pt x="374" y="1674"/>
                  </a:lnTo>
                  <a:lnTo>
                    <a:pt x="374" y="1674"/>
                  </a:lnTo>
                  <a:lnTo>
                    <a:pt x="402" y="1662"/>
                  </a:lnTo>
                  <a:lnTo>
                    <a:pt x="430" y="1652"/>
                  </a:lnTo>
                  <a:lnTo>
                    <a:pt x="458" y="1646"/>
                  </a:lnTo>
                  <a:lnTo>
                    <a:pt x="490" y="1642"/>
                  </a:lnTo>
                  <a:lnTo>
                    <a:pt x="522" y="1644"/>
                  </a:lnTo>
                  <a:lnTo>
                    <a:pt x="558" y="1648"/>
                  </a:lnTo>
                  <a:lnTo>
                    <a:pt x="596" y="1656"/>
                  </a:lnTo>
                  <a:lnTo>
                    <a:pt x="638" y="1670"/>
                  </a:lnTo>
                  <a:lnTo>
                    <a:pt x="638" y="1670"/>
                  </a:lnTo>
                  <a:lnTo>
                    <a:pt x="604" y="1664"/>
                  </a:lnTo>
                  <a:lnTo>
                    <a:pt x="576" y="1662"/>
                  </a:lnTo>
                  <a:lnTo>
                    <a:pt x="550" y="1660"/>
                  </a:lnTo>
                  <a:lnTo>
                    <a:pt x="528" y="1662"/>
                  </a:lnTo>
                  <a:lnTo>
                    <a:pt x="510" y="1666"/>
                  </a:lnTo>
                  <a:lnTo>
                    <a:pt x="492" y="1672"/>
                  </a:lnTo>
                  <a:lnTo>
                    <a:pt x="478" y="1680"/>
                  </a:lnTo>
                  <a:lnTo>
                    <a:pt x="466" y="1690"/>
                  </a:lnTo>
                  <a:lnTo>
                    <a:pt x="456" y="1700"/>
                  </a:lnTo>
                  <a:lnTo>
                    <a:pt x="448" y="1714"/>
                  </a:lnTo>
                  <a:lnTo>
                    <a:pt x="440" y="1730"/>
                  </a:lnTo>
                  <a:lnTo>
                    <a:pt x="434" y="1748"/>
                  </a:lnTo>
                  <a:lnTo>
                    <a:pt x="430" y="1766"/>
                  </a:lnTo>
                  <a:lnTo>
                    <a:pt x="426" y="1786"/>
                  </a:lnTo>
                  <a:lnTo>
                    <a:pt x="418" y="1834"/>
                  </a:lnTo>
                  <a:lnTo>
                    <a:pt x="418" y="1834"/>
                  </a:lnTo>
                  <a:close/>
                  <a:moveTo>
                    <a:pt x="768" y="2050"/>
                  </a:moveTo>
                  <a:lnTo>
                    <a:pt x="768" y="2050"/>
                  </a:lnTo>
                  <a:lnTo>
                    <a:pt x="774" y="2038"/>
                  </a:lnTo>
                  <a:lnTo>
                    <a:pt x="780" y="2024"/>
                  </a:lnTo>
                  <a:lnTo>
                    <a:pt x="782" y="2010"/>
                  </a:lnTo>
                  <a:lnTo>
                    <a:pt x="782" y="1996"/>
                  </a:lnTo>
                  <a:lnTo>
                    <a:pt x="780" y="1982"/>
                  </a:lnTo>
                  <a:lnTo>
                    <a:pt x="776" y="1970"/>
                  </a:lnTo>
                  <a:lnTo>
                    <a:pt x="768" y="1956"/>
                  </a:lnTo>
                  <a:lnTo>
                    <a:pt x="758" y="1944"/>
                  </a:lnTo>
                  <a:lnTo>
                    <a:pt x="758" y="1944"/>
                  </a:lnTo>
                  <a:lnTo>
                    <a:pt x="770" y="1948"/>
                  </a:lnTo>
                  <a:lnTo>
                    <a:pt x="780" y="1954"/>
                  </a:lnTo>
                  <a:lnTo>
                    <a:pt x="790" y="1962"/>
                  </a:lnTo>
                  <a:lnTo>
                    <a:pt x="796" y="1968"/>
                  </a:lnTo>
                  <a:lnTo>
                    <a:pt x="802" y="1978"/>
                  </a:lnTo>
                  <a:lnTo>
                    <a:pt x="804" y="1986"/>
                  </a:lnTo>
                  <a:lnTo>
                    <a:pt x="806" y="1994"/>
                  </a:lnTo>
                  <a:lnTo>
                    <a:pt x="808" y="2004"/>
                  </a:lnTo>
                  <a:lnTo>
                    <a:pt x="806" y="2012"/>
                  </a:lnTo>
                  <a:lnTo>
                    <a:pt x="804" y="2022"/>
                  </a:lnTo>
                  <a:lnTo>
                    <a:pt x="802" y="2028"/>
                  </a:lnTo>
                  <a:lnTo>
                    <a:pt x="796" y="2036"/>
                  </a:lnTo>
                  <a:lnTo>
                    <a:pt x="790" y="2042"/>
                  </a:lnTo>
                  <a:lnTo>
                    <a:pt x="784" y="2046"/>
                  </a:lnTo>
                  <a:lnTo>
                    <a:pt x="776" y="2048"/>
                  </a:lnTo>
                  <a:lnTo>
                    <a:pt x="768" y="2050"/>
                  </a:lnTo>
                  <a:lnTo>
                    <a:pt x="768" y="2050"/>
                  </a:lnTo>
                  <a:close/>
                  <a:moveTo>
                    <a:pt x="1026" y="2162"/>
                  </a:moveTo>
                  <a:lnTo>
                    <a:pt x="1026" y="2162"/>
                  </a:lnTo>
                  <a:lnTo>
                    <a:pt x="1040" y="2160"/>
                  </a:lnTo>
                  <a:lnTo>
                    <a:pt x="1054" y="2160"/>
                  </a:lnTo>
                  <a:lnTo>
                    <a:pt x="1066" y="2162"/>
                  </a:lnTo>
                  <a:lnTo>
                    <a:pt x="1078" y="2168"/>
                  </a:lnTo>
                  <a:lnTo>
                    <a:pt x="1096" y="2176"/>
                  </a:lnTo>
                  <a:lnTo>
                    <a:pt x="1104" y="2182"/>
                  </a:lnTo>
                  <a:lnTo>
                    <a:pt x="1104" y="2182"/>
                  </a:lnTo>
                  <a:lnTo>
                    <a:pt x="1086" y="2134"/>
                  </a:lnTo>
                  <a:lnTo>
                    <a:pt x="1078" y="2110"/>
                  </a:lnTo>
                  <a:lnTo>
                    <a:pt x="1072" y="2090"/>
                  </a:lnTo>
                  <a:lnTo>
                    <a:pt x="1068" y="2068"/>
                  </a:lnTo>
                  <a:lnTo>
                    <a:pt x="1068" y="2046"/>
                  </a:lnTo>
                  <a:lnTo>
                    <a:pt x="1070" y="2026"/>
                  </a:lnTo>
                  <a:lnTo>
                    <a:pt x="1076" y="2004"/>
                  </a:lnTo>
                  <a:lnTo>
                    <a:pt x="1076" y="2004"/>
                  </a:lnTo>
                  <a:lnTo>
                    <a:pt x="1088" y="2024"/>
                  </a:lnTo>
                  <a:lnTo>
                    <a:pt x="1098" y="2044"/>
                  </a:lnTo>
                  <a:lnTo>
                    <a:pt x="1106" y="2068"/>
                  </a:lnTo>
                  <a:lnTo>
                    <a:pt x="1114" y="2092"/>
                  </a:lnTo>
                  <a:lnTo>
                    <a:pt x="1130" y="2144"/>
                  </a:lnTo>
                  <a:lnTo>
                    <a:pt x="1140" y="2202"/>
                  </a:lnTo>
                  <a:lnTo>
                    <a:pt x="1146" y="2260"/>
                  </a:lnTo>
                  <a:lnTo>
                    <a:pt x="1150" y="2322"/>
                  </a:lnTo>
                  <a:lnTo>
                    <a:pt x="1150" y="2352"/>
                  </a:lnTo>
                  <a:lnTo>
                    <a:pt x="1148" y="2382"/>
                  </a:lnTo>
                  <a:lnTo>
                    <a:pt x="1146" y="2412"/>
                  </a:lnTo>
                  <a:lnTo>
                    <a:pt x="1142" y="2440"/>
                  </a:lnTo>
                  <a:lnTo>
                    <a:pt x="1142" y="2440"/>
                  </a:lnTo>
                  <a:lnTo>
                    <a:pt x="1136" y="2390"/>
                  </a:lnTo>
                  <a:lnTo>
                    <a:pt x="1128" y="2344"/>
                  </a:lnTo>
                  <a:lnTo>
                    <a:pt x="1116" y="2302"/>
                  </a:lnTo>
                  <a:lnTo>
                    <a:pt x="1100" y="2264"/>
                  </a:lnTo>
                  <a:lnTo>
                    <a:pt x="1084" y="2230"/>
                  </a:lnTo>
                  <a:lnTo>
                    <a:pt x="1066" y="2202"/>
                  </a:lnTo>
                  <a:lnTo>
                    <a:pt x="1046" y="2178"/>
                  </a:lnTo>
                  <a:lnTo>
                    <a:pt x="1026" y="2162"/>
                  </a:lnTo>
                  <a:lnTo>
                    <a:pt x="1026" y="2162"/>
                  </a:lnTo>
                  <a:close/>
                  <a:moveTo>
                    <a:pt x="442" y="2510"/>
                  </a:moveTo>
                  <a:lnTo>
                    <a:pt x="442" y="2510"/>
                  </a:lnTo>
                  <a:lnTo>
                    <a:pt x="440" y="2498"/>
                  </a:lnTo>
                  <a:lnTo>
                    <a:pt x="440" y="2486"/>
                  </a:lnTo>
                  <a:lnTo>
                    <a:pt x="444" y="2478"/>
                  </a:lnTo>
                  <a:lnTo>
                    <a:pt x="446" y="2470"/>
                  </a:lnTo>
                  <a:lnTo>
                    <a:pt x="452" y="2464"/>
                  </a:lnTo>
                  <a:lnTo>
                    <a:pt x="456" y="2460"/>
                  </a:lnTo>
                  <a:lnTo>
                    <a:pt x="462" y="2456"/>
                  </a:lnTo>
                  <a:lnTo>
                    <a:pt x="470" y="2454"/>
                  </a:lnTo>
                  <a:lnTo>
                    <a:pt x="484" y="2454"/>
                  </a:lnTo>
                  <a:lnTo>
                    <a:pt x="496" y="2458"/>
                  </a:lnTo>
                  <a:lnTo>
                    <a:pt x="506" y="2464"/>
                  </a:lnTo>
                  <a:lnTo>
                    <a:pt x="510" y="2470"/>
                  </a:lnTo>
                  <a:lnTo>
                    <a:pt x="512" y="2474"/>
                  </a:lnTo>
                  <a:lnTo>
                    <a:pt x="512" y="2474"/>
                  </a:lnTo>
                  <a:lnTo>
                    <a:pt x="520" y="2500"/>
                  </a:lnTo>
                  <a:lnTo>
                    <a:pt x="524" y="2510"/>
                  </a:lnTo>
                  <a:lnTo>
                    <a:pt x="528" y="2516"/>
                  </a:lnTo>
                  <a:lnTo>
                    <a:pt x="534" y="2522"/>
                  </a:lnTo>
                  <a:lnTo>
                    <a:pt x="540" y="2526"/>
                  </a:lnTo>
                  <a:lnTo>
                    <a:pt x="546" y="2528"/>
                  </a:lnTo>
                  <a:lnTo>
                    <a:pt x="552" y="2528"/>
                  </a:lnTo>
                  <a:lnTo>
                    <a:pt x="568" y="2528"/>
                  </a:lnTo>
                  <a:lnTo>
                    <a:pt x="584" y="2522"/>
                  </a:lnTo>
                  <a:lnTo>
                    <a:pt x="604" y="2518"/>
                  </a:lnTo>
                  <a:lnTo>
                    <a:pt x="624" y="2512"/>
                  </a:lnTo>
                  <a:lnTo>
                    <a:pt x="624" y="2512"/>
                  </a:lnTo>
                  <a:lnTo>
                    <a:pt x="606" y="2534"/>
                  </a:lnTo>
                  <a:lnTo>
                    <a:pt x="590" y="2552"/>
                  </a:lnTo>
                  <a:lnTo>
                    <a:pt x="574" y="2566"/>
                  </a:lnTo>
                  <a:lnTo>
                    <a:pt x="558" y="2574"/>
                  </a:lnTo>
                  <a:lnTo>
                    <a:pt x="542" y="2580"/>
                  </a:lnTo>
                  <a:lnTo>
                    <a:pt x="528" y="2584"/>
                  </a:lnTo>
                  <a:lnTo>
                    <a:pt x="514" y="2582"/>
                  </a:lnTo>
                  <a:lnTo>
                    <a:pt x="502" y="2580"/>
                  </a:lnTo>
                  <a:lnTo>
                    <a:pt x="490" y="2576"/>
                  </a:lnTo>
                  <a:lnTo>
                    <a:pt x="478" y="2568"/>
                  </a:lnTo>
                  <a:lnTo>
                    <a:pt x="468" y="2560"/>
                  </a:lnTo>
                  <a:lnTo>
                    <a:pt x="460" y="2550"/>
                  </a:lnTo>
                  <a:lnTo>
                    <a:pt x="454" y="2540"/>
                  </a:lnTo>
                  <a:lnTo>
                    <a:pt x="448" y="2530"/>
                  </a:lnTo>
                  <a:lnTo>
                    <a:pt x="444" y="2520"/>
                  </a:lnTo>
                  <a:lnTo>
                    <a:pt x="442" y="2510"/>
                  </a:lnTo>
                  <a:lnTo>
                    <a:pt x="442" y="2510"/>
                  </a:lnTo>
                  <a:close/>
                  <a:moveTo>
                    <a:pt x="514" y="2920"/>
                  </a:moveTo>
                  <a:lnTo>
                    <a:pt x="462" y="2910"/>
                  </a:lnTo>
                  <a:lnTo>
                    <a:pt x="462" y="2910"/>
                  </a:lnTo>
                  <a:lnTo>
                    <a:pt x="462" y="2904"/>
                  </a:lnTo>
                  <a:lnTo>
                    <a:pt x="462" y="2898"/>
                  </a:lnTo>
                  <a:lnTo>
                    <a:pt x="462" y="2892"/>
                  </a:lnTo>
                  <a:lnTo>
                    <a:pt x="460" y="2884"/>
                  </a:lnTo>
                  <a:lnTo>
                    <a:pt x="456" y="2878"/>
                  </a:lnTo>
                  <a:lnTo>
                    <a:pt x="448" y="2870"/>
                  </a:lnTo>
                  <a:lnTo>
                    <a:pt x="430" y="2852"/>
                  </a:lnTo>
                  <a:lnTo>
                    <a:pt x="430" y="2852"/>
                  </a:lnTo>
                  <a:lnTo>
                    <a:pt x="422" y="2844"/>
                  </a:lnTo>
                  <a:lnTo>
                    <a:pt x="416" y="2836"/>
                  </a:lnTo>
                  <a:lnTo>
                    <a:pt x="410" y="2822"/>
                  </a:lnTo>
                  <a:lnTo>
                    <a:pt x="408" y="2816"/>
                  </a:lnTo>
                  <a:lnTo>
                    <a:pt x="402" y="2808"/>
                  </a:lnTo>
                  <a:lnTo>
                    <a:pt x="396" y="2800"/>
                  </a:lnTo>
                  <a:lnTo>
                    <a:pt x="384" y="2788"/>
                  </a:lnTo>
                  <a:lnTo>
                    <a:pt x="384" y="2788"/>
                  </a:lnTo>
                  <a:lnTo>
                    <a:pt x="406" y="2804"/>
                  </a:lnTo>
                  <a:lnTo>
                    <a:pt x="430" y="2822"/>
                  </a:lnTo>
                  <a:lnTo>
                    <a:pt x="456" y="2840"/>
                  </a:lnTo>
                  <a:lnTo>
                    <a:pt x="468" y="2846"/>
                  </a:lnTo>
                  <a:lnTo>
                    <a:pt x="480" y="2852"/>
                  </a:lnTo>
                  <a:lnTo>
                    <a:pt x="480" y="2852"/>
                  </a:lnTo>
                  <a:lnTo>
                    <a:pt x="490" y="2856"/>
                  </a:lnTo>
                  <a:lnTo>
                    <a:pt x="502" y="2864"/>
                  </a:lnTo>
                  <a:lnTo>
                    <a:pt x="512" y="2874"/>
                  </a:lnTo>
                  <a:lnTo>
                    <a:pt x="520" y="2882"/>
                  </a:lnTo>
                  <a:lnTo>
                    <a:pt x="524" y="2892"/>
                  </a:lnTo>
                  <a:lnTo>
                    <a:pt x="526" y="2902"/>
                  </a:lnTo>
                  <a:lnTo>
                    <a:pt x="524" y="2908"/>
                  </a:lnTo>
                  <a:lnTo>
                    <a:pt x="522" y="2912"/>
                  </a:lnTo>
                  <a:lnTo>
                    <a:pt x="518" y="2916"/>
                  </a:lnTo>
                  <a:lnTo>
                    <a:pt x="514" y="2920"/>
                  </a:lnTo>
                  <a:lnTo>
                    <a:pt x="514" y="2920"/>
                  </a:lnTo>
                  <a:close/>
                  <a:moveTo>
                    <a:pt x="646" y="2872"/>
                  </a:moveTo>
                  <a:lnTo>
                    <a:pt x="646" y="2872"/>
                  </a:lnTo>
                  <a:lnTo>
                    <a:pt x="626" y="2886"/>
                  </a:lnTo>
                  <a:lnTo>
                    <a:pt x="620" y="2892"/>
                  </a:lnTo>
                  <a:lnTo>
                    <a:pt x="614" y="2898"/>
                  </a:lnTo>
                  <a:lnTo>
                    <a:pt x="612" y="2904"/>
                  </a:lnTo>
                  <a:lnTo>
                    <a:pt x="610" y="2910"/>
                  </a:lnTo>
                  <a:lnTo>
                    <a:pt x="610" y="2922"/>
                  </a:lnTo>
                  <a:lnTo>
                    <a:pt x="556" y="2922"/>
                  </a:lnTo>
                  <a:lnTo>
                    <a:pt x="556" y="2922"/>
                  </a:lnTo>
                  <a:lnTo>
                    <a:pt x="552" y="2916"/>
                  </a:lnTo>
                  <a:lnTo>
                    <a:pt x="550" y="2912"/>
                  </a:lnTo>
                  <a:lnTo>
                    <a:pt x="548" y="2908"/>
                  </a:lnTo>
                  <a:lnTo>
                    <a:pt x="548" y="2902"/>
                  </a:lnTo>
                  <a:lnTo>
                    <a:pt x="550" y="2894"/>
                  </a:lnTo>
                  <a:lnTo>
                    <a:pt x="556" y="2884"/>
                  </a:lnTo>
                  <a:lnTo>
                    <a:pt x="564" y="2876"/>
                  </a:lnTo>
                  <a:lnTo>
                    <a:pt x="574" y="2870"/>
                  </a:lnTo>
                  <a:lnTo>
                    <a:pt x="586" y="2864"/>
                  </a:lnTo>
                  <a:lnTo>
                    <a:pt x="598" y="2862"/>
                  </a:lnTo>
                  <a:lnTo>
                    <a:pt x="598" y="2862"/>
                  </a:lnTo>
                  <a:lnTo>
                    <a:pt x="624" y="2856"/>
                  </a:lnTo>
                  <a:lnTo>
                    <a:pt x="650" y="2846"/>
                  </a:lnTo>
                  <a:lnTo>
                    <a:pt x="702" y="2828"/>
                  </a:lnTo>
                  <a:lnTo>
                    <a:pt x="702" y="2828"/>
                  </a:lnTo>
                  <a:lnTo>
                    <a:pt x="680" y="2842"/>
                  </a:lnTo>
                  <a:lnTo>
                    <a:pt x="670" y="2852"/>
                  </a:lnTo>
                  <a:lnTo>
                    <a:pt x="664" y="2860"/>
                  </a:lnTo>
                  <a:lnTo>
                    <a:pt x="656" y="2866"/>
                  </a:lnTo>
                  <a:lnTo>
                    <a:pt x="646" y="2872"/>
                  </a:lnTo>
                  <a:lnTo>
                    <a:pt x="646" y="2872"/>
                  </a:lnTo>
                  <a:close/>
                  <a:moveTo>
                    <a:pt x="1080" y="2994"/>
                  </a:moveTo>
                  <a:lnTo>
                    <a:pt x="1080" y="2994"/>
                  </a:lnTo>
                  <a:lnTo>
                    <a:pt x="1082" y="2990"/>
                  </a:lnTo>
                  <a:lnTo>
                    <a:pt x="1084" y="2988"/>
                  </a:lnTo>
                  <a:lnTo>
                    <a:pt x="1092" y="2984"/>
                  </a:lnTo>
                  <a:lnTo>
                    <a:pt x="1120" y="2980"/>
                  </a:lnTo>
                  <a:lnTo>
                    <a:pt x="1134" y="2976"/>
                  </a:lnTo>
                  <a:lnTo>
                    <a:pt x="1148" y="2970"/>
                  </a:lnTo>
                  <a:lnTo>
                    <a:pt x="1154" y="2966"/>
                  </a:lnTo>
                  <a:lnTo>
                    <a:pt x="1160" y="2960"/>
                  </a:lnTo>
                  <a:lnTo>
                    <a:pt x="1164" y="2954"/>
                  </a:lnTo>
                  <a:lnTo>
                    <a:pt x="1168" y="2944"/>
                  </a:lnTo>
                  <a:lnTo>
                    <a:pt x="1168" y="2944"/>
                  </a:lnTo>
                  <a:lnTo>
                    <a:pt x="1168" y="2956"/>
                  </a:lnTo>
                  <a:lnTo>
                    <a:pt x="1166" y="2966"/>
                  </a:lnTo>
                  <a:lnTo>
                    <a:pt x="1162" y="2974"/>
                  </a:lnTo>
                  <a:lnTo>
                    <a:pt x="1158" y="2982"/>
                  </a:lnTo>
                  <a:lnTo>
                    <a:pt x="1154" y="2990"/>
                  </a:lnTo>
                  <a:lnTo>
                    <a:pt x="1148" y="2996"/>
                  </a:lnTo>
                  <a:lnTo>
                    <a:pt x="1134" y="3004"/>
                  </a:lnTo>
                  <a:lnTo>
                    <a:pt x="1120" y="3008"/>
                  </a:lnTo>
                  <a:lnTo>
                    <a:pt x="1106" y="3008"/>
                  </a:lnTo>
                  <a:lnTo>
                    <a:pt x="1098" y="3006"/>
                  </a:lnTo>
                  <a:lnTo>
                    <a:pt x="1092" y="3004"/>
                  </a:lnTo>
                  <a:lnTo>
                    <a:pt x="1086" y="3000"/>
                  </a:lnTo>
                  <a:lnTo>
                    <a:pt x="1080" y="2994"/>
                  </a:lnTo>
                  <a:lnTo>
                    <a:pt x="1080" y="2994"/>
                  </a:lnTo>
                  <a:close/>
                </a:path>
              </a:pathLst>
            </a:custGeom>
            <a:solidFill>
              <a:srgbClr val="947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460240" y="8877240"/>
              <a:ext cx="431640" cy="4633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72" h="292">
                  <a:moveTo>
                    <a:pt x="268" y="102"/>
                  </a:moveTo>
                  <a:lnTo>
                    <a:pt x="268" y="102"/>
                  </a:lnTo>
                  <a:lnTo>
                    <a:pt x="258" y="74"/>
                  </a:lnTo>
                  <a:lnTo>
                    <a:pt x="248" y="48"/>
                  </a:lnTo>
                  <a:lnTo>
                    <a:pt x="240" y="36"/>
                  </a:lnTo>
                  <a:lnTo>
                    <a:pt x="232" y="24"/>
                  </a:lnTo>
                  <a:lnTo>
                    <a:pt x="220" y="12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188" y="32"/>
                  </a:lnTo>
                  <a:lnTo>
                    <a:pt x="176" y="56"/>
                  </a:lnTo>
                  <a:lnTo>
                    <a:pt x="176" y="56"/>
                  </a:lnTo>
                  <a:lnTo>
                    <a:pt x="162" y="52"/>
                  </a:lnTo>
                  <a:lnTo>
                    <a:pt x="148" y="48"/>
                  </a:lnTo>
                  <a:lnTo>
                    <a:pt x="136" y="48"/>
                  </a:lnTo>
                  <a:lnTo>
                    <a:pt x="124" y="50"/>
                  </a:lnTo>
                  <a:lnTo>
                    <a:pt x="112" y="52"/>
                  </a:lnTo>
                  <a:lnTo>
                    <a:pt x="102" y="58"/>
                  </a:lnTo>
                  <a:lnTo>
                    <a:pt x="92" y="64"/>
                  </a:lnTo>
                  <a:lnTo>
                    <a:pt x="84" y="72"/>
                  </a:lnTo>
                  <a:lnTo>
                    <a:pt x="78" y="80"/>
                  </a:lnTo>
                  <a:lnTo>
                    <a:pt x="74" y="90"/>
                  </a:lnTo>
                  <a:lnTo>
                    <a:pt x="72" y="102"/>
                  </a:lnTo>
                  <a:lnTo>
                    <a:pt x="72" y="114"/>
                  </a:lnTo>
                  <a:lnTo>
                    <a:pt x="74" y="126"/>
                  </a:lnTo>
                  <a:lnTo>
                    <a:pt x="78" y="140"/>
                  </a:lnTo>
                  <a:lnTo>
                    <a:pt x="84" y="154"/>
                  </a:lnTo>
                  <a:lnTo>
                    <a:pt x="94" y="168"/>
                  </a:lnTo>
                  <a:lnTo>
                    <a:pt x="94" y="168"/>
                  </a:lnTo>
                  <a:lnTo>
                    <a:pt x="96" y="152"/>
                  </a:lnTo>
                  <a:lnTo>
                    <a:pt x="102" y="142"/>
                  </a:lnTo>
                  <a:lnTo>
                    <a:pt x="110" y="138"/>
                  </a:lnTo>
                  <a:lnTo>
                    <a:pt x="120" y="136"/>
                  </a:lnTo>
                  <a:lnTo>
                    <a:pt x="130" y="138"/>
                  </a:lnTo>
                  <a:lnTo>
                    <a:pt x="142" y="142"/>
                  </a:lnTo>
                  <a:lnTo>
                    <a:pt x="152" y="150"/>
                  </a:lnTo>
                  <a:lnTo>
                    <a:pt x="160" y="158"/>
                  </a:lnTo>
                  <a:lnTo>
                    <a:pt x="168" y="170"/>
                  </a:lnTo>
                  <a:lnTo>
                    <a:pt x="172" y="182"/>
                  </a:lnTo>
                  <a:lnTo>
                    <a:pt x="174" y="194"/>
                  </a:lnTo>
                  <a:lnTo>
                    <a:pt x="172" y="206"/>
                  </a:lnTo>
                  <a:lnTo>
                    <a:pt x="166" y="218"/>
                  </a:lnTo>
                  <a:lnTo>
                    <a:pt x="154" y="228"/>
                  </a:lnTo>
                  <a:lnTo>
                    <a:pt x="136" y="236"/>
                  </a:lnTo>
                  <a:lnTo>
                    <a:pt x="112" y="244"/>
                  </a:lnTo>
                  <a:lnTo>
                    <a:pt x="112" y="244"/>
                  </a:lnTo>
                  <a:lnTo>
                    <a:pt x="102" y="244"/>
                  </a:lnTo>
                  <a:lnTo>
                    <a:pt x="94" y="244"/>
                  </a:lnTo>
                  <a:lnTo>
                    <a:pt x="84" y="244"/>
                  </a:lnTo>
                  <a:lnTo>
                    <a:pt x="76" y="240"/>
                  </a:lnTo>
                  <a:lnTo>
                    <a:pt x="66" y="236"/>
                  </a:lnTo>
                  <a:lnTo>
                    <a:pt x="58" y="232"/>
                  </a:lnTo>
                  <a:lnTo>
                    <a:pt x="52" y="226"/>
                  </a:lnTo>
                  <a:lnTo>
                    <a:pt x="44" y="218"/>
                  </a:lnTo>
                  <a:lnTo>
                    <a:pt x="38" y="210"/>
                  </a:lnTo>
                  <a:lnTo>
                    <a:pt x="32" y="200"/>
                  </a:lnTo>
                  <a:lnTo>
                    <a:pt x="28" y="190"/>
                  </a:lnTo>
                  <a:lnTo>
                    <a:pt x="24" y="178"/>
                  </a:lnTo>
                  <a:lnTo>
                    <a:pt x="22" y="166"/>
                  </a:lnTo>
                  <a:lnTo>
                    <a:pt x="20" y="152"/>
                  </a:lnTo>
                  <a:lnTo>
                    <a:pt x="20" y="138"/>
                  </a:lnTo>
                  <a:lnTo>
                    <a:pt x="20" y="122"/>
                  </a:lnTo>
                  <a:lnTo>
                    <a:pt x="20" y="122"/>
                  </a:lnTo>
                  <a:lnTo>
                    <a:pt x="10" y="134"/>
                  </a:lnTo>
                  <a:lnTo>
                    <a:pt x="4" y="148"/>
                  </a:lnTo>
                  <a:lnTo>
                    <a:pt x="0" y="164"/>
                  </a:lnTo>
                  <a:lnTo>
                    <a:pt x="0" y="182"/>
                  </a:lnTo>
                  <a:lnTo>
                    <a:pt x="0" y="200"/>
                  </a:lnTo>
                  <a:lnTo>
                    <a:pt x="6" y="218"/>
                  </a:lnTo>
                  <a:lnTo>
                    <a:pt x="12" y="234"/>
                  </a:lnTo>
                  <a:lnTo>
                    <a:pt x="22" y="250"/>
                  </a:lnTo>
                  <a:lnTo>
                    <a:pt x="22" y="250"/>
                  </a:lnTo>
                  <a:lnTo>
                    <a:pt x="26" y="256"/>
                  </a:lnTo>
                  <a:lnTo>
                    <a:pt x="34" y="264"/>
                  </a:lnTo>
                  <a:lnTo>
                    <a:pt x="50" y="274"/>
                  </a:lnTo>
                  <a:lnTo>
                    <a:pt x="72" y="282"/>
                  </a:lnTo>
                  <a:lnTo>
                    <a:pt x="96" y="290"/>
                  </a:lnTo>
                  <a:lnTo>
                    <a:pt x="96" y="290"/>
                  </a:lnTo>
                  <a:lnTo>
                    <a:pt x="120" y="292"/>
                  </a:lnTo>
                  <a:lnTo>
                    <a:pt x="146" y="290"/>
                  </a:lnTo>
                  <a:lnTo>
                    <a:pt x="170" y="284"/>
                  </a:lnTo>
                  <a:lnTo>
                    <a:pt x="192" y="272"/>
                  </a:lnTo>
                  <a:lnTo>
                    <a:pt x="214" y="258"/>
                  </a:lnTo>
                  <a:lnTo>
                    <a:pt x="234" y="242"/>
                  </a:lnTo>
                  <a:lnTo>
                    <a:pt x="250" y="220"/>
                  </a:lnTo>
                  <a:lnTo>
                    <a:pt x="266" y="198"/>
                  </a:lnTo>
                  <a:lnTo>
                    <a:pt x="266" y="198"/>
                  </a:lnTo>
                  <a:lnTo>
                    <a:pt x="268" y="190"/>
                  </a:lnTo>
                  <a:lnTo>
                    <a:pt x="270" y="180"/>
                  </a:lnTo>
                  <a:lnTo>
                    <a:pt x="272" y="152"/>
                  </a:lnTo>
                  <a:lnTo>
                    <a:pt x="272" y="124"/>
                  </a:lnTo>
                  <a:lnTo>
                    <a:pt x="270" y="112"/>
                  </a:lnTo>
                  <a:lnTo>
                    <a:pt x="268" y="102"/>
                  </a:lnTo>
                  <a:lnTo>
                    <a:pt x="268" y="102"/>
                  </a:lnTo>
                  <a:close/>
                  <a:moveTo>
                    <a:pt x="200" y="226"/>
                  </a:moveTo>
                  <a:lnTo>
                    <a:pt x="200" y="226"/>
                  </a:lnTo>
                  <a:lnTo>
                    <a:pt x="206" y="208"/>
                  </a:lnTo>
                  <a:lnTo>
                    <a:pt x="208" y="192"/>
                  </a:lnTo>
                  <a:lnTo>
                    <a:pt x="208" y="178"/>
                  </a:lnTo>
                  <a:lnTo>
                    <a:pt x="208" y="166"/>
                  </a:lnTo>
                  <a:lnTo>
                    <a:pt x="204" y="154"/>
                  </a:lnTo>
                  <a:lnTo>
                    <a:pt x="198" y="144"/>
                  </a:lnTo>
                  <a:lnTo>
                    <a:pt x="192" y="134"/>
                  </a:lnTo>
                  <a:lnTo>
                    <a:pt x="184" y="126"/>
                  </a:lnTo>
                  <a:lnTo>
                    <a:pt x="176" y="118"/>
                  </a:lnTo>
                  <a:lnTo>
                    <a:pt x="166" y="112"/>
                  </a:lnTo>
                  <a:lnTo>
                    <a:pt x="148" y="102"/>
                  </a:lnTo>
                  <a:lnTo>
                    <a:pt x="132" y="98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28" y="90"/>
                  </a:lnTo>
                  <a:lnTo>
                    <a:pt x="138" y="88"/>
                  </a:lnTo>
                  <a:lnTo>
                    <a:pt x="150" y="86"/>
                  </a:lnTo>
                  <a:lnTo>
                    <a:pt x="160" y="88"/>
                  </a:lnTo>
                  <a:lnTo>
                    <a:pt x="172" y="92"/>
                  </a:lnTo>
                  <a:lnTo>
                    <a:pt x="180" y="98"/>
                  </a:lnTo>
                  <a:lnTo>
                    <a:pt x="188" y="104"/>
                  </a:lnTo>
                  <a:lnTo>
                    <a:pt x="194" y="112"/>
                  </a:lnTo>
                  <a:lnTo>
                    <a:pt x="194" y="112"/>
                  </a:lnTo>
                  <a:lnTo>
                    <a:pt x="200" y="104"/>
                  </a:lnTo>
                  <a:lnTo>
                    <a:pt x="208" y="94"/>
                  </a:lnTo>
                  <a:lnTo>
                    <a:pt x="220" y="68"/>
                  </a:lnTo>
                  <a:lnTo>
                    <a:pt x="220" y="68"/>
                  </a:lnTo>
                  <a:lnTo>
                    <a:pt x="228" y="98"/>
                  </a:lnTo>
                  <a:lnTo>
                    <a:pt x="232" y="124"/>
                  </a:lnTo>
                  <a:lnTo>
                    <a:pt x="232" y="146"/>
                  </a:lnTo>
                  <a:lnTo>
                    <a:pt x="230" y="166"/>
                  </a:lnTo>
                  <a:lnTo>
                    <a:pt x="224" y="184"/>
                  </a:lnTo>
                  <a:lnTo>
                    <a:pt x="218" y="198"/>
                  </a:lnTo>
                  <a:lnTo>
                    <a:pt x="210" y="212"/>
                  </a:lnTo>
                  <a:lnTo>
                    <a:pt x="200" y="226"/>
                  </a:lnTo>
                  <a:lnTo>
                    <a:pt x="200" y="226"/>
                  </a:lnTo>
                  <a:close/>
                </a:path>
              </a:pathLst>
            </a:custGeom>
            <a:solidFill>
              <a:srgbClr val="cabb8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1080" y="8810640"/>
              <a:ext cx="4181760" cy="1517400"/>
            </a:xfrm>
            <a:custGeom>
              <a:avLst/>
              <a:gdLst>
                <a:gd name="textAreaLeft" fmla="*/ 0 w 4181760"/>
                <a:gd name="textAreaRight" fmla="*/ 4182120 w 4181760"/>
                <a:gd name="textAreaTop" fmla="*/ 0 h 1517400"/>
                <a:gd name="textAreaBottom" fmla="*/ 1517760 h 1517400"/>
              </a:gdLst>
              <a:ahLst/>
              <a:rect l="textAreaLeft" t="textAreaTop" r="textAreaRight" b="textAreaBottom"/>
              <a:pathLst>
                <a:path w="2634" h="956">
                  <a:moveTo>
                    <a:pt x="2618" y="848"/>
                  </a:moveTo>
                  <a:lnTo>
                    <a:pt x="2618" y="848"/>
                  </a:lnTo>
                  <a:lnTo>
                    <a:pt x="2570" y="862"/>
                  </a:lnTo>
                  <a:lnTo>
                    <a:pt x="2522" y="870"/>
                  </a:lnTo>
                  <a:lnTo>
                    <a:pt x="2476" y="876"/>
                  </a:lnTo>
                  <a:lnTo>
                    <a:pt x="2428" y="876"/>
                  </a:lnTo>
                  <a:lnTo>
                    <a:pt x="2428" y="876"/>
                  </a:lnTo>
                  <a:lnTo>
                    <a:pt x="2396" y="874"/>
                  </a:lnTo>
                  <a:lnTo>
                    <a:pt x="2364" y="868"/>
                  </a:lnTo>
                  <a:lnTo>
                    <a:pt x="2334" y="858"/>
                  </a:lnTo>
                  <a:lnTo>
                    <a:pt x="2304" y="846"/>
                  </a:lnTo>
                  <a:lnTo>
                    <a:pt x="2278" y="832"/>
                  </a:lnTo>
                  <a:lnTo>
                    <a:pt x="2252" y="816"/>
                  </a:lnTo>
                  <a:lnTo>
                    <a:pt x="2230" y="798"/>
                  </a:lnTo>
                  <a:lnTo>
                    <a:pt x="2208" y="780"/>
                  </a:lnTo>
                  <a:lnTo>
                    <a:pt x="2190" y="760"/>
                  </a:lnTo>
                  <a:lnTo>
                    <a:pt x="2174" y="738"/>
                  </a:lnTo>
                  <a:lnTo>
                    <a:pt x="2160" y="718"/>
                  </a:lnTo>
                  <a:lnTo>
                    <a:pt x="2150" y="698"/>
                  </a:lnTo>
                  <a:lnTo>
                    <a:pt x="2142" y="678"/>
                  </a:lnTo>
                  <a:lnTo>
                    <a:pt x="2138" y="658"/>
                  </a:lnTo>
                  <a:lnTo>
                    <a:pt x="2136" y="640"/>
                  </a:lnTo>
                  <a:lnTo>
                    <a:pt x="2140" y="624"/>
                  </a:lnTo>
                  <a:lnTo>
                    <a:pt x="2140" y="624"/>
                  </a:lnTo>
                  <a:lnTo>
                    <a:pt x="2132" y="628"/>
                  </a:lnTo>
                  <a:lnTo>
                    <a:pt x="2124" y="632"/>
                  </a:lnTo>
                  <a:lnTo>
                    <a:pt x="2118" y="638"/>
                  </a:lnTo>
                  <a:lnTo>
                    <a:pt x="2112" y="646"/>
                  </a:lnTo>
                  <a:lnTo>
                    <a:pt x="2108" y="654"/>
                  </a:lnTo>
                  <a:lnTo>
                    <a:pt x="2104" y="664"/>
                  </a:lnTo>
                  <a:lnTo>
                    <a:pt x="2100" y="686"/>
                  </a:lnTo>
                  <a:lnTo>
                    <a:pt x="2100" y="712"/>
                  </a:lnTo>
                  <a:lnTo>
                    <a:pt x="2104" y="742"/>
                  </a:lnTo>
                  <a:lnTo>
                    <a:pt x="2112" y="772"/>
                  </a:lnTo>
                  <a:lnTo>
                    <a:pt x="2124" y="802"/>
                  </a:lnTo>
                  <a:lnTo>
                    <a:pt x="2124" y="802"/>
                  </a:lnTo>
                  <a:lnTo>
                    <a:pt x="2118" y="796"/>
                  </a:lnTo>
                  <a:lnTo>
                    <a:pt x="2110" y="792"/>
                  </a:lnTo>
                  <a:lnTo>
                    <a:pt x="2102" y="788"/>
                  </a:lnTo>
                  <a:lnTo>
                    <a:pt x="2092" y="786"/>
                  </a:lnTo>
                  <a:lnTo>
                    <a:pt x="2072" y="786"/>
                  </a:lnTo>
                  <a:lnTo>
                    <a:pt x="2048" y="790"/>
                  </a:lnTo>
                  <a:lnTo>
                    <a:pt x="2026" y="796"/>
                  </a:lnTo>
                  <a:lnTo>
                    <a:pt x="2004" y="804"/>
                  </a:lnTo>
                  <a:lnTo>
                    <a:pt x="1986" y="814"/>
                  </a:lnTo>
                  <a:lnTo>
                    <a:pt x="1974" y="824"/>
                  </a:lnTo>
                  <a:lnTo>
                    <a:pt x="1974" y="824"/>
                  </a:lnTo>
                  <a:lnTo>
                    <a:pt x="1958" y="816"/>
                  </a:lnTo>
                  <a:lnTo>
                    <a:pt x="1942" y="804"/>
                  </a:lnTo>
                  <a:lnTo>
                    <a:pt x="1928" y="792"/>
                  </a:lnTo>
                  <a:lnTo>
                    <a:pt x="1914" y="776"/>
                  </a:lnTo>
                  <a:lnTo>
                    <a:pt x="1902" y="760"/>
                  </a:lnTo>
                  <a:lnTo>
                    <a:pt x="1892" y="744"/>
                  </a:lnTo>
                  <a:lnTo>
                    <a:pt x="1884" y="726"/>
                  </a:lnTo>
                  <a:lnTo>
                    <a:pt x="1876" y="706"/>
                  </a:lnTo>
                  <a:lnTo>
                    <a:pt x="1870" y="686"/>
                  </a:lnTo>
                  <a:lnTo>
                    <a:pt x="1866" y="668"/>
                  </a:lnTo>
                  <a:lnTo>
                    <a:pt x="1864" y="648"/>
                  </a:lnTo>
                  <a:lnTo>
                    <a:pt x="1864" y="628"/>
                  </a:lnTo>
                  <a:lnTo>
                    <a:pt x="1866" y="610"/>
                  </a:lnTo>
                  <a:lnTo>
                    <a:pt x="1870" y="590"/>
                  </a:lnTo>
                  <a:lnTo>
                    <a:pt x="1876" y="574"/>
                  </a:lnTo>
                  <a:lnTo>
                    <a:pt x="1886" y="558"/>
                  </a:lnTo>
                  <a:lnTo>
                    <a:pt x="1886" y="558"/>
                  </a:lnTo>
                  <a:lnTo>
                    <a:pt x="1878" y="558"/>
                  </a:lnTo>
                  <a:lnTo>
                    <a:pt x="1870" y="560"/>
                  </a:lnTo>
                  <a:lnTo>
                    <a:pt x="1858" y="568"/>
                  </a:lnTo>
                  <a:lnTo>
                    <a:pt x="1848" y="578"/>
                  </a:lnTo>
                  <a:lnTo>
                    <a:pt x="1838" y="592"/>
                  </a:lnTo>
                  <a:lnTo>
                    <a:pt x="1832" y="608"/>
                  </a:lnTo>
                  <a:lnTo>
                    <a:pt x="1826" y="624"/>
                  </a:lnTo>
                  <a:lnTo>
                    <a:pt x="1824" y="642"/>
                  </a:lnTo>
                  <a:lnTo>
                    <a:pt x="1822" y="660"/>
                  </a:lnTo>
                  <a:lnTo>
                    <a:pt x="1822" y="660"/>
                  </a:lnTo>
                  <a:lnTo>
                    <a:pt x="1808" y="622"/>
                  </a:lnTo>
                  <a:lnTo>
                    <a:pt x="1796" y="586"/>
                  </a:lnTo>
                  <a:lnTo>
                    <a:pt x="1788" y="554"/>
                  </a:lnTo>
                  <a:lnTo>
                    <a:pt x="1782" y="524"/>
                  </a:lnTo>
                  <a:lnTo>
                    <a:pt x="1782" y="496"/>
                  </a:lnTo>
                  <a:lnTo>
                    <a:pt x="1782" y="470"/>
                  </a:lnTo>
                  <a:lnTo>
                    <a:pt x="1788" y="448"/>
                  </a:lnTo>
                  <a:lnTo>
                    <a:pt x="1794" y="428"/>
                  </a:lnTo>
                  <a:lnTo>
                    <a:pt x="1802" y="410"/>
                  </a:lnTo>
                  <a:lnTo>
                    <a:pt x="1812" y="394"/>
                  </a:lnTo>
                  <a:lnTo>
                    <a:pt x="1826" y="380"/>
                  </a:lnTo>
                  <a:lnTo>
                    <a:pt x="1838" y="370"/>
                  </a:lnTo>
                  <a:lnTo>
                    <a:pt x="1854" y="362"/>
                  </a:lnTo>
                  <a:lnTo>
                    <a:pt x="1868" y="356"/>
                  </a:lnTo>
                  <a:lnTo>
                    <a:pt x="1884" y="354"/>
                  </a:lnTo>
                  <a:lnTo>
                    <a:pt x="1900" y="352"/>
                  </a:lnTo>
                  <a:lnTo>
                    <a:pt x="1900" y="352"/>
                  </a:lnTo>
                  <a:lnTo>
                    <a:pt x="1920" y="354"/>
                  </a:lnTo>
                  <a:lnTo>
                    <a:pt x="1938" y="358"/>
                  </a:lnTo>
                  <a:lnTo>
                    <a:pt x="1954" y="364"/>
                  </a:lnTo>
                  <a:lnTo>
                    <a:pt x="1968" y="370"/>
                  </a:lnTo>
                  <a:lnTo>
                    <a:pt x="1968" y="370"/>
                  </a:lnTo>
                  <a:lnTo>
                    <a:pt x="1986" y="384"/>
                  </a:lnTo>
                  <a:lnTo>
                    <a:pt x="2002" y="398"/>
                  </a:lnTo>
                  <a:lnTo>
                    <a:pt x="2014" y="412"/>
                  </a:lnTo>
                  <a:lnTo>
                    <a:pt x="2024" y="428"/>
                  </a:lnTo>
                  <a:lnTo>
                    <a:pt x="2028" y="444"/>
                  </a:lnTo>
                  <a:lnTo>
                    <a:pt x="2030" y="450"/>
                  </a:lnTo>
                  <a:lnTo>
                    <a:pt x="2030" y="458"/>
                  </a:lnTo>
                  <a:lnTo>
                    <a:pt x="2028" y="466"/>
                  </a:lnTo>
                  <a:lnTo>
                    <a:pt x="2024" y="474"/>
                  </a:lnTo>
                  <a:lnTo>
                    <a:pt x="2020" y="480"/>
                  </a:lnTo>
                  <a:lnTo>
                    <a:pt x="2014" y="488"/>
                  </a:lnTo>
                  <a:lnTo>
                    <a:pt x="2014" y="488"/>
                  </a:lnTo>
                  <a:lnTo>
                    <a:pt x="2008" y="494"/>
                  </a:lnTo>
                  <a:lnTo>
                    <a:pt x="2002" y="498"/>
                  </a:lnTo>
                  <a:lnTo>
                    <a:pt x="1994" y="502"/>
                  </a:lnTo>
                  <a:lnTo>
                    <a:pt x="1988" y="504"/>
                  </a:lnTo>
                  <a:lnTo>
                    <a:pt x="1980" y="504"/>
                  </a:lnTo>
                  <a:lnTo>
                    <a:pt x="1974" y="504"/>
                  </a:lnTo>
                  <a:lnTo>
                    <a:pt x="1962" y="500"/>
                  </a:lnTo>
                  <a:lnTo>
                    <a:pt x="1950" y="492"/>
                  </a:lnTo>
                  <a:lnTo>
                    <a:pt x="1940" y="480"/>
                  </a:lnTo>
                  <a:lnTo>
                    <a:pt x="1932" y="466"/>
                  </a:lnTo>
                  <a:lnTo>
                    <a:pt x="1928" y="452"/>
                  </a:lnTo>
                  <a:lnTo>
                    <a:pt x="1928" y="452"/>
                  </a:lnTo>
                  <a:lnTo>
                    <a:pt x="1922" y="464"/>
                  </a:lnTo>
                  <a:lnTo>
                    <a:pt x="1918" y="478"/>
                  </a:lnTo>
                  <a:lnTo>
                    <a:pt x="1916" y="492"/>
                  </a:lnTo>
                  <a:lnTo>
                    <a:pt x="1914" y="506"/>
                  </a:lnTo>
                  <a:lnTo>
                    <a:pt x="1916" y="518"/>
                  </a:lnTo>
                  <a:lnTo>
                    <a:pt x="1918" y="532"/>
                  </a:lnTo>
                  <a:lnTo>
                    <a:pt x="1920" y="544"/>
                  </a:lnTo>
                  <a:lnTo>
                    <a:pt x="1926" y="556"/>
                  </a:lnTo>
                  <a:lnTo>
                    <a:pt x="1932" y="566"/>
                  </a:lnTo>
                  <a:lnTo>
                    <a:pt x="1940" y="576"/>
                  </a:lnTo>
                  <a:lnTo>
                    <a:pt x="1948" y="584"/>
                  </a:lnTo>
                  <a:lnTo>
                    <a:pt x="1958" y="592"/>
                  </a:lnTo>
                  <a:lnTo>
                    <a:pt x="1970" y="598"/>
                  </a:lnTo>
                  <a:lnTo>
                    <a:pt x="1982" y="602"/>
                  </a:lnTo>
                  <a:lnTo>
                    <a:pt x="1996" y="604"/>
                  </a:lnTo>
                  <a:lnTo>
                    <a:pt x="2010" y="604"/>
                  </a:lnTo>
                  <a:lnTo>
                    <a:pt x="2010" y="604"/>
                  </a:lnTo>
                  <a:lnTo>
                    <a:pt x="2024" y="602"/>
                  </a:lnTo>
                  <a:lnTo>
                    <a:pt x="2038" y="596"/>
                  </a:lnTo>
                  <a:lnTo>
                    <a:pt x="2050" y="590"/>
                  </a:lnTo>
                  <a:lnTo>
                    <a:pt x="2062" y="580"/>
                  </a:lnTo>
                  <a:lnTo>
                    <a:pt x="2074" y="570"/>
                  </a:lnTo>
                  <a:lnTo>
                    <a:pt x="2084" y="556"/>
                  </a:lnTo>
                  <a:lnTo>
                    <a:pt x="2092" y="542"/>
                  </a:lnTo>
                  <a:lnTo>
                    <a:pt x="2098" y="528"/>
                  </a:lnTo>
                  <a:lnTo>
                    <a:pt x="2104" y="510"/>
                  </a:lnTo>
                  <a:lnTo>
                    <a:pt x="2106" y="494"/>
                  </a:lnTo>
                  <a:lnTo>
                    <a:pt x="2104" y="476"/>
                  </a:lnTo>
                  <a:lnTo>
                    <a:pt x="2102" y="458"/>
                  </a:lnTo>
                  <a:lnTo>
                    <a:pt x="2094" y="440"/>
                  </a:lnTo>
                  <a:lnTo>
                    <a:pt x="2084" y="424"/>
                  </a:lnTo>
                  <a:lnTo>
                    <a:pt x="2070" y="406"/>
                  </a:lnTo>
                  <a:lnTo>
                    <a:pt x="2054" y="390"/>
                  </a:lnTo>
                  <a:lnTo>
                    <a:pt x="2054" y="390"/>
                  </a:lnTo>
                  <a:lnTo>
                    <a:pt x="2042" y="380"/>
                  </a:lnTo>
                  <a:lnTo>
                    <a:pt x="2042" y="380"/>
                  </a:lnTo>
                  <a:lnTo>
                    <a:pt x="2024" y="370"/>
                  </a:lnTo>
                  <a:lnTo>
                    <a:pt x="2006" y="360"/>
                  </a:lnTo>
                  <a:lnTo>
                    <a:pt x="1988" y="352"/>
                  </a:lnTo>
                  <a:lnTo>
                    <a:pt x="1968" y="346"/>
                  </a:lnTo>
                  <a:lnTo>
                    <a:pt x="1932" y="336"/>
                  </a:lnTo>
                  <a:lnTo>
                    <a:pt x="1902" y="332"/>
                  </a:lnTo>
                  <a:lnTo>
                    <a:pt x="1902" y="332"/>
                  </a:lnTo>
                  <a:lnTo>
                    <a:pt x="1868" y="334"/>
                  </a:lnTo>
                  <a:lnTo>
                    <a:pt x="1852" y="336"/>
                  </a:lnTo>
                  <a:lnTo>
                    <a:pt x="1836" y="340"/>
                  </a:lnTo>
                  <a:lnTo>
                    <a:pt x="1820" y="344"/>
                  </a:lnTo>
                  <a:lnTo>
                    <a:pt x="1806" y="350"/>
                  </a:lnTo>
                  <a:lnTo>
                    <a:pt x="1792" y="358"/>
                  </a:lnTo>
                  <a:lnTo>
                    <a:pt x="1780" y="366"/>
                  </a:lnTo>
                  <a:lnTo>
                    <a:pt x="1768" y="376"/>
                  </a:lnTo>
                  <a:lnTo>
                    <a:pt x="1758" y="386"/>
                  </a:lnTo>
                  <a:lnTo>
                    <a:pt x="1748" y="398"/>
                  </a:lnTo>
                  <a:lnTo>
                    <a:pt x="1742" y="410"/>
                  </a:lnTo>
                  <a:lnTo>
                    <a:pt x="1736" y="424"/>
                  </a:lnTo>
                  <a:lnTo>
                    <a:pt x="1732" y="440"/>
                  </a:lnTo>
                  <a:lnTo>
                    <a:pt x="1732" y="456"/>
                  </a:lnTo>
                  <a:lnTo>
                    <a:pt x="1732" y="474"/>
                  </a:lnTo>
                  <a:lnTo>
                    <a:pt x="1732" y="474"/>
                  </a:lnTo>
                  <a:lnTo>
                    <a:pt x="1722" y="450"/>
                  </a:lnTo>
                  <a:lnTo>
                    <a:pt x="1716" y="424"/>
                  </a:lnTo>
                  <a:lnTo>
                    <a:pt x="1716" y="424"/>
                  </a:lnTo>
                  <a:lnTo>
                    <a:pt x="1712" y="398"/>
                  </a:lnTo>
                  <a:lnTo>
                    <a:pt x="1712" y="374"/>
                  </a:lnTo>
                  <a:lnTo>
                    <a:pt x="1714" y="350"/>
                  </a:lnTo>
                  <a:lnTo>
                    <a:pt x="1720" y="328"/>
                  </a:lnTo>
                  <a:lnTo>
                    <a:pt x="1726" y="308"/>
                  </a:lnTo>
                  <a:lnTo>
                    <a:pt x="1736" y="288"/>
                  </a:lnTo>
                  <a:lnTo>
                    <a:pt x="1748" y="272"/>
                  </a:lnTo>
                  <a:lnTo>
                    <a:pt x="1760" y="258"/>
                  </a:lnTo>
                  <a:lnTo>
                    <a:pt x="1776" y="244"/>
                  </a:lnTo>
                  <a:lnTo>
                    <a:pt x="1790" y="234"/>
                  </a:lnTo>
                  <a:lnTo>
                    <a:pt x="1808" y="226"/>
                  </a:lnTo>
                  <a:lnTo>
                    <a:pt x="1824" y="222"/>
                  </a:lnTo>
                  <a:lnTo>
                    <a:pt x="1842" y="218"/>
                  </a:lnTo>
                  <a:lnTo>
                    <a:pt x="1860" y="218"/>
                  </a:lnTo>
                  <a:lnTo>
                    <a:pt x="1878" y="222"/>
                  </a:lnTo>
                  <a:lnTo>
                    <a:pt x="1896" y="228"/>
                  </a:lnTo>
                  <a:lnTo>
                    <a:pt x="1896" y="228"/>
                  </a:lnTo>
                  <a:lnTo>
                    <a:pt x="1886" y="212"/>
                  </a:lnTo>
                  <a:lnTo>
                    <a:pt x="1876" y="196"/>
                  </a:lnTo>
                  <a:lnTo>
                    <a:pt x="1866" y="182"/>
                  </a:lnTo>
                  <a:lnTo>
                    <a:pt x="1854" y="172"/>
                  </a:lnTo>
                  <a:lnTo>
                    <a:pt x="1842" y="162"/>
                  </a:lnTo>
                  <a:lnTo>
                    <a:pt x="1828" y="156"/>
                  </a:lnTo>
                  <a:lnTo>
                    <a:pt x="1812" y="152"/>
                  </a:lnTo>
                  <a:lnTo>
                    <a:pt x="1794" y="150"/>
                  </a:lnTo>
                  <a:lnTo>
                    <a:pt x="1794" y="150"/>
                  </a:lnTo>
                  <a:lnTo>
                    <a:pt x="1812" y="138"/>
                  </a:lnTo>
                  <a:lnTo>
                    <a:pt x="1822" y="134"/>
                  </a:lnTo>
                  <a:lnTo>
                    <a:pt x="1834" y="130"/>
                  </a:lnTo>
                  <a:lnTo>
                    <a:pt x="1844" y="128"/>
                  </a:lnTo>
                  <a:lnTo>
                    <a:pt x="1856" y="126"/>
                  </a:lnTo>
                  <a:lnTo>
                    <a:pt x="1868" y="126"/>
                  </a:lnTo>
                  <a:lnTo>
                    <a:pt x="1880" y="128"/>
                  </a:lnTo>
                  <a:lnTo>
                    <a:pt x="1892" y="130"/>
                  </a:lnTo>
                  <a:lnTo>
                    <a:pt x="1906" y="136"/>
                  </a:lnTo>
                  <a:lnTo>
                    <a:pt x="1932" y="148"/>
                  </a:lnTo>
                  <a:lnTo>
                    <a:pt x="1960" y="166"/>
                  </a:lnTo>
                  <a:lnTo>
                    <a:pt x="1990" y="190"/>
                  </a:lnTo>
                  <a:lnTo>
                    <a:pt x="1990" y="190"/>
                  </a:lnTo>
                  <a:lnTo>
                    <a:pt x="1982" y="164"/>
                  </a:lnTo>
                  <a:lnTo>
                    <a:pt x="1972" y="140"/>
                  </a:lnTo>
                  <a:lnTo>
                    <a:pt x="1960" y="120"/>
                  </a:lnTo>
                  <a:lnTo>
                    <a:pt x="1946" y="104"/>
                  </a:lnTo>
                  <a:lnTo>
                    <a:pt x="1932" y="88"/>
                  </a:lnTo>
                  <a:lnTo>
                    <a:pt x="1916" y="78"/>
                  </a:lnTo>
                  <a:lnTo>
                    <a:pt x="1902" y="68"/>
                  </a:lnTo>
                  <a:lnTo>
                    <a:pt x="1886" y="60"/>
                  </a:lnTo>
                  <a:lnTo>
                    <a:pt x="1870" y="54"/>
                  </a:lnTo>
                  <a:lnTo>
                    <a:pt x="1854" y="50"/>
                  </a:lnTo>
                  <a:lnTo>
                    <a:pt x="1838" y="48"/>
                  </a:lnTo>
                  <a:lnTo>
                    <a:pt x="1824" y="46"/>
                  </a:lnTo>
                  <a:lnTo>
                    <a:pt x="1798" y="48"/>
                  </a:lnTo>
                  <a:lnTo>
                    <a:pt x="1778" y="54"/>
                  </a:lnTo>
                  <a:lnTo>
                    <a:pt x="1778" y="54"/>
                  </a:lnTo>
                  <a:lnTo>
                    <a:pt x="1784" y="48"/>
                  </a:lnTo>
                  <a:lnTo>
                    <a:pt x="1790" y="42"/>
                  </a:lnTo>
                  <a:lnTo>
                    <a:pt x="1804" y="34"/>
                  </a:lnTo>
                  <a:lnTo>
                    <a:pt x="1818" y="22"/>
                  </a:lnTo>
                  <a:lnTo>
                    <a:pt x="1826" y="12"/>
                  </a:lnTo>
                  <a:lnTo>
                    <a:pt x="1834" y="0"/>
                  </a:lnTo>
                  <a:lnTo>
                    <a:pt x="1834" y="0"/>
                  </a:lnTo>
                  <a:lnTo>
                    <a:pt x="1816" y="0"/>
                  </a:lnTo>
                  <a:lnTo>
                    <a:pt x="1798" y="2"/>
                  </a:lnTo>
                  <a:lnTo>
                    <a:pt x="1780" y="4"/>
                  </a:lnTo>
                  <a:lnTo>
                    <a:pt x="1764" y="10"/>
                  </a:lnTo>
                  <a:lnTo>
                    <a:pt x="1748" y="14"/>
                  </a:lnTo>
                  <a:lnTo>
                    <a:pt x="1732" y="22"/>
                  </a:lnTo>
                  <a:lnTo>
                    <a:pt x="1718" y="30"/>
                  </a:lnTo>
                  <a:lnTo>
                    <a:pt x="1704" y="40"/>
                  </a:lnTo>
                  <a:lnTo>
                    <a:pt x="1690" y="52"/>
                  </a:lnTo>
                  <a:lnTo>
                    <a:pt x="1678" y="64"/>
                  </a:lnTo>
                  <a:lnTo>
                    <a:pt x="1666" y="80"/>
                  </a:lnTo>
                  <a:lnTo>
                    <a:pt x="1654" y="94"/>
                  </a:lnTo>
                  <a:lnTo>
                    <a:pt x="1644" y="112"/>
                  </a:lnTo>
                  <a:lnTo>
                    <a:pt x="1634" y="130"/>
                  </a:lnTo>
                  <a:lnTo>
                    <a:pt x="1626" y="150"/>
                  </a:lnTo>
                  <a:lnTo>
                    <a:pt x="1618" y="170"/>
                  </a:lnTo>
                  <a:lnTo>
                    <a:pt x="1618" y="170"/>
                  </a:lnTo>
                  <a:lnTo>
                    <a:pt x="1614" y="198"/>
                  </a:lnTo>
                  <a:lnTo>
                    <a:pt x="1612" y="226"/>
                  </a:lnTo>
                  <a:lnTo>
                    <a:pt x="1612" y="254"/>
                  </a:lnTo>
                  <a:lnTo>
                    <a:pt x="1614" y="278"/>
                  </a:lnTo>
                  <a:lnTo>
                    <a:pt x="1614" y="278"/>
                  </a:lnTo>
                  <a:lnTo>
                    <a:pt x="1614" y="302"/>
                  </a:lnTo>
                  <a:lnTo>
                    <a:pt x="1616" y="326"/>
                  </a:lnTo>
                  <a:lnTo>
                    <a:pt x="1620" y="352"/>
                  </a:lnTo>
                  <a:lnTo>
                    <a:pt x="1628" y="378"/>
                  </a:lnTo>
                  <a:lnTo>
                    <a:pt x="1648" y="436"/>
                  </a:lnTo>
                  <a:lnTo>
                    <a:pt x="1670" y="494"/>
                  </a:lnTo>
                  <a:lnTo>
                    <a:pt x="1670" y="494"/>
                  </a:lnTo>
                  <a:lnTo>
                    <a:pt x="1696" y="556"/>
                  </a:lnTo>
                  <a:lnTo>
                    <a:pt x="1718" y="616"/>
                  </a:lnTo>
                  <a:lnTo>
                    <a:pt x="1718" y="616"/>
                  </a:lnTo>
                  <a:lnTo>
                    <a:pt x="1708" y="600"/>
                  </a:lnTo>
                  <a:lnTo>
                    <a:pt x="1696" y="584"/>
                  </a:lnTo>
                  <a:lnTo>
                    <a:pt x="1664" y="548"/>
                  </a:lnTo>
                  <a:lnTo>
                    <a:pt x="1626" y="512"/>
                  </a:lnTo>
                  <a:lnTo>
                    <a:pt x="1586" y="478"/>
                  </a:lnTo>
                  <a:lnTo>
                    <a:pt x="1546" y="446"/>
                  </a:lnTo>
                  <a:lnTo>
                    <a:pt x="1508" y="416"/>
                  </a:lnTo>
                  <a:lnTo>
                    <a:pt x="1444" y="370"/>
                  </a:lnTo>
                  <a:lnTo>
                    <a:pt x="1444" y="370"/>
                  </a:lnTo>
                  <a:lnTo>
                    <a:pt x="1432" y="364"/>
                  </a:lnTo>
                  <a:lnTo>
                    <a:pt x="1418" y="356"/>
                  </a:lnTo>
                  <a:lnTo>
                    <a:pt x="1382" y="342"/>
                  </a:lnTo>
                  <a:lnTo>
                    <a:pt x="1344" y="332"/>
                  </a:lnTo>
                  <a:lnTo>
                    <a:pt x="1316" y="324"/>
                  </a:lnTo>
                  <a:lnTo>
                    <a:pt x="1316" y="324"/>
                  </a:lnTo>
                  <a:lnTo>
                    <a:pt x="1232" y="312"/>
                  </a:lnTo>
                  <a:lnTo>
                    <a:pt x="1156" y="306"/>
                  </a:lnTo>
                  <a:lnTo>
                    <a:pt x="1084" y="304"/>
                  </a:lnTo>
                  <a:lnTo>
                    <a:pt x="1022" y="306"/>
                  </a:lnTo>
                  <a:lnTo>
                    <a:pt x="992" y="308"/>
                  </a:lnTo>
                  <a:lnTo>
                    <a:pt x="964" y="312"/>
                  </a:lnTo>
                  <a:lnTo>
                    <a:pt x="936" y="318"/>
                  </a:lnTo>
                  <a:lnTo>
                    <a:pt x="912" y="324"/>
                  </a:lnTo>
                  <a:lnTo>
                    <a:pt x="888" y="330"/>
                  </a:lnTo>
                  <a:lnTo>
                    <a:pt x="866" y="338"/>
                  </a:lnTo>
                  <a:lnTo>
                    <a:pt x="844" y="348"/>
                  </a:lnTo>
                  <a:lnTo>
                    <a:pt x="826" y="356"/>
                  </a:lnTo>
                  <a:lnTo>
                    <a:pt x="808" y="368"/>
                  </a:lnTo>
                  <a:lnTo>
                    <a:pt x="790" y="378"/>
                  </a:lnTo>
                  <a:lnTo>
                    <a:pt x="774" y="390"/>
                  </a:lnTo>
                  <a:lnTo>
                    <a:pt x="760" y="402"/>
                  </a:lnTo>
                  <a:lnTo>
                    <a:pt x="748" y="416"/>
                  </a:lnTo>
                  <a:lnTo>
                    <a:pt x="736" y="430"/>
                  </a:lnTo>
                  <a:lnTo>
                    <a:pt x="724" y="446"/>
                  </a:lnTo>
                  <a:lnTo>
                    <a:pt x="714" y="460"/>
                  </a:lnTo>
                  <a:lnTo>
                    <a:pt x="706" y="476"/>
                  </a:lnTo>
                  <a:lnTo>
                    <a:pt x="698" y="492"/>
                  </a:lnTo>
                  <a:lnTo>
                    <a:pt x="688" y="526"/>
                  </a:lnTo>
                  <a:lnTo>
                    <a:pt x="680" y="562"/>
                  </a:lnTo>
                  <a:lnTo>
                    <a:pt x="676" y="600"/>
                  </a:lnTo>
                  <a:lnTo>
                    <a:pt x="676" y="600"/>
                  </a:lnTo>
                  <a:lnTo>
                    <a:pt x="666" y="584"/>
                  </a:lnTo>
                  <a:lnTo>
                    <a:pt x="656" y="568"/>
                  </a:lnTo>
                  <a:lnTo>
                    <a:pt x="644" y="556"/>
                  </a:lnTo>
                  <a:lnTo>
                    <a:pt x="632" y="546"/>
                  </a:lnTo>
                  <a:lnTo>
                    <a:pt x="620" y="538"/>
                  </a:lnTo>
                  <a:lnTo>
                    <a:pt x="608" y="532"/>
                  </a:lnTo>
                  <a:lnTo>
                    <a:pt x="594" y="528"/>
                  </a:lnTo>
                  <a:lnTo>
                    <a:pt x="582" y="526"/>
                  </a:lnTo>
                  <a:lnTo>
                    <a:pt x="568" y="524"/>
                  </a:lnTo>
                  <a:lnTo>
                    <a:pt x="556" y="524"/>
                  </a:lnTo>
                  <a:lnTo>
                    <a:pt x="544" y="526"/>
                  </a:lnTo>
                  <a:lnTo>
                    <a:pt x="532" y="528"/>
                  </a:lnTo>
                  <a:lnTo>
                    <a:pt x="508" y="538"/>
                  </a:lnTo>
                  <a:lnTo>
                    <a:pt x="488" y="550"/>
                  </a:lnTo>
                  <a:lnTo>
                    <a:pt x="470" y="566"/>
                  </a:lnTo>
                  <a:lnTo>
                    <a:pt x="456" y="584"/>
                  </a:lnTo>
                  <a:lnTo>
                    <a:pt x="452" y="594"/>
                  </a:lnTo>
                  <a:lnTo>
                    <a:pt x="448" y="604"/>
                  </a:lnTo>
                  <a:lnTo>
                    <a:pt x="446" y="614"/>
                  </a:lnTo>
                  <a:lnTo>
                    <a:pt x="444" y="624"/>
                  </a:lnTo>
                  <a:lnTo>
                    <a:pt x="446" y="634"/>
                  </a:lnTo>
                  <a:lnTo>
                    <a:pt x="448" y="644"/>
                  </a:lnTo>
                  <a:lnTo>
                    <a:pt x="452" y="654"/>
                  </a:lnTo>
                  <a:lnTo>
                    <a:pt x="458" y="662"/>
                  </a:lnTo>
                  <a:lnTo>
                    <a:pt x="466" y="672"/>
                  </a:lnTo>
                  <a:lnTo>
                    <a:pt x="476" y="680"/>
                  </a:lnTo>
                  <a:lnTo>
                    <a:pt x="490" y="688"/>
                  </a:lnTo>
                  <a:lnTo>
                    <a:pt x="504" y="694"/>
                  </a:lnTo>
                  <a:lnTo>
                    <a:pt x="504" y="694"/>
                  </a:lnTo>
                  <a:lnTo>
                    <a:pt x="492" y="684"/>
                  </a:lnTo>
                  <a:lnTo>
                    <a:pt x="484" y="674"/>
                  </a:lnTo>
                  <a:lnTo>
                    <a:pt x="478" y="664"/>
                  </a:lnTo>
                  <a:lnTo>
                    <a:pt x="476" y="654"/>
                  </a:lnTo>
                  <a:lnTo>
                    <a:pt x="478" y="646"/>
                  </a:lnTo>
                  <a:lnTo>
                    <a:pt x="480" y="636"/>
                  </a:lnTo>
                  <a:lnTo>
                    <a:pt x="486" y="628"/>
                  </a:lnTo>
                  <a:lnTo>
                    <a:pt x="494" y="622"/>
                  </a:lnTo>
                  <a:lnTo>
                    <a:pt x="502" y="616"/>
                  </a:lnTo>
                  <a:lnTo>
                    <a:pt x="512" y="612"/>
                  </a:lnTo>
                  <a:lnTo>
                    <a:pt x="524" y="608"/>
                  </a:lnTo>
                  <a:lnTo>
                    <a:pt x="536" y="606"/>
                  </a:lnTo>
                  <a:lnTo>
                    <a:pt x="548" y="606"/>
                  </a:lnTo>
                  <a:lnTo>
                    <a:pt x="562" y="610"/>
                  </a:lnTo>
                  <a:lnTo>
                    <a:pt x="574" y="614"/>
                  </a:lnTo>
                  <a:lnTo>
                    <a:pt x="588" y="620"/>
                  </a:lnTo>
                  <a:lnTo>
                    <a:pt x="588" y="620"/>
                  </a:lnTo>
                  <a:lnTo>
                    <a:pt x="576" y="626"/>
                  </a:lnTo>
                  <a:lnTo>
                    <a:pt x="568" y="632"/>
                  </a:lnTo>
                  <a:lnTo>
                    <a:pt x="560" y="638"/>
                  </a:lnTo>
                  <a:lnTo>
                    <a:pt x="554" y="646"/>
                  </a:lnTo>
                  <a:lnTo>
                    <a:pt x="550" y="654"/>
                  </a:lnTo>
                  <a:lnTo>
                    <a:pt x="548" y="664"/>
                  </a:lnTo>
                  <a:lnTo>
                    <a:pt x="548" y="672"/>
                  </a:lnTo>
                  <a:lnTo>
                    <a:pt x="548" y="682"/>
                  </a:lnTo>
                  <a:lnTo>
                    <a:pt x="548" y="682"/>
                  </a:lnTo>
                  <a:lnTo>
                    <a:pt x="562" y="674"/>
                  </a:lnTo>
                  <a:lnTo>
                    <a:pt x="572" y="670"/>
                  </a:lnTo>
                  <a:lnTo>
                    <a:pt x="582" y="666"/>
                  </a:lnTo>
                  <a:lnTo>
                    <a:pt x="592" y="666"/>
                  </a:lnTo>
                  <a:lnTo>
                    <a:pt x="602" y="668"/>
                  </a:lnTo>
                  <a:lnTo>
                    <a:pt x="610" y="670"/>
                  </a:lnTo>
                  <a:lnTo>
                    <a:pt x="616" y="674"/>
                  </a:lnTo>
                  <a:lnTo>
                    <a:pt x="622" y="680"/>
                  </a:lnTo>
                  <a:lnTo>
                    <a:pt x="632" y="692"/>
                  </a:lnTo>
                  <a:lnTo>
                    <a:pt x="638" y="708"/>
                  </a:lnTo>
                  <a:lnTo>
                    <a:pt x="642" y="722"/>
                  </a:lnTo>
                  <a:lnTo>
                    <a:pt x="640" y="734"/>
                  </a:lnTo>
                  <a:lnTo>
                    <a:pt x="640" y="734"/>
                  </a:lnTo>
                  <a:lnTo>
                    <a:pt x="634" y="752"/>
                  </a:lnTo>
                  <a:lnTo>
                    <a:pt x="626" y="766"/>
                  </a:lnTo>
                  <a:lnTo>
                    <a:pt x="616" y="778"/>
                  </a:lnTo>
                  <a:lnTo>
                    <a:pt x="604" y="784"/>
                  </a:lnTo>
                  <a:lnTo>
                    <a:pt x="590" y="786"/>
                  </a:lnTo>
                  <a:lnTo>
                    <a:pt x="580" y="784"/>
                  </a:lnTo>
                  <a:lnTo>
                    <a:pt x="568" y="778"/>
                  </a:lnTo>
                  <a:lnTo>
                    <a:pt x="560" y="770"/>
                  </a:lnTo>
                  <a:lnTo>
                    <a:pt x="560" y="770"/>
                  </a:lnTo>
                  <a:lnTo>
                    <a:pt x="560" y="798"/>
                  </a:lnTo>
                  <a:lnTo>
                    <a:pt x="554" y="822"/>
                  </a:lnTo>
                  <a:lnTo>
                    <a:pt x="548" y="840"/>
                  </a:lnTo>
                  <a:lnTo>
                    <a:pt x="536" y="854"/>
                  </a:lnTo>
                  <a:lnTo>
                    <a:pt x="524" y="866"/>
                  </a:lnTo>
                  <a:lnTo>
                    <a:pt x="510" y="872"/>
                  </a:lnTo>
                  <a:lnTo>
                    <a:pt x="494" y="878"/>
                  </a:lnTo>
                  <a:lnTo>
                    <a:pt x="478" y="878"/>
                  </a:lnTo>
                  <a:lnTo>
                    <a:pt x="462" y="878"/>
                  </a:lnTo>
                  <a:lnTo>
                    <a:pt x="446" y="874"/>
                  </a:lnTo>
                  <a:lnTo>
                    <a:pt x="430" y="868"/>
                  </a:lnTo>
                  <a:lnTo>
                    <a:pt x="416" y="860"/>
                  </a:lnTo>
                  <a:lnTo>
                    <a:pt x="402" y="850"/>
                  </a:lnTo>
                  <a:lnTo>
                    <a:pt x="392" y="838"/>
                  </a:lnTo>
                  <a:lnTo>
                    <a:pt x="384" y="826"/>
                  </a:lnTo>
                  <a:lnTo>
                    <a:pt x="380" y="814"/>
                  </a:lnTo>
                  <a:lnTo>
                    <a:pt x="380" y="814"/>
                  </a:lnTo>
                  <a:lnTo>
                    <a:pt x="374" y="816"/>
                  </a:lnTo>
                  <a:lnTo>
                    <a:pt x="368" y="820"/>
                  </a:lnTo>
                  <a:lnTo>
                    <a:pt x="362" y="828"/>
                  </a:lnTo>
                  <a:lnTo>
                    <a:pt x="356" y="836"/>
                  </a:lnTo>
                  <a:lnTo>
                    <a:pt x="352" y="848"/>
                  </a:lnTo>
                  <a:lnTo>
                    <a:pt x="352" y="862"/>
                  </a:lnTo>
                  <a:lnTo>
                    <a:pt x="356" y="880"/>
                  </a:lnTo>
                  <a:lnTo>
                    <a:pt x="356" y="880"/>
                  </a:lnTo>
                  <a:lnTo>
                    <a:pt x="342" y="876"/>
                  </a:lnTo>
                  <a:lnTo>
                    <a:pt x="326" y="868"/>
                  </a:lnTo>
                  <a:lnTo>
                    <a:pt x="312" y="858"/>
                  </a:lnTo>
                  <a:lnTo>
                    <a:pt x="300" y="846"/>
                  </a:lnTo>
                  <a:lnTo>
                    <a:pt x="288" y="832"/>
                  </a:lnTo>
                  <a:lnTo>
                    <a:pt x="280" y="816"/>
                  </a:lnTo>
                  <a:lnTo>
                    <a:pt x="276" y="800"/>
                  </a:lnTo>
                  <a:lnTo>
                    <a:pt x="276" y="782"/>
                  </a:lnTo>
                  <a:lnTo>
                    <a:pt x="276" y="782"/>
                  </a:lnTo>
                  <a:lnTo>
                    <a:pt x="280" y="766"/>
                  </a:lnTo>
                  <a:lnTo>
                    <a:pt x="284" y="758"/>
                  </a:lnTo>
                  <a:lnTo>
                    <a:pt x="288" y="752"/>
                  </a:lnTo>
                  <a:lnTo>
                    <a:pt x="294" y="746"/>
                  </a:lnTo>
                  <a:lnTo>
                    <a:pt x="300" y="742"/>
                  </a:lnTo>
                  <a:lnTo>
                    <a:pt x="308" y="738"/>
                  </a:lnTo>
                  <a:lnTo>
                    <a:pt x="316" y="736"/>
                  </a:lnTo>
                  <a:lnTo>
                    <a:pt x="324" y="736"/>
                  </a:lnTo>
                  <a:lnTo>
                    <a:pt x="332" y="736"/>
                  </a:lnTo>
                  <a:lnTo>
                    <a:pt x="342" y="740"/>
                  </a:lnTo>
                  <a:lnTo>
                    <a:pt x="350" y="744"/>
                  </a:lnTo>
                  <a:lnTo>
                    <a:pt x="360" y="752"/>
                  </a:lnTo>
                  <a:lnTo>
                    <a:pt x="370" y="760"/>
                  </a:lnTo>
                  <a:lnTo>
                    <a:pt x="380" y="772"/>
                  </a:lnTo>
                  <a:lnTo>
                    <a:pt x="390" y="786"/>
                  </a:lnTo>
                  <a:lnTo>
                    <a:pt x="390" y="786"/>
                  </a:lnTo>
                  <a:lnTo>
                    <a:pt x="398" y="758"/>
                  </a:lnTo>
                  <a:lnTo>
                    <a:pt x="402" y="732"/>
                  </a:lnTo>
                  <a:lnTo>
                    <a:pt x="402" y="712"/>
                  </a:lnTo>
                  <a:lnTo>
                    <a:pt x="400" y="694"/>
                  </a:lnTo>
                  <a:lnTo>
                    <a:pt x="394" y="678"/>
                  </a:lnTo>
                  <a:lnTo>
                    <a:pt x="386" y="666"/>
                  </a:lnTo>
                  <a:lnTo>
                    <a:pt x="378" y="656"/>
                  </a:lnTo>
                  <a:lnTo>
                    <a:pt x="366" y="650"/>
                  </a:lnTo>
                  <a:lnTo>
                    <a:pt x="354" y="644"/>
                  </a:lnTo>
                  <a:lnTo>
                    <a:pt x="340" y="642"/>
                  </a:lnTo>
                  <a:lnTo>
                    <a:pt x="326" y="644"/>
                  </a:lnTo>
                  <a:lnTo>
                    <a:pt x="312" y="646"/>
                  </a:lnTo>
                  <a:lnTo>
                    <a:pt x="298" y="650"/>
                  </a:lnTo>
                  <a:lnTo>
                    <a:pt x="286" y="658"/>
                  </a:lnTo>
                  <a:lnTo>
                    <a:pt x="272" y="666"/>
                  </a:lnTo>
                  <a:lnTo>
                    <a:pt x="262" y="676"/>
                  </a:lnTo>
                  <a:lnTo>
                    <a:pt x="262" y="676"/>
                  </a:lnTo>
                  <a:lnTo>
                    <a:pt x="254" y="684"/>
                  </a:lnTo>
                  <a:lnTo>
                    <a:pt x="248" y="694"/>
                  </a:lnTo>
                  <a:lnTo>
                    <a:pt x="242" y="704"/>
                  </a:lnTo>
                  <a:lnTo>
                    <a:pt x="238" y="716"/>
                  </a:lnTo>
                  <a:lnTo>
                    <a:pt x="232" y="740"/>
                  </a:lnTo>
                  <a:lnTo>
                    <a:pt x="232" y="768"/>
                  </a:lnTo>
                  <a:lnTo>
                    <a:pt x="232" y="782"/>
                  </a:lnTo>
                  <a:lnTo>
                    <a:pt x="234" y="796"/>
                  </a:lnTo>
                  <a:lnTo>
                    <a:pt x="238" y="810"/>
                  </a:lnTo>
                  <a:lnTo>
                    <a:pt x="244" y="824"/>
                  </a:lnTo>
                  <a:lnTo>
                    <a:pt x="250" y="838"/>
                  </a:lnTo>
                  <a:lnTo>
                    <a:pt x="258" y="852"/>
                  </a:lnTo>
                  <a:lnTo>
                    <a:pt x="266" y="864"/>
                  </a:lnTo>
                  <a:lnTo>
                    <a:pt x="276" y="876"/>
                  </a:lnTo>
                  <a:lnTo>
                    <a:pt x="276" y="876"/>
                  </a:lnTo>
                  <a:lnTo>
                    <a:pt x="264" y="876"/>
                  </a:lnTo>
                  <a:lnTo>
                    <a:pt x="254" y="872"/>
                  </a:lnTo>
                  <a:lnTo>
                    <a:pt x="246" y="866"/>
                  </a:lnTo>
                  <a:lnTo>
                    <a:pt x="240" y="856"/>
                  </a:lnTo>
                  <a:lnTo>
                    <a:pt x="224" y="828"/>
                  </a:lnTo>
                  <a:lnTo>
                    <a:pt x="212" y="808"/>
                  </a:lnTo>
                  <a:lnTo>
                    <a:pt x="198" y="786"/>
                  </a:lnTo>
                  <a:lnTo>
                    <a:pt x="198" y="786"/>
                  </a:lnTo>
                  <a:lnTo>
                    <a:pt x="186" y="772"/>
                  </a:lnTo>
                  <a:lnTo>
                    <a:pt x="170" y="760"/>
                  </a:lnTo>
                  <a:lnTo>
                    <a:pt x="154" y="754"/>
                  </a:lnTo>
                  <a:lnTo>
                    <a:pt x="138" y="750"/>
                  </a:lnTo>
                  <a:lnTo>
                    <a:pt x="122" y="750"/>
                  </a:lnTo>
                  <a:lnTo>
                    <a:pt x="104" y="752"/>
                  </a:lnTo>
                  <a:lnTo>
                    <a:pt x="88" y="756"/>
                  </a:lnTo>
                  <a:lnTo>
                    <a:pt x="72" y="762"/>
                  </a:lnTo>
                  <a:lnTo>
                    <a:pt x="56" y="772"/>
                  </a:lnTo>
                  <a:lnTo>
                    <a:pt x="42" y="782"/>
                  </a:lnTo>
                  <a:lnTo>
                    <a:pt x="30" y="794"/>
                  </a:lnTo>
                  <a:lnTo>
                    <a:pt x="18" y="806"/>
                  </a:lnTo>
                  <a:lnTo>
                    <a:pt x="10" y="820"/>
                  </a:lnTo>
                  <a:lnTo>
                    <a:pt x="4" y="832"/>
                  </a:lnTo>
                  <a:lnTo>
                    <a:pt x="0" y="846"/>
                  </a:lnTo>
                  <a:lnTo>
                    <a:pt x="2" y="860"/>
                  </a:lnTo>
                  <a:lnTo>
                    <a:pt x="2" y="860"/>
                  </a:lnTo>
                  <a:lnTo>
                    <a:pt x="4" y="874"/>
                  </a:lnTo>
                  <a:lnTo>
                    <a:pt x="8" y="888"/>
                  </a:lnTo>
                  <a:lnTo>
                    <a:pt x="16" y="898"/>
                  </a:lnTo>
                  <a:lnTo>
                    <a:pt x="22" y="908"/>
                  </a:lnTo>
                  <a:lnTo>
                    <a:pt x="32" y="918"/>
                  </a:lnTo>
                  <a:lnTo>
                    <a:pt x="42" y="924"/>
                  </a:lnTo>
                  <a:lnTo>
                    <a:pt x="52" y="930"/>
                  </a:lnTo>
                  <a:lnTo>
                    <a:pt x="64" y="934"/>
                  </a:lnTo>
                  <a:lnTo>
                    <a:pt x="78" y="936"/>
                  </a:lnTo>
                  <a:lnTo>
                    <a:pt x="90" y="938"/>
                  </a:lnTo>
                  <a:lnTo>
                    <a:pt x="102" y="938"/>
                  </a:lnTo>
                  <a:lnTo>
                    <a:pt x="116" y="936"/>
                  </a:lnTo>
                  <a:lnTo>
                    <a:pt x="130" y="932"/>
                  </a:lnTo>
                  <a:lnTo>
                    <a:pt x="142" y="926"/>
                  </a:lnTo>
                  <a:lnTo>
                    <a:pt x="154" y="920"/>
                  </a:lnTo>
                  <a:lnTo>
                    <a:pt x="166" y="912"/>
                  </a:lnTo>
                  <a:lnTo>
                    <a:pt x="166" y="912"/>
                  </a:lnTo>
                  <a:lnTo>
                    <a:pt x="150" y="910"/>
                  </a:lnTo>
                  <a:lnTo>
                    <a:pt x="136" y="904"/>
                  </a:lnTo>
                  <a:lnTo>
                    <a:pt x="124" y="898"/>
                  </a:lnTo>
                  <a:lnTo>
                    <a:pt x="112" y="888"/>
                  </a:lnTo>
                  <a:lnTo>
                    <a:pt x="106" y="876"/>
                  </a:lnTo>
                  <a:lnTo>
                    <a:pt x="104" y="870"/>
                  </a:lnTo>
                  <a:lnTo>
                    <a:pt x="104" y="864"/>
                  </a:lnTo>
                  <a:lnTo>
                    <a:pt x="104" y="856"/>
                  </a:lnTo>
                  <a:lnTo>
                    <a:pt x="106" y="848"/>
                  </a:lnTo>
                  <a:lnTo>
                    <a:pt x="108" y="842"/>
                  </a:lnTo>
                  <a:lnTo>
                    <a:pt x="114" y="834"/>
                  </a:lnTo>
                  <a:lnTo>
                    <a:pt x="114" y="834"/>
                  </a:lnTo>
                  <a:lnTo>
                    <a:pt x="120" y="826"/>
                  </a:lnTo>
                  <a:lnTo>
                    <a:pt x="126" y="820"/>
                  </a:lnTo>
                  <a:lnTo>
                    <a:pt x="132" y="818"/>
                  </a:lnTo>
                  <a:lnTo>
                    <a:pt x="140" y="814"/>
                  </a:lnTo>
                  <a:lnTo>
                    <a:pt x="146" y="814"/>
                  </a:lnTo>
                  <a:lnTo>
                    <a:pt x="154" y="814"/>
                  </a:lnTo>
                  <a:lnTo>
                    <a:pt x="168" y="820"/>
                  </a:lnTo>
                  <a:lnTo>
                    <a:pt x="182" y="828"/>
                  </a:lnTo>
                  <a:lnTo>
                    <a:pt x="194" y="840"/>
                  </a:lnTo>
                  <a:lnTo>
                    <a:pt x="202" y="854"/>
                  </a:lnTo>
                  <a:lnTo>
                    <a:pt x="208" y="872"/>
                  </a:lnTo>
                  <a:lnTo>
                    <a:pt x="208" y="872"/>
                  </a:lnTo>
                  <a:lnTo>
                    <a:pt x="210" y="884"/>
                  </a:lnTo>
                  <a:lnTo>
                    <a:pt x="214" y="896"/>
                  </a:lnTo>
                  <a:lnTo>
                    <a:pt x="220" y="910"/>
                  </a:lnTo>
                  <a:lnTo>
                    <a:pt x="228" y="920"/>
                  </a:lnTo>
                  <a:lnTo>
                    <a:pt x="238" y="928"/>
                  </a:lnTo>
                  <a:lnTo>
                    <a:pt x="244" y="930"/>
                  </a:lnTo>
                  <a:lnTo>
                    <a:pt x="250" y="932"/>
                  </a:lnTo>
                  <a:lnTo>
                    <a:pt x="258" y="930"/>
                  </a:lnTo>
                  <a:lnTo>
                    <a:pt x="264" y="928"/>
                  </a:lnTo>
                  <a:lnTo>
                    <a:pt x="272" y="924"/>
                  </a:lnTo>
                  <a:lnTo>
                    <a:pt x="280" y="916"/>
                  </a:lnTo>
                  <a:lnTo>
                    <a:pt x="280" y="916"/>
                  </a:lnTo>
                  <a:lnTo>
                    <a:pt x="306" y="928"/>
                  </a:lnTo>
                  <a:lnTo>
                    <a:pt x="332" y="936"/>
                  </a:lnTo>
                  <a:lnTo>
                    <a:pt x="362" y="940"/>
                  </a:lnTo>
                  <a:lnTo>
                    <a:pt x="390" y="942"/>
                  </a:lnTo>
                  <a:lnTo>
                    <a:pt x="420" y="942"/>
                  </a:lnTo>
                  <a:lnTo>
                    <a:pt x="450" y="940"/>
                  </a:lnTo>
                  <a:lnTo>
                    <a:pt x="482" y="932"/>
                  </a:lnTo>
                  <a:lnTo>
                    <a:pt x="512" y="922"/>
                  </a:lnTo>
                  <a:lnTo>
                    <a:pt x="540" y="908"/>
                  </a:lnTo>
                  <a:lnTo>
                    <a:pt x="568" y="892"/>
                  </a:lnTo>
                  <a:lnTo>
                    <a:pt x="596" y="870"/>
                  </a:lnTo>
                  <a:lnTo>
                    <a:pt x="620" y="846"/>
                  </a:lnTo>
                  <a:lnTo>
                    <a:pt x="642" y="818"/>
                  </a:lnTo>
                  <a:lnTo>
                    <a:pt x="662" y="784"/>
                  </a:lnTo>
                  <a:lnTo>
                    <a:pt x="680" y="746"/>
                  </a:lnTo>
                  <a:lnTo>
                    <a:pt x="694" y="704"/>
                  </a:lnTo>
                  <a:lnTo>
                    <a:pt x="694" y="704"/>
                  </a:lnTo>
                  <a:lnTo>
                    <a:pt x="704" y="740"/>
                  </a:lnTo>
                  <a:lnTo>
                    <a:pt x="718" y="772"/>
                  </a:lnTo>
                  <a:lnTo>
                    <a:pt x="734" y="802"/>
                  </a:lnTo>
                  <a:lnTo>
                    <a:pt x="754" y="828"/>
                  </a:lnTo>
                  <a:lnTo>
                    <a:pt x="776" y="850"/>
                  </a:lnTo>
                  <a:lnTo>
                    <a:pt x="800" y="870"/>
                  </a:lnTo>
                  <a:lnTo>
                    <a:pt x="826" y="886"/>
                  </a:lnTo>
                  <a:lnTo>
                    <a:pt x="854" y="898"/>
                  </a:lnTo>
                  <a:lnTo>
                    <a:pt x="882" y="910"/>
                  </a:lnTo>
                  <a:lnTo>
                    <a:pt x="910" y="918"/>
                  </a:lnTo>
                  <a:lnTo>
                    <a:pt x="940" y="922"/>
                  </a:lnTo>
                  <a:lnTo>
                    <a:pt x="968" y="924"/>
                  </a:lnTo>
                  <a:lnTo>
                    <a:pt x="996" y="924"/>
                  </a:lnTo>
                  <a:lnTo>
                    <a:pt x="1022" y="922"/>
                  </a:lnTo>
                  <a:lnTo>
                    <a:pt x="1048" y="916"/>
                  </a:lnTo>
                  <a:lnTo>
                    <a:pt x="1072" y="908"/>
                  </a:lnTo>
                  <a:lnTo>
                    <a:pt x="1072" y="908"/>
                  </a:lnTo>
                  <a:lnTo>
                    <a:pt x="1088" y="902"/>
                  </a:lnTo>
                  <a:lnTo>
                    <a:pt x="1102" y="892"/>
                  </a:lnTo>
                  <a:lnTo>
                    <a:pt x="1116" y="882"/>
                  </a:lnTo>
                  <a:lnTo>
                    <a:pt x="1128" y="872"/>
                  </a:lnTo>
                  <a:lnTo>
                    <a:pt x="1140" y="860"/>
                  </a:lnTo>
                  <a:lnTo>
                    <a:pt x="1150" y="848"/>
                  </a:lnTo>
                  <a:lnTo>
                    <a:pt x="1158" y="834"/>
                  </a:lnTo>
                  <a:lnTo>
                    <a:pt x="1166" y="820"/>
                  </a:lnTo>
                  <a:lnTo>
                    <a:pt x="1172" y="806"/>
                  </a:lnTo>
                  <a:lnTo>
                    <a:pt x="1176" y="792"/>
                  </a:lnTo>
                  <a:lnTo>
                    <a:pt x="1180" y="778"/>
                  </a:lnTo>
                  <a:lnTo>
                    <a:pt x="1182" y="764"/>
                  </a:lnTo>
                  <a:lnTo>
                    <a:pt x="1182" y="750"/>
                  </a:lnTo>
                  <a:lnTo>
                    <a:pt x="1182" y="736"/>
                  </a:lnTo>
                  <a:lnTo>
                    <a:pt x="1180" y="722"/>
                  </a:lnTo>
                  <a:lnTo>
                    <a:pt x="1176" y="710"/>
                  </a:lnTo>
                  <a:lnTo>
                    <a:pt x="1176" y="710"/>
                  </a:lnTo>
                  <a:lnTo>
                    <a:pt x="1170" y="696"/>
                  </a:lnTo>
                  <a:lnTo>
                    <a:pt x="1164" y="686"/>
                  </a:lnTo>
                  <a:lnTo>
                    <a:pt x="1154" y="676"/>
                  </a:lnTo>
                  <a:lnTo>
                    <a:pt x="1146" y="666"/>
                  </a:lnTo>
                  <a:lnTo>
                    <a:pt x="1136" y="658"/>
                  </a:lnTo>
                  <a:lnTo>
                    <a:pt x="1124" y="652"/>
                  </a:lnTo>
                  <a:lnTo>
                    <a:pt x="1112" y="646"/>
                  </a:lnTo>
                  <a:lnTo>
                    <a:pt x="1100" y="642"/>
                  </a:lnTo>
                  <a:lnTo>
                    <a:pt x="1088" y="640"/>
                  </a:lnTo>
                  <a:lnTo>
                    <a:pt x="1074" y="638"/>
                  </a:lnTo>
                  <a:lnTo>
                    <a:pt x="1062" y="636"/>
                  </a:lnTo>
                  <a:lnTo>
                    <a:pt x="1048" y="638"/>
                  </a:lnTo>
                  <a:lnTo>
                    <a:pt x="1034" y="638"/>
                  </a:lnTo>
                  <a:lnTo>
                    <a:pt x="1022" y="642"/>
                  </a:lnTo>
                  <a:lnTo>
                    <a:pt x="1010" y="646"/>
                  </a:lnTo>
                  <a:lnTo>
                    <a:pt x="996" y="652"/>
                  </a:lnTo>
                  <a:lnTo>
                    <a:pt x="996" y="652"/>
                  </a:lnTo>
                  <a:lnTo>
                    <a:pt x="984" y="660"/>
                  </a:lnTo>
                  <a:lnTo>
                    <a:pt x="972" y="668"/>
                  </a:lnTo>
                  <a:lnTo>
                    <a:pt x="964" y="680"/>
                  </a:lnTo>
                  <a:lnTo>
                    <a:pt x="958" y="692"/>
                  </a:lnTo>
                  <a:lnTo>
                    <a:pt x="954" y="704"/>
                  </a:lnTo>
                  <a:lnTo>
                    <a:pt x="954" y="716"/>
                  </a:lnTo>
                  <a:lnTo>
                    <a:pt x="954" y="728"/>
                  </a:lnTo>
                  <a:lnTo>
                    <a:pt x="956" y="740"/>
                  </a:lnTo>
                  <a:lnTo>
                    <a:pt x="960" y="750"/>
                  </a:lnTo>
                  <a:lnTo>
                    <a:pt x="968" y="760"/>
                  </a:lnTo>
                  <a:lnTo>
                    <a:pt x="976" y="766"/>
                  </a:lnTo>
                  <a:lnTo>
                    <a:pt x="984" y="772"/>
                  </a:lnTo>
                  <a:lnTo>
                    <a:pt x="996" y="776"/>
                  </a:lnTo>
                  <a:lnTo>
                    <a:pt x="1008" y="776"/>
                  </a:lnTo>
                  <a:lnTo>
                    <a:pt x="1022" y="774"/>
                  </a:lnTo>
                  <a:lnTo>
                    <a:pt x="1036" y="768"/>
                  </a:lnTo>
                  <a:lnTo>
                    <a:pt x="1036" y="768"/>
                  </a:lnTo>
                  <a:lnTo>
                    <a:pt x="1044" y="788"/>
                  </a:lnTo>
                  <a:lnTo>
                    <a:pt x="1046" y="808"/>
                  </a:lnTo>
                  <a:lnTo>
                    <a:pt x="1042" y="824"/>
                  </a:lnTo>
                  <a:lnTo>
                    <a:pt x="1036" y="838"/>
                  </a:lnTo>
                  <a:lnTo>
                    <a:pt x="1026" y="850"/>
                  </a:lnTo>
                  <a:lnTo>
                    <a:pt x="1012" y="860"/>
                  </a:lnTo>
                  <a:lnTo>
                    <a:pt x="996" y="868"/>
                  </a:lnTo>
                  <a:lnTo>
                    <a:pt x="978" y="874"/>
                  </a:lnTo>
                  <a:lnTo>
                    <a:pt x="958" y="876"/>
                  </a:lnTo>
                  <a:lnTo>
                    <a:pt x="938" y="878"/>
                  </a:lnTo>
                  <a:lnTo>
                    <a:pt x="916" y="878"/>
                  </a:lnTo>
                  <a:lnTo>
                    <a:pt x="894" y="874"/>
                  </a:lnTo>
                  <a:lnTo>
                    <a:pt x="872" y="868"/>
                  </a:lnTo>
                  <a:lnTo>
                    <a:pt x="852" y="860"/>
                  </a:lnTo>
                  <a:lnTo>
                    <a:pt x="834" y="850"/>
                  </a:lnTo>
                  <a:lnTo>
                    <a:pt x="816" y="838"/>
                  </a:lnTo>
                  <a:lnTo>
                    <a:pt x="816" y="838"/>
                  </a:lnTo>
                  <a:lnTo>
                    <a:pt x="834" y="838"/>
                  </a:lnTo>
                  <a:lnTo>
                    <a:pt x="852" y="836"/>
                  </a:lnTo>
                  <a:lnTo>
                    <a:pt x="872" y="828"/>
                  </a:lnTo>
                  <a:lnTo>
                    <a:pt x="888" y="818"/>
                  </a:lnTo>
                  <a:lnTo>
                    <a:pt x="896" y="810"/>
                  </a:lnTo>
                  <a:lnTo>
                    <a:pt x="902" y="802"/>
                  </a:lnTo>
                  <a:lnTo>
                    <a:pt x="906" y="794"/>
                  </a:lnTo>
                  <a:lnTo>
                    <a:pt x="910" y="784"/>
                  </a:lnTo>
                  <a:lnTo>
                    <a:pt x="912" y="772"/>
                  </a:lnTo>
                  <a:lnTo>
                    <a:pt x="914" y="760"/>
                  </a:lnTo>
                  <a:lnTo>
                    <a:pt x="912" y="748"/>
                  </a:lnTo>
                  <a:lnTo>
                    <a:pt x="910" y="734"/>
                  </a:lnTo>
                  <a:lnTo>
                    <a:pt x="910" y="734"/>
                  </a:lnTo>
                  <a:lnTo>
                    <a:pt x="896" y="736"/>
                  </a:lnTo>
                  <a:lnTo>
                    <a:pt x="884" y="738"/>
                  </a:lnTo>
                  <a:lnTo>
                    <a:pt x="870" y="738"/>
                  </a:lnTo>
                  <a:lnTo>
                    <a:pt x="858" y="736"/>
                  </a:lnTo>
                  <a:lnTo>
                    <a:pt x="846" y="734"/>
                  </a:lnTo>
                  <a:lnTo>
                    <a:pt x="836" y="730"/>
                  </a:lnTo>
                  <a:lnTo>
                    <a:pt x="824" y="724"/>
                  </a:lnTo>
                  <a:lnTo>
                    <a:pt x="814" y="718"/>
                  </a:lnTo>
                  <a:lnTo>
                    <a:pt x="794" y="702"/>
                  </a:lnTo>
                  <a:lnTo>
                    <a:pt x="776" y="684"/>
                  </a:lnTo>
                  <a:lnTo>
                    <a:pt x="762" y="662"/>
                  </a:lnTo>
                  <a:lnTo>
                    <a:pt x="750" y="638"/>
                  </a:lnTo>
                  <a:lnTo>
                    <a:pt x="742" y="612"/>
                  </a:lnTo>
                  <a:lnTo>
                    <a:pt x="736" y="586"/>
                  </a:lnTo>
                  <a:lnTo>
                    <a:pt x="734" y="558"/>
                  </a:lnTo>
                  <a:lnTo>
                    <a:pt x="736" y="532"/>
                  </a:lnTo>
                  <a:lnTo>
                    <a:pt x="742" y="508"/>
                  </a:lnTo>
                  <a:lnTo>
                    <a:pt x="746" y="496"/>
                  </a:lnTo>
                  <a:lnTo>
                    <a:pt x="752" y="484"/>
                  </a:lnTo>
                  <a:lnTo>
                    <a:pt x="758" y="474"/>
                  </a:lnTo>
                  <a:lnTo>
                    <a:pt x="766" y="464"/>
                  </a:lnTo>
                  <a:lnTo>
                    <a:pt x="776" y="454"/>
                  </a:lnTo>
                  <a:lnTo>
                    <a:pt x="786" y="446"/>
                  </a:lnTo>
                  <a:lnTo>
                    <a:pt x="786" y="446"/>
                  </a:lnTo>
                  <a:lnTo>
                    <a:pt x="784" y="456"/>
                  </a:lnTo>
                  <a:lnTo>
                    <a:pt x="782" y="468"/>
                  </a:lnTo>
                  <a:lnTo>
                    <a:pt x="784" y="478"/>
                  </a:lnTo>
                  <a:lnTo>
                    <a:pt x="786" y="492"/>
                  </a:lnTo>
                  <a:lnTo>
                    <a:pt x="792" y="504"/>
                  </a:lnTo>
                  <a:lnTo>
                    <a:pt x="796" y="516"/>
                  </a:lnTo>
                  <a:lnTo>
                    <a:pt x="810" y="540"/>
                  </a:lnTo>
                  <a:lnTo>
                    <a:pt x="828" y="560"/>
                  </a:lnTo>
                  <a:lnTo>
                    <a:pt x="846" y="580"/>
                  </a:lnTo>
                  <a:lnTo>
                    <a:pt x="864" y="594"/>
                  </a:lnTo>
                  <a:lnTo>
                    <a:pt x="880" y="602"/>
                  </a:lnTo>
                  <a:lnTo>
                    <a:pt x="880" y="602"/>
                  </a:lnTo>
                  <a:lnTo>
                    <a:pt x="864" y="576"/>
                  </a:lnTo>
                  <a:lnTo>
                    <a:pt x="852" y="550"/>
                  </a:lnTo>
                  <a:lnTo>
                    <a:pt x="844" y="524"/>
                  </a:lnTo>
                  <a:lnTo>
                    <a:pt x="840" y="500"/>
                  </a:lnTo>
                  <a:lnTo>
                    <a:pt x="842" y="476"/>
                  </a:lnTo>
                  <a:lnTo>
                    <a:pt x="844" y="464"/>
                  </a:lnTo>
                  <a:lnTo>
                    <a:pt x="848" y="452"/>
                  </a:lnTo>
                  <a:lnTo>
                    <a:pt x="852" y="442"/>
                  </a:lnTo>
                  <a:lnTo>
                    <a:pt x="858" y="430"/>
                  </a:lnTo>
                  <a:lnTo>
                    <a:pt x="866" y="420"/>
                  </a:lnTo>
                  <a:lnTo>
                    <a:pt x="874" y="410"/>
                  </a:lnTo>
                  <a:lnTo>
                    <a:pt x="884" y="400"/>
                  </a:lnTo>
                  <a:lnTo>
                    <a:pt x="896" y="392"/>
                  </a:lnTo>
                  <a:lnTo>
                    <a:pt x="908" y="384"/>
                  </a:lnTo>
                  <a:lnTo>
                    <a:pt x="922" y="376"/>
                  </a:lnTo>
                  <a:lnTo>
                    <a:pt x="954" y="362"/>
                  </a:lnTo>
                  <a:lnTo>
                    <a:pt x="992" y="352"/>
                  </a:lnTo>
                  <a:lnTo>
                    <a:pt x="1036" y="344"/>
                  </a:lnTo>
                  <a:lnTo>
                    <a:pt x="1086" y="340"/>
                  </a:lnTo>
                  <a:lnTo>
                    <a:pt x="1144" y="338"/>
                  </a:lnTo>
                  <a:lnTo>
                    <a:pt x="1206" y="342"/>
                  </a:lnTo>
                  <a:lnTo>
                    <a:pt x="1206" y="342"/>
                  </a:lnTo>
                  <a:lnTo>
                    <a:pt x="1180" y="344"/>
                  </a:lnTo>
                  <a:lnTo>
                    <a:pt x="1152" y="350"/>
                  </a:lnTo>
                  <a:lnTo>
                    <a:pt x="1128" y="354"/>
                  </a:lnTo>
                  <a:lnTo>
                    <a:pt x="1102" y="362"/>
                  </a:lnTo>
                  <a:lnTo>
                    <a:pt x="1078" y="370"/>
                  </a:lnTo>
                  <a:lnTo>
                    <a:pt x="1056" y="380"/>
                  </a:lnTo>
                  <a:lnTo>
                    <a:pt x="1034" y="390"/>
                  </a:lnTo>
                  <a:lnTo>
                    <a:pt x="1012" y="402"/>
                  </a:lnTo>
                  <a:lnTo>
                    <a:pt x="992" y="416"/>
                  </a:lnTo>
                  <a:lnTo>
                    <a:pt x="974" y="430"/>
                  </a:lnTo>
                  <a:lnTo>
                    <a:pt x="958" y="446"/>
                  </a:lnTo>
                  <a:lnTo>
                    <a:pt x="942" y="464"/>
                  </a:lnTo>
                  <a:lnTo>
                    <a:pt x="926" y="482"/>
                  </a:lnTo>
                  <a:lnTo>
                    <a:pt x="914" y="502"/>
                  </a:lnTo>
                  <a:lnTo>
                    <a:pt x="902" y="522"/>
                  </a:lnTo>
                  <a:lnTo>
                    <a:pt x="892" y="544"/>
                  </a:lnTo>
                  <a:lnTo>
                    <a:pt x="892" y="544"/>
                  </a:lnTo>
                  <a:lnTo>
                    <a:pt x="982" y="478"/>
                  </a:lnTo>
                  <a:lnTo>
                    <a:pt x="982" y="478"/>
                  </a:lnTo>
                  <a:lnTo>
                    <a:pt x="980" y="488"/>
                  </a:lnTo>
                  <a:lnTo>
                    <a:pt x="980" y="498"/>
                  </a:lnTo>
                  <a:lnTo>
                    <a:pt x="980" y="508"/>
                  </a:lnTo>
                  <a:lnTo>
                    <a:pt x="982" y="518"/>
                  </a:lnTo>
                  <a:lnTo>
                    <a:pt x="986" y="530"/>
                  </a:lnTo>
                  <a:lnTo>
                    <a:pt x="990" y="540"/>
                  </a:lnTo>
                  <a:lnTo>
                    <a:pt x="994" y="550"/>
                  </a:lnTo>
                  <a:lnTo>
                    <a:pt x="1002" y="558"/>
                  </a:lnTo>
                  <a:lnTo>
                    <a:pt x="1008" y="568"/>
                  </a:lnTo>
                  <a:lnTo>
                    <a:pt x="1016" y="574"/>
                  </a:lnTo>
                  <a:lnTo>
                    <a:pt x="1026" y="580"/>
                  </a:lnTo>
                  <a:lnTo>
                    <a:pt x="1036" y="584"/>
                  </a:lnTo>
                  <a:lnTo>
                    <a:pt x="1046" y="588"/>
                  </a:lnTo>
                  <a:lnTo>
                    <a:pt x="1058" y="588"/>
                  </a:lnTo>
                  <a:lnTo>
                    <a:pt x="1070" y="588"/>
                  </a:lnTo>
                  <a:lnTo>
                    <a:pt x="1082" y="584"/>
                  </a:lnTo>
                  <a:lnTo>
                    <a:pt x="1082" y="584"/>
                  </a:lnTo>
                  <a:lnTo>
                    <a:pt x="1070" y="574"/>
                  </a:lnTo>
                  <a:lnTo>
                    <a:pt x="1058" y="560"/>
                  </a:lnTo>
                  <a:lnTo>
                    <a:pt x="1048" y="544"/>
                  </a:lnTo>
                  <a:lnTo>
                    <a:pt x="1040" y="526"/>
                  </a:lnTo>
                  <a:lnTo>
                    <a:pt x="1038" y="518"/>
                  </a:lnTo>
                  <a:lnTo>
                    <a:pt x="1038" y="508"/>
                  </a:lnTo>
                  <a:lnTo>
                    <a:pt x="1040" y="498"/>
                  </a:lnTo>
                  <a:lnTo>
                    <a:pt x="1044" y="490"/>
                  </a:lnTo>
                  <a:lnTo>
                    <a:pt x="1048" y="482"/>
                  </a:lnTo>
                  <a:lnTo>
                    <a:pt x="1056" y="472"/>
                  </a:lnTo>
                  <a:lnTo>
                    <a:pt x="1064" y="466"/>
                  </a:lnTo>
                  <a:lnTo>
                    <a:pt x="1076" y="458"/>
                  </a:lnTo>
                  <a:lnTo>
                    <a:pt x="1076" y="458"/>
                  </a:lnTo>
                  <a:lnTo>
                    <a:pt x="1074" y="468"/>
                  </a:lnTo>
                  <a:lnTo>
                    <a:pt x="1074" y="478"/>
                  </a:lnTo>
                  <a:lnTo>
                    <a:pt x="1076" y="488"/>
                  </a:lnTo>
                  <a:lnTo>
                    <a:pt x="1082" y="496"/>
                  </a:lnTo>
                  <a:lnTo>
                    <a:pt x="1088" y="502"/>
                  </a:lnTo>
                  <a:lnTo>
                    <a:pt x="1098" y="506"/>
                  </a:lnTo>
                  <a:lnTo>
                    <a:pt x="1110" y="510"/>
                  </a:lnTo>
                  <a:lnTo>
                    <a:pt x="1124" y="510"/>
                  </a:lnTo>
                  <a:lnTo>
                    <a:pt x="1124" y="510"/>
                  </a:lnTo>
                  <a:lnTo>
                    <a:pt x="1126" y="482"/>
                  </a:lnTo>
                  <a:lnTo>
                    <a:pt x="1134" y="456"/>
                  </a:lnTo>
                  <a:lnTo>
                    <a:pt x="1144" y="434"/>
                  </a:lnTo>
                  <a:lnTo>
                    <a:pt x="1160" y="416"/>
                  </a:lnTo>
                  <a:lnTo>
                    <a:pt x="1168" y="406"/>
                  </a:lnTo>
                  <a:lnTo>
                    <a:pt x="1176" y="400"/>
                  </a:lnTo>
                  <a:lnTo>
                    <a:pt x="1186" y="394"/>
                  </a:lnTo>
                  <a:lnTo>
                    <a:pt x="1198" y="388"/>
                  </a:lnTo>
                  <a:lnTo>
                    <a:pt x="1208" y="384"/>
                  </a:lnTo>
                  <a:lnTo>
                    <a:pt x="1220" y="380"/>
                  </a:lnTo>
                  <a:lnTo>
                    <a:pt x="1234" y="378"/>
                  </a:lnTo>
                  <a:lnTo>
                    <a:pt x="1246" y="378"/>
                  </a:lnTo>
                  <a:lnTo>
                    <a:pt x="1274" y="380"/>
                  </a:lnTo>
                  <a:lnTo>
                    <a:pt x="1306" y="386"/>
                  </a:lnTo>
                  <a:lnTo>
                    <a:pt x="1338" y="398"/>
                  </a:lnTo>
                  <a:lnTo>
                    <a:pt x="1372" y="414"/>
                  </a:lnTo>
                  <a:lnTo>
                    <a:pt x="1408" y="438"/>
                  </a:lnTo>
                  <a:lnTo>
                    <a:pt x="1444" y="468"/>
                  </a:lnTo>
                  <a:lnTo>
                    <a:pt x="1482" y="502"/>
                  </a:lnTo>
                  <a:lnTo>
                    <a:pt x="1520" y="544"/>
                  </a:lnTo>
                  <a:lnTo>
                    <a:pt x="1520" y="544"/>
                  </a:lnTo>
                  <a:lnTo>
                    <a:pt x="1502" y="538"/>
                  </a:lnTo>
                  <a:lnTo>
                    <a:pt x="1482" y="534"/>
                  </a:lnTo>
                  <a:lnTo>
                    <a:pt x="1464" y="532"/>
                  </a:lnTo>
                  <a:lnTo>
                    <a:pt x="1444" y="532"/>
                  </a:lnTo>
                  <a:lnTo>
                    <a:pt x="1422" y="532"/>
                  </a:lnTo>
                  <a:lnTo>
                    <a:pt x="1402" y="534"/>
                  </a:lnTo>
                  <a:lnTo>
                    <a:pt x="1380" y="536"/>
                  </a:lnTo>
                  <a:lnTo>
                    <a:pt x="1360" y="542"/>
                  </a:lnTo>
                  <a:lnTo>
                    <a:pt x="1318" y="554"/>
                  </a:lnTo>
                  <a:lnTo>
                    <a:pt x="1278" y="570"/>
                  </a:lnTo>
                  <a:lnTo>
                    <a:pt x="1240" y="590"/>
                  </a:lnTo>
                  <a:lnTo>
                    <a:pt x="1208" y="612"/>
                  </a:lnTo>
                  <a:lnTo>
                    <a:pt x="1208" y="612"/>
                  </a:lnTo>
                  <a:lnTo>
                    <a:pt x="1226" y="610"/>
                  </a:lnTo>
                  <a:lnTo>
                    <a:pt x="1250" y="606"/>
                  </a:lnTo>
                  <a:lnTo>
                    <a:pt x="1284" y="604"/>
                  </a:lnTo>
                  <a:lnTo>
                    <a:pt x="1326" y="608"/>
                  </a:lnTo>
                  <a:lnTo>
                    <a:pt x="1326" y="608"/>
                  </a:lnTo>
                  <a:lnTo>
                    <a:pt x="1310" y="620"/>
                  </a:lnTo>
                  <a:lnTo>
                    <a:pt x="1294" y="636"/>
                  </a:lnTo>
                  <a:lnTo>
                    <a:pt x="1278" y="654"/>
                  </a:lnTo>
                  <a:lnTo>
                    <a:pt x="1272" y="664"/>
                  </a:lnTo>
                  <a:lnTo>
                    <a:pt x="1266" y="676"/>
                  </a:lnTo>
                  <a:lnTo>
                    <a:pt x="1262" y="688"/>
                  </a:lnTo>
                  <a:lnTo>
                    <a:pt x="1260" y="700"/>
                  </a:lnTo>
                  <a:lnTo>
                    <a:pt x="1258" y="716"/>
                  </a:lnTo>
                  <a:lnTo>
                    <a:pt x="1258" y="732"/>
                  </a:lnTo>
                  <a:lnTo>
                    <a:pt x="1260" y="750"/>
                  </a:lnTo>
                  <a:lnTo>
                    <a:pt x="1264" y="770"/>
                  </a:lnTo>
                  <a:lnTo>
                    <a:pt x="1270" y="792"/>
                  </a:lnTo>
                  <a:lnTo>
                    <a:pt x="1278" y="814"/>
                  </a:lnTo>
                  <a:lnTo>
                    <a:pt x="1278" y="814"/>
                  </a:lnTo>
                  <a:lnTo>
                    <a:pt x="1288" y="836"/>
                  </a:lnTo>
                  <a:lnTo>
                    <a:pt x="1298" y="856"/>
                  </a:lnTo>
                  <a:lnTo>
                    <a:pt x="1312" y="872"/>
                  </a:lnTo>
                  <a:lnTo>
                    <a:pt x="1326" y="888"/>
                  </a:lnTo>
                  <a:lnTo>
                    <a:pt x="1342" y="900"/>
                  </a:lnTo>
                  <a:lnTo>
                    <a:pt x="1358" y="912"/>
                  </a:lnTo>
                  <a:lnTo>
                    <a:pt x="1376" y="920"/>
                  </a:lnTo>
                  <a:lnTo>
                    <a:pt x="1394" y="926"/>
                  </a:lnTo>
                  <a:lnTo>
                    <a:pt x="1414" y="932"/>
                  </a:lnTo>
                  <a:lnTo>
                    <a:pt x="1432" y="934"/>
                  </a:lnTo>
                  <a:lnTo>
                    <a:pt x="1452" y="936"/>
                  </a:lnTo>
                  <a:lnTo>
                    <a:pt x="1472" y="936"/>
                  </a:lnTo>
                  <a:lnTo>
                    <a:pt x="1490" y="934"/>
                  </a:lnTo>
                  <a:lnTo>
                    <a:pt x="1508" y="930"/>
                  </a:lnTo>
                  <a:lnTo>
                    <a:pt x="1526" y="924"/>
                  </a:lnTo>
                  <a:lnTo>
                    <a:pt x="1544" y="916"/>
                  </a:lnTo>
                  <a:lnTo>
                    <a:pt x="1544" y="916"/>
                  </a:lnTo>
                  <a:lnTo>
                    <a:pt x="1558" y="908"/>
                  </a:lnTo>
                  <a:lnTo>
                    <a:pt x="1572" y="900"/>
                  </a:lnTo>
                  <a:lnTo>
                    <a:pt x="1584" y="890"/>
                  </a:lnTo>
                  <a:lnTo>
                    <a:pt x="1594" y="880"/>
                  </a:lnTo>
                  <a:lnTo>
                    <a:pt x="1602" y="868"/>
                  </a:lnTo>
                  <a:lnTo>
                    <a:pt x="1610" y="858"/>
                  </a:lnTo>
                  <a:lnTo>
                    <a:pt x="1614" y="846"/>
                  </a:lnTo>
                  <a:lnTo>
                    <a:pt x="1618" y="836"/>
                  </a:lnTo>
                  <a:lnTo>
                    <a:pt x="1620" y="824"/>
                  </a:lnTo>
                  <a:lnTo>
                    <a:pt x="1622" y="812"/>
                  </a:lnTo>
                  <a:lnTo>
                    <a:pt x="1620" y="802"/>
                  </a:lnTo>
                  <a:lnTo>
                    <a:pt x="1620" y="790"/>
                  </a:lnTo>
                  <a:lnTo>
                    <a:pt x="1616" y="780"/>
                  </a:lnTo>
                  <a:lnTo>
                    <a:pt x="1612" y="770"/>
                  </a:lnTo>
                  <a:lnTo>
                    <a:pt x="1602" y="752"/>
                  </a:lnTo>
                  <a:lnTo>
                    <a:pt x="1602" y="752"/>
                  </a:lnTo>
                  <a:lnTo>
                    <a:pt x="1588" y="736"/>
                  </a:lnTo>
                  <a:lnTo>
                    <a:pt x="1572" y="724"/>
                  </a:lnTo>
                  <a:lnTo>
                    <a:pt x="1554" y="716"/>
                  </a:lnTo>
                  <a:lnTo>
                    <a:pt x="1534" y="710"/>
                  </a:lnTo>
                  <a:lnTo>
                    <a:pt x="1524" y="710"/>
                  </a:lnTo>
                  <a:lnTo>
                    <a:pt x="1514" y="710"/>
                  </a:lnTo>
                  <a:lnTo>
                    <a:pt x="1504" y="712"/>
                  </a:lnTo>
                  <a:lnTo>
                    <a:pt x="1494" y="716"/>
                  </a:lnTo>
                  <a:lnTo>
                    <a:pt x="1484" y="720"/>
                  </a:lnTo>
                  <a:lnTo>
                    <a:pt x="1474" y="726"/>
                  </a:lnTo>
                  <a:lnTo>
                    <a:pt x="1464" y="734"/>
                  </a:lnTo>
                  <a:lnTo>
                    <a:pt x="1456" y="742"/>
                  </a:lnTo>
                  <a:lnTo>
                    <a:pt x="1456" y="742"/>
                  </a:lnTo>
                  <a:lnTo>
                    <a:pt x="1450" y="750"/>
                  </a:lnTo>
                  <a:lnTo>
                    <a:pt x="1446" y="760"/>
                  </a:lnTo>
                  <a:lnTo>
                    <a:pt x="1442" y="770"/>
                  </a:lnTo>
                  <a:lnTo>
                    <a:pt x="1442" y="780"/>
                  </a:lnTo>
                  <a:lnTo>
                    <a:pt x="1442" y="792"/>
                  </a:lnTo>
                  <a:lnTo>
                    <a:pt x="1442" y="802"/>
                  </a:lnTo>
                  <a:lnTo>
                    <a:pt x="1446" y="814"/>
                  </a:lnTo>
                  <a:lnTo>
                    <a:pt x="1450" y="824"/>
                  </a:lnTo>
                  <a:lnTo>
                    <a:pt x="1456" y="834"/>
                  </a:lnTo>
                  <a:lnTo>
                    <a:pt x="1464" y="844"/>
                  </a:lnTo>
                  <a:lnTo>
                    <a:pt x="1472" y="852"/>
                  </a:lnTo>
                  <a:lnTo>
                    <a:pt x="1482" y="858"/>
                  </a:lnTo>
                  <a:lnTo>
                    <a:pt x="1492" y="862"/>
                  </a:lnTo>
                  <a:lnTo>
                    <a:pt x="1506" y="866"/>
                  </a:lnTo>
                  <a:lnTo>
                    <a:pt x="1520" y="866"/>
                  </a:lnTo>
                  <a:lnTo>
                    <a:pt x="1534" y="864"/>
                  </a:lnTo>
                  <a:lnTo>
                    <a:pt x="1534" y="864"/>
                  </a:lnTo>
                  <a:lnTo>
                    <a:pt x="1522" y="874"/>
                  </a:lnTo>
                  <a:lnTo>
                    <a:pt x="1510" y="882"/>
                  </a:lnTo>
                  <a:lnTo>
                    <a:pt x="1498" y="886"/>
                  </a:lnTo>
                  <a:lnTo>
                    <a:pt x="1484" y="892"/>
                  </a:lnTo>
                  <a:lnTo>
                    <a:pt x="1472" y="894"/>
                  </a:lnTo>
                  <a:lnTo>
                    <a:pt x="1458" y="894"/>
                  </a:lnTo>
                  <a:lnTo>
                    <a:pt x="1446" y="894"/>
                  </a:lnTo>
                  <a:lnTo>
                    <a:pt x="1434" y="892"/>
                  </a:lnTo>
                  <a:lnTo>
                    <a:pt x="1422" y="890"/>
                  </a:lnTo>
                  <a:lnTo>
                    <a:pt x="1412" y="886"/>
                  </a:lnTo>
                  <a:lnTo>
                    <a:pt x="1402" y="880"/>
                  </a:lnTo>
                  <a:lnTo>
                    <a:pt x="1392" y="874"/>
                  </a:lnTo>
                  <a:lnTo>
                    <a:pt x="1384" y="866"/>
                  </a:lnTo>
                  <a:lnTo>
                    <a:pt x="1376" y="856"/>
                  </a:lnTo>
                  <a:lnTo>
                    <a:pt x="1370" y="846"/>
                  </a:lnTo>
                  <a:lnTo>
                    <a:pt x="1364" y="836"/>
                  </a:lnTo>
                  <a:lnTo>
                    <a:pt x="1364" y="836"/>
                  </a:lnTo>
                  <a:lnTo>
                    <a:pt x="1354" y="808"/>
                  </a:lnTo>
                  <a:lnTo>
                    <a:pt x="1352" y="792"/>
                  </a:lnTo>
                  <a:lnTo>
                    <a:pt x="1350" y="778"/>
                  </a:lnTo>
                  <a:lnTo>
                    <a:pt x="1350" y="762"/>
                  </a:lnTo>
                  <a:lnTo>
                    <a:pt x="1352" y="746"/>
                  </a:lnTo>
                  <a:lnTo>
                    <a:pt x="1358" y="728"/>
                  </a:lnTo>
                  <a:lnTo>
                    <a:pt x="1366" y="712"/>
                  </a:lnTo>
                  <a:lnTo>
                    <a:pt x="1366" y="712"/>
                  </a:lnTo>
                  <a:lnTo>
                    <a:pt x="1372" y="702"/>
                  </a:lnTo>
                  <a:lnTo>
                    <a:pt x="1378" y="694"/>
                  </a:lnTo>
                  <a:lnTo>
                    <a:pt x="1394" y="680"/>
                  </a:lnTo>
                  <a:lnTo>
                    <a:pt x="1412" y="668"/>
                  </a:lnTo>
                  <a:lnTo>
                    <a:pt x="1434" y="660"/>
                  </a:lnTo>
                  <a:lnTo>
                    <a:pt x="1458" y="654"/>
                  </a:lnTo>
                  <a:lnTo>
                    <a:pt x="1482" y="652"/>
                  </a:lnTo>
                  <a:lnTo>
                    <a:pt x="1510" y="652"/>
                  </a:lnTo>
                  <a:lnTo>
                    <a:pt x="1538" y="654"/>
                  </a:lnTo>
                  <a:lnTo>
                    <a:pt x="1568" y="658"/>
                  </a:lnTo>
                  <a:lnTo>
                    <a:pt x="1596" y="664"/>
                  </a:lnTo>
                  <a:lnTo>
                    <a:pt x="1626" y="672"/>
                  </a:lnTo>
                  <a:lnTo>
                    <a:pt x="1654" y="682"/>
                  </a:lnTo>
                  <a:lnTo>
                    <a:pt x="1682" y="694"/>
                  </a:lnTo>
                  <a:lnTo>
                    <a:pt x="1708" y="708"/>
                  </a:lnTo>
                  <a:lnTo>
                    <a:pt x="1732" y="722"/>
                  </a:lnTo>
                  <a:lnTo>
                    <a:pt x="1756" y="738"/>
                  </a:lnTo>
                  <a:lnTo>
                    <a:pt x="1756" y="738"/>
                  </a:lnTo>
                  <a:lnTo>
                    <a:pt x="1790" y="764"/>
                  </a:lnTo>
                  <a:lnTo>
                    <a:pt x="1828" y="790"/>
                  </a:lnTo>
                  <a:lnTo>
                    <a:pt x="1870" y="816"/>
                  </a:lnTo>
                  <a:lnTo>
                    <a:pt x="1914" y="842"/>
                  </a:lnTo>
                  <a:lnTo>
                    <a:pt x="1964" y="866"/>
                  </a:lnTo>
                  <a:lnTo>
                    <a:pt x="2016" y="890"/>
                  </a:lnTo>
                  <a:lnTo>
                    <a:pt x="2074" y="912"/>
                  </a:lnTo>
                  <a:lnTo>
                    <a:pt x="2136" y="932"/>
                  </a:lnTo>
                  <a:lnTo>
                    <a:pt x="2136" y="932"/>
                  </a:lnTo>
                  <a:lnTo>
                    <a:pt x="2162" y="938"/>
                  </a:lnTo>
                  <a:lnTo>
                    <a:pt x="2188" y="944"/>
                  </a:lnTo>
                  <a:lnTo>
                    <a:pt x="2216" y="948"/>
                  </a:lnTo>
                  <a:lnTo>
                    <a:pt x="2246" y="952"/>
                  </a:lnTo>
                  <a:lnTo>
                    <a:pt x="2276" y="954"/>
                  </a:lnTo>
                  <a:lnTo>
                    <a:pt x="2308" y="956"/>
                  </a:lnTo>
                  <a:lnTo>
                    <a:pt x="2372" y="954"/>
                  </a:lnTo>
                  <a:lnTo>
                    <a:pt x="2438" y="948"/>
                  </a:lnTo>
                  <a:lnTo>
                    <a:pt x="2472" y="942"/>
                  </a:lnTo>
                  <a:lnTo>
                    <a:pt x="2504" y="936"/>
                  </a:lnTo>
                  <a:lnTo>
                    <a:pt x="2538" y="928"/>
                  </a:lnTo>
                  <a:lnTo>
                    <a:pt x="2570" y="920"/>
                  </a:lnTo>
                  <a:lnTo>
                    <a:pt x="2602" y="910"/>
                  </a:lnTo>
                  <a:lnTo>
                    <a:pt x="2634" y="898"/>
                  </a:lnTo>
                  <a:lnTo>
                    <a:pt x="2618" y="848"/>
                  </a:lnTo>
                  <a:close/>
                  <a:moveTo>
                    <a:pt x="2052" y="538"/>
                  </a:moveTo>
                  <a:lnTo>
                    <a:pt x="2052" y="538"/>
                  </a:lnTo>
                  <a:lnTo>
                    <a:pt x="2050" y="548"/>
                  </a:lnTo>
                  <a:lnTo>
                    <a:pt x="2048" y="556"/>
                  </a:lnTo>
                  <a:lnTo>
                    <a:pt x="2044" y="562"/>
                  </a:lnTo>
                  <a:lnTo>
                    <a:pt x="2038" y="568"/>
                  </a:lnTo>
                  <a:lnTo>
                    <a:pt x="2030" y="572"/>
                  </a:lnTo>
                  <a:lnTo>
                    <a:pt x="2024" y="576"/>
                  </a:lnTo>
                  <a:lnTo>
                    <a:pt x="2014" y="578"/>
                  </a:lnTo>
                  <a:lnTo>
                    <a:pt x="2006" y="578"/>
                  </a:lnTo>
                  <a:lnTo>
                    <a:pt x="1998" y="578"/>
                  </a:lnTo>
                  <a:lnTo>
                    <a:pt x="1988" y="576"/>
                  </a:lnTo>
                  <a:lnTo>
                    <a:pt x="1980" y="572"/>
                  </a:lnTo>
                  <a:lnTo>
                    <a:pt x="1972" y="568"/>
                  </a:lnTo>
                  <a:lnTo>
                    <a:pt x="1964" y="560"/>
                  </a:lnTo>
                  <a:lnTo>
                    <a:pt x="1956" y="552"/>
                  </a:lnTo>
                  <a:lnTo>
                    <a:pt x="1952" y="542"/>
                  </a:lnTo>
                  <a:lnTo>
                    <a:pt x="1946" y="530"/>
                  </a:lnTo>
                  <a:lnTo>
                    <a:pt x="1946" y="530"/>
                  </a:lnTo>
                  <a:lnTo>
                    <a:pt x="1958" y="540"/>
                  </a:lnTo>
                  <a:lnTo>
                    <a:pt x="1972" y="546"/>
                  </a:lnTo>
                  <a:lnTo>
                    <a:pt x="1984" y="552"/>
                  </a:lnTo>
                  <a:lnTo>
                    <a:pt x="1998" y="554"/>
                  </a:lnTo>
                  <a:lnTo>
                    <a:pt x="2012" y="554"/>
                  </a:lnTo>
                  <a:lnTo>
                    <a:pt x="2026" y="550"/>
                  </a:lnTo>
                  <a:lnTo>
                    <a:pt x="2040" y="546"/>
                  </a:lnTo>
                  <a:lnTo>
                    <a:pt x="2052" y="538"/>
                  </a:lnTo>
                  <a:lnTo>
                    <a:pt x="2052" y="538"/>
                  </a:lnTo>
                  <a:close/>
                  <a:moveTo>
                    <a:pt x="1672" y="406"/>
                  </a:moveTo>
                  <a:lnTo>
                    <a:pt x="1672" y="406"/>
                  </a:lnTo>
                  <a:lnTo>
                    <a:pt x="1660" y="366"/>
                  </a:lnTo>
                  <a:lnTo>
                    <a:pt x="1652" y="328"/>
                  </a:lnTo>
                  <a:lnTo>
                    <a:pt x="1648" y="292"/>
                  </a:lnTo>
                  <a:lnTo>
                    <a:pt x="1646" y="258"/>
                  </a:lnTo>
                  <a:lnTo>
                    <a:pt x="1650" y="228"/>
                  </a:lnTo>
                  <a:lnTo>
                    <a:pt x="1656" y="198"/>
                  </a:lnTo>
                  <a:lnTo>
                    <a:pt x="1666" y="172"/>
                  </a:lnTo>
                  <a:lnTo>
                    <a:pt x="1680" y="144"/>
                  </a:lnTo>
                  <a:lnTo>
                    <a:pt x="1680" y="144"/>
                  </a:lnTo>
                  <a:lnTo>
                    <a:pt x="1688" y="130"/>
                  </a:lnTo>
                  <a:lnTo>
                    <a:pt x="1698" y="118"/>
                  </a:lnTo>
                  <a:lnTo>
                    <a:pt x="1708" y="108"/>
                  </a:lnTo>
                  <a:lnTo>
                    <a:pt x="1720" y="100"/>
                  </a:lnTo>
                  <a:lnTo>
                    <a:pt x="1732" y="92"/>
                  </a:lnTo>
                  <a:lnTo>
                    <a:pt x="1744" y="88"/>
                  </a:lnTo>
                  <a:lnTo>
                    <a:pt x="1756" y="84"/>
                  </a:lnTo>
                  <a:lnTo>
                    <a:pt x="1768" y="80"/>
                  </a:lnTo>
                  <a:lnTo>
                    <a:pt x="1794" y="80"/>
                  </a:lnTo>
                  <a:lnTo>
                    <a:pt x="1818" y="82"/>
                  </a:lnTo>
                  <a:lnTo>
                    <a:pt x="1842" y="86"/>
                  </a:lnTo>
                  <a:lnTo>
                    <a:pt x="1862" y="94"/>
                  </a:lnTo>
                  <a:lnTo>
                    <a:pt x="1862" y="94"/>
                  </a:lnTo>
                  <a:lnTo>
                    <a:pt x="1836" y="92"/>
                  </a:lnTo>
                  <a:lnTo>
                    <a:pt x="1810" y="94"/>
                  </a:lnTo>
                  <a:lnTo>
                    <a:pt x="1788" y="100"/>
                  </a:lnTo>
                  <a:lnTo>
                    <a:pt x="1768" y="110"/>
                  </a:lnTo>
                  <a:lnTo>
                    <a:pt x="1752" y="122"/>
                  </a:lnTo>
                  <a:lnTo>
                    <a:pt x="1740" y="138"/>
                  </a:lnTo>
                  <a:lnTo>
                    <a:pt x="1736" y="146"/>
                  </a:lnTo>
                  <a:lnTo>
                    <a:pt x="1732" y="154"/>
                  </a:lnTo>
                  <a:lnTo>
                    <a:pt x="1732" y="162"/>
                  </a:lnTo>
                  <a:lnTo>
                    <a:pt x="1732" y="172"/>
                  </a:lnTo>
                  <a:lnTo>
                    <a:pt x="1732" y="172"/>
                  </a:lnTo>
                  <a:lnTo>
                    <a:pt x="1756" y="168"/>
                  </a:lnTo>
                  <a:lnTo>
                    <a:pt x="1772" y="168"/>
                  </a:lnTo>
                  <a:lnTo>
                    <a:pt x="1786" y="170"/>
                  </a:lnTo>
                  <a:lnTo>
                    <a:pt x="1800" y="172"/>
                  </a:lnTo>
                  <a:lnTo>
                    <a:pt x="1814" y="176"/>
                  </a:lnTo>
                  <a:lnTo>
                    <a:pt x="1826" y="182"/>
                  </a:lnTo>
                  <a:lnTo>
                    <a:pt x="1838" y="190"/>
                  </a:lnTo>
                  <a:lnTo>
                    <a:pt x="1838" y="190"/>
                  </a:lnTo>
                  <a:lnTo>
                    <a:pt x="1792" y="196"/>
                  </a:lnTo>
                  <a:lnTo>
                    <a:pt x="1770" y="200"/>
                  </a:lnTo>
                  <a:lnTo>
                    <a:pt x="1752" y="204"/>
                  </a:lnTo>
                  <a:lnTo>
                    <a:pt x="1734" y="210"/>
                  </a:lnTo>
                  <a:lnTo>
                    <a:pt x="1718" y="218"/>
                  </a:lnTo>
                  <a:lnTo>
                    <a:pt x="1704" y="226"/>
                  </a:lnTo>
                  <a:lnTo>
                    <a:pt x="1694" y="236"/>
                  </a:lnTo>
                  <a:lnTo>
                    <a:pt x="1684" y="248"/>
                  </a:lnTo>
                  <a:lnTo>
                    <a:pt x="1676" y="262"/>
                  </a:lnTo>
                  <a:lnTo>
                    <a:pt x="1670" y="278"/>
                  </a:lnTo>
                  <a:lnTo>
                    <a:pt x="1666" y="298"/>
                  </a:lnTo>
                  <a:lnTo>
                    <a:pt x="1664" y="320"/>
                  </a:lnTo>
                  <a:lnTo>
                    <a:pt x="1664" y="346"/>
                  </a:lnTo>
                  <a:lnTo>
                    <a:pt x="1668" y="374"/>
                  </a:lnTo>
                  <a:lnTo>
                    <a:pt x="1672" y="406"/>
                  </a:lnTo>
                  <a:lnTo>
                    <a:pt x="1672" y="406"/>
                  </a:lnTo>
                  <a:close/>
                  <a:moveTo>
                    <a:pt x="510" y="578"/>
                  </a:moveTo>
                  <a:lnTo>
                    <a:pt x="510" y="578"/>
                  </a:lnTo>
                  <a:lnTo>
                    <a:pt x="518" y="568"/>
                  </a:lnTo>
                  <a:lnTo>
                    <a:pt x="526" y="558"/>
                  </a:lnTo>
                  <a:lnTo>
                    <a:pt x="536" y="552"/>
                  </a:lnTo>
                  <a:lnTo>
                    <a:pt x="546" y="548"/>
                  </a:lnTo>
                  <a:lnTo>
                    <a:pt x="556" y="546"/>
                  </a:lnTo>
                  <a:lnTo>
                    <a:pt x="566" y="544"/>
                  </a:lnTo>
                  <a:lnTo>
                    <a:pt x="576" y="546"/>
                  </a:lnTo>
                  <a:lnTo>
                    <a:pt x="584" y="548"/>
                  </a:lnTo>
                  <a:lnTo>
                    <a:pt x="594" y="552"/>
                  </a:lnTo>
                  <a:lnTo>
                    <a:pt x="602" y="558"/>
                  </a:lnTo>
                  <a:lnTo>
                    <a:pt x="610" y="566"/>
                  </a:lnTo>
                  <a:lnTo>
                    <a:pt x="616" y="574"/>
                  </a:lnTo>
                  <a:lnTo>
                    <a:pt x="622" y="582"/>
                  </a:lnTo>
                  <a:lnTo>
                    <a:pt x="628" y="592"/>
                  </a:lnTo>
                  <a:lnTo>
                    <a:pt x="630" y="604"/>
                  </a:lnTo>
                  <a:lnTo>
                    <a:pt x="634" y="616"/>
                  </a:lnTo>
                  <a:lnTo>
                    <a:pt x="634" y="616"/>
                  </a:lnTo>
                  <a:lnTo>
                    <a:pt x="624" y="604"/>
                  </a:lnTo>
                  <a:lnTo>
                    <a:pt x="610" y="594"/>
                  </a:lnTo>
                  <a:lnTo>
                    <a:pt x="596" y="586"/>
                  </a:lnTo>
                  <a:lnTo>
                    <a:pt x="580" y="578"/>
                  </a:lnTo>
                  <a:lnTo>
                    <a:pt x="562" y="574"/>
                  </a:lnTo>
                  <a:lnTo>
                    <a:pt x="544" y="572"/>
                  </a:lnTo>
                  <a:lnTo>
                    <a:pt x="526" y="574"/>
                  </a:lnTo>
                  <a:lnTo>
                    <a:pt x="510" y="578"/>
                  </a:lnTo>
                  <a:lnTo>
                    <a:pt x="510" y="578"/>
                  </a:lnTo>
                  <a:close/>
                  <a:moveTo>
                    <a:pt x="56" y="808"/>
                  </a:moveTo>
                  <a:lnTo>
                    <a:pt x="56" y="808"/>
                  </a:lnTo>
                  <a:lnTo>
                    <a:pt x="52" y="820"/>
                  </a:lnTo>
                  <a:lnTo>
                    <a:pt x="50" y="834"/>
                  </a:lnTo>
                  <a:lnTo>
                    <a:pt x="50" y="848"/>
                  </a:lnTo>
                  <a:lnTo>
                    <a:pt x="52" y="862"/>
                  </a:lnTo>
                  <a:lnTo>
                    <a:pt x="56" y="876"/>
                  </a:lnTo>
                  <a:lnTo>
                    <a:pt x="64" y="888"/>
                  </a:lnTo>
                  <a:lnTo>
                    <a:pt x="74" y="898"/>
                  </a:lnTo>
                  <a:lnTo>
                    <a:pt x="86" y="908"/>
                  </a:lnTo>
                  <a:lnTo>
                    <a:pt x="86" y="908"/>
                  </a:lnTo>
                  <a:lnTo>
                    <a:pt x="74" y="906"/>
                  </a:lnTo>
                  <a:lnTo>
                    <a:pt x="62" y="902"/>
                  </a:lnTo>
                  <a:lnTo>
                    <a:pt x="52" y="898"/>
                  </a:lnTo>
                  <a:lnTo>
                    <a:pt x="44" y="892"/>
                  </a:lnTo>
                  <a:lnTo>
                    <a:pt x="38" y="884"/>
                  </a:lnTo>
                  <a:lnTo>
                    <a:pt x="32" y="876"/>
                  </a:lnTo>
                  <a:lnTo>
                    <a:pt x="28" y="868"/>
                  </a:lnTo>
                  <a:lnTo>
                    <a:pt x="26" y="860"/>
                  </a:lnTo>
                  <a:lnTo>
                    <a:pt x="26" y="852"/>
                  </a:lnTo>
                  <a:lnTo>
                    <a:pt x="26" y="842"/>
                  </a:lnTo>
                  <a:lnTo>
                    <a:pt x="28" y="834"/>
                  </a:lnTo>
                  <a:lnTo>
                    <a:pt x="30" y="826"/>
                  </a:lnTo>
                  <a:lnTo>
                    <a:pt x="34" y="820"/>
                  </a:lnTo>
                  <a:lnTo>
                    <a:pt x="40" y="814"/>
                  </a:lnTo>
                  <a:lnTo>
                    <a:pt x="48" y="810"/>
                  </a:lnTo>
                  <a:lnTo>
                    <a:pt x="56" y="808"/>
                  </a:lnTo>
                  <a:lnTo>
                    <a:pt x="56" y="808"/>
                  </a:lnTo>
                  <a:close/>
                  <a:moveTo>
                    <a:pt x="1018" y="732"/>
                  </a:moveTo>
                  <a:lnTo>
                    <a:pt x="1018" y="732"/>
                  </a:lnTo>
                  <a:lnTo>
                    <a:pt x="1008" y="732"/>
                  </a:lnTo>
                  <a:lnTo>
                    <a:pt x="1002" y="730"/>
                  </a:lnTo>
                  <a:lnTo>
                    <a:pt x="998" y="724"/>
                  </a:lnTo>
                  <a:lnTo>
                    <a:pt x="996" y="716"/>
                  </a:lnTo>
                  <a:lnTo>
                    <a:pt x="998" y="706"/>
                  </a:lnTo>
                  <a:lnTo>
                    <a:pt x="1002" y="698"/>
                  </a:lnTo>
                  <a:lnTo>
                    <a:pt x="1010" y="690"/>
                  </a:lnTo>
                  <a:lnTo>
                    <a:pt x="1020" y="684"/>
                  </a:lnTo>
                  <a:lnTo>
                    <a:pt x="1020" y="684"/>
                  </a:lnTo>
                  <a:lnTo>
                    <a:pt x="1040" y="678"/>
                  </a:lnTo>
                  <a:lnTo>
                    <a:pt x="1064" y="676"/>
                  </a:lnTo>
                  <a:lnTo>
                    <a:pt x="1076" y="678"/>
                  </a:lnTo>
                  <a:lnTo>
                    <a:pt x="1086" y="680"/>
                  </a:lnTo>
                  <a:lnTo>
                    <a:pt x="1098" y="682"/>
                  </a:lnTo>
                  <a:lnTo>
                    <a:pt x="1108" y="688"/>
                  </a:lnTo>
                  <a:lnTo>
                    <a:pt x="1118" y="696"/>
                  </a:lnTo>
                  <a:lnTo>
                    <a:pt x="1124" y="704"/>
                  </a:lnTo>
                  <a:lnTo>
                    <a:pt x="1130" y="716"/>
                  </a:lnTo>
                  <a:lnTo>
                    <a:pt x="1132" y="730"/>
                  </a:lnTo>
                  <a:lnTo>
                    <a:pt x="1132" y="746"/>
                  </a:lnTo>
                  <a:lnTo>
                    <a:pt x="1130" y="764"/>
                  </a:lnTo>
                  <a:lnTo>
                    <a:pt x="1124" y="786"/>
                  </a:lnTo>
                  <a:lnTo>
                    <a:pt x="1114" y="810"/>
                  </a:lnTo>
                  <a:lnTo>
                    <a:pt x="1114" y="810"/>
                  </a:lnTo>
                  <a:lnTo>
                    <a:pt x="1106" y="790"/>
                  </a:lnTo>
                  <a:lnTo>
                    <a:pt x="1102" y="772"/>
                  </a:lnTo>
                  <a:lnTo>
                    <a:pt x="1096" y="756"/>
                  </a:lnTo>
                  <a:lnTo>
                    <a:pt x="1088" y="742"/>
                  </a:lnTo>
                  <a:lnTo>
                    <a:pt x="1084" y="736"/>
                  </a:lnTo>
                  <a:lnTo>
                    <a:pt x="1078" y="732"/>
                  </a:lnTo>
                  <a:lnTo>
                    <a:pt x="1072" y="730"/>
                  </a:lnTo>
                  <a:lnTo>
                    <a:pt x="1064" y="728"/>
                  </a:lnTo>
                  <a:lnTo>
                    <a:pt x="1056" y="726"/>
                  </a:lnTo>
                  <a:lnTo>
                    <a:pt x="1044" y="726"/>
                  </a:lnTo>
                  <a:lnTo>
                    <a:pt x="1018" y="732"/>
                  </a:lnTo>
                  <a:lnTo>
                    <a:pt x="1018" y="732"/>
                  </a:lnTo>
                  <a:close/>
                  <a:moveTo>
                    <a:pt x="850" y="790"/>
                  </a:moveTo>
                  <a:lnTo>
                    <a:pt x="850" y="790"/>
                  </a:lnTo>
                  <a:lnTo>
                    <a:pt x="840" y="796"/>
                  </a:lnTo>
                  <a:lnTo>
                    <a:pt x="830" y="800"/>
                  </a:lnTo>
                  <a:lnTo>
                    <a:pt x="818" y="804"/>
                  </a:lnTo>
                  <a:lnTo>
                    <a:pt x="808" y="802"/>
                  </a:lnTo>
                  <a:lnTo>
                    <a:pt x="798" y="800"/>
                  </a:lnTo>
                  <a:lnTo>
                    <a:pt x="790" y="796"/>
                  </a:lnTo>
                  <a:lnTo>
                    <a:pt x="780" y="790"/>
                  </a:lnTo>
                  <a:lnTo>
                    <a:pt x="772" y="782"/>
                  </a:lnTo>
                  <a:lnTo>
                    <a:pt x="764" y="772"/>
                  </a:lnTo>
                  <a:lnTo>
                    <a:pt x="756" y="760"/>
                  </a:lnTo>
                  <a:lnTo>
                    <a:pt x="750" y="748"/>
                  </a:lnTo>
                  <a:lnTo>
                    <a:pt x="744" y="732"/>
                  </a:lnTo>
                  <a:lnTo>
                    <a:pt x="740" y="718"/>
                  </a:lnTo>
                  <a:lnTo>
                    <a:pt x="736" y="700"/>
                  </a:lnTo>
                  <a:lnTo>
                    <a:pt x="732" y="684"/>
                  </a:lnTo>
                  <a:lnTo>
                    <a:pt x="732" y="666"/>
                  </a:lnTo>
                  <a:lnTo>
                    <a:pt x="732" y="666"/>
                  </a:lnTo>
                  <a:lnTo>
                    <a:pt x="742" y="692"/>
                  </a:lnTo>
                  <a:lnTo>
                    <a:pt x="754" y="716"/>
                  </a:lnTo>
                  <a:lnTo>
                    <a:pt x="768" y="734"/>
                  </a:lnTo>
                  <a:lnTo>
                    <a:pt x="782" y="750"/>
                  </a:lnTo>
                  <a:lnTo>
                    <a:pt x="798" y="764"/>
                  </a:lnTo>
                  <a:lnTo>
                    <a:pt x="814" y="774"/>
                  </a:lnTo>
                  <a:lnTo>
                    <a:pt x="832" y="782"/>
                  </a:lnTo>
                  <a:lnTo>
                    <a:pt x="850" y="790"/>
                  </a:lnTo>
                  <a:lnTo>
                    <a:pt x="850" y="790"/>
                  </a:lnTo>
                  <a:close/>
                  <a:moveTo>
                    <a:pt x="1478" y="764"/>
                  </a:moveTo>
                  <a:lnTo>
                    <a:pt x="1478" y="764"/>
                  </a:lnTo>
                  <a:lnTo>
                    <a:pt x="1484" y="756"/>
                  </a:lnTo>
                  <a:lnTo>
                    <a:pt x="1492" y="752"/>
                  </a:lnTo>
                  <a:lnTo>
                    <a:pt x="1502" y="748"/>
                  </a:lnTo>
                  <a:lnTo>
                    <a:pt x="1510" y="744"/>
                  </a:lnTo>
                  <a:lnTo>
                    <a:pt x="1520" y="744"/>
                  </a:lnTo>
                  <a:lnTo>
                    <a:pt x="1530" y="744"/>
                  </a:lnTo>
                  <a:lnTo>
                    <a:pt x="1540" y="744"/>
                  </a:lnTo>
                  <a:lnTo>
                    <a:pt x="1550" y="746"/>
                  </a:lnTo>
                  <a:lnTo>
                    <a:pt x="1558" y="750"/>
                  </a:lnTo>
                  <a:lnTo>
                    <a:pt x="1566" y="754"/>
                  </a:lnTo>
                  <a:lnTo>
                    <a:pt x="1574" y="760"/>
                  </a:lnTo>
                  <a:lnTo>
                    <a:pt x="1582" y="766"/>
                  </a:lnTo>
                  <a:lnTo>
                    <a:pt x="1588" y="774"/>
                  </a:lnTo>
                  <a:lnTo>
                    <a:pt x="1592" y="784"/>
                  </a:lnTo>
                  <a:lnTo>
                    <a:pt x="1594" y="794"/>
                  </a:lnTo>
                  <a:lnTo>
                    <a:pt x="1596" y="806"/>
                  </a:lnTo>
                  <a:lnTo>
                    <a:pt x="1596" y="806"/>
                  </a:lnTo>
                  <a:lnTo>
                    <a:pt x="1590" y="798"/>
                  </a:lnTo>
                  <a:lnTo>
                    <a:pt x="1584" y="790"/>
                  </a:lnTo>
                  <a:lnTo>
                    <a:pt x="1576" y="784"/>
                  </a:lnTo>
                  <a:lnTo>
                    <a:pt x="1568" y="780"/>
                  </a:lnTo>
                  <a:lnTo>
                    <a:pt x="1550" y="776"/>
                  </a:lnTo>
                  <a:lnTo>
                    <a:pt x="1530" y="774"/>
                  </a:lnTo>
                  <a:lnTo>
                    <a:pt x="1494" y="772"/>
                  </a:lnTo>
                  <a:lnTo>
                    <a:pt x="1484" y="770"/>
                  </a:lnTo>
                  <a:lnTo>
                    <a:pt x="1480" y="766"/>
                  </a:lnTo>
                  <a:lnTo>
                    <a:pt x="1478" y="764"/>
                  </a:lnTo>
                  <a:lnTo>
                    <a:pt x="1478" y="764"/>
                  </a:lnTo>
                  <a:close/>
                  <a:moveTo>
                    <a:pt x="2004" y="848"/>
                  </a:moveTo>
                  <a:lnTo>
                    <a:pt x="2004" y="848"/>
                  </a:lnTo>
                  <a:lnTo>
                    <a:pt x="2026" y="842"/>
                  </a:lnTo>
                  <a:lnTo>
                    <a:pt x="2048" y="840"/>
                  </a:lnTo>
                  <a:lnTo>
                    <a:pt x="2068" y="840"/>
                  </a:lnTo>
                  <a:lnTo>
                    <a:pt x="2090" y="844"/>
                  </a:lnTo>
                  <a:lnTo>
                    <a:pt x="2112" y="850"/>
                  </a:lnTo>
                  <a:lnTo>
                    <a:pt x="2134" y="858"/>
                  </a:lnTo>
                  <a:lnTo>
                    <a:pt x="2182" y="876"/>
                  </a:lnTo>
                  <a:lnTo>
                    <a:pt x="2182" y="876"/>
                  </a:lnTo>
                  <a:lnTo>
                    <a:pt x="2178" y="870"/>
                  </a:lnTo>
                  <a:lnTo>
                    <a:pt x="2168" y="850"/>
                  </a:lnTo>
                  <a:lnTo>
                    <a:pt x="2164" y="838"/>
                  </a:lnTo>
                  <a:lnTo>
                    <a:pt x="2160" y="826"/>
                  </a:lnTo>
                  <a:lnTo>
                    <a:pt x="2160" y="812"/>
                  </a:lnTo>
                  <a:lnTo>
                    <a:pt x="2162" y="798"/>
                  </a:lnTo>
                  <a:lnTo>
                    <a:pt x="2162" y="798"/>
                  </a:lnTo>
                  <a:lnTo>
                    <a:pt x="2180" y="818"/>
                  </a:lnTo>
                  <a:lnTo>
                    <a:pt x="2202" y="838"/>
                  </a:lnTo>
                  <a:lnTo>
                    <a:pt x="2230" y="856"/>
                  </a:lnTo>
                  <a:lnTo>
                    <a:pt x="2264" y="874"/>
                  </a:lnTo>
                  <a:lnTo>
                    <a:pt x="2302" y="888"/>
                  </a:lnTo>
                  <a:lnTo>
                    <a:pt x="2344" y="900"/>
                  </a:lnTo>
                  <a:lnTo>
                    <a:pt x="2390" y="910"/>
                  </a:lnTo>
                  <a:lnTo>
                    <a:pt x="2440" y="914"/>
                  </a:lnTo>
                  <a:lnTo>
                    <a:pt x="2440" y="914"/>
                  </a:lnTo>
                  <a:lnTo>
                    <a:pt x="2412" y="918"/>
                  </a:lnTo>
                  <a:lnTo>
                    <a:pt x="2382" y="922"/>
                  </a:lnTo>
                  <a:lnTo>
                    <a:pt x="2352" y="922"/>
                  </a:lnTo>
                  <a:lnTo>
                    <a:pt x="2322" y="922"/>
                  </a:lnTo>
                  <a:lnTo>
                    <a:pt x="2260" y="920"/>
                  </a:lnTo>
                  <a:lnTo>
                    <a:pt x="2202" y="912"/>
                  </a:lnTo>
                  <a:lnTo>
                    <a:pt x="2144" y="902"/>
                  </a:lnTo>
                  <a:lnTo>
                    <a:pt x="2092" y="886"/>
                  </a:lnTo>
                  <a:lnTo>
                    <a:pt x="2068" y="878"/>
                  </a:lnTo>
                  <a:lnTo>
                    <a:pt x="2046" y="868"/>
                  </a:lnTo>
                  <a:lnTo>
                    <a:pt x="2024" y="858"/>
                  </a:lnTo>
                  <a:lnTo>
                    <a:pt x="2004" y="848"/>
                  </a:lnTo>
                  <a:lnTo>
                    <a:pt x="2004" y="848"/>
                  </a:lnTo>
                  <a:close/>
                </a:path>
              </a:pathLst>
            </a:custGeom>
            <a:solidFill>
              <a:srgbClr val="cabb8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2507840" y="8283600"/>
              <a:ext cx="612720" cy="76176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386" h="480">
                  <a:moveTo>
                    <a:pt x="138" y="478"/>
                  </a:moveTo>
                  <a:lnTo>
                    <a:pt x="138" y="478"/>
                  </a:lnTo>
                  <a:lnTo>
                    <a:pt x="166" y="480"/>
                  </a:lnTo>
                  <a:lnTo>
                    <a:pt x="192" y="478"/>
                  </a:lnTo>
                  <a:lnTo>
                    <a:pt x="220" y="470"/>
                  </a:lnTo>
                  <a:lnTo>
                    <a:pt x="246" y="460"/>
                  </a:lnTo>
                  <a:lnTo>
                    <a:pt x="272" y="446"/>
                  </a:lnTo>
                  <a:lnTo>
                    <a:pt x="296" y="430"/>
                  </a:lnTo>
                  <a:lnTo>
                    <a:pt x="318" y="408"/>
                  </a:lnTo>
                  <a:lnTo>
                    <a:pt x="336" y="386"/>
                  </a:lnTo>
                  <a:lnTo>
                    <a:pt x="354" y="358"/>
                  </a:lnTo>
                  <a:lnTo>
                    <a:pt x="368" y="330"/>
                  </a:lnTo>
                  <a:lnTo>
                    <a:pt x="378" y="298"/>
                  </a:lnTo>
                  <a:lnTo>
                    <a:pt x="384" y="264"/>
                  </a:lnTo>
                  <a:lnTo>
                    <a:pt x="386" y="246"/>
                  </a:lnTo>
                  <a:lnTo>
                    <a:pt x="386" y="228"/>
                  </a:lnTo>
                  <a:lnTo>
                    <a:pt x="384" y="208"/>
                  </a:lnTo>
                  <a:lnTo>
                    <a:pt x="382" y="188"/>
                  </a:lnTo>
                  <a:lnTo>
                    <a:pt x="378" y="170"/>
                  </a:lnTo>
                  <a:lnTo>
                    <a:pt x="374" y="148"/>
                  </a:lnTo>
                  <a:lnTo>
                    <a:pt x="368" y="128"/>
                  </a:lnTo>
                  <a:lnTo>
                    <a:pt x="360" y="108"/>
                  </a:lnTo>
                  <a:lnTo>
                    <a:pt x="360" y="108"/>
                  </a:lnTo>
                  <a:lnTo>
                    <a:pt x="342" y="78"/>
                  </a:lnTo>
                  <a:lnTo>
                    <a:pt x="322" y="50"/>
                  </a:lnTo>
                  <a:lnTo>
                    <a:pt x="312" y="38"/>
                  </a:lnTo>
                  <a:lnTo>
                    <a:pt x="302" y="28"/>
                  </a:lnTo>
                  <a:lnTo>
                    <a:pt x="292" y="20"/>
                  </a:lnTo>
                  <a:lnTo>
                    <a:pt x="282" y="14"/>
                  </a:lnTo>
                  <a:lnTo>
                    <a:pt x="282" y="14"/>
                  </a:lnTo>
                  <a:lnTo>
                    <a:pt x="264" y="8"/>
                  </a:lnTo>
                  <a:lnTo>
                    <a:pt x="248" y="2"/>
                  </a:lnTo>
                  <a:lnTo>
                    <a:pt x="232" y="0"/>
                  </a:lnTo>
                  <a:lnTo>
                    <a:pt x="216" y="0"/>
                  </a:lnTo>
                  <a:lnTo>
                    <a:pt x="200" y="0"/>
                  </a:lnTo>
                  <a:lnTo>
                    <a:pt x="188" y="4"/>
                  </a:lnTo>
                  <a:lnTo>
                    <a:pt x="174" y="8"/>
                  </a:lnTo>
                  <a:lnTo>
                    <a:pt x="162" y="14"/>
                  </a:lnTo>
                  <a:lnTo>
                    <a:pt x="152" y="20"/>
                  </a:lnTo>
                  <a:lnTo>
                    <a:pt x="142" y="28"/>
                  </a:lnTo>
                  <a:lnTo>
                    <a:pt x="132" y="36"/>
                  </a:lnTo>
                  <a:lnTo>
                    <a:pt x="124" y="46"/>
                  </a:lnTo>
                  <a:lnTo>
                    <a:pt x="112" y="68"/>
                  </a:lnTo>
                  <a:lnTo>
                    <a:pt x="104" y="90"/>
                  </a:lnTo>
                  <a:lnTo>
                    <a:pt x="100" y="114"/>
                  </a:lnTo>
                  <a:lnTo>
                    <a:pt x="100" y="136"/>
                  </a:lnTo>
                  <a:lnTo>
                    <a:pt x="102" y="146"/>
                  </a:lnTo>
                  <a:lnTo>
                    <a:pt x="104" y="156"/>
                  </a:lnTo>
                  <a:lnTo>
                    <a:pt x="108" y="166"/>
                  </a:lnTo>
                  <a:lnTo>
                    <a:pt x="114" y="174"/>
                  </a:lnTo>
                  <a:lnTo>
                    <a:pt x="120" y="182"/>
                  </a:lnTo>
                  <a:lnTo>
                    <a:pt x="128" y="188"/>
                  </a:lnTo>
                  <a:lnTo>
                    <a:pt x="138" y="194"/>
                  </a:lnTo>
                  <a:lnTo>
                    <a:pt x="148" y="198"/>
                  </a:lnTo>
                  <a:lnTo>
                    <a:pt x="160" y="200"/>
                  </a:lnTo>
                  <a:lnTo>
                    <a:pt x="174" y="200"/>
                  </a:lnTo>
                  <a:lnTo>
                    <a:pt x="188" y="198"/>
                  </a:lnTo>
                  <a:lnTo>
                    <a:pt x="204" y="194"/>
                  </a:lnTo>
                  <a:lnTo>
                    <a:pt x="204" y="194"/>
                  </a:lnTo>
                  <a:lnTo>
                    <a:pt x="188" y="194"/>
                  </a:lnTo>
                  <a:lnTo>
                    <a:pt x="176" y="190"/>
                  </a:lnTo>
                  <a:lnTo>
                    <a:pt x="166" y="186"/>
                  </a:lnTo>
                  <a:lnTo>
                    <a:pt x="158" y="180"/>
                  </a:lnTo>
                  <a:lnTo>
                    <a:pt x="154" y="172"/>
                  </a:lnTo>
                  <a:lnTo>
                    <a:pt x="150" y="162"/>
                  </a:lnTo>
                  <a:lnTo>
                    <a:pt x="150" y="154"/>
                  </a:lnTo>
                  <a:lnTo>
                    <a:pt x="152" y="144"/>
                  </a:lnTo>
                  <a:lnTo>
                    <a:pt x="156" y="134"/>
                  </a:lnTo>
                  <a:lnTo>
                    <a:pt x="160" y="124"/>
                  </a:lnTo>
                  <a:lnTo>
                    <a:pt x="168" y="114"/>
                  </a:lnTo>
                  <a:lnTo>
                    <a:pt x="176" y="106"/>
                  </a:lnTo>
                  <a:lnTo>
                    <a:pt x="186" y="98"/>
                  </a:lnTo>
                  <a:lnTo>
                    <a:pt x="198" y="92"/>
                  </a:lnTo>
                  <a:lnTo>
                    <a:pt x="210" y="88"/>
                  </a:lnTo>
                  <a:lnTo>
                    <a:pt x="226" y="84"/>
                  </a:lnTo>
                  <a:lnTo>
                    <a:pt x="226" y="84"/>
                  </a:lnTo>
                  <a:lnTo>
                    <a:pt x="220" y="96"/>
                  </a:lnTo>
                  <a:lnTo>
                    <a:pt x="216" y="106"/>
                  </a:lnTo>
                  <a:lnTo>
                    <a:pt x="214" y="116"/>
                  </a:lnTo>
                  <a:lnTo>
                    <a:pt x="214" y="126"/>
                  </a:lnTo>
                  <a:lnTo>
                    <a:pt x="216" y="134"/>
                  </a:lnTo>
                  <a:lnTo>
                    <a:pt x="220" y="142"/>
                  </a:lnTo>
                  <a:lnTo>
                    <a:pt x="226" y="150"/>
                  </a:lnTo>
                  <a:lnTo>
                    <a:pt x="232" y="158"/>
                  </a:lnTo>
                  <a:lnTo>
                    <a:pt x="232" y="158"/>
                  </a:lnTo>
                  <a:lnTo>
                    <a:pt x="238" y="144"/>
                  </a:lnTo>
                  <a:lnTo>
                    <a:pt x="244" y="132"/>
                  </a:lnTo>
                  <a:lnTo>
                    <a:pt x="250" y="124"/>
                  </a:lnTo>
                  <a:lnTo>
                    <a:pt x="258" y="118"/>
                  </a:lnTo>
                  <a:lnTo>
                    <a:pt x="264" y="114"/>
                  </a:lnTo>
                  <a:lnTo>
                    <a:pt x="272" y="110"/>
                  </a:lnTo>
                  <a:lnTo>
                    <a:pt x="280" y="110"/>
                  </a:lnTo>
                  <a:lnTo>
                    <a:pt x="290" y="110"/>
                  </a:lnTo>
                  <a:lnTo>
                    <a:pt x="304" y="114"/>
                  </a:lnTo>
                  <a:lnTo>
                    <a:pt x="318" y="122"/>
                  </a:lnTo>
                  <a:lnTo>
                    <a:pt x="330" y="132"/>
                  </a:lnTo>
                  <a:lnTo>
                    <a:pt x="336" y="142"/>
                  </a:lnTo>
                  <a:lnTo>
                    <a:pt x="336" y="142"/>
                  </a:lnTo>
                  <a:lnTo>
                    <a:pt x="344" y="160"/>
                  </a:lnTo>
                  <a:lnTo>
                    <a:pt x="346" y="178"/>
                  </a:lnTo>
                  <a:lnTo>
                    <a:pt x="342" y="192"/>
                  </a:lnTo>
                  <a:lnTo>
                    <a:pt x="338" y="204"/>
                  </a:lnTo>
                  <a:lnTo>
                    <a:pt x="328" y="214"/>
                  </a:lnTo>
                  <a:lnTo>
                    <a:pt x="318" y="220"/>
                  </a:lnTo>
                  <a:lnTo>
                    <a:pt x="308" y="222"/>
                  </a:lnTo>
                  <a:lnTo>
                    <a:pt x="296" y="220"/>
                  </a:lnTo>
                  <a:lnTo>
                    <a:pt x="296" y="220"/>
                  </a:lnTo>
                  <a:lnTo>
                    <a:pt x="312" y="242"/>
                  </a:lnTo>
                  <a:lnTo>
                    <a:pt x="322" y="264"/>
                  </a:lnTo>
                  <a:lnTo>
                    <a:pt x="328" y="282"/>
                  </a:lnTo>
                  <a:lnTo>
                    <a:pt x="328" y="302"/>
                  </a:lnTo>
                  <a:lnTo>
                    <a:pt x="324" y="318"/>
                  </a:lnTo>
                  <a:lnTo>
                    <a:pt x="318" y="332"/>
                  </a:lnTo>
                  <a:lnTo>
                    <a:pt x="308" y="346"/>
                  </a:lnTo>
                  <a:lnTo>
                    <a:pt x="296" y="356"/>
                  </a:lnTo>
                  <a:lnTo>
                    <a:pt x="282" y="364"/>
                  </a:lnTo>
                  <a:lnTo>
                    <a:pt x="268" y="372"/>
                  </a:lnTo>
                  <a:lnTo>
                    <a:pt x="252" y="376"/>
                  </a:lnTo>
                  <a:lnTo>
                    <a:pt x="236" y="378"/>
                  </a:lnTo>
                  <a:lnTo>
                    <a:pt x="220" y="380"/>
                  </a:lnTo>
                  <a:lnTo>
                    <a:pt x="204" y="376"/>
                  </a:lnTo>
                  <a:lnTo>
                    <a:pt x="190" y="372"/>
                  </a:lnTo>
                  <a:lnTo>
                    <a:pt x="180" y="364"/>
                  </a:lnTo>
                  <a:lnTo>
                    <a:pt x="180" y="364"/>
                  </a:lnTo>
                  <a:lnTo>
                    <a:pt x="176" y="370"/>
                  </a:lnTo>
                  <a:lnTo>
                    <a:pt x="174" y="378"/>
                  </a:lnTo>
                  <a:lnTo>
                    <a:pt x="172" y="386"/>
                  </a:lnTo>
                  <a:lnTo>
                    <a:pt x="174" y="396"/>
                  </a:lnTo>
                  <a:lnTo>
                    <a:pt x="178" y="408"/>
                  </a:lnTo>
                  <a:lnTo>
                    <a:pt x="188" y="420"/>
                  </a:lnTo>
                  <a:lnTo>
                    <a:pt x="202" y="432"/>
                  </a:lnTo>
                  <a:lnTo>
                    <a:pt x="202" y="432"/>
                  </a:lnTo>
                  <a:lnTo>
                    <a:pt x="186" y="438"/>
                  </a:lnTo>
                  <a:lnTo>
                    <a:pt x="170" y="440"/>
                  </a:lnTo>
                  <a:lnTo>
                    <a:pt x="152" y="442"/>
                  </a:lnTo>
                  <a:lnTo>
                    <a:pt x="136" y="440"/>
                  </a:lnTo>
                  <a:lnTo>
                    <a:pt x="118" y="436"/>
                  </a:lnTo>
                  <a:lnTo>
                    <a:pt x="102" y="428"/>
                  </a:lnTo>
                  <a:lnTo>
                    <a:pt x="88" y="416"/>
                  </a:lnTo>
                  <a:lnTo>
                    <a:pt x="78" y="404"/>
                  </a:lnTo>
                  <a:lnTo>
                    <a:pt x="78" y="404"/>
                  </a:lnTo>
                  <a:lnTo>
                    <a:pt x="72" y="388"/>
                  </a:lnTo>
                  <a:lnTo>
                    <a:pt x="70" y="380"/>
                  </a:lnTo>
                  <a:lnTo>
                    <a:pt x="70" y="372"/>
                  </a:lnTo>
                  <a:lnTo>
                    <a:pt x="70" y="364"/>
                  </a:lnTo>
                  <a:lnTo>
                    <a:pt x="72" y="356"/>
                  </a:lnTo>
                  <a:lnTo>
                    <a:pt x="76" y="350"/>
                  </a:lnTo>
                  <a:lnTo>
                    <a:pt x="80" y="342"/>
                  </a:lnTo>
                  <a:lnTo>
                    <a:pt x="86" y="338"/>
                  </a:lnTo>
                  <a:lnTo>
                    <a:pt x="94" y="334"/>
                  </a:lnTo>
                  <a:lnTo>
                    <a:pt x="104" y="330"/>
                  </a:lnTo>
                  <a:lnTo>
                    <a:pt x="114" y="328"/>
                  </a:lnTo>
                  <a:lnTo>
                    <a:pt x="126" y="328"/>
                  </a:lnTo>
                  <a:lnTo>
                    <a:pt x="140" y="328"/>
                  </a:lnTo>
                  <a:lnTo>
                    <a:pt x="154" y="332"/>
                  </a:lnTo>
                  <a:lnTo>
                    <a:pt x="170" y="336"/>
                  </a:lnTo>
                  <a:lnTo>
                    <a:pt x="170" y="336"/>
                  </a:lnTo>
                  <a:lnTo>
                    <a:pt x="160" y="310"/>
                  </a:lnTo>
                  <a:lnTo>
                    <a:pt x="148" y="288"/>
                  </a:lnTo>
                  <a:lnTo>
                    <a:pt x="134" y="270"/>
                  </a:lnTo>
                  <a:lnTo>
                    <a:pt x="122" y="256"/>
                  </a:lnTo>
                  <a:lnTo>
                    <a:pt x="108" y="248"/>
                  </a:lnTo>
                  <a:lnTo>
                    <a:pt x="94" y="242"/>
                  </a:lnTo>
                  <a:lnTo>
                    <a:pt x="80" y="242"/>
                  </a:lnTo>
                  <a:lnTo>
                    <a:pt x="68" y="242"/>
                  </a:lnTo>
                  <a:lnTo>
                    <a:pt x="56" y="246"/>
                  </a:lnTo>
                  <a:lnTo>
                    <a:pt x="44" y="254"/>
                  </a:lnTo>
                  <a:lnTo>
                    <a:pt x="32" y="262"/>
                  </a:lnTo>
                  <a:lnTo>
                    <a:pt x="24" y="272"/>
                  </a:lnTo>
                  <a:lnTo>
                    <a:pt x="16" y="286"/>
                  </a:lnTo>
                  <a:lnTo>
                    <a:pt x="8" y="298"/>
                  </a:lnTo>
                  <a:lnTo>
                    <a:pt x="4" y="312"/>
                  </a:lnTo>
                  <a:lnTo>
                    <a:pt x="2" y="328"/>
                  </a:lnTo>
                  <a:lnTo>
                    <a:pt x="2" y="328"/>
                  </a:lnTo>
                  <a:lnTo>
                    <a:pt x="0" y="338"/>
                  </a:lnTo>
                  <a:lnTo>
                    <a:pt x="2" y="350"/>
                  </a:lnTo>
                  <a:lnTo>
                    <a:pt x="4" y="362"/>
                  </a:lnTo>
                  <a:lnTo>
                    <a:pt x="8" y="374"/>
                  </a:lnTo>
                  <a:lnTo>
                    <a:pt x="18" y="396"/>
                  </a:lnTo>
                  <a:lnTo>
                    <a:pt x="34" y="420"/>
                  </a:lnTo>
                  <a:lnTo>
                    <a:pt x="44" y="430"/>
                  </a:lnTo>
                  <a:lnTo>
                    <a:pt x="56" y="440"/>
                  </a:lnTo>
                  <a:lnTo>
                    <a:pt x="66" y="448"/>
                  </a:lnTo>
                  <a:lnTo>
                    <a:pt x="80" y="456"/>
                  </a:lnTo>
                  <a:lnTo>
                    <a:pt x="94" y="464"/>
                  </a:lnTo>
                  <a:lnTo>
                    <a:pt x="108" y="470"/>
                  </a:lnTo>
                  <a:lnTo>
                    <a:pt x="122" y="474"/>
                  </a:lnTo>
                  <a:lnTo>
                    <a:pt x="138" y="478"/>
                  </a:lnTo>
                  <a:lnTo>
                    <a:pt x="138" y="478"/>
                  </a:lnTo>
                  <a:close/>
                  <a:moveTo>
                    <a:pt x="138" y="100"/>
                  </a:moveTo>
                  <a:lnTo>
                    <a:pt x="138" y="100"/>
                  </a:lnTo>
                  <a:lnTo>
                    <a:pt x="138" y="86"/>
                  </a:lnTo>
                  <a:lnTo>
                    <a:pt x="140" y="74"/>
                  </a:lnTo>
                  <a:lnTo>
                    <a:pt x="144" y="62"/>
                  </a:lnTo>
                  <a:lnTo>
                    <a:pt x="148" y="52"/>
                  </a:lnTo>
                  <a:lnTo>
                    <a:pt x="154" y="44"/>
                  </a:lnTo>
                  <a:lnTo>
                    <a:pt x="162" y="38"/>
                  </a:lnTo>
                  <a:lnTo>
                    <a:pt x="170" y="34"/>
                  </a:lnTo>
                  <a:lnTo>
                    <a:pt x="180" y="30"/>
                  </a:lnTo>
                  <a:lnTo>
                    <a:pt x="188" y="28"/>
                  </a:lnTo>
                  <a:lnTo>
                    <a:pt x="198" y="26"/>
                  </a:lnTo>
                  <a:lnTo>
                    <a:pt x="210" y="28"/>
                  </a:lnTo>
                  <a:lnTo>
                    <a:pt x="220" y="30"/>
                  </a:lnTo>
                  <a:lnTo>
                    <a:pt x="230" y="34"/>
                  </a:lnTo>
                  <a:lnTo>
                    <a:pt x="240" y="38"/>
                  </a:lnTo>
                  <a:lnTo>
                    <a:pt x="250" y="46"/>
                  </a:lnTo>
                  <a:lnTo>
                    <a:pt x="260" y="54"/>
                  </a:lnTo>
                  <a:lnTo>
                    <a:pt x="260" y="54"/>
                  </a:lnTo>
                  <a:lnTo>
                    <a:pt x="244" y="50"/>
                  </a:lnTo>
                  <a:lnTo>
                    <a:pt x="228" y="50"/>
                  </a:lnTo>
                  <a:lnTo>
                    <a:pt x="210" y="52"/>
                  </a:lnTo>
                  <a:lnTo>
                    <a:pt x="194" y="56"/>
                  </a:lnTo>
                  <a:lnTo>
                    <a:pt x="176" y="64"/>
                  </a:lnTo>
                  <a:lnTo>
                    <a:pt x="162" y="74"/>
                  </a:lnTo>
                  <a:lnTo>
                    <a:pt x="148" y="86"/>
                  </a:lnTo>
                  <a:lnTo>
                    <a:pt x="138" y="100"/>
                  </a:lnTo>
                  <a:lnTo>
                    <a:pt x="138" y="100"/>
                  </a:lnTo>
                  <a:close/>
                </a:path>
              </a:pathLst>
            </a:custGeom>
            <a:solidFill>
              <a:srgbClr val="cabb8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13238280" y="7645320"/>
              <a:ext cx="463320" cy="4348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2" h="274">
                  <a:moveTo>
                    <a:pt x="290" y="98"/>
                  </a:moveTo>
                  <a:lnTo>
                    <a:pt x="290" y="98"/>
                  </a:lnTo>
                  <a:lnTo>
                    <a:pt x="282" y="72"/>
                  </a:lnTo>
                  <a:lnTo>
                    <a:pt x="274" y="52"/>
                  </a:lnTo>
                  <a:lnTo>
                    <a:pt x="264" y="36"/>
                  </a:lnTo>
                  <a:lnTo>
                    <a:pt x="256" y="28"/>
                  </a:lnTo>
                  <a:lnTo>
                    <a:pt x="250" y="22"/>
                  </a:lnTo>
                  <a:lnTo>
                    <a:pt x="250" y="22"/>
                  </a:lnTo>
                  <a:lnTo>
                    <a:pt x="234" y="14"/>
                  </a:lnTo>
                  <a:lnTo>
                    <a:pt x="218" y="6"/>
                  </a:lnTo>
                  <a:lnTo>
                    <a:pt x="200" y="2"/>
                  </a:lnTo>
                  <a:lnTo>
                    <a:pt x="182" y="0"/>
                  </a:lnTo>
                  <a:lnTo>
                    <a:pt x="164" y="2"/>
                  </a:lnTo>
                  <a:lnTo>
                    <a:pt x="148" y="4"/>
                  </a:lnTo>
                  <a:lnTo>
                    <a:pt x="134" y="12"/>
                  </a:lnTo>
                  <a:lnTo>
                    <a:pt x="124" y="22"/>
                  </a:lnTo>
                  <a:lnTo>
                    <a:pt x="124" y="22"/>
                  </a:lnTo>
                  <a:lnTo>
                    <a:pt x="138" y="20"/>
                  </a:lnTo>
                  <a:lnTo>
                    <a:pt x="152" y="22"/>
                  </a:lnTo>
                  <a:lnTo>
                    <a:pt x="166" y="22"/>
                  </a:lnTo>
                  <a:lnTo>
                    <a:pt x="178" y="26"/>
                  </a:lnTo>
                  <a:lnTo>
                    <a:pt x="190" y="30"/>
                  </a:lnTo>
                  <a:lnTo>
                    <a:pt x="200" y="34"/>
                  </a:lnTo>
                  <a:lnTo>
                    <a:pt x="210" y="40"/>
                  </a:lnTo>
                  <a:lnTo>
                    <a:pt x="218" y="46"/>
                  </a:lnTo>
                  <a:lnTo>
                    <a:pt x="226" y="52"/>
                  </a:lnTo>
                  <a:lnTo>
                    <a:pt x="232" y="60"/>
                  </a:lnTo>
                  <a:lnTo>
                    <a:pt x="236" y="68"/>
                  </a:lnTo>
                  <a:lnTo>
                    <a:pt x="240" y="76"/>
                  </a:lnTo>
                  <a:lnTo>
                    <a:pt x="244" y="86"/>
                  </a:lnTo>
                  <a:lnTo>
                    <a:pt x="244" y="94"/>
                  </a:lnTo>
                  <a:lnTo>
                    <a:pt x="244" y="104"/>
                  </a:lnTo>
                  <a:lnTo>
                    <a:pt x="244" y="114"/>
                  </a:lnTo>
                  <a:lnTo>
                    <a:pt x="244" y="114"/>
                  </a:lnTo>
                  <a:lnTo>
                    <a:pt x="236" y="138"/>
                  </a:lnTo>
                  <a:lnTo>
                    <a:pt x="228" y="156"/>
                  </a:lnTo>
                  <a:lnTo>
                    <a:pt x="216" y="166"/>
                  </a:lnTo>
                  <a:lnTo>
                    <a:pt x="206" y="174"/>
                  </a:lnTo>
                  <a:lnTo>
                    <a:pt x="194" y="176"/>
                  </a:lnTo>
                  <a:lnTo>
                    <a:pt x="180" y="174"/>
                  </a:lnTo>
                  <a:lnTo>
                    <a:pt x="170" y="168"/>
                  </a:lnTo>
                  <a:lnTo>
                    <a:pt x="158" y="162"/>
                  </a:lnTo>
                  <a:lnTo>
                    <a:pt x="148" y="152"/>
                  </a:lnTo>
                  <a:lnTo>
                    <a:pt x="142" y="142"/>
                  </a:lnTo>
                  <a:lnTo>
                    <a:pt x="136" y="132"/>
                  </a:lnTo>
                  <a:lnTo>
                    <a:pt x="134" y="122"/>
                  </a:lnTo>
                  <a:lnTo>
                    <a:pt x="136" y="112"/>
                  </a:lnTo>
                  <a:lnTo>
                    <a:pt x="142" y="104"/>
                  </a:lnTo>
                  <a:lnTo>
                    <a:pt x="152" y="98"/>
                  </a:lnTo>
                  <a:lnTo>
                    <a:pt x="168" y="96"/>
                  </a:lnTo>
                  <a:lnTo>
                    <a:pt x="168" y="96"/>
                  </a:lnTo>
                  <a:lnTo>
                    <a:pt x="154" y="86"/>
                  </a:lnTo>
                  <a:lnTo>
                    <a:pt x="140" y="78"/>
                  </a:lnTo>
                  <a:lnTo>
                    <a:pt x="126" y="74"/>
                  </a:lnTo>
                  <a:lnTo>
                    <a:pt x="114" y="72"/>
                  </a:lnTo>
                  <a:lnTo>
                    <a:pt x="102" y="72"/>
                  </a:lnTo>
                  <a:lnTo>
                    <a:pt x="90" y="76"/>
                  </a:lnTo>
                  <a:lnTo>
                    <a:pt x="80" y="80"/>
                  </a:lnTo>
                  <a:lnTo>
                    <a:pt x="70" y="86"/>
                  </a:lnTo>
                  <a:lnTo>
                    <a:pt x="64" y="94"/>
                  </a:lnTo>
                  <a:lnTo>
                    <a:pt x="58" y="102"/>
                  </a:lnTo>
                  <a:lnTo>
                    <a:pt x="52" y="112"/>
                  </a:lnTo>
                  <a:lnTo>
                    <a:pt x="50" y="124"/>
                  </a:lnTo>
                  <a:lnTo>
                    <a:pt x="48" y="136"/>
                  </a:lnTo>
                  <a:lnTo>
                    <a:pt x="48" y="150"/>
                  </a:lnTo>
                  <a:lnTo>
                    <a:pt x="50" y="164"/>
                  </a:lnTo>
                  <a:lnTo>
                    <a:pt x="56" y="178"/>
                  </a:lnTo>
                  <a:lnTo>
                    <a:pt x="56" y="178"/>
                  </a:lnTo>
                  <a:lnTo>
                    <a:pt x="30" y="190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12" y="220"/>
                  </a:lnTo>
                  <a:lnTo>
                    <a:pt x="24" y="232"/>
                  </a:lnTo>
                  <a:lnTo>
                    <a:pt x="36" y="240"/>
                  </a:lnTo>
                  <a:lnTo>
                    <a:pt x="48" y="248"/>
                  </a:lnTo>
                  <a:lnTo>
                    <a:pt x="74" y="258"/>
                  </a:lnTo>
                  <a:lnTo>
                    <a:pt x="102" y="268"/>
                  </a:lnTo>
                  <a:lnTo>
                    <a:pt x="102" y="268"/>
                  </a:lnTo>
                  <a:lnTo>
                    <a:pt x="110" y="270"/>
                  </a:lnTo>
                  <a:lnTo>
                    <a:pt x="122" y="272"/>
                  </a:lnTo>
                  <a:lnTo>
                    <a:pt x="150" y="274"/>
                  </a:lnTo>
                  <a:lnTo>
                    <a:pt x="178" y="272"/>
                  </a:lnTo>
                  <a:lnTo>
                    <a:pt x="188" y="270"/>
                  </a:lnTo>
                  <a:lnTo>
                    <a:pt x="196" y="266"/>
                  </a:lnTo>
                  <a:lnTo>
                    <a:pt x="196" y="266"/>
                  </a:lnTo>
                  <a:lnTo>
                    <a:pt x="220" y="252"/>
                  </a:lnTo>
                  <a:lnTo>
                    <a:pt x="240" y="234"/>
                  </a:lnTo>
                  <a:lnTo>
                    <a:pt x="258" y="216"/>
                  </a:lnTo>
                  <a:lnTo>
                    <a:pt x="272" y="194"/>
                  </a:lnTo>
                  <a:lnTo>
                    <a:pt x="282" y="172"/>
                  </a:lnTo>
                  <a:lnTo>
                    <a:pt x="290" y="146"/>
                  </a:lnTo>
                  <a:lnTo>
                    <a:pt x="292" y="122"/>
                  </a:lnTo>
                  <a:lnTo>
                    <a:pt x="290" y="98"/>
                  </a:lnTo>
                  <a:lnTo>
                    <a:pt x="290" y="98"/>
                  </a:lnTo>
                  <a:close/>
                  <a:moveTo>
                    <a:pt x="66" y="220"/>
                  </a:moveTo>
                  <a:lnTo>
                    <a:pt x="66" y="220"/>
                  </a:lnTo>
                  <a:lnTo>
                    <a:pt x="92" y="208"/>
                  </a:lnTo>
                  <a:lnTo>
                    <a:pt x="104" y="202"/>
                  </a:lnTo>
                  <a:lnTo>
                    <a:pt x="110" y="194"/>
                  </a:lnTo>
                  <a:lnTo>
                    <a:pt x="110" y="194"/>
                  </a:lnTo>
                  <a:lnTo>
                    <a:pt x="102" y="190"/>
                  </a:lnTo>
                  <a:lnTo>
                    <a:pt x="96" y="182"/>
                  </a:lnTo>
                  <a:lnTo>
                    <a:pt x="92" y="172"/>
                  </a:lnTo>
                  <a:lnTo>
                    <a:pt x="88" y="162"/>
                  </a:lnTo>
                  <a:lnTo>
                    <a:pt x="86" y="150"/>
                  </a:lnTo>
                  <a:lnTo>
                    <a:pt x="86" y="140"/>
                  </a:lnTo>
                  <a:lnTo>
                    <a:pt x="90" y="130"/>
                  </a:lnTo>
                  <a:lnTo>
                    <a:pt x="96" y="120"/>
                  </a:lnTo>
                  <a:lnTo>
                    <a:pt x="96" y="120"/>
                  </a:lnTo>
                  <a:lnTo>
                    <a:pt x="98" y="134"/>
                  </a:lnTo>
                  <a:lnTo>
                    <a:pt x="102" y="150"/>
                  </a:lnTo>
                  <a:lnTo>
                    <a:pt x="112" y="168"/>
                  </a:lnTo>
                  <a:lnTo>
                    <a:pt x="118" y="176"/>
                  </a:lnTo>
                  <a:lnTo>
                    <a:pt x="124" y="186"/>
                  </a:lnTo>
                  <a:lnTo>
                    <a:pt x="132" y="192"/>
                  </a:lnTo>
                  <a:lnTo>
                    <a:pt x="142" y="200"/>
                  </a:lnTo>
                  <a:lnTo>
                    <a:pt x="152" y="204"/>
                  </a:lnTo>
                  <a:lnTo>
                    <a:pt x="164" y="208"/>
                  </a:lnTo>
                  <a:lnTo>
                    <a:pt x="178" y="210"/>
                  </a:lnTo>
                  <a:lnTo>
                    <a:pt x="192" y="210"/>
                  </a:lnTo>
                  <a:lnTo>
                    <a:pt x="208" y="206"/>
                  </a:lnTo>
                  <a:lnTo>
                    <a:pt x="224" y="202"/>
                  </a:lnTo>
                  <a:lnTo>
                    <a:pt x="224" y="202"/>
                  </a:lnTo>
                  <a:lnTo>
                    <a:pt x="212" y="210"/>
                  </a:lnTo>
                  <a:lnTo>
                    <a:pt x="198" y="220"/>
                  </a:lnTo>
                  <a:lnTo>
                    <a:pt x="182" y="226"/>
                  </a:lnTo>
                  <a:lnTo>
                    <a:pt x="164" y="230"/>
                  </a:lnTo>
                  <a:lnTo>
                    <a:pt x="144" y="232"/>
                  </a:lnTo>
                  <a:lnTo>
                    <a:pt x="122" y="232"/>
                  </a:lnTo>
                  <a:lnTo>
                    <a:pt x="96" y="228"/>
                  </a:lnTo>
                  <a:lnTo>
                    <a:pt x="66" y="220"/>
                  </a:lnTo>
                  <a:lnTo>
                    <a:pt x="66" y="220"/>
                  </a:lnTo>
                  <a:close/>
                </a:path>
              </a:pathLst>
            </a:custGeom>
            <a:solidFill>
              <a:srgbClr val="cabb8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12812760" y="5559480"/>
              <a:ext cx="1952640" cy="4826160"/>
            </a:xfrm>
            <a:custGeom>
              <a:avLst/>
              <a:gdLst>
                <a:gd name="textAreaLeft" fmla="*/ 0 w 1952640"/>
                <a:gd name="textAreaRight" fmla="*/ 1952640 w 1952640"/>
                <a:gd name="textAreaTop" fmla="*/ 0 h 4826160"/>
                <a:gd name="textAreaBottom" fmla="*/ 4826520 h 4826160"/>
              </a:gdLst>
              <a:ahLst/>
              <a:rect l="textAreaLeft" t="textAreaTop" r="textAreaRight" b="textAreaBottom"/>
              <a:pathLst>
                <a:path w="1230" h="3040">
                  <a:moveTo>
                    <a:pt x="1084" y="2830"/>
                  </a:moveTo>
                  <a:lnTo>
                    <a:pt x="1084" y="2830"/>
                  </a:lnTo>
                  <a:lnTo>
                    <a:pt x="1100" y="2822"/>
                  </a:lnTo>
                  <a:lnTo>
                    <a:pt x="1120" y="2814"/>
                  </a:lnTo>
                  <a:lnTo>
                    <a:pt x="1140" y="2808"/>
                  </a:lnTo>
                  <a:lnTo>
                    <a:pt x="1160" y="2806"/>
                  </a:lnTo>
                  <a:lnTo>
                    <a:pt x="1180" y="2804"/>
                  </a:lnTo>
                  <a:lnTo>
                    <a:pt x="1200" y="2804"/>
                  </a:lnTo>
                  <a:lnTo>
                    <a:pt x="1216" y="2808"/>
                  </a:lnTo>
                  <a:lnTo>
                    <a:pt x="1230" y="2812"/>
                  </a:lnTo>
                  <a:lnTo>
                    <a:pt x="1230" y="2812"/>
                  </a:lnTo>
                  <a:lnTo>
                    <a:pt x="1222" y="2802"/>
                  </a:lnTo>
                  <a:lnTo>
                    <a:pt x="1212" y="2794"/>
                  </a:lnTo>
                  <a:lnTo>
                    <a:pt x="1202" y="2788"/>
                  </a:lnTo>
                  <a:lnTo>
                    <a:pt x="1190" y="2782"/>
                  </a:lnTo>
                  <a:lnTo>
                    <a:pt x="1166" y="2774"/>
                  </a:lnTo>
                  <a:lnTo>
                    <a:pt x="1140" y="2770"/>
                  </a:lnTo>
                  <a:lnTo>
                    <a:pt x="1116" y="2768"/>
                  </a:lnTo>
                  <a:lnTo>
                    <a:pt x="1090" y="2770"/>
                  </a:lnTo>
                  <a:lnTo>
                    <a:pt x="1066" y="2774"/>
                  </a:lnTo>
                  <a:lnTo>
                    <a:pt x="1042" y="2782"/>
                  </a:lnTo>
                  <a:lnTo>
                    <a:pt x="1042" y="2782"/>
                  </a:lnTo>
                  <a:lnTo>
                    <a:pt x="1068" y="2748"/>
                  </a:lnTo>
                  <a:lnTo>
                    <a:pt x="1088" y="2712"/>
                  </a:lnTo>
                  <a:lnTo>
                    <a:pt x="1108" y="2674"/>
                  </a:lnTo>
                  <a:lnTo>
                    <a:pt x="1126" y="2634"/>
                  </a:lnTo>
                  <a:lnTo>
                    <a:pt x="1140" y="2592"/>
                  </a:lnTo>
                  <a:lnTo>
                    <a:pt x="1154" y="2548"/>
                  </a:lnTo>
                  <a:lnTo>
                    <a:pt x="1164" y="2506"/>
                  </a:lnTo>
                  <a:lnTo>
                    <a:pt x="1172" y="2462"/>
                  </a:lnTo>
                  <a:lnTo>
                    <a:pt x="1178" y="2418"/>
                  </a:lnTo>
                  <a:lnTo>
                    <a:pt x="1182" y="2374"/>
                  </a:lnTo>
                  <a:lnTo>
                    <a:pt x="1184" y="2330"/>
                  </a:lnTo>
                  <a:lnTo>
                    <a:pt x="1184" y="2288"/>
                  </a:lnTo>
                  <a:lnTo>
                    <a:pt x="1180" y="2246"/>
                  </a:lnTo>
                  <a:lnTo>
                    <a:pt x="1176" y="2208"/>
                  </a:lnTo>
                  <a:lnTo>
                    <a:pt x="1170" y="2170"/>
                  </a:lnTo>
                  <a:lnTo>
                    <a:pt x="1162" y="2136"/>
                  </a:lnTo>
                  <a:lnTo>
                    <a:pt x="1162" y="2136"/>
                  </a:lnTo>
                  <a:lnTo>
                    <a:pt x="1142" y="2074"/>
                  </a:lnTo>
                  <a:lnTo>
                    <a:pt x="1120" y="2016"/>
                  </a:lnTo>
                  <a:lnTo>
                    <a:pt x="1096" y="1964"/>
                  </a:lnTo>
                  <a:lnTo>
                    <a:pt x="1072" y="1914"/>
                  </a:lnTo>
                  <a:lnTo>
                    <a:pt x="1046" y="1868"/>
                  </a:lnTo>
                  <a:lnTo>
                    <a:pt x="1022" y="1828"/>
                  </a:lnTo>
                  <a:lnTo>
                    <a:pt x="996" y="1790"/>
                  </a:lnTo>
                  <a:lnTo>
                    <a:pt x="970" y="1754"/>
                  </a:lnTo>
                  <a:lnTo>
                    <a:pt x="970" y="1754"/>
                  </a:lnTo>
                  <a:lnTo>
                    <a:pt x="954" y="1732"/>
                  </a:lnTo>
                  <a:lnTo>
                    <a:pt x="940" y="1708"/>
                  </a:lnTo>
                  <a:lnTo>
                    <a:pt x="926" y="1680"/>
                  </a:lnTo>
                  <a:lnTo>
                    <a:pt x="914" y="1654"/>
                  </a:lnTo>
                  <a:lnTo>
                    <a:pt x="904" y="1624"/>
                  </a:lnTo>
                  <a:lnTo>
                    <a:pt x="896" y="1596"/>
                  </a:lnTo>
                  <a:lnTo>
                    <a:pt x="890" y="1566"/>
                  </a:lnTo>
                  <a:lnTo>
                    <a:pt x="886" y="1538"/>
                  </a:lnTo>
                  <a:lnTo>
                    <a:pt x="884" y="1508"/>
                  </a:lnTo>
                  <a:lnTo>
                    <a:pt x="884" y="1482"/>
                  </a:lnTo>
                  <a:lnTo>
                    <a:pt x="888" y="1456"/>
                  </a:lnTo>
                  <a:lnTo>
                    <a:pt x="894" y="1432"/>
                  </a:lnTo>
                  <a:lnTo>
                    <a:pt x="902" y="1412"/>
                  </a:lnTo>
                  <a:lnTo>
                    <a:pt x="912" y="1392"/>
                  </a:lnTo>
                  <a:lnTo>
                    <a:pt x="928" y="1376"/>
                  </a:lnTo>
                  <a:lnTo>
                    <a:pt x="936" y="1370"/>
                  </a:lnTo>
                  <a:lnTo>
                    <a:pt x="944" y="1364"/>
                  </a:lnTo>
                  <a:lnTo>
                    <a:pt x="944" y="1364"/>
                  </a:lnTo>
                  <a:lnTo>
                    <a:pt x="962" y="1358"/>
                  </a:lnTo>
                  <a:lnTo>
                    <a:pt x="980" y="1352"/>
                  </a:lnTo>
                  <a:lnTo>
                    <a:pt x="996" y="1350"/>
                  </a:lnTo>
                  <a:lnTo>
                    <a:pt x="1012" y="1350"/>
                  </a:lnTo>
                  <a:lnTo>
                    <a:pt x="1026" y="1352"/>
                  </a:lnTo>
                  <a:lnTo>
                    <a:pt x="1040" y="1354"/>
                  </a:lnTo>
                  <a:lnTo>
                    <a:pt x="1068" y="1364"/>
                  </a:lnTo>
                  <a:lnTo>
                    <a:pt x="1068" y="1364"/>
                  </a:lnTo>
                  <a:lnTo>
                    <a:pt x="1080" y="1370"/>
                  </a:lnTo>
                  <a:lnTo>
                    <a:pt x="1090" y="1376"/>
                  </a:lnTo>
                  <a:lnTo>
                    <a:pt x="1098" y="1384"/>
                  </a:lnTo>
                  <a:lnTo>
                    <a:pt x="1106" y="1392"/>
                  </a:lnTo>
                  <a:lnTo>
                    <a:pt x="1114" y="1402"/>
                  </a:lnTo>
                  <a:lnTo>
                    <a:pt x="1118" y="1412"/>
                  </a:lnTo>
                  <a:lnTo>
                    <a:pt x="1122" y="1422"/>
                  </a:lnTo>
                  <a:lnTo>
                    <a:pt x="1126" y="1434"/>
                  </a:lnTo>
                  <a:lnTo>
                    <a:pt x="1128" y="1446"/>
                  </a:lnTo>
                  <a:lnTo>
                    <a:pt x="1128" y="1458"/>
                  </a:lnTo>
                  <a:lnTo>
                    <a:pt x="1126" y="1472"/>
                  </a:lnTo>
                  <a:lnTo>
                    <a:pt x="1124" y="1484"/>
                  </a:lnTo>
                  <a:lnTo>
                    <a:pt x="1120" y="1498"/>
                  </a:lnTo>
                  <a:lnTo>
                    <a:pt x="1114" y="1510"/>
                  </a:lnTo>
                  <a:lnTo>
                    <a:pt x="1106" y="1522"/>
                  </a:lnTo>
                  <a:lnTo>
                    <a:pt x="1098" y="1536"/>
                  </a:lnTo>
                  <a:lnTo>
                    <a:pt x="1098" y="1536"/>
                  </a:lnTo>
                  <a:lnTo>
                    <a:pt x="1098" y="1520"/>
                  </a:lnTo>
                  <a:lnTo>
                    <a:pt x="1098" y="1506"/>
                  </a:lnTo>
                  <a:lnTo>
                    <a:pt x="1096" y="1492"/>
                  </a:lnTo>
                  <a:lnTo>
                    <a:pt x="1090" y="1482"/>
                  </a:lnTo>
                  <a:lnTo>
                    <a:pt x="1084" y="1472"/>
                  </a:lnTo>
                  <a:lnTo>
                    <a:pt x="1076" y="1464"/>
                  </a:lnTo>
                  <a:lnTo>
                    <a:pt x="1066" y="1456"/>
                  </a:lnTo>
                  <a:lnTo>
                    <a:pt x="1058" y="1450"/>
                  </a:lnTo>
                  <a:lnTo>
                    <a:pt x="1046" y="1446"/>
                  </a:lnTo>
                  <a:lnTo>
                    <a:pt x="1036" y="1442"/>
                  </a:lnTo>
                  <a:lnTo>
                    <a:pt x="1024" y="1442"/>
                  </a:lnTo>
                  <a:lnTo>
                    <a:pt x="1014" y="1442"/>
                  </a:lnTo>
                  <a:lnTo>
                    <a:pt x="1002" y="1442"/>
                  </a:lnTo>
                  <a:lnTo>
                    <a:pt x="992" y="1446"/>
                  </a:lnTo>
                  <a:lnTo>
                    <a:pt x="984" y="1450"/>
                  </a:lnTo>
                  <a:lnTo>
                    <a:pt x="976" y="1454"/>
                  </a:lnTo>
                  <a:lnTo>
                    <a:pt x="976" y="1454"/>
                  </a:lnTo>
                  <a:lnTo>
                    <a:pt x="966" y="1464"/>
                  </a:lnTo>
                  <a:lnTo>
                    <a:pt x="958" y="1474"/>
                  </a:lnTo>
                  <a:lnTo>
                    <a:pt x="952" y="1482"/>
                  </a:lnTo>
                  <a:lnTo>
                    <a:pt x="948" y="1492"/>
                  </a:lnTo>
                  <a:lnTo>
                    <a:pt x="944" y="1502"/>
                  </a:lnTo>
                  <a:lnTo>
                    <a:pt x="944" y="1512"/>
                  </a:lnTo>
                  <a:lnTo>
                    <a:pt x="942" y="1522"/>
                  </a:lnTo>
                  <a:lnTo>
                    <a:pt x="944" y="1532"/>
                  </a:lnTo>
                  <a:lnTo>
                    <a:pt x="948" y="1552"/>
                  </a:lnTo>
                  <a:lnTo>
                    <a:pt x="956" y="1570"/>
                  </a:lnTo>
                  <a:lnTo>
                    <a:pt x="968" y="1588"/>
                  </a:lnTo>
                  <a:lnTo>
                    <a:pt x="984" y="1602"/>
                  </a:lnTo>
                  <a:lnTo>
                    <a:pt x="984" y="1602"/>
                  </a:lnTo>
                  <a:lnTo>
                    <a:pt x="1002" y="1612"/>
                  </a:lnTo>
                  <a:lnTo>
                    <a:pt x="1012" y="1616"/>
                  </a:lnTo>
                  <a:lnTo>
                    <a:pt x="1022" y="1618"/>
                  </a:lnTo>
                  <a:lnTo>
                    <a:pt x="1034" y="1620"/>
                  </a:lnTo>
                  <a:lnTo>
                    <a:pt x="1044" y="1620"/>
                  </a:lnTo>
                  <a:lnTo>
                    <a:pt x="1056" y="1620"/>
                  </a:lnTo>
                  <a:lnTo>
                    <a:pt x="1066" y="1618"/>
                  </a:lnTo>
                  <a:lnTo>
                    <a:pt x="1078" y="1614"/>
                  </a:lnTo>
                  <a:lnTo>
                    <a:pt x="1090" y="1610"/>
                  </a:lnTo>
                  <a:lnTo>
                    <a:pt x="1100" y="1602"/>
                  </a:lnTo>
                  <a:lnTo>
                    <a:pt x="1112" y="1594"/>
                  </a:lnTo>
                  <a:lnTo>
                    <a:pt x="1122" y="1584"/>
                  </a:lnTo>
                  <a:lnTo>
                    <a:pt x="1132" y="1572"/>
                  </a:lnTo>
                  <a:lnTo>
                    <a:pt x="1140" y="1560"/>
                  </a:lnTo>
                  <a:lnTo>
                    <a:pt x="1150" y="1544"/>
                  </a:lnTo>
                  <a:lnTo>
                    <a:pt x="1150" y="1544"/>
                  </a:lnTo>
                  <a:lnTo>
                    <a:pt x="1156" y="1526"/>
                  </a:lnTo>
                  <a:lnTo>
                    <a:pt x="1162" y="1510"/>
                  </a:lnTo>
                  <a:lnTo>
                    <a:pt x="1166" y="1490"/>
                  </a:lnTo>
                  <a:lnTo>
                    <a:pt x="1168" y="1472"/>
                  </a:lnTo>
                  <a:lnTo>
                    <a:pt x="1168" y="1452"/>
                  </a:lnTo>
                  <a:lnTo>
                    <a:pt x="1168" y="1434"/>
                  </a:lnTo>
                  <a:lnTo>
                    <a:pt x="1164" y="1414"/>
                  </a:lnTo>
                  <a:lnTo>
                    <a:pt x="1160" y="1396"/>
                  </a:lnTo>
                  <a:lnTo>
                    <a:pt x="1154" y="1378"/>
                  </a:lnTo>
                  <a:lnTo>
                    <a:pt x="1144" y="1360"/>
                  </a:lnTo>
                  <a:lnTo>
                    <a:pt x="1134" y="1342"/>
                  </a:lnTo>
                  <a:lnTo>
                    <a:pt x="1120" y="1326"/>
                  </a:lnTo>
                  <a:lnTo>
                    <a:pt x="1106" y="1312"/>
                  </a:lnTo>
                  <a:lnTo>
                    <a:pt x="1090" y="1298"/>
                  </a:lnTo>
                  <a:lnTo>
                    <a:pt x="1070" y="1288"/>
                  </a:lnTo>
                  <a:lnTo>
                    <a:pt x="1048" y="1278"/>
                  </a:lnTo>
                  <a:lnTo>
                    <a:pt x="1048" y="1278"/>
                  </a:lnTo>
                  <a:lnTo>
                    <a:pt x="1026" y="1270"/>
                  </a:lnTo>
                  <a:lnTo>
                    <a:pt x="1004" y="1264"/>
                  </a:lnTo>
                  <a:lnTo>
                    <a:pt x="984" y="1260"/>
                  </a:lnTo>
                  <a:lnTo>
                    <a:pt x="966" y="1258"/>
                  </a:lnTo>
                  <a:lnTo>
                    <a:pt x="950" y="1258"/>
                  </a:lnTo>
                  <a:lnTo>
                    <a:pt x="934" y="1258"/>
                  </a:lnTo>
                  <a:lnTo>
                    <a:pt x="922" y="1262"/>
                  </a:lnTo>
                  <a:lnTo>
                    <a:pt x="908" y="1266"/>
                  </a:lnTo>
                  <a:lnTo>
                    <a:pt x="898" y="1272"/>
                  </a:lnTo>
                  <a:lnTo>
                    <a:pt x="888" y="1278"/>
                  </a:lnTo>
                  <a:lnTo>
                    <a:pt x="870" y="1292"/>
                  </a:lnTo>
                  <a:lnTo>
                    <a:pt x="854" y="1308"/>
                  </a:lnTo>
                  <a:lnTo>
                    <a:pt x="840" y="1324"/>
                  </a:lnTo>
                  <a:lnTo>
                    <a:pt x="840" y="1324"/>
                  </a:lnTo>
                  <a:lnTo>
                    <a:pt x="838" y="1282"/>
                  </a:lnTo>
                  <a:lnTo>
                    <a:pt x="840" y="1248"/>
                  </a:lnTo>
                  <a:lnTo>
                    <a:pt x="844" y="1224"/>
                  </a:lnTo>
                  <a:lnTo>
                    <a:pt x="846" y="1208"/>
                  </a:lnTo>
                  <a:lnTo>
                    <a:pt x="846" y="1208"/>
                  </a:lnTo>
                  <a:lnTo>
                    <a:pt x="824" y="1240"/>
                  </a:lnTo>
                  <a:lnTo>
                    <a:pt x="804" y="1276"/>
                  </a:lnTo>
                  <a:lnTo>
                    <a:pt x="788" y="1316"/>
                  </a:lnTo>
                  <a:lnTo>
                    <a:pt x="774" y="1358"/>
                  </a:lnTo>
                  <a:lnTo>
                    <a:pt x="770" y="1378"/>
                  </a:lnTo>
                  <a:lnTo>
                    <a:pt x="766" y="1400"/>
                  </a:lnTo>
                  <a:lnTo>
                    <a:pt x="764" y="1420"/>
                  </a:lnTo>
                  <a:lnTo>
                    <a:pt x="764" y="1442"/>
                  </a:lnTo>
                  <a:lnTo>
                    <a:pt x="766" y="1462"/>
                  </a:lnTo>
                  <a:lnTo>
                    <a:pt x="768" y="1482"/>
                  </a:lnTo>
                  <a:lnTo>
                    <a:pt x="772" y="1500"/>
                  </a:lnTo>
                  <a:lnTo>
                    <a:pt x="778" y="1518"/>
                  </a:lnTo>
                  <a:lnTo>
                    <a:pt x="778" y="1518"/>
                  </a:lnTo>
                  <a:lnTo>
                    <a:pt x="736" y="1480"/>
                  </a:lnTo>
                  <a:lnTo>
                    <a:pt x="700" y="1442"/>
                  </a:lnTo>
                  <a:lnTo>
                    <a:pt x="670" y="1406"/>
                  </a:lnTo>
                  <a:lnTo>
                    <a:pt x="648" y="1370"/>
                  </a:lnTo>
                  <a:lnTo>
                    <a:pt x="630" y="1336"/>
                  </a:lnTo>
                  <a:lnTo>
                    <a:pt x="620" y="1304"/>
                  </a:lnTo>
                  <a:lnTo>
                    <a:pt x="612" y="1272"/>
                  </a:lnTo>
                  <a:lnTo>
                    <a:pt x="612" y="1244"/>
                  </a:lnTo>
                  <a:lnTo>
                    <a:pt x="612" y="1230"/>
                  </a:lnTo>
                  <a:lnTo>
                    <a:pt x="614" y="1218"/>
                  </a:lnTo>
                  <a:lnTo>
                    <a:pt x="618" y="1206"/>
                  </a:lnTo>
                  <a:lnTo>
                    <a:pt x="622" y="1194"/>
                  </a:lnTo>
                  <a:lnTo>
                    <a:pt x="628" y="1184"/>
                  </a:lnTo>
                  <a:lnTo>
                    <a:pt x="634" y="1174"/>
                  </a:lnTo>
                  <a:lnTo>
                    <a:pt x="642" y="1166"/>
                  </a:lnTo>
                  <a:lnTo>
                    <a:pt x="650" y="1156"/>
                  </a:lnTo>
                  <a:lnTo>
                    <a:pt x="668" y="1142"/>
                  </a:lnTo>
                  <a:lnTo>
                    <a:pt x="690" y="1132"/>
                  </a:lnTo>
                  <a:lnTo>
                    <a:pt x="716" y="1124"/>
                  </a:lnTo>
                  <a:lnTo>
                    <a:pt x="744" y="1122"/>
                  </a:lnTo>
                  <a:lnTo>
                    <a:pt x="744" y="1122"/>
                  </a:lnTo>
                  <a:lnTo>
                    <a:pt x="744" y="1108"/>
                  </a:lnTo>
                  <a:lnTo>
                    <a:pt x="742" y="1096"/>
                  </a:lnTo>
                  <a:lnTo>
                    <a:pt x="736" y="1086"/>
                  </a:lnTo>
                  <a:lnTo>
                    <a:pt x="730" y="1080"/>
                  </a:lnTo>
                  <a:lnTo>
                    <a:pt x="722" y="1074"/>
                  </a:lnTo>
                  <a:lnTo>
                    <a:pt x="712" y="1072"/>
                  </a:lnTo>
                  <a:lnTo>
                    <a:pt x="704" y="1072"/>
                  </a:lnTo>
                  <a:lnTo>
                    <a:pt x="692" y="1074"/>
                  </a:lnTo>
                  <a:lnTo>
                    <a:pt x="692" y="1074"/>
                  </a:lnTo>
                  <a:lnTo>
                    <a:pt x="700" y="1062"/>
                  </a:lnTo>
                  <a:lnTo>
                    <a:pt x="708" y="1054"/>
                  </a:lnTo>
                  <a:lnTo>
                    <a:pt x="716" y="1046"/>
                  </a:lnTo>
                  <a:lnTo>
                    <a:pt x="724" y="1042"/>
                  </a:lnTo>
                  <a:lnTo>
                    <a:pt x="734" y="1038"/>
                  </a:lnTo>
                  <a:lnTo>
                    <a:pt x="744" y="1036"/>
                  </a:lnTo>
                  <a:lnTo>
                    <a:pt x="752" y="1038"/>
                  </a:lnTo>
                  <a:lnTo>
                    <a:pt x="762" y="1038"/>
                  </a:lnTo>
                  <a:lnTo>
                    <a:pt x="780" y="1046"/>
                  </a:lnTo>
                  <a:lnTo>
                    <a:pt x="796" y="1056"/>
                  </a:lnTo>
                  <a:lnTo>
                    <a:pt x="808" y="1068"/>
                  </a:lnTo>
                  <a:lnTo>
                    <a:pt x="818" y="1080"/>
                  </a:lnTo>
                  <a:lnTo>
                    <a:pt x="818" y="1080"/>
                  </a:lnTo>
                  <a:lnTo>
                    <a:pt x="822" y="1068"/>
                  </a:lnTo>
                  <a:lnTo>
                    <a:pt x="824" y="1056"/>
                  </a:lnTo>
                  <a:lnTo>
                    <a:pt x="822" y="1046"/>
                  </a:lnTo>
                  <a:lnTo>
                    <a:pt x="820" y="1034"/>
                  </a:lnTo>
                  <a:lnTo>
                    <a:pt x="816" y="1024"/>
                  </a:lnTo>
                  <a:lnTo>
                    <a:pt x="810" y="1016"/>
                  </a:lnTo>
                  <a:lnTo>
                    <a:pt x="802" y="1008"/>
                  </a:lnTo>
                  <a:lnTo>
                    <a:pt x="794" y="1000"/>
                  </a:lnTo>
                  <a:lnTo>
                    <a:pt x="784" y="994"/>
                  </a:lnTo>
                  <a:lnTo>
                    <a:pt x="774" y="988"/>
                  </a:lnTo>
                  <a:lnTo>
                    <a:pt x="764" y="984"/>
                  </a:lnTo>
                  <a:lnTo>
                    <a:pt x="754" y="980"/>
                  </a:lnTo>
                  <a:lnTo>
                    <a:pt x="744" y="978"/>
                  </a:lnTo>
                  <a:lnTo>
                    <a:pt x="732" y="978"/>
                  </a:lnTo>
                  <a:lnTo>
                    <a:pt x="722" y="978"/>
                  </a:lnTo>
                  <a:lnTo>
                    <a:pt x="714" y="980"/>
                  </a:lnTo>
                  <a:lnTo>
                    <a:pt x="714" y="980"/>
                  </a:lnTo>
                  <a:lnTo>
                    <a:pt x="780" y="890"/>
                  </a:lnTo>
                  <a:lnTo>
                    <a:pt x="780" y="890"/>
                  </a:lnTo>
                  <a:lnTo>
                    <a:pt x="758" y="900"/>
                  </a:lnTo>
                  <a:lnTo>
                    <a:pt x="736" y="912"/>
                  </a:lnTo>
                  <a:lnTo>
                    <a:pt x="718" y="924"/>
                  </a:lnTo>
                  <a:lnTo>
                    <a:pt x="698" y="940"/>
                  </a:lnTo>
                  <a:lnTo>
                    <a:pt x="682" y="956"/>
                  </a:lnTo>
                  <a:lnTo>
                    <a:pt x="666" y="972"/>
                  </a:lnTo>
                  <a:lnTo>
                    <a:pt x="652" y="990"/>
                  </a:lnTo>
                  <a:lnTo>
                    <a:pt x="638" y="1010"/>
                  </a:lnTo>
                  <a:lnTo>
                    <a:pt x="626" y="1030"/>
                  </a:lnTo>
                  <a:lnTo>
                    <a:pt x="614" y="1052"/>
                  </a:lnTo>
                  <a:lnTo>
                    <a:pt x="604" y="1076"/>
                  </a:lnTo>
                  <a:lnTo>
                    <a:pt x="596" y="1100"/>
                  </a:lnTo>
                  <a:lnTo>
                    <a:pt x="590" y="1124"/>
                  </a:lnTo>
                  <a:lnTo>
                    <a:pt x="584" y="1150"/>
                  </a:lnTo>
                  <a:lnTo>
                    <a:pt x="580" y="1176"/>
                  </a:lnTo>
                  <a:lnTo>
                    <a:pt x="576" y="1204"/>
                  </a:lnTo>
                  <a:lnTo>
                    <a:pt x="576" y="1204"/>
                  </a:lnTo>
                  <a:lnTo>
                    <a:pt x="574" y="1140"/>
                  </a:lnTo>
                  <a:lnTo>
                    <a:pt x="574" y="1084"/>
                  </a:lnTo>
                  <a:lnTo>
                    <a:pt x="580" y="1034"/>
                  </a:lnTo>
                  <a:lnTo>
                    <a:pt x="588" y="990"/>
                  </a:lnTo>
                  <a:lnTo>
                    <a:pt x="598" y="952"/>
                  </a:lnTo>
                  <a:lnTo>
                    <a:pt x="612" y="920"/>
                  </a:lnTo>
                  <a:lnTo>
                    <a:pt x="620" y="906"/>
                  </a:lnTo>
                  <a:lnTo>
                    <a:pt x="628" y="892"/>
                  </a:lnTo>
                  <a:lnTo>
                    <a:pt x="636" y="882"/>
                  </a:lnTo>
                  <a:lnTo>
                    <a:pt x="646" y="872"/>
                  </a:lnTo>
                  <a:lnTo>
                    <a:pt x="656" y="864"/>
                  </a:lnTo>
                  <a:lnTo>
                    <a:pt x="666" y="856"/>
                  </a:lnTo>
                  <a:lnTo>
                    <a:pt x="678" y="850"/>
                  </a:lnTo>
                  <a:lnTo>
                    <a:pt x="688" y="846"/>
                  </a:lnTo>
                  <a:lnTo>
                    <a:pt x="700" y="842"/>
                  </a:lnTo>
                  <a:lnTo>
                    <a:pt x="712" y="840"/>
                  </a:lnTo>
                  <a:lnTo>
                    <a:pt x="736" y="838"/>
                  </a:lnTo>
                  <a:lnTo>
                    <a:pt x="760" y="842"/>
                  </a:lnTo>
                  <a:lnTo>
                    <a:pt x="786" y="850"/>
                  </a:lnTo>
                  <a:lnTo>
                    <a:pt x="812" y="862"/>
                  </a:lnTo>
                  <a:lnTo>
                    <a:pt x="838" y="878"/>
                  </a:lnTo>
                  <a:lnTo>
                    <a:pt x="838" y="878"/>
                  </a:lnTo>
                  <a:lnTo>
                    <a:pt x="830" y="862"/>
                  </a:lnTo>
                  <a:lnTo>
                    <a:pt x="816" y="844"/>
                  </a:lnTo>
                  <a:lnTo>
                    <a:pt x="798" y="826"/>
                  </a:lnTo>
                  <a:lnTo>
                    <a:pt x="776" y="810"/>
                  </a:lnTo>
                  <a:lnTo>
                    <a:pt x="752" y="794"/>
                  </a:lnTo>
                  <a:lnTo>
                    <a:pt x="740" y="790"/>
                  </a:lnTo>
                  <a:lnTo>
                    <a:pt x="728" y="786"/>
                  </a:lnTo>
                  <a:lnTo>
                    <a:pt x="716" y="782"/>
                  </a:lnTo>
                  <a:lnTo>
                    <a:pt x="704" y="782"/>
                  </a:lnTo>
                  <a:lnTo>
                    <a:pt x="692" y="782"/>
                  </a:lnTo>
                  <a:lnTo>
                    <a:pt x="682" y="784"/>
                  </a:lnTo>
                  <a:lnTo>
                    <a:pt x="682" y="784"/>
                  </a:lnTo>
                  <a:lnTo>
                    <a:pt x="690" y="774"/>
                  </a:lnTo>
                  <a:lnTo>
                    <a:pt x="700" y="764"/>
                  </a:lnTo>
                  <a:lnTo>
                    <a:pt x="710" y="756"/>
                  </a:lnTo>
                  <a:lnTo>
                    <a:pt x="720" y="750"/>
                  </a:lnTo>
                  <a:lnTo>
                    <a:pt x="732" y="744"/>
                  </a:lnTo>
                  <a:lnTo>
                    <a:pt x="744" y="740"/>
                  </a:lnTo>
                  <a:lnTo>
                    <a:pt x="770" y="734"/>
                  </a:lnTo>
                  <a:lnTo>
                    <a:pt x="796" y="732"/>
                  </a:lnTo>
                  <a:lnTo>
                    <a:pt x="822" y="734"/>
                  </a:lnTo>
                  <a:lnTo>
                    <a:pt x="848" y="740"/>
                  </a:lnTo>
                  <a:lnTo>
                    <a:pt x="874" y="750"/>
                  </a:lnTo>
                  <a:lnTo>
                    <a:pt x="898" y="762"/>
                  </a:lnTo>
                  <a:lnTo>
                    <a:pt x="920" y="776"/>
                  </a:lnTo>
                  <a:lnTo>
                    <a:pt x="940" y="794"/>
                  </a:lnTo>
                  <a:lnTo>
                    <a:pt x="954" y="812"/>
                  </a:lnTo>
                  <a:lnTo>
                    <a:pt x="960" y="824"/>
                  </a:lnTo>
                  <a:lnTo>
                    <a:pt x="966" y="834"/>
                  </a:lnTo>
                  <a:lnTo>
                    <a:pt x="970" y="846"/>
                  </a:lnTo>
                  <a:lnTo>
                    <a:pt x="972" y="858"/>
                  </a:lnTo>
                  <a:lnTo>
                    <a:pt x="974" y="870"/>
                  </a:lnTo>
                  <a:lnTo>
                    <a:pt x="974" y="884"/>
                  </a:lnTo>
                  <a:lnTo>
                    <a:pt x="972" y="896"/>
                  </a:lnTo>
                  <a:lnTo>
                    <a:pt x="970" y="910"/>
                  </a:lnTo>
                  <a:lnTo>
                    <a:pt x="970" y="910"/>
                  </a:lnTo>
                  <a:lnTo>
                    <a:pt x="984" y="912"/>
                  </a:lnTo>
                  <a:lnTo>
                    <a:pt x="996" y="914"/>
                  </a:lnTo>
                  <a:lnTo>
                    <a:pt x="1008" y="912"/>
                  </a:lnTo>
                  <a:lnTo>
                    <a:pt x="1020" y="910"/>
                  </a:lnTo>
                  <a:lnTo>
                    <a:pt x="1030" y="906"/>
                  </a:lnTo>
                  <a:lnTo>
                    <a:pt x="1038" y="902"/>
                  </a:lnTo>
                  <a:lnTo>
                    <a:pt x="1046" y="894"/>
                  </a:lnTo>
                  <a:lnTo>
                    <a:pt x="1054" y="888"/>
                  </a:lnTo>
                  <a:lnTo>
                    <a:pt x="1064" y="872"/>
                  </a:lnTo>
                  <a:lnTo>
                    <a:pt x="1072" y="852"/>
                  </a:lnTo>
                  <a:lnTo>
                    <a:pt x="1076" y="834"/>
                  </a:lnTo>
                  <a:lnTo>
                    <a:pt x="1074" y="816"/>
                  </a:lnTo>
                  <a:lnTo>
                    <a:pt x="1074" y="816"/>
                  </a:lnTo>
                  <a:lnTo>
                    <a:pt x="1086" y="834"/>
                  </a:lnTo>
                  <a:lnTo>
                    <a:pt x="1096" y="852"/>
                  </a:lnTo>
                  <a:lnTo>
                    <a:pt x="1104" y="874"/>
                  </a:lnTo>
                  <a:lnTo>
                    <a:pt x="1110" y="894"/>
                  </a:lnTo>
                  <a:lnTo>
                    <a:pt x="1112" y="916"/>
                  </a:lnTo>
                  <a:lnTo>
                    <a:pt x="1114" y="938"/>
                  </a:lnTo>
                  <a:lnTo>
                    <a:pt x="1112" y="958"/>
                  </a:lnTo>
                  <a:lnTo>
                    <a:pt x="1108" y="978"/>
                  </a:lnTo>
                  <a:lnTo>
                    <a:pt x="1104" y="996"/>
                  </a:lnTo>
                  <a:lnTo>
                    <a:pt x="1096" y="1012"/>
                  </a:lnTo>
                  <a:lnTo>
                    <a:pt x="1086" y="1026"/>
                  </a:lnTo>
                  <a:lnTo>
                    <a:pt x="1072" y="1036"/>
                  </a:lnTo>
                  <a:lnTo>
                    <a:pt x="1058" y="1042"/>
                  </a:lnTo>
                  <a:lnTo>
                    <a:pt x="1042" y="1046"/>
                  </a:lnTo>
                  <a:lnTo>
                    <a:pt x="1024" y="1044"/>
                  </a:lnTo>
                  <a:lnTo>
                    <a:pt x="1002" y="1036"/>
                  </a:lnTo>
                  <a:lnTo>
                    <a:pt x="1002" y="1036"/>
                  </a:lnTo>
                  <a:lnTo>
                    <a:pt x="1008" y="1022"/>
                  </a:lnTo>
                  <a:lnTo>
                    <a:pt x="1012" y="1008"/>
                  </a:lnTo>
                  <a:lnTo>
                    <a:pt x="1010" y="996"/>
                  </a:lnTo>
                  <a:lnTo>
                    <a:pt x="1008" y="984"/>
                  </a:lnTo>
                  <a:lnTo>
                    <a:pt x="1002" y="974"/>
                  </a:lnTo>
                  <a:lnTo>
                    <a:pt x="994" y="966"/>
                  </a:lnTo>
                  <a:lnTo>
                    <a:pt x="986" y="960"/>
                  </a:lnTo>
                  <a:lnTo>
                    <a:pt x="974" y="956"/>
                  </a:lnTo>
                  <a:lnTo>
                    <a:pt x="964" y="954"/>
                  </a:lnTo>
                  <a:lnTo>
                    <a:pt x="952" y="952"/>
                  </a:lnTo>
                  <a:lnTo>
                    <a:pt x="940" y="954"/>
                  </a:lnTo>
                  <a:lnTo>
                    <a:pt x="926" y="958"/>
                  </a:lnTo>
                  <a:lnTo>
                    <a:pt x="916" y="964"/>
                  </a:lnTo>
                  <a:lnTo>
                    <a:pt x="904" y="972"/>
                  </a:lnTo>
                  <a:lnTo>
                    <a:pt x="894" y="982"/>
                  </a:lnTo>
                  <a:lnTo>
                    <a:pt x="886" y="996"/>
                  </a:lnTo>
                  <a:lnTo>
                    <a:pt x="886" y="996"/>
                  </a:lnTo>
                  <a:lnTo>
                    <a:pt x="880" y="1008"/>
                  </a:lnTo>
                  <a:lnTo>
                    <a:pt x="876" y="1020"/>
                  </a:lnTo>
                  <a:lnTo>
                    <a:pt x="874" y="1034"/>
                  </a:lnTo>
                  <a:lnTo>
                    <a:pt x="872" y="1046"/>
                  </a:lnTo>
                  <a:lnTo>
                    <a:pt x="872" y="1060"/>
                  </a:lnTo>
                  <a:lnTo>
                    <a:pt x="872" y="1074"/>
                  </a:lnTo>
                  <a:lnTo>
                    <a:pt x="874" y="1086"/>
                  </a:lnTo>
                  <a:lnTo>
                    <a:pt x="878" y="1100"/>
                  </a:lnTo>
                  <a:lnTo>
                    <a:pt x="882" y="1112"/>
                  </a:lnTo>
                  <a:lnTo>
                    <a:pt x="886" y="1124"/>
                  </a:lnTo>
                  <a:lnTo>
                    <a:pt x="894" y="1134"/>
                  </a:lnTo>
                  <a:lnTo>
                    <a:pt x="902" y="1144"/>
                  </a:lnTo>
                  <a:lnTo>
                    <a:pt x="910" y="1154"/>
                  </a:lnTo>
                  <a:lnTo>
                    <a:pt x="920" y="1162"/>
                  </a:lnTo>
                  <a:lnTo>
                    <a:pt x="932" y="1170"/>
                  </a:lnTo>
                  <a:lnTo>
                    <a:pt x="944" y="1174"/>
                  </a:lnTo>
                  <a:lnTo>
                    <a:pt x="944" y="1174"/>
                  </a:lnTo>
                  <a:lnTo>
                    <a:pt x="956" y="1178"/>
                  </a:lnTo>
                  <a:lnTo>
                    <a:pt x="970" y="1182"/>
                  </a:lnTo>
                  <a:lnTo>
                    <a:pt x="984" y="1182"/>
                  </a:lnTo>
                  <a:lnTo>
                    <a:pt x="998" y="1182"/>
                  </a:lnTo>
                  <a:lnTo>
                    <a:pt x="1012" y="1180"/>
                  </a:lnTo>
                  <a:lnTo>
                    <a:pt x="1026" y="1176"/>
                  </a:lnTo>
                  <a:lnTo>
                    <a:pt x="1040" y="1172"/>
                  </a:lnTo>
                  <a:lnTo>
                    <a:pt x="1056" y="1166"/>
                  </a:lnTo>
                  <a:lnTo>
                    <a:pt x="1068" y="1158"/>
                  </a:lnTo>
                  <a:lnTo>
                    <a:pt x="1082" y="1150"/>
                  </a:lnTo>
                  <a:lnTo>
                    <a:pt x="1094" y="1140"/>
                  </a:lnTo>
                  <a:lnTo>
                    <a:pt x="1106" y="1128"/>
                  </a:lnTo>
                  <a:lnTo>
                    <a:pt x="1118" y="1116"/>
                  </a:lnTo>
                  <a:lnTo>
                    <a:pt x="1128" y="1102"/>
                  </a:lnTo>
                  <a:lnTo>
                    <a:pt x="1136" y="1088"/>
                  </a:lnTo>
                  <a:lnTo>
                    <a:pt x="1144" y="1072"/>
                  </a:lnTo>
                  <a:lnTo>
                    <a:pt x="1144" y="1072"/>
                  </a:lnTo>
                  <a:lnTo>
                    <a:pt x="1150" y="1048"/>
                  </a:lnTo>
                  <a:lnTo>
                    <a:pt x="1156" y="1024"/>
                  </a:lnTo>
                  <a:lnTo>
                    <a:pt x="1160" y="996"/>
                  </a:lnTo>
                  <a:lnTo>
                    <a:pt x="1160" y="968"/>
                  </a:lnTo>
                  <a:lnTo>
                    <a:pt x="1158" y="940"/>
                  </a:lnTo>
                  <a:lnTo>
                    <a:pt x="1152" y="912"/>
                  </a:lnTo>
                  <a:lnTo>
                    <a:pt x="1146" y="882"/>
                  </a:lnTo>
                  <a:lnTo>
                    <a:pt x="1134" y="854"/>
                  </a:lnTo>
                  <a:lnTo>
                    <a:pt x="1122" y="828"/>
                  </a:lnTo>
                  <a:lnTo>
                    <a:pt x="1106" y="802"/>
                  </a:lnTo>
                  <a:lnTo>
                    <a:pt x="1086" y="776"/>
                  </a:lnTo>
                  <a:lnTo>
                    <a:pt x="1064" y="754"/>
                  </a:lnTo>
                  <a:lnTo>
                    <a:pt x="1038" y="734"/>
                  </a:lnTo>
                  <a:lnTo>
                    <a:pt x="1010" y="716"/>
                  </a:lnTo>
                  <a:lnTo>
                    <a:pt x="976" y="702"/>
                  </a:lnTo>
                  <a:lnTo>
                    <a:pt x="942" y="692"/>
                  </a:lnTo>
                  <a:lnTo>
                    <a:pt x="942" y="692"/>
                  </a:lnTo>
                  <a:lnTo>
                    <a:pt x="984" y="678"/>
                  </a:lnTo>
                  <a:lnTo>
                    <a:pt x="1020" y="662"/>
                  </a:lnTo>
                  <a:lnTo>
                    <a:pt x="1054" y="642"/>
                  </a:lnTo>
                  <a:lnTo>
                    <a:pt x="1084" y="620"/>
                  </a:lnTo>
                  <a:lnTo>
                    <a:pt x="1108" y="596"/>
                  </a:lnTo>
                  <a:lnTo>
                    <a:pt x="1130" y="568"/>
                  </a:lnTo>
                  <a:lnTo>
                    <a:pt x="1146" y="540"/>
                  </a:lnTo>
                  <a:lnTo>
                    <a:pt x="1160" y="512"/>
                  </a:lnTo>
                  <a:lnTo>
                    <a:pt x="1170" y="482"/>
                  </a:lnTo>
                  <a:lnTo>
                    <a:pt x="1178" y="452"/>
                  </a:lnTo>
                  <a:lnTo>
                    <a:pt x="1180" y="422"/>
                  </a:lnTo>
                  <a:lnTo>
                    <a:pt x="1182" y="392"/>
                  </a:lnTo>
                  <a:lnTo>
                    <a:pt x="1178" y="362"/>
                  </a:lnTo>
                  <a:lnTo>
                    <a:pt x="1174" y="334"/>
                  </a:lnTo>
                  <a:lnTo>
                    <a:pt x="1166" y="306"/>
                  </a:lnTo>
                  <a:lnTo>
                    <a:pt x="1156" y="282"/>
                  </a:lnTo>
                  <a:lnTo>
                    <a:pt x="1156" y="282"/>
                  </a:lnTo>
                  <a:lnTo>
                    <a:pt x="1162" y="274"/>
                  </a:lnTo>
                  <a:lnTo>
                    <a:pt x="1166" y="266"/>
                  </a:lnTo>
                  <a:lnTo>
                    <a:pt x="1170" y="258"/>
                  </a:lnTo>
                  <a:lnTo>
                    <a:pt x="1170" y="252"/>
                  </a:lnTo>
                  <a:lnTo>
                    <a:pt x="1170" y="244"/>
                  </a:lnTo>
                  <a:lnTo>
                    <a:pt x="1168" y="240"/>
                  </a:lnTo>
                  <a:lnTo>
                    <a:pt x="1160" y="230"/>
                  </a:lnTo>
                  <a:lnTo>
                    <a:pt x="1148" y="222"/>
                  </a:lnTo>
                  <a:lnTo>
                    <a:pt x="1136" y="216"/>
                  </a:lnTo>
                  <a:lnTo>
                    <a:pt x="1122" y="210"/>
                  </a:lnTo>
                  <a:lnTo>
                    <a:pt x="1110" y="208"/>
                  </a:lnTo>
                  <a:lnTo>
                    <a:pt x="1110" y="208"/>
                  </a:lnTo>
                  <a:lnTo>
                    <a:pt x="1094" y="202"/>
                  </a:lnTo>
                  <a:lnTo>
                    <a:pt x="1080" y="194"/>
                  </a:lnTo>
                  <a:lnTo>
                    <a:pt x="1068" y="182"/>
                  </a:lnTo>
                  <a:lnTo>
                    <a:pt x="1058" y="168"/>
                  </a:lnTo>
                  <a:lnTo>
                    <a:pt x="1054" y="154"/>
                  </a:lnTo>
                  <a:lnTo>
                    <a:pt x="1054" y="146"/>
                  </a:lnTo>
                  <a:lnTo>
                    <a:pt x="1054" y="140"/>
                  </a:lnTo>
                  <a:lnTo>
                    <a:pt x="1056" y="132"/>
                  </a:lnTo>
                  <a:lnTo>
                    <a:pt x="1060" y="126"/>
                  </a:lnTo>
                  <a:lnTo>
                    <a:pt x="1066" y="120"/>
                  </a:lnTo>
                  <a:lnTo>
                    <a:pt x="1074" y="114"/>
                  </a:lnTo>
                  <a:lnTo>
                    <a:pt x="1074" y="114"/>
                  </a:lnTo>
                  <a:lnTo>
                    <a:pt x="1082" y="108"/>
                  </a:lnTo>
                  <a:lnTo>
                    <a:pt x="1088" y="106"/>
                  </a:lnTo>
                  <a:lnTo>
                    <a:pt x="1096" y="104"/>
                  </a:lnTo>
                  <a:lnTo>
                    <a:pt x="1104" y="104"/>
                  </a:lnTo>
                  <a:lnTo>
                    <a:pt x="1110" y="104"/>
                  </a:lnTo>
                  <a:lnTo>
                    <a:pt x="1116" y="106"/>
                  </a:lnTo>
                  <a:lnTo>
                    <a:pt x="1128" y="114"/>
                  </a:lnTo>
                  <a:lnTo>
                    <a:pt x="1138" y="124"/>
                  </a:lnTo>
                  <a:lnTo>
                    <a:pt x="1144" y="136"/>
                  </a:lnTo>
                  <a:lnTo>
                    <a:pt x="1150" y="152"/>
                  </a:lnTo>
                  <a:lnTo>
                    <a:pt x="1150" y="166"/>
                  </a:lnTo>
                  <a:lnTo>
                    <a:pt x="1150" y="166"/>
                  </a:lnTo>
                  <a:lnTo>
                    <a:pt x="1160" y="154"/>
                  </a:lnTo>
                  <a:lnTo>
                    <a:pt x="1166" y="142"/>
                  </a:lnTo>
                  <a:lnTo>
                    <a:pt x="1172" y="130"/>
                  </a:lnTo>
                  <a:lnTo>
                    <a:pt x="1176" y="116"/>
                  </a:lnTo>
                  <a:lnTo>
                    <a:pt x="1178" y="104"/>
                  </a:lnTo>
                  <a:lnTo>
                    <a:pt x="1178" y="90"/>
                  </a:lnTo>
                  <a:lnTo>
                    <a:pt x="1176" y="78"/>
                  </a:lnTo>
                  <a:lnTo>
                    <a:pt x="1174" y="66"/>
                  </a:lnTo>
                  <a:lnTo>
                    <a:pt x="1170" y="54"/>
                  </a:lnTo>
                  <a:lnTo>
                    <a:pt x="1164" y="42"/>
                  </a:lnTo>
                  <a:lnTo>
                    <a:pt x="1158" y="32"/>
                  </a:lnTo>
                  <a:lnTo>
                    <a:pt x="1150" y="24"/>
                  </a:lnTo>
                  <a:lnTo>
                    <a:pt x="1140" y="16"/>
                  </a:lnTo>
                  <a:lnTo>
                    <a:pt x="1128" y="10"/>
                  </a:lnTo>
                  <a:lnTo>
                    <a:pt x="1114" y="4"/>
                  </a:lnTo>
                  <a:lnTo>
                    <a:pt x="1100" y="2"/>
                  </a:lnTo>
                  <a:lnTo>
                    <a:pt x="1100" y="2"/>
                  </a:lnTo>
                  <a:lnTo>
                    <a:pt x="1088" y="0"/>
                  </a:lnTo>
                  <a:lnTo>
                    <a:pt x="1074" y="4"/>
                  </a:lnTo>
                  <a:lnTo>
                    <a:pt x="1060" y="10"/>
                  </a:lnTo>
                  <a:lnTo>
                    <a:pt x="1046" y="18"/>
                  </a:lnTo>
                  <a:lnTo>
                    <a:pt x="1034" y="30"/>
                  </a:lnTo>
                  <a:lnTo>
                    <a:pt x="1022" y="42"/>
                  </a:lnTo>
                  <a:lnTo>
                    <a:pt x="1012" y="56"/>
                  </a:lnTo>
                  <a:lnTo>
                    <a:pt x="1002" y="72"/>
                  </a:lnTo>
                  <a:lnTo>
                    <a:pt x="996" y="88"/>
                  </a:lnTo>
                  <a:lnTo>
                    <a:pt x="992" y="104"/>
                  </a:lnTo>
                  <a:lnTo>
                    <a:pt x="988" y="122"/>
                  </a:lnTo>
                  <a:lnTo>
                    <a:pt x="990" y="138"/>
                  </a:lnTo>
                  <a:lnTo>
                    <a:pt x="994" y="154"/>
                  </a:lnTo>
                  <a:lnTo>
                    <a:pt x="1000" y="170"/>
                  </a:lnTo>
                  <a:lnTo>
                    <a:pt x="1012" y="184"/>
                  </a:lnTo>
                  <a:lnTo>
                    <a:pt x="1026" y="198"/>
                  </a:lnTo>
                  <a:lnTo>
                    <a:pt x="1026" y="198"/>
                  </a:lnTo>
                  <a:lnTo>
                    <a:pt x="1048" y="212"/>
                  </a:lnTo>
                  <a:lnTo>
                    <a:pt x="1066" y="224"/>
                  </a:lnTo>
                  <a:lnTo>
                    <a:pt x="1096" y="240"/>
                  </a:lnTo>
                  <a:lnTo>
                    <a:pt x="1106" y="246"/>
                  </a:lnTo>
                  <a:lnTo>
                    <a:pt x="1112" y="254"/>
                  </a:lnTo>
                  <a:lnTo>
                    <a:pt x="1116" y="264"/>
                  </a:lnTo>
                  <a:lnTo>
                    <a:pt x="1116" y="278"/>
                  </a:lnTo>
                  <a:lnTo>
                    <a:pt x="1116" y="278"/>
                  </a:lnTo>
                  <a:lnTo>
                    <a:pt x="1104" y="266"/>
                  </a:lnTo>
                  <a:lnTo>
                    <a:pt x="1090" y="258"/>
                  </a:lnTo>
                  <a:lnTo>
                    <a:pt x="1078" y="250"/>
                  </a:lnTo>
                  <a:lnTo>
                    <a:pt x="1064" y="244"/>
                  </a:lnTo>
                  <a:lnTo>
                    <a:pt x="1050" y="238"/>
                  </a:lnTo>
                  <a:lnTo>
                    <a:pt x="1036" y="234"/>
                  </a:lnTo>
                  <a:lnTo>
                    <a:pt x="1022" y="232"/>
                  </a:lnTo>
                  <a:lnTo>
                    <a:pt x="1008" y="232"/>
                  </a:lnTo>
                  <a:lnTo>
                    <a:pt x="980" y="232"/>
                  </a:lnTo>
                  <a:lnTo>
                    <a:pt x="954" y="238"/>
                  </a:lnTo>
                  <a:lnTo>
                    <a:pt x="944" y="242"/>
                  </a:lnTo>
                  <a:lnTo>
                    <a:pt x="932" y="248"/>
                  </a:lnTo>
                  <a:lnTo>
                    <a:pt x="924" y="254"/>
                  </a:lnTo>
                  <a:lnTo>
                    <a:pt x="914" y="260"/>
                  </a:lnTo>
                  <a:lnTo>
                    <a:pt x="914" y="260"/>
                  </a:lnTo>
                  <a:lnTo>
                    <a:pt x="904" y="272"/>
                  </a:lnTo>
                  <a:lnTo>
                    <a:pt x="896" y="284"/>
                  </a:lnTo>
                  <a:lnTo>
                    <a:pt x="890" y="298"/>
                  </a:lnTo>
                  <a:lnTo>
                    <a:pt x="884" y="312"/>
                  </a:lnTo>
                  <a:lnTo>
                    <a:pt x="882" y="326"/>
                  </a:lnTo>
                  <a:lnTo>
                    <a:pt x="882" y="340"/>
                  </a:lnTo>
                  <a:lnTo>
                    <a:pt x="884" y="352"/>
                  </a:lnTo>
                  <a:lnTo>
                    <a:pt x="888" y="366"/>
                  </a:lnTo>
                  <a:lnTo>
                    <a:pt x="894" y="376"/>
                  </a:lnTo>
                  <a:lnTo>
                    <a:pt x="904" y="386"/>
                  </a:lnTo>
                  <a:lnTo>
                    <a:pt x="916" y="394"/>
                  </a:lnTo>
                  <a:lnTo>
                    <a:pt x="932" y="400"/>
                  </a:lnTo>
                  <a:lnTo>
                    <a:pt x="950" y="402"/>
                  </a:lnTo>
                  <a:lnTo>
                    <a:pt x="972" y="402"/>
                  </a:lnTo>
                  <a:lnTo>
                    <a:pt x="996" y="398"/>
                  </a:lnTo>
                  <a:lnTo>
                    <a:pt x="1024" y="390"/>
                  </a:lnTo>
                  <a:lnTo>
                    <a:pt x="1024" y="390"/>
                  </a:lnTo>
                  <a:lnTo>
                    <a:pt x="1010" y="380"/>
                  </a:lnTo>
                  <a:lnTo>
                    <a:pt x="1000" y="370"/>
                  </a:lnTo>
                  <a:lnTo>
                    <a:pt x="990" y="360"/>
                  </a:lnTo>
                  <a:lnTo>
                    <a:pt x="984" y="350"/>
                  </a:lnTo>
                  <a:lnTo>
                    <a:pt x="978" y="340"/>
                  </a:lnTo>
                  <a:lnTo>
                    <a:pt x="976" y="332"/>
                  </a:lnTo>
                  <a:lnTo>
                    <a:pt x="974" y="322"/>
                  </a:lnTo>
                  <a:lnTo>
                    <a:pt x="976" y="314"/>
                  </a:lnTo>
                  <a:lnTo>
                    <a:pt x="978" y="308"/>
                  </a:lnTo>
                  <a:lnTo>
                    <a:pt x="980" y="300"/>
                  </a:lnTo>
                  <a:lnTo>
                    <a:pt x="986" y="294"/>
                  </a:lnTo>
                  <a:lnTo>
                    <a:pt x="990" y="288"/>
                  </a:lnTo>
                  <a:lnTo>
                    <a:pt x="998" y="284"/>
                  </a:lnTo>
                  <a:lnTo>
                    <a:pt x="1004" y="280"/>
                  </a:lnTo>
                  <a:lnTo>
                    <a:pt x="1022" y="276"/>
                  </a:lnTo>
                  <a:lnTo>
                    <a:pt x="1022" y="276"/>
                  </a:lnTo>
                  <a:lnTo>
                    <a:pt x="1038" y="276"/>
                  </a:lnTo>
                  <a:lnTo>
                    <a:pt x="1056" y="280"/>
                  </a:lnTo>
                  <a:lnTo>
                    <a:pt x="1072" y="288"/>
                  </a:lnTo>
                  <a:lnTo>
                    <a:pt x="1086" y="300"/>
                  </a:lnTo>
                  <a:lnTo>
                    <a:pt x="1098" y="312"/>
                  </a:lnTo>
                  <a:lnTo>
                    <a:pt x="1108" y="326"/>
                  </a:lnTo>
                  <a:lnTo>
                    <a:pt x="1114" y="342"/>
                  </a:lnTo>
                  <a:lnTo>
                    <a:pt x="1118" y="358"/>
                  </a:lnTo>
                  <a:lnTo>
                    <a:pt x="1118" y="358"/>
                  </a:lnTo>
                  <a:lnTo>
                    <a:pt x="1100" y="352"/>
                  </a:lnTo>
                  <a:lnTo>
                    <a:pt x="1086" y="352"/>
                  </a:lnTo>
                  <a:lnTo>
                    <a:pt x="1074" y="356"/>
                  </a:lnTo>
                  <a:lnTo>
                    <a:pt x="1066" y="362"/>
                  </a:lnTo>
                  <a:lnTo>
                    <a:pt x="1060" y="368"/>
                  </a:lnTo>
                  <a:lnTo>
                    <a:pt x="1056" y="374"/>
                  </a:lnTo>
                  <a:lnTo>
                    <a:pt x="1052" y="380"/>
                  </a:lnTo>
                  <a:lnTo>
                    <a:pt x="1052" y="380"/>
                  </a:lnTo>
                  <a:lnTo>
                    <a:pt x="1064" y="384"/>
                  </a:lnTo>
                  <a:lnTo>
                    <a:pt x="1078" y="392"/>
                  </a:lnTo>
                  <a:lnTo>
                    <a:pt x="1088" y="402"/>
                  </a:lnTo>
                  <a:lnTo>
                    <a:pt x="1098" y="416"/>
                  </a:lnTo>
                  <a:lnTo>
                    <a:pt x="1106" y="430"/>
                  </a:lnTo>
                  <a:lnTo>
                    <a:pt x="1112" y="446"/>
                  </a:lnTo>
                  <a:lnTo>
                    <a:pt x="1116" y="462"/>
                  </a:lnTo>
                  <a:lnTo>
                    <a:pt x="1116" y="478"/>
                  </a:lnTo>
                  <a:lnTo>
                    <a:pt x="1116" y="494"/>
                  </a:lnTo>
                  <a:lnTo>
                    <a:pt x="1110" y="510"/>
                  </a:lnTo>
                  <a:lnTo>
                    <a:pt x="1104" y="524"/>
                  </a:lnTo>
                  <a:lnTo>
                    <a:pt x="1092" y="536"/>
                  </a:lnTo>
                  <a:lnTo>
                    <a:pt x="1078" y="548"/>
                  </a:lnTo>
                  <a:lnTo>
                    <a:pt x="1058" y="554"/>
                  </a:lnTo>
                  <a:lnTo>
                    <a:pt x="1036" y="560"/>
                  </a:lnTo>
                  <a:lnTo>
                    <a:pt x="1008" y="560"/>
                  </a:lnTo>
                  <a:lnTo>
                    <a:pt x="1008" y="560"/>
                  </a:lnTo>
                  <a:lnTo>
                    <a:pt x="1016" y="568"/>
                  </a:lnTo>
                  <a:lnTo>
                    <a:pt x="1022" y="578"/>
                  </a:lnTo>
                  <a:lnTo>
                    <a:pt x="1022" y="590"/>
                  </a:lnTo>
                  <a:lnTo>
                    <a:pt x="1020" y="602"/>
                  </a:lnTo>
                  <a:lnTo>
                    <a:pt x="1014" y="614"/>
                  </a:lnTo>
                  <a:lnTo>
                    <a:pt x="1004" y="626"/>
                  </a:lnTo>
                  <a:lnTo>
                    <a:pt x="990" y="634"/>
                  </a:lnTo>
                  <a:lnTo>
                    <a:pt x="970" y="640"/>
                  </a:lnTo>
                  <a:lnTo>
                    <a:pt x="970" y="640"/>
                  </a:lnTo>
                  <a:lnTo>
                    <a:pt x="958" y="640"/>
                  </a:lnTo>
                  <a:lnTo>
                    <a:pt x="944" y="638"/>
                  </a:lnTo>
                  <a:lnTo>
                    <a:pt x="930" y="632"/>
                  </a:lnTo>
                  <a:lnTo>
                    <a:pt x="916" y="622"/>
                  </a:lnTo>
                  <a:lnTo>
                    <a:pt x="912" y="616"/>
                  </a:lnTo>
                  <a:lnTo>
                    <a:pt x="908" y="608"/>
                  </a:lnTo>
                  <a:lnTo>
                    <a:pt x="904" y="600"/>
                  </a:lnTo>
                  <a:lnTo>
                    <a:pt x="904" y="592"/>
                  </a:lnTo>
                  <a:lnTo>
                    <a:pt x="904" y="582"/>
                  </a:lnTo>
                  <a:lnTo>
                    <a:pt x="906" y="572"/>
                  </a:lnTo>
                  <a:lnTo>
                    <a:pt x="912" y="560"/>
                  </a:lnTo>
                  <a:lnTo>
                    <a:pt x="920" y="548"/>
                  </a:lnTo>
                  <a:lnTo>
                    <a:pt x="920" y="548"/>
                  </a:lnTo>
                  <a:lnTo>
                    <a:pt x="910" y="546"/>
                  </a:lnTo>
                  <a:lnTo>
                    <a:pt x="900" y="546"/>
                  </a:lnTo>
                  <a:lnTo>
                    <a:pt x="892" y="550"/>
                  </a:lnTo>
                  <a:lnTo>
                    <a:pt x="884" y="554"/>
                  </a:lnTo>
                  <a:lnTo>
                    <a:pt x="876" y="560"/>
                  </a:lnTo>
                  <a:lnTo>
                    <a:pt x="870" y="566"/>
                  </a:lnTo>
                  <a:lnTo>
                    <a:pt x="864" y="576"/>
                  </a:lnTo>
                  <a:lnTo>
                    <a:pt x="858" y="586"/>
                  </a:lnTo>
                  <a:lnTo>
                    <a:pt x="858" y="586"/>
                  </a:lnTo>
                  <a:lnTo>
                    <a:pt x="850" y="574"/>
                  </a:lnTo>
                  <a:lnTo>
                    <a:pt x="846" y="560"/>
                  </a:lnTo>
                  <a:lnTo>
                    <a:pt x="844" y="548"/>
                  </a:lnTo>
                  <a:lnTo>
                    <a:pt x="844" y="534"/>
                  </a:lnTo>
                  <a:lnTo>
                    <a:pt x="846" y="522"/>
                  </a:lnTo>
                  <a:lnTo>
                    <a:pt x="850" y="512"/>
                  </a:lnTo>
                  <a:lnTo>
                    <a:pt x="854" y="502"/>
                  </a:lnTo>
                  <a:lnTo>
                    <a:pt x="860" y="492"/>
                  </a:lnTo>
                  <a:lnTo>
                    <a:pt x="866" y="484"/>
                  </a:lnTo>
                  <a:lnTo>
                    <a:pt x="874" y="480"/>
                  </a:lnTo>
                  <a:lnTo>
                    <a:pt x="884" y="476"/>
                  </a:lnTo>
                  <a:lnTo>
                    <a:pt x="892" y="476"/>
                  </a:lnTo>
                  <a:lnTo>
                    <a:pt x="902" y="478"/>
                  </a:lnTo>
                  <a:lnTo>
                    <a:pt x="912" y="482"/>
                  </a:lnTo>
                  <a:lnTo>
                    <a:pt x="922" y="492"/>
                  </a:lnTo>
                  <a:lnTo>
                    <a:pt x="932" y="504"/>
                  </a:lnTo>
                  <a:lnTo>
                    <a:pt x="932" y="504"/>
                  </a:lnTo>
                  <a:lnTo>
                    <a:pt x="926" y="488"/>
                  </a:lnTo>
                  <a:lnTo>
                    <a:pt x="918" y="476"/>
                  </a:lnTo>
                  <a:lnTo>
                    <a:pt x="910" y="466"/>
                  </a:lnTo>
                  <a:lnTo>
                    <a:pt x="900" y="458"/>
                  </a:lnTo>
                  <a:lnTo>
                    <a:pt x="892" y="450"/>
                  </a:lnTo>
                  <a:lnTo>
                    <a:pt x="882" y="446"/>
                  </a:lnTo>
                  <a:lnTo>
                    <a:pt x="872" y="444"/>
                  </a:lnTo>
                  <a:lnTo>
                    <a:pt x="862" y="444"/>
                  </a:lnTo>
                  <a:lnTo>
                    <a:pt x="852" y="444"/>
                  </a:lnTo>
                  <a:lnTo>
                    <a:pt x="842" y="446"/>
                  </a:lnTo>
                  <a:lnTo>
                    <a:pt x="832" y="450"/>
                  </a:lnTo>
                  <a:lnTo>
                    <a:pt x="822" y="456"/>
                  </a:lnTo>
                  <a:lnTo>
                    <a:pt x="804" y="468"/>
                  </a:lnTo>
                  <a:lnTo>
                    <a:pt x="788" y="486"/>
                  </a:lnTo>
                  <a:lnTo>
                    <a:pt x="776" y="506"/>
                  </a:lnTo>
                  <a:lnTo>
                    <a:pt x="766" y="530"/>
                  </a:lnTo>
                  <a:lnTo>
                    <a:pt x="764" y="542"/>
                  </a:lnTo>
                  <a:lnTo>
                    <a:pt x="762" y="554"/>
                  </a:lnTo>
                  <a:lnTo>
                    <a:pt x="762" y="568"/>
                  </a:lnTo>
                  <a:lnTo>
                    <a:pt x="762" y="580"/>
                  </a:lnTo>
                  <a:lnTo>
                    <a:pt x="766" y="592"/>
                  </a:lnTo>
                  <a:lnTo>
                    <a:pt x="770" y="606"/>
                  </a:lnTo>
                  <a:lnTo>
                    <a:pt x="776" y="618"/>
                  </a:lnTo>
                  <a:lnTo>
                    <a:pt x="784" y="630"/>
                  </a:lnTo>
                  <a:lnTo>
                    <a:pt x="794" y="642"/>
                  </a:lnTo>
                  <a:lnTo>
                    <a:pt x="806" y="654"/>
                  </a:lnTo>
                  <a:lnTo>
                    <a:pt x="820" y="664"/>
                  </a:lnTo>
                  <a:lnTo>
                    <a:pt x="836" y="674"/>
                  </a:lnTo>
                  <a:lnTo>
                    <a:pt x="836" y="674"/>
                  </a:lnTo>
                  <a:lnTo>
                    <a:pt x="800" y="678"/>
                  </a:lnTo>
                  <a:lnTo>
                    <a:pt x="764" y="686"/>
                  </a:lnTo>
                  <a:lnTo>
                    <a:pt x="730" y="696"/>
                  </a:lnTo>
                  <a:lnTo>
                    <a:pt x="712" y="704"/>
                  </a:lnTo>
                  <a:lnTo>
                    <a:pt x="698" y="712"/>
                  </a:lnTo>
                  <a:lnTo>
                    <a:pt x="682" y="722"/>
                  </a:lnTo>
                  <a:lnTo>
                    <a:pt x="668" y="732"/>
                  </a:lnTo>
                  <a:lnTo>
                    <a:pt x="652" y="744"/>
                  </a:lnTo>
                  <a:lnTo>
                    <a:pt x="640" y="758"/>
                  </a:lnTo>
                  <a:lnTo>
                    <a:pt x="626" y="772"/>
                  </a:lnTo>
                  <a:lnTo>
                    <a:pt x="614" y="788"/>
                  </a:lnTo>
                  <a:lnTo>
                    <a:pt x="604" y="804"/>
                  </a:lnTo>
                  <a:lnTo>
                    <a:pt x="592" y="822"/>
                  </a:lnTo>
                  <a:lnTo>
                    <a:pt x="584" y="842"/>
                  </a:lnTo>
                  <a:lnTo>
                    <a:pt x="574" y="864"/>
                  </a:lnTo>
                  <a:lnTo>
                    <a:pt x="566" y="886"/>
                  </a:lnTo>
                  <a:lnTo>
                    <a:pt x="560" y="910"/>
                  </a:lnTo>
                  <a:lnTo>
                    <a:pt x="554" y="934"/>
                  </a:lnTo>
                  <a:lnTo>
                    <a:pt x="548" y="960"/>
                  </a:lnTo>
                  <a:lnTo>
                    <a:pt x="544" y="988"/>
                  </a:lnTo>
                  <a:lnTo>
                    <a:pt x="540" y="1018"/>
                  </a:lnTo>
                  <a:lnTo>
                    <a:pt x="538" y="1082"/>
                  </a:lnTo>
                  <a:lnTo>
                    <a:pt x="540" y="1152"/>
                  </a:lnTo>
                  <a:lnTo>
                    <a:pt x="546" y="1230"/>
                  </a:lnTo>
                  <a:lnTo>
                    <a:pt x="558" y="1312"/>
                  </a:lnTo>
                  <a:lnTo>
                    <a:pt x="558" y="1312"/>
                  </a:lnTo>
                  <a:lnTo>
                    <a:pt x="566" y="1342"/>
                  </a:lnTo>
                  <a:lnTo>
                    <a:pt x="576" y="1378"/>
                  </a:lnTo>
                  <a:lnTo>
                    <a:pt x="590" y="1414"/>
                  </a:lnTo>
                  <a:lnTo>
                    <a:pt x="596" y="1430"/>
                  </a:lnTo>
                  <a:lnTo>
                    <a:pt x="604" y="1440"/>
                  </a:lnTo>
                  <a:lnTo>
                    <a:pt x="604" y="1440"/>
                  </a:lnTo>
                  <a:lnTo>
                    <a:pt x="648" y="1504"/>
                  </a:lnTo>
                  <a:lnTo>
                    <a:pt x="678" y="1544"/>
                  </a:lnTo>
                  <a:lnTo>
                    <a:pt x="710" y="1584"/>
                  </a:lnTo>
                  <a:lnTo>
                    <a:pt x="744" y="1626"/>
                  </a:lnTo>
                  <a:lnTo>
                    <a:pt x="780" y="1662"/>
                  </a:lnTo>
                  <a:lnTo>
                    <a:pt x="814" y="1694"/>
                  </a:lnTo>
                  <a:lnTo>
                    <a:pt x="832" y="1706"/>
                  </a:lnTo>
                  <a:lnTo>
                    <a:pt x="848" y="1718"/>
                  </a:lnTo>
                  <a:lnTo>
                    <a:pt x="848" y="1718"/>
                  </a:lnTo>
                  <a:lnTo>
                    <a:pt x="788" y="1694"/>
                  </a:lnTo>
                  <a:lnTo>
                    <a:pt x="726" y="1668"/>
                  </a:lnTo>
                  <a:lnTo>
                    <a:pt x="726" y="1668"/>
                  </a:lnTo>
                  <a:lnTo>
                    <a:pt x="668" y="1646"/>
                  </a:lnTo>
                  <a:lnTo>
                    <a:pt x="610" y="1626"/>
                  </a:lnTo>
                  <a:lnTo>
                    <a:pt x="584" y="1618"/>
                  </a:lnTo>
                  <a:lnTo>
                    <a:pt x="558" y="1614"/>
                  </a:lnTo>
                  <a:lnTo>
                    <a:pt x="534" y="1610"/>
                  </a:lnTo>
                  <a:lnTo>
                    <a:pt x="510" y="1610"/>
                  </a:lnTo>
                  <a:lnTo>
                    <a:pt x="510" y="1610"/>
                  </a:lnTo>
                  <a:lnTo>
                    <a:pt x="486" y="1608"/>
                  </a:lnTo>
                  <a:lnTo>
                    <a:pt x="458" y="1608"/>
                  </a:lnTo>
                  <a:lnTo>
                    <a:pt x="430" y="1610"/>
                  </a:lnTo>
                  <a:lnTo>
                    <a:pt x="402" y="1614"/>
                  </a:lnTo>
                  <a:lnTo>
                    <a:pt x="402" y="1614"/>
                  </a:lnTo>
                  <a:lnTo>
                    <a:pt x="382" y="1622"/>
                  </a:lnTo>
                  <a:lnTo>
                    <a:pt x="362" y="1630"/>
                  </a:lnTo>
                  <a:lnTo>
                    <a:pt x="344" y="1640"/>
                  </a:lnTo>
                  <a:lnTo>
                    <a:pt x="326" y="1650"/>
                  </a:lnTo>
                  <a:lnTo>
                    <a:pt x="310" y="1662"/>
                  </a:lnTo>
                  <a:lnTo>
                    <a:pt x="296" y="1674"/>
                  </a:lnTo>
                  <a:lnTo>
                    <a:pt x="284" y="1686"/>
                  </a:lnTo>
                  <a:lnTo>
                    <a:pt x="272" y="1700"/>
                  </a:lnTo>
                  <a:lnTo>
                    <a:pt x="262" y="1714"/>
                  </a:lnTo>
                  <a:lnTo>
                    <a:pt x="254" y="1728"/>
                  </a:lnTo>
                  <a:lnTo>
                    <a:pt x="246" y="1744"/>
                  </a:lnTo>
                  <a:lnTo>
                    <a:pt x="240" y="1760"/>
                  </a:lnTo>
                  <a:lnTo>
                    <a:pt x="236" y="1776"/>
                  </a:lnTo>
                  <a:lnTo>
                    <a:pt x="234" y="1794"/>
                  </a:lnTo>
                  <a:lnTo>
                    <a:pt x="232" y="1812"/>
                  </a:lnTo>
                  <a:lnTo>
                    <a:pt x="232" y="1830"/>
                  </a:lnTo>
                  <a:lnTo>
                    <a:pt x="232" y="1830"/>
                  </a:lnTo>
                  <a:lnTo>
                    <a:pt x="244" y="1822"/>
                  </a:lnTo>
                  <a:lnTo>
                    <a:pt x="252" y="1814"/>
                  </a:lnTo>
                  <a:lnTo>
                    <a:pt x="264" y="1800"/>
                  </a:lnTo>
                  <a:lnTo>
                    <a:pt x="274" y="1786"/>
                  </a:lnTo>
                  <a:lnTo>
                    <a:pt x="278" y="1780"/>
                  </a:lnTo>
                  <a:lnTo>
                    <a:pt x="284" y="1774"/>
                  </a:lnTo>
                  <a:lnTo>
                    <a:pt x="284" y="1774"/>
                  </a:lnTo>
                  <a:lnTo>
                    <a:pt x="280" y="1794"/>
                  </a:lnTo>
                  <a:lnTo>
                    <a:pt x="278" y="1820"/>
                  </a:lnTo>
                  <a:lnTo>
                    <a:pt x="278" y="1834"/>
                  </a:lnTo>
                  <a:lnTo>
                    <a:pt x="282" y="1850"/>
                  </a:lnTo>
                  <a:lnTo>
                    <a:pt x="284" y="1864"/>
                  </a:lnTo>
                  <a:lnTo>
                    <a:pt x="290" y="1880"/>
                  </a:lnTo>
                  <a:lnTo>
                    <a:pt x="298" y="1898"/>
                  </a:lnTo>
                  <a:lnTo>
                    <a:pt x="308" y="1912"/>
                  </a:lnTo>
                  <a:lnTo>
                    <a:pt x="320" y="1928"/>
                  </a:lnTo>
                  <a:lnTo>
                    <a:pt x="334" y="1942"/>
                  </a:lnTo>
                  <a:lnTo>
                    <a:pt x="350" y="1956"/>
                  </a:lnTo>
                  <a:lnTo>
                    <a:pt x="370" y="1968"/>
                  </a:lnTo>
                  <a:lnTo>
                    <a:pt x="394" y="1978"/>
                  </a:lnTo>
                  <a:lnTo>
                    <a:pt x="420" y="1986"/>
                  </a:lnTo>
                  <a:lnTo>
                    <a:pt x="420" y="1986"/>
                  </a:lnTo>
                  <a:lnTo>
                    <a:pt x="396" y="1958"/>
                  </a:lnTo>
                  <a:lnTo>
                    <a:pt x="378" y="1928"/>
                  </a:lnTo>
                  <a:lnTo>
                    <a:pt x="366" y="1902"/>
                  </a:lnTo>
                  <a:lnTo>
                    <a:pt x="362" y="1888"/>
                  </a:lnTo>
                  <a:lnTo>
                    <a:pt x="358" y="1876"/>
                  </a:lnTo>
                  <a:lnTo>
                    <a:pt x="358" y="1864"/>
                  </a:lnTo>
                  <a:lnTo>
                    <a:pt x="358" y="1852"/>
                  </a:lnTo>
                  <a:lnTo>
                    <a:pt x="358" y="1840"/>
                  </a:lnTo>
                  <a:lnTo>
                    <a:pt x="360" y="1830"/>
                  </a:lnTo>
                  <a:lnTo>
                    <a:pt x="364" y="1818"/>
                  </a:lnTo>
                  <a:lnTo>
                    <a:pt x="368" y="1808"/>
                  </a:lnTo>
                  <a:lnTo>
                    <a:pt x="382" y="1790"/>
                  </a:lnTo>
                  <a:lnTo>
                    <a:pt x="382" y="1790"/>
                  </a:lnTo>
                  <a:lnTo>
                    <a:pt x="382" y="1808"/>
                  </a:lnTo>
                  <a:lnTo>
                    <a:pt x="386" y="1824"/>
                  </a:lnTo>
                  <a:lnTo>
                    <a:pt x="392" y="1838"/>
                  </a:lnTo>
                  <a:lnTo>
                    <a:pt x="402" y="1852"/>
                  </a:lnTo>
                  <a:lnTo>
                    <a:pt x="414" y="1862"/>
                  </a:lnTo>
                  <a:lnTo>
                    <a:pt x="426" y="1874"/>
                  </a:lnTo>
                  <a:lnTo>
                    <a:pt x="442" y="1882"/>
                  </a:lnTo>
                  <a:lnTo>
                    <a:pt x="458" y="1892"/>
                  </a:lnTo>
                  <a:lnTo>
                    <a:pt x="458" y="1892"/>
                  </a:lnTo>
                  <a:lnTo>
                    <a:pt x="452" y="1874"/>
                  </a:lnTo>
                  <a:lnTo>
                    <a:pt x="450" y="1856"/>
                  </a:lnTo>
                  <a:lnTo>
                    <a:pt x="450" y="1838"/>
                  </a:lnTo>
                  <a:lnTo>
                    <a:pt x="452" y="1822"/>
                  </a:lnTo>
                  <a:lnTo>
                    <a:pt x="458" y="1804"/>
                  </a:lnTo>
                  <a:lnTo>
                    <a:pt x="466" y="1788"/>
                  </a:lnTo>
                  <a:lnTo>
                    <a:pt x="476" y="1772"/>
                  </a:lnTo>
                  <a:lnTo>
                    <a:pt x="488" y="1758"/>
                  </a:lnTo>
                  <a:lnTo>
                    <a:pt x="504" y="1744"/>
                  </a:lnTo>
                  <a:lnTo>
                    <a:pt x="520" y="1734"/>
                  </a:lnTo>
                  <a:lnTo>
                    <a:pt x="538" y="1724"/>
                  </a:lnTo>
                  <a:lnTo>
                    <a:pt x="560" y="1716"/>
                  </a:lnTo>
                  <a:lnTo>
                    <a:pt x="582" y="1712"/>
                  </a:lnTo>
                  <a:lnTo>
                    <a:pt x="604" y="1710"/>
                  </a:lnTo>
                  <a:lnTo>
                    <a:pt x="630" y="1710"/>
                  </a:lnTo>
                  <a:lnTo>
                    <a:pt x="656" y="1714"/>
                  </a:lnTo>
                  <a:lnTo>
                    <a:pt x="656" y="1714"/>
                  </a:lnTo>
                  <a:lnTo>
                    <a:pt x="680" y="1720"/>
                  </a:lnTo>
                  <a:lnTo>
                    <a:pt x="706" y="1730"/>
                  </a:lnTo>
                  <a:lnTo>
                    <a:pt x="706" y="1730"/>
                  </a:lnTo>
                  <a:lnTo>
                    <a:pt x="688" y="1730"/>
                  </a:lnTo>
                  <a:lnTo>
                    <a:pt x="672" y="1730"/>
                  </a:lnTo>
                  <a:lnTo>
                    <a:pt x="656" y="1734"/>
                  </a:lnTo>
                  <a:lnTo>
                    <a:pt x="642" y="1740"/>
                  </a:lnTo>
                  <a:lnTo>
                    <a:pt x="630" y="1746"/>
                  </a:lnTo>
                  <a:lnTo>
                    <a:pt x="618" y="1756"/>
                  </a:lnTo>
                  <a:lnTo>
                    <a:pt x="606" y="1766"/>
                  </a:lnTo>
                  <a:lnTo>
                    <a:pt x="598" y="1776"/>
                  </a:lnTo>
                  <a:lnTo>
                    <a:pt x="588" y="1790"/>
                  </a:lnTo>
                  <a:lnTo>
                    <a:pt x="582" y="1802"/>
                  </a:lnTo>
                  <a:lnTo>
                    <a:pt x="576" y="1818"/>
                  </a:lnTo>
                  <a:lnTo>
                    <a:pt x="570" y="1832"/>
                  </a:lnTo>
                  <a:lnTo>
                    <a:pt x="566" y="1848"/>
                  </a:lnTo>
                  <a:lnTo>
                    <a:pt x="564" y="1866"/>
                  </a:lnTo>
                  <a:lnTo>
                    <a:pt x="562" y="1898"/>
                  </a:lnTo>
                  <a:lnTo>
                    <a:pt x="562" y="1898"/>
                  </a:lnTo>
                  <a:lnTo>
                    <a:pt x="566" y="1930"/>
                  </a:lnTo>
                  <a:lnTo>
                    <a:pt x="576" y="1966"/>
                  </a:lnTo>
                  <a:lnTo>
                    <a:pt x="582" y="1984"/>
                  </a:lnTo>
                  <a:lnTo>
                    <a:pt x="590" y="2004"/>
                  </a:lnTo>
                  <a:lnTo>
                    <a:pt x="600" y="2022"/>
                  </a:lnTo>
                  <a:lnTo>
                    <a:pt x="610" y="2038"/>
                  </a:lnTo>
                  <a:lnTo>
                    <a:pt x="610" y="2038"/>
                  </a:lnTo>
                  <a:lnTo>
                    <a:pt x="618" y="2050"/>
                  </a:lnTo>
                  <a:lnTo>
                    <a:pt x="618" y="2050"/>
                  </a:lnTo>
                  <a:lnTo>
                    <a:pt x="636" y="2068"/>
                  </a:lnTo>
                  <a:lnTo>
                    <a:pt x="652" y="2082"/>
                  </a:lnTo>
                  <a:lnTo>
                    <a:pt x="670" y="2092"/>
                  </a:lnTo>
                  <a:lnTo>
                    <a:pt x="688" y="2100"/>
                  </a:lnTo>
                  <a:lnTo>
                    <a:pt x="706" y="2102"/>
                  </a:lnTo>
                  <a:lnTo>
                    <a:pt x="724" y="2104"/>
                  </a:lnTo>
                  <a:lnTo>
                    <a:pt x="740" y="2102"/>
                  </a:lnTo>
                  <a:lnTo>
                    <a:pt x="756" y="2098"/>
                  </a:lnTo>
                  <a:lnTo>
                    <a:pt x="772" y="2090"/>
                  </a:lnTo>
                  <a:lnTo>
                    <a:pt x="786" y="2082"/>
                  </a:lnTo>
                  <a:lnTo>
                    <a:pt x="798" y="2072"/>
                  </a:lnTo>
                  <a:lnTo>
                    <a:pt x="810" y="2062"/>
                  </a:lnTo>
                  <a:lnTo>
                    <a:pt x="818" y="2050"/>
                  </a:lnTo>
                  <a:lnTo>
                    <a:pt x="826" y="2036"/>
                  </a:lnTo>
                  <a:lnTo>
                    <a:pt x="830" y="2024"/>
                  </a:lnTo>
                  <a:lnTo>
                    <a:pt x="834" y="2010"/>
                  </a:lnTo>
                  <a:lnTo>
                    <a:pt x="834" y="2010"/>
                  </a:lnTo>
                  <a:lnTo>
                    <a:pt x="834" y="1994"/>
                  </a:lnTo>
                  <a:lnTo>
                    <a:pt x="832" y="1982"/>
                  </a:lnTo>
                  <a:lnTo>
                    <a:pt x="828" y="1970"/>
                  </a:lnTo>
                  <a:lnTo>
                    <a:pt x="822" y="1958"/>
                  </a:lnTo>
                  <a:lnTo>
                    <a:pt x="814" y="1948"/>
                  </a:lnTo>
                  <a:lnTo>
                    <a:pt x="806" y="1938"/>
                  </a:lnTo>
                  <a:lnTo>
                    <a:pt x="796" y="1930"/>
                  </a:lnTo>
                  <a:lnTo>
                    <a:pt x="786" y="1924"/>
                  </a:lnTo>
                  <a:lnTo>
                    <a:pt x="774" y="1920"/>
                  </a:lnTo>
                  <a:lnTo>
                    <a:pt x="762" y="1916"/>
                  </a:lnTo>
                  <a:lnTo>
                    <a:pt x="750" y="1914"/>
                  </a:lnTo>
                  <a:lnTo>
                    <a:pt x="736" y="1912"/>
                  </a:lnTo>
                  <a:lnTo>
                    <a:pt x="722" y="1914"/>
                  </a:lnTo>
                  <a:lnTo>
                    <a:pt x="708" y="1916"/>
                  </a:lnTo>
                  <a:lnTo>
                    <a:pt x="696" y="1920"/>
                  </a:lnTo>
                  <a:lnTo>
                    <a:pt x="682" y="1926"/>
                  </a:lnTo>
                  <a:lnTo>
                    <a:pt x="682" y="1926"/>
                  </a:lnTo>
                  <a:lnTo>
                    <a:pt x="696" y="1930"/>
                  </a:lnTo>
                  <a:lnTo>
                    <a:pt x="710" y="1938"/>
                  </a:lnTo>
                  <a:lnTo>
                    <a:pt x="722" y="1948"/>
                  </a:lnTo>
                  <a:lnTo>
                    <a:pt x="730" y="1960"/>
                  </a:lnTo>
                  <a:lnTo>
                    <a:pt x="734" y="1972"/>
                  </a:lnTo>
                  <a:lnTo>
                    <a:pt x="734" y="1978"/>
                  </a:lnTo>
                  <a:lnTo>
                    <a:pt x="734" y="1986"/>
                  </a:lnTo>
                  <a:lnTo>
                    <a:pt x="732" y="1992"/>
                  </a:lnTo>
                  <a:lnTo>
                    <a:pt x="728" y="2000"/>
                  </a:lnTo>
                  <a:lnTo>
                    <a:pt x="724" y="2006"/>
                  </a:lnTo>
                  <a:lnTo>
                    <a:pt x="718" y="2012"/>
                  </a:lnTo>
                  <a:lnTo>
                    <a:pt x="718" y="2012"/>
                  </a:lnTo>
                  <a:lnTo>
                    <a:pt x="710" y="2018"/>
                  </a:lnTo>
                  <a:lnTo>
                    <a:pt x="704" y="2022"/>
                  </a:lnTo>
                  <a:lnTo>
                    <a:pt x="696" y="2026"/>
                  </a:lnTo>
                  <a:lnTo>
                    <a:pt x="688" y="2028"/>
                  </a:lnTo>
                  <a:lnTo>
                    <a:pt x="680" y="2028"/>
                  </a:lnTo>
                  <a:lnTo>
                    <a:pt x="672" y="2026"/>
                  </a:lnTo>
                  <a:lnTo>
                    <a:pt x="658" y="2022"/>
                  </a:lnTo>
                  <a:lnTo>
                    <a:pt x="642" y="2012"/>
                  </a:lnTo>
                  <a:lnTo>
                    <a:pt x="628" y="2000"/>
                  </a:lnTo>
                  <a:lnTo>
                    <a:pt x="614" y="1984"/>
                  </a:lnTo>
                  <a:lnTo>
                    <a:pt x="600" y="1966"/>
                  </a:lnTo>
                  <a:lnTo>
                    <a:pt x="600" y="1966"/>
                  </a:lnTo>
                  <a:lnTo>
                    <a:pt x="594" y="1950"/>
                  </a:lnTo>
                  <a:lnTo>
                    <a:pt x="588" y="1936"/>
                  </a:lnTo>
                  <a:lnTo>
                    <a:pt x="584" y="1918"/>
                  </a:lnTo>
                  <a:lnTo>
                    <a:pt x="584" y="1898"/>
                  </a:lnTo>
                  <a:lnTo>
                    <a:pt x="584" y="1898"/>
                  </a:lnTo>
                  <a:lnTo>
                    <a:pt x="584" y="1882"/>
                  </a:lnTo>
                  <a:lnTo>
                    <a:pt x="588" y="1866"/>
                  </a:lnTo>
                  <a:lnTo>
                    <a:pt x="594" y="1850"/>
                  </a:lnTo>
                  <a:lnTo>
                    <a:pt x="602" y="1836"/>
                  </a:lnTo>
                  <a:lnTo>
                    <a:pt x="612" y="1822"/>
                  </a:lnTo>
                  <a:lnTo>
                    <a:pt x="624" y="1810"/>
                  </a:lnTo>
                  <a:lnTo>
                    <a:pt x="640" y="1800"/>
                  </a:lnTo>
                  <a:lnTo>
                    <a:pt x="658" y="1792"/>
                  </a:lnTo>
                  <a:lnTo>
                    <a:pt x="678" y="1786"/>
                  </a:lnTo>
                  <a:lnTo>
                    <a:pt x="702" y="1782"/>
                  </a:lnTo>
                  <a:lnTo>
                    <a:pt x="726" y="1780"/>
                  </a:lnTo>
                  <a:lnTo>
                    <a:pt x="754" y="1782"/>
                  </a:lnTo>
                  <a:lnTo>
                    <a:pt x="784" y="1786"/>
                  </a:lnTo>
                  <a:lnTo>
                    <a:pt x="818" y="1794"/>
                  </a:lnTo>
                  <a:lnTo>
                    <a:pt x="854" y="1806"/>
                  </a:lnTo>
                  <a:lnTo>
                    <a:pt x="892" y="1822"/>
                  </a:lnTo>
                  <a:lnTo>
                    <a:pt x="892" y="1822"/>
                  </a:lnTo>
                  <a:lnTo>
                    <a:pt x="874" y="1822"/>
                  </a:lnTo>
                  <a:lnTo>
                    <a:pt x="856" y="1826"/>
                  </a:lnTo>
                  <a:lnTo>
                    <a:pt x="838" y="1830"/>
                  </a:lnTo>
                  <a:lnTo>
                    <a:pt x="822" y="1838"/>
                  </a:lnTo>
                  <a:lnTo>
                    <a:pt x="810" y="1846"/>
                  </a:lnTo>
                  <a:lnTo>
                    <a:pt x="798" y="1856"/>
                  </a:lnTo>
                  <a:lnTo>
                    <a:pt x="790" y="1870"/>
                  </a:lnTo>
                  <a:lnTo>
                    <a:pt x="788" y="1876"/>
                  </a:lnTo>
                  <a:lnTo>
                    <a:pt x="788" y="1884"/>
                  </a:lnTo>
                  <a:lnTo>
                    <a:pt x="788" y="1884"/>
                  </a:lnTo>
                  <a:lnTo>
                    <a:pt x="804" y="1876"/>
                  </a:lnTo>
                  <a:lnTo>
                    <a:pt x="822" y="1868"/>
                  </a:lnTo>
                  <a:lnTo>
                    <a:pt x="840" y="1864"/>
                  </a:lnTo>
                  <a:lnTo>
                    <a:pt x="858" y="1862"/>
                  </a:lnTo>
                  <a:lnTo>
                    <a:pt x="878" y="1864"/>
                  </a:lnTo>
                  <a:lnTo>
                    <a:pt x="898" y="1866"/>
                  </a:lnTo>
                  <a:lnTo>
                    <a:pt x="918" y="1870"/>
                  </a:lnTo>
                  <a:lnTo>
                    <a:pt x="936" y="1876"/>
                  </a:lnTo>
                  <a:lnTo>
                    <a:pt x="956" y="1882"/>
                  </a:lnTo>
                  <a:lnTo>
                    <a:pt x="974" y="1892"/>
                  </a:lnTo>
                  <a:lnTo>
                    <a:pt x="992" y="1902"/>
                  </a:lnTo>
                  <a:lnTo>
                    <a:pt x="1008" y="1914"/>
                  </a:lnTo>
                  <a:lnTo>
                    <a:pt x="1022" y="1928"/>
                  </a:lnTo>
                  <a:lnTo>
                    <a:pt x="1034" y="1942"/>
                  </a:lnTo>
                  <a:lnTo>
                    <a:pt x="1046" y="1958"/>
                  </a:lnTo>
                  <a:lnTo>
                    <a:pt x="1054" y="1974"/>
                  </a:lnTo>
                  <a:lnTo>
                    <a:pt x="1054" y="1974"/>
                  </a:lnTo>
                  <a:lnTo>
                    <a:pt x="1044" y="1986"/>
                  </a:lnTo>
                  <a:lnTo>
                    <a:pt x="1034" y="2004"/>
                  </a:lnTo>
                  <a:lnTo>
                    <a:pt x="1026" y="2024"/>
                  </a:lnTo>
                  <a:lnTo>
                    <a:pt x="1020" y="2048"/>
                  </a:lnTo>
                  <a:lnTo>
                    <a:pt x="1016" y="2072"/>
                  </a:lnTo>
                  <a:lnTo>
                    <a:pt x="1016" y="2092"/>
                  </a:lnTo>
                  <a:lnTo>
                    <a:pt x="1018" y="2102"/>
                  </a:lnTo>
                  <a:lnTo>
                    <a:pt x="1020" y="2110"/>
                  </a:lnTo>
                  <a:lnTo>
                    <a:pt x="1026" y="2118"/>
                  </a:lnTo>
                  <a:lnTo>
                    <a:pt x="1032" y="2124"/>
                  </a:lnTo>
                  <a:lnTo>
                    <a:pt x="1032" y="2124"/>
                  </a:lnTo>
                  <a:lnTo>
                    <a:pt x="1000" y="2112"/>
                  </a:lnTo>
                  <a:lnTo>
                    <a:pt x="970" y="2104"/>
                  </a:lnTo>
                  <a:lnTo>
                    <a:pt x="942" y="2100"/>
                  </a:lnTo>
                  <a:lnTo>
                    <a:pt x="916" y="2100"/>
                  </a:lnTo>
                  <a:lnTo>
                    <a:pt x="894" y="2104"/>
                  </a:lnTo>
                  <a:lnTo>
                    <a:pt x="884" y="2106"/>
                  </a:lnTo>
                  <a:lnTo>
                    <a:pt x="874" y="2110"/>
                  </a:lnTo>
                  <a:lnTo>
                    <a:pt x="868" y="2116"/>
                  </a:lnTo>
                  <a:lnTo>
                    <a:pt x="862" y="2122"/>
                  </a:lnTo>
                  <a:lnTo>
                    <a:pt x="856" y="2130"/>
                  </a:lnTo>
                  <a:lnTo>
                    <a:pt x="854" y="2138"/>
                  </a:lnTo>
                  <a:lnTo>
                    <a:pt x="854" y="2138"/>
                  </a:lnTo>
                  <a:lnTo>
                    <a:pt x="870" y="2136"/>
                  </a:lnTo>
                  <a:lnTo>
                    <a:pt x="888" y="2136"/>
                  </a:lnTo>
                  <a:lnTo>
                    <a:pt x="908" y="2140"/>
                  </a:lnTo>
                  <a:lnTo>
                    <a:pt x="926" y="2148"/>
                  </a:lnTo>
                  <a:lnTo>
                    <a:pt x="948" y="2160"/>
                  </a:lnTo>
                  <a:lnTo>
                    <a:pt x="968" y="2172"/>
                  </a:lnTo>
                  <a:lnTo>
                    <a:pt x="988" y="2188"/>
                  </a:lnTo>
                  <a:lnTo>
                    <a:pt x="1008" y="2208"/>
                  </a:lnTo>
                  <a:lnTo>
                    <a:pt x="1028" y="2228"/>
                  </a:lnTo>
                  <a:lnTo>
                    <a:pt x="1044" y="2252"/>
                  </a:lnTo>
                  <a:lnTo>
                    <a:pt x="1060" y="2278"/>
                  </a:lnTo>
                  <a:lnTo>
                    <a:pt x="1074" y="2304"/>
                  </a:lnTo>
                  <a:lnTo>
                    <a:pt x="1086" y="2334"/>
                  </a:lnTo>
                  <a:lnTo>
                    <a:pt x="1096" y="2364"/>
                  </a:lnTo>
                  <a:lnTo>
                    <a:pt x="1102" y="2396"/>
                  </a:lnTo>
                  <a:lnTo>
                    <a:pt x="1104" y="2428"/>
                  </a:lnTo>
                  <a:lnTo>
                    <a:pt x="1104" y="2428"/>
                  </a:lnTo>
                  <a:lnTo>
                    <a:pt x="1104" y="2456"/>
                  </a:lnTo>
                  <a:lnTo>
                    <a:pt x="1102" y="2486"/>
                  </a:lnTo>
                  <a:lnTo>
                    <a:pt x="1098" y="2516"/>
                  </a:lnTo>
                  <a:lnTo>
                    <a:pt x="1094" y="2544"/>
                  </a:lnTo>
                  <a:lnTo>
                    <a:pt x="1088" y="2574"/>
                  </a:lnTo>
                  <a:lnTo>
                    <a:pt x="1080" y="2602"/>
                  </a:lnTo>
                  <a:lnTo>
                    <a:pt x="1070" y="2630"/>
                  </a:lnTo>
                  <a:lnTo>
                    <a:pt x="1058" y="2658"/>
                  </a:lnTo>
                  <a:lnTo>
                    <a:pt x="1046" y="2684"/>
                  </a:lnTo>
                  <a:lnTo>
                    <a:pt x="1030" y="2712"/>
                  </a:lnTo>
                  <a:lnTo>
                    <a:pt x="1014" y="2736"/>
                  </a:lnTo>
                  <a:lnTo>
                    <a:pt x="996" y="2760"/>
                  </a:lnTo>
                  <a:lnTo>
                    <a:pt x="976" y="2784"/>
                  </a:lnTo>
                  <a:lnTo>
                    <a:pt x="954" y="2806"/>
                  </a:lnTo>
                  <a:lnTo>
                    <a:pt x="930" y="2826"/>
                  </a:lnTo>
                  <a:lnTo>
                    <a:pt x="906" y="2846"/>
                  </a:lnTo>
                  <a:lnTo>
                    <a:pt x="906" y="2846"/>
                  </a:lnTo>
                  <a:lnTo>
                    <a:pt x="918" y="2824"/>
                  </a:lnTo>
                  <a:lnTo>
                    <a:pt x="930" y="2800"/>
                  </a:lnTo>
                  <a:lnTo>
                    <a:pt x="950" y="2750"/>
                  </a:lnTo>
                  <a:lnTo>
                    <a:pt x="964" y="2700"/>
                  </a:lnTo>
                  <a:lnTo>
                    <a:pt x="976" y="2650"/>
                  </a:lnTo>
                  <a:lnTo>
                    <a:pt x="980" y="2626"/>
                  </a:lnTo>
                  <a:lnTo>
                    <a:pt x="982" y="2602"/>
                  </a:lnTo>
                  <a:lnTo>
                    <a:pt x="982" y="2580"/>
                  </a:lnTo>
                  <a:lnTo>
                    <a:pt x="982" y="2558"/>
                  </a:lnTo>
                  <a:lnTo>
                    <a:pt x="980" y="2540"/>
                  </a:lnTo>
                  <a:lnTo>
                    <a:pt x="976" y="2520"/>
                  </a:lnTo>
                  <a:lnTo>
                    <a:pt x="972" y="2504"/>
                  </a:lnTo>
                  <a:lnTo>
                    <a:pt x="964" y="2490"/>
                  </a:lnTo>
                  <a:lnTo>
                    <a:pt x="964" y="2490"/>
                  </a:lnTo>
                  <a:lnTo>
                    <a:pt x="948" y="2502"/>
                  </a:lnTo>
                  <a:lnTo>
                    <a:pt x="936" y="2516"/>
                  </a:lnTo>
                  <a:lnTo>
                    <a:pt x="930" y="2530"/>
                  </a:lnTo>
                  <a:lnTo>
                    <a:pt x="928" y="2536"/>
                  </a:lnTo>
                  <a:lnTo>
                    <a:pt x="928" y="2542"/>
                  </a:lnTo>
                  <a:lnTo>
                    <a:pt x="928" y="2542"/>
                  </a:lnTo>
                  <a:lnTo>
                    <a:pt x="920" y="2526"/>
                  </a:lnTo>
                  <a:lnTo>
                    <a:pt x="912" y="2510"/>
                  </a:lnTo>
                  <a:lnTo>
                    <a:pt x="902" y="2498"/>
                  </a:lnTo>
                  <a:lnTo>
                    <a:pt x="890" y="2486"/>
                  </a:lnTo>
                  <a:lnTo>
                    <a:pt x="890" y="2486"/>
                  </a:lnTo>
                  <a:lnTo>
                    <a:pt x="906" y="2480"/>
                  </a:lnTo>
                  <a:lnTo>
                    <a:pt x="918" y="2474"/>
                  </a:lnTo>
                  <a:lnTo>
                    <a:pt x="930" y="2466"/>
                  </a:lnTo>
                  <a:lnTo>
                    <a:pt x="940" y="2456"/>
                  </a:lnTo>
                  <a:lnTo>
                    <a:pt x="948" y="2444"/>
                  </a:lnTo>
                  <a:lnTo>
                    <a:pt x="954" y="2432"/>
                  </a:lnTo>
                  <a:lnTo>
                    <a:pt x="960" y="2420"/>
                  </a:lnTo>
                  <a:lnTo>
                    <a:pt x="964" y="2408"/>
                  </a:lnTo>
                  <a:lnTo>
                    <a:pt x="964" y="2394"/>
                  </a:lnTo>
                  <a:lnTo>
                    <a:pt x="966" y="2382"/>
                  </a:lnTo>
                  <a:lnTo>
                    <a:pt x="964" y="2370"/>
                  </a:lnTo>
                  <a:lnTo>
                    <a:pt x="962" y="2358"/>
                  </a:lnTo>
                  <a:lnTo>
                    <a:pt x="958" y="2348"/>
                  </a:lnTo>
                  <a:lnTo>
                    <a:pt x="954" y="2340"/>
                  </a:lnTo>
                  <a:lnTo>
                    <a:pt x="946" y="2332"/>
                  </a:lnTo>
                  <a:lnTo>
                    <a:pt x="938" y="2326"/>
                  </a:lnTo>
                  <a:lnTo>
                    <a:pt x="938" y="2326"/>
                  </a:lnTo>
                  <a:lnTo>
                    <a:pt x="928" y="2322"/>
                  </a:lnTo>
                  <a:lnTo>
                    <a:pt x="918" y="2320"/>
                  </a:lnTo>
                  <a:lnTo>
                    <a:pt x="908" y="2320"/>
                  </a:lnTo>
                  <a:lnTo>
                    <a:pt x="900" y="2320"/>
                  </a:lnTo>
                  <a:lnTo>
                    <a:pt x="890" y="2322"/>
                  </a:lnTo>
                  <a:lnTo>
                    <a:pt x="882" y="2324"/>
                  </a:lnTo>
                  <a:lnTo>
                    <a:pt x="874" y="2330"/>
                  </a:lnTo>
                  <a:lnTo>
                    <a:pt x="866" y="2334"/>
                  </a:lnTo>
                  <a:lnTo>
                    <a:pt x="854" y="2348"/>
                  </a:lnTo>
                  <a:lnTo>
                    <a:pt x="844" y="2366"/>
                  </a:lnTo>
                  <a:lnTo>
                    <a:pt x="840" y="2376"/>
                  </a:lnTo>
                  <a:lnTo>
                    <a:pt x="838" y="2386"/>
                  </a:lnTo>
                  <a:lnTo>
                    <a:pt x="836" y="2396"/>
                  </a:lnTo>
                  <a:lnTo>
                    <a:pt x="836" y="2408"/>
                  </a:lnTo>
                  <a:lnTo>
                    <a:pt x="836" y="2408"/>
                  </a:lnTo>
                  <a:lnTo>
                    <a:pt x="844" y="2398"/>
                  </a:lnTo>
                  <a:lnTo>
                    <a:pt x="854" y="2392"/>
                  </a:lnTo>
                  <a:lnTo>
                    <a:pt x="864" y="2386"/>
                  </a:lnTo>
                  <a:lnTo>
                    <a:pt x="874" y="2384"/>
                  </a:lnTo>
                  <a:lnTo>
                    <a:pt x="884" y="2384"/>
                  </a:lnTo>
                  <a:lnTo>
                    <a:pt x="894" y="2388"/>
                  </a:lnTo>
                  <a:lnTo>
                    <a:pt x="902" y="2396"/>
                  </a:lnTo>
                  <a:lnTo>
                    <a:pt x="908" y="2408"/>
                  </a:lnTo>
                  <a:lnTo>
                    <a:pt x="908" y="2408"/>
                  </a:lnTo>
                  <a:lnTo>
                    <a:pt x="910" y="2418"/>
                  </a:lnTo>
                  <a:lnTo>
                    <a:pt x="910" y="2428"/>
                  </a:lnTo>
                  <a:lnTo>
                    <a:pt x="908" y="2438"/>
                  </a:lnTo>
                  <a:lnTo>
                    <a:pt x="906" y="2448"/>
                  </a:lnTo>
                  <a:lnTo>
                    <a:pt x="900" y="2456"/>
                  </a:lnTo>
                  <a:lnTo>
                    <a:pt x="894" y="2464"/>
                  </a:lnTo>
                  <a:lnTo>
                    <a:pt x="886" y="2472"/>
                  </a:lnTo>
                  <a:lnTo>
                    <a:pt x="880" y="2476"/>
                  </a:lnTo>
                  <a:lnTo>
                    <a:pt x="880" y="2476"/>
                  </a:lnTo>
                  <a:lnTo>
                    <a:pt x="864" y="2468"/>
                  </a:lnTo>
                  <a:lnTo>
                    <a:pt x="848" y="2464"/>
                  </a:lnTo>
                  <a:lnTo>
                    <a:pt x="834" y="2464"/>
                  </a:lnTo>
                  <a:lnTo>
                    <a:pt x="818" y="2468"/>
                  </a:lnTo>
                  <a:lnTo>
                    <a:pt x="806" y="2476"/>
                  </a:lnTo>
                  <a:lnTo>
                    <a:pt x="794" y="2488"/>
                  </a:lnTo>
                  <a:lnTo>
                    <a:pt x="784" y="2506"/>
                  </a:lnTo>
                  <a:lnTo>
                    <a:pt x="778" y="2528"/>
                  </a:lnTo>
                  <a:lnTo>
                    <a:pt x="778" y="2528"/>
                  </a:lnTo>
                  <a:lnTo>
                    <a:pt x="786" y="2526"/>
                  </a:lnTo>
                  <a:lnTo>
                    <a:pt x="796" y="2526"/>
                  </a:lnTo>
                  <a:lnTo>
                    <a:pt x="816" y="2530"/>
                  </a:lnTo>
                  <a:lnTo>
                    <a:pt x="838" y="2538"/>
                  </a:lnTo>
                  <a:lnTo>
                    <a:pt x="856" y="2550"/>
                  </a:lnTo>
                  <a:lnTo>
                    <a:pt x="874" y="2566"/>
                  </a:lnTo>
                  <a:lnTo>
                    <a:pt x="890" y="2584"/>
                  </a:lnTo>
                  <a:lnTo>
                    <a:pt x="902" y="2606"/>
                  </a:lnTo>
                  <a:lnTo>
                    <a:pt x="906" y="2618"/>
                  </a:lnTo>
                  <a:lnTo>
                    <a:pt x="910" y="2632"/>
                  </a:lnTo>
                  <a:lnTo>
                    <a:pt x="910" y="2632"/>
                  </a:lnTo>
                  <a:lnTo>
                    <a:pt x="912" y="2648"/>
                  </a:lnTo>
                  <a:lnTo>
                    <a:pt x="912" y="2666"/>
                  </a:lnTo>
                  <a:lnTo>
                    <a:pt x="912" y="2686"/>
                  </a:lnTo>
                  <a:lnTo>
                    <a:pt x="910" y="2706"/>
                  </a:lnTo>
                  <a:lnTo>
                    <a:pt x="904" y="2728"/>
                  </a:lnTo>
                  <a:lnTo>
                    <a:pt x="898" y="2748"/>
                  </a:lnTo>
                  <a:lnTo>
                    <a:pt x="890" y="2770"/>
                  </a:lnTo>
                  <a:lnTo>
                    <a:pt x="880" y="2792"/>
                  </a:lnTo>
                  <a:lnTo>
                    <a:pt x="868" y="2812"/>
                  </a:lnTo>
                  <a:lnTo>
                    <a:pt x="854" y="2832"/>
                  </a:lnTo>
                  <a:lnTo>
                    <a:pt x="838" y="2850"/>
                  </a:lnTo>
                  <a:lnTo>
                    <a:pt x="820" y="2868"/>
                  </a:lnTo>
                  <a:lnTo>
                    <a:pt x="800" y="2884"/>
                  </a:lnTo>
                  <a:lnTo>
                    <a:pt x="776" y="2898"/>
                  </a:lnTo>
                  <a:lnTo>
                    <a:pt x="750" y="2910"/>
                  </a:lnTo>
                  <a:lnTo>
                    <a:pt x="722" y="2920"/>
                  </a:lnTo>
                  <a:lnTo>
                    <a:pt x="722" y="2920"/>
                  </a:lnTo>
                  <a:lnTo>
                    <a:pt x="736" y="2906"/>
                  </a:lnTo>
                  <a:lnTo>
                    <a:pt x="748" y="2894"/>
                  </a:lnTo>
                  <a:lnTo>
                    <a:pt x="756" y="2882"/>
                  </a:lnTo>
                  <a:lnTo>
                    <a:pt x="764" y="2870"/>
                  </a:lnTo>
                  <a:lnTo>
                    <a:pt x="770" y="2858"/>
                  </a:lnTo>
                  <a:lnTo>
                    <a:pt x="772" y="2846"/>
                  </a:lnTo>
                  <a:lnTo>
                    <a:pt x="774" y="2834"/>
                  </a:lnTo>
                  <a:lnTo>
                    <a:pt x="776" y="2824"/>
                  </a:lnTo>
                  <a:lnTo>
                    <a:pt x="774" y="2816"/>
                  </a:lnTo>
                  <a:lnTo>
                    <a:pt x="772" y="2806"/>
                  </a:lnTo>
                  <a:lnTo>
                    <a:pt x="768" y="2800"/>
                  </a:lnTo>
                  <a:lnTo>
                    <a:pt x="764" y="2794"/>
                  </a:lnTo>
                  <a:lnTo>
                    <a:pt x="758" y="2788"/>
                  </a:lnTo>
                  <a:lnTo>
                    <a:pt x="752" y="2784"/>
                  </a:lnTo>
                  <a:lnTo>
                    <a:pt x="744" y="2784"/>
                  </a:lnTo>
                  <a:lnTo>
                    <a:pt x="736" y="2784"/>
                  </a:lnTo>
                  <a:lnTo>
                    <a:pt x="736" y="2784"/>
                  </a:lnTo>
                  <a:lnTo>
                    <a:pt x="742" y="2764"/>
                  </a:lnTo>
                  <a:lnTo>
                    <a:pt x="746" y="2748"/>
                  </a:lnTo>
                  <a:lnTo>
                    <a:pt x="748" y="2732"/>
                  </a:lnTo>
                  <a:lnTo>
                    <a:pt x="748" y="2718"/>
                  </a:lnTo>
                  <a:lnTo>
                    <a:pt x="746" y="2704"/>
                  </a:lnTo>
                  <a:lnTo>
                    <a:pt x="742" y="2692"/>
                  </a:lnTo>
                  <a:lnTo>
                    <a:pt x="738" y="2682"/>
                  </a:lnTo>
                  <a:lnTo>
                    <a:pt x="730" y="2674"/>
                  </a:lnTo>
                  <a:lnTo>
                    <a:pt x="722" y="2666"/>
                  </a:lnTo>
                  <a:lnTo>
                    <a:pt x="710" y="2660"/>
                  </a:lnTo>
                  <a:lnTo>
                    <a:pt x="700" y="2656"/>
                  </a:lnTo>
                  <a:lnTo>
                    <a:pt x="688" y="2652"/>
                  </a:lnTo>
                  <a:lnTo>
                    <a:pt x="674" y="2650"/>
                  </a:lnTo>
                  <a:lnTo>
                    <a:pt x="660" y="2650"/>
                  </a:lnTo>
                  <a:lnTo>
                    <a:pt x="646" y="2652"/>
                  </a:lnTo>
                  <a:lnTo>
                    <a:pt x="630" y="2656"/>
                  </a:lnTo>
                  <a:lnTo>
                    <a:pt x="630" y="2656"/>
                  </a:lnTo>
                  <a:lnTo>
                    <a:pt x="642" y="2664"/>
                  </a:lnTo>
                  <a:lnTo>
                    <a:pt x="652" y="2674"/>
                  </a:lnTo>
                  <a:lnTo>
                    <a:pt x="660" y="2686"/>
                  </a:lnTo>
                  <a:lnTo>
                    <a:pt x="666" y="2696"/>
                  </a:lnTo>
                  <a:lnTo>
                    <a:pt x="668" y="2706"/>
                  </a:lnTo>
                  <a:lnTo>
                    <a:pt x="670" y="2716"/>
                  </a:lnTo>
                  <a:lnTo>
                    <a:pt x="670" y="2726"/>
                  </a:lnTo>
                  <a:lnTo>
                    <a:pt x="668" y="2736"/>
                  </a:lnTo>
                  <a:lnTo>
                    <a:pt x="664" y="2746"/>
                  </a:lnTo>
                  <a:lnTo>
                    <a:pt x="658" y="2756"/>
                  </a:lnTo>
                  <a:lnTo>
                    <a:pt x="652" y="2764"/>
                  </a:lnTo>
                  <a:lnTo>
                    <a:pt x="644" y="2774"/>
                  </a:lnTo>
                  <a:lnTo>
                    <a:pt x="626" y="2788"/>
                  </a:lnTo>
                  <a:lnTo>
                    <a:pt x="604" y="2802"/>
                  </a:lnTo>
                  <a:lnTo>
                    <a:pt x="604" y="2802"/>
                  </a:lnTo>
                  <a:lnTo>
                    <a:pt x="600" y="2788"/>
                  </a:lnTo>
                  <a:lnTo>
                    <a:pt x="594" y="2776"/>
                  </a:lnTo>
                  <a:lnTo>
                    <a:pt x="586" y="2768"/>
                  </a:lnTo>
                  <a:lnTo>
                    <a:pt x="578" y="2762"/>
                  </a:lnTo>
                  <a:lnTo>
                    <a:pt x="568" y="2756"/>
                  </a:lnTo>
                  <a:lnTo>
                    <a:pt x="560" y="2754"/>
                  </a:lnTo>
                  <a:lnTo>
                    <a:pt x="548" y="2752"/>
                  </a:lnTo>
                  <a:lnTo>
                    <a:pt x="538" y="2754"/>
                  </a:lnTo>
                  <a:lnTo>
                    <a:pt x="528" y="2756"/>
                  </a:lnTo>
                  <a:lnTo>
                    <a:pt x="518" y="2758"/>
                  </a:lnTo>
                  <a:lnTo>
                    <a:pt x="508" y="2764"/>
                  </a:lnTo>
                  <a:lnTo>
                    <a:pt x="500" y="2770"/>
                  </a:lnTo>
                  <a:lnTo>
                    <a:pt x="492" y="2776"/>
                  </a:lnTo>
                  <a:lnTo>
                    <a:pt x="484" y="2784"/>
                  </a:lnTo>
                  <a:lnTo>
                    <a:pt x="478" y="2794"/>
                  </a:lnTo>
                  <a:lnTo>
                    <a:pt x="474" y="2802"/>
                  </a:lnTo>
                  <a:lnTo>
                    <a:pt x="474" y="2802"/>
                  </a:lnTo>
                  <a:lnTo>
                    <a:pt x="462" y="2800"/>
                  </a:lnTo>
                  <a:lnTo>
                    <a:pt x="448" y="2794"/>
                  </a:lnTo>
                  <a:lnTo>
                    <a:pt x="436" y="2788"/>
                  </a:lnTo>
                  <a:lnTo>
                    <a:pt x="424" y="2780"/>
                  </a:lnTo>
                  <a:lnTo>
                    <a:pt x="412" y="2770"/>
                  </a:lnTo>
                  <a:lnTo>
                    <a:pt x="404" y="2760"/>
                  </a:lnTo>
                  <a:lnTo>
                    <a:pt x="396" y="2748"/>
                  </a:lnTo>
                  <a:lnTo>
                    <a:pt x="390" y="2736"/>
                  </a:lnTo>
                  <a:lnTo>
                    <a:pt x="386" y="2726"/>
                  </a:lnTo>
                  <a:lnTo>
                    <a:pt x="386" y="2714"/>
                  </a:lnTo>
                  <a:lnTo>
                    <a:pt x="386" y="2702"/>
                  </a:lnTo>
                  <a:lnTo>
                    <a:pt x="392" y="2692"/>
                  </a:lnTo>
                  <a:lnTo>
                    <a:pt x="400" y="2682"/>
                  </a:lnTo>
                  <a:lnTo>
                    <a:pt x="410" y="2674"/>
                  </a:lnTo>
                  <a:lnTo>
                    <a:pt x="426" y="2666"/>
                  </a:lnTo>
                  <a:lnTo>
                    <a:pt x="446" y="2660"/>
                  </a:lnTo>
                  <a:lnTo>
                    <a:pt x="446" y="2660"/>
                  </a:lnTo>
                  <a:lnTo>
                    <a:pt x="420" y="2654"/>
                  </a:lnTo>
                  <a:lnTo>
                    <a:pt x="396" y="2650"/>
                  </a:lnTo>
                  <a:lnTo>
                    <a:pt x="376" y="2650"/>
                  </a:lnTo>
                  <a:lnTo>
                    <a:pt x="360" y="2652"/>
                  </a:lnTo>
                  <a:lnTo>
                    <a:pt x="346" y="2658"/>
                  </a:lnTo>
                  <a:lnTo>
                    <a:pt x="334" y="2664"/>
                  </a:lnTo>
                  <a:lnTo>
                    <a:pt x="324" y="2672"/>
                  </a:lnTo>
                  <a:lnTo>
                    <a:pt x="318" y="2682"/>
                  </a:lnTo>
                  <a:lnTo>
                    <a:pt x="312" y="2692"/>
                  </a:lnTo>
                  <a:lnTo>
                    <a:pt x="310" y="2702"/>
                  </a:lnTo>
                  <a:lnTo>
                    <a:pt x="308" y="2714"/>
                  </a:lnTo>
                  <a:lnTo>
                    <a:pt x="306" y="2726"/>
                  </a:lnTo>
                  <a:lnTo>
                    <a:pt x="310" y="2748"/>
                  </a:lnTo>
                  <a:lnTo>
                    <a:pt x="314" y="2764"/>
                  </a:lnTo>
                  <a:lnTo>
                    <a:pt x="314" y="2764"/>
                  </a:lnTo>
                  <a:lnTo>
                    <a:pt x="308" y="2768"/>
                  </a:lnTo>
                  <a:lnTo>
                    <a:pt x="302" y="2772"/>
                  </a:lnTo>
                  <a:lnTo>
                    <a:pt x="298" y="2778"/>
                  </a:lnTo>
                  <a:lnTo>
                    <a:pt x="296" y="2782"/>
                  </a:lnTo>
                  <a:lnTo>
                    <a:pt x="294" y="2790"/>
                  </a:lnTo>
                  <a:lnTo>
                    <a:pt x="294" y="2796"/>
                  </a:lnTo>
                  <a:lnTo>
                    <a:pt x="296" y="2802"/>
                  </a:lnTo>
                  <a:lnTo>
                    <a:pt x="298" y="2810"/>
                  </a:lnTo>
                  <a:lnTo>
                    <a:pt x="308" y="2826"/>
                  </a:lnTo>
                  <a:lnTo>
                    <a:pt x="324" y="2842"/>
                  </a:lnTo>
                  <a:lnTo>
                    <a:pt x="346" y="2860"/>
                  </a:lnTo>
                  <a:lnTo>
                    <a:pt x="374" y="2878"/>
                  </a:lnTo>
                  <a:lnTo>
                    <a:pt x="374" y="2878"/>
                  </a:lnTo>
                  <a:lnTo>
                    <a:pt x="348" y="2872"/>
                  </a:lnTo>
                  <a:lnTo>
                    <a:pt x="326" y="2864"/>
                  </a:lnTo>
                  <a:lnTo>
                    <a:pt x="304" y="2854"/>
                  </a:lnTo>
                  <a:lnTo>
                    <a:pt x="286" y="2844"/>
                  </a:lnTo>
                  <a:lnTo>
                    <a:pt x="268" y="2832"/>
                  </a:lnTo>
                  <a:lnTo>
                    <a:pt x="252" y="2818"/>
                  </a:lnTo>
                  <a:lnTo>
                    <a:pt x="238" y="2806"/>
                  </a:lnTo>
                  <a:lnTo>
                    <a:pt x="226" y="2792"/>
                  </a:lnTo>
                  <a:lnTo>
                    <a:pt x="214" y="2776"/>
                  </a:lnTo>
                  <a:lnTo>
                    <a:pt x="206" y="2760"/>
                  </a:lnTo>
                  <a:lnTo>
                    <a:pt x="198" y="2746"/>
                  </a:lnTo>
                  <a:lnTo>
                    <a:pt x="192" y="2730"/>
                  </a:lnTo>
                  <a:lnTo>
                    <a:pt x="186" y="2712"/>
                  </a:lnTo>
                  <a:lnTo>
                    <a:pt x="184" y="2696"/>
                  </a:lnTo>
                  <a:lnTo>
                    <a:pt x="182" y="2680"/>
                  </a:lnTo>
                  <a:lnTo>
                    <a:pt x="180" y="2664"/>
                  </a:lnTo>
                  <a:lnTo>
                    <a:pt x="182" y="2648"/>
                  </a:lnTo>
                  <a:lnTo>
                    <a:pt x="182" y="2632"/>
                  </a:lnTo>
                  <a:lnTo>
                    <a:pt x="190" y="2602"/>
                  </a:lnTo>
                  <a:lnTo>
                    <a:pt x="194" y="2588"/>
                  </a:lnTo>
                  <a:lnTo>
                    <a:pt x="200" y="2576"/>
                  </a:lnTo>
                  <a:lnTo>
                    <a:pt x="208" y="2564"/>
                  </a:lnTo>
                  <a:lnTo>
                    <a:pt x="216" y="2552"/>
                  </a:lnTo>
                  <a:lnTo>
                    <a:pt x="224" y="2542"/>
                  </a:lnTo>
                  <a:lnTo>
                    <a:pt x="234" y="2532"/>
                  </a:lnTo>
                  <a:lnTo>
                    <a:pt x="244" y="2524"/>
                  </a:lnTo>
                  <a:lnTo>
                    <a:pt x="254" y="2518"/>
                  </a:lnTo>
                  <a:lnTo>
                    <a:pt x="266" y="2514"/>
                  </a:lnTo>
                  <a:lnTo>
                    <a:pt x="278" y="2510"/>
                  </a:lnTo>
                  <a:lnTo>
                    <a:pt x="292" y="2508"/>
                  </a:lnTo>
                  <a:lnTo>
                    <a:pt x="304" y="2508"/>
                  </a:lnTo>
                  <a:lnTo>
                    <a:pt x="304" y="2508"/>
                  </a:lnTo>
                  <a:lnTo>
                    <a:pt x="302" y="2496"/>
                  </a:lnTo>
                  <a:lnTo>
                    <a:pt x="296" y="2486"/>
                  </a:lnTo>
                  <a:lnTo>
                    <a:pt x="290" y="2476"/>
                  </a:lnTo>
                  <a:lnTo>
                    <a:pt x="284" y="2470"/>
                  </a:lnTo>
                  <a:lnTo>
                    <a:pt x="276" y="2466"/>
                  </a:lnTo>
                  <a:lnTo>
                    <a:pt x="266" y="2462"/>
                  </a:lnTo>
                  <a:lnTo>
                    <a:pt x="258" y="2462"/>
                  </a:lnTo>
                  <a:lnTo>
                    <a:pt x="248" y="2462"/>
                  </a:lnTo>
                  <a:lnTo>
                    <a:pt x="238" y="2464"/>
                  </a:lnTo>
                  <a:lnTo>
                    <a:pt x="228" y="2468"/>
                  </a:lnTo>
                  <a:lnTo>
                    <a:pt x="218" y="2474"/>
                  </a:lnTo>
                  <a:lnTo>
                    <a:pt x="210" y="2480"/>
                  </a:lnTo>
                  <a:lnTo>
                    <a:pt x="202" y="2488"/>
                  </a:lnTo>
                  <a:lnTo>
                    <a:pt x="194" y="2498"/>
                  </a:lnTo>
                  <a:lnTo>
                    <a:pt x="188" y="2508"/>
                  </a:lnTo>
                  <a:lnTo>
                    <a:pt x="182" y="2520"/>
                  </a:lnTo>
                  <a:lnTo>
                    <a:pt x="182" y="2520"/>
                  </a:lnTo>
                  <a:lnTo>
                    <a:pt x="176" y="2502"/>
                  </a:lnTo>
                  <a:lnTo>
                    <a:pt x="172" y="2480"/>
                  </a:lnTo>
                  <a:lnTo>
                    <a:pt x="170" y="2456"/>
                  </a:lnTo>
                  <a:lnTo>
                    <a:pt x="170" y="2434"/>
                  </a:lnTo>
                  <a:lnTo>
                    <a:pt x="174" y="2396"/>
                  </a:lnTo>
                  <a:lnTo>
                    <a:pt x="174" y="2380"/>
                  </a:lnTo>
                  <a:lnTo>
                    <a:pt x="174" y="2380"/>
                  </a:lnTo>
                  <a:lnTo>
                    <a:pt x="166" y="2396"/>
                  </a:lnTo>
                  <a:lnTo>
                    <a:pt x="150" y="2436"/>
                  </a:lnTo>
                  <a:lnTo>
                    <a:pt x="140" y="2462"/>
                  </a:lnTo>
                  <a:lnTo>
                    <a:pt x="130" y="2490"/>
                  </a:lnTo>
                  <a:lnTo>
                    <a:pt x="124" y="2522"/>
                  </a:lnTo>
                  <a:lnTo>
                    <a:pt x="120" y="2554"/>
                  </a:lnTo>
                  <a:lnTo>
                    <a:pt x="120" y="2554"/>
                  </a:lnTo>
                  <a:lnTo>
                    <a:pt x="120" y="2584"/>
                  </a:lnTo>
                  <a:lnTo>
                    <a:pt x="122" y="2616"/>
                  </a:lnTo>
                  <a:lnTo>
                    <a:pt x="124" y="2644"/>
                  </a:lnTo>
                  <a:lnTo>
                    <a:pt x="128" y="2672"/>
                  </a:lnTo>
                  <a:lnTo>
                    <a:pt x="134" y="2700"/>
                  </a:lnTo>
                  <a:lnTo>
                    <a:pt x="142" y="2726"/>
                  </a:lnTo>
                  <a:lnTo>
                    <a:pt x="154" y="2752"/>
                  </a:lnTo>
                  <a:lnTo>
                    <a:pt x="166" y="2774"/>
                  </a:lnTo>
                  <a:lnTo>
                    <a:pt x="166" y="2774"/>
                  </a:lnTo>
                  <a:lnTo>
                    <a:pt x="138" y="2748"/>
                  </a:lnTo>
                  <a:lnTo>
                    <a:pt x="116" y="2720"/>
                  </a:lnTo>
                  <a:lnTo>
                    <a:pt x="96" y="2694"/>
                  </a:lnTo>
                  <a:lnTo>
                    <a:pt x="82" y="2666"/>
                  </a:lnTo>
                  <a:lnTo>
                    <a:pt x="70" y="2638"/>
                  </a:lnTo>
                  <a:lnTo>
                    <a:pt x="62" y="2612"/>
                  </a:lnTo>
                  <a:lnTo>
                    <a:pt x="56" y="2584"/>
                  </a:lnTo>
                  <a:lnTo>
                    <a:pt x="54" y="2558"/>
                  </a:lnTo>
                  <a:lnTo>
                    <a:pt x="54" y="2530"/>
                  </a:lnTo>
                  <a:lnTo>
                    <a:pt x="56" y="2504"/>
                  </a:lnTo>
                  <a:lnTo>
                    <a:pt x="60" y="2478"/>
                  </a:lnTo>
                  <a:lnTo>
                    <a:pt x="66" y="2454"/>
                  </a:lnTo>
                  <a:lnTo>
                    <a:pt x="74" y="2428"/>
                  </a:lnTo>
                  <a:lnTo>
                    <a:pt x="82" y="2404"/>
                  </a:lnTo>
                  <a:lnTo>
                    <a:pt x="102" y="2360"/>
                  </a:lnTo>
                  <a:lnTo>
                    <a:pt x="102" y="2360"/>
                  </a:lnTo>
                  <a:lnTo>
                    <a:pt x="112" y="2342"/>
                  </a:lnTo>
                  <a:lnTo>
                    <a:pt x="122" y="2328"/>
                  </a:lnTo>
                  <a:lnTo>
                    <a:pt x="134" y="2314"/>
                  </a:lnTo>
                  <a:lnTo>
                    <a:pt x="148" y="2302"/>
                  </a:lnTo>
                  <a:lnTo>
                    <a:pt x="162" y="2290"/>
                  </a:lnTo>
                  <a:lnTo>
                    <a:pt x="176" y="2282"/>
                  </a:lnTo>
                  <a:lnTo>
                    <a:pt x="192" y="2274"/>
                  </a:lnTo>
                  <a:lnTo>
                    <a:pt x="206" y="2268"/>
                  </a:lnTo>
                  <a:lnTo>
                    <a:pt x="222" y="2264"/>
                  </a:lnTo>
                  <a:lnTo>
                    <a:pt x="238" y="2260"/>
                  </a:lnTo>
                  <a:lnTo>
                    <a:pt x="252" y="2260"/>
                  </a:lnTo>
                  <a:lnTo>
                    <a:pt x="266" y="2260"/>
                  </a:lnTo>
                  <a:lnTo>
                    <a:pt x="280" y="2262"/>
                  </a:lnTo>
                  <a:lnTo>
                    <a:pt x="294" y="2268"/>
                  </a:lnTo>
                  <a:lnTo>
                    <a:pt x="304" y="2274"/>
                  </a:lnTo>
                  <a:lnTo>
                    <a:pt x="316" y="2280"/>
                  </a:lnTo>
                  <a:lnTo>
                    <a:pt x="316" y="2280"/>
                  </a:lnTo>
                  <a:lnTo>
                    <a:pt x="318" y="2268"/>
                  </a:lnTo>
                  <a:lnTo>
                    <a:pt x="318" y="2254"/>
                  </a:lnTo>
                  <a:lnTo>
                    <a:pt x="314" y="2242"/>
                  </a:lnTo>
                  <a:lnTo>
                    <a:pt x="308" y="2232"/>
                  </a:lnTo>
                  <a:lnTo>
                    <a:pt x="300" y="2222"/>
                  </a:lnTo>
                  <a:lnTo>
                    <a:pt x="292" y="2212"/>
                  </a:lnTo>
                  <a:lnTo>
                    <a:pt x="280" y="2204"/>
                  </a:lnTo>
                  <a:lnTo>
                    <a:pt x="268" y="2196"/>
                  </a:lnTo>
                  <a:lnTo>
                    <a:pt x="256" y="2190"/>
                  </a:lnTo>
                  <a:lnTo>
                    <a:pt x="242" y="2186"/>
                  </a:lnTo>
                  <a:lnTo>
                    <a:pt x="228" y="2182"/>
                  </a:lnTo>
                  <a:lnTo>
                    <a:pt x="214" y="2180"/>
                  </a:lnTo>
                  <a:lnTo>
                    <a:pt x="200" y="2178"/>
                  </a:lnTo>
                  <a:lnTo>
                    <a:pt x="188" y="2178"/>
                  </a:lnTo>
                  <a:lnTo>
                    <a:pt x="176" y="2180"/>
                  </a:lnTo>
                  <a:lnTo>
                    <a:pt x="164" y="2184"/>
                  </a:lnTo>
                  <a:lnTo>
                    <a:pt x="164" y="2184"/>
                  </a:lnTo>
                  <a:lnTo>
                    <a:pt x="182" y="2162"/>
                  </a:lnTo>
                  <a:lnTo>
                    <a:pt x="204" y="2144"/>
                  </a:lnTo>
                  <a:lnTo>
                    <a:pt x="224" y="2128"/>
                  </a:lnTo>
                  <a:lnTo>
                    <a:pt x="248" y="2116"/>
                  </a:lnTo>
                  <a:lnTo>
                    <a:pt x="270" y="2108"/>
                  </a:lnTo>
                  <a:lnTo>
                    <a:pt x="294" y="2100"/>
                  </a:lnTo>
                  <a:lnTo>
                    <a:pt x="318" y="2096"/>
                  </a:lnTo>
                  <a:lnTo>
                    <a:pt x="340" y="2096"/>
                  </a:lnTo>
                  <a:lnTo>
                    <a:pt x="364" y="2096"/>
                  </a:lnTo>
                  <a:lnTo>
                    <a:pt x="386" y="2098"/>
                  </a:lnTo>
                  <a:lnTo>
                    <a:pt x="406" y="2104"/>
                  </a:lnTo>
                  <a:lnTo>
                    <a:pt x="426" y="2110"/>
                  </a:lnTo>
                  <a:lnTo>
                    <a:pt x="444" y="2118"/>
                  </a:lnTo>
                  <a:lnTo>
                    <a:pt x="460" y="2128"/>
                  </a:lnTo>
                  <a:lnTo>
                    <a:pt x="474" y="2138"/>
                  </a:lnTo>
                  <a:lnTo>
                    <a:pt x="484" y="2150"/>
                  </a:lnTo>
                  <a:lnTo>
                    <a:pt x="484" y="2150"/>
                  </a:lnTo>
                  <a:lnTo>
                    <a:pt x="498" y="2170"/>
                  </a:lnTo>
                  <a:lnTo>
                    <a:pt x="506" y="2192"/>
                  </a:lnTo>
                  <a:lnTo>
                    <a:pt x="510" y="2212"/>
                  </a:lnTo>
                  <a:lnTo>
                    <a:pt x="508" y="2232"/>
                  </a:lnTo>
                  <a:lnTo>
                    <a:pt x="502" y="2252"/>
                  </a:lnTo>
                  <a:lnTo>
                    <a:pt x="498" y="2260"/>
                  </a:lnTo>
                  <a:lnTo>
                    <a:pt x="492" y="2268"/>
                  </a:lnTo>
                  <a:lnTo>
                    <a:pt x="486" y="2276"/>
                  </a:lnTo>
                  <a:lnTo>
                    <a:pt x="478" y="2284"/>
                  </a:lnTo>
                  <a:lnTo>
                    <a:pt x="470" y="2290"/>
                  </a:lnTo>
                  <a:lnTo>
                    <a:pt x="460" y="2294"/>
                  </a:lnTo>
                  <a:lnTo>
                    <a:pt x="460" y="2294"/>
                  </a:lnTo>
                  <a:lnTo>
                    <a:pt x="472" y="2300"/>
                  </a:lnTo>
                  <a:lnTo>
                    <a:pt x="484" y="2304"/>
                  </a:lnTo>
                  <a:lnTo>
                    <a:pt x="506" y="2308"/>
                  </a:lnTo>
                  <a:lnTo>
                    <a:pt x="528" y="2308"/>
                  </a:lnTo>
                  <a:lnTo>
                    <a:pt x="546" y="2304"/>
                  </a:lnTo>
                  <a:lnTo>
                    <a:pt x="562" y="2296"/>
                  </a:lnTo>
                  <a:lnTo>
                    <a:pt x="576" y="2286"/>
                  </a:lnTo>
                  <a:lnTo>
                    <a:pt x="586" y="2276"/>
                  </a:lnTo>
                  <a:lnTo>
                    <a:pt x="594" y="2262"/>
                  </a:lnTo>
                  <a:lnTo>
                    <a:pt x="594" y="2262"/>
                  </a:lnTo>
                  <a:lnTo>
                    <a:pt x="598" y="2248"/>
                  </a:lnTo>
                  <a:lnTo>
                    <a:pt x="600" y="2230"/>
                  </a:lnTo>
                  <a:lnTo>
                    <a:pt x="602" y="2214"/>
                  </a:lnTo>
                  <a:lnTo>
                    <a:pt x="602" y="2200"/>
                  </a:lnTo>
                  <a:lnTo>
                    <a:pt x="600" y="2184"/>
                  </a:lnTo>
                  <a:lnTo>
                    <a:pt x="596" y="2170"/>
                  </a:lnTo>
                  <a:lnTo>
                    <a:pt x="590" y="2156"/>
                  </a:lnTo>
                  <a:lnTo>
                    <a:pt x="582" y="2144"/>
                  </a:lnTo>
                  <a:lnTo>
                    <a:pt x="582" y="2144"/>
                  </a:lnTo>
                  <a:lnTo>
                    <a:pt x="600" y="2160"/>
                  </a:lnTo>
                  <a:lnTo>
                    <a:pt x="616" y="2178"/>
                  </a:lnTo>
                  <a:lnTo>
                    <a:pt x="630" y="2198"/>
                  </a:lnTo>
                  <a:lnTo>
                    <a:pt x="640" y="2218"/>
                  </a:lnTo>
                  <a:lnTo>
                    <a:pt x="648" y="2240"/>
                  </a:lnTo>
                  <a:lnTo>
                    <a:pt x="654" y="2260"/>
                  </a:lnTo>
                  <a:lnTo>
                    <a:pt x="656" y="2282"/>
                  </a:lnTo>
                  <a:lnTo>
                    <a:pt x="656" y="2304"/>
                  </a:lnTo>
                  <a:lnTo>
                    <a:pt x="654" y="2326"/>
                  </a:lnTo>
                  <a:lnTo>
                    <a:pt x="650" y="2348"/>
                  </a:lnTo>
                  <a:lnTo>
                    <a:pt x="642" y="2368"/>
                  </a:lnTo>
                  <a:lnTo>
                    <a:pt x="632" y="2388"/>
                  </a:lnTo>
                  <a:lnTo>
                    <a:pt x="620" y="2406"/>
                  </a:lnTo>
                  <a:lnTo>
                    <a:pt x="606" y="2424"/>
                  </a:lnTo>
                  <a:lnTo>
                    <a:pt x="588" y="2438"/>
                  </a:lnTo>
                  <a:lnTo>
                    <a:pt x="568" y="2452"/>
                  </a:lnTo>
                  <a:lnTo>
                    <a:pt x="568" y="2452"/>
                  </a:lnTo>
                  <a:lnTo>
                    <a:pt x="566" y="2442"/>
                  </a:lnTo>
                  <a:lnTo>
                    <a:pt x="564" y="2432"/>
                  </a:lnTo>
                  <a:lnTo>
                    <a:pt x="560" y="2424"/>
                  </a:lnTo>
                  <a:lnTo>
                    <a:pt x="554" y="2414"/>
                  </a:lnTo>
                  <a:lnTo>
                    <a:pt x="542" y="2400"/>
                  </a:lnTo>
                  <a:lnTo>
                    <a:pt x="524" y="2388"/>
                  </a:lnTo>
                  <a:lnTo>
                    <a:pt x="516" y="2384"/>
                  </a:lnTo>
                  <a:lnTo>
                    <a:pt x="506" y="2382"/>
                  </a:lnTo>
                  <a:lnTo>
                    <a:pt x="496" y="2380"/>
                  </a:lnTo>
                  <a:lnTo>
                    <a:pt x="486" y="2378"/>
                  </a:lnTo>
                  <a:lnTo>
                    <a:pt x="474" y="2378"/>
                  </a:lnTo>
                  <a:lnTo>
                    <a:pt x="464" y="2380"/>
                  </a:lnTo>
                  <a:lnTo>
                    <a:pt x="452" y="2384"/>
                  </a:lnTo>
                  <a:lnTo>
                    <a:pt x="442" y="2390"/>
                  </a:lnTo>
                  <a:lnTo>
                    <a:pt x="442" y="2390"/>
                  </a:lnTo>
                  <a:lnTo>
                    <a:pt x="434" y="2394"/>
                  </a:lnTo>
                  <a:lnTo>
                    <a:pt x="426" y="2402"/>
                  </a:lnTo>
                  <a:lnTo>
                    <a:pt x="420" y="2410"/>
                  </a:lnTo>
                  <a:lnTo>
                    <a:pt x="414" y="2418"/>
                  </a:lnTo>
                  <a:lnTo>
                    <a:pt x="404" y="2440"/>
                  </a:lnTo>
                  <a:lnTo>
                    <a:pt x="396" y="2464"/>
                  </a:lnTo>
                  <a:lnTo>
                    <a:pt x="394" y="2490"/>
                  </a:lnTo>
                  <a:lnTo>
                    <a:pt x="394" y="2504"/>
                  </a:lnTo>
                  <a:lnTo>
                    <a:pt x="396" y="2516"/>
                  </a:lnTo>
                  <a:lnTo>
                    <a:pt x="400" y="2528"/>
                  </a:lnTo>
                  <a:lnTo>
                    <a:pt x="404" y="2540"/>
                  </a:lnTo>
                  <a:lnTo>
                    <a:pt x="410" y="2552"/>
                  </a:lnTo>
                  <a:lnTo>
                    <a:pt x="418" y="2562"/>
                  </a:lnTo>
                  <a:lnTo>
                    <a:pt x="418" y="2562"/>
                  </a:lnTo>
                  <a:lnTo>
                    <a:pt x="428" y="2572"/>
                  </a:lnTo>
                  <a:lnTo>
                    <a:pt x="440" y="2582"/>
                  </a:lnTo>
                  <a:lnTo>
                    <a:pt x="452" y="2590"/>
                  </a:lnTo>
                  <a:lnTo>
                    <a:pt x="466" y="2596"/>
                  </a:lnTo>
                  <a:lnTo>
                    <a:pt x="480" y="2602"/>
                  </a:lnTo>
                  <a:lnTo>
                    <a:pt x="494" y="2606"/>
                  </a:lnTo>
                  <a:lnTo>
                    <a:pt x="508" y="2608"/>
                  </a:lnTo>
                  <a:lnTo>
                    <a:pt x="524" y="2608"/>
                  </a:lnTo>
                  <a:lnTo>
                    <a:pt x="540" y="2608"/>
                  </a:lnTo>
                  <a:lnTo>
                    <a:pt x="554" y="2606"/>
                  </a:lnTo>
                  <a:lnTo>
                    <a:pt x="570" y="2602"/>
                  </a:lnTo>
                  <a:lnTo>
                    <a:pt x="586" y="2596"/>
                  </a:lnTo>
                  <a:lnTo>
                    <a:pt x="602" y="2588"/>
                  </a:lnTo>
                  <a:lnTo>
                    <a:pt x="616" y="2578"/>
                  </a:lnTo>
                  <a:lnTo>
                    <a:pt x="632" y="2568"/>
                  </a:lnTo>
                  <a:lnTo>
                    <a:pt x="646" y="2554"/>
                  </a:lnTo>
                  <a:lnTo>
                    <a:pt x="646" y="2554"/>
                  </a:lnTo>
                  <a:lnTo>
                    <a:pt x="666" y="2528"/>
                  </a:lnTo>
                  <a:lnTo>
                    <a:pt x="684" y="2500"/>
                  </a:lnTo>
                  <a:lnTo>
                    <a:pt x="698" y="2470"/>
                  </a:lnTo>
                  <a:lnTo>
                    <a:pt x="710" y="2440"/>
                  </a:lnTo>
                  <a:lnTo>
                    <a:pt x="716" y="2406"/>
                  </a:lnTo>
                  <a:lnTo>
                    <a:pt x="720" y="2372"/>
                  </a:lnTo>
                  <a:lnTo>
                    <a:pt x="720" y="2338"/>
                  </a:lnTo>
                  <a:lnTo>
                    <a:pt x="716" y="2304"/>
                  </a:lnTo>
                  <a:lnTo>
                    <a:pt x="708" y="2270"/>
                  </a:lnTo>
                  <a:lnTo>
                    <a:pt x="696" y="2238"/>
                  </a:lnTo>
                  <a:lnTo>
                    <a:pt x="680" y="2206"/>
                  </a:lnTo>
                  <a:lnTo>
                    <a:pt x="660" y="2178"/>
                  </a:lnTo>
                  <a:lnTo>
                    <a:pt x="636" y="2150"/>
                  </a:lnTo>
                  <a:lnTo>
                    <a:pt x="622" y="2136"/>
                  </a:lnTo>
                  <a:lnTo>
                    <a:pt x="608" y="2124"/>
                  </a:lnTo>
                  <a:lnTo>
                    <a:pt x="592" y="2114"/>
                  </a:lnTo>
                  <a:lnTo>
                    <a:pt x="574" y="2104"/>
                  </a:lnTo>
                  <a:lnTo>
                    <a:pt x="558" y="2094"/>
                  </a:lnTo>
                  <a:lnTo>
                    <a:pt x="538" y="2084"/>
                  </a:lnTo>
                  <a:lnTo>
                    <a:pt x="538" y="2084"/>
                  </a:lnTo>
                  <a:lnTo>
                    <a:pt x="500" y="2070"/>
                  </a:lnTo>
                  <a:lnTo>
                    <a:pt x="464" y="2060"/>
                  </a:lnTo>
                  <a:lnTo>
                    <a:pt x="426" y="2054"/>
                  </a:lnTo>
                  <a:lnTo>
                    <a:pt x="390" y="2050"/>
                  </a:lnTo>
                  <a:lnTo>
                    <a:pt x="354" y="2050"/>
                  </a:lnTo>
                  <a:lnTo>
                    <a:pt x="318" y="2056"/>
                  </a:lnTo>
                  <a:lnTo>
                    <a:pt x="284" y="2064"/>
                  </a:lnTo>
                  <a:lnTo>
                    <a:pt x="250" y="2076"/>
                  </a:lnTo>
                  <a:lnTo>
                    <a:pt x="218" y="2092"/>
                  </a:lnTo>
                  <a:lnTo>
                    <a:pt x="186" y="2114"/>
                  </a:lnTo>
                  <a:lnTo>
                    <a:pt x="158" y="2138"/>
                  </a:lnTo>
                  <a:lnTo>
                    <a:pt x="130" y="2168"/>
                  </a:lnTo>
                  <a:lnTo>
                    <a:pt x="104" y="2200"/>
                  </a:lnTo>
                  <a:lnTo>
                    <a:pt x="80" y="2238"/>
                  </a:lnTo>
                  <a:lnTo>
                    <a:pt x="58" y="2280"/>
                  </a:lnTo>
                  <a:lnTo>
                    <a:pt x="38" y="2328"/>
                  </a:lnTo>
                  <a:lnTo>
                    <a:pt x="38" y="2328"/>
                  </a:lnTo>
                  <a:lnTo>
                    <a:pt x="24" y="2368"/>
                  </a:lnTo>
                  <a:lnTo>
                    <a:pt x="14" y="2406"/>
                  </a:lnTo>
                  <a:lnTo>
                    <a:pt x="6" y="2442"/>
                  </a:lnTo>
                  <a:lnTo>
                    <a:pt x="2" y="2474"/>
                  </a:lnTo>
                  <a:lnTo>
                    <a:pt x="0" y="2504"/>
                  </a:lnTo>
                  <a:lnTo>
                    <a:pt x="0" y="2532"/>
                  </a:lnTo>
                  <a:lnTo>
                    <a:pt x="4" y="2558"/>
                  </a:lnTo>
                  <a:lnTo>
                    <a:pt x="8" y="2580"/>
                  </a:lnTo>
                  <a:lnTo>
                    <a:pt x="12" y="2602"/>
                  </a:lnTo>
                  <a:lnTo>
                    <a:pt x="18" y="2622"/>
                  </a:lnTo>
                  <a:lnTo>
                    <a:pt x="34" y="2656"/>
                  </a:lnTo>
                  <a:lnTo>
                    <a:pt x="50" y="2684"/>
                  </a:lnTo>
                  <a:lnTo>
                    <a:pt x="64" y="2710"/>
                  </a:lnTo>
                  <a:lnTo>
                    <a:pt x="64" y="2710"/>
                  </a:lnTo>
                  <a:lnTo>
                    <a:pt x="76" y="2730"/>
                  </a:lnTo>
                  <a:lnTo>
                    <a:pt x="92" y="2750"/>
                  </a:lnTo>
                  <a:lnTo>
                    <a:pt x="126" y="2784"/>
                  </a:lnTo>
                  <a:lnTo>
                    <a:pt x="126" y="2784"/>
                  </a:lnTo>
                  <a:lnTo>
                    <a:pt x="144" y="2802"/>
                  </a:lnTo>
                  <a:lnTo>
                    <a:pt x="168" y="2820"/>
                  </a:lnTo>
                  <a:lnTo>
                    <a:pt x="198" y="2842"/>
                  </a:lnTo>
                  <a:lnTo>
                    <a:pt x="234" y="2862"/>
                  </a:lnTo>
                  <a:lnTo>
                    <a:pt x="274" y="2884"/>
                  </a:lnTo>
                  <a:lnTo>
                    <a:pt x="320" y="2904"/>
                  </a:lnTo>
                  <a:lnTo>
                    <a:pt x="368" y="2924"/>
                  </a:lnTo>
                  <a:lnTo>
                    <a:pt x="420" y="2940"/>
                  </a:lnTo>
                  <a:lnTo>
                    <a:pt x="474" y="2954"/>
                  </a:lnTo>
                  <a:lnTo>
                    <a:pt x="530" y="2966"/>
                  </a:lnTo>
                  <a:lnTo>
                    <a:pt x="590" y="2972"/>
                  </a:lnTo>
                  <a:lnTo>
                    <a:pt x="620" y="2972"/>
                  </a:lnTo>
                  <a:lnTo>
                    <a:pt x="650" y="2974"/>
                  </a:lnTo>
                  <a:lnTo>
                    <a:pt x="680" y="2972"/>
                  </a:lnTo>
                  <a:lnTo>
                    <a:pt x="710" y="2970"/>
                  </a:lnTo>
                  <a:lnTo>
                    <a:pt x="742" y="2964"/>
                  </a:lnTo>
                  <a:lnTo>
                    <a:pt x="772" y="2958"/>
                  </a:lnTo>
                  <a:lnTo>
                    <a:pt x="802" y="2952"/>
                  </a:lnTo>
                  <a:lnTo>
                    <a:pt x="834" y="2942"/>
                  </a:lnTo>
                  <a:lnTo>
                    <a:pt x="864" y="2930"/>
                  </a:lnTo>
                  <a:lnTo>
                    <a:pt x="894" y="2916"/>
                  </a:lnTo>
                  <a:lnTo>
                    <a:pt x="894" y="2916"/>
                  </a:lnTo>
                  <a:lnTo>
                    <a:pt x="894" y="2928"/>
                  </a:lnTo>
                  <a:lnTo>
                    <a:pt x="894" y="2940"/>
                  </a:lnTo>
                  <a:lnTo>
                    <a:pt x="896" y="2952"/>
                  </a:lnTo>
                  <a:lnTo>
                    <a:pt x="898" y="2964"/>
                  </a:lnTo>
                  <a:lnTo>
                    <a:pt x="902" y="2976"/>
                  </a:lnTo>
                  <a:lnTo>
                    <a:pt x="908" y="2986"/>
                  </a:lnTo>
                  <a:lnTo>
                    <a:pt x="914" y="2998"/>
                  </a:lnTo>
                  <a:lnTo>
                    <a:pt x="922" y="3008"/>
                  </a:lnTo>
                  <a:lnTo>
                    <a:pt x="930" y="3016"/>
                  </a:lnTo>
                  <a:lnTo>
                    <a:pt x="940" y="3024"/>
                  </a:lnTo>
                  <a:lnTo>
                    <a:pt x="950" y="3030"/>
                  </a:lnTo>
                  <a:lnTo>
                    <a:pt x="962" y="3034"/>
                  </a:lnTo>
                  <a:lnTo>
                    <a:pt x="974" y="3038"/>
                  </a:lnTo>
                  <a:lnTo>
                    <a:pt x="986" y="3040"/>
                  </a:lnTo>
                  <a:lnTo>
                    <a:pt x="1000" y="3038"/>
                  </a:lnTo>
                  <a:lnTo>
                    <a:pt x="1016" y="3036"/>
                  </a:lnTo>
                  <a:lnTo>
                    <a:pt x="1016" y="3036"/>
                  </a:lnTo>
                  <a:lnTo>
                    <a:pt x="998" y="3024"/>
                  </a:lnTo>
                  <a:lnTo>
                    <a:pt x="982" y="3012"/>
                  </a:lnTo>
                  <a:lnTo>
                    <a:pt x="968" y="3000"/>
                  </a:lnTo>
                  <a:lnTo>
                    <a:pt x="956" y="2988"/>
                  </a:lnTo>
                  <a:lnTo>
                    <a:pt x="948" y="2976"/>
                  </a:lnTo>
                  <a:lnTo>
                    <a:pt x="940" y="2964"/>
                  </a:lnTo>
                  <a:lnTo>
                    <a:pt x="936" y="2952"/>
                  </a:lnTo>
                  <a:lnTo>
                    <a:pt x="932" y="2940"/>
                  </a:lnTo>
                  <a:lnTo>
                    <a:pt x="930" y="2928"/>
                  </a:lnTo>
                  <a:lnTo>
                    <a:pt x="928" y="2918"/>
                  </a:lnTo>
                  <a:lnTo>
                    <a:pt x="930" y="2908"/>
                  </a:lnTo>
                  <a:lnTo>
                    <a:pt x="932" y="2900"/>
                  </a:lnTo>
                  <a:lnTo>
                    <a:pt x="934" y="2890"/>
                  </a:lnTo>
                  <a:lnTo>
                    <a:pt x="938" y="2884"/>
                  </a:lnTo>
                  <a:lnTo>
                    <a:pt x="948" y="2870"/>
                  </a:lnTo>
                  <a:lnTo>
                    <a:pt x="948" y="2870"/>
                  </a:lnTo>
                  <a:lnTo>
                    <a:pt x="966" y="2856"/>
                  </a:lnTo>
                  <a:lnTo>
                    <a:pt x="980" y="2844"/>
                  </a:lnTo>
                  <a:lnTo>
                    <a:pt x="994" y="2836"/>
                  </a:lnTo>
                  <a:lnTo>
                    <a:pt x="1010" y="2832"/>
                  </a:lnTo>
                  <a:lnTo>
                    <a:pt x="1010" y="2832"/>
                  </a:lnTo>
                  <a:lnTo>
                    <a:pt x="1020" y="2832"/>
                  </a:lnTo>
                  <a:lnTo>
                    <a:pt x="1028" y="2834"/>
                  </a:lnTo>
                  <a:lnTo>
                    <a:pt x="1044" y="2838"/>
                  </a:lnTo>
                  <a:lnTo>
                    <a:pt x="1058" y="2846"/>
                  </a:lnTo>
                  <a:lnTo>
                    <a:pt x="1072" y="2858"/>
                  </a:lnTo>
                  <a:lnTo>
                    <a:pt x="1086" y="2870"/>
                  </a:lnTo>
                  <a:lnTo>
                    <a:pt x="1096" y="2884"/>
                  </a:lnTo>
                  <a:lnTo>
                    <a:pt x="1106" y="2898"/>
                  </a:lnTo>
                  <a:lnTo>
                    <a:pt x="1114" y="2910"/>
                  </a:lnTo>
                  <a:lnTo>
                    <a:pt x="1114" y="2910"/>
                  </a:lnTo>
                  <a:lnTo>
                    <a:pt x="1100" y="2912"/>
                  </a:lnTo>
                  <a:lnTo>
                    <a:pt x="1088" y="2916"/>
                  </a:lnTo>
                  <a:lnTo>
                    <a:pt x="1076" y="2926"/>
                  </a:lnTo>
                  <a:lnTo>
                    <a:pt x="1066" y="2936"/>
                  </a:lnTo>
                  <a:lnTo>
                    <a:pt x="1058" y="2950"/>
                  </a:lnTo>
                  <a:lnTo>
                    <a:pt x="1056" y="2960"/>
                  </a:lnTo>
                  <a:lnTo>
                    <a:pt x="1056" y="2968"/>
                  </a:lnTo>
                  <a:lnTo>
                    <a:pt x="1056" y="2976"/>
                  </a:lnTo>
                  <a:lnTo>
                    <a:pt x="1056" y="2986"/>
                  </a:lnTo>
                  <a:lnTo>
                    <a:pt x="1060" y="2996"/>
                  </a:lnTo>
                  <a:lnTo>
                    <a:pt x="1064" y="3008"/>
                  </a:lnTo>
                  <a:lnTo>
                    <a:pt x="1064" y="3008"/>
                  </a:lnTo>
                  <a:lnTo>
                    <a:pt x="1070" y="3018"/>
                  </a:lnTo>
                  <a:lnTo>
                    <a:pt x="1078" y="3026"/>
                  </a:lnTo>
                  <a:lnTo>
                    <a:pt x="1088" y="3032"/>
                  </a:lnTo>
                  <a:lnTo>
                    <a:pt x="1098" y="3036"/>
                  </a:lnTo>
                  <a:lnTo>
                    <a:pt x="1108" y="3038"/>
                  </a:lnTo>
                  <a:lnTo>
                    <a:pt x="1120" y="3038"/>
                  </a:lnTo>
                  <a:lnTo>
                    <a:pt x="1132" y="3036"/>
                  </a:lnTo>
                  <a:lnTo>
                    <a:pt x="1142" y="3032"/>
                  </a:lnTo>
                  <a:lnTo>
                    <a:pt x="1154" y="3026"/>
                  </a:lnTo>
                  <a:lnTo>
                    <a:pt x="1164" y="3020"/>
                  </a:lnTo>
                  <a:lnTo>
                    <a:pt x="1172" y="3010"/>
                  </a:lnTo>
                  <a:lnTo>
                    <a:pt x="1180" y="3000"/>
                  </a:lnTo>
                  <a:lnTo>
                    <a:pt x="1186" y="2988"/>
                  </a:lnTo>
                  <a:lnTo>
                    <a:pt x="1190" y="2974"/>
                  </a:lnTo>
                  <a:lnTo>
                    <a:pt x="1192" y="2960"/>
                  </a:lnTo>
                  <a:lnTo>
                    <a:pt x="1192" y="2944"/>
                  </a:lnTo>
                  <a:lnTo>
                    <a:pt x="1192" y="2944"/>
                  </a:lnTo>
                  <a:lnTo>
                    <a:pt x="1188" y="2930"/>
                  </a:lnTo>
                  <a:lnTo>
                    <a:pt x="1186" y="2916"/>
                  </a:lnTo>
                  <a:lnTo>
                    <a:pt x="1176" y="2894"/>
                  </a:lnTo>
                  <a:lnTo>
                    <a:pt x="1164" y="2874"/>
                  </a:lnTo>
                  <a:lnTo>
                    <a:pt x="1150" y="2860"/>
                  </a:lnTo>
                  <a:lnTo>
                    <a:pt x="1134" y="2848"/>
                  </a:lnTo>
                  <a:lnTo>
                    <a:pt x="1116" y="2838"/>
                  </a:lnTo>
                  <a:lnTo>
                    <a:pt x="1100" y="2834"/>
                  </a:lnTo>
                  <a:lnTo>
                    <a:pt x="1084" y="2830"/>
                  </a:lnTo>
                  <a:lnTo>
                    <a:pt x="1084" y="2830"/>
                  </a:lnTo>
                  <a:close/>
                  <a:moveTo>
                    <a:pt x="996" y="1478"/>
                  </a:moveTo>
                  <a:lnTo>
                    <a:pt x="996" y="1478"/>
                  </a:lnTo>
                  <a:lnTo>
                    <a:pt x="1000" y="1480"/>
                  </a:lnTo>
                  <a:lnTo>
                    <a:pt x="1002" y="1482"/>
                  </a:lnTo>
                  <a:lnTo>
                    <a:pt x="1004" y="1494"/>
                  </a:lnTo>
                  <a:lnTo>
                    <a:pt x="1006" y="1530"/>
                  </a:lnTo>
                  <a:lnTo>
                    <a:pt x="1008" y="1550"/>
                  </a:lnTo>
                  <a:lnTo>
                    <a:pt x="1012" y="1568"/>
                  </a:lnTo>
                  <a:lnTo>
                    <a:pt x="1016" y="1576"/>
                  </a:lnTo>
                  <a:lnTo>
                    <a:pt x="1022" y="1584"/>
                  </a:lnTo>
                  <a:lnTo>
                    <a:pt x="1030" y="1590"/>
                  </a:lnTo>
                  <a:lnTo>
                    <a:pt x="1038" y="1596"/>
                  </a:lnTo>
                  <a:lnTo>
                    <a:pt x="1038" y="1596"/>
                  </a:lnTo>
                  <a:lnTo>
                    <a:pt x="1026" y="1594"/>
                  </a:lnTo>
                  <a:lnTo>
                    <a:pt x="1016" y="1592"/>
                  </a:lnTo>
                  <a:lnTo>
                    <a:pt x="1006" y="1588"/>
                  </a:lnTo>
                  <a:lnTo>
                    <a:pt x="998" y="1582"/>
                  </a:lnTo>
                  <a:lnTo>
                    <a:pt x="992" y="1574"/>
                  </a:lnTo>
                  <a:lnTo>
                    <a:pt x="986" y="1566"/>
                  </a:lnTo>
                  <a:lnTo>
                    <a:pt x="982" y="1558"/>
                  </a:lnTo>
                  <a:lnTo>
                    <a:pt x="978" y="1548"/>
                  </a:lnTo>
                  <a:lnTo>
                    <a:pt x="976" y="1538"/>
                  </a:lnTo>
                  <a:lnTo>
                    <a:pt x="976" y="1530"/>
                  </a:lnTo>
                  <a:lnTo>
                    <a:pt x="976" y="1520"/>
                  </a:lnTo>
                  <a:lnTo>
                    <a:pt x="978" y="1510"/>
                  </a:lnTo>
                  <a:lnTo>
                    <a:pt x="980" y="1500"/>
                  </a:lnTo>
                  <a:lnTo>
                    <a:pt x="984" y="1492"/>
                  </a:lnTo>
                  <a:lnTo>
                    <a:pt x="990" y="1484"/>
                  </a:lnTo>
                  <a:lnTo>
                    <a:pt x="996" y="1478"/>
                  </a:lnTo>
                  <a:lnTo>
                    <a:pt x="996" y="1478"/>
                  </a:lnTo>
                  <a:close/>
                  <a:moveTo>
                    <a:pt x="920" y="1018"/>
                  </a:moveTo>
                  <a:lnTo>
                    <a:pt x="920" y="1018"/>
                  </a:lnTo>
                  <a:lnTo>
                    <a:pt x="926" y="1008"/>
                  </a:lnTo>
                  <a:lnTo>
                    <a:pt x="934" y="1002"/>
                  </a:lnTo>
                  <a:lnTo>
                    <a:pt x="942" y="996"/>
                  </a:lnTo>
                  <a:lnTo>
                    <a:pt x="950" y="996"/>
                  </a:lnTo>
                  <a:lnTo>
                    <a:pt x="958" y="996"/>
                  </a:lnTo>
                  <a:lnTo>
                    <a:pt x="964" y="1002"/>
                  </a:lnTo>
                  <a:lnTo>
                    <a:pt x="968" y="1008"/>
                  </a:lnTo>
                  <a:lnTo>
                    <a:pt x="968" y="1018"/>
                  </a:lnTo>
                  <a:lnTo>
                    <a:pt x="968" y="1018"/>
                  </a:lnTo>
                  <a:lnTo>
                    <a:pt x="962" y="1044"/>
                  </a:lnTo>
                  <a:lnTo>
                    <a:pt x="962" y="1054"/>
                  </a:lnTo>
                  <a:lnTo>
                    <a:pt x="962" y="1064"/>
                  </a:lnTo>
                  <a:lnTo>
                    <a:pt x="964" y="1072"/>
                  </a:lnTo>
                  <a:lnTo>
                    <a:pt x="968" y="1078"/>
                  </a:lnTo>
                  <a:lnTo>
                    <a:pt x="972" y="1084"/>
                  </a:lnTo>
                  <a:lnTo>
                    <a:pt x="976" y="1088"/>
                  </a:lnTo>
                  <a:lnTo>
                    <a:pt x="990" y="1094"/>
                  </a:lnTo>
                  <a:lnTo>
                    <a:pt x="1006" y="1100"/>
                  </a:lnTo>
                  <a:lnTo>
                    <a:pt x="1026" y="1106"/>
                  </a:lnTo>
                  <a:lnTo>
                    <a:pt x="1046" y="1114"/>
                  </a:lnTo>
                  <a:lnTo>
                    <a:pt x="1046" y="1114"/>
                  </a:lnTo>
                  <a:lnTo>
                    <a:pt x="1020" y="1124"/>
                  </a:lnTo>
                  <a:lnTo>
                    <a:pt x="998" y="1130"/>
                  </a:lnTo>
                  <a:lnTo>
                    <a:pt x="980" y="1132"/>
                  </a:lnTo>
                  <a:lnTo>
                    <a:pt x="964" y="1132"/>
                  </a:lnTo>
                  <a:lnTo>
                    <a:pt x="950" y="1130"/>
                  </a:lnTo>
                  <a:lnTo>
                    <a:pt x="938" y="1124"/>
                  </a:lnTo>
                  <a:lnTo>
                    <a:pt x="930" y="1116"/>
                  </a:lnTo>
                  <a:lnTo>
                    <a:pt x="922" y="1108"/>
                  </a:lnTo>
                  <a:lnTo>
                    <a:pt x="918" y="1098"/>
                  </a:lnTo>
                  <a:lnTo>
                    <a:pt x="914" y="1086"/>
                  </a:lnTo>
                  <a:lnTo>
                    <a:pt x="912" y="1074"/>
                  </a:lnTo>
                  <a:lnTo>
                    <a:pt x="912" y="1062"/>
                  </a:lnTo>
                  <a:lnTo>
                    <a:pt x="914" y="1038"/>
                  </a:lnTo>
                  <a:lnTo>
                    <a:pt x="920" y="1018"/>
                  </a:lnTo>
                  <a:lnTo>
                    <a:pt x="920" y="1018"/>
                  </a:lnTo>
                  <a:close/>
                  <a:moveTo>
                    <a:pt x="1148" y="86"/>
                  </a:moveTo>
                  <a:lnTo>
                    <a:pt x="1148" y="86"/>
                  </a:lnTo>
                  <a:lnTo>
                    <a:pt x="1138" y="74"/>
                  </a:lnTo>
                  <a:lnTo>
                    <a:pt x="1128" y="64"/>
                  </a:lnTo>
                  <a:lnTo>
                    <a:pt x="1116" y="58"/>
                  </a:lnTo>
                  <a:lnTo>
                    <a:pt x="1102" y="52"/>
                  </a:lnTo>
                  <a:lnTo>
                    <a:pt x="1088" y="50"/>
                  </a:lnTo>
                  <a:lnTo>
                    <a:pt x="1074" y="50"/>
                  </a:lnTo>
                  <a:lnTo>
                    <a:pt x="1060" y="52"/>
                  </a:lnTo>
                  <a:lnTo>
                    <a:pt x="1048" y="56"/>
                  </a:lnTo>
                  <a:lnTo>
                    <a:pt x="1048" y="56"/>
                  </a:lnTo>
                  <a:lnTo>
                    <a:pt x="1050" y="48"/>
                  </a:lnTo>
                  <a:lnTo>
                    <a:pt x="1054" y="40"/>
                  </a:lnTo>
                  <a:lnTo>
                    <a:pt x="1060" y="34"/>
                  </a:lnTo>
                  <a:lnTo>
                    <a:pt x="1068" y="30"/>
                  </a:lnTo>
                  <a:lnTo>
                    <a:pt x="1074" y="28"/>
                  </a:lnTo>
                  <a:lnTo>
                    <a:pt x="1084" y="26"/>
                  </a:lnTo>
                  <a:lnTo>
                    <a:pt x="1092" y="26"/>
                  </a:lnTo>
                  <a:lnTo>
                    <a:pt x="1100" y="26"/>
                  </a:lnTo>
                  <a:lnTo>
                    <a:pt x="1108" y="28"/>
                  </a:lnTo>
                  <a:lnTo>
                    <a:pt x="1118" y="32"/>
                  </a:lnTo>
                  <a:lnTo>
                    <a:pt x="1126" y="38"/>
                  </a:lnTo>
                  <a:lnTo>
                    <a:pt x="1132" y="44"/>
                  </a:lnTo>
                  <a:lnTo>
                    <a:pt x="1138" y="54"/>
                  </a:lnTo>
                  <a:lnTo>
                    <a:pt x="1144" y="62"/>
                  </a:lnTo>
                  <a:lnTo>
                    <a:pt x="1146" y="74"/>
                  </a:lnTo>
                  <a:lnTo>
                    <a:pt x="1148" y="86"/>
                  </a:lnTo>
                  <a:lnTo>
                    <a:pt x="1148" y="86"/>
                  </a:lnTo>
                  <a:close/>
                  <a:moveTo>
                    <a:pt x="1026" y="850"/>
                  </a:moveTo>
                  <a:lnTo>
                    <a:pt x="1026" y="850"/>
                  </a:lnTo>
                  <a:lnTo>
                    <a:pt x="1018" y="832"/>
                  </a:lnTo>
                  <a:lnTo>
                    <a:pt x="1010" y="814"/>
                  </a:lnTo>
                  <a:lnTo>
                    <a:pt x="1000" y="798"/>
                  </a:lnTo>
                  <a:lnTo>
                    <a:pt x="988" y="782"/>
                  </a:lnTo>
                  <a:lnTo>
                    <a:pt x="972" y="768"/>
                  </a:lnTo>
                  <a:lnTo>
                    <a:pt x="952" y="754"/>
                  </a:lnTo>
                  <a:lnTo>
                    <a:pt x="928" y="742"/>
                  </a:lnTo>
                  <a:lnTo>
                    <a:pt x="902" y="730"/>
                  </a:lnTo>
                  <a:lnTo>
                    <a:pt x="902" y="730"/>
                  </a:lnTo>
                  <a:lnTo>
                    <a:pt x="920" y="732"/>
                  </a:lnTo>
                  <a:lnTo>
                    <a:pt x="938" y="734"/>
                  </a:lnTo>
                  <a:lnTo>
                    <a:pt x="954" y="738"/>
                  </a:lnTo>
                  <a:lnTo>
                    <a:pt x="970" y="744"/>
                  </a:lnTo>
                  <a:lnTo>
                    <a:pt x="984" y="750"/>
                  </a:lnTo>
                  <a:lnTo>
                    <a:pt x="996" y="756"/>
                  </a:lnTo>
                  <a:lnTo>
                    <a:pt x="1008" y="764"/>
                  </a:lnTo>
                  <a:lnTo>
                    <a:pt x="1018" y="772"/>
                  </a:lnTo>
                  <a:lnTo>
                    <a:pt x="1026" y="780"/>
                  </a:lnTo>
                  <a:lnTo>
                    <a:pt x="1032" y="790"/>
                  </a:lnTo>
                  <a:lnTo>
                    <a:pt x="1036" y="798"/>
                  </a:lnTo>
                  <a:lnTo>
                    <a:pt x="1040" y="808"/>
                  </a:lnTo>
                  <a:lnTo>
                    <a:pt x="1040" y="818"/>
                  </a:lnTo>
                  <a:lnTo>
                    <a:pt x="1038" y="830"/>
                  </a:lnTo>
                  <a:lnTo>
                    <a:pt x="1032" y="840"/>
                  </a:lnTo>
                  <a:lnTo>
                    <a:pt x="1026" y="850"/>
                  </a:lnTo>
                  <a:lnTo>
                    <a:pt x="1026" y="850"/>
                  </a:lnTo>
                  <a:close/>
                  <a:moveTo>
                    <a:pt x="816" y="508"/>
                  </a:moveTo>
                  <a:lnTo>
                    <a:pt x="816" y="508"/>
                  </a:lnTo>
                  <a:lnTo>
                    <a:pt x="812" y="524"/>
                  </a:lnTo>
                  <a:lnTo>
                    <a:pt x="810" y="542"/>
                  </a:lnTo>
                  <a:lnTo>
                    <a:pt x="812" y="560"/>
                  </a:lnTo>
                  <a:lnTo>
                    <a:pt x="816" y="578"/>
                  </a:lnTo>
                  <a:lnTo>
                    <a:pt x="822" y="594"/>
                  </a:lnTo>
                  <a:lnTo>
                    <a:pt x="832" y="610"/>
                  </a:lnTo>
                  <a:lnTo>
                    <a:pt x="842" y="622"/>
                  </a:lnTo>
                  <a:lnTo>
                    <a:pt x="854" y="632"/>
                  </a:lnTo>
                  <a:lnTo>
                    <a:pt x="854" y="632"/>
                  </a:lnTo>
                  <a:lnTo>
                    <a:pt x="842" y="630"/>
                  </a:lnTo>
                  <a:lnTo>
                    <a:pt x="830" y="626"/>
                  </a:lnTo>
                  <a:lnTo>
                    <a:pt x="820" y="622"/>
                  </a:lnTo>
                  <a:lnTo>
                    <a:pt x="810" y="616"/>
                  </a:lnTo>
                  <a:lnTo>
                    <a:pt x="802" y="608"/>
                  </a:lnTo>
                  <a:lnTo>
                    <a:pt x="796" y="600"/>
                  </a:lnTo>
                  <a:lnTo>
                    <a:pt x="790" y="592"/>
                  </a:lnTo>
                  <a:lnTo>
                    <a:pt x="786" y="584"/>
                  </a:lnTo>
                  <a:lnTo>
                    <a:pt x="784" y="574"/>
                  </a:lnTo>
                  <a:lnTo>
                    <a:pt x="782" y="564"/>
                  </a:lnTo>
                  <a:lnTo>
                    <a:pt x="784" y="554"/>
                  </a:lnTo>
                  <a:lnTo>
                    <a:pt x="786" y="544"/>
                  </a:lnTo>
                  <a:lnTo>
                    <a:pt x="790" y="534"/>
                  </a:lnTo>
                  <a:lnTo>
                    <a:pt x="796" y="526"/>
                  </a:lnTo>
                  <a:lnTo>
                    <a:pt x="806" y="516"/>
                  </a:lnTo>
                  <a:lnTo>
                    <a:pt x="816" y="508"/>
                  </a:lnTo>
                  <a:lnTo>
                    <a:pt x="816" y="508"/>
                  </a:lnTo>
                  <a:close/>
                  <a:moveTo>
                    <a:pt x="420" y="1834"/>
                  </a:moveTo>
                  <a:lnTo>
                    <a:pt x="420" y="1834"/>
                  </a:lnTo>
                  <a:lnTo>
                    <a:pt x="412" y="1824"/>
                  </a:lnTo>
                  <a:lnTo>
                    <a:pt x="406" y="1810"/>
                  </a:lnTo>
                  <a:lnTo>
                    <a:pt x="402" y="1796"/>
                  </a:lnTo>
                  <a:lnTo>
                    <a:pt x="400" y="1782"/>
                  </a:lnTo>
                  <a:lnTo>
                    <a:pt x="400" y="1768"/>
                  </a:lnTo>
                  <a:lnTo>
                    <a:pt x="400" y="1754"/>
                  </a:lnTo>
                  <a:lnTo>
                    <a:pt x="402" y="1728"/>
                  </a:lnTo>
                  <a:lnTo>
                    <a:pt x="402" y="1728"/>
                  </a:lnTo>
                  <a:lnTo>
                    <a:pt x="394" y="1728"/>
                  </a:lnTo>
                  <a:lnTo>
                    <a:pt x="386" y="1730"/>
                  </a:lnTo>
                  <a:lnTo>
                    <a:pt x="376" y="1732"/>
                  </a:lnTo>
                  <a:lnTo>
                    <a:pt x="368" y="1736"/>
                  </a:lnTo>
                  <a:lnTo>
                    <a:pt x="354" y="1748"/>
                  </a:lnTo>
                  <a:lnTo>
                    <a:pt x="342" y="1764"/>
                  </a:lnTo>
                  <a:lnTo>
                    <a:pt x="332" y="1784"/>
                  </a:lnTo>
                  <a:lnTo>
                    <a:pt x="326" y="1806"/>
                  </a:lnTo>
                  <a:lnTo>
                    <a:pt x="324" y="1832"/>
                  </a:lnTo>
                  <a:lnTo>
                    <a:pt x="326" y="1858"/>
                  </a:lnTo>
                  <a:lnTo>
                    <a:pt x="326" y="1858"/>
                  </a:lnTo>
                  <a:lnTo>
                    <a:pt x="318" y="1838"/>
                  </a:lnTo>
                  <a:lnTo>
                    <a:pt x="312" y="1814"/>
                  </a:lnTo>
                  <a:lnTo>
                    <a:pt x="310" y="1790"/>
                  </a:lnTo>
                  <a:lnTo>
                    <a:pt x="312" y="1764"/>
                  </a:lnTo>
                  <a:lnTo>
                    <a:pt x="314" y="1752"/>
                  </a:lnTo>
                  <a:lnTo>
                    <a:pt x="318" y="1740"/>
                  </a:lnTo>
                  <a:lnTo>
                    <a:pt x="324" y="1728"/>
                  </a:lnTo>
                  <a:lnTo>
                    <a:pt x="330" y="1716"/>
                  </a:lnTo>
                  <a:lnTo>
                    <a:pt x="340" y="1704"/>
                  </a:lnTo>
                  <a:lnTo>
                    <a:pt x="350" y="1694"/>
                  </a:lnTo>
                  <a:lnTo>
                    <a:pt x="362" y="1684"/>
                  </a:lnTo>
                  <a:lnTo>
                    <a:pt x="376" y="1676"/>
                  </a:lnTo>
                  <a:lnTo>
                    <a:pt x="376" y="1676"/>
                  </a:lnTo>
                  <a:lnTo>
                    <a:pt x="402" y="1662"/>
                  </a:lnTo>
                  <a:lnTo>
                    <a:pt x="430" y="1652"/>
                  </a:lnTo>
                  <a:lnTo>
                    <a:pt x="460" y="1646"/>
                  </a:lnTo>
                  <a:lnTo>
                    <a:pt x="490" y="1644"/>
                  </a:lnTo>
                  <a:lnTo>
                    <a:pt x="524" y="1644"/>
                  </a:lnTo>
                  <a:lnTo>
                    <a:pt x="560" y="1650"/>
                  </a:lnTo>
                  <a:lnTo>
                    <a:pt x="598" y="1658"/>
                  </a:lnTo>
                  <a:lnTo>
                    <a:pt x="638" y="1670"/>
                  </a:lnTo>
                  <a:lnTo>
                    <a:pt x="638" y="1670"/>
                  </a:lnTo>
                  <a:lnTo>
                    <a:pt x="606" y="1666"/>
                  </a:lnTo>
                  <a:lnTo>
                    <a:pt x="578" y="1662"/>
                  </a:lnTo>
                  <a:lnTo>
                    <a:pt x="552" y="1662"/>
                  </a:lnTo>
                  <a:lnTo>
                    <a:pt x="530" y="1664"/>
                  </a:lnTo>
                  <a:lnTo>
                    <a:pt x="510" y="1666"/>
                  </a:lnTo>
                  <a:lnTo>
                    <a:pt x="494" y="1672"/>
                  </a:lnTo>
                  <a:lnTo>
                    <a:pt x="480" y="1680"/>
                  </a:lnTo>
                  <a:lnTo>
                    <a:pt x="468" y="1690"/>
                  </a:lnTo>
                  <a:lnTo>
                    <a:pt x="458" y="1702"/>
                  </a:lnTo>
                  <a:lnTo>
                    <a:pt x="448" y="1716"/>
                  </a:lnTo>
                  <a:lnTo>
                    <a:pt x="442" y="1730"/>
                  </a:lnTo>
                  <a:lnTo>
                    <a:pt x="436" y="1748"/>
                  </a:lnTo>
                  <a:lnTo>
                    <a:pt x="430" y="1768"/>
                  </a:lnTo>
                  <a:lnTo>
                    <a:pt x="426" y="1788"/>
                  </a:lnTo>
                  <a:lnTo>
                    <a:pt x="420" y="1834"/>
                  </a:lnTo>
                  <a:lnTo>
                    <a:pt x="420" y="1834"/>
                  </a:lnTo>
                  <a:close/>
                  <a:moveTo>
                    <a:pt x="768" y="2050"/>
                  </a:moveTo>
                  <a:lnTo>
                    <a:pt x="768" y="2050"/>
                  </a:lnTo>
                  <a:lnTo>
                    <a:pt x="776" y="2038"/>
                  </a:lnTo>
                  <a:lnTo>
                    <a:pt x="780" y="2026"/>
                  </a:lnTo>
                  <a:lnTo>
                    <a:pt x="784" y="2012"/>
                  </a:lnTo>
                  <a:lnTo>
                    <a:pt x="784" y="1998"/>
                  </a:lnTo>
                  <a:lnTo>
                    <a:pt x="782" y="1984"/>
                  </a:lnTo>
                  <a:lnTo>
                    <a:pt x="778" y="1970"/>
                  </a:lnTo>
                  <a:lnTo>
                    <a:pt x="770" y="1956"/>
                  </a:lnTo>
                  <a:lnTo>
                    <a:pt x="760" y="1946"/>
                  </a:lnTo>
                  <a:lnTo>
                    <a:pt x="760" y="1946"/>
                  </a:lnTo>
                  <a:lnTo>
                    <a:pt x="772" y="1950"/>
                  </a:lnTo>
                  <a:lnTo>
                    <a:pt x="782" y="1956"/>
                  </a:lnTo>
                  <a:lnTo>
                    <a:pt x="790" y="1962"/>
                  </a:lnTo>
                  <a:lnTo>
                    <a:pt x="798" y="1970"/>
                  </a:lnTo>
                  <a:lnTo>
                    <a:pt x="802" y="1978"/>
                  </a:lnTo>
                  <a:lnTo>
                    <a:pt x="806" y="1986"/>
                  </a:lnTo>
                  <a:lnTo>
                    <a:pt x="808" y="1996"/>
                  </a:lnTo>
                  <a:lnTo>
                    <a:pt x="808" y="2004"/>
                  </a:lnTo>
                  <a:lnTo>
                    <a:pt x="808" y="2014"/>
                  </a:lnTo>
                  <a:lnTo>
                    <a:pt x="806" y="2022"/>
                  </a:lnTo>
                  <a:lnTo>
                    <a:pt x="802" y="2030"/>
                  </a:lnTo>
                  <a:lnTo>
                    <a:pt x="798" y="2036"/>
                  </a:lnTo>
                  <a:lnTo>
                    <a:pt x="792" y="2042"/>
                  </a:lnTo>
                  <a:lnTo>
                    <a:pt x="786" y="2046"/>
                  </a:lnTo>
                  <a:lnTo>
                    <a:pt x="778" y="2048"/>
                  </a:lnTo>
                  <a:lnTo>
                    <a:pt x="768" y="2050"/>
                  </a:lnTo>
                  <a:lnTo>
                    <a:pt x="768" y="2050"/>
                  </a:lnTo>
                  <a:close/>
                  <a:moveTo>
                    <a:pt x="1028" y="2162"/>
                  </a:moveTo>
                  <a:lnTo>
                    <a:pt x="1028" y="2162"/>
                  </a:lnTo>
                  <a:lnTo>
                    <a:pt x="1042" y="2160"/>
                  </a:lnTo>
                  <a:lnTo>
                    <a:pt x="1054" y="2160"/>
                  </a:lnTo>
                  <a:lnTo>
                    <a:pt x="1068" y="2164"/>
                  </a:lnTo>
                  <a:lnTo>
                    <a:pt x="1080" y="2168"/>
                  </a:lnTo>
                  <a:lnTo>
                    <a:pt x="1098" y="2178"/>
                  </a:lnTo>
                  <a:lnTo>
                    <a:pt x="1106" y="2182"/>
                  </a:lnTo>
                  <a:lnTo>
                    <a:pt x="1106" y="2182"/>
                  </a:lnTo>
                  <a:lnTo>
                    <a:pt x="1086" y="2134"/>
                  </a:lnTo>
                  <a:lnTo>
                    <a:pt x="1080" y="2112"/>
                  </a:lnTo>
                  <a:lnTo>
                    <a:pt x="1074" y="2090"/>
                  </a:lnTo>
                  <a:lnTo>
                    <a:pt x="1070" y="2068"/>
                  </a:lnTo>
                  <a:lnTo>
                    <a:pt x="1070" y="2048"/>
                  </a:lnTo>
                  <a:lnTo>
                    <a:pt x="1072" y="2026"/>
                  </a:lnTo>
                  <a:lnTo>
                    <a:pt x="1078" y="2004"/>
                  </a:lnTo>
                  <a:lnTo>
                    <a:pt x="1078" y="2004"/>
                  </a:lnTo>
                  <a:lnTo>
                    <a:pt x="1088" y="2024"/>
                  </a:lnTo>
                  <a:lnTo>
                    <a:pt x="1098" y="2046"/>
                  </a:lnTo>
                  <a:lnTo>
                    <a:pt x="1108" y="2068"/>
                  </a:lnTo>
                  <a:lnTo>
                    <a:pt x="1116" y="2092"/>
                  </a:lnTo>
                  <a:lnTo>
                    <a:pt x="1130" y="2146"/>
                  </a:lnTo>
                  <a:lnTo>
                    <a:pt x="1142" y="2202"/>
                  </a:lnTo>
                  <a:lnTo>
                    <a:pt x="1148" y="2262"/>
                  </a:lnTo>
                  <a:lnTo>
                    <a:pt x="1150" y="2322"/>
                  </a:lnTo>
                  <a:lnTo>
                    <a:pt x="1150" y="2352"/>
                  </a:lnTo>
                  <a:lnTo>
                    <a:pt x="1150" y="2382"/>
                  </a:lnTo>
                  <a:lnTo>
                    <a:pt x="1146" y="2412"/>
                  </a:lnTo>
                  <a:lnTo>
                    <a:pt x="1142" y="2442"/>
                  </a:lnTo>
                  <a:lnTo>
                    <a:pt x="1142" y="2442"/>
                  </a:lnTo>
                  <a:lnTo>
                    <a:pt x="1138" y="2392"/>
                  </a:lnTo>
                  <a:lnTo>
                    <a:pt x="1128" y="2344"/>
                  </a:lnTo>
                  <a:lnTo>
                    <a:pt x="1116" y="2302"/>
                  </a:lnTo>
                  <a:lnTo>
                    <a:pt x="1102" y="2264"/>
                  </a:lnTo>
                  <a:lnTo>
                    <a:pt x="1084" y="2230"/>
                  </a:lnTo>
                  <a:lnTo>
                    <a:pt x="1066" y="2202"/>
                  </a:lnTo>
                  <a:lnTo>
                    <a:pt x="1048" y="2180"/>
                  </a:lnTo>
                  <a:lnTo>
                    <a:pt x="1028" y="2162"/>
                  </a:lnTo>
                  <a:lnTo>
                    <a:pt x="1028" y="2162"/>
                  </a:lnTo>
                  <a:close/>
                  <a:moveTo>
                    <a:pt x="442" y="2512"/>
                  </a:moveTo>
                  <a:lnTo>
                    <a:pt x="442" y="2512"/>
                  </a:lnTo>
                  <a:lnTo>
                    <a:pt x="442" y="2498"/>
                  </a:lnTo>
                  <a:lnTo>
                    <a:pt x="442" y="2488"/>
                  </a:lnTo>
                  <a:lnTo>
                    <a:pt x="444" y="2478"/>
                  </a:lnTo>
                  <a:lnTo>
                    <a:pt x="448" y="2470"/>
                  </a:lnTo>
                  <a:lnTo>
                    <a:pt x="452" y="2464"/>
                  </a:lnTo>
                  <a:lnTo>
                    <a:pt x="458" y="2460"/>
                  </a:lnTo>
                  <a:lnTo>
                    <a:pt x="464" y="2456"/>
                  </a:lnTo>
                  <a:lnTo>
                    <a:pt x="470" y="2454"/>
                  </a:lnTo>
                  <a:lnTo>
                    <a:pt x="484" y="2454"/>
                  </a:lnTo>
                  <a:lnTo>
                    <a:pt x="498" y="2458"/>
                  </a:lnTo>
                  <a:lnTo>
                    <a:pt x="508" y="2466"/>
                  </a:lnTo>
                  <a:lnTo>
                    <a:pt x="510" y="2470"/>
                  </a:lnTo>
                  <a:lnTo>
                    <a:pt x="512" y="2476"/>
                  </a:lnTo>
                  <a:lnTo>
                    <a:pt x="512" y="2476"/>
                  </a:lnTo>
                  <a:lnTo>
                    <a:pt x="520" y="2500"/>
                  </a:lnTo>
                  <a:lnTo>
                    <a:pt x="524" y="2510"/>
                  </a:lnTo>
                  <a:lnTo>
                    <a:pt x="530" y="2518"/>
                  </a:lnTo>
                  <a:lnTo>
                    <a:pt x="536" y="2522"/>
                  </a:lnTo>
                  <a:lnTo>
                    <a:pt x="540" y="2526"/>
                  </a:lnTo>
                  <a:lnTo>
                    <a:pt x="548" y="2528"/>
                  </a:lnTo>
                  <a:lnTo>
                    <a:pt x="554" y="2530"/>
                  </a:lnTo>
                  <a:lnTo>
                    <a:pt x="568" y="2528"/>
                  </a:lnTo>
                  <a:lnTo>
                    <a:pt x="586" y="2524"/>
                  </a:lnTo>
                  <a:lnTo>
                    <a:pt x="604" y="2518"/>
                  </a:lnTo>
                  <a:lnTo>
                    <a:pt x="626" y="2512"/>
                  </a:lnTo>
                  <a:lnTo>
                    <a:pt x="626" y="2512"/>
                  </a:lnTo>
                  <a:lnTo>
                    <a:pt x="608" y="2536"/>
                  </a:lnTo>
                  <a:lnTo>
                    <a:pt x="592" y="2552"/>
                  </a:lnTo>
                  <a:lnTo>
                    <a:pt x="574" y="2566"/>
                  </a:lnTo>
                  <a:lnTo>
                    <a:pt x="558" y="2576"/>
                  </a:lnTo>
                  <a:lnTo>
                    <a:pt x="544" y="2582"/>
                  </a:lnTo>
                  <a:lnTo>
                    <a:pt x="528" y="2584"/>
                  </a:lnTo>
                  <a:lnTo>
                    <a:pt x="516" y="2584"/>
                  </a:lnTo>
                  <a:lnTo>
                    <a:pt x="502" y="2580"/>
                  </a:lnTo>
                  <a:lnTo>
                    <a:pt x="490" y="2576"/>
                  </a:lnTo>
                  <a:lnTo>
                    <a:pt x="480" y="2570"/>
                  </a:lnTo>
                  <a:lnTo>
                    <a:pt x="470" y="2560"/>
                  </a:lnTo>
                  <a:lnTo>
                    <a:pt x="462" y="2552"/>
                  </a:lnTo>
                  <a:lnTo>
                    <a:pt x="454" y="2542"/>
                  </a:lnTo>
                  <a:lnTo>
                    <a:pt x="450" y="2532"/>
                  </a:lnTo>
                  <a:lnTo>
                    <a:pt x="446" y="2522"/>
                  </a:lnTo>
                  <a:lnTo>
                    <a:pt x="442" y="2512"/>
                  </a:lnTo>
                  <a:lnTo>
                    <a:pt x="442" y="2512"/>
                  </a:lnTo>
                  <a:close/>
                  <a:moveTo>
                    <a:pt x="514" y="2920"/>
                  </a:moveTo>
                  <a:lnTo>
                    <a:pt x="462" y="2910"/>
                  </a:lnTo>
                  <a:lnTo>
                    <a:pt x="462" y="2910"/>
                  </a:lnTo>
                  <a:lnTo>
                    <a:pt x="464" y="2904"/>
                  </a:lnTo>
                  <a:lnTo>
                    <a:pt x="464" y="2898"/>
                  </a:lnTo>
                  <a:lnTo>
                    <a:pt x="464" y="2892"/>
                  </a:lnTo>
                  <a:lnTo>
                    <a:pt x="460" y="2886"/>
                  </a:lnTo>
                  <a:lnTo>
                    <a:pt x="456" y="2878"/>
                  </a:lnTo>
                  <a:lnTo>
                    <a:pt x="450" y="2870"/>
                  </a:lnTo>
                  <a:lnTo>
                    <a:pt x="432" y="2852"/>
                  </a:lnTo>
                  <a:lnTo>
                    <a:pt x="432" y="2852"/>
                  </a:lnTo>
                  <a:lnTo>
                    <a:pt x="422" y="2844"/>
                  </a:lnTo>
                  <a:lnTo>
                    <a:pt x="418" y="2836"/>
                  </a:lnTo>
                  <a:lnTo>
                    <a:pt x="412" y="2822"/>
                  </a:lnTo>
                  <a:lnTo>
                    <a:pt x="408" y="2816"/>
                  </a:lnTo>
                  <a:lnTo>
                    <a:pt x="404" y="2808"/>
                  </a:lnTo>
                  <a:lnTo>
                    <a:pt x="396" y="2800"/>
                  </a:lnTo>
                  <a:lnTo>
                    <a:pt x="384" y="2790"/>
                  </a:lnTo>
                  <a:lnTo>
                    <a:pt x="384" y="2790"/>
                  </a:lnTo>
                  <a:lnTo>
                    <a:pt x="408" y="2804"/>
                  </a:lnTo>
                  <a:lnTo>
                    <a:pt x="432" y="2822"/>
                  </a:lnTo>
                  <a:lnTo>
                    <a:pt x="456" y="2840"/>
                  </a:lnTo>
                  <a:lnTo>
                    <a:pt x="468" y="2846"/>
                  </a:lnTo>
                  <a:lnTo>
                    <a:pt x="480" y="2852"/>
                  </a:lnTo>
                  <a:lnTo>
                    <a:pt x="480" y="2852"/>
                  </a:lnTo>
                  <a:lnTo>
                    <a:pt x="492" y="2858"/>
                  </a:lnTo>
                  <a:lnTo>
                    <a:pt x="504" y="2864"/>
                  </a:lnTo>
                  <a:lnTo>
                    <a:pt x="514" y="2874"/>
                  </a:lnTo>
                  <a:lnTo>
                    <a:pt x="520" y="2884"/>
                  </a:lnTo>
                  <a:lnTo>
                    <a:pt x="526" y="2894"/>
                  </a:lnTo>
                  <a:lnTo>
                    <a:pt x="526" y="2904"/>
                  </a:lnTo>
                  <a:lnTo>
                    <a:pt x="526" y="2908"/>
                  </a:lnTo>
                  <a:lnTo>
                    <a:pt x="524" y="2912"/>
                  </a:lnTo>
                  <a:lnTo>
                    <a:pt x="520" y="2916"/>
                  </a:lnTo>
                  <a:lnTo>
                    <a:pt x="514" y="2920"/>
                  </a:lnTo>
                  <a:lnTo>
                    <a:pt x="514" y="2920"/>
                  </a:lnTo>
                  <a:close/>
                  <a:moveTo>
                    <a:pt x="648" y="2872"/>
                  </a:moveTo>
                  <a:lnTo>
                    <a:pt x="648" y="2872"/>
                  </a:lnTo>
                  <a:lnTo>
                    <a:pt x="628" y="2886"/>
                  </a:lnTo>
                  <a:lnTo>
                    <a:pt x="620" y="2892"/>
                  </a:lnTo>
                  <a:lnTo>
                    <a:pt x="616" y="2900"/>
                  </a:lnTo>
                  <a:lnTo>
                    <a:pt x="612" y="2906"/>
                  </a:lnTo>
                  <a:lnTo>
                    <a:pt x="610" y="2912"/>
                  </a:lnTo>
                  <a:lnTo>
                    <a:pt x="612" y="2924"/>
                  </a:lnTo>
                  <a:lnTo>
                    <a:pt x="558" y="2922"/>
                  </a:lnTo>
                  <a:lnTo>
                    <a:pt x="558" y="2922"/>
                  </a:lnTo>
                  <a:lnTo>
                    <a:pt x="554" y="2918"/>
                  </a:lnTo>
                  <a:lnTo>
                    <a:pt x="550" y="2912"/>
                  </a:lnTo>
                  <a:lnTo>
                    <a:pt x="548" y="2908"/>
                  </a:lnTo>
                  <a:lnTo>
                    <a:pt x="548" y="2904"/>
                  </a:lnTo>
                  <a:lnTo>
                    <a:pt x="550" y="2894"/>
                  </a:lnTo>
                  <a:lnTo>
                    <a:pt x="556" y="2884"/>
                  </a:lnTo>
                  <a:lnTo>
                    <a:pt x="566" y="2876"/>
                  </a:lnTo>
                  <a:lnTo>
                    <a:pt x="576" y="2870"/>
                  </a:lnTo>
                  <a:lnTo>
                    <a:pt x="588" y="2866"/>
                  </a:lnTo>
                  <a:lnTo>
                    <a:pt x="600" y="2862"/>
                  </a:lnTo>
                  <a:lnTo>
                    <a:pt x="600" y="2862"/>
                  </a:lnTo>
                  <a:lnTo>
                    <a:pt x="626" y="2856"/>
                  </a:lnTo>
                  <a:lnTo>
                    <a:pt x="652" y="2848"/>
                  </a:lnTo>
                  <a:lnTo>
                    <a:pt x="704" y="2828"/>
                  </a:lnTo>
                  <a:lnTo>
                    <a:pt x="704" y="2828"/>
                  </a:lnTo>
                  <a:lnTo>
                    <a:pt x="682" y="2842"/>
                  </a:lnTo>
                  <a:lnTo>
                    <a:pt x="672" y="2852"/>
                  </a:lnTo>
                  <a:lnTo>
                    <a:pt x="664" y="2860"/>
                  </a:lnTo>
                  <a:lnTo>
                    <a:pt x="658" y="2866"/>
                  </a:lnTo>
                  <a:lnTo>
                    <a:pt x="648" y="2872"/>
                  </a:lnTo>
                  <a:lnTo>
                    <a:pt x="648" y="2872"/>
                  </a:lnTo>
                  <a:close/>
                  <a:moveTo>
                    <a:pt x="1082" y="2994"/>
                  </a:moveTo>
                  <a:lnTo>
                    <a:pt x="1082" y="2994"/>
                  </a:lnTo>
                  <a:lnTo>
                    <a:pt x="1082" y="2990"/>
                  </a:lnTo>
                  <a:lnTo>
                    <a:pt x="1086" y="2988"/>
                  </a:lnTo>
                  <a:lnTo>
                    <a:pt x="1094" y="2984"/>
                  </a:lnTo>
                  <a:lnTo>
                    <a:pt x="1120" y="2980"/>
                  </a:lnTo>
                  <a:lnTo>
                    <a:pt x="1136" y="2978"/>
                  </a:lnTo>
                  <a:lnTo>
                    <a:pt x="1150" y="2972"/>
                  </a:lnTo>
                  <a:lnTo>
                    <a:pt x="1156" y="2966"/>
                  </a:lnTo>
                  <a:lnTo>
                    <a:pt x="1162" y="2960"/>
                  </a:lnTo>
                  <a:lnTo>
                    <a:pt x="1166" y="2954"/>
                  </a:lnTo>
                  <a:lnTo>
                    <a:pt x="1170" y="2946"/>
                  </a:lnTo>
                  <a:lnTo>
                    <a:pt x="1170" y="2946"/>
                  </a:lnTo>
                  <a:lnTo>
                    <a:pt x="1168" y="2956"/>
                  </a:lnTo>
                  <a:lnTo>
                    <a:pt x="1166" y="2966"/>
                  </a:lnTo>
                  <a:lnTo>
                    <a:pt x="1164" y="2976"/>
                  </a:lnTo>
                  <a:lnTo>
                    <a:pt x="1160" y="2984"/>
                  </a:lnTo>
                  <a:lnTo>
                    <a:pt x="1154" y="2990"/>
                  </a:lnTo>
                  <a:lnTo>
                    <a:pt x="1148" y="2996"/>
                  </a:lnTo>
                  <a:lnTo>
                    <a:pt x="1136" y="3006"/>
                  </a:lnTo>
                  <a:lnTo>
                    <a:pt x="1122" y="3010"/>
                  </a:lnTo>
                  <a:lnTo>
                    <a:pt x="1106" y="3010"/>
                  </a:lnTo>
                  <a:lnTo>
                    <a:pt x="1100" y="3008"/>
                  </a:lnTo>
                  <a:lnTo>
                    <a:pt x="1092" y="3004"/>
                  </a:lnTo>
                  <a:lnTo>
                    <a:pt x="1086" y="3000"/>
                  </a:lnTo>
                  <a:lnTo>
                    <a:pt x="1082" y="2994"/>
                  </a:lnTo>
                  <a:lnTo>
                    <a:pt x="1082" y="2994"/>
                  </a:lnTo>
                  <a:close/>
                </a:path>
              </a:pathLst>
            </a:custGeom>
            <a:solidFill>
              <a:srgbClr val="cabb8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グループ化 26"/>
          <p:cNvGrpSpPr/>
          <p:nvPr/>
        </p:nvGrpSpPr>
        <p:grpSpPr>
          <a:xfrm>
            <a:off x="376200" y="289080"/>
            <a:ext cx="5429160" cy="4848120"/>
            <a:chOff x="376200" y="289080"/>
            <a:chExt cx="5429160" cy="4848120"/>
          </a:xfrm>
        </p:grpSpPr>
        <p:sp>
          <p:nvSpPr>
            <p:cNvPr id="65" name="Freeform 25"/>
            <p:cNvSpPr/>
            <p:nvPr/>
          </p:nvSpPr>
          <p:spPr>
            <a:xfrm>
              <a:off x="3252600" y="1355760"/>
              <a:ext cx="431640" cy="4633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72" h="292">
                  <a:moveTo>
                    <a:pt x="4" y="190"/>
                  </a:moveTo>
                  <a:lnTo>
                    <a:pt x="4" y="190"/>
                  </a:lnTo>
                  <a:lnTo>
                    <a:pt x="14" y="218"/>
                  </a:lnTo>
                  <a:lnTo>
                    <a:pt x="24" y="244"/>
                  </a:lnTo>
                  <a:lnTo>
                    <a:pt x="32" y="256"/>
                  </a:lnTo>
                  <a:lnTo>
                    <a:pt x="40" y="268"/>
                  </a:lnTo>
                  <a:lnTo>
                    <a:pt x="52" y="280"/>
                  </a:lnTo>
                  <a:lnTo>
                    <a:pt x="66" y="292"/>
                  </a:lnTo>
                  <a:lnTo>
                    <a:pt x="66" y="292"/>
                  </a:lnTo>
                  <a:lnTo>
                    <a:pt x="82" y="260"/>
                  </a:lnTo>
                  <a:lnTo>
                    <a:pt x="94" y="236"/>
                  </a:lnTo>
                  <a:lnTo>
                    <a:pt x="94" y="236"/>
                  </a:lnTo>
                  <a:lnTo>
                    <a:pt x="108" y="242"/>
                  </a:lnTo>
                  <a:lnTo>
                    <a:pt x="122" y="244"/>
                  </a:lnTo>
                  <a:lnTo>
                    <a:pt x="136" y="244"/>
                  </a:lnTo>
                  <a:lnTo>
                    <a:pt x="148" y="242"/>
                  </a:lnTo>
                  <a:lnTo>
                    <a:pt x="160" y="240"/>
                  </a:lnTo>
                  <a:lnTo>
                    <a:pt x="170" y="234"/>
                  </a:lnTo>
                  <a:lnTo>
                    <a:pt x="178" y="228"/>
                  </a:lnTo>
                  <a:lnTo>
                    <a:pt x="186" y="222"/>
                  </a:lnTo>
                  <a:lnTo>
                    <a:pt x="192" y="212"/>
                  </a:lnTo>
                  <a:lnTo>
                    <a:pt x="198" y="202"/>
                  </a:lnTo>
                  <a:lnTo>
                    <a:pt x="200" y="192"/>
                  </a:lnTo>
                  <a:lnTo>
                    <a:pt x="200" y="180"/>
                  </a:lnTo>
                  <a:lnTo>
                    <a:pt x="198" y="166"/>
                  </a:lnTo>
                  <a:lnTo>
                    <a:pt x="194" y="152"/>
                  </a:lnTo>
                  <a:lnTo>
                    <a:pt x="188" y="138"/>
                  </a:lnTo>
                  <a:lnTo>
                    <a:pt x="178" y="124"/>
                  </a:lnTo>
                  <a:lnTo>
                    <a:pt x="178" y="124"/>
                  </a:lnTo>
                  <a:lnTo>
                    <a:pt x="174" y="140"/>
                  </a:lnTo>
                  <a:lnTo>
                    <a:pt x="168" y="150"/>
                  </a:lnTo>
                  <a:lnTo>
                    <a:pt x="160" y="156"/>
                  </a:lnTo>
                  <a:lnTo>
                    <a:pt x="150" y="156"/>
                  </a:lnTo>
                  <a:lnTo>
                    <a:pt x="140" y="156"/>
                  </a:lnTo>
                  <a:lnTo>
                    <a:pt x="130" y="150"/>
                  </a:lnTo>
                  <a:lnTo>
                    <a:pt x="120" y="142"/>
                  </a:lnTo>
                  <a:lnTo>
                    <a:pt x="110" y="134"/>
                  </a:lnTo>
                  <a:lnTo>
                    <a:pt x="104" y="122"/>
                  </a:lnTo>
                  <a:lnTo>
                    <a:pt x="98" y="110"/>
                  </a:lnTo>
                  <a:lnTo>
                    <a:pt x="98" y="98"/>
                  </a:lnTo>
                  <a:lnTo>
                    <a:pt x="100" y="86"/>
                  </a:lnTo>
                  <a:lnTo>
                    <a:pt x="106" y="74"/>
                  </a:lnTo>
                  <a:lnTo>
                    <a:pt x="118" y="64"/>
                  </a:lnTo>
                  <a:lnTo>
                    <a:pt x="136" y="56"/>
                  </a:lnTo>
                  <a:lnTo>
                    <a:pt x="160" y="48"/>
                  </a:lnTo>
                  <a:lnTo>
                    <a:pt x="160" y="48"/>
                  </a:lnTo>
                  <a:lnTo>
                    <a:pt x="168" y="48"/>
                  </a:lnTo>
                  <a:lnTo>
                    <a:pt x="178" y="48"/>
                  </a:lnTo>
                  <a:lnTo>
                    <a:pt x="188" y="48"/>
                  </a:lnTo>
                  <a:lnTo>
                    <a:pt x="196" y="52"/>
                  </a:lnTo>
                  <a:lnTo>
                    <a:pt x="204" y="56"/>
                  </a:lnTo>
                  <a:lnTo>
                    <a:pt x="212" y="60"/>
                  </a:lnTo>
                  <a:lnTo>
                    <a:pt x="220" y="66"/>
                  </a:lnTo>
                  <a:lnTo>
                    <a:pt x="228" y="74"/>
                  </a:lnTo>
                  <a:lnTo>
                    <a:pt x="234" y="82"/>
                  </a:lnTo>
                  <a:lnTo>
                    <a:pt x="238" y="92"/>
                  </a:lnTo>
                  <a:lnTo>
                    <a:pt x="244" y="102"/>
                  </a:lnTo>
                  <a:lnTo>
                    <a:pt x="248" y="114"/>
                  </a:lnTo>
                  <a:lnTo>
                    <a:pt x="250" y="126"/>
                  </a:lnTo>
                  <a:lnTo>
                    <a:pt x="252" y="140"/>
                  </a:lnTo>
                  <a:lnTo>
                    <a:pt x="252" y="154"/>
                  </a:lnTo>
                  <a:lnTo>
                    <a:pt x="250" y="170"/>
                  </a:lnTo>
                  <a:lnTo>
                    <a:pt x="250" y="170"/>
                  </a:lnTo>
                  <a:lnTo>
                    <a:pt x="260" y="158"/>
                  </a:lnTo>
                  <a:lnTo>
                    <a:pt x="268" y="144"/>
                  </a:lnTo>
                  <a:lnTo>
                    <a:pt x="272" y="128"/>
                  </a:lnTo>
                  <a:lnTo>
                    <a:pt x="272" y="110"/>
                  </a:lnTo>
                  <a:lnTo>
                    <a:pt x="270" y="92"/>
                  </a:lnTo>
                  <a:lnTo>
                    <a:pt x="266" y="74"/>
                  </a:lnTo>
                  <a:lnTo>
                    <a:pt x="260" y="58"/>
                  </a:lnTo>
                  <a:lnTo>
                    <a:pt x="250" y="42"/>
                  </a:lnTo>
                  <a:lnTo>
                    <a:pt x="250" y="42"/>
                  </a:lnTo>
                  <a:lnTo>
                    <a:pt x="244" y="36"/>
                  </a:lnTo>
                  <a:lnTo>
                    <a:pt x="238" y="30"/>
                  </a:lnTo>
                  <a:lnTo>
                    <a:pt x="220" y="18"/>
                  </a:lnTo>
                  <a:lnTo>
                    <a:pt x="200" y="10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52" y="0"/>
                  </a:lnTo>
                  <a:lnTo>
                    <a:pt x="126" y="2"/>
                  </a:lnTo>
                  <a:lnTo>
                    <a:pt x="102" y="10"/>
                  </a:lnTo>
                  <a:lnTo>
                    <a:pt x="80" y="20"/>
                  </a:lnTo>
                  <a:lnTo>
                    <a:pt x="58" y="34"/>
                  </a:lnTo>
                  <a:lnTo>
                    <a:pt x="38" y="50"/>
                  </a:lnTo>
                  <a:lnTo>
                    <a:pt x="20" y="72"/>
                  </a:lnTo>
                  <a:lnTo>
                    <a:pt x="6" y="94"/>
                  </a:lnTo>
                  <a:lnTo>
                    <a:pt x="6" y="94"/>
                  </a:lnTo>
                  <a:lnTo>
                    <a:pt x="4" y="102"/>
                  </a:lnTo>
                  <a:lnTo>
                    <a:pt x="2" y="114"/>
                  </a:lnTo>
                  <a:lnTo>
                    <a:pt x="0" y="140"/>
                  </a:lnTo>
                  <a:lnTo>
                    <a:pt x="0" y="170"/>
                  </a:lnTo>
                  <a:lnTo>
                    <a:pt x="2" y="180"/>
                  </a:lnTo>
                  <a:lnTo>
                    <a:pt x="4" y="190"/>
                  </a:lnTo>
                  <a:lnTo>
                    <a:pt x="4" y="190"/>
                  </a:lnTo>
                  <a:close/>
                  <a:moveTo>
                    <a:pt x="72" y="66"/>
                  </a:moveTo>
                  <a:lnTo>
                    <a:pt x="72" y="66"/>
                  </a:lnTo>
                  <a:lnTo>
                    <a:pt x="66" y="84"/>
                  </a:lnTo>
                  <a:lnTo>
                    <a:pt x="62" y="100"/>
                  </a:lnTo>
                  <a:lnTo>
                    <a:pt x="62" y="114"/>
                  </a:lnTo>
                  <a:lnTo>
                    <a:pt x="64" y="126"/>
                  </a:lnTo>
                  <a:lnTo>
                    <a:pt x="68" y="138"/>
                  </a:lnTo>
                  <a:lnTo>
                    <a:pt x="74" y="150"/>
                  </a:lnTo>
                  <a:lnTo>
                    <a:pt x="80" y="158"/>
                  </a:lnTo>
                  <a:lnTo>
                    <a:pt x="88" y="168"/>
                  </a:lnTo>
                  <a:lnTo>
                    <a:pt x="96" y="174"/>
                  </a:lnTo>
                  <a:lnTo>
                    <a:pt x="104" y="180"/>
                  </a:lnTo>
                  <a:lnTo>
                    <a:pt x="122" y="190"/>
                  </a:lnTo>
                  <a:lnTo>
                    <a:pt x="138" y="194"/>
                  </a:lnTo>
                  <a:lnTo>
                    <a:pt x="152" y="196"/>
                  </a:lnTo>
                  <a:lnTo>
                    <a:pt x="152" y="196"/>
                  </a:lnTo>
                  <a:lnTo>
                    <a:pt x="142" y="202"/>
                  </a:lnTo>
                  <a:lnTo>
                    <a:pt x="132" y="206"/>
                  </a:lnTo>
                  <a:lnTo>
                    <a:pt x="122" y="206"/>
                  </a:lnTo>
                  <a:lnTo>
                    <a:pt x="110" y="204"/>
                  </a:lnTo>
                  <a:lnTo>
                    <a:pt x="100" y="200"/>
                  </a:lnTo>
                  <a:lnTo>
                    <a:pt x="90" y="196"/>
                  </a:lnTo>
                  <a:lnTo>
                    <a:pt x="82" y="188"/>
                  </a:lnTo>
                  <a:lnTo>
                    <a:pt x="78" y="182"/>
                  </a:lnTo>
                  <a:lnTo>
                    <a:pt x="78" y="182"/>
                  </a:lnTo>
                  <a:lnTo>
                    <a:pt x="70" y="188"/>
                  </a:lnTo>
                  <a:lnTo>
                    <a:pt x="64" y="198"/>
                  </a:lnTo>
                  <a:lnTo>
                    <a:pt x="52" y="226"/>
                  </a:lnTo>
                  <a:lnTo>
                    <a:pt x="52" y="226"/>
                  </a:lnTo>
                  <a:lnTo>
                    <a:pt x="44" y="196"/>
                  </a:lnTo>
                  <a:lnTo>
                    <a:pt x="40" y="170"/>
                  </a:lnTo>
                  <a:lnTo>
                    <a:pt x="40" y="146"/>
                  </a:lnTo>
                  <a:lnTo>
                    <a:pt x="42" y="126"/>
                  </a:lnTo>
                  <a:lnTo>
                    <a:pt x="46" y="110"/>
                  </a:lnTo>
                  <a:lnTo>
                    <a:pt x="54" y="94"/>
                  </a:lnTo>
                  <a:lnTo>
                    <a:pt x="62" y="80"/>
                  </a:lnTo>
                  <a:lnTo>
                    <a:pt x="72" y="66"/>
                  </a:lnTo>
                  <a:lnTo>
                    <a:pt x="72" y="66"/>
                  </a:lnTo>
                  <a:close/>
                </a:path>
              </a:pathLst>
            </a:custGeom>
            <a:solidFill>
              <a:srgbClr val="947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6"/>
            <p:cNvSpPr/>
            <p:nvPr/>
          </p:nvSpPr>
          <p:spPr>
            <a:xfrm>
              <a:off x="1601640" y="371520"/>
              <a:ext cx="4178160" cy="1514520"/>
            </a:xfrm>
            <a:custGeom>
              <a:avLst/>
              <a:gdLst>
                <a:gd name="textAreaLeft" fmla="*/ 0 w 4178160"/>
                <a:gd name="textAreaRight" fmla="*/ 4178160 w 4178160"/>
                <a:gd name="textAreaTop" fmla="*/ 0 h 1514520"/>
                <a:gd name="textAreaBottom" fmla="*/ 1514880 h 1514520"/>
              </a:gdLst>
              <a:ahLst/>
              <a:rect l="textAreaLeft" t="textAreaTop" r="textAreaRight" b="textAreaBottom"/>
              <a:pathLst>
                <a:path w="2632" h="954">
                  <a:moveTo>
                    <a:pt x="16" y="106"/>
                  </a:moveTo>
                  <a:lnTo>
                    <a:pt x="16" y="106"/>
                  </a:lnTo>
                  <a:lnTo>
                    <a:pt x="62" y="94"/>
                  </a:lnTo>
                  <a:lnTo>
                    <a:pt x="110" y="84"/>
                  </a:lnTo>
                  <a:lnTo>
                    <a:pt x="158" y="78"/>
                  </a:lnTo>
                  <a:lnTo>
                    <a:pt x="206" y="78"/>
                  </a:lnTo>
                  <a:lnTo>
                    <a:pt x="206" y="78"/>
                  </a:lnTo>
                  <a:lnTo>
                    <a:pt x="238" y="80"/>
                  </a:lnTo>
                  <a:lnTo>
                    <a:pt x="270" y="88"/>
                  </a:lnTo>
                  <a:lnTo>
                    <a:pt x="300" y="96"/>
                  </a:lnTo>
                  <a:lnTo>
                    <a:pt x="328" y="108"/>
                  </a:lnTo>
                  <a:lnTo>
                    <a:pt x="356" y="122"/>
                  </a:lnTo>
                  <a:lnTo>
                    <a:pt x="380" y="138"/>
                  </a:lnTo>
                  <a:lnTo>
                    <a:pt x="404" y="156"/>
                  </a:lnTo>
                  <a:lnTo>
                    <a:pt x="426" y="176"/>
                  </a:lnTo>
                  <a:lnTo>
                    <a:pt x="444" y="194"/>
                  </a:lnTo>
                  <a:lnTo>
                    <a:pt x="460" y="216"/>
                  </a:lnTo>
                  <a:lnTo>
                    <a:pt x="474" y="236"/>
                  </a:lnTo>
                  <a:lnTo>
                    <a:pt x="484" y="256"/>
                  </a:lnTo>
                  <a:lnTo>
                    <a:pt x="492" y="276"/>
                  </a:lnTo>
                  <a:lnTo>
                    <a:pt x="496" y="296"/>
                  </a:lnTo>
                  <a:lnTo>
                    <a:pt x="496" y="314"/>
                  </a:lnTo>
                  <a:lnTo>
                    <a:pt x="494" y="330"/>
                  </a:lnTo>
                  <a:lnTo>
                    <a:pt x="494" y="330"/>
                  </a:lnTo>
                  <a:lnTo>
                    <a:pt x="502" y="326"/>
                  </a:lnTo>
                  <a:lnTo>
                    <a:pt x="510" y="322"/>
                  </a:lnTo>
                  <a:lnTo>
                    <a:pt x="516" y="316"/>
                  </a:lnTo>
                  <a:lnTo>
                    <a:pt x="522" y="310"/>
                  </a:lnTo>
                  <a:lnTo>
                    <a:pt x="526" y="300"/>
                  </a:lnTo>
                  <a:lnTo>
                    <a:pt x="528" y="290"/>
                  </a:lnTo>
                  <a:lnTo>
                    <a:pt x="532" y="268"/>
                  </a:lnTo>
                  <a:lnTo>
                    <a:pt x="532" y="242"/>
                  </a:lnTo>
                  <a:lnTo>
                    <a:pt x="528" y="214"/>
                  </a:lnTo>
                  <a:lnTo>
                    <a:pt x="520" y="184"/>
                  </a:lnTo>
                  <a:lnTo>
                    <a:pt x="510" y="152"/>
                  </a:lnTo>
                  <a:lnTo>
                    <a:pt x="510" y="152"/>
                  </a:lnTo>
                  <a:lnTo>
                    <a:pt x="516" y="158"/>
                  </a:lnTo>
                  <a:lnTo>
                    <a:pt x="522" y="162"/>
                  </a:lnTo>
                  <a:lnTo>
                    <a:pt x="530" y="166"/>
                  </a:lnTo>
                  <a:lnTo>
                    <a:pt x="540" y="168"/>
                  </a:lnTo>
                  <a:lnTo>
                    <a:pt x="562" y="168"/>
                  </a:lnTo>
                  <a:lnTo>
                    <a:pt x="584" y="164"/>
                  </a:lnTo>
                  <a:lnTo>
                    <a:pt x="608" y="158"/>
                  </a:lnTo>
                  <a:lnTo>
                    <a:pt x="630" y="150"/>
                  </a:lnTo>
                  <a:lnTo>
                    <a:pt x="648" y="140"/>
                  </a:lnTo>
                  <a:lnTo>
                    <a:pt x="660" y="130"/>
                  </a:lnTo>
                  <a:lnTo>
                    <a:pt x="660" y="130"/>
                  </a:lnTo>
                  <a:lnTo>
                    <a:pt x="676" y="138"/>
                  </a:lnTo>
                  <a:lnTo>
                    <a:pt x="692" y="150"/>
                  </a:lnTo>
                  <a:lnTo>
                    <a:pt x="706" y="164"/>
                  </a:lnTo>
                  <a:lnTo>
                    <a:pt x="718" y="178"/>
                  </a:lnTo>
                  <a:lnTo>
                    <a:pt x="730" y="194"/>
                  </a:lnTo>
                  <a:lnTo>
                    <a:pt x="740" y="210"/>
                  </a:lnTo>
                  <a:lnTo>
                    <a:pt x="750" y="230"/>
                  </a:lnTo>
                  <a:lnTo>
                    <a:pt x="758" y="248"/>
                  </a:lnTo>
                  <a:lnTo>
                    <a:pt x="764" y="268"/>
                  </a:lnTo>
                  <a:lnTo>
                    <a:pt x="766" y="288"/>
                  </a:lnTo>
                  <a:lnTo>
                    <a:pt x="770" y="306"/>
                  </a:lnTo>
                  <a:lnTo>
                    <a:pt x="770" y="326"/>
                  </a:lnTo>
                  <a:lnTo>
                    <a:pt x="768" y="346"/>
                  </a:lnTo>
                  <a:lnTo>
                    <a:pt x="764" y="364"/>
                  </a:lnTo>
                  <a:lnTo>
                    <a:pt x="756" y="380"/>
                  </a:lnTo>
                  <a:lnTo>
                    <a:pt x="748" y="398"/>
                  </a:lnTo>
                  <a:lnTo>
                    <a:pt x="748" y="398"/>
                  </a:lnTo>
                  <a:lnTo>
                    <a:pt x="756" y="396"/>
                  </a:lnTo>
                  <a:lnTo>
                    <a:pt x="762" y="394"/>
                  </a:lnTo>
                  <a:lnTo>
                    <a:pt x="776" y="386"/>
                  </a:lnTo>
                  <a:lnTo>
                    <a:pt x="786" y="376"/>
                  </a:lnTo>
                  <a:lnTo>
                    <a:pt x="794" y="362"/>
                  </a:lnTo>
                  <a:lnTo>
                    <a:pt x="802" y="346"/>
                  </a:lnTo>
                  <a:lnTo>
                    <a:pt x="806" y="330"/>
                  </a:lnTo>
                  <a:lnTo>
                    <a:pt x="810" y="312"/>
                  </a:lnTo>
                  <a:lnTo>
                    <a:pt x="810" y="294"/>
                  </a:lnTo>
                  <a:lnTo>
                    <a:pt x="810" y="294"/>
                  </a:lnTo>
                  <a:lnTo>
                    <a:pt x="826" y="332"/>
                  </a:lnTo>
                  <a:lnTo>
                    <a:pt x="838" y="368"/>
                  </a:lnTo>
                  <a:lnTo>
                    <a:pt x="846" y="400"/>
                  </a:lnTo>
                  <a:lnTo>
                    <a:pt x="850" y="430"/>
                  </a:lnTo>
                  <a:lnTo>
                    <a:pt x="852" y="458"/>
                  </a:lnTo>
                  <a:lnTo>
                    <a:pt x="850" y="484"/>
                  </a:lnTo>
                  <a:lnTo>
                    <a:pt x="846" y="506"/>
                  </a:lnTo>
                  <a:lnTo>
                    <a:pt x="840" y="528"/>
                  </a:lnTo>
                  <a:lnTo>
                    <a:pt x="830" y="546"/>
                  </a:lnTo>
                  <a:lnTo>
                    <a:pt x="820" y="560"/>
                  </a:lnTo>
                  <a:lnTo>
                    <a:pt x="808" y="574"/>
                  </a:lnTo>
                  <a:lnTo>
                    <a:pt x="794" y="584"/>
                  </a:lnTo>
                  <a:lnTo>
                    <a:pt x="780" y="592"/>
                  </a:lnTo>
                  <a:lnTo>
                    <a:pt x="764" y="598"/>
                  </a:lnTo>
                  <a:lnTo>
                    <a:pt x="750" y="600"/>
                  </a:lnTo>
                  <a:lnTo>
                    <a:pt x="734" y="602"/>
                  </a:lnTo>
                  <a:lnTo>
                    <a:pt x="734" y="602"/>
                  </a:lnTo>
                  <a:lnTo>
                    <a:pt x="712" y="600"/>
                  </a:lnTo>
                  <a:lnTo>
                    <a:pt x="696" y="596"/>
                  </a:lnTo>
                  <a:lnTo>
                    <a:pt x="680" y="592"/>
                  </a:lnTo>
                  <a:lnTo>
                    <a:pt x="664" y="584"/>
                  </a:lnTo>
                  <a:lnTo>
                    <a:pt x="664" y="584"/>
                  </a:lnTo>
                  <a:lnTo>
                    <a:pt x="646" y="570"/>
                  </a:lnTo>
                  <a:lnTo>
                    <a:pt x="632" y="556"/>
                  </a:lnTo>
                  <a:lnTo>
                    <a:pt x="618" y="542"/>
                  </a:lnTo>
                  <a:lnTo>
                    <a:pt x="610" y="526"/>
                  </a:lnTo>
                  <a:lnTo>
                    <a:pt x="604" y="512"/>
                  </a:lnTo>
                  <a:lnTo>
                    <a:pt x="604" y="504"/>
                  </a:lnTo>
                  <a:lnTo>
                    <a:pt x="604" y="496"/>
                  </a:lnTo>
                  <a:lnTo>
                    <a:pt x="606" y="488"/>
                  </a:lnTo>
                  <a:lnTo>
                    <a:pt x="608" y="480"/>
                  </a:lnTo>
                  <a:lnTo>
                    <a:pt x="612" y="474"/>
                  </a:lnTo>
                  <a:lnTo>
                    <a:pt x="618" y="466"/>
                  </a:lnTo>
                  <a:lnTo>
                    <a:pt x="618" y="466"/>
                  </a:lnTo>
                  <a:lnTo>
                    <a:pt x="626" y="460"/>
                  </a:lnTo>
                  <a:lnTo>
                    <a:pt x="632" y="456"/>
                  </a:lnTo>
                  <a:lnTo>
                    <a:pt x="638" y="452"/>
                  </a:lnTo>
                  <a:lnTo>
                    <a:pt x="646" y="450"/>
                  </a:lnTo>
                  <a:lnTo>
                    <a:pt x="652" y="450"/>
                  </a:lnTo>
                  <a:lnTo>
                    <a:pt x="660" y="450"/>
                  </a:lnTo>
                  <a:lnTo>
                    <a:pt x="672" y="456"/>
                  </a:lnTo>
                  <a:lnTo>
                    <a:pt x="684" y="464"/>
                  </a:lnTo>
                  <a:lnTo>
                    <a:pt x="692" y="474"/>
                  </a:lnTo>
                  <a:lnTo>
                    <a:pt x="700" y="488"/>
                  </a:lnTo>
                  <a:lnTo>
                    <a:pt x="706" y="502"/>
                  </a:lnTo>
                  <a:lnTo>
                    <a:pt x="706" y="502"/>
                  </a:lnTo>
                  <a:lnTo>
                    <a:pt x="712" y="490"/>
                  </a:lnTo>
                  <a:lnTo>
                    <a:pt x="716" y="476"/>
                  </a:lnTo>
                  <a:lnTo>
                    <a:pt x="718" y="462"/>
                  </a:lnTo>
                  <a:lnTo>
                    <a:pt x="718" y="448"/>
                  </a:lnTo>
                  <a:lnTo>
                    <a:pt x="718" y="436"/>
                  </a:lnTo>
                  <a:lnTo>
                    <a:pt x="716" y="422"/>
                  </a:lnTo>
                  <a:lnTo>
                    <a:pt x="712" y="410"/>
                  </a:lnTo>
                  <a:lnTo>
                    <a:pt x="708" y="398"/>
                  </a:lnTo>
                  <a:lnTo>
                    <a:pt x="702" y="388"/>
                  </a:lnTo>
                  <a:lnTo>
                    <a:pt x="694" y="378"/>
                  </a:lnTo>
                  <a:lnTo>
                    <a:pt x="684" y="370"/>
                  </a:lnTo>
                  <a:lnTo>
                    <a:pt x="674" y="362"/>
                  </a:lnTo>
                  <a:lnTo>
                    <a:pt x="662" y="358"/>
                  </a:lnTo>
                  <a:lnTo>
                    <a:pt x="650" y="354"/>
                  </a:lnTo>
                  <a:lnTo>
                    <a:pt x="638" y="352"/>
                  </a:lnTo>
                  <a:lnTo>
                    <a:pt x="622" y="352"/>
                  </a:lnTo>
                  <a:lnTo>
                    <a:pt x="622" y="352"/>
                  </a:lnTo>
                  <a:lnTo>
                    <a:pt x="608" y="354"/>
                  </a:lnTo>
                  <a:lnTo>
                    <a:pt x="596" y="358"/>
                  </a:lnTo>
                  <a:lnTo>
                    <a:pt x="582" y="366"/>
                  </a:lnTo>
                  <a:lnTo>
                    <a:pt x="570" y="374"/>
                  </a:lnTo>
                  <a:lnTo>
                    <a:pt x="560" y="386"/>
                  </a:lnTo>
                  <a:lnTo>
                    <a:pt x="550" y="398"/>
                  </a:lnTo>
                  <a:lnTo>
                    <a:pt x="542" y="412"/>
                  </a:lnTo>
                  <a:lnTo>
                    <a:pt x="534" y="428"/>
                  </a:lnTo>
                  <a:lnTo>
                    <a:pt x="530" y="444"/>
                  </a:lnTo>
                  <a:lnTo>
                    <a:pt x="528" y="460"/>
                  </a:lnTo>
                  <a:lnTo>
                    <a:pt x="528" y="478"/>
                  </a:lnTo>
                  <a:lnTo>
                    <a:pt x="532" y="496"/>
                  </a:lnTo>
                  <a:lnTo>
                    <a:pt x="538" y="514"/>
                  </a:lnTo>
                  <a:lnTo>
                    <a:pt x="548" y="532"/>
                  </a:lnTo>
                  <a:lnTo>
                    <a:pt x="562" y="548"/>
                  </a:lnTo>
                  <a:lnTo>
                    <a:pt x="580" y="566"/>
                  </a:lnTo>
                  <a:lnTo>
                    <a:pt x="580" y="566"/>
                  </a:lnTo>
                  <a:lnTo>
                    <a:pt x="592" y="574"/>
                  </a:lnTo>
                  <a:lnTo>
                    <a:pt x="592" y="574"/>
                  </a:lnTo>
                  <a:lnTo>
                    <a:pt x="610" y="584"/>
                  </a:lnTo>
                  <a:lnTo>
                    <a:pt x="628" y="594"/>
                  </a:lnTo>
                  <a:lnTo>
                    <a:pt x="646" y="602"/>
                  </a:lnTo>
                  <a:lnTo>
                    <a:pt x="664" y="608"/>
                  </a:lnTo>
                  <a:lnTo>
                    <a:pt x="702" y="618"/>
                  </a:lnTo>
                  <a:lnTo>
                    <a:pt x="732" y="622"/>
                  </a:lnTo>
                  <a:lnTo>
                    <a:pt x="732" y="622"/>
                  </a:lnTo>
                  <a:lnTo>
                    <a:pt x="766" y="622"/>
                  </a:lnTo>
                  <a:lnTo>
                    <a:pt x="782" y="618"/>
                  </a:lnTo>
                  <a:lnTo>
                    <a:pt x="798" y="614"/>
                  </a:lnTo>
                  <a:lnTo>
                    <a:pt x="814" y="610"/>
                  </a:lnTo>
                  <a:lnTo>
                    <a:pt x="828" y="604"/>
                  </a:lnTo>
                  <a:lnTo>
                    <a:pt x="842" y="596"/>
                  </a:lnTo>
                  <a:lnTo>
                    <a:pt x="854" y="588"/>
                  </a:lnTo>
                  <a:lnTo>
                    <a:pt x="866" y="578"/>
                  </a:lnTo>
                  <a:lnTo>
                    <a:pt x="876" y="568"/>
                  </a:lnTo>
                  <a:lnTo>
                    <a:pt x="884" y="556"/>
                  </a:lnTo>
                  <a:lnTo>
                    <a:pt x="892" y="544"/>
                  </a:lnTo>
                  <a:lnTo>
                    <a:pt x="896" y="530"/>
                  </a:lnTo>
                  <a:lnTo>
                    <a:pt x="900" y="514"/>
                  </a:lnTo>
                  <a:lnTo>
                    <a:pt x="902" y="498"/>
                  </a:lnTo>
                  <a:lnTo>
                    <a:pt x="902" y="480"/>
                  </a:lnTo>
                  <a:lnTo>
                    <a:pt x="902" y="480"/>
                  </a:lnTo>
                  <a:lnTo>
                    <a:pt x="910" y="506"/>
                  </a:lnTo>
                  <a:lnTo>
                    <a:pt x="916" y="530"/>
                  </a:lnTo>
                  <a:lnTo>
                    <a:pt x="916" y="530"/>
                  </a:lnTo>
                  <a:lnTo>
                    <a:pt x="920" y="556"/>
                  </a:lnTo>
                  <a:lnTo>
                    <a:pt x="920" y="580"/>
                  </a:lnTo>
                  <a:lnTo>
                    <a:pt x="918" y="604"/>
                  </a:lnTo>
                  <a:lnTo>
                    <a:pt x="914" y="626"/>
                  </a:lnTo>
                  <a:lnTo>
                    <a:pt x="906" y="648"/>
                  </a:lnTo>
                  <a:lnTo>
                    <a:pt x="898" y="666"/>
                  </a:lnTo>
                  <a:lnTo>
                    <a:pt x="886" y="682"/>
                  </a:lnTo>
                  <a:lnTo>
                    <a:pt x="872" y="696"/>
                  </a:lnTo>
                  <a:lnTo>
                    <a:pt x="858" y="710"/>
                  </a:lnTo>
                  <a:lnTo>
                    <a:pt x="842" y="720"/>
                  </a:lnTo>
                  <a:lnTo>
                    <a:pt x="826" y="728"/>
                  </a:lnTo>
                  <a:lnTo>
                    <a:pt x="808" y="732"/>
                  </a:lnTo>
                  <a:lnTo>
                    <a:pt x="792" y="736"/>
                  </a:lnTo>
                  <a:lnTo>
                    <a:pt x="774" y="736"/>
                  </a:lnTo>
                  <a:lnTo>
                    <a:pt x="756" y="732"/>
                  </a:lnTo>
                  <a:lnTo>
                    <a:pt x="738" y="726"/>
                  </a:lnTo>
                  <a:lnTo>
                    <a:pt x="738" y="726"/>
                  </a:lnTo>
                  <a:lnTo>
                    <a:pt x="748" y="744"/>
                  </a:lnTo>
                  <a:lnTo>
                    <a:pt x="756" y="758"/>
                  </a:lnTo>
                  <a:lnTo>
                    <a:pt x="766" y="772"/>
                  </a:lnTo>
                  <a:lnTo>
                    <a:pt x="778" y="784"/>
                  </a:lnTo>
                  <a:lnTo>
                    <a:pt x="792" y="792"/>
                  </a:lnTo>
                  <a:lnTo>
                    <a:pt x="806" y="798"/>
                  </a:lnTo>
                  <a:lnTo>
                    <a:pt x="822" y="804"/>
                  </a:lnTo>
                  <a:lnTo>
                    <a:pt x="840" y="804"/>
                  </a:lnTo>
                  <a:lnTo>
                    <a:pt x="840" y="804"/>
                  </a:lnTo>
                  <a:lnTo>
                    <a:pt x="820" y="816"/>
                  </a:lnTo>
                  <a:lnTo>
                    <a:pt x="810" y="822"/>
                  </a:lnTo>
                  <a:lnTo>
                    <a:pt x="800" y="824"/>
                  </a:lnTo>
                  <a:lnTo>
                    <a:pt x="790" y="826"/>
                  </a:lnTo>
                  <a:lnTo>
                    <a:pt x="778" y="828"/>
                  </a:lnTo>
                  <a:lnTo>
                    <a:pt x="766" y="828"/>
                  </a:lnTo>
                  <a:lnTo>
                    <a:pt x="754" y="826"/>
                  </a:lnTo>
                  <a:lnTo>
                    <a:pt x="740" y="824"/>
                  </a:lnTo>
                  <a:lnTo>
                    <a:pt x="728" y="820"/>
                  </a:lnTo>
                  <a:lnTo>
                    <a:pt x="700" y="808"/>
                  </a:lnTo>
                  <a:lnTo>
                    <a:pt x="672" y="790"/>
                  </a:lnTo>
                  <a:lnTo>
                    <a:pt x="642" y="766"/>
                  </a:lnTo>
                  <a:lnTo>
                    <a:pt x="642" y="766"/>
                  </a:lnTo>
                  <a:lnTo>
                    <a:pt x="652" y="792"/>
                  </a:lnTo>
                  <a:lnTo>
                    <a:pt x="662" y="814"/>
                  </a:lnTo>
                  <a:lnTo>
                    <a:pt x="674" y="834"/>
                  </a:lnTo>
                  <a:lnTo>
                    <a:pt x="686" y="850"/>
                  </a:lnTo>
                  <a:lnTo>
                    <a:pt x="702" y="866"/>
                  </a:lnTo>
                  <a:lnTo>
                    <a:pt x="716" y="878"/>
                  </a:lnTo>
                  <a:lnTo>
                    <a:pt x="732" y="886"/>
                  </a:lnTo>
                  <a:lnTo>
                    <a:pt x="748" y="894"/>
                  </a:lnTo>
                  <a:lnTo>
                    <a:pt x="764" y="900"/>
                  </a:lnTo>
                  <a:lnTo>
                    <a:pt x="780" y="904"/>
                  </a:lnTo>
                  <a:lnTo>
                    <a:pt x="796" y="906"/>
                  </a:lnTo>
                  <a:lnTo>
                    <a:pt x="810" y="908"/>
                  </a:lnTo>
                  <a:lnTo>
                    <a:pt x="836" y="906"/>
                  </a:lnTo>
                  <a:lnTo>
                    <a:pt x="854" y="900"/>
                  </a:lnTo>
                  <a:lnTo>
                    <a:pt x="854" y="900"/>
                  </a:lnTo>
                  <a:lnTo>
                    <a:pt x="850" y="906"/>
                  </a:lnTo>
                  <a:lnTo>
                    <a:pt x="844" y="912"/>
                  </a:lnTo>
                  <a:lnTo>
                    <a:pt x="830" y="920"/>
                  </a:lnTo>
                  <a:lnTo>
                    <a:pt x="814" y="934"/>
                  </a:lnTo>
                  <a:lnTo>
                    <a:pt x="808" y="942"/>
                  </a:lnTo>
                  <a:lnTo>
                    <a:pt x="800" y="954"/>
                  </a:lnTo>
                  <a:lnTo>
                    <a:pt x="800" y="954"/>
                  </a:lnTo>
                  <a:lnTo>
                    <a:pt x="818" y="954"/>
                  </a:lnTo>
                  <a:lnTo>
                    <a:pt x="836" y="952"/>
                  </a:lnTo>
                  <a:lnTo>
                    <a:pt x="852" y="950"/>
                  </a:lnTo>
                  <a:lnTo>
                    <a:pt x="868" y="946"/>
                  </a:lnTo>
                  <a:lnTo>
                    <a:pt x="884" y="940"/>
                  </a:lnTo>
                  <a:lnTo>
                    <a:pt x="900" y="932"/>
                  </a:lnTo>
                  <a:lnTo>
                    <a:pt x="916" y="924"/>
                  </a:lnTo>
                  <a:lnTo>
                    <a:pt x="930" y="914"/>
                  </a:lnTo>
                  <a:lnTo>
                    <a:pt x="942" y="902"/>
                  </a:lnTo>
                  <a:lnTo>
                    <a:pt x="956" y="890"/>
                  </a:lnTo>
                  <a:lnTo>
                    <a:pt x="968" y="876"/>
                  </a:lnTo>
                  <a:lnTo>
                    <a:pt x="978" y="860"/>
                  </a:lnTo>
                  <a:lnTo>
                    <a:pt x="990" y="842"/>
                  </a:lnTo>
                  <a:lnTo>
                    <a:pt x="998" y="824"/>
                  </a:lnTo>
                  <a:lnTo>
                    <a:pt x="1008" y="804"/>
                  </a:lnTo>
                  <a:lnTo>
                    <a:pt x="1016" y="784"/>
                  </a:lnTo>
                  <a:lnTo>
                    <a:pt x="1016" y="784"/>
                  </a:lnTo>
                  <a:lnTo>
                    <a:pt x="1020" y="756"/>
                  </a:lnTo>
                  <a:lnTo>
                    <a:pt x="1022" y="728"/>
                  </a:lnTo>
                  <a:lnTo>
                    <a:pt x="1022" y="700"/>
                  </a:lnTo>
                  <a:lnTo>
                    <a:pt x="1020" y="676"/>
                  </a:lnTo>
                  <a:lnTo>
                    <a:pt x="1020" y="676"/>
                  </a:lnTo>
                  <a:lnTo>
                    <a:pt x="1020" y="652"/>
                  </a:lnTo>
                  <a:lnTo>
                    <a:pt x="1018" y="628"/>
                  </a:lnTo>
                  <a:lnTo>
                    <a:pt x="1012" y="602"/>
                  </a:lnTo>
                  <a:lnTo>
                    <a:pt x="1006" y="576"/>
                  </a:lnTo>
                  <a:lnTo>
                    <a:pt x="986" y="518"/>
                  </a:lnTo>
                  <a:lnTo>
                    <a:pt x="964" y="460"/>
                  </a:lnTo>
                  <a:lnTo>
                    <a:pt x="964" y="460"/>
                  </a:lnTo>
                  <a:lnTo>
                    <a:pt x="938" y="398"/>
                  </a:lnTo>
                  <a:lnTo>
                    <a:pt x="914" y="338"/>
                  </a:lnTo>
                  <a:lnTo>
                    <a:pt x="914" y="338"/>
                  </a:lnTo>
                  <a:lnTo>
                    <a:pt x="926" y="354"/>
                  </a:lnTo>
                  <a:lnTo>
                    <a:pt x="938" y="372"/>
                  </a:lnTo>
                  <a:lnTo>
                    <a:pt x="970" y="406"/>
                  </a:lnTo>
                  <a:lnTo>
                    <a:pt x="1006" y="442"/>
                  </a:lnTo>
                  <a:lnTo>
                    <a:pt x="1046" y="476"/>
                  </a:lnTo>
                  <a:lnTo>
                    <a:pt x="1088" y="510"/>
                  </a:lnTo>
                  <a:lnTo>
                    <a:pt x="1126" y="538"/>
                  </a:lnTo>
                  <a:lnTo>
                    <a:pt x="1190" y="584"/>
                  </a:lnTo>
                  <a:lnTo>
                    <a:pt x="1190" y="584"/>
                  </a:lnTo>
                  <a:lnTo>
                    <a:pt x="1200" y="590"/>
                  </a:lnTo>
                  <a:lnTo>
                    <a:pt x="1216" y="598"/>
                  </a:lnTo>
                  <a:lnTo>
                    <a:pt x="1252" y="612"/>
                  </a:lnTo>
                  <a:lnTo>
                    <a:pt x="1290" y="622"/>
                  </a:lnTo>
                  <a:lnTo>
                    <a:pt x="1318" y="630"/>
                  </a:lnTo>
                  <a:lnTo>
                    <a:pt x="1318" y="630"/>
                  </a:lnTo>
                  <a:lnTo>
                    <a:pt x="1402" y="642"/>
                  </a:lnTo>
                  <a:lnTo>
                    <a:pt x="1478" y="650"/>
                  </a:lnTo>
                  <a:lnTo>
                    <a:pt x="1548" y="652"/>
                  </a:lnTo>
                  <a:lnTo>
                    <a:pt x="1612" y="648"/>
                  </a:lnTo>
                  <a:lnTo>
                    <a:pt x="1642" y="646"/>
                  </a:lnTo>
                  <a:lnTo>
                    <a:pt x="1670" y="642"/>
                  </a:lnTo>
                  <a:lnTo>
                    <a:pt x="1696" y="636"/>
                  </a:lnTo>
                  <a:lnTo>
                    <a:pt x="1722" y="630"/>
                  </a:lnTo>
                  <a:lnTo>
                    <a:pt x="1746" y="624"/>
                  </a:lnTo>
                  <a:lnTo>
                    <a:pt x="1768" y="616"/>
                  </a:lnTo>
                  <a:lnTo>
                    <a:pt x="1788" y="608"/>
                  </a:lnTo>
                  <a:lnTo>
                    <a:pt x="1808" y="598"/>
                  </a:lnTo>
                  <a:lnTo>
                    <a:pt x="1826" y="588"/>
                  </a:lnTo>
                  <a:lnTo>
                    <a:pt x="1844" y="576"/>
                  </a:lnTo>
                  <a:lnTo>
                    <a:pt x="1858" y="564"/>
                  </a:lnTo>
                  <a:lnTo>
                    <a:pt x="1874" y="552"/>
                  </a:lnTo>
                  <a:lnTo>
                    <a:pt x="1886" y="538"/>
                  </a:lnTo>
                  <a:lnTo>
                    <a:pt x="1898" y="524"/>
                  </a:lnTo>
                  <a:lnTo>
                    <a:pt x="1908" y="510"/>
                  </a:lnTo>
                  <a:lnTo>
                    <a:pt x="1918" y="494"/>
                  </a:lnTo>
                  <a:lnTo>
                    <a:pt x="1928" y="478"/>
                  </a:lnTo>
                  <a:lnTo>
                    <a:pt x="1934" y="462"/>
                  </a:lnTo>
                  <a:lnTo>
                    <a:pt x="1946" y="428"/>
                  </a:lnTo>
                  <a:lnTo>
                    <a:pt x="1954" y="392"/>
                  </a:lnTo>
                  <a:lnTo>
                    <a:pt x="1958" y="354"/>
                  </a:lnTo>
                  <a:lnTo>
                    <a:pt x="1958" y="354"/>
                  </a:lnTo>
                  <a:lnTo>
                    <a:pt x="1968" y="372"/>
                  </a:lnTo>
                  <a:lnTo>
                    <a:pt x="1978" y="386"/>
                  </a:lnTo>
                  <a:lnTo>
                    <a:pt x="1990" y="398"/>
                  </a:lnTo>
                  <a:lnTo>
                    <a:pt x="2002" y="408"/>
                  </a:lnTo>
                  <a:lnTo>
                    <a:pt x="2014" y="416"/>
                  </a:lnTo>
                  <a:lnTo>
                    <a:pt x="2026" y="422"/>
                  </a:lnTo>
                  <a:lnTo>
                    <a:pt x="2038" y="426"/>
                  </a:lnTo>
                  <a:lnTo>
                    <a:pt x="2052" y="428"/>
                  </a:lnTo>
                  <a:lnTo>
                    <a:pt x="2064" y="430"/>
                  </a:lnTo>
                  <a:lnTo>
                    <a:pt x="2078" y="430"/>
                  </a:lnTo>
                  <a:lnTo>
                    <a:pt x="2090" y="428"/>
                  </a:lnTo>
                  <a:lnTo>
                    <a:pt x="2102" y="426"/>
                  </a:lnTo>
                  <a:lnTo>
                    <a:pt x="2126" y="416"/>
                  </a:lnTo>
                  <a:lnTo>
                    <a:pt x="2146" y="404"/>
                  </a:lnTo>
                  <a:lnTo>
                    <a:pt x="2164" y="388"/>
                  </a:lnTo>
                  <a:lnTo>
                    <a:pt x="2176" y="370"/>
                  </a:lnTo>
                  <a:lnTo>
                    <a:pt x="2182" y="360"/>
                  </a:lnTo>
                  <a:lnTo>
                    <a:pt x="2186" y="350"/>
                  </a:lnTo>
                  <a:lnTo>
                    <a:pt x="2188" y="340"/>
                  </a:lnTo>
                  <a:lnTo>
                    <a:pt x="2188" y="330"/>
                  </a:lnTo>
                  <a:lnTo>
                    <a:pt x="2188" y="320"/>
                  </a:lnTo>
                  <a:lnTo>
                    <a:pt x="2186" y="310"/>
                  </a:lnTo>
                  <a:lnTo>
                    <a:pt x="2182" y="302"/>
                  </a:lnTo>
                  <a:lnTo>
                    <a:pt x="2176" y="292"/>
                  </a:lnTo>
                  <a:lnTo>
                    <a:pt x="2166" y="282"/>
                  </a:lnTo>
                  <a:lnTo>
                    <a:pt x="2156" y="274"/>
                  </a:lnTo>
                  <a:lnTo>
                    <a:pt x="2144" y="266"/>
                  </a:lnTo>
                  <a:lnTo>
                    <a:pt x="2130" y="260"/>
                  </a:lnTo>
                  <a:lnTo>
                    <a:pt x="2130" y="260"/>
                  </a:lnTo>
                  <a:lnTo>
                    <a:pt x="2142" y="270"/>
                  </a:lnTo>
                  <a:lnTo>
                    <a:pt x="2150" y="280"/>
                  </a:lnTo>
                  <a:lnTo>
                    <a:pt x="2154" y="290"/>
                  </a:lnTo>
                  <a:lnTo>
                    <a:pt x="2156" y="300"/>
                  </a:lnTo>
                  <a:lnTo>
                    <a:pt x="2156" y="310"/>
                  </a:lnTo>
                  <a:lnTo>
                    <a:pt x="2152" y="318"/>
                  </a:lnTo>
                  <a:lnTo>
                    <a:pt x="2148" y="326"/>
                  </a:lnTo>
                  <a:lnTo>
                    <a:pt x="2140" y="332"/>
                  </a:lnTo>
                  <a:lnTo>
                    <a:pt x="2132" y="338"/>
                  </a:lnTo>
                  <a:lnTo>
                    <a:pt x="2120" y="344"/>
                  </a:lnTo>
                  <a:lnTo>
                    <a:pt x="2110" y="346"/>
                  </a:lnTo>
                  <a:lnTo>
                    <a:pt x="2098" y="348"/>
                  </a:lnTo>
                  <a:lnTo>
                    <a:pt x="2084" y="348"/>
                  </a:lnTo>
                  <a:lnTo>
                    <a:pt x="2072" y="346"/>
                  </a:lnTo>
                  <a:lnTo>
                    <a:pt x="2058" y="340"/>
                  </a:lnTo>
                  <a:lnTo>
                    <a:pt x="2046" y="334"/>
                  </a:lnTo>
                  <a:lnTo>
                    <a:pt x="2046" y="334"/>
                  </a:lnTo>
                  <a:lnTo>
                    <a:pt x="2056" y="328"/>
                  </a:lnTo>
                  <a:lnTo>
                    <a:pt x="2066" y="322"/>
                  </a:lnTo>
                  <a:lnTo>
                    <a:pt x="2074" y="316"/>
                  </a:lnTo>
                  <a:lnTo>
                    <a:pt x="2080" y="308"/>
                  </a:lnTo>
                  <a:lnTo>
                    <a:pt x="2084" y="300"/>
                  </a:lnTo>
                  <a:lnTo>
                    <a:pt x="2086" y="292"/>
                  </a:lnTo>
                  <a:lnTo>
                    <a:pt x="2086" y="282"/>
                  </a:lnTo>
                  <a:lnTo>
                    <a:pt x="2084" y="272"/>
                  </a:lnTo>
                  <a:lnTo>
                    <a:pt x="2084" y="272"/>
                  </a:lnTo>
                  <a:lnTo>
                    <a:pt x="2072" y="280"/>
                  </a:lnTo>
                  <a:lnTo>
                    <a:pt x="2060" y="284"/>
                  </a:lnTo>
                  <a:lnTo>
                    <a:pt x="2050" y="288"/>
                  </a:lnTo>
                  <a:lnTo>
                    <a:pt x="2040" y="288"/>
                  </a:lnTo>
                  <a:lnTo>
                    <a:pt x="2032" y="288"/>
                  </a:lnTo>
                  <a:lnTo>
                    <a:pt x="2024" y="284"/>
                  </a:lnTo>
                  <a:lnTo>
                    <a:pt x="2018" y="280"/>
                  </a:lnTo>
                  <a:lnTo>
                    <a:pt x="2012" y="274"/>
                  </a:lnTo>
                  <a:lnTo>
                    <a:pt x="2002" y="262"/>
                  </a:lnTo>
                  <a:lnTo>
                    <a:pt x="1994" y="248"/>
                  </a:lnTo>
                  <a:lnTo>
                    <a:pt x="1992" y="232"/>
                  </a:lnTo>
                  <a:lnTo>
                    <a:pt x="1992" y="220"/>
                  </a:lnTo>
                  <a:lnTo>
                    <a:pt x="1992" y="220"/>
                  </a:lnTo>
                  <a:lnTo>
                    <a:pt x="1998" y="202"/>
                  </a:lnTo>
                  <a:lnTo>
                    <a:pt x="2008" y="188"/>
                  </a:lnTo>
                  <a:lnTo>
                    <a:pt x="2018" y="178"/>
                  </a:lnTo>
                  <a:lnTo>
                    <a:pt x="2030" y="172"/>
                  </a:lnTo>
                  <a:lnTo>
                    <a:pt x="2042" y="168"/>
                  </a:lnTo>
                  <a:lnTo>
                    <a:pt x="2054" y="170"/>
                  </a:lnTo>
                  <a:lnTo>
                    <a:pt x="2064" y="176"/>
                  </a:lnTo>
                  <a:lnTo>
                    <a:pt x="2072" y="184"/>
                  </a:lnTo>
                  <a:lnTo>
                    <a:pt x="2072" y="184"/>
                  </a:lnTo>
                  <a:lnTo>
                    <a:pt x="2074" y="156"/>
                  </a:lnTo>
                  <a:lnTo>
                    <a:pt x="2078" y="134"/>
                  </a:lnTo>
                  <a:lnTo>
                    <a:pt x="2086" y="114"/>
                  </a:lnTo>
                  <a:lnTo>
                    <a:pt x="2096" y="100"/>
                  </a:lnTo>
                  <a:lnTo>
                    <a:pt x="2110" y="88"/>
                  </a:lnTo>
                  <a:lnTo>
                    <a:pt x="2124" y="82"/>
                  </a:lnTo>
                  <a:lnTo>
                    <a:pt x="2140" y="78"/>
                  </a:lnTo>
                  <a:lnTo>
                    <a:pt x="2156" y="76"/>
                  </a:lnTo>
                  <a:lnTo>
                    <a:pt x="2172" y="78"/>
                  </a:lnTo>
                  <a:lnTo>
                    <a:pt x="2188" y="82"/>
                  </a:lnTo>
                  <a:lnTo>
                    <a:pt x="2204" y="88"/>
                  </a:lnTo>
                  <a:lnTo>
                    <a:pt x="2218" y="96"/>
                  </a:lnTo>
                  <a:lnTo>
                    <a:pt x="2230" y="104"/>
                  </a:lnTo>
                  <a:lnTo>
                    <a:pt x="2240" y="116"/>
                  </a:lnTo>
                  <a:lnTo>
                    <a:pt x="2248" y="128"/>
                  </a:lnTo>
                  <a:lnTo>
                    <a:pt x="2254" y="140"/>
                  </a:lnTo>
                  <a:lnTo>
                    <a:pt x="2254" y="140"/>
                  </a:lnTo>
                  <a:lnTo>
                    <a:pt x="2260" y="138"/>
                  </a:lnTo>
                  <a:lnTo>
                    <a:pt x="2266" y="134"/>
                  </a:lnTo>
                  <a:lnTo>
                    <a:pt x="2272" y="128"/>
                  </a:lnTo>
                  <a:lnTo>
                    <a:pt x="2278" y="118"/>
                  </a:lnTo>
                  <a:lnTo>
                    <a:pt x="2280" y="106"/>
                  </a:lnTo>
                  <a:lnTo>
                    <a:pt x="2280" y="92"/>
                  </a:lnTo>
                  <a:lnTo>
                    <a:pt x="2276" y="74"/>
                  </a:lnTo>
                  <a:lnTo>
                    <a:pt x="2276" y="74"/>
                  </a:lnTo>
                  <a:lnTo>
                    <a:pt x="2292" y="78"/>
                  </a:lnTo>
                  <a:lnTo>
                    <a:pt x="2308" y="86"/>
                  </a:lnTo>
                  <a:lnTo>
                    <a:pt x="2322" y="96"/>
                  </a:lnTo>
                  <a:lnTo>
                    <a:pt x="2334" y="108"/>
                  </a:lnTo>
                  <a:lnTo>
                    <a:pt x="2344" y="122"/>
                  </a:lnTo>
                  <a:lnTo>
                    <a:pt x="2352" y="138"/>
                  </a:lnTo>
                  <a:lnTo>
                    <a:pt x="2356" y="154"/>
                  </a:lnTo>
                  <a:lnTo>
                    <a:pt x="2356" y="172"/>
                  </a:lnTo>
                  <a:lnTo>
                    <a:pt x="2356" y="172"/>
                  </a:lnTo>
                  <a:lnTo>
                    <a:pt x="2356" y="180"/>
                  </a:lnTo>
                  <a:lnTo>
                    <a:pt x="2352" y="188"/>
                  </a:lnTo>
                  <a:lnTo>
                    <a:pt x="2350" y="196"/>
                  </a:lnTo>
                  <a:lnTo>
                    <a:pt x="2344" y="202"/>
                  </a:lnTo>
                  <a:lnTo>
                    <a:pt x="2338" y="208"/>
                  </a:lnTo>
                  <a:lnTo>
                    <a:pt x="2332" y="212"/>
                  </a:lnTo>
                  <a:lnTo>
                    <a:pt x="2326" y="216"/>
                  </a:lnTo>
                  <a:lnTo>
                    <a:pt x="2318" y="218"/>
                  </a:lnTo>
                  <a:lnTo>
                    <a:pt x="2310" y="218"/>
                  </a:lnTo>
                  <a:lnTo>
                    <a:pt x="2302" y="218"/>
                  </a:lnTo>
                  <a:lnTo>
                    <a:pt x="2292" y="214"/>
                  </a:lnTo>
                  <a:lnTo>
                    <a:pt x="2282" y="210"/>
                  </a:lnTo>
                  <a:lnTo>
                    <a:pt x="2272" y="202"/>
                  </a:lnTo>
                  <a:lnTo>
                    <a:pt x="2264" y="194"/>
                  </a:lnTo>
                  <a:lnTo>
                    <a:pt x="2254" y="182"/>
                  </a:lnTo>
                  <a:lnTo>
                    <a:pt x="2242" y="168"/>
                  </a:lnTo>
                  <a:lnTo>
                    <a:pt x="2242" y="168"/>
                  </a:lnTo>
                  <a:lnTo>
                    <a:pt x="2236" y="196"/>
                  </a:lnTo>
                  <a:lnTo>
                    <a:pt x="2232" y="222"/>
                  </a:lnTo>
                  <a:lnTo>
                    <a:pt x="2230" y="244"/>
                  </a:lnTo>
                  <a:lnTo>
                    <a:pt x="2234" y="262"/>
                  </a:lnTo>
                  <a:lnTo>
                    <a:pt x="2238" y="276"/>
                  </a:lnTo>
                  <a:lnTo>
                    <a:pt x="2246" y="288"/>
                  </a:lnTo>
                  <a:lnTo>
                    <a:pt x="2256" y="298"/>
                  </a:lnTo>
                  <a:lnTo>
                    <a:pt x="2266" y="306"/>
                  </a:lnTo>
                  <a:lnTo>
                    <a:pt x="2280" y="310"/>
                  </a:lnTo>
                  <a:lnTo>
                    <a:pt x="2292" y="312"/>
                  </a:lnTo>
                  <a:lnTo>
                    <a:pt x="2306" y="312"/>
                  </a:lnTo>
                  <a:lnTo>
                    <a:pt x="2320" y="308"/>
                  </a:lnTo>
                  <a:lnTo>
                    <a:pt x="2334" y="304"/>
                  </a:lnTo>
                  <a:lnTo>
                    <a:pt x="2348" y="298"/>
                  </a:lnTo>
                  <a:lnTo>
                    <a:pt x="2360" y="288"/>
                  </a:lnTo>
                  <a:lnTo>
                    <a:pt x="2372" y="278"/>
                  </a:lnTo>
                  <a:lnTo>
                    <a:pt x="2372" y="278"/>
                  </a:lnTo>
                  <a:lnTo>
                    <a:pt x="2378" y="270"/>
                  </a:lnTo>
                  <a:lnTo>
                    <a:pt x="2386" y="260"/>
                  </a:lnTo>
                  <a:lnTo>
                    <a:pt x="2390" y="250"/>
                  </a:lnTo>
                  <a:lnTo>
                    <a:pt x="2394" y="238"/>
                  </a:lnTo>
                  <a:lnTo>
                    <a:pt x="2400" y="214"/>
                  </a:lnTo>
                  <a:lnTo>
                    <a:pt x="2402" y="186"/>
                  </a:lnTo>
                  <a:lnTo>
                    <a:pt x="2400" y="172"/>
                  </a:lnTo>
                  <a:lnTo>
                    <a:pt x="2398" y="158"/>
                  </a:lnTo>
                  <a:lnTo>
                    <a:pt x="2394" y="144"/>
                  </a:lnTo>
                  <a:lnTo>
                    <a:pt x="2390" y="130"/>
                  </a:lnTo>
                  <a:lnTo>
                    <a:pt x="2384" y="116"/>
                  </a:lnTo>
                  <a:lnTo>
                    <a:pt x="2376" y="102"/>
                  </a:lnTo>
                  <a:lnTo>
                    <a:pt x="2368" y="90"/>
                  </a:lnTo>
                  <a:lnTo>
                    <a:pt x="2356" y="78"/>
                  </a:lnTo>
                  <a:lnTo>
                    <a:pt x="2356" y="78"/>
                  </a:lnTo>
                  <a:lnTo>
                    <a:pt x="2370" y="78"/>
                  </a:lnTo>
                  <a:lnTo>
                    <a:pt x="2378" y="82"/>
                  </a:lnTo>
                  <a:lnTo>
                    <a:pt x="2386" y="88"/>
                  </a:lnTo>
                  <a:lnTo>
                    <a:pt x="2394" y="98"/>
                  </a:lnTo>
                  <a:lnTo>
                    <a:pt x="2410" y="128"/>
                  </a:lnTo>
                  <a:lnTo>
                    <a:pt x="2420" y="146"/>
                  </a:lnTo>
                  <a:lnTo>
                    <a:pt x="2436" y="168"/>
                  </a:lnTo>
                  <a:lnTo>
                    <a:pt x="2436" y="168"/>
                  </a:lnTo>
                  <a:lnTo>
                    <a:pt x="2448" y="182"/>
                  </a:lnTo>
                  <a:lnTo>
                    <a:pt x="2462" y="194"/>
                  </a:lnTo>
                  <a:lnTo>
                    <a:pt x="2478" y="200"/>
                  </a:lnTo>
                  <a:lnTo>
                    <a:pt x="2494" y="204"/>
                  </a:lnTo>
                  <a:lnTo>
                    <a:pt x="2512" y="206"/>
                  </a:lnTo>
                  <a:lnTo>
                    <a:pt x="2528" y="204"/>
                  </a:lnTo>
                  <a:lnTo>
                    <a:pt x="2546" y="198"/>
                  </a:lnTo>
                  <a:lnTo>
                    <a:pt x="2562" y="192"/>
                  </a:lnTo>
                  <a:lnTo>
                    <a:pt x="2578" y="184"/>
                  </a:lnTo>
                  <a:lnTo>
                    <a:pt x="2592" y="172"/>
                  </a:lnTo>
                  <a:lnTo>
                    <a:pt x="2604" y="162"/>
                  </a:lnTo>
                  <a:lnTo>
                    <a:pt x="2614" y="148"/>
                  </a:lnTo>
                  <a:lnTo>
                    <a:pt x="2624" y="136"/>
                  </a:lnTo>
                  <a:lnTo>
                    <a:pt x="2630" y="122"/>
                  </a:lnTo>
                  <a:lnTo>
                    <a:pt x="2632" y="108"/>
                  </a:lnTo>
                  <a:lnTo>
                    <a:pt x="2632" y="94"/>
                  </a:lnTo>
                  <a:lnTo>
                    <a:pt x="2632" y="94"/>
                  </a:lnTo>
                  <a:lnTo>
                    <a:pt x="2630" y="80"/>
                  </a:lnTo>
                  <a:lnTo>
                    <a:pt x="2624" y="68"/>
                  </a:lnTo>
                  <a:lnTo>
                    <a:pt x="2618" y="56"/>
                  </a:lnTo>
                  <a:lnTo>
                    <a:pt x="2610" y="46"/>
                  </a:lnTo>
                  <a:lnTo>
                    <a:pt x="2602" y="38"/>
                  </a:lnTo>
                  <a:lnTo>
                    <a:pt x="2592" y="30"/>
                  </a:lnTo>
                  <a:lnTo>
                    <a:pt x="2580" y="24"/>
                  </a:lnTo>
                  <a:lnTo>
                    <a:pt x="2568" y="20"/>
                  </a:lnTo>
                  <a:lnTo>
                    <a:pt x="2556" y="18"/>
                  </a:lnTo>
                  <a:lnTo>
                    <a:pt x="2544" y="16"/>
                  </a:lnTo>
                  <a:lnTo>
                    <a:pt x="2530" y="18"/>
                  </a:lnTo>
                  <a:lnTo>
                    <a:pt x="2518" y="20"/>
                  </a:lnTo>
                  <a:lnTo>
                    <a:pt x="2504" y="22"/>
                  </a:lnTo>
                  <a:lnTo>
                    <a:pt x="2492" y="28"/>
                  </a:lnTo>
                  <a:lnTo>
                    <a:pt x="2478" y="34"/>
                  </a:lnTo>
                  <a:lnTo>
                    <a:pt x="2466" y="44"/>
                  </a:lnTo>
                  <a:lnTo>
                    <a:pt x="2466" y="44"/>
                  </a:lnTo>
                  <a:lnTo>
                    <a:pt x="2482" y="46"/>
                  </a:lnTo>
                  <a:lnTo>
                    <a:pt x="2498" y="50"/>
                  </a:lnTo>
                  <a:lnTo>
                    <a:pt x="2510" y="58"/>
                  </a:lnTo>
                  <a:lnTo>
                    <a:pt x="2520" y="66"/>
                  </a:lnTo>
                  <a:lnTo>
                    <a:pt x="2528" y="78"/>
                  </a:lnTo>
                  <a:lnTo>
                    <a:pt x="2530" y="84"/>
                  </a:lnTo>
                  <a:lnTo>
                    <a:pt x="2530" y="92"/>
                  </a:lnTo>
                  <a:lnTo>
                    <a:pt x="2530" y="98"/>
                  </a:lnTo>
                  <a:lnTo>
                    <a:pt x="2528" y="106"/>
                  </a:lnTo>
                  <a:lnTo>
                    <a:pt x="2524" y="114"/>
                  </a:lnTo>
                  <a:lnTo>
                    <a:pt x="2520" y="122"/>
                  </a:lnTo>
                  <a:lnTo>
                    <a:pt x="2520" y="122"/>
                  </a:lnTo>
                  <a:lnTo>
                    <a:pt x="2514" y="128"/>
                  </a:lnTo>
                  <a:lnTo>
                    <a:pt x="2508" y="134"/>
                  </a:lnTo>
                  <a:lnTo>
                    <a:pt x="2502" y="138"/>
                  </a:lnTo>
                  <a:lnTo>
                    <a:pt x="2494" y="140"/>
                  </a:lnTo>
                  <a:lnTo>
                    <a:pt x="2486" y="140"/>
                  </a:lnTo>
                  <a:lnTo>
                    <a:pt x="2480" y="140"/>
                  </a:lnTo>
                  <a:lnTo>
                    <a:pt x="2466" y="136"/>
                  </a:lnTo>
                  <a:lnTo>
                    <a:pt x="2452" y="126"/>
                  </a:lnTo>
                  <a:lnTo>
                    <a:pt x="2440" y="114"/>
                  </a:lnTo>
                  <a:lnTo>
                    <a:pt x="2432" y="100"/>
                  </a:lnTo>
                  <a:lnTo>
                    <a:pt x="2426" y="82"/>
                  </a:lnTo>
                  <a:lnTo>
                    <a:pt x="2426" y="82"/>
                  </a:lnTo>
                  <a:lnTo>
                    <a:pt x="2422" y="70"/>
                  </a:lnTo>
                  <a:lnTo>
                    <a:pt x="2418" y="58"/>
                  </a:lnTo>
                  <a:lnTo>
                    <a:pt x="2412" y="44"/>
                  </a:lnTo>
                  <a:lnTo>
                    <a:pt x="2404" y="34"/>
                  </a:lnTo>
                  <a:lnTo>
                    <a:pt x="2394" y="26"/>
                  </a:lnTo>
                  <a:lnTo>
                    <a:pt x="2388" y="24"/>
                  </a:lnTo>
                  <a:lnTo>
                    <a:pt x="2382" y="24"/>
                  </a:lnTo>
                  <a:lnTo>
                    <a:pt x="2376" y="24"/>
                  </a:lnTo>
                  <a:lnTo>
                    <a:pt x="2368" y="26"/>
                  </a:lnTo>
                  <a:lnTo>
                    <a:pt x="2360" y="30"/>
                  </a:lnTo>
                  <a:lnTo>
                    <a:pt x="2352" y="38"/>
                  </a:lnTo>
                  <a:lnTo>
                    <a:pt x="2352" y="38"/>
                  </a:lnTo>
                  <a:lnTo>
                    <a:pt x="2328" y="28"/>
                  </a:lnTo>
                  <a:lnTo>
                    <a:pt x="2300" y="20"/>
                  </a:lnTo>
                  <a:lnTo>
                    <a:pt x="2272" y="14"/>
                  </a:lnTo>
                  <a:lnTo>
                    <a:pt x="2242" y="12"/>
                  </a:lnTo>
                  <a:lnTo>
                    <a:pt x="2212" y="12"/>
                  </a:lnTo>
                  <a:lnTo>
                    <a:pt x="2182" y="16"/>
                  </a:lnTo>
                  <a:lnTo>
                    <a:pt x="2152" y="22"/>
                  </a:lnTo>
                  <a:lnTo>
                    <a:pt x="2122" y="32"/>
                  </a:lnTo>
                  <a:lnTo>
                    <a:pt x="2092" y="46"/>
                  </a:lnTo>
                  <a:lnTo>
                    <a:pt x="2064" y="62"/>
                  </a:lnTo>
                  <a:lnTo>
                    <a:pt x="2038" y="84"/>
                  </a:lnTo>
                  <a:lnTo>
                    <a:pt x="2014" y="108"/>
                  </a:lnTo>
                  <a:lnTo>
                    <a:pt x="1990" y="138"/>
                  </a:lnTo>
                  <a:lnTo>
                    <a:pt x="1970" y="170"/>
                  </a:lnTo>
                  <a:lnTo>
                    <a:pt x="1954" y="208"/>
                  </a:lnTo>
                  <a:lnTo>
                    <a:pt x="1940" y="250"/>
                  </a:lnTo>
                  <a:lnTo>
                    <a:pt x="1940" y="250"/>
                  </a:lnTo>
                  <a:lnTo>
                    <a:pt x="1930" y="214"/>
                  </a:lnTo>
                  <a:lnTo>
                    <a:pt x="1916" y="182"/>
                  </a:lnTo>
                  <a:lnTo>
                    <a:pt x="1898" y="152"/>
                  </a:lnTo>
                  <a:lnTo>
                    <a:pt x="1880" y="128"/>
                  </a:lnTo>
                  <a:lnTo>
                    <a:pt x="1856" y="104"/>
                  </a:lnTo>
                  <a:lnTo>
                    <a:pt x="1832" y="86"/>
                  </a:lnTo>
                  <a:lnTo>
                    <a:pt x="1806" y="68"/>
                  </a:lnTo>
                  <a:lnTo>
                    <a:pt x="1780" y="56"/>
                  </a:lnTo>
                  <a:lnTo>
                    <a:pt x="1750" y="44"/>
                  </a:lnTo>
                  <a:lnTo>
                    <a:pt x="1722" y="38"/>
                  </a:lnTo>
                  <a:lnTo>
                    <a:pt x="1694" y="32"/>
                  </a:lnTo>
                  <a:lnTo>
                    <a:pt x="1666" y="30"/>
                  </a:lnTo>
                  <a:lnTo>
                    <a:pt x="1638" y="30"/>
                  </a:lnTo>
                  <a:lnTo>
                    <a:pt x="1610" y="34"/>
                  </a:lnTo>
                  <a:lnTo>
                    <a:pt x="1586" y="38"/>
                  </a:lnTo>
                  <a:lnTo>
                    <a:pt x="1562" y="46"/>
                  </a:lnTo>
                  <a:lnTo>
                    <a:pt x="1562" y="46"/>
                  </a:lnTo>
                  <a:lnTo>
                    <a:pt x="1546" y="54"/>
                  </a:lnTo>
                  <a:lnTo>
                    <a:pt x="1532" y="62"/>
                  </a:lnTo>
                  <a:lnTo>
                    <a:pt x="1518" y="72"/>
                  </a:lnTo>
                  <a:lnTo>
                    <a:pt x="1506" y="82"/>
                  </a:lnTo>
                  <a:lnTo>
                    <a:pt x="1494" y="94"/>
                  </a:lnTo>
                  <a:lnTo>
                    <a:pt x="1484" y="106"/>
                  </a:lnTo>
                  <a:lnTo>
                    <a:pt x="1476" y="120"/>
                  </a:lnTo>
                  <a:lnTo>
                    <a:pt x="1468" y="134"/>
                  </a:lnTo>
                  <a:lnTo>
                    <a:pt x="1462" y="148"/>
                  </a:lnTo>
                  <a:lnTo>
                    <a:pt x="1456" y="162"/>
                  </a:lnTo>
                  <a:lnTo>
                    <a:pt x="1454" y="176"/>
                  </a:lnTo>
                  <a:lnTo>
                    <a:pt x="1452" y="190"/>
                  </a:lnTo>
                  <a:lnTo>
                    <a:pt x="1450" y="206"/>
                  </a:lnTo>
                  <a:lnTo>
                    <a:pt x="1452" y="218"/>
                  </a:lnTo>
                  <a:lnTo>
                    <a:pt x="1454" y="232"/>
                  </a:lnTo>
                  <a:lnTo>
                    <a:pt x="1458" y="246"/>
                  </a:lnTo>
                  <a:lnTo>
                    <a:pt x="1458" y="246"/>
                  </a:lnTo>
                  <a:lnTo>
                    <a:pt x="1464" y="258"/>
                  </a:lnTo>
                  <a:lnTo>
                    <a:pt x="1470" y="268"/>
                  </a:lnTo>
                  <a:lnTo>
                    <a:pt x="1478" y="278"/>
                  </a:lnTo>
                  <a:lnTo>
                    <a:pt x="1488" y="288"/>
                  </a:lnTo>
                  <a:lnTo>
                    <a:pt x="1498" y="296"/>
                  </a:lnTo>
                  <a:lnTo>
                    <a:pt x="1508" y="302"/>
                  </a:lnTo>
                  <a:lnTo>
                    <a:pt x="1520" y="308"/>
                  </a:lnTo>
                  <a:lnTo>
                    <a:pt x="1532" y="312"/>
                  </a:lnTo>
                  <a:lnTo>
                    <a:pt x="1546" y="314"/>
                  </a:lnTo>
                  <a:lnTo>
                    <a:pt x="1558" y="316"/>
                  </a:lnTo>
                  <a:lnTo>
                    <a:pt x="1572" y="318"/>
                  </a:lnTo>
                  <a:lnTo>
                    <a:pt x="1586" y="318"/>
                  </a:lnTo>
                  <a:lnTo>
                    <a:pt x="1598" y="316"/>
                  </a:lnTo>
                  <a:lnTo>
                    <a:pt x="1612" y="312"/>
                  </a:lnTo>
                  <a:lnTo>
                    <a:pt x="1624" y="308"/>
                  </a:lnTo>
                  <a:lnTo>
                    <a:pt x="1636" y="304"/>
                  </a:lnTo>
                  <a:lnTo>
                    <a:pt x="1636" y="304"/>
                  </a:lnTo>
                  <a:lnTo>
                    <a:pt x="1650" y="296"/>
                  </a:lnTo>
                  <a:lnTo>
                    <a:pt x="1660" y="286"/>
                  </a:lnTo>
                  <a:lnTo>
                    <a:pt x="1668" y="274"/>
                  </a:lnTo>
                  <a:lnTo>
                    <a:pt x="1674" y="262"/>
                  </a:lnTo>
                  <a:lnTo>
                    <a:pt x="1678" y="250"/>
                  </a:lnTo>
                  <a:lnTo>
                    <a:pt x="1680" y="238"/>
                  </a:lnTo>
                  <a:lnTo>
                    <a:pt x="1680" y="226"/>
                  </a:lnTo>
                  <a:lnTo>
                    <a:pt x="1676" y="214"/>
                  </a:lnTo>
                  <a:lnTo>
                    <a:pt x="1672" y="204"/>
                  </a:lnTo>
                  <a:lnTo>
                    <a:pt x="1666" y="196"/>
                  </a:lnTo>
                  <a:lnTo>
                    <a:pt x="1658" y="188"/>
                  </a:lnTo>
                  <a:lnTo>
                    <a:pt x="1648" y="182"/>
                  </a:lnTo>
                  <a:lnTo>
                    <a:pt x="1638" y="178"/>
                  </a:lnTo>
                  <a:lnTo>
                    <a:pt x="1626" y="178"/>
                  </a:lnTo>
                  <a:lnTo>
                    <a:pt x="1612" y="180"/>
                  </a:lnTo>
                  <a:lnTo>
                    <a:pt x="1596" y="186"/>
                  </a:lnTo>
                  <a:lnTo>
                    <a:pt x="1596" y="186"/>
                  </a:lnTo>
                  <a:lnTo>
                    <a:pt x="1590" y="166"/>
                  </a:lnTo>
                  <a:lnTo>
                    <a:pt x="1588" y="148"/>
                  </a:lnTo>
                  <a:lnTo>
                    <a:pt x="1590" y="130"/>
                  </a:lnTo>
                  <a:lnTo>
                    <a:pt x="1598" y="116"/>
                  </a:lnTo>
                  <a:lnTo>
                    <a:pt x="1608" y="104"/>
                  </a:lnTo>
                  <a:lnTo>
                    <a:pt x="1622" y="94"/>
                  </a:lnTo>
                  <a:lnTo>
                    <a:pt x="1638" y="86"/>
                  </a:lnTo>
                  <a:lnTo>
                    <a:pt x="1656" y="80"/>
                  </a:lnTo>
                  <a:lnTo>
                    <a:pt x="1676" y="78"/>
                  </a:lnTo>
                  <a:lnTo>
                    <a:pt x="1696" y="76"/>
                  </a:lnTo>
                  <a:lnTo>
                    <a:pt x="1718" y="78"/>
                  </a:lnTo>
                  <a:lnTo>
                    <a:pt x="1740" y="80"/>
                  </a:lnTo>
                  <a:lnTo>
                    <a:pt x="1760" y="86"/>
                  </a:lnTo>
                  <a:lnTo>
                    <a:pt x="1780" y="94"/>
                  </a:lnTo>
                  <a:lnTo>
                    <a:pt x="1800" y="104"/>
                  </a:lnTo>
                  <a:lnTo>
                    <a:pt x="1816" y="116"/>
                  </a:lnTo>
                  <a:lnTo>
                    <a:pt x="1816" y="116"/>
                  </a:lnTo>
                  <a:lnTo>
                    <a:pt x="1800" y="116"/>
                  </a:lnTo>
                  <a:lnTo>
                    <a:pt x="1780" y="118"/>
                  </a:lnTo>
                  <a:lnTo>
                    <a:pt x="1762" y="126"/>
                  </a:lnTo>
                  <a:lnTo>
                    <a:pt x="1746" y="138"/>
                  </a:lnTo>
                  <a:lnTo>
                    <a:pt x="1738" y="144"/>
                  </a:lnTo>
                  <a:lnTo>
                    <a:pt x="1732" y="152"/>
                  </a:lnTo>
                  <a:lnTo>
                    <a:pt x="1726" y="160"/>
                  </a:lnTo>
                  <a:lnTo>
                    <a:pt x="1722" y="170"/>
                  </a:lnTo>
                  <a:lnTo>
                    <a:pt x="1720" y="182"/>
                  </a:lnTo>
                  <a:lnTo>
                    <a:pt x="1720" y="194"/>
                  </a:lnTo>
                  <a:lnTo>
                    <a:pt x="1720" y="206"/>
                  </a:lnTo>
                  <a:lnTo>
                    <a:pt x="1724" y="220"/>
                  </a:lnTo>
                  <a:lnTo>
                    <a:pt x="1724" y="220"/>
                  </a:lnTo>
                  <a:lnTo>
                    <a:pt x="1736" y="218"/>
                  </a:lnTo>
                  <a:lnTo>
                    <a:pt x="1750" y="216"/>
                  </a:lnTo>
                  <a:lnTo>
                    <a:pt x="1762" y="216"/>
                  </a:lnTo>
                  <a:lnTo>
                    <a:pt x="1774" y="218"/>
                  </a:lnTo>
                  <a:lnTo>
                    <a:pt x="1786" y="220"/>
                  </a:lnTo>
                  <a:lnTo>
                    <a:pt x="1798" y="224"/>
                  </a:lnTo>
                  <a:lnTo>
                    <a:pt x="1810" y="230"/>
                  </a:lnTo>
                  <a:lnTo>
                    <a:pt x="1820" y="236"/>
                  </a:lnTo>
                  <a:lnTo>
                    <a:pt x="1840" y="252"/>
                  </a:lnTo>
                  <a:lnTo>
                    <a:pt x="1856" y="270"/>
                  </a:lnTo>
                  <a:lnTo>
                    <a:pt x="1872" y="292"/>
                  </a:lnTo>
                  <a:lnTo>
                    <a:pt x="1884" y="316"/>
                  </a:lnTo>
                  <a:lnTo>
                    <a:pt x="1892" y="342"/>
                  </a:lnTo>
                  <a:lnTo>
                    <a:pt x="1898" y="368"/>
                  </a:lnTo>
                  <a:lnTo>
                    <a:pt x="1900" y="396"/>
                  </a:lnTo>
                  <a:lnTo>
                    <a:pt x="1898" y="422"/>
                  </a:lnTo>
                  <a:lnTo>
                    <a:pt x="1892" y="446"/>
                  </a:lnTo>
                  <a:lnTo>
                    <a:pt x="1888" y="458"/>
                  </a:lnTo>
                  <a:lnTo>
                    <a:pt x="1882" y="470"/>
                  </a:lnTo>
                  <a:lnTo>
                    <a:pt x="1874" y="482"/>
                  </a:lnTo>
                  <a:lnTo>
                    <a:pt x="1866" y="492"/>
                  </a:lnTo>
                  <a:lnTo>
                    <a:pt x="1858" y="500"/>
                  </a:lnTo>
                  <a:lnTo>
                    <a:pt x="1846" y="510"/>
                  </a:lnTo>
                  <a:lnTo>
                    <a:pt x="1846" y="510"/>
                  </a:lnTo>
                  <a:lnTo>
                    <a:pt x="1850" y="498"/>
                  </a:lnTo>
                  <a:lnTo>
                    <a:pt x="1850" y="488"/>
                  </a:lnTo>
                  <a:lnTo>
                    <a:pt x="1850" y="476"/>
                  </a:lnTo>
                  <a:lnTo>
                    <a:pt x="1846" y="464"/>
                  </a:lnTo>
                  <a:lnTo>
                    <a:pt x="1842" y="452"/>
                  </a:lnTo>
                  <a:lnTo>
                    <a:pt x="1836" y="438"/>
                  </a:lnTo>
                  <a:lnTo>
                    <a:pt x="1822" y="416"/>
                  </a:lnTo>
                  <a:lnTo>
                    <a:pt x="1806" y="394"/>
                  </a:lnTo>
                  <a:lnTo>
                    <a:pt x="1788" y="374"/>
                  </a:lnTo>
                  <a:lnTo>
                    <a:pt x="1770" y="360"/>
                  </a:lnTo>
                  <a:lnTo>
                    <a:pt x="1754" y="352"/>
                  </a:lnTo>
                  <a:lnTo>
                    <a:pt x="1754" y="352"/>
                  </a:lnTo>
                  <a:lnTo>
                    <a:pt x="1770" y="378"/>
                  </a:lnTo>
                  <a:lnTo>
                    <a:pt x="1782" y="404"/>
                  </a:lnTo>
                  <a:lnTo>
                    <a:pt x="1790" y="430"/>
                  </a:lnTo>
                  <a:lnTo>
                    <a:pt x="1792" y="454"/>
                  </a:lnTo>
                  <a:lnTo>
                    <a:pt x="1792" y="478"/>
                  </a:lnTo>
                  <a:lnTo>
                    <a:pt x="1790" y="490"/>
                  </a:lnTo>
                  <a:lnTo>
                    <a:pt x="1786" y="502"/>
                  </a:lnTo>
                  <a:lnTo>
                    <a:pt x="1782" y="514"/>
                  </a:lnTo>
                  <a:lnTo>
                    <a:pt x="1776" y="524"/>
                  </a:lnTo>
                  <a:lnTo>
                    <a:pt x="1768" y="534"/>
                  </a:lnTo>
                  <a:lnTo>
                    <a:pt x="1760" y="544"/>
                  </a:lnTo>
                  <a:lnTo>
                    <a:pt x="1750" y="554"/>
                  </a:lnTo>
                  <a:lnTo>
                    <a:pt x="1738" y="562"/>
                  </a:lnTo>
                  <a:lnTo>
                    <a:pt x="1726" y="570"/>
                  </a:lnTo>
                  <a:lnTo>
                    <a:pt x="1712" y="578"/>
                  </a:lnTo>
                  <a:lnTo>
                    <a:pt x="1680" y="592"/>
                  </a:lnTo>
                  <a:lnTo>
                    <a:pt x="1642" y="602"/>
                  </a:lnTo>
                  <a:lnTo>
                    <a:pt x="1596" y="610"/>
                  </a:lnTo>
                  <a:lnTo>
                    <a:pt x="1546" y="614"/>
                  </a:lnTo>
                  <a:lnTo>
                    <a:pt x="1490" y="616"/>
                  </a:lnTo>
                  <a:lnTo>
                    <a:pt x="1426" y="612"/>
                  </a:lnTo>
                  <a:lnTo>
                    <a:pt x="1426" y="612"/>
                  </a:lnTo>
                  <a:lnTo>
                    <a:pt x="1454" y="610"/>
                  </a:lnTo>
                  <a:lnTo>
                    <a:pt x="1480" y="606"/>
                  </a:lnTo>
                  <a:lnTo>
                    <a:pt x="1506" y="600"/>
                  </a:lnTo>
                  <a:lnTo>
                    <a:pt x="1532" y="592"/>
                  </a:lnTo>
                  <a:lnTo>
                    <a:pt x="1556" y="584"/>
                  </a:lnTo>
                  <a:lnTo>
                    <a:pt x="1578" y="574"/>
                  </a:lnTo>
                  <a:lnTo>
                    <a:pt x="1600" y="564"/>
                  </a:lnTo>
                  <a:lnTo>
                    <a:pt x="1620" y="552"/>
                  </a:lnTo>
                  <a:lnTo>
                    <a:pt x="1640" y="538"/>
                  </a:lnTo>
                  <a:lnTo>
                    <a:pt x="1658" y="524"/>
                  </a:lnTo>
                  <a:lnTo>
                    <a:pt x="1676" y="508"/>
                  </a:lnTo>
                  <a:lnTo>
                    <a:pt x="1692" y="490"/>
                  </a:lnTo>
                  <a:lnTo>
                    <a:pt x="1706" y="472"/>
                  </a:lnTo>
                  <a:lnTo>
                    <a:pt x="1720" y="454"/>
                  </a:lnTo>
                  <a:lnTo>
                    <a:pt x="1732" y="432"/>
                  </a:lnTo>
                  <a:lnTo>
                    <a:pt x="1742" y="410"/>
                  </a:lnTo>
                  <a:lnTo>
                    <a:pt x="1742" y="410"/>
                  </a:lnTo>
                  <a:lnTo>
                    <a:pt x="1650" y="476"/>
                  </a:lnTo>
                  <a:lnTo>
                    <a:pt x="1650" y="476"/>
                  </a:lnTo>
                  <a:lnTo>
                    <a:pt x="1652" y="468"/>
                  </a:lnTo>
                  <a:lnTo>
                    <a:pt x="1654" y="456"/>
                  </a:lnTo>
                  <a:lnTo>
                    <a:pt x="1654" y="446"/>
                  </a:lnTo>
                  <a:lnTo>
                    <a:pt x="1652" y="436"/>
                  </a:lnTo>
                  <a:lnTo>
                    <a:pt x="1648" y="426"/>
                  </a:lnTo>
                  <a:lnTo>
                    <a:pt x="1644" y="414"/>
                  </a:lnTo>
                  <a:lnTo>
                    <a:pt x="1638" y="404"/>
                  </a:lnTo>
                  <a:lnTo>
                    <a:pt x="1632" y="396"/>
                  </a:lnTo>
                  <a:lnTo>
                    <a:pt x="1624" y="388"/>
                  </a:lnTo>
                  <a:lnTo>
                    <a:pt x="1616" y="380"/>
                  </a:lnTo>
                  <a:lnTo>
                    <a:pt x="1608" y="374"/>
                  </a:lnTo>
                  <a:lnTo>
                    <a:pt x="1598" y="370"/>
                  </a:lnTo>
                  <a:lnTo>
                    <a:pt x="1586" y="366"/>
                  </a:lnTo>
                  <a:lnTo>
                    <a:pt x="1576" y="366"/>
                  </a:lnTo>
                  <a:lnTo>
                    <a:pt x="1564" y="368"/>
                  </a:lnTo>
                  <a:lnTo>
                    <a:pt x="1550" y="370"/>
                  </a:lnTo>
                  <a:lnTo>
                    <a:pt x="1550" y="370"/>
                  </a:lnTo>
                  <a:lnTo>
                    <a:pt x="1564" y="380"/>
                  </a:lnTo>
                  <a:lnTo>
                    <a:pt x="1576" y="394"/>
                  </a:lnTo>
                  <a:lnTo>
                    <a:pt x="1586" y="410"/>
                  </a:lnTo>
                  <a:lnTo>
                    <a:pt x="1592" y="428"/>
                  </a:lnTo>
                  <a:lnTo>
                    <a:pt x="1594" y="438"/>
                  </a:lnTo>
                  <a:lnTo>
                    <a:pt x="1594" y="446"/>
                  </a:lnTo>
                  <a:lnTo>
                    <a:pt x="1594" y="456"/>
                  </a:lnTo>
                  <a:lnTo>
                    <a:pt x="1590" y="464"/>
                  </a:lnTo>
                  <a:lnTo>
                    <a:pt x="1586" y="474"/>
                  </a:lnTo>
                  <a:lnTo>
                    <a:pt x="1578" y="482"/>
                  </a:lnTo>
                  <a:lnTo>
                    <a:pt x="1568" y="490"/>
                  </a:lnTo>
                  <a:lnTo>
                    <a:pt x="1556" y="496"/>
                  </a:lnTo>
                  <a:lnTo>
                    <a:pt x="1556" y="496"/>
                  </a:lnTo>
                  <a:lnTo>
                    <a:pt x="1560" y="486"/>
                  </a:lnTo>
                  <a:lnTo>
                    <a:pt x="1560" y="476"/>
                  </a:lnTo>
                  <a:lnTo>
                    <a:pt x="1556" y="468"/>
                  </a:lnTo>
                  <a:lnTo>
                    <a:pt x="1552" y="460"/>
                  </a:lnTo>
                  <a:lnTo>
                    <a:pt x="1544" y="452"/>
                  </a:lnTo>
                  <a:lnTo>
                    <a:pt x="1536" y="448"/>
                  </a:lnTo>
                  <a:lnTo>
                    <a:pt x="1524" y="446"/>
                  </a:lnTo>
                  <a:lnTo>
                    <a:pt x="1510" y="446"/>
                  </a:lnTo>
                  <a:lnTo>
                    <a:pt x="1510" y="446"/>
                  </a:lnTo>
                  <a:lnTo>
                    <a:pt x="1506" y="472"/>
                  </a:lnTo>
                  <a:lnTo>
                    <a:pt x="1500" y="498"/>
                  </a:lnTo>
                  <a:lnTo>
                    <a:pt x="1488" y="520"/>
                  </a:lnTo>
                  <a:lnTo>
                    <a:pt x="1474" y="540"/>
                  </a:lnTo>
                  <a:lnTo>
                    <a:pt x="1466" y="548"/>
                  </a:lnTo>
                  <a:lnTo>
                    <a:pt x="1456" y="554"/>
                  </a:lnTo>
                  <a:lnTo>
                    <a:pt x="1446" y="560"/>
                  </a:lnTo>
                  <a:lnTo>
                    <a:pt x="1436" y="566"/>
                  </a:lnTo>
                  <a:lnTo>
                    <a:pt x="1424" y="570"/>
                  </a:lnTo>
                  <a:lnTo>
                    <a:pt x="1412" y="574"/>
                  </a:lnTo>
                  <a:lnTo>
                    <a:pt x="1400" y="576"/>
                  </a:lnTo>
                  <a:lnTo>
                    <a:pt x="1386" y="576"/>
                  </a:lnTo>
                  <a:lnTo>
                    <a:pt x="1358" y="576"/>
                  </a:lnTo>
                  <a:lnTo>
                    <a:pt x="1328" y="568"/>
                  </a:lnTo>
                  <a:lnTo>
                    <a:pt x="1296" y="556"/>
                  </a:lnTo>
                  <a:lnTo>
                    <a:pt x="1262" y="540"/>
                  </a:lnTo>
                  <a:lnTo>
                    <a:pt x="1226" y="516"/>
                  </a:lnTo>
                  <a:lnTo>
                    <a:pt x="1190" y="488"/>
                  </a:lnTo>
                  <a:lnTo>
                    <a:pt x="1152" y="452"/>
                  </a:lnTo>
                  <a:lnTo>
                    <a:pt x="1114" y="410"/>
                  </a:lnTo>
                  <a:lnTo>
                    <a:pt x="1114" y="410"/>
                  </a:lnTo>
                  <a:lnTo>
                    <a:pt x="1132" y="416"/>
                  </a:lnTo>
                  <a:lnTo>
                    <a:pt x="1150" y="420"/>
                  </a:lnTo>
                  <a:lnTo>
                    <a:pt x="1170" y="422"/>
                  </a:lnTo>
                  <a:lnTo>
                    <a:pt x="1190" y="424"/>
                  </a:lnTo>
                  <a:lnTo>
                    <a:pt x="1210" y="422"/>
                  </a:lnTo>
                  <a:lnTo>
                    <a:pt x="1232" y="420"/>
                  </a:lnTo>
                  <a:lnTo>
                    <a:pt x="1252" y="418"/>
                  </a:lnTo>
                  <a:lnTo>
                    <a:pt x="1274" y="412"/>
                  </a:lnTo>
                  <a:lnTo>
                    <a:pt x="1316" y="400"/>
                  </a:lnTo>
                  <a:lnTo>
                    <a:pt x="1356" y="384"/>
                  </a:lnTo>
                  <a:lnTo>
                    <a:pt x="1392" y="364"/>
                  </a:lnTo>
                  <a:lnTo>
                    <a:pt x="1424" y="342"/>
                  </a:lnTo>
                  <a:lnTo>
                    <a:pt x="1424" y="342"/>
                  </a:lnTo>
                  <a:lnTo>
                    <a:pt x="1408" y="346"/>
                  </a:lnTo>
                  <a:lnTo>
                    <a:pt x="1384" y="348"/>
                  </a:lnTo>
                  <a:lnTo>
                    <a:pt x="1350" y="350"/>
                  </a:lnTo>
                  <a:lnTo>
                    <a:pt x="1308" y="346"/>
                  </a:lnTo>
                  <a:lnTo>
                    <a:pt x="1308" y="346"/>
                  </a:lnTo>
                  <a:lnTo>
                    <a:pt x="1324" y="334"/>
                  </a:lnTo>
                  <a:lnTo>
                    <a:pt x="1340" y="318"/>
                  </a:lnTo>
                  <a:lnTo>
                    <a:pt x="1354" y="300"/>
                  </a:lnTo>
                  <a:lnTo>
                    <a:pt x="1360" y="290"/>
                  </a:lnTo>
                  <a:lnTo>
                    <a:pt x="1366" y="280"/>
                  </a:lnTo>
                  <a:lnTo>
                    <a:pt x="1370" y="268"/>
                  </a:lnTo>
                  <a:lnTo>
                    <a:pt x="1374" y="254"/>
                  </a:lnTo>
                  <a:lnTo>
                    <a:pt x="1376" y="238"/>
                  </a:lnTo>
                  <a:lnTo>
                    <a:pt x="1376" y="222"/>
                  </a:lnTo>
                  <a:lnTo>
                    <a:pt x="1374" y="204"/>
                  </a:lnTo>
                  <a:lnTo>
                    <a:pt x="1370" y="184"/>
                  </a:lnTo>
                  <a:lnTo>
                    <a:pt x="1364" y="164"/>
                  </a:lnTo>
                  <a:lnTo>
                    <a:pt x="1356" y="140"/>
                  </a:lnTo>
                  <a:lnTo>
                    <a:pt x="1356" y="140"/>
                  </a:lnTo>
                  <a:lnTo>
                    <a:pt x="1346" y="118"/>
                  </a:lnTo>
                  <a:lnTo>
                    <a:pt x="1334" y="98"/>
                  </a:lnTo>
                  <a:lnTo>
                    <a:pt x="1322" y="82"/>
                  </a:lnTo>
                  <a:lnTo>
                    <a:pt x="1306" y="66"/>
                  </a:lnTo>
                  <a:lnTo>
                    <a:pt x="1292" y="54"/>
                  </a:lnTo>
                  <a:lnTo>
                    <a:pt x="1274" y="44"/>
                  </a:lnTo>
                  <a:lnTo>
                    <a:pt x="1256" y="34"/>
                  </a:lnTo>
                  <a:lnTo>
                    <a:pt x="1238" y="28"/>
                  </a:lnTo>
                  <a:lnTo>
                    <a:pt x="1220" y="22"/>
                  </a:lnTo>
                  <a:lnTo>
                    <a:pt x="1200" y="20"/>
                  </a:lnTo>
                  <a:lnTo>
                    <a:pt x="1182" y="18"/>
                  </a:lnTo>
                  <a:lnTo>
                    <a:pt x="1162" y="18"/>
                  </a:lnTo>
                  <a:lnTo>
                    <a:pt x="1144" y="20"/>
                  </a:lnTo>
                  <a:lnTo>
                    <a:pt x="1124" y="24"/>
                  </a:lnTo>
                  <a:lnTo>
                    <a:pt x="1106" y="30"/>
                  </a:lnTo>
                  <a:lnTo>
                    <a:pt x="1090" y="38"/>
                  </a:lnTo>
                  <a:lnTo>
                    <a:pt x="1090" y="38"/>
                  </a:lnTo>
                  <a:lnTo>
                    <a:pt x="1074" y="46"/>
                  </a:lnTo>
                  <a:lnTo>
                    <a:pt x="1060" y="54"/>
                  </a:lnTo>
                  <a:lnTo>
                    <a:pt x="1050" y="64"/>
                  </a:lnTo>
                  <a:lnTo>
                    <a:pt x="1040" y="74"/>
                  </a:lnTo>
                  <a:lnTo>
                    <a:pt x="1030" y="86"/>
                  </a:lnTo>
                  <a:lnTo>
                    <a:pt x="1024" y="96"/>
                  </a:lnTo>
                  <a:lnTo>
                    <a:pt x="1020" y="108"/>
                  </a:lnTo>
                  <a:lnTo>
                    <a:pt x="1016" y="120"/>
                  </a:lnTo>
                  <a:lnTo>
                    <a:pt x="1014" y="130"/>
                  </a:lnTo>
                  <a:lnTo>
                    <a:pt x="1012" y="142"/>
                  </a:lnTo>
                  <a:lnTo>
                    <a:pt x="1012" y="154"/>
                  </a:lnTo>
                  <a:lnTo>
                    <a:pt x="1014" y="164"/>
                  </a:lnTo>
                  <a:lnTo>
                    <a:pt x="1016" y="174"/>
                  </a:lnTo>
                  <a:lnTo>
                    <a:pt x="1020" y="184"/>
                  </a:lnTo>
                  <a:lnTo>
                    <a:pt x="1032" y="202"/>
                  </a:lnTo>
                  <a:lnTo>
                    <a:pt x="1032" y="202"/>
                  </a:lnTo>
                  <a:lnTo>
                    <a:pt x="1046" y="218"/>
                  </a:lnTo>
                  <a:lnTo>
                    <a:pt x="1062" y="230"/>
                  </a:lnTo>
                  <a:lnTo>
                    <a:pt x="1080" y="238"/>
                  </a:lnTo>
                  <a:lnTo>
                    <a:pt x="1100" y="244"/>
                  </a:lnTo>
                  <a:lnTo>
                    <a:pt x="1110" y="244"/>
                  </a:lnTo>
                  <a:lnTo>
                    <a:pt x="1120" y="244"/>
                  </a:lnTo>
                  <a:lnTo>
                    <a:pt x="1130" y="242"/>
                  </a:lnTo>
                  <a:lnTo>
                    <a:pt x="1140" y="238"/>
                  </a:lnTo>
                  <a:lnTo>
                    <a:pt x="1150" y="234"/>
                  </a:lnTo>
                  <a:lnTo>
                    <a:pt x="1160" y="228"/>
                  </a:lnTo>
                  <a:lnTo>
                    <a:pt x="1168" y="220"/>
                  </a:lnTo>
                  <a:lnTo>
                    <a:pt x="1178" y="212"/>
                  </a:lnTo>
                  <a:lnTo>
                    <a:pt x="1178" y="212"/>
                  </a:lnTo>
                  <a:lnTo>
                    <a:pt x="1184" y="204"/>
                  </a:lnTo>
                  <a:lnTo>
                    <a:pt x="1188" y="194"/>
                  </a:lnTo>
                  <a:lnTo>
                    <a:pt x="1190" y="184"/>
                  </a:lnTo>
                  <a:lnTo>
                    <a:pt x="1192" y="174"/>
                  </a:lnTo>
                  <a:lnTo>
                    <a:pt x="1192" y="162"/>
                  </a:lnTo>
                  <a:lnTo>
                    <a:pt x="1190" y="152"/>
                  </a:lnTo>
                  <a:lnTo>
                    <a:pt x="1188" y="140"/>
                  </a:lnTo>
                  <a:lnTo>
                    <a:pt x="1184" y="130"/>
                  </a:lnTo>
                  <a:lnTo>
                    <a:pt x="1178" y="120"/>
                  </a:lnTo>
                  <a:lnTo>
                    <a:pt x="1170" y="112"/>
                  </a:lnTo>
                  <a:lnTo>
                    <a:pt x="1162" y="104"/>
                  </a:lnTo>
                  <a:lnTo>
                    <a:pt x="1152" y="96"/>
                  </a:lnTo>
                  <a:lnTo>
                    <a:pt x="1140" y="92"/>
                  </a:lnTo>
                  <a:lnTo>
                    <a:pt x="1128" y="88"/>
                  </a:lnTo>
                  <a:lnTo>
                    <a:pt x="1114" y="88"/>
                  </a:lnTo>
                  <a:lnTo>
                    <a:pt x="1098" y="90"/>
                  </a:lnTo>
                  <a:lnTo>
                    <a:pt x="1098" y="90"/>
                  </a:lnTo>
                  <a:lnTo>
                    <a:pt x="1110" y="80"/>
                  </a:lnTo>
                  <a:lnTo>
                    <a:pt x="1124" y="74"/>
                  </a:lnTo>
                  <a:lnTo>
                    <a:pt x="1136" y="68"/>
                  </a:lnTo>
                  <a:lnTo>
                    <a:pt x="1150" y="64"/>
                  </a:lnTo>
                  <a:lnTo>
                    <a:pt x="1162" y="60"/>
                  </a:lnTo>
                  <a:lnTo>
                    <a:pt x="1174" y="60"/>
                  </a:lnTo>
                  <a:lnTo>
                    <a:pt x="1188" y="60"/>
                  </a:lnTo>
                  <a:lnTo>
                    <a:pt x="1200" y="62"/>
                  </a:lnTo>
                  <a:lnTo>
                    <a:pt x="1210" y="64"/>
                  </a:lnTo>
                  <a:lnTo>
                    <a:pt x="1222" y="68"/>
                  </a:lnTo>
                  <a:lnTo>
                    <a:pt x="1232" y="74"/>
                  </a:lnTo>
                  <a:lnTo>
                    <a:pt x="1242" y="82"/>
                  </a:lnTo>
                  <a:lnTo>
                    <a:pt x="1250" y="88"/>
                  </a:lnTo>
                  <a:lnTo>
                    <a:pt x="1258" y="98"/>
                  </a:lnTo>
                  <a:lnTo>
                    <a:pt x="1264" y="108"/>
                  </a:lnTo>
                  <a:lnTo>
                    <a:pt x="1270" y="118"/>
                  </a:lnTo>
                  <a:lnTo>
                    <a:pt x="1270" y="118"/>
                  </a:lnTo>
                  <a:lnTo>
                    <a:pt x="1278" y="146"/>
                  </a:lnTo>
                  <a:lnTo>
                    <a:pt x="1282" y="162"/>
                  </a:lnTo>
                  <a:lnTo>
                    <a:pt x="1284" y="176"/>
                  </a:lnTo>
                  <a:lnTo>
                    <a:pt x="1284" y="192"/>
                  </a:lnTo>
                  <a:lnTo>
                    <a:pt x="1280" y="208"/>
                  </a:lnTo>
                  <a:lnTo>
                    <a:pt x="1276" y="226"/>
                  </a:lnTo>
                  <a:lnTo>
                    <a:pt x="1268" y="244"/>
                  </a:lnTo>
                  <a:lnTo>
                    <a:pt x="1268" y="244"/>
                  </a:lnTo>
                  <a:lnTo>
                    <a:pt x="1262" y="252"/>
                  </a:lnTo>
                  <a:lnTo>
                    <a:pt x="1256" y="260"/>
                  </a:lnTo>
                  <a:lnTo>
                    <a:pt x="1240" y="274"/>
                  </a:lnTo>
                  <a:lnTo>
                    <a:pt x="1222" y="286"/>
                  </a:lnTo>
                  <a:lnTo>
                    <a:pt x="1200" y="294"/>
                  </a:lnTo>
                  <a:lnTo>
                    <a:pt x="1176" y="300"/>
                  </a:lnTo>
                  <a:lnTo>
                    <a:pt x="1150" y="302"/>
                  </a:lnTo>
                  <a:lnTo>
                    <a:pt x="1124" y="302"/>
                  </a:lnTo>
                  <a:lnTo>
                    <a:pt x="1096" y="300"/>
                  </a:lnTo>
                  <a:lnTo>
                    <a:pt x="1066" y="296"/>
                  </a:lnTo>
                  <a:lnTo>
                    <a:pt x="1038" y="290"/>
                  </a:lnTo>
                  <a:lnTo>
                    <a:pt x="1008" y="282"/>
                  </a:lnTo>
                  <a:lnTo>
                    <a:pt x="980" y="272"/>
                  </a:lnTo>
                  <a:lnTo>
                    <a:pt x="952" y="260"/>
                  </a:lnTo>
                  <a:lnTo>
                    <a:pt x="926" y="246"/>
                  </a:lnTo>
                  <a:lnTo>
                    <a:pt x="900" y="232"/>
                  </a:lnTo>
                  <a:lnTo>
                    <a:pt x="878" y="216"/>
                  </a:lnTo>
                  <a:lnTo>
                    <a:pt x="878" y="216"/>
                  </a:lnTo>
                  <a:lnTo>
                    <a:pt x="844" y="190"/>
                  </a:lnTo>
                  <a:lnTo>
                    <a:pt x="806" y="164"/>
                  </a:lnTo>
                  <a:lnTo>
                    <a:pt x="764" y="138"/>
                  </a:lnTo>
                  <a:lnTo>
                    <a:pt x="718" y="112"/>
                  </a:lnTo>
                  <a:lnTo>
                    <a:pt x="670" y="88"/>
                  </a:lnTo>
                  <a:lnTo>
                    <a:pt x="616" y="64"/>
                  </a:lnTo>
                  <a:lnTo>
                    <a:pt x="560" y="42"/>
                  </a:lnTo>
                  <a:lnTo>
                    <a:pt x="498" y="22"/>
                  </a:lnTo>
                  <a:lnTo>
                    <a:pt x="498" y="22"/>
                  </a:lnTo>
                  <a:lnTo>
                    <a:pt x="472" y="16"/>
                  </a:lnTo>
                  <a:lnTo>
                    <a:pt x="444" y="10"/>
                  </a:lnTo>
                  <a:lnTo>
                    <a:pt x="416" y="6"/>
                  </a:lnTo>
                  <a:lnTo>
                    <a:pt x="386" y="2"/>
                  </a:lnTo>
                  <a:lnTo>
                    <a:pt x="356" y="0"/>
                  </a:lnTo>
                  <a:lnTo>
                    <a:pt x="326" y="0"/>
                  </a:lnTo>
                  <a:lnTo>
                    <a:pt x="260" y="0"/>
                  </a:lnTo>
                  <a:lnTo>
                    <a:pt x="194" y="6"/>
                  </a:lnTo>
                  <a:lnTo>
                    <a:pt x="162" y="12"/>
                  </a:lnTo>
                  <a:lnTo>
                    <a:pt x="128" y="18"/>
                  </a:lnTo>
                  <a:lnTo>
                    <a:pt x="96" y="26"/>
                  </a:lnTo>
                  <a:lnTo>
                    <a:pt x="64" y="34"/>
                  </a:lnTo>
                  <a:lnTo>
                    <a:pt x="32" y="44"/>
                  </a:lnTo>
                  <a:lnTo>
                    <a:pt x="0" y="56"/>
                  </a:lnTo>
                  <a:lnTo>
                    <a:pt x="16" y="106"/>
                  </a:lnTo>
                  <a:close/>
                  <a:moveTo>
                    <a:pt x="582" y="416"/>
                  </a:moveTo>
                  <a:lnTo>
                    <a:pt x="582" y="416"/>
                  </a:lnTo>
                  <a:lnTo>
                    <a:pt x="582" y="406"/>
                  </a:lnTo>
                  <a:lnTo>
                    <a:pt x="586" y="398"/>
                  </a:lnTo>
                  <a:lnTo>
                    <a:pt x="590" y="392"/>
                  </a:lnTo>
                  <a:lnTo>
                    <a:pt x="596" y="386"/>
                  </a:lnTo>
                  <a:lnTo>
                    <a:pt x="602" y="382"/>
                  </a:lnTo>
                  <a:lnTo>
                    <a:pt x="610" y="378"/>
                  </a:lnTo>
                  <a:lnTo>
                    <a:pt x="618" y="376"/>
                  </a:lnTo>
                  <a:lnTo>
                    <a:pt x="628" y="376"/>
                  </a:lnTo>
                  <a:lnTo>
                    <a:pt x="636" y="376"/>
                  </a:lnTo>
                  <a:lnTo>
                    <a:pt x="646" y="378"/>
                  </a:lnTo>
                  <a:lnTo>
                    <a:pt x="654" y="382"/>
                  </a:lnTo>
                  <a:lnTo>
                    <a:pt x="662" y="388"/>
                  </a:lnTo>
                  <a:lnTo>
                    <a:pt x="670" y="394"/>
                  </a:lnTo>
                  <a:lnTo>
                    <a:pt x="676" y="402"/>
                  </a:lnTo>
                  <a:lnTo>
                    <a:pt x="682" y="414"/>
                  </a:lnTo>
                  <a:lnTo>
                    <a:pt x="686" y="426"/>
                  </a:lnTo>
                  <a:lnTo>
                    <a:pt x="686" y="426"/>
                  </a:lnTo>
                  <a:lnTo>
                    <a:pt x="674" y="414"/>
                  </a:lnTo>
                  <a:lnTo>
                    <a:pt x="662" y="408"/>
                  </a:lnTo>
                  <a:lnTo>
                    <a:pt x="648" y="402"/>
                  </a:lnTo>
                  <a:lnTo>
                    <a:pt x="634" y="400"/>
                  </a:lnTo>
                  <a:lnTo>
                    <a:pt x="620" y="402"/>
                  </a:lnTo>
                  <a:lnTo>
                    <a:pt x="606" y="404"/>
                  </a:lnTo>
                  <a:lnTo>
                    <a:pt x="594" y="408"/>
                  </a:lnTo>
                  <a:lnTo>
                    <a:pt x="582" y="416"/>
                  </a:lnTo>
                  <a:lnTo>
                    <a:pt x="582" y="416"/>
                  </a:lnTo>
                  <a:close/>
                  <a:moveTo>
                    <a:pt x="960" y="548"/>
                  </a:moveTo>
                  <a:lnTo>
                    <a:pt x="960" y="548"/>
                  </a:lnTo>
                  <a:lnTo>
                    <a:pt x="974" y="588"/>
                  </a:lnTo>
                  <a:lnTo>
                    <a:pt x="982" y="628"/>
                  </a:lnTo>
                  <a:lnTo>
                    <a:pt x="986" y="662"/>
                  </a:lnTo>
                  <a:lnTo>
                    <a:pt x="986" y="696"/>
                  </a:lnTo>
                  <a:lnTo>
                    <a:pt x="984" y="726"/>
                  </a:lnTo>
                  <a:lnTo>
                    <a:pt x="978" y="756"/>
                  </a:lnTo>
                  <a:lnTo>
                    <a:pt x="968" y="784"/>
                  </a:lnTo>
                  <a:lnTo>
                    <a:pt x="954" y="810"/>
                  </a:lnTo>
                  <a:lnTo>
                    <a:pt x="954" y="810"/>
                  </a:lnTo>
                  <a:lnTo>
                    <a:pt x="944" y="824"/>
                  </a:lnTo>
                  <a:lnTo>
                    <a:pt x="936" y="836"/>
                  </a:lnTo>
                  <a:lnTo>
                    <a:pt x="924" y="846"/>
                  </a:lnTo>
                  <a:lnTo>
                    <a:pt x="914" y="856"/>
                  </a:lnTo>
                  <a:lnTo>
                    <a:pt x="902" y="862"/>
                  </a:lnTo>
                  <a:lnTo>
                    <a:pt x="890" y="868"/>
                  </a:lnTo>
                  <a:lnTo>
                    <a:pt x="878" y="872"/>
                  </a:lnTo>
                  <a:lnTo>
                    <a:pt x="864" y="874"/>
                  </a:lnTo>
                  <a:lnTo>
                    <a:pt x="840" y="876"/>
                  </a:lnTo>
                  <a:lnTo>
                    <a:pt x="814" y="872"/>
                  </a:lnTo>
                  <a:lnTo>
                    <a:pt x="792" y="868"/>
                  </a:lnTo>
                  <a:lnTo>
                    <a:pt x="772" y="860"/>
                  </a:lnTo>
                  <a:lnTo>
                    <a:pt x="772" y="860"/>
                  </a:lnTo>
                  <a:lnTo>
                    <a:pt x="798" y="862"/>
                  </a:lnTo>
                  <a:lnTo>
                    <a:pt x="824" y="860"/>
                  </a:lnTo>
                  <a:lnTo>
                    <a:pt x="846" y="854"/>
                  </a:lnTo>
                  <a:lnTo>
                    <a:pt x="866" y="844"/>
                  </a:lnTo>
                  <a:lnTo>
                    <a:pt x="882" y="832"/>
                  </a:lnTo>
                  <a:lnTo>
                    <a:pt x="894" y="816"/>
                  </a:lnTo>
                  <a:lnTo>
                    <a:pt x="898" y="808"/>
                  </a:lnTo>
                  <a:lnTo>
                    <a:pt x="900" y="800"/>
                  </a:lnTo>
                  <a:lnTo>
                    <a:pt x="902" y="792"/>
                  </a:lnTo>
                  <a:lnTo>
                    <a:pt x="902" y="782"/>
                  </a:lnTo>
                  <a:lnTo>
                    <a:pt x="902" y="782"/>
                  </a:lnTo>
                  <a:lnTo>
                    <a:pt x="876" y="786"/>
                  </a:lnTo>
                  <a:lnTo>
                    <a:pt x="862" y="786"/>
                  </a:lnTo>
                  <a:lnTo>
                    <a:pt x="848" y="784"/>
                  </a:lnTo>
                  <a:lnTo>
                    <a:pt x="832" y="782"/>
                  </a:lnTo>
                  <a:lnTo>
                    <a:pt x="818" y="778"/>
                  </a:lnTo>
                  <a:lnTo>
                    <a:pt x="806" y="772"/>
                  </a:lnTo>
                  <a:lnTo>
                    <a:pt x="796" y="766"/>
                  </a:lnTo>
                  <a:lnTo>
                    <a:pt x="796" y="766"/>
                  </a:lnTo>
                  <a:lnTo>
                    <a:pt x="842" y="758"/>
                  </a:lnTo>
                  <a:lnTo>
                    <a:pt x="862" y="754"/>
                  </a:lnTo>
                  <a:lnTo>
                    <a:pt x="882" y="750"/>
                  </a:lnTo>
                  <a:lnTo>
                    <a:pt x="900" y="744"/>
                  </a:lnTo>
                  <a:lnTo>
                    <a:pt x="914" y="738"/>
                  </a:lnTo>
                  <a:lnTo>
                    <a:pt x="928" y="728"/>
                  </a:lnTo>
                  <a:lnTo>
                    <a:pt x="940" y="718"/>
                  </a:lnTo>
                  <a:lnTo>
                    <a:pt x="950" y="706"/>
                  </a:lnTo>
                  <a:lnTo>
                    <a:pt x="958" y="692"/>
                  </a:lnTo>
                  <a:lnTo>
                    <a:pt x="964" y="676"/>
                  </a:lnTo>
                  <a:lnTo>
                    <a:pt x="968" y="656"/>
                  </a:lnTo>
                  <a:lnTo>
                    <a:pt x="968" y="634"/>
                  </a:lnTo>
                  <a:lnTo>
                    <a:pt x="968" y="608"/>
                  </a:lnTo>
                  <a:lnTo>
                    <a:pt x="966" y="580"/>
                  </a:lnTo>
                  <a:lnTo>
                    <a:pt x="960" y="548"/>
                  </a:lnTo>
                  <a:lnTo>
                    <a:pt x="960" y="548"/>
                  </a:lnTo>
                  <a:close/>
                  <a:moveTo>
                    <a:pt x="2124" y="376"/>
                  </a:moveTo>
                  <a:lnTo>
                    <a:pt x="2124" y="376"/>
                  </a:lnTo>
                  <a:lnTo>
                    <a:pt x="2116" y="386"/>
                  </a:lnTo>
                  <a:lnTo>
                    <a:pt x="2106" y="396"/>
                  </a:lnTo>
                  <a:lnTo>
                    <a:pt x="2098" y="402"/>
                  </a:lnTo>
                  <a:lnTo>
                    <a:pt x="2088" y="406"/>
                  </a:lnTo>
                  <a:lnTo>
                    <a:pt x="2078" y="408"/>
                  </a:lnTo>
                  <a:lnTo>
                    <a:pt x="2068" y="410"/>
                  </a:lnTo>
                  <a:lnTo>
                    <a:pt x="2058" y="408"/>
                  </a:lnTo>
                  <a:lnTo>
                    <a:pt x="2048" y="406"/>
                  </a:lnTo>
                  <a:lnTo>
                    <a:pt x="2040" y="402"/>
                  </a:lnTo>
                  <a:lnTo>
                    <a:pt x="2032" y="396"/>
                  </a:lnTo>
                  <a:lnTo>
                    <a:pt x="2024" y="390"/>
                  </a:lnTo>
                  <a:lnTo>
                    <a:pt x="2016" y="382"/>
                  </a:lnTo>
                  <a:lnTo>
                    <a:pt x="2010" y="372"/>
                  </a:lnTo>
                  <a:lnTo>
                    <a:pt x="2006" y="362"/>
                  </a:lnTo>
                  <a:lnTo>
                    <a:pt x="2002" y="350"/>
                  </a:lnTo>
                  <a:lnTo>
                    <a:pt x="2000" y="338"/>
                  </a:lnTo>
                  <a:lnTo>
                    <a:pt x="2000" y="338"/>
                  </a:lnTo>
                  <a:lnTo>
                    <a:pt x="2010" y="350"/>
                  </a:lnTo>
                  <a:lnTo>
                    <a:pt x="2022" y="360"/>
                  </a:lnTo>
                  <a:lnTo>
                    <a:pt x="2038" y="370"/>
                  </a:lnTo>
                  <a:lnTo>
                    <a:pt x="2054" y="376"/>
                  </a:lnTo>
                  <a:lnTo>
                    <a:pt x="2072" y="380"/>
                  </a:lnTo>
                  <a:lnTo>
                    <a:pt x="2090" y="382"/>
                  </a:lnTo>
                  <a:lnTo>
                    <a:pt x="2108" y="380"/>
                  </a:lnTo>
                  <a:lnTo>
                    <a:pt x="2124" y="376"/>
                  </a:lnTo>
                  <a:lnTo>
                    <a:pt x="2124" y="376"/>
                  </a:lnTo>
                  <a:close/>
                  <a:moveTo>
                    <a:pt x="2578" y="146"/>
                  </a:moveTo>
                  <a:lnTo>
                    <a:pt x="2578" y="146"/>
                  </a:lnTo>
                  <a:lnTo>
                    <a:pt x="2582" y="134"/>
                  </a:lnTo>
                  <a:lnTo>
                    <a:pt x="2584" y="120"/>
                  </a:lnTo>
                  <a:lnTo>
                    <a:pt x="2584" y="106"/>
                  </a:lnTo>
                  <a:lnTo>
                    <a:pt x="2582" y="92"/>
                  </a:lnTo>
                  <a:lnTo>
                    <a:pt x="2576" y="80"/>
                  </a:lnTo>
                  <a:lnTo>
                    <a:pt x="2570" y="66"/>
                  </a:lnTo>
                  <a:lnTo>
                    <a:pt x="2560" y="56"/>
                  </a:lnTo>
                  <a:lnTo>
                    <a:pt x="2546" y="46"/>
                  </a:lnTo>
                  <a:lnTo>
                    <a:pt x="2546" y="46"/>
                  </a:lnTo>
                  <a:lnTo>
                    <a:pt x="2560" y="48"/>
                  </a:lnTo>
                  <a:lnTo>
                    <a:pt x="2570" y="52"/>
                  </a:lnTo>
                  <a:lnTo>
                    <a:pt x="2580" y="56"/>
                  </a:lnTo>
                  <a:lnTo>
                    <a:pt x="2588" y="62"/>
                  </a:lnTo>
                  <a:lnTo>
                    <a:pt x="2596" y="70"/>
                  </a:lnTo>
                  <a:lnTo>
                    <a:pt x="2600" y="78"/>
                  </a:lnTo>
                  <a:lnTo>
                    <a:pt x="2604" y="86"/>
                  </a:lnTo>
                  <a:lnTo>
                    <a:pt x="2608" y="94"/>
                  </a:lnTo>
                  <a:lnTo>
                    <a:pt x="2608" y="104"/>
                  </a:lnTo>
                  <a:lnTo>
                    <a:pt x="2608" y="112"/>
                  </a:lnTo>
                  <a:lnTo>
                    <a:pt x="2606" y="120"/>
                  </a:lnTo>
                  <a:lnTo>
                    <a:pt x="2604" y="128"/>
                  </a:lnTo>
                  <a:lnTo>
                    <a:pt x="2598" y="134"/>
                  </a:lnTo>
                  <a:lnTo>
                    <a:pt x="2592" y="140"/>
                  </a:lnTo>
                  <a:lnTo>
                    <a:pt x="2586" y="144"/>
                  </a:lnTo>
                  <a:lnTo>
                    <a:pt x="2578" y="146"/>
                  </a:lnTo>
                  <a:lnTo>
                    <a:pt x="2578" y="146"/>
                  </a:lnTo>
                  <a:close/>
                  <a:moveTo>
                    <a:pt x="1616" y="222"/>
                  </a:moveTo>
                  <a:lnTo>
                    <a:pt x="1616" y="222"/>
                  </a:lnTo>
                  <a:lnTo>
                    <a:pt x="1624" y="222"/>
                  </a:lnTo>
                  <a:lnTo>
                    <a:pt x="1632" y="224"/>
                  </a:lnTo>
                  <a:lnTo>
                    <a:pt x="1636" y="230"/>
                  </a:lnTo>
                  <a:lnTo>
                    <a:pt x="1638" y="238"/>
                  </a:lnTo>
                  <a:lnTo>
                    <a:pt x="1636" y="248"/>
                  </a:lnTo>
                  <a:lnTo>
                    <a:pt x="1632" y="256"/>
                  </a:lnTo>
                  <a:lnTo>
                    <a:pt x="1624" y="264"/>
                  </a:lnTo>
                  <a:lnTo>
                    <a:pt x="1614" y="270"/>
                  </a:lnTo>
                  <a:lnTo>
                    <a:pt x="1614" y="270"/>
                  </a:lnTo>
                  <a:lnTo>
                    <a:pt x="1594" y="276"/>
                  </a:lnTo>
                  <a:lnTo>
                    <a:pt x="1570" y="278"/>
                  </a:lnTo>
                  <a:lnTo>
                    <a:pt x="1558" y="276"/>
                  </a:lnTo>
                  <a:lnTo>
                    <a:pt x="1546" y="274"/>
                  </a:lnTo>
                  <a:lnTo>
                    <a:pt x="1536" y="272"/>
                  </a:lnTo>
                  <a:lnTo>
                    <a:pt x="1524" y="266"/>
                  </a:lnTo>
                  <a:lnTo>
                    <a:pt x="1516" y="260"/>
                  </a:lnTo>
                  <a:lnTo>
                    <a:pt x="1508" y="250"/>
                  </a:lnTo>
                  <a:lnTo>
                    <a:pt x="1504" y="238"/>
                  </a:lnTo>
                  <a:lnTo>
                    <a:pt x="1500" y="224"/>
                  </a:lnTo>
                  <a:lnTo>
                    <a:pt x="1500" y="208"/>
                  </a:lnTo>
                  <a:lnTo>
                    <a:pt x="1504" y="190"/>
                  </a:lnTo>
                  <a:lnTo>
                    <a:pt x="1510" y="168"/>
                  </a:lnTo>
                  <a:lnTo>
                    <a:pt x="1520" y="144"/>
                  </a:lnTo>
                  <a:lnTo>
                    <a:pt x="1520" y="144"/>
                  </a:lnTo>
                  <a:lnTo>
                    <a:pt x="1526" y="164"/>
                  </a:lnTo>
                  <a:lnTo>
                    <a:pt x="1532" y="182"/>
                  </a:lnTo>
                  <a:lnTo>
                    <a:pt x="1538" y="198"/>
                  </a:lnTo>
                  <a:lnTo>
                    <a:pt x="1546" y="212"/>
                  </a:lnTo>
                  <a:lnTo>
                    <a:pt x="1550" y="218"/>
                  </a:lnTo>
                  <a:lnTo>
                    <a:pt x="1556" y="222"/>
                  </a:lnTo>
                  <a:lnTo>
                    <a:pt x="1562" y="224"/>
                  </a:lnTo>
                  <a:lnTo>
                    <a:pt x="1570" y="228"/>
                  </a:lnTo>
                  <a:lnTo>
                    <a:pt x="1578" y="228"/>
                  </a:lnTo>
                  <a:lnTo>
                    <a:pt x="1588" y="228"/>
                  </a:lnTo>
                  <a:lnTo>
                    <a:pt x="1616" y="222"/>
                  </a:lnTo>
                  <a:lnTo>
                    <a:pt x="1616" y="222"/>
                  </a:lnTo>
                  <a:close/>
                  <a:moveTo>
                    <a:pt x="1784" y="166"/>
                  </a:moveTo>
                  <a:lnTo>
                    <a:pt x="1784" y="166"/>
                  </a:lnTo>
                  <a:lnTo>
                    <a:pt x="1794" y="158"/>
                  </a:lnTo>
                  <a:lnTo>
                    <a:pt x="1804" y="154"/>
                  </a:lnTo>
                  <a:lnTo>
                    <a:pt x="1814" y="152"/>
                  </a:lnTo>
                  <a:lnTo>
                    <a:pt x="1824" y="152"/>
                  </a:lnTo>
                  <a:lnTo>
                    <a:pt x="1834" y="154"/>
                  </a:lnTo>
                  <a:lnTo>
                    <a:pt x="1844" y="158"/>
                  </a:lnTo>
                  <a:lnTo>
                    <a:pt x="1854" y="164"/>
                  </a:lnTo>
                  <a:lnTo>
                    <a:pt x="1862" y="172"/>
                  </a:lnTo>
                  <a:lnTo>
                    <a:pt x="1870" y="182"/>
                  </a:lnTo>
                  <a:lnTo>
                    <a:pt x="1878" y="194"/>
                  </a:lnTo>
                  <a:lnTo>
                    <a:pt x="1884" y="208"/>
                  </a:lnTo>
                  <a:lnTo>
                    <a:pt x="1890" y="222"/>
                  </a:lnTo>
                  <a:lnTo>
                    <a:pt x="1894" y="236"/>
                  </a:lnTo>
                  <a:lnTo>
                    <a:pt x="1898" y="254"/>
                  </a:lnTo>
                  <a:lnTo>
                    <a:pt x="1900" y="270"/>
                  </a:lnTo>
                  <a:lnTo>
                    <a:pt x="1902" y="290"/>
                  </a:lnTo>
                  <a:lnTo>
                    <a:pt x="1902" y="290"/>
                  </a:lnTo>
                  <a:lnTo>
                    <a:pt x="1890" y="262"/>
                  </a:lnTo>
                  <a:lnTo>
                    <a:pt x="1878" y="240"/>
                  </a:lnTo>
                  <a:lnTo>
                    <a:pt x="1866" y="220"/>
                  </a:lnTo>
                  <a:lnTo>
                    <a:pt x="1852" y="204"/>
                  </a:lnTo>
                  <a:lnTo>
                    <a:pt x="1836" y="190"/>
                  </a:lnTo>
                  <a:lnTo>
                    <a:pt x="1820" y="180"/>
                  </a:lnTo>
                  <a:lnTo>
                    <a:pt x="1802" y="172"/>
                  </a:lnTo>
                  <a:lnTo>
                    <a:pt x="1784" y="166"/>
                  </a:lnTo>
                  <a:lnTo>
                    <a:pt x="1784" y="166"/>
                  </a:lnTo>
                  <a:close/>
                  <a:moveTo>
                    <a:pt x="1156" y="192"/>
                  </a:moveTo>
                  <a:lnTo>
                    <a:pt x="1156" y="192"/>
                  </a:lnTo>
                  <a:lnTo>
                    <a:pt x="1148" y="198"/>
                  </a:lnTo>
                  <a:lnTo>
                    <a:pt x="1140" y="202"/>
                  </a:lnTo>
                  <a:lnTo>
                    <a:pt x="1132" y="206"/>
                  </a:lnTo>
                  <a:lnTo>
                    <a:pt x="1122" y="210"/>
                  </a:lnTo>
                  <a:lnTo>
                    <a:pt x="1114" y="210"/>
                  </a:lnTo>
                  <a:lnTo>
                    <a:pt x="1104" y="212"/>
                  </a:lnTo>
                  <a:lnTo>
                    <a:pt x="1094" y="210"/>
                  </a:lnTo>
                  <a:lnTo>
                    <a:pt x="1084" y="208"/>
                  </a:lnTo>
                  <a:lnTo>
                    <a:pt x="1076" y="204"/>
                  </a:lnTo>
                  <a:lnTo>
                    <a:pt x="1066" y="200"/>
                  </a:lnTo>
                  <a:lnTo>
                    <a:pt x="1058" y="194"/>
                  </a:lnTo>
                  <a:lnTo>
                    <a:pt x="1052" y="188"/>
                  </a:lnTo>
                  <a:lnTo>
                    <a:pt x="1046" y="180"/>
                  </a:lnTo>
                  <a:lnTo>
                    <a:pt x="1042" y="170"/>
                  </a:lnTo>
                  <a:lnTo>
                    <a:pt x="1038" y="160"/>
                  </a:lnTo>
                  <a:lnTo>
                    <a:pt x="1038" y="148"/>
                  </a:lnTo>
                  <a:lnTo>
                    <a:pt x="1038" y="148"/>
                  </a:lnTo>
                  <a:lnTo>
                    <a:pt x="1042" y="158"/>
                  </a:lnTo>
                  <a:lnTo>
                    <a:pt x="1048" y="164"/>
                  </a:lnTo>
                  <a:lnTo>
                    <a:pt x="1056" y="170"/>
                  </a:lnTo>
                  <a:lnTo>
                    <a:pt x="1064" y="174"/>
                  </a:lnTo>
                  <a:lnTo>
                    <a:pt x="1084" y="178"/>
                  </a:lnTo>
                  <a:lnTo>
                    <a:pt x="1104" y="180"/>
                  </a:lnTo>
                  <a:lnTo>
                    <a:pt x="1138" y="182"/>
                  </a:lnTo>
                  <a:lnTo>
                    <a:pt x="1150" y="186"/>
                  </a:lnTo>
                  <a:lnTo>
                    <a:pt x="1154" y="188"/>
                  </a:lnTo>
                  <a:lnTo>
                    <a:pt x="1156" y="192"/>
                  </a:lnTo>
                  <a:lnTo>
                    <a:pt x="1156" y="192"/>
                  </a:lnTo>
                  <a:close/>
                  <a:moveTo>
                    <a:pt x="628" y="106"/>
                  </a:moveTo>
                  <a:lnTo>
                    <a:pt x="628" y="106"/>
                  </a:lnTo>
                  <a:lnTo>
                    <a:pt x="608" y="112"/>
                  </a:lnTo>
                  <a:lnTo>
                    <a:pt x="586" y="116"/>
                  </a:lnTo>
                  <a:lnTo>
                    <a:pt x="564" y="114"/>
                  </a:lnTo>
                  <a:lnTo>
                    <a:pt x="544" y="110"/>
                  </a:lnTo>
                  <a:lnTo>
                    <a:pt x="522" y="104"/>
                  </a:lnTo>
                  <a:lnTo>
                    <a:pt x="500" y="96"/>
                  </a:lnTo>
                  <a:lnTo>
                    <a:pt x="452" y="78"/>
                  </a:lnTo>
                  <a:lnTo>
                    <a:pt x="452" y="78"/>
                  </a:lnTo>
                  <a:lnTo>
                    <a:pt x="456" y="86"/>
                  </a:lnTo>
                  <a:lnTo>
                    <a:pt x="466" y="104"/>
                  </a:lnTo>
                  <a:lnTo>
                    <a:pt x="470" y="116"/>
                  </a:lnTo>
                  <a:lnTo>
                    <a:pt x="472" y="128"/>
                  </a:lnTo>
                  <a:lnTo>
                    <a:pt x="474" y="142"/>
                  </a:lnTo>
                  <a:lnTo>
                    <a:pt x="470" y="156"/>
                  </a:lnTo>
                  <a:lnTo>
                    <a:pt x="470" y="156"/>
                  </a:lnTo>
                  <a:lnTo>
                    <a:pt x="454" y="136"/>
                  </a:lnTo>
                  <a:lnTo>
                    <a:pt x="430" y="116"/>
                  </a:lnTo>
                  <a:lnTo>
                    <a:pt x="402" y="98"/>
                  </a:lnTo>
                  <a:lnTo>
                    <a:pt x="370" y="82"/>
                  </a:lnTo>
                  <a:lnTo>
                    <a:pt x="332" y="66"/>
                  </a:lnTo>
                  <a:lnTo>
                    <a:pt x="288" y="54"/>
                  </a:lnTo>
                  <a:lnTo>
                    <a:pt x="242" y="44"/>
                  </a:lnTo>
                  <a:lnTo>
                    <a:pt x="192" y="40"/>
                  </a:lnTo>
                  <a:lnTo>
                    <a:pt x="192" y="40"/>
                  </a:lnTo>
                  <a:lnTo>
                    <a:pt x="222" y="36"/>
                  </a:lnTo>
                  <a:lnTo>
                    <a:pt x="252" y="34"/>
                  </a:lnTo>
                  <a:lnTo>
                    <a:pt x="282" y="32"/>
                  </a:lnTo>
                  <a:lnTo>
                    <a:pt x="312" y="32"/>
                  </a:lnTo>
                  <a:lnTo>
                    <a:pt x="372" y="34"/>
                  </a:lnTo>
                  <a:lnTo>
                    <a:pt x="432" y="42"/>
                  </a:lnTo>
                  <a:lnTo>
                    <a:pt x="488" y="54"/>
                  </a:lnTo>
                  <a:lnTo>
                    <a:pt x="542" y="68"/>
                  </a:lnTo>
                  <a:lnTo>
                    <a:pt x="566" y="76"/>
                  </a:lnTo>
                  <a:lnTo>
                    <a:pt x="588" y="86"/>
                  </a:lnTo>
                  <a:lnTo>
                    <a:pt x="610" y="96"/>
                  </a:lnTo>
                  <a:lnTo>
                    <a:pt x="628" y="106"/>
                  </a:lnTo>
                  <a:lnTo>
                    <a:pt x="628" y="106"/>
                  </a:lnTo>
                  <a:close/>
                </a:path>
              </a:pathLst>
            </a:custGeom>
            <a:solidFill>
              <a:srgbClr val="947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7"/>
            <p:cNvSpPr/>
            <p:nvPr/>
          </p:nvSpPr>
          <p:spPr>
            <a:xfrm>
              <a:off x="2023920" y="1650960"/>
              <a:ext cx="609480" cy="7617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384" h="480">
                  <a:moveTo>
                    <a:pt x="246" y="2"/>
                  </a:moveTo>
                  <a:lnTo>
                    <a:pt x="246" y="2"/>
                  </a:lnTo>
                  <a:lnTo>
                    <a:pt x="220" y="0"/>
                  </a:lnTo>
                  <a:lnTo>
                    <a:pt x="192" y="4"/>
                  </a:lnTo>
                  <a:lnTo>
                    <a:pt x="166" y="10"/>
                  </a:lnTo>
                  <a:lnTo>
                    <a:pt x="140" y="20"/>
                  </a:lnTo>
                  <a:lnTo>
                    <a:pt x="114" y="34"/>
                  </a:lnTo>
                  <a:lnTo>
                    <a:pt x="90" y="50"/>
                  </a:lnTo>
                  <a:lnTo>
                    <a:pt x="68" y="72"/>
                  </a:lnTo>
                  <a:lnTo>
                    <a:pt x="48" y="96"/>
                  </a:lnTo>
                  <a:lnTo>
                    <a:pt x="32" y="122"/>
                  </a:lnTo>
                  <a:lnTo>
                    <a:pt x="18" y="150"/>
                  </a:lnTo>
                  <a:lnTo>
                    <a:pt x="8" y="182"/>
                  </a:lnTo>
                  <a:lnTo>
                    <a:pt x="2" y="216"/>
                  </a:lnTo>
                  <a:lnTo>
                    <a:pt x="0" y="234"/>
                  </a:lnTo>
                  <a:lnTo>
                    <a:pt x="0" y="254"/>
                  </a:lnTo>
                  <a:lnTo>
                    <a:pt x="0" y="272"/>
                  </a:lnTo>
                  <a:lnTo>
                    <a:pt x="2" y="292"/>
                  </a:lnTo>
                  <a:lnTo>
                    <a:pt x="6" y="312"/>
                  </a:lnTo>
                  <a:lnTo>
                    <a:pt x="12" y="332"/>
                  </a:lnTo>
                  <a:lnTo>
                    <a:pt x="18" y="352"/>
                  </a:lnTo>
                  <a:lnTo>
                    <a:pt x="26" y="374"/>
                  </a:lnTo>
                  <a:lnTo>
                    <a:pt x="26" y="374"/>
                  </a:lnTo>
                  <a:lnTo>
                    <a:pt x="42" y="402"/>
                  </a:lnTo>
                  <a:lnTo>
                    <a:pt x="62" y="430"/>
                  </a:lnTo>
                  <a:lnTo>
                    <a:pt x="72" y="442"/>
                  </a:lnTo>
                  <a:lnTo>
                    <a:pt x="84" y="452"/>
                  </a:lnTo>
                  <a:lnTo>
                    <a:pt x="94" y="460"/>
                  </a:lnTo>
                  <a:lnTo>
                    <a:pt x="102" y="466"/>
                  </a:lnTo>
                  <a:lnTo>
                    <a:pt x="102" y="466"/>
                  </a:lnTo>
                  <a:lnTo>
                    <a:pt x="120" y="474"/>
                  </a:lnTo>
                  <a:lnTo>
                    <a:pt x="138" y="478"/>
                  </a:lnTo>
                  <a:lnTo>
                    <a:pt x="154" y="480"/>
                  </a:lnTo>
                  <a:lnTo>
                    <a:pt x="170" y="480"/>
                  </a:lnTo>
                  <a:lnTo>
                    <a:pt x="184" y="480"/>
                  </a:lnTo>
                  <a:lnTo>
                    <a:pt x="198" y="478"/>
                  </a:lnTo>
                  <a:lnTo>
                    <a:pt x="210" y="472"/>
                  </a:lnTo>
                  <a:lnTo>
                    <a:pt x="222" y="468"/>
                  </a:lnTo>
                  <a:lnTo>
                    <a:pt x="234" y="460"/>
                  </a:lnTo>
                  <a:lnTo>
                    <a:pt x="244" y="452"/>
                  </a:lnTo>
                  <a:lnTo>
                    <a:pt x="252" y="444"/>
                  </a:lnTo>
                  <a:lnTo>
                    <a:pt x="260" y="434"/>
                  </a:lnTo>
                  <a:lnTo>
                    <a:pt x="274" y="412"/>
                  </a:lnTo>
                  <a:lnTo>
                    <a:pt x="282" y="390"/>
                  </a:lnTo>
                  <a:lnTo>
                    <a:pt x="286" y="366"/>
                  </a:lnTo>
                  <a:lnTo>
                    <a:pt x="286" y="344"/>
                  </a:lnTo>
                  <a:lnTo>
                    <a:pt x="284" y="334"/>
                  </a:lnTo>
                  <a:lnTo>
                    <a:pt x="280" y="324"/>
                  </a:lnTo>
                  <a:lnTo>
                    <a:pt x="276" y="314"/>
                  </a:lnTo>
                  <a:lnTo>
                    <a:pt x="272" y="306"/>
                  </a:lnTo>
                  <a:lnTo>
                    <a:pt x="264" y="298"/>
                  </a:lnTo>
                  <a:lnTo>
                    <a:pt x="256" y="292"/>
                  </a:lnTo>
                  <a:lnTo>
                    <a:pt x="248" y="286"/>
                  </a:lnTo>
                  <a:lnTo>
                    <a:pt x="236" y="284"/>
                  </a:lnTo>
                  <a:lnTo>
                    <a:pt x="224" y="282"/>
                  </a:lnTo>
                  <a:lnTo>
                    <a:pt x="212" y="280"/>
                  </a:lnTo>
                  <a:lnTo>
                    <a:pt x="196" y="282"/>
                  </a:lnTo>
                  <a:lnTo>
                    <a:pt x="180" y="286"/>
                  </a:lnTo>
                  <a:lnTo>
                    <a:pt x="180" y="286"/>
                  </a:lnTo>
                  <a:lnTo>
                    <a:pt x="196" y="286"/>
                  </a:lnTo>
                  <a:lnTo>
                    <a:pt x="210" y="290"/>
                  </a:lnTo>
                  <a:lnTo>
                    <a:pt x="220" y="294"/>
                  </a:lnTo>
                  <a:lnTo>
                    <a:pt x="226" y="300"/>
                  </a:lnTo>
                  <a:lnTo>
                    <a:pt x="232" y="308"/>
                  </a:lnTo>
                  <a:lnTo>
                    <a:pt x="234" y="318"/>
                  </a:lnTo>
                  <a:lnTo>
                    <a:pt x="236" y="328"/>
                  </a:lnTo>
                  <a:lnTo>
                    <a:pt x="234" y="338"/>
                  </a:lnTo>
                  <a:lnTo>
                    <a:pt x="230" y="348"/>
                  </a:lnTo>
                  <a:lnTo>
                    <a:pt x="224" y="356"/>
                  </a:lnTo>
                  <a:lnTo>
                    <a:pt x="218" y="366"/>
                  </a:lnTo>
                  <a:lnTo>
                    <a:pt x="210" y="376"/>
                  </a:lnTo>
                  <a:lnTo>
                    <a:pt x="198" y="382"/>
                  </a:lnTo>
                  <a:lnTo>
                    <a:pt x="188" y="388"/>
                  </a:lnTo>
                  <a:lnTo>
                    <a:pt x="174" y="394"/>
                  </a:lnTo>
                  <a:lnTo>
                    <a:pt x="160" y="396"/>
                  </a:lnTo>
                  <a:lnTo>
                    <a:pt x="160" y="396"/>
                  </a:lnTo>
                  <a:lnTo>
                    <a:pt x="166" y="384"/>
                  </a:lnTo>
                  <a:lnTo>
                    <a:pt x="168" y="374"/>
                  </a:lnTo>
                  <a:lnTo>
                    <a:pt x="170" y="364"/>
                  </a:lnTo>
                  <a:lnTo>
                    <a:pt x="170" y="354"/>
                  </a:lnTo>
                  <a:lnTo>
                    <a:pt x="168" y="346"/>
                  </a:lnTo>
                  <a:lnTo>
                    <a:pt x="166" y="338"/>
                  </a:lnTo>
                  <a:lnTo>
                    <a:pt x="160" y="330"/>
                  </a:lnTo>
                  <a:lnTo>
                    <a:pt x="152" y="324"/>
                  </a:lnTo>
                  <a:lnTo>
                    <a:pt x="152" y="324"/>
                  </a:lnTo>
                  <a:lnTo>
                    <a:pt x="148" y="336"/>
                  </a:lnTo>
                  <a:lnTo>
                    <a:pt x="142" y="348"/>
                  </a:lnTo>
                  <a:lnTo>
                    <a:pt x="136" y="356"/>
                  </a:lnTo>
                  <a:lnTo>
                    <a:pt x="128" y="362"/>
                  </a:lnTo>
                  <a:lnTo>
                    <a:pt x="120" y="366"/>
                  </a:lnTo>
                  <a:lnTo>
                    <a:pt x="112" y="370"/>
                  </a:lnTo>
                  <a:lnTo>
                    <a:pt x="104" y="370"/>
                  </a:lnTo>
                  <a:lnTo>
                    <a:pt x="96" y="370"/>
                  </a:lnTo>
                  <a:lnTo>
                    <a:pt x="80" y="366"/>
                  </a:lnTo>
                  <a:lnTo>
                    <a:pt x="66" y="358"/>
                  </a:lnTo>
                  <a:lnTo>
                    <a:pt x="56" y="348"/>
                  </a:lnTo>
                  <a:lnTo>
                    <a:pt x="48" y="338"/>
                  </a:lnTo>
                  <a:lnTo>
                    <a:pt x="48" y="338"/>
                  </a:lnTo>
                  <a:lnTo>
                    <a:pt x="42" y="320"/>
                  </a:lnTo>
                  <a:lnTo>
                    <a:pt x="40" y="304"/>
                  </a:lnTo>
                  <a:lnTo>
                    <a:pt x="42" y="288"/>
                  </a:lnTo>
                  <a:lnTo>
                    <a:pt x="48" y="276"/>
                  </a:lnTo>
                  <a:lnTo>
                    <a:pt x="56" y="268"/>
                  </a:lnTo>
                  <a:lnTo>
                    <a:pt x="66" y="262"/>
                  </a:lnTo>
                  <a:lnTo>
                    <a:pt x="78" y="258"/>
                  </a:lnTo>
                  <a:lnTo>
                    <a:pt x="90" y="260"/>
                  </a:lnTo>
                  <a:lnTo>
                    <a:pt x="90" y="260"/>
                  </a:lnTo>
                  <a:lnTo>
                    <a:pt x="74" y="238"/>
                  </a:lnTo>
                  <a:lnTo>
                    <a:pt x="64" y="218"/>
                  </a:lnTo>
                  <a:lnTo>
                    <a:pt x="58" y="198"/>
                  </a:lnTo>
                  <a:lnTo>
                    <a:pt x="56" y="180"/>
                  </a:lnTo>
                  <a:lnTo>
                    <a:pt x="60" y="162"/>
                  </a:lnTo>
                  <a:lnTo>
                    <a:pt x="68" y="148"/>
                  </a:lnTo>
                  <a:lnTo>
                    <a:pt x="76" y="136"/>
                  </a:lnTo>
                  <a:lnTo>
                    <a:pt x="88" y="124"/>
                  </a:lnTo>
                  <a:lnTo>
                    <a:pt x="102" y="116"/>
                  </a:lnTo>
                  <a:lnTo>
                    <a:pt x="118" y="108"/>
                  </a:lnTo>
                  <a:lnTo>
                    <a:pt x="134" y="104"/>
                  </a:lnTo>
                  <a:lnTo>
                    <a:pt x="150" y="102"/>
                  </a:lnTo>
                  <a:lnTo>
                    <a:pt x="166" y="102"/>
                  </a:lnTo>
                  <a:lnTo>
                    <a:pt x="180" y="104"/>
                  </a:lnTo>
                  <a:lnTo>
                    <a:pt x="194" y="108"/>
                  </a:lnTo>
                  <a:lnTo>
                    <a:pt x="206" y="116"/>
                  </a:lnTo>
                  <a:lnTo>
                    <a:pt x="206" y="116"/>
                  </a:lnTo>
                  <a:lnTo>
                    <a:pt x="210" y="110"/>
                  </a:lnTo>
                  <a:lnTo>
                    <a:pt x="212" y="102"/>
                  </a:lnTo>
                  <a:lnTo>
                    <a:pt x="212" y="94"/>
                  </a:lnTo>
                  <a:lnTo>
                    <a:pt x="212" y="84"/>
                  </a:lnTo>
                  <a:lnTo>
                    <a:pt x="206" y="72"/>
                  </a:lnTo>
                  <a:lnTo>
                    <a:pt x="198" y="60"/>
                  </a:lnTo>
                  <a:lnTo>
                    <a:pt x="184" y="50"/>
                  </a:lnTo>
                  <a:lnTo>
                    <a:pt x="184" y="50"/>
                  </a:lnTo>
                  <a:lnTo>
                    <a:pt x="198" y="42"/>
                  </a:lnTo>
                  <a:lnTo>
                    <a:pt x="214" y="40"/>
                  </a:lnTo>
                  <a:lnTo>
                    <a:pt x="232" y="38"/>
                  </a:lnTo>
                  <a:lnTo>
                    <a:pt x="250" y="40"/>
                  </a:lnTo>
                  <a:lnTo>
                    <a:pt x="266" y="46"/>
                  </a:lnTo>
                  <a:lnTo>
                    <a:pt x="282" y="52"/>
                  </a:lnTo>
                  <a:lnTo>
                    <a:pt x="296" y="64"/>
                  </a:lnTo>
                  <a:lnTo>
                    <a:pt x="308" y="78"/>
                  </a:lnTo>
                  <a:lnTo>
                    <a:pt x="308" y="78"/>
                  </a:lnTo>
                  <a:lnTo>
                    <a:pt x="314" y="92"/>
                  </a:lnTo>
                  <a:lnTo>
                    <a:pt x="316" y="102"/>
                  </a:lnTo>
                  <a:lnTo>
                    <a:pt x="316" y="110"/>
                  </a:lnTo>
                  <a:lnTo>
                    <a:pt x="316" y="116"/>
                  </a:lnTo>
                  <a:lnTo>
                    <a:pt x="312" y="124"/>
                  </a:lnTo>
                  <a:lnTo>
                    <a:pt x="310" y="132"/>
                  </a:lnTo>
                  <a:lnTo>
                    <a:pt x="304" y="138"/>
                  </a:lnTo>
                  <a:lnTo>
                    <a:pt x="298" y="142"/>
                  </a:lnTo>
                  <a:lnTo>
                    <a:pt x="290" y="148"/>
                  </a:lnTo>
                  <a:lnTo>
                    <a:pt x="282" y="150"/>
                  </a:lnTo>
                  <a:lnTo>
                    <a:pt x="272" y="152"/>
                  </a:lnTo>
                  <a:lnTo>
                    <a:pt x="260" y="152"/>
                  </a:lnTo>
                  <a:lnTo>
                    <a:pt x="246" y="152"/>
                  </a:lnTo>
                  <a:lnTo>
                    <a:pt x="232" y="150"/>
                  </a:lnTo>
                  <a:lnTo>
                    <a:pt x="214" y="144"/>
                  </a:lnTo>
                  <a:lnTo>
                    <a:pt x="214" y="144"/>
                  </a:lnTo>
                  <a:lnTo>
                    <a:pt x="226" y="172"/>
                  </a:lnTo>
                  <a:lnTo>
                    <a:pt x="238" y="194"/>
                  </a:lnTo>
                  <a:lnTo>
                    <a:pt x="250" y="210"/>
                  </a:lnTo>
                  <a:lnTo>
                    <a:pt x="264" y="224"/>
                  </a:lnTo>
                  <a:lnTo>
                    <a:pt x="278" y="232"/>
                  </a:lnTo>
                  <a:lnTo>
                    <a:pt x="292" y="238"/>
                  </a:lnTo>
                  <a:lnTo>
                    <a:pt x="304" y="240"/>
                  </a:lnTo>
                  <a:lnTo>
                    <a:pt x="318" y="238"/>
                  </a:lnTo>
                  <a:lnTo>
                    <a:pt x="330" y="234"/>
                  </a:lnTo>
                  <a:lnTo>
                    <a:pt x="342" y="226"/>
                  </a:lnTo>
                  <a:lnTo>
                    <a:pt x="352" y="218"/>
                  </a:lnTo>
                  <a:lnTo>
                    <a:pt x="362" y="208"/>
                  </a:lnTo>
                  <a:lnTo>
                    <a:pt x="370" y="196"/>
                  </a:lnTo>
                  <a:lnTo>
                    <a:pt x="376" y="182"/>
                  </a:lnTo>
                  <a:lnTo>
                    <a:pt x="382" y="168"/>
                  </a:lnTo>
                  <a:lnTo>
                    <a:pt x="384" y="152"/>
                  </a:lnTo>
                  <a:lnTo>
                    <a:pt x="384" y="152"/>
                  </a:lnTo>
                  <a:lnTo>
                    <a:pt x="384" y="142"/>
                  </a:lnTo>
                  <a:lnTo>
                    <a:pt x="384" y="130"/>
                  </a:lnTo>
                  <a:lnTo>
                    <a:pt x="382" y="118"/>
                  </a:lnTo>
                  <a:lnTo>
                    <a:pt x="378" y="108"/>
                  </a:lnTo>
                  <a:lnTo>
                    <a:pt x="366" y="84"/>
                  </a:lnTo>
                  <a:lnTo>
                    <a:pt x="350" y="62"/>
                  </a:lnTo>
                  <a:lnTo>
                    <a:pt x="340" y="50"/>
                  </a:lnTo>
                  <a:lnTo>
                    <a:pt x="330" y="40"/>
                  </a:lnTo>
                  <a:lnTo>
                    <a:pt x="318" y="32"/>
                  </a:lnTo>
                  <a:lnTo>
                    <a:pt x="306" y="24"/>
                  </a:lnTo>
                  <a:lnTo>
                    <a:pt x="292" y="16"/>
                  </a:lnTo>
                  <a:lnTo>
                    <a:pt x="278" y="10"/>
                  </a:lnTo>
                  <a:lnTo>
                    <a:pt x="262" y="6"/>
                  </a:lnTo>
                  <a:lnTo>
                    <a:pt x="246" y="2"/>
                  </a:lnTo>
                  <a:lnTo>
                    <a:pt x="246" y="2"/>
                  </a:lnTo>
                  <a:close/>
                  <a:moveTo>
                    <a:pt x="248" y="382"/>
                  </a:moveTo>
                  <a:lnTo>
                    <a:pt x="248" y="382"/>
                  </a:lnTo>
                  <a:lnTo>
                    <a:pt x="248" y="394"/>
                  </a:lnTo>
                  <a:lnTo>
                    <a:pt x="246" y="408"/>
                  </a:lnTo>
                  <a:lnTo>
                    <a:pt x="242" y="418"/>
                  </a:lnTo>
                  <a:lnTo>
                    <a:pt x="238" y="428"/>
                  </a:lnTo>
                  <a:lnTo>
                    <a:pt x="230" y="436"/>
                  </a:lnTo>
                  <a:lnTo>
                    <a:pt x="224" y="442"/>
                  </a:lnTo>
                  <a:lnTo>
                    <a:pt x="216" y="448"/>
                  </a:lnTo>
                  <a:lnTo>
                    <a:pt x="206" y="450"/>
                  </a:lnTo>
                  <a:lnTo>
                    <a:pt x="196" y="454"/>
                  </a:lnTo>
                  <a:lnTo>
                    <a:pt x="186" y="454"/>
                  </a:lnTo>
                  <a:lnTo>
                    <a:pt x="176" y="454"/>
                  </a:lnTo>
                  <a:lnTo>
                    <a:pt x="166" y="450"/>
                  </a:lnTo>
                  <a:lnTo>
                    <a:pt x="156" y="448"/>
                  </a:lnTo>
                  <a:lnTo>
                    <a:pt x="146" y="442"/>
                  </a:lnTo>
                  <a:lnTo>
                    <a:pt x="136" y="436"/>
                  </a:lnTo>
                  <a:lnTo>
                    <a:pt x="126" y="426"/>
                  </a:lnTo>
                  <a:lnTo>
                    <a:pt x="126" y="426"/>
                  </a:lnTo>
                  <a:lnTo>
                    <a:pt x="142" y="430"/>
                  </a:lnTo>
                  <a:lnTo>
                    <a:pt x="158" y="430"/>
                  </a:lnTo>
                  <a:lnTo>
                    <a:pt x="174" y="428"/>
                  </a:lnTo>
                  <a:lnTo>
                    <a:pt x="192" y="424"/>
                  </a:lnTo>
                  <a:lnTo>
                    <a:pt x="208" y="416"/>
                  </a:lnTo>
                  <a:lnTo>
                    <a:pt x="224" y="406"/>
                  </a:lnTo>
                  <a:lnTo>
                    <a:pt x="238" y="394"/>
                  </a:lnTo>
                  <a:lnTo>
                    <a:pt x="248" y="382"/>
                  </a:lnTo>
                  <a:lnTo>
                    <a:pt x="248" y="382"/>
                  </a:lnTo>
                  <a:close/>
                </a:path>
              </a:pathLst>
            </a:custGeom>
            <a:solidFill>
              <a:srgbClr val="947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8"/>
            <p:cNvSpPr/>
            <p:nvPr/>
          </p:nvSpPr>
          <p:spPr>
            <a:xfrm>
              <a:off x="1442880" y="2619360"/>
              <a:ext cx="463320" cy="431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92" h="272">
                  <a:moveTo>
                    <a:pt x="2" y="176"/>
                  </a:moveTo>
                  <a:lnTo>
                    <a:pt x="2" y="176"/>
                  </a:lnTo>
                  <a:lnTo>
                    <a:pt x="8" y="200"/>
                  </a:lnTo>
                  <a:lnTo>
                    <a:pt x="18" y="220"/>
                  </a:lnTo>
                  <a:lnTo>
                    <a:pt x="28" y="236"/>
                  </a:lnTo>
                  <a:lnTo>
                    <a:pt x="34" y="244"/>
                  </a:lnTo>
                  <a:lnTo>
                    <a:pt x="42" y="250"/>
                  </a:lnTo>
                  <a:lnTo>
                    <a:pt x="42" y="250"/>
                  </a:lnTo>
                  <a:lnTo>
                    <a:pt x="56" y="258"/>
                  </a:lnTo>
                  <a:lnTo>
                    <a:pt x="74" y="266"/>
                  </a:lnTo>
                  <a:lnTo>
                    <a:pt x="90" y="270"/>
                  </a:lnTo>
                  <a:lnTo>
                    <a:pt x="108" y="272"/>
                  </a:lnTo>
                  <a:lnTo>
                    <a:pt x="126" y="272"/>
                  </a:lnTo>
                  <a:lnTo>
                    <a:pt x="142" y="268"/>
                  </a:lnTo>
                  <a:lnTo>
                    <a:pt x="156" y="260"/>
                  </a:lnTo>
                  <a:lnTo>
                    <a:pt x="168" y="250"/>
                  </a:lnTo>
                  <a:lnTo>
                    <a:pt x="168" y="250"/>
                  </a:lnTo>
                  <a:lnTo>
                    <a:pt x="152" y="252"/>
                  </a:lnTo>
                  <a:lnTo>
                    <a:pt x="138" y="252"/>
                  </a:lnTo>
                  <a:lnTo>
                    <a:pt x="126" y="250"/>
                  </a:lnTo>
                  <a:lnTo>
                    <a:pt x="112" y="246"/>
                  </a:lnTo>
                  <a:lnTo>
                    <a:pt x="102" y="244"/>
                  </a:lnTo>
                  <a:lnTo>
                    <a:pt x="90" y="238"/>
                  </a:lnTo>
                  <a:lnTo>
                    <a:pt x="82" y="232"/>
                  </a:lnTo>
                  <a:lnTo>
                    <a:pt x="72" y="226"/>
                  </a:lnTo>
                  <a:lnTo>
                    <a:pt x="66" y="220"/>
                  </a:lnTo>
                  <a:lnTo>
                    <a:pt x="60" y="212"/>
                  </a:lnTo>
                  <a:lnTo>
                    <a:pt x="54" y="204"/>
                  </a:lnTo>
                  <a:lnTo>
                    <a:pt x="50" y="196"/>
                  </a:lnTo>
                  <a:lnTo>
                    <a:pt x="48" y="186"/>
                  </a:lnTo>
                  <a:lnTo>
                    <a:pt x="46" y="178"/>
                  </a:lnTo>
                  <a:lnTo>
                    <a:pt x="46" y="168"/>
                  </a:lnTo>
                  <a:lnTo>
                    <a:pt x="48" y="158"/>
                  </a:lnTo>
                  <a:lnTo>
                    <a:pt x="48" y="158"/>
                  </a:lnTo>
                  <a:lnTo>
                    <a:pt x="54" y="134"/>
                  </a:lnTo>
                  <a:lnTo>
                    <a:pt x="64" y="118"/>
                  </a:lnTo>
                  <a:lnTo>
                    <a:pt x="74" y="106"/>
                  </a:lnTo>
                  <a:lnTo>
                    <a:pt x="86" y="98"/>
                  </a:lnTo>
                  <a:lnTo>
                    <a:pt x="98" y="96"/>
                  </a:lnTo>
                  <a:lnTo>
                    <a:pt x="110" y="98"/>
                  </a:lnTo>
                  <a:lnTo>
                    <a:pt x="122" y="104"/>
                  </a:lnTo>
                  <a:lnTo>
                    <a:pt x="132" y="110"/>
                  </a:lnTo>
                  <a:lnTo>
                    <a:pt x="142" y="120"/>
                  </a:lnTo>
                  <a:lnTo>
                    <a:pt x="150" y="130"/>
                  </a:lnTo>
                  <a:lnTo>
                    <a:pt x="154" y="140"/>
                  </a:lnTo>
                  <a:lnTo>
                    <a:pt x="156" y="150"/>
                  </a:lnTo>
                  <a:lnTo>
                    <a:pt x="154" y="160"/>
                  </a:lnTo>
                  <a:lnTo>
                    <a:pt x="148" y="168"/>
                  </a:lnTo>
                  <a:lnTo>
                    <a:pt x="138" y="174"/>
                  </a:lnTo>
                  <a:lnTo>
                    <a:pt x="124" y="178"/>
                  </a:lnTo>
                  <a:lnTo>
                    <a:pt x="124" y="178"/>
                  </a:lnTo>
                  <a:lnTo>
                    <a:pt x="138" y="186"/>
                  </a:lnTo>
                  <a:lnTo>
                    <a:pt x="152" y="194"/>
                  </a:lnTo>
                  <a:lnTo>
                    <a:pt x="166" y="198"/>
                  </a:lnTo>
                  <a:lnTo>
                    <a:pt x="178" y="200"/>
                  </a:lnTo>
                  <a:lnTo>
                    <a:pt x="190" y="200"/>
                  </a:lnTo>
                  <a:lnTo>
                    <a:pt x="202" y="198"/>
                  </a:lnTo>
                  <a:lnTo>
                    <a:pt x="212" y="192"/>
                  </a:lnTo>
                  <a:lnTo>
                    <a:pt x="220" y="186"/>
                  </a:lnTo>
                  <a:lnTo>
                    <a:pt x="228" y="180"/>
                  </a:lnTo>
                  <a:lnTo>
                    <a:pt x="234" y="170"/>
                  </a:lnTo>
                  <a:lnTo>
                    <a:pt x="238" y="160"/>
                  </a:lnTo>
                  <a:lnTo>
                    <a:pt x="242" y="148"/>
                  </a:lnTo>
                  <a:lnTo>
                    <a:pt x="244" y="136"/>
                  </a:lnTo>
                  <a:lnTo>
                    <a:pt x="244" y="122"/>
                  </a:lnTo>
                  <a:lnTo>
                    <a:pt x="240" y="110"/>
                  </a:lnTo>
                  <a:lnTo>
                    <a:pt x="236" y="96"/>
                  </a:lnTo>
                  <a:lnTo>
                    <a:pt x="236" y="96"/>
                  </a:lnTo>
                  <a:lnTo>
                    <a:pt x="260" y="84"/>
                  </a:lnTo>
                  <a:lnTo>
                    <a:pt x="292" y="66"/>
                  </a:lnTo>
                  <a:lnTo>
                    <a:pt x="292" y="66"/>
                  </a:lnTo>
                  <a:lnTo>
                    <a:pt x="280" y="52"/>
                  </a:lnTo>
                  <a:lnTo>
                    <a:pt x="268" y="40"/>
                  </a:lnTo>
                  <a:lnTo>
                    <a:pt x="256" y="32"/>
                  </a:lnTo>
                  <a:lnTo>
                    <a:pt x="244" y="24"/>
                  </a:lnTo>
                  <a:lnTo>
                    <a:pt x="218" y="14"/>
                  </a:lnTo>
                  <a:lnTo>
                    <a:pt x="190" y="4"/>
                  </a:lnTo>
                  <a:lnTo>
                    <a:pt x="190" y="4"/>
                  </a:lnTo>
                  <a:lnTo>
                    <a:pt x="180" y="2"/>
                  </a:lnTo>
                  <a:lnTo>
                    <a:pt x="170" y="0"/>
                  </a:lnTo>
                  <a:lnTo>
                    <a:pt x="140" y="0"/>
                  </a:lnTo>
                  <a:lnTo>
                    <a:pt x="114" y="0"/>
                  </a:lnTo>
                  <a:lnTo>
                    <a:pt x="102" y="4"/>
                  </a:lnTo>
                  <a:lnTo>
                    <a:pt x="94" y="6"/>
                  </a:lnTo>
                  <a:lnTo>
                    <a:pt x="94" y="6"/>
                  </a:lnTo>
                  <a:lnTo>
                    <a:pt x="72" y="20"/>
                  </a:lnTo>
                  <a:lnTo>
                    <a:pt x="50" y="38"/>
                  </a:lnTo>
                  <a:lnTo>
                    <a:pt x="34" y="56"/>
                  </a:lnTo>
                  <a:lnTo>
                    <a:pt x="20" y="78"/>
                  </a:lnTo>
                  <a:lnTo>
                    <a:pt x="8" y="102"/>
                  </a:lnTo>
                  <a:lnTo>
                    <a:pt x="2" y="126"/>
                  </a:lnTo>
                  <a:lnTo>
                    <a:pt x="0" y="150"/>
                  </a:lnTo>
                  <a:lnTo>
                    <a:pt x="2" y="176"/>
                  </a:lnTo>
                  <a:lnTo>
                    <a:pt x="2" y="176"/>
                  </a:lnTo>
                  <a:close/>
                  <a:moveTo>
                    <a:pt x="226" y="52"/>
                  </a:moveTo>
                  <a:lnTo>
                    <a:pt x="226" y="52"/>
                  </a:lnTo>
                  <a:lnTo>
                    <a:pt x="198" y="64"/>
                  </a:lnTo>
                  <a:lnTo>
                    <a:pt x="188" y="70"/>
                  </a:lnTo>
                  <a:lnTo>
                    <a:pt x="180" y="78"/>
                  </a:lnTo>
                  <a:lnTo>
                    <a:pt x="180" y="78"/>
                  </a:lnTo>
                  <a:lnTo>
                    <a:pt x="188" y="84"/>
                  </a:lnTo>
                  <a:lnTo>
                    <a:pt x="194" y="90"/>
                  </a:lnTo>
                  <a:lnTo>
                    <a:pt x="200" y="100"/>
                  </a:lnTo>
                  <a:lnTo>
                    <a:pt x="204" y="112"/>
                  </a:lnTo>
                  <a:lnTo>
                    <a:pt x="206" y="122"/>
                  </a:lnTo>
                  <a:lnTo>
                    <a:pt x="204" y="134"/>
                  </a:lnTo>
                  <a:lnTo>
                    <a:pt x="202" y="144"/>
                  </a:lnTo>
                  <a:lnTo>
                    <a:pt x="196" y="152"/>
                  </a:lnTo>
                  <a:lnTo>
                    <a:pt x="196" y="152"/>
                  </a:lnTo>
                  <a:lnTo>
                    <a:pt x="194" y="140"/>
                  </a:lnTo>
                  <a:lnTo>
                    <a:pt x="188" y="122"/>
                  </a:lnTo>
                  <a:lnTo>
                    <a:pt x="180" y="104"/>
                  </a:lnTo>
                  <a:lnTo>
                    <a:pt x="174" y="96"/>
                  </a:lnTo>
                  <a:lnTo>
                    <a:pt x="166" y="88"/>
                  </a:lnTo>
                  <a:lnTo>
                    <a:pt x="158" y="80"/>
                  </a:lnTo>
                  <a:lnTo>
                    <a:pt x="148" y="72"/>
                  </a:lnTo>
                  <a:lnTo>
                    <a:pt x="138" y="68"/>
                  </a:lnTo>
                  <a:lnTo>
                    <a:pt x="126" y="64"/>
                  </a:lnTo>
                  <a:lnTo>
                    <a:pt x="114" y="62"/>
                  </a:lnTo>
                  <a:lnTo>
                    <a:pt x="100" y="62"/>
                  </a:lnTo>
                  <a:lnTo>
                    <a:pt x="84" y="66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80" y="62"/>
                  </a:lnTo>
                  <a:lnTo>
                    <a:pt x="94" y="54"/>
                  </a:lnTo>
                  <a:lnTo>
                    <a:pt x="108" y="46"/>
                  </a:lnTo>
                  <a:lnTo>
                    <a:pt x="126" y="42"/>
                  </a:lnTo>
                  <a:lnTo>
                    <a:pt x="146" y="40"/>
                  </a:lnTo>
                  <a:lnTo>
                    <a:pt x="170" y="40"/>
                  </a:lnTo>
                  <a:lnTo>
                    <a:pt x="196" y="44"/>
                  </a:lnTo>
                  <a:lnTo>
                    <a:pt x="226" y="52"/>
                  </a:lnTo>
                  <a:lnTo>
                    <a:pt x="226" y="52"/>
                  </a:lnTo>
                  <a:close/>
                </a:path>
              </a:pathLst>
            </a:custGeom>
            <a:solidFill>
              <a:srgbClr val="947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9"/>
            <p:cNvSpPr/>
            <p:nvPr/>
          </p:nvSpPr>
          <p:spPr>
            <a:xfrm>
              <a:off x="376200" y="311040"/>
              <a:ext cx="1952640" cy="4826160"/>
            </a:xfrm>
            <a:custGeom>
              <a:avLst/>
              <a:gdLst>
                <a:gd name="textAreaLeft" fmla="*/ 0 w 1952640"/>
                <a:gd name="textAreaRight" fmla="*/ 1952640 w 1952640"/>
                <a:gd name="textAreaTop" fmla="*/ 0 h 4826160"/>
                <a:gd name="textAreaBottom" fmla="*/ 4826520 h 4826160"/>
              </a:gdLst>
              <a:ahLst/>
              <a:rect l="textAreaLeft" t="textAreaTop" r="textAreaRight" b="textAreaBottom"/>
              <a:pathLst>
                <a:path w="1230" h="3040">
                  <a:moveTo>
                    <a:pt x="148" y="210"/>
                  </a:moveTo>
                  <a:lnTo>
                    <a:pt x="148" y="210"/>
                  </a:lnTo>
                  <a:lnTo>
                    <a:pt x="132" y="220"/>
                  </a:lnTo>
                  <a:lnTo>
                    <a:pt x="112" y="226"/>
                  </a:lnTo>
                  <a:lnTo>
                    <a:pt x="92" y="232"/>
                  </a:lnTo>
                  <a:lnTo>
                    <a:pt x="70" y="236"/>
                  </a:lnTo>
                  <a:lnTo>
                    <a:pt x="50" y="236"/>
                  </a:lnTo>
                  <a:lnTo>
                    <a:pt x="32" y="236"/>
                  </a:lnTo>
                  <a:lnTo>
                    <a:pt x="14" y="234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10" y="238"/>
                  </a:lnTo>
                  <a:lnTo>
                    <a:pt x="20" y="246"/>
                  </a:lnTo>
                  <a:lnTo>
                    <a:pt x="30" y="252"/>
                  </a:lnTo>
                  <a:lnTo>
                    <a:pt x="40" y="258"/>
                  </a:lnTo>
                  <a:lnTo>
                    <a:pt x="64" y="266"/>
                  </a:lnTo>
                  <a:lnTo>
                    <a:pt x="90" y="270"/>
                  </a:lnTo>
                  <a:lnTo>
                    <a:pt x="116" y="272"/>
                  </a:lnTo>
                  <a:lnTo>
                    <a:pt x="142" y="270"/>
                  </a:lnTo>
                  <a:lnTo>
                    <a:pt x="166" y="266"/>
                  </a:lnTo>
                  <a:lnTo>
                    <a:pt x="188" y="260"/>
                  </a:lnTo>
                  <a:lnTo>
                    <a:pt x="188" y="260"/>
                  </a:lnTo>
                  <a:lnTo>
                    <a:pt x="164" y="292"/>
                  </a:lnTo>
                  <a:lnTo>
                    <a:pt x="142" y="328"/>
                  </a:lnTo>
                  <a:lnTo>
                    <a:pt x="122" y="366"/>
                  </a:lnTo>
                  <a:lnTo>
                    <a:pt x="106" y="406"/>
                  </a:lnTo>
                  <a:lnTo>
                    <a:pt x="90" y="448"/>
                  </a:lnTo>
                  <a:lnTo>
                    <a:pt x="78" y="492"/>
                  </a:lnTo>
                  <a:lnTo>
                    <a:pt x="68" y="536"/>
                  </a:lnTo>
                  <a:lnTo>
                    <a:pt x="60" y="580"/>
                  </a:lnTo>
                  <a:lnTo>
                    <a:pt x="54" y="624"/>
                  </a:lnTo>
                  <a:lnTo>
                    <a:pt x="50" y="668"/>
                  </a:lnTo>
                  <a:lnTo>
                    <a:pt x="48" y="710"/>
                  </a:lnTo>
                  <a:lnTo>
                    <a:pt x="48" y="752"/>
                  </a:lnTo>
                  <a:lnTo>
                    <a:pt x="50" y="794"/>
                  </a:lnTo>
                  <a:lnTo>
                    <a:pt x="54" y="832"/>
                  </a:lnTo>
                  <a:lnTo>
                    <a:pt x="62" y="870"/>
                  </a:lnTo>
                  <a:lnTo>
                    <a:pt x="70" y="904"/>
                  </a:lnTo>
                  <a:lnTo>
                    <a:pt x="70" y="904"/>
                  </a:lnTo>
                  <a:lnTo>
                    <a:pt x="90" y="966"/>
                  </a:lnTo>
                  <a:lnTo>
                    <a:pt x="110" y="1024"/>
                  </a:lnTo>
                  <a:lnTo>
                    <a:pt x="134" y="1076"/>
                  </a:lnTo>
                  <a:lnTo>
                    <a:pt x="158" y="1126"/>
                  </a:lnTo>
                  <a:lnTo>
                    <a:pt x="184" y="1172"/>
                  </a:lnTo>
                  <a:lnTo>
                    <a:pt x="210" y="1214"/>
                  </a:lnTo>
                  <a:lnTo>
                    <a:pt x="236" y="1252"/>
                  </a:lnTo>
                  <a:lnTo>
                    <a:pt x="262" y="1286"/>
                  </a:lnTo>
                  <a:lnTo>
                    <a:pt x="262" y="1286"/>
                  </a:lnTo>
                  <a:lnTo>
                    <a:pt x="278" y="1308"/>
                  </a:lnTo>
                  <a:lnTo>
                    <a:pt x="292" y="1334"/>
                  </a:lnTo>
                  <a:lnTo>
                    <a:pt x="306" y="1360"/>
                  </a:lnTo>
                  <a:lnTo>
                    <a:pt x="316" y="1388"/>
                  </a:lnTo>
                  <a:lnTo>
                    <a:pt x="326" y="1416"/>
                  </a:lnTo>
                  <a:lnTo>
                    <a:pt x="336" y="1446"/>
                  </a:lnTo>
                  <a:lnTo>
                    <a:pt x="342" y="1474"/>
                  </a:lnTo>
                  <a:lnTo>
                    <a:pt x="346" y="1504"/>
                  </a:lnTo>
                  <a:lnTo>
                    <a:pt x="348" y="1532"/>
                  </a:lnTo>
                  <a:lnTo>
                    <a:pt x="346" y="1558"/>
                  </a:lnTo>
                  <a:lnTo>
                    <a:pt x="344" y="1584"/>
                  </a:lnTo>
                  <a:lnTo>
                    <a:pt x="338" y="1608"/>
                  </a:lnTo>
                  <a:lnTo>
                    <a:pt x="330" y="1630"/>
                  </a:lnTo>
                  <a:lnTo>
                    <a:pt x="318" y="1648"/>
                  </a:lnTo>
                  <a:lnTo>
                    <a:pt x="304" y="1664"/>
                  </a:lnTo>
                  <a:lnTo>
                    <a:pt x="296" y="1670"/>
                  </a:lnTo>
                  <a:lnTo>
                    <a:pt x="286" y="1676"/>
                  </a:lnTo>
                  <a:lnTo>
                    <a:pt x="286" y="1676"/>
                  </a:lnTo>
                  <a:lnTo>
                    <a:pt x="270" y="1684"/>
                  </a:lnTo>
                  <a:lnTo>
                    <a:pt x="252" y="1688"/>
                  </a:lnTo>
                  <a:lnTo>
                    <a:pt x="236" y="1690"/>
                  </a:lnTo>
                  <a:lnTo>
                    <a:pt x="220" y="1690"/>
                  </a:lnTo>
                  <a:lnTo>
                    <a:pt x="206" y="1688"/>
                  </a:lnTo>
                  <a:lnTo>
                    <a:pt x="190" y="1686"/>
                  </a:lnTo>
                  <a:lnTo>
                    <a:pt x="162" y="1676"/>
                  </a:lnTo>
                  <a:lnTo>
                    <a:pt x="162" y="1676"/>
                  </a:lnTo>
                  <a:lnTo>
                    <a:pt x="152" y="1670"/>
                  </a:lnTo>
                  <a:lnTo>
                    <a:pt x="142" y="1664"/>
                  </a:lnTo>
                  <a:lnTo>
                    <a:pt x="132" y="1656"/>
                  </a:lnTo>
                  <a:lnTo>
                    <a:pt x="124" y="1648"/>
                  </a:lnTo>
                  <a:lnTo>
                    <a:pt x="118" y="1638"/>
                  </a:lnTo>
                  <a:lnTo>
                    <a:pt x="112" y="1628"/>
                  </a:lnTo>
                  <a:lnTo>
                    <a:pt x="108" y="1618"/>
                  </a:lnTo>
                  <a:lnTo>
                    <a:pt x="106" y="1606"/>
                  </a:lnTo>
                  <a:lnTo>
                    <a:pt x="104" y="1594"/>
                  </a:lnTo>
                  <a:lnTo>
                    <a:pt x="104" y="1582"/>
                  </a:lnTo>
                  <a:lnTo>
                    <a:pt x="104" y="1568"/>
                  </a:lnTo>
                  <a:lnTo>
                    <a:pt x="108" y="1556"/>
                  </a:lnTo>
                  <a:lnTo>
                    <a:pt x="112" y="1544"/>
                  </a:lnTo>
                  <a:lnTo>
                    <a:pt x="118" y="1530"/>
                  </a:lnTo>
                  <a:lnTo>
                    <a:pt x="124" y="1518"/>
                  </a:lnTo>
                  <a:lnTo>
                    <a:pt x="134" y="1506"/>
                  </a:lnTo>
                  <a:lnTo>
                    <a:pt x="134" y="1506"/>
                  </a:lnTo>
                  <a:lnTo>
                    <a:pt x="132" y="1520"/>
                  </a:lnTo>
                  <a:lnTo>
                    <a:pt x="134" y="1534"/>
                  </a:lnTo>
                  <a:lnTo>
                    <a:pt x="136" y="1548"/>
                  </a:lnTo>
                  <a:lnTo>
                    <a:pt x="140" y="1558"/>
                  </a:lnTo>
                  <a:lnTo>
                    <a:pt x="148" y="1568"/>
                  </a:lnTo>
                  <a:lnTo>
                    <a:pt x="156" y="1578"/>
                  </a:lnTo>
                  <a:lnTo>
                    <a:pt x="164" y="1584"/>
                  </a:lnTo>
                  <a:lnTo>
                    <a:pt x="174" y="1590"/>
                  </a:lnTo>
                  <a:lnTo>
                    <a:pt x="184" y="1594"/>
                  </a:lnTo>
                  <a:lnTo>
                    <a:pt x="196" y="1598"/>
                  </a:lnTo>
                  <a:lnTo>
                    <a:pt x="206" y="1600"/>
                  </a:lnTo>
                  <a:lnTo>
                    <a:pt x="218" y="1600"/>
                  </a:lnTo>
                  <a:lnTo>
                    <a:pt x="228" y="1598"/>
                  </a:lnTo>
                  <a:lnTo>
                    <a:pt x="238" y="1596"/>
                  </a:lnTo>
                  <a:lnTo>
                    <a:pt x="248" y="1592"/>
                  </a:lnTo>
                  <a:lnTo>
                    <a:pt x="256" y="1586"/>
                  </a:lnTo>
                  <a:lnTo>
                    <a:pt x="256" y="1586"/>
                  </a:lnTo>
                  <a:lnTo>
                    <a:pt x="264" y="1576"/>
                  </a:lnTo>
                  <a:lnTo>
                    <a:pt x="272" y="1568"/>
                  </a:lnTo>
                  <a:lnTo>
                    <a:pt x="278" y="1558"/>
                  </a:lnTo>
                  <a:lnTo>
                    <a:pt x="284" y="1548"/>
                  </a:lnTo>
                  <a:lnTo>
                    <a:pt x="286" y="1538"/>
                  </a:lnTo>
                  <a:lnTo>
                    <a:pt x="288" y="1528"/>
                  </a:lnTo>
                  <a:lnTo>
                    <a:pt x="288" y="1518"/>
                  </a:lnTo>
                  <a:lnTo>
                    <a:pt x="288" y="1508"/>
                  </a:lnTo>
                  <a:lnTo>
                    <a:pt x="284" y="1488"/>
                  </a:lnTo>
                  <a:lnTo>
                    <a:pt x="274" y="1470"/>
                  </a:lnTo>
                  <a:lnTo>
                    <a:pt x="262" y="1452"/>
                  </a:lnTo>
                  <a:lnTo>
                    <a:pt x="248" y="1438"/>
                  </a:lnTo>
                  <a:lnTo>
                    <a:pt x="248" y="1438"/>
                  </a:lnTo>
                  <a:lnTo>
                    <a:pt x="230" y="1428"/>
                  </a:lnTo>
                  <a:lnTo>
                    <a:pt x="220" y="1424"/>
                  </a:lnTo>
                  <a:lnTo>
                    <a:pt x="210" y="1422"/>
                  </a:lnTo>
                  <a:lnTo>
                    <a:pt x="198" y="1420"/>
                  </a:lnTo>
                  <a:lnTo>
                    <a:pt x="188" y="1420"/>
                  </a:lnTo>
                  <a:lnTo>
                    <a:pt x="176" y="1420"/>
                  </a:lnTo>
                  <a:lnTo>
                    <a:pt x="164" y="1422"/>
                  </a:lnTo>
                  <a:lnTo>
                    <a:pt x="152" y="1426"/>
                  </a:lnTo>
                  <a:lnTo>
                    <a:pt x="142" y="1432"/>
                  </a:lnTo>
                  <a:lnTo>
                    <a:pt x="130" y="1438"/>
                  </a:lnTo>
                  <a:lnTo>
                    <a:pt x="120" y="1446"/>
                  </a:lnTo>
                  <a:lnTo>
                    <a:pt x="110" y="1456"/>
                  </a:lnTo>
                  <a:lnTo>
                    <a:pt x="100" y="1468"/>
                  </a:lnTo>
                  <a:lnTo>
                    <a:pt x="90" y="1482"/>
                  </a:lnTo>
                  <a:lnTo>
                    <a:pt x="82" y="1496"/>
                  </a:lnTo>
                  <a:lnTo>
                    <a:pt x="82" y="1496"/>
                  </a:lnTo>
                  <a:lnTo>
                    <a:pt x="74" y="1514"/>
                  </a:lnTo>
                  <a:lnTo>
                    <a:pt x="70" y="1532"/>
                  </a:lnTo>
                  <a:lnTo>
                    <a:pt x="66" y="1550"/>
                  </a:lnTo>
                  <a:lnTo>
                    <a:pt x="62" y="1568"/>
                  </a:lnTo>
                  <a:lnTo>
                    <a:pt x="62" y="1588"/>
                  </a:lnTo>
                  <a:lnTo>
                    <a:pt x="64" y="1606"/>
                  </a:lnTo>
                  <a:lnTo>
                    <a:pt x="66" y="1626"/>
                  </a:lnTo>
                  <a:lnTo>
                    <a:pt x="72" y="1644"/>
                  </a:lnTo>
                  <a:lnTo>
                    <a:pt x="78" y="1664"/>
                  </a:lnTo>
                  <a:lnTo>
                    <a:pt x="86" y="1680"/>
                  </a:lnTo>
                  <a:lnTo>
                    <a:pt x="98" y="1698"/>
                  </a:lnTo>
                  <a:lnTo>
                    <a:pt x="110" y="1714"/>
                  </a:lnTo>
                  <a:lnTo>
                    <a:pt x="126" y="1728"/>
                  </a:lnTo>
                  <a:lnTo>
                    <a:pt x="142" y="1742"/>
                  </a:lnTo>
                  <a:lnTo>
                    <a:pt x="162" y="1752"/>
                  </a:lnTo>
                  <a:lnTo>
                    <a:pt x="182" y="1762"/>
                  </a:lnTo>
                  <a:lnTo>
                    <a:pt x="182" y="1762"/>
                  </a:lnTo>
                  <a:lnTo>
                    <a:pt x="206" y="1772"/>
                  </a:lnTo>
                  <a:lnTo>
                    <a:pt x="228" y="1778"/>
                  </a:lnTo>
                  <a:lnTo>
                    <a:pt x="248" y="1782"/>
                  </a:lnTo>
                  <a:lnTo>
                    <a:pt x="266" y="1782"/>
                  </a:lnTo>
                  <a:lnTo>
                    <a:pt x="282" y="1784"/>
                  </a:lnTo>
                  <a:lnTo>
                    <a:pt x="296" y="1782"/>
                  </a:lnTo>
                  <a:lnTo>
                    <a:pt x="310" y="1778"/>
                  </a:lnTo>
                  <a:lnTo>
                    <a:pt x="322" y="1774"/>
                  </a:lnTo>
                  <a:lnTo>
                    <a:pt x="334" y="1768"/>
                  </a:lnTo>
                  <a:lnTo>
                    <a:pt x="344" y="1762"/>
                  </a:lnTo>
                  <a:lnTo>
                    <a:pt x="362" y="1748"/>
                  </a:lnTo>
                  <a:lnTo>
                    <a:pt x="376" y="1732"/>
                  </a:lnTo>
                  <a:lnTo>
                    <a:pt x="390" y="1716"/>
                  </a:lnTo>
                  <a:lnTo>
                    <a:pt x="390" y="1716"/>
                  </a:lnTo>
                  <a:lnTo>
                    <a:pt x="392" y="1758"/>
                  </a:lnTo>
                  <a:lnTo>
                    <a:pt x="392" y="1792"/>
                  </a:lnTo>
                  <a:lnTo>
                    <a:pt x="388" y="1816"/>
                  </a:lnTo>
                  <a:lnTo>
                    <a:pt x="384" y="1834"/>
                  </a:lnTo>
                  <a:lnTo>
                    <a:pt x="384" y="1834"/>
                  </a:lnTo>
                  <a:lnTo>
                    <a:pt x="408" y="1800"/>
                  </a:lnTo>
                  <a:lnTo>
                    <a:pt x="428" y="1764"/>
                  </a:lnTo>
                  <a:lnTo>
                    <a:pt x="444" y="1724"/>
                  </a:lnTo>
                  <a:lnTo>
                    <a:pt x="456" y="1682"/>
                  </a:lnTo>
                  <a:lnTo>
                    <a:pt x="462" y="1662"/>
                  </a:lnTo>
                  <a:lnTo>
                    <a:pt x="464" y="1640"/>
                  </a:lnTo>
                  <a:lnTo>
                    <a:pt x="466" y="1620"/>
                  </a:lnTo>
                  <a:lnTo>
                    <a:pt x="468" y="1598"/>
                  </a:lnTo>
                  <a:lnTo>
                    <a:pt x="466" y="1578"/>
                  </a:lnTo>
                  <a:lnTo>
                    <a:pt x="464" y="1558"/>
                  </a:lnTo>
                  <a:lnTo>
                    <a:pt x="460" y="1540"/>
                  </a:lnTo>
                  <a:lnTo>
                    <a:pt x="454" y="1522"/>
                  </a:lnTo>
                  <a:lnTo>
                    <a:pt x="454" y="1522"/>
                  </a:lnTo>
                  <a:lnTo>
                    <a:pt x="496" y="1560"/>
                  </a:lnTo>
                  <a:lnTo>
                    <a:pt x="532" y="1598"/>
                  </a:lnTo>
                  <a:lnTo>
                    <a:pt x="560" y="1636"/>
                  </a:lnTo>
                  <a:lnTo>
                    <a:pt x="584" y="1670"/>
                  </a:lnTo>
                  <a:lnTo>
                    <a:pt x="600" y="1704"/>
                  </a:lnTo>
                  <a:lnTo>
                    <a:pt x="612" y="1738"/>
                  </a:lnTo>
                  <a:lnTo>
                    <a:pt x="618" y="1768"/>
                  </a:lnTo>
                  <a:lnTo>
                    <a:pt x="620" y="1796"/>
                  </a:lnTo>
                  <a:lnTo>
                    <a:pt x="618" y="1810"/>
                  </a:lnTo>
                  <a:lnTo>
                    <a:pt x="616" y="1822"/>
                  </a:lnTo>
                  <a:lnTo>
                    <a:pt x="614" y="1834"/>
                  </a:lnTo>
                  <a:lnTo>
                    <a:pt x="608" y="1846"/>
                  </a:lnTo>
                  <a:lnTo>
                    <a:pt x="604" y="1856"/>
                  </a:lnTo>
                  <a:lnTo>
                    <a:pt x="598" y="1866"/>
                  </a:lnTo>
                  <a:lnTo>
                    <a:pt x="590" y="1876"/>
                  </a:lnTo>
                  <a:lnTo>
                    <a:pt x="582" y="1884"/>
                  </a:lnTo>
                  <a:lnTo>
                    <a:pt x="562" y="1898"/>
                  </a:lnTo>
                  <a:lnTo>
                    <a:pt x="540" y="1908"/>
                  </a:lnTo>
                  <a:lnTo>
                    <a:pt x="516" y="1916"/>
                  </a:lnTo>
                  <a:lnTo>
                    <a:pt x="488" y="1918"/>
                  </a:lnTo>
                  <a:lnTo>
                    <a:pt x="488" y="1918"/>
                  </a:lnTo>
                  <a:lnTo>
                    <a:pt x="488" y="1932"/>
                  </a:lnTo>
                  <a:lnTo>
                    <a:pt x="490" y="1944"/>
                  </a:lnTo>
                  <a:lnTo>
                    <a:pt x="494" y="1954"/>
                  </a:lnTo>
                  <a:lnTo>
                    <a:pt x="502" y="1960"/>
                  </a:lnTo>
                  <a:lnTo>
                    <a:pt x="510" y="1966"/>
                  </a:lnTo>
                  <a:lnTo>
                    <a:pt x="518" y="1968"/>
                  </a:lnTo>
                  <a:lnTo>
                    <a:pt x="528" y="1968"/>
                  </a:lnTo>
                  <a:lnTo>
                    <a:pt x="538" y="1966"/>
                  </a:lnTo>
                  <a:lnTo>
                    <a:pt x="538" y="1966"/>
                  </a:lnTo>
                  <a:lnTo>
                    <a:pt x="532" y="1978"/>
                  </a:lnTo>
                  <a:lnTo>
                    <a:pt x="524" y="1986"/>
                  </a:lnTo>
                  <a:lnTo>
                    <a:pt x="516" y="1994"/>
                  </a:lnTo>
                  <a:lnTo>
                    <a:pt x="506" y="2000"/>
                  </a:lnTo>
                  <a:lnTo>
                    <a:pt x="498" y="2002"/>
                  </a:lnTo>
                  <a:lnTo>
                    <a:pt x="488" y="2004"/>
                  </a:lnTo>
                  <a:lnTo>
                    <a:pt x="478" y="2004"/>
                  </a:lnTo>
                  <a:lnTo>
                    <a:pt x="470" y="2002"/>
                  </a:lnTo>
                  <a:lnTo>
                    <a:pt x="452" y="1994"/>
                  </a:lnTo>
                  <a:lnTo>
                    <a:pt x="436" y="1984"/>
                  </a:lnTo>
                  <a:lnTo>
                    <a:pt x="422" y="1972"/>
                  </a:lnTo>
                  <a:lnTo>
                    <a:pt x="412" y="1960"/>
                  </a:lnTo>
                  <a:lnTo>
                    <a:pt x="412" y="1960"/>
                  </a:lnTo>
                  <a:lnTo>
                    <a:pt x="410" y="1972"/>
                  </a:lnTo>
                  <a:lnTo>
                    <a:pt x="408" y="1984"/>
                  </a:lnTo>
                  <a:lnTo>
                    <a:pt x="408" y="1994"/>
                  </a:lnTo>
                  <a:lnTo>
                    <a:pt x="412" y="2006"/>
                  </a:lnTo>
                  <a:lnTo>
                    <a:pt x="416" y="2016"/>
                  </a:lnTo>
                  <a:lnTo>
                    <a:pt x="422" y="2024"/>
                  </a:lnTo>
                  <a:lnTo>
                    <a:pt x="430" y="2034"/>
                  </a:lnTo>
                  <a:lnTo>
                    <a:pt x="438" y="2040"/>
                  </a:lnTo>
                  <a:lnTo>
                    <a:pt x="446" y="2048"/>
                  </a:lnTo>
                  <a:lnTo>
                    <a:pt x="456" y="2052"/>
                  </a:lnTo>
                  <a:lnTo>
                    <a:pt x="466" y="2056"/>
                  </a:lnTo>
                  <a:lnTo>
                    <a:pt x="478" y="2060"/>
                  </a:lnTo>
                  <a:lnTo>
                    <a:pt x="488" y="2062"/>
                  </a:lnTo>
                  <a:lnTo>
                    <a:pt x="498" y="2062"/>
                  </a:lnTo>
                  <a:lnTo>
                    <a:pt x="508" y="2062"/>
                  </a:lnTo>
                  <a:lnTo>
                    <a:pt x="518" y="2060"/>
                  </a:lnTo>
                  <a:lnTo>
                    <a:pt x="518" y="2060"/>
                  </a:lnTo>
                  <a:lnTo>
                    <a:pt x="452" y="2150"/>
                  </a:lnTo>
                  <a:lnTo>
                    <a:pt x="452" y="2150"/>
                  </a:lnTo>
                  <a:lnTo>
                    <a:pt x="474" y="2140"/>
                  </a:lnTo>
                  <a:lnTo>
                    <a:pt x="494" y="2128"/>
                  </a:lnTo>
                  <a:lnTo>
                    <a:pt x="514" y="2116"/>
                  </a:lnTo>
                  <a:lnTo>
                    <a:pt x="532" y="2102"/>
                  </a:lnTo>
                  <a:lnTo>
                    <a:pt x="550" y="2086"/>
                  </a:lnTo>
                  <a:lnTo>
                    <a:pt x="566" y="2068"/>
                  </a:lnTo>
                  <a:lnTo>
                    <a:pt x="580" y="2050"/>
                  </a:lnTo>
                  <a:lnTo>
                    <a:pt x="594" y="2030"/>
                  </a:lnTo>
                  <a:lnTo>
                    <a:pt x="606" y="2010"/>
                  </a:lnTo>
                  <a:lnTo>
                    <a:pt x="616" y="1988"/>
                  </a:lnTo>
                  <a:lnTo>
                    <a:pt x="626" y="1964"/>
                  </a:lnTo>
                  <a:lnTo>
                    <a:pt x="634" y="1940"/>
                  </a:lnTo>
                  <a:lnTo>
                    <a:pt x="642" y="1916"/>
                  </a:lnTo>
                  <a:lnTo>
                    <a:pt x="648" y="1890"/>
                  </a:lnTo>
                  <a:lnTo>
                    <a:pt x="652" y="1864"/>
                  </a:lnTo>
                  <a:lnTo>
                    <a:pt x="656" y="1836"/>
                  </a:lnTo>
                  <a:lnTo>
                    <a:pt x="656" y="1836"/>
                  </a:lnTo>
                  <a:lnTo>
                    <a:pt x="658" y="1900"/>
                  </a:lnTo>
                  <a:lnTo>
                    <a:pt x="656" y="1956"/>
                  </a:lnTo>
                  <a:lnTo>
                    <a:pt x="652" y="2006"/>
                  </a:lnTo>
                  <a:lnTo>
                    <a:pt x="644" y="2050"/>
                  </a:lnTo>
                  <a:lnTo>
                    <a:pt x="634" y="2088"/>
                  </a:lnTo>
                  <a:lnTo>
                    <a:pt x="620" y="2122"/>
                  </a:lnTo>
                  <a:lnTo>
                    <a:pt x="612" y="2136"/>
                  </a:lnTo>
                  <a:lnTo>
                    <a:pt x="604" y="2148"/>
                  </a:lnTo>
                  <a:lnTo>
                    <a:pt x="594" y="2158"/>
                  </a:lnTo>
                  <a:lnTo>
                    <a:pt x="586" y="2168"/>
                  </a:lnTo>
                  <a:lnTo>
                    <a:pt x="576" y="2178"/>
                  </a:lnTo>
                  <a:lnTo>
                    <a:pt x="564" y="2184"/>
                  </a:lnTo>
                  <a:lnTo>
                    <a:pt x="554" y="2190"/>
                  </a:lnTo>
                  <a:lnTo>
                    <a:pt x="542" y="2194"/>
                  </a:lnTo>
                  <a:lnTo>
                    <a:pt x="532" y="2198"/>
                  </a:lnTo>
                  <a:lnTo>
                    <a:pt x="520" y="2200"/>
                  </a:lnTo>
                  <a:lnTo>
                    <a:pt x="496" y="2202"/>
                  </a:lnTo>
                  <a:lnTo>
                    <a:pt x="470" y="2198"/>
                  </a:lnTo>
                  <a:lnTo>
                    <a:pt x="444" y="2190"/>
                  </a:lnTo>
                  <a:lnTo>
                    <a:pt x="418" y="2178"/>
                  </a:lnTo>
                  <a:lnTo>
                    <a:pt x="394" y="2162"/>
                  </a:lnTo>
                  <a:lnTo>
                    <a:pt x="394" y="2162"/>
                  </a:lnTo>
                  <a:lnTo>
                    <a:pt x="402" y="2178"/>
                  </a:lnTo>
                  <a:lnTo>
                    <a:pt x="416" y="2196"/>
                  </a:lnTo>
                  <a:lnTo>
                    <a:pt x="434" y="2214"/>
                  </a:lnTo>
                  <a:lnTo>
                    <a:pt x="456" y="2232"/>
                  </a:lnTo>
                  <a:lnTo>
                    <a:pt x="480" y="2246"/>
                  </a:lnTo>
                  <a:lnTo>
                    <a:pt x="492" y="2252"/>
                  </a:lnTo>
                  <a:lnTo>
                    <a:pt x="504" y="2256"/>
                  </a:lnTo>
                  <a:lnTo>
                    <a:pt x="516" y="2258"/>
                  </a:lnTo>
                  <a:lnTo>
                    <a:pt x="528" y="2260"/>
                  </a:lnTo>
                  <a:lnTo>
                    <a:pt x="540" y="2258"/>
                  </a:lnTo>
                  <a:lnTo>
                    <a:pt x="550" y="2256"/>
                  </a:lnTo>
                  <a:lnTo>
                    <a:pt x="550" y="2256"/>
                  </a:lnTo>
                  <a:lnTo>
                    <a:pt x="542" y="2266"/>
                  </a:lnTo>
                  <a:lnTo>
                    <a:pt x="532" y="2276"/>
                  </a:lnTo>
                  <a:lnTo>
                    <a:pt x="522" y="2284"/>
                  </a:lnTo>
                  <a:lnTo>
                    <a:pt x="510" y="2290"/>
                  </a:lnTo>
                  <a:lnTo>
                    <a:pt x="500" y="2296"/>
                  </a:lnTo>
                  <a:lnTo>
                    <a:pt x="488" y="2300"/>
                  </a:lnTo>
                  <a:lnTo>
                    <a:pt x="462" y="2306"/>
                  </a:lnTo>
                  <a:lnTo>
                    <a:pt x="436" y="2308"/>
                  </a:lnTo>
                  <a:lnTo>
                    <a:pt x="410" y="2306"/>
                  </a:lnTo>
                  <a:lnTo>
                    <a:pt x="382" y="2300"/>
                  </a:lnTo>
                  <a:lnTo>
                    <a:pt x="358" y="2292"/>
                  </a:lnTo>
                  <a:lnTo>
                    <a:pt x="334" y="2280"/>
                  </a:lnTo>
                  <a:lnTo>
                    <a:pt x="312" y="2264"/>
                  </a:lnTo>
                  <a:lnTo>
                    <a:pt x="292" y="2248"/>
                  </a:lnTo>
                  <a:lnTo>
                    <a:pt x="276" y="2228"/>
                  </a:lnTo>
                  <a:lnTo>
                    <a:pt x="270" y="2216"/>
                  </a:lnTo>
                  <a:lnTo>
                    <a:pt x="266" y="2206"/>
                  </a:lnTo>
                  <a:lnTo>
                    <a:pt x="262" y="2194"/>
                  </a:lnTo>
                  <a:lnTo>
                    <a:pt x="258" y="2182"/>
                  </a:lnTo>
                  <a:lnTo>
                    <a:pt x="256" y="2170"/>
                  </a:lnTo>
                  <a:lnTo>
                    <a:pt x="256" y="2158"/>
                  </a:lnTo>
                  <a:lnTo>
                    <a:pt x="258" y="2144"/>
                  </a:lnTo>
                  <a:lnTo>
                    <a:pt x="262" y="2132"/>
                  </a:lnTo>
                  <a:lnTo>
                    <a:pt x="262" y="2132"/>
                  </a:lnTo>
                  <a:lnTo>
                    <a:pt x="248" y="2128"/>
                  </a:lnTo>
                  <a:lnTo>
                    <a:pt x="234" y="2126"/>
                  </a:lnTo>
                  <a:lnTo>
                    <a:pt x="222" y="2128"/>
                  </a:lnTo>
                  <a:lnTo>
                    <a:pt x="212" y="2130"/>
                  </a:lnTo>
                  <a:lnTo>
                    <a:pt x="202" y="2134"/>
                  </a:lnTo>
                  <a:lnTo>
                    <a:pt x="194" y="2140"/>
                  </a:lnTo>
                  <a:lnTo>
                    <a:pt x="186" y="2146"/>
                  </a:lnTo>
                  <a:lnTo>
                    <a:pt x="178" y="2152"/>
                  </a:lnTo>
                  <a:lnTo>
                    <a:pt x="168" y="2170"/>
                  </a:lnTo>
                  <a:lnTo>
                    <a:pt x="160" y="2188"/>
                  </a:lnTo>
                  <a:lnTo>
                    <a:pt x="156" y="2206"/>
                  </a:lnTo>
                  <a:lnTo>
                    <a:pt x="156" y="2224"/>
                  </a:lnTo>
                  <a:lnTo>
                    <a:pt x="156" y="2224"/>
                  </a:lnTo>
                  <a:lnTo>
                    <a:pt x="144" y="2206"/>
                  </a:lnTo>
                  <a:lnTo>
                    <a:pt x="134" y="2188"/>
                  </a:lnTo>
                  <a:lnTo>
                    <a:pt x="128" y="2168"/>
                  </a:lnTo>
                  <a:lnTo>
                    <a:pt x="122" y="2146"/>
                  </a:lnTo>
                  <a:lnTo>
                    <a:pt x="118" y="2124"/>
                  </a:lnTo>
                  <a:lnTo>
                    <a:pt x="118" y="2102"/>
                  </a:lnTo>
                  <a:lnTo>
                    <a:pt x="118" y="2082"/>
                  </a:lnTo>
                  <a:lnTo>
                    <a:pt x="122" y="2062"/>
                  </a:lnTo>
                  <a:lnTo>
                    <a:pt x="128" y="2044"/>
                  </a:lnTo>
                  <a:lnTo>
                    <a:pt x="136" y="2028"/>
                  </a:lnTo>
                  <a:lnTo>
                    <a:pt x="146" y="2014"/>
                  </a:lnTo>
                  <a:lnTo>
                    <a:pt x="158" y="2004"/>
                  </a:lnTo>
                  <a:lnTo>
                    <a:pt x="172" y="1998"/>
                  </a:lnTo>
                  <a:lnTo>
                    <a:pt x="190" y="1994"/>
                  </a:lnTo>
                  <a:lnTo>
                    <a:pt x="208" y="1996"/>
                  </a:lnTo>
                  <a:lnTo>
                    <a:pt x="228" y="2004"/>
                  </a:lnTo>
                  <a:lnTo>
                    <a:pt x="228" y="2004"/>
                  </a:lnTo>
                  <a:lnTo>
                    <a:pt x="222" y="2018"/>
                  </a:lnTo>
                  <a:lnTo>
                    <a:pt x="220" y="2032"/>
                  </a:lnTo>
                  <a:lnTo>
                    <a:pt x="220" y="2046"/>
                  </a:lnTo>
                  <a:lnTo>
                    <a:pt x="224" y="2056"/>
                  </a:lnTo>
                  <a:lnTo>
                    <a:pt x="230" y="2066"/>
                  </a:lnTo>
                  <a:lnTo>
                    <a:pt x="236" y="2074"/>
                  </a:lnTo>
                  <a:lnTo>
                    <a:pt x="246" y="2080"/>
                  </a:lnTo>
                  <a:lnTo>
                    <a:pt x="256" y="2084"/>
                  </a:lnTo>
                  <a:lnTo>
                    <a:pt x="268" y="2086"/>
                  </a:lnTo>
                  <a:lnTo>
                    <a:pt x="280" y="2088"/>
                  </a:lnTo>
                  <a:lnTo>
                    <a:pt x="292" y="2086"/>
                  </a:lnTo>
                  <a:lnTo>
                    <a:pt x="304" y="2082"/>
                  </a:lnTo>
                  <a:lnTo>
                    <a:pt x="316" y="2076"/>
                  </a:lnTo>
                  <a:lnTo>
                    <a:pt x="326" y="2068"/>
                  </a:lnTo>
                  <a:lnTo>
                    <a:pt x="336" y="2058"/>
                  </a:lnTo>
                  <a:lnTo>
                    <a:pt x="346" y="2044"/>
                  </a:lnTo>
                  <a:lnTo>
                    <a:pt x="346" y="2044"/>
                  </a:lnTo>
                  <a:lnTo>
                    <a:pt x="350" y="2032"/>
                  </a:lnTo>
                  <a:lnTo>
                    <a:pt x="354" y="2020"/>
                  </a:lnTo>
                  <a:lnTo>
                    <a:pt x="358" y="2006"/>
                  </a:lnTo>
                  <a:lnTo>
                    <a:pt x="360" y="1994"/>
                  </a:lnTo>
                  <a:lnTo>
                    <a:pt x="360" y="1980"/>
                  </a:lnTo>
                  <a:lnTo>
                    <a:pt x="358" y="1966"/>
                  </a:lnTo>
                  <a:lnTo>
                    <a:pt x="358" y="1954"/>
                  </a:lnTo>
                  <a:lnTo>
                    <a:pt x="354" y="1942"/>
                  </a:lnTo>
                  <a:lnTo>
                    <a:pt x="350" y="1928"/>
                  </a:lnTo>
                  <a:lnTo>
                    <a:pt x="344" y="1916"/>
                  </a:lnTo>
                  <a:lnTo>
                    <a:pt x="338" y="1906"/>
                  </a:lnTo>
                  <a:lnTo>
                    <a:pt x="330" y="1896"/>
                  </a:lnTo>
                  <a:lnTo>
                    <a:pt x="322" y="1886"/>
                  </a:lnTo>
                  <a:lnTo>
                    <a:pt x="312" y="1878"/>
                  </a:lnTo>
                  <a:lnTo>
                    <a:pt x="300" y="1872"/>
                  </a:lnTo>
                  <a:lnTo>
                    <a:pt x="288" y="1866"/>
                  </a:lnTo>
                  <a:lnTo>
                    <a:pt x="288" y="1866"/>
                  </a:lnTo>
                  <a:lnTo>
                    <a:pt x="274" y="1862"/>
                  </a:lnTo>
                  <a:lnTo>
                    <a:pt x="262" y="1860"/>
                  </a:lnTo>
                  <a:lnTo>
                    <a:pt x="248" y="1858"/>
                  </a:lnTo>
                  <a:lnTo>
                    <a:pt x="234" y="1858"/>
                  </a:lnTo>
                  <a:lnTo>
                    <a:pt x="220" y="1860"/>
                  </a:lnTo>
                  <a:lnTo>
                    <a:pt x="204" y="1864"/>
                  </a:lnTo>
                  <a:lnTo>
                    <a:pt x="190" y="1868"/>
                  </a:lnTo>
                  <a:lnTo>
                    <a:pt x="176" y="1874"/>
                  </a:lnTo>
                  <a:lnTo>
                    <a:pt x="162" y="1882"/>
                  </a:lnTo>
                  <a:lnTo>
                    <a:pt x="150" y="1890"/>
                  </a:lnTo>
                  <a:lnTo>
                    <a:pt x="136" y="1900"/>
                  </a:lnTo>
                  <a:lnTo>
                    <a:pt x="124" y="1912"/>
                  </a:lnTo>
                  <a:lnTo>
                    <a:pt x="114" y="1924"/>
                  </a:lnTo>
                  <a:lnTo>
                    <a:pt x="104" y="1938"/>
                  </a:lnTo>
                  <a:lnTo>
                    <a:pt x="96" y="1952"/>
                  </a:lnTo>
                  <a:lnTo>
                    <a:pt x="88" y="1968"/>
                  </a:lnTo>
                  <a:lnTo>
                    <a:pt x="88" y="1968"/>
                  </a:lnTo>
                  <a:lnTo>
                    <a:pt x="80" y="1992"/>
                  </a:lnTo>
                  <a:lnTo>
                    <a:pt x="74" y="2018"/>
                  </a:lnTo>
                  <a:lnTo>
                    <a:pt x="72" y="2044"/>
                  </a:lnTo>
                  <a:lnTo>
                    <a:pt x="72" y="2072"/>
                  </a:lnTo>
                  <a:lnTo>
                    <a:pt x="74" y="2100"/>
                  </a:lnTo>
                  <a:lnTo>
                    <a:pt x="78" y="2128"/>
                  </a:lnTo>
                  <a:lnTo>
                    <a:pt x="86" y="2158"/>
                  </a:lnTo>
                  <a:lnTo>
                    <a:pt x="96" y="2186"/>
                  </a:lnTo>
                  <a:lnTo>
                    <a:pt x="110" y="2214"/>
                  </a:lnTo>
                  <a:lnTo>
                    <a:pt x="126" y="2240"/>
                  </a:lnTo>
                  <a:lnTo>
                    <a:pt x="146" y="2264"/>
                  </a:lnTo>
                  <a:lnTo>
                    <a:pt x="168" y="2286"/>
                  </a:lnTo>
                  <a:lnTo>
                    <a:pt x="194" y="2306"/>
                  </a:lnTo>
                  <a:lnTo>
                    <a:pt x="222" y="2324"/>
                  </a:lnTo>
                  <a:lnTo>
                    <a:pt x="254" y="2338"/>
                  </a:lnTo>
                  <a:lnTo>
                    <a:pt x="290" y="2348"/>
                  </a:lnTo>
                  <a:lnTo>
                    <a:pt x="290" y="2348"/>
                  </a:lnTo>
                  <a:lnTo>
                    <a:pt x="248" y="2362"/>
                  </a:lnTo>
                  <a:lnTo>
                    <a:pt x="210" y="2378"/>
                  </a:lnTo>
                  <a:lnTo>
                    <a:pt x="178" y="2398"/>
                  </a:lnTo>
                  <a:lnTo>
                    <a:pt x="148" y="2420"/>
                  </a:lnTo>
                  <a:lnTo>
                    <a:pt x="124" y="2446"/>
                  </a:lnTo>
                  <a:lnTo>
                    <a:pt x="102" y="2472"/>
                  </a:lnTo>
                  <a:lnTo>
                    <a:pt x="84" y="2500"/>
                  </a:lnTo>
                  <a:lnTo>
                    <a:pt x="72" y="2528"/>
                  </a:lnTo>
                  <a:lnTo>
                    <a:pt x="60" y="2558"/>
                  </a:lnTo>
                  <a:lnTo>
                    <a:pt x="54" y="2588"/>
                  </a:lnTo>
                  <a:lnTo>
                    <a:pt x="50" y="2620"/>
                  </a:lnTo>
                  <a:lnTo>
                    <a:pt x="50" y="2650"/>
                  </a:lnTo>
                  <a:lnTo>
                    <a:pt x="52" y="2678"/>
                  </a:lnTo>
                  <a:lnTo>
                    <a:pt x="58" y="2706"/>
                  </a:lnTo>
                  <a:lnTo>
                    <a:pt x="66" y="2734"/>
                  </a:lnTo>
                  <a:lnTo>
                    <a:pt x="76" y="2758"/>
                  </a:lnTo>
                  <a:lnTo>
                    <a:pt x="76" y="2758"/>
                  </a:lnTo>
                  <a:lnTo>
                    <a:pt x="68" y="2768"/>
                  </a:lnTo>
                  <a:lnTo>
                    <a:pt x="64" y="2776"/>
                  </a:lnTo>
                  <a:lnTo>
                    <a:pt x="62" y="2782"/>
                  </a:lnTo>
                  <a:lnTo>
                    <a:pt x="60" y="2790"/>
                  </a:lnTo>
                  <a:lnTo>
                    <a:pt x="62" y="2796"/>
                  </a:lnTo>
                  <a:lnTo>
                    <a:pt x="64" y="2802"/>
                  </a:lnTo>
                  <a:lnTo>
                    <a:pt x="72" y="2812"/>
                  </a:lnTo>
                  <a:lnTo>
                    <a:pt x="82" y="2820"/>
                  </a:lnTo>
                  <a:lnTo>
                    <a:pt x="96" y="2826"/>
                  </a:lnTo>
                  <a:lnTo>
                    <a:pt x="108" y="2830"/>
                  </a:lnTo>
                  <a:lnTo>
                    <a:pt x="120" y="2832"/>
                  </a:lnTo>
                  <a:lnTo>
                    <a:pt x="120" y="2832"/>
                  </a:lnTo>
                  <a:lnTo>
                    <a:pt x="138" y="2838"/>
                  </a:lnTo>
                  <a:lnTo>
                    <a:pt x="152" y="2846"/>
                  </a:lnTo>
                  <a:lnTo>
                    <a:pt x="164" y="2858"/>
                  </a:lnTo>
                  <a:lnTo>
                    <a:pt x="172" y="2872"/>
                  </a:lnTo>
                  <a:lnTo>
                    <a:pt x="178" y="2886"/>
                  </a:lnTo>
                  <a:lnTo>
                    <a:pt x="178" y="2894"/>
                  </a:lnTo>
                  <a:lnTo>
                    <a:pt x="176" y="2902"/>
                  </a:lnTo>
                  <a:lnTo>
                    <a:pt x="174" y="2908"/>
                  </a:lnTo>
                  <a:lnTo>
                    <a:pt x="170" y="2916"/>
                  </a:lnTo>
                  <a:lnTo>
                    <a:pt x="166" y="2922"/>
                  </a:lnTo>
                  <a:lnTo>
                    <a:pt x="158" y="2928"/>
                  </a:lnTo>
                  <a:lnTo>
                    <a:pt x="158" y="2928"/>
                  </a:lnTo>
                  <a:lnTo>
                    <a:pt x="150" y="2932"/>
                  </a:lnTo>
                  <a:lnTo>
                    <a:pt x="142" y="2934"/>
                  </a:lnTo>
                  <a:lnTo>
                    <a:pt x="136" y="2936"/>
                  </a:lnTo>
                  <a:lnTo>
                    <a:pt x="128" y="2936"/>
                  </a:lnTo>
                  <a:lnTo>
                    <a:pt x="122" y="2936"/>
                  </a:lnTo>
                  <a:lnTo>
                    <a:pt x="116" y="2934"/>
                  </a:lnTo>
                  <a:lnTo>
                    <a:pt x="104" y="2928"/>
                  </a:lnTo>
                  <a:lnTo>
                    <a:pt x="94" y="2916"/>
                  </a:lnTo>
                  <a:lnTo>
                    <a:pt x="86" y="2904"/>
                  </a:lnTo>
                  <a:lnTo>
                    <a:pt x="82" y="2890"/>
                  </a:lnTo>
                  <a:lnTo>
                    <a:pt x="80" y="2874"/>
                  </a:lnTo>
                  <a:lnTo>
                    <a:pt x="80" y="2874"/>
                  </a:lnTo>
                  <a:lnTo>
                    <a:pt x="72" y="2886"/>
                  </a:lnTo>
                  <a:lnTo>
                    <a:pt x="66" y="2898"/>
                  </a:lnTo>
                  <a:lnTo>
                    <a:pt x="60" y="2910"/>
                  </a:lnTo>
                  <a:lnTo>
                    <a:pt x="56" y="2924"/>
                  </a:lnTo>
                  <a:lnTo>
                    <a:pt x="54" y="2936"/>
                  </a:lnTo>
                  <a:lnTo>
                    <a:pt x="54" y="2950"/>
                  </a:lnTo>
                  <a:lnTo>
                    <a:pt x="54" y="2962"/>
                  </a:lnTo>
                  <a:lnTo>
                    <a:pt x="58" y="2976"/>
                  </a:lnTo>
                  <a:lnTo>
                    <a:pt x="62" y="2986"/>
                  </a:lnTo>
                  <a:lnTo>
                    <a:pt x="66" y="2998"/>
                  </a:lnTo>
                  <a:lnTo>
                    <a:pt x="74" y="3008"/>
                  </a:lnTo>
                  <a:lnTo>
                    <a:pt x="82" y="3018"/>
                  </a:lnTo>
                  <a:lnTo>
                    <a:pt x="92" y="3024"/>
                  </a:lnTo>
                  <a:lnTo>
                    <a:pt x="104" y="3032"/>
                  </a:lnTo>
                  <a:lnTo>
                    <a:pt x="116" y="3036"/>
                  </a:lnTo>
                  <a:lnTo>
                    <a:pt x="130" y="3040"/>
                  </a:lnTo>
                  <a:lnTo>
                    <a:pt x="130" y="3040"/>
                  </a:lnTo>
                  <a:lnTo>
                    <a:pt x="144" y="3040"/>
                  </a:lnTo>
                  <a:lnTo>
                    <a:pt x="158" y="3036"/>
                  </a:lnTo>
                  <a:lnTo>
                    <a:pt x="172" y="3030"/>
                  </a:lnTo>
                  <a:lnTo>
                    <a:pt x="186" y="3022"/>
                  </a:lnTo>
                  <a:lnTo>
                    <a:pt x="198" y="3012"/>
                  </a:lnTo>
                  <a:lnTo>
                    <a:pt x="210" y="2998"/>
                  </a:lnTo>
                  <a:lnTo>
                    <a:pt x="220" y="2984"/>
                  </a:lnTo>
                  <a:lnTo>
                    <a:pt x="228" y="2970"/>
                  </a:lnTo>
                  <a:lnTo>
                    <a:pt x="236" y="2952"/>
                  </a:lnTo>
                  <a:lnTo>
                    <a:pt x="240" y="2936"/>
                  </a:lnTo>
                  <a:lnTo>
                    <a:pt x="242" y="2920"/>
                  </a:lnTo>
                  <a:lnTo>
                    <a:pt x="242" y="2902"/>
                  </a:lnTo>
                  <a:lnTo>
                    <a:pt x="238" y="2886"/>
                  </a:lnTo>
                  <a:lnTo>
                    <a:pt x="230" y="2870"/>
                  </a:lnTo>
                  <a:lnTo>
                    <a:pt x="220" y="2856"/>
                  </a:lnTo>
                  <a:lnTo>
                    <a:pt x="206" y="2842"/>
                  </a:lnTo>
                  <a:lnTo>
                    <a:pt x="206" y="2842"/>
                  </a:lnTo>
                  <a:lnTo>
                    <a:pt x="184" y="2828"/>
                  </a:lnTo>
                  <a:lnTo>
                    <a:pt x="164" y="2816"/>
                  </a:lnTo>
                  <a:lnTo>
                    <a:pt x="136" y="2800"/>
                  </a:lnTo>
                  <a:lnTo>
                    <a:pt x="126" y="2794"/>
                  </a:lnTo>
                  <a:lnTo>
                    <a:pt x="120" y="2786"/>
                  </a:lnTo>
                  <a:lnTo>
                    <a:pt x="116" y="2776"/>
                  </a:lnTo>
                  <a:lnTo>
                    <a:pt x="116" y="2764"/>
                  </a:lnTo>
                  <a:lnTo>
                    <a:pt x="116" y="2764"/>
                  </a:lnTo>
                  <a:lnTo>
                    <a:pt x="128" y="2774"/>
                  </a:lnTo>
                  <a:lnTo>
                    <a:pt x="140" y="2784"/>
                  </a:lnTo>
                  <a:lnTo>
                    <a:pt x="154" y="2790"/>
                  </a:lnTo>
                  <a:lnTo>
                    <a:pt x="168" y="2798"/>
                  </a:lnTo>
                  <a:lnTo>
                    <a:pt x="182" y="2802"/>
                  </a:lnTo>
                  <a:lnTo>
                    <a:pt x="196" y="2806"/>
                  </a:lnTo>
                  <a:lnTo>
                    <a:pt x="210" y="2808"/>
                  </a:lnTo>
                  <a:lnTo>
                    <a:pt x="224" y="2810"/>
                  </a:lnTo>
                  <a:lnTo>
                    <a:pt x="252" y="2808"/>
                  </a:lnTo>
                  <a:lnTo>
                    <a:pt x="276" y="2802"/>
                  </a:lnTo>
                  <a:lnTo>
                    <a:pt x="288" y="2798"/>
                  </a:lnTo>
                  <a:lnTo>
                    <a:pt x="298" y="2792"/>
                  </a:lnTo>
                  <a:lnTo>
                    <a:pt x="308" y="2786"/>
                  </a:lnTo>
                  <a:lnTo>
                    <a:pt x="316" y="2780"/>
                  </a:lnTo>
                  <a:lnTo>
                    <a:pt x="316" y="2780"/>
                  </a:lnTo>
                  <a:lnTo>
                    <a:pt x="326" y="2768"/>
                  </a:lnTo>
                  <a:lnTo>
                    <a:pt x="336" y="2756"/>
                  </a:lnTo>
                  <a:lnTo>
                    <a:pt x="342" y="2742"/>
                  </a:lnTo>
                  <a:lnTo>
                    <a:pt x="346" y="2728"/>
                  </a:lnTo>
                  <a:lnTo>
                    <a:pt x="350" y="2714"/>
                  </a:lnTo>
                  <a:lnTo>
                    <a:pt x="350" y="2700"/>
                  </a:lnTo>
                  <a:lnTo>
                    <a:pt x="348" y="2688"/>
                  </a:lnTo>
                  <a:lnTo>
                    <a:pt x="344" y="2676"/>
                  </a:lnTo>
                  <a:lnTo>
                    <a:pt x="336" y="2664"/>
                  </a:lnTo>
                  <a:lnTo>
                    <a:pt x="328" y="2654"/>
                  </a:lnTo>
                  <a:lnTo>
                    <a:pt x="316" y="2646"/>
                  </a:lnTo>
                  <a:lnTo>
                    <a:pt x="300" y="2642"/>
                  </a:lnTo>
                  <a:lnTo>
                    <a:pt x="282" y="2638"/>
                  </a:lnTo>
                  <a:lnTo>
                    <a:pt x="260" y="2640"/>
                  </a:lnTo>
                  <a:lnTo>
                    <a:pt x="236" y="2642"/>
                  </a:lnTo>
                  <a:lnTo>
                    <a:pt x="208" y="2650"/>
                  </a:lnTo>
                  <a:lnTo>
                    <a:pt x="208" y="2650"/>
                  </a:lnTo>
                  <a:lnTo>
                    <a:pt x="220" y="2660"/>
                  </a:lnTo>
                  <a:lnTo>
                    <a:pt x="232" y="2670"/>
                  </a:lnTo>
                  <a:lnTo>
                    <a:pt x="242" y="2680"/>
                  </a:lnTo>
                  <a:lnTo>
                    <a:pt x="248" y="2690"/>
                  </a:lnTo>
                  <a:lnTo>
                    <a:pt x="252" y="2700"/>
                  </a:lnTo>
                  <a:lnTo>
                    <a:pt x="256" y="2708"/>
                  </a:lnTo>
                  <a:lnTo>
                    <a:pt x="256" y="2718"/>
                  </a:lnTo>
                  <a:lnTo>
                    <a:pt x="256" y="2726"/>
                  </a:lnTo>
                  <a:lnTo>
                    <a:pt x="254" y="2734"/>
                  </a:lnTo>
                  <a:lnTo>
                    <a:pt x="250" y="2740"/>
                  </a:lnTo>
                  <a:lnTo>
                    <a:pt x="246" y="2746"/>
                  </a:lnTo>
                  <a:lnTo>
                    <a:pt x="240" y="2752"/>
                  </a:lnTo>
                  <a:lnTo>
                    <a:pt x="234" y="2756"/>
                  </a:lnTo>
                  <a:lnTo>
                    <a:pt x="226" y="2760"/>
                  </a:lnTo>
                  <a:lnTo>
                    <a:pt x="210" y="2764"/>
                  </a:lnTo>
                  <a:lnTo>
                    <a:pt x="210" y="2764"/>
                  </a:lnTo>
                  <a:lnTo>
                    <a:pt x="192" y="2764"/>
                  </a:lnTo>
                  <a:lnTo>
                    <a:pt x="176" y="2760"/>
                  </a:lnTo>
                  <a:lnTo>
                    <a:pt x="160" y="2752"/>
                  </a:lnTo>
                  <a:lnTo>
                    <a:pt x="146" y="2742"/>
                  </a:lnTo>
                  <a:lnTo>
                    <a:pt x="134" y="2728"/>
                  </a:lnTo>
                  <a:lnTo>
                    <a:pt x="124" y="2714"/>
                  </a:lnTo>
                  <a:lnTo>
                    <a:pt x="116" y="2698"/>
                  </a:lnTo>
                  <a:lnTo>
                    <a:pt x="112" y="2684"/>
                  </a:lnTo>
                  <a:lnTo>
                    <a:pt x="112" y="2684"/>
                  </a:lnTo>
                  <a:lnTo>
                    <a:pt x="130" y="2688"/>
                  </a:lnTo>
                  <a:lnTo>
                    <a:pt x="146" y="2688"/>
                  </a:lnTo>
                  <a:lnTo>
                    <a:pt x="156" y="2684"/>
                  </a:lnTo>
                  <a:lnTo>
                    <a:pt x="166" y="2678"/>
                  </a:lnTo>
                  <a:lnTo>
                    <a:pt x="172" y="2672"/>
                  </a:lnTo>
                  <a:lnTo>
                    <a:pt x="176" y="2666"/>
                  </a:lnTo>
                  <a:lnTo>
                    <a:pt x="180" y="2660"/>
                  </a:lnTo>
                  <a:lnTo>
                    <a:pt x="180" y="2660"/>
                  </a:lnTo>
                  <a:lnTo>
                    <a:pt x="166" y="2656"/>
                  </a:lnTo>
                  <a:lnTo>
                    <a:pt x="154" y="2648"/>
                  </a:lnTo>
                  <a:lnTo>
                    <a:pt x="144" y="2638"/>
                  </a:lnTo>
                  <a:lnTo>
                    <a:pt x="134" y="2624"/>
                  </a:lnTo>
                  <a:lnTo>
                    <a:pt x="126" y="2610"/>
                  </a:lnTo>
                  <a:lnTo>
                    <a:pt x="120" y="2596"/>
                  </a:lnTo>
                  <a:lnTo>
                    <a:pt x="116" y="2578"/>
                  </a:lnTo>
                  <a:lnTo>
                    <a:pt x="114" y="2562"/>
                  </a:lnTo>
                  <a:lnTo>
                    <a:pt x="116" y="2546"/>
                  </a:lnTo>
                  <a:lnTo>
                    <a:pt x="120" y="2530"/>
                  </a:lnTo>
                  <a:lnTo>
                    <a:pt x="128" y="2516"/>
                  </a:lnTo>
                  <a:lnTo>
                    <a:pt x="140" y="2504"/>
                  </a:lnTo>
                  <a:lnTo>
                    <a:pt x="154" y="2494"/>
                  </a:lnTo>
                  <a:lnTo>
                    <a:pt x="172" y="2486"/>
                  </a:lnTo>
                  <a:lnTo>
                    <a:pt x="196" y="2480"/>
                  </a:lnTo>
                  <a:lnTo>
                    <a:pt x="224" y="2480"/>
                  </a:lnTo>
                  <a:lnTo>
                    <a:pt x="224" y="2480"/>
                  </a:lnTo>
                  <a:lnTo>
                    <a:pt x="216" y="2472"/>
                  </a:lnTo>
                  <a:lnTo>
                    <a:pt x="210" y="2462"/>
                  </a:lnTo>
                  <a:lnTo>
                    <a:pt x="208" y="2450"/>
                  </a:lnTo>
                  <a:lnTo>
                    <a:pt x="210" y="2438"/>
                  </a:lnTo>
                  <a:lnTo>
                    <a:pt x="216" y="2426"/>
                  </a:lnTo>
                  <a:lnTo>
                    <a:pt x="228" y="2414"/>
                  </a:lnTo>
                  <a:lnTo>
                    <a:pt x="242" y="2406"/>
                  </a:lnTo>
                  <a:lnTo>
                    <a:pt x="260" y="2400"/>
                  </a:lnTo>
                  <a:lnTo>
                    <a:pt x="260" y="2400"/>
                  </a:lnTo>
                  <a:lnTo>
                    <a:pt x="272" y="2400"/>
                  </a:lnTo>
                  <a:lnTo>
                    <a:pt x="286" y="2402"/>
                  </a:lnTo>
                  <a:lnTo>
                    <a:pt x="302" y="2410"/>
                  </a:lnTo>
                  <a:lnTo>
                    <a:pt x="314" y="2418"/>
                  </a:lnTo>
                  <a:lnTo>
                    <a:pt x="320" y="2426"/>
                  </a:lnTo>
                  <a:lnTo>
                    <a:pt x="324" y="2432"/>
                  </a:lnTo>
                  <a:lnTo>
                    <a:pt x="326" y="2440"/>
                  </a:lnTo>
                  <a:lnTo>
                    <a:pt x="328" y="2448"/>
                  </a:lnTo>
                  <a:lnTo>
                    <a:pt x="328" y="2458"/>
                  </a:lnTo>
                  <a:lnTo>
                    <a:pt x="324" y="2468"/>
                  </a:lnTo>
                  <a:lnTo>
                    <a:pt x="320" y="2480"/>
                  </a:lnTo>
                  <a:lnTo>
                    <a:pt x="312" y="2492"/>
                  </a:lnTo>
                  <a:lnTo>
                    <a:pt x="312" y="2492"/>
                  </a:lnTo>
                  <a:lnTo>
                    <a:pt x="322" y="2494"/>
                  </a:lnTo>
                  <a:lnTo>
                    <a:pt x="330" y="2494"/>
                  </a:lnTo>
                  <a:lnTo>
                    <a:pt x="340" y="2492"/>
                  </a:lnTo>
                  <a:lnTo>
                    <a:pt x="348" y="2488"/>
                  </a:lnTo>
                  <a:lnTo>
                    <a:pt x="354" y="2482"/>
                  </a:lnTo>
                  <a:lnTo>
                    <a:pt x="362" y="2474"/>
                  </a:lnTo>
                  <a:lnTo>
                    <a:pt x="368" y="2464"/>
                  </a:lnTo>
                  <a:lnTo>
                    <a:pt x="374" y="2454"/>
                  </a:lnTo>
                  <a:lnTo>
                    <a:pt x="374" y="2454"/>
                  </a:lnTo>
                  <a:lnTo>
                    <a:pt x="380" y="2466"/>
                  </a:lnTo>
                  <a:lnTo>
                    <a:pt x="384" y="2480"/>
                  </a:lnTo>
                  <a:lnTo>
                    <a:pt x="386" y="2492"/>
                  </a:lnTo>
                  <a:lnTo>
                    <a:pt x="386" y="2506"/>
                  </a:lnTo>
                  <a:lnTo>
                    <a:pt x="386" y="2518"/>
                  </a:lnTo>
                  <a:lnTo>
                    <a:pt x="382" y="2530"/>
                  </a:lnTo>
                  <a:lnTo>
                    <a:pt x="378" y="2540"/>
                  </a:lnTo>
                  <a:lnTo>
                    <a:pt x="372" y="2548"/>
                  </a:lnTo>
                  <a:lnTo>
                    <a:pt x="364" y="2556"/>
                  </a:lnTo>
                  <a:lnTo>
                    <a:pt x="356" y="2560"/>
                  </a:lnTo>
                  <a:lnTo>
                    <a:pt x="348" y="2564"/>
                  </a:lnTo>
                  <a:lnTo>
                    <a:pt x="338" y="2564"/>
                  </a:lnTo>
                  <a:lnTo>
                    <a:pt x="330" y="2562"/>
                  </a:lnTo>
                  <a:lnTo>
                    <a:pt x="320" y="2558"/>
                  </a:lnTo>
                  <a:lnTo>
                    <a:pt x="308" y="2550"/>
                  </a:lnTo>
                  <a:lnTo>
                    <a:pt x="298" y="2538"/>
                  </a:lnTo>
                  <a:lnTo>
                    <a:pt x="298" y="2538"/>
                  </a:lnTo>
                  <a:lnTo>
                    <a:pt x="306" y="2552"/>
                  </a:lnTo>
                  <a:lnTo>
                    <a:pt x="314" y="2564"/>
                  </a:lnTo>
                  <a:lnTo>
                    <a:pt x="322" y="2574"/>
                  </a:lnTo>
                  <a:lnTo>
                    <a:pt x="330" y="2584"/>
                  </a:lnTo>
                  <a:lnTo>
                    <a:pt x="340" y="2590"/>
                  </a:lnTo>
                  <a:lnTo>
                    <a:pt x="350" y="2594"/>
                  </a:lnTo>
                  <a:lnTo>
                    <a:pt x="360" y="2596"/>
                  </a:lnTo>
                  <a:lnTo>
                    <a:pt x="370" y="2596"/>
                  </a:lnTo>
                  <a:lnTo>
                    <a:pt x="380" y="2596"/>
                  </a:lnTo>
                  <a:lnTo>
                    <a:pt x="390" y="2594"/>
                  </a:lnTo>
                  <a:lnTo>
                    <a:pt x="400" y="2590"/>
                  </a:lnTo>
                  <a:lnTo>
                    <a:pt x="410" y="2586"/>
                  </a:lnTo>
                  <a:lnTo>
                    <a:pt x="428" y="2572"/>
                  </a:lnTo>
                  <a:lnTo>
                    <a:pt x="442" y="2554"/>
                  </a:lnTo>
                  <a:lnTo>
                    <a:pt x="456" y="2534"/>
                  </a:lnTo>
                  <a:lnTo>
                    <a:pt x="464" y="2510"/>
                  </a:lnTo>
                  <a:lnTo>
                    <a:pt x="468" y="2498"/>
                  </a:lnTo>
                  <a:lnTo>
                    <a:pt x="470" y="2486"/>
                  </a:lnTo>
                  <a:lnTo>
                    <a:pt x="470" y="2474"/>
                  </a:lnTo>
                  <a:lnTo>
                    <a:pt x="468" y="2460"/>
                  </a:lnTo>
                  <a:lnTo>
                    <a:pt x="466" y="2448"/>
                  </a:lnTo>
                  <a:lnTo>
                    <a:pt x="462" y="2434"/>
                  </a:lnTo>
                  <a:lnTo>
                    <a:pt x="456" y="2422"/>
                  </a:lnTo>
                  <a:lnTo>
                    <a:pt x="448" y="2410"/>
                  </a:lnTo>
                  <a:lnTo>
                    <a:pt x="438" y="2398"/>
                  </a:lnTo>
                  <a:lnTo>
                    <a:pt x="426" y="2386"/>
                  </a:lnTo>
                  <a:lnTo>
                    <a:pt x="412" y="2376"/>
                  </a:lnTo>
                  <a:lnTo>
                    <a:pt x="394" y="2366"/>
                  </a:lnTo>
                  <a:lnTo>
                    <a:pt x="394" y="2366"/>
                  </a:lnTo>
                  <a:lnTo>
                    <a:pt x="432" y="2362"/>
                  </a:lnTo>
                  <a:lnTo>
                    <a:pt x="468" y="2354"/>
                  </a:lnTo>
                  <a:lnTo>
                    <a:pt x="502" y="2344"/>
                  </a:lnTo>
                  <a:lnTo>
                    <a:pt x="518" y="2336"/>
                  </a:lnTo>
                  <a:lnTo>
                    <a:pt x="534" y="2328"/>
                  </a:lnTo>
                  <a:lnTo>
                    <a:pt x="550" y="2318"/>
                  </a:lnTo>
                  <a:lnTo>
                    <a:pt x="564" y="2308"/>
                  </a:lnTo>
                  <a:lnTo>
                    <a:pt x="578" y="2296"/>
                  </a:lnTo>
                  <a:lnTo>
                    <a:pt x="592" y="2282"/>
                  </a:lnTo>
                  <a:lnTo>
                    <a:pt x="604" y="2268"/>
                  </a:lnTo>
                  <a:lnTo>
                    <a:pt x="616" y="2252"/>
                  </a:lnTo>
                  <a:lnTo>
                    <a:pt x="628" y="2236"/>
                  </a:lnTo>
                  <a:lnTo>
                    <a:pt x="638" y="2218"/>
                  </a:lnTo>
                  <a:lnTo>
                    <a:pt x="648" y="2198"/>
                  </a:lnTo>
                  <a:lnTo>
                    <a:pt x="658" y="2178"/>
                  </a:lnTo>
                  <a:lnTo>
                    <a:pt x="666" y="2154"/>
                  </a:lnTo>
                  <a:lnTo>
                    <a:pt x="672" y="2132"/>
                  </a:lnTo>
                  <a:lnTo>
                    <a:pt x="678" y="2106"/>
                  </a:lnTo>
                  <a:lnTo>
                    <a:pt x="684" y="2080"/>
                  </a:lnTo>
                  <a:lnTo>
                    <a:pt x="688" y="2052"/>
                  </a:lnTo>
                  <a:lnTo>
                    <a:pt x="690" y="2022"/>
                  </a:lnTo>
                  <a:lnTo>
                    <a:pt x="694" y="1958"/>
                  </a:lnTo>
                  <a:lnTo>
                    <a:pt x="692" y="1888"/>
                  </a:lnTo>
                  <a:lnTo>
                    <a:pt x="686" y="1812"/>
                  </a:lnTo>
                  <a:lnTo>
                    <a:pt x="674" y="1728"/>
                  </a:lnTo>
                  <a:lnTo>
                    <a:pt x="674" y="1728"/>
                  </a:lnTo>
                  <a:lnTo>
                    <a:pt x="666" y="1700"/>
                  </a:lnTo>
                  <a:lnTo>
                    <a:pt x="656" y="1662"/>
                  </a:lnTo>
                  <a:lnTo>
                    <a:pt x="642" y="1626"/>
                  </a:lnTo>
                  <a:lnTo>
                    <a:pt x="634" y="1610"/>
                  </a:lnTo>
                  <a:lnTo>
                    <a:pt x="628" y="1600"/>
                  </a:lnTo>
                  <a:lnTo>
                    <a:pt x="628" y="1600"/>
                  </a:lnTo>
                  <a:lnTo>
                    <a:pt x="584" y="1536"/>
                  </a:lnTo>
                  <a:lnTo>
                    <a:pt x="554" y="1496"/>
                  </a:lnTo>
                  <a:lnTo>
                    <a:pt x="522" y="1456"/>
                  </a:lnTo>
                  <a:lnTo>
                    <a:pt x="486" y="1416"/>
                  </a:lnTo>
                  <a:lnTo>
                    <a:pt x="452" y="1378"/>
                  </a:lnTo>
                  <a:lnTo>
                    <a:pt x="416" y="1346"/>
                  </a:lnTo>
                  <a:lnTo>
                    <a:pt x="400" y="1334"/>
                  </a:lnTo>
                  <a:lnTo>
                    <a:pt x="384" y="1322"/>
                  </a:lnTo>
                  <a:lnTo>
                    <a:pt x="384" y="1322"/>
                  </a:lnTo>
                  <a:lnTo>
                    <a:pt x="442" y="1346"/>
                  </a:lnTo>
                  <a:lnTo>
                    <a:pt x="504" y="1372"/>
                  </a:lnTo>
                  <a:lnTo>
                    <a:pt x="504" y="1372"/>
                  </a:lnTo>
                  <a:lnTo>
                    <a:pt x="564" y="1396"/>
                  </a:lnTo>
                  <a:lnTo>
                    <a:pt x="620" y="1414"/>
                  </a:lnTo>
                  <a:lnTo>
                    <a:pt x="648" y="1422"/>
                  </a:lnTo>
                  <a:lnTo>
                    <a:pt x="674" y="1428"/>
                  </a:lnTo>
                  <a:lnTo>
                    <a:pt x="698" y="1430"/>
                  </a:lnTo>
                  <a:lnTo>
                    <a:pt x="720" y="1430"/>
                  </a:lnTo>
                  <a:lnTo>
                    <a:pt x="720" y="1430"/>
                  </a:lnTo>
                  <a:lnTo>
                    <a:pt x="744" y="1432"/>
                  </a:lnTo>
                  <a:lnTo>
                    <a:pt x="772" y="1432"/>
                  </a:lnTo>
                  <a:lnTo>
                    <a:pt x="802" y="1430"/>
                  </a:lnTo>
                  <a:lnTo>
                    <a:pt x="828" y="1426"/>
                  </a:lnTo>
                  <a:lnTo>
                    <a:pt x="828" y="1426"/>
                  </a:lnTo>
                  <a:lnTo>
                    <a:pt x="850" y="1418"/>
                  </a:lnTo>
                  <a:lnTo>
                    <a:pt x="870" y="1410"/>
                  </a:lnTo>
                  <a:lnTo>
                    <a:pt x="888" y="1400"/>
                  </a:lnTo>
                  <a:lnTo>
                    <a:pt x="904" y="1390"/>
                  </a:lnTo>
                  <a:lnTo>
                    <a:pt x="920" y="1378"/>
                  </a:lnTo>
                  <a:lnTo>
                    <a:pt x="934" y="1366"/>
                  </a:lnTo>
                  <a:lnTo>
                    <a:pt x="948" y="1354"/>
                  </a:lnTo>
                  <a:lnTo>
                    <a:pt x="958" y="1340"/>
                  </a:lnTo>
                  <a:lnTo>
                    <a:pt x="970" y="1326"/>
                  </a:lnTo>
                  <a:lnTo>
                    <a:pt x="978" y="1312"/>
                  </a:lnTo>
                  <a:lnTo>
                    <a:pt x="984" y="1296"/>
                  </a:lnTo>
                  <a:lnTo>
                    <a:pt x="990" y="1280"/>
                  </a:lnTo>
                  <a:lnTo>
                    <a:pt x="996" y="1264"/>
                  </a:lnTo>
                  <a:lnTo>
                    <a:pt x="998" y="1246"/>
                  </a:lnTo>
                  <a:lnTo>
                    <a:pt x="1000" y="1230"/>
                  </a:lnTo>
                  <a:lnTo>
                    <a:pt x="1000" y="1212"/>
                  </a:lnTo>
                  <a:lnTo>
                    <a:pt x="1000" y="1212"/>
                  </a:lnTo>
                  <a:lnTo>
                    <a:pt x="988" y="1218"/>
                  </a:lnTo>
                  <a:lnTo>
                    <a:pt x="980" y="1226"/>
                  </a:lnTo>
                  <a:lnTo>
                    <a:pt x="966" y="1242"/>
                  </a:lnTo>
                  <a:lnTo>
                    <a:pt x="958" y="1254"/>
                  </a:lnTo>
                  <a:lnTo>
                    <a:pt x="952" y="1260"/>
                  </a:lnTo>
                  <a:lnTo>
                    <a:pt x="946" y="1266"/>
                  </a:lnTo>
                  <a:lnTo>
                    <a:pt x="946" y="1266"/>
                  </a:lnTo>
                  <a:lnTo>
                    <a:pt x="952" y="1246"/>
                  </a:lnTo>
                  <a:lnTo>
                    <a:pt x="954" y="1222"/>
                  </a:lnTo>
                  <a:lnTo>
                    <a:pt x="952" y="1206"/>
                  </a:lnTo>
                  <a:lnTo>
                    <a:pt x="950" y="1192"/>
                  </a:lnTo>
                  <a:lnTo>
                    <a:pt x="946" y="1176"/>
                  </a:lnTo>
                  <a:lnTo>
                    <a:pt x="940" y="1160"/>
                  </a:lnTo>
                  <a:lnTo>
                    <a:pt x="934" y="1144"/>
                  </a:lnTo>
                  <a:lnTo>
                    <a:pt x="924" y="1128"/>
                  </a:lnTo>
                  <a:lnTo>
                    <a:pt x="912" y="1112"/>
                  </a:lnTo>
                  <a:lnTo>
                    <a:pt x="898" y="1098"/>
                  </a:lnTo>
                  <a:lnTo>
                    <a:pt x="880" y="1084"/>
                  </a:lnTo>
                  <a:lnTo>
                    <a:pt x="860" y="1072"/>
                  </a:lnTo>
                  <a:lnTo>
                    <a:pt x="838" y="1062"/>
                  </a:lnTo>
                  <a:lnTo>
                    <a:pt x="812" y="1054"/>
                  </a:lnTo>
                  <a:lnTo>
                    <a:pt x="812" y="1054"/>
                  </a:lnTo>
                  <a:lnTo>
                    <a:pt x="836" y="1084"/>
                  </a:lnTo>
                  <a:lnTo>
                    <a:pt x="854" y="1112"/>
                  </a:lnTo>
                  <a:lnTo>
                    <a:pt x="866" y="1138"/>
                  </a:lnTo>
                  <a:lnTo>
                    <a:pt x="870" y="1152"/>
                  </a:lnTo>
                  <a:lnTo>
                    <a:pt x="872" y="1164"/>
                  </a:lnTo>
                  <a:lnTo>
                    <a:pt x="874" y="1176"/>
                  </a:lnTo>
                  <a:lnTo>
                    <a:pt x="874" y="1188"/>
                  </a:lnTo>
                  <a:lnTo>
                    <a:pt x="872" y="1200"/>
                  </a:lnTo>
                  <a:lnTo>
                    <a:pt x="870" y="1210"/>
                  </a:lnTo>
                  <a:lnTo>
                    <a:pt x="868" y="1222"/>
                  </a:lnTo>
                  <a:lnTo>
                    <a:pt x="862" y="1232"/>
                  </a:lnTo>
                  <a:lnTo>
                    <a:pt x="850" y="1250"/>
                  </a:lnTo>
                  <a:lnTo>
                    <a:pt x="850" y="1250"/>
                  </a:lnTo>
                  <a:lnTo>
                    <a:pt x="848" y="1232"/>
                  </a:lnTo>
                  <a:lnTo>
                    <a:pt x="844" y="1216"/>
                  </a:lnTo>
                  <a:lnTo>
                    <a:pt x="838" y="1202"/>
                  </a:lnTo>
                  <a:lnTo>
                    <a:pt x="830" y="1188"/>
                  </a:lnTo>
                  <a:lnTo>
                    <a:pt x="818" y="1178"/>
                  </a:lnTo>
                  <a:lnTo>
                    <a:pt x="804" y="1166"/>
                  </a:lnTo>
                  <a:lnTo>
                    <a:pt x="790" y="1158"/>
                  </a:lnTo>
                  <a:lnTo>
                    <a:pt x="772" y="1148"/>
                  </a:lnTo>
                  <a:lnTo>
                    <a:pt x="772" y="1148"/>
                  </a:lnTo>
                  <a:lnTo>
                    <a:pt x="778" y="1166"/>
                  </a:lnTo>
                  <a:lnTo>
                    <a:pt x="782" y="1184"/>
                  </a:lnTo>
                  <a:lnTo>
                    <a:pt x="782" y="1202"/>
                  </a:lnTo>
                  <a:lnTo>
                    <a:pt x="778" y="1220"/>
                  </a:lnTo>
                  <a:lnTo>
                    <a:pt x="774" y="1236"/>
                  </a:lnTo>
                  <a:lnTo>
                    <a:pt x="766" y="1252"/>
                  </a:lnTo>
                  <a:lnTo>
                    <a:pt x="756" y="1268"/>
                  </a:lnTo>
                  <a:lnTo>
                    <a:pt x="742" y="1282"/>
                  </a:lnTo>
                  <a:lnTo>
                    <a:pt x="728" y="1296"/>
                  </a:lnTo>
                  <a:lnTo>
                    <a:pt x="712" y="1308"/>
                  </a:lnTo>
                  <a:lnTo>
                    <a:pt x="692" y="1316"/>
                  </a:lnTo>
                  <a:lnTo>
                    <a:pt x="672" y="1324"/>
                  </a:lnTo>
                  <a:lnTo>
                    <a:pt x="650" y="1328"/>
                  </a:lnTo>
                  <a:lnTo>
                    <a:pt x="626" y="1330"/>
                  </a:lnTo>
                  <a:lnTo>
                    <a:pt x="602" y="1330"/>
                  </a:lnTo>
                  <a:lnTo>
                    <a:pt x="574" y="1326"/>
                  </a:lnTo>
                  <a:lnTo>
                    <a:pt x="574" y="1326"/>
                  </a:lnTo>
                  <a:lnTo>
                    <a:pt x="550" y="1320"/>
                  </a:lnTo>
                  <a:lnTo>
                    <a:pt x="526" y="1310"/>
                  </a:lnTo>
                  <a:lnTo>
                    <a:pt x="526" y="1310"/>
                  </a:lnTo>
                  <a:lnTo>
                    <a:pt x="544" y="1312"/>
                  </a:lnTo>
                  <a:lnTo>
                    <a:pt x="560" y="1310"/>
                  </a:lnTo>
                  <a:lnTo>
                    <a:pt x="576" y="1306"/>
                  </a:lnTo>
                  <a:lnTo>
                    <a:pt x="590" y="1300"/>
                  </a:lnTo>
                  <a:lnTo>
                    <a:pt x="602" y="1294"/>
                  </a:lnTo>
                  <a:lnTo>
                    <a:pt x="614" y="1286"/>
                  </a:lnTo>
                  <a:lnTo>
                    <a:pt x="624" y="1276"/>
                  </a:lnTo>
                  <a:lnTo>
                    <a:pt x="634" y="1264"/>
                  </a:lnTo>
                  <a:lnTo>
                    <a:pt x="642" y="1252"/>
                  </a:lnTo>
                  <a:lnTo>
                    <a:pt x="650" y="1238"/>
                  </a:lnTo>
                  <a:lnTo>
                    <a:pt x="656" y="1222"/>
                  </a:lnTo>
                  <a:lnTo>
                    <a:pt x="660" y="1208"/>
                  </a:lnTo>
                  <a:lnTo>
                    <a:pt x="664" y="1192"/>
                  </a:lnTo>
                  <a:lnTo>
                    <a:pt x="668" y="1176"/>
                  </a:lnTo>
                  <a:lnTo>
                    <a:pt x="670" y="1142"/>
                  </a:lnTo>
                  <a:lnTo>
                    <a:pt x="670" y="1142"/>
                  </a:lnTo>
                  <a:lnTo>
                    <a:pt x="664" y="1110"/>
                  </a:lnTo>
                  <a:lnTo>
                    <a:pt x="656" y="1074"/>
                  </a:lnTo>
                  <a:lnTo>
                    <a:pt x="648" y="1056"/>
                  </a:lnTo>
                  <a:lnTo>
                    <a:pt x="640" y="1036"/>
                  </a:lnTo>
                  <a:lnTo>
                    <a:pt x="632" y="1018"/>
                  </a:lnTo>
                  <a:lnTo>
                    <a:pt x="620" y="1002"/>
                  </a:lnTo>
                  <a:lnTo>
                    <a:pt x="620" y="1002"/>
                  </a:lnTo>
                  <a:lnTo>
                    <a:pt x="612" y="990"/>
                  </a:lnTo>
                  <a:lnTo>
                    <a:pt x="612" y="990"/>
                  </a:lnTo>
                  <a:lnTo>
                    <a:pt x="596" y="972"/>
                  </a:lnTo>
                  <a:lnTo>
                    <a:pt x="578" y="958"/>
                  </a:lnTo>
                  <a:lnTo>
                    <a:pt x="560" y="948"/>
                  </a:lnTo>
                  <a:lnTo>
                    <a:pt x="544" y="942"/>
                  </a:lnTo>
                  <a:lnTo>
                    <a:pt x="526" y="938"/>
                  </a:lnTo>
                  <a:lnTo>
                    <a:pt x="508" y="936"/>
                  </a:lnTo>
                  <a:lnTo>
                    <a:pt x="490" y="938"/>
                  </a:lnTo>
                  <a:lnTo>
                    <a:pt x="474" y="944"/>
                  </a:lnTo>
                  <a:lnTo>
                    <a:pt x="460" y="950"/>
                  </a:lnTo>
                  <a:lnTo>
                    <a:pt x="446" y="958"/>
                  </a:lnTo>
                  <a:lnTo>
                    <a:pt x="432" y="968"/>
                  </a:lnTo>
                  <a:lnTo>
                    <a:pt x="422" y="978"/>
                  </a:lnTo>
                  <a:lnTo>
                    <a:pt x="412" y="992"/>
                  </a:lnTo>
                  <a:lnTo>
                    <a:pt x="406" y="1004"/>
                  </a:lnTo>
                  <a:lnTo>
                    <a:pt x="400" y="1018"/>
                  </a:lnTo>
                  <a:lnTo>
                    <a:pt x="398" y="1030"/>
                  </a:lnTo>
                  <a:lnTo>
                    <a:pt x="398" y="1030"/>
                  </a:lnTo>
                  <a:lnTo>
                    <a:pt x="398" y="1046"/>
                  </a:lnTo>
                  <a:lnTo>
                    <a:pt x="400" y="1058"/>
                  </a:lnTo>
                  <a:lnTo>
                    <a:pt x="404" y="1072"/>
                  </a:lnTo>
                  <a:lnTo>
                    <a:pt x="410" y="1082"/>
                  </a:lnTo>
                  <a:lnTo>
                    <a:pt x="416" y="1092"/>
                  </a:lnTo>
                  <a:lnTo>
                    <a:pt x="426" y="1102"/>
                  </a:lnTo>
                  <a:lnTo>
                    <a:pt x="434" y="1110"/>
                  </a:lnTo>
                  <a:lnTo>
                    <a:pt x="446" y="1116"/>
                  </a:lnTo>
                  <a:lnTo>
                    <a:pt x="456" y="1122"/>
                  </a:lnTo>
                  <a:lnTo>
                    <a:pt x="470" y="1124"/>
                  </a:lnTo>
                  <a:lnTo>
                    <a:pt x="482" y="1128"/>
                  </a:lnTo>
                  <a:lnTo>
                    <a:pt x="496" y="1128"/>
                  </a:lnTo>
                  <a:lnTo>
                    <a:pt x="508" y="1126"/>
                  </a:lnTo>
                  <a:lnTo>
                    <a:pt x="522" y="1124"/>
                  </a:lnTo>
                  <a:lnTo>
                    <a:pt x="536" y="1120"/>
                  </a:lnTo>
                  <a:lnTo>
                    <a:pt x="550" y="1114"/>
                  </a:lnTo>
                  <a:lnTo>
                    <a:pt x="550" y="1114"/>
                  </a:lnTo>
                  <a:lnTo>
                    <a:pt x="534" y="1110"/>
                  </a:lnTo>
                  <a:lnTo>
                    <a:pt x="522" y="1102"/>
                  </a:lnTo>
                  <a:lnTo>
                    <a:pt x="510" y="1092"/>
                  </a:lnTo>
                  <a:lnTo>
                    <a:pt x="502" y="1080"/>
                  </a:lnTo>
                  <a:lnTo>
                    <a:pt x="498" y="1068"/>
                  </a:lnTo>
                  <a:lnTo>
                    <a:pt x="496" y="1062"/>
                  </a:lnTo>
                  <a:lnTo>
                    <a:pt x="498" y="1054"/>
                  </a:lnTo>
                  <a:lnTo>
                    <a:pt x="500" y="1048"/>
                  </a:lnTo>
                  <a:lnTo>
                    <a:pt x="502" y="1040"/>
                  </a:lnTo>
                  <a:lnTo>
                    <a:pt x="508" y="1034"/>
                  </a:lnTo>
                  <a:lnTo>
                    <a:pt x="514" y="1028"/>
                  </a:lnTo>
                  <a:lnTo>
                    <a:pt x="514" y="1028"/>
                  </a:lnTo>
                  <a:lnTo>
                    <a:pt x="520" y="1022"/>
                  </a:lnTo>
                  <a:lnTo>
                    <a:pt x="528" y="1018"/>
                  </a:lnTo>
                  <a:lnTo>
                    <a:pt x="536" y="1014"/>
                  </a:lnTo>
                  <a:lnTo>
                    <a:pt x="542" y="1012"/>
                  </a:lnTo>
                  <a:lnTo>
                    <a:pt x="550" y="1012"/>
                  </a:lnTo>
                  <a:lnTo>
                    <a:pt x="558" y="1014"/>
                  </a:lnTo>
                  <a:lnTo>
                    <a:pt x="574" y="1018"/>
                  </a:lnTo>
                  <a:lnTo>
                    <a:pt x="590" y="1028"/>
                  </a:lnTo>
                  <a:lnTo>
                    <a:pt x="604" y="1040"/>
                  </a:lnTo>
                  <a:lnTo>
                    <a:pt x="618" y="1056"/>
                  </a:lnTo>
                  <a:lnTo>
                    <a:pt x="630" y="1074"/>
                  </a:lnTo>
                  <a:lnTo>
                    <a:pt x="630" y="1074"/>
                  </a:lnTo>
                  <a:lnTo>
                    <a:pt x="638" y="1090"/>
                  </a:lnTo>
                  <a:lnTo>
                    <a:pt x="644" y="1104"/>
                  </a:lnTo>
                  <a:lnTo>
                    <a:pt x="646" y="1122"/>
                  </a:lnTo>
                  <a:lnTo>
                    <a:pt x="648" y="1142"/>
                  </a:lnTo>
                  <a:lnTo>
                    <a:pt x="648" y="1142"/>
                  </a:lnTo>
                  <a:lnTo>
                    <a:pt x="648" y="1158"/>
                  </a:lnTo>
                  <a:lnTo>
                    <a:pt x="644" y="1174"/>
                  </a:lnTo>
                  <a:lnTo>
                    <a:pt x="638" y="1190"/>
                  </a:lnTo>
                  <a:lnTo>
                    <a:pt x="630" y="1204"/>
                  </a:lnTo>
                  <a:lnTo>
                    <a:pt x="620" y="1218"/>
                  </a:lnTo>
                  <a:lnTo>
                    <a:pt x="606" y="1230"/>
                  </a:lnTo>
                  <a:lnTo>
                    <a:pt x="592" y="1240"/>
                  </a:lnTo>
                  <a:lnTo>
                    <a:pt x="574" y="1248"/>
                  </a:lnTo>
                  <a:lnTo>
                    <a:pt x="552" y="1256"/>
                  </a:lnTo>
                  <a:lnTo>
                    <a:pt x="530" y="1260"/>
                  </a:lnTo>
                  <a:lnTo>
                    <a:pt x="504" y="1260"/>
                  </a:lnTo>
                  <a:lnTo>
                    <a:pt x="476" y="1260"/>
                  </a:lnTo>
                  <a:lnTo>
                    <a:pt x="446" y="1254"/>
                  </a:lnTo>
                  <a:lnTo>
                    <a:pt x="414" y="1246"/>
                  </a:lnTo>
                  <a:lnTo>
                    <a:pt x="378" y="1234"/>
                  </a:lnTo>
                  <a:lnTo>
                    <a:pt x="340" y="1218"/>
                  </a:lnTo>
                  <a:lnTo>
                    <a:pt x="340" y="1218"/>
                  </a:lnTo>
                  <a:lnTo>
                    <a:pt x="358" y="1218"/>
                  </a:lnTo>
                  <a:lnTo>
                    <a:pt x="376" y="1214"/>
                  </a:lnTo>
                  <a:lnTo>
                    <a:pt x="392" y="1210"/>
                  </a:lnTo>
                  <a:lnTo>
                    <a:pt x="408" y="1204"/>
                  </a:lnTo>
                  <a:lnTo>
                    <a:pt x="422" y="1194"/>
                  </a:lnTo>
                  <a:lnTo>
                    <a:pt x="434" y="1184"/>
                  </a:lnTo>
                  <a:lnTo>
                    <a:pt x="440" y="1172"/>
                  </a:lnTo>
                  <a:lnTo>
                    <a:pt x="442" y="1164"/>
                  </a:lnTo>
                  <a:lnTo>
                    <a:pt x="444" y="1156"/>
                  </a:lnTo>
                  <a:lnTo>
                    <a:pt x="444" y="1156"/>
                  </a:lnTo>
                  <a:lnTo>
                    <a:pt x="428" y="1166"/>
                  </a:lnTo>
                  <a:lnTo>
                    <a:pt x="410" y="1172"/>
                  </a:lnTo>
                  <a:lnTo>
                    <a:pt x="392" y="1176"/>
                  </a:lnTo>
                  <a:lnTo>
                    <a:pt x="372" y="1178"/>
                  </a:lnTo>
                  <a:lnTo>
                    <a:pt x="354" y="1178"/>
                  </a:lnTo>
                  <a:lnTo>
                    <a:pt x="334" y="1174"/>
                  </a:lnTo>
                  <a:lnTo>
                    <a:pt x="314" y="1170"/>
                  </a:lnTo>
                  <a:lnTo>
                    <a:pt x="294" y="1166"/>
                  </a:lnTo>
                  <a:lnTo>
                    <a:pt x="276" y="1158"/>
                  </a:lnTo>
                  <a:lnTo>
                    <a:pt x="258" y="1148"/>
                  </a:lnTo>
                  <a:lnTo>
                    <a:pt x="240" y="1138"/>
                  </a:lnTo>
                  <a:lnTo>
                    <a:pt x="224" y="1126"/>
                  </a:lnTo>
                  <a:lnTo>
                    <a:pt x="210" y="1112"/>
                  </a:lnTo>
                  <a:lnTo>
                    <a:pt x="196" y="1098"/>
                  </a:lnTo>
                  <a:lnTo>
                    <a:pt x="186" y="1084"/>
                  </a:lnTo>
                  <a:lnTo>
                    <a:pt x="176" y="1066"/>
                  </a:lnTo>
                  <a:lnTo>
                    <a:pt x="176" y="1066"/>
                  </a:lnTo>
                  <a:lnTo>
                    <a:pt x="186" y="1054"/>
                  </a:lnTo>
                  <a:lnTo>
                    <a:pt x="196" y="1036"/>
                  </a:lnTo>
                  <a:lnTo>
                    <a:pt x="204" y="1016"/>
                  </a:lnTo>
                  <a:lnTo>
                    <a:pt x="212" y="992"/>
                  </a:lnTo>
                  <a:lnTo>
                    <a:pt x="216" y="970"/>
                  </a:lnTo>
                  <a:lnTo>
                    <a:pt x="214" y="948"/>
                  </a:lnTo>
                  <a:lnTo>
                    <a:pt x="214" y="938"/>
                  </a:lnTo>
                  <a:lnTo>
                    <a:pt x="210" y="930"/>
                  </a:lnTo>
                  <a:lnTo>
                    <a:pt x="206" y="922"/>
                  </a:lnTo>
                  <a:lnTo>
                    <a:pt x="200" y="916"/>
                  </a:lnTo>
                  <a:lnTo>
                    <a:pt x="200" y="916"/>
                  </a:lnTo>
                  <a:lnTo>
                    <a:pt x="230" y="928"/>
                  </a:lnTo>
                  <a:lnTo>
                    <a:pt x="260" y="936"/>
                  </a:lnTo>
                  <a:lnTo>
                    <a:pt x="290" y="940"/>
                  </a:lnTo>
                  <a:lnTo>
                    <a:pt x="316" y="940"/>
                  </a:lnTo>
                  <a:lnTo>
                    <a:pt x="338" y="936"/>
                  </a:lnTo>
                  <a:lnTo>
                    <a:pt x="348" y="934"/>
                  </a:lnTo>
                  <a:lnTo>
                    <a:pt x="356" y="930"/>
                  </a:lnTo>
                  <a:lnTo>
                    <a:pt x="364" y="924"/>
                  </a:lnTo>
                  <a:lnTo>
                    <a:pt x="370" y="918"/>
                  </a:lnTo>
                  <a:lnTo>
                    <a:pt x="374" y="910"/>
                  </a:lnTo>
                  <a:lnTo>
                    <a:pt x="378" y="902"/>
                  </a:lnTo>
                  <a:lnTo>
                    <a:pt x="378" y="902"/>
                  </a:lnTo>
                  <a:lnTo>
                    <a:pt x="362" y="904"/>
                  </a:lnTo>
                  <a:lnTo>
                    <a:pt x="344" y="904"/>
                  </a:lnTo>
                  <a:lnTo>
                    <a:pt x="324" y="900"/>
                  </a:lnTo>
                  <a:lnTo>
                    <a:pt x="304" y="892"/>
                  </a:lnTo>
                  <a:lnTo>
                    <a:pt x="284" y="882"/>
                  </a:lnTo>
                  <a:lnTo>
                    <a:pt x="264" y="868"/>
                  </a:lnTo>
                  <a:lnTo>
                    <a:pt x="242" y="852"/>
                  </a:lnTo>
                  <a:lnTo>
                    <a:pt x="224" y="832"/>
                  </a:lnTo>
                  <a:lnTo>
                    <a:pt x="204" y="812"/>
                  </a:lnTo>
                  <a:lnTo>
                    <a:pt x="186" y="788"/>
                  </a:lnTo>
                  <a:lnTo>
                    <a:pt x="170" y="762"/>
                  </a:lnTo>
                  <a:lnTo>
                    <a:pt x="156" y="736"/>
                  </a:lnTo>
                  <a:lnTo>
                    <a:pt x="144" y="706"/>
                  </a:lnTo>
                  <a:lnTo>
                    <a:pt x="136" y="676"/>
                  </a:lnTo>
                  <a:lnTo>
                    <a:pt x="130" y="644"/>
                  </a:lnTo>
                  <a:lnTo>
                    <a:pt x="128" y="612"/>
                  </a:lnTo>
                  <a:lnTo>
                    <a:pt x="128" y="612"/>
                  </a:lnTo>
                  <a:lnTo>
                    <a:pt x="128" y="584"/>
                  </a:lnTo>
                  <a:lnTo>
                    <a:pt x="130" y="554"/>
                  </a:lnTo>
                  <a:lnTo>
                    <a:pt x="132" y="526"/>
                  </a:lnTo>
                  <a:lnTo>
                    <a:pt x="138" y="496"/>
                  </a:lnTo>
                  <a:lnTo>
                    <a:pt x="144" y="468"/>
                  </a:lnTo>
                  <a:lnTo>
                    <a:pt x="152" y="438"/>
                  </a:lnTo>
                  <a:lnTo>
                    <a:pt x="162" y="410"/>
                  </a:lnTo>
                  <a:lnTo>
                    <a:pt x="172" y="382"/>
                  </a:lnTo>
                  <a:lnTo>
                    <a:pt x="186" y="356"/>
                  </a:lnTo>
                  <a:lnTo>
                    <a:pt x="200" y="330"/>
                  </a:lnTo>
                  <a:lnTo>
                    <a:pt x="218" y="304"/>
                  </a:lnTo>
                  <a:lnTo>
                    <a:pt x="236" y="280"/>
                  </a:lnTo>
                  <a:lnTo>
                    <a:pt x="256" y="256"/>
                  </a:lnTo>
                  <a:lnTo>
                    <a:pt x="276" y="234"/>
                  </a:lnTo>
                  <a:lnTo>
                    <a:pt x="300" y="214"/>
                  </a:lnTo>
                  <a:lnTo>
                    <a:pt x="326" y="194"/>
                  </a:lnTo>
                  <a:lnTo>
                    <a:pt x="326" y="194"/>
                  </a:lnTo>
                  <a:lnTo>
                    <a:pt x="314" y="218"/>
                  </a:lnTo>
                  <a:lnTo>
                    <a:pt x="302" y="240"/>
                  </a:lnTo>
                  <a:lnTo>
                    <a:pt x="282" y="290"/>
                  </a:lnTo>
                  <a:lnTo>
                    <a:pt x="266" y="340"/>
                  </a:lnTo>
                  <a:lnTo>
                    <a:pt x="256" y="390"/>
                  </a:lnTo>
                  <a:lnTo>
                    <a:pt x="252" y="414"/>
                  </a:lnTo>
                  <a:lnTo>
                    <a:pt x="250" y="438"/>
                  </a:lnTo>
                  <a:lnTo>
                    <a:pt x="248" y="460"/>
                  </a:lnTo>
                  <a:lnTo>
                    <a:pt x="250" y="482"/>
                  </a:lnTo>
                  <a:lnTo>
                    <a:pt x="252" y="502"/>
                  </a:lnTo>
                  <a:lnTo>
                    <a:pt x="254" y="520"/>
                  </a:lnTo>
                  <a:lnTo>
                    <a:pt x="260" y="536"/>
                  </a:lnTo>
                  <a:lnTo>
                    <a:pt x="266" y="550"/>
                  </a:lnTo>
                  <a:lnTo>
                    <a:pt x="266" y="550"/>
                  </a:lnTo>
                  <a:lnTo>
                    <a:pt x="282" y="538"/>
                  </a:lnTo>
                  <a:lnTo>
                    <a:pt x="294" y="524"/>
                  </a:lnTo>
                  <a:lnTo>
                    <a:pt x="302" y="512"/>
                  </a:lnTo>
                  <a:lnTo>
                    <a:pt x="304" y="504"/>
                  </a:lnTo>
                  <a:lnTo>
                    <a:pt x="304" y="498"/>
                  </a:lnTo>
                  <a:lnTo>
                    <a:pt x="304" y="498"/>
                  </a:lnTo>
                  <a:lnTo>
                    <a:pt x="312" y="516"/>
                  </a:lnTo>
                  <a:lnTo>
                    <a:pt x="320" y="530"/>
                  </a:lnTo>
                  <a:lnTo>
                    <a:pt x="330" y="544"/>
                  </a:lnTo>
                  <a:lnTo>
                    <a:pt x="340" y="554"/>
                  </a:lnTo>
                  <a:lnTo>
                    <a:pt x="340" y="554"/>
                  </a:lnTo>
                  <a:lnTo>
                    <a:pt x="326" y="560"/>
                  </a:lnTo>
                  <a:lnTo>
                    <a:pt x="312" y="566"/>
                  </a:lnTo>
                  <a:lnTo>
                    <a:pt x="302" y="574"/>
                  </a:lnTo>
                  <a:lnTo>
                    <a:pt x="292" y="584"/>
                  </a:lnTo>
                  <a:lnTo>
                    <a:pt x="284" y="596"/>
                  </a:lnTo>
                  <a:lnTo>
                    <a:pt x="276" y="608"/>
                  </a:lnTo>
                  <a:lnTo>
                    <a:pt x="272" y="620"/>
                  </a:lnTo>
                  <a:lnTo>
                    <a:pt x="268" y="634"/>
                  </a:lnTo>
                  <a:lnTo>
                    <a:pt x="266" y="646"/>
                  </a:lnTo>
                  <a:lnTo>
                    <a:pt x="266" y="658"/>
                  </a:lnTo>
                  <a:lnTo>
                    <a:pt x="266" y="670"/>
                  </a:lnTo>
                  <a:lnTo>
                    <a:pt x="270" y="682"/>
                  </a:lnTo>
                  <a:lnTo>
                    <a:pt x="274" y="692"/>
                  </a:lnTo>
                  <a:lnTo>
                    <a:pt x="278" y="700"/>
                  </a:lnTo>
                  <a:lnTo>
                    <a:pt x="284" y="708"/>
                  </a:lnTo>
                  <a:lnTo>
                    <a:pt x="292" y="714"/>
                  </a:lnTo>
                  <a:lnTo>
                    <a:pt x="292" y="714"/>
                  </a:lnTo>
                  <a:lnTo>
                    <a:pt x="302" y="718"/>
                  </a:lnTo>
                  <a:lnTo>
                    <a:pt x="312" y="720"/>
                  </a:lnTo>
                  <a:lnTo>
                    <a:pt x="322" y="722"/>
                  </a:lnTo>
                  <a:lnTo>
                    <a:pt x="332" y="720"/>
                  </a:lnTo>
                  <a:lnTo>
                    <a:pt x="340" y="718"/>
                  </a:lnTo>
                  <a:lnTo>
                    <a:pt x="350" y="716"/>
                  </a:lnTo>
                  <a:lnTo>
                    <a:pt x="358" y="710"/>
                  </a:lnTo>
                  <a:lnTo>
                    <a:pt x="366" y="706"/>
                  </a:lnTo>
                  <a:lnTo>
                    <a:pt x="378" y="692"/>
                  </a:lnTo>
                  <a:lnTo>
                    <a:pt x="388" y="674"/>
                  </a:lnTo>
                  <a:lnTo>
                    <a:pt x="392" y="664"/>
                  </a:lnTo>
                  <a:lnTo>
                    <a:pt x="394" y="654"/>
                  </a:lnTo>
                  <a:lnTo>
                    <a:pt x="394" y="644"/>
                  </a:lnTo>
                  <a:lnTo>
                    <a:pt x="394" y="632"/>
                  </a:lnTo>
                  <a:lnTo>
                    <a:pt x="394" y="632"/>
                  </a:lnTo>
                  <a:lnTo>
                    <a:pt x="386" y="642"/>
                  </a:lnTo>
                  <a:lnTo>
                    <a:pt x="378" y="648"/>
                  </a:lnTo>
                  <a:lnTo>
                    <a:pt x="368" y="654"/>
                  </a:lnTo>
                  <a:lnTo>
                    <a:pt x="358" y="656"/>
                  </a:lnTo>
                  <a:lnTo>
                    <a:pt x="348" y="656"/>
                  </a:lnTo>
                  <a:lnTo>
                    <a:pt x="338" y="652"/>
                  </a:lnTo>
                  <a:lnTo>
                    <a:pt x="330" y="644"/>
                  </a:lnTo>
                  <a:lnTo>
                    <a:pt x="324" y="632"/>
                  </a:lnTo>
                  <a:lnTo>
                    <a:pt x="324" y="632"/>
                  </a:lnTo>
                  <a:lnTo>
                    <a:pt x="322" y="622"/>
                  </a:lnTo>
                  <a:lnTo>
                    <a:pt x="320" y="612"/>
                  </a:lnTo>
                  <a:lnTo>
                    <a:pt x="322" y="602"/>
                  </a:lnTo>
                  <a:lnTo>
                    <a:pt x="326" y="592"/>
                  </a:lnTo>
                  <a:lnTo>
                    <a:pt x="330" y="584"/>
                  </a:lnTo>
                  <a:lnTo>
                    <a:pt x="338" y="576"/>
                  </a:lnTo>
                  <a:lnTo>
                    <a:pt x="344" y="568"/>
                  </a:lnTo>
                  <a:lnTo>
                    <a:pt x="352" y="564"/>
                  </a:lnTo>
                  <a:lnTo>
                    <a:pt x="352" y="564"/>
                  </a:lnTo>
                  <a:lnTo>
                    <a:pt x="368" y="572"/>
                  </a:lnTo>
                  <a:lnTo>
                    <a:pt x="382" y="576"/>
                  </a:lnTo>
                  <a:lnTo>
                    <a:pt x="398" y="576"/>
                  </a:lnTo>
                  <a:lnTo>
                    <a:pt x="412" y="574"/>
                  </a:lnTo>
                  <a:lnTo>
                    <a:pt x="426" y="564"/>
                  </a:lnTo>
                  <a:lnTo>
                    <a:pt x="438" y="552"/>
                  </a:lnTo>
                  <a:lnTo>
                    <a:pt x="448" y="536"/>
                  </a:lnTo>
                  <a:lnTo>
                    <a:pt x="454" y="512"/>
                  </a:lnTo>
                  <a:lnTo>
                    <a:pt x="454" y="512"/>
                  </a:lnTo>
                  <a:lnTo>
                    <a:pt x="444" y="514"/>
                  </a:lnTo>
                  <a:lnTo>
                    <a:pt x="434" y="514"/>
                  </a:lnTo>
                  <a:lnTo>
                    <a:pt x="414" y="510"/>
                  </a:lnTo>
                  <a:lnTo>
                    <a:pt x="394" y="502"/>
                  </a:lnTo>
                  <a:lnTo>
                    <a:pt x="374" y="490"/>
                  </a:lnTo>
                  <a:lnTo>
                    <a:pt x="356" y="474"/>
                  </a:lnTo>
                  <a:lnTo>
                    <a:pt x="342" y="456"/>
                  </a:lnTo>
                  <a:lnTo>
                    <a:pt x="330" y="434"/>
                  </a:lnTo>
                  <a:lnTo>
                    <a:pt x="324" y="422"/>
                  </a:lnTo>
                  <a:lnTo>
                    <a:pt x="322" y="408"/>
                  </a:lnTo>
                  <a:lnTo>
                    <a:pt x="322" y="408"/>
                  </a:lnTo>
                  <a:lnTo>
                    <a:pt x="320" y="392"/>
                  </a:lnTo>
                  <a:lnTo>
                    <a:pt x="318" y="374"/>
                  </a:lnTo>
                  <a:lnTo>
                    <a:pt x="320" y="354"/>
                  </a:lnTo>
                  <a:lnTo>
                    <a:pt x="322" y="334"/>
                  </a:lnTo>
                  <a:lnTo>
                    <a:pt x="326" y="312"/>
                  </a:lnTo>
                  <a:lnTo>
                    <a:pt x="332" y="292"/>
                  </a:lnTo>
                  <a:lnTo>
                    <a:pt x="340" y="270"/>
                  </a:lnTo>
                  <a:lnTo>
                    <a:pt x="350" y="248"/>
                  </a:lnTo>
                  <a:lnTo>
                    <a:pt x="362" y="228"/>
                  </a:lnTo>
                  <a:lnTo>
                    <a:pt x="376" y="208"/>
                  </a:lnTo>
                  <a:lnTo>
                    <a:pt x="394" y="190"/>
                  </a:lnTo>
                  <a:lnTo>
                    <a:pt x="412" y="172"/>
                  </a:lnTo>
                  <a:lnTo>
                    <a:pt x="432" y="156"/>
                  </a:lnTo>
                  <a:lnTo>
                    <a:pt x="456" y="142"/>
                  </a:lnTo>
                  <a:lnTo>
                    <a:pt x="480" y="130"/>
                  </a:lnTo>
                  <a:lnTo>
                    <a:pt x="508" y="122"/>
                  </a:lnTo>
                  <a:lnTo>
                    <a:pt x="508" y="122"/>
                  </a:lnTo>
                  <a:lnTo>
                    <a:pt x="496" y="134"/>
                  </a:lnTo>
                  <a:lnTo>
                    <a:pt x="484" y="146"/>
                  </a:lnTo>
                  <a:lnTo>
                    <a:pt x="474" y="158"/>
                  </a:lnTo>
                  <a:lnTo>
                    <a:pt x="468" y="172"/>
                  </a:lnTo>
                  <a:lnTo>
                    <a:pt x="462" y="184"/>
                  </a:lnTo>
                  <a:lnTo>
                    <a:pt x="458" y="194"/>
                  </a:lnTo>
                  <a:lnTo>
                    <a:pt x="456" y="206"/>
                  </a:lnTo>
                  <a:lnTo>
                    <a:pt x="456" y="216"/>
                  </a:lnTo>
                  <a:lnTo>
                    <a:pt x="456" y="226"/>
                  </a:lnTo>
                  <a:lnTo>
                    <a:pt x="460" y="234"/>
                  </a:lnTo>
                  <a:lnTo>
                    <a:pt x="462" y="242"/>
                  </a:lnTo>
                  <a:lnTo>
                    <a:pt x="468" y="248"/>
                  </a:lnTo>
                  <a:lnTo>
                    <a:pt x="474" y="252"/>
                  </a:lnTo>
                  <a:lnTo>
                    <a:pt x="480" y="256"/>
                  </a:lnTo>
                  <a:lnTo>
                    <a:pt x="488" y="258"/>
                  </a:lnTo>
                  <a:lnTo>
                    <a:pt x="496" y="258"/>
                  </a:lnTo>
                  <a:lnTo>
                    <a:pt x="496" y="258"/>
                  </a:lnTo>
                  <a:lnTo>
                    <a:pt x="490" y="276"/>
                  </a:lnTo>
                  <a:lnTo>
                    <a:pt x="484" y="292"/>
                  </a:lnTo>
                  <a:lnTo>
                    <a:pt x="482" y="308"/>
                  </a:lnTo>
                  <a:lnTo>
                    <a:pt x="482" y="324"/>
                  </a:lnTo>
                  <a:lnTo>
                    <a:pt x="484" y="336"/>
                  </a:lnTo>
                  <a:lnTo>
                    <a:pt x="488" y="348"/>
                  </a:lnTo>
                  <a:lnTo>
                    <a:pt x="494" y="358"/>
                  </a:lnTo>
                  <a:lnTo>
                    <a:pt x="502" y="366"/>
                  </a:lnTo>
                  <a:lnTo>
                    <a:pt x="510" y="374"/>
                  </a:lnTo>
                  <a:lnTo>
                    <a:pt x="520" y="380"/>
                  </a:lnTo>
                  <a:lnTo>
                    <a:pt x="532" y="384"/>
                  </a:lnTo>
                  <a:lnTo>
                    <a:pt x="544" y="388"/>
                  </a:lnTo>
                  <a:lnTo>
                    <a:pt x="556" y="390"/>
                  </a:lnTo>
                  <a:lnTo>
                    <a:pt x="570" y="390"/>
                  </a:lnTo>
                  <a:lnTo>
                    <a:pt x="586" y="388"/>
                  </a:lnTo>
                  <a:lnTo>
                    <a:pt x="600" y="386"/>
                  </a:lnTo>
                  <a:lnTo>
                    <a:pt x="600" y="386"/>
                  </a:lnTo>
                  <a:lnTo>
                    <a:pt x="588" y="376"/>
                  </a:lnTo>
                  <a:lnTo>
                    <a:pt x="578" y="366"/>
                  </a:lnTo>
                  <a:lnTo>
                    <a:pt x="572" y="356"/>
                  </a:lnTo>
                  <a:lnTo>
                    <a:pt x="566" y="344"/>
                  </a:lnTo>
                  <a:lnTo>
                    <a:pt x="562" y="334"/>
                  </a:lnTo>
                  <a:lnTo>
                    <a:pt x="562" y="324"/>
                  </a:lnTo>
                  <a:lnTo>
                    <a:pt x="562" y="314"/>
                  </a:lnTo>
                  <a:lnTo>
                    <a:pt x="564" y="304"/>
                  </a:lnTo>
                  <a:lnTo>
                    <a:pt x="568" y="294"/>
                  </a:lnTo>
                  <a:lnTo>
                    <a:pt x="574" y="284"/>
                  </a:lnTo>
                  <a:lnTo>
                    <a:pt x="580" y="276"/>
                  </a:lnTo>
                  <a:lnTo>
                    <a:pt x="588" y="268"/>
                  </a:lnTo>
                  <a:lnTo>
                    <a:pt x="606" y="252"/>
                  </a:lnTo>
                  <a:lnTo>
                    <a:pt x="628" y="240"/>
                  </a:lnTo>
                  <a:lnTo>
                    <a:pt x="628" y="240"/>
                  </a:lnTo>
                  <a:lnTo>
                    <a:pt x="632" y="252"/>
                  </a:lnTo>
                  <a:lnTo>
                    <a:pt x="638" y="264"/>
                  </a:lnTo>
                  <a:lnTo>
                    <a:pt x="646" y="272"/>
                  </a:lnTo>
                  <a:lnTo>
                    <a:pt x="654" y="280"/>
                  </a:lnTo>
                  <a:lnTo>
                    <a:pt x="662" y="284"/>
                  </a:lnTo>
                  <a:lnTo>
                    <a:pt x="672" y="286"/>
                  </a:lnTo>
                  <a:lnTo>
                    <a:pt x="682" y="288"/>
                  </a:lnTo>
                  <a:lnTo>
                    <a:pt x="692" y="288"/>
                  </a:lnTo>
                  <a:lnTo>
                    <a:pt x="704" y="286"/>
                  </a:lnTo>
                  <a:lnTo>
                    <a:pt x="714" y="282"/>
                  </a:lnTo>
                  <a:lnTo>
                    <a:pt x="722" y="276"/>
                  </a:lnTo>
                  <a:lnTo>
                    <a:pt x="732" y="270"/>
                  </a:lnTo>
                  <a:lnTo>
                    <a:pt x="740" y="264"/>
                  </a:lnTo>
                  <a:lnTo>
                    <a:pt x="746" y="256"/>
                  </a:lnTo>
                  <a:lnTo>
                    <a:pt x="752" y="246"/>
                  </a:lnTo>
                  <a:lnTo>
                    <a:pt x="756" y="238"/>
                  </a:lnTo>
                  <a:lnTo>
                    <a:pt x="756" y="238"/>
                  </a:lnTo>
                  <a:lnTo>
                    <a:pt x="770" y="240"/>
                  </a:lnTo>
                  <a:lnTo>
                    <a:pt x="784" y="246"/>
                  </a:lnTo>
                  <a:lnTo>
                    <a:pt x="796" y="254"/>
                  </a:lnTo>
                  <a:lnTo>
                    <a:pt x="808" y="262"/>
                  </a:lnTo>
                  <a:lnTo>
                    <a:pt x="818" y="270"/>
                  </a:lnTo>
                  <a:lnTo>
                    <a:pt x="828" y="282"/>
                  </a:lnTo>
                  <a:lnTo>
                    <a:pt x="836" y="292"/>
                  </a:lnTo>
                  <a:lnTo>
                    <a:pt x="842" y="304"/>
                  </a:lnTo>
                  <a:lnTo>
                    <a:pt x="846" y="314"/>
                  </a:lnTo>
                  <a:lnTo>
                    <a:pt x="846" y="326"/>
                  </a:lnTo>
                  <a:lnTo>
                    <a:pt x="844" y="338"/>
                  </a:lnTo>
                  <a:lnTo>
                    <a:pt x="840" y="348"/>
                  </a:lnTo>
                  <a:lnTo>
                    <a:pt x="832" y="358"/>
                  </a:lnTo>
                  <a:lnTo>
                    <a:pt x="820" y="368"/>
                  </a:lnTo>
                  <a:lnTo>
                    <a:pt x="806" y="374"/>
                  </a:lnTo>
                  <a:lnTo>
                    <a:pt x="786" y="380"/>
                  </a:lnTo>
                  <a:lnTo>
                    <a:pt x="786" y="380"/>
                  </a:lnTo>
                  <a:lnTo>
                    <a:pt x="812" y="388"/>
                  </a:lnTo>
                  <a:lnTo>
                    <a:pt x="836" y="390"/>
                  </a:lnTo>
                  <a:lnTo>
                    <a:pt x="854" y="390"/>
                  </a:lnTo>
                  <a:lnTo>
                    <a:pt x="872" y="388"/>
                  </a:lnTo>
                  <a:lnTo>
                    <a:pt x="886" y="384"/>
                  </a:lnTo>
                  <a:lnTo>
                    <a:pt x="898" y="376"/>
                  </a:lnTo>
                  <a:lnTo>
                    <a:pt x="906" y="368"/>
                  </a:lnTo>
                  <a:lnTo>
                    <a:pt x="914" y="358"/>
                  </a:lnTo>
                  <a:lnTo>
                    <a:pt x="918" y="348"/>
                  </a:lnTo>
                  <a:lnTo>
                    <a:pt x="922" y="338"/>
                  </a:lnTo>
                  <a:lnTo>
                    <a:pt x="924" y="326"/>
                  </a:lnTo>
                  <a:lnTo>
                    <a:pt x="924" y="314"/>
                  </a:lnTo>
                  <a:lnTo>
                    <a:pt x="922" y="294"/>
                  </a:lnTo>
                  <a:lnTo>
                    <a:pt x="916" y="276"/>
                  </a:lnTo>
                  <a:lnTo>
                    <a:pt x="916" y="276"/>
                  </a:lnTo>
                  <a:lnTo>
                    <a:pt x="924" y="272"/>
                  </a:lnTo>
                  <a:lnTo>
                    <a:pt x="930" y="268"/>
                  </a:lnTo>
                  <a:lnTo>
                    <a:pt x="934" y="262"/>
                  </a:lnTo>
                  <a:lnTo>
                    <a:pt x="936" y="258"/>
                  </a:lnTo>
                  <a:lnTo>
                    <a:pt x="938" y="252"/>
                  </a:lnTo>
                  <a:lnTo>
                    <a:pt x="938" y="244"/>
                  </a:lnTo>
                  <a:lnTo>
                    <a:pt x="936" y="238"/>
                  </a:lnTo>
                  <a:lnTo>
                    <a:pt x="932" y="230"/>
                  </a:lnTo>
                  <a:lnTo>
                    <a:pt x="922" y="214"/>
                  </a:lnTo>
                  <a:lnTo>
                    <a:pt x="906" y="198"/>
                  </a:lnTo>
                  <a:lnTo>
                    <a:pt x="886" y="180"/>
                  </a:lnTo>
                  <a:lnTo>
                    <a:pt x="858" y="162"/>
                  </a:lnTo>
                  <a:lnTo>
                    <a:pt x="858" y="162"/>
                  </a:lnTo>
                  <a:lnTo>
                    <a:pt x="882" y="170"/>
                  </a:lnTo>
                  <a:lnTo>
                    <a:pt x="906" y="178"/>
                  </a:lnTo>
                  <a:lnTo>
                    <a:pt x="926" y="186"/>
                  </a:lnTo>
                  <a:lnTo>
                    <a:pt x="946" y="198"/>
                  </a:lnTo>
                  <a:lnTo>
                    <a:pt x="964" y="210"/>
                  </a:lnTo>
                  <a:lnTo>
                    <a:pt x="980" y="222"/>
                  </a:lnTo>
                  <a:lnTo>
                    <a:pt x="994" y="236"/>
                  </a:lnTo>
                  <a:lnTo>
                    <a:pt x="1006" y="250"/>
                  </a:lnTo>
                  <a:lnTo>
                    <a:pt x="1016" y="264"/>
                  </a:lnTo>
                  <a:lnTo>
                    <a:pt x="1026" y="280"/>
                  </a:lnTo>
                  <a:lnTo>
                    <a:pt x="1034" y="296"/>
                  </a:lnTo>
                  <a:lnTo>
                    <a:pt x="1040" y="312"/>
                  </a:lnTo>
                  <a:lnTo>
                    <a:pt x="1044" y="328"/>
                  </a:lnTo>
                  <a:lnTo>
                    <a:pt x="1048" y="344"/>
                  </a:lnTo>
                  <a:lnTo>
                    <a:pt x="1050" y="360"/>
                  </a:lnTo>
                  <a:lnTo>
                    <a:pt x="1050" y="376"/>
                  </a:lnTo>
                  <a:lnTo>
                    <a:pt x="1050" y="392"/>
                  </a:lnTo>
                  <a:lnTo>
                    <a:pt x="1048" y="408"/>
                  </a:lnTo>
                  <a:lnTo>
                    <a:pt x="1042" y="438"/>
                  </a:lnTo>
                  <a:lnTo>
                    <a:pt x="1036" y="452"/>
                  </a:lnTo>
                  <a:lnTo>
                    <a:pt x="1030" y="464"/>
                  </a:lnTo>
                  <a:lnTo>
                    <a:pt x="1024" y="478"/>
                  </a:lnTo>
                  <a:lnTo>
                    <a:pt x="1016" y="488"/>
                  </a:lnTo>
                  <a:lnTo>
                    <a:pt x="1008" y="498"/>
                  </a:lnTo>
                  <a:lnTo>
                    <a:pt x="998" y="508"/>
                  </a:lnTo>
                  <a:lnTo>
                    <a:pt x="988" y="516"/>
                  </a:lnTo>
                  <a:lnTo>
                    <a:pt x="976" y="522"/>
                  </a:lnTo>
                  <a:lnTo>
                    <a:pt x="964" y="526"/>
                  </a:lnTo>
                  <a:lnTo>
                    <a:pt x="952" y="530"/>
                  </a:lnTo>
                  <a:lnTo>
                    <a:pt x="940" y="532"/>
                  </a:lnTo>
                  <a:lnTo>
                    <a:pt x="926" y="532"/>
                  </a:lnTo>
                  <a:lnTo>
                    <a:pt x="926" y="532"/>
                  </a:lnTo>
                  <a:lnTo>
                    <a:pt x="930" y="544"/>
                  </a:lnTo>
                  <a:lnTo>
                    <a:pt x="934" y="554"/>
                  </a:lnTo>
                  <a:lnTo>
                    <a:pt x="940" y="564"/>
                  </a:lnTo>
                  <a:lnTo>
                    <a:pt x="948" y="570"/>
                  </a:lnTo>
                  <a:lnTo>
                    <a:pt x="956" y="576"/>
                  </a:lnTo>
                  <a:lnTo>
                    <a:pt x="964" y="578"/>
                  </a:lnTo>
                  <a:lnTo>
                    <a:pt x="974" y="580"/>
                  </a:lnTo>
                  <a:lnTo>
                    <a:pt x="984" y="578"/>
                  </a:lnTo>
                  <a:lnTo>
                    <a:pt x="994" y="576"/>
                  </a:lnTo>
                  <a:lnTo>
                    <a:pt x="1004" y="572"/>
                  </a:lnTo>
                  <a:lnTo>
                    <a:pt x="1012" y="568"/>
                  </a:lnTo>
                  <a:lnTo>
                    <a:pt x="1022" y="560"/>
                  </a:lnTo>
                  <a:lnTo>
                    <a:pt x="1030" y="552"/>
                  </a:lnTo>
                  <a:lnTo>
                    <a:pt x="1038" y="542"/>
                  </a:lnTo>
                  <a:lnTo>
                    <a:pt x="1044" y="532"/>
                  </a:lnTo>
                  <a:lnTo>
                    <a:pt x="1050" y="520"/>
                  </a:lnTo>
                  <a:lnTo>
                    <a:pt x="1050" y="520"/>
                  </a:lnTo>
                  <a:lnTo>
                    <a:pt x="1056" y="538"/>
                  </a:lnTo>
                  <a:lnTo>
                    <a:pt x="1060" y="560"/>
                  </a:lnTo>
                  <a:lnTo>
                    <a:pt x="1060" y="584"/>
                  </a:lnTo>
                  <a:lnTo>
                    <a:pt x="1060" y="606"/>
                  </a:lnTo>
                  <a:lnTo>
                    <a:pt x="1058" y="644"/>
                  </a:lnTo>
                  <a:lnTo>
                    <a:pt x="1056" y="660"/>
                  </a:lnTo>
                  <a:lnTo>
                    <a:pt x="1056" y="660"/>
                  </a:lnTo>
                  <a:lnTo>
                    <a:pt x="1064" y="646"/>
                  </a:lnTo>
                  <a:lnTo>
                    <a:pt x="1082" y="606"/>
                  </a:lnTo>
                  <a:lnTo>
                    <a:pt x="1092" y="578"/>
                  </a:lnTo>
                  <a:lnTo>
                    <a:pt x="1100" y="550"/>
                  </a:lnTo>
                  <a:lnTo>
                    <a:pt x="1108" y="518"/>
                  </a:lnTo>
                  <a:lnTo>
                    <a:pt x="1110" y="486"/>
                  </a:lnTo>
                  <a:lnTo>
                    <a:pt x="1110" y="486"/>
                  </a:lnTo>
                  <a:lnTo>
                    <a:pt x="1112" y="456"/>
                  </a:lnTo>
                  <a:lnTo>
                    <a:pt x="1110" y="426"/>
                  </a:lnTo>
                  <a:lnTo>
                    <a:pt x="1108" y="396"/>
                  </a:lnTo>
                  <a:lnTo>
                    <a:pt x="1104" y="368"/>
                  </a:lnTo>
                  <a:lnTo>
                    <a:pt x="1096" y="340"/>
                  </a:lnTo>
                  <a:lnTo>
                    <a:pt x="1088" y="314"/>
                  </a:lnTo>
                  <a:lnTo>
                    <a:pt x="1078" y="290"/>
                  </a:lnTo>
                  <a:lnTo>
                    <a:pt x="1066" y="266"/>
                  </a:lnTo>
                  <a:lnTo>
                    <a:pt x="1066" y="266"/>
                  </a:lnTo>
                  <a:lnTo>
                    <a:pt x="1092" y="292"/>
                  </a:lnTo>
                  <a:lnTo>
                    <a:pt x="1116" y="320"/>
                  </a:lnTo>
                  <a:lnTo>
                    <a:pt x="1134" y="346"/>
                  </a:lnTo>
                  <a:lnTo>
                    <a:pt x="1150" y="374"/>
                  </a:lnTo>
                  <a:lnTo>
                    <a:pt x="1162" y="402"/>
                  </a:lnTo>
                  <a:lnTo>
                    <a:pt x="1170" y="428"/>
                  </a:lnTo>
                  <a:lnTo>
                    <a:pt x="1174" y="456"/>
                  </a:lnTo>
                  <a:lnTo>
                    <a:pt x="1178" y="484"/>
                  </a:lnTo>
                  <a:lnTo>
                    <a:pt x="1178" y="510"/>
                  </a:lnTo>
                  <a:lnTo>
                    <a:pt x="1174" y="536"/>
                  </a:lnTo>
                  <a:lnTo>
                    <a:pt x="1170" y="562"/>
                  </a:lnTo>
                  <a:lnTo>
                    <a:pt x="1164" y="588"/>
                  </a:lnTo>
                  <a:lnTo>
                    <a:pt x="1158" y="612"/>
                  </a:lnTo>
                  <a:lnTo>
                    <a:pt x="1148" y="636"/>
                  </a:lnTo>
                  <a:lnTo>
                    <a:pt x="1128" y="682"/>
                  </a:lnTo>
                  <a:lnTo>
                    <a:pt x="1128" y="682"/>
                  </a:lnTo>
                  <a:lnTo>
                    <a:pt x="1120" y="698"/>
                  </a:lnTo>
                  <a:lnTo>
                    <a:pt x="1108" y="714"/>
                  </a:lnTo>
                  <a:lnTo>
                    <a:pt x="1096" y="728"/>
                  </a:lnTo>
                  <a:lnTo>
                    <a:pt x="1084" y="740"/>
                  </a:lnTo>
                  <a:lnTo>
                    <a:pt x="1070" y="750"/>
                  </a:lnTo>
                  <a:lnTo>
                    <a:pt x="1054" y="760"/>
                  </a:lnTo>
                  <a:lnTo>
                    <a:pt x="1040" y="766"/>
                  </a:lnTo>
                  <a:lnTo>
                    <a:pt x="1024" y="772"/>
                  </a:lnTo>
                  <a:lnTo>
                    <a:pt x="1010" y="778"/>
                  </a:lnTo>
                  <a:lnTo>
                    <a:pt x="994" y="780"/>
                  </a:lnTo>
                  <a:lnTo>
                    <a:pt x="978" y="780"/>
                  </a:lnTo>
                  <a:lnTo>
                    <a:pt x="964" y="780"/>
                  </a:lnTo>
                  <a:lnTo>
                    <a:pt x="950" y="778"/>
                  </a:lnTo>
                  <a:lnTo>
                    <a:pt x="938" y="774"/>
                  </a:lnTo>
                  <a:lnTo>
                    <a:pt x="926" y="768"/>
                  </a:lnTo>
                  <a:lnTo>
                    <a:pt x="916" y="760"/>
                  </a:lnTo>
                  <a:lnTo>
                    <a:pt x="916" y="760"/>
                  </a:lnTo>
                  <a:lnTo>
                    <a:pt x="914" y="772"/>
                  </a:lnTo>
                  <a:lnTo>
                    <a:pt x="914" y="786"/>
                  </a:lnTo>
                  <a:lnTo>
                    <a:pt x="918" y="798"/>
                  </a:lnTo>
                  <a:lnTo>
                    <a:pt x="922" y="808"/>
                  </a:lnTo>
                  <a:lnTo>
                    <a:pt x="930" y="818"/>
                  </a:lnTo>
                  <a:lnTo>
                    <a:pt x="940" y="828"/>
                  </a:lnTo>
                  <a:lnTo>
                    <a:pt x="950" y="836"/>
                  </a:lnTo>
                  <a:lnTo>
                    <a:pt x="962" y="844"/>
                  </a:lnTo>
                  <a:lnTo>
                    <a:pt x="976" y="850"/>
                  </a:lnTo>
                  <a:lnTo>
                    <a:pt x="990" y="854"/>
                  </a:lnTo>
                  <a:lnTo>
                    <a:pt x="1004" y="858"/>
                  </a:lnTo>
                  <a:lnTo>
                    <a:pt x="1018" y="860"/>
                  </a:lnTo>
                  <a:lnTo>
                    <a:pt x="1030" y="862"/>
                  </a:lnTo>
                  <a:lnTo>
                    <a:pt x="1044" y="862"/>
                  </a:lnTo>
                  <a:lnTo>
                    <a:pt x="1056" y="860"/>
                  </a:lnTo>
                  <a:lnTo>
                    <a:pt x="1068" y="856"/>
                  </a:lnTo>
                  <a:lnTo>
                    <a:pt x="1068" y="856"/>
                  </a:lnTo>
                  <a:lnTo>
                    <a:pt x="1048" y="878"/>
                  </a:lnTo>
                  <a:lnTo>
                    <a:pt x="1028" y="896"/>
                  </a:lnTo>
                  <a:lnTo>
                    <a:pt x="1006" y="912"/>
                  </a:lnTo>
                  <a:lnTo>
                    <a:pt x="984" y="924"/>
                  </a:lnTo>
                  <a:lnTo>
                    <a:pt x="960" y="932"/>
                  </a:lnTo>
                  <a:lnTo>
                    <a:pt x="938" y="940"/>
                  </a:lnTo>
                  <a:lnTo>
                    <a:pt x="914" y="944"/>
                  </a:lnTo>
                  <a:lnTo>
                    <a:pt x="890" y="946"/>
                  </a:lnTo>
                  <a:lnTo>
                    <a:pt x="868" y="944"/>
                  </a:lnTo>
                  <a:lnTo>
                    <a:pt x="846" y="942"/>
                  </a:lnTo>
                  <a:lnTo>
                    <a:pt x="824" y="938"/>
                  </a:lnTo>
                  <a:lnTo>
                    <a:pt x="806" y="930"/>
                  </a:lnTo>
                  <a:lnTo>
                    <a:pt x="788" y="922"/>
                  </a:lnTo>
                  <a:lnTo>
                    <a:pt x="772" y="912"/>
                  </a:lnTo>
                  <a:lnTo>
                    <a:pt x="758" y="902"/>
                  </a:lnTo>
                  <a:lnTo>
                    <a:pt x="746" y="890"/>
                  </a:lnTo>
                  <a:lnTo>
                    <a:pt x="746" y="890"/>
                  </a:lnTo>
                  <a:lnTo>
                    <a:pt x="734" y="870"/>
                  </a:lnTo>
                  <a:lnTo>
                    <a:pt x="726" y="848"/>
                  </a:lnTo>
                  <a:lnTo>
                    <a:pt x="722" y="828"/>
                  </a:lnTo>
                  <a:lnTo>
                    <a:pt x="724" y="808"/>
                  </a:lnTo>
                  <a:lnTo>
                    <a:pt x="728" y="788"/>
                  </a:lnTo>
                  <a:lnTo>
                    <a:pt x="732" y="780"/>
                  </a:lnTo>
                  <a:lnTo>
                    <a:pt x="738" y="772"/>
                  </a:lnTo>
                  <a:lnTo>
                    <a:pt x="744" y="764"/>
                  </a:lnTo>
                  <a:lnTo>
                    <a:pt x="752" y="758"/>
                  </a:lnTo>
                  <a:lnTo>
                    <a:pt x="762" y="750"/>
                  </a:lnTo>
                  <a:lnTo>
                    <a:pt x="770" y="746"/>
                  </a:lnTo>
                  <a:lnTo>
                    <a:pt x="770" y="746"/>
                  </a:lnTo>
                  <a:lnTo>
                    <a:pt x="758" y="740"/>
                  </a:lnTo>
                  <a:lnTo>
                    <a:pt x="748" y="736"/>
                  </a:lnTo>
                  <a:lnTo>
                    <a:pt x="724" y="732"/>
                  </a:lnTo>
                  <a:lnTo>
                    <a:pt x="704" y="732"/>
                  </a:lnTo>
                  <a:lnTo>
                    <a:pt x="684" y="736"/>
                  </a:lnTo>
                  <a:lnTo>
                    <a:pt x="668" y="744"/>
                  </a:lnTo>
                  <a:lnTo>
                    <a:pt x="654" y="754"/>
                  </a:lnTo>
                  <a:lnTo>
                    <a:pt x="644" y="764"/>
                  </a:lnTo>
                  <a:lnTo>
                    <a:pt x="638" y="778"/>
                  </a:lnTo>
                  <a:lnTo>
                    <a:pt x="638" y="778"/>
                  </a:lnTo>
                  <a:lnTo>
                    <a:pt x="634" y="794"/>
                  </a:lnTo>
                  <a:lnTo>
                    <a:pt x="630" y="810"/>
                  </a:lnTo>
                  <a:lnTo>
                    <a:pt x="628" y="826"/>
                  </a:lnTo>
                  <a:lnTo>
                    <a:pt x="630" y="842"/>
                  </a:lnTo>
                  <a:lnTo>
                    <a:pt x="632" y="856"/>
                  </a:lnTo>
                  <a:lnTo>
                    <a:pt x="636" y="872"/>
                  </a:lnTo>
                  <a:lnTo>
                    <a:pt x="642" y="884"/>
                  </a:lnTo>
                  <a:lnTo>
                    <a:pt x="650" y="896"/>
                  </a:lnTo>
                  <a:lnTo>
                    <a:pt x="650" y="896"/>
                  </a:lnTo>
                  <a:lnTo>
                    <a:pt x="630" y="880"/>
                  </a:lnTo>
                  <a:lnTo>
                    <a:pt x="614" y="862"/>
                  </a:lnTo>
                  <a:lnTo>
                    <a:pt x="602" y="842"/>
                  </a:lnTo>
                  <a:lnTo>
                    <a:pt x="590" y="822"/>
                  </a:lnTo>
                  <a:lnTo>
                    <a:pt x="582" y="802"/>
                  </a:lnTo>
                  <a:lnTo>
                    <a:pt x="578" y="780"/>
                  </a:lnTo>
                  <a:lnTo>
                    <a:pt x="574" y="758"/>
                  </a:lnTo>
                  <a:lnTo>
                    <a:pt x="574" y="736"/>
                  </a:lnTo>
                  <a:lnTo>
                    <a:pt x="576" y="714"/>
                  </a:lnTo>
                  <a:lnTo>
                    <a:pt x="582" y="692"/>
                  </a:lnTo>
                  <a:lnTo>
                    <a:pt x="590" y="672"/>
                  </a:lnTo>
                  <a:lnTo>
                    <a:pt x="600" y="652"/>
                  </a:lnTo>
                  <a:lnTo>
                    <a:pt x="612" y="634"/>
                  </a:lnTo>
                  <a:lnTo>
                    <a:pt x="626" y="616"/>
                  </a:lnTo>
                  <a:lnTo>
                    <a:pt x="644" y="602"/>
                  </a:lnTo>
                  <a:lnTo>
                    <a:pt x="662" y="588"/>
                  </a:lnTo>
                  <a:lnTo>
                    <a:pt x="662" y="588"/>
                  </a:lnTo>
                  <a:lnTo>
                    <a:pt x="664" y="598"/>
                  </a:lnTo>
                  <a:lnTo>
                    <a:pt x="668" y="608"/>
                  </a:lnTo>
                  <a:lnTo>
                    <a:pt x="672" y="616"/>
                  </a:lnTo>
                  <a:lnTo>
                    <a:pt x="676" y="626"/>
                  </a:lnTo>
                  <a:lnTo>
                    <a:pt x="690" y="640"/>
                  </a:lnTo>
                  <a:lnTo>
                    <a:pt x="706" y="652"/>
                  </a:lnTo>
                  <a:lnTo>
                    <a:pt x="716" y="656"/>
                  </a:lnTo>
                  <a:lnTo>
                    <a:pt x="726" y="660"/>
                  </a:lnTo>
                  <a:lnTo>
                    <a:pt x="736" y="662"/>
                  </a:lnTo>
                  <a:lnTo>
                    <a:pt x="746" y="662"/>
                  </a:lnTo>
                  <a:lnTo>
                    <a:pt x="756" y="662"/>
                  </a:lnTo>
                  <a:lnTo>
                    <a:pt x="768" y="660"/>
                  </a:lnTo>
                  <a:lnTo>
                    <a:pt x="778" y="656"/>
                  </a:lnTo>
                  <a:lnTo>
                    <a:pt x="790" y="652"/>
                  </a:lnTo>
                  <a:lnTo>
                    <a:pt x="790" y="652"/>
                  </a:lnTo>
                  <a:lnTo>
                    <a:pt x="798" y="646"/>
                  </a:lnTo>
                  <a:lnTo>
                    <a:pt x="804" y="640"/>
                  </a:lnTo>
                  <a:lnTo>
                    <a:pt x="812" y="630"/>
                  </a:lnTo>
                  <a:lnTo>
                    <a:pt x="818" y="622"/>
                  </a:lnTo>
                  <a:lnTo>
                    <a:pt x="828" y="600"/>
                  </a:lnTo>
                  <a:lnTo>
                    <a:pt x="834" y="576"/>
                  </a:lnTo>
                  <a:lnTo>
                    <a:pt x="836" y="550"/>
                  </a:lnTo>
                  <a:lnTo>
                    <a:pt x="836" y="536"/>
                  </a:lnTo>
                  <a:lnTo>
                    <a:pt x="834" y="524"/>
                  </a:lnTo>
                  <a:lnTo>
                    <a:pt x="832" y="512"/>
                  </a:lnTo>
                  <a:lnTo>
                    <a:pt x="826" y="500"/>
                  </a:lnTo>
                  <a:lnTo>
                    <a:pt x="820" y="488"/>
                  </a:lnTo>
                  <a:lnTo>
                    <a:pt x="812" y="478"/>
                  </a:lnTo>
                  <a:lnTo>
                    <a:pt x="812" y="478"/>
                  </a:lnTo>
                  <a:lnTo>
                    <a:pt x="802" y="468"/>
                  </a:lnTo>
                  <a:lnTo>
                    <a:pt x="792" y="458"/>
                  </a:lnTo>
                  <a:lnTo>
                    <a:pt x="780" y="450"/>
                  </a:lnTo>
                  <a:lnTo>
                    <a:pt x="766" y="444"/>
                  </a:lnTo>
                  <a:lnTo>
                    <a:pt x="752" y="438"/>
                  </a:lnTo>
                  <a:lnTo>
                    <a:pt x="738" y="434"/>
                  </a:lnTo>
                  <a:lnTo>
                    <a:pt x="722" y="432"/>
                  </a:lnTo>
                  <a:lnTo>
                    <a:pt x="708" y="432"/>
                  </a:lnTo>
                  <a:lnTo>
                    <a:pt x="692" y="432"/>
                  </a:lnTo>
                  <a:lnTo>
                    <a:pt x="676" y="434"/>
                  </a:lnTo>
                  <a:lnTo>
                    <a:pt x="660" y="438"/>
                  </a:lnTo>
                  <a:lnTo>
                    <a:pt x="644" y="444"/>
                  </a:lnTo>
                  <a:lnTo>
                    <a:pt x="630" y="452"/>
                  </a:lnTo>
                  <a:lnTo>
                    <a:pt x="614" y="462"/>
                  </a:lnTo>
                  <a:lnTo>
                    <a:pt x="600" y="472"/>
                  </a:lnTo>
                  <a:lnTo>
                    <a:pt x="586" y="486"/>
                  </a:lnTo>
                  <a:lnTo>
                    <a:pt x="586" y="486"/>
                  </a:lnTo>
                  <a:lnTo>
                    <a:pt x="564" y="512"/>
                  </a:lnTo>
                  <a:lnTo>
                    <a:pt x="546" y="540"/>
                  </a:lnTo>
                  <a:lnTo>
                    <a:pt x="532" y="570"/>
                  </a:lnTo>
                  <a:lnTo>
                    <a:pt x="522" y="602"/>
                  </a:lnTo>
                  <a:lnTo>
                    <a:pt x="516" y="634"/>
                  </a:lnTo>
                  <a:lnTo>
                    <a:pt x="512" y="668"/>
                  </a:lnTo>
                  <a:lnTo>
                    <a:pt x="512" y="702"/>
                  </a:lnTo>
                  <a:lnTo>
                    <a:pt x="516" y="736"/>
                  </a:lnTo>
                  <a:lnTo>
                    <a:pt x="524" y="770"/>
                  </a:lnTo>
                  <a:lnTo>
                    <a:pt x="536" y="802"/>
                  </a:lnTo>
                  <a:lnTo>
                    <a:pt x="552" y="834"/>
                  </a:lnTo>
                  <a:lnTo>
                    <a:pt x="572" y="864"/>
                  </a:lnTo>
                  <a:lnTo>
                    <a:pt x="596" y="890"/>
                  </a:lnTo>
                  <a:lnTo>
                    <a:pt x="610" y="904"/>
                  </a:lnTo>
                  <a:lnTo>
                    <a:pt x="624" y="916"/>
                  </a:lnTo>
                  <a:lnTo>
                    <a:pt x="640" y="926"/>
                  </a:lnTo>
                  <a:lnTo>
                    <a:pt x="656" y="938"/>
                  </a:lnTo>
                  <a:lnTo>
                    <a:pt x="674" y="946"/>
                  </a:lnTo>
                  <a:lnTo>
                    <a:pt x="694" y="956"/>
                  </a:lnTo>
                  <a:lnTo>
                    <a:pt x="694" y="956"/>
                  </a:lnTo>
                  <a:lnTo>
                    <a:pt x="730" y="970"/>
                  </a:lnTo>
                  <a:lnTo>
                    <a:pt x="768" y="980"/>
                  </a:lnTo>
                  <a:lnTo>
                    <a:pt x="804" y="986"/>
                  </a:lnTo>
                  <a:lnTo>
                    <a:pt x="842" y="990"/>
                  </a:lnTo>
                  <a:lnTo>
                    <a:pt x="878" y="990"/>
                  </a:lnTo>
                  <a:lnTo>
                    <a:pt x="912" y="984"/>
                  </a:lnTo>
                  <a:lnTo>
                    <a:pt x="948" y="976"/>
                  </a:lnTo>
                  <a:lnTo>
                    <a:pt x="982" y="964"/>
                  </a:lnTo>
                  <a:lnTo>
                    <a:pt x="1014" y="948"/>
                  </a:lnTo>
                  <a:lnTo>
                    <a:pt x="1044" y="928"/>
                  </a:lnTo>
                  <a:lnTo>
                    <a:pt x="1074" y="902"/>
                  </a:lnTo>
                  <a:lnTo>
                    <a:pt x="1102" y="874"/>
                  </a:lnTo>
                  <a:lnTo>
                    <a:pt x="1128" y="840"/>
                  </a:lnTo>
                  <a:lnTo>
                    <a:pt x="1152" y="802"/>
                  </a:lnTo>
                  <a:lnTo>
                    <a:pt x="1174" y="760"/>
                  </a:lnTo>
                  <a:lnTo>
                    <a:pt x="1192" y="712"/>
                  </a:lnTo>
                  <a:lnTo>
                    <a:pt x="1192" y="712"/>
                  </a:lnTo>
                  <a:lnTo>
                    <a:pt x="1206" y="672"/>
                  </a:lnTo>
                  <a:lnTo>
                    <a:pt x="1218" y="634"/>
                  </a:lnTo>
                  <a:lnTo>
                    <a:pt x="1224" y="598"/>
                  </a:lnTo>
                  <a:lnTo>
                    <a:pt x="1228" y="566"/>
                  </a:lnTo>
                  <a:lnTo>
                    <a:pt x="1230" y="536"/>
                  </a:lnTo>
                  <a:lnTo>
                    <a:pt x="1230" y="508"/>
                  </a:lnTo>
                  <a:lnTo>
                    <a:pt x="1228" y="484"/>
                  </a:lnTo>
                  <a:lnTo>
                    <a:pt x="1224" y="460"/>
                  </a:lnTo>
                  <a:lnTo>
                    <a:pt x="1218" y="438"/>
                  </a:lnTo>
                  <a:lnTo>
                    <a:pt x="1212" y="418"/>
                  </a:lnTo>
                  <a:lnTo>
                    <a:pt x="1198" y="384"/>
                  </a:lnTo>
                  <a:lnTo>
                    <a:pt x="1182" y="356"/>
                  </a:lnTo>
                  <a:lnTo>
                    <a:pt x="1168" y="332"/>
                  </a:lnTo>
                  <a:lnTo>
                    <a:pt x="1168" y="332"/>
                  </a:lnTo>
                  <a:lnTo>
                    <a:pt x="1154" y="312"/>
                  </a:lnTo>
                  <a:lnTo>
                    <a:pt x="1138" y="292"/>
                  </a:lnTo>
                  <a:lnTo>
                    <a:pt x="1106" y="256"/>
                  </a:lnTo>
                  <a:lnTo>
                    <a:pt x="1106" y="256"/>
                  </a:lnTo>
                  <a:lnTo>
                    <a:pt x="1088" y="238"/>
                  </a:lnTo>
                  <a:lnTo>
                    <a:pt x="1062" y="220"/>
                  </a:lnTo>
                  <a:lnTo>
                    <a:pt x="1032" y="200"/>
                  </a:lnTo>
                  <a:lnTo>
                    <a:pt x="996" y="178"/>
                  </a:lnTo>
                  <a:lnTo>
                    <a:pt x="956" y="156"/>
                  </a:lnTo>
                  <a:lnTo>
                    <a:pt x="912" y="136"/>
                  </a:lnTo>
                  <a:lnTo>
                    <a:pt x="864" y="118"/>
                  </a:lnTo>
                  <a:lnTo>
                    <a:pt x="812" y="100"/>
                  </a:lnTo>
                  <a:lnTo>
                    <a:pt x="758" y="86"/>
                  </a:lnTo>
                  <a:lnTo>
                    <a:pt x="700" y="76"/>
                  </a:lnTo>
                  <a:lnTo>
                    <a:pt x="642" y="68"/>
                  </a:lnTo>
                  <a:lnTo>
                    <a:pt x="612" y="68"/>
                  </a:lnTo>
                  <a:lnTo>
                    <a:pt x="582" y="68"/>
                  </a:lnTo>
                  <a:lnTo>
                    <a:pt x="552" y="68"/>
                  </a:lnTo>
                  <a:lnTo>
                    <a:pt x="520" y="72"/>
                  </a:lnTo>
                  <a:lnTo>
                    <a:pt x="490" y="76"/>
                  </a:lnTo>
                  <a:lnTo>
                    <a:pt x="460" y="82"/>
                  </a:lnTo>
                  <a:lnTo>
                    <a:pt x="428" y="90"/>
                  </a:lnTo>
                  <a:lnTo>
                    <a:pt x="398" y="98"/>
                  </a:lnTo>
                  <a:lnTo>
                    <a:pt x="366" y="110"/>
                  </a:lnTo>
                  <a:lnTo>
                    <a:pt x="336" y="124"/>
                  </a:lnTo>
                  <a:lnTo>
                    <a:pt x="336" y="124"/>
                  </a:lnTo>
                  <a:lnTo>
                    <a:pt x="338" y="112"/>
                  </a:lnTo>
                  <a:lnTo>
                    <a:pt x="338" y="100"/>
                  </a:lnTo>
                  <a:lnTo>
                    <a:pt x="336" y="88"/>
                  </a:lnTo>
                  <a:lnTo>
                    <a:pt x="332" y="76"/>
                  </a:lnTo>
                  <a:lnTo>
                    <a:pt x="328" y="64"/>
                  </a:lnTo>
                  <a:lnTo>
                    <a:pt x="324" y="54"/>
                  </a:lnTo>
                  <a:lnTo>
                    <a:pt x="318" y="42"/>
                  </a:lnTo>
                  <a:lnTo>
                    <a:pt x="310" y="34"/>
                  </a:lnTo>
                  <a:lnTo>
                    <a:pt x="302" y="24"/>
                  </a:lnTo>
                  <a:lnTo>
                    <a:pt x="292" y="16"/>
                  </a:lnTo>
                  <a:lnTo>
                    <a:pt x="282" y="10"/>
                  </a:lnTo>
                  <a:lnTo>
                    <a:pt x="270" y="6"/>
                  </a:lnTo>
                  <a:lnTo>
                    <a:pt x="258" y="2"/>
                  </a:lnTo>
                  <a:lnTo>
                    <a:pt x="244" y="0"/>
                  </a:lnTo>
                  <a:lnTo>
                    <a:pt x="230" y="2"/>
                  </a:lnTo>
                  <a:lnTo>
                    <a:pt x="216" y="4"/>
                  </a:lnTo>
                  <a:lnTo>
                    <a:pt x="216" y="4"/>
                  </a:lnTo>
                  <a:lnTo>
                    <a:pt x="234" y="16"/>
                  </a:lnTo>
                  <a:lnTo>
                    <a:pt x="250" y="28"/>
                  </a:lnTo>
                  <a:lnTo>
                    <a:pt x="264" y="40"/>
                  </a:lnTo>
                  <a:lnTo>
                    <a:pt x="274" y="54"/>
                  </a:lnTo>
                  <a:lnTo>
                    <a:pt x="284" y="66"/>
                  </a:lnTo>
                  <a:lnTo>
                    <a:pt x="290" y="78"/>
                  </a:lnTo>
                  <a:lnTo>
                    <a:pt x="296" y="90"/>
                  </a:lnTo>
                  <a:lnTo>
                    <a:pt x="300" y="100"/>
                  </a:lnTo>
                  <a:lnTo>
                    <a:pt x="302" y="112"/>
                  </a:lnTo>
                  <a:lnTo>
                    <a:pt x="302" y="122"/>
                  </a:lnTo>
                  <a:lnTo>
                    <a:pt x="302" y="132"/>
                  </a:lnTo>
                  <a:lnTo>
                    <a:pt x="300" y="140"/>
                  </a:lnTo>
                  <a:lnTo>
                    <a:pt x="296" y="150"/>
                  </a:lnTo>
                  <a:lnTo>
                    <a:pt x="292" y="156"/>
                  </a:lnTo>
                  <a:lnTo>
                    <a:pt x="282" y="170"/>
                  </a:lnTo>
                  <a:lnTo>
                    <a:pt x="282" y="170"/>
                  </a:lnTo>
                  <a:lnTo>
                    <a:pt x="266" y="184"/>
                  </a:lnTo>
                  <a:lnTo>
                    <a:pt x="252" y="196"/>
                  </a:lnTo>
                  <a:lnTo>
                    <a:pt x="238" y="204"/>
                  </a:lnTo>
                  <a:lnTo>
                    <a:pt x="220" y="208"/>
                  </a:lnTo>
                  <a:lnTo>
                    <a:pt x="220" y="208"/>
                  </a:lnTo>
                  <a:lnTo>
                    <a:pt x="212" y="208"/>
                  </a:lnTo>
                  <a:lnTo>
                    <a:pt x="204" y="206"/>
                  </a:lnTo>
                  <a:lnTo>
                    <a:pt x="188" y="202"/>
                  </a:lnTo>
                  <a:lnTo>
                    <a:pt x="172" y="194"/>
                  </a:lnTo>
                  <a:lnTo>
                    <a:pt x="158" y="182"/>
                  </a:lnTo>
                  <a:lnTo>
                    <a:pt x="146" y="170"/>
                  </a:lnTo>
                  <a:lnTo>
                    <a:pt x="134" y="156"/>
                  </a:lnTo>
                  <a:lnTo>
                    <a:pt x="124" y="144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30" y="130"/>
                  </a:lnTo>
                  <a:lnTo>
                    <a:pt x="144" y="124"/>
                  </a:lnTo>
                  <a:lnTo>
                    <a:pt x="156" y="116"/>
                  </a:lnTo>
                  <a:lnTo>
                    <a:pt x="166" y="104"/>
                  </a:lnTo>
                  <a:lnTo>
                    <a:pt x="174" y="90"/>
                  </a:lnTo>
                  <a:lnTo>
                    <a:pt x="176" y="82"/>
                  </a:lnTo>
                  <a:lnTo>
                    <a:pt x="176" y="72"/>
                  </a:lnTo>
                  <a:lnTo>
                    <a:pt x="176" y="64"/>
                  </a:lnTo>
                  <a:lnTo>
                    <a:pt x="174" y="54"/>
                  </a:lnTo>
                  <a:lnTo>
                    <a:pt x="172" y="44"/>
                  </a:lnTo>
                  <a:lnTo>
                    <a:pt x="168" y="32"/>
                  </a:lnTo>
                  <a:lnTo>
                    <a:pt x="168" y="32"/>
                  </a:lnTo>
                  <a:lnTo>
                    <a:pt x="160" y="22"/>
                  </a:lnTo>
                  <a:lnTo>
                    <a:pt x="152" y="14"/>
                  </a:lnTo>
                  <a:lnTo>
                    <a:pt x="144" y="8"/>
                  </a:lnTo>
                  <a:lnTo>
                    <a:pt x="134" y="4"/>
                  </a:lnTo>
                  <a:lnTo>
                    <a:pt x="122" y="2"/>
                  </a:lnTo>
                  <a:lnTo>
                    <a:pt x="112" y="2"/>
                  </a:lnTo>
                  <a:lnTo>
                    <a:pt x="100" y="4"/>
                  </a:lnTo>
                  <a:lnTo>
                    <a:pt x="88" y="8"/>
                  </a:lnTo>
                  <a:lnTo>
                    <a:pt x="78" y="14"/>
                  </a:lnTo>
                  <a:lnTo>
                    <a:pt x="68" y="22"/>
                  </a:lnTo>
                  <a:lnTo>
                    <a:pt x="60" y="30"/>
                  </a:lnTo>
                  <a:lnTo>
                    <a:pt x="52" y="40"/>
                  </a:lnTo>
                  <a:lnTo>
                    <a:pt x="46" y="52"/>
                  </a:lnTo>
                  <a:lnTo>
                    <a:pt x="42" y="66"/>
                  </a:lnTo>
                  <a:lnTo>
                    <a:pt x="40" y="80"/>
                  </a:lnTo>
                  <a:lnTo>
                    <a:pt x="40" y="98"/>
                  </a:lnTo>
                  <a:lnTo>
                    <a:pt x="40" y="98"/>
                  </a:lnTo>
                  <a:lnTo>
                    <a:pt x="42" y="110"/>
                  </a:lnTo>
                  <a:lnTo>
                    <a:pt x="46" y="124"/>
                  </a:lnTo>
                  <a:lnTo>
                    <a:pt x="54" y="146"/>
                  </a:lnTo>
                  <a:lnTo>
                    <a:pt x="66" y="166"/>
                  </a:lnTo>
                  <a:lnTo>
                    <a:pt x="82" y="180"/>
                  </a:lnTo>
                  <a:lnTo>
                    <a:pt x="98" y="192"/>
                  </a:lnTo>
                  <a:lnTo>
                    <a:pt x="114" y="202"/>
                  </a:lnTo>
                  <a:lnTo>
                    <a:pt x="132" y="208"/>
                  </a:lnTo>
                  <a:lnTo>
                    <a:pt x="148" y="210"/>
                  </a:lnTo>
                  <a:lnTo>
                    <a:pt x="148" y="210"/>
                  </a:lnTo>
                  <a:close/>
                  <a:moveTo>
                    <a:pt x="236" y="1562"/>
                  </a:moveTo>
                  <a:lnTo>
                    <a:pt x="236" y="1562"/>
                  </a:lnTo>
                  <a:lnTo>
                    <a:pt x="232" y="1562"/>
                  </a:lnTo>
                  <a:lnTo>
                    <a:pt x="230" y="1558"/>
                  </a:lnTo>
                  <a:lnTo>
                    <a:pt x="226" y="1546"/>
                  </a:lnTo>
                  <a:lnTo>
                    <a:pt x="226" y="1510"/>
                  </a:lnTo>
                  <a:lnTo>
                    <a:pt x="224" y="1492"/>
                  </a:lnTo>
                  <a:lnTo>
                    <a:pt x="218" y="1472"/>
                  </a:lnTo>
                  <a:lnTo>
                    <a:pt x="214" y="1464"/>
                  </a:lnTo>
                  <a:lnTo>
                    <a:pt x="210" y="1456"/>
                  </a:lnTo>
                  <a:lnTo>
                    <a:pt x="202" y="1450"/>
                  </a:lnTo>
                  <a:lnTo>
                    <a:pt x="194" y="1444"/>
                  </a:lnTo>
                  <a:lnTo>
                    <a:pt x="194" y="1444"/>
                  </a:lnTo>
                  <a:lnTo>
                    <a:pt x="204" y="1446"/>
                  </a:lnTo>
                  <a:lnTo>
                    <a:pt x="216" y="1448"/>
                  </a:lnTo>
                  <a:lnTo>
                    <a:pt x="224" y="1454"/>
                  </a:lnTo>
                  <a:lnTo>
                    <a:pt x="232" y="1460"/>
                  </a:lnTo>
                  <a:lnTo>
                    <a:pt x="240" y="1466"/>
                  </a:lnTo>
                  <a:lnTo>
                    <a:pt x="244" y="1474"/>
                  </a:lnTo>
                  <a:lnTo>
                    <a:pt x="250" y="1482"/>
                  </a:lnTo>
                  <a:lnTo>
                    <a:pt x="252" y="1492"/>
                  </a:lnTo>
                  <a:lnTo>
                    <a:pt x="254" y="1502"/>
                  </a:lnTo>
                  <a:lnTo>
                    <a:pt x="256" y="1512"/>
                  </a:lnTo>
                  <a:lnTo>
                    <a:pt x="256" y="1520"/>
                  </a:lnTo>
                  <a:lnTo>
                    <a:pt x="254" y="1530"/>
                  </a:lnTo>
                  <a:lnTo>
                    <a:pt x="252" y="1540"/>
                  </a:lnTo>
                  <a:lnTo>
                    <a:pt x="248" y="1548"/>
                  </a:lnTo>
                  <a:lnTo>
                    <a:pt x="242" y="1556"/>
                  </a:lnTo>
                  <a:lnTo>
                    <a:pt x="236" y="1562"/>
                  </a:lnTo>
                  <a:lnTo>
                    <a:pt x="236" y="1562"/>
                  </a:lnTo>
                  <a:close/>
                  <a:moveTo>
                    <a:pt x="312" y="2022"/>
                  </a:moveTo>
                  <a:lnTo>
                    <a:pt x="312" y="2022"/>
                  </a:lnTo>
                  <a:lnTo>
                    <a:pt x="306" y="2032"/>
                  </a:lnTo>
                  <a:lnTo>
                    <a:pt x="298" y="2040"/>
                  </a:lnTo>
                  <a:lnTo>
                    <a:pt x="290" y="2044"/>
                  </a:lnTo>
                  <a:lnTo>
                    <a:pt x="280" y="2044"/>
                  </a:lnTo>
                  <a:lnTo>
                    <a:pt x="272" y="2044"/>
                  </a:lnTo>
                  <a:lnTo>
                    <a:pt x="266" y="2040"/>
                  </a:lnTo>
                  <a:lnTo>
                    <a:pt x="264" y="2032"/>
                  </a:lnTo>
                  <a:lnTo>
                    <a:pt x="264" y="2022"/>
                  </a:lnTo>
                  <a:lnTo>
                    <a:pt x="264" y="2022"/>
                  </a:lnTo>
                  <a:lnTo>
                    <a:pt x="270" y="1996"/>
                  </a:lnTo>
                  <a:lnTo>
                    <a:pt x="270" y="1986"/>
                  </a:lnTo>
                  <a:lnTo>
                    <a:pt x="270" y="1976"/>
                  </a:lnTo>
                  <a:lnTo>
                    <a:pt x="268" y="1970"/>
                  </a:lnTo>
                  <a:lnTo>
                    <a:pt x="264" y="1962"/>
                  </a:lnTo>
                  <a:lnTo>
                    <a:pt x="260" y="1958"/>
                  </a:lnTo>
                  <a:lnTo>
                    <a:pt x="254" y="1952"/>
                  </a:lnTo>
                  <a:lnTo>
                    <a:pt x="242" y="1946"/>
                  </a:lnTo>
                  <a:lnTo>
                    <a:pt x="224" y="1940"/>
                  </a:lnTo>
                  <a:lnTo>
                    <a:pt x="206" y="1934"/>
                  </a:lnTo>
                  <a:lnTo>
                    <a:pt x="186" y="1926"/>
                  </a:lnTo>
                  <a:lnTo>
                    <a:pt x="186" y="1926"/>
                  </a:lnTo>
                  <a:lnTo>
                    <a:pt x="210" y="1916"/>
                  </a:lnTo>
                  <a:lnTo>
                    <a:pt x="232" y="1910"/>
                  </a:lnTo>
                  <a:lnTo>
                    <a:pt x="252" y="1908"/>
                  </a:lnTo>
                  <a:lnTo>
                    <a:pt x="268" y="1908"/>
                  </a:lnTo>
                  <a:lnTo>
                    <a:pt x="282" y="1912"/>
                  </a:lnTo>
                  <a:lnTo>
                    <a:pt x="292" y="1916"/>
                  </a:lnTo>
                  <a:lnTo>
                    <a:pt x="302" y="1924"/>
                  </a:lnTo>
                  <a:lnTo>
                    <a:pt x="308" y="1932"/>
                  </a:lnTo>
                  <a:lnTo>
                    <a:pt x="314" y="1944"/>
                  </a:lnTo>
                  <a:lnTo>
                    <a:pt x="318" y="1954"/>
                  </a:lnTo>
                  <a:lnTo>
                    <a:pt x="320" y="1966"/>
                  </a:lnTo>
                  <a:lnTo>
                    <a:pt x="320" y="1978"/>
                  </a:lnTo>
                  <a:lnTo>
                    <a:pt x="318" y="2002"/>
                  </a:lnTo>
                  <a:lnTo>
                    <a:pt x="312" y="2022"/>
                  </a:lnTo>
                  <a:lnTo>
                    <a:pt x="312" y="2022"/>
                  </a:lnTo>
                  <a:close/>
                  <a:moveTo>
                    <a:pt x="84" y="2954"/>
                  </a:moveTo>
                  <a:lnTo>
                    <a:pt x="84" y="2954"/>
                  </a:lnTo>
                  <a:lnTo>
                    <a:pt x="92" y="2966"/>
                  </a:lnTo>
                  <a:lnTo>
                    <a:pt x="104" y="2976"/>
                  </a:lnTo>
                  <a:lnTo>
                    <a:pt x="116" y="2984"/>
                  </a:lnTo>
                  <a:lnTo>
                    <a:pt x="130" y="2988"/>
                  </a:lnTo>
                  <a:lnTo>
                    <a:pt x="142" y="2990"/>
                  </a:lnTo>
                  <a:lnTo>
                    <a:pt x="156" y="2990"/>
                  </a:lnTo>
                  <a:lnTo>
                    <a:pt x="170" y="2988"/>
                  </a:lnTo>
                  <a:lnTo>
                    <a:pt x="184" y="2984"/>
                  </a:lnTo>
                  <a:lnTo>
                    <a:pt x="184" y="2984"/>
                  </a:lnTo>
                  <a:lnTo>
                    <a:pt x="180" y="2992"/>
                  </a:lnTo>
                  <a:lnTo>
                    <a:pt x="176" y="3000"/>
                  </a:lnTo>
                  <a:lnTo>
                    <a:pt x="170" y="3006"/>
                  </a:lnTo>
                  <a:lnTo>
                    <a:pt x="164" y="3010"/>
                  </a:lnTo>
                  <a:lnTo>
                    <a:pt x="156" y="3014"/>
                  </a:lnTo>
                  <a:lnTo>
                    <a:pt x="148" y="3014"/>
                  </a:lnTo>
                  <a:lnTo>
                    <a:pt x="140" y="3016"/>
                  </a:lnTo>
                  <a:lnTo>
                    <a:pt x="130" y="3014"/>
                  </a:lnTo>
                  <a:lnTo>
                    <a:pt x="122" y="3012"/>
                  </a:lnTo>
                  <a:lnTo>
                    <a:pt x="114" y="3008"/>
                  </a:lnTo>
                  <a:lnTo>
                    <a:pt x="106" y="3002"/>
                  </a:lnTo>
                  <a:lnTo>
                    <a:pt x="100" y="2996"/>
                  </a:lnTo>
                  <a:lnTo>
                    <a:pt x="94" y="2988"/>
                  </a:lnTo>
                  <a:lnTo>
                    <a:pt x="88" y="2978"/>
                  </a:lnTo>
                  <a:lnTo>
                    <a:pt x="84" y="2966"/>
                  </a:lnTo>
                  <a:lnTo>
                    <a:pt x="84" y="2954"/>
                  </a:lnTo>
                  <a:lnTo>
                    <a:pt x="84" y="2954"/>
                  </a:lnTo>
                  <a:close/>
                  <a:moveTo>
                    <a:pt x="206" y="2190"/>
                  </a:moveTo>
                  <a:lnTo>
                    <a:pt x="206" y="2190"/>
                  </a:lnTo>
                  <a:lnTo>
                    <a:pt x="212" y="2208"/>
                  </a:lnTo>
                  <a:lnTo>
                    <a:pt x="220" y="2226"/>
                  </a:lnTo>
                  <a:lnTo>
                    <a:pt x="232" y="2244"/>
                  </a:lnTo>
                  <a:lnTo>
                    <a:pt x="244" y="2258"/>
                  </a:lnTo>
                  <a:lnTo>
                    <a:pt x="260" y="2274"/>
                  </a:lnTo>
                  <a:lnTo>
                    <a:pt x="280" y="2286"/>
                  </a:lnTo>
                  <a:lnTo>
                    <a:pt x="302" y="2298"/>
                  </a:lnTo>
                  <a:lnTo>
                    <a:pt x="330" y="2310"/>
                  </a:lnTo>
                  <a:lnTo>
                    <a:pt x="330" y="2310"/>
                  </a:lnTo>
                  <a:lnTo>
                    <a:pt x="312" y="2308"/>
                  </a:lnTo>
                  <a:lnTo>
                    <a:pt x="294" y="2306"/>
                  </a:lnTo>
                  <a:lnTo>
                    <a:pt x="278" y="2302"/>
                  </a:lnTo>
                  <a:lnTo>
                    <a:pt x="262" y="2298"/>
                  </a:lnTo>
                  <a:lnTo>
                    <a:pt x="248" y="2292"/>
                  </a:lnTo>
                  <a:lnTo>
                    <a:pt x="234" y="2284"/>
                  </a:lnTo>
                  <a:lnTo>
                    <a:pt x="224" y="2278"/>
                  </a:lnTo>
                  <a:lnTo>
                    <a:pt x="214" y="2270"/>
                  </a:lnTo>
                  <a:lnTo>
                    <a:pt x="206" y="2260"/>
                  </a:lnTo>
                  <a:lnTo>
                    <a:pt x="198" y="2252"/>
                  </a:lnTo>
                  <a:lnTo>
                    <a:pt x="194" y="2242"/>
                  </a:lnTo>
                  <a:lnTo>
                    <a:pt x="192" y="2232"/>
                  </a:lnTo>
                  <a:lnTo>
                    <a:pt x="192" y="2222"/>
                  </a:lnTo>
                  <a:lnTo>
                    <a:pt x="194" y="2212"/>
                  </a:lnTo>
                  <a:lnTo>
                    <a:pt x="198" y="2200"/>
                  </a:lnTo>
                  <a:lnTo>
                    <a:pt x="206" y="2190"/>
                  </a:lnTo>
                  <a:lnTo>
                    <a:pt x="206" y="2190"/>
                  </a:lnTo>
                  <a:close/>
                  <a:moveTo>
                    <a:pt x="416" y="2532"/>
                  </a:moveTo>
                  <a:lnTo>
                    <a:pt x="416" y="2532"/>
                  </a:lnTo>
                  <a:lnTo>
                    <a:pt x="420" y="2516"/>
                  </a:lnTo>
                  <a:lnTo>
                    <a:pt x="422" y="2498"/>
                  </a:lnTo>
                  <a:lnTo>
                    <a:pt x="420" y="2480"/>
                  </a:lnTo>
                  <a:lnTo>
                    <a:pt x="416" y="2462"/>
                  </a:lnTo>
                  <a:lnTo>
                    <a:pt x="408" y="2446"/>
                  </a:lnTo>
                  <a:lnTo>
                    <a:pt x="400" y="2430"/>
                  </a:lnTo>
                  <a:lnTo>
                    <a:pt x="390" y="2418"/>
                  </a:lnTo>
                  <a:lnTo>
                    <a:pt x="378" y="2408"/>
                  </a:lnTo>
                  <a:lnTo>
                    <a:pt x="378" y="2408"/>
                  </a:lnTo>
                  <a:lnTo>
                    <a:pt x="390" y="2410"/>
                  </a:lnTo>
                  <a:lnTo>
                    <a:pt x="402" y="2414"/>
                  </a:lnTo>
                  <a:lnTo>
                    <a:pt x="412" y="2420"/>
                  </a:lnTo>
                  <a:lnTo>
                    <a:pt x="420" y="2426"/>
                  </a:lnTo>
                  <a:lnTo>
                    <a:pt x="428" y="2432"/>
                  </a:lnTo>
                  <a:lnTo>
                    <a:pt x="436" y="2440"/>
                  </a:lnTo>
                  <a:lnTo>
                    <a:pt x="442" y="2448"/>
                  </a:lnTo>
                  <a:lnTo>
                    <a:pt x="446" y="2458"/>
                  </a:lnTo>
                  <a:lnTo>
                    <a:pt x="448" y="2466"/>
                  </a:lnTo>
                  <a:lnTo>
                    <a:pt x="448" y="2476"/>
                  </a:lnTo>
                  <a:lnTo>
                    <a:pt x="448" y="2486"/>
                  </a:lnTo>
                  <a:lnTo>
                    <a:pt x="446" y="2496"/>
                  </a:lnTo>
                  <a:lnTo>
                    <a:pt x="442" y="2506"/>
                  </a:lnTo>
                  <a:lnTo>
                    <a:pt x="434" y="2514"/>
                  </a:lnTo>
                  <a:lnTo>
                    <a:pt x="426" y="2524"/>
                  </a:lnTo>
                  <a:lnTo>
                    <a:pt x="416" y="2532"/>
                  </a:lnTo>
                  <a:lnTo>
                    <a:pt x="416" y="2532"/>
                  </a:lnTo>
                  <a:close/>
                  <a:moveTo>
                    <a:pt x="812" y="1206"/>
                  </a:moveTo>
                  <a:lnTo>
                    <a:pt x="812" y="1206"/>
                  </a:lnTo>
                  <a:lnTo>
                    <a:pt x="818" y="1218"/>
                  </a:lnTo>
                  <a:lnTo>
                    <a:pt x="824" y="1230"/>
                  </a:lnTo>
                  <a:lnTo>
                    <a:pt x="828" y="1244"/>
                  </a:lnTo>
                  <a:lnTo>
                    <a:pt x="830" y="1258"/>
                  </a:lnTo>
                  <a:lnTo>
                    <a:pt x="832" y="1272"/>
                  </a:lnTo>
                  <a:lnTo>
                    <a:pt x="832" y="1288"/>
                  </a:lnTo>
                  <a:lnTo>
                    <a:pt x="828" y="1312"/>
                  </a:lnTo>
                  <a:lnTo>
                    <a:pt x="828" y="1312"/>
                  </a:lnTo>
                  <a:lnTo>
                    <a:pt x="838" y="1312"/>
                  </a:lnTo>
                  <a:lnTo>
                    <a:pt x="846" y="1312"/>
                  </a:lnTo>
                  <a:lnTo>
                    <a:pt x="854" y="1308"/>
                  </a:lnTo>
                  <a:lnTo>
                    <a:pt x="862" y="1304"/>
                  </a:lnTo>
                  <a:lnTo>
                    <a:pt x="878" y="1292"/>
                  </a:lnTo>
                  <a:lnTo>
                    <a:pt x="890" y="1276"/>
                  </a:lnTo>
                  <a:lnTo>
                    <a:pt x="900" y="1256"/>
                  </a:lnTo>
                  <a:lnTo>
                    <a:pt x="906" y="1234"/>
                  </a:lnTo>
                  <a:lnTo>
                    <a:pt x="908" y="1208"/>
                  </a:lnTo>
                  <a:lnTo>
                    <a:pt x="906" y="1182"/>
                  </a:lnTo>
                  <a:lnTo>
                    <a:pt x="906" y="1182"/>
                  </a:lnTo>
                  <a:lnTo>
                    <a:pt x="914" y="1202"/>
                  </a:lnTo>
                  <a:lnTo>
                    <a:pt x="918" y="1226"/>
                  </a:lnTo>
                  <a:lnTo>
                    <a:pt x="922" y="1250"/>
                  </a:lnTo>
                  <a:lnTo>
                    <a:pt x="920" y="1276"/>
                  </a:lnTo>
                  <a:lnTo>
                    <a:pt x="916" y="1288"/>
                  </a:lnTo>
                  <a:lnTo>
                    <a:pt x="912" y="1300"/>
                  </a:lnTo>
                  <a:lnTo>
                    <a:pt x="908" y="1312"/>
                  </a:lnTo>
                  <a:lnTo>
                    <a:pt x="900" y="1324"/>
                  </a:lnTo>
                  <a:lnTo>
                    <a:pt x="892" y="1336"/>
                  </a:lnTo>
                  <a:lnTo>
                    <a:pt x="882" y="1346"/>
                  </a:lnTo>
                  <a:lnTo>
                    <a:pt x="870" y="1356"/>
                  </a:lnTo>
                  <a:lnTo>
                    <a:pt x="856" y="1364"/>
                  </a:lnTo>
                  <a:lnTo>
                    <a:pt x="856" y="1364"/>
                  </a:lnTo>
                  <a:lnTo>
                    <a:pt x="828" y="1378"/>
                  </a:lnTo>
                  <a:lnTo>
                    <a:pt x="800" y="1388"/>
                  </a:lnTo>
                  <a:lnTo>
                    <a:pt x="772" y="1394"/>
                  </a:lnTo>
                  <a:lnTo>
                    <a:pt x="740" y="1396"/>
                  </a:lnTo>
                  <a:lnTo>
                    <a:pt x="708" y="1396"/>
                  </a:lnTo>
                  <a:lnTo>
                    <a:pt x="672" y="1392"/>
                  </a:lnTo>
                  <a:lnTo>
                    <a:pt x="634" y="1382"/>
                  </a:lnTo>
                  <a:lnTo>
                    <a:pt x="592" y="1370"/>
                  </a:lnTo>
                  <a:lnTo>
                    <a:pt x="592" y="1370"/>
                  </a:lnTo>
                  <a:lnTo>
                    <a:pt x="626" y="1376"/>
                  </a:lnTo>
                  <a:lnTo>
                    <a:pt x="654" y="1378"/>
                  </a:lnTo>
                  <a:lnTo>
                    <a:pt x="680" y="1378"/>
                  </a:lnTo>
                  <a:lnTo>
                    <a:pt x="702" y="1378"/>
                  </a:lnTo>
                  <a:lnTo>
                    <a:pt x="720" y="1374"/>
                  </a:lnTo>
                  <a:lnTo>
                    <a:pt x="738" y="1368"/>
                  </a:lnTo>
                  <a:lnTo>
                    <a:pt x="752" y="1360"/>
                  </a:lnTo>
                  <a:lnTo>
                    <a:pt x="764" y="1350"/>
                  </a:lnTo>
                  <a:lnTo>
                    <a:pt x="774" y="1338"/>
                  </a:lnTo>
                  <a:lnTo>
                    <a:pt x="782" y="1326"/>
                  </a:lnTo>
                  <a:lnTo>
                    <a:pt x="790" y="1310"/>
                  </a:lnTo>
                  <a:lnTo>
                    <a:pt x="796" y="1292"/>
                  </a:lnTo>
                  <a:lnTo>
                    <a:pt x="800" y="1274"/>
                  </a:lnTo>
                  <a:lnTo>
                    <a:pt x="804" y="1252"/>
                  </a:lnTo>
                  <a:lnTo>
                    <a:pt x="812" y="1206"/>
                  </a:lnTo>
                  <a:lnTo>
                    <a:pt x="812" y="1206"/>
                  </a:lnTo>
                  <a:close/>
                  <a:moveTo>
                    <a:pt x="462" y="990"/>
                  </a:moveTo>
                  <a:lnTo>
                    <a:pt x="462" y="990"/>
                  </a:lnTo>
                  <a:lnTo>
                    <a:pt x="456" y="1002"/>
                  </a:lnTo>
                  <a:lnTo>
                    <a:pt x="450" y="1016"/>
                  </a:lnTo>
                  <a:lnTo>
                    <a:pt x="448" y="1028"/>
                  </a:lnTo>
                  <a:lnTo>
                    <a:pt x="448" y="1042"/>
                  </a:lnTo>
                  <a:lnTo>
                    <a:pt x="450" y="1056"/>
                  </a:lnTo>
                  <a:lnTo>
                    <a:pt x="454" y="1070"/>
                  </a:lnTo>
                  <a:lnTo>
                    <a:pt x="462" y="1084"/>
                  </a:lnTo>
                  <a:lnTo>
                    <a:pt x="472" y="1096"/>
                  </a:lnTo>
                  <a:lnTo>
                    <a:pt x="472" y="1096"/>
                  </a:lnTo>
                  <a:lnTo>
                    <a:pt x="460" y="1090"/>
                  </a:lnTo>
                  <a:lnTo>
                    <a:pt x="450" y="1086"/>
                  </a:lnTo>
                  <a:lnTo>
                    <a:pt x="440" y="1078"/>
                  </a:lnTo>
                  <a:lnTo>
                    <a:pt x="434" y="1070"/>
                  </a:lnTo>
                  <a:lnTo>
                    <a:pt x="428" y="1062"/>
                  </a:lnTo>
                  <a:lnTo>
                    <a:pt x="426" y="1054"/>
                  </a:lnTo>
                  <a:lnTo>
                    <a:pt x="424" y="1044"/>
                  </a:lnTo>
                  <a:lnTo>
                    <a:pt x="422" y="1036"/>
                  </a:lnTo>
                  <a:lnTo>
                    <a:pt x="424" y="1026"/>
                  </a:lnTo>
                  <a:lnTo>
                    <a:pt x="426" y="1018"/>
                  </a:lnTo>
                  <a:lnTo>
                    <a:pt x="428" y="1010"/>
                  </a:lnTo>
                  <a:lnTo>
                    <a:pt x="434" y="1004"/>
                  </a:lnTo>
                  <a:lnTo>
                    <a:pt x="440" y="998"/>
                  </a:lnTo>
                  <a:lnTo>
                    <a:pt x="446" y="994"/>
                  </a:lnTo>
                  <a:lnTo>
                    <a:pt x="454" y="992"/>
                  </a:lnTo>
                  <a:lnTo>
                    <a:pt x="462" y="990"/>
                  </a:lnTo>
                  <a:lnTo>
                    <a:pt x="462" y="990"/>
                  </a:lnTo>
                  <a:close/>
                  <a:moveTo>
                    <a:pt x="204" y="878"/>
                  </a:moveTo>
                  <a:lnTo>
                    <a:pt x="204" y="878"/>
                  </a:lnTo>
                  <a:lnTo>
                    <a:pt x="190" y="880"/>
                  </a:lnTo>
                  <a:lnTo>
                    <a:pt x="176" y="880"/>
                  </a:lnTo>
                  <a:lnTo>
                    <a:pt x="164" y="876"/>
                  </a:lnTo>
                  <a:lnTo>
                    <a:pt x="152" y="872"/>
                  </a:lnTo>
                  <a:lnTo>
                    <a:pt x="134" y="864"/>
                  </a:lnTo>
                  <a:lnTo>
                    <a:pt x="126" y="858"/>
                  </a:lnTo>
                  <a:lnTo>
                    <a:pt x="126" y="858"/>
                  </a:lnTo>
                  <a:lnTo>
                    <a:pt x="144" y="906"/>
                  </a:lnTo>
                  <a:lnTo>
                    <a:pt x="152" y="928"/>
                  </a:lnTo>
                  <a:lnTo>
                    <a:pt x="158" y="950"/>
                  </a:lnTo>
                  <a:lnTo>
                    <a:pt x="162" y="972"/>
                  </a:lnTo>
                  <a:lnTo>
                    <a:pt x="162" y="994"/>
                  </a:lnTo>
                  <a:lnTo>
                    <a:pt x="160" y="1014"/>
                  </a:lnTo>
                  <a:lnTo>
                    <a:pt x="154" y="1036"/>
                  </a:lnTo>
                  <a:lnTo>
                    <a:pt x="154" y="1036"/>
                  </a:lnTo>
                  <a:lnTo>
                    <a:pt x="142" y="1016"/>
                  </a:lnTo>
                  <a:lnTo>
                    <a:pt x="132" y="996"/>
                  </a:lnTo>
                  <a:lnTo>
                    <a:pt x="124" y="972"/>
                  </a:lnTo>
                  <a:lnTo>
                    <a:pt x="116" y="948"/>
                  </a:lnTo>
                  <a:lnTo>
                    <a:pt x="100" y="896"/>
                  </a:lnTo>
                  <a:lnTo>
                    <a:pt x="90" y="838"/>
                  </a:lnTo>
                  <a:lnTo>
                    <a:pt x="84" y="778"/>
                  </a:lnTo>
                  <a:lnTo>
                    <a:pt x="80" y="718"/>
                  </a:lnTo>
                  <a:lnTo>
                    <a:pt x="80" y="688"/>
                  </a:lnTo>
                  <a:lnTo>
                    <a:pt x="82" y="658"/>
                  </a:lnTo>
                  <a:lnTo>
                    <a:pt x="84" y="628"/>
                  </a:lnTo>
                  <a:lnTo>
                    <a:pt x="88" y="600"/>
                  </a:lnTo>
                  <a:lnTo>
                    <a:pt x="88" y="600"/>
                  </a:lnTo>
                  <a:lnTo>
                    <a:pt x="94" y="650"/>
                  </a:lnTo>
                  <a:lnTo>
                    <a:pt x="102" y="696"/>
                  </a:lnTo>
                  <a:lnTo>
                    <a:pt x="114" y="738"/>
                  </a:lnTo>
                  <a:lnTo>
                    <a:pt x="130" y="776"/>
                  </a:lnTo>
                  <a:lnTo>
                    <a:pt x="146" y="810"/>
                  </a:lnTo>
                  <a:lnTo>
                    <a:pt x="164" y="838"/>
                  </a:lnTo>
                  <a:lnTo>
                    <a:pt x="184" y="860"/>
                  </a:lnTo>
                  <a:lnTo>
                    <a:pt x="204" y="878"/>
                  </a:lnTo>
                  <a:lnTo>
                    <a:pt x="204" y="878"/>
                  </a:lnTo>
                  <a:close/>
                  <a:moveTo>
                    <a:pt x="788" y="528"/>
                  </a:moveTo>
                  <a:lnTo>
                    <a:pt x="788" y="528"/>
                  </a:lnTo>
                  <a:lnTo>
                    <a:pt x="790" y="542"/>
                  </a:lnTo>
                  <a:lnTo>
                    <a:pt x="790" y="552"/>
                  </a:lnTo>
                  <a:lnTo>
                    <a:pt x="786" y="562"/>
                  </a:lnTo>
                  <a:lnTo>
                    <a:pt x="784" y="570"/>
                  </a:lnTo>
                  <a:lnTo>
                    <a:pt x="778" y="576"/>
                  </a:lnTo>
                  <a:lnTo>
                    <a:pt x="774" y="580"/>
                  </a:lnTo>
                  <a:lnTo>
                    <a:pt x="768" y="584"/>
                  </a:lnTo>
                  <a:lnTo>
                    <a:pt x="760" y="586"/>
                  </a:lnTo>
                  <a:lnTo>
                    <a:pt x="746" y="586"/>
                  </a:lnTo>
                  <a:lnTo>
                    <a:pt x="734" y="582"/>
                  </a:lnTo>
                  <a:lnTo>
                    <a:pt x="724" y="574"/>
                  </a:lnTo>
                  <a:lnTo>
                    <a:pt x="720" y="570"/>
                  </a:lnTo>
                  <a:lnTo>
                    <a:pt x="718" y="564"/>
                  </a:lnTo>
                  <a:lnTo>
                    <a:pt x="718" y="564"/>
                  </a:lnTo>
                  <a:lnTo>
                    <a:pt x="710" y="540"/>
                  </a:lnTo>
                  <a:lnTo>
                    <a:pt x="706" y="530"/>
                  </a:lnTo>
                  <a:lnTo>
                    <a:pt x="702" y="524"/>
                  </a:lnTo>
                  <a:lnTo>
                    <a:pt x="696" y="518"/>
                  </a:lnTo>
                  <a:lnTo>
                    <a:pt x="690" y="514"/>
                  </a:lnTo>
                  <a:lnTo>
                    <a:pt x="684" y="512"/>
                  </a:lnTo>
                  <a:lnTo>
                    <a:pt x="678" y="512"/>
                  </a:lnTo>
                  <a:lnTo>
                    <a:pt x="662" y="512"/>
                  </a:lnTo>
                  <a:lnTo>
                    <a:pt x="646" y="516"/>
                  </a:lnTo>
                  <a:lnTo>
                    <a:pt x="626" y="522"/>
                  </a:lnTo>
                  <a:lnTo>
                    <a:pt x="606" y="528"/>
                  </a:lnTo>
                  <a:lnTo>
                    <a:pt x="606" y="528"/>
                  </a:lnTo>
                  <a:lnTo>
                    <a:pt x="624" y="506"/>
                  </a:lnTo>
                  <a:lnTo>
                    <a:pt x="640" y="488"/>
                  </a:lnTo>
                  <a:lnTo>
                    <a:pt x="656" y="474"/>
                  </a:lnTo>
                  <a:lnTo>
                    <a:pt x="672" y="464"/>
                  </a:lnTo>
                  <a:lnTo>
                    <a:pt x="688" y="460"/>
                  </a:lnTo>
                  <a:lnTo>
                    <a:pt x="702" y="456"/>
                  </a:lnTo>
                  <a:lnTo>
                    <a:pt x="716" y="456"/>
                  </a:lnTo>
                  <a:lnTo>
                    <a:pt x="728" y="460"/>
                  </a:lnTo>
                  <a:lnTo>
                    <a:pt x="740" y="464"/>
                  </a:lnTo>
                  <a:lnTo>
                    <a:pt x="752" y="472"/>
                  </a:lnTo>
                  <a:lnTo>
                    <a:pt x="762" y="480"/>
                  </a:lnTo>
                  <a:lnTo>
                    <a:pt x="770" y="488"/>
                  </a:lnTo>
                  <a:lnTo>
                    <a:pt x="776" y="498"/>
                  </a:lnTo>
                  <a:lnTo>
                    <a:pt x="782" y="508"/>
                  </a:lnTo>
                  <a:lnTo>
                    <a:pt x="786" y="520"/>
                  </a:lnTo>
                  <a:lnTo>
                    <a:pt x="788" y="528"/>
                  </a:lnTo>
                  <a:lnTo>
                    <a:pt x="788" y="528"/>
                  </a:lnTo>
                  <a:close/>
                  <a:moveTo>
                    <a:pt x="716" y="120"/>
                  </a:moveTo>
                  <a:lnTo>
                    <a:pt x="768" y="130"/>
                  </a:lnTo>
                  <a:lnTo>
                    <a:pt x="768" y="130"/>
                  </a:lnTo>
                  <a:lnTo>
                    <a:pt x="768" y="136"/>
                  </a:lnTo>
                  <a:lnTo>
                    <a:pt x="768" y="142"/>
                  </a:lnTo>
                  <a:lnTo>
                    <a:pt x="768" y="148"/>
                  </a:lnTo>
                  <a:lnTo>
                    <a:pt x="770" y="154"/>
                  </a:lnTo>
                  <a:lnTo>
                    <a:pt x="774" y="162"/>
                  </a:lnTo>
                  <a:lnTo>
                    <a:pt x="782" y="170"/>
                  </a:lnTo>
                  <a:lnTo>
                    <a:pt x="800" y="188"/>
                  </a:lnTo>
                  <a:lnTo>
                    <a:pt x="800" y="188"/>
                  </a:lnTo>
                  <a:lnTo>
                    <a:pt x="808" y="196"/>
                  </a:lnTo>
                  <a:lnTo>
                    <a:pt x="814" y="204"/>
                  </a:lnTo>
                  <a:lnTo>
                    <a:pt x="820" y="218"/>
                  </a:lnTo>
                  <a:lnTo>
                    <a:pt x="822" y="224"/>
                  </a:lnTo>
                  <a:lnTo>
                    <a:pt x="828" y="232"/>
                  </a:lnTo>
                  <a:lnTo>
                    <a:pt x="834" y="240"/>
                  </a:lnTo>
                  <a:lnTo>
                    <a:pt x="846" y="250"/>
                  </a:lnTo>
                  <a:lnTo>
                    <a:pt x="846" y="250"/>
                  </a:lnTo>
                  <a:lnTo>
                    <a:pt x="824" y="236"/>
                  </a:lnTo>
                  <a:lnTo>
                    <a:pt x="800" y="218"/>
                  </a:lnTo>
                  <a:lnTo>
                    <a:pt x="774" y="200"/>
                  </a:lnTo>
                  <a:lnTo>
                    <a:pt x="762" y="194"/>
                  </a:lnTo>
                  <a:lnTo>
                    <a:pt x="750" y="188"/>
                  </a:lnTo>
                  <a:lnTo>
                    <a:pt x="750" y="188"/>
                  </a:lnTo>
                  <a:lnTo>
                    <a:pt x="740" y="182"/>
                  </a:lnTo>
                  <a:lnTo>
                    <a:pt x="728" y="176"/>
                  </a:lnTo>
                  <a:lnTo>
                    <a:pt x="718" y="166"/>
                  </a:lnTo>
                  <a:lnTo>
                    <a:pt x="710" y="156"/>
                  </a:lnTo>
                  <a:lnTo>
                    <a:pt x="706" y="146"/>
                  </a:lnTo>
                  <a:lnTo>
                    <a:pt x="704" y="138"/>
                  </a:lnTo>
                  <a:lnTo>
                    <a:pt x="706" y="132"/>
                  </a:lnTo>
                  <a:lnTo>
                    <a:pt x="708" y="128"/>
                  </a:lnTo>
                  <a:lnTo>
                    <a:pt x="712" y="124"/>
                  </a:lnTo>
                  <a:lnTo>
                    <a:pt x="716" y="120"/>
                  </a:lnTo>
                  <a:lnTo>
                    <a:pt x="716" y="120"/>
                  </a:lnTo>
                  <a:close/>
                  <a:moveTo>
                    <a:pt x="584" y="168"/>
                  </a:moveTo>
                  <a:lnTo>
                    <a:pt x="584" y="168"/>
                  </a:lnTo>
                  <a:lnTo>
                    <a:pt x="604" y="154"/>
                  </a:lnTo>
                  <a:lnTo>
                    <a:pt x="610" y="148"/>
                  </a:lnTo>
                  <a:lnTo>
                    <a:pt x="616" y="142"/>
                  </a:lnTo>
                  <a:lnTo>
                    <a:pt x="618" y="134"/>
                  </a:lnTo>
                  <a:lnTo>
                    <a:pt x="620" y="128"/>
                  </a:lnTo>
                  <a:lnTo>
                    <a:pt x="620" y="116"/>
                  </a:lnTo>
                  <a:lnTo>
                    <a:pt x="674" y="118"/>
                  </a:lnTo>
                  <a:lnTo>
                    <a:pt x="674" y="118"/>
                  </a:lnTo>
                  <a:lnTo>
                    <a:pt x="678" y="122"/>
                  </a:lnTo>
                  <a:lnTo>
                    <a:pt x="680" y="128"/>
                  </a:lnTo>
                  <a:lnTo>
                    <a:pt x="682" y="132"/>
                  </a:lnTo>
                  <a:lnTo>
                    <a:pt x="682" y="138"/>
                  </a:lnTo>
                  <a:lnTo>
                    <a:pt x="680" y="146"/>
                  </a:lnTo>
                  <a:lnTo>
                    <a:pt x="674" y="156"/>
                  </a:lnTo>
                  <a:lnTo>
                    <a:pt x="666" y="164"/>
                  </a:lnTo>
                  <a:lnTo>
                    <a:pt x="656" y="170"/>
                  </a:lnTo>
                  <a:lnTo>
                    <a:pt x="644" y="176"/>
                  </a:lnTo>
                  <a:lnTo>
                    <a:pt x="632" y="178"/>
                  </a:lnTo>
                  <a:lnTo>
                    <a:pt x="632" y="178"/>
                  </a:lnTo>
                  <a:lnTo>
                    <a:pt x="606" y="184"/>
                  </a:lnTo>
                  <a:lnTo>
                    <a:pt x="580" y="192"/>
                  </a:lnTo>
                  <a:lnTo>
                    <a:pt x="528" y="212"/>
                  </a:lnTo>
                  <a:lnTo>
                    <a:pt x="528" y="212"/>
                  </a:lnTo>
                  <a:lnTo>
                    <a:pt x="550" y="198"/>
                  </a:lnTo>
                  <a:lnTo>
                    <a:pt x="560" y="188"/>
                  </a:lnTo>
                  <a:lnTo>
                    <a:pt x="566" y="180"/>
                  </a:lnTo>
                  <a:lnTo>
                    <a:pt x="574" y="174"/>
                  </a:lnTo>
                  <a:lnTo>
                    <a:pt x="584" y="168"/>
                  </a:lnTo>
                  <a:lnTo>
                    <a:pt x="584" y="168"/>
                  </a:lnTo>
                  <a:close/>
                  <a:moveTo>
                    <a:pt x="150" y="46"/>
                  </a:moveTo>
                  <a:lnTo>
                    <a:pt x="150" y="46"/>
                  </a:lnTo>
                  <a:lnTo>
                    <a:pt x="148" y="50"/>
                  </a:lnTo>
                  <a:lnTo>
                    <a:pt x="146" y="52"/>
                  </a:lnTo>
                  <a:lnTo>
                    <a:pt x="138" y="56"/>
                  </a:lnTo>
                  <a:lnTo>
                    <a:pt x="110" y="60"/>
                  </a:lnTo>
                  <a:lnTo>
                    <a:pt x="96" y="64"/>
                  </a:lnTo>
                  <a:lnTo>
                    <a:pt x="82" y="70"/>
                  </a:lnTo>
                  <a:lnTo>
                    <a:pt x="76" y="74"/>
                  </a:lnTo>
                  <a:lnTo>
                    <a:pt x="70" y="80"/>
                  </a:lnTo>
                  <a:lnTo>
                    <a:pt x="66" y="86"/>
                  </a:lnTo>
                  <a:lnTo>
                    <a:pt x="62" y="94"/>
                  </a:lnTo>
                  <a:lnTo>
                    <a:pt x="62" y="94"/>
                  </a:lnTo>
                  <a:lnTo>
                    <a:pt x="62" y="84"/>
                  </a:lnTo>
                  <a:lnTo>
                    <a:pt x="64" y="74"/>
                  </a:lnTo>
                  <a:lnTo>
                    <a:pt x="68" y="66"/>
                  </a:lnTo>
                  <a:lnTo>
                    <a:pt x="72" y="56"/>
                  </a:lnTo>
                  <a:lnTo>
                    <a:pt x="76" y="50"/>
                  </a:lnTo>
                  <a:lnTo>
                    <a:pt x="82" y="44"/>
                  </a:lnTo>
                  <a:lnTo>
                    <a:pt x="96" y="36"/>
                  </a:lnTo>
                  <a:lnTo>
                    <a:pt x="110" y="30"/>
                  </a:lnTo>
                  <a:lnTo>
                    <a:pt x="124" y="32"/>
                  </a:lnTo>
                  <a:lnTo>
                    <a:pt x="132" y="34"/>
                  </a:lnTo>
                  <a:lnTo>
                    <a:pt x="138" y="36"/>
                  </a:lnTo>
                  <a:lnTo>
                    <a:pt x="144" y="40"/>
                  </a:lnTo>
                  <a:lnTo>
                    <a:pt x="150" y="46"/>
                  </a:lnTo>
                  <a:lnTo>
                    <a:pt x="150" y="46"/>
                  </a:lnTo>
                  <a:close/>
                </a:path>
              </a:pathLst>
            </a:custGeom>
            <a:solidFill>
              <a:srgbClr val="947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0"/>
            <p:cNvSpPr/>
            <p:nvPr/>
          </p:nvSpPr>
          <p:spPr>
            <a:xfrm>
              <a:off x="3274920" y="1333440"/>
              <a:ext cx="434880" cy="46008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74" h="290">
                  <a:moveTo>
                    <a:pt x="6" y="188"/>
                  </a:moveTo>
                  <a:lnTo>
                    <a:pt x="6" y="188"/>
                  </a:lnTo>
                  <a:lnTo>
                    <a:pt x="14" y="216"/>
                  </a:lnTo>
                  <a:lnTo>
                    <a:pt x="26" y="242"/>
                  </a:lnTo>
                  <a:lnTo>
                    <a:pt x="32" y="254"/>
                  </a:lnTo>
                  <a:lnTo>
                    <a:pt x="42" y="266"/>
                  </a:lnTo>
                  <a:lnTo>
                    <a:pt x="52" y="278"/>
                  </a:lnTo>
                  <a:lnTo>
                    <a:pt x="68" y="290"/>
                  </a:lnTo>
                  <a:lnTo>
                    <a:pt x="68" y="290"/>
                  </a:lnTo>
                  <a:lnTo>
                    <a:pt x="84" y="260"/>
                  </a:lnTo>
                  <a:lnTo>
                    <a:pt x="96" y="236"/>
                  </a:lnTo>
                  <a:lnTo>
                    <a:pt x="96" y="236"/>
                  </a:lnTo>
                  <a:lnTo>
                    <a:pt x="110" y="240"/>
                  </a:lnTo>
                  <a:lnTo>
                    <a:pt x="124" y="242"/>
                  </a:lnTo>
                  <a:lnTo>
                    <a:pt x="136" y="242"/>
                  </a:lnTo>
                  <a:lnTo>
                    <a:pt x="148" y="242"/>
                  </a:lnTo>
                  <a:lnTo>
                    <a:pt x="160" y="238"/>
                  </a:lnTo>
                  <a:lnTo>
                    <a:pt x="170" y="234"/>
                  </a:lnTo>
                  <a:lnTo>
                    <a:pt x="180" y="228"/>
                  </a:lnTo>
                  <a:lnTo>
                    <a:pt x="188" y="220"/>
                  </a:lnTo>
                  <a:lnTo>
                    <a:pt x="194" y="212"/>
                  </a:lnTo>
                  <a:lnTo>
                    <a:pt x="198" y="202"/>
                  </a:lnTo>
                  <a:lnTo>
                    <a:pt x="200" y="190"/>
                  </a:lnTo>
                  <a:lnTo>
                    <a:pt x="202" y="178"/>
                  </a:lnTo>
                  <a:lnTo>
                    <a:pt x="200" y="166"/>
                  </a:lnTo>
                  <a:lnTo>
                    <a:pt x="196" y="152"/>
                  </a:lnTo>
                  <a:lnTo>
                    <a:pt x="188" y="138"/>
                  </a:lnTo>
                  <a:lnTo>
                    <a:pt x="178" y="122"/>
                  </a:lnTo>
                  <a:lnTo>
                    <a:pt x="178" y="122"/>
                  </a:lnTo>
                  <a:lnTo>
                    <a:pt x="176" y="138"/>
                  </a:lnTo>
                  <a:lnTo>
                    <a:pt x="170" y="148"/>
                  </a:lnTo>
                  <a:lnTo>
                    <a:pt x="162" y="154"/>
                  </a:lnTo>
                  <a:lnTo>
                    <a:pt x="152" y="156"/>
                  </a:lnTo>
                  <a:lnTo>
                    <a:pt x="142" y="154"/>
                  </a:lnTo>
                  <a:lnTo>
                    <a:pt x="132" y="148"/>
                  </a:lnTo>
                  <a:lnTo>
                    <a:pt x="122" y="142"/>
                  </a:lnTo>
                  <a:lnTo>
                    <a:pt x="112" y="132"/>
                  </a:lnTo>
                  <a:lnTo>
                    <a:pt x="104" y="122"/>
                  </a:lnTo>
                  <a:lnTo>
                    <a:pt x="100" y="110"/>
                  </a:lnTo>
                  <a:lnTo>
                    <a:pt x="98" y="98"/>
                  </a:lnTo>
                  <a:lnTo>
                    <a:pt x="100" y="86"/>
                  </a:lnTo>
                  <a:lnTo>
                    <a:pt x="108" y="74"/>
                  </a:lnTo>
                  <a:lnTo>
                    <a:pt x="118" y="64"/>
                  </a:lnTo>
                  <a:lnTo>
                    <a:pt x="136" y="54"/>
                  </a:lnTo>
                  <a:lnTo>
                    <a:pt x="160" y="48"/>
                  </a:lnTo>
                  <a:lnTo>
                    <a:pt x="160" y="48"/>
                  </a:lnTo>
                  <a:lnTo>
                    <a:pt x="170" y="46"/>
                  </a:lnTo>
                  <a:lnTo>
                    <a:pt x="180" y="46"/>
                  </a:lnTo>
                  <a:lnTo>
                    <a:pt x="188" y="48"/>
                  </a:lnTo>
                  <a:lnTo>
                    <a:pt x="198" y="50"/>
                  </a:lnTo>
                  <a:lnTo>
                    <a:pt x="206" y="54"/>
                  </a:lnTo>
                  <a:lnTo>
                    <a:pt x="214" y="60"/>
                  </a:lnTo>
                  <a:lnTo>
                    <a:pt x="222" y="66"/>
                  </a:lnTo>
                  <a:lnTo>
                    <a:pt x="228" y="72"/>
                  </a:lnTo>
                  <a:lnTo>
                    <a:pt x="234" y="82"/>
                  </a:lnTo>
                  <a:lnTo>
                    <a:pt x="240" y="90"/>
                  </a:lnTo>
                  <a:lnTo>
                    <a:pt x="244" y="102"/>
                  </a:lnTo>
                  <a:lnTo>
                    <a:pt x="248" y="112"/>
                  </a:lnTo>
                  <a:lnTo>
                    <a:pt x="250" y="126"/>
                  </a:lnTo>
                  <a:lnTo>
                    <a:pt x="252" y="138"/>
                  </a:lnTo>
                  <a:lnTo>
                    <a:pt x="252" y="152"/>
                  </a:lnTo>
                  <a:lnTo>
                    <a:pt x="252" y="168"/>
                  </a:lnTo>
                  <a:lnTo>
                    <a:pt x="252" y="168"/>
                  </a:lnTo>
                  <a:lnTo>
                    <a:pt x="262" y="156"/>
                  </a:lnTo>
                  <a:lnTo>
                    <a:pt x="268" y="142"/>
                  </a:lnTo>
                  <a:lnTo>
                    <a:pt x="272" y="126"/>
                  </a:lnTo>
                  <a:lnTo>
                    <a:pt x="274" y="108"/>
                  </a:lnTo>
                  <a:lnTo>
                    <a:pt x="272" y="90"/>
                  </a:lnTo>
                  <a:lnTo>
                    <a:pt x="268" y="74"/>
                  </a:lnTo>
                  <a:lnTo>
                    <a:pt x="260" y="56"/>
                  </a:lnTo>
                  <a:lnTo>
                    <a:pt x="252" y="42"/>
                  </a:lnTo>
                  <a:lnTo>
                    <a:pt x="252" y="42"/>
                  </a:lnTo>
                  <a:lnTo>
                    <a:pt x="246" y="34"/>
                  </a:lnTo>
                  <a:lnTo>
                    <a:pt x="238" y="28"/>
                  </a:lnTo>
                  <a:lnTo>
                    <a:pt x="222" y="16"/>
                  </a:lnTo>
                  <a:lnTo>
                    <a:pt x="202" y="8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52" y="0"/>
                  </a:lnTo>
                  <a:lnTo>
                    <a:pt x="128" y="2"/>
                  </a:lnTo>
                  <a:lnTo>
                    <a:pt x="104" y="8"/>
                  </a:lnTo>
                  <a:lnTo>
                    <a:pt x="80" y="18"/>
                  </a:lnTo>
                  <a:lnTo>
                    <a:pt x="58" y="32"/>
                  </a:lnTo>
                  <a:lnTo>
                    <a:pt x="40" y="50"/>
                  </a:lnTo>
                  <a:lnTo>
                    <a:pt x="22" y="70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4" y="102"/>
                  </a:lnTo>
                  <a:lnTo>
                    <a:pt x="2" y="112"/>
                  </a:lnTo>
                  <a:lnTo>
                    <a:pt x="0" y="140"/>
                  </a:lnTo>
                  <a:lnTo>
                    <a:pt x="2" y="168"/>
                  </a:lnTo>
                  <a:lnTo>
                    <a:pt x="4" y="180"/>
                  </a:lnTo>
                  <a:lnTo>
                    <a:pt x="6" y="188"/>
                  </a:lnTo>
                  <a:lnTo>
                    <a:pt x="6" y="188"/>
                  </a:lnTo>
                  <a:close/>
                  <a:moveTo>
                    <a:pt x="74" y="66"/>
                  </a:moveTo>
                  <a:lnTo>
                    <a:pt x="74" y="66"/>
                  </a:lnTo>
                  <a:lnTo>
                    <a:pt x="68" y="82"/>
                  </a:lnTo>
                  <a:lnTo>
                    <a:pt x="64" y="98"/>
                  </a:lnTo>
                  <a:lnTo>
                    <a:pt x="64" y="112"/>
                  </a:lnTo>
                  <a:lnTo>
                    <a:pt x="66" y="126"/>
                  </a:lnTo>
                  <a:lnTo>
                    <a:pt x="70" y="138"/>
                  </a:lnTo>
                  <a:lnTo>
                    <a:pt x="74" y="148"/>
                  </a:lnTo>
                  <a:lnTo>
                    <a:pt x="80" y="158"/>
                  </a:lnTo>
                  <a:lnTo>
                    <a:pt x="88" y="166"/>
                  </a:lnTo>
                  <a:lnTo>
                    <a:pt x="96" y="172"/>
                  </a:lnTo>
                  <a:lnTo>
                    <a:pt x="106" y="180"/>
                  </a:lnTo>
                  <a:lnTo>
                    <a:pt x="124" y="188"/>
                  </a:lnTo>
                  <a:lnTo>
                    <a:pt x="140" y="194"/>
                  </a:lnTo>
                  <a:lnTo>
                    <a:pt x="152" y="194"/>
                  </a:lnTo>
                  <a:lnTo>
                    <a:pt x="152" y="194"/>
                  </a:lnTo>
                  <a:lnTo>
                    <a:pt x="144" y="200"/>
                  </a:lnTo>
                  <a:lnTo>
                    <a:pt x="134" y="204"/>
                  </a:lnTo>
                  <a:lnTo>
                    <a:pt x="124" y="204"/>
                  </a:lnTo>
                  <a:lnTo>
                    <a:pt x="112" y="202"/>
                  </a:lnTo>
                  <a:lnTo>
                    <a:pt x="102" y="200"/>
                  </a:lnTo>
                  <a:lnTo>
                    <a:pt x="92" y="194"/>
                  </a:lnTo>
                  <a:lnTo>
                    <a:pt x="84" y="188"/>
                  </a:lnTo>
                  <a:lnTo>
                    <a:pt x="80" y="180"/>
                  </a:lnTo>
                  <a:lnTo>
                    <a:pt x="80" y="180"/>
                  </a:lnTo>
                  <a:lnTo>
                    <a:pt x="72" y="188"/>
                  </a:lnTo>
                  <a:lnTo>
                    <a:pt x="64" y="198"/>
                  </a:lnTo>
                  <a:lnTo>
                    <a:pt x="52" y="224"/>
                  </a:lnTo>
                  <a:lnTo>
                    <a:pt x="52" y="224"/>
                  </a:lnTo>
                  <a:lnTo>
                    <a:pt x="46" y="194"/>
                  </a:lnTo>
                  <a:lnTo>
                    <a:pt x="42" y="168"/>
                  </a:lnTo>
                  <a:lnTo>
                    <a:pt x="40" y="146"/>
                  </a:lnTo>
                  <a:lnTo>
                    <a:pt x="44" y="126"/>
                  </a:lnTo>
                  <a:lnTo>
                    <a:pt x="48" y="108"/>
                  </a:lnTo>
                  <a:lnTo>
                    <a:pt x="54" y="92"/>
                  </a:lnTo>
                  <a:lnTo>
                    <a:pt x="64" y="78"/>
                  </a:lnTo>
                  <a:lnTo>
                    <a:pt x="74" y="66"/>
                  </a:lnTo>
                  <a:lnTo>
                    <a:pt x="74" y="66"/>
                  </a:lnTo>
                  <a:close/>
                </a:path>
              </a:pathLst>
            </a:custGeom>
            <a:solidFill>
              <a:srgbClr val="cabb8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1"/>
            <p:cNvSpPr/>
            <p:nvPr/>
          </p:nvSpPr>
          <p:spPr>
            <a:xfrm>
              <a:off x="1627200" y="345960"/>
              <a:ext cx="4178160" cy="1514520"/>
            </a:xfrm>
            <a:custGeom>
              <a:avLst/>
              <a:gdLst>
                <a:gd name="textAreaLeft" fmla="*/ 0 w 4178160"/>
                <a:gd name="textAreaRight" fmla="*/ 4178160 w 4178160"/>
                <a:gd name="textAreaTop" fmla="*/ 0 h 1514520"/>
                <a:gd name="textAreaBottom" fmla="*/ 1514880 h 1514520"/>
              </a:gdLst>
              <a:ahLst/>
              <a:rect l="textAreaLeft" t="textAreaTop" r="textAreaRight" b="textAreaBottom"/>
              <a:pathLst>
                <a:path w="2632" h="954">
                  <a:moveTo>
                    <a:pt x="16" y="108"/>
                  </a:moveTo>
                  <a:lnTo>
                    <a:pt x="16" y="108"/>
                  </a:lnTo>
                  <a:lnTo>
                    <a:pt x="62" y="94"/>
                  </a:lnTo>
                  <a:lnTo>
                    <a:pt x="110" y="84"/>
                  </a:lnTo>
                  <a:lnTo>
                    <a:pt x="158" y="80"/>
                  </a:lnTo>
                  <a:lnTo>
                    <a:pt x="204" y="78"/>
                  </a:lnTo>
                  <a:lnTo>
                    <a:pt x="204" y="78"/>
                  </a:lnTo>
                  <a:lnTo>
                    <a:pt x="238" y="82"/>
                  </a:lnTo>
                  <a:lnTo>
                    <a:pt x="268" y="88"/>
                  </a:lnTo>
                  <a:lnTo>
                    <a:pt x="300" y="96"/>
                  </a:lnTo>
                  <a:lnTo>
                    <a:pt x="328" y="108"/>
                  </a:lnTo>
                  <a:lnTo>
                    <a:pt x="354" y="122"/>
                  </a:lnTo>
                  <a:lnTo>
                    <a:pt x="380" y="140"/>
                  </a:lnTo>
                  <a:lnTo>
                    <a:pt x="404" y="156"/>
                  </a:lnTo>
                  <a:lnTo>
                    <a:pt x="424" y="176"/>
                  </a:lnTo>
                  <a:lnTo>
                    <a:pt x="444" y="196"/>
                  </a:lnTo>
                  <a:lnTo>
                    <a:pt x="460" y="216"/>
                  </a:lnTo>
                  <a:lnTo>
                    <a:pt x="472" y="236"/>
                  </a:lnTo>
                  <a:lnTo>
                    <a:pt x="484" y="258"/>
                  </a:lnTo>
                  <a:lnTo>
                    <a:pt x="490" y="278"/>
                  </a:lnTo>
                  <a:lnTo>
                    <a:pt x="494" y="296"/>
                  </a:lnTo>
                  <a:lnTo>
                    <a:pt x="496" y="314"/>
                  </a:lnTo>
                  <a:lnTo>
                    <a:pt x="492" y="330"/>
                  </a:lnTo>
                  <a:lnTo>
                    <a:pt x="492" y="330"/>
                  </a:lnTo>
                  <a:lnTo>
                    <a:pt x="502" y="328"/>
                  </a:lnTo>
                  <a:lnTo>
                    <a:pt x="508" y="324"/>
                  </a:lnTo>
                  <a:lnTo>
                    <a:pt x="516" y="318"/>
                  </a:lnTo>
                  <a:lnTo>
                    <a:pt x="520" y="310"/>
                  </a:lnTo>
                  <a:lnTo>
                    <a:pt x="524" y="302"/>
                  </a:lnTo>
                  <a:lnTo>
                    <a:pt x="528" y="292"/>
                  </a:lnTo>
                  <a:lnTo>
                    <a:pt x="532" y="268"/>
                  </a:lnTo>
                  <a:lnTo>
                    <a:pt x="532" y="242"/>
                  </a:lnTo>
                  <a:lnTo>
                    <a:pt x="528" y="214"/>
                  </a:lnTo>
                  <a:lnTo>
                    <a:pt x="520" y="184"/>
                  </a:lnTo>
                  <a:lnTo>
                    <a:pt x="508" y="154"/>
                  </a:lnTo>
                  <a:lnTo>
                    <a:pt x="508" y="154"/>
                  </a:lnTo>
                  <a:lnTo>
                    <a:pt x="514" y="160"/>
                  </a:lnTo>
                  <a:lnTo>
                    <a:pt x="522" y="164"/>
                  </a:lnTo>
                  <a:lnTo>
                    <a:pt x="530" y="166"/>
                  </a:lnTo>
                  <a:lnTo>
                    <a:pt x="540" y="168"/>
                  </a:lnTo>
                  <a:lnTo>
                    <a:pt x="562" y="168"/>
                  </a:lnTo>
                  <a:lnTo>
                    <a:pt x="584" y="164"/>
                  </a:lnTo>
                  <a:lnTo>
                    <a:pt x="608" y="158"/>
                  </a:lnTo>
                  <a:lnTo>
                    <a:pt x="628" y="150"/>
                  </a:lnTo>
                  <a:lnTo>
                    <a:pt x="646" y="140"/>
                  </a:lnTo>
                  <a:lnTo>
                    <a:pt x="658" y="130"/>
                  </a:lnTo>
                  <a:lnTo>
                    <a:pt x="658" y="130"/>
                  </a:lnTo>
                  <a:lnTo>
                    <a:pt x="676" y="140"/>
                  </a:lnTo>
                  <a:lnTo>
                    <a:pt x="690" y="150"/>
                  </a:lnTo>
                  <a:lnTo>
                    <a:pt x="704" y="164"/>
                  </a:lnTo>
                  <a:lnTo>
                    <a:pt x="718" y="178"/>
                  </a:lnTo>
                  <a:lnTo>
                    <a:pt x="730" y="194"/>
                  </a:lnTo>
                  <a:lnTo>
                    <a:pt x="740" y="212"/>
                  </a:lnTo>
                  <a:lnTo>
                    <a:pt x="750" y="230"/>
                  </a:lnTo>
                  <a:lnTo>
                    <a:pt x="756" y="248"/>
                  </a:lnTo>
                  <a:lnTo>
                    <a:pt x="762" y="268"/>
                  </a:lnTo>
                  <a:lnTo>
                    <a:pt x="766" y="288"/>
                  </a:lnTo>
                  <a:lnTo>
                    <a:pt x="768" y="308"/>
                  </a:lnTo>
                  <a:lnTo>
                    <a:pt x="768" y="326"/>
                  </a:lnTo>
                  <a:lnTo>
                    <a:pt x="766" y="346"/>
                  </a:lnTo>
                  <a:lnTo>
                    <a:pt x="762" y="364"/>
                  </a:lnTo>
                  <a:lnTo>
                    <a:pt x="756" y="382"/>
                  </a:lnTo>
                  <a:lnTo>
                    <a:pt x="748" y="398"/>
                  </a:lnTo>
                  <a:lnTo>
                    <a:pt x="748" y="398"/>
                  </a:lnTo>
                  <a:lnTo>
                    <a:pt x="754" y="396"/>
                  </a:lnTo>
                  <a:lnTo>
                    <a:pt x="762" y="394"/>
                  </a:lnTo>
                  <a:lnTo>
                    <a:pt x="774" y="388"/>
                  </a:lnTo>
                  <a:lnTo>
                    <a:pt x="786" y="376"/>
                  </a:lnTo>
                  <a:lnTo>
                    <a:pt x="794" y="364"/>
                  </a:lnTo>
                  <a:lnTo>
                    <a:pt x="800" y="348"/>
                  </a:lnTo>
                  <a:lnTo>
                    <a:pt x="806" y="330"/>
                  </a:lnTo>
                  <a:lnTo>
                    <a:pt x="808" y="312"/>
                  </a:lnTo>
                  <a:lnTo>
                    <a:pt x="810" y="294"/>
                  </a:lnTo>
                  <a:lnTo>
                    <a:pt x="810" y="294"/>
                  </a:lnTo>
                  <a:lnTo>
                    <a:pt x="826" y="332"/>
                  </a:lnTo>
                  <a:lnTo>
                    <a:pt x="838" y="368"/>
                  </a:lnTo>
                  <a:lnTo>
                    <a:pt x="846" y="402"/>
                  </a:lnTo>
                  <a:lnTo>
                    <a:pt x="850" y="432"/>
                  </a:lnTo>
                  <a:lnTo>
                    <a:pt x="852" y="460"/>
                  </a:lnTo>
                  <a:lnTo>
                    <a:pt x="850" y="484"/>
                  </a:lnTo>
                  <a:lnTo>
                    <a:pt x="846" y="508"/>
                  </a:lnTo>
                  <a:lnTo>
                    <a:pt x="838" y="528"/>
                  </a:lnTo>
                  <a:lnTo>
                    <a:pt x="830" y="546"/>
                  </a:lnTo>
                  <a:lnTo>
                    <a:pt x="820" y="562"/>
                  </a:lnTo>
                  <a:lnTo>
                    <a:pt x="808" y="574"/>
                  </a:lnTo>
                  <a:lnTo>
                    <a:pt x="794" y="584"/>
                  </a:lnTo>
                  <a:lnTo>
                    <a:pt x="780" y="592"/>
                  </a:lnTo>
                  <a:lnTo>
                    <a:pt x="764" y="598"/>
                  </a:lnTo>
                  <a:lnTo>
                    <a:pt x="748" y="602"/>
                  </a:lnTo>
                  <a:lnTo>
                    <a:pt x="732" y="602"/>
                  </a:lnTo>
                  <a:lnTo>
                    <a:pt x="732" y="602"/>
                  </a:lnTo>
                  <a:lnTo>
                    <a:pt x="712" y="600"/>
                  </a:lnTo>
                  <a:lnTo>
                    <a:pt x="694" y="598"/>
                  </a:lnTo>
                  <a:lnTo>
                    <a:pt x="680" y="592"/>
                  </a:lnTo>
                  <a:lnTo>
                    <a:pt x="664" y="584"/>
                  </a:lnTo>
                  <a:lnTo>
                    <a:pt x="664" y="584"/>
                  </a:lnTo>
                  <a:lnTo>
                    <a:pt x="646" y="572"/>
                  </a:lnTo>
                  <a:lnTo>
                    <a:pt x="630" y="558"/>
                  </a:lnTo>
                  <a:lnTo>
                    <a:pt x="618" y="542"/>
                  </a:lnTo>
                  <a:lnTo>
                    <a:pt x="608" y="528"/>
                  </a:lnTo>
                  <a:lnTo>
                    <a:pt x="604" y="512"/>
                  </a:lnTo>
                  <a:lnTo>
                    <a:pt x="602" y="504"/>
                  </a:lnTo>
                  <a:lnTo>
                    <a:pt x="604" y="496"/>
                  </a:lnTo>
                  <a:lnTo>
                    <a:pt x="604" y="488"/>
                  </a:lnTo>
                  <a:lnTo>
                    <a:pt x="608" y="482"/>
                  </a:lnTo>
                  <a:lnTo>
                    <a:pt x="612" y="474"/>
                  </a:lnTo>
                  <a:lnTo>
                    <a:pt x="618" y="468"/>
                  </a:lnTo>
                  <a:lnTo>
                    <a:pt x="618" y="468"/>
                  </a:lnTo>
                  <a:lnTo>
                    <a:pt x="624" y="462"/>
                  </a:lnTo>
                  <a:lnTo>
                    <a:pt x="632" y="456"/>
                  </a:lnTo>
                  <a:lnTo>
                    <a:pt x="638" y="454"/>
                  </a:lnTo>
                  <a:lnTo>
                    <a:pt x="646" y="452"/>
                  </a:lnTo>
                  <a:lnTo>
                    <a:pt x="652" y="450"/>
                  </a:lnTo>
                  <a:lnTo>
                    <a:pt x="658" y="452"/>
                  </a:lnTo>
                  <a:lnTo>
                    <a:pt x="672" y="456"/>
                  </a:lnTo>
                  <a:lnTo>
                    <a:pt x="682" y="464"/>
                  </a:lnTo>
                  <a:lnTo>
                    <a:pt x="692" y="476"/>
                  </a:lnTo>
                  <a:lnTo>
                    <a:pt x="700" y="488"/>
                  </a:lnTo>
                  <a:lnTo>
                    <a:pt x="704" y="504"/>
                  </a:lnTo>
                  <a:lnTo>
                    <a:pt x="704" y="504"/>
                  </a:lnTo>
                  <a:lnTo>
                    <a:pt x="710" y="490"/>
                  </a:lnTo>
                  <a:lnTo>
                    <a:pt x="714" y="476"/>
                  </a:lnTo>
                  <a:lnTo>
                    <a:pt x="718" y="464"/>
                  </a:lnTo>
                  <a:lnTo>
                    <a:pt x="718" y="450"/>
                  </a:lnTo>
                  <a:lnTo>
                    <a:pt x="718" y="436"/>
                  </a:lnTo>
                  <a:lnTo>
                    <a:pt x="716" y="424"/>
                  </a:lnTo>
                  <a:lnTo>
                    <a:pt x="712" y="412"/>
                  </a:lnTo>
                  <a:lnTo>
                    <a:pt x="706" y="400"/>
                  </a:lnTo>
                  <a:lnTo>
                    <a:pt x="700" y="388"/>
                  </a:lnTo>
                  <a:lnTo>
                    <a:pt x="692" y="380"/>
                  </a:lnTo>
                  <a:lnTo>
                    <a:pt x="684" y="370"/>
                  </a:lnTo>
                  <a:lnTo>
                    <a:pt x="674" y="364"/>
                  </a:lnTo>
                  <a:lnTo>
                    <a:pt x="662" y="358"/>
                  </a:lnTo>
                  <a:lnTo>
                    <a:pt x="650" y="354"/>
                  </a:lnTo>
                  <a:lnTo>
                    <a:pt x="636" y="352"/>
                  </a:lnTo>
                  <a:lnTo>
                    <a:pt x="622" y="352"/>
                  </a:lnTo>
                  <a:lnTo>
                    <a:pt x="622" y="352"/>
                  </a:lnTo>
                  <a:lnTo>
                    <a:pt x="608" y="354"/>
                  </a:lnTo>
                  <a:lnTo>
                    <a:pt x="594" y="358"/>
                  </a:lnTo>
                  <a:lnTo>
                    <a:pt x="582" y="366"/>
                  </a:lnTo>
                  <a:lnTo>
                    <a:pt x="570" y="374"/>
                  </a:lnTo>
                  <a:lnTo>
                    <a:pt x="558" y="386"/>
                  </a:lnTo>
                  <a:lnTo>
                    <a:pt x="548" y="398"/>
                  </a:lnTo>
                  <a:lnTo>
                    <a:pt x="540" y="412"/>
                  </a:lnTo>
                  <a:lnTo>
                    <a:pt x="534" y="428"/>
                  </a:lnTo>
                  <a:lnTo>
                    <a:pt x="530" y="444"/>
                  </a:lnTo>
                  <a:lnTo>
                    <a:pt x="528" y="462"/>
                  </a:lnTo>
                  <a:lnTo>
                    <a:pt x="528" y="478"/>
                  </a:lnTo>
                  <a:lnTo>
                    <a:pt x="532" y="496"/>
                  </a:lnTo>
                  <a:lnTo>
                    <a:pt x="538" y="514"/>
                  </a:lnTo>
                  <a:lnTo>
                    <a:pt x="548" y="532"/>
                  </a:lnTo>
                  <a:lnTo>
                    <a:pt x="562" y="550"/>
                  </a:lnTo>
                  <a:lnTo>
                    <a:pt x="580" y="566"/>
                  </a:lnTo>
                  <a:lnTo>
                    <a:pt x="580" y="566"/>
                  </a:lnTo>
                  <a:lnTo>
                    <a:pt x="592" y="574"/>
                  </a:lnTo>
                  <a:lnTo>
                    <a:pt x="592" y="574"/>
                  </a:lnTo>
                  <a:lnTo>
                    <a:pt x="608" y="586"/>
                  </a:lnTo>
                  <a:lnTo>
                    <a:pt x="626" y="594"/>
                  </a:lnTo>
                  <a:lnTo>
                    <a:pt x="646" y="602"/>
                  </a:lnTo>
                  <a:lnTo>
                    <a:pt x="664" y="610"/>
                  </a:lnTo>
                  <a:lnTo>
                    <a:pt x="700" y="618"/>
                  </a:lnTo>
                  <a:lnTo>
                    <a:pt x="730" y="624"/>
                  </a:lnTo>
                  <a:lnTo>
                    <a:pt x="730" y="624"/>
                  </a:lnTo>
                  <a:lnTo>
                    <a:pt x="764" y="622"/>
                  </a:lnTo>
                  <a:lnTo>
                    <a:pt x="782" y="620"/>
                  </a:lnTo>
                  <a:lnTo>
                    <a:pt x="798" y="616"/>
                  </a:lnTo>
                  <a:lnTo>
                    <a:pt x="812" y="610"/>
                  </a:lnTo>
                  <a:lnTo>
                    <a:pt x="828" y="604"/>
                  </a:lnTo>
                  <a:lnTo>
                    <a:pt x="840" y="598"/>
                  </a:lnTo>
                  <a:lnTo>
                    <a:pt x="854" y="590"/>
                  </a:lnTo>
                  <a:lnTo>
                    <a:pt x="864" y="580"/>
                  </a:lnTo>
                  <a:lnTo>
                    <a:pt x="876" y="570"/>
                  </a:lnTo>
                  <a:lnTo>
                    <a:pt x="884" y="558"/>
                  </a:lnTo>
                  <a:lnTo>
                    <a:pt x="890" y="544"/>
                  </a:lnTo>
                  <a:lnTo>
                    <a:pt x="896" y="530"/>
                  </a:lnTo>
                  <a:lnTo>
                    <a:pt x="900" y="514"/>
                  </a:lnTo>
                  <a:lnTo>
                    <a:pt x="902" y="498"/>
                  </a:lnTo>
                  <a:lnTo>
                    <a:pt x="900" y="480"/>
                  </a:lnTo>
                  <a:lnTo>
                    <a:pt x="900" y="480"/>
                  </a:lnTo>
                  <a:lnTo>
                    <a:pt x="910" y="506"/>
                  </a:lnTo>
                  <a:lnTo>
                    <a:pt x="916" y="530"/>
                  </a:lnTo>
                  <a:lnTo>
                    <a:pt x="916" y="530"/>
                  </a:lnTo>
                  <a:lnTo>
                    <a:pt x="920" y="556"/>
                  </a:lnTo>
                  <a:lnTo>
                    <a:pt x="920" y="582"/>
                  </a:lnTo>
                  <a:lnTo>
                    <a:pt x="918" y="606"/>
                  </a:lnTo>
                  <a:lnTo>
                    <a:pt x="914" y="628"/>
                  </a:lnTo>
                  <a:lnTo>
                    <a:pt x="906" y="648"/>
                  </a:lnTo>
                  <a:lnTo>
                    <a:pt x="896" y="666"/>
                  </a:lnTo>
                  <a:lnTo>
                    <a:pt x="884" y="684"/>
                  </a:lnTo>
                  <a:lnTo>
                    <a:pt x="872" y="698"/>
                  </a:lnTo>
                  <a:lnTo>
                    <a:pt x="858" y="710"/>
                  </a:lnTo>
                  <a:lnTo>
                    <a:pt x="842" y="720"/>
                  </a:lnTo>
                  <a:lnTo>
                    <a:pt x="826" y="728"/>
                  </a:lnTo>
                  <a:lnTo>
                    <a:pt x="808" y="734"/>
                  </a:lnTo>
                  <a:lnTo>
                    <a:pt x="790" y="736"/>
                  </a:lnTo>
                  <a:lnTo>
                    <a:pt x="772" y="736"/>
                  </a:lnTo>
                  <a:lnTo>
                    <a:pt x="754" y="734"/>
                  </a:lnTo>
                  <a:lnTo>
                    <a:pt x="738" y="728"/>
                  </a:lnTo>
                  <a:lnTo>
                    <a:pt x="738" y="728"/>
                  </a:lnTo>
                  <a:lnTo>
                    <a:pt x="746" y="744"/>
                  </a:lnTo>
                  <a:lnTo>
                    <a:pt x="756" y="760"/>
                  </a:lnTo>
                  <a:lnTo>
                    <a:pt x="766" y="772"/>
                  </a:lnTo>
                  <a:lnTo>
                    <a:pt x="778" y="784"/>
                  </a:lnTo>
                  <a:lnTo>
                    <a:pt x="790" y="792"/>
                  </a:lnTo>
                  <a:lnTo>
                    <a:pt x="804" y="800"/>
                  </a:lnTo>
                  <a:lnTo>
                    <a:pt x="820" y="804"/>
                  </a:lnTo>
                  <a:lnTo>
                    <a:pt x="838" y="804"/>
                  </a:lnTo>
                  <a:lnTo>
                    <a:pt x="838" y="804"/>
                  </a:lnTo>
                  <a:lnTo>
                    <a:pt x="820" y="818"/>
                  </a:lnTo>
                  <a:lnTo>
                    <a:pt x="810" y="822"/>
                  </a:lnTo>
                  <a:lnTo>
                    <a:pt x="800" y="826"/>
                  </a:lnTo>
                  <a:lnTo>
                    <a:pt x="788" y="828"/>
                  </a:lnTo>
                  <a:lnTo>
                    <a:pt x="776" y="828"/>
                  </a:lnTo>
                  <a:lnTo>
                    <a:pt x="766" y="828"/>
                  </a:lnTo>
                  <a:lnTo>
                    <a:pt x="752" y="826"/>
                  </a:lnTo>
                  <a:lnTo>
                    <a:pt x="740" y="824"/>
                  </a:lnTo>
                  <a:lnTo>
                    <a:pt x="728" y="820"/>
                  </a:lnTo>
                  <a:lnTo>
                    <a:pt x="700" y="808"/>
                  </a:lnTo>
                  <a:lnTo>
                    <a:pt x="672" y="790"/>
                  </a:lnTo>
                  <a:lnTo>
                    <a:pt x="642" y="766"/>
                  </a:lnTo>
                  <a:lnTo>
                    <a:pt x="642" y="766"/>
                  </a:lnTo>
                  <a:lnTo>
                    <a:pt x="650" y="792"/>
                  </a:lnTo>
                  <a:lnTo>
                    <a:pt x="660" y="814"/>
                  </a:lnTo>
                  <a:lnTo>
                    <a:pt x="672" y="834"/>
                  </a:lnTo>
                  <a:lnTo>
                    <a:pt x="686" y="852"/>
                  </a:lnTo>
                  <a:lnTo>
                    <a:pt x="700" y="866"/>
                  </a:lnTo>
                  <a:lnTo>
                    <a:pt x="716" y="878"/>
                  </a:lnTo>
                  <a:lnTo>
                    <a:pt x="732" y="888"/>
                  </a:lnTo>
                  <a:lnTo>
                    <a:pt x="748" y="896"/>
                  </a:lnTo>
                  <a:lnTo>
                    <a:pt x="764" y="900"/>
                  </a:lnTo>
                  <a:lnTo>
                    <a:pt x="780" y="904"/>
                  </a:lnTo>
                  <a:lnTo>
                    <a:pt x="794" y="908"/>
                  </a:lnTo>
                  <a:lnTo>
                    <a:pt x="810" y="908"/>
                  </a:lnTo>
                  <a:lnTo>
                    <a:pt x="834" y="906"/>
                  </a:lnTo>
                  <a:lnTo>
                    <a:pt x="854" y="902"/>
                  </a:lnTo>
                  <a:lnTo>
                    <a:pt x="854" y="902"/>
                  </a:lnTo>
                  <a:lnTo>
                    <a:pt x="848" y="908"/>
                  </a:lnTo>
                  <a:lnTo>
                    <a:pt x="842" y="912"/>
                  </a:lnTo>
                  <a:lnTo>
                    <a:pt x="830" y="922"/>
                  </a:lnTo>
                  <a:lnTo>
                    <a:pt x="814" y="934"/>
                  </a:lnTo>
                  <a:lnTo>
                    <a:pt x="806" y="942"/>
                  </a:lnTo>
                  <a:lnTo>
                    <a:pt x="798" y="954"/>
                  </a:lnTo>
                  <a:lnTo>
                    <a:pt x="798" y="954"/>
                  </a:lnTo>
                  <a:lnTo>
                    <a:pt x="816" y="954"/>
                  </a:lnTo>
                  <a:lnTo>
                    <a:pt x="834" y="952"/>
                  </a:lnTo>
                  <a:lnTo>
                    <a:pt x="852" y="950"/>
                  </a:lnTo>
                  <a:lnTo>
                    <a:pt x="868" y="946"/>
                  </a:lnTo>
                  <a:lnTo>
                    <a:pt x="884" y="940"/>
                  </a:lnTo>
                  <a:lnTo>
                    <a:pt x="900" y="932"/>
                  </a:lnTo>
                  <a:lnTo>
                    <a:pt x="914" y="924"/>
                  </a:lnTo>
                  <a:lnTo>
                    <a:pt x="928" y="914"/>
                  </a:lnTo>
                  <a:lnTo>
                    <a:pt x="942" y="902"/>
                  </a:lnTo>
                  <a:lnTo>
                    <a:pt x="954" y="890"/>
                  </a:lnTo>
                  <a:lnTo>
                    <a:pt x="966" y="876"/>
                  </a:lnTo>
                  <a:lnTo>
                    <a:pt x="978" y="860"/>
                  </a:lnTo>
                  <a:lnTo>
                    <a:pt x="988" y="844"/>
                  </a:lnTo>
                  <a:lnTo>
                    <a:pt x="998" y="824"/>
                  </a:lnTo>
                  <a:lnTo>
                    <a:pt x="1006" y="806"/>
                  </a:lnTo>
                  <a:lnTo>
                    <a:pt x="1014" y="784"/>
                  </a:lnTo>
                  <a:lnTo>
                    <a:pt x="1014" y="784"/>
                  </a:lnTo>
                  <a:lnTo>
                    <a:pt x="1018" y="756"/>
                  </a:lnTo>
                  <a:lnTo>
                    <a:pt x="1020" y="728"/>
                  </a:lnTo>
                  <a:lnTo>
                    <a:pt x="1020" y="700"/>
                  </a:lnTo>
                  <a:lnTo>
                    <a:pt x="1020" y="676"/>
                  </a:lnTo>
                  <a:lnTo>
                    <a:pt x="1020" y="676"/>
                  </a:lnTo>
                  <a:lnTo>
                    <a:pt x="1020" y="654"/>
                  </a:lnTo>
                  <a:lnTo>
                    <a:pt x="1016" y="630"/>
                  </a:lnTo>
                  <a:lnTo>
                    <a:pt x="1012" y="604"/>
                  </a:lnTo>
                  <a:lnTo>
                    <a:pt x="1004" y="576"/>
                  </a:lnTo>
                  <a:lnTo>
                    <a:pt x="986" y="520"/>
                  </a:lnTo>
                  <a:lnTo>
                    <a:pt x="962" y="460"/>
                  </a:lnTo>
                  <a:lnTo>
                    <a:pt x="962" y="460"/>
                  </a:lnTo>
                  <a:lnTo>
                    <a:pt x="936" y="398"/>
                  </a:lnTo>
                  <a:lnTo>
                    <a:pt x="914" y="338"/>
                  </a:lnTo>
                  <a:lnTo>
                    <a:pt x="914" y="338"/>
                  </a:lnTo>
                  <a:lnTo>
                    <a:pt x="924" y="354"/>
                  </a:lnTo>
                  <a:lnTo>
                    <a:pt x="938" y="372"/>
                  </a:lnTo>
                  <a:lnTo>
                    <a:pt x="968" y="406"/>
                  </a:lnTo>
                  <a:lnTo>
                    <a:pt x="1006" y="442"/>
                  </a:lnTo>
                  <a:lnTo>
                    <a:pt x="1046" y="476"/>
                  </a:lnTo>
                  <a:lnTo>
                    <a:pt x="1086" y="510"/>
                  </a:lnTo>
                  <a:lnTo>
                    <a:pt x="1126" y="540"/>
                  </a:lnTo>
                  <a:lnTo>
                    <a:pt x="1190" y="584"/>
                  </a:lnTo>
                  <a:lnTo>
                    <a:pt x="1190" y="584"/>
                  </a:lnTo>
                  <a:lnTo>
                    <a:pt x="1200" y="592"/>
                  </a:lnTo>
                  <a:lnTo>
                    <a:pt x="1216" y="598"/>
                  </a:lnTo>
                  <a:lnTo>
                    <a:pt x="1252" y="612"/>
                  </a:lnTo>
                  <a:lnTo>
                    <a:pt x="1288" y="624"/>
                  </a:lnTo>
                  <a:lnTo>
                    <a:pt x="1318" y="630"/>
                  </a:lnTo>
                  <a:lnTo>
                    <a:pt x="1318" y="630"/>
                  </a:lnTo>
                  <a:lnTo>
                    <a:pt x="1400" y="642"/>
                  </a:lnTo>
                  <a:lnTo>
                    <a:pt x="1478" y="650"/>
                  </a:lnTo>
                  <a:lnTo>
                    <a:pt x="1548" y="652"/>
                  </a:lnTo>
                  <a:lnTo>
                    <a:pt x="1612" y="650"/>
                  </a:lnTo>
                  <a:lnTo>
                    <a:pt x="1642" y="646"/>
                  </a:lnTo>
                  <a:lnTo>
                    <a:pt x="1670" y="642"/>
                  </a:lnTo>
                  <a:lnTo>
                    <a:pt x="1696" y="638"/>
                  </a:lnTo>
                  <a:lnTo>
                    <a:pt x="1720" y="632"/>
                  </a:lnTo>
                  <a:lnTo>
                    <a:pt x="1744" y="624"/>
                  </a:lnTo>
                  <a:lnTo>
                    <a:pt x="1766" y="616"/>
                  </a:lnTo>
                  <a:lnTo>
                    <a:pt x="1788" y="608"/>
                  </a:lnTo>
                  <a:lnTo>
                    <a:pt x="1808" y="598"/>
                  </a:lnTo>
                  <a:lnTo>
                    <a:pt x="1826" y="588"/>
                  </a:lnTo>
                  <a:lnTo>
                    <a:pt x="1842" y="576"/>
                  </a:lnTo>
                  <a:lnTo>
                    <a:pt x="1858" y="564"/>
                  </a:lnTo>
                  <a:lnTo>
                    <a:pt x="1872" y="552"/>
                  </a:lnTo>
                  <a:lnTo>
                    <a:pt x="1886" y="538"/>
                  </a:lnTo>
                  <a:lnTo>
                    <a:pt x="1898" y="524"/>
                  </a:lnTo>
                  <a:lnTo>
                    <a:pt x="1908" y="510"/>
                  </a:lnTo>
                  <a:lnTo>
                    <a:pt x="1918" y="494"/>
                  </a:lnTo>
                  <a:lnTo>
                    <a:pt x="1926" y="478"/>
                  </a:lnTo>
                  <a:lnTo>
                    <a:pt x="1934" y="462"/>
                  </a:lnTo>
                  <a:lnTo>
                    <a:pt x="1946" y="428"/>
                  </a:lnTo>
                  <a:lnTo>
                    <a:pt x="1954" y="392"/>
                  </a:lnTo>
                  <a:lnTo>
                    <a:pt x="1956" y="356"/>
                  </a:lnTo>
                  <a:lnTo>
                    <a:pt x="1956" y="356"/>
                  </a:lnTo>
                  <a:lnTo>
                    <a:pt x="1966" y="372"/>
                  </a:lnTo>
                  <a:lnTo>
                    <a:pt x="1978" y="386"/>
                  </a:lnTo>
                  <a:lnTo>
                    <a:pt x="1988" y="398"/>
                  </a:lnTo>
                  <a:lnTo>
                    <a:pt x="2000" y="408"/>
                  </a:lnTo>
                  <a:lnTo>
                    <a:pt x="2012" y="416"/>
                  </a:lnTo>
                  <a:lnTo>
                    <a:pt x="2026" y="422"/>
                  </a:lnTo>
                  <a:lnTo>
                    <a:pt x="2038" y="426"/>
                  </a:lnTo>
                  <a:lnTo>
                    <a:pt x="2050" y="430"/>
                  </a:lnTo>
                  <a:lnTo>
                    <a:pt x="2064" y="430"/>
                  </a:lnTo>
                  <a:lnTo>
                    <a:pt x="2076" y="430"/>
                  </a:lnTo>
                  <a:lnTo>
                    <a:pt x="2088" y="430"/>
                  </a:lnTo>
                  <a:lnTo>
                    <a:pt x="2102" y="426"/>
                  </a:lnTo>
                  <a:lnTo>
                    <a:pt x="2124" y="418"/>
                  </a:lnTo>
                  <a:lnTo>
                    <a:pt x="2146" y="404"/>
                  </a:lnTo>
                  <a:lnTo>
                    <a:pt x="2162" y="388"/>
                  </a:lnTo>
                  <a:lnTo>
                    <a:pt x="2176" y="370"/>
                  </a:lnTo>
                  <a:lnTo>
                    <a:pt x="2182" y="362"/>
                  </a:lnTo>
                  <a:lnTo>
                    <a:pt x="2184" y="352"/>
                  </a:lnTo>
                  <a:lnTo>
                    <a:pt x="2188" y="342"/>
                  </a:lnTo>
                  <a:lnTo>
                    <a:pt x="2188" y="332"/>
                  </a:lnTo>
                  <a:lnTo>
                    <a:pt x="2188" y="322"/>
                  </a:lnTo>
                  <a:lnTo>
                    <a:pt x="2184" y="312"/>
                  </a:lnTo>
                  <a:lnTo>
                    <a:pt x="2180" y="302"/>
                  </a:lnTo>
                  <a:lnTo>
                    <a:pt x="2174" y="292"/>
                  </a:lnTo>
                  <a:lnTo>
                    <a:pt x="2166" y="284"/>
                  </a:lnTo>
                  <a:lnTo>
                    <a:pt x="2156" y="276"/>
                  </a:lnTo>
                  <a:lnTo>
                    <a:pt x="2144" y="268"/>
                  </a:lnTo>
                  <a:lnTo>
                    <a:pt x="2128" y="260"/>
                  </a:lnTo>
                  <a:lnTo>
                    <a:pt x="2128" y="260"/>
                  </a:lnTo>
                  <a:lnTo>
                    <a:pt x="2140" y="270"/>
                  </a:lnTo>
                  <a:lnTo>
                    <a:pt x="2148" y="280"/>
                  </a:lnTo>
                  <a:lnTo>
                    <a:pt x="2154" y="290"/>
                  </a:lnTo>
                  <a:lnTo>
                    <a:pt x="2156" y="300"/>
                  </a:lnTo>
                  <a:lnTo>
                    <a:pt x="2154" y="310"/>
                  </a:lnTo>
                  <a:lnTo>
                    <a:pt x="2152" y="318"/>
                  </a:lnTo>
                  <a:lnTo>
                    <a:pt x="2146" y="326"/>
                  </a:lnTo>
                  <a:lnTo>
                    <a:pt x="2140" y="334"/>
                  </a:lnTo>
                  <a:lnTo>
                    <a:pt x="2130" y="340"/>
                  </a:lnTo>
                  <a:lnTo>
                    <a:pt x="2120" y="344"/>
                  </a:lnTo>
                  <a:lnTo>
                    <a:pt x="2108" y="346"/>
                  </a:lnTo>
                  <a:lnTo>
                    <a:pt x="2096" y="348"/>
                  </a:lnTo>
                  <a:lnTo>
                    <a:pt x="2084" y="348"/>
                  </a:lnTo>
                  <a:lnTo>
                    <a:pt x="2070" y="346"/>
                  </a:lnTo>
                  <a:lnTo>
                    <a:pt x="2058" y="342"/>
                  </a:lnTo>
                  <a:lnTo>
                    <a:pt x="2046" y="336"/>
                  </a:lnTo>
                  <a:lnTo>
                    <a:pt x="2046" y="336"/>
                  </a:lnTo>
                  <a:lnTo>
                    <a:pt x="2056" y="330"/>
                  </a:lnTo>
                  <a:lnTo>
                    <a:pt x="2064" y="324"/>
                  </a:lnTo>
                  <a:lnTo>
                    <a:pt x="2072" y="316"/>
                  </a:lnTo>
                  <a:lnTo>
                    <a:pt x="2078" y="308"/>
                  </a:lnTo>
                  <a:lnTo>
                    <a:pt x="2082" y="300"/>
                  </a:lnTo>
                  <a:lnTo>
                    <a:pt x="2084" y="292"/>
                  </a:lnTo>
                  <a:lnTo>
                    <a:pt x="2086" y="282"/>
                  </a:lnTo>
                  <a:lnTo>
                    <a:pt x="2084" y="272"/>
                  </a:lnTo>
                  <a:lnTo>
                    <a:pt x="2084" y="272"/>
                  </a:lnTo>
                  <a:lnTo>
                    <a:pt x="2072" y="280"/>
                  </a:lnTo>
                  <a:lnTo>
                    <a:pt x="2060" y="286"/>
                  </a:lnTo>
                  <a:lnTo>
                    <a:pt x="2050" y="288"/>
                  </a:lnTo>
                  <a:lnTo>
                    <a:pt x="2040" y="288"/>
                  </a:lnTo>
                  <a:lnTo>
                    <a:pt x="2032" y="288"/>
                  </a:lnTo>
                  <a:lnTo>
                    <a:pt x="2024" y="284"/>
                  </a:lnTo>
                  <a:lnTo>
                    <a:pt x="2016" y="280"/>
                  </a:lnTo>
                  <a:lnTo>
                    <a:pt x="2010" y="276"/>
                  </a:lnTo>
                  <a:lnTo>
                    <a:pt x="2000" y="262"/>
                  </a:lnTo>
                  <a:lnTo>
                    <a:pt x="1994" y="248"/>
                  </a:lnTo>
                  <a:lnTo>
                    <a:pt x="1992" y="234"/>
                  </a:lnTo>
                  <a:lnTo>
                    <a:pt x="1992" y="222"/>
                  </a:lnTo>
                  <a:lnTo>
                    <a:pt x="1992" y="222"/>
                  </a:lnTo>
                  <a:lnTo>
                    <a:pt x="1998" y="202"/>
                  </a:lnTo>
                  <a:lnTo>
                    <a:pt x="2006" y="188"/>
                  </a:lnTo>
                  <a:lnTo>
                    <a:pt x="2018" y="178"/>
                  </a:lnTo>
                  <a:lnTo>
                    <a:pt x="2030" y="172"/>
                  </a:lnTo>
                  <a:lnTo>
                    <a:pt x="2042" y="170"/>
                  </a:lnTo>
                  <a:lnTo>
                    <a:pt x="2054" y="172"/>
                  </a:lnTo>
                  <a:lnTo>
                    <a:pt x="2064" y="176"/>
                  </a:lnTo>
                  <a:lnTo>
                    <a:pt x="2072" y="184"/>
                  </a:lnTo>
                  <a:lnTo>
                    <a:pt x="2072" y="184"/>
                  </a:lnTo>
                  <a:lnTo>
                    <a:pt x="2072" y="158"/>
                  </a:lnTo>
                  <a:lnTo>
                    <a:pt x="2078" y="134"/>
                  </a:lnTo>
                  <a:lnTo>
                    <a:pt x="2086" y="116"/>
                  </a:lnTo>
                  <a:lnTo>
                    <a:pt x="2096" y="100"/>
                  </a:lnTo>
                  <a:lnTo>
                    <a:pt x="2108" y="90"/>
                  </a:lnTo>
                  <a:lnTo>
                    <a:pt x="2122" y="82"/>
                  </a:lnTo>
                  <a:lnTo>
                    <a:pt x="2138" y="78"/>
                  </a:lnTo>
                  <a:lnTo>
                    <a:pt x="2154" y="76"/>
                  </a:lnTo>
                  <a:lnTo>
                    <a:pt x="2172" y="78"/>
                  </a:lnTo>
                  <a:lnTo>
                    <a:pt x="2188" y="82"/>
                  </a:lnTo>
                  <a:lnTo>
                    <a:pt x="2204" y="88"/>
                  </a:lnTo>
                  <a:lnTo>
                    <a:pt x="2218" y="96"/>
                  </a:lnTo>
                  <a:lnTo>
                    <a:pt x="2230" y="106"/>
                  </a:lnTo>
                  <a:lnTo>
                    <a:pt x="2240" y="116"/>
                  </a:lnTo>
                  <a:lnTo>
                    <a:pt x="2248" y="128"/>
                  </a:lnTo>
                  <a:lnTo>
                    <a:pt x="2252" y="142"/>
                  </a:lnTo>
                  <a:lnTo>
                    <a:pt x="2252" y="142"/>
                  </a:lnTo>
                  <a:lnTo>
                    <a:pt x="2258" y="138"/>
                  </a:lnTo>
                  <a:lnTo>
                    <a:pt x="2264" y="134"/>
                  </a:lnTo>
                  <a:lnTo>
                    <a:pt x="2270" y="128"/>
                  </a:lnTo>
                  <a:lnTo>
                    <a:pt x="2276" y="120"/>
                  </a:lnTo>
                  <a:lnTo>
                    <a:pt x="2280" y="108"/>
                  </a:lnTo>
                  <a:lnTo>
                    <a:pt x="2280" y="92"/>
                  </a:lnTo>
                  <a:lnTo>
                    <a:pt x="2276" y="76"/>
                  </a:lnTo>
                  <a:lnTo>
                    <a:pt x="2276" y="76"/>
                  </a:lnTo>
                  <a:lnTo>
                    <a:pt x="2292" y="80"/>
                  </a:lnTo>
                  <a:lnTo>
                    <a:pt x="2306" y="86"/>
                  </a:lnTo>
                  <a:lnTo>
                    <a:pt x="2320" y="96"/>
                  </a:lnTo>
                  <a:lnTo>
                    <a:pt x="2334" y="108"/>
                  </a:lnTo>
                  <a:lnTo>
                    <a:pt x="2344" y="122"/>
                  </a:lnTo>
                  <a:lnTo>
                    <a:pt x="2352" y="138"/>
                  </a:lnTo>
                  <a:lnTo>
                    <a:pt x="2356" y="156"/>
                  </a:lnTo>
                  <a:lnTo>
                    <a:pt x="2356" y="172"/>
                  </a:lnTo>
                  <a:lnTo>
                    <a:pt x="2356" y="172"/>
                  </a:lnTo>
                  <a:lnTo>
                    <a:pt x="2352" y="190"/>
                  </a:lnTo>
                  <a:lnTo>
                    <a:pt x="2348" y="196"/>
                  </a:lnTo>
                  <a:lnTo>
                    <a:pt x="2344" y="204"/>
                  </a:lnTo>
                  <a:lnTo>
                    <a:pt x="2338" y="208"/>
                  </a:lnTo>
                  <a:lnTo>
                    <a:pt x="2332" y="214"/>
                  </a:lnTo>
                  <a:lnTo>
                    <a:pt x="2324" y="216"/>
                  </a:lnTo>
                  <a:lnTo>
                    <a:pt x="2318" y="218"/>
                  </a:lnTo>
                  <a:lnTo>
                    <a:pt x="2310" y="220"/>
                  </a:lnTo>
                  <a:lnTo>
                    <a:pt x="2300" y="218"/>
                  </a:lnTo>
                  <a:lnTo>
                    <a:pt x="2292" y="216"/>
                  </a:lnTo>
                  <a:lnTo>
                    <a:pt x="2282" y="210"/>
                  </a:lnTo>
                  <a:lnTo>
                    <a:pt x="2272" y="204"/>
                  </a:lnTo>
                  <a:lnTo>
                    <a:pt x="2262" y="194"/>
                  </a:lnTo>
                  <a:lnTo>
                    <a:pt x="2252" y="184"/>
                  </a:lnTo>
                  <a:lnTo>
                    <a:pt x="2242" y="170"/>
                  </a:lnTo>
                  <a:lnTo>
                    <a:pt x="2242" y="170"/>
                  </a:lnTo>
                  <a:lnTo>
                    <a:pt x="2234" y="198"/>
                  </a:lnTo>
                  <a:lnTo>
                    <a:pt x="2230" y="222"/>
                  </a:lnTo>
                  <a:lnTo>
                    <a:pt x="2230" y="244"/>
                  </a:lnTo>
                  <a:lnTo>
                    <a:pt x="2232" y="262"/>
                  </a:lnTo>
                  <a:lnTo>
                    <a:pt x="2238" y="278"/>
                  </a:lnTo>
                  <a:lnTo>
                    <a:pt x="2246" y="290"/>
                  </a:lnTo>
                  <a:lnTo>
                    <a:pt x="2256" y="300"/>
                  </a:lnTo>
                  <a:lnTo>
                    <a:pt x="2266" y="306"/>
                  </a:lnTo>
                  <a:lnTo>
                    <a:pt x="2278" y="310"/>
                  </a:lnTo>
                  <a:lnTo>
                    <a:pt x="2292" y="312"/>
                  </a:lnTo>
                  <a:lnTo>
                    <a:pt x="2306" y="312"/>
                  </a:lnTo>
                  <a:lnTo>
                    <a:pt x="2320" y="310"/>
                  </a:lnTo>
                  <a:lnTo>
                    <a:pt x="2334" y="304"/>
                  </a:lnTo>
                  <a:lnTo>
                    <a:pt x="2348" y="298"/>
                  </a:lnTo>
                  <a:lnTo>
                    <a:pt x="2360" y="290"/>
                  </a:lnTo>
                  <a:lnTo>
                    <a:pt x="2372" y="280"/>
                  </a:lnTo>
                  <a:lnTo>
                    <a:pt x="2372" y="280"/>
                  </a:lnTo>
                  <a:lnTo>
                    <a:pt x="2378" y="272"/>
                  </a:lnTo>
                  <a:lnTo>
                    <a:pt x="2384" y="262"/>
                  </a:lnTo>
                  <a:lnTo>
                    <a:pt x="2390" y="252"/>
                  </a:lnTo>
                  <a:lnTo>
                    <a:pt x="2394" y="240"/>
                  </a:lnTo>
                  <a:lnTo>
                    <a:pt x="2400" y="214"/>
                  </a:lnTo>
                  <a:lnTo>
                    <a:pt x="2402" y="188"/>
                  </a:lnTo>
                  <a:lnTo>
                    <a:pt x="2400" y="174"/>
                  </a:lnTo>
                  <a:lnTo>
                    <a:pt x="2398" y="158"/>
                  </a:lnTo>
                  <a:lnTo>
                    <a:pt x="2394" y="144"/>
                  </a:lnTo>
                  <a:lnTo>
                    <a:pt x="2390" y="130"/>
                  </a:lnTo>
                  <a:lnTo>
                    <a:pt x="2384" y="116"/>
                  </a:lnTo>
                  <a:lnTo>
                    <a:pt x="2376" y="104"/>
                  </a:lnTo>
                  <a:lnTo>
                    <a:pt x="2366" y="90"/>
                  </a:lnTo>
                  <a:lnTo>
                    <a:pt x="2356" y="78"/>
                  </a:lnTo>
                  <a:lnTo>
                    <a:pt x="2356" y="78"/>
                  </a:lnTo>
                  <a:lnTo>
                    <a:pt x="2368" y="78"/>
                  </a:lnTo>
                  <a:lnTo>
                    <a:pt x="2378" y="82"/>
                  </a:lnTo>
                  <a:lnTo>
                    <a:pt x="2386" y="88"/>
                  </a:lnTo>
                  <a:lnTo>
                    <a:pt x="2394" y="98"/>
                  </a:lnTo>
                  <a:lnTo>
                    <a:pt x="2410" y="128"/>
                  </a:lnTo>
                  <a:lnTo>
                    <a:pt x="2420" y="146"/>
                  </a:lnTo>
                  <a:lnTo>
                    <a:pt x="2434" y="168"/>
                  </a:lnTo>
                  <a:lnTo>
                    <a:pt x="2434" y="168"/>
                  </a:lnTo>
                  <a:lnTo>
                    <a:pt x="2448" y="184"/>
                  </a:lnTo>
                  <a:lnTo>
                    <a:pt x="2462" y="194"/>
                  </a:lnTo>
                  <a:lnTo>
                    <a:pt x="2478" y="202"/>
                  </a:lnTo>
                  <a:lnTo>
                    <a:pt x="2494" y="206"/>
                  </a:lnTo>
                  <a:lnTo>
                    <a:pt x="2510" y="206"/>
                  </a:lnTo>
                  <a:lnTo>
                    <a:pt x="2528" y="204"/>
                  </a:lnTo>
                  <a:lnTo>
                    <a:pt x="2544" y="200"/>
                  </a:lnTo>
                  <a:lnTo>
                    <a:pt x="2562" y="192"/>
                  </a:lnTo>
                  <a:lnTo>
                    <a:pt x="2576" y="184"/>
                  </a:lnTo>
                  <a:lnTo>
                    <a:pt x="2590" y="174"/>
                  </a:lnTo>
                  <a:lnTo>
                    <a:pt x="2604" y="162"/>
                  </a:lnTo>
                  <a:lnTo>
                    <a:pt x="2614" y="150"/>
                  </a:lnTo>
                  <a:lnTo>
                    <a:pt x="2622" y="136"/>
                  </a:lnTo>
                  <a:lnTo>
                    <a:pt x="2628" y="122"/>
                  </a:lnTo>
                  <a:lnTo>
                    <a:pt x="2632" y="108"/>
                  </a:lnTo>
                  <a:lnTo>
                    <a:pt x="2632" y="94"/>
                  </a:lnTo>
                  <a:lnTo>
                    <a:pt x="2632" y="94"/>
                  </a:lnTo>
                  <a:lnTo>
                    <a:pt x="2628" y="80"/>
                  </a:lnTo>
                  <a:lnTo>
                    <a:pt x="2624" y="68"/>
                  </a:lnTo>
                  <a:lnTo>
                    <a:pt x="2618" y="56"/>
                  </a:lnTo>
                  <a:lnTo>
                    <a:pt x="2610" y="46"/>
                  </a:lnTo>
                  <a:lnTo>
                    <a:pt x="2600" y="38"/>
                  </a:lnTo>
                  <a:lnTo>
                    <a:pt x="2590" y="30"/>
                  </a:lnTo>
                  <a:lnTo>
                    <a:pt x="2580" y="26"/>
                  </a:lnTo>
                  <a:lnTo>
                    <a:pt x="2568" y="22"/>
                  </a:lnTo>
                  <a:lnTo>
                    <a:pt x="2556" y="18"/>
                  </a:lnTo>
                  <a:lnTo>
                    <a:pt x="2542" y="18"/>
                  </a:lnTo>
                  <a:lnTo>
                    <a:pt x="2530" y="18"/>
                  </a:lnTo>
                  <a:lnTo>
                    <a:pt x="2516" y="20"/>
                  </a:lnTo>
                  <a:lnTo>
                    <a:pt x="2504" y="24"/>
                  </a:lnTo>
                  <a:lnTo>
                    <a:pt x="2490" y="28"/>
                  </a:lnTo>
                  <a:lnTo>
                    <a:pt x="2478" y="36"/>
                  </a:lnTo>
                  <a:lnTo>
                    <a:pt x="2466" y="44"/>
                  </a:lnTo>
                  <a:lnTo>
                    <a:pt x="2466" y="44"/>
                  </a:lnTo>
                  <a:lnTo>
                    <a:pt x="2482" y="46"/>
                  </a:lnTo>
                  <a:lnTo>
                    <a:pt x="2496" y="50"/>
                  </a:lnTo>
                  <a:lnTo>
                    <a:pt x="2510" y="58"/>
                  </a:lnTo>
                  <a:lnTo>
                    <a:pt x="2520" y="68"/>
                  </a:lnTo>
                  <a:lnTo>
                    <a:pt x="2526" y="78"/>
                  </a:lnTo>
                  <a:lnTo>
                    <a:pt x="2528" y="86"/>
                  </a:lnTo>
                  <a:lnTo>
                    <a:pt x="2530" y="92"/>
                  </a:lnTo>
                  <a:lnTo>
                    <a:pt x="2528" y="100"/>
                  </a:lnTo>
                  <a:lnTo>
                    <a:pt x="2528" y="106"/>
                  </a:lnTo>
                  <a:lnTo>
                    <a:pt x="2524" y="114"/>
                  </a:lnTo>
                  <a:lnTo>
                    <a:pt x="2520" y="122"/>
                  </a:lnTo>
                  <a:lnTo>
                    <a:pt x="2520" y="122"/>
                  </a:lnTo>
                  <a:lnTo>
                    <a:pt x="2514" y="128"/>
                  </a:lnTo>
                  <a:lnTo>
                    <a:pt x="2508" y="134"/>
                  </a:lnTo>
                  <a:lnTo>
                    <a:pt x="2500" y="138"/>
                  </a:lnTo>
                  <a:lnTo>
                    <a:pt x="2494" y="140"/>
                  </a:lnTo>
                  <a:lnTo>
                    <a:pt x="2486" y="142"/>
                  </a:lnTo>
                  <a:lnTo>
                    <a:pt x="2478" y="140"/>
                  </a:lnTo>
                  <a:lnTo>
                    <a:pt x="2464" y="136"/>
                  </a:lnTo>
                  <a:lnTo>
                    <a:pt x="2450" y="128"/>
                  </a:lnTo>
                  <a:lnTo>
                    <a:pt x="2440" y="116"/>
                  </a:lnTo>
                  <a:lnTo>
                    <a:pt x="2430" y="100"/>
                  </a:lnTo>
                  <a:lnTo>
                    <a:pt x="2424" y="84"/>
                  </a:lnTo>
                  <a:lnTo>
                    <a:pt x="2424" y="84"/>
                  </a:lnTo>
                  <a:lnTo>
                    <a:pt x="2422" y="72"/>
                  </a:lnTo>
                  <a:lnTo>
                    <a:pt x="2418" y="58"/>
                  </a:lnTo>
                  <a:lnTo>
                    <a:pt x="2412" y="46"/>
                  </a:lnTo>
                  <a:lnTo>
                    <a:pt x="2404" y="34"/>
                  </a:lnTo>
                  <a:lnTo>
                    <a:pt x="2394" y="26"/>
                  </a:lnTo>
                  <a:lnTo>
                    <a:pt x="2388" y="24"/>
                  </a:lnTo>
                  <a:lnTo>
                    <a:pt x="2382" y="24"/>
                  </a:lnTo>
                  <a:lnTo>
                    <a:pt x="2376" y="24"/>
                  </a:lnTo>
                  <a:lnTo>
                    <a:pt x="2368" y="28"/>
                  </a:lnTo>
                  <a:lnTo>
                    <a:pt x="2360" y="32"/>
                  </a:lnTo>
                  <a:lnTo>
                    <a:pt x="2352" y="38"/>
                  </a:lnTo>
                  <a:lnTo>
                    <a:pt x="2352" y="38"/>
                  </a:lnTo>
                  <a:lnTo>
                    <a:pt x="2326" y="28"/>
                  </a:lnTo>
                  <a:lnTo>
                    <a:pt x="2300" y="20"/>
                  </a:lnTo>
                  <a:lnTo>
                    <a:pt x="2272" y="14"/>
                  </a:lnTo>
                  <a:lnTo>
                    <a:pt x="2242" y="12"/>
                  </a:lnTo>
                  <a:lnTo>
                    <a:pt x="2212" y="12"/>
                  </a:lnTo>
                  <a:lnTo>
                    <a:pt x="2182" y="16"/>
                  </a:lnTo>
                  <a:lnTo>
                    <a:pt x="2152" y="22"/>
                  </a:lnTo>
                  <a:lnTo>
                    <a:pt x="2122" y="32"/>
                  </a:lnTo>
                  <a:lnTo>
                    <a:pt x="2092" y="46"/>
                  </a:lnTo>
                  <a:lnTo>
                    <a:pt x="2064" y="64"/>
                  </a:lnTo>
                  <a:lnTo>
                    <a:pt x="2038" y="84"/>
                  </a:lnTo>
                  <a:lnTo>
                    <a:pt x="2012" y="110"/>
                  </a:lnTo>
                  <a:lnTo>
                    <a:pt x="1990" y="138"/>
                  </a:lnTo>
                  <a:lnTo>
                    <a:pt x="1970" y="172"/>
                  </a:lnTo>
                  <a:lnTo>
                    <a:pt x="1954" y="208"/>
                  </a:lnTo>
                  <a:lnTo>
                    <a:pt x="1940" y="250"/>
                  </a:lnTo>
                  <a:lnTo>
                    <a:pt x="1940" y="250"/>
                  </a:lnTo>
                  <a:lnTo>
                    <a:pt x="1930" y="214"/>
                  </a:lnTo>
                  <a:lnTo>
                    <a:pt x="1916" y="182"/>
                  </a:lnTo>
                  <a:lnTo>
                    <a:pt x="1898" y="154"/>
                  </a:lnTo>
                  <a:lnTo>
                    <a:pt x="1878" y="128"/>
                  </a:lnTo>
                  <a:lnTo>
                    <a:pt x="1856" y="106"/>
                  </a:lnTo>
                  <a:lnTo>
                    <a:pt x="1832" y="86"/>
                  </a:lnTo>
                  <a:lnTo>
                    <a:pt x="1806" y="70"/>
                  </a:lnTo>
                  <a:lnTo>
                    <a:pt x="1778" y="56"/>
                  </a:lnTo>
                  <a:lnTo>
                    <a:pt x="1750" y="46"/>
                  </a:lnTo>
                  <a:lnTo>
                    <a:pt x="1722" y="38"/>
                  </a:lnTo>
                  <a:lnTo>
                    <a:pt x="1692" y="32"/>
                  </a:lnTo>
                  <a:lnTo>
                    <a:pt x="1664" y="30"/>
                  </a:lnTo>
                  <a:lnTo>
                    <a:pt x="1636" y="30"/>
                  </a:lnTo>
                  <a:lnTo>
                    <a:pt x="1610" y="34"/>
                  </a:lnTo>
                  <a:lnTo>
                    <a:pt x="1584" y="40"/>
                  </a:lnTo>
                  <a:lnTo>
                    <a:pt x="1562" y="46"/>
                  </a:lnTo>
                  <a:lnTo>
                    <a:pt x="1562" y="46"/>
                  </a:lnTo>
                  <a:lnTo>
                    <a:pt x="1546" y="54"/>
                  </a:lnTo>
                  <a:lnTo>
                    <a:pt x="1530" y="62"/>
                  </a:lnTo>
                  <a:lnTo>
                    <a:pt x="1516" y="72"/>
                  </a:lnTo>
                  <a:lnTo>
                    <a:pt x="1504" y="84"/>
                  </a:lnTo>
                  <a:lnTo>
                    <a:pt x="1494" y="94"/>
                  </a:lnTo>
                  <a:lnTo>
                    <a:pt x="1484" y="108"/>
                  </a:lnTo>
                  <a:lnTo>
                    <a:pt x="1474" y="120"/>
                  </a:lnTo>
                  <a:lnTo>
                    <a:pt x="1468" y="134"/>
                  </a:lnTo>
                  <a:lnTo>
                    <a:pt x="1460" y="148"/>
                  </a:lnTo>
                  <a:lnTo>
                    <a:pt x="1456" y="162"/>
                  </a:lnTo>
                  <a:lnTo>
                    <a:pt x="1452" y="178"/>
                  </a:lnTo>
                  <a:lnTo>
                    <a:pt x="1450" y="192"/>
                  </a:lnTo>
                  <a:lnTo>
                    <a:pt x="1450" y="206"/>
                  </a:lnTo>
                  <a:lnTo>
                    <a:pt x="1450" y="220"/>
                  </a:lnTo>
                  <a:lnTo>
                    <a:pt x="1454" y="234"/>
                  </a:lnTo>
                  <a:lnTo>
                    <a:pt x="1458" y="246"/>
                  </a:lnTo>
                  <a:lnTo>
                    <a:pt x="1458" y="246"/>
                  </a:lnTo>
                  <a:lnTo>
                    <a:pt x="1462" y="258"/>
                  </a:lnTo>
                  <a:lnTo>
                    <a:pt x="1470" y="270"/>
                  </a:lnTo>
                  <a:lnTo>
                    <a:pt x="1478" y="280"/>
                  </a:lnTo>
                  <a:lnTo>
                    <a:pt x="1486" y="288"/>
                  </a:lnTo>
                  <a:lnTo>
                    <a:pt x="1498" y="296"/>
                  </a:lnTo>
                  <a:lnTo>
                    <a:pt x="1508" y="302"/>
                  </a:lnTo>
                  <a:lnTo>
                    <a:pt x="1520" y="308"/>
                  </a:lnTo>
                  <a:lnTo>
                    <a:pt x="1532" y="312"/>
                  </a:lnTo>
                  <a:lnTo>
                    <a:pt x="1546" y="316"/>
                  </a:lnTo>
                  <a:lnTo>
                    <a:pt x="1558" y="318"/>
                  </a:lnTo>
                  <a:lnTo>
                    <a:pt x="1572" y="318"/>
                  </a:lnTo>
                  <a:lnTo>
                    <a:pt x="1584" y="318"/>
                  </a:lnTo>
                  <a:lnTo>
                    <a:pt x="1598" y="316"/>
                  </a:lnTo>
                  <a:lnTo>
                    <a:pt x="1610" y="314"/>
                  </a:lnTo>
                  <a:lnTo>
                    <a:pt x="1624" y="310"/>
                  </a:lnTo>
                  <a:lnTo>
                    <a:pt x="1636" y="304"/>
                  </a:lnTo>
                  <a:lnTo>
                    <a:pt x="1636" y="304"/>
                  </a:lnTo>
                  <a:lnTo>
                    <a:pt x="1648" y="296"/>
                  </a:lnTo>
                  <a:lnTo>
                    <a:pt x="1660" y="286"/>
                  </a:lnTo>
                  <a:lnTo>
                    <a:pt x="1668" y="276"/>
                  </a:lnTo>
                  <a:lnTo>
                    <a:pt x="1674" y="264"/>
                  </a:lnTo>
                  <a:lnTo>
                    <a:pt x="1678" y="252"/>
                  </a:lnTo>
                  <a:lnTo>
                    <a:pt x="1680" y="240"/>
                  </a:lnTo>
                  <a:lnTo>
                    <a:pt x="1678" y="228"/>
                  </a:lnTo>
                  <a:lnTo>
                    <a:pt x="1676" y="216"/>
                  </a:lnTo>
                  <a:lnTo>
                    <a:pt x="1672" y="206"/>
                  </a:lnTo>
                  <a:lnTo>
                    <a:pt x="1666" y="196"/>
                  </a:lnTo>
                  <a:lnTo>
                    <a:pt x="1658" y="188"/>
                  </a:lnTo>
                  <a:lnTo>
                    <a:pt x="1648" y="182"/>
                  </a:lnTo>
                  <a:lnTo>
                    <a:pt x="1636" y="180"/>
                  </a:lnTo>
                  <a:lnTo>
                    <a:pt x="1624" y="180"/>
                  </a:lnTo>
                  <a:lnTo>
                    <a:pt x="1610" y="182"/>
                  </a:lnTo>
                  <a:lnTo>
                    <a:pt x="1596" y="188"/>
                  </a:lnTo>
                  <a:lnTo>
                    <a:pt x="1596" y="188"/>
                  </a:lnTo>
                  <a:lnTo>
                    <a:pt x="1588" y="166"/>
                  </a:lnTo>
                  <a:lnTo>
                    <a:pt x="1586" y="148"/>
                  </a:lnTo>
                  <a:lnTo>
                    <a:pt x="1590" y="132"/>
                  </a:lnTo>
                  <a:lnTo>
                    <a:pt x="1596" y="118"/>
                  </a:lnTo>
                  <a:lnTo>
                    <a:pt x="1606" y="106"/>
                  </a:lnTo>
                  <a:lnTo>
                    <a:pt x="1620" y="96"/>
                  </a:lnTo>
                  <a:lnTo>
                    <a:pt x="1636" y="88"/>
                  </a:lnTo>
                  <a:lnTo>
                    <a:pt x="1654" y="82"/>
                  </a:lnTo>
                  <a:lnTo>
                    <a:pt x="1674" y="78"/>
                  </a:lnTo>
                  <a:lnTo>
                    <a:pt x="1696" y="78"/>
                  </a:lnTo>
                  <a:lnTo>
                    <a:pt x="1716" y="78"/>
                  </a:lnTo>
                  <a:lnTo>
                    <a:pt x="1738" y="82"/>
                  </a:lnTo>
                  <a:lnTo>
                    <a:pt x="1760" y="86"/>
                  </a:lnTo>
                  <a:lnTo>
                    <a:pt x="1780" y="94"/>
                  </a:lnTo>
                  <a:lnTo>
                    <a:pt x="1798" y="104"/>
                  </a:lnTo>
                  <a:lnTo>
                    <a:pt x="1816" y="116"/>
                  </a:lnTo>
                  <a:lnTo>
                    <a:pt x="1816" y="116"/>
                  </a:lnTo>
                  <a:lnTo>
                    <a:pt x="1798" y="116"/>
                  </a:lnTo>
                  <a:lnTo>
                    <a:pt x="1780" y="120"/>
                  </a:lnTo>
                  <a:lnTo>
                    <a:pt x="1762" y="126"/>
                  </a:lnTo>
                  <a:lnTo>
                    <a:pt x="1744" y="138"/>
                  </a:lnTo>
                  <a:lnTo>
                    <a:pt x="1738" y="144"/>
                  </a:lnTo>
                  <a:lnTo>
                    <a:pt x="1732" y="152"/>
                  </a:lnTo>
                  <a:lnTo>
                    <a:pt x="1726" y="162"/>
                  </a:lnTo>
                  <a:lnTo>
                    <a:pt x="1722" y="172"/>
                  </a:lnTo>
                  <a:lnTo>
                    <a:pt x="1720" y="182"/>
                  </a:lnTo>
                  <a:lnTo>
                    <a:pt x="1718" y="194"/>
                  </a:lnTo>
                  <a:lnTo>
                    <a:pt x="1720" y="208"/>
                  </a:lnTo>
                  <a:lnTo>
                    <a:pt x="1722" y="222"/>
                  </a:lnTo>
                  <a:lnTo>
                    <a:pt x="1722" y="222"/>
                  </a:lnTo>
                  <a:lnTo>
                    <a:pt x="1736" y="218"/>
                  </a:lnTo>
                  <a:lnTo>
                    <a:pt x="1750" y="216"/>
                  </a:lnTo>
                  <a:lnTo>
                    <a:pt x="1762" y="216"/>
                  </a:lnTo>
                  <a:lnTo>
                    <a:pt x="1774" y="218"/>
                  </a:lnTo>
                  <a:lnTo>
                    <a:pt x="1786" y="220"/>
                  </a:lnTo>
                  <a:lnTo>
                    <a:pt x="1798" y="224"/>
                  </a:lnTo>
                  <a:lnTo>
                    <a:pt x="1808" y="230"/>
                  </a:lnTo>
                  <a:lnTo>
                    <a:pt x="1818" y="236"/>
                  </a:lnTo>
                  <a:lnTo>
                    <a:pt x="1838" y="252"/>
                  </a:lnTo>
                  <a:lnTo>
                    <a:pt x="1856" y="272"/>
                  </a:lnTo>
                  <a:lnTo>
                    <a:pt x="1870" y="294"/>
                  </a:lnTo>
                  <a:lnTo>
                    <a:pt x="1882" y="318"/>
                  </a:lnTo>
                  <a:lnTo>
                    <a:pt x="1892" y="342"/>
                  </a:lnTo>
                  <a:lnTo>
                    <a:pt x="1896" y="370"/>
                  </a:lnTo>
                  <a:lnTo>
                    <a:pt x="1898" y="396"/>
                  </a:lnTo>
                  <a:lnTo>
                    <a:pt x="1896" y="422"/>
                  </a:lnTo>
                  <a:lnTo>
                    <a:pt x="1892" y="448"/>
                  </a:lnTo>
                  <a:lnTo>
                    <a:pt x="1886" y="460"/>
                  </a:lnTo>
                  <a:lnTo>
                    <a:pt x="1880" y="470"/>
                  </a:lnTo>
                  <a:lnTo>
                    <a:pt x="1874" y="482"/>
                  </a:lnTo>
                  <a:lnTo>
                    <a:pt x="1866" y="492"/>
                  </a:lnTo>
                  <a:lnTo>
                    <a:pt x="1856" y="502"/>
                  </a:lnTo>
                  <a:lnTo>
                    <a:pt x="1846" y="510"/>
                  </a:lnTo>
                  <a:lnTo>
                    <a:pt x="1846" y="510"/>
                  </a:lnTo>
                  <a:lnTo>
                    <a:pt x="1848" y="500"/>
                  </a:lnTo>
                  <a:lnTo>
                    <a:pt x="1850" y="488"/>
                  </a:lnTo>
                  <a:lnTo>
                    <a:pt x="1848" y="476"/>
                  </a:lnTo>
                  <a:lnTo>
                    <a:pt x="1846" y="464"/>
                  </a:lnTo>
                  <a:lnTo>
                    <a:pt x="1842" y="452"/>
                  </a:lnTo>
                  <a:lnTo>
                    <a:pt x="1836" y="440"/>
                  </a:lnTo>
                  <a:lnTo>
                    <a:pt x="1822" y="416"/>
                  </a:lnTo>
                  <a:lnTo>
                    <a:pt x="1806" y="394"/>
                  </a:lnTo>
                  <a:lnTo>
                    <a:pt x="1786" y="376"/>
                  </a:lnTo>
                  <a:lnTo>
                    <a:pt x="1768" y="362"/>
                  </a:lnTo>
                  <a:lnTo>
                    <a:pt x="1752" y="352"/>
                  </a:lnTo>
                  <a:lnTo>
                    <a:pt x="1752" y="352"/>
                  </a:lnTo>
                  <a:lnTo>
                    <a:pt x="1768" y="378"/>
                  </a:lnTo>
                  <a:lnTo>
                    <a:pt x="1780" y="404"/>
                  </a:lnTo>
                  <a:lnTo>
                    <a:pt x="1788" y="430"/>
                  </a:lnTo>
                  <a:lnTo>
                    <a:pt x="1792" y="456"/>
                  </a:lnTo>
                  <a:lnTo>
                    <a:pt x="1790" y="480"/>
                  </a:lnTo>
                  <a:lnTo>
                    <a:pt x="1788" y="492"/>
                  </a:lnTo>
                  <a:lnTo>
                    <a:pt x="1786" y="502"/>
                  </a:lnTo>
                  <a:lnTo>
                    <a:pt x="1780" y="514"/>
                  </a:lnTo>
                  <a:lnTo>
                    <a:pt x="1774" y="524"/>
                  </a:lnTo>
                  <a:lnTo>
                    <a:pt x="1768" y="534"/>
                  </a:lnTo>
                  <a:lnTo>
                    <a:pt x="1758" y="544"/>
                  </a:lnTo>
                  <a:lnTo>
                    <a:pt x="1748" y="554"/>
                  </a:lnTo>
                  <a:lnTo>
                    <a:pt x="1738" y="562"/>
                  </a:lnTo>
                  <a:lnTo>
                    <a:pt x="1724" y="572"/>
                  </a:lnTo>
                  <a:lnTo>
                    <a:pt x="1710" y="578"/>
                  </a:lnTo>
                  <a:lnTo>
                    <a:pt x="1678" y="592"/>
                  </a:lnTo>
                  <a:lnTo>
                    <a:pt x="1640" y="604"/>
                  </a:lnTo>
                  <a:lnTo>
                    <a:pt x="1596" y="610"/>
                  </a:lnTo>
                  <a:lnTo>
                    <a:pt x="1546" y="616"/>
                  </a:lnTo>
                  <a:lnTo>
                    <a:pt x="1490" y="616"/>
                  </a:lnTo>
                  <a:lnTo>
                    <a:pt x="1426" y="614"/>
                  </a:lnTo>
                  <a:lnTo>
                    <a:pt x="1426" y="614"/>
                  </a:lnTo>
                  <a:lnTo>
                    <a:pt x="1454" y="610"/>
                  </a:lnTo>
                  <a:lnTo>
                    <a:pt x="1480" y="606"/>
                  </a:lnTo>
                  <a:lnTo>
                    <a:pt x="1506" y="600"/>
                  </a:lnTo>
                  <a:lnTo>
                    <a:pt x="1530" y="594"/>
                  </a:lnTo>
                  <a:lnTo>
                    <a:pt x="1554" y="586"/>
                  </a:lnTo>
                  <a:lnTo>
                    <a:pt x="1578" y="576"/>
                  </a:lnTo>
                  <a:lnTo>
                    <a:pt x="1600" y="564"/>
                  </a:lnTo>
                  <a:lnTo>
                    <a:pt x="1620" y="552"/>
                  </a:lnTo>
                  <a:lnTo>
                    <a:pt x="1640" y="540"/>
                  </a:lnTo>
                  <a:lnTo>
                    <a:pt x="1658" y="524"/>
                  </a:lnTo>
                  <a:lnTo>
                    <a:pt x="1676" y="508"/>
                  </a:lnTo>
                  <a:lnTo>
                    <a:pt x="1692" y="492"/>
                  </a:lnTo>
                  <a:lnTo>
                    <a:pt x="1706" y="474"/>
                  </a:lnTo>
                  <a:lnTo>
                    <a:pt x="1720" y="454"/>
                  </a:lnTo>
                  <a:lnTo>
                    <a:pt x="1730" y="434"/>
                  </a:lnTo>
                  <a:lnTo>
                    <a:pt x="1742" y="412"/>
                  </a:lnTo>
                  <a:lnTo>
                    <a:pt x="1742" y="412"/>
                  </a:lnTo>
                  <a:lnTo>
                    <a:pt x="1650" y="478"/>
                  </a:lnTo>
                  <a:lnTo>
                    <a:pt x="1650" y="478"/>
                  </a:lnTo>
                  <a:lnTo>
                    <a:pt x="1652" y="468"/>
                  </a:lnTo>
                  <a:lnTo>
                    <a:pt x="1652" y="458"/>
                  </a:lnTo>
                  <a:lnTo>
                    <a:pt x="1652" y="448"/>
                  </a:lnTo>
                  <a:lnTo>
                    <a:pt x="1650" y="436"/>
                  </a:lnTo>
                  <a:lnTo>
                    <a:pt x="1648" y="426"/>
                  </a:lnTo>
                  <a:lnTo>
                    <a:pt x="1644" y="416"/>
                  </a:lnTo>
                  <a:lnTo>
                    <a:pt x="1638" y="406"/>
                  </a:lnTo>
                  <a:lnTo>
                    <a:pt x="1632" y="396"/>
                  </a:lnTo>
                  <a:lnTo>
                    <a:pt x="1624" y="388"/>
                  </a:lnTo>
                  <a:lnTo>
                    <a:pt x="1616" y="380"/>
                  </a:lnTo>
                  <a:lnTo>
                    <a:pt x="1606" y="374"/>
                  </a:lnTo>
                  <a:lnTo>
                    <a:pt x="1596" y="370"/>
                  </a:lnTo>
                  <a:lnTo>
                    <a:pt x="1586" y="368"/>
                  </a:lnTo>
                  <a:lnTo>
                    <a:pt x="1574" y="366"/>
                  </a:lnTo>
                  <a:lnTo>
                    <a:pt x="1562" y="368"/>
                  </a:lnTo>
                  <a:lnTo>
                    <a:pt x="1550" y="372"/>
                  </a:lnTo>
                  <a:lnTo>
                    <a:pt x="1550" y="372"/>
                  </a:lnTo>
                  <a:lnTo>
                    <a:pt x="1562" y="382"/>
                  </a:lnTo>
                  <a:lnTo>
                    <a:pt x="1576" y="394"/>
                  </a:lnTo>
                  <a:lnTo>
                    <a:pt x="1586" y="410"/>
                  </a:lnTo>
                  <a:lnTo>
                    <a:pt x="1592" y="428"/>
                  </a:lnTo>
                  <a:lnTo>
                    <a:pt x="1594" y="438"/>
                  </a:lnTo>
                  <a:lnTo>
                    <a:pt x="1594" y="448"/>
                  </a:lnTo>
                  <a:lnTo>
                    <a:pt x="1592" y="456"/>
                  </a:lnTo>
                  <a:lnTo>
                    <a:pt x="1590" y="466"/>
                  </a:lnTo>
                  <a:lnTo>
                    <a:pt x="1584" y="474"/>
                  </a:lnTo>
                  <a:lnTo>
                    <a:pt x="1578" y="482"/>
                  </a:lnTo>
                  <a:lnTo>
                    <a:pt x="1568" y="490"/>
                  </a:lnTo>
                  <a:lnTo>
                    <a:pt x="1556" y="498"/>
                  </a:lnTo>
                  <a:lnTo>
                    <a:pt x="1556" y="498"/>
                  </a:lnTo>
                  <a:lnTo>
                    <a:pt x="1558" y="486"/>
                  </a:lnTo>
                  <a:lnTo>
                    <a:pt x="1558" y="476"/>
                  </a:lnTo>
                  <a:lnTo>
                    <a:pt x="1556" y="468"/>
                  </a:lnTo>
                  <a:lnTo>
                    <a:pt x="1550" y="460"/>
                  </a:lnTo>
                  <a:lnTo>
                    <a:pt x="1544" y="454"/>
                  </a:lnTo>
                  <a:lnTo>
                    <a:pt x="1534" y="448"/>
                  </a:lnTo>
                  <a:lnTo>
                    <a:pt x="1522" y="446"/>
                  </a:lnTo>
                  <a:lnTo>
                    <a:pt x="1510" y="446"/>
                  </a:lnTo>
                  <a:lnTo>
                    <a:pt x="1510" y="446"/>
                  </a:lnTo>
                  <a:lnTo>
                    <a:pt x="1506" y="474"/>
                  </a:lnTo>
                  <a:lnTo>
                    <a:pt x="1498" y="498"/>
                  </a:lnTo>
                  <a:lnTo>
                    <a:pt x="1488" y="522"/>
                  </a:lnTo>
                  <a:lnTo>
                    <a:pt x="1474" y="540"/>
                  </a:lnTo>
                  <a:lnTo>
                    <a:pt x="1464" y="548"/>
                  </a:lnTo>
                  <a:lnTo>
                    <a:pt x="1456" y="556"/>
                  </a:lnTo>
                  <a:lnTo>
                    <a:pt x="1446" y="562"/>
                  </a:lnTo>
                  <a:lnTo>
                    <a:pt x="1436" y="566"/>
                  </a:lnTo>
                  <a:lnTo>
                    <a:pt x="1424" y="572"/>
                  </a:lnTo>
                  <a:lnTo>
                    <a:pt x="1412" y="574"/>
                  </a:lnTo>
                  <a:lnTo>
                    <a:pt x="1400" y="576"/>
                  </a:lnTo>
                  <a:lnTo>
                    <a:pt x="1386" y="578"/>
                  </a:lnTo>
                  <a:lnTo>
                    <a:pt x="1358" y="576"/>
                  </a:lnTo>
                  <a:lnTo>
                    <a:pt x="1328" y="570"/>
                  </a:lnTo>
                  <a:lnTo>
                    <a:pt x="1294" y="558"/>
                  </a:lnTo>
                  <a:lnTo>
                    <a:pt x="1260" y="540"/>
                  </a:lnTo>
                  <a:lnTo>
                    <a:pt x="1226" y="518"/>
                  </a:lnTo>
                  <a:lnTo>
                    <a:pt x="1188" y="488"/>
                  </a:lnTo>
                  <a:lnTo>
                    <a:pt x="1152" y="452"/>
                  </a:lnTo>
                  <a:lnTo>
                    <a:pt x="1112" y="410"/>
                  </a:lnTo>
                  <a:lnTo>
                    <a:pt x="1112" y="410"/>
                  </a:lnTo>
                  <a:lnTo>
                    <a:pt x="1130" y="416"/>
                  </a:lnTo>
                  <a:lnTo>
                    <a:pt x="1150" y="420"/>
                  </a:lnTo>
                  <a:lnTo>
                    <a:pt x="1170" y="422"/>
                  </a:lnTo>
                  <a:lnTo>
                    <a:pt x="1190" y="424"/>
                  </a:lnTo>
                  <a:lnTo>
                    <a:pt x="1210" y="424"/>
                  </a:lnTo>
                  <a:lnTo>
                    <a:pt x="1232" y="422"/>
                  </a:lnTo>
                  <a:lnTo>
                    <a:pt x="1252" y="418"/>
                  </a:lnTo>
                  <a:lnTo>
                    <a:pt x="1274" y="414"/>
                  </a:lnTo>
                  <a:lnTo>
                    <a:pt x="1314" y="402"/>
                  </a:lnTo>
                  <a:lnTo>
                    <a:pt x="1354" y="384"/>
                  </a:lnTo>
                  <a:lnTo>
                    <a:pt x="1392" y="366"/>
                  </a:lnTo>
                  <a:lnTo>
                    <a:pt x="1424" y="342"/>
                  </a:lnTo>
                  <a:lnTo>
                    <a:pt x="1424" y="342"/>
                  </a:lnTo>
                  <a:lnTo>
                    <a:pt x="1406" y="346"/>
                  </a:lnTo>
                  <a:lnTo>
                    <a:pt x="1382" y="350"/>
                  </a:lnTo>
                  <a:lnTo>
                    <a:pt x="1350" y="350"/>
                  </a:lnTo>
                  <a:lnTo>
                    <a:pt x="1306" y="348"/>
                  </a:lnTo>
                  <a:lnTo>
                    <a:pt x="1306" y="348"/>
                  </a:lnTo>
                  <a:lnTo>
                    <a:pt x="1322" y="334"/>
                  </a:lnTo>
                  <a:lnTo>
                    <a:pt x="1340" y="318"/>
                  </a:lnTo>
                  <a:lnTo>
                    <a:pt x="1354" y="302"/>
                  </a:lnTo>
                  <a:lnTo>
                    <a:pt x="1360" y="292"/>
                  </a:lnTo>
                  <a:lnTo>
                    <a:pt x="1366" y="280"/>
                  </a:lnTo>
                  <a:lnTo>
                    <a:pt x="1370" y="268"/>
                  </a:lnTo>
                  <a:lnTo>
                    <a:pt x="1374" y="254"/>
                  </a:lnTo>
                  <a:lnTo>
                    <a:pt x="1374" y="240"/>
                  </a:lnTo>
                  <a:lnTo>
                    <a:pt x="1374" y="224"/>
                  </a:lnTo>
                  <a:lnTo>
                    <a:pt x="1372" y="206"/>
                  </a:lnTo>
                  <a:lnTo>
                    <a:pt x="1370" y="186"/>
                  </a:lnTo>
                  <a:lnTo>
                    <a:pt x="1364" y="164"/>
                  </a:lnTo>
                  <a:lnTo>
                    <a:pt x="1354" y="140"/>
                  </a:lnTo>
                  <a:lnTo>
                    <a:pt x="1354" y="140"/>
                  </a:lnTo>
                  <a:lnTo>
                    <a:pt x="1346" y="118"/>
                  </a:lnTo>
                  <a:lnTo>
                    <a:pt x="1334" y="100"/>
                  </a:lnTo>
                  <a:lnTo>
                    <a:pt x="1320" y="82"/>
                  </a:lnTo>
                  <a:lnTo>
                    <a:pt x="1306" y="68"/>
                  </a:lnTo>
                  <a:lnTo>
                    <a:pt x="1290" y="54"/>
                  </a:lnTo>
                  <a:lnTo>
                    <a:pt x="1274" y="44"/>
                  </a:lnTo>
                  <a:lnTo>
                    <a:pt x="1256" y="36"/>
                  </a:lnTo>
                  <a:lnTo>
                    <a:pt x="1238" y="28"/>
                  </a:lnTo>
                  <a:lnTo>
                    <a:pt x="1218" y="24"/>
                  </a:lnTo>
                  <a:lnTo>
                    <a:pt x="1200" y="20"/>
                  </a:lnTo>
                  <a:lnTo>
                    <a:pt x="1180" y="18"/>
                  </a:lnTo>
                  <a:lnTo>
                    <a:pt x="1162" y="20"/>
                  </a:lnTo>
                  <a:lnTo>
                    <a:pt x="1142" y="22"/>
                  </a:lnTo>
                  <a:lnTo>
                    <a:pt x="1124" y="26"/>
                  </a:lnTo>
                  <a:lnTo>
                    <a:pt x="1106" y="32"/>
                  </a:lnTo>
                  <a:lnTo>
                    <a:pt x="1090" y="38"/>
                  </a:lnTo>
                  <a:lnTo>
                    <a:pt x="1090" y="38"/>
                  </a:lnTo>
                  <a:lnTo>
                    <a:pt x="1074" y="46"/>
                  </a:lnTo>
                  <a:lnTo>
                    <a:pt x="1060" y="56"/>
                  </a:lnTo>
                  <a:lnTo>
                    <a:pt x="1048" y="66"/>
                  </a:lnTo>
                  <a:lnTo>
                    <a:pt x="1038" y="76"/>
                  </a:lnTo>
                  <a:lnTo>
                    <a:pt x="1030" y="86"/>
                  </a:lnTo>
                  <a:lnTo>
                    <a:pt x="1024" y="98"/>
                  </a:lnTo>
                  <a:lnTo>
                    <a:pt x="1018" y="108"/>
                  </a:lnTo>
                  <a:lnTo>
                    <a:pt x="1014" y="120"/>
                  </a:lnTo>
                  <a:lnTo>
                    <a:pt x="1012" y="132"/>
                  </a:lnTo>
                  <a:lnTo>
                    <a:pt x="1012" y="142"/>
                  </a:lnTo>
                  <a:lnTo>
                    <a:pt x="1012" y="154"/>
                  </a:lnTo>
                  <a:lnTo>
                    <a:pt x="1014" y="164"/>
                  </a:lnTo>
                  <a:lnTo>
                    <a:pt x="1016" y="176"/>
                  </a:lnTo>
                  <a:lnTo>
                    <a:pt x="1020" y="186"/>
                  </a:lnTo>
                  <a:lnTo>
                    <a:pt x="1030" y="204"/>
                  </a:lnTo>
                  <a:lnTo>
                    <a:pt x="1030" y="204"/>
                  </a:lnTo>
                  <a:lnTo>
                    <a:pt x="1044" y="218"/>
                  </a:lnTo>
                  <a:lnTo>
                    <a:pt x="1062" y="230"/>
                  </a:lnTo>
                  <a:lnTo>
                    <a:pt x="1080" y="240"/>
                  </a:lnTo>
                  <a:lnTo>
                    <a:pt x="1098" y="244"/>
                  </a:lnTo>
                  <a:lnTo>
                    <a:pt x="1108" y="246"/>
                  </a:lnTo>
                  <a:lnTo>
                    <a:pt x="1120" y="244"/>
                  </a:lnTo>
                  <a:lnTo>
                    <a:pt x="1130" y="242"/>
                  </a:lnTo>
                  <a:lnTo>
                    <a:pt x="1140" y="240"/>
                  </a:lnTo>
                  <a:lnTo>
                    <a:pt x="1150" y="236"/>
                  </a:lnTo>
                  <a:lnTo>
                    <a:pt x="1158" y="230"/>
                  </a:lnTo>
                  <a:lnTo>
                    <a:pt x="1168" y="222"/>
                  </a:lnTo>
                  <a:lnTo>
                    <a:pt x="1178" y="212"/>
                  </a:lnTo>
                  <a:lnTo>
                    <a:pt x="1178" y="212"/>
                  </a:lnTo>
                  <a:lnTo>
                    <a:pt x="1182" y="204"/>
                  </a:lnTo>
                  <a:lnTo>
                    <a:pt x="1188" y="196"/>
                  </a:lnTo>
                  <a:lnTo>
                    <a:pt x="1190" y="186"/>
                  </a:lnTo>
                  <a:lnTo>
                    <a:pt x="1192" y="174"/>
                  </a:lnTo>
                  <a:lnTo>
                    <a:pt x="1192" y="164"/>
                  </a:lnTo>
                  <a:lnTo>
                    <a:pt x="1190" y="152"/>
                  </a:lnTo>
                  <a:lnTo>
                    <a:pt x="1186" y="142"/>
                  </a:lnTo>
                  <a:lnTo>
                    <a:pt x="1182" y="130"/>
                  </a:lnTo>
                  <a:lnTo>
                    <a:pt x="1176" y="120"/>
                  </a:lnTo>
                  <a:lnTo>
                    <a:pt x="1170" y="112"/>
                  </a:lnTo>
                  <a:lnTo>
                    <a:pt x="1160" y="104"/>
                  </a:lnTo>
                  <a:lnTo>
                    <a:pt x="1150" y="98"/>
                  </a:lnTo>
                  <a:lnTo>
                    <a:pt x="1140" y="92"/>
                  </a:lnTo>
                  <a:lnTo>
                    <a:pt x="1128" y="90"/>
                  </a:lnTo>
                  <a:lnTo>
                    <a:pt x="1114" y="88"/>
                  </a:lnTo>
                  <a:lnTo>
                    <a:pt x="1098" y="90"/>
                  </a:lnTo>
                  <a:lnTo>
                    <a:pt x="1098" y="90"/>
                  </a:lnTo>
                  <a:lnTo>
                    <a:pt x="1110" y="82"/>
                  </a:lnTo>
                  <a:lnTo>
                    <a:pt x="1122" y="74"/>
                  </a:lnTo>
                  <a:lnTo>
                    <a:pt x="1136" y="68"/>
                  </a:lnTo>
                  <a:lnTo>
                    <a:pt x="1148" y="64"/>
                  </a:lnTo>
                  <a:lnTo>
                    <a:pt x="1162" y="62"/>
                  </a:lnTo>
                  <a:lnTo>
                    <a:pt x="1174" y="60"/>
                  </a:lnTo>
                  <a:lnTo>
                    <a:pt x="1186" y="60"/>
                  </a:lnTo>
                  <a:lnTo>
                    <a:pt x="1198" y="62"/>
                  </a:lnTo>
                  <a:lnTo>
                    <a:pt x="1210" y="66"/>
                  </a:lnTo>
                  <a:lnTo>
                    <a:pt x="1222" y="70"/>
                  </a:lnTo>
                  <a:lnTo>
                    <a:pt x="1232" y="76"/>
                  </a:lnTo>
                  <a:lnTo>
                    <a:pt x="1240" y="82"/>
                  </a:lnTo>
                  <a:lnTo>
                    <a:pt x="1250" y="90"/>
                  </a:lnTo>
                  <a:lnTo>
                    <a:pt x="1256" y="98"/>
                  </a:lnTo>
                  <a:lnTo>
                    <a:pt x="1264" y="108"/>
                  </a:lnTo>
                  <a:lnTo>
                    <a:pt x="1268" y="120"/>
                  </a:lnTo>
                  <a:lnTo>
                    <a:pt x="1268" y="120"/>
                  </a:lnTo>
                  <a:lnTo>
                    <a:pt x="1278" y="148"/>
                  </a:lnTo>
                  <a:lnTo>
                    <a:pt x="1280" y="162"/>
                  </a:lnTo>
                  <a:lnTo>
                    <a:pt x="1282" y="178"/>
                  </a:lnTo>
                  <a:lnTo>
                    <a:pt x="1282" y="194"/>
                  </a:lnTo>
                  <a:lnTo>
                    <a:pt x="1280" y="210"/>
                  </a:lnTo>
                  <a:lnTo>
                    <a:pt x="1274" y="226"/>
                  </a:lnTo>
                  <a:lnTo>
                    <a:pt x="1266" y="244"/>
                  </a:lnTo>
                  <a:lnTo>
                    <a:pt x="1266" y="244"/>
                  </a:lnTo>
                  <a:lnTo>
                    <a:pt x="1262" y="252"/>
                  </a:lnTo>
                  <a:lnTo>
                    <a:pt x="1254" y="262"/>
                  </a:lnTo>
                  <a:lnTo>
                    <a:pt x="1240" y="276"/>
                  </a:lnTo>
                  <a:lnTo>
                    <a:pt x="1220" y="286"/>
                  </a:lnTo>
                  <a:lnTo>
                    <a:pt x="1200" y="294"/>
                  </a:lnTo>
                  <a:lnTo>
                    <a:pt x="1176" y="300"/>
                  </a:lnTo>
                  <a:lnTo>
                    <a:pt x="1150" y="304"/>
                  </a:lnTo>
                  <a:lnTo>
                    <a:pt x="1122" y="304"/>
                  </a:lnTo>
                  <a:lnTo>
                    <a:pt x="1094" y="302"/>
                  </a:lnTo>
                  <a:lnTo>
                    <a:pt x="1066" y="298"/>
                  </a:lnTo>
                  <a:lnTo>
                    <a:pt x="1036" y="290"/>
                  </a:lnTo>
                  <a:lnTo>
                    <a:pt x="1008" y="282"/>
                  </a:lnTo>
                  <a:lnTo>
                    <a:pt x="978" y="272"/>
                  </a:lnTo>
                  <a:lnTo>
                    <a:pt x="950" y="260"/>
                  </a:lnTo>
                  <a:lnTo>
                    <a:pt x="924" y="248"/>
                  </a:lnTo>
                  <a:lnTo>
                    <a:pt x="900" y="232"/>
                  </a:lnTo>
                  <a:lnTo>
                    <a:pt x="878" y="216"/>
                  </a:lnTo>
                  <a:lnTo>
                    <a:pt x="878" y="216"/>
                  </a:lnTo>
                  <a:lnTo>
                    <a:pt x="842" y="192"/>
                  </a:lnTo>
                  <a:lnTo>
                    <a:pt x="804" y="164"/>
                  </a:lnTo>
                  <a:lnTo>
                    <a:pt x="764" y="138"/>
                  </a:lnTo>
                  <a:lnTo>
                    <a:pt x="718" y="114"/>
                  </a:lnTo>
                  <a:lnTo>
                    <a:pt x="670" y="88"/>
                  </a:lnTo>
                  <a:lnTo>
                    <a:pt x="616" y="64"/>
                  </a:lnTo>
                  <a:lnTo>
                    <a:pt x="558" y="42"/>
                  </a:lnTo>
                  <a:lnTo>
                    <a:pt x="496" y="22"/>
                  </a:lnTo>
                  <a:lnTo>
                    <a:pt x="496" y="22"/>
                  </a:lnTo>
                  <a:lnTo>
                    <a:pt x="472" y="16"/>
                  </a:lnTo>
                  <a:lnTo>
                    <a:pt x="444" y="10"/>
                  </a:lnTo>
                  <a:lnTo>
                    <a:pt x="416" y="6"/>
                  </a:lnTo>
                  <a:lnTo>
                    <a:pt x="386" y="2"/>
                  </a:lnTo>
                  <a:lnTo>
                    <a:pt x="356" y="0"/>
                  </a:lnTo>
                  <a:lnTo>
                    <a:pt x="324" y="0"/>
                  </a:lnTo>
                  <a:lnTo>
                    <a:pt x="260" y="2"/>
                  </a:lnTo>
                  <a:lnTo>
                    <a:pt x="194" y="8"/>
                  </a:lnTo>
                  <a:lnTo>
                    <a:pt x="160" y="12"/>
                  </a:lnTo>
                  <a:lnTo>
                    <a:pt x="128" y="18"/>
                  </a:lnTo>
                  <a:lnTo>
                    <a:pt x="94" y="26"/>
                  </a:lnTo>
                  <a:lnTo>
                    <a:pt x="62" y="34"/>
                  </a:lnTo>
                  <a:lnTo>
                    <a:pt x="30" y="44"/>
                  </a:lnTo>
                  <a:lnTo>
                    <a:pt x="0" y="56"/>
                  </a:lnTo>
                  <a:lnTo>
                    <a:pt x="16" y="108"/>
                  </a:lnTo>
                  <a:close/>
                  <a:moveTo>
                    <a:pt x="580" y="416"/>
                  </a:moveTo>
                  <a:lnTo>
                    <a:pt x="580" y="416"/>
                  </a:lnTo>
                  <a:lnTo>
                    <a:pt x="582" y="408"/>
                  </a:lnTo>
                  <a:lnTo>
                    <a:pt x="584" y="400"/>
                  </a:lnTo>
                  <a:lnTo>
                    <a:pt x="590" y="392"/>
                  </a:lnTo>
                  <a:lnTo>
                    <a:pt x="594" y="388"/>
                  </a:lnTo>
                  <a:lnTo>
                    <a:pt x="602" y="382"/>
                  </a:lnTo>
                  <a:lnTo>
                    <a:pt x="610" y="380"/>
                  </a:lnTo>
                  <a:lnTo>
                    <a:pt x="618" y="378"/>
                  </a:lnTo>
                  <a:lnTo>
                    <a:pt x="626" y="376"/>
                  </a:lnTo>
                  <a:lnTo>
                    <a:pt x="636" y="378"/>
                  </a:lnTo>
                  <a:lnTo>
                    <a:pt x="644" y="380"/>
                  </a:lnTo>
                  <a:lnTo>
                    <a:pt x="654" y="382"/>
                  </a:lnTo>
                  <a:lnTo>
                    <a:pt x="662" y="388"/>
                  </a:lnTo>
                  <a:lnTo>
                    <a:pt x="670" y="394"/>
                  </a:lnTo>
                  <a:lnTo>
                    <a:pt x="676" y="404"/>
                  </a:lnTo>
                  <a:lnTo>
                    <a:pt x="682" y="414"/>
                  </a:lnTo>
                  <a:lnTo>
                    <a:pt x="686" y="426"/>
                  </a:lnTo>
                  <a:lnTo>
                    <a:pt x="686" y="426"/>
                  </a:lnTo>
                  <a:lnTo>
                    <a:pt x="674" y="416"/>
                  </a:lnTo>
                  <a:lnTo>
                    <a:pt x="662" y="408"/>
                  </a:lnTo>
                  <a:lnTo>
                    <a:pt x="648" y="404"/>
                  </a:lnTo>
                  <a:lnTo>
                    <a:pt x="634" y="402"/>
                  </a:lnTo>
                  <a:lnTo>
                    <a:pt x="620" y="402"/>
                  </a:lnTo>
                  <a:lnTo>
                    <a:pt x="606" y="404"/>
                  </a:lnTo>
                  <a:lnTo>
                    <a:pt x="592" y="410"/>
                  </a:lnTo>
                  <a:lnTo>
                    <a:pt x="580" y="416"/>
                  </a:lnTo>
                  <a:lnTo>
                    <a:pt x="580" y="416"/>
                  </a:lnTo>
                  <a:close/>
                  <a:moveTo>
                    <a:pt x="960" y="548"/>
                  </a:moveTo>
                  <a:lnTo>
                    <a:pt x="960" y="548"/>
                  </a:lnTo>
                  <a:lnTo>
                    <a:pt x="972" y="590"/>
                  </a:lnTo>
                  <a:lnTo>
                    <a:pt x="980" y="628"/>
                  </a:lnTo>
                  <a:lnTo>
                    <a:pt x="986" y="664"/>
                  </a:lnTo>
                  <a:lnTo>
                    <a:pt x="986" y="696"/>
                  </a:lnTo>
                  <a:lnTo>
                    <a:pt x="984" y="728"/>
                  </a:lnTo>
                  <a:lnTo>
                    <a:pt x="976" y="756"/>
                  </a:lnTo>
                  <a:lnTo>
                    <a:pt x="966" y="784"/>
                  </a:lnTo>
                  <a:lnTo>
                    <a:pt x="954" y="810"/>
                  </a:lnTo>
                  <a:lnTo>
                    <a:pt x="954" y="810"/>
                  </a:lnTo>
                  <a:lnTo>
                    <a:pt x="944" y="824"/>
                  </a:lnTo>
                  <a:lnTo>
                    <a:pt x="934" y="836"/>
                  </a:lnTo>
                  <a:lnTo>
                    <a:pt x="924" y="848"/>
                  </a:lnTo>
                  <a:lnTo>
                    <a:pt x="912" y="856"/>
                  </a:lnTo>
                  <a:lnTo>
                    <a:pt x="900" y="862"/>
                  </a:lnTo>
                  <a:lnTo>
                    <a:pt x="888" y="868"/>
                  </a:lnTo>
                  <a:lnTo>
                    <a:pt x="876" y="872"/>
                  </a:lnTo>
                  <a:lnTo>
                    <a:pt x="864" y="874"/>
                  </a:lnTo>
                  <a:lnTo>
                    <a:pt x="838" y="876"/>
                  </a:lnTo>
                  <a:lnTo>
                    <a:pt x="814" y="874"/>
                  </a:lnTo>
                  <a:lnTo>
                    <a:pt x="790" y="868"/>
                  </a:lnTo>
                  <a:lnTo>
                    <a:pt x="770" y="860"/>
                  </a:lnTo>
                  <a:lnTo>
                    <a:pt x="770" y="860"/>
                  </a:lnTo>
                  <a:lnTo>
                    <a:pt x="798" y="862"/>
                  </a:lnTo>
                  <a:lnTo>
                    <a:pt x="822" y="860"/>
                  </a:lnTo>
                  <a:lnTo>
                    <a:pt x="846" y="854"/>
                  </a:lnTo>
                  <a:lnTo>
                    <a:pt x="864" y="844"/>
                  </a:lnTo>
                  <a:lnTo>
                    <a:pt x="880" y="832"/>
                  </a:lnTo>
                  <a:lnTo>
                    <a:pt x="892" y="818"/>
                  </a:lnTo>
                  <a:lnTo>
                    <a:pt x="896" y="810"/>
                  </a:lnTo>
                  <a:lnTo>
                    <a:pt x="900" y="802"/>
                  </a:lnTo>
                  <a:lnTo>
                    <a:pt x="902" y="792"/>
                  </a:lnTo>
                  <a:lnTo>
                    <a:pt x="902" y="784"/>
                  </a:lnTo>
                  <a:lnTo>
                    <a:pt x="902" y="784"/>
                  </a:lnTo>
                  <a:lnTo>
                    <a:pt x="876" y="786"/>
                  </a:lnTo>
                  <a:lnTo>
                    <a:pt x="862" y="786"/>
                  </a:lnTo>
                  <a:lnTo>
                    <a:pt x="846" y="786"/>
                  </a:lnTo>
                  <a:lnTo>
                    <a:pt x="832" y="784"/>
                  </a:lnTo>
                  <a:lnTo>
                    <a:pt x="818" y="780"/>
                  </a:lnTo>
                  <a:lnTo>
                    <a:pt x="806" y="774"/>
                  </a:lnTo>
                  <a:lnTo>
                    <a:pt x="796" y="766"/>
                  </a:lnTo>
                  <a:lnTo>
                    <a:pt x="796" y="766"/>
                  </a:lnTo>
                  <a:lnTo>
                    <a:pt x="842" y="760"/>
                  </a:lnTo>
                  <a:lnTo>
                    <a:pt x="862" y="756"/>
                  </a:lnTo>
                  <a:lnTo>
                    <a:pt x="882" y="750"/>
                  </a:lnTo>
                  <a:lnTo>
                    <a:pt x="898" y="746"/>
                  </a:lnTo>
                  <a:lnTo>
                    <a:pt x="914" y="738"/>
                  </a:lnTo>
                  <a:lnTo>
                    <a:pt x="928" y="730"/>
                  </a:lnTo>
                  <a:lnTo>
                    <a:pt x="940" y="720"/>
                  </a:lnTo>
                  <a:lnTo>
                    <a:pt x="950" y="708"/>
                  </a:lnTo>
                  <a:lnTo>
                    <a:pt x="958" y="694"/>
                  </a:lnTo>
                  <a:lnTo>
                    <a:pt x="962" y="676"/>
                  </a:lnTo>
                  <a:lnTo>
                    <a:pt x="966" y="656"/>
                  </a:lnTo>
                  <a:lnTo>
                    <a:pt x="968" y="634"/>
                  </a:lnTo>
                  <a:lnTo>
                    <a:pt x="968" y="610"/>
                  </a:lnTo>
                  <a:lnTo>
                    <a:pt x="964" y="580"/>
                  </a:lnTo>
                  <a:lnTo>
                    <a:pt x="960" y="548"/>
                  </a:lnTo>
                  <a:lnTo>
                    <a:pt x="960" y="548"/>
                  </a:lnTo>
                  <a:close/>
                  <a:moveTo>
                    <a:pt x="2124" y="376"/>
                  </a:moveTo>
                  <a:lnTo>
                    <a:pt x="2124" y="376"/>
                  </a:lnTo>
                  <a:lnTo>
                    <a:pt x="2114" y="388"/>
                  </a:lnTo>
                  <a:lnTo>
                    <a:pt x="2106" y="396"/>
                  </a:lnTo>
                  <a:lnTo>
                    <a:pt x="2096" y="402"/>
                  </a:lnTo>
                  <a:lnTo>
                    <a:pt x="2086" y="406"/>
                  </a:lnTo>
                  <a:lnTo>
                    <a:pt x="2076" y="410"/>
                  </a:lnTo>
                  <a:lnTo>
                    <a:pt x="2066" y="410"/>
                  </a:lnTo>
                  <a:lnTo>
                    <a:pt x="2058" y="410"/>
                  </a:lnTo>
                  <a:lnTo>
                    <a:pt x="2048" y="406"/>
                  </a:lnTo>
                  <a:lnTo>
                    <a:pt x="2038" y="402"/>
                  </a:lnTo>
                  <a:lnTo>
                    <a:pt x="2030" y="396"/>
                  </a:lnTo>
                  <a:lnTo>
                    <a:pt x="2022" y="390"/>
                  </a:lnTo>
                  <a:lnTo>
                    <a:pt x="2016" y="382"/>
                  </a:lnTo>
                  <a:lnTo>
                    <a:pt x="2010" y="372"/>
                  </a:lnTo>
                  <a:lnTo>
                    <a:pt x="2006" y="362"/>
                  </a:lnTo>
                  <a:lnTo>
                    <a:pt x="2002" y="350"/>
                  </a:lnTo>
                  <a:lnTo>
                    <a:pt x="2000" y="338"/>
                  </a:lnTo>
                  <a:lnTo>
                    <a:pt x="2000" y="338"/>
                  </a:lnTo>
                  <a:lnTo>
                    <a:pt x="2008" y="350"/>
                  </a:lnTo>
                  <a:lnTo>
                    <a:pt x="2022" y="362"/>
                  </a:lnTo>
                  <a:lnTo>
                    <a:pt x="2036" y="370"/>
                  </a:lnTo>
                  <a:lnTo>
                    <a:pt x="2054" y="376"/>
                  </a:lnTo>
                  <a:lnTo>
                    <a:pt x="2070" y="382"/>
                  </a:lnTo>
                  <a:lnTo>
                    <a:pt x="2088" y="382"/>
                  </a:lnTo>
                  <a:lnTo>
                    <a:pt x="2106" y="382"/>
                  </a:lnTo>
                  <a:lnTo>
                    <a:pt x="2124" y="376"/>
                  </a:lnTo>
                  <a:lnTo>
                    <a:pt x="2124" y="376"/>
                  </a:lnTo>
                  <a:close/>
                  <a:moveTo>
                    <a:pt x="2576" y="148"/>
                  </a:moveTo>
                  <a:lnTo>
                    <a:pt x="2576" y="148"/>
                  </a:lnTo>
                  <a:lnTo>
                    <a:pt x="2580" y="134"/>
                  </a:lnTo>
                  <a:lnTo>
                    <a:pt x="2584" y="120"/>
                  </a:lnTo>
                  <a:lnTo>
                    <a:pt x="2582" y="106"/>
                  </a:lnTo>
                  <a:lnTo>
                    <a:pt x="2580" y="94"/>
                  </a:lnTo>
                  <a:lnTo>
                    <a:pt x="2576" y="80"/>
                  </a:lnTo>
                  <a:lnTo>
                    <a:pt x="2568" y="68"/>
                  </a:lnTo>
                  <a:lnTo>
                    <a:pt x="2558" y="56"/>
                  </a:lnTo>
                  <a:lnTo>
                    <a:pt x="2546" y="46"/>
                  </a:lnTo>
                  <a:lnTo>
                    <a:pt x="2546" y="46"/>
                  </a:lnTo>
                  <a:lnTo>
                    <a:pt x="2558" y="48"/>
                  </a:lnTo>
                  <a:lnTo>
                    <a:pt x="2570" y="52"/>
                  </a:lnTo>
                  <a:lnTo>
                    <a:pt x="2580" y="58"/>
                  </a:lnTo>
                  <a:lnTo>
                    <a:pt x="2588" y="64"/>
                  </a:lnTo>
                  <a:lnTo>
                    <a:pt x="2594" y="70"/>
                  </a:lnTo>
                  <a:lnTo>
                    <a:pt x="2600" y="78"/>
                  </a:lnTo>
                  <a:lnTo>
                    <a:pt x="2604" y="86"/>
                  </a:lnTo>
                  <a:lnTo>
                    <a:pt x="2606" y="96"/>
                  </a:lnTo>
                  <a:lnTo>
                    <a:pt x="2608" y="104"/>
                  </a:lnTo>
                  <a:lnTo>
                    <a:pt x="2608" y="112"/>
                  </a:lnTo>
                  <a:lnTo>
                    <a:pt x="2606" y="120"/>
                  </a:lnTo>
                  <a:lnTo>
                    <a:pt x="2602" y="128"/>
                  </a:lnTo>
                  <a:lnTo>
                    <a:pt x="2598" y="134"/>
                  </a:lnTo>
                  <a:lnTo>
                    <a:pt x="2592" y="140"/>
                  </a:lnTo>
                  <a:lnTo>
                    <a:pt x="2584" y="144"/>
                  </a:lnTo>
                  <a:lnTo>
                    <a:pt x="2576" y="148"/>
                  </a:lnTo>
                  <a:lnTo>
                    <a:pt x="2576" y="148"/>
                  </a:lnTo>
                  <a:close/>
                  <a:moveTo>
                    <a:pt x="1614" y="224"/>
                  </a:moveTo>
                  <a:lnTo>
                    <a:pt x="1614" y="224"/>
                  </a:lnTo>
                  <a:lnTo>
                    <a:pt x="1624" y="222"/>
                  </a:lnTo>
                  <a:lnTo>
                    <a:pt x="1630" y="226"/>
                  </a:lnTo>
                  <a:lnTo>
                    <a:pt x="1636" y="232"/>
                  </a:lnTo>
                  <a:lnTo>
                    <a:pt x="1636" y="240"/>
                  </a:lnTo>
                  <a:lnTo>
                    <a:pt x="1634" y="248"/>
                  </a:lnTo>
                  <a:lnTo>
                    <a:pt x="1630" y="258"/>
                  </a:lnTo>
                  <a:lnTo>
                    <a:pt x="1624" y="264"/>
                  </a:lnTo>
                  <a:lnTo>
                    <a:pt x="1614" y="270"/>
                  </a:lnTo>
                  <a:lnTo>
                    <a:pt x="1614" y="270"/>
                  </a:lnTo>
                  <a:lnTo>
                    <a:pt x="1592" y="276"/>
                  </a:lnTo>
                  <a:lnTo>
                    <a:pt x="1570" y="278"/>
                  </a:lnTo>
                  <a:lnTo>
                    <a:pt x="1558" y="278"/>
                  </a:lnTo>
                  <a:lnTo>
                    <a:pt x="1546" y="276"/>
                  </a:lnTo>
                  <a:lnTo>
                    <a:pt x="1534" y="272"/>
                  </a:lnTo>
                  <a:lnTo>
                    <a:pt x="1524" y="266"/>
                  </a:lnTo>
                  <a:lnTo>
                    <a:pt x="1516" y="260"/>
                  </a:lnTo>
                  <a:lnTo>
                    <a:pt x="1508" y="250"/>
                  </a:lnTo>
                  <a:lnTo>
                    <a:pt x="1502" y="240"/>
                  </a:lnTo>
                  <a:lnTo>
                    <a:pt x="1500" y="226"/>
                  </a:lnTo>
                  <a:lnTo>
                    <a:pt x="1500" y="210"/>
                  </a:lnTo>
                  <a:lnTo>
                    <a:pt x="1502" y="190"/>
                  </a:lnTo>
                  <a:lnTo>
                    <a:pt x="1508" y="168"/>
                  </a:lnTo>
                  <a:lnTo>
                    <a:pt x="1518" y="144"/>
                  </a:lnTo>
                  <a:lnTo>
                    <a:pt x="1518" y="144"/>
                  </a:lnTo>
                  <a:lnTo>
                    <a:pt x="1526" y="164"/>
                  </a:lnTo>
                  <a:lnTo>
                    <a:pt x="1532" y="184"/>
                  </a:lnTo>
                  <a:lnTo>
                    <a:pt x="1538" y="200"/>
                  </a:lnTo>
                  <a:lnTo>
                    <a:pt x="1544" y="212"/>
                  </a:lnTo>
                  <a:lnTo>
                    <a:pt x="1548" y="218"/>
                  </a:lnTo>
                  <a:lnTo>
                    <a:pt x="1554" y="222"/>
                  </a:lnTo>
                  <a:lnTo>
                    <a:pt x="1560" y="226"/>
                  </a:lnTo>
                  <a:lnTo>
                    <a:pt x="1568" y="228"/>
                  </a:lnTo>
                  <a:lnTo>
                    <a:pt x="1578" y="228"/>
                  </a:lnTo>
                  <a:lnTo>
                    <a:pt x="1588" y="228"/>
                  </a:lnTo>
                  <a:lnTo>
                    <a:pt x="1614" y="224"/>
                  </a:lnTo>
                  <a:lnTo>
                    <a:pt x="1614" y="224"/>
                  </a:lnTo>
                  <a:close/>
                  <a:moveTo>
                    <a:pt x="1782" y="166"/>
                  </a:moveTo>
                  <a:lnTo>
                    <a:pt x="1782" y="166"/>
                  </a:lnTo>
                  <a:lnTo>
                    <a:pt x="1792" y="158"/>
                  </a:lnTo>
                  <a:lnTo>
                    <a:pt x="1804" y="154"/>
                  </a:lnTo>
                  <a:lnTo>
                    <a:pt x="1814" y="152"/>
                  </a:lnTo>
                  <a:lnTo>
                    <a:pt x="1824" y="152"/>
                  </a:lnTo>
                  <a:lnTo>
                    <a:pt x="1834" y="154"/>
                  </a:lnTo>
                  <a:lnTo>
                    <a:pt x="1844" y="158"/>
                  </a:lnTo>
                  <a:lnTo>
                    <a:pt x="1852" y="166"/>
                  </a:lnTo>
                  <a:lnTo>
                    <a:pt x="1862" y="174"/>
                  </a:lnTo>
                  <a:lnTo>
                    <a:pt x="1870" y="184"/>
                  </a:lnTo>
                  <a:lnTo>
                    <a:pt x="1876" y="194"/>
                  </a:lnTo>
                  <a:lnTo>
                    <a:pt x="1882" y="208"/>
                  </a:lnTo>
                  <a:lnTo>
                    <a:pt x="1888" y="222"/>
                  </a:lnTo>
                  <a:lnTo>
                    <a:pt x="1894" y="238"/>
                  </a:lnTo>
                  <a:lnTo>
                    <a:pt x="1898" y="254"/>
                  </a:lnTo>
                  <a:lnTo>
                    <a:pt x="1900" y="272"/>
                  </a:lnTo>
                  <a:lnTo>
                    <a:pt x="1902" y="290"/>
                  </a:lnTo>
                  <a:lnTo>
                    <a:pt x="1902" y="290"/>
                  </a:lnTo>
                  <a:lnTo>
                    <a:pt x="1890" y="262"/>
                  </a:lnTo>
                  <a:lnTo>
                    <a:pt x="1878" y="240"/>
                  </a:lnTo>
                  <a:lnTo>
                    <a:pt x="1864" y="220"/>
                  </a:lnTo>
                  <a:lnTo>
                    <a:pt x="1850" y="204"/>
                  </a:lnTo>
                  <a:lnTo>
                    <a:pt x="1834" y="192"/>
                  </a:lnTo>
                  <a:lnTo>
                    <a:pt x="1818" y="180"/>
                  </a:lnTo>
                  <a:lnTo>
                    <a:pt x="1800" y="172"/>
                  </a:lnTo>
                  <a:lnTo>
                    <a:pt x="1782" y="166"/>
                  </a:lnTo>
                  <a:lnTo>
                    <a:pt x="1782" y="166"/>
                  </a:lnTo>
                  <a:close/>
                  <a:moveTo>
                    <a:pt x="1154" y="192"/>
                  </a:moveTo>
                  <a:lnTo>
                    <a:pt x="1154" y="192"/>
                  </a:lnTo>
                  <a:lnTo>
                    <a:pt x="1148" y="198"/>
                  </a:lnTo>
                  <a:lnTo>
                    <a:pt x="1140" y="204"/>
                  </a:lnTo>
                  <a:lnTo>
                    <a:pt x="1132" y="208"/>
                  </a:lnTo>
                  <a:lnTo>
                    <a:pt x="1122" y="210"/>
                  </a:lnTo>
                  <a:lnTo>
                    <a:pt x="1112" y="212"/>
                  </a:lnTo>
                  <a:lnTo>
                    <a:pt x="1102" y="212"/>
                  </a:lnTo>
                  <a:lnTo>
                    <a:pt x="1094" y="212"/>
                  </a:lnTo>
                  <a:lnTo>
                    <a:pt x="1084" y="208"/>
                  </a:lnTo>
                  <a:lnTo>
                    <a:pt x="1074" y="206"/>
                  </a:lnTo>
                  <a:lnTo>
                    <a:pt x="1066" y="200"/>
                  </a:lnTo>
                  <a:lnTo>
                    <a:pt x="1058" y="196"/>
                  </a:lnTo>
                  <a:lnTo>
                    <a:pt x="1050" y="188"/>
                  </a:lnTo>
                  <a:lnTo>
                    <a:pt x="1046" y="180"/>
                  </a:lnTo>
                  <a:lnTo>
                    <a:pt x="1040" y="172"/>
                  </a:lnTo>
                  <a:lnTo>
                    <a:pt x="1038" y="160"/>
                  </a:lnTo>
                  <a:lnTo>
                    <a:pt x="1036" y="150"/>
                  </a:lnTo>
                  <a:lnTo>
                    <a:pt x="1036" y="150"/>
                  </a:lnTo>
                  <a:lnTo>
                    <a:pt x="1042" y="158"/>
                  </a:lnTo>
                  <a:lnTo>
                    <a:pt x="1048" y="164"/>
                  </a:lnTo>
                  <a:lnTo>
                    <a:pt x="1056" y="170"/>
                  </a:lnTo>
                  <a:lnTo>
                    <a:pt x="1064" y="174"/>
                  </a:lnTo>
                  <a:lnTo>
                    <a:pt x="1082" y="180"/>
                  </a:lnTo>
                  <a:lnTo>
                    <a:pt x="1102" y="182"/>
                  </a:lnTo>
                  <a:lnTo>
                    <a:pt x="1138" y="184"/>
                  </a:lnTo>
                  <a:lnTo>
                    <a:pt x="1150" y="186"/>
                  </a:lnTo>
                  <a:lnTo>
                    <a:pt x="1152" y="188"/>
                  </a:lnTo>
                  <a:lnTo>
                    <a:pt x="1154" y="192"/>
                  </a:lnTo>
                  <a:lnTo>
                    <a:pt x="1154" y="192"/>
                  </a:lnTo>
                  <a:close/>
                  <a:moveTo>
                    <a:pt x="628" y="106"/>
                  </a:moveTo>
                  <a:lnTo>
                    <a:pt x="628" y="106"/>
                  </a:lnTo>
                  <a:lnTo>
                    <a:pt x="606" y="114"/>
                  </a:lnTo>
                  <a:lnTo>
                    <a:pt x="586" y="116"/>
                  </a:lnTo>
                  <a:lnTo>
                    <a:pt x="564" y="114"/>
                  </a:lnTo>
                  <a:lnTo>
                    <a:pt x="542" y="112"/>
                  </a:lnTo>
                  <a:lnTo>
                    <a:pt x="520" y="106"/>
                  </a:lnTo>
                  <a:lnTo>
                    <a:pt x="498" y="98"/>
                  </a:lnTo>
                  <a:lnTo>
                    <a:pt x="450" y="78"/>
                  </a:lnTo>
                  <a:lnTo>
                    <a:pt x="450" y="78"/>
                  </a:lnTo>
                  <a:lnTo>
                    <a:pt x="456" y="86"/>
                  </a:lnTo>
                  <a:lnTo>
                    <a:pt x="464" y="104"/>
                  </a:lnTo>
                  <a:lnTo>
                    <a:pt x="468" y="116"/>
                  </a:lnTo>
                  <a:lnTo>
                    <a:pt x="472" y="130"/>
                  </a:lnTo>
                  <a:lnTo>
                    <a:pt x="472" y="142"/>
                  </a:lnTo>
                  <a:lnTo>
                    <a:pt x="470" y="156"/>
                  </a:lnTo>
                  <a:lnTo>
                    <a:pt x="470" y="156"/>
                  </a:lnTo>
                  <a:lnTo>
                    <a:pt x="452" y="136"/>
                  </a:lnTo>
                  <a:lnTo>
                    <a:pt x="430" y="118"/>
                  </a:lnTo>
                  <a:lnTo>
                    <a:pt x="402" y="100"/>
                  </a:lnTo>
                  <a:lnTo>
                    <a:pt x="368" y="82"/>
                  </a:lnTo>
                  <a:lnTo>
                    <a:pt x="330" y="66"/>
                  </a:lnTo>
                  <a:lnTo>
                    <a:pt x="288" y="54"/>
                  </a:lnTo>
                  <a:lnTo>
                    <a:pt x="242" y="46"/>
                  </a:lnTo>
                  <a:lnTo>
                    <a:pt x="192" y="40"/>
                  </a:lnTo>
                  <a:lnTo>
                    <a:pt x="192" y="40"/>
                  </a:lnTo>
                  <a:lnTo>
                    <a:pt x="220" y="36"/>
                  </a:lnTo>
                  <a:lnTo>
                    <a:pt x="250" y="34"/>
                  </a:lnTo>
                  <a:lnTo>
                    <a:pt x="280" y="32"/>
                  </a:lnTo>
                  <a:lnTo>
                    <a:pt x="310" y="32"/>
                  </a:lnTo>
                  <a:lnTo>
                    <a:pt x="372" y="36"/>
                  </a:lnTo>
                  <a:lnTo>
                    <a:pt x="430" y="42"/>
                  </a:lnTo>
                  <a:lnTo>
                    <a:pt x="488" y="54"/>
                  </a:lnTo>
                  <a:lnTo>
                    <a:pt x="540" y="68"/>
                  </a:lnTo>
                  <a:lnTo>
                    <a:pt x="564" y="78"/>
                  </a:lnTo>
                  <a:lnTo>
                    <a:pt x="588" y="86"/>
                  </a:lnTo>
                  <a:lnTo>
                    <a:pt x="608" y="96"/>
                  </a:lnTo>
                  <a:lnTo>
                    <a:pt x="628" y="106"/>
                  </a:lnTo>
                  <a:lnTo>
                    <a:pt x="628" y="106"/>
                  </a:lnTo>
                  <a:close/>
                </a:path>
              </a:pathLst>
            </a:custGeom>
            <a:solidFill>
              <a:srgbClr val="cabb8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>
              <a:off x="2046240" y="1629000"/>
              <a:ext cx="612720" cy="76176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386" h="480">
                  <a:moveTo>
                    <a:pt x="248" y="2"/>
                  </a:moveTo>
                  <a:lnTo>
                    <a:pt x="248" y="2"/>
                  </a:lnTo>
                  <a:lnTo>
                    <a:pt x="222" y="0"/>
                  </a:lnTo>
                  <a:lnTo>
                    <a:pt x="194" y="2"/>
                  </a:lnTo>
                  <a:lnTo>
                    <a:pt x="168" y="8"/>
                  </a:lnTo>
                  <a:lnTo>
                    <a:pt x="140" y="18"/>
                  </a:lnTo>
                  <a:lnTo>
                    <a:pt x="116" y="32"/>
                  </a:lnTo>
                  <a:lnTo>
                    <a:pt x="92" y="50"/>
                  </a:lnTo>
                  <a:lnTo>
                    <a:pt x="70" y="70"/>
                  </a:lnTo>
                  <a:lnTo>
                    <a:pt x="50" y="94"/>
                  </a:lnTo>
                  <a:lnTo>
                    <a:pt x="32" y="120"/>
                  </a:lnTo>
                  <a:lnTo>
                    <a:pt x="18" y="150"/>
                  </a:lnTo>
                  <a:lnTo>
                    <a:pt x="8" y="182"/>
                  </a:lnTo>
                  <a:lnTo>
                    <a:pt x="2" y="216"/>
                  </a:lnTo>
                  <a:lnTo>
                    <a:pt x="2" y="234"/>
                  </a:lnTo>
                  <a:lnTo>
                    <a:pt x="0" y="252"/>
                  </a:lnTo>
                  <a:lnTo>
                    <a:pt x="2" y="270"/>
                  </a:lnTo>
                  <a:lnTo>
                    <a:pt x="4" y="290"/>
                  </a:lnTo>
                  <a:lnTo>
                    <a:pt x="8" y="310"/>
                  </a:lnTo>
                  <a:lnTo>
                    <a:pt x="12" y="330"/>
                  </a:lnTo>
                  <a:lnTo>
                    <a:pt x="20" y="350"/>
                  </a:lnTo>
                  <a:lnTo>
                    <a:pt x="28" y="372"/>
                  </a:lnTo>
                  <a:lnTo>
                    <a:pt x="28" y="372"/>
                  </a:lnTo>
                  <a:lnTo>
                    <a:pt x="44" y="402"/>
                  </a:lnTo>
                  <a:lnTo>
                    <a:pt x="64" y="430"/>
                  </a:lnTo>
                  <a:lnTo>
                    <a:pt x="74" y="442"/>
                  </a:lnTo>
                  <a:lnTo>
                    <a:pt x="84" y="452"/>
                  </a:lnTo>
                  <a:lnTo>
                    <a:pt x="94" y="460"/>
                  </a:lnTo>
                  <a:lnTo>
                    <a:pt x="104" y="464"/>
                  </a:lnTo>
                  <a:lnTo>
                    <a:pt x="104" y="464"/>
                  </a:lnTo>
                  <a:lnTo>
                    <a:pt x="122" y="472"/>
                  </a:lnTo>
                  <a:lnTo>
                    <a:pt x="140" y="476"/>
                  </a:lnTo>
                  <a:lnTo>
                    <a:pt x="156" y="478"/>
                  </a:lnTo>
                  <a:lnTo>
                    <a:pt x="170" y="480"/>
                  </a:lnTo>
                  <a:lnTo>
                    <a:pt x="186" y="478"/>
                  </a:lnTo>
                  <a:lnTo>
                    <a:pt x="200" y="476"/>
                  </a:lnTo>
                  <a:lnTo>
                    <a:pt x="212" y="472"/>
                  </a:lnTo>
                  <a:lnTo>
                    <a:pt x="224" y="466"/>
                  </a:lnTo>
                  <a:lnTo>
                    <a:pt x="234" y="460"/>
                  </a:lnTo>
                  <a:lnTo>
                    <a:pt x="244" y="452"/>
                  </a:lnTo>
                  <a:lnTo>
                    <a:pt x="254" y="442"/>
                  </a:lnTo>
                  <a:lnTo>
                    <a:pt x="262" y="432"/>
                  </a:lnTo>
                  <a:lnTo>
                    <a:pt x="274" y="412"/>
                  </a:lnTo>
                  <a:lnTo>
                    <a:pt x="284" y="388"/>
                  </a:lnTo>
                  <a:lnTo>
                    <a:pt x="288" y="366"/>
                  </a:lnTo>
                  <a:lnTo>
                    <a:pt x="288" y="342"/>
                  </a:lnTo>
                  <a:lnTo>
                    <a:pt x="286" y="332"/>
                  </a:lnTo>
                  <a:lnTo>
                    <a:pt x="282" y="322"/>
                  </a:lnTo>
                  <a:lnTo>
                    <a:pt x="278" y="312"/>
                  </a:lnTo>
                  <a:lnTo>
                    <a:pt x="272" y="304"/>
                  </a:lnTo>
                  <a:lnTo>
                    <a:pt x="266" y="296"/>
                  </a:lnTo>
                  <a:lnTo>
                    <a:pt x="258" y="290"/>
                  </a:lnTo>
                  <a:lnTo>
                    <a:pt x="248" y="286"/>
                  </a:lnTo>
                  <a:lnTo>
                    <a:pt x="238" y="282"/>
                  </a:lnTo>
                  <a:lnTo>
                    <a:pt x="226" y="280"/>
                  </a:lnTo>
                  <a:lnTo>
                    <a:pt x="212" y="280"/>
                  </a:lnTo>
                  <a:lnTo>
                    <a:pt x="198" y="282"/>
                  </a:lnTo>
                  <a:lnTo>
                    <a:pt x="182" y="284"/>
                  </a:lnTo>
                  <a:lnTo>
                    <a:pt x="182" y="284"/>
                  </a:lnTo>
                  <a:lnTo>
                    <a:pt x="198" y="286"/>
                  </a:lnTo>
                  <a:lnTo>
                    <a:pt x="210" y="288"/>
                  </a:lnTo>
                  <a:lnTo>
                    <a:pt x="220" y="294"/>
                  </a:lnTo>
                  <a:lnTo>
                    <a:pt x="228" y="300"/>
                  </a:lnTo>
                  <a:lnTo>
                    <a:pt x="234" y="308"/>
                  </a:lnTo>
                  <a:lnTo>
                    <a:pt x="236" y="316"/>
                  </a:lnTo>
                  <a:lnTo>
                    <a:pt x="236" y="326"/>
                  </a:lnTo>
                  <a:lnTo>
                    <a:pt x="234" y="336"/>
                  </a:lnTo>
                  <a:lnTo>
                    <a:pt x="232" y="346"/>
                  </a:lnTo>
                  <a:lnTo>
                    <a:pt x="226" y="356"/>
                  </a:lnTo>
                  <a:lnTo>
                    <a:pt x="220" y="366"/>
                  </a:lnTo>
                  <a:lnTo>
                    <a:pt x="210" y="374"/>
                  </a:lnTo>
                  <a:lnTo>
                    <a:pt x="200" y="382"/>
                  </a:lnTo>
                  <a:lnTo>
                    <a:pt x="188" y="388"/>
                  </a:lnTo>
                  <a:lnTo>
                    <a:pt x="176" y="392"/>
                  </a:lnTo>
                  <a:lnTo>
                    <a:pt x="162" y="394"/>
                  </a:lnTo>
                  <a:lnTo>
                    <a:pt x="162" y="394"/>
                  </a:lnTo>
                  <a:lnTo>
                    <a:pt x="166" y="384"/>
                  </a:lnTo>
                  <a:lnTo>
                    <a:pt x="170" y="374"/>
                  </a:lnTo>
                  <a:lnTo>
                    <a:pt x="172" y="362"/>
                  </a:lnTo>
                  <a:lnTo>
                    <a:pt x="172" y="354"/>
                  </a:lnTo>
                  <a:lnTo>
                    <a:pt x="170" y="344"/>
                  </a:lnTo>
                  <a:lnTo>
                    <a:pt x="166" y="336"/>
                  </a:lnTo>
                  <a:lnTo>
                    <a:pt x="162" y="328"/>
                  </a:lnTo>
                  <a:lnTo>
                    <a:pt x="154" y="322"/>
                  </a:lnTo>
                  <a:lnTo>
                    <a:pt x="154" y="322"/>
                  </a:lnTo>
                  <a:lnTo>
                    <a:pt x="150" y="336"/>
                  </a:lnTo>
                  <a:lnTo>
                    <a:pt x="144" y="346"/>
                  </a:lnTo>
                  <a:lnTo>
                    <a:pt x="136" y="354"/>
                  </a:lnTo>
                  <a:lnTo>
                    <a:pt x="130" y="362"/>
                  </a:lnTo>
                  <a:lnTo>
                    <a:pt x="122" y="366"/>
                  </a:lnTo>
                  <a:lnTo>
                    <a:pt x="114" y="368"/>
                  </a:lnTo>
                  <a:lnTo>
                    <a:pt x="106" y="370"/>
                  </a:lnTo>
                  <a:lnTo>
                    <a:pt x="98" y="368"/>
                  </a:lnTo>
                  <a:lnTo>
                    <a:pt x="82" y="364"/>
                  </a:lnTo>
                  <a:lnTo>
                    <a:pt x="68" y="356"/>
                  </a:lnTo>
                  <a:lnTo>
                    <a:pt x="56" y="348"/>
                  </a:lnTo>
                  <a:lnTo>
                    <a:pt x="50" y="338"/>
                  </a:lnTo>
                  <a:lnTo>
                    <a:pt x="50" y="338"/>
                  </a:lnTo>
                  <a:lnTo>
                    <a:pt x="44" y="318"/>
                  </a:lnTo>
                  <a:lnTo>
                    <a:pt x="42" y="302"/>
                  </a:lnTo>
                  <a:lnTo>
                    <a:pt x="44" y="288"/>
                  </a:lnTo>
                  <a:lnTo>
                    <a:pt x="50" y="276"/>
                  </a:lnTo>
                  <a:lnTo>
                    <a:pt x="58" y="266"/>
                  </a:lnTo>
                  <a:lnTo>
                    <a:pt x="68" y="260"/>
                  </a:lnTo>
                  <a:lnTo>
                    <a:pt x="80" y="258"/>
                  </a:lnTo>
                  <a:lnTo>
                    <a:pt x="90" y="260"/>
                  </a:lnTo>
                  <a:lnTo>
                    <a:pt x="90" y="260"/>
                  </a:lnTo>
                  <a:lnTo>
                    <a:pt x="74" y="236"/>
                  </a:lnTo>
                  <a:lnTo>
                    <a:pt x="64" y="216"/>
                  </a:lnTo>
                  <a:lnTo>
                    <a:pt x="58" y="196"/>
                  </a:lnTo>
                  <a:lnTo>
                    <a:pt x="58" y="178"/>
                  </a:lnTo>
                  <a:lnTo>
                    <a:pt x="62" y="162"/>
                  </a:lnTo>
                  <a:lnTo>
                    <a:pt x="68" y="146"/>
                  </a:lnTo>
                  <a:lnTo>
                    <a:pt x="78" y="134"/>
                  </a:lnTo>
                  <a:lnTo>
                    <a:pt x="90" y="124"/>
                  </a:lnTo>
                  <a:lnTo>
                    <a:pt x="104" y="114"/>
                  </a:lnTo>
                  <a:lnTo>
                    <a:pt x="120" y="108"/>
                  </a:lnTo>
                  <a:lnTo>
                    <a:pt x="136" y="102"/>
                  </a:lnTo>
                  <a:lnTo>
                    <a:pt x="152" y="100"/>
                  </a:lnTo>
                  <a:lnTo>
                    <a:pt x="168" y="100"/>
                  </a:lnTo>
                  <a:lnTo>
                    <a:pt x="182" y="102"/>
                  </a:lnTo>
                  <a:lnTo>
                    <a:pt x="196" y="108"/>
                  </a:lnTo>
                  <a:lnTo>
                    <a:pt x="208" y="114"/>
                  </a:lnTo>
                  <a:lnTo>
                    <a:pt x="208" y="114"/>
                  </a:lnTo>
                  <a:lnTo>
                    <a:pt x="210" y="108"/>
                  </a:lnTo>
                  <a:lnTo>
                    <a:pt x="212" y="102"/>
                  </a:lnTo>
                  <a:lnTo>
                    <a:pt x="214" y="92"/>
                  </a:lnTo>
                  <a:lnTo>
                    <a:pt x="212" y="82"/>
                  </a:lnTo>
                  <a:lnTo>
                    <a:pt x="208" y="72"/>
                  </a:lnTo>
                  <a:lnTo>
                    <a:pt x="200" y="60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200" y="42"/>
                  </a:lnTo>
                  <a:lnTo>
                    <a:pt x="216" y="38"/>
                  </a:lnTo>
                  <a:lnTo>
                    <a:pt x="234" y="38"/>
                  </a:lnTo>
                  <a:lnTo>
                    <a:pt x="252" y="40"/>
                  </a:lnTo>
                  <a:lnTo>
                    <a:pt x="268" y="44"/>
                  </a:lnTo>
                  <a:lnTo>
                    <a:pt x="284" y="52"/>
                  </a:lnTo>
                  <a:lnTo>
                    <a:pt x="298" y="62"/>
                  </a:lnTo>
                  <a:lnTo>
                    <a:pt x="308" y="76"/>
                  </a:lnTo>
                  <a:lnTo>
                    <a:pt x="308" y="76"/>
                  </a:lnTo>
                  <a:lnTo>
                    <a:pt x="316" y="92"/>
                  </a:lnTo>
                  <a:lnTo>
                    <a:pt x="316" y="100"/>
                  </a:lnTo>
                  <a:lnTo>
                    <a:pt x="318" y="108"/>
                  </a:lnTo>
                  <a:lnTo>
                    <a:pt x="316" y="116"/>
                  </a:lnTo>
                  <a:lnTo>
                    <a:pt x="314" y="124"/>
                  </a:lnTo>
                  <a:lnTo>
                    <a:pt x="310" y="130"/>
                  </a:lnTo>
                  <a:lnTo>
                    <a:pt x="306" y="136"/>
                  </a:lnTo>
                  <a:lnTo>
                    <a:pt x="300" y="142"/>
                  </a:lnTo>
                  <a:lnTo>
                    <a:pt x="292" y="146"/>
                  </a:lnTo>
                  <a:lnTo>
                    <a:pt x="284" y="150"/>
                  </a:lnTo>
                  <a:lnTo>
                    <a:pt x="272" y="152"/>
                  </a:lnTo>
                  <a:lnTo>
                    <a:pt x="260" y="152"/>
                  </a:lnTo>
                  <a:lnTo>
                    <a:pt x="248" y="150"/>
                  </a:lnTo>
                  <a:lnTo>
                    <a:pt x="232" y="148"/>
                  </a:lnTo>
                  <a:lnTo>
                    <a:pt x="216" y="142"/>
                  </a:lnTo>
                  <a:lnTo>
                    <a:pt x="216" y="142"/>
                  </a:lnTo>
                  <a:lnTo>
                    <a:pt x="228" y="170"/>
                  </a:lnTo>
                  <a:lnTo>
                    <a:pt x="240" y="192"/>
                  </a:lnTo>
                  <a:lnTo>
                    <a:pt x="252" y="210"/>
                  </a:lnTo>
                  <a:lnTo>
                    <a:pt x="266" y="222"/>
                  </a:lnTo>
                  <a:lnTo>
                    <a:pt x="278" y="230"/>
                  </a:lnTo>
                  <a:lnTo>
                    <a:pt x="292" y="236"/>
                  </a:lnTo>
                  <a:lnTo>
                    <a:pt x="306" y="238"/>
                  </a:lnTo>
                  <a:lnTo>
                    <a:pt x="318" y="236"/>
                  </a:lnTo>
                  <a:lnTo>
                    <a:pt x="332" y="232"/>
                  </a:lnTo>
                  <a:lnTo>
                    <a:pt x="342" y="226"/>
                  </a:lnTo>
                  <a:lnTo>
                    <a:pt x="354" y="216"/>
                  </a:lnTo>
                  <a:lnTo>
                    <a:pt x="364" y="206"/>
                  </a:lnTo>
                  <a:lnTo>
                    <a:pt x="372" y="194"/>
                  </a:lnTo>
                  <a:lnTo>
                    <a:pt x="378" y="180"/>
                  </a:lnTo>
                  <a:lnTo>
                    <a:pt x="382" y="166"/>
                  </a:lnTo>
                  <a:lnTo>
                    <a:pt x="386" y="152"/>
                  </a:lnTo>
                  <a:lnTo>
                    <a:pt x="386" y="152"/>
                  </a:lnTo>
                  <a:lnTo>
                    <a:pt x="386" y="140"/>
                  </a:lnTo>
                  <a:lnTo>
                    <a:pt x="384" y="130"/>
                  </a:lnTo>
                  <a:lnTo>
                    <a:pt x="382" y="118"/>
                  </a:lnTo>
                  <a:lnTo>
                    <a:pt x="378" y="106"/>
                  </a:lnTo>
                  <a:lnTo>
                    <a:pt x="368" y="82"/>
                  </a:lnTo>
                  <a:lnTo>
                    <a:pt x="352" y="60"/>
                  </a:lnTo>
                  <a:lnTo>
                    <a:pt x="342" y="50"/>
                  </a:lnTo>
                  <a:lnTo>
                    <a:pt x="332" y="40"/>
                  </a:lnTo>
                  <a:lnTo>
                    <a:pt x="320" y="30"/>
                  </a:lnTo>
                  <a:lnTo>
                    <a:pt x="306" y="22"/>
                  </a:lnTo>
                  <a:lnTo>
                    <a:pt x="294" y="14"/>
                  </a:lnTo>
                  <a:lnTo>
                    <a:pt x="280" y="10"/>
                  </a:lnTo>
                  <a:lnTo>
                    <a:pt x="264" y="4"/>
                  </a:lnTo>
                  <a:lnTo>
                    <a:pt x="248" y="2"/>
                  </a:lnTo>
                  <a:lnTo>
                    <a:pt x="248" y="2"/>
                  </a:lnTo>
                  <a:close/>
                  <a:moveTo>
                    <a:pt x="248" y="380"/>
                  </a:moveTo>
                  <a:lnTo>
                    <a:pt x="248" y="380"/>
                  </a:lnTo>
                  <a:lnTo>
                    <a:pt x="248" y="394"/>
                  </a:lnTo>
                  <a:lnTo>
                    <a:pt x="246" y="406"/>
                  </a:lnTo>
                  <a:lnTo>
                    <a:pt x="244" y="416"/>
                  </a:lnTo>
                  <a:lnTo>
                    <a:pt x="238" y="426"/>
                  </a:lnTo>
                  <a:lnTo>
                    <a:pt x="232" y="434"/>
                  </a:lnTo>
                  <a:lnTo>
                    <a:pt x="224" y="440"/>
                  </a:lnTo>
                  <a:lnTo>
                    <a:pt x="216" y="446"/>
                  </a:lnTo>
                  <a:lnTo>
                    <a:pt x="208" y="450"/>
                  </a:lnTo>
                  <a:lnTo>
                    <a:pt x="198" y="452"/>
                  </a:lnTo>
                  <a:lnTo>
                    <a:pt x="188" y="452"/>
                  </a:lnTo>
                  <a:lnTo>
                    <a:pt x="178" y="452"/>
                  </a:lnTo>
                  <a:lnTo>
                    <a:pt x="168" y="450"/>
                  </a:lnTo>
                  <a:lnTo>
                    <a:pt x="156" y="446"/>
                  </a:lnTo>
                  <a:lnTo>
                    <a:pt x="146" y="440"/>
                  </a:lnTo>
                  <a:lnTo>
                    <a:pt x="136" y="434"/>
                  </a:lnTo>
                  <a:lnTo>
                    <a:pt x="128" y="426"/>
                  </a:lnTo>
                  <a:lnTo>
                    <a:pt x="128" y="426"/>
                  </a:lnTo>
                  <a:lnTo>
                    <a:pt x="142" y="430"/>
                  </a:lnTo>
                  <a:lnTo>
                    <a:pt x="158" y="430"/>
                  </a:lnTo>
                  <a:lnTo>
                    <a:pt x="176" y="428"/>
                  </a:lnTo>
                  <a:lnTo>
                    <a:pt x="194" y="422"/>
                  </a:lnTo>
                  <a:lnTo>
                    <a:pt x="210" y="416"/>
                  </a:lnTo>
                  <a:lnTo>
                    <a:pt x="226" y="406"/>
                  </a:lnTo>
                  <a:lnTo>
                    <a:pt x="238" y="394"/>
                  </a:lnTo>
                  <a:lnTo>
                    <a:pt x="248" y="380"/>
                  </a:lnTo>
                  <a:lnTo>
                    <a:pt x="248" y="380"/>
                  </a:lnTo>
                  <a:close/>
                </a:path>
              </a:pathLst>
            </a:custGeom>
            <a:solidFill>
              <a:srgbClr val="cabb8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3"/>
            <p:cNvSpPr/>
            <p:nvPr/>
          </p:nvSpPr>
          <p:spPr>
            <a:xfrm>
              <a:off x="1468440" y="2594160"/>
              <a:ext cx="460080" cy="43164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90" h="272">
                  <a:moveTo>
                    <a:pt x="2" y="176"/>
                  </a:moveTo>
                  <a:lnTo>
                    <a:pt x="2" y="176"/>
                  </a:lnTo>
                  <a:lnTo>
                    <a:pt x="8" y="200"/>
                  </a:lnTo>
                  <a:lnTo>
                    <a:pt x="16" y="220"/>
                  </a:lnTo>
                  <a:lnTo>
                    <a:pt x="28" y="238"/>
                  </a:lnTo>
                  <a:lnTo>
                    <a:pt x="34" y="244"/>
                  </a:lnTo>
                  <a:lnTo>
                    <a:pt x="40" y="250"/>
                  </a:lnTo>
                  <a:lnTo>
                    <a:pt x="40" y="250"/>
                  </a:lnTo>
                  <a:lnTo>
                    <a:pt x="56" y="260"/>
                  </a:lnTo>
                  <a:lnTo>
                    <a:pt x="72" y="266"/>
                  </a:lnTo>
                  <a:lnTo>
                    <a:pt x="90" y="270"/>
                  </a:lnTo>
                  <a:lnTo>
                    <a:pt x="108" y="272"/>
                  </a:lnTo>
                  <a:lnTo>
                    <a:pt x="126" y="272"/>
                  </a:lnTo>
                  <a:lnTo>
                    <a:pt x="142" y="268"/>
                  </a:lnTo>
                  <a:lnTo>
                    <a:pt x="156" y="262"/>
                  </a:lnTo>
                  <a:lnTo>
                    <a:pt x="168" y="252"/>
                  </a:lnTo>
                  <a:lnTo>
                    <a:pt x="168" y="252"/>
                  </a:lnTo>
                  <a:lnTo>
                    <a:pt x="152" y="252"/>
                  </a:lnTo>
                  <a:lnTo>
                    <a:pt x="138" y="252"/>
                  </a:lnTo>
                  <a:lnTo>
                    <a:pt x="124" y="250"/>
                  </a:lnTo>
                  <a:lnTo>
                    <a:pt x="112" y="248"/>
                  </a:lnTo>
                  <a:lnTo>
                    <a:pt x="100" y="244"/>
                  </a:lnTo>
                  <a:lnTo>
                    <a:pt x="90" y="240"/>
                  </a:lnTo>
                  <a:lnTo>
                    <a:pt x="80" y="234"/>
                  </a:lnTo>
                  <a:lnTo>
                    <a:pt x="72" y="228"/>
                  </a:lnTo>
                  <a:lnTo>
                    <a:pt x="64" y="220"/>
                  </a:lnTo>
                  <a:lnTo>
                    <a:pt x="58" y="212"/>
                  </a:lnTo>
                  <a:lnTo>
                    <a:pt x="54" y="204"/>
                  </a:lnTo>
                  <a:lnTo>
                    <a:pt x="50" y="196"/>
                  </a:lnTo>
                  <a:lnTo>
                    <a:pt x="48" y="188"/>
                  </a:lnTo>
                  <a:lnTo>
                    <a:pt x="46" y="178"/>
                  </a:lnTo>
                  <a:lnTo>
                    <a:pt x="46" y="168"/>
                  </a:lnTo>
                  <a:lnTo>
                    <a:pt x="48" y="160"/>
                  </a:lnTo>
                  <a:lnTo>
                    <a:pt x="48" y="160"/>
                  </a:lnTo>
                  <a:lnTo>
                    <a:pt x="54" y="136"/>
                  </a:lnTo>
                  <a:lnTo>
                    <a:pt x="64" y="118"/>
                  </a:lnTo>
                  <a:lnTo>
                    <a:pt x="74" y="106"/>
                  </a:lnTo>
                  <a:lnTo>
                    <a:pt x="86" y="100"/>
                  </a:lnTo>
                  <a:lnTo>
                    <a:pt x="98" y="98"/>
                  </a:lnTo>
                  <a:lnTo>
                    <a:pt x="110" y="100"/>
                  </a:lnTo>
                  <a:lnTo>
                    <a:pt x="122" y="104"/>
                  </a:lnTo>
                  <a:lnTo>
                    <a:pt x="132" y="112"/>
                  </a:lnTo>
                  <a:lnTo>
                    <a:pt x="142" y="120"/>
                  </a:lnTo>
                  <a:lnTo>
                    <a:pt x="148" y="130"/>
                  </a:lnTo>
                  <a:lnTo>
                    <a:pt x="154" y="142"/>
                  </a:lnTo>
                  <a:lnTo>
                    <a:pt x="156" y="152"/>
                  </a:lnTo>
                  <a:lnTo>
                    <a:pt x="154" y="162"/>
                  </a:lnTo>
                  <a:lnTo>
                    <a:pt x="148" y="170"/>
                  </a:lnTo>
                  <a:lnTo>
                    <a:pt x="138" y="176"/>
                  </a:lnTo>
                  <a:lnTo>
                    <a:pt x="122" y="178"/>
                  </a:lnTo>
                  <a:lnTo>
                    <a:pt x="122" y="178"/>
                  </a:lnTo>
                  <a:lnTo>
                    <a:pt x="138" y="188"/>
                  </a:lnTo>
                  <a:lnTo>
                    <a:pt x="152" y="194"/>
                  </a:lnTo>
                  <a:lnTo>
                    <a:pt x="164" y="198"/>
                  </a:lnTo>
                  <a:lnTo>
                    <a:pt x="178" y="200"/>
                  </a:lnTo>
                  <a:lnTo>
                    <a:pt x="190" y="200"/>
                  </a:lnTo>
                  <a:lnTo>
                    <a:pt x="200" y="198"/>
                  </a:lnTo>
                  <a:lnTo>
                    <a:pt x="210" y="194"/>
                  </a:lnTo>
                  <a:lnTo>
                    <a:pt x="220" y="188"/>
                  </a:lnTo>
                  <a:lnTo>
                    <a:pt x="228" y="180"/>
                  </a:lnTo>
                  <a:lnTo>
                    <a:pt x="234" y="170"/>
                  </a:lnTo>
                  <a:lnTo>
                    <a:pt x="238" y="160"/>
                  </a:lnTo>
                  <a:lnTo>
                    <a:pt x="242" y="148"/>
                  </a:lnTo>
                  <a:lnTo>
                    <a:pt x="242" y="136"/>
                  </a:lnTo>
                  <a:lnTo>
                    <a:pt x="242" y="124"/>
                  </a:lnTo>
                  <a:lnTo>
                    <a:pt x="240" y="110"/>
                  </a:lnTo>
                  <a:lnTo>
                    <a:pt x="236" y="96"/>
                  </a:lnTo>
                  <a:lnTo>
                    <a:pt x="236" y="96"/>
                  </a:lnTo>
                  <a:lnTo>
                    <a:pt x="260" y="84"/>
                  </a:lnTo>
                  <a:lnTo>
                    <a:pt x="290" y="68"/>
                  </a:lnTo>
                  <a:lnTo>
                    <a:pt x="290" y="68"/>
                  </a:lnTo>
                  <a:lnTo>
                    <a:pt x="278" y="52"/>
                  </a:lnTo>
                  <a:lnTo>
                    <a:pt x="266" y="42"/>
                  </a:lnTo>
                  <a:lnTo>
                    <a:pt x="254" y="32"/>
                  </a:lnTo>
                  <a:lnTo>
                    <a:pt x="242" y="26"/>
                  </a:lnTo>
                  <a:lnTo>
                    <a:pt x="216" y="14"/>
                  </a:lnTo>
                  <a:lnTo>
                    <a:pt x="188" y="6"/>
                  </a:lnTo>
                  <a:lnTo>
                    <a:pt x="188" y="6"/>
                  </a:lnTo>
                  <a:lnTo>
                    <a:pt x="180" y="2"/>
                  </a:lnTo>
                  <a:lnTo>
                    <a:pt x="168" y="0"/>
                  </a:lnTo>
                  <a:lnTo>
                    <a:pt x="140" y="0"/>
                  </a:lnTo>
                  <a:lnTo>
                    <a:pt x="112" y="2"/>
                  </a:lnTo>
                  <a:lnTo>
                    <a:pt x="102" y="4"/>
                  </a:lnTo>
                  <a:lnTo>
                    <a:pt x="94" y="6"/>
                  </a:lnTo>
                  <a:lnTo>
                    <a:pt x="94" y="6"/>
                  </a:lnTo>
                  <a:lnTo>
                    <a:pt x="70" y="20"/>
                  </a:lnTo>
                  <a:lnTo>
                    <a:pt x="50" y="38"/>
                  </a:lnTo>
                  <a:lnTo>
                    <a:pt x="32" y="58"/>
                  </a:lnTo>
                  <a:lnTo>
                    <a:pt x="18" y="80"/>
                  </a:lnTo>
                  <a:lnTo>
                    <a:pt x="8" y="102"/>
                  </a:lnTo>
                  <a:lnTo>
                    <a:pt x="2" y="126"/>
                  </a:lnTo>
                  <a:lnTo>
                    <a:pt x="0" y="150"/>
                  </a:lnTo>
                  <a:lnTo>
                    <a:pt x="2" y="176"/>
                  </a:lnTo>
                  <a:lnTo>
                    <a:pt x="2" y="176"/>
                  </a:lnTo>
                  <a:close/>
                  <a:moveTo>
                    <a:pt x="224" y="52"/>
                  </a:moveTo>
                  <a:lnTo>
                    <a:pt x="224" y="52"/>
                  </a:lnTo>
                  <a:lnTo>
                    <a:pt x="198" y="64"/>
                  </a:lnTo>
                  <a:lnTo>
                    <a:pt x="188" y="72"/>
                  </a:lnTo>
                  <a:lnTo>
                    <a:pt x="180" y="78"/>
                  </a:lnTo>
                  <a:lnTo>
                    <a:pt x="180" y="78"/>
                  </a:lnTo>
                  <a:lnTo>
                    <a:pt x="188" y="84"/>
                  </a:lnTo>
                  <a:lnTo>
                    <a:pt x="194" y="92"/>
                  </a:lnTo>
                  <a:lnTo>
                    <a:pt x="200" y="102"/>
                  </a:lnTo>
                  <a:lnTo>
                    <a:pt x="202" y="112"/>
                  </a:lnTo>
                  <a:lnTo>
                    <a:pt x="204" y="122"/>
                  </a:lnTo>
                  <a:lnTo>
                    <a:pt x="204" y="134"/>
                  </a:lnTo>
                  <a:lnTo>
                    <a:pt x="200" y="144"/>
                  </a:lnTo>
                  <a:lnTo>
                    <a:pt x="194" y="152"/>
                  </a:lnTo>
                  <a:lnTo>
                    <a:pt x="194" y="152"/>
                  </a:lnTo>
                  <a:lnTo>
                    <a:pt x="194" y="140"/>
                  </a:lnTo>
                  <a:lnTo>
                    <a:pt x="188" y="124"/>
                  </a:lnTo>
                  <a:lnTo>
                    <a:pt x="180" y="106"/>
                  </a:lnTo>
                  <a:lnTo>
                    <a:pt x="174" y="96"/>
                  </a:lnTo>
                  <a:lnTo>
                    <a:pt x="166" y="88"/>
                  </a:lnTo>
                  <a:lnTo>
                    <a:pt x="158" y="80"/>
                  </a:lnTo>
                  <a:lnTo>
                    <a:pt x="148" y="74"/>
                  </a:lnTo>
                  <a:lnTo>
                    <a:pt x="138" y="68"/>
                  </a:lnTo>
                  <a:lnTo>
                    <a:pt x="126" y="64"/>
                  </a:lnTo>
                  <a:lnTo>
                    <a:pt x="112" y="62"/>
                  </a:lnTo>
                  <a:lnTo>
                    <a:pt x="98" y="64"/>
                  </a:lnTo>
                  <a:lnTo>
                    <a:pt x="82" y="66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78" y="62"/>
                  </a:lnTo>
                  <a:lnTo>
                    <a:pt x="92" y="54"/>
                  </a:lnTo>
                  <a:lnTo>
                    <a:pt x="108" y="48"/>
                  </a:lnTo>
                  <a:lnTo>
                    <a:pt x="126" y="42"/>
                  </a:lnTo>
                  <a:lnTo>
                    <a:pt x="146" y="40"/>
                  </a:lnTo>
                  <a:lnTo>
                    <a:pt x="168" y="40"/>
                  </a:lnTo>
                  <a:lnTo>
                    <a:pt x="194" y="44"/>
                  </a:lnTo>
                  <a:lnTo>
                    <a:pt x="224" y="52"/>
                  </a:lnTo>
                  <a:lnTo>
                    <a:pt x="224" y="52"/>
                  </a:lnTo>
                  <a:close/>
                </a:path>
              </a:pathLst>
            </a:custGeom>
            <a:solidFill>
              <a:srgbClr val="cabb8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4"/>
            <p:cNvSpPr/>
            <p:nvPr/>
          </p:nvSpPr>
          <p:spPr>
            <a:xfrm>
              <a:off x="401400" y="289080"/>
              <a:ext cx="1952640" cy="4822920"/>
            </a:xfrm>
            <a:custGeom>
              <a:avLst/>
              <a:gdLst>
                <a:gd name="textAreaLeft" fmla="*/ 0 w 1952640"/>
                <a:gd name="textAreaRight" fmla="*/ 1952640 w 1952640"/>
                <a:gd name="textAreaTop" fmla="*/ 0 h 4822920"/>
                <a:gd name="textAreaBottom" fmla="*/ 4823280 h 4822920"/>
              </a:gdLst>
              <a:ahLst/>
              <a:rect l="textAreaLeft" t="textAreaTop" r="textAreaRight" b="textAreaBottom"/>
              <a:pathLst>
                <a:path w="1230" h="3038">
                  <a:moveTo>
                    <a:pt x="148" y="208"/>
                  </a:moveTo>
                  <a:lnTo>
                    <a:pt x="148" y="208"/>
                  </a:lnTo>
                  <a:lnTo>
                    <a:pt x="130" y="218"/>
                  </a:lnTo>
                  <a:lnTo>
                    <a:pt x="112" y="226"/>
                  </a:lnTo>
                  <a:lnTo>
                    <a:pt x="90" y="230"/>
                  </a:lnTo>
                  <a:lnTo>
                    <a:pt x="70" y="234"/>
                  </a:lnTo>
                  <a:lnTo>
                    <a:pt x="50" y="236"/>
                  </a:lnTo>
                  <a:lnTo>
                    <a:pt x="30" y="234"/>
                  </a:lnTo>
                  <a:lnTo>
                    <a:pt x="14" y="232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8" y="236"/>
                  </a:lnTo>
                  <a:lnTo>
                    <a:pt x="18" y="244"/>
                  </a:lnTo>
                  <a:lnTo>
                    <a:pt x="30" y="252"/>
                  </a:lnTo>
                  <a:lnTo>
                    <a:pt x="40" y="256"/>
                  </a:lnTo>
                  <a:lnTo>
                    <a:pt x="64" y="264"/>
                  </a:lnTo>
                  <a:lnTo>
                    <a:pt x="90" y="270"/>
                  </a:lnTo>
                  <a:lnTo>
                    <a:pt x="116" y="270"/>
                  </a:lnTo>
                  <a:lnTo>
                    <a:pt x="142" y="268"/>
                  </a:lnTo>
                  <a:lnTo>
                    <a:pt x="166" y="264"/>
                  </a:lnTo>
                  <a:lnTo>
                    <a:pt x="188" y="258"/>
                  </a:lnTo>
                  <a:lnTo>
                    <a:pt x="188" y="258"/>
                  </a:lnTo>
                  <a:lnTo>
                    <a:pt x="164" y="292"/>
                  </a:lnTo>
                  <a:lnTo>
                    <a:pt x="142" y="328"/>
                  </a:lnTo>
                  <a:lnTo>
                    <a:pt x="122" y="366"/>
                  </a:lnTo>
                  <a:lnTo>
                    <a:pt x="104" y="406"/>
                  </a:lnTo>
                  <a:lnTo>
                    <a:pt x="90" y="448"/>
                  </a:lnTo>
                  <a:lnTo>
                    <a:pt x="78" y="490"/>
                  </a:lnTo>
                  <a:lnTo>
                    <a:pt x="66" y="534"/>
                  </a:lnTo>
                  <a:lnTo>
                    <a:pt x="58" y="578"/>
                  </a:lnTo>
                  <a:lnTo>
                    <a:pt x="52" y="622"/>
                  </a:lnTo>
                  <a:lnTo>
                    <a:pt x="48" y="666"/>
                  </a:lnTo>
                  <a:lnTo>
                    <a:pt x="48" y="710"/>
                  </a:lnTo>
                  <a:lnTo>
                    <a:pt x="48" y="752"/>
                  </a:lnTo>
                  <a:lnTo>
                    <a:pt x="50" y="792"/>
                  </a:lnTo>
                  <a:lnTo>
                    <a:pt x="54" y="832"/>
                  </a:lnTo>
                  <a:lnTo>
                    <a:pt x="60" y="868"/>
                  </a:lnTo>
                  <a:lnTo>
                    <a:pt x="70" y="902"/>
                  </a:lnTo>
                  <a:lnTo>
                    <a:pt x="70" y="902"/>
                  </a:lnTo>
                  <a:lnTo>
                    <a:pt x="88" y="964"/>
                  </a:lnTo>
                  <a:lnTo>
                    <a:pt x="110" y="1022"/>
                  </a:lnTo>
                  <a:lnTo>
                    <a:pt x="134" y="1076"/>
                  </a:lnTo>
                  <a:lnTo>
                    <a:pt x="158" y="1124"/>
                  </a:lnTo>
                  <a:lnTo>
                    <a:pt x="184" y="1170"/>
                  </a:lnTo>
                  <a:lnTo>
                    <a:pt x="210" y="1212"/>
                  </a:lnTo>
                  <a:lnTo>
                    <a:pt x="236" y="1250"/>
                  </a:lnTo>
                  <a:lnTo>
                    <a:pt x="262" y="1284"/>
                  </a:lnTo>
                  <a:lnTo>
                    <a:pt x="262" y="1284"/>
                  </a:lnTo>
                  <a:lnTo>
                    <a:pt x="276" y="1308"/>
                  </a:lnTo>
                  <a:lnTo>
                    <a:pt x="292" y="1332"/>
                  </a:lnTo>
                  <a:lnTo>
                    <a:pt x="304" y="1358"/>
                  </a:lnTo>
                  <a:lnTo>
                    <a:pt x="316" y="1386"/>
                  </a:lnTo>
                  <a:lnTo>
                    <a:pt x="326" y="1414"/>
                  </a:lnTo>
                  <a:lnTo>
                    <a:pt x="334" y="1444"/>
                  </a:lnTo>
                  <a:lnTo>
                    <a:pt x="340" y="1474"/>
                  </a:lnTo>
                  <a:lnTo>
                    <a:pt x="344" y="1502"/>
                  </a:lnTo>
                  <a:lnTo>
                    <a:pt x="346" y="1530"/>
                  </a:lnTo>
                  <a:lnTo>
                    <a:pt x="346" y="1558"/>
                  </a:lnTo>
                  <a:lnTo>
                    <a:pt x="342" y="1582"/>
                  </a:lnTo>
                  <a:lnTo>
                    <a:pt x="338" y="1606"/>
                  </a:lnTo>
                  <a:lnTo>
                    <a:pt x="328" y="1628"/>
                  </a:lnTo>
                  <a:lnTo>
                    <a:pt x="318" y="1646"/>
                  </a:lnTo>
                  <a:lnTo>
                    <a:pt x="304" y="1662"/>
                  </a:lnTo>
                  <a:lnTo>
                    <a:pt x="296" y="1668"/>
                  </a:lnTo>
                  <a:lnTo>
                    <a:pt x="286" y="1674"/>
                  </a:lnTo>
                  <a:lnTo>
                    <a:pt x="286" y="1674"/>
                  </a:lnTo>
                  <a:lnTo>
                    <a:pt x="268" y="1682"/>
                  </a:lnTo>
                  <a:lnTo>
                    <a:pt x="252" y="1686"/>
                  </a:lnTo>
                  <a:lnTo>
                    <a:pt x="236" y="1690"/>
                  </a:lnTo>
                  <a:lnTo>
                    <a:pt x="220" y="1690"/>
                  </a:lnTo>
                  <a:lnTo>
                    <a:pt x="204" y="1688"/>
                  </a:lnTo>
                  <a:lnTo>
                    <a:pt x="190" y="1684"/>
                  </a:lnTo>
                  <a:lnTo>
                    <a:pt x="162" y="1674"/>
                  </a:lnTo>
                  <a:lnTo>
                    <a:pt x="162" y="1674"/>
                  </a:lnTo>
                  <a:lnTo>
                    <a:pt x="150" y="1670"/>
                  </a:lnTo>
                  <a:lnTo>
                    <a:pt x="140" y="1664"/>
                  </a:lnTo>
                  <a:lnTo>
                    <a:pt x="132" y="1656"/>
                  </a:lnTo>
                  <a:lnTo>
                    <a:pt x="124" y="1648"/>
                  </a:lnTo>
                  <a:lnTo>
                    <a:pt x="118" y="1638"/>
                  </a:lnTo>
                  <a:lnTo>
                    <a:pt x="112" y="1628"/>
                  </a:lnTo>
                  <a:lnTo>
                    <a:pt x="108" y="1616"/>
                  </a:lnTo>
                  <a:lnTo>
                    <a:pt x="104" y="1604"/>
                  </a:lnTo>
                  <a:lnTo>
                    <a:pt x="104" y="1592"/>
                  </a:lnTo>
                  <a:lnTo>
                    <a:pt x="102" y="1580"/>
                  </a:lnTo>
                  <a:lnTo>
                    <a:pt x="104" y="1568"/>
                  </a:lnTo>
                  <a:lnTo>
                    <a:pt x="106" y="1554"/>
                  </a:lnTo>
                  <a:lnTo>
                    <a:pt x="112" y="1542"/>
                  </a:lnTo>
                  <a:lnTo>
                    <a:pt x="116" y="1528"/>
                  </a:lnTo>
                  <a:lnTo>
                    <a:pt x="124" y="1516"/>
                  </a:lnTo>
                  <a:lnTo>
                    <a:pt x="134" y="1504"/>
                  </a:lnTo>
                  <a:lnTo>
                    <a:pt x="134" y="1504"/>
                  </a:lnTo>
                  <a:lnTo>
                    <a:pt x="132" y="1520"/>
                  </a:lnTo>
                  <a:lnTo>
                    <a:pt x="132" y="1534"/>
                  </a:lnTo>
                  <a:lnTo>
                    <a:pt x="136" y="1546"/>
                  </a:lnTo>
                  <a:lnTo>
                    <a:pt x="140" y="1558"/>
                  </a:lnTo>
                  <a:lnTo>
                    <a:pt x="146" y="1568"/>
                  </a:lnTo>
                  <a:lnTo>
                    <a:pt x="154" y="1576"/>
                  </a:lnTo>
                  <a:lnTo>
                    <a:pt x="164" y="1584"/>
                  </a:lnTo>
                  <a:lnTo>
                    <a:pt x="174" y="1588"/>
                  </a:lnTo>
                  <a:lnTo>
                    <a:pt x="184" y="1594"/>
                  </a:lnTo>
                  <a:lnTo>
                    <a:pt x="194" y="1596"/>
                  </a:lnTo>
                  <a:lnTo>
                    <a:pt x="206" y="1598"/>
                  </a:lnTo>
                  <a:lnTo>
                    <a:pt x="216" y="1598"/>
                  </a:lnTo>
                  <a:lnTo>
                    <a:pt x="228" y="1596"/>
                  </a:lnTo>
                  <a:lnTo>
                    <a:pt x="238" y="1594"/>
                  </a:lnTo>
                  <a:lnTo>
                    <a:pt x="246" y="1590"/>
                  </a:lnTo>
                  <a:lnTo>
                    <a:pt x="254" y="1584"/>
                  </a:lnTo>
                  <a:lnTo>
                    <a:pt x="254" y="1584"/>
                  </a:lnTo>
                  <a:lnTo>
                    <a:pt x="264" y="1576"/>
                  </a:lnTo>
                  <a:lnTo>
                    <a:pt x="272" y="1566"/>
                  </a:lnTo>
                  <a:lnTo>
                    <a:pt x="278" y="1556"/>
                  </a:lnTo>
                  <a:lnTo>
                    <a:pt x="282" y="1546"/>
                  </a:lnTo>
                  <a:lnTo>
                    <a:pt x="286" y="1536"/>
                  </a:lnTo>
                  <a:lnTo>
                    <a:pt x="288" y="1526"/>
                  </a:lnTo>
                  <a:lnTo>
                    <a:pt x="288" y="1516"/>
                  </a:lnTo>
                  <a:lnTo>
                    <a:pt x="288" y="1506"/>
                  </a:lnTo>
                  <a:lnTo>
                    <a:pt x="282" y="1486"/>
                  </a:lnTo>
                  <a:lnTo>
                    <a:pt x="274" y="1468"/>
                  </a:lnTo>
                  <a:lnTo>
                    <a:pt x="262" y="1452"/>
                  </a:lnTo>
                  <a:lnTo>
                    <a:pt x="246" y="1438"/>
                  </a:lnTo>
                  <a:lnTo>
                    <a:pt x="246" y="1438"/>
                  </a:lnTo>
                  <a:lnTo>
                    <a:pt x="228" y="1426"/>
                  </a:lnTo>
                  <a:lnTo>
                    <a:pt x="218" y="1422"/>
                  </a:lnTo>
                  <a:lnTo>
                    <a:pt x="208" y="1420"/>
                  </a:lnTo>
                  <a:lnTo>
                    <a:pt x="198" y="1418"/>
                  </a:lnTo>
                  <a:lnTo>
                    <a:pt x="186" y="1418"/>
                  </a:lnTo>
                  <a:lnTo>
                    <a:pt x="176" y="1418"/>
                  </a:lnTo>
                  <a:lnTo>
                    <a:pt x="164" y="1422"/>
                  </a:lnTo>
                  <a:lnTo>
                    <a:pt x="152" y="1424"/>
                  </a:lnTo>
                  <a:lnTo>
                    <a:pt x="140" y="1430"/>
                  </a:lnTo>
                  <a:lnTo>
                    <a:pt x="130" y="1436"/>
                  </a:lnTo>
                  <a:lnTo>
                    <a:pt x="120" y="1444"/>
                  </a:lnTo>
                  <a:lnTo>
                    <a:pt x="108" y="1454"/>
                  </a:lnTo>
                  <a:lnTo>
                    <a:pt x="98" y="1466"/>
                  </a:lnTo>
                  <a:lnTo>
                    <a:pt x="90" y="1480"/>
                  </a:lnTo>
                  <a:lnTo>
                    <a:pt x="82" y="1496"/>
                  </a:lnTo>
                  <a:lnTo>
                    <a:pt x="82" y="1496"/>
                  </a:lnTo>
                  <a:lnTo>
                    <a:pt x="74" y="1512"/>
                  </a:lnTo>
                  <a:lnTo>
                    <a:pt x="68" y="1530"/>
                  </a:lnTo>
                  <a:lnTo>
                    <a:pt x="64" y="1548"/>
                  </a:lnTo>
                  <a:lnTo>
                    <a:pt x="62" y="1568"/>
                  </a:lnTo>
                  <a:lnTo>
                    <a:pt x="62" y="1586"/>
                  </a:lnTo>
                  <a:lnTo>
                    <a:pt x="62" y="1606"/>
                  </a:lnTo>
                  <a:lnTo>
                    <a:pt x="66" y="1624"/>
                  </a:lnTo>
                  <a:lnTo>
                    <a:pt x="70" y="1644"/>
                  </a:lnTo>
                  <a:lnTo>
                    <a:pt x="78" y="1662"/>
                  </a:lnTo>
                  <a:lnTo>
                    <a:pt x="86" y="1680"/>
                  </a:lnTo>
                  <a:lnTo>
                    <a:pt x="96" y="1696"/>
                  </a:lnTo>
                  <a:lnTo>
                    <a:pt x="110" y="1712"/>
                  </a:lnTo>
                  <a:lnTo>
                    <a:pt x="124" y="1726"/>
                  </a:lnTo>
                  <a:lnTo>
                    <a:pt x="142" y="1740"/>
                  </a:lnTo>
                  <a:lnTo>
                    <a:pt x="160" y="1752"/>
                  </a:lnTo>
                  <a:lnTo>
                    <a:pt x="182" y="1762"/>
                  </a:lnTo>
                  <a:lnTo>
                    <a:pt x="182" y="1762"/>
                  </a:lnTo>
                  <a:lnTo>
                    <a:pt x="206" y="1770"/>
                  </a:lnTo>
                  <a:lnTo>
                    <a:pt x="228" y="1776"/>
                  </a:lnTo>
                  <a:lnTo>
                    <a:pt x="246" y="1780"/>
                  </a:lnTo>
                  <a:lnTo>
                    <a:pt x="264" y="1782"/>
                  </a:lnTo>
                  <a:lnTo>
                    <a:pt x="282" y="1782"/>
                  </a:lnTo>
                  <a:lnTo>
                    <a:pt x="296" y="1780"/>
                  </a:lnTo>
                  <a:lnTo>
                    <a:pt x="310" y="1778"/>
                  </a:lnTo>
                  <a:lnTo>
                    <a:pt x="322" y="1774"/>
                  </a:lnTo>
                  <a:lnTo>
                    <a:pt x="332" y="1768"/>
                  </a:lnTo>
                  <a:lnTo>
                    <a:pt x="342" y="1762"/>
                  </a:lnTo>
                  <a:lnTo>
                    <a:pt x="360" y="1746"/>
                  </a:lnTo>
                  <a:lnTo>
                    <a:pt x="376" y="1730"/>
                  </a:lnTo>
                  <a:lnTo>
                    <a:pt x="390" y="1714"/>
                  </a:lnTo>
                  <a:lnTo>
                    <a:pt x="390" y="1714"/>
                  </a:lnTo>
                  <a:lnTo>
                    <a:pt x="392" y="1758"/>
                  </a:lnTo>
                  <a:lnTo>
                    <a:pt x="390" y="1790"/>
                  </a:lnTo>
                  <a:lnTo>
                    <a:pt x="388" y="1814"/>
                  </a:lnTo>
                  <a:lnTo>
                    <a:pt x="384" y="1832"/>
                  </a:lnTo>
                  <a:lnTo>
                    <a:pt x="384" y="1832"/>
                  </a:lnTo>
                  <a:lnTo>
                    <a:pt x="406" y="1800"/>
                  </a:lnTo>
                  <a:lnTo>
                    <a:pt x="426" y="1762"/>
                  </a:lnTo>
                  <a:lnTo>
                    <a:pt x="444" y="1722"/>
                  </a:lnTo>
                  <a:lnTo>
                    <a:pt x="456" y="1682"/>
                  </a:lnTo>
                  <a:lnTo>
                    <a:pt x="460" y="1660"/>
                  </a:lnTo>
                  <a:lnTo>
                    <a:pt x="464" y="1640"/>
                  </a:lnTo>
                  <a:lnTo>
                    <a:pt x="466" y="1618"/>
                  </a:lnTo>
                  <a:lnTo>
                    <a:pt x="466" y="1598"/>
                  </a:lnTo>
                  <a:lnTo>
                    <a:pt x="466" y="1578"/>
                  </a:lnTo>
                  <a:lnTo>
                    <a:pt x="464" y="1558"/>
                  </a:lnTo>
                  <a:lnTo>
                    <a:pt x="460" y="1538"/>
                  </a:lnTo>
                  <a:lnTo>
                    <a:pt x="454" y="1520"/>
                  </a:lnTo>
                  <a:lnTo>
                    <a:pt x="454" y="1520"/>
                  </a:lnTo>
                  <a:lnTo>
                    <a:pt x="496" y="1560"/>
                  </a:lnTo>
                  <a:lnTo>
                    <a:pt x="530" y="1598"/>
                  </a:lnTo>
                  <a:lnTo>
                    <a:pt x="560" y="1634"/>
                  </a:lnTo>
                  <a:lnTo>
                    <a:pt x="582" y="1670"/>
                  </a:lnTo>
                  <a:lnTo>
                    <a:pt x="600" y="1704"/>
                  </a:lnTo>
                  <a:lnTo>
                    <a:pt x="612" y="1736"/>
                  </a:lnTo>
                  <a:lnTo>
                    <a:pt x="618" y="1766"/>
                  </a:lnTo>
                  <a:lnTo>
                    <a:pt x="618" y="1794"/>
                  </a:lnTo>
                  <a:lnTo>
                    <a:pt x="618" y="1808"/>
                  </a:lnTo>
                  <a:lnTo>
                    <a:pt x="616" y="1820"/>
                  </a:lnTo>
                  <a:lnTo>
                    <a:pt x="612" y="1832"/>
                  </a:lnTo>
                  <a:lnTo>
                    <a:pt x="608" y="1844"/>
                  </a:lnTo>
                  <a:lnTo>
                    <a:pt x="602" y="1854"/>
                  </a:lnTo>
                  <a:lnTo>
                    <a:pt x="596" y="1864"/>
                  </a:lnTo>
                  <a:lnTo>
                    <a:pt x="590" y="1874"/>
                  </a:lnTo>
                  <a:lnTo>
                    <a:pt x="582" y="1882"/>
                  </a:lnTo>
                  <a:lnTo>
                    <a:pt x="562" y="1896"/>
                  </a:lnTo>
                  <a:lnTo>
                    <a:pt x="540" y="1908"/>
                  </a:lnTo>
                  <a:lnTo>
                    <a:pt x="514" y="1914"/>
                  </a:lnTo>
                  <a:lnTo>
                    <a:pt x="486" y="1918"/>
                  </a:lnTo>
                  <a:lnTo>
                    <a:pt x="486" y="1918"/>
                  </a:lnTo>
                  <a:lnTo>
                    <a:pt x="486" y="1932"/>
                  </a:lnTo>
                  <a:lnTo>
                    <a:pt x="490" y="1942"/>
                  </a:lnTo>
                  <a:lnTo>
                    <a:pt x="494" y="1952"/>
                  </a:lnTo>
                  <a:lnTo>
                    <a:pt x="500" y="1960"/>
                  </a:lnTo>
                  <a:lnTo>
                    <a:pt x="508" y="1964"/>
                  </a:lnTo>
                  <a:lnTo>
                    <a:pt x="518" y="1966"/>
                  </a:lnTo>
                  <a:lnTo>
                    <a:pt x="528" y="1966"/>
                  </a:lnTo>
                  <a:lnTo>
                    <a:pt x="538" y="1964"/>
                  </a:lnTo>
                  <a:lnTo>
                    <a:pt x="538" y="1964"/>
                  </a:lnTo>
                  <a:lnTo>
                    <a:pt x="530" y="1976"/>
                  </a:lnTo>
                  <a:lnTo>
                    <a:pt x="522" y="1986"/>
                  </a:lnTo>
                  <a:lnTo>
                    <a:pt x="514" y="1992"/>
                  </a:lnTo>
                  <a:lnTo>
                    <a:pt x="506" y="1998"/>
                  </a:lnTo>
                  <a:lnTo>
                    <a:pt x="496" y="2000"/>
                  </a:lnTo>
                  <a:lnTo>
                    <a:pt x="488" y="2002"/>
                  </a:lnTo>
                  <a:lnTo>
                    <a:pt x="478" y="2002"/>
                  </a:lnTo>
                  <a:lnTo>
                    <a:pt x="470" y="2000"/>
                  </a:lnTo>
                  <a:lnTo>
                    <a:pt x="452" y="1994"/>
                  </a:lnTo>
                  <a:lnTo>
                    <a:pt x="436" y="1984"/>
                  </a:lnTo>
                  <a:lnTo>
                    <a:pt x="422" y="1970"/>
                  </a:lnTo>
                  <a:lnTo>
                    <a:pt x="412" y="1958"/>
                  </a:lnTo>
                  <a:lnTo>
                    <a:pt x="412" y="1958"/>
                  </a:lnTo>
                  <a:lnTo>
                    <a:pt x="408" y="1970"/>
                  </a:lnTo>
                  <a:lnTo>
                    <a:pt x="408" y="1982"/>
                  </a:lnTo>
                  <a:lnTo>
                    <a:pt x="408" y="1994"/>
                  </a:lnTo>
                  <a:lnTo>
                    <a:pt x="410" y="2004"/>
                  </a:lnTo>
                  <a:lnTo>
                    <a:pt x="416" y="2014"/>
                  </a:lnTo>
                  <a:lnTo>
                    <a:pt x="422" y="2024"/>
                  </a:lnTo>
                  <a:lnTo>
                    <a:pt x="428" y="2032"/>
                  </a:lnTo>
                  <a:lnTo>
                    <a:pt x="436" y="2040"/>
                  </a:lnTo>
                  <a:lnTo>
                    <a:pt x="446" y="2046"/>
                  </a:lnTo>
                  <a:lnTo>
                    <a:pt x="456" y="2052"/>
                  </a:lnTo>
                  <a:lnTo>
                    <a:pt x="466" y="2056"/>
                  </a:lnTo>
                  <a:lnTo>
                    <a:pt x="476" y="2058"/>
                  </a:lnTo>
                  <a:lnTo>
                    <a:pt x="488" y="2060"/>
                  </a:lnTo>
                  <a:lnTo>
                    <a:pt x="498" y="2062"/>
                  </a:lnTo>
                  <a:lnTo>
                    <a:pt x="508" y="2060"/>
                  </a:lnTo>
                  <a:lnTo>
                    <a:pt x="518" y="2058"/>
                  </a:lnTo>
                  <a:lnTo>
                    <a:pt x="518" y="2058"/>
                  </a:lnTo>
                  <a:lnTo>
                    <a:pt x="452" y="2150"/>
                  </a:lnTo>
                  <a:lnTo>
                    <a:pt x="452" y="2150"/>
                  </a:lnTo>
                  <a:lnTo>
                    <a:pt x="472" y="2140"/>
                  </a:lnTo>
                  <a:lnTo>
                    <a:pt x="494" y="2128"/>
                  </a:lnTo>
                  <a:lnTo>
                    <a:pt x="514" y="2114"/>
                  </a:lnTo>
                  <a:lnTo>
                    <a:pt x="532" y="2100"/>
                  </a:lnTo>
                  <a:lnTo>
                    <a:pt x="548" y="2084"/>
                  </a:lnTo>
                  <a:lnTo>
                    <a:pt x="564" y="2066"/>
                  </a:lnTo>
                  <a:lnTo>
                    <a:pt x="580" y="2048"/>
                  </a:lnTo>
                  <a:lnTo>
                    <a:pt x="592" y="2028"/>
                  </a:lnTo>
                  <a:lnTo>
                    <a:pt x="606" y="2008"/>
                  </a:lnTo>
                  <a:lnTo>
                    <a:pt x="616" y="1986"/>
                  </a:lnTo>
                  <a:lnTo>
                    <a:pt x="626" y="1964"/>
                  </a:lnTo>
                  <a:lnTo>
                    <a:pt x="634" y="1940"/>
                  </a:lnTo>
                  <a:lnTo>
                    <a:pt x="642" y="1914"/>
                  </a:lnTo>
                  <a:lnTo>
                    <a:pt x="646" y="1888"/>
                  </a:lnTo>
                  <a:lnTo>
                    <a:pt x="652" y="1862"/>
                  </a:lnTo>
                  <a:lnTo>
                    <a:pt x="654" y="1834"/>
                  </a:lnTo>
                  <a:lnTo>
                    <a:pt x="654" y="1834"/>
                  </a:lnTo>
                  <a:lnTo>
                    <a:pt x="658" y="1898"/>
                  </a:lnTo>
                  <a:lnTo>
                    <a:pt x="656" y="1954"/>
                  </a:lnTo>
                  <a:lnTo>
                    <a:pt x="652" y="2006"/>
                  </a:lnTo>
                  <a:lnTo>
                    <a:pt x="644" y="2050"/>
                  </a:lnTo>
                  <a:lnTo>
                    <a:pt x="632" y="2088"/>
                  </a:lnTo>
                  <a:lnTo>
                    <a:pt x="618" y="2120"/>
                  </a:lnTo>
                  <a:lnTo>
                    <a:pt x="612" y="2134"/>
                  </a:lnTo>
                  <a:lnTo>
                    <a:pt x="602" y="2146"/>
                  </a:lnTo>
                  <a:lnTo>
                    <a:pt x="594" y="2158"/>
                  </a:lnTo>
                  <a:lnTo>
                    <a:pt x="584" y="2168"/>
                  </a:lnTo>
                  <a:lnTo>
                    <a:pt x="574" y="2176"/>
                  </a:lnTo>
                  <a:lnTo>
                    <a:pt x="564" y="2184"/>
                  </a:lnTo>
                  <a:lnTo>
                    <a:pt x="554" y="2188"/>
                  </a:lnTo>
                  <a:lnTo>
                    <a:pt x="542" y="2194"/>
                  </a:lnTo>
                  <a:lnTo>
                    <a:pt x="530" y="2198"/>
                  </a:lnTo>
                  <a:lnTo>
                    <a:pt x="520" y="2200"/>
                  </a:lnTo>
                  <a:lnTo>
                    <a:pt x="494" y="2200"/>
                  </a:lnTo>
                  <a:lnTo>
                    <a:pt x="470" y="2196"/>
                  </a:lnTo>
                  <a:lnTo>
                    <a:pt x="444" y="2188"/>
                  </a:lnTo>
                  <a:lnTo>
                    <a:pt x="418" y="2176"/>
                  </a:lnTo>
                  <a:lnTo>
                    <a:pt x="392" y="2160"/>
                  </a:lnTo>
                  <a:lnTo>
                    <a:pt x="392" y="2160"/>
                  </a:lnTo>
                  <a:lnTo>
                    <a:pt x="400" y="2176"/>
                  </a:lnTo>
                  <a:lnTo>
                    <a:pt x="414" y="2194"/>
                  </a:lnTo>
                  <a:lnTo>
                    <a:pt x="434" y="2214"/>
                  </a:lnTo>
                  <a:lnTo>
                    <a:pt x="456" y="2230"/>
                  </a:lnTo>
                  <a:lnTo>
                    <a:pt x="478" y="2244"/>
                  </a:lnTo>
                  <a:lnTo>
                    <a:pt x="490" y="2250"/>
                  </a:lnTo>
                  <a:lnTo>
                    <a:pt x="504" y="2254"/>
                  </a:lnTo>
                  <a:lnTo>
                    <a:pt x="516" y="2256"/>
                  </a:lnTo>
                  <a:lnTo>
                    <a:pt x="528" y="2258"/>
                  </a:lnTo>
                  <a:lnTo>
                    <a:pt x="538" y="2258"/>
                  </a:lnTo>
                  <a:lnTo>
                    <a:pt x="550" y="2254"/>
                  </a:lnTo>
                  <a:lnTo>
                    <a:pt x="550" y="2254"/>
                  </a:lnTo>
                  <a:lnTo>
                    <a:pt x="540" y="2266"/>
                  </a:lnTo>
                  <a:lnTo>
                    <a:pt x="530" y="2274"/>
                  </a:lnTo>
                  <a:lnTo>
                    <a:pt x="520" y="2282"/>
                  </a:lnTo>
                  <a:lnTo>
                    <a:pt x="510" y="2290"/>
                  </a:lnTo>
                  <a:lnTo>
                    <a:pt x="498" y="2294"/>
                  </a:lnTo>
                  <a:lnTo>
                    <a:pt x="486" y="2300"/>
                  </a:lnTo>
                  <a:lnTo>
                    <a:pt x="462" y="2306"/>
                  </a:lnTo>
                  <a:lnTo>
                    <a:pt x="434" y="2306"/>
                  </a:lnTo>
                  <a:lnTo>
                    <a:pt x="408" y="2304"/>
                  </a:lnTo>
                  <a:lnTo>
                    <a:pt x="382" y="2300"/>
                  </a:lnTo>
                  <a:lnTo>
                    <a:pt x="356" y="2290"/>
                  </a:lnTo>
                  <a:lnTo>
                    <a:pt x="332" y="2278"/>
                  </a:lnTo>
                  <a:lnTo>
                    <a:pt x="310" y="2264"/>
                  </a:lnTo>
                  <a:lnTo>
                    <a:pt x="292" y="2246"/>
                  </a:lnTo>
                  <a:lnTo>
                    <a:pt x="276" y="2226"/>
                  </a:lnTo>
                  <a:lnTo>
                    <a:pt x="270" y="2216"/>
                  </a:lnTo>
                  <a:lnTo>
                    <a:pt x="264" y="2204"/>
                  </a:lnTo>
                  <a:lnTo>
                    <a:pt x="260" y="2192"/>
                  </a:lnTo>
                  <a:lnTo>
                    <a:pt x="258" y="2180"/>
                  </a:lnTo>
                  <a:lnTo>
                    <a:pt x="256" y="2168"/>
                  </a:lnTo>
                  <a:lnTo>
                    <a:pt x="256" y="2156"/>
                  </a:lnTo>
                  <a:lnTo>
                    <a:pt x="258" y="2144"/>
                  </a:lnTo>
                  <a:lnTo>
                    <a:pt x="260" y="2130"/>
                  </a:lnTo>
                  <a:lnTo>
                    <a:pt x="260" y="2130"/>
                  </a:lnTo>
                  <a:lnTo>
                    <a:pt x="246" y="2126"/>
                  </a:lnTo>
                  <a:lnTo>
                    <a:pt x="234" y="2126"/>
                  </a:lnTo>
                  <a:lnTo>
                    <a:pt x="222" y="2126"/>
                  </a:lnTo>
                  <a:lnTo>
                    <a:pt x="212" y="2128"/>
                  </a:lnTo>
                  <a:lnTo>
                    <a:pt x="202" y="2132"/>
                  </a:lnTo>
                  <a:lnTo>
                    <a:pt x="192" y="2138"/>
                  </a:lnTo>
                  <a:lnTo>
                    <a:pt x="184" y="2144"/>
                  </a:lnTo>
                  <a:lnTo>
                    <a:pt x="178" y="2152"/>
                  </a:lnTo>
                  <a:lnTo>
                    <a:pt x="166" y="2168"/>
                  </a:lnTo>
                  <a:lnTo>
                    <a:pt x="160" y="2186"/>
                  </a:lnTo>
                  <a:lnTo>
                    <a:pt x="156" y="2206"/>
                  </a:lnTo>
                  <a:lnTo>
                    <a:pt x="156" y="2222"/>
                  </a:lnTo>
                  <a:lnTo>
                    <a:pt x="156" y="2222"/>
                  </a:lnTo>
                  <a:lnTo>
                    <a:pt x="144" y="2206"/>
                  </a:lnTo>
                  <a:lnTo>
                    <a:pt x="134" y="2186"/>
                  </a:lnTo>
                  <a:lnTo>
                    <a:pt x="126" y="2166"/>
                  </a:lnTo>
                  <a:lnTo>
                    <a:pt x="120" y="2144"/>
                  </a:lnTo>
                  <a:lnTo>
                    <a:pt x="118" y="2124"/>
                  </a:lnTo>
                  <a:lnTo>
                    <a:pt x="116" y="2102"/>
                  </a:lnTo>
                  <a:lnTo>
                    <a:pt x="118" y="2080"/>
                  </a:lnTo>
                  <a:lnTo>
                    <a:pt x="122" y="2060"/>
                  </a:lnTo>
                  <a:lnTo>
                    <a:pt x="128" y="2042"/>
                  </a:lnTo>
                  <a:lnTo>
                    <a:pt x="136" y="2026"/>
                  </a:lnTo>
                  <a:lnTo>
                    <a:pt x="146" y="2014"/>
                  </a:lnTo>
                  <a:lnTo>
                    <a:pt x="158" y="2002"/>
                  </a:lnTo>
                  <a:lnTo>
                    <a:pt x="172" y="1996"/>
                  </a:lnTo>
                  <a:lnTo>
                    <a:pt x="188" y="1994"/>
                  </a:lnTo>
                  <a:lnTo>
                    <a:pt x="208" y="1996"/>
                  </a:lnTo>
                  <a:lnTo>
                    <a:pt x="228" y="2002"/>
                  </a:lnTo>
                  <a:lnTo>
                    <a:pt x="228" y="2002"/>
                  </a:lnTo>
                  <a:lnTo>
                    <a:pt x="222" y="2018"/>
                  </a:lnTo>
                  <a:lnTo>
                    <a:pt x="220" y="2032"/>
                  </a:lnTo>
                  <a:lnTo>
                    <a:pt x="220" y="2044"/>
                  </a:lnTo>
                  <a:lnTo>
                    <a:pt x="224" y="2054"/>
                  </a:lnTo>
                  <a:lnTo>
                    <a:pt x="228" y="2064"/>
                  </a:lnTo>
                  <a:lnTo>
                    <a:pt x="236" y="2072"/>
                  </a:lnTo>
                  <a:lnTo>
                    <a:pt x="246" y="2078"/>
                  </a:lnTo>
                  <a:lnTo>
                    <a:pt x="256" y="2084"/>
                  </a:lnTo>
                  <a:lnTo>
                    <a:pt x="268" y="2086"/>
                  </a:lnTo>
                  <a:lnTo>
                    <a:pt x="280" y="2086"/>
                  </a:lnTo>
                  <a:lnTo>
                    <a:pt x="292" y="2084"/>
                  </a:lnTo>
                  <a:lnTo>
                    <a:pt x="304" y="2082"/>
                  </a:lnTo>
                  <a:lnTo>
                    <a:pt x="316" y="2076"/>
                  </a:lnTo>
                  <a:lnTo>
                    <a:pt x="326" y="2068"/>
                  </a:lnTo>
                  <a:lnTo>
                    <a:pt x="336" y="2056"/>
                  </a:lnTo>
                  <a:lnTo>
                    <a:pt x="344" y="2044"/>
                  </a:lnTo>
                  <a:lnTo>
                    <a:pt x="344" y="2044"/>
                  </a:lnTo>
                  <a:lnTo>
                    <a:pt x="350" y="2032"/>
                  </a:lnTo>
                  <a:lnTo>
                    <a:pt x="354" y="2018"/>
                  </a:lnTo>
                  <a:lnTo>
                    <a:pt x="356" y="2006"/>
                  </a:lnTo>
                  <a:lnTo>
                    <a:pt x="358" y="1992"/>
                  </a:lnTo>
                  <a:lnTo>
                    <a:pt x="358" y="1978"/>
                  </a:lnTo>
                  <a:lnTo>
                    <a:pt x="358" y="1966"/>
                  </a:lnTo>
                  <a:lnTo>
                    <a:pt x="356" y="1952"/>
                  </a:lnTo>
                  <a:lnTo>
                    <a:pt x="354" y="1940"/>
                  </a:lnTo>
                  <a:lnTo>
                    <a:pt x="350" y="1928"/>
                  </a:lnTo>
                  <a:lnTo>
                    <a:pt x="344" y="1916"/>
                  </a:lnTo>
                  <a:lnTo>
                    <a:pt x="338" y="1904"/>
                  </a:lnTo>
                  <a:lnTo>
                    <a:pt x="330" y="1894"/>
                  </a:lnTo>
                  <a:lnTo>
                    <a:pt x="320" y="1884"/>
                  </a:lnTo>
                  <a:lnTo>
                    <a:pt x="310" y="1876"/>
                  </a:lnTo>
                  <a:lnTo>
                    <a:pt x="300" y="1870"/>
                  </a:lnTo>
                  <a:lnTo>
                    <a:pt x="286" y="1864"/>
                  </a:lnTo>
                  <a:lnTo>
                    <a:pt x="286" y="1864"/>
                  </a:lnTo>
                  <a:lnTo>
                    <a:pt x="274" y="1860"/>
                  </a:lnTo>
                  <a:lnTo>
                    <a:pt x="260" y="1858"/>
                  </a:lnTo>
                  <a:lnTo>
                    <a:pt x="248" y="1858"/>
                  </a:lnTo>
                  <a:lnTo>
                    <a:pt x="232" y="1858"/>
                  </a:lnTo>
                  <a:lnTo>
                    <a:pt x="218" y="1860"/>
                  </a:lnTo>
                  <a:lnTo>
                    <a:pt x="204" y="1862"/>
                  </a:lnTo>
                  <a:lnTo>
                    <a:pt x="190" y="1868"/>
                  </a:lnTo>
                  <a:lnTo>
                    <a:pt x="176" y="1874"/>
                  </a:lnTo>
                  <a:lnTo>
                    <a:pt x="162" y="1882"/>
                  </a:lnTo>
                  <a:lnTo>
                    <a:pt x="148" y="1890"/>
                  </a:lnTo>
                  <a:lnTo>
                    <a:pt x="136" y="1900"/>
                  </a:lnTo>
                  <a:lnTo>
                    <a:pt x="124" y="1910"/>
                  </a:lnTo>
                  <a:lnTo>
                    <a:pt x="114" y="1924"/>
                  </a:lnTo>
                  <a:lnTo>
                    <a:pt x="104" y="1936"/>
                  </a:lnTo>
                  <a:lnTo>
                    <a:pt x="94" y="1952"/>
                  </a:lnTo>
                  <a:lnTo>
                    <a:pt x="88" y="1968"/>
                  </a:lnTo>
                  <a:lnTo>
                    <a:pt x="88" y="1968"/>
                  </a:lnTo>
                  <a:lnTo>
                    <a:pt x="80" y="1990"/>
                  </a:lnTo>
                  <a:lnTo>
                    <a:pt x="74" y="2016"/>
                  </a:lnTo>
                  <a:lnTo>
                    <a:pt x="72" y="2042"/>
                  </a:lnTo>
                  <a:lnTo>
                    <a:pt x="70" y="2070"/>
                  </a:lnTo>
                  <a:lnTo>
                    <a:pt x="72" y="2098"/>
                  </a:lnTo>
                  <a:lnTo>
                    <a:pt x="78" y="2128"/>
                  </a:lnTo>
                  <a:lnTo>
                    <a:pt x="86" y="2156"/>
                  </a:lnTo>
                  <a:lnTo>
                    <a:pt x="96" y="2184"/>
                  </a:lnTo>
                  <a:lnTo>
                    <a:pt x="108" y="2212"/>
                  </a:lnTo>
                  <a:lnTo>
                    <a:pt x="126" y="2238"/>
                  </a:lnTo>
                  <a:lnTo>
                    <a:pt x="144" y="2262"/>
                  </a:lnTo>
                  <a:lnTo>
                    <a:pt x="166" y="2284"/>
                  </a:lnTo>
                  <a:lnTo>
                    <a:pt x="192" y="2304"/>
                  </a:lnTo>
                  <a:lnTo>
                    <a:pt x="222" y="2322"/>
                  </a:lnTo>
                  <a:lnTo>
                    <a:pt x="254" y="2336"/>
                  </a:lnTo>
                  <a:lnTo>
                    <a:pt x="290" y="2346"/>
                  </a:lnTo>
                  <a:lnTo>
                    <a:pt x="290" y="2346"/>
                  </a:lnTo>
                  <a:lnTo>
                    <a:pt x="248" y="2360"/>
                  </a:lnTo>
                  <a:lnTo>
                    <a:pt x="210" y="2378"/>
                  </a:lnTo>
                  <a:lnTo>
                    <a:pt x="176" y="2396"/>
                  </a:lnTo>
                  <a:lnTo>
                    <a:pt x="148" y="2420"/>
                  </a:lnTo>
                  <a:lnTo>
                    <a:pt x="122" y="2444"/>
                  </a:lnTo>
                  <a:lnTo>
                    <a:pt x="102" y="2470"/>
                  </a:lnTo>
                  <a:lnTo>
                    <a:pt x="84" y="2498"/>
                  </a:lnTo>
                  <a:lnTo>
                    <a:pt x="70" y="2528"/>
                  </a:lnTo>
                  <a:lnTo>
                    <a:pt x="60" y="2558"/>
                  </a:lnTo>
                  <a:lnTo>
                    <a:pt x="54" y="2588"/>
                  </a:lnTo>
                  <a:lnTo>
                    <a:pt x="50" y="2618"/>
                  </a:lnTo>
                  <a:lnTo>
                    <a:pt x="50" y="2648"/>
                  </a:lnTo>
                  <a:lnTo>
                    <a:pt x="52" y="2678"/>
                  </a:lnTo>
                  <a:lnTo>
                    <a:pt x="56" y="2706"/>
                  </a:lnTo>
                  <a:lnTo>
                    <a:pt x="64" y="2732"/>
                  </a:lnTo>
                  <a:lnTo>
                    <a:pt x="74" y="2758"/>
                  </a:lnTo>
                  <a:lnTo>
                    <a:pt x="74" y="2758"/>
                  </a:lnTo>
                  <a:lnTo>
                    <a:pt x="68" y="2766"/>
                  </a:lnTo>
                  <a:lnTo>
                    <a:pt x="64" y="2774"/>
                  </a:lnTo>
                  <a:lnTo>
                    <a:pt x="62" y="2782"/>
                  </a:lnTo>
                  <a:lnTo>
                    <a:pt x="60" y="2788"/>
                  </a:lnTo>
                  <a:lnTo>
                    <a:pt x="60" y="2794"/>
                  </a:lnTo>
                  <a:lnTo>
                    <a:pt x="64" y="2800"/>
                  </a:lnTo>
                  <a:lnTo>
                    <a:pt x="70" y="2810"/>
                  </a:lnTo>
                  <a:lnTo>
                    <a:pt x="82" y="2818"/>
                  </a:lnTo>
                  <a:lnTo>
                    <a:pt x="94" y="2824"/>
                  </a:lnTo>
                  <a:lnTo>
                    <a:pt x="108" y="2828"/>
                  </a:lnTo>
                  <a:lnTo>
                    <a:pt x="120" y="2832"/>
                  </a:lnTo>
                  <a:lnTo>
                    <a:pt x="120" y="2832"/>
                  </a:lnTo>
                  <a:lnTo>
                    <a:pt x="136" y="2836"/>
                  </a:lnTo>
                  <a:lnTo>
                    <a:pt x="152" y="2846"/>
                  </a:lnTo>
                  <a:lnTo>
                    <a:pt x="164" y="2858"/>
                  </a:lnTo>
                  <a:lnTo>
                    <a:pt x="172" y="2870"/>
                  </a:lnTo>
                  <a:lnTo>
                    <a:pt x="176" y="2886"/>
                  </a:lnTo>
                  <a:lnTo>
                    <a:pt x="176" y="2892"/>
                  </a:lnTo>
                  <a:lnTo>
                    <a:pt x="176" y="2900"/>
                  </a:lnTo>
                  <a:lnTo>
                    <a:pt x="174" y="2908"/>
                  </a:lnTo>
                  <a:lnTo>
                    <a:pt x="170" y="2914"/>
                  </a:lnTo>
                  <a:lnTo>
                    <a:pt x="164" y="2920"/>
                  </a:lnTo>
                  <a:lnTo>
                    <a:pt x="158" y="2926"/>
                  </a:lnTo>
                  <a:lnTo>
                    <a:pt x="158" y="2926"/>
                  </a:lnTo>
                  <a:lnTo>
                    <a:pt x="150" y="2930"/>
                  </a:lnTo>
                  <a:lnTo>
                    <a:pt x="142" y="2934"/>
                  </a:lnTo>
                  <a:lnTo>
                    <a:pt x="134" y="2936"/>
                  </a:lnTo>
                  <a:lnTo>
                    <a:pt x="128" y="2936"/>
                  </a:lnTo>
                  <a:lnTo>
                    <a:pt x="120" y="2934"/>
                  </a:lnTo>
                  <a:lnTo>
                    <a:pt x="114" y="2932"/>
                  </a:lnTo>
                  <a:lnTo>
                    <a:pt x="102" y="2926"/>
                  </a:lnTo>
                  <a:lnTo>
                    <a:pt x="94" y="2916"/>
                  </a:lnTo>
                  <a:lnTo>
                    <a:pt x="86" y="2902"/>
                  </a:lnTo>
                  <a:lnTo>
                    <a:pt x="82" y="2888"/>
                  </a:lnTo>
                  <a:lnTo>
                    <a:pt x="80" y="2872"/>
                  </a:lnTo>
                  <a:lnTo>
                    <a:pt x="80" y="2872"/>
                  </a:lnTo>
                  <a:lnTo>
                    <a:pt x="72" y="2884"/>
                  </a:lnTo>
                  <a:lnTo>
                    <a:pt x="64" y="2896"/>
                  </a:lnTo>
                  <a:lnTo>
                    <a:pt x="60" y="2910"/>
                  </a:lnTo>
                  <a:lnTo>
                    <a:pt x="56" y="2922"/>
                  </a:lnTo>
                  <a:lnTo>
                    <a:pt x="54" y="2936"/>
                  </a:lnTo>
                  <a:lnTo>
                    <a:pt x="52" y="2948"/>
                  </a:lnTo>
                  <a:lnTo>
                    <a:pt x="54" y="2962"/>
                  </a:lnTo>
                  <a:lnTo>
                    <a:pt x="56" y="2974"/>
                  </a:lnTo>
                  <a:lnTo>
                    <a:pt x="60" y="2986"/>
                  </a:lnTo>
                  <a:lnTo>
                    <a:pt x="66" y="2996"/>
                  </a:lnTo>
                  <a:lnTo>
                    <a:pt x="74" y="3006"/>
                  </a:lnTo>
                  <a:lnTo>
                    <a:pt x="82" y="3016"/>
                  </a:lnTo>
                  <a:lnTo>
                    <a:pt x="92" y="3024"/>
                  </a:lnTo>
                  <a:lnTo>
                    <a:pt x="102" y="3030"/>
                  </a:lnTo>
                  <a:lnTo>
                    <a:pt x="116" y="3034"/>
                  </a:lnTo>
                  <a:lnTo>
                    <a:pt x="130" y="3038"/>
                  </a:lnTo>
                  <a:lnTo>
                    <a:pt x="130" y="3038"/>
                  </a:lnTo>
                  <a:lnTo>
                    <a:pt x="144" y="3038"/>
                  </a:lnTo>
                  <a:lnTo>
                    <a:pt x="158" y="3036"/>
                  </a:lnTo>
                  <a:lnTo>
                    <a:pt x="172" y="3030"/>
                  </a:lnTo>
                  <a:lnTo>
                    <a:pt x="184" y="3020"/>
                  </a:lnTo>
                  <a:lnTo>
                    <a:pt x="198" y="3010"/>
                  </a:lnTo>
                  <a:lnTo>
                    <a:pt x="208" y="2998"/>
                  </a:lnTo>
                  <a:lnTo>
                    <a:pt x="220" y="2984"/>
                  </a:lnTo>
                  <a:lnTo>
                    <a:pt x="228" y="2968"/>
                  </a:lnTo>
                  <a:lnTo>
                    <a:pt x="234" y="2952"/>
                  </a:lnTo>
                  <a:lnTo>
                    <a:pt x="240" y="2934"/>
                  </a:lnTo>
                  <a:lnTo>
                    <a:pt x="242" y="2918"/>
                  </a:lnTo>
                  <a:lnTo>
                    <a:pt x="242" y="2900"/>
                  </a:lnTo>
                  <a:lnTo>
                    <a:pt x="238" y="2884"/>
                  </a:lnTo>
                  <a:lnTo>
                    <a:pt x="230" y="2868"/>
                  </a:lnTo>
                  <a:lnTo>
                    <a:pt x="220" y="2854"/>
                  </a:lnTo>
                  <a:lnTo>
                    <a:pt x="204" y="2842"/>
                  </a:lnTo>
                  <a:lnTo>
                    <a:pt x="204" y="2842"/>
                  </a:lnTo>
                  <a:lnTo>
                    <a:pt x="182" y="2826"/>
                  </a:lnTo>
                  <a:lnTo>
                    <a:pt x="164" y="2816"/>
                  </a:lnTo>
                  <a:lnTo>
                    <a:pt x="136" y="2800"/>
                  </a:lnTo>
                  <a:lnTo>
                    <a:pt x="126" y="2792"/>
                  </a:lnTo>
                  <a:lnTo>
                    <a:pt x="118" y="2784"/>
                  </a:lnTo>
                  <a:lnTo>
                    <a:pt x="114" y="2774"/>
                  </a:lnTo>
                  <a:lnTo>
                    <a:pt x="114" y="2762"/>
                  </a:lnTo>
                  <a:lnTo>
                    <a:pt x="114" y="2762"/>
                  </a:lnTo>
                  <a:lnTo>
                    <a:pt x="126" y="2772"/>
                  </a:lnTo>
                  <a:lnTo>
                    <a:pt x="140" y="2782"/>
                  </a:lnTo>
                  <a:lnTo>
                    <a:pt x="154" y="2790"/>
                  </a:lnTo>
                  <a:lnTo>
                    <a:pt x="166" y="2796"/>
                  </a:lnTo>
                  <a:lnTo>
                    <a:pt x="180" y="2800"/>
                  </a:lnTo>
                  <a:lnTo>
                    <a:pt x="196" y="2804"/>
                  </a:lnTo>
                  <a:lnTo>
                    <a:pt x="210" y="2806"/>
                  </a:lnTo>
                  <a:lnTo>
                    <a:pt x="224" y="2808"/>
                  </a:lnTo>
                  <a:lnTo>
                    <a:pt x="250" y="2806"/>
                  </a:lnTo>
                  <a:lnTo>
                    <a:pt x="276" y="2802"/>
                  </a:lnTo>
                  <a:lnTo>
                    <a:pt x="288" y="2796"/>
                  </a:lnTo>
                  <a:lnTo>
                    <a:pt x="298" y="2792"/>
                  </a:lnTo>
                  <a:lnTo>
                    <a:pt x="308" y="2786"/>
                  </a:lnTo>
                  <a:lnTo>
                    <a:pt x="316" y="2778"/>
                  </a:lnTo>
                  <a:lnTo>
                    <a:pt x="316" y="2778"/>
                  </a:lnTo>
                  <a:lnTo>
                    <a:pt x="326" y="2768"/>
                  </a:lnTo>
                  <a:lnTo>
                    <a:pt x="334" y="2754"/>
                  </a:lnTo>
                  <a:lnTo>
                    <a:pt x="342" y="2742"/>
                  </a:lnTo>
                  <a:lnTo>
                    <a:pt x="346" y="2728"/>
                  </a:lnTo>
                  <a:lnTo>
                    <a:pt x="348" y="2714"/>
                  </a:lnTo>
                  <a:lnTo>
                    <a:pt x="348" y="2700"/>
                  </a:lnTo>
                  <a:lnTo>
                    <a:pt x="348" y="2686"/>
                  </a:lnTo>
                  <a:lnTo>
                    <a:pt x="342" y="2674"/>
                  </a:lnTo>
                  <a:lnTo>
                    <a:pt x="336" y="2662"/>
                  </a:lnTo>
                  <a:lnTo>
                    <a:pt x="326" y="2652"/>
                  </a:lnTo>
                  <a:lnTo>
                    <a:pt x="314" y="2646"/>
                  </a:lnTo>
                  <a:lnTo>
                    <a:pt x="300" y="2640"/>
                  </a:lnTo>
                  <a:lnTo>
                    <a:pt x="280" y="2638"/>
                  </a:lnTo>
                  <a:lnTo>
                    <a:pt x="260" y="2638"/>
                  </a:lnTo>
                  <a:lnTo>
                    <a:pt x="234" y="2642"/>
                  </a:lnTo>
                  <a:lnTo>
                    <a:pt x="206" y="2650"/>
                  </a:lnTo>
                  <a:lnTo>
                    <a:pt x="206" y="2650"/>
                  </a:lnTo>
                  <a:lnTo>
                    <a:pt x="220" y="2660"/>
                  </a:lnTo>
                  <a:lnTo>
                    <a:pt x="232" y="2670"/>
                  </a:lnTo>
                  <a:lnTo>
                    <a:pt x="240" y="2680"/>
                  </a:lnTo>
                  <a:lnTo>
                    <a:pt x="248" y="2688"/>
                  </a:lnTo>
                  <a:lnTo>
                    <a:pt x="252" y="2698"/>
                  </a:lnTo>
                  <a:lnTo>
                    <a:pt x="254" y="2708"/>
                  </a:lnTo>
                  <a:lnTo>
                    <a:pt x="256" y="2716"/>
                  </a:lnTo>
                  <a:lnTo>
                    <a:pt x="256" y="2724"/>
                  </a:lnTo>
                  <a:lnTo>
                    <a:pt x="254" y="2732"/>
                  </a:lnTo>
                  <a:lnTo>
                    <a:pt x="250" y="2738"/>
                  </a:lnTo>
                  <a:lnTo>
                    <a:pt x="246" y="2746"/>
                  </a:lnTo>
                  <a:lnTo>
                    <a:pt x="240" y="2750"/>
                  </a:lnTo>
                  <a:lnTo>
                    <a:pt x="234" y="2756"/>
                  </a:lnTo>
                  <a:lnTo>
                    <a:pt x="226" y="2758"/>
                  </a:lnTo>
                  <a:lnTo>
                    <a:pt x="210" y="2764"/>
                  </a:lnTo>
                  <a:lnTo>
                    <a:pt x="210" y="2764"/>
                  </a:lnTo>
                  <a:lnTo>
                    <a:pt x="192" y="2762"/>
                  </a:lnTo>
                  <a:lnTo>
                    <a:pt x="174" y="2758"/>
                  </a:lnTo>
                  <a:lnTo>
                    <a:pt x="160" y="2750"/>
                  </a:lnTo>
                  <a:lnTo>
                    <a:pt x="146" y="2740"/>
                  </a:lnTo>
                  <a:lnTo>
                    <a:pt x="132" y="2728"/>
                  </a:lnTo>
                  <a:lnTo>
                    <a:pt x="124" y="2712"/>
                  </a:lnTo>
                  <a:lnTo>
                    <a:pt x="116" y="2698"/>
                  </a:lnTo>
                  <a:lnTo>
                    <a:pt x="112" y="2682"/>
                  </a:lnTo>
                  <a:lnTo>
                    <a:pt x="112" y="2682"/>
                  </a:lnTo>
                  <a:lnTo>
                    <a:pt x="130" y="2686"/>
                  </a:lnTo>
                  <a:lnTo>
                    <a:pt x="144" y="2686"/>
                  </a:lnTo>
                  <a:lnTo>
                    <a:pt x="156" y="2682"/>
                  </a:lnTo>
                  <a:lnTo>
                    <a:pt x="164" y="2678"/>
                  </a:lnTo>
                  <a:lnTo>
                    <a:pt x="172" y="2672"/>
                  </a:lnTo>
                  <a:lnTo>
                    <a:pt x="176" y="2666"/>
                  </a:lnTo>
                  <a:lnTo>
                    <a:pt x="178" y="2660"/>
                  </a:lnTo>
                  <a:lnTo>
                    <a:pt x="178" y="2660"/>
                  </a:lnTo>
                  <a:lnTo>
                    <a:pt x="166" y="2654"/>
                  </a:lnTo>
                  <a:lnTo>
                    <a:pt x="154" y="2646"/>
                  </a:lnTo>
                  <a:lnTo>
                    <a:pt x="142" y="2636"/>
                  </a:lnTo>
                  <a:lnTo>
                    <a:pt x="134" y="2624"/>
                  </a:lnTo>
                  <a:lnTo>
                    <a:pt x="126" y="2610"/>
                  </a:lnTo>
                  <a:lnTo>
                    <a:pt x="120" y="2594"/>
                  </a:lnTo>
                  <a:lnTo>
                    <a:pt x="116" y="2578"/>
                  </a:lnTo>
                  <a:lnTo>
                    <a:pt x="114" y="2562"/>
                  </a:lnTo>
                  <a:lnTo>
                    <a:pt x="116" y="2544"/>
                  </a:lnTo>
                  <a:lnTo>
                    <a:pt x="120" y="2530"/>
                  </a:lnTo>
                  <a:lnTo>
                    <a:pt x="128" y="2514"/>
                  </a:lnTo>
                  <a:lnTo>
                    <a:pt x="138" y="2502"/>
                  </a:lnTo>
                  <a:lnTo>
                    <a:pt x="154" y="2492"/>
                  </a:lnTo>
                  <a:lnTo>
                    <a:pt x="172" y="2484"/>
                  </a:lnTo>
                  <a:lnTo>
                    <a:pt x="196" y="2480"/>
                  </a:lnTo>
                  <a:lnTo>
                    <a:pt x="222" y="2478"/>
                  </a:lnTo>
                  <a:lnTo>
                    <a:pt x="222" y="2478"/>
                  </a:lnTo>
                  <a:lnTo>
                    <a:pt x="214" y="2470"/>
                  </a:lnTo>
                  <a:lnTo>
                    <a:pt x="210" y="2460"/>
                  </a:lnTo>
                  <a:lnTo>
                    <a:pt x="208" y="2448"/>
                  </a:lnTo>
                  <a:lnTo>
                    <a:pt x="210" y="2436"/>
                  </a:lnTo>
                  <a:lnTo>
                    <a:pt x="216" y="2424"/>
                  </a:lnTo>
                  <a:lnTo>
                    <a:pt x="226" y="2414"/>
                  </a:lnTo>
                  <a:lnTo>
                    <a:pt x="240" y="2404"/>
                  </a:lnTo>
                  <a:lnTo>
                    <a:pt x="260" y="2398"/>
                  </a:lnTo>
                  <a:lnTo>
                    <a:pt x="260" y="2398"/>
                  </a:lnTo>
                  <a:lnTo>
                    <a:pt x="272" y="2398"/>
                  </a:lnTo>
                  <a:lnTo>
                    <a:pt x="286" y="2402"/>
                  </a:lnTo>
                  <a:lnTo>
                    <a:pt x="300" y="2408"/>
                  </a:lnTo>
                  <a:lnTo>
                    <a:pt x="314" y="2418"/>
                  </a:lnTo>
                  <a:lnTo>
                    <a:pt x="318" y="2424"/>
                  </a:lnTo>
                  <a:lnTo>
                    <a:pt x="324" y="2430"/>
                  </a:lnTo>
                  <a:lnTo>
                    <a:pt x="326" y="2438"/>
                  </a:lnTo>
                  <a:lnTo>
                    <a:pt x="328" y="2448"/>
                  </a:lnTo>
                  <a:lnTo>
                    <a:pt x="326" y="2458"/>
                  </a:lnTo>
                  <a:lnTo>
                    <a:pt x="324" y="2468"/>
                  </a:lnTo>
                  <a:lnTo>
                    <a:pt x="318" y="2478"/>
                  </a:lnTo>
                  <a:lnTo>
                    <a:pt x="310" y="2492"/>
                  </a:lnTo>
                  <a:lnTo>
                    <a:pt x="310" y="2492"/>
                  </a:lnTo>
                  <a:lnTo>
                    <a:pt x="320" y="2492"/>
                  </a:lnTo>
                  <a:lnTo>
                    <a:pt x="330" y="2492"/>
                  </a:lnTo>
                  <a:lnTo>
                    <a:pt x="338" y="2490"/>
                  </a:lnTo>
                  <a:lnTo>
                    <a:pt x="346" y="2486"/>
                  </a:lnTo>
                  <a:lnTo>
                    <a:pt x="354" y="2480"/>
                  </a:lnTo>
                  <a:lnTo>
                    <a:pt x="362" y="2472"/>
                  </a:lnTo>
                  <a:lnTo>
                    <a:pt x="368" y="2464"/>
                  </a:lnTo>
                  <a:lnTo>
                    <a:pt x="374" y="2452"/>
                  </a:lnTo>
                  <a:lnTo>
                    <a:pt x="374" y="2452"/>
                  </a:lnTo>
                  <a:lnTo>
                    <a:pt x="380" y="2466"/>
                  </a:lnTo>
                  <a:lnTo>
                    <a:pt x="384" y="2478"/>
                  </a:lnTo>
                  <a:lnTo>
                    <a:pt x="386" y="2492"/>
                  </a:lnTo>
                  <a:lnTo>
                    <a:pt x="386" y="2504"/>
                  </a:lnTo>
                  <a:lnTo>
                    <a:pt x="384" y="2516"/>
                  </a:lnTo>
                  <a:lnTo>
                    <a:pt x="382" y="2528"/>
                  </a:lnTo>
                  <a:lnTo>
                    <a:pt x="376" y="2538"/>
                  </a:lnTo>
                  <a:lnTo>
                    <a:pt x="370" y="2546"/>
                  </a:lnTo>
                  <a:lnTo>
                    <a:pt x="364" y="2554"/>
                  </a:lnTo>
                  <a:lnTo>
                    <a:pt x="356" y="2560"/>
                  </a:lnTo>
                  <a:lnTo>
                    <a:pt x="348" y="2562"/>
                  </a:lnTo>
                  <a:lnTo>
                    <a:pt x="338" y="2564"/>
                  </a:lnTo>
                  <a:lnTo>
                    <a:pt x="328" y="2562"/>
                  </a:lnTo>
                  <a:lnTo>
                    <a:pt x="318" y="2556"/>
                  </a:lnTo>
                  <a:lnTo>
                    <a:pt x="308" y="2548"/>
                  </a:lnTo>
                  <a:lnTo>
                    <a:pt x="298" y="2536"/>
                  </a:lnTo>
                  <a:lnTo>
                    <a:pt x="298" y="2536"/>
                  </a:lnTo>
                  <a:lnTo>
                    <a:pt x="306" y="2550"/>
                  </a:lnTo>
                  <a:lnTo>
                    <a:pt x="312" y="2564"/>
                  </a:lnTo>
                  <a:lnTo>
                    <a:pt x="322" y="2574"/>
                  </a:lnTo>
                  <a:lnTo>
                    <a:pt x="330" y="2582"/>
                  </a:lnTo>
                  <a:lnTo>
                    <a:pt x="340" y="2588"/>
                  </a:lnTo>
                  <a:lnTo>
                    <a:pt x="348" y="2592"/>
                  </a:lnTo>
                  <a:lnTo>
                    <a:pt x="358" y="2594"/>
                  </a:lnTo>
                  <a:lnTo>
                    <a:pt x="368" y="2596"/>
                  </a:lnTo>
                  <a:lnTo>
                    <a:pt x="378" y="2594"/>
                  </a:lnTo>
                  <a:lnTo>
                    <a:pt x="388" y="2592"/>
                  </a:lnTo>
                  <a:lnTo>
                    <a:pt x="398" y="2588"/>
                  </a:lnTo>
                  <a:lnTo>
                    <a:pt x="408" y="2584"/>
                  </a:lnTo>
                  <a:lnTo>
                    <a:pt x="426" y="2570"/>
                  </a:lnTo>
                  <a:lnTo>
                    <a:pt x="442" y="2554"/>
                  </a:lnTo>
                  <a:lnTo>
                    <a:pt x="456" y="2532"/>
                  </a:lnTo>
                  <a:lnTo>
                    <a:pt x="464" y="2510"/>
                  </a:lnTo>
                  <a:lnTo>
                    <a:pt x="466" y="2498"/>
                  </a:lnTo>
                  <a:lnTo>
                    <a:pt x="468" y="2484"/>
                  </a:lnTo>
                  <a:lnTo>
                    <a:pt x="468" y="2472"/>
                  </a:lnTo>
                  <a:lnTo>
                    <a:pt x="468" y="2460"/>
                  </a:lnTo>
                  <a:lnTo>
                    <a:pt x="464" y="2446"/>
                  </a:lnTo>
                  <a:lnTo>
                    <a:pt x="460" y="2434"/>
                  </a:lnTo>
                  <a:lnTo>
                    <a:pt x="454" y="2420"/>
                  </a:lnTo>
                  <a:lnTo>
                    <a:pt x="446" y="2408"/>
                  </a:lnTo>
                  <a:lnTo>
                    <a:pt x="436" y="2396"/>
                  </a:lnTo>
                  <a:lnTo>
                    <a:pt x="424" y="2386"/>
                  </a:lnTo>
                  <a:lnTo>
                    <a:pt x="410" y="2374"/>
                  </a:lnTo>
                  <a:lnTo>
                    <a:pt x="394" y="2364"/>
                  </a:lnTo>
                  <a:lnTo>
                    <a:pt x="394" y="2364"/>
                  </a:lnTo>
                  <a:lnTo>
                    <a:pt x="432" y="2362"/>
                  </a:lnTo>
                  <a:lnTo>
                    <a:pt x="468" y="2354"/>
                  </a:lnTo>
                  <a:lnTo>
                    <a:pt x="502" y="2342"/>
                  </a:lnTo>
                  <a:lnTo>
                    <a:pt x="518" y="2334"/>
                  </a:lnTo>
                  <a:lnTo>
                    <a:pt x="534" y="2326"/>
                  </a:lnTo>
                  <a:lnTo>
                    <a:pt x="548" y="2316"/>
                  </a:lnTo>
                  <a:lnTo>
                    <a:pt x="564" y="2306"/>
                  </a:lnTo>
                  <a:lnTo>
                    <a:pt x="578" y="2294"/>
                  </a:lnTo>
                  <a:lnTo>
                    <a:pt x="592" y="2282"/>
                  </a:lnTo>
                  <a:lnTo>
                    <a:pt x="604" y="2266"/>
                  </a:lnTo>
                  <a:lnTo>
                    <a:pt x="616" y="2252"/>
                  </a:lnTo>
                  <a:lnTo>
                    <a:pt x="628" y="2234"/>
                  </a:lnTo>
                  <a:lnTo>
                    <a:pt x="638" y="2216"/>
                  </a:lnTo>
                  <a:lnTo>
                    <a:pt x="648" y="2196"/>
                  </a:lnTo>
                  <a:lnTo>
                    <a:pt x="656" y="2176"/>
                  </a:lnTo>
                  <a:lnTo>
                    <a:pt x="664" y="2154"/>
                  </a:lnTo>
                  <a:lnTo>
                    <a:pt x="672" y="2130"/>
                  </a:lnTo>
                  <a:lnTo>
                    <a:pt x="678" y="2104"/>
                  </a:lnTo>
                  <a:lnTo>
                    <a:pt x="682" y="2078"/>
                  </a:lnTo>
                  <a:lnTo>
                    <a:pt x="686" y="2050"/>
                  </a:lnTo>
                  <a:lnTo>
                    <a:pt x="690" y="2020"/>
                  </a:lnTo>
                  <a:lnTo>
                    <a:pt x="692" y="1956"/>
                  </a:lnTo>
                  <a:lnTo>
                    <a:pt x="690" y="1886"/>
                  </a:lnTo>
                  <a:lnTo>
                    <a:pt x="684" y="1810"/>
                  </a:lnTo>
                  <a:lnTo>
                    <a:pt x="672" y="1726"/>
                  </a:lnTo>
                  <a:lnTo>
                    <a:pt x="672" y="1726"/>
                  </a:lnTo>
                  <a:lnTo>
                    <a:pt x="666" y="1698"/>
                  </a:lnTo>
                  <a:lnTo>
                    <a:pt x="654" y="1660"/>
                  </a:lnTo>
                  <a:lnTo>
                    <a:pt x="642" y="1624"/>
                  </a:lnTo>
                  <a:lnTo>
                    <a:pt x="634" y="1610"/>
                  </a:lnTo>
                  <a:lnTo>
                    <a:pt x="626" y="1598"/>
                  </a:lnTo>
                  <a:lnTo>
                    <a:pt x="626" y="1598"/>
                  </a:lnTo>
                  <a:lnTo>
                    <a:pt x="582" y="1534"/>
                  </a:lnTo>
                  <a:lnTo>
                    <a:pt x="552" y="1496"/>
                  </a:lnTo>
                  <a:lnTo>
                    <a:pt x="520" y="1454"/>
                  </a:lnTo>
                  <a:lnTo>
                    <a:pt x="486" y="1414"/>
                  </a:lnTo>
                  <a:lnTo>
                    <a:pt x="450" y="1376"/>
                  </a:lnTo>
                  <a:lnTo>
                    <a:pt x="416" y="1346"/>
                  </a:lnTo>
                  <a:lnTo>
                    <a:pt x="398" y="1332"/>
                  </a:lnTo>
                  <a:lnTo>
                    <a:pt x="382" y="1322"/>
                  </a:lnTo>
                  <a:lnTo>
                    <a:pt x="382" y="1322"/>
                  </a:lnTo>
                  <a:lnTo>
                    <a:pt x="442" y="1344"/>
                  </a:lnTo>
                  <a:lnTo>
                    <a:pt x="504" y="1370"/>
                  </a:lnTo>
                  <a:lnTo>
                    <a:pt x="504" y="1370"/>
                  </a:lnTo>
                  <a:lnTo>
                    <a:pt x="562" y="1394"/>
                  </a:lnTo>
                  <a:lnTo>
                    <a:pt x="620" y="1414"/>
                  </a:lnTo>
                  <a:lnTo>
                    <a:pt x="646" y="1420"/>
                  </a:lnTo>
                  <a:lnTo>
                    <a:pt x="672" y="1426"/>
                  </a:lnTo>
                  <a:lnTo>
                    <a:pt x="696" y="1428"/>
                  </a:lnTo>
                  <a:lnTo>
                    <a:pt x="720" y="1428"/>
                  </a:lnTo>
                  <a:lnTo>
                    <a:pt x="720" y="1428"/>
                  </a:lnTo>
                  <a:lnTo>
                    <a:pt x="744" y="1430"/>
                  </a:lnTo>
                  <a:lnTo>
                    <a:pt x="772" y="1430"/>
                  </a:lnTo>
                  <a:lnTo>
                    <a:pt x="800" y="1428"/>
                  </a:lnTo>
                  <a:lnTo>
                    <a:pt x="828" y="1424"/>
                  </a:lnTo>
                  <a:lnTo>
                    <a:pt x="828" y="1424"/>
                  </a:lnTo>
                  <a:lnTo>
                    <a:pt x="848" y="1418"/>
                  </a:lnTo>
                  <a:lnTo>
                    <a:pt x="868" y="1408"/>
                  </a:lnTo>
                  <a:lnTo>
                    <a:pt x="886" y="1398"/>
                  </a:lnTo>
                  <a:lnTo>
                    <a:pt x="904" y="1388"/>
                  </a:lnTo>
                  <a:lnTo>
                    <a:pt x="920" y="1378"/>
                  </a:lnTo>
                  <a:lnTo>
                    <a:pt x="934" y="1366"/>
                  </a:lnTo>
                  <a:lnTo>
                    <a:pt x="946" y="1352"/>
                  </a:lnTo>
                  <a:lnTo>
                    <a:pt x="958" y="1340"/>
                  </a:lnTo>
                  <a:lnTo>
                    <a:pt x="968" y="1326"/>
                  </a:lnTo>
                  <a:lnTo>
                    <a:pt x="978" y="1310"/>
                  </a:lnTo>
                  <a:lnTo>
                    <a:pt x="984" y="1296"/>
                  </a:lnTo>
                  <a:lnTo>
                    <a:pt x="990" y="1280"/>
                  </a:lnTo>
                  <a:lnTo>
                    <a:pt x="994" y="1262"/>
                  </a:lnTo>
                  <a:lnTo>
                    <a:pt x="998" y="1246"/>
                  </a:lnTo>
                  <a:lnTo>
                    <a:pt x="998" y="1228"/>
                  </a:lnTo>
                  <a:lnTo>
                    <a:pt x="998" y="1210"/>
                  </a:lnTo>
                  <a:lnTo>
                    <a:pt x="998" y="1210"/>
                  </a:lnTo>
                  <a:lnTo>
                    <a:pt x="988" y="1218"/>
                  </a:lnTo>
                  <a:lnTo>
                    <a:pt x="978" y="1224"/>
                  </a:lnTo>
                  <a:lnTo>
                    <a:pt x="966" y="1240"/>
                  </a:lnTo>
                  <a:lnTo>
                    <a:pt x="956" y="1254"/>
                  </a:lnTo>
                  <a:lnTo>
                    <a:pt x="952" y="1260"/>
                  </a:lnTo>
                  <a:lnTo>
                    <a:pt x="946" y="1264"/>
                  </a:lnTo>
                  <a:lnTo>
                    <a:pt x="946" y="1264"/>
                  </a:lnTo>
                  <a:lnTo>
                    <a:pt x="950" y="1246"/>
                  </a:lnTo>
                  <a:lnTo>
                    <a:pt x="952" y="1220"/>
                  </a:lnTo>
                  <a:lnTo>
                    <a:pt x="952" y="1206"/>
                  </a:lnTo>
                  <a:lnTo>
                    <a:pt x="950" y="1190"/>
                  </a:lnTo>
                  <a:lnTo>
                    <a:pt x="946" y="1174"/>
                  </a:lnTo>
                  <a:lnTo>
                    <a:pt x="940" y="1158"/>
                  </a:lnTo>
                  <a:lnTo>
                    <a:pt x="932" y="1142"/>
                  </a:lnTo>
                  <a:lnTo>
                    <a:pt x="924" y="1126"/>
                  </a:lnTo>
                  <a:lnTo>
                    <a:pt x="912" y="1110"/>
                  </a:lnTo>
                  <a:lnTo>
                    <a:pt x="896" y="1096"/>
                  </a:lnTo>
                  <a:lnTo>
                    <a:pt x="880" y="1084"/>
                  </a:lnTo>
                  <a:lnTo>
                    <a:pt x="860" y="1072"/>
                  </a:lnTo>
                  <a:lnTo>
                    <a:pt x="838" y="1060"/>
                  </a:lnTo>
                  <a:lnTo>
                    <a:pt x="812" y="1052"/>
                  </a:lnTo>
                  <a:lnTo>
                    <a:pt x="812" y="1052"/>
                  </a:lnTo>
                  <a:lnTo>
                    <a:pt x="836" y="1082"/>
                  </a:lnTo>
                  <a:lnTo>
                    <a:pt x="852" y="1110"/>
                  </a:lnTo>
                  <a:lnTo>
                    <a:pt x="866" y="1138"/>
                  </a:lnTo>
                  <a:lnTo>
                    <a:pt x="870" y="1150"/>
                  </a:lnTo>
                  <a:lnTo>
                    <a:pt x="872" y="1164"/>
                  </a:lnTo>
                  <a:lnTo>
                    <a:pt x="874" y="1176"/>
                  </a:lnTo>
                  <a:lnTo>
                    <a:pt x="874" y="1188"/>
                  </a:lnTo>
                  <a:lnTo>
                    <a:pt x="872" y="1198"/>
                  </a:lnTo>
                  <a:lnTo>
                    <a:pt x="870" y="1210"/>
                  </a:lnTo>
                  <a:lnTo>
                    <a:pt x="866" y="1220"/>
                  </a:lnTo>
                  <a:lnTo>
                    <a:pt x="862" y="1230"/>
                  </a:lnTo>
                  <a:lnTo>
                    <a:pt x="850" y="1248"/>
                  </a:lnTo>
                  <a:lnTo>
                    <a:pt x="850" y="1248"/>
                  </a:lnTo>
                  <a:lnTo>
                    <a:pt x="848" y="1230"/>
                  </a:lnTo>
                  <a:lnTo>
                    <a:pt x="844" y="1214"/>
                  </a:lnTo>
                  <a:lnTo>
                    <a:pt x="838" y="1200"/>
                  </a:lnTo>
                  <a:lnTo>
                    <a:pt x="828" y="1188"/>
                  </a:lnTo>
                  <a:lnTo>
                    <a:pt x="818" y="1176"/>
                  </a:lnTo>
                  <a:lnTo>
                    <a:pt x="804" y="1166"/>
                  </a:lnTo>
                  <a:lnTo>
                    <a:pt x="788" y="1156"/>
                  </a:lnTo>
                  <a:lnTo>
                    <a:pt x="772" y="1148"/>
                  </a:lnTo>
                  <a:lnTo>
                    <a:pt x="772" y="1148"/>
                  </a:lnTo>
                  <a:lnTo>
                    <a:pt x="778" y="1164"/>
                  </a:lnTo>
                  <a:lnTo>
                    <a:pt x="780" y="1182"/>
                  </a:lnTo>
                  <a:lnTo>
                    <a:pt x="780" y="1200"/>
                  </a:lnTo>
                  <a:lnTo>
                    <a:pt x="778" y="1218"/>
                  </a:lnTo>
                  <a:lnTo>
                    <a:pt x="772" y="1234"/>
                  </a:lnTo>
                  <a:lnTo>
                    <a:pt x="764" y="1252"/>
                  </a:lnTo>
                  <a:lnTo>
                    <a:pt x="754" y="1268"/>
                  </a:lnTo>
                  <a:lnTo>
                    <a:pt x="742" y="1282"/>
                  </a:lnTo>
                  <a:lnTo>
                    <a:pt x="728" y="1294"/>
                  </a:lnTo>
                  <a:lnTo>
                    <a:pt x="710" y="1306"/>
                  </a:lnTo>
                  <a:lnTo>
                    <a:pt x="692" y="1316"/>
                  </a:lnTo>
                  <a:lnTo>
                    <a:pt x="672" y="1322"/>
                  </a:lnTo>
                  <a:lnTo>
                    <a:pt x="650" y="1328"/>
                  </a:lnTo>
                  <a:lnTo>
                    <a:pt x="626" y="1330"/>
                  </a:lnTo>
                  <a:lnTo>
                    <a:pt x="600" y="1328"/>
                  </a:lnTo>
                  <a:lnTo>
                    <a:pt x="574" y="1324"/>
                  </a:lnTo>
                  <a:lnTo>
                    <a:pt x="574" y="1324"/>
                  </a:lnTo>
                  <a:lnTo>
                    <a:pt x="550" y="1318"/>
                  </a:lnTo>
                  <a:lnTo>
                    <a:pt x="524" y="1310"/>
                  </a:lnTo>
                  <a:lnTo>
                    <a:pt x="524" y="1310"/>
                  </a:lnTo>
                  <a:lnTo>
                    <a:pt x="542" y="1310"/>
                  </a:lnTo>
                  <a:lnTo>
                    <a:pt x="558" y="1308"/>
                  </a:lnTo>
                  <a:lnTo>
                    <a:pt x="574" y="1304"/>
                  </a:lnTo>
                  <a:lnTo>
                    <a:pt x="588" y="1300"/>
                  </a:lnTo>
                  <a:lnTo>
                    <a:pt x="602" y="1292"/>
                  </a:lnTo>
                  <a:lnTo>
                    <a:pt x="614" y="1284"/>
                  </a:lnTo>
                  <a:lnTo>
                    <a:pt x="624" y="1274"/>
                  </a:lnTo>
                  <a:lnTo>
                    <a:pt x="634" y="1262"/>
                  </a:lnTo>
                  <a:lnTo>
                    <a:pt x="642" y="1250"/>
                  </a:lnTo>
                  <a:lnTo>
                    <a:pt x="650" y="1236"/>
                  </a:lnTo>
                  <a:lnTo>
                    <a:pt x="656" y="1222"/>
                  </a:lnTo>
                  <a:lnTo>
                    <a:pt x="660" y="1206"/>
                  </a:lnTo>
                  <a:lnTo>
                    <a:pt x="664" y="1190"/>
                  </a:lnTo>
                  <a:lnTo>
                    <a:pt x="666" y="1174"/>
                  </a:lnTo>
                  <a:lnTo>
                    <a:pt x="668" y="1140"/>
                  </a:lnTo>
                  <a:lnTo>
                    <a:pt x="668" y="1140"/>
                  </a:lnTo>
                  <a:lnTo>
                    <a:pt x="664" y="1110"/>
                  </a:lnTo>
                  <a:lnTo>
                    <a:pt x="654" y="1074"/>
                  </a:lnTo>
                  <a:lnTo>
                    <a:pt x="648" y="1054"/>
                  </a:lnTo>
                  <a:lnTo>
                    <a:pt x="640" y="1036"/>
                  </a:lnTo>
                  <a:lnTo>
                    <a:pt x="630" y="1018"/>
                  </a:lnTo>
                  <a:lnTo>
                    <a:pt x="620" y="1000"/>
                  </a:lnTo>
                  <a:lnTo>
                    <a:pt x="620" y="1000"/>
                  </a:lnTo>
                  <a:lnTo>
                    <a:pt x="612" y="988"/>
                  </a:lnTo>
                  <a:lnTo>
                    <a:pt x="612" y="988"/>
                  </a:lnTo>
                  <a:lnTo>
                    <a:pt x="596" y="970"/>
                  </a:lnTo>
                  <a:lnTo>
                    <a:pt x="578" y="956"/>
                  </a:lnTo>
                  <a:lnTo>
                    <a:pt x="560" y="946"/>
                  </a:lnTo>
                  <a:lnTo>
                    <a:pt x="542" y="940"/>
                  </a:lnTo>
                  <a:lnTo>
                    <a:pt x="524" y="936"/>
                  </a:lnTo>
                  <a:lnTo>
                    <a:pt x="508" y="936"/>
                  </a:lnTo>
                  <a:lnTo>
                    <a:pt x="490" y="938"/>
                  </a:lnTo>
                  <a:lnTo>
                    <a:pt x="474" y="942"/>
                  </a:lnTo>
                  <a:lnTo>
                    <a:pt x="458" y="948"/>
                  </a:lnTo>
                  <a:lnTo>
                    <a:pt x="444" y="956"/>
                  </a:lnTo>
                  <a:lnTo>
                    <a:pt x="432" y="966"/>
                  </a:lnTo>
                  <a:lnTo>
                    <a:pt x="420" y="978"/>
                  </a:lnTo>
                  <a:lnTo>
                    <a:pt x="412" y="990"/>
                  </a:lnTo>
                  <a:lnTo>
                    <a:pt x="404" y="1002"/>
                  </a:lnTo>
                  <a:lnTo>
                    <a:pt x="400" y="1016"/>
                  </a:lnTo>
                  <a:lnTo>
                    <a:pt x="398" y="1030"/>
                  </a:lnTo>
                  <a:lnTo>
                    <a:pt x="398" y="1030"/>
                  </a:lnTo>
                  <a:lnTo>
                    <a:pt x="398" y="1044"/>
                  </a:lnTo>
                  <a:lnTo>
                    <a:pt x="400" y="1058"/>
                  </a:lnTo>
                  <a:lnTo>
                    <a:pt x="404" y="1070"/>
                  </a:lnTo>
                  <a:lnTo>
                    <a:pt x="408" y="1082"/>
                  </a:lnTo>
                  <a:lnTo>
                    <a:pt x="416" y="1092"/>
                  </a:lnTo>
                  <a:lnTo>
                    <a:pt x="424" y="1100"/>
                  </a:lnTo>
                  <a:lnTo>
                    <a:pt x="434" y="1108"/>
                  </a:lnTo>
                  <a:lnTo>
                    <a:pt x="444" y="1114"/>
                  </a:lnTo>
                  <a:lnTo>
                    <a:pt x="456" y="1120"/>
                  </a:lnTo>
                  <a:lnTo>
                    <a:pt x="468" y="1124"/>
                  </a:lnTo>
                  <a:lnTo>
                    <a:pt x="482" y="1126"/>
                  </a:lnTo>
                  <a:lnTo>
                    <a:pt x="494" y="1126"/>
                  </a:lnTo>
                  <a:lnTo>
                    <a:pt x="508" y="1126"/>
                  </a:lnTo>
                  <a:lnTo>
                    <a:pt x="522" y="1124"/>
                  </a:lnTo>
                  <a:lnTo>
                    <a:pt x="536" y="1120"/>
                  </a:lnTo>
                  <a:lnTo>
                    <a:pt x="548" y="1114"/>
                  </a:lnTo>
                  <a:lnTo>
                    <a:pt x="548" y="1114"/>
                  </a:lnTo>
                  <a:lnTo>
                    <a:pt x="534" y="1108"/>
                  </a:lnTo>
                  <a:lnTo>
                    <a:pt x="520" y="1100"/>
                  </a:lnTo>
                  <a:lnTo>
                    <a:pt x="510" y="1090"/>
                  </a:lnTo>
                  <a:lnTo>
                    <a:pt x="502" y="1080"/>
                  </a:lnTo>
                  <a:lnTo>
                    <a:pt x="496" y="1066"/>
                  </a:lnTo>
                  <a:lnTo>
                    <a:pt x="496" y="1060"/>
                  </a:lnTo>
                  <a:lnTo>
                    <a:pt x="496" y="1054"/>
                  </a:lnTo>
                  <a:lnTo>
                    <a:pt x="498" y="1046"/>
                  </a:lnTo>
                  <a:lnTo>
                    <a:pt x="502" y="1040"/>
                  </a:lnTo>
                  <a:lnTo>
                    <a:pt x="506" y="1032"/>
                  </a:lnTo>
                  <a:lnTo>
                    <a:pt x="512" y="1026"/>
                  </a:lnTo>
                  <a:lnTo>
                    <a:pt x="512" y="1026"/>
                  </a:lnTo>
                  <a:lnTo>
                    <a:pt x="520" y="1020"/>
                  </a:lnTo>
                  <a:lnTo>
                    <a:pt x="528" y="1016"/>
                  </a:lnTo>
                  <a:lnTo>
                    <a:pt x="534" y="1014"/>
                  </a:lnTo>
                  <a:lnTo>
                    <a:pt x="542" y="1012"/>
                  </a:lnTo>
                  <a:lnTo>
                    <a:pt x="550" y="1012"/>
                  </a:lnTo>
                  <a:lnTo>
                    <a:pt x="558" y="1012"/>
                  </a:lnTo>
                  <a:lnTo>
                    <a:pt x="574" y="1018"/>
                  </a:lnTo>
                  <a:lnTo>
                    <a:pt x="588" y="1026"/>
                  </a:lnTo>
                  <a:lnTo>
                    <a:pt x="604" y="1040"/>
                  </a:lnTo>
                  <a:lnTo>
                    <a:pt x="618" y="1054"/>
                  </a:lnTo>
                  <a:lnTo>
                    <a:pt x="630" y="1072"/>
                  </a:lnTo>
                  <a:lnTo>
                    <a:pt x="630" y="1072"/>
                  </a:lnTo>
                  <a:lnTo>
                    <a:pt x="638" y="1088"/>
                  </a:lnTo>
                  <a:lnTo>
                    <a:pt x="642" y="1104"/>
                  </a:lnTo>
                  <a:lnTo>
                    <a:pt x="646" y="1120"/>
                  </a:lnTo>
                  <a:lnTo>
                    <a:pt x="648" y="1142"/>
                  </a:lnTo>
                  <a:lnTo>
                    <a:pt x="648" y="1142"/>
                  </a:lnTo>
                  <a:lnTo>
                    <a:pt x="646" y="1158"/>
                  </a:lnTo>
                  <a:lnTo>
                    <a:pt x="644" y="1174"/>
                  </a:lnTo>
                  <a:lnTo>
                    <a:pt x="638" y="1188"/>
                  </a:lnTo>
                  <a:lnTo>
                    <a:pt x="630" y="1202"/>
                  </a:lnTo>
                  <a:lnTo>
                    <a:pt x="618" y="1216"/>
                  </a:lnTo>
                  <a:lnTo>
                    <a:pt x="606" y="1228"/>
                  </a:lnTo>
                  <a:lnTo>
                    <a:pt x="590" y="1238"/>
                  </a:lnTo>
                  <a:lnTo>
                    <a:pt x="572" y="1248"/>
                  </a:lnTo>
                  <a:lnTo>
                    <a:pt x="552" y="1254"/>
                  </a:lnTo>
                  <a:lnTo>
                    <a:pt x="530" y="1258"/>
                  </a:lnTo>
                  <a:lnTo>
                    <a:pt x="504" y="1260"/>
                  </a:lnTo>
                  <a:lnTo>
                    <a:pt x="476" y="1258"/>
                  </a:lnTo>
                  <a:lnTo>
                    <a:pt x="446" y="1254"/>
                  </a:lnTo>
                  <a:lnTo>
                    <a:pt x="412" y="1246"/>
                  </a:lnTo>
                  <a:lnTo>
                    <a:pt x="378" y="1234"/>
                  </a:lnTo>
                  <a:lnTo>
                    <a:pt x="340" y="1218"/>
                  </a:lnTo>
                  <a:lnTo>
                    <a:pt x="340" y="1218"/>
                  </a:lnTo>
                  <a:lnTo>
                    <a:pt x="356" y="1216"/>
                  </a:lnTo>
                  <a:lnTo>
                    <a:pt x="374" y="1214"/>
                  </a:lnTo>
                  <a:lnTo>
                    <a:pt x="392" y="1208"/>
                  </a:lnTo>
                  <a:lnTo>
                    <a:pt x="408" y="1202"/>
                  </a:lnTo>
                  <a:lnTo>
                    <a:pt x="422" y="1194"/>
                  </a:lnTo>
                  <a:lnTo>
                    <a:pt x="432" y="1182"/>
                  </a:lnTo>
                  <a:lnTo>
                    <a:pt x="440" y="1170"/>
                  </a:lnTo>
                  <a:lnTo>
                    <a:pt x="442" y="1162"/>
                  </a:lnTo>
                  <a:lnTo>
                    <a:pt x="442" y="1156"/>
                  </a:lnTo>
                  <a:lnTo>
                    <a:pt x="442" y="1156"/>
                  </a:lnTo>
                  <a:lnTo>
                    <a:pt x="426" y="1164"/>
                  </a:lnTo>
                  <a:lnTo>
                    <a:pt x="410" y="1170"/>
                  </a:lnTo>
                  <a:lnTo>
                    <a:pt x="390" y="1174"/>
                  </a:lnTo>
                  <a:lnTo>
                    <a:pt x="372" y="1176"/>
                  </a:lnTo>
                  <a:lnTo>
                    <a:pt x="352" y="1176"/>
                  </a:lnTo>
                  <a:lnTo>
                    <a:pt x="332" y="1174"/>
                  </a:lnTo>
                  <a:lnTo>
                    <a:pt x="314" y="1170"/>
                  </a:lnTo>
                  <a:lnTo>
                    <a:pt x="294" y="1164"/>
                  </a:lnTo>
                  <a:lnTo>
                    <a:pt x="274" y="1156"/>
                  </a:lnTo>
                  <a:lnTo>
                    <a:pt x="256" y="1148"/>
                  </a:lnTo>
                  <a:lnTo>
                    <a:pt x="240" y="1136"/>
                  </a:lnTo>
                  <a:lnTo>
                    <a:pt x="224" y="1124"/>
                  </a:lnTo>
                  <a:lnTo>
                    <a:pt x="208" y="1112"/>
                  </a:lnTo>
                  <a:lnTo>
                    <a:pt x="196" y="1098"/>
                  </a:lnTo>
                  <a:lnTo>
                    <a:pt x="186" y="1082"/>
                  </a:lnTo>
                  <a:lnTo>
                    <a:pt x="176" y="1066"/>
                  </a:lnTo>
                  <a:lnTo>
                    <a:pt x="176" y="1066"/>
                  </a:lnTo>
                  <a:lnTo>
                    <a:pt x="186" y="1054"/>
                  </a:lnTo>
                  <a:lnTo>
                    <a:pt x="196" y="1036"/>
                  </a:lnTo>
                  <a:lnTo>
                    <a:pt x="204" y="1014"/>
                  </a:lnTo>
                  <a:lnTo>
                    <a:pt x="210" y="992"/>
                  </a:lnTo>
                  <a:lnTo>
                    <a:pt x="214" y="968"/>
                  </a:lnTo>
                  <a:lnTo>
                    <a:pt x="214" y="946"/>
                  </a:lnTo>
                  <a:lnTo>
                    <a:pt x="212" y="936"/>
                  </a:lnTo>
                  <a:lnTo>
                    <a:pt x="210" y="928"/>
                  </a:lnTo>
                  <a:lnTo>
                    <a:pt x="206" y="922"/>
                  </a:lnTo>
                  <a:lnTo>
                    <a:pt x="200" y="916"/>
                  </a:lnTo>
                  <a:lnTo>
                    <a:pt x="200" y="916"/>
                  </a:lnTo>
                  <a:lnTo>
                    <a:pt x="230" y="926"/>
                  </a:lnTo>
                  <a:lnTo>
                    <a:pt x="260" y="934"/>
                  </a:lnTo>
                  <a:lnTo>
                    <a:pt x="288" y="938"/>
                  </a:lnTo>
                  <a:lnTo>
                    <a:pt x="314" y="940"/>
                  </a:lnTo>
                  <a:lnTo>
                    <a:pt x="338" y="936"/>
                  </a:lnTo>
                  <a:lnTo>
                    <a:pt x="348" y="932"/>
                  </a:lnTo>
                  <a:lnTo>
                    <a:pt x="356" y="928"/>
                  </a:lnTo>
                  <a:lnTo>
                    <a:pt x="364" y="922"/>
                  </a:lnTo>
                  <a:lnTo>
                    <a:pt x="370" y="916"/>
                  </a:lnTo>
                  <a:lnTo>
                    <a:pt x="374" y="910"/>
                  </a:lnTo>
                  <a:lnTo>
                    <a:pt x="376" y="900"/>
                  </a:lnTo>
                  <a:lnTo>
                    <a:pt x="376" y="900"/>
                  </a:lnTo>
                  <a:lnTo>
                    <a:pt x="360" y="904"/>
                  </a:lnTo>
                  <a:lnTo>
                    <a:pt x="342" y="902"/>
                  </a:lnTo>
                  <a:lnTo>
                    <a:pt x="324" y="898"/>
                  </a:lnTo>
                  <a:lnTo>
                    <a:pt x="304" y="890"/>
                  </a:lnTo>
                  <a:lnTo>
                    <a:pt x="284" y="880"/>
                  </a:lnTo>
                  <a:lnTo>
                    <a:pt x="262" y="866"/>
                  </a:lnTo>
                  <a:lnTo>
                    <a:pt x="242" y="850"/>
                  </a:lnTo>
                  <a:lnTo>
                    <a:pt x="222" y="832"/>
                  </a:lnTo>
                  <a:lnTo>
                    <a:pt x="204" y="810"/>
                  </a:lnTo>
                  <a:lnTo>
                    <a:pt x="186" y="786"/>
                  </a:lnTo>
                  <a:lnTo>
                    <a:pt x="170" y="762"/>
                  </a:lnTo>
                  <a:lnTo>
                    <a:pt x="156" y="734"/>
                  </a:lnTo>
                  <a:lnTo>
                    <a:pt x="144" y="706"/>
                  </a:lnTo>
                  <a:lnTo>
                    <a:pt x="136" y="676"/>
                  </a:lnTo>
                  <a:lnTo>
                    <a:pt x="130" y="644"/>
                  </a:lnTo>
                  <a:lnTo>
                    <a:pt x="126" y="612"/>
                  </a:lnTo>
                  <a:lnTo>
                    <a:pt x="126" y="612"/>
                  </a:lnTo>
                  <a:lnTo>
                    <a:pt x="126" y="582"/>
                  </a:lnTo>
                  <a:lnTo>
                    <a:pt x="128" y="554"/>
                  </a:lnTo>
                  <a:lnTo>
                    <a:pt x="132" y="524"/>
                  </a:lnTo>
                  <a:lnTo>
                    <a:pt x="136" y="494"/>
                  </a:lnTo>
                  <a:lnTo>
                    <a:pt x="142" y="466"/>
                  </a:lnTo>
                  <a:lnTo>
                    <a:pt x="150" y="438"/>
                  </a:lnTo>
                  <a:lnTo>
                    <a:pt x="160" y="410"/>
                  </a:lnTo>
                  <a:lnTo>
                    <a:pt x="172" y="382"/>
                  </a:lnTo>
                  <a:lnTo>
                    <a:pt x="186" y="354"/>
                  </a:lnTo>
                  <a:lnTo>
                    <a:pt x="200" y="328"/>
                  </a:lnTo>
                  <a:lnTo>
                    <a:pt x="216" y="302"/>
                  </a:lnTo>
                  <a:lnTo>
                    <a:pt x="234" y="278"/>
                  </a:lnTo>
                  <a:lnTo>
                    <a:pt x="254" y="256"/>
                  </a:lnTo>
                  <a:lnTo>
                    <a:pt x="276" y="234"/>
                  </a:lnTo>
                  <a:lnTo>
                    <a:pt x="300" y="212"/>
                  </a:lnTo>
                  <a:lnTo>
                    <a:pt x="324" y="194"/>
                  </a:lnTo>
                  <a:lnTo>
                    <a:pt x="324" y="194"/>
                  </a:lnTo>
                  <a:lnTo>
                    <a:pt x="312" y="216"/>
                  </a:lnTo>
                  <a:lnTo>
                    <a:pt x="302" y="240"/>
                  </a:lnTo>
                  <a:lnTo>
                    <a:pt x="282" y="288"/>
                  </a:lnTo>
                  <a:lnTo>
                    <a:pt x="266" y="340"/>
                  </a:lnTo>
                  <a:lnTo>
                    <a:pt x="254" y="388"/>
                  </a:lnTo>
                  <a:lnTo>
                    <a:pt x="252" y="414"/>
                  </a:lnTo>
                  <a:lnTo>
                    <a:pt x="250" y="436"/>
                  </a:lnTo>
                  <a:lnTo>
                    <a:pt x="248" y="458"/>
                  </a:lnTo>
                  <a:lnTo>
                    <a:pt x="248" y="480"/>
                  </a:lnTo>
                  <a:lnTo>
                    <a:pt x="250" y="500"/>
                  </a:lnTo>
                  <a:lnTo>
                    <a:pt x="254" y="518"/>
                  </a:lnTo>
                  <a:lnTo>
                    <a:pt x="260" y="534"/>
                  </a:lnTo>
                  <a:lnTo>
                    <a:pt x="266" y="550"/>
                  </a:lnTo>
                  <a:lnTo>
                    <a:pt x="266" y="550"/>
                  </a:lnTo>
                  <a:lnTo>
                    <a:pt x="282" y="536"/>
                  </a:lnTo>
                  <a:lnTo>
                    <a:pt x="294" y="524"/>
                  </a:lnTo>
                  <a:lnTo>
                    <a:pt x="302" y="510"/>
                  </a:lnTo>
                  <a:lnTo>
                    <a:pt x="302" y="504"/>
                  </a:lnTo>
                  <a:lnTo>
                    <a:pt x="304" y="496"/>
                  </a:lnTo>
                  <a:lnTo>
                    <a:pt x="304" y="496"/>
                  </a:lnTo>
                  <a:lnTo>
                    <a:pt x="310" y="514"/>
                  </a:lnTo>
                  <a:lnTo>
                    <a:pt x="320" y="528"/>
                  </a:lnTo>
                  <a:lnTo>
                    <a:pt x="330" y="542"/>
                  </a:lnTo>
                  <a:lnTo>
                    <a:pt x="340" y="554"/>
                  </a:lnTo>
                  <a:lnTo>
                    <a:pt x="340" y="554"/>
                  </a:lnTo>
                  <a:lnTo>
                    <a:pt x="324" y="558"/>
                  </a:lnTo>
                  <a:lnTo>
                    <a:pt x="312" y="566"/>
                  </a:lnTo>
                  <a:lnTo>
                    <a:pt x="300" y="574"/>
                  </a:lnTo>
                  <a:lnTo>
                    <a:pt x="290" y="584"/>
                  </a:lnTo>
                  <a:lnTo>
                    <a:pt x="282" y="594"/>
                  </a:lnTo>
                  <a:lnTo>
                    <a:pt x="276" y="606"/>
                  </a:lnTo>
                  <a:lnTo>
                    <a:pt x="270" y="620"/>
                  </a:lnTo>
                  <a:lnTo>
                    <a:pt x="268" y="632"/>
                  </a:lnTo>
                  <a:lnTo>
                    <a:pt x="266" y="644"/>
                  </a:lnTo>
                  <a:lnTo>
                    <a:pt x="266" y="658"/>
                  </a:lnTo>
                  <a:lnTo>
                    <a:pt x="266" y="670"/>
                  </a:lnTo>
                  <a:lnTo>
                    <a:pt x="268" y="680"/>
                  </a:lnTo>
                  <a:lnTo>
                    <a:pt x="272" y="690"/>
                  </a:lnTo>
                  <a:lnTo>
                    <a:pt x="278" y="700"/>
                  </a:lnTo>
                  <a:lnTo>
                    <a:pt x="284" y="706"/>
                  </a:lnTo>
                  <a:lnTo>
                    <a:pt x="292" y="712"/>
                  </a:lnTo>
                  <a:lnTo>
                    <a:pt x="292" y="712"/>
                  </a:lnTo>
                  <a:lnTo>
                    <a:pt x="302" y="716"/>
                  </a:lnTo>
                  <a:lnTo>
                    <a:pt x="312" y="718"/>
                  </a:lnTo>
                  <a:lnTo>
                    <a:pt x="322" y="720"/>
                  </a:lnTo>
                  <a:lnTo>
                    <a:pt x="332" y="720"/>
                  </a:lnTo>
                  <a:lnTo>
                    <a:pt x="340" y="718"/>
                  </a:lnTo>
                  <a:lnTo>
                    <a:pt x="348" y="714"/>
                  </a:lnTo>
                  <a:lnTo>
                    <a:pt x="356" y="710"/>
                  </a:lnTo>
                  <a:lnTo>
                    <a:pt x="364" y="704"/>
                  </a:lnTo>
                  <a:lnTo>
                    <a:pt x="378" y="690"/>
                  </a:lnTo>
                  <a:lnTo>
                    <a:pt x="388" y="672"/>
                  </a:lnTo>
                  <a:lnTo>
                    <a:pt x="390" y="664"/>
                  </a:lnTo>
                  <a:lnTo>
                    <a:pt x="392" y="654"/>
                  </a:lnTo>
                  <a:lnTo>
                    <a:pt x="394" y="642"/>
                  </a:lnTo>
                  <a:lnTo>
                    <a:pt x="394" y="632"/>
                  </a:lnTo>
                  <a:lnTo>
                    <a:pt x="394" y="632"/>
                  </a:lnTo>
                  <a:lnTo>
                    <a:pt x="386" y="640"/>
                  </a:lnTo>
                  <a:lnTo>
                    <a:pt x="376" y="648"/>
                  </a:lnTo>
                  <a:lnTo>
                    <a:pt x="366" y="652"/>
                  </a:lnTo>
                  <a:lnTo>
                    <a:pt x="356" y="654"/>
                  </a:lnTo>
                  <a:lnTo>
                    <a:pt x="346" y="654"/>
                  </a:lnTo>
                  <a:lnTo>
                    <a:pt x="338" y="650"/>
                  </a:lnTo>
                  <a:lnTo>
                    <a:pt x="330" y="642"/>
                  </a:lnTo>
                  <a:lnTo>
                    <a:pt x="322" y="632"/>
                  </a:lnTo>
                  <a:lnTo>
                    <a:pt x="322" y="632"/>
                  </a:lnTo>
                  <a:lnTo>
                    <a:pt x="320" y="622"/>
                  </a:lnTo>
                  <a:lnTo>
                    <a:pt x="320" y="612"/>
                  </a:lnTo>
                  <a:lnTo>
                    <a:pt x="322" y="602"/>
                  </a:lnTo>
                  <a:lnTo>
                    <a:pt x="326" y="592"/>
                  </a:lnTo>
                  <a:lnTo>
                    <a:pt x="330" y="582"/>
                  </a:lnTo>
                  <a:lnTo>
                    <a:pt x="336" y="574"/>
                  </a:lnTo>
                  <a:lnTo>
                    <a:pt x="344" y="568"/>
                  </a:lnTo>
                  <a:lnTo>
                    <a:pt x="352" y="562"/>
                  </a:lnTo>
                  <a:lnTo>
                    <a:pt x="352" y="562"/>
                  </a:lnTo>
                  <a:lnTo>
                    <a:pt x="366" y="570"/>
                  </a:lnTo>
                  <a:lnTo>
                    <a:pt x="382" y="576"/>
                  </a:lnTo>
                  <a:lnTo>
                    <a:pt x="398" y="576"/>
                  </a:lnTo>
                  <a:lnTo>
                    <a:pt x="412" y="572"/>
                  </a:lnTo>
                  <a:lnTo>
                    <a:pt x="426" y="564"/>
                  </a:lnTo>
                  <a:lnTo>
                    <a:pt x="436" y="552"/>
                  </a:lnTo>
                  <a:lnTo>
                    <a:pt x="446" y="534"/>
                  </a:lnTo>
                  <a:lnTo>
                    <a:pt x="454" y="512"/>
                  </a:lnTo>
                  <a:lnTo>
                    <a:pt x="454" y="512"/>
                  </a:lnTo>
                  <a:lnTo>
                    <a:pt x="444" y="512"/>
                  </a:lnTo>
                  <a:lnTo>
                    <a:pt x="434" y="512"/>
                  </a:lnTo>
                  <a:lnTo>
                    <a:pt x="414" y="510"/>
                  </a:lnTo>
                  <a:lnTo>
                    <a:pt x="394" y="502"/>
                  </a:lnTo>
                  <a:lnTo>
                    <a:pt x="374" y="490"/>
                  </a:lnTo>
                  <a:lnTo>
                    <a:pt x="356" y="474"/>
                  </a:lnTo>
                  <a:lnTo>
                    <a:pt x="340" y="454"/>
                  </a:lnTo>
                  <a:lnTo>
                    <a:pt x="328" y="432"/>
                  </a:lnTo>
                  <a:lnTo>
                    <a:pt x="324" y="420"/>
                  </a:lnTo>
                  <a:lnTo>
                    <a:pt x="320" y="408"/>
                  </a:lnTo>
                  <a:lnTo>
                    <a:pt x="320" y="408"/>
                  </a:lnTo>
                  <a:lnTo>
                    <a:pt x="318" y="390"/>
                  </a:lnTo>
                  <a:lnTo>
                    <a:pt x="318" y="372"/>
                  </a:lnTo>
                  <a:lnTo>
                    <a:pt x="318" y="354"/>
                  </a:lnTo>
                  <a:lnTo>
                    <a:pt x="322" y="332"/>
                  </a:lnTo>
                  <a:lnTo>
                    <a:pt x="326" y="312"/>
                  </a:lnTo>
                  <a:lnTo>
                    <a:pt x="332" y="290"/>
                  </a:lnTo>
                  <a:lnTo>
                    <a:pt x="340" y="268"/>
                  </a:lnTo>
                  <a:lnTo>
                    <a:pt x="350" y="248"/>
                  </a:lnTo>
                  <a:lnTo>
                    <a:pt x="362" y="226"/>
                  </a:lnTo>
                  <a:lnTo>
                    <a:pt x="376" y="206"/>
                  </a:lnTo>
                  <a:lnTo>
                    <a:pt x="392" y="188"/>
                  </a:lnTo>
                  <a:lnTo>
                    <a:pt x="410" y="170"/>
                  </a:lnTo>
                  <a:lnTo>
                    <a:pt x="432" y="154"/>
                  </a:lnTo>
                  <a:lnTo>
                    <a:pt x="454" y="140"/>
                  </a:lnTo>
                  <a:lnTo>
                    <a:pt x="480" y="130"/>
                  </a:lnTo>
                  <a:lnTo>
                    <a:pt x="508" y="120"/>
                  </a:lnTo>
                  <a:lnTo>
                    <a:pt x="508" y="120"/>
                  </a:lnTo>
                  <a:lnTo>
                    <a:pt x="494" y="132"/>
                  </a:lnTo>
                  <a:lnTo>
                    <a:pt x="484" y="144"/>
                  </a:lnTo>
                  <a:lnTo>
                    <a:pt x="474" y="158"/>
                  </a:lnTo>
                  <a:lnTo>
                    <a:pt x="466" y="170"/>
                  </a:lnTo>
                  <a:lnTo>
                    <a:pt x="462" y="182"/>
                  </a:lnTo>
                  <a:lnTo>
                    <a:pt x="458" y="194"/>
                  </a:lnTo>
                  <a:lnTo>
                    <a:pt x="456" y="204"/>
                  </a:lnTo>
                  <a:lnTo>
                    <a:pt x="456" y="214"/>
                  </a:lnTo>
                  <a:lnTo>
                    <a:pt x="456" y="224"/>
                  </a:lnTo>
                  <a:lnTo>
                    <a:pt x="458" y="232"/>
                  </a:lnTo>
                  <a:lnTo>
                    <a:pt x="462" y="240"/>
                  </a:lnTo>
                  <a:lnTo>
                    <a:pt x="466" y="246"/>
                  </a:lnTo>
                  <a:lnTo>
                    <a:pt x="472" y="250"/>
                  </a:lnTo>
                  <a:lnTo>
                    <a:pt x="480" y="254"/>
                  </a:lnTo>
                  <a:lnTo>
                    <a:pt x="486" y="256"/>
                  </a:lnTo>
                  <a:lnTo>
                    <a:pt x="496" y="256"/>
                  </a:lnTo>
                  <a:lnTo>
                    <a:pt x="496" y="256"/>
                  </a:lnTo>
                  <a:lnTo>
                    <a:pt x="488" y="274"/>
                  </a:lnTo>
                  <a:lnTo>
                    <a:pt x="484" y="292"/>
                  </a:lnTo>
                  <a:lnTo>
                    <a:pt x="482" y="308"/>
                  </a:lnTo>
                  <a:lnTo>
                    <a:pt x="482" y="322"/>
                  </a:lnTo>
                  <a:lnTo>
                    <a:pt x="484" y="334"/>
                  </a:lnTo>
                  <a:lnTo>
                    <a:pt x="488" y="346"/>
                  </a:lnTo>
                  <a:lnTo>
                    <a:pt x="494" y="356"/>
                  </a:lnTo>
                  <a:lnTo>
                    <a:pt x="500" y="366"/>
                  </a:lnTo>
                  <a:lnTo>
                    <a:pt x="510" y="372"/>
                  </a:lnTo>
                  <a:lnTo>
                    <a:pt x="520" y="378"/>
                  </a:lnTo>
                  <a:lnTo>
                    <a:pt x="530" y="384"/>
                  </a:lnTo>
                  <a:lnTo>
                    <a:pt x="544" y="386"/>
                  </a:lnTo>
                  <a:lnTo>
                    <a:pt x="556" y="388"/>
                  </a:lnTo>
                  <a:lnTo>
                    <a:pt x="570" y="388"/>
                  </a:lnTo>
                  <a:lnTo>
                    <a:pt x="584" y="386"/>
                  </a:lnTo>
                  <a:lnTo>
                    <a:pt x="600" y="384"/>
                  </a:lnTo>
                  <a:lnTo>
                    <a:pt x="600" y="384"/>
                  </a:lnTo>
                  <a:lnTo>
                    <a:pt x="588" y="374"/>
                  </a:lnTo>
                  <a:lnTo>
                    <a:pt x="578" y="364"/>
                  </a:lnTo>
                  <a:lnTo>
                    <a:pt x="570" y="354"/>
                  </a:lnTo>
                  <a:lnTo>
                    <a:pt x="566" y="344"/>
                  </a:lnTo>
                  <a:lnTo>
                    <a:pt x="562" y="334"/>
                  </a:lnTo>
                  <a:lnTo>
                    <a:pt x="560" y="322"/>
                  </a:lnTo>
                  <a:lnTo>
                    <a:pt x="562" y="312"/>
                  </a:lnTo>
                  <a:lnTo>
                    <a:pt x="564" y="302"/>
                  </a:lnTo>
                  <a:lnTo>
                    <a:pt x="568" y="292"/>
                  </a:lnTo>
                  <a:lnTo>
                    <a:pt x="572" y="284"/>
                  </a:lnTo>
                  <a:lnTo>
                    <a:pt x="578" y="274"/>
                  </a:lnTo>
                  <a:lnTo>
                    <a:pt x="586" y="266"/>
                  </a:lnTo>
                  <a:lnTo>
                    <a:pt x="606" y="250"/>
                  </a:lnTo>
                  <a:lnTo>
                    <a:pt x="628" y="238"/>
                  </a:lnTo>
                  <a:lnTo>
                    <a:pt x="628" y="238"/>
                  </a:lnTo>
                  <a:lnTo>
                    <a:pt x="632" y="252"/>
                  </a:lnTo>
                  <a:lnTo>
                    <a:pt x="638" y="262"/>
                  </a:lnTo>
                  <a:lnTo>
                    <a:pt x="644" y="272"/>
                  </a:lnTo>
                  <a:lnTo>
                    <a:pt x="652" y="278"/>
                  </a:lnTo>
                  <a:lnTo>
                    <a:pt x="662" y="282"/>
                  </a:lnTo>
                  <a:lnTo>
                    <a:pt x="672" y="286"/>
                  </a:lnTo>
                  <a:lnTo>
                    <a:pt x="682" y="286"/>
                  </a:lnTo>
                  <a:lnTo>
                    <a:pt x="692" y="286"/>
                  </a:lnTo>
                  <a:lnTo>
                    <a:pt x="702" y="284"/>
                  </a:lnTo>
                  <a:lnTo>
                    <a:pt x="712" y="280"/>
                  </a:lnTo>
                  <a:lnTo>
                    <a:pt x="722" y="276"/>
                  </a:lnTo>
                  <a:lnTo>
                    <a:pt x="732" y="270"/>
                  </a:lnTo>
                  <a:lnTo>
                    <a:pt x="740" y="262"/>
                  </a:lnTo>
                  <a:lnTo>
                    <a:pt x="746" y="254"/>
                  </a:lnTo>
                  <a:lnTo>
                    <a:pt x="752" y="246"/>
                  </a:lnTo>
                  <a:lnTo>
                    <a:pt x="756" y="236"/>
                  </a:lnTo>
                  <a:lnTo>
                    <a:pt x="756" y="236"/>
                  </a:lnTo>
                  <a:lnTo>
                    <a:pt x="770" y="240"/>
                  </a:lnTo>
                  <a:lnTo>
                    <a:pt x="782" y="244"/>
                  </a:lnTo>
                  <a:lnTo>
                    <a:pt x="796" y="252"/>
                  </a:lnTo>
                  <a:lnTo>
                    <a:pt x="808" y="260"/>
                  </a:lnTo>
                  <a:lnTo>
                    <a:pt x="818" y="270"/>
                  </a:lnTo>
                  <a:lnTo>
                    <a:pt x="828" y="280"/>
                  </a:lnTo>
                  <a:lnTo>
                    <a:pt x="836" y="290"/>
                  </a:lnTo>
                  <a:lnTo>
                    <a:pt x="840" y="302"/>
                  </a:lnTo>
                  <a:lnTo>
                    <a:pt x="844" y="314"/>
                  </a:lnTo>
                  <a:lnTo>
                    <a:pt x="846" y="326"/>
                  </a:lnTo>
                  <a:lnTo>
                    <a:pt x="844" y="336"/>
                  </a:lnTo>
                  <a:lnTo>
                    <a:pt x="838" y="348"/>
                  </a:lnTo>
                  <a:lnTo>
                    <a:pt x="832" y="356"/>
                  </a:lnTo>
                  <a:lnTo>
                    <a:pt x="820" y="366"/>
                  </a:lnTo>
                  <a:lnTo>
                    <a:pt x="804" y="374"/>
                  </a:lnTo>
                  <a:lnTo>
                    <a:pt x="786" y="380"/>
                  </a:lnTo>
                  <a:lnTo>
                    <a:pt x="786" y="380"/>
                  </a:lnTo>
                  <a:lnTo>
                    <a:pt x="812" y="386"/>
                  </a:lnTo>
                  <a:lnTo>
                    <a:pt x="834" y="388"/>
                  </a:lnTo>
                  <a:lnTo>
                    <a:pt x="854" y="390"/>
                  </a:lnTo>
                  <a:lnTo>
                    <a:pt x="870" y="386"/>
                  </a:lnTo>
                  <a:lnTo>
                    <a:pt x="886" y="382"/>
                  </a:lnTo>
                  <a:lnTo>
                    <a:pt x="896" y="376"/>
                  </a:lnTo>
                  <a:lnTo>
                    <a:pt x="906" y="368"/>
                  </a:lnTo>
                  <a:lnTo>
                    <a:pt x="912" y="358"/>
                  </a:lnTo>
                  <a:lnTo>
                    <a:pt x="918" y="348"/>
                  </a:lnTo>
                  <a:lnTo>
                    <a:pt x="922" y="336"/>
                  </a:lnTo>
                  <a:lnTo>
                    <a:pt x="924" y="324"/>
                  </a:lnTo>
                  <a:lnTo>
                    <a:pt x="924" y="314"/>
                  </a:lnTo>
                  <a:lnTo>
                    <a:pt x="922" y="292"/>
                  </a:lnTo>
                  <a:lnTo>
                    <a:pt x="916" y="274"/>
                  </a:lnTo>
                  <a:lnTo>
                    <a:pt x="916" y="274"/>
                  </a:lnTo>
                  <a:lnTo>
                    <a:pt x="922" y="270"/>
                  </a:lnTo>
                  <a:lnTo>
                    <a:pt x="928" y="266"/>
                  </a:lnTo>
                  <a:lnTo>
                    <a:pt x="932" y="262"/>
                  </a:lnTo>
                  <a:lnTo>
                    <a:pt x="936" y="256"/>
                  </a:lnTo>
                  <a:lnTo>
                    <a:pt x="936" y="250"/>
                  </a:lnTo>
                  <a:lnTo>
                    <a:pt x="936" y="244"/>
                  </a:lnTo>
                  <a:lnTo>
                    <a:pt x="934" y="236"/>
                  </a:lnTo>
                  <a:lnTo>
                    <a:pt x="932" y="230"/>
                  </a:lnTo>
                  <a:lnTo>
                    <a:pt x="922" y="214"/>
                  </a:lnTo>
                  <a:lnTo>
                    <a:pt x="906" y="196"/>
                  </a:lnTo>
                  <a:lnTo>
                    <a:pt x="884" y="180"/>
                  </a:lnTo>
                  <a:lnTo>
                    <a:pt x="858" y="160"/>
                  </a:lnTo>
                  <a:lnTo>
                    <a:pt x="858" y="160"/>
                  </a:lnTo>
                  <a:lnTo>
                    <a:pt x="882" y="168"/>
                  </a:lnTo>
                  <a:lnTo>
                    <a:pt x="906" y="176"/>
                  </a:lnTo>
                  <a:lnTo>
                    <a:pt x="926" y="186"/>
                  </a:lnTo>
                  <a:lnTo>
                    <a:pt x="946" y="196"/>
                  </a:lnTo>
                  <a:lnTo>
                    <a:pt x="964" y="208"/>
                  </a:lnTo>
                  <a:lnTo>
                    <a:pt x="978" y="220"/>
                  </a:lnTo>
                  <a:lnTo>
                    <a:pt x="992" y="234"/>
                  </a:lnTo>
                  <a:lnTo>
                    <a:pt x="1006" y="248"/>
                  </a:lnTo>
                  <a:lnTo>
                    <a:pt x="1016" y="262"/>
                  </a:lnTo>
                  <a:lnTo>
                    <a:pt x="1026" y="278"/>
                  </a:lnTo>
                  <a:lnTo>
                    <a:pt x="1032" y="294"/>
                  </a:lnTo>
                  <a:lnTo>
                    <a:pt x="1038" y="310"/>
                  </a:lnTo>
                  <a:lnTo>
                    <a:pt x="1044" y="326"/>
                  </a:lnTo>
                  <a:lnTo>
                    <a:pt x="1048" y="342"/>
                  </a:lnTo>
                  <a:lnTo>
                    <a:pt x="1050" y="358"/>
                  </a:lnTo>
                  <a:lnTo>
                    <a:pt x="1050" y="376"/>
                  </a:lnTo>
                  <a:lnTo>
                    <a:pt x="1050" y="392"/>
                  </a:lnTo>
                  <a:lnTo>
                    <a:pt x="1048" y="406"/>
                  </a:lnTo>
                  <a:lnTo>
                    <a:pt x="1040" y="436"/>
                  </a:lnTo>
                  <a:lnTo>
                    <a:pt x="1036" y="450"/>
                  </a:lnTo>
                  <a:lnTo>
                    <a:pt x="1030" y="464"/>
                  </a:lnTo>
                  <a:lnTo>
                    <a:pt x="1024" y="476"/>
                  </a:lnTo>
                  <a:lnTo>
                    <a:pt x="1016" y="488"/>
                  </a:lnTo>
                  <a:lnTo>
                    <a:pt x="1006" y="498"/>
                  </a:lnTo>
                  <a:lnTo>
                    <a:pt x="998" y="506"/>
                  </a:lnTo>
                  <a:lnTo>
                    <a:pt x="986" y="514"/>
                  </a:lnTo>
                  <a:lnTo>
                    <a:pt x="976" y="520"/>
                  </a:lnTo>
                  <a:lnTo>
                    <a:pt x="964" y="526"/>
                  </a:lnTo>
                  <a:lnTo>
                    <a:pt x="952" y="528"/>
                  </a:lnTo>
                  <a:lnTo>
                    <a:pt x="940" y="530"/>
                  </a:lnTo>
                  <a:lnTo>
                    <a:pt x="926" y="530"/>
                  </a:lnTo>
                  <a:lnTo>
                    <a:pt x="926" y="530"/>
                  </a:lnTo>
                  <a:lnTo>
                    <a:pt x="930" y="542"/>
                  </a:lnTo>
                  <a:lnTo>
                    <a:pt x="934" y="554"/>
                  </a:lnTo>
                  <a:lnTo>
                    <a:pt x="940" y="562"/>
                  </a:lnTo>
                  <a:lnTo>
                    <a:pt x="948" y="570"/>
                  </a:lnTo>
                  <a:lnTo>
                    <a:pt x="956" y="574"/>
                  </a:lnTo>
                  <a:lnTo>
                    <a:pt x="964" y="576"/>
                  </a:lnTo>
                  <a:lnTo>
                    <a:pt x="974" y="578"/>
                  </a:lnTo>
                  <a:lnTo>
                    <a:pt x="982" y="578"/>
                  </a:lnTo>
                  <a:lnTo>
                    <a:pt x="992" y="576"/>
                  </a:lnTo>
                  <a:lnTo>
                    <a:pt x="1002" y="572"/>
                  </a:lnTo>
                  <a:lnTo>
                    <a:pt x="1012" y="566"/>
                  </a:lnTo>
                  <a:lnTo>
                    <a:pt x="1020" y="560"/>
                  </a:lnTo>
                  <a:lnTo>
                    <a:pt x="1030" y="550"/>
                  </a:lnTo>
                  <a:lnTo>
                    <a:pt x="1036" y="542"/>
                  </a:lnTo>
                  <a:lnTo>
                    <a:pt x="1044" y="530"/>
                  </a:lnTo>
                  <a:lnTo>
                    <a:pt x="1048" y="518"/>
                  </a:lnTo>
                  <a:lnTo>
                    <a:pt x="1048" y="518"/>
                  </a:lnTo>
                  <a:lnTo>
                    <a:pt x="1054" y="538"/>
                  </a:lnTo>
                  <a:lnTo>
                    <a:pt x="1058" y="560"/>
                  </a:lnTo>
                  <a:lnTo>
                    <a:pt x="1060" y="582"/>
                  </a:lnTo>
                  <a:lnTo>
                    <a:pt x="1060" y="606"/>
                  </a:lnTo>
                  <a:lnTo>
                    <a:pt x="1058" y="644"/>
                  </a:lnTo>
                  <a:lnTo>
                    <a:pt x="1056" y="660"/>
                  </a:lnTo>
                  <a:lnTo>
                    <a:pt x="1056" y="660"/>
                  </a:lnTo>
                  <a:lnTo>
                    <a:pt x="1064" y="644"/>
                  </a:lnTo>
                  <a:lnTo>
                    <a:pt x="1082" y="604"/>
                  </a:lnTo>
                  <a:lnTo>
                    <a:pt x="1092" y="578"/>
                  </a:lnTo>
                  <a:lnTo>
                    <a:pt x="1100" y="548"/>
                  </a:lnTo>
                  <a:lnTo>
                    <a:pt x="1106" y="518"/>
                  </a:lnTo>
                  <a:lnTo>
                    <a:pt x="1110" y="486"/>
                  </a:lnTo>
                  <a:lnTo>
                    <a:pt x="1110" y="486"/>
                  </a:lnTo>
                  <a:lnTo>
                    <a:pt x="1110" y="454"/>
                  </a:lnTo>
                  <a:lnTo>
                    <a:pt x="1110" y="424"/>
                  </a:lnTo>
                  <a:lnTo>
                    <a:pt x="1106" y="394"/>
                  </a:lnTo>
                  <a:lnTo>
                    <a:pt x="1102" y="366"/>
                  </a:lnTo>
                  <a:lnTo>
                    <a:pt x="1096" y="338"/>
                  </a:lnTo>
                  <a:lnTo>
                    <a:pt x="1088" y="312"/>
                  </a:lnTo>
                  <a:lnTo>
                    <a:pt x="1078" y="288"/>
                  </a:lnTo>
                  <a:lnTo>
                    <a:pt x="1064" y="264"/>
                  </a:lnTo>
                  <a:lnTo>
                    <a:pt x="1064" y="264"/>
                  </a:lnTo>
                  <a:lnTo>
                    <a:pt x="1092" y="292"/>
                  </a:lnTo>
                  <a:lnTo>
                    <a:pt x="1114" y="318"/>
                  </a:lnTo>
                  <a:lnTo>
                    <a:pt x="1134" y="346"/>
                  </a:lnTo>
                  <a:lnTo>
                    <a:pt x="1148" y="372"/>
                  </a:lnTo>
                  <a:lnTo>
                    <a:pt x="1160" y="400"/>
                  </a:lnTo>
                  <a:lnTo>
                    <a:pt x="1168" y="428"/>
                  </a:lnTo>
                  <a:lnTo>
                    <a:pt x="1174" y="454"/>
                  </a:lnTo>
                  <a:lnTo>
                    <a:pt x="1176" y="482"/>
                  </a:lnTo>
                  <a:lnTo>
                    <a:pt x="1176" y="508"/>
                  </a:lnTo>
                  <a:lnTo>
                    <a:pt x="1174" y="534"/>
                  </a:lnTo>
                  <a:lnTo>
                    <a:pt x="1170" y="560"/>
                  </a:lnTo>
                  <a:lnTo>
                    <a:pt x="1164" y="586"/>
                  </a:lnTo>
                  <a:lnTo>
                    <a:pt x="1156" y="610"/>
                  </a:lnTo>
                  <a:lnTo>
                    <a:pt x="1148" y="634"/>
                  </a:lnTo>
                  <a:lnTo>
                    <a:pt x="1128" y="680"/>
                  </a:lnTo>
                  <a:lnTo>
                    <a:pt x="1128" y="680"/>
                  </a:lnTo>
                  <a:lnTo>
                    <a:pt x="1118" y="696"/>
                  </a:lnTo>
                  <a:lnTo>
                    <a:pt x="1108" y="712"/>
                  </a:lnTo>
                  <a:lnTo>
                    <a:pt x="1096" y="726"/>
                  </a:lnTo>
                  <a:lnTo>
                    <a:pt x="1082" y="738"/>
                  </a:lnTo>
                  <a:lnTo>
                    <a:pt x="1068" y="748"/>
                  </a:lnTo>
                  <a:lnTo>
                    <a:pt x="1054" y="758"/>
                  </a:lnTo>
                  <a:lnTo>
                    <a:pt x="1040" y="766"/>
                  </a:lnTo>
                  <a:lnTo>
                    <a:pt x="1024" y="772"/>
                  </a:lnTo>
                  <a:lnTo>
                    <a:pt x="1008" y="776"/>
                  </a:lnTo>
                  <a:lnTo>
                    <a:pt x="994" y="778"/>
                  </a:lnTo>
                  <a:lnTo>
                    <a:pt x="978" y="780"/>
                  </a:lnTo>
                  <a:lnTo>
                    <a:pt x="964" y="778"/>
                  </a:lnTo>
                  <a:lnTo>
                    <a:pt x="950" y="776"/>
                  </a:lnTo>
                  <a:lnTo>
                    <a:pt x="938" y="772"/>
                  </a:lnTo>
                  <a:lnTo>
                    <a:pt x="926" y="766"/>
                  </a:lnTo>
                  <a:lnTo>
                    <a:pt x="916" y="758"/>
                  </a:lnTo>
                  <a:lnTo>
                    <a:pt x="916" y="758"/>
                  </a:lnTo>
                  <a:lnTo>
                    <a:pt x="912" y="772"/>
                  </a:lnTo>
                  <a:lnTo>
                    <a:pt x="914" y="784"/>
                  </a:lnTo>
                  <a:lnTo>
                    <a:pt x="916" y="796"/>
                  </a:lnTo>
                  <a:lnTo>
                    <a:pt x="922" y="808"/>
                  </a:lnTo>
                  <a:lnTo>
                    <a:pt x="930" y="818"/>
                  </a:lnTo>
                  <a:lnTo>
                    <a:pt x="940" y="826"/>
                  </a:lnTo>
                  <a:lnTo>
                    <a:pt x="950" y="834"/>
                  </a:lnTo>
                  <a:lnTo>
                    <a:pt x="962" y="842"/>
                  </a:lnTo>
                  <a:lnTo>
                    <a:pt x="976" y="848"/>
                  </a:lnTo>
                  <a:lnTo>
                    <a:pt x="988" y="854"/>
                  </a:lnTo>
                  <a:lnTo>
                    <a:pt x="1002" y="856"/>
                  </a:lnTo>
                  <a:lnTo>
                    <a:pt x="1016" y="860"/>
                  </a:lnTo>
                  <a:lnTo>
                    <a:pt x="1030" y="860"/>
                  </a:lnTo>
                  <a:lnTo>
                    <a:pt x="1044" y="860"/>
                  </a:lnTo>
                  <a:lnTo>
                    <a:pt x="1056" y="858"/>
                  </a:lnTo>
                  <a:lnTo>
                    <a:pt x="1066" y="856"/>
                  </a:lnTo>
                  <a:lnTo>
                    <a:pt x="1066" y="856"/>
                  </a:lnTo>
                  <a:lnTo>
                    <a:pt x="1048" y="876"/>
                  </a:lnTo>
                  <a:lnTo>
                    <a:pt x="1028" y="896"/>
                  </a:lnTo>
                  <a:lnTo>
                    <a:pt x="1006" y="910"/>
                  </a:lnTo>
                  <a:lnTo>
                    <a:pt x="984" y="922"/>
                  </a:lnTo>
                  <a:lnTo>
                    <a:pt x="960" y="932"/>
                  </a:lnTo>
                  <a:lnTo>
                    <a:pt x="936" y="938"/>
                  </a:lnTo>
                  <a:lnTo>
                    <a:pt x="912" y="942"/>
                  </a:lnTo>
                  <a:lnTo>
                    <a:pt x="890" y="944"/>
                  </a:lnTo>
                  <a:lnTo>
                    <a:pt x="866" y="944"/>
                  </a:lnTo>
                  <a:lnTo>
                    <a:pt x="844" y="940"/>
                  </a:lnTo>
                  <a:lnTo>
                    <a:pt x="824" y="936"/>
                  </a:lnTo>
                  <a:lnTo>
                    <a:pt x="804" y="930"/>
                  </a:lnTo>
                  <a:lnTo>
                    <a:pt x="786" y="922"/>
                  </a:lnTo>
                  <a:lnTo>
                    <a:pt x="770" y="912"/>
                  </a:lnTo>
                  <a:lnTo>
                    <a:pt x="756" y="900"/>
                  </a:lnTo>
                  <a:lnTo>
                    <a:pt x="746" y="888"/>
                  </a:lnTo>
                  <a:lnTo>
                    <a:pt x="746" y="888"/>
                  </a:lnTo>
                  <a:lnTo>
                    <a:pt x="732" y="868"/>
                  </a:lnTo>
                  <a:lnTo>
                    <a:pt x="724" y="848"/>
                  </a:lnTo>
                  <a:lnTo>
                    <a:pt x="722" y="826"/>
                  </a:lnTo>
                  <a:lnTo>
                    <a:pt x="722" y="806"/>
                  </a:lnTo>
                  <a:lnTo>
                    <a:pt x="728" y="788"/>
                  </a:lnTo>
                  <a:lnTo>
                    <a:pt x="732" y="778"/>
                  </a:lnTo>
                  <a:lnTo>
                    <a:pt x="738" y="770"/>
                  </a:lnTo>
                  <a:lnTo>
                    <a:pt x="744" y="762"/>
                  </a:lnTo>
                  <a:lnTo>
                    <a:pt x="752" y="756"/>
                  </a:lnTo>
                  <a:lnTo>
                    <a:pt x="760" y="750"/>
                  </a:lnTo>
                  <a:lnTo>
                    <a:pt x="770" y="744"/>
                  </a:lnTo>
                  <a:lnTo>
                    <a:pt x="770" y="744"/>
                  </a:lnTo>
                  <a:lnTo>
                    <a:pt x="758" y="738"/>
                  </a:lnTo>
                  <a:lnTo>
                    <a:pt x="746" y="734"/>
                  </a:lnTo>
                  <a:lnTo>
                    <a:pt x="724" y="730"/>
                  </a:lnTo>
                  <a:lnTo>
                    <a:pt x="704" y="730"/>
                  </a:lnTo>
                  <a:lnTo>
                    <a:pt x="684" y="736"/>
                  </a:lnTo>
                  <a:lnTo>
                    <a:pt x="668" y="742"/>
                  </a:lnTo>
                  <a:lnTo>
                    <a:pt x="654" y="752"/>
                  </a:lnTo>
                  <a:lnTo>
                    <a:pt x="644" y="764"/>
                  </a:lnTo>
                  <a:lnTo>
                    <a:pt x="638" y="776"/>
                  </a:lnTo>
                  <a:lnTo>
                    <a:pt x="638" y="776"/>
                  </a:lnTo>
                  <a:lnTo>
                    <a:pt x="632" y="792"/>
                  </a:lnTo>
                  <a:lnTo>
                    <a:pt x="630" y="808"/>
                  </a:lnTo>
                  <a:lnTo>
                    <a:pt x="628" y="824"/>
                  </a:lnTo>
                  <a:lnTo>
                    <a:pt x="628" y="840"/>
                  </a:lnTo>
                  <a:lnTo>
                    <a:pt x="630" y="856"/>
                  </a:lnTo>
                  <a:lnTo>
                    <a:pt x="634" y="870"/>
                  </a:lnTo>
                  <a:lnTo>
                    <a:pt x="640" y="884"/>
                  </a:lnTo>
                  <a:lnTo>
                    <a:pt x="650" y="896"/>
                  </a:lnTo>
                  <a:lnTo>
                    <a:pt x="650" y="896"/>
                  </a:lnTo>
                  <a:lnTo>
                    <a:pt x="630" y="878"/>
                  </a:lnTo>
                  <a:lnTo>
                    <a:pt x="614" y="860"/>
                  </a:lnTo>
                  <a:lnTo>
                    <a:pt x="600" y="842"/>
                  </a:lnTo>
                  <a:lnTo>
                    <a:pt x="590" y="820"/>
                  </a:lnTo>
                  <a:lnTo>
                    <a:pt x="582" y="800"/>
                  </a:lnTo>
                  <a:lnTo>
                    <a:pt x="576" y="778"/>
                  </a:lnTo>
                  <a:lnTo>
                    <a:pt x="574" y="756"/>
                  </a:lnTo>
                  <a:lnTo>
                    <a:pt x="574" y="734"/>
                  </a:lnTo>
                  <a:lnTo>
                    <a:pt x="576" y="712"/>
                  </a:lnTo>
                  <a:lnTo>
                    <a:pt x="582" y="692"/>
                  </a:lnTo>
                  <a:lnTo>
                    <a:pt x="588" y="670"/>
                  </a:lnTo>
                  <a:lnTo>
                    <a:pt x="598" y="650"/>
                  </a:lnTo>
                  <a:lnTo>
                    <a:pt x="610" y="632"/>
                  </a:lnTo>
                  <a:lnTo>
                    <a:pt x="626" y="616"/>
                  </a:lnTo>
                  <a:lnTo>
                    <a:pt x="642" y="600"/>
                  </a:lnTo>
                  <a:lnTo>
                    <a:pt x="662" y="586"/>
                  </a:lnTo>
                  <a:lnTo>
                    <a:pt x="662" y="586"/>
                  </a:lnTo>
                  <a:lnTo>
                    <a:pt x="664" y="596"/>
                  </a:lnTo>
                  <a:lnTo>
                    <a:pt x="666" y="606"/>
                  </a:lnTo>
                  <a:lnTo>
                    <a:pt x="670" y="616"/>
                  </a:lnTo>
                  <a:lnTo>
                    <a:pt x="676" y="624"/>
                  </a:lnTo>
                  <a:lnTo>
                    <a:pt x="690" y="640"/>
                  </a:lnTo>
                  <a:lnTo>
                    <a:pt x="706" y="650"/>
                  </a:lnTo>
                  <a:lnTo>
                    <a:pt x="714" y="654"/>
                  </a:lnTo>
                  <a:lnTo>
                    <a:pt x="724" y="658"/>
                  </a:lnTo>
                  <a:lnTo>
                    <a:pt x="734" y="660"/>
                  </a:lnTo>
                  <a:lnTo>
                    <a:pt x="746" y="660"/>
                  </a:lnTo>
                  <a:lnTo>
                    <a:pt x="756" y="660"/>
                  </a:lnTo>
                  <a:lnTo>
                    <a:pt x="766" y="658"/>
                  </a:lnTo>
                  <a:lnTo>
                    <a:pt x="778" y="654"/>
                  </a:lnTo>
                  <a:lnTo>
                    <a:pt x="788" y="650"/>
                  </a:lnTo>
                  <a:lnTo>
                    <a:pt x="788" y="650"/>
                  </a:lnTo>
                  <a:lnTo>
                    <a:pt x="796" y="644"/>
                  </a:lnTo>
                  <a:lnTo>
                    <a:pt x="804" y="638"/>
                  </a:lnTo>
                  <a:lnTo>
                    <a:pt x="810" y="630"/>
                  </a:lnTo>
                  <a:lnTo>
                    <a:pt x="818" y="620"/>
                  </a:lnTo>
                  <a:lnTo>
                    <a:pt x="828" y="598"/>
                  </a:lnTo>
                  <a:lnTo>
                    <a:pt x="834" y="574"/>
                  </a:lnTo>
                  <a:lnTo>
                    <a:pt x="836" y="548"/>
                  </a:lnTo>
                  <a:lnTo>
                    <a:pt x="836" y="536"/>
                  </a:lnTo>
                  <a:lnTo>
                    <a:pt x="834" y="522"/>
                  </a:lnTo>
                  <a:lnTo>
                    <a:pt x="830" y="510"/>
                  </a:lnTo>
                  <a:lnTo>
                    <a:pt x="826" y="498"/>
                  </a:lnTo>
                  <a:lnTo>
                    <a:pt x="820" y="488"/>
                  </a:lnTo>
                  <a:lnTo>
                    <a:pt x="812" y="476"/>
                  </a:lnTo>
                  <a:lnTo>
                    <a:pt x="812" y="476"/>
                  </a:lnTo>
                  <a:lnTo>
                    <a:pt x="802" y="466"/>
                  </a:lnTo>
                  <a:lnTo>
                    <a:pt x="790" y="458"/>
                  </a:lnTo>
                  <a:lnTo>
                    <a:pt x="778" y="450"/>
                  </a:lnTo>
                  <a:lnTo>
                    <a:pt x="766" y="442"/>
                  </a:lnTo>
                  <a:lnTo>
                    <a:pt x="752" y="438"/>
                  </a:lnTo>
                  <a:lnTo>
                    <a:pt x="738" y="434"/>
                  </a:lnTo>
                  <a:lnTo>
                    <a:pt x="722" y="432"/>
                  </a:lnTo>
                  <a:lnTo>
                    <a:pt x="706" y="430"/>
                  </a:lnTo>
                  <a:lnTo>
                    <a:pt x="692" y="430"/>
                  </a:lnTo>
                  <a:lnTo>
                    <a:pt x="676" y="434"/>
                  </a:lnTo>
                  <a:lnTo>
                    <a:pt x="660" y="438"/>
                  </a:lnTo>
                  <a:lnTo>
                    <a:pt x="644" y="442"/>
                  </a:lnTo>
                  <a:lnTo>
                    <a:pt x="628" y="450"/>
                  </a:lnTo>
                  <a:lnTo>
                    <a:pt x="614" y="460"/>
                  </a:lnTo>
                  <a:lnTo>
                    <a:pt x="598" y="472"/>
                  </a:lnTo>
                  <a:lnTo>
                    <a:pt x="584" y="486"/>
                  </a:lnTo>
                  <a:lnTo>
                    <a:pt x="584" y="486"/>
                  </a:lnTo>
                  <a:lnTo>
                    <a:pt x="564" y="510"/>
                  </a:lnTo>
                  <a:lnTo>
                    <a:pt x="546" y="538"/>
                  </a:lnTo>
                  <a:lnTo>
                    <a:pt x="532" y="568"/>
                  </a:lnTo>
                  <a:lnTo>
                    <a:pt x="522" y="600"/>
                  </a:lnTo>
                  <a:lnTo>
                    <a:pt x="514" y="632"/>
                  </a:lnTo>
                  <a:lnTo>
                    <a:pt x="510" y="666"/>
                  </a:lnTo>
                  <a:lnTo>
                    <a:pt x="512" y="700"/>
                  </a:lnTo>
                  <a:lnTo>
                    <a:pt x="516" y="734"/>
                  </a:lnTo>
                  <a:lnTo>
                    <a:pt x="524" y="768"/>
                  </a:lnTo>
                  <a:lnTo>
                    <a:pt x="536" y="800"/>
                  </a:lnTo>
                  <a:lnTo>
                    <a:pt x="552" y="832"/>
                  </a:lnTo>
                  <a:lnTo>
                    <a:pt x="572" y="862"/>
                  </a:lnTo>
                  <a:lnTo>
                    <a:pt x="596" y="890"/>
                  </a:lnTo>
                  <a:lnTo>
                    <a:pt x="608" y="902"/>
                  </a:lnTo>
                  <a:lnTo>
                    <a:pt x="624" y="914"/>
                  </a:lnTo>
                  <a:lnTo>
                    <a:pt x="638" y="926"/>
                  </a:lnTo>
                  <a:lnTo>
                    <a:pt x="656" y="936"/>
                  </a:lnTo>
                  <a:lnTo>
                    <a:pt x="674" y="946"/>
                  </a:lnTo>
                  <a:lnTo>
                    <a:pt x="692" y="954"/>
                  </a:lnTo>
                  <a:lnTo>
                    <a:pt x="692" y="954"/>
                  </a:lnTo>
                  <a:lnTo>
                    <a:pt x="730" y="968"/>
                  </a:lnTo>
                  <a:lnTo>
                    <a:pt x="768" y="978"/>
                  </a:lnTo>
                  <a:lnTo>
                    <a:pt x="804" y="986"/>
                  </a:lnTo>
                  <a:lnTo>
                    <a:pt x="840" y="988"/>
                  </a:lnTo>
                  <a:lnTo>
                    <a:pt x="876" y="988"/>
                  </a:lnTo>
                  <a:lnTo>
                    <a:pt x="912" y="984"/>
                  </a:lnTo>
                  <a:lnTo>
                    <a:pt x="946" y="976"/>
                  </a:lnTo>
                  <a:lnTo>
                    <a:pt x="980" y="962"/>
                  </a:lnTo>
                  <a:lnTo>
                    <a:pt x="1012" y="946"/>
                  </a:lnTo>
                  <a:lnTo>
                    <a:pt x="1044" y="926"/>
                  </a:lnTo>
                  <a:lnTo>
                    <a:pt x="1074" y="900"/>
                  </a:lnTo>
                  <a:lnTo>
                    <a:pt x="1100" y="872"/>
                  </a:lnTo>
                  <a:lnTo>
                    <a:pt x="1126" y="838"/>
                  </a:lnTo>
                  <a:lnTo>
                    <a:pt x="1150" y="800"/>
                  </a:lnTo>
                  <a:lnTo>
                    <a:pt x="1172" y="758"/>
                  </a:lnTo>
                  <a:lnTo>
                    <a:pt x="1192" y="712"/>
                  </a:lnTo>
                  <a:lnTo>
                    <a:pt x="1192" y="712"/>
                  </a:lnTo>
                  <a:lnTo>
                    <a:pt x="1206" y="670"/>
                  </a:lnTo>
                  <a:lnTo>
                    <a:pt x="1216" y="632"/>
                  </a:lnTo>
                  <a:lnTo>
                    <a:pt x="1224" y="598"/>
                  </a:lnTo>
                  <a:lnTo>
                    <a:pt x="1228" y="564"/>
                  </a:lnTo>
                  <a:lnTo>
                    <a:pt x="1230" y="534"/>
                  </a:lnTo>
                  <a:lnTo>
                    <a:pt x="1230" y="508"/>
                  </a:lnTo>
                  <a:lnTo>
                    <a:pt x="1228" y="482"/>
                  </a:lnTo>
                  <a:lnTo>
                    <a:pt x="1224" y="458"/>
                  </a:lnTo>
                  <a:lnTo>
                    <a:pt x="1218" y="436"/>
                  </a:lnTo>
                  <a:lnTo>
                    <a:pt x="1212" y="418"/>
                  </a:lnTo>
                  <a:lnTo>
                    <a:pt x="1196" y="382"/>
                  </a:lnTo>
                  <a:lnTo>
                    <a:pt x="1182" y="354"/>
                  </a:lnTo>
                  <a:lnTo>
                    <a:pt x="1168" y="330"/>
                  </a:lnTo>
                  <a:lnTo>
                    <a:pt x="1168" y="330"/>
                  </a:lnTo>
                  <a:lnTo>
                    <a:pt x="1154" y="310"/>
                  </a:lnTo>
                  <a:lnTo>
                    <a:pt x="1138" y="290"/>
                  </a:lnTo>
                  <a:lnTo>
                    <a:pt x="1104" y="254"/>
                  </a:lnTo>
                  <a:lnTo>
                    <a:pt x="1104" y="254"/>
                  </a:lnTo>
                  <a:lnTo>
                    <a:pt x="1086" y="238"/>
                  </a:lnTo>
                  <a:lnTo>
                    <a:pt x="1062" y="218"/>
                  </a:lnTo>
                  <a:lnTo>
                    <a:pt x="1032" y="198"/>
                  </a:lnTo>
                  <a:lnTo>
                    <a:pt x="996" y="176"/>
                  </a:lnTo>
                  <a:lnTo>
                    <a:pt x="956" y="156"/>
                  </a:lnTo>
                  <a:lnTo>
                    <a:pt x="912" y="134"/>
                  </a:lnTo>
                  <a:lnTo>
                    <a:pt x="864" y="116"/>
                  </a:lnTo>
                  <a:lnTo>
                    <a:pt x="812" y="98"/>
                  </a:lnTo>
                  <a:lnTo>
                    <a:pt x="758" y="84"/>
                  </a:lnTo>
                  <a:lnTo>
                    <a:pt x="700" y="74"/>
                  </a:lnTo>
                  <a:lnTo>
                    <a:pt x="642" y="68"/>
                  </a:lnTo>
                  <a:lnTo>
                    <a:pt x="612" y="66"/>
                  </a:lnTo>
                  <a:lnTo>
                    <a:pt x="582" y="66"/>
                  </a:lnTo>
                  <a:lnTo>
                    <a:pt x="550" y="68"/>
                  </a:lnTo>
                  <a:lnTo>
                    <a:pt x="520" y="70"/>
                  </a:lnTo>
                  <a:lnTo>
                    <a:pt x="490" y="74"/>
                  </a:lnTo>
                  <a:lnTo>
                    <a:pt x="458" y="80"/>
                  </a:lnTo>
                  <a:lnTo>
                    <a:pt x="428" y="88"/>
                  </a:lnTo>
                  <a:lnTo>
                    <a:pt x="396" y="98"/>
                  </a:lnTo>
                  <a:lnTo>
                    <a:pt x="366" y="108"/>
                  </a:lnTo>
                  <a:lnTo>
                    <a:pt x="336" y="122"/>
                  </a:lnTo>
                  <a:lnTo>
                    <a:pt x="336" y="122"/>
                  </a:lnTo>
                  <a:lnTo>
                    <a:pt x="336" y="110"/>
                  </a:lnTo>
                  <a:lnTo>
                    <a:pt x="336" y="98"/>
                  </a:lnTo>
                  <a:lnTo>
                    <a:pt x="334" y="86"/>
                  </a:lnTo>
                  <a:lnTo>
                    <a:pt x="332" y="74"/>
                  </a:lnTo>
                  <a:lnTo>
                    <a:pt x="328" y="64"/>
                  </a:lnTo>
                  <a:lnTo>
                    <a:pt x="322" y="52"/>
                  </a:lnTo>
                  <a:lnTo>
                    <a:pt x="316" y="42"/>
                  </a:lnTo>
                  <a:lnTo>
                    <a:pt x="310" y="32"/>
                  </a:lnTo>
                  <a:lnTo>
                    <a:pt x="300" y="24"/>
                  </a:lnTo>
                  <a:lnTo>
                    <a:pt x="292" y="16"/>
                  </a:lnTo>
                  <a:lnTo>
                    <a:pt x="280" y="10"/>
                  </a:lnTo>
                  <a:lnTo>
                    <a:pt x="270" y="4"/>
                  </a:lnTo>
                  <a:lnTo>
                    <a:pt x="258" y="2"/>
                  </a:lnTo>
                  <a:lnTo>
                    <a:pt x="244" y="0"/>
                  </a:lnTo>
                  <a:lnTo>
                    <a:pt x="230" y="0"/>
                  </a:lnTo>
                  <a:lnTo>
                    <a:pt x="216" y="2"/>
                  </a:lnTo>
                  <a:lnTo>
                    <a:pt x="216" y="2"/>
                  </a:lnTo>
                  <a:lnTo>
                    <a:pt x="234" y="14"/>
                  </a:lnTo>
                  <a:lnTo>
                    <a:pt x="250" y="28"/>
                  </a:lnTo>
                  <a:lnTo>
                    <a:pt x="262" y="40"/>
                  </a:lnTo>
                  <a:lnTo>
                    <a:pt x="274" y="52"/>
                  </a:lnTo>
                  <a:lnTo>
                    <a:pt x="284" y="64"/>
                  </a:lnTo>
                  <a:lnTo>
                    <a:pt x="290" y="76"/>
                  </a:lnTo>
                  <a:lnTo>
                    <a:pt x="296" y="88"/>
                  </a:lnTo>
                  <a:lnTo>
                    <a:pt x="300" y="100"/>
                  </a:lnTo>
                  <a:lnTo>
                    <a:pt x="302" y="110"/>
                  </a:lnTo>
                  <a:lnTo>
                    <a:pt x="302" y="120"/>
                  </a:lnTo>
                  <a:lnTo>
                    <a:pt x="300" y="130"/>
                  </a:lnTo>
                  <a:lnTo>
                    <a:pt x="298" y="140"/>
                  </a:lnTo>
                  <a:lnTo>
                    <a:pt x="296" y="148"/>
                  </a:lnTo>
                  <a:lnTo>
                    <a:pt x="292" y="156"/>
                  </a:lnTo>
                  <a:lnTo>
                    <a:pt x="282" y="168"/>
                  </a:lnTo>
                  <a:lnTo>
                    <a:pt x="282" y="168"/>
                  </a:lnTo>
                  <a:lnTo>
                    <a:pt x="266" y="184"/>
                  </a:lnTo>
                  <a:lnTo>
                    <a:pt x="252" y="196"/>
                  </a:lnTo>
                  <a:lnTo>
                    <a:pt x="236" y="202"/>
                  </a:lnTo>
                  <a:lnTo>
                    <a:pt x="220" y="206"/>
                  </a:lnTo>
                  <a:lnTo>
                    <a:pt x="220" y="206"/>
                  </a:lnTo>
                  <a:lnTo>
                    <a:pt x="212" y="206"/>
                  </a:lnTo>
                  <a:lnTo>
                    <a:pt x="204" y="206"/>
                  </a:lnTo>
                  <a:lnTo>
                    <a:pt x="188" y="200"/>
                  </a:lnTo>
                  <a:lnTo>
                    <a:pt x="172" y="192"/>
                  </a:lnTo>
                  <a:lnTo>
                    <a:pt x="158" y="182"/>
                  </a:lnTo>
                  <a:lnTo>
                    <a:pt x="144" y="168"/>
                  </a:lnTo>
                  <a:lnTo>
                    <a:pt x="134" y="156"/>
                  </a:lnTo>
                  <a:lnTo>
                    <a:pt x="124" y="142"/>
                  </a:lnTo>
                  <a:lnTo>
                    <a:pt x="116" y="130"/>
                  </a:lnTo>
                  <a:lnTo>
                    <a:pt x="116" y="130"/>
                  </a:lnTo>
                  <a:lnTo>
                    <a:pt x="130" y="128"/>
                  </a:lnTo>
                  <a:lnTo>
                    <a:pt x="144" y="122"/>
                  </a:lnTo>
                  <a:lnTo>
                    <a:pt x="156" y="114"/>
                  </a:lnTo>
                  <a:lnTo>
                    <a:pt x="166" y="102"/>
                  </a:lnTo>
                  <a:lnTo>
                    <a:pt x="172" y="88"/>
                  </a:lnTo>
                  <a:lnTo>
                    <a:pt x="174" y="80"/>
                  </a:lnTo>
                  <a:lnTo>
                    <a:pt x="176" y="72"/>
                  </a:lnTo>
                  <a:lnTo>
                    <a:pt x="176" y="62"/>
                  </a:lnTo>
                  <a:lnTo>
                    <a:pt x="174" y="52"/>
                  </a:lnTo>
                  <a:lnTo>
                    <a:pt x="170" y="42"/>
                  </a:lnTo>
                  <a:lnTo>
                    <a:pt x="166" y="32"/>
                  </a:lnTo>
                  <a:lnTo>
                    <a:pt x="166" y="32"/>
                  </a:lnTo>
                  <a:lnTo>
                    <a:pt x="160" y="22"/>
                  </a:lnTo>
                  <a:lnTo>
                    <a:pt x="152" y="14"/>
                  </a:lnTo>
                  <a:lnTo>
                    <a:pt x="144" y="8"/>
                  </a:lnTo>
                  <a:lnTo>
                    <a:pt x="132" y="4"/>
                  </a:lnTo>
                  <a:lnTo>
                    <a:pt x="122" y="2"/>
                  </a:lnTo>
                  <a:lnTo>
                    <a:pt x="110" y="2"/>
                  </a:lnTo>
                  <a:lnTo>
                    <a:pt x="100" y="4"/>
                  </a:lnTo>
                  <a:lnTo>
                    <a:pt x="88" y="8"/>
                  </a:lnTo>
                  <a:lnTo>
                    <a:pt x="78" y="12"/>
                  </a:lnTo>
                  <a:lnTo>
                    <a:pt x="68" y="20"/>
                  </a:lnTo>
                  <a:lnTo>
                    <a:pt x="58" y="28"/>
                  </a:lnTo>
                  <a:lnTo>
                    <a:pt x="50" y="40"/>
                  </a:lnTo>
                  <a:lnTo>
                    <a:pt x="44" y="52"/>
                  </a:lnTo>
                  <a:lnTo>
                    <a:pt x="40" y="64"/>
                  </a:lnTo>
                  <a:lnTo>
                    <a:pt x="38" y="80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42" y="110"/>
                  </a:lnTo>
                  <a:lnTo>
                    <a:pt x="44" y="122"/>
                  </a:lnTo>
                  <a:lnTo>
                    <a:pt x="54" y="146"/>
                  </a:lnTo>
                  <a:lnTo>
                    <a:pt x="66" y="164"/>
                  </a:lnTo>
                  <a:lnTo>
                    <a:pt x="80" y="180"/>
                  </a:lnTo>
                  <a:lnTo>
                    <a:pt x="96" y="192"/>
                  </a:lnTo>
                  <a:lnTo>
                    <a:pt x="114" y="200"/>
                  </a:lnTo>
                  <a:lnTo>
                    <a:pt x="130" y="206"/>
                  </a:lnTo>
                  <a:lnTo>
                    <a:pt x="148" y="208"/>
                  </a:lnTo>
                  <a:lnTo>
                    <a:pt x="148" y="208"/>
                  </a:lnTo>
                  <a:close/>
                  <a:moveTo>
                    <a:pt x="234" y="1562"/>
                  </a:moveTo>
                  <a:lnTo>
                    <a:pt x="234" y="1562"/>
                  </a:lnTo>
                  <a:lnTo>
                    <a:pt x="232" y="1560"/>
                  </a:lnTo>
                  <a:lnTo>
                    <a:pt x="228" y="1556"/>
                  </a:lnTo>
                  <a:lnTo>
                    <a:pt x="226" y="1544"/>
                  </a:lnTo>
                  <a:lnTo>
                    <a:pt x="224" y="1510"/>
                  </a:lnTo>
                  <a:lnTo>
                    <a:pt x="222" y="1490"/>
                  </a:lnTo>
                  <a:lnTo>
                    <a:pt x="218" y="1470"/>
                  </a:lnTo>
                  <a:lnTo>
                    <a:pt x="214" y="1462"/>
                  </a:lnTo>
                  <a:lnTo>
                    <a:pt x="208" y="1454"/>
                  </a:lnTo>
                  <a:lnTo>
                    <a:pt x="202" y="1448"/>
                  </a:lnTo>
                  <a:lnTo>
                    <a:pt x="192" y="1444"/>
                  </a:lnTo>
                  <a:lnTo>
                    <a:pt x="192" y="1444"/>
                  </a:lnTo>
                  <a:lnTo>
                    <a:pt x="204" y="1444"/>
                  </a:lnTo>
                  <a:lnTo>
                    <a:pt x="214" y="1448"/>
                  </a:lnTo>
                  <a:lnTo>
                    <a:pt x="224" y="1452"/>
                  </a:lnTo>
                  <a:lnTo>
                    <a:pt x="232" y="1458"/>
                  </a:lnTo>
                  <a:lnTo>
                    <a:pt x="238" y="1464"/>
                  </a:lnTo>
                  <a:lnTo>
                    <a:pt x="244" y="1472"/>
                  </a:lnTo>
                  <a:lnTo>
                    <a:pt x="248" y="1482"/>
                  </a:lnTo>
                  <a:lnTo>
                    <a:pt x="252" y="1490"/>
                  </a:lnTo>
                  <a:lnTo>
                    <a:pt x="254" y="1500"/>
                  </a:lnTo>
                  <a:lnTo>
                    <a:pt x="256" y="1510"/>
                  </a:lnTo>
                  <a:lnTo>
                    <a:pt x="254" y="1520"/>
                  </a:lnTo>
                  <a:lnTo>
                    <a:pt x="254" y="1530"/>
                  </a:lnTo>
                  <a:lnTo>
                    <a:pt x="250" y="1538"/>
                  </a:lnTo>
                  <a:lnTo>
                    <a:pt x="246" y="1546"/>
                  </a:lnTo>
                  <a:lnTo>
                    <a:pt x="242" y="1554"/>
                  </a:lnTo>
                  <a:lnTo>
                    <a:pt x="234" y="1562"/>
                  </a:lnTo>
                  <a:lnTo>
                    <a:pt x="234" y="1562"/>
                  </a:lnTo>
                  <a:close/>
                  <a:moveTo>
                    <a:pt x="310" y="2020"/>
                  </a:moveTo>
                  <a:lnTo>
                    <a:pt x="310" y="2020"/>
                  </a:lnTo>
                  <a:lnTo>
                    <a:pt x="306" y="2030"/>
                  </a:lnTo>
                  <a:lnTo>
                    <a:pt x="298" y="2038"/>
                  </a:lnTo>
                  <a:lnTo>
                    <a:pt x="288" y="2042"/>
                  </a:lnTo>
                  <a:lnTo>
                    <a:pt x="280" y="2044"/>
                  </a:lnTo>
                  <a:lnTo>
                    <a:pt x="272" y="2042"/>
                  </a:lnTo>
                  <a:lnTo>
                    <a:pt x="266" y="2038"/>
                  </a:lnTo>
                  <a:lnTo>
                    <a:pt x="262" y="2032"/>
                  </a:lnTo>
                  <a:lnTo>
                    <a:pt x="264" y="2022"/>
                  </a:lnTo>
                  <a:lnTo>
                    <a:pt x="264" y="2022"/>
                  </a:lnTo>
                  <a:lnTo>
                    <a:pt x="268" y="1994"/>
                  </a:lnTo>
                  <a:lnTo>
                    <a:pt x="270" y="1984"/>
                  </a:lnTo>
                  <a:lnTo>
                    <a:pt x="268" y="1976"/>
                  </a:lnTo>
                  <a:lnTo>
                    <a:pt x="266" y="1968"/>
                  </a:lnTo>
                  <a:lnTo>
                    <a:pt x="264" y="1962"/>
                  </a:lnTo>
                  <a:lnTo>
                    <a:pt x="258" y="1956"/>
                  </a:lnTo>
                  <a:lnTo>
                    <a:pt x="254" y="1952"/>
                  </a:lnTo>
                  <a:lnTo>
                    <a:pt x="240" y="1944"/>
                  </a:lnTo>
                  <a:lnTo>
                    <a:pt x="224" y="1938"/>
                  </a:lnTo>
                  <a:lnTo>
                    <a:pt x="206" y="1932"/>
                  </a:lnTo>
                  <a:lnTo>
                    <a:pt x="186" y="1926"/>
                  </a:lnTo>
                  <a:lnTo>
                    <a:pt x="186" y="1926"/>
                  </a:lnTo>
                  <a:lnTo>
                    <a:pt x="210" y="1916"/>
                  </a:lnTo>
                  <a:lnTo>
                    <a:pt x="232" y="1910"/>
                  </a:lnTo>
                  <a:lnTo>
                    <a:pt x="250" y="1906"/>
                  </a:lnTo>
                  <a:lnTo>
                    <a:pt x="266" y="1908"/>
                  </a:lnTo>
                  <a:lnTo>
                    <a:pt x="280" y="1910"/>
                  </a:lnTo>
                  <a:lnTo>
                    <a:pt x="292" y="1916"/>
                  </a:lnTo>
                  <a:lnTo>
                    <a:pt x="300" y="1922"/>
                  </a:lnTo>
                  <a:lnTo>
                    <a:pt x="308" y="1932"/>
                  </a:lnTo>
                  <a:lnTo>
                    <a:pt x="312" y="1942"/>
                  </a:lnTo>
                  <a:lnTo>
                    <a:pt x="316" y="1952"/>
                  </a:lnTo>
                  <a:lnTo>
                    <a:pt x="318" y="1964"/>
                  </a:lnTo>
                  <a:lnTo>
                    <a:pt x="318" y="1976"/>
                  </a:lnTo>
                  <a:lnTo>
                    <a:pt x="316" y="2000"/>
                  </a:lnTo>
                  <a:lnTo>
                    <a:pt x="310" y="2020"/>
                  </a:lnTo>
                  <a:lnTo>
                    <a:pt x="310" y="2020"/>
                  </a:lnTo>
                  <a:close/>
                  <a:moveTo>
                    <a:pt x="82" y="2952"/>
                  </a:moveTo>
                  <a:lnTo>
                    <a:pt x="82" y="2952"/>
                  </a:lnTo>
                  <a:lnTo>
                    <a:pt x="92" y="2964"/>
                  </a:lnTo>
                  <a:lnTo>
                    <a:pt x="102" y="2974"/>
                  </a:lnTo>
                  <a:lnTo>
                    <a:pt x="116" y="2982"/>
                  </a:lnTo>
                  <a:lnTo>
                    <a:pt x="128" y="2986"/>
                  </a:lnTo>
                  <a:lnTo>
                    <a:pt x="142" y="2990"/>
                  </a:lnTo>
                  <a:lnTo>
                    <a:pt x="156" y="2990"/>
                  </a:lnTo>
                  <a:lnTo>
                    <a:pt x="170" y="2988"/>
                  </a:lnTo>
                  <a:lnTo>
                    <a:pt x="182" y="2984"/>
                  </a:lnTo>
                  <a:lnTo>
                    <a:pt x="182" y="2984"/>
                  </a:lnTo>
                  <a:lnTo>
                    <a:pt x="180" y="2992"/>
                  </a:lnTo>
                  <a:lnTo>
                    <a:pt x="176" y="2998"/>
                  </a:lnTo>
                  <a:lnTo>
                    <a:pt x="170" y="3004"/>
                  </a:lnTo>
                  <a:lnTo>
                    <a:pt x="164" y="3008"/>
                  </a:lnTo>
                  <a:lnTo>
                    <a:pt x="156" y="3012"/>
                  </a:lnTo>
                  <a:lnTo>
                    <a:pt x="148" y="3014"/>
                  </a:lnTo>
                  <a:lnTo>
                    <a:pt x="138" y="3014"/>
                  </a:lnTo>
                  <a:lnTo>
                    <a:pt x="130" y="3012"/>
                  </a:lnTo>
                  <a:lnTo>
                    <a:pt x="122" y="3010"/>
                  </a:lnTo>
                  <a:lnTo>
                    <a:pt x="114" y="3006"/>
                  </a:lnTo>
                  <a:lnTo>
                    <a:pt x="106" y="3002"/>
                  </a:lnTo>
                  <a:lnTo>
                    <a:pt x="98" y="2994"/>
                  </a:lnTo>
                  <a:lnTo>
                    <a:pt x="92" y="2986"/>
                  </a:lnTo>
                  <a:lnTo>
                    <a:pt x="88" y="2976"/>
                  </a:lnTo>
                  <a:lnTo>
                    <a:pt x="84" y="2966"/>
                  </a:lnTo>
                  <a:lnTo>
                    <a:pt x="82" y="2952"/>
                  </a:lnTo>
                  <a:lnTo>
                    <a:pt x="82" y="2952"/>
                  </a:lnTo>
                  <a:close/>
                  <a:moveTo>
                    <a:pt x="206" y="2190"/>
                  </a:moveTo>
                  <a:lnTo>
                    <a:pt x="206" y="2190"/>
                  </a:lnTo>
                  <a:lnTo>
                    <a:pt x="212" y="2208"/>
                  </a:lnTo>
                  <a:lnTo>
                    <a:pt x="220" y="2226"/>
                  </a:lnTo>
                  <a:lnTo>
                    <a:pt x="230" y="2242"/>
                  </a:lnTo>
                  <a:lnTo>
                    <a:pt x="244" y="2258"/>
                  </a:lnTo>
                  <a:lnTo>
                    <a:pt x="260" y="2272"/>
                  </a:lnTo>
                  <a:lnTo>
                    <a:pt x="278" y="2286"/>
                  </a:lnTo>
                  <a:lnTo>
                    <a:pt x="302" y="2298"/>
                  </a:lnTo>
                  <a:lnTo>
                    <a:pt x="328" y="2308"/>
                  </a:lnTo>
                  <a:lnTo>
                    <a:pt x="328" y="2308"/>
                  </a:lnTo>
                  <a:lnTo>
                    <a:pt x="310" y="2308"/>
                  </a:lnTo>
                  <a:lnTo>
                    <a:pt x="294" y="2304"/>
                  </a:lnTo>
                  <a:lnTo>
                    <a:pt x="276" y="2300"/>
                  </a:lnTo>
                  <a:lnTo>
                    <a:pt x="262" y="2296"/>
                  </a:lnTo>
                  <a:lnTo>
                    <a:pt x="246" y="2290"/>
                  </a:lnTo>
                  <a:lnTo>
                    <a:pt x="234" y="2284"/>
                  </a:lnTo>
                  <a:lnTo>
                    <a:pt x="222" y="2276"/>
                  </a:lnTo>
                  <a:lnTo>
                    <a:pt x="212" y="2268"/>
                  </a:lnTo>
                  <a:lnTo>
                    <a:pt x="204" y="2260"/>
                  </a:lnTo>
                  <a:lnTo>
                    <a:pt x="198" y="2250"/>
                  </a:lnTo>
                  <a:lnTo>
                    <a:pt x="194" y="2240"/>
                  </a:lnTo>
                  <a:lnTo>
                    <a:pt x="192" y="2230"/>
                  </a:lnTo>
                  <a:lnTo>
                    <a:pt x="192" y="2220"/>
                  </a:lnTo>
                  <a:lnTo>
                    <a:pt x="194" y="2210"/>
                  </a:lnTo>
                  <a:lnTo>
                    <a:pt x="198" y="2200"/>
                  </a:lnTo>
                  <a:lnTo>
                    <a:pt x="206" y="2190"/>
                  </a:lnTo>
                  <a:lnTo>
                    <a:pt x="206" y="2190"/>
                  </a:lnTo>
                  <a:close/>
                  <a:moveTo>
                    <a:pt x="414" y="2532"/>
                  </a:moveTo>
                  <a:lnTo>
                    <a:pt x="414" y="2532"/>
                  </a:lnTo>
                  <a:lnTo>
                    <a:pt x="420" y="2514"/>
                  </a:lnTo>
                  <a:lnTo>
                    <a:pt x="420" y="2496"/>
                  </a:lnTo>
                  <a:lnTo>
                    <a:pt x="420" y="2478"/>
                  </a:lnTo>
                  <a:lnTo>
                    <a:pt x="414" y="2462"/>
                  </a:lnTo>
                  <a:lnTo>
                    <a:pt x="408" y="2444"/>
                  </a:lnTo>
                  <a:lnTo>
                    <a:pt x="400" y="2430"/>
                  </a:lnTo>
                  <a:lnTo>
                    <a:pt x="388" y="2416"/>
                  </a:lnTo>
                  <a:lnTo>
                    <a:pt x="376" y="2408"/>
                  </a:lnTo>
                  <a:lnTo>
                    <a:pt x="376" y="2408"/>
                  </a:lnTo>
                  <a:lnTo>
                    <a:pt x="390" y="2410"/>
                  </a:lnTo>
                  <a:lnTo>
                    <a:pt x="400" y="2412"/>
                  </a:lnTo>
                  <a:lnTo>
                    <a:pt x="410" y="2418"/>
                  </a:lnTo>
                  <a:lnTo>
                    <a:pt x="420" y="2424"/>
                  </a:lnTo>
                  <a:lnTo>
                    <a:pt x="428" y="2430"/>
                  </a:lnTo>
                  <a:lnTo>
                    <a:pt x="436" y="2438"/>
                  </a:lnTo>
                  <a:lnTo>
                    <a:pt x="440" y="2446"/>
                  </a:lnTo>
                  <a:lnTo>
                    <a:pt x="444" y="2456"/>
                  </a:lnTo>
                  <a:lnTo>
                    <a:pt x="448" y="2466"/>
                  </a:lnTo>
                  <a:lnTo>
                    <a:pt x="448" y="2474"/>
                  </a:lnTo>
                  <a:lnTo>
                    <a:pt x="448" y="2484"/>
                  </a:lnTo>
                  <a:lnTo>
                    <a:pt x="444" y="2494"/>
                  </a:lnTo>
                  <a:lnTo>
                    <a:pt x="440" y="2504"/>
                  </a:lnTo>
                  <a:lnTo>
                    <a:pt x="434" y="2514"/>
                  </a:lnTo>
                  <a:lnTo>
                    <a:pt x="426" y="2522"/>
                  </a:lnTo>
                  <a:lnTo>
                    <a:pt x="414" y="2532"/>
                  </a:lnTo>
                  <a:lnTo>
                    <a:pt x="414" y="2532"/>
                  </a:lnTo>
                  <a:close/>
                  <a:moveTo>
                    <a:pt x="810" y="1206"/>
                  </a:moveTo>
                  <a:lnTo>
                    <a:pt x="810" y="1206"/>
                  </a:lnTo>
                  <a:lnTo>
                    <a:pt x="818" y="1216"/>
                  </a:lnTo>
                  <a:lnTo>
                    <a:pt x="824" y="1228"/>
                  </a:lnTo>
                  <a:lnTo>
                    <a:pt x="828" y="1242"/>
                  </a:lnTo>
                  <a:lnTo>
                    <a:pt x="830" y="1256"/>
                  </a:lnTo>
                  <a:lnTo>
                    <a:pt x="832" y="1272"/>
                  </a:lnTo>
                  <a:lnTo>
                    <a:pt x="830" y="1286"/>
                  </a:lnTo>
                  <a:lnTo>
                    <a:pt x="828" y="1312"/>
                  </a:lnTo>
                  <a:lnTo>
                    <a:pt x="828" y="1312"/>
                  </a:lnTo>
                  <a:lnTo>
                    <a:pt x="836" y="1312"/>
                  </a:lnTo>
                  <a:lnTo>
                    <a:pt x="846" y="1310"/>
                  </a:lnTo>
                  <a:lnTo>
                    <a:pt x="854" y="1306"/>
                  </a:lnTo>
                  <a:lnTo>
                    <a:pt x="862" y="1302"/>
                  </a:lnTo>
                  <a:lnTo>
                    <a:pt x="876" y="1292"/>
                  </a:lnTo>
                  <a:lnTo>
                    <a:pt x="888" y="1276"/>
                  </a:lnTo>
                  <a:lnTo>
                    <a:pt x="898" y="1256"/>
                  </a:lnTo>
                  <a:lnTo>
                    <a:pt x="906" y="1232"/>
                  </a:lnTo>
                  <a:lnTo>
                    <a:pt x="908" y="1208"/>
                  </a:lnTo>
                  <a:lnTo>
                    <a:pt x="906" y="1180"/>
                  </a:lnTo>
                  <a:lnTo>
                    <a:pt x="906" y="1180"/>
                  </a:lnTo>
                  <a:lnTo>
                    <a:pt x="912" y="1202"/>
                  </a:lnTo>
                  <a:lnTo>
                    <a:pt x="918" y="1224"/>
                  </a:lnTo>
                  <a:lnTo>
                    <a:pt x="920" y="1248"/>
                  </a:lnTo>
                  <a:lnTo>
                    <a:pt x="918" y="1274"/>
                  </a:lnTo>
                  <a:lnTo>
                    <a:pt x="916" y="1286"/>
                  </a:lnTo>
                  <a:lnTo>
                    <a:pt x="912" y="1300"/>
                  </a:lnTo>
                  <a:lnTo>
                    <a:pt x="906" y="1312"/>
                  </a:lnTo>
                  <a:lnTo>
                    <a:pt x="900" y="1324"/>
                  </a:lnTo>
                  <a:lnTo>
                    <a:pt x="892" y="1334"/>
                  </a:lnTo>
                  <a:lnTo>
                    <a:pt x="880" y="1344"/>
                  </a:lnTo>
                  <a:lnTo>
                    <a:pt x="868" y="1354"/>
                  </a:lnTo>
                  <a:lnTo>
                    <a:pt x="854" y="1364"/>
                  </a:lnTo>
                  <a:lnTo>
                    <a:pt x="854" y="1364"/>
                  </a:lnTo>
                  <a:lnTo>
                    <a:pt x="828" y="1376"/>
                  </a:lnTo>
                  <a:lnTo>
                    <a:pt x="800" y="1386"/>
                  </a:lnTo>
                  <a:lnTo>
                    <a:pt x="770" y="1392"/>
                  </a:lnTo>
                  <a:lnTo>
                    <a:pt x="740" y="1396"/>
                  </a:lnTo>
                  <a:lnTo>
                    <a:pt x="706" y="1394"/>
                  </a:lnTo>
                  <a:lnTo>
                    <a:pt x="672" y="1390"/>
                  </a:lnTo>
                  <a:lnTo>
                    <a:pt x="634" y="1382"/>
                  </a:lnTo>
                  <a:lnTo>
                    <a:pt x="592" y="1368"/>
                  </a:lnTo>
                  <a:lnTo>
                    <a:pt x="592" y="1368"/>
                  </a:lnTo>
                  <a:lnTo>
                    <a:pt x="624" y="1374"/>
                  </a:lnTo>
                  <a:lnTo>
                    <a:pt x="654" y="1376"/>
                  </a:lnTo>
                  <a:lnTo>
                    <a:pt x="678" y="1378"/>
                  </a:lnTo>
                  <a:lnTo>
                    <a:pt x="700" y="1376"/>
                  </a:lnTo>
                  <a:lnTo>
                    <a:pt x="720" y="1372"/>
                  </a:lnTo>
                  <a:lnTo>
                    <a:pt x="736" y="1366"/>
                  </a:lnTo>
                  <a:lnTo>
                    <a:pt x="752" y="1358"/>
                  </a:lnTo>
                  <a:lnTo>
                    <a:pt x="764" y="1350"/>
                  </a:lnTo>
                  <a:lnTo>
                    <a:pt x="774" y="1338"/>
                  </a:lnTo>
                  <a:lnTo>
                    <a:pt x="782" y="1324"/>
                  </a:lnTo>
                  <a:lnTo>
                    <a:pt x="790" y="1308"/>
                  </a:lnTo>
                  <a:lnTo>
                    <a:pt x="794" y="1292"/>
                  </a:lnTo>
                  <a:lnTo>
                    <a:pt x="800" y="1272"/>
                  </a:lnTo>
                  <a:lnTo>
                    <a:pt x="804" y="1252"/>
                  </a:lnTo>
                  <a:lnTo>
                    <a:pt x="810" y="1206"/>
                  </a:lnTo>
                  <a:lnTo>
                    <a:pt x="810" y="1206"/>
                  </a:lnTo>
                  <a:close/>
                  <a:moveTo>
                    <a:pt x="462" y="990"/>
                  </a:moveTo>
                  <a:lnTo>
                    <a:pt x="462" y="990"/>
                  </a:lnTo>
                  <a:lnTo>
                    <a:pt x="456" y="1002"/>
                  </a:lnTo>
                  <a:lnTo>
                    <a:pt x="450" y="1014"/>
                  </a:lnTo>
                  <a:lnTo>
                    <a:pt x="448" y="1028"/>
                  </a:lnTo>
                  <a:lnTo>
                    <a:pt x="446" y="1042"/>
                  </a:lnTo>
                  <a:lnTo>
                    <a:pt x="448" y="1056"/>
                  </a:lnTo>
                  <a:lnTo>
                    <a:pt x="454" y="1070"/>
                  </a:lnTo>
                  <a:lnTo>
                    <a:pt x="460" y="1082"/>
                  </a:lnTo>
                  <a:lnTo>
                    <a:pt x="472" y="1094"/>
                  </a:lnTo>
                  <a:lnTo>
                    <a:pt x="472" y="1094"/>
                  </a:lnTo>
                  <a:lnTo>
                    <a:pt x="458" y="1090"/>
                  </a:lnTo>
                  <a:lnTo>
                    <a:pt x="448" y="1084"/>
                  </a:lnTo>
                  <a:lnTo>
                    <a:pt x="440" y="1078"/>
                  </a:lnTo>
                  <a:lnTo>
                    <a:pt x="434" y="1070"/>
                  </a:lnTo>
                  <a:lnTo>
                    <a:pt x="428" y="1062"/>
                  </a:lnTo>
                  <a:lnTo>
                    <a:pt x="424" y="1052"/>
                  </a:lnTo>
                  <a:lnTo>
                    <a:pt x="422" y="1044"/>
                  </a:lnTo>
                  <a:lnTo>
                    <a:pt x="422" y="1034"/>
                  </a:lnTo>
                  <a:lnTo>
                    <a:pt x="422" y="1026"/>
                  </a:lnTo>
                  <a:lnTo>
                    <a:pt x="424" y="1018"/>
                  </a:lnTo>
                  <a:lnTo>
                    <a:pt x="428" y="1010"/>
                  </a:lnTo>
                  <a:lnTo>
                    <a:pt x="432" y="1002"/>
                  </a:lnTo>
                  <a:lnTo>
                    <a:pt x="438" y="998"/>
                  </a:lnTo>
                  <a:lnTo>
                    <a:pt x="446" y="992"/>
                  </a:lnTo>
                  <a:lnTo>
                    <a:pt x="454" y="990"/>
                  </a:lnTo>
                  <a:lnTo>
                    <a:pt x="462" y="990"/>
                  </a:lnTo>
                  <a:lnTo>
                    <a:pt x="462" y="990"/>
                  </a:lnTo>
                  <a:close/>
                  <a:moveTo>
                    <a:pt x="202" y="876"/>
                  </a:moveTo>
                  <a:lnTo>
                    <a:pt x="202" y="876"/>
                  </a:lnTo>
                  <a:lnTo>
                    <a:pt x="190" y="880"/>
                  </a:lnTo>
                  <a:lnTo>
                    <a:pt x="176" y="878"/>
                  </a:lnTo>
                  <a:lnTo>
                    <a:pt x="162" y="876"/>
                  </a:lnTo>
                  <a:lnTo>
                    <a:pt x="150" y="872"/>
                  </a:lnTo>
                  <a:lnTo>
                    <a:pt x="132" y="862"/>
                  </a:lnTo>
                  <a:lnTo>
                    <a:pt x="126" y="858"/>
                  </a:lnTo>
                  <a:lnTo>
                    <a:pt x="126" y="858"/>
                  </a:lnTo>
                  <a:lnTo>
                    <a:pt x="144" y="904"/>
                  </a:lnTo>
                  <a:lnTo>
                    <a:pt x="152" y="928"/>
                  </a:lnTo>
                  <a:lnTo>
                    <a:pt x="158" y="950"/>
                  </a:lnTo>
                  <a:lnTo>
                    <a:pt x="160" y="970"/>
                  </a:lnTo>
                  <a:lnTo>
                    <a:pt x="162" y="992"/>
                  </a:lnTo>
                  <a:lnTo>
                    <a:pt x="158" y="1012"/>
                  </a:lnTo>
                  <a:lnTo>
                    <a:pt x="152" y="1034"/>
                  </a:lnTo>
                  <a:lnTo>
                    <a:pt x="152" y="1034"/>
                  </a:lnTo>
                  <a:lnTo>
                    <a:pt x="142" y="1014"/>
                  </a:lnTo>
                  <a:lnTo>
                    <a:pt x="132" y="994"/>
                  </a:lnTo>
                  <a:lnTo>
                    <a:pt x="122" y="972"/>
                  </a:lnTo>
                  <a:lnTo>
                    <a:pt x="114" y="946"/>
                  </a:lnTo>
                  <a:lnTo>
                    <a:pt x="100" y="894"/>
                  </a:lnTo>
                  <a:lnTo>
                    <a:pt x="90" y="838"/>
                  </a:lnTo>
                  <a:lnTo>
                    <a:pt x="82" y="778"/>
                  </a:lnTo>
                  <a:lnTo>
                    <a:pt x="80" y="718"/>
                  </a:lnTo>
                  <a:lnTo>
                    <a:pt x="80" y="686"/>
                  </a:lnTo>
                  <a:lnTo>
                    <a:pt x="82" y="656"/>
                  </a:lnTo>
                  <a:lnTo>
                    <a:pt x="84" y="626"/>
                  </a:lnTo>
                  <a:lnTo>
                    <a:pt x="88" y="598"/>
                  </a:lnTo>
                  <a:lnTo>
                    <a:pt x="88" y="598"/>
                  </a:lnTo>
                  <a:lnTo>
                    <a:pt x="92" y="648"/>
                  </a:lnTo>
                  <a:lnTo>
                    <a:pt x="102" y="694"/>
                  </a:lnTo>
                  <a:lnTo>
                    <a:pt x="114" y="736"/>
                  </a:lnTo>
                  <a:lnTo>
                    <a:pt x="128" y="774"/>
                  </a:lnTo>
                  <a:lnTo>
                    <a:pt x="146" y="808"/>
                  </a:lnTo>
                  <a:lnTo>
                    <a:pt x="164" y="836"/>
                  </a:lnTo>
                  <a:lnTo>
                    <a:pt x="184" y="860"/>
                  </a:lnTo>
                  <a:lnTo>
                    <a:pt x="202" y="876"/>
                  </a:lnTo>
                  <a:lnTo>
                    <a:pt x="202" y="876"/>
                  </a:lnTo>
                  <a:close/>
                  <a:moveTo>
                    <a:pt x="788" y="528"/>
                  </a:moveTo>
                  <a:lnTo>
                    <a:pt x="788" y="528"/>
                  </a:lnTo>
                  <a:lnTo>
                    <a:pt x="788" y="540"/>
                  </a:lnTo>
                  <a:lnTo>
                    <a:pt x="788" y="552"/>
                  </a:lnTo>
                  <a:lnTo>
                    <a:pt x="786" y="560"/>
                  </a:lnTo>
                  <a:lnTo>
                    <a:pt x="782" y="568"/>
                  </a:lnTo>
                  <a:lnTo>
                    <a:pt x="778" y="574"/>
                  </a:lnTo>
                  <a:lnTo>
                    <a:pt x="772" y="580"/>
                  </a:lnTo>
                  <a:lnTo>
                    <a:pt x="766" y="582"/>
                  </a:lnTo>
                  <a:lnTo>
                    <a:pt x="760" y="584"/>
                  </a:lnTo>
                  <a:lnTo>
                    <a:pt x="746" y="584"/>
                  </a:lnTo>
                  <a:lnTo>
                    <a:pt x="734" y="580"/>
                  </a:lnTo>
                  <a:lnTo>
                    <a:pt x="724" y="574"/>
                  </a:lnTo>
                  <a:lnTo>
                    <a:pt x="720" y="568"/>
                  </a:lnTo>
                  <a:lnTo>
                    <a:pt x="718" y="564"/>
                  </a:lnTo>
                  <a:lnTo>
                    <a:pt x="718" y="564"/>
                  </a:lnTo>
                  <a:lnTo>
                    <a:pt x="710" y="538"/>
                  </a:lnTo>
                  <a:lnTo>
                    <a:pt x="706" y="530"/>
                  </a:lnTo>
                  <a:lnTo>
                    <a:pt x="700" y="522"/>
                  </a:lnTo>
                  <a:lnTo>
                    <a:pt x="696" y="516"/>
                  </a:lnTo>
                  <a:lnTo>
                    <a:pt x="690" y="512"/>
                  </a:lnTo>
                  <a:lnTo>
                    <a:pt x="684" y="510"/>
                  </a:lnTo>
                  <a:lnTo>
                    <a:pt x="676" y="510"/>
                  </a:lnTo>
                  <a:lnTo>
                    <a:pt x="662" y="512"/>
                  </a:lnTo>
                  <a:lnTo>
                    <a:pt x="646" y="516"/>
                  </a:lnTo>
                  <a:lnTo>
                    <a:pt x="626" y="522"/>
                  </a:lnTo>
                  <a:lnTo>
                    <a:pt x="606" y="526"/>
                  </a:lnTo>
                  <a:lnTo>
                    <a:pt x="606" y="526"/>
                  </a:lnTo>
                  <a:lnTo>
                    <a:pt x="622" y="504"/>
                  </a:lnTo>
                  <a:lnTo>
                    <a:pt x="640" y="486"/>
                  </a:lnTo>
                  <a:lnTo>
                    <a:pt x="656" y="472"/>
                  </a:lnTo>
                  <a:lnTo>
                    <a:pt x="672" y="464"/>
                  </a:lnTo>
                  <a:lnTo>
                    <a:pt x="686" y="458"/>
                  </a:lnTo>
                  <a:lnTo>
                    <a:pt x="702" y="456"/>
                  </a:lnTo>
                  <a:lnTo>
                    <a:pt x="716" y="456"/>
                  </a:lnTo>
                  <a:lnTo>
                    <a:pt x="728" y="458"/>
                  </a:lnTo>
                  <a:lnTo>
                    <a:pt x="740" y="464"/>
                  </a:lnTo>
                  <a:lnTo>
                    <a:pt x="750" y="470"/>
                  </a:lnTo>
                  <a:lnTo>
                    <a:pt x="760" y="478"/>
                  </a:lnTo>
                  <a:lnTo>
                    <a:pt x="768" y="488"/>
                  </a:lnTo>
                  <a:lnTo>
                    <a:pt x="776" y="498"/>
                  </a:lnTo>
                  <a:lnTo>
                    <a:pt x="782" y="508"/>
                  </a:lnTo>
                  <a:lnTo>
                    <a:pt x="786" y="518"/>
                  </a:lnTo>
                  <a:lnTo>
                    <a:pt x="788" y="528"/>
                  </a:lnTo>
                  <a:lnTo>
                    <a:pt x="788" y="528"/>
                  </a:lnTo>
                  <a:close/>
                  <a:moveTo>
                    <a:pt x="716" y="120"/>
                  </a:moveTo>
                  <a:lnTo>
                    <a:pt x="768" y="128"/>
                  </a:lnTo>
                  <a:lnTo>
                    <a:pt x="768" y="128"/>
                  </a:lnTo>
                  <a:lnTo>
                    <a:pt x="766" y="134"/>
                  </a:lnTo>
                  <a:lnTo>
                    <a:pt x="766" y="140"/>
                  </a:lnTo>
                  <a:lnTo>
                    <a:pt x="768" y="146"/>
                  </a:lnTo>
                  <a:lnTo>
                    <a:pt x="770" y="154"/>
                  </a:lnTo>
                  <a:lnTo>
                    <a:pt x="774" y="160"/>
                  </a:lnTo>
                  <a:lnTo>
                    <a:pt x="780" y="168"/>
                  </a:lnTo>
                  <a:lnTo>
                    <a:pt x="798" y="186"/>
                  </a:lnTo>
                  <a:lnTo>
                    <a:pt x="798" y="186"/>
                  </a:lnTo>
                  <a:lnTo>
                    <a:pt x="808" y="196"/>
                  </a:lnTo>
                  <a:lnTo>
                    <a:pt x="814" y="202"/>
                  </a:lnTo>
                  <a:lnTo>
                    <a:pt x="818" y="216"/>
                  </a:lnTo>
                  <a:lnTo>
                    <a:pt x="822" y="222"/>
                  </a:lnTo>
                  <a:lnTo>
                    <a:pt x="826" y="230"/>
                  </a:lnTo>
                  <a:lnTo>
                    <a:pt x="834" y="240"/>
                  </a:lnTo>
                  <a:lnTo>
                    <a:pt x="846" y="250"/>
                  </a:lnTo>
                  <a:lnTo>
                    <a:pt x="846" y="250"/>
                  </a:lnTo>
                  <a:lnTo>
                    <a:pt x="824" y="234"/>
                  </a:lnTo>
                  <a:lnTo>
                    <a:pt x="798" y="216"/>
                  </a:lnTo>
                  <a:lnTo>
                    <a:pt x="774" y="200"/>
                  </a:lnTo>
                  <a:lnTo>
                    <a:pt x="762" y="192"/>
                  </a:lnTo>
                  <a:lnTo>
                    <a:pt x="750" y="186"/>
                  </a:lnTo>
                  <a:lnTo>
                    <a:pt x="750" y="186"/>
                  </a:lnTo>
                  <a:lnTo>
                    <a:pt x="738" y="182"/>
                  </a:lnTo>
                  <a:lnTo>
                    <a:pt x="728" y="174"/>
                  </a:lnTo>
                  <a:lnTo>
                    <a:pt x="718" y="166"/>
                  </a:lnTo>
                  <a:lnTo>
                    <a:pt x="710" y="156"/>
                  </a:lnTo>
                  <a:lnTo>
                    <a:pt x="704" y="146"/>
                  </a:lnTo>
                  <a:lnTo>
                    <a:pt x="704" y="136"/>
                  </a:lnTo>
                  <a:lnTo>
                    <a:pt x="704" y="132"/>
                  </a:lnTo>
                  <a:lnTo>
                    <a:pt x="708" y="126"/>
                  </a:lnTo>
                  <a:lnTo>
                    <a:pt x="710" y="122"/>
                  </a:lnTo>
                  <a:lnTo>
                    <a:pt x="716" y="120"/>
                  </a:lnTo>
                  <a:lnTo>
                    <a:pt x="716" y="120"/>
                  </a:lnTo>
                  <a:close/>
                  <a:moveTo>
                    <a:pt x="582" y="166"/>
                  </a:moveTo>
                  <a:lnTo>
                    <a:pt x="582" y="166"/>
                  </a:lnTo>
                  <a:lnTo>
                    <a:pt x="602" y="152"/>
                  </a:lnTo>
                  <a:lnTo>
                    <a:pt x="610" y="146"/>
                  </a:lnTo>
                  <a:lnTo>
                    <a:pt x="614" y="140"/>
                  </a:lnTo>
                  <a:lnTo>
                    <a:pt x="618" y="134"/>
                  </a:lnTo>
                  <a:lnTo>
                    <a:pt x="620" y="128"/>
                  </a:lnTo>
                  <a:lnTo>
                    <a:pt x="620" y="116"/>
                  </a:lnTo>
                  <a:lnTo>
                    <a:pt x="672" y="118"/>
                  </a:lnTo>
                  <a:lnTo>
                    <a:pt x="672" y="118"/>
                  </a:lnTo>
                  <a:lnTo>
                    <a:pt x="676" y="122"/>
                  </a:lnTo>
                  <a:lnTo>
                    <a:pt x="680" y="126"/>
                  </a:lnTo>
                  <a:lnTo>
                    <a:pt x="682" y="132"/>
                  </a:lnTo>
                  <a:lnTo>
                    <a:pt x="682" y="136"/>
                  </a:lnTo>
                  <a:lnTo>
                    <a:pt x="680" y="146"/>
                  </a:lnTo>
                  <a:lnTo>
                    <a:pt x="674" y="154"/>
                  </a:lnTo>
                  <a:lnTo>
                    <a:pt x="666" y="162"/>
                  </a:lnTo>
                  <a:lnTo>
                    <a:pt x="654" y="168"/>
                  </a:lnTo>
                  <a:lnTo>
                    <a:pt x="642" y="174"/>
                  </a:lnTo>
                  <a:lnTo>
                    <a:pt x="630" y="178"/>
                  </a:lnTo>
                  <a:lnTo>
                    <a:pt x="630" y="178"/>
                  </a:lnTo>
                  <a:lnTo>
                    <a:pt x="606" y="182"/>
                  </a:lnTo>
                  <a:lnTo>
                    <a:pt x="578" y="192"/>
                  </a:lnTo>
                  <a:lnTo>
                    <a:pt x="528" y="210"/>
                  </a:lnTo>
                  <a:lnTo>
                    <a:pt x="528" y="210"/>
                  </a:lnTo>
                  <a:lnTo>
                    <a:pt x="548" y="196"/>
                  </a:lnTo>
                  <a:lnTo>
                    <a:pt x="558" y="188"/>
                  </a:lnTo>
                  <a:lnTo>
                    <a:pt x="566" y="178"/>
                  </a:lnTo>
                  <a:lnTo>
                    <a:pt x="572" y="174"/>
                  </a:lnTo>
                  <a:lnTo>
                    <a:pt x="582" y="166"/>
                  </a:lnTo>
                  <a:lnTo>
                    <a:pt x="582" y="166"/>
                  </a:lnTo>
                  <a:close/>
                  <a:moveTo>
                    <a:pt x="150" y="44"/>
                  </a:moveTo>
                  <a:lnTo>
                    <a:pt x="150" y="44"/>
                  </a:lnTo>
                  <a:lnTo>
                    <a:pt x="148" y="48"/>
                  </a:lnTo>
                  <a:lnTo>
                    <a:pt x="146" y="50"/>
                  </a:lnTo>
                  <a:lnTo>
                    <a:pt x="136" y="54"/>
                  </a:lnTo>
                  <a:lnTo>
                    <a:pt x="110" y="58"/>
                  </a:lnTo>
                  <a:lnTo>
                    <a:pt x="96" y="62"/>
                  </a:lnTo>
                  <a:lnTo>
                    <a:pt x="82" y="68"/>
                  </a:lnTo>
                  <a:lnTo>
                    <a:pt x="74" y="72"/>
                  </a:lnTo>
                  <a:lnTo>
                    <a:pt x="70" y="78"/>
                  </a:lnTo>
                  <a:lnTo>
                    <a:pt x="64" y="86"/>
                  </a:lnTo>
                  <a:lnTo>
                    <a:pt x="62" y="94"/>
                  </a:lnTo>
                  <a:lnTo>
                    <a:pt x="62" y="94"/>
                  </a:lnTo>
                  <a:lnTo>
                    <a:pt x="62" y="82"/>
                  </a:lnTo>
                  <a:lnTo>
                    <a:pt x="64" y="72"/>
                  </a:lnTo>
                  <a:lnTo>
                    <a:pt x="66" y="64"/>
                  </a:lnTo>
                  <a:lnTo>
                    <a:pt x="70" y="56"/>
                  </a:lnTo>
                  <a:lnTo>
                    <a:pt x="76" y="48"/>
                  </a:lnTo>
                  <a:lnTo>
                    <a:pt x="82" y="42"/>
                  </a:lnTo>
                  <a:lnTo>
                    <a:pt x="96" y="34"/>
                  </a:lnTo>
                  <a:lnTo>
                    <a:pt x="110" y="30"/>
                  </a:lnTo>
                  <a:lnTo>
                    <a:pt x="124" y="30"/>
                  </a:lnTo>
                  <a:lnTo>
                    <a:pt x="132" y="32"/>
                  </a:lnTo>
                  <a:lnTo>
                    <a:pt x="138" y="34"/>
                  </a:lnTo>
                  <a:lnTo>
                    <a:pt x="144" y="40"/>
                  </a:lnTo>
                  <a:lnTo>
                    <a:pt x="150" y="44"/>
                  </a:lnTo>
                  <a:lnTo>
                    <a:pt x="150" y="44"/>
                  </a:lnTo>
                  <a:close/>
                </a:path>
              </a:pathLst>
            </a:custGeom>
            <a:solidFill>
              <a:srgbClr val="cabb8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グループ化 37"/>
          <p:cNvGrpSpPr/>
          <p:nvPr/>
        </p:nvGrpSpPr>
        <p:grpSpPr>
          <a:xfrm>
            <a:off x="376200" y="5559480"/>
            <a:ext cx="5429160" cy="4848120"/>
            <a:chOff x="376200" y="5559480"/>
            <a:chExt cx="5429160" cy="4848120"/>
          </a:xfrm>
        </p:grpSpPr>
        <p:sp>
          <p:nvSpPr>
            <p:cNvPr id="76" name="Freeform 35"/>
            <p:cNvSpPr/>
            <p:nvPr/>
          </p:nvSpPr>
          <p:spPr>
            <a:xfrm>
              <a:off x="3252600" y="8902800"/>
              <a:ext cx="431640" cy="4633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72" h="292">
                  <a:moveTo>
                    <a:pt x="6" y="196"/>
                  </a:moveTo>
                  <a:lnTo>
                    <a:pt x="6" y="196"/>
                  </a:lnTo>
                  <a:lnTo>
                    <a:pt x="20" y="220"/>
                  </a:lnTo>
                  <a:lnTo>
                    <a:pt x="38" y="240"/>
                  </a:lnTo>
                  <a:lnTo>
                    <a:pt x="58" y="258"/>
                  </a:lnTo>
                  <a:lnTo>
                    <a:pt x="80" y="272"/>
                  </a:lnTo>
                  <a:lnTo>
                    <a:pt x="102" y="282"/>
                  </a:lnTo>
                  <a:lnTo>
                    <a:pt x="126" y="288"/>
                  </a:lnTo>
                  <a:lnTo>
                    <a:pt x="152" y="292"/>
                  </a:lnTo>
                  <a:lnTo>
                    <a:pt x="176" y="288"/>
                  </a:lnTo>
                  <a:lnTo>
                    <a:pt x="176" y="288"/>
                  </a:lnTo>
                  <a:lnTo>
                    <a:pt x="200" y="282"/>
                  </a:lnTo>
                  <a:lnTo>
                    <a:pt x="220" y="274"/>
                  </a:lnTo>
                  <a:lnTo>
                    <a:pt x="238" y="262"/>
                  </a:lnTo>
                  <a:lnTo>
                    <a:pt x="244" y="256"/>
                  </a:lnTo>
                  <a:lnTo>
                    <a:pt x="250" y="248"/>
                  </a:lnTo>
                  <a:lnTo>
                    <a:pt x="250" y="248"/>
                  </a:lnTo>
                  <a:lnTo>
                    <a:pt x="260" y="234"/>
                  </a:lnTo>
                  <a:lnTo>
                    <a:pt x="266" y="218"/>
                  </a:lnTo>
                  <a:lnTo>
                    <a:pt x="270" y="200"/>
                  </a:lnTo>
                  <a:lnTo>
                    <a:pt x="272" y="182"/>
                  </a:lnTo>
                  <a:lnTo>
                    <a:pt x="272" y="164"/>
                  </a:lnTo>
                  <a:lnTo>
                    <a:pt x="268" y="148"/>
                  </a:lnTo>
                  <a:lnTo>
                    <a:pt x="260" y="134"/>
                  </a:lnTo>
                  <a:lnTo>
                    <a:pt x="250" y="122"/>
                  </a:lnTo>
                  <a:lnTo>
                    <a:pt x="250" y="122"/>
                  </a:lnTo>
                  <a:lnTo>
                    <a:pt x="252" y="138"/>
                  </a:lnTo>
                  <a:lnTo>
                    <a:pt x="252" y="152"/>
                  </a:lnTo>
                  <a:lnTo>
                    <a:pt x="250" y="166"/>
                  </a:lnTo>
                  <a:lnTo>
                    <a:pt x="248" y="178"/>
                  </a:lnTo>
                  <a:lnTo>
                    <a:pt x="244" y="190"/>
                  </a:lnTo>
                  <a:lnTo>
                    <a:pt x="238" y="200"/>
                  </a:lnTo>
                  <a:lnTo>
                    <a:pt x="234" y="210"/>
                  </a:lnTo>
                  <a:lnTo>
                    <a:pt x="228" y="218"/>
                  </a:lnTo>
                  <a:lnTo>
                    <a:pt x="220" y="224"/>
                  </a:lnTo>
                  <a:lnTo>
                    <a:pt x="212" y="232"/>
                  </a:lnTo>
                  <a:lnTo>
                    <a:pt x="204" y="236"/>
                  </a:lnTo>
                  <a:lnTo>
                    <a:pt x="196" y="240"/>
                  </a:lnTo>
                  <a:lnTo>
                    <a:pt x="188" y="242"/>
                  </a:lnTo>
                  <a:lnTo>
                    <a:pt x="178" y="244"/>
                  </a:lnTo>
                  <a:lnTo>
                    <a:pt x="168" y="244"/>
                  </a:lnTo>
                  <a:lnTo>
                    <a:pt x="160" y="242"/>
                  </a:lnTo>
                  <a:lnTo>
                    <a:pt x="160" y="242"/>
                  </a:lnTo>
                  <a:lnTo>
                    <a:pt x="136" y="236"/>
                  </a:lnTo>
                  <a:lnTo>
                    <a:pt x="118" y="228"/>
                  </a:lnTo>
                  <a:lnTo>
                    <a:pt x="106" y="216"/>
                  </a:lnTo>
                  <a:lnTo>
                    <a:pt x="100" y="206"/>
                  </a:lnTo>
                  <a:lnTo>
                    <a:pt x="98" y="194"/>
                  </a:lnTo>
                  <a:lnTo>
                    <a:pt x="98" y="180"/>
                  </a:lnTo>
                  <a:lnTo>
                    <a:pt x="104" y="170"/>
                  </a:lnTo>
                  <a:lnTo>
                    <a:pt x="110" y="158"/>
                  </a:lnTo>
                  <a:lnTo>
                    <a:pt x="120" y="148"/>
                  </a:lnTo>
                  <a:lnTo>
                    <a:pt x="130" y="142"/>
                  </a:lnTo>
                  <a:lnTo>
                    <a:pt x="140" y="136"/>
                  </a:lnTo>
                  <a:lnTo>
                    <a:pt x="150" y="134"/>
                  </a:lnTo>
                  <a:lnTo>
                    <a:pt x="160" y="136"/>
                  </a:lnTo>
                  <a:lnTo>
                    <a:pt x="168" y="142"/>
                  </a:lnTo>
                  <a:lnTo>
                    <a:pt x="174" y="152"/>
                  </a:lnTo>
                  <a:lnTo>
                    <a:pt x="178" y="168"/>
                  </a:lnTo>
                  <a:lnTo>
                    <a:pt x="178" y="168"/>
                  </a:lnTo>
                  <a:lnTo>
                    <a:pt x="188" y="152"/>
                  </a:lnTo>
                  <a:lnTo>
                    <a:pt x="194" y="138"/>
                  </a:lnTo>
                  <a:lnTo>
                    <a:pt x="198" y="126"/>
                  </a:lnTo>
                  <a:lnTo>
                    <a:pt x="200" y="112"/>
                  </a:lnTo>
                  <a:lnTo>
                    <a:pt x="200" y="100"/>
                  </a:lnTo>
                  <a:lnTo>
                    <a:pt x="198" y="90"/>
                  </a:lnTo>
                  <a:lnTo>
                    <a:pt x="192" y="80"/>
                  </a:lnTo>
                  <a:lnTo>
                    <a:pt x="186" y="70"/>
                  </a:lnTo>
                  <a:lnTo>
                    <a:pt x="178" y="62"/>
                  </a:lnTo>
                  <a:lnTo>
                    <a:pt x="170" y="56"/>
                  </a:lnTo>
                  <a:lnTo>
                    <a:pt x="160" y="52"/>
                  </a:lnTo>
                  <a:lnTo>
                    <a:pt x="148" y="48"/>
                  </a:lnTo>
                  <a:lnTo>
                    <a:pt x="136" y="48"/>
                  </a:lnTo>
                  <a:lnTo>
                    <a:pt x="122" y="48"/>
                  </a:lnTo>
                  <a:lnTo>
                    <a:pt x="108" y="50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82" y="3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2" y="12"/>
                  </a:lnTo>
                  <a:lnTo>
                    <a:pt x="40" y="24"/>
                  </a:lnTo>
                  <a:lnTo>
                    <a:pt x="32" y="36"/>
                  </a:lnTo>
                  <a:lnTo>
                    <a:pt x="24" y="48"/>
                  </a:lnTo>
                  <a:lnTo>
                    <a:pt x="14" y="74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2" y="110"/>
                  </a:lnTo>
                  <a:lnTo>
                    <a:pt x="0" y="122"/>
                  </a:lnTo>
                  <a:lnTo>
                    <a:pt x="0" y="150"/>
                  </a:lnTo>
                  <a:lnTo>
                    <a:pt x="2" y="178"/>
                  </a:lnTo>
                  <a:lnTo>
                    <a:pt x="4" y="190"/>
                  </a:lnTo>
                  <a:lnTo>
                    <a:pt x="6" y="196"/>
                  </a:lnTo>
                  <a:lnTo>
                    <a:pt x="6" y="196"/>
                  </a:lnTo>
                  <a:close/>
                  <a:moveTo>
                    <a:pt x="52" y="66"/>
                  </a:moveTo>
                  <a:lnTo>
                    <a:pt x="52" y="66"/>
                  </a:lnTo>
                  <a:lnTo>
                    <a:pt x="64" y="92"/>
                  </a:lnTo>
                  <a:lnTo>
                    <a:pt x="70" y="104"/>
                  </a:lnTo>
                  <a:lnTo>
                    <a:pt x="78" y="110"/>
                  </a:lnTo>
                  <a:lnTo>
                    <a:pt x="78" y="110"/>
                  </a:lnTo>
                  <a:lnTo>
                    <a:pt x="82" y="102"/>
                  </a:lnTo>
                  <a:lnTo>
                    <a:pt x="90" y="96"/>
                  </a:lnTo>
                  <a:lnTo>
                    <a:pt x="100" y="92"/>
                  </a:lnTo>
                  <a:lnTo>
                    <a:pt x="110" y="88"/>
                  </a:lnTo>
                  <a:lnTo>
                    <a:pt x="122" y="86"/>
                  </a:lnTo>
                  <a:lnTo>
                    <a:pt x="132" y="86"/>
                  </a:lnTo>
                  <a:lnTo>
                    <a:pt x="142" y="90"/>
                  </a:lnTo>
                  <a:lnTo>
                    <a:pt x="152" y="96"/>
                  </a:lnTo>
                  <a:lnTo>
                    <a:pt x="152" y="96"/>
                  </a:lnTo>
                  <a:lnTo>
                    <a:pt x="138" y="98"/>
                  </a:lnTo>
                  <a:lnTo>
                    <a:pt x="122" y="102"/>
                  </a:lnTo>
                  <a:lnTo>
                    <a:pt x="104" y="112"/>
                  </a:lnTo>
                  <a:lnTo>
                    <a:pt x="96" y="118"/>
                  </a:lnTo>
                  <a:lnTo>
                    <a:pt x="88" y="124"/>
                  </a:lnTo>
                  <a:lnTo>
                    <a:pt x="80" y="132"/>
                  </a:lnTo>
                  <a:lnTo>
                    <a:pt x="74" y="142"/>
                  </a:lnTo>
                  <a:lnTo>
                    <a:pt x="68" y="152"/>
                  </a:lnTo>
                  <a:lnTo>
                    <a:pt x="64" y="164"/>
                  </a:lnTo>
                  <a:lnTo>
                    <a:pt x="62" y="178"/>
                  </a:lnTo>
                  <a:lnTo>
                    <a:pt x="62" y="192"/>
                  </a:lnTo>
                  <a:lnTo>
                    <a:pt x="66" y="208"/>
                  </a:lnTo>
                  <a:lnTo>
                    <a:pt x="72" y="224"/>
                  </a:lnTo>
                  <a:lnTo>
                    <a:pt x="72" y="224"/>
                  </a:lnTo>
                  <a:lnTo>
                    <a:pt x="62" y="212"/>
                  </a:lnTo>
                  <a:lnTo>
                    <a:pt x="54" y="198"/>
                  </a:lnTo>
                  <a:lnTo>
                    <a:pt x="46" y="182"/>
                  </a:lnTo>
                  <a:lnTo>
                    <a:pt x="42" y="166"/>
                  </a:lnTo>
                  <a:lnTo>
                    <a:pt x="40" y="146"/>
                  </a:lnTo>
                  <a:lnTo>
                    <a:pt x="40" y="122"/>
                  </a:lnTo>
                  <a:lnTo>
                    <a:pt x="44" y="96"/>
                  </a:lnTo>
                  <a:lnTo>
                    <a:pt x="52" y="66"/>
                  </a:lnTo>
                  <a:lnTo>
                    <a:pt x="52" y="66"/>
                  </a:lnTo>
                  <a:close/>
                </a:path>
              </a:pathLst>
            </a:custGeom>
            <a:solidFill>
              <a:srgbClr val="947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6"/>
            <p:cNvSpPr/>
            <p:nvPr/>
          </p:nvSpPr>
          <p:spPr>
            <a:xfrm>
              <a:off x="1601640" y="8836200"/>
              <a:ext cx="4178160" cy="1514520"/>
            </a:xfrm>
            <a:custGeom>
              <a:avLst/>
              <a:gdLst>
                <a:gd name="textAreaLeft" fmla="*/ 0 w 4178160"/>
                <a:gd name="textAreaRight" fmla="*/ 4178160 w 4178160"/>
                <a:gd name="textAreaTop" fmla="*/ 0 h 1514520"/>
                <a:gd name="textAreaBottom" fmla="*/ 1514880 h 1514520"/>
              </a:gdLst>
              <a:ahLst/>
              <a:rect l="textAreaLeft" t="textAreaTop" r="textAreaRight" b="textAreaBottom"/>
              <a:pathLst>
                <a:path w="2632" h="954">
                  <a:moveTo>
                    <a:pt x="0" y="898"/>
                  </a:moveTo>
                  <a:lnTo>
                    <a:pt x="0" y="898"/>
                  </a:lnTo>
                  <a:lnTo>
                    <a:pt x="32" y="910"/>
                  </a:lnTo>
                  <a:lnTo>
                    <a:pt x="64" y="920"/>
                  </a:lnTo>
                  <a:lnTo>
                    <a:pt x="96" y="928"/>
                  </a:lnTo>
                  <a:lnTo>
                    <a:pt x="128" y="936"/>
                  </a:lnTo>
                  <a:lnTo>
                    <a:pt x="162" y="942"/>
                  </a:lnTo>
                  <a:lnTo>
                    <a:pt x="194" y="946"/>
                  </a:lnTo>
                  <a:lnTo>
                    <a:pt x="260" y="954"/>
                  </a:lnTo>
                  <a:lnTo>
                    <a:pt x="326" y="954"/>
                  </a:lnTo>
                  <a:lnTo>
                    <a:pt x="356" y="954"/>
                  </a:lnTo>
                  <a:lnTo>
                    <a:pt x="386" y="952"/>
                  </a:lnTo>
                  <a:lnTo>
                    <a:pt x="416" y="948"/>
                  </a:lnTo>
                  <a:lnTo>
                    <a:pt x="444" y="944"/>
                  </a:lnTo>
                  <a:lnTo>
                    <a:pt x="472" y="938"/>
                  </a:lnTo>
                  <a:lnTo>
                    <a:pt x="498" y="932"/>
                  </a:lnTo>
                  <a:lnTo>
                    <a:pt x="498" y="932"/>
                  </a:lnTo>
                  <a:lnTo>
                    <a:pt x="560" y="912"/>
                  </a:lnTo>
                  <a:lnTo>
                    <a:pt x="616" y="890"/>
                  </a:lnTo>
                  <a:lnTo>
                    <a:pt x="670" y="866"/>
                  </a:lnTo>
                  <a:lnTo>
                    <a:pt x="718" y="842"/>
                  </a:lnTo>
                  <a:lnTo>
                    <a:pt x="764" y="816"/>
                  </a:lnTo>
                  <a:lnTo>
                    <a:pt x="806" y="790"/>
                  </a:lnTo>
                  <a:lnTo>
                    <a:pt x="844" y="764"/>
                  </a:lnTo>
                  <a:lnTo>
                    <a:pt x="878" y="738"/>
                  </a:lnTo>
                  <a:lnTo>
                    <a:pt x="878" y="738"/>
                  </a:lnTo>
                  <a:lnTo>
                    <a:pt x="900" y="722"/>
                  </a:lnTo>
                  <a:lnTo>
                    <a:pt x="926" y="706"/>
                  </a:lnTo>
                  <a:lnTo>
                    <a:pt x="952" y="694"/>
                  </a:lnTo>
                  <a:lnTo>
                    <a:pt x="980" y="682"/>
                  </a:lnTo>
                  <a:lnTo>
                    <a:pt x="1008" y="672"/>
                  </a:lnTo>
                  <a:lnTo>
                    <a:pt x="1038" y="664"/>
                  </a:lnTo>
                  <a:lnTo>
                    <a:pt x="1066" y="658"/>
                  </a:lnTo>
                  <a:lnTo>
                    <a:pt x="1096" y="652"/>
                  </a:lnTo>
                  <a:lnTo>
                    <a:pt x="1124" y="650"/>
                  </a:lnTo>
                  <a:lnTo>
                    <a:pt x="1150" y="652"/>
                  </a:lnTo>
                  <a:lnTo>
                    <a:pt x="1176" y="654"/>
                  </a:lnTo>
                  <a:lnTo>
                    <a:pt x="1200" y="660"/>
                  </a:lnTo>
                  <a:lnTo>
                    <a:pt x="1222" y="668"/>
                  </a:lnTo>
                  <a:lnTo>
                    <a:pt x="1240" y="680"/>
                  </a:lnTo>
                  <a:lnTo>
                    <a:pt x="1256" y="694"/>
                  </a:lnTo>
                  <a:lnTo>
                    <a:pt x="1262" y="702"/>
                  </a:lnTo>
                  <a:lnTo>
                    <a:pt x="1268" y="710"/>
                  </a:lnTo>
                  <a:lnTo>
                    <a:pt x="1268" y="710"/>
                  </a:lnTo>
                  <a:lnTo>
                    <a:pt x="1276" y="728"/>
                  </a:lnTo>
                  <a:lnTo>
                    <a:pt x="1280" y="744"/>
                  </a:lnTo>
                  <a:lnTo>
                    <a:pt x="1284" y="762"/>
                  </a:lnTo>
                  <a:lnTo>
                    <a:pt x="1284" y="776"/>
                  </a:lnTo>
                  <a:lnTo>
                    <a:pt x="1282" y="792"/>
                  </a:lnTo>
                  <a:lnTo>
                    <a:pt x="1278" y="806"/>
                  </a:lnTo>
                  <a:lnTo>
                    <a:pt x="1270" y="834"/>
                  </a:lnTo>
                  <a:lnTo>
                    <a:pt x="1270" y="834"/>
                  </a:lnTo>
                  <a:lnTo>
                    <a:pt x="1264" y="846"/>
                  </a:lnTo>
                  <a:lnTo>
                    <a:pt x="1258" y="856"/>
                  </a:lnTo>
                  <a:lnTo>
                    <a:pt x="1250" y="864"/>
                  </a:lnTo>
                  <a:lnTo>
                    <a:pt x="1242" y="872"/>
                  </a:lnTo>
                  <a:lnTo>
                    <a:pt x="1232" y="880"/>
                  </a:lnTo>
                  <a:lnTo>
                    <a:pt x="1222" y="884"/>
                  </a:lnTo>
                  <a:lnTo>
                    <a:pt x="1210" y="888"/>
                  </a:lnTo>
                  <a:lnTo>
                    <a:pt x="1200" y="892"/>
                  </a:lnTo>
                  <a:lnTo>
                    <a:pt x="1188" y="894"/>
                  </a:lnTo>
                  <a:lnTo>
                    <a:pt x="1174" y="894"/>
                  </a:lnTo>
                  <a:lnTo>
                    <a:pt x="1162" y="892"/>
                  </a:lnTo>
                  <a:lnTo>
                    <a:pt x="1150" y="890"/>
                  </a:lnTo>
                  <a:lnTo>
                    <a:pt x="1136" y="886"/>
                  </a:lnTo>
                  <a:lnTo>
                    <a:pt x="1124" y="880"/>
                  </a:lnTo>
                  <a:lnTo>
                    <a:pt x="1110" y="874"/>
                  </a:lnTo>
                  <a:lnTo>
                    <a:pt x="1098" y="864"/>
                  </a:lnTo>
                  <a:lnTo>
                    <a:pt x="1098" y="864"/>
                  </a:lnTo>
                  <a:lnTo>
                    <a:pt x="1114" y="866"/>
                  </a:lnTo>
                  <a:lnTo>
                    <a:pt x="1128" y="864"/>
                  </a:lnTo>
                  <a:lnTo>
                    <a:pt x="1140" y="862"/>
                  </a:lnTo>
                  <a:lnTo>
                    <a:pt x="1152" y="856"/>
                  </a:lnTo>
                  <a:lnTo>
                    <a:pt x="1162" y="850"/>
                  </a:lnTo>
                  <a:lnTo>
                    <a:pt x="1170" y="842"/>
                  </a:lnTo>
                  <a:lnTo>
                    <a:pt x="1178" y="834"/>
                  </a:lnTo>
                  <a:lnTo>
                    <a:pt x="1184" y="824"/>
                  </a:lnTo>
                  <a:lnTo>
                    <a:pt x="1188" y="812"/>
                  </a:lnTo>
                  <a:lnTo>
                    <a:pt x="1190" y="802"/>
                  </a:lnTo>
                  <a:lnTo>
                    <a:pt x="1192" y="790"/>
                  </a:lnTo>
                  <a:lnTo>
                    <a:pt x="1192" y="780"/>
                  </a:lnTo>
                  <a:lnTo>
                    <a:pt x="1190" y="770"/>
                  </a:lnTo>
                  <a:lnTo>
                    <a:pt x="1188" y="760"/>
                  </a:lnTo>
                  <a:lnTo>
                    <a:pt x="1184" y="750"/>
                  </a:lnTo>
                  <a:lnTo>
                    <a:pt x="1178" y="742"/>
                  </a:lnTo>
                  <a:lnTo>
                    <a:pt x="1178" y="742"/>
                  </a:lnTo>
                  <a:lnTo>
                    <a:pt x="1168" y="732"/>
                  </a:lnTo>
                  <a:lnTo>
                    <a:pt x="1160" y="726"/>
                  </a:lnTo>
                  <a:lnTo>
                    <a:pt x="1150" y="720"/>
                  </a:lnTo>
                  <a:lnTo>
                    <a:pt x="1140" y="714"/>
                  </a:lnTo>
                  <a:lnTo>
                    <a:pt x="1130" y="712"/>
                  </a:lnTo>
                  <a:lnTo>
                    <a:pt x="1120" y="710"/>
                  </a:lnTo>
                  <a:lnTo>
                    <a:pt x="1110" y="710"/>
                  </a:lnTo>
                  <a:lnTo>
                    <a:pt x="1100" y="710"/>
                  </a:lnTo>
                  <a:lnTo>
                    <a:pt x="1080" y="714"/>
                  </a:lnTo>
                  <a:lnTo>
                    <a:pt x="1062" y="724"/>
                  </a:lnTo>
                  <a:lnTo>
                    <a:pt x="1046" y="736"/>
                  </a:lnTo>
                  <a:lnTo>
                    <a:pt x="1032" y="752"/>
                  </a:lnTo>
                  <a:lnTo>
                    <a:pt x="1032" y="752"/>
                  </a:lnTo>
                  <a:lnTo>
                    <a:pt x="1020" y="770"/>
                  </a:lnTo>
                  <a:lnTo>
                    <a:pt x="1016" y="780"/>
                  </a:lnTo>
                  <a:lnTo>
                    <a:pt x="1014" y="790"/>
                  </a:lnTo>
                  <a:lnTo>
                    <a:pt x="1012" y="800"/>
                  </a:lnTo>
                  <a:lnTo>
                    <a:pt x="1012" y="812"/>
                  </a:lnTo>
                  <a:lnTo>
                    <a:pt x="1014" y="822"/>
                  </a:lnTo>
                  <a:lnTo>
                    <a:pt x="1016" y="834"/>
                  </a:lnTo>
                  <a:lnTo>
                    <a:pt x="1020" y="846"/>
                  </a:lnTo>
                  <a:lnTo>
                    <a:pt x="1024" y="856"/>
                  </a:lnTo>
                  <a:lnTo>
                    <a:pt x="1030" y="868"/>
                  </a:lnTo>
                  <a:lnTo>
                    <a:pt x="1040" y="878"/>
                  </a:lnTo>
                  <a:lnTo>
                    <a:pt x="1050" y="888"/>
                  </a:lnTo>
                  <a:lnTo>
                    <a:pt x="1060" y="898"/>
                  </a:lnTo>
                  <a:lnTo>
                    <a:pt x="1074" y="908"/>
                  </a:lnTo>
                  <a:lnTo>
                    <a:pt x="1090" y="916"/>
                  </a:lnTo>
                  <a:lnTo>
                    <a:pt x="1090" y="916"/>
                  </a:lnTo>
                  <a:lnTo>
                    <a:pt x="1106" y="924"/>
                  </a:lnTo>
                  <a:lnTo>
                    <a:pt x="1124" y="928"/>
                  </a:lnTo>
                  <a:lnTo>
                    <a:pt x="1144" y="932"/>
                  </a:lnTo>
                  <a:lnTo>
                    <a:pt x="1162" y="934"/>
                  </a:lnTo>
                  <a:lnTo>
                    <a:pt x="1182" y="936"/>
                  </a:lnTo>
                  <a:lnTo>
                    <a:pt x="1200" y="934"/>
                  </a:lnTo>
                  <a:lnTo>
                    <a:pt x="1220" y="932"/>
                  </a:lnTo>
                  <a:lnTo>
                    <a:pt x="1238" y="926"/>
                  </a:lnTo>
                  <a:lnTo>
                    <a:pt x="1256" y="920"/>
                  </a:lnTo>
                  <a:lnTo>
                    <a:pt x="1274" y="910"/>
                  </a:lnTo>
                  <a:lnTo>
                    <a:pt x="1292" y="900"/>
                  </a:lnTo>
                  <a:lnTo>
                    <a:pt x="1306" y="886"/>
                  </a:lnTo>
                  <a:lnTo>
                    <a:pt x="1322" y="872"/>
                  </a:lnTo>
                  <a:lnTo>
                    <a:pt x="1334" y="854"/>
                  </a:lnTo>
                  <a:lnTo>
                    <a:pt x="1346" y="836"/>
                  </a:lnTo>
                  <a:lnTo>
                    <a:pt x="1356" y="814"/>
                  </a:lnTo>
                  <a:lnTo>
                    <a:pt x="1356" y="814"/>
                  </a:lnTo>
                  <a:lnTo>
                    <a:pt x="1364" y="790"/>
                  </a:lnTo>
                  <a:lnTo>
                    <a:pt x="1370" y="768"/>
                  </a:lnTo>
                  <a:lnTo>
                    <a:pt x="1374" y="750"/>
                  </a:lnTo>
                  <a:lnTo>
                    <a:pt x="1376" y="732"/>
                  </a:lnTo>
                  <a:lnTo>
                    <a:pt x="1376" y="714"/>
                  </a:lnTo>
                  <a:lnTo>
                    <a:pt x="1374" y="700"/>
                  </a:lnTo>
                  <a:lnTo>
                    <a:pt x="1370" y="686"/>
                  </a:lnTo>
                  <a:lnTo>
                    <a:pt x="1366" y="674"/>
                  </a:lnTo>
                  <a:lnTo>
                    <a:pt x="1360" y="664"/>
                  </a:lnTo>
                  <a:lnTo>
                    <a:pt x="1354" y="654"/>
                  </a:lnTo>
                  <a:lnTo>
                    <a:pt x="1340" y="636"/>
                  </a:lnTo>
                  <a:lnTo>
                    <a:pt x="1324" y="620"/>
                  </a:lnTo>
                  <a:lnTo>
                    <a:pt x="1308" y="606"/>
                  </a:lnTo>
                  <a:lnTo>
                    <a:pt x="1308" y="606"/>
                  </a:lnTo>
                  <a:lnTo>
                    <a:pt x="1350" y="604"/>
                  </a:lnTo>
                  <a:lnTo>
                    <a:pt x="1384" y="606"/>
                  </a:lnTo>
                  <a:lnTo>
                    <a:pt x="1408" y="608"/>
                  </a:lnTo>
                  <a:lnTo>
                    <a:pt x="1424" y="612"/>
                  </a:lnTo>
                  <a:lnTo>
                    <a:pt x="1424" y="612"/>
                  </a:lnTo>
                  <a:lnTo>
                    <a:pt x="1392" y="590"/>
                  </a:lnTo>
                  <a:lnTo>
                    <a:pt x="1356" y="570"/>
                  </a:lnTo>
                  <a:lnTo>
                    <a:pt x="1316" y="554"/>
                  </a:lnTo>
                  <a:lnTo>
                    <a:pt x="1274" y="540"/>
                  </a:lnTo>
                  <a:lnTo>
                    <a:pt x="1252" y="536"/>
                  </a:lnTo>
                  <a:lnTo>
                    <a:pt x="1232" y="532"/>
                  </a:lnTo>
                  <a:lnTo>
                    <a:pt x="1210" y="532"/>
                  </a:lnTo>
                  <a:lnTo>
                    <a:pt x="1190" y="530"/>
                  </a:lnTo>
                  <a:lnTo>
                    <a:pt x="1170" y="532"/>
                  </a:lnTo>
                  <a:lnTo>
                    <a:pt x="1150" y="534"/>
                  </a:lnTo>
                  <a:lnTo>
                    <a:pt x="1132" y="538"/>
                  </a:lnTo>
                  <a:lnTo>
                    <a:pt x="1114" y="544"/>
                  </a:lnTo>
                  <a:lnTo>
                    <a:pt x="1114" y="544"/>
                  </a:lnTo>
                  <a:lnTo>
                    <a:pt x="1152" y="502"/>
                  </a:lnTo>
                  <a:lnTo>
                    <a:pt x="1190" y="466"/>
                  </a:lnTo>
                  <a:lnTo>
                    <a:pt x="1226" y="438"/>
                  </a:lnTo>
                  <a:lnTo>
                    <a:pt x="1262" y="414"/>
                  </a:lnTo>
                  <a:lnTo>
                    <a:pt x="1296" y="396"/>
                  </a:lnTo>
                  <a:lnTo>
                    <a:pt x="1328" y="384"/>
                  </a:lnTo>
                  <a:lnTo>
                    <a:pt x="1358" y="378"/>
                  </a:lnTo>
                  <a:lnTo>
                    <a:pt x="1386" y="376"/>
                  </a:lnTo>
                  <a:lnTo>
                    <a:pt x="1400" y="378"/>
                  </a:lnTo>
                  <a:lnTo>
                    <a:pt x="1412" y="380"/>
                  </a:lnTo>
                  <a:lnTo>
                    <a:pt x="1424" y="384"/>
                  </a:lnTo>
                  <a:lnTo>
                    <a:pt x="1436" y="388"/>
                  </a:lnTo>
                  <a:lnTo>
                    <a:pt x="1446" y="392"/>
                  </a:lnTo>
                  <a:lnTo>
                    <a:pt x="1456" y="400"/>
                  </a:lnTo>
                  <a:lnTo>
                    <a:pt x="1466" y="406"/>
                  </a:lnTo>
                  <a:lnTo>
                    <a:pt x="1474" y="414"/>
                  </a:lnTo>
                  <a:lnTo>
                    <a:pt x="1488" y="434"/>
                  </a:lnTo>
                  <a:lnTo>
                    <a:pt x="1500" y="456"/>
                  </a:lnTo>
                  <a:lnTo>
                    <a:pt x="1506" y="480"/>
                  </a:lnTo>
                  <a:lnTo>
                    <a:pt x="1510" y="508"/>
                  </a:lnTo>
                  <a:lnTo>
                    <a:pt x="1510" y="508"/>
                  </a:lnTo>
                  <a:lnTo>
                    <a:pt x="1524" y="508"/>
                  </a:lnTo>
                  <a:lnTo>
                    <a:pt x="1536" y="506"/>
                  </a:lnTo>
                  <a:lnTo>
                    <a:pt x="1544" y="502"/>
                  </a:lnTo>
                  <a:lnTo>
                    <a:pt x="1552" y="494"/>
                  </a:lnTo>
                  <a:lnTo>
                    <a:pt x="1556" y="486"/>
                  </a:lnTo>
                  <a:lnTo>
                    <a:pt x="1560" y="478"/>
                  </a:lnTo>
                  <a:lnTo>
                    <a:pt x="1560" y="468"/>
                  </a:lnTo>
                  <a:lnTo>
                    <a:pt x="1556" y="458"/>
                  </a:lnTo>
                  <a:lnTo>
                    <a:pt x="1556" y="458"/>
                  </a:lnTo>
                  <a:lnTo>
                    <a:pt x="1568" y="464"/>
                  </a:lnTo>
                  <a:lnTo>
                    <a:pt x="1578" y="472"/>
                  </a:lnTo>
                  <a:lnTo>
                    <a:pt x="1586" y="480"/>
                  </a:lnTo>
                  <a:lnTo>
                    <a:pt x="1590" y="490"/>
                  </a:lnTo>
                  <a:lnTo>
                    <a:pt x="1594" y="498"/>
                  </a:lnTo>
                  <a:lnTo>
                    <a:pt x="1594" y="508"/>
                  </a:lnTo>
                  <a:lnTo>
                    <a:pt x="1594" y="516"/>
                  </a:lnTo>
                  <a:lnTo>
                    <a:pt x="1592" y="526"/>
                  </a:lnTo>
                  <a:lnTo>
                    <a:pt x="1586" y="544"/>
                  </a:lnTo>
                  <a:lnTo>
                    <a:pt x="1576" y="560"/>
                  </a:lnTo>
                  <a:lnTo>
                    <a:pt x="1564" y="574"/>
                  </a:lnTo>
                  <a:lnTo>
                    <a:pt x="1550" y="584"/>
                  </a:lnTo>
                  <a:lnTo>
                    <a:pt x="1550" y="584"/>
                  </a:lnTo>
                  <a:lnTo>
                    <a:pt x="1564" y="586"/>
                  </a:lnTo>
                  <a:lnTo>
                    <a:pt x="1576" y="588"/>
                  </a:lnTo>
                  <a:lnTo>
                    <a:pt x="1586" y="586"/>
                  </a:lnTo>
                  <a:lnTo>
                    <a:pt x="1598" y="584"/>
                  </a:lnTo>
                  <a:lnTo>
                    <a:pt x="1608" y="580"/>
                  </a:lnTo>
                  <a:lnTo>
                    <a:pt x="1616" y="574"/>
                  </a:lnTo>
                  <a:lnTo>
                    <a:pt x="1624" y="566"/>
                  </a:lnTo>
                  <a:lnTo>
                    <a:pt x="1632" y="558"/>
                  </a:lnTo>
                  <a:lnTo>
                    <a:pt x="1638" y="548"/>
                  </a:lnTo>
                  <a:lnTo>
                    <a:pt x="1644" y="538"/>
                  </a:lnTo>
                  <a:lnTo>
                    <a:pt x="1648" y="528"/>
                  </a:lnTo>
                  <a:lnTo>
                    <a:pt x="1652" y="518"/>
                  </a:lnTo>
                  <a:lnTo>
                    <a:pt x="1654" y="508"/>
                  </a:lnTo>
                  <a:lnTo>
                    <a:pt x="1654" y="496"/>
                  </a:lnTo>
                  <a:lnTo>
                    <a:pt x="1652" y="486"/>
                  </a:lnTo>
                  <a:lnTo>
                    <a:pt x="1650" y="476"/>
                  </a:lnTo>
                  <a:lnTo>
                    <a:pt x="1650" y="476"/>
                  </a:lnTo>
                  <a:lnTo>
                    <a:pt x="1742" y="542"/>
                  </a:lnTo>
                  <a:lnTo>
                    <a:pt x="1742" y="542"/>
                  </a:lnTo>
                  <a:lnTo>
                    <a:pt x="1732" y="522"/>
                  </a:lnTo>
                  <a:lnTo>
                    <a:pt x="1720" y="500"/>
                  </a:lnTo>
                  <a:lnTo>
                    <a:pt x="1706" y="480"/>
                  </a:lnTo>
                  <a:lnTo>
                    <a:pt x="1692" y="462"/>
                  </a:lnTo>
                  <a:lnTo>
                    <a:pt x="1676" y="446"/>
                  </a:lnTo>
                  <a:lnTo>
                    <a:pt x="1658" y="430"/>
                  </a:lnTo>
                  <a:lnTo>
                    <a:pt x="1640" y="416"/>
                  </a:lnTo>
                  <a:lnTo>
                    <a:pt x="1620" y="402"/>
                  </a:lnTo>
                  <a:lnTo>
                    <a:pt x="1600" y="390"/>
                  </a:lnTo>
                  <a:lnTo>
                    <a:pt x="1578" y="378"/>
                  </a:lnTo>
                  <a:lnTo>
                    <a:pt x="1556" y="370"/>
                  </a:lnTo>
                  <a:lnTo>
                    <a:pt x="1532" y="360"/>
                  </a:lnTo>
                  <a:lnTo>
                    <a:pt x="1506" y="354"/>
                  </a:lnTo>
                  <a:lnTo>
                    <a:pt x="1480" y="348"/>
                  </a:lnTo>
                  <a:lnTo>
                    <a:pt x="1454" y="344"/>
                  </a:lnTo>
                  <a:lnTo>
                    <a:pt x="1426" y="342"/>
                  </a:lnTo>
                  <a:lnTo>
                    <a:pt x="1426" y="342"/>
                  </a:lnTo>
                  <a:lnTo>
                    <a:pt x="1490" y="338"/>
                  </a:lnTo>
                  <a:lnTo>
                    <a:pt x="1546" y="338"/>
                  </a:lnTo>
                  <a:lnTo>
                    <a:pt x="1596" y="344"/>
                  </a:lnTo>
                  <a:lnTo>
                    <a:pt x="1642" y="352"/>
                  </a:lnTo>
                  <a:lnTo>
                    <a:pt x="1680" y="362"/>
                  </a:lnTo>
                  <a:lnTo>
                    <a:pt x="1712" y="376"/>
                  </a:lnTo>
                  <a:lnTo>
                    <a:pt x="1726" y="384"/>
                  </a:lnTo>
                  <a:lnTo>
                    <a:pt x="1738" y="392"/>
                  </a:lnTo>
                  <a:lnTo>
                    <a:pt x="1750" y="400"/>
                  </a:lnTo>
                  <a:lnTo>
                    <a:pt x="1760" y="410"/>
                  </a:lnTo>
                  <a:lnTo>
                    <a:pt x="1768" y="420"/>
                  </a:lnTo>
                  <a:lnTo>
                    <a:pt x="1776" y="430"/>
                  </a:lnTo>
                  <a:lnTo>
                    <a:pt x="1782" y="440"/>
                  </a:lnTo>
                  <a:lnTo>
                    <a:pt x="1786" y="452"/>
                  </a:lnTo>
                  <a:lnTo>
                    <a:pt x="1790" y="462"/>
                  </a:lnTo>
                  <a:lnTo>
                    <a:pt x="1792" y="474"/>
                  </a:lnTo>
                  <a:lnTo>
                    <a:pt x="1792" y="500"/>
                  </a:lnTo>
                  <a:lnTo>
                    <a:pt x="1790" y="524"/>
                  </a:lnTo>
                  <a:lnTo>
                    <a:pt x="1782" y="550"/>
                  </a:lnTo>
                  <a:lnTo>
                    <a:pt x="1770" y="576"/>
                  </a:lnTo>
                  <a:lnTo>
                    <a:pt x="1754" y="602"/>
                  </a:lnTo>
                  <a:lnTo>
                    <a:pt x="1754" y="602"/>
                  </a:lnTo>
                  <a:lnTo>
                    <a:pt x="1770" y="592"/>
                  </a:lnTo>
                  <a:lnTo>
                    <a:pt x="1788" y="578"/>
                  </a:lnTo>
                  <a:lnTo>
                    <a:pt x="1806" y="560"/>
                  </a:lnTo>
                  <a:lnTo>
                    <a:pt x="1822" y="538"/>
                  </a:lnTo>
                  <a:lnTo>
                    <a:pt x="1836" y="514"/>
                  </a:lnTo>
                  <a:lnTo>
                    <a:pt x="1842" y="502"/>
                  </a:lnTo>
                  <a:lnTo>
                    <a:pt x="1846" y="490"/>
                  </a:lnTo>
                  <a:lnTo>
                    <a:pt x="1850" y="478"/>
                  </a:lnTo>
                  <a:lnTo>
                    <a:pt x="1850" y="466"/>
                  </a:lnTo>
                  <a:lnTo>
                    <a:pt x="1850" y="456"/>
                  </a:lnTo>
                  <a:lnTo>
                    <a:pt x="1846" y="444"/>
                  </a:lnTo>
                  <a:lnTo>
                    <a:pt x="1846" y="444"/>
                  </a:lnTo>
                  <a:lnTo>
                    <a:pt x="1858" y="452"/>
                  </a:lnTo>
                  <a:lnTo>
                    <a:pt x="1866" y="462"/>
                  </a:lnTo>
                  <a:lnTo>
                    <a:pt x="1874" y="472"/>
                  </a:lnTo>
                  <a:lnTo>
                    <a:pt x="1882" y="484"/>
                  </a:lnTo>
                  <a:lnTo>
                    <a:pt x="1888" y="494"/>
                  </a:lnTo>
                  <a:lnTo>
                    <a:pt x="1892" y="506"/>
                  </a:lnTo>
                  <a:lnTo>
                    <a:pt x="1898" y="532"/>
                  </a:lnTo>
                  <a:lnTo>
                    <a:pt x="1900" y="558"/>
                  </a:lnTo>
                  <a:lnTo>
                    <a:pt x="1898" y="584"/>
                  </a:lnTo>
                  <a:lnTo>
                    <a:pt x="1892" y="612"/>
                  </a:lnTo>
                  <a:lnTo>
                    <a:pt x="1884" y="636"/>
                  </a:lnTo>
                  <a:lnTo>
                    <a:pt x="1872" y="662"/>
                  </a:lnTo>
                  <a:lnTo>
                    <a:pt x="1856" y="682"/>
                  </a:lnTo>
                  <a:lnTo>
                    <a:pt x="1840" y="702"/>
                  </a:lnTo>
                  <a:lnTo>
                    <a:pt x="1820" y="718"/>
                  </a:lnTo>
                  <a:lnTo>
                    <a:pt x="1810" y="724"/>
                  </a:lnTo>
                  <a:lnTo>
                    <a:pt x="1798" y="730"/>
                  </a:lnTo>
                  <a:lnTo>
                    <a:pt x="1786" y="734"/>
                  </a:lnTo>
                  <a:lnTo>
                    <a:pt x="1774" y="736"/>
                  </a:lnTo>
                  <a:lnTo>
                    <a:pt x="1762" y="738"/>
                  </a:lnTo>
                  <a:lnTo>
                    <a:pt x="1750" y="738"/>
                  </a:lnTo>
                  <a:lnTo>
                    <a:pt x="1736" y="736"/>
                  </a:lnTo>
                  <a:lnTo>
                    <a:pt x="1724" y="734"/>
                  </a:lnTo>
                  <a:lnTo>
                    <a:pt x="1724" y="734"/>
                  </a:lnTo>
                  <a:lnTo>
                    <a:pt x="1720" y="748"/>
                  </a:lnTo>
                  <a:lnTo>
                    <a:pt x="1720" y="760"/>
                  </a:lnTo>
                  <a:lnTo>
                    <a:pt x="1720" y="772"/>
                  </a:lnTo>
                  <a:lnTo>
                    <a:pt x="1722" y="782"/>
                  </a:lnTo>
                  <a:lnTo>
                    <a:pt x="1726" y="792"/>
                  </a:lnTo>
                  <a:lnTo>
                    <a:pt x="1732" y="802"/>
                  </a:lnTo>
                  <a:lnTo>
                    <a:pt x="1738" y="810"/>
                  </a:lnTo>
                  <a:lnTo>
                    <a:pt x="1746" y="816"/>
                  </a:lnTo>
                  <a:lnTo>
                    <a:pt x="1762" y="828"/>
                  </a:lnTo>
                  <a:lnTo>
                    <a:pt x="1780" y="834"/>
                  </a:lnTo>
                  <a:lnTo>
                    <a:pt x="1800" y="838"/>
                  </a:lnTo>
                  <a:lnTo>
                    <a:pt x="1816" y="838"/>
                  </a:lnTo>
                  <a:lnTo>
                    <a:pt x="1816" y="838"/>
                  </a:lnTo>
                  <a:lnTo>
                    <a:pt x="1800" y="850"/>
                  </a:lnTo>
                  <a:lnTo>
                    <a:pt x="1780" y="860"/>
                  </a:lnTo>
                  <a:lnTo>
                    <a:pt x="1760" y="868"/>
                  </a:lnTo>
                  <a:lnTo>
                    <a:pt x="1740" y="874"/>
                  </a:lnTo>
                  <a:lnTo>
                    <a:pt x="1718" y="876"/>
                  </a:lnTo>
                  <a:lnTo>
                    <a:pt x="1696" y="878"/>
                  </a:lnTo>
                  <a:lnTo>
                    <a:pt x="1676" y="876"/>
                  </a:lnTo>
                  <a:lnTo>
                    <a:pt x="1656" y="872"/>
                  </a:lnTo>
                  <a:lnTo>
                    <a:pt x="1638" y="868"/>
                  </a:lnTo>
                  <a:lnTo>
                    <a:pt x="1622" y="860"/>
                  </a:lnTo>
                  <a:lnTo>
                    <a:pt x="1608" y="850"/>
                  </a:lnTo>
                  <a:lnTo>
                    <a:pt x="1598" y="838"/>
                  </a:lnTo>
                  <a:lnTo>
                    <a:pt x="1590" y="822"/>
                  </a:lnTo>
                  <a:lnTo>
                    <a:pt x="1588" y="806"/>
                  </a:lnTo>
                  <a:lnTo>
                    <a:pt x="1590" y="788"/>
                  </a:lnTo>
                  <a:lnTo>
                    <a:pt x="1596" y="766"/>
                  </a:lnTo>
                  <a:lnTo>
                    <a:pt x="1596" y="766"/>
                  </a:lnTo>
                  <a:lnTo>
                    <a:pt x="1612" y="772"/>
                  </a:lnTo>
                  <a:lnTo>
                    <a:pt x="1626" y="776"/>
                  </a:lnTo>
                  <a:lnTo>
                    <a:pt x="1638" y="774"/>
                  </a:lnTo>
                  <a:lnTo>
                    <a:pt x="1648" y="772"/>
                  </a:lnTo>
                  <a:lnTo>
                    <a:pt x="1658" y="766"/>
                  </a:lnTo>
                  <a:lnTo>
                    <a:pt x="1666" y="758"/>
                  </a:lnTo>
                  <a:lnTo>
                    <a:pt x="1672" y="750"/>
                  </a:lnTo>
                  <a:lnTo>
                    <a:pt x="1676" y="738"/>
                  </a:lnTo>
                  <a:lnTo>
                    <a:pt x="1680" y="728"/>
                  </a:lnTo>
                  <a:lnTo>
                    <a:pt x="1680" y="716"/>
                  </a:lnTo>
                  <a:lnTo>
                    <a:pt x="1678" y="702"/>
                  </a:lnTo>
                  <a:lnTo>
                    <a:pt x="1674" y="690"/>
                  </a:lnTo>
                  <a:lnTo>
                    <a:pt x="1668" y="680"/>
                  </a:lnTo>
                  <a:lnTo>
                    <a:pt x="1660" y="668"/>
                  </a:lnTo>
                  <a:lnTo>
                    <a:pt x="1650" y="658"/>
                  </a:lnTo>
                  <a:lnTo>
                    <a:pt x="1636" y="650"/>
                  </a:lnTo>
                  <a:lnTo>
                    <a:pt x="1636" y="650"/>
                  </a:lnTo>
                  <a:lnTo>
                    <a:pt x="1624" y="644"/>
                  </a:lnTo>
                  <a:lnTo>
                    <a:pt x="1612" y="640"/>
                  </a:lnTo>
                  <a:lnTo>
                    <a:pt x="1598" y="638"/>
                  </a:lnTo>
                  <a:lnTo>
                    <a:pt x="1586" y="636"/>
                  </a:lnTo>
                  <a:lnTo>
                    <a:pt x="1572" y="636"/>
                  </a:lnTo>
                  <a:lnTo>
                    <a:pt x="1558" y="636"/>
                  </a:lnTo>
                  <a:lnTo>
                    <a:pt x="1546" y="638"/>
                  </a:lnTo>
                  <a:lnTo>
                    <a:pt x="1532" y="642"/>
                  </a:lnTo>
                  <a:lnTo>
                    <a:pt x="1520" y="646"/>
                  </a:lnTo>
                  <a:lnTo>
                    <a:pt x="1508" y="652"/>
                  </a:lnTo>
                  <a:lnTo>
                    <a:pt x="1498" y="658"/>
                  </a:lnTo>
                  <a:lnTo>
                    <a:pt x="1488" y="666"/>
                  </a:lnTo>
                  <a:lnTo>
                    <a:pt x="1478" y="674"/>
                  </a:lnTo>
                  <a:lnTo>
                    <a:pt x="1470" y="686"/>
                  </a:lnTo>
                  <a:lnTo>
                    <a:pt x="1464" y="696"/>
                  </a:lnTo>
                  <a:lnTo>
                    <a:pt x="1458" y="708"/>
                  </a:lnTo>
                  <a:lnTo>
                    <a:pt x="1458" y="708"/>
                  </a:lnTo>
                  <a:lnTo>
                    <a:pt x="1454" y="722"/>
                  </a:lnTo>
                  <a:lnTo>
                    <a:pt x="1452" y="734"/>
                  </a:lnTo>
                  <a:lnTo>
                    <a:pt x="1450" y="748"/>
                  </a:lnTo>
                  <a:lnTo>
                    <a:pt x="1452" y="762"/>
                  </a:lnTo>
                  <a:lnTo>
                    <a:pt x="1454" y="778"/>
                  </a:lnTo>
                  <a:lnTo>
                    <a:pt x="1456" y="792"/>
                  </a:lnTo>
                  <a:lnTo>
                    <a:pt x="1462" y="806"/>
                  </a:lnTo>
                  <a:lnTo>
                    <a:pt x="1468" y="820"/>
                  </a:lnTo>
                  <a:lnTo>
                    <a:pt x="1476" y="834"/>
                  </a:lnTo>
                  <a:lnTo>
                    <a:pt x="1484" y="846"/>
                  </a:lnTo>
                  <a:lnTo>
                    <a:pt x="1494" y="860"/>
                  </a:lnTo>
                  <a:lnTo>
                    <a:pt x="1506" y="872"/>
                  </a:lnTo>
                  <a:lnTo>
                    <a:pt x="1518" y="882"/>
                  </a:lnTo>
                  <a:lnTo>
                    <a:pt x="1532" y="892"/>
                  </a:lnTo>
                  <a:lnTo>
                    <a:pt x="1546" y="900"/>
                  </a:lnTo>
                  <a:lnTo>
                    <a:pt x="1562" y="908"/>
                  </a:lnTo>
                  <a:lnTo>
                    <a:pt x="1562" y="908"/>
                  </a:lnTo>
                  <a:lnTo>
                    <a:pt x="1586" y="916"/>
                  </a:lnTo>
                  <a:lnTo>
                    <a:pt x="1610" y="920"/>
                  </a:lnTo>
                  <a:lnTo>
                    <a:pt x="1638" y="924"/>
                  </a:lnTo>
                  <a:lnTo>
                    <a:pt x="1666" y="924"/>
                  </a:lnTo>
                  <a:lnTo>
                    <a:pt x="1694" y="922"/>
                  </a:lnTo>
                  <a:lnTo>
                    <a:pt x="1722" y="916"/>
                  </a:lnTo>
                  <a:lnTo>
                    <a:pt x="1750" y="908"/>
                  </a:lnTo>
                  <a:lnTo>
                    <a:pt x="1780" y="898"/>
                  </a:lnTo>
                  <a:lnTo>
                    <a:pt x="1806" y="884"/>
                  </a:lnTo>
                  <a:lnTo>
                    <a:pt x="1832" y="868"/>
                  </a:lnTo>
                  <a:lnTo>
                    <a:pt x="1856" y="850"/>
                  </a:lnTo>
                  <a:lnTo>
                    <a:pt x="1880" y="826"/>
                  </a:lnTo>
                  <a:lnTo>
                    <a:pt x="1898" y="800"/>
                  </a:lnTo>
                  <a:lnTo>
                    <a:pt x="1916" y="772"/>
                  </a:lnTo>
                  <a:lnTo>
                    <a:pt x="1930" y="740"/>
                  </a:lnTo>
                  <a:lnTo>
                    <a:pt x="1940" y="704"/>
                  </a:lnTo>
                  <a:lnTo>
                    <a:pt x="1940" y="704"/>
                  </a:lnTo>
                  <a:lnTo>
                    <a:pt x="1954" y="746"/>
                  </a:lnTo>
                  <a:lnTo>
                    <a:pt x="1970" y="784"/>
                  </a:lnTo>
                  <a:lnTo>
                    <a:pt x="1990" y="816"/>
                  </a:lnTo>
                  <a:lnTo>
                    <a:pt x="2014" y="846"/>
                  </a:lnTo>
                  <a:lnTo>
                    <a:pt x="2038" y="870"/>
                  </a:lnTo>
                  <a:lnTo>
                    <a:pt x="2064" y="890"/>
                  </a:lnTo>
                  <a:lnTo>
                    <a:pt x="2092" y="908"/>
                  </a:lnTo>
                  <a:lnTo>
                    <a:pt x="2122" y="922"/>
                  </a:lnTo>
                  <a:lnTo>
                    <a:pt x="2152" y="932"/>
                  </a:lnTo>
                  <a:lnTo>
                    <a:pt x="2182" y="938"/>
                  </a:lnTo>
                  <a:lnTo>
                    <a:pt x="2212" y="942"/>
                  </a:lnTo>
                  <a:lnTo>
                    <a:pt x="2242" y="942"/>
                  </a:lnTo>
                  <a:lnTo>
                    <a:pt x="2272" y="940"/>
                  </a:lnTo>
                  <a:lnTo>
                    <a:pt x="2300" y="934"/>
                  </a:lnTo>
                  <a:lnTo>
                    <a:pt x="2328" y="926"/>
                  </a:lnTo>
                  <a:lnTo>
                    <a:pt x="2352" y="916"/>
                  </a:lnTo>
                  <a:lnTo>
                    <a:pt x="2352" y="916"/>
                  </a:lnTo>
                  <a:lnTo>
                    <a:pt x="2360" y="922"/>
                  </a:lnTo>
                  <a:lnTo>
                    <a:pt x="2368" y="928"/>
                  </a:lnTo>
                  <a:lnTo>
                    <a:pt x="2376" y="930"/>
                  </a:lnTo>
                  <a:lnTo>
                    <a:pt x="2382" y="930"/>
                  </a:lnTo>
                  <a:lnTo>
                    <a:pt x="2388" y="930"/>
                  </a:lnTo>
                  <a:lnTo>
                    <a:pt x="2394" y="928"/>
                  </a:lnTo>
                  <a:lnTo>
                    <a:pt x="2404" y="920"/>
                  </a:lnTo>
                  <a:lnTo>
                    <a:pt x="2412" y="908"/>
                  </a:lnTo>
                  <a:lnTo>
                    <a:pt x="2418" y="896"/>
                  </a:lnTo>
                  <a:lnTo>
                    <a:pt x="2422" y="882"/>
                  </a:lnTo>
                  <a:lnTo>
                    <a:pt x="2426" y="870"/>
                  </a:lnTo>
                  <a:lnTo>
                    <a:pt x="2426" y="870"/>
                  </a:lnTo>
                  <a:lnTo>
                    <a:pt x="2432" y="854"/>
                  </a:lnTo>
                  <a:lnTo>
                    <a:pt x="2440" y="840"/>
                  </a:lnTo>
                  <a:lnTo>
                    <a:pt x="2452" y="828"/>
                  </a:lnTo>
                  <a:lnTo>
                    <a:pt x="2466" y="818"/>
                  </a:lnTo>
                  <a:lnTo>
                    <a:pt x="2480" y="814"/>
                  </a:lnTo>
                  <a:lnTo>
                    <a:pt x="2486" y="814"/>
                  </a:lnTo>
                  <a:lnTo>
                    <a:pt x="2494" y="814"/>
                  </a:lnTo>
                  <a:lnTo>
                    <a:pt x="2502" y="816"/>
                  </a:lnTo>
                  <a:lnTo>
                    <a:pt x="2508" y="820"/>
                  </a:lnTo>
                  <a:lnTo>
                    <a:pt x="2514" y="826"/>
                  </a:lnTo>
                  <a:lnTo>
                    <a:pt x="2520" y="832"/>
                  </a:lnTo>
                  <a:lnTo>
                    <a:pt x="2520" y="832"/>
                  </a:lnTo>
                  <a:lnTo>
                    <a:pt x="2524" y="840"/>
                  </a:lnTo>
                  <a:lnTo>
                    <a:pt x="2528" y="848"/>
                  </a:lnTo>
                  <a:lnTo>
                    <a:pt x="2530" y="856"/>
                  </a:lnTo>
                  <a:lnTo>
                    <a:pt x="2530" y="862"/>
                  </a:lnTo>
                  <a:lnTo>
                    <a:pt x="2530" y="870"/>
                  </a:lnTo>
                  <a:lnTo>
                    <a:pt x="2528" y="876"/>
                  </a:lnTo>
                  <a:lnTo>
                    <a:pt x="2520" y="886"/>
                  </a:lnTo>
                  <a:lnTo>
                    <a:pt x="2510" y="896"/>
                  </a:lnTo>
                  <a:lnTo>
                    <a:pt x="2498" y="904"/>
                  </a:lnTo>
                  <a:lnTo>
                    <a:pt x="2482" y="908"/>
                  </a:lnTo>
                  <a:lnTo>
                    <a:pt x="2466" y="910"/>
                  </a:lnTo>
                  <a:lnTo>
                    <a:pt x="2466" y="910"/>
                  </a:lnTo>
                  <a:lnTo>
                    <a:pt x="2478" y="918"/>
                  </a:lnTo>
                  <a:lnTo>
                    <a:pt x="2492" y="926"/>
                  </a:lnTo>
                  <a:lnTo>
                    <a:pt x="2504" y="930"/>
                  </a:lnTo>
                  <a:lnTo>
                    <a:pt x="2518" y="934"/>
                  </a:lnTo>
                  <a:lnTo>
                    <a:pt x="2530" y="936"/>
                  </a:lnTo>
                  <a:lnTo>
                    <a:pt x="2544" y="936"/>
                  </a:lnTo>
                  <a:lnTo>
                    <a:pt x="2556" y="936"/>
                  </a:lnTo>
                  <a:lnTo>
                    <a:pt x="2568" y="934"/>
                  </a:lnTo>
                  <a:lnTo>
                    <a:pt x="2580" y="930"/>
                  </a:lnTo>
                  <a:lnTo>
                    <a:pt x="2592" y="924"/>
                  </a:lnTo>
                  <a:lnTo>
                    <a:pt x="2602" y="916"/>
                  </a:lnTo>
                  <a:lnTo>
                    <a:pt x="2610" y="908"/>
                  </a:lnTo>
                  <a:lnTo>
                    <a:pt x="2618" y="898"/>
                  </a:lnTo>
                  <a:lnTo>
                    <a:pt x="2624" y="886"/>
                  </a:lnTo>
                  <a:lnTo>
                    <a:pt x="2630" y="874"/>
                  </a:lnTo>
                  <a:lnTo>
                    <a:pt x="2632" y="860"/>
                  </a:lnTo>
                  <a:lnTo>
                    <a:pt x="2632" y="860"/>
                  </a:lnTo>
                  <a:lnTo>
                    <a:pt x="2632" y="846"/>
                  </a:lnTo>
                  <a:lnTo>
                    <a:pt x="2630" y="832"/>
                  </a:lnTo>
                  <a:lnTo>
                    <a:pt x="2624" y="818"/>
                  </a:lnTo>
                  <a:lnTo>
                    <a:pt x="2614" y="804"/>
                  </a:lnTo>
                  <a:lnTo>
                    <a:pt x="2604" y="792"/>
                  </a:lnTo>
                  <a:lnTo>
                    <a:pt x="2592" y="780"/>
                  </a:lnTo>
                  <a:lnTo>
                    <a:pt x="2578" y="770"/>
                  </a:lnTo>
                  <a:lnTo>
                    <a:pt x="2562" y="762"/>
                  </a:lnTo>
                  <a:lnTo>
                    <a:pt x="2546" y="754"/>
                  </a:lnTo>
                  <a:lnTo>
                    <a:pt x="2528" y="750"/>
                  </a:lnTo>
                  <a:lnTo>
                    <a:pt x="2512" y="748"/>
                  </a:lnTo>
                  <a:lnTo>
                    <a:pt x="2494" y="750"/>
                  </a:lnTo>
                  <a:lnTo>
                    <a:pt x="2478" y="752"/>
                  </a:lnTo>
                  <a:lnTo>
                    <a:pt x="2462" y="760"/>
                  </a:lnTo>
                  <a:lnTo>
                    <a:pt x="2448" y="772"/>
                  </a:lnTo>
                  <a:lnTo>
                    <a:pt x="2436" y="786"/>
                  </a:lnTo>
                  <a:lnTo>
                    <a:pt x="2436" y="786"/>
                  </a:lnTo>
                  <a:lnTo>
                    <a:pt x="2420" y="808"/>
                  </a:lnTo>
                  <a:lnTo>
                    <a:pt x="2410" y="826"/>
                  </a:lnTo>
                  <a:lnTo>
                    <a:pt x="2394" y="856"/>
                  </a:lnTo>
                  <a:lnTo>
                    <a:pt x="2386" y="866"/>
                  </a:lnTo>
                  <a:lnTo>
                    <a:pt x="2378" y="872"/>
                  </a:lnTo>
                  <a:lnTo>
                    <a:pt x="2370" y="876"/>
                  </a:lnTo>
                  <a:lnTo>
                    <a:pt x="2356" y="876"/>
                  </a:lnTo>
                  <a:lnTo>
                    <a:pt x="2356" y="876"/>
                  </a:lnTo>
                  <a:lnTo>
                    <a:pt x="2368" y="864"/>
                  </a:lnTo>
                  <a:lnTo>
                    <a:pt x="2376" y="850"/>
                  </a:lnTo>
                  <a:lnTo>
                    <a:pt x="2384" y="838"/>
                  </a:lnTo>
                  <a:lnTo>
                    <a:pt x="2390" y="824"/>
                  </a:lnTo>
                  <a:lnTo>
                    <a:pt x="2394" y="810"/>
                  </a:lnTo>
                  <a:lnTo>
                    <a:pt x="2398" y="796"/>
                  </a:lnTo>
                  <a:lnTo>
                    <a:pt x="2400" y="782"/>
                  </a:lnTo>
                  <a:lnTo>
                    <a:pt x="2402" y="768"/>
                  </a:lnTo>
                  <a:lnTo>
                    <a:pt x="2400" y="740"/>
                  </a:lnTo>
                  <a:lnTo>
                    <a:pt x="2394" y="714"/>
                  </a:lnTo>
                  <a:lnTo>
                    <a:pt x="2390" y="704"/>
                  </a:lnTo>
                  <a:lnTo>
                    <a:pt x="2386" y="692"/>
                  </a:lnTo>
                  <a:lnTo>
                    <a:pt x="2378" y="684"/>
                  </a:lnTo>
                  <a:lnTo>
                    <a:pt x="2372" y="674"/>
                  </a:lnTo>
                  <a:lnTo>
                    <a:pt x="2372" y="674"/>
                  </a:lnTo>
                  <a:lnTo>
                    <a:pt x="2360" y="664"/>
                  </a:lnTo>
                  <a:lnTo>
                    <a:pt x="2348" y="656"/>
                  </a:lnTo>
                  <a:lnTo>
                    <a:pt x="2334" y="650"/>
                  </a:lnTo>
                  <a:lnTo>
                    <a:pt x="2320" y="646"/>
                  </a:lnTo>
                  <a:lnTo>
                    <a:pt x="2306" y="642"/>
                  </a:lnTo>
                  <a:lnTo>
                    <a:pt x="2292" y="642"/>
                  </a:lnTo>
                  <a:lnTo>
                    <a:pt x="2280" y="644"/>
                  </a:lnTo>
                  <a:lnTo>
                    <a:pt x="2266" y="648"/>
                  </a:lnTo>
                  <a:lnTo>
                    <a:pt x="2256" y="656"/>
                  </a:lnTo>
                  <a:lnTo>
                    <a:pt x="2246" y="664"/>
                  </a:lnTo>
                  <a:lnTo>
                    <a:pt x="2238" y="678"/>
                  </a:lnTo>
                  <a:lnTo>
                    <a:pt x="2234" y="692"/>
                  </a:lnTo>
                  <a:lnTo>
                    <a:pt x="2230" y="710"/>
                  </a:lnTo>
                  <a:lnTo>
                    <a:pt x="2232" y="732"/>
                  </a:lnTo>
                  <a:lnTo>
                    <a:pt x="2236" y="756"/>
                  </a:lnTo>
                  <a:lnTo>
                    <a:pt x="2242" y="784"/>
                  </a:lnTo>
                  <a:lnTo>
                    <a:pt x="2242" y="784"/>
                  </a:lnTo>
                  <a:lnTo>
                    <a:pt x="2254" y="772"/>
                  </a:lnTo>
                  <a:lnTo>
                    <a:pt x="2264" y="760"/>
                  </a:lnTo>
                  <a:lnTo>
                    <a:pt x="2272" y="750"/>
                  </a:lnTo>
                  <a:lnTo>
                    <a:pt x="2282" y="744"/>
                  </a:lnTo>
                  <a:lnTo>
                    <a:pt x="2292" y="740"/>
                  </a:lnTo>
                  <a:lnTo>
                    <a:pt x="2302" y="736"/>
                  </a:lnTo>
                  <a:lnTo>
                    <a:pt x="2310" y="736"/>
                  </a:lnTo>
                  <a:lnTo>
                    <a:pt x="2318" y="736"/>
                  </a:lnTo>
                  <a:lnTo>
                    <a:pt x="2326" y="738"/>
                  </a:lnTo>
                  <a:lnTo>
                    <a:pt x="2332" y="740"/>
                  </a:lnTo>
                  <a:lnTo>
                    <a:pt x="2338" y="746"/>
                  </a:lnTo>
                  <a:lnTo>
                    <a:pt x="2344" y="752"/>
                  </a:lnTo>
                  <a:lnTo>
                    <a:pt x="2350" y="758"/>
                  </a:lnTo>
                  <a:lnTo>
                    <a:pt x="2352" y="764"/>
                  </a:lnTo>
                  <a:lnTo>
                    <a:pt x="2356" y="774"/>
                  </a:lnTo>
                  <a:lnTo>
                    <a:pt x="2356" y="782"/>
                  </a:lnTo>
                  <a:lnTo>
                    <a:pt x="2356" y="782"/>
                  </a:lnTo>
                  <a:lnTo>
                    <a:pt x="2356" y="800"/>
                  </a:lnTo>
                  <a:lnTo>
                    <a:pt x="2352" y="816"/>
                  </a:lnTo>
                  <a:lnTo>
                    <a:pt x="2344" y="832"/>
                  </a:lnTo>
                  <a:lnTo>
                    <a:pt x="2334" y="846"/>
                  </a:lnTo>
                  <a:lnTo>
                    <a:pt x="2322" y="858"/>
                  </a:lnTo>
                  <a:lnTo>
                    <a:pt x="2308" y="868"/>
                  </a:lnTo>
                  <a:lnTo>
                    <a:pt x="2292" y="876"/>
                  </a:lnTo>
                  <a:lnTo>
                    <a:pt x="2276" y="880"/>
                  </a:lnTo>
                  <a:lnTo>
                    <a:pt x="2276" y="880"/>
                  </a:lnTo>
                  <a:lnTo>
                    <a:pt x="2280" y="862"/>
                  </a:lnTo>
                  <a:lnTo>
                    <a:pt x="2280" y="846"/>
                  </a:lnTo>
                  <a:lnTo>
                    <a:pt x="2278" y="836"/>
                  </a:lnTo>
                  <a:lnTo>
                    <a:pt x="2272" y="826"/>
                  </a:lnTo>
                  <a:lnTo>
                    <a:pt x="2266" y="820"/>
                  </a:lnTo>
                  <a:lnTo>
                    <a:pt x="2260" y="816"/>
                  </a:lnTo>
                  <a:lnTo>
                    <a:pt x="2254" y="812"/>
                  </a:lnTo>
                  <a:lnTo>
                    <a:pt x="2254" y="812"/>
                  </a:lnTo>
                  <a:lnTo>
                    <a:pt x="2248" y="826"/>
                  </a:lnTo>
                  <a:lnTo>
                    <a:pt x="2240" y="838"/>
                  </a:lnTo>
                  <a:lnTo>
                    <a:pt x="2230" y="848"/>
                  </a:lnTo>
                  <a:lnTo>
                    <a:pt x="2218" y="858"/>
                  </a:lnTo>
                  <a:lnTo>
                    <a:pt x="2204" y="866"/>
                  </a:lnTo>
                  <a:lnTo>
                    <a:pt x="2188" y="872"/>
                  </a:lnTo>
                  <a:lnTo>
                    <a:pt x="2172" y="876"/>
                  </a:lnTo>
                  <a:lnTo>
                    <a:pt x="2156" y="878"/>
                  </a:lnTo>
                  <a:lnTo>
                    <a:pt x="2140" y="876"/>
                  </a:lnTo>
                  <a:lnTo>
                    <a:pt x="2124" y="872"/>
                  </a:lnTo>
                  <a:lnTo>
                    <a:pt x="2110" y="864"/>
                  </a:lnTo>
                  <a:lnTo>
                    <a:pt x="2096" y="854"/>
                  </a:lnTo>
                  <a:lnTo>
                    <a:pt x="2086" y="840"/>
                  </a:lnTo>
                  <a:lnTo>
                    <a:pt x="2078" y="820"/>
                  </a:lnTo>
                  <a:lnTo>
                    <a:pt x="2074" y="798"/>
                  </a:lnTo>
                  <a:lnTo>
                    <a:pt x="2072" y="770"/>
                  </a:lnTo>
                  <a:lnTo>
                    <a:pt x="2072" y="770"/>
                  </a:lnTo>
                  <a:lnTo>
                    <a:pt x="2064" y="778"/>
                  </a:lnTo>
                  <a:lnTo>
                    <a:pt x="2054" y="784"/>
                  </a:lnTo>
                  <a:lnTo>
                    <a:pt x="2042" y="784"/>
                  </a:lnTo>
                  <a:lnTo>
                    <a:pt x="2030" y="782"/>
                  </a:lnTo>
                  <a:lnTo>
                    <a:pt x="2018" y="776"/>
                  </a:lnTo>
                  <a:lnTo>
                    <a:pt x="2008" y="766"/>
                  </a:lnTo>
                  <a:lnTo>
                    <a:pt x="1998" y="752"/>
                  </a:lnTo>
                  <a:lnTo>
                    <a:pt x="1992" y="732"/>
                  </a:lnTo>
                  <a:lnTo>
                    <a:pt x="1992" y="732"/>
                  </a:lnTo>
                  <a:lnTo>
                    <a:pt x="1992" y="720"/>
                  </a:lnTo>
                  <a:lnTo>
                    <a:pt x="1994" y="706"/>
                  </a:lnTo>
                  <a:lnTo>
                    <a:pt x="2002" y="692"/>
                  </a:lnTo>
                  <a:lnTo>
                    <a:pt x="2012" y="678"/>
                  </a:lnTo>
                  <a:lnTo>
                    <a:pt x="2018" y="674"/>
                  </a:lnTo>
                  <a:lnTo>
                    <a:pt x="2024" y="670"/>
                  </a:lnTo>
                  <a:lnTo>
                    <a:pt x="2032" y="666"/>
                  </a:lnTo>
                  <a:lnTo>
                    <a:pt x="2040" y="666"/>
                  </a:lnTo>
                  <a:lnTo>
                    <a:pt x="2050" y="666"/>
                  </a:lnTo>
                  <a:lnTo>
                    <a:pt x="2060" y="668"/>
                  </a:lnTo>
                  <a:lnTo>
                    <a:pt x="2072" y="674"/>
                  </a:lnTo>
                  <a:lnTo>
                    <a:pt x="2084" y="682"/>
                  </a:lnTo>
                  <a:lnTo>
                    <a:pt x="2084" y="682"/>
                  </a:lnTo>
                  <a:lnTo>
                    <a:pt x="2086" y="672"/>
                  </a:lnTo>
                  <a:lnTo>
                    <a:pt x="2086" y="662"/>
                  </a:lnTo>
                  <a:lnTo>
                    <a:pt x="2084" y="654"/>
                  </a:lnTo>
                  <a:lnTo>
                    <a:pt x="2080" y="646"/>
                  </a:lnTo>
                  <a:lnTo>
                    <a:pt x="2074" y="638"/>
                  </a:lnTo>
                  <a:lnTo>
                    <a:pt x="2066" y="632"/>
                  </a:lnTo>
                  <a:lnTo>
                    <a:pt x="2056" y="624"/>
                  </a:lnTo>
                  <a:lnTo>
                    <a:pt x="2046" y="620"/>
                  </a:lnTo>
                  <a:lnTo>
                    <a:pt x="2046" y="620"/>
                  </a:lnTo>
                  <a:lnTo>
                    <a:pt x="2058" y="612"/>
                  </a:lnTo>
                  <a:lnTo>
                    <a:pt x="2072" y="608"/>
                  </a:lnTo>
                  <a:lnTo>
                    <a:pt x="2084" y="606"/>
                  </a:lnTo>
                  <a:lnTo>
                    <a:pt x="2098" y="606"/>
                  </a:lnTo>
                  <a:lnTo>
                    <a:pt x="2110" y="608"/>
                  </a:lnTo>
                  <a:lnTo>
                    <a:pt x="2120" y="610"/>
                  </a:lnTo>
                  <a:lnTo>
                    <a:pt x="2132" y="616"/>
                  </a:lnTo>
                  <a:lnTo>
                    <a:pt x="2140" y="620"/>
                  </a:lnTo>
                  <a:lnTo>
                    <a:pt x="2148" y="628"/>
                  </a:lnTo>
                  <a:lnTo>
                    <a:pt x="2152" y="636"/>
                  </a:lnTo>
                  <a:lnTo>
                    <a:pt x="2156" y="644"/>
                  </a:lnTo>
                  <a:lnTo>
                    <a:pt x="2156" y="654"/>
                  </a:lnTo>
                  <a:lnTo>
                    <a:pt x="2154" y="664"/>
                  </a:lnTo>
                  <a:lnTo>
                    <a:pt x="2150" y="674"/>
                  </a:lnTo>
                  <a:lnTo>
                    <a:pt x="2142" y="684"/>
                  </a:lnTo>
                  <a:lnTo>
                    <a:pt x="2130" y="694"/>
                  </a:lnTo>
                  <a:lnTo>
                    <a:pt x="2130" y="694"/>
                  </a:lnTo>
                  <a:lnTo>
                    <a:pt x="2144" y="686"/>
                  </a:lnTo>
                  <a:lnTo>
                    <a:pt x="2156" y="680"/>
                  </a:lnTo>
                  <a:lnTo>
                    <a:pt x="2166" y="670"/>
                  </a:lnTo>
                  <a:lnTo>
                    <a:pt x="2176" y="662"/>
                  </a:lnTo>
                  <a:lnTo>
                    <a:pt x="2182" y="652"/>
                  </a:lnTo>
                  <a:lnTo>
                    <a:pt x="2186" y="642"/>
                  </a:lnTo>
                  <a:lnTo>
                    <a:pt x="2188" y="632"/>
                  </a:lnTo>
                  <a:lnTo>
                    <a:pt x="2188" y="622"/>
                  </a:lnTo>
                  <a:lnTo>
                    <a:pt x="2188" y="612"/>
                  </a:lnTo>
                  <a:lnTo>
                    <a:pt x="2186" y="602"/>
                  </a:lnTo>
                  <a:lnTo>
                    <a:pt x="2182" y="594"/>
                  </a:lnTo>
                  <a:lnTo>
                    <a:pt x="2176" y="584"/>
                  </a:lnTo>
                  <a:lnTo>
                    <a:pt x="2164" y="566"/>
                  </a:lnTo>
                  <a:lnTo>
                    <a:pt x="2146" y="550"/>
                  </a:lnTo>
                  <a:lnTo>
                    <a:pt x="2126" y="536"/>
                  </a:lnTo>
                  <a:lnTo>
                    <a:pt x="2102" y="528"/>
                  </a:lnTo>
                  <a:lnTo>
                    <a:pt x="2090" y="526"/>
                  </a:lnTo>
                  <a:lnTo>
                    <a:pt x="2078" y="524"/>
                  </a:lnTo>
                  <a:lnTo>
                    <a:pt x="2064" y="524"/>
                  </a:lnTo>
                  <a:lnTo>
                    <a:pt x="2052" y="524"/>
                  </a:lnTo>
                  <a:lnTo>
                    <a:pt x="2038" y="528"/>
                  </a:lnTo>
                  <a:lnTo>
                    <a:pt x="2026" y="532"/>
                  </a:lnTo>
                  <a:lnTo>
                    <a:pt x="2014" y="538"/>
                  </a:lnTo>
                  <a:lnTo>
                    <a:pt x="2002" y="546"/>
                  </a:lnTo>
                  <a:lnTo>
                    <a:pt x="1990" y="556"/>
                  </a:lnTo>
                  <a:lnTo>
                    <a:pt x="1978" y="568"/>
                  </a:lnTo>
                  <a:lnTo>
                    <a:pt x="1968" y="582"/>
                  </a:lnTo>
                  <a:lnTo>
                    <a:pt x="1958" y="598"/>
                  </a:lnTo>
                  <a:lnTo>
                    <a:pt x="1958" y="598"/>
                  </a:lnTo>
                  <a:lnTo>
                    <a:pt x="1954" y="562"/>
                  </a:lnTo>
                  <a:lnTo>
                    <a:pt x="1946" y="526"/>
                  </a:lnTo>
                  <a:lnTo>
                    <a:pt x="1934" y="492"/>
                  </a:lnTo>
                  <a:lnTo>
                    <a:pt x="1928" y="476"/>
                  </a:lnTo>
                  <a:lnTo>
                    <a:pt x="1918" y="460"/>
                  </a:lnTo>
                  <a:lnTo>
                    <a:pt x="1908" y="444"/>
                  </a:lnTo>
                  <a:lnTo>
                    <a:pt x="1898" y="430"/>
                  </a:lnTo>
                  <a:lnTo>
                    <a:pt x="1886" y="416"/>
                  </a:lnTo>
                  <a:lnTo>
                    <a:pt x="1874" y="402"/>
                  </a:lnTo>
                  <a:lnTo>
                    <a:pt x="1858" y="390"/>
                  </a:lnTo>
                  <a:lnTo>
                    <a:pt x="1844" y="378"/>
                  </a:lnTo>
                  <a:lnTo>
                    <a:pt x="1826" y="366"/>
                  </a:lnTo>
                  <a:lnTo>
                    <a:pt x="1808" y="356"/>
                  </a:lnTo>
                  <a:lnTo>
                    <a:pt x="1788" y="346"/>
                  </a:lnTo>
                  <a:lnTo>
                    <a:pt x="1768" y="338"/>
                  </a:lnTo>
                  <a:lnTo>
                    <a:pt x="1746" y="330"/>
                  </a:lnTo>
                  <a:lnTo>
                    <a:pt x="1722" y="322"/>
                  </a:lnTo>
                  <a:lnTo>
                    <a:pt x="1696" y="316"/>
                  </a:lnTo>
                  <a:lnTo>
                    <a:pt x="1670" y="312"/>
                  </a:lnTo>
                  <a:lnTo>
                    <a:pt x="1642" y="308"/>
                  </a:lnTo>
                  <a:lnTo>
                    <a:pt x="1612" y="304"/>
                  </a:lnTo>
                  <a:lnTo>
                    <a:pt x="1548" y="302"/>
                  </a:lnTo>
                  <a:lnTo>
                    <a:pt x="1478" y="304"/>
                  </a:lnTo>
                  <a:lnTo>
                    <a:pt x="1402" y="312"/>
                  </a:lnTo>
                  <a:lnTo>
                    <a:pt x="1318" y="324"/>
                  </a:lnTo>
                  <a:lnTo>
                    <a:pt x="1318" y="324"/>
                  </a:lnTo>
                  <a:lnTo>
                    <a:pt x="1290" y="332"/>
                  </a:lnTo>
                  <a:lnTo>
                    <a:pt x="1252" y="342"/>
                  </a:lnTo>
                  <a:lnTo>
                    <a:pt x="1216" y="356"/>
                  </a:lnTo>
                  <a:lnTo>
                    <a:pt x="1200" y="362"/>
                  </a:lnTo>
                  <a:lnTo>
                    <a:pt x="1190" y="370"/>
                  </a:lnTo>
                  <a:lnTo>
                    <a:pt x="1190" y="370"/>
                  </a:lnTo>
                  <a:lnTo>
                    <a:pt x="1126" y="414"/>
                  </a:lnTo>
                  <a:lnTo>
                    <a:pt x="1088" y="444"/>
                  </a:lnTo>
                  <a:lnTo>
                    <a:pt x="1046" y="478"/>
                  </a:lnTo>
                  <a:lnTo>
                    <a:pt x="1006" y="512"/>
                  </a:lnTo>
                  <a:lnTo>
                    <a:pt x="970" y="548"/>
                  </a:lnTo>
                  <a:lnTo>
                    <a:pt x="938" y="582"/>
                  </a:lnTo>
                  <a:lnTo>
                    <a:pt x="926" y="600"/>
                  </a:lnTo>
                  <a:lnTo>
                    <a:pt x="914" y="616"/>
                  </a:lnTo>
                  <a:lnTo>
                    <a:pt x="914" y="616"/>
                  </a:lnTo>
                  <a:lnTo>
                    <a:pt x="938" y="556"/>
                  </a:lnTo>
                  <a:lnTo>
                    <a:pt x="964" y="494"/>
                  </a:lnTo>
                  <a:lnTo>
                    <a:pt x="964" y="494"/>
                  </a:lnTo>
                  <a:lnTo>
                    <a:pt x="986" y="436"/>
                  </a:lnTo>
                  <a:lnTo>
                    <a:pt x="1006" y="378"/>
                  </a:lnTo>
                  <a:lnTo>
                    <a:pt x="1012" y="352"/>
                  </a:lnTo>
                  <a:lnTo>
                    <a:pt x="1018" y="326"/>
                  </a:lnTo>
                  <a:lnTo>
                    <a:pt x="1020" y="300"/>
                  </a:lnTo>
                  <a:lnTo>
                    <a:pt x="1020" y="278"/>
                  </a:lnTo>
                  <a:lnTo>
                    <a:pt x="1020" y="278"/>
                  </a:lnTo>
                  <a:lnTo>
                    <a:pt x="1022" y="254"/>
                  </a:lnTo>
                  <a:lnTo>
                    <a:pt x="1022" y="226"/>
                  </a:lnTo>
                  <a:lnTo>
                    <a:pt x="1020" y="198"/>
                  </a:lnTo>
                  <a:lnTo>
                    <a:pt x="1016" y="170"/>
                  </a:lnTo>
                  <a:lnTo>
                    <a:pt x="1016" y="170"/>
                  </a:lnTo>
                  <a:lnTo>
                    <a:pt x="1008" y="150"/>
                  </a:lnTo>
                  <a:lnTo>
                    <a:pt x="998" y="130"/>
                  </a:lnTo>
                  <a:lnTo>
                    <a:pt x="990" y="112"/>
                  </a:lnTo>
                  <a:lnTo>
                    <a:pt x="978" y="94"/>
                  </a:lnTo>
                  <a:lnTo>
                    <a:pt x="968" y="78"/>
                  </a:lnTo>
                  <a:lnTo>
                    <a:pt x="956" y="64"/>
                  </a:lnTo>
                  <a:lnTo>
                    <a:pt x="942" y="52"/>
                  </a:lnTo>
                  <a:lnTo>
                    <a:pt x="930" y="40"/>
                  </a:lnTo>
                  <a:lnTo>
                    <a:pt x="916" y="30"/>
                  </a:lnTo>
                  <a:lnTo>
                    <a:pt x="900" y="22"/>
                  </a:lnTo>
                  <a:lnTo>
                    <a:pt x="884" y="14"/>
                  </a:lnTo>
                  <a:lnTo>
                    <a:pt x="868" y="8"/>
                  </a:lnTo>
                  <a:lnTo>
                    <a:pt x="852" y="4"/>
                  </a:lnTo>
                  <a:lnTo>
                    <a:pt x="836" y="2"/>
                  </a:lnTo>
                  <a:lnTo>
                    <a:pt x="818" y="0"/>
                  </a:lnTo>
                  <a:lnTo>
                    <a:pt x="800" y="0"/>
                  </a:lnTo>
                  <a:lnTo>
                    <a:pt x="800" y="0"/>
                  </a:lnTo>
                  <a:lnTo>
                    <a:pt x="808" y="12"/>
                  </a:lnTo>
                  <a:lnTo>
                    <a:pt x="814" y="20"/>
                  </a:lnTo>
                  <a:lnTo>
                    <a:pt x="830" y="32"/>
                  </a:lnTo>
                  <a:lnTo>
                    <a:pt x="844" y="42"/>
                  </a:lnTo>
                  <a:lnTo>
                    <a:pt x="850" y="46"/>
                  </a:lnTo>
                  <a:lnTo>
                    <a:pt x="854" y="52"/>
                  </a:lnTo>
                  <a:lnTo>
                    <a:pt x="854" y="52"/>
                  </a:lnTo>
                  <a:lnTo>
                    <a:pt x="836" y="48"/>
                  </a:lnTo>
                  <a:lnTo>
                    <a:pt x="810" y="46"/>
                  </a:lnTo>
                  <a:lnTo>
                    <a:pt x="796" y="48"/>
                  </a:lnTo>
                  <a:lnTo>
                    <a:pt x="780" y="50"/>
                  </a:lnTo>
                  <a:lnTo>
                    <a:pt x="764" y="54"/>
                  </a:lnTo>
                  <a:lnTo>
                    <a:pt x="748" y="60"/>
                  </a:lnTo>
                  <a:lnTo>
                    <a:pt x="732" y="66"/>
                  </a:lnTo>
                  <a:lnTo>
                    <a:pt x="716" y="76"/>
                  </a:lnTo>
                  <a:lnTo>
                    <a:pt x="702" y="88"/>
                  </a:lnTo>
                  <a:lnTo>
                    <a:pt x="686" y="102"/>
                  </a:lnTo>
                  <a:lnTo>
                    <a:pt x="674" y="120"/>
                  </a:lnTo>
                  <a:lnTo>
                    <a:pt x="662" y="140"/>
                  </a:lnTo>
                  <a:lnTo>
                    <a:pt x="652" y="162"/>
                  </a:lnTo>
                  <a:lnTo>
                    <a:pt x="642" y="188"/>
                  </a:lnTo>
                  <a:lnTo>
                    <a:pt x="642" y="188"/>
                  </a:lnTo>
                  <a:lnTo>
                    <a:pt x="672" y="164"/>
                  </a:lnTo>
                  <a:lnTo>
                    <a:pt x="700" y="146"/>
                  </a:lnTo>
                  <a:lnTo>
                    <a:pt x="728" y="134"/>
                  </a:lnTo>
                  <a:lnTo>
                    <a:pt x="740" y="130"/>
                  </a:lnTo>
                  <a:lnTo>
                    <a:pt x="754" y="128"/>
                  </a:lnTo>
                  <a:lnTo>
                    <a:pt x="766" y="126"/>
                  </a:lnTo>
                  <a:lnTo>
                    <a:pt x="778" y="126"/>
                  </a:lnTo>
                  <a:lnTo>
                    <a:pt x="790" y="126"/>
                  </a:lnTo>
                  <a:lnTo>
                    <a:pt x="800" y="130"/>
                  </a:lnTo>
                  <a:lnTo>
                    <a:pt x="810" y="132"/>
                  </a:lnTo>
                  <a:lnTo>
                    <a:pt x="820" y="138"/>
                  </a:lnTo>
                  <a:lnTo>
                    <a:pt x="840" y="150"/>
                  </a:lnTo>
                  <a:lnTo>
                    <a:pt x="840" y="150"/>
                  </a:lnTo>
                  <a:lnTo>
                    <a:pt x="822" y="150"/>
                  </a:lnTo>
                  <a:lnTo>
                    <a:pt x="806" y="154"/>
                  </a:lnTo>
                  <a:lnTo>
                    <a:pt x="792" y="162"/>
                  </a:lnTo>
                  <a:lnTo>
                    <a:pt x="778" y="170"/>
                  </a:lnTo>
                  <a:lnTo>
                    <a:pt x="766" y="182"/>
                  </a:lnTo>
                  <a:lnTo>
                    <a:pt x="756" y="196"/>
                  </a:lnTo>
                  <a:lnTo>
                    <a:pt x="748" y="210"/>
                  </a:lnTo>
                  <a:lnTo>
                    <a:pt x="738" y="228"/>
                  </a:lnTo>
                  <a:lnTo>
                    <a:pt x="738" y="228"/>
                  </a:lnTo>
                  <a:lnTo>
                    <a:pt x="756" y="222"/>
                  </a:lnTo>
                  <a:lnTo>
                    <a:pt x="774" y="218"/>
                  </a:lnTo>
                  <a:lnTo>
                    <a:pt x="792" y="218"/>
                  </a:lnTo>
                  <a:lnTo>
                    <a:pt x="808" y="220"/>
                  </a:lnTo>
                  <a:lnTo>
                    <a:pt x="826" y="226"/>
                  </a:lnTo>
                  <a:lnTo>
                    <a:pt x="842" y="234"/>
                  </a:lnTo>
                  <a:lnTo>
                    <a:pt x="858" y="244"/>
                  </a:lnTo>
                  <a:lnTo>
                    <a:pt x="872" y="256"/>
                  </a:lnTo>
                  <a:lnTo>
                    <a:pt x="886" y="272"/>
                  </a:lnTo>
                  <a:lnTo>
                    <a:pt x="898" y="288"/>
                  </a:lnTo>
                  <a:lnTo>
                    <a:pt x="906" y="306"/>
                  </a:lnTo>
                  <a:lnTo>
                    <a:pt x="914" y="328"/>
                  </a:lnTo>
                  <a:lnTo>
                    <a:pt x="918" y="350"/>
                  </a:lnTo>
                  <a:lnTo>
                    <a:pt x="920" y="372"/>
                  </a:lnTo>
                  <a:lnTo>
                    <a:pt x="920" y="398"/>
                  </a:lnTo>
                  <a:lnTo>
                    <a:pt x="916" y="424"/>
                  </a:lnTo>
                  <a:lnTo>
                    <a:pt x="916" y="424"/>
                  </a:lnTo>
                  <a:lnTo>
                    <a:pt x="910" y="448"/>
                  </a:lnTo>
                  <a:lnTo>
                    <a:pt x="902" y="474"/>
                  </a:lnTo>
                  <a:lnTo>
                    <a:pt x="902" y="474"/>
                  </a:lnTo>
                  <a:lnTo>
                    <a:pt x="902" y="456"/>
                  </a:lnTo>
                  <a:lnTo>
                    <a:pt x="900" y="440"/>
                  </a:lnTo>
                  <a:lnTo>
                    <a:pt x="896" y="424"/>
                  </a:lnTo>
                  <a:lnTo>
                    <a:pt x="892" y="410"/>
                  </a:lnTo>
                  <a:lnTo>
                    <a:pt x="884" y="398"/>
                  </a:lnTo>
                  <a:lnTo>
                    <a:pt x="876" y="386"/>
                  </a:lnTo>
                  <a:lnTo>
                    <a:pt x="866" y="374"/>
                  </a:lnTo>
                  <a:lnTo>
                    <a:pt x="854" y="366"/>
                  </a:lnTo>
                  <a:lnTo>
                    <a:pt x="842" y="356"/>
                  </a:lnTo>
                  <a:lnTo>
                    <a:pt x="828" y="350"/>
                  </a:lnTo>
                  <a:lnTo>
                    <a:pt x="814" y="344"/>
                  </a:lnTo>
                  <a:lnTo>
                    <a:pt x="798" y="338"/>
                  </a:lnTo>
                  <a:lnTo>
                    <a:pt x="782" y="336"/>
                  </a:lnTo>
                  <a:lnTo>
                    <a:pt x="766" y="332"/>
                  </a:lnTo>
                  <a:lnTo>
                    <a:pt x="732" y="330"/>
                  </a:lnTo>
                  <a:lnTo>
                    <a:pt x="732" y="330"/>
                  </a:lnTo>
                  <a:lnTo>
                    <a:pt x="702" y="336"/>
                  </a:lnTo>
                  <a:lnTo>
                    <a:pt x="664" y="346"/>
                  </a:lnTo>
                  <a:lnTo>
                    <a:pt x="646" y="352"/>
                  </a:lnTo>
                  <a:lnTo>
                    <a:pt x="628" y="360"/>
                  </a:lnTo>
                  <a:lnTo>
                    <a:pt x="610" y="370"/>
                  </a:lnTo>
                  <a:lnTo>
                    <a:pt x="592" y="380"/>
                  </a:lnTo>
                  <a:lnTo>
                    <a:pt x="592" y="380"/>
                  </a:lnTo>
                  <a:lnTo>
                    <a:pt x="580" y="388"/>
                  </a:lnTo>
                  <a:lnTo>
                    <a:pt x="580" y="388"/>
                  </a:lnTo>
                  <a:lnTo>
                    <a:pt x="562" y="406"/>
                  </a:lnTo>
                  <a:lnTo>
                    <a:pt x="548" y="422"/>
                  </a:lnTo>
                  <a:lnTo>
                    <a:pt x="538" y="440"/>
                  </a:lnTo>
                  <a:lnTo>
                    <a:pt x="532" y="458"/>
                  </a:lnTo>
                  <a:lnTo>
                    <a:pt x="528" y="476"/>
                  </a:lnTo>
                  <a:lnTo>
                    <a:pt x="528" y="494"/>
                  </a:lnTo>
                  <a:lnTo>
                    <a:pt x="530" y="510"/>
                  </a:lnTo>
                  <a:lnTo>
                    <a:pt x="534" y="526"/>
                  </a:lnTo>
                  <a:lnTo>
                    <a:pt x="542" y="542"/>
                  </a:lnTo>
                  <a:lnTo>
                    <a:pt x="550" y="556"/>
                  </a:lnTo>
                  <a:lnTo>
                    <a:pt x="560" y="568"/>
                  </a:lnTo>
                  <a:lnTo>
                    <a:pt x="570" y="580"/>
                  </a:lnTo>
                  <a:lnTo>
                    <a:pt x="582" y="588"/>
                  </a:lnTo>
                  <a:lnTo>
                    <a:pt x="596" y="596"/>
                  </a:lnTo>
                  <a:lnTo>
                    <a:pt x="608" y="600"/>
                  </a:lnTo>
                  <a:lnTo>
                    <a:pt x="622" y="602"/>
                  </a:lnTo>
                  <a:lnTo>
                    <a:pt x="622" y="602"/>
                  </a:lnTo>
                  <a:lnTo>
                    <a:pt x="638" y="602"/>
                  </a:lnTo>
                  <a:lnTo>
                    <a:pt x="650" y="600"/>
                  </a:lnTo>
                  <a:lnTo>
                    <a:pt x="662" y="596"/>
                  </a:lnTo>
                  <a:lnTo>
                    <a:pt x="674" y="590"/>
                  </a:lnTo>
                  <a:lnTo>
                    <a:pt x="684" y="584"/>
                  </a:lnTo>
                  <a:lnTo>
                    <a:pt x="694" y="576"/>
                  </a:lnTo>
                  <a:lnTo>
                    <a:pt x="702" y="566"/>
                  </a:lnTo>
                  <a:lnTo>
                    <a:pt x="708" y="554"/>
                  </a:lnTo>
                  <a:lnTo>
                    <a:pt x="712" y="544"/>
                  </a:lnTo>
                  <a:lnTo>
                    <a:pt x="716" y="530"/>
                  </a:lnTo>
                  <a:lnTo>
                    <a:pt x="718" y="518"/>
                  </a:lnTo>
                  <a:lnTo>
                    <a:pt x="718" y="504"/>
                  </a:lnTo>
                  <a:lnTo>
                    <a:pt x="718" y="492"/>
                  </a:lnTo>
                  <a:lnTo>
                    <a:pt x="716" y="478"/>
                  </a:lnTo>
                  <a:lnTo>
                    <a:pt x="712" y="464"/>
                  </a:lnTo>
                  <a:lnTo>
                    <a:pt x="706" y="450"/>
                  </a:lnTo>
                  <a:lnTo>
                    <a:pt x="706" y="450"/>
                  </a:lnTo>
                  <a:lnTo>
                    <a:pt x="700" y="466"/>
                  </a:lnTo>
                  <a:lnTo>
                    <a:pt x="692" y="480"/>
                  </a:lnTo>
                  <a:lnTo>
                    <a:pt x="684" y="490"/>
                  </a:lnTo>
                  <a:lnTo>
                    <a:pt x="672" y="498"/>
                  </a:lnTo>
                  <a:lnTo>
                    <a:pt x="660" y="502"/>
                  </a:lnTo>
                  <a:lnTo>
                    <a:pt x="652" y="504"/>
                  </a:lnTo>
                  <a:lnTo>
                    <a:pt x="646" y="502"/>
                  </a:lnTo>
                  <a:lnTo>
                    <a:pt x="638" y="502"/>
                  </a:lnTo>
                  <a:lnTo>
                    <a:pt x="632" y="498"/>
                  </a:lnTo>
                  <a:lnTo>
                    <a:pt x="626" y="494"/>
                  </a:lnTo>
                  <a:lnTo>
                    <a:pt x="618" y="488"/>
                  </a:lnTo>
                  <a:lnTo>
                    <a:pt x="618" y="488"/>
                  </a:lnTo>
                  <a:lnTo>
                    <a:pt x="612" y="480"/>
                  </a:lnTo>
                  <a:lnTo>
                    <a:pt x="608" y="472"/>
                  </a:lnTo>
                  <a:lnTo>
                    <a:pt x="606" y="466"/>
                  </a:lnTo>
                  <a:lnTo>
                    <a:pt x="604" y="458"/>
                  </a:lnTo>
                  <a:lnTo>
                    <a:pt x="604" y="450"/>
                  </a:lnTo>
                  <a:lnTo>
                    <a:pt x="604" y="442"/>
                  </a:lnTo>
                  <a:lnTo>
                    <a:pt x="610" y="426"/>
                  </a:lnTo>
                  <a:lnTo>
                    <a:pt x="618" y="412"/>
                  </a:lnTo>
                  <a:lnTo>
                    <a:pt x="632" y="396"/>
                  </a:lnTo>
                  <a:lnTo>
                    <a:pt x="646" y="382"/>
                  </a:lnTo>
                  <a:lnTo>
                    <a:pt x="664" y="370"/>
                  </a:lnTo>
                  <a:lnTo>
                    <a:pt x="664" y="370"/>
                  </a:lnTo>
                  <a:lnTo>
                    <a:pt x="680" y="362"/>
                  </a:lnTo>
                  <a:lnTo>
                    <a:pt x="696" y="356"/>
                  </a:lnTo>
                  <a:lnTo>
                    <a:pt x="712" y="354"/>
                  </a:lnTo>
                  <a:lnTo>
                    <a:pt x="734" y="352"/>
                  </a:lnTo>
                  <a:lnTo>
                    <a:pt x="734" y="352"/>
                  </a:lnTo>
                  <a:lnTo>
                    <a:pt x="750" y="352"/>
                  </a:lnTo>
                  <a:lnTo>
                    <a:pt x="764" y="356"/>
                  </a:lnTo>
                  <a:lnTo>
                    <a:pt x="780" y="362"/>
                  </a:lnTo>
                  <a:lnTo>
                    <a:pt x="794" y="370"/>
                  </a:lnTo>
                  <a:lnTo>
                    <a:pt x="808" y="380"/>
                  </a:lnTo>
                  <a:lnTo>
                    <a:pt x="820" y="394"/>
                  </a:lnTo>
                  <a:lnTo>
                    <a:pt x="830" y="408"/>
                  </a:lnTo>
                  <a:lnTo>
                    <a:pt x="840" y="426"/>
                  </a:lnTo>
                  <a:lnTo>
                    <a:pt x="846" y="446"/>
                  </a:lnTo>
                  <a:lnTo>
                    <a:pt x="850" y="470"/>
                  </a:lnTo>
                  <a:lnTo>
                    <a:pt x="852" y="494"/>
                  </a:lnTo>
                  <a:lnTo>
                    <a:pt x="850" y="522"/>
                  </a:lnTo>
                  <a:lnTo>
                    <a:pt x="846" y="554"/>
                  </a:lnTo>
                  <a:lnTo>
                    <a:pt x="838" y="586"/>
                  </a:lnTo>
                  <a:lnTo>
                    <a:pt x="826" y="622"/>
                  </a:lnTo>
                  <a:lnTo>
                    <a:pt x="810" y="660"/>
                  </a:lnTo>
                  <a:lnTo>
                    <a:pt x="810" y="660"/>
                  </a:lnTo>
                  <a:lnTo>
                    <a:pt x="810" y="642"/>
                  </a:lnTo>
                  <a:lnTo>
                    <a:pt x="806" y="624"/>
                  </a:lnTo>
                  <a:lnTo>
                    <a:pt x="802" y="608"/>
                  </a:lnTo>
                  <a:lnTo>
                    <a:pt x="794" y="592"/>
                  </a:lnTo>
                  <a:lnTo>
                    <a:pt x="786" y="578"/>
                  </a:lnTo>
                  <a:lnTo>
                    <a:pt x="776" y="566"/>
                  </a:lnTo>
                  <a:lnTo>
                    <a:pt x="762" y="560"/>
                  </a:lnTo>
                  <a:lnTo>
                    <a:pt x="756" y="558"/>
                  </a:lnTo>
                  <a:lnTo>
                    <a:pt x="748" y="556"/>
                  </a:lnTo>
                  <a:lnTo>
                    <a:pt x="748" y="556"/>
                  </a:lnTo>
                  <a:lnTo>
                    <a:pt x="756" y="572"/>
                  </a:lnTo>
                  <a:lnTo>
                    <a:pt x="764" y="590"/>
                  </a:lnTo>
                  <a:lnTo>
                    <a:pt x="768" y="608"/>
                  </a:lnTo>
                  <a:lnTo>
                    <a:pt x="770" y="628"/>
                  </a:lnTo>
                  <a:lnTo>
                    <a:pt x="770" y="646"/>
                  </a:lnTo>
                  <a:lnTo>
                    <a:pt x="766" y="666"/>
                  </a:lnTo>
                  <a:lnTo>
                    <a:pt x="764" y="686"/>
                  </a:lnTo>
                  <a:lnTo>
                    <a:pt x="758" y="706"/>
                  </a:lnTo>
                  <a:lnTo>
                    <a:pt x="750" y="724"/>
                  </a:lnTo>
                  <a:lnTo>
                    <a:pt x="740" y="742"/>
                  </a:lnTo>
                  <a:lnTo>
                    <a:pt x="730" y="760"/>
                  </a:lnTo>
                  <a:lnTo>
                    <a:pt x="718" y="776"/>
                  </a:lnTo>
                  <a:lnTo>
                    <a:pt x="706" y="790"/>
                  </a:lnTo>
                  <a:lnTo>
                    <a:pt x="692" y="804"/>
                  </a:lnTo>
                  <a:lnTo>
                    <a:pt x="676" y="814"/>
                  </a:lnTo>
                  <a:lnTo>
                    <a:pt x="660" y="824"/>
                  </a:lnTo>
                  <a:lnTo>
                    <a:pt x="660" y="824"/>
                  </a:lnTo>
                  <a:lnTo>
                    <a:pt x="648" y="814"/>
                  </a:lnTo>
                  <a:lnTo>
                    <a:pt x="630" y="804"/>
                  </a:lnTo>
                  <a:lnTo>
                    <a:pt x="608" y="796"/>
                  </a:lnTo>
                  <a:lnTo>
                    <a:pt x="584" y="790"/>
                  </a:lnTo>
                  <a:lnTo>
                    <a:pt x="562" y="786"/>
                  </a:lnTo>
                  <a:lnTo>
                    <a:pt x="540" y="786"/>
                  </a:lnTo>
                  <a:lnTo>
                    <a:pt x="530" y="788"/>
                  </a:lnTo>
                  <a:lnTo>
                    <a:pt x="522" y="790"/>
                  </a:lnTo>
                  <a:lnTo>
                    <a:pt x="516" y="796"/>
                  </a:lnTo>
                  <a:lnTo>
                    <a:pt x="510" y="802"/>
                  </a:lnTo>
                  <a:lnTo>
                    <a:pt x="510" y="802"/>
                  </a:lnTo>
                  <a:lnTo>
                    <a:pt x="520" y="770"/>
                  </a:lnTo>
                  <a:lnTo>
                    <a:pt x="528" y="740"/>
                  </a:lnTo>
                  <a:lnTo>
                    <a:pt x="532" y="712"/>
                  </a:lnTo>
                  <a:lnTo>
                    <a:pt x="532" y="686"/>
                  </a:lnTo>
                  <a:lnTo>
                    <a:pt x="528" y="662"/>
                  </a:lnTo>
                  <a:lnTo>
                    <a:pt x="526" y="654"/>
                  </a:lnTo>
                  <a:lnTo>
                    <a:pt x="522" y="644"/>
                  </a:lnTo>
                  <a:lnTo>
                    <a:pt x="516" y="638"/>
                  </a:lnTo>
                  <a:lnTo>
                    <a:pt x="510" y="632"/>
                  </a:lnTo>
                  <a:lnTo>
                    <a:pt x="502" y="626"/>
                  </a:lnTo>
                  <a:lnTo>
                    <a:pt x="494" y="624"/>
                  </a:lnTo>
                  <a:lnTo>
                    <a:pt x="494" y="624"/>
                  </a:lnTo>
                  <a:lnTo>
                    <a:pt x="496" y="640"/>
                  </a:lnTo>
                  <a:lnTo>
                    <a:pt x="496" y="658"/>
                  </a:lnTo>
                  <a:lnTo>
                    <a:pt x="492" y="678"/>
                  </a:lnTo>
                  <a:lnTo>
                    <a:pt x="484" y="698"/>
                  </a:lnTo>
                  <a:lnTo>
                    <a:pt x="474" y="718"/>
                  </a:lnTo>
                  <a:lnTo>
                    <a:pt x="460" y="738"/>
                  </a:lnTo>
                  <a:lnTo>
                    <a:pt x="444" y="758"/>
                  </a:lnTo>
                  <a:lnTo>
                    <a:pt x="426" y="778"/>
                  </a:lnTo>
                  <a:lnTo>
                    <a:pt x="404" y="798"/>
                  </a:lnTo>
                  <a:lnTo>
                    <a:pt x="380" y="816"/>
                  </a:lnTo>
                  <a:lnTo>
                    <a:pt x="356" y="832"/>
                  </a:lnTo>
                  <a:lnTo>
                    <a:pt x="328" y="846"/>
                  </a:lnTo>
                  <a:lnTo>
                    <a:pt x="300" y="858"/>
                  </a:lnTo>
                  <a:lnTo>
                    <a:pt x="270" y="866"/>
                  </a:lnTo>
                  <a:lnTo>
                    <a:pt x="238" y="872"/>
                  </a:lnTo>
                  <a:lnTo>
                    <a:pt x="206" y="876"/>
                  </a:lnTo>
                  <a:lnTo>
                    <a:pt x="206" y="876"/>
                  </a:lnTo>
                  <a:lnTo>
                    <a:pt x="158" y="874"/>
                  </a:lnTo>
                  <a:lnTo>
                    <a:pt x="110" y="870"/>
                  </a:lnTo>
                  <a:lnTo>
                    <a:pt x="62" y="860"/>
                  </a:lnTo>
                  <a:lnTo>
                    <a:pt x="16" y="848"/>
                  </a:lnTo>
                  <a:lnTo>
                    <a:pt x="0" y="898"/>
                  </a:lnTo>
                  <a:close/>
                  <a:moveTo>
                    <a:pt x="686" y="528"/>
                  </a:moveTo>
                  <a:lnTo>
                    <a:pt x="686" y="528"/>
                  </a:lnTo>
                  <a:lnTo>
                    <a:pt x="682" y="540"/>
                  </a:lnTo>
                  <a:lnTo>
                    <a:pt x="676" y="550"/>
                  </a:lnTo>
                  <a:lnTo>
                    <a:pt x="670" y="560"/>
                  </a:lnTo>
                  <a:lnTo>
                    <a:pt x="662" y="566"/>
                  </a:lnTo>
                  <a:lnTo>
                    <a:pt x="654" y="572"/>
                  </a:lnTo>
                  <a:lnTo>
                    <a:pt x="646" y="576"/>
                  </a:lnTo>
                  <a:lnTo>
                    <a:pt x="636" y="578"/>
                  </a:lnTo>
                  <a:lnTo>
                    <a:pt x="628" y="578"/>
                  </a:lnTo>
                  <a:lnTo>
                    <a:pt x="618" y="578"/>
                  </a:lnTo>
                  <a:lnTo>
                    <a:pt x="610" y="576"/>
                  </a:lnTo>
                  <a:lnTo>
                    <a:pt x="602" y="572"/>
                  </a:lnTo>
                  <a:lnTo>
                    <a:pt x="596" y="568"/>
                  </a:lnTo>
                  <a:lnTo>
                    <a:pt x="590" y="562"/>
                  </a:lnTo>
                  <a:lnTo>
                    <a:pt x="586" y="554"/>
                  </a:lnTo>
                  <a:lnTo>
                    <a:pt x="582" y="546"/>
                  </a:lnTo>
                  <a:lnTo>
                    <a:pt x="582" y="538"/>
                  </a:lnTo>
                  <a:lnTo>
                    <a:pt x="582" y="538"/>
                  </a:lnTo>
                  <a:lnTo>
                    <a:pt x="594" y="544"/>
                  </a:lnTo>
                  <a:lnTo>
                    <a:pt x="606" y="550"/>
                  </a:lnTo>
                  <a:lnTo>
                    <a:pt x="620" y="552"/>
                  </a:lnTo>
                  <a:lnTo>
                    <a:pt x="634" y="552"/>
                  </a:lnTo>
                  <a:lnTo>
                    <a:pt x="648" y="550"/>
                  </a:lnTo>
                  <a:lnTo>
                    <a:pt x="662" y="546"/>
                  </a:lnTo>
                  <a:lnTo>
                    <a:pt x="674" y="538"/>
                  </a:lnTo>
                  <a:lnTo>
                    <a:pt x="686" y="528"/>
                  </a:lnTo>
                  <a:lnTo>
                    <a:pt x="686" y="528"/>
                  </a:lnTo>
                  <a:close/>
                  <a:moveTo>
                    <a:pt x="796" y="188"/>
                  </a:moveTo>
                  <a:lnTo>
                    <a:pt x="796" y="188"/>
                  </a:lnTo>
                  <a:lnTo>
                    <a:pt x="806" y="180"/>
                  </a:lnTo>
                  <a:lnTo>
                    <a:pt x="818" y="176"/>
                  </a:lnTo>
                  <a:lnTo>
                    <a:pt x="832" y="172"/>
                  </a:lnTo>
                  <a:lnTo>
                    <a:pt x="848" y="168"/>
                  </a:lnTo>
                  <a:lnTo>
                    <a:pt x="862" y="168"/>
                  </a:lnTo>
                  <a:lnTo>
                    <a:pt x="876" y="168"/>
                  </a:lnTo>
                  <a:lnTo>
                    <a:pt x="902" y="170"/>
                  </a:lnTo>
                  <a:lnTo>
                    <a:pt x="902" y="170"/>
                  </a:lnTo>
                  <a:lnTo>
                    <a:pt x="902" y="162"/>
                  </a:lnTo>
                  <a:lnTo>
                    <a:pt x="900" y="154"/>
                  </a:lnTo>
                  <a:lnTo>
                    <a:pt x="898" y="144"/>
                  </a:lnTo>
                  <a:lnTo>
                    <a:pt x="894" y="136"/>
                  </a:lnTo>
                  <a:lnTo>
                    <a:pt x="882" y="122"/>
                  </a:lnTo>
                  <a:lnTo>
                    <a:pt x="866" y="110"/>
                  </a:lnTo>
                  <a:lnTo>
                    <a:pt x="846" y="100"/>
                  </a:lnTo>
                  <a:lnTo>
                    <a:pt x="824" y="94"/>
                  </a:lnTo>
                  <a:lnTo>
                    <a:pt x="798" y="92"/>
                  </a:lnTo>
                  <a:lnTo>
                    <a:pt x="772" y="94"/>
                  </a:lnTo>
                  <a:lnTo>
                    <a:pt x="772" y="94"/>
                  </a:lnTo>
                  <a:lnTo>
                    <a:pt x="792" y="86"/>
                  </a:lnTo>
                  <a:lnTo>
                    <a:pt x="814" y="80"/>
                  </a:lnTo>
                  <a:lnTo>
                    <a:pt x="840" y="78"/>
                  </a:lnTo>
                  <a:lnTo>
                    <a:pt x="864" y="80"/>
                  </a:lnTo>
                  <a:lnTo>
                    <a:pt x="878" y="82"/>
                  </a:lnTo>
                  <a:lnTo>
                    <a:pt x="890" y="86"/>
                  </a:lnTo>
                  <a:lnTo>
                    <a:pt x="902" y="92"/>
                  </a:lnTo>
                  <a:lnTo>
                    <a:pt x="914" y="98"/>
                  </a:lnTo>
                  <a:lnTo>
                    <a:pt x="924" y="108"/>
                  </a:lnTo>
                  <a:lnTo>
                    <a:pt x="936" y="118"/>
                  </a:lnTo>
                  <a:lnTo>
                    <a:pt x="944" y="130"/>
                  </a:lnTo>
                  <a:lnTo>
                    <a:pt x="954" y="144"/>
                  </a:lnTo>
                  <a:lnTo>
                    <a:pt x="954" y="144"/>
                  </a:lnTo>
                  <a:lnTo>
                    <a:pt x="968" y="170"/>
                  </a:lnTo>
                  <a:lnTo>
                    <a:pt x="978" y="198"/>
                  </a:lnTo>
                  <a:lnTo>
                    <a:pt x="984" y="228"/>
                  </a:lnTo>
                  <a:lnTo>
                    <a:pt x="986" y="258"/>
                  </a:lnTo>
                  <a:lnTo>
                    <a:pt x="986" y="292"/>
                  </a:lnTo>
                  <a:lnTo>
                    <a:pt x="982" y="326"/>
                  </a:lnTo>
                  <a:lnTo>
                    <a:pt x="974" y="364"/>
                  </a:lnTo>
                  <a:lnTo>
                    <a:pt x="960" y="406"/>
                  </a:lnTo>
                  <a:lnTo>
                    <a:pt x="960" y="406"/>
                  </a:lnTo>
                  <a:lnTo>
                    <a:pt x="966" y="374"/>
                  </a:lnTo>
                  <a:lnTo>
                    <a:pt x="968" y="344"/>
                  </a:lnTo>
                  <a:lnTo>
                    <a:pt x="968" y="320"/>
                  </a:lnTo>
                  <a:lnTo>
                    <a:pt x="968" y="298"/>
                  </a:lnTo>
                  <a:lnTo>
                    <a:pt x="964" y="278"/>
                  </a:lnTo>
                  <a:lnTo>
                    <a:pt x="958" y="262"/>
                  </a:lnTo>
                  <a:lnTo>
                    <a:pt x="950" y="248"/>
                  </a:lnTo>
                  <a:lnTo>
                    <a:pt x="940" y="234"/>
                  </a:lnTo>
                  <a:lnTo>
                    <a:pt x="928" y="224"/>
                  </a:lnTo>
                  <a:lnTo>
                    <a:pt x="914" y="216"/>
                  </a:lnTo>
                  <a:lnTo>
                    <a:pt x="900" y="210"/>
                  </a:lnTo>
                  <a:lnTo>
                    <a:pt x="882" y="204"/>
                  </a:lnTo>
                  <a:lnTo>
                    <a:pt x="862" y="198"/>
                  </a:lnTo>
                  <a:lnTo>
                    <a:pt x="842" y="194"/>
                  </a:lnTo>
                  <a:lnTo>
                    <a:pt x="796" y="188"/>
                  </a:lnTo>
                  <a:lnTo>
                    <a:pt x="796" y="188"/>
                  </a:lnTo>
                  <a:close/>
                  <a:moveTo>
                    <a:pt x="2000" y="616"/>
                  </a:moveTo>
                  <a:lnTo>
                    <a:pt x="2000" y="616"/>
                  </a:lnTo>
                  <a:lnTo>
                    <a:pt x="2002" y="604"/>
                  </a:lnTo>
                  <a:lnTo>
                    <a:pt x="2006" y="592"/>
                  </a:lnTo>
                  <a:lnTo>
                    <a:pt x="2010" y="582"/>
                  </a:lnTo>
                  <a:lnTo>
                    <a:pt x="2016" y="572"/>
                  </a:lnTo>
                  <a:lnTo>
                    <a:pt x="2024" y="564"/>
                  </a:lnTo>
                  <a:lnTo>
                    <a:pt x="2032" y="558"/>
                  </a:lnTo>
                  <a:lnTo>
                    <a:pt x="2040" y="552"/>
                  </a:lnTo>
                  <a:lnTo>
                    <a:pt x="2048" y="548"/>
                  </a:lnTo>
                  <a:lnTo>
                    <a:pt x="2058" y="546"/>
                  </a:lnTo>
                  <a:lnTo>
                    <a:pt x="2068" y="544"/>
                  </a:lnTo>
                  <a:lnTo>
                    <a:pt x="2078" y="544"/>
                  </a:lnTo>
                  <a:lnTo>
                    <a:pt x="2088" y="548"/>
                  </a:lnTo>
                  <a:lnTo>
                    <a:pt x="2098" y="552"/>
                  </a:lnTo>
                  <a:lnTo>
                    <a:pt x="2106" y="558"/>
                  </a:lnTo>
                  <a:lnTo>
                    <a:pt x="2116" y="566"/>
                  </a:lnTo>
                  <a:lnTo>
                    <a:pt x="2124" y="578"/>
                  </a:lnTo>
                  <a:lnTo>
                    <a:pt x="2124" y="578"/>
                  </a:lnTo>
                  <a:lnTo>
                    <a:pt x="2108" y="572"/>
                  </a:lnTo>
                  <a:lnTo>
                    <a:pt x="2090" y="572"/>
                  </a:lnTo>
                  <a:lnTo>
                    <a:pt x="2072" y="574"/>
                  </a:lnTo>
                  <a:lnTo>
                    <a:pt x="2054" y="578"/>
                  </a:lnTo>
                  <a:lnTo>
                    <a:pt x="2038" y="584"/>
                  </a:lnTo>
                  <a:lnTo>
                    <a:pt x="2022" y="594"/>
                  </a:lnTo>
                  <a:lnTo>
                    <a:pt x="2010" y="604"/>
                  </a:lnTo>
                  <a:lnTo>
                    <a:pt x="2000" y="616"/>
                  </a:lnTo>
                  <a:lnTo>
                    <a:pt x="2000" y="616"/>
                  </a:lnTo>
                  <a:close/>
                  <a:moveTo>
                    <a:pt x="2546" y="908"/>
                  </a:moveTo>
                  <a:lnTo>
                    <a:pt x="2546" y="908"/>
                  </a:lnTo>
                  <a:lnTo>
                    <a:pt x="2560" y="898"/>
                  </a:lnTo>
                  <a:lnTo>
                    <a:pt x="2570" y="886"/>
                  </a:lnTo>
                  <a:lnTo>
                    <a:pt x="2576" y="874"/>
                  </a:lnTo>
                  <a:lnTo>
                    <a:pt x="2582" y="862"/>
                  </a:lnTo>
                  <a:lnTo>
                    <a:pt x="2584" y="848"/>
                  </a:lnTo>
                  <a:lnTo>
                    <a:pt x="2584" y="834"/>
                  </a:lnTo>
                  <a:lnTo>
                    <a:pt x="2582" y="820"/>
                  </a:lnTo>
                  <a:lnTo>
                    <a:pt x="2578" y="806"/>
                  </a:lnTo>
                  <a:lnTo>
                    <a:pt x="2578" y="806"/>
                  </a:lnTo>
                  <a:lnTo>
                    <a:pt x="2586" y="810"/>
                  </a:lnTo>
                  <a:lnTo>
                    <a:pt x="2592" y="814"/>
                  </a:lnTo>
                  <a:lnTo>
                    <a:pt x="2598" y="820"/>
                  </a:lnTo>
                  <a:lnTo>
                    <a:pt x="2604" y="826"/>
                  </a:lnTo>
                  <a:lnTo>
                    <a:pt x="2606" y="834"/>
                  </a:lnTo>
                  <a:lnTo>
                    <a:pt x="2608" y="842"/>
                  </a:lnTo>
                  <a:lnTo>
                    <a:pt x="2608" y="850"/>
                  </a:lnTo>
                  <a:lnTo>
                    <a:pt x="2608" y="860"/>
                  </a:lnTo>
                  <a:lnTo>
                    <a:pt x="2604" y="868"/>
                  </a:lnTo>
                  <a:lnTo>
                    <a:pt x="2600" y="876"/>
                  </a:lnTo>
                  <a:lnTo>
                    <a:pt x="2596" y="884"/>
                  </a:lnTo>
                  <a:lnTo>
                    <a:pt x="2588" y="892"/>
                  </a:lnTo>
                  <a:lnTo>
                    <a:pt x="2580" y="898"/>
                  </a:lnTo>
                  <a:lnTo>
                    <a:pt x="2570" y="902"/>
                  </a:lnTo>
                  <a:lnTo>
                    <a:pt x="2560" y="906"/>
                  </a:lnTo>
                  <a:lnTo>
                    <a:pt x="2546" y="908"/>
                  </a:lnTo>
                  <a:lnTo>
                    <a:pt x="2546" y="908"/>
                  </a:lnTo>
                  <a:close/>
                  <a:moveTo>
                    <a:pt x="1520" y="810"/>
                  </a:moveTo>
                  <a:lnTo>
                    <a:pt x="1520" y="810"/>
                  </a:lnTo>
                  <a:lnTo>
                    <a:pt x="1510" y="786"/>
                  </a:lnTo>
                  <a:lnTo>
                    <a:pt x="1504" y="764"/>
                  </a:lnTo>
                  <a:lnTo>
                    <a:pt x="1500" y="744"/>
                  </a:lnTo>
                  <a:lnTo>
                    <a:pt x="1500" y="728"/>
                  </a:lnTo>
                  <a:lnTo>
                    <a:pt x="1504" y="714"/>
                  </a:lnTo>
                  <a:lnTo>
                    <a:pt x="1508" y="704"/>
                  </a:lnTo>
                  <a:lnTo>
                    <a:pt x="1516" y="694"/>
                  </a:lnTo>
                  <a:lnTo>
                    <a:pt x="1524" y="688"/>
                  </a:lnTo>
                  <a:lnTo>
                    <a:pt x="1536" y="682"/>
                  </a:lnTo>
                  <a:lnTo>
                    <a:pt x="1546" y="678"/>
                  </a:lnTo>
                  <a:lnTo>
                    <a:pt x="1558" y="676"/>
                  </a:lnTo>
                  <a:lnTo>
                    <a:pt x="1570" y="676"/>
                  </a:lnTo>
                  <a:lnTo>
                    <a:pt x="1594" y="678"/>
                  </a:lnTo>
                  <a:lnTo>
                    <a:pt x="1614" y="684"/>
                  </a:lnTo>
                  <a:lnTo>
                    <a:pt x="1614" y="684"/>
                  </a:lnTo>
                  <a:lnTo>
                    <a:pt x="1624" y="690"/>
                  </a:lnTo>
                  <a:lnTo>
                    <a:pt x="1632" y="698"/>
                  </a:lnTo>
                  <a:lnTo>
                    <a:pt x="1636" y="706"/>
                  </a:lnTo>
                  <a:lnTo>
                    <a:pt x="1638" y="714"/>
                  </a:lnTo>
                  <a:lnTo>
                    <a:pt x="1636" y="722"/>
                  </a:lnTo>
                  <a:lnTo>
                    <a:pt x="1632" y="728"/>
                  </a:lnTo>
                  <a:lnTo>
                    <a:pt x="1624" y="732"/>
                  </a:lnTo>
                  <a:lnTo>
                    <a:pt x="1616" y="732"/>
                  </a:lnTo>
                  <a:lnTo>
                    <a:pt x="1616" y="732"/>
                  </a:lnTo>
                  <a:lnTo>
                    <a:pt x="1588" y="726"/>
                  </a:lnTo>
                  <a:lnTo>
                    <a:pt x="1578" y="726"/>
                  </a:lnTo>
                  <a:lnTo>
                    <a:pt x="1570" y="726"/>
                  </a:lnTo>
                  <a:lnTo>
                    <a:pt x="1562" y="728"/>
                  </a:lnTo>
                  <a:lnTo>
                    <a:pt x="1556" y="732"/>
                  </a:lnTo>
                  <a:lnTo>
                    <a:pt x="1550" y="736"/>
                  </a:lnTo>
                  <a:lnTo>
                    <a:pt x="1546" y="742"/>
                  </a:lnTo>
                  <a:lnTo>
                    <a:pt x="1538" y="754"/>
                  </a:lnTo>
                  <a:lnTo>
                    <a:pt x="1532" y="770"/>
                  </a:lnTo>
                  <a:lnTo>
                    <a:pt x="1526" y="790"/>
                  </a:lnTo>
                  <a:lnTo>
                    <a:pt x="1520" y="810"/>
                  </a:lnTo>
                  <a:lnTo>
                    <a:pt x="1520" y="810"/>
                  </a:lnTo>
                  <a:close/>
                  <a:moveTo>
                    <a:pt x="1902" y="664"/>
                  </a:moveTo>
                  <a:lnTo>
                    <a:pt x="1902" y="664"/>
                  </a:lnTo>
                  <a:lnTo>
                    <a:pt x="1900" y="682"/>
                  </a:lnTo>
                  <a:lnTo>
                    <a:pt x="1898" y="700"/>
                  </a:lnTo>
                  <a:lnTo>
                    <a:pt x="1894" y="716"/>
                  </a:lnTo>
                  <a:lnTo>
                    <a:pt x="1890" y="732"/>
                  </a:lnTo>
                  <a:lnTo>
                    <a:pt x="1884" y="746"/>
                  </a:lnTo>
                  <a:lnTo>
                    <a:pt x="1878" y="760"/>
                  </a:lnTo>
                  <a:lnTo>
                    <a:pt x="1870" y="770"/>
                  </a:lnTo>
                  <a:lnTo>
                    <a:pt x="1862" y="780"/>
                  </a:lnTo>
                  <a:lnTo>
                    <a:pt x="1854" y="790"/>
                  </a:lnTo>
                  <a:lnTo>
                    <a:pt x="1844" y="796"/>
                  </a:lnTo>
                  <a:lnTo>
                    <a:pt x="1834" y="800"/>
                  </a:lnTo>
                  <a:lnTo>
                    <a:pt x="1824" y="802"/>
                  </a:lnTo>
                  <a:lnTo>
                    <a:pt x="1814" y="802"/>
                  </a:lnTo>
                  <a:lnTo>
                    <a:pt x="1804" y="800"/>
                  </a:lnTo>
                  <a:lnTo>
                    <a:pt x="1794" y="796"/>
                  </a:lnTo>
                  <a:lnTo>
                    <a:pt x="1784" y="788"/>
                  </a:lnTo>
                  <a:lnTo>
                    <a:pt x="1784" y="788"/>
                  </a:lnTo>
                  <a:lnTo>
                    <a:pt x="1802" y="782"/>
                  </a:lnTo>
                  <a:lnTo>
                    <a:pt x="1820" y="774"/>
                  </a:lnTo>
                  <a:lnTo>
                    <a:pt x="1836" y="764"/>
                  </a:lnTo>
                  <a:lnTo>
                    <a:pt x="1852" y="750"/>
                  </a:lnTo>
                  <a:lnTo>
                    <a:pt x="1866" y="734"/>
                  </a:lnTo>
                  <a:lnTo>
                    <a:pt x="1878" y="714"/>
                  </a:lnTo>
                  <a:lnTo>
                    <a:pt x="1890" y="692"/>
                  </a:lnTo>
                  <a:lnTo>
                    <a:pt x="1902" y="664"/>
                  </a:lnTo>
                  <a:lnTo>
                    <a:pt x="1902" y="664"/>
                  </a:lnTo>
                  <a:close/>
                  <a:moveTo>
                    <a:pt x="1038" y="804"/>
                  </a:moveTo>
                  <a:lnTo>
                    <a:pt x="1038" y="804"/>
                  </a:lnTo>
                  <a:lnTo>
                    <a:pt x="1038" y="794"/>
                  </a:lnTo>
                  <a:lnTo>
                    <a:pt x="1042" y="784"/>
                  </a:lnTo>
                  <a:lnTo>
                    <a:pt x="1046" y="774"/>
                  </a:lnTo>
                  <a:lnTo>
                    <a:pt x="1052" y="766"/>
                  </a:lnTo>
                  <a:lnTo>
                    <a:pt x="1058" y="760"/>
                  </a:lnTo>
                  <a:lnTo>
                    <a:pt x="1066" y="754"/>
                  </a:lnTo>
                  <a:lnTo>
                    <a:pt x="1076" y="748"/>
                  </a:lnTo>
                  <a:lnTo>
                    <a:pt x="1084" y="746"/>
                  </a:lnTo>
                  <a:lnTo>
                    <a:pt x="1094" y="744"/>
                  </a:lnTo>
                  <a:lnTo>
                    <a:pt x="1104" y="742"/>
                  </a:lnTo>
                  <a:lnTo>
                    <a:pt x="1114" y="742"/>
                  </a:lnTo>
                  <a:lnTo>
                    <a:pt x="1122" y="744"/>
                  </a:lnTo>
                  <a:lnTo>
                    <a:pt x="1132" y="746"/>
                  </a:lnTo>
                  <a:lnTo>
                    <a:pt x="1140" y="750"/>
                  </a:lnTo>
                  <a:lnTo>
                    <a:pt x="1148" y="756"/>
                  </a:lnTo>
                  <a:lnTo>
                    <a:pt x="1156" y="762"/>
                  </a:lnTo>
                  <a:lnTo>
                    <a:pt x="1156" y="762"/>
                  </a:lnTo>
                  <a:lnTo>
                    <a:pt x="1154" y="766"/>
                  </a:lnTo>
                  <a:lnTo>
                    <a:pt x="1150" y="768"/>
                  </a:lnTo>
                  <a:lnTo>
                    <a:pt x="1138" y="770"/>
                  </a:lnTo>
                  <a:lnTo>
                    <a:pt x="1104" y="772"/>
                  </a:lnTo>
                  <a:lnTo>
                    <a:pt x="1084" y="774"/>
                  </a:lnTo>
                  <a:lnTo>
                    <a:pt x="1064" y="780"/>
                  </a:lnTo>
                  <a:lnTo>
                    <a:pt x="1056" y="784"/>
                  </a:lnTo>
                  <a:lnTo>
                    <a:pt x="1048" y="790"/>
                  </a:lnTo>
                  <a:lnTo>
                    <a:pt x="1042" y="796"/>
                  </a:lnTo>
                  <a:lnTo>
                    <a:pt x="1038" y="804"/>
                  </a:lnTo>
                  <a:lnTo>
                    <a:pt x="1038" y="804"/>
                  </a:lnTo>
                  <a:close/>
                  <a:moveTo>
                    <a:pt x="192" y="914"/>
                  </a:moveTo>
                  <a:lnTo>
                    <a:pt x="192" y="914"/>
                  </a:lnTo>
                  <a:lnTo>
                    <a:pt x="242" y="908"/>
                  </a:lnTo>
                  <a:lnTo>
                    <a:pt x="288" y="900"/>
                  </a:lnTo>
                  <a:lnTo>
                    <a:pt x="332" y="888"/>
                  </a:lnTo>
                  <a:lnTo>
                    <a:pt x="370" y="872"/>
                  </a:lnTo>
                  <a:lnTo>
                    <a:pt x="402" y="856"/>
                  </a:lnTo>
                  <a:lnTo>
                    <a:pt x="430" y="836"/>
                  </a:lnTo>
                  <a:lnTo>
                    <a:pt x="454" y="818"/>
                  </a:lnTo>
                  <a:lnTo>
                    <a:pt x="470" y="798"/>
                  </a:lnTo>
                  <a:lnTo>
                    <a:pt x="470" y="798"/>
                  </a:lnTo>
                  <a:lnTo>
                    <a:pt x="474" y="812"/>
                  </a:lnTo>
                  <a:lnTo>
                    <a:pt x="472" y="824"/>
                  </a:lnTo>
                  <a:lnTo>
                    <a:pt x="470" y="838"/>
                  </a:lnTo>
                  <a:lnTo>
                    <a:pt x="466" y="850"/>
                  </a:lnTo>
                  <a:lnTo>
                    <a:pt x="456" y="868"/>
                  </a:lnTo>
                  <a:lnTo>
                    <a:pt x="452" y="876"/>
                  </a:lnTo>
                  <a:lnTo>
                    <a:pt x="452" y="876"/>
                  </a:lnTo>
                  <a:lnTo>
                    <a:pt x="500" y="856"/>
                  </a:lnTo>
                  <a:lnTo>
                    <a:pt x="522" y="848"/>
                  </a:lnTo>
                  <a:lnTo>
                    <a:pt x="544" y="844"/>
                  </a:lnTo>
                  <a:lnTo>
                    <a:pt x="564" y="840"/>
                  </a:lnTo>
                  <a:lnTo>
                    <a:pt x="586" y="838"/>
                  </a:lnTo>
                  <a:lnTo>
                    <a:pt x="608" y="842"/>
                  </a:lnTo>
                  <a:lnTo>
                    <a:pt x="628" y="848"/>
                  </a:lnTo>
                  <a:lnTo>
                    <a:pt x="628" y="848"/>
                  </a:lnTo>
                  <a:lnTo>
                    <a:pt x="610" y="858"/>
                  </a:lnTo>
                  <a:lnTo>
                    <a:pt x="588" y="868"/>
                  </a:lnTo>
                  <a:lnTo>
                    <a:pt x="566" y="878"/>
                  </a:lnTo>
                  <a:lnTo>
                    <a:pt x="542" y="886"/>
                  </a:lnTo>
                  <a:lnTo>
                    <a:pt x="488" y="900"/>
                  </a:lnTo>
                  <a:lnTo>
                    <a:pt x="432" y="912"/>
                  </a:lnTo>
                  <a:lnTo>
                    <a:pt x="372" y="918"/>
                  </a:lnTo>
                  <a:lnTo>
                    <a:pt x="312" y="922"/>
                  </a:lnTo>
                  <a:lnTo>
                    <a:pt x="282" y="922"/>
                  </a:lnTo>
                  <a:lnTo>
                    <a:pt x="252" y="920"/>
                  </a:lnTo>
                  <a:lnTo>
                    <a:pt x="222" y="918"/>
                  </a:lnTo>
                  <a:lnTo>
                    <a:pt x="192" y="914"/>
                  </a:lnTo>
                  <a:lnTo>
                    <a:pt x="192" y="914"/>
                  </a:lnTo>
                  <a:close/>
                </a:path>
              </a:pathLst>
            </a:custGeom>
            <a:solidFill>
              <a:srgbClr val="947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7"/>
            <p:cNvSpPr/>
            <p:nvPr/>
          </p:nvSpPr>
          <p:spPr>
            <a:xfrm>
              <a:off x="2023920" y="8305920"/>
              <a:ext cx="609480" cy="7617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384" h="480">
                  <a:moveTo>
                    <a:pt x="384" y="330"/>
                  </a:moveTo>
                  <a:lnTo>
                    <a:pt x="384" y="330"/>
                  </a:lnTo>
                  <a:lnTo>
                    <a:pt x="382" y="314"/>
                  </a:lnTo>
                  <a:lnTo>
                    <a:pt x="376" y="300"/>
                  </a:lnTo>
                  <a:lnTo>
                    <a:pt x="370" y="286"/>
                  </a:lnTo>
                  <a:lnTo>
                    <a:pt x="362" y="274"/>
                  </a:lnTo>
                  <a:lnTo>
                    <a:pt x="352" y="264"/>
                  </a:lnTo>
                  <a:lnTo>
                    <a:pt x="342" y="254"/>
                  </a:lnTo>
                  <a:lnTo>
                    <a:pt x="330" y="248"/>
                  </a:lnTo>
                  <a:lnTo>
                    <a:pt x="318" y="244"/>
                  </a:lnTo>
                  <a:lnTo>
                    <a:pt x="304" y="242"/>
                  </a:lnTo>
                  <a:lnTo>
                    <a:pt x="292" y="244"/>
                  </a:lnTo>
                  <a:lnTo>
                    <a:pt x="278" y="250"/>
                  </a:lnTo>
                  <a:lnTo>
                    <a:pt x="264" y="258"/>
                  </a:lnTo>
                  <a:lnTo>
                    <a:pt x="250" y="272"/>
                  </a:lnTo>
                  <a:lnTo>
                    <a:pt x="238" y="288"/>
                  </a:lnTo>
                  <a:lnTo>
                    <a:pt x="226" y="310"/>
                  </a:lnTo>
                  <a:lnTo>
                    <a:pt x="214" y="338"/>
                  </a:lnTo>
                  <a:lnTo>
                    <a:pt x="214" y="338"/>
                  </a:lnTo>
                  <a:lnTo>
                    <a:pt x="232" y="332"/>
                  </a:lnTo>
                  <a:lnTo>
                    <a:pt x="246" y="330"/>
                  </a:lnTo>
                  <a:lnTo>
                    <a:pt x="260" y="328"/>
                  </a:lnTo>
                  <a:lnTo>
                    <a:pt x="272" y="330"/>
                  </a:lnTo>
                  <a:lnTo>
                    <a:pt x="282" y="332"/>
                  </a:lnTo>
                  <a:lnTo>
                    <a:pt x="290" y="334"/>
                  </a:lnTo>
                  <a:lnTo>
                    <a:pt x="298" y="338"/>
                  </a:lnTo>
                  <a:lnTo>
                    <a:pt x="304" y="344"/>
                  </a:lnTo>
                  <a:lnTo>
                    <a:pt x="310" y="350"/>
                  </a:lnTo>
                  <a:lnTo>
                    <a:pt x="312" y="358"/>
                  </a:lnTo>
                  <a:lnTo>
                    <a:pt x="316" y="364"/>
                  </a:lnTo>
                  <a:lnTo>
                    <a:pt x="316" y="372"/>
                  </a:lnTo>
                  <a:lnTo>
                    <a:pt x="316" y="380"/>
                  </a:lnTo>
                  <a:lnTo>
                    <a:pt x="314" y="388"/>
                  </a:lnTo>
                  <a:lnTo>
                    <a:pt x="308" y="404"/>
                  </a:lnTo>
                  <a:lnTo>
                    <a:pt x="308" y="404"/>
                  </a:lnTo>
                  <a:lnTo>
                    <a:pt x="296" y="418"/>
                  </a:lnTo>
                  <a:lnTo>
                    <a:pt x="282" y="428"/>
                  </a:lnTo>
                  <a:lnTo>
                    <a:pt x="266" y="436"/>
                  </a:lnTo>
                  <a:lnTo>
                    <a:pt x="250" y="442"/>
                  </a:lnTo>
                  <a:lnTo>
                    <a:pt x="232" y="444"/>
                  </a:lnTo>
                  <a:lnTo>
                    <a:pt x="214" y="442"/>
                  </a:lnTo>
                  <a:lnTo>
                    <a:pt x="198" y="438"/>
                  </a:lnTo>
                  <a:lnTo>
                    <a:pt x="184" y="432"/>
                  </a:lnTo>
                  <a:lnTo>
                    <a:pt x="184" y="432"/>
                  </a:lnTo>
                  <a:lnTo>
                    <a:pt x="198" y="420"/>
                  </a:lnTo>
                  <a:lnTo>
                    <a:pt x="206" y="410"/>
                  </a:lnTo>
                  <a:lnTo>
                    <a:pt x="212" y="398"/>
                  </a:lnTo>
                  <a:lnTo>
                    <a:pt x="212" y="388"/>
                  </a:lnTo>
                  <a:lnTo>
                    <a:pt x="212" y="378"/>
                  </a:lnTo>
                  <a:lnTo>
                    <a:pt x="210" y="372"/>
                  </a:lnTo>
                  <a:lnTo>
                    <a:pt x="206" y="366"/>
                  </a:lnTo>
                  <a:lnTo>
                    <a:pt x="206" y="366"/>
                  </a:lnTo>
                  <a:lnTo>
                    <a:pt x="194" y="374"/>
                  </a:lnTo>
                  <a:lnTo>
                    <a:pt x="180" y="378"/>
                  </a:lnTo>
                  <a:lnTo>
                    <a:pt x="166" y="380"/>
                  </a:lnTo>
                  <a:lnTo>
                    <a:pt x="150" y="380"/>
                  </a:lnTo>
                  <a:lnTo>
                    <a:pt x="134" y="378"/>
                  </a:lnTo>
                  <a:lnTo>
                    <a:pt x="118" y="374"/>
                  </a:lnTo>
                  <a:lnTo>
                    <a:pt x="102" y="366"/>
                  </a:lnTo>
                  <a:lnTo>
                    <a:pt x="88" y="358"/>
                  </a:lnTo>
                  <a:lnTo>
                    <a:pt x="76" y="346"/>
                  </a:lnTo>
                  <a:lnTo>
                    <a:pt x="68" y="334"/>
                  </a:lnTo>
                  <a:lnTo>
                    <a:pt x="60" y="318"/>
                  </a:lnTo>
                  <a:lnTo>
                    <a:pt x="56" y="302"/>
                  </a:lnTo>
                  <a:lnTo>
                    <a:pt x="58" y="284"/>
                  </a:lnTo>
                  <a:lnTo>
                    <a:pt x="64" y="264"/>
                  </a:lnTo>
                  <a:lnTo>
                    <a:pt x="74" y="244"/>
                  </a:lnTo>
                  <a:lnTo>
                    <a:pt x="90" y="222"/>
                  </a:lnTo>
                  <a:lnTo>
                    <a:pt x="90" y="222"/>
                  </a:lnTo>
                  <a:lnTo>
                    <a:pt x="78" y="222"/>
                  </a:lnTo>
                  <a:lnTo>
                    <a:pt x="66" y="220"/>
                  </a:lnTo>
                  <a:lnTo>
                    <a:pt x="56" y="214"/>
                  </a:lnTo>
                  <a:lnTo>
                    <a:pt x="48" y="206"/>
                  </a:lnTo>
                  <a:lnTo>
                    <a:pt x="42" y="194"/>
                  </a:lnTo>
                  <a:lnTo>
                    <a:pt x="40" y="178"/>
                  </a:lnTo>
                  <a:lnTo>
                    <a:pt x="42" y="162"/>
                  </a:lnTo>
                  <a:lnTo>
                    <a:pt x="48" y="144"/>
                  </a:lnTo>
                  <a:lnTo>
                    <a:pt x="48" y="144"/>
                  </a:lnTo>
                  <a:lnTo>
                    <a:pt x="56" y="134"/>
                  </a:lnTo>
                  <a:lnTo>
                    <a:pt x="66" y="124"/>
                  </a:lnTo>
                  <a:lnTo>
                    <a:pt x="80" y="116"/>
                  </a:lnTo>
                  <a:lnTo>
                    <a:pt x="96" y="112"/>
                  </a:lnTo>
                  <a:lnTo>
                    <a:pt x="104" y="112"/>
                  </a:lnTo>
                  <a:lnTo>
                    <a:pt x="112" y="112"/>
                  </a:lnTo>
                  <a:lnTo>
                    <a:pt x="120" y="114"/>
                  </a:lnTo>
                  <a:lnTo>
                    <a:pt x="128" y="120"/>
                  </a:lnTo>
                  <a:lnTo>
                    <a:pt x="136" y="126"/>
                  </a:lnTo>
                  <a:lnTo>
                    <a:pt x="142" y="134"/>
                  </a:lnTo>
                  <a:lnTo>
                    <a:pt x="148" y="144"/>
                  </a:lnTo>
                  <a:lnTo>
                    <a:pt x="152" y="158"/>
                  </a:lnTo>
                  <a:lnTo>
                    <a:pt x="152" y="158"/>
                  </a:lnTo>
                  <a:lnTo>
                    <a:pt x="160" y="152"/>
                  </a:lnTo>
                  <a:lnTo>
                    <a:pt x="166" y="144"/>
                  </a:lnTo>
                  <a:lnTo>
                    <a:pt x="168" y="136"/>
                  </a:lnTo>
                  <a:lnTo>
                    <a:pt x="170" y="126"/>
                  </a:lnTo>
                  <a:lnTo>
                    <a:pt x="170" y="118"/>
                  </a:lnTo>
                  <a:lnTo>
                    <a:pt x="168" y="108"/>
                  </a:lnTo>
                  <a:lnTo>
                    <a:pt x="166" y="96"/>
                  </a:lnTo>
                  <a:lnTo>
                    <a:pt x="160" y="86"/>
                  </a:lnTo>
                  <a:lnTo>
                    <a:pt x="160" y="86"/>
                  </a:lnTo>
                  <a:lnTo>
                    <a:pt x="174" y="88"/>
                  </a:lnTo>
                  <a:lnTo>
                    <a:pt x="188" y="92"/>
                  </a:lnTo>
                  <a:lnTo>
                    <a:pt x="198" y="100"/>
                  </a:lnTo>
                  <a:lnTo>
                    <a:pt x="210" y="106"/>
                  </a:lnTo>
                  <a:lnTo>
                    <a:pt x="218" y="116"/>
                  </a:lnTo>
                  <a:lnTo>
                    <a:pt x="224" y="124"/>
                  </a:lnTo>
                  <a:lnTo>
                    <a:pt x="230" y="134"/>
                  </a:lnTo>
                  <a:lnTo>
                    <a:pt x="234" y="144"/>
                  </a:lnTo>
                  <a:lnTo>
                    <a:pt x="236" y="154"/>
                  </a:lnTo>
                  <a:lnTo>
                    <a:pt x="234" y="164"/>
                  </a:lnTo>
                  <a:lnTo>
                    <a:pt x="232" y="172"/>
                  </a:lnTo>
                  <a:lnTo>
                    <a:pt x="226" y="180"/>
                  </a:lnTo>
                  <a:lnTo>
                    <a:pt x="220" y="188"/>
                  </a:lnTo>
                  <a:lnTo>
                    <a:pt x="210" y="192"/>
                  </a:lnTo>
                  <a:lnTo>
                    <a:pt x="196" y="196"/>
                  </a:lnTo>
                  <a:lnTo>
                    <a:pt x="180" y="196"/>
                  </a:lnTo>
                  <a:lnTo>
                    <a:pt x="180" y="196"/>
                  </a:lnTo>
                  <a:lnTo>
                    <a:pt x="196" y="200"/>
                  </a:lnTo>
                  <a:lnTo>
                    <a:pt x="212" y="200"/>
                  </a:lnTo>
                  <a:lnTo>
                    <a:pt x="224" y="200"/>
                  </a:lnTo>
                  <a:lnTo>
                    <a:pt x="236" y="198"/>
                  </a:lnTo>
                  <a:lnTo>
                    <a:pt x="248" y="194"/>
                  </a:lnTo>
                  <a:lnTo>
                    <a:pt x="256" y="190"/>
                  </a:lnTo>
                  <a:lnTo>
                    <a:pt x="264" y="184"/>
                  </a:lnTo>
                  <a:lnTo>
                    <a:pt x="272" y="176"/>
                  </a:lnTo>
                  <a:lnTo>
                    <a:pt x="276" y="168"/>
                  </a:lnTo>
                  <a:lnTo>
                    <a:pt x="280" y="158"/>
                  </a:lnTo>
                  <a:lnTo>
                    <a:pt x="284" y="148"/>
                  </a:lnTo>
                  <a:lnTo>
                    <a:pt x="286" y="138"/>
                  </a:lnTo>
                  <a:lnTo>
                    <a:pt x="286" y="114"/>
                  </a:lnTo>
                  <a:lnTo>
                    <a:pt x="282" y="92"/>
                  </a:lnTo>
                  <a:lnTo>
                    <a:pt x="274" y="68"/>
                  </a:lnTo>
                  <a:lnTo>
                    <a:pt x="260" y="48"/>
                  </a:lnTo>
                  <a:lnTo>
                    <a:pt x="252" y="38"/>
                  </a:lnTo>
                  <a:lnTo>
                    <a:pt x="244" y="30"/>
                  </a:lnTo>
                  <a:lnTo>
                    <a:pt x="234" y="22"/>
                  </a:lnTo>
                  <a:lnTo>
                    <a:pt x="222" y="14"/>
                  </a:lnTo>
                  <a:lnTo>
                    <a:pt x="210" y="8"/>
                  </a:lnTo>
                  <a:lnTo>
                    <a:pt x="198" y="4"/>
                  </a:lnTo>
                  <a:lnTo>
                    <a:pt x="184" y="2"/>
                  </a:lnTo>
                  <a:lnTo>
                    <a:pt x="170" y="0"/>
                  </a:lnTo>
                  <a:lnTo>
                    <a:pt x="154" y="2"/>
                  </a:lnTo>
                  <a:lnTo>
                    <a:pt x="138" y="4"/>
                  </a:lnTo>
                  <a:lnTo>
                    <a:pt x="120" y="8"/>
                  </a:lnTo>
                  <a:lnTo>
                    <a:pt x="102" y="16"/>
                  </a:lnTo>
                  <a:lnTo>
                    <a:pt x="102" y="16"/>
                  </a:lnTo>
                  <a:lnTo>
                    <a:pt x="94" y="20"/>
                  </a:lnTo>
                  <a:lnTo>
                    <a:pt x="84" y="28"/>
                  </a:lnTo>
                  <a:lnTo>
                    <a:pt x="72" y="40"/>
                  </a:lnTo>
                  <a:lnTo>
                    <a:pt x="62" y="52"/>
                  </a:lnTo>
                  <a:lnTo>
                    <a:pt x="42" y="78"/>
                  </a:lnTo>
                  <a:lnTo>
                    <a:pt x="26" y="108"/>
                  </a:lnTo>
                  <a:lnTo>
                    <a:pt x="26" y="108"/>
                  </a:lnTo>
                  <a:lnTo>
                    <a:pt x="18" y="130"/>
                  </a:lnTo>
                  <a:lnTo>
                    <a:pt x="12" y="150"/>
                  </a:lnTo>
                  <a:lnTo>
                    <a:pt x="6" y="170"/>
                  </a:lnTo>
                  <a:lnTo>
                    <a:pt x="2" y="190"/>
                  </a:lnTo>
                  <a:lnTo>
                    <a:pt x="0" y="210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2" y="264"/>
                  </a:lnTo>
                  <a:lnTo>
                    <a:pt x="8" y="298"/>
                  </a:lnTo>
                  <a:lnTo>
                    <a:pt x="18" y="330"/>
                  </a:lnTo>
                  <a:lnTo>
                    <a:pt x="32" y="360"/>
                  </a:lnTo>
                  <a:lnTo>
                    <a:pt x="48" y="386"/>
                  </a:lnTo>
                  <a:lnTo>
                    <a:pt x="68" y="410"/>
                  </a:lnTo>
                  <a:lnTo>
                    <a:pt x="90" y="430"/>
                  </a:lnTo>
                  <a:lnTo>
                    <a:pt x="114" y="448"/>
                  </a:lnTo>
                  <a:lnTo>
                    <a:pt x="140" y="462"/>
                  </a:lnTo>
                  <a:lnTo>
                    <a:pt x="166" y="472"/>
                  </a:lnTo>
                  <a:lnTo>
                    <a:pt x="192" y="478"/>
                  </a:lnTo>
                  <a:lnTo>
                    <a:pt x="220" y="480"/>
                  </a:lnTo>
                  <a:lnTo>
                    <a:pt x="246" y="480"/>
                  </a:lnTo>
                  <a:lnTo>
                    <a:pt x="246" y="480"/>
                  </a:lnTo>
                  <a:lnTo>
                    <a:pt x="262" y="476"/>
                  </a:lnTo>
                  <a:lnTo>
                    <a:pt x="278" y="472"/>
                  </a:lnTo>
                  <a:lnTo>
                    <a:pt x="292" y="466"/>
                  </a:lnTo>
                  <a:lnTo>
                    <a:pt x="306" y="458"/>
                  </a:lnTo>
                  <a:lnTo>
                    <a:pt x="318" y="450"/>
                  </a:lnTo>
                  <a:lnTo>
                    <a:pt x="330" y="440"/>
                  </a:lnTo>
                  <a:lnTo>
                    <a:pt x="340" y="430"/>
                  </a:lnTo>
                  <a:lnTo>
                    <a:pt x="350" y="420"/>
                  </a:lnTo>
                  <a:lnTo>
                    <a:pt x="366" y="398"/>
                  </a:lnTo>
                  <a:lnTo>
                    <a:pt x="378" y="374"/>
                  </a:lnTo>
                  <a:lnTo>
                    <a:pt x="382" y="362"/>
                  </a:lnTo>
                  <a:lnTo>
                    <a:pt x="384" y="352"/>
                  </a:lnTo>
                  <a:lnTo>
                    <a:pt x="384" y="340"/>
                  </a:lnTo>
                  <a:lnTo>
                    <a:pt x="384" y="330"/>
                  </a:lnTo>
                  <a:lnTo>
                    <a:pt x="384" y="330"/>
                  </a:lnTo>
                  <a:close/>
                  <a:moveTo>
                    <a:pt x="126" y="54"/>
                  </a:moveTo>
                  <a:lnTo>
                    <a:pt x="126" y="54"/>
                  </a:lnTo>
                  <a:lnTo>
                    <a:pt x="136" y="46"/>
                  </a:lnTo>
                  <a:lnTo>
                    <a:pt x="146" y="40"/>
                  </a:lnTo>
                  <a:lnTo>
                    <a:pt x="156" y="34"/>
                  </a:lnTo>
                  <a:lnTo>
                    <a:pt x="166" y="30"/>
                  </a:lnTo>
                  <a:lnTo>
                    <a:pt x="176" y="28"/>
                  </a:lnTo>
                  <a:lnTo>
                    <a:pt x="186" y="28"/>
                  </a:lnTo>
                  <a:lnTo>
                    <a:pt x="196" y="28"/>
                  </a:lnTo>
                  <a:lnTo>
                    <a:pt x="206" y="30"/>
                  </a:lnTo>
                  <a:lnTo>
                    <a:pt x="216" y="34"/>
                  </a:lnTo>
                  <a:lnTo>
                    <a:pt x="224" y="40"/>
                  </a:lnTo>
                  <a:lnTo>
                    <a:pt x="230" y="46"/>
                  </a:lnTo>
                  <a:lnTo>
                    <a:pt x="238" y="54"/>
                  </a:lnTo>
                  <a:lnTo>
                    <a:pt x="242" y="64"/>
                  </a:lnTo>
                  <a:lnTo>
                    <a:pt x="246" y="74"/>
                  </a:lnTo>
                  <a:lnTo>
                    <a:pt x="248" y="86"/>
                  </a:lnTo>
                  <a:lnTo>
                    <a:pt x="248" y="100"/>
                  </a:lnTo>
                  <a:lnTo>
                    <a:pt x="248" y="100"/>
                  </a:lnTo>
                  <a:lnTo>
                    <a:pt x="238" y="86"/>
                  </a:lnTo>
                  <a:lnTo>
                    <a:pt x="224" y="74"/>
                  </a:lnTo>
                  <a:lnTo>
                    <a:pt x="208" y="66"/>
                  </a:lnTo>
                  <a:lnTo>
                    <a:pt x="192" y="58"/>
                  </a:lnTo>
                  <a:lnTo>
                    <a:pt x="174" y="52"/>
                  </a:lnTo>
                  <a:lnTo>
                    <a:pt x="158" y="50"/>
                  </a:lnTo>
                  <a:lnTo>
                    <a:pt x="142" y="52"/>
                  </a:lnTo>
                  <a:lnTo>
                    <a:pt x="126" y="54"/>
                  </a:lnTo>
                  <a:lnTo>
                    <a:pt x="126" y="54"/>
                  </a:lnTo>
                  <a:close/>
                </a:path>
              </a:pathLst>
            </a:custGeom>
            <a:solidFill>
              <a:srgbClr val="947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38"/>
            <p:cNvSpPr/>
            <p:nvPr/>
          </p:nvSpPr>
          <p:spPr>
            <a:xfrm>
              <a:off x="1442880" y="7670880"/>
              <a:ext cx="463320" cy="431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92" h="272">
                  <a:moveTo>
                    <a:pt x="94" y="266"/>
                  </a:moveTo>
                  <a:lnTo>
                    <a:pt x="94" y="266"/>
                  </a:lnTo>
                  <a:lnTo>
                    <a:pt x="102" y="268"/>
                  </a:lnTo>
                  <a:lnTo>
                    <a:pt x="114" y="270"/>
                  </a:lnTo>
                  <a:lnTo>
                    <a:pt x="140" y="272"/>
                  </a:lnTo>
                  <a:lnTo>
                    <a:pt x="170" y="272"/>
                  </a:lnTo>
                  <a:lnTo>
                    <a:pt x="180" y="270"/>
                  </a:lnTo>
                  <a:lnTo>
                    <a:pt x="190" y="268"/>
                  </a:lnTo>
                  <a:lnTo>
                    <a:pt x="190" y="268"/>
                  </a:lnTo>
                  <a:lnTo>
                    <a:pt x="218" y="258"/>
                  </a:lnTo>
                  <a:lnTo>
                    <a:pt x="244" y="248"/>
                  </a:lnTo>
                  <a:lnTo>
                    <a:pt x="256" y="240"/>
                  </a:lnTo>
                  <a:lnTo>
                    <a:pt x="268" y="230"/>
                  </a:lnTo>
                  <a:lnTo>
                    <a:pt x="280" y="220"/>
                  </a:lnTo>
                  <a:lnTo>
                    <a:pt x="292" y="206"/>
                  </a:lnTo>
                  <a:lnTo>
                    <a:pt x="292" y="206"/>
                  </a:lnTo>
                  <a:lnTo>
                    <a:pt x="260" y="188"/>
                  </a:lnTo>
                  <a:lnTo>
                    <a:pt x="236" y="176"/>
                  </a:lnTo>
                  <a:lnTo>
                    <a:pt x="236" y="176"/>
                  </a:lnTo>
                  <a:lnTo>
                    <a:pt x="240" y="162"/>
                  </a:lnTo>
                  <a:lnTo>
                    <a:pt x="244" y="148"/>
                  </a:lnTo>
                  <a:lnTo>
                    <a:pt x="244" y="136"/>
                  </a:lnTo>
                  <a:lnTo>
                    <a:pt x="242" y="124"/>
                  </a:lnTo>
                  <a:lnTo>
                    <a:pt x="238" y="112"/>
                  </a:lnTo>
                  <a:lnTo>
                    <a:pt x="234" y="102"/>
                  </a:lnTo>
                  <a:lnTo>
                    <a:pt x="228" y="92"/>
                  </a:lnTo>
                  <a:lnTo>
                    <a:pt x="220" y="84"/>
                  </a:lnTo>
                  <a:lnTo>
                    <a:pt x="212" y="78"/>
                  </a:lnTo>
                  <a:lnTo>
                    <a:pt x="202" y="74"/>
                  </a:lnTo>
                  <a:lnTo>
                    <a:pt x="190" y="72"/>
                  </a:lnTo>
                  <a:lnTo>
                    <a:pt x="178" y="72"/>
                  </a:lnTo>
                  <a:lnTo>
                    <a:pt x="166" y="74"/>
                  </a:lnTo>
                  <a:lnTo>
                    <a:pt x="152" y="78"/>
                  </a:lnTo>
                  <a:lnTo>
                    <a:pt x="138" y="84"/>
                  </a:lnTo>
                  <a:lnTo>
                    <a:pt x="124" y="94"/>
                  </a:lnTo>
                  <a:lnTo>
                    <a:pt x="124" y="94"/>
                  </a:lnTo>
                  <a:lnTo>
                    <a:pt x="138" y="98"/>
                  </a:lnTo>
                  <a:lnTo>
                    <a:pt x="148" y="104"/>
                  </a:lnTo>
                  <a:lnTo>
                    <a:pt x="154" y="112"/>
                  </a:lnTo>
                  <a:lnTo>
                    <a:pt x="156" y="120"/>
                  </a:lnTo>
                  <a:lnTo>
                    <a:pt x="154" y="132"/>
                  </a:lnTo>
                  <a:lnTo>
                    <a:pt x="150" y="142"/>
                  </a:lnTo>
                  <a:lnTo>
                    <a:pt x="142" y="152"/>
                  </a:lnTo>
                  <a:lnTo>
                    <a:pt x="132" y="160"/>
                  </a:lnTo>
                  <a:lnTo>
                    <a:pt x="122" y="168"/>
                  </a:lnTo>
                  <a:lnTo>
                    <a:pt x="110" y="174"/>
                  </a:lnTo>
                  <a:lnTo>
                    <a:pt x="98" y="174"/>
                  </a:lnTo>
                  <a:lnTo>
                    <a:pt x="86" y="172"/>
                  </a:lnTo>
                  <a:lnTo>
                    <a:pt x="74" y="166"/>
                  </a:lnTo>
                  <a:lnTo>
                    <a:pt x="64" y="154"/>
                  </a:lnTo>
                  <a:lnTo>
                    <a:pt x="54" y="138"/>
                  </a:lnTo>
                  <a:lnTo>
                    <a:pt x="48" y="114"/>
                  </a:lnTo>
                  <a:lnTo>
                    <a:pt x="48" y="114"/>
                  </a:lnTo>
                  <a:lnTo>
                    <a:pt x="46" y="104"/>
                  </a:lnTo>
                  <a:lnTo>
                    <a:pt x="46" y="94"/>
                  </a:lnTo>
                  <a:lnTo>
                    <a:pt x="48" y="86"/>
                  </a:lnTo>
                  <a:lnTo>
                    <a:pt x="50" y="76"/>
                  </a:lnTo>
                  <a:lnTo>
                    <a:pt x="54" y="68"/>
                  </a:lnTo>
                  <a:lnTo>
                    <a:pt x="60" y="60"/>
                  </a:lnTo>
                  <a:lnTo>
                    <a:pt x="66" y="52"/>
                  </a:lnTo>
                  <a:lnTo>
                    <a:pt x="72" y="46"/>
                  </a:lnTo>
                  <a:lnTo>
                    <a:pt x="82" y="38"/>
                  </a:lnTo>
                  <a:lnTo>
                    <a:pt x="90" y="34"/>
                  </a:lnTo>
                  <a:lnTo>
                    <a:pt x="102" y="28"/>
                  </a:lnTo>
                  <a:lnTo>
                    <a:pt x="112" y="24"/>
                  </a:lnTo>
                  <a:lnTo>
                    <a:pt x="126" y="22"/>
                  </a:lnTo>
                  <a:lnTo>
                    <a:pt x="138" y="20"/>
                  </a:lnTo>
                  <a:lnTo>
                    <a:pt x="152" y="20"/>
                  </a:lnTo>
                  <a:lnTo>
                    <a:pt x="168" y="20"/>
                  </a:lnTo>
                  <a:lnTo>
                    <a:pt x="168" y="20"/>
                  </a:lnTo>
                  <a:lnTo>
                    <a:pt x="156" y="10"/>
                  </a:lnTo>
                  <a:lnTo>
                    <a:pt x="142" y="4"/>
                  </a:lnTo>
                  <a:lnTo>
                    <a:pt x="126" y="0"/>
                  </a:lnTo>
                  <a:lnTo>
                    <a:pt x="108" y="0"/>
                  </a:lnTo>
                  <a:lnTo>
                    <a:pt x="90" y="2"/>
                  </a:lnTo>
                  <a:lnTo>
                    <a:pt x="74" y="6"/>
                  </a:lnTo>
                  <a:lnTo>
                    <a:pt x="56" y="12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34" y="28"/>
                  </a:lnTo>
                  <a:lnTo>
                    <a:pt x="28" y="34"/>
                  </a:lnTo>
                  <a:lnTo>
                    <a:pt x="18" y="52"/>
                  </a:lnTo>
                  <a:lnTo>
                    <a:pt x="8" y="72"/>
                  </a:lnTo>
                  <a:lnTo>
                    <a:pt x="2" y="96"/>
                  </a:lnTo>
                  <a:lnTo>
                    <a:pt x="2" y="96"/>
                  </a:lnTo>
                  <a:lnTo>
                    <a:pt x="0" y="122"/>
                  </a:lnTo>
                  <a:lnTo>
                    <a:pt x="2" y="146"/>
                  </a:lnTo>
                  <a:lnTo>
                    <a:pt x="8" y="170"/>
                  </a:lnTo>
                  <a:lnTo>
                    <a:pt x="20" y="194"/>
                  </a:lnTo>
                  <a:lnTo>
                    <a:pt x="34" y="214"/>
                  </a:lnTo>
                  <a:lnTo>
                    <a:pt x="50" y="234"/>
                  </a:lnTo>
                  <a:lnTo>
                    <a:pt x="72" y="252"/>
                  </a:lnTo>
                  <a:lnTo>
                    <a:pt x="94" y="266"/>
                  </a:lnTo>
                  <a:lnTo>
                    <a:pt x="94" y="266"/>
                  </a:lnTo>
                  <a:close/>
                  <a:moveTo>
                    <a:pt x="66" y="200"/>
                  </a:moveTo>
                  <a:lnTo>
                    <a:pt x="66" y="200"/>
                  </a:lnTo>
                  <a:lnTo>
                    <a:pt x="84" y="206"/>
                  </a:lnTo>
                  <a:lnTo>
                    <a:pt x="100" y="208"/>
                  </a:lnTo>
                  <a:lnTo>
                    <a:pt x="114" y="210"/>
                  </a:lnTo>
                  <a:lnTo>
                    <a:pt x="126" y="208"/>
                  </a:lnTo>
                  <a:lnTo>
                    <a:pt x="138" y="204"/>
                  </a:lnTo>
                  <a:lnTo>
                    <a:pt x="148" y="198"/>
                  </a:lnTo>
                  <a:lnTo>
                    <a:pt x="158" y="192"/>
                  </a:lnTo>
                  <a:lnTo>
                    <a:pt x="166" y="184"/>
                  </a:lnTo>
                  <a:lnTo>
                    <a:pt x="174" y="176"/>
                  </a:lnTo>
                  <a:lnTo>
                    <a:pt x="180" y="168"/>
                  </a:lnTo>
                  <a:lnTo>
                    <a:pt x="188" y="150"/>
                  </a:lnTo>
                  <a:lnTo>
                    <a:pt x="194" y="132"/>
                  </a:lnTo>
                  <a:lnTo>
                    <a:pt x="196" y="120"/>
                  </a:lnTo>
                  <a:lnTo>
                    <a:pt x="196" y="120"/>
                  </a:lnTo>
                  <a:lnTo>
                    <a:pt x="202" y="128"/>
                  </a:lnTo>
                  <a:lnTo>
                    <a:pt x="204" y="138"/>
                  </a:lnTo>
                  <a:lnTo>
                    <a:pt x="206" y="150"/>
                  </a:lnTo>
                  <a:lnTo>
                    <a:pt x="204" y="160"/>
                  </a:lnTo>
                  <a:lnTo>
                    <a:pt x="200" y="172"/>
                  </a:lnTo>
                  <a:lnTo>
                    <a:pt x="194" y="180"/>
                  </a:lnTo>
                  <a:lnTo>
                    <a:pt x="188" y="188"/>
                  </a:lnTo>
                  <a:lnTo>
                    <a:pt x="180" y="194"/>
                  </a:lnTo>
                  <a:lnTo>
                    <a:pt x="180" y="194"/>
                  </a:lnTo>
                  <a:lnTo>
                    <a:pt x="188" y="200"/>
                  </a:lnTo>
                  <a:lnTo>
                    <a:pt x="198" y="208"/>
                  </a:lnTo>
                  <a:lnTo>
                    <a:pt x="226" y="220"/>
                  </a:lnTo>
                  <a:lnTo>
                    <a:pt x="226" y="220"/>
                  </a:lnTo>
                  <a:lnTo>
                    <a:pt x="196" y="228"/>
                  </a:lnTo>
                  <a:lnTo>
                    <a:pt x="170" y="232"/>
                  </a:lnTo>
                  <a:lnTo>
                    <a:pt x="146" y="232"/>
                  </a:lnTo>
                  <a:lnTo>
                    <a:pt x="126" y="230"/>
                  </a:lnTo>
                  <a:lnTo>
                    <a:pt x="108" y="226"/>
                  </a:lnTo>
                  <a:lnTo>
                    <a:pt x="94" y="218"/>
                  </a:lnTo>
                  <a:lnTo>
                    <a:pt x="80" y="210"/>
                  </a:lnTo>
                  <a:lnTo>
                    <a:pt x="66" y="200"/>
                  </a:lnTo>
                  <a:lnTo>
                    <a:pt x="66" y="200"/>
                  </a:lnTo>
                  <a:close/>
                </a:path>
              </a:pathLst>
            </a:custGeom>
            <a:solidFill>
              <a:srgbClr val="947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>
              <a:off x="376200" y="5584680"/>
              <a:ext cx="1952640" cy="4822920"/>
            </a:xfrm>
            <a:custGeom>
              <a:avLst/>
              <a:gdLst>
                <a:gd name="textAreaLeft" fmla="*/ 0 w 1952640"/>
                <a:gd name="textAreaRight" fmla="*/ 1952640 w 1952640"/>
                <a:gd name="textAreaTop" fmla="*/ 0 h 4822920"/>
                <a:gd name="textAreaBottom" fmla="*/ 4823280 h 4822920"/>
              </a:gdLst>
              <a:ahLst/>
              <a:rect l="textAreaLeft" t="textAreaTop" r="textAreaRight" b="textAreaBottom"/>
              <a:pathLst>
                <a:path w="1230" h="3038">
                  <a:moveTo>
                    <a:pt x="40" y="2942"/>
                  </a:moveTo>
                  <a:lnTo>
                    <a:pt x="40" y="2942"/>
                  </a:lnTo>
                  <a:lnTo>
                    <a:pt x="40" y="2958"/>
                  </a:lnTo>
                  <a:lnTo>
                    <a:pt x="42" y="2974"/>
                  </a:lnTo>
                  <a:lnTo>
                    <a:pt x="46" y="2988"/>
                  </a:lnTo>
                  <a:lnTo>
                    <a:pt x="52" y="3000"/>
                  </a:lnTo>
                  <a:lnTo>
                    <a:pt x="60" y="3010"/>
                  </a:lnTo>
                  <a:lnTo>
                    <a:pt x="68" y="3018"/>
                  </a:lnTo>
                  <a:lnTo>
                    <a:pt x="78" y="3026"/>
                  </a:lnTo>
                  <a:lnTo>
                    <a:pt x="88" y="3032"/>
                  </a:lnTo>
                  <a:lnTo>
                    <a:pt x="100" y="3034"/>
                  </a:lnTo>
                  <a:lnTo>
                    <a:pt x="112" y="3036"/>
                  </a:lnTo>
                  <a:lnTo>
                    <a:pt x="122" y="3036"/>
                  </a:lnTo>
                  <a:lnTo>
                    <a:pt x="134" y="3034"/>
                  </a:lnTo>
                  <a:lnTo>
                    <a:pt x="144" y="3032"/>
                  </a:lnTo>
                  <a:lnTo>
                    <a:pt x="152" y="3026"/>
                  </a:lnTo>
                  <a:lnTo>
                    <a:pt x="160" y="3018"/>
                  </a:lnTo>
                  <a:lnTo>
                    <a:pt x="168" y="3006"/>
                  </a:lnTo>
                  <a:lnTo>
                    <a:pt x="168" y="3006"/>
                  </a:lnTo>
                  <a:lnTo>
                    <a:pt x="172" y="2996"/>
                  </a:lnTo>
                  <a:lnTo>
                    <a:pt x="174" y="2986"/>
                  </a:lnTo>
                  <a:lnTo>
                    <a:pt x="176" y="2976"/>
                  </a:lnTo>
                  <a:lnTo>
                    <a:pt x="176" y="2966"/>
                  </a:lnTo>
                  <a:lnTo>
                    <a:pt x="176" y="2958"/>
                  </a:lnTo>
                  <a:lnTo>
                    <a:pt x="174" y="2950"/>
                  </a:lnTo>
                  <a:lnTo>
                    <a:pt x="166" y="2936"/>
                  </a:lnTo>
                  <a:lnTo>
                    <a:pt x="156" y="2924"/>
                  </a:lnTo>
                  <a:lnTo>
                    <a:pt x="144" y="2916"/>
                  </a:lnTo>
                  <a:lnTo>
                    <a:pt x="130" y="2910"/>
                  </a:lnTo>
                  <a:lnTo>
                    <a:pt x="118" y="2908"/>
                  </a:lnTo>
                  <a:lnTo>
                    <a:pt x="118" y="2908"/>
                  </a:lnTo>
                  <a:lnTo>
                    <a:pt x="124" y="2896"/>
                  </a:lnTo>
                  <a:lnTo>
                    <a:pt x="134" y="2884"/>
                  </a:lnTo>
                  <a:lnTo>
                    <a:pt x="146" y="2870"/>
                  </a:lnTo>
                  <a:lnTo>
                    <a:pt x="158" y="2858"/>
                  </a:lnTo>
                  <a:lnTo>
                    <a:pt x="172" y="2846"/>
                  </a:lnTo>
                  <a:lnTo>
                    <a:pt x="188" y="2838"/>
                  </a:lnTo>
                  <a:lnTo>
                    <a:pt x="204" y="2832"/>
                  </a:lnTo>
                  <a:lnTo>
                    <a:pt x="212" y="2832"/>
                  </a:lnTo>
                  <a:lnTo>
                    <a:pt x="220" y="2832"/>
                  </a:lnTo>
                  <a:lnTo>
                    <a:pt x="220" y="2832"/>
                  </a:lnTo>
                  <a:lnTo>
                    <a:pt x="238" y="2836"/>
                  </a:lnTo>
                  <a:lnTo>
                    <a:pt x="252" y="2844"/>
                  </a:lnTo>
                  <a:lnTo>
                    <a:pt x="266" y="2854"/>
                  </a:lnTo>
                  <a:lnTo>
                    <a:pt x="282" y="2870"/>
                  </a:lnTo>
                  <a:lnTo>
                    <a:pt x="282" y="2870"/>
                  </a:lnTo>
                  <a:lnTo>
                    <a:pt x="292" y="2882"/>
                  </a:lnTo>
                  <a:lnTo>
                    <a:pt x="296" y="2890"/>
                  </a:lnTo>
                  <a:lnTo>
                    <a:pt x="300" y="2898"/>
                  </a:lnTo>
                  <a:lnTo>
                    <a:pt x="302" y="2908"/>
                  </a:lnTo>
                  <a:lnTo>
                    <a:pt x="302" y="2918"/>
                  </a:lnTo>
                  <a:lnTo>
                    <a:pt x="302" y="2928"/>
                  </a:lnTo>
                  <a:lnTo>
                    <a:pt x="300" y="2940"/>
                  </a:lnTo>
                  <a:lnTo>
                    <a:pt x="296" y="2950"/>
                  </a:lnTo>
                  <a:lnTo>
                    <a:pt x="290" y="2962"/>
                  </a:lnTo>
                  <a:lnTo>
                    <a:pt x="284" y="2974"/>
                  </a:lnTo>
                  <a:lnTo>
                    <a:pt x="274" y="2986"/>
                  </a:lnTo>
                  <a:lnTo>
                    <a:pt x="264" y="2998"/>
                  </a:lnTo>
                  <a:lnTo>
                    <a:pt x="250" y="3012"/>
                  </a:lnTo>
                  <a:lnTo>
                    <a:pt x="234" y="3024"/>
                  </a:lnTo>
                  <a:lnTo>
                    <a:pt x="216" y="3036"/>
                  </a:lnTo>
                  <a:lnTo>
                    <a:pt x="216" y="3036"/>
                  </a:lnTo>
                  <a:lnTo>
                    <a:pt x="230" y="3038"/>
                  </a:lnTo>
                  <a:lnTo>
                    <a:pt x="244" y="3038"/>
                  </a:lnTo>
                  <a:lnTo>
                    <a:pt x="258" y="3038"/>
                  </a:lnTo>
                  <a:lnTo>
                    <a:pt x="270" y="3034"/>
                  </a:lnTo>
                  <a:lnTo>
                    <a:pt x="282" y="3028"/>
                  </a:lnTo>
                  <a:lnTo>
                    <a:pt x="292" y="3022"/>
                  </a:lnTo>
                  <a:lnTo>
                    <a:pt x="302" y="3016"/>
                  </a:lnTo>
                  <a:lnTo>
                    <a:pt x="310" y="3006"/>
                  </a:lnTo>
                  <a:lnTo>
                    <a:pt x="318" y="2996"/>
                  </a:lnTo>
                  <a:lnTo>
                    <a:pt x="324" y="2986"/>
                  </a:lnTo>
                  <a:lnTo>
                    <a:pt x="328" y="2976"/>
                  </a:lnTo>
                  <a:lnTo>
                    <a:pt x="332" y="2964"/>
                  </a:lnTo>
                  <a:lnTo>
                    <a:pt x="336" y="2952"/>
                  </a:lnTo>
                  <a:lnTo>
                    <a:pt x="338" y="2940"/>
                  </a:lnTo>
                  <a:lnTo>
                    <a:pt x="338" y="2928"/>
                  </a:lnTo>
                  <a:lnTo>
                    <a:pt x="336" y="2916"/>
                  </a:lnTo>
                  <a:lnTo>
                    <a:pt x="336" y="2916"/>
                  </a:lnTo>
                  <a:lnTo>
                    <a:pt x="366" y="2930"/>
                  </a:lnTo>
                  <a:lnTo>
                    <a:pt x="398" y="2940"/>
                  </a:lnTo>
                  <a:lnTo>
                    <a:pt x="428" y="2950"/>
                  </a:lnTo>
                  <a:lnTo>
                    <a:pt x="460" y="2958"/>
                  </a:lnTo>
                  <a:lnTo>
                    <a:pt x="490" y="2964"/>
                  </a:lnTo>
                  <a:lnTo>
                    <a:pt x="520" y="2968"/>
                  </a:lnTo>
                  <a:lnTo>
                    <a:pt x="552" y="2972"/>
                  </a:lnTo>
                  <a:lnTo>
                    <a:pt x="582" y="2972"/>
                  </a:lnTo>
                  <a:lnTo>
                    <a:pt x="612" y="2972"/>
                  </a:lnTo>
                  <a:lnTo>
                    <a:pt x="642" y="2970"/>
                  </a:lnTo>
                  <a:lnTo>
                    <a:pt x="700" y="2964"/>
                  </a:lnTo>
                  <a:lnTo>
                    <a:pt x="758" y="2954"/>
                  </a:lnTo>
                  <a:lnTo>
                    <a:pt x="812" y="2940"/>
                  </a:lnTo>
                  <a:lnTo>
                    <a:pt x="864" y="2922"/>
                  </a:lnTo>
                  <a:lnTo>
                    <a:pt x="912" y="2904"/>
                  </a:lnTo>
                  <a:lnTo>
                    <a:pt x="956" y="2884"/>
                  </a:lnTo>
                  <a:lnTo>
                    <a:pt x="996" y="2862"/>
                  </a:lnTo>
                  <a:lnTo>
                    <a:pt x="1032" y="2840"/>
                  </a:lnTo>
                  <a:lnTo>
                    <a:pt x="1062" y="2820"/>
                  </a:lnTo>
                  <a:lnTo>
                    <a:pt x="1088" y="2800"/>
                  </a:lnTo>
                  <a:lnTo>
                    <a:pt x="1106" y="2784"/>
                  </a:lnTo>
                  <a:lnTo>
                    <a:pt x="1106" y="2784"/>
                  </a:lnTo>
                  <a:lnTo>
                    <a:pt x="1138" y="2748"/>
                  </a:lnTo>
                  <a:lnTo>
                    <a:pt x="1154" y="2728"/>
                  </a:lnTo>
                  <a:lnTo>
                    <a:pt x="1168" y="2708"/>
                  </a:lnTo>
                  <a:lnTo>
                    <a:pt x="1168" y="2708"/>
                  </a:lnTo>
                  <a:lnTo>
                    <a:pt x="1182" y="2684"/>
                  </a:lnTo>
                  <a:lnTo>
                    <a:pt x="1198" y="2656"/>
                  </a:lnTo>
                  <a:lnTo>
                    <a:pt x="1212" y="2622"/>
                  </a:lnTo>
                  <a:lnTo>
                    <a:pt x="1218" y="2602"/>
                  </a:lnTo>
                  <a:lnTo>
                    <a:pt x="1224" y="2580"/>
                  </a:lnTo>
                  <a:lnTo>
                    <a:pt x="1228" y="2556"/>
                  </a:lnTo>
                  <a:lnTo>
                    <a:pt x="1230" y="2532"/>
                  </a:lnTo>
                  <a:lnTo>
                    <a:pt x="1230" y="2504"/>
                  </a:lnTo>
                  <a:lnTo>
                    <a:pt x="1228" y="2474"/>
                  </a:lnTo>
                  <a:lnTo>
                    <a:pt x="1224" y="2440"/>
                  </a:lnTo>
                  <a:lnTo>
                    <a:pt x="1218" y="2406"/>
                  </a:lnTo>
                  <a:lnTo>
                    <a:pt x="1206" y="2368"/>
                  </a:lnTo>
                  <a:lnTo>
                    <a:pt x="1192" y="2326"/>
                  </a:lnTo>
                  <a:lnTo>
                    <a:pt x="1192" y="2326"/>
                  </a:lnTo>
                  <a:lnTo>
                    <a:pt x="1174" y="2280"/>
                  </a:lnTo>
                  <a:lnTo>
                    <a:pt x="1152" y="2238"/>
                  </a:lnTo>
                  <a:lnTo>
                    <a:pt x="1128" y="2200"/>
                  </a:lnTo>
                  <a:lnTo>
                    <a:pt x="1102" y="2166"/>
                  </a:lnTo>
                  <a:lnTo>
                    <a:pt x="1074" y="2138"/>
                  </a:lnTo>
                  <a:lnTo>
                    <a:pt x="1044" y="2112"/>
                  </a:lnTo>
                  <a:lnTo>
                    <a:pt x="1014" y="2092"/>
                  </a:lnTo>
                  <a:lnTo>
                    <a:pt x="982" y="2076"/>
                  </a:lnTo>
                  <a:lnTo>
                    <a:pt x="948" y="2064"/>
                  </a:lnTo>
                  <a:lnTo>
                    <a:pt x="912" y="2054"/>
                  </a:lnTo>
                  <a:lnTo>
                    <a:pt x="878" y="2050"/>
                  </a:lnTo>
                  <a:lnTo>
                    <a:pt x="842" y="2050"/>
                  </a:lnTo>
                  <a:lnTo>
                    <a:pt x="804" y="2052"/>
                  </a:lnTo>
                  <a:lnTo>
                    <a:pt x="768" y="2060"/>
                  </a:lnTo>
                  <a:lnTo>
                    <a:pt x="730" y="2070"/>
                  </a:lnTo>
                  <a:lnTo>
                    <a:pt x="694" y="2084"/>
                  </a:lnTo>
                  <a:lnTo>
                    <a:pt x="694" y="2084"/>
                  </a:lnTo>
                  <a:lnTo>
                    <a:pt x="674" y="2092"/>
                  </a:lnTo>
                  <a:lnTo>
                    <a:pt x="656" y="2102"/>
                  </a:lnTo>
                  <a:lnTo>
                    <a:pt x="640" y="2112"/>
                  </a:lnTo>
                  <a:lnTo>
                    <a:pt x="624" y="2124"/>
                  </a:lnTo>
                  <a:lnTo>
                    <a:pt x="610" y="2136"/>
                  </a:lnTo>
                  <a:lnTo>
                    <a:pt x="596" y="2148"/>
                  </a:lnTo>
                  <a:lnTo>
                    <a:pt x="572" y="2176"/>
                  </a:lnTo>
                  <a:lnTo>
                    <a:pt x="552" y="2206"/>
                  </a:lnTo>
                  <a:lnTo>
                    <a:pt x="536" y="2238"/>
                  </a:lnTo>
                  <a:lnTo>
                    <a:pt x="524" y="2270"/>
                  </a:lnTo>
                  <a:lnTo>
                    <a:pt x="516" y="2304"/>
                  </a:lnTo>
                  <a:lnTo>
                    <a:pt x="512" y="2338"/>
                  </a:lnTo>
                  <a:lnTo>
                    <a:pt x="512" y="2372"/>
                  </a:lnTo>
                  <a:lnTo>
                    <a:pt x="516" y="2406"/>
                  </a:lnTo>
                  <a:lnTo>
                    <a:pt x="522" y="2438"/>
                  </a:lnTo>
                  <a:lnTo>
                    <a:pt x="532" y="2470"/>
                  </a:lnTo>
                  <a:lnTo>
                    <a:pt x="546" y="2500"/>
                  </a:lnTo>
                  <a:lnTo>
                    <a:pt x="564" y="2528"/>
                  </a:lnTo>
                  <a:lnTo>
                    <a:pt x="586" y="2554"/>
                  </a:lnTo>
                  <a:lnTo>
                    <a:pt x="586" y="2554"/>
                  </a:lnTo>
                  <a:lnTo>
                    <a:pt x="600" y="2566"/>
                  </a:lnTo>
                  <a:lnTo>
                    <a:pt x="614" y="2578"/>
                  </a:lnTo>
                  <a:lnTo>
                    <a:pt x="630" y="2588"/>
                  </a:lnTo>
                  <a:lnTo>
                    <a:pt x="644" y="2596"/>
                  </a:lnTo>
                  <a:lnTo>
                    <a:pt x="660" y="2602"/>
                  </a:lnTo>
                  <a:lnTo>
                    <a:pt x="676" y="2606"/>
                  </a:lnTo>
                  <a:lnTo>
                    <a:pt x="692" y="2608"/>
                  </a:lnTo>
                  <a:lnTo>
                    <a:pt x="708" y="2608"/>
                  </a:lnTo>
                  <a:lnTo>
                    <a:pt x="722" y="2608"/>
                  </a:lnTo>
                  <a:lnTo>
                    <a:pt x="738" y="2604"/>
                  </a:lnTo>
                  <a:lnTo>
                    <a:pt x="752" y="2600"/>
                  </a:lnTo>
                  <a:lnTo>
                    <a:pt x="766" y="2596"/>
                  </a:lnTo>
                  <a:lnTo>
                    <a:pt x="780" y="2588"/>
                  </a:lnTo>
                  <a:lnTo>
                    <a:pt x="792" y="2580"/>
                  </a:lnTo>
                  <a:lnTo>
                    <a:pt x="802" y="2572"/>
                  </a:lnTo>
                  <a:lnTo>
                    <a:pt x="812" y="2562"/>
                  </a:lnTo>
                  <a:lnTo>
                    <a:pt x="812" y="2562"/>
                  </a:lnTo>
                  <a:lnTo>
                    <a:pt x="820" y="2550"/>
                  </a:lnTo>
                  <a:lnTo>
                    <a:pt x="826" y="2540"/>
                  </a:lnTo>
                  <a:lnTo>
                    <a:pt x="832" y="2528"/>
                  </a:lnTo>
                  <a:lnTo>
                    <a:pt x="834" y="2516"/>
                  </a:lnTo>
                  <a:lnTo>
                    <a:pt x="836" y="2502"/>
                  </a:lnTo>
                  <a:lnTo>
                    <a:pt x="836" y="2490"/>
                  </a:lnTo>
                  <a:lnTo>
                    <a:pt x="834" y="2464"/>
                  </a:lnTo>
                  <a:lnTo>
                    <a:pt x="828" y="2440"/>
                  </a:lnTo>
                  <a:lnTo>
                    <a:pt x="818" y="2418"/>
                  </a:lnTo>
                  <a:lnTo>
                    <a:pt x="812" y="2408"/>
                  </a:lnTo>
                  <a:lnTo>
                    <a:pt x="804" y="2400"/>
                  </a:lnTo>
                  <a:lnTo>
                    <a:pt x="798" y="2394"/>
                  </a:lnTo>
                  <a:lnTo>
                    <a:pt x="790" y="2388"/>
                  </a:lnTo>
                  <a:lnTo>
                    <a:pt x="790" y="2388"/>
                  </a:lnTo>
                  <a:lnTo>
                    <a:pt x="778" y="2384"/>
                  </a:lnTo>
                  <a:lnTo>
                    <a:pt x="768" y="2380"/>
                  </a:lnTo>
                  <a:lnTo>
                    <a:pt x="756" y="2378"/>
                  </a:lnTo>
                  <a:lnTo>
                    <a:pt x="746" y="2378"/>
                  </a:lnTo>
                  <a:lnTo>
                    <a:pt x="736" y="2378"/>
                  </a:lnTo>
                  <a:lnTo>
                    <a:pt x="726" y="2380"/>
                  </a:lnTo>
                  <a:lnTo>
                    <a:pt x="716" y="2384"/>
                  </a:lnTo>
                  <a:lnTo>
                    <a:pt x="706" y="2388"/>
                  </a:lnTo>
                  <a:lnTo>
                    <a:pt x="690" y="2400"/>
                  </a:lnTo>
                  <a:lnTo>
                    <a:pt x="676" y="2414"/>
                  </a:lnTo>
                  <a:lnTo>
                    <a:pt x="672" y="2422"/>
                  </a:lnTo>
                  <a:lnTo>
                    <a:pt x="668" y="2432"/>
                  </a:lnTo>
                  <a:lnTo>
                    <a:pt x="664" y="2442"/>
                  </a:lnTo>
                  <a:lnTo>
                    <a:pt x="662" y="2452"/>
                  </a:lnTo>
                  <a:lnTo>
                    <a:pt x="662" y="2452"/>
                  </a:lnTo>
                  <a:lnTo>
                    <a:pt x="644" y="2438"/>
                  </a:lnTo>
                  <a:lnTo>
                    <a:pt x="626" y="2422"/>
                  </a:lnTo>
                  <a:lnTo>
                    <a:pt x="612" y="2406"/>
                  </a:lnTo>
                  <a:lnTo>
                    <a:pt x="600" y="2388"/>
                  </a:lnTo>
                  <a:lnTo>
                    <a:pt x="590" y="2368"/>
                  </a:lnTo>
                  <a:lnTo>
                    <a:pt x="582" y="2348"/>
                  </a:lnTo>
                  <a:lnTo>
                    <a:pt x="576" y="2326"/>
                  </a:lnTo>
                  <a:lnTo>
                    <a:pt x="574" y="2304"/>
                  </a:lnTo>
                  <a:lnTo>
                    <a:pt x="574" y="2282"/>
                  </a:lnTo>
                  <a:lnTo>
                    <a:pt x="578" y="2260"/>
                  </a:lnTo>
                  <a:lnTo>
                    <a:pt x="582" y="2238"/>
                  </a:lnTo>
                  <a:lnTo>
                    <a:pt x="590" y="2218"/>
                  </a:lnTo>
                  <a:lnTo>
                    <a:pt x="602" y="2198"/>
                  </a:lnTo>
                  <a:lnTo>
                    <a:pt x="614" y="2178"/>
                  </a:lnTo>
                  <a:lnTo>
                    <a:pt x="630" y="2160"/>
                  </a:lnTo>
                  <a:lnTo>
                    <a:pt x="650" y="2144"/>
                  </a:lnTo>
                  <a:lnTo>
                    <a:pt x="650" y="2144"/>
                  </a:lnTo>
                  <a:lnTo>
                    <a:pt x="642" y="2156"/>
                  </a:lnTo>
                  <a:lnTo>
                    <a:pt x="636" y="2168"/>
                  </a:lnTo>
                  <a:lnTo>
                    <a:pt x="632" y="2184"/>
                  </a:lnTo>
                  <a:lnTo>
                    <a:pt x="630" y="2198"/>
                  </a:lnTo>
                  <a:lnTo>
                    <a:pt x="628" y="2214"/>
                  </a:lnTo>
                  <a:lnTo>
                    <a:pt x="630" y="2230"/>
                  </a:lnTo>
                  <a:lnTo>
                    <a:pt x="634" y="2246"/>
                  </a:lnTo>
                  <a:lnTo>
                    <a:pt x="638" y="2262"/>
                  </a:lnTo>
                  <a:lnTo>
                    <a:pt x="638" y="2262"/>
                  </a:lnTo>
                  <a:lnTo>
                    <a:pt x="644" y="2274"/>
                  </a:lnTo>
                  <a:lnTo>
                    <a:pt x="654" y="2286"/>
                  </a:lnTo>
                  <a:lnTo>
                    <a:pt x="668" y="2296"/>
                  </a:lnTo>
                  <a:lnTo>
                    <a:pt x="684" y="2304"/>
                  </a:lnTo>
                  <a:lnTo>
                    <a:pt x="704" y="2308"/>
                  </a:lnTo>
                  <a:lnTo>
                    <a:pt x="724" y="2308"/>
                  </a:lnTo>
                  <a:lnTo>
                    <a:pt x="748" y="2304"/>
                  </a:lnTo>
                  <a:lnTo>
                    <a:pt x="758" y="2300"/>
                  </a:lnTo>
                  <a:lnTo>
                    <a:pt x="770" y="2294"/>
                  </a:lnTo>
                  <a:lnTo>
                    <a:pt x="770" y="2294"/>
                  </a:lnTo>
                  <a:lnTo>
                    <a:pt x="762" y="2288"/>
                  </a:lnTo>
                  <a:lnTo>
                    <a:pt x="752" y="2282"/>
                  </a:lnTo>
                  <a:lnTo>
                    <a:pt x="744" y="2276"/>
                  </a:lnTo>
                  <a:lnTo>
                    <a:pt x="738" y="2268"/>
                  </a:lnTo>
                  <a:lnTo>
                    <a:pt x="732" y="2260"/>
                  </a:lnTo>
                  <a:lnTo>
                    <a:pt x="728" y="2250"/>
                  </a:lnTo>
                  <a:lnTo>
                    <a:pt x="724" y="2232"/>
                  </a:lnTo>
                  <a:lnTo>
                    <a:pt x="722" y="2212"/>
                  </a:lnTo>
                  <a:lnTo>
                    <a:pt x="726" y="2190"/>
                  </a:lnTo>
                  <a:lnTo>
                    <a:pt x="734" y="2170"/>
                  </a:lnTo>
                  <a:lnTo>
                    <a:pt x="746" y="2150"/>
                  </a:lnTo>
                  <a:lnTo>
                    <a:pt x="746" y="2150"/>
                  </a:lnTo>
                  <a:lnTo>
                    <a:pt x="758" y="2138"/>
                  </a:lnTo>
                  <a:lnTo>
                    <a:pt x="772" y="2126"/>
                  </a:lnTo>
                  <a:lnTo>
                    <a:pt x="788" y="2118"/>
                  </a:lnTo>
                  <a:lnTo>
                    <a:pt x="806" y="2108"/>
                  </a:lnTo>
                  <a:lnTo>
                    <a:pt x="824" y="2102"/>
                  </a:lnTo>
                  <a:lnTo>
                    <a:pt x="846" y="2098"/>
                  </a:lnTo>
                  <a:lnTo>
                    <a:pt x="868" y="2096"/>
                  </a:lnTo>
                  <a:lnTo>
                    <a:pt x="890" y="2094"/>
                  </a:lnTo>
                  <a:lnTo>
                    <a:pt x="914" y="2096"/>
                  </a:lnTo>
                  <a:lnTo>
                    <a:pt x="938" y="2100"/>
                  </a:lnTo>
                  <a:lnTo>
                    <a:pt x="960" y="2106"/>
                  </a:lnTo>
                  <a:lnTo>
                    <a:pt x="984" y="2116"/>
                  </a:lnTo>
                  <a:lnTo>
                    <a:pt x="1006" y="2128"/>
                  </a:lnTo>
                  <a:lnTo>
                    <a:pt x="1028" y="2144"/>
                  </a:lnTo>
                  <a:lnTo>
                    <a:pt x="1048" y="2162"/>
                  </a:lnTo>
                  <a:lnTo>
                    <a:pt x="1068" y="2182"/>
                  </a:lnTo>
                  <a:lnTo>
                    <a:pt x="1068" y="2182"/>
                  </a:lnTo>
                  <a:lnTo>
                    <a:pt x="1056" y="2180"/>
                  </a:lnTo>
                  <a:lnTo>
                    <a:pt x="1044" y="2178"/>
                  </a:lnTo>
                  <a:lnTo>
                    <a:pt x="1030" y="2178"/>
                  </a:lnTo>
                  <a:lnTo>
                    <a:pt x="1018" y="2180"/>
                  </a:lnTo>
                  <a:lnTo>
                    <a:pt x="1004" y="2182"/>
                  </a:lnTo>
                  <a:lnTo>
                    <a:pt x="990" y="2186"/>
                  </a:lnTo>
                  <a:lnTo>
                    <a:pt x="976" y="2190"/>
                  </a:lnTo>
                  <a:lnTo>
                    <a:pt x="962" y="2196"/>
                  </a:lnTo>
                  <a:lnTo>
                    <a:pt x="950" y="2204"/>
                  </a:lnTo>
                  <a:lnTo>
                    <a:pt x="940" y="2212"/>
                  </a:lnTo>
                  <a:lnTo>
                    <a:pt x="930" y="2220"/>
                  </a:lnTo>
                  <a:lnTo>
                    <a:pt x="922" y="2232"/>
                  </a:lnTo>
                  <a:lnTo>
                    <a:pt x="918" y="2242"/>
                  </a:lnTo>
                  <a:lnTo>
                    <a:pt x="914" y="2254"/>
                  </a:lnTo>
                  <a:lnTo>
                    <a:pt x="914" y="2266"/>
                  </a:lnTo>
                  <a:lnTo>
                    <a:pt x="916" y="2280"/>
                  </a:lnTo>
                  <a:lnTo>
                    <a:pt x="916" y="2280"/>
                  </a:lnTo>
                  <a:lnTo>
                    <a:pt x="926" y="2272"/>
                  </a:lnTo>
                  <a:lnTo>
                    <a:pt x="938" y="2266"/>
                  </a:lnTo>
                  <a:lnTo>
                    <a:pt x="950" y="2262"/>
                  </a:lnTo>
                  <a:lnTo>
                    <a:pt x="964" y="2260"/>
                  </a:lnTo>
                  <a:lnTo>
                    <a:pt x="978" y="2258"/>
                  </a:lnTo>
                  <a:lnTo>
                    <a:pt x="994" y="2260"/>
                  </a:lnTo>
                  <a:lnTo>
                    <a:pt x="1010" y="2262"/>
                  </a:lnTo>
                  <a:lnTo>
                    <a:pt x="1024" y="2266"/>
                  </a:lnTo>
                  <a:lnTo>
                    <a:pt x="1040" y="2272"/>
                  </a:lnTo>
                  <a:lnTo>
                    <a:pt x="1054" y="2280"/>
                  </a:lnTo>
                  <a:lnTo>
                    <a:pt x="1070" y="2290"/>
                  </a:lnTo>
                  <a:lnTo>
                    <a:pt x="1084" y="2300"/>
                  </a:lnTo>
                  <a:lnTo>
                    <a:pt x="1096" y="2312"/>
                  </a:lnTo>
                  <a:lnTo>
                    <a:pt x="1108" y="2326"/>
                  </a:lnTo>
                  <a:lnTo>
                    <a:pt x="1120" y="2342"/>
                  </a:lnTo>
                  <a:lnTo>
                    <a:pt x="1128" y="2358"/>
                  </a:lnTo>
                  <a:lnTo>
                    <a:pt x="1128" y="2358"/>
                  </a:lnTo>
                  <a:lnTo>
                    <a:pt x="1148" y="2404"/>
                  </a:lnTo>
                  <a:lnTo>
                    <a:pt x="1158" y="2428"/>
                  </a:lnTo>
                  <a:lnTo>
                    <a:pt x="1164" y="2452"/>
                  </a:lnTo>
                  <a:lnTo>
                    <a:pt x="1170" y="2478"/>
                  </a:lnTo>
                  <a:lnTo>
                    <a:pt x="1174" y="2504"/>
                  </a:lnTo>
                  <a:lnTo>
                    <a:pt x="1178" y="2530"/>
                  </a:lnTo>
                  <a:lnTo>
                    <a:pt x="1178" y="2556"/>
                  </a:lnTo>
                  <a:lnTo>
                    <a:pt x="1174" y="2584"/>
                  </a:lnTo>
                  <a:lnTo>
                    <a:pt x="1170" y="2610"/>
                  </a:lnTo>
                  <a:lnTo>
                    <a:pt x="1162" y="2638"/>
                  </a:lnTo>
                  <a:lnTo>
                    <a:pt x="1150" y="2666"/>
                  </a:lnTo>
                  <a:lnTo>
                    <a:pt x="1134" y="2692"/>
                  </a:lnTo>
                  <a:lnTo>
                    <a:pt x="1116" y="2720"/>
                  </a:lnTo>
                  <a:lnTo>
                    <a:pt x="1092" y="2748"/>
                  </a:lnTo>
                  <a:lnTo>
                    <a:pt x="1066" y="2774"/>
                  </a:lnTo>
                  <a:lnTo>
                    <a:pt x="1066" y="2774"/>
                  </a:lnTo>
                  <a:lnTo>
                    <a:pt x="1078" y="2750"/>
                  </a:lnTo>
                  <a:lnTo>
                    <a:pt x="1088" y="2726"/>
                  </a:lnTo>
                  <a:lnTo>
                    <a:pt x="1096" y="2700"/>
                  </a:lnTo>
                  <a:lnTo>
                    <a:pt x="1104" y="2672"/>
                  </a:lnTo>
                  <a:lnTo>
                    <a:pt x="1108" y="2644"/>
                  </a:lnTo>
                  <a:lnTo>
                    <a:pt x="1110" y="2614"/>
                  </a:lnTo>
                  <a:lnTo>
                    <a:pt x="1112" y="2584"/>
                  </a:lnTo>
                  <a:lnTo>
                    <a:pt x="1110" y="2552"/>
                  </a:lnTo>
                  <a:lnTo>
                    <a:pt x="1110" y="2552"/>
                  </a:lnTo>
                  <a:lnTo>
                    <a:pt x="1108" y="2522"/>
                  </a:lnTo>
                  <a:lnTo>
                    <a:pt x="1100" y="2490"/>
                  </a:lnTo>
                  <a:lnTo>
                    <a:pt x="1092" y="2460"/>
                  </a:lnTo>
                  <a:lnTo>
                    <a:pt x="1082" y="2434"/>
                  </a:lnTo>
                  <a:lnTo>
                    <a:pt x="1064" y="2394"/>
                  </a:lnTo>
                  <a:lnTo>
                    <a:pt x="1056" y="2380"/>
                  </a:lnTo>
                  <a:lnTo>
                    <a:pt x="1056" y="2380"/>
                  </a:lnTo>
                  <a:lnTo>
                    <a:pt x="1058" y="2394"/>
                  </a:lnTo>
                  <a:lnTo>
                    <a:pt x="1060" y="2432"/>
                  </a:lnTo>
                  <a:lnTo>
                    <a:pt x="1060" y="2456"/>
                  </a:lnTo>
                  <a:lnTo>
                    <a:pt x="1060" y="2478"/>
                  </a:lnTo>
                  <a:lnTo>
                    <a:pt x="1056" y="2500"/>
                  </a:lnTo>
                  <a:lnTo>
                    <a:pt x="1050" y="2520"/>
                  </a:lnTo>
                  <a:lnTo>
                    <a:pt x="1050" y="2520"/>
                  </a:lnTo>
                  <a:lnTo>
                    <a:pt x="1044" y="2508"/>
                  </a:lnTo>
                  <a:lnTo>
                    <a:pt x="1038" y="2498"/>
                  </a:lnTo>
                  <a:lnTo>
                    <a:pt x="1030" y="2488"/>
                  </a:lnTo>
                  <a:lnTo>
                    <a:pt x="1022" y="2480"/>
                  </a:lnTo>
                  <a:lnTo>
                    <a:pt x="1012" y="2472"/>
                  </a:lnTo>
                  <a:lnTo>
                    <a:pt x="1004" y="2466"/>
                  </a:lnTo>
                  <a:lnTo>
                    <a:pt x="994" y="2464"/>
                  </a:lnTo>
                  <a:lnTo>
                    <a:pt x="984" y="2460"/>
                  </a:lnTo>
                  <a:lnTo>
                    <a:pt x="974" y="2460"/>
                  </a:lnTo>
                  <a:lnTo>
                    <a:pt x="964" y="2462"/>
                  </a:lnTo>
                  <a:lnTo>
                    <a:pt x="956" y="2464"/>
                  </a:lnTo>
                  <a:lnTo>
                    <a:pt x="948" y="2470"/>
                  </a:lnTo>
                  <a:lnTo>
                    <a:pt x="940" y="2476"/>
                  </a:lnTo>
                  <a:lnTo>
                    <a:pt x="934" y="2484"/>
                  </a:lnTo>
                  <a:lnTo>
                    <a:pt x="930" y="2496"/>
                  </a:lnTo>
                  <a:lnTo>
                    <a:pt x="926" y="2508"/>
                  </a:lnTo>
                  <a:lnTo>
                    <a:pt x="926" y="2508"/>
                  </a:lnTo>
                  <a:lnTo>
                    <a:pt x="940" y="2508"/>
                  </a:lnTo>
                  <a:lnTo>
                    <a:pt x="952" y="2510"/>
                  </a:lnTo>
                  <a:lnTo>
                    <a:pt x="964" y="2512"/>
                  </a:lnTo>
                  <a:lnTo>
                    <a:pt x="976" y="2518"/>
                  </a:lnTo>
                  <a:lnTo>
                    <a:pt x="988" y="2524"/>
                  </a:lnTo>
                  <a:lnTo>
                    <a:pt x="998" y="2532"/>
                  </a:lnTo>
                  <a:lnTo>
                    <a:pt x="1008" y="2540"/>
                  </a:lnTo>
                  <a:lnTo>
                    <a:pt x="1016" y="2550"/>
                  </a:lnTo>
                  <a:lnTo>
                    <a:pt x="1024" y="2562"/>
                  </a:lnTo>
                  <a:lnTo>
                    <a:pt x="1030" y="2574"/>
                  </a:lnTo>
                  <a:lnTo>
                    <a:pt x="1036" y="2588"/>
                  </a:lnTo>
                  <a:lnTo>
                    <a:pt x="1042" y="2602"/>
                  </a:lnTo>
                  <a:lnTo>
                    <a:pt x="1048" y="2632"/>
                  </a:lnTo>
                  <a:lnTo>
                    <a:pt x="1050" y="2648"/>
                  </a:lnTo>
                  <a:lnTo>
                    <a:pt x="1050" y="2664"/>
                  </a:lnTo>
                  <a:lnTo>
                    <a:pt x="1050" y="2680"/>
                  </a:lnTo>
                  <a:lnTo>
                    <a:pt x="1048" y="2696"/>
                  </a:lnTo>
                  <a:lnTo>
                    <a:pt x="1044" y="2712"/>
                  </a:lnTo>
                  <a:lnTo>
                    <a:pt x="1040" y="2728"/>
                  </a:lnTo>
                  <a:lnTo>
                    <a:pt x="1034" y="2744"/>
                  </a:lnTo>
                  <a:lnTo>
                    <a:pt x="1026" y="2760"/>
                  </a:lnTo>
                  <a:lnTo>
                    <a:pt x="1016" y="2776"/>
                  </a:lnTo>
                  <a:lnTo>
                    <a:pt x="1006" y="2790"/>
                  </a:lnTo>
                  <a:lnTo>
                    <a:pt x="994" y="2804"/>
                  </a:lnTo>
                  <a:lnTo>
                    <a:pt x="980" y="2818"/>
                  </a:lnTo>
                  <a:lnTo>
                    <a:pt x="964" y="2830"/>
                  </a:lnTo>
                  <a:lnTo>
                    <a:pt x="946" y="2842"/>
                  </a:lnTo>
                  <a:lnTo>
                    <a:pt x="926" y="2852"/>
                  </a:lnTo>
                  <a:lnTo>
                    <a:pt x="906" y="2862"/>
                  </a:lnTo>
                  <a:lnTo>
                    <a:pt x="882" y="2870"/>
                  </a:lnTo>
                  <a:lnTo>
                    <a:pt x="858" y="2878"/>
                  </a:lnTo>
                  <a:lnTo>
                    <a:pt x="858" y="2878"/>
                  </a:lnTo>
                  <a:lnTo>
                    <a:pt x="886" y="2860"/>
                  </a:lnTo>
                  <a:lnTo>
                    <a:pt x="906" y="2842"/>
                  </a:lnTo>
                  <a:lnTo>
                    <a:pt x="922" y="2824"/>
                  </a:lnTo>
                  <a:lnTo>
                    <a:pt x="932" y="2810"/>
                  </a:lnTo>
                  <a:lnTo>
                    <a:pt x="936" y="2802"/>
                  </a:lnTo>
                  <a:lnTo>
                    <a:pt x="938" y="2794"/>
                  </a:lnTo>
                  <a:lnTo>
                    <a:pt x="938" y="2788"/>
                  </a:lnTo>
                  <a:lnTo>
                    <a:pt x="936" y="2782"/>
                  </a:lnTo>
                  <a:lnTo>
                    <a:pt x="934" y="2776"/>
                  </a:lnTo>
                  <a:lnTo>
                    <a:pt x="930" y="2772"/>
                  </a:lnTo>
                  <a:lnTo>
                    <a:pt x="924" y="2768"/>
                  </a:lnTo>
                  <a:lnTo>
                    <a:pt x="916" y="2764"/>
                  </a:lnTo>
                  <a:lnTo>
                    <a:pt x="916" y="2764"/>
                  </a:lnTo>
                  <a:lnTo>
                    <a:pt x="922" y="2746"/>
                  </a:lnTo>
                  <a:lnTo>
                    <a:pt x="924" y="2726"/>
                  </a:lnTo>
                  <a:lnTo>
                    <a:pt x="924" y="2714"/>
                  </a:lnTo>
                  <a:lnTo>
                    <a:pt x="922" y="2702"/>
                  </a:lnTo>
                  <a:lnTo>
                    <a:pt x="918" y="2692"/>
                  </a:lnTo>
                  <a:lnTo>
                    <a:pt x="914" y="2680"/>
                  </a:lnTo>
                  <a:lnTo>
                    <a:pt x="906" y="2672"/>
                  </a:lnTo>
                  <a:lnTo>
                    <a:pt x="898" y="2662"/>
                  </a:lnTo>
                  <a:lnTo>
                    <a:pt x="886" y="2656"/>
                  </a:lnTo>
                  <a:lnTo>
                    <a:pt x="872" y="2652"/>
                  </a:lnTo>
                  <a:lnTo>
                    <a:pt x="854" y="2650"/>
                  </a:lnTo>
                  <a:lnTo>
                    <a:pt x="836" y="2650"/>
                  </a:lnTo>
                  <a:lnTo>
                    <a:pt x="812" y="2652"/>
                  </a:lnTo>
                  <a:lnTo>
                    <a:pt x="786" y="2658"/>
                  </a:lnTo>
                  <a:lnTo>
                    <a:pt x="786" y="2658"/>
                  </a:lnTo>
                  <a:lnTo>
                    <a:pt x="806" y="2664"/>
                  </a:lnTo>
                  <a:lnTo>
                    <a:pt x="820" y="2672"/>
                  </a:lnTo>
                  <a:lnTo>
                    <a:pt x="832" y="2682"/>
                  </a:lnTo>
                  <a:lnTo>
                    <a:pt x="840" y="2692"/>
                  </a:lnTo>
                  <a:lnTo>
                    <a:pt x="844" y="2702"/>
                  </a:lnTo>
                  <a:lnTo>
                    <a:pt x="846" y="2714"/>
                  </a:lnTo>
                  <a:lnTo>
                    <a:pt x="846" y="2724"/>
                  </a:lnTo>
                  <a:lnTo>
                    <a:pt x="842" y="2736"/>
                  </a:lnTo>
                  <a:lnTo>
                    <a:pt x="836" y="2748"/>
                  </a:lnTo>
                  <a:lnTo>
                    <a:pt x="828" y="2758"/>
                  </a:lnTo>
                  <a:lnTo>
                    <a:pt x="818" y="2768"/>
                  </a:lnTo>
                  <a:lnTo>
                    <a:pt x="808" y="2778"/>
                  </a:lnTo>
                  <a:lnTo>
                    <a:pt x="796" y="2786"/>
                  </a:lnTo>
                  <a:lnTo>
                    <a:pt x="784" y="2794"/>
                  </a:lnTo>
                  <a:lnTo>
                    <a:pt x="770" y="2798"/>
                  </a:lnTo>
                  <a:lnTo>
                    <a:pt x="756" y="2802"/>
                  </a:lnTo>
                  <a:lnTo>
                    <a:pt x="756" y="2802"/>
                  </a:lnTo>
                  <a:lnTo>
                    <a:pt x="752" y="2792"/>
                  </a:lnTo>
                  <a:lnTo>
                    <a:pt x="746" y="2784"/>
                  </a:lnTo>
                  <a:lnTo>
                    <a:pt x="740" y="2776"/>
                  </a:lnTo>
                  <a:lnTo>
                    <a:pt x="732" y="2768"/>
                  </a:lnTo>
                  <a:lnTo>
                    <a:pt x="722" y="2762"/>
                  </a:lnTo>
                  <a:lnTo>
                    <a:pt x="714" y="2758"/>
                  </a:lnTo>
                  <a:lnTo>
                    <a:pt x="704" y="2754"/>
                  </a:lnTo>
                  <a:lnTo>
                    <a:pt x="692" y="2752"/>
                  </a:lnTo>
                  <a:lnTo>
                    <a:pt x="682" y="2752"/>
                  </a:lnTo>
                  <a:lnTo>
                    <a:pt x="672" y="2752"/>
                  </a:lnTo>
                  <a:lnTo>
                    <a:pt x="662" y="2756"/>
                  </a:lnTo>
                  <a:lnTo>
                    <a:pt x="654" y="2760"/>
                  </a:lnTo>
                  <a:lnTo>
                    <a:pt x="646" y="2768"/>
                  </a:lnTo>
                  <a:lnTo>
                    <a:pt x="638" y="2776"/>
                  </a:lnTo>
                  <a:lnTo>
                    <a:pt x="632" y="2786"/>
                  </a:lnTo>
                  <a:lnTo>
                    <a:pt x="628" y="2800"/>
                  </a:lnTo>
                  <a:lnTo>
                    <a:pt x="628" y="2800"/>
                  </a:lnTo>
                  <a:lnTo>
                    <a:pt x="606" y="2788"/>
                  </a:lnTo>
                  <a:lnTo>
                    <a:pt x="588" y="2772"/>
                  </a:lnTo>
                  <a:lnTo>
                    <a:pt x="580" y="2764"/>
                  </a:lnTo>
                  <a:lnTo>
                    <a:pt x="574" y="2754"/>
                  </a:lnTo>
                  <a:lnTo>
                    <a:pt x="568" y="2746"/>
                  </a:lnTo>
                  <a:lnTo>
                    <a:pt x="564" y="2736"/>
                  </a:lnTo>
                  <a:lnTo>
                    <a:pt x="562" y="2726"/>
                  </a:lnTo>
                  <a:lnTo>
                    <a:pt x="562" y="2716"/>
                  </a:lnTo>
                  <a:lnTo>
                    <a:pt x="562" y="2706"/>
                  </a:lnTo>
                  <a:lnTo>
                    <a:pt x="566" y="2694"/>
                  </a:lnTo>
                  <a:lnTo>
                    <a:pt x="572" y="2684"/>
                  </a:lnTo>
                  <a:lnTo>
                    <a:pt x="578" y="2674"/>
                  </a:lnTo>
                  <a:lnTo>
                    <a:pt x="588" y="2664"/>
                  </a:lnTo>
                  <a:lnTo>
                    <a:pt x="600" y="2654"/>
                  </a:lnTo>
                  <a:lnTo>
                    <a:pt x="600" y="2654"/>
                  </a:lnTo>
                  <a:lnTo>
                    <a:pt x="586" y="2652"/>
                  </a:lnTo>
                  <a:lnTo>
                    <a:pt x="570" y="2650"/>
                  </a:lnTo>
                  <a:lnTo>
                    <a:pt x="556" y="2650"/>
                  </a:lnTo>
                  <a:lnTo>
                    <a:pt x="544" y="2652"/>
                  </a:lnTo>
                  <a:lnTo>
                    <a:pt x="532" y="2654"/>
                  </a:lnTo>
                  <a:lnTo>
                    <a:pt x="520" y="2660"/>
                  </a:lnTo>
                  <a:lnTo>
                    <a:pt x="510" y="2666"/>
                  </a:lnTo>
                  <a:lnTo>
                    <a:pt x="502" y="2672"/>
                  </a:lnTo>
                  <a:lnTo>
                    <a:pt x="494" y="2682"/>
                  </a:lnTo>
                  <a:lnTo>
                    <a:pt x="488" y="2692"/>
                  </a:lnTo>
                  <a:lnTo>
                    <a:pt x="484" y="2704"/>
                  </a:lnTo>
                  <a:lnTo>
                    <a:pt x="482" y="2716"/>
                  </a:lnTo>
                  <a:lnTo>
                    <a:pt x="482" y="2732"/>
                  </a:lnTo>
                  <a:lnTo>
                    <a:pt x="484" y="2746"/>
                  </a:lnTo>
                  <a:lnTo>
                    <a:pt x="490" y="2764"/>
                  </a:lnTo>
                  <a:lnTo>
                    <a:pt x="496" y="2782"/>
                  </a:lnTo>
                  <a:lnTo>
                    <a:pt x="496" y="2782"/>
                  </a:lnTo>
                  <a:lnTo>
                    <a:pt x="488" y="2782"/>
                  </a:lnTo>
                  <a:lnTo>
                    <a:pt x="480" y="2784"/>
                  </a:lnTo>
                  <a:lnTo>
                    <a:pt x="474" y="2788"/>
                  </a:lnTo>
                  <a:lnTo>
                    <a:pt x="468" y="2792"/>
                  </a:lnTo>
                  <a:lnTo>
                    <a:pt x="462" y="2798"/>
                  </a:lnTo>
                  <a:lnTo>
                    <a:pt x="460" y="2806"/>
                  </a:lnTo>
                  <a:lnTo>
                    <a:pt x="456" y="2814"/>
                  </a:lnTo>
                  <a:lnTo>
                    <a:pt x="456" y="2824"/>
                  </a:lnTo>
                  <a:lnTo>
                    <a:pt x="456" y="2834"/>
                  </a:lnTo>
                  <a:lnTo>
                    <a:pt x="458" y="2846"/>
                  </a:lnTo>
                  <a:lnTo>
                    <a:pt x="462" y="2856"/>
                  </a:lnTo>
                  <a:lnTo>
                    <a:pt x="468" y="2868"/>
                  </a:lnTo>
                  <a:lnTo>
                    <a:pt x="474" y="2880"/>
                  </a:lnTo>
                  <a:lnTo>
                    <a:pt x="484" y="2894"/>
                  </a:lnTo>
                  <a:lnTo>
                    <a:pt x="496" y="2906"/>
                  </a:lnTo>
                  <a:lnTo>
                    <a:pt x="508" y="2918"/>
                  </a:lnTo>
                  <a:lnTo>
                    <a:pt x="508" y="2918"/>
                  </a:lnTo>
                  <a:lnTo>
                    <a:pt x="480" y="2910"/>
                  </a:lnTo>
                  <a:lnTo>
                    <a:pt x="456" y="2898"/>
                  </a:lnTo>
                  <a:lnTo>
                    <a:pt x="432" y="2884"/>
                  </a:lnTo>
                  <a:lnTo>
                    <a:pt x="412" y="2868"/>
                  </a:lnTo>
                  <a:lnTo>
                    <a:pt x="394" y="2850"/>
                  </a:lnTo>
                  <a:lnTo>
                    <a:pt x="376" y="2832"/>
                  </a:lnTo>
                  <a:lnTo>
                    <a:pt x="362" y="2812"/>
                  </a:lnTo>
                  <a:lnTo>
                    <a:pt x="350" y="2790"/>
                  </a:lnTo>
                  <a:lnTo>
                    <a:pt x="340" y="2770"/>
                  </a:lnTo>
                  <a:lnTo>
                    <a:pt x="332" y="2748"/>
                  </a:lnTo>
                  <a:lnTo>
                    <a:pt x="326" y="2726"/>
                  </a:lnTo>
                  <a:lnTo>
                    <a:pt x="322" y="2706"/>
                  </a:lnTo>
                  <a:lnTo>
                    <a:pt x="320" y="2686"/>
                  </a:lnTo>
                  <a:lnTo>
                    <a:pt x="318" y="2666"/>
                  </a:lnTo>
                  <a:lnTo>
                    <a:pt x="320" y="2648"/>
                  </a:lnTo>
                  <a:lnTo>
                    <a:pt x="322" y="2630"/>
                  </a:lnTo>
                  <a:lnTo>
                    <a:pt x="322" y="2630"/>
                  </a:lnTo>
                  <a:lnTo>
                    <a:pt x="324" y="2618"/>
                  </a:lnTo>
                  <a:lnTo>
                    <a:pt x="330" y="2606"/>
                  </a:lnTo>
                  <a:lnTo>
                    <a:pt x="342" y="2584"/>
                  </a:lnTo>
                  <a:lnTo>
                    <a:pt x="356" y="2566"/>
                  </a:lnTo>
                  <a:lnTo>
                    <a:pt x="374" y="2550"/>
                  </a:lnTo>
                  <a:lnTo>
                    <a:pt x="394" y="2538"/>
                  </a:lnTo>
                  <a:lnTo>
                    <a:pt x="414" y="2530"/>
                  </a:lnTo>
                  <a:lnTo>
                    <a:pt x="434" y="2526"/>
                  </a:lnTo>
                  <a:lnTo>
                    <a:pt x="444" y="2526"/>
                  </a:lnTo>
                  <a:lnTo>
                    <a:pt x="454" y="2526"/>
                  </a:lnTo>
                  <a:lnTo>
                    <a:pt x="454" y="2526"/>
                  </a:lnTo>
                  <a:lnTo>
                    <a:pt x="448" y="2504"/>
                  </a:lnTo>
                  <a:lnTo>
                    <a:pt x="438" y="2488"/>
                  </a:lnTo>
                  <a:lnTo>
                    <a:pt x="426" y="2474"/>
                  </a:lnTo>
                  <a:lnTo>
                    <a:pt x="412" y="2466"/>
                  </a:lnTo>
                  <a:lnTo>
                    <a:pt x="398" y="2462"/>
                  </a:lnTo>
                  <a:lnTo>
                    <a:pt x="382" y="2464"/>
                  </a:lnTo>
                  <a:lnTo>
                    <a:pt x="368" y="2468"/>
                  </a:lnTo>
                  <a:lnTo>
                    <a:pt x="352" y="2476"/>
                  </a:lnTo>
                  <a:lnTo>
                    <a:pt x="352" y="2476"/>
                  </a:lnTo>
                  <a:lnTo>
                    <a:pt x="344" y="2470"/>
                  </a:lnTo>
                  <a:lnTo>
                    <a:pt x="338" y="2464"/>
                  </a:lnTo>
                  <a:lnTo>
                    <a:pt x="330" y="2456"/>
                  </a:lnTo>
                  <a:lnTo>
                    <a:pt x="326" y="2446"/>
                  </a:lnTo>
                  <a:lnTo>
                    <a:pt x="322" y="2438"/>
                  </a:lnTo>
                  <a:lnTo>
                    <a:pt x="320" y="2428"/>
                  </a:lnTo>
                  <a:lnTo>
                    <a:pt x="322" y="2416"/>
                  </a:lnTo>
                  <a:lnTo>
                    <a:pt x="324" y="2406"/>
                  </a:lnTo>
                  <a:lnTo>
                    <a:pt x="324" y="2406"/>
                  </a:lnTo>
                  <a:lnTo>
                    <a:pt x="330" y="2396"/>
                  </a:lnTo>
                  <a:lnTo>
                    <a:pt x="338" y="2388"/>
                  </a:lnTo>
                  <a:lnTo>
                    <a:pt x="348" y="2384"/>
                  </a:lnTo>
                  <a:lnTo>
                    <a:pt x="358" y="2384"/>
                  </a:lnTo>
                  <a:lnTo>
                    <a:pt x="368" y="2386"/>
                  </a:lnTo>
                  <a:lnTo>
                    <a:pt x="378" y="2390"/>
                  </a:lnTo>
                  <a:lnTo>
                    <a:pt x="386" y="2398"/>
                  </a:lnTo>
                  <a:lnTo>
                    <a:pt x="394" y="2406"/>
                  </a:lnTo>
                  <a:lnTo>
                    <a:pt x="394" y="2406"/>
                  </a:lnTo>
                  <a:lnTo>
                    <a:pt x="394" y="2396"/>
                  </a:lnTo>
                  <a:lnTo>
                    <a:pt x="394" y="2386"/>
                  </a:lnTo>
                  <a:lnTo>
                    <a:pt x="392" y="2376"/>
                  </a:lnTo>
                  <a:lnTo>
                    <a:pt x="388" y="2366"/>
                  </a:lnTo>
                  <a:lnTo>
                    <a:pt x="378" y="2348"/>
                  </a:lnTo>
                  <a:lnTo>
                    <a:pt x="366" y="2334"/>
                  </a:lnTo>
                  <a:lnTo>
                    <a:pt x="358" y="2328"/>
                  </a:lnTo>
                  <a:lnTo>
                    <a:pt x="350" y="2324"/>
                  </a:lnTo>
                  <a:lnTo>
                    <a:pt x="340" y="2320"/>
                  </a:lnTo>
                  <a:lnTo>
                    <a:pt x="332" y="2320"/>
                  </a:lnTo>
                  <a:lnTo>
                    <a:pt x="322" y="2318"/>
                  </a:lnTo>
                  <a:lnTo>
                    <a:pt x="312" y="2320"/>
                  </a:lnTo>
                  <a:lnTo>
                    <a:pt x="302" y="2322"/>
                  </a:lnTo>
                  <a:lnTo>
                    <a:pt x="292" y="2326"/>
                  </a:lnTo>
                  <a:lnTo>
                    <a:pt x="292" y="2326"/>
                  </a:lnTo>
                  <a:lnTo>
                    <a:pt x="284" y="2332"/>
                  </a:lnTo>
                  <a:lnTo>
                    <a:pt x="278" y="2338"/>
                  </a:lnTo>
                  <a:lnTo>
                    <a:pt x="274" y="2348"/>
                  </a:lnTo>
                  <a:lnTo>
                    <a:pt x="270" y="2358"/>
                  </a:lnTo>
                  <a:lnTo>
                    <a:pt x="266" y="2368"/>
                  </a:lnTo>
                  <a:lnTo>
                    <a:pt x="266" y="2380"/>
                  </a:lnTo>
                  <a:lnTo>
                    <a:pt x="266" y="2394"/>
                  </a:lnTo>
                  <a:lnTo>
                    <a:pt x="268" y="2406"/>
                  </a:lnTo>
                  <a:lnTo>
                    <a:pt x="272" y="2420"/>
                  </a:lnTo>
                  <a:lnTo>
                    <a:pt x="276" y="2432"/>
                  </a:lnTo>
                  <a:lnTo>
                    <a:pt x="284" y="2444"/>
                  </a:lnTo>
                  <a:lnTo>
                    <a:pt x="292" y="2454"/>
                  </a:lnTo>
                  <a:lnTo>
                    <a:pt x="302" y="2464"/>
                  </a:lnTo>
                  <a:lnTo>
                    <a:pt x="312" y="2474"/>
                  </a:lnTo>
                  <a:lnTo>
                    <a:pt x="326" y="2480"/>
                  </a:lnTo>
                  <a:lnTo>
                    <a:pt x="340" y="2486"/>
                  </a:lnTo>
                  <a:lnTo>
                    <a:pt x="340" y="2486"/>
                  </a:lnTo>
                  <a:lnTo>
                    <a:pt x="330" y="2496"/>
                  </a:lnTo>
                  <a:lnTo>
                    <a:pt x="320" y="2510"/>
                  </a:lnTo>
                  <a:lnTo>
                    <a:pt x="312" y="2524"/>
                  </a:lnTo>
                  <a:lnTo>
                    <a:pt x="304" y="2542"/>
                  </a:lnTo>
                  <a:lnTo>
                    <a:pt x="304" y="2542"/>
                  </a:lnTo>
                  <a:lnTo>
                    <a:pt x="304" y="2536"/>
                  </a:lnTo>
                  <a:lnTo>
                    <a:pt x="302" y="2528"/>
                  </a:lnTo>
                  <a:lnTo>
                    <a:pt x="294" y="2514"/>
                  </a:lnTo>
                  <a:lnTo>
                    <a:pt x="282" y="2502"/>
                  </a:lnTo>
                  <a:lnTo>
                    <a:pt x="266" y="2488"/>
                  </a:lnTo>
                  <a:lnTo>
                    <a:pt x="266" y="2488"/>
                  </a:lnTo>
                  <a:lnTo>
                    <a:pt x="260" y="2504"/>
                  </a:lnTo>
                  <a:lnTo>
                    <a:pt x="254" y="2520"/>
                  </a:lnTo>
                  <a:lnTo>
                    <a:pt x="252" y="2538"/>
                  </a:lnTo>
                  <a:lnTo>
                    <a:pt x="250" y="2558"/>
                  </a:lnTo>
                  <a:lnTo>
                    <a:pt x="248" y="2580"/>
                  </a:lnTo>
                  <a:lnTo>
                    <a:pt x="250" y="2602"/>
                  </a:lnTo>
                  <a:lnTo>
                    <a:pt x="252" y="2626"/>
                  </a:lnTo>
                  <a:lnTo>
                    <a:pt x="256" y="2650"/>
                  </a:lnTo>
                  <a:lnTo>
                    <a:pt x="266" y="2700"/>
                  </a:lnTo>
                  <a:lnTo>
                    <a:pt x="282" y="2750"/>
                  </a:lnTo>
                  <a:lnTo>
                    <a:pt x="302" y="2798"/>
                  </a:lnTo>
                  <a:lnTo>
                    <a:pt x="314" y="2822"/>
                  </a:lnTo>
                  <a:lnTo>
                    <a:pt x="326" y="2846"/>
                  </a:lnTo>
                  <a:lnTo>
                    <a:pt x="326" y="2846"/>
                  </a:lnTo>
                  <a:lnTo>
                    <a:pt x="300" y="2826"/>
                  </a:lnTo>
                  <a:lnTo>
                    <a:pt x="276" y="2806"/>
                  </a:lnTo>
                  <a:lnTo>
                    <a:pt x="256" y="2784"/>
                  </a:lnTo>
                  <a:lnTo>
                    <a:pt x="236" y="2760"/>
                  </a:lnTo>
                  <a:lnTo>
                    <a:pt x="218" y="2736"/>
                  </a:lnTo>
                  <a:lnTo>
                    <a:pt x="200" y="2710"/>
                  </a:lnTo>
                  <a:lnTo>
                    <a:pt x="186" y="2684"/>
                  </a:lnTo>
                  <a:lnTo>
                    <a:pt x="172" y="2656"/>
                  </a:lnTo>
                  <a:lnTo>
                    <a:pt x="162" y="2630"/>
                  </a:lnTo>
                  <a:lnTo>
                    <a:pt x="152" y="2602"/>
                  </a:lnTo>
                  <a:lnTo>
                    <a:pt x="144" y="2572"/>
                  </a:lnTo>
                  <a:lnTo>
                    <a:pt x="138" y="2544"/>
                  </a:lnTo>
                  <a:lnTo>
                    <a:pt x="132" y="2514"/>
                  </a:lnTo>
                  <a:lnTo>
                    <a:pt x="130" y="2486"/>
                  </a:lnTo>
                  <a:lnTo>
                    <a:pt x="128" y="2456"/>
                  </a:lnTo>
                  <a:lnTo>
                    <a:pt x="128" y="2428"/>
                  </a:lnTo>
                  <a:lnTo>
                    <a:pt x="128" y="2428"/>
                  </a:lnTo>
                  <a:lnTo>
                    <a:pt x="130" y="2394"/>
                  </a:lnTo>
                  <a:lnTo>
                    <a:pt x="136" y="2364"/>
                  </a:lnTo>
                  <a:lnTo>
                    <a:pt x="144" y="2332"/>
                  </a:lnTo>
                  <a:lnTo>
                    <a:pt x="156" y="2304"/>
                  </a:lnTo>
                  <a:lnTo>
                    <a:pt x="170" y="2276"/>
                  </a:lnTo>
                  <a:lnTo>
                    <a:pt x="186" y="2252"/>
                  </a:lnTo>
                  <a:lnTo>
                    <a:pt x="204" y="2228"/>
                  </a:lnTo>
                  <a:lnTo>
                    <a:pt x="224" y="2208"/>
                  </a:lnTo>
                  <a:lnTo>
                    <a:pt x="242" y="2188"/>
                  </a:lnTo>
                  <a:lnTo>
                    <a:pt x="264" y="2172"/>
                  </a:lnTo>
                  <a:lnTo>
                    <a:pt x="284" y="2158"/>
                  </a:lnTo>
                  <a:lnTo>
                    <a:pt x="304" y="2148"/>
                  </a:lnTo>
                  <a:lnTo>
                    <a:pt x="324" y="2140"/>
                  </a:lnTo>
                  <a:lnTo>
                    <a:pt x="344" y="2136"/>
                  </a:lnTo>
                  <a:lnTo>
                    <a:pt x="362" y="2136"/>
                  </a:lnTo>
                  <a:lnTo>
                    <a:pt x="378" y="2138"/>
                  </a:lnTo>
                  <a:lnTo>
                    <a:pt x="378" y="2138"/>
                  </a:lnTo>
                  <a:lnTo>
                    <a:pt x="374" y="2130"/>
                  </a:lnTo>
                  <a:lnTo>
                    <a:pt x="370" y="2122"/>
                  </a:lnTo>
                  <a:lnTo>
                    <a:pt x="364" y="2116"/>
                  </a:lnTo>
                  <a:lnTo>
                    <a:pt x="356" y="2110"/>
                  </a:lnTo>
                  <a:lnTo>
                    <a:pt x="348" y="2106"/>
                  </a:lnTo>
                  <a:lnTo>
                    <a:pt x="338" y="2102"/>
                  </a:lnTo>
                  <a:lnTo>
                    <a:pt x="316" y="2100"/>
                  </a:lnTo>
                  <a:lnTo>
                    <a:pt x="290" y="2100"/>
                  </a:lnTo>
                  <a:lnTo>
                    <a:pt x="260" y="2104"/>
                  </a:lnTo>
                  <a:lnTo>
                    <a:pt x="230" y="2112"/>
                  </a:lnTo>
                  <a:lnTo>
                    <a:pt x="200" y="2122"/>
                  </a:lnTo>
                  <a:lnTo>
                    <a:pt x="200" y="2122"/>
                  </a:lnTo>
                  <a:lnTo>
                    <a:pt x="206" y="2118"/>
                  </a:lnTo>
                  <a:lnTo>
                    <a:pt x="210" y="2110"/>
                  </a:lnTo>
                  <a:lnTo>
                    <a:pt x="214" y="2102"/>
                  </a:lnTo>
                  <a:lnTo>
                    <a:pt x="214" y="2092"/>
                  </a:lnTo>
                  <a:lnTo>
                    <a:pt x="216" y="2070"/>
                  </a:lnTo>
                  <a:lnTo>
                    <a:pt x="212" y="2048"/>
                  </a:lnTo>
                  <a:lnTo>
                    <a:pt x="204" y="2024"/>
                  </a:lnTo>
                  <a:lnTo>
                    <a:pt x="196" y="2002"/>
                  </a:lnTo>
                  <a:lnTo>
                    <a:pt x="186" y="1986"/>
                  </a:lnTo>
                  <a:lnTo>
                    <a:pt x="176" y="1972"/>
                  </a:lnTo>
                  <a:lnTo>
                    <a:pt x="176" y="1972"/>
                  </a:lnTo>
                  <a:lnTo>
                    <a:pt x="186" y="1956"/>
                  </a:lnTo>
                  <a:lnTo>
                    <a:pt x="196" y="1940"/>
                  </a:lnTo>
                  <a:lnTo>
                    <a:pt x="210" y="1926"/>
                  </a:lnTo>
                  <a:lnTo>
                    <a:pt x="224" y="1914"/>
                  </a:lnTo>
                  <a:lnTo>
                    <a:pt x="240" y="1902"/>
                  </a:lnTo>
                  <a:lnTo>
                    <a:pt x="258" y="1892"/>
                  </a:lnTo>
                  <a:lnTo>
                    <a:pt x="276" y="1882"/>
                  </a:lnTo>
                  <a:lnTo>
                    <a:pt x="294" y="1874"/>
                  </a:lnTo>
                  <a:lnTo>
                    <a:pt x="314" y="1868"/>
                  </a:lnTo>
                  <a:lnTo>
                    <a:pt x="334" y="1864"/>
                  </a:lnTo>
                  <a:lnTo>
                    <a:pt x="354" y="1862"/>
                  </a:lnTo>
                  <a:lnTo>
                    <a:pt x="372" y="1862"/>
                  </a:lnTo>
                  <a:lnTo>
                    <a:pt x="392" y="1864"/>
                  </a:lnTo>
                  <a:lnTo>
                    <a:pt x="410" y="1868"/>
                  </a:lnTo>
                  <a:lnTo>
                    <a:pt x="428" y="1874"/>
                  </a:lnTo>
                  <a:lnTo>
                    <a:pt x="444" y="1884"/>
                  </a:lnTo>
                  <a:lnTo>
                    <a:pt x="444" y="1884"/>
                  </a:lnTo>
                  <a:lnTo>
                    <a:pt x="442" y="1876"/>
                  </a:lnTo>
                  <a:lnTo>
                    <a:pt x="440" y="1868"/>
                  </a:lnTo>
                  <a:lnTo>
                    <a:pt x="434" y="1856"/>
                  </a:lnTo>
                  <a:lnTo>
                    <a:pt x="422" y="1844"/>
                  </a:lnTo>
                  <a:lnTo>
                    <a:pt x="408" y="1836"/>
                  </a:lnTo>
                  <a:lnTo>
                    <a:pt x="392" y="1830"/>
                  </a:lnTo>
                  <a:lnTo>
                    <a:pt x="376" y="1824"/>
                  </a:lnTo>
                  <a:lnTo>
                    <a:pt x="358" y="1822"/>
                  </a:lnTo>
                  <a:lnTo>
                    <a:pt x="340" y="1822"/>
                  </a:lnTo>
                  <a:lnTo>
                    <a:pt x="340" y="1822"/>
                  </a:lnTo>
                  <a:lnTo>
                    <a:pt x="378" y="1806"/>
                  </a:lnTo>
                  <a:lnTo>
                    <a:pt x="414" y="1794"/>
                  </a:lnTo>
                  <a:lnTo>
                    <a:pt x="446" y="1786"/>
                  </a:lnTo>
                  <a:lnTo>
                    <a:pt x="476" y="1780"/>
                  </a:lnTo>
                  <a:lnTo>
                    <a:pt x="504" y="1778"/>
                  </a:lnTo>
                  <a:lnTo>
                    <a:pt x="530" y="1780"/>
                  </a:lnTo>
                  <a:lnTo>
                    <a:pt x="552" y="1784"/>
                  </a:lnTo>
                  <a:lnTo>
                    <a:pt x="574" y="1790"/>
                  </a:lnTo>
                  <a:lnTo>
                    <a:pt x="592" y="1800"/>
                  </a:lnTo>
                  <a:lnTo>
                    <a:pt x="606" y="1810"/>
                  </a:lnTo>
                  <a:lnTo>
                    <a:pt x="620" y="1822"/>
                  </a:lnTo>
                  <a:lnTo>
                    <a:pt x="630" y="1836"/>
                  </a:lnTo>
                  <a:lnTo>
                    <a:pt x="638" y="1850"/>
                  </a:lnTo>
                  <a:lnTo>
                    <a:pt x="644" y="1864"/>
                  </a:lnTo>
                  <a:lnTo>
                    <a:pt x="648" y="1880"/>
                  </a:lnTo>
                  <a:lnTo>
                    <a:pt x="648" y="1896"/>
                  </a:lnTo>
                  <a:lnTo>
                    <a:pt x="648" y="1896"/>
                  </a:lnTo>
                  <a:lnTo>
                    <a:pt x="646" y="1918"/>
                  </a:lnTo>
                  <a:lnTo>
                    <a:pt x="644" y="1934"/>
                  </a:lnTo>
                  <a:lnTo>
                    <a:pt x="638" y="1950"/>
                  </a:lnTo>
                  <a:lnTo>
                    <a:pt x="630" y="1966"/>
                  </a:lnTo>
                  <a:lnTo>
                    <a:pt x="630" y="1966"/>
                  </a:lnTo>
                  <a:lnTo>
                    <a:pt x="618" y="1984"/>
                  </a:lnTo>
                  <a:lnTo>
                    <a:pt x="604" y="1998"/>
                  </a:lnTo>
                  <a:lnTo>
                    <a:pt x="590" y="2012"/>
                  </a:lnTo>
                  <a:lnTo>
                    <a:pt x="574" y="2020"/>
                  </a:lnTo>
                  <a:lnTo>
                    <a:pt x="558" y="2026"/>
                  </a:lnTo>
                  <a:lnTo>
                    <a:pt x="550" y="2026"/>
                  </a:lnTo>
                  <a:lnTo>
                    <a:pt x="542" y="2026"/>
                  </a:lnTo>
                  <a:lnTo>
                    <a:pt x="536" y="2026"/>
                  </a:lnTo>
                  <a:lnTo>
                    <a:pt x="528" y="2022"/>
                  </a:lnTo>
                  <a:lnTo>
                    <a:pt x="520" y="2018"/>
                  </a:lnTo>
                  <a:lnTo>
                    <a:pt x="514" y="2012"/>
                  </a:lnTo>
                  <a:lnTo>
                    <a:pt x="514" y="2012"/>
                  </a:lnTo>
                  <a:lnTo>
                    <a:pt x="508" y="2006"/>
                  </a:lnTo>
                  <a:lnTo>
                    <a:pt x="502" y="1998"/>
                  </a:lnTo>
                  <a:lnTo>
                    <a:pt x="500" y="1992"/>
                  </a:lnTo>
                  <a:lnTo>
                    <a:pt x="498" y="1986"/>
                  </a:lnTo>
                  <a:lnTo>
                    <a:pt x="496" y="1978"/>
                  </a:lnTo>
                  <a:lnTo>
                    <a:pt x="498" y="1972"/>
                  </a:lnTo>
                  <a:lnTo>
                    <a:pt x="502" y="1958"/>
                  </a:lnTo>
                  <a:lnTo>
                    <a:pt x="510" y="1948"/>
                  </a:lnTo>
                  <a:lnTo>
                    <a:pt x="522" y="1938"/>
                  </a:lnTo>
                  <a:lnTo>
                    <a:pt x="534" y="1930"/>
                  </a:lnTo>
                  <a:lnTo>
                    <a:pt x="550" y="1924"/>
                  </a:lnTo>
                  <a:lnTo>
                    <a:pt x="550" y="1924"/>
                  </a:lnTo>
                  <a:lnTo>
                    <a:pt x="536" y="1920"/>
                  </a:lnTo>
                  <a:lnTo>
                    <a:pt x="522" y="1916"/>
                  </a:lnTo>
                  <a:lnTo>
                    <a:pt x="508" y="1912"/>
                  </a:lnTo>
                  <a:lnTo>
                    <a:pt x="496" y="1912"/>
                  </a:lnTo>
                  <a:lnTo>
                    <a:pt x="482" y="1912"/>
                  </a:lnTo>
                  <a:lnTo>
                    <a:pt x="470" y="1914"/>
                  </a:lnTo>
                  <a:lnTo>
                    <a:pt x="456" y="1918"/>
                  </a:lnTo>
                  <a:lnTo>
                    <a:pt x="446" y="1924"/>
                  </a:lnTo>
                  <a:lnTo>
                    <a:pt x="434" y="1930"/>
                  </a:lnTo>
                  <a:lnTo>
                    <a:pt x="426" y="1938"/>
                  </a:lnTo>
                  <a:lnTo>
                    <a:pt x="416" y="1946"/>
                  </a:lnTo>
                  <a:lnTo>
                    <a:pt x="410" y="1956"/>
                  </a:lnTo>
                  <a:lnTo>
                    <a:pt x="404" y="1968"/>
                  </a:lnTo>
                  <a:lnTo>
                    <a:pt x="400" y="1980"/>
                  </a:lnTo>
                  <a:lnTo>
                    <a:pt x="398" y="1994"/>
                  </a:lnTo>
                  <a:lnTo>
                    <a:pt x="398" y="2008"/>
                  </a:lnTo>
                  <a:lnTo>
                    <a:pt x="398" y="2008"/>
                  </a:lnTo>
                  <a:lnTo>
                    <a:pt x="400" y="2022"/>
                  </a:lnTo>
                  <a:lnTo>
                    <a:pt x="406" y="2036"/>
                  </a:lnTo>
                  <a:lnTo>
                    <a:pt x="412" y="2048"/>
                  </a:lnTo>
                  <a:lnTo>
                    <a:pt x="422" y="2060"/>
                  </a:lnTo>
                  <a:lnTo>
                    <a:pt x="432" y="2072"/>
                  </a:lnTo>
                  <a:lnTo>
                    <a:pt x="446" y="2082"/>
                  </a:lnTo>
                  <a:lnTo>
                    <a:pt x="460" y="2090"/>
                  </a:lnTo>
                  <a:lnTo>
                    <a:pt x="474" y="2096"/>
                  </a:lnTo>
                  <a:lnTo>
                    <a:pt x="490" y="2100"/>
                  </a:lnTo>
                  <a:lnTo>
                    <a:pt x="508" y="2102"/>
                  </a:lnTo>
                  <a:lnTo>
                    <a:pt x="526" y="2102"/>
                  </a:lnTo>
                  <a:lnTo>
                    <a:pt x="544" y="2098"/>
                  </a:lnTo>
                  <a:lnTo>
                    <a:pt x="560" y="2092"/>
                  </a:lnTo>
                  <a:lnTo>
                    <a:pt x="578" y="2082"/>
                  </a:lnTo>
                  <a:lnTo>
                    <a:pt x="596" y="2068"/>
                  </a:lnTo>
                  <a:lnTo>
                    <a:pt x="612" y="2050"/>
                  </a:lnTo>
                  <a:lnTo>
                    <a:pt x="612" y="2050"/>
                  </a:lnTo>
                  <a:lnTo>
                    <a:pt x="620" y="2038"/>
                  </a:lnTo>
                  <a:lnTo>
                    <a:pt x="620" y="2038"/>
                  </a:lnTo>
                  <a:lnTo>
                    <a:pt x="632" y="2022"/>
                  </a:lnTo>
                  <a:lnTo>
                    <a:pt x="640" y="2002"/>
                  </a:lnTo>
                  <a:lnTo>
                    <a:pt x="648" y="1984"/>
                  </a:lnTo>
                  <a:lnTo>
                    <a:pt x="656" y="1966"/>
                  </a:lnTo>
                  <a:lnTo>
                    <a:pt x="664" y="1928"/>
                  </a:lnTo>
                  <a:lnTo>
                    <a:pt x="670" y="1898"/>
                  </a:lnTo>
                  <a:lnTo>
                    <a:pt x="670" y="1898"/>
                  </a:lnTo>
                  <a:lnTo>
                    <a:pt x="668" y="1864"/>
                  </a:lnTo>
                  <a:lnTo>
                    <a:pt x="664" y="1848"/>
                  </a:lnTo>
                  <a:lnTo>
                    <a:pt x="660" y="1832"/>
                  </a:lnTo>
                  <a:lnTo>
                    <a:pt x="656" y="1816"/>
                  </a:lnTo>
                  <a:lnTo>
                    <a:pt x="650" y="1802"/>
                  </a:lnTo>
                  <a:lnTo>
                    <a:pt x="642" y="1788"/>
                  </a:lnTo>
                  <a:lnTo>
                    <a:pt x="634" y="1776"/>
                  </a:lnTo>
                  <a:lnTo>
                    <a:pt x="624" y="1764"/>
                  </a:lnTo>
                  <a:lnTo>
                    <a:pt x="614" y="1754"/>
                  </a:lnTo>
                  <a:lnTo>
                    <a:pt x="602" y="1746"/>
                  </a:lnTo>
                  <a:lnTo>
                    <a:pt x="590" y="1738"/>
                  </a:lnTo>
                  <a:lnTo>
                    <a:pt x="576" y="1734"/>
                  </a:lnTo>
                  <a:lnTo>
                    <a:pt x="560" y="1730"/>
                  </a:lnTo>
                  <a:lnTo>
                    <a:pt x="544" y="1728"/>
                  </a:lnTo>
                  <a:lnTo>
                    <a:pt x="526" y="1730"/>
                  </a:lnTo>
                  <a:lnTo>
                    <a:pt x="526" y="1730"/>
                  </a:lnTo>
                  <a:lnTo>
                    <a:pt x="550" y="1720"/>
                  </a:lnTo>
                  <a:lnTo>
                    <a:pt x="574" y="1714"/>
                  </a:lnTo>
                  <a:lnTo>
                    <a:pt x="574" y="1714"/>
                  </a:lnTo>
                  <a:lnTo>
                    <a:pt x="602" y="1710"/>
                  </a:lnTo>
                  <a:lnTo>
                    <a:pt x="626" y="1710"/>
                  </a:lnTo>
                  <a:lnTo>
                    <a:pt x="650" y="1712"/>
                  </a:lnTo>
                  <a:lnTo>
                    <a:pt x="672" y="1716"/>
                  </a:lnTo>
                  <a:lnTo>
                    <a:pt x="692" y="1724"/>
                  </a:lnTo>
                  <a:lnTo>
                    <a:pt x="712" y="1732"/>
                  </a:lnTo>
                  <a:lnTo>
                    <a:pt x="728" y="1744"/>
                  </a:lnTo>
                  <a:lnTo>
                    <a:pt x="742" y="1756"/>
                  </a:lnTo>
                  <a:lnTo>
                    <a:pt x="756" y="1772"/>
                  </a:lnTo>
                  <a:lnTo>
                    <a:pt x="766" y="1786"/>
                  </a:lnTo>
                  <a:lnTo>
                    <a:pt x="774" y="1804"/>
                  </a:lnTo>
                  <a:lnTo>
                    <a:pt x="778" y="1820"/>
                  </a:lnTo>
                  <a:lnTo>
                    <a:pt x="782" y="1838"/>
                  </a:lnTo>
                  <a:lnTo>
                    <a:pt x="782" y="1856"/>
                  </a:lnTo>
                  <a:lnTo>
                    <a:pt x="778" y="1874"/>
                  </a:lnTo>
                  <a:lnTo>
                    <a:pt x="772" y="1892"/>
                  </a:lnTo>
                  <a:lnTo>
                    <a:pt x="772" y="1892"/>
                  </a:lnTo>
                  <a:lnTo>
                    <a:pt x="790" y="1882"/>
                  </a:lnTo>
                  <a:lnTo>
                    <a:pt x="804" y="1872"/>
                  </a:lnTo>
                  <a:lnTo>
                    <a:pt x="818" y="1862"/>
                  </a:lnTo>
                  <a:lnTo>
                    <a:pt x="830" y="1850"/>
                  </a:lnTo>
                  <a:lnTo>
                    <a:pt x="838" y="1838"/>
                  </a:lnTo>
                  <a:lnTo>
                    <a:pt x="844" y="1824"/>
                  </a:lnTo>
                  <a:lnTo>
                    <a:pt x="848" y="1808"/>
                  </a:lnTo>
                  <a:lnTo>
                    <a:pt x="850" y="1790"/>
                  </a:lnTo>
                  <a:lnTo>
                    <a:pt x="850" y="1790"/>
                  </a:lnTo>
                  <a:lnTo>
                    <a:pt x="862" y="1808"/>
                  </a:lnTo>
                  <a:lnTo>
                    <a:pt x="868" y="1818"/>
                  </a:lnTo>
                  <a:lnTo>
                    <a:pt x="870" y="1828"/>
                  </a:lnTo>
                  <a:lnTo>
                    <a:pt x="872" y="1840"/>
                  </a:lnTo>
                  <a:lnTo>
                    <a:pt x="874" y="1852"/>
                  </a:lnTo>
                  <a:lnTo>
                    <a:pt x="874" y="1864"/>
                  </a:lnTo>
                  <a:lnTo>
                    <a:pt x="872" y="1876"/>
                  </a:lnTo>
                  <a:lnTo>
                    <a:pt x="870" y="1888"/>
                  </a:lnTo>
                  <a:lnTo>
                    <a:pt x="866" y="1900"/>
                  </a:lnTo>
                  <a:lnTo>
                    <a:pt x="854" y="1928"/>
                  </a:lnTo>
                  <a:lnTo>
                    <a:pt x="836" y="1956"/>
                  </a:lnTo>
                  <a:lnTo>
                    <a:pt x="812" y="1986"/>
                  </a:lnTo>
                  <a:lnTo>
                    <a:pt x="812" y="1986"/>
                  </a:lnTo>
                  <a:lnTo>
                    <a:pt x="838" y="1978"/>
                  </a:lnTo>
                  <a:lnTo>
                    <a:pt x="860" y="1968"/>
                  </a:lnTo>
                  <a:lnTo>
                    <a:pt x="880" y="1956"/>
                  </a:lnTo>
                  <a:lnTo>
                    <a:pt x="898" y="1942"/>
                  </a:lnTo>
                  <a:lnTo>
                    <a:pt x="912" y="1928"/>
                  </a:lnTo>
                  <a:lnTo>
                    <a:pt x="924" y="1912"/>
                  </a:lnTo>
                  <a:lnTo>
                    <a:pt x="934" y="1896"/>
                  </a:lnTo>
                  <a:lnTo>
                    <a:pt x="940" y="1880"/>
                  </a:lnTo>
                  <a:lnTo>
                    <a:pt x="946" y="1864"/>
                  </a:lnTo>
                  <a:lnTo>
                    <a:pt x="950" y="1848"/>
                  </a:lnTo>
                  <a:lnTo>
                    <a:pt x="952" y="1832"/>
                  </a:lnTo>
                  <a:lnTo>
                    <a:pt x="954" y="1818"/>
                  </a:lnTo>
                  <a:lnTo>
                    <a:pt x="952" y="1792"/>
                  </a:lnTo>
                  <a:lnTo>
                    <a:pt x="946" y="1774"/>
                  </a:lnTo>
                  <a:lnTo>
                    <a:pt x="946" y="1774"/>
                  </a:lnTo>
                  <a:lnTo>
                    <a:pt x="952" y="1778"/>
                  </a:lnTo>
                  <a:lnTo>
                    <a:pt x="958" y="1784"/>
                  </a:lnTo>
                  <a:lnTo>
                    <a:pt x="966" y="1798"/>
                  </a:lnTo>
                  <a:lnTo>
                    <a:pt x="980" y="1814"/>
                  </a:lnTo>
                  <a:lnTo>
                    <a:pt x="988" y="1822"/>
                  </a:lnTo>
                  <a:lnTo>
                    <a:pt x="1000" y="1828"/>
                  </a:lnTo>
                  <a:lnTo>
                    <a:pt x="1000" y="1828"/>
                  </a:lnTo>
                  <a:lnTo>
                    <a:pt x="1000" y="1810"/>
                  </a:lnTo>
                  <a:lnTo>
                    <a:pt x="998" y="1792"/>
                  </a:lnTo>
                  <a:lnTo>
                    <a:pt x="996" y="1776"/>
                  </a:lnTo>
                  <a:lnTo>
                    <a:pt x="990" y="1760"/>
                  </a:lnTo>
                  <a:lnTo>
                    <a:pt x="984" y="1744"/>
                  </a:lnTo>
                  <a:lnTo>
                    <a:pt x="978" y="1728"/>
                  </a:lnTo>
                  <a:lnTo>
                    <a:pt x="970" y="1714"/>
                  </a:lnTo>
                  <a:lnTo>
                    <a:pt x="958" y="1700"/>
                  </a:lnTo>
                  <a:lnTo>
                    <a:pt x="948" y="1686"/>
                  </a:lnTo>
                  <a:lnTo>
                    <a:pt x="934" y="1672"/>
                  </a:lnTo>
                  <a:lnTo>
                    <a:pt x="920" y="1660"/>
                  </a:lnTo>
                  <a:lnTo>
                    <a:pt x="904" y="1650"/>
                  </a:lnTo>
                  <a:lnTo>
                    <a:pt x="888" y="1640"/>
                  </a:lnTo>
                  <a:lnTo>
                    <a:pt x="870" y="1630"/>
                  </a:lnTo>
                  <a:lnTo>
                    <a:pt x="850" y="1622"/>
                  </a:lnTo>
                  <a:lnTo>
                    <a:pt x="828" y="1614"/>
                  </a:lnTo>
                  <a:lnTo>
                    <a:pt x="828" y="1614"/>
                  </a:lnTo>
                  <a:lnTo>
                    <a:pt x="802" y="1610"/>
                  </a:lnTo>
                  <a:lnTo>
                    <a:pt x="772" y="1608"/>
                  </a:lnTo>
                  <a:lnTo>
                    <a:pt x="744" y="1608"/>
                  </a:lnTo>
                  <a:lnTo>
                    <a:pt x="720" y="1610"/>
                  </a:lnTo>
                  <a:lnTo>
                    <a:pt x="720" y="1610"/>
                  </a:lnTo>
                  <a:lnTo>
                    <a:pt x="698" y="1610"/>
                  </a:lnTo>
                  <a:lnTo>
                    <a:pt x="674" y="1612"/>
                  </a:lnTo>
                  <a:lnTo>
                    <a:pt x="648" y="1618"/>
                  </a:lnTo>
                  <a:lnTo>
                    <a:pt x="620" y="1624"/>
                  </a:lnTo>
                  <a:lnTo>
                    <a:pt x="564" y="1644"/>
                  </a:lnTo>
                  <a:lnTo>
                    <a:pt x="504" y="1668"/>
                  </a:lnTo>
                  <a:lnTo>
                    <a:pt x="504" y="1668"/>
                  </a:lnTo>
                  <a:lnTo>
                    <a:pt x="442" y="1694"/>
                  </a:lnTo>
                  <a:lnTo>
                    <a:pt x="384" y="1716"/>
                  </a:lnTo>
                  <a:lnTo>
                    <a:pt x="384" y="1716"/>
                  </a:lnTo>
                  <a:lnTo>
                    <a:pt x="400" y="1706"/>
                  </a:lnTo>
                  <a:lnTo>
                    <a:pt x="416" y="1694"/>
                  </a:lnTo>
                  <a:lnTo>
                    <a:pt x="452" y="1662"/>
                  </a:lnTo>
                  <a:lnTo>
                    <a:pt x="486" y="1624"/>
                  </a:lnTo>
                  <a:lnTo>
                    <a:pt x="522" y="1584"/>
                  </a:lnTo>
                  <a:lnTo>
                    <a:pt x="554" y="1544"/>
                  </a:lnTo>
                  <a:lnTo>
                    <a:pt x="584" y="1504"/>
                  </a:lnTo>
                  <a:lnTo>
                    <a:pt x="628" y="1440"/>
                  </a:lnTo>
                  <a:lnTo>
                    <a:pt x="628" y="1440"/>
                  </a:lnTo>
                  <a:lnTo>
                    <a:pt x="634" y="1430"/>
                  </a:lnTo>
                  <a:lnTo>
                    <a:pt x="642" y="1414"/>
                  </a:lnTo>
                  <a:lnTo>
                    <a:pt x="656" y="1378"/>
                  </a:lnTo>
                  <a:lnTo>
                    <a:pt x="666" y="1340"/>
                  </a:lnTo>
                  <a:lnTo>
                    <a:pt x="674" y="1312"/>
                  </a:lnTo>
                  <a:lnTo>
                    <a:pt x="674" y="1312"/>
                  </a:lnTo>
                  <a:lnTo>
                    <a:pt x="686" y="1228"/>
                  </a:lnTo>
                  <a:lnTo>
                    <a:pt x="692" y="1152"/>
                  </a:lnTo>
                  <a:lnTo>
                    <a:pt x="694" y="1082"/>
                  </a:lnTo>
                  <a:lnTo>
                    <a:pt x="690" y="1018"/>
                  </a:lnTo>
                  <a:lnTo>
                    <a:pt x="688" y="988"/>
                  </a:lnTo>
                  <a:lnTo>
                    <a:pt x="684" y="960"/>
                  </a:lnTo>
                  <a:lnTo>
                    <a:pt x="678" y="934"/>
                  </a:lnTo>
                  <a:lnTo>
                    <a:pt x="672" y="908"/>
                  </a:lnTo>
                  <a:lnTo>
                    <a:pt x="666" y="884"/>
                  </a:lnTo>
                  <a:lnTo>
                    <a:pt x="658" y="862"/>
                  </a:lnTo>
                  <a:lnTo>
                    <a:pt x="648" y="842"/>
                  </a:lnTo>
                  <a:lnTo>
                    <a:pt x="638" y="822"/>
                  </a:lnTo>
                  <a:lnTo>
                    <a:pt x="628" y="804"/>
                  </a:lnTo>
                  <a:lnTo>
                    <a:pt x="616" y="788"/>
                  </a:lnTo>
                  <a:lnTo>
                    <a:pt x="604" y="772"/>
                  </a:lnTo>
                  <a:lnTo>
                    <a:pt x="592" y="758"/>
                  </a:lnTo>
                  <a:lnTo>
                    <a:pt x="578" y="744"/>
                  </a:lnTo>
                  <a:lnTo>
                    <a:pt x="564" y="732"/>
                  </a:lnTo>
                  <a:lnTo>
                    <a:pt x="550" y="722"/>
                  </a:lnTo>
                  <a:lnTo>
                    <a:pt x="534" y="712"/>
                  </a:lnTo>
                  <a:lnTo>
                    <a:pt x="518" y="704"/>
                  </a:lnTo>
                  <a:lnTo>
                    <a:pt x="502" y="696"/>
                  </a:lnTo>
                  <a:lnTo>
                    <a:pt x="468" y="684"/>
                  </a:lnTo>
                  <a:lnTo>
                    <a:pt x="432" y="678"/>
                  </a:lnTo>
                  <a:lnTo>
                    <a:pt x="394" y="674"/>
                  </a:lnTo>
                  <a:lnTo>
                    <a:pt x="394" y="674"/>
                  </a:lnTo>
                  <a:lnTo>
                    <a:pt x="412" y="664"/>
                  </a:lnTo>
                  <a:lnTo>
                    <a:pt x="426" y="652"/>
                  </a:lnTo>
                  <a:lnTo>
                    <a:pt x="438" y="642"/>
                  </a:lnTo>
                  <a:lnTo>
                    <a:pt x="448" y="630"/>
                  </a:lnTo>
                  <a:lnTo>
                    <a:pt x="456" y="618"/>
                  </a:lnTo>
                  <a:lnTo>
                    <a:pt x="462" y="604"/>
                  </a:lnTo>
                  <a:lnTo>
                    <a:pt x="466" y="592"/>
                  </a:lnTo>
                  <a:lnTo>
                    <a:pt x="468" y="580"/>
                  </a:lnTo>
                  <a:lnTo>
                    <a:pt x="470" y="566"/>
                  </a:lnTo>
                  <a:lnTo>
                    <a:pt x="470" y="554"/>
                  </a:lnTo>
                  <a:lnTo>
                    <a:pt x="468" y="542"/>
                  </a:lnTo>
                  <a:lnTo>
                    <a:pt x="464" y="530"/>
                  </a:lnTo>
                  <a:lnTo>
                    <a:pt x="456" y="506"/>
                  </a:lnTo>
                  <a:lnTo>
                    <a:pt x="442" y="486"/>
                  </a:lnTo>
                  <a:lnTo>
                    <a:pt x="428" y="468"/>
                  </a:lnTo>
                  <a:lnTo>
                    <a:pt x="410" y="454"/>
                  </a:lnTo>
                  <a:lnTo>
                    <a:pt x="400" y="450"/>
                  </a:lnTo>
                  <a:lnTo>
                    <a:pt x="390" y="446"/>
                  </a:lnTo>
                  <a:lnTo>
                    <a:pt x="380" y="444"/>
                  </a:lnTo>
                  <a:lnTo>
                    <a:pt x="370" y="442"/>
                  </a:lnTo>
                  <a:lnTo>
                    <a:pt x="360" y="444"/>
                  </a:lnTo>
                  <a:lnTo>
                    <a:pt x="350" y="446"/>
                  </a:lnTo>
                  <a:lnTo>
                    <a:pt x="340" y="450"/>
                  </a:lnTo>
                  <a:lnTo>
                    <a:pt x="330" y="456"/>
                  </a:lnTo>
                  <a:lnTo>
                    <a:pt x="322" y="464"/>
                  </a:lnTo>
                  <a:lnTo>
                    <a:pt x="314" y="476"/>
                  </a:lnTo>
                  <a:lnTo>
                    <a:pt x="306" y="488"/>
                  </a:lnTo>
                  <a:lnTo>
                    <a:pt x="298" y="502"/>
                  </a:lnTo>
                  <a:lnTo>
                    <a:pt x="298" y="502"/>
                  </a:lnTo>
                  <a:lnTo>
                    <a:pt x="308" y="490"/>
                  </a:lnTo>
                  <a:lnTo>
                    <a:pt x="320" y="482"/>
                  </a:lnTo>
                  <a:lnTo>
                    <a:pt x="330" y="478"/>
                  </a:lnTo>
                  <a:lnTo>
                    <a:pt x="338" y="476"/>
                  </a:lnTo>
                  <a:lnTo>
                    <a:pt x="348" y="476"/>
                  </a:lnTo>
                  <a:lnTo>
                    <a:pt x="356" y="478"/>
                  </a:lnTo>
                  <a:lnTo>
                    <a:pt x="364" y="484"/>
                  </a:lnTo>
                  <a:lnTo>
                    <a:pt x="372" y="492"/>
                  </a:lnTo>
                  <a:lnTo>
                    <a:pt x="378" y="500"/>
                  </a:lnTo>
                  <a:lnTo>
                    <a:pt x="382" y="510"/>
                  </a:lnTo>
                  <a:lnTo>
                    <a:pt x="386" y="522"/>
                  </a:lnTo>
                  <a:lnTo>
                    <a:pt x="386" y="534"/>
                  </a:lnTo>
                  <a:lnTo>
                    <a:pt x="386" y="546"/>
                  </a:lnTo>
                  <a:lnTo>
                    <a:pt x="384" y="560"/>
                  </a:lnTo>
                  <a:lnTo>
                    <a:pt x="380" y="572"/>
                  </a:lnTo>
                  <a:lnTo>
                    <a:pt x="374" y="586"/>
                  </a:lnTo>
                  <a:lnTo>
                    <a:pt x="374" y="586"/>
                  </a:lnTo>
                  <a:lnTo>
                    <a:pt x="368" y="574"/>
                  </a:lnTo>
                  <a:lnTo>
                    <a:pt x="362" y="566"/>
                  </a:lnTo>
                  <a:lnTo>
                    <a:pt x="354" y="558"/>
                  </a:lnTo>
                  <a:lnTo>
                    <a:pt x="348" y="552"/>
                  </a:lnTo>
                  <a:lnTo>
                    <a:pt x="340" y="548"/>
                  </a:lnTo>
                  <a:lnTo>
                    <a:pt x="330" y="546"/>
                  </a:lnTo>
                  <a:lnTo>
                    <a:pt x="322" y="546"/>
                  </a:lnTo>
                  <a:lnTo>
                    <a:pt x="312" y="548"/>
                  </a:lnTo>
                  <a:lnTo>
                    <a:pt x="312" y="548"/>
                  </a:lnTo>
                  <a:lnTo>
                    <a:pt x="320" y="560"/>
                  </a:lnTo>
                  <a:lnTo>
                    <a:pt x="324" y="570"/>
                  </a:lnTo>
                  <a:lnTo>
                    <a:pt x="328" y="582"/>
                  </a:lnTo>
                  <a:lnTo>
                    <a:pt x="328" y="590"/>
                  </a:lnTo>
                  <a:lnTo>
                    <a:pt x="326" y="600"/>
                  </a:lnTo>
                  <a:lnTo>
                    <a:pt x="324" y="608"/>
                  </a:lnTo>
                  <a:lnTo>
                    <a:pt x="320" y="614"/>
                  </a:lnTo>
                  <a:lnTo>
                    <a:pt x="314" y="620"/>
                  </a:lnTo>
                  <a:lnTo>
                    <a:pt x="302" y="630"/>
                  </a:lnTo>
                  <a:lnTo>
                    <a:pt x="286" y="636"/>
                  </a:lnTo>
                  <a:lnTo>
                    <a:pt x="272" y="640"/>
                  </a:lnTo>
                  <a:lnTo>
                    <a:pt x="260" y="640"/>
                  </a:lnTo>
                  <a:lnTo>
                    <a:pt x="260" y="640"/>
                  </a:lnTo>
                  <a:lnTo>
                    <a:pt x="242" y="634"/>
                  </a:lnTo>
                  <a:lnTo>
                    <a:pt x="228" y="624"/>
                  </a:lnTo>
                  <a:lnTo>
                    <a:pt x="216" y="614"/>
                  </a:lnTo>
                  <a:lnTo>
                    <a:pt x="210" y="602"/>
                  </a:lnTo>
                  <a:lnTo>
                    <a:pt x="208" y="590"/>
                  </a:lnTo>
                  <a:lnTo>
                    <a:pt x="210" y="578"/>
                  </a:lnTo>
                  <a:lnTo>
                    <a:pt x="216" y="568"/>
                  </a:lnTo>
                  <a:lnTo>
                    <a:pt x="224" y="560"/>
                  </a:lnTo>
                  <a:lnTo>
                    <a:pt x="224" y="560"/>
                  </a:lnTo>
                  <a:lnTo>
                    <a:pt x="196" y="558"/>
                  </a:lnTo>
                  <a:lnTo>
                    <a:pt x="172" y="554"/>
                  </a:lnTo>
                  <a:lnTo>
                    <a:pt x="154" y="546"/>
                  </a:lnTo>
                  <a:lnTo>
                    <a:pt x="140" y="536"/>
                  </a:lnTo>
                  <a:lnTo>
                    <a:pt x="128" y="524"/>
                  </a:lnTo>
                  <a:lnTo>
                    <a:pt x="120" y="510"/>
                  </a:lnTo>
                  <a:lnTo>
                    <a:pt x="116" y="494"/>
                  </a:lnTo>
                  <a:lnTo>
                    <a:pt x="114" y="478"/>
                  </a:lnTo>
                  <a:lnTo>
                    <a:pt x="116" y="460"/>
                  </a:lnTo>
                  <a:lnTo>
                    <a:pt x="120" y="444"/>
                  </a:lnTo>
                  <a:lnTo>
                    <a:pt x="126" y="428"/>
                  </a:lnTo>
                  <a:lnTo>
                    <a:pt x="134" y="414"/>
                  </a:lnTo>
                  <a:lnTo>
                    <a:pt x="144" y="402"/>
                  </a:lnTo>
                  <a:lnTo>
                    <a:pt x="154" y="392"/>
                  </a:lnTo>
                  <a:lnTo>
                    <a:pt x="166" y="384"/>
                  </a:lnTo>
                  <a:lnTo>
                    <a:pt x="180" y="380"/>
                  </a:lnTo>
                  <a:lnTo>
                    <a:pt x="180" y="380"/>
                  </a:lnTo>
                  <a:lnTo>
                    <a:pt x="176" y="374"/>
                  </a:lnTo>
                  <a:lnTo>
                    <a:pt x="172" y="368"/>
                  </a:lnTo>
                  <a:lnTo>
                    <a:pt x="166" y="360"/>
                  </a:lnTo>
                  <a:lnTo>
                    <a:pt x="156" y="356"/>
                  </a:lnTo>
                  <a:lnTo>
                    <a:pt x="146" y="352"/>
                  </a:lnTo>
                  <a:lnTo>
                    <a:pt x="130" y="352"/>
                  </a:lnTo>
                  <a:lnTo>
                    <a:pt x="112" y="356"/>
                  </a:lnTo>
                  <a:lnTo>
                    <a:pt x="112" y="356"/>
                  </a:lnTo>
                  <a:lnTo>
                    <a:pt x="116" y="340"/>
                  </a:lnTo>
                  <a:lnTo>
                    <a:pt x="124" y="326"/>
                  </a:lnTo>
                  <a:lnTo>
                    <a:pt x="134" y="312"/>
                  </a:lnTo>
                  <a:lnTo>
                    <a:pt x="146" y="298"/>
                  </a:lnTo>
                  <a:lnTo>
                    <a:pt x="160" y="288"/>
                  </a:lnTo>
                  <a:lnTo>
                    <a:pt x="176" y="280"/>
                  </a:lnTo>
                  <a:lnTo>
                    <a:pt x="192" y="276"/>
                  </a:lnTo>
                  <a:lnTo>
                    <a:pt x="210" y="276"/>
                  </a:lnTo>
                  <a:lnTo>
                    <a:pt x="210" y="276"/>
                  </a:lnTo>
                  <a:lnTo>
                    <a:pt x="226" y="280"/>
                  </a:lnTo>
                  <a:lnTo>
                    <a:pt x="234" y="284"/>
                  </a:lnTo>
                  <a:lnTo>
                    <a:pt x="240" y="288"/>
                  </a:lnTo>
                  <a:lnTo>
                    <a:pt x="246" y="294"/>
                  </a:lnTo>
                  <a:lnTo>
                    <a:pt x="250" y="300"/>
                  </a:lnTo>
                  <a:lnTo>
                    <a:pt x="254" y="306"/>
                  </a:lnTo>
                  <a:lnTo>
                    <a:pt x="256" y="314"/>
                  </a:lnTo>
                  <a:lnTo>
                    <a:pt x="256" y="322"/>
                  </a:lnTo>
                  <a:lnTo>
                    <a:pt x="256" y="330"/>
                  </a:lnTo>
                  <a:lnTo>
                    <a:pt x="252" y="340"/>
                  </a:lnTo>
                  <a:lnTo>
                    <a:pt x="248" y="350"/>
                  </a:lnTo>
                  <a:lnTo>
                    <a:pt x="242" y="360"/>
                  </a:lnTo>
                  <a:lnTo>
                    <a:pt x="232" y="370"/>
                  </a:lnTo>
                  <a:lnTo>
                    <a:pt x="220" y="380"/>
                  </a:lnTo>
                  <a:lnTo>
                    <a:pt x="208" y="390"/>
                  </a:lnTo>
                  <a:lnTo>
                    <a:pt x="208" y="390"/>
                  </a:lnTo>
                  <a:lnTo>
                    <a:pt x="236" y="396"/>
                  </a:lnTo>
                  <a:lnTo>
                    <a:pt x="260" y="400"/>
                  </a:lnTo>
                  <a:lnTo>
                    <a:pt x="282" y="400"/>
                  </a:lnTo>
                  <a:lnTo>
                    <a:pt x="300" y="398"/>
                  </a:lnTo>
                  <a:lnTo>
                    <a:pt x="316" y="392"/>
                  </a:lnTo>
                  <a:lnTo>
                    <a:pt x="328" y="386"/>
                  </a:lnTo>
                  <a:lnTo>
                    <a:pt x="336" y="376"/>
                  </a:lnTo>
                  <a:lnTo>
                    <a:pt x="344" y="364"/>
                  </a:lnTo>
                  <a:lnTo>
                    <a:pt x="348" y="352"/>
                  </a:lnTo>
                  <a:lnTo>
                    <a:pt x="350" y="338"/>
                  </a:lnTo>
                  <a:lnTo>
                    <a:pt x="350" y="324"/>
                  </a:lnTo>
                  <a:lnTo>
                    <a:pt x="346" y="310"/>
                  </a:lnTo>
                  <a:lnTo>
                    <a:pt x="342" y="296"/>
                  </a:lnTo>
                  <a:lnTo>
                    <a:pt x="336" y="284"/>
                  </a:lnTo>
                  <a:lnTo>
                    <a:pt x="326" y="272"/>
                  </a:lnTo>
                  <a:lnTo>
                    <a:pt x="316" y="260"/>
                  </a:lnTo>
                  <a:lnTo>
                    <a:pt x="316" y="260"/>
                  </a:lnTo>
                  <a:lnTo>
                    <a:pt x="308" y="252"/>
                  </a:lnTo>
                  <a:lnTo>
                    <a:pt x="298" y="246"/>
                  </a:lnTo>
                  <a:lnTo>
                    <a:pt x="288" y="242"/>
                  </a:lnTo>
                  <a:lnTo>
                    <a:pt x="276" y="238"/>
                  </a:lnTo>
                  <a:lnTo>
                    <a:pt x="252" y="232"/>
                  </a:lnTo>
                  <a:lnTo>
                    <a:pt x="224" y="230"/>
                  </a:lnTo>
                  <a:lnTo>
                    <a:pt x="210" y="232"/>
                  </a:lnTo>
                  <a:lnTo>
                    <a:pt x="196" y="234"/>
                  </a:lnTo>
                  <a:lnTo>
                    <a:pt x="182" y="238"/>
                  </a:lnTo>
                  <a:lnTo>
                    <a:pt x="168" y="242"/>
                  </a:lnTo>
                  <a:lnTo>
                    <a:pt x="154" y="248"/>
                  </a:lnTo>
                  <a:lnTo>
                    <a:pt x="140" y="256"/>
                  </a:lnTo>
                  <a:lnTo>
                    <a:pt x="128" y="266"/>
                  </a:lnTo>
                  <a:lnTo>
                    <a:pt x="116" y="276"/>
                  </a:lnTo>
                  <a:lnTo>
                    <a:pt x="116" y="276"/>
                  </a:lnTo>
                  <a:lnTo>
                    <a:pt x="116" y="264"/>
                  </a:lnTo>
                  <a:lnTo>
                    <a:pt x="120" y="254"/>
                  </a:lnTo>
                  <a:lnTo>
                    <a:pt x="126" y="246"/>
                  </a:lnTo>
                  <a:lnTo>
                    <a:pt x="136" y="238"/>
                  </a:lnTo>
                  <a:lnTo>
                    <a:pt x="164" y="222"/>
                  </a:lnTo>
                  <a:lnTo>
                    <a:pt x="184" y="212"/>
                  </a:lnTo>
                  <a:lnTo>
                    <a:pt x="206" y="198"/>
                  </a:lnTo>
                  <a:lnTo>
                    <a:pt x="206" y="198"/>
                  </a:lnTo>
                  <a:lnTo>
                    <a:pt x="220" y="184"/>
                  </a:lnTo>
                  <a:lnTo>
                    <a:pt x="230" y="170"/>
                  </a:lnTo>
                  <a:lnTo>
                    <a:pt x="238" y="154"/>
                  </a:lnTo>
                  <a:lnTo>
                    <a:pt x="242" y="138"/>
                  </a:lnTo>
                  <a:lnTo>
                    <a:pt x="242" y="120"/>
                  </a:lnTo>
                  <a:lnTo>
                    <a:pt x="240" y="104"/>
                  </a:lnTo>
                  <a:lnTo>
                    <a:pt x="236" y="86"/>
                  </a:lnTo>
                  <a:lnTo>
                    <a:pt x="228" y="70"/>
                  </a:lnTo>
                  <a:lnTo>
                    <a:pt x="220" y="56"/>
                  </a:lnTo>
                  <a:lnTo>
                    <a:pt x="210" y="40"/>
                  </a:lnTo>
                  <a:lnTo>
                    <a:pt x="198" y="28"/>
                  </a:lnTo>
                  <a:lnTo>
                    <a:pt x="186" y="18"/>
                  </a:lnTo>
                  <a:lnTo>
                    <a:pt x="172" y="10"/>
                  </a:lnTo>
                  <a:lnTo>
                    <a:pt x="158" y="4"/>
                  </a:lnTo>
                  <a:lnTo>
                    <a:pt x="144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16" y="4"/>
                  </a:lnTo>
                  <a:lnTo>
                    <a:pt x="104" y="8"/>
                  </a:lnTo>
                  <a:lnTo>
                    <a:pt x="92" y="14"/>
                  </a:lnTo>
                  <a:lnTo>
                    <a:pt x="82" y="22"/>
                  </a:lnTo>
                  <a:lnTo>
                    <a:pt x="74" y="32"/>
                  </a:lnTo>
                  <a:lnTo>
                    <a:pt x="66" y="42"/>
                  </a:lnTo>
                  <a:lnTo>
                    <a:pt x="62" y="52"/>
                  </a:lnTo>
                  <a:lnTo>
                    <a:pt x="58" y="64"/>
                  </a:lnTo>
                  <a:lnTo>
                    <a:pt x="54" y="76"/>
                  </a:lnTo>
                  <a:lnTo>
                    <a:pt x="54" y="90"/>
                  </a:lnTo>
                  <a:lnTo>
                    <a:pt x="54" y="102"/>
                  </a:lnTo>
                  <a:lnTo>
                    <a:pt x="56" y="116"/>
                  </a:lnTo>
                  <a:lnTo>
                    <a:pt x="60" y="128"/>
                  </a:lnTo>
                  <a:lnTo>
                    <a:pt x="66" y="142"/>
                  </a:lnTo>
                  <a:lnTo>
                    <a:pt x="72" y="154"/>
                  </a:lnTo>
                  <a:lnTo>
                    <a:pt x="80" y="166"/>
                  </a:lnTo>
                  <a:lnTo>
                    <a:pt x="80" y="166"/>
                  </a:lnTo>
                  <a:lnTo>
                    <a:pt x="82" y="150"/>
                  </a:lnTo>
                  <a:lnTo>
                    <a:pt x="86" y="136"/>
                  </a:lnTo>
                  <a:lnTo>
                    <a:pt x="94" y="122"/>
                  </a:lnTo>
                  <a:lnTo>
                    <a:pt x="104" y="112"/>
                  </a:lnTo>
                  <a:lnTo>
                    <a:pt x="116" y="106"/>
                  </a:lnTo>
                  <a:lnTo>
                    <a:pt x="122" y="104"/>
                  </a:lnTo>
                  <a:lnTo>
                    <a:pt x="128" y="102"/>
                  </a:lnTo>
                  <a:lnTo>
                    <a:pt x="136" y="104"/>
                  </a:lnTo>
                  <a:lnTo>
                    <a:pt x="142" y="104"/>
                  </a:lnTo>
                  <a:lnTo>
                    <a:pt x="150" y="108"/>
                  </a:lnTo>
                  <a:lnTo>
                    <a:pt x="158" y="112"/>
                  </a:lnTo>
                  <a:lnTo>
                    <a:pt x="158" y="112"/>
                  </a:lnTo>
                  <a:lnTo>
                    <a:pt x="166" y="118"/>
                  </a:lnTo>
                  <a:lnTo>
                    <a:pt x="170" y="124"/>
                  </a:lnTo>
                  <a:lnTo>
                    <a:pt x="174" y="132"/>
                  </a:lnTo>
                  <a:lnTo>
                    <a:pt x="176" y="138"/>
                  </a:lnTo>
                  <a:lnTo>
                    <a:pt x="178" y="146"/>
                  </a:lnTo>
                  <a:lnTo>
                    <a:pt x="178" y="152"/>
                  </a:lnTo>
                  <a:lnTo>
                    <a:pt x="172" y="168"/>
                  </a:lnTo>
                  <a:lnTo>
                    <a:pt x="164" y="180"/>
                  </a:lnTo>
                  <a:lnTo>
                    <a:pt x="152" y="192"/>
                  </a:lnTo>
                  <a:lnTo>
                    <a:pt x="138" y="202"/>
                  </a:lnTo>
                  <a:lnTo>
                    <a:pt x="120" y="208"/>
                  </a:lnTo>
                  <a:lnTo>
                    <a:pt x="120" y="208"/>
                  </a:lnTo>
                  <a:lnTo>
                    <a:pt x="108" y="210"/>
                  </a:lnTo>
                  <a:lnTo>
                    <a:pt x="96" y="214"/>
                  </a:lnTo>
                  <a:lnTo>
                    <a:pt x="82" y="220"/>
                  </a:lnTo>
                  <a:lnTo>
                    <a:pt x="72" y="228"/>
                  </a:lnTo>
                  <a:lnTo>
                    <a:pt x="64" y="238"/>
                  </a:lnTo>
                  <a:lnTo>
                    <a:pt x="62" y="244"/>
                  </a:lnTo>
                  <a:lnTo>
                    <a:pt x="60" y="250"/>
                  </a:lnTo>
                  <a:lnTo>
                    <a:pt x="62" y="258"/>
                  </a:lnTo>
                  <a:lnTo>
                    <a:pt x="64" y="264"/>
                  </a:lnTo>
                  <a:lnTo>
                    <a:pt x="68" y="272"/>
                  </a:lnTo>
                  <a:lnTo>
                    <a:pt x="76" y="280"/>
                  </a:lnTo>
                  <a:lnTo>
                    <a:pt x="76" y="280"/>
                  </a:lnTo>
                  <a:lnTo>
                    <a:pt x="66" y="306"/>
                  </a:lnTo>
                  <a:lnTo>
                    <a:pt x="58" y="332"/>
                  </a:lnTo>
                  <a:lnTo>
                    <a:pt x="52" y="362"/>
                  </a:lnTo>
                  <a:lnTo>
                    <a:pt x="50" y="390"/>
                  </a:lnTo>
                  <a:lnTo>
                    <a:pt x="50" y="420"/>
                  </a:lnTo>
                  <a:lnTo>
                    <a:pt x="54" y="450"/>
                  </a:lnTo>
                  <a:lnTo>
                    <a:pt x="60" y="482"/>
                  </a:lnTo>
                  <a:lnTo>
                    <a:pt x="72" y="510"/>
                  </a:lnTo>
                  <a:lnTo>
                    <a:pt x="84" y="540"/>
                  </a:lnTo>
                  <a:lnTo>
                    <a:pt x="102" y="568"/>
                  </a:lnTo>
                  <a:lnTo>
                    <a:pt x="124" y="594"/>
                  </a:lnTo>
                  <a:lnTo>
                    <a:pt x="148" y="620"/>
                  </a:lnTo>
                  <a:lnTo>
                    <a:pt x="178" y="642"/>
                  </a:lnTo>
                  <a:lnTo>
                    <a:pt x="210" y="662"/>
                  </a:lnTo>
                  <a:lnTo>
                    <a:pt x="248" y="678"/>
                  </a:lnTo>
                  <a:lnTo>
                    <a:pt x="290" y="692"/>
                  </a:lnTo>
                  <a:lnTo>
                    <a:pt x="290" y="692"/>
                  </a:lnTo>
                  <a:lnTo>
                    <a:pt x="254" y="702"/>
                  </a:lnTo>
                  <a:lnTo>
                    <a:pt x="222" y="716"/>
                  </a:lnTo>
                  <a:lnTo>
                    <a:pt x="194" y="734"/>
                  </a:lnTo>
                  <a:lnTo>
                    <a:pt x="168" y="754"/>
                  </a:lnTo>
                  <a:lnTo>
                    <a:pt x="146" y="776"/>
                  </a:lnTo>
                  <a:lnTo>
                    <a:pt x="126" y="800"/>
                  </a:lnTo>
                  <a:lnTo>
                    <a:pt x="110" y="826"/>
                  </a:lnTo>
                  <a:lnTo>
                    <a:pt x="96" y="854"/>
                  </a:lnTo>
                  <a:lnTo>
                    <a:pt x="86" y="882"/>
                  </a:lnTo>
                  <a:lnTo>
                    <a:pt x="78" y="910"/>
                  </a:lnTo>
                  <a:lnTo>
                    <a:pt x="74" y="940"/>
                  </a:lnTo>
                  <a:lnTo>
                    <a:pt x="72" y="968"/>
                  </a:lnTo>
                  <a:lnTo>
                    <a:pt x="72" y="996"/>
                  </a:lnTo>
                  <a:lnTo>
                    <a:pt x="74" y="1022"/>
                  </a:lnTo>
                  <a:lnTo>
                    <a:pt x="80" y="1048"/>
                  </a:lnTo>
                  <a:lnTo>
                    <a:pt x="88" y="1072"/>
                  </a:lnTo>
                  <a:lnTo>
                    <a:pt x="88" y="1072"/>
                  </a:lnTo>
                  <a:lnTo>
                    <a:pt x="96" y="1086"/>
                  </a:lnTo>
                  <a:lnTo>
                    <a:pt x="104" y="1102"/>
                  </a:lnTo>
                  <a:lnTo>
                    <a:pt x="114" y="1116"/>
                  </a:lnTo>
                  <a:lnTo>
                    <a:pt x="124" y="1128"/>
                  </a:lnTo>
                  <a:lnTo>
                    <a:pt x="136" y="1138"/>
                  </a:lnTo>
                  <a:lnTo>
                    <a:pt x="150" y="1148"/>
                  </a:lnTo>
                  <a:lnTo>
                    <a:pt x="162" y="1158"/>
                  </a:lnTo>
                  <a:lnTo>
                    <a:pt x="176" y="1164"/>
                  </a:lnTo>
                  <a:lnTo>
                    <a:pt x="190" y="1170"/>
                  </a:lnTo>
                  <a:lnTo>
                    <a:pt x="204" y="1176"/>
                  </a:lnTo>
                  <a:lnTo>
                    <a:pt x="220" y="1178"/>
                  </a:lnTo>
                  <a:lnTo>
                    <a:pt x="234" y="1180"/>
                  </a:lnTo>
                  <a:lnTo>
                    <a:pt x="248" y="1182"/>
                  </a:lnTo>
                  <a:lnTo>
                    <a:pt x="262" y="1180"/>
                  </a:lnTo>
                  <a:lnTo>
                    <a:pt x="274" y="1178"/>
                  </a:lnTo>
                  <a:lnTo>
                    <a:pt x="288" y="1174"/>
                  </a:lnTo>
                  <a:lnTo>
                    <a:pt x="288" y="1174"/>
                  </a:lnTo>
                  <a:lnTo>
                    <a:pt x="300" y="1168"/>
                  </a:lnTo>
                  <a:lnTo>
                    <a:pt x="312" y="1162"/>
                  </a:lnTo>
                  <a:lnTo>
                    <a:pt x="322" y="1154"/>
                  </a:lnTo>
                  <a:lnTo>
                    <a:pt x="330" y="1144"/>
                  </a:lnTo>
                  <a:lnTo>
                    <a:pt x="338" y="1134"/>
                  </a:lnTo>
                  <a:lnTo>
                    <a:pt x="344" y="1122"/>
                  </a:lnTo>
                  <a:lnTo>
                    <a:pt x="350" y="1110"/>
                  </a:lnTo>
                  <a:lnTo>
                    <a:pt x="354" y="1098"/>
                  </a:lnTo>
                  <a:lnTo>
                    <a:pt x="358" y="1086"/>
                  </a:lnTo>
                  <a:lnTo>
                    <a:pt x="358" y="1072"/>
                  </a:lnTo>
                  <a:lnTo>
                    <a:pt x="360" y="1060"/>
                  </a:lnTo>
                  <a:lnTo>
                    <a:pt x="360" y="1046"/>
                  </a:lnTo>
                  <a:lnTo>
                    <a:pt x="358" y="1032"/>
                  </a:lnTo>
                  <a:lnTo>
                    <a:pt x="354" y="1020"/>
                  </a:lnTo>
                  <a:lnTo>
                    <a:pt x="350" y="1008"/>
                  </a:lnTo>
                  <a:lnTo>
                    <a:pt x="346" y="996"/>
                  </a:lnTo>
                  <a:lnTo>
                    <a:pt x="346" y="996"/>
                  </a:lnTo>
                  <a:lnTo>
                    <a:pt x="336" y="982"/>
                  </a:lnTo>
                  <a:lnTo>
                    <a:pt x="326" y="972"/>
                  </a:lnTo>
                  <a:lnTo>
                    <a:pt x="316" y="964"/>
                  </a:lnTo>
                  <a:lnTo>
                    <a:pt x="304" y="958"/>
                  </a:lnTo>
                  <a:lnTo>
                    <a:pt x="292" y="954"/>
                  </a:lnTo>
                  <a:lnTo>
                    <a:pt x="280" y="952"/>
                  </a:lnTo>
                  <a:lnTo>
                    <a:pt x="268" y="952"/>
                  </a:lnTo>
                  <a:lnTo>
                    <a:pt x="256" y="956"/>
                  </a:lnTo>
                  <a:lnTo>
                    <a:pt x="246" y="960"/>
                  </a:lnTo>
                  <a:lnTo>
                    <a:pt x="236" y="966"/>
                  </a:lnTo>
                  <a:lnTo>
                    <a:pt x="230" y="974"/>
                  </a:lnTo>
                  <a:lnTo>
                    <a:pt x="224" y="984"/>
                  </a:lnTo>
                  <a:lnTo>
                    <a:pt x="220" y="994"/>
                  </a:lnTo>
                  <a:lnTo>
                    <a:pt x="220" y="1008"/>
                  </a:lnTo>
                  <a:lnTo>
                    <a:pt x="222" y="1020"/>
                  </a:lnTo>
                  <a:lnTo>
                    <a:pt x="228" y="1036"/>
                  </a:lnTo>
                  <a:lnTo>
                    <a:pt x="228" y="1036"/>
                  </a:lnTo>
                  <a:lnTo>
                    <a:pt x="208" y="1042"/>
                  </a:lnTo>
                  <a:lnTo>
                    <a:pt x="190" y="1044"/>
                  </a:lnTo>
                  <a:lnTo>
                    <a:pt x="172" y="1042"/>
                  </a:lnTo>
                  <a:lnTo>
                    <a:pt x="158" y="1036"/>
                  </a:lnTo>
                  <a:lnTo>
                    <a:pt x="146" y="1026"/>
                  </a:lnTo>
                  <a:lnTo>
                    <a:pt x="136" y="1012"/>
                  </a:lnTo>
                  <a:lnTo>
                    <a:pt x="128" y="996"/>
                  </a:lnTo>
                  <a:lnTo>
                    <a:pt x="122" y="978"/>
                  </a:lnTo>
                  <a:lnTo>
                    <a:pt x="118" y="958"/>
                  </a:lnTo>
                  <a:lnTo>
                    <a:pt x="118" y="936"/>
                  </a:lnTo>
                  <a:lnTo>
                    <a:pt x="118" y="916"/>
                  </a:lnTo>
                  <a:lnTo>
                    <a:pt x="122" y="894"/>
                  </a:lnTo>
                  <a:lnTo>
                    <a:pt x="128" y="872"/>
                  </a:lnTo>
                  <a:lnTo>
                    <a:pt x="134" y="852"/>
                  </a:lnTo>
                  <a:lnTo>
                    <a:pt x="144" y="832"/>
                  </a:lnTo>
                  <a:lnTo>
                    <a:pt x="156" y="816"/>
                  </a:lnTo>
                  <a:lnTo>
                    <a:pt x="156" y="816"/>
                  </a:lnTo>
                  <a:lnTo>
                    <a:pt x="156" y="834"/>
                  </a:lnTo>
                  <a:lnTo>
                    <a:pt x="160" y="852"/>
                  </a:lnTo>
                  <a:lnTo>
                    <a:pt x="168" y="870"/>
                  </a:lnTo>
                  <a:lnTo>
                    <a:pt x="178" y="886"/>
                  </a:lnTo>
                  <a:lnTo>
                    <a:pt x="186" y="894"/>
                  </a:lnTo>
                  <a:lnTo>
                    <a:pt x="194" y="900"/>
                  </a:lnTo>
                  <a:lnTo>
                    <a:pt x="202" y="906"/>
                  </a:lnTo>
                  <a:lnTo>
                    <a:pt x="212" y="910"/>
                  </a:lnTo>
                  <a:lnTo>
                    <a:pt x="222" y="912"/>
                  </a:lnTo>
                  <a:lnTo>
                    <a:pt x="234" y="912"/>
                  </a:lnTo>
                  <a:lnTo>
                    <a:pt x="248" y="912"/>
                  </a:lnTo>
                  <a:lnTo>
                    <a:pt x="262" y="908"/>
                  </a:lnTo>
                  <a:lnTo>
                    <a:pt x="262" y="908"/>
                  </a:lnTo>
                  <a:lnTo>
                    <a:pt x="258" y="896"/>
                  </a:lnTo>
                  <a:lnTo>
                    <a:pt x="256" y="882"/>
                  </a:lnTo>
                  <a:lnTo>
                    <a:pt x="256" y="870"/>
                  </a:lnTo>
                  <a:lnTo>
                    <a:pt x="258" y="858"/>
                  </a:lnTo>
                  <a:lnTo>
                    <a:pt x="262" y="846"/>
                  </a:lnTo>
                  <a:lnTo>
                    <a:pt x="266" y="834"/>
                  </a:lnTo>
                  <a:lnTo>
                    <a:pt x="270" y="822"/>
                  </a:lnTo>
                  <a:lnTo>
                    <a:pt x="276" y="812"/>
                  </a:lnTo>
                  <a:lnTo>
                    <a:pt x="292" y="792"/>
                  </a:lnTo>
                  <a:lnTo>
                    <a:pt x="312" y="776"/>
                  </a:lnTo>
                  <a:lnTo>
                    <a:pt x="334" y="760"/>
                  </a:lnTo>
                  <a:lnTo>
                    <a:pt x="358" y="748"/>
                  </a:lnTo>
                  <a:lnTo>
                    <a:pt x="382" y="740"/>
                  </a:lnTo>
                  <a:lnTo>
                    <a:pt x="410" y="734"/>
                  </a:lnTo>
                  <a:lnTo>
                    <a:pt x="436" y="732"/>
                  </a:lnTo>
                  <a:lnTo>
                    <a:pt x="462" y="734"/>
                  </a:lnTo>
                  <a:lnTo>
                    <a:pt x="488" y="740"/>
                  </a:lnTo>
                  <a:lnTo>
                    <a:pt x="500" y="744"/>
                  </a:lnTo>
                  <a:lnTo>
                    <a:pt x="510" y="750"/>
                  </a:lnTo>
                  <a:lnTo>
                    <a:pt x="522" y="756"/>
                  </a:lnTo>
                  <a:lnTo>
                    <a:pt x="532" y="764"/>
                  </a:lnTo>
                  <a:lnTo>
                    <a:pt x="542" y="774"/>
                  </a:lnTo>
                  <a:lnTo>
                    <a:pt x="550" y="784"/>
                  </a:lnTo>
                  <a:lnTo>
                    <a:pt x="550" y="784"/>
                  </a:lnTo>
                  <a:lnTo>
                    <a:pt x="540" y="780"/>
                  </a:lnTo>
                  <a:lnTo>
                    <a:pt x="528" y="780"/>
                  </a:lnTo>
                  <a:lnTo>
                    <a:pt x="516" y="782"/>
                  </a:lnTo>
                  <a:lnTo>
                    <a:pt x="504" y="784"/>
                  </a:lnTo>
                  <a:lnTo>
                    <a:pt x="492" y="788"/>
                  </a:lnTo>
                  <a:lnTo>
                    <a:pt x="480" y="794"/>
                  </a:lnTo>
                  <a:lnTo>
                    <a:pt x="456" y="808"/>
                  </a:lnTo>
                  <a:lnTo>
                    <a:pt x="434" y="826"/>
                  </a:lnTo>
                  <a:lnTo>
                    <a:pt x="416" y="844"/>
                  </a:lnTo>
                  <a:lnTo>
                    <a:pt x="402" y="862"/>
                  </a:lnTo>
                  <a:lnTo>
                    <a:pt x="394" y="878"/>
                  </a:lnTo>
                  <a:lnTo>
                    <a:pt x="394" y="878"/>
                  </a:lnTo>
                  <a:lnTo>
                    <a:pt x="418" y="862"/>
                  </a:lnTo>
                  <a:lnTo>
                    <a:pt x="444" y="850"/>
                  </a:lnTo>
                  <a:lnTo>
                    <a:pt x="470" y="842"/>
                  </a:lnTo>
                  <a:lnTo>
                    <a:pt x="496" y="838"/>
                  </a:lnTo>
                  <a:lnTo>
                    <a:pt x="520" y="840"/>
                  </a:lnTo>
                  <a:lnTo>
                    <a:pt x="532" y="842"/>
                  </a:lnTo>
                  <a:lnTo>
                    <a:pt x="542" y="844"/>
                  </a:lnTo>
                  <a:lnTo>
                    <a:pt x="554" y="850"/>
                  </a:lnTo>
                  <a:lnTo>
                    <a:pt x="564" y="856"/>
                  </a:lnTo>
                  <a:lnTo>
                    <a:pt x="576" y="862"/>
                  </a:lnTo>
                  <a:lnTo>
                    <a:pt x="586" y="872"/>
                  </a:lnTo>
                  <a:lnTo>
                    <a:pt x="594" y="880"/>
                  </a:lnTo>
                  <a:lnTo>
                    <a:pt x="604" y="892"/>
                  </a:lnTo>
                  <a:lnTo>
                    <a:pt x="612" y="904"/>
                  </a:lnTo>
                  <a:lnTo>
                    <a:pt x="620" y="918"/>
                  </a:lnTo>
                  <a:lnTo>
                    <a:pt x="634" y="950"/>
                  </a:lnTo>
                  <a:lnTo>
                    <a:pt x="644" y="988"/>
                  </a:lnTo>
                  <a:lnTo>
                    <a:pt x="652" y="1032"/>
                  </a:lnTo>
                  <a:lnTo>
                    <a:pt x="656" y="1084"/>
                  </a:lnTo>
                  <a:lnTo>
                    <a:pt x="658" y="1140"/>
                  </a:lnTo>
                  <a:lnTo>
                    <a:pt x="656" y="1204"/>
                  </a:lnTo>
                  <a:lnTo>
                    <a:pt x="656" y="1204"/>
                  </a:lnTo>
                  <a:lnTo>
                    <a:pt x="652" y="1176"/>
                  </a:lnTo>
                  <a:lnTo>
                    <a:pt x="648" y="1150"/>
                  </a:lnTo>
                  <a:lnTo>
                    <a:pt x="642" y="1124"/>
                  </a:lnTo>
                  <a:lnTo>
                    <a:pt x="634" y="1098"/>
                  </a:lnTo>
                  <a:lnTo>
                    <a:pt x="626" y="1076"/>
                  </a:lnTo>
                  <a:lnTo>
                    <a:pt x="616" y="1052"/>
                  </a:lnTo>
                  <a:lnTo>
                    <a:pt x="606" y="1030"/>
                  </a:lnTo>
                  <a:lnTo>
                    <a:pt x="594" y="1010"/>
                  </a:lnTo>
                  <a:lnTo>
                    <a:pt x="580" y="990"/>
                  </a:lnTo>
                  <a:lnTo>
                    <a:pt x="566" y="972"/>
                  </a:lnTo>
                  <a:lnTo>
                    <a:pt x="550" y="954"/>
                  </a:lnTo>
                  <a:lnTo>
                    <a:pt x="532" y="938"/>
                  </a:lnTo>
                  <a:lnTo>
                    <a:pt x="514" y="924"/>
                  </a:lnTo>
                  <a:lnTo>
                    <a:pt x="494" y="910"/>
                  </a:lnTo>
                  <a:lnTo>
                    <a:pt x="474" y="900"/>
                  </a:lnTo>
                  <a:lnTo>
                    <a:pt x="452" y="890"/>
                  </a:lnTo>
                  <a:lnTo>
                    <a:pt x="452" y="890"/>
                  </a:lnTo>
                  <a:lnTo>
                    <a:pt x="518" y="980"/>
                  </a:lnTo>
                  <a:lnTo>
                    <a:pt x="518" y="980"/>
                  </a:lnTo>
                  <a:lnTo>
                    <a:pt x="508" y="978"/>
                  </a:lnTo>
                  <a:lnTo>
                    <a:pt x="498" y="978"/>
                  </a:lnTo>
                  <a:lnTo>
                    <a:pt x="488" y="978"/>
                  </a:lnTo>
                  <a:lnTo>
                    <a:pt x="478" y="980"/>
                  </a:lnTo>
                  <a:lnTo>
                    <a:pt x="466" y="982"/>
                  </a:lnTo>
                  <a:lnTo>
                    <a:pt x="456" y="988"/>
                  </a:lnTo>
                  <a:lnTo>
                    <a:pt x="446" y="992"/>
                  </a:lnTo>
                  <a:lnTo>
                    <a:pt x="438" y="998"/>
                  </a:lnTo>
                  <a:lnTo>
                    <a:pt x="430" y="1006"/>
                  </a:lnTo>
                  <a:lnTo>
                    <a:pt x="422" y="1014"/>
                  </a:lnTo>
                  <a:lnTo>
                    <a:pt x="416" y="1024"/>
                  </a:lnTo>
                  <a:lnTo>
                    <a:pt x="412" y="1034"/>
                  </a:lnTo>
                  <a:lnTo>
                    <a:pt x="408" y="1044"/>
                  </a:lnTo>
                  <a:lnTo>
                    <a:pt x="408" y="1056"/>
                  </a:lnTo>
                  <a:lnTo>
                    <a:pt x="410" y="1068"/>
                  </a:lnTo>
                  <a:lnTo>
                    <a:pt x="412" y="1080"/>
                  </a:lnTo>
                  <a:lnTo>
                    <a:pt x="412" y="1080"/>
                  </a:lnTo>
                  <a:lnTo>
                    <a:pt x="422" y="1068"/>
                  </a:lnTo>
                  <a:lnTo>
                    <a:pt x="436" y="1056"/>
                  </a:lnTo>
                  <a:lnTo>
                    <a:pt x="452" y="1044"/>
                  </a:lnTo>
                  <a:lnTo>
                    <a:pt x="470" y="1038"/>
                  </a:lnTo>
                  <a:lnTo>
                    <a:pt x="478" y="1036"/>
                  </a:lnTo>
                  <a:lnTo>
                    <a:pt x="488" y="1036"/>
                  </a:lnTo>
                  <a:lnTo>
                    <a:pt x="498" y="1038"/>
                  </a:lnTo>
                  <a:lnTo>
                    <a:pt x="506" y="1040"/>
                  </a:lnTo>
                  <a:lnTo>
                    <a:pt x="516" y="1046"/>
                  </a:lnTo>
                  <a:lnTo>
                    <a:pt x="524" y="1052"/>
                  </a:lnTo>
                  <a:lnTo>
                    <a:pt x="532" y="1062"/>
                  </a:lnTo>
                  <a:lnTo>
                    <a:pt x="538" y="1074"/>
                  </a:lnTo>
                  <a:lnTo>
                    <a:pt x="538" y="1074"/>
                  </a:lnTo>
                  <a:lnTo>
                    <a:pt x="528" y="1072"/>
                  </a:lnTo>
                  <a:lnTo>
                    <a:pt x="518" y="1072"/>
                  </a:lnTo>
                  <a:lnTo>
                    <a:pt x="510" y="1074"/>
                  </a:lnTo>
                  <a:lnTo>
                    <a:pt x="502" y="1080"/>
                  </a:lnTo>
                  <a:lnTo>
                    <a:pt x="494" y="1086"/>
                  </a:lnTo>
                  <a:lnTo>
                    <a:pt x="490" y="1096"/>
                  </a:lnTo>
                  <a:lnTo>
                    <a:pt x="488" y="1108"/>
                  </a:lnTo>
                  <a:lnTo>
                    <a:pt x="488" y="1120"/>
                  </a:lnTo>
                  <a:lnTo>
                    <a:pt x="488" y="1120"/>
                  </a:lnTo>
                  <a:lnTo>
                    <a:pt x="516" y="1124"/>
                  </a:lnTo>
                  <a:lnTo>
                    <a:pt x="540" y="1132"/>
                  </a:lnTo>
                  <a:lnTo>
                    <a:pt x="562" y="1142"/>
                  </a:lnTo>
                  <a:lnTo>
                    <a:pt x="582" y="1156"/>
                  </a:lnTo>
                  <a:lnTo>
                    <a:pt x="590" y="1164"/>
                  </a:lnTo>
                  <a:lnTo>
                    <a:pt x="598" y="1174"/>
                  </a:lnTo>
                  <a:lnTo>
                    <a:pt x="604" y="1184"/>
                  </a:lnTo>
                  <a:lnTo>
                    <a:pt x="608" y="1194"/>
                  </a:lnTo>
                  <a:lnTo>
                    <a:pt x="614" y="1206"/>
                  </a:lnTo>
                  <a:lnTo>
                    <a:pt x="616" y="1218"/>
                  </a:lnTo>
                  <a:lnTo>
                    <a:pt x="618" y="1230"/>
                  </a:lnTo>
                  <a:lnTo>
                    <a:pt x="620" y="1244"/>
                  </a:lnTo>
                  <a:lnTo>
                    <a:pt x="618" y="1272"/>
                  </a:lnTo>
                  <a:lnTo>
                    <a:pt x="612" y="1302"/>
                  </a:lnTo>
                  <a:lnTo>
                    <a:pt x="600" y="1334"/>
                  </a:lnTo>
                  <a:lnTo>
                    <a:pt x="584" y="1368"/>
                  </a:lnTo>
                  <a:lnTo>
                    <a:pt x="560" y="1404"/>
                  </a:lnTo>
                  <a:lnTo>
                    <a:pt x="532" y="1442"/>
                  </a:lnTo>
                  <a:lnTo>
                    <a:pt x="496" y="1478"/>
                  </a:lnTo>
                  <a:lnTo>
                    <a:pt x="454" y="1518"/>
                  </a:lnTo>
                  <a:lnTo>
                    <a:pt x="454" y="1518"/>
                  </a:lnTo>
                  <a:lnTo>
                    <a:pt x="460" y="1500"/>
                  </a:lnTo>
                  <a:lnTo>
                    <a:pt x="464" y="1480"/>
                  </a:lnTo>
                  <a:lnTo>
                    <a:pt x="466" y="1460"/>
                  </a:lnTo>
                  <a:lnTo>
                    <a:pt x="468" y="1440"/>
                  </a:lnTo>
                  <a:lnTo>
                    <a:pt x="466" y="1420"/>
                  </a:lnTo>
                  <a:lnTo>
                    <a:pt x="464" y="1400"/>
                  </a:lnTo>
                  <a:lnTo>
                    <a:pt x="462" y="1378"/>
                  </a:lnTo>
                  <a:lnTo>
                    <a:pt x="456" y="1356"/>
                  </a:lnTo>
                  <a:lnTo>
                    <a:pt x="444" y="1316"/>
                  </a:lnTo>
                  <a:lnTo>
                    <a:pt x="428" y="1276"/>
                  </a:lnTo>
                  <a:lnTo>
                    <a:pt x="408" y="1238"/>
                  </a:lnTo>
                  <a:lnTo>
                    <a:pt x="384" y="1206"/>
                  </a:lnTo>
                  <a:lnTo>
                    <a:pt x="384" y="1206"/>
                  </a:lnTo>
                  <a:lnTo>
                    <a:pt x="388" y="1224"/>
                  </a:lnTo>
                  <a:lnTo>
                    <a:pt x="392" y="1248"/>
                  </a:lnTo>
                  <a:lnTo>
                    <a:pt x="392" y="1282"/>
                  </a:lnTo>
                  <a:lnTo>
                    <a:pt x="390" y="1324"/>
                  </a:lnTo>
                  <a:lnTo>
                    <a:pt x="390" y="1324"/>
                  </a:lnTo>
                  <a:lnTo>
                    <a:pt x="376" y="1308"/>
                  </a:lnTo>
                  <a:lnTo>
                    <a:pt x="362" y="1292"/>
                  </a:lnTo>
                  <a:lnTo>
                    <a:pt x="344" y="1276"/>
                  </a:lnTo>
                  <a:lnTo>
                    <a:pt x="334" y="1270"/>
                  </a:lnTo>
                  <a:lnTo>
                    <a:pt x="322" y="1266"/>
                  </a:lnTo>
                  <a:lnTo>
                    <a:pt x="310" y="1262"/>
                  </a:lnTo>
                  <a:lnTo>
                    <a:pt x="296" y="1258"/>
                  </a:lnTo>
                  <a:lnTo>
                    <a:pt x="282" y="1256"/>
                  </a:lnTo>
                  <a:lnTo>
                    <a:pt x="266" y="1256"/>
                  </a:lnTo>
                  <a:lnTo>
                    <a:pt x="248" y="1258"/>
                  </a:lnTo>
                  <a:lnTo>
                    <a:pt x="228" y="1262"/>
                  </a:lnTo>
                  <a:lnTo>
                    <a:pt x="206" y="1268"/>
                  </a:lnTo>
                  <a:lnTo>
                    <a:pt x="182" y="1276"/>
                  </a:lnTo>
                  <a:lnTo>
                    <a:pt x="182" y="1276"/>
                  </a:lnTo>
                  <a:lnTo>
                    <a:pt x="162" y="1286"/>
                  </a:lnTo>
                  <a:lnTo>
                    <a:pt x="142" y="1298"/>
                  </a:lnTo>
                  <a:lnTo>
                    <a:pt x="126" y="1312"/>
                  </a:lnTo>
                  <a:lnTo>
                    <a:pt x="110" y="1326"/>
                  </a:lnTo>
                  <a:lnTo>
                    <a:pt x="98" y="1342"/>
                  </a:lnTo>
                  <a:lnTo>
                    <a:pt x="86" y="1358"/>
                  </a:lnTo>
                  <a:lnTo>
                    <a:pt x="78" y="1376"/>
                  </a:lnTo>
                  <a:lnTo>
                    <a:pt x="72" y="1394"/>
                  </a:lnTo>
                  <a:lnTo>
                    <a:pt x="66" y="1414"/>
                  </a:lnTo>
                  <a:lnTo>
                    <a:pt x="64" y="1432"/>
                  </a:lnTo>
                  <a:lnTo>
                    <a:pt x="62" y="1452"/>
                  </a:lnTo>
                  <a:lnTo>
                    <a:pt x="62" y="1470"/>
                  </a:lnTo>
                  <a:lnTo>
                    <a:pt x="66" y="1490"/>
                  </a:lnTo>
                  <a:lnTo>
                    <a:pt x="70" y="1508"/>
                  </a:lnTo>
                  <a:lnTo>
                    <a:pt x="74" y="1526"/>
                  </a:lnTo>
                  <a:lnTo>
                    <a:pt x="82" y="1544"/>
                  </a:lnTo>
                  <a:lnTo>
                    <a:pt x="82" y="1544"/>
                  </a:lnTo>
                  <a:lnTo>
                    <a:pt x="90" y="1558"/>
                  </a:lnTo>
                  <a:lnTo>
                    <a:pt x="100" y="1572"/>
                  </a:lnTo>
                  <a:lnTo>
                    <a:pt x="110" y="1584"/>
                  </a:lnTo>
                  <a:lnTo>
                    <a:pt x="120" y="1594"/>
                  </a:lnTo>
                  <a:lnTo>
                    <a:pt x="130" y="1602"/>
                  </a:lnTo>
                  <a:lnTo>
                    <a:pt x="142" y="1608"/>
                  </a:lnTo>
                  <a:lnTo>
                    <a:pt x="152" y="1614"/>
                  </a:lnTo>
                  <a:lnTo>
                    <a:pt x="164" y="1618"/>
                  </a:lnTo>
                  <a:lnTo>
                    <a:pt x="176" y="1620"/>
                  </a:lnTo>
                  <a:lnTo>
                    <a:pt x="188" y="1620"/>
                  </a:lnTo>
                  <a:lnTo>
                    <a:pt x="198" y="1620"/>
                  </a:lnTo>
                  <a:lnTo>
                    <a:pt x="210" y="1618"/>
                  </a:lnTo>
                  <a:lnTo>
                    <a:pt x="220" y="1616"/>
                  </a:lnTo>
                  <a:lnTo>
                    <a:pt x="230" y="1612"/>
                  </a:lnTo>
                  <a:lnTo>
                    <a:pt x="248" y="1600"/>
                  </a:lnTo>
                  <a:lnTo>
                    <a:pt x="248" y="1600"/>
                  </a:lnTo>
                  <a:lnTo>
                    <a:pt x="262" y="1586"/>
                  </a:lnTo>
                  <a:lnTo>
                    <a:pt x="274" y="1570"/>
                  </a:lnTo>
                  <a:lnTo>
                    <a:pt x="284" y="1552"/>
                  </a:lnTo>
                  <a:lnTo>
                    <a:pt x="288" y="1532"/>
                  </a:lnTo>
                  <a:lnTo>
                    <a:pt x="288" y="1522"/>
                  </a:lnTo>
                  <a:lnTo>
                    <a:pt x="288" y="1512"/>
                  </a:lnTo>
                  <a:lnTo>
                    <a:pt x="286" y="1502"/>
                  </a:lnTo>
                  <a:lnTo>
                    <a:pt x="284" y="1492"/>
                  </a:lnTo>
                  <a:lnTo>
                    <a:pt x="278" y="1482"/>
                  </a:lnTo>
                  <a:lnTo>
                    <a:pt x="272" y="1472"/>
                  </a:lnTo>
                  <a:lnTo>
                    <a:pt x="264" y="1464"/>
                  </a:lnTo>
                  <a:lnTo>
                    <a:pt x="256" y="1454"/>
                  </a:lnTo>
                  <a:lnTo>
                    <a:pt x="256" y="1454"/>
                  </a:lnTo>
                  <a:lnTo>
                    <a:pt x="248" y="1448"/>
                  </a:lnTo>
                  <a:lnTo>
                    <a:pt x="238" y="1444"/>
                  </a:lnTo>
                  <a:lnTo>
                    <a:pt x="228" y="1442"/>
                  </a:lnTo>
                  <a:lnTo>
                    <a:pt x="218" y="1440"/>
                  </a:lnTo>
                  <a:lnTo>
                    <a:pt x="206" y="1440"/>
                  </a:lnTo>
                  <a:lnTo>
                    <a:pt x="196" y="1442"/>
                  </a:lnTo>
                  <a:lnTo>
                    <a:pt x="184" y="1446"/>
                  </a:lnTo>
                  <a:lnTo>
                    <a:pt x="174" y="1450"/>
                  </a:lnTo>
                  <a:lnTo>
                    <a:pt x="164" y="1456"/>
                  </a:lnTo>
                  <a:lnTo>
                    <a:pt x="156" y="1462"/>
                  </a:lnTo>
                  <a:lnTo>
                    <a:pt x="148" y="1470"/>
                  </a:lnTo>
                  <a:lnTo>
                    <a:pt x="140" y="1480"/>
                  </a:lnTo>
                  <a:lnTo>
                    <a:pt x="136" y="1492"/>
                  </a:lnTo>
                  <a:lnTo>
                    <a:pt x="134" y="1504"/>
                  </a:lnTo>
                  <a:lnTo>
                    <a:pt x="132" y="1518"/>
                  </a:lnTo>
                  <a:lnTo>
                    <a:pt x="134" y="1534"/>
                  </a:lnTo>
                  <a:lnTo>
                    <a:pt x="134" y="1534"/>
                  </a:lnTo>
                  <a:lnTo>
                    <a:pt x="124" y="1522"/>
                  </a:lnTo>
                  <a:lnTo>
                    <a:pt x="118" y="1510"/>
                  </a:lnTo>
                  <a:lnTo>
                    <a:pt x="112" y="1496"/>
                  </a:lnTo>
                  <a:lnTo>
                    <a:pt x="108" y="1484"/>
                  </a:lnTo>
                  <a:lnTo>
                    <a:pt x="104" y="1470"/>
                  </a:lnTo>
                  <a:lnTo>
                    <a:pt x="104" y="1458"/>
                  </a:lnTo>
                  <a:lnTo>
                    <a:pt x="104" y="1446"/>
                  </a:lnTo>
                  <a:lnTo>
                    <a:pt x="106" y="1434"/>
                  </a:lnTo>
                  <a:lnTo>
                    <a:pt x="108" y="1422"/>
                  </a:lnTo>
                  <a:lnTo>
                    <a:pt x="112" y="1412"/>
                  </a:lnTo>
                  <a:lnTo>
                    <a:pt x="118" y="1400"/>
                  </a:lnTo>
                  <a:lnTo>
                    <a:pt x="124" y="1392"/>
                  </a:lnTo>
                  <a:lnTo>
                    <a:pt x="132" y="1382"/>
                  </a:lnTo>
                  <a:lnTo>
                    <a:pt x="142" y="1376"/>
                  </a:lnTo>
                  <a:lnTo>
                    <a:pt x="152" y="1368"/>
                  </a:lnTo>
                  <a:lnTo>
                    <a:pt x="162" y="1364"/>
                  </a:lnTo>
                  <a:lnTo>
                    <a:pt x="162" y="1364"/>
                  </a:lnTo>
                  <a:lnTo>
                    <a:pt x="190" y="1354"/>
                  </a:lnTo>
                  <a:lnTo>
                    <a:pt x="206" y="1350"/>
                  </a:lnTo>
                  <a:lnTo>
                    <a:pt x="220" y="1348"/>
                  </a:lnTo>
                  <a:lnTo>
                    <a:pt x="236" y="1350"/>
                  </a:lnTo>
                  <a:lnTo>
                    <a:pt x="252" y="1352"/>
                  </a:lnTo>
                  <a:lnTo>
                    <a:pt x="270" y="1356"/>
                  </a:lnTo>
                  <a:lnTo>
                    <a:pt x="286" y="1364"/>
                  </a:lnTo>
                  <a:lnTo>
                    <a:pt x="286" y="1364"/>
                  </a:lnTo>
                  <a:lnTo>
                    <a:pt x="296" y="1370"/>
                  </a:lnTo>
                  <a:lnTo>
                    <a:pt x="304" y="1376"/>
                  </a:lnTo>
                  <a:lnTo>
                    <a:pt x="318" y="1392"/>
                  </a:lnTo>
                  <a:lnTo>
                    <a:pt x="330" y="1410"/>
                  </a:lnTo>
                  <a:lnTo>
                    <a:pt x="338" y="1432"/>
                  </a:lnTo>
                  <a:lnTo>
                    <a:pt x="344" y="1456"/>
                  </a:lnTo>
                  <a:lnTo>
                    <a:pt x="346" y="1482"/>
                  </a:lnTo>
                  <a:lnTo>
                    <a:pt x="348" y="1508"/>
                  </a:lnTo>
                  <a:lnTo>
                    <a:pt x="346" y="1536"/>
                  </a:lnTo>
                  <a:lnTo>
                    <a:pt x="342" y="1566"/>
                  </a:lnTo>
                  <a:lnTo>
                    <a:pt x="336" y="1594"/>
                  </a:lnTo>
                  <a:lnTo>
                    <a:pt x="326" y="1624"/>
                  </a:lnTo>
                  <a:lnTo>
                    <a:pt x="316" y="1652"/>
                  </a:lnTo>
                  <a:lnTo>
                    <a:pt x="306" y="1680"/>
                  </a:lnTo>
                  <a:lnTo>
                    <a:pt x="292" y="1706"/>
                  </a:lnTo>
                  <a:lnTo>
                    <a:pt x="278" y="1732"/>
                  </a:lnTo>
                  <a:lnTo>
                    <a:pt x="262" y="1754"/>
                  </a:lnTo>
                  <a:lnTo>
                    <a:pt x="262" y="1754"/>
                  </a:lnTo>
                  <a:lnTo>
                    <a:pt x="236" y="1788"/>
                  </a:lnTo>
                  <a:lnTo>
                    <a:pt x="210" y="1826"/>
                  </a:lnTo>
                  <a:lnTo>
                    <a:pt x="184" y="1868"/>
                  </a:lnTo>
                  <a:lnTo>
                    <a:pt x="158" y="1914"/>
                  </a:lnTo>
                  <a:lnTo>
                    <a:pt x="134" y="1962"/>
                  </a:lnTo>
                  <a:lnTo>
                    <a:pt x="110" y="2016"/>
                  </a:lnTo>
                  <a:lnTo>
                    <a:pt x="90" y="2074"/>
                  </a:lnTo>
                  <a:lnTo>
                    <a:pt x="70" y="2136"/>
                  </a:lnTo>
                  <a:lnTo>
                    <a:pt x="70" y="2136"/>
                  </a:lnTo>
                  <a:lnTo>
                    <a:pt x="62" y="2170"/>
                  </a:lnTo>
                  <a:lnTo>
                    <a:pt x="54" y="2208"/>
                  </a:lnTo>
                  <a:lnTo>
                    <a:pt x="50" y="2246"/>
                  </a:lnTo>
                  <a:lnTo>
                    <a:pt x="48" y="2288"/>
                  </a:lnTo>
                  <a:lnTo>
                    <a:pt x="48" y="2330"/>
                  </a:lnTo>
                  <a:lnTo>
                    <a:pt x="50" y="2372"/>
                  </a:lnTo>
                  <a:lnTo>
                    <a:pt x="54" y="2416"/>
                  </a:lnTo>
                  <a:lnTo>
                    <a:pt x="60" y="2460"/>
                  </a:lnTo>
                  <a:lnTo>
                    <a:pt x="68" y="2504"/>
                  </a:lnTo>
                  <a:lnTo>
                    <a:pt x="78" y="2548"/>
                  </a:lnTo>
                  <a:lnTo>
                    <a:pt x="90" y="2592"/>
                  </a:lnTo>
                  <a:lnTo>
                    <a:pt x="106" y="2632"/>
                  </a:lnTo>
                  <a:lnTo>
                    <a:pt x="122" y="2672"/>
                  </a:lnTo>
                  <a:lnTo>
                    <a:pt x="142" y="2712"/>
                  </a:lnTo>
                  <a:lnTo>
                    <a:pt x="164" y="2748"/>
                  </a:lnTo>
                  <a:lnTo>
                    <a:pt x="188" y="2780"/>
                  </a:lnTo>
                  <a:lnTo>
                    <a:pt x="188" y="2780"/>
                  </a:lnTo>
                  <a:lnTo>
                    <a:pt x="166" y="2774"/>
                  </a:lnTo>
                  <a:lnTo>
                    <a:pt x="142" y="2770"/>
                  </a:lnTo>
                  <a:lnTo>
                    <a:pt x="116" y="2768"/>
                  </a:lnTo>
                  <a:lnTo>
                    <a:pt x="90" y="2768"/>
                  </a:lnTo>
                  <a:lnTo>
                    <a:pt x="64" y="2774"/>
                  </a:lnTo>
                  <a:lnTo>
                    <a:pt x="40" y="2782"/>
                  </a:lnTo>
                  <a:lnTo>
                    <a:pt x="30" y="2788"/>
                  </a:lnTo>
                  <a:lnTo>
                    <a:pt x="20" y="2794"/>
                  </a:lnTo>
                  <a:lnTo>
                    <a:pt x="10" y="2802"/>
                  </a:lnTo>
                  <a:lnTo>
                    <a:pt x="0" y="2810"/>
                  </a:lnTo>
                  <a:lnTo>
                    <a:pt x="0" y="2810"/>
                  </a:lnTo>
                  <a:lnTo>
                    <a:pt x="14" y="2806"/>
                  </a:lnTo>
                  <a:lnTo>
                    <a:pt x="32" y="2804"/>
                  </a:lnTo>
                  <a:lnTo>
                    <a:pt x="50" y="2804"/>
                  </a:lnTo>
                  <a:lnTo>
                    <a:pt x="70" y="2804"/>
                  </a:lnTo>
                  <a:lnTo>
                    <a:pt x="92" y="2808"/>
                  </a:lnTo>
                  <a:lnTo>
                    <a:pt x="112" y="2812"/>
                  </a:lnTo>
                  <a:lnTo>
                    <a:pt x="132" y="2820"/>
                  </a:lnTo>
                  <a:lnTo>
                    <a:pt x="148" y="2830"/>
                  </a:lnTo>
                  <a:lnTo>
                    <a:pt x="148" y="2830"/>
                  </a:lnTo>
                  <a:lnTo>
                    <a:pt x="132" y="2832"/>
                  </a:lnTo>
                  <a:lnTo>
                    <a:pt x="114" y="2838"/>
                  </a:lnTo>
                  <a:lnTo>
                    <a:pt x="98" y="2846"/>
                  </a:lnTo>
                  <a:lnTo>
                    <a:pt x="82" y="2858"/>
                  </a:lnTo>
                  <a:lnTo>
                    <a:pt x="66" y="2874"/>
                  </a:lnTo>
                  <a:lnTo>
                    <a:pt x="54" y="2894"/>
                  </a:lnTo>
                  <a:lnTo>
                    <a:pt x="46" y="2916"/>
                  </a:lnTo>
                  <a:lnTo>
                    <a:pt x="42" y="2928"/>
                  </a:lnTo>
                  <a:lnTo>
                    <a:pt x="40" y="2942"/>
                  </a:lnTo>
                  <a:lnTo>
                    <a:pt x="40" y="2942"/>
                  </a:lnTo>
                  <a:close/>
                  <a:moveTo>
                    <a:pt x="194" y="1594"/>
                  </a:moveTo>
                  <a:lnTo>
                    <a:pt x="194" y="1594"/>
                  </a:lnTo>
                  <a:lnTo>
                    <a:pt x="202" y="1590"/>
                  </a:lnTo>
                  <a:lnTo>
                    <a:pt x="210" y="1584"/>
                  </a:lnTo>
                  <a:lnTo>
                    <a:pt x="214" y="1576"/>
                  </a:lnTo>
                  <a:lnTo>
                    <a:pt x="218" y="1568"/>
                  </a:lnTo>
                  <a:lnTo>
                    <a:pt x="224" y="1548"/>
                  </a:lnTo>
                  <a:lnTo>
                    <a:pt x="226" y="1528"/>
                  </a:lnTo>
                  <a:lnTo>
                    <a:pt x="226" y="1494"/>
                  </a:lnTo>
                  <a:lnTo>
                    <a:pt x="230" y="1482"/>
                  </a:lnTo>
                  <a:lnTo>
                    <a:pt x="232" y="1478"/>
                  </a:lnTo>
                  <a:lnTo>
                    <a:pt x="236" y="1476"/>
                  </a:lnTo>
                  <a:lnTo>
                    <a:pt x="236" y="1476"/>
                  </a:lnTo>
                  <a:lnTo>
                    <a:pt x="242" y="1484"/>
                  </a:lnTo>
                  <a:lnTo>
                    <a:pt x="248" y="1492"/>
                  </a:lnTo>
                  <a:lnTo>
                    <a:pt x="252" y="1500"/>
                  </a:lnTo>
                  <a:lnTo>
                    <a:pt x="254" y="1510"/>
                  </a:lnTo>
                  <a:lnTo>
                    <a:pt x="256" y="1518"/>
                  </a:lnTo>
                  <a:lnTo>
                    <a:pt x="256" y="1528"/>
                  </a:lnTo>
                  <a:lnTo>
                    <a:pt x="254" y="1538"/>
                  </a:lnTo>
                  <a:lnTo>
                    <a:pt x="252" y="1548"/>
                  </a:lnTo>
                  <a:lnTo>
                    <a:pt x="250" y="1558"/>
                  </a:lnTo>
                  <a:lnTo>
                    <a:pt x="244" y="1566"/>
                  </a:lnTo>
                  <a:lnTo>
                    <a:pt x="240" y="1574"/>
                  </a:lnTo>
                  <a:lnTo>
                    <a:pt x="232" y="1580"/>
                  </a:lnTo>
                  <a:lnTo>
                    <a:pt x="224" y="1586"/>
                  </a:lnTo>
                  <a:lnTo>
                    <a:pt x="216" y="1590"/>
                  </a:lnTo>
                  <a:lnTo>
                    <a:pt x="204" y="1594"/>
                  </a:lnTo>
                  <a:lnTo>
                    <a:pt x="194" y="1594"/>
                  </a:lnTo>
                  <a:lnTo>
                    <a:pt x="194" y="1594"/>
                  </a:lnTo>
                  <a:close/>
                  <a:moveTo>
                    <a:pt x="186" y="1114"/>
                  </a:moveTo>
                  <a:lnTo>
                    <a:pt x="186" y="1114"/>
                  </a:lnTo>
                  <a:lnTo>
                    <a:pt x="206" y="1106"/>
                  </a:lnTo>
                  <a:lnTo>
                    <a:pt x="224" y="1100"/>
                  </a:lnTo>
                  <a:lnTo>
                    <a:pt x="242" y="1094"/>
                  </a:lnTo>
                  <a:lnTo>
                    <a:pt x="254" y="1086"/>
                  </a:lnTo>
                  <a:lnTo>
                    <a:pt x="260" y="1082"/>
                  </a:lnTo>
                  <a:lnTo>
                    <a:pt x="264" y="1076"/>
                  </a:lnTo>
                  <a:lnTo>
                    <a:pt x="268" y="1070"/>
                  </a:lnTo>
                  <a:lnTo>
                    <a:pt x="270" y="1062"/>
                  </a:lnTo>
                  <a:lnTo>
                    <a:pt x="270" y="1054"/>
                  </a:lnTo>
                  <a:lnTo>
                    <a:pt x="270" y="1044"/>
                  </a:lnTo>
                  <a:lnTo>
                    <a:pt x="264" y="1016"/>
                  </a:lnTo>
                  <a:lnTo>
                    <a:pt x="264" y="1016"/>
                  </a:lnTo>
                  <a:lnTo>
                    <a:pt x="264" y="1008"/>
                  </a:lnTo>
                  <a:lnTo>
                    <a:pt x="266" y="1000"/>
                  </a:lnTo>
                  <a:lnTo>
                    <a:pt x="272" y="996"/>
                  </a:lnTo>
                  <a:lnTo>
                    <a:pt x="280" y="994"/>
                  </a:lnTo>
                  <a:lnTo>
                    <a:pt x="290" y="996"/>
                  </a:lnTo>
                  <a:lnTo>
                    <a:pt x="298" y="1000"/>
                  </a:lnTo>
                  <a:lnTo>
                    <a:pt x="306" y="1008"/>
                  </a:lnTo>
                  <a:lnTo>
                    <a:pt x="312" y="1018"/>
                  </a:lnTo>
                  <a:lnTo>
                    <a:pt x="312" y="1018"/>
                  </a:lnTo>
                  <a:lnTo>
                    <a:pt x="318" y="1038"/>
                  </a:lnTo>
                  <a:lnTo>
                    <a:pt x="320" y="1062"/>
                  </a:lnTo>
                  <a:lnTo>
                    <a:pt x="320" y="1074"/>
                  </a:lnTo>
                  <a:lnTo>
                    <a:pt x="318" y="1086"/>
                  </a:lnTo>
                  <a:lnTo>
                    <a:pt x="314" y="1096"/>
                  </a:lnTo>
                  <a:lnTo>
                    <a:pt x="308" y="1106"/>
                  </a:lnTo>
                  <a:lnTo>
                    <a:pt x="302" y="1116"/>
                  </a:lnTo>
                  <a:lnTo>
                    <a:pt x="292" y="1124"/>
                  </a:lnTo>
                  <a:lnTo>
                    <a:pt x="282" y="1128"/>
                  </a:lnTo>
                  <a:lnTo>
                    <a:pt x="268" y="1132"/>
                  </a:lnTo>
                  <a:lnTo>
                    <a:pt x="252" y="1132"/>
                  </a:lnTo>
                  <a:lnTo>
                    <a:pt x="232" y="1128"/>
                  </a:lnTo>
                  <a:lnTo>
                    <a:pt x="210" y="1122"/>
                  </a:lnTo>
                  <a:lnTo>
                    <a:pt x="186" y="1114"/>
                  </a:lnTo>
                  <a:lnTo>
                    <a:pt x="186" y="1114"/>
                  </a:lnTo>
                  <a:close/>
                  <a:moveTo>
                    <a:pt x="184" y="56"/>
                  </a:moveTo>
                  <a:lnTo>
                    <a:pt x="184" y="56"/>
                  </a:lnTo>
                  <a:lnTo>
                    <a:pt x="170" y="50"/>
                  </a:lnTo>
                  <a:lnTo>
                    <a:pt x="156" y="48"/>
                  </a:lnTo>
                  <a:lnTo>
                    <a:pt x="142" y="48"/>
                  </a:lnTo>
                  <a:lnTo>
                    <a:pt x="130" y="52"/>
                  </a:lnTo>
                  <a:lnTo>
                    <a:pt x="116" y="56"/>
                  </a:lnTo>
                  <a:lnTo>
                    <a:pt x="104" y="64"/>
                  </a:lnTo>
                  <a:lnTo>
                    <a:pt x="92" y="74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84" y="74"/>
                  </a:lnTo>
                  <a:lnTo>
                    <a:pt x="88" y="62"/>
                  </a:lnTo>
                  <a:lnTo>
                    <a:pt x="94" y="52"/>
                  </a:lnTo>
                  <a:lnTo>
                    <a:pt x="100" y="44"/>
                  </a:lnTo>
                  <a:lnTo>
                    <a:pt x="106" y="38"/>
                  </a:lnTo>
                  <a:lnTo>
                    <a:pt x="114" y="32"/>
                  </a:lnTo>
                  <a:lnTo>
                    <a:pt x="122" y="28"/>
                  </a:lnTo>
                  <a:lnTo>
                    <a:pt x="130" y="26"/>
                  </a:lnTo>
                  <a:lnTo>
                    <a:pt x="140" y="24"/>
                  </a:lnTo>
                  <a:lnTo>
                    <a:pt x="148" y="24"/>
                  </a:lnTo>
                  <a:lnTo>
                    <a:pt x="156" y="26"/>
                  </a:lnTo>
                  <a:lnTo>
                    <a:pt x="164" y="30"/>
                  </a:lnTo>
                  <a:lnTo>
                    <a:pt x="170" y="34"/>
                  </a:lnTo>
                  <a:lnTo>
                    <a:pt x="176" y="40"/>
                  </a:lnTo>
                  <a:lnTo>
                    <a:pt x="180" y="46"/>
                  </a:lnTo>
                  <a:lnTo>
                    <a:pt x="184" y="56"/>
                  </a:lnTo>
                  <a:lnTo>
                    <a:pt x="184" y="56"/>
                  </a:lnTo>
                  <a:close/>
                  <a:moveTo>
                    <a:pt x="330" y="730"/>
                  </a:moveTo>
                  <a:lnTo>
                    <a:pt x="330" y="730"/>
                  </a:lnTo>
                  <a:lnTo>
                    <a:pt x="302" y="740"/>
                  </a:lnTo>
                  <a:lnTo>
                    <a:pt x="280" y="754"/>
                  </a:lnTo>
                  <a:lnTo>
                    <a:pt x="260" y="766"/>
                  </a:lnTo>
                  <a:lnTo>
                    <a:pt x="244" y="782"/>
                  </a:lnTo>
                  <a:lnTo>
                    <a:pt x="232" y="796"/>
                  </a:lnTo>
                  <a:lnTo>
                    <a:pt x="220" y="814"/>
                  </a:lnTo>
                  <a:lnTo>
                    <a:pt x="212" y="830"/>
                  </a:lnTo>
                  <a:lnTo>
                    <a:pt x="206" y="850"/>
                  </a:lnTo>
                  <a:lnTo>
                    <a:pt x="206" y="850"/>
                  </a:lnTo>
                  <a:lnTo>
                    <a:pt x="198" y="838"/>
                  </a:lnTo>
                  <a:lnTo>
                    <a:pt x="194" y="828"/>
                  </a:lnTo>
                  <a:lnTo>
                    <a:pt x="192" y="818"/>
                  </a:lnTo>
                  <a:lnTo>
                    <a:pt x="192" y="808"/>
                  </a:lnTo>
                  <a:lnTo>
                    <a:pt x="194" y="798"/>
                  </a:lnTo>
                  <a:lnTo>
                    <a:pt x="198" y="788"/>
                  </a:lnTo>
                  <a:lnTo>
                    <a:pt x="206" y="780"/>
                  </a:lnTo>
                  <a:lnTo>
                    <a:pt x="214" y="770"/>
                  </a:lnTo>
                  <a:lnTo>
                    <a:pt x="224" y="762"/>
                  </a:lnTo>
                  <a:lnTo>
                    <a:pt x="234" y="756"/>
                  </a:lnTo>
                  <a:lnTo>
                    <a:pt x="248" y="748"/>
                  </a:lnTo>
                  <a:lnTo>
                    <a:pt x="262" y="742"/>
                  </a:lnTo>
                  <a:lnTo>
                    <a:pt x="278" y="738"/>
                  </a:lnTo>
                  <a:lnTo>
                    <a:pt x="294" y="734"/>
                  </a:lnTo>
                  <a:lnTo>
                    <a:pt x="312" y="732"/>
                  </a:lnTo>
                  <a:lnTo>
                    <a:pt x="330" y="730"/>
                  </a:lnTo>
                  <a:lnTo>
                    <a:pt x="330" y="730"/>
                  </a:lnTo>
                  <a:close/>
                  <a:moveTo>
                    <a:pt x="378" y="632"/>
                  </a:moveTo>
                  <a:lnTo>
                    <a:pt x="378" y="632"/>
                  </a:lnTo>
                  <a:lnTo>
                    <a:pt x="390" y="622"/>
                  </a:lnTo>
                  <a:lnTo>
                    <a:pt x="400" y="608"/>
                  </a:lnTo>
                  <a:lnTo>
                    <a:pt x="408" y="594"/>
                  </a:lnTo>
                  <a:lnTo>
                    <a:pt x="416" y="578"/>
                  </a:lnTo>
                  <a:lnTo>
                    <a:pt x="420" y="560"/>
                  </a:lnTo>
                  <a:lnTo>
                    <a:pt x="422" y="542"/>
                  </a:lnTo>
                  <a:lnTo>
                    <a:pt x="420" y="524"/>
                  </a:lnTo>
                  <a:lnTo>
                    <a:pt x="416" y="508"/>
                  </a:lnTo>
                  <a:lnTo>
                    <a:pt x="416" y="508"/>
                  </a:lnTo>
                  <a:lnTo>
                    <a:pt x="426" y="516"/>
                  </a:lnTo>
                  <a:lnTo>
                    <a:pt x="434" y="524"/>
                  </a:lnTo>
                  <a:lnTo>
                    <a:pt x="442" y="534"/>
                  </a:lnTo>
                  <a:lnTo>
                    <a:pt x="446" y="544"/>
                  </a:lnTo>
                  <a:lnTo>
                    <a:pt x="448" y="554"/>
                  </a:lnTo>
                  <a:lnTo>
                    <a:pt x="448" y="564"/>
                  </a:lnTo>
                  <a:lnTo>
                    <a:pt x="448" y="574"/>
                  </a:lnTo>
                  <a:lnTo>
                    <a:pt x="446" y="582"/>
                  </a:lnTo>
                  <a:lnTo>
                    <a:pt x="442" y="592"/>
                  </a:lnTo>
                  <a:lnTo>
                    <a:pt x="436" y="600"/>
                  </a:lnTo>
                  <a:lnTo>
                    <a:pt x="428" y="608"/>
                  </a:lnTo>
                  <a:lnTo>
                    <a:pt x="420" y="614"/>
                  </a:lnTo>
                  <a:lnTo>
                    <a:pt x="412" y="620"/>
                  </a:lnTo>
                  <a:lnTo>
                    <a:pt x="402" y="626"/>
                  </a:lnTo>
                  <a:lnTo>
                    <a:pt x="390" y="630"/>
                  </a:lnTo>
                  <a:lnTo>
                    <a:pt x="378" y="632"/>
                  </a:lnTo>
                  <a:lnTo>
                    <a:pt x="378" y="632"/>
                  </a:lnTo>
                  <a:close/>
                  <a:moveTo>
                    <a:pt x="592" y="1670"/>
                  </a:moveTo>
                  <a:lnTo>
                    <a:pt x="592" y="1670"/>
                  </a:lnTo>
                  <a:lnTo>
                    <a:pt x="634" y="1656"/>
                  </a:lnTo>
                  <a:lnTo>
                    <a:pt x="672" y="1648"/>
                  </a:lnTo>
                  <a:lnTo>
                    <a:pt x="708" y="1644"/>
                  </a:lnTo>
                  <a:lnTo>
                    <a:pt x="740" y="1642"/>
                  </a:lnTo>
                  <a:lnTo>
                    <a:pt x="772" y="1646"/>
                  </a:lnTo>
                  <a:lnTo>
                    <a:pt x="800" y="1652"/>
                  </a:lnTo>
                  <a:lnTo>
                    <a:pt x="828" y="1662"/>
                  </a:lnTo>
                  <a:lnTo>
                    <a:pt x="856" y="1674"/>
                  </a:lnTo>
                  <a:lnTo>
                    <a:pt x="856" y="1674"/>
                  </a:lnTo>
                  <a:lnTo>
                    <a:pt x="870" y="1684"/>
                  </a:lnTo>
                  <a:lnTo>
                    <a:pt x="882" y="1694"/>
                  </a:lnTo>
                  <a:lnTo>
                    <a:pt x="892" y="1704"/>
                  </a:lnTo>
                  <a:lnTo>
                    <a:pt x="900" y="1716"/>
                  </a:lnTo>
                  <a:lnTo>
                    <a:pt x="908" y="1728"/>
                  </a:lnTo>
                  <a:lnTo>
                    <a:pt x="912" y="1740"/>
                  </a:lnTo>
                  <a:lnTo>
                    <a:pt x="916" y="1752"/>
                  </a:lnTo>
                  <a:lnTo>
                    <a:pt x="920" y="1764"/>
                  </a:lnTo>
                  <a:lnTo>
                    <a:pt x="922" y="1790"/>
                  </a:lnTo>
                  <a:lnTo>
                    <a:pt x="918" y="1814"/>
                  </a:lnTo>
                  <a:lnTo>
                    <a:pt x="914" y="1836"/>
                  </a:lnTo>
                  <a:lnTo>
                    <a:pt x="906" y="1858"/>
                  </a:lnTo>
                  <a:lnTo>
                    <a:pt x="906" y="1858"/>
                  </a:lnTo>
                  <a:lnTo>
                    <a:pt x="908" y="1830"/>
                  </a:lnTo>
                  <a:lnTo>
                    <a:pt x="906" y="1806"/>
                  </a:lnTo>
                  <a:lnTo>
                    <a:pt x="900" y="1782"/>
                  </a:lnTo>
                  <a:lnTo>
                    <a:pt x="890" y="1764"/>
                  </a:lnTo>
                  <a:lnTo>
                    <a:pt x="878" y="1748"/>
                  </a:lnTo>
                  <a:lnTo>
                    <a:pt x="862" y="1736"/>
                  </a:lnTo>
                  <a:lnTo>
                    <a:pt x="854" y="1732"/>
                  </a:lnTo>
                  <a:lnTo>
                    <a:pt x="846" y="1728"/>
                  </a:lnTo>
                  <a:lnTo>
                    <a:pt x="838" y="1728"/>
                  </a:lnTo>
                  <a:lnTo>
                    <a:pt x="828" y="1726"/>
                  </a:lnTo>
                  <a:lnTo>
                    <a:pt x="828" y="1726"/>
                  </a:lnTo>
                  <a:lnTo>
                    <a:pt x="832" y="1752"/>
                  </a:lnTo>
                  <a:lnTo>
                    <a:pt x="832" y="1766"/>
                  </a:lnTo>
                  <a:lnTo>
                    <a:pt x="830" y="1782"/>
                  </a:lnTo>
                  <a:lnTo>
                    <a:pt x="828" y="1796"/>
                  </a:lnTo>
                  <a:lnTo>
                    <a:pt x="824" y="1810"/>
                  </a:lnTo>
                  <a:lnTo>
                    <a:pt x="818" y="1822"/>
                  </a:lnTo>
                  <a:lnTo>
                    <a:pt x="812" y="1834"/>
                  </a:lnTo>
                  <a:lnTo>
                    <a:pt x="812" y="1834"/>
                  </a:lnTo>
                  <a:lnTo>
                    <a:pt x="804" y="1786"/>
                  </a:lnTo>
                  <a:lnTo>
                    <a:pt x="800" y="1766"/>
                  </a:lnTo>
                  <a:lnTo>
                    <a:pt x="796" y="1748"/>
                  </a:lnTo>
                  <a:lnTo>
                    <a:pt x="790" y="1730"/>
                  </a:lnTo>
                  <a:lnTo>
                    <a:pt x="782" y="1714"/>
                  </a:lnTo>
                  <a:lnTo>
                    <a:pt x="774" y="1700"/>
                  </a:lnTo>
                  <a:lnTo>
                    <a:pt x="764" y="1690"/>
                  </a:lnTo>
                  <a:lnTo>
                    <a:pt x="752" y="1680"/>
                  </a:lnTo>
                  <a:lnTo>
                    <a:pt x="738" y="1672"/>
                  </a:lnTo>
                  <a:lnTo>
                    <a:pt x="720" y="1666"/>
                  </a:lnTo>
                  <a:lnTo>
                    <a:pt x="702" y="1662"/>
                  </a:lnTo>
                  <a:lnTo>
                    <a:pt x="680" y="1660"/>
                  </a:lnTo>
                  <a:lnTo>
                    <a:pt x="654" y="1662"/>
                  </a:lnTo>
                  <a:lnTo>
                    <a:pt x="626" y="1664"/>
                  </a:lnTo>
                  <a:lnTo>
                    <a:pt x="592" y="1670"/>
                  </a:lnTo>
                  <a:lnTo>
                    <a:pt x="592" y="1670"/>
                  </a:lnTo>
                  <a:close/>
                  <a:moveTo>
                    <a:pt x="472" y="1944"/>
                  </a:moveTo>
                  <a:lnTo>
                    <a:pt x="472" y="1944"/>
                  </a:lnTo>
                  <a:lnTo>
                    <a:pt x="462" y="1956"/>
                  </a:lnTo>
                  <a:lnTo>
                    <a:pt x="454" y="1970"/>
                  </a:lnTo>
                  <a:lnTo>
                    <a:pt x="450" y="1982"/>
                  </a:lnTo>
                  <a:lnTo>
                    <a:pt x="448" y="1996"/>
                  </a:lnTo>
                  <a:lnTo>
                    <a:pt x="448" y="2010"/>
                  </a:lnTo>
                  <a:lnTo>
                    <a:pt x="450" y="2024"/>
                  </a:lnTo>
                  <a:lnTo>
                    <a:pt x="456" y="2038"/>
                  </a:lnTo>
                  <a:lnTo>
                    <a:pt x="462" y="2050"/>
                  </a:lnTo>
                  <a:lnTo>
                    <a:pt x="462" y="2050"/>
                  </a:lnTo>
                  <a:lnTo>
                    <a:pt x="454" y="2048"/>
                  </a:lnTo>
                  <a:lnTo>
                    <a:pt x="446" y="2046"/>
                  </a:lnTo>
                  <a:lnTo>
                    <a:pt x="440" y="2042"/>
                  </a:lnTo>
                  <a:lnTo>
                    <a:pt x="434" y="2036"/>
                  </a:lnTo>
                  <a:lnTo>
                    <a:pt x="428" y="2028"/>
                  </a:lnTo>
                  <a:lnTo>
                    <a:pt x="426" y="2022"/>
                  </a:lnTo>
                  <a:lnTo>
                    <a:pt x="424" y="2012"/>
                  </a:lnTo>
                  <a:lnTo>
                    <a:pt x="422" y="2004"/>
                  </a:lnTo>
                  <a:lnTo>
                    <a:pt x="424" y="1994"/>
                  </a:lnTo>
                  <a:lnTo>
                    <a:pt x="426" y="1986"/>
                  </a:lnTo>
                  <a:lnTo>
                    <a:pt x="428" y="1978"/>
                  </a:lnTo>
                  <a:lnTo>
                    <a:pt x="434" y="1968"/>
                  </a:lnTo>
                  <a:lnTo>
                    <a:pt x="440" y="1962"/>
                  </a:lnTo>
                  <a:lnTo>
                    <a:pt x="450" y="1954"/>
                  </a:lnTo>
                  <a:lnTo>
                    <a:pt x="460" y="1948"/>
                  </a:lnTo>
                  <a:lnTo>
                    <a:pt x="472" y="1944"/>
                  </a:lnTo>
                  <a:lnTo>
                    <a:pt x="472" y="1944"/>
                  </a:lnTo>
                  <a:close/>
                  <a:moveTo>
                    <a:pt x="88" y="2440"/>
                  </a:moveTo>
                  <a:lnTo>
                    <a:pt x="88" y="2440"/>
                  </a:lnTo>
                  <a:lnTo>
                    <a:pt x="84" y="2412"/>
                  </a:lnTo>
                  <a:lnTo>
                    <a:pt x="82" y="2382"/>
                  </a:lnTo>
                  <a:lnTo>
                    <a:pt x="80" y="2352"/>
                  </a:lnTo>
                  <a:lnTo>
                    <a:pt x="80" y="2322"/>
                  </a:lnTo>
                  <a:lnTo>
                    <a:pt x="84" y="2260"/>
                  </a:lnTo>
                  <a:lnTo>
                    <a:pt x="90" y="2202"/>
                  </a:lnTo>
                  <a:lnTo>
                    <a:pt x="100" y="2144"/>
                  </a:lnTo>
                  <a:lnTo>
                    <a:pt x="116" y="2092"/>
                  </a:lnTo>
                  <a:lnTo>
                    <a:pt x="124" y="2068"/>
                  </a:lnTo>
                  <a:lnTo>
                    <a:pt x="132" y="2044"/>
                  </a:lnTo>
                  <a:lnTo>
                    <a:pt x="142" y="2024"/>
                  </a:lnTo>
                  <a:lnTo>
                    <a:pt x="154" y="2004"/>
                  </a:lnTo>
                  <a:lnTo>
                    <a:pt x="154" y="2004"/>
                  </a:lnTo>
                  <a:lnTo>
                    <a:pt x="160" y="2026"/>
                  </a:lnTo>
                  <a:lnTo>
                    <a:pt x="162" y="2046"/>
                  </a:lnTo>
                  <a:lnTo>
                    <a:pt x="162" y="2068"/>
                  </a:lnTo>
                  <a:lnTo>
                    <a:pt x="158" y="2090"/>
                  </a:lnTo>
                  <a:lnTo>
                    <a:pt x="152" y="2110"/>
                  </a:lnTo>
                  <a:lnTo>
                    <a:pt x="144" y="2134"/>
                  </a:lnTo>
                  <a:lnTo>
                    <a:pt x="126" y="2182"/>
                  </a:lnTo>
                  <a:lnTo>
                    <a:pt x="126" y="2182"/>
                  </a:lnTo>
                  <a:lnTo>
                    <a:pt x="134" y="2176"/>
                  </a:lnTo>
                  <a:lnTo>
                    <a:pt x="152" y="2168"/>
                  </a:lnTo>
                  <a:lnTo>
                    <a:pt x="164" y="2162"/>
                  </a:lnTo>
                  <a:lnTo>
                    <a:pt x="176" y="2160"/>
                  </a:lnTo>
                  <a:lnTo>
                    <a:pt x="190" y="2160"/>
                  </a:lnTo>
                  <a:lnTo>
                    <a:pt x="204" y="2162"/>
                  </a:lnTo>
                  <a:lnTo>
                    <a:pt x="204" y="2162"/>
                  </a:lnTo>
                  <a:lnTo>
                    <a:pt x="184" y="2178"/>
                  </a:lnTo>
                  <a:lnTo>
                    <a:pt x="164" y="2202"/>
                  </a:lnTo>
                  <a:lnTo>
                    <a:pt x="146" y="2230"/>
                  </a:lnTo>
                  <a:lnTo>
                    <a:pt x="130" y="2264"/>
                  </a:lnTo>
                  <a:lnTo>
                    <a:pt x="114" y="2302"/>
                  </a:lnTo>
                  <a:lnTo>
                    <a:pt x="102" y="2344"/>
                  </a:lnTo>
                  <a:lnTo>
                    <a:pt x="94" y="2390"/>
                  </a:lnTo>
                  <a:lnTo>
                    <a:pt x="88" y="2440"/>
                  </a:lnTo>
                  <a:lnTo>
                    <a:pt x="88" y="2440"/>
                  </a:lnTo>
                  <a:close/>
                  <a:moveTo>
                    <a:pt x="606" y="2512"/>
                  </a:moveTo>
                  <a:lnTo>
                    <a:pt x="606" y="2512"/>
                  </a:lnTo>
                  <a:lnTo>
                    <a:pt x="626" y="2518"/>
                  </a:lnTo>
                  <a:lnTo>
                    <a:pt x="646" y="2522"/>
                  </a:lnTo>
                  <a:lnTo>
                    <a:pt x="662" y="2528"/>
                  </a:lnTo>
                  <a:lnTo>
                    <a:pt x="678" y="2528"/>
                  </a:lnTo>
                  <a:lnTo>
                    <a:pt x="684" y="2528"/>
                  </a:lnTo>
                  <a:lnTo>
                    <a:pt x="690" y="2526"/>
                  </a:lnTo>
                  <a:lnTo>
                    <a:pt x="696" y="2522"/>
                  </a:lnTo>
                  <a:lnTo>
                    <a:pt x="702" y="2516"/>
                  </a:lnTo>
                  <a:lnTo>
                    <a:pt x="706" y="2510"/>
                  </a:lnTo>
                  <a:lnTo>
                    <a:pt x="710" y="2500"/>
                  </a:lnTo>
                  <a:lnTo>
                    <a:pt x="718" y="2474"/>
                  </a:lnTo>
                  <a:lnTo>
                    <a:pt x="718" y="2474"/>
                  </a:lnTo>
                  <a:lnTo>
                    <a:pt x="720" y="2470"/>
                  </a:lnTo>
                  <a:lnTo>
                    <a:pt x="724" y="2464"/>
                  </a:lnTo>
                  <a:lnTo>
                    <a:pt x="734" y="2458"/>
                  </a:lnTo>
                  <a:lnTo>
                    <a:pt x="746" y="2454"/>
                  </a:lnTo>
                  <a:lnTo>
                    <a:pt x="760" y="2454"/>
                  </a:lnTo>
                  <a:lnTo>
                    <a:pt x="768" y="2456"/>
                  </a:lnTo>
                  <a:lnTo>
                    <a:pt x="774" y="2460"/>
                  </a:lnTo>
                  <a:lnTo>
                    <a:pt x="778" y="2464"/>
                  </a:lnTo>
                  <a:lnTo>
                    <a:pt x="784" y="2470"/>
                  </a:lnTo>
                  <a:lnTo>
                    <a:pt x="786" y="2478"/>
                  </a:lnTo>
                  <a:lnTo>
                    <a:pt x="790" y="2486"/>
                  </a:lnTo>
                  <a:lnTo>
                    <a:pt x="790" y="2498"/>
                  </a:lnTo>
                  <a:lnTo>
                    <a:pt x="788" y="2510"/>
                  </a:lnTo>
                  <a:lnTo>
                    <a:pt x="788" y="2510"/>
                  </a:lnTo>
                  <a:lnTo>
                    <a:pt x="786" y="2520"/>
                  </a:lnTo>
                  <a:lnTo>
                    <a:pt x="782" y="2530"/>
                  </a:lnTo>
                  <a:lnTo>
                    <a:pt x="776" y="2540"/>
                  </a:lnTo>
                  <a:lnTo>
                    <a:pt x="770" y="2550"/>
                  </a:lnTo>
                  <a:lnTo>
                    <a:pt x="762" y="2560"/>
                  </a:lnTo>
                  <a:lnTo>
                    <a:pt x="752" y="2568"/>
                  </a:lnTo>
                  <a:lnTo>
                    <a:pt x="740" y="2576"/>
                  </a:lnTo>
                  <a:lnTo>
                    <a:pt x="728" y="2580"/>
                  </a:lnTo>
                  <a:lnTo>
                    <a:pt x="716" y="2582"/>
                  </a:lnTo>
                  <a:lnTo>
                    <a:pt x="702" y="2584"/>
                  </a:lnTo>
                  <a:lnTo>
                    <a:pt x="688" y="2580"/>
                  </a:lnTo>
                  <a:lnTo>
                    <a:pt x="672" y="2574"/>
                  </a:lnTo>
                  <a:lnTo>
                    <a:pt x="656" y="2566"/>
                  </a:lnTo>
                  <a:lnTo>
                    <a:pt x="640" y="2552"/>
                  </a:lnTo>
                  <a:lnTo>
                    <a:pt x="624" y="2534"/>
                  </a:lnTo>
                  <a:lnTo>
                    <a:pt x="606" y="2512"/>
                  </a:lnTo>
                  <a:lnTo>
                    <a:pt x="606" y="2512"/>
                  </a:lnTo>
                  <a:close/>
                  <a:moveTo>
                    <a:pt x="750" y="2852"/>
                  </a:moveTo>
                  <a:lnTo>
                    <a:pt x="750" y="2852"/>
                  </a:lnTo>
                  <a:lnTo>
                    <a:pt x="762" y="2846"/>
                  </a:lnTo>
                  <a:lnTo>
                    <a:pt x="774" y="2840"/>
                  </a:lnTo>
                  <a:lnTo>
                    <a:pt x="800" y="2822"/>
                  </a:lnTo>
                  <a:lnTo>
                    <a:pt x="824" y="2804"/>
                  </a:lnTo>
                  <a:lnTo>
                    <a:pt x="846" y="2788"/>
                  </a:lnTo>
                  <a:lnTo>
                    <a:pt x="846" y="2788"/>
                  </a:lnTo>
                  <a:lnTo>
                    <a:pt x="834" y="2800"/>
                  </a:lnTo>
                  <a:lnTo>
                    <a:pt x="828" y="2808"/>
                  </a:lnTo>
                  <a:lnTo>
                    <a:pt x="822" y="2816"/>
                  </a:lnTo>
                  <a:lnTo>
                    <a:pt x="820" y="2822"/>
                  </a:lnTo>
                  <a:lnTo>
                    <a:pt x="814" y="2836"/>
                  </a:lnTo>
                  <a:lnTo>
                    <a:pt x="808" y="2844"/>
                  </a:lnTo>
                  <a:lnTo>
                    <a:pt x="800" y="2852"/>
                  </a:lnTo>
                  <a:lnTo>
                    <a:pt x="800" y="2852"/>
                  </a:lnTo>
                  <a:lnTo>
                    <a:pt x="782" y="2870"/>
                  </a:lnTo>
                  <a:lnTo>
                    <a:pt x="774" y="2878"/>
                  </a:lnTo>
                  <a:lnTo>
                    <a:pt x="770" y="2884"/>
                  </a:lnTo>
                  <a:lnTo>
                    <a:pt x="768" y="2892"/>
                  </a:lnTo>
                  <a:lnTo>
                    <a:pt x="768" y="2898"/>
                  </a:lnTo>
                  <a:lnTo>
                    <a:pt x="768" y="2904"/>
                  </a:lnTo>
                  <a:lnTo>
                    <a:pt x="768" y="2910"/>
                  </a:lnTo>
                  <a:lnTo>
                    <a:pt x="716" y="2920"/>
                  </a:lnTo>
                  <a:lnTo>
                    <a:pt x="716" y="2920"/>
                  </a:lnTo>
                  <a:lnTo>
                    <a:pt x="712" y="2916"/>
                  </a:lnTo>
                  <a:lnTo>
                    <a:pt x="708" y="2912"/>
                  </a:lnTo>
                  <a:lnTo>
                    <a:pt x="706" y="2908"/>
                  </a:lnTo>
                  <a:lnTo>
                    <a:pt x="704" y="2902"/>
                  </a:lnTo>
                  <a:lnTo>
                    <a:pt x="706" y="2892"/>
                  </a:lnTo>
                  <a:lnTo>
                    <a:pt x="710" y="2882"/>
                  </a:lnTo>
                  <a:lnTo>
                    <a:pt x="718" y="2874"/>
                  </a:lnTo>
                  <a:lnTo>
                    <a:pt x="728" y="2864"/>
                  </a:lnTo>
                  <a:lnTo>
                    <a:pt x="740" y="2856"/>
                  </a:lnTo>
                  <a:lnTo>
                    <a:pt x="750" y="2852"/>
                  </a:lnTo>
                  <a:lnTo>
                    <a:pt x="750" y="2852"/>
                  </a:lnTo>
                  <a:close/>
                  <a:moveTo>
                    <a:pt x="528" y="2828"/>
                  </a:moveTo>
                  <a:lnTo>
                    <a:pt x="528" y="2828"/>
                  </a:lnTo>
                  <a:lnTo>
                    <a:pt x="580" y="2846"/>
                  </a:lnTo>
                  <a:lnTo>
                    <a:pt x="606" y="2856"/>
                  </a:lnTo>
                  <a:lnTo>
                    <a:pt x="632" y="2862"/>
                  </a:lnTo>
                  <a:lnTo>
                    <a:pt x="632" y="2862"/>
                  </a:lnTo>
                  <a:lnTo>
                    <a:pt x="644" y="2864"/>
                  </a:lnTo>
                  <a:lnTo>
                    <a:pt x="656" y="2870"/>
                  </a:lnTo>
                  <a:lnTo>
                    <a:pt x="666" y="2876"/>
                  </a:lnTo>
                  <a:lnTo>
                    <a:pt x="674" y="2884"/>
                  </a:lnTo>
                  <a:lnTo>
                    <a:pt x="680" y="2894"/>
                  </a:lnTo>
                  <a:lnTo>
                    <a:pt x="682" y="2902"/>
                  </a:lnTo>
                  <a:lnTo>
                    <a:pt x="682" y="2908"/>
                  </a:lnTo>
                  <a:lnTo>
                    <a:pt x="680" y="2912"/>
                  </a:lnTo>
                  <a:lnTo>
                    <a:pt x="678" y="2916"/>
                  </a:lnTo>
                  <a:lnTo>
                    <a:pt x="674" y="2922"/>
                  </a:lnTo>
                  <a:lnTo>
                    <a:pt x="620" y="2922"/>
                  </a:lnTo>
                  <a:lnTo>
                    <a:pt x="620" y="2922"/>
                  </a:lnTo>
                  <a:lnTo>
                    <a:pt x="620" y="2910"/>
                  </a:lnTo>
                  <a:lnTo>
                    <a:pt x="618" y="2904"/>
                  </a:lnTo>
                  <a:lnTo>
                    <a:pt x="616" y="2898"/>
                  </a:lnTo>
                  <a:lnTo>
                    <a:pt x="610" y="2892"/>
                  </a:lnTo>
                  <a:lnTo>
                    <a:pt x="604" y="2886"/>
                  </a:lnTo>
                  <a:lnTo>
                    <a:pt x="584" y="2872"/>
                  </a:lnTo>
                  <a:lnTo>
                    <a:pt x="584" y="2872"/>
                  </a:lnTo>
                  <a:lnTo>
                    <a:pt x="574" y="2866"/>
                  </a:lnTo>
                  <a:lnTo>
                    <a:pt x="566" y="2860"/>
                  </a:lnTo>
                  <a:lnTo>
                    <a:pt x="560" y="2852"/>
                  </a:lnTo>
                  <a:lnTo>
                    <a:pt x="550" y="2842"/>
                  </a:lnTo>
                  <a:lnTo>
                    <a:pt x="528" y="2828"/>
                  </a:lnTo>
                  <a:lnTo>
                    <a:pt x="528" y="2828"/>
                  </a:lnTo>
                  <a:close/>
                  <a:moveTo>
                    <a:pt x="62" y="2944"/>
                  </a:moveTo>
                  <a:lnTo>
                    <a:pt x="62" y="2944"/>
                  </a:lnTo>
                  <a:lnTo>
                    <a:pt x="66" y="2954"/>
                  </a:lnTo>
                  <a:lnTo>
                    <a:pt x="70" y="2960"/>
                  </a:lnTo>
                  <a:lnTo>
                    <a:pt x="76" y="2966"/>
                  </a:lnTo>
                  <a:lnTo>
                    <a:pt x="82" y="2970"/>
                  </a:lnTo>
                  <a:lnTo>
                    <a:pt x="96" y="2976"/>
                  </a:lnTo>
                  <a:lnTo>
                    <a:pt x="110" y="2980"/>
                  </a:lnTo>
                  <a:lnTo>
                    <a:pt x="138" y="2984"/>
                  </a:lnTo>
                  <a:lnTo>
                    <a:pt x="146" y="2988"/>
                  </a:lnTo>
                  <a:lnTo>
                    <a:pt x="148" y="2990"/>
                  </a:lnTo>
                  <a:lnTo>
                    <a:pt x="150" y="2994"/>
                  </a:lnTo>
                  <a:lnTo>
                    <a:pt x="150" y="2994"/>
                  </a:lnTo>
                  <a:lnTo>
                    <a:pt x="144" y="3000"/>
                  </a:lnTo>
                  <a:lnTo>
                    <a:pt x="138" y="3004"/>
                  </a:lnTo>
                  <a:lnTo>
                    <a:pt x="132" y="3006"/>
                  </a:lnTo>
                  <a:lnTo>
                    <a:pt x="124" y="3008"/>
                  </a:lnTo>
                  <a:lnTo>
                    <a:pt x="110" y="3008"/>
                  </a:lnTo>
                  <a:lnTo>
                    <a:pt x="96" y="3004"/>
                  </a:lnTo>
                  <a:lnTo>
                    <a:pt x="82" y="2996"/>
                  </a:lnTo>
                  <a:lnTo>
                    <a:pt x="76" y="2990"/>
                  </a:lnTo>
                  <a:lnTo>
                    <a:pt x="72" y="2982"/>
                  </a:lnTo>
                  <a:lnTo>
                    <a:pt x="68" y="2974"/>
                  </a:lnTo>
                  <a:lnTo>
                    <a:pt x="64" y="2966"/>
                  </a:lnTo>
                  <a:lnTo>
                    <a:pt x="62" y="2956"/>
                  </a:lnTo>
                  <a:lnTo>
                    <a:pt x="62" y="2944"/>
                  </a:lnTo>
                  <a:lnTo>
                    <a:pt x="62" y="2944"/>
                  </a:lnTo>
                  <a:close/>
                </a:path>
              </a:pathLst>
            </a:custGeom>
            <a:solidFill>
              <a:srgbClr val="947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0"/>
            <p:cNvSpPr/>
            <p:nvPr/>
          </p:nvSpPr>
          <p:spPr>
            <a:xfrm>
              <a:off x="3274920" y="8877240"/>
              <a:ext cx="434880" cy="46332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74" h="292">
                  <a:moveTo>
                    <a:pt x="8" y="198"/>
                  </a:moveTo>
                  <a:lnTo>
                    <a:pt x="8" y="198"/>
                  </a:lnTo>
                  <a:lnTo>
                    <a:pt x="22" y="220"/>
                  </a:lnTo>
                  <a:lnTo>
                    <a:pt x="40" y="242"/>
                  </a:lnTo>
                  <a:lnTo>
                    <a:pt x="58" y="258"/>
                  </a:lnTo>
                  <a:lnTo>
                    <a:pt x="80" y="272"/>
                  </a:lnTo>
                  <a:lnTo>
                    <a:pt x="104" y="284"/>
                  </a:lnTo>
                  <a:lnTo>
                    <a:pt x="128" y="290"/>
                  </a:lnTo>
                  <a:lnTo>
                    <a:pt x="152" y="292"/>
                  </a:lnTo>
                  <a:lnTo>
                    <a:pt x="178" y="290"/>
                  </a:lnTo>
                  <a:lnTo>
                    <a:pt x="178" y="290"/>
                  </a:lnTo>
                  <a:lnTo>
                    <a:pt x="202" y="282"/>
                  </a:lnTo>
                  <a:lnTo>
                    <a:pt x="222" y="274"/>
                  </a:lnTo>
                  <a:lnTo>
                    <a:pt x="238" y="264"/>
                  </a:lnTo>
                  <a:lnTo>
                    <a:pt x="246" y="256"/>
                  </a:lnTo>
                  <a:lnTo>
                    <a:pt x="252" y="250"/>
                  </a:lnTo>
                  <a:lnTo>
                    <a:pt x="252" y="250"/>
                  </a:lnTo>
                  <a:lnTo>
                    <a:pt x="260" y="234"/>
                  </a:lnTo>
                  <a:lnTo>
                    <a:pt x="268" y="218"/>
                  </a:lnTo>
                  <a:lnTo>
                    <a:pt x="272" y="200"/>
                  </a:lnTo>
                  <a:lnTo>
                    <a:pt x="274" y="182"/>
                  </a:lnTo>
                  <a:lnTo>
                    <a:pt x="272" y="164"/>
                  </a:lnTo>
                  <a:lnTo>
                    <a:pt x="268" y="148"/>
                  </a:lnTo>
                  <a:lnTo>
                    <a:pt x="262" y="134"/>
                  </a:lnTo>
                  <a:lnTo>
                    <a:pt x="252" y="122"/>
                  </a:lnTo>
                  <a:lnTo>
                    <a:pt x="252" y="122"/>
                  </a:lnTo>
                  <a:lnTo>
                    <a:pt x="252" y="138"/>
                  </a:lnTo>
                  <a:lnTo>
                    <a:pt x="252" y="152"/>
                  </a:lnTo>
                  <a:lnTo>
                    <a:pt x="250" y="166"/>
                  </a:lnTo>
                  <a:lnTo>
                    <a:pt x="248" y="178"/>
                  </a:lnTo>
                  <a:lnTo>
                    <a:pt x="244" y="190"/>
                  </a:lnTo>
                  <a:lnTo>
                    <a:pt x="240" y="200"/>
                  </a:lnTo>
                  <a:lnTo>
                    <a:pt x="234" y="210"/>
                  </a:lnTo>
                  <a:lnTo>
                    <a:pt x="228" y="218"/>
                  </a:lnTo>
                  <a:lnTo>
                    <a:pt x="222" y="226"/>
                  </a:lnTo>
                  <a:lnTo>
                    <a:pt x="214" y="232"/>
                  </a:lnTo>
                  <a:lnTo>
                    <a:pt x="206" y="236"/>
                  </a:lnTo>
                  <a:lnTo>
                    <a:pt x="198" y="240"/>
                  </a:lnTo>
                  <a:lnTo>
                    <a:pt x="188" y="244"/>
                  </a:lnTo>
                  <a:lnTo>
                    <a:pt x="180" y="244"/>
                  </a:lnTo>
                  <a:lnTo>
                    <a:pt x="170" y="244"/>
                  </a:lnTo>
                  <a:lnTo>
                    <a:pt x="160" y="244"/>
                  </a:lnTo>
                  <a:lnTo>
                    <a:pt x="160" y="244"/>
                  </a:lnTo>
                  <a:lnTo>
                    <a:pt x="136" y="236"/>
                  </a:lnTo>
                  <a:lnTo>
                    <a:pt x="118" y="228"/>
                  </a:lnTo>
                  <a:lnTo>
                    <a:pt x="108" y="218"/>
                  </a:lnTo>
                  <a:lnTo>
                    <a:pt x="100" y="206"/>
                  </a:lnTo>
                  <a:lnTo>
                    <a:pt x="98" y="194"/>
                  </a:lnTo>
                  <a:lnTo>
                    <a:pt x="100" y="182"/>
                  </a:lnTo>
                  <a:lnTo>
                    <a:pt x="104" y="170"/>
                  </a:lnTo>
                  <a:lnTo>
                    <a:pt x="112" y="158"/>
                  </a:lnTo>
                  <a:lnTo>
                    <a:pt x="122" y="150"/>
                  </a:lnTo>
                  <a:lnTo>
                    <a:pt x="132" y="142"/>
                  </a:lnTo>
                  <a:lnTo>
                    <a:pt x="142" y="138"/>
                  </a:lnTo>
                  <a:lnTo>
                    <a:pt x="152" y="136"/>
                  </a:lnTo>
                  <a:lnTo>
                    <a:pt x="162" y="138"/>
                  </a:lnTo>
                  <a:lnTo>
                    <a:pt x="170" y="142"/>
                  </a:lnTo>
                  <a:lnTo>
                    <a:pt x="176" y="152"/>
                  </a:lnTo>
                  <a:lnTo>
                    <a:pt x="178" y="168"/>
                  </a:lnTo>
                  <a:lnTo>
                    <a:pt x="178" y="168"/>
                  </a:lnTo>
                  <a:lnTo>
                    <a:pt x="188" y="154"/>
                  </a:lnTo>
                  <a:lnTo>
                    <a:pt x="196" y="140"/>
                  </a:lnTo>
                  <a:lnTo>
                    <a:pt x="200" y="126"/>
                  </a:lnTo>
                  <a:lnTo>
                    <a:pt x="202" y="114"/>
                  </a:lnTo>
                  <a:lnTo>
                    <a:pt x="200" y="102"/>
                  </a:lnTo>
                  <a:lnTo>
                    <a:pt x="198" y="90"/>
                  </a:lnTo>
                  <a:lnTo>
                    <a:pt x="194" y="80"/>
                  </a:lnTo>
                  <a:lnTo>
                    <a:pt x="188" y="72"/>
                  </a:lnTo>
                  <a:lnTo>
                    <a:pt x="180" y="64"/>
                  </a:lnTo>
                  <a:lnTo>
                    <a:pt x="170" y="58"/>
                  </a:lnTo>
                  <a:lnTo>
                    <a:pt x="160" y="52"/>
                  </a:lnTo>
                  <a:lnTo>
                    <a:pt x="148" y="50"/>
                  </a:lnTo>
                  <a:lnTo>
                    <a:pt x="136" y="48"/>
                  </a:lnTo>
                  <a:lnTo>
                    <a:pt x="124" y="48"/>
                  </a:lnTo>
                  <a:lnTo>
                    <a:pt x="110" y="52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84" y="32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52" y="12"/>
                  </a:lnTo>
                  <a:lnTo>
                    <a:pt x="42" y="24"/>
                  </a:lnTo>
                  <a:lnTo>
                    <a:pt x="32" y="36"/>
                  </a:lnTo>
                  <a:lnTo>
                    <a:pt x="26" y="48"/>
                  </a:lnTo>
                  <a:lnTo>
                    <a:pt x="14" y="74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4" y="112"/>
                  </a:lnTo>
                  <a:lnTo>
                    <a:pt x="2" y="124"/>
                  </a:lnTo>
                  <a:lnTo>
                    <a:pt x="0" y="152"/>
                  </a:lnTo>
                  <a:lnTo>
                    <a:pt x="2" y="180"/>
                  </a:lnTo>
                  <a:lnTo>
                    <a:pt x="4" y="190"/>
                  </a:lnTo>
                  <a:lnTo>
                    <a:pt x="8" y="198"/>
                  </a:lnTo>
                  <a:lnTo>
                    <a:pt x="8" y="198"/>
                  </a:lnTo>
                  <a:close/>
                  <a:moveTo>
                    <a:pt x="52" y="68"/>
                  </a:moveTo>
                  <a:lnTo>
                    <a:pt x="52" y="68"/>
                  </a:lnTo>
                  <a:lnTo>
                    <a:pt x="64" y="94"/>
                  </a:lnTo>
                  <a:lnTo>
                    <a:pt x="72" y="104"/>
                  </a:lnTo>
                  <a:lnTo>
                    <a:pt x="80" y="112"/>
                  </a:lnTo>
                  <a:lnTo>
                    <a:pt x="80" y="112"/>
                  </a:lnTo>
                  <a:lnTo>
                    <a:pt x="84" y="104"/>
                  </a:lnTo>
                  <a:lnTo>
                    <a:pt x="92" y="98"/>
                  </a:lnTo>
                  <a:lnTo>
                    <a:pt x="102" y="92"/>
                  </a:lnTo>
                  <a:lnTo>
                    <a:pt x="112" y="88"/>
                  </a:lnTo>
                  <a:lnTo>
                    <a:pt x="124" y="86"/>
                  </a:lnTo>
                  <a:lnTo>
                    <a:pt x="134" y="88"/>
                  </a:lnTo>
                  <a:lnTo>
                    <a:pt x="144" y="90"/>
                  </a:lnTo>
                  <a:lnTo>
                    <a:pt x="152" y="96"/>
                  </a:lnTo>
                  <a:lnTo>
                    <a:pt x="152" y="96"/>
                  </a:lnTo>
                  <a:lnTo>
                    <a:pt x="140" y="98"/>
                  </a:lnTo>
                  <a:lnTo>
                    <a:pt x="124" y="102"/>
                  </a:lnTo>
                  <a:lnTo>
                    <a:pt x="106" y="112"/>
                  </a:lnTo>
                  <a:lnTo>
                    <a:pt x="96" y="118"/>
                  </a:lnTo>
                  <a:lnTo>
                    <a:pt x="88" y="126"/>
                  </a:lnTo>
                  <a:lnTo>
                    <a:pt x="80" y="134"/>
                  </a:lnTo>
                  <a:lnTo>
                    <a:pt x="74" y="144"/>
                  </a:lnTo>
                  <a:lnTo>
                    <a:pt x="70" y="154"/>
                  </a:lnTo>
                  <a:lnTo>
                    <a:pt x="66" y="166"/>
                  </a:lnTo>
                  <a:lnTo>
                    <a:pt x="64" y="178"/>
                  </a:lnTo>
                  <a:lnTo>
                    <a:pt x="64" y="192"/>
                  </a:lnTo>
                  <a:lnTo>
                    <a:pt x="68" y="208"/>
                  </a:lnTo>
                  <a:lnTo>
                    <a:pt x="74" y="226"/>
                  </a:lnTo>
                  <a:lnTo>
                    <a:pt x="74" y="226"/>
                  </a:lnTo>
                  <a:lnTo>
                    <a:pt x="64" y="212"/>
                  </a:lnTo>
                  <a:lnTo>
                    <a:pt x="54" y="198"/>
                  </a:lnTo>
                  <a:lnTo>
                    <a:pt x="48" y="184"/>
                  </a:lnTo>
                  <a:lnTo>
                    <a:pt x="44" y="166"/>
                  </a:lnTo>
                  <a:lnTo>
                    <a:pt x="40" y="146"/>
                  </a:lnTo>
                  <a:lnTo>
                    <a:pt x="42" y="124"/>
                  </a:lnTo>
                  <a:lnTo>
                    <a:pt x="46" y="98"/>
                  </a:lnTo>
                  <a:lnTo>
                    <a:pt x="52" y="68"/>
                  </a:lnTo>
                  <a:lnTo>
                    <a:pt x="52" y="68"/>
                  </a:lnTo>
                  <a:close/>
                </a:path>
              </a:pathLst>
            </a:custGeom>
            <a:solidFill>
              <a:srgbClr val="cabb8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1"/>
            <p:cNvSpPr/>
            <p:nvPr/>
          </p:nvSpPr>
          <p:spPr>
            <a:xfrm>
              <a:off x="1627200" y="8810640"/>
              <a:ext cx="4178160" cy="1517400"/>
            </a:xfrm>
            <a:custGeom>
              <a:avLst/>
              <a:gdLst>
                <a:gd name="textAreaLeft" fmla="*/ 0 w 4178160"/>
                <a:gd name="textAreaRight" fmla="*/ 4178160 w 4178160"/>
                <a:gd name="textAreaTop" fmla="*/ 0 h 1517400"/>
                <a:gd name="textAreaBottom" fmla="*/ 1517760 h 1517400"/>
              </a:gdLst>
              <a:ahLst/>
              <a:rect l="textAreaLeft" t="textAreaTop" r="textAreaRight" b="textAreaBottom"/>
              <a:pathLst>
                <a:path w="2632" h="956">
                  <a:moveTo>
                    <a:pt x="0" y="898"/>
                  </a:moveTo>
                  <a:lnTo>
                    <a:pt x="0" y="898"/>
                  </a:lnTo>
                  <a:lnTo>
                    <a:pt x="30" y="910"/>
                  </a:lnTo>
                  <a:lnTo>
                    <a:pt x="62" y="920"/>
                  </a:lnTo>
                  <a:lnTo>
                    <a:pt x="94" y="928"/>
                  </a:lnTo>
                  <a:lnTo>
                    <a:pt x="128" y="936"/>
                  </a:lnTo>
                  <a:lnTo>
                    <a:pt x="160" y="942"/>
                  </a:lnTo>
                  <a:lnTo>
                    <a:pt x="194" y="948"/>
                  </a:lnTo>
                  <a:lnTo>
                    <a:pt x="260" y="954"/>
                  </a:lnTo>
                  <a:lnTo>
                    <a:pt x="324" y="956"/>
                  </a:lnTo>
                  <a:lnTo>
                    <a:pt x="356" y="954"/>
                  </a:lnTo>
                  <a:lnTo>
                    <a:pt x="386" y="952"/>
                  </a:lnTo>
                  <a:lnTo>
                    <a:pt x="416" y="948"/>
                  </a:lnTo>
                  <a:lnTo>
                    <a:pt x="444" y="944"/>
                  </a:lnTo>
                  <a:lnTo>
                    <a:pt x="472" y="938"/>
                  </a:lnTo>
                  <a:lnTo>
                    <a:pt x="496" y="932"/>
                  </a:lnTo>
                  <a:lnTo>
                    <a:pt x="496" y="932"/>
                  </a:lnTo>
                  <a:lnTo>
                    <a:pt x="558" y="912"/>
                  </a:lnTo>
                  <a:lnTo>
                    <a:pt x="616" y="890"/>
                  </a:lnTo>
                  <a:lnTo>
                    <a:pt x="670" y="866"/>
                  </a:lnTo>
                  <a:lnTo>
                    <a:pt x="718" y="842"/>
                  </a:lnTo>
                  <a:lnTo>
                    <a:pt x="764" y="816"/>
                  </a:lnTo>
                  <a:lnTo>
                    <a:pt x="804" y="790"/>
                  </a:lnTo>
                  <a:lnTo>
                    <a:pt x="842" y="764"/>
                  </a:lnTo>
                  <a:lnTo>
                    <a:pt x="878" y="738"/>
                  </a:lnTo>
                  <a:lnTo>
                    <a:pt x="878" y="738"/>
                  </a:lnTo>
                  <a:lnTo>
                    <a:pt x="900" y="722"/>
                  </a:lnTo>
                  <a:lnTo>
                    <a:pt x="924" y="708"/>
                  </a:lnTo>
                  <a:lnTo>
                    <a:pt x="950" y="694"/>
                  </a:lnTo>
                  <a:lnTo>
                    <a:pt x="978" y="682"/>
                  </a:lnTo>
                  <a:lnTo>
                    <a:pt x="1008" y="672"/>
                  </a:lnTo>
                  <a:lnTo>
                    <a:pt x="1036" y="664"/>
                  </a:lnTo>
                  <a:lnTo>
                    <a:pt x="1066" y="658"/>
                  </a:lnTo>
                  <a:lnTo>
                    <a:pt x="1094" y="654"/>
                  </a:lnTo>
                  <a:lnTo>
                    <a:pt x="1122" y="652"/>
                  </a:lnTo>
                  <a:lnTo>
                    <a:pt x="1150" y="652"/>
                  </a:lnTo>
                  <a:lnTo>
                    <a:pt x="1176" y="654"/>
                  </a:lnTo>
                  <a:lnTo>
                    <a:pt x="1200" y="660"/>
                  </a:lnTo>
                  <a:lnTo>
                    <a:pt x="1220" y="668"/>
                  </a:lnTo>
                  <a:lnTo>
                    <a:pt x="1240" y="680"/>
                  </a:lnTo>
                  <a:lnTo>
                    <a:pt x="1254" y="694"/>
                  </a:lnTo>
                  <a:lnTo>
                    <a:pt x="1262" y="702"/>
                  </a:lnTo>
                  <a:lnTo>
                    <a:pt x="1266" y="712"/>
                  </a:lnTo>
                  <a:lnTo>
                    <a:pt x="1266" y="712"/>
                  </a:lnTo>
                  <a:lnTo>
                    <a:pt x="1274" y="728"/>
                  </a:lnTo>
                  <a:lnTo>
                    <a:pt x="1280" y="746"/>
                  </a:lnTo>
                  <a:lnTo>
                    <a:pt x="1282" y="762"/>
                  </a:lnTo>
                  <a:lnTo>
                    <a:pt x="1282" y="778"/>
                  </a:lnTo>
                  <a:lnTo>
                    <a:pt x="1280" y="792"/>
                  </a:lnTo>
                  <a:lnTo>
                    <a:pt x="1278" y="808"/>
                  </a:lnTo>
                  <a:lnTo>
                    <a:pt x="1268" y="836"/>
                  </a:lnTo>
                  <a:lnTo>
                    <a:pt x="1268" y="836"/>
                  </a:lnTo>
                  <a:lnTo>
                    <a:pt x="1264" y="846"/>
                  </a:lnTo>
                  <a:lnTo>
                    <a:pt x="1256" y="856"/>
                  </a:lnTo>
                  <a:lnTo>
                    <a:pt x="1250" y="866"/>
                  </a:lnTo>
                  <a:lnTo>
                    <a:pt x="1240" y="874"/>
                  </a:lnTo>
                  <a:lnTo>
                    <a:pt x="1232" y="880"/>
                  </a:lnTo>
                  <a:lnTo>
                    <a:pt x="1222" y="886"/>
                  </a:lnTo>
                  <a:lnTo>
                    <a:pt x="1210" y="890"/>
                  </a:lnTo>
                  <a:lnTo>
                    <a:pt x="1198" y="892"/>
                  </a:lnTo>
                  <a:lnTo>
                    <a:pt x="1186" y="894"/>
                  </a:lnTo>
                  <a:lnTo>
                    <a:pt x="1174" y="894"/>
                  </a:lnTo>
                  <a:lnTo>
                    <a:pt x="1162" y="894"/>
                  </a:lnTo>
                  <a:lnTo>
                    <a:pt x="1148" y="892"/>
                  </a:lnTo>
                  <a:lnTo>
                    <a:pt x="1136" y="886"/>
                  </a:lnTo>
                  <a:lnTo>
                    <a:pt x="1122" y="882"/>
                  </a:lnTo>
                  <a:lnTo>
                    <a:pt x="1110" y="874"/>
                  </a:lnTo>
                  <a:lnTo>
                    <a:pt x="1098" y="864"/>
                  </a:lnTo>
                  <a:lnTo>
                    <a:pt x="1098" y="864"/>
                  </a:lnTo>
                  <a:lnTo>
                    <a:pt x="1114" y="866"/>
                  </a:lnTo>
                  <a:lnTo>
                    <a:pt x="1128" y="866"/>
                  </a:lnTo>
                  <a:lnTo>
                    <a:pt x="1140" y="862"/>
                  </a:lnTo>
                  <a:lnTo>
                    <a:pt x="1150" y="858"/>
                  </a:lnTo>
                  <a:lnTo>
                    <a:pt x="1160" y="852"/>
                  </a:lnTo>
                  <a:lnTo>
                    <a:pt x="1170" y="844"/>
                  </a:lnTo>
                  <a:lnTo>
                    <a:pt x="1176" y="834"/>
                  </a:lnTo>
                  <a:lnTo>
                    <a:pt x="1182" y="824"/>
                  </a:lnTo>
                  <a:lnTo>
                    <a:pt x="1186" y="814"/>
                  </a:lnTo>
                  <a:lnTo>
                    <a:pt x="1190" y="802"/>
                  </a:lnTo>
                  <a:lnTo>
                    <a:pt x="1192" y="792"/>
                  </a:lnTo>
                  <a:lnTo>
                    <a:pt x="1192" y="780"/>
                  </a:lnTo>
                  <a:lnTo>
                    <a:pt x="1190" y="770"/>
                  </a:lnTo>
                  <a:lnTo>
                    <a:pt x="1188" y="760"/>
                  </a:lnTo>
                  <a:lnTo>
                    <a:pt x="1182" y="750"/>
                  </a:lnTo>
                  <a:lnTo>
                    <a:pt x="1178" y="742"/>
                  </a:lnTo>
                  <a:lnTo>
                    <a:pt x="1178" y="742"/>
                  </a:lnTo>
                  <a:lnTo>
                    <a:pt x="1168" y="734"/>
                  </a:lnTo>
                  <a:lnTo>
                    <a:pt x="1158" y="726"/>
                  </a:lnTo>
                  <a:lnTo>
                    <a:pt x="1150" y="720"/>
                  </a:lnTo>
                  <a:lnTo>
                    <a:pt x="1140" y="716"/>
                  </a:lnTo>
                  <a:lnTo>
                    <a:pt x="1130" y="712"/>
                  </a:lnTo>
                  <a:lnTo>
                    <a:pt x="1120" y="710"/>
                  </a:lnTo>
                  <a:lnTo>
                    <a:pt x="1108" y="710"/>
                  </a:lnTo>
                  <a:lnTo>
                    <a:pt x="1098" y="710"/>
                  </a:lnTo>
                  <a:lnTo>
                    <a:pt x="1080" y="716"/>
                  </a:lnTo>
                  <a:lnTo>
                    <a:pt x="1062" y="724"/>
                  </a:lnTo>
                  <a:lnTo>
                    <a:pt x="1044" y="736"/>
                  </a:lnTo>
                  <a:lnTo>
                    <a:pt x="1030" y="752"/>
                  </a:lnTo>
                  <a:lnTo>
                    <a:pt x="1030" y="752"/>
                  </a:lnTo>
                  <a:lnTo>
                    <a:pt x="1020" y="770"/>
                  </a:lnTo>
                  <a:lnTo>
                    <a:pt x="1016" y="780"/>
                  </a:lnTo>
                  <a:lnTo>
                    <a:pt x="1014" y="790"/>
                  </a:lnTo>
                  <a:lnTo>
                    <a:pt x="1012" y="802"/>
                  </a:lnTo>
                  <a:lnTo>
                    <a:pt x="1012" y="812"/>
                  </a:lnTo>
                  <a:lnTo>
                    <a:pt x="1012" y="824"/>
                  </a:lnTo>
                  <a:lnTo>
                    <a:pt x="1014" y="836"/>
                  </a:lnTo>
                  <a:lnTo>
                    <a:pt x="1018" y="846"/>
                  </a:lnTo>
                  <a:lnTo>
                    <a:pt x="1024" y="858"/>
                  </a:lnTo>
                  <a:lnTo>
                    <a:pt x="1030" y="868"/>
                  </a:lnTo>
                  <a:lnTo>
                    <a:pt x="1038" y="880"/>
                  </a:lnTo>
                  <a:lnTo>
                    <a:pt x="1048" y="890"/>
                  </a:lnTo>
                  <a:lnTo>
                    <a:pt x="1060" y="900"/>
                  </a:lnTo>
                  <a:lnTo>
                    <a:pt x="1074" y="908"/>
                  </a:lnTo>
                  <a:lnTo>
                    <a:pt x="1090" y="916"/>
                  </a:lnTo>
                  <a:lnTo>
                    <a:pt x="1090" y="916"/>
                  </a:lnTo>
                  <a:lnTo>
                    <a:pt x="1106" y="924"/>
                  </a:lnTo>
                  <a:lnTo>
                    <a:pt x="1124" y="930"/>
                  </a:lnTo>
                  <a:lnTo>
                    <a:pt x="1142" y="934"/>
                  </a:lnTo>
                  <a:lnTo>
                    <a:pt x="1162" y="936"/>
                  </a:lnTo>
                  <a:lnTo>
                    <a:pt x="1180" y="936"/>
                  </a:lnTo>
                  <a:lnTo>
                    <a:pt x="1200" y="934"/>
                  </a:lnTo>
                  <a:lnTo>
                    <a:pt x="1218" y="932"/>
                  </a:lnTo>
                  <a:lnTo>
                    <a:pt x="1238" y="926"/>
                  </a:lnTo>
                  <a:lnTo>
                    <a:pt x="1256" y="920"/>
                  </a:lnTo>
                  <a:lnTo>
                    <a:pt x="1274" y="912"/>
                  </a:lnTo>
                  <a:lnTo>
                    <a:pt x="1290" y="900"/>
                  </a:lnTo>
                  <a:lnTo>
                    <a:pt x="1306" y="888"/>
                  </a:lnTo>
                  <a:lnTo>
                    <a:pt x="1320" y="872"/>
                  </a:lnTo>
                  <a:lnTo>
                    <a:pt x="1334" y="856"/>
                  </a:lnTo>
                  <a:lnTo>
                    <a:pt x="1346" y="836"/>
                  </a:lnTo>
                  <a:lnTo>
                    <a:pt x="1354" y="814"/>
                  </a:lnTo>
                  <a:lnTo>
                    <a:pt x="1354" y="814"/>
                  </a:lnTo>
                  <a:lnTo>
                    <a:pt x="1364" y="792"/>
                  </a:lnTo>
                  <a:lnTo>
                    <a:pt x="1370" y="770"/>
                  </a:lnTo>
                  <a:lnTo>
                    <a:pt x="1372" y="750"/>
                  </a:lnTo>
                  <a:lnTo>
                    <a:pt x="1374" y="732"/>
                  </a:lnTo>
                  <a:lnTo>
                    <a:pt x="1374" y="716"/>
                  </a:lnTo>
                  <a:lnTo>
                    <a:pt x="1374" y="700"/>
                  </a:lnTo>
                  <a:lnTo>
                    <a:pt x="1370" y="688"/>
                  </a:lnTo>
                  <a:lnTo>
                    <a:pt x="1366" y="676"/>
                  </a:lnTo>
                  <a:lnTo>
                    <a:pt x="1360" y="664"/>
                  </a:lnTo>
                  <a:lnTo>
                    <a:pt x="1354" y="654"/>
                  </a:lnTo>
                  <a:lnTo>
                    <a:pt x="1340" y="636"/>
                  </a:lnTo>
                  <a:lnTo>
                    <a:pt x="1322" y="620"/>
                  </a:lnTo>
                  <a:lnTo>
                    <a:pt x="1306" y="608"/>
                  </a:lnTo>
                  <a:lnTo>
                    <a:pt x="1306" y="608"/>
                  </a:lnTo>
                  <a:lnTo>
                    <a:pt x="1350" y="604"/>
                  </a:lnTo>
                  <a:lnTo>
                    <a:pt x="1382" y="606"/>
                  </a:lnTo>
                  <a:lnTo>
                    <a:pt x="1406" y="610"/>
                  </a:lnTo>
                  <a:lnTo>
                    <a:pt x="1424" y="612"/>
                  </a:lnTo>
                  <a:lnTo>
                    <a:pt x="1424" y="612"/>
                  </a:lnTo>
                  <a:lnTo>
                    <a:pt x="1392" y="590"/>
                  </a:lnTo>
                  <a:lnTo>
                    <a:pt x="1354" y="570"/>
                  </a:lnTo>
                  <a:lnTo>
                    <a:pt x="1314" y="554"/>
                  </a:lnTo>
                  <a:lnTo>
                    <a:pt x="1274" y="542"/>
                  </a:lnTo>
                  <a:lnTo>
                    <a:pt x="1252" y="536"/>
                  </a:lnTo>
                  <a:lnTo>
                    <a:pt x="1232" y="534"/>
                  </a:lnTo>
                  <a:lnTo>
                    <a:pt x="1210" y="532"/>
                  </a:lnTo>
                  <a:lnTo>
                    <a:pt x="1190" y="532"/>
                  </a:lnTo>
                  <a:lnTo>
                    <a:pt x="1170" y="532"/>
                  </a:lnTo>
                  <a:lnTo>
                    <a:pt x="1150" y="534"/>
                  </a:lnTo>
                  <a:lnTo>
                    <a:pt x="1130" y="538"/>
                  </a:lnTo>
                  <a:lnTo>
                    <a:pt x="1112" y="544"/>
                  </a:lnTo>
                  <a:lnTo>
                    <a:pt x="1112" y="544"/>
                  </a:lnTo>
                  <a:lnTo>
                    <a:pt x="1152" y="502"/>
                  </a:lnTo>
                  <a:lnTo>
                    <a:pt x="1188" y="468"/>
                  </a:lnTo>
                  <a:lnTo>
                    <a:pt x="1226" y="438"/>
                  </a:lnTo>
                  <a:lnTo>
                    <a:pt x="1260" y="414"/>
                  </a:lnTo>
                  <a:lnTo>
                    <a:pt x="1294" y="398"/>
                  </a:lnTo>
                  <a:lnTo>
                    <a:pt x="1328" y="386"/>
                  </a:lnTo>
                  <a:lnTo>
                    <a:pt x="1358" y="380"/>
                  </a:lnTo>
                  <a:lnTo>
                    <a:pt x="1386" y="378"/>
                  </a:lnTo>
                  <a:lnTo>
                    <a:pt x="1400" y="378"/>
                  </a:lnTo>
                  <a:lnTo>
                    <a:pt x="1412" y="380"/>
                  </a:lnTo>
                  <a:lnTo>
                    <a:pt x="1424" y="384"/>
                  </a:lnTo>
                  <a:lnTo>
                    <a:pt x="1436" y="388"/>
                  </a:lnTo>
                  <a:lnTo>
                    <a:pt x="1446" y="394"/>
                  </a:lnTo>
                  <a:lnTo>
                    <a:pt x="1456" y="400"/>
                  </a:lnTo>
                  <a:lnTo>
                    <a:pt x="1464" y="406"/>
                  </a:lnTo>
                  <a:lnTo>
                    <a:pt x="1474" y="416"/>
                  </a:lnTo>
                  <a:lnTo>
                    <a:pt x="1488" y="434"/>
                  </a:lnTo>
                  <a:lnTo>
                    <a:pt x="1498" y="456"/>
                  </a:lnTo>
                  <a:lnTo>
                    <a:pt x="1506" y="482"/>
                  </a:lnTo>
                  <a:lnTo>
                    <a:pt x="1510" y="510"/>
                  </a:lnTo>
                  <a:lnTo>
                    <a:pt x="1510" y="510"/>
                  </a:lnTo>
                  <a:lnTo>
                    <a:pt x="1522" y="510"/>
                  </a:lnTo>
                  <a:lnTo>
                    <a:pt x="1534" y="506"/>
                  </a:lnTo>
                  <a:lnTo>
                    <a:pt x="1544" y="502"/>
                  </a:lnTo>
                  <a:lnTo>
                    <a:pt x="1550" y="496"/>
                  </a:lnTo>
                  <a:lnTo>
                    <a:pt x="1556" y="488"/>
                  </a:lnTo>
                  <a:lnTo>
                    <a:pt x="1558" y="478"/>
                  </a:lnTo>
                  <a:lnTo>
                    <a:pt x="1558" y="468"/>
                  </a:lnTo>
                  <a:lnTo>
                    <a:pt x="1556" y="458"/>
                  </a:lnTo>
                  <a:lnTo>
                    <a:pt x="1556" y="458"/>
                  </a:lnTo>
                  <a:lnTo>
                    <a:pt x="1568" y="466"/>
                  </a:lnTo>
                  <a:lnTo>
                    <a:pt x="1578" y="472"/>
                  </a:lnTo>
                  <a:lnTo>
                    <a:pt x="1584" y="482"/>
                  </a:lnTo>
                  <a:lnTo>
                    <a:pt x="1590" y="490"/>
                  </a:lnTo>
                  <a:lnTo>
                    <a:pt x="1592" y="498"/>
                  </a:lnTo>
                  <a:lnTo>
                    <a:pt x="1594" y="508"/>
                  </a:lnTo>
                  <a:lnTo>
                    <a:pt x="1594" y="518"/>
                  </a:lnTo>
                  <a:lnTo>
                    <a:pt x="1592" y="526"/>
                  </a:lnTo>
                  <a:lnTo>
                    <a:pt x="1586" y="544"/>
                  </a:lnTo>
                  <a:lnTo>
                    <a:pt x="1576" y="560"/>
                  </a:lnTo>
                  <a:lnTo>
                    <a:pt x="1562" y="574"/>
                  </a:lnTo>
                  <a:lnTo>
                    <a:pt x="1550" y="584"/>
                  </a:lnTo>
                  <a:lnTo>
                    <a:pt x="1550" y="584"/>
                  </a:lnTo>
                  <a:lnTo>
                    <a:pt x="1562" y="588"/>
                  </a:lnTo>
                  <a:lnTo>
                    <a:pt x="1574" y="588"/>
                  </a:lnTo>
                  <a:lnTo>
                    <a:pt x="1586" y="588"/>
                  </a:lnTo>
                  <a:lnTo>
                    <a:pt x="1596" y="584"/>
                  </a:lnTo>
                  <a:lnTo>
                    <a:pt x="1606" y="580"/>
                  </a:lnTo>
                  <a:lnTo>
                    <a:pt x="1616" y="574"/>
                  </a:lnTo>
                  <a:lnTo>
                    <a:pt x="1624" y="568"/>
                  </a:lnTo>
                  <a:lnTo>
                    <a:pt x="1632" y="558"/>
                  </a:lnTo>
                  <a:lnTo>
                    <a:pt x="1638" y="550"/>
                  </a:lnTo>
                  <a:lnTo>
                    <a:pt x="1644" y="540"/>
                  </a:lnTo>
                  <a:lnTo>
                    <a:pt x="1648" y="530"/>
                  </a:lnTo>
                  <a:lnTo>
                    <a:pt x="1650" y="518"/>
                  </a:lnTo>
                  <a:lnTo>
                    <a:pt x="1652" y="508"/>
                  </a:lnTo>
                  <a:lnTo>
                    <a:pt x="1652" y="498"/>
                  </a:lnTo>
                  <a:lnTo>
                    <a:pt x="1652" y="488"/>
                  </a:lnTo>
                  <a:lnTo>
                    <a:pt x="1650" y="478"/>
                  </a:lnTo>
                  <a:lnTo>
                    <a:pt x="1650" y="478"/>
                  </a:lnTo>
                  <a:lnTo>
                    <a:pt x="1742" y="544"/>
                  </a:lnTo>
                  <a:lnTo>
                    <a:pt x="1742" y="544"/>
                  </a:lnTo>
                  <a:lnTo>
                    <a:pt x="1730" y="522"/>
                  </a:lnTo>
                  <a:lnTo>
                    <a:pt x="1720" y="502"/>
                  </a:lnTo>
                  <a:lnTo>
                    <a:pt x="1706" y="482"/>
                  </a:lnTo>
                  <a:lnTo>
                    <a:pt x="1692" y="464"/>
                  </a:lnTo>
                  <a:lnTo>
                    <a:pt x="1676" y="446"/>
                  </a:lnTo>
                  <a:lnTo>
                    <a:pt x="1658" y="430"/>
                  </a:lnTo>
                  <a:lnTo>
                    <a:pt x="1640" y="416"/>
                  </a:lnTo>
                  <a:lnTo>
                    <a:pt x="1620" y="402"/>
                  </a:lnTo>
                  <a:lnTo>
                    <a:pt x="1600" y="390"/>
                  </a:lnTo>
                  <a:lnTo>
                    <a:pt x="1578" y="380"/>
                  </a:lnTo>
                  <a:lnTo>
                    <a:pt x="1554" y="370"/>
                  </a:lnTo>
                  <a:lnTo>
                    <a:pt x="1530" y="362"/>
                  </a:lnTo>
                  <a:lnTo>
                    <a:pt x="1506" y="354"/>
                  </a:lnTo>
                  <a:lnTo>
                    <a:pt x="1480" y="350"/>
                  </a:lnTo>
                  <a:lnTo>
                    <a:pt x="1454" y="344"/>
                  </a:lnTo>
                  <a:lnTo>
                    <a:pt x="1426" y="342"/>
                  </a:lnTo>
                  <a:lnTo>
                    <a:pt x="1426" y="342"/>
                  </a:lnTo>
                  <a:lnTo>
                    <a:pt x="1490" y="338"/>
                  </a:lnTo>
                  <a:lnTo>
                    <a:pt x="1546" y="340"/>
                  </a:lnTo>
                  <a:lnTo>
                    <a:pt x="1596" y="344"/>
                  </a:lnTo>
                  <a:lnTo>
                    <a:pt x="1640" y="352"/>
                  </a:lnTo>
                  <a:lnTo>
                    <a:pt x="1678" y="362"/>
                  </a:lnTo>
                  <a:lnTo>
                    <a:pt x="1710" y="376"/>
                  </a:lnTo>
                  <a:lnTo>
                    <a:pt x="1724" y="384"/>
                  </a:lnTo>
                  <a:lnTo>
                    <a:pt x="1738" y="392"/>
                  </a:lnTo>
                  <a:lnTo>
                    <a:pt x="1748" y="400"/>
                  </a:lnTo>
                  <a:lnTo>
                    <a:pt x="1758" y="410"/>
                  </a:lnTo>
                  <a:lnTo>
                    <a:pt x="1768" y="420"/>
                  </a:lnTo>
                  <a:lnTo>
                    <a:pt x="1774" y="430"/>
                  </a:lnTo>
                  <a:lnTo>
                    <a:pt x="1780" y="442"/>
                  </a:lnTo>
                  <a:lnTo>
                    <a:pt x="1786" y="452"/>
                  </a:lnTo>
                  <a:lnTo>
                    <a:pt x="1788" y="464"/>
                  </a:lnTo>
                  <a:lnTo>
                    <a:pt x="1790" y="476"/>
                  </a:lnTo>
                  <a:lnTo>
                    <a:pt x="1792" y="500"/>
                  </a:lnTo>
                  <a:lnTo>
                    <a:pt x="1788" y="524"/>
                  </a:lnTo>
                  <a:lnTo>
                    <a:pt x="1780" y="550"/>
                  </a:lnTo>
                  <a:lnTo>
                    <a:pt x="1768" y="576"/>
                  </a:lnTo>
                  <a:lnTo>
                    <a:pt x="1752" y="602"/>
                  </a:lnTo>
                  <a:lnTo>
                    <a:pt x="1752" y="602"/>
                  </a:lnTo>
                  <a:lnTo>
                    <a:pt x="1768" y="594"/>
                  </a:lnTo>
                  <a:lnTo>
                    <a:pt x="1786" y="580"/>
                  </a:lnTo>
                  <a:lnTo>
                    <a:pt x="1806" y="560"/>
                  </a:lnTo>
                  <a:lnTo>
                    <a:pt x="1822" y="540"/>
                  </a:lnTo>
                  <a:lnTo>
                    <a:pt x="1836" y="516"/>
                  </a:lnTo>
                  <a:lnTo>
                    <a:pt x="1842" y="504"/>
                  </a:lnTo>
                  <a:lnTo>
                    <a:pt x="1846" y="492"/>
                  </a:lnTo>
                  <a:lnTo>
                    <a:pt x="1848" y="478"/>
                  </a:lnTo>
                  <a:lnTo>
                    <a:pt x="1850" y="468"/>
                  </a:lnTo>
                  <a:lnTo>
                    <a:pt x="1848" y="456"/>
                  </a:lnTo>
                  <a:lnTo>
                    <a:pt x="1846" y="446"/>
                  </a:lnTo>
                  <a:lnTo>
                    <a:pt x="1846" y="446"/>
                  </a:lnTo>
                  <a:lnTo>
                    <a:pt x="1856" y="454"/>
                  </a:lnTo>
                  <a:lnTo>
                    <a:pt x="1866" y="464"/>
                  </a:lnTo>
                  <a:lnTo>
                    <a:pt x="1874" y="474"/>
                  </a:lnTo>
                  <a:lnTo>
                    <a:pt x="1880" y="484"/>
                  </a:lnTo>
                  <a:lnTo>
                    <a:pt x="1886" y="496"/>
                  </a:lnTo>
                  <a:lnTo>
                    <a:pt x="1892" y="508"/>
                  </a:lnTo>
                  <a:lnTo>
                    <a:pt x="1896" y="532"/>
                  </a:lnTo>
                  <a:lnTo>
                    <a:pt x="1898" y="558"/>
                  </a:lnTo>
                  <a:lnTo>
                    <a:pt x="1896" y="586"/>
                  </a:lnTo>
                  <a:lnTo>
                    <a:pt x="1892" y="612"/>
                  </a:lnTo>
                  <a:lnTo>
                    <a:pt x="1882" y="638"/>
                  </a:lnTo>
                  <a:lnTo>
                    <a:pt x="1870" y="662"/>
                  </a:lnTo>
                  <a:lnTo>
                    <a:pt x="1856" y="684"/>
                  </a:lnTo>
                  <a:lnTo>
                    <a:pt x="1838" y="702"/>
                  </a:lnTo>
                  <a:lnTo>
                    <a:pt x="1818" y="718"/>
                  </a:lnTo>
                  <a:lnTo>
                    <a:pt x="1808" y="724"/>
                  </a:lnTo>
                  <a:lnTo>
                    <a:pt x="1798" y="730"/>
                  </a:lnTo>
                  <a:lnTo>
                    <a:pt x="1786" y="734"/>
                  </a:lnTo>
                  <a:lnTo>
                    <a:pt x="1774" y="736"/>
                  </a:lnTo>
                  <a:lnTo>
                    <a:pt x="1762" y="738"/>
                  </a:lnTo>
                  <a:lnTo>
                    <a:pt x="1750" y="738"/>
                  </a:lnTo>
                  <a:lnTo>
                    <a:pt x="1736" y="736"/>
                  </a:lnTo>
                  <a:lnTo>
                    <a:pt x="1722" y="734"/>
                  </a:lnTo>
                  <a:lnTo>
                    <a:pt x="1722" y="734"/>
                  </a:lnTo>
                  <a:lnTo>
                    <a:pt x="1720" y="748"/>
                  </a:lnTo>
                  <a:lnTo>
                    <a:pt x="1718" y="760"/>
                  </a:lnTo>
                  <a:lnTo>
                    <a:pt x="1720" y="772"/>
                  </a:lnTo>
                  <a:lnTo>
                    <a:pt x="1722" y="784"/>
                  </a:lnTo>
                  <a:lnTo>
                    <a:pt x="1726" y="794"/>
                  </a:lnTo>
                  <a:lnTo>
                    <a:pt x="1732" y="802"/>
                  </a:lnTo>
                  <a:lnTo>
                    <a:pt x="1738" y="810"/>
                  </a:lnTo>
                  <a:lnTo>
                    <a:pt x="1744" y="818"/>
                  </a:lnTo>
                  <a:lnTo>
                    <a:pt x="1762" y="828"/>
                  </a:lnTo>
                  <a:lnTo>
                    <a:pt x="1780" y="836"/>
                  </a:lnTo>
                  <a:lnTo>
                    <a:pt x="1798" y="838"/>
                  </a:lnTo>
                  <a:lnTo>
                    <a:pt x="1816" y="838"/>
                  </a:lnTo>
                  <a:lnTo>
                    <a:pt x="1816" y="838"/>
                  </a:lnTo>
                  <a:lnTo>
                    <a:pt x="1798" y="850"/>
                  </a:lnTo>
                  <a:lnTo>
                    <a:pt x="1780" y="860"/>
                  </a:lnTo>
                  <a:lnTo>
                    <a:pt x="1760" y="868"/>
                  </a:lnTo>
                  <a:lnTo>
                    <a:pt x="1738" y="874"/>
                  </a:lnTo>
                  <a:lnTo>
                    <a:pt x="1716" y="878"/>
                  </a:lnTo>
                  <a:lnTo>
                    <a:pt x="1696" y="878"/>
                  </a:lnTo>
                  <a:lnTo>
                    <a:pt x="1674" y="876"/>
                  </a:lnTo>
                  <a:lnTo>
                    <a:pt x="1654" y="874"/>
                  </a:lnTo>
                  <a:lnTo>
                    <a:pt x="1636" y="868"/>
                  </a:lnTo>
                  <a:lnTo>
                    <a:pt x="1620" y="860"/>
                  </a:lnTo>
                  <a:lnTo>
                    <a:pt x="1606" y="850"/>
                  </a:lnTo>
                  <a:lnTo>
                    <a:pt x="1596" y="838"/>
                  </a:lnTo>
                  <a:lnTo>
                    <a:pt x="1590" y="824"/>
                  </a:lnTo>
                  <a:lnTo>
                    <a:pt x="1586" y="808"/>
                  </a:lnTo>
                  <a:lnTo>
                    <a:pt x="1588" y="788"/>
                  </a:lnTo>
                  <a:lnTo>
                    <a:pt x="1596" y="768"/>
                  </a:lnTo>
                  <a:lnTo>
                    <a:pt x="1596" y="768"/>
                  </a:lnTo>
                  <a:lnTo>
                    <a:pt x="1610" y="774"/>
                  </a:lnTo>
                  <a:lnTo>
                    <a:pt x="1624" y="776"/>
                  </a:lnTo>
                  <a:lnTo>
                    <a:pt x="1636" y="776"/>
                  </a:lnTo>
                  <a:lnTo>
                    <a:pt x="1648" y="772"/>
                  </a:lnTo>
                  <a:lnTo>
                    <a:pt x="1658" y="766"/>
                  </a:lnTo>
                  <a:lnTo>
                    <a:pt x="1666" y="760"/>
                  </a:lnTo>
                  <a:lnTo>
                    <a:pt x="1672" y="750"/>
                  </a:lnTo>
                  <a:lnTo>
                    <a:pt x="1676" y="740"/>
                  </a:lnTo>
                  <a:lnTo>
                    <a:pt x="1678" y="728"/>
                  </a:lnTo>
                  <a:lnTo>
                    <a:pt x="1680" y="716"/>
                  </a:lnTo>
                  <a:lnTo>
                    <a:pt x="1678" y="704"/>
                  </a:lnTo>
                  <a:lnTo>
                    <a:pt x="1674" y="692"/>
                  </a:lnTo>
                  <a:lnTo>
                    <a:pt x="1668" y="680"/>
                  </a:lnTo>
                  <a:lnTo>
                    <a:pt x="1660" y="668"/>
                  </a:lnTo>
                  <a:lnTo>
                    <a:pt x="1648" y="660"/>
                  </a:lnTo>
                  <a:lnTo>
                    <a:pt x="1636" y="652"/>
                  </a:lnTo>
                  <a:lnTo>
                    <a:pt x="1636" y="652"/>
                  </a:lnTo>
                  <a:lnTo>
                    <a:pt x="1624" y="646"/>
                  </a:lnTo>
                  <a:lnTo>
                    <a:pt x="1610" y="642"/>
                  </a:lnTo>
                  <a:lnTo>
                    <a:pt x="1598" y="638"/>
                  </a:lnTo>
                  <a:lnTo>
                    <a:pt x="1584" y="638"/>
                  </a:lnTo>
                  <a:lnTo>
                    <a:pt x="1572" y="636"/>
                  </a:lnTo>
                  <a:lnTo>
                    <a:pt x="1558" y="638"/>
                  </a:lnTo>
                  <a:lnTo>
                    <a:pt x="1546" y="640"/>
                  </a:lnTo>
                  <a:lnTo>
                    <a:pt x="1532" y="642"/>
                  </a:lnTo>
                  <a:lnTo>
                    <a:pt x="1520" y="646"/>
                  </a:lnTo>
                  <a:lnTo>
                    <a:pt x="1508" y="652"/>
                  </a:lnTo>
                  <a:lnTo>
                    <a:pt x="1498" y="658"/>
                  </a:lnTo>
                  <a:lnTo>
                    <a:pt x="1486" y="666"/>
                  </a:lnTo>
                  <a:lnTo>
                    <a:pt x="1478" y="676"/>
                  </a:lnTo>
                  <a:lnTo>
                    <a:pt x="1470" y="686"/>
                  </a:lnTo>
                  <a:lnTo>
                    <a:pt x="1462" y="696"/>
                  </a:lnTo>
                  <a:lnTo>
                    <a:pt x="1458" y="710"/>
                  </a:lnTo>
                  <a:lnTo>
                    <a:pt x="1458" y="710"/>
                  </a:lnTo>
                  <a:lnTo>
                    <a:pt x="1454" y="722"/>
                  </a:lnTo>
                  <a:lnTo>
                    <a:pt x="1450" y="736"/>
                  </a:lnTo>
                  <a:lnTo>
                    <a:pt x="1450" y="750"/>
                  </a:lnTo>
                  <a:lnTo>
                    <a:pt x="1450" y="764"/>
                  </a:lnTo>
                  <a:lnTo>
                    <a:pt x="1452" y="778"/>
                  </a:lnTo>
                  <a:lnTo>
                    <a:pt x="1456" y="792"/>
                  </a:lnTo>
                  <a:lnTo>
                    <a:pt x="1460" y="806"/>
                  </a:lnTo>
                  <a:lnTo>
                    <a:pt x="1468" y="820"/>
                  </a:lnTo>
                  <a:lnTo>
                    <a:pt x="1474" y="834"/>
                  </a:lnTo>
                  <a:lnTo>
                    <a:pt x="1484" y="848"/>
                  </a:lnTo>
                  <a:lnTo>
                    <a:pt x="1494" y="860"/>
                  </a:lnTo>
                  <a:lnTo>
                    <a:pt x="1504" y="872"/>
                  </a:lnTo>
                  <a:lnTo>
                    <a:pt x="1516" y="882"/>
                  </a:lnTo>
                  <a:lnTo>
                    <a:pt x="1530" y="892"/>
                  </a:lnTo>
                  <a:lnTo>
                    <a:pt x="1546" y="902"/>
                  </a:lnTo>
                  <a:lnTo>
                    <a:pt x="1562" y="908"/>
                  </a:lnTo>
                  <a:lnTo>
                    <a:pt x="1562" y="908"/>
                  </a:lnTo>
                  <a:lnTo>
                    <a:pt x="1584" y="916"/>
                  </a:lnTo>
                  <a:lnTo>
                    <a:pt x="1610" y="922"/>
                  </a:lnTo>
                  <a:lnTo>
                    <a:pt x="1636" y="924"/>
                  </a:lnTo>
                  <a:lnTo>
                    <a:pt x="1664" y="924"/>
                  </a:lnTo>
                  <a:lnTo>
                    <a:pt x="1692" y="922"/>
                  </a:lnTo>
                  <a:lnTo>
                    <a:pt x="1722" y="918"/>
                  </a:lnTo>
                  <a:lnTo>
                    <a:pt x="1750" y="910"/>
                  </a:lnTo>
                  <a:lnTo>
                    <a:pt x="1778" y="898"/>
                  </a:lnTo>
                  <a:lnTo>
                    <a:pt x="1806" y="886"/>
                  </a:lnTo>
                  <a:lnTo>
                    <a:pt x="1832" y="870"/>
                  </a:lnTo>
                  <a:lnTo>
                    <a:pt x="1856" y="850"/>
                  </a:lnTo>
                  <a:lnTo>
                    <a:pt x="1878" y="828"/>
                  </a:lnTo>
                  <a:lnTo>
                    <a:pt x="1898" y="802"/>
                  </a:lnTo>
                  <a:lnTo>
                    <a:pt x="1916" y="772"/>
                  </a:lnTo>
                  <a:lnTo>
                    <a:pt x="1930" y="740"/>
                  </a:lnTo>
                  <a:lnTo>
                    <a:pt x="1940" y="704"/>
                  </a:lnTo>
                  <a:lnTo>
                    <a:pt x="1940" y="704"/>
                  </a:lnTo>
                  <a:lnTo>
                    <a:pt x="1954" y="746"/>
                  </a:lnTo>
                  <a:lnTo>
                    <a:pt x="1970" y="784"/>
                  </a:lnTo>
                  <a:lnTo>
                    <a:pt x="1990" y="818"/>
                  </a:lnTo>
                  <a:lnTo>
                    <a:pt x="2012" y="846"/>
                  </a:lnTo>
                  <a:lnTo>
                    <a:pt x="2038" y="870"/>
                  </a:lnTo>
                  <a:lnTo>
                    <a:pt x="2064" y="892"/>
                  </a:lnTo>
                  <a:lnTo>
                    <a:pt x="2092" y="908"/>
                  </a:lnTo>
                  <a:lnTo>
                    <a:pt x="2122" y="922"/>
                  </a:lnTo>
                  <a:lnTo>
                    <a:pt x="2152" y="932"/>
                  </a:lnTo>
                  <a:lnTo>
                    <a:pt x="2182" y="940"/>
                  </a:lnTo>
                  <a:lnTo>
                    <a:pt x="2212" y="942"/>
                  </a:lnTo>
                  <a:lnTo>
                    <a:pt x="2242" y="942"/>
                  </a:lnTo>
                  <a:lnTo>
                    <a:pt x="2272" y="940"/>
                  </a:lnTo>
                  <a:lnTo>
                    <a:pt x="2300" y="936"/>
                  </a:lnTo>
                  <a:lnTo>
                    <a:pt x="2326" y="928"/>
                  </a:lnTo>
                  <a:lnTo>
                    <a:pt x="2352" y="916"/>
                  </a:lnTo>
                  <a:lnTo>
                    <a:pt x="2352" y="916"/>
                  </a:lnTo>
                  <a:lnTo>
                    <a:pt x="2360" y="924"/>
                  </a:lnTo>
                  <a:lnTo>
                    <a:pt x="2368" y="928"/>
                  </a:lnTo>
                  <a:lnTo>
                    <a:pt x="2376" y="930"/>
                  </a:lnTo>
                  <a:lnTo>
                    <a:pt x="2382" y="932"/>
                  </a:lnTo>
                  <a:lnTo>
                    <a:pt x="2388" y="930"/>
                  </a:lnTo>
                  <a:lnTo>
                    <a:pt x="2394" y="928"/>
                  </a:lnTo>
                  <a:lnTo>
                    <a:pt x="2404" y="920"/>
                  </a:lnTo>
                  <a:lnTo>
                    <a:pt x="2412" y="910"/>
                  </a:lnTo>
                  <a:lnTo>
                    <a:pt x="2418" y="896"/>
                  </a:lnTo>
                  <a:lnTo>
                    <a:pt x="2422" y="884"/>
                  </a:lnTo>
                  <a:lnTo>
                    <a:pt x="2424" y="872"/>
                  </a:lnTo>
                  <a:lnTo>
                    <a:pt x="2424" y="872"/>
                  </a:lnTo>
                  <a:lnTo>
                    <a:pt x="2430" y="854"/>
                  </a:lnTo>
                  <a:lnTo>
                    <a:pt x="2440" y="840"/>
                  </a:lnTo>
                  <a:lnTo>
                    <a:pt x="2450" y="828"/>
                  </a:lnTo>
                  <a:lnTo>
                    <a:pt x="2464" y="820"/>
                  </a:lnTo>
                  <a:lnTo>
                    <a:pt x="2478" y="814"/>
                  </a:lnTo>
                  <a:lnTo>
                    <a:pt x="2486" y="814"/>
                  </a:lnTo>
                  <a:lnTo>
                    <a:pt x="2494" y="814"/>
                  </a:lnTo>
                  <a:lnTo>
                    <a:pt x="2500" y="818"/>
                  </a:lnTo>
                  <a:lnTo>
                    <a:pt x="2508" y="820"/>
                  </a:lnTo>
                  <a:lnTo>
                    <a:pt x="2514" y="826"/>
                  </a:lnTo>
                  <a:lnTo>
                    <a:pt x="2520" y="834"/>
                  </a:lnTo>
                  <a:lnTo>
                    <a:pt x="2520" y="834"/>
                  </a:lnTo>
                  <a:lnTo>
                    <a:pt x="2524" y="842"/>
                  </a:lnTo>
                  <a:lnTo>
                    <a:pt x="2528" y="848"/>
                  </a:lnTo>
                  <a:lnTo>
                    <a:pt x="2528" y="856"/>
                  </a:lnTo>
                  <a:lnTo>
                    <a:pt x="2530" y="864"/>
                  </a:lnTo>
                  <a:lnTo>
                    <a:pt x="2528" y="870"/>
                  </a:lnTo>
                  <a:lnTo>
                    <a:pt x="2526" y="876"/>
                  </a:lnTo>
                  <a:lnTo>
                    <a:pt x="2520" y="888"/>
                  </a:lnTo>
                  <a:lnTo>
                    <a:pt x="2510" y="898"/>
                  </a:lnTo>
                  <a:lnTo>
                    <a:pt x="2496" y="904"/>
                  </a:lnTo>
                  <a:lnTo>
                    <a:pt x="2482" y="910"/>
                  </a:lnTo>
                  <a:lnTo>
                    <a:pt x="2466" y="912"/>
                  </a:lnTo>
                  <a:lnTo>
                    <a:pt x="2466" y="912"/>
                  </a:lnTo>
                  <a:lnTo>
                    <a:pt x="2478" y="920"/>
                  </a:lnTo>
                  <a:lnTo>
                    <a:pt x="2490" y="926"/>
                  </a:lnTo>
                  <a:lnTo>
                    <a:pt x="2504" y="932"/>
                  </a:lnTo>
                  <a:lnTo>
                    <a:pt x="2516" y="936"/>
                  </a:lnTo>
                  <a:lnTo>
                    <a:pt x="2530" y="938"/>
                  </a:lnTo>
                  <a:lnTo>
                    <a:pt x="2542" y="938"/>
                  </a:lnTo>
                  <a:lnTo>
                    <a:pt x="2556" y="936"/>
                  </a:lnTo>
                  <a:lnTo>
                    <a:pt x="2568" y="934"/>
                  </a:lnTo>
                  <a:lnTo>
                    <a:pt x="2580" y="930"/>
                  </a:lnTo>
                  <a:lnTo>
                    <a:pt x="2590" y="924"/>
                  </a:lnTo>
                  <a:lnTo>
                    <a:pt x="2600" y="918"/>
                  </a:lnTo>
                  <a:lnTo>
                    <a:pt x="2610" y="908"/>
                  </a:lnTo>
                  <a:lnTo>
                    <a:pt x="2618" y="898"/>
                  </a:lnTo>
                  <a:lnTo>
                    <a:pt x="2624" y="888"/>
                  </a:lnTo>
                  <a:lnTo>
                    <a:pt x="2628" y="874"/>
                  </a:lnTo>
                  <a:lnTo>
                    <a:pt x="2632" y="860"/>
                  </a:lnTo>
                  <a:lnTo>
                    <a:pt x="2632" y="860"/>
                  </a:lnTo>
                  <a:lnTo>
                    <a:pt x="2632" y="846"/>
                  </a:lnTo>
                  <a:lnTo>
                    <a:pt x="2628" y="832"/>
                  </a:lnTo>
                  <a:lnTo>
                    <a:pt x="2622" y="820"/>
                  </a:lnTo>
                  <a:lnTo>
                    <a:pt x="2614" y="806"/>
                  </a:lnTo>
                  <a:lnTo>
                    <a:pt x="2604" y="794"/>
                  </a:lnTo>
                  <a:lnTo>
                    <a:pt x="2590" y="782"/>
                  </a:lnTo>
                  <a:lnTo>
                    <a:pt x="2576" y="772"/>
                  </a:lnTo>
                  <a:lnTo>
                    <a:pt x="2562" y="762"/>
                  </a:lnTo>
                  <a:lnTo>
                    <a:pt x="2544" y="756"/>
                  </a:lnTo>
                  <a:lnTo>
                    <a:pt x="2528" y="752"/>
                  </a:lnTo>
                  <a:lnTo>
                    <a:pt x="2510" y="750"/>
                  </a:lnTo>
                  <a:lnTo>
                    <a:pt x="2494" y="750"/>
                  </a:lnTo>
                  <a:lnTo>
                    <a:pt x="2478" y="754"/>
                  </a:lnTo>
                  <a:lnTo>
                    <a:pt x="2462" y="760"/>
                  </a:lnTo>
                  <a:lnTo>
                    <a:pt x="2448" y="772"/>
                  </a:lnTo>
                  <a:lnTo>
                    <a:pt x="2434" y="786"/>
                  </a:lnTo>
                  <a:lnTo>
                    <a:pt x="2434" y="786"/>
                  </a:lnTo>
                  <a:lnTo>
                    <a:pt x="2420" y="808"/>
                  </a:lnTo>
                  <a:lnTo>
                    <a:pt x="2410" y="828"/>
                  </a:lnTo>
                  <a:lnTo>
                    <a:pt x="2394" y="856"/>
                  </a:lnTo>
                  <a:lnTo>
                    <a:pt x="2386" y="866"/>
                  </a:lnTo>
                  <a:lnTo>
                    <a:pt x="2378" y="872"/>
                  </a:lnTo>
                  <a:lnTo>
                    <a:pt x="2368" y="876"/>
                  </a:lnTo>
                  <a:lnTo>
                    <a:pt x="2356" y="876"/>
                  </a:lnTo>
                  <a:lnTo>
                    <a:pt x="2356" y="876"/>
                  </a:lnTo>
                  <a:lnTo>
                    <a:pt x="2366" y="864"/>
                  </a:lnTo>
                  <a:lnTo>
                    <a:pt x="2376" y="852"/>
                  </a:lnTo>
                  <a:lnTo>
                    <a:pt x="2384" y="838"/>
                  </a:lnTo>
                  <a:lnTo>
                    <a:pt x="2390" y="824"/>
                  </a:lnTo>
                  <a:lnTo>
                    <a:pt x="2394" y="810"/>
                  </a:lnTo>
                  <a:lnTo>
                    <a:pt x="2398" y="796"/>
                  </a:lnTo>
                  <a:lnTo>
                    <a:pt x="2400" y="782"/>
                  </a:lnTo>
                  <a:lnTo>
                    <a:pt x="2402" y="768"/>
                  </a:lnTo>
                  <a:lnTo>
                    <a:pt x="2400" y="740"/>
                  </a:lnTo>
                  <a:lnTo>
                    <a:pt x="2394" y="716"/>
                  </a:lnTo>
                  <a:lnTo>
                    <a:pt x="2390" y="704"/>
                  </a:lnTo>
                  <a:lnTo>
                    <a:pt x="2384" y="694"/>
                  </a:lnTo>
                  <a:lnTo>
                    <a:pt x="2378" y="684"/>
                  </a:lnTo>
                  <a:lnTo>
                    <a:pt x="2372" y="676"/>
                  </a:lnTo>
                  <a:lnTo>
                    <a:pt x="2372" y="676"/>
                  </a:lnTo>
                  <a:lnTo>
                    <a:pt x="2360" y="666"/>
                  </a:lnTo>
                  <a:lnTo>
                    <a:pt x="2348" y="658"/>
                  </a:lnTo>
                  <a:lnTo>
                    <a:pt x="2334" y="650"/>
                  </a:lnTo>
                  <a:lnTo>
                    <a:pt x="2320" y="646"/>
                  </a:lnTo>
                  <a:lnTo>
                    <a:pt x="2306" y="644"/>
                  </a:lnTo>
                  <a:lnTo>
                    <a:pt x="2292" y="642"/>
                  </a:lnTo>
                  <a:lnTo>
                    <a:pt x="2278" y="644"/>
                  </a:lnTo>
                  <a:lnTo>
                    <a:pt x="2266" y="650"/>
                  </a:lnTo>
                  <a:lnTo>
                    <a:pt x="2256" y="656"/>
                  </a:lnTo>
                  <a:lnTo>
                    <a:pt x="2246" y="666"/>
                  </a:lnTo>
                  <a:lnTo>
                    <a:pt x="2238" y="678"/>
                  </a:lnTo>
                  <a:lnTo>
                    <a:pt x="2232" y="694"/>
                  </a:lnTo>
                  <a:lnTo>
                    <a:pt x="2230" y="712"/>
                  </a:lnTo>
                  <a:lnTo>
                    <a:pt x="2230" y="732"/>
                  </a:lnTo>
                  <a:lnTo>
                    <a:pt x="2234" y="758"/>
                  </a:lnTo>
                  <a:lnTo>
                    <a:pt x="2242" y="786"/>
                  </a:lnTo>
                  <a:lnTo>
                    <a:pt x="2242" y="786"/>
                  </a:lnTo>
                  <a:lnTo>
                    <a:pt x="2252" y="772"/>
                  </a:lnTo>
                  <a:lnTo>
                    <a:pt x="2262" y="760"/>
                  </a:lnTo>
                  <a:lnTo>
                    <a:pt x="2272" y="752"/>
                  </a:lnTo>
                  <a:lnTo>
                    <a:pt x="2282" y="744"/>
                  </a:lnTo>
                  <a:lnTo>
                    <a:pt x="2292" y="740"/>
                  </a:lnTo>
                  <a:lnTo>
                    <a:pt x="2300" y="736"/>
                  </a:lnTo>
                  <a:lnTo>
                    <a:pt x="2310" y="736"/>
                  </a:lnTo>
                  <a:lnTo>
                    <a:pt x="2318" y="736"/>
                  </a:lnTo>
                  <a:lnTo>
                    <a:pt x="2324" y="738"/>
                  </a:lnTo>
                  <a:lnTo>
                    <a:pt x="2332" y="742"/>
                  </a:lnTo>
                  <a:lnTo>
                    <a:pt x="2338" y="746"/>
                  </a:lnTo>
                  <a:lnTo>
                    <a:pt x="2344" y="752"/>
                  </a:lnTo>
                  <a:lnTo>
                    <a:pt x="2348" y="758"/>
                  </a:lnTo>
                  <a:lnTo>
                    <a:pt x="2352" y="766"/>
                  </a:lnTo>
                  <a:lnTo>
                    <a:pt x="2356" y="782"/>
                  </a:lnTo>
                  <a:lnTo>
                    <a:pt x="2356" y="782"/>
                  </a:lnTo>
                  <a:lnTo>
                    <a:pt x="2356" y="800"/>
                  </a:lnTo>
                  <a:lnTo>
                    <a:pt x="2352" y="816"/>
                  </a:lnTo>
                  <a:lnTo>
                    <a:pt x="2344" y="832"/>
                  </a:lnTo>
                  <a:lnTo>
                    <a:pt x="2334" y="846"/>
                  </a:lnTo>
                  <a:lnTo>
                    <a:pt x="2320" y="858"/>
                  </a:lnTo>
                  <a:lnTo>
                    <a:pt x="2306" y="868"/>
                  </a:lnTo>
                  <a:lnTo>
                    <a:pt x="2292" y="876"/>
                  </a:lnTo>
                  <a:lnTo>
                    <a:pt x="2276" y="880"/>
                  </a:lnTo>
                  <a:lnTo>
                    <a:pt x="2276" y="880"/>
                  </a:lnTo>
                  <a:lnTo>
                    <a:pt x="2280" y="862"/>
                  </a:lnTo>
                  <a:lnTo>
                    <a:pt x="2280" y="848"/>
                  </a:lnTo>
                  <a:lnTo>
                    <a:pt x="2276" y="836"/>
                  </a:lnTo>
                  <a:lnTo>
                    <a:pt x="2270" y="828"/>
                  </a:lnTo>
                  <a:lnTo>
                    <a:pt x="2264" y="820"/>
                  </a:lnTo>
                  <a:lnTo>
                    <a:pt x="2258" y="816"/>
                  </a:lnTo>
                  <a:lnTo>
                    <a:pt x="2252" y="814"/>
                  </a:lnTo>
                  <a:lnTo>
                    <a:pt x="2252" y="814"/>
                  </a:lnTo>
                  <a:lnTo>
                    <a:pt x="2248" y="826"/>
                  </a:lnTo>
                  <a:lnTo>
                    <a:pt x="2240" y="838"/>
                  </a:lnTo>
                  <a:lnTo>
                    <a:pt x="2230" y="850"/>
                  </a:lnTo>
                  <a:lnTo>
                    <a:pt x="2218" y="860"/>
                  </a:lnTo>
                  <a:lnTo>
                    <a:pt x="2204" y="868"/>
                  </a:lnTo>
                  <a:lnTo>
                    <a:pt x="2188" y="874"/>
                  </a:lnTo>
                  <a:lnTo>
                    <a:pt x="2172" y="878"/>
                  </a:lnTo>
                  <a:lnTo>
                    <a:pt x="2154" y="878"/>
                  </a:lnTo>
                  <a:lnTo>
                    <a:pt x="2138" y="878"/>
                  </a:lnTo>
                  <a:lnTo>
                    <a:pt x="2122" y="872"/>
                  </a:lnTo>
                  <a:lnTo>
                    <a:pt x="2108" y="866"/>
                  </a:lnTo>
                  <a:lnTo>
                    <a:pt x="2096" y="854"/>
                  </a:lnTo>
                  <a:lnTo>
                    <a:pt x="2086" y="840"/>
                  </a:lnTo>
                  <a:lnTo>
                    <a:pt x="2078" y="822"/>
                  </a:lnTo>
                  <a:lnTo>
                    <a:pt x="2072" y="798"/>
                  </a:lnTo>
                  <a:lnTo>
                    <a:pt x="2072" y="770"/>
                  </a:lnTo>
                  <a:lnTo>
                    <a:pt x="2072" y="770"/>
                  </a:lnTo>
                  <a:lnTo>
                    <a:pt x="2064" y="778"/>
                  </a:lnTo>
                  <a:lnTo>
                    <a:pt x="2054" y="784"/>
                  </a:lnTo>
                  <a:lnTo>
                    <a:pt x="2042" y="786"/>
                  </a:lnTo>
                  <a:lnTo>
                    <a:pt x="2030" y="784"/>
                  </a:lnTo>
                  <a:lnTo>
                    <a:pt x="2018" y="778"/>
                  </a:lnTo>
                  <a:lnTo>
                    <a:pt x="2006" y="766"/>
                  </a:lnTo>
                  <a:lnTo>
                    <a:pt x="1998" y="752"/>
                  </a:lnTo>
                  <a:lnTo>
                    <a:pt x="1992" y="734"/>
                  </a:lnTo>
                  <a:lnTo>
                    <a:pt x="1992" y="734"/>
                  </a:lnTo>
                  <a:lnTo>
                    <a:pt x="1992" y="722"/>
                  </a:lnTo>
                  <a:lnTo>
                    <a:pt x="1994" y="708"/>
                  </a:lnTo>
                  <a:lnTo>
                    <a:pt x="2000" y="692"/>
                  </a:lnTo>
                  <a:lnTo>
                    <a:pt x="2010" y="680"/>
                  </a:lnTo>
                  <a:lnTo>
                    <a:pt x="2016" y="674"/>
                  </a:lnTo>
                  <a:lnTo>
                    <a:pt x="2024" y="670"/>
                  </a:lnTo>
                  <a:lnTo>
                    <a:pt x="2032" y="668"/>
                  </a:lnTo>
                  <a:lnTo>
                    <a:pt x="2040" y="666"/>
                  </a:lnTo>
                  <a:lnTo>
                    <a:pt x="2050" y="666"/>
                  </a:lnTo>
                  <a:lnTo>
                    <a:pt x="2060" y="670"/>
                  </a:lnTo>
                  <a:lnTo>
                    <a:pt x="2072" y="674"/>
                  </a:lnTo>
                  <a:lnTo>
                    <a:pt x="2084" y="682"/>
                  </a:lnTo>
                  <a:lnTo>
                    <a:pt x="2084" y="682"/>
                  </a:lnTo>
                  <a:lnTo>
                    <a:pt x="2086" y="672"/>
                  </a:lnTo>
                  <a:lnTo>
                    <a:pt x="2084" y="664"/>
                  </a:lnTo>
                  <a:lnTo>
                    <a:pt x="2082" y="654"/>
                  </a:lnTo>
                  <a:lnTo>
                    <a:pt x="2078" y="646"/>
                  </a:lnTo>
                  <a:lnTo>
                    <a:pt x="2072" y="638"/>
                  </a:lnTo>
                  <a:lnTo>
                    <a:pt x="2064" y="632"/>
                  </a:lnTo>
                  <a:lnTo>
                    <a:pt x="2056" y="626"/>
                  </a:lnTo>
                  <a:lnTo>
                    <a:pt x="2046" y="620"/>
                  </a:lnTo>
                  <a:lnTo>
                    <a:pt x="2046" y="620"/>
                  </a:lnTo>
                  <a:lnTo>
                    <a:pt x="2058" y="614"/>
                  </a:lnTo>
                  <a:lnTo>
                    <a:pt x="2070" y="610"/>
                  </a:lnTo>
                  <a:lnTo>
                    <a:pt x="2084" y="606"/>
                  </a:lnTo>
                  <a:lnTo>
                    <a:pt x="2096" y="606"/>
                  </a:lnTo>
                  <a:lnTo>
                    <a:pt x="2108" y="608"/>
                  </a:lnTo>
                  <a:lnTo>
                    <a:pt x="2120" y="612"/>
                  </a:lnTo>
                  <a:lnTo>
                    <a:pt x="2130" y="616"/>
                  </a:lnTo>
                  <a:lnTo>
                    <a:pt x="2140" y="622"/>
                  </a:lnTo>
                  <a:lnTo>
                    <a:pt x="2146" y="628"/>
                  </a:lnTo>
                  <a:lnTo>
                    <a:pt x="2152" y="636"/>
                  </a:lnTo>
                  <a:lnTo>
                    <a:pt x="2154" y="646"/>
                  </a:lnTo>
                  <a:lnTo>
                    <a:pt x="2156" y="654"/>
                  </a:lnTo>
                  <a:lnTo>
                    <a:pt x="2154" y="664"/>
                  </a:lnTo>
                  <a:lnTo>
                    <a:pt x="2148" y="674"/>
                  </a:lnTo>
                  <a:lnTo>
                    <a:pt x="2140" y="684"/>
                  </a:lnTo>
                  <a:lnTo>
                    <a:pt x="2128" y="694"/>
                  </a:lnTo>
                  <a:lnTo>
                    <a:pt x="2128" y="694"/>
                  </a:lnTo>
                  <a:lnTo>
                    <a:pt x="2144" y="688"/>
                  </a:lnTo>
                  <a:lnTo>
                    <a:pt x="2156" y="680"/>
                  </a:lnTo>
                  <a:lnTo>
                    <a:pt x="2166" y="672"/>
                  </a:lnTo>
                  <a:lnTo>
                    <a:pt x="2174" y="662"/>
                  </a:lnTo>
                  <a:lnTo>
                    <a:pt x="2180" y="654"/>
                  </a:lnTo>
                  <a:lnTo>
                    <a:pt x="2184" y="644"/>
                  </a:lnTo>
                  <a:lnTo>
                    <a:pt x="2188" y="634"/>
                  </a:lnTo>
                  <a:lnTo>
                    <a:pt x="2188" y="624"/>
                  </a:lnTo>
                  <a:lnTo>
                    <a:pt x="2188" y="614"/>
                  </a:lnTo>
                  <a:lnTo>
                    <a:pt x="2184" y="604"/>
                  </a:lnTo>
                  <a:lnTo>
                    <a:pt x="2182" y="594"/>
                  </a:lnTo>
                  <a:lnTo>
                    <a:pt x="2176" y="584"/>
                  </a:lnTo>
                  <a:lnTo>
                    <a:pt x="2162" y="566"/>
                  </a:lnTo>
                  <a:lnTo>
                    <a:pt x="2146" y="550"/>
                  </a:lnTo>
                  <a:lnTo>
                    <a:pt x="2124" y="538"/>
                  </a:lnTo>
                  <a:lnTo>
                    <a:pt x="2102" y="528"/>
                  </a:lnTo>
                  <a:lnTo>
                    <a:pt x="2088" y="526"/>
                  </a:lnTo>
                  <a:lnTo>
                    <a:pt x="2076" y="524"/>
                  </a:lnTo>
                  <a:lnTo>
                    <a:pt x="2064" y="524"/>
                  </a:lnTo>
                  <a:lnTo>
                    <a:pt x="2050" y="526"/>
                  </a:lnTo>
                  <a:lnTo>
                    <a:pt x="2038" y="528"/>
                  </a:lnTo>
                  <a:lnTo>
                    <a:pt x="2026" y="532"/>
                  </a:lnTo>
                  <a:lnTo>
                    <a:pt x="2012" y="538"/>
                  </a:lnTo>
                  <a:lnTo>
                    <a:pt x="2000" y="546"/>
                  </a:lnTo>
                  <a:lnTo>
                    <a:pt x="1988" y="556"/>
                  </a:lnTo>
                  <a:lnTo>
                    <a:pt x="1978" y="568"/>
                  </a:lnTo>
                  <a:lnTo>
                    <a:pt x="1966" y="584"/>
                  </a:lnTo>
                  <a:lnTo>
                    <a:pt x="1956" y="600"/>
                  </a:lnTo>
                  <a:lnTo>
                    <a:pt x="1956" y="600"/>
                  </a:lnTo>
                  <a:lnTo>
                    <a:pt x="1954" y="562"/>
                  </a:lnTo>
                  <a:lnTo>
                    <a:pt x="1946" y="526"/>
                  </a:lnTo>
                  <a:lnTo>
                    <a:pt x="1934" y="492"/>
                  </a:lnTo>
                  <a:lnTo>
                    <a:pt x="1926" y="476"/>
                  </a:lnTo>
                  <a:lnTo>
                    <a:pt x="1918" y="460"/>
                  </a:lnTo>
                  <a:lnTo>
                    <a:pt x="1908" y="446"/>
                  </a:lnTo>
                  <a:lnTo>
                    <a:pt x="1898" y="430"/>
                  </a:lnTo>
                  <a:lnTo>
                    <a:pt x="1886" y="416"/>
                  </a:lnTo>
                  <a:lnTo>
                    <a:pt x="1872" y="402"/>
                  </a:lnTo>
                  <a:lnTo>
                    <a:pt x="1858" y="390"/>
                  </a:lnTo>
                  <a:lnTo>
                    <a:pt x="1842" y="378"/>
                  </a:lnTo>
                  <a:lnTo>
                    <a:pt x="1826" y="368"/>
                  </a:lnTo>
                  <a:lnTo>
                    <a:pt x="1808" y="356"/>
                  </a:lnTo>
                  <a:lnTo>
                    <a:pt x="1788" y="348"/>
                  </a:lnTo>
                  <a:lnTo>
                    <a:pt x="1766" y="338"/>
                  </a:lnTo>
                  <a:lnTo>
                    <a:pt x="1744" y="330"/>
                  </a:lnTo>
                  <a:lnTo>
                    <a:pt x="1720" y="324"/>
                  </a:lnTo>
                  <a:lnTo>
                    <a:pt x="1696" y="318"/>
                  </a:lnTo>
                  <a:lnTo>
                    <a:pt x="1670" y="312"/>
                  </a:lnTo>
                  <a:lnTo>
                    <a:pt x="1642" y="308"/>
                  </a:lnTo>
                  <a:lnTo>
                    <a:pt x="1612" y="306"/>
                  </a:lnTo>
                  <a:lnTo>
                    <a:pt x="1548" y="304"/>
                  </a:lnTo>
                  <a:lnTo>
                    <a:pt x="1478" y="306"/>
                  </a:lnTo>
                  <a:lnTo>
                    <a:pt x="1400" y="312"/>
                  </a:lnTo>
                  <a:lnTo>
                    <a:pt x="1318" y="324"/>
                  </a:lnTo>
                  <a:lnTo>
                    <a:pt x="1318" y="324"/>
                  </a:lnTo>
                  <a:lnTo>
                    <a:pt x="1288" y="332"/>
                  </a:lnTo>
                  <a:lnTo>
                    <a:pt x="1252" y="342"/>
                  </a:lnTo>
                  <a:lnTo>
                    <a:pt x="1216" y="356"/>
                  </a:lnTo>
                  <a:lnTo>
                    <a:pt x="1200" y="364"/>
                  </a:lnTo>
                  <a:lnTo>
                    <a:pt x="1190" y="370"/>
                  </a:lnTo>
                  <a:lnTo>
                    <a:pt x="1190" y="370"/>
                  </a:lnTo>
                  <a:lnTo>
                    <a:pt x="1126" y="416"/>
                  </a:lnTo>
                  <a:lnTo>
                    <a:pt x="1086" y="446"/>
                  </a:lnTo>
                  <a:lnTo>
                    <a:pt x="1046" y="478"/>
                  </a:lnTo>
                  <a:lnTo>
                    <a:pt x="1006" y="512"/>
                  </a:lnTo>
                  <a:lnTo>
                    <a:pt x="968" y="548"/>
                  </a:lnTo>
                  <a:lnTo>
                    <a:pt x="938" y="584"/>
                  </a:lnTo>
                  <a:lnTo>
                    <a:pt x="924" y="600"/>
                  </a:lnTo>
                  <a:lnTo>
                    <a:pt x="914" y="616"/>
                  </a:lnTo>
                  <a:lnTo>
                    <a:pt x="914" y="616"/>
                  </a:lnTo>
                  <a:lnTo>
                    <a:pt x="936" y="556"/>
                  </a:lnTo>
                  <a:lnTo>
                    <a:pt x="962" y="494"/>
                  </a:lnTo>
                  <a:lnTo>
                    <a:pt x="962" y="494"/>
                  </a:lnTo>
                  <a:lnTo>
                    <a:pt x="986" y="436"/>
                  </a:lnTo>
                  <a:lnTo>
                    <a:pt x="1004" y="378"/>
                  </a:lnTo>
                  <a:lnTo>
                    <a:pt x="1012" y="352"/>
                  </a:lnTo>
                  <a:lnTo>
                    <a:pt x="1016" y="326"/>
                  </a:lnTo>
                  <a:lnTo>
                    <a:pt x="1020" y="302"/>
                  </a:lnTo>
                  <a:lnTo>
                    <a:pt x="1020" y="278"/>
                  </a:lnTo>
                  <a:lnTo>
                    <a:pt x="1020" y="278"/>
                  </a:lnTo>
                  <a:lnTo>
                    <a:pt x="1020" y="254"/>
                  </a:lnTo>
                  <a:lnTo>
                    <a:pt x="1020" y="226"/>
                  </a:lnTo>
                  <a:lnTo>
                    <a:pt x="1018" y="198"/>
                  </a:lnTo>
                  <a:lnTo>
                    <a:pt x="1014" y="170"/>
                  </a:lnTo>
                  <a:lnTo>
                    <a:pt x="1014" y="170"/>
                  </a:lnTo>
                  <a:lnTo>
                    <a:pt x="1006" y="150"/>
                  </a:lnTo>
                  <a:lnTo>
                    <a:pt x="998" y="130"/>
                  </a:lnTo>
                  <a:lnTo>
                    <a:pt x="988" y="112"/>
                  </a:lnTo>
                  <a:lnTo>
                    <a:pt x="978" y="94"/>
                  </a:lnTo>
                  <a:lnTo>
                    <a:pt x="966" y="80"/>
                  </a:lnTo>
                  <a:lnTo>
                    <a:pt x="954" y="64"/>
                  </a:lnTo>
                  <a:lnTo>
                    <a:pt x="942" y="52"/>
                  </a:lnTo>
                  <a:lnTo>
                    <a:pt x="928" y="40"/>
                  </a:lnTo>
                  <a:lnTo>
                    <a:pt x="914" y="30"/>
                  </a:lnTo>
                  <a:lnTo>
                    <a:pt x="900" y="22"/>
                  </a:lnTo>
                  <a:lnTo>
                    <a:pt x="884" y="14"/>
                  </a:lnTo>
                  <a:lnTo>
                    <a:pt x="868" y="10"/>
                  </a:lnTo>
                  <a:lnTo>
                    <a:pt x="852" y="4"/>
                  </a:lnTo>
                  <a:lnTo>
                    <a:pt x="834" y="2"/>
                  </a:lnTo>
                  <a:lnTo>
                    <a:pt x="816" y="0"/>
                  </a:lnTo>
                  <a:lnTo>
                    <a:pt x="798" y="0"/>
                  </a:lnTo>
                  <a:lnTo>
                    <a:pt x="798" y="0"/>
                  </a:lnTo>
                  <a:lnTo>
                    <a:pt x="806" y="12"/>
                  </a:lnTo>
                  <a:lnTo>
                    <a:pt x="814" y="22"/>
                  </a:lnTo>
                  <a:lnTo>
                    <a:pt x="830" y="34"/>
                  </a:lnTo>
                  <a:lnTo>
                    <a:pt x="842" y="42"/>
                  </a:lnTo>
                  <a:lnTo>
                    <a:pt x="848" y="48"/>
                  </a:lnTo>
                  <a:lnTo>
                    <a:pt x="854" y="54"/>
                  </a:lnTo>
                  <a:lnTo>
                    <a:pt x="854" y="54"/>
                  </a:lnTo>
                  <a:lnTo>
                    <a:pt x="834" y="48"/>
                  </a:lnTo>
                  <a:lnTo>
                    <a:pt x="810" y="46"/>
                  </a:lnTo>
                  <a:lnTo>
                    <a:pt x="794" y="48"/>
                  </a:lnTo>
                  <a:lnTo>
                    <a:pt x="780" y="50"/>
                  </a:lnTo>
                  <a:lnTo>
                    <a:pt x="764" y="54"/>
                  </a:lnTo>
                  <a:lnTo>
                    <a:pt x="748" y="60"/>
                  </a:lnTo>
                  <a:lnTo>
                    <a:pt x="732" y="68"/>
                  </a:lnTo>
                  <a:lnTo>
                    <a:pt x="716" y="78"/>
                  </a:lnTo>
                  <a:lnTo>
                    <a:pt x="700" y="88"/>
                  </a:lnTo>
                  <a:lnTo>
                    <a:pt x="686" y="104"/>
                  </a:lnTo>
                  <a:lnTo>
                    <a:pt x="672" y="120"/>
                  </a:lnTo>
                  <a:lnTo>
                    <a:pt x="660" y="140"/>
                  </a:lnTo>
                  <a:lnTo>
                    <a:pt x="650" y="164"/>
                  </a:lnTo>
                  <a:lnTo>
                    <a:pt x="642" y="190"/>
                  </a:lnTo>
                  <a:lnTo>
                    <a:pt x="642" y="190"/>
                  </a:lnTo>
                  <a:lnTo>
                    <a:pt x="672" y="166"/>
                  </a:lnTo>
                  <a:lnTo>
                    <a:pt x="700" y="148"/>
                  </a:lnTo>
                  <a:lnTo>
                    <a:pt x="728" y="136"/>
                  </a:lnTo>
                  <a:lnTo>
                    <a:pt x="740" y="130"/>
                  </a:lnTo>
                  <a:lnTo>
                    <a:pt x="752" y="128"/>
                  </a:lnTo>
                  <a:lnTo>
                    <a:pt x="766" y="126"/>
                  </a:lnTo>
                  <a:lnTo>
                    <a:pt x="776" y="126"/>
                  </a:lnTo>
                  <a:lnTo>
                    <a:pt x="788" y="128"/>
                  </a:lnTo>
                  <a:lnTo>
                    <a:pt x="800" y="130"/>
                  </a:lnTo>
                  <a:lnTo>
                    <a:pt x="810" y="134"/>
                  </a:lnTo>
                  <a:lnTo>
                    <a:pt x="820" y="138"/>
                  </a:lnTo>
                  <a:lnTo>
                    <a:pt x="838" y="150"/>
                  </a:lnTo>
                  <a:lnTo>
                    <a:pt x="838" y="150"/>
                  </a:lnTo>
                  <a:lnTo>
                    <a:pt x="820" y="152"/>
                  </a:lnTo>
                  <a:lnTo>
                    <a:pt x="804" y="156"/>
                  </a:lnTo>
                  <a:lnTo>
                    <a:pt x="790" y="162"/>
                  </a:lnTo>
                  <a:lnTo>
                    <a:pt x="778" y="172"/>
                  </a:lnTo>
                  <a:lnTo>
                    <a:pt x="766" y="182"/>
                  </a:lnTo>
                  <a:lnTo>
                    <a:pt x="756" y="196"/>
                  </a:lnTo>
                  <a:lnTo>
                    <a:pt x="746" y="212"/>
                  </a:lnTo>
                  <a:lnTo>
                    <a:pt x="738" y="228"/>
                  </a:lnTo>
                  <a:lnTo>
                    <a:pt x="738" y="228"/>
                  </a:lnTo>
                  <a:lnTo>
                    <a:pt x="754" y="222"/>
                  </a:lnTo>
                  <a:lnTo>
                    <a:pt x="772" y="218"/>
                  </a:lnTo>
                  <a:lnTo>
                    <a:pt x="790" y="218"/>
                  </a:lnTo>
                  <a:lnTo>
                    <a:pt x="808" y="222"/>
                  </a:lnTo>
                  <a:lnTo>
                    <a:pt x="826" y="226"/>
                  </a:lnTo>
                  <a:lnTo>
                    <a:pt x="842" y="234"/>
                  </a:lnTo>
                  <a:lnTo>
                    <a:pt x="858" y="244"/>
                  </a:lnTo>
                  <a:lnTo>
                    <a:pt x="872" y="258"/>
                  </a:lnTo>
                  <a:lnTo>
                    <a:pt x="884" y="272"/>
                  </a:lnTo>
                  <a:lnTo>
                    <a:pt x="896" y="288"/>
                  </a:lnTo>
                  <a:lnTo>
                    <a:pt x="906" y="308"/>
                  </a:lnTo>
                  <a:lnTo>
                    <a:pt x="914" y="328"/>
                  </a:lnTo>
                  <a:lnTo>
                    <a:pt x="918" y="350"/>
                  </a:lnTo>
                  <a:lnTo>
                    <a:pt x="920" y="374"/>
                  </a:lnTo>
                  <a:lnTo>
                    <a:pt x="920" y="398"/>
                  </a:lnTo>
                  <a:lnTo>
                    <a:pt x="916" y="424"/>
                  </a:lnTo>
                  <a:lnTo>
                    <a:pt x="916" y="424"/>
                  </a:lnTo>
                  <a:lnTo>
                    <a:pt x="910" y="450"/>
                  </a:lnTo>
                  <a:lnTo>
                    <a:pt x="900" y="474"/>
                  </a:lnTo>
                  <a:lnTo>
                    <a:pt x="900" y="474"/>
                  </a:lnTo>
                  <a:lnTo>
                    <a:pt x="902" y="456"/>
                  </a:lnTo>
                  <a:lnTo>
                    <a:pt x="900" y="440"/>
                  </a:lnTo>
                  <a:lnTo>
                    <a:pt x="896" y="424"/>
                  </a:lnTo>
                  <a:lnTo>
                    <a:pt x="890" y="410"/>
                  </a:lnTo>
                  <a:lnTo>
                    <a:pt x="884" y="398"/>
                  </a:lnTo>
                  <a:lnTo>
                    <a:pt x="876" y="386"/>
                  </a:lnTo>
                  <a:lnTo>
                    <a:pt x="864" y="376"/>
                  </a:lnTo>
                  <a:lnTo>
                    <a:pt x="854" y="366"/>
                  </a:lnTo>
                  <a:lnTo>
                    <a:pt x="840" y="358"/>
                  </a:lnTo>
                  <a:lnTo>
                    <a:pt x="828" y="350"/>
                  </a:lnTo>
                  <a:lnTo>
                    <a:pt x="812" y="344"/>
                  </a:lnTo>
                  <a:lnTo>
                    <a:pt x="798" y="340"/>
                  </a:lnTo>
                  <a:lnTo>
                    <a:pt x="782" y="336"/>
                  </a:lnTo>
                  <a:lnTo>
                    <a:pt x="764" y="334"/>
                  </a:lnTo>
                  <a:lnTo>
                    <a:pt x="730" y="332"/>
                  </a:lnTo>
                  <a:lnTo>
                    <a:pt x="730" y="332"/>
                  </a:lnTo>
                  <a:lnTo>
                    <a:pt x="700" y="336"/>
                  </a:lnTo>
                  <a:lnTo>
                    <a:pt x="664" y="346"/>
                  </a:lnTo>
                  <a:lnTo>
                    <a:pt x="646" y="352"/>
                  </a:lnTo>
                  <a:lnTo>
                    <a:pt x="626" y="360"/>
                  </a:lnTo>
                  <a:lnTo>
                    <a:pt x="608" y="370"/>
                  </a:lnTo>
                  <a:lnTo>
                    <a:pt x="592" y="380"/>
                  </a:lnTo>
                  <a:lnTo>
                    <a:pt x="592" y="380"/>
                  </a:lnTo>
                  <a:lnTo>
                    <a:pt x="580" y="390"/>
                  </a:lnTo>
                  <a:lnTo>
                    <a:pt x="580" y="390"/>
                  </a:lnTo>
                  <a:lnTo>
                    <a:pt x="562" y="406"/>
                  </a:lnTo>
                  <a:lnTo>
                    <a:pt x="548" y="424"/>
                  </a:lnTo>
                  <a:lnTo>
                    <a:pt x="538" y="440"/>
                  </a:lnTo>
                  <a:lnTo>
                    <a:pt x="532" y="458"/>
                  </a:lnTo>
                  <a:lnTo>
                    <a:pt x="528" y="476"/>
                  </a:lnTo>
                  <a:lnTo>
                    <a:pt x="528" y="494"/>
                  </a:lnTo>
                  <a:lnTo>
                    <a:pt x="530" y="510"/>
                  </a:lnTo>
                  <a:lnTo>
                    <a:pt x="534" y="528"/>
                  </a:lnTo>
                  <a:lnTo>
                    <a:pt x="540" y="542"/>
                  </a:lnTo>
                  <a:lnTo>
                    <a:pt x="548" y="556"/>
                  </a:lnTo>
                  <a:lnTo>
                    <a:pt x="558" y="570"/>
                  </a:lnTo>
                  <a:lnTo>
                    <a:pt x="570" y="580"/>
                  </a:lnTo>
                  <a:lnTo>
                    <a:pt x="582" y="590"/>
                  </a:lnTo>
                  <a:lnTo>
                    <a:pt x="594" y="596"/>
                  </a:lnTo>
                  <a:lnTo>
                    <a:pt x="608" y="602"/>
                  </a:lnTo>
                  <a:lnTo>
                    <a:pt x="622" y="604"/>
                  </a:lnTo>
                  <a:lnTo>
                    <a:pt x="622" y="604"/>
                  </a:lnTo>
                  <a:lnTo>
                    <a:pt x="636" y="604"/>
                  </a:lnTo>
                  <a:lnTo>
                    <a:pt x="650" y="602"/>
                  </a:lnTo>
                  <a:lnTo>
                    <a:pt x="662" y="598"/>
                  </a:lnTo>
                  <a:lnTo>
                    <a:pt x="674" y="592"/>
                  </a:lnTo>
                  <a:lnTo>
                    <a:pt x="684" y="584"/>
                  </a:lnTo>
                  <a:lnTo>
                    <a:pt x="692" y="576"/>
                  </a:lnTo>
                  <a:lnTo>
                    <a:pt x="700" y="566"/>
                  </a:lnTo>
                  <a:lnTo>
                    <a:pt x="706" y="556"/>
                  </a:lnTo>
                  <a:lnTo>
                    <a:pt x="712" y="544"/>
                  </a:lnTo>
                  <a:lnTo>
                    <a:pt x="716" y="532"/>
                  </a:lnTo>
                  <a:lnTo>
                    <a:pt x="718" y="518"/>
                  </a:lnTo>
                  <a:lnTo>
                    <a:pt x="718" y="506"/>
                  </a:lnTo>
                  <a:lnTo>
                    <a:pt x="718" y="492"/>
                  </a:lnTo>
                  <a:lnTo>
                    <a:pt x="714" y="478"/>
                  </a:lnTo>
                  <a:lnTo>
                    <a:pt x="710" y="464"/>
                  </a:lnTo>
                  <a:lnTo>
                    <a:pt x="704" y="452"/>
                  </a:lnTo>
                  <a:lnTo>
                    <a:pt x="704" y="452"/>
                  </a:lnTo>
                  <a:lnTo>
                    <a:pt x="700" y="466"/>
                  </a:lnTo>
                  <a:lnTo>
                    <a:pt x="692" y="480"/>
                  </a:lnTo>
                  <a:lnTo>
                    <a:pt x="682" y="492"/>
                  </a:lnTo>
                  <a:lnTo>
                    <a:pt x="672" y="500"/>
                  </a:lnTo>
                  <a:lnTo>
                    <a:pt x="658" y="504"/>
                  </a:lnTo>
                  <a:lnTo>
                    <a:pt x="652" y="504"/>
                  </a:lnTo>
                  <a:lnTo>
                    <a:pt x="646" y="504"/>
                  </a:lnTo>
                  <a:lnTo>
                    <a:pt x="638" y="502"/>
                  </a:lnTo>
                  <a:lnTo>
                    <a:pt x="632" y="498"/>
                  </a:lnTo>
                  <a:lnTo>
                    <a:pt x="624" y="494"/>
                  </a:lnTo>
                  <a:lnTo>
                    <a:pt x="618" y="488"/>
                  </a:lnTo>
                  <a:lnTo>
                    <a:pt x="618" y="488"/>
                  </a:lnTo>
                  <a:lnTo>
                    <a:pt x="612" y="480"/>
                  </a:lnTo>
                  <a:lnTo>
                    <a:pt x="608" y="474"/>
                  </a:lnTo>
                  <a:lnTo>
                    <a:pt x="604" y="466"/>
                  </a:lnTo>
                  <a:lnTo>
                    <a:pt x="604" y="458"/>
                  </a:lnTo>
                  <a:lnTo>
                    <a:pt x="602" y="450"/>
                  </a:lnTo>
                  <a:lnTo>
                    <a:pt x="604" y="444"/>
                  </a:lnTo>
                  <a:lnTo>
                    <a:pt x="608" y="428"/>
                  </a:lnTo>
                  <a:lnTo>
                    <a:pt x="618" y="412"/>
                  </a:lnTo>
                  <a:lnTo>
                    <a:pt x="630" y="398"/>
                  </a:lnTo>
                  <a:lnTo>
                    <a:pt x="646" y="384"/>
                  </a:lnTo>
                  <a:lnTo>
                    <a:pt x="664" y="370"/>
                  </a:lnTo>
                  <a:lnTo>
                    <a:pt x="664" y="370"/>
                  </a:lnTo>
                  <a:lnTo>
                    <a:pt x="680" y="364"/>
                  </a:lnTo>
                  <a:lnTo>
                    <a:pt x="694" y="358"/>
                  </a:lnTo>
                  <a:lnTo>
                    <a:pt x="712" y="354"/>
                  </a:lnTo>
                  <a:lnTo>
                    <a:pt x="732" y="352"/>
                  </a:lnTo>
                  <a:lnTo>
                    <a:pt x="732" y="352"/>
                  </a:lnTo>
                  <a:lnTo>
                    <a:pt x="748" y="354"/>
                  </a:lnTo>
                  <a:lnTo>
                    <a:pt x="764" y="356"/>
                  </a:lnTo>
                  <a:lnTo>
                    <a:pt x="780" y="362"/>
                  </a:lnTo>
                  <a:lnTo>
                    <a:pt x="794" y="370"/>
                  </a:lnTo>
                  <a:lnTo>
                    <a:pt x="808" y="380"/>
                  </a:lnTo>
                  <a:lnTo>
                    <a:pt x="820" y="394"/>
                  </a:lnTo>
                  <a:lnTo>
                    <a:pt x="830" y="410"/>
                  </a:lnTo>
                  <a:lnTo>
                    <a:pt x="838" y="428"/>
                  </a:lnTo>
                  <a:lnTo>
                    <a:pt x="846" y="448"/>
                  </a:lnTo>
                  <a:lnTo>
                    <a:pt x="850" y="470"/>
                  </a:lnTo>
                  <a:lnTo>
                    <a:pt x="852" y="496"/>
                  </a:lnTo>
                  <a:lnTo>
                    <a:pt x="850" y="524"/>
                  </a:lnTo>
                  <a:lnTo>
                    <a:pt x="846" y="554"/>
                  </a:lnTo>
                  <a:lnTo>
                    <a:pt x="838" y="586"/>
                  </a:lnTo>
                  <a:lnTo>
                    <a:pt x="826" y="622"/>
                  </a:lnTo>
                  <a:lnTo>
                    <a:pt x="810" y="660"/>
                  </a:lnTo>
                  <a:lnTo>
                    <a:pt x="810" y="660"/>
                  </a:lnTo>
                  <a:lnTo>
                    <a:pt x="808" y="642"/>
                  </a:lnTo>
                  <a:lnTo>
                    <a:pt x="806" y="624"/>
                  </a:lnTo>
                  <a:lnTo>
                    <a:pt x="800" y="608"/>
                  </a:lnTo>
                  <a:lnTo>
                    <a:pt x="794" y="592"/>
                  </a:lnTo>
                  <a:lnTo>
                    <a:pt x="786" y="578"/>
                  </a:lnTo>
                  <a:lnTo>
                    <a:pt x="774" y="568"/>
                  </a:lnTo>
                  <a:lnTo>
                    <a:pt x="762" y="560"/>
                  </a:lnTo>
                  <a:lnTo>
                    <a:pt x="754" y="558"/>
                  </a:lnTo>
                  <a:lnTo>
                    <a:pt x="748" y="558"/>
                  </a:lnTo>
                  <a:lnTo>
                    <a:pt x="748" y="558"/>
                  </a:lnTo>
                  <a:lnTo>
                    <a:pt x="756" y="574"/>
                  </a:lnTo>
                  <a:lnTo>
                    <a:pt x="762" y="590"/>
                  </a:lnTo>
                  <a:lnTo>
                    <a:pt x="766" y="610"/>
                  </a:lnTo>
                  <a:lnTo>
                    <a:pt x="768" y="628"/>
                  </a:lnTo>
                  <a:lnTo>
                    <a:pt x="768" y="648"/>
                  </a:lnTo>
                  <a:lnTo>
                    <a:pt x="766" y="668"/>
                  </a:lnTo>
                  <a:lnTo>
                    <a:pt x="762" y="686"/>
                  </a:lnTo>
                  <a:lnTo>
                    <a:pt x="756" y="706"/>
                  </a:lnTo>
                  <a:lnTo>
                    <a:pt x="750" y="726"/>
                  </a:lnTo>
                  <a:lnTo>
                    <a:pt x="740" y="744"/>
                  </a:lnTo>
                  <a:lnTo>
                    <a:pt x="730" y="760"/>
                  </a:lnTo>
                  <a:lnTo>
                    <a:pt x="718" y="776"/>
                  </a:lnTo>
                  <a:lnTo>
                    <a:pt x="704" y="792"/>
                  </a:lnTo>
                  <a:lnTo>
                    <a:pt x="690" y="804"/>
                  </a:lnTo>
                  <a:lnTo>
                    <a:pt x="676" y="816"/>
                  </a:lnTo>
                  <a:lnTo>
                    <a:pt x="658" y="824"/>
                  </a:lnTo>
                  <a:lnTo>
                    <a:pt x="658" y="824"/>
                  </a:lnTo>
                  <a:lnTo>
                    <a:pt x="646" y="814"/>
                  </a:lnTo>
                  <a:lnTo>
                    <a:pt x="628" y="804"/>
                  </a:lnTo>
                  <a:lnTo>
                    <a:pt x="608" y="796"/>
                  </a:lnTo>
                  <a:lnTo>
                    <a:pt x="584" y="790"/>
                  </a:lnTo>
                  <a:lnTo>
                    <a:pt x="562" y="786"/>
                  </a:lnTo>
                  <a:lnTo>
                    <a:pt x="540" y="786"/>
                  </a:lnTo>
                  <a:lnTo>
                    <a:pt x="530" y="788"/>
                  </a:lnTo>
                  <a:lnTo>
                    <a:pt x="522" y="792"/>
                  </a:lnTo>
                  <a:lnTo>
                    <a:pt x="514" y="796"/>
                  </a:lnTo>
                  <a:lnTo>
                    <a:pt x="508" y="802"/>
                  </a:lnTo>
                  <a:lnTo>
                    <a:pt x="508" y="802"/>
                  </a:lnTo>
                  <a:lnTo>
                    <a:pt x="520" y="772"/>
                  </a:lnTo>
                  <a:lnTo>
                    <a:pt x="528" y="742"/>
                  </a:lnTo>
                  <a:lnTo>
                    <a:pt x="532" y="712"/>
                  </a:lnTo>
                  <a:lnTo>
                    <a:pt x="532" y="686"/>
                  </a:lnTo>
                  <a:lnTo>
                    <a:pt x="528" y="664"/>
                  </a:lnTo>
                  <a:lnTo>
                    <a:pt x="524" y="654"/>
                  </a:lnTo>
                  <a:lnTo>
                    <a:pt x="520" y="646"/>
                  </a:lnTo>
                  <a:lnTo>
                    <a:pt x="516" y="638"/>
                  </a:lnTo>
                  <a:lnTo>
                    <a:pt x="508" y="632"/>
                  </a:lnTo>
                  <a:lnTo>
                    <a:pt x="502" y="628"/>
                  </a:lnTo>
                  <a:lnTo>
                    <a:pt x="492" y="624"/>
                  </a:lnTo>
                  <a:lnTo>
                    <a:pt x="492" y="624"/>
                  </a:lnTo>
                  <a:lnTo>
                    <a:pt x="496" y="640"/>
                  </a:lnTo>
                  <a:lnTo>
                    <a:pt x="494" y="658"/>
                  </a:lnTo>
                  <a:lnTo>
                    <a:pt x="490" y="678"/>
                  </a:lnTo>
                  <a:lnTo>
                    <a:pt x="484" y="698"/>
                  </a:lnTo>
                  <a:lnTo>
                    <a:pt x="472" y="718"/>
                  </a:lnTo>
                  <a:lnTo>
                    <a:pt x="460" y="738"/>
                  </a:lnTo>
                  <a:lnTo>
                    <a:pt x="444" y="760"/>
                  </a:lnTo>
                  <a:lnTo>
                    <a:pt x="424" y="780"/>
                  </a:lnTo>
                  <a:lnTo>
                    <a:pt x="404" y="798"/>
                  </a:lnTo>
                  <a:lnTo>
                    <a:pt x="380" y="816"/>
                  </a:lnTo>
                  <a:lnTo>
                    <a:pt x="354" y="832"/>
                  </a:lnTo>
                  <a:lnTo>
                    <a:pt x="328" y="846"/>
                  </a:lnTo>
                  <a:lnTo>
                    <a:pt x="300" y="858"/>
                  </a:lnTo>
                  <a:lnTo>
                    <a:pt x="268" y="868"/>
                  </a:lnTo>
                  <a:lnTo>
                    <a:pt x="238" y="874"/>
                  </a:lnTo>
                  <a:lnTo>
                    <a:pt x="204" y="876"/>
                  </a:lnTo>
                  <a:lnTo>
                    <a:pt x="204" y="876"/>
                  </a:lnTo>
                  <a:lnTo>
                    <a:pt x="158" y="876"/>
                  </a:lnTo>
                  <a:lnTo>
                    <a:pt x="110" y="870"/>
                  </a:lnTo>
                  <a:lnTo>
                    <a:pt x="62" y="862"/>
                  </a:lnTo>
                  <a:lnTo>
                    <a:pt x="16" y="848"/>
                  </a:lnTo>
                  <a:lnTo>
                    <a:pt x="0" y="898"/>
                  </a:lnTo>
                  <a:close/>
                  <a:moveTo>
                    <a:pt x="686" y="530"/>
                  </a:moveTo>
                  <a:lnTo>
                    <a:pt x="686" y="530"/>
                  </a:lnTo>
                  <a:lnTo>
                    <a:pt x="682" y="542"/>
                  </a:lnTo>
                  <a:lnTo>
                    <a:pt x="676" y="552"/>
                  </a:lnTo>
                  <a:lnTo>
                    <a:pt x="670" y="560"/>
                  </a:lnTo>
                  <a:lnTo>
                    <a:pt x="662" y="568"/>
                  </a:lnTo>
                  <a:lnTo>
                    <a:pt x="654" y="572"/>
                  </a:lnTo>
                  <a:lnTo>
                    <a:pt x="644" y="576"/>
                  </a:lnTo>
                  <a:lnTo>
                    <a:pt x="636" y="578"/>
                  </a:lnTo>
                  <a:lnTo>
                    <a:pt x="626" y="578"/>
                  </a:lnTo>
                  <a:lnTo>
                    <a:pt x="618" y="578"/>
                  </a:lnTo>
                  <a:lnTo>
                    <a:pt x="610" y="576"/>
                  </a:lnTo>
                  <a:lnTo>
                    <a:pt x="602" y="572"/>
                  </a:lnTo>
                  <a:lnTo>
                    <a:pt x="594" y="568"/>
                  </a:lnTo>
                  <a:lnTo>
                    <a:pt x="590" y="562"/>
                  </a:lnTo>
                  <a:lnTo>
                    <a:pt x="584" y="556"/>
                  </a:lnTo>
                  <a:lnTo>
                    <a:pt x="582" y="548"/>
                  </a:lnTo>
                  <a:lnTo>
                    <a:pt x="580" y="538"/>
                  </a:lnTo>
                  <a:lnTo>
                    <a:pt x="580" y="538"/>
                  </a:lnTo>
                  <a:lnTo>
                    <a:pt x="592" y="546"/>
                  </a:lnTo>
                  <a:lnTo>
                    <a:pt x="606" y="550"/>
                  </a:lnTo>
                  <a:lnTo>
                    <a:pt x="620" y="554"/>
                  </a:lnTo>
                  <a:lnTo>
                    <a:pt x="634" y="554"/>
                  </a:lnTo>
                  <a:lnTo>
                    <a:pt x="648" y="552"/>
                  </a:lnTo>
                  <a:lnTo>
                    <a:pt x="662" y="546"/>
                  </a:lnTo>
                  <a:lnTo>
                    <a:pt x="674" y="540"/>
                  </a:lnTo>
                  <a:lnTo>
                    <a:pt x="686" y="530"/>
                  </a:lnTo>
                  <a:lnTo>
                    <a:pt x="686" y="530"/>
                  </a:lnTo>
                  <a:close/>
                  <a:moveTo>
                    <a:pt x="796" y="190"/>
                  </a:moveTo>
                  <a:lnTo>
                    <a:pt x="796" y="190"/>
                  </a:lnTo>
                  <a:lnTo>
                    <a:pt x="806" y="182"/>
                  </a:lnTo>
                  <a:lnTo>
                    <a:pt x="818" y="176"/>
                  </a:lnTo>
                  <a:lnTo>
                    <a:pt x="832" y="172"/>
                  </a:lnTo>
                  <a:lnTo>
                    <a:pt x="846" y="170"/>
                  </a:lnTo>
                  <a:lnTo>
                    <a:pt x="862" y="168"/>
                  </a:lnTo>
                  <a:lnTo>
                    <a:pt x="876" y="168"/>
                  </a:lnTo>
                  <a:lnTo>
                    <a:pt x="902" y="172"/>
                  </a:lnTo>
                  <a:lnTo>
                    <a:pt x="902" y="172"/>
                  </a:lnTo>
                  <a:lnTo>
                    <a:pt x="902" y="162"/>
                  </a:lnTo>
                  <a:lnTo>
                    <a:pt x="900" y="154"/>
                  </a:lnTo>
                  <a:lnTo>
                    <a:pt x="896" y="146"/>
                  </a:lnTo>
                  <a:lnTo>
                    <a:pt x="892" y="138"/>
                  </a:lnTo>
                  <a:lnTo>
                    <a:pt x="880" y="122"/>
                  </a:lnTo>
                  <a:lnTo>
                    <a:pt x="864" y="110"/>
                  </a:lnTo>
                  <a:lnTo>
                    <a:pt x="846" y="100"/>
                  </a:lnTo>
                  <a:lnTo>
                    <a:pt x="822" y="94"/>
                  </a:lnTo>
                  <a:lnTo>
                    <a:pt x="798" y="92"/>
                  </a:lnTo>
                  <a:lnTo>
                    <a:pt x="770" y="94"/>
                  </a:lnTo>
                  <a:lnTo>
                    <a:pt x="770" y="94"/>
                  </a:lnTo>
                  <a:lnTo>
                    <a:pt x="790" y="86"/>
                  </a:lnTo>
                  <a:lnTo>
                    <a:pt x="814" y="82"/>
                  </a:lnTo>
                  <a:lnTo>
                    <a:pt x="838" y="80"/>
                  </a:lnTo>
                  <a:lnTo>
                    <a:pt x="864" y="80"/>
                  </a:lnTo>
                  <a:lnTo>
                    <a:pt x="876" y="84"/>
                  </a:lnTo>
                  <a:lnTo>
                    <a:pt x="888" y="88"/>
                  </a:lnTo>
                  <a:lnTo>
                    <a:pt x="900" y="92"/>
                  </a:lnTo>
                  <a:lnTo>
                    <a:pt x="912" y="100"/>
                  </a:lnTo>
                  <a:lnTo>
                    <a:pt x="924" y="108"/>
                  </a:lnTo>
                  <a:lnTo>
                    <a:pt x="934" y="118"/>
                  </a:lnTo>
                  <a:lnTo>
                    <a:pt x="944" y="130"/>
                  </a:lnTo>
                  <a:lnTo>
                    <a:pt x="954" y="144"/>
                  </a:lnTo>
                  <a:lnTo>
                    <a:pt x="954" y="144"/>
                  </a:lnTo>
                  <a:lnTo>
                    <a:pt x="966" y="172"/>
                  </a:lnTo>
                  <a:lnTo>
                    <a:pt x="976" y="198"/>
                  </a:lnTo>
                  <a:lnTo>
                    <a:pt x="984" y="228"/>
                  </a:lnTo>
                  <a:lnTo>
                    <a:pt x="986" y="258"/>
                  </a:lnTo>
                  <a:lnTo>
                    <a:pt x="986" y="292"/>
                  </a:lnTo>
                  <a:lnTo>
                    <a:pt x="980" y="328"/>
                  </a:lnTo>
                  <a:lnTo>
                    <a:pt x="972" y="366"/>
                  </a:lnTo>
                  <a:lnTo>
                    <a:pt x="960" y="406"/>
                  </a:lnTo>
                  <a:lnTo>
                    <a:pt x="960" y="406"/>
                  </a:lnTo>
                  <a:lnTo>
                    <a:pt x="964" y="374"/>
                  </a:lnTo>
                  <a:lnTo>
                    <a:pt x="968" y="346"/>
                  </a:lnTo>
                  <a:lnTo>
                    <a:pt x="968" y="320"/>
                  </a:lnTo>
                  <a:lnTo>
                    <a:pt x="966" y="298"/>
                  </a:lnTo>
                  <a:lnTo>
                    <a:pt x="962" y="278"/>
                  </a:lnTo>
                  <a:lnTo>
                    <a:pt x="958" y="262"/>
                  </a:lnTo>
                  <a:lnTo>
                    <a:pt x="950" y="248"/>
                  </a:lnTo>
                  <a:lnTo>
                    <a:pt x="940" y="236"/>
                  </a:lnTo>
                  <a:lnTo>
                    <a:pt x="928" y="226"/>
                  </a:lnTo>
                  <a:lnTo>
                    <a:pt x="914" y="218"/>
                  </a:lnTo>
                  <a:lnTo>
                    <a:pt x="898" y="210"/>
                  </a:lnTo>
                  <a:lnTo>
                    <a:pt x="882" y="204"/>
                  </a:lnTo>
                  <a:lnTo>
                    <a:pt x="862" y="200"/>
                  </a:lnTo>
                  <a:lnTo>
                    <a:pt x="842" y="196"/>
                  </a:lnTo>
                  <a:lnTo>
                    <a:pt x="796" y="190"/>
                  </a:lnTo>
                  <a:lnTo>
                    <a:pt x="796" y="190"/>
                  </a:lnTo>
                  <a:close/>
                  <a:moveTo>
                    <a:pt x="2000" y="616"/>
                  </a:moveTo>
                  <a:lnTo>
                    <a:pt x="2000" y="616"/>
                  </a:lnTo>
                  <a:lnTo>
                    <a:pt x="2002" y="604"/>
                  </a:lnTo>
                  <a:lnTo>
                    <a:pt x="2006" y="592"/>
                  </a:lnTo>
                  <a:lnTo>
                    <a:pt x="2010" y="582"/>
                  </a:lnTo>
                  <a:lnTo>
                    <a:pt x="2016" y="574"/>
                  </a:lnTo>
                  <a:lnTo>
                    <a:pt x="2022" y="566"/>
                  </a:lnTo>
                  <a:lnTo>
                    <a:pt x="2030" y="558"/>
                  </a:lnTo>
                  <a:lnTo>
                    <a:pt x="2038" y="552"/>
                  </a:lnTo>
                  <a:lnTo>
                    <a:pt x="2048" y="548"/>
                  </a:lnTo>
                  <a:lnTo>
                    <a:pt x="2058" y="546"/>
                  </a:lnTo>
                  <a:lnTo>
                    <a:pt x="2066" y="544"/>
                  </a:lnTo>
                  <a:lnTo>
                    <a:pt x="2076" y="546"/>
                  </a:lnTo>
                  <a:lnTo>
                    <a:pt x="2086" y="548"/>
                  </a:lnTo>
                  <a:lnTo>
                    <a:pt x="2096" y="552"/>
                  </a:lnTo>
                  <a:lnTo>
                    <a:pt x="2106" y="558"/>
                  </a:lnTo>
                  <a:lnTo>
                    <a:pt x="2114" y="568"/>
                  </a:lnTo>
                  <a:lnTo>
                    <a:pt x="2124" y="578"/>
                  </a:lnTo>
                  <a:lnTo>
                    <a:pt x="2124" y="578"/>
                  </a:lnTo>
                  <a:lnTo>
                    <a:pt x="2106" y="574"/>
                  </a:lnTo>
                  <a:lnTo>
                    <a:pt x="2088" y="572"/>
                  </a:lnTo>
                  <a:lnTo>
                    <a:pt x="2070" y="574"/>
                  </a:lnTo>
                  <a:lnTo>
                    <a:pt x="2054" y="578"/>
                  </a:lnTo>
                  <a:lnTo>
                    <a:pt x="2036" y="586"/>
                  </a:lnTo>
                  <a:lnTo>
                    <a:pt x="2022" y="594"/>
                  </a:lnTo>
                  <a:lnTo>
                    <a:pt x="2008" y="604"/>
                  </a:lnTo>
                  <a:lnTo>
                    <a:pt x="2000" y="616"/>
                  </a:lnTo>
                  <a:lnTo>
                    <a:pt x="2000" y="616"/>
                  </a:lnTo>
                  <a:close/>
                  <a:moveTo>
                    <a:pt x="2546" y="908"/>
                  </a:moveTo>
                  <a:lnTo>
                    <a:pt x="2546" y="908"/>
                  </a:lnTo>
                  <a:lnTo>
                    <a:pt x="2558" y="898"/>
                  </a:lnTo>
                  <a:lnTo>
                    <a:pt x="2568" y="888"/>
                  </a:lnTo>
                  <a:lnTo>
                    <a:pt x="2576" y="876"/>
                  </a:lnTo>
                  <a:lnTo>
                    <a:pt x="2580" y="862"/>
                  </a:lnTo>
                  <a:lnTo>
                    <a:pt x="2582" y="848"/>
                  </a:lnTo>
                  <a:lnTo>
                    <a:pt x="2584" y="834"/>
                  </a:lnTo>
                  <a:lnTo>
                    <a:pt x="2580" y="820"/>
                  </a:lnTo>
                  <a:lnTo>
                    <a:pt x="2576" y="808"/>
                  </a:lnTo>
                  <a:lnTo>
                    <a:pt x="2576" y="808"/>
                  </a:lnTo>
                  <a:lnTo>
                    <a:pt x="2584" y="810"/>
                  </a:lnTo>
                  <a:lnTo>
                    <a:pt x="2592" y="814"/>
                  </a:lnTo>
                  <a:lnTo>
                    <a:pt x="2598" y="820"/>
                  </a:lnTo>
                  <a:lnTo>
                    <a:pt x="2602" y="826"/>
                  </a:lnTo>
                  <a:lnTo>
                    <a:pt x="2606" y="834"/>
                  </a:lnTo>
                  <a:lnTo>
                    <a:pt x="2608" y="842"/>
                  </a:lnTo>
                  <a:lnTo>
                    <a:pt x="2608" y="852"/>
                  </a:lnTo>
                  <a:lnTo>
                    <a:pt x="2606" y="860"/>
                  </a:lnTo>
                  <a:lnTo>
                    <a:pt x="2604" y="868"/>
                  </a:lnTo>
                  <a:lnTo>
                    <a:pt x="2600" y="876"/>
                  </a:lnTo>
                  <a:lnTo>
                    <a:pt x="2594" y="884"/>
                  </a:lnTo>
                  <a:lnTo>
                    <a:pt x="2588" y="892"/>
                  </a:lnTo>
                  <a:lnTo>
                    <a:pt x="2580" y="898"/>
                  </a:lnTo>
                  <a:lnTo>
                    <a:pt x="2570" y="902"/>
                  </a:lnTo>
                  <a:lnTo>
                    <a:pt x="2558" y="906"/>
                  </a:lnTo>
                  <a:lnTo>
                    <a:pt x="2546" y="908"/>
                  </a:lnTo>
                  <a:lnTo>
                    <a:pt x="2546" y="908"/>
                  </a:lnTo>
                  <a:close/>
                  <a:moveTo>
                    <a:pt x="1518" y="810"/>
                  </a:moveTo>
                  <a:lnTo>
                    <a:pt x="1518" y="810"/>
                  </a:lnTo>
                  <a:lnTo>
                    <a:pt x="1508" y="786"/>
                  </a:lnTo>
                  <a:lnTo>
                    <a:pt x="1502" y="764"/>
                  </a:lnTo>
                  <a:lnTo>
                    <a:pt x="1500" y="746"/>
                  </a:lnTo>
                  <a:lnTo>
                    <a:pt x="1500" y="730"/>
                  </a:lnTo>
                  <a:lnTo>
                    <a:pt x="1502" y="716"/>
                  </a:lnTo>
                  <a:lnTo>
                    <a:pt x="1508" y="704"/>
                  </a:lnTo>
                  <a:lnTo>
                    <a:pt x="1516" y="696"/>
                  </a:lnTo>
                  <a:lnTo>
                    <a:pt x="1524" y="688"/>
                  </a:lnTo>
                  <a:lnTo>
                    <a:pt x="1534" y="682"/>
                  </a:lnTo>
                  <a:lnTo>
                    <a:pt x="1546" y="680"/>
                  </a:lnTo>
                  <a:lnTo>
                    <a:pt x="1558" y="678"/>
                  </a:lnTo>
                  <a:lnTo>
                    <a:pt x="1570" y="676"/>
                  </a:lnTo>
                  <a:lnTo>
                    <a:pt x="1592" y="678"/>
                  </a:lnTo>
                  <a:lnTo>
                    <a:pt x="1614" y="684"/>
                  </a:lnTo>
                  <a:lnTo>
                    <a:pt x="1614" y="684"/>
                  </a:lnTo>
                  <a:lnTo>
                    <a:pt x="1624" y="690"/>
                  </a:lnTo>
                  <a:lnTo>
                    <a:pt x="1630" y="698"/>
                  </a:lnTo>
                  <a:lnTo>
                    <a:pt x="1634" y="706"/>
                  </a:lnTo>
                  <a:lnTo>
                    <a:pt x="1636" y="716"/>
                  </a:lnTo>
                  <a:lnTo>
                    <a:pt x="1636" y="724"/>
                  </a:lnTo>
                  <a:lnTo>
                    <a:pt x="1630" y="730"/>
                  </a:lnTo>
                  <a:lnTo>
                    <a:pt x="1624" y="732"/>
                  </a:lnTo>
                  <a:lnTo>
                    <a:pt x="1614" y="732"/>
                  </a:lnTo>
                  <a:lnTo>
                    <a:pt x="1614" y="732"/>
                  </a:lnTo>
                  <a:lnTo>
                    <a:pt x="1588" y="726"/>
                  </a:lnTo>
                  <a:lnTo>
                    <a:pt x="1578" y="726"/>
                  </a:lnTo>
                  <a:lnTo>
                    <a:pt x="1568" y="728"/>
                  </a:lnTo>
                  <a:lnTo>
                    <a:pt x="1560" y="730"/>
                  </a:lnTo>
                  <a:lnTo>
                    <a:pt x="1554" y="732"/>
                  </a:lnTo>
                  <a:lnTo>
                    <a:pt x="1548" y="736"/>
                  </a:lnTo>
                  <a:lnTo>
                    <a:pt x="1544" y="742"/>
                  </a:lnTo>
                  <a:lnTo>
                    <a:pt x="1538" y="756"/>
                  </a:lnTo>
                  <a:lnTo>
                    <a:pt x="1532" y="772"/>
                  </a:lnTo>
                  <a:lnTo>
                    <a:pt x="1526" y="790"/>
                  </a:lnTo>
                  <a:lnTo>
                    <a:pt x="1518" y="810"/>
                  </a:lnTo>
                  <a:lnTo>
                    <a:pt x="1518" y="810"/>
                  </a:lnTo>
                  <a:close/>
                  <a:moveTo>
                    <a:pt x="1902" y="666"/>
                  </a:moveTo>
                  <a:lnTo>
                    <a:pt x="1902" y="666"/>
                  </a:lnTo>
                  <a:lnTo>
                    <a:pt x="1900" y="684"/>
                  </a:lnTo>
                  <a:lnTo>
                    <a:pt x="1898" y="700"/>
                  </a:lnTo>
                  <a:lnTo>
                    <a:pt x="1894" y="718"/>
                  </a:lnTo>
                  <a:lnTo>
                    <a:pt x="1888" y="732"/>
                  </a:lnTo>
                  <a:lnTo>
                    <a:pt x="1882" y="748"/>
                  </a:lnTo>
                  <a:lnTo>
                    <a:pt x="1876" y="760"/>
                  </a:lnTo>
                  <a:lnTo>
                    <a:pt x="1870" y="772"/>
                  </a:lnTo>
                  <a:lnTo>
                    <a:pt x="1862" y="782"/>
                  </a:lnTo>
                  <a:lnTo>
                    <a:pt x="1852" y="790"/>
                  </a:lnTo>
                  <a:lnTo>
                    <a:pt x="1844" y="796"/>
                  </a:lnTo>
                  <a:lnTo>
                    <a:pt x="1834" y="800"/>
                  </a:lnTo>
                  <a:lnTo>
                    <a:pt x="1824" y="802"/>
                  </a:lnTo>
                  <a:lnTo>
                    <a:pt x="1814" y="804"/>
                  </a:lnTo>
                  <a:lnTo>
                    <a:pt x="1804" y="800"/>
                  </a:lnTo>
                  <a:lnTo>
                    <a:pt x="1792" y="796"/>
                  </a:lnTo>
                  <a:lnTo>
                    <a:pt x="1782" y="790"/>
                  </a:lnTo>
                  <a:lnTo>
                    <a:pt x="1782" y="790"/>
                  </a:lnTo>
                  <a:lnTo>
                    <a:pt x="1800" y="782"/>
                  </a:lnTo>
                  <a:lnTo>
                    <a:pt x="1818" y="774"/>
                  </a:lnTo>
                  <a:lnTo>
                    <a:pt x="1834" y="764"/>
                  </a:lnTo>
                  <a:lnTo>
                    <a:pt x="1850" y="750"/>
                  </a:lnTo>
                  <a:lnTo>
                    <a:pt x="1864" y="734"/>
                  </a:lnTo>
                  <a:lnTo>
                    <a:pt x="1878" y="716"/>
                  </a:lnTo>
                  <a:lnTo>
                    <a:pt x="1890" y="692"/>
                  </a:lnTo>
                  <a:lnTo>
                    <a:pt x="1902" y="666"/>
                  </a:lnTo>
                  <a:lnTo>
                    <a:pt x="1902" y="666"/>
                  </a:lnTo>
                  <a:close/>
                  <a:moveTo>
                    <a:pt x="1036" y="806"/>
                  </a:moveTo>
                  <a:lnTo>
                    <a:pt x="1036" y="806"/>
                  </a:lnTo>
                  <a:lnTo>
                    <a:pt x="1038" y="794"/>
                  </a:lnTo>
                  <a:lnTo>
                    <a:pt x="1040" y="784"/>
                  </a:lnTo>
                  <a:lnTo>
                    <a:pt x="1046" y="774"/>
                  </a:lnTo>
                  <a:lnTo>
                    <a:pt x="1050" y="766"/>
                  </a:lnTo>
                  <a:lnTo>
                    <a:pt x="1058" y="760"/>
                  </a:lnTo>
                  <a:lnTo>
                    <a:pt x="1066" y="754"/>
                  </a:lnTo>
                  <a:lnTo>
                    <a:pt x="1074" y="750"/>
                  </a:lnTo>
                  <a:lnTo>
                    <a:pt x="1084" y="746"/>
                  </a:lnTo>
                  <a:lnTo>
                    <a:pt x="1094" y="744"/>
                  </a:lnTo>
                  <a:lnTo>
                    <a:pt x="1102" y="744"/>
                  </a:lnTo>
                  <a:lnTo>
                    <a:pt x="1112" y="744"/>
                  </a:lnTo>
                  <a:lnTo>
                    <a:pt x="1122" y="744"/>
                  </a:lnTo>
                  <a:lnTo>
                    <a:pt x="1132" y="748"/>
                  </a:lnTo>
                  <a:lnTo>
                    <a:pt x="1140" y="752"/>
                  </a:lnTo>
                  <a:lnTo>
                    <a:pt x="1148" y="756"/>
                  </a:lnTo>
                  <a:lnTo>
                    <a:pt x="1154" y="764"/>
                  </a:lnTo>
                  <a:lnTo>
                    <a:pt x="1154" y="764"/>
                  </a:lnTo>
                  <a:lnTo>
                    <a:pt x="1152" y="766"/>
                  </a:lnTo>
                  <a:lnTo>
                    <a:pt x="1150" y="770"/>
                  </a:lnTo>
                  <a:lnTo>
                    <a:pt x="1138" y="772"/>
                  </a:lnTo>
                  <a:lnTo>
                    <a:pt x="1102" y="774"/>
                  </a:lnTo>
                  <a:lnTo>
                    <a:pt x="1082" y="776"/>
                  </a:lnTo>
                  <a:lnTo>
                    <a:pt x="1064" y="780"/>
                  </a:lnTo>
                  <a:lnTo>
                    <a:pt x="1056" y="784"/>
                  </a:lnTo>
                  <a:lnTo>
                    <a:pt x="1048" y="790"/>
                  </a:lnTo>
                  <a:lnTo>
                    <a:pt x="1042" y="798"/>
                  </a:lnTo>
                  <a:lnTo>
                    <a:pt x="1036" y="806"/>
                  </a:lnTo>
                  <a:lnTo>
                    <a:pt x="1036" y="806"/>
                  </a:lnTo>
                  <a:close/>
                  <a:moveTo>
                    <a:pt x="192" y="914"/>
                  </a:moveTo>
                  <a:lnTo>
                    <a:pt x="192" y="914"/>
                  </a:lnTo>
                  <a:lnTo>
                    <a:pt x="242" y="910"/>
                  </a:lnTo>
                  <a:lnTo>
                    <a:pt x="288" y="900"/>
                  </a:lnTo>
                  <a:lnTo>
                    <a:pt x="330" y="888"/>
                  </a:lnTo>
                  <a:lnTo>
                    <a:pt x="368" y="874"/>
                  </a:lnTo>
                  <a:lnTo>
                    <a:pt x="402" y="856"/>
                  </a:lnTo>
                  <a:lnTo>
                    <a:pt x="430" y="838"/>
                  </a:lnTo>
                  <a:lnTo>
                    <a:pt x="452" y="818"/>
                  </a:lnTo>
                  <a:lnTo>
                    <a:pt x="470" y="798"/>
                  </a:lnTo>
                  <a:lnTo>
                    <a:pt x="470" y="798"/>
                  </a:lnTo>
                  <a:lnTo>
                    <a:pt x="472" y="812"/>
                  </a:lnTo>
                  <a:lnTo>
                    <a:pt x="472" y="826"/>
                  </a:lnTo>
                  <a:lnTo>
                    <a:pt x="468" y="838"/>
                  </a:lnTo>
                  <a:lnTo>
                    <a:pt x="464" y="850"/>
                  </a:lnTo>
                  <a:lnTo>
                    <a:pt x="456" y="870"/>
                  </a:lnTo>
                  <a:lnTo>
                    <a:pt x="450" y="876"/>
                  </a:lnTo>
                  <a:lnTo>
                    <a:pt x="450" y="876"/>
                  </a:lnTo>
                  <a:lnTo>
                    <a:pt x="498" y="858"/>
                  </a:lnTo>
                  <a:lnTo>
                    <a:pt x="520" y="850"/>
                  </a:lnTo>
                  <a:lnTo>
                    <a:pt x="542" y="844"/>
                  </a:lnTo>
                  <a:lnTo>
                    <a:pt x="564" y="840"/>
                  </a:lnTo>
                  <a:lnTo>
                    <a:pt x="586" y="840"/>
                  </a:lnTo>
                  <a:lnTo>
                    <a:pt x="606" y="842"/>
                  </a:lnTo>
                  <a:lnTo>
                    <a:pt x="628" y="848"/>
                  </a:lnTo>
                  <a:lnTo>
                    <a:pt x="628" y="848"/>
                  </a:lnTo>
                  <a:lnTo>
                    <a:pt x="608" y="858"/>
                  </a:lnTo>
                  <a:lnTo>
                    <a:pt x="588" y="868"/>
                  </a:lnTo>
                  <a:lnTo>
                    <a:pt x="564" y="878"/>
                  </a:lnTo>
                  <a:lnTo>
                    <a:pt x="540" y="886"/>
                  </a:lnTo>
                  <a:lnTo>
                    <a:pt x="488" y="902"/>
                  </a:lnTo>
                  <a:lnTo>
                    <a:pt x="430" y="912"/>
                  </a:lnTo>
                  <a:lnTo>
                    <a:pt x="372" y="920"/>
                  </a:lnTo>
                  <a:lnTo>
                    <a:pt x="310" y="922"/>
                  </a:lnTo>
                  <a:lnTo>
                    <a:pt x="280" y="922"/>
                  </a:lnTo>
                  <a:lnTo>
                    <a:pt x="250" y="922"/>
                  </a:lnTo>
                  <a:lnTo>
                    <a:pt x="220" y="918"/>
                  </a:lnTo>
                  <a:lnTo>
                    <a:pt x="192" y="914"/>
                  </a:lnTo>
                  <a:lnTo>
                    <a:pt x="192" y="914"/>
                  </a:lnTo>
                  <a:close/>
                </a:path>
              </a:pathLst>
            </a:custGeom>
            <a:solidFill>
              <a:srgbClr val="cabb8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2"/>
            <p:cNvSpPr/>
            <p:nvPr/>
          </p:nvSpPr>
          <p:spPr>
            <a:xfrm>
              <a:off x="2046240" y="8283600"/>
              <a:ext cx="612720" cy="76176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386" h="480">
                  <a:moveTo>
                    <a:pt x="386" y="328"/>
                  </a:moveTo>
                  <a:lnTo>
                    <a:pt x="386" y="328"/>
                  </a:lnTo>
                  <a:lnTo>
                    <a:pt x="382" y="312"/>
                  </a:lnTo>
                  <a:lnTo>
                    <a:pt x="378" y="298"/>
                  </a:lnTo>
                  <a:lnTo>
                    <a:pt x="372" y="286"/>
                  </a:lnTo>
                  <a:lnTo>
                    <a:pt x="364" y="272"/>
                  </a:lnTo>
                  <a:lnTo>
                    <a:pt x="354" y="262"/>
                  </a:lnTo>
                  <a:lnTo>
                    <a:pt x="342" y="254"/>
                  </a:lnTo>
                  <a:lnTo>
                    <a:pt x="332" y="246"/>
                  </a:lnTo>
                  <a:lnTo>
                    <a:pt x="318" y="242"/>
                  </a:lnTo>
                  <a:lnTo>
                    <a:pt x="306" y="242"/>
                  </a:lnTo>
                  <a:lnTo>
                    <a:pt x="292" y="242"/>
                  </a:lnTo>
                  <a:lnTo>
                    <a:pt x="278" y="248"/>
                  </a:lnTo>
                  <a:lnTo>
                    <a:pt x="266" y="256"/>
                  </a:lnTo>
                  <a:lnTo>
                    <a:pt x="252" y="270"/>
                  </a:lnTo>
                  <a:lnTo>
                    <a:pt x="240" y="288"/>
                  </a:lnTo>
                  <a:lnTo>
                    <a:pt x="228" y="310"/>
                  </a:lnTo>
                  <a:lnTo>
                    <a:pt x="216" y="336"/>
                  </a:lnTo>
                  <a:lnTo>
                    <a:pt x="216" y="336"/>
                  </a:lnTo>
                  <a:lnTo>
                    <a:pt x="232" y="332"/>
                  </a:lnTo>
                  <a:lnTo>
                    <a:pt x="248" y="328"/>
                  </a:lnTo>
                  <a:lnTo>
                    <a:pt x="260" y="328"/>
                  </a:lnTo>
                  <a:lnTo>
                    <a:pt x="272" y="328"/>
                  </a:lnTo>
                  <a:lnTo>
                    <a:pt x="284" y="330"/>
                  </a:lnTo>
                  <a:lnTo>
                    <a:pt x="292" y="334"/>
                  </a:lnTo>
                  <a:lnTo>
                    <a:pt x="300" y="338"/>
                  </a:lnTo>
                  <a:lnTo>
                    <a:pt x="306" y="342"/>
                  </a:lnTo>
                  <a:lnTo>
                    <a:pt x="310" y="350"/>
                  </a:lnTo>
                  <a:lnTo>
                    <a:pt x="314" y="356"/>
                  </a:lnTo>
                  <a:lnTo>
                    <a:pt x="316" y="364"/>
                  </a:lnTo>
                  <a:lnTo>
                    <a:pt x="318" y="372"/>
                  </a:lnTo>
                  <a:lnTo>
                    <a:pt x="316" y="380"/>
                  </a:lnTo>
                  <a:lnTo>
                    <a:pt x="316" y="388"/>
                  </a:lnTo>
                  <a:lnTo>
                    <a:pt x="308" y="404"/>
                  </a:lnTo>
                  <a:lnTo>
                    <a:pt x="308" y="404"/>
                  </a:lnTo>
                  <a:lnTo>
                    <a:pt x="298" y="416"/>
                  </a:lnTo>
                  <a:lnTo>
                    <a:pt x="284" y="428"/>
                  </a:lnTo>
                  <a:lnTo>
                    <a:pt x="268" y="436"/>
                  </a:lnTo>
                  <a:lnTo>
                    <a:pt x="252" y="440"/>
                  </a:lnTo>
                  <a:lnTo>
                    <a:pt x="234" y="442"/>
                  </a:lnTo>
                  <a:lnTo>
                    <a:pt x="216" y="440"/>
                  </a:lnTo>
                  <a:lnTo>
                    <a:pt x="200" y="438"/>
                  </a:lnTo>
                  <a:lnTo>
                    <a:pt x="186" y="432"/>
                  </a:lnTo>
                  <a:lnTo>
                    <a:pt x="186" y="432"/>
                  </a:lnTo>
                  <a:lnTo>
                    <a:pt x="200" y="420"/>
                  </a:lnTo>
                  <a:lnTo>
                    <a:pt x="208" y="408"/>
                  </a:lnTo>
                  <a:lnTo>
                    <a:pt x="212" y="396"/>
                  </a:lnTo>
                  <a:lnTo>
                    <a:pt x="214" y="386"/>
                  </a:lnTo>
                  <a:lnTo>
                    <a:pt x="212" y="378"/>
                  </a:lnTo>
                  <a:lnTo>
                    <a:pt x="210" y="370"/>
                  </a:lnTo>
                  <a:lnTo>
                    <a:pt x="208" y="364"/>
                  </a:lnTo>
                  <a:lnTo>
                    <a:pt x="208" y="364"/>
                  </a:lnTo>
                  <a:lnTo>
                    <a:pt x="196" y="372"/>
                  </a:lnTo>
                  <a:lnTo>
                    <a:pt x="182" y="376"/>
                  </a:lnTo>
                  <a:lnTo>
                    <a:pt x="168" y="380"/>
                  </a:lnTo>
                  <a:lnTo>
                    <a:pt x="152" y="378"/>
                  </a:lnTo>
                  <a:lnTo>
                    <a:pt x="136" y="376"/>
                  </a:lnTo>
                  <a:lnTo>
                    <a:pt x="120" y="372"/>
                  </a:lnTo>
                  <a:lnTo>
                    <a:pt x="104" y="364"/>
                  </a:lnTo>
                  <a:lnTo>
                    <a:pt x="90" y="356"/>
                  </a:lnTo>
                  <a:lnTo>
                    <a:pt x="78" y="346"/>
                  </a:lnTo>
                  <a:lnTo>
                    <a:pt x="68" y="332"/>
                  </a:lnTo>
                  <a:lnTo>
                    <a:pt x="62" y="318"/>
                  </a:lnTo>
                  <a:lnTo>
                    <a:pt x="58" y="302"/>
                  </a:lnTo>
                  <a:lnTo>
                    <a:pt x="58" y="282"/>
                  </a:lnTo>
                  <a:lnTo>
                    <a:pt x="64" y="264"/>
                  </a:lnTo>
                  <a:lnTo>
                    <a:pt x="74" y="242"/>
                  </a:lnTo>
                  <a:lnTo>
                    <a:pt x="90" y="220"/>
                  </a:lnTo>
                  <a:lnTo>
                    <a:pt x="90" y="220"/>
                  </a:lnTo>
                  <a:lnTo>
                    <a:pt x="80" y="222"/>
                  </a:lnTo>
                  <a:lnTo>
                    <a:pt x="68" y="220"/>
                  </a:lnTo>
                  <a:lnTo>
                    <a:pt x="58" y="214"/>
                  </a:lnTo>
                  <a:lnTo>
                    <a:pt x="50" y="204"/>
                  </a:lnTo>
                  <a:lnTo>
                    <a:pt x="44" y="192"/>
                  </a:lnTo>
                  <a:lnTo>
                    <a:pt x="42" y="178"/>
                  </a:lnTo>
                  <a:lnTo>
                    <a:pt x="44" y="160"/>
                  </a:lnTo>
                  <a:lnTo>
                    <a:pt x="50" y="142"/>
                  </a:lnTo>
                  <a:lnTo>
                    <a:pt x="50" y="142"/>
                  </a:lnTo>
                  <a:lnTo>
                    <a:pt x="56" y="132"/>
                  </a:lnTo>
                  <a:lnTo>
                    <a:pt x="68" y="122"/>
                  </a:lnTo>
                  <a:lnTo>
                    <a:pt x="82" y="114"/>
                  </a:lnTo>
                  <a:lnTo>
                    <a:pt x="98" y="110"/>
                  </a:lnTo>
                  <a:lnTo>
                    <a:pt x="106" y="110"/>
                  </a:lnTo>
                  <a:lnTo>
                    <a:pt x="114" y="110"/>
                  </a:lnTo>
                  <a:lnTo>
                    <a:pt x="122" y="114"/>
                  </a:lnTo>
                  <a:lnTo>
                    <a:pt x="130" y="118"/>
                  </a:lnTo>
                  <a:lnTo>
                    <a:pt x="136" y="124"/>
                  </a:lnTo>
                  <a:lnTo>
                    <a:pt x="144" y="132"/>
                  </a:lnTo>
                  <a:lnTo>
                    <a:pt x="150" y="144"/>
                  </a:lnTo>
                  <a:lnTo>
                    <a:pt x="154" y="158"/>
                  </a:lnTo>
                  <a:lnTo>
                    <a:pt x="154" y="158"/>
                  </a:lnTo>
                  <a:lnTo>
                    <a:pt x="162" y="150"/>
                  </a:lnTo>
                  <a:lnTo>
                    <a:pt x="166" y="142"/>
                  </a:lnTo>
                  <a:lnTo>
                    <a:pt x="170" y="134"/>
                  </a:lnTo>
                  <a:lnTo>
                    <a:pt x="172" y="126"/>
                  </a:lnTo>
                  <a:lnTo>
                    <a:pt x="172" y="116"/>
                  </a:lnTo>
                  <a:lnTo>
                    <a:pt x="170" y="106"/>
                  </a:lnTo>
                  <a:lnTo>
                    <a:pt x="166" y="96"/>
                  </a:lnTo>
                  <a:lnTo>
                    <a:pt x="162" y="84"/>
                  </a:lnTo>
                  <a:lnTo>
                    <a:pt x="162" y="84"/>
                  </a:lnTo>
                  <a:lnTo>
                    <a:pt x="176" y="88"/>
                  </a:lnTo>
                  <a:lnTo>
                    <a:pt x="188" y="92"/>
                  </a:lnTo>
                  <a:lnTo>
                    <a:pt x="200" y="98"/>
                  </a:lnTo>
                  <a:lnTo>
                    <a:pt x="210" y="106"/>
                  </a:lnTo>
                  <a:lnTo>
                    <a:pt x="220" y="114"/>
                  </a:lnTo>
                  <a:lnTo>
                    <a:pt x="226" y="124"/>
                  </a:lnTo>
                  <a:lnTo>
                    <a:pt x="232" y="134"/>
                  </a:lnTo>
                  <a:lnTo>
                    <a:pt x="234" y="144"/>
                  </a:lnTo>
                  <a:lnTo>
                    <a:pt x="236" y="154"/>
                  </a:lnTo>
                  <a:lnTo>
                    <a:pt x="236" y="162"/>
                  </a:lnTo>
                  <a:lnTo>
                    <a:pt x="234" y="172"/>
                  </a:lnTo>
                  <a:lnTo>
                    <a:pt x="228" y="180"/>
                  </a:lnTo>
                  <a:lnTo>
                    <a:pt x="220" y="186"/>
                  </a:lnTo>
                  <a:lnTo>
                    <a:pt x="210" y="190"/>
                  </a:lnTo>
                  <a:lnTo>
                    <a:pt x="198" y="194"/>
                  </a:lnTo>
                  <a:lnTo>
                    <a:pt x="182" y="194"/>
                  </a:lnTo>
                  <a:lnTo>
                    <a:pt x="182" y="194"/>
                  </a:lnTo>
                  <a:lnTo>
                    <a:pt x="198" y="198"/>
                  </a:lnTo>
                  <a:lnTo>
                    <a:pt x="212" y="200"/>
                  </a:lnTo>
                  <a:lnTo>
                    <a:pt x="226" y="200"/>
                  </a:lnTo>
                  <a:lnTo>
                    <a:pt x="238" y="198"/>
                  </a:lnTo>
                  <a:lnTo>
                    <a:pt x="248" y="194"/>
                  </a:lnTo>
                  <a:lnTo>
                    <a:pt x="258" y="188"/>
                  </a:lnTo>
                  <a:lnTo>
                    <a:pt x="266" y="182"/>
                  </a:lnTo>
                  <a:lnTo>
                    <a:pt x="272" y="174"/>
                  </a:lnTo>
                  <a:lnTo>
                    <a:pt x="278" y="166"/>
                  </a:lnTo>
                  <a:lnTo>
                    <a:pt x="282" y="156"/>
                  </a:lnTo>
                  <a:lnTo>
                    <a:pt x="286" y="146"/>
                  </a:lnTo>
                  <a:lnTo>
                    <a:pt x="288" y="136"/>
                  </a:lnTo>
                  <a:lnTo>
                    <a:pt x="288" y="114"/>
                  </a:lnTo>
                  <a:lnTo>
                    <a:pt x="284" y="90"/>
                  </a:lnTo>
                  <a:lnTo>
                    <a:pt x="274" y="68"/>
                  </a:lnTo>
                  <a:lnTo>
                    <a:pt x="262" y="46"/>
                  </a:lnTo>
                  <a:lnTo>
                    <a:pt x="254" y="36"/>
                  </a:lnTo>
                  <a:lnTo>
                    <a:pt x="244" y="28"/>
                  </a:lnTo>
                  <a:lnTo>
                    <a:pt x="234" y="20"/>
                  </a:lnTo>
                  <a:lnTo>
                    <a:pt x="224" y="14"/>
                  </a:lnTo>
                  <a:lnTo>
                    <a:pt x="212" y="8"/>
                  </a:lnTo>
                  <a:lnTo>
                    <a:pt x="200" y="4"/>
                  </a:lnTo>
                  <a:lnTo>
                    <a:pt x="186" y="0"/>
                  </a:lnTo>
                  <a:lnTo>
                    <a:pt x="170" y="0"/>
                  </a:lnTo>
                  <a:lnTo>
                    <a:pt x="156" y="0"/>
                  </a:lnTo>
                  <a:lnTo>
                    <a:pt x="140" y="2"/>
                  </a:lnTo>
                  <a:lnTo>
                    <a:pt x="122" y="8"/>
                  </a:lnTo>
                  <a:lnTo>
                    <a:pt x="104" y="14"/>
                  </a:lnTo>
                  <a:lnTo>
                    <a:pt x="104" y="14"/>
                  </a:lnTo>
                  <a:lnTo>
                    <a:pt x="94" y="20"/>
                  </a:lnTo>
                  <a:lnTo>
                    <a:pt x="84" y="28"/>
                  </a:lnTo>
                  <a:lnTo>
                    <a:pt x="74" y="38"/>
                  </a:lnTo>
                  <a:lnTo>
                    <a:pt x="64" y="50"/>
                  </a:lnTo>
                  <a:lnTo>
                    <a:pt x="44" y="78"/>
                  </a:lnTo>
                  <a:lnTo>
                    <a:pt x="28" y="108"/>
                  </a:lnTo>
                  <a:lnTo>
                    <a:pt x="28" y="108"/>
                  </a:lnTo>
                  <a:lnTo>
                    <a:pt x="20" y="128"/>
                  </a:lnTo>
                  <a:lnTo>
                    <a:pt x="12" y="148"/>
                  </a:lnTo>
                  <a:lnTo>
                    <a:pt x="8" y="170"/>
                  </a:lnTo>
                  <a:lnTo>
                    <a:pt x="4" y="188"/>
                  </a:lnTo>
                  <a:lnTo>
                    <a:pt x="2" y="208"/>
                  </a:lnTo>
                  <a:lnTo>
                    <a:pt x="0" y="228"/>
                  </a:lnTo>
                  <a:lnTo>
                    <a:pt x="2" y="246"/>
                  </a:lnTo>
                  <a:lnTo>
                    <a:pt x="2" y="264"/>
                  </a:lnTo>
                  <a:lnTo>
                    <a:pt x="8" y="298"/>
                  </a:lnTo>
                  <a:lnTo>
                    <a:pt x="18" y="330"/>
                  </a:lnTo>
                  <a:lnTo>
                    <a:pt x="32" y="358"/>
                  </a:lnTo>
                  <a:lnTo>
                    <a:pt x="50" y="386"/>
                  </a:lnTo>
                  <a:lnTo>
                    <a:pt x="70" y="408"/>
                  </a:lnTo>
                  <a:lnTo>
                    <a:pt x="92" y="430"/>
                  </a:lnTo>
                  <a:lnTo>
                    <a:pt x="116" y="446"/>
                  </a:lnTo>
                  <a:lnTo>
                    <a:pt x="140" y="460"/>
                  </a:lnTo>
                  <a:lnTo>
                    <a:pt x="168" y="470"/>
                  </a:lnTo>
                  <a:lnTo>
                    <a:pt x="194" y="478"/>
                  </a:lnTo>
                  <a:lnTo>
                    <a:pt x="222" y="480"/>
                  </a:lnTo>
                  <a:lnTo>
                    <a:pt x="248" y="478"/>
                  </a:lnTo>
                  <a:lnTo>
                    <a:pt x="248" y="478"/>
                  </a:lnTo>
                  <a:lnTo>
                    <a:pt x="264" y="474"/>
                  </a:lnTo>
                  <a:lnTo>
                    <a:pt x="280" y="470"/>
                  </a:lnTo>
                  <a:lnTo>
                    <a:pt x="294" y="464"/>
                  </a:lnTo>
                  <a:lnTo>
                    <a:pt x="306" y="456"/>
                  </a:lnTo>
                  <a:lnTo>
                    <a:pt x="320" y="448"/>
                  </a:lnTo>
                  <a:lnTo>
                    <a:pt x="332" y="440"/>
                  </a:lnTo>
                  <a:lnTo>
                    <a:pt x="342" y="430"/>
                  </a:lnTo>
                  <a:lnTo>
                    <a:pt x="352" y="420"/>
                  </a:lnTo>
                  <a:lnTo>
                    <a:pt x="368" y="396"/>
                  </a:lnTo>
                  <a:lnTo>
                    <a:pt x="378" y="374"/>
                  </a:lnTo>
                  <a:lnTo>
                    <a:pt x="382" y="362"/>
                  </a:lnTo>
                  <a:lnTo>
                    <a:pt x="384" y="350"/>
                  </a:lnTo>
                  <a:lnTo>
                    <a:pt x="386" y="338"/>
                  </a:lnTo>
                  <a:lnTo>
                    <a:pt x="386" y="328"/>
                  </a:lnTo>
                  <a:lnTo>
                    <a:pt x="386" y="328"/>
                  </a:lnTo>
                  <a:close/>
                  <a:moveTo>
                    <a:pt x="128" y="54"/>
                  </a:moveTo>
                  <a:lnTo>
                    <a:pt x="128" y="54"/>
                  </a:lnTo>
                  <a:lnTo>
                    <a:pt x="136" y="46"/>
                  </a:lnTo>
                  <a:lnTo>
                    <a:pt x="146" y="38"/>
                  </a:lnTo>
                  <a:lnTo>
                    <a:pt x="156" y="34"/>
                  </a:lnTo>
                  <a:lnTo>
                    <a:pt x="168" y="30"/>
                  </a:lnTo>
                  <a:lnTo>
                    <a:pt x="178" y="28"/>
                  </a:lnTo>
                  <a:lnTo>
                    <a:pt x="188" y="26"/>
                  </a:lnTo>
                  <a:lnTo>
                    <a:pt x="198" y="28"/>
                  </a:lnTo>
                  <a:lnTo>
                    <a:pt x="208" y="30"/>
                  </a:lnTo>
                  <a:lnTo>
                    <a:pt x="216" y="34"/>
                  </a:lnTo>
                  <a:lnTo>
                    <a:pt x="224" y="38"/>
                  </a:lnTo>
                  <a:lnTo>
                    <a:pt x="232" y="44"/>
                  </a:lnTo>
                  <a:lnTo>
                    <a:pt x="238" y="52"/>
                  </a:lnTo>
                  <a:lnTo>
                    <a:pt x="244" y="62"/>
                  </a:lnTo>
                  <a:lnTo>
                    <a:pt x="246" y="74"/>
                  </a:lnTo>
                  <a:lnTo>
                    <a:pt x="248" y="86"/>
                  </a:lnTo>
                  <a:lnTo>
                    <a:pt x="248" y="100"/>
                  </a:lnTo>
                  <a:lnTo>
                    <a:pt x="248" y="100"/>
                  </a:lnTo>
                  <a:lnTo>
                    <a:pt x="238" y="86"/>
                  </a:lnTo>
                  <a:lnTo>
                    <a:pt x="226" y="74"/>
                  </a:lnTo>
                  <a:lnTo>
                    <a:pt x="210" y="64"/>
                  </a:lnTo>
                  <a:lnTo>
                    <a:pt x="194" y="56"/>
                  </a:lnTo>
                  <a:lnTo>
                    <a:pt x="176" y="52"/>
                  </a:lnTo>
                  <a:lnTo>
                    <a:pt x="158" y="50"/>
                  </a:lnTo>
                  <a:lnTo>
                    <a:pt x="142" y="50"/>
                  </a:lnTo>
                  <a:lnTo>
                    <a:pt x="128" y="54"/>
                  </a:lnTo>
                  <a:lnTo>
                    <a:pt x="128" y="54"/>
                  </a:lnTo>
                  <a:close/>
                </a:path>
              </a:pathLst>
            </a:custGeom>
            <a:solidFill>
              <a:srgbClr val="cabb8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3"/>
            <p:cNvSpPr/>
            <p:nvPr/>
          </p:nvSpPr>
          <p:spPr>
            <a:xfrm>
              <a:off x="1468440" y="7645320"/>
              <a:ext cx="460080" cy="43488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0" h="274">
                  <a:moveTo>
                    <a:pt x="94" y="266"/>
                  </a:moveTo>
                  <a:lnTo>
                    <a:pt x="94" y="266"/>
                  </a:lnTo>
                  <a:lnTo>
                    <a:pt x="102" y="270"/>
                  </a:lnTo>
                  <a:lnTo>
                    <a:pt x="112" y="272"/>
                  </a:lnTo>
                  <a:lnTo>
                    <a:pt x="140" y="274"/>
                  </a:lnTo>
                  <a:lnTo>
                    <a:pt x="168" y="272"/>
                  </a:lnTo>
                  <a:lnTo>
                    <a:pt x="180" y="270"/>
                  </a:lnTo>
                  <a:lnTo>
                    <a:pt x="188" y="268"/>
                  </a:lnTo>
                  <a:lnTo>
                    <a:pt x="188" y="268"/>
                  </a:lnTo>
                  <a:lnTo>
                    <a:pt x="216" y="258"/>
                  </a:lnTo>
                  <a:lnTo>
                    <a:pt x="242" y="248"/>
                  </a:lnTo>
                  <a:lnTo>
                    <a:pt x="254" y="240"/>
                  </a:lnTo>
                  <a:lnTo>
                    <a:pt x="266" y="232"/>
                  </a:lnTo>
                  <a:lnTo>
                    <a:pt x="278" y="220"/>
                  </a:lnTo>
                  <a:lnTo>
                    <a:pt x="290" y="206"/>
                  </a:lnTo>
                  <a:lnTo>
                    <a:pt x="290" y="206"/>
                  </a:lnTo>
                  <a:lnTo>
                    <a:pt x="260" y="190"/>
                  </a:lnTo>
                  <a:lnTo>
                    <a:pt x="236" y="178"/>
                  </a:lnTo>
                  <a:lnTo>
                    <a:pt x="236" y="178"/>
                  </a:lnTo>
                  <a:lnTo>
                    <a:pt x="240" y="164"/>
                  </a:lnTo>
                  <a:lnTo>
                    <a:pt x="242" y="150"/>
                  </a:lnTo>
                  <a:lnTo>
                    <a:pt x="242" y="136"/>
                  </a:lnTo>
                  <a:lnTo>
                    <a:pt x="242" y="124"/>
                  </a:lnTo>
                  <a:lnTo>
                    <a:pt x="238" y="112"/>
                  </a:lnTo>
                  <a:lnTo>
                    <a:pt x="234" y="102"/>
                  </a:lnTo>
                  <a:lnTo>
                    <a:pt x="228" y="94"/>
                  </a:lnTo>
                  <a:lnTo>
                    <a:pt x="220" y="86"/>
                  </a:lnTo>
                  <a:lnTo>
                    <a:pt x="210" y="80"/>
                  </a:lnTo>
                  <a:lnTo>
                    <a:pt x="200" y="76"/>
                  </a:lnTo>
                  <a:lnTo>
                    <a:pt x="190" y="72"/>
                  </a:lnTo>
                  <a:lnTo>
                    <a:pt x="178" y="72"/>
                  </a:lnTo>
                  <a:lnTo>
                    <a:pt x="164" y="74"/>
                  </a:lnTo>
                  <a:lnTo>
                    <a:pt x="152" y="78"/>
                  </a:lnTo>
                  <a:lnTo>
                    <a:pt x="138" y="86"/>
                  </a:lnTo>
                  <a:lnTo>
                    <a:pt x="122" y="96"/>
                  </a:lnTo>
                  <a:lnTo>
                    <a:pt x="122" y="96"/>
                  </a:lnTo>
                  <a:lnTo>
                    <a:pt x="138" y="98"/>
                  </a:lnTo>
                  <a:lnTo>
                    <a:pt x="148" y="104"/>
                  </a:lnTo>
                  <a:lnTo>
                    <a:pt x="154" y="112"/>
                  </a:lnTo>
                  <a:lnTo>
                    <a:pt x="156" y="122"/>
                  </a:lnTo>
                  <a:lnTo>
                    <a:pt x="154" y="132"/>
                  </a:lnTo>
                  <a:lnTo>
                    <a:pt x="148" y="142"/>
                  </a:lnTo>
                  <a:lnTo>
                    <a:pt x="142" y="152"/>
                  </a:lnTo>
                  <a:lnTo>
                    <a:pt x="132" y="162"/>
                  </a:lnTo>
                  <a:lnTo>
                    <a:pt x="122" y="168"/>
                  </a:lnTo>
                  <a:lnTo>
                    <a:pt x="110" y="174"/>
                  </a:lnTo>
                  <a:lnTo>
                    <a:pt x="98" y="176"/>
                  </a:lnTo>
                  <a:lnTo>
                    <a:pt x="86" y="174"/>
                  </a:lnTo>
                  <a:lnTo>
                    <a:pt x="74" y="166"/>
                  </a:lnTo>
                  <a:lnTo>
                    <a:pt x="64" y="156"/>
                  </a:lnTo>
                  <a:lnTo>
                    <a:pt x="54" y="138"/>
                  </a:lnTo>
                  <a:lnTo>
                    <a:pt x="48" y="114"/>
                  </a:lnTo>
                  <a:lnTo>
                    <a:pt x="48" y="114"/>
                  </a:lnTo>
                  <a:lnTo>
                    <a:pt x="46" y="104"/>
                  </a:lnTo>
                  <a:lnTo>
                    <a:pt x="46" y="94"/>
                  </a:lnTo>
                  <a:lnTo>
                    <a:pt x="48" y="86"/>
                  </a:lnTo>
                  <a:lnTo>
                    <a:pt x="50" y="76"/>
                  </a:lnTo>
                  <a:lnTo>
                    <a:pt x="54" y="68"/>
                  </a:lnTo>
                  <a:lnTo>
                    <a:pt x="58" y="60"/>
                  </a:lnTo>
                  <a:lnTo>
                    <a:pt x="64" y="52"/>
                  </a:lnTo>
                  <a:lnTo>
                    <a:pt x="72" y="46"/>
                  </a:lnTo>
                  <a:lnTo>
                    <a:pt x="80" y="40"/>
                  </a:lnTo>
                  <a:lnTo>
                    <a:pt x="90" y="34"/>
                  </a:lnTo>
                  <a:lnTo>
                    <a:pt x="100" y="30"/>
                  </a:lnTo>
                  <a:lnTo>
                    <a:pt x="112" y="26"/>
                  </a:lnTo>
                  <a:lnTo>
                    <a:pt x="124" y="22"/>
                  </a:lnTo>
                  <a:lnTo>
                    <a:pt x="138" y="22"/>
                  </a:lnTo>
                  <a:lnTo>
                    <a:pt x="152" y="20"/>
                  </a:lnTo>
                  <a:lnTo>
                    <a:pt x="168" y="22"/>
                  </a:lnTo>
                  <a:lnTo>
                    <a:pt x="168" y="22"/>
                  </a:lnTo>
                  <a:lnTo>
                    <a:pt x="156" y="12"/>
                  </a:lnTo>
                  <a:lnTo>
                    <a:pt x="142" y="4"/>
                  </a:lnTo>
                  <a:lnTo>
                    <a:pt x="126" y="2"/>
                  </a:lnTo>
                  <a:lnTo>
                    <a:pt x="108" y="0"/>
                  </a:lnTo>
                  <a:lnTo>
                    <a:pt x="90" y="2"/>
                  </a:lnTo>
                  <a:lnTo>
                    <a:pt x="72" y="6"/>
                  </a:lnTo>
                  <a:lnTo>
                    <a:pt x="56" y="1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4" y="28"/>
                  </a:lnTo>
                  <a:lnTo>
                    <a:pt x="28" y="36"/>
                  </a:lnTo>
                  <a:lnTo>
                    <a:pt x="16" y="52"/>
                  </a:lnTo>
                  <a:lnTo>
                    <a:pt x="8" y="72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122"/>
                  </a:lnTo>
                  <a:lnTo>
                    <a:pt x="2" y="146"/>
                  </a:lnTo>
                  <a:lnTo>
                    <a:pt x="8" y="172"/>
                  </a:lnTo>
                  <a:lnTo>
                    <a:pt x="18" y="194"/>
                  </a:lnTo>
                  <a:lnTo>
                    <a:pt x="32" y="216"/>
                  </a:lnTo>
                  <a:lnTo>
                    <a:pt x="50" y="234"/>
                  </a:lnTo>
                  <a:lnTo>
                    <a:pt x="70" y="252"/>
                  </a:lnTo>
                  <a:lnTo>
                    <a:pt x="94" y="266"/>
                  </a:lnTo>
                  <a:lnTo>
                    <a:pt x="94" y="266"/>
                  </a:lnTo>
                  <a:close/>
                  <a:moveTo>
                    <a:pt x="66" y="202"/>
                  </a:moveTo>
                  <a:lnTo>
                    <a:pt x="66" y="202"/>
                  </a:lnTo>
                  <a:lnTo>
                    <a:pt x="82" y="206"/>
                  </a:lnTo>
                  <a:lnTo>
                    <a:pt x="98" y="210"/>
                  </a:lnTo>
                  <a:lnTo>
                    <a:pt x="112" y="210"/>
                  </a:lnTo>
                  <a:lnTo>
                    <a:pt x="126" y="208"/>
                  </a:lnTo>
                  <a:lnTo>
                    <a:pt x="138" y="204"/>
                  </a:lnTo>
                  <a:lnTo>
                    <a:pt x="148" y="200"/>
                  </a:lnTo>
                  <a:lnTo>
                    <a:pt x="158" y="192"/>
                  </a:lnTo>
                  <a:lnTo>
                    <a:pt x="166" y="186"/>
                  </a:lnTo>
                  <a:lnTo>
                    <a:pt x="174" y="176"/>
                  </a:lnTo>
                  <a:lnTo>
                    <a:pt x="180" y="168"/>
                  </a:lnTo>
                  <a:lnTo>
                    <a:pt x="188" y="150"/>
                  </a:lnTo>
                  <a:lnTo>
                    <a:pt x="194" y="134"/>
                  </a:lnTo>
                  <a:lnTo>
                    <a:pt x="194" y="120"/>
                  </a:lnTo>
                  <a:lnTo>
                    <a:pt x="194" y="120"/>
                  </a:lnTo>
                  <a:lnTo>
                    <a:pt x="200" y="130"/>
                  </a:lnTo>
                  <a:lnTo>
                    <a:pt x="204" y="140"/>
                  </a:lnTo>
                  <a:lnTo>
                    <a:pt x="204" y="150"/>
                  </a:lnTo>
                  <a:lnTo>
                    <a:pt x="202" y="162"/>
                  </a:lnTo>
                  <a:lnTo>
                    <a:pt x="200" y="172"/>
                  </a:lnTo>
                  <a:lnTo>
                    <a:pt x="194" y="182"/>
                  </a:lnTo>
                  <a:lnTo>
                    <a:pt x="188" y="190"/>
                  </a:lnTo>
                  <a:lnTo>
                    <a:pt x="180" y="194"/>
                  </a:lnTo>
                  <a:lnTo>
                    <a:pt x="180" y="194"/>
                  </a:lnTo>
                  <a:lnTo>
                    <a:pt x="188" y="202"/>
                  </a:lnTo>
                  <a:lnTo>
                    <a:pt x="198" y="208"/>
                  </a:lnTo>
                  <a:lnTo>
                    <a:pt x="224" y="220"/>
                  </a:lnTo>
                  <a:lnTo>
                    <a:pt x="224" y="220"/>
                  </a:lnTo>
                  <a:lnTo>
                    <a:pt x="194" y="228"/>
                  </a:lnTo>
                  <a:lnTo>
                    <a:pt x="168" y="232"/>
                  </a:lnTo>
                  <a:lnTo>
                    <a:pt x="146" y="232"/>
                  </a:lnTo>
                  <a:lnTo>
                    <a:pt x="126" y="230"/>
                  </a:lnTo>
                  <a:lnTo>
                    <a:pt x="108" y="226"/>
                  </a:lnTo>
                  <a:lnTo>
                    <a:pt x="92" y="220"/>
                  </a:lnTo>
                  <a:lnTo>
                    <a:pt x="78" y="210"/>
                  </a:lnTo>
                  <a:lnTo>
                    <a:pt x="66" y="202"/>
                  </a:lnTo>
                  <a:lnTo>
                    <a:pt x="66" y="202"/>
                  </a:lnTo>
                  <a:close/>
                </a:path>
              </a:pathLst>
            </a:custGeom>
            <a:solidFill>
              <a:srgbClr val="cabb8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4"/>
            <p:cNvSpPr/>
            <p:nvPr/>
          </p:nvSpPr>
          <p:spPr>
            <a:xfrm>
              <a:off x="401400" y="5559480"/>
              <a:ext cx="1952640" cy="4826160"/>
            </a:xfrm>
            <a:custGeom>
              <a:avLst/>
              <a:gdLst>
                <a:gd name="textAreaLeft" fmla="*/ 0 w 1952640"/>
                <a:gd name="textAreaRight" fmla="*/ 1952640 w 1952640"/>
                <a:gd name="textAreaTop" fmla="*/ 0 h 4826160"/>
                <a:gd name="textAreaBottom" fmla="*/ 4826520 h 4826160"/>
              </a:gdLst>
              <a:ahLst/>
              <a:rect l="textAreaLeft" t="textAreaTop" r="textAreaRight" b="textAreaBottom"/>
              <a:pathLst>
                <a:path w="1230" h="3040">
                  <a:moveTo>
                    <a:pt x="40" y="2944"/>
                  </a:moveTo>
                  <a:lnTo>
                    <a:pt x="40" y="2944"/>
                  </a:lnTo>
                  <a:lnTo>
                    <a:pt x="38" y="2960"/>
                  </a:lnTo>
                  <a:lnTo>
                    <a:pt x="40" y="2974"/>
                  </a:lnTo>
                  <a:lnTo>
                    <a:pt x="44" y="2988"/>
                  </a:lnTo>
                  <a:lnTo>
                    <a:pt x="50" y="3000"/>
                  </a:lnTo>
                  <a:lnTo>
                    <a:pt x="58" y="3010"/>
                  </a:lnTo>
                  <a:lnTo>
                    <a:pt x="68" y="3020"/>
                  </a:lnTo>
                  <a:lnTo>
                    <a:pt x="78" y="3026"/>
                  </a:lnTo>
                  <a:lnTo>
                    <a:pt x="88" y="3032"/>
                  </a:lnTo>
                  <a:lnTo>
                    <a:pt x="100" y="3036"/>
                  </a:lnTo>
                  <a:lnTo>
                    <a:pt x="110" y="3038"/>
                  </a:lnTo>
                  <a:lnTo>
                    <a:pt x="122" y="3038"/>
                  </a:lnTo>
                  <a:lnTo>
                    <a:pt x="132" y="3036"/>
                  </a:lnTo>
                  <a:lnTo>
                    <a:pt x="144" y="3032"/>
                  </a:lnTo>
                  <a:lnTo>
                    <a:pt x="152" y="3026"/>
                  </a:lnTo>
                  <a:lnTo>
                    <a:pt x="160" y="3018"/>
                  </a:lnTo>
                  <a:lnTo>
                    <a:pt x="166" y="3008"/>
                  </a:lnTo>
                  <a:lnTo>
                    <a:pt x="166" y="3008"/>
                  </a:lnTo>
                  <a:lnTo>
                    <a:pt x="170" y="2996"/>
                  </a:lnTo>
                  <a:lnTo>
                    <a:pt x="174" y="2986"/>
                  </a:lnTo>
                  <a:lnTo>
                    <a:pt x="176" y="2976"/>
                  </a:lnTo>
                  <a:lnTo>
                    <a:pt x="176" y="2968"/>
                  </a:lnTo>
                  <a:lnTo>
                    <a:pt x="174" y="2960"/>
                  </a:lnTo>
                  <a:lnTo>
                    <a:pt x="172" y="2950"/>
                  </a:lnTo>
                  <a:lnTo>
                    <a:pt x="166" y="2936"/>
                  </a:lnTo>
                  <a:lnTo>
                    <a:pt x="156" y="2926"/>
                  </a:lnTo>
                  <a:lnTo>
                    <a:pt x="144" y="2916"/>
                  </a:lnTo>
                  <a:lnTo>
                    <a:pt x="130" y="2912"/>
                  </a:lnTo>
                  <a:lnTo>
                    <a:pt x="116" y="2910"/>
                  </a:lnTo>
                  <a:lnTo>
                    <a:pt x="116" y="2910"/>
                  </a:lnTo>
                  <a:lnTo>
                    <a:pt x="124" y="2898"/>
                  </a:lnTo>
                  <a:lnTo>
                    <a:pt x="134" y="2884"/>
                  </a:lnTo>
                  <a:lnTo>
                    <a:pt x="144" y="2870"/>
                  </a:lnTo>
                  <a:lnTo>
                    <a:pt x="158" y="2858"/>
                  </a:lnTo>
                  <a:lnTo>
                    <a:pt x="172" y="2846"/>
                  </a:lnTo>
                  <a:lnTo>
                    <a:pt x="188" y="2838"/>
                  </a:lnTo>
                  <a:lnTo>
                    <a:pt x="204" y="2834"/>
                  </a:lnTo>
                  <a:lnTo>
                    <a:pt x="212" y="2832"/>
                  </a:lnTo>
                  <a:lnTo>
                    <a:pt x="220" y="2832"/>
                  </a:lnTo>
                  <a:lnTo>
                    <a:pt x="220" y="2832"/>
                  </a:lnTo>
                  <a:lnTo>
                    <a:pt x="236" y="2836"/>
                  </a:lnTo>
                  <a:lnTo>
                    <a:pt x="252" y="2844"/>
                  </a:lnTo>
                  <a:lnTo>
                    <a:pt x="266" y="2856"/>
                  </a:lnTo>
                  <a:lnTo>
                    <a:pt x="282" y="2870"/>
                  </a:lnTo>
                  <a:lnTo>
                    <a:pt x="282" y="2870"/>
                  </a:lnTo>
                  <a:lnTo>
                    <a:pt x="292" y="2884"/>
                  </a:lnTo>
                  <a:lnTo>
                    <a:pt x="296" y="2890"/>
                  </a:lnTo>
                  <a:lnTo>
                    <a:pt x="298" y="2900"/>
                  </a:lnTo>
                  <a:lnTo>
                    <a:pt x="300" y="2908"/>
                  </a:lnTo>
                  <a:lnTo>
                    <a:pt x="302" y="2918"/>
                  </a:lnTo>
                  <a:lnTo>
                    <a:pt x="302" y="2928"/>
                  </a:lnTo>
                  <a:lnTo>
                    <a:pt x="300" y="2940"/>
                  </a:lnTo>
                  <a:lnTo>
                    <a:pt x="296" y="2952"/>
                  </a:lnTo>
                  <a:lnTo>
                    <a:pt x="290" y="2964"/>
                  </a:lnTo>
                  <a:lnTo>
                    <a:pt x="284" y="2976"/>
                  </a:lnTo>
                  <a:lnTo>
                    <a:pt x="274" y="2988"/>
                  </a:lnTo>
                  <a:lnTo>
                    <a:pt x="262" y="3000"/>
                  </a:lnTo>
                  <a:lnTo>
                    <a:pt x="250" y="3012"/>
                  </a:lnTo>
                  <a:lnTo>
                    <a:pt x="234" y="3024"/>
                  </a:lnTo>
                  <a:lnTo>
                    <a:pt x="216" y="3036"/>
                  </a:lnTo>
                  <a:lnTo>
                    <a:pt x="216" y="3036"/>
                  </a:lnTo>
                  <a:lnTo>
                    <a:pt x="230" y="3038"/>
                  </a:lnTo>
                  <a:lnTo>
                    <a:pt x="244" y="3040"/>
                  </a:lnTo>
                  <a:lnTo>
                    <a:pt x="258" y="3038"/>
                  </a:lnTo>
                  <a:lnTo>
                    <a:pt x="270" y="3034"/>
                  </a:lnTo>
                  <a:lnTo>
                    <a:pt x="280" y="3030"/>
                  </a:lnTo>
                  <a:lnTo>
                    <a:pt x="292" y="3024"/>
                  </a:lnTo>
                  <a:lnTo>
                    <a:pt x="300" y="3016"/>
                  </a:lnTo>
                  <a:lnTo>
                    <a:pt x="310" y="3008"/>
                  </a:lnTo>
                  <a:lnTo>
                    <a:pt x="316" y="2998"/>
                  </a:lnTo>
                  <a:lnTo>
                    <a:pt x="322" y="2986"/>
                  </a:lnTo>
                  <a:lnTo>
                    <a:pt x="328" y="2976"/>
                  </a:lnTo>
                  <a:lnTo>
                    <a:pt x="332" y="2964"/>
                  </a:lnTo>
                  <a:lnTo>
                    <a:pt x="334" y="2952"/>
                  </a:lnTo>
                  <a:lnTo>
                    <a:pt x="336" y="2940"/>
                  </a:lnTo>
                  <a:lnTo>
                    <a:pt x="336" y="2928"/>
                  </a:lnTo>
                  <a:lnTo>
                    <a:pt x="336" y="2916"/>
                  </a:lnTo>
                  <a:lnTo>
                    <a:pt x="336" y="2916"/>
                  </a:lnTo>
                  <a:lnTo>
                    <a:pt x="366" y="2930"/>
                  </a:lnTo>
                  <a:lnTo>
                    <a:pt x="396" y="2942"/>
                  </a:lnTo>
                  <a:lnTo>
                    <a:pt x="428" y="2952"/>
                  </a:lnTo>
                  <a:lnTo>
                    <a:pt x="458" y="2958"/>
                  </a:lnTo>
                  <a:lnTo>
                    <a:pt x="490" y="2964"/>
                  </a:lnTo>
                  <a:lnTo>
                    <a:pt x="520" y="2970"/>
                  </a:lnTo>
                  <a:lnTo>
                    <a:pt x="550" y="2972"/>
                  </a:lnTo>
                  <a:lnTo>
                    <a:pt x="582" y="2974"/>
                  </a:lnTo>
                  <a:lnTo>
                    <a:pt x="612" y="2972"/>
                  </a:lnTo>
                  <a:lnTo>
                    <a:pt x="642" y="2972"/>
                  </a:lnTo>
                  <a:lnTo>
                    <a:pt x="700" y="2966"/>
                  </a:lnTo>
                  <a:lnTo>
                    <a:pt x="758" y="2954"/>
                  </a:lnTo>
                  <a:lnTo>
                    <a:pt x="812" y="2940"/>
                  </a:lnTo>
                  <a:lnTo>
                    <a:pt x="864" y="2924"/>
                  </a:lnTo>
                  <a:lnTo>
                    <a:pt x="912" y="2904"/>
                  </a:lnTo>
                  <a:lnTo>
                    <a:pt x="956" y="2884"/>
                  </a:lnTo>
                  <a:lnTo>
                    <a:pt x="996" y="2862"/>
                  </a:lnTo>
                  <a:lnTo>
                    <a:pt x="1032" y="2842"/>
                  </a:lnTo>
                  <a:lnTo>
                    <a:pt x="1062" y="2820"/>
                  </a:lnTo>
                  <a:lnTo>
                    <a:pt x="1086" y="2802"/>
                  </a:lnTo>
                  <a:lnTo>
                    <a:pt x="1104" y="2784"/>
                  </a:lnTo>
                  <a:lnTo>
                    <a:pt x="1104" y="2784"/>
                  </a:lnTo>
                  <a:lnTo>
                    <a:pt x="1138" y="2750"/>
                  </a:lnTo>
                  <a:lnTo>
                    <a:pt x="1154" y="2730"/>
                  </a:lnTo>
                  <a:lnTo>
                    <a:pt x="1168" y="2710"/>
                  </a:lnTo>
                  <a:lnTo>
                    <a:pt x="1168" y="2710"/>
                  </a:lnTo>
                  <a:lnTo>
                    <a:pt x="1182" y="2684"/>
                  </a:lnTo>
                  <a:lnTo>
                    <a:pt x="1196" y="2656"/>
                  </a:lnTo>
                  <a:lnTo>
                    <a:pt x="1212" y="2622"/>
                  </a:lnTo>
                  <a:lnTo>
                    <a:pt x="1218" y="2602"/>
                  </a:lnTo>
                  <a:lnTo>
                    <a:pt x="1224" y="2580"/>
                  </a:lnTo>
                  <a:lnTo>
                    <a:pt x="1228" y="2558"/>
                  </a:lnTo>
                  <a:lnTo>
                    <a:pt x="1230" y="2532"/>
                  </a:lnTo>
                  <a:lnTo>
                    <a:pt x="1230" y="2504"/>
                  </a:lnTo>
                  <a:lnTo>
                    <a:pt x="1228" y="2474"/>
                  </a:lnTo>
                  <a:lnTo>
                    <a:pt x="1224" y="2442"/>
                  </a:lnTo>
                  <a:lnTo>
                    <a:pt x="1216" y="2406"/>
                  </a:lnTo>
                  <a:lnTo>
                    <a:pt x="1206" y="2368"/>
                  </a:lnTo>
                  <a:lnTo>
                    <a:pt x="1192" y="2328"/>
                  </a:lnTo>
                  <a:lnTo>
                    <a:pt x="1192" y="2328"/>
                  </a:lnTo>
                  <a:lnTo>
                    <a:pt x="1172" y="2280"/>
                  </a:lnTo>
                  <a:lnTo>
                    <a:pt x="1150" y="2238"/>
                  </a:lnTo>
                  <a:lnTo>
                    <a:pt x="1126" y="2200"/>
                  </a:lnTo>
                  <a:lnTo>
                    <a:pt x="1100" y="2168"/>
                  </a:lnTo>
                  <a:lnTo>
                    <a:pt x="1074" y="2138"/>
                  </a:lnTo>
                  <a:lnTo>
                    <a:pt x="1044" y="2114"/>
                  </a:lnTo>
                  <a:lnTo>
                    <a:pt x="1012" y="2092"/>
                  </a:lnTo>
                  <a:lnTo>
                    <a:pt x="980" y="2076"/>
                  </a:lnTo>
                  <a:lnTo>
                    <a:pt x="946" y="2064"/>
                  </a:lnTo>
                  <a:lnTo>
                    <a:pt x="912" y="2056"/>
                  </a:lnTo>
                  <a:lnTo>
                    <a:pt x="876" y="2050"/>
                  </a:lnTo>
                  <a:lnTo>
                    <a:pt x="840" y="2050"/>
                  </a:lnTo>
                  <a:lnTo>
                    <a:pt x="804" y="2054"/>
                  </a:lnTo>
                  <a:lnTo>
                    <a:pt x="768" y="2060"/>
                  </a:lnTo>
                  <a:lnTo>
                    <a:pt x="730" y="2070"/>
                  </a:lnTo>
                  <a:lnTo>
                    <a:pt x="692" y="2084"/>
                  </a:lnTo>
                  <a:lnTo>
                    <a:pt x="692" y="2084"/>
                  </a:lnTo>
                  <a:lnTo>
                    <a:pt x="674" y="2094"/>
                  </a:lnTo>
                  <a:lnTo>
                    <a:pt x="656" y="2104"/>
                  </a:lnTo>
                  <a:lnTo>
                    <a:pt x="638" y="2114"/>
                  </a:lnTo>
                  <a:lnTo>
                    <a:pt x="624" y="2124"/>
                  </a:lnTo>
                  <a:lnTo>
                    <a:pt x="608" y="2136"/>
                  </a:lnTo>
                  <a:lnTo>
                    <a:pt x="596" y="2150"/>
                  </a:lnTo>
                  <a:lnTo>
                    <a:pt x="572" y="2178"/>
                  </a:lnTo>
                  <a:lnTo>
                    <a:pt x="552" y="2206"/>
                  </a:lnTo>
                  <a:lnTo>
                    <a:pt x="536" y="2238"/>
                  </a:lnTo>
                  <a:lnTo>
                    <a:pt x="524" y="2270"/>
                  </a:lnTo>
                  <a:lnTo>
                    <a:pt x="516" y="2304"/>
                  </a:lnTo>
                  <a:lnTo>
                    <a:pt x="512" y="2338"/>
                  </a:lnTo>
                  <a:lnTo>
                    <a:pt x="510" y="2372"/>
                  </a:lnTo>
                  <a:lnTo>
                    <a:pt x="514" y="2406"/>
                  </a:lnTo>
                  <a:lnTo>
                    <a:pt x="522" y="2440"/>
                  </a:lnTo>
                  <a:lnTo>
                    <a:pt x="532" y="2470"/>
                  </a:lnTo>
                  <a:lnTo>
                    <a:pt x="546" y="2500"/>
                  </a:lnTo>
                  <a:lnTo>
                    <a:pt x="564" y="2528"/>
                  </a:lnTo>
                  <a:lnTo>
                    <a:pt x="584" y="2554"/>
                  </a:lnTo>
                  <a:lnTo>
                    <a:pt x="584" y="2554"/>
                  </a:lnTo>
                  <a:lnTo>
                    <a:pt x="598" y="2568"/>
                  </a:lnTo>
                  <a:lnTo>
                    <a:pt x="614" y="2578"/>
                  </a:lnTo>
                  <a:lnTo>
                    <a:pt x="628" y="2588"/>
                  </a:lnTo>
                  <a:lnTo>
                    <a:pt x="644" y="2596"/>
                  </a:lnTo>
                  <a:lnTo>
                    <a:pt x="660" y="2602"/>
                  </a:lnTo>
                  <a:lnTo>
                    <a:pt x="676" y="2606"/>
                  </a:lnTo>
                  <a:lnTo>
                    <a:pt x="692" y="2608"/>
                  </a:lnTo>
                  <a:lnTo>
                    <a:pt x="706" y="2608"/>
                  </a:lnTo>
                  <a:lnTo>
                    <a:pt x="722" y="2608"/>
                  </a:lnTo>
                  <a:lnTo>
                    <a:pt x="738" y="2606"/>
                  </a:lnTo>
                  <a:lnTo>
                    <a:pt x="752" y="2602"/>
                  </a:lnTo>
                  <a:lnTo>
                    <a:pt x="766" y="2596"/>
                  </a:lnTo>
                  <a:lnTo>
                    <a:pt x="778" y="2590"/>
                  </a:lnTo>
                  <a:lnTo>
                    <a:pt x="790" y="2582"/>
                  </a:lnTo>
                  <a:lnTo>
                    <a:pt x="802" y="2572"/>
                  </a:lnTo>
                  <a:lnTo>
                    <a:pt x="812" y="2562"/>
                  </a:lnTo>
                  <a:lnTo>
                    <a:pt x="812" y="2562"/>
                  </a:lnTo>
                  <a:lnTo>
                    <a:pt x="820" y="2552"/>
                  </a:lnTo>
                  <a:lnTo>
                    <a:pt x="826" y="2540"/>
                  </a:lnTo>
                  <a:lnTo>
                    <a:pt x="830" y="2528"/>
                  </a:lnTo>
                  <a:lnTo>
                    <a:pt x="834" y="2516"/>
                  </a:lnTo>
                  <a:lnTo>
                    <a:pt x="836" y="2504"/>
                  </a:lnTo>
                  <a:lnTo>
                    <a:pt x="836" y="2490"/>
                  </a:lnTo>
                  <a:lnTo>
                    <a:pt x="834" y="2464"/>
                  </a:lnTo>
                  <a:lnTo>
                    <a:pt x="828" y="2440"/>
                  </a:lnTo>
                  <a:lnTo>
                    <a:pt x="818" y="2418"/>
                  </a:lnTo>
                  <a:lnTo>
                    <a:pt x="810" y="2410"/>
                  </a:lnTo>
                  <a:lnTo>
                    <a:pt x="804" y="2402"/>
                  </a:lnTo>
                  <a:lnTo>
                    <a:pt x="796" y="2394"/>
                  </a:lnTo>
                  <a:lnTo>
                    <a:pt x="788" y="2390"/>
                  </a:lnTo>
                  <a:lnTo>
                    <a:pt x="788" y="2390"/>
                  </a:lnTo>
                  <a:lnTo>
                    <a:pt x="778" y="2384"/>
                  </a:lnTo>
                  <a:lnTo>
                    <a:pt x="766" y="2380"/>
                  </a:lnTo>
                  <a:lnTo>
                    <a:pt x="756" y="2378"/>
                  </a:lnTo>
                  <a:lnTo>
                    <a:pt x="746" y="2378"/>
                  </a:lnTo>
                  <a:lnTo>
                    <a:pt x="734" y="2380"/>
                  </a:lnTo>
                  <a:lnTo>
                    <a:pt x="724" y="2382"/>
                  </a:lnTo>
                  <a:lnTo>
                    <a:pt x="714" y="2384"/>
                  </a:lnTo>
                  <a:lnTo>
                    <a:pt x="706" y="2388"/>
                  </a:lnTo>
                  <a:lnTo>
                    <a:pt x="690" y="2400"/>
                  </a:lnTo>
                  <a:lnTo>
                    <a:pt x="676" y="2414"/>
                  </a:lnTo>
                  <a:lnTo>
                    <a:pt x="670" y="2424"/>
                  </a:lnTo>
                  <a:lnTo>
                    <a:pt x="666" y="2432"/>
                  </a:lnTo>
                  <a:lnTo>
                    <a:pt x="664" y="2442"/>
                  </a:lnTo>
                  <a:lnTo>
                    <a:pt x="662" y="2452"/>
                  </a:lnTo>
                  <a:lnTo>
                    <a:pt x="662" y="2452"/>
                  </a:lnTo>
                  <a:lnTo>
                    <a:pt x="642" y="2438"/>
                  </a:lnTo>
                  <a:lnTo>
                    <a:pt x="626" y="2424"/>
                  </a:lnTo>
                  <a:lnTo>
                    <a:pt x="610" y="2406"/>
                  </a:lnTo>
                  <a:lnTo>
                    <a:pt x="598" y="2388"/>
                  </a:lnTo>
                  <a:lnTo>
                    <a:pt x="588" y="2368"/>
                  </a:lnTo>
                  <a:lnTo>
                    <a:pt x="582" y="2348"/>
                  </a:lnTo>
                  <a:lnTo>
                    <a:pt x="576" y="2326"/>
                  </a:lnTo>
                  <a:lnTo>
                    <a:pt x="574" y="2304"/>
                  </a:lnTo>
                  <a:lnTo>
                    <a:pt x="574" y="2282"/>
                  </a:lnTo>
                  <a:lnTo>
                    <a:pt x="576" y="2260"/>
                  </a:lnTo>
                  <a:lnTo>
                    <a:pt x="582" y="2240"/>
                  </a:lnTo>
                  <a:lnTo>
                    <a:pt x="590" y="2218"/>
                  </a:lnTo>
                  <a:lnTo>
                    <a:pt x="600" y="2198"/>
                  </a:lnTo>
                  <a:lnTo>
                    <a:pt x="614" y="2178"/>
                  </a:lnTo>
                  <a:lnTo>
                    <a:pt x="630" y="2160"/>
                  </a:lnTo>
                  <a:lnTo>
                    <a:pt x="650" y="2144"/>
                  </a:lnTo>
                  <a:lnTo>
                    <a:pt x="650" y="2144"/>
                  </a:lnTo>
                  <a:lnTo>
                    <a:pt x="640" y="2156"/>
                  </a:lnTo>
                  <a:lnTo>
                    <a:pt x="634" y="2170"/>
                  </a:lnTo>
                  <a:lnTo>
                    <a:pt x="630" y="2184"/>
                  </a:lnTo>
                  <a:lnTo>
                    <a:pt x="628" y="2200"/>
                  </a:lnTo>
                  <a:lnTo>
                    <a:pt x="628" y="2214"/>
                  </a:lnTo>
                  <a:lnTo>
                    <a:pt x="630" y="2230"/>
                  </a:lnTo>
                  <a:lnTo>
                    <a:pt x="632" y="2248"/>
                  </a:lnTo>
                  <a:lnTo>
                    <a:pt x="638" y="2262"/>
                  </a:lnTo>
                  <a:lnTo>
                    <a:pt x="638" y="2262"/>
                  </a:lnTo>
                  <a:lnTo>
                    <a:pt x="644" y="2276"/>
                  </a:lnTo>
                  <a:lnTo>
                    <a:pt x="654" y="2286"/>
                  </a:lnTo>
                  <a:lnTo>
                    <a:pt x="668" y="2296"/>
                  </a:lnTo>
                  <a:lnTo>
                    <a:pt x="684" y="2304"/>
                  </a:lnTo>
                  <a:lnTo>
                    <a:pt x="704" y="2308"/>
                  </a:lnTo>
                  <a:lnTo>
                    <a:pt x="724" y="2308"/>
                  </a:lnTo>
                  <a:lnTo>
                    <a:pt x="746" y="2304"/>
                  </a:lnTo>
                  <a:lnTo>
                    <a:pt x="758" y="2300"/>
                  </a:lnTo>
                  <a:lnTo>
                    <a:pt x="770" y="2294"/>
                  </a:lnTo>
                  <a:lnTo>
                    <a:pt x="770" y="2294"/>
                  </a:lnTo>
                  <a:lnTo>
                    <a:pt x="760" y="2290"/>
                  </a:lnTo>
                  <a:lnTo>
                    <a:pt x="752" y="2284"/>
                  </a:lnTo>
                  <a:lnTo>
                    <a:pt x="744" y="2276"/>
                  </a:lnTo>
                  <a:lnTo>
                    <a:pt x="738" y="2268"/>
                  </a:lnTo>
                  <a:lnTo>
                    <a:pt x="732" y="2260"/>
                  </a:lnTo>
                  <a:lnTo>
                    <a:pt x="728" y="2252"/>
                  </a:lnTo>
                  <a:lnTo>
                    <a:pt x="722" y="2232"/>
                  </a:lnTo>
                  <a:lnTo>
                    <a:pt x="722" y="2212"/>
                  </a:lnTo>
                  <a:lnTo>
                    <a:pt x="724" y="2192"/>
                  </a:lnTo>
                  <a:lnTo>
                    <a:pt x="732" y="2170"/>
                  </a:lnTo>
                  <a:lnTo>
                    <a:pt x="746" y="2150"/>
                  </a:lnTo>
                  <a:lnTo>
                    <a:pt x="746" y="2150"/>
                  </a:lnTo>
                  <a:lnTo>
                    <a:pt x="756" y="2138"/>
                  </a:lnTo>
                  <a:lnTo>
                    <a:pt x="770" y="2128"/>
                  </a:lnTo>
                  <a:lnTo>
                    <a:pt x="786" y="2118"/>
                  </a:lnTo>
                  <a:lnTo>
                    <a:pt x="804" y="2110"/>
                  </a:lnTo>
                  <a:lnTo>
                    <a:pt x="824" y="2104"/>
                  </a:lnTo>
                  <a:lnTo>
                    <a:pt x="844" y="2098"/>
                  </a:lnTo>
                  <a:lnTo>
                    <a:pt x="866" y="2096"/>
                  </a:lnTo>
                  <a:lnTo>
                    <a:pt x="890" y="2096"/>
                  </a:lnTo>
                  <a:lnTo>
                    <a:pt x="912" y="2096"/>
                  </a:lnTo>
                  <a:lnTo>
                    <a:pt x="936" y="2100"/>
                  </a:lnTo>
                  <a:lnTo>
                    <a:pt x="960" y="2108"/>
                  </a:lnTo>
                  <a:lnTo>
                    <a:pt x="984" y="2116"/>
                  </a:lnTo>
                  <a:lnTo>
                    <a:pt x="1006" y="2128"/>
                  </a:lnTo>
                  <a:lnTo>
                    <a:pt x="1028" y="2144"/>
                  </a:lnTo>
                  <a:lnTo>
                    <a:pt x="1048" y="2162"/>
                  </a:lnTo>
                  <a:lnTo>
                    <a:pt x="1066" y="2184"/>
                  </a:lnTo>
                  <a:lnTo>
                    <a:pt x="1066" y="2184"/>
                  </a:lnTo>
                  <a:lnTo>
                    <a:pt x="1056" y="2180"/>
                  </a:lnTo>
                  <a:lnTo>
                    <a:pt x="1044" y="2178"/>
                  </a:lnTo>
                  <a:lnTo>
                    <a:pt x="1030" y="2178"/>
                  </a:lnTo>
                  <a:lnTo>
                    <a:pt x="1016" y="2180"/>
                  </a:lnTo>
                  <a:lnTo>
                    <a:pt x="1002" y="2182"/>
                  </a:lnTo>
                  <a:lnTo>
                    <a:pt x="988" y="2186"/>
                  </a:lnTo>
                  <a:lnTo>
                    <a:pt x="976" y="2190"/>
                  </a:lnTo>
                  <a:lnTo>
                    <a:pt x="962" y="2196"/>
                  </a:lnTo>
                  <a:lnTo>
                    <a:pt x="950" y="2204"/>
                  </a:lnTo>
                  <a:lnTo>
                    <a:pt x="940" y="2212"/>
                  </a:lnTo>
                  <a:lnTo>
                    <a:pt x="930" y="2222"/>
                  </a:lnTo>
                  <a:lnTo>
                    <a:pt x="922" y="2232"/>
                  </a:lnTo>
                  <a:lnTo>
                    <a:pt x="916" y="2242"/>
                  </a:lnTo>
                  <a:lnTo>
                    <a:pt x="914" y="2254"/>
                  </a:lnTo>
                  <a:lnTo>
                    <a:pt x="912" y="2268"/>
                  </a:lnTo>
                  <a:lnTo>
                    <a:pt x="916" y="2280"/>
                  </a:lnTo>
                  <a:lnTo>
                    <a:pt x="916" y="2280"/>
                  </a:lnTo>
                  <a:lnTo>
                    <a:pt x="926" y="2274"/>
                  </a:lnTo>
                  <a:lnTo>
                    <a:pt x="938" y="2268"/>
                  </a:lnTo>
                  <a:lnTo>
                    <a:pt x="950" y="2262"/>
                  </a:lnTo>
                  <a:lnTo>
                    <a:pt x="964" y="2260"/>
                  </a:lnTo>
                  <a:lnTo>
                    <a:pt x="978" y="2260"/>
                  </a:lnTo>
                  <a:lnTo>
                    <a:pt x="994" y="2260"/>
                  </a:lnTo>
                  <a:lnTo>
                    <a:pt x="1008" y="2264"/>
                  </a:lnTo>
                  <a:lnTo>
                    <a:pt x="1024" y="2268"/>
                  </a:lnTo>
                  <a:lnTo>
                    <a:pt x="1040" y="2274"/>
                  </a:lnTo>
                  <a:lnTo>
                    <a:pt x="1054" y="2282"/>
                  </a:lnTo>
                  <a:lnTo>
                    <a:pt x="1068" y="2290"/>
                  </a:lnTo>
                  <a:lnTo>
                    <a:pt x="1082" y="2302"/>
                  </a:lnTo>
                  <a:lnTo>
                    <a:pt x="1096" y="2314"/>
                  </a:lnTo>
                  <a:lnTo>
                    <a:pt x="1108" y="2328"/>
                  </a:lnTo>
                  <a:lnTo>
                    <a:pt x="1118" y="2342"/>
                  </a:lnTo>
                  <a:lnTo>
                    <a:pt x="1128" y="2360"/>
                  </a:lnTo>
                  <a:lnTo>
                    <a:pt x="1128" y="2360"/>
                  </a:lnTo>
                  <a:lnTo>
                    <a:pt x="1148" y="2404"/>
                  </a:lnTo>
                  <a:lnTo>
                    <a:pt x="1156" y="2428"/>
                  </a:lnTo>
                  <a:lnTo>
                    <a:pt x="1164" y="2454"/>
                  </a:lnTo>
                  <a:lnTo>
                    <a:pt x="1170" y="2478"/>
                  </a:lnTo>
                  <a:lnTo>
                    <a:pt x="1174" y="2504"/>
                  </a:lnTo>
                  <a:lnTo>
                    <a:pt x="1176" y="2530"/>
                  </a:lnTo>
                  <a:lnTo>
                    <a:pt x="1176" y="2558"/>
                  </a:lnTo>
                  <a:lnTo>
                    <a:pt x="1174" y="2584"/>
                  </a:lnTo>
                  <a:lnTo>
                    <a:pt x="1168" y="2612"/>
                  </a:lnTo>
                  <a:lnTo>
                    <a:pt x="1160" y="2638"/>
                  </a:lnTo>
                  <a:lnTo>
                    <a:pt x="1148" y="2666"/>
                  </a:lnTo>
                  <a:lnTo>
                    <a:pt x="1134" y="2694"/>
                  </a:lnTo>
                  <a:lnTo>
                    <a:pt x="1114" y="2720"/>
                  </a:lnTo>
                  <a:lnTo>
                    <a:pt x="1092" y="2748"/>
                  </a:lnTo>
                  <a:lnTo>
                    <a:pt x="1064" y="2774"/>
                  </a:lnTo>
                  <a:lnTo>
                    <a:pt x="1064" y="2774"/>
                  </a:lnTo>
                  <a:lnTo>
                    <a:pt x="1078" y="2752"/>
                  </a:lnTo>
                  <a:lnTo>
                    <a:pt x="1088" y="2726"/>
                  </a:lnTo>
                  <a:lnTo>
                    <a:pt x="1096" y="2700"/>
                  </a:lnTo>
                  <a:lnTo>
                    <a:pt x="1102" y="2672"/>
                  </a:lnTo>
                  <a:lnTo>
                    <a:pt x="1106" y="2644"/>
                  </a:lnTo>
                  <a:lnTo>
                    <a:pt x="1110" y="2616"/>
                  </a:lnTo>
                  <a:lnTo>
                    <a:pt x="1110" y="2584"/>
                  </a:lnTo>
                  <a:lnTo>
                    <a:pt x="1110" y="2554"/>
                  </a:lnTo>
                  <a:lnTo>
                    <a:pt x="1110" y="2554"/>
                  </a:lnTo>
                  <a:lnTo>
                    <a:pt x="1106" y="2522"/>
                  </a:lnTo>
                  <a:lnTo>
                    <a:pt x="1100" y="2490"/>
                  </a:lnTo>
                  <a:lnTo>
                    <a:pt x="1092" y="2462"/>
                  </a:lnTo>
                  <a:lnTo>
                    <a:pt x="1082" y="2436"/>
                  </a:lnTo>
                  <a:lnTo>
                    <a:pt x="1064" y="2396"/>
                  </a:lnTo>
                  <a:lnTo>
                    <a:pt x="1056" y="2380"/>
                  </a:lnTo>
                  <a:lnTo>
                    <a:pt x="1056" y="2380"/>
                  </a:lnTo>
                  <a:lnTo>
                    <a:pt x="1058" y="2396"/>
                  </a:lnTo>
                  <a:lnTo>
                    <a:pt x="1060" y="2434"/>
                  </a:lnTo>
                  <a:lnTo>
                    <a:pt x="1060" y="2456"/>
                  </a:lnTo>
                  <a:lnTo>
                    <a:pt x="1058" y="2480"/>
                  </a:lnTo>
                  <a:lnTo>
                    <a:pt x="1054" y="2502"/>
                  </a:lnTo>
                  <a:lnTo>
                    <a:pt x="1048" y="2520"/>
                  </a:lnTo>
                  <a:lnTo>
                    <a:pt x="1048" y="2520"/>
                  </a:lnTo>
                  <a:lnTo>
                    <a:pt x="1044" y="2508"/>
                  </a:lnTo>
                  <a:lnTo>
                    <a:pt x="1036" y="2498"/>
                  </a:lnTo>
                  <a:lnTo>
                    <a:pt x="1030" y="2488"/>
                  </a:lnTo>
                  <a:lnTo>
                    <a:pt x="1020" y="2480"/>
                  </a:lnTo>
                  <a:lnTo>
                    <a:pt x="1012" y="2474"/>
                  </a:lnTo>
                  <a:lnTo>
                    <a:pt x="1002" y="2468"/>
                  </a:lnTo>
                  <a:lnTo>
                    <a:pt x="992" y="2464"/>
                  </a:lnTo>
                  <a:lnTo>
                    <a:pt x="982" y="2462"/>
                  </a:lnTo>
                  <a:lnTo>
                    <a:pt x="974" y="2462"/>
                  </a:lnTo>
                  <a:lnTo>
                    <a:pt x="964" y="2462"/>
                  </a:lnTo>
                  <a:lnTo>
                    <a:pt x="956" y="2466"/>
                  </a:lnTo>
                  <a:lnTo>
                    <a:pt x="948" y="2470"/>
                  </a:lnTo>
                  <a:lnTo>
                    <a:pt x="940" y="2476"/>
                  </a:lnTo>
                  <a:lnTo>
                    <a:pt x="934" y="2486"/>
                  </a:lnTo>
                  <a:lnTo>
                    <a:pt x="930" y="2496"/>
                  </a:lnTo>
                  <a:lnTo>
                    <a:pt x="926" y="2508"/>
                  </a:lnTo>
                  <a:lnTo>
                    <a:pt x="926" y="2508"/>
                  </a:lnTo>
                  <a:lnTo>
                    <a:pt x="940" y="2508"/>
                  </a:lnTo>
                  <a:lnTo>
                    <a:pt x="952" y="2510"/>
                  </a:lnTo>
                  <a:lnTo>
                    <a:pt x="964" y="2514"/>
                  </a:lnTo>
                  <a:lnTo>
                    <a:pt x="976" y="2518"/>
                  </a:lnTo>
                  <a:lnTo>
                    <a:pt x="986" y="2524"/>
                  </a:lnTo>
                  <a:lnTo>
                    <a:pt x="998" y="2532"/>
                  </a:lnTo>
                  <a:lnTo>
                    <a:pt x="1006" y="2542"/>
                  </a:lnTo>
                  <a:lnTo>
                    <a:pt x="1016" y="2552"/>
                  </a:lnTo>
                  <a:lnTo>
                    <a:pt x="1024" y="2564"/>
                  </a:lnTo>
                  <a:lnTo>
                    <a:pt x="1030" y="2576"/>
                  </a:lnTo>
                  <a:lnTo>
                    <a:pt x="1036" y="2588"/>
                  </a:lnTo>
                  <a:lnTo>
                    <a:pt x="1040" y="2602"/>
                  </a:lnTo>
                  <a:lnTo>
                    <a:pt x="1048" y="2632"/>
                  </a:lnTo>
                  <a:lnTo>
                    <a:pt x="1050" y="2648"/>
                  </a:lnTo>
                  <a:lnTo>
                    <a:pt x="1050" y="2664"/>
                  </a:lnTo>
                  <a:lnTo>
                    <a:pt x="1050" y="2680"/>
                  </a:lnTo>
                  <a:lnTo>
                    <a:pt x="1048" y="2696"/>
                  </a:lnTo>
                  <a:lnTo>
                    <a:pt x="1044" y="2712"/>
                  </a:lnTo>
                  <a:lnTo>
                    <a:pt x="1038" y="2730"/>
                  </a:lnTo>
                  <a:lnTo>
                    <a:pt x="1032" y="2746"/>
                  </a:lnTo>
                  <a:lnTo>
                    <a:pt x="1026" y="2760"/>
                  </a:lnTo>
                  <a:lnTo>
                    <a:pt x="1016" y="2776"/>
                  </a:lnTo>
                  <a:lnTo>
                    <a:pt x="1006" y="2792"/>
                  </a:lnTo>
                  <a:lnTo>
                    <a:pt x="992" y="2806"/>
                  </a:lnTo>
                  <a:lnTo>
                    <a:pt x="978" y="2818"/>
                  </a:lnTo>
                  <a:lnTo>
                    <a:pt x="964" y="2832"/>
                  </a:lnTo>
                  <a:lnTo>
                    <a:pt x="946" y="2844"/>
                  </a:lnTo>
                  <a:lnTo>
                    <a:pt x="926" y="2854"/>
                  </a:lnTo>
                  <a:lnTo>
                    <a:pt x="906" y="2864"/>
                  </a:lnTo>
                  <a:lnTo>
                    <a:pt x="882" y="2872"/>
                  </a:lnTo>
                  <a:lnTo>
                    <a:pt x="858" y="2878"/>
                  </a:lnTo>
                  <a:lnTo>
                    <a:pt x="858" y="2878"/>
                  </a:lnTo>
                  <a:lnTo>
                    <a:pt x="884" y="2860"/>
                  </a:lnTo>
                  <a:lnTo>
                    <a:pt x="906" y="2842"/>
                  </a:lnTo>
                  <a:lnTo>
                    <a:pt x="922" y="2826"/>
                  </a:lnTo>
                  <a:lnTo>
                    <a:pt x="932" y="2810"/>
                  </a:lnTo>
                  <a:lnTo>
                    <a:pt x="934" y="2802"/>
                  </a:lnTo>
                  <a:lnTo>
                    <a:pt x="936" y="2796"/>
                  </a:lnTo>
                  <a:lnTo>
                    <a:pt x="936" y="2790"/>
                  </a:lnTo>
                  <a:lnTo>
                    <a:pt x="936" y="2782"/>
                  </a:lnTo>
                  <a:lnTo>
                    <a:pt x="932" y="2778"/>
                  </a:lnTo>
                  <a:lnTo>
                    <a:pt x="928" y="2772"/>
                  </a:lnTo>
                  <a:lnTo>
                    <a:pt x="922" y="2768"/>
                  </a:lnTo>
                  <a:lnTo>
                    <a:pt x="916" y="2764"/>
                  </a:lnTo>
                  <a:lnTo>
                    <a:pt x="916" y="2764"/>
                  </a:lnTo>
                  <a:lnTo>
                    <a:pt x="922" y="2748"/>
                  </a:lnTo>
                  <a:lnTo>
                    <a:pt x="924" y="2726"/>
                  </a:lnTo>
                  <a:lnTo>
                    <a:pt x="924" y="2714"/>
                  </a:lnTo>
                  <a:lnTo>
                    <a:pt x="922" y="2702"/>
                  </a:lnTo>
                  <a:lnTo>
                    <a:pt x="918" y="2692"/>
                  </a:lnTo>
                  <a:lnTo>
                    <a:pt x="912" y="2682"/>
                  </a:lnTo>
                  <a:lnTo>
                    <a:pt x="906" y="2672"/>
                  </a:lnTo>
                  <a:lnTo>
                    <a:pt x="896" y="2664"/>
                  </a:lnTo>
                  <a:lnTo>
                    <a:pt x="886" y="2658"/>
                  </a:lnTo>
                  <a:lnTo>
                    <a:pt x="870" y="2652"/>
                  </a:lnTo>
                  <a:lnTo>
                    <a:pt x="854" y="2650"/>
                  </a:lnTo>
                  <a:lnTo>
                    <a:pt x="834" y="2650"/>
                  </a:lnTo>
                  <a:lnTo>
                    <a:pt x="812" y="2654"/>
                  </a:lnTo>
                  <a:lnTo>
                    <a:pt x="786" y="2660"/>
                  </a:lnTo>
                  <a:lnTo>
                    <a:pt x="786" y="2660"/>
                  </a:lnTo>
                  <a:lnTo>
                    <a:pt x="804" y="2666"/>
                  </a:lnTo>
                  <a:lnTo>
                    <a:pt x="820" y="2674"/>
                  </a:lnTo>
                  <a:lnTo>
                    <a:pt x="832" y="2682"/>
                  </a:lnTo>
                  <a:lnTo>
                    <a:pt x="838" y="2692"/>
                  </a:lnTo>
                  <a:lnTo>
                    <a:pt x="844" y="2702"/>
                  </a:lnTo>
                  <a:lnTo>
                    <a:pt x="846" y="2714"/>
                  </a:lnTo>
                  <a:lnTo>
                    <a:pt x="844" y="2726"/>
                  </a:lnTo>
                  <a:lnTo>
                    <a:pt x="840" y="2736"/>
                  </a:lnTo>
                  <a:lnTo>
                    <a:pt x="836" y="2748"/>
                  </a:lnTo>
                  <a:lnTo>
                    <a:pt x="828" y="2760"/>
                  </a:lnTo>
                  <a:lnTo>
                    <a:pt x="818" y="2770"/>
                  </a:lnTo>
                  <a:lnTo>
                    <a:pt x="808" y="2780"/>
                  </a:lnTo>
                  <a:lnTo>
                    <a:pt x="796" y="2788"/>
                  </a:lnTo>
                  <a:lnTo>
                    <a:pt x="782" y="2794"/>
                  </a:lnTo>
                  <a:lnTo>
                    <a:pt x="770" y="2800"/>
                  </a:lnTo>
                  <a:lnTo>
                    <a:pt x="756" y="2802"/>
                  </a:lnTo>
                  <a:lnTo>
                    <a:pt x="756" y="2802"/>
                  </a:lnTo>
                  <a:lnTo>
                    <a:pt x="752" y="2794"/>
                  </a:lnTo>
                  <a:lnTo>
                    <a:pt x="746" y="2784"/>
                  </a:lnTo>
                  <a:lnTo>
                    <a:pt x="740" y="2776"/>
                  </a:lnTo>
                  <a:lnTo>
                    <a:pt x="732" y="2770"/>
                  </a:lnTo>
                  <a:lnTo>
                    <a:pt x="722" y="2764"/>
                  </a:lnTo>
                  <a:lnTo>
                    <a:pt x="712" y="2758"/>
                  </a:lnTo>
                  <a:lnTo>
                    <a:pt x="702" y="2756"/>
                  </a:lnTo>
                  <a:lnTo>
                    <a:pt x="692" y="2754"/>
                  </a:lnTo>
                  <a:lnTo>
                    <a:pt x="682" y="2752"/>
                  </a:lnTo>
                  <a:lnTo>
                    <a:pt x="672" y="2754"/>
                  </a:lnTo>
                  <a:lnTo>
                    <a:pt x="662" y="2756"/>
                  </a:lnTo>
                  <a:lnTo>
                    <a:pt x="652" y="2762"/>
                  </a:lnTo>
                  <a:lnTo>
                    <a:pt x="644" y="2768"/>
                  </a:lnTo>
                  <a:lnTo>
                    <a:pt x="638" y="2776"/>
                  </a:lnTo>
                  <a:lnTo>
                    <a:pt x="632" y="2788"/>
                  </a:lnTo>
                  <a:lnTo>
                    <a:pt x="628" y="2802"/>
                  </a:lnTo>
                  <a:lnTo>
                    <a:pt x="628" y="2802"/>
                  </a:lnTo>
                  <a:lnTo>
                    <a:pt x="606" y="2788"/>
                  </a:lnTo>
                  <a:lnTo>
                    <a:pt x="586" y="2774"/>
                  </a:lnTo>
                  <a:lnTo>
                    <a:pt x="578" y="2764"/>
                  </a:lnTo>
                  <a:lnTo>
                    <a:pt x="572" y="2756"/>
                  </a:lnTo>
                  <a:lnTo>
                    <a:pt x="568" y="2746"/>
                  </a:lnTo>
                  <a:lnTo>
                    <a:pt x="564" y="2736"/>
                  </a:lnTo>
                  <a:lnTo>
                    <a:pt x="562" y="2726"/>
                  </a:lnTo>
                  <a:lnTo>
                    <a:pt x="560" y="2716"/>
                  </a:lnTo>
                  <a:lnTo>
                    <a:pt x="562" y="2706"/>
                  </a:lnTo>
                  <a:lnTo>
                    <a:pt x="566" y="2696"/>
                  </a:lnTo>
                  <a:lnTo>
                    <a:pt x="570" y="2686"/>
                  </a:lnTo>
                  <a:lnTo>
                    <a:pt x="578" y="2674"/>
                  </a:lnTo>
                  <a:lnTo>
                    <a:pt x="588" y="2664"/>
                  </a:lnTo>
                  <a:lnTo>
                    <a:pt x="600" y="2656"/>
                  </a:lnTo>
                  <a:lnTo>
                    <a:pt x="600" y="2656"/>
                  </a:lnTo>
                  <a:lnTo>
                    <a:pt x="584" y="2652"/>
                  </a:lnTo>
                  <a:lnTo>
                    <a:pt x="570" y="2650"/>
                  </a:lnTo>
                  <a:lnTo>
                    <a:pt x="556" y="2650"/>
                  </a:lnTo>
                  <a:lnTo>
                    <a:pt x="544" y="2652"/>
                  </a:lnTo>
                  <a:lnTo>
                    <a:pt x="530" y="2656"/>
                  </a:lnTo>
                  <a:lnTo>
                    <a:pt x="520" y="2660"/>
                  </a:lnTo>
                  <a:lnTo>
                    <a:pt x="510" y="2666"/>
                  </a:lnTo>
                  <a:lnTo>
                    <a:pt x="500" y="2674"/>
                  </a:lnTo>
                  <a:lnTo>
                    <a:pt x="494" y="2682"/>
                  </a:lnTo>
                  <a:lnTo>
                    <a:pt x="488" y="2692"/>
                  </a:lnTo>
                  <a:lnTo>
                    <a:pt x="484" y="2704"/>
                  </a:lnTo>
                  <a:lnTo>
                    <a:pt x="482" y="2718"/>
                  </a:lnTo>
                  <a:lnTo>
                    <a:pt x="482" y="2732"/>
                  </a:lnTo>
                  <a:lnTo>
                    <a:pt x="484" y="2748"/>
                  </a:lnTo>
                  <a:lnTo>
                    <a:pt x="488" y="2764"/>
                  </a:lnTo>
                  <a:lnTo>
                    <a:pt x="496" y="2784"/>
                  </a:lnTo>
                  <a:lnTo>
                    <a:pt x="496" y="2784"/>
                  </a:lnTo>
                  <a:lnTo>
                    <a:pt x="486" y="2784"/>
                  </a:lnTo>
                  <a:lnTo>
                    <a:pt x="480" y="2784"/>
                  </a:lnTo>
                  <a:lnTo>
                    <a:pt x="472" y="2788"/>
                  </a:lnTo>
                  <a:lnTo>
                    <a:pt x="466" y="2794"/>
                  </a:lnTo>
                  <a:lnTo>
                    <a:pt x="462" y="2800"/>
                  </a:lnTo>
                  <a:lnTo>
                    <a:pt x="458" y="2806"/>
                  </a:lnTo>
                  <a:lnTo>
                    <a:pt x="456" y="2816"/>
                  </a:lnTo>
                  <a:lnTo>
                    <a:pt x="456" y="2824"/>
                  </a:lnTo>
                  <a:lnTo>
                    <a:pt x="456" y="2834"/>
                  </a:lnTo>
                  <a:lnTo>
                    <a:pt x="458" y="2846"/>
                  </a:lnTo>
                  <a:lnTo>
                    <a:pt x="462" y="2858"/>
                  </a:lnTo>
                  <a:lnTo>
                    <a:pt x="466" y="2870"/>
                  </a:lnTo>
                  <a:lnTo>
                    <a:pt x="474" y="2882"/>
                  </a:lnTo>
                  <a:lnTo>
                    <a:pt x="484" y="2894"/>
                  </a:lnTo>
                  <a:lnTo>
                    <a:pt x="494" y="2906"/>
                  </a:lnTo>
                  <a:lnTo>
                    <a:pt x="508" y="2920"/>
                  </a:lnTo>
                  <a:lnTo>
                    <a:pt x="508" y="2920"/>
                  </a:lnTo>
                  <a:lnTo>
                    <a:pt x="480" y="2910"/>
                  </a:lnTo>
                  <a:lnTo>
                    <a:pt x="454" y="2898"/>
                  </a:lnTo>
                  <a:lnTo>
                    <a:pt x="432" y="2884"/>
                  </a:lnTo>
                  <a:lnTo>
                    <a:pt x="410" y="2868"/>
                  </a:lnTo>
                  <a:lnTo>
                    <a:pt x="392" y="2850"/>
                  </a:lnTo>
                  <a:lnTo>
                    <a:pt x="376" y="2832"/>
                  </a:lnTo>
                  <a:lnTo>
                    <a:pt x="362" y="2812"/>
                  </a:lnTo>
                  <a:lnTo>
                    <a:pt x="350" y="2792"/>
                  </a:lnTo>
                  <a:lnTo>
                    <a:pt x="340" y="2770"/>
                  </a:lnTo>
                  <a:lnTo>
                    <a:pt x="332" y="2748"/>
                  </a:lnTo>
                  <a:lnTo>
                    <a:pt x="326" y="2728"/>
                  </a:lnTo>
                  <a:lnTo>
                    <a:pt x="322" y="2706"/>
                  </a:lnTo>
                  <a:lnTo>
                    <a:pt x="318" y="2686"/>
                  </a:lnTo>
                  <a:lnTo>
                    <a:pt x="318" y="2666"/>
                  </a:lnTo>
                  <a:lnTo>
                    <a:pt x="318" y="2648"/>
                  </a:lnTo>
                  <a:lnTo>
                    <a:pt x="320" y="2632"/>
                  </a:lnTo>
                  <a:lnTo>
                    <a:pt x="320" y="2632"/>
                  </a:lnTo>
                  <a:lnTo>
                    <a:pt x="324" y="2618"/>
                  </a:lnTo>
                  <a:lnTo>
                    <a:pt x="328" y="2606"/>
                  </a:lnTo>
                  <a:lnTo>
                    <a:pt x="340" y="2584"/>
                  </a:lnTo>
                  <a:lnTo>
                    <a:pt x="356" y="2566"/>
                  </a:lnTo>
                  <a:lnTo>
                    <a:pt x="374" y="2550"/>
                  </a:lnTo>
                  <a:lnTo>
                    <a:pt x="394" y="2538"/>
                  </a:lnTo>
                  <a:lnTo>
                    <a:pt x="414" y="2530"/>
                  </a:lnTo>
                  <a:lnTo>
                    <a:pt x="434" y="2526"/>
                  </a:lnTo>
                  <a:lnTo>
                    <a:pt x="444" y="2526"/>
                  </a:lnTo>
                  <a:lnTo>
                    <a:pt x="454" y="2528"/>
                  </a:lnTo>
                  <a:lnTo>
                    <a:pt x="454" y="2528"/>
                  </a:lnTo>
                  <a:lnTo>
                    <a:pt x="446" y="2506"/>
                  </a:lnTo>
                  <a:lnTo>
                    <a:pt x="436" y="2488"/>
                  </a:lnTo>
                  <a:lnTo>
                    <a:pt x="426" y="2476"/>
                  </a:lnTo>
                  <a:lnTo>
                    <a:pt x="412" y="2468"/>
                  </a:lnTo>
                  <a:lnTo>
                    <a:pt x="398" y="2464"/>
                  </a:lnTo>
                  <a:lnTo>
                    <a:pt x="382" y="2464"/>
                  </a:lnTo>
                  <a:lnTo>
                    <a:pt x="366" y="2468"/>
                  </a:lnTo>
                  <a:lnTo>
                    <a:pt x="352" y="2476"/>
                  </a:lnTo>
                  <a:lnTo>
                    <a:pt x="352" y="2476"/>
                  </a:lnTo>
                  <a:lnTo>
                    <a:pt x="344" y="2472"/>
                  </a:lnTo>
                  <a:lnTo>
                    <a:pt x="336" y="2464"/>
                  </a:lnTo>
                  <a:lnTo>
                    <a:pt x="330" y="2456"/>
                  </a:lnTo>
                  <a:lnTo>
                    <a:pt x="326" y="2448"/>
                  </a:lnTo>
                  <a:lnTo>
                    <a:pt x="322" y="2438"/>
                  </a:lnTo>
                  <a:lnTo>
                    <a:pt x="320" y="2428"/>
                  </a:lnTo>
                  <a:lnTo>
                    <a:pt x="320" y="2418"/>
                  </a:lnTo>
                  <a:lnTo>
                    <a:pt x="322" y="2408"/>
                  </a:lnTo>
                  <a:lnTo>
                    <a:pt x="322" y="2408"/>
                  </a:lnTo>
                  <a:lnTo>
                    <a:pt x="330" y="2396"/>
                  </a:lnTo>
                  <a:lnTo>
                    <a:pt x="338" y="2388"/>
                  </a:lnTo>
                  <a:lnTo>
                    <a:pt x="346" y="2384"/>
                  </a:lnTo>
                  <a:lnTo>
                    <a:pt x="356" y="2384"/>
                  </a:lnTo>
                  <a:lnTo>
                    <a:pt x="366" y="2386"/>
                  </a:lnTo>
                  <a:lnTo>
                    <a:pt x="376" y="2392"/>
                  </a:lnTo>
                  <a:lnTo>
                    <a:pt x="386" y="2398"/>
                  </a:lnTo>
                  <a:lnTo>
                    <a:pt x="394" y="2408"/>
                  </a:lnTo>
                  <a:lnTo>
                    <a:pt x="394" y="2408"/>
                  </a:lnTo>
                  <a:lnTo>
                    <a:pt x="394" y="2396"/>
                  </a:lnTo>
                  <a:lnTo>
                    <a:pt x="392" y="2386"/>
                  </a:lnTo>
                  <a:lnTo>
                    <a:pt x="390" y="2376"/>
                  </a:lnTo>
                  <a:lnTo>
                    <a:pt x="388" y="2366"/>
                  </a:lnTo>
                  <a:lnTo>
                    <a:pt x="378" y="2348"/>
                  </a:lnTo>
                  <a:lnTo>
                    <a:pt x="364" y="2334"/>
                  </a:lnTo>
                  <a:lnTo>
                    <a:pt x="356" y="2330"/>
                  </a:lnTo>
                  <a:lnTo>
                    <a:pt x="348" y="2324"/>
                  </a:lnTo>
                  <a:lnTo>
                    <a:pt x="340" y="2322"/>
                  </a:lnTo>
                  <a:lnTo>
                    <a:pt x="332" y="2320"/>
                  </a:lnTo>
                  <a:lnTo>
                    <a:pt x="322" y="2320"/>
                  </a:lnTo>
                  <a:lnTo>
                    <a:pt x="312" y="2320"/>
                  </a:lnTo>
                  <a:lnTo>
                    <a:pt x="302" y="2322"/>
                  </a:lnTo>
                  <a:lnTo>
                    <a:pt x="292" y="2326"/>
                  </a:lnTo>
                  <a:lnTo>
                    <a:pt x="292" y="2326"/>
                  </a:lnTo>
                  <a:lnTo>
                    <a:pt x="284" y="2332"/>
                  </a:lnTo>
                  <a:lnTo>
                    <a:pt x="278" y="2340"/>
                  </a:lnTo>
                  <a:lnTo>
                    <a:pt x="272" y="2348"/>
                  </a:lnTo>
                  <a:lnTo>
                    <a:pt x="268" y="2358"/>
                  </a:lnTo>
                  <a:lnTo>
                    <a:pt x="266" y="2370"/>
                  </a:lnTo>
                  <a:lnTo>
                    <a:pt x="266" y="2382"/>
                  </a:lnTo>
                  <a:lnTo>
                    <a:pt x="266" y="2394"/>
                  </a:lnTo>
                  <a:lnTo>
                    <a:pt x="268" y="2408"/>
                  </a:lnTo>
                  <a:lnTo>
                    <a:pt x="270" y="2420"/>
                  </a:lnTo>
                  <a:lnTo>
                    <a:pt x="276" y="2432"/>
                  </a:lnTo>
                  <a:lnTo>
                    <a:pt x="282" y="2444"/>
                  </a:lnTo>
                  <a:lnTo>
                    <a:pt x="290" y="2456"/>
                  </a:lnTo>
                  <a:lnTo>
                    <a:pt x="300" y="2466"/>
                  </a:lnTo>
                  <a:lnTo>
                    <a:pt x="312" y="2474"/>
                  </a:lnTo>
                  <a:lnTo>
                    <a:pt x="324" y="2480"/>
                  </a:lnTo>
                  <a:lnTo>
                    <a:pt x="340" y="2486"/>
                  </a:lnTo>
                  <a:lnTo>
                    <a:pt x="340" y="2486"/>
                  </a:lnTo>
                  <a:lnTo>
                    <a:pt x="330" y="2498"/>
                  </a:lnTo>
                  <a:lnTo>
                    <a:pt x="320" y="2510"/>
                  </a:lnTo>
                  <a:lnTo>
                    <a:pt x="310" y="2526"/>
                  </a:lnTo>
                  <a:lnTo>
                    <a:pt x="304" y="2542"/>
                  </a:lnTo>
                  <a:lnTo>
                    <a:pt x="304" y="2542"/>
                  </a:lnTo>
                  <a:lnTo>
                    <a:pt x="302" y="2536"/>
                  </a:lnTo>
                  <a:lnTo>
                    <a:pt x="302" y="2530"/>
                  </a:lnTo>
                  <a:lnTo>
                    <a:pt x="294" y="2516"/>
                  </a:lnTo>
                  <a:lnTo>
                    <a:pt x="282" y="2502"/>
                  </a:lnTo>
                  <a:lnTo>
                    <a:pt x="266" y="2490"/>
                  </a:lnTo>
                  <a:lnTo>
                    <a:pt x="266" y="2490"/>
                  </a:lnTo>
                  <a:lnTo>
                    <a:pt x="260" y="2504"/>
                  </a:lnTo>
                  <a:lnTo>
                    <a:pt x="254" y="2520"/>
                  </a:lnTo>
                  <a:lnTo>
                    <a:pt x="250" y="2540"/>
                  </a:lnTo>
                  <a:lnTo>
                    <a:pt x="248" y="2558"/>
                  </a:lnTo>
                  <a:lnTo>
                    <a:pt x="248" y="2580"/>
                  </a:lnTo>
                  <a:lnTo>
                    <a:pt x="250" y="2602"/>
                  </a:lnTo>
                  <a:lnTo>
                    <a:pt x="252" y="2626"/>
                  </a:lnTo>
                  <a:lnTo>
                    <a:pt x="254" y="2650"/>
                  </a:lnTo>
                  <a:lnTo>
                    <a:pt x="266" y="2700"/>
                  </a:lnTo>
                  <a:lnTo>
                    <a:pt x="282" y="2750"/>
                  </a:lnTo>
                  <a:lnTo>
                    <a:pt x="302" y="2800"/>
                  </a:lnTo>
                  <a:lnTo>
                    <a:pt x="312" y="2824"/>
                  </a:lnTo>
                  <a:lnTo>
                    <a:pt x="324" y="2846"/>
                  </a:lnTo>
                  <a:lnTo>
                    <a:pt x="324" y="2846"/>
                  </a:lnTo>
                  <a:lnTo>
                    <a:pt x="300" y="2826"/>
                  </a:lnTo>
                  <a:lnTo>
                    <a:pt x="276" y="2806"/>
                  </a:lnTo>
                  <a:lnTo>
                    <a:pt x="254" y="2784"/>
                  </a:lnTo>
                  <a:lnTo>
                    <a:pt x="234" y="2760"/>
                  </a:lnTo>
                  <a:lnTo>
                    <a:pt x="216" y="2736"/>
                  </a:lnTo>
                  <a:lnTo>
                    <a:pt x="200" y="2712"/>
                  </a:lnTo>
                  <a:lnTo>
                    <a:pt x="186" y="2684"/>
                  </a:lnTo>
                  <a:lnTo>
                    <a:pt x="172" y="2658"/>
                  </a:lnTo>
                  <a:lnTo>
                    <a:pt x="160" y="2630"/>
                  </a:lnTo>
                  <a:lnTo>
                    <a:pt x="150" y="2602"/>
                  </a:lnTo>
                  <a:lnTo>
                    <a:pt x="142" y="2574"/>
                  </a:lnTo>
                  <a:lnTo>
                    <a:pt x="136" y="2544"/>
                  </a:lnTo>
                  <a:lnTo>
                    <a:pt x="132" y="2516"/>
                  </a:lnTo>
                  <a:lnTo>
                    <a:pt x="128" y="2486"/>
                  </a:lnTo>
                  <a:lnTo>
                    <a:pt x="126" y="2456"/>
                  </a:lnTo>
                  <a:lnTo>
                    <a:pt x="126" y="2428"/>
                  </a:lnTo>
                  <a:lnTo>
                    <a:pt x="126" y="2428"/>
                  </a:lnTo>
                  <a:lnTo>
                    <a:pt x="130" y="2396"/>
                  </a:lnTo>
                  <a:lnTo>
                    <a:pt x="136" y="2364"/>
                  </a:lnTo>
                  <a:lnTo>
                    <a:pt x="144" y="2334"/>
                  </a:lnTo>
                  <a:lnTo>
                    <a:pt x="156" y="2304"/>
                  </a:lnTo>
                  <a:lnTo>
                    <a:pt x="170" y="2278"/>
                  </a:lnTo>
                  <a:lnTo>
                    <a:pt x="186" y="2252"/>
                  </a:lnTo>
                  <a:lnTo>
                    <a:pt x="204" y="2228"/>
                  </a:lnTo>
                  <a:lnTo>
                    <a:pt x="222" y="2208"/>
                  </a:lnTo>
                  <a:lnTo>
                    <a:pt x="242" y="2188"/>
                  </a:lnTo>
                  <a:lnTo>
                    <a:pt x="262" y="2172"/>
                  </a:lnTo>
                  <a:lnTo>
                    <a:pt x="284" y="2160"/>
                  </a:lnTo>
                  <a:lnTo>
                    <a:pt x="304" y="2148"/>
                  </a:lnTo>
                  <a:lnTo>
                    <a:pt x="324" y="2140"/>
                  </a:lnTo>
                  <a:lnTo>
                    <a:pt x="342" y="2136"/>
                  </a:lnTo>
                  <a:lnTo>
                    <a:pt x="360" y="2136"/>
                  </a:lnTo>
                  <a:lnTo>
                    <a:pt x="376" y="2138"/>
                  </a:lnTo>
                  <a:lnTo>
                    <a:pt x="376" y="2138"/>
                  </a:lnTo>
                  <a:lnTo>
                    <a:pt x="374" y="2130"/>
                  </a:lnTo>
                  <a:lnTo>
                    <a:pt x="370" y="2122"/>
                  </a:lnTo>
                  <a:lnTo>
                    <a:pt x="364" y="2116"/>
                  </a:lnTo>
                  <a:lnTo>
                    <a:pt x="356" y="2110"/>
                  </a:lnTo>
                  <a:lnTo>
                    <a:pt x="348" y="2106"/>
                  </a:lnTo>
                  <a:lnTo>
                    <a:pt x="338" y="2104"/>
                  </a:lnTo>
                  <a:lnTo>
                    <a:pt x="314" y="2100"/>
                  </a:lnTo>
                  <a:lnTo>
                    <a:pt x="288" y="2100"/>
                  </a:lnTo>
                  <a:lnTo>
                    <a:pt x="260" y="2104"/>
                  </a:lnTo>
                  <a:lnTo>
                    <a:pt x="230" y="2112"/>
                  </a:lnTo>
                  <a:lnTo>
                    <a:pt x="200" y="2124"/>
                  </a:lnTo>
                  <a:lnTo>
                    <a:pt x="200" y="2124"/>
                  </a:lnTo>
                  <a:lnTo>
                    <a:pt x="206" y="2118"/>
                  </a:lnTo>
                  <a:lnTo>
                    <a:pt x="210" y="2110"/>
                  </a:lnTo>
                  <a:lnTo>
                    <a:pt x="212" y="2102"/>
                  </a:lnTo>
                  <a:lnTo>
                    <a:pt x="214" y="2092"/>
                  </a:lnTo>
                  <a:lnTo>
                    <a:pt x="214" y="2072"/>
                  </a:lnTo>
                  <a:lnTo>
                    <a:pt x="210" y="2048"/>
                  </a:lnTo>
                  <a:lnTo>
                    <a:pt x="204" y="2024"/>
                  </a:lnTo>
                  <a:lnTo>
                    <a:pt x="196" y="2004"/>
                  </a:lnTo>
                  <a:lnTo>
                    <a:pt x="186" y="1986"/>
                  </a:lnTo>
                  <a:lnTo>
                    <a:pt x="176" y="1974"/>
                  </a:lnTo>
                  <a:lnTo>
                    <a:pt x="176" y="1974"/>
                  </a:lnTo>
                  <a:lnTo>
                    <a:pt x="186" y="1958"/>
                  </a:lnTo>
                  <a:lnTo>
                    <a:pt x="196" y="1942"/>
                  </a:lnTo>
                  <a:lnTo>
                    <a:pt x="208" y="1928"/>
                  </a:lnTo>
                  <a:lnTo>
                    <a:pt x="224" y="1914"/>
                  </a:lnTo>
                  <a:lnTo>
                    <a:pt x="240" y="1902"/>
                  </a:lnTo>
                  <a:lnTo>
                    <a:pt x="256" y="1892"/>
                  </a:lnTo>
                  <a:lnTo>
                    <a:pt x="274" y="1882"/>
                  </a:lnTo>
                  <a:lnTo>
                    <a:pt x="294" y="1876"/>
                  </a:lnTo>
                  <a:lnTo>
                    <a:pt x="314" y="1870"/>
                  </a:lnTo>
                  <a:lnTo>
                    <a:pt x="332" y="1866"/>
                  </a:lnTo>
                  <a:lnTo>
                    <a:pt x="352" y="1864"/>
                  </a:lnTo>
                  <a:lnTo>
                    <a:pt x="372" y="1862"/>
                  </a:lnTo>
                  <a:lnTo>
                    <a:pt x="390" y="1864"/>
                  </a:lnTo>
                  <a:lnTo>
                    <a:pt x="410" y="1868"/>
                  </a:lnTo>
                  <a:lnTo>
                    <a:pt x="426" y="1876"/>
                  </a:lnTo>
                  <a:lnTo>
                    <a:pt x="442" y="1884"/>
                  </a:lnTo>
                  <a:lnTo>
                    <a:pt x="442" y="1884"/>
                  </a:lnTo>
                  <a:lnTo>
                    <a:pt x="442" y="1876"/>
                  </a:lnTo>
                  <a:lnTo>
                    <a:pt x="440" y="1870"/>
                  </a:lnTo>
                  <a:lnTo>
                    <a:pt x="432" y="1856"/>
                  </a:lnTo>
                  <a:lnTo>
                    <a:pt x="422" y="1846"/>
                  </a:lnTo>
                  <a:lnTo>
                    <a:pt x="408" y="1838"/>
                  </a:lnTo>
                  <a:lnTo>
                    <a:pt x="392" y="1830"/>
                  </a:lnTo>
                  <a:lnTo>
                    <a:pt x="374" y="1826"/>
                  </a:lnTo>
                  <a:lnTo>
                    <a:pt x="356" y="1822"/>
                  </a:lnTo>
                  <a:lnTo>
                    <a:pt x="340" y="1822"/>
                  </a:lnTo>
                  <a:lnTo>
                    <a:pt x="340" y="1822"/>
                  </a:lnTo>
                  <a:lnTo>
                    <a:pt x="378" y="1806"/>
                  </a:lnTo>
                  <a:lnTo>
                    <a:pt x="412" y="1794"/>
                  </a:lnTo>
                  <a:lnTo>
                    <a:pt x="446" y="1786"/>
                  </a:lnTo>
                  <a:lnTo>
                    <a:pt x="476" y="1782"/>
                  </a:lnTo>
                  <a:lnTo>
                    <a:pt x="504" y="1780"/>
                  </a:lnTo>
                  <a:lnTo>
                    <a:pt x="530" y="1782"/>
                  </a:lnTo>
                  <a:lnTo>
                    <a:pt x="552" y="1786"/>
                  </a:lnTo>
                  <a:lnTo>
                    <a:pt x="572" y="1792"/>
                  </a:lnTo>
                  <a:lnTo>
                    <a:pt x="590" y="1800"/>
                  </a:lnTo>
                  <a:lnTo>
                    <a:pt x="606" y="1810"/>
                  </a:lnTo>
                  <a:lnTo>
                    <a:pt x="618" y="1822"/>
                  </a:lnTo>
                  <a:lnTo>
                    <a:pt x="630" y="1836"/>
                  </a:lnTo>
                  <a:lnTo>
                    <a:pt x="638" y="1850"/>
                  </a:lnTo>
                  <a:lnTo>
                    <a:pt x="644" y="1866"/>
                  </a:lnTo>
                  <a:lnTo>
                    <a:pt x="646" y="1882"/>
                  </a:lnTo>
                  <a:lnTo>
                    <a:pt x="648" y="1898"/>
                  </a:lnTo>
                  <a:lnTo>
                    <a:pt x="648" y="1898"/>
                  </a:lnTo>
                  <a:lnTo>
                    <a:pt x="646" y="1918"/>
                  </a:lnTo>
                  <a:lnTo>
                    <a:pt x="642" y="1936"/>
                  </a:lnTo>
                  <a:lnTo>
                    <a:pt x="638" y="1950"/>
                  </a:lnTo>
                  <a:lnTo>
                    <a:pt x="630" y="1966"/>
                  </a:lnTo>
                  <a:lnTo>
                    <a:pt x="630" y="1966"/>
                  </a:lnTo>
                  <a:lnTo>
                    <a:pt x="618" y="1984"/>
                  </a:lnTo>
                  <a:lnTo>
                    <a:pt x="604" y="2000"/>
                  </a:lnTo>
                  <a:lnTo>
                    <a:pt x="588" y="2012"/>
                  </a:lnTo>
                  <a:lnTo>
                    <a:pt x="574" y="2022"/>
                  </a:lnTo>
                  <a:lnTo>
                    <a:pt x="558" y="2026"/>
                  </a:lnTo>
                  <a:lnTo>
                    <a:pt x="550" y="2028"/>
                  </a:lnTo>
                  <a:lnTo>
                    <a:pt x="542" y="2028"/>
                  </a:lnTo>
                  <a:lnTo>
                    <a:pt x="534" y="2026"/>
                  </a:lnTo>
                  <a:lnTo>
                    <a:pt x="528" y="2022"/>
                  </a:lnTo>
                  <a:lnTo>
                    <a:pt x="520" y="2018"/>
                  </a:lnTo>
                  <a:lnTo>
                    <a:pt x="512" y="2012"/>
                  </a:lnTo>
                  <a:lnTo>
                    <a:pt x="512" y="2012"/>
                  </a:lnTo>
                  <a:lnTo>
                    <a:pt x="506" y="2006"/>
                  </a:lnTo>
                  <a:lnTo>
                    <a:pt x="502" y="2000"/>
                  </a:lnTo>
                  <a:lnTo>
                    <a:pt x="498" y="1992"/>
                  </a:lnTo>
                  <a:lnTo>
                    <a:pt x="496" y="1986"/>
                  </a:lnTo>
                  <a:lnTo>
                    <a:pt x="496" y="1978"/>
                  </a:lnTo>
                  <a:lnTo>
                    <a:pt x="496" y="1972"/>
                  </a:lnTo>
                  <a:lnTo>
                    <a:pt x="502" y="1960"/>
                  </a:lnTo>
                  <a:lnTo>
                    <a:pt x="510" y="1948"/>
                  </a:lnTo>
                  <a:lnTo>
                    <a:pt x="520" y="1938"/>
                  </a:lnTo>
                  <a:lnTo>
                    <a:pt x="534" y="1930"/>
                  </a:lnTo>
                  <a:lnTo>
                    <a:pt x="548" y="1926"/>
                  </a:lnTo>
                  <a:lnTo>
                    <a:pt x="548" y="1926"/>
                  </a:lnTo>
                  <a:lnTo>
                    <a:pt x="536" y="1920"/>
                  </a:lnTo>
                  <a:lnTo>
                    <a:pt x="522" y="1916"/>
                  </a:lnTo>
                  <a:lnTo>
                    <a:pt x="508" y="1914"/>
                  </a:lnTo>
                  <a:lnTo>
                    <a:pt x="494" y="1912"/>
                  </a:lnTo>
                  <a:lnTo>
                    <a:pt x="482" y="1914"/>
                  </a:lnTo>
                  <a:lnTo>
                    <a:pt x="468" y="1916"/>
                  </a:lnTo>
                  <a:lnTo>
                    <a:pt x="456" y="1920"/>
                  </a:lnTo>
                  <a:lnTo>
                    <a:pt x="444" y="1924"/>
                  </a:lnTo>
                  <a:lnTo>
                    <a:pt x="434" y="1930"/>
                  </a:lnTo>
                  <a:lnTo>
                    <a:pt x="424" y="1938"/>
                  </a:lnTo>
                  <a:lnTo>
                    <a:pt x="416" y="1948"/>
                  </a:lnTo>
                  <a:lnTo>
                    <a:pt x="408" y="1958"/>
                  </a:lnTo>
                  <a:lnTo>
                    <a:pt x="404" y="1970"/>
                  </a:lnTo>
                  <a:lnTo>
                    <a:pt x="400" y="1982"/>
                  </a:lnTo>
                  <a:lnTo>
                    <a:pt x="398" y="1994"/>
                  </a:lnTo>
                  <a:lnTo>
                    <a:pt x="398" y="2010"/>
                  </a:lnTo>
                  <a:lnTo>
                    <a:pt x="398" y="2010"/>
                  </a:lnTo>
                  <a:lnTo>
                    <a:pt x="400" y="2024"/>
                  </a:lnTo>
                  <a:lnTo>
                    <a:pt x="404" y="2036"/>
                  </a:lnTo>
                  <a:lnTo>
                    <a:pt x="412" y="2050"/>
                  </a:lnTo>
                  <a:lnTo>
                    <a:pt x="420" y="2062"/>
                  </a:lnTo>
                  <a:lnTo>
                    <a:pt x="432" y="2072"/>
                  </a:lnTo>
                  <a:lnTo>
                    <a:pt x="444" y="2082"/>
                  </a:lnTo>
                  <a:lnTo>
                    <a:pt x="458" y="2090"/>
                  </a:lnTo>
                  <a:lnTo>
                    <a:pt x="474" y="2098"/>
                  </a:lnTo>
                  <a:lnTo>
                    <a:pt x="490" y="2102"/>
                  </a:lnTo>
                  <a:lnTo>
                    <a:pt x="508" y="2104"/>
                  </a:lnTo>
                  <a:lnTo>
                    <a:pt x="524" y="2102"/>
                  </a:lnTo>
                  <a:lnTo>
                    <a:pt x="542" y="2100"/>
                  </a:lnTo>
                  <a:lnTo>
                    <a:pt x="560" y="2092"/>
                  </a:lnTo>
                  <a:lnTo>
                    <a:pt x="578" y="2082"/>
                  </a:lnTo>
                  <a:lnTo>
                    <a:pt x="596" y="2068"/>
                  </a:lnTo>
                  <a:lnTo>
                    <a:pt x="612" y="2050"/>
                  </a:lnTo>
                  <a:lnTo>
                    <a:pt x="612" y="2050"/>
                  </a:lnTo>
                  <a:lnTo>
                    <a:pt x="620" y="2038"/>
                  </a:lnTo>
                  <a:lnTo>
                    <a:pt x="620" y="2038"/>
                  </a:lnTo>
                  <a:lnTo>
                    <a:pt x="630" y="2022"/>
                  </a:lnTo>
                  <a:lnTo>
                    <a:pt x="640" y="2004"/>
                  </a:lnTo>
                  <a:lnTo>
                    <a:pt x="648" y="1984"/>
                  </a:lnTo>
                  <a:lnTo>
                    <a:pt x="654" y="1966"/>
                  </a:lnTo>
                  <a:lnTo>
                    <a:pt x="664" y="1930"/>
                  </a:lnTo>
                  <a:lnTo>
                    <a:pt x="668" y="1898"/>
                  </a:lnTo>
                  <a:lnTo>
                    <a:pt x="668" y="1898"/>
                  </a:lnTo>
                  <a:lnTo>
                    <a:pt x="666" y="1866"/>
                  </a:lnTo>
                  <a:lnTo>
                    <a:pt x="664" y="1848"/>
                  </a:lnTo>
                  <a:lnTo>
                    <a:pt x="660" y="1832"/>
                  </a:lnTo>
                  <a:lnTo>
                    <a:pt x="656" y="1818"/>
                  </a:lnTo>
                  <a:lnTo>
                    <a:pt x="650" y="1802"/>
                  </a:lnTo>
                  <a:lnTo>
                    <a:pt x="642" y="1790"/>
                  </a:lnTo>
                  <a:lnTo>
                    <a:pt x="634" y="1776"/>
                  </a:lnTo>
                  <a:lnTo>
                    <a:pt x="624" y="1766"/>
                  </a:lnTo>
                  <a:lnTo>
                    <a:pt x="614" y="1756"/>
                  </a:lnTo>
                  <a:lnTo>
                    <a:pt x="602" y="1746"/>
                  </a:lnTo>
                  <a:lnTo>
                    <a:pt x="588" y="1740"/>
                  </a:lnTo>
                  <a:lnTo>
                    <a:pt x="574" y="1734"/>
                  </a:lnTo>
                  <a:lnTo>
                    <a:pt x="558" y="1730"/>
                  </a:lnTo>
                  <a:lnTo>
                    <a:pt x="542" y="1730"/>
                  </a:lnTo>
                  <a:lnTo>
                    <a:pt x="524" y="1730"/>
                  </a:lnTo>
                  <a:lnTo>
                    <a:pt x="524" y="1730"/>
                  </a:lnTo>
                  <a:lnTo>
                    <a:pt x="550" y="1720"/>
                  </a:lnTo>
                  <a:lnTo>
                    <a:pt x="574" y="1714"/>
                  </a:lnTo>
                  <a:lnTo>
                    <a:pt x="574" y="1714"/>
                  </a:lnTo>
                  <a:lnTo>
                    <a:pt x="600" y="1710"/>
                  </a:lnTo>
                  <a:lnTo>
                    <a:pt x="626" y="1710"/>
                  </a:lnTo>
                  <a:lnTo>
                    <a:pt x="650" y="1712"/>
                  </a:lnTo>
                  <a:lnTo>
                    <a:pt x="672" y="1716"/>
                  </a:lnTo>
                  <a:lnTo>
                    <a:pt x="692" y="1724"/>
                  </a:lnTo>
                  <a:lnTo>
                    <a:pt x="710" y="1734"/>
                  </a:lnTo>
                  <a:lnTo>
                    <a:pt x="728" y="1744"/>
                  </a:lnTo>
                  <a:lnTo>
                    <a:pt x="742" y="1758"/>
                  </a:lnTo>
                  <a:lnTo>
                    <a:pt x="754" y="1772"/>
                  </a:lnTo>
                  <a:lnTo>
                    <a:pt x="764" y="1788"/>
                  </a:lnTo>
                  <a:lnTo>
                    <a:pt x="772" y="1804"/>
                  </a:lnTo>
                  <a:lnTo>
                    <a:pt x="778" y="1822"/>
                  </a:lnTo>
                  <a:lnTo>
                    <a:pt x="780" y="1838"/>
                  </a:lnTo>
                  <a:lnTo>
                    <a:pt x="780" y="1856"/>
                  </a:lnTo>
                  <a:lnTo>
                    <a:pt x="778" y="1874"/>
                  </a:lnTo>
                  <a:lnTo>
                    <a:pt x="772" y="1892"/>
                  </a:lnTo>
                  <a:lnTo>
                    <a:pt x="772" y="1892"/>
                  </a:lnTo>
                  <a:lnTo>
                    <a:pt x="788" y="1882"/>
                  </a:lnTo>
                  <a:lnTo>
                    <a:pt x="804" y="1874"/>
                  </a:lnTo>
                  <a:lnTo>
                    <a:pt x="818" y="1862"/>
                  </a:lnTo>
                  <a:lnTo>
                    <a:pt x="828" y="1852"/>
                  </a:lnTo>
                  <a:lnTo>
                    <a:pt x="838" y="1838"/>
                  </a:lnTo>
                  <a:lnTo>
                    <a:pt x="844" y="1824"/>
                  </a:lnTo>
                  <a:lnTo>
                    <a:pt x="848" y="1808"/>
                  </a:lnTo>
                  <a:lnTo>
                    <a:pt x="850" y="1790"/>
                  </a:lnTo>
                  <a:lnTo>
                    <a:pt x="850" y="1790"/>
                  </a:lnTo>
                  <a:lnTo>
                    <a:pt x="862" y="1808"/>
                  </a:lnTo>
                  <a:lnTo>
                    <a:pt x="866" y="1818"/>
                  </a:lnTo>
                  <a:lnTo>
                    <a:pt x="870" y="1830"/>
                  </a:lnTo>
                  <a:lnTo>
                    <a:pt x="872" y="1840"/>
                  </a:lnTo>
                  <a:lnTo>
                    <a:pt x="874" y="1852"/>
                  </a:lnTo>
                  <a:lnTo>
                    <a:pt x="874" y="1864"/>
                  </a:lnTo>
                  <a:lnTo>
                    <a:pt x="872" y="1876"/>
                  </a:lnTo>
                  <a:lnTo>
                    <a:pt x="870" y="1888"/>
                  </a:lnTo>
                  <a:lnTo>
                    <a:pt x="866" y="1902"/>
                  </a:lnTo>
                  <a:lnTo>
                    <a:pt x="852" y="1928"/>
                  </a:lnTo>
                  <a:lnTo>
                    <a:pt x="836" y="1958"/>
                  </a:lnTo>
                  <a:lnTo>
                    <a:pt x="812" y="1986"/>
                  </a:lnTo>
                  <a:lnTo>
                    <a:pt x="812" y="1986"/>
                  </a:lnTo>
                  <a:lnTo>
                    <a:pt x="838" y="1978"/>
                  </a:lnTo>
                  <a:lnTo>
                    <a:pt x="860" y="1968"/>
                  </a:lnTo>
                  <a:lnTo>
                    <a:pt x="880" y="1956"/>
                  </a:lnTo>
                  <a:lnTo>
                    <a:pt x="896" y="1942"/>
                  </a:lnTo>
                  <a:lnTo>
                    <a:pt x="912" y="1928"/>
                  </a:lnTo>
                  <a:lnTo>
                    <a:pt x="924" y="1912"/>
                  </a:lnTo>
                  <a:lnTo>
                    <a:pt x="932" y="1898"/>
                  </a:lnTo>
                  <a:lnTo>
                    <a:pt x="940" y="1880"/>
                  </a:lnTo>
                  <a:lnTo>
                    <a:pt x="946" y="1864"/>
                  </a:lnTo>
                  <a:lnTo>
                    <a:pt x="950" y="1850"/>
                  </a:lnTo>
                  <a:lnTo>
                    <a:pt x="952" y="1834"/>
                  </a:lnTo>
                  <a:lnTo>
                    <a:pt x="952" y="1820"/>
                  </a:lnTo>
                  <a:lnTo>
                    <a:pt x="950" y="1794"/>
                  </a:lnTo>
                  <a:lnTo>
                    <a:pt x="946" y="1774"/>
                  </a:lnTo>
                  <a:lnTo>
                    <a:pt x="946" y="1774"/>
                  </a:lnTo>
                  <a:lnTo>
                    <a:pt x="952" y="1780"/>
                  </a:lnTo>
                  <a:lnTo>
                    <a:pt x="956" y="1786"/>
                  </a:lnTo>
                  <a:lnTo>
                    <a:pt x="966" y="1800"/>
                  </a:lnTo>
                  <a:lnTo>
                    <a:pt x="978" y="1814"/>
                  </a:lnTo>
                  <a:lnTo>
                    <a:pt x="988" y="1822"/>
                  </a:lnTo>
                  <a:lnTo>
                    <a:pt x="998" y="1830"/>
                  </a:lnTo>
                  <a:lnTo>
                    <a:pt x="998" y="1830"/>
                  </a:lnTo>
                  <a:lnTo>
                    <a:pt x="998" y="1812"/>
                  </a:lnTo>
                  <a:lnTo>
                    <a:pt x="998" y="1794"/>
                  </a:lnTo>
                  <a:lnTo>
                    <a:pt x="994" y="1776"/>
                  </a:lnTo>
                  <a:lnTo>
                    <a:pt x="990" y="1760"/>
                  </a:lnTo>
                  <a:lnTo>
                    <a:pt x="984" y="1744"/>
                  </a:lnTo>
                  <a:lnTo>
                    <a:pt x="978" y="1728"/>
                  </a:lnTo>
                  <a:lnTo>
                    <a:pt x="968" y="1714"/>
                  </a:lnTo>
                  <a:lnTo>
                    <a:pt x="958" y="1700"/>
                  </a:lnTo>
                  <a:lnTo>
                    <a:pt x="946" y="1686"/>
                  </a:lnTo>
                  <a:lnTo>
                    <a:pt x="934" y="1674"/>
                  </a:lnTo>
                  <a:lnTo>
                    <a:pt x="920" y="1662"/>
                  </a:lnTo>
                  <a:lnTo>
                    <a:pt x="904" y="1650"/>
                  </a:lnTo>
                  <a:lnTo>
                    <a:pt x="886" y="1640"/>
                  </a:lnTo>
                  <a:lnTo>
                    <a:pt x="868" y="1630"/>
                  </a:lnTo>
                  <a:lnTo>
                    <a:pt x="848" y="1622"/>
                  </a:lnTo>
                  <a:lnTo>
                    <a:pt x="828" y="1614"/>
                  </a:lnTo>
                  <a:lnTo>
                    <a:pt x="828" y="1614"/>
                  </a:lnTo>
                  <a:lnTo>
                    <a:pt x="800" y="1610"/>
                  </a:lnTo>
                  <a:lnTo>
                    <a:pt x="772" y="1608"/>
                  </a:lnTo>
                  <a:lnTo>
                    <a:pt x="744" y="1608"/>
                  </a:lnTo>
                  <a:lnTo>
                    <a:pt x="720" y="1610"/>
                  </a:lnTo>
                  <a:lnTo>
                    <a:pt x="720" y="1610"/>
                  </a:lnTo>
                  <a:lnTo>
                    <a:pt x="696" y="1610"/>
                  </a:lnTo>
                  <a:lnTo>
                    <a:pt x="672" y="1614"/>
                  </a:lnTo>
                  <a:lnTo>
                    <a:pt x="646" y="1618"/>
                  </a:lnTo>
                  <a:lnTo>
                    <a:pt x="620" y="1626"/>
                  </a:lnTo>
                  <a:lnTo>
                    <a:pt x="562" y="1646"/>
                  </a:lnTo>
                  <a:lnTo>
                    <a:pt x="504" y="1668"/>
                  </a:lnTo>
                  <a:lnTo>
                    <a:pt x="504" y="1668"/>
                  </a:lnTo>
                  <a:lnTo>
                    <a:pt x="442" y="1694"/>
                  </a:lnTo>
                  <a:lnTo>
                    <a:pt x="382" y="1718"/>
                  </a:lnTo>
                  <a:lnTo>
                    <a:pt x="382" y="1718"/>
                  </a:lnTo>
                  <a:lnTo>
                    <a:pt x="398" y="1706"/>
                  </a:lnTo>
                  <a:lnTo>
                    <a:pt x="416" y="1694"/>
                  </a:lnTo>
                  <a:lnTo>
                    <a:pt x="450" y="1662"/>
                  </a:lnTo>
                  <a:lnTo>
                    <a:pt x="486" y="1626"/>
                  </a:lnTo>
                  <a:lnTo>
                    <a:pt x="520" y="1584"/>
                  </a:lnTo>
                  <a:lnTo>
                    <a:pt x="552" y="1544"/>
                  </a:lnTo>
                  <a:lnTo>
                    <a:pt x="582" y="1504"/>
                  </a:lnTo>
                  <a:lnTo>
                    <a:pt x="626" y="1440"/>
                  </a:lnTo>
                  <a:lnTo>
                    <a:pt x="626" y="1440"/>
                  </a:lnTo>
                  <a:lnTo>
                    <a:pt x="634" y="1430"/>
                  </a:lnTo>
                  <a:lnTo>
                    <a:pt x="642" y="1414"/>
                  </a:lnTo>
                  <a:lnTo>
                    <a:pt x="654" y="1378"/>
                  </a:lnTo>
                  <a:lnTo>
                    <a:pt x="666" y="1342"/>
                  </a:lnTo>
                  <a:lnTo>
                    <a:pt x="672" y="1312"/>
                  </a:lnTo>
                  <a:lnTo>
                    <a:pt x="672" y="1312"/>
                  </a:lnTo>
                  <a:lnTo>
                    <a:pt x="684" y="1230"/>
                  </a:lnTo>
                  <a:lnTo>
                    <a:pt x="690" y="1152"/>
                  </a:lnTo>
                  <a:lnTo>
                    <a:pt x="692" y="1082"/>
                  </a:lnTo>
                  <a:lnTo>
                    <a:pt x="690" y="1018"/>
                  </a:lnTo>
                  <a:lnTo>
                    <a:pt x="686" y="988"/>
                  </a:lnTo>
                  <a:lnTo>
                    <a:pt x="682" y="960"/>
                  </a:lnTo>
                  <a:lnTo>
                    <a:pt x="678" y="934"/>
                  </a:lnTo>
                  <a:lnTo>
                    <a:pt x="672" y="910"/>
                  </a:lnTo>
                  <a:lnTo>
                    <a:pt x="664" y="886"/>
                  </a:lnTo>
                  <a:lnTo>
                    <a:pt x="656" y="864"/>
                  </a:lnTo>
                  <a:lnTo>
                    <a:pt x="648" y="842"/>
                  </a:lnTo>
                  <a:lnTo>
                    <a:pt x="638" y="822"/>
                  </a:lnTo>
                  <a:lnTo>
                    <a:pt x="628" y="804"/>
                  </a:lnTo>
                  <a:lnTo>
                    <a:pt x="616" y="788"/>
                  </a:lnTo>
                  <a:lnTo>
                    <a:pt x="604" y="772"/>
                  </a:lnTo>
                  <a:lnTo>
                    <a:pt x="592" y="758"/>
                  </a:lnTo>
                  <a:lnTo>
                    <a:pt x="578" y="744"/>
                  </a:lnTo>
                  <a:lnTo>
                    <a:pt x="564" y="732"/>
                  </a:lnTo>
                  <a:lnTo>
                    <a:pt x="548" y="722"/>
                  </a:lnTo>
                  <a:lnTo>
                    <a:pt x="534" y="712"/>
                  </a:lnTo>
                  <a:lnTo>
                    <a:pt x="518" y="704"/>
                  </a:lnTo>
                  <a:lnTo>
                    <a:pt x="502" y="696"/>
                  </a:lnTo>
                  <a:lnTo>
                    <a:pt x="468" y="686"/>
                  </a:lnTo>
                  <a:lnTo>
                    <a:pt x="432" y="678"/>
                  </a:lnTo>
                  <a:lnTo>
                    <a:pt x="394" y="674"/>
                  </a:lnTo>
                  <a:lnTo>
                    <a:pt x="394" y="674"/>
                  </a:lnTo>
                  <a:lnTo>
                    <a:pt x="410" y="664"/>
                  </a:lnTo>
                  <a:lnTo>
                    <a:pt x="424" y="654"/>
                  </a:lnTo>
                  <a:lnTo>
                    <a:pt x="436" y="642"/>
                  </a:lnTo>
                  <a:lnTo>
                    <a:pt x="446" y="630"/>
                  </a:lnTo>
                  <a:lnTo>
                    <a:pt x="454" y="618"/>
                  </a:lnTo>
                  <a:lnTo>
                    <a:pt x="460" y="606"/>
                  </a:lnTo>
                  <a:lnTo>
                    <a:pt x="464" y="592"/>
                  </a:lnTo>
                  <a:lnTo>
                    <a:pt x="468" y="580"/>
                  </a:lnTo>
                  <a:lnTo>
                    <a:pt x="468" y="568"/>
                  </a:lnTo>
                  <a:lnTo>
                    <a:pt x="468" y="554"/>
                  </a:lnTo>
                  <a:lnTo>
                    <a:pt x="466" y="542"/>
                  </a:lnTo>
                  <a:lnTo>
                    <a:pt x="464" y="530"/>
                  </a:lnTo>
                  <a:lnTo>
                    <a:pt x="456" y="506"/>
                  </a:lnTo>
                  <a:lnTo>
                    <a:pt x="442" y="486"/>
                  </a:lnTo>
                  <a:lnTo>
                    <a:pt x="426" y="468"/>
                  </a:lnTo>
                  <a:lnTo>
                    <a:pt x="408" y="456"/>
                  </a:lnTo>
                  <a:lnTo>
                    <a:pt x="398" y="450"/>
                  </a:lnTo>
                  <a:lnTo>
                    <a:pt x="388" y="446"/>
                  </a:lnTo>
                  <a:lnTo>
                    <a:pt x="378" y="444"/>
                  </a:lnTo>
                  <a:lnTo>
                    <a:pt x="368" y="444"/>
                  </a:lnTo>
                  <a:lnTo>
                    <a:pt x="358" y="444"/>
                  </a:lnTo>
                  <a:lnTo>
                    <a:pt x="348" y="446"/>
                  </a:lnTo>
                  <a:lnTo>
                    <a:pt x="340" y="450"/>
                  </a:lnTo>
                  <a:lnTo>
                    <a:pt x="330" y="458"/>
                  </a:lnTo>
                  <a:lnTo>
                    <a:pt x="322" y="466"/>
                  </a:lnTo>
                  <a:lnTo>
                    <a:pt x="312" y="476"/>
                  </a:lnTo>
                  <a:lnTo>
                    <a:pt x="306" y="488"/>
                  </a:lnTo>
                  <a:lnTo>
                    <a:pt x="298" y="504"/>
                  </a:lnTo>
                  <a:lnTo>
                    <a:pt x="298" y="504"/>
                  </a:lnTo>
                  <a:lnTo>
                    <a:pt x="308" y="492"/>
                  </a:lnTo>
                  <a:lnTo>
                    <a:pt x="318" y="482"/>
                  </a:lnTo>
                  <a:lnTo>
                    <a:pt x="328" y="478"/>
                  </a:lnTo>
                  <a:lnTo>
                    <a:pt x="338" y="476"/>
                  </a:lnTo>
                  <a:lnTo>
                    <a:pt x="348" y="476"/>
                  </a:lnTo>
                  <a:lnTo>
                    <a:pt x="356" y="480"/>
                  </a:lnTo>
                  <a:lnTo>
                    <a:pt x="364" y="484"/>
                  </a:lnTo>
                  <a:lnTo>
                    <a:pt x="370" y="492"/>
                  </a:lnTo>
                  <a:lnTo>
                    <a:pt x="376" y="502"/>
                  </a:lnTo>
                  <a:lnTo>
                    <a:pt x="382" y="512"/>
                  </a:lnTo>
                  <a:lnTo>
                    <a:pt x="384" y="522"/>
                  </a:lnTo>
                  <a:lnTo>
                    <a:pt x="386" y="534"/>
                  </a:lnTo>
                  <a:lnTo>
                    <a:pt x="386" y="548"/>
                  </a:lnTo>
                  <a:lnTo>
                    <a:pt x="384" y="560"/>
                  </a:lnTo>
                  <a:lnTo>
                    <a:pt x="380" y="574"/>
                  </a:lnTo>
                  <a:lnTo>
                    <a:pt x="374" y="586"/>
                  </a:lnTo>
                  <a:lnTo>
                    <a:pt x="374" y="586"/>
                  </a:lnTo>
                  <a:lnTo>
                    <a:pt x="368" y="576"/>
                  </a:lnTo>
                  <a:lnTo>
                    <a:pt x="362" y="566"/>
                  </a:lnTo>
                  <a:lnTo>
                    <a:pt x="354" y="560"/>
                  </a:lnTo>
                  <a:lnTo>
                    <a:pt x="346" y="554"/>
                  </a:lnTo>
                  <a:lnTo>
                    <a:pt x="338" y="550"/>
                  </a:lnTo>
                  <a:lnTo>
                    <a:pt x="330" y="546"/>
                  </a:lnTo>
                  <a:lnTo>
                    <a:pt x="320" y="546"/>
                  </a:lnTo>
                  <a:lnTo>
                    <a:pt x="310" y="548"/>
                  </a:lnTo>
                  <a:lnTo>
                    <a:pt x="310" y="548"/>
                  </a:lnTo>
                  <a:lnTo>
                    <a:pt x="318" y="560"/>
                  </a:lnTo>
                  <a:lnTo>
                    <a:pt x="324" y="572"/>
                  </a:lnTo>
                  <a:lnTo>
                    <a:pt x="326" y="582"/>
                  </a:lnTo>
                  <a:lnTo>
                    <a:pt x="328" y="592"/>
                  </a:lnTo>
                  <a:lnTo>
                    <a:pt x="326" y="600"/>
                  </a:lnTo>
                  <a:lnTo>
                    <a:pt x="324" y="608"/>
                  </a:lnTo>
                  <a:lnTo>
                    <a:pt x="318" y="616"/>
                  </a:lnTo>
                  <a:lnTo>
                    <a:pt x="314" y="622"/>
                  </a:lnTo>
                  <a:lnTo>
                    <a:pt x="300" y="632"/>
                  </a:lnTo>
                  <a:lnTo>
                    <a:pt x="286" y="638"/>
                  </a:lnTo>
                  <a:lnTo>
                    <a:pt x="272" y="640"/>
                  </a:lnTo>
                  <a:lnTo>
                    <a:pt x="260" y="640"/>
                  </a:lnTo>
                  <a:lnTo>
                    <a:pt x="260" y="640"/>
                  </a:lnTo>
                  <a:lnTo>
                    <a:pt x="240" y="634"/>
                  </a:lnTo>
                  <a:lnTo>
                    <a:pt x="226" y="626"/>
                  </a:lnTo>
                  <a:lnTo>
                    <a:pt x="216" y="614"/>
                  </a:lnTo>
                  <a:lnTo>
                    <a:pt x="210" y="602"/>
                  </a:lnTo>
                  <a:lnTo>
                    <a:pt x="208" y="590"/>
                  </a:lnTo>
                  <a:lnTo>
                    <a:pt x="210" y="578"/>
                  </a:lnTo>
                  <a:lnTo>
                    <a:pt x="214" y="568"/>
                  </a:lnTo>
                  <a:lnTo>
                    <a:pt x="222" y="560"/>
                  </a:lnTo>
                  <a:lnTo>
                    <a:pt x="222" y="560"/>
                  </a:lnTo>
                  <a:lnTo>
                    <a:pt x="196" y="560"/>
                  </a:lnTo>
                  <a:lnTo>
                    <a:pt x="172" y="554"/>
                  </a:lnTo>
                  <a:lnTo>
                    <a:pt x="154" y="548"/>
                  </a:lnTo>
                  <a:lnTo>
                    <a:pt x="138" y="536"/>
                  </a:lnTo>
                  <a:lnTo>
                    <a:pt x="128" y="524"/>
                  </a:lnTo>
                  <a:lnTo>
                    <a:pt x="120" y="510"/>
                  </a:lnTo>
                  <a:lnTo>
                    <a:pt x="116" y="494"/>
                  </a:lnTo>
                  <a:lnTo>
                    <a:pt x="114" y="478"/>
                  </a:lnTo>
                  <a:lnTo>
                    <a:pt x="116" y="462"/>
                  </a:lnTo>
                  <a:lnTo>
                    <a:pt x="120" y="446"/>
                  </a:lnTo>
                  <a:lnTo>
                    <a:pt x="126" y="430"/>
                  </a:lnTo>
                  <a:lnTo>
                    <a:pt x="134" y="416"/>
                  </a:lnTo>
                  <a:lnTo>
                    <a:pt x="142" y="402"/>
                  </a:lnTo>
                  <a:lnTo>
                    <a:pt x="154" y="392"/>
                  </a:lnTo>
                  <a:lnTo>
                    <a:pt x="166" y="384"/>
                  </a:lnTo>
                  <a:lnTo>
                    <a:pt x="178" y="380"/>
                  </a:lnTo>
                  <a:lnTo>
                    <a:pt x="178" y="380"/>
                  </a:lnTo>
                  <a:lnTo>
                    <a:pt x="176" y="374"/>
                  </a:lnTo>
                  <a:lnTo>
                    <a:pt x="172" y="368"/>
                  </a:lnTo>
                  <a:lnTo>
                    <a:pt x="164" y="362"/>
                  </a:lnTo>
                  <a:lnTo>
                    <a:pt x="156" y="356"/>
                  </a:lnTo>
                  <a:lnTo>
                    <a:pt x="144" y="352"/>
                  </a:lnTo>
                  <a:lnTo>
                    <a:pt x="130" y="352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6" y="342"/>
                  </a:lnTo>
                  <a:lnTo>
                    <a:pt x="124" y="326"/>
                  </a:lnTo>
                  <a:lnTo>
                    <a:pt x="132" y="312"/>
                  </a:lnTo>
                  <a:lnTo>
                    <a:pt x="146" y="300"/>
                  </a:lnTo>
                  <a:lnTo>
                    <a:pt x="160" y="288"/>
                  </a:lnTo>
                  <a:lnTo>
                    <a:pt x="174" y="280"/>
                  </a:lnTo>
                  <a:lnTo>
                    <a:pt x="192" y="276"/>
                  </a:lnTo>
                  <a:lnTo>
                    <a:pt x="210" y="276"/>
                  </a:lnTo>
                  <a:lnTo>
                    <a:pt x="210" y="276"/>
                  </a:lnTo>
                  <a:lnTo>
                    <a:pt x="226" y="280"/>
                  </a:lnTo>
                  <a:lnTo>
                    <a:pt x="234" y="284"/>
                  </a:lnTo>
                  <a:lnTo>
                    <a:pt x="240" y="288"/>
                  </a:lnTo>
                  <a:lnTo>
                    <a:pt x="246" y="294"/>
                  </a:lnTo>
                  <a:lnTo>
                    <a:pt x="250" y="300"/>
                  </a:lnTo>
                  <a:lnTo>
                    <a:pt x="254" y="308"/>
                  </a:lnTo>
                  <a:lnTo>
                    <a:pt x="256" y="314"/>
                  </a:lnTo>
                  <a:lnTo>
                    <a:pt x="256" y="322"/>
                  </a:lnTo>
                  <a:lnTo>
                    <a:pt x="254" y="332"/>
                  </a:lnTo>
                  <a:lnTo>
                    <a:pt x="252" y="340"/>
                  </a:lnTo>
                  <a:lnTo>
                    <a:pt x="248" y="350"/>
                  </a:lnTo>
                  <a:lnTo>
                    <a:pt x="240" y="360"/>
                  </a:lnTo>
                  <a:lnTo>
                    <a:pt x="232" y="370"/>
                  </a:lnTo>
                  <a:lnTo>
                    <a:pt x="220" y="380"/>
                  </a:lnTo>
                  <a:lnTo>
                    <a:pt x="206" y="390"/>
                  </a:lnTo>
                  <a:lnTo>
                    <a:pt x="206" y="390"/>
                  </a:lnTo>
                  <a:lnTo>
                    <a:pt x="234" y="398"/>
                  </a:lnTo>
                  <a:lnTo>
                    <a:pt x="260" y="402"/>
                  </a:lnTo>
                  <a:lnTo>
                    <a:pt x="280" y="402"/>
                  </a:lnTo>
                  <a:lnTo>
                    <a:pt x="300" y="400"/>
                  </a:lnTo>
                  <a:lnTo>
                    <a:pt x="314" y="394"/>
                  </a:lnTo>
                  <a:lnTo>
                    <a:pt x="326" y="386"/>
                  </a:lnTo>
                  <a:lnTo>
                    <a:pt x="336" y="376"/>
                  </a:lnTo>
                  <a:lnTo>
                    <a:pt x="342" y="366"/>
                  </a:lnTo>
                  <a:lnTo>
                    <a:pt x="348" y="352"/>
                  </a:lnTo>
                  <a:lnTo>
                    <a:pt x="348" y="340"/>
                  </a:lnTo>
                  <a:lnTo>
                    <a:pt x="348" y="326"/>
                  </a:lnTo>
                  <a:lnTo>
                    <a:pt x="346" y="312"/>
                  </a:lnTo>
                  <a:lnTo>
                    <a:pt x="342" y="298"/>
                  </a:lnTo>
                  <a:lnTo>
                    <a:pt x="334" y="284"/>
                  </a:lnTo>
                  <a:lnTo>
                    <a:pt x="326" y="272"/>
                  </a:lnTo>
                  <a:lnTo>
                    <a:pt x="316" y="260"/>
                  </a:lnTo>
                  <a:lnTo>
                    <a:pt x="316" y="260"/>
                  </a:lnTo>
                  <a:lnTo>
                    <a:pt x="308" y="254"/>
                  </a:lnTo>
                  <a:lnTo>
                    <a:pt x="298" y="248"/>
                  </a:lnTo>
                  <a:lnTo>
                    <a:pt x="288" y="242"/>
                  </a:lnTo>
                  <a:lnTo>
                    <a:pt x="276" y="238"/>
                  </a:lnTo>
                  <a:lnTo>
                    <a:pt x="250" y="232"/>
                  </a:lnTo>
                  <a:lnTo>
                    <a:pt x="224" y="232"/>
                  </a:lnTo>
                  <a:lnTo>
                    <a:pt x="210" y="232"/>
                  </a:lnTo>
                  <a:lnTo>
                    <a:pt x="196" y="234"/>
                  </a:lnTo>
                  <a:lnTo>
                    <a:pt x="180" y="238"/>
                  </a:lnTo>
                  <a:lnTo>
                    <a:pt x="166" y="244"/>
                  </a:lnTo>
                  <a:lnTo>
                    <a:pt x="154" y="250"/>
                  </a:lnTo>
                  <a:lnTo>
                    <a:pt x="140" y="258"/>
                  </a:lnTo>
                  <a:lnTo>
                    <a:pt x="126" y="266"/>
                  </a:lnTo>
                  <a:lnTo>
                    <a:pt x="114" y="278"/>
                  </a:lnTo>
                  <a:lnTo>
                    <a:pt x="114" y="278"/>
                  </a:lnTo>
                  <a:lnTo>
                    <a:pt x="114" y="264"/>
                  </a:lnTo>
                  <a:lnTo>
                    <a:pt x="118" y="254"/>
                  </a:lnTo>
                  <a:lnTo>
                    <a:pt x="126" y="246"/>
                  </a:lnTo>
                  <a:lnTo>
                    <a:pt x="136" y="240"/>
                  </a:lnTo>
                  <a:lnTo>
                    <a:pt x="164" y="224"/>
                  </a:lnTo>
                  <a:lnTo>
                    <a:pt x="182" y="212"/>
                  </a:lnTo>
                  <a:lnTo>
                    <a:pt x="204" y="198"/>
                  </a:lnTo>
                  <a:lnTo>
                    <a:pt x="204" y="198"/>
                  </a:lnTo>
                  <a:lnTo>
                    <a:pt x="220" y="184"/>
                  </a:lnTo>
                  <a:lnTo>
                    <a:pt x="230" y="170"/>
                  </a:lnTo>
                  <a:lnTo>
                    <a:pt x="238" y="154"/>
                  </a:lnTo>
                  <a:lnTo>
                    <a:pt x="242" y="138"/>
                  </a:lnTo>
                  <a:lnTo>
                    <a:pt x="242" y="122"/>
                  </a:lnTo>
                  <a:lnTo>
                    <a:pt x="240" y="104"/>
                  </a:lnTo>
                  <a:lnTo>
                    <a:pt x="234" y="88"/>
                  </a:lnTo>
                  <a:lnTo>
                    <a:pt x="228" y="72"/>
                  </a:lnTo>
                  <a:lnTo>
                    <a:pt x="220" y="56"/>
                  </a:lnTo>
                  <a:lnTo>
                    <a:pt x="208" y="42"/>
                  </a:lnTo>
                  <a:lnTo>
                    <a:pt x="198" y="30"/>
                  </a:lnTo>
                  <a:lnTo>
                    <a:pt x="184" y="18"/>
                  </a:lnTo>
                  <a:lnTo>
                    <a:pt x="172" y="10"/>
                  </a:lnTo>
                  <a:lnTo>
                    <a:pt x="158" y="4"/>
                  </a:lnTo>
                  <a:lnTo>
                    <a:pt x="144" y="0"/>
                  </a:lnTo>
                  <a:lnTo>
                    <a:pt x="130" y="2"/>
                  </a:lnTo>
                  <a:lnTo>
                    <a:pt x="130" y="2"/>
                  </a:lnTo>
                  <a:lnTo>
                    <a:pt x="116" y="4"/>
                  </a:lnTo>
                  <a:lnTo>
                    <a:pt x="102" y="10"/>
                  </a:lnTo>
                  <a:lnTo>
                    <a:pt x="92" y="16"/>
                  </a:lnTo>
                  <a:lnTo>
                    <a:pt x="82" y="24"/>
                  </a:lnTo>
                  <a:lnTo>
                    <a:pt x="74" y="32"/>
                  </a:lnTo>
                  <a:lnTo>
                    <a:pt x="66" y="42"/>
                  </a:lnTo>
                  <a:lnTo>
                    <a:pt x="60" y="54"/>
                  </a:lnTo>
                  <a:lnTo>
                    <a:pt x="56" y="66"/>
                  </a:lnTo>
                  <a:lnTo>
                    <a:pt x="54" y="78"/>
                  </a:lnTo>
                  <a:lnTo>
                    <a:pt x="52" y="90"/>
                  </a:lnTo>
                  <a:lnTo>
                    <a:pt x="54" y="104"/>
                  </a:lnTo>
                  <a:lnTo>
                    <a:pt x="56" y="116"/>
                  </a:lnTo>
                  <a:lnTo>
                    <a:pt x="60" y="130"/>
                  </a:lnTo>
                  <a:lnTo>
                    <a:pt x="64" y="142"/>
                  </a:lnTo>
                  <a:lnTo>
                    <a:pt x="72" y="154"/>
                  </a:lnTo>
                  <a:lnTo>
                    <a:pt x="80" y="166"/>
                  </a:lnTo>
                  <a:lnTo>
                    <a:pt x="80" y="166"/>
                  </a:lnTo>
                  <a:lnTo>
                    <a:pt x="82" y="152"/>
                  </a:lnTo>
                  <a:lnTo>
                    <a:pt x="86" y="136"/>
                  </a:lnTo>
                  <a:lnTo>
                    <a:pt x="94" y="124"/>
                  </a:lnTo>
                  <a:lnTo>
                    <a:pt x="102" y="114"/>
                  </a:lnTo>
                  <a:lnTo>
                    <a:pt x="114" y="106"/>
                  </a:lnTo>
                  <a:lnTo>
                    <a:pt x="120" y="104"/>
                  </a:lnTo>
                  <a:lnTo>
                    <a:pt x="128" y="104"/>
                  </a:lnTo>
                  <a:lnTo>
                    <a:pt x="134" y="104"/>
                  </a:lnTo>
                  <a:lnTo>
                    <a:pt x="142" y="106"/>
                  </a:lnTo>
                  <a:lnTo>
                    <a:pt x="150" y="108"/>
                  </a:lnTo>
                  <a:lnTo>
                    <a:pt x="158" y="114"/>
                  </a:lnTo>
                  <a:lnTo>
                    <a:pt x="158" y="114"/>
                  </a:lnTo>
                  <a:lnTo>
                    <a:pt x="164" y="120"/>
                  </a:lnTo>
                  <a:lnTo>
                    <a:pt x="170" y="126"/>
                  </a:lnTo>
                  <a:lnTo>
                    <a:pt x="174" y="132"/>
                  </a:lnTo>
                  <a:lnTo>
                    <a:pt x="176" y="140"/>
                  </a:lnTo>
                  <a:lnTo>
                    <a:pt x="176" y="146"/>
                  </a:lnTo>
                  <a:lnTo>
                    <a:pt x="176" y="154"/>
                  </a:lnTo>
                  <a:lnTo>
                    <a:pt x="172" y="168"/>
                  </a:lnTo>
                  <a:lnTo>
                    <a:pt x="164" y="182"/>
                  </a:lnTo>
                  <a:lnTo>
                    <a:pt x="152" y="194"/>
                  </a:lnTo>
                  <a:lnTo>
                    <a:pt x="136" y="202"/>
                  </a:lnTo>
                  <a:lnTo>
                    <a:pt x="120" y="208"/>
                  </a:lnTo>
                  <a:lnTo>
                    <a:pt x="120" y="208"/>
                  </a:lnTo>
                  <a:lnTo>
                    <a:pt x="108" y="210"/>
                  </a:lnTo>
                  <a:lnTo>
                    <a:pt x="94" y="216"/>
                  </a:lnTo>
                  <a:lnTo>
                    <a:pt x="82" y="222"/>
                  </a:lnTo>
                  <a:lnTo>
                    <a:pt x="70" y="230"/>
                  </a:lnTo>
                  <a:lnTo>
                    <a:pt x="64" y="240"/>
                  </a:lnTo>
                  <a:lnTo>
                    <a:pt x="60" y="244"/>
                  </a:lnTo>
                  <a:lnTo>
                    <a:pt x="60" y="252"/>
                  </a:lnTo>
                  <a:lnTo>
                    <a:pt x="62" y="258"/>
                  </a:lnTo>
                  <a:lnTo>
                    <a:pt x="64" y="266"/>
                  </a:lnTo>
                  <a:lnTo>
                    <a:pt x="68" y="274"/>
                  </a:lnTo>
                  <a:lnTo>
                    <a:pt x="74" y="282"/>
                  </a:lnTo>
                  <a:lnTo>
                    <a:pt x="74" y="282"/>
                  </a:lnTo>
                  <a:lnTo>
                    <a:pt x="64" y="306"/>
                  </a:lnTo>
                  <a:lnTo>
                    <a:pt x="56" y="334"/>
                  </a:lnTo>
                  <a:lnTo>
                    <a:pt x="52" y="362"/>
                  </a:lnTo>
                  <a:lnTo>
                    <a:pt x="50" y="392"/>
                  </a:lnTo>
                  <a:lnTo>
                    <a:pt x="50" y="422"/>
                  </a:lnTo>
                  <a:lnTo>
                    <a:pt x="54" y="452"/>
                  </a:lnTo>
                  <a:lnTo>
                    <a:pt x="60" y="482"/>
                  </a:lnTo>
                  <a:lnTo>
                    <a:pt x="70" y="512"/>
                  </a:lnTo>
                  <a:lnTo>
                    <a:pt x="84" y="540"/>
                  </a:lnTo>
                  <a:lnTo>
                    <a:pt x="102" y="568"/>
                  </a:lnTo>
                  <a:lnTo>
                    <a:pt x="122" y="596"/>
                  </a:lnTo>
                  <a:lnTo>
                    <a:pt x="148" y="620"/>
                  </a:lnTo>
                  <a:lnTo>
                    <a:pt x="176" y="642"/>
                  </a:lnTo>
                  <a:lnTo>
                    <a:pt x="210" y="662"/>
                  </a:lnTo>
                  <a:lnTo>
                    <a:pt x="248" y="678"/>
                  </a:lnTo>
                  <a:lnTo>
                    <a:pt x="290" y="692"/>
                  </a:lnTo>
                  <a:lnTo>
                    <a:pt x="290" y="692"/>
                  </a:lnTo>
                  <a:lnTo>
                    <a:pt x="254" y="702"/>
                  </a:lnTo>
                  <a:lnTo>
                    <a:pt x="222" y="716"/>
                  </a:lnTo>
                  <a:lnTo>
                    <a:pt x="192" y="734"/>
                  </a:lnTo>
                  <a:lnTo>
                    <a:pt x="166" y="754"/>
                  </a:lnTo>
                  <a:lnTo>
                    <a:pt x="144" y="776"/>
                  </a:lnTo>
                  <a:lnTo>
                    <a:pt x="126" y="802"/>
                  </a:lnTo>
                  <a:lnTo>
                    <a:pt x="108" y="828"/>
                  </a:lnTo>
                  <a:lnTo>
                    <a:pt x="96" y="854"/>
                  </a:lnTo>
                  <a:lnTo>
                    <a:pt x="86" y="882"/>
                  </a:lnTo>
                  <a:lnTo>
                    <a:pt x="78" y="912"/>
                  </a:lnTo>
                  <a:lnTo>
                    <a:pt x="72" y="940"/>
                  </a:lnTo>
                  <a:lnTo>
                    <a:pt x="70" y="968"/>
                  </a:lnTo>
                  <a:lnTo>
                    <a:pt x="72" y="996"/>
                  </a:lnTo>
                  <a:lnTo>
                    <a:pt x="74" y="1024"/>
                  </a:lnTo>
                  <a:lnTo>
                    <a:pt x="80" y="1048"/>
                  </a:lnTo>
                  <a:lnTo>
                    <a:pt x="88" y="1072"/>
                  </a:lnTo>
                  <a:lnTo>
                    <a:pt x="88" y="1072"/>
                  </a:lnTo>
                  <a:lnTo>
                    <a:pt x="94" y="1088"/>
                  </a:lnTo>
                  <a:lnTo>
                    <a:pt x="104" y="1102"/>
                  </a:lnTo>
                  <a:lnTo>
                    <a:pt x="114" y="1116"/>
                  </a:lnTo>
                  <a:lnTo>
                    <a:pt x="124" y="1128"/>
                  </a:lnTo>
                  <a:lnTo>
                    <a:pt x="136" y="1140"/>
                  </a:lnTo>
                  <a:lnTo>
                    <a:pt x="148" y="1150"/>
                  </a:lnTo>
                  <a:lnTo>
                    <a:pt x="162" y="1158"/>
                  </a:lnTo>
                  <a:lnTo>
                    <a:pt x="176" y="1166"/>
                  </a:lnTo>
                  <a:lnTo>
                    <a:pt x="190" y="1172"/>
                  </a:lnTo>
                  <a:lnTo>
                    <a:pt x="204" y="1176"/>
                  </a:lnTo>
                  <a:lnTo>
                    <a:pt x="218" y="1180"/>
                  </a:lnTo>
                  <a:lnTo>
                    <a:pt x="232" y="1182"/>
                  </a:lnTo>
                  <a:lnTo>
                    <a:pt x="248" y="1182"/>
                  </a:lnTo>
                  <a:lnTo>
                    <a:pt x="260" y="1182"/>
                  </a:lnTo>
                  <a:lnTo>
                    <a:pt x="274" y="1178"/>
                  </a:lnTo>
                  <a:lnTo>
                    <a:pt x="286" y="1174"/>
                  </a:lnTo>
                  <a:lnTo>
                    <a:pt x="286" y="1174"/>
                  </a:lnTo>
                  <a:lnTo>
                    <a:pt x="300" y="1170"/>
                  </a:lnTo>
                  <a:lnTo>
                    <a:pt x="310" y="1162"/>
                  </a:lnTo>
                  <a:lnTo>
                    <a:pt x="320" y="1154"/>
                  </a:lnTo>
                  <a:lnTo>
                    <a:pt x="330" y="1144"/>
                  </a:lnTo>
                  <a:lnTo>
                    <a:pt x="338" y="1134"/>
                  </a:lnTo>
                  <a:lnTo>
                    <a:pt x="344" y="1124"/>
                  </a:lnTo>
                  <a:lnTo>
                    <a:pt x="350" y="1112"/>
                  </a:lnTo>
                  <a:lnTo>
                    <a:pt x="354" y="1100"/>
                  </a:lnTo>
                  <a:lnTo>
                    <a:pt x="356" y="1086"/>
                  </a:lnTo>
                  <a:lnTo>
                    <a:pt x="358" y="1074"/>
                  </a:lnTo>
                  <a:lnTo>
                    <a:pt x="358" y="1060"/>
                  </a:lnTo>
                  <a:lnTo>
                    <a:pt x="358" y="1046"/>
                  </a:lnTo>
                  <a:lnTo>
                    <a:pt x="356" y="1034"/>
                  </a:lnTo>
                  <a:lnTo>
                    <a:pt x="354" y="1020"/>
                  </a:lnTo>
                  <a:lnTo>
                    <a:pt x="350" y="1008"/>
                  </a:lnTo>
                  <a:lnTo>
                    <a:pt x="344" y="996"/>
                  </a:lnTo>
                  <a:lnTo>
                    <a:pt x="344" y="996"/>
                  </a:lnTo>
                  <a:lnTo>
                    <a:pt x="336" y="982"/>
                  </a:lnTo>
                  <a:lnTo>
                    <a:pt x="326" y="972"/>
                  </a:lnTo>
                  <a:lnTo>
                    <a:pt x="316" y="964"/>
                  </a:lnTo>
                  <a:lnTo>
                    <a:pt x="304" y="958"/>
                  </a:lnTo>
                  <a:lnTo>
                    <a:pt x="292" y="954"/>
                  </a:lnTo>
                  <a:lnTo>
                    <a:pt x="280" y="952"/>
                  </a:lnTo>
                  <a:lnTo>
                    <a:pt x="268" y="954"/>
                  </a:lnTo>
                  <a:lnTo>
                    <a:pt x="256" y="956"/>
                  </a:lnTo>
                  <a:lnTo>
                    <a:pt x="246" y="960"/>
                  </a:lnTo>
                  <a:lnTo>
                    <a:pt x="236" y="966"/>
                  </a:lnTo>
                  <a:lnTo>
                    <a:pt x="228" y="974"/>
                  </a:lnTo>
                  <a:lnTo>
                    <a:pt x="224" y="984"/>
                  </a:lnTo>
                  <a:lnTo>
                    <a:pt x="220" y="996"/>
                  </a:lnTo>
                  <a:lnTo>
                    <a:pt x="220" y="1008"/>
                  </a:lnTo>
                  <a:lnTo>
                    <a:pt x="222" y="1022"/>
                  </a:lnTo>
                  <a:lnTo>
                    <a:pt x="228" y="1036"/>
                  </a:lnTo>
                  <a:lnTo>
                    <a:pt x="228" y="1036"/>
                  </a:lnTo>
                  <a:lnTo>
                    <a:pt x="208" y="1044"/>
                  </a:lnTo>
                  <a:lnTo>
                    <a:pt x="188" y="1046"/>
                  </a:lnTo>
                  <a:lnTo>
                    <a:pt x="172" y="1042"/>
                  </a:lnTo>
                  <a:lnTo>
                    <a:pt x="158" y="1036"/>
                  </a:lnTo>
                  <a:lnTo>
                    <a:pt x="146" y="1026"/>
                  </a:lnTo>
                  <a:lnTo>
                    <a:pt x="136" y="1012"/>
                  </a:lnTo>
                  <a:lnTo>
                    <a:pt x="128" y="996"/>
                  </a:lnTo>
                  <a:lnTo>
                    <a:pt x="122" y="978"/>
                  </a:lnTo>
                  <a:lnTo>
                    <a:pt x="118" y="958"/>
                  </a:lnTo>
                  <a:lnTo>
                    <a:pt x="116" y="938"/>
                  </a:lnTo>
                  <a:lnTo>
                    <a:pt x="118" y="916"/>
                  </a:lnTo>
                  <a:lnTo>
                    <a:pt x="120" y="894"/>
                  </a:lnTo>
                  <a:lnTo>
                    <a:pt x="126" y="874"/>
                  </a:lnTo>
                  <a:lnTo>
                    <a:pt x="134" y="852"/>
                  </a:lnTo>
                  <a:lnTo>
                    <a:pt x="144" y="834"/>
                  </a:lnTo>
                  <a:lnTo>
                    <a:pt x="156" y="816"/>
                  </a:lnTo>
                  <a:lnTo>
                    <a:pt x="156" y="816"/>
                  </a:lnTo>
                  <a:lnTo>
                    <a:pt x="156" y="834"/>
                  </a:lnTo>
                  <a:lnTo>
                    <a:pt x="160" y="852"/>
                  </a:lnTo>
                  <a:lnTo>
                    <a:pt x="166" y="872"/>
                  </a:lnTo>
                  <a:lnTo>
                    <a:pt x="178" y="888"/>
                  </a:lnTo>
                  <a:lnTo>
                    <a:pt x="184" y="894"/>
                  </a:lnTo>
                  <a:lnTo>
                    <a:pt x="192" y="902"/>
                  </a:lnTo>
                  <a:lnTo>
                    <a:pt x="202" y="906"/>
                  </a:lnTo>
                  <a:lnTo>
                    <a:pt x="212" y="910"/>
                  </a:lnTo>
                  <a:lnTo>
                    <a:pt x="222" y="912"/>
                  </a:lnTo>
                  <a:lnTo>
                    <a:pt x="234" y="914"/>
                  </a:lnTo>
                  <a:lnTo>
                    <a:pt x="246" y="912"/>
                  </a:lnTo>
                  <a:lnTo>
                    <a:pt x="260" y="910"/>
                  </a:lnTo>
                  <a:lnTo>
                    <a:pt x="260" y="910"/>
                  </a:lnTo>
                  <a:lnTo>
                    <a:pt x="258" y="896"/>
                  </a:lnTo>
                  <a:lnTo>
                    <a:pt x="256" y="884"/>
                  </a:lnTo>
                  <a:lnTo>
                    <a:pt x="256" y="870"/>
                  </a:lnTo>
                  <a:lnTo>
                    <a:pt x="258" y="858"/>
                  </a:lnTo>
                  <a:lnTo>
                    <a:pt x="260" y="846"/>
                  </a:lnTo>
                  <a:lnTo>
                    <a:pt x="264" y="834"/>
                  </a:lnTo>
                  <a:lnTo>
                    <a:pt x="270" y="824"/>
                  </a:lnTo>
                  <a:lnTo>
                    <a:pt x="276" y="812"/>
                  </a:lnTo>
                  <a:lnTo>
                    <a:pt x="292" y="794"/>
                  </a:lnTo>
                  <a:lnTo>
                    <a:pt x="310" y="776"/>
                  </a:lnTo>
                  <a:lnTo>
                    <a:pt x="332" y="762"/>
                  </a:lnTo>
                  <a:lnTo>
                    <a:pt x="356" y="750"/>
                  </a:lnTo>
                  <a:lnTo>
                    <a:pt x="382" y="740"/>
                  </a:lnTo>
                  <a:lnTo>
                    <a:pt x="408" y="734"/>
                  </a:lnTo>
                  <a:lnTo>
                    <a:pt x="434" y="732"/>
                  </a:lnTo>
                  <a:lnTo>
                    <a:pt x="462" y="734"/>
                  </a:lnTo>
                  <a:lnTo>
                    <a:pt x="486" y="740"/>
                  </a:lnTo>
                  <a:lnTo>
                    <a:pt x="498" y="744"/>
                  </a:lnTo>
                  <a:lnTo>
                    <a:pt x="510" y="750"/>
                  </a:lnTo>
                  <a:lnTo>
                    <a:pt x="520" y="756"/>
                  </a:lnTo>
                  <a:lnTo>
                    <a:pt x="530" y="764"/>
                  </a:lnTo>
                  <a:lnTo>
                    <a:pt x="540" y="774"/>
                  </a:lnTo>
                  <a:lnTo>
                    <a:pt x="550" y="784"/>
                  </a:lnTo>
                  <a:lnTo>
                    <a:pt x="550" y="784"/>
                  </a:lnTo>
                  <a:lnTo>
                    <a:pt x="538" y="782"/>
                  </a:lnTo>
                  <a:lnTo>
                    <a:pt x="528" y="782"/>
                  </a:lnTo>
                  <a:lnTo>
                    <a:pt x="516" y="782"/>
                  </a:lnTo>
                  <a:lnTo>
                    <a:pt x="504" y="786"/>
                  </a:lnTo>
                  <a:lnTo>
                    <a:pt x="490" y="790"/>
                  </a:lnTo>
                  <a:lnTo>
                    <a:pt x="478" y="794"/>
                  </a:lnTo>
                  <a:lnTo>
                    <a:pt x="456" y="810"/>
                  </a:lnTo>
                  <a:lnTo>
                    <a:pt x="434" y="826"/>
                  </a:lnTo>
                  <a:lnTo>
                    <a:pt x="414" y="844"/>
                  </a:lnTo>
                  <a:lnTo>
                    <a:pt x="400" y="862"/>
                  </a:lnTo>
                  <a:lnTo>
                    <a:pt x="392" y="878"/>
                  </a:lnTo>
                  <a:lnTo>
                    <a:pt x="392" y="878"/>
                  </a:lnTo>
                  <a:lnTo>
                    <a:pt x="418" y="862"/>
                  </a:lnTo>
                  <a:lnTo>
                    <a:pt x="444" y="850"/>
                  </a:lnTo>
                  <a:lnTo>
                    <a:pt x="470" y="842"/>
                  </a:lnTo>
                  <a:lnTo>
                    <a:pt x="494" y="838"/>
                  </a:lnTo>
                  <a:lnTo>
                    <a:pt x="520" y="840"/>
                  </a:lnTo>
                  <a:lnTo>
                    <a:pt x="530" y="842"/>
                  </a:lnTo>
                  <a:lnTo>
                    <a:pt x="542" y="846"/>
                  </a:lnTo>
                  <a:lnTo>
                    <a:pt x="554" y="850"/>
                  </a:lnTo>
                  <a:lnTo>
                    <a:pt x="564" y="856"/>
                  </a:lnTo>
                  <a:lnTo>
                    <a:pt x="574" y="864"/>
                  </a:lnTo>
                  <a:lnTo>
                    <a:pt x="584" y="872"/>
                  </a:lnTo>
                  <a:lnTo>
                    <a:pt x="594" y="882"/>
                  </a:lnTo>
                  <a:lnTo>
                    <a:pt x="602" y="892"/>
                  </a:lnTo>
                  <a:lnTo>
                    <a:pt x="612" y="906"/>
                  </a:lnTo>
                  <a:lnTo>
                    <a:pt x="618" y="920"/>
                  </a:lnTo>
                  <a:lnTo>
                    <a:pt x="632" y="952"/>
                  </a:lnTo>
                  <a:lnTo>
                    <a:pt x="644" y="990"/>
                  </a:lnTo>
                  <a:lnTo>
                    <a:pt x="652" y="1034"/>
                  </a:lnTo>
                  <a:lnTo>
                    <a:pt x="656" y="1084"/>
                  </a:lnTo>
                  <a:lnTo>
                    <a:pt x="658" y="1140"/>
                  </a:lnTo>
                  <a:lnTo>
                    <a:pt x="654" y="1204"/>
                  </a:lnTo>
                  <a:lnTo>
                    <a:pt x="654" y="1204"/>
                  </a:lnTo>
                  <a:lnTo>
                    <a:pt x="652" y="1176"/>
                  </a:lnTo>
                  <a:lnTo>
                    <a:pt x="646" y="1150"/>
                  </a:lnTo>
                  <a:lnTo>
                    <a:pt x="642" y="1124"/>
                  </a:lnTo>
                  <a:lnTo>
                    <a:pt x="634" y="1100"/>
                  </a:lnTo>
                  <a:lnTo>
                    <a:pt x="626" y="1076"/>
                  </a:lnTo>
                  <a:lnTo>
                    <a:pt x="616" y="1052"/>
                  </a:lnTo>
                  <a:lnTo>
                    <a:pt x="606" y="1030"/>
                  </a:lnTo>
                  <a:lnTo>
                    <a:pt x="592" y="1010"/>
                  </a:lnTo>
                  <a:lnTo>
                    <a:pt x="580" y="990"/>
                  </a:lnTo>
                  <a:lnTo>
                    <a:pt x="564" y="972"/>
                  </a:lnTo>
                  <a:lnTo>
                    <a:pt x="548" y="956"/>
                  </a:lnTo>
                  <a:lnTo>
                    <a:pt x="532" y="940"/>
                  </a:lnTo>
                  <a:lnTo>
                    <a:pt x="514" y="924"/>
                  </a:lnTo>
                  <a:lnTo>
                    <a:pt x="494" y="912"/>
                  </a:lnTo>
                  <a:lnTo>
                    <a:pt x="472" y="900"/>
                  </a:lnTo>
                  <a:lnTo>
                    <a:pt x="452" y="890"/>
                  </a:lnTo>
                  <a:lnTo>
                    <a:pt x="452" y="890"/>
                  </a:lnTo>
                  <a:lnTo>
                    <a:pt x="518" y="980"/>
                  </a:lnTo>
                  <a:lnTo>
                    <a:pt x="518" y="980"/>
                  </a:lnTo>
                  <a:lnTo>
                    <a:pt x="508" y="978"/>
                  </a:lnTo>
                  <a:lnTo>
                    <a:pt x="498" y="978"/>
                  </a:lnTo>
                  <a:lnTo>
                    <a:pt x="488" y="978"/>
                  </a:lnTo>
                  <a:lnTo>
                    <a:pt x="476" y="980"/>
                  </a:lnTo>
                  <a:lnTo>
                    <a:pt x="466" y="984"/>
                  </a:lnTo>
                  <a:lnTo>
                    <a:pt x="456" y="988"/>
                  </a:lnTo>
                  <a:lnTo>
                    <a:pt x="446" y="994"/>
                  </a:lnTo>
                  <a:lnTo>
                    <a:pt x="436" y="1000"/>
                  </a:lnTo>
                  <a:lnTo>
                    <a:pt x="428" y="1008"/>
                  </a:lnTo>
                  <a:lnTo>
                    <a:pt x="422" y="1016"/>
                  </a:lnTo>
                  <a:lnTo>
                    <a:pt x="416" y="1024"/>
                  </a:lnTo>
                  <a:lnTo>
                    <a:pt x="410" y="1034"/>
                  </a:lnTo>
                  <a:lnTo>
                    <a:pt x="408" y="1046"/>
                  </a:lnTo>
                  <a:lnTo>
                    <a:pt x="408" y="1056"/>
                  </a:lnTo>
                  <a:lnTo>
                    <a:pt x="408" y="1068"/>
                  </a:lnTo>
                  <a:lnTo>
                    <a:pt x="412" y="1080"/>
                  </a:lnTo>
                  <a:lnTo>
                    <a:pt x="412" y="1080"/>
                  </a:lnTo>
                  <a:lnTo>
                    <a:pt x="422" y="1068"/>
                  </a:lnTo>
                  <a:lnTo>
                    <a:pt x="436" y="1056"/>
                  </a:lnTo>
                  <a:lnTo>
                    <a:pt x="452" y="1046"/>
                  </a:lnTo>
                  <a:lnTo>
                    <a:pt x="470" y="1038"/>
                  </a:lnTo>
                  <a:lnTo>
                    <a:pt x="478" y="1038"/>
                  </a:lnTo>
                  <a:lnTo>
                    <a:pt x="488" y="1036"/>
                  </a:lnTo>
                  <a:lnTo>
                    <a:pt x="496" y="1038"/>
                  </a:lnTo>
                  <a:lnTo>
                    <a:pt x="506" y="1042"/>
                  </a:lnTo>
                  <a:lnTo>
                    <a:pt x="514" y="1046"/>
                  </a:lnTo>
                  <a:lnTo>
                    <a:pt x="522" y="1054"/>
                  </a:lnTo>
                  <a:lnTo>
                    <a:pt x="530" y="1062"/>
                  </a:lnTo>
                  <a:lnTo>
                    <a:pt x="538" y="1074"/>
                  </a:lnTo>
                  <a:lnTo>
                    <a:pt x="538" y="1074"/>
                  </a:lnTo>
                  <a:lnTo>
                    <a:pt x="528" y="1072"/>
                  </a:lnTo>
                  <a:lnTo>
                    <a:pt x="518" y="1072"/>
                  </a:lnTo>
                  <a:lnTo>
                    <a:pt x="508" y="1074"/>
                  </a:lnTo>
                  <a:lnTo>
                    <a:pt x="500" y="1080"/>
                  </a:lnTo>
                  <a:lnTo>
                    <a:pt x="494" y="1086"/>
                  </a:lnTo>
                  <a:lnTo>
                    <a:pt x="490" y="1096"/>
                  </a:lnTo>
                  <a:lnTo>
                    <a:pt x="486" y="1108"/>
                  </a:lnTo>
                  <a:lnTo>
                    <a:pt x="486" y="1122"/>
                  </a:lnTo>
                  <a:lnTo>
                    <a:pt x="486" y="1122"/>
                  </a:lnTo>
                  <a:lnTo>
                    <a:pt x="514" y="1124"/>
                  </a:lnTo>
                  <a:lnTo>
                    <a:pt x="540" y="1132"/>
                  </a:lnTo>
                  <a:lnTo>
                    <a:pt x="562" y="1142"/>
                  </a:lnTo>
                  <a:lnTo>
                    <a:pt x="582" y="1156"/>
                  </a:lnTo>
                  <a:lnTo>
                    <a:pt x="590" y="1166"/>
                  </a:lnTo>
                  <a:lnTo>
                    <a:pt x="596" y="1174"/>
                  </a:lnTo>
                  <a:lnTo>
                    <a:pt x="602" y="1184"/>
                  </a:lnTo>
                  <a:lnTo>
                    <a:pt x="608" y="1194"/>
                  </a:lnTo>
                  <a:lnTo>
                    <a:pt x="612" y="1206"/>
                  </a:lnTo>
                  <a:lnTo>
                    <a:pt x="616" y="1218"/>
                  </a:lnTo>
                  <a:lnTo>
                    <a:pt x="618" y="1230"/>
                  </a:lnTo>
                  <a:lnTo>
                    <a:pt x="618" y="1244"/>
                  </a:lnTo>
                  <a:lnTo>
                    <a:pt x="618" y="1272"/>
                  </a:lnTo>
                  <a:lnTo>
                    <a:pt x="612" y="1304"/>
                  </a:lnTo>
                  <a:lnTo>
                    <a:pt x="600" y="1336"/>
                  </a:lnTo>
                  <a:lnTo>
                    <a:pt x="582" y="1370"/>
                  </a:lnTo>
                  <a:lnTo>
                    <a:pt x="560" y="1406"/>
                  </a:lnTo>
                  <a:lnTo>
                    <a:pt x="530" y="1442"/>
                  </a:lnTo>
                  <a:lnTo>
                    <a:pt x="496" y="1480"/>
                  </a:lnTo>
                  <a:lnTo>
                    <a:pt x="454" y="1518"/>
                  </a:lnTo>
                  <a:lnTo>
                    <a:pt x="454" y="1518"/>
                  </a:lnTo>
                  <a:lnTo>
                    <a:pt x="460" y="1500"/>
                  </a:lnTo>
                  <a:lnTo>
                    <a:pt x="464" y="1482"/>
                  </a:lnTo>
                  <a:lnTo>
                    <a:pt x="466" y="1462"/>
                  </a:lnTo>
                  <a:lnTo>
                    <a:pt x="466" y="1442"/>
                  </a:lnTo>
                  <a:lnTo>
                    <a:pt x="466" y="1420"/>
                  </a:lnTo>
                  <a:lnTo>
                    <a:pt x="464" y="1400"/>
                  </a:lnTo>
                  <a:lnTo>
                    <a:pt x="460" y="1378"/>
                  </a:lnTo>
                  <a:lnTo>
                    <a:pt x="456" y="1358"/>
                  </a:lnTo>
                  <a:lnTo>
                    <a:pt x="444" y="1316"/>
                  </a:lnTo>
                  <a:lnTo>
                    <a:pt x="426" y="1276"/>
                  </a:lnTo>
                  <a:lnTo>
                    <a:pt x="406" y="1240"/>
                  </a:lnTo>
                  <a:lnTo>
                    <a:pt x="384" y="1208"/>
                  </a:lnTo>
                  <a:lnTo>
                    <a:pt x="384" y="1208"/>
                  </a:lnTo>
                  <a:lnTo>
                    <a:pt x="388" y="1224"/>
                  </a:lnTo>
                  <a:lnTo>
                    <a:pt x="390" y="1248"/>
                  </a:lnTo>
                  <a:lnTo>
                    <a:pt x="392" y="1282"/>
                  </a:lnTo>
                  <a:lnTo>
                    <a:pt x="390" y="1324"/>
                  </a:lnTo>
                  <a:lnTo>
                    <a:pt x="390" y="1324"/>
                  </a:lnTo>
                  <a:lnTo>
                    <a:pt x="376" y="1308"/>
                  </a:lnTo>
                  <a:lnTo>
                    <a:pt x="360" y="1292"/>
                  </a:lnTo>
                  <a:lnTo>
                    <a:pt x="342" y="1278"/>
                  </a:lnTo>
                  <a:lnTo>
                    <a:pt x="332" y="1272"/>
                  </a:lnTo>
                  <a:lnTo>
                    <a:pt x="322" y="1266"/>
                  </a:lnTo>
                  <a:lnTo>
                    <a:pt x="310" y="1262"/>
                  </a:lnTo>
                  <a:lnTo>
                    <a:pt x="296" y="1258"/>
                  </a:lnTo>
                  <a:lnTo>
                    <a:pt x="282" y="1258"/>
                  </a:lnTo>
                  <a:lnTo>
                    <a:pt x="264" y="1258"/>
                  </a:lnTo>
                  <a:lnTo>
                    <a:pt x="246" y="1260"/>
                  </a:lnTo>
                  <a:lnTo>
                    <a:pt x="228" y="1264"/>
                  </a:lnTo>
                  <a:lnTo>
                    <a:pt x="206" y="1270"/>
                  </a:lnTo>
                  <a:lnTo>
                    <a:pt x="182" y="1278"/>
                  </a:lnTo>
                  <a:lnTo>
                    <a:pt x="182" y="1278"/>
                  </a:lnTo>
                  <a:lnTo>
                    <a:pt x="160" y="1288"/>
                  </a:lnTo>
                  <a:lnTo>
                    <a:pt x="142" y="1298"/>
                  </a:lnTo>
                  <a:lnTo>
                    <a:pt x="124" y="1312"/>
                  </a:lnTo>
                  <a:lnTo>
                    <a:pt x="110" y="1326"/>
                  </a:lnTo>
                  <a:lnTo>
                    <a:pt x="96" y="1342"/>
                  </a:lnTo>
                  <a:lnTo>
                    <a:pt x="86" y="1360"/>
                  </a:lnTo>
                  <a:lnTo>
                    <a:pt x="78" y="1378"/>
                  </a:lnTo>
                  <a:lnTo>
                    <a:pt x="70" y="1396"/>
                  </a:lnTo>
                  <a:lnTo>
                    <a:pt x="66" y="1414"/>
                  </a:lnTo>
                  <a:lnTo>
                    <a:pt x="62" y="1434"/>
                  </a:lnTo>
                  <a:lnTo>
                    <a:pt x="62" y="1452"/>
                  </a:lnTo>
                  <a:lnTo>
                    <a:pt x="62" y="1472"/>
                  </a:lnTo>
                  <a:lnTo>
                    <a:pt x="64" y="1490"/>
                  </a:lnTo>
                  <a:lnTo>
                    <a:pt x="68" y="1510"/>
                  </a:lnTo>
                  <a:lnTo>
                    <a:pt x="74" y="1526"/>
                  </a:lnTo>
                  <a:lnTo>
                    <a:pt x="82" y="1544"/>
                  </a:lnTo>
                  <a:lnTo>
                    <a:pt x="82" y="1544"/>
                  </a:lnTo>
                  <a:lnTo>
                    <a:pt x="90" y="1560"/>
                  </a:lnTo>
                  <a:lnTo>
                    <a:pt x="98" y="1572"/>
                  </a:lnTo>
                  <a:lnTo>
                    <a:pt x="108" y="1584"/>
                  </a:lnTo>
                  <a:lnTo>
                    <a:pt x="120" y="1594"/>
                  </a:lnTo>
                  <a:lnTo>
                    <a:pt x="130" y="1602"/>
                  </a:lnTo>
                  <a:lnTo>
                    <a:pt x="140" y="1610"/>
                  </a:lnTo>
                  <a:lnTo>
                    <a:pt x="152" y="1614"/>
                  </a:lnTo>
                  <a:lnTo>
                    <a:pt x="164" y="1618"/>
                  </a:lnTo>
                  <a:lnTo>
                    <a:pt x="176" y="1620"/>
                  </a:lnTo>
                  <a:lnTo>
                    <a:pt x="186" y="1620"/>
                  </a:lnTo>
                  <a:lnTo>
                    <a:pt x="198" y="1620"/>
                  </a:lnTo>
                  <a:lnTo>
                    <a:pt x="208" y="1618"/>
                  </a:lnTo>
                  <a:lnTo>
                    <a:pt x="218" y="1616"/>
                  </a:lnTo>
                  <a:lnTo>
                    <a:pt x="228" y="1612"/>
                  </a:lnTo>
                  <a:lnTo>
                    <a:pt x="246" y="1602"/>
                  </a:lnTo>
                  <a:lnTo>
                    <a:pt x="246" y="1602"/>
                  </a:lnTo>
                  <a:lnTo>
                    <a:pt x="262" y="1588"/>
                  </a:lnTo>
                  <a:lnTo>
                    <a:pt x="274" y="1570"/>
                  </a:lnTo>
                  <a:lnTo>
                    <a:pt x="282" y="1552"/>
                  </a:lnTo>
                  <a:lnTo>
                    <a:pt x="288" y="1532"/>
                  </a:lnTo>
                  <a:lnTo>
                    <a:pt x="288" y="1522"/>
                  </a:lnTo>
                  <a:lnTo>
                    <a:pt x="288" y="1512"/>
                  </a:lnTo>
                  <a:lnTo>
                    <a:pt x="286" y="1502"/>
                  </a:lnTo>
                  <a:lnTo>
                    <a:pt x="282" y="1492"/>
                  </a:lnTo>
                  <a:lnTo>
                    <a:pt x="278" y="1482"/>
                  </a:lnTo>
                  <a:lnTo>
                    <a:pt x="272" y="1474"/>
                  </a:lnTo>
                  <a:lnTo>
                    <a:pt x="264" y="1464"/>
                  </a:lnTo>
                  <a:lnTo>
                    <a:pt x="254" y="1454"/>
                  </a:lnTo>
                  <a:lnTo>
                    <a:pt x="254" y="1454"/>
                  </a:lnTo>
                  <a:lnTo>
                    <a:pt x="246" y="1450"/>
                  </a:lnTo>
                  <a:lnTo>
                    <a:pt x="238" y="1446"/>
                  </a:lnTo>
                  <a:lnTo>
                    <a:pt x="228" y="1442"/>
                  </a:lnTo>
                  <a:lnTo>
                    <a:pt x="216" y="1442"/>
                  </a:lnTo>
                  <a:lnTo>
                    <a:pt x="206" y="1442"/>
                  </a:lnTo>
                  <a:lnTo>
                    <a:pt x="194" y="1442"/>
                  </a:lnTo>
                  <a:lnTo>
                    <a:pt x="184" y="1446"/>
                  </a:lnTo>
                  <a:lnTo>
                    <a:pt x="174" y="1450"/>
                  </a:lnTo>
                  <a:lnTo>
                    <a:pt x="164" y="1456"/>
                  </a:lnTo>
                  <a:lnTo>
                    <a:pt x="154" y="1464"/>
                  </a:lnTo>
                  <a:lnTo>
                    <a:pt x="146" y="1472"/>
                  </a:lnTo>
                  <a:lnTo>
                    <a:pt x="140" y="1482"/>
                  </a:lnTo>
                  <a:lnTo>
                    <a:pt x="136" y="1492"/>
                  </a:lnTo>
                  <a:lnTo>
                    <a:pt x="132" y="1506"/>
                  </a:lnTo>
                  <a:lnTo>
                    <a:pt x="132" y="1520"/>
                  </a:lnTo>
                  <a:lnTo>
                    <a:pt x="134" y="1536"/>
                  </a:lnTo>
                  <a:lnTo>
                    <a:pt x="134" y="1536"/>
                  </a:lnTo>
                  <a:lnTo>
                    <a:pt x="124" y="1522"/>
                  </a:lnTo>
                  <a:lnTo>
                    <a:pt x="116" y="1510"/>
                  </a:lnTo>
                  <a:lnTo>
                    <a:pt x="112" y="1498"/>
                  </a:lnTo>
                  <a:lnTo>
                    <a:pt x="106" y="1484"/>
                  </a:lnTo>
                  <a:lnTo>
                    <a:pt x="104" y="1472"/>
                  </a:lnTo>
                  <a:lnTo>
                    <a:pt x="102" y="1458"/>
                  </a:lnTo>
                  <a:lnTo>
                    <a:pt x="104" y="1446"/>
                  </a:lnTo>
                  <a:lnTo>
                    <a:pt x="104" y="1434"/>
                  </a:lnTo>
                  <a:lnTo>
                    <a:pt x="108" y="1422"/>
                  </a:lnTo>
                  <a:lnTo>
                    <a:pt x="112" y="1412"/>
                  </a:lnTo>
                  <a:lnTo>
                    <a:pt x="118" y="1402"/>
                  </a:lnTo>
                  <a:lnTo>
                    <a:pt x="124" y="1392"/>
                  </a:lnTo>
                  <a:lnTo>
                    <a:pt x="132" y="1384"/>
                  </a:lnTo>
                  <a:lnTo>
                    <a:pt x="140" y="1376"/>
                  </a:lnTo>
                  <a:lnTo>
                    <a:pt x="150" y="1370"/>
                  </a:lnTo>
                  <a:lnTo>
                    <a:pt x="162" y="1364"/>
                  </a:lnTo>
                  <a:lnTo>
                    <a:pt x="162" y="1364"/>
                  </a:lnTo>
                  <a:lnTo>
                    <a:pt x="190" y="1354"/>
                  </a:lnTo>
                  <a:lnTo>
                    <a:pt x="204" y="1352"/>
                  </a:lnTo>
                  <a:lnTo>
                    <a:pt x="220" y="1350"/>
                  </a:lnTo>
                  <a:lnTo>
                    <a:pt x="236" y="1350"/>
                  </a:lnTo>
                  <a:lnTo>
                    <a:pt x="252" y="1352"/>
                  </a:lnTo>
                  <a:lnTo>
                    <a:pt x="268" y="1358"/>
                  </a:lnTo>
                  <a:lnTo>
                    <a:pt x="286" y="1364"/>
                  </a:lnTo>
                  <a:lnTo>
                    <a:pt x="286" y="1364"/>
                  </a:lnTo>
                  <a:lnTo>
                    <a:pt x="296" y="1370"/>
                  </a:lnTo>
                  <a:lnTo>
                    <a:pt x="304" y="1376"/>
                  </a:lnTo>
                  <a:lnTo>
                    <a:pt x="318" y="1392"/>
                  </a:lnTo>
                  <a:lnTo>
                    <a:pt x="328" y="1412"/>
                  </a:lnTo>
                  <a:lnTo>
                    <a:pt x="338" y="1432"/>
                  </a:lnTo>
                  <a:lnTo>
                    <a:pt x="342" y="1456"/>
                  </a:lnTo>
                  <a:lnTo>
                    <a:pt x="346" y="1482"/>
                  </a:lnTo>
                  <a:lnTo>
                    <a:pt x="346" y="1508"/>
                  </a:lnTo>
                  <a:lnTo>
                    <a:pt x="344" y="1538"/>
                  </a:lnTo>
                  <a:lnTo>
                    <a:pt x="340" y="1566"/>
                  </a:lnTo>
                  <a:lnTo>
                    <a:pt x="334" y="1596"/>
                  </a:lnTo>
                  <a:lnTo>
                    <a:pt x="326" y="1624"/>
                  </a:lnTo>
                  <a:lnTo>
                    <a:pt x="316" y="1654"/>
                  </a:lnTo>
                  <a:lnTo>
                    <a:pt x="304" y="1680"/>
                  </a:lnTo>
                  <a:lnTo>
                    <a:pt x="292" y="1708"/>
                  </a:lnTo>
                  <a:lnTo>
                    <a:pt x="276" y="1732"/>
                  </a:lnTo>
                  <a:lnTo>
                    <a:pt x="262" y="1754"/>
                  </a:lnTo>
                  <a:lnTo>
                    <a:pt x="262" y="1754"/>
                  </a:lnTo>
                  <a:lnTo>
                    <a:pt x="236" y="1790"/>
                  </a:lnTo>
                  <a:lnTo>
                    <a:pt x="210" y="1828"/>
                  </a:lnTo>
                  <a:lnTo>
                    <a:pt x="184" y="1868"/>
                  </a:lnTo>
                  <a:lnTo>
                    <a:pt x="158" y="1914"/>
                  </a:lnTo>
                  <a:lnTo>
                    <a:pt x="134" y="1964"/>
                  </a:lnTo>
                  <a:lnTo>
                    <a:pt x="110" y="2016"/>
                  </a:lnTo>
                  <a:lnTo>
                    <a:pt x="88" y="2074"/>
                  </a:lnTo>
                  <a:lnTo>
                    <a:pt x="70" y="2136"/>
                  </a:lnTo>
                  <a:lnTo>
                    <a:pt x="70" y="2136"/>
                  </a:lnTo>
                  <a:lnTo>
                    <a:pt x="60" y="2170"/>
                  </a:lnTo>
                  <a:lnTo>
                    <a:pt x="54" y="2208"/>
                  </a:lnTo>
                  <a:lnTo>
                    <a:pt x="50" y="2246"/>
                  </a:lnTo>
                  <a:lnTo>
                    <a:pt x="48" y="2288"/>
                  </a:lnTo>
                  <a:lnTo>
                    <a:pt x="48" y="2330"/>
                  </a:lnTo>
                  <a:lnTo>
                    <a:pt x="48" y="2374"/>
                  </a:lnTo>
                  <a:lnTo>
                    <a:pt x="52" y="2418"/>
                  </a:lnTo>
                  <a:lnTo>
                    <a:pt x="58" y="2462"/>
                  </a:lnTo>
                  <a:lnTo>
                    <a:pt x="66" y="2506"/>
                  </a:lnTo>
                  <a:lnTo>
                    <a:pt x="78" y="2548"/>
                  </a:lnTo>
                  <a:lnTo>
                    <a:pt x="90" y="2592"/>
                  </a:lnTo>
                  <a:lnTo>
                    <a:pt x="104" y="2634"/>
                  </a:lnTo>
                  <a:lnTo>
                    <a:pt x="122" y="2674"/>
                  </a:lnTo>
                  <a:lnTo>
                    <a:pt x="142" y="2712"/>
                  </a:lnTo>
                  <a:lnTo>
                    <a:pt x="164" y="2748"/>
                  </a:lnTo>
                  <a:lnTo>
                    <a:pt x="188" y="2782"/>
                  </a:lnTo>
                  <a:lnTo>
                    <a:pt x="188" y="2782"/>
                  </a:lnTo>
                  <a:lnTo>
                    <a:pt x="166" y="2774"/>
                  </a:lnTo>
                  <a:lnTo>
                    <a:pt x="142" y="2770"/>
                  </a:lnTo>
                  <a:lnTo>
                    <a:pt x="116" y="2768"/>
                  </a:lnTo>
                  <a:lnTo>
                    <a:pt x="90" y="2770"/>
                  </a:lnTo>
                  <a:lnTo>
                    <a:pt x="64" y="2774"/>
                  </a:lnTo>
                  <a:lnTo>
                    <a:pt x="40" y="2782"/>
                  </a:lnTo>
                  <a:lnTo>
                    <a:pt x="30" y="2788"/>
                  </a:lnTo>
                  <a:lnTo>
                    <a:pt x="18" y="2794"/>
                  </a:lnTo>
                  <a:lnTo>
                    <a:pt x="8" y="2802"/>
                  </a:lnTo>
                  <a:lnTo>
                    <a:pt x="0" y="2812"/>
                  </a:lnTo>
                  <a:lnTo>
                    <a:pt x="0" y="2812"/>
                  </a:lnTo>
                  <a:lnTo>
                    <a:pt x="14" y="2808"/>
                  </a:lnTo>
                  <a:lnTo>
                    <a:pt x="30" y="2804"/>
                  </a:lnTo>
                  <a:lnTo>
                    <a:pt x="50" y="2804"/>
                  </a:lnTo>
                  <a:lnTo>
                    <a:pt x="70" y="2806"/>
                  </a:lnTo>
                  <a:lnTo>
                    <a:pt x="90" y="2808"/>
                  </a:lnTo>
                  <a:lnTo>
                    <a:pt x="112" y="2814"/>
                  </a:lnTo>
                  <a:lnTo>
                    <a:pt x="130" y="2822"/>
                  </a:lnTo>
                  <a:lnTo>
                    <a:pt x="148" y="2830"/>
                  </a:lnTo>
                  <a:lnTo>
                    <a:pt x="148" y="2830"/>
                  </a:lnTo>
                  <a:lnTo>
                    <a:pt x="130" y="2834"/>
                  </a:lnTo>
                  <a:lnTo>
                    <a:pt x="114" y="2838"/>
                  </a:lnTo>
                  <a:lnTo>
                    <a:pt x="96" y="2848"/>
                  </a:lnTo>
                  <a:lnTo>
                    <a:pt x="80" y="2860"/>
                  </a:lnTo>
                  <a:lnTo>
                    <a:pt x="66" y="2874"/>
                  </a:lnTo>
                  <a:lnTo>
                    <a:pt x="54" y="2894"/>
                  </a:lnTo>
                  <a:lnTo>
                    <a:pt x="44" y="2916"/>
                  </a:lnTo>
                  <a:lnTo>
                    <a:pt x="42" y="2930"/>
                  </a:lnTo>
                  <a:lnTo>
                    <a:pt x="40" y="2944"/>
                  </a:lnTo>
                  <a:lnTo>
                    <a:pt x="40" y="2944"/>
                  </a:lnTo>
                  <a:close/>
                  <a:moveTo>
                    <a:pt x="192" y="1596"/>
                  </a:moveTo>
                  <a:lnTo>
                    <a:pt x="192" y="1596"/>
                  </a:lnTo>
                  <a:lnTo>
                    <a:pt x="202" y="1590"/>
                  </a:lnTo>
                  <a:lnTo>
                    <a:pt x="208" y="1584"/>
                  </a:lnTo>
                  <a:lnTo>
                    <a:pt x="214" y="1576"/>
                  </a:lnTo>
                  <a:lnTo>
                    <a:pt x="218" y="1568"/>
                  </a:lnTo>
                  <a:lnTo>
                    <a:pt x="222" y="1550"/>
                  </a:lnTo>
                  <a:lnTo>
                    <a:pt x="224" y="1530"/>
                  </a:lnTo>
                  <a:lnTo>
                    <a:pt x="226" y="1494"/>
                  </a:lnTo>
                  <a:lnTo>
                    <a:pt x="228" y="1482"/>
                  </a:lnTo>
                  <a:lnTo>
                    <a:pt x="232" y="1480"/>
                  </a:lnTo>
                  <a:lnTo>
                    <a:pt x="234" y="1478"/>
                  </a:lnTo>
                  <a:lnTo>
                    <a:pt x="234" y="1478"/>
                  </a:lnTo>
                  <a:lnTo>
                    <a:pt x="242" y="1484"/>
                  </a:lnTo>
                  <a:lnTo>
                    <a:pt x="246" y="1492"/>
                  </a:lnTo>
                  <a:lnTo>
                    <a:pt x="250" y="1500"/>
                  </a:lnTo>
                  <a:lnTo>
                    <a:pt x="254" y="1510"/>
                  </a:lnTo>
                  <a:lnTo>
                    <a:pt x="254" y="1520"/>
                  </a:lnTo>
                  <a:lnTo>
                    <a:pt x="256" y="1530"/>
                  </a:lnTo>
                  <a:lnTo>
                    <a:pt x="254" y="1538"/>
                  </a:lnTo>
                  <a:lnTo>
                    <a:pt x="252" y="1548"/>
                  </a:lnTo>
                  <a:lnTo>
                    <a:pt x="248" y="1558"/>
                  </a:lnTo>
                  <a:lnTo>
                    <a:pt x="244" y="1566"/>
                  </a:lnTo>
                  <a:lnTo>
                    <a:pt x="238" y="1574"/>
                  </a:lnTo>
                  <a:lnTo>
                    <a:pt x="232" y="1582"/>
                  </a:lnTo>
                  <a:lnTo>
                    <a:pt x="224" y="1588"/>
                  </a:lnTo>
                  <a:lnTo>
                    <a:pt x="214" y="1592"/>
                  </a:lnTo>
                  <a:lnTo>
                    <a:pt x="204" y="1594"/>
                  </a:lnTo>
                  <a:lnTo>
                    <a:pt x="192" y="1596"/>
                  </a:lnTo>
                  <a:lnTo>
                    <a:pt x="192" y="1596"/>
                  </a:lnTo>
                  <a:close/>
                  <a:moveTo>
                    <a:pt x="186" y="1114"/>
                  </a:moveTo>
                  <a:lnTo>
                    <a:pt x="186" y="1114"/>
                  </a:lnTo>
                  <a:lnTo>
                    <a:pt x="206" y="1106"/>
                  </a:lnTo>
                  <a:lnTo>
                    <a:pt x="224" y="1100"/>
                  </a:lnTo>
                  <a:lnTo>
                    <a:pt x="240" y="1094"/>
                  </a:lnTo>
                  <a:lnTo>
                    <a:pt x="254" y="1088"/>
                  </a:lnTo>
                  <a:lnTo>
                    <a:pt x="258" y="1084"/>
                  </a:lnTo>
                  <a:lnTo>
                    <a:pt x="264" y="1078"/>
                  </a:lnTo>
                  <a:lnTo>
                    <a:pt x="266" y="1072"/>
                  </a:lnTo>
                  <a:lnTo>
                    <a:pt x="268" y="1064"/>
                  </a:lnTo>
                  <a:lnTo>
                    <a:pt x="270" y="1054"/>
                  </a:lnTo>
                  <a:lnTo>
                    <a:pt x="268" y="1044"/>
                  </a:lnTo>
                  <a:lnTo>
                    <a:pt x="264" y="1018"/>
                  </a:lnTo>
                  <a:lnTo>
                    <a:pt x="264" y="1018"/>
                  </a:lnTo>
                  <a:lnTo>
                    <a:pt x="262" y="1008"/>
                  </a:lnTo>
                  <a:lnTo>
                    <a:pt x="266" y="1002"/>
                  </a:lnTo>
                  <a:lnTo>
                    <a:pt x="272" y="996"/>
                  </a:lnTo>
                  <a:lnTo>
                    <a:pt x="280" y="996"/>
                  </a:lnTo>
                  <a:lnTo>
                    <a:pt x="288" y="996"/>
                  </a:lnTo>
                  <a:lnTo>
                    <a:pt x="298" y="1002"/>
                  </a:lnTo>
                  <a:lnTo>
                    <a:pt x="306" y="1008"/>
                  </a:lnTo>
                  <a:lnTo>
                    <a:pt x="310" y="1018"/>
                  </a:lnTo>
                  <a:lnTo>
                    <a:pt x="310" y="1018"/>
                  </a:lnTo>
                  <a:lnTo>
                    <a:pt x="316" y="1038"/>
                  </a:lnTo>
                  <a:lnTo>
                    <a:pt x="318" y="1062"/>
                  </a:lnTo>
                  <a:lnTo>
                    <a:pt x="318" y="1074"/>
                  </a:lnTo>
                  <a:lnTo>
                    <a:pt x="316" y="1086"/>
                  </a:lnTo>
                  <a:lnTo>
                    <a:pt x="312" y="1098"/>
                  </a:lnTo>
                  <a:lnTo>
                    <a:pt x="308" y="1108"/>
                  </a:lnTo>
                  <a:lnTo>
                    <a:pt x="300" y="1116"/>
                  </a:lnTo>
                  <a:lnTo>
                    <a:pt x="292" y="1124"/>
                  </a:lnTo>
                  <a:lnTo>
                    <a:pt x="280" y="1130"/>
                  </a:lnTo>
                  <a:lnTo>
                    <a:pt x="266" y="1132"/>
                  </a:lnTo>
                  <a:lnTo>
                    <a:pt x="250" y="1132"/>
                  </a:lnTo>
                  <a:lnTo>
                    <a:pt x="232" y="1130"/>
                  </a:lnTo>
                  <a:lnTo>
                    <a:pt x="210" y="1124"/>
                  </a:lnTo>
                  <a:lnTo>
                    <a:pt x="186" y="1114"/>
                  </a:lnTo>
                  <a:lnTo>
                    <a:pt x="186" y="1114"/>
                  </a:lnTo>
                  <a:close/>
                  <a:moveTo>
                    <a:pt x="182" y="56"/>
                  </a:moveTo>
                  <a:lnTo>
                    <a:pt x="182" y="56"/>
                  </a:lnTo>
                  <a:lnTo>
                    <a:pt x="170" y="52"/>
                  </a:lnTo>
                  <a:lnTo>
                    <a:pt x="156" y="50"/>
                  </a:lnTo>
                  <a:lnTo>
                    <a:pt x="142" y="50"/>
                  </a:lnTo>
                  <a:lnTo>
                    <a:pt x="128" y="52"/>
                  </a:lnTo>
                  <a:lnTo>
                    <a:pt x="116" y="58"/>
                  </a:lnTo>
                  <a:lnTo>
                    <a:pt x="102" y="64"/>
                  </a:lnTo>
                  <a:lnTo>
                    <a:pt x="92" y="74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4" y="74"/>
                  </a:lnTo>
                  <a:lnTo>
                    <a:pt x="88" y="62"/>
                  </a:lnTo>
                  <a:lnTo>
                    <a:pt x="92" y="54"/>
                  </a:lnTo>
                  <a:lnTo>
                    <a:pt x="98" y="44"/>
                  </a:lnTo>
                  <a:lnTo>
                    <a:pt x="106" y="38"/>
                  </a:lnTo>
                  <a:lnTo>
                    <a:pt x="114" y="32"/>
                  </a:lnTo>
                  <a:lnTo>
                    <a:pt x="122" y="28"/>
                  </a:lnTo>
                  <a:lnTo>
                    <a:pt x="130" y="26"/>
                  </a:lnTo>
                  <a:lnTo>
                    <a:pt x="138" y="26"/>
                  </a:lnTo>
                  <a:lnTo>
                    <a:pt x="148" y="26"/>
                  </a:lnTo>
                  <a:lnTo>
                    <a:pt x="156" y="28"/>
                  </a:lnTo>
                  <a:lnTo>
                    <a:pt x="164" y="30"/>
                  </a:lnTo>
                  <a:lnTo>
                    <a:pt x="170" y="34"/>
                  </a:lnTo>
                  <a:lnTo>
                    <a:pt x="176" y="40"/>
                  </a:lnTo>
                  <a:lnTo>
                    <a:pt x="180" y="48"/>
                  </a:lnTo>
                  <a:lnTo>
                    <a:pt x="182" y="56"/>
                  </a:lnTo>
                  <a:lnTo>
                    <a:pt x="182" y="56"/>
                  </a:lnTo>
                  <a:close/>
                  <a:moveTo>
                    <a:pt x="328" y="730"/>
                  </a:moveTo>
                  <a:lnTo>
                    <a:pt x="328" y="730"/>
                  </a:lnTo>
                  <a:lnTo>
                    <a:pt x="302" y="742"/>
                  </a:lnTo>
                  <a:lnTo>
                    <a:pt x="278" y="754"/>
                  </a:lnTo>
                  <a:lnTo>
                    <a:pt x="260" y="768"/>
                  </a:lnTo>
                  <a:lnTo>
                    <a:pt x="244" y="782"/>
                  </a:lnTo>
                  <a:lnTo>
                    <a:pt x="230" y="798"/>
                  </a:lnTo>
                  <a:lnTo>
                    <a:pt x="220" y="814"/>
                  </a:lnTo>
                  <a:lnTo>
                    <a:pt x="212" y="832"/>
                  </a:lnTo>
                  <a:lnTo>
                    <a:pt x="206" y="850"/>
                  </a:lnTo>
                  <a:lnTo>
                    <a:pt x="206" y="850"/>
                  </a:lnTo>
                  <a:lnTo>
                    <a:pt x="198" y="840"/>
                  </a:lnTo>
                  <a:lnTo>
                    <a:pt x="194" y="830"/>
                  </a:lnTo>
                  <a:lnTo>
                    <a:pt x="192" y="818"/>
                  </a:lnTo>
                  <a:lnTo>
                    <a:pt x="192" y="808"/>
                  </a:lnTo>
                  <a:lnTo>
                    <a:pt x="194" y="798"/>
                  </a:lnTo>
                  <a:lnTo>
                    <a:pt x="198" y="790"/>
                  </a:lnTo>
                  <a:lnTo>
                    <a:pt x="204" y="780"/>
                  </a:lnTo>
                  <a:lnTo>
                    <a:pt x="212" y="772"/>
                  </a:lnTo>
                  <a:lnTo>
                    <a:pt x="222" y="764"/>
                  </a:lnTo>
                  <a:lnTo>
                    <a:pt x="234" y="756"/>
                  </a:lnTo>
                  <a:lnTo>
                    <a:pt x="246" y="750"/>
                  </a:lnTo>
                  <a:lnTo>
                    <a:pt x="262" y="744"/>
                  </a:lnTo>
                  <a:lnTo>
                    <a:pt x="276" y="738"/>
                  </a:lnTo>
                  <a:lnTo>
                    <a:pt x="294" y="734"/>
                  </a:lnTo>
                  <a:lnTo>
                    <a:pt x="310" y="732"/>
                  </a:lnTo>
                  <a:lnTo>
                    <a:pt x="328" y="730"/>
                  </a:lnTo>
                  <a:lnTo>
                    <a:pt x="328" y="730"/>
                  </a:lnTo>
                  <a:close/>
                  <a:moveTo>
                    <a:pt x="376" y="632"/>
                  </a:moveTo>
                  <a:lnTo>
                    <a:pt x="376" y="632"/>
                  </a:lnTo>
                  <a:lnTo>
                    <a:pt x="388" y="622"/>
                  </a:lnTo>
                  <a:lnTo>
                    <a:pt x="400" y="610"/>
                  </a:lnTo>
                  <a:lnTo>
                    <a:pt x="408" y="594"/>
                  </a:lnTo>
                  <a:lnTo>
                    <a:pt x="414" y="578"/>
                  </a:lnTo>
                  <a:lnTo>
                    <a:pt x="420" y="560"/>
                  </a:lnTo>
                  <a:lnTo>
                    <a:pt x="420" y="542"/>
                  </a:lnTo>
                  <a:lnTo>
                    <a:pt x="420" y="524"/>
                  </a:lnTo>
                  <a:lnTo>
                    <a:pt x="414" y="508"/>
                  </a:lnTo>
                  <a:lnTo>
                    <a:pt x="414" y="508"/>
                  </a:lnTo>
                  <a:lnTo>
                    <a:pt x="426" y="516"/>
                  </a:lnTo>
                  <a:lnTo>
                    <a:pt x="434" y="526"/>
                  </a:lnTo>
                  <a:lnTo>
                    <a:pt x="440" y="534"/>
                  </a:lnTo>
                  <a:lnTo>
                    <a:pt x="444" y="544"/>
                  </a:lnTo>
                  <a:lnTo>
                    <a:pt x="448" y="554"/>
                  </a:lnTo>
                  <a:lnTo>
                    <a:pt x="448" y="564"/>
                  </a:lnTo>
                  <a:lnTo>
                    <a:pt x="448" y="574"/>
                  </a:lnTo>
                  <a:lnTo>
                    <a:pt x="444" y="584"/>
                  </a:lnTo>
                  <a:lnTo>
                    <a:pt x="440" y="592"/>
                  </a:lnTo>
                  <a:lnTo>
                    <a:pt x="436" y="600"/>
                  </a:lnTo>
                  <a:lnTo>
                    <a:pt x="428" y="608"/>
                  </a:lnTo>
                  <a:lnTo>
                    <a:pt x="420" y="616"/>
                  </a:lnTo>
                  <a:lnTo>
                    <a:pt x="410" y="622"/>
                  </a:lnTo>
                  <a:lnTo>
                    <a:pt x="400" y="626"/>
                  </a:lnTo>
                  <a:lnTo>
                    <a:pt x="390" y="630"/>
                  </a:lnTo>
                  <a:lnTo>
                    <a:pt x="376" y="632"/>
                  </a:lnTo>
                  <a:lnTo>
                    <a:pt x="376" y="632"/>
                  </a:lnTo>
                  <a:close/>
                  <a:moveTo>
                    <a:pt x="592" y="1670"/>
                  </a:moveTo>
                  <a:lnTo>
                    <a:pt x="592" y="1670"/>
                  </a:lnTo>
                  <a:lnTo>
                    <a:pt x="634" y="1658"/>
                  </a:lnTo>
                  <a:lnTo>
                    <a:pt x="672" y="1650"/>
                  </a:lnTo>
                  <a:lnTo>
                    <a:pt x="706" y="1644"/>
                  </a:lnTo>
                  <a:lnTo>
                    <a:pt x="740" y="1644"/>
                  </a:lnTo>
                  <a:lnTo>
                    <a:pt x="770" y="1646"/>
                  </a:lnTo>
                  <a:lnTo>
                    <a:pt x="800" y="1652"/>
                  </a:lnTo>
                  <a:lnTo>
                    <a:pt x="828" y="1662"/>
                  </a:lnTo>
                  <a:lnTo>
                    <a:pt x="854" y="1676"/>
                  </a:lnTo>
                  <a:lnTo>
                    <a:pt x="854" y="1676"/>
                  </a:lnTo>
                  <a:lnTo>
                    <a:pt x="868" y="1684"/>
                  </a:lnTo>
                  <a:lnTo>
                    <a:pt x="880" y="1694"/>
                  </a:lnTo>
                  <a:lnTo>
                    <a:pt x="892" y="1704"/>
                  </a:lnTo>
                  <a:lnTo>
                    <a:pt x="900" y="1716"/>
                  </a:lnTo>
                  <a:lnTo>
                    <a:pt x="906" y="1728"/>
                  </a:lnTo>
                  <a:lnTo>
                    <a:pt x="912" y="1740"/>
                  </a:lnTo>
                  <a:lnTo>
                    <a:pt x="916" y="1752"/>
                  </a:lnTo>
                  <a:lnTo>
                    <a:pt x="918" y="1764"/>
                  </a:lnTo>
                  <a:lnTo>
                    <a:pt x="920" y="1790"/>
                  </a:lnTo>
                  <a:lnTo>
                    <a:pt x="918" y="1814"/>
                  </a:lnTo>
                  <a:lnTo>
                    <a:pt x="912" y="1838"/>
                  </a:lnTo>
                  <a:lnTo>
                    <a:pt x="906" y="1858"/>
                  </a:lnTo>
                  <a:lnTo>
                    <a:pt x="906" y="1858"/>
                  </a:lnTo>
                  <a:lnTo>
                    <a:pt x="908" y="1832"/>
                  </a:lnTo>
                  <a:lnTo>
                    <a:pt x="906" y="1806"/>
                  </a:lnTo>
                  <a:lnTo>
                    <a:pt x="898" y="1784"/>
                  </a:lnTo>
                  <a:lnTo>
                    <a:pt x="888" y="1764"/>
                  </a:lnTo>
                  <a:lnTo>
                    <a:pt x="876" y="1748"/>
                  </a:lnTo>
                  <a:lnTo>
                    <a:pt x="862" y="1736"/>
                  </a:lnTo>
                  <a:lnTo>
                    <a:pt x="854" y="1732"/>
                  </a:lnTo>
                  <a:lnTo>
                    <a:pt x="846" y="1730"/>
                  </a:lnTo>
                  <a:lnTo>
                    <a:pt x="836" y="1728"/>
                  </a:lnTo>
                  <a:lnTo>
                    <a:pt x="828" y="1728"/>
                  </a:lnTo>
                  <a:lnTo>
                    <a:pt x="828" y="1728"/>
                  </a:lnTo>
                  <a:lnTo>
                    <a:pt x="830" y="1754"/>
                  </a:lnTo>
                  <a:lnTo>
                    <a:pt x="832" y="1768"/>
                  </a:lnTo>
                  <a:lnTo>
                    <a:pt x="830" y="1782"/>
                  </a:lnTo>
                  <a:lnTo>
                    <a:pt x="828" y="1796"/>
                  </a:lnTo>
                  <a:lnTo>
                    <a:pt x="824" y="1810"/>
                  </a:lnTo>
                  <a:lnTo>
                    <a:pt x="818" y="1824"/>
                  </a:lnTo>
                  <a:lnTo>
                    <a:pt x="810" y="1834"/>
                  </a:lnTo>
                  <a:lnTo>
                    <a:pt x="810" y="1834"/>
                  </a:lnTo>
                  <a:lnTo>
                    <a:pt x="804" y="1788"/>
                  </a:lnTo>
                  <a:lnTo>
                    <a:pt x="800" y="1768"/>
                  </a:lnTo>
                  <a:lnTo>
                    <a:pt x="794" y="1748"/>
                  </a:lnTo>
                  <a:lnTo>
                    <a:pt x="790" y="1730"/>
                  </a:lnTo>
                  <a:lnTo>
                    <a:pt x="782" y="1716"/>
                  </a:lnTo>
                  <a:lnTo>
                    <a:pt x="774" y="1702"/>
                  </a:lnTo>
                  <a:lnTo>
                    <a:pt x="764" y="1690"/>
                  </a:lnTo>
                  <a:lnTo>
                    <a:pt x="752" y="1680"/>
                  </a:lnTo>
                  <a:lnTo>
                    <a:pt x="736" y="1672"/>
                  </a:lnTo>
                  <a:lnTo>
                    <a:pt x="720" y="1666"/>
                  </a:lnTo>
                  <a:lnTo>
                    <a:pt x="700" y="1664"/>
                  </a:lnTo>
                  <a:lnTo>
                    <a:pt x="678" y="1662"/>
                  </a:lnTo>
                  <a:lnTo>
                    <a:pt x="654" y="1662"/>
                  </a:lnTo>
                  <a:lnTo>
                    <a:pt x="624" y="1666"/>
                  </a:lnTo>
                  <a:lnTo>
                    <a:pt x="592" y="1670"/>
                  </a:lnTo>
                  <a:lnTo>
                    <a:pt x="592" y="1670"/>
                  </a:lnTo>
                  <a:close/>
                  <a:moveTo>
                    <a:pt x="472" y="1946"/>
                  </a:moveTo>
                  <a:lnTo>
                    <a:pt x="472" y="1946"/>
                  </a:lnTo>
                  <a:lnTo>
                    <a:pt x="460" y="1956"/>
                  </a:lnTo>
                  <a:lnTo>
                    <a:pt x="454" y="1970"/>
                  </a:lnTo>
                  <a:lnTo>
                    <a:pt x="448" y="1984"/>
                  </a:lnTo>
                  <a:lnTo>
                    <a:pt x="446" y="1998"/>
                  </a:lnTo>
                  <a:lnTo>
                    <a:pt x="448" y="2012"/>
                  </a:lnTo>
                  <a:lnTo>
                    <a:pt x="450" y="2026"/>
                  </a:lnTo>
                  <a:lnTo>
                    <a:pt x="456" y="2038"/>
                  </a:lnTo>
                  <a:lnTo>
                    <a:pt x="462" y="2050"/>
                  </a:lnTo>
                  <a:lnTo>
                    <a:pt x="462" y="2050"/>
                  </a:lnTo>
                  <a:lnTo>
                    <a:pt x="454" y="2048"/>
                  </a:lnTo>
                  <a:lnTo>
                    <a:pt x="446" y="2046"/>
                  </a:lnTo>
                  <a:lnTo>
                    <a:pt x="438" y="2042"/>
                  </a:lnTo>
                  <a:lnTo>
                    <a:pt x="432" y="2036"/>
                  </a:lnTo>
                  <a:lnTo>
                    <a:pt x="428" y="2030"/>
                  </a:lnTo>
                  <a:lnTo>
                    <a:pt x="424" y="2022"/>
                  </a:lnTo>
                  <a:lnTo>
                    <a:pt x="422" y="2014"/>
                  </a:lnTo>
                  <a:lnTo>
                    <a:pt x="422" y="2004"/>
                  </a:lnTo>
                  <a:lnTo>
                    <a:pt x="422" y="1996"/>
                  </a:lnTo>
                  <a:lnTo>
                    <a:pt x="424" y="1986"/>
                  </a:lnTo>
                  <a:lnTo>
                    <a:pt x="428" y="1978"/>
                  </a:lnTo>
                  <a:lnTo>
                    <a:pt x="434" y="1970"/>
                  </a:lnTo>
                  <a:lnTo>
                    <a:pt x="440" y="1962"/>
                  </a:lnTo>
                  <a:lnTo>
                    <a:pt x="448" y="1956"/>
                  </a:lnTo>
                  <a:lnTo>
                    <a:pt x="458" y="1950"/>
                  </a:lnTo>
                  <a:lnTo>
                    <a:pt x="472" y="1946"/>
                  </a:lnTo>
                  <a:lnTo>
                    <a:pt x="472" y="1946"/>
                  </a:lnTo>
                  <a:close/>
                  <a:moveTo>
                    <a:pt x="88" y="2442"/>
                  </a:moveTo>
                  <a:lnTo>
                    <a:pt x="88" y="2442"/>
                  </a:lnTo>
                  <a:lnTo>
                    <a:pt x="84" y="2412"/>
                  </a:lnTo>
                  <a:lnTo>
                    <a:pt x="82" y="2382"/>
                  </a:lnTo>
                  <a:lnTo>
                    <a:pt x="80" y="2352"/>
                  </a:lnTo>
                  <a:lnTo>
                    <a:pt x="80" y="2322"/>
                  </a:lnTo>
                  <a:lnTo>
                    <a:pt x="82" y="2262"/>
                  </a:lnTo>
                  <a:lnTo>
                    <a:pt x="90" y="2202"/>
                  </a:lnTo>
                  <a:lnTo>
                    <a:pt x="100" y="2146"/>
                  </a:lnTo>
                  <a:lnTo>
                    <a:pt x="114" y="2092"/>
                  </a:lnTo>
                  <a:lnTo>
                    <a:pt x="122" y="2068"/>
                  </a:lnTo>
                  <a:lnTo>
                    <a:pt x="132" y="2046"/>
                  </a:lnTo>
                  <a:lnTo>
                    <a:pt x="142" y="2024"/>
                  </a:lnTo>
                  <a:lnTo>
                    <a:pt x="152" y="2004"/>
                  </a:lnTo>
                  <a:lnTo>
                    <a:pt x="152" y="2004"/>
                  </a:lnTo>
                  <a:lnTo>
                    <a:pt x="158" y="2026"/>
                  </a:lnTo>
                  <a:lnTo>
                    <a:pt x="162" y="2048"/>
                  </a:lnTo>
                  <a:lnTo>
                    <a:pt x="160" y="2068"/>
                  </a:lnTo>
                  <a:lnTo>
                    <a:pt x="158" y="2090"/>
                  </a:lnTo>
                  <a:lnTo>
                    <a:pt x="152" y="2112"/>
                  </a:lnTo>
                  <a:lnTo>
                    <a:pt x="144" y="2134"/>
                  </a:lnTo>
                  <a:lnTo>
                    <a:pt x="126" y="2182"/>
                  </a:lnTo>
                  <a:lnTo>
                    <a:pt x="126" y="2182"/>
                  </a:lnTo>
                  <a:lnTo>
                    <a:pt x="132" y="2178"/>
                  </a:lnTo>
                  <a:lnTo>
                    <a:pt x="150" y="2168"/>
                  </a:lnTo>
                  <a:lnTo>
                    <a:pt x="162" y="2164"/>
                  </a:lnTo>
                  <a:lnTo>
                    <a:pt x="176" y="2160"/>
                  </a:lnTo>
                  <a:lnTo>
                    <a:pt x="190" y="2160"/>
                  </a:lnTo>
                  <a:lnTo>
                    <a:pt x="202" y="2162"/>
                  </a:lnTo>
                  <a:lnTo>
                    <a:pt x="202" y="2162"/>
                  </a:lnTo>
                  <a:lnTo>
                    <a:pt x="184" y="2180"/>
                  </a:lnTo>
                  <a:lnTo>
                    <a:pt x="164" y="2202"/>
                  </a:lnTo>
                  <a:lnTo>
                    <a:pt x="146" y="2230"/>
                  </a:lnTo>
                  <a:lnTo>
                    <a:pt x="128" y="2264"/>
                  </a:lnTo>
                  <a:lnTo>
                    <a:pt x="114" y="2302"/>
                  </a:lnTo>
                  <a:lnTo>
                    <a:pt x="102" y="2344"/>
                  </a:lnTo>
                  <a:lnTo>
                    <a:pt x="92" y="2392"/>
                  </a:lnTo>
                  <a:lnTo>
                    <a:pt x="88" y="2442"/>
                  </a:lnTo>
                  <a:lnTo>
                    <a:pt x="88" y="2442"/>
                  </a:lnTo>
                  <a:close/>
                  <a:moveTo>
                    <a:pt x="606" y="2512"/>
                  </a:moveTo>
                  <a:lnTo>
                    <a:pt x="606" y="2512"/>
                  </a:lnTo>
                  <a:lnTo>
                    <a:pt x="626" y="2518"/>
                  </a:lnTo>
                  <a:lnTo>
                    <a:pt x="646" y="2524"/>
                  </a:lnTo>
                  <a:lnTo>
                    <a:pt x="662" y="2528"/>
                  </a:lnTo>
                  <a:lnTo>
                    <a:pt x="676" y="2530"/>
                  </a:lnTo>
                  <a:lnTo>
                    <a:pt x="684" y="2528"/>
                  </a:lnTo>
                  <a:lnTo>
                    <a:pt x="690" y="2526"/>
                  </a:lnTo>
                  <a:lnTo>
                    <a:pt x="696" y="2522"/>
                  </a:lnTo>
                  <a:lnTo>
                    <a:pt x="700" y="2518"/>
                  </a:lnTo>
                  <a:lnTo>
                    <a:pt x="706" y="2510"/>
                  </a:lnTo>
                  <a:lnTo>
                    <a:pt x="710" y="2500"/>
                  </a:lnTo>
                  <a:lnTo>
                    <a:pt x="718" y="2476"/>
                  </a:lnTo>
                  <a:lnTo>
                    <a:pt x="718" y="2476"/>
                  </a:lnTo>
                  <a:lnTo>
                    <a:pt x="720" y="2470"/>
                  </a:lnTo>
                  <a:lnTo>
                    <a:pt x="724" y="2466"/>
                  </a:lnTo>
                  <a:lnTo>
                    <a:pt x="734" y="2458"/>
                  </a:lnTo>
                  <a:lnTo>
                    <a:pt x="746" y="2454"/>
                  </a:lnTo>
                  <a:lnTo>
                    <a:pt x="760" y="2454"/>
                  </a:lnTo>
                  <a:lnTo>
                    <a:pt x="766" y="2456"/>
                  </a:lnTo>
                  <a:lnTo>
                    <a:pt x="772" y="2460"/>
                  </a:lnTo>
                  <a:lnTo>
                    <a:pt x="778" y="2464"/>
                  </a:lnTo>
                  <a:lnTo>
                    <a:pt x="782" y="2470"/>
                  </a:lnTo>
                  <a:lnTo>
                    <a:pt x="786" y="2478"/>
                  </a:lnTo>
                  <a:lnTo>
                    <a:pt x="788" y="2488"/>
                  </a:lnTo>
                  <a:lnTo>
                    <a:pt x="788" y="2498"/>
                  </a:lnTo>
                  <a:lnTo>
                    <a:pt x="788" y="2512"/>
                  </a:lnTo>
                  <a:lnTo>
                    <a:pt x="788" y="2512"/>
                  </a:lnTo>
                  <a:lnTo>
                    <a:pt x="786" y="2522"/>
                  </a:lnTo>
                  <a:lnTo>
                    <a:pt x="782" y="2532"/>
                  </a:lnTo>
                  <a:lnTo>
                    <a:pt x="776" y="2542"/>
                  </a:lnTo>
                  <a:lnTo>
                    <a:pt x="768" y="2552"/>
                  </a:lnTo>
                  <a:lnTo>
                    <a:pt x="760" y="2560"/>
                  </a:lnTo>
                  <a:lnTo>
                    <a:pt x="750" y="2570"/>
                  </a:lnTo>
                  <a:lnTo>
                    <a:pt x="740" y="2576"/>
                  </a:lnTo>
                  <a:lnTo>
                    <a:pt x="728" y="2580"/>
                  </a:lnTo>
                  <a:lnTo>
                    <a:pt x="716" y="2584"/>
                  </a:lnTo>
                  <a:lnTo>
                    <a:pt x="702" y="2584"/>
                  </a:lnTo>
                  <a:lnTo>
                    <a:pt x="686" y="2582"/>
                  </a:lnTo>
                  <a:lnTo>
                    <a:pt x="672" y="2576"/>
                  </a:lnTo>
                  <a:lnTo>
                    <a:pt x="656" y="2566"/>
                  </a:lnTo>
                  <a:lnTo>
                    <a:pt x="640" y="2552"/>
                  </a:lnTo>
                  <a:lnTo>
                    <a:pt x="622" y="2536"/>
                  </a:lnTo>
                  <a:lnTo>
                    <a:pt x="606" y="2512"/>
                  </a:lnTo>
                  <a:lnTo>
                    <a:pt x="606" y="2512"/>
                  </a:lnTo>
                  <a:close/>
                  <a:moveTo>
                    <a:pt x="750" y="2852"/>
                  </a:moveTo>
                  <a:lnTo>
                    <a:pt x="750" y="2852"/>
                  </a:lnTo>
                  <a:lnTo>
                    <a:pt x="762" y="2846"/>
                  </a:lnTo>
                  <a:lnTo>
                    <a:pt x="774" y="2840"/>
                  </a:lnTo>
                  <a:lnTo>
                    <a:pt x="798" y="2822"/>
                  </a:lnTo>
                  <a:lnTo>
                    <a:pt x="824" y="2804"/>
                  </a:lnTo>
                  <a:lnTo>
                    <a:pt x="846" y="2790"/>
                  </a:lnTo>
                  <a:lnTo>
                    <a:pt x="846" y="2790"/>
                  </a:lnTo>
                  <a:lnTo>
                    <a:pt x="834" y="2800"/>
                  </a:lnTo>
                  <a:lnTo>
                    <a:pt x="826" y="2808"/>
                  </a:lnTo>
                  <a:lnTo>
                    <a:pt x="822" y="2816"/>
                  </a:lnTo>
                  <a:lnTo>
                    <a:pt x="818" y="2822"/>
                  </a:lnTo>
                  <a:lnTo>
                    <a:pt x="814" y="2836"/>
                  </a:lnTo>
                  <a:lnTo>
                    <a:pt x="808" y="2844"/>
                  </a:lnTo>
                  <a:lnTo>
                    <a:pt x="798" y="2852"/>
                  </a:lnTo>
                  <a:lnTo>
                    <a:pt x="798" y="2852"/>
                  </a:lnTo>
                  <a:lnTo>
                    <a:pt x="780" y="2870"/>
                  </a:lnTo>
                  <a:lnTo>
                    <a:pt x="774" y="2878"/>
                  </a:lnTo>
                  <a:lnTo>
                    <a:pt x="770" y="2886"/>
                  </a:lnTo>
                  <a:lnTo>
                    <a:pt x="768" y="2892"/>
                  </a:lnTo>
                  <a:lnTo>
                    <a:pt x="766" y="2898"/>
                  </a:lnTo>
                  <a:lnTo>
                    <a:pt x="766" y="2904"/>
                  </a:lnTo>
                  <a:lnTo>
                    <a:pt x="768" y="2910"/>
                  </a:lnTo>
                  <a:lnTo>
                    <a:pt x="716" y="2920"/>
                  </a:lnTo>
                  <a:lnTo>
                    <a:pt x="716" y="2920"/>
                  </a:lnTo>
                  <a:lnTo>
                    <a:pt x="710" y="2916"/>
                  </a:lnTo>
                  <a:lnTo>
                    <a:pt x="708" y="2912"/>
                  </a:lnTo>
                  <a:lnTo>
                    <a:pt x="704" y="2908"/>
                  </a:lnTo>
                  <a:lnTo>
                    <a:pt x="704" y="2904"/>
                  </a:lnTo>
                  <a:lnTo>
                    <a:pt x="704" y="2894"/>
                  </a:lnTo>
                  <a:lnTo>
                    <a:pt x="710" y="2884"/>
                  </a:lnTo>
                  <a:lnTo>
                    <a:pt x="718" y="2874"/>
                  </a:lnTo>
                  <a:lnTo>
                    <a:pt x="728" y="2864"/>
                  </a:lnTo>
                  <a:lnTo>
                    <a:pt x="738" y="2858"/>
                  </a:lnTo>
                  <a:lnTo>
                    <a:pt x="750" y="2852"/>
                  </a:lnTo>
                  <a:lnTo>
                    <a:pt x="750" y="2852"/>
                  </a:lnTo>
                  <a:close/>
                  <a:moveTo>
                    <a:pt x="528" y="2828"/>
                  </a:moveTo>
                  <a:lnTo>
                    <a:pt x="528" y="2828"/>
                  </a:lnTo>
                  <a:lnTo>
                    <a:pt x="578" y="2848"/>
                  </a:lnTo>
                  <a:lnTo>
                    <a:pt x="606" y="2856"/>
                  </a:lnTo>
                  <a:lnTo>
                    <a:pt x="630" y="2862"/>
                  </a:lnTo>
                  <a:lnTo>
                    <a:pt x="630" y="2862"/>
                  </a:lnTo>
                  <a:lnTo>
                    <a:pt x="642" y="2866"/>
                  </a:lnTo>
                  <a:lnTo>
                    <a:pt x="654" y="2870"/>
                  </a:lnTo>
                  <a:lnTo>
                    <a:pt x="666" y="2876"/>
                  </a:lnTo>
                  <a:lnTo>
                    <a:pt x="674" y="2884"/>
                  </a:lnTo>
                  <a:lnTo>
                    <a:pt x="680" y="2894"/>
                  </a:lnTo>
                  <a:lnTo>
                    <a:pt x="682" y="2904"/>
                  </a:lnTo>
                  <a:lnTo>
                    <a:pt x="682" y="2908"/>
                  </a:lnTo>
                  <a:lnTo>
                    <a:pt x="680" y="2912"/>
                  </a:lnTo>
                  <a:lnTo>
                    <a:pt x="676" y="2918"/>
                  </a:lnTo>
                  <a:lnTo>
                    <a:pt x="672" y="2922"/>
                  </a:lnTo>
                  <a:lnTo>
                    <a:pt x="620" y="2924"/>
                  </a:lnTo>
                  <a:lnTo>
                    <a:pt x="620" y="2924"/>
                  </a:lnTo>
                  <a:lnTo>
                    <a:pt x="620" y="2912"/>
                  </a:lnTo>
                  <a:lnTo>
                    <a:pt x="618" y="2906"/>
                  </a:lnTo>
                  <a:lnTo>
                    <a:pt x="614" y="2900"/>
                  </a:lnTo>
                  <a:lnTo>
                    <a:pt x="610" y="2892"/>
                  </a:lnTo>
                  <a:lnTo>
                    <a:pt x="602" y="2886"/>
                  </a:lnTo>
                  <a:lnTo>
                    <a:pt x="582" y="2872"/>
                  </a:lnTo>
                  <a:lnTo>
                    <a:pt x="582" y="2872"/>
                  </a:lnTo>
                  <a:lnTo>
                    <a:pt x="572" y="2866"/>
                  </a:lnTo>
                  <a:lnTo>
                    <a:pt x="566" y="2860"/>
                  </a:lnTo>
                  <a:lnTo>
                    <a:pt x="558" y="2852"/>
                  </a:lnTo>
                  <a:lnTo>
                    <a:pt x="548" y="2842"/>
                  </a:lnTo>
                  <a:lnTo>
                    <a:pt x="528" y="2828"/>
                  </a:lnTo>
                  <a:lnTo>
                    <a:pt x="528" y="2828"/>
                  </a:lnTo>
                  <a:close/>
                  <a:moveTo>
                    <a:pt x="62" y="2946"/>
                  </a:moveTo>
                  <a:lnTo>
                    <a:pt x="62" y="2946"/>
                  </a:lnTo>
                  <a:lnTo>
                    <a:pt x="64" y="2954"/>
                  </a:lnTo>
                  <a:lnTo>
                    <a:pt x="70" y="2960"/>
                  </a:lnTo>
                  <a:lnTo>
                    <a:pt x="74" y="2966"/>
                  </a:lnTo>
                  <a:lnTo>
                    <a:pt x="82" y="2972"/>
                  </a:lnTo>
                  <a:lnTo>
                    <a:pt x="96" y="2978"/>
                  </a:lnTo>
                  <a:lnTo>
                    <a:pt x="110" y="2980"/>
                  </a:lnTo>
                  <a:lnTo>
                    <a:pt x="136" y="2984"/>
                  </a:lnTo>
                  <a:lnTo>
                    <a:pt x="146" y="2988"/>
                  </a:lnTo>
                  <a:lnTo>
                    <a:pt x="148" y="2990"/>
                  </a:lnTo>
                  <a:lnTo>
                    <a:pt x="150" y="2994"/>
                  </a:lnTo>
                  <a:lnTo>
                    <a:pt x="150" y="2994"/>
                  </a:lnTo>
                  <a:lnTo>
                    <a:pt x="144" y="3000"/>
                  </a:lnTo>
                  <a:lnTo>
                    <a:pt x="138" y="3004"/>
                  </a:lnTo>
                  <a:lnTo>
                    <a:pt x="132" y="3008"/>
                  </a:lnTo>
                  <a:lnTo>
                    <a:pt x="124" y="3010"/>
                  </a:lnTo>
                  <a:lnTo>
                    <a:pt x="110" y="3010"/>
                  </a:lnTo>
                  <a:lnTo>
                    <a:pt x="96" y="3006"/>
                  </a:lnTo>
                  <a:lnTo>
                    <a:pt x="82" y="2996"/>
                  </a:lnTo>
                  <a:lnTo>
                    <a:pt x="76" y="2990"/>
                  </a:lnTo>
                  <a:lnTo>
                    <a:pt x="70" y="2984"/>
                  </a:lnTo>
                  <a:lnTo>
                    <a:pt x="66" y="2976"/>
                  </a:lnTo>
                  <a:lnTo>
                    <a:pt x="64" y="2966"/>
                  </a:lnTo>
                  <a:lnTo>
                    <a:pt x="62" y="2956"/>
                  </a:lnTo>
                  <a:lnTo>
                    <a:pt x="62" y="2946"/>
                  </a:lnTo>
                  <a:lnTo>
                    <a:pt x="62" y="2946"/>
                  </a:lnTo>
                  <a:close/>
                </a:path>
              </a:pathLst>
            </a:custGeom>
            <a:solidFill>
              <a:srgbClr val="cabb8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グループ化 101"/>
          <p:cNvGrpSpPr/>
          <p:nvPr/>
        </p:nvGrpSpPr>
        <p:grpSpPr>
          <a:xfrm>
            <a:off x="6253200" y="2257560"/>
            <a:ext cx="2628720" cy="1380960"/>
            <a:chOff x="6253200" y="2257560"/>
            <a:chExt cx="2628720" cy="1380960"/>
          </a:xfrm>
        </p:grpSpPr>
        <p:sp>
          <p:nvSpPr>
            <p:cNvPr id="87" name="Freeform 142"/>
            <p:cNvSpPr/>
            <p:nvPr/>
          </p:nvSpPr>
          <p:spPr>
            <a:xfrm>
              <a:off x="6621480" y="2257560"/>
              <a:ext cx="1892160" cy="1270080"/>
            </a:xfrm>
            <a:custGeom>
              <a:avLst/>
              <a:gdLst>
                <a:gd name="textAreaLeft" fmla="*/ 0 w 1892160"/>
                <a:gd name="textAreaRight" fmla="*/ 1892520 w 189216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1192" h="800">
                  <a:moveTo>
                    <a:pt x="1012" y="800"/>
                  </a:moveTo>
                  <a:lnTo>
                    <a:pt x="1124" y="624"/>
                  </a:lnTo>
                  <a:lnTo>
                    <a:pt x="1124" y="624"/>
                  </a:lnTo>
                  <a:lnTo>
                    <a:pt x="1136" y="630"/>
                  </a:lnTo>
                  <a:lnTo>
                    <a:pt x="1148" y="632"/>
                  </a:lnTo>
                  <a:lnTo>
                    <a:pt x="1148" y="632"/>
                  </a:lnTo>
                  <a:lnTo>
                    <a:pt x="1156" y="630"/>
                  </a:lnTo>
                  <a:lnTo>
                    <a:pt x="1166" y="628"/>
                  </a:lnTo>
                  <a:lnTo>
                    <a:pt x="1172" y="624"/>
                  </a:lnTo>
                  <a:lnTo>
                    <a:pt x="1180" y="618"/>
                  </a:lnTo>
                  <a:lnTo>
                    <a:pt x="1184" y="612"/>
                  </a:lnTo>
                  <a:lnTo>
                    <a:pt x="1188" y="604"/>
                  </a:lnTo>
                  <a:lnTo>
                    <a:pt x="1192" y="596"/>
                  </a:lnTo>
                  <a:lnTo>
                    <a:pt x="1192" y="588"/>
                  </a:lnTo>
                  <a:lnTo>
                    <a:pt x="1192" y="588"/>
                  </a:lnTo>
                  <a:lnTo>
                    <a:pt x="1192" y="578"/>
                  </a:lnTo>
                  <a:lnTo>
                    <a:pt x="1188" y="570"/>
                  </a:lnTo>
                  <a:lnTo>
                    <a:pt x="1184" y="562"/>
                  </a:lnTo>
                  <a:lnTo>
                    <a:pt x="1180" y="556"/>
                  </a:lnTo>
                  <a:lnTo>
                    <a:pt x="1172" y="552"/>
                  </a:lnTo>
                  <a:lnTo>
                    <a:pt x="1166" y="546"/>
                  </a:lnTo>
                  <a:lnTo>
                    <a:pt x="1156" y="544"/>
                  </a:lnTo>
                  <a:lnTo>
                    <a:pt x="1148" y="544"/>
                  </a:lnTo>
                  <a:lnTo>
                    <a:pt x="1148" y="544"/>
                  </a:lnTo>
                  <a:lnTo>
                    <a:pt x="1136" y="546"/>
                  </a:lnTo>
                  <a:lnTo>
                    <a:pt x="1124" y="550"/>
                  </a:lnTo>
                  <a:lnTo>
                    <a:pt x="1114" y="560"/>
                  </a:lnTo>
                  <a:lnTo>
                    <a:pt x="1108" y="570"/>
                  </a:lnTo>
                  <a:lnTo>
                    <a:pt x="1108" y="570"/>
                  </a:lnTo>
                  <a:lnTo>
                    <a:pt x="1096" y="560"/>
                  </a:lnTo>
                  <a:lnTo>
                    <a:pt x="1084" y="550"/>
                  </a:lnTo>
                  <a:lnTo>
                    <a:pt x="1074" y="536"/>
                  </a:lnTo>
                  <a:lnTo>
                    <a:pt x="1066" y="522"/>
                  </a:lnTo>
                  <a:lnTo>
                    <a:pt x="1058" y="506"/>
                  </a:lnTo>
                  <a:lnTo>
                    <a:pt x="1052" y="490"/>
                  </a:lnTo>
                  <a:lnTo>
                    <a:pt x="1046" y="472"/>
                  </a:lnTo>
                  <a:lnTo>
                    <a:pt x="1044" y="454"/>
                  </a:lnTo>
                  <a:lnTo>
                    <a:pt x="1044" y="454"/>
                  </a:lnTo>
                  <a:lnTo>
                    <a:pt x="1052" y="452"/>
                  </a:lnTo>
                  <a:lnTo>
                    <a:pt x="1060" y="450"/>
                  </a:lnTo>
                  <a:lnTo>
                    <a:pt x="1068" y="446"/>
                  </a:lnTo>
                  <a:lnTo>
                    <a:pt x="1074" y="440"/>
                  </a:lnTo>
                  <a:lnTo>
                    <a:pt x="1080" y="434"/>
                  </a:lnTo>
                  <a:lnTo>
                    <a:pt x="1082" y="426"/>
                  </a:lnTo>
                  <a:lnTo>
                    <a:pt x="1086" y="418"/>
                  </a:lnTo>
                  <a:lnTo>
                    <a:pt x="1086" y="410"/>
                  </a:lnTo>
                  <a:lnTo>
                    <a:pt x="1086" y="410"/>
                  </a:lnTo>
                  <a:lnTo>
                    <a:pt x="1086" y="400"/>
                  </a:lnTo>
                  <a:lnTo>
                    <a:pt x="1082" y="392"/>
                  </a:lnTo>
                  <a:lnTo>
                    <a:pt x="1078" y="384"/>
                  </a:lnTo>
                  <a:lnTo>
                    <a:pt x="1074" y="378"/>
                  </a:lnTo>
                  <a:lnTo>
                    <a:pt x="1066" y="372"/>
                  </a:lnTo>
                  <a:lnTo>
                    <a:pt x="1060" y="368"/>
                  </a:lnTo>
                  <a:lnTo>
                    <a:pt x="1052" y="366"/>
                  </a:lnTo>
                  <a:lnTo>
                    <a:pt x="1042" y="366"/>
                  </a:lnTo>
                  <a:lnTo>
                    <a:pt x="1042" y="366"/>
                  </a:lnTo>
                  <a:lnTo>
                    <a:pt x="1034" y="366"/>
                  </a:lnTo>
                  <a:lnTo>
                    <a:pt x="1024" y="368"/>
                  </a:lnTo>
                  <a:lnTo>
                    <a:pt x="1018" y="372"/>
                  </a:lnTo>
                  <a:lnTo>
                    <a:pt x="1010" y="378"/>
                  </a:lnTo>
                  <a:lnTo>
                    <a:pt x="1006" y="384"/>
                  </a:lnTo>
                  <a:lnTo>
                    <a:pt x="1002" y="392"/>
                  </a:lnTo>
                  <a:lnTo>
                    <a:pt x="998" y="400"/>
                  </a:lnTo>
                  <a:lnTo>
                    <a:pt x="998" y="410"/>
                  </a:lnTo>
                  <a:lnTo>
                    <a:pt x="998" y="410"/>
                  </a:lnTo>
                  <a:lnTo>
                    <a:pt x="998" y="412"/>
                  </a:lnTo>
                  <a:lnTo>
                    <a:pt x="998" y="412"/>
                  </a:lnTo>
                  <a:lnTo>
                    <a:pt x="994" y="412"/>
                  </a:lnTo>
                  <a:lnTo>
                    <a:pt x="994" y="412"/>
                  </a:lnTo>
                  <a:lnTo>
                    <a:pt x="980" y="408"/>
                  </a:lnTo>
                  <a:lnTo>
                    <a:pt x="968" y="404"/>
                  </a:lnTo>
                  <a:lnTo>
                    <a:pt x="956" y="398"/>
                  </a:lnTo>
                  <a:lnTo>
                    <a:pt x="942" y="392"/>
                  </a:lnTo>
                  <a:lnTo>
                    <a:pt x="932" y="382"/>
                  </a:lnTo>
                  <a:lnTo>
                    <a:pt x="920" y="374"/>
                  </a:lnTo>
                  <a:lnTo>
                    <a:pt x="910" y="362"/>
                  </a:lnTo>
                  <a:lnTo>
                    <a:pt x="900" y="350"/>
                  </a:lnTo>
                  <a:lnTo>
                    <a:pt x="884" y="324"/>
                  </a:lnTo>
                  <a:lnTo>
                    <a:pt x="870" y="294"/>
                  </a:lnTo>
                  <a:lnTo>
                    <a:pt x="860" y="262"/>
                  </a:lnTo>
                  <a:lnTo>
                    <a:pt x="856" y="226"/>
                  </a:lnTo>
                  <a:lnTo>
                    <a:pt x="856" y="226"/>
                  </a:lnTo>
                  <a:lnTo>
                    <a:pt x="864" y="226"/>
                  </a:lnTo>
                  <a:lnTo>
                    <a:pt x="872" y="224"/>
                  </a:lnTo>
                  <a:lnTo>
                    <a:pt x="880" y="218"/>
                  </a:lnTo>
                  <a:lnTo>
                    <a:pt x="886" y="214"/>
                  </a:lnTo>
                  <a:lnTo>
                    <a:pt x="892" y="208"/>
                  </a:lnTo>
                  <a:lnTo>
                    <a:pt x="896" y="200"/>
                  </a:lnTo>
                  <a:lnTo>
                    <a:pt x="898" y="192"/>
                  </a:lnTo>
                  <a:lnTo>
                    <a:pt x="898" y="182"/>
                  </a:lnTo>
                  <a:lnTo>
                    <a:pt x="898" y="182"/>
                  </a:lnTo>
                  <a:lnTo>
                    <a:pt x="898" y="174"/>
                  </a:lnTo>
                  <a:lnTo>
                    <a:pt x="896" y="166"/>
                  </a:lnTo>
                  <a:lnTo>
                    <a:pt x="892" y="158"/>
                  </a:lnTo>
                  <a:lnTo>
                    <a:pt x="886" y="152"/>
                  </a:lnTo>
                  <a:lnTo>
                    <a:pt x="880" y="146"/>
                  </a:lnTo>
                  <a:lnTo>
                    <a:pt x="872" y="142"/>
                  </a:lnTo>
                  <a:lnTo>
                    <a:pt x="864" y="140"/>
                  </a:lnTo>
                  <a:lnTo>
                    <a:pt x="854" y="138"/>
                  </a:lnTo>
                  <a:lnTo>
                    <a:pt x="854" y="138"/>
                  </a:lnTo>
                  <a:lnTo>
                    <a:pt x="846" y="140"/>
                  </a:lnTo>
                  <a:lnTo>
                    <a:pt x="838" y="142"/>
                  </a:lnTo>
                  <a:lnTo>
                    <a:pt x="830" y="146"/>
                  </a:lnTo>
                  <a:lnTo>
                    <a:pt x="824" y="152"/>
                  </a:lnTo>
                  <a:lnTo>
                    <a:pt x="818" y="158"/>
                  </a:lnTo>
                  <a:lnTo>
                    <a:pt x="814" y="166"/>
                  </a:lnTo>
                  <a:lnTo>
                    <a:pt x="812" y="174"/>
                  </a:lnTo>
                  <a:lnTo>
                    <a:pt x="810" y="182"/>
                  </a:lnTo>
                  <a:lnTo>
                    <a:pt x="810" y="182"/>
                  </a:lnTo>
                  <a:lnTo>
                    <a:pt x="812" y="190"/>
                  </a:lnTo>
                  <a:lnTo>
                    <a:pt x="814" y="198"/>
                  </a:lnTo>
                  <a:lnTo>
                    <a:pt x="814" y="198"/>
                  </a:lnTo>
                  <a:lnTo>
                    <a:pt x="800" y="202"/>
                  </a:lnTo>
                  <a:lnTo>
                    <a:pt x="784" y="202"/>
                  </a:lnTo>
                  <a:lnTo>
                    <a:pt x="770" y="202"/>
                  </a:lnTo>
                  <a:lnTo>
                    <a:pt x="754" y="202"/>
                  </a:lnTo>
                  <a:lnTo>
                    <a:pt x="754" y="202"/>
                  </a:lnTo>
                  <a:lnTo>
                    <a:pt x="732" y="196"/>
                  </a:lnTo>
                  <a:lnTo>
                    <a:pt x="712" y="188"/>
                  </a:lnTo>
                  <a:lnTo>
                    <a:pt x="692" y="176"/>
                  </a:lnTo>
                  <a:lnTo>
                    <a:pt x="674" y="164"/>
                  </a:lnTo>
                  <a:lnTo>
                    <a:pt x="656" y="148"/>
                  </a:lnTo>
                  <a:lnTo>
                    <a:pt x="640" y="128"/>
                  </a:lnTo>
                  <a:lnTo>
                    <a:pt x="626" y="108"/>
                  </a:lnTo>
                  <a:lnTo>
                    <a:pt x="614" y="86"/>
                  </a:lnTo>
                  <a:lnTo>
                    <a:pt x="614" y="86"/>
                  </a:lnTo>
                  <a:lnTo>
                    <a:pt x="624" y="80"/>
                  </a:lnTo>
                  <a:lnTo>
                    <a:pt x="632" y="70"/>
                  </a:lnTo>
                  <a:lnTo>
                    <a:pt x="638" y="58"/>
                  </a:lnTo>
                  <a:lnTo>
                    <a:pt x="640" y="46"/>
                  </a:lnTo>
                  <a:lnTo>
                    <a:pt x="640" y="46"/>
                  </a:lnTo>
                  <a:lnTo>
                    <a:pt x="640" y="36"/>
                  </a:lnTo>
                  <a:lnTo>
                    <a:pt x="636" y="28"/>
                  </a:lnTo>
                  <a:lnTo>
                    <a:pt x="632" y="20"/>
                  </a:lnTo>
                  <a:lnTo>
                    <a:pt x="628" y="14"/>
                  </a:lnTo>
                  <a:lnTo>
                    <a:pt x="620" y="8"/>
                  </a:lnTo>
                  <a:lnTo>
                    <a:pt x="614" y="4"/>
                  </a:lnTo>
                  <a:lnTo>
                    <a:pt x="604" y="2"/>
                  </a:lnTo>
                  <a:lnTo>
                    <a:pt x="596" y="0"/>
                  </a:lnTo>
                  <a:lnTo>
                    <a:pt x="596" y="0"/>
                  </a:lnTo>
                  <a:lnTo>
                    <a:pt x="588" y="2"/>
                  </a:lnTo>
                  <a:lnTo>
                    <a:pt x="578" y="4"/>
                  </a:lnTo>
                  <a:lnTo>
                    <a:pt x="572" y="8"/>
                  </a:lnTo>
                  <a:lnTo>
                    <a:pt x="564" y="14"/>
                  </a:lnTo>
                  <a:lnTo>
                    <a:pt x="560" y="20"/>
                  </a:lnTo>
                  <a:lnTo>
                    <a:pt x="556" y="28"/>
                  </a:lnTo>
                  <a:lnTo>
                    <a:pt x="552" y="36"/>
                  </a:lnTo>
                  <a:lnTo>
                    <a:pt x="552" y="46"/>
                  </a:lnTo>
                  <a:lnTo>
                    <a:pt x="552" y="46"/>
                  </a:lnTo>
                  <a:lnTo>
                    <a:pt x="554" y="58"/>
                  </a:lnTo>
                  <a:lnTo>
                    <a:pt x="560" y="70"/>
                  </a:lnTo>
                  <a:lnTo>
                    <a:pt x="568" y="78"/>
                  </a:lnTo>
                  <a:lnTo>
                    <a:pt x="578" y="86"/>
                  </a:lnTo>
                  <a:lnTo>
                    <a:pt x="578" y="86"/>
                  </a:lnTo>
                  <a:lnTo>
                    <a:pt x="566" y="108"/>
                  </a:lnTo>
                  <a:lnTo>
                    <a:pt x="552" y="128"/>
                  </a:lnTo>
                  <a:lnTo>
                    <a:pt x="536" y="146"/>
                  </a:lnTo>
                  <a:lnTo>
                    <a:pt x="518" y="164"/>
                  </a:lnTo>
                  <a:lnTo>
                    <a:pt x="500" y="176"/>
                  </a:lnTo>
                  <a:lnTo>
                    <a:pt x="480" y="188"/>
                  </a:lnTo>
                  <a:lnTo>
                    <a:pt x="458" y="196"/>
                  </a:lnTo>
                  <a:lnTo>
                    <a:pt x="438" y="202"/>
                  </a:lnTo>
                  <a:lnTo>
                    <a:pt x="438" y="202"/>
                  </a:lnTo>
                  <a:lnTo>
                    <a:pt x="422" y="202"/>
                  </a:lnTo>
                  <a:lnTo>
                    <a:pt x="408" y="202"/>
                  </a:lnTo>
                  <a:lnTo>
                    <a:pt x="392" y="202"/>
                  </a:lnTo>
                  <a:lnTo>
                    <a:pt x="378" y="198"/>
                  </a:lnTo>
                  <a:lnTo>
                    <a:pt x="378" y="198"/>
                  </a:lnTo>
                  <a:lnTo>
                    <a:pt x="380" y="190"/>
                  </a:lnTo>
                  <a:lnTo>
                    <a:pt x="382" y="182"/>
                  </a:lnTo>
                  <a:lnTo>
                    <a:pt x="382" y="182"/>
                  </a:lnTo>
                  <a:lnTo>
                    <a:pt x="380" y="174"/>
                  </a:lnTo>
                  <a:lnTo>
                    <a:pt x="378" y="166"/>
                  </a:lnTo>
                  <a:lnTo>
                    <a:pt x="374" y="158"/>
                  </a:lnTo>
                  <a:lnTo>
                    <a:pt x="368" y="152"/>
                  </a:lnTo>
                  <a:lnTo>
                    <a:pt x="362" y="146"/>
                  </a:lnTo>
                  <a:lnTo>
                    <a:pt x="354" y="142"/>
                  </a:lnTo>
                  <a:lnTo>
                    <a:pt x="346" y="140"/>
                  </a:lnTo>
                  <a:lnTo>
                    <a:pt x="338" y="138"/>
                  </a:lnTo>
                  <a:lnTo>
                    <a:pt x="338" y="138"/>
                  </a:lnTo>
                  <a:lnTo>
                    <a:pt x="328" y="140"/>
                  </a:lnTo>
                  <a:lnTo>
                    <a:pt x="320" y="142"/>
                  </a:lnTo>
                  <a:lnTo>
                    <a:pt x="312" y="146"/>
                  </a:lnTo>
                  <a:lnTo>
                    <a:pt x="306" y="152"/>
                  </a:lnTo>
                  <a:lnTo>
                    <a:pt x="300" y="158"/>
                  </a:lnTo>
                  <a:lnTo>
                    <a:pt x="296" y="166"/>
                  </a:lnTo>
                  <a:lnTo>
                    <a:pt x="294" y="174"/>
                  </a:lnTo>
                  <a:lnTo>
                    <a:pt x="294" y="182"/>
                  </a:lnTo>
                  <a:lnTo>
                    <a:pt x="294" y="182"/>
                  </a:lnTo>
                  <a:lnTo>
                    <a:pt x="294" y="192"/>
                  </a:lnTo>
                  <a:lnTo>
                    <a:pt x="296" y="200"/>
                  </a:lnTo>
                  <a:lnTo>
                    <a:pt x="300" y="206"/>
                  </a:lnTo>
                  <a:lnTo>
                    <a:pt x="306" y="214"/>
                  </a:lnTo>
                  <a:lnTo>
                    <a:pt x="312" y="218"/>
                  </a:lnTo>
                  <a:lnTo>
                    <a:pt x="320" y="222"/>
                  </a:lnTo>
                  <a:lnTo>
                    <a:pt x="328" y="226"/>
                  </a:lnTo>
                  <a:lnTo>
                    <a:pt x="336" y="226"/>
                  </a:lnTo>
                  <a:lnTo>
                    <a:pt x="336" y="226"/>
                  </a:lnTo>
                  <a:lnTo>
                    <a:pt x="330" y="262"/>
                  </a:lnTo>
                  <a:lnTo>
                    <a:pt x="322" y="294"/>
                  </a:lnTo>
                  <a:lnTo>
                    <a:pt x="308" y="324"/>
                  </a:lnTo>
                  <a:lnTo>
                    <a:pt x="292" y="350"/>
                  </a:lnTo>
                  <a:lnTo>
                    <a:pt x="282" y="362"/>
                  </a:lnTo>
                  <a:lnTo>
                    <a:pt x="272" y="374"/>
                  </a:lnTo>
                  <a:lnTo>
                    <a:pt x="260" y="382"/>
                  </a:lnTo>
                  <a:lnTo>
                    <a:pt x="248" y="392"/>
                  </a:lnTo>
                  <a:lnTo>
                    <a:pt x="236" y="398"/>
                  </a:lnTo>
                  <a:lnTo>
                    <a:pt x="224" y="404"/>
                  </a:lnTo>
                  <a:lnTo>
                    <a:pt x="210" y="408"/>
                  </a:lnTo>
                  <a:lnTo>
                    <a:pt x="198" y="412"/>
                  </a:lnTo>
                  <a:lnTo>
                    <a:pt x="198" y="412"/>
                  </a:lnTo>
                  <a:lnTo>
                    <a:pt x="194" y="412"/>
                  </a:lnTo>
                  <a:lnTo>
                    <a:pt x="194" y="412"/>
                  </a:lnTo>
                  <a:lnTo>
                    <a:pt x="194" y="410"/>
                  </a:lnTo>
                  <a:lnTo>
                    <a:pt x="194" y="410"/>
                  </a:lnTo>
                  <a:lnTo>
                    <a:pt x="194" y="400"/>
                  </a:lnTo>
                  <a:lnTo>
                    <a:pt x="190" y="392"/>
                  </a:lnTo>
                  <a:lnTo>
                    <a:pt x="186" y="384"/>
                  </a:lnTo>
                  <a:lnTo>
                    <a:pt x="182" y="378"/>
                  </a:lnTo>
                  <a:lnTo>
                    <a:pt x="174" y="372"/>
                  </a:lnTo>
                  <a:lnTo>
                    <a:pt x="168" y="368"/>
                  </a:lnTo>
                  <a:lnTo>
                    <a:pt x="158" y="366"/>
                  </a:lnTo>
                  <a:lnTo>
                    <a:pt x="150" y="366"/>
                  </a:lnTo>
                  <a:lnTo>
                    <a:pt x="150" y="366"/>
                  </a:lnTo>
                  <a:lnTo>
                    <a:pt x="140" y="366"/>
                  </a:lnTo>
                  <a:lnTo>
                    <a:pt x="132" y="368"/>
                  </a:lnTo>
                  <a:lnTo>
                    <a:pt x="126" y="372"/>
                  </a:lnTo>
                  <a:lnTo>
                    <a:pt x="118" y="378"/>
                  </a:lnTo>
                  <a:lnTo>
                    <a:pt x="114" y="384"/>
                  </a:lnTo>
                  <a:lnTo>
                    <a:pt x="110" y="392"/>
                  </a:lnTo>
                  <a:lnTo>
                    <a:pt x="106" y="400"/>
                  </a:lnTo>
                  <a:lnTo>
                    <a:pt x="106" y="410"/>
                  </a:lnTo>
                  <a:lnTo>
                    <a:pt x="106" y="410"/>
                  </a:lnTo>
                  <a:lnTo>
                    <a:pt x="106" y="418"/>
                  </a:lnTo>
                  <a:lnTo>
                    <a:pt x="108" y="426"/>
                  </a:lnTo>
                  <a:lnTo>
                    <a:pt x="112" y="434"/>
                  </a:lnTo>
                  <a:lnTo>
                    <a:pt x="118" y="440"/>
                  </a:lnTo>
                  <a:lnTo>
                    <a:pt x="124" y="446"/>
                  </a:lnTo>
                  <a:lnTo>
                    <a:pt x="132" y="450"/>
                  </a:lnTo>
                  <a:lnTo>
                    <a:pt x="140" y="452"/>
                  </a:lnTo>
                  <a:lnTo>
                    <a:pt x="148" y="454"/>
                  </a:lnTo>
                  <a:lnTo>
                    <a:pt x="148" y="454"/>
                  </a:lnTo>
                  <a:lnTo>
                    <a:pt x="144" y="472"/>
                  </a:lnTo>
                  <a:lnTo>
                    <a:pt x="140" y="490"/>
                  </a:lnTo>
                  <a:lnTo>
                    <a:pt x="134" y="506"/>
                  </a:lnTo>
                  <a:lnTo>
                    <a:pt x="126" y="522"/>
                  </a:lnTo>
                  <a:lnTo>
                    <a:pt x="118" y="536"/>
                  </a:lnTo>
                  <a:lnTo>
                    <a:pt x="108" y="550"/>
                  </a:lnTo>
                  <a:lnTo>
                    <a:pt x="96" y="560"/>
                  </a:lnTo>
                  <a:lnTo>
                    <a:pt x="84" y="570"/>
                  </a:lnTo>
                  <a:lnTo>
                    <a:pt x="84" y="570"/>
                  </a:lnTo>
                  <a:lnTo>
                    <a:pt x="78" y="560"/>
                  </a:lnTo>
                  <a:lnTo>
                    <a:pt x="68" y="550"/>
                  </a:lnTo>
                  <a:lnTo>
                    <a:pt x="56" y="546"/>
                  </a:lnTo>
                  <a:lnTo>
                    <a:pt x="44" y="544"/>
                  </a:lnTo>
                  <a:lnTo>
                    <a:pt x="44" y="544"/>
                  </a:lnTo>
                  <a:lnTo>
                    <a:pt x="36" y="544"/>
                  </a:lnTo>
                  <a:lnTo>
                    <a:pt x="26" y="546"/>
                  </a:lnTo>
                  <a:lnTo>
                    <a:pt x="20" y="552"/>
                  </a:lnTo>
                  <a:lnTo>
                    <a:pt x="12" y="556"/>
                  </a:lnTo>
                  <a:lnTo>
                    <a:pt x="8" y="562"/>
                  </a:lnTo>
                  <a:lnTo>
                    <a:pt x="4" y="570"/>
                  </a:lnTo>
                  <a:lnTo>
                    <a:pt x="0" y="578"/>
                  </a:lnTo>
                  <a:lnTo>
                    <a:pt x="0" y="588"/>
                  </a:lnTo>
                  <a:lnTo>
                    <a:pt x="0" y="588"/>
                  </a:lnTo>
                  <a:lnTo>
                    <a:pt x="0" y="596"/>
                  </a:lnTo>
                  <a:lnTo>
                    <a:pt x="4" y="604"/>
                  </a:lnTo>
                  <a:lnTo>
                    <a:pt x="8" y="612"/>
                  </a:lnTo>
                  <a:lnTo>
                    <a:pt x="12" y="618"/>
                  </a:lnTo>
                  <a:lnTo>
                    <a:pt x="20" y="624"/>
                  </a:lnTo>
                  <a:lnTo>
                    <a:pt x="26" y="628"/>
                  </a:lnTo>
                  <a:lnTo>
                    <a:pt x="36" y="630"/>
                  </a:lnTo>
                  <a:lnTo>
                    <a:pt x="44" y="632"/>
                  </a:lnTo>
                  <a:lnTo>
                    <a:pt x="44" y="632"/>
                  </a:lnTo>
                  <a:lnTo>
                    <a:pt x="58" y="630"/>
                  </a:lnTo>
                  <a:lnTo>
                    <a:pt x="68" y="624"/>
                  </a:lnTo>
                  <a:lnTo>
                    <a:pt x="180" y="800"/>
                  </a:lnTo>
                  <a:lnTo>
                    <a:pt x="180" y="800"/>
                  </a:lnTo>
                  <a:lnTo>
                    <a:pt x="224" y="776"/>
                  </a:lnTo>
                  <a:lnTo>
                    <a:pt x="270" y="756"/>
                  </a:lnTo>
                  <a:lnTo>
                    <a:pt x="320" y="738"/>
                  </a:lnTo>
                  <a:lnTo>
                    <a:pt x="372" y="722"/>
                  </a:lnTo>
                  <a:lnTo>
                    <a:pt x="426" y="710"/>
                  </a:lnTo>
                  <a:lnTo>
                    <a:pt x="482" y="700"/>
                  </a:lnTo>
                  <a:lnTo>
                    <a:pt x="538" y="696"/>
                  </a:lnTo>
                  <a:lnTo>
                    <a:pt x="596" y="694"/>
                  </a:lnTo>
                  <a:lnTo>
                    <a:pt x="596" y="694"/>
                  </a:lnTo>
                  <a:lnTo>
                    <a:pt x="654" y="696"/>
                  </a:lnTo>
                  <a:lnTo>
                    <a:pt x="712" y="700"/>
                  </a:lnTo>
                  <a:lnTo>
                    <a:pt x="766" y="710"/>
                  </a:lnTo>
                  <a:lnTo>
                    <a:pt x="820" y="722"/>
                  </a:lnTo>
                  <a:lnTo>
                    <a:pt x="872" y="738"/>
                  </a:lnTo>
                  <a:lnTo>
                    <a:pt x="920" y="756"/>
                  </a:lnTo>
                  <a:lnTo>
                    <a:pt x="968" y="776"/>
                  </a:lnTo>
                  <a:lnTo>
                    <a:pt x="1012" y="800"/>
                  </a:lnTo>
                  <a:lnTo>
                    <a:pt x="1012" y="800"/>
                  </a:lnTo>
                  <a:close/>
                </a:path>
              </a:pathLst>
            </a:custGeom>
            <a:solidFill>
              <a:srgbClr val="c7913c"/>
            </a:solidFill>
            <a:ln w="9360">
              <a:solidFill>
                <a:srgbClr val="995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143"/>
            <p:cNvSpPr/>
            <p:nvPr/>
          </p:nvSpPr>
          <p:spPr>
            <a:xfrm>
              <a:off x="6939000" y="3378240"/>
              <a:ext cx="53640" cy="60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4" h="38">
                  <a:moveTo>
                    <a:pt x="0" y="38"/>
                  </a:moveTo>
                  <a:lnTo>
                    <a:pt x="2" y="0"/>
                  </a:lnTo>
                  <a:lnTo>
                    <a:pt x="34" y="2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144"/>
            <p:cNvSpPr/>
            <p:nvPr/>
          </p:nvSpPr>
          <p:spPr>
            <a:xfrm>
              <a:off x="7005600" y="3346560"/>
              <a:ext cx="53640" cy="60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4" h="38">
                  <a:moveTo>
                    <a:pt x="0" y="38"/>
                  </a:moveTo>
                  <a:lnTo>
                    <a:pt x="4" y="0"/>
                  </a:lnTo>
                  <a:lnTo>
                    <a:pt x="34" y="2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145"/>
            <p:cNvSpPr/>
            <p:nvPr/>
          </p:nvSpPr>
          <p:spPr>
            <a:xfrm>
              <a:off x="7072200" y="3318120"/>
              <a:ext cx="56880" cy="601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6" h="38">
                  <a:moveTo>
                    <a:pt x="0" y="38"/>
                  </a:moveTo>
                  <a:lnTo>
                    <a:pt x="8" y="0"/>
                  </a:lnTo>
                  <a:lnTo>
                    <a:pt x="36" y="26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46"/>
            <p:cNvSpPr/>
            <p:nvPr/>
          </p:nvSpPr>
          <p:spPr>
            <a:xfrm>
              <a:off x="7142040" y="3295800"/>
              <a:ext cx="56880" cy="56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6" h="36">
                  <a:moveTo>
                    <a:pt x="0" y="36"/>
                  </a:moveTo>
                  <a:lnTo>
                    <a:pt x="8" y="0"/>
                  </a:lnTo>
                  <a:lnTo>
                    <a:pt x="36" y="2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147"/>
            <p:cNvSpPr/>
            <p:nvPr/>
          </p:nvSpPr>
          <p:spPr>
            <a:xfrm>
              <a:off x="7211880" y="3276720"/>
              <a:ext cx="56880" cy="56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6" h="36">
                  <a:moveTo>
                    <a:pt x="0" y="36"/>
                  </a:moveTo>
                  <a:lnTo>
                    <a:pt x="12" y="0"/>
                  </a:lnTo>
                  <a:lnTo>
                    <a:pt x="36" y="2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48"/>
            <p:cNvSpPr/>
            <p:nvPr/>
          </p:nvSpPr>
          <p:spPr>
            <a:xfrm>
              <a:off x="7284960" y="3260880"/>
              <a:ext cx="56880" cy="56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6" h="36">
                  <a:moveTo>
                    <a:pt x="0" y="36"/>
                  </a:moveTo>
                  <a:lnTo>
                    <a:pt x="12" y="0"/>
                  </a:lnTo>
                  <a:lnTo>
                    <a:pt x="36" y="3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49"/>
            <p:cNvSpPr/>
            <p:nvPr/>
          </p:nvSpPr>
          <p:spPr>
            <a:xfrm>
              <a:off x="7358040" y="3251160"/>
              <a:ext cx="56880" cy="536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6" h="34">
                  <a:moveTo>
                    <a:pt x="0" y="34"/>
                  </a:moveTo>
                  <a:lnTo>
                    <a:pt x="14" y="0"/>
                  </a:lnTo>
                  <a:lnTo>
                    <a:pt x="36" y="3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50"/>
            <p:cNvSpPr/>
            <p:nvPr/>
          </p:nvSpPr>
          <p:spPr>
            <a:xfrm>
              <a:off x="7431120" y="3245040"/>
              <a:ext cx="56880" cy="50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6" h="32">
                  <a:moveTo>
                    <a:pt x="0" y="32"/>
                  </a:moveTo>
                  <a:lnTo>
                    <a:pt x="16" y="0"/>
                  </a:lnTo>
                  <a:lnTo>
                    <a:pt x="36" y="3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151"/>
            <p:cNvSpPr/>
            <p:nvPr/>
          </p:nvSpPr>
          <p:spPr>
            <a:xfrm>
              <a:off x="7504200" y="3238560"/>
              <a:ext cx="56880" cy="536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6" h="34">
                  <a:moveTo>
                    <a:pt x="0" y="34"/>
                  </a:moveTo>
                  <a:lnTo>
                    <a:pt x="18" y="0"/>
                  </a:lnTo>
                  <a:lnTo>
                    <a:pt x="36" y="3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52"/>
            <p:cNvSpPr/>
            <p:nvPr/>
          </p:nvSpPr>
          <p:spPr>
            <a:xfrm>
              <a:off x="7576920" y="3238560"/>
              <a:ext cx="56880" cy="536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6" h="34">
                  <a:moveTo>
                    <a:pt x="0" y="32"/>
                  </a:moveTo>
                  <a:lnTo>
                    <a:pt x="18" y="0"/>
                  </a:lnTo>
                  <a:lnTo>
                    <a:pt x="36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53"/>
            <p:cNvSpPr/>
            <p:nvPr/>
          </p:nvSpPr>
          <p:spPr>
            <a:xfrm>
              <a:off x="7650000" y="3245040"/>
              <a:ext cx="56880" cy="50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6" h="32">
                  <a:moveTo>
                    <a:pt x="0" y="30"/>
                  </a:moveTo>
                  <a:lnTo>
                    <a:pt x="20" y="0"/>
                  </a:lnTo>
                  <a:lnTo>
                    <a:pt x="36" y="3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54"/>
            <p:cNvSpPr/>
            <p:nvPr/>
          </p:nvSpPr>
          <p:spPr>
            <a:xfrm>
              <a:off x="7723080" y="3251160"/>
              <a:ext cx="56880" cy="536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6" h="34">
                  <a:moveTo>
                    <a:pt x="0" y="30"/>
                  </a:moveTo>
                  <a:lnTo>
                    <a:pt x="22" y="0"/>
                  </a:lnTo>
                  <a:lnTo>
                    <a:pt x="36" y="3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5"/>
            <p:cNvSpPr/>
            <p:nvPr/>
          </p:nvSpPr>
          <p:spPr>
            <a:xfrm>
              <a:off x="7796160" y="3264120"/>
              <a:ext cx="56880" cy="536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6" h="34">
                  <a:moveTo>
                    <a:pt x="0" y="28"/>
                  </a:moveTo>
                  <a:lnTo>
                    <a:pt x="24" y="0"/>
                  </a:lnTo>
                  <a:lnTo>
                    <a:pt x="36" y="34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56"/>
            <p:cNvSpPr/>
            <p:nvPr/>
          </p:nvSpPr>
          <p:spPr>
            <a:xfrm>
              <a:off x="7869240" y="3276720"/>
              <a:ext cx="56880" cy="56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6" h="36">
                  <a:moveTo>
                    <a:pt x="0" y="28"/>
                  </a:moveTo>
                  <a:lnTo>
                    <a:pt x="24" y="0"/>
                  </a:lnTo>
                  <a:lnTo>
                    <a:pt x="36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57"/>
            <p:cNvSpPr/>
            <p:nvPr/>
          </p:nvSpPr>
          <p:spPr>
            <a:xfrm>
              <a:off x="7939080" y="3295800"/>
              <a:ext cx="56880" cy="56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6" h="36">
                  <a:moveTo>
                    <a:pt x="0" y="26"/>
                  </a:moveTo>
                  <a:lnTo>
                    <a:pt x="26" y="0"/>
                  </a:lnTo>
                  <a:lnTo>
                    <a:pt x="36" y="3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58"/>
            <p:cNvSpPr/>
            <p:nvPr/>
          </p:nvSpPr>
          <p:spPr>
            <a:xfrm>
              <a:off x="8008920" y="3321000"/>
              <a:ext cx="56880" cy="56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6" h="36">
                  <a:moveTo>
                    <a:pt x="0" y="24"/>
                  </a:moveTo>
                  <a:lnTo>
                    <a:pt x="28" y="0"/>
                  </a:lnTo>
                  <a:lnTo>
                    <a:pt x="36" y="3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59"/>
            <p:cNvSpPr/>
            <p:nvPr/>
          </p:nvSpPr>
          <p:spPr>
            <a:xfrm>
              <a:off x="8078760" y="3346560"/>
              <a:ext cx="53640" cy="60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4" h="38">
                  <a:moveTo>
                    <a:pt x="0" y="24"/>
                  </a:moveTo>
                  <a:lnTo>
                    <a:pt x="30" y="0"/>
                  </a:lnTo>
                  <a:lnTo>
                    <a:pt x="34" y="3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60"/>
            <p:cNvSpPr/>
            <p:nvPr/>
          </p:nvSpPr>
          <p:spPr>
            <a:xfrm>
              <a:off x="8145360" y="3378240"/>
              <a:ext cx="53640" cy="60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4" h="38">
                  <a:moveTo>
                    <a:pt x="0" y="22"/>
                  </a:moveTo>
                  <a:lnTo>
                    <a:pt x="30" y="0"/>
                  </a:lnTo>
                  <a:lnTo>
                    <a:pt x="34" y="3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61"/>
            <p:cNvSpPr/>
            <p:nvPr/>
          </p:nvSpPr>
          <p:spPr>
            <a:xfrm>
              <a:off x="6748200" y="2419200"/>
              <a:ext cx="1638360" cy="106056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1060560"/>
                <a:gd name="textAreaBottom" fmla="*/ 1060920 h 1060560"/>
              </a:gdLst>
              <a:ahLst/>
              <a:rect l="textAreaLeft" t="textAreaTop" r="textAreaRight" b="textAreaBottom"/>
              <a:pathLst>
                <a:path w="1032" h="668">
                  <a:moveTo>
                    <a:pt x="924" y="668"/>
                  </a:moveTo>
                  <a:lnTo>
                    <a:pt x="924" y="668"/>
                  </a:lnTo>
                  <a:lnTo>
                    <a:pt x="878" y="644"/>
                  </a:lnTo>
                  <a:lnTo>
                    <a:pt x="830" y="624"/>
                  </a:lnTo>
                  <a:lnTo>
                    <a:pt x="782" y="608"/>
                  </a:lnTo>
                  <a:lnTo>
                    <a:pt x="730" y="594"/>
                  </a:lnTo>
                  <a:lnTo>
                    <a:pt x="678" y="582"/>
                  </a:lnTo>
                  <a:lnTo>
                    <a:pt x="626" y="574"/>
                  </a:lnTo>
                  <a:lnTo>
                    <a:pt x="572" y="570"/>
                  </a:lnTo>
                  <a:lnTo>
                    <a:pt x="516" y="568"/>
                  </a:lnTo>
                  <a:lnTo>
                    <a:pt x="516" y="568"/>
                  </a:lnTo>
                  <a:lnTo>
                    <a:pt x="462" y="570"/>
                  </a:lnTo>
                  <a:lnTo>
                    <a:pt x="408" y="574"/>
                  </a:lnTo>
                  <a:lnTo>
                    <a:pt x="356" y="582"/>
                  </a:lnTo>
                  <a:lnTo>
                    <a:pt x="304" y="592"/>
                  </a:lnTo>
                  <a:lnTo>
                    <a:pt x="254" y="606"/>
                  </a:lnTo>
                  <a:lnTo>
                    <a:pt x="206" y="622"/>
                  </a:lnTo>
                  <a:lnTo>
                    <a:pt x="158" y="642"/>
                  </a:lnTo>
                  <a:lnTo>
                    <a:pt x="114" y="664"/>
                  </a:lnTo>
                  <a:lnTo>
                    <a:pt x="0" y="498"/>
                  </a:lnTo>
                  <a:lnTo>
                    <a:pt x="0" y="498"/>
                  </a:lnTo>
                  <a:lnTo>
                    <a:pt x="20" y="486"/>
                  </a:lnTo>
                  <a:lnTo>
                    <a:pt x="36" y="472"/>
                  </a:lnTo>
                  <a:lnTo>
                    <a:pt x="52" y="454"/>
                  </a:lnTo>
                  <a:lnTo>
                    <a:pt x="66" y="434"/>
                  </a:lnTo>
                  <a:lnTo>
                    <a:pt x="76" y="412"/>
                  </a:lnTo>
                  <a:lnTo>
                    <a:pt x="84" y="388"/>
                  </a:lnTo>
                  <a:lnTo>
                    <a:pt x="90" y="362"/>
                  </a:lnTo>
                  <a:lnTo>
                    <a:pt x="92" y="334"/>
                  </a:lnTo>
                  <a:lnTo>
                    <a:pt x="92" y="334"/>
                  </a:lnTo>
                  <a:lnTo>
                    <a:pt x="106" y="334"/>
                  </a:lnTo>
                  <a:lnTo>
                    <a:pt x="120" y="332"/>
                  </a:lnTo>
                  <a:lnTo>
                    <a:pt x="120" y="332"/>
                  </a:lnTo>
                  <a:lnTo>
                    <a:pt x="136" y="330"/>
                  </a:lnTo>
                  <a:lnTo>
                    <a:pt x="152" y="324"/>
                  </a:lnTo>
                  <a:lnTo>
                    <a:pt x="168" y="318"/>
                  </a:lnTo>
                  <a:lnTo>
                    <a:pt x="182" y="308"/>
                  </a:lnTo>
                  <a:lnTo>
                    <a:pt x="196" y="298"/>
                  </a:lnTo>
                  <a:lnTo>
                    <a:pt x="208" y="288"/>
                  </a:lnTo>
                  <a:lnTo>
                    <a:pt x="220" y="274"/>
                  </a:lnTo>
                  <a:lnTo>
                    <a:pt x="232" y="260"/>
                  </a:lnTo>
                  <a:lnTo>
                    <a:pt x="242" y="246"/>
                  </a:lnTo>
                  <a:lnTo>
                    <a:pt x="250" y="230"/>
                  </a:lnTo>
                  <a:lnTo>
                    <a:pt x="258" y="212"/>
                  </a:lnTo>
                  <a:lnTo>
                    <a:pt x="266" y="194"/>
                  </a:lnTo>
                  <a:lnTo>
                    <a:pt x="270" y="176"/>
                  </a:lnTo>
                  <a:lnTo>
                    <a:pt x="276" y="156"/>
                  </a:lnTo>
                  <a:lnTo>
                    <a:pt x="278" y="136"/>
                  </a:lnTo>
                  <a:lnTo>
                    <a:pt x="280" y="116"/>
                  </a:lnTo>
                  <a:lnTo>
                    <a:pt x="280" y="116"/>
                  </a:lnTo>
                  <a:lnTo>
                    <a:pt x="300" y="120"/>
                  </a:lnTo>
                  <a:lnTo>
                    <a:pt x="320" y="124"/>
                  </a:lnTo>
                  <a:lnTo>
                    <a:pt x="340" y="124"/>
                  </a:lnTo>
                  <a:lnTo>
                    <a:pt x="360" y="122"/>
                  </a:lnTo>
                  <a:lnTo>
                    <a:pt x="360" y="122"/>
                  </a:lnTo>
                  <a:lnTo>
                    <a:pt x="384" y="116"/>
                  </a:lnTo>
                  <a:lnTo>
                    <a:pt x="406" y="108"/>
                  </a:lnTo>
                  <a:lnTo>
                    <a:pt x="428" y="98"/>
                  </a:lnTo>
                  <a:lnTo>
                    <a:pt x="448" y="82"/>
                  </a:lnTo>
                  <a:lnTo>
                    <a:pt x="468" y="66"/>
                  </a:lnTo>
                  <a:lnTo>
                    <a:pt x="486" y="46"/>
                  </a:lnTo>
                  <a:lnTo>
                    <a:pt x="502" y="24"/>
                  </a:lnTo>
                  <a:lnTo>
                    <a:pt x="516" y="0"/>
                  </a:lnTo>
                  <a:lnTo>
                    <a:pt x="516" y="0"/>
                  </a:lnTo>
                  <a:lnTo>
                    <a:pt x="530" y="24"/>
                  </a:lnTo>
                  <a:lnTo>
                    <a:pt x="546" y="46"/>
                  </a:lnTo>
                  <a:lnTo>
                    <a:pt x="564" y="66"/>
                  </a:lnTo>
                  <a:lnTo>
                    <a:pt x="584" y="82"/>
                  </a:lnTo>
                  <a:lnTo>
                    <a:pt x="604" y="98"/>
                  </a:lnTo>
                  <a:lnTo>
                    <a:pt x="624" y="108"/>
                  </a:lnTo>
                  <a:lnTo>
                    <a:pt x="648" y="116"/>
                  </a:lnTo>
                  <a:lnTo>
                    <a:pt x="670" y="122"/>
                  </a:lnTo>
                  <a:lnTo>
                    <a:pt x="670" y="122"/>
                  </a:lnTo>
                  <a:lnTo>
                    <a:pt x="692" y="124"/>
                  </a:lnTo>
                  <a:lnTo>
                    <a:pt x="712" y="124"/>
                  </a:lnTo>
                  <a:lnTo>
                    <a:pt x="732" y="120"/>
                  </a:lnTo>
                  <a:lnTo>
                    <a:pt x="752" y="116"/>
                  </a:lnTo>
                  <a:lnTo>
                    <a:pt x="752" y="116"/>
                  </a:lnTo>
                  <a:lnTo>
                    <a:pt x="752" y="136"/>
                  </a:lnTo>
                  <a:lnTo>
                    <a:pt x="756" y="156"/>
                  </a:lnTo>
                  <a:lnTo>
                    <a:pt x="760" y="176"/>
                  </a:lnTo>
                  <a:lnTo>
                    <a:pt x="766" y="194"/>
                  </a:lnTo>
                  <a:lnTo>
                    <a:pt x="774" y="212"/>
                  </a:lnTo>
                  <a:lnTo>
                    <a:pt x="782" y="230"/>
                  </a:lnTo>
                  <a:lnTo>
                    <a:pt x="790" y="246"/>
                  </a:lnTo>
                  <a:lnTo>
                    <a:pt x="800" y="260"/>
                  </a:lnTo>
                  <a:lnTo>
                    <a:pt x="812" y="274"/>
                  </a:lnTo>
                  <a:lnTo>
                    <a:pt x="824" y="288"/>
                  </a:lnTo>
                  <a:lnTo>
                    <a:pt x="836" y="298"/>
                  </a:lnTo>
                  <a:lnTo>
                    <a:pt x="850" y="308"/>
                  </a:lnTo>
                  <a:lnTo>
                    <a:pt x="864" y="318"/>
                  </a:lnTo>
                  <a:lnTo>
                    <a:pt x="880" y="324"/>
                  </a:lnTo>
                  <a:lnTo>
                    <a:pt x="894" y="330"/>
                  </a:lnTo>
                  <a:lnTo>
                    <a:pt x="910" y="332"/>
                  </a:lnTo>
                  <a:lnTo>
                    <a:pt x="910" y="332"/>
                  </a:lnTo>
                  <a:lnTo>
                    <a:pt x="924" y="334"/>
                  </a:lnTo>
                  <a:lnTo>
                    <a:pt x="938" y="334"/>
                  </a:lnTo>
                  <a:lnTo>
                    <a:pt x="938" y="334"/>
                  </a:lnTo>
                  <a:lnTo>
                    <a:pt x="942" y="362"/>
                  </a:lnTo>
                  <a:lnTo>
                    <a:pt x="948" y="388"/>
                  </a:lnTo>
                  <a:lnTo>
                    <a:pt x="956" y="412"/>
                  </a:lnTo>
                  <a:lnTo>
                    <a:pt x="966" y="434"/>
                  </a:lnTo>
                  <a:lnTo>
                    <a:pt x="980" y="454"/>
                  </a:lnTo>
                  <a:lnTo>
                    <a:pt x="996" y="472"/>
                  </a:lnTo>
                  <a:lnTo>
                    <a:pt x="1012" y="486"/>
                  </a:lnTo>
                  <a:lnTo>
                    <a:pt x="1032" y="498"/>
                  </a:lnTo>
                  <a:lnTo>
                    <a:pt x="924" y="668"/>
                  </a:lnTo>
                  <a:close/>
                </a:path>
              </a:pathLst>
            </a:custGeom>
            <a:noFill/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62"/>
            <p:cNvSpPr/>
            <p:nvPr/>
          </p:nvSpPr>
          <p:spPr>
            <a:xfrm>
              <a:off x="7002360" y="3095640"/>
              <a:ext cx="133200" cy="114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4" h="72">
                  <a:moveTo>
                    <a:pt x="84" y="56"/>
                  </a:moveTo>
                  <a:lnTo>
                    <a:pt x="84" y="56"/>
                  </a:lnTo>
                  <a:lnTo>
                    <a:pt x="76" y="64"/>
                  </a:lnTo>
                  <a:lnTo>
                    <a:pt x="66" y="68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2" y="72"/>
                  </a:lnTo>
                  <a:lnTo>
                    <a:pt x="34" y="70"/>
                  </a:lnTo>
                  <a:lnTo>
                    <a:pt x="28" y="68"/>
                  </a:lnTo>
                  <a:lnTo>
                    <a:pt x="22" y="62"/>
                  </a:lnTo>
                  <a:lnTo>
                    <a:pt x="16" y="54"/>
                  </a:lnTo>
                  <a:lnTo>
                    <a:pt x="10" y="44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2" y="28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4" y="8"/>
                  </a:lnTo>
                  <a:lnTo>
                    <a:pt x="10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4" y="16"/>
                  </a:lnTo>
                  <a:lnTo>
                    <a:pt x="28" y="26"/>
                  </a:lnTo>
                  <a:lnTo>
                    <a:pt x="36" y="36"/>
                  </a:lnTo>
                  <a:lnTo>
                    <a:pt x="46" y="44"/>
                  </a:lnTo>
                  <a:lnTo>
                    <a:pt x="62" y="52"/>
                  </a:lnTo>
                  <a:lnTo>
                    <a:pt x="84" y="56"/>
                  </a:lnTo>
                  <a:lnTo>
                    <a:pt x="84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63"/>
            <p:cNvSpPr/>
            <p:nvPr/>
          </p:nvSpPr>
          <p:spPr>
            <a:xfrm>
              <a:off x="7078680" y="3127320"/>
              <a:ext cx="98280" cy="34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2" h="22">
                  <a:moveTo>
                    <a:pt x="0" y="8"/>
                  </a:moveTo>
                  <a:lnTo>
                    <a:pt x="0" y="8"/>
                  </a:lnTo>
                  <a:lnTo>
                    <a:pt x="8" y="14"/>
                  </a:lnTo>
                  <a:lnTo>
                    <a:pt x="16" y="18"/>
                  </a:lnTo>
                  <a:lnTo>
                    <a:pt x="26" y="22"/>
                  </a:lnTo>
                  <a:lnTo>
                    <a:pt x="36" y="22"/>
                  </a:lnTo>
                  <a:lnTo>
                    <a:pt x="42" y="22"/>
                  </a:lnTo>
                  <a:lnTo>
                    <a:pt x="46" y="20"/>
                  </a:lnTo>
                  <a:lnTo>
                    <a:pt x="50" y="18"/>
                  </a:lnTo>
                  <a:lnTo>
                    <a:pt x="54" y="14"/>
                  </a:lnTo>
                  <a:lnTo>
                    <a:pt x="58" y="8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2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2" y="10"/>
                  </a:lnTo>
                  <a:lnTo>
                    <a:pt x="32" y="12"/>
                  </a:lnTo>
                  <a:lnTo>
                    <a:pt x="18" y="1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64"/>
            <p:cNvSpPr/>
            <p:nvPr/>
          </p:nvSpPr>
          <p:spPr>
            <a:xfrm>
              <a:off x="7103880" y="3022560"/>
              <a:ext cx="91800" cy="1047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8" h="66">
                  <a:moveTo>
                    <a:pt x="2" y="66"/>
                  </a:moveTo>
                  <a:lnTo>
                    <a:pt x="2" y="66"/>
                  </a:lnTo>
                  <a:lnTo>
                    <a:pt x="16" y="64"/>
                  </a:lnTo>
                  <a:lnTo>
                    <a:pt x="30" y="62"/>
                  </a:lnTo>
                  <a:lnTo>
                    <a:pt x="44" y="56"/>
                  </a:lnTo>
                  <a:lnTo>
                    <a:pt x="54" y="50"/>
                  </a:lnTo>
                  <a:lnTo>
                    <a:pt x="58" y="48"/>
                  </a:lnTo>
                  <a:lnTo>
                    <a:pt x="58" y="42"/>
                  </a:lnTo>
                  <a:lnTo>
                    <a:pt x="58" y="38"/>
                  </a:lnTo>
                  <a:lnTo>
                    <a:pt x="52" y="32"/>
                  </a:lnTo>
                  <a:lnTo>
                    <a:pt x="46" y="24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0"/>
                  </a:lnTo>
                  <a:lnTo>
                    <a:pt x="14" y="18"/>
                  </a:lnTo>
                  <a:lnTo>
                    <a:pt x="20" y="28"/>
                  </a:lnTo>
                  <a:lnTo>
                    <a:pt x="24" y="38"/>
                  </a:lnTo>
                  <a:lnTo>
                    <a:pt x="24" y="44"/>
                  </a:lnTo>
                  <a:lnTo>
                    <a:pt x="22" y="48"/>
                  </a:lnTo>
                  <a:lnTo>
                    <a:pt x="20" y="54"/>
                  </a:lnTo>
                  <a:lnTo>
                    <a:pt x="16" y="58"/>
                  </a:lnTo>
                  <a:lnTo>
                    <a:pt x="10" y="62"/>
                  </a:lnTo>
                  <a:lnTo>
                    <a:pt x="2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65"/>
            <p:cNvSpPr/>
            <p:nvPr/>
          </p:nvSpPr>
          <p:spPr>
            <a:xfrm>
              <a:off x="7047000" y="304488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4" h="46">
                  <a:moveTo>
                    <a:pt x="44" y="14"/>
                  </a:moveTo>
                  <a:lnTo>
                    <a:pt x="44" y="14"/>
                  </a:lnTo>
                  <a:lnTo>
                    <a:pt x="42" y="10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4" y="32"/>
                  </a:lnTo>
                  <a:lnTo>
                    <a:pt x="10" y="38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18" y="40"/>
                  </a:lnTo>
                  <a:lnTo>
                    <a:pt x="16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22" y="18"/>
                  </a:lnTo>
                  <a:lnTo>
                    <a:pt x="30" y="14"/>
                  </a:lnTo>
                  <a:lnTo>
                    <a:pt x="44" y="14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66"/>
            <p:cNvSpPr/>
            <p:nvPr/>
          </p:nvSpPr>
          <p:spPr>
            <a:xfrm>
              <a:off x="7081920" y="3076560"/>
              <a:ext cx="37800" cy="31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4" h="20">
                  <a:moveTo>
                    <a:pt x="16" y="0"/>
                  </a:moveTo>
                  <a:lnTo>
                    <a:pt x="16" y="0"/>
                  </a:lnTo>
                  <a:lnTo>
                    <a:pt x="20" y="4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16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67"/>
            <p:cNvSpPr/>
            <p:nvPr/>
          </p:nvSpPr>
          <p:spPr>
            <a:xfrm>
              <a:off x="7116840" y="3121200"/>
              <a:ext cx="104760" cy="98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6" h="62">
                  <a:moveTo>
                    <a:pt x="44" y="0"/>
                  </a:moveTo>
                  <a:lnTo>
                    <a:pt x="44" y="0"/>
                  </a:lnTo>
                  <a:lnTo>
                    <a:pt x="46" y="4"/>
                  </a:lnTo>
                  <a:lnTo>
                    <a:pt x="44" y="14"/>
                  </a:lnTo>
                  <a:lnTo>
                    <a:pt x="42" y="20"/>
                  </a:lnTo>
                  <a:lnTo>
                    <a:pt x="38" y="26"/>
                  </a:lnTo>
                  <a:lnTo>
                    <a:pt x="32" y="30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0" y="42"/>
                  </a:lnTo>
                  <a:lnTo>
                    <a:pt x="18" y="46"/>
                  </a:lnTo>
                  <a:lnTo>
                    <a:pt x="14" y="50"/>
                  </a:lnTo>
                  <a:lnTo>
                    <a:pt x="8" y="5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4" y="58"/>
                  </a:lnTo>
                  <a:lnTo>
                    <a:pt x="14" y="62"/>
                  </a:lnTo>
                  <a:lnTo>
                    <a:pt x="20" y="62"/>
                  </a:lnTo>
                  <a:lnTo>
                    <a:pt x="26" y="62"/>
                  </a:lnTo>
                  <a:lnTo>
                    <a:pt x="32" y="58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44" y="50"/>
                  </a:lnTo>
                  <a:lnTo>
                    <a:pt x="50" y="48"/>
                  </a:lnTo>
                  <a:lnTo>
                    <a:pt x="56" y="44"/>
                  </a:lnTo>
                  <a:lnTo>
                    <a:pt x="62" y="38"/>
                  </a:lnTo>
                  <a:lnTo>
                    <a:pt x="66" y="32"/>
                  </a:lnTo>
                  <a:lnTo>
                    <a:pt x="66" y="2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58" y="6"/>
                  </a:lnTo>
                  <a:lnTo>
                    <a:pt x="52" y="2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68"/>
            <p:cNvSpPr/>
            <p:nvPr/>
          </p:nvSpPr>
          <p:spPr>
            <a:xfrm>
              <a:off x="6954840" y="3143160"/>
              <a:ext cx="129960" cy="85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2" h="54">
                  <a:moveTo>
                    <a:pt x="30" y="10"/>
                  </a:moveTo>
                  <a:lnTo>
                    <a:pt x="30" y="10"/>
                  </a:lnTo>
                  <a:lnTo>
                    <a:pt x="32" y="16"/>
                  </a:lnTo>
                  <a:lnTo>
                    <a:pt x="34" y="24"/>
                  </a:lnTo>
                  <a:lnTo>
                    <a:pt x="38" y="30"/>
                  </a:lnTo>
                  <a:lnTo>
                    <a:pt x="44" y="38"/>
                  </a:lnTo>
                  <a:lnTo>
                    <a:pt x="54" y="46"/>
                  </a:lnTo>
                  <a:lnTo>
                    <a:pt x="66" y="50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74" y="54"/>
                  </a:lnTo>
                  <a:lnTo>
                    <a:pt x="62" y="54"/>
                  </a:lnTo>
                  <a:lnTo>
                    <a:pt x="50" y="54"/>
                  </a:lnTo>
                  <a:lnTo>
                    <a:pt x="36" y="50"/>
                  </a:lnTo>
                  <a:lnTo>
                    <a:pt x="22" y="42"/>
                  </a:lnTo>
                  <a:lnTo>
                    <a:pt x="16" y="36"/>
                  </a:lnTo>
                  <a:lnTo>
                    <a:pt x="10" y="28"/>
                  </a:lnTo>
                  <a:lnTo>
                    <a:pt x="4" y="2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30" y="10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69"/>
            <p:cNvSpPr/>
            <p:nvPr/>
          </p:nvSpPr>
          <p:spPr>
            <a:xfrm>
              <a:off x="6964200" y="3038400"/>
              <a:ext cx="75960" cy="982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8" h="62">
                  <a:moveTo>
                    <a:pt x="42" y="26"/>
                  </a:moveTo>
                  <a:lnTo>
                    <a:pt x="42" y="26"/>
                  </a:lnTo>
                  <a:lnTo>
                    <a:pt x="38" y="28"/>
                  </a:lnTo>
                  <a:lnTo>
                    <a:pt x="26" y="34"/>
                  </a:lnTo>
                  <a:lnTo>
                    <a:pt x="20" y="38"/>
                  </a:lnTo>
                  <a:lnTo>
                    <a:pt x="16" y="44"/>
                  </a:lnTo>
                  <a:lnTo>
                    <a:pt x="16" y="52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4" y="58"/>
                  </a:lnTo>
                  <a:lnTo>
                    <a:pt x="6" y="52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4" y="18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6" y="4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4" y="12"/>
                  </a:lnTo>
                  <a:lnTo>
                    <a:pt x="40" y="20"/>
                  </a:lnTo>
                  <a:lnTo>
                    <a:pt x="42" y="24"/>
                  </a:lnTo>
                  <a:lnTo>
                    <a:pt x="42" y="26"/>
                  </a:lnTo>
                  <a:lnTo>
                    <a:pt x="42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70"/>
            <p:cNvSpPr/>
            <p:nvPr/>
          </p:nvSpPr>
          <p:spPr>
            <a:xfrm>
              <a:off x="6872040" y="3210120"/>
              <a:ext cx="123480" cy="1015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8" h="64">
                  <a:moveTo>
                    <a:pt x="60" y="2"/>
                  </a:moveTo>
                  <a:lnTo>
                    <a:pt x="60" y="2"/>
                  </a:lnTo>
                  <a:lnTo>
                    <a:pt x="52" y="0"/>
                  </a:lnTo>
                  <a:lnTo>
                    <a:pt x="46" y="2"/>
                  </a:lnTo>
                  <a:lnTo>
                    <a:pt x="38" y="4"/>
                  </a:lnTo>
                  <a:lnTo>
                    <a:pt x="32" y="8"/>
                  </a:lnTo>
                  <a:lnTo>
                    <a:pt x="26" y="16"/>
                  </a:lnTo>
                  <a:lnTo>
                    <a:pt x="24" y="28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8" y="48"/>
                  </a:lnTo>
                  <a:lnTo>
                    <a:pt x="26" y="54"/>
                  </a:lnTo>
                  <a:lnTo>
                    <a:pt x="22" y="56"/>
                  </a:lnTo>
                  <a:lnTo>
                    <a:pt x="18" y="58"/>
                  </a:lnTo>
                  <a:lnTo>
                    <a:pt x="10" y="6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4" y="62"/>
                  </a:lnTo>
                  <a:lnTo>
                    <a:pt x="28" y="64"/>
                  </a:lnTo>
                  <a:lnTo>
                    <a:pt x="44" y="64"/>
                  </a:lnTo>
                  <a:lnTo>
                    <a:pt x="52" y="64"/>
                  </a:lnTo>
                  <a:lnTo>
                    <a:pt x="58" y="62"/>
                  </a:lnTo>
                  <a:lnTo>
                    <a:pt x="66" y="58"/>
                  </a:lnTo>
                  <a:lnTo>
                    <a:pt x="70" y="52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78" y="26"/>
                  </a:lnTo>
                  <a:lnTo>
                    <a:pt x="78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68" y="14"/>
                  </a:lnTo>
                  <a:lnTo>
                    <a:pt x="64" y="16"/>
                  </a:lnTo>
                  <a:lnTo>
                    <a:pt x="62" y="20"/>
                  </a:lnTo>
                  <a:lnTo>
                    <a:pt x="58" y="24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58" y="34"/>
                  </a:lnTo>
                  <a:lnTo>
                    <a:pt x="58" y="42"/>
                  </a:lnTo>
                  <a:lnTo>
                    <a:pt x="56" y="46"/>
                  </a:lnTo>
                  <a:lnTo>
                    <a:pt x="52" y="48"/>
                  </a:lnTo>
                  <a:lnTo>
                    <a:pt x="48" y="5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0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52" y="32"/>
                  </a:lnTo>
                  <a:lnTo>
                    <a:pt x="50" y="22"/>
                  </a:lnTo>
                  <a:lnTo>
                    <a:pt x="50" y="16"/>
                  </a:lnTo>
                  <a:lnTo>
                    <a:pt x="52" y="10"/>
                  </a:lnTo>
                  <a:lnTo>
                    <a:pt x="54" y="6"/>
                  </a:lnTo>
                  <a:lnTo>
                    <a:pt x="60" y="2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71"/>
            <p:cNvSpPr/>
            <p:nvPr/>
          </p:nvSpPr>
          <p:spPr>
            <a:xfrm>
              <a:off x="7237440" y="3121200"/>
              <a:ext cx="129960" cy="91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2" h="58">
                  <a:moveTo>
                    <a:pt x="2" y="20"/>
                  </a:moveTo>
                  <a:lnTo>
                    <a:pt x="2" y="20"/>
                  </a:lnTo>
                  <a:lnTo>
                    <a:pt x="4" y="14"/>
                  </a:lnTo>
                  <a:lnTo>
                    <a:pt x="10" y="8"/>
                  </a:lnTo>
                  <a:lnTo>
                    <a:pt x="16" y="4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44" y="6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8" y="20"/>
                  </a:lnTo>
                  <a:lnTo>
                    <a:pt x="64" y="20"/>
                  </a:lnTo>
                  <a:lnTo>
                    <a:pt x="68" y="20"/>
                  </a:lnTo>
                  <a:lnTo>
                    <a:pt x="72" y="16"/>
                  </a:lnTo>
                  <a:lnTo>
                    <a:pt x="76" y="12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76" y="16"/>
                  </a:lnTo>
                  <a:lnTo>
                    <a:pt x="70" y="30"/>
                  </a:lnTo>
                  <a:lnTo>
                    <a:pt x="62" y="42"/>
                  </a:lnTo>
                  <a:lnTo>
                    <a:pt x="56" y="48"/>
                  </a:lnTo>
                  <a:lnTo>
                    <a:pt x="52" y="52"/>
                  </a:lnTo>
                  <a:lnTo>
                    <a:pt x="44" y="56"/>
                  </a:lnTo>
                  <a:lnTo>
                    <a:pt x="38" y="58"/>
                  </a:lnTo>
                  <a:lnTo>
                    <a:pt x="30" y="58"/>
                  </a:lnTo>
                  <a:lnTo>
                    <a:pt x="20" y="56"/>
                  </a:lnTo>
                  <a:lnTo>
                    <a:pt x="10" y="5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6" y="34"/>
                  </a:lnTo>
                  <a:lnTo>
                    <a:pt x="10" y="32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38"/>
                  </a:lnTo>
                  <a:lnTo>
                    <a:pt x="36" y="40"/>
                  </a:lnTo>
                  <a:lnTo>
                    <a:pt x="40" y="42"/>
                  </a:lnTo>
                  <a:lnTo>
                    <a:pt x="44" y="42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48" y="38"/>
                  </a:lnTo>
                  <a:lnTo>
                    <a:pt x="42" y="36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2" y="30"/>
                  </a:lnTo>
                  <a:lnTo>
                    <a:pt x="24" y="24"/>
                  </a:lnTo>
                  <a:lnTo>
                    <a:pt x="18" y="20"/>
                  </a:lnTo>
                  <a:lnTo>
                    <a:pt x="14" y="18"/>
                  </a:lnTo>
                  <a:lnTo>
                    <a:pt x="8" y="18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72"/>
            <p:cNvSpPr/>
            <p:nvPr/>
          </p:nvSpPr>
          <p:spPr>
            <a:xfrm>
              <a:off x="7110360" y="2876760"/>
              <a:ext cx="95040" cy="1396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0" h="88">
                  <a:moveTo>
                    <a:pt x="8" y="78"/>
                  </a:moveTo>
                  <a:lnTo>
                    <a:pt x="8" y="78"/>
                  </a:lnTo>
                  <a:lnTo>
                    <a:pt x="6" y="74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2" y="52"/>
                  </a:lnTo>
                  <a:lnTo>
                    <a:pt x="6" y="44"/>
                  </a:lnTo>
                  <a:lnTo>
                    <a:pt x="14" y="36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8" y="20"/>
                  </a:lnTo>
                  <a:lnTo>
                    <a:pt x="38" y="14"/>
                  </a:lnTo>
                  <a:lnTo>
                    <a:pt x="34" y="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8" y="10"/>
                  </a:lnTo>
                  <a:lnTo>
                    <a:pt x="48" y="20"/>
                  </a:lnTo>
                  <a:lnTo>
                    <a:pt x="56" y="34"/>
                  </a:lnTo>
                  <a:lnTo>
                    <a:pt x="58" y="40"/>
                  </a:lnTo>
                  <a:lnTo>
                    <a:pt x="60" y="48"/>
                  </a:lnTo>
                  <a:lnTo>
                    <a:pt x="60" y="56"/>
                  </a:lnTo>
                  <a:lnTo>
                    <a:pt x="60" y="64"/>
                  </a:lnTo>
                  <a:lnTo>
                    <a:pt x="56" y="70"/>
                  </a:lnTo>
                  <a:lnTo>
                    <a:pt x="50" y="78"/>
                  </a:lnTo>
                  <a:lnTo>
                    <a:pt x="40" y="84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6" y="86"/>
                  </a:lnTo>
                  <a:lnTo>
                    <a:pt x="24" y="80"/>
                  </a:lnTo>
                  <a:lnTo>
                    <a:pt x="24" y="76"/>
                  </a:lnTo>
                  <a:lnTo>
                    <a:pt x="26" y="72"/>
                  </a:lnTo>
                  <a:lnTo>
                    <a:pt x="28" y="66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36" y="60"/>
                  </a:lnTo>
                  <a:lnTo>
                    <a:pt x="42" y="56"/>
                  </a:lnTo>
                  <a:lnTo>
                    <a:pt x="46" y="54"/>
                  </a:lnTo>
                  <a:lnTo>
                    <a:pt x="46" y="50"/>
                  </a:lnTo>
                  <a:lnTo>
                    <a:pt x="48" y="44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4" y="44"/>
                  </a:lnTo>
                  <a:lnTo>
                    <a:pt x="42" y="50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2" y="56"/>
                  </a:lnTo>
                  <a:lnTo>
                    <a:pt x="22" y="60"/>
                  </a:lnTo>
                  <a:lnTo>
                    <a:pt x="18" y="64"/>
                  </a:lnTo>
                  <a:lnTo>
                    <a:pt x="14" y="68"/>
                  </a:lnTo>
                  <a:lnTo>
                    <a:pt x="10" y="72"/>
                  </a:lnTo>
                  <a:lnTo>
                    <a:pt x="8" y="78"/>
                  </a:lnTo>
                  <a:lnTo>
                    <a:pt x="8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73"/>
            <p:cNvSpPr/>
            <p:nvPr/>
          </p:nvSpPr>
          <p:spPr>
            <a:xfrm>
              <a:off x="7999560" y="3095640"/>
              <a:ext cx="133200" cy="114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4" h="72">
                  <a:moveTo>
                    <a:pt x="0" y="56"/>
                  </a:moveTo>
                  <a:lnTo>
                    <a:pt x="0" y="56"/>
                  </a:lnTo>
                  <a:lnTo>
                    <a:pt x="8" y="64"/>
                  </a:lnTo>
                  <a:lnTo>
                    <a:pt x="18" y="68"/>
                  </a:lnTo>
                  <a:lnTo>
                    <a:pt x="30" y="72"/>
                  </a:lnTo>
                  <a:lnTo>
                    <a:pt x="36" y="72"/>
                  </a:lnTo>
                  <a:lnTo>
                    <a:pt x="44" y="72"/>
                  </a:lnTo>
                  <a:lnTo>
                    <a:pt x="50" y="70"/>
                  </a:lnTo>
                  <a:lnTo>
                    <a:pt x="56" y="68"/>
                  </a:lnTo>
                  <a:lnTo>
                    <a:pt x="62" y="62"/>
                  </a:lnTo>
                  <a:lnTo>
                    <a:pt x="68" y="54"/>
                  </a:lnTo>
                  <a:lnTo>
                    <a:pt x="74" y="44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82" y="28"/>
                  </a:lnTo>
                  <a:lnTo>
                    <a:pt x="84" y="24"/>
                  </a:lnTo>
                  <a:lnTo>
                    <a:pt x="84" y="20"/>
                  </a:lnTo>
                  <a:lnTo>
                    <a:pt x="84" y="14"/>
                  </a:lnTo>
                  <a:lnTo>
                    <a:pt x="80" y="8"/>
                  </a:lnTo>
                  <a:lnTo>
                    <a:pt x="74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8"/>
                  </a:lnTo>
                  <a:lnTo>
                    <a:pt x="60" y="16"/>
                  </a:lnTo>
                  <a:lnTo>
                    <a:pt x="56" y="26"/>
                  </a:lnTo>
                  <a:lnTo>
                    <a:pt x="50" y="36"/>
                  </a:lnTo>
                  <a:lnTo>
                    <a:pt x="38" y="44"/>
                  </a:lnTo>
                  <a:lnTo>
                    <a:pt x="22" y="52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74"/>
            <p:cNvSpPr/>
            <p:nvPr/>
          </p:nvSpPr>
          <p:spPr>
            <a:xfrm>
              <a:off x="7961400" y="3127320"/>
              <a:ext cx="95040" cy="349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0" h="22">
                  <a:moveTo>
                    <a:pt x="60" y="8"/>
                  </a:moveTo>
                  <a:lnTo>
                    <a:pt x="60" y="8"/>
                  </a:lnTo>
                  <a:lnTo>
                    <a:pt x="52" y="14"/>
                  </a:lnTo>
                  <a:lnTo>
                    <a:pt x="44" y="18"/>
                  </a:lnTo>
                  <a:lnTo>
                    <a:pt x="34" y="22"/>
                  </a:lnTo>
                  <a:lnTo>
                    <a:pt x="24" y="22"/>
                  </a:lnTo>
                  <a:lnTo>
                    <a:pt x="18" y="22"/>
                  </a:lnTo>
                  <a:lnTo>
                    <a:pt x="14" y="20"/>
                  </a:lnTo>
                  <a:lnTo>
                    <a:pt x="10" y="18"/>
                  </a:lnTo>
                  <a:lnTo>
                    <a:pt x="6" y="14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6"/>
                  </a:lnTo>
                  <a:lnTo>
                    <a:pt x="10" y="8"/>
                  </a:lnTo>
                  <a:lnTo>
                    <a:pt x="18" y="10"/>
                  </a:lnTo>
                  <a:lnTo>
                    <a:pt x="28" y="12"/>
                  </a:lnTo>
                  <a:lnTo>
                    <a:pt x="42" y="10"/>
                  </a:lnTo>
                  <a:lnTo>
                    <a:pt x="60" y="8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75"/>
            <p:cNvSpPr/>
            <p:nvPr/>
          </p:nvSpPr>
          <p:spPr>
            <a:xfrm>
              <a:off x="7939080" y="3022560"/>
              <a:ext cx="91800" cy="1047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58" h="66">
                  <a:moveTo>
                    <a:pt x="56" y="66"/>
                  </a:moveTo>
                  <a:lnTo>
                    <a:pt x="56" y="66"/>
                  </a:lnTo>
                  <a:lnTo>
                    <a:pt x="42" y="64"/>
                  </a:lnTo>
                  <a:lnTo>
                    <a:pt x="28" y="62"/>
                  </a:lnTo>
                  <a:lnTo>
                    <a:pt x="14" y="56"/>
                  </a:lnTo>
                  <a:lnTo>
                    <a:pt x="4" y="50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6" y="32"/>
                  </a:lnTo>
                  <a:lnTo>
                    <a:pt x="12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4"/>
                  </a:lnTo>
                  <a:lnTo>
                    <a:pt x="24" y="10"/>
                  </a:lnTo>
                  <a:lnTo>
                    <a:pt x="28" y="6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2" y="10"/>
                  </a:lnTo>
                  <a:lnTo>
                    <a:pt x="44" y="18"/>
                  </a:lnTo>
                  <a:lnTo>
                    <a:pt x="38" y="28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6" y="48"/>
                  </a:lnTo>
                  <a:lnTo>
                    <a:pt x="38" y="54"/>
                  </a:lnTo>
                  <a:lnTo>
                    <a:pt x="42" y="58"/>
                  </a:lnTo>
                  <a:lnTo>
                    <a:pt x="48" y="62"/>
                  </a:lnTo>
                  <a:lnTo>
                    <a:pt x="56" y="66"/>
                  </a:lnTo>
                  <a:lnTo>
                    <a:pt x="56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76"/>
            <p:cNvSpPr/>
            <p:nvPr/>
          </p:nvSpPr>
          <p:spPr>
            <a:xfrm>
              <a:off x="8018280" y="304488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4" h="46">
                  <a:moveTo>
                    <a:pt x="0" y="14"/>
                  </a:moveTo>
                  <a:lnTo>
                    <a:pt x="0" y="14"/>
                  </a:lnTo>
                  <a:lnTo>
                    <a:pt x="2" y="10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4" y="18"/>
                  </a:lnTo>
                  <a:lnTo>
                    <a:pt x="44" y="24"/>
                  </a:lnTo>
                  <a:lnTo>
                    <a:pt x="40" y="32"/>
                  </a:lnTo>
                  <a:lnTo>
                    <a:pt x="34" y="38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6" y="40"/>
                  </a:lnTo>
                  <a:lnTo>
                    <a:pt x="28" y="34"/>
                  </a:lnTo>
                  <a:lnTo>
                    <a:pt x="28" y="28"/>
                  </a:lnTo>
                  <a:lnTo>
                    <a:pt x="28" y="22"/>
                  </a:lnTo>
                  <a:lnTo>
                    <a:pt x="22" y="18"/>
                  </a:lnTo>
                  <a:lnTo>
                    <a:pt x="14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77"/>
            <p:cNvSpPr/>
            <p:nvPr/>
          </p:nvSpPr>
          <p:spPr>
            <a:xfrm>
              <a:off x="8015400" y="3076560"/>
              <a:ext cx="37800" cy="31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4" h="20">
                  <a:moveTo>
                    <a:pt x="8" y="0"/>
                  </a:moveTo>
                  <a:lnTo>
                    <a:pt x="8" y="0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6" y="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78"/>
            <p:cNvSpPr/>
            <p:nvPr/>
          </p:nvSpPr>
          <p:spPr>
            <a:xfrm>
              <a:off x="7913520" y="3121200"/>
              <a:ext cx="104760" cy="98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6" h="62">
                  <a:moveTo>
                    <a:pt x="22" y="0"/>
                  </a:moveTo>
                  <a:lnTo>
                    <a:pt x="22" y="0"/>
                  </a:lnTo>
                  <a:lnTo>
                    <a:pt x="20" y="4"/>
                  </a:lnTo>
                  <a:lnTo>
                    <a:pt x="22" y="14"/>
                  </a:lnTo>
                  <a:lnTo>
                    <a:pt x="24" y="20"/>
                  </a:lnTo>
                  <a:lnTo>
                    <a:pt x="28" y="26"/>
                  </a:lnTo>
                  <a:lnTo>
                    <a:pt x="34" y="30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4" y="36"/>
                  </a:lnTo>
                  <a:lnTo>
                    <a:pt x="46" y="42"/>
                  </a:lnTo>
                  <a:lnTo>
                    <a:pt x="48" y="46"/>
                  </a:lnTo>
                  <a:lnTo>
                    <a:pt x="52" y="50"/>
                  </a:lnTo>
                  <a:lnTo>
                    <a:pt x="58" y="54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62" y="58"/>
                  </a:lnTo>
                  <a:lnTo>
                    <a:pt x="52" y="62"/>
                  </a:lnTo>
                  <a:lnTo>
                    <a:pt x="46" y="62"/>
                  </a:lnTo>
                  <a:lnTo>
                    <a:pt x="40" y="62"/>
                  </a:lnTo>
                  <a:lnTo>
                    <a:pt x="34" y="58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22" y="50"/>
                  </a:lnTo>
                  <a:lnTo>
                    <a:pt x="16" y="48"/>
                  </a:lnTo>
                  <a:lnTo>
                    <a:pt x="10" y="44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6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179"/>
            <p:cNvSpPr/>
            <p:nvPr/>
          </p:nvSpPr>
          <p:spPr>
            <a:xfrm>
              <a:off x="8050320" y="3143160"/>
              <a:ext cx="129960" cy="85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82" h="54">
                  <a:moveTo>
                    <a:pt x="52" y="10"/>
                  </a:moveTo>
                  <a:lnTo>
                    <a:pt x="52" y="10"/>
                  </a:lnTo>
                  <a:lnTo>
                    <a:pt x="50" y="16"/>
                  </a:lnTo>
                  <a:lnTo>
                    <a:pt x="48" y="24"/>
                  </a:lnTo>
                  <a:lnTo>
                    <a:pt x="44" y="30"/>
                  </a:lnTo>
                  <a:lnTo>
                    <a:pt x="38" y="38"/>
                  </a:lnTo>
                  <a:lnTo>
                    <a:pt x="28" y="46"/>
                  </a:lnTo>
                  <a:lnTo>
                    <a:pt x="16" y="5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0" y="54"/>
                  </a:lnTo>
                  <a:lnTo>
                    <a:pt x="20" y="54"/>
                  </a:lnTo>
                  <a:lnTo>
                    <a:pt x="32" y="54"/>
                  </a:lnTo>
                  <a:lnTo>
                    <a:pt x="46" y="50"/>
                  </a:lnTo>
                  <a:lnTo>
                    <a:pt x="60" y="42"/>
                  </a:lnTo>
                  <a:lnTo>
                    <a:pt x="66" y="36"/>
                  </a:lnTo>
                  <a:lnTo>
                    <a:pt x="72" y="28"/>
                  </a:lnTo>
                  <a:lnTo>
                    <a:pt x="78" y="20"/>
                  </a:lnTo>
                  <a:lnTo>
                    <a:pt x="82" y="8"/>
                  </a:lnTo>
                  <a:lnTo>
                    <a:pt x="82" y="8"/>
                  </a:lnTo>
                  <a:lnTo>
                    <a:pt x="80" y="6"/>
                  </a:lnTo>
                  <a:lnTo>
                    <a:pt x="76" y="2"/>
                  </a:lnTo>
                  <a:lnTo>
                    <a:pt x="70" y="0"/>
                  </a:lnTo>
                  <a:lnTo>
                    <a:pt x="66" y="2"/>
                  </a:lnTo>
                  <a:lnTo>
                    <a:pt x="60" y="4"/>
                  </a:lnTo>
                  <a:lnTo>
                    <a:pt x="52" y="10"/>
                  </a:lnTo>
                  <a:lnTo>
                    <a:pt x="52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180"/>
            <p:cNvSpPr/>
            <p:nvPr/>
          </p:nvSpPr>
          <p:spPr>
            <a:xfrm>
              <a:off x="8094600" y="3038400"/>
              <a:ext cx="75960" cy="982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8" h="62">
                  <a:moveTo>
                    <a:pt x="6" y="26"/>
                  </a:moveTo>
                  <a:lnTo>
                    <a:pt x="6" y="26"/>
                  </a:lnTo>
                  <a:lnTo>
                    <a:pt x="12" y="28"/>
                  </a:lnTo>
                  <a:lnTo>
                    <a:pt x="22" y="34"/>
                  </a:lnTo>
                  <a:lnTo>
                    <a:pt x="28" y="38"/>
                  </a:lnTo>
                  <a:lnTo>
                    <a:pt x="32" y="44"/>
                  </a:lnTo>
                  <a:lnTo>
                    <a:pt x="32" y="52"/>
                  </a:lnTo>
                  <a:lnTo>
                    <a:pt x="30" y="62"/>
                  </a:lnTo>
                  <a:lnTo>
                    <a:pt x="30" y="62"/>
                  </a:lnTo>
                  <a:lnTo>
                    <a:pt x="34" y="58"/>
                  </a:lnTo>
                  <a:lnTo>
                    <a:pt x="42" y="52"/>
                  </a:lnTo>
                  <a:lnTo>
                    <a:pt x="46" y="46"/>
                  </a:lnTo>
                  <a:lnTo>
                    <a:pt x="48" y="40"/>
                  </a:lnTo>
                  <a:lnTo>
                    <a:pt x="48" y="32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4" y="2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2"/>
                  </a:lnTo>
                  <a:lnTo>
                    <a:pt x="8" y="20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81"/>
            <p:cNvSpPr/>
            <p:nvPr/>
          </p:nvSpPr>
          <p:spPr>
            <a:xfrm>
              <a:off x="8139240" y="3210120"/>
              <a:ext cx="123480" cy="1015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8" h="64">
                  <a:moveTo>
                    <a:pt x="18" y="2"/>
                  </a:moveTo>
                  <a:lnTo>
                    <a:pt x="18" y="2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40" y="4"/>
                  </a:lnTo>
                  <a:lnTo>
                    <a:pt x="46" y="8"/>
                  </a:lnTo>
                  <a:lnTo>
                    <a:pt x="52" y="16"/>
                  </a:lnTo>
                  <a:lnTo>
                    <a:pt x="54" y="28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54" y="54"/>
                  </a:lnTo>
                  <a:lnTo>
                    <a:pt x="56" y="56"/>
                  </a:lnTo>
                  <a:lnTo>
                    <a:pt x="60" y="58"/>
                  </a:lnTo>
                  <a:lnTo>
                    <a:pt x="68" y="60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64" y="62"/>
                  </a:lnTo>
                  <a:lnTo>
                    <a:pt x="50" y="64"/>
                  </a:lnTo>
                  <a:lnTo>
                    <a:pt x="34" y="64"/>
                  </a:lnTo>
                  <a:lnTo>
                    <a:pt x="26" y="64"/>
                  </a:lnTo>
                  <a:lnTo>
                    <a:pt x="20" y="62"/>
                  </a:lnTo>
                  <a:lnTo>
                    <a:pt x="12" y="58"/>
                  </a:lnTo>
                  <a:lnTo>
                    <a:pt x="8" y="52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2"/>
                  </a:lnTo>
                  <a:lnTo>
                    <a:pt x="10" y="14"/>
                  </a:lnTo>
                  <a:lnTo>
                    <a:pt x="14" y="16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0" y="42"/>
                  </a:lnTo>
                  <a:lnTo>
                    <a:pt x="22" y="46"/>
                  </a:lnTo>
                  <a:lnTo>
                    <a:pt x="26" y="48"/>
                  </a:lnTo>
                  <a:lnTo>
                    <a:pt x="30" y="52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30" y="50"/>
                  </a:lnTo>
                  <a:lnTo>
                    <a:pt x="28" y="44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2"/>
                  </a:lnTo>
                  <a:lnTo>
                    <a:pt x="28" y="22"/>
                  </a:lnTo>
                  <a:lnTo>
                    <a:pt x="28" y="16"/>
                  </a:lnTo>
                  <a:lnTo>
                    <a:pt x="26" y="10"/>
                  </a:lnTo>
                  <a:lnTo>
                    <a:pt x="24" y="6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82"/>
            <p:cNvSpPr/>
            <p:nvPr/>
          </p:nvSpPr>
          <p:spPr>
            <a:xfrm>
              <a:off x="7767720" y="3121200"/>
              <a:ext cx="129960" cy="91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2" h="58">
                  <a:moveTo>
                    <a:pt x="80" y="20"/>
                  </a:moveTo>
                  <a:lnTo>
                    <a:pt x="80" y="20"/>
                  </a:lnTo>
                  <a:lnTo>
                    <a:pt x="78" y="14"/>
                  </a:lnTo>
                  <a:lnTo>
                    <a:pt x="72" y="8"/>
                  </a:lnTo>
                  <a:lnTo>
                    <a:pt x="66" y="4"/>
                  </a:lnTo>
                  <a:lnTo>
                    <a:pt x="60" y="0"/>
                  </a:lnTo>
                  <a:lnTo>
                    <a:pt x="50" y="2"/>
                  </a:lnTo>
                  <a:lnTo>
                    <a:pt x="40" y="6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4" y="20"/>
                  </a:lnTo>
                  <a:lnTo>
                    <a:pt x="18" y="20"/>
                  </a:lnTo>
                  <a:lnTo>
                    <a:pt x="14" y="20"/>
                  </a:lnTo>
                  <a:lnTo>
                    <a:pt x="10" y="16"/>
                  </a:lnTo>
                  <a:lnTo>
                    <a:pt x="6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6"/>
                  </a:lnTo>
                  <a:lnTo>
                    <a:pt x="12" y="30"/>
                  </a:lnTo>
                  <a:lnTo>
                    <a:pt x="20" y="42"/>
                  </a:lnTo>
                  <a:lnTo>
                    <a:pt x="26" y="48"/>
                  </a:lnTo>
                  <a:lnTo>
                    <a:pt x="32" y="52"/>
                  </a:lnTo>
                  <a:lnTo>
                    <a:pt x="38" y="56"/>
                  </a:lnTo>
                  <a:lnTo>
                    <a:pt x="46" y="58"/>
                  </a:lnTo>
                  <a:lnTo>
                    <a:pt x="54" y="58"/>
                  </a:lnTo>
                  <a:lnTo>
                    <a:pt x="62" y="56"/>
                  </a:lnTo>
                  <a:lnTo>
                    <a:pt x="72" y="50"/>
                  </a:lnTo>
                  <a:lnTo>
                    <a:pt x="82" y="42"/>
                  </a:lnTo>
                  <a:lnTo>
                    <a:pt x="82" y="42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2" y="32"/>
                  </a:lnTo>
                  <a:lnTo>
                    <a:pt x="68" y="32"/>
                  </a:lnTo>
                  <a:lnTo>
                    <a:pt x="62" y="32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2" y="38"/>
                  </a:lnTo>
                  <a:lnTo>
                    <a:pt x="46" y="40"/>
                  </a:lnTo>
                  <a:lnTo>
                    <a:pt x="42" y="42"/>
                  </a:lnTo>
                  <a:lnTo>
                    <a:pt x="38" y="42"/>
                  </a:lnTo>
                  <a:lnTo>
                    <a:pt x="32" y="40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4" y="38"/>
                  </a:lnTo>
                  <a:lnTo>
                    <a:pt x="40" y="36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0" y="30"/>
                  </a:lnTo>
                  <a:lnTo>
                    <a:pt x="58" y="24"/>
                  </a:lnTo>
                  <a:lnTo>
                    <a:pt x="64" y="20"/>
                  </a:lnTo>
                  <a:lnTo>
                    <a:pt x="68" y="18"/>
                  </a:lnTo>
                  <a:lnTo>
                    <a:pt x="74" y="18"/>
                  </a:lnTo>
                  <a:lnTo>
                    <a:pt x="80" y="20"/>
                  </a:lnTo>
                  <a:lnTo>
                    <a:pt x="8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183"/>
            <p:cNvSpPr/>
            <p:nvPr/>
          </p:nvSpPr>
          <p:spPr>
            <a:xfrm>
              <a:off x="7929360" y="2876760"/>
              <a:ext cx="95040" cy="1396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0" h="88">
                  <a:moveTo>
                    <a:pt x="52" y="78"/>
                  </a:moveTo>
                  <a:lnTo>
                    <a:pt x="52" y="78"/>
                  </a:lnTo>
                  <a:lnTo>
                    <a:pt x="56" y="74"/>
                  </a:lnTo>
                  <a:lnTo>
                    <a:pt x="58" y="66"/>
                  </a:lnTo>
                  <a:lnTo>
                    <a:pt x="60" y="60"/>
                  </a:lnTo>
                  <a:lnTo>
                    <a:pt x="58" y="52"/>
                  </a:lnTo>
                  <a:lnTo>
                    <a:pt x="54" y="44"/>
                  </a:lnTo>
                  <a:lnTo>
                    <a:pt x="46" y="36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28" y="28"/>
                  </a:lnTo>
                  <a:lnTo>
                    <a:pt x="24" y="24"/>
                  </a:lnTo>
                  <a:lnTo>
                    <a:pt x="22" y="20"/>
                  </a:lnTo>
                  <a:lnTo>
                    <a:pt x="24" y="14"/>
                  </a:lnTo>
                  <a:lnTo>
                    <a:pt x="26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2" y="10"/>
                  </a:lnTo>
                  <a:lnTo>
                    <a:pt x="12" y="20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10" y="78"/>
                  </a:lnTo>
                  <a:lnTo>
                    <a:pt x="20" y="84"/>
                  </a:lnTo>
                  <a:lnTo>
                    <a:pt x="32" y="88"/>
                  </a:lnTo>
                  <a:lnTo>
                    <a:pt x="32" y="88"/>
                  </a:lnTo>
                  <a:lnTo>
                    <a:pt x="34" y="86"/>
                  </a:lnTo>
                  <a:lnTo>
                    <a:pt x="36" y="80"/>
                  </a:lnTo>
                  <a:lnTo>
                    <a:pt x="36" y="76"/>
                  </a:lnTo>
                  <a:lnTo>
                    <a:pt x="34" y="72"/>
                  </a:lnTo>
                  <a:lnTo>
                    <a:pt x="32" y="66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24" y="60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4" y="50"/>
                  </a:lnTo>
                  <a:lnTo>
                    <a:pt x="12" y="44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6" y="44"/>
                  </a:lnTo>
                  <a:lnTo>
                    <a:pt x="18" y="50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8" y="56"/>
                  </a:lnTo>
                  <a:lnTo>
                    <a:pt x="38" y="60"/>
                  </a:lnTo>
                  <a:lnTo>
                    <a:pt x="42" y="64"/>
                  </a:lnTo>
                  <a:lnTo>
                    <a:pt x="46" y="68"/>
                  </a:lnTo>
                  <a:lnTo>
                    <a:pt x="50" y="72"/>
                  </a:lnTo>
                  <a:lnTo>
                    <a:pt x="52" y="78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184"/>
            <p:cNvSpPr/>
            <p:nvPr/>
          </p:nvSpPr>
          <p:spPr>
            <a:xfrm>
              <a:off x="7351560" y="2619360"/>
              <a:ext cx="431640" cy="5331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72" h="336">
                  <a:moveTo>
                    <a:pt x="136" y="336"/>
                  </a:moveTo>
                  <a:lnTo>
                    <a:pt x="136" y="336"/>
                  </a:lnTo>
                  <a:lnTo>
                    <a:pt x="150" y="336"/>
                  </a:lnTo>
                  <a:lnTo>
                    <a:pt x="164" y="332"/>
                  </a:lnTo>
                  <a:lnTo>
                    <a:pt x="176" y="328"/>
                  </a:lnTo>
                  <a:lnTo>
                    <a:pt x="190" y="324"/>
                  </a:lnTo>
                  <a:lnTo>
                    <a:pt x="202" y="316"/>
                  </a:lnTo>
                  <a:lnTo>
                    <a:pt x="212" y="308"/>
                  </a:lnTo>
                  <a:lnTo>
                    <a:pt x="224" y="298"/>
                  </a:lnTo>
                  <a:lnTo>
                    <a:pt x="232" y="288"/>
                  </a:lnTo>
                  <a:lnTo>
                    <a:pt x="242" y="276"/>
                  </a:lnTo>
                  <a:lnTo>
                    <a:pt x="250" y="262"/>
                  </a:lnTo>
                  <a:lnTo>
                    <a:pt x="256" y="248"/>
                  </a:lnTo>
                  <a:lnTo>
                    <a:pt x="262" y="234"/>
                  </a:lnTo>
                  <a:lnTo>
                    <a:pt x="266" y="218"/>
                  </a:lnTo>
                  <a:lnTo>
                    <a:pt x="270" y="202"/>
                  </a:lnTo>
                  <a:lnTo>
                    <a:pt x="272" y="186"/>
                  </a:lnTo>
                  <a:lnTo>
                    <a:pt x="272" y="168"/>
                  </a:lnTo>
                  <a:lnTo>
                    <a:pt x="272" y="168"/>
                  </a:lnTo>
                  <a:lnTo>
                    <a:pt x="272" y="150"/>
                  </a:lnTo>
                  <a:lnTo>
                    <a:pt x="270" y="134"/>
                  </a:lnTo>
                  <a:lnTo>
                    <a:pt x="266" y="118"/>
                  </a:lnTo>
                  <a:lnTo>
                    <a:pt x="262" y="102"/>
                  </a:lnTo>
                  <a:lnTo>
                    <a:pt x="256" y="88"/>
                  </a:lnTo>
                  <a:lnTo>
                    <a:pt x="250" y="74"/>
                  </a:lnTo>
                  <a:lnTo>
                    <a:pt x="242" y="60"/>
                  </a:lnTo>
                  <a:lnTo>
                    <a:pt x="232" y="48"/>
                  </a:lnTo>
                  <a:lnTo>
                    <a:pt x="224" y="38"/>
                  </a:lnTo>
                  <a:lnTo>
                    <a:pt x="212" y="28"/>
                  </a:lnTo>
                  <a:lnTo>
                    <a:pt x="202" y="20"/>
                  </a:lnTo>
                  <a:lnTo>
                    <a:pt x="190" y="12"/>
                  </a:lnTo>
                  <a:lnTo>
                    <a:pt x="176" y="8"/>
                  </a:lnTo>
                  <a:lnTo>
                    <a:pt x="164" y="4"/>
                  </a:lnTo>
                  <a:lnTo>
                    <a:pt x="150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08" y="4"/>
                  </a:lnTo>
                  <a:lnTo>
                    <a:pt x="96" y="8"/>
                  </a:lnTo>
                  <a:lnTo>
                    <a:pt x="82" y="12"/>
                  </a:lnTo>
                  <a:lnTo>
                    <a:pt x="70" y="20"/>
                  </a:lnTo>
                  <a:lnTo>
                    <a:pt x="60" y="28"/>
                  </a:lnTo>
                  <a:lnTo>
                    <a:pt x="50" y="38"/>
                  </a:lnTo>
                  <a:lnTo>
                    <a:pt x="40" y="48"/>
                  </a:lnTo>
                  <a:lnTo>
                    <a:pt x="30" y="60"/>
                  </a:lnTo>
                  <a:lnTo>
                    <a:pt x="22" y="74"/>
                  </a:lnTo>
                  <a:lnTo>
                    <a:pt x="16" y="88"/>
                  </a:lnTo>
                  <a:lnTo>
                    <a:pt x="10" y="102"/>
                  </a:lnTo>
                  <a:lnTo>
                    <a:pt x="6" y="118"/>
                  </a:lnTo>
                  <a:lnTo>
                    <a:pt x="2" y="134"/>
                  </a:lnTo>
                  <a:lnTo>
                    <a:pt x="0" y="150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186"/>
                  </a:lnTo>
                  <a:lnTo>
                    <a:pt x="2" y="202"/>
                  </a:lnTo>
                  <a:lnTo>
                    <a:pt x="6" y="218"/>
                  </a:lnTo>
                  <a:lnTo>
                    <a:pt x="10" y="234"/>
                  </a:lnTo>
                  <a:lnTo>
                    <a:pt x="16" y="248"/>
                  </a:lnTo>
                  <a:lnTo>
                    <a:pt x="22" y="262"/>
                  </a:lnTo>
                  <a:lnTo>
                    <a:pt x="30" y="276"/>
                  </a:lnTo>
                  <a:lnTo>
                    <a:pt x="40" y="288"/>
                  </a:lnTo>
                  <a:lnTo>
                    <a:pt x="50" y="298"/>
                  </a:lnTo>
                  <a:lnTo>
                    <a:pt x="60" y="308"/>
                  </a:lnTo>
                  <a:lnTo>
                    <a:pt x="70" y="316"/>
                  </a:lnTo>
                  <a:lnTo>
                    <a:pt x="82" y="324"/>
                  </a:lnTo>
                  <a:lnTo>
                    <a:pt x="96" y="328"/>
                  </a:lnTo>
                  <a:lnTo>
                    <a:pt x="108" y="332"/>
                  </a:lnTo>
                  <a:lnTo>
                    <a:pt x="122" y="336"/>
                  </a:lnTo>
                  <a:lnTo>
                    <a:pt x="136" y="336"/>
                  </a:lnTo>
                  <a:lnTo>
                    <a:pt x="136" y="3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185"/>
            <p:cNvSpPr/>
            <p:nvPr/>
          </p:nvSpPr>
          <p:spPr>
            <a:xfrm>
              <a:off x="7326360" y="2593800"/>
              <a:ext cx="482400" cy="58428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584280"/>
                <a:gd name="textAreaBottom" fmla="*/ 584280 h 584280"/>
              </a:gdLst>
              <a:ahLst/>
              <a:rect l="textAreaLeft" t="textAreaTop" r="textAreaRight" b="textAreaBottom"/>
              <a:pathLst>
                <a:path w="304" h="368">
                  <a:moveTo>
                    <a:pt x="152" y="368"/>
                  </a:moveTo>
                  <a:lnTo>
                    <a:pt x="152" y="368"/>
                  </a:lnTo>
                  <a:lnTo>
                    <a:pt x="168" y="368"/>
                  </a:lnTo>
                  <a:lnTo>
                    <a:pt x="182" y="364"/>
                  </a:lnTo>
                  <a:lnTo>
                    <a:pt x="198" y="360"/>
                  </a:lnTo>
                  <a:lnTo>
                    <a:pt x="212" y="354"/>
                  </a:lnTo>
                  <a:lnTo>
                    <a:pt x="224" y="346"/>
                  </a:lnTo>
                  <a:lnTo>
                    <a:pt x="238" y="336"/>
                  </a:lnTo>
                  <a:lnTo>
                    <a:pt x="250" y="326"/>
                  </a:lnTo>
                  <a:lnTo>
                    <a:pt x="260" y="314"/>
                  </a:lnTo>
                  <a:lnTo>
                    <a:pt x="270" y="302"/>
                  </a:lnTo>
                  <a:lnTo>
                    <a:pt x="278" y="286"/>
                  </a:lnTo>
                  <a:lnTo>
                    <a:pt x="286" y="272"/>
                  </a:lnTo>
                  <a:lnTo>
                    <a:pt x="292" y="256"/>
                  </a:lnTo>
                  <a:lnTo>
                    <a:pt x="298" y="238"/>
                  </a:lnTo>
                  <a:lnTo>
                    <a:pt x="302" y="222"/>
                  </a:lnTo>
                  <a:lnTo>
                    <a:pt x="304" y="202"/>
                  </a:lnTo>
                  <a:lnTo>
                    <a:pt x="304" y="184"/>
                  </a:lnTo>
                  <a:lnTo>
                    <a:pt x="304" y="184"/>
                  </a:lnTo>
                  <a:lnTo>
                    <a:pt x="304" y="166"/>
                  </a:lnTo>
                  <a:lnTo>
                    <a:pt x="302" y="146"/>
                  </a:lnTo>
                  <a:lnTo>
                    <a:pt x="298" y="130"/>
                  </a:lnTo>
                  <a:lnTo>
                    <a:pt x="292" y="112"/>
                  </a:lnTo>
                  <a:lnTo>
                    <a:pt x="286" y="96"/>
                  </a:lnTo>
                  <a:lnTo>
                    <a:pt x="278" y="82"/>
                  </a:lnTo>
                  <a:lnTo>
                    <a:pt x="270" y="66"/>
                  </a:lnTo>
                  <a:lnTo>
                    <a:pt x="260" y="54"/>
                  </a:lnTo>
                  <a:lnTo>
                    <a:pt x="250" y="42"/>
                  </a:lnTo>
                  <a:lnTo>
                    <a:pt x="238" y="32"/>
                  </a:lnTo>
                  <a:lnTo>
                    <a:pt x="224" y="22"/>
                  </a:lnTo>
                  <a:lnTo>
                    <a:pt x="212" y="14"/>
                  </a:lnTo>
                  <a:lnTo>
                    <a:pt x="198" y="8"/>
                  </a:lnTo>
                  <a:lnTo>
                    <a:pt x="182" y="4"/>
                  </a:lnTo>
                  <a:lnTo>
                    <a:pt x="168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0"/>
                  </a:lnTo>
                  <a:lnTo>
                    <a:pt x="122" y="4"/>
                  </a:lnTo>
                  <a:lnTo>
                    <a:pt x="106" y="8"/>
                  </a:lnTo>
                  <a:lnTo>
                    <a:pt x="92" y="14"/>
                  </a:lnTo>
                  <a:lnTo>
                    <a:pt x="80" y="22"/>
                  </a:lnTo>
                  <a:lnTo>
                    <a:pt x="66" y="32"/>
                  </a:lnTo>
                  <a:lnTo>
                    <a:pt x="56" y="42"/>
                  </a:lnTo>
                  <a:lnTo>
                    <a:pt x="44" y="54"/>
                  </a:lnTo>
                  <a:lnTo>
                    <a:pt x="34" y="66"/>
                  </a:lnTo>
                  <a:lnTo>
                    <a:pt x="26" y="82"/>
                  </a:lnTo>
                  <a:lnTo>
                    <a:pt x="18" y="96"/>
                  </a:lnTo>
                  <a:lnTo>
                    <a:pt x="12" y="112"/>
                  </a:lnTo>
                  <a:lnTo>
                    <a:pt x="6" y="130"/>
                  </a:lnTo>
                  <a:lnTo>
                    <a:pt x="2" y="146"/>
                  </a:lnTo>
                  <a:lnTo>
                    <a:pt x="0" y="166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202"/>
                  </a:lnTo>
                  <a:lnTo>
                    <a:pt x="2" y="222"/>
                  </a:lnTo>
                  <a:lnTo>
                    <a:pt x="6" y="238"/>
                  </a:lnTo>
                  <a:lnTo>
                    <a:pt x="12" y="256"/>
                  </a:lnTo>
                  <a:lnTo>
                    <a:pt x="18" y="272"/>
                  </a:lnTo>
                  <a:lnTo>
                    <a:pt x="26" y="286"/>
                  </a:lnTo>
                  <a:lnTo>
                    <a:pt x="34" y="302"/>
                  </a:lnTo>
                  <a:lnTo>
                    <a:pt x="44" y="314"/>
                  </a:lnTo>
                  <a:lnTo>
                    <a:pt x="56" y="326"/>
                  </a:lnTo>
                  <a:lnTo>
                    <a:pt x="66" y="336"/>
                  </a:lnTo>
                  <a:lnTo>
                    <a:pt x="80" y="346"/>
                  </a:lnTo>
                  <a:lnTo>
                    <a:pt x="92" y="354"/>
                  </a:lnTo>
                  <a:lnTo>
                    <a:pt x="106" y="360"/>
                  </a:lnTo>
                  <a:lnTo>
                    <a:pt x="122" y="364"/>
                  </a:lnTo>
                  <a:lnTo>
                    <a:pt x="136" y="368"/>
                  </a:lnTo>
                  <a:lnTo>
                    <a:pt x="152" y="368"/>
                  </a:lnTo>
                  <a:lnTo>
                    <a:pt x="152" y="368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186"/>
            <p:cNvSpPr/>
            <p:nvPr/>
          </p:nvSpPr>
          <p:spPr>
            <a:xfrm>
              <a:off x="7351560" y="2619360"/>
              <a:ext cx="431640" cy="5331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72" h="336">
                  <a:moveTo>
                    <a:pt x="136" y="0"/>
                  </a:moveTo>
                  <a:lnTo>
                    <a:pt x="154" y="104"/>
                  </a:lnTo>
                  <a:lnTo>
                    <a:pt x="216" y="32"/>
                  </a:lnTo>
                  <a:lnTo>
                    <a:pt x="184" y="120"/>
                  </a:lnTo>
                  <a:lnTo>
                    <a:pt x="260" y="96"/>
                  </a:lnTo>
                  <a:lnTo>
                    <a:pt x="202" y="152"/>
                  </a:lnTo>
                  <a:lnTo>
                    <a:pt x="272" y="168"/>
                  </a:lnTo>
                  <a:lnTo>
                    <a:pt x="202" y="186"/>
                  </a:lnTo>
                  <a:lnTo>
                    <a:pt x="260" y="240"/>
                  </a:lnTo>
                  <a:lnTo>
                    <a:pt x="184" y="216"/>
                  </a:lnTo>
                  <a:lnTo>
                    <a:pt x="214" y="306"/>
                  </a:lnTo>
                  <a:lnTo>
                    <a:pt x="154" y="234"/>
                  </a:lnTo>
                  <a:lnTo>
                    <a:pt x="136" y="336"/>
                  </a:lnTo>
                  <a:lnTo>
                    <a:pt x="118" y="234"/>
                  </a:lnTo>
                  <a:lnTo>
                    <a:pt x="58" y="304"/>
                  </a:lnTo>
                  <a:lnTo>
                    <a:pt x="88" y="216"/>
                  </a:lnTo>
                  <a:lnTo>
                    <a:pt x="12" y="240"/>
                  </a:lnTo>
                  <a:lnTo>
                    <a:pt x="70" y="186"/>
                  </a:lnTo>
                  <a:lnTo>
                    <a:pt x="0" y="168"/>
                  </a:lnTo>
                  <a:lnTo>
                    <a:pt x="70" y="152"/>
                  </a:lnTo>
                  <a:lnTo>
                    <a:pt x="12" y="98"/>
                  </a:lnTo>
                  <a:lnTo>
                    <a:pt x="88" y="120"/>
                  </a:lnTo>
                  <a:lnTo>
                    <a:pt x="56" y="32"/>
                  </a:lnTo>
                  <a:lnTo>
                    <a:pt x="118" y="104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c791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87"/>
            <p:cNvSpPr/>
            <p:nvPr/>
          </p:nvSpPr>
          <p:spPr>
            <a:xfrm>
              <a:off x="7443720" y="2733840"/>
              <a:ext cx="247320" cy="3045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56" h="192">
                  <a:moveTo>
                    <a:pt x="78" y="192"/>
                  </a:moveTo>
                  <a:lnTo>
                    <a:pt x="78" y="192"/>
                  </a:lnTo>
                  <a:lnTo>
                    <a:pt x="94" y="190"/>
                  </a:lnTo>
                  <a:lnTo>
                    <a:pt x="108" y="186"/>
                  </a:lnTo>
                  <a:lnTo>
                    <a:pt x="122" y="176"/>
                  </a:lnTo>
                  <a:lnTo>
                    <a:pt x="134" y="164"/>
                  </a:lnTo>
                  <a:lnTo>
                    <a:pt x="144" y="150"/>
                  </a:lnTo>
                  <a:lnTo>
                    <a:pt x="150" y="134"/>
                  </a:lnTo>
                  <a:lnTo>
                    <a:pt x="156" y="116"/>
                  </a:lnTo>
                  <a:lnTo>
                    <a:pt x="156" y="96"/>
                  </a:lnTo>
                  <a:lnTo>
                    <a:pt x="156" y="96"/>
                  </a:lnTo>
                  <a:lnTo>
                    <a:pt x="156" y="76"/>
                  </a:lnTo>
                  <a:lnTo>
                    <a:pt x="150" y="58"/>
                  </a:lnTo>
                  <a:lnTo>
                    <a:pt x="144" y="42"/>
                  </a:lnTo>
                  <a:lnTo>
                    <a:pt x="134" y="28"/>
                  </a:lnTo>
                  <a:lnTo>
                    <a:pt x="122" y="16"/>
                  </a:lnTo>
                  <a:lnTo>
                    <a:pt x="108" y="6"/>
                  </a:lnTo>
                  <a:lnTo>
                    <a:pt x="94" y="2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62" y="2"/>
                  </a:lnTo>
                  <a:lnTo>
                    <a:pt x="48" y="6"/>
                  </a:lnTo>
                  <a:lnTo>
                    <a:pt x="34" y="16"/>
                  </a:lnTo>
                  <a:lnTo>
                    <a:pt x="22" y="28"/>
                  </a:lnTo>
                  <a:lnTo>
                    <a:pt x="12" y="42"/>
                  </a:lnTo>
                  <a:lnTo>
                    <a:pt x="6" y="58"/>
                  </a:lnTo>
                  <a:lnTo>
                    <a:pt x="0" y="7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6" y="134"/>
                  </a:lnTo>
                  <a:lnTo>
                    <a:pt x="12" y="150"/>
                  </a:lnTo>
                  <a:lnTo>
                    <a:pt x="22" y="164"/>
                  </a:lnTo>
                  <a:lnTo>
                    <a:pt x="34" y="176"/>
                  </a:lnTo>
                  <a:lnTo>
                    <a:pt x="48" y="186"/>
                  </a:lnTo>
                  <a:lnTo>
                    <a:pt x="62" y="190"/>
                  </a:lnTo>
                  <a:lnTo>
                    <a:pt x="78" y="192"/>
                  </a:lnTo>
                  <a:lnTo>
                    <a:pt x="78" y="192"/>
                  </a:lnTo>
                  <a:close/>
                </a:path>
              </a:pathLst>
            </a:custGeom>
            <a:solidFill>
              <a:srgbClr val="c791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88"/>
            <p:cNvSpPr/>
            <p:nvPr/>
          </p:nvSpPr>
          <p:spPr>
            <a:xfrm>
              <a:off x="7459560" y="2752920"/>
              <a:ext cx="215640" cy="2664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36" h="168">
                  <a:moveTo>
                    <a:pt x="68" y="168"/>
                  </a:moveTo>
                  <a:lnTo>
                    <a:pt x="68" y="168"/>
                  </a:lnTo>
                  <a:lnTo>
                    <a:pt x="82" y="166"/>
                  </a:lnTo>
                  <a:lnTo>
                    <a:pt x="94" y="160"/>
                  </a:lnTo>
                  <a:lnTo>
                    <a:pt x="106" y="152"/>
                  </a:lnTo>
                  <a:lnTo>
                    <a:pt x="116" y="142"/>
                  </a:lnTo>
                  <a:lnTo>
                    <a:pt x="124" y="130"/>
                  </a:lnTo>
                  <a:lnTo>
                    <a:pt x="130" y="116"/>
                  </a:lnTo>
                  <a:lnTo>
                    <a:pt x="134" y="100"/>
                  </a:lnTo>
                  <a:lnTo>
                    <a:pt x="136" y="84"/>
                  </a:lnTo>
                  <a:lnTo>
                    <a:pt x="136" y="84"/>
                  </a:lnTo>
                  <a:lnTo>
                    <a:pt x="134" y="68"/>
                  </a:lnTo>
                  <a:lnTo>
                    <a:pt x="130" y="52"/>
                  </a:lnTo>
                  <a:lnTo>
                    <a:pt x="124" y="38"/>
                  </a:lnTo>
                  <a:lnTo>
                    <a:pt x="116" y="26"/>
                  </a:lnTo>
                  <a:lnTo>
                    <a:pt x="106" y="16"/>
                  </a:lnTo>
                  <a:lnTo>
                    <a:pt x="94" y="8"/>
                  </a:lnTo>
                  <a:lnTo>
                    <a:pt x="82" y="2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54" y="2"/>
                  </a:lnTo>
                  <a:lnTo>
                    <a:pt x="42" y="8"/>
                  </a:lnTo>
                  <a:lnTo>
                    <a:pt x="30" y="16"/>
                  </a:lnTo>
                  <a:lnTo>
                    <a:pt x="20" y="26"/>
                  </a:lnTo>
                  <a:lnTo>
                    <a:pt x="12" y="38"/>
                  </a:lnTo>
                  <a:lnTo>
                    <a:pt x="6" y="52"/>
                  </a:lnTo>
                  <a:lnTo>
                    <a:pt x="2" y="6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100"/>
                  </a:lnTo>
                  <a:lnTo>
                    <a:pt x="6" y="116"/>
                  </a:lnTo>
                  <a:lnTo>
                    <a:pt x="12" y="130"/>
                  </a:lnTo>
                  <a:lnTo>
                    <a:pt x="20" y="142"/>
                  </a:lnTo>
                  <a:lnTo>
                    <a:pt x="30" y="152"/>
                  </a:lnTo>
                  <a:lnTo>
                    <a:pt x="42" y="160"/>
                  </a:lnTo>
                  <a:lnTo>
                    <a:pt x="54" y="166"/>
                  </a:lnTo>
                  <a:lnTo>
                    <a:pt x="68" y="168"/>
                  </a:lnTo>
                  <a:lnTo>
                    <a:pt x="68" y="168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89"/>
            <p:cNvSpPr/>
            <p:nvPr/>
          </p:nvSpPr>
          <p:spPr>
            <a:xfrm>
              <a:off x="7478640" y="2771640"/>
              <a:ext cx="177480" cy="2286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12" h="144">
                  <a:moveTo>
                    <a:pt x="56" y="144"/>
                  </a:moveTo>
                  <a:lnTo>
                    <a:pt x="56" y="144"/>
                  </a:lnTo>
                  <a:lnTo>
                    <a:pt x="68" y="142"/>
                  </a:lnTo>
                  <a:lnTo>
                    <a:pt x="78" y="138"/>
                  </a:lnTo>
                  <a:lnTo>
                    <a:pt x="88" y="130"/>
                  </a:lnTo>
                  <a:lnTo>
                    <a:pt x="96" y="122"/>
                  </a:lnTo>
                  <a:lnTo>
                    <a:pt x="102" y="112"/>
                  </a:lnTo>
                  <a:lnTo>
                    <a:pt x="108" y="100"/>
                  </a:lnTo>
                  <a:lnTo>
                    <a:pt x="110" y="86"/>
                  </a:lnTo>
                  <a:lnTo>
                    <a:pt x="112" y="72"/>
                  </a:lnTo>
                  <a:lnTo>
                    <a:pt x="112" y="72"/>
                  </a:lnTo>
                  <a:lnTo>
                    <a:pt x="110" y="58"/>
                  </a:lnTo>
                  <a:lnTo>
                    <a:pt x="108" y="44"/>
                  </a:lnTo>
                  <a:lnTo>
                    <a:pt x="102" y="32"/>
                  </a:lnTo>
                  <a:lnTo>
                    <a:pt x="96" y="22"/>
                  </a:lnTo>
                  <a:lnTo>
                    <a:pt x="88" y="14"/>
                  </a:lnTo>
                  <a:lnTo>
                    <a:pt x="78" y="6"/>
                  </a:lnTo>
                  <a:lnTo>
                    <a:pt x="68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4" y="14"/>
                  </a:lnTo>
                  <a:lnTo>
                    <a:pt x="16" y="22"/>
                  </a:lnTo>
                  <a:lnTo>
                    <a:pt x="10" y="32"/>
                  </a:lnTo>
                  <a:lnTo>
                    <a:pt x="4" y="44"/>
                  </a:lnTo>
                  <a:lnTo>
                    <a:pt x="2" y="5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" y="86"/>
                  </a:lnTo>
                  <a:lnTo>
                    <a:pt x="4" y="100"/>
                  </a:lnTo>
                  <a:lnTo>
                    <a:pt x="10" y="112"/>
                  </a:lnTo>
                  <a:lnTo>
                    <a:pt x="16" y="122"/>
                  </a:lnTo>
                  <a:lnTo>
                    <a:pt x="24" y="130"/>
                  </a:lnTo>
                  <a:lnTo>
                    <a:pt x="34" y="138"/>
                  </a:lnTo>
                  <a:lnTo>
                    <a:pt x="44" y="142"/>
                  </a:lnTo>
                  <a:lnTo>
                    <a:pt x="56" y="144"/>
                  </a:lnTo>
                  <a:lnTo>
                    <a:pt x="56" y="144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90"/>
            <p:cNvSpPr/>
            <p:nvPr/>
          </p:nvSpPr>
          <p:spPr>
            <a:xfrm>
              <a:off x="7497720" y="2787840"/>
              <a:ext cx="91800" cy="698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8" h="44">
                  <a:moveTo>
                    <a:pt x="0" y="44"/>
                  </a:moveTo>
                  <a:lnTo>
                    <a:pt x="0" y="44"/>
                  </a:lnTo>
                  <a:lnTo>
                    <a:pt x="2" y="36"/>
                  </a:lnTo>
                  <a:lnTo>
                    <a:pt x="6" y="28"/>
                  </a:lnTo>
                  <a:lnTo>
                    <a:pt x="12" y="18"/>
                  </a:lnTo>
                  <a:lnTo>
                    <a:pt x="18" y="10"/>
                  </a:lnTo>
                  <a:lnTo>
                    <a:pt x="28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34" y="16"/>
                  </a:lnTo>
                  <a:lnTo>
                    <a:pt x="16" y="30"/>
                  </a:lnTo>
                  <a:lnTo>
                    <a:pt x="8" y="38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91"/>
            <p:cNvSpPr/>
            <p:nvPr/>
          </p:nvSpPr>
          <p:spPr>
            <a:xfrm>
              <a:off x="7510320" y="2886120"/>
              <a:ext cx="133200" cy="98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4" h="62">
                  <a:moveTo>
                    <a:pt x="84" y="0"/>
                  </a:moveTo>
                  <a:lnTo>
                    <a:pt x="84" y="0"/>
                  </a:lnTo>
                  <a:lnTo>
                    <a:pt x="82" y="8"/>
                  </a:lnTo>
                  <a:lnTo>
                    <a:pt x="80" y="18"/>
                  </a:lnTo>
                  <a:lnTo>
                    <a:pt x="76" y="28"/>
                  </a:lnTo>
                  <a:lnTo>
                    <a:pt x="72" y="40"/>
                  </a:lnTo>
                  <a:lnTo>
                    <a:pt x="64" y="50"/>
                  </a:lnTo>
                  <a:lnTo>
                    <a:pt x="54" y="58"/>
                  </a:lnTo>
                  <a:lnTo>
                    <a:pt x="46" y="60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34" y="62"/>
                  </a:lnTo>
                  <a:lnTo>
                    <a:pt x="24" y="58"/>
                  </a:lnTo>
                  <a:lnTo>
                    <a:pt x="18" y="56"/>
                  </a:lnTo>
                  <a:lnTo>
                    <a:pt x="10" y="52"/>
                  </a:lnTo>
                  <a:lnTo>
                    <a:pt x="4" y="4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8" y="34"/>
                  </a:lnTo>
                  <a:lnTo>
                    <a:pt x="30" y="34"/>
                  </a:lnTo>
                  <a:lnTo>
                    <a:pt x="44" y="30"/>
                  </a:lnTo>
                  <a:lnTo>
                    <a:pt x="58" y="22"/>
                  </a:lnTo>
                  <a:lnTo>
                    <a:pt x="70" y="12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92"/>
            <p:cNvSpPr/>
            <p:nvPr/>
          </p:nvSpPr>
          <p:spPr>
            <a:xfrm>
              <a:off x="6253200" y="2895480"/>
              <a:ext cx="2628720" cy="743040"/>
            </a:xfrm>
            <a:custGeom>
              <a:avLst/>
              <a:gdLst>
                <a:gd name="textAreaLeft" fmla="*/ 0 w 2628720"/>
                <a:gd name="textAreaRight" fmla="*/ 2629080 w 262872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1656" h="468">
                  <a:moveTo>
                    <a:pt x="1316" y="324"/>
                  </a:moveTo>
                  <a:lnTo>
                    <a:pt x="1316" y="324"/>
                  </a:lnTo>
                  <a:lnTo>
                    <a:pt x="1348" y="330"/>
                  </a:lnTo>
                  <a:lnTo>
                    <a:pt x="1384" y="332"/>
                  </a:lnTo>
                  <a:lnTo>
                    <a:pt x="1384" y="332"/>
                  </a:lnTo>
                  <a:lnTo>
                    <a:pt x="1410" y="330"/>
                  </a:lnTo>
                  <a:lnTo>
                    <a:pt x="1434" y="328"/>
                  </a:lnTo>
                  <a:lnTo>
                    <a:pt x="1456" y="326"/>
                  </a:lnTo>
                  <a:lnTo>
                    <a:pt x="1478" y="322"/>
                  </a:lnTo>
                  <a:lnTo>
                    <a:pt x="1498" y="316"/>
                  </a:lnTo>
                  <a:lnTo>
                    <a:pt x="1518" y="310"/>
                  </a:lnTo>
                  <a:lnTo>
                    <a:pt x="1534" y="302"/>
                  </a:lnTo>
                  <a:lnTo>
                    <a:pt x="1550" y="292"/>
                  </a:lnTo>
                  <a:lnTo>
                    <a:pt x="1564" y="282"/>
                  </a:lnTo>
                  <a:lnTo>
                    <a:pt x="1576" y="270"/>
                  </a:lnTo>
                  <a:lnTo>
                    <a:pt x="1588" y="258"/>
                  </a:lnTo>
                  <a:lnTo>
                    <a:pt x="1596" y="244"/>
                  </a:lnTo>
                  <a:lnTo>
                    <a:pt x="1604" y="228"/>
                  </a:lnTo>
                  <a:lnTo>
                    <a:pt x="1608" y="212"/>
                  </a:lnTo>
                  <a:lnTo>
                    <a:pt x="1612" y="194"/>
                  </a:lnTo>
                  <a:lnTo>
                    <a:pt x="1612" y="174"/>
                  </a:lnTo>
                  <a:lnTo>
                    <a:pt x="1612" y="174"/>
                  </a:lnTo>
                  <a:lnTo>
                    <a:pt x="1612" y="158"/>
                  </a:lnTo>
                  <a:lnTo>
                    <a:pt x="1608" y="140"/>
                  </a:lnTo>
                  <a:lnTo>
                    <a:pt x="1602" y="122"/>
                  </a:lnTo>
                  <a:lnTo>
                    <a:pt x="1596" y="106"/>
                  </a:lnTo>
                  <a:lnTo>
                    <a:pt x="1586" y="90"/>
                  </a:lnTo>
                  <a:lnTo>
                    <a:pt x="1576" y="76"/>
                  </a:lnTo>
                  <a:lnTo>
                    <a:pt x="1564" y="62"/>
                  </a:lnTo>
                  <a:lnTo>
                    <a:pt x="1550" y="50"/>
                  </a:lnTo>
                  <a:lnTo>
                    <a:pt x="1550" y="50"/>
                  </a:lnTo>
                  <a:lnTo>
                    <a:pt x="1570" y="64"/>
                  </a:lnTo>
                  <a:lnTo>
                    <a:pt x="1588" y="82"/>
                  </a:lnTo>
                  <a:lnTo>
                    <a:pt x="1604" y="100"/>
                  </a:lnTo>
                  <a:lnTo>
                    <a:pt x="1618" y="120"/>
                  </a:lnTo>
                  <a:lnTo>
                    <a:pt x="1630" y="140"/>
                  </a:lnTo>
                  <a:lnTo>
                    <a:pt x="1638" y="162"/>
                  </a:lnTo>
                  <a:lnTo>
                    <a:pt x="1642" y="184"/>
                  </a:lnTo>
                  <a:lnTo>
                    <a:pt x="1644" y="208"/>
                  </a:lnTo>
                  <a:lnTo>
                    <a:pt x="1644" y="208"/>
                  </a:lnTo>
                  <a:lnTo>
                    <a:pt x="1642" y="228"/>
                  </a:lnTo>
                  <a:lnTo>
                    <a:pt x="1638" y="250"/>
                  </a:lnTo>
                  <a:lnTo>
                    <a:pt x="1632" y="270"/>
                  </a:lnTo>
                  <a:lnTo>
                    <a:pt x="1622" y="290"/>
                  </a:lnTo>
                  <a:lnTo>
                    <a:pt x="1610" y="308"/>
                  </a:lnTo>
                  <a:lnTo>
                    <a:pt x="1596" y="326"/>
                  </a:lnTo>
                  <a:lnTo>
                    <a:pt x="1580" y="342"/>
                  </a:lnTo>
                  <a:lnTo>
                    <a:pt x="1562" y="356"/>
                  </a:lnTo>
                  <a:lnTo>
                    <a:pt x="1542" y="370"/>
                  </a:lnTo>
                  <a:lnTo>
                    <a:pt x="1520" y="382"/>
                  </a:lnTo>
                  <a:lnTo>
                    <a:pt x="1498" y="392"/>
                  </a:lnTo>
                  <a:lnTo>
                    <a:pt x="1472" y="402"/>
                  </a:lnTo>
                  <a:lnTo>
                    <a:pt x="1446" y="408"/>
                  </a:lnTo>
                  <a:lnTo>
                    <a:pt x="1420" y="414"/>
                  </a:lnTo>
                  <a:lnTo>
                    <a:pt x="1392" y="418"/>
                  </a:lnTo>
                  <a:lnTo>
                    <a:pt x="1364" y="418"/>
                  </a:lnTo>
                  <a:lnTo>
                    <a:pt x="1364" y="418"/>
                  </a:lnTo>
                  <a:lnTo>
                    <a:pt x="1338" y="418"/>
                  </a:lnTo>
                  <a:lnTo>
                    <a:pt x="1312" y="414"/>
                  </a:lnTo>
                  <a:lnTo>
                    <a:pt x="1288" y="410"/>
                  </a:lnTo>
                  <a:lnTo>
                    <a:pt x="1264" y="404"/>
                  </a:lnTo>
                  <a:lnTo>
                    <a:pt x="1316" y="324"/>
                  </a:lnTo>
                  <a:close/>
                  <a:moveTo>
                    <a:pt x="1336" y="310"/>
                  </a:moveTo>
                  <a:lnTo>
                    <a:pt x="1336" y="310"/>
                  </a:lnTo>
                  <a:lnTo>
                    <a:pt x="1334" y="308"/>
                  </a:lnTo>
                  <a:lnTo>
                    <a:pt x="1332" y="304"/>
                  </a:lnTo>
                  <a:lnTo>
                    <a:pt x="1332" y="304"/>
                  </a:lnTo>
                  <a:lnTo>
                    <a:pt x="1330" y="304"/>
                  </a:lnTo>
                  <a:lnTo>
                    <a:pt x="1326" y="304"/>
                  </a:lnTo>
                  <a:lnTo>
                    <a:pt x="1326" y="304"/>
                  </a:lnTo>
                  <a:lnTo>
                    <a:pt x="1324" y="304"/>
                  </a:lnTo>
                  <a:lnTo>
                    <a:pt x="1322" y="306"/>
                  </a:lnTo>
                  <a:lnTo>
                    <a:pt x="1322" y="306"/>
                  </a:lnTo>
                  <a:lnTo>
                    <a:pt x="1320" y="310"/>
                  </a:lnTo>
                  <a:lnTo>
                    <a:pt x="1320" y="312"/>
                  </a:lnTo>
                  <a:lnTo>
                    <a:pt x="1320" y="312"/>
                  </a:lnTo>
                  <a:lnTo>
                    <a:pt x="1322" y="316"/>
                  </a:lnTo>
                  <a:lnTo>
                    <a:pt x="1324" y="318"/>
                  </a:lnTo>
                  <a:lnTo>
                    <a:pt x="1324" y="318"/>
                  </a:lnTo>
                  <a:lnTo>
                    <a:pt x="1326" y="318"/>
                  </a:lnTo>
                  <a:lnTo>
                    <a:pt x="1330" y="318"/>
                  </a:lnTo>
                  <a:lnTo>
                    <a:pt x="1330" y="318"/>
                  </a:lnTo>
                  <a:lnTo>
                    <a:pt x="1332" y="318"/>
                  </a:lnTo>
                  <a:lnTo>
                    <a:pt x="1334" y="316"/>
                  </a:lnTo>
                  <a:lnTo>
                    <a:pt x="1334" y="316"/>
                  </a:lnTo>
                  <a:lnTo>
                    <a:pt x="1336" y="314"/>
                  </a:lnTo>
                  <a:lnTo>
                    <a:pt x="1336" y="310"/>
                  </a:lnTo>
                  <a:lnTo>
                    <a:pt x="1336" y="310"/>
                  </a:lnTo>
                  <a:close/>
                  <a:moveTo>
                    <a:pt x="1358" y="306"/>
                  </a:moveTo>
                  <a:lnTo>
                    <a:pt x="1358" y="306"/>
                  </a:lnTo>
                  <a:lnTo>
                    <a:pt x="1358" y="302"/>
                  </a:lnTo>
                  <a:lnTo>
                    <a:pt x="1356" y="300"/>
                  </a:lnTo>
                  <a:lnTo>
                    <a:pt x="1356" y="300"/>
                  </a:lnTo>
                  <a:lnTo>
                    <a:pt x="1352" y="300"/>
                  </a:lnTo>
                  <a:lnTo>
                    <a:pt x="1350" y="300"/>
                  </a:lnTo>
                  <a:lnTo>
                    <a:pt x="1350" y="300"/>
                  </a:lnTo>
                  <a:lnTo>
                    <a:pt x="1346" y="300"/>
                  </a:lnTo>
                  <a:lnTo>
                    <a:pt x="1344" y="302"/>
                  </a:lnTo>
                  <a:lnTo>
                    <a:pt x="1344" y="302"/>
                  </a:lnTo>
                  <a:lnTo>
                    <a:pt x="1344" y="306"/>
                  </a:lnTo>
                  <a:lnTo>
                    <a:pt x="1344" y="308"/>
                  </a:lnTo>
                  <a:lnTo>
                    <a:pt x="1344" y="308"/>
                  </a:lnTo>
                  <a:lnTo>
                    <a:pt x="1344" y="312"/>
                  </a:lnTo>
                  <a:lnTo>
                    <a:pt x="1346" y="314"/>
                  </a:lnTo>
                  <a:lnTo>
                    <a:pt x="1346" y="314"/>
                  </a:lnTo>
                  <a:lnTo>
                    <a:pt x="1350" y="314"/>
                  </a:lnTo>
                  <a:lnTo>
                    <a:pt x="1352" y="314"/>
                  </a:lnTo>
                  <a:lnTo>
                    <a:pt x="1352" y="314"/>
                  </a:lnTo>
                  <a:lnTo>
                    <a:pt x="1356" y="314"/>
                  </a:lnTo>
                  <a:lnTo>
                    <a:pt x="1358" y="312"/>
                  </a:lnTo>
                  <a:lnTo>
                    <a:pt x="1358" y="312"/>
                  </a:lnTo>
                  <a:lnTo>
                    <a:pt x="1358" y="308"/>
                  </a:lnTo>
                  <a:lnTo>
                    <a:pt x="1358" y="306"/>
                  </a:lnTo>
                  <a:lnTo>
                    <a:pt x="1358" y="306"/>
                  </a:lnTo>
                  <a:close/>
                  <a:moveTo>
                    <a:pt x="1380" y="300"/>
                  </a:moveTo>
                  <a:lnTo>
                    <a:pt x="1380" y="300"/>
                  </a:lnTo>
                  <a:lnTo>
                    <a:pt x="1380" y="296"/>
                  </a:lnTo>
                  <a:lnTo>
                    <a:pt x="1378" y="294"/>
                  </a:lnTo>
                  <a:lnTo>
                    <a:pt x="1378" y="294"/>
                  </a:lnTo>
                  <a:lnTo>
                    <a:pt x="1374" y="294"/>
                  </a:lnTo>
                  <a:lnTo>
                    <a:pt x="1372" y="294"/>
                  </a:lnTo>
                  <a:lnTo>
                    <a:pt x="1372" y="294"/>
                  </a:lnTo>
                  <a:lnTo>
                    <a:pt x="1368" y="296"/>
                  </a:lnTo>
                  <a:lnTo>
                    <a:pt x="1366" y="298"/>
                  </a:lnTo>
                  <a:lnTo>
                    <a:pt x="1366" y="298"/>
                  </a:lnTo>
                  <a:lnTo>
                    <a:pt x="1366" y="300"/>
                  </a:lnTo>
                  <a:lnTo>
                    <a:pt x="1366" y="304"/>
                  </a:lnTo>
                  <a:lnTo>
                    <a:pt x="1366" y="304"/>
                  </a:lnTo>
                  <a:lnTo>
                    <a:pt x="1368" y="306"/>
                  </a:lnTo>
                  <a:lnTo>
                    <a:pt x="1370" y="308"/>
                  </a:lnTo>
                  <a:lnTo>
                    <a:pt x="1370" y="308"/>
                  </a:lnTo>
                  <a:lnTo>
                    <a:pt x="1372" y="310"/>
                  </a:lnTo>
                  <a:lnTo>
                    <a:pt x="1376" y="308"/>
                  </a:lnTo>
                  <a:lnTo>
                    <a:pt x="1376" y="308"/>
                  </a:lnTo>
                  <a:lnTo>
                    <a:pt x="1378" y="308"/>
                  </a:lnTo>
                  <a:lnTo>
                    <a:pt x="1380" y="306"/>
                  </a:lnTo>
                  <a:lnTo>
                    <a:pt x="1380" y="306"/>
                  </a:lnTo>
                  <a:lnTo>
                    <a:pt x="1382" y="302"/>
                  </a:lnTo>
                  <a:lnTo>
                    <a:pt x="1380" y="300"/>
                  </a:lnTo>
                  <a:lnTo>
                    <a:pt x="1380" y="300"/>
                  </a:lnTo>
                  <a:close/>
                  <a:moveTo>
                    <a:pt x="1402" y="292"/>
                  </a:moveTo>
                  <a:lnTo>
                    <a:pt x="1402" y="292"/>
                  </a:lnTo>
                  <a:lnTo>
                    <a:pt x="1400" y="288"/>
                  </a:lnTo>
                  <a:lnTo>
                    <a:pt x="1398" y="288"/>
                  </a:lnTo>
                  <a:lnTo>
                    <a:pt x="1398" y="288"/>
                  </a:lnTo>
                  <a:lnTo>
                    <a:pt x="1396" y="286"/>
                  </a:lnTo>
                  <a:lnTo>
                    <a:pt x="1392" y="286"/>
                  </a:lnTo>
                  <a:lnTo>
                    <a:pt x="1392" y="286"/>
                  </a:lnTo>
                  <a:lnTo>
                    <a:pt x="1390" y="288"/>
                  </a:lnTo>
                  <a:lnTo>
                    <a:pt x="1388" y="290"/>
                  </a:lnTo>
                  <a:lnTo>
                    <a:pt x="1388" y="290"/>
                  </a:lnTo>
                  <a:lnTo>
                    <a:pt x="1388" y="294"/>
                  </a:lnTo>
                  <a:lnTo>
                    <a:pt x="1388" y="296"/>
                  </a:lnTo>
                  <a:lnTo>
                    <a:pt x="1388" y="296"/>
                  </a:lnTo>
                  <a:lnTo>
                    <a:pt x="1390" y="300"/>
                  </a:lnTo>
                  <a:lnTo>
                    <a:pt x="1392" y="302"/>
                  </a:lnTo>
                  <a:lnTo>
                    <a:pt x="1392" y="302"/>
                  </a:lnTo>
                  <a:lnTo>
                    <a:pt x="1394" y="302"/>
                  </a:lnTo>
                  <a:lnTo>
                    <a:pt x="1398" y="302"/>
                  </a:lnTo>
                  <a:lnTo>
                    <a:pt x="1398" y="302"/>
                  </a:lnTo>
                  <a:lnTo>
                    <a:pt x="1400" y="300"/>
                  </a:lnTo>
                  <a:lnTo>
                    <a:pt x="1402" y="298"/>
                  </a:lnTo>
                  <a:lnTo>
                    <a:pt x="1402" y="298"/>
                  </a:lnTo>
                  <a:lnTo>
                    <a:pt x="1402" y="294"/>
                  </a:lnTo>
                  <a:lnTo>
                    <a:pt x="1402" y="292"/>
                  </a:lnTo>
                  <a:lnTo>
                    <a:pt x="1402" y="292"/>
                  </a:lnTo>
                  <a:close/>
                  <a:moveTo>
                    <a:pt x="1424" y="284"/>
                  </a:moveTo>
                  <a:lnTo>
                    <a:pt x="1424" y="284"/>
                  </a:lnTo>
                  <a:lnTo>
                    <a:pt x="1422" y="280"/>
                  </a:lnTo>
                  <a:lnTo>
                    <a:pt x="1420" y="278"/>
                  </a:lnTo>
                  <a:lnTo>
                    <a:pt x="1420" y="278"/>
                  </a:lnTo>
                  <a:lnTo>
                    <a:pt x="1416" y="278"/>
                  </a:lnTo>
                  <a:lnTo>
                    <a:pt x="1414" y="278"/>
                  </a:lnTo>
                  <a:lnTo>
                    <a:pt x="1414" y="278"/>
                  </a:lnTo>
                  <a:lnTo>
                    <a:pt x="1410" y="280"/>
                  </a:lnTo>
                  <a:lnTo>
                    <a:pt x="1410" y="284"/>
                  </a:lnTo>
                  <a:lnTo>
                    <a:pt x="1410" y="284"/>
                  </a:lnTo>
                  <a:lnTo>
                    <a:pt x="1408" y="286"/>
                  </a:lnTo>
                  <a:lnTo>
                    <a:pt x="1410" y="290"/>
                  </a:lnTo>
                  <a:lnTo>
                    <a:pt x="1410" y="290"/>
                  </a:lnTo>
                  <a:lnTo>
                    <a:pt x="1410" y="292"/>
                  </a:lnTo>
                  <a:lnTo>
                    <a:pt x="1414" y="294"/>
                  </a:lnTo>
                  <a:lnTo>
                    <a:pt x="1414" y="294"/>
                  </a:lnTo>
                  <a:lnTo>
                    <a:pt x="1416" y="294"/>
                  </a:lnTo>
                  <a:lnTo>
                    <a:pt x="1420" y="294"/>
                  </a:lnTo>
                  <a:lnTo>
                    <a:pt x="1420" y="294"/>
                  </a:lnTo>
                  <a:lnTo>
                    <a:pt x="1422" y="292"/>
                  </a:lnTo>
                  <a:lnTo>
                    <a:pt x="1424" y="290"/>
                  </a:lnTo>
                  <a:lnTo>
                    <a:pt x="1424" y="290"/>
                  </a:lnTo>
                  <a:lnTo>
                    <a:pt x="1424" y="286"/>
                  </a:lnTo>
                  <a:lnTo>
                    <a:pt x="1424" y="284"/>
                  </a:lnTo>
                  <a:lnTo>
                    <a:pt x="1424" y="284"/>
                  </a:lnTo>
                  <a:close/>
                  <a:moveTo>
                    <a:pt x="1444" y="274"/>
                  </a:moveTo>
                  <a:lnTo>
                    <a:pt x="1444" y="274"/>
                  </a:lnTo>
                  <a:lnTo>
                    <a:pt x="1442" y="270"/>
                  </a:lnTo>
                  <a:lnTo>
                    <a:pt x="1440" y="270"/>
                  </a:lnTo>
                  <a:lnTo>
                    <a:pt x="1440" y="270"/>
                  </a:lnTo>
                  <a:lnTo>
                    <a:pt x="1438" y="268"/>
                  </a:lnTo>
                  <a:lnTo>
                    <a:pt x="1434" y="270"/>
                  </a:lnTo>
                  <a:lnTo>
                    <a:pt x="1434" y="270"/>
                  </a:lnTo>
                  <a:lnTo>
                    <a:pt x="1432" y="272"/>
                  </a:lnTo>
                  <a:lnTo>
                    <a:pt x="1430" y="274"/>
                  </a:lnTo>
                  <a:lnTo>
                    <a:pt x="1430" y="274"/>
                  </a:lnTo>
                  <a:lnTo>
                    <a:pt x="1430" y="278"/>
                  </a:lnTo>
                  <a:lnTo>
                    <a:pt x="1430" y="280"/>
                  </a:lnTo>
                  <a:lnTo>
                    <a:pt x="1430" y="280"/>
                  </a:lnTo>
                  <a:lnTo>
                    <a:pt x="1432" y="282"/>
                  </a:lnTo>
                  <a:lnTo>
                    <a:pt x="1434" y="284"/>
                  </a:lnTo>
                  <a:lnTo>
                    <a:pt x="1434" y="284"/>
                  </a:lnTo>
                  <a:lnTo>
                    <a:pt x="1438" y="284"/>
                  </a:lnTo>
                  <a:lnTo>
                    <a:pt x="1442" y="284"/>
                  </a:lnTo>
                  <a:lnTo>
                    <a:pt x="1442" y="284"/>
                  </a:lnTo>
                  <a:lnTo>
                    <a:pt x="1444" y="282"/>
                  </a:lnTo>
                  <a:lnTo>
                    <a:pt x="1446" y="280"/>
                  </a:lnTo>
                  <a:lnTo>
                    <a:pt x="1446" y="280"/>
                  </a:lnTo>
                  <a:lnTo>
                    <a:pt x="1446" y="276"/>
                  </a:lnTo>
                  <a:lnTo>
                    <a:pt x="1444" y="274"/>
                  </a:lnTo>
                  <a:lnTo>
                    <a:pt x="1444" y="274"/>
                  </a:lnTo>
                  <a:close/>
                  <a:moveTo>
                    <a:pt x="1466" y="262"/>
                  </a:moveTo>
                  <a:lnTo>
                    <a:pt x="1466" y="262"/>
                  </a:lnTo>
                  <a:lnTo>
                    <a:pt x="1464" y="260"/>
                  </a:lnTo>
                  <a:lnTo>
                    <a:pt x="1460" y="258"/>
                  </a:lnTo>
                  <a:lnTo>
                    <a:pt x="1460" y="258"/>
                  </a:lnTo>
                  <a:lnTo>
                    <a:pt x="1458" y="258"/>
                  </a:lnTo>
                  <a:lnTo>
                    <a:pt x="1454" y="260"/>
                  </a:lnTo>
                  <a:lnTo>
                    <a:pt x="1454" y="260"/>
                  </a:lnTo>
                  <a:lnTo>
                    <a:pt x="1452" y="262"/>
                  </a:lnTo>
                  <a:lnTo>
                    <a:pt x="1450" y="264"/>
                  </a:lnTo>
                  <a:lnTo>
                    <a:pt x="1450" y="264"/>
                  </a:lnTo>
                  <a:lnTo>
                    <a:pt x="1450" y="268"/>
                  </a:lnTo>
                  <a:lnTo>
                    <a:pt x="1452" y="270"/>
                  </a:lnTo>
                  <a:lnTo>
                    <a:pt x="1452" y="270"/>
                  </a:lnTo>
                  <a:lnTo>
                    <a:pt x="1454" y="272"/>
                  </a:lnTo>
                  <a:lnTo>
                    <a:pt x="1456" y="274"/>
                  </a:lnTo>
                  <a:lnTo>
                    <a:pt x="1456" y="274"/>
                  </a:lnTo>
                  <a:lnTo>
                    <a:pt x="1460" y="274"/>
                  </a:lnTo>
                  <a:lnTo>
                    <a:pt x="1462" y="274"/>
                  </a:lnTo>
                  <a:lnTo>
                    <a:pt x="1462" y="274"/>
                  </a:lnTo>
                  <a:lnTo>
                    <a:pt x="1464" y="272"/>
                  </a:lnTo>
                  <a:lnTo>
                    <a:pt x="1466" y="268"/>
                  </a:lnTo>
                  <a:lnTo>
                    <a:pt x="1466" y="268"/>
                  </a:lnTo>
                  <a:lnTo>
                    <a:pt x="1466" y="266"/>
                  </a:lnTo>
                  <a:lnTo>
                    <a:pt x="1466" y="262"/>
                  </a:lnTo>
                  <a:lnTo>
                    <a:pt x="1466" y="262"/>
                  </a:lnTo>
                  <a:close/>
                  <a:moveTo>
                    <a:pt x="1484" y="250"/>
                  </a:moveTo>
                  <a:lnTo>
                    <a:pt x="1484" y="250"/>
                  </a:lnTo>
                  <a:lnTo>
                    <a:pt x="1482" y="248"/>
                  </a:lnTo>
                  <a:lnTo>
                    <a:pt x="1480" y="246"/>
                  </a:lnTo>
                  <a:lnTo>
                    <a:pt x="1480" y="246"/>
                  </a:lnTo>
                  <a:lnTo>
                    <a:pt x="1476" y="246"/>
                  </a:lnTo>
                  <a:lnTo>
                    <a:pt x="1474" y="248"/>
                  </a:lnTo>
                  <a:lnTo>
                    <a:pt x="1474" y="248"/>
                  </a:lnTo>
                  <a:lnTo>
                    <a:pt x="1472" y="250"/>
                  </a:lnTo>
                  <a:lnTo>
                    <a:pt x="1470" y="252"/>
                  </a:lnTo>
                  <a:lnTo>
                    <a:pt x="1470" y="252"/>
                  </a:lnTo>
                  <a:lnTo>
                    <a:pt x="1470" y="256"/>
                  </a:lnTo>
                  <a:lnTo>
                    <a:pt x="1472" y="258"/>
                  </a:lnTo>
                  <a:lnTo>
                    <a:pt x="1472" y="258"/>
                  </a:lnTo>
                  <a:lnTo>
                    <a:pt x="1474" y="262"/>
                  </a:lnTo>
                  <a:lnTo>
                    <a:pt x="1476" y="262"/>
                  </a:lnTo>
                  <a:lnTo>
                    <a:pt x="1476" y="262"/>
                  </a:lnTo>
                  <a:lnTo>
                    <a:pt x="1480" y="262"/>
                  </a:lnTo>
                  <a:lnTo>
                    <a:pt x="1482" y="262"/>
                  </a:lnTo>
                  <a:lnTo>
                    <a:pt x="1482" y="262"/>
                  </a:lnTo>
                  <a:lnTo>
                    <a:pt x="1484" y="260"/>
                  </a:lnTo>
                  <a:lnTo>
                    <a:pt x="1486" y="256"/>
                  </a:lnTo>
                  <a:lnTo>
                    <a:pt x="1486" y="256"/>
                  </a:lnTo>
                  <a:lnTo>
                    <a:pt x="1486" y="254"/>
                  </a:lnTo>
                  <a:lnTo>
                    <a:pt x="1484" y="250"/>
                  </a:lnTo>
                  <a:lnTo>
                    <a:pt x="1484" y="250"/>
                  </a:lnTo>
                  <a:close/>
                  <a:moveTo>
                    <a:pt x="1504" y="236"/>
                  </a:moveTo>
                  <a:lnTo>
                    <a:pt x="1504" y="236"/>
                  </a:lnTo>
                  <a:lnTo>
                    <a:pt x="1500" y="234"/>
                  </a:lnTo>
                  <a:lnTo>
                    <a:pt x="1498" y="234"/>
                  </a:lnTo>
                  <a:lnTo>
                    <a:pt x="1498" y="234"/>
                  </a:lnTo>
                  <a:lnTo>
                    <a:pt x="1494" y="234"/>
                  </a:lnTo>
                  <a:lnTo>
                    <a:pt x="1492" y="234"/>
                  </a:lnTo>
                  <a:lnTo>
                    <a:pt x="1492" y="234"/>
                  </a:lnTo>
                  <a:lnTo>
                    <a:pt x="1490" y="238"/>
                  </a:lnTo>
                  <a:lnTo>
                    <a:pt x="1490" y="240"/>
                  </a:lnTo>
                  <a:lnTo>
                    <a:pt x="1490" y="240"/>
                  </a:lnTo>
                  <a:lnTo>
                    <a:pt x="1490" y="244"/>
                  </a:lnTo>
                  <a:lnTo>
                    <a:pt x="1490" y="246"/>
                  </a:lnTo>
                  <a:lnTo>
                    <a:pt x="1490" y="246"/>
                  </a:lnTo>
                  <a:lnTo>
                    <a:pt x="1492" y="248"/>
                  </a:lnTo>
                  <a:lnTo>
                    <a:pt x="1496" y="248"/>
                  </a:lnTo>
                  <a:lnTo>
                    <a:pt x="1496" y="248"/>
                  </a:lnTo>
                  <a:lnTo>
                    <a:pt x="1498" y="248"/>
                  </a:lnTo>
                  <a:lnTo>
                    <a:pt x="1502" y="248"/>
                  </a:lnTo>
                  <a:lnTo>
                    <a:pt x="1502" y="248"/>
                  </a:lnTo>
                  <a:lnTo>
                    <a:pt x="1504" y="246"/>
                  </a:lnTo>
                  <a:lnTo>
                    <a:pt x="1504" y="242"/>
                  </a:lnTo>
                  <a:lnTo>
                    <a:pt x="1504" y="242"/>
                  </a:lnTo>
                  <a:lnTo>
                    <a:pt x="1504" y="240"/>
                  </a:lnTo>
                  <a:lnTo>
                    <a:pt x="1504" y="236"/>
                  </a:lnTo>
                  <a:lnTo>
                    <a:pt x="1504" y="236"/>
                  </a:lnTo>
                  <a:close/>
                  <a:moveTo>
                    <a:pt x="1520" y="220"/>
                  </a:moveTo>
                  <a:lnTo>
                    <a:pt x="1520" y="220"/>
                  </a:lnTo>
                  <a:lnTo>
                    <a:pt x="1518" y="218"/>
                  </a:lnTo>
                  <a:lnTo>
                    <a:pt x="1514" y="218"/>
                  </a:lnTo>
                  <a:lnTo>
                    <a:pt x="1514" y="218"/>
                  </a:lnTo>
                  <a:lnTo>
                    <a:pt x="1512" y="218"/>
                  </a:lnTo>
                  <a:lnTo>
                    <a:pt x="1508" y="220"/>
                  </a:lnTo>
                  <a:lnTo>
                    <a:pt x="1508" y="220"/>
                  </a:lnTo>
                  <a:lnTo>
                    <a:pt x="1506" y="222"/>
                  </a:lnTo>
                  <a:lnTo>
                    <a:pt x="1506" y="226"/>
                  </a:lnTo>
                  <a:lnTo>
                    <a:pt x="1506" y="226"/>
                  </a:lnTo>
                  <a:lnTo>
                    <a:pt x="1506" y="228"/>
                  </a:lnTo>
                  <a:lnTo>
                    <a:pt x="1508" y="232"/>
                  </a:lnTo>
                  <a:lnTo>
                    <a:pt x="1508" y="232"/>
                  </a:lnTo>
                  <a:lnTo>
                    <a:pt x="1512" y="234"/>
                  </a:lnTo>
                  <a:lnTo>
                    <a:pt x="1514" y="234"/>
                  </a:lnTo>
                  <a:lnTo>
                    <a:pt x="1514" y="234"/>
                  </a:lnTo>
                  <a:lnTo>
                    <a:pt x="1518" y="234"/>
                  </a:lnTo>
                  <a:lnTo>
                    <a:pt x="1520" y="232"/>
                  </a:lnTo>
                  <a:lnTo>
                    <a:pt x="1520" y="232"/>
                  </a:lnTo>
                  <a:lnTo>
                    <a:pt x="1522" y="230"/>
                  </a:lnTo>
                  <a:lnTo>
                    <a:pt x="1522" y="226"/>
                  </a:lnTo>
                  <a:lnTo>
                    <a:pt x="1522" y="226"/>
                  </a:lnTo>
                  <a:lnTo>
                    <a:pt x="1522" y="224"/>
                  </a:lnTo>
                  <a:lnTo>
                    <a:pt x="1520" y="220"/>
                  </a:lnTo>
                  <a:lnTo>
                    <a:pt x="1520" y="220"/>
                  </a:lnTo>
                  <a:close/>
                  <a:moveTo>
                    <a:pt x="1534" y="202"/>
                  </a:moveTo>
                  <a:lnTo>
                    <a:pt x="1534" y="202"/>
                  </a:lnTo>
                  <a:lnTo>
                    <a:pt x="1532" y="202"/>
                  </a:lnTo>
                  <a:lnTo>
                    <a:pt x="1528" y="200"/>
                  </a:lnTo>
                  <a:lnTo>
                    <a:pt x="1528" y="200"/>
                  </a:lnTo>
                  <a:lnTo>
                    <a:pt x="1526" y="202"/>
                  </a:lnTo>
                  <a:lnTo>
                    <a:pt x="1524" y="204"/>
                  </a:lnTo>
                  <a:lnTo>
                    <a:pt x="1524" y="204"/>
                  </a:lnTo>
                  <a:lnTo>
                    <a:pt x="1522" y="206"/>
                  </a:lnTo>
                  <a:lnTo>
                    <a:pt x="1522" y="210"/>
                  </a:lnTo>
                  <a:lnTo>
                    <a:pt x="1522" y="210"/>
                  </a:lnTo>
                  <a:lnTo>
                    <a:pt x="1522" y="212"/>
                  </a:lnTo>
                  <a:lnTo>
                    <a:pt x="1524" y="214"/>
                  </a:lnTo>
                  <a:lnTo>
                    <a:pt x="1524" y="214"/>
                  </a:lnTo>
                  <a:lnTo>
                    <a:pt x="1528" y="216"/>
                  </a:lnTo>
                  <a:lnTo>
                    <a:pt x="1530" y="216"/>
                  </a:lnTo>
                  <a:lnTo>
                    <a:pt x="1530" y="216"/>
                  </a:lnTo>
                  <a:lnTo>
                    <a:pt x="1534" y="216"/>
                  </a:lnTo>
                  <a:lnTo>
                    <a:pt x="1536" y="214"/>
                  </a:lnTo>
                  <a:lnTo>
                    <a:pt x="1536" y="214"/>
                  </a:lnTo>
                  <a:lnTo>
                    <a:pt x="1538" y="210"/>
                  </a:lnTo>
                  <a:lnTo>
                    <a:pt x="1538" y="208"/>
                  </a:lnTo>
                  <a:lnTo>
                    <a:pt x="1538" y="208"/>
                  </a:lnTo>
                  <a:lnTo>
                    <a:pt x="1536" y="204"/>
                  </a:lnTo>
                  <a:lnTo>
                    <a:pt x="1534" y="202"/>
                  </a:lnTo>
                  <a:lnTo>
                    <a:pt x="1534" y="202"/>
                  </a:lnTo>
                  <a:close/>
                  <a:moveTo>
                    <a:pt x="1546" y="182"/>
                  </a:moveTo>
                  <a:lnTo>
                    <a:pt x="1546" y="182"/>
                  </a:lnTo>
                  <a:lnTo>
                    <a:pt x="1544" y="182"/>
                  </a:lnTo>
                  <a:lnTo>
                    <a:pt x="1540" y="182"/>
                  </a:lnTo>
                  <a:lnTo>
                    <a:pt x="1540" y="182"/>
                  </a:lnTo>
                  <a:lnTo>
                    <a:pt x="1538" y="184"/>
                  </a:lnTo>
                  <a:lnTo>
                    <a:pt x="1536" y="186"/>
                  </a:lnTo>
                  <a:lnTo>
                    <a:pt x="1536" y="186"/>
                  </a:lnTo>
                  <a:lnTo>
                    <a:pt x="1534" y="188"/>
                  </a:lnTo>
                  <a:lnTo>
                    <a:pt x="1534" y="192"/>
                  </a:lnTo>
                  <a:lnTo>
                    <a:pt x="1534" y="192"/>
                  </a:lnTo>
                  <a:lnTo>
                    <a:pt x="1536" y="194"/>
                  </a:lnTo>
                  <a:lnTo>
                    <a:pt x="1538" y="196"/>
                  </a:lnTo>
                  <a:lnTo>
                    <a:pt x="1538" y="196"/>
                  </a:lnTo>
                  <a:lnTo>
                    <a:pt x="1542" y="198"/>
                  </a:lnTo>
                  <a:lnTo>
                    <a:pt x="1544" y="198"/>
                  </a:lnTo>
                  <a:lnTo>
                    <a:pt x="1544" y="198"/>
                  </a:lnTo>
                  <a:lnTo>
                    <a:pt x="1548" y="196"/>
                  </a:lnTo>
                  <a:lnTo>
                    <a:pt x="1550" y="194"/>
                  </a:lnTo>
                  <a:lnTo>
                    <a:pt x="1550" y="194"/>
                  </a:lnTo>
                  <a:lnTo>
                    <a:pt x="1550" y="190"/>
                  </a:lnTo>
                  <a:lnTo>
                    <a:pt x="1550" y="188"/>
                  </a:lnTo>
                  <a:lnTo>
                    <a:pt x="1550" y="188"/>
                  </a:lnTo>
                  <a:lnTo>
                    <a:pt x="1548" y="184"/>
                  </a:lnTo>
                  <a:lnTo>
                    <a:pt x="1546" y="182"/>
                  </a:lnTo>
                  <a:lnTo>
                    <a:pt x="1546" y="182"/>
                  </a:lnTo>
                  <a:close/>
                  <a:moveTo>
                    <a:pt x="1554" y="160"/>
                  </a:moveTo>
                  <a:lnTo>
                    <a:pt x="1554" y="160"/>
                  </a:lnTo>
                  <a:lnTo>
                    <a:pt x="1552" y="160"/>
                  </a:lnTo>
                  <a:lnTo>
                    <a:pt x="1548" y="162"/>
                  </a:lnTo>
                  <a:lnTo>
                    <a:pt x="1548" y="162"/>
                  </a:lnTo>
                  <a:lnTo>
                    <a:pt x="1546" y="164"/>
                  </a:lnTo>
                  <a:lnTo>
                    <a:pt x="1544" y="166"/>
                  </a:lnTo>
                  <a:lnTo>
                    <a:pt x="1544" y="166"/>
                  </a:lnTo>
                  <a:lnTo>
                    <a:pt x="1544" y="168"/>
                  </a:lnTo>
                  <a:lnTo>
                    <a:pt x="1544" y="172"/>
                  </a:lnTo>
                  <a:lnTo>
                    <a:pt x="1544" y="172"/>
                  </a:lnTo>
                  <a:lnTo>
                    <a:pt x="1546" y="174"/>
                  </a:lnTo>
                  <a:lnTo>
                    <a:pt x="1550" y="176"/>
                  </a:lnTo>
                  <a:lnTo>
                    <a:pt x="1550" y="176"/>
                  </a:lnTo>
                  <a:lnTo>
                    <a:pt x="1552" y="176"/>
                  </a:lnTo>
                  <a:lnTo>
                    <a:pt x="1556" y="176"/>
                  </a:lnTo>
                  <a:lnTo>
                    <a:pt x="1556" y="176"/>
                  </a:lnTo>
                  <a:lnTo>
                    <a:pt x="1558" y="174"/>
                  </a:lnTo>
                  <a:lnTo>
                    <a:pt x="1560" y="170"/>
                  </a:lnTo>
                  <a:lnTo>
                    <a:pt x="1560" y="170"/>
                  </a:lnTo>
                  <a:lnTo>
                    <a:pt x="1560" y="168"/>
                  </a:lnTo>
                  <a:lnTo>
                    <a:pt x="1558" y="164"/>
                  </a:lnTo>
                  <a:lnTo>
                    <a:pt x="1558" y="164"/>
                  </a:lnTo>
                  <a:lnTo>
                    <a:pt x="1558" y="162"/>
                  </a:lnTo>
                  <a:lnTo>
                    <a:pt x="1554" y="160"/>
                  </a:lnTo>
                  <a:lnTo>
                    <a:pt x="1554" y="160"/>
                  </a:lnTo>
                  <a:close/>
                  <a:moveTo>
                    <a:pt x="1558" y="138"/>
                  </a:moveTo>
                  <a:lnTo>
                    <a:pt x="1558" y="138"/>
                  </a:lnTo>
                  <a:lnTo>
                    <a:pt x="1554" y="138"/>
                  </a:lnTo>
                  <a:lnTo>
                    <a:pt x="1552" y="140"/>
                  </a:lnTo>
                  <a:lnTo>
                    <a:pt x="1552" y="140"/>
                  </a:lnTo>
                  <a:lnTo>
                    <a:pt x="1550" y="142"/>
                  </a:lnTo>
                  <a:lnTo>
                    <a:pt x="1550" y="144"/>
                  </a:lnTo>
                  <a:lnTo>
                    <a:pt x="1550" y="144"/>
                  </a:lnTo>
                  <a:lnTo>
                    <a:pt x="1550" y="148"/>
                  </a:lnTo>
                  <a:lnTo>
                    <a:pt x="1550" y="150"/>
                  </a:lnTo>
                  <a:lnTo>
                    <a:pt x="1550" y="150"/>
                  </a:lnTo>
                  <a:lnTo>
                    <a:pt x="1554" y="152"/>
                  </a:lnTo>
                  <a:lnTo>
                    <a:pt x="1556" y="154"/>
                  </a:lnTo>
                  <a:lnTo>
                    <a:pt x="1556" y="154"/>
                  </a:lnTo>
                  <a:lnTo>
                    <a:pt x="1560" y="154"/>
                  </a:lnTo>
                  <a:lnTo>
                    <a:pt x="1562" y="152"/>
                  </a:lnTo>
                  <a:lnTo>
                    <a:pt x="1562" y="152"/>
                  </a:lnTo>
                  <a:lnTo>
                    <a:pt x="1564" y="150"/>
                  </a:lnTo>
                  <a:lnTo>
                    <a:pt x="1564" y="146"/>
                  </a:lnTo>
                  <a:lnTo>
                    <a:pt x="1564" y="146"/>
                  </a:lnTo>
                  <a:lnTo>
                    <a:pt x="1564" y="144"/>
                  </a:lnTo>
                  <a:lnTo>
                    <a:pt x="1564" y="140"/>
                  </a:lnTo>
                  <a:lnTo>
                    <a:pt x="1564" y="140"/>
                  </a:lnTo>
                  <a:lnTo>
                    <a:pt x="1562" y="138"/>
                  </a:lnTo>
                  <a:lnTo>
                    <a:pt x="1558" y="138"/>
                  </a:lnTo>
                  <a:lnTo>
                    <a:pt x="1558" y="138"/>
                  </a:lnTo>
                  <a:close/>
                  <a:moveTo>
                    <a:pt x="1558" y="114"/>
                  </a:moveTo>
                  <a:lnTo>
                    <a:pt x="1558" y="114"/>
                  </a:lnTo>
                  <a:lnTo>
                    <a:pt x="1554" y="116"/>
                  </a:lnTo>
                  <a:lnTo>
                    <a:pt x="1552" y="118"/>
                  </a:lnTo>
                  <a:lnTo>
                    <a:pt x="1552" y="118"/>
                  </a:lnTo>
                  <a:lnTo>
                    <a:pt x="1550" y="120"/>
                  </a:lnTo>
                  <a:lnTo>
                    <a:pt x="1550" y="124"/>
                  </a:lnTo>
                  <a:lnTo>
                    <a:pt x="1550" y="124"/>
                  </a:lnTo>
                  <a:lnTo>
                    <a:pt x="1550" y="126"/>
                  </a:lnTo>
                  <a:lnTo>
                    <a:pt x="1552" y="128"/>
                  </a:lnTo>
                  <a:lnTo>
                    <a:pt x="1552" y="128"/>
                  </a:lnTo>
                  <a:lnTo>
                    <a:pt x="1556" y="130"/>
                  </a:lnTo>
                  <a:lnTo>
                    <a:pt x="1558" y="130"/>
                  </a:lnTo>
                  <a:lnTo>
                    <a:pt x="1558" y="130"/>
                  </a:lnTo>
                  <a:lnTo>
                    <a:pt x="1562" y="130"/>
                  </a:lnTo>
                  <a:lnTo>
                    <a:pt x="1564" y="128"/>
                  </a:lnTo>
                  <a:lnTo>
                    <a:pt x="1564" y="128"/>
                  </a:lnTo>
                  <a:lnTo>
                    <a:pt x="1566" y="126"/>
                  </a:lnTo>
                  <a:lnTo>
                    <a:pt x="1566" y="122"/>
                  </a:lnTo>
                  <a:lnTo>
                    <a:pt x="1566" y="122"/>
                  </a:lnTo>
                  <a:lnTo>
                    <a:pt x="1564" y="120"/>
                  </a:lnTo>
                  <a:lnTo>
                    <a:pt x="1564" y="116"/>
                  </a:lnTo>
                  <a:lnTo>
                    <a:pt x="1564" y="116"/>
                  </a:lnTo>
                  <a:lnTo>
                    <a:pt x="1560" y="116"/>
                  </a:lnTo>
                  <a:lnTo>
                    <a:pt x="1558" y="114"/>
                  </a:lnTo>
                  <a:lnTo>
                    <a:pt x="1558" y="114"/>
                  </a:lnTo>
                  <a:close/>
                  <a:moveTo>
                    <a:pt x="1552" y="92"/>
                  </a:moveTo>
                  <a:lnTo>
                    <a:pt x="1552" y="92"/>
                  </a:lnTo>
                  <a:lnTo>
                    <a:pt x="1550" y="94"/>
                  </a:lnTo>
                  <a:lnTo>
                    <a:pt x="1548" y="96"/>
                  </a:lnTo>
                  <a:lnTo>
                    <a:pt x="1548" y="96"/>
                  </a:lnTo>
                  <a:lnTo>
                    <a:pt x="1546" y="98"/>
                  </a:lnTo>
                  <a:lnTo>
                    <a:pt x="1546" y="102"/>
                  </a:lnTo>
                  <a:lnTo>
                    <a:pt x="1546" y="102"/>
                  </a:lnTo>
                  <a:lnTo>
                    <a:pt x="1548" y="104"/>
                  </a:lnTo>
                  <a:lnTo>
                    <a:pt x="1550" y="106"/>
                  </a:lnTo>
                  <a:lnTo>
                    <a:pt x="1550" y="106"/>
                  </a:lnTo>
                  <a:lnTo>
                    <a:pt x="1554" y="108"/>
                  </a:lnTo>
                  <a:lnTo>
                    <a:pt x="1556" y="108"/>
                  </a:lnTo>
                  <a:lnTo>
                    <a:pt x="1556" y="108"/>
                  </a:lnTo>
                  <a:lnTo>
                    <a:pt x="1560" y="106"/>
                  </a:lnTo>
                  <a:lnTo>
                    <a:pt x="1562" y="104"/>
                  </a:lnTo>
                  <a:lnTo>
                    <a:pt x="1562" y="104"/>
                  </a:lnTo>
                  <a:lnTo>
                    <a:pt x="1562" y="100"/>
                  </a:lnTo>
                  <a:lnTo>
                    <a:pt x="1562" y="98"/>
                  </a:lnTo>
                  <a:lnTo>
                    <a:pt x="1562" y="98"/>
                  </a:lnTo>
                  <a:lnTo>
                    <a:pt x="1560" y="96"/>
                  </a:lnTo>
                  <a:lnTo>
                    <a:pt x="1558" y="92"/>
                  </a:lnTo>
                  <a:lnTo>
                    <a:pt x="1558" y="92"/>
                  </a:lnTo>
                  <a:lnTo>
                    <a:pt x="1556" y="92"/>
                  </a:lnTo>
                  <a:lnTo>
                    <a:pt x="1552" y="92"/>
                  </a:lnTo>
                  <a:lnTo>
                    <a:pt x="1552" y="92"/>
                  </a:lnTo>
                  <a:close/>
                  <a:moveTo>
                    <a:pt x="1544" y="70"/>
                  </a:moveTo>
                  <a:lnTo>
                    <a:pt x="1544" y="70"/>
                  </a:lnTo>
                  <a:lnTo>
                    <a:pt x="1542" y="72"/>
                  </a:lnTo>
                  <a:lnTo>
                    <a:pt x="1540" y="74"/>
                  </a:lnTo>
                  <a:lnTo>
                    <a:pt x="1540" y="74"/>
                  </a:lnTo>
                  <a:lnTo>
                    <a:pt x="1540" y="78"/>
                  </a:lnTo>
                  <a:lnTo>
                    <a:pt x="1540" y="80"/>
                  </a:lnTo>
                  <a:lnTo>
                    <a:pt x="1540" y="80"/>
                  </a:lnTo>
                  <a:lnTo>
                    <a:pt x="1542" y="82"/>
                  </a:lnTo>
                  <a:lnTo>
                    <a:pt x="1544" y="84"/>
                  </a:lnTo>
                  <a:lnTo>
                    <a:pt x="1544" y="84"/>
                  </a:lnTo>
                  <a:lnTo>
                    <a:pt x="1548" y="86"/>
                  </a:lnTo>
                  <a:lnTo>
                    <a:pt x="1550" y="84"/>
                  </a:lnTo>
                  <a:lnTo>
                    <a:pt x="1550" y="84"/>
                  </a:lnTo>
                  <a:lnTo>
                    <a:pt x="1554" y="84"/>
                  </a:lnTo>
                  <a:lnTo>
                    <a:pt x="1554" y="80"/>
                  </a:lnTo>
                  <a:lnTo>
                    <a:pt x="1554" y="80"/>
                  </a:lnTo>
                  <a:lnTo>
                    <a:pt x="1556" y="78"/>
                  </a:lnTo>
                  <a:lnTo>
                    <a:pt x="1554" y="74"/>
                  </a:lnTo>
                  <a:lnTo>
                    <a:pt x="1554" y="74"/>
                  </a:lnTo>
                  <a:lnTo>
                    <a:pt x="1554" y="72"/>
                  </a:lnTo>
                  <a:lnTo>
                    <a:pt x="1550" y="70"/>
                  </a:lnTo>
                  <a:lnTo>
                    <a:pt x="1550" y="70"/>
                  </a:lnTo>
                  <a:lnTo>
                    <a:pt x="1548" y="70"/>
                  </a:lnTo>
                  <a:lnTo>
                    <a:pt x="1544" y="70"/>
                  </a:lnTo>
                  <a:lnTo>
                    <a:pt x="1544" y="70"/>
                  </a:lnTo>
                  <a:close/>
                  <a:moveTo>
                    <a:pt x="1534" y="50"/>
                  </a:moveTo>
                  <a:lnTo>
                    <a:pt x="1534" y="50"/>
                  </a:lnTo>
                  <a:lnTo>
                    <a:pt x="1532" y="52"/>
                  </a:lnTo>
                  <a:lnTo>
                    <a:pt x="1530" y="54"/>
                  </a:lnTo>
                  <a:lnTo>
                    <a:pt x="1530" y="54"/>
                  </a:lnTo>
                  <a:lnTo>
                    <a:pt x="1530" y="58"/>
                  </a:lnTo>
                  <a:lnTo>
                    <a:pt x="1530" y="60"/>
                  </a:lnTo>
                  <a:lnTo>
                    <a:pt x="1530" y="60"/>
                  </a:lnTo>
                  <a:lnTo>
                    <a:pt x="1532" y="64"/>
                  </a:lnTo>
                  <a:lnTo>
                    <a:pt x="1536" y="64"/>
                  </a:lnTo>
                  <a:lnTo>
                    <a:pt x="1536" y="64"/>
                  </a:lnTo>
                  <a:lnTo>
                    <a:pt x="1538" y="64"/>
                  </a:lnTo>
                  <a:lnTo>
                    <a:pt x="1542" y="64"/>
                  </a:lnTo>
                  <a:lnTo>
                    <a:pt x="1542" y="64"/>
                  </a:lnTo>
                  <a:lnTo>
                    <a:pt x="1544" y="62"/>
                  </a:lnTo>
                  <a:lnTo>
                    <a:pt x="1546" y="58"/>
                  </a:lnTo>
                  <a:lnTo>
                    <a:pt x="1546" y="58"/>
                  </a:lnTo>
                  <a:lnTo>
                    <a:pt x="1546" y="56"/>
                  </a:lnTo>
                  <a:lnTo>
                    <a:pt x="1544" y="52"/>
                  </a:lnTo>
                  <a:lnTo>
                    <a:pt x="1544" y="52"/>
                  </a:lnTo>
                  <a:lnTo>
                    <a:pt x="1542" y="50"/>
                  </a:lnTo>
                  <a:lnTo>
                    <a:pt x="1540" y="48"/>
                  </a:lnTo>
                  <a:lnTo>
                    <a:pt x="1540" y="48"/>
                  </a:lnTo>
                  <a:lnTo>
                    <a:pt x="1536" y="48"/>
                  </a:lnTo>
                  <a:lnTo>
                    <a:pt x="1534" y="50"/>
                  </a:lnTo>
                  <a:lnTo>
                    <a:pt x="1534" y="50"/>
                  </a:lnTo>
                  <a:close/>
                  <a:moveTo>
                    <a:pt x="1518" y="32"/>
                  </a:moveTo>
                  <a:lnTo>
                    <a:pt x="1518" y="32"/>
                  </a:lnTo>
                  <a:lnTo>
                    <a:pt x="1516" y="34"/>
                  </a:lnTo>
                  <a:lnTo>
                    <a:pt x="1516" y="38"/>
                  </a:lnTo>
                  <a:lnTo>
                    <a:pt x="1516" y="38"/>
                  </a:lnTo>
                  <a:lnTo>
                    <a:pt x="1516" y="40"/>
                  </a:lnTo>
                  <a:lnTo>
                    <a:pt x="1518" y="42"/>
                  </a:lnTo>
                  <a:lnTo>
                    <a:pt x="1518" y="42"/>
                  </a:lnTo>
                  <a:lnTo>
                    <a:pt x="1520" y="44"/>
                  </a:lnTo>
                  <a:lnTo>
                    <a:pt x="1524" y="46"/>
                  </a:lnTo>
                  <a:lnTo>
                    <a:pt x="1524" y="46"/>
                  </a:lnTo>
                  <a:lnTo>
                    <a:pt x="1526" y="46"/>
                  </a:lnTo>
                  <a:lnTo>
                    <a:pt x="1530" y="44"/>
                  </a:lnTo>
                  <a:lnTo>
                    <a:pt x="1530" y="44"/>
                  </a:lnTo>
                  <a:lnTo>
                    <a:pt x="1530" y="42"/>
                  </a:lnTo>
                  <a:lnTo>
                    <a:pt x="1532" y="38"/>
                  </a:lnTo>
                  <a:lnTo>
                    <a:pt x="1532" y="38"/>
                  </a:lnTo>
                  <a:lnTo>
                    <a:pt x="1532" y="36"/>
                  </a:lnTo>
                  <a:lnTo>
                    <a:pt x="1530" y="32"/>
                  </a:lnTo>
                  <a:lnTo>
                    <a:pt x="1530" y="32"/>
                  </a:lnTo>
                  <a:lnTo>
                    <a:pt x="1528" y="30"/>
                  </a:lnTo>
                  <a:lnTo>
                    <a:pt x="1524" y="30"/>
                  </a:lnTo>
                  <a:lnTo>
                    <a:pt x="1524" y="30"/>
                  </a:lnTo>
                  <a:lnTo>
                    <a:pt x="1522" y="30"/>
                  </a:lnTo>
                  <a:lnTo>
                    <a:pt x="1518" y="32"/>
                  </a:lnTo>
                  <a:lnTo>
                    <a:pt x="1518" y="32"/>
                  </a:lnTo>
                  <a:close/>
                  <a:moveTo>
                    <a:pt x="1502" y="16"/>
                  </a:moveTo>
                  <a:lnTo>
                    <a:pt x="1502" y="16"/>
                  </a:lnTo>
                  <a:lnTo>
                    <a:pt x="1500" y="18"/>
                  </a:lnTo>
                  <a:lnTo>
                    <a:pt x="1500" y="22"/>
                  </a:lnTo>
                  <a:lnTo>
                    <a:pt x="1500" y="22"/>
                  </a:lnTo>
                  <a:lnTo>
                    <a:pt x="1500" y="24"/>
                  </a:lnTo>
                  <a:lnTo>
                    <a:pt x="1502" y="28"/>
                  </a:lnTo>
                  <a:lnTo>
                    <a:pt x="1502" y="28"/>
                  </a:lnTo>
                  <a:lnTo>
                    <a:pt x="1506" y="28"/>
                  </a:lnTo>
                  <a:lnTo>
                    <a:pt x="1508" y="30"/>
                  </a:lnTo>
                  <a:lnTo>
                    <a:pt x="1508" y="30"/>
                  </a:lnTo>
                  <a:lnTo>
                    <a:pt x="1512" y="28"/>
                  </a:lnTo>
                  <a:lnTo>
                    <a:pt x="1514" y="26"/>
                  </a:lnTo>
                  <a:lnTo>
                    <a:pt x="1514" y="26"/>
                  </a:lnTo>
                  <a:lnTo>
                    <a:pt x="1516" y="24"/>
                  </a:lnTo>
                  <a:lnTo>
                    <a:pt x="1516" y="20"/>
                  </a:lnTo>
                  <a:lnTo>
                    <a:pt x="1516" y="20"/>
                  </a:lnTo>
                  <a:lnTo>
                    <a:pt x="1514" y="18"/>
                  </a:lnTo>
                  <a:lnTo>
                    <a:pt x="1512" y="16"/>
                  </a:lnTo>
                  <a:lnTo>
                    <a:pt x="1512" y="16"/>
                  </a:lnTo>
                  <a:lnTo>
                    <a:pt x="1510" y="14"/>
                  </a:lnTo>
                  <a:lnTo>
                    <a:pt x="1508" y="14"/>
                  </a:lnTo>
                  <a:lnTo>
                    <a:pt x="1508" y="14"/>
                  </a:lnTo>
                  <a:lnTo>
                    <a:pt x="1504" y="14"/>
                  </a:lnTo>
                  <a:lnTo>
                    <a:pt x="1502" y="16"/>
                  </a:lnTo>
                  <a:lnTo>
                    <a:pt x="1502" y="16"/>
                  </a:lnTo>
                  <a:close/>
                  <a:moveTo>
                    <a:pt x="1482" y="2"/>
                  </a:moveTo>
                  <a:lnTo>
                    <a:pt x="1482" y="2"/>
                  </a:lnTo>
                  <a:lnTo>
                    <a:pt x="1482" y="6"/>
                  </a:lnTo>
                  <a:lnTo>
                    <a:pt x="1482" y="8"/>
                  </a:lnTo>
                  <a:lnTo>
                    <a:pt x="1482" y="8"/>
                  </a:lnTo>
                  <a:lnTo>
                    <a:pt x="1482" y="12"/>
                  </a:lnTo>
                  <a:lnTo>
                    <a:pt x="1484" y="14"/>
                  </a:lnTo>
                  <a:lnTo>
                    <a:pt x="1484" y="14"/>
                  </a:lnTo>
                  <a:lnTo>
                    <a:pt x="1488" y="16"/>
                  </a:lnTo>
                  <a:lnTo>
                    <a:pt x="1490" y="16"/>
                  </a:lnTo>
                  <a:lnTo>
                    <a:pt x="1490" y="16"/>
                  </a:lnTo>
                  <a:lnTo>
                    <a:pt x="1494" y="14"/>
                  </a:lnTo>
                  <a:lnTo>
                    <a:pt x="1496" y="12"/>
                  </a:lnTo>
                  <a:lnTo>
                    <a:pt x="1496" y="12"/>
                  </a:lnTo>
                  <a:lnTo>
                    <a:pt x="1496" y="8"/>
                  </a:lnTo>
                  <a:lnTo>
                    <a:pt x="1496" y="6"/>
                  </a:lnTo>
                  <a:lnTo>
                    <a:pt x="1496" y="6"/>
                  </a:lnTo>
                  <a:lnTo>
                    <a:pt x="1496" y="2"/>
                  </a:lnTo>
                  <a:lnTo>
                    <a:pt x="1494" y="0"/>
                  </a:lnTo>
                  <a:lnTo>
                    <a:pt x="1494" y="0"/>
                  </a:lnTo>
                  <a:lnTo>
                    <a:pt x="1490" y="0"/>
                  </a:lnTo>
                  <a:lnTo>
                    <a:pt x="1488" y="0"/>
                  </a:lnTo>
                  <a:lnTo>
                    <a:pt x="1488" y="0"/>
                  </a:lnTo>
                  <a:lnTo>
                    <a:pt x="1484" y="0"/>
                  </a:lnTo>
                  <a:lnTo>
                    <a:pt x="1482" y="2"/>
                  </a:lnTo>
                  <a:lnTo>
                    <a:pt x="1482" y="2"/>
                  </a:lnTo>
                  <a:close/>
                  <a:moveTo>
                    <a:pt x="1338" y="424"/>
                  </a:moveTo>
                  <a:lnTo>
                    <a:pt x="1338" y="424"/>
                  </a:lnTo>
                  <a:lnTo>
                    <a:pt x="1338" y="420"/>
                  </a:lnTo>
                  <a:lnTo>
                    <a:pt x="1338" y="418"/>
                  </a:lnTo>
                  <a:lnTo>
                    <a:pt x="1338" y="418"/>
                  </a:lnTo>
                  <a:lnTo>
                    <a:pt x="1338" y="414"/>
                  </a:lnTo>
                  <a:lnTo>
                    <a:pt x="1334" y="412"/>
                  </a:lnTo>
                  <a:lnTo>
                    <a:pt x="1334" y="412"/>
                  </a:lnTo>
                  <a:lnTo>
                    <a:pt x="1332" y="412"/>
                  </a:lnTo>
                  <a:lnTo>
                    <a:pt x="1328" y="412"/>
                  </a:lnTo>
                  <a:lnTo>
                    <a:pt x="1328" y="412"/>
                  </a:lnTo>
                  <a:lnTo>
                    <a:pt x="1326" y="414"/>
                  </a:lnTo>
                  <a:lnTo>
                    <a:pt x="1324" y="416"/>
                  </a:lnTo>
                  <a:lnTo>
                    <a:pt x="1324" y="416"/>
                  </a:lnTo>
                  <a:lnTo>
                    <a:pt x="1324" y="420"/>
                  </a:lnTo>
                  <a:lnTo>
                    <a:pt x="1324" y="422"/>
                  </a:lnTo>
                  <a:lnTo>
                    <a:pt x="1324" y="422"/>
                  </a:lnTo>
                  <a:lnTo>
                    <a:pt x="1326" y="424"/>
                  </a:lnTo>
                  <a:lnTo>
                    <a:pt x="1328" y="426"/>
                  </a:lnTo>
                  <a:lnTo>
                    <a:pt x="1328" y="426"/>
                  </a:lnTo>
                  <a:lnTo>
                    <a:pt x="1330" y="428"/>
                  </a:lnTo>
                  <a:lnTo>
                    <a:pt x="1334" y="428"/>
                  </a:lnTo>
                  <a:lnTo>
                    <a:pt x="1334" y="428"/>
                  </a:lnTo>
                  <a:lnTo>
                    <a:pt x="1336" y="426"/>
                  </a:lnTo>
                  <a:lnTo>
                    <a:pt x="1338" y="424"/>
                  </a:lnTo>
                  <a:lnTo>
                    <a:pt x="1338" y="424"/>
                  </a:lnTo>
                  <a:close/>
                  <a:moveTo>
                    <a:pt x="1360" y="432"/>
                  </a:moveTo>
                  <a:lnTo>
                    <a:pt x="1360" y="432"/>
                  </a:lnTo>
                  <a:lnTo>
                    <a:pt x="1360" y="430"/>
                  </a:lnTo>
                  <a:lnTo>
                    <a:pt x="1360" y="426"/>
                  </a:lnTo>
                  <a:lnTo>
                    <a:pt x="1360" y="426"/>
                  </a:lnTo>
                  <a:lnTo>
                    <a:pt x="1358" y="424"/>
                  </a:lnTo>
                  <a:lnTo>
                    <a:pt x="1356" y="422"/>
                  </a:lnTo>
                  <a:lnTo>
                    <a:pt x="1356" y="422"/>
                  </a:lnTo>
                  <a:lnTo>
                    <a:pt x="1352" y="422"/>
                  </a:lnTo>
                  <a:lnTo>
                    <a:pt x="1350" y="422"/>
                  </a:lnTo>
                  <a:lnTo>
                    <a:pt x="1350" y="422"/>
                  </a:lnTo>
                  <a:lnTo>
                    <a:pt x="1346" y="424"/>
                  </a:lnTo>
                  <a:lnTo>
                    <a:pt x="1344" y="426"/>
                  </a:lnTo>
                  <a:lnTo>
                    <a:pt x="1344" y="426"/>
                  </a:lnTo>
                  <a:lnTo>
                    <a:pt x="1344" y="430"/>
                  </a:lnTo>
                  <a:lnTo>
                    <a:pt x="1344" y="432"/>
                  </a:lnTo>
                  <a:lnTo>
                    <a:pt x="1344" y="432"/>
                  </a:lnTo>
                  <a:lnTo>
                    <a:pt x="1346" y="436"/>
                  </a:lnTo>
                  <a:lnTo>
                    <a:pt x="1348" y="436"/>
                  </a:lnTo>
                  <a:lnTo>
                    <a:pt x="1348" y="436"/>
                  </a:lnTo>
                  <a:lnTo>
                    <a:pt x="1352" y="438"/>
                  </a:lnTo>
                  <a:lnTo>
                    <a:pt x="1356" y="436"/>
                  </a:lnTo>
                  <a:lnTo>
                    <a:pt x="1356" y="436"/>
                  </a:lnTo>
                  <a:lnTo>
                    <a:pt x="1358" y="436"/>
                  </a:lnTo>
                  <a:lnTo>
                    <a:pt x="1360" y="432"/>
                  </a:lnTo>
                  <a:lnTo>
                    <a:pt x="1360" y="432"/>
                  </a:lnTo>
                  <a:close/>
                  <a:moveTo>
                    <a:pt x="1382" y="440"/>
                  </a:moveTo>
                  <a:lnTo>
                    <a:pt x="1382" y="440"/>
                  </a:lnTo>
                  <a:lnTo>
                    <a:pt x="1382" y="438"/>
                  </a:lnTo>
                  <a:lnTo>
                    <a:pt x="1380" y="434"/>
                  </a:lnTo>
                  <a:lnTo>
                    <a:pt x="1380" y="434"/>
                  </a:lnTo>
                  <a:lnTo>
                    <a:pt x="1378" y="432"/>
                  </a:lnTo>
                  <a:lnTo>
                    <a:pt x="1376" y="430"/>
                  </a:lnTo>
                  <a:lnTo>
                    <a:pt x="1376" y="430"/>
                  </a:lnTo>
                  <a:lnTo>
                    <a:pt x="1374" y="430"/>
                  </a:lnTo>
                  <a:lnTo>
                    <a:pt x="1370" y="430"/>
                  </a:lnTo>
                  <a:lnTo>
                    <a:pt x="1370" y="430"/>
                  </a:lnTo>
                  <a:lnTo>
                    <a:pt x="1368" y="432"/>
                  </a:lnTo>
                  <a:lnTo>
                    <a:pt x="1366" y="436"/>
                  </a:lnTo>
                  <a:lnTo>
                    <a:pt x="1366" y="436"/>
                  </a:lnTo>
                  <a:lnTo>
                    <a:pt x="1366" y="438"/>
                  </a:lnTo>
                  <a:lnTo>
                    <a:pt x="1366" y="442"/>
                  </a:lnTo>
                  <a:lnTo>
                    <a:pt x="1366" y="442"/>
                  </a:lnTo>
                  <a:lnTo>
                    <a:pt x="1368" y="444"/>
                  </a:lnTo>
                  <a:lnTo>
                    <a:pt x="1372" y="446"/>
                  </a:lnTo>
                  <a:lnTo>
                    <a:pt x="1372" y="446"/>
                  </a:lnTo>
                  <a:lnTo>
                    <a:pt x="1374" y="446"/>
                  </a:lnTo>
                  <a:lnTo>
                    <a:pt x="1378" y="444"/>
                  </a:lnTo>
                  <a:lnTo>
                    <a:pt x="1378" y="444"/>
                  </a:lnTo>
                  <a:lnTo>
                    <a:pt x="1380" y="442"/>
                  </a:lnTo>
                  <a:lnTo>
                    <a:pt x="1382" y="440"/>
                  </a:lnTo>
                  <a:lnTo>
                    <a:pt x="1382" y="440"/>
                  </a:lnTo>
                  <a:close/>
                  <a:moveTo>
                    <a:pt x="1404" y="446"/>
                  </a:moveTo>
                  <a:lnTo>
                    <a:pt x="1404" y="446"/>
                  </a:lnTo>
                  <a:lnTo>
                    <a:pt x="1404" y="444"/>
                  </a:lnTo>
                  <a:lnTo>
                    <a:pt x="1402" y="440"/>
                  </a:lnTo>
                  <a:lnTo>
                    <a:pt x="1402" y="440"/>
                  </a:lnTo>
                  <a:lnTo>
                    <a:pt x="1400" y="438"/>
                  </a:lnTo>
                  <a:lnTo>
                    <a:pt x="1398" y="436"/>
                  </a:lnTo>
                  <a:lnTo>
                    <a:pt x="1398" y="436"/>
                  </a:lnTo>
                  <a:lnTo>
                    <a:pt x="1394" y="436"/>
                  </a:lnTo>
                  <a:lnTo>
                    <a:pt x="1392" y="438"/>
                  </a:lnTo>
                  <a:lnTo>
                    <a:pt x="1392" y="438"/>
                  </a:lnTo>
                  <a:lnTo>
                    <a:pt x="1390" y="440"/>
                  </a:lnTo>
                  <a:lnTo>
                    <a:pt x="1388" y="442"/>
                  </a:lnTo>
                  <a:lnTo>
                    <a:pt x="1388" y="442"/>
                  </a:lnTo>
                  <a:lnTo>
                    <a:pt x="1388" y="446"/>
                  </a:lnTo>
                  <a:lnTo>
                    <a:pt x="1388" y="448"/>
                  </a:lnTo>
                  <a:lnTo>
                    <a:pt x="1388" y="448"/>
                  </a:lnTo>
                  <a:lnTo>
                    <a:pt x="1390" y="450"/>
                  </a:lnTo>
                  <a:lnTo>
                    <a:pt x="1394" y="452"/>
                  </a:lnTo>
                  <a:lnTo>
                    <a:pt x="1394" y="452"/>
                  </a:lnTo>
                  <a:lnTo>
                    <a:pt x="1396" y="452"/>
                  </a:lnTo>
                  <a:lnTo>
                    <a:pt x="1400" y="452"/>
                  </a:lnTo>
                  <a:lnTo>
                    <a:pt x="1400" y="452"/>
                  </a:lnTo>
                  <a:lnTo>
                    <a:pt x="1402" y="450"/>
                  </a:lnTo>
                  <a:lnTo>
                    <a:pt x="1404" y="446"/>
                  </a:lnTo>
                  <a:lnTo>
                    <a:pt x="1404" y="446"/>
                  </a:lnTo>
                  <a:close/>
                  <a:moveTo>
                    <a:pt x="1426" y="452"/>
                  </a:moveTo>
                  <a:lnTo>
                    <a:pt x="1426" y="452"/>
                  </a:lnTo>
                  <a:lnTo>
                    <a:pt x="1426" y="448"/>
                  </a:lnTo>
                  <a:lnTo>
                    <a:pt x="1424" y="446"/>
                  </a:lnTo>
                  <a:lnTo>
                    <a:pt x="1424" y="446"/>
                  </a:lnTo>
                  <a:lnTo>
                    <a:pt x="1422" y="444"/>
                  </a:lnTo>
                  <a:lnTo>
                    <a:pt x="1420" y="442"/>
                  </a:lnTo>
                  <a:lnTo>
                    <a:pt x="1420" y="442"/>
                  </a:lnTo>
                  <a:lnTo>
                    <a:pt x="1416" y="442"/>
                  </a:lnTo>
                  <a:lnTo>
                    <a:pt x="1414" y="444"/>
                  </a:lnTo>
                  <a:lnTo>
                    <a:pt x="1414" y="444"/>
                  </a:lnTo>
                  <a:lnTo>
                    <a:pt x="1412" y="446"/>
                  </a:lnTo>
                  <a:lnTo>
                    <a:pt x="1410" y="448"/>
                  </a:lnTo>
                  <a:lnTo>
                    <a:pt x="1410" y="448"/>
                  </a:lnTo>
                  <a:lnTo>
                    <a:pt x="1410" y="452"/>
                  </a:lnTo>
                  <a:lnTo>
                    <a:pt x="1412" y="454"/>
                  </a:lnTo>
                  <a:lnTo>
                    <a:pt x="1412" y="454"/>
                  </a:lnTo>
                  <a:lnTo>
                    <a:pt x="1414" y="456"/>
                  </a:lnTo>
                  <a:lnTo>
                    <a:pt x="1416" y="458"/>
                  </a:lnTo>
                  <a:lnTo>
                    <a:pt x="1416" y="458"/>
                  </a:lnTo>
                  <a:lnTo>
                    <a:pt x="1420" y="458"/>
                  </a:lnTo>
                  <a:lnTo>
                    <a:pt x="1422" y="456"/>
                  </a:lnTo>
                  <a:lnTo>
                    <a:pt x="1422" y="456"/>
                  </a:lnTo>
                  <a:lnTo>
                    <a:pt x="1424" y="454"/>
                  </a:lnTo>
                  <a:lnTo>
                    <a:pt x="1426" y="452"/>
                  </a:lnTo>
                  <a:lnTo>
                    <a:pt x="1426" y="452"/>
                  </a:lnTo>
                  <a:close/>
                  <a:moveTo>
                    <a:pt x="1448" y="456"/>
                  </a:moveTo>
                  <a:lnTo>
                    <a:pt x="1448" y="456"/>
                  </a:lnTo>
                  <a:lnTo>
                    <a:pt x="1448" y="452"/>
                  </a:lnTo>
                  <a:lnTo>
                    <a:pt x="1446" y="450"/>
                  </a:lnTo>
                  <a:lnTo>
                    <a:pt x="1446" y="450"/>
                  </a:lnTo>
                  <a:lnTo>
                    <a:pt x="1444" y="448"/>
                  </a:lnTo>
                  <a:lnTo>
                    <a:pt x="1442" y="446"/>
                  </a:lnTo>
                  <a:lnTo>
                    <a:pt x="1442" y="446"/>
                  </a:lnTo>
                  <a:lnTo>
                    <a:pt x="1438" y="446"/>
                  </a:lnTo>
                  <a:lnTo>
                    <a:pt x="1436" y="448"/>
                  </a:lnTo>
                  <a:lnTo>
                    <a:pt x="1436" y="448"/>
                  </a:lnTo>
                  <a:lnTo>
                    <a:pt x="1434" y="450"/>
                  </a:lnTo>
                  <a:lnTo>
                    <a:pt x="1432" y="454"/>
                  </a:lnTo>
                  <a:lnTo>
                    <a:pt x="1432" y="454"/>
                  </a:lnTo>
                  <a:lnTo>
                    <a:pt x="1432" y="456"/>
                  </a:lnTo>
                  <a:lnTo>
                    <a:pt x="1434" y="460"/>
                  </a:lnTo>
                  <a:lnTo>
                    <a:pt x="1434" y="460"/>
                  </a:lnTo>
                  <a:lnTo>
                    <a:pt x="1436" y="462"/>
                  </a:lnTo>
                  <a:lnTo>
                    <a:pt x="1440" y="462"/>
                  </a:lnTo>
                  <a:lnTo>
                    <a:pt x="1440" y="462"/>
                  </a:lnTo>
                  <a:lnTo>
                    <a:pt x="1442" y="462"/>
                  </a:lnTo>
                  <a:lnTo>
                    <a:pt x="1446" y="460"/>
                  </a:lnTo>
                  <a:lnTo>
                    <a:pt x="1446" y="460"/>
                  </a:lnTo>
                  <a:lnTo>
                    <a:pt x="1448" y="458"/>
                  </a:lnTo>
                  <a:lnTo>
                    <a:pt x="1448" y="456"/>
                  </a:lnTo>
                  <a:lnTo>
                    <a:pt x="1448" y="456"/>
                  </a:lnTo>
                  <a:close/>
                  <a:moveTo>
                    <a:pt x="1472" y="458"/>
                  </a:moveTo>
                  <a:lnTo>
                    <a:pt x="1472" y="458"/>
                  </a:lnTo>
                  <a:lnTo>
                    <a:pt x="1470" y="456"/>
                  </a:lnTo>
                  <a:lnTo>
                    <a:pt x="1470" y="452"/>
                  </a:lnTo>
                  <a:lnTo>
                    <a:pt x="1470" y="452"/>
                  </a:lnTo>
                  <a:lnTo>
                    <a:pt x="1468" y="450"/>
                  </a:lnTo>
                  <a:lnTo>
                    <a:pt x="1464" y="450"/>
                  </a:lnTo>
                  <a:lnTo>
                    <a:pt x="1464" y="450"/>
                  </a:lnTo>
                  <a:lnTo>
                    <a:pt x="1462" y="450"/>
                  </a:lnTo>
                  <a:lnTo>
                    <a:pt x="1458" y="452"/>
                  </a:lnTo>
                  <a:lnTo>
                    <a:pt x="1458" y="452"/>
                  </a:lnTo>
                  <a:lnTo>
                    <a:pt x="1456" y="454"/>
                  </a:lnTo>
                  <a:lnTo>
                    <a:pt x="1456" y="456"/>
                  </a:lnTo>
                  <a:lnTo>
                    <a:pt x="1456" y="456"/>
                  </a:lnTo>
                  <a:lnTo>
                    <a:pt x="1456" y="460"/>
                  </a:lnTo>
                  <a:lnTo>
                    <a:pt x="1458" y="462"/>
                  </a:lnTo>
                  <a:lnTo>
                    <a:pt x="1458" y="462"/>
                  </a:lnTo>
                  <a:lnTo>
                    <a:pt x="1460" y="464"/>
                  </a:lnTo>
                  <a:lnTo>
                    <a:pt x="1462" y="466"/>
                  </a:lnTo>
                  <a:lnTo>
                    <a:pt x="1462" y="466"/>
                  </a:lnTo>
                  <a:lnTo>
                    <a:pt x="1466" y="466"/>
                  </a:lnTo>
                  <a:lnTo>
                    <a:pt x="1468" y="464"/>
                  </a:lnTo>
                  <a:lnTo>
                    <a:pt x="1468" y="464"/>
                  </a:lnTo>
                  <a:lnTo>
                    <a:pt x="1470" y="462"/>
                  </a:lnTo>
                  <a:lnTo>
                    <a:pt x="1472" y="458"/>
                  </a:lnTo>
                  <a:lnTo>
                    <a:pt x="1472" y="458"/>
                  </a:lnTo>
                  <a:close/>
                  <a:moveTo>
                    <a:pt x="1494" y="460"/>
                  </a:moveTo>
                  <a:lnTo>
                    <a:pt x="1494" y="460"/>
                  </a:lnTo>
                  <a:lnTo>
                    <a:pt x="1494" y="456"/>
                  </a:lnTo>
                  <a:lnTo>
                    <a:pt x="1492" y="454"/>
                  </a:lnTo>
                  <a:lnTo>
                    <a:pt x="1492" y="454"/>
                  </a:lnTo>
                  <a:lnTo>
                    <a:pt x="1490" y="452"/>
                  </a:lnTo>
                  <a:lnTo>
                    <a:pt x="1486" y="452"/>
                  </a:lnTo>
                  <a:lnTo>
                    <a:pt x="1486" y="452"/>
                  </a:lnTo>
                  <a:lnTo>
                    <a:pt x="1484" y="452"/>
                  </a:lnTo>
                  <a:lnTo>
                    <a:pt x="1480" y="454"/>
                  </a:lnTo>
                  <a:lnTo>
                    <a:pt x="1480" y="454"/>
                  </a:lnTo>
                  <a:lnTo>
                    <a:pt x="1480" y="456"/>
                  </a:lnTo>
                  <a:lnTo>
                    <a:pt x="1478" y="460"/>
                  </a:lnTo>
                  <a:lnTo>
                    <a:pt x="1478" y="460"/>
                  </a:lnTo>
                  <a:lnTo>
                    <a:pt x="1478" y="462"/>
                  </a:lnTo>
                  <a:lnTo>
                    <a:pt x="1480" y="464"/>
                  </a:lnTo>
                  <a:lnTo>
                    <a:pt x="1480" y="464"/>
                  </a:lnTo>
                  <a:lnTo>
                    <a:pt x="1484" y="466"/>
                  </a:lnTo>
                  <a:lnTo>
                    <a:pt x="1486" y="468"/>
                  </a:lnTo>
                  <a:lnTo>
                    <a:pt x="1486" y="468"/>
                  </a:lnTo>
                  <a:lnTo>
                    <a:pt x="1490" y="466"/>
                  </a:lnTo>
                  <a:lnTo>
                    <a:pt x="1492" y="466"/>
                  </a:lnTo>
                  <a:lnTo>
                    <a:pt x="1492" y="466"/>
                  </a:lnTo>
                  <a:lnTo>
                    <a:pt x="1494" y="462"/>
                  </a:lnTo>
                  <a:lnTo>
                    <a:pt x="1494" y="460"/>
                  </a:lnTo>
                  <a:lnTo>
                    <a:pt x="1494" y="460"/>
                  </a:lnTo>
                  <a:close/>
                  <a:moveTo>
                    <a:pt x="1518" y="458"/>
                  </a:moveTo>
                  <a:lnTo>
                    <a:pt x="1518" y="458"/>
                  </a:lnTo>
                  <a:lnTo>
                    <a:pt x="1516" y="456"/>
                  </a:lnTo>
                  <a:lnTo>
                    <a:pt x="1514" y="454"/>
                  </a:lnTo>
                  <a:lnTo>
                    <a:pt x="1514" y="454"/>
                  </a:lnTo>
                  <a:lnTo>
                    <a:pt x="1512" y="452"/>
                  </a:lnTo>
                  <a:lnTo>
                    <a:pt x="1510" y="452"/>
                  </a:lnTo>
                  <a:lnTo>
                    <a:pt x="1510" y="452"/>
                  </a:lnTo>
                  <a:lnTo>
                    <a:pt x="1506" y="452"/>
                  </a:lnTo>
                  <a:lnTo>
                    <a:pt x="1504" y="454"/>
                  </a:lnTo>
                  <a:lnTo>
                    <a:pt x="1504" y="454"/>
                  </a:lnTo>
                  <a:lnTo>
                    <a:pt x="1502" y="456"/>
                  </a:lnTo>
                  <a:lnTo>
                    <a:pt x="1502" y="460"/>
                  </a:lnTo>
                  <a:lnTo>
                    <a:pt x="1502" y="460"/>
                  </a:lnTo>
                  <a:lnTo>
                    <a:pt x="1502" y="462"/>
                  </a:lnTo>
                  <a:lnTo>
                    <a:pt x="1504" y="464"/>
                  </a:lnTo>
                  <a:lnTo>
                    <a:pt x="1504" y="464"/>
                  </a:lnTo>
                  <a:lnTo>
                    <a:pt x="1506" y="466"/>
                  </a:lnTo>
                  <a:lnTo>
                    <a:pt x="1510" y="466"/>
                  </a:lnTo>
                  <a:lnTo>
                    <a:pt x="1510" y="466"/>
                  </a:lnTo>
                  <a:lnTo>
                    <a:pt x="1512" y="466"/>
                  </a:lnTo>
                  <a:lnTo>
                    <a:pt x="1516" y="464"/>
                  </a:lnTo>
                  <a:lnTo>
                    <a:pt x="1516" y="464"/>
                  </a:lnTo>
                  <a:lnTo>
                    <a:pt x="1516" y="462"/>
                  </a:lnTo>
                  <a:lnTo>
                    <a:pt x="1518" y="458"/>
                  </a:lnTo>
                  <a:lnTo>
                    <a:pt x="1518" y="458"/>
                  </a:lnTo>
                  <a:close/>
                  <a:moveTo>
                    <a:pt x="1540" y="456"/>
                  </a:moveTo>
                  <a:lnTo>
                    <a:pt x="1540" y="456"/>
                  </a:lnTo>
                  <a:lnTo>
                    <a:pt x="1540" y="452"/>
                  </a:lnTo>
                  <a:lnTo>
                    <a:pt x="1538" y="450"/>
                  </a:lnTo>
                  <a:lnTo>
                    <a:pt x="1538" y="450"/>
                  </a:lnTo>
                  <a:lnTo>
                    <a:pt x="1534" y="448"/>
                  </a:lnTo>
                  <a:lnTo>
                    <a:pt x="1532" y="448"/>
                  </a:lnTo>
                  <a:lnTo>
                    <a:pt x="1532" y="448"/>
                  </a:lnTo>
                  <a:lnTo>
                    <a:pt x="1528" y="450"/>
                  </a:lnTo>
                  <a:lnTo>
                    <a:pt x="1526" y="452"/>
                  </a:lnTo>
                  <a:lnTo>
                    <a:pt x="1526" y="452"/>
                  </a:lnTo>
                  <a:lnTo>
                    <a:pt x="1524" y="454"/>
                  </a:lnTo>
                  <a:lnTo>
                    <a:pt x="1524" y="458"/>
                  </a:lnTo>
                  <a:lnTo>
                    <a:pt x="1524" y="458"/>
                  </a:lnTo>
                  <a:lnTo>
                    <a:pt x="1526" y="460"/>
                  </a:lnTo>
                  <a:lnTo>
                    <a:pt x="1528" y="464"/>
                  </a:lnTo>
                  <a:lnTo>
                    <a:pt x="1528" y="464"/>
                  </a:lnTo>
                  <a:lnTo>
                    <a:pt x="1530" y="464"/>
                  </a:lnTo>
                  <a:lnTo>
                    <a:pt x="1534" y="464"/>
                  </a:lnTo>
                  <a:lnTo>
                    <a:pt x="1534" y="464"/>
                  </a:lnTo>
                  <a:lnTo>
                    <a:pt x="1536" y="464"/>
                  </a:lnTo>
                  <a:lnTo>
                    <a:pt x="1538" y="462"/>
                  </a:lnTo>
                  <a:lnTo>
                    <a:pt x="1538" y="462"/>
                  </a:lnTo>
                  <a:lnTo>
                    <a:pt x="1540" y="458"/>
                  </a:lnTo>
                  <a:lnTo>
                    <a:pt x="1540" y="456"/>
                  </a:lnTo>
                  <a:lnTo>
                    <a:pt x="1540" y="456"/>
                  </a:lnTo>
                  <a:close/>
                  <a:moveTo>
                    <a:pt x="1562" y="450"/>
                  </a:moveTo>
                  <a:lnTo>
                    <a:pt x="1562" y="450"/>
                  </a:lnTo>
                  <a:lnTo>
                    <a:pt x="1562" y="446"/>
                  </a:lnTo>
                  <a:lnTo>
                    <a:pt x="1558" y="444"/>
                  </a:lnTo>
                  <a:lnTo>
                    <a:pt x="1558" y="444"/>
                  </a:lnTo>
                  <a:lnTo>
                    <a:pt x="1556" y="444"/>
                  </a:lnTo>
                  <a:lnTo>
                    <a:pt x="1552" y="444"/>
                  </a:lnTo>
                  <a:lnTo>
                    <a:pt x="1552" y="444"/>
                  </a:lnTo>
                  <a:lnTo>
                    <a:pt x="1550" y="446"/>
                  </a:lnTo>
                  <a:lnTo>
                    <a:pt x="1548" y="448"/>
                  </a:lnTo>
                  <a:lnTo>
                    <a:pt x="1548" y="448"/>
                  </a:lnTo>
                  <a:lnTo>
                    <a:pt x="1548" y="450"/>
                  </a:lnTo>
                  <a:lnTo>
                    <a:pt x="1548" y="454"/>
                  </a:lnTo>
                  <a:lnTo>
                    <a:pt x="1548" y="454"/>
                  </a:lnTo>
                  <a:lnTo>
                    <a:pt x="1548" y="456"/>
                  </a:lnTo>
                  <a:lnTo>
                    <a:pt x="1552" y="458"/>
                  </a:lnTo>
                  <a:lnTo>
                    <a:pt x="1552" y="458"/>
                  </a:lnTo>
                  <a:lnTo>
                    <a:pt x="1554" y="460"/>
                  </a:lnTo>
                  <a:lnTo>
                    <a:pt x="1558" y="458"/>
                  </a:lnTo>
                  <a:lnTo>
                    <a:pt x="1558" y="458"/>
                  </a:lnTo>
                  <a:lnTo>
                    <a:pt x="1560" y="458"/>
                  </a:lnTo>
                  <a:lnTo>
                    <a:pt x="1562" y="456"/>
                  </a:lnTo>
                  <a:lnTo>
                    <a:pt x="1562" y="456"/>
                  </a:lnTo>
                  <a:lnTo>
                    <a:pt x="1562" y="452"/>
                  </a:lnTo>
                  <a:lnTo>
                    <a:pt x="1562" y="450"/>
                  </a:lnTo>
                  <a:lnTo>
                    <a:pt x="1562" y="450"/>
                  </a:lnTo>
                  <a:close/>
                  <a:moveTo>
                    <a:pt x="1584" y="440"/>
                  </a:moveTo>
                  <a:lnTo>
                    <a:pt x="1584" y="440"/>
                  </a:lnTo>
                  <a:lnTo>
                    <a:pt x="1582" y="436"/>
                  </a:lnTo>
                  <a:lnTo>
                    <a:pt x="1580" y="436"/>
                  </a:lnTo>
                  <a:lnTo>
                    <a:pt x="1580" y="436"/>
                  </a:lnTo>
                  <a:lnTo>
                    <a:pt x="1576" y="436"/>
                  </a:lnTo>
                  <a:lnTo>
                    <a:pt x="1574" y="436"/>
                  </a:lnTo>
                  <a:lnTo>
                    <a:pt x="1574" y="436"/>
                  </a:lnTo>
                  <a:lnTo>
                    <a:pt x="1570" y="438"/>
                  </a:lnTo>
                  <a:lnTo>
                    <a:pt x="1570" y="440"/>
                  </a:lnTo>
                  <a:lnTo>
                    <a:pt x="1570" y="440"/>
                  </a:lnTo>
                  <a:lnTo>
                    <a:pt x="1568" y="444"/>
                  </a:lnTo>
                  <a:lnTo>
                    <a:pt x="1570" y="446"/>
                  </a:lnTo>
                  <a:lnTo>
                    <a:pt x="1570" y="446"/>
                  </a:lnTo>
                  <a:lnTo>
                    <a:pt x="1572" y="448"/>
                  </a:lnTo>
                  <a:lnTo>
                    <a:pt x="1574" y="450"/>
                  </a:lnTo>
                  <a:lnTo>
                    <a:pt x="1574" y="450"/>
                  </a:lnTo>
                  <a:lnTo>
                    <a:pt x="1578" y="450"/>
                  </a:lnTo>
                  <a:lnTo>
                    <a:pt x="1580" y="450"/>
                  </a:lnTo>
                  <a:lnTo>
                    <a:pt x="1580" y="450"/>
                  </a:lnTo>
                  <a:lnTo>
                    <a:pt x="1582" y="448"/>
                  </a:lnTo>
                  <a:lnTo>
                    <a:pt x="1584" y="446"/>
                  </a:lnTo>
                  <a:lnTo>
                    <a:pt x="1584" y="446"/>
                  </a:lnTo>
                  <a:lnTo>
                    <a:pt x="1584" y="442"/>
                  </a:lnTo>
                  <a:lnTo>
                    <a:pt x="1584" y="440"/>
                  </a:lnTo>
                  <a:lnTo>
                    <a:pt x="1584" y="440"/>
                  </a:lnTo>
                  <a:close/>
                  <a:moveTo>
                    <a:pt x="1602" y="426"/>
                  </a:moveTo>
                  <a:lnTo>
                    <a:pt x="1602" y="426"/>
                  </a:lnTo>
                  <a:lnTo>
                    <a:pt x="1600" y="424"/>
                  </a:lnTo>
                  <a:lnTo>
                    <a:pt x="1598" y="424"/>
                  </a:lnTo>
                  <a:lnTo>
                    <a:pt x="1598" y="424"/>
                  </a:lnTo>
                  <a:lnTo>
                    <a:pt x="1594" y="424"/>
                  </a:lnTo>
                  <a:lnTo>
                    <a:pt x="1592" y="424"/>
                  </a:lnTo>
                  <a:lnTo>
                    <a:pt x="1592" y="424"/>
                  </a:lnTo>
                  <a:lnTo>
                    <a:pt x="1590" y="426"/>
                  </a:lnTo>
                  <a:lnTo>
                    <a:pt x="1588" y="430"/>
                  </a:lnTo>
                  <a:lnTo>
                    <a:pt x="1588" y="430"/>
                  </a:lnTo>
                  <a:lnTo>
                    <a:pt x="1588" y="432"/>
                  </a:lnTo>
                  <a:lnTo>
                    <a:pt x="1590" y="436"/>
                  </a:lnTo>
                  <a:lnTo>
                    <a:pt x="1590" y="436"/>
                  </a:lnTo>
                  <a:lnTo>
                    <a:pt x="1592" y="438"/>
                  </a:lnTo>
                  <a:lnTo>
                    <a:pt x="1596" y="438"/>
                  </a:lnTo>
                  <a:lnTo>
                    <a:pt x="1596" y="438"/>
                  </a:lnTo>
                  <a:lnTo>
                    <a:pt x="1598" y="438"/>
                  </a:lnTo>
                  <a:lnTo>
                    <a:pt x="1602" y="438"/>
                  </a:lnTo>
                  <a:lnTo>
                    <a:pt x="1602" y="438"/>
                  </a:lnTo>
                  <a:lnTo>
                    <a:pt x="1604" y="434"/>
                  </a:lnTo>
                  <a:lnTo>
                    <a:pt x="1604" y="432"/>
                  </a:lnTo>
                  <a:lnTo>
                    <a:pt x="1604" y="432"/>
                  </a:lnTo>
                  <a:lnTo>
                    <a:pt x="1604" y="428"/>
                  </a:lnTo>
                  <a:lnTo>
                    <a:pt x="1602" y="426"/>
                  </a:lnTo>
                  <a:lnTo>
                    <a:pt x="1602" y="426"/>
                  </a:lnTo>
                  <a:close/>
                  <a:moveTo>
                    <a:pt x="1618" y="410"/>
                  </a:moveTo>
                  <a:lnTo>
                    <a:pt x="1618" y="410"/>
                  </a:lnTo>
                  <a:lnTo>
                    <a:pt x="1616" y="408"/>
                  </a:lnTo>
                  <a:lnTo>
                    <a:pt x="1614" y="408"/>
                  </a:lnTo>
                  <a:lnTo>
                    <a:pt x="1614" y="408"/>
                  </a:lnTo>
                  <a:lnTo>
                    <a:pt x="1610" y="408"/>
                  </a:lnTo>
                  <a:lnTo>
                    <a:pt x="1608" y="410"/>
                  </a:lnTo>
                  <a:lnTo>
                    <a:pt x="1608" y="410"/>
                  </a:lnTo>
                  <a:lnTo>
                    <a:pt x="1606" y="412"/>
                  </a:lnTo>
                  <a:lnTo>
                    <a:pt x="1606" y="416"/>
                  </a:lnTo>
                  <a:lnTo>
                    <a:pt x="1606" y="416"/>
                  </a:lnTo>
                  <a:lnTo>
                    <a:pt x="1606" y="418"/>
                  </a:lnTo>
                  <a:lnTo>
                    <a:pt x="1608" y="422"/>
                  </a:lnTo>
                  <a:lnTo>
                    <a:pt x="1608" y="422"/>
                  </a:lnTo>
                  <a:lnTo>
                    <a:pt x="1610" y="422"/>
                  </a:lnTo>
                  <a:lnTo>
                    <a:pt x="1614" y="424"/>
                  </a:lnTo>
                  <a:lnTo>
                    <a:pt x="1614" y="424"/>
                  </a:lnTo>
                  <a:lnTo>
                    <a:pt x="1616" y="422"/>
                  </a:lnTo>
                  <a:lnTo>
                    <a:pt x="1620" y="420"/>
                  </a:lnTo>
                  <a:lnTo>
                    <a:pt x="1620" y="420"/>
                  </a:lnTo>
                  <a:lnTo>
                    <a:pt x="1620" y="418"/>
                  </a:lnTo>
                  <a:lnTo>
                    <a:pt x="1622" y="414"/>
                  </a:lnTo>
                  <a:lnTo>
                    <a:pt x="1622" y="414"/>
                  </a:lnTo>
                  <a:lnTo>
                    <a:pt x="1620" y="412"/>
                  </a:lnTo>
                  <a:lnTo>
                    <a:pt x="1618" y="410"/>
                  </a:lnTo>
                  <a:lnTo>
                    <a:pt x="1618" y="410"/>
                  </a:lnTo>
                  <a:close/>
                  <a:moveTo>
                    <a:pt x="1632" y="390"/>
                  </a:moveTo>
                  <a:lnTo>
                    <a:pt x="1632" y="390"/>
                  </a:lnTo>
                  <a:lnTo>
                    <a:pt x="1628" y="388"/>
                  </a:lnTo>
                  <a:lnTo>
                    <a:pt x="1626" y="390"/>
                  </a:lnTo>
                  <a:lnTo>
                    <a:pt x="1626" y="390"/>
                  </a:lnTo>
                  <a:lnTo>
                    <a:pt x="1622" y="390"/>
                  </a:lnTo>
                  <a:lnTo>
                    <a:pt x="1620" y="392"/>
                  </a:lnTo>
                  <a:lnTo>
                    <a:pt x="1620" y="392"/>
                  </a:lnTo>
                  <a:lnTo>
                    <a:pt x="1620" y="396"/>
                  </a:lnTo>
                  <a:lnTo>
                    <a:pt x="1620" y="398"/>
                  </a:lnTo>
                  <a:lnTo>
                    <a:pt x="1620" y="398"/>
                  </a:lnTo>
                  <a:lnTo>
                    <a:pt x="1620" y="402"/>
                  </a:lnTo>
                  <a:lnTo>
                    <a:pt x="1624" y="404"/>
                  </a:lnTo>
                  <a:lnTo>
                    <a:pt x="1624" y="404"/>
                  </a:lnTo>
                  <a:lnTo>
                    <a:pt x="1626" y="404"/>
                  </a:lnTo>
                  <a:lnTo>
                    <a:pt x="1630" y="404"/>
                  </a:lnTo>
                  <a:lnTo>
                    <a:pt x="1630" y="404"/>
                  </a:lnTo>
                  <a:lnTo>
                    <a:pt x="1632" y="404"/>
                  </a:lnTo>
                  <a:lnTo>
                    <a:pt x="1634" y="400"/>
                  </a:lnTo>
                  <a:lnTo>
                    <a:pt x="1634" y="400"/>
                  </a:lnTo>
                  <a:lnTo>
                    <a:pt x="1636" y="398"/>
                  </a:lnTo>
                  <a:lnTo>
                    <a:pt x="1634" y="394"/>
                  </a:lnTo>
                  <a:lnTo>
                    <a:pt x="1634" y="394"/>
                  </a:lnTo>
                  <a:lnTo>
                    <a:pt x="1634" y="392"/>
                  </a:lnTo>
                  <a:lnTo>
                    <a:pt x="1632" y="390"/>
                  </a:lnTo>
                  <a:lnTo>
                    <a:pt x="1632" y="390"/>
                  </a:lnTo>
                  <a:close/>
                  <a:moveTo>
                    <a:pt x="1640" y="368"/>
                  </a:moveTo>
                  <a:lnTo>
                    <a:pt x="1640" y="368"/>
                  </a:lnTo>
                  <a:lnTo>
                    <a:pt x="1638" y="368"/>
                  </a:lnTo>
                  <a:lnTo>
                    <a:pt x="1634" y="368"/>
                  </a:lnTo>
                  <a:lnTo>
                    <a:pt x="1634" y="368"/>
                  </a:lnTo>
                  <a:lnTo>
                    <a:pt x="1632" y="370"/>
                  </a:lnTo>
                  <a:lnTo>
                    <a:pt x="1630" y="374"/>
                  </a:lnTo>
                  <a:lnTo>
                    <a:pt x="1630" y="374"/>
                  </a:lnTo>
                  <a:lnTo>
                    <a:pt x="1630" y="376"/>
                  </a:lnTo>
                  <a:lnTo>
                    <a:pt x="1630" y="380"/>
                  </a:lnTo>
                  <a:lnTo>
                    <a:pt x="1630" y="380"/>
                  </a:lnTo>
                  <a:lnTo>
                    <a:pt x="1632" y="382"/>
                  </a:lnTo>
                  <a:lnTo>
                    <a:pt x="1634" y="384"/>
                  </a:lnTo>
                  <a:lnTo>
                    <a:pt x="1634" y="384"/>
                  </a:lnTo>
                  <a:lnTo>
                    <a:pt x="1638" y="384"/>
                  </a:lnTo>
                  <a:lnTo>
                    <a:pt x="1640" y="384"/>
                  </a:lnTo>
                  <a:lnTo>
                    <a:pt x="1640" y="384"/>
                  </a:lnTo>
                  <a:lnTo>
                    <a:pt x="1644" y="382"/>
                  </a:lnTo>
                  <a:lnTo>
                    <a:pt x="1646" y="378"/>
                  </a:lnTo>
                  <a:lnTo>
                    <a:pt x="1646" y="378"/>
                  </a:lnTo>
                  <a:lnTo>
                    <a:pt x="1646" y="376"/>
                  </a:lnTo>
                  <a:lnTo>
                    <a:pt x="1644" y="372"/>
                  </a:lnTo>
                  <a:lnTo>
                    <a:pt x="1644" y="372"/>
                  </a:lnTo>
                  <a:lnTo>
                    <a:pt x="1644" y="370"/>
                  </a:lnTo>
                  <a:lnTo>
                    <a:pt x="1640" y="368"/>
                  </a:lnTo>
                  <a:lnTo>
                    <a:pt x="1640" y="368"/>
                  </a:lnTo>
                  <a:close/>
                  <a:moveTo>
                    <a:pt x="1646" y="346"/>
                  </a:moveTo>
                  <a:lnTo>
                    <a:pt x="1646" y="346"/>
                  </a:lnTo>
                  <a:lnTo>
                    <a:pt x="1644" y="346"/>
                  </a:lnTo>
                  <a:lnTo>
                    <a:pt x="1640" y="348"/>
                  </a:lnTo>
                  <a:lnTo>
                    <a:pt x="1640" y="348"/>
                  </a:lnTo>
                  <a:lnTo>
                    <a:pt x="1638" y="350"/>
                  </a:lnTo>
                  <a:lnTo>
                    <a:pt x="1638" y="352"/>
                  </a:lnTo>
                  <a:lnTo>
                    <a:pt x="1638" y="352"/>
                  </a:lnTo>
                  <a:lnTo>
                    <a:pt x="1636" y="356"/>
                  </a:lnTo>
                  <a:lnTo>
                    <a:pt x="1638" y="358"/>
                  </a:lnTo>
                  <a:lnTo>
                    <a:pt x="1638" y="358"/>
                  </a:lnTo>
                  <a:lnTo>
                    <a:pt x="1640" y="360"/>
                  </a:lnTo>
                  <a:lnTo>
                    <a:pt x="1642" y="362"/>
                  </a:lnTo>
                  <a:lnTo>
                    <a:pt x="1642" y="362"/>
                  </a:lnTo>
                  <a:lnTo>
                    <a:pt x="1646" y="362"/>
                  </a:lnTo>
                  <a:lnTo>
                    <a:pt x="1648" y="360"/>
                  </a:lnTo>
                  <a:lnTo>
                    <a:pt x="1648" y="360"/>
                  </a:lnTo>
                  <a:lnTo>
                    <a:pt x="1652" y="358"/>
                  </a:lnTo>
                  <a:lnTo>
                    <a:pt x="1652" y="356"/>
                  </a:lnTo>
                  <a:lnTo>
                    <a:pt x="1652" y="356"/>
                  </a:lnTo>
                  <a:lnTo>
                    <a:pt x="1652" y="352"/>
                  </a:lnTo>
                  <a:lnTo>
                    <a:pt x="1652" y="350"/>
                  </a:lnTo>
                  <a:lnTo>
                    <a:pt x="1652" y="350"/>
                  </a:lnTo>
                  <a:lnTo>
                    <a:pt x="1650" y="348"/>
                  </a:lnTo>
                  <a:lnTo>
                    <a:pt x="1646" y="346"/>
                  </a:lnTo>
                  <a:lnTo>
                    <a:pt x="1646" y="346"/>
                  </a:lnTo>
                  <a:close/>
                  <a:moveTo>
                    <a:pt x="1648" y="324"/>
                  </a:moveTo>
                  <a:lnTo>
                    <a:pt x="1648" y="324"/>
                  </a:lnTo>
                  <a:lnTo>
                    <a:pt x="1646" y="324"/>
                  </a:lnTo>
                  <a:lnTo>
                    <a:pt x="1644" y="326"/>
                  </a:lnTo>
                  <a:lnTo>
                    <a:pt x="1644" y="326"/>
                  </a:lnTo>
                  <a:lnTo>
                    <a:pt x="1642" y="328"/>
                  </a:lnTo>
                  <a:lnTo>
                    <a:pt x="1640" y="330"/>
                  </a:lnTo>
                  <a:lnTo>
                    <a:pt x="1640" y="330"/>
                  </a:lnTo>
                  <a:lnTo>
                    <a:pt x="1640" y="334"/>
                  </a:lnTo>
                  <a:lnTo>
                    <a:pt x="1642" y="336"/>
                  </a:lnTo>
                  <a:lnTo>
                    <a:pt x="1642" y="336"/>
                  </a:lnTo>
                  <a:lnTo>
                    <a:pt x="1644" y="338"/>
                  </a:lnTo>
                  <a:lnTo>
                    <a:pt x="1648" y="338"/>
                  </a:lnTo>
                  <a:lnTo>
                    <a:pt x="1648" y="338"/>
                  </a:lnTo>
                  <a:lnTo>
                    <a:pt x="1650" y="338"/>
                  </a:lnTo>
                  <a:lnTo>
                    <a:pt x="1654" y="336"/>
                  </a:lnTo>
                  <a:lnTo>
                    <a:pt x="1654" y="336"/>
                  </a:lnTo>
                  <a:lnTo>
                    <a:pt x="1656" y="334"/>
                  </a:lnTo>
                  <a:lnTo>
                    <a:pt x="1656" y="332"/>
                  </a:lnTo>
                  <a:lnTo>
                    <a:pt x="1656" y="332"/>
                  </a:lnTo>
                  <a:lnTo>
                    <a:pt x="1656" y="328"/>
                  </a:lnTo>
                  <a:lnTo>
                    <a:pt x="1654" y="326"/>
                  </a:lnTo>
                  <a:lnTo>
                    <a:pt x="1654" y="326"/>
                  </a:lnTo>
                  <a:lnTo>
                    <a:pt x="1652" y="324"/>
                  </a:lnTo>
                  <a:lnTo>
                    <a:pt x="1648" y="324"/>
                  </a:lnTo>
                  <a:lnTo>
                    <a:pt x="1648" y="324"/>
                  </a:lnTo>
                  <a:close/>
                  <a:moveTo>
                    <a:pt x="1648" y="300"/>
                  </a:moveTo>
                  <a:lnTo>
                    <a:pt x="1648" y="300"/>
                  </a:lnTo>
                  <a:lnTo>
                    <a:pt x="1644" y="300"/>
                  </a:lnTo>
                  <a:lnTo>
                    <a:pt x="1642" y="302"/>
                  </a:lnTo>
                  <a:lnTo>
                    <a:pt x="1642" y="302"/>
                  </a:lnTo>
                  <a:lnTo>
                    <a:pt x="1640" y="306"/>
                  </a:lnTo>
                  <a:lnTo>
                    <a:pt x="1640" y="308"/>
                  </a:lnTo>
                  <a:lnTo>
                    <a:pt x="1640" y="308"/>
                  </a:lnTo>
                  <a:lnTo>
                    <a:pt x="1640" y="312"/>
                  </a:lnTo>
                  <a:lnTo>
                    <a:pt x="1642" y="314"/>
                  </a:lnTo>
                  <a:lnTo>
                    <a:pt x="1642" y="314"/>
                  </a:lnTo>
                  <a:lnTo>
                    <a:pt x="1646" y="316"/>
                  </a:lnTo>
                  <a:lnTo>
                    <a:pt x="1648" y="316"/>
                  </a:lnTo>
                  <a:lnTo>
                    <a:pt x="1648" y="316"/>
                  </a:lnTo>
                  <a:lnTo>
                    <a:pt x="1652" y="314"/>
                  </a:lnTo>
                  <a:lnTo>
                    <a:pt x="1654" y="312"/>
                  </a:lnTo>
                  <a:lnTo>
                    <a:pt x="1654" y="312"/>
                  </a:lnTo>
                  <a:lnTo>
                    <a:pt x="1656" y="310"/>
                  </a:lnTo>
                  <a:lnTo>
                    <a:pt x="1656" y="308"/>
                  </a:lnTo>
                  <a:lnTo>
                    <a:pt x="1656" y="308"/>
                  </a:lnTo>
                  <a:lnTo>
                    <a:pt x="1654" y="304"/>
                  </a:lnTo>
                  <a:lnTo>
                    <a:pt x="1654" y="302"/>
                  </a:lnTo>
                  <a:lnTo>
                    <a:pt x="1654" y="302"/>
                  </a:lnTo>
                  <a:lnTo>
                    <a:pt x="1650" y="300"/>
                  </a:lnTo>
                  <a:lnTo>
                    <a:pt x="1648" y="300"/>
                  </a:lnTo>
                  <a:lnTo>
                    <a:pt x="1648" y="300"/>
                  </a:lnTo>
                  <a:close/>
                  <a:moveTo>
                    <a:pt x="1642" y="278"/>
                  </a:moveTo>
                  <a:lnTo>
                    <a:pt x="1642" y="278"/>
                  </a:lnTo>
                  <a:lnTo>
                    <a:pt x="1640" y="278"/>
                  </a:lnTo>
                  <a:lnTo>
                    <a:pt x="1638" y="280"/>
                  </a:lnTo>
                  <a:lnTo>
                    <a:pt x="1638" y="280"/>
                  </a:lnTo>
                  <a:lnTo>
                    <a:pt x="1636" y="284"/>
                  </a:lnTo>
                  <a:lnTo>
                    <a:pt x="1636" y="286"/>
                  </a:lnTo>
                  <a:lnTo>
                    <a:pt x="1636" y="286"/>
                  </a:lnTo>
                  <a:lnTo>
                    <a:pt x="1638" y="290"/>
                  </a:lnTo>
                  <a:lnTo>
                    <a:pt x="1640" y="292"/>
                  </a:lnTo>
                  <a:lnTo>
                    <a:pt x="1640" y="292"/>
                  </a:lnTo>
                  <a:lnTo>
                    <a:pt x="1642" y="292"/>
                  </a:lnTo>
                  <a:lnTo>
                    <a:pt x="1646" y="292"/>
                  </a:lnTo>
                  <a:lnTo>
                    <a:pt x="1646" y="292"/>
                  </a:lnTo>
                  <a:lnTo>
                    <a:pt x="1648" y="292"/>
                  </a:lnTo>
                  <a:lnTo>
                    <a:pt x="1650" y="290"/>
                  </a:lnTo>
                  <a:lnTo>
                    <a:pt x="1650" y="290"/>
                  </a:lnTo>
                  <a:lnTo>
                    <a:pt x="1652" y="286"/>
                  </a:lnTo>
                  <a:lnTo>
                    <a:pt x="1652" y="284"/>
                  </a:lnTo>
                  <a:lnTo>
                    <a:pt x="1652" y="284"/>
                  </a:lnTo>
                  <a:lnTo>
                    <a:pt x="1650" y="280"/>
                  </a:lnTo>
                  <a:lnTo>
                    <a:pt x="1648" y="278"/>
                  </a:lnTo>
                  <a:lnTo>
                    <a:pt x="1648" y="278"/>
                  </a:lnTo>
                  <a:lnTo>
                    <a:pt x="1646" y="278"/>
                  </a:lnTo>
                  <a:lnTo>
                    <a:pt x="1642" y="278"/>
                  </a:lnTo>
                  <a:lnTo>
                    <a:pt x="1642" y="278"/>
                  </a:lnTo>
                  <a:close/>
                  <a:moveTo>
                    <a:pt x="1634" y="256"/>
                  </a:moveTo>
                  <a:lnTo>
                    <a:pt x="1634" y="256"/>
                  </a:lnTo>
                  <a:lnTo>
                    <a:pt x="1632" y="258"/>
                  </a:lnTo>
                  <a:lnTo>
                    <a:pt x="1630" y="260"/>
                  </a:lnTo>
                  <a:lnTo>
                    <a:pt x="1630" y="260"/>
                  </a:lnTo>
                  <a:lnTo>
                    <a:pt x="1630" y="262"/>
                  </a:lnTo>
                  <a:lnTo>
                    <a:pt x="1630" y="266"/>
                  </a:lnTo>
                  <a:lnTo>
                    <a:pt x="1630" y="266"/>
                  </a:lnTo>
                  <a:lnTo>
                    <a:pt x="1632" y="268"/>
                  </a:lnTo>
                  <a:lnTo>
                    <a:pt x="1634" y="270"/>
                  </a:lnTo>
                  <a:lnTo>
                    <a:pt x="1634" y="270"/>
                  </a:lnTo>
                  <a:lnTo>
                    <a:pt x="1636" y="270"/>
                  </a:lnTo>
                  <a:lnTo>
                    <a:pt x="1640" y="270"/>
                  </a:lnTo>
                  <a:lnTo>
                    <a:pt x="1640" y="270"/>
                  </a:lnTo>
                  <a:lnTo>
                    <a:pt x="1642" y="268"/>
                  </a:lnTo>
                  <a:lnTo>
                    <a:pt x="1644" y="266"/>
                  </a:lnTo>
                  <a:lnTo>
                    <a:pt x="1644" y="266"/>
                  </a:lnTo>
                  <a:lnTo>
                    <a:pt x="1644" y="264"/>
                  </a:lnTo>
                  <a:lnTo>
                    <a:pt x="1644" y="260"/>
                  </a:lnTo>
                  <a:lnTo>
                    <a:pt x="1644" y="260"/>
                  </a:lnTo>
                  <a:lnTo>
                    <a:pt x="1642" y="258"/>
                  </a:lnTo>
                  <a:lnTo>
                    <a:pt x="1640" y="256"/>
                  </a:lnTo>
                  <a:lnTo>
                    <a:pt x="1640" y="256"/>
                  </a:lnTo>
                  <a:lnTo>
                    <a:pt x="1638" y="256"/>
                  </a:lnTo>
                  <a:lnTo>
                    <a:pt x="1634" y="256"/>
                  </a:lnTo>
                  <a:lnTo>
                    <a:pt x="1634" y="256"/>
                  </a:lnTo>
                  <a:close/>
                  <a:moveTo>
                    <a:pt x="340" y="324"/>
                  </a:moveTo>
                  <a:lnTo>
                    <a:pt x="340" y="324"/>
                  </a:lnTo>
                  <a:lnTo>
                    <a:pt x="308" y="330"/>
                  </a:lnTo>
                  <a:lnTo>
                    <a:pt x="272" y="332"/>
                  </a:lnTo>
                  <a:lnTo>
                    <a:pt x="272" y="332"/>
                  </a:lnTo>
                  <a:lnTo>
                    <a:pt x="248" y="330"/>
                  </a:lnTo>
                  <a:lnTo>
                    <a:pt x="222" y="328"/>
                  </a:lnTo>
                  <a:lnTo>
                    <a:pt x="200" y="326"/>
                  </a:lnTo>
                  <a:lnTo>
                    <a:pt x="178" y="322"/>
                  </a:lnTo>
                  <a:lnTo>
                    <a:pt x="158" y="316"/>
                  </a:lnTo>
                  <a:lnTo>
                    <a:pt x="138" y="310"/>
                  </a:lnTo>
                  <a:lnTo>
                    <a:pt x="122" y="302"/>
                  </a:lnTo>
                  <a:lnTo>
                    <a:pt x="106" y="292"/>
                  </a:lnTo>
                  <a:lnTo>
                    <a:pt x="92" y="282"/>
                  </a:lnTo>
                  <a:lnTo>
                    <a:pt x="80" y="270"/>
                  </a:lnTo>
                  <a:lnTo>
                    <a:pt x="68" y="258"/>
                  </a:lnTo>
                  <a:lnTo>
                    <a:pt x="60" y="244"/>
                  </a:lnTo>
                  <a:lnTo>
                    <a:pt x="52" y="228"/>
                  </a:lnTo>
                  <a:lnTo>
                    <a:pt x="48" y="212"/>
                  </a:lnTo>
                  <a:lnTo>
                    <a:pt x="44" y="194"/>
                  </a:lnTo>
                  <a:lnTo>
                    <a:pt x="44" y="174"/>
                  </a:lnTo>
                  <a:lnTo>
                    <a:pt x="44" y="174"/>
                  </a:lnTo>
                  <a:lnTo>
                    <a:pt x="44" y="158"/>
                  </a:lnTo>
                  <a:lnTo>
                    <a:pt x="48" y="140"/>
                  </a:lnTo>
                  <a:lnTo>
                    <a:pt x="54" y="122"/>
                  </a:lnTo>
                  <a:lnTo>
                    <a:pt x="60" y="106"/>
                  </a:lnTo>
                  <a:lnTo>
                    <a:pt x="70" y="90"/>
                  </a:lnTo>
                  <a:lnTo>
                    <a:pt x="80" y="76"/>
                  </a:lnTo>
                  <a:lnTo>
                    <a:pt x="92" y="62"/>
                  </a:lnTo>
                  <a:lnTo>
                    <a:pt x="108" y="50"/>
                  </a:lnTo>
                  <a:lnTo>
                    <a:pt x="108" y="50"/>
                  </a:lnTo>
                  <a:lnTo>
                    <a:pt x="86" y="64"/>
                  </a:lnTo>
                  <a:lnTo>
                    <a:pt x="68" y="82"/>
                  </a:lnTo>
                  <a:lnTo>
                    <a:pt x="52" y="100"/>
                  </a:lnTo>
                  <a:lnTo>
                    <a:pt x="38" y="120"/>
                  </a:lnTo>
                  <a:lnTo>
                    <a:pt x="26" y="140"/>
                  </a:lnTo>
                  <a:lnTo>
                    <a:pt x="18" y="162"/>
                  </a:lnTo>
                  <a:lnTo>
                    <a:pt x="14" y="184"/>
                  </a:lnTo>
                  <a:lnTo>
                    <a:pt x="12" y="208"/>
                  </a:lnTo>
                  <a:lnTo>
                    <a:pt x="12" y="208"/>
                  </a:lnTo>
                  <a:lnTo>
                    <a:pt x="14" y="228"/>
                  </a:lnTo>
                  <a:lnTo>
                    <a:pt x="18" y="250"/>
                  </a:lnTo>
                  <a:lnTo>
                    <a:pt x="24" y="270"/>
                  </a:lnTo>
                  <a:lnTo>
                    <a:pt x="34" y="290"/>
                  </a:lnTo>
                  <a:lnTo>
                    <a:pt x="46" y="308"/>
                  </a:lnTo>
                  <a:lnTo>
                    <a:pt x="60" y="326"/>
                  </a:lnTo>
                  <a:lnTo>
                    <a:pt x="76" y="342"/>
                  </a:lnTo>
                  <a:lnTo>
                    <a:pt x="94" y="356"/>
                  </a:lnTo>
                  <a:lnTo>
                    <a:pt x="114" y="370"/>
                  </a:lnTo>
                  <a:lnTo>
                    <a:pt x="136" y="382"/>
                  </a:lnTo>
                  <a:lnTo>
                    <a:pt x="158" y="392"/>
                  </a:lnTo>
                  <a:lnTo>
                    <a:pt x="184" y="402"/>
                  </a:lnTo>
                  <a:lnTo>
                    <a:pt x="210" y="408"/>
                  </a:lnTo>
                  <a:lnTo>
                    <a:pt x="236" y="414"/>
                  </a:lnTo>
                  <a:lnTo>
                    <a:pt x="264" y="418"/>
                  </a:lnTo>
                  <a:lnTo>
                    <a:pt x="292" y="418"/>
                  </a:lnTo>
                  <a:lnTo>
                    <a:pt x="292" y="418"/>
                  </a:lnTo>
                  <a:lnTo>
                    <a:pt x="318" y="418"/>
                  </a:lnTo>
                  <a:lnTo>
                    <a:pt x="344" y="414"/>
                  </a:lnTo>
                  <a:lnTo>
                    <a:pt x="368" y="410"/>
                  </a:lnTo>
                  <a:lnTo>
                    <a:pt x="392" y="404"/>
                  </a:lnTo>
                  <a:lnTo>
                    <a:pt x="340" y="324"/>
                  </a:lnTo>
                  <a:close/>
                  <a:moveTo>
                    <a:pt x="322" y="316"/>
                  </a:moveTo>
                  <a:lnTo>
                    <a:pt x="322" y="316"/>
                  </a:lnTo>
                  <a:lnTo>
                    <a:pt x="324" y="318"/>
                  </a:lnTo>
                  <a:lnTo>
                    <a:pt x="328" y="318"/>
                  </a:lnTo>
                  <a:lnTo>
                    <a:pt x="328" y="318"/>
                  </a:lnTo>
                  <a:lnTo>
                    <a:pt x="330" y="318"/>
                  </a:lnTo>
                  <a:lnTo>
                    <a:pt x="332" y="318"/>
                  </a:lnTo>
                  <a:lnTo>
                    <a:pt x="332" y="318"/>
                  </a:lnTo>
                  <a:lnTo>
                    <a:pt x="334" y="316"/>
                  </a:lnTo>
                  <a:lnTo>
                    <a:pt x="336" y="312"/>
                  </a:lnTo>
                  <a:lnTo>
                    <a:pt x="336" y="312"/>
                  </a:lnTo>
                  <a:lnTo>
                    <a:pt x="336" y="310"/>
                  </a:lnTo>
                  <a:lnTo>
                    <a:pt x="334" y="306"/>
                  </a:lnTo>
                  <a:lnTo>
                    <a:pt x="334" y="306"/>
                  </a:lnTo>
                  <a:lnTo>
                    <a:pt x="332" y="304"/>
                  </a:lnTo>
                  <a:lnTo>
                    <a:pt x="330" y="304"/>
                  </a:lnTo>
                  <a:lnTo>
                    <a:pt x="330" y="304"/>
                  </a:lnTo>
                  <a:lnTo>
                    <a:pt x="326" y="304"/>
                  </a:lnTo>
                  <a:lnTo>
                    <a:pt x="324" y="304"/>
                  </a:lnTo>
                  <a:lnTo>
                    <a:pt x="324" y="304"/>
                  </a:lnTo>
                  <a:lnTo>
                    <a:pt x="322" y="308"/>
                  </a:lnTo>
                  <a:lnTo>
                    <a:pt x="320" y="310"/>
                  </a:lnTo>
                  <a:lnTo>
                    <a:pt x="320" y="310"/>
                  </a:lnTo>
                  <a:lnTo>
                    <a:pt x="320" y="314"/>
                  </a:lnTo>
                  <a:lnTo>
                    <a:pt x="322" y="316"/>
                  </a:lnTo>
                  <a:lnTo>
                    <a:pt x="322" y="316"/>
                  </a:lnTo>
                  <a:close/>
                  <a:moveTo>
                    <a:pt x="298" y="312"/>
                  </a:moveTo>
                  <a:lnTo>
                    <a:pt x="298" y="312"/>
                  </a:lnTo>
                  <a:lnTo>
                    <a:pt x="300" y="314"/>
                  </a:lnTo>
                  <a:lnTo>
                    <a:pt x="304" y="314"/>
                  </a:lnTo>
                  <a:lnTo>
                    <a:pt x="304" y="314"/>
                  </a:lnTo>
                  <a:lnTo>
                    <a:pt x="306" y="314"/>
                  </a:lnTo>
                  <a:lnTo>
                    <a:pt x="310" y="314"/>
                  </a:lnTo>
                  <a:lnTo>
                    <a:pt x="310" y="314"/>
                  </a:lnTo>
                  <a:lnTo>
                    <a:pt x="312" y="312"/>
                  </a:lnTo>
                  <a:lnTo>
                    <a:pt x="314" y="308"/>
                  </a:lnTo>
                  <a:lnTo>
                    <a:pt x="314" y="308"/>
                  </a:lnTo>
                  <a:lnTo>
                    <a:pt x="314" y="306"/>
                  </a:lnTo>
                  <a:lnTo>
                    <a:pt x="312" y="302"/>
                  </a:lnTo>
                  <a:lnTo>
                    <a:pt x="312" y="302"/>
                  </a:lnTo>
                  <a:lnTo>
                    <a:pt x="310" y="300"/>
                  </a:lnTo>
                  <a:lnTo>
                    <a:pt x="308" y="300"/>
                  </a:lnTo>
                  <a:lnTo>
                    <a:pt x="308" y="300"/>
                  </a:lnTo>
                  <a:lnTo>
                    <a:pt x="304" y="300"/>
                  </a:lnTo>
                  <a:lnTo>
                    <a:pt x="302" y="300"/>
                  </a:lnTo>
                  <a:lnTo>
                    <a:pt x="302" y="300"/>
                  </a:lnTo>
                  <a:lnTo>
                    <a:pt x="298" y="302"/>
                  </a:lnTo>
                  <a:lnTo>
                    <a:pt x="298" y="306"/>
                  </a:lnTo>
                  <a:lnTo>
                    <a:pt x="298" y="306"/>
                  </a:lnTo>
                  <a:lnTo>
                    <a:pt x="298" y="308"/>
                  </a:lnTo>
                  <a:lnTo>
                    <a:pt x="298" y="312"/>
                  </a:lnTo>
                  <a:lnTo>
                    <a:pt x="298" y="312"/>
                  </a:lnTo>
                  <a:close/>
                  <a:moveTo>
                    <a:pt x="276" y="306"/>
                  </a:moveTo>
                  <a:lnTo>
                    <a:pt x="276" y="306"/>
                  </a:lnTo>
                  <a:lnTo>
                    <a:pt x="278" y="308"/>
                  </a:lnTo>
                  <a:lnTo>
                    <a:pt x="280" y="308"/>
                  </a:lnTo>
                  <a:lnTo>
                    <a:pt x="280" y="308"/>
                  </a:lnTo>
                  <a:lnTo>
                    <a:pt x="284" y="310"/>
                  </a:lnTo>
                  <a:lnTo>
                    <a:pt x="286" y="308"/>
                  </a:lnTo>
                  <a:lnTo>
                    <a:pt x="286" y="308"/>
                  </a:lnTo>
                  <a:lnTo>
                    <a:pt x="290" y="306"/>
                  </a:lnTo>
                  <a:lnTo>
                    <a:pt x="290" y="304"/>
                  </a:lnTo>
                  <a:lnTo>
                    <a:pt x="290" y="304"/>
                  </a:lnTo>
                  <a:lnTo>
                    <a:pt x="290" y="300"/>
                  </a:lnTo>
                  <a:lnTo>
                    <a:pt x="290" y="298"/>
                  </a:lnTo>
                  <a:lnTo>
                    <a:pt x="290" y="298"/>
                  </a:lnTo>
                  <a:lnTo>
                    <a:pt x="288" y="296"/>
                  </a:lnTo>
                  <a:lnTo>
                    <a:pt x="286" y="294"/>
                  </a:lnTo>
                  <a:lnTo>
                    <a:pt x="286" y="294"/>
                  </a:lnTo>
                  <a:lnTo>
                    <a:pt x="282" y="294"/>
                  </a:lnTo>
                  <a:lnTo>
                    <a:pt x="280" y="294"/>
                  </a:lnTo>
                  <a:lnTo>
                    <a:pt x="280" y="294"/>
                  </a:lnTo>
                  <a:lnTo>
                    <a:pt x="276" y="296"/>
                  </a:lnTo>
                  <a:lnTo>
                    <a:pt x="276" y="300"/>
                  </a:lnTo>
                  <a:lnTo>
                    <a:pt x="276" y="300"/>
                  </a:lnTo>
                  <a:lnTo>
                    <a:pt x="276" y="302"/>
                  </a:lnTo>
                  <a:lnTo>
                    <a:pt x="276" y="306"/>
                  </a:lnTo>
                  <a:lnTo>
                    <a:pt x="276" y="306"/>
                  </a:lnTo>
                  <a:close/>
                  <a:moveTo>
                    <a:pt x="254" y="298"/>
                  </a:moveTo>
                  <a:lnTo>
                    <a:pt x="254" y="298"/>
                  </a:lnTo>
                  <a:lnTo>
                    <a:pt x="256" y="300"/>
                  </a:lnTo>
                  <a:lnTo>
                    <a:pt x="258" y="302"/>
                  </a:lnTo>
                  <a:lnTo>
                    <a:pt x="258" y="302"/>
                  </a:lnTo>
                  <a:lnTo>
                    <a:pt x="262" y="302"/>
                  </a:lnTo>
                  <a:lnTo>
                    <a:pt x="264" y="302"/>
                  </a:lnTo>
                  <a:lnTo>
                    <a:pt x="264" y="302"/>
                  </a:lnTo>
                  <a:lnTo>
                    <a:pt x="268" y="300"/>
                  </a:lnTo>
                  <a:lnTo>
                    <a:pt x="268" y="296"/>
                  </a:lnTo>
                  <a:lnTo>
                    <a:pt x="268" y="296"/>
                  </a:lnTo>
                  <a:lnTo>
                    <a:pt x="270" y="294"/>
                  </a:lnTo>
                  <a:lnTo>
                    <a:pt x="268" y="290"/>
                  </a:lnTo>
                  <a:lnTo>
                    <a:pt x="268" y="290"/>
                  </a:lnTo>
                  <a:lnTo>
                    <a:pt x="266" y="288"/>
                  </a:lnTo>
                  <a:lnTo>
                    <a:pt x="264" y="286"/>
                  </a:lnTo>
                  <a:lnTo>
                    <a:pt x="264" y="286"/>
                  </a:lnTo>
                  <a:lnTo>
                    <a:pt x="260" y="286"/>
                  </a:lnTo>
                  <a:lnTo>
                    <a:pt x="258" y="288"/>
                  </a:lnTo>
                  <a:lnTo>
                    <a:pt x="258" y="288"/>
                  </a:lnTo>
                  <a:lnTo>
                    <a:pt x="256" y="288"/>
                  </a:lnTo>
                  <a:lnTo>
                    <a:pt x="254" y="292"/>
                  </a:lnTo>
                  <a:lnTo>
                    <a:pt x="254" y="292"/>
                  </a:lnTo>
                  <a:lnTo>
                    <a:pt x="254" y="294"/>
                  </a:lnTo>
                  <a:lnTo>
                    <a:pt x="254" y="298"/>
                  </a:lnTo>
                  <a:lnTo>
                    <a:pt x="254" y="298"/>
                  </a:lnTo>
                  <a:close/>
                  <a:moveTo>
                    <a:pt x="232" y="290"/>
                  </a:moveTo>
                  <a:lnTo>
                    <a:pt x="232" y="290"/>
                  </a:lnTo>
                  <a:lnTo>
                    <a:pt x="234" y="292"/>
                  </a:lnTo>
                  <a:lnTo>
                    <a:pt x="236" y="294"/>
                  </a:lnTo>
                  <a:lnTo>
                    <a:pt x="236" y="294"/>
                  </a:lnTo>
                  <a:lnTo>
                    <a:pt x="240" y="294"/>
                  </a:lnTo>
                  <a:lnTo>
                    <a:pt x="242" y="294"/>
                  </a:lnTo>
                  <a:lnTo>
                    <a:pt x="242" y="294"/>
                  </a:lnTo>
                  <a:lnTo>
                    <a:pt x="246" y="292"/>
                  </a:lnTo>
                  <a:lnTo>
                    <a:pt x="246" y="290"/>
                  </a:lnTo>
                  <a:lnTo>
                    <a:pt x="246" y="290"/>
                  </a:lnTo>
                  <a:lnTo>
                    <a:pt x="248" y="286"/>
                  </a:lnTo>
                  <a:lnTo>
                    <a:pt x="246" y="284"/>
                  </a:lnTo>
                  <a:lnTo>
                    <a:pt x="246" y="284"/>
                  </a:lnTo>
                  <a:lnTo>
                    <a:pt x="246" y="280"/>
                  </a:lnTo>
                  <a:lnTo>
                    <a:pt x="242" y="278"/>
                  </a:lnTo>
                  <a:lnTo>
                    <a:pt x="242" y="278"/>
                  </a:lnTo>
                  <a:lnTo>
                    <a:pt x="240" y="278"/>
                  </a:lnTo>
                  <a:lnTo>
                    <a:pt x="236" y="278"/>
                  </a:lnTo>
                  <a:lnTo>
                    <a:pt x="236" y="278"/>
                  </a:lnTo>
                  <a:lnTo>
                    <a:pt x="234" y="280"/>
                  </a:lnTo>
                  <a:lnTo>
                    <a:pt x="232" y="28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32" y="290"/>
                  </a:lnTo>
                  <a:lnTo>
                    <a:pt x="232" y="290"/>
                  </a:lnTo>
                  <a:close/>
                  <a:moveTo>
                    <a:pt x="212" y="280"/>
                  </a:moveTo>
                  <a:lnTo>
                    <a:pt x="212" y="280"/>
                  </a:lnTo>
                  <a:lnTo>
                    <a:pt x="212" y="282"/>
                  </a:lnTo>
                  <a:lnTo>
                    <a:pt x="216" y="284"/>
                  </a:lnTo>
                  <a:lnTo>
                    <a:pt x="216" y="284"/>
                  </a:lnTo>
                  <a:lnTo>
                    <a:pt x="218" y="284"/>
                  </a:lnTo>
                  <a:lnTo>
                    <a:pt x="222" y="284"/>
                  </a:lnTo>
                  <a:lnTo>
                    <a:pt x="222" y="284"/>
                  </a:lnTo>
                  <a:lnTo>
                    <a:pt x="224" y="282"/>
                  </a:lnTo>
                  <a:lnTo>
                    <a:pt x="226" y="280"/>
                  </a:lnTo>
                  <a:lnTo>
                    <a:pt x="226" y="280"/>
                  </a:lnTo>
                  <a:lnTo>
                    <a:pt x="226" y="278"/>
                  </a:lnTo>
                  <a:lnTo>
                    <a:pt x="226" y="274"/>
                  </a:lnTo>
                  <a:lnTo>
                    <a:pt x="226" y="274"/>
                  </a:lnTo>
                  <a:lnTo>
                    <a:pt x="224" y="272"/>
                  </a:lnTo>
                  <a:lnTo>
                    <a:pt x="222" y="270"/>
                  </a:lnTo>
                  <a:lnTo>
                    <a:pt x="222" y="270"/>
                  </a:lnTo>
                  <a:lnTo>
                    <a:pt x="218" y="268"/>
                  </a:lnTo>
                  <a:lnTo>
                    <a:pt x="216" y="270"/>
                  </a:lnTo>
                  <a:lnTo>
                    <a:pt x="216" y="270"/>
                  </a:lnTo>
                  <a:lnTo>
                    <a:pt x="214" y="270"/>
                  </a:lnTo>
                  <a:lnTo>
                    <a:pt x="212" y="274"/>
                  </a:lnTo>
                  <a:lnTo>
                    <a:pt x="212" y="274"/>
                  </a:lnTo>
                  <a:lnTo>
                    <a:pt x="210" y="276"/>
                  </a:lnTo>
                  <a:lnTo>
                    <a:pt x="212" y="280"/>
                  </a:lnTo>
                  <a:lnTo>
                    <a:pt x="212" y="280"/>
                  </a:lnTo>
                  <a:close/>
                  <a:moveTo>
                    <a:pt x="190" y="268"/>
                  </a:moveTo>
                  <a:lnTo>
                    <a:pt x="190" y="268"/>
                  </a:lnTo>
                  <a:lnTo>
                    <a:pt x="192" y="272"/>
                  </a:lnTo>
                  <a:lnTo>
                    <a:pt x="194" y="274"/>
                  </a:lnTo>
                  <a:lnTo>
                    <a:pt x="194" y="274"/>
                  </a:lnTo>
                  <a:lnTo>
                    <a:pt x="198" y="274"/>
                  </a:lnTo>
                  <a:lnTo>
                    <a:pt x="200" y="274"/>
                  </a:lnTo>
                  <a:lnTo>
                    <a:pt x="200" y="274"/>
                  </a:lnTo>
                  <a:lnTo>
                    <a:pt x="202" y="272"/>
                  </a:lnTo>
                  <a:lnTo>
                    <a:pt x="204" y="270"/>
                  </a:lnTo>
                  <a:lnTo>
                    <a:pt x="204" y="270"/>
                  </a:lnTo>
                  <a:lnTo>
                    <a:pt x="206" y="268"/>
                  </a:lnTo>
                  <a:lnTo>
                    <a:pt x="206" y="264"/>
                  </a:lnTo>
                  <a:lnTo>
                    <a:pt x="206" y="264"/>
                  </a:lnTo>
                  <a:lnTo>
                    <a:pt x="204" y="262"/>
                  </a:lnTo>
                  <a:lnTo>
                    <a:pt x="202" y="260"/>
                  </a:lnTo>
                  <a:lnTo>
                    <a:pt x="202" y="260"/>
                  </a:lnTo>
                  <a:lnTo>
                    <a:pt x="198" y="258"/>
                  </a:lnTo>
                  <a:lnTo>
                    <a:pt x="196" y="258"/>
                  </a:lnTo>
                  <a:lnTo>
                    <a:pt x="196" y="258"/>
                  </a:lnTo>
                  <a:lnTo>
                    <a:pt x="194" y="260"/>
                  </a:lnTo>
                  <a:lnTo>
                    <a:pt x="192" y="262"/>
                  </a:lnTo>
                  <a:lnTo>
                    <a:pt x="192" y="262"/>
                  </a:lnTo>
                  <a:lnTo>
                    <a:pt x="190" y="266"/>
                  </a:lnTo>
                  <a:lnTo>
                    <a:pt x="190" y="268"/>
                  </a:lnTo>
                  <a:lnTo>
                    <a:pt x="190" y="268"/>
                  </a:lnTo>
                  <a:close/>
                  <a:moveTo>
                    <a:pt x="170" y="256"/>
                  </a:moveTo>
                  <a:lnTo>
                    <a:pt x="170" y="256"/>
                  </a:lnTo>
                  <a:lnTo>
                    <a:pt x="172" y="260"/>
                  </a:lnTo>
                  <a:lnTo>
                    <a:pt x="174" y="262"/>
                  </a:lnTo>
                  <a:lnTo>
                    <a:pt x="174" y="262"/>
                  </a:lnTo>
                  <a:lnTo>
                    <a:pt x="176" y="262"/>
                  </a:lnTo>
                  <a:lnTo>
                    <a:pt x="180" y="262"/>
                  </a:lnTo>
                  <a:lnTo>
                    <a:pt x="180" y="262"/>
                  </a:lnTo>
                  <a:lnTo>
                    <a:pt x="182" y="262"/>
                  </a:lnTo>
                  <a:lnTo>
                    <a:pt x="184" y="258"/>
                  </a:lnTo>
                  <a:lnTo>
                    <a:pt x="184" y="258"/>
                  </a:lnTo>
                  <a:lnTo>
                    <a:pt x="186" y="256"/>
                  </a:lnTo>
                  <a:lnTo>
                    <a:pt x="186" y="252"/>
                  </a:lnTo>
                  <a:lnTo>
                    <a:pt x="186" y="252"/>
                  </a:lnTo>
                  <a:lnTo>
                    <a:pt x="184" y="250"/>
                  </a:lnTo>
                  <a:lnTo>
                    <a:pt x="182" y="248"/>
                  </a:lnTo>
                  <a:lnTo>
                    <a:pt x="182" y="248"/>
                  </a:lnTo>
                  <a:lnTo>
                    <a:pt x="180" y="246"/>
                  </a:lnTo>
                  <a:lnTo>
                    <a:pt x="176" y="246"/>
                  </a:lnTo>
                  <a:lnTo>
                    <a:pt x="176" y="246"/>
                  </a:lnTo>
                  <a:lnTo>
                    <a:pt x="174" y="248"/>
                  </a:lnTo>
                  <a:lnTo>
                    <a:pt x="172" y="250"/>
                  </a:lnTo>
                  <a:lnTo>
                    <a:pt x="172" y="250"/>
                  </a:lnTo>
                  <a:lnTo>
                    <a:pt x="170" y="254"/>
                  </a:lnTo>
                  <a:lnTo>
                    <a:pt x="170" y="256"/>
                  </a:lnTo>
                  <a:lnTo>
                    <a:pt x="170" y="256"/>
                  </a:lnTo>
                  <a:close/>
                  <a:moveTo>
                    <a:pt x="152" y="242"/>
                  </a:moveTo>
                  <a:lnTo>
                    <a:pt x="152" y="242"/>
                  </a:lnTo>
                  <a:lnTo>
                    <a:pt x="152" y="246"/>
                  </a:lnTo>
                  <a:lnTo>
                    <a:pt x="154" y="248"/>
                  </a:lnTo>
                  <a:lnTo>
                    <a:pt x="154" y="248"/>
                  </a:lnTo>
                  <a:lnTo>
                    <a:pt x="158" y="248"/>
                  </a:lnTo>
                  <a:lnTo>
                    <a:pt x="160" y="248"/>
                  </a:lnTo>
                  <a:lnTo>
                    <a:pt x="160" y="248"/>
                  </a:lnTo>
                  <a:lnTo>
                    <a:pt x="164" y="248"/>
                  </a:lnTo>
                  <a:lnTo>
                    <a:pt x="166" y="246"/>
                  </a:lnTo>
                  <a:lnTo>
                    <a:pt x="166" y="246"/>
                  </a:lnTo>
                  <a:lnTo>
                    <a:pt x="166" y="244"/>
                  </a:lnTo>
                  <a:lnTo>
                    <a:pt x="168" y="240"/>
                  </a:lnTo>
                  <a:lnTo>
                    <a:pt x="168" y="240"/>
                  </a:lnTo>
                  <a:lnTo>
                    <a:pt x="166" y="238"/>
                  </a:lnTo>
                  <a:lnTo>
                    <a:pt x="164" y="234"/>
                  </a:lnTo>
                  <a:lnTo>
                    <a:pt x="164" y="234"/>
                  </a:lnTo>
                  <a:lnTo>
                    <a:pt x="162" y="234"/>
                  </a:lnTo>
                  <a:lnTo>
                    <a:pt x="158" y="234"/>
                  </a:lnTo>
                  <a:lnTo>
                    <a:pt x="158" y="234"/>
                  </a:lnTo>
                  <a:lnTo>
                    <a:pt x="156" y="234"/>
                  </a:lnTo>
                  <a:lnTo>
                    <a:pt x="154" y="236"/>
                  </a:lnTo>
                  <a:lnTo>
                    <a:pt x="154" y="236"/>
                  </a:lnTo>
                  <a:lnTo>
                    <a:pt x="152" y="240"/>
                  </a:lnTo>
                  <a:lnTo>
                    <a:pt x="152" y="242"/>
                  </a:lnTo>
                  <a:lnTo>
                    <a:pt x="152" y="242"/>
                  </a:lnTo>
                  <a:close/>
                  <a:moveTo>
                    <a:pt x="134" y="226"/>
                  </a:moveTo>
                  <a:lnTo>
                    <a:pt x="134" y="226"/>
                  </a:lnTo>
                  <a:lnTo>
                    <a:pt x="134" y="230"/>
                  </a:lnTo>
                  <a:lnTo>
                    <a:pt x="136" y="232"/>
                  </a:lnTo>
                  <a:lnTo>
                    <a:pt x="136" y="232"/>
                  </a:lnTo>
                  <a:lnTo>
                    <a:pt x="138" y="234"/>
                  </a:lnTo>
                  <a:lnTo>
                    <a:pt x="142" y="234"/>
                  </a:lnTo>
                  <a:lnTo>
                    <a:pt x="142" y="234"/>
                  </a:lnTo>
                  <a:lnTo>
                    <a:pt x="146" y="234"/>
                  </a:lnTo>
                  <a:lnTo>
                    <a:pt x="148" y="232"/>
                  </a:lnTo>
                  <a:lnTo>
                    <a:pt x="148" y="232"/>
                  </a:lnTo>
                  <a:lnTo>
                    <a:pt x="150" y="228"/>
                  </a:lnTo>
                  <a:lnTo>
                    <a:pt x="150" y="226"/>
                  </a:lnTo>
                  <a:lnTo>
                    <a:pt x="150" y="226"/>
                  </a:lnTo>
                  <a:lnTo>
                    <a:pt x="150" y="222"/>
                  </a:lnTo>
                  <a:lnTo>
                    <a:pt x="148" y="220"/>
                  </a:lnTo>
                  <a:lnTo>
                    <a:pt x="148" y="220"/>
                  </a:lnTo>
                  <a:lnTo>
                    <a:pt x="144" y="218"/>
                  </a:lnTo>
                  <a:lnTo>
                    <a:pt x="142" y="218"/>
                  </a:lnTo>
                  <a:lnTo>
                    <a:pt x="142" y="218"/>
                  </a:lnTo>
                  <a:lnTo>
                    <a:pt x="138" y="218"/>
                  </a:lnTo>
                  <a:lnTo>
                    <a:pt x="136" y="220"/>
                  </a:lnTo>
                  <a:lnTo>
                    <a:pt x="136" y="220"/>
                  </a:lnTo>
                  <a:lnTo>
                    <a:pt x="134" y="224"/>
                  </a:lnTo>
                  <a:lnTo>
                    <a:pt x="134" y="226"/>
                  </a:lnTo>
                  <a:lnTo>
                    <a:pt x="134" y="226"/>
                  </a:lnTo>
                  <a:close/>
                  <a:moveTo>
                    <a:pt x="118" y="208"/>
                  </a:moveTo>
                  <a:lnTo>
                    <a:pt x="118" y="208"/>
                  </a:lnTo>
                  <a:lnTo>
                    <a:pt x="118" y="210"/>
                  </a:lnTo>
                  <a:lnTo>
                    <a:pt x="120" y="214"/>
                  </a:lnTo>
                  <a:lnTo>
                    <a:pt x="120" y="214"/>
                  </a:lnTo>
                  <a:lnTo>
                    <a:pt x="122" y="216"/>
                  </a:lnTo>
                  <a:lnTo>
                    <a:pt x="126" y="216"/>
                  </a:lnTo>
                  <a:lnTo>
                    <a:pt x="126" y="216"/>
                  </a:lnTo>
                  <a:lnTo>
                    <a:pt x="128" y="216"/>
                  </a:lnTo>
                  <a:lnTo>
                    <a:pt x="132" y="214"/>
                  </a:lnTo>
                  <a:lnTo>
                    <a:pt x="132" y="214"/>
                  </a:lnTo>
                  <a:lnTo>
                    <a:pt x="134" y="212"/>
                  </a:lnTo>
                  <a:lnTo>
                    <a:pt x="134" y="210"/>
                  </a:lnTo>
                  <a:lnTo>
                    <a:pt x="134" y="210"/>
                  </a:lnTo>
                  <a:lnTo>
                    <a:pt x="134" y="206"/>
                  </a:lnTo>
                  <a:lnTo>
                    <a:pt x="132" y="204"/>
                  </a:lnTo>
                  <a:lnTo>
                    <a:pt x="132" y="204"/>
                  </a:lnTo>
                  <a:lnTo>
                    <a:pt x="130" y="202"/>
                  </a:lnTo>
                  <a:lnTo>
                    <a:pt x="128" y="200"/>
                  </a:lnTo>
                  <a:lnTo>
                    <a:pt x="128" y="200"/>
                  </a:lnTo>
                  <a:lnTo>
                    <a:pt x="124" y="202"/>
                  </a:lnTo>
                  <a:lnTo>
                    <a:pt x="122" y="202"/>
                  </a:lnTo>
                  <a:lnTo>
                    <a:pt x="122" y="202"/>
                  </a:lnTo>
                  <a:lnTo>
                    <a:pt x="120" y="204"/>
                  </a:lnTo>
                  <a:lnTo>
                    <a:pt x="118" y="208"/>
                  </a:lnTo>
                  <a:lnTo>
                    <a:pt x="118" y="208"/>
                  </a:lnTo>
                  <a:close/>
                  <a:moveTo>
                    <a:pt x="106" y="188"/>
                  </a:moveTo>
                  <a:lnTo>
                    <a:pt x="106" y="188"/>
                  </a:lnTo>
                  <a:lnTo>
                    <a:pt x="106" y="190"/>
                  </a:lnTo>
                  <a:lnTo>
                    <a:pt x="106" y="194"/>
                  </a:lnTo>
                  <a:lnTo>
                    <a:pt x="106" y="194"/>
                  </a:lnTo>
                  <a:lnTo>
                    <a:pt x="108" y="196"/>
                  </a:lnTo>
                  <a:lnTo>
                    <a:pt x="112" y="198"/>
                  </a:lnTo>
                  <a:lnTo>
                    <a:pt x="112" y="198"/>
                  </a:lnTo>
                  <a:lnTo>
                    <a:pt x="114" y="198"/>
                  </a:lnTo>
                  <a:lnTo>
                    <a:pt x="118" y="196"/>
                  </a:lnTo>
                  <a:lnTo>
                    <a:pt x="118" y="196"/>
                  </a:lnTo>
                  <a:lnTo>
                    <a:pt x="120" y="194"/>
                  </a:lnTo>
                  <a:lnTo>
                    <a:pt x="122" y="192"/>
                  </a:lnTo>
                  <a:lnTo>
                    <a:pt x="122" y="192"/>
                  </a:lnTo>
                  <a:lnTo>
                    <a:pt x="122" y="188"/>
                  </a:lnTo>
                  <a:lnTo>
                    <a:pt x="120" y="186"/>
                  </a:lnTo>
                  <a:lnTo>
                    <a:pt x="120" y="186"/>
                  </a:lnTo>
                  <a:lnTo>
                    <a:pt x="118" y="184"/>
                  </a:lnTo>
                  <a:lnTo>
                    <a:pt x="116" y="182"/>
                  </a:lnTo>
                  <a:lnTo>
                    <a:pt x="116" y="182"/>
                  </a:lnTo>
                  <a:lnTo>
                    <a:pt x="112" y="182"/>
                  </a:lnTo>
                  <a:lnTo>
                    <a:pt x="110" y="182"/>
                  </a:lnTo>
                  <a:lnTo>
                    <a:pt x="110" y="182"/>
                  </a:lnTo>
                  <a:lnTo>
                    <a:pt x="108" y="184"/>
                  </a:lnTo>
                  <a:lnTo>
                    <a:pt x="106" y="188"/>
                  </a:lnTo>
                  <a:lnTo>
                    <a:pt x="106" y="188"/>
                  </a:lnTo>
                  <a:close/>
                  <a:moveTo>
                    <a:pt x="98" y="164"/>
                  </a:moveTo>
                  <a:lnTo>
                    <a:pt x="98" y="164"/>
                  </a:lnTo>
                  <a:lnTo>
                    <a:pt x="96" y="168"/>
                  </a:lnTo>
                  <a:lnTo>
                    <a:pt x="96" y="170"/>
                  </a:lnTo>
                  <a:lnTo>
                    <a:pt x="96" y="170"/>
                  </a:lnTo>
                  <a:lnTo>
                    <a:pt x="98" y="174"/>
                  </a:lnTo>
                  <a:lnTo>
                    <a:pt x="100" y="176"/>
                  </a:lnTo>
                  <a:lnTo>
                    <a:pt x="100" y="176"/>
                  </a:lnTo>
                  <a:lnTo>
                    <a:pt x="104" y="176"/>
                  </a:lnTo>
                  <a:lnTo>
                    <a:pt x="106" y="176"/>
                  </a:lnTo>
                  <a:lnTo>
                    <a:pt x="106" y="176"/>
                  </a:lnTo>
                  <a:lnTo>
                    <a:pt x="110" y="174"/>
                  </a:lnTo>
                  <a:lnTo>
                    <a:pt x="112" y="172"/>
                  </a:lnTo>
                  <a:lnTo>
                    <a:pt x="112" y="172"/>
                  </a:lnTo>
                  <a:lnTo>
                    <a:pt x="112" y="168"/>
                  </a:lnTo>
                  <a:lnTo>
                    <a:pt x="112" y="166"/>
                  </a:lnTo>
                  <a:lnTo>
                    <a:pt x="112" y="166"/>
                  </a:lnTo>
                  <a:lnTo>
                    <a:pt x="110" y="164"/>
                  </a:lnTo>
                  <a:lnTo>
                    <a:pt x="108" y="162"/>
                  </a:lnTo>
                  <a:lnTo>
                    <a:pt x="108" y="162"/>
                  </a:lnTo>
                  <a:lnTo>
                    <a:pt x="104" y="160"/>
                  </a:lnTo>
                  <a:lnTo>
                    <a:pt x="102" y="160"/>
                  </a:lnTo>
                  <a:lnTo>
                    <a:pt x="102" y="160"/>
                  </a:lnTo>
                  <a:lnTo>
                    <a:pt x="100" y="162"/>
                  </a:lnTo>
                  <a:lnTo>
                    <a:pt x="98" y="164"/>
                  </a:lnTo>
                  <a:lnTo>
                    <a:pt x="98" y="164"/>
                  </a:lnTo>
                  <a:close/>
                  <a:moveTo>
                    <a:pt x="92" y="140"/>
                  </a:moveTo>
                  <a:lnTo>
                    <a:pt x="92" y="140"/>
                  </a:lnTo>
                  <a:lnTo>
                    <a:pt x="92" y="144"/>
                  </a:lnTo>
                  <a:lnTo>
                    <a:pt x="92" y="146"/>
                  </a:lnTo>
                  <a:lnTo>
                    <a:pt x="92" y="146"/>
                  </a:lnTo>
                  <a:lnTo>
                    <a:pt x="92" y="150"/>
                  </a:lnTo>
                  <a:lnTo>
                    <a:pt x="94" y="152"/>
                  </a:lnTo>
                  <a:lnTo>
                    <a:pt x="94" y="152"/>
                  </a:lnTo>
                  <a:lnTo>
                    <a:pt x="98" y="154"/>
                  </a:lnTo>
                  <a:lnTo>
                    <a:pt x="100" y="154"/>
                  </a:lnTo>
                  <a:lnTo>
                    <a:pt x="100" y="154"/>
                  </a:lnTo>
                  <a:lnTo>
                    <a:pt x="104" y="152"/>
                  </a:lnTo>
                  <a:lnTo>
                    <a:pt x="106" y="150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4"/>
                  </a:lnTo>
                  <a:lnTo>
                    <a:pt x="106" y="144"/>
                  </a:lnTo>
                  <a:lnTo>
                    <a:pt x="106" y="142"/>
                  </a:lnTo>
                  <a:lnTo>
                    <a:pt x="104" y="140"/>
                  </a:lnTo>
                  <a:lnTo>
                    <a:pt x="104" y="140"/>
                  </a:lnTo>
                  <a:lnTo>
                    <a:pt x="102" y="138"/>
                  </a:lnTo>
                  <a:lnTo>
                    <a:pt x="98" y="138"/>
                  </a:lnTo>
                  <a:lnTo>
                    <a:pt x="98" y="138"/>
                  </a:lnTo>
                  <a:lnTo>
                    <a:pt x="96" y="138"/>
                  </a:lnTo>
                  <a:lnTo>
                    <a:pt x="92" y="140"/>
                  </a:lnTo>
                  <a:lnTo>
                    <a:pt x="92" y="140"/>
                  </a:lnTo>
                  <a:close/>
                  <a:moveTo>
                    <a:pt x="94" y="116"/>
                  </a:moveTo>
                  <a:lnTo>
                    <a:pt x="94" y="116"/>
                  </a:lnTo>
                  <a:lnTo>
                    <a:pt x="92" y="120"/>
                  </a:lnTo>
                  <a:lnTo>
                    <a:pt x="90" y="122"/>
                  </a:lnTo>
                  <a:lnTo>
                    <a:pt x="90" y="122"/>
                  </a:lnTo>
                  <a:lnTo>
                    <a:pt x="90" y="126"/>
                  </a:lnTo>
                  <a:lnTo>
                    <a:pt x="92" y="128"/>
                  </a:lnTo>
                  <a:lnTo>
                    <a:pt x="92" y="128"/>
                  </a:lnTo>
                  <a:lnTo>
                    <a:pt x="94" y="130"/>
                  </a:lnTo>
                  <a:lnTo>
                    <a:pt x="98" y="130"/>
                  </a:lnTo>
                  <a:lnTo>
                    <a:pt x="98" y="130"/>
                  </a:lnTo>
                  <a:lnTo>
                    <a:pt x="100" y="130"/>
                  </a:lnTo>
                  <a:lnTo>
                    <a:pt x="104" y="128"/>
                  </a:lnTo>
                  <a:lnTo>
                    <a:pt x="104" y="128"/>
                  </a:lnTo>
                  <a:lnTo>
                    <a:pt x="106" y="126"/>
                  </a:lnTo>
                  <a:lnTo>
                    <a:pt x="106" y="124"/>
                  </a:lnTo>
                  <a:lnTo>
                    <a:pt x="106" y="124"/>
                  </a:lnTo>
                  <a:lnTo>
                    <a:pt x="106" y="120"/>
                  </a:lnTo>
                  <a:lnTo>
                    <a:pt x="104" y="118"/>
                  </a:lnTo>
                  <a:lnTo>
                    <a:pt x="104" y="118"/>
                  </a:lnTo>
                  <a:lnTo>
                    <a:pt x="102" y="116"/>
                  </a:lnTo>
                  <a:lnTo>
                    <a:pt x="98" y="114"/>
                  </a:lnTo>
                  <a:lnTo>
                    <a:pt x="98" y="114"/>
                  </a:lnTo>
                  <a:lnTo>
                    <a:pt x="96" y="116"/>
                  </a:lnTo>
                  <a:lnTo>
                    <a:pt x="94" y="116"/>
                  </a:lnTo>
                  <a:lnTo>
                    <a:pt x="94" y="116"/>
                  </a:lnTo>
                  <a:close/>
                  <a:moveTo>
                    <a:pt x="98" y="92"/>
                  </a:moveTo>
                  <a:lnTo>
                    <a:pt x="98" y="92"/>
                  </a:lnTo>
                  <a:lnTo>
                    <a:pt x="96" y="96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94" y="100"/>
                  </a:lnTo>
                  <a:lnTo>
                    <a:pt x="96" y="104"/>
                  </a:lnTo>
                  <a:lnTo>
                    <a:pt x="96" y="104"/>
                  </a:lnTo>
                  <a:lnTo>
                    <a:pt x="98" y="106"/>
                  </a:lnTo>
                  <a:lnTo>
                    <a:pt x="100" y="108"/>
                  </a:lnTo>
                  <a:lnTo>
                    <a:pt x="100" y="108"/>
                  </a:lnTo>
                  <a:lnTo>
                    <a:pt x="104" y="108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8" y="104"/>
                  </a:lnTo>
                  <a:lnTo>
                    <a:pt x="110" y="102"/>
                  </a:lnTo>
                  <a:lnTo>
                    <a:pt x="110" y="102"/>
                  </a:lnTo>
                  <a:lnTo>
                    <a:pt x="110" y="98"/>
                  </a:lnTo>
                  <a:lnTo>
                    <a:pt x="108" y="96"/>
                  </a:lnTo>
                  <a:lnTo>
                    <a:pt x="108" y="96"/>
                  </a:lnTo>
                  <a:lnTo>
                    <a:pt x="106" y="94"/>
                  </a:lnTo>
                  <a:lnTo>
                    <a:pt x="104" y="92"/>
                  </a:lnTo>
                  <a:lnTo>
                    <a:pt x="104" y="92"/>
                  </a:lnTo>
                  <a:lnTo>
                    <a:pt x="100" y="92"/>
                  </a:lnTo>
                  <a:lnTo>
                    <a:pt x="98" y="92"/>
                  </a:lnTo>
                  <a:lnTo>
                    <a:pt x="98" y="92"/>
                  </a:lnTo>
                  <a:close/>
                  <a:moveTo>
                    <a:pt x="106" y="70"/>
                  </a:moveTo>
                  <a:lnTo>
                    <a:pt x="106" y="70"/>
                  </a:lnTo>
                  <a:lnTo>
                    <a:pt x="102" y="72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100" y="78"/>
                  </a:lnTo>
                  <a:lnTo>
                    <a:pt x="102" y="80"/>
                  </a:lnTo>
                  <a:lnTo>
                    <a:pt x="102" y="80"/>
                  </a:lnTo>
                  <a:lnTo>
                    <a:pt x="104" y="84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08" y="86"/>
                  </a:lnTo>
                  <a:lnTo>
                    <a:pt x="112" y="84"/>
                  </a:lnTo>
                  <a:lnTo>
                    <a:pt x="112" y="84"/>
                  </a:lnTo>
                  <a:lnTo>
                    <a:pt x="114" y="82"/>
                  </a:lnTo>
                  <a:lnTo>
                    <a:pt x="116" y="80"/>
                  </a:lnTo>
                  <a:lnTo>
                    <a:pt x="116" y="80"/>
                  </a:lnTo>
                  <a:lnTo>
                    <a:pt x="116" y="78"/>
                  </a:lnTo>
                  <a:lnTo>
                    <a:pt x="116" y="74"/>
                  </a:lnTo>
                  <a:lnTo>
                    <a:pt x="116" y="74"/>
                  </a:lnTo>
                  <a:lnTo>
                    <a:pt x="114" y="72"/>
                  </a:lnTo>
                  <a:lnTo>
                    <a:pt x="112" y="70"/>
                  </a:lnTo>
                  <a:lnTo>
                    <a:pt x="112" y="70"/>
                  </a:lnTo>
                  <a:lnTo>
                    <a:pt x="108" y="70"/>
                  </a:lnTo>
                  <a:lnTo>
                    <a:pt x="106" y="70"/>
                  </a:lnTo>
                  <a:lnTo>
                    <a:pt x="106" y="70"/>
                  </a:lnTo>
                  <a:close/>
                  <a:moveTo>
                    <a:pt x="116" y="48"/>
                  </a:moveTo>
                  <a:lnTo>
                    <a:pt x="116" y="48"/>
                  </a:lnTo>
                  <a:lnTo>
                    <a:pt x="114" y="50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0" y="56"/>
                  </a:lnTo>
                  <a:lnTo>
                    <a:pt x="112" y="58"/>
                  </a:lnTo>
                  <a:lnTo>
                    <a:pt x="112" y="58"/>
                  </a:lnTo>
                  <a:lnTo>
                    <a:pt x="112" y="62"/>
                  </a:lnTo>
                  <a:lnTo>
                    <a:pt x="114" y="64"/>
                  </a:lnTo>
                  <a:lnTo>
                    <a:pt x="114" y="64"/>
                  </a:lnTo>
                  <a:lnTo>
                    <a:pt x="118" y="64"/>
                  </a:lnTo>
                  <a:lnTo>
                    <a:pt x="120" y="64"/>
                  </a:lnTo>
                  <a:lnTo>
                    <a:pt x="120" y="64"/>
                  </a:lnTo>
                  <a:lnTo>
                    <a:pt x="124" y="64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58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6" y="52"/>
                  </a:lnTo>
                  <a:lnTo>
                    <a:pt x="122" y="50"/>
                  </a:lnTo>
                  <a:lnTo>
                    <a:pt x="122" y="50"/>
                  </a:lnTo>
                  <a:lnTo>
                    <a:pt x="120" y="48"/>
                  </a:lnTo>
                  <a:lnTo>
                    <a:pt x="116" y="48"/>
                  </a:lnTo>
                  <a:lnTo>
                    <a:pt x="116" y="48"/>
                  </a:lnTo>
                  <a:close/>
                  <a:moveTo>
                    <a:pt x="132" y="30"/>
                  </a:moveTo>
                  <a:lnTo>
                    <a:pt x="132" y="30"/>
                  </a:lnTo>
                  <a:lnTo>
                    <a:pt x="128" y="30"/>
                  </a:lnTo>
                  <a:lnTo>
                    <a:pt x="126" y="32"/>
                  </a:lnTo>
                  <a:lnTo>
                    <a:pt x="126" y="32"/>
                  </a:lnTo>
                  <a:lnTo>
                    <a:pt x="124" y="36"/>
                  </a:lnTo>
                  <a:lnTo>
                    <a:pt x="124" y="38"/>
                  </a:lnTo>
                  <a:lnTo>
                    <a:pt x="124" y="38"/>
                  </a:lnTo>
                  <a:lnTo>
                    <a:pt x="126" y="42"/>
                  </a:lnTo>
                  <a:lnTo>
                    <a:pt x="128" y="44"/>
                  </a:lnTo>
                  <a:lnTo>
                    <a:pt x="128" y="44"/>
                  </a:lnTo>
                  <a:lnTo>
                    <a:pt x="130" y="46"/>
                  </a:lnTo>
                  <a:lnTo>
                    <a:pt x="132" y="46"/>
                  </a:lnTo>
                  <a:lnTo>
                    <a:pt x="132" y="46"/>
                  </a:lnTo>
                  <a:lnTo>
                    <a:pt x="136" y="4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40" y="40"/>
                  </a:lnTo>
                  <a:lnTo>
                    <a:pt x="140" y="38"/>
                  </a:lnTo>
                  <a:lnTo>
                    <a:pt x="140" y="38"/>
                  </a:lnTo>
                  <a:lnTo>
                    <a:pt x="140" y="34"/>
                  </a:lnTo>
                  <a:lnTo>
                    <a:pt x="138" y="32"/>
                  </a:lnTo>
                  <a:lnTo>
                    <a:pt x="138" y="32"/>
                  </a:lnTo>
                  <a:lnTo>
                    <a:pt x="134" y="30"/>
                  </a:lnTo>
                  <a:lnTo>
                    <a:pt x="132" y="30"/>
                  </a:lnTo>
                  <a:lnTo>
                    <a:pt x="132" y="30"/>
                  </a:lnTo>
                  <a:close/>
                  <a:moveTo>
                    <a:pt x="150" y="14"/>
                  </a:moveTo>
                  <a:lnTo>
                    <a:pt x="150" y="14"/>
                  </a:lnTo>
                  <a:lnTo>
                    <a:pt x="146" y="14"/>
                  </a:lnTo>
                  <a:lnTo>
                    <a:pt x="144" y="16"/>
                  </a:lnTo>
                  <a:lnTo>
                    <a:pt x="144" y="16"/>
                  </a:lnTo>
                  <a:lnTo>
                    <a:pt x="142" y="18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142" y="24"/>
                  </a:lnTo>
                  <a:lnTo>
                    <a:pt x="142" y="26"/>
                  </a:lnTo>
                  <a:lnTo>
                    <a:pt x="142" y="26"/>
                  </a:lnTo>
                  <a:lnTo>
                    <a:pt x="146" y="28"/>
                  </a:lnTo>
                  <a:lnTo>
                    <a:pt x="148" y="30"/>
                  </a:lnTo>
                  <a:lnTo>
                    <a:pt x="148" y="30"/>
                  </a:lnTo>
                  <a:lnTo>
                    <a:pt x="152" y="28"/>
                  </a:lnTo>
                  <a:lnTo>
                    <a:pt x="154" y="28"/>
                  </a:lnTo>
                  <a:lnTo>
                    <a:pt x="154" y="28"/>
                  </a:lnTo>
                  <a:lnTo>
                    <a:pt x="156" y="24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6" y="18"/>
                  </a:lnTo>
                  <a:lnTo>
                    <a:pt x="154" y="16"/>
                  </a:lnTo>
                  <a:lnTo>
                    <a:pt x="154" y="16"/>
                  </a:lnTo>
                  <a:lnTo>
                    <a:pt x="152" y="14"/>
                  </a:lnTo>
                  <a:lnTo>
                    <a:pt x="150" y="14"/>
                  </a:lnTo>
                  <a:lnTo>
                    <a:pt x="150" y="14"/>
                  </a:lnTo>
                  <a:close/>
                  <a:moveTo>
                    <a:pt x="168" y="0"/>
                  </a:moveTo>
                  <a:lnTo>
                    <a:pt x="168" y="0"/>
                  </a:lnTo>
                  <a:lnTo>
                    <a:pt x="166" y="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0" y="2"/>
                  </a:lnTo>
                  <a:lnTo>
                    <a:pt x="160" y="6"/>
                  </a:lnTo>
                  <a:lnTo>
                    <a:pt x="160" y="6"/>
                  </a:lnTo>
                  <a:lnTo>
                    <a:pt x="160" y="8"/>
                  </a:lnTo>
                  <a:lnTo>
                    <a:pt x="160" y="12"/>
                  </a:lnTo>
                  <a:lnTo>
                    <a:pt x="160" y="12"/>
                  </a:lnTo>
                  <a:lnTo>
                    <a:pt x="162" y="14"/>
                  </a:lnTo>
                  <a:lnTo>
                    <a:pt x="166" y="16"/>
                  </a:lnTo>
                  <a:lnTo>
                    <a:pt x="166" y="16"/>
                  </a:lnTo>
                  <a:lnTo>
                    <a:pt x="168" y="16"/>
                  </a:lnTo>
                  <a:lnTo>
                    <a:pt x="172" y="14"/>
                  </a:lnTo>
                  <a:lnTo>
                    <a:pt x="172" y="14"/>
                  </a:lnTo>
                  <a:lnTo>
                    <a:pt x="174" y="12"/>
                  </a:lnTo>
                  <a:lnTo>
                    <a:pt x="174" y="8"/>
                  </a:lnTo>
                  <a:lnTo>
                    <a:pt x="174" y="8"/>
                  </a:lnTo>
                  <a:lnTo>
                    <a:pt x="174" y="6"/>
                  </a:lnTo>
                  <a:lnTo>
                    <a:pt x="174" y="2"/>
                  </a:lnTo>
                  <a:lnTo>
                    <a:pt x="174" y="2"/>
                  </a:lnTo>
                  <a:lnTo>
                    <a:pt x="172" y="0"/>
                  </a:lnTo>
                  <a:lnTo>
                    <a:pt x="168" y="0"/>
                  </a:lnTo>
                  <a:lnTo>
                    <a:pt x="168" y="0"/>
                  </a:lnTo>
                  <a:close/>
                  <a:moveTo>
                    <a:pt x="322" y="428"/>
                  </a:moveTo>
                  <a:lnTo>
                    <a:pt x="322" y="428"/>
                  </a:lnTo>
                  <a:lnTo>
                    <a:pt x="326" y="428"/>
                  </a:lnTo>
                  <a:lnTo>
                    <a:pt x="328" y="426"/>
                  </a:lnTo>
                  <a:lnTo>
                    <a:pt x="328" y="426"/>
                  </a:lnTo>
                  <a:lnTo>
                    <a:pt x="332" y="424"/>
                  </a:lnTo>
                  <a:lnTo>
                    <a:pt x="332" y="422"/>
                  </a:lnTo>
                  <a:lnTo>
                    <a:pt x="332" y="422"/>
                  </a:lnTo>
                  <a:lnTo>
                    <a:pt x="334" y="420"/>
                  </a:lnTo>
                  <a:lnTo>
                    <a:pt x="332" y="416"/>
                  </a:lnTo>
                  <a:lnTo>
                    <a:pt x="332" y="416"/>
                  </a:lnTo>
                  <a:lnTo>
                    <a:pt x="330" y="414"/>
                  </a:lnTo>
                  <a:lnTo>
                    <a:pt x="328" y="412"/>
                  </a:lnTo>
                  <a:lnTo>
                    <a:pt x="328" y="412"/>
                  </a:lnTo>
                  <a:lnTo>
                    <a:pt x="324" y="412"/>
                  </a:lnTo>
                  <a:lnTo>
                    <a:pt x="322" y="412"/>
                  </a:lnTo>
                  <a:lnTo>
                    <a:pt x="322" y="412"/>
                  </a:lnTo>
                  <a:lnTo>
                    <a:pt x="320" y="414"/>
                  </a:lnTo>
                  <a:lnTo>
                    <a:pt x="318" y="418"/>
                  </a:lnTo>
                  <a:lnTo>
                    <a:pt x="318" y="418"/>
                  </a:lnTo>
                  <a:lnTo>
                    <a:pt x="318" y="420"/>
                  </a:lnTo>
                  <a:lnTo>
                    <a:pt x="318" y="424"/>
                  </a:lnTo>
                  <a:lnTo>
                    <a:pt x="318" y="424"/>
                  </a:lnTo>
                  <a:lnTo>
                    <a:pt x="320" y="426"/>
                  </a:lnTo>
                  <a:lnTo>
                    <a:pt x="322" y="428"/>
                  </a:lnTo>
                  <a:lnTo>
                    <a:pt x="322" y="428"/>
                  </a:lnTo>
                  <a:close/>
                  <a:moveTo>
                    <a:pt x="302" y="436"/>
                  </a:moveTo>
                  <a:lnTo>
                    <a:pt x="302" y="436"/>
                  </a:lnTo>
                  <a:lnTo>
                    <a:pt x="304" y="438"/>
                  </a:lnTo>
                  <a:lnTo>
                    <a:pt x="308" y="436"/>
                  </a:lnTo>
                  <a:lnTo>
                    <a:pt x="308" y="436"/>
                  </a:lnTo>
                  <a:lnTo>
                    <a:pt x="310" y="436"/>
                  </a:lnTo>
                  <a:lnTo>
                    <a:pt x="312" y="432"/>
                  </a:lnTo>
                  <a:lnTo>
                    <a:pt x="312" y="432"/>
                  </a:lnTo>
                  <a:lnTo>
                    <a:pt x="312" y="430"/>
                  </a:lnTo>
                  <a:lnTo>
                    <a:pt x="312" y="426"/>
                  </a:lnTo>
                  <a:lnTo>
                    <a:pt x="312" y="426"/>
                  </a:lnTo>
                  <a:lnTo>
                    <a:pt x="310" y="424"/>
                  </a:lnTo>
                  <a:lnTo>
                    <a:pt x="308" y="422"/>
                  </a:lnTo>
                  <a:lnTo>
                    <a:pt x="308" y="422"/>
                  </a:lnTo>
                  <a:lnTo>
                    <a:pt x="304" y="422"/>
                  </a:lnTo>
                  <a:lnTo>
                    <a:pt x="302" y="422"/>
                  </a:lnTo>
                  <a:lnTo>
                    <a:pt x="302" y="422"/>
                  </a:lnTo>
                  <a:lnTo>
                    <a:pt x="298" y="424"/>
                  </a:lnTo>
                  <a:lnTo>
                    <a:pt x="296" y="426"/>
                  </a:lnTo>
                  <a:lnTo>
                    <a:pt x="296" y="426"/>
                  </a:lnTo>
                  <a:lnTo>
                    <a:pt x="296" y="430"/>
                  </a:lnTo>
                  <a:lnTo>
                    <a:pt x="296" y="432"/>
                  </a:lnTo>
                  <a:lnTo>
                    <a:pt x="296" y="432"/>
                  </a:lnTo>
                  <a:lnTo>
                    <a:pt x="298" y="436"/>
                  </a:lnTo>
                  <a:lnTo>
                    <a:pt x="302" y="436"/>
                  </a:lnTo>
                  <a:lnTo>
                    <a:pt x="302" y="436"/>
                  </a:lnTo>
                  <a:close/>
                  <a:moveTo>
                    <a:pt x="280" y="444"/>
                  </a:moveTo>
                  <a:lnTo>
                    <a:pt x="280" y="444"/>
                  </a:lnTo>
                  <a:lnTo>
                    <a:pt x="282" y="446"/>
                  </a:lnTo>
                  <a:lnTo>
                    <a:pt x="286" y="446"/>
                  </a:lnTo>
                  <a:lnTo>
                    <a:pt x="286" y="446"/>
                  </a:lnTo>
                  <a:lnTo>
                    <a:pt x="288" y="444"/>
                  </a:lnTo>
                  <a:lnTo>
                    <a:pt x="290" y="442"/>
                  </a:lnTo>
                  <a:lnTo>
                    <a:pt x="290" y="442"/>
                  </a:lnTo>
                  <a:lnTo>
                    <a:pt x="290" y="438"/>
                  </a:lnTo>
                  <a:lnTo>
                    <a:pt x="290" y="436"/>
                  </a:lnTo>
                  <a:lnTo>
                    <a:pt x="290" y="436"/>
                  </a:lnTo>
                  <a:lnTo>
                    <a:pt x="288" y="432"/>
                  </a:lnTo>
                  <a:lnTo>
                    <a:pt x="286" y="430"/>
                  </a:lnTo>
                  <a:lnTo>
                    <a:pt x="286" y="430"/>
                  </a:lnTo>
                  <a:lnTo>
                    <a:pt x="284" y="430"/>
                  </a:lnTo>
                  <a:lnTo>
                    <a:pt x="280" y="430"/>
                  </a:lnTo>
                  <a:lnTo>
                    <a:pt x="280" y="430"/>
                  </a:lnTo>
                  <a:lnTo>
                    <a:pt x="278" y="432"/>
                  </a:lnTo>
                  <a:lnTo>
                    <a:pt x="276" y="434"/>
                  </a:lnTo>
                  <a:lnTo>
                    <a:pt x="276" y="434"/>
                  </a:lnTo>
                  <a:lnTo>
                    <a:pt x="274" y="438"/>
                  </a:lnTo>
                  <a:lnTo>
                    <a:pt x="276" y="440"/>
                  </a:lnTo>
                  <a:lnTo>
                    <a:pt x="276" y="440"/>
                  </a:lnTo>
                  <a:lnTo>
                    <a:pt x="276" y="442"/>
                  </a:lnTo>
                  <a:lnTo>
                    <a:pt x="280" y="444"/>
                  </a:lnTo>
                  <a:lnTo>
                    <a:pt x="280" y="444"/>
                  </a:lnTo>
                  <a:close/>
                  <a:moveTo>
                    <a:pt x="256" y="452"/>
                  </a:moveTo>
                  <a:lnTo>
                    <a:pt x="256" y="452"/>
                  </a:lnTo>
                  <a:lnTo>
                    <a:pt x="260" y="452"/>
                  </a:lnTo>
                  <a:lnTo>
                    <a:pt x="262" y="452"/>
                  </a:lnTo>
                  <a:lnTo>
                    <a:pt x="262" y="452"/>
                  </a:lnTo>
                  <a:lnTo>
                    <a:pt x="266" y="450"/>
                  </a:lnTo>
                  <a:lnTo>
                    <a:pt x="268" y="448"/>
                  </a:lnTo>
                  <a:lnTo>
                    <a:pt x="268" y="448"/>
                  </a:lnTo>
                  <a:lnTo>
                    <a:pt x="268" y="446"/>
                  </a:lnTo>
                  <a:lnTo>
                    <a:pt x="268" y="442"/>
                  </a:lnTo>
                  <a:lnTo>
                    <a:pt x="268" y="442"/>
                  </a:lnTo>
                  <a:lnTo>
                    <a:pt x="266" y="440"/>
                  </a:lnTo>
                  <a:lnTo>
                    <a:pt x="264" y="438"/>
                  </a:lnTo>
                  <a:lnTo>
                    <a:pt x="264" y="438"/>
                  </a:lnTo>
                  <a:lnTo>
                    <a:pt x="262" y="436"/>
                  </a:lnTo>
                  <a:lnTo>
                    <a:pt x="258" y="436"/>
                  </a:lnTo>
                  <a:lnTo>
                    <a:pt x="258" y="436"/>
                  </a:lnTo>
                  <a:lnTo>
                    <a:pt x="256" y="438"/>
                  </a:lnTo>
                  <a:lnTo>
                    <a:pt x="254" y="440"/>
                  </a:lnTo>
                  <a:lnTo>
                    <a:pt x="254" y="440"/>
                  </a:lnTo>
                  <a:lnTo>
                    <a:pt x="252" y="444"/>
                  </a:lnTo>
                  <a:lnTo>
                    <a:pt x="254" y="446"/>
                  </a:lnTo>
                  <a:lnTo>
                    <a:pt x="254" y="446"/>
                  </a:lnTo>
                  <a:lnTo>
                    <a:pt x="254" y="450"/>
                  </a:lnTo>
                  <a:lnTo>
                    <a:pt x="256" y="452"/>
                  </a:lnTo>
                  <a:lnTo>
                    <a:pt x="256" y="452"/>
                  </a:lnTo>
                  <a:close/>
                  <a:moveTo>
                    <a:pt x="234" y="456"/>
                  </a:moveTo>
                  <a:lnTo>
                    <a:pt x="234" y="456"/>
                  </a:lnTo>
                  <a:lnTo>
                    <a:pt x="236" y="458"/>
                  </a:lnTo>
                  <a:lnTo>
                    <a:pt x="240" y="458"/>
                  </a:lnTo>
                  <a:lnTo>
                    <a:pt x="240" y="458"/>
                  </a:lnTo>
                  <a:lnTo>
                    <a:pt x="242" y="456"/>
                  </a:lnTo>
                  <a:lnTo>
                    <a:pt x="244" y="454"/>
                  </a:lnTo>
                  <a:lnTo>
                    <a:pt x="244" y="454"/>
                  </a:lnTo>
                  <a:lnTo>
                    <a:pt x="246" y="452"/>
                  </a:lnTo>
                  <a:lnTo>
                    <a:pt x="246" y="448"/>
                  </a:lnTo>
                  <a:lnTo>
                    <a:pt x="246" y="448"/>
                  </a:lnTo>
                  <a:lnTo>
                    <a:pt x="244" y="446"/>
                  </a:lnTo>
                  <a:lnTo>
                    <a:pt x="242" y="444"/>
                  </a:lnTo>
                  <a:lnTo>
                    <a:pt x="242" y="444"/>
                  </a:lnTo>
                  <a:lnTo>
                    <a:pt x="240" y="442"/>
                  </a:lnTo>
                  <a:lnTo>
                    <a:pt x="236" y="442"/>
                  </a:lnTo>
                  <a:lnTo>
                    <a:pt x="236" y="442"/>
                  </a:lnTo>
                  <a:lnTo>
                    <a:pt x="234" y="444"/>
                  </a:lnTo>
                  <a:lnTo>
                    <a:pt x="232" y="446"/>
                  </a:lnTo>
                  <a:lnTo>
                    <a:pt x="232" y="446"/>
                  </a:lnTo>
                  <a:lnTo>
                    <a:pt x="230" y="448"/>
                  </a:lnTo>
                  <a:lnTo>
                    <a:pt x="230" y="452"/>
                  </a:lnTo>
                  <a:lnTo>
                    <a:pt x="230" y="452"/>
                  </a:lnTo>
                  <a:lnTo>
                    <a:pt x="232" y="454"/>
                  </a:lnTo>
                  <a:lnTo>
                    <a:pt x="234" y="456"/>
                  </a:lnTo>
                  <a:lnTo>
                    <a:pt x="234" y="456"/>
                  </a:lnTo>
                  <a:close/>
                  <a:moveTo>
                    <a:pt x="212" y="460"/>
                  </a:moveTo>
                  <a:lnTo>
                    <a:pt x="212" y="460"/>
                  </a:lnTo>
                  <a:lnTo>
                    <a:pt x="214" y="462"/>
                  </a:lnTo>
                  <a:lnTo>
                    <a:pt x="218" y="462"/>
                  </a:lnTo>
                  <a:lnTo>
                    <a:pt x="218" y="462"/>
                  </a:lnTo>
                  <a:lnTo>
                    <a:pt x="220" y="462"/>
                  </a:lnTo>
                  <a:lnTo>
                    <a:pt x="222" y="460"/>
                  </a:lnTo>
                  <a:lnTo>
                    <a:pt x="222" y="460"/>
                  </a:lnTo>
                  <a:lnTo>
                    <a:pt x="224" y="456"/>
                  </a:lnTo>
                  <a:lnTo>
                    <a:pt x="224" y="454"/>
                  </a:lnTo>
                  <a:lnTo>
                    <a:pt x="224" y="454"/>
                  </a:lnTo>
                  <a:lnTo>
                    <a:pt x="222" y="450"/>
                  </a:lnTo>
                  <a:lnTo>
                    <a:pt x="220" y="448"/>
                  </a:lnTo>
                  <a:lnTo>
                    <a:pt x="220" y="448"/>
                  </a:lnTo>
                  <a:lnTo>
                    <a:pt x="218" y="446"/>
                  </a:lnTo>
                  <a:lnTo>
                    <a:pt x="214" y="446"/>
                  </a:lnTo>
                  <a:lnTo>
                    <a:pt x="214" y="446"/>
                  </a:lnTo>
                  <a:lnTo>
                    <a:pt x="212" y="448"/>
                  </a:lnTo>
                  <a:lnTo>
                    <a:pt x="210" y="450"/>
                  </a:lnTo>
                  <a:lnTo>
                    <a:pt x="210" y="450"/>
                  </a:lnTo>
                  <a:lnTo>
                    <a:pt x="208" y="452"/>
                  </a:lnTo>
                  <a:lnTo>
                    <a:pt x="208" y="456"/>
                  </a:lnTo>
                  <a:lnTo>
                    <a:pt x="208" y="456"/>
                  </a:lnTo>
                  <a:lnTo>
                    <a:pt x="208" y="458"/>
                  </a:lnTo>
                  <a:lnTo>
                    <a:pt x="212" y="460"/>
                  </a:lnTo>
                  <a:lnTo>
                    <a:pt x="212" y="460"/>
                  </a:lnTo>
                  <a:close/>
                  <a:moveTo>
                    <a:pt x="188" y="464"/>
                  </a:moveTo>
                  <a:lnTo>
                    <a:pt x="188" y="464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194" y="466"/>
                  </a:lnTo>
                  <a:lnTo>
                    <a:pt x="196" y="464"/>
                  </a:lnTo>
                  <a:lnTo>
                    <a:pt x="198" y="462"/>
                  </a:lnTo>
                  <a:lnTo>
                    <a:pt x="198" y="462"/>
                  </a:lnTo>
                  <a:lnTo>
                    <a:pt x="200" y="460"/>
                  </a:lnTo>
                  <a:lnTo>
                    <a:pt x="200" y="456"/>
                  </a:lnTo>
                  <a:lnTo>
                    <a:pt x="200" y="456"/>
                  </a:lnTo>
                  <a:lnTo>
                    <a:pt x="200" y="454"/>
                  </a:lnTo>
                  <a:lnTo>
                    <a:pt x="198" y="452"/>
                  </a:lnTo>
                  <a:lnTo>
                    <a:pt x="198" y="452"/>
                  </a:lnTo>
                  <a:lnTo>
                    <a:pt x="196" y="450"/>
                  </a:lnTo>
                  <a:lnTo>
                    <a:pt x="192" y="450"/>
                  </a:lnTo>
                  <a:lnTo>
                    <a:pt x="192" y="450"/>
                  </a:lnTo>
                  <a:lnTo>
                    <a:pt x="190" y="450"/>
                  </a:lnTo>
                  <a:lnTo>
                    <a:pt x="186" y="452"/>
                  </a:lnTo>
                  <a:lnTo>
                    <a:pt x="186" y="452"/>
                  </a:lnTo>
                  <a:lnTo>
                    <a:pt x="186" y="456"/>
                  </a:lnTo>
                  <a:lnTo>
                    <a:pt x="184" y="458"/>
                  </a:lnTo>
                  <a:lnTo>
                    <a:pt x="184" y="458"/>
                  </a:lnTo>
                  <a:lnTo>
                    <a:pt x="186" y="462"/>
                  </a:lnTo>
                  <a:lnTo>
                    <a:pt x="188" y="464"/>
                  </a:lnTo>
                  <a:lnTo>
                    <a:pt x="188" y="464"/>
                  </a:lnTo>
                  <a:close/>
                  <a:moveTo>
                    <a:pt x="164" y="466"/>
                  </a:moveTo>
                  <a:lnTo>
                    <a:pt x="164" y="466"/>
                  </a:lnTo>
                  <a:lnTo>
                    <a:pt x="168" y="466"/>
                  </a:lnTo>
                  <a:lnTo>
                    <a:pt x="170" y="468"/>
                  </a:lnTo>
                  <a:lnTo>
                    <a:pt x="170" y="468"/>
                  </a:lnTo>
                  <a:lnTo>
                    <a:pt x="174" y="466"/>
                  </a:lnTo>
                  <a:lnTo>
                    <a:pt x="176" y="464"/>
                  </a:lnTo>
                  <a:lnTo>
                    <a:pt x="176" y="464"/>
                  </a:lnTo>
                  <a:lnTo>
                    <a:pt x="178" y="462"/>
                  </a:lnTo>
                  <a:lnTo>
                    <a:pt x="178" y="460"/>
                  </a:lnTo>
                  <a:lnTo>
                    <a:pt x="178" y="460"/>
                  </a:lnTo>
                  <a:lnTo>
                    <a:pt x="178" y="456"/>
                  </a:lnTo>
                  <a:lnTo>
                    <a:pt x="176" y="454"/>
                  </a:lnTo>
                  <a:lnTo>
                    <a:pt x="176" y="454"/>
                  </a:lnTo>
                  <a:lnTo>
                    <a:pt x="172" y="452"/>
                  </a:lnTo>
                  <a:lnTo>
                    <a:pt x="170" y="452"/>
                  </a:lnTo>
                  <a:lnTo>
                    <a:pt x="170" y="452"/>
                  </a:lnTo>
                  <a:lnTo>
                    <a:pt x="166" y="452"/>
                  </a:lnTo>
                  <a:lnTo>
                    <a:pt x="164" y="454"/>
                  </a:lnTo>
                  <a:lnTo>
                    <a:pt x="164" y="454"/>
                  </a:lnTo>
                  <a:lnTo>
                    <a:pt x="162" y="456"/>
                  </a:lnTo>
                  <a:lnTo>
                    <a:pt x="162" y="460"/>
                  </a:lnTo>
                  <a:lnTo>
                    <a:pt x="162" y="460"/>
                  </a:lnTo>
                  <a:lnTo>
                    <a:pt x="162" y="462"/>
                  </a:lnTo>
                  <a:lnTo>
                    <a:pt x="164" y="466"/>
                  </a:lnTo>
                  <a:lnTo>
                    <a:pt x="164" y="466"/>
                  </a:lnTo>
                  <a:close/>
                  <a:moveTo>
                    <a:pt x="140" y="464"/>
                  </a:moveTo>
                  <a:lnTo>
                    <a:pt x="140" y="464"/>
                  </a:lnTo>
                  <a:lnTo>
                    <a:pt x="144" y="466"/>
                  </a:lnTo>
                  <a:lnTo>
                    <a:pt x="146" y="466"/>
                  </a:lnTo>
                  <a:lnTo>
                    <a:pt x="146" y="466"/>
                  </a:lnTo>
                  <a:lnTo>
                    <a:pt x="150" y="466"/>
                  </a:lnTo>
                  <a:lnTo>
                    <a:pt x="152" y="464"/>
                  </a:lnTo>
                  <a:lnTo>
                    <a:pt x="152" y="464"/>
                  </a:lnTo>
                  <a:lnTo>
                    <a:pt x="154" y="462"/>
                  </a:lnTo>
                  <a:lnTo>
                    <a:pt x="154" y="460"/>
                  </a:lnTo>
                  <a:lnTo>
                    <a:pt x="154" y="460"/>
                  </a:lnTo>
                  <a:lnTo>
                    <a:pt x="154" y="456"/>
                  </a:lnTo>
                  <a:lnTo>
                    <a:pt x="152" y="454"/>
                  </a:lnTo>
                  <a:lnTo>
                    <a:pt x="152" y="454"/>
                  </a:lnTo>
                  <a:lnTo>
                    <a:pt x="150" y="452"/>
                  </a:lnTo>
                  <a:lnTo>
                    <a:pt x="148" y="452"/>
                  </a:lnTo>
                  <a:lnTo>
                    <a:pt x="148" y="452"/>
                  </a:lnTo>
                  <a:lnTo>
                    <a:pt x="144" y="452"/>
                  </a:lnTo>
                  <a:lnTo>
                    <a:pt x="142" y="454"/>
                  </a:lnTo>
                  <a:lnTo>
                    <a:pt x="142" y="454"/>
                  </a:lnTo>
                  <a:lnTo>
                    <a:pt x="140" y="456"/>
                  </a:lnTo>
                  <a:lnTo>
                    <a:pt x="138" y="458"/>
                  </a:lnTo>
                  <a:lnTo>
                    <a:pt x="138" y="458"/>
                  </a:lnTo>
                  <a:lnTo>
                    <a:pt x="140" y="462"/>
                  </a:lnTo>
                  <a:lnTo>
                    <a:pt x="140" y="464"/>
                  </a:lnTo>
                  <a:lnTo>
                    <a:pt x="140" y="464"/>
                  </a:lnTo>
                  <a:close/>
                  <a:moveTo>
                    <a:pt x="118" y="462"/>
                  </a:moveTo>
                  <a:lnTo>
                    <a:pt x="118" y="462"/>
                  </a:lnTo>
                  <a:lnTo>
                    <a:pt x="120" y="464"/>
                  </a:lnTo>
                  <a:lnTo>
                    <a:pt x="122" y="464"/>
                  </a:lnTo>
                  <a:lnTo>
                    <a:pt x="122" y="464"/>
                  </a:lnTo>
                  <a:lnTo>
                    <a:pt x="126" y="464"/>
                  </a:lnTo>
                  <a:lnTo>
                    <a:pt x="128" y="464"/>
                  </a:lnTo>
                  <a:lnTo>
                    <a:pt x="128" y="464"/>
                  </a:lnTo>
                  <a:lnTo>
                    <a:pt x="130" y="460"/>
                  </a:lnTo>
                  <a:lnTo>
                    <a:pt x="132" y="458"/>
                  </a:lnTo>
                  <a:lnTo>
                    <a:pt x="132" y="458"/>
                  </a:lnTo>
                  <a:lnTo>
                    <a:pt x="132" y="454"/>
                  </a:lnTo>
                  <a:lnTo>
                    <a:pt x="130" y="452"/>
                  </a:lnTo>
                  <a:lnTo>
                    <a:pt x="130" y="452"/>
                  </a:lnTo>
                  <a:lnTo>
                    <a:pt x="128" y="450"/>
                  </a:lnTo>
                  <a:lnTo>
                    <a:pt x="126" y="448"/>
                  </a:lnTo>
                  <a:lnTo>
                    <a:pt x="126" y="448"/>
                  </a:lnTo>
                  <a:lnTo>
                    <a:pt x="122" y="448"/>
                  </a:lnTo>
                  <a:lnTo>
                    <a:pt x="120" y="450"/>
                  </a:lnTo>
                  <a:lnTo>
                    <a:pt x="120" y="450"/>
                  </a:lnTo>
                  <a:lnTo>
                    <a:pt x="118" y="452"/>
                  </a:lnTo>
                  <a:lnTo>
                    <a:pt x="116" y="456"/>
                  </a:lnTo>
                  <a:lnTo>
                    <a:pt x="116" y="456"/>
                  </a:lnTo>
                  <a:lnTo>
                    <a:pt x="116" y="458"/>
                  </a:lnTo>
                  <a:lnTo>
                    <a:pt x="118" y="462"/>
                  </a:lnTo>
                  <a:lnTo>
                    <a:pt x="118" y="462"/>
                  </a:lnTo>
                  <a:close/>
                  <a:moveTo>
                    <a:pt x="94" y="456"/>
                  </a:moveTo>
                  <a:lnTo>
                    <a:pt x="94" y="456"/>
                  </a:lnTo>
                  <a:lnTo>
                    <a:pt x="96" y="458"/>
                  </a:lnTo>
                  <a:lnTo>
                    <a:pt x="98" y="458"/>
                  </a:lnTo>
                  <a:lnTo>
                    <a:pt x="98" y="458"/>
                  </a:lnTo>
                  <a:lnTo>
                    <a:pt x="102" y="460"/>
                  </a:lnTo>
                  <a:lnTo>
                    <a:pt x="104" y="458"/>
                  </a:lnTo>
                  <a:lnTo>
                    <a:pt x="104" y="458"/>
                  </a:lnTo>
                  <a:lnTo>
                    <a:pt x="108" y="456"/>
                  </a:lnTo>
                  <a:lnTo>
                    <a:pt x="108" y="454"/>
                  </a:lnTo>
                  <a:lnTo>
                    <a:pt x="108" y="454"/>
                  </a:lnTo>
                  <a:lnTo>
                    <a:pt x="110" y="450"/>
                  </a:lnTo>
                  <a:lnTo>
                    <a:pt x="108" y="448"/>
                  </a:lnTo>
                  <a:lnTo>
                    <a:pt x="108" y="448"/>
                  </a:lnTo>
                  <a:lnTo>
                    <a:pt x="106" y="446"/>
                  </a:lnTo>
                  <a:lnTo>
                    <a:pt x="104" y="444"/>
                  </a:lnTo>
                  <a:lnTo>
                    <a:pt x="104" y="444"/>
                  </a:lnTo>
                  <a:lnTo>
                    <a:pt x="100" y="444"/>
                  </a:lnTo>
                  <a:lnTo>
                    <a:pt x="98" y="444"/>
                  </a:lnTo>
                  <a:lnTo>
                    <a:pt x="98" y="444"/>
                  </a:lnTo>
                  <a:lnTo>
                    <a:pt x="96" y="446"/>
                  </a:lnTo>
                  <a:lnTo>
                    <a:pt x="94" y="450"/>
                  </a:lnTo>
                  <a:lnTo>
                    <a:pt x="94" y="450"/>
                  </a:lnTo>
                  <a:lnTo>
                    <a:pt x="94" y="452"/>
                  </a:lnTo>
                  <a:lnTo>
                    <a:pt x="94" y="456"/>
                  </a:lnTo>
                  <a:lnTo>
                    <a:pt x="94" y="456"/>
                  </a:lnTo>
                  <a:close/>
                  <a:moveTo>
                    <a:pt x="72" y="446"/>
                  </a:moveTo>
                  <a:lnTo>
                    <a:pt x="72" y="446"/>
                  </a:lnTo>
                  <a:lnTo>
                    <a:pt x="74" y="448"/>
                  </a:lnTo>
                  <a:lnTo>
                    <a:pt x="76" y="450"/>
                  </a:lnTo>
                  <a:lnTo>
                    <a:pt x="76" y="450"/>
                  </a:lnTo>
                  <a:lnTo>
                    <a:pt x="80" y="450"/>
                  </a:lnTo>
                  <a:lnTo>
                    <a:pt x="82" y="450"/>
                  </a:lnTo>
                  <a:lnTo>
                    <a:pt x="82" y="450"/>
                  </a:lnTo>
                  <a:lnTo>
                    <a:pt x="84" y="448"/>
                  </a:lnTo>
                  <a:lnTo>
                    <a:pt x="86" y="446"/>
                  </a:lnTo>
                  <a:lnTo>
                    <a:pt x="86" y="446"/>
                  </a:lnTo>
                  <a:lnTo>
                    <a:pt x="88" y="444"/>
                  </a:lnTo>
                  <a:lnTo>
                    <a:pt x="88" y="440"/>
                  </a:lnTo>
                  <a:lnTo>
                    <a:pt x="88" y="440"/>
                  </a:lnTo>
                  <a:lnTo>
                    <a:pt x="86" y="438"/>
                  </a:lnTo>
                  <a:lnTo>
                    <a:pt x="84" y="436"/>
                  </a:lnTo>
                  <a:lnTo>
                    <a:pt x="84" y="436"/>
                  </a:lnTo>
                  <a:lnTo>
                    <a:pt x="80" y="436"/>
                  </a:lnTo>
                  <a:lnTo>
                    <a:pt x="78" y="436"/>
                  </a:lnTo>
                  <a:lnTo>
                    <a:pt x="78" y="436"/>
                  </a:lnTo>
                  <a:lnTo>
                    <a:pt x="74" y="436"/>
                  </a:lnTo>
                  <a:lnTo>
                    <a:pt x="72" y="440"/>
                  </a:lnTo>
                  <a:lnTo>
                    <a:pt x="72" y="440"/>
                  </a:lnTo>
                  <a:lnTo>
                    <a:pt x="72" y="442"/>
                  </a:lnTo>
                  <a:lnTo>
                    <a:pt x="72" y="446"/>
                  </a:lnTo>
                  <a:lnTo>
                    <a:pt x="72" y="446"/>
                  </a:lnTo>
                  <a:close/>
                  <a:moveTo>
                    <a:pt x="52" y="432"/>
                  </a:moveTo>
                  <a:lnTo>
                    <a:pt x="52" y="432"/>
                  </a:lnTo>
                  <a:lnTo>
                    <a:pt x="54" y="434"/>
                  </a:lnTo>
                  <a:lnTo>
                    <a:pt x="56" y="438"/>
                  </a:lnTo>
                  <a:lnTo>
                    <a:pt x="56" y="438"/>
                  </a:lnTo>
                  <a:lnTo>
                    <a:pt x="58" y="438"/>
                  </a:lnTo>
                  <a:lnTo>
                    <a:pt x="62" y="438"/>
                  </a:lnTo>
                  <a:lnTo>
                    <a:pt x="62" y="438"/>
                  </a:lnTo>
                  <a:lnTo>
                    <a:pt x="64" y="438"/>
                  </a:lnTo>
                  <a:lnTo>
                    <a:pt x="66" y="436"/>
                  </a:lnTo>
                  <a:lnTo>
                    <a:pt x="66" y="436"/>
                  </a:lnTo>
                  <a:lnTo>
                    <a:pt x="68" y="432"/>
                  </a:lnTo>
                  <a:lnTo>
                    <a:pt x="68" y="430"/>
                  </a:lnTo>
                  <a:lnTo>
                    <a:pt x="68" y="430"/>
                  </a:lnTo>
                  <a:lnTo>
                    <a:pt x="66" y="426"/>
                  </a:lnTo>
                  <a:lnTo>
                    <a:pt x="64" y="424"/>
                  </a:lnTo>
                  <a:lnTo>
                    <a:pt x="64" y="424"/>
                  </a:lnTo>
                  <a:lnTo>
                    <a:pt x="62" y="424"/>
                  </a:lnTo>
                  <a:lnTo>
                    <a:pt x="58" y="424"/>
                  </a:lnTo>
                  <a:lnTo>
                    <a:pt x="58" y="424"/>
                  </a:lnTo>
                  <a:lnTo>
                    <a:pt x="56" y="424"/>
                  </a:lnTo>
                  <a:lnTo>
                    <a:pt x="54" y="426"/>
                  </a:lnTo>
                  <a:lnTo>
                    <a:pt x="54" y="426"/>
                  </a:lnTo>
                  <a:lnTo>
                    <a:pt x="52" y="428"/>
                  </a:lnTo>
                  <a:lnTo>
                    <a:pt x="52" y="432"/>
                  </a:lnTo>
                  <a:lnTo>
                    <a:pt x="52" y="432"/>
                  </a:lnTo>
                  <a:close/>
                  <a:moveTo>
                    <a:pt x="34" y="414"/>
                  </a:moveTo>
                  <a:lnTo>
                    <a:pt x="34" y="414"/>
                  </a:lnTo>
                  <a:lnTo>
                    <a:pt x="36" y="418"/>
                  </a:lnTo>
                  <a:lnTo>
                    <a:pt x="36" y="420"/>
                  </a:lnTo>
                  <a:lnTo>
                    <a:pt x="36" y="420"/>
                  </a:lnTo>
                  <a:lnTo>
                    <a:pt x="40" y="422"/>
                  </a:lnTo>
                  <a:lnTo>
                    <a:pt x="42" y="424"/>
                  </a:lnTo>
                  <a:lnTo>
                    <a:pt x="42" y="424"/>
                  </a:lnTo>
                  <a:lnTo>
                    <a:pt x="46" y="422"/>
                  </a:lnTo>
                  <a:lnTo>
                    <a:pt x="48" y="422"/>
                  </a:lnTo>
                  <a:lnTo>
                    <a:pt x="48" y="422"/>
                  </a:lnTo>
                  <a:lnTo>
                    <a:pt x="50" y="418"/>
                  </a:lnTo>
                  <a:lnTo>
                    <a:pt x="50" y="416"/>
                  </a:lnTo>
                  <a:lnTo>
                    <a:pt x="50" y="416"/>
                  </a:lnTo>
                  <a:lnTo>
                    <a:pt x="50" y="412"/>
                  </a:lnTo>
                  <a:lnTo>
                    <a:pt x="48" y="410"/>
                  </a:lnTo>
                  <a:lnTo>
                    <a:pt x="48" y="410"/>
                  </a:lnTo>
                  <a:lnTo>
                    <a:pt x="46" y="408"/>
                  </a:lnTo>
                  <a:lnTo>
                    <a:pt x="44" y="408"/>
                  </a:lnTo>
                  <a:lnTo>
                    <a:pt x="44" y="408"/>
                  </a:lnTo>
                  <a:lnTo>
                    <a:pt x="40" y="408"/>
                  </a:lnTo>
                  <a:lnTo>
                    <a:pt x="38" y="410"/>
                  </a:lnTo>
                  <a:lnTo>
                    <a:pt x="38" y="410"/>
                  </a:lnTo>
                  <a:lnTo>
                    <a:pt x="36" y="412"/>
                  </a:lnTo>
                  <a:lnTo>
                    <a:pt x="34" y="414"/>
                  </a:lnTo>
                  <a:lnTo>
                    <a:pt x="34" y="414"/>
                  </a:lnTo>
                  <a:close/>
                  <a:moveTo>
                    <a:pt x="22" y="394"/>
                  </a:moveTo>
                  <a:lnTo>
                    <a:pt x="22" y="394"/>
                  </a:lnTo>
                  <a:lnTo>
                    <a:pt x="22" y="398"/>
                  </a:lnTo>
                  <a:lnTo>
                    <a:pt x="22" y="400"/>
                  </a:lnTo>
                  <a:lnTo>
                    <a:pt x="22" y="400"/>
                  </a:lnTo>
                  <a:lnTo>
                    <a:pt x="24" y="404"/>
                  </a:lnTo>
                  <a:lnTo>
                    <a:pt x="28" y="404"/>
                  </a:lnTo>
                  <a:lnTo>
                    <a:pt x="28" y="404"/>
                  </a:lnTo>
                  <a:lnTo>
                    <a:pt x="30" y="404"/>
                  </a:lnTo>
                  <a:lnTo>
                    <a:pt x="32" y="404"/>
                  </a:lnTo>
                  <a:lnTo>
                    <a:pt x="32" y="404"/>
                  </a:lnTo>
                  <a:lnTo>
                    <a:pt x="36" y="402"/>
                  </a:lnTo>
                  <a:lnTo>
                    <a:pt x="36" y="398"/>
                  </a:lnTo>
                  <a:lnTo>
                    <a:pt x="36" y="398"/>
                  </a:lnTo>
                  <a:lnTo>
                    <a:pt x="36" y="396"/>
                  </a:lnTo>
                  <a:lnTo>
                    <a:pt x="36" y="392"/>
                  </a:lnTo>
                  <a:lnTo>
                    <a:pt x="36" y="392"/>
                  </a:lnTo>
                  <a:lnTo>
                    <a:pt x="34" y="390"/>
                  </a:lnTo>
                  <a:lnTo>
                    <a:pt x="30" y="390"/>
                  </a:lnTo>
                  <a:lnTo>
                    <a:pt x="30" y="390"/>
                  </a:lnTo>
                  <a:lnTo>
                    <a:pt x="28" y="388"/>
                  </a:lnTo>
                  <a:lnTo>
                    <a:pt x="24" y="390"/>
                  </a:lnTo>
                  <a:lnTo>
                    <a:pt x="24" y="390"/>
                  </a:lnTo>
                  <a:lnTo>
                    <a:pt x="22" y="392"/>
                  </a:lnTo>
                  <a:lnTo>
                    <a:pt x="22" y="394"/>
                  </a:lnTo>
                  <a:lnTo>
                    <a:pt x="22" y="394"/>
                  </a:lnTo>
                  <a:close/>
                  <a:moveTo>
                    <a:pt x="12" y="372"/>
                  </a:moveTo>
                  <a:lnTo>
                    <a:pt x="12" y="372"/>
                  </a:lnTo>
                  <a:lnTo>
                    <a:pt x="10" y="376"/>
                  </a:lnTo>
                  <a:lnTo>
                    <a:pt x="12" y="378"/>
                  </a:lnTo>
                  <a:lnTo>
                    <a:pt x="12" y="378"/>
                  </a:lnTo>
                  <a:lnTo>
                    <a:pt x="12" y="382"/>
                  </a:lnTo>
                  <a:lnTo>
                    <a:pt x="16" y="384"/>
                  </a:lnTo>
                  <a:lnTo>
                    <a:pt x="16" y="384"/>
                  </a:lnTo>
                  <a:lnTo>
                    <a:pt x="18" y="384"/>
                  </a:lnTo>
                  <a:lnTo>
                    <a:pt x="22" y="384"/>
                  </a:lnTo>
                  <a:lnTo>
                    <a:pt x="22" y="384"/>
                  </a:lnTo>
                  <a:lnTo>
                    <a:pt x="24" y="382"/>
                  </a:lnTo>
                  <a:lnTo>
                    <a:pt x="26" y="380"/>
                  </a:lnTo>
                  <a:lnTo>
                    <a:pt x="26" y="380"/>
                  </a:lnTo>
                  <a:lnTo>
                    <a:pt x="26" y="376"/>
                  </a:lnTo>
                  <a:lnTo>
                    <a:pt x="26" y="374"/>
                  </a:lnTo>
                  <a:lnTo>
                    <a:pt x="26" y="374"/>
                  </a:lnTo>
                  <a:lnTo>
                    <a:pt x="24" y="370"/>
                  </a:lnTo>
                  <a:lnTo>
                    <a:pt x="22" y="368"/>
                  </a:lnTo>
                  <a:lnTo>
                    <a:pt x="22" y="368"/>
                  </a:lnTo>
                  <a:lnTo>
                    <a:pt x="18" y="368"/>
                  </a:lnTo>
                  <a:lnTo>
                    <a:pt x="16" y="368"/>
                  </a:lnTo>
                  <a:lnTo>
                    <a:pt x="16" y="368"/>
                  </a:lnTo>
                  <a:lnTo>
                    <a:pt x="12" y="370"/>
                  </a:lnTo>
                  <a:lnTo>
                    <a:pt x="12" y="372"/>
                  </a:lnTo>
                  <a:lnTo>
                    <a:pt x="12" y="372"/>
                  </a:lnTo>
                  <a:close/>
                  <a:moveTo>
                    <a:pt x="4" y="350"/>
                  </a:moveTo>
                  <a:lnTo>
                    <a:pt x="4" y="350"/>
                  </a:lnTo>
                  <a:lnTo>
                    <a:pt x="4" y="352"/>
                  </a:lnTo>
                  <a:lnTo>
                    <a:pt x="4" y="356"/>
                  </a:lnTo>
                  <a:lnTo>
                    <a:pt x="4" y="356"/>
                  </a:lnTo>
                  <a:lnTo>
                    <a:pt x="4" y="358"/>
                  </a:lnTo>
                  <a:lnTo>
                    <a:pt x="8" y="360"/>
                  </a:lnTo>
                  <a:lnTo>
                    <a:pt x="8" y="360"/>
                  </a:lnTo>
                  <a:lnTo>
                    <a:pt x="10" y="362"/>
                  </a:lnTo>
                  <a:lnTo>
                    <a:pt x="14" y="362"/>
                  </a:lnTo>
                  <a:lnTo>
                    <a:pt x="14" y="362"/>
                  </a:lnTo>
                  <a:lnTo>
                    <a:pt x="16" y="360"/>
                  </a:lnTo>
                  <a:lnTo>
                    <a:pt x="18" y="358"/>
                  </a:lnTo>
                  <a:lnTo>
                    <a:pt x="18" y="358"/>
                  </a:lnTo>
                  <a:lnTo>
                    <a:pt x="20" y="356"/>
                  </a:lnTo>
                  <a:lnTo>
                    <a:pt x="20" y="352"/>
                  </a:lnTo>
                  <a:lnTo>
                    <a:pt x="20" y="352"/>
                  </a:lnTo>
                  <a:lnTo>
                    <a:pt x="18" y="350"/>
                  </a:lnTo>
                  <a:lnTo>
                    <a:pt x="16" y="348"/>
                  </a:lnTo>
                  <a:lnTo>
                    <a:pt x="16" y="348"/>
                  </a:lnTo>
                  <a:lnTo>
                    <a:pt x="12" y="346"/>
                  </a:lnTo>
                  <a:lnTo>
                    <a:pt x="10" y="346"/>
                  </a:lnTo>
                  <a:lnTo>
                    <a:pt x="10" y="346"/>
                  </a:lnTo>
                  <a:lnTo>
                    <a:pt x="6" y="348"/>
                  </a:lnTo>
                  <a:lnTo>
                    <a:pt x="4" y="350"/>
                  </a:lnTo>
                  <a:lnTo>
                    <a:pt x="4" y="350"/>
                  </a:lnTo>
                  <a:close/>
                  <a:moveTo>
                    <a:pt x="2" y="326"/>
                  </a:moveTo>
                  <a:lnTo>
                    <a:pt x="2" y="326"/>
                  </a:lnTo>
                  <a:lnTo>
                    <a:pt x="0" y="328"/>
                  </a:lnTo>
                  <a:lnTo>
                    <a:pt x="0" y="332"/>
                  </a:lnTo>
                  <a:lnTo>
                    <a:pt x="0" y="332"/>
                  </a:lnTo>
                  <a:lnTo>
                    <a:pt x="0" y="334"/>
                  </a:lnTo>
                  <a:lnTo>
                    <a:pt x="2" y="336"/>
                  </a:lnTo>
                  <a:lnTo>
                    <a:pt x="2" y="336"/>
                  </a:lnTo>
                  <a:lnTo>
                    <a:pt x="6" y="338"/>
                  </a:lnTo>
                  <a:lnTo>
                    <a:pt x="8" y="338"/>
                  </a:lnTo>
                  <a:lnTo>
                    <a:pt x="8" y="338"/>
                  </a:lnTo>
                  <a:lnTo>
                    <a:pt x="12" y="338"/>
                  </a:lnTo>
                  <a:lnTo>
                    <a:pt x="14" y="336"/>
                  </a:lnTo>
                  <a:lnTo>
                    <a:pt x="14" y="336"/>
                  </a:lnTo>
                  <a:lnTo>
                    <a:pt x="16" y="334"/>
                  </a:lnTo>
                  <a:lnTo>
                    <a:pt x="16" y="330"/>
                  </a:lnTo>
                  <a:lnTo>
                    <a:pt x="16" y="330"/>
                  </a:lnTo>
                  <a:lnTo>
                    <a:pt x="14" y="328"/>
                  </a:lnTo>
                  <a:lnTo>
                    <a:pt x="14" y="326"/>
                  </a:lnTo>
                  <a:lnTo>
                    <a:pt x="14" y="326"/>
                  </a:lnTo>
                  <a:lnTo>
                    <a:pt x="10" y="324"/>
                  </a:lnTo>
                  <a:lnTo>
                    <a:pt x="8" y="324"/>
                  </a:lnTo>
                  <a:lnTo>
                    <a:pt x="8" y="324"/>
                  </a:lnTo>
                  <a:lnTo>
                    <a:pt x="4" y="324"/>
                  </a:lnTo>
                  <a:lnTo>
                    <a:pt x="2" y="326"/>
                  </a:lnTo>
                  <a:lnTo>
                    <a:pt x="2" y="326"/>
                  </a:lnTo>
                  <a:close/>
                  <a:moveTo>
                    <a:pt x="4" y="302"/>
                  </a:moveTo>
                  <a:lnTo>
                    <a:pt x="4" y="302"/>
                  </a:lnTo>
                  <a:lnTo>
                    <a:pt x="2" y="304"/>
                  </a:lnTo>
                  <a:lnTo>
                    <a:pt x="0" y="308"/>
                  </a:lnTo>
                  <a:lnTo>
                    <a:pt x="0" y="308"/>
                  </a:lnTo>
                  <a:lnTo>
                    <a:pt x="0" y="310"/>
                  </a:lnTo>
                  <a:lnTo>
                    <a:pt x="2" y="312"/>
                  </a:lnTo>
                  <a:lnTo>
                    <a:pt x="2" y="312"/>
                  </a:lnTo>
                  <a:lnTo>
                    <a:pt x="4" y="314"/>
                  </a:lnTo>
                  <a:lnTo>
                    <a:pt x="8" y="316"/>
                  </a:lnTo>
                  <a:lnTo>
                    <a:pt x="8" y="316"/>
                  </a:lnTo>
                  <a:lnTo>
                    <a:pt x="10" y="316"/>
                  </a:lnTo>
                  <a:lnTo>
                    <a:pt x="14" y="314"/>
                  </a:lnTo>
                  <a:lnTo>
                    <a:pt x="14" y="314"/>
                  </a:lnTo>
                  <a:lnTo>
                    <a:pt x="16" y="312"/>
                  </a:lnTo>
                  <a:lnTo>
                    <a:pt x="16" y="308"/>
                  </a:lnTo>
                  <a:lnTo>
                    <a:pt x="16" y="308"/>
                  </a:lnTo>
                  <a:lnTo>
                    <a:pt x="16" y="306"/>
                  </a:lnTo>
                  <a:lnTo>
                    <a:pt x="14" y="302"/>
                  </a:lnTo>
                  <a:lnTo>
                    <a:pt x="14" y="302"/>
                  </a:lnTo>
                  <a:lnTo>
                    <a:pt x="12" y="300"/>
                  </a:lnTo>
                  <a:lnTo>
                    <a:pt x="8" y="300"/>
                  </a:lnTo>
                  <a:lnTo>
                    <a:pt x="8" y="300"/>
                  </a:lnTo>
                  <a:lnTo>
                    <a:pt x="6" y="300"/>
                  </a:lnTo>
                  <a:lnTo>
                    <a:pt x="4" y="302"/>
                  </a:lnTo>
                  <a:lnTo>
                    <a:pt x="4" y="302"/>
                  </a:lnTo>
                  <a:close/>
                  <a:moveTo>
                    <a:pt x="8" y="278"/>
                  </a:moveTo>
                  <a:lnTo>
                    <a:pt x="8" y="278"/>
                  </a:lnTo>
                  <a:lnTo>
                    <a:pt x="6" y="280"/>
                  </a:lnTo>
                  <a:lnTo>
                    <a:pt x="4" y="284"/>
                  </a:lnTo>
                  <a:lnTo>
                    <a:pt x="4" y="284"/>
                  </a:lnTo>
                  <a:lnTo>
                    <a:pt x="4" y="286"/>
                  </a:lnTo>
                  <a:lnTo>
                    <a:pt x="6" y="290"/>
                  </a:lnTo>
                  <a:lnTo>
                    <a:pt x="6" y="290"/>
                  </a:lnTo>
                  <a:lnTo>
                    <a:pt x="8" y="292"/>
                  </a:lnTo>
                  <a:lnTo>
                    <a:pt x="10" y="292"/>
                  </a:lnTo>
                  <a:lnTo>
                    <a:pt x="10" y="292"/>
                  </a:lnTo>
                  <a:lnTo>
                    <a:pt x="14" y="292"/>
                  </a:lnTo>
                  <a:lnTo>
                    <a:pt x="16" y="292"/>
                  </a:lnTo>
                  <a:lnTo>
                    <a:pt x="16" y="292"/>
                  </a:lnTo>
                  <a:lnTo>
                    <a:pt x="18" y="290"/>
                  </a:lnTo>
                  <a:lnTo>
                    <a:pt x="20" y="286"/>
                  </a:lnTo>
                  <a:lnTo>
                    <a:pt x="20" y="286"/>
                  </a:lnTo>
                  <a:lnTo>
                    <a:pt x="20" y="284"/>
                  </a:lnTo>
                  <a:lnTo>
                    <a:pt x="18" y="280"/>
                  </a:lnTo>
                  <a:lnTo>
                    <a:pt x="18" y="280"/>
                  </a:lnTo>
                  <a:lnTo>
                    <a:pt x="16" y="278"/>
                  </a:lnTo>
                  <a:lnTo>
                    <a:pt x="14" y="278"/>
                  </a:lnTo>
                  <a:lnTo>
                    <a:pt x="14" y="278"/>
                  </a:lnTo>
                  <a:lnTo>
                    <a:pt x="10" y="278"/>
                  </a:lnTo>
                  <a:lnTo>
                    <a:pt x="8" y="278"/>
                  </a:lnTo>
                  <a:lnTo>
                    <a:pt x="8" y="278"/>
                  </a:lnTo>
                  <a:close/>
                  <a:moveTo>
                    <a:pt x="16" y="256"/>
                  </a:moveTo>
                  <a:lnTo>
                    <a:pt x="16" y="256"/>
                  </a:lnTo>
                  <a:lnTo>
                    <a:pt x="14" y="258"/>
                  </a:lnTo>
                  <a:lnTo>
                    <a:pt x="12" y="260"/>
                  </a:lnTo>
                  <a:lnTo>
                    <a:pt x="12" y="260"/>
                  </a:lnTo>
                  <a:lnTo>
                    <a:pt x="12" y="264"/>
                  </a:lnTo>
                  <a:lnTo>
                    <a:pt x="12" y="266"/>
                  </a:lnTo>
                  <a:lnTo>
                    <a:pt x="12" y="266"/>
                  </a:lnTo>
                  <a:lnTo>
                    <a:pt x="14" y="268"/>
                  </a:lnTo>
                  <a:lnTo>
                    <a:pt x="16" y="270"/>
                  </a:lnTo>
                  <a:lnTo>
                    <a:pt x="16" y="270"/>
                  </a:lnTo>
                  <a:lnTo>
                    <a:pt x="20" y="270"/>
                  </a:lnTo>
                  <a:lnTo>
                    <a:pt x="22" y="270"/>
                  </a:lnTo>
                  <a:lnTo>
                    <a:pt x="22" y="270"/>
                  </a:lnTo>
                  <a:lnTo>
                    <a:pt x="24" y="268"/>
                  </a:lnTo>
                  <a:lnTo>
                    <a:pt x="26" y="266"/>
                  </a:lnTo>
                  <a:lnTo>
                    <a:pt x="26" y="266"/>
                  </a:lnTo>
                  <a:lnTo>
                    <a:pt x="28" y="262"/>
                  </a:lnTo>
                  <a:lnTo>
                    <a:pt x="26" y="260"/>
                  </a:lnTo>
                  <a:lnTo>
                    <a:pt x="26" y="260"/>
                  </a:lnTo>
                  <a:lnTo>
                    <a:pt x="24" y="258"/>
                  </a:lnTo>
                  <a:lnTo>
                    <a:pt x="22" y="256"/>
                  </a:lnTo>
                  <a:lnTo>
                    <a:pt x="22" y="256"/>
                  </a:lnTo>
                  <a:lnTo>
                    <a:pt x="20" y="256"/>
                  </a:lnTo>
                  <a:lnTo>
                    <a:pt x="16" y="256"/>
                  </a:lnTo>
                  <a:lnTo>
                    <a:pt x="16" y="256"/>
                  </a:lnTo>
                  <a:close/>
                </a:path>
              </a:pathLst>
            </a:custGeom>
            <a:solidFill>
              <a:srgbClr val="c791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グループ化 153"/>
          <p:cNvGrpSpPr/>
          <p:nvPr/>
        </p:nvGrpSpPr>
        <p:grpSpPr>
          <a:xfrm>
            <a:off x="4608360" y="3438360"/>
            <a:ext cx="5918400" cy="5077080"/>
            <a:chOff x="4608360" y="3438360"/>
            <a:chExt cx="5918400" cy="5077080"/>
          </a:xfrm>
        </p:grpSpPr>
        <p:sp>
          <p:nvSpPr>
            <p:cNvPr id="139" name="Freeform 5"/>
            <p:cNvSpPr/>
            <p:nvPr/>
          </p:nvSpPr>
          <p:spPr>
            <a:xfrm>
              <a:off x="4608360" y="3438360"/>
              <a:ext cx="2886120" cy="5077080"/>
            </a:xfrm>
            <a:custGeom>
              <a:avLst/>
              <a:gdLst>
                <a:gd name="textAreaLeft" fmla="*/ 0 w 2886120"/>
                <a:gd name="textAreaRight" fmla="*/ 2886480 w 2886120"/>
                <a:gd name="textAreaTop" fmla="*/ 0 h 5077080"/>
                <a:gd name="textAreaBottom" fmla="*/ 5077440 h 5077080"/>
              </a:gdLst>
              <a:ahLst/>
              <a:rect l="textAreaLeft" t="textAreaTop" r="textAreaRight" b="textAreaBottom"/>
              <a:pathLst>
                <a:path w="1818" h="3198">
                  <a:moveTo>
                    <a:pt x="870" y="64"/>
                  </a:moveTo>
                  <a:lnTo>
                    <a:pt x="870" y="64"/>
                  </a:lnTo>
                  <a:lnTo>
                    <a:pt x="878" y="68"/>
                  </a:lnTo>
                  <a:lnTo>
                    <a:pt x="886" y="74"/>
                  </a:lnTo>
                  <a:lnTo>
                    <a:pt x="892" y="82"/>
                  </a:lnTo>
                  <a:lnTo>
                    <a:pt x="898" y="92"/>
                  </a:lnTo>
                  <a:lnTo>
                    <a:pt x="902" y="100"/>
                  </a:lnTo>
                  <a:lnTo>
                    <a:pt x="908" y="108"/>
                  </a:lnTo>
                  <a:lnTo>
                    <a:pt x="916" y="114"/>
                  </a:lnTo>
                  <a:lnTo>
                    <a:pt x="924" y="118"/>
                  </a:lnTo>
                  <a:lnTo>
                    <a:pt x="924" y="118"/>
                  </a:lnTo>
                  <a:lnTo>
                    <a:pt x="936" y="142"/>
                  </a:lnTo>
                  <a:lnTo>
                    <a:pt x="952" y="166"/>
                  </a:lnTo>
                  <a:lnTo>
                    <a:pt x="968" y="186"/>
                  </a:lnTo>
                  <a:lnTo>
                    <a:pt x="988" y="206"/>
                  </a:lnTo>
                  <a:lnTo>
                    <a:pt x="1010" y="224"/>
                  </a:lnTo>
                  <a:lnTo>
                    <a:pt x="1032" y="240"/>
                  </a:lnTo>
                  <a:lnTo>
                    <a:pt x="1076" y="272"/>
                  </a:lnTo>
                  <a:lnTo>
                    <a:pt x="1076" y="272"/>
                  </a:lnTo>
                  <a:lnTo>
                    <a:pt x="1120" y="294"/>
                  </a:lnTo>
                  <a:lnTo>
                    <a:pt x="1162" y="314"/>
                  </a:lnTo>
                  <a:lnTo>
                    <a:pt x="1208" y="332"/>
                  </a:lnTo>
                  <a:lnTo>
                    <a:pt x="1252" y="348"/>
                  </a:lnTo>
                  <a:lnTo>
                    <a:pt x="1300" y="362"/>
                  </a:lnTo>
                  <a:lnTo>
                    <a:pt x="1346" y="372"/>
                  </a:lnTo>
                  <a:lnTo>
                    <a:pt x="1394" y="382"/>
                  </a:lnTo>
                  <a:lnTo>
                    <a:pt x="1442" y="388"/>
                  </a:lnTo>
                  <a:lnTo>
                    <a:pt x="1442" y="388"/>
                  </a:lnTo>
                  <a:lnTo>
                    <a:pt x="1472" y="386"/>
                  </a:lnTo>
                  <a:lnTo>
                    <a:pt x="1504" y="386"/>
                  </a:lnTo>
                  <a:lnTo>
                    <a:pt x="1518" y="384"/>
                  </a:lnTo>
                  <a:lnTo>
                    <a:pt x="1534" y="382"/>
                  </a:lnTo>
                  <a:lnTo>
                    <a:pt x="1548" y="378"/>
                  </a:lnTo>
                  <a:lnTo>
                    <a:pt x="1560" y="372"/>
                  </a:lnTo>
                  <a:lnTo>
                    <a:pt x="1560" y="372"/>
                  </a:lnTo>
                  <a:lnTo>
                    <a:pt x="1580" y="366"/>
                  </a:lnTo>
                  <a:lnTo>
                    <a:pt x="1598" y="358"/>
                  </a:lnTo>
                  <a:lnTo>
                    <a:pt x="1614" y="350"/>
                  </a:lnTo>
                  <a:lnTo>
                    <a:pt x="1632" y="340"/>
                  </a:lnTo>
                  <a:lnTo>
                    <a:pt x="1664" y="318"/>
                  </a:lnTo>
                  <a:lnTo>
                    <a:pt x="1694" y="292"/>
                  </a:lnTo>
                  <a:lnTo>
                    <a:pt x="1696" y="294"/>
                  </a:lnTo>
                  <a:lnTo>
                    <a:pt x="1696" y="294"/>
                  </a:lnTo>
                  <a:lnTo>
                    <a:pt x="1698" y="290"/>
                  </a:lnTo>
                  <a:lnTo>
                    <a:pt x="1698" y="288"/>
                  </a:lnTo>
                  <a:lnTo>
                    <a:pt x="1704" y="288"/>
                  </a:lnTo>
                  <a:lnTo>
                    <a:pt x="1704" y="288"/>
                  </a:lnTo>
                  <a:lnTo>
                    <a:pt x="1694" y="308"/>
                  </a:lnTo>
                  <a:lnTo>
                    <a:pt x="1680" y="328"/>
                  </a:lnTo>
                  <a:lnTo>
                    <a:pt x="1668" y="346"/>
                  </a:lnTo>
                  <a:lnTo>
                    <a:pt x="1652" y="364"/>
                  </a:lnTo>
                  <a:lnTo>
                    <a:pt x="1652" y="364"/>
                  </a:lnTo>
                  <a:lnTo>
                    <a:pt x="1670" y="362"/>
                  </a:lnTo>
                  <a:lnTo>
                    <a:pt x="1690" y="362"/>
                  </a:lnTo>
                  <a:lnTo>
                    <a:pt x="1734" y="366"/>
                  </a:lnTo>
                  <a:lnTo>
                    <a:pt x="1734" y="366"/>
                  </a:lnTo>
                  <a:lnTo>
                    <a:pt x="1732" y="370"/>
                  </a:lnTo>
                  <a:lnTo>
                    <a:pt x="1726" y="372"/>
                  </a:lnTo>
                  <a:lnTo>
                    <a:pt x="1718" y="374"/>
                  </a:lnTo>
                  <a:lnTo>
                    <a:pt x="1718" y="374"/>
                  </a:lnTo>
                  <a:lnTo>
                    <a:pt x="1702" y="384"/>
                  </a:lnTo>
                  <a:lnTo>
                    <a:pt x="1688" y="398"/>
                  </a:lnTo>
                  <a:lnTo>
                    <a:pt x="1672" y="410"/>
                  </a:lnTo>
                  <a:lnTo>
                    <a:pt x="1658" y="422"/>
                  </a:lnTo>
                  <a:lnTo>
                    <a:pt x="1658" y="422"/>
                  </a:lnTo>
                  <a:lnTo>
                    <a:pt x="1678" y="422"/>
                  </a:lnTo>
                  <a:lnTo>
                    <a:pt x="1702" y="422"/>
                  </a:lnTo>
                  <a:lnTo>
                    <a:pt x="1724" y="426"/>
                  </a:lnTo>
                  <a:lnTo>
                    <a:pt x="1734" y="430"/>
                  </a:lnTo>
                  <a:lnTo>
                    <a:pt x="1742" y="434"/>
                  </a:lnTo>
                  <a:lnTo>
                    <a:pt x="1744" y="440"/>
                  </a:lnTo>
                  <a:lnTo>
                    <a:pt x="1744" y="440"/>
                  </a:lnTo>
                  <a:lnTo>
                    <a:pt x="1730" y="440"/>
                  </a:lnTo>
                  <a:lnTo>
                    <a:pt x="1716" y="444"/>
                  </a:lnTo>
                  <a:lnTo>
                    <a:pt x="1702" y="450"/>
                  </a:lnTo>
                  <a:lnTo>
                    <a:pt x="1688" y="458"/>
                  </a:lnTo>
                  <a:lnTo>
                    <a:pt x="1660" y="474"/>
                  </a:lnTo>
                  <a:lnTo>
                    <a:pt x="1646" y="480"/>
                  </a:lnTo>
                  <a:lnTo>
                    <a:pt x="1630" y="484"/>
                  </a:lnTo>
                  <a:lnTo>
                    <a:pt x="1630" y="484"/>
                  </a:lnTo>
                  <a:lnTo>
                    <a:pt x="1622" y="490"/>
                  </a:lnTo>
                  <a:lnTo>
                    <a:pt x="1614" y="496"/>
                  </a:lnTo>
                  <a:lnTo>
                    <a:pt x="1598" y="508"/>
                  </a:lnTo>
                  <a:lnTo>
                    <a:pt x="1582" y="518"/>
                  </a:lnTo>
                  <a:lnTo>
                    <a:pt x="1574" y="522"/>
                  </a:lnTo>
                  <a:lnTo>
                    <a:pt x="1564" y="524"/>
                  </a:lnTo>
                  <a:lnTo>
                    <a:pt x="1564" y="524"/>
                  </a:lnTo>
                  <a:lnTo>
                    <a:pt x="1560" y="530"/>
                  </a:lnTo>
                  <a:lnTo>
                    <a:pt x="1556" y="532"/>
                  </a:lnTo>
                  <a:lnTo>
                    <a:pt x="1544" y="536"/>
                  </a:lnTo>
                  <a:lnTo>
                    <a:pt x="1532" y="538"/>
                  </a:lnTo>
                  <a:lnTo>
                    <a:pt x="1526" y="542"/>
                  </a:lnTo>
                  <a:lnTo>
                    <a:pt x="1522" y="546"/>
                  </a:lnTo>
                  <a:lnTo>
                    <a:pt x="1522" y="546"/>
                  </a:lnTo>
                  <a:lnTo>
                    <a:pt x="1494" y="550"/>
                  </a:lnTo>
                  <a:lnTo>
                    <a:pt x="1466" y="556"/>
                  </a:lnTo>
                  <a:lnTo>
                    <a:pt x="1438" y="558"/>
                  </a:lnTo>
                  <a:lnTo>
                    <a:pt x="1410" y="558"/>
                  </a:lnTo>
                  <a:lnTo>
                    <a:pt x="1382" y="554"/>
                  </a:lnTo>
                  <a:lnTo>
                    <a:pt x="1354" y="550"/>
                  </a:lnTo>
                  <a:lnTo>
                    <a:pt x="1326" y="540"/>
                  </a:lnTo>
                  <a:lnTo>
                    <a:pt x="1298" y="528"/>
                  </a:lnTo>
                  <a:lnTo>
                    <a:pt x="1298" y="528"/>
                  </a:lnTo>
                  <a:lnTo>
                    <a:pt x="1248" y="496"/>
                  </a:lnTo>
                  <a:lnTo>
                    <a:pt x="1198" y="462"/>
                  </a:lnTo>
                  <a:lnTo>
                    <a:pt x="1150" y="424"/>
                  </a:lnTo>
                  <a:lnTo>
                    <a:pt x="1106" y="382"/>
                  </a:lnTo>
                  <a:lnTo>
                    <a:pt x="1064" y="338"/>
                  </a:lnTo>
                  <a:lnTo>
                    <a:pt x="1024" y="292"/>
                  </a:lnTo>
                  <a:lnTo>
                    <a:pt x="988" y="244"/>
                  </a:lnTo>
                  <a:lnTo>
                    <a:pt x="958" y="194"/>
                  </a:lnTo>
                  <a:lnTo>
                    <a:pt x="958" y="194"/>
                  </a:lnTo>
                  <a:lnTo>
                    <a:pt x="938" y="176"/>
                  </a:lnTo>
                  <a:lnTo>
                    <a:pt x="918" y="160"/>
                  </a:lnTo>
                  <a:lnTo>
                    <a:pt x="896" y="146"/>
                  </a:lnTo>
                  <a:lnTo>
                    <a:pt x="874" y="134"/>
                  </a:lnTo>
                  <a:lnTo>
                    <a:pt x="852" y="124"/>
                  </a:lnTo>
                  <a:lnTo>
                    <a:pt x="828" y="118"/>
                  </a:lnTo>
                  <a:lnTo>
                    <a:pt x="804" y="116"/>
                  </a:lnTo>
                  <a:lnTo>
                    <a:pt x="778" y="118"/>
                  </a:lnTo>
                  <a:lnTo>
                    <a:pt x="778" y="118"/>
                  </a:lnTo>
                  <a:lnTo>
                    <a:pt x="742" y="116"/>
                  </a:lnTo>
                  <a:lnTo>
                    <a:pt x="706" y="120"/>
                  </a:lnTo>
                  <a:lnTo>
                    <a:pt x="672" y="126"/>
                  </a:lnTo>
                  <a:lnTo>
                    <a:pt x="638" y="134"/>
                  </a:lnTo>
                  <a:lnTo>
                    <a:pt x="572" y="154"/>
                  </a:lnTo>
                  <a:lnTo>
                    <a:pt x="538" y="164"/>
                  </a:lnTo>
                  <a:lnTo>
                    <a:pt x="502" y="172"/>
                  </a:lnTo>
                  <a:lnTo>
                    <a:pt x="502" y="172"/>
                  </a:lnTo>
                  <a:lnTo>
                    <a:pt x="484" y="184"/>
                  </a:lnTo>
                  <a:lnTo>
                    <a:pt x="468" y="196"/>
                  </a:lnTo>
                  <a:lnTo>
                    <a:pt x="452" y="208"/>
                  </a:lnTo>
                  <a:lnTo>
                    <a:pt x="436" y="222"/>
                  </a:lnTo>
                  <a:lnTo>
                    <a:pt x="408" y="252"/>
                  </a:lnTo>
                  <a:lnTo>
                    <a:pt x="382" y="284"/>
                  </a:lnTo>
                  <a:lnTo>
                    <a:pt x="330" y="352"/>
                  </a:lnTo>
                  <a:lnTo>
                    <a:pt x="302" y="384"/>
                  </a:lnTo>
                  <a:lnTo>
                    <a:pt x="272" y="416"/>
                  </a:lnTo>
                  <a:lnTo>
                    <a:pt x="272" y="416"/>
                  </a:lnTo>
                  <a:lnTo>
                    <a:pt x="262" y="432"/>
                  </a:lnTo>
                  <a:lnTo>
                    <a:pt x="252" y="448"/>
                  </a:lnTo>
                  <a:lnTo>
                    <a:pt x="236" y="482"/>
                  </a:lnTo>
                  <a:lnTo>
                    <a:pt x="224" y="516"/>
                  </a:lnTo>
                  <a:lnTo>
                    <a:pt x="214" y="550"/>
                  </a:lnTo>
                  <a:lnTo>
                    <a:pt x="208" y="586"/>
                  </a:lnTo>
                  <a:lnTo>
                    <a:pt x="202" y="622"/>
                  </a:lnTo>
                  <a:lnTo>
                    <a:pt x="188" y="696"/>
                  </a:lnTo>
                  <a:lnTo>
                    <a:pt x="188" y="696"/>
                  </a:lnTo>
                  <a:lnTo>
                    <a:pt x="190" y="730"/>
                  </a:lnTo>
                  <a:lnTo>
                    <a:pt x="192" y="770"/>
                  </a:lnTo>
                  <a:lnTo>
                    <a:pt x="190" y="810"/>
                  </a:lnTo>
                  <a:lnTo>
                    <a:pt x="192" y="852"/>
                  </a:lnTo>
                  <a:lnTo>
                    <a:pt x="194" y="894"/>
                  </a:lnTo>
                  <a:lnTo>
                    <a:pt x="200" y="934"/>
                  </a:lnTo>
                  <a:lnTo>
                    <a:pt x="206" y="954"/>
                  </a:lnTo>
                  <a:lnTo>
                    <a:pt x="212" y="974"/>
                  </a:lnTo>
                  <a:lnTo>
                    <a:pt x="220" y="992"/>
                  </a:lnTo>
                  <a:lnTo>
                    <a:pt x="230" y="1008"/>
                  </a:lnTo>
                  <a:lnTo>
                    <a:pt x="230" y="1008"/>
                  </a:lnTo>
                  <a:lnTo>
                    <a:pt x="248" y="1050"/>
                  </a:lnTo>
                  <a:lnTo>
                    <a:pt x="258" y="1070"/>
                  </a:lnTo>
                  <a:lnTo>
                    <a:pt x="268" y="1090"/>
                  </a:lnTo>
                  <a:lnTo>
                    <a:pt x="268" y="1090"/>
                  </a:lnTo>
                  <a:lnTo>
                    <a:pt x="324" y="1180"/>
                  </a:lnTo>
                  <a:lnTo>
                    <a:pt x="352" y="1224"/>
                  </a:lnTo>
                  <a:lnTo>
                    <a:pt x="382" y="1266"/>
                  </a:lnTo>
                  <a:lnTo>
                    <a:pt x="382" y="1266"/>
                  </a:lnTo>
                  <a:lnTo>
                    <a:pt x="432" y="1318"/>
                  </a:lnTo>
                  <a:lnTo>
                    <a:pt x="460" y="1342"/>
                  </a:lnTo>
                  <a:lnTo>
                    <a:pt x="476" y="1354"/>
                  </a:lnTo>
                  <a:lnTo>
                    <a:pt x="492" y="1364"/>
                  </a:lnTo>
                  <a:lnTo>
                    <a:pt x="494" y="1362"/>
                  </a:lnTo>
                  <a:lnTo>
                    <a:pt x="494" y="1362"/>
                  </a:lnTo>
                  <a:lnTo>
                    <a:pt x="512" y="1372"/>
                  </a:lnTo>
                  <a:lnTo>
                    <a:pt x="530" y="1378"/>
                  </a:lnTo>
                  <a:lnTo>
                    <a:pt x="550" y="1384"/>
                  </a:lnTo>
                  <a:lnTo>
                    <a:pt x="568" y="1388"/>
                  </a:lnTo>
                  <a:lnTo>
                    <a:pt x="606" y="1396"/>
                  </a:lnTo>
                  <a:lnTo>
                    <a:pt x="626" y="1402"/>
                  </a:lnTo>
                  <a:lnTo>
                    <a:pt x="642" y="1408"/>
                  </a:lnTo>
                  <a:lnTo>
                    <a:pt x="642" y="1408"/>
                  </a:lnTo>
                  <a:lnTo>
                    <a:pt x="652" y="1410"/>
                  </a:lnTo>
                  <a:lnTo>
                    <a:pt x="660" y="1410"/>
                  </a:lnTo>
                  <a:lnTo>
                    <a:pt x="668" y="1410"/>
                  </a:lnTo>
                  <a:lnTo>
                    <a:pt x="672" y="1412"/>
                  </a:lnTo>
                  <a:lnTo>
                    <a:pt x="674" y="1416"/>
                  </a:lnTo>
                  <a:lnTo>
                    <a:pt x="678" y="1414"/>
                  </a:lnTo>
                  <a:lnTo>
                    <a:pt x="684" y="1418"/>
                  </a:lnTo>
                  <a:lnTo>
                    <a:pt x="684" y="1418"/>
                  </a:lnTo>
                  <a:lnTo>
                    <a:pt x="686" y="1416"/>
                  </a:lnTo>
                  <a:lnTo>
                    <a:pt x="688" y="1416"/>
                  </a:lnTo>
                  <a:lnTo>
                    <a:pt x="692" y="1418"/>
                  </a:lnTo>
                  <a:lnTo>
                    <a:pt x="696" y="1420"/>
                  </a:lnTo>
                  <a:lnTo>
                    <a:pt x="698" y="1420"/>
                  </a:lnTo>
                  <a:lnTo>
                    <a:pt x="700" y="1418"/>
                  </a:lnTo>
                  <a:lnTo>
                    <a:pt x="700" y="1418"/>
                  </a:lnTo>
                  <a:lnTo>
                    <a:pt x="712" y="1422"/>
                  </a:lnTo>
                  <a:lnTo>
                    <a:pt x="726" y="1426"/>
                  </a:lnTo>
                  <a:lnTo>
                    <a:pt x="752" y="1432"/>
                  </a:lnTo>
                  <a:lnTo>
                    <a:pt x="778" y="1436"/>
                  </a:lnTo>
                  <a:lnTo>
                    <a:pt x="804" y="1442"/>
                  </a:lnTo>
                  <a:lnTo>
                    <a:pt x="804" y="1442"/>
                  </a:lnTo>
                  <a:lnTo>
                    <a:pt x="828" y="1444"/>
                  </a:lnTo>
                  <a:lnTo>
                    <a:pt x="854" y="1446"/>
                  </a:lnTo>
                  <a:lnTo>
                    <a:pt x="908" y="1456"/>
                  </a:lnTo>
                  <a:lnTo>
                    <a:pt x="960" y="1466"/>
                  </a:lnTo>
                  <a:lnTo>
                    <a:pt x="1010" y="1474"/>
                  </a:lnTo>
                  <a:lnTo>
                    <a:pt x="1010" y="1474"/>
                  </a:lnTo>
                  <a:lnTo>
                    <a:pt x="1026" y="1478"/>
                  </a:lnTo>
                  <a:lnTo>
                    <a:pt x="1042" y="1482"/>
                  </a:lnTo>
                  <a:lnTo>
                    <a:pt x="1056" y="1486"/>
                  </a:lnTo>
                  <a:lnTo>
                    <a:pt x="1072" y="1492"/>
                  </a:lnTo>
                  <a:lnTo>
                    <a:pt x="1072" y="1492"/>
                  </a:lnTo>
                  <a:lnTo>
                    <a:pt x="1110" y="1502"/>
                  </a:lnTo>
                  <a:lnTo>
                    <a:pt x="1128" y="1506"/>
                  </a:lnTo>
                  <a:lnTo>
                    <a:pt x="1148" y="1508"/>
                  </a:lnTo>
                  <a:lnTo>
                    <a:pt x="1148" y="1508"/>
                  </a:lnTo>
                  <a:lnTo>
                    <a:pt x="1178" y="1522"/>
                  </a:lnTo>
                  <a:lnTo>
                    <a:pt x="1208" y="1534"/>
                  </a:lnTo>
                  <a:lnTo>
                    <a:pt x="1238" y="1544"/>
                  </a:lnTo>
                  <a:lnTo>
                    <a:pt x="1268" y="1558"/>
                  </a:lnTo>
                  <a:lnTo>
                    <a:pt x="1270" y="1556"/>
                  </a:lnTo>
                  <a:lnTo>
                    <a:pt x="1270" y="1556"/>
                  </a:lnTo>
                  <a:lnTo>
                    <a:pt x="1280" y="1564"/>
                  </a:lnTo>
                  <a:lnTo>
                    <a:pt x="1284" y="1568"/>
                  </a:lnTo>
                  <a:lnTo>
                    <a:pt x="1288" y="1568"/>
                  </a:lnTo>
                  <a:lnTo>
                    <a:pt x="1286" y="1570"/>
                  </a:lnTo>
                  <a:lnTo>
                    <a:pt x="1286" y="1570"/>
                  </a:lnTo>
                  <a:lnTo>
                    <a:pt x="1314" y="1586"/>
                  </a:lnTo>
                  <a:lnTo>
                    <a:pt x="1340" y="1602"/>
                  </a:lnTo>
                  <a:lnTo>
                    <a:pt x="1366" y="1620"/>
                  </a:lnTo>
                  <a:lnTo>
                    <a:pt x="1390" y="1640"/>
                  </a:lnTo>
                  <a:lnTo>
                    <a:pt x="1412" y="1662"/>
                  </a:lnTo>
                  <a:lnTo>
                    <a:pt x="1434" y="1684"/>
                  </a:lnTo>
                  <a:lnTo>
                    <a:pt x="1456" y="1708"/>
                  </a:lnTo>
                  <a:lnTo>
                    <a:pt x="1476" y="1732"/>
                  </a:lnTo>
                  <a:lnTo>
                    <a:pt x="1494" y="1758"/>
                  </a:lnTo>
                  <a:lnTo>
                    <a:pt x="1512" y="1784"/>
                  </a:lnTo>
                  <a:lnTo>
                    <a:pt x="1546" y="1836"/>
                  </a:lnTo>
                  <a:lnTo>
                    <a:pt x="1574" y="1890"/>
                  </a:lnTo>
                  <a:lnTo>
                    <a:pt x="1600" y="1946"/>
                  </a:lnTo>
                  <a:lnTo>
                    <a:pt x="1600" y="1946"/>
                  </a:lnTo>
                  <a:lnTo>
                    <a:pt x="1604" y="1978"/>
                  </a:lnTo>
                  <a:lnTo>
                    <a:pt x="1606" y="2010"/>
                  </a:lnTo>
                  <a:lnTo>
                    <a:pt x="1602" y="2040"/>
                  </a:lnTo>
                  <a:lnTo>
                    <a:pt x="1596" y="2070"/>
                  </a:lnTo>
                  <a:lnTo>
                    <a:pt x="1588" y="2098"/>
                  </a:lnTo>
                  <a:lnTo>
                    <a:pt x="1578" y="2126"/>
                  </a:lnTo>
                  <a:lnTo>
                    <a:pt x="1554" y="2182"/>
                  </a:lnTo>
                  <a:lnTo>
                    <a:pt x="1554" y="2182"/>
                  </a:lnTo>
                  <a:lnTo>
                    <a:pt x="1528" y="2224"/>
                  </a:lnTo>
                  <a:lnTo>
                    <a:pt x="1500" y="2266"/>
                  </a:lnTo>
                  <a:lnTo>
                    <a:pt x="1500" y="2266"/>
                  </a:lnTo>
                  <a:lnTo>
                    <a:pt x="1492" y="2292"/>
                  </a:lnTo>
                  <a:lnTo>
                    <a:pt x="1482" y="2318"/>
                  </a:lnTo>
                  <a:lnTo>
                    <a:pt x="1462" y="2366"/>
                  </a:lnTo>
                  <a:lnTo>
                    <a:pt x="1442" y="2414"/>
                  </a:lnTo>
                  <a:lnTo>
                    <a:pt x="1434" y="2438"/>
                  </a:lnTo>
                  <a:lnTo>
                    <a:pt x="1426" y="2464"/>
                  </a:lnTo>
                  <a:lnTo>
                    <a:pt x="1426" y="2464"/>
                  </a:lnTo>
                  <a:lnTo>
                    <a:pt x="1418" y="2474"/>
                  </a:lnTo>
                  <a:lnTo>
                    <a:pt x="1414" y="2486"/>
                  </a:lnTo>
                  <a:lnTo>
                    <a:pt x="1414" y="2486"/>
                  </a:lnTo>
                  <a:lnTo>
                    <a:pt x="1414" y="2508"/>
                  </a:lnTo>
                  <a:lnTo>
                    <a:pt x="1418" y="2528"/>
                  </a:lnTo>
                  <a:lnTo>
                    <a:pt x="1424" y="2546"/>
                  </a:lnTo>
                  <a:lnTo>
                    <a:pt x="1432" y="2564"/>
                  </a:lnTo>
                  <a:lnTo>
                    <a:pt x="1444" y="2580"/>
                  </a:lnTo>
                  <a:lnTo>
                    <a:pt x="1458" y="2596"/>
                  </a:lnTo>
                  <a:lnTo>
                    <a:pt x="1474" y="2608"/>
                  </a:lnTo>
                  <a:lnTo>
                    <a:pt x="1492" y="2620"/>
                  </a:lnTo>
                  <a:lnTo>
                    <a:pt x="1492" y="2620"/>
                  </a:lnTo>
                  <a:lnTo>
                    <a:pt x="1502" y="2624"/>
                  </a:lnTo>
                  <a:lnTo>
                    <a:pt x="1512" y="2628"/>
                  </a:lnTo>
                  <a:lnTo>
                    <a:pt x="1534" y="2640"/>
                  </a:lnTo>
                  <a:lnTo>
                    <a:pt x="1544" y="2646"/>
                  </a:lnTo>
                  <a:lnTo>
                    <a:pt x="1554" y="2652"/>
                  </a:lnTo>
                  <a:lnTo>
                    <a:pt x="1566" y="2654"/>
                  </a:lnTo>
                  <a:lnTo>
                    <a:pt x="1576" y="2654"/>
                  </a:lnTo>
                  <a:lnTo>
                    <a:pt x="1576" y="2654"/>
                  </a:lnTo>
                  <a:lnTo>
                    <a:pt x="1578" y="2658"/>
                  </a:lnTo>
                  <a:lnTo>
                    <a:pt x="1582" y="2662"/>
                  </a:lnTo>
                  <a:lnTo>
                    <a:pt x="1588" y="2664"/>
                  </a:lnTo>
                  <a:lnTo>
                    <a:pt x="1602" y="2666"/>
                  </a:lnTo>
                  <a:lnTo>
                    <a:pt x="1602" y="2666"/>
                  </a:lnTo>
                  <a:lnTo>
                    <a:pt x="1620" y="2670"/>
                  </a:lnTo>
                  <a:lnTo>
                    <a:pt x="1638" y="2674"/>
                  </a:lnTo>
                  <a:lnTo>
                    <a:pt x="1656" y="2676"/>
                  </a:lnTo>
                  <a:lnTo>
                    <a:pt x="1664" y="2680"/>
                  </a:lnTo>
                  <a:lnTo>
                    <a:pt x="1672" y="2684"/>
                  </a:lnTo>
                  <a:lnTo>
                    <a:pt x="1672" y="2684"/>
                  </a:lnTo>
                  <a:lnTo>
                    <a:pt x="1684" y="2686"/>
                  </a:lnTo>
                  <a:lnTo>
                    <a:pt x="1696" y="2690"/>
                  </a:lnTo>
                  <a:lnTo>
                    <a:pt x="1718" y="2700"/>
                  </a:lnTo>
                  <a:lnTo>
                    <a:pt x="1738" y="2714"/>
                  </a:lnTo>
                  <a:lnTo>
                    <a:pt x="1760" y="2732"/>
                  </a:lnTo>
                  <a:lnTo>
                    <a:pt x="1760" y="2732"/>
                  </a:lnTo>
                  <a:lnTo>
                    <a:pt x="1766" y="2746"/>
                  </a:lnTo>
                  <a:lnTo>
                    <a:pt x="1774" y="2760"/>
                  </a:lnTo>
                  <a:lnTo>
                    <a:pt x="1792" y="2786"/>
                  </a:lnTo>
                  <a:lnTo>
                    <a:pt x="1800" y="2800"/>
                  </a:lnTo>
                  <a:lnTo>
                    <a:pt x="1806" y="2814"/>
                  </a:lnTo>
                  <a:lnTo>
                    <a:pt x="1812" y="2828"/>
                  </a:lnTo>
                  <a:lnTo>
                    <a:pt x="1814" y="2846"/>
                  </a:lnTo>
                  <a:lnTo>
                    <a:pt x="1814" y="2846"/>
                  </a:lnTo>
                  <a:lnTo>
                    <a:pt x="1818" y="2866"/>
                  </a:lnTo>
                  <a:lnTo>
                    <a:pt x="1818" y="2886"/>
                  </a:lnTo>
                  <a:lnTo>
                    <a:pt x="1818" y="2908"/>
                  </a:lnTo>
                  <a:lnTo>
                    <a:pt x="1816" y="2930"/>
                  </a:lnTo>
                  <a:lnTo>
                    <a:pt x="1812" y="2970"/>
                  </a:lnTo>
                  <a:lnTo>
                    <a:pt x="1812" y="2992"/>
                  </a:lnTo>
                  <a:lnTo>
                    <a:pt x="1812" y="3012"/>
                  </a:lnTo>
                  <a:lnTo>
                    <a:pt x="1812" y="3012"/>
                  </a:lnTo>
                  <a:lnTo>
                    <a:pt x="1806" y="3034"/>
                  </a:lnTo>
                  <a:lnTo>
                    <a:pt x="1798" y="3056"/>
                  </a:lnTo>
                  <a:lnTo>
                    <a:pt x="1782" y="3102"/>
                  </a:lnTo>
                  <a:lnTo>
                    <a:pt x="1782" y="3102"/>
                  </a:lnTo>
                  <a:lnTo>
                    <a:pt x="1778" y="3110"/>
                  </a:lnTo>
                  <a:lnTo>
                    <a:pt x="1776" y="3118"/>
                  </a:lnTo>
                  <a:lnTo>
                    <a:pt x="1774" y="3126"/>
                  </a:lnTo>
                  <a:lnTo>
                    <a:pt x="1770" y="3130"/>
                  </a:lnTo>
                  <a:lnTo>
                    <a:pt x="1770" y="3130"/>
                  </a:lnTo>
                  <a:lnTo>
                    <a:pt x="1762" y="3100"/>
                  </a:lnTo>
                  <a:lnTo>
                    <a:pt x="1754" y="3068"/>
                  </a:lnTo>
                  <a:lnTo>
                    <a:pt x="1746" y="3034"/>
                  </a:lnTo>
                  <a:lnTo>
                    <a:pt x="1744" y="3000"/>
                  </a:lnTo>
                  <a:lnTo>
                    <a:pt x="1742" y="3000"/>
                  </a:lnTo>
                  <a:lnTo>
                    <a:pt x="1742" y="3000"/>
                  </a:lnTo>
                  <a:lnTo>
                    <a:pt x="1714" y="3060"/>
                  </a:lnTo>
                  <a:lnTo>
                    <a:pt x="1700" y="3088"/>
                  </a:lnTo>
                  <a:lnTo>
                    <a:pt x="1682" y="3116"/>
                  </a:lnTo>
                  <a:lnTo>
                    <a:pt x="1682" y="3116"/>
                  </a:lnTo>
                  <a:lnTo>
                    <a:pt x="1680" y="3110"/>
                  </a:lnTo>
                  <a:lnTo>
                    <a:pt x="1680" y="3104"/>
                  </a:lnTo>
                  <a:lnTo>
                    <a:pt x="1680" y="3090"/>
                  </a:lnTo>
                  <a:lnTo>
                    <a:pt x="1678" y="3078"/>
                  </a:lnTo>
                  <a:lnTo>
                    <a:pt x="1676" y="3072"/>
                  </a:lnTo>
                  <a:lnTo>
                    <a:pt x="1674" y="3068"/>
                  </a:lnTo>
                  <a:lnTo>
                    <a:pt x="1674" y="3068"/>
                  </a:lnTo>
                  <a:lnTo>
                    <a:pt x="1666" y="3088"/>
                  </a:lnTo>
                  <a:lnTo>
                    <a:pt x="1656" y="3106"/>
                  </a:lnTo>
                  <a:lnTo>
                    <a:pt x="1644" y="3122"/>
                  </a:lnTo>
                  <a:lnTo>
                    <a:pt x="1630" y="3136"/>
                  </a:lnTo>
                  <a:lnTo>
                    <a:pt x="1602" y="3166"/>
                  </a:lnTo>
                  <a:lnTo>
                    <a:pt x="1586" y="3182"/>
                  </a:lnTo>
                  <a:lnTo>
                    <a:pt x="1574" y="3198"/>
                  </a:lnTo>
                  <a:lnTo>
                    <a:pt x="1574" y="3198"/>
                  </a:lnTo>
                  <a:lnTo>
                    <a:pt x="1576" y="3184"/>
                  </a:lnTo>
                  <a:lnTo>
                    <a:pt x="1582" y="3170"/>
                  </a:lnTo>
                  <a:lnTo>
                    <a:pt x="1596" y="3142"/>
                  </a:lnTo>
                  <a:lnTo>
                    <a:pt x="1612" y="3112"/>
                  </a:lnTo>
                  <a:lnTo>
                    <a:pt x="1624" y="3084"/>
                  </a:lnTo>
                  <a:lnTo>
                    <a:pt x="1624" y="3084"/>
                  </a:lnTo>
                  <a:lnTo>
                    <a:pt x="1638" y="3066"/>
                  </a:lnTo>
                  <a:lnTo>
                    <a:pt x="1648" y="3046"/>
                  </a:lnTo>
                  <a:lnTo>
                    <a:pt x="1656" y="3026"/>
                  </a:lnTo>
                  <a:lnTo>
                    <a:pt x="1660" y="3004"/>
                  </a:lnTo>
                  <a:lnTo>
                    <a:pt x="1660" y="2982"/>
                  </a:lnTo>
                  <a:lnTo>
                    <a:pt x="1660" y="2960"/>
                  </a:lnTo>
                  <a:lnTo>
                    <a:pt x="1656" y="2938"/>
                  </a:lnTo>
                  <a:lnTo>
                    <a:pt x="1650" y="2916"/>
                  </a:lnTo>
                  <a:lnTo>
                    <a:pt x="1650" y="2916"/>
                  </a:lnTo>
                  <a:lnTo>
                    <a:pt x="1644" y="2902"/>
                  </a:lnTo>
                  <a:lnTo>
                    <a:pt x="1636" y="2890"/>
                  </a:lnTo>
                  <a:lnTo>
                    <a:pt x="1618" y="2868"/>
                  </a:lnTo>
                  <a:lnTo>
                    <a:pt x="1598" y="2846"/>
                  </a:lnTo>
                  <a:lnTo>
                    <a:pt x="1574" y="2828"/>
                  </a:lnTo>
                  <a:lnTo>
                    <a:pt x="1550" y="2810"/>
                  </a:lnTo>
                  <a:lnTo>
                    <a:pt x="1526" y="2794"/>
                  </a:lnTo>
                  <a:lnTo>
                    <a:pt x="1478" y="2762"/>
                  </a:lnTo>
                  <a:lnTo>
                    <a:pt x="1478" y="2762"/>
                  </a:lnTo>
                  <a:lnTo>
                    <a:pt x="1434" y="2742"/>
                  </a:lnTo>
                  <a:lnTo>
                    <a:pt x="1410" y="2730"/>
                  </a:lnTo>
                  <a:lnTo>
                    <a:pt x="1388" y="2716"/>
                  </a:lnTo>
                  <a:lnTo>
                    <a:pt x="1368" y="2702"/>
                  </a:lnTo>
                  <a:lnTo>
                    <a:pt x="1350" y="2684"/>
                  </a:lnTo>
                  <a:lnTo>
                    <a:pt x="1334" y="2666"/>
                  </a:lnTo>
                  <a:lnTo>
                    <a:pt x="1326" y="2654"/>
                  </a:lnTo>
                  <a:lnTo>
                    <a:pt x="1320" y="2642"/>
                  </a:lnTo>
                  <a:lnTo>
                    <a:pt x="1320" y="2642"/>
                  </a:lnTo>
                  <a:lnTo>
                    <a:pt x="1310" y="2610"/>
                  </a:lnTo>
                  <a:lnTo>
                    <a:pt x="1306" y="2594"/>
                  </a:lnTo>
                  <a:lnTo>
                    <a:pt x="1302" y="2576"/>
                  </a:lnTo>
                  <a:lnTo>
                    <a:pt x="1302" y="2556"/>
                  </a:lnTo>
                  <a:lnTo>
                    <a:pt x="1302" y="2540"/>
                  </a:lnTo>
                  <a:lnTo>
                    <a:pt x="1306" y="2522"/>
                  </a:lnTo>
                  <a:lnTo>
                    <a:pt x="1314" y="2506"/>
                  </a:lnTo>
                  <a:lnTo>
                    <a:pt x="1314" y="2506"/>
                  </a:lnTo>
                  <a:lnTo>
                    <a:pt x="1312" y="2500"/>
                  </a:lnTo>
                  <a:lnTo>
                    <a:pt x="1314" y="2494"/>
                  </a:lnTo>
                  <a:lnTo>
                    <a:pt x="1320" y="2482"/>
                  </a:lnTo>
                  <a:lnTo>
                    <a:pt x="1328" y="2474"/>
                  </a:lnTo>
                  <a:lnTo>
                    <a:pt x="1330" y="2468"/>
                  </a:lnTo>
                  <a:lnTo>
                    <a:pt x="1330" y="2462"/>
                  </a:lnTo>
                  <a:lnTo>
                    <a:pt x="1330" y="2462"/>
                  </a:lnTo>
                  <a:lnTo>
                    <a:pt x="1342" y="2446"/>
                  </a:lnTo>
                  <a:lnTo>
                    <a:pt x="1354" y="2432"/>
                  </a:lnTo>
                  <a:lnTo>
                    <a:pt x="1380" y="2402"/>
                  </a:lnTo>
                  <a:lnTo>
                    <a:pt x="1408" y="2374"/>
                  </a:lnTo>
                  <a:lnTo>
                    <a:pt x="1434" y="2346"/>
                  </a:lnTo>
                  <a:lnTo>
                    <a:pt x="1446" y="2332"/>
                  </a:lnTo>
                  <a:lnTo>
                    <a:pt x="1456" y="2316"/>
                  </a:lnTo>
                  <a:lnTo>
                    <a:pt x="1466" y="2300"/>
                  </a:lnTo>
                  <a:lnTo>
                    <a:pt x="1474" y="2284"/>
                  </a:lnTo>
                  <a:lnTo>
                    <a:pt x="1480" y="2268"/>
                  </a:lnTo>
                  <a:lnTo>
                    <a:pt x="1484" y="2250"/>
                  </a:lnTo>
                  <a:lnTo>
                    <a:pt x="1486" y="2230"/>
                  </a:lnTo>
                  <a:lnTo>
                    <a:pt x="1484" y="2210"/>
                  </a:lnTo>
                  <a:lnTo>
                    <a:pt x="1480" y="2126"/>
                  </a:lnTo>
                  <a:lnTo>
                    <a:pt x="1464" y="2114"/>
                  </a:lnTo>
                  <a:lnTo>
                    <a:pt x="1464" y="2114"/>
                  </a:lnTo>
                  <a:lnTo>
                    <a:pt x="1468" y="2118"/>
                  </a:lnTo>
                  <a:lnTo>
                    <a:pt x="1472" y="2120"/>
                  </a:lnTo>
                  <a:lnTo>
                    <a:pt x="1476" y="2122"/>
                  </a:lnTo>
                  <a:lnTo>
                    <a:pt x="1480" y="2126"/>
                  </a:lnTo>
                  <a:lnTo>
                    <a:pt x="1480" y="2126"/>
                  </a:lnTo>
                  <a:lnTo>
                    <a:pt x="1478" y="2100"/>
                  </a:lnTo>
                  <a:lnTo>
                    <a:pt x="1474" y="2074"/>
                  </a:lnTo>
                  <a:lnTo>
                    <a:pt x="1468" y="2050"/>
                  </a:lnTo>
                  <a:lnTo>
                    <a:pt x="1462" y="2026"/>
                  </a:lnTo>
                  <a:lnTo>
                    <a:pt x="1454" y="2002"/>
                  </a:lnTo>
                  <a:lnTo>
                    <a:pt x="1444" y="1978"/>
                  </a:lnTo>
                  <a:lnTo>
                    <a:pt x="1434" y="1956"/>
                  </a:lnTo>
                  <a:lnTo>
                    <a:pt x="1422" y="1932"/>
                  </a:lnTo>
                  <a:lnTo>
                    <a:pt x="1408" y="1910"/>
                  </a:lnTo>
                  <a:lnTo>
                    <a:pt x="1394" y="1890"/>
                  </a:lnTo>
                  <a:lnTo>
                    <a:pt x="1378" y="1868"/>
                  </a:lnTo>
                  <a:lnTo>
                    <a:pt x="1362" y="1848"/>
                  </a:lnTo>
                  <a:lnTo>
                    <a:pt x="1326" y="1810"/>
                  </a:lnTo>
                  <a:lnTo>
                    <a:pt x="1288" y="1774"/>
                  </a:lnTo>
                  <a:lnTo>
                    <a:pt x="1288" y="1774"/>
                  </a:lnTo>
                  <a:lnTo>
                    <a:pt x="1234" y="1740"/>
                  </a:lnTo>
                  <a:lnTo>
                    <a:pt x="1180" y="1712"/>
                  </a:lnTo>
                  <a:lnTo>
                    <a:pt x="1124" y="1688"/>
                  </a:lnTo>
                  <a:lnTo>
                    <a:pt x="1066" y="1666"/>
                  </a:lnTo>
                  <a:lnTo>
                    <a:pt x="1066" y="1666"/>
                  </a:lnTo>
                  <a:lnTo>
                    <a:pt x="1048" y="1656"/>
                  </a:lnTo>
                  <a:lnTo>
                    <a:pt x="1034" y="1642"/>
                  </a:lnTo>
                  <a:lnTo>
                    <a:pt x="1018" y="1632"/>
                  </a:lnTo>
                  <a:lnTo>
                    <a:pt x="1010" y="1626"/>
                  </a:lnTo>
                  <a:lnTo>
                    <a:pt x="1002" y="1622"/>
                  </a:lnTo>
                  <a:lnTo>
                    <a:pt x="1002" y="1622"/>
                  </a:lnTo>
                  <a:lnTo>
                    <a:pt x="970" y="1606"/>
                  </a:lnTo>
                  <a:lnTo>
                    <a:pt x="940" y="1590"/>
                  </a:lnTo>
                  <a:lnTo>
                    <a:pt x="884" y="1564"/>
                  </a:lnTo>
                  <a:lnTo>
                    <a:pt x="826" y="1536"/>
                  </a:lnTo>
                  <a:lnTo>
                    <a:pt x="798" y="1522"/>
                  </a:lnTo>
                  <a:lnTo>
                    <a:pt x="766" y="1504"/>
                  </a:lnTo>
                  <a:lnTo>
                    <a:pt x="766" y="1504"/>
                  </a:lnTo>
                  <a:lnTo>
                    <a:pt x="674" y="1454"/>
                  </a:lnTo>
                  <a:lnTo>
                    <a:pt x="626" y="1430"/>
                  </a:lnTo>
                  <a:lnTo>
                    <a:pt x="578" y="1408"/>
                  </a:lnTo>
                  <a:lnTo>
                    <a:pt x="530" y="1388"/>
                  </a:lnTo>
                  <a:lnTo>
                    <a:pt x="482" y="1370"/>
                  </a:lnTo>
                  <a:lnTo>
                    <a:pt x="432" y="1352"/>
                  </a:lnTo>
                  <a:lnTo>
                    <a:pt x="382" y="1338"/>
                  </a:lnTo>
                  <a:lnTo>
                    <a:pt x="382" y="1338"/>
                  </a:lnTo>
                  <a:lnTo>
                    <a:pt x="362" y="1330"/>
                  </a:lnTo>
                  <a:lnTo>
                    <a:pt x="344" y="1320"/>
                  </a:lnTo>
                  <a:lnTo>
                    <a:pt x="310" y="1298"/>
                  </a:lnTo>
                  <a:lnTo>
                    <a:pt x="278" y="1272"/>
                  </a:lnTo>
                  <a:lnTo>
                    <a:pt x="246" y="1244"/>
                  </a:lnTo>
                  <a:lnTo>
                    <a:pt x="188" y="1186"/>
                  </a:lnTo>
                  <a:lnTo>
                    <a:pt x="158" y="1156"/>
                  </a:lnTo>
                  <a:lnTo>
                    <a:pt x="130" y="1128"/>
                  </a:lnTo>
                  <a:lnTo>
                    <a:pt x="130" y="1128"/>
                  </a:lnTo>
                  <a:lnTo>
                    <a:pt x="112" y="1096"/>
                  </a:lnTo>
                  <a:lnTo>
                    <a:pt x="96" y="1064"/>
                  </a:lnTo>
                  <a:lnTo>
                    <a:pt x="66" y="998"/>
                  </a:lnTo>
                  <a:lnTo>
                    <a:pt x="40" y="932"/>
                  </a:lnTo>
                  <a:lnTo>
                    <a:pt x="12" y="864"/>
                  </a:lnTo>
                  <a:lnTo>
                    <a:pt x="12" y="864"/>
                  </a:lnTo>
                  <a:lnTo>
                    <a:pt x="6" y="826"/>
                  </a:lnTo>
                  <a:lnTo>
                    <a:pt x="2" y="786"/>
                  </a:lnTo>
                  <a:lnTo>
                    <a:pt x="0" y="746"/>
                  </a:lnTo>
                  <a:lnTo>
                    <a:pt x="0" y="706"/>
                  </a:lnTo>
                  <a:lnTo>
                    <a:pt x="4" y="666"/>
                  </a:lnTo>
                  <a:lnTo>
                    <a:pt x="8" y="628"/>
                  </a:lnTo>
                  <a:lnTo>
                    <a:pt x="20" y="554"/>
                  </a:lnTo>
                  <a:lnTo>
                    <a:pt x="20" y="554"/>
                  </a:lnTo>
                  <a:lnTo>
                    <a:pt x="30" y="512"/>
                  </a:lnTo>
                  <a:lnTo>
                    <a:pt x="44" y="474"/>
                  </a:lnTo>
                  <a:lnTo>
                    <a:pt x="58" y="434"/>
                  </a:lnTo>
                  <a:lnTo>
                    <a:pt x="76" y="396"/>
                  </a:lnTo>
                  <a:lnTo>
                    <a:pt x="94" y="358"/>
                  </a:lnTo>
                  <a:lnTo>
                    <a:pt x="114" y="320"/>
                  </a:lnTo>
                  <a:lnTo>
                    <a:pt x="134" y="284"/>
                  </a:lnTo>
                  <a:lnTo>
                    <a:pt x="158" y="248"/>
                  </a:lnTo>
                  <a:lnTo>
                    <a:pt x="158" y="248"/>
                  </a:lnTo>
                  <a:lnTo>
                    <a:pt x="176" y="232"/>
                  </a:lnTo>
                  <a:lnTo>
                    <a:pt x="196" y="218"/>
                  </a:lnTo>
                  <a:lnTo>
                    <a:pt x="234" y="192"/>
                  </a:lnTo>
                  <a:lnTo>
                    <a:pt x="272" y="164"/>
                  </a:lnTo>
                  <a:lnTo>
                    <a:pt x="290" y="148"/>
                  </a:lnTo>
                  <a:lnTo>
                    <a:pt x="306" y="130"/>
                  </a:lnTo>
                  <a:lnTo>
                    <a:pt x="306" y="134"/>
                  </a:lnTo>
                  <a:lnTo>
                    <a:pt x="306" y="134"/>
                  </a:lnTo>
                  <a:lnTo>
                    <a:pt x="312" y="132"/>
                  </a:lnTo>
                  <a:lnTo>
                    <a:pt x="318" y="128"/>
                  </a:lnTo>
                  <a:lnTo>
                    <a:pt x="330" y="120"/>
                  </a:lnTo>
                  <a:lnTo>
                    <a:pt x="342" y="112"/>
                  </a:lnTo>
                  <a:lnTo>
                    <a:pt x="356" y="106"/>
                  </a:lnTo>
                  <a:lnTo>
                    <a:pt x="356" y="106"/>
                  </a:lnTo>
                  <a:lnTo>
                    <a:pt x="376" y="90"/>
                  </a:lnTo>
                  <a:lnTo>
                    <a:pt x="398" y="76"/>
                  </a:lnTo>
                  <a:lnTo>
                    <a:pt x="442" y="52"/>
                  </a:lnTo>
                  <a:lnTo>
                    <a:pt x="442" y="52"/>
                  </a:lnTo>
                  <a:lnTo>
                    <a:pt x="528" y="24"/>
                  </a:lnTo>
                  <a:lnTo>
                    <a:pt x="574" y="12"/>
                  </a:lnTo>
                  <a:lnTo>
                    <a:pt x="622" y="4"/>
                  </a:lnTo>
                  <a:lnTo>
                    <a:pt x="644" y="0"/>
                  </a:lnTo>
                  <a:lnTo>
                    <a:pt x="668" y="0"/>
                  </a:lnTo>
                  <a:lnTo>
                    <a:pt x="692" y="0"/>
                  </a:lnTo>
                  <a:lnTo>
                    <a:pt x="714" y="4"/>
                  </a:lnTo>
                  <a:lnTo>
                    <a:pt x="736" y="8"/>
                  </a:lnTo>
                  <a:lnTo>
                    <a:pt x="758" y="16"/>
                  </a:lnTo>
                  <a:lnTo>
                    <a:pt x="780" y="26"/>
                  </a:lnTo>
                  <a:lnTo>
                    <a:pt x="800" y="38"/>
                  </a:lnTo>
                  <a:lnTo>
                    <a:pt x="870" y="64"/>
                  </a:lnTo>
                  <a:close/>
                </a:path>
              </a:pathLst>
            </a:custGeom>
            <a:solidFill>
              <a:srgbClr val="b5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5033520" y="3476160"/>
              <a:ext cx="771480" cy="32364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486" h="204">
                  <a:moveTo>
                    <a:pt x="412" y="2"/>
                  </a:moveTo>
                  <a:lnTo>
                    <a:pt x="412" y="2"/>
                  </a:lnTo>
                  <a:lnTo>
                    <a:pt x="396" y="2"/>
                  </a:lnTo>
                  <a:lnTo>
                    <a:pt x="380" y="2"/>
                  </a:lnTo>
                  <a:lnTo>
                    <a:pt x="352" y="6"/>
                  </a:lnTo>
                  <a:lnTo>
                    <a:pt x="322" y="12"/>
                  </a:lnTo>
                  <a:lnTo>
                    <a:pt x="294" y="18"/>
                  </a:lnTo>
                  <a:lnTo>
                    <a:pt x="294" y="18"/>
                  </a:lnTo>
                  <a:lnTo>
                    <a:pt x="302" y="22"/>
                  </a:lnTo>
                  <a:lnTo>
                    <a:pt x="310" y="22"/>
                  </a:lnTo>
                  <a:lnTo>
                    <a:pt x="326" y="22"/>
                  </a:lnTo>
                  <a:lnTo>
                    <a:pt x="342" y="18"/>
                  </a:lnTo>
                  <a:lnTo>
                    <a:pt x="358" y="14"/>
                  </a:lnTo>
                  <a:lnTo>
                    <a:pt x="358" y="14"/>
                  </a:lnTo>
                  <a:lnTo>
                    <a:pt x="372" y="16"/>
                  </a:lnTo>
                  <a:lnTo>
                    <a:pt x="384" y="16"/>
                  </a:lnTo>
                  <a:lnTo>
                    <a:pt x="410" y="16"/>
                  </a:lnTo>
                  <a:lnTo>
                    <a:pt x="436" y="14"/>
                  </a:lnTo>
                  <a:lnTo>
                    <a:pt x="450" y="16"/>
                  </a:lnTo>
                  <a:lnTo>
                    <a:pt x="462" y="20"/>
                  </a:lnTo>
                  <a:lnTo>
                    <a:pt x="470" y="24"/>
                  </a:lnTo>
                  <a:lnTo>
                    <a:pt x="470" y="24"/>
                  </a:lnTo>
                  <a:lnTo>
                    <a:pt x="440" y="20"/>
                  </a:lnTo>
                  <a:lnTo>
                    <a:pt x="406" y="18"/>
                  </a:lnTo>
                  <a:lnTo>
                    <a:pt x="370" y="20"/>
                  </a:lnTo>
                  <a:lnTo>
                    <a:pt x="332" y="24"/>
                  </a:lnTo>
                  <a:lnTo>
                    <a:pt x="328" y="32"/>
                  </a:lnTo>
                  <a:lnTo>
                    <a:pt x="328" y="32"/>
                  </a:lnTo>
                  <a:lnTo>
                    <a:pt x="362" y="30"/>
                  </a:lnTo>
                  <a:lnTo>
                    <a:pt x="396" y="30"/>
                  </a:lnTo>
                  <a:lnTo>
                    <a:pt x="432" y="30"/>
                  </a:lnTo>
                  <a:lnTo>
                    <a:pt x="464" y="34"/>
                  </a:lnTo>
                  <a:lnTo>
                    <a:pt x="464" y="34"/>
                  </a:lnTo>
                  <a:lnTo>
                    <a:pt x="442" y="34"/>
                  </a:lnTo>
                  <a:lnTo>
                    <a:pt x="418" y="34"/>
                  </a:lnTo>
                  <a:lnTo>
                    <a:pt x="394" y="34"/>
                  </a:lnTo>
                  <a:lnTo>
                    <a:pt x="370" y="32"/>
                  </a:lnTo>
                  <a:lnTo>
                    <a:pt x="370" y="32"/>
                  </a:lnTo>
                  <a:lnTo>
                    <a:pt x="366" y="36"/>
                  </a:lnTo>
                  <a:lnTo>
                    <a:pt x="358" y="38"/>
                  </a:lnTo>
                  <a:lnTo>
                    <a:pt x="342" y="40"/>
                  </a:lnTo>
                  <a:lnTo>
                    <a:pt x="326" y="42"/>
                  </a:lnTo>
                  <a:lnTo>
                    <a:pt x="320" y="46"/>
                  </a:lnTo>
                  <a:lnTo>
                    <a:pt x="314" y="50"/>
                  </a:lnTo>
                  <a:lnTo>
                    <a:pt x="314" y="50"/>
                  </a:lnTo>
                  <a:lnTo>
                    <a:pt x="356" y="48"/>
                  </a:lnTo>
                  <a:lnTo>
                    <a:pt x="400" y="48"/>
                  </a:lnTo>
                  <a:lnTo>
                    <a:pt x="442" y="50"/>
                  </a:lnTo>
                  <a:lnTo>
                    <a:pt x="484" y="54"/>
                  </a:lnTo>
                  <a:lnTo>
                    <a:pt x="484" y="54"/>
                  </a:lnTo>
                  <a:lnTo>
                    <a:pt x="444" y="52"/>
                  </a:lnTo>
                  <a:lnTo>
                    <a:pt x="402" y="52"/>
                  </a:lnTo>
                  <a:lnTo>
                    <a:pt x="380" y="54"/>
                  </a:lnTo>
                  <a:lnTo>
                    <a:pt x="360" y="56"/>
                  </a:lnTo>
                  <a:lnTo>
                    <a:pt x="340" y="60"/>
                  </a:lnTo>
                  <a:lnTo>
                    <a:pt x="322" y="68"/>
                  </a:lnTo>
                  <a:lnTo>
                    <a:pt x="322" y="68"/>
                  </a:lnTo>
                  <a:lnTo>
                    <a:pt x="404" y="62"/>
                  </a:lnTo>
                  <a:lnTo>
                    <a:pt x="446" y="64"/>
                  </a:lnTo>
                  <a:lnTo>
                    <a:pt x="466" y="66"/>
                  </a:lnTo>
                  <a:lnTo>
                    <a:pt x="486" y="68"/>
                  </a:lnTo>
                  <a:lnTo>
                    <a:pt x="486" y="68"/>
                  </a:lnTo>
                  <a:lnTo>
                    <a:pt x="468" y="66"/>
                  </a:lnTo>
                  <a:lnTo>
                    <a:pt x="450" y="66"/>
                  </a:lnTo>
                  <a:lnTo>
                    <a:pt x="414" y="68"/>
                  </a:lnTo>
                  <a:lnTo>
                    <a:pt x="374" y="72"/>
                  </a:lnTo>
                  <a:lnTo>
                    <a:pt x="334" y="78"/>
                  </a:lnTo>
                  <a:lnTo>
                    <a:pt x="334" y="80"/>
                  </a:lnTo>
                  <a:lnTo>
                    <a:pt x="334" y="80"/>
                  </a:lnTo>
                  <a:lnTo>
                    <a:pt x="368" y="82"/>
                  </a:lnTo>
                  <a:lnTo>
                    <a:pt x="402" y="80"/>
                  </a:lnTo>
                  <a:lnTo>
                    <a:pt x="438" y="78"/>
                  </a:lnTo>
                  <a:lnTo>
                    <a:pt x="474" y="78"/>
                  </a:lnTo>
                  <a:lnTo>
                    <a:pt x="474" y="78"/>
                  </a:lnTo>
                  <a:lnTo>
                    <a:pt x="402" y="86"/>
                  </a:lnTo>
                  <a:lnTo>
                    <a:pt x="370" y="90"/>
                  </a:lnTo>
                  <a:lnTo>
                    <a:pt x="340" y="96"/>
                  </a:lnTo>
                  <a:lnTo>
                    <a:pt x="310" y="102"/>
                  </a:lnTo>
                  <a:lnTo>
                    <a:pt x="280" y="112"/>
                  </a:lnTo>
                  <a:lnTo>
                    <a:pt x="250" y="126"/>
                  </a:lnTo>
                  <a:lnTo>
                    <a:pt x="220" y="144"/>
                  </a:lnTo>
                  <a:lnTo>
                    <a:pt x="220" y="144"/>
                  </a:lnTo>
                  <a:lnTo>
                    <a:pt x="204" y="152"/>
                  </a:lnTo>
                  <a:lnTo>
                    <a:pt x="188" y="162"/>
                  </a:lnTo>
                  <a:lnTo>
                    <a:pt x="156" y="180"/>
                  </a:lnTo>
                  <a:lnTo>
                    <a:pt x="134" y="204"/>
                  </a:lnTo>
                  <a:lnTo>
                    <a:pt x="134" y="204"/>
                  </a:lnTo>
                  <a:lnTo>
                    <a:pt x="140" y="190"/>
                  </a:lnTo>
                  <a:lnTo>
                    <a:pt x="150" y="180"/>
                  </a:lnTo>
                  <a:lnTo>
                    <a:pt x="160" y="170"/>
                  </a:lnTo>
                  <a:lnTo>
                    <a:pt x="170" y="160"/>
                  </a:lnTo>
                  <a:lnTo>
                    <a:pt x="214" y="128"/>
                  </a:lnTo>
                  <a:lnTo>
                    <a:pt x="214" y="128"/>
                  </a:lnTo>
                  <a:lnTo>
                    <a:pt x="212" y="124"/>
                  </a:lnTo>
                  <a:lnTo>
                    <a:pt x="208" y="124"/>
                  </a:lnTo>
                  <a:lnTo>
                    <a:pt x="202" y="124"/>
                  </a:lnTo>
                  <a:lnTo>
                    <a:pt x="196" y="128"/>
                  </a:lnTo>
                  <a:lnTo>
                    <a:pt x="190" y="130"/>
                  </a:lnTo>
                  <a:lnTo>
                    <a:pt x="190" y="130"/>
                  </a:lnTo>
                  <a:lnTo>
                    <a:pt x="152" y="158"/>
                  </a:lnTo>
                  <a:lnTo>
                    <a:pt x="132" y="172"/>
                  </a:lnTo>
                  <a:lnTo>
                    <a:pt x="116" y="188"/>
                  </a:lnTo>
                  <a:lnTo>
                    <a:pt x="112" y="184"/>
                  </a:lnTo>
                  <a:lnTo>
                    <a:pt x="112" y="184"/>
                  </a:lnTo>
                  <a:lnTo>
                    <a:pt x="122" y="176"/>
                  </a:lnTo>
                  <a:lnTo>
                    <a:pt x="130" y="166"/>
                  </a:lnTo>
                  <a:lnTo>
                    <a:pt x="150" y="150"/>
                  </a:lnTo>
                  <a:lnTo>
                    <a:pt x="170" y="136"/>
                  </a:lnTo>
                  <a:lnTo>
                    <a:pt x="180" y="128"/>
                  </a:lnTo>
                  <a:lnTo>
                    <a:pt x="188" y="118"/>
                  </a:lnTo>
                  <a:lnTo>
                    <a:pt x="188" y="118"/>
                  </a:lnTo>
                  <a:lnTo>
                    <a:pt x="176" y="122"/>
                  </a:lnTo>
                  <a:lnTo>
                    <a:pt x="164" y="128"/>
                  </a:lnTo>
                  <a:lnTo>
                    <a:pt x="152" y="136"/>
                  </a:lnTo>
                  <a:lnTo>
                    <a:pt x="140" y="144"/>
                  </a:lnTo>
                  <a:lnTo>
                    <a:pt x="116" y="164"/>
                  </a:lnTo>
                  <a:lnTo>
                    <a:pt x="92" y="180"/>
                  </a:lnTo>
                  <a:lnTo>
                    <a:pt x="92" y="180"/>
                  </a:lnTo>
                  <a:lnTo>
                    <a:pt x="128" y="142"/>
                  </a:lnTo>
                  <a:lnTo>
                    <a:pt x="146" y="126"/>
                  </a:lnTo>
                  <a:lnTo>
                    <a:pt x="156" y="118"/>
                  </a:lnTo>
                  <a:lnTo>
                    <a:pt x="166" y="112"/>
                  </a:lnTo>
                  <a:lnTo>
                    <a:pt x="166" y="112"/>
                  </a:lnTo>
                  <a:lnTo>
                    <a:pt x="154" y="114"/>
                  </a:lnTo>
                  <a:lnTo>
                    <a:pt x="142" y="118"/>
                  </a:lnTo>
                  <a:lnTo>
                    <a:pt x="130" y="124"/>
                  </a:lnTo>
                  <a:lnTo>
                    <a:pt x="118" y="132"/>
                  </a:lnTo>
                  <a:lnTo>
                    <a:pt x="96" y="152"/>
                  </a:lnTo>
                  <a:lnTo>
                    <a:pt x="84" y="160"/>
                  </a:lnTo>
                  <a:lnTo>
                    <a:pt x="72" y="168"/>
                  </a:lnTo>
                  <a:lnTo>
                    <a:pt x="72" y="168"/>
                  </a:lnTo>
                  <a:lnTo>
                    <a:pt x="78" y="160"/>
                  </a:lnTo>
                  <a:lnTo>
                    <a:pt x="86" y="152"/>
                  </a:lnTo>
                  <a:lnTo>
                    <a:pt x="108" y="136"/>
                  </a:lnTo>
                  <a:lnTo>
                    <a:pt x="132" y="120"/>
                  </a:lnTo>
                  <a:lnTo>
                    <a:pt x="142" y="112"/>
                  </a:lnTo>
                  <a:lnTo>
                    <a:pt x="152" y="102"/>
                  </a:lnTo>
                  <a:lnTo>
                    <a:pt x="152" y="102"/>
                  </a:lnTo>
                  <a:lnTo>
                    <a:pt x="146" y="102"/>
                  </a:lnTo>
                  <a:lnTo>
                    <a:pt x="138" y="106"/>
                  </a:lnTo>
                  <a:lnTo>
                    <a:pt x="130" y="108"/>
                  </a:lnTo>
                  <a:lnTo>
                    <a:pt x="124" y="110"/>
                  </a:lnTo>
                  <a:lnTo>
                    <a:pt x="124" y="110"/>
                  </a:lnTo>
                  <a:lnTo>
                    <a:pt x="102" y="124"/>
                  </a:lnTo>
                  <a:lnTo>
                    <a:pt x="80" y="142"/>
                  </a:lnTo>
                  <a:lnTo>
                    <a:pt x="38" y="176"/>
                  </a:lnTo>
                  <a:lnTo>
                    <a:pt x="38" y="172"/>
                  </a:lnTo>
                  <a:lnTo>
                    <a:pt x="38" y="172"/>
                  </a:lnTo>
                  <a:lnTo>
                    <a:pt x="66" y="148"/>
                  </a:lnTo>
                  <a:lnTo>
                    <a:pt x="82" y="134"/>
                  </a:lnTo>
                  <a:lnTo>
                    <a:pt x="94" y="122"/>
                  </a:lnTo>
                  <a:lnTo>
                    <a:pt x="90" y="116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40" y="146"/>
                  </a:lnTo>
                  <a:lnTo>
                    <a:pt x="62" y="128"/>
                  </a:lnTo>
                  <a:lnTo>
                    <a:pt x="82" y="112"/>
                  </a:lnTo>
                  <a:lnTo>
                    <a:pt x="82" y="112"/>
                  </a:lnTo>
                  <a:lnTo>
                    <a:pt x="74" y="114"/>
                  </a:lnTo>
                  <a:lnTo>
                    <a:pt x="66" y="116"/>
                  </a:lnTo>
                  <a:lnTo>
                    <a:pt x="52" y="124"/>
                  </a:lnTo>
                  <a:lnTo>
                    <a:pt x="38" y="136"/>
                  </a:lnTo>
                  <a:lnTo>
                    <a:pt x="24" y="144"/>
                  </a:lnTo>
                  <a:lnTo>
                    <a:pt x="24" y="144"/>
                  </a:lnTo>
                  <a:lnTo>
                    <a:pt x="30" y="134"/>
                  </a:lnTo>
                  <a:lnTo>
                    <a:pt x="40" y="126"/>
                  </a:lnTo>
                  <a:lnTo>
                    <a:pt x="50" y="120"/>
                  </a:lnTo>
                  <a:lnTo>
                    <a:pt x="62" y="114"/>
                  </a:lnTo>
                  <a:lnTo>
                    <a:pt x="88" y="104"/>
                  </a:lnTo>
                  <a:lnTo>
                    <a:pt x="100" y="98"/>
                  </a:lnTo>
                  <a:lnTo>
                    <a:pt x="110" y="92"/>
                  </a:lnTo>
                  <a:lnTo>
                    <a:pt x="110" y="92"/>
                  </a:lnTo>
                  <a:lnTo>
                    <a:pt x="124" y="82"/>
                  </a:lnTo>
                  <a:lnTo>
                    <a:pt x="140" y="72"/>
                  </a:lnTo>
                  <a:lnTo>
                    <a:pt x="172" y="54"/>
                  </a:lnTo>
                  <a:lnTo>
                    <a:pt x="204" y="38"/>
                  </a:lnTo>
                  <a:lnTo>
                    <a:pt x="236" y="24"/>
                  </a:lnTo>
                  <a:lnTo>
                    <a:pt x="236" y="24"/>
                  </a:lnTo>
                  <a:lnTo>
                    <a:pt x="256" y="14"/>
                  </a:lnTo>
                  <a:lnTo>
                    <a:pt x="278" y="6"/>
                  </a:lnTo>
                  <a:lnTo>
                    <a:pt x="300" y="2"/>
                  </a:lnTo>
                  <a:lnTo>
                    <a:pt x="324" y="0"/>
                  </a:lnTo>
                  <a:lnTo>
                    <a:pt x="368" y="2"/>
                  </a:lnTo>
                  <a:lnTo>
                    <a:pt x="412" y="2"/>
                  </a:lnTo>
                  <a:lnTo>
                    <a:pt x="412" y="2"/>
                  </a:lnTo>
                  <a:close/>
                </a:path>
              </a:pathLst>
            </a:custGeom>
            <a:solidFill>
              <a:srgbClr val="ea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>
              <a:off x="4678200" y="3828600"/>
              <a:ext cx="457200" cy="6602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288" h="416">
                  <a:moveTo>
                    <a:pt x="140" y="144"/>
                  </a:moveTo>
                  <a:lnTo>
                    <a:pt x="142" y="146"/>
                  </a:lnTo>
                  <a:lnTo>
                    <a:pt x="142" y="146"/>
                  </a:lnTo>
                  <a:lnTo>
                    <a:pt x="166" y="114"/>
                  </a:lnTo>
                  <a:lnTo>
                    <a:pt x="192" y="82"/>
                  </a:lnTo>
                  <a:lnTo>
                    <a:pt x="220" y="52"/>
                  </a:lnTo>
                  <a:lnTo>
                    <a:pt x="250" y="24"/>
                  </a:lnTo>
                  <a:lnTo>
                    <a:pt x="250" y="24"/>
                  </a:lnTo>
                  <a:lnTo>
                    <a:pt x="236" y="40"/>
                  </a:lnTo>
                  <a:lnTo>
                    <a:pt x="222" y="56"/>
                  </a:lnTo>
                  <a:lnTo>
                    <a:pt x="210" y="74"/>
                  </a:lnTo>
                  <a:lnTo>
                    <a:pt x="200" y="92"/>
                  </a:lnTo>
                  <a:lnTo>
                    <a:pt x="180" y="128"/>
                  </a:lnTo>
                  <a:lnTo>
                    <a:pt x="162" y="166"/>
                  </a:lnTo>
                  <a:lnTo>
                    <a:pt x="164" y="168"/>
                  </a:lnTo>
                  <a:lnTo>
                    <a:pt x="164" y="168"/>
                  </a:lnTo>
                  <a:lnTo>
                    <a:pt x="176" y="152"/>
                  </a:lnTo>
                  <a:lnTo>
                    <a:pt x="188" y="134"/>
                  </a:lnTo>
                  <a:lnTo>
                    <a:pt x="214" y="96"/>
                  </a:lnTo>
                  <a:lnTo>
                    <a:pt x="226" y="78"/>
                  </a:lnTo>
                  <a:lnTo>
                    <a:pt x="242" y="62"/>
                  </a:lnTo>
                  <a:lnTo>
                    <a:pt x="258" y="46"/>
                  </a:lnTo>
                  <a:lnTo>
                    <a:pt x="276" y="34"/>
                  </a:lnTo>
                  <a:lnTo>
                    <a:pt x="276" y="34"/>
                  </a:lnTo>
                  <a:lnTo>
                    <a:pt x="262" y="44"/>
                  </a:lnTo>
                  <a:lnTo>
                    <a:pt x="250" y="58"/>
                  </a:lnTo>
                  <a:lnTo>
                    <a:pt x="238" y="70"/>
                  </a:lnTo>
                  <a:lnTo>
                    <a:pt x="228" y="84"/>
                  </a:lnTo>
                  <a:lnTo>
                    <a:pt x="210" y="112"/>
                  </a:lnTo>
                  <a:lnTo>
                    <a:pt x="190" y="142"/>
                  </a:lnTo>
                  <a:lnTo>
                    <a:pt x="190" y="142"/>
                  </a:lnTo>
                  <a:lnTo>
                    <a:pt x="192" y="144"/>
                  </a:lnTo>
                  <a:lnTo>
                    <a:pt x="196" y="144"/>
                  </a:lnTo>
                  <a:lnTo>
                    <a:pt x="200" y="138"/>
                  </a:lnTo>
                  <a:lnTo>
                    <a:pt x="200" y="138"/>
                  </a:lnTo>
                  <a:lnTo>
                    <a:pt x="208" y="130"/>
                  </a:lnTo>
                  <a:lnTo>
                    <a:pt x="218" y="118"/>
                  </a:lnTo>
                  <a:lnTo>
                    <a:pt x="236" y="92"/>
                  </a:lnTo>
                  <a:lnTo>
                    <a:pt x="244" y="80"/>
                  </a:lnTo>
                  <a:lnTo>
                    <a:pt x="256" y="70"/>
                  </a:lnTo>
                  <a:lnTo>
                    <a:pt x="266" y="62"/>
                  </a:lnTo>
                  <a:lnTo>
                    <a:pt x="280" y="56"/>
                  </a:lnTo>
                  <a:lnTo>
                    <a:pt x="280" y="56"/>
                  </a:lnTo>
                  <a:lnTo>
                    <a:pt x="260" y="70"/>
                  </a:lnTo>
                  <a:lnTo>
                    <a:pt x="244" y="88"/>
                  </a:lnTo>
                  <a:lnTo>
                    <a:pt x="232" y="106"/>
                  </a:lnTo>
                  <a:lnTo>
                    <a:pt x="222" y="128"/>
                  </a:lnTo>
                  <a:lnTo>
                    <a:pt x="224" y="130"/>
                  </a:lnTo>
                  <a:lnTo>
                    <a:pt x="224" y="130"/>
                  </a:lnTo>
                  <a:lnTo>
                    <a:pt x="240" y="112"/>
                  </a:lnTo>
                  <a:lnTo>
                    <a:pt x="256" y="98"/>
                  </a:lnTo>
                  <a:lnTo>
                    <a:pt x="288" y="70"/>
                  </a:lnTo>
                  <a:lnTo>
                    <a:pt x="288" y="70"/>
                  </a:lnTo>
                  <a:lnTo>
                    <a:pt x="240" y="130"/>
                  </a:lnTo>
                  <a:lnTo>
                    <a:pt x="216" y="162"/>
                  </a:lnTo>
                  <a:lnTo>
                    <a:pt x="194" y="194"/>
                  </a:lnTo>
                  <a:lnTo>
                    <a:pt x="194" y="194"/>
                  </a:lnTo>
                  <a:lnTo>
                    <a:pt x="180" y="210"/>
                  </a:lnTo>
                  <a:lnTo>
                    <a:pt x="170" y="228"/>
                  </a:lnTo>
                  <a:lnTo>
                    <a:pt x="162" y="248"/>
                  </a:lnTo>
                  <a:lnTo>
                    <a:pt x="158" y="268"/>
                  </a:lnTo>
                  <a:lnTo>
                    <a:pt x="148" y="310"/>
                  </a:lnTo>
                  <a:lnTo>
                    <a:pt x="144" y="330"/>
                  </a:lnTo>
                  <a:lnTo>
                    <a:pt x="136" y="350"/>
                  </a:lnTo>
                  <a:lnTo>
                    <a:pt x="136" y="350"/>
                  </a:lnTo>
                  <a:lnTo>
                    <a:pt x="126" y="384"/>
                  </a:lnTo>
                  <a:lnTo>
                    <a:pt x="112" y="416"/>
                  </a:lnTo>
                  <a:lnTo>
                    <a:pt x="112" y="416"/>
                  </a:lnTo>
                  <a:lnTo>
                    <a:pt x="114" y="404"/>
                  </a:lnTo>
                  <a:lnTo>
                    <a:pt x="116" y="392"/>
                  </a:lnTo>
                  <a:lnTo>
                    <a:pt x="124" y="368"/>
                  </a:lnTo>
                  <a:lnTo>
                    <a:pt x="130" y="344"/>
                  </a:lnTo>
                  <a:lnTo>
                    <a:pt x="132" y="332"/>
                  </a:lnTo>
                  <a:lnTo>
                    <a:pt x="132" y="320"/>
                  </a:lnTo>
                  <a:lnTo>
                    <a:pt x="132" y="320"/>
                  </a:lnTo>
                  <a:lnTo>
                    <a:pt x="126" y="332"/>
                  </a:lnTo>
                  <a:lnTo>
                    <a:pt x="120" y="342"/>
                  </a:lnTo>
                  <a:lnTo>
                    <a:pt x="110" y="368"/>
                  </a:lnTo>
                  <a:lnTo>
                    <a:pt x="102" y="390"/>
                  </a:lnTo>
                  <a:lnTo>
                    <a:pt x="96" y="402"/>
                  </a:lnTo>
                  <a:lnTo>
                    <a:pt x="90" y="410"/>
                  </a:lnTo>
                  <a:lnTo>
                    <a:pt x="90" y="410"/>
                  </a:lnTo>
                  <a:lnTo>
                    <a:pt x="94" y="376"/>
                  </a:lnTo>
                  <a:lnTo>
                    <a:pt x="100" y="344"/>
                  </a:lnTo>
                  <a:lnTo>
                    <a:pt x="110" y="314"/>
                  </a:lnTo>
                  <a:lnTo>
                    <a:pt x="122" y="284"/>
                  </a:lnTo>
                  <a:lnTo>
                    <a:pt x="122" y="284"/>
                  </a:lnTo>
                  <a:lnTo>
                    <a:pt x="120" y="282"/>
                  </a:lnTo>
                  <a:lnTo>
                    <a:pt x="118" y="282"/>
                  </a:lnTo>
                  <a:lnTo>
                    <a:pt x="118" y="282"/>
                  </a:lnTo>
                  <a:lnTo>
                    <a:pt x="114" y="288"/>
                  </a:lnTo>
                  <a:lnTo>
                    <a:pt x="110" y="292"/>
                  </a:lnTo>
                  <a:lnTo>
                    <a:pt x="104" y="306"/>
                  </a:lnTo>
                  <a:lnTo>
                    <a:pt x="100" y="318"/>
                  </a:lnTo>
                  <a:lnTo>
                    <a:pt x="96" y="330"/>
                  </a:lnTo>
                  <a:lnTo>
                    <a:pt x="94" y="330"/>
                  </a:lnTo>
                  <a:lnTo>
                    <a:pt x="94" y="330"/>
                  </a:lnTo>
                  <a:lnTo>
                    <a:pt x="86" y="348"/>
                  </a:lnTo>
                  <a:lnTo>
                    <a:pt x="78" y="366"/>
                  </a:lnTo>
                  <a:lnTo>
                    <a:pt x="70" y="384"/>
                  </a:lnTo>
                  <a:lnTo>
                    <a:pt x="68" y="392"/>
                  </a:lnTo>
                  <a:lnTo>
                    <a:pt x="68" y="402"/>
                  </a:lnTo>
                  <a:lnTo>
                    <a:pt x="68" y="402"/>
                  </a:lnTo>
                  <a:lnTo>
                    <a:pt x="66" y="390"/>
                  </a:lnTo>
                  <a:lnTo>
                    <a:pt x="68" y="378"/>
                  </a:lnTo>
                  <a:lnTo>
                    <a:pt x="72" y="356"/>
                  </a:lnTo>
                  <a:lnTo>
                    <a:pt x="78" y="336"/>
                  </a:lnTo>
                  <a:lnTo>
                    <a:pt x="82" y="316"/>
                  </a:lnTo>
                  <a:lnTo>
                    <a:pt x="82" y="316"/>
                  </a:lnTo>
                  <a:lnTo>
                    <a:pt x="88" y="308"/>
                  </a:lnTo>
                  <a:lnTo>
                    <a:pt x="92" y="298"/>
                  </a:lnTo>
                  <a:lnTo>
                    <a:pt x="96" y="290"/>
                  </a:lnTo>
                  <a:lnTo>
                    <a:pt x="100" y="280"/>
                  </a:lnTo>
                  <a:lnTo>
                    <a:pt x="100" y="280"/>
                  </a:lnTo>
                  <a:lnTo>
                    <a:pt x="94" y="280"/>
                  </a:lnTo>
                  <a:lnTo>
                    <a:pt x="90" y="282"/>
                  </a:lnTo>
                  <a:lnTo>
                    <a:pt x="86" y="286"/>
                  </a:lnTo>
                  <a:lnTo>
                    <a:pt x="84" y="290"/>
                  </a:lnTo>
                  <a:lnTo>
                    <a:pt x="80" y="302"/>
                  </a:lnTo>
                  <a:lnTo>
                    <a:pt x="78" y="308"/>
                  </a:lnTo>
                  <a:lnTo>
                    <a:pt x="74" y="312"/>
                  </a:lnTo>
                  <a:lnTo>
                    <a:pt x="74" y="312"/>
                  </a:lnTo>
                  <a:lnTo>
                    <a:pt x="72" y="324"/>
                  </a:lnTo>
                  <a:lnTo>
                    <a:pt x="68" y="338"/>
                  </a:lnTo>
                  <a:lnTo>
                    <a:pt x="58" y="364"/>
                  </a:lnTo>
                  <a:lnTo>
                    <a:pt x="48" y="388"/>
                  </a:lnTo>
                  <a:lnTo>
                    <a:pt x="46" y="402"/>
                  </a:lnTo>
                  <a:lnTo>
                    <a:pt x="46" y="416"/>
                  </a:lnTo>
                  <a:lnTo>
                    <a:pt x="46" y="416"/>
                  </a:lnTo>
                  <a:lnTo>
                    <a:pt x="46" y="398"/>
                  </a:lnTo>
                  <a:lnTo>
                    <a:pt x="46" y="382"/>
                  </a:lnTo>
                  <a:lnTo>
                    <a:pt x="52" y="352"/>
                  </a:lnTo>
                  <a:lnTo>
                    <a:pt x="60" y="320"/>
                  </a:lnTo>
                  <a:lnTo>
                    <a:pt x="72" y="290"/>
                  </a:lnTo>
                  <a:lnTo>
                    <a:pt x="68" y="288"/>
                  </a:lnTo>
                  <a:lnTo>
                    <a:pt x="68" y="288"/>
                  </a:lnTo>
                  <a:lnTo>
                    <a:pt x="50" y="320"/>
                  </a:lnTo>
                  <a:lnTo>
                    <a:pt x="32" y="356"/>
                  </a:lnTo>
                  <a:lnTo>
                    <a:pt x="32" y="356"/>
                  </a:lnTo>
                  <a:lnTo>
                    <a:pt x="32" y="368"/>
                  </a:lnTo>
                  <a:lnTo>
                    <a:pt x="30" y="380"/>
                  </a:lnTo>
                  <a:lnTo>
                    <a:pt x="26" y="390"/>
                  </a:lnTo>
                  <a:lnTo>
                    <a:pt x="20" y="402"/>
                  </a:lnTo>
                  <a:lnTo>
                    <a:pt x="20" y="402"/>
                  </a:lnTo>
                  <a:lnTo>
                    <a:pt x="22" y="376"/>
                  </a:lnTo>
                  <a:lnTo>
                    <a:pt x="26" y="348"/>
                  </a:lnTo>
                  <a:lnTo>
                    <a:pt x="34" y="316"/>
                  </a:lnTo>
                  <a:lnTo>
                    <a:pt x="44" y="286"/>
                  </a:lnTo>
                  <a:lnTo>
                    <a:pt x="38" y="280"/>
                  </a:lnTo>
                  <a:lnTo>
                    <a:pt x="38" y="280"/>
                  </a:lnTo>
                  <a:lnTo>
                    <a:pt x="12" y="340"/>
                  </a:lnTo>
                  <a:lnTo>
                    <a:pt x="12" y="340"/>
                  </a:lnTo>
                  <a:lnTo>
                    <a:pt x="16" y="330"/>
                  </a:lnTo>
                  <a:lnTo>
                    <a:pt x="20" y="318"/>
                  </a:lnTo>
                  <a:lnTo>
                    <a:pt x="24" y="292"/>
                  </a:lnTo>
                  <a:lnTo>
                    <a:pt x="30" y="264"/>
                  </a:lnTo>
                  <a:lnTo>
                    <a:pt x="34" y="250"/>
                  </a:lnTo>
                  <a:lnTo>
                    <a:pt x="38" y="236"/>
                  </a:lnTo>
                  <a:lnTo>
                    <a:pt x="36" y="234"/>
                  </a:lnTo>
                  <a:lnTo>
                    <a:pt x="36" y="234"/>
                  </a:lnTo>
                  <a:lnTo>
                    <a:pt x="26" y="250"/>
                  </a:lnTo>
                  <a:lnTo>
                    <a:pt x="20" y="266"/>
                  </a:lnTo>
                  <a:lnTo>
                    <a:pt x="14" y="282"/>
                  </a:lnTo>
                  <a:lnTo>
                    <a:pt x="6" y="298"/>
                  </a:lnTo>
                  <a:lnTo>
                    <a:pt x="6" y="298"/>
                  </a:lnTo>
                  <a:lnTo>
                    <a:pt x="4" y="314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0" y="306"/>
                  </a:lnTo>
                  <a:lnTo>
                    <a:pt x="2" y="284"/>
                  </a:lnTo>
                  <a:lnTo>
                    <a:pt x="8" y="264"/>
                  </a:lnTo>
                  <a:lnTo>
                    <a:pt x="14" y="242"/>
                  </a:lnTo>
                  <a:lnTo>
                    <a:pt x="30" y="200"/>
                  </a:lnTo>
                  <a:lnTo>
                    <a:pt x="38" y="180"/>
                  </a:lnTo>
                  <a:lnTo>
                    <a:pt x="44" y="160"/>
                  </a:lnTo>
                  <a:lnTo>
                    <a:pt x="44" y="160"/>
                  </a:lnTo>
                  <a:lnTo>
                    <a:pt x="50" y="142"/>
                  </a:lnTo>
                  <a:lnTo>
                    <a:pt x="58" y="124"/>
                  </a:lnTo>
                  <a:lnTo>
                    <a:pt x="68" y="106"/>
                  </a:lnTo>
                  <a:lnTo>
                    <a:pt x="78" y="88"/>
                  </a:lnTo>
                  <a:lnTo>
                    <a:pt x="92" y="72"/>
                  </a:lnTo>
                  <a:lnTo>
                    <a:pt x="104" y="56"/>
                  </a:lnTo>
                  <a:lnTo>
                    <a:pt x="134" y="26"/>
                  </a:lnTo>
                  <a:lnTo>
                    <a:pt x="134" y="26"/>
                  </a:lnTo>
                  <a:lnTo>
                    <a:pt x="106" y="70"/>
                  </a:lnTo>
                  <a:lnTo>
                    <a:pt x="82" y="116"/>
                  </a:lnTo>
                  <a:lnTo>
                    <a:pt x="84" y="118"/>
                  </a:lnTo>
                  <a:lnTo>
                    <a:pt x="84" y="118"/>
                  </a:lnTo>
                  <a:lnTo>
                    <a:pt x="102" y="94"/>
                  </a:lnTo>
                  <a:lnTo>
                    <a:pt x="120" y="70"/>
                  </a:lnTo>
                  <a:lnTo>
                    <a:pt x="140" y="48"/>
                  </a:lnTo>
                  <a:lnTo>
                    <a:pt x="152" y="38"/>
                  </a:lnTo>
                  <a:lnTo>
                    <a:pt x="164" y="28"/>
                  </a:lnTo>
                  <a:lnTo>
                    <a:pt x="164" y="28"/>
                  </a:lnTo>
                  <a:lnTo>
                    <a:pt x="144" y="54"/>
                  </a:lnTo>
                  <a:lnTo>
                    <a:pt x="128" y="82"/>
                  </a:lnTo>
                  <a:lnTo>
                    <a:pt x="112" y="110"/>
                  </a:lnTo>
                  <a:lnTo>
                    <a:pt x="98" y="140"/>
                  </a:lnTo>
                  <a:lnTo>
                    <a:pt x="100" y="142"/>
                  </a:lnTo>
                  <a:lnTo>
                    <a:pt x="100" y="142"/>
                  </a:lnTo>
                  <a:lnTo>
                    <a:pt x="122" y="110"/>
                  </a:lnTo>
                  <a:lnTo>
                    <a:pt x="144" y="80"/>
                  </a:lnTo>
                  <a:lnTo>
                    <a:pt x="168" y="52"/>
                  </a:lnTo>
                  <a:lnTo>
                    <a:pt x="182" y="40"/>
                  </a:lnTo>
                  <a:lnTo>
                    <a:pt x="196" y="26"/>
                  </a:lnTo>
                  <a:lnTo>
                    <a:pt x="196" y="26"/>
                  </a:lnTo>
                  <a:lnTo>
                    <a:pt x="178" y="50"/>
                  </a:lnTo>
                  <a:lnTo>
                    <a:pt x="164" y="76"/>
                  </a:lnTo>
                  <a:lnTo>
                    <a:pt x="148" y="102"/>
                  </a:lnTo>
                  <a:lnTo>
                    <a:pt x="132" y="128"/>
                  </a:lnTo>
                  <a:lnTo>
                    <a:pt x="138" y="134"/>
                  </a:lnTo>
                  <a:lnTo>
                    <a:pt x="138" y="134"/>
                  </a:lnTo>
                  <a:lnTo>
                    <a:pt x="148" y="116"/>
                  </a:lnTo>
                  <a:lnTo>
                    <a:pt x="160" y="96"/>
                  </a:lnTo>
                  <a:lnTo>
                    <a:pt x="172" y="78"/>
                  </a:lnTo>
                  <a:lnTo>
                    <a:pt x="186" y="62"/>
                  </a:lnTo>
                  <a:lnTo>
                    <a:pt x="216" y="30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32" y="16"/>
                  </a:lnTo>
                  <a:lnTo>
                    <a:pt x="218" y="34"/>
                  </a:lnTo>
                  <a:lnTo>
                    <a:pt x="190" y="70"/>
                  </a:lnTo>
                  <a:lnTo>
                    <a:pt x="140" y="144"/>
                  </a:lnTo>
                  <a:lnTo>
                    <a:pt x="140" y="144"/>
                  </a:lnTo>
                  <a:close/>
                </a:path>
              </a:pathLst>
            </a:custGeom>
            <a:solidFill>
              <a:srgbClr val="ea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8"/>
            <p:cNvSpPr/>
            <p:nvPr/>
          </p:nvSpPr>
          <p:spPr>
            <a:xfrm>
              <a:off x="6348240" y="3924000"/>
              <a:ext cx="761760" cy="35856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480" h="226">
                  <a:moveTo>
                    <a:pt x="42" y="12"/>
                  </a:moveTo>
                  <a:lnTo>
                    <a:pt x="42" y="12"/>
                  </a:lnTo>
                  <a:lnTo>
                    <a:pt x="62" y="26"/>
                  </a:lnTo>
                  <a:lnTo>
                    <a:pt x="84" y="38"/>
                  </a:lnTo>
                  <a:lnTo>
                    <a:pt x="108" y="46"/>
                  </a:lnTo>
                  <a:lnTo>
                    <a:pt x="134" y="54"/>
                  </a:lnTo>
                  <a:lnTo>
                    <a:pt x="184" y="68"/>
                  </a:lnTo>
                  <a:lnTo>
                    <a:pt x="234" y="82"/>
                  </a:lnTo>
                  <a:lnTo>
                    <a:pt x="234" y="82"/>
                  </a:lnTo>
                  <a:lnTo>
                    <a:pt x="258" y="84"/>
                  </a:lnTo>
                  <a:lnTo>
                    <a:pt x="282" y="88"/>
                  </a:lnTo>
                  <a:lnTo>
                    <a:pt x="328" y="96"/>
                  </a:lnTo>
                  <a:lnTo>
                    <a:pt x="350" y="98"/>
                  </a:lnTo>
                  <a:lnTo>
                    <a:pt x="374" y="100"/>
                  </a:lnTo>
                  <a:lnTo>
                    <a:pt x="398" y="100"/>
                  </a:lnTo>
                  <a:lnTo>
                    <a:pt x="422" y="96"/>
                  </a:lnTo>
                  <a:lnTo>
                    <a:pt x="422" y="96"/>
                  </a:lnTo>
                  <a:lnTo>
                    <a:pt x="414" y="100"/>
                  </a:lnTo>
                  <a:lnTo>
                    <a:pt x="406" y="102"/>
                  </a:lnTo>
                  <a:lnTo>
                    <a:pt x="386" y="106"/>
                  </a:lnTo>
                  <a:lnTo>
                    <a:pt x="366" y="110"/>
                  </a:lnTo>
                  <a:lnTo>
                    <a:pt x="348" y="112"/>
                  </a:lnTo>
                  <a:lnTo>
                    <a:pt x="348" y="112"/>
                  </a:lnTo>
                  <a:lnTo>
                    <a:pt x="360" y="116"/>
                  </a:lnTo>
                  <a:lnTo>
                    <a:pt x="372" y="118"/>
                  </a:lnTo>
                  <a:lnTo>
                    <a:pt x="384" y="118"/>
                  </a:lnTo>
                  <a:lnTo>
                    <a:pt x="396" y="116"/>
                  </a:lnTo>
                  <a:lnTo>
                    <a:pt x="422" y="110"/>
                  </a:lnTo>
                  <a:lnTo>
                    <a:pt x="444" y="102"/>
                  </a:lnTo>
                  <a:lnTo>
                    <a:pt x="444" y="102"/>
                  </a:lnTo>
                  <a:lnTo>
                    <a:pt x="442" y="106"/>
                  </a:lnTo>
                  <a:lnTo>
                    <a:pt x="438" y="108"/>
                  </a:lnTo>
                  <a:lnTo>
                    <a:pt x="428" y="114"/>
                  </a:lnTo>
                  <a:lnTo>
                    <a:pt x="424" y="110"/>
                  </a:lnTo>
                  <a:lnTo>
                    <a:pt x="424" y="110"/>
                  </a:lnTo>
                  <a:lnTo>
                    <a:pt x="410" y="118"/>
                  </a:lnTo>
                  <a:lnTo>
                    <a:pt x="394" y="126"/>
                  </a:lnTo>
                  <a:lnTo>
                    <a:pt x="376" y="128"/>
                  </a:lnTo>
                  <a:lnTo>
                    <a:pt x="356" y="130"/>
                  </a:lnTo>
                  <a:lnTo>
                    <a:pt x="356" y="130"/>
                  </a:lnTo>
                  <a:lnTo>
                    <a:pt x="350" y="130"/>
                  </a:lnTo>
                  <a:lnTo>
                    <a:pt x="346" y="132"/>
                  </a:lnTo>
                  <a:lnTo>
                    <a:pt x="344" y="136"/>
                  </a:lnTo>
                  <a:lnTo>
                    <a:pt x="344" y="136"/>
                  </a:lnTo>
                  <a:lnTo>
                    <a:pt x="358" y="138"/>
                  </a:lnTo>
                  <a:lnTo>
                    <a:pt x="370" y="138"/>
                  </a:lnTo>
                  <a:lnTo>
                    <a:pt x="384" y="136"/>
                  </a:lnTo>
                  <a:lnTo>
                    <a:pt x="400" y="134"/>
                  </a:lnTo>
                  <a:lnTo>
                    <a:pt x="428" y="126"/>
                  </a:lnTo>
                  <a:lnTo>
                    <a:pt x="452" y="118"/>
                  </a:lnTo>
                  <a:lnTo>
                    <a:pt x="452" y="118"/>
                  </a:lnTo>
                  <a:lnTo>
                    <a:pt x="446" y="124"/>
                  </a:lnTo>
                  <a:lnTo>
                    <a:pt x="438" y="128"/>
                  </a:lnTo>
                  <a:lnTo>
                    <a:pt x="420" y="134"/>
                  </a:lnTo>
                  <a:lnTo>
                    <a:pt x="400" y="140"/>
                  </a:lnTo>
                  <a:lnTo>
                    <a:pt x="380" y="146"/>
                  </a:lnTo>
                  <a:lnTo>
                    <a:pt x="380" y="146"/>
                  </a:lnTo>
                  <a:lnTo>
                    <a:pt x="356" y="148"/>
                  </a:lnTo>
                  <a:lnTo>
                    <a:pt x="346" y="150"/>
                  </a:lnTo>
                  <a:lnTo>
                    <a:pt x="342" y="154"/>
                  </a:lnTo>
                  <a:lnTo>
                    <a:pt x="338" y="158"/>
                  </a:lnTo>
                  <a:lnTo>
                    <a:pt x="338" y="158"/>
                  </a:lnTo>
                  <a:lnTo>
                    <a:pt x="358" y="156"/>
                  </a:lnTo>
                  <a:lnTo>
                    <a:pt x="378" y="154"/>
                  </a:lnTo>
                  <a:lnTo>
                    <a:pt x="398" y="152"/>
                  </a:lnTo>
                  <a:lnTo>
                    <a:pt x="414" y="152"/>
                  </a:lnTo>
                  <a:lnTo>
                    <a:pt x="414" y="152"/>
                  </a:lnTo>
                  <a:lnTo>
                    <a:pt x="458" y="134"/>
                  </a:lnTo>
                  <a:lnTo>
                    <a:pt x="458" y="134"/>
                  </a:lnTo>
                  <a:lnTo>
                    <a:pt x="444" y="142"/>
                  </a:lnTo>
                  <a:lnTo>
                    <a:pt x="430" y="148"/>
                  </a:lnTo>
                  <a:lnTo>
                    <a:pt x="416" y="152"/>
                  </a:lnTo>
                  <a:lnTo>
                    <a:pt x="402" y="154"/>
                  </a:lnTo>
                  <a:lnTo>
                    <a:pt x="374" y="158"/>
                  </a:lnTo>
                  <a:lnTo>
                    <a:pt x="360" y="162"/>
                  </a:lnTo>
                  <a:lnTo>
                    <a:pt x="344" y="168"/>
                  </a:lnTo>
                  <a:lnTo>
                    <a:pt x="344" y="168"/>
                  </a:lnTo>
                  <a:lnTo>
                    <a:pt x="366" y="170"/>
                  </a:lnTo>
                  <a:lnTo>
                    <a:pt x="390" y="170"/>
                  </a:lnTo>
                  <a:lnTo>
                    <a:pt x="414" y="166"/>
                  </a:lnTo>
                  <a:lnTo>
                    <a:pt x="432" y="162"/>
                  </a:lnTo>
                  <a:lnTo>
                    <a:pt x="432" y="162"/>
                  </a:lnTo>
                  <a:lnTo>
                    <a:pt x="412" y="170"/>
                  </a:lnTo>
                  <a:lnTo>
                    <a:pt x="388" y="174"/>
                  </a:lnTo>
                  <a:lnTo>
                    <a:pt x="364" y="180"/>
                  </a:lnTo>
                  <a:lnTo>
                    <a:pt x="342" y="182"/>
                  </a:lnTo>
                  <a:lnTo>
                    <a:pt x="342" y="182"/>
                  </a:lnTo>
                  <a:lnTo>
                    <a:pt x="364" y="186"/>
                  </a:lnTo>
                  <a:lnTo>
                    <a:pt x="388" y="184"/>
                  </a:lnTo>
                  <a:lnTo>
                    <a:pt x="410" y="182"/>
                  </a:lnTo>
                  <a:lnTo>
                    <a:pt x="432" y="176"/>
                  </a:lnTo>
                  <a:lnTo>
                    <a:pt x="480" y="160"/>
                  </a:lnTo>
                  <a:lnTo>
                    <a:pt x="480" y="160"/>
                  </a:lnTo>
                  <a:lnTo>
                    <a:pt x="448" y="176"/>
                  </a:lnTo>
                  <a:lnTo>
                    <a:pt x="414" y="186"/>
                  </a:lnTo>
                  <a:lnTo>
                    <a:pt x="398" y="190"/>
                  </a:lnTo>
                  <a:lnTo>
                    <a:pt x="382" y="194"/>
                  </a:lnTo>
                  <a:lnTo>
                    <a:pt x="364" y="194"/>
                  </a:lnTo>
                  <a:lnTo>
                    <a:pt x="348" y="194"/>
                  </a:lnTo>
                  <a:lnTo>
                    <a:pt x="348" y="194"/>
                  </a:lnTo>
                  <a:lnTo>
                    <a:pt x="348" y="196"/>
                  </a:lnTo>
                  <a:lnTo>
                    <a:pt x="350" y="198"/>
                  </a:lnTo>
                  <a:lnTo>
                    <a:pt x="356" y="200"/>
                  </a:lnTo>
                  <a:lnTo>
                    <a:pt x="364" y="202"/>
                  </a:lnTo>
                  <a:lnTo>
                    <a:pt x="370" y="204"/>
                  </a:lnTo>
                  <a:lnTo>
                    <a:pt x="370" y="204"/>
                  </a:lnTo>
                  <a:lnTo>
                    <a:pt x="384" y="204"/>
                  </a:lnTo>
                  <a:lnTo>
                    <a:pt x="396" y="202"/>
                  </a:lnTo>
                  <a:lnTo>
                    <a:pt x="420" y="198"/>
                  </a:lnTo>
                  <a:lnTo>
                    <a:pt x="444" y="190"/>
                  </a:lnTo>
                  <a:lnTo>
                    <a:pt x="464" y="182"/>
                  </a:lnTo>
                  <a:lnTo>
                    <a:pt x="464" y="182"/>
                  </a:lnTo>
                  <a:lnTo>
                    <a:pt x="450" y="190"/>
                  </a:lnTo>
                  <a:lnTo>
                    <a:pt x="436" y="196"/>
                  </a:lnTo>
                  <a:lnTo>
                    <a:pt x="422" y="202"/>
                  </a:lnTo>
                  <a:lnTo>
                    <a:pt x="406" y="206"/>
                  </a:lnTo>
                  <a:lnTo>
                    <a:pt x="388" y="210"/>
                  </a:lnTo>
                  <a:lnTo>
                    <a:pt x="372" y="210"/>
                  </a:lnTo>
                  <a:lnTo>
                    <a:pt x="354" y="210"/>
                  </a:lnTo>
                  <a:lnTo>
                    <a:pt x="338" y="206"/>
                  </a:lnTo>
                  <a:lnTo>
                    <a:pt x="338" y="206"/>
                  </a:lnTo>
                  <a:lnTo>
                    <a:pt x="334" y="210"/>
                  </a:lnTo>
                  <a:lnTo>
                    <a:pt x="336" y="214"/>
                  </a:lnTo>
                  <a:lnTo>
                    <a:pt x="338" y="220"/>
                  </a:lnTo>
                  <a:lnTo>
                    <a:pt x="338" y="220"/>
                  </a:lnTo>
                  <a:lnTo>
                    <a:pt x="352" y="218"/>
                  </a:lnTo>
                  <a:lnTo>
                    <a:pt x="366" y="220"/>
                  </a:lnTo>
                  <a:lnTo>
                    <a:pt x="378" y="220"/>
                  </a:lnTo>
                  <a:lnTo>
                    <a:pt x="394" y="220"/>
                  </a:lnTo>
                  <a:lnTo>
                    <a:pt x="394" y="220"/>
                  </a:lnTo>
                  <a:lnTo>
                    <a:pt x="370" y="224"/>
                  </a:lnTo>
                  <a:lnTo>
                    <a:pt x="348" y="226"/>
                  </a:lnTo>
                  <a:lnTo>
                    <a:pt x="326" y="226"/>
                  </a:lnTo>
                  <a:lnTo>
                    <a:pt x="304" y="226"/>
                  </a:lnTo>
                  <a:lnTo>
                    <a:pt x="282" y="222"/>
                  </a:lnTo>
                  <a:lnTo>
                    <a:pt x="260" y="216"/>
                  </a:lnTo>
                  <a:lnTo>
                    <a:pt x="240" y="210"/>
                  </a:lnTo>
                  <a:lnTo>
                    <a:pt x="218" y="200"/>
                  </a:lnTo>
                  <a:lnTo>
                    <a:pt x="218" y="200"/>
                  </a:lnTo>
                  <a:lnTo>
                    <a:pt x="226" y="204"/>
                  </a:lnTo>
                  <a:lnTo>
                    <a:pt x="234" y="204"/>
                  </a:lnTo>
                  <a:lnTo>
                    <a:pt x="254" y="204"/>
                  </a:lnTo>
                  <a:lnTo>
                    <a:pt x="276" y="202"/>
                  </a:lnTo>
                  <a:lnTo>
                    <a:pt x="298" y="202"/>
                  </a:lnTo>
                  <a:lnTo>
                    <a:pt x="298" y="202"/>
                  </a:lnTo>
                  <a:lnTo>
                    <a:pt x="284" y="198"/>
                  </a:lnTo>
                  <a:lnTo>
                    <a:pt x="268" y="198"/>
                  </a:lnTo>
                  <a:lnTo>
                    <a:pt x="252" y="196"/>
                  </a:lnTo>
                  <a:lnTo>
                    <a:pt x="244" y="194"/>
                  </a:lnTo>
                  <a:lnTo>
                    <a:pt x="238" y="190"/>
                  </a:lnTo>
                  <a:lnTo>
                    <a:pt x="238" y="190"/>
                  </a:lnTo>
                  <a:lnTo>
                    <a:pt x="216" y="186"/>
                  </a:lnTo>
                  <a:lnTo>
                    <a:pt x="196" y="180"/>
                  </a:lnTo>
                  <a:lnTo>
                    <a:pt x="176" y="172"/>
                  </a:lnTo>
                  <a:lnTo>
                    <a:pt x="158" y="162"/>
                  </a:lnTo>
                  <a:lnTo>
                    <a:pt x="158" y="162"/>
                  </a:lnTo>
                  <a:lnTo>
                    <a:pt x="190" y="172"/>
                  </a:lnTo>
                  <a:lnTo>
                    <a:pt x="206" y="176"/>
                  </a:lnTo>
                  <a:lnTo>
                    <a:pt x="222" y="176"/>
                  </a:lnTo>
                  <a:lnTo>
                    <a:pt x="222" y="170"/>
                  </a:lnTo>
                  <a:lnTo>
                    <a:pt x="222" y="170"/>
                  </a:lnTo>
                  <a:lnTo>
                    <a:pt x="184" y="158"/>
                  </a:lnTo>
                  <a:lnTo>
                    <a:pt x="164" y="150"/>
                  </a:lnTo>
                  <a:lnTo>
                    <a:pt x="156" y="146"/>
                  </a:lnTo>
                  <a:lnTo>
                    <a:pt x="148" y="140"/>
                  </a:lnTo>
                  <a:lnTo>
                    <a:pt x="148" y="140"/>
                  </a:lnTo>
                  <a:lnTo>
                    <a:pt x="146" y="142"/>
                  </a:lnTo>
                  <a:lnTo>
                    <a:pt x="144" y="142"/>
                  </a:lnTo>
                  <a:lnTo>
                    <a:pt x="138" y="138"/>
                  </a:lnTo>
                  <a:lnTo>
                    <a:pt x="132" y="136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38" y="134"/>
                  </a:lnTo>
                  <a:lnTo>
                    <a:pt x="148" y="136"/>
                  </a:lnTo>
                  <a:lnTo>
                    <a:pt x="168" y="142"/>
                  </a:lnTo>
                  <a:lnTo>
                    <a:pt x="178" y="146"/>
                  </a:lnTo>
                  <a:lnTo>
                    <a:pt x="190" y="146"/>
                  </a:lnTo>
                  <a:lnTo>
                    <a:pt x="200" y="146"/>
                  </a:lnTo>
                  <a:lnTo>
                    <a:pt x="210" y="144"/>
                  </a:lnTo>
                  <a:lnTo>
                    <a:pt x="210" y="144"/>
                  </a:lnTo>
                  <a:lnTo>
                    <a:pt x="206" y="140"/>
                  </a:lnTo>
                  <a:lnTo>
                    <a:pt x="202" y="138"/>
                  </a:lnTo>
                  <a:lnTo>
                    <a:pt x="188" y="138"/>
                  </a:lnTo>
                  <a:lnTo>
                    <a:pt x="188" y="138"/>
                  </a:lnTo>
                  <a:lnTo>
                    <a:pt x="158" y="128"/>
                  </a:lnTo>
                  <a:lnTo>
                    <a:pt x="128" y="120"/>
                  </a:lnTo>
                  <a:lnTo>
                    <a:pt x="114" y="114"/>
                  </a:lnTo>
                  <a:lnTo>
                    <a:pt x="100" y="108"/>
                  </a:lnTo>
                  <a:lnTo>
                    <a:pt x="86" y="100"/>
                  </a:lnTo>
                  <a:lnTo>
                    <a:pt x="74" y="92"/>
                  </a:lnTo>
                  <a:lnTo>
                    <a:pt x="72" y="94"/>
                  </a:lnTo>
                  <a:lnTo>
                    <a:pt x="72" y="94"/>
                  </a:lnTo>
                  <a:lnTo>
                    <a:pt x="52" y="84"/>
                  </a:lnTo>
                  <a:lnTo>
                    <a:pt x="32" y="72"/>
                  </a:lnTo>
                  <a:lnTo>
                    <a:pt x="14" y="5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2" y="72"/>
                  </a:lnTo>
                  <a:lnTo>
                    <a:pt x="62" y="84"/>
                  </a:lnTo>
                  <a:lnTo>
                    <a:pt x="86" y="96"/>
                  </a:lnTo>
                  <a:lnTo>
                    <a:pt x="108" y="106"/>
                  </a:lnTo>
                  <a:lnTo>
                    <a:pt x="132" y="114"/>
                  </a:lnTo>
                  <a:lnTo>
                    <a:pt x="156" y="120"/>
                  </a:lnTo>
                  <a:lnTo>
                    <a:pt x="180" y="122"/>
                  </a:lnTo>
                  <a:lnTo>
                    <a:pt x="180" y="122"/>
                  </a:lnTo>
                  <a:lnTo>
                    <a:pt x="180" y="118"/>
                  </a:lnTo>
                  <a:lnTo>
                    <a:pt x="178" y="116"/>
                  </a:lnTo>
                  <a:lnTo>
                    <a:pt x="174" y="114"/>
                  </a:lnTo>
                  <a:lnTo>
                    <a:pt x="174" y="114"/>
                  </a:lnTo>
                  <a:lnTo>
                    <a:pt x="160" y="112"/>
                  </a:lnTo>
                  <a:lnTo>
                    <a:pt x="146" y="108"/>
                  </a:lnTo>
                  <a:lnTo>
                    <a:pt x="116" y="98"/>
                  </a:lnTo>
                  <a:lnTo>
                    <a:pt x="116" y="98"/>
                  </a:lnTo>
                  <a:lnTo>
                    <a:pt x="80" y="78"/>
                  </a:lnTo>
                  <a:lnTo>
                    <a:pt x="60" y="68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84" y="76"/>
                  </a:lnTo>
                  <a:lnTo>
                    <a:pt x="106" y="86"/>
                  </a:lnTo>
                  <a:lnTo>
                    <a:pt x="130" y="96"/>
                  </a:lnTo>
                  <a:lnTo>
                    <a:pt x="130" y="96"/>
                  </a:lnTo>
                  <a:lnTo>
                    <a:pt x="142" y="100"/>
                  </a:lnTo>
                  <a:lnTo>
                    <a:pt x="156" y="104"/>
                  </a:lnTo>
                  <a:lnTo>
                    <a:pt x="162" y="104"/>
                  </a:lnTo>
                  <a:lnTo>
                    <a:pt x="168" y="104"/>
                  </a:lnTo>
                  <a:lnTo>
                    <a:pt x="174" y="102"/>
                  </a:lnTo>
                  <a:lnTo>
                    <a:pt x="180" y="98"/>
                  </a:lnTo>
                  <a:lnTo>
                    <a:pt x="180" y="98"/>
                  </a:lnTo>
                  <a:lnTo>
                    <a:pt x="138" y="84"/>
                  </a:lnTo>
                  <a:lnTo>
                    <a:pt x="98" y="68"/>
                  </a:lnTo>
                  <a:lnTo>
                    <a:pt x="78" y="60"/>
                  </a:lnTo>
                  <a:lnTo>
                    <a:pt x="60" y="50"/>
                  </a:lnTo>
                  <a:lnTo>
                    <a:pt x="40" y="3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44" y="36"/>
                  </a:lnTo>
                  <a:lnTo>
                    <a:pt x="64" y="46"/>
                  </a:lnTo>
                  <a:lnTo>
                    <a:pt x="84" y="56"/>
                  </a:lnTo>
                  <a:lnTo>
                    <a:pt x="106" y="64"/>
                  </a:lnTo>
                  <a:lnTo>
                    <a:pt x="148" y="76"/>
                  </a:lnTo>
                  <a:lnTo>
                    <a:pt x="190" y="84"/>
                  </a:lnTo>
                  <a:lnTo>
                    <a:pt x="190" y="84"/>
                  </a:lnTo>
                  <a:lnTo>
                    <a:pt x="162" y="72"/>
                  </a:lnTo>
                  <a:lnTo>
                    <a:pt x="132" y="62"/>
                  </a:lnTo>
                  <a:lnTo>
                    <a:pt x="102" y="52"/>
                  </a:lnTo>
                  <a:lnTo>
                    <a:pt x="88" y="46"/>
                  </a:lnTo>
                  <a:lnTo>
                    <a:pt x="74" y="3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ea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9"/>
            <p:cNvSpPr/>
            <p:nvPr/>
          </p:nvSpPr>
          <p:spPr>
            <a:xfrm>
              <a:off x="4652640" y="4530600"/>
              <a:ext cx="492120" cy="87948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10" h="554">
                  <a:moveTo>
                    <a:pt x="118" y="184"/>
                  </a:moveTo>
                  <a:lnTo>
                    <a:pt x="118" y="184"/>
                  </a:lnTo>
                  <a:lnTo>
                    <a:pt x="122" y="180"/>
                  </a:lnTo>
                  <a:lnTo>
                    <a:pt x="124" y="176"/>
                  </a:lnTo>
                  <a:lnTo>
                    <a:pt x="122" y="166"/>
                  </a:lnTo>
                  <a:lnTo>
                    <a:pt x="120" y="154"/>
                  </a:lnTo>
                  <a:lnTo>
                    <a:pt x="120" y="140"/>
                  </a:lnTo>
                  <a:lnTo>
                    <a:pt x="120" y="140"/>
                  </a:lnTo>
                  <a:lnTo>
                    <a:pt x="118" y="128"/>
                  </a:lnTo>
                  <a:lnTo>
                    <a:pt x="118" y="116"/>
                  </a:lnTo>
                  <a:lnTo>
                    <a:pt x="120" y="90"/>
                  </a:lnTo>
                  <a:lnTo>
                    <a:pt x="122" y="66"/>
                  </a:lnTo>
                  <a:lnTo>
                    <a:pt x="124" y="56"/>
                  </a:lnTo>
                  <a:lnTo>
                    <a:pt x="122" y="44"/>
                  </a:lnTo>
                  <a:lnTo>
                    <a:pt x="122" y="44"/>
                  </a:lnTo>
                  <a:lnTo>
                    <a:pt x="130" y="78"/>
                  </a:lnTo>
                  <a:lnTo>
                    <a:pt x="134" y="114"/>
                  </a:lnTo>
                  <a:lnTo>
                    <a:pt x="140" y="184"/>
                  </a:lnTo>
                  <a:lnTo>
                    <a:pt x="142" y="220"/>
                  </a:lnTo>
                  <a:lnTo>
                    <a:pt x="150" y="254"/>
                  </a:lnTo>
                  <a:lnTo>
                    <a:pt x="154" y="270"/>
                  </a:lnTo>
                  <a:lnTo>
                    <a:pt x="160" y="286"/>
                  </a:lnTo>
                  <a:lnTo>
                    <a:pt x="168" y="302"/>
                  </a:lnTo>
                  <a:lnTo>
                    <a:pt x="176" y="316"/>
                  </a:lnTo>
                  <a:lnTo>
                    <a:pt x="176" y="316"/>
                  </a:lnTo>
                  <a:lnTo>
                    <a:pt x="194" y="360"/>
                  </a:lnTo>
                  <a:lnTo>
                    <a:pt x="202" y="382"/>
                  </a:lnTo>
                  <a:lnTo>
                    <a:pt x="214" y="402"/>
                  </a:lnTo>
                  <a:lnTo>
                    <a:pt x="212" y="404"/>
                  </a:lnTo>
                  <a:lnTo>
                    <a:pt x="212" y="404"/>
                  </a:lnTo>
                  <a:lnTo>
                    <a:pt x="214" y="404"/>
                  </a:lnTo>
                  <a:lnTo>
                    <a:pt x="218" y="406"/>
                  </a:lnTo>
                  <a:lnTo>
                    <a:pt x="220" y="412"/>
                  </a:lnTo>
                  <a:lnTo>
                    <a:pt x="222" y="418"/>
                  </a:lnTo>
                  <a:lnTo>
                    <a:pt x="226" y="424"/>
                  </a:lnTo>
                  <a:lnTo>
                    <a:pt x="226" y="424"/>
                  </a:lnTo>
                  <a:lnTo>
                    <a:pt x="228" y="432"/>
                  </a:lnTo>
                  <a:lnTo>
                    <a:pt x="234" y="438"/>
                  </a:lnTo>
                  <a:lnTo>
                    <a:pt x="244" y="454"/>
                  </a:lnTo>
                  <a:lnTo>
                    <a:pt x="244" y="454"/>
                  </a:lnTo>
                  <a:lnTo>
                    <a:pt x="276" y="504"/>
                  </a:lnTo>
                  <a:lnTo>
                    <a:pt x="292" y="528"/>
                  </a:lnTo>
                  <a:lnTo>
                    <a:pt x="310" y="550"/>
                  </a:lnTo>
                  <a:lnTo>
                    <a:pt x="310" y="550"/>
                  </a:lnTo>
                  <a:lnTo>
                    <a:pt x="276" y="508"/>
                  </a:lnTo>
                  <a:lnTo>
                    <a:pt x="244" y="468"/>
                  </a:lnTo>
                  <a:lnTo>
                    <a:pt x="214" y="424"/>
                  </a:lnTo>
                  <a:lnTo>
                    <a:pt x="200" y="402"/>
                  </a:lnTo>
                  <a:lnTo>
                    <a:pt x="186" y="378"/>
                  </a:lnTo>
                  <a:lnTo>
                    <a:pt x="186" y="378"/>
                  </a:lnTo>
                  <a:lnTo>
                    <a:pt x="194" y="404"/>
                  </a:lnTo>
                  <a:lnTo>
                    <a:pt x="204" y="426"/>
                  </a:lnTo>
                  <a:lnTo>
                    <a:pt x="218" y="448"/>
                  </a:lnTo>
                  <a:lnTo>
                    <a:pt x="232" y="470"/>
                  </a:lnTo>
                  <a:lnTo>
                    <a:pt x="266" y="510"/>
                  </a:lnTo>
                  <a:lnTo>
                    <a:pt x="282" y="532"/>
                  </a:lnTo>
                  <a:lnTo>
                    <a:pt x="298" y="554"/>
                  </a:lnTo>
                  <a:lnTo>
                    <a:pt x="298" y="554"/>
                  </a:lnTo>
                  <a:lnTo>
                    <a:pt x="278" y="534"/>
                  </a:lnTo>
                  <a:lnTo>
                    <a:pt x="260" y="512"/>
                  </a:lnTo>
                  <a:lnTo>
                    <a:pt x="242" y="492"/>
                  </a:lnTo>
                  <a:lnTo>
                    <a:pt x="226" y="470"/>
                  </a:lnTo>
                  <a:lnTo>
                    <a:pt x="196" y="426"/>
                  </a:lnTo>
                  <a:lnTo>
                    <a:pt x="168" y="380"/>
                  </a:lnTo>
                  <a:lnTo>
                    <a:pt x="168" y="380"/>
                  </a:lnTo>
                  <a:lnTo>
                    <a:pt x="172" y="394"/>
                  </a:lnTo>
                  <a:lnTo>
                    <a:pt x="178" y="410"/>
                  </a:lnTo>
                  <a:lnTo>
                    <a:pt x="186" y="424"/>
                  </a:lnTo>
                  <a:lnTo>
                    <a:pt x="190" y="440"/>
                  </a:lnTo>
                  <a:lnTo>
                    <a:pt x="214" y="470"/>
                  </a:lnTo>
                  <a:lnTo>
                    <a:pt x="214" y="470"/>
                  </a:lnTo>
                  <a:lnTo>
                    <a:pt x="210" y="468"/>
                  </a:lnTo>
                  <a:lnTo>
                    <a:pt x="202" y="464"/>
                  </a:lnTo>
                  <a:lnTo>
                    <a:pt x="198" y="458"/>
                  </a:lnTo>
                  <a:lnTo>
                    <a:pt x="198" y="458"/>
                  </a:lnTo>
                  <a:lnTo>
                    <a:pt x="198" y="452"/>
                  </a:lnTo>
                  <a:lnTo>
                    <a:pt x="196" y="450"/>
                  </a:lnTo>
                  <a:lnTo>
                    <a:pt x="192" y="448"/>
                  </a:lnTo>
                  <a:lnTo>
                    <a:pt x="190" y="446"/>
                  </a:lnTo>
                  <a:lnTo>
                    <a:pt x="190" y="446"/>
                  </a:lnTo>
                  <a:lnTo>
                    <a:pt x="176" y="422"/>
                  </a:lnTo>
                  <a:lnTo>
                    <a:pt x="164" y="398"/>
                  </a:lnTo>
                  <a:lnTo>
                    <a:pt x="152" y="372"/>
                  </a:lnTo>
                  <a:lnTo>
                    <a:pt x="138" y="348"/>
                  </a:lnTo>
                  <a:lnTo>
                    <a:pt x="136" y="352"/>
                  </a:lnTo>
                  <a:lnTo>
                    <a:pt x="136" y="352"/>
                  </a:lnTo>
                  <a:lnTo>
                    <a:pt x="136" y="352"/>
                  </a:lnTo>
                  <a:lnTo>
                    <a:pt x="136" y="350"/>
                  </a:lnTo>
                  <a:lnTo>
                    <a:pt x="134" y="344"/>
                  </a:lnTo>
                  <a:lnTo>
                    <a:pt x="126" y="326"/>
                  </a:lnTo>
                  <a:lnTo>
                    <a:pt x="122" y="326"/>
                  </a:lnTo>
                  <a:lnTo>
                    <a:pt x="122" y="326"/>
                  </a:lnTo>
                  <a:lnTo>
                    <a:pt x="124" y="346"/>
                  </a:lnTo>
                  <a:lnTo>
                    <a:pt x="128" y="366"/>
                  </a:lnTo>
                  <a:lnTo>
                    <a:pt x="134" y="384"/>
                  </a:lnTo>
                  <a:lnTo>
                    <a:pt x="142" y="404"/>
                  </a:lnTo>
                  <a:lnTo>
                    <a:pt x="158" y="442"/>
                  </a:lnTo>
                  <a:lnTo>
                    <a:pt x="178" y="478"/>
                  </a:lnTo>
                  <a:lnTo>
                    <a:pt x="178" y="478"/>
                  </a:lnTo>
                  <a:lnTo>
                    <a:pt x="150" y="436"/>
                  </a:lnTo>
                  <a:lnTo>
                    <a:pt x="124" y="394"/>
                  </a:lnTo>
                  <a:lnTo>
                    <a:pt x="114" y="372"/>
                  </a:lnTo>
                  <a:lnTo>
                    <a:pt x="104" y="348"/>
                  </a:lnTo>
                  <a:lnTo>
                    <a:pt x="98" y="324"/>
                  </a:lnTo>
                  <a:lnTo>
                    <a:pt x="94" y="298"/>
                  </a:lnTo>
                  <a:lnTo>
                    <a:pt x="88" y="294"/>
                  </a:lnTo>
                  <a:lnTo>
                    <a:pt x="88" y="294"/>
                  </a:lnTo>
                  <a:lnTo>
                    <a:pt x="92" y="326"/>
                  </a:lnTo>
                  <a:lnTo>
                    <a:pt x="98" y="358"/>
                  </a:lnTo>
                  <a:lnTo>
                    <a:pt x="108" y="388"/>
                  </a:lnTo>
                  <a:lnTo>
                    <a:pt x="120" y="418"/>
                  </a:lnTo>
                  <a:lnTo>
                    <a:pt x="120" y="418"/>
                  </a:lnTo>
                  <a:lnTo>
                    <a:pt x="124" y="426"/>
                  </a:lnTo>
                  <a:lnTo>
                    <a:pt x="130" y="436"/>
                  </a:lnTo>
                  <a:lnTo>
                    <a:pt x="142" y="454"/>
                  </a:lnTo>
                  <a:lnTo>
                    <a:pt x="142" y="454"/>
                  </a:lnTo>
                  <a:lnTo>
                    <a:pt x="128" y="436"/>
                  </a:lnTo>
                  <a:lnTo>
                    <a:pt x="118" y="418"/>
                  </a:lnTo>
                  <a:lnTo>
                    <a:pt x="108" y="398"/>
                  </a:lnTo>
                  <a:lnTo>
                    <a:pt x="100" y="374"/>
                  </a:lnTo>
                  <a:lnTo>
                    <a:pt x="84" y="330"/>
                  </a:lnTo>
                  <a:lnTo>
                    <a:pt x="68" y="286"/>
                  </a:lnTo>
                  <a:lnTo>
                    <a:pt x="68" y="286"/>
                  </a:lnTo>
                  <a:lnTo>
                    <a:pt x="68" y="298"/>
                  </a:lnTo>
                  <a:lnTo>
                    <a:pt x="70" y="308"/>
                  </a:lnTo>
                  <a:lnTo>
                    <a:pt x="76" y="332"/>
                  </a:lnTo>
                  <a:lnTo>
                    <a:pt x="82" y="356"/>
                  </a:lnTo>
                  <a:lnTo>
                    <a:pt x="84" y="368"/>
                  </a:lnTo>
                  <a:lnTo>
                    <a:pt x="86" y="382"/>
                  </a:lnTo>
                  <a:lnTo>
                    <a:pt x="86" y="382"/>
                  </a:lnTo>
                  <a:lnTo>
                    <a:pt x="72" y="338"/>
                  </a:lnTo>
                  <a:lnTo>
                    <a:pt x="60" y="296"/>
                  </a:lnTo>
                  <a:lnTo>
                    <a:pt x="48" y="252"/>
                  </a:lnTo>
                  <a:lnTo>
                    <a:pt x="40" y="232"/>
                  </a:lnTo>
                  <a:lnTo>
                    <a:pt x="32" y="210"/>
                  </a:lnTo>
                  <a:lnTo>
                    <a:pt x="34" y="244"/>
                  </a:lnTo>
                  <a:lnTo>
                    <a:pt x="34" y="244"/>
                  </a:lnTo>
                  <a:lnTo>
                    <a:pt x="24" y="226"/>
                  </a:lnTo>
                  <a:lnTo>
                    <a:pt x="18" y="208"/>
                  </a:lnTo>
                  <a:lnTo>
                    <a:pt x="12" y="190"/>
                  </a:lnTo>
                  <a:lnTo>
                    <a:pt x="10" y="170"/>
                  </a:lnTo>
                  <a:lnTo>
                    <a:pt x="4" y="128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4" y="112"/>
                  </a:lnTo>
                  <a:lnTo>
                    <a:pt x="8" y="136"/>
                  </a:lnTo>
                  <a:lnTo>
                    <a:pt x="14" y="160"/>
                  </a:lnTo>
                  <a:lnTo>
                    <a:pt x="22" y="184"/>
                  </a:lnTo>
                  <a:lnTo>
                    <a:pt x="22" y="184"/>
                  </a:lnTo>
                  <a:lnTo>
                    <a:pt x="26" y="180"/>
                  </a:lnTo>
                  <a:lnTo>
                    <a:pt x="26" y="176"/>
                  </a:lnTo>
                  <a:lnTo>
                    <a:pt x="26" y="168"/>
                  </a:lnTo>
                  <a:lnTo>
                    <a:pt x="22" y="160"/>
                  </a:lnTo>
                  <a:lnTo>
                    <a:pt x="20" y="152"/>
                  </a:lnTo>
                  <a:lnTo>
                    <a:pt x="20" y="152"/>
                  </a:lnTo>
                  <a:lnTo>
                    <a:pt x="16" y="118"/>
                  </a:lnTo>
                  <a:lnTo>
                    <a:pt x="14" y="100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18" y="106"/>
                  </a:lnTo>
                  <a:lnTo>
                    <a:pt x="26" y="128"/>
                  </a:lnTo>
                  <a:lnTo>
                    <a:pt x="32" y="150"/>
                  </a:lnTo>
                  <a:lnTo>
                    <a:pt x="34" y="174"/>
                  </a:lnTo>
                  <a:lnTo>
                    <a:pt x="34" y="174"/>
                  </a:lnTo>
                  <a:lnTo>
                    <a:pt x="40" y="188"/>
                  </a:lnTo>
                  <a:lnTo>
                    <a:pt x="44" y="202"/>
                  </a:lnTo>
                  <a:lnTo>
                    <a:pt x="52" y="214"/>
                  </a:lnTo>
                  <a:lnTo>
                    <a:pt x="56" y="220"/>
                  </a:lnTo>
                  <a:lnTo>
                    <a:pt x="62" y="224"/>
                  </a:lnTo>
                  <a:lnTo>
                    <a:pt x="62" y="224"/>
                  </a:lnTo>
                  <a:lnTo>
                    <a:pt x="54" y="200"/>
                  </a:lnTo>
                  <a:lnTo>
                    <a:pt x="50" y="188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2" y="142"/>
                  </a:lnTo>
                  <a:lnTo>
                    <a:pt x="38" y="108"/>
                  </a:lnTo>
                  <a:lnTo>
                    <a:pt x="36" y="74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40" y="106"/>
                  </a:lnTo>
                  <a:lnTo>
                    <a:pt x="44" y="138"/>
                  </a:lnTo>
                  <a:lnTo>
                    <a:pt x="48" y="152"/>
                  </a:lnTo>
                  <a:lnTo>
                    <a:pt x="52" y="168"/>
                  </a:lnTo>
                  <a:lnTo>
                    <a:pt x="52" y="168"/>
                  </a:lnTo>
                  <a:lnTo>
                    <a:pt x="54" y="164"/>
                  </a:lnTo>
                  <a:lnTo>
                    <a:pt x="56" y="158"/>
                  </a:lnTo>
                  <a:lnTo>
                    <a:pt x="56" y="150"/>
                  </a:lnTo>
                  <a:lnTo>
                    <a:pt x="56" y="142"/>
                  </a:lnTo>
                  <a:lnTo>
                    <a:pt x="56" y="138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54" y="122"/>
                  </a:lnTo>
                  <a:lnTo>
                    <a:pt x="52" y="110"/>
                  </a:lnTo>
                  <a:lnTo>
                    <a:pt x="50" y="82"/>
                  </a:lnTo>
                  <a:lnTo>
                    <a:pt x="52" y="52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54" y="62"/>
                  </a:lnTo>
                  <a:lnTo>
                    <a:pt x="56" y="98"/>
                  </a:lnTo>
                  <a:lnTo>
                    <a:pt x="62" y="134"/>
                  </a:lnTo>
                  <a:lnTo>
                    <a:pt x="66" y="150"/>
                  </a:lnTo>
                  <a:lnTo>
                    <a:pt x="72" y="166"/>
                  </a:lnTo>
                  <a:lnTo>
                    <a:pt x="72" y="166"/>
                  </a:lnTo>
                  <a:lnTo>
                    <a:pt x="80" y="198"/>
                  </a:lnTo>
                  <a:lnTo>
                    <a:pt x="86" y="212"/>
                  </a:lnTo>
                  <a:lnTo>
                    <a:pt x="92" y="228"/>
                  </a:lnTo>
                  <a:lnTo>
                    <a:pt x="96" y="222"/>
                  </a:lnTo>
                  <a:lnTo>
                    <a:pt x="96" y="222"/>
                  </a:lnTo>
                  <a:lnTo>
                    <a:pt x="88" y="198"/>
                  </a:lnTo>
                  <a:lnTo>
                    <a:pt x="80" y="172"/>
                  </a:lnTo>
                  <a:lnTo>
                    <a:pt x="74" y="146"/>
                  </a:lnTo>
                  <a:lnTo>
                    <a:pt x="72" y="118"/>
                  </a:lnTo>
                  <a:lnTo>
                    <a:pt x="70" y="92"/>
                  </a:lnTo>
                  <a:lnTo>
                    <a:pt x="70" y="64"/>
                  </a:lnTo>
                  <a:lnTo>
                    <a:pt x="74" y="38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6" y="26"/>
                  </a:lnTo>
                  <a:lnTo>
                    <a:pt x="74" y="44"/>
                  </a:lnTo>
                  <a:lnTo>
                    <a:pt x="74" y="64"/>
                  </a:lnTo>
                  <a:lnTo>
                    <a:pt x="78" y="84"/>
                  </a:lnTo>
                  <a:lnTo>
                    <a:pt x="78" y="84"/>
                  </a:lnTo>
                  <a:lnTo>
                    <a:pt x="76" y="102"/>
                  </a:lnTo>
                  <a:lnTo>
                    <a:pt x="78" y="120"/>
                  </a:lnTo>
                  <a:lnTo>
                    <a:pt x="82" y="136"/>
                  </a:lnTo>
                  <a:lnTo>
                    <a:pt x="86" y="154"/>
                  </a:lnTo>
                  <a:lnTo>
                    <a:pt x="98" y="188"/>
                  </a:lnTo>
                  <a:lnTo>
                    <a:pt x="104" y="204"/>
                  </a:lnTo>
                  <a:lnTo>
                    <a:pt x="110" y="222"/>
                  </a:lnTo>
                  <a:lnTo>
                    <a:pt x="112" y="222"/>
                  </a:lnTo>
                  <a:lnTo>
                    <a:pt x="112" y="222"/>
                  </a:lnTo>
                  <a:lnTo>
                    <a:pt x="108" y="198"/>
                  </a:lnTo>
                  <a:lnTo>
                    <a:pt x="104" y="176"/>
                  </a:lnTo>
                  <a:lnTo>
                    <a:pt x="96" y="130"/>
                  </a:lnTo>
                  <a:lnTo>
                    <a:pt x="92" y="106"/>
                  </a:lnTo>
                  <a:lnTo>
                    <a:pt x="92" y="84"/>
                  </a:lnTo>
                  <a:lnTo>
                    <a:pt x="94" y="62"/>
                  </a:lnTo>
                  <a:lnTo>
                    <a:pt x="100" y="40"/>
                  </a:lnTo>
                  <a:lnTo>
                    <a:pt x="100" y="40"/>
                  </a:lnTo>
                  <a:lnTo>
                    <a:pt x="102" y="18"/>
                  </a:lnTo>
                  <a:lnTo>
                    <a:pt x="104" y="8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6" y="48"/>
                  </a:lnTo>
                  <a:lnTo>
                    <a:pt x="106" y="94"/>
                  </a:lnTo>
                  <a:lnTo>
                    <a:pt x="106" y="118"/>
                  </a:lnTo>
                  <a:lnTo>
                    <a:pt x="108" y="140"/>
                  </a:lnTo>
                  <a:lnTo>
                    <a:pt x="112" y="162"/>
                  </a:lnTo>
                  <a:lnTo>
                    <a:pt x="118" y="184"/>
                  </a:lnTo>
                  <a:lnTo>
                    <a:pt x="118" y="184"/>
                  </a:lnTo>
                  <a:close/>
                </a:path>
              </a:pathLst>
            </a:custGeom>
            <a:solidFill>
              <a:srgbClr val="ea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5849640" y="5759280"/>
              <a:ext cx="873000" cy="47628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550" h="300">
                  <a:moveTo>
                    <a:pt x="186" y="26"/>
                  </a:moveTo>
                  <a:lnTo>
                    <a:pt x="186" y="26"/>
                  </a:lnTo>
                  <a:lnTo>
                    <a:pt x="212" y="30"/>
                  </a:lnTo>
                  <a:lnTo>
                    <a:pt x="238" y="36"/>
                  </a:lnTo>
                  <a:lnTo>
                    <a:pt x="266" y="44"/>
                  </a:lnTo>
                  <a:lnTo>
                    <a:pt x="292" y="48"/>
                  </a:lnTo>
                  <a:lnTo>
                    <a:pt x="292" y="48"/>
                  </a:lnTo>
                  <a:lnTo>
                    <a:pt x="314" y="58"/>
                  </a:lnTo>
                  <a:lnTo>
                    <a:pt x="338" y="66"/>
                  </a:lnTo>
                  <a:lnTo>
                    <a:pt x="386" y="82"/>
                  </a:lnTo>
                  <a:lnTo>
                    <a:pt x="410" y="88"/>
                  </a:lnTo>
                  <a:lnTo>
                    <a:pt x="432" y="96"/>
                  </a:lnTo>
                  <a:lnTo>
                    <a:pt x="456" y="108"/>
                  </a:lnTo>
                  <a:lnTo>
                    <a:pt x="478" y="120"/>
                  </a:lnTo>
                  <a:lnTo>
                    <a:pt x="478" y="120"/>
                  </a:lnTo>
                  <a:lnTo>
                    <a:pt x="516" y="142"/>
                  </a:lnTo>
                  <a:lnTo>
                    <a:pt x="534" y="154"/>
                  </a:lnTo>
                  <a:lnTo>
                    <a:pt x="550" y="168"/>
                  </a:lnTo>
                  <a:lnTo>
                    <a:pt x="550" y="168"/>
                  </a:lnTo>
                  <a:lnTo>
                    <a:pt x="508" y="142"/>
                  </a:lnTo>
                  <a:lnTo>
                    <a:pt x="466" y="116"/>
                  </a:lnTo>
                  <a:lnTo>
                    <a:pt x="444" y="104"/>
                  </a:lnTo>
                  <a:lnTo>
                    <a:pt x="422" y="92"/>
                  </a:lnTo>
                  <a:lnTo>
                    <a:pt x="400" y="84"/>
                  </a:lnTo>
                  <a:lnTo>
                    <a:pt x="380" y="78"/>
                  </a:lnTo>
                  <a:lnTo>
                    <a:pt x="380" y="78"/>
                  </a:lnTo>
                  <a:lnTo>
                    <a:pt x="376" y="76"/>
                  </a:lnTo>
                  <a:lnTo>
                    <a:pt x="374" y="76"/>
                  </a:lnTo>
                  <a:lnTo>
                    <a:pt x="370" y="82"/>
                  </a:lnTo>
                  <a:lnTo>
                    <a:pt x="370" y="86"/>
                  </a:lnTo>
                  <a:lnTo>
                    <a:pt x="370" y="86"/>
                  </a:lnTo>
                  <a:lnTo>
                    <a:pt x="390" y="92"/>
                  </a:lnTo>
                  <a:lnTo>
                    <a:pt x="410" y="100"/>
                  </a:lnTo>
                  <a:lnTo>
                    <a:pt x="430" y="108"/>
                  </a:lnTo>
                  <a:lnTo>
                    <a:pt x="448" y="118"/>
                  </a:lnTo>
                  <a:lnTo>
                    <a:pt x="466" y="130"/>
                  </a:lnTo>
                  <a:lnTo>
                    <a:pt x="484" y="142"/>
                  </a:lnTo>
                  <a:lnTo>
                    <a:pt x="518" y="170"/>
                  </a:lnTo>
                  <a:lnTo>
                    <a:pt x="518" y="170"/>
                  </a:lnTo>
                  <a:lnTo>
                    <a:pt x="506" y="162"/>
                  </a:lnTo>
                  <a:lnTo>
                    <a:pt x="494" y="154"/>
                  </a:lnTo>
                  <a:lnTo>
                    <a:pt x="466" y="140"/>
                  </a:lnTo>
                  <a:lnTo>
                    <a:pt x="436" y="126"/>
                  </a:lnTo>
                  <a:lnTo>
                    <a:pt x="406" y="112"/>
                  </a:lnTo>
                  <a:lnTo>
                    <a:pt x="406" y="112"/>
                  </a:lnTo>
                  <a:lnTo>
                    <a:pt x="402" y="114"/>
                  </a:lnTo>
                  <a:lnTo>
                    <a:pt x="402" y="116"/>
                  </a:lnTo>
                  <a:lnTo>
                    <a:pt x="402" y="118"/>
                  </a:lnTo>
                  <a:lnTo>
                    <a:pt x="402" y="118"/>
                  </a:lnTo>
                  <a:lnTo>
                    <a:pt x="420" y="126"/>
                  </a:lnTo>
                  <a:lnTo>
                    <a:pt x="440" y="136"/>
                  </a:lnTo>
                  <a:lnTo>
                    <a:pt x="458" y="148"/>
                  </a:lnTo>
                  <a:lnTo>
                    <a:pt x="476" y="162"/>
                  </a:lnTo>
                  <a:lnTo>
                    <a:pt x="510" y="192"/>
                  </a:lnTo>
                  <a:lnTo>
                    <a:pt x="546" y="220"/>
                  </a:lnTo>
                  <a:lnTo>
                    <a:pt x="546" y="220"/>
                  </a:lnTo>
                  <a:lnTo>
                    <a:pt x="510" y="194"/>
                  </a:lnTo>
                  <a:lnTo>
                    <a:pt x="474" y="170"/>
                  </a:lnTo>
                  <a:lnTo>
                    <a:pt x="438" y="150"/>
                  </a:lnTo>
                  <a:lnTo>
                    <a:pt x="398" y="132"/>
                  </a:lnTo>
                  <a:lnTo>
                    <a:pt x="394" y="136"/>
                  </a:lnTo>
                  <a:lnTo>
                    <a:pt x="394" y="136"/>
                  </a:lnTo>
                  <a:lnTo>
                    <a:pt x="414" y="146"/>
                  </a:lnTo>
                  <a:lnTo>
                    <a:pt x="432" y="156"/>
                  </a:lnTo>
                  <a:lnTo>
                    <a:pt x="470" y="180"/>
                  </a:lnTo>
                  <a:lnTo>
                    <a:pt x="506" y="208"/>
                  </a:lnTo>
                  <a:lnTo>
                    <a:pt x="540" y="238"/>
                  </a:lnTo>
                  <a:lnTo>
                    <a:pt x="540" y="238"/>
                  </a:lnTo>
                  <a:lnTo>
                    <a:pt x="512" y="216"/>
                  </a:lnTo>
                  <a:lnTo>
                    <a:pt x="482" y="194"/>
                  </a:lnTo>
                  <a:lnTo>
                    <a:pt x="452" y="176"/>
                  </a:lnTo>
                  <a:lnTo>
                    <a:pt x="420" y="160"/>
                  </a:lnTo>
                  <a:lnTo>
                    <a:pt x="418" y="162"/>
                  </a:lnTo>
                  <a:lnTo>
                    <a:pt x="418" y="162"/>
                  </a:lnTo>
                  <a:lnTo>
                    <a:pt x="432" y="174"/>
                  </a:lnTo>
                  <a:lnTo>
                    <a:pt x="438" y="180"/>
                  </a:lnTo>
                  <a:lnTo>
                    <a:pt x="442" y="180"/>
                  </a:lnTo>
                  <a:lnTo>
                    <a:pt x="446" y="180"/>
                  </a:lnTo>
                  <a:lnTo>
                    <a:pt x="446" y="180"/>
                  </a:lnTo>
                  <a:lnTo>
                    <a:pt x="464" y="192"/>
                  </a:lnTo>
                  <a:lnTo>
                    <a:pt x="480" y="206"/>
                  </a:lnTo>
                  <a:lnTo>
                    <a:pt x="512" y="238"/>
                  </a:lnTo>
                  <a:lnTo>
                    <a:pt x="512" y="238"/>
                  </a:lnTo>
                  <a:lnTo>
                    <a:pt x="488" y="220"/>
                  </a:lnTo>
                  <a:lnTo>
                    <a:pt x="466" y="204"/>
                  </a:lnTo>
                  <a:lnTo>
                    <a:pt x="442" y="192"/>
                  </a:lnTo>
                  <a:lnTo>
                    <a:pt x="416" y="180"/>
                  </a:lnTo>
                  <a:lnTo>
                    <a:pt x="412" y="186"/>
                  </a:lnTo>
                  <a:lnTo>
                    <a:pt x="412" y="186"/>
                  </a:lnTo>
                  <a:lnTo>
                    <a:pt x="442" y="202"/>
                  </a:lnTo>
                  <a:lnTo>
                    <a:pt x="470" y="222"/>
                  </a:lnTo>
                  <a:lnTo>
                    <a:pt x="496" y="242"/>
                  </a:lnTo>
                  <a:lnTo>
                    <a:pt x="520" y="266"/>
                  </a:lnTo>
                  <a:lnTo>
                    <a:pt x="520" y="266"/>
                  </a:lnTo>
                  <a:lnTo>
                    <a:pt x="522" y="274"/>
                  </a:lnTo>
                  <a:lnTo>
                    <a:pt x="524" y="276"/>
                  </a:lnTo>
                  <a:lnTo>
                    <a:pt x="526" y="278"/>
                  </a:lnTo>
                  <a:lnTo>
                    <a:pt x="526" y="278"/>
                  </a:lnTo>
                  <a:lnTo>
                    <a:pt x="488" y="248"/>
                  </a:lnTo>
                  <a:lnTo>
                    <a:pt x="468" y="234"/>
                  </a:lnTo>
                  <a:lnTo>
                    <a:pt x="446" y="220"/>
                  </a:lnTo>
                  <a:lnTo>
                    <a:pt x="444" y="224"/>
                  </a:lnTo>
                  <a:lnTo>
                    <a:pt x="444" y="224"/>
                  </a:lnTo>
                  <a:lnTo>
                    <a:pt x="484" y="260"/>
                  </a:lnTo>
                  <a:lnTo>
                    <a:pt x="522" y="300"/>
                  </a:lnTo>
                  <a:lnTo>
                    <a:pt x="522" y="300"/>
                  </a:lnTo>
                  <a:lnTo>
                    <a:pt x="522" y="298"/>
                  </a:lnTo>
                  <a:lnTo>
                    <a:pt x="520" y="298"/>
                  </a:lnTo>
                  <a:lnTo>
                    <a:pt x="516" y="294"/>
                  </a:lnTo>
                  <a:lnTo>
                    <a:pt x="516" y="294"/>
                  </a:lnTo>
                  <a:lnTo>
                    <a:pt x="500" y="286"/>
                  </a:lnTo>
                  <a:lnTo>
                    <a:pt x="484" y="276"/>
                  </a:lnTo>
                  <a:lnTo>
                    <a:pt x="468" y="264"/>
                  </a:lnTo>
                  <a:lnTo>
                    <a:pt x="450" y="254"/>
                  </a:lnTo>
                  <a:lnTo>
                    <a:pt x="450" y="254"/>
                  </a:lnTo>
                  <a:lnTo>
                    <a:pt x="450" y="252"/>
                  </a:lnTo>
                  <a:lnTo>
                    <a:pt x="450" y="250"/>
                  </a:lnTo>
                  <a:lnTo>
                    <a:pt x="446" y="250"/>
                  </a:lnTo>
                  <a:lnTo>
                    <a:pt x="440" y="250"/>
                  </a:lnTo>
                  <a:lnTo>
                    <a:pt x="440" y="250"/>
                  </a:lnTo>
                  <a:lnTo>
                    <a:pt x="438" y="248"/>
                  </a:lnTo>
                  <a:lnTo>
                    <a:pt x="438" y="248"/>
                  </a:lnTo>
                  <a:lnTo>
                    <a:pt x="426" y="240"/>
                  </a:lnTo>
                  <a:lnTo>
                    <a:pt x="416" y="232"/>
                  </a:lnTo>
                  <a:lnTo>
                    <a:pt x="406" y="226"/>
                  </a:lnTo>
                  <a:lnTo>
                    <a:pt x="400" y="224"/>
                  </a:lnTo>
                  <a:lnTo>
                    <a:pt x="394" y="224"/>
                  </a:lnTo>
                  <a:lnTo>
                    <a:pt x="394" y="224"/>
                  </a:lnTo>
                  <a:lnTo>
                    <a:pt x="370" y="210"/>
                  </a:lnTo>
                  <a:lnTo>
                    <a:pt x="344" y="200"/>
                  </a:lnTo>
                  <a:lnTo>
                    <a:pt x="294" y="180"/>
                  </a:lnTo>
                  <a:lnTo>
                    <a:pt x="294" y="180"/>
                  </a:lnTo>
                  <a:lnTo>
                    <a:pt x="280" y="172"/>
                  </a:lnTo>
                  <a:lnTo>
                    <a:pt x="266" y="166"/>
                  </a:lnTo>
                  <a:lnTo>
                    <a:pt x="250" y="160"/>
                  </a:lnTo>
                  <a:lnTo>
                    <a:pt x="244" y="156"/>
                  </a:lnTo>
                  <a:lnTo>
                    <a:pt x="238" y="150"/>
                  </a:lnTo>
                  <a:lnTo>
                    <a:pt x="238" y="150"/>
                  </a:lnTo>
                  <a:lnTo>
                    <a:pt x="232" y="150"/>
                  </a:lnTo>
                  <a:lnTo>
                    <a:pt x="226" y="146"/>
                  </a:lnTo>
                  <a:lnTo>
                    <a:pt x="220" y="142"/>
                  </a:lnTo>
                  <a:lnTo>
                    <a:pt x="212" y="140"/>
                  </a:lnTo>
                  <a:lnTo>
                    <a:pt x="212" y="140"/>
                  </a:lnTo>
                  <a:lnTo>
                    <a:pt x="232" y="142"/>
                  </a:lnTo>
                  <a:lnTo>
                    <a:pt x="252" y="148"/>
                  </a:lnTo>
                  <a:lnTo>
                    <a:pt x="270" y="156"/>
                  </a:lnTo>
                  <a:lnTo>
                    <a:pt x="288" y="162"/>
                  </a:lnTo>
                  <a:lnTo>
                    <a:pt x="288" y="162"/>
                  </a:lnTo>
                  <a:lnTo>
                    <a:pt x="312" y="172"/>
                  </a:lnTo>
                  <a:lnTo>
                    <a:pt x="324" y="176"/>
                  </a:lnTo>
                  <a:lnTo>
                    <a:pt x="334" y="178"/>
                  </a:lnTo>
                  <a:lnTo>
                    <a:pt x="334" y="178"/>
                  </a:lnTo>
                  <a:lnTo>
                    <a:pt x="310" y="162"/>
                  </a:lnTo>
                  <a:lnTo>
                    <a:pt x="284" y="150"/>
                  </a:lnTo>
                  <a:lnTo>
                    <a:pt x="256" y="140"/>
                  </a:lnTo>
                  <a:lnTo>
                    <a:pt x="228" y="132"/>
                  </a:lnTo>
                  <a:lnTo>
                    <a:pt x="202" y="124"/>
                  </a:lnTo>
                  <a:lnTo>
                    <a:pt x="174" y="114"/>
                  </a:lnTo>
                  <a:lnTo>
                    <a:pt x="148" y="102"/>
                  </a:lnTo>
                  <a:lnTo>
                    <a:pt x="124" y="88"/>
                  </a:lnTo>
                  <a:lnTo>
                    <a:pt x="124" y="88"/>
                  </a:lnTo>
                  <a:lnTo>
                    <a:pt x="144" y="94"/>
                  </a:lnTo>
                  <a:lnTo>
                    <a:pt x="164" y="100"/>
                  </a:lnTo>
                  <a:lnTo>
                    <a:pt x="164" y="100"/>
                  </a:lnTo>
                  <a:lnTo>
                    <a:pt x="194" y="112"/>
                  </a:lnTo>
                  <a:lnTo>
                    <a:pt x="224" y="120"/>
                  </a:lnTo>
                  <a:lnTo>
                    <a:pt x="224" y="120"/>
                  </a:lnTo>
                  <a:lnTo>
                    <a:pt x="214" y="112"/>
                  </a:lnTo>
                  <a:lnTo>
                    <a:pt x="202" y="104"/>
                  </a:lnTo>
                  <a:lnTo>
                    <a:pt x="188" y="98"/>
                  </a:lnTo>
                  <a:lnTo>
                    <a:pt x="176" y="92"/>
                  </a:lnTo>
                  <a:lnTo>
                    <a:pt x="148" y="84"/>
                  </a:lnTo>
                  <a:lnTo>
                    <a:pt x="136" y="78"/>
                  </a:lnTo>
                  <a:lnTo>
                    <a:pt x="122" y="72"/>
                  </a:lnTo>
                  <a:lnTo>
                    <a:pt x="122" y="72"/>
                  </a:lnTo>
                  <a:lnTo>
                    <a:pt x="144" y="76"/>
                  </a:lnTo>
                  <a:lnTo>
                    <a:pt x="170" y="82"/>
                  </a:lnTo>
                  <a:lnTo>
                    <a:pt x="194" y="88"/>
                  </a:lnTo>
                  <a:lnTo>
                    <a:pt x="206" y="88"/>
                  </a:lnTo>
                  <a:lnTo>
                    <a:pt x="218" y="90"/>
                  </a:lnTo>
                  <a:lnTo>
                    <a:pt x="218" y="90"/>
                  </a:lnTo>
                  <a:lnTo>
                    <a:pt x="188" y="80"/>
                  </a:lnTo>
                  <a:lnTo>
                    <a:pt x="160" y="68"/>
                  </a:lnTo>
                  <a:lnTo>
                    <a:pt x="130" y="58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126" y="52"/>
                  </a:lnTo>
                  <a:lnTo>
                    <a:pt x="154" y="58"/>
                  </a:lnTo>
                  <a:lnTo>
                    <a:pt x="212" y="74"/>
                  </a:lnTo>
                  <a:lnTo>
                    <a:pt x="214" y="72"/>
                  </a:lnTo>
                  <a:lnTo>
                    <a:pt x="214" y="72"/>
                  </a:lnTo>
                  <a:lnTo>
                    <a:pt x="196" y="62"/>
                  </a:lnTo>
                  <a:lnTo>
                    <a:pt x="176" y="54"/>
                  </a:lnTo>
                  <a:lnTo>
                    <a:pt x="156" y="48"/>
                  </a:lnTo>
                  <a:lnTo>
                    <a:pt x="136" y="44"/>
                  </a:lnTo>
                  <a:lnTo>
                    <a:pt x="94" y="34"/>
                  </a:lnTo>
                  <a:lnTo>
                    <a:pt x="74" y="28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48" y="20"/>
                  </a:lnTo>
                  <a:lnTo>
                    <a:pt x="40" y="20"/>
                  </a:lnTo>
                  <a:lnTo>
                    <a:pt x="28" y="16"/>
                  </a:lnTo>
                  <a:lnTo>
                    <a:pt x="14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4" y="16"/>
                  </a:lnTo>
                  <a:lnTo>
                    <a:pt x="92" y="28"/>
                  </a:lnTo>
                  <a:lnTo>
                    <a:pt x="188" y="46"/>
                  </a:lnTo>
                  <a:lnTo>
                    <a:pt x="188" y="46"/>
                  </a:lnTo>
                  <a:lnTo>
                    <a:pt x="206" y="52"/>
                  </a:lnTo>
                  <a:lnTo>
                    <a:pt x="216" y="54"/>
                  </a:lnTo>
                  <a:lnTo>
                    <a:pt x="226" y="56"/>
                  </a:lnTo>
                  <a:lnTo>
                    <a:pt x="226" y="56"/>
                  </a:lnTo>
                  <a:lnTo>
                    <a:pt x="226" y="58"/>
                  </a:lnTo>
                  <a:lnTo>
                    <a:pt x="228" y="60"/>
                  </a:lnTo>
                  <a:lnTo>
                    <a:pt x="230" y="60"/>
                  </a:lnTo>
                  <a:lnTo>
                    <a:pt x="232" y="60"/>
                  </a:lnTo>
                  <a:lnTo>
                    <a:pt x="232" y="60"/>
                  </a:lnTo>
                  <a:lnTo>
                    <a:pt x="238" y="60"/>
                  </a:lnTo>
                  <a:lnTo>
                    <a:pt x="240" y="60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18" y="46"/>
                  </a:lnTo>
                  <a:lnTo>
                    <a:pt x="192" y="36"/>
                  </a:lnTo>
                  <a:lnTo>
                    <a:pt x="166" y="30"/>
                  </a:lnTo>
                  <a:lnTo>
                    <a:pt x="138" y="24"/>
                  </a:lnTo>
                  <a:lnTo>
                    <a:pt x="86" y="12"/>
                  </a:lnTo>
                  <a:lnTo>
                    <a:pt x="60" y="6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72" y="4"/>
                  </a:lnTo>
                  <a:lnTo>
                    <a:pt x="110" y="12"/>
                  </a:lnTo>
                  <a:lnTo>
                    <a:pt x="148" y="20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ea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1"/>
            <p:cNvSpPr/>
            <p:nvPr/>
          </p:nvSpPr>
          <p:spPr>
            <a:xfrm>
              <a:off x="6783120" y="6105600"/>
              <a:ext cx="339480" cy="71748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214" h="452">
                  <a:moveTo>
                    <a:pt x="178" y="198"/>
                  </a:moveTo>
                  <a:lnTo>
                    <a:pt x="178" y="198"/>
                  </a:lnTo>
                  <a:lnTo>
                    <a:pt x="192" y="222"/>
                  </a:lnTo>
                  <a:lnTo>
                    <a:pt x="202" y="248"/>
                  </a:lnTo>
                  <a:lnTo>
                    <a:pt x="208" y="274"/>
                  </a:lnTo>
                  <a:lnTo>
                    <a:pt x="214" y="302"/>
                  </a:lnTo>
                  <a:lnTo>
                    <a:pt x="214" y="302"/>
                  </a:lnTo>
                  <a:lnTo>
                    <a:pt x="204" y="270"/>
                  </a:lnTo>
                  <a:lnTo>
                    <a:pt x="188" y="236"/>
                  </a:lnTo>
                  <a:lnTo>
                    <a:pt x="168" y="200"/>
                  </a:lnTo>
                  <a:lnTo>
                    <a:pt x="146" y="166"/>
                  </a:lnTo>
                  <a:lnTo>
                    <a:pt x="142" y="170"/>
                  </a:lnTo>
                  <a:lnTo>
                    <a:pt x="142" y="170"/>
                  </a:lnTo>
                  <a:lnTo>
                    <a:pt x="160" y="200"/>
                  </a:lnTo>
                  <a:lnTo>
                    <a:pt x="174" y="230"/>
                  </a:lnTo>
                  <a:lnTo>
                    <a:pt x="188" y="262"/>
                  </a:lnTo>
                  <a:lnTo>
                    <a:pt x="192" y="278"/>
                  </a:lnTo>
                  <a:lnTo>
                    <a:pt x="196" y="296"/>
                  </a:lnTo>
                  <a:lnTo>
                    <a:pt x="196" y="296"/>
                  </a:lnTo>
                  <a:lnTo>
                    <a:pt x="178" y="250"/>
                  </a:lnTo>
                  <a:lnTo>
                    <a:pt x="158" y="208"/>
                  </a:lnTo>
                  <a:lnTo>
                    <a:pt x="154" y="208"/>
                  </a:lnTo>
                  <a:lnTo>
                    <a:pt x="154" y="208"/>
                  </a:lnTo>
                  <a:lnTo>
                    <a:pt x="156" y="222"/>
                  </a:lnTo>
                  <a:lnTo>
                    <a:pt x="160" y="234"/>
                  </a:lnTo>
                  <a:lnTo>
                    <a:pt x="172" y="260"/>
                  </a:lnTo>
                  <a:lnTo>
                    <a:pt x="178" y="274"/>
                  </a:lnTo>
                  <a:lnTo>
                    <a:pt x="184" y="288"/>
                  </a:lnTo>
                  <a:lnTo>
                    <a:pt x="188" y="300"/>
                  </a:lnTo>
                  <a:lnTo>
                    <a:pt x="188" y="316"/>
                  </a:lnTo>
                  <a:lnTo>
                    <a:pt x="188" y="316"/>
                  </a:lnTo>
                  <a:lnTo>
                    <a:pt x="190" y="326"/>
                  </a:lnTo>
                  <a:lnTo>
                    <a:pt x="192" y="336"/>
                  </a:lnTo>
                  <a:lnTo>
                    <a:pt x="194" y="346"/>
                  </a:lnTo>
                  <a:lnTo>
                    <a:pt x="198" y="358"/>
                  </a:lnTo>
                  <a:lnTo>
                    <a:pt x="198" y="358"/>
                  </a:lnTo>
                  <a:lnTo>
                    <a:pt x="192" y="336"/>
                  </a:lnTo>
                  <a:lnTo>
                    <a:pt x="186" y="316"/>
                  </a:lnTo>
                  <a:lnTo>
                    <a:pt x="170" y="276"/>
                  </a:lnTo>
                  <a:lnTo>
                    <a:pt x="150" y="238"/>
                  </a:lnTo>
                  <a:lnTo>
                    <a:pt x="128" y="202"/>
                  </a:lnTo>
                  <a:lnTo>
                    <a:pt x="128" y="202"/>
                  </a:lnTo>
                  <a:lnTo>
                    <a:pt x="126" y="206"/>
                  </a:lnTo>
                  <a:lnTo>
                    <a:pt x="126" y="212"/>
                  </a:lnTo>
                  <a:lnTo>
                    <a:pt x="132" y="222"/>
                  </a:lnTo>
                  <a:lnTo>
                    <a:pt x="138" y="232"/>
                  </a:lnTo>
                  <a:lnTo>
                    <a:pt x="142" y="242"/>
                  </a:lnTo>
                  <a:lnTo>
                    <a:pt x="144" y="238"/>
                  </a:lnTo>
                  <a:lnTo>
                    <a:pt x="144" y="238"/>
                  </a:lnTo>
                  <a:lnTo>
                    <a:pt x="156" y="274"/>
                  </a:lnTo>
                  <a:lnTo>
                    <a:pt x="168" y="312"/>
                  </a:lnTo>
                  <a:lnTo>
                    <a:pt x="176" y="352"/>
                  </a:lnTo>
                  <a:lnTo>
                    <a:pt x="182" y="392"/>
                  </a:lnTo>
                  <a:lnTo>
                    <a:pt x="182" y="392"/>
                  </a:lnTo>
                  <a:lnTo>
                    <a:pt x="178" y="370"/>
                  </a:lnTo>
                  <a:lnTo>
                    <a:pt x="174" y="350"/>
                  </a:lnTo>
                  <a:lnTo>
                    <a:pt x="168" y="328"/>
                  </a:lnTo>
                  <a:lnTo>
                    <a:pt x="162" y="310"/>
                  </a:lnTo>
                  <a:lnTo>
                    <a:pt x="154" y="290"/>
                  </a:lnTo>
                  <a:lnTo>
                    <a:pt x="144" y="270"/>
                  </a:lnTo>
                  <a:lnTo>
                    <a:pt x="124" y="234"/>
                  </a:lnTo>
                  <a:lnTo>
                    <a:pt x="116" y="242"/>
                  </a:lnTo>
                  <a:lnTo>
                    <a:pt x="116" y="242"/>
                  </a:lnTo>
                  <a:lnTo>
                    <a:pt x="132" y="268"/>
                  </a:lnTo>
                  <a:lnTo>
                    <a:pt x="144" y="294"/>
                  </a:lnTo>
                  <a:lnTo>
                    <a:pt x="152" y="320"/>
                  </a:lnTo>
                  <a:lnTo>
                    <a:pt x="162" y="348"/>
                  </a:lnTo>
                  <a:lnTo>
                    <a:pt x="162" y="348"/>
                  </a:lnTo>
                  <a:lnTo>
                    <a:pt x="164" y="366"/>
                  </a:lnTo>
                  <a:lnTo>
                    <a:pt x="166" y="382"/>
                  </a:lnTo>
                  <a:lnTo>
                    <a:pt x="168" y="418"/>
                  </a:lnTo>
                  <a:lnTo>
                    <a:pt x="168" y="418"/>
                  </a:lnTo>
                  <a:lnTo>
                    <a:pt x="168" y="406"/>
                  </a:lnTo>
                  <a:lnTo>
                    <a:pt x="166" y="394"/>
                  </a:lnTo>
                  <a:lnTo>
                    <a:pt x="162" y="374"/>
                  </a:lnTo>
                  <a:lnTo>
                    <a:pt x="156" y="354"/>
                  </a:lnTo>
                  <a:lnTo>
                    <a:pt x="152" y="332"/>
                  </a:lnTo>
                  <a:lnTo>
                    <a:pt x="152" y="332"/>
                  </a:lnTo>
                  <a:lnTo>
                    <a:pt x="148" y="330"/>
                  </a:lnTo>
                  <a:lnTo>
                    <a:pt x="144" y="326"/>
                  </a:lnTo>
                  <a:lnTo>
                    <a:pt x="142" y="318"/>
                  </a:lnTo>
                  <a:lnTo>
                    <a:pt x="138" y="310"/>
                  </a:lnTo>
                  <a:lnTo>
                    <a:pt x="136" y="308"/>
                  </a:lnTo>
                  <a:lnTo>
                    <a:pt x="132" y="306"/>
                  </a:lnTo>
                  <a:lnTo>
                    <a:pt x="132" y="306"/>
                  </a:lnTo>
                  <a:lnTo>
                    <a:pt x="130" y="296"/>
                  </a:lnTo>
                  <a:lnTo>
                    <a:pt x="126" y="288"/>
                  </a:lnTo>
                  <a:lnTo>
                    <a:pt x="122" y="282"/>
                  </a:lnTo>
                  <a:lnTo>
                    <a:pt x="116" y="274"/>
                  </a:lnTo>
                  <a:lnTo>
                    <a:pt x="116" y="274"/>
                  </a:lnTo>
                  <a:lnTo>
                    <a:pt x="124" y="310"/>
                  </a:lnTo>
                  <a:lnTo>
                    <a:pt x="136" y="344"/>
                  </a:lnTo>
                  <a:lnTo>
                    <a:pt x="146" y="380"/>
                  </a:lnTo>
                  <a:lnTo>
                    <a:pt x="150" y="398"/>
                  </a:lnTo>
                  <a:lnTo>
                    <a:pt x="152" y="416"/>
                  </a:lnTo>
                  <a:lnTo>
                    <a:pt x="152" y="416"/>
                  </a:lnTo>
                  <a:lnTo>
                    <a:pt x="156" y="428"/>
                  </a:lnTo>
                  <a:lnTo>
                    <a:pt x="158" y="444"/>
                  </a:lnTo>
                  <a:lnTo>
                    <a:pt x="158" y="444"/>
                  </a:lnTo>
                  <a:lnTo>
                    <a:pt x="156" y="434"/>
                  </a:lnTo>
                  <a:lnTo>
                    <a:pt x="154" y="424"/>
                  </a:lnTo>
                  <a:lnTo>
                    <a:pt x="148" y="404"/>
                  </a:lnTo>
                  <a:lnTo>
                    <a:pt x="142" y="384"/>
                  </a:lnTo>
                  <a:lnTo>
                    <a:pt x="140" y="374"/>
                  </a:lnTo>
                  <a:lnTo>
                    <a:pt x="140" y="362"/>
                  </a:lnTo>
                  <a:lnTo>
                    <a:pt x="140" y="362"/>
                  </a:lnTo>
                  <a:lnTo>
                    <a:pt x="136" y="356"/>
                  </a:lnTo>
                  <a:lnTo>
                    <a:pt x="132" y="348"/>
                  </a:lnTo>
                  <a:lnTo>
                    <a:pt x="126" y="332"/>
                  </a:lnTo>
                  <a:lnTo>
                    <a:pt x="122" y="318"/>
                  </a:lnTo>
                  <a:lnTo>
                    <a:pt x="118" y="310"/>
                  </a:lnTo>
                  <a:lnTo>
                    <a:pt x="112" y="304"/>
                  </a:lnTo>
                  <a:lnTo>
                    <a:pt x="112" y="304"/>
                  </a:lnTo>
                  <a:lnTo>
                    <a:pt x="122" y="340"/>
                  </a:lnTo>
                  <a:lnTo>
                    <a:pt x="130" y="376"/>
                  </a:lnTo>
                  <a:lnTo>
                    <a:pt x="136" y="412"/>
                  </a:lnTo>
                  <a:lnTo>
                    <a:pt x="136" y="432"/>
                  </a:lnTo>
                  <a:lnTo>
                    <a:pt x="136" y="452"/>
                  </a:lnTo>
                  <a:lnTo>
                    <a:pt x="136" y="452"/>
                  </a:lnTo>
                  <a:lnTo>
                    <a:pt x="136" y="432"/>
                  </a:lnTo>
                  <a:lnTo>
                    <a:pt x="134" y="412"/>
                  </a:lnTo>
                  <a:lnTo>
                    <a:pt x="132" y="394"/>
                  </a:lnTo>
                  <a:lnTo>
                    <a:pt x="126" y="374"/>
                  </a:lnTo>
                  <a:lnTo>
                    <a:pt x="114" y="336"/>
                  </a:lnTo>
                  <a:lnTo>
                    <a:pt x="100" y="300"/>
                  </a:lnTo>
                  <a:lnTo>
                    <a:pt x="80" y="264"/>
                  </a:lnTo>
                  <a:lnTo>
                    <a:pt x="60" y="230"/>
                  </a:lnTo>
                  <a:lnTo>
                    <a:pt x="38" y="198"/>
                  </a:lnTo>
                  <a:lnTo>
                    <a:pt x="14" y="166"/>
                  </a:lnTo>
                  <a:lnTo>
                    <a:pt x="14" y="166"/>
                  </a:lnTo>
                  <a:lnTo>
                    <a:pt x="12" y="160"/>
                  </a:lnTo>
                  <a:lnTo>
                    <a:pt x="10" y="154"/>
                  </a:lnTo>
                  <a:lnTo>
                    <a:pt x="6" y="150"/>
                  </a:lnTo>
                  <a:lnTo>
                    <a:pt x="2" y="144"/>
                  </a:lnTo>
                  <a:lnTo>
                    <a:pt x="2" y="144"/>
                  </a:lnTo>
                  <a:lnTo>
                    <a:pt x="14" y="154"/>
                  </a:lnTo>
                  <a:lnTo>
                    <a:pt x="24" y="164"/>
                  </a:lnTo>
                  <a:lnTo>
                    <a:pt x="42" y="186"/>
                  </a:lnTo>
                  <a:lnTo>
                    <a:pt x="58" y="210"/>
                  </a:lnTo>
                  <a:lnTo>
                    <a:pt x="76" y="232"/>
                  </a:lnTo>
                  <a:lnTo>
                    <a:pt x="80" y="226"/>
                  </a:lnTo>
                  <a:lnTo>
                    <a:pt x="80" y="226"/>
                  </a:lnTo>
                  <a:lnTo>
                    <a:pt x="74" y="212"/>
                  </a:lnTo>
                  <a:lnTo>
                    <a:pt x="66" y="196"/>
                  </a:lnTo>
                  <a:lnTo>
                    <a:pt x="48" y="168"/>
                  </a:lnTo>
                  <a:lnTo>
                    <a:pt x="26" y="14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0" y="122"/>
                  </a:lnTo>
                  <a:lnTo>
                    <a:pt x="20" y="130"/>
                  </a:lnTo>
                  <a:lnTo>
                    <a:pt x="38" y="148"/>
                  </a:lnTo>
                  <a:lnTo>
                    <a:pt x="56" y="166"/>
                  </a:lnTo>
                  <a:lnTo>
                    <a:pt x="76" y="184"/>
                  </a:lnTo>
                  <a:lnTo>
                    <a:pt x="76" y="184"/>
                  </a:lnTo>
                  <a:lnTo>
                    <a:pt x="82" y="196"/>
                  </a:lnTo>
                  <a:lnTo>
                    <a:pt x="84" y="200"/>
                  </a:lnTo>
                  <a:lnTo>
                    <a:pt x="90" y="204"/>
                  </a:lnTo>
                  <a:lnTo>
                    <a:pt x="90" y="204"/>
                  </a:lnTo>
                  <a:lnTo>
                    <a:pt x="90" y="194"/>
                  </a:lnTo>
                  <a:lnTo>
                    <a:pt x="86" y="184"/>
                  </a:lnTo>
                  <a:lnTo>
                    <a:pt x="80" y="176"/>
                  </a:lnTo>
                  <a:lnTo>
                    <a:pt x="72" y="168"/>
                  </a:lnTo>
                  <a:lnTo>
                    <a:pt x="58" y="150"/>
                  </a:lnTo>
                  <a:lnTo>
                    <a:pt x="54" y="142"/>
                  </a:lnTo>
                  <a:lnTo>
                    <a:pt x="50" y="132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18" y="94"/>
                  </a:lnTo>
                  <a:lnTo>
                    <a:pt x="32" y="106"/>
                  </a:lnTo>
                  <a:lnTo>
                    <a:pt x="62" y="134"/>
                  </a:lnTo>
                  <a:lnTo>
                    <a:pt x="90" y="164"/>
                  </a:lnTo>
                  <a:lnTo>
                    <a:pt x="116" y="196"/>
                  </a:lnTo>
                  <a:lnTo>
                    <a:pt x="116" y="196"/>
                  </a:lnTo>
                  <a:lnTo>
                    <a:pt x="110" y="178"/>
                  </a:lnTo>
                  <a:lnTo>
                    <a:pt x="100" y="160"/>
                  </a:lnTo>
                  <a:lnTo>
                    <a:pt x="88" y="144"/>
                  </a:lnTo>
                  <a:lnTo>
                    <a:pt x="76" y="128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42" y="88"/>
                  </a:lnTo>
                  <a:lnTo>
                    <a:pt x="52" y="98"/>
                  </a:lnTo>
                  <a:lnTo>
                    <a:pt x="72" y="118"/>
                  </a:lnTo>
                  <a:lnTo>
                    <a:pt x="90" y="140"/>
                  </a:lnTo>
                  <a:lnTo>
                    <a:pt x="100" y="150"/>
                  </a:lnTo>
                  <a:lnTo>
                    <a:pt x="110" y="160"/>
                  </a:lnTo>
                  <a:lnTo>
                    <a:pt x="110" y="160"/>
                  </a:lnTo>
                  <a:lnTo>
                    <a:pt x="108" y="156"/>
                  </a:lnTo>
                  <a:lnTo>
                    <a:pt x="106" y="150"/>
                  </a:lnTo>
                  <a:lnTo>
                    <a:pt x="100" y="142"/>
                  </a:lnTo>
                  <a:lnTo>
                    <a:pt x="94" y="132"/>
                  </a:lnTo>
                  <a:lnTo>
                    <a:pt x="92" y="126"/>
                  </a:lnTo>
                  <a:lnTo>
                    <a:pt x="90" y="120"/>
                  </a:lnTo>
                  <a:lnTo>
                    <a:pt x="90" y="120"/>
                  </a:lnTo>
                  <a:lnTo>
                    <a:pt x="84" y="110"/>
                  </a:lnTo>
                  <a:lnTo>
                    <a:pt x="76" y="102"/>
                  </a:lnTo>
                  <a:lnTo>
                    <a:pt x="60" y="88"/>
                  </a:lnTo>
                  <a:lnTo>
                    <a:pt x="44" y="74"/>
                  </a:lnTo>
                  <a:lnTo>
                    <a:pt x="38" y="64"/>
                  </a:lnTo>
                  <a:lnTo>
                    <a:pt x="32" y="56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34" y="54"/>
                  </a:lnTo>
                  <a:lnTo>
                    <a:pt x="56" y="72"/>
                  </a:lnTo>
                  <a:lnTo>
                    <a:pt x="74" y="94"/>
                  </a:lnTo>
                  <a:lnTo>
                    <a:pt x="92" y="114"/>
                  </a:lnTo>
                  <a:lnTo>
                    <a:pt x="98" y="114"/>
                  </a:lnTo>
                  <a:lnTo>
                    <a:pt x="98" y="114"/>
                  </a:lnTo>
                  <a:lnTo>
                    <a:pt x="94" y="104"/>
                  </a:lnTo>
                  <a:lnTo>
                    <a:pt x="90" y="96"/>
                  </a:lnTo>
                  <a:lnTo>
                    <a:pt x="84" y="88"/>
                  </a:lnTo>
                  <a:lnTo>
                    <a:pt x="76" y="80"/>
                  </a:lnTo>
                  <a:lnTo>
                    <a:pt x="60" y="66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22" y="24"/>
                  </a:lnTo>
                  <a:lnTo>
                    <a:pt x="1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6" y="22"/>
                  </a:lnTo>
                  <a:lnTo>
                    <a:pt x="52" y="44"/>
                  </a:lnTo>
                  <a:lnTo>
                    <a:pt x="78" y="66"/>
                  </a:lnTo>
                  <a:lnTo>
                    <a:pt x="104" y="90"/>
                  </a:lnTo>
                  <a:lnTo>
                    <a:pt x="128" y="114"/>
                  </a:lnTo>
                  <a:lnTo>
                    <a:pt x="148" y="140"/>
                  </a:lnTo>
                  <a:lnTo>
                    <a:pt x="158" y="154"/>
                  </a:lnTo>
                  <a:lnTo>
                    <a:pt x="166" y="168"/>
                  </a:lnTo>
                  <a:lnTo>
                    <a:pt x="172" y="182"/>
                  </a:lnTo>
                  <a:lnTo>
                    <a:pt x="178" y="198"/>
                  </a:lnTo>
                  <a:lnTo>
                    <a:pt x="178" y="198"/>
                  </a:lnTo>
                  <a:close/>
                </a:path>
              </a:pathLst>
            </a:custGeom>
            <a:solidFill>
              <a:srgbClr val="ea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6703920" y="7398000"/>
              <a:ext cx="701640" cy="71748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442" h="452">
                  <a:moveTo>
                    <a:pt x="82" y="54"/>
                  </a:moveTo>
                  <a:lnTo>
                    <a:pt x="82" y="54"/>
                  </a:lnTo>
                  <a:lnTo>
                    <a:pt x="90" y="60"/>
                  </a:lnTo>
                  <a:lnTo>
                    <a:pt x="96" y="68"/>
                  </a:lnTo>
                  <a:lnTo>
                    <a:pt x="106" y="86"/>
                  </a:lnTo>
                  <a:lnTo>
                    <a:pt x="116" y="104"/>
                  </a:lnTo>
                  <a:lnTo>
                    <a:pt x="122" y="112"/>
                  </a:lnTo>
                  <a:lnTo>
                    <a:pt x="128" y="120"/>
                  </a:lnTo>
                  <a:lnTo>
                    <a:pt x="128" y="120"/>
                  </a:lnTo>
                  <a:lnTo>
                    <a:pt x="178" y="150"/>
                  </a:lnTo>
                  <a:lnTo>
                    <a:pt x="204" y="164"/>
                  </a:lnTo>
                  <a:lnTo>
                    <a:pt x="230" y="176"/>
                  </a:lnTo>
                  <a:lnTo>
                    <a:pt x="256" y="188"/>
                  </a:lnTo>
                  <a:lnTo>
                    <a:pt x="282" y="196"/>
                  </a:lnTo>
                  <a:lnTo>
                    <a:pt x="310" y="204"/>
                  </a:lnTo>
                  <a:lnTo>
                    <a:pt x="340" y="208"/>
                  </a:lnTo>
                  <a:lnTo>
                    <a:pt x="340" y="208"/>
                  </a:lnTo>
                  <a:lnTo>
                    <a:pt x="358" y="218"/>
                  </a:lnTo>
                  <a:lnTo>
                    <a:pt x="368" y="220"/>
                  </a:lnTo>
                  <a:lnTo>
                    <a:pt x="376" y="218"/>
                  </a:lnTo>
                  <a:lnTo>
                    <a:pt x="376" y="218"/>
                  </a:lnTo>
                  <a:lnTo>
                    <a:pt x="412" y="246"/>
                  </a:lnTo>
                  <a:lnTo>
                    <a:pt x="420" y="254"/>
                  </a:lnTo>
                  <a:lnTo>
                    <a:pt x="426" y="262"/>
                  </a:lnTo>
                  <a:lnTo>
                    <a:pt x="432" y="272"/>
                  </a:lnTo>
                  <a:lnTo>
                    <a:pt x="438" y="282"/>
                  </a:lnTo>
                  <a:lnTo>
                    <a:pt x="438" y="282"/>
                  </a:lnTo>
                  <a:lnTo>
                    <a:pt x="428" y="270"/>
                  </a:lnTo>
                  <a:lnTo>
                    <a:pt x="418" y="262"/>
                  </a:lnTo>
                  <a:lnTo>
                    <a:pt x="406" y="254"/>
                  </a:lnTo>
                  <a:lnTo>
                    <a:pt x="394" y="246"/>
                  </a:lnTo>
                  <a:lnTo>
                    <a:pt x="368" y="234"/>
                  </a:lnTo>
                  <a:lnTo>
                    <a:pt x="356" y="228"/>
                  </a:lnTo>
                  <a:lnTo>
                    <a:pt x="344" y="220"/>
                  </a:lnTo>
                  <a:lnTo>
                    <a:pt x="340" y="226"/>
                  </a:lnTo>
                  <a:lnTo>
                    <a:pt x="340" y="226"/>
                  </a:lnTo>
                  <a:lnTo>
                    <a:pt x="368" y="244"/>
                  </a:lnTo>
                  <a:lnTo>
                    <a:pt x="382" y="254"/>
                  </a:lnTo>
                  <a:lnTo>
                    <a:pt x="396" y="266"/>
                  </a:lnTo>
                  <a:lnTo>
                    <a:pt x="408" y="278"/>
                  </a:lnTo>
                  <a:lnTo>
                    <a:pt x="420" y="292"/>
                  </a:lnTo>
                  <a:lnTo>
                    <a:pt x="430" y="306"/>
                  </a:lnTo>
                  <a:lnTo>
                    <a:pt x="436" y="320"/>
                  </a:lnTo>
                  <a:lnTo>
                    <a:pt x="436" y="320"/>
                  </a:lnTo>
                  <a:lnTo>
                    <a:pt x="428" y="314"/>
                  </a:lnTo>
                  <a:lnTo>
                    <a:pt x="420" y="306"/>
                  </a:lnTo>
                  <a:lnTo>
                    <a:pt x="406" y="290"/>
                  </a:lnTo>
                  <a:lnTo>
                    <a:pt x="392" y="274"/>
                  </a:lnTo>
                  <a:lnTo>
                    <a:pt x="384" y="268"/>
                  </a:lnTo>
                  <a:lnTo>
                    <a:pt x="374" y="262"/>
                  </a:lnTo>
                  <a:lnTo>
                    <a:pt x="374" y="262"/>
                  </a:lnTo>
                  <a:lnTo>
                    <a:pt x="372" y="264"/>
                  </a:lnTo>
                  <a:lnTo>
                    <a:pt x="374" y="268"/>
                  </a:lnTo>
                  <a:lnTo>
                    <a:pt x="376" y="272"/>
                  </a:lnTo>
                  <a:lnTo>
                    <a:pt x="378" y="276"/>
                  </a:lnTo>
                  <a:lnTo>
                    <a:pt x="378" y="276"/>
                  </a:lnTo>
                  <a:lnTo>
                    <a:pt x="398" y="298"/>
                  </a:lnTo>
                  <a:lnTo>
                    <a:pt x="416" y="320"/>
                  </a:lnTo>
                  <a:lnTo>
                    <a:pt x="424" y="330"/>
                  </a:lnTo>
                  <a:lnTo>
                    <a:pt x="432" y="342"/>
                  </a:lnTo>
                  <a:lnTo>
                    <a:pt x="436" y="356"/>
                  </a:lnTo>
                  <a:lnTo>
                    <a:pt x="436" y="370"/>
                  </a:lnTo>
                  <a:lnTo>
                    <a:pt x="436" y="370"/>
                  </a:lnTo>
                  <a:lnTo>
                    <a:pt x="440" y="376"/>
                  </a:lnTo>
                  <a:lnTo>
                    <a:pt x="442" y="384"/>
                  </a:lnTo>
                  <a:lnTo>
                    <a:pt x="442" y="384"/>
                  </a:lnTo>
                  <a:lnTo>
                    <a:pt x="432" y="362"/>
                  </a:lnTo>
                  <a:lnTo>
                    <a:pt x="422" y="338"/>
                  </a:lnTo>
                  <a:lnTo>
                    <a:pt x="410" y="318"/>
                  </a:lnTo>
                  <a:lnTo>
                    <a:pt x="402" y="308"/>
                  </a:lnTo>
                  <a:lnTo>
                    <a:pt x="394" y="300"/>
                  </a:lnTo>
                  <a:lnTo>
                    <a:pt x="394" y="300"/>
                  </a:lnTo>
                  <a:lnTo>
                    <a:pt x="398" y="314"/>
                  </a:lnTo>
                  <a:lnTo>
                    <a:pt x="406" y="326"/>
                  </a:lnTo>
                  <a:lnTo>
                    <a:pt x="420" y="354"/>
                  </a:lnTo>
                  <a:lnTo>
                    <a:pt x="426" y="370"/>
                  </a:lnTo>
                  <a:lnTo>
                    <a:pt x="430" y="384"/>
                  </a:lnTo>
                  <a:lnTo>
                    <a:pt x="432" y="400"/>
                  </a:lnTo>
                  <a:lnTo>
                    <a:pt x="432" y="416"/>
                  </a:lnTo>
                  <a:lnTo>
                    <a:pt x="432" y="416"/>
                  </a:lnTo>
                  <a:lnTo>
                    <a:pt x="420" y="384"/>
                  </a:lnTo>
                  <a:lnTo>
                    <a:pt x="406" y="354"/>
                  </a:lnTo>
                  <a:lnTo>
                    <a:pt x="390" y="324"/>
                  </a:lnTo>
                  <a:lnTo>
                    <a:pt x="380" y="312"/>
                  </a:lnTo>
                  <a:lnTo>
                    <a:pt x="368" y="298"/>
                  </a:lnTo>
                  <a:lnTo>
                    <a:pt x="368" y="298"/>
                  </a:lnTo>
                  <a:lnTo>
                    <a:pt x="368" y="304"/>
                  </a:lnTo>
                  <a:lnTo>
                    <a:pt x="370" y="308"/>
                  </a:lnTo>
                  <a:lnTo>
                    <a:pt x="376" y="318"/>
                  </a:lnTo>
                  <a:lnTo>
                    <a:pt x="384" y="328"/>
                  </a:lnTo>
                  <a:lnTo>
                    <a:pt x="388" y="338"/>
                  </a:lnTo>
                  <a:lnTo>
                    <a:pt x="388" y="338"/>
                  </a:lnTo>
                  <a:lnTo>
                    <a:pt x="388" y="346"/>
                  </a:lnTo>
                  <a:lnTo>
                    <a:pt x="390" y="352"/>
                  </a:lnTo>
                  <a:lnTo>
                    <a:pt x="396" y="366"/>
                  </a:lnTo>
                  <a:lnTo>
                    <a:pt x="404" y="378"/>
                  </a:lnTo>
                  <a:lnTo>
                    <a:pt x="408" y="384"/>
                  </a:lnTo>
                  <a:lnTo>
                    <a:pt x="410" y="390"/>
                  </a:lnTo>
                  <a:lnTo>
                    <a:pt x="416" y="452"/>
                  </a:lnTo>
                  <a:lnTo>
                    <a:pt x="416" y="452"/>
                  </a:lnTo>
                  <a:lnTo>
                    <a:pt x="414" y="436"/>
                  </a:lnTo>
                  <a:lnTo>
                    <a:pt x="410" y="420"/>
                  </a:lnTo>
                  <a:lnTo>
                    <a:pt x="398" y="388"/>
                  </a:lnTo>
                  <a:lnTo>
                    <a:pt x="384" y="360"/>
                  </a:lnTo>
                  <a:lnTo>
                    <a:pt x="370" y="330"/>
                  </a:lnTo>
                  <a:lnTo>
                    <a:pt x="346" y="302"/>
                  </a:lnTo>
                  <a:lnTo>
                    <a:pt x="342" y="308"/>
                  </a:lnTo>
                  <a:lnTo>
                    <a:pt x="342" y="308"/>
                  </a:lnTo>
                  <a:lnTo>
                    <a:pt x="360" y="338"/>
                  </a:lnTo>
                  <a:lnTo>
                    <a:pt x="378" y="370"/>
                  </a:lnTo>
                  <a:lnTo>
                    <a:pt x="386" y="386"/>
                  </a:lnTo>
                  <a:lnTo>
                    <a:pt x="392" y="404"/>
                  </a:lnTo>
                  <a:lnTo>
                    <a:pt x="394" y="420"/>
                  </a:lnTo>
                  <a:lnTo>
                    <a:pt x="394" y="438"/>
                  </a:lnTo>
                  <a:lnTo>
                    <a:pt x="394" y="438"/>
                  </a:lnTo>
                  <a:lnTo>
                    <a:pt x="388" y="420"/>
                  </a:lnTo>
                  <a:lnTo>
                    <a:pt x="386" y="402"/>
                  </a:lnTo>
                  <a:lnTo>
                    <a:pt x="380" y="386"/>
                  </a:lnTo>
                  <a:lnTo>
                    <a:pt x="376" y="380"/>
                  </a:lnTo>
                  <a:lnTo>
                    <a:pt x="370" y="374"/>
                  </a:lnTo>
                  <a:lnTo>
                    <a:pt x="368" y="376"/>
                  </a:lnTo>
                  <a:lnTo>
                    <a:pt x="368" y="376"/>
                  </a:lnTo>
                  <a:lnTo>
                    <a:pt x="360" y="358"/>
                  </a:lnTo>
                  <a:lnTo>
                    <a:pt x="350" y="342"/>
                  </a:lnTo>
                  <a:lnTo>
                    <a:pt x="336" y="328"/>
                  </a:lnTo>
                  <a:lnTo>
                    <a:pt x="322" y="314"/>
                  </a:lnTo>
                  <a:lnTo>
                    <a:pt x="318" y="318"/>
                  </a:lnTo>
                  <a:lnTo>
                    <a:pt x="318" y="318"/>
                  </a:lnTo>
                  <a:lnTo>
                    <a:pt x="336" y="340"/>
                  </a:lnTo>
                  <a:lnTo>
                    <a:pt x="354" y="364"/>
                  </a:lnTo>
                  <a:lnTo>
                    <a:pt x="360" y="376"/>
                  </a:lnTo>
                  <a:lnTo>
                    <a:pt x="366" y="388"/>
                  </a:lnTo>
                  <a:lnTo>
                    <a:pt x="368" y="402"/>
                  </a:lnTo>
                  <a:lnTo>
                    <a:pt x="370" y="418"/>
                  </a:lnTo>
                  <a:lnTo>
                    <a:pt x="370" y="418"/>
                  </a:lnTo>
                  <a:lnTo>
                    <a:pt x="364" y="398"/>
                  </a:lnTo>
                  <a:lnTo>
                    <a:pt x="354" y="380"/>
                  </a:lnTo>
                  <a:lnTo>
                    <a:pt x="340" y="364"/>
                  </a:lnTo>
                  <a:lnTo>
                    <a:pt x="326" y="350"/>
                  </a:lnTo>
                  <a:lnTo>
                    <a:pt x="324" y="352"/>
                  </a:lnTo>
                  <a:lnTo>
                    <a:pt x="324" y="352"/>
                  </a:lnTo>
                  <a:lnTo>
                    <a:pt x="316" y="344"/>
                  </a:lnTo>
                  <a:lnTo>
                    <a:pt x="306" y="334"/>
                  </a:lnTo>
                  <a:lnTo>
                    <a:pt x="302" y="340"/>
                  </a:lnTo>
                  <a:lnTo>
                    <a:pt x="302" y="340"/>
                  </a:lnTo>
                  <a:lnTo>
                    <a:pt x="320" y="362"/>
                  </a:lnTo>
                  <a:lnTo>
                    <a:pt x="336" y="386"/>
                  </a:lnTo>
                  <a:lnTo>
                    <a:pt x="348" y="410"/>
                  </a:lnTo>
                  <a:lnTo>
                    <a:pt x="352" y="424"/>
                  </a:lnTo>
                  <a:lnTo>
                    <a:pt x="356" y="438"/>
                  </a:lnTo>
                  <a:lnTo>
                    <a:pt x="356" y="438"/>
                  </a:lnTo>
                  <a:lnTo>
                    <a:pt x="348" y="416"/>
                  </a:lnTo>
                  <a:lnTo>
                    <a:pt x="338" y="394"/>
                  </a:lnTo>
                  <a:lnTo>
                    <a:pt x="324" y="374"/>
                  </a:lnTo>
                  <a:lnTo>
                    <a:pt x="308" y="354"/>
                  </a:lnTo>
                  <a:lnTo>
                    <a:pt x="290" y="336"/>
                  </a:lnTo>
                  <a:lnTo>
                    <a:pt x="270" y="318"/>
                  </a:lnTo>
                  <a:lnTo>
                    <a:pt x="250" y="302"/>
                  </a:lnTo>
                  <a:lnTo>
                    <a:pt x="230" y="288"/>
                  </a:lnTo>
                  <a:lnTo>
                    <a:pt x="222" y="290"/>
                  </a:lnTo>
                  <a:lnTo>
                    <a:pt x="222" y="290"/>
                  </a:lnTo>
                  <a:lnTo>
                    <a:pt x="172" y="262"/>
                  </a:lnTo>
                  <a:lnTo>
                    <a:pt x="122" y="234"/>
                  </a:lnTo>
                  <a:lnTo>
                    <a:pt x="98" y="216"/>
                  </a:lnTo>
                  <a:lnTo>
                    <a:pt x="76" y="200"/>
                  </a:lnTo>
                  <a:lnTo>
                    <a:pt x="52" y="182"/>
                  </a:lnTo>
                  <a:lnTo>
                    <a:pt x="32" y="162"/>
                  </a:lnTo>
                  <a:lnTo>
                    <a:pt x="32" y="162"/>
                  </a:lnTo>
                  <a:lnTo>
                    <a:pt x="20" y="144"/>
                  </a:lnTo>
                  <a:lnTo>
                    <a:pt x="10" y="122"/>
                  </a:lnTo>
                  <a:lnTo>
                    <a:pt x="2" y="10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6" y="102"/>
                  </a:lnTo>
                  <a:lnTo>
                    <a:pt x="14" y="126"/>
                  </a:lnTo>
                  <a:lnTo>
                    <a:pt x="22" y="138"/>
                  </a:lnTo>
                  <a:lnTo>
                    <a:pt x="28" y="148"/>
                  </a:lnTo>
                  <a:lnTo>
                    <a:pt x="36" y="156"/>
                  </a:lnTo>
                  <a:lnTo>
                    <a:pt x="46" y="162"/>
                  </a:lnTo>
                  <a:lnTo>
                    <a:pt x="48" y="158"/>
                  </a:lnTo>
                  <a:lnTo>
                    <a:pt x="48" y="158"/>
                  </a:lnTo>
                  <a:lnTo>
                    <a:pt x="36" y="138"/>
                  </a:lnTo>
                  <a:lnTo>
                    <a:pt x="24" y="118"/>
                  </a:lnTo>
                  <a:lnTo>
                    <a:pt x="20" y="108"/>
                  </a:lnTo>
                  <a:lnTo>
                    <a:pt x="16" y="96"/>
                  </a:lnTo>
                  <a:lnTo>
                    <a:pt x="16" y="84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8" y="84"/>
                  </a:lnTo>
                  <a:lnTo>
                    <a:pt x="20" y="98"/>
                  </a:lnTo>
                  <a:lnTo>
                    <a:pt x="26" y="110"/>
                  </a:lnTo>
                  <a:lnTo>
                    <a:pt x="32" y="124"/>
                  </a:lnTo>
                  <a:lnTo>
                    <a:pt x="50" y="148"/>
                  </a:lnTo>
                  <a:lnTo>
                    <a:pt x="70" y="170"/>
                  </a:lnTo>
                  <a:lnTo>
                    <a:pt x="70" y="170"/>
                  </a:lnTo>
                  <a:lnTo>
                    <a:pt x="72" y="170"/>
                  </a:lnTo>
                  <a:lnTo>
                    <a:pt x="74" y="168"/>
                  </a:lnTo>
                  <a:lnTo>
                    <a:pt x="74" y="168"/>
                  </a:lnTo>
                  <a:lnTo>
                    <a:pt x="66" y="158"/>
                  </a:lnTo>
                  <a:lnTo>
                    <a:pt x="58" y="148"/>
                  </a:lnTo>
                  <a:lnTo>
                    <a:pt x="48" y="126"/>
                  </a:lnTo>
                  <a:lnTo>
                    <a:pt x="40" y="102"/>
                  </a:lnTo>
                  <a:lnTo>
                    <a:pt x="34" y="78"/>
                  </a:lnTo>
                  <a:lnTo>
                    <a:pt x="34" y="78"/>
                  </a:lnTo>
                  <a:lnTo>
                    <a:pt x="46" y="106"/>
                  </a:lnTo>
                  <a:lnTo>
                    <a:pt x="60" y="130"/>
                  </a:lnTo>
                  <a:lnTo>
                    <a:pt x="68" y="142"/>
                  </a:lnTo>
                  <a:lnTo>
                    <a:pt x="78" y="154"/>
                  </a:lnTo>
                  <a:lnTo>
                    <a:pt x="88" y="162"/>
                  </a:lnTo>
                  <a:lnTo>
                    <a:pt x="102" y="172"/>
                  </a:lnTo>
                  <a:lnTo>
                    <a:pt x="106" y="166"/>
                  </a:lnTo>
                  <a:lnTo>
                    <a:pt x="106" y="166"/>
                  </a:lnTo>
                  <a:lnTo>
                    <a:pt x="94" y="160"/>
                  </a:lnTo>
                  <a:lnTo>
                    <a:pt x="86" y="150"/>
                  </a:lnTo>
                  <a:lnTo>
                    <a:pt x="80" y="140"/>
                  </a:lnTo>
                  <a:lnTo>
                    <a:pt x="74" y="130"/>
                  </a:lnTo>
                  <a:lnTo>
                    <a:pt x="66" y="106"/>
                  </a:lnTo>
                  <a:lnTo>
                    <a:pt x="60" y="94"/>
                  </a:lnTo>
                  <a:lnTo>
                    <a:pt x="52" y="84"/>
                  </a:lnTo>
                  <a:lnTo>
                    <a:pt x="52" y="84"/>
                  </a:lnTo>
                  <a:lnTo>
                    <a:pt x="52" y="88"/>
                  </a:lnTo>
                  <a:lnTo>
                    <a:pt x="54" y="88"/>
                  </a:lnTo>
                  <a:lnTo>
                    <a:pt x="62" y="88"/>
                  </a:lnTo>
                  <a:lnTo>
                    <a:pt x="62" y="88"/>
                  </a:lnTo>
                  <a:lnTo>
                    <a:pt x="70" y="104"/>
                  </a:lnTo>
                  <a:lnTo>
                    <a:pt x="80" y="118"/>
                  </a:lnTo>
                  <a:lnTo>
                    <a:pt x="92" y="132"/>
                  </a:lnTo>
                  <a:lnTo>
                    <a:pt x="104" y="144"/>
                  </a:lnTo>
                  <a:lnTo>
                    <a:pt x="110" y="138"/>
                  </a:lnTo>
                  <a:lnTo>
                    <a:pt x="110" y="138"/>
                  </a:lnTo>
                  <a:lnTo>
                    <a:pt x="98" y="126"/>
                  </a:lnTo>
                  <a:lnTo>
                    <a:pt x="88" y="112"/>
                  </a:lnTo>
                  <a:lnTo>
                    <a:pt x="80" y="96"/>
                  </a:lnTo>
                  <a:lnTo>
                    <a:pt x="72" y="82"/>
                  </a:lnTo>
                  <a:lnTo>
                    <a:pt x="68" y="66"/>
                  </a:lnTo>
                  <a:lnTo>
                    <a:pt x="64" y="50"/>
                  </a:lnTo>
                  <a:lnTo>
                    <a:pt x="62" y="36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70" y="50"/>
                  </a:lnTo>
                  <a:lnTo>
                    <a:pt x="74" y="64"/>
                  </a:lnTo>
                  <a:lnTo>
                    <a:pt x="80" y="78"/>
                  </a:lnTo>
                  <a:lnTo>
                    <a:pt x="86" y="90"/>
                  </a:lnTo>
                  <a:lnTo>
                    <a:pt x="94" y="102"/>
                  </a:lnTo>
                  <a:lnTo>
                    <a:pt x="104" y="114"/>
                  </a:lnTo>
                  <a:lnTo>
                    <a:pt x="114" y="124"/>
                  </a:lnTo>
                  <a:lnTo>
                    <a:pt x="116" y="120"/>
                  </a:lnTo>
                  <a:lnTo>
                    <a:pt x="116" y="120"/>
                  </a:lnTo>
                  <a:lnTo>
                    <a:pt x="114" y="112"/>
                  </a:lnTo>
                  <a:lnTo>
                    <a:pt x="108" y="104"/>
                  </a:lnTo>
                  <a:lnTo>
                    <a:pt x="98" y="90"/>
                  </a:lnTo>
                  <a:lnTo>
                    <a:pt x="88" y="74"/>
                  </a:lnTo>
                  <a:lnTo>
                    <a:pt x="86" y="66"/>
                  </a:lnTo>
                  <a:lnTo>
                    <a:pt x="84" y="58"/>
                  </a:lnTo>
                  <a:lnTo>
                    <a:pt x="84" y="58"/>
                  </a:lnTo>
                  <a:lnTo>
                    <a:pt x="82" y="52"/>
                  </a:lnTo>
                  <a:lnTo>
                    <a:pt x="78" y="44"/>
                  </a:lnTo>
                  <a:lnTo>
                    <a:pt x="76" y="30"/>
                  </a:lnTo>
                  <a:lnTo>
                    <a:pt x="76" y="16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6" y="8"/>
                  </a:lnTo>
                  <a:lnTo>
                    <a:pt x="78" y="16"/>
                  </a:lnTo>
                  <a:lnTo>
                    <a:pt x="82" y="28"/>
                  </a:lnTo>
                  <a:lnTo>
                    <a:pt x="84" y="40"/>
                  </a:lnTo>
                  <a:lnTo>
                    <a:pt x="84" y="46"/>
                  </a:lnTo>
                  <a:lnTo>
                    <a:pt x="82" y="54"/>
                  </a:lnTo>
                  <a:lnTo>
                    <a:pt x="82" y="54"/>
                  </a:lnTo>
                  <a:close/>
                </a:path>
              </a:pathLst>
            </a:custGeom>
            <a:solidFill>
              <a:srgbClr val="ea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7640640" y="3438360"/>
              <a:ext cx="2886120" cy="5077080"/>
            </a:xfrm>
            <a:custGeom>
              <a:avLst/>
              <a:gdLst>
                <a:gd name="textAreaLeft" fmla="*/ 0 w 2886120"/>
                <a:gd name="textAreaRight" fmla="*/ 2886480 w 2886120"/>
                <a:gd name="textAreaTop" fmla="*/ 0 h 5077080"/>
                <a:gd name="textAreaBottom" fmla="*/ 5077440 h 5077080"/>
              </a:gdLst>
              <a:ahLst/>
              <a:rect l="textAreaLeft" t="textAreaTop" r="textAreaRight" b="textAreaBottom"/>
              <a:pathLst>
                <a:path w="1818" h="3198">
                  <a:moveTo>
                    <a:pt x="948" y="64"/>
                  </a:moveTo>
                  <a:lnTo>
                    <a:pt x="948" y="64"/>
                  </a:lnTo>
                  <a:lnTo>
                    <a:pt x="940" y="68"/>
                  </a:lnTo>
                  <a:lnTo>
                    <a:pt x="932" y="74"/>
                  </a:lnTo>
                  <a:lnTo>
                    <a:pt x="926" y="82"/>
                  </a:lnTo>
                  <a:lnTo>
                    <a:pt x="920" y="92"/>
                  </a:lnTo>
                  <a:lnTo>
                    <a:pt x="916" y="100"/>
                  </a:lnTo>
                  <a:lnTo>
                    <a:pt x="910" y="108"/>
                  </a:lnTo>
                  <a:lnTo>
                    <a:pt x="902" y="114"/>
                  </a:lnTo>
                  <a:lnTo>
                    <a:pt x="894" y="118"/>
                  </a:lnTo>
                  <a:lnTo>
                    <a:pt x="894" y="118"/>
                  </a:lnTo>
                  <a:lnTo>
                    <a:pt x="882" y="142"/>
                  </a:lnTo>
                  <a:lnTo>
                    <a:pt x="866" y="166"/>
                  </a:lnTo>
                  <a:lnTo>
                    <a:pt x="850" y="186"/>
                  </a:lnTo>
                  <a:lnTo>
                    <a:pt x="830" y="206"/>
                  </a:lnTo>
                  <a:lnTo>
                    <a:pt x="808" y="224"/>
                  </a:lnTo>
                  <a:lnTo>
                    <a:pt x="786" y="240"/>
                  </a:lnTo>
                  <a:lnTo>
                    <a:pt x="742" y="272"/>
                  </a:lnTo>
                  <a:lnTo>
                    <a:pt x="742" y="272"/>
                  </a:lnTo>
                  <a:lnTo>
                    <a:pt x="698" y="294"/>
                  </a:lnTo>
                  <a:lnTo>
                    <a:pt x="656" y="314"/>
                  </a:lnTo>
                  <a:lnTo>
                    <a:pt x="610" y="332"/>
                  </a:lnTo>
                  <a:lnTo>
                    <a:pt x="566" y="348"/>
                  </a:lnTo>
                  <a:lnTo>
                    <a:pt x="518" y="362"/>
                  </a:lnTo>
                  <a:lnTo>
                    <a:pt x="472" y="372"/>
                  </a:lnTo>
                  <a:lnTo>
                    <a:pt x="424" y="382"/>
                  </a:lnTo>
                  <a:lnTo>
                    <a:pt x="376" y="388"/>
                  </a:lnTo>
                  <a:lnTo>
                    <a:pt x="376" y="388"/>
                  </a:lnTo>
                  <a:lnTo>
                    <a:pt x="346" y="386"/>
                  </a:lnTo>
                  <a:lnTo>
                    <a:pt x="314" y="386"/>
                  </a:lnTo>
                  <a:lnTo>
                    <a:pt x="300" y="384"/>
                  </a:lnTo>
                  <a:lnTo>
                    <a:pt x="286" y="382"/>
                  </a:lnTo>
                  <a:lnTo>
                    <a:pt x="270" y="378"/>
                  </a:lnTo>
                  <a:lnTo>
                    <a:pt x="258" y="372"/>
                  </a:lnTo>
                  <a:lnTo>
                    <a:pt x="258" y="372"/>
                  </a:lnTo>
                  <a:lnTo>
                    <a:pt x="238" y="366"/>
                  </a:lnTo>
                  <a:lnTo>
                    <a:pt x="222" y="358"/>
                  </a:lnTo>
                  <a:lnTo>
                    <a:pt x="204" y="350"/>
                  </a:lnTo>
                  <a:lnTo>
                    <a:pt x="186" y="340"/>
                  </a:lnTo>
                  <a:lnTo>
                    <a:pt x="156" y="318"/>
                  </a:lnTo>
                  <a:lnTo>
                    <a:pt x="126" y="292"/>
                  </a:lnTo>
                  <a:lnTo>
                    <a:pt x="124" y="294"/>
                  </a:lnTo>
                  <a:lnTo>
                    <a:pt x="124" y="294"/>
                  </a:lnTo>
                  <a:lnTo>
                    <a:pt x="120" y="290"/>
                  </a:lnTo>
                  <a:lnTo>
                    <a:pt x="120" y="288"/>
                  </a:lnTo>
                  <a:lnTo>
                    <a:pt x="116" y="288"/>
                  </a:lnTo>
                  <a:lnTo>
                    <a:pt x="116" y="288"/>
                  </a:lnTo>
                  <a:lnTo>
                    <a:pt x="126" y="308"/>
                  </a:lnTo>
                  <a:lnTo>
                    <a:pt x="138" y="328"/>
                  </a:lnTo>
                  <a:lnTo>
                    <a:pt x="150" y="346"/>
                  </a:lnTo>
                  <a:lnTo>
                    <a:pt x="166" y="364"/>
                  </a:lnTo>
                  <a:lnTo>
                    <a:pt x="166" y="364"/>
                  </a:lnTo>
                  <a:lnTo>
                    <a:pt x="148" y="362"/>
                  </a:lnTo>
                  <a:lnTo>
                    <a:pt x="128" y="362"/>
                  </a:lnTo>
                  <a:lnTo>
                    <a:pt x="84" y="366"/>
                  </a:lnTo>
                  <a:lnTo>
                    <a:pt x="84" y="366"/>
                  </a:lnTo>
                  <a:lnTo>
                    <a:pt x="86" y="370"/>
                  </a:lnTo>
                  <a:lnTo>
                    <a:pt x="92" y="372"/>
                  </a:lnTo>
                  <a:lnTo>
                    <a:pt x="102" y="374"/>
                  </a:lnTo>
                  <a:lnTo>
                    <a:pt x="102" y="374"/>
                  </a:lnTo>
                  <a:lnTo>
                    <a:pt x="116" y="384"/>
                  </a:lnTo>
                  <a:lnTo>
                    <a:pt x="130" y="398"/>
                  </a:lnTo>
                  <a:lnTo>
                    <a:pt x="146" y="410"/>
                  </a:lnTo>
                  <a:lnTo>
                    <a:pt x="160" y="422"/>
                  </a:lnTo>
                  <a:lnTo>
                    <a:pt x="160" y="422"/>
                  </a:lnTo>
                  <a:lnTo>
                    <a:pt x="140" y="422"/>
                  </a:lnTo>
                  <a:lnTo>
                    <a:pt x="116" y="422"/>
                  </a:lnTo>
                  <a:lnTo>
                    <a:pt x="94" y="426"/>
                  </a:lnTo>
                  <a:lnTo>
                    <a:pt x="84" y="430"/>
                  </a:lnTo>
                  <a:lnTo>
                    <a:pt x="76" y="434"/>
                  </a:lnTo>
                  <a:lnTo>
                    <a:pt x="74" y="440"/>
                  </a:lnTo>
                  <a:lnTo>
                    <a:pt x="74" y="440"/>
                  </a:lnTo>
                  <a:lnTo>
                    <a:pt x="90" y="440"/>
                  </a:lnTo>
                  <a:lnTo>
                    <a:pt x="104" y="444"/>
                  </a:lnTo>
                  <a:lnTo>
                    <a:pt x="116" y="450"/>
                  </a:lnTo>
                  <a:lnTo>
                    <a:pt x="130" y="458"/>
                  </a:lnTo>
                  <a:lnTo>
                    <a:pt x="158" y="474"/>
                  </a:lnTo>
                  <a:lnTo>
                    <a:pt x="172" y="480"/>
                  </a:lnTo>
                  <a:lnTo>
                    <a:pt x="188" y="484"/>
                  </a:lnTo>
                  <a:lnTo>
                    <a:pt x="188" y="484"/>
                  </a:lnTo>
                  <a:lnTo>
                    <a:pt x="196" y="490"/>
                  </a:lnTo>
                  <a:lnTo>
                    <a:pt x="204" y="496"/>
                  </a:lnTo>
                  <a:lnTo>
                    <a:pt x="220" y="508"/>
                  </a:lnTo>
                  <a:lnTo>
                    <a:pt x="236" y="518"/>
                  </a:lnTo>
                  <a:lnTo>
                    <a:pt x="244" y="522"/>
                  </a:lnTo>
                  <a:lnTo>
                    <a:pt x="254" y="524"/>
                  </a:lnTo>
                  <a:lnTo>
                    <a:pt x="254" y="524"/>
                  </a:lnTo>
                  <a:lnTo>
                    <a:pt x="258" y="530"/>
                  </a:lnTo>
                  <a:lnTo>
                    <a:pt x="264" y="532"/>
                  </a:lnTo>
                  <a:lnTo>
                    <a:pt x="274" y="536"/>
                  </a:lnTo>
                  <a:lnTo>
                    <a:pt x="286" y="538"/>
                  </a:lnTo>
                  <a:lnTo>
                    <a:pt x="292" y="542"/>
                  </a:lnTo>
                  <a:lnTo>
                    <a:pt x="296" y="546"/>
                  </a:lnTo>
                  <a:lnTo>
                    <a:pt x="296" y="546"/>
                  </a:lnTo>
                  <a:lnTo>
                    <a:pt x="324" y="550"/>
                  </a:lnTo>
                  <a:lnTo>
                    <a:pt x="352" y="556"/>
                  </a:lnTo>
                  <a:lnTo>
                    <a:pt x="380" y="558"/>
                  </a:lnTo>
                  <a:lnTo>
                    <a:pt x="408" y="558"/>
                  </a:lnTo>
                  <a:lnTo>
                    <a:pt x="438" y="554"/>
                  </a:lnTo>
                  <a:lnTo>
                    <a:pt x="466" y="550"/>
                  </a:lnTo>
                  <a:lnTo>
                    <a:pt x="492" y="540"/>
                  </a:lnTo>
                  <a:lnTo>
                    <a:pt x="520" y="528"/>
                  </a:lnTo>
                  <a:lnTo>
                    <a:pt x="520" y="528"/>
                  </a:lnTo>
                  <a:lnTo>
                    <a:pt x="570" y="496"/>
                  </a:lnTo>
                  <a:lnTo>
                    <a:pt x="620" y="462"/>
                  </a:lnTo>
                  <a:lnTo>
                    <a:pt x="668" y="424"/>
                  </a:lnTo>
                  <a:lnTo>
                    <a:pt x="712" y="382"/>
                  </a:lnTo>
                  <a:lnTo>
                    <a:pt x="756" y="338"/>
                  </a:lnTo>
                  <a:lnTo>
                    <a:pt x="794" y="292"/>
                  </a:lnTo>
                  <a:lnTo>
                    <a:pt x="830" y="244"/>
                  </a:lnTo>
                  <a:lnTo>
                    <a:pt x="860" y="194"/>
                  </a:lnTo>
                  <a:lnTo>
                    <a:pt x="860" y="194"/>
                  </a:lnTo>
                  <a:lnTo>
                    <a:pt x="880" y="176"/>
                  </a:lnTo>
                  <a:lnTo>
                    <a:pt x="900" y="160"/>
                  </a:lnTo>
                  <a:lnTo>
                    <a:pt x="922" y="146"/>
                  </a:lnTo>
                  <a:lnTo>
                    <a:pt x="944" y="134"/>
                  </a:lnTo>
                  <a:lnTo>
                    <a:pt x="966" y="124"/>
                  </a:lnTo>
                  <a:lnTo>
                    <a:pt x="990" y="118"/>
                  </a:lnTo>
                  <a:lnTo>
                    <a:pt x="1014" y="116"/>
                  </a:lnTo>
                  <a:lnTo>
                    <a:pt x="1040" y="118"/>
                  </a:lnTo>
                  <a:lnTo>
                    <a:pt x="1040" y="118"/>
                  </a:lnTo>
                  <a:lnTo>
                    <a:pt x="1076" y="116"/>
                  </a:lnTo>
                  <a:lnTo>
                    <a:pt x="1112" y="120"/>
                  </a:lnTo>
                  <a:lnTo>
                    <a:pt x="1146" y="126"/>
                  </a:lnTo>
                  <a:lnTo>
                    <a:pt x="1180" y="134"/>
                  </a:lnTo>
                  <a:lnTo>
                    <a:pt x="1246" y="154"/>
                  </a:lnTo>
                  <a:lnTo>
                    <a:pt x="1280" y="164"/>
                  </a:lnTo>
                  <a:lnTo>
                    <a:pt x="1316" y="172"/>
                  </a:lnTo>
                  <a:lnTo>
                    <a:pt x="1316" y="172"/>
                  </a:lnTo>
                  <a:lnTo>
                    <a:pt x="1334" y="184"/>
                  </a:lnTo>
                  <a:lnTo>
                    <a:pt x="1350" y="196"/>
                  </a:lnTo>
                  <a:lnTo>
                    <a:pt x="1368" y="208"/>
                  </a:lnTo>
                  <a:lnTo>
                    <a:pt x="1382" y="222"/>
                  </a:lnTo>
                  <a:lnTo>
                    <a:pt x="1410" y="252"/>
                  </a:lnTo>
                  <a:lnTo>
                    <a:pt x="1436" y="284"/>
                  </a:lnTo>
                  <a:lnTo>
                    <a:pt x="1488" y="352"/>
                  </a:lnTo>
                  <a:lnTo>
                    <a:pt x="1516" y="384"/>
                  </a:lnTo>
                  <a:lnTo>
                    <a:pt x="1546" y="416"/>
                  </a:lnTo>
                  <a:lnTo>
                    <a:pt x="1546" y="416"/>
                  </a:lnTo>
                  <a:lnTo>
                    <a:pt x="1556" y="432"/>
                  </a:lnTo>
                  <a:lnTo>
                    <a:pt x="1566" y="448"/>
                  </a:lnTo>
                  <a:lnTo>
                    <a:pt x="1582" y="482"/>
                  </a:lnTo>
                  <a:lnTo>
                    <a:pt x="1594" y="516"/>
                  </a:lnTo>
                  <a:lnTo>
                    <a:pt x="1604" y="550"/>
                  </a:lnTo>
                  <a:lnTo>
                    <a:pt x="1610" y="586"/>
                  </a:lnTo>
                  <a:lnTo>
                    <a:pt x="1616" y="622"/>
                  </a:lnTo>
                  <a:lnTo>
                    <a:pt x="1630" y="696"/>
                  </a:lnTo>
                  <a:lnTo>
                    <a:pt x="1630" y="696"/>
                  </a:lnTo>
                  <a:lnTo>
                    <a:pt x="1628" y="730"/>
                  </a:lnTo>
                  <a:lnTo>
                    <a:pt x="1628" y="770"/>
                  </a:lnTo>
                  <a:lnTo>
                    <a:pt x="1628" y="810"/>
                  </a:lnTo>
                  <a:lnTo>
                    <a:pt x="1626" y="852"/>
                  </a:lnTo>
                  <a:lnTo>
                    <a:pt x="1624" y="894"/>
                  </a:lnTo>
                  <a:lnTo>
                    <a:pt x="1618" y="934"/>
                  </a:lnTo>
                  <a:lnTo>
                    <a:pt x="1612" y="954"/>
                  </a:lnTo>
                  <a:lnTo>
                    <a:pt x="1606" y="974"/>
                  </a:lnTo>
                  <a:lnTo>
                    <a:pt x="1598" y="992"/>
                  </a:lnTo>
                  <a:lnTo>
                    <a:pt x="1588" y="1008"/>
                  </a:lnTo>
                  <a:lnTo>
                    <a:pt x="1588" y="1008"/>
                  </a:lnTo>
                  <a:lnTo>
                    <a:pt x="1570" y="1050"/>
                  </a:lnTo>
                  <a:lnTo>
                    <a:pt x="1560" y="1070"/>
                  </a:lnTo>
                  <a:lnTo>
                    <a:pt x="1550" y="1090"/>
                  </a:lnTo>
                  <a:lnTo>
                    <a:pt x="1550" y="1090"/>
                  </a:lnTo>
                  <a:lnTo>
                    <a:pt x="1494" y="1180"/>
                  </a:lnTo>
                  <a:lnTo>
                    <a:pt x="1466" y="1224"/>
                  </a:lnTo>
                  <a:lnTo>
                    <a:pt x="1436" y="1266"/>
                  </a:lnTo>
                  <a:lnTo>
                    <a:pt x="1436" y="1266"/>
                  </a:lnTo>
                  <a:lnTo>
                    <a:pt x="1386" y="1318"/>
                  </a:lnTo>
                  <a:lnTo>
                    <a:pt x="1358" y="1342"/>
                  </a:lnTo>
                  <a:lnTo>
                    <a:pt x="1344" y="1354"/>
                  </a:lnTo>
                  <a:lnTo>
                    <a:pt x="1326" y="1364"/>
                  </a:lnTo>
                  <a:lnTo>
                    <a:pt x="1324" y="1362"/>
                  </a:lnTo>
                  <a:lnTo>
                    <a:pt x="1324" y="1362"/>
                  </a:lnTo>
                  <a:lnTo>
                    <a:pt x="1306" y="1372"/>
                  </a:lnTo>
                  <a:lnTo>
                    <a:pt x="1288" y="1378"/>
                  </a:lnTo>
                  <a:lnTo>
                    <a:pt x="1270" y="1384"/>
                  </a:lnTo>
                  <a:lnTo>
                    <a:pt x="1250" y="1388"/>
                  </a:lnTo>
                  <a:lnTo>
                    <a:pt x="1212" y="1396"/>
                  </a:lnTo>
                  <a:lnTo>
                    <a:pt x="1192" y="1402"/>
                  </a:lnTo>
                  <a:lnTo>
                    <a:pt x="1176" y="1408"/>
                  </a:lnTo>
                  <a:lnTo>
                    <a:pt x="1176" y="1408"/>
                  </a:lnTo>
                  <a:lnTo>
                    <a:pt x="1166" y="1410"/>
                  </a:lnTo>
                  <a:lnTo>
                    <a:pt x="1158" y="1410"/>
                  </a:lnTo>
                  <a:lnTo>
                    <a:pt x="1150" y="1410"/>
                  </a:lnTo>
                  <a:lnTo>
                    <a:pt x="1146" y="1412"/>
                  </a:lnTo>
                  <a:lnTo>
                    <a:pt x="1144" y="1416"/>
                  </a:lnTo>
                  <a:lnTo>
                    <a:pt x="1140" y="1414"/>
                  </a:lnTo>
                  <a:lnTo>
                    <a:pt x="1134" y="1418"/>
                  </a:lnTo>
                  <a:lnTo>
                    <a:pt x="1134" y="1418"/>
                  </a:lnTo>
                  <a:lnTo>
                    <a:pt x="1132" y="1416"/>
                  </a:lnTo>
                  <a:lnTo>
                    <a:pt x="1130" y="1416"/>
                  </a:lnTo>
                  <a:lnTo>
                    <a:pt x="1126" y="1418"/>
                  </a:lnTo>
                  <a:lnTo>
                    <a:pt x="1122" y="1420"/>
                  </a:lnTo>
                  <a:lnTo>
                    <a:pt x="1120" y="1420"/>
                  </a:lnTo>
                  <a:lnTo>
                    <a:pt x="1118" y="1418"/>
                  </a:lnTo>
                  <a:lnTo>
                    <a:pt x="1118" y="1418"/>
                  </a:lnTo>
                  <a:lnTo>
                    <a:pt x="1106" y="1422"/>
                  </a:lnTo>
                  <a:lnTo>
                    <a:pt x="1094" y="1426"/>
                  </a:lnTo>
                  <a:lnTo>
                    <a:pt x="1066" y="1432"/>
                  </a:lnTo>
                  <a:lnTo>
                    <a:pt x="1040" y="1436"/>
                  </a:lnTo>
                  <a:lnTo>
                    <a:pt x="1014" y="1442"/>
                  </a:lnTo>
                  <a:lnTo>
                    <a:pt x="1014" y="1442"/>
                  </a:lnTo>
                  <a:lnTo>
                    <a:pt x="990" y="1444"/>
                  </a:lnTo>
                  <a:lnTo>
                    <a:pt x="964" y="1446"/>
                  </a:lnTo>
                  <a:lnTo>
                    <a:pt x="912" y="1456"/>
                  </a:lnTo>
                  <a:lnTo>
                    <a:pt x="858" y="1466"/>
                  </a:lnTo>
                  <a:lnTo>
                    <a:pt x="808" y="1474"/>
                  </a:lnTo>
                  <a:lnTo>
                    <a:pt x="808" y="1474"/>
                  </a:lnTo>
                  <a:lnTo>
                    <a:pt x="792" y="1478"/>
                  </a:lnTo>
                  <a:lnTo>
                    <a:pt x="776" y="1482"/>
                  </a:lnTo>
                  <a:lnTo>
                    <a:pt x="762" y="1486"/>
                  </a:lnTo>
                  <a:lnTo>
                    <a:pt x="746" y="1492"/>
                  </a:lnTo>
                  <a:lnTo>
                    <a:pt x="746" y="1492"/>
                  </a:lnTo>
                  <a:lnTo>
                    <a:pt x="708" y="1502"/>
                  </a:lnTo>
                  <a:lnTo>
                    <a:pt x="690" y="1506"/>
                  </a:lnTo>
                  <a:lnTo>
                    <a:pt x="670" y="1508"/>
                  </a:lnTo>
                  <a:lnTo>
                    <a:pt x="670" y="1508"/>
                  </a:lnTo>
                  <a:lnTo>
                    <a:pt x="640" y="1522"/>
                  </a:lnTo>
                  <a:lnTo>
                    <a:pt x="610" y="1534"/>
                  </a:lnTo>
                  <a:lnTo>
                    <a:pt x="580" y="1544"/>
                  </a:lnTo>
                  <a:lnTo>
                    <a:pt x="550" y="1558"/>
                  </a:lnTo>
                  <a:lnTo>
                    <a:pt x="548" y="1556"/>
                  </a:lnTo>
                  <a:lnTo>
                    <a:pt x="548" y="1556"/>
                  </a:lnTo>
                  <a:lnTo>
                    <a:pt x="540" y="1564"/>
                  </a:lnTo>
                  <a:lnTo>
                    <a:pt x="534" y="1568"/>
                  </a:lnTo>
                  <a:lnTo>
                    <a:pt x="530" y="1568"/>
                  </a:lnTo>
                  <a:lnTo>
                    <a:pt x="532" y="1570"/>
                  </a:lnTo>
                  <a:lnTo>
                    <a:pt x="532" y="1570"/>
                  </a:lnTo>
                  <a:lnTo>
                    <a:pt x="504" y="1586"/>
                  </a:lnTo>
                  <a:lnTo>
                    <a:pt x="478" y="1602"/>
                  </a:lnTo>
                  <a:lnTo>
                    <a:pt x="452" y="1620"/>
                  </a:lnTo>
                  <a:lnTo>
                    <a:pt x="428" y="1640"/>
                  </a:lnTo>
                  <a:lnTo>
                    <a:pt x="406" y="1662"/>
                  </a:lnTo>
                  <a:lnTo>
                    <a:pt x="384" y="1684"/>
                  </a:lnTo>
                  <a:lnTo>
                    <a:pt x="362" y="1708"/>
                  </a:lnTo>
                  <a:lnTo>
                    <a:pt x="342" y="1732"/>
                  </a:lnTo>
                  <a:lnTo>
                    <a:pt x="324" y="1758"/>
                  </a:lnTo>
                  <a:lnTo>
                    <a:pt x="306" y="1784"/>
                  </a:lnTo>
                  <a:lnTo>
                    <a:pt x="272" y="1836"/>
                  </a:lnTo>
                  <a:lnTo>
                    <a:pt x="244" y="1890"/>
                  </a:lnTo>
                  <a:lnTo>
                    <a:pt x="218" y="1946"/>
                  </a:lnTo>
                  <a:lnTo>
                    <a:pt x="218" y="1946"/>
                  </a:lnTo>
                  <a:lnTo>
                    <a:pt x="214" y="1978"/>
                  </a:lnTo>
                  <a:lnTo>
                    <a:pt x="212" y="2010"/>
                  </a:lnTo>
                  <a:lnTo>
                    <a:pt x="216" y="2040"/>
                  </a:lnTo>
                  <a:lnTo>
                    <a:pt x="222" y="2070"/>
                  </a:lnTo>
                  <a:lnTo>
                    <a:pt x="230" y="2098"/>
                  </a:lnTo>
                  <a:lnTo>
                    <a:pt x="240" y="2126"/>
                  </a:lnTo>
                  <a:lnTo>
                    <a:pt x="264" y="2182"/>
                  </a:lnTo>
                  <a:lnTo>
                    <a:pt x="264" y="2182"/>
                  </a:lnTo>
                  <a:lnTo>
                    <a:pt x="290" y="2224"/>
                  </a:lnTo>
                  <a:lnTo>
                    <a:pt x="318" y="2266"/>
                  </a:lnTo>
                  <a:lnTo>
                    <a:pt x="318" y="2266"/>
                  </a:lnTo>
                  <a:lnTo>
                    <a:pt x="326" y="2292"/>
                  </a:lnTo>
                  <a:lnTo>
                    <a:pt x="336" y="2318"/>
                  </a:lnTo>
                  <a:lnTo>
                    <a:pt x="356" y="2366"/>
                  </a:lnTo>
                  <a:lnTo>
                    <a:pt x="376" y="2414"/>
                  </a:lnTo>
                  <a:lnTo>
                    <a:pt x="386" y="2438"/>
                  </a:lnTo>
                  <a:lnTo>
                    <a:pt x="394" y="2464"/>
                  </a:lnTo>
                  <a:lnTo>
                    <a:pt x="394" y="2464"/>
                  </a:lnTo>
                  <a:lnTo>
                    <a:pt x="400" y="2474"/>
                  </a:lnTo>
                  <a:lnTo>
                    <a:pt x="404" y="2486"/>
                  </a:lnTo>
                  <a:lnTo>
                    <a:pt x="404" y="2486"/>
                  </a:lnTo>
                  <a:lnTo>
                    <a:pt x="404" y="2508"/>
                  </a:lnTo>
                  <a:lnTo>
                    <a:pt x="400" y="2528"/>
                  </a:lnTo>
                  <a:lnTo>
                    <a:pt x="394" y="2546"/>
                  </a:lnTo>
                  <a:lnTo>
                    <a:pt x="386" y="2564"/>
                  </a:lnTo>
                  <a:lnTo>
                    <a:pt x="374" y="2580"/>
                  </a:lnTo>
                  <a:lnTo>
                    <a:pt x="360" y="2596"/>
                  </a:lnTo>
                  <a:lnTo>
                    <a:pt x="344" y="2608"/>
                  </a:lnTo>
                  <a:lnTo>
                    <a:pt x="326" y="2620"/>
                  </a:lnTo>
                  <a:lnTo>
                    <a:pt x="326" y="2620"/>
                  </a:lnTo>
                  <a:lnTo>
                    <a:pt x="316" y="2624"/>
                  </a:lnTo>
                  <a:lnTo>
                    <a:pt x="306" y="2628"/>
                  </a:lnTo>
                  <a:lnTo>
                    <a:pt x="284" y="2640"/>
                  </a:lnTo>
                  <a:lnTo>
                    <a:pt x="274" y="2646"/>
                  </a:lnTo>
                  <a:lnTo>
                    <a:pt x="264" y="2652"/>
                  </a:lnTo>
                  <a:lnTo>
                    <a:pt x="252" y="2654"/>
                  </a:lnTo>
                  <a:lnTo>
                    <a:pt x="242" y="2654"/>
                  </a:lnTo>
                  <a:lnTo>
                    <a:pt x="242" y="2654"/>
                  </a:lnTo>
                  <a:lnTo>
                    <a:pt x="240" y="2658"/>
                  </a:lnTo>
                  <a:lnTo>
                    <a:pt x="236" y="2662"/>
                  </a:lnTo>
                  <a:lnTo>
                    <a:pt x="230" y="2664"/>
                  </a:lnTo>
                  <a:lnTo>
                    <a:pt x="216" y="2666"/>
                  </a:lnTo>
                  <a:lnTo>
                    <a:pt x="216" y="2666"/>
                  </a:lnTo>
                  <a:lnTo>
                    <a:pt x="198" y="2670"/>
                  </a:lnTo>
                  <a:lnTo>
                    <a:pt x="180" y="2674"/>
                  </a:lnTo>
                  <a:lnTo>
                    <a:pt x="162" y="2676"/>
                  </a:lnTo>
                  <a:lnTo>
                    <a:pt x="154" y="2680"/>
                  </a:lnTo>
                  <a:lnTo>
                    <a:pt x="146" y="2684"/>
                  </a:lnTo>
                  <a:lnTo>
                    <a:pt x="146" y="2684"/>
                  </a:lnTo>
                  <a:lnTo>
                    <a:pt x="134" y="2686"/>
                  </a:lnTo>
                  <a:lnTo>
                    <a:pt x="122" y="2690"/>
                  </a:lnTo>
                  <a:lnTo>
                    <a:pt x="100" y="2700"/>
                  </a:lnTo>
                  <a:lnTo>
                    <a:pt x="80" y="2714"/>
                  </a:lnTo>
                  <a:lnTo>
                    <a:pt x="58" y="2732"/>
                  </a:lnTo>
                  <a:lnTo>
                    <a:pt x="58" y="2732"/>
                  </a:lnTo>
                  <a:lnTo>
                    <a:pt x="52" y="2746"/>
                  </a:lnTo>
                  <a:lnTo>
                    <a:pt x="44" y="2760"/>
                  </a:lnTo>
                  <a:lnTo>
                    <a:pt x="26" y="2786"/>
                  </a:lnTo>
                  <a:lnTo>
                    <a:pt x="18" y="2800"/>
                  </a:lnTo>
                  <a:lnTo>
                    <a:pt x="12" y="2814"/>
                  </a:lnTo>
                  <a:lnTo>
                    <a:pt x="8" y="2828"/>
                  </a:lnTo>
                  <a:lnTo>
                    <a:pt x="4" y="2846"/>
                  </a:lnTo>
                  <a:lnTo>
                    <a:pt x="4" y="2846"/>
                  </a:lnTo>
                  <a:lnTo>
                    <a:pt x="0" y="2866"/>
                  </a:lnTo>
                  <a:lnTo>
                    <a:pt x="0" y="2886"/>
                  </a:lnTo>
                  <a:lnTo>
                    <a:pt x="0" y="2908"/>
                  </a:lnTo>
                  <a:lnTo>
                    <a:pt x="2" y="2930"/>
                  </a:lnTo>
                  <a:lnTo>
                    <a:pt x="6" y="2970"/>
                  </a:lnTo>
                  <a:lnTo>
                    <a:pt x="6" y="2992"/>
                  </a:lnTo>
                  <a:lnTo>
                    <a:pt x="6" y="3012"/>
                  </a:lnTo>
                  <a:lnTo>
                    <a:pt x="6" y="3012"/>
                  </a:lnTo>
                  <a:lnTo>
                    <a:pt x="12" y="3034"/>
                  </a:lnTo>
                  <a:lnTo>
                    <a:pt x="20" y="3056"/>
                  </a:lnTo>
                  <a:lnTo>
                    <a:pt x="36" y="3102"/>
                  </a:lnTo>
                  <a:lnTo>
                    <a:pt x="36" y="3102"/>
                  </a:lnTo>
                  <a:lnTo>
                    <a:pt x="40" y="3110"/>
                  </a:lnTo>
                  <a:lnTo>
                    <a:pt x="42" y="3118"/>
                  </a:lnTo>
                  <a:lnTo>
                    <a:pt x="44" y="3126"/>
                  </a:lnTo>
                  <a:lnTo>
                    <a:pt x="48" y="3130"/>
                  </a:lnTo>
                  <a:lnTo>
                    <a:pt x="48" y="3130"/>
                  </a:lnTo>
                  <a:lnTo>
                    <a:pt x="56" y="3100"/>
                  </a:lnTo>
                  <a:lnTo>
                    <a:pt x="66" y="3068"/>
                  </a:lnTo>
                  <a:lnTo>
                    <a:pt x="72" y="3034"/>
                  </a:lnTo>
                  <a:lnTo>
                    <a:pt x="74" y="3000"/>
                  </a:lnTo>
                  <a:lnTo>
                    <a:pt x="76" y="3000"/>
                  </a:lnTo>
                  <a:lnTo>
                    <a:pt x="76" y="3000"/>
                  </a:lnTo>
                  <a:lnTo>
                    <a:pt x="104" y="3060"/>
                  </a:lnTo>
                  <a:lnTo>
                    <a:pt x="118" y="3088"/>
                  </a:lnTo>
                  <a:lnTo>
                    <a:pt x="136" y="3116"/>
                  </a:lnTo>
                  <a:lnTo>
                    <a:pt x="136" y="3116"/>
                  </a:lnTo>
                  <a:lnTo>
                    <a:pt x="138" y="3110"/>
                  </a:lnTo>
                  <a:lnTo>
                    <a:pt x="138" y="3104"/>
                  </a:lnTo>
                  <a:lnTo>
                    <a:pt x="138" y="3090"/>
                  </a:lnTo>
                  <a:lnTo>
                    <a:pt x="140" y="3078"/>
                  </a:lnTo>
                  <a:lnTo>
                    <a:pt x="142" y="3072"/>
                  </a:lnTo>
                  <a:lnTo>
                    <a:pt x="146" y="3068"/>
                  </a:lnTo>
                  <a:lnTo>
                    <a:pt x="146" y="3068"/>
                  </a:lnTo>
                  <a:lnTo>
                    <a:pt x="152" y="3088"/>
                  </a:lnTo>
                  <a:lnTo>
                    <a:pt x="162" y="3106"/>
                  </a:lnTo>
                  <a:lnTo>
                    <a:pt x="174" y="3122"/>
                  </a:lnTo>
                  <a:lnTo>
                    <a:pt x="188" y="3136"/>
                  </a:lnTo>
                  <a:lnTo>
                    <a:pt x="216" y="3166"/>
                  </a:lnTo>
                  <a:lnTo>
                    <a:pt x="232" y="3182"/>
                  </a:lnTo>
                  <a:lnTo>
                    <a:pt x="244" y="3198"/>
                  </a:lnTo>
                  <a:lnTo>
                    <a:pt x="244" y="3198"/>
                  </a:lnTo>
                  <a:lnTo>
                    <a:pt x="242" y="3184"/>
                  </a:lnTo>
                  <a:lnTo>
                    <a:pt x="236" y="3170"/>
                  </a:lnTo>
                  <a:lnTo>
                    <a:pt x="222" y="3142"/>
                  </a:lnTo>
                  <a:lnTo>
                    <a:pt x="208" y="3112"/>
                  </a:lnTo>
                  <a:lnTo>
                    <a:pt x="194" y="3084"/>
                  </a:lnTo>
                  <a:lnTo>
                    <a:pt x="194" y="3084"/>
                  </a:lnTo>
                  <a:lnTo>
                    <a:pt x="180" y="3066"/>
                  </a:lnTo>
                  <a:lnTo>
                    <a:pt x="170" y="3046"/>
                  </a:lnTo>
                  <a:lnTo>
                    <a:pt x="162" y="3026"/>
                  </a:lnTo>
                  <a:lnTo>
                    <a:pt x="158" y="3004"/>
                  </a:lnTo>
                  <a:lnTo>
                    <a:pt x="158" y="2982"/>
                  </a:lnTo>
                  <a:lnTo>
                    <a:pt x="158" y="2960"/>
                  </a:lnTo>
                  <a:lnTo>
                    <a:pt x="162" y="2938"/>
                  </a:lnTo>
                  <a:lnTo>
                    <a:pt x="168" y="2916"/>
                  </a:lnTo>
                  <a:lnTo>
                    <a:pt x="168" y="2916"/>
                  </a:lnTo>
                  <a:lnTo>
                    <a:pt x="174" y="2902"/>
                  </a:lnTo>
                  <a:lnTo>
                    <a:pt x="182" y="2890"/>
                  </a:lnTo>
                  <a:lnTo>
                    <a:pt x="200" y="2868"/>
                  </a:lnTo>
                  <a:lnTo>
                    <a:pt x="220" y="2846"/>
                  </a:lnTo>
                  <a:lnTo>
                    <a:pt x="244" y="2828"/>
                  </a:lnTo>
                  <a:lnTo>
                    <a:pt x="268" y="2810"/>
                  </a:lnTo>
                  <a:lnTo>
                    <a:pt x="292" y="2794"/>
                  </a:lnTo>
                  <a:lnTo>
                    <a:pt x="340" y="2762"/>
                  </a:lnTo>
                  <a:lnTo>
                    <a:pt x="340" y="2762"/>
                  </a:lnTo>
                  <a:lnTo>
                    <a:pt x="384" y="2742"/>
                  </a:lnTo>
                  <a:lnTo>
                    <a:pt x="408" y="2730"/>
                  </a:lnTo>
                  <a:lnTo>
                    <a:pt x="430" y="2716"/>
                  </a:lnTo>
                  <a:lnTo>
                    <a:pt x="450" y="2702"/>
                  </a:lnTo>
                  <a:lnTo>
                    <a:pt x="468" y="2684"/>
                  </a:lnTo>
                  <a:lnTo>
                    <a:pt x="484" y="2666"/>
                  </a:lnTo>
                  <a:lnTo>
                    <a:pt x="492" y="2654"/>
                  </a:lnTo>
                  <a:lnTo>
                    <a:pt x="498" y="2642"/>
                  </a:lnTo>
                  <a:lnTo>
                    <a:pt x="498" y="2642"/>
                  </a:lnTo>
                  <a:lnTo>
                    <a:pt x="508" y="2610"/>
                  </a:lnTo>
                  <a:lnTo>
                    <a:pt x="514" y="2594"/>
                  </a:lnTo>
                  <a:lnTo>
                    <a:pt x="516" y="2576"/>
                  </a:lnTo>
                  <a:lnTo>
                    <a:pt x="518" y="2556"/>
                  </a:lnTo>
                  <a:lnTo>
                    <a:pt x="516" y="2540"/>
                  </a:lnTo>
                  <a:lnTo>
                    <a:pt x="512" y="2522"/>
                  </a:lnTo>
                  <a:lnTo>
                    <a:pt x="504" y="2506"/>
                  </a:lnTo>
                  <a:lnTo>
                    <a:pt x="504" y="2506"/>
                  </a:lnTo>
                  <a:lnTo>
                    <a:pt x="506" y="2500"/>
                  </a:lnTo>
                  <a:lnTo>
                    <a:pt x="504" y="2494"/>
                  </a:lnTo>
                  <a:lnTo>
                    <a:pt x="498" y="2482"/>
                  </a:lnTo>
                  <a:lnTo>
                    <a:pt x="492" y="2474"/>
                  </a:lnTo>
                  <a:lnTo>
                    <a:pt x="488" y="2468"/>
                  </a:lnTo>
                  <a:lnTo>
                    <a:pt x="488" y="2462"/>
                  </a:lnTo>
                  <a:lnTo>
                    <a:pt x="488" y="2462"/>
                  </a:lnTo>
                  <a:lnTo>
                    <a:pt x="476" y="2446"/>
                  </a:lnTo>
                  <a:lnTo>
                    <a:pt x="464" y="2432"/>
                  </a:lnTo>
                  <a:lnTo>
                    <a:pt x="438" y="2402"/>
                  </a:lnTo>
                  <a:lnTo>
                    <a:pt x="412" y="2374"/>
                  </a:lnTo>
                  <a:lnTo>
                    <a:pt x="384" y="2346"/>
                  </a:lnTo>
                  <a:lnTo>
                    <a:pt x="372" y="2332"/>
                  </a:lnTo>
                  <a:lnTo>
                    <a:pt x="362" y="2316"/>
                  </a:lnTo>
                  <a:lnTo>
                    <a:pt x="352" y="2300"/>
                  </a:lnTo>
                  <a:lnTo>
                    <a:pt x="344" y="2284"/>
                  </a:lnTo>
                  <a:lnTo>
                    <a:pt x="338" y="2268"/>
                  </a:lnTo>
                  <a:lnTo>
                    <a:pt x="334" y="2250"/>
                  </a:lnTo>
                  <a:lnTo>
                    <a:pt x="332" y="2230"/>
                  </a:lnTo>
                  <a:lnTo>
                    <a:pt x="334" y="2210"/>
                  </a:lnTo>
                  <a:lnTo>
                    <a:pt x="338" y="2126"/>
                  </a:lnTo>
                  <a:lnTo>
                    <a:pt x="354" y="2114"/>
                  </a:lnTo>
                  <a:lnTo>
                    <a:pt x="354" y="2114"/>
                  </a:lnTo>
                  <a:lnTo>
                    <a:pt x="350" y="2118"/>
                  </a:lnTo>
                  <a:lnTo>
                    <a:pt x="346" y="2120"/>
                  </a:lnTo>
                  <a:lnTo>
                    <a:pt x="342" y="2122"/>
                  </a:lnTo>
                  <a:lnTo>
                    <a:pt x="338" y="2126"/>
                  </a:lnTo>
                  <a:lnTo>
                    <a:pt x="338" y="2126"/>
                  </a:lnTo>
                  <a:lnTo>
                    <a:pt x="342" y="2100"/>
                  </a:lnTo>
                  <a:lnTo>
                    <a:pt x="344" y="2074"/>
                  </a:lnTo>
                  <a:lnTo>
                    <a:pt x="350" y="2050"/>
                  </a:lnTo>
                  <a:lnTo>
                    <a:pt x="356" y="2026"/>
                  </a:lnTo>
                  <a:lnTo>
                    <a:pt x="366" y="2002"/>
                  </a:lnTo>
                  <a:lnTo>
                    <a:pt x="374" y="1978"/>
                  </a:lnTo>
                  <a:lnTo>
                    <a:pt x="384" y="1956"/>
                  </a:lnTo>
                  <a:lnTo>
                    <a:pt x="396" y="1932"/>
                  </a:lnTo>
                  <a:lnTo>
                    <a:pt x="410" y="1910"/>
                  </a:lnTo>
                  <a:lnTo>
                    <a:pt x="424" y="1890"/>
                  </a:lnTo>
                  <a:lnTo>
                    <a:pt x="440" y="1868"/>
                  </a:lnTo>
                  <a:lnTo>
                    <a:pt x="456" y="1848"/>
                  </a:lnTo>
                  <a:lnTo>
                    <a:pt x="492" y="1810"/>
                  </a:lnTo>
                  <a:lnTo>
                    <a:pt x="530" y="1774"/>
                  </a:lnTo>
                  <a:lnTo>
                    <a:pt x="530" y="1774"/>
                  </a:lnTo>
                  <a:lnTo>
                    <a:pt x="584" y="1740"/>
                  </a:lnTo>
                  <a:lnTo>
                    <a:pt x="638" y="1712"/>
                  </a:lnTo>
                  <a:lnTo>
                    <a:pt x="694" y="1688"/>
                  </a:lnTo>
                  <a:lnTo>
                    <a:pt x="752" y="1666"/>
                  </a:lnTo>
                  <a:lnTo>
                    <a:pt x="752" y="1666"/>
                  </a:lnTo>
                  <a:lnTo>
                    <a:pt x="770" y="1656"/>
                  </a:lnTo>
                  <a:lnTo>
                    <a:pt x="784" y="1642"/>
                  </a:lnTo>
                  <a:lnTo>
                    <a:pt x="800" y="1632"/>
                  </a:lnTo>
                  <a:lnTo>
                    <a:pt x="808" y="1626"/>
                  </a:lnTo>
                  <a:lnTo>
                    <a:pt x="816" y="1622"/>
                  </a:lnTo>
                  <a:lnTo>
                    <a:pt x="816" y="1622"/>
                  </a:lnTo>
                  <a:lnTo>
                    <a:pt x="848" y="1606"/>
                  </a:lnTo>
                  <a:lnTo>
                    <a:pt x="878" y="1590"/>
                  </a:lnTo>
                  <a:lnTo>
                    <a:pt x="934" y="1564"/>
                  </a:lnTo>
                  <a:lnTo>
                    <a:pt x="992" y="1536"/>
                  </a:lnTo>
                  <a:lnTo>
                    <a:pt x="1020" y="1522"/>
                  </a:lnTo>
                  <a:lnTo>
                    <a:pt x="1052" y="1504"/>
                  </a:lnTo>
                  <a:lnTo>
                    <a:pt x="1052" y="1504"/>
                  </a:lnTo>
                  <a:lnTo>
                    <a:pt x="1146" y="1454"/>
                  </a:lnTo>
                  <a:lnTo>
                    <a:pt x="1192" y="1430"/>
                  </a:lnTo>
                  <a:lnTo>
                    <a:pt x="1240" y="1408"/>
                  </a:lnTo>
                  <a:lnTo>
                    <a:pt x="1288" y="1388"/>
                  </a:lnTo>
                  <a:lnTo>
                    <a:pt x="1338" y="1370"/>
                  </a:lnTo>
                  <a:lnTo>
                    <a:pt x="1386" y="1352"/>
                  </a:lnTo>
                  <a:lnTo>
                    <a:pt x="1436" y="1338"/>
                  </a:lnTo>
                  <a:lnTo>
                    <a:pt x="1436" y="1338"/>
                  </a:lnTo>
                  <a:lnTo>
                    <a:pt x="1456" y="1330"/>
                  </a:lnTo>
                  <a:lnTo>
                    <a:pt x="1474" y="1320"/>
                  </a:lnTo>
                  <a:lnTo>
                    <a:pt x="1508" y="1298"/>
                  </a:lnTo>
                  <a:lnTo>
                    <a:pt x="1540" y="1272"/>
                  </a:lnTo>
                  <a:lnTo>
                    <a:pt x="1572" y="1244"/>
                  </a:lnTo>
                  <a:lnTo>
                    <a:pt x="1630" y="1186"/>
                  </a:lnTo>
                  <a:lnTo>
                    <a:pt x="1660" y="1156"/>
                  </a:lnTo>
                  <a:lnTo>
                    <a:pt x="1688" y="1128"/>
                  </a:lnTo>
                  <a:lnTo>
                    <a:pt x="1688" y="1128"/>
                  </a:lnTo>
                  <a:lnTo>
                    <a:pt x="1706" y="1096"/>
                  </a:lnTo>
                  <a:lnTo>
                    <a:pt x="1724" y="1064"/>
                  </a:lnTo>
                  <a:lnTo>
                    <a:pt x="1752" y="998"/>
                  </a:lnTo>
                  <a:lnTo>
                    <a:pt x="1778" y="932"/>
                  </a:lnTo>
                  <a:lnTo>
                    <a:pt x="1806" y="864"/>
                  </a:lnTo>
                  <a:lnTo>
                    <a:pt x="1806" y="864"/>
                  </a:lnTo>
                  <a:lnTo>
                    <a:pt x="1812" y="826"/>
                  </a:lnTo>
                  <a:lnTo>
                    <a:pt x="1816" y="786"/>
                  </a:lnTo>
                  <a:lnTo>
                    <a:pt x="1818" y="746"/>
                  </a:lnTo>
                  <a:lnTo>
                    <a:pt x="1818" y="706"/>
                  </a:lnTo>
                  <a:lnTo>
                    <a:pt x="1814" y="666"/>
                  </a:lnTo>
                  <a:lnTo>
                    <a:pt x="1810" y="628"/>
                  </a:lnTo>
                  <a:lnTo>
                    <a:pt x="1798" y="554"/>
                  </a:lnTo>
                  <a:lnTo>
                    <a:pt x="1798" y="554"/>
                  </a:lnTo>
                  <a:lnTo>
                    <a:pt x="1788" y="512"/>
                  </a:lnTo>
                  <a:lnTo>
                    <a:pt x="1774" y="474"/>
                  </a:lnTo>
                  <a:lnTo>
                    <a:pt x="1760" y="434"/>
                  </a:lnTo>
                  <a:lnTo>
                    <a:pt x="1742" y="396"/>
                  </a:lnTo>
                  <a:lnTo>
                    <a:pt x="1724" y="358"/>
                  </a:lnTo>
                  <a:lnTo>
                    <a:pt x="1704" y="320"/>
                  </a:lnTo>
                  <a:lnTo>
                    <a:pt x="1684" y="284"/>
                  </a:lnTo>
                  <a:lnTo>
                    <a:pt x="1660" y="248"/>
                  </a:lnTo>
                  <a:lnTo>
                    <a:pt x="1660" y="248"/>
                  </a:lnTo>
                  <a:lnTo>
                    <a:pt x="1642" y="232"/>
                  </a:lnTo>
                  <a:lnTo>
                    <a:pt x="1622" y="218"/>
                  </a:lnTo>
                  <a:lnTo>
                    <a:pt x="1584" y="192"/>
                  </a:lnTo>
                  <a:lnTo>
                    <a:pt x="1546" y="164"/>
                  </a:lnTo>
                  <a:lnTo>
                    <a:pt x="1530" y="148"/>
                  </a:lnTo>
                  <a:lnTo>
                    <a:pt x="1514" y="130"/>
                  </a:lnTo>
                  <a:lnTo>
                    <a:pt x="1512" y="134"/>
                  </a:lnTo>
                  <a:lnTo>
                    <a:pt x="1512" y="134"/>
                  </a:lnTo>
                  <a:lnTo>
                    <a:pt x="1506" y="132"/>
                  </a:lnTo>
                  <a:lnTo>
                    <a:pt x="1500" y="128"/>
                  </a:lnTo>
                  <a:lnTo>
                    <a:pt x="1488" y="120"/>
                  </a:lnTo>
                  <a:lnTo>
                    <a:pt x="1476" y="112"/>
                  </a:lnTo>
                  <a:lnTo>
                    <a:pt x="1462" y="106"/>
                  </a:lnTo>
                  <a:lnTo>
                    <a:pt x="1462" y="106"/>
                  </a:lnTo>
                  <a:lnTo>
                    <a:pt x="1442" y="90"/>
                  </a:lnTo>
                  <a:lnTo>
                    <a:pt x="1420" y="76"/>
                  </a:lnTo>
                  <a:lnTo>
                    <a:pt x="1376" y="52"/>
                  </a:lnTo>
                  <a:lnTo>
                    <a:pt x="1376" y="52"/>
                  </a:lnTo>
                  <a:lnTo>
                    <a:pt x="1290" y="24"/>
                  </a:lnTo>
                  <a:lnTo>
                    <a:pt x="1244" y="12"/>
                  </a:lnTo>
                  <a:lnTo>
                    <a:pt x="1196" y="4"/>
                  </a:lnTo>
                  <a:lnTo>
                    <a:pt x="1174" y="0"/>
                  </a:lnTo>
                  <a:lnTo>
                    <a:pt x="1150" y="0"/>
                  </a:lnTo>
                  <a:lnTo>
                    <a:pt x="1128" y="0"/>
                  </a:lnTo>
                  <a:lnTo>
                    <a:pt x="1104" y="4"/>
                  </a:lnTo>
                  <a:lnTo>
                    <a:pt x="1082" y="8"/>
                  </a:lnTo>
                  <a:lnTo>
                    <a:pt x="1060" y="16"/>
                  </a:lnTo>
                  <a:lnTo>
                    <a:pt x="1038" y="26"/>
                  </a:lnTo>
                  <a:lnTo>
                    <a:pt x="1018" y="38"/>
                  </a:lnTo>
                  <a:lnTo>
                    <a:pt x="948" y="64"/>
                  </a:lnTo>
                  <a:close/>
                </a:path>
              </a:pathLst>
            </a:custGeom>
            <a:solidFill>
              <a:srgbClr val="b5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9329760" y="3476160"/>
              <a:ext cx="771480" cy="32364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486" h="204">
                  <a:moveTo>
                    <a:pt x="76" y="2"/>
                  </a:moveTo>
                  <a:lnTo>
                    <a:pt x="76" y="2"/>
                  </a:lnTo>
                  <a:lnTo>
                    <a:pt x="90" y="2"/>
                  </a:lnTo>
                  <a:lnTo>
                    <a:pt x="106" y="2"/>
                  </a:lnTo>
                  <a:lnTo>
                    <a:pt x="134" y="6"/>
                  </a:lnTo>
                  <a:lnTo>
                    <a:pt x="164" y="12"/>
                  </a:lnTo>
                  <a:lnTo>
                    <a:pt x="194" y="18"/>
                  </a:lnTo>
                  <a:lnTo>
                    <a:pt x="194" y="18"/>
                  </a:lnTo>
                  <a:lnTo>
                    <a:pt x="184" y="22"/>
                  </a:lnTo>
                  <a:lnTo>
                    <a:pt x="176" y="22"/>
                  </a:lnTo>
                  <a:lnTo>
                    <a:pt x="160" y="22"/>
                  </a:lnTo>
                  <a:lnTo>
                    <a:pt x="144" y="18"/>
                  </a:lnTo>
                  <a:lnTo>
                    <a:pt x="128" y="14"/>
                  </a:lnTo>
                  <a:lnTo>
                    <a:pt x="128" y="14"/>
                  </a:lnTo>
                  <a:lnTo>
                    <a:pt x="116" y="16"/>
                  </a:lnTo>
                  <a:lnTo>
                    <a:pt x="102" y="16"/>
                  </a:lnTo>
                  <a:lnTo>
                    <a:pt x="76" y="16"/>
                  </a:lnTo>
                  <a:lnTo>
                    <a:pt x="50" y="14"/>
                  </a:lnTo>
                  <a:lnTo>
                    <a:pt x="38" y="16"/>
                  </a:lnTo>
                  <a:lnTo>
                    <a:pt x="24" y="2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46" y="20"/>
                  </a:lnTo>
                  <a:lnTo>
                    <a:pt x="80" y="18"/>
                  </a:lnTo>
                  <a:lnTo>
                    <a:pt x="116" y="20"/>
                  </a:lnTo>
                  <a:lnTo>
                    <a:pt x="154" y="24"/>
                  </a:lnTo>
                  <a:lnTo>
                    <a:pt x="158" y="32"/>
                  </a:lnTo>
                  <a:lnTo>
                    <a:pt x="158" y="32"/>
                  </a:lnTo>
                  <a:lnTo>
                    <a:pt x="124" y="30"/>
                  </a:lnTo>
                  <a:lnTo>
                    <a:pt x="90" y="30"/>
                  </a:lnTo>
                  <a:lnTo>
                    <a:pt x="54" y="30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44" y="34"/>
                  </a:lnTo>
                  <a:lnTo>
                    <a:pt x="68" y="34"/>
                  </a:lnTo>
                  <a:lnTo>
                    <a:pt x="92" y="34"/>
                  </a:lnTo>
                  <a:lnTo>
                    <a:pt x="116" y="32"/>
                  </a:lnTo>
                  <a:lnTo>
                    <a:pt x="116" y="32"/>
                  </a:lnTo>
                  <a:lnTo>
                    <a:pt x="122" y="36"/>
                  </a:lnTo>
                  <a:lnTo>
                    <a:pt x="128" y="38"/>
                  </a:lnTo>
                  <a:lnTo>
                    <a:pt x="144" y="40"/>
                  </a:lnTo>
                  <a:lnTo>
                    <a:pt x="160" y="42"/>
                  </a:lnTo>
                  <a:lnTo>
                    <a:pt x="166" y="46"/>
                  </a:lnTo>
                  <a:lnTo>
                    <a:pt x="172" y="50"/>
                  </a:lnTo>
                  <a:lnTo>
                    <a:pt x="172" y="50"/>
                  </a:lnTo>
                  <a:lnTo>
                    <a:pt x="130" y="48"/>
                  </a:lnTo>
                  <a:lnTo>
                    <a:pt x="86" y="48"/>
                  </a:lnTo>
                  <a:lnTo>
                    <a:pt x="44" y="50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2" y="52"/>
                  </a:lnTo>
                  <a:lnTo>
                    <a:pt x="84" y="52"/>
                  </a:lnTo>
                  <a:lnTo>
                    <a:pt x="106" y="54"/>
                  </a:lnTo>
                  <a:lnTo>
                    <a:pt x="126" y="56"/>
                  </a:lnTo>
                  <a:lnTo>
                    <a:pt x="146" y="60"/>
                  </a:lnTo>
                  <a:lnTo>
                    <a:pt x="164" y="68"/>
                  </a:lnTo>
                  <a:lnTo>
                    <a:pt x="164" y="68"/>
                  </a:lnTo>
                  <a:lnTo>
                    <a:pt x="82" y="62"/>
                  </a:lnTo>
                  <a:lnTo>
                    <a:pt x="40" y="64"/>
                  </a:lnTo>
                  <a:lnTo>
                    <a:pt x="20" y="66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8" y="66"/>
                  </a:lnTo>
                  <a:lnTo>
                    <a:pt x="36" y="66"/>
                  </a:lnTo>
                  <a:lnTo>
                    <a:pt x="72" y="68"/>
                  </a:lnTo>
                  <a:lnTo>
                    <a:pt x="112" y="72"/>
                  </a:lnTo>
                  <a:lnTo>
                    <a:pt x="152" y="78"/>
                  </a:lnTo>
                  <a:lnTo>
                    <a:pt x="152" y="80"/>
                  </a:lnTo>
                  <a:lnTo>
                    <a:pt x="152" y="80"/>
                  </a:lnTo>
                  <a:lnTo>
                    <a:pt x="118" y="82"/>
                  </a:lnTo>
                  <a:lnTo>
                    <a:pt x="84" y="80"/>
                  </a:lnTo>
                  <a:lnTo>
                    <a:pt x="48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84" y="86"/>
                  </a:lnTo>
                  <a:lnTo>
                    <a:pt x="116" y="90"/>
                  </a:lnTo>
                  <a:lnTo>
                    <a:pt x="146" y="96"/>
                  </a:lnTo>
                  <a:lnTo>
                    <a:pt x="178" y="102"/>
                  </a:lnTo>
                  <a:lnTo>
                    <a:pt x="206" y="112"/>
                  </a:lnTo>
                  <a:lnTo>
                    <a:pt x="236" y="126"/>
                  </a:lnTo>
                  <a:lnTo>
                    <a:pt x="266" y="144"/>
                  </a:lnTo>
                  <a:lnTo>
                    <a:pt x="266" y="144"/>
                  </a:lnTo>
                  <a:lnTo>
                    <a:pt x="282" y="152"/>
                  </a:lnTo>
                  <a:lnTo>
                    <a:pt x="298" y="162"/>
                  </a:lnTo>
                  <a:lnTo>
                    <a:pt x="330" y="180"/>
                  </a:lnTo>
                  <a:lnTo>
                    <a:pt x="352" y="204"/>
                  </a:lnTo>
                  <a:lnTo>
                    <a:pt x="352" y="204"/>
                  </a:lnTo>
                  <a:lnTo>
                    <a:pt x="346" y="190"/>
                  </a:lnTo>
                  <a:lnTo>
                    <a:pt x="336" y="180"/>
                  </a:lnTo>
                  <a:lnTo>
                    <a:pt x="326" y="170"/>
                  </a:lnTo>
                  <a:lnTo>
                    <a:pt x="316" y="160"/>
                  </a:lnTo>
                  <a:lnTo>
                    <a:pt x="272" y="128"/>
                  </a:lnTo>
                  <a:lnTo>
                    <a:pt x="272" y="128"/>
                  </a:lnTo>
                  <a:lnTo>
                    <a:pt x="276" y="124"/>
                  </a:lnTo>
                  <a:lnTo>
                    <a:pt x="278" y="124"/>
                  </a:lnTo>
                  <a:lnTo>
                    <a:pt x="284" y="124"/>
                  </a:lnTo>
                  <a:lnTo>
                    <a:pt x="292" y="128"/>
                  </a:lnTo>
                  <a:lnTo>
                    <a:pt x="296" y="130"/>
                  </a:lnTo>
                  <a:lnTo>
                    <a:pt x="296" y="130"/>
                  </a:lnTo>
                  <a:lnTo>
                    <a:pt x="334" y="158"/>
                  </a:lnTo>
                  <a:lnTo>
                    <a:pt x="354" y="172"/>
                  </a:lnTo>
                  <a:lnTo>
                    <a:pt x="370" y="188"/>
                  </a:lnTo>
                  <a:lnTo>
                    <a:pt x="374" y="184"/>
                  </a:lnTo>
                  <a:lnTo>
                    <a:pt x="374" y="184"/>
                  </a:lnTo>
                  <a:lnTo>
                    <a:pt x="366" y="176"/>
                  </a:lnTo>
                  <a:lnTo>
                    <a:pt x="356" y="166"/>
                  </a:lnTo>
                  <a:lnTo>
                    <a:pt x="336" y="150"/>
                  </a:lnTo>
                  <a:lnTo>
                    <a:pt x="316" y="136"/>
                  </a:lnTo>
                  <a:lnTo>
                    <a:pt x="306" y="128"/>
                  </a:lnTo>
                  <a:lnTo>
                    <a:pt x="298" y="118"/>
                  </a:lnTo>
                  <a:lnTo>
                    <a:pt x="298" y="118"/>
                  </a:lnTo>
                  <a:lnTo>
                    <a:pt x="310" y="122"/>
                  </a:lnTo>
                  <a:lnTo>
                    <a:pt x="324" y="128"/>
                  </a:lnTo>
                  <a:lnTo>
                    <a:pt x="336" y="136"/>
                  </a:lnTo>
                  <a:lnTo>
                    <a:pt x="346" y="144"/>
                  </a:lnTo>
                  <a:lnTo>
                    <a:pt x="370" y="164"/>
                  </a:lnTo>
                  <a:lnTo>
                    <a:pt x="394" y="180"/>
                  </a:lnTo>
                  <a:lnTo>
                    <a:pt x="394" y="180"/>
                  </a:lnTo>
                  <a:lnTo>
                    <a:pt x="358" y="142"/>
                  </a:lnTo>
                  <a:lnTo>
                    <a:pt x="340" y="126"/>
                  </a:lnTo>
                  <a:lnTo>
                    <a:pt x="330" y="118"/>
                  </a:lnTo>
                  <a:lnTo>
                    <a:pt x="320" y="112"/>
                  </a:lnTo>
                  <a:lnTo>
                    <a:pt x="320" y="112"/>
                  </a:lnTo>
                  <a:lnTo>
                    <a:pt x="334" y="114"/>
                  </a:lnTo>
                  <a:lnTo>
                    <a:pt x="346" y="118"/>
                  </a:lnTo>
                  <a:lnTo>
                    <a:pt x="356" y="124"/>
                  </a:lnTo>
                  <a:lnTo>
                    <a:pt x="368" y="132"/>
                  </a:lnTo>
                  <a:lnTo>
                    <a:pt x="390" y="152"/>
                  </a:lnTo>
                  <a:lnTo>
                    <a:pt x="402" y="160"/>
                  </a:lnTo>
                  <a:lnTo>
                    <a:pt x="414" y="168"/>
                  </a:lnTo>
                  <a:lnTo>
                    <a:pt x="414" y="168"/>
                  </a:lnTo>
                  <a:lnTo>
                    <a:pt x="408" y="160"/>
                  </a:lnTo>
                  <a:lnTo>
                    <a:pt x="400" y="152"/>
                  </a:lnTo>
                  <a:lnTo>
                    <a:pt x="378" y="136"/>
                  </a:lnTo>
                  <a:lnTo>
                    <a:pt x="354" y="120"/>
                  </a:lnTo>
                  <a:lnTo>
                    <a:pt x="344" y="112"/>
                  </a:lnTo>
                  <a:lnTo>
                    <a:pt x="334" y="102"/>
                  </a:lnTo>
                  <a:lnTo>
                    <a:pt x="334" y="102"/>
                  </a:lnTo>
                  <a:lnTo>
                    <a:pt x="340" y="102"/>
                  </a:lnTo>
                  <a:lnTo>
                    <a:pt x="348" y="106"/>
                  </a:lnTo>
                  <a:lnTo>
                    <a:pt x="356" y="108"/>
                  </a:lnTo>
                  <a:lnTo>
                    <a:pt x="362" y="110"/>
                  </a:lnTo>
                  <a:lnTo>
                    <a:pt x="362" y="110"/>
                  </a:lnTo>
                  <a:lnTo>
                    <a:pt x="384" y="124"/>
                  </a:lnTo>
                  <a:lnTo>
                    <a:pt x="406" y="142"/>
                  </a:lnTo>
                  <a:lnTo>
                    <a:pt x="448" y="176"/>
                  </a:lnTo>
                  <a:lnTo>
                    <a:pt x="448" y="172"/>
                  </a:lnTo>
                  <a:lnTo>
                    <a:pt x="448" y="172"/>
                  </a:lnTo>
                  <a:lnTo>
                    <a:pt x="420" y="148"/>
                  </a:lnTo>
                  <a:lnTo>
                    <a:pt x="406" y="134"/>
                  </a:lnTo>
                  <a:lnTo>
                    <a:pt x="392" y="122"/>
                  </a:lnTo>
                  <a:lnTo>
                    <a:pt x="396" y="116"/>
                  </a:lnTo>
                  <a:lnTo>
                    <a:pt x="486" y="186"/>
                  </a:lnTo>
                  <a:lnTo>
                    <a:pt x="486" y="186"/>
                  </a:lnTo>
                  <a:lnTo>
                    <a:pt x="446" y="146"/>
                  </a:lnTo>
                  <a:lnTo>
                    <a:pt x="424" y="128"/>
                  </a:lnTo>
                  <a:lnTo>
                    <a:pt x="404" y="112"/>
                  </a:lnTo>
                  <a:lnTo>
                    <a:pt x="404" y="112"/>
                  </a:lnTo>
                  <a:lnTo>
                    <a:pt x="412" y="114"/>
                  </a:lnTo>
                  <a:lnTo>
                    <a:pt x="420" y="116"/>
                  </a:lnTo>
                  <a:lnTo>
                    <a:pt x="434" y="124"/>
                  </a:lnTo>
                  <a:lnTo>
                    <a:pt x="448" y="136"/>
                  </a:lnTo>
                  <a:lnTo>
                    <a:pt x="462" y="144"/>
                  </a:lnTo>
                  <a:lnTo>
                    <a:pt x="462" y="144"/>
                  </a:lnTo>
                  <a:lnTo>
                    <a:pt x="456" y="134"/>
                  </a:lnTo>
                  <a:lnTo>
                    <a:pt x="446" y="126"/>
                  </a:lnTo>
                  <a:lnTo>
                    <a:pt x="436" y="120"/>
                  </a:lnTo>
                  <a:lnTo>
                    <a:pt x="424" y="114"/>
                  </a:lnTo>
                  <a:lnTo>
                    <a:pt x="400" y="104"/>
                  </a:lnTo>
                  <a:lnTo>
                    <a:pt x="386" y="98"/>
                  </a:lnTo>
                  <a:lnTo>
                    <a:pt x="376" y="92"/>
                  </a:lnTo>
                  <a:lnTo>
                    <a:pt x="376" y="92"/>
                  </a:lnTo>
                  <a:lnTo>
                    <a:pt x="362" y="82"/>
                  </a:lnTo>
                  <a:lnTo>
                    <a:pt x="346" y="72"/>
                  </a:lnTo>
                  <a:lnTo>
                    <a:pt x="314" y="54"/>
                  </a:lnTo>
                  <a:lnTo>
                    <a:pt x="282" y="38"/>
                  </a:lnTo>
                  <a:lnTo>
                    <a:pt x="250" y="24"/>
                  </a:lnTo>
                  <a:lnTo>
                    <a:pt x="250" y="24"/>
                  </a:lnTo>
                  <a:lnTo>
                    <a:pt x="230" y="14"/>
                  </a:lnTo>
                  <a:lnTo>
                    <a:pt x="208" y="6"/>
                  </a:lnTo>
                  <a:lnTo>
                    <a:pt x="186" y="2"/>
                  </a:lnTo>
                  <a:lnTo>
                    <a:pt x="162" y="0"/>
                  </a:lnTo>
                  <a:lnTo>
                    <a:pt x="118" y="2"/>
                  </a:lnTo>
                  <a:lnTo>
                    <a:pt x="76" y="2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ea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9999720" y="3828600"/>
              <a:ext cx="460080" cy="66024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290" h="416">
                  <a:moveTo>
                    <a:pt x="148" y="144"/>
                  </a:moveTo>
                  <a:lnTo>
                    <a:pt x="146" y="146"/>
                  </a:lnTo>
                  <a:lnTo>
                    <a:pt x="146" y="146"/>
                  </a:lnTo>
                  <a:lnTo>
                    <a:pt x="122" y="114"/>
                  </a:lnTo>
                  <a:lnTo>
                    <a:pt x="96" y="82"/>
                  </a:lnTo>
                  <a:lnTo>
                    <a:pt x="68" y="52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52" y="40"/>
                  </a:lnTo>
                  <a:lnTo>
                    <a:pt x="66" y="56"/>
                  </a:lnTo>
                  <a:lnTo>
                    <a:pt x="78" y="74"/>
                  </a:lnTo>
                  <a:lnTo>
                    <a:pt x="88" y="92"/>
                  </a:lnTo>
                  <a:lnTo>
                    <a:pt x="108" y="128"/>
                  </a:lnTo>
                  <a:lnTo>
                    <a:pt x="128" y="166"/>
                  </a:lnTo>
                  <a:lnTo>
                    <a:pt x="124" y="168"/>
                  </a:lnTo>
                  <a:lnTo>
                    <a:pt x="124" y="168"/>
                  </a:lnTo>
                  <a:lnTo>
                    <a:pt x="112" y="152"/>
                  </a:lnTo>
                  <a:lnTo>
                    <a:pt x="100" y="134"/>
                  </a:lnTo>
                  <a:lnTo>
                    <a:pt x="76" y="96"/>
                  </a:lnTo>
                  <a:lnTo>
                    <a:pt x="62" y="78"/>
                  </a:lnTo>
                  <a:lnTo>
                    <a:pt x="48" y="62"/>
                  </a:lnTo>
                  <a:lnTo>
                    <a:pt x="30" y="46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26" y="44"/>
                  </a:lnTo>
                  <a:lnTo>
                    <a:pt x="38" y="58"/>
                  </a:lnTo>
                  <a:lnTo>
                    <a:pt x="50" y="70"/>
                  </a:lnTo>
                  <a:lnTo>
                    <a:pt x="60" y="84"/>
                  </a:lnTo>
                  <a:lnTo>
                    <a:pt x="80" y="112"/>
                  </a:lnTo>
                  <a:lnTo>
                    <a:pt x="98" y="142"/>
                  </a:lnTo>
                  <a:lnTo>
                    <a:pt x="98" y="142"/>
                  </a:lnTo>
                  <a:lnTo>
                    <a:pt x="96" y="144"/>
                  </a:lnTo>
                  <a:lnTo>
                    <a:pt x="94" y="144"/>
                  </a:lnTo>
                  <a:lnTo>
                    <a:pt x="88" y="138"/>
                  </a:lnTo>
                  <a:lnTo>
                    <a:pt x="88" y="138"/>
                  </a:lnTo>
                  <a:lnTo>
                    <a:pt x="80" y="130"/>
                  </a:lnTo>
                  <a:lnTo>
                    <a:pt x="70" y="118"/>
                  </a:lnTo>
                  <a:lnTo>
                    <a:pt x="52" y="92"/>
                  </a:lnTo>
                  <a:lnTo>
                    <a:pt x="44" y="80"/>
                  </a:lnTo>
                  <a:lnTo>
                    <a:pt x="32" y="70"/>
                  </a:lnTo>
                  <a:lnTo>
                    <a:pt x="22" y="62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28" y="70"/>
                  </a:lnTo>
                  <a:lnTo>
                    <a:pt x="44" y="88"/>
                  </a:lnTo>
                  <a:lnTo>
                    <a:pt x="58" y="106"/>
                  </a:lnTo>
                  <a:lnTo>
                    <a:pt x="66" y="128"/>
                  </a:lnTo>
                  <a:lnTo>
                    <a:pt x="64" y="130"/>
                  </a:lnTo>
                  <a:lnTo>
                    <a:pt x="64" y="130"/>
                  </a:lnTo>
                  <a:lnTo>
                    <a:pt x="50" y="112"/>
                  </a:lnTo>
                  <a:lnTo>
                    <a:pt x="34" y="98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8" y="130"/>
                  </a:lnTo>
                  <a:lnTo>
                    <a:pt x="72" y="162"/>
                  </a:lnTo>
                  <a:lnTo>
                    <a:pt x="94" y="194"/>
                  </a:lnTo>
                  <a:lnTo>
                    <a:pt x="94" y="194"/>
                  </a:lnTo>
                  <a:lnTo>
                    <a:pt x="108" y="210"/>
                  </a:lnTo>
                  <a:lnTo>
                    <a:pt x="118" y="228"/>
                  </a:lnTo>
                  <a:lnTo>
                    <a:pt x="126" y="248"/>
                  </a:lnTo>
                  <a:lnTo>
                    <a:pt x="132" y="268"/>
                  </a:lnTo>
                  <a:lnTo>
                    <a:pt x="140" y="310"/>
                  </a:lnTo>
                  <a:lnTo>
                    <a:pt x="146" y="330"/>
                  </a:lnTo>
                  <a:lnTo>
                    <a:pt x="152" y="350"/>
                  </a:lnTo>
                  <a:lnTo>
                    <a:pt x="152" y="350"/>
                  </a:lnTo>
                  <a:lnTo>
                    <a:pt x="162" y="384"/>
                  </a:lnTo>
                  <a:lnTo>
                    <a:pt x="176" y="416"/>
                  </a:lnTo>
                  <a:lnTo>
                    <a:pt x="176" y="416"/>
                  </a:lnTo>
                  <a:lnTo>
                    <a:pt x="174" y="404"/>
                  </a:lnTo>
                  <a:lnTo>
                    <a:pt x="172" y="392"/>
                  </a:lnTo>
                  <a:lnTo>
                    <a:pt x="166" y="368"/>
                  </a:lnTo>
                  <a:lnTo>
                    <a:pt x="158" y="344"/>
                  </a:lnTo>
                  <a:lnTo>
                    <a:pt x="156" y="332"/>
                  </a:lnTo>
                  <a:lnTo>
                    <a:pt x="156" y="320"/>
                  </a:lnTo>
                  <a:lnTo>
                    <a:pt x="156" y="320"/>
                  </a:lnTo>
                  <a:lnTo>
                    <a:pt x="162" y="332"/>
                  </a:lnTo>
                  <a:lnTo>
                    <a:pt x="168" y="342"/>
                  </a:lnTo>
                  <a:lnTo>
                    <a:pt x="178" y="368"/>
                  </a:lnTo>
                  <a:lnTo>
                    <a:pt x="186" y="390"/>
                  </a:lnTo>
                  <a:lnTo>
                    <a:pt x="192" y="402"/>
                  </a:lnTo>
                  <a:lnTo>
                    <a:pt x="198" y="410"/>
                  </a:lnTo>
                  <a:lnTo>
                    <a:pt x="198" y="410"/>
                  </a:lnTo>
                  <a:lnTo>
                    <a:pt x="194" y="376"/>
                  </a:lnTo>
                  <a:lnTo>
                    <a:pt x="188" y="344"/>
                  </a:lnTo>
                  <a:lnTo>
                    <a:pt x="178" y="314"/>
                  </a:lnTo>
                  <a:lnTo>
                    <a:pt x="166" y="284"/>
                  </a:lnTo>
                  <a:lnTo>
                    <a:pt x="166" y="284"/>
                  </a:lnTo>
                  <a:lnTo>
                    <a:pt x="168" y="282"/>
                  </a:lnTo>
                  <a:lnTo>
                    <a:pt x="170" y="282"/>
                  </a:lnTo>
                  <a:lnTo>
                    <a:pt x="170" y="282"/>
                  </a:lnTo>
                  <a:lnTo>
                    <a:pt x="176" y="288"/>
                  </a:lnTo>
                  <a:lnTo>
                    <a:pt x="178" y="292"/>
                  </a:lnTo>
                  <a:lnTo>
                    <a:pt x="184" y="306"/>
                  </a:lnTo>
                  <a:lnTo>
                    <a:pt x="188" y="318"/>
                  </a:lnTo>
                  <a:lnTo>
                    <a:pt x="192" y="330"/>
                  </a:lnTo>
                  <a:lnTo>
                    <a:pt x="194" y="330"/>
                  </a:lnTo>
                  <a:lnTo>
                    <a:pt x="194" y="330"/>
                  </a:lnTo>
                  <a:lnTo>
                    <a:pt x="202" y="348"/>
                  </a:lnTo>
                  <a:lnTo>
                    <a:pt x="210" y="366"/>
                  </a:lnTo>
                  <a:lnTo>
                    <a:pt x="218" y="384"/>
                  </a:lnTo>
                  <a:lnTo>
                    <a:pt x="220" y="392"/>
                  </a:lnTo>
                  <a:lnTo>
                    <a:pt x="222" y="402"/>
                  </a:lnTo>
                  <a:lnTo>
                    <a:pt x="222" y="402"/>
                  </a:lnTo>
                  <a:lnTo>
                    <a:pt x="222" y="390"/>
                  </a:lnTo>
                  <a:lnTo>
                    <a:pt x="220" y="378"/>
                  </a:lnTo>
                  <a:lnTo>
                    <a:pt x="216" y="356"/>
                  </a:lnTo>
                  <a:lnTo>
                    <a:pt x="210" y="336"/>
                  </a:lnTo>
                  <a:lnTo>
                    <a:pt x="206" y="316"/>
                  </a:lnTo>
                  <a:lnTo>
                    <a:pt x="206" y="316"/>
                  </a:lnTo>
                  <a:lnTo>
                    <a:pt x="200" y="308"/>
                  </a:lnTo>
                  <a:lnTo>
                    <a:pt x="198" y="298"/>
                  </a:lnTo>
                  <a:lnTo>
                    <a:pt x="194" y="290"/>
                  </a:lnTo>
                  <a:lnTo>
                    <a:pt x="188" y="280"/>
                  </a:lnTo>
                  <a:lnTo>
                    <a:pt x="188" y="280"/>
                  </a:lnTo>
                  <a:lnTo>
                    <a:pt x="194" y="280"/>
                  </a:lnTo>
                  <a:lnTo>
                    <a:pt x="198" y="282"/>
                  </a:lnTo>
                  <a:lnTo>
                    <a:pt x="202" y="286"/>
                  </a:lnTo>
                  <a:lnTo>
                    <a:pt x="204" y="290"/>
                  </a:lnTo>
                  <a:lnTo>
                    <a:pt x="208" y="302"/>
                  </a:lnTo>
                  <a:lnTo>
                    <a:pt x="210" y="308"/>
                  </a:lnTo>
                  <a:lnTo>
                    <a:pt x="214" y="312"/>
                  </a:lnTo>
                  <a:lnTo>
                    <a:pt x="214" y="312"/>
                  </a:lnTo>
                  <a:lnTo>
                    <a:pt x="216" y="324"/>
                  </a:lnTo>
                  <a:lnTo>
                    <a:pt x="220" y="338"/>
                  </a:lnTo>
                  <a:lnTo>
                    <a:pt x="230" y="364"/>
                  </a:lnTo>
                  <a:lnTo>
                    <a:pt x="240" y="388"/>
                  </a:lnTo>
                  <a:lnTo>
                    <a:pt x="242" y="402"/>
                  </a:lnTo>
                  <a:lnTo>
                    <a:pt x="244" y="416"/>
                  </a:lnTo>
                  <a:lnTo>
                    <a:pt x="244" y="416"/>
                  </a:lnTo>
                  <a:lnTo>
                    <a:pt x="242" y="398"/>
                  </a:lnTo>
                  <a:lnTo>
                    <a:pt x="242" y="382"/>
                  </a:lnTo>
                  <a:lnTo>
                    <a:pt x="236" y="352"/>
                  </a:lnTo>
                  <a:lnTo>
                    <a:pt x="228" y="320"/>
                  </a:lnTo>
                  <a:lnTo>
                    <a:pt x="216" y="290"/>
                  </a:lnTo>
                  <a:lnTo>
                    <a:pt x="220" y="288"/>
                  </a:lnTo>
                  <a:lnTo>
                    <a:pt x="220" y="288"/>
                  </a:lnTo>
                  <a:lnTo>
                    <a:pt x="238" y="320"/>
                  </a:lnTo>
                  <a:lnTo>
                    <a:pt x="256" y="356"/>
                  </a:lnTo>
                  <a:lnTo>
                    <a:pt x="256" y="356"/>
                  </a:lnTo>
                  <a:lnTo>
                    <a:pt x="256" y="368"/>
                  </a:lnTo>
                  <a:lnTo>
                    <a:pt x="258" y="380"/>
                  </a:lnTo>
                  <a:lnTo>
                    <a:pt x="262" y="390"/>
                  </a:lnTo>
                  <a:lnTo>
                    <a:pt x="268" y="402"/>
                  </a:lnTo>
                  <a:lnTo>
                    <a:pt x="268" y="402"/>
                  </a:lnTo>
                  <a:lnTo>
                    <a:pt x="266" y="376"/>
                  </a:lnTo>
                  <a:lnTo>
                    <a:pt x="262" y="348"/>
                  </a:lnTo>
                  <a:lnTo>
                    <a:pt x="254" y="316"/>
                  </a:lnTo>
                  <a:lnTo>
                    <a:pt x="244" y="286"/>
                  </a:lnTo>
                  <a:lnTo>
                    <a:pt x="250" y="280"/>
                  </a:lnTo>
                  <a:lnTo>
                    <a:pt x="250" y="280"/>
                  </a:lnTo>
                  <a:lnTo>
                    <a:pt x="276" y="340"/>
                  </a:lnTo>
                  <a:lnTo>
                    <a:pt x="276" y="340"/>
                  </a:lnTo>
                  <a:lnTo>
                    <a:pt x="272" y="330"/>
                  </a:lnTo>
                  <a:lnTo>
                    <a:pt x="268" y="318"/>
                  </a:lnTo>
                  <a:lnTo>
                    <a:pt x="264" y="292"/>
                  </a:lnTo>
                  <a:lnTo>
                    <a:pt x="258" y="264"/>
                  </a:lnTo>
                  <a:lnTo>
                    <a:pt x="254" y="250"/>
                  </a:lnTo>
                  <a:lnTo>
                    <a:pt x="250" y="236"/>
                  </a:lnTo>
                  <a:lnTo>
                    <a:pt x="252" y="234"/>
                  </a:lnTo>
                  <a:lnTo>
                    <a:pt x="252" y="234"/>
                  </a:lnTo>
                  <a:lnTo>
                    <a:pt x="262" y="250"/>
                  </a:lnTo>
                  <a:lnTo>
                    <a:pt x="268" y="266"/>
                  </a:lnTo>
                  <a:lnTo>
                    <a:pt x="274" y="282"/>
                  </a:lnTo>
                  <a:lnTo>
                    <a:pt x="282" y="298"/>
                  </a:lnTo>
                  <a:lnTo>
                    <a:pt x="282" y="298"/>
                  </a:lnTo>
                  <a:lnTo>
                    <a:pt x="284" y="314"/>
                  </a:lnTo>
                  <a:lnTo>
                    <a:pt x="290" y="328"/>
                  </a:lnTo>
                  <a:lnTo>
                    <a:pt x="290" y="328"/>
                  </a:lnTo>
                  <a:lnTo>
                    <a:pt x="288" y="306"/>
                  </a:lnTo>
                  <a:lnTo>
                    <a:pt x="286" y="284"/>
                  </a:lnTo>
                  <a:lnTo>
                    <a:pt x="280" y="264"/>
                  </a:lnTo>
                  <a:lnTo>
                    <a:pt x="274" y="242"/>
                  </a:lnTo>
                  <a:lnTo>
                    <a:pt x="258" y="200"/>
                  </a:lnTo>
                  <a:lnTo>
                    <a:pt x="250" y="180"/>
                  </a:lnTo>
                  <a:lnTo>
                    <a:pt x="244" y="160"/>
                  </a:lnTo>
                  <a:lnTo>
                    <a:pt x="244" y="160"/>
                  </a:lnTo>
                  <a:lnTo>
                    <a:pt x="238" y="142"/>
                  </a:lnTo>
                  <a:lnTo>
                    <a:pt x="230" y="124"/>
                  </a:lnTo>
                  <a:lnTo>
                    <a:pt x="222" y="106"/>
                  </a:lnTo>
                  <a:lnTo>
                    <a:pt x="210" y="88"/>
                  </a:lnTo>
                  <a:lnTo>
                    <a:pt x="198" y="72"/>
                  </a:lnTo>
                  <a:lnTo>
                    <a:pt x="184" y="56"/>
                  </a:lnTo>
                  <a:lnTo>
                    <a:pt x="154" y="26"/>
                  </a:lnTo>
                  <a:lnTo>
                    <a:pt x="154" y="26"/>
                  </a:lnTo>
                  <a:lnTo>
                    <a:pt x="182" y="70"/>
                  </a:lnTo>
                  <a:lnTo>
                    <a:pt x="206" y="116"/>
                  </a:lnTo>
                  <a:lnTo>
                    <a:pt x="204" y="118"/>
                  </a:lnTo>
                  <a:lnTo>
                    <a:pt x="204" y="118"/>
                  </a:lnTo>
                  <a:lnTo>
                    <a:pt x="186" y="94"/>
                  </a:lnTo>
                  <a:lnTo>
                    <a:pt x="168" y="70"/>
                  </a:lnTo>
                  <a:lnTo>
                    <a:pt x="148" y="48"/>
                  </a:lnTo>
                  <a:lnTo>
                    <a:pt x="136" y="38"/>
                  </a:lnTo>
                  <a:lnTo>
                    <a:pt x="124" y="28"/>
                  </a:lnTo>
                  <a:lnTo>
                    <a:pt x="124" y="28"/>
                  </a:lnTo>
                  <a:lnTo>
                    <a:pt x="144" y="54"/>
                  </a:lnTo>
                  <a:lnTo>
                    <a:pt x="162" y="82"/>
                  </a:lnTo>
                  <a:lnTo>
                    <a:pt x="176" y="110"/>
                  </a:lnTo>
                  <a:lnTo>
                    <a:pt x="190" y="140"/>
                  </a:lnTo>
                  <a:lnTo>
                    <a:pt x="188" y="142"/>
                  </a:lnTo>
                  <a:lnTo>
                    <a:pt x="188" y="142"/>
                  </a:lnTo>
                  <a:lnTo>
                    <a:pt x="166" y="110"/>
                  </a:lnTo>
                  <a:lnTo>
                    <a:pt x="144" y="80"/>
                  </a:lnTo>
                  <a:lnTo>
                    <a:pt x="120" y="52"/>
                  </a:lnTo>
                  <a:lnTo>
                    <a:pt x="106" y="40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110" y="50"/>
                  </a:lnTo>
                  <a:lnTo>
                    <a:pt x="126" y="76"/>
                  </a:lnTo>
                  <a:lnTo>
                    <a:pt x="140" y="102"/>
                  </a:lnTo>
                  <a:lnTo>
                    <a:pt x="156" y="128"/>
                  </a:lnTo>
                  <a:lnTo>
                    <a:pt x="150" y="134"/>
                  </a:lnTo>
                  <a:lnTo>
                    <a:pt x="150" y="134"/>
                  </a:lnTo>
                  <a:lnTo>
                    <a:pt x="140" y="116"/>
                  </a:lnTo>
                  <a:lnTo>
                    <a:pt x="128" y="96"/>
                  </a:lnTo>
                  <a:lnTo>
                    <a:pt x="116" y="78"/>
                  </a:lnTo>
                  <a:lnTo>
                    <a:pt x="102" y="62"/>
                  </a:lnTo>
                  <a:lnTo>
                    <a:pt x="72" y="3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6" y="16"/>
                  </a:lnTo>
                  <a:lnTo>
                    <a:pt x="70" y="34"/>
                  </a:lnTo>
                  <a:lnTo>
                    <a:pt x="98" y="70"/>
                  </a:lnTo>
                  <a:lnTo>
                    <a:pt x="148" y="144"/>
                  </a:lnTo>
                  <a:lnTo>
                    <a:pt x="148" y="144"/>
                  </a:lnTo>
                  <a:close/>
                </a:path>
              </a:pathLst>
            </a:custGeom>
            <a:solidFill>
              <a:srgbClr val="ea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8024760" y="3924000"/>
              <a:ext cx="761760" cy="35856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480" h="226">
                  <a:moveTo>
                    <a:pt x="438" y="12"/>
                  </a:moveTo>
                  <a:lnTo>
                    <a:pt x="438" y="12"/>
                  </a:lnTo>
                  <a:lnTo>
                    <a:pt x="418" y="26"/>
                  </a:lnTo>
                  <a:lnTo>
                    <a:pt x="396" y="38"/>
                  </a:lnTo>
                  <a:lnTo>
                    <a:pt x="372" y="46"/>
                  </a:lnTo>
                  <a:lnTo>
                    <a:pt x="348" y="54"/>
                  </a:lnTo>
                  <a:lnTo>
                    <a:pt x="296" y="68"/>
                  </a:lnTo>
                  <a:lnTo>
                    <a:pt x="246" y="82"/>
                  </a:lnTo>
                  <a:lnTo>
                    <a:pt x="246" y="82"/>
                  </a:lnTo>
                  <a:lnTo>
                    <a:pt x="222" y="84"/>
                  </a:lnTo>
                  <a:lnTo>
                    <a:pt x="198" y="88"/>
                  </a:lnTo>
                  <a:lnTo>
                    <a:pt x="152" y="96"/>
                  </a:lnTo>
                  <a:lnTo>
                    <a:pt x="130" y="98"/>
                  </a:lnTo>
                  <a:lnTo>
                    <a:pt x="106" y="100"/>
                  </a:lnTo>
                  <a:lnTo>
                    <a:pt x="82" y="100"/>
                  </a:lnTo>
                  <a:lnTo>
                    <a:pt x="58" y="96"/>
                  </a:lnTo>
                  <a:lnTo>
                    <a:pt x="58" y="96"/>
                  </a:lnTo>
                  <a:lnTo>
                    <a:pt x="66" y="100"/>
                  </a:lnTo>
                  <a:lnTo>
                    <a:pt x="74" y="102"/>
                  </a:lnTo>
                  <a:lnTo>
                    <a:pt x="94" y="106"/>
                  </a:lnTo>
                  <a:lnTo>
                    <a:pt x="114" y="110"/>
                  </a:lnTo>
                  <a:lnTo>
                    <a:pt x="132" y="112"/>
                  </a:lnTo>
                  <a:lnTo>
                    <a:pt x="132" y="112"/>
                  </a:lnTo>
                  <a:lnTo>
                    <a:pt x="120" y="116"/>
                  </a:lnTo>
                  <a:lnTo>
                    <a:pt x="108" y="118"/>
                  </a:lnTo>
                  <a:lnTo>
                    <a:pt x="96" y="118"/>
                  </a:lnTo>
                  <a:lnTo>
                    <a:pt x="84" y="116"/>
                  </a:lnTo>
                  <a:lnTo>
                    <a:pt x="58" y="110"/>
                  </a:lnTo>
                  <a:lnTo>
                    <a:pt x="36" y="102"/>
                  </a:lnTo>
                  <a:lnTo>
                    <a:pt x="36" y="102"/>
                  </a:lnTo>
                  <a:lnTo>
                    <a:pt x="38" y="106"/>
                  </a:lnTo>
                  <a:lnTo>
                    <a:pt x="42" y="108"/>
                  </a:lnTo>
                  <a:lnTo>
                    <a:pt x="52" y="114"/>
                  </a:lnTo>
                  <a:lnTo>
                    <a:pt x="56" y="110"/>
                  </a:lnTo>
                  <a:lnTo>
                    <a:pt x="56" y="110"/>
                  </a:lnTo>
                  <a:lnTo>
                    <a:pt x="70" y="118"/>
                  </a:lnTo>
                  <a:lnTo>
                    <a:pt x="86" y="126"/>
                  </a:lnTo>
                  <a:lnTo>
                    <a:pt x="104" y="128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30" y="130"/>
                  </a:lnTo>
                  <a:lnTo>
                    <a:pt x="134" y="132"/>
                  </a:lnTo>
                  <a:lnTo>
                    <a:pt x="136" y="136"/>
                  </a:lnTo>
                  <a:lnTo>
                    <a:pt x="136" y="136"/>
                  </a:lnTo>
                  <a:lnTo>
                    <a:pt x="122" y="138"/>
                  </a:lnTo>
                  <a:lnTo>
                    <a:pt x="110" y="138"/>
                  </a:lnTo>
                  <a:lnTo>
                    <a:pt x="96" y="136"/>
                  </a:lnTo>
                  <a:lnTo>
                    <a:pt x="82" y="134"/>
                  </a:lnTo>
                  <a:lnTo>
                    <a:pt x="54" y="126"/>
                  </a:lnTo>
                  <a:lnTo>
                    <a:pt x="28" y="118"/>
                  </a:lnTo>
                  <a:lnTo>
                    <a:pt x="28" y="118"/>
                  </a:lnTo>
                  <a:lnTo>
                    <a:pt x="34" y="124"/>
                  </a:lnTo>
                  <a:lnTo>
                    <a:pt x="42" y="128"/>
                  </a:lnTo>
                  <a:lnTo>
                    <a:pt x="62" y="134"/>
                  </a:lnTo>
                  <a:lnTo>
                    <a:pt x="80" y="140"/>
                  </a:lnTo>
                  <a:lnTo>
                    <a:pt x="100" y="146"/>
                  </a:lnTo>
                  <a:lnTo>
                    <a:pt x="100" y="146"/>
                  </a:lnTo>
                  <a:lnTo>
                    <a:pt x="124" y="148"/>
                  </a:lnTo>
                  <a:lnTo>
                    <a:pt x="134" y="150"/>
                  </a:lnTo>
                  <a:lnTo>
                    <a:pt x="138" y="154"/>
                  </a:lnTo>
                  <a:lnTo>
                    <a:pt x="142" y="158"/>
                  </a:lnTo>
                  <a:lnTo>
                    <a:pt x="142" y="158"/>
                  </a:lnTo>
                  <a:lnTo>
                    <a:pt x="122" y="156"/>
                  </a:lnTo>
                  <a:lnTo>
                    <a:pt x="102" y="154"/>
                  </a:lnTo>
                  <a:lnTo>
                    <a:pt x="84" y="152"/>
                  </a:lnTo>
                  <a:lnTo>
                    <a:pt x="66" y="152"/>
                  </a:lnTo>
                  <a:lnTo>
                    <a:pt x="66" y="152"/>
                  </a:lnTo>
                  <a:lnTo>
                    <a:pt x="22" y="134"/>
                  </a:lnTo>
                  <a:lnTo>
                    <a:pt x="22" y="134"/>
                  </a:lnTo>
                  <a:lnTo>
                    <a:pt x="36" y="142"/>
                  </a:lnTo>
                  <a:lnTo>
                    <a:pt x="50" y="148"/>
                  </a:lnTo>
                  <a:lnTo>
                    <a:pt x="64" y="152"/>
                  </a:lnTo>
                  <a:lnTo>
                    <a:pt x="78" y="154"/>
                  </a:lnTo>
                  <a:lnTo>
                    <a:pt x="106" y="158"/>
                  </a:lnTo>
                  <a:lnTo>
                    <a:pt x="120" y="162"/>
                  </a:lnTo>
                  <a:lnTo>
                    <a:pt x="136" y="168"/>
                  </a:lnTo>
                  <a:lnTo>
                    <a:pt x="136" y="168"/>
                  </a:lnTo>
                  <a:lnTo>
                    <a:pt x="114" y="170"/>
                  </a:lnTo>
                  <a:lnTo>
                    <a:pt x="90" y="170"/>
                  </a:lnTo>
                  <a:lnTo>
                    <a:pt x="66" y="166"/>
                  </a:lnTo>
                  <a:lnTo>
                    <a:pt x="48" y="162"/>
                  </a:lnTo>
                  <a:lnTo>
                    <a:pt x="48" y="162"/>
                  </a:lnTo>
                  <a:lnTo>
                    <a:pt x="68" y="170"/>
                  </a:lnTo>
                  <a:lnTo>
                    <a:pt x="92" y="174"/>
                  </a:lnTo>
                  <a:lnTo>
                    <a:pt x="116" y="180"/>
                  </a:lnTo>
                  <a:lnTo>
                    <a:pt x="138" y="182"/>
                  </a:lnTo>
                  <a:lnTo>
                    <a:pt x="138" y="182"/>
                  </a:lnTo>
                  <a:lnTo>
                    <a:pt x="116" y="186"/>
                  </a:lnTo>
                  <a:lnTo>
                    <a:pt x="92" y="184"/>
                  </a:lnTo>
                  <a:lnTo>
                    <a:pt x="70" y="182"/>
                  </a:lnTo>
                  <a:lnTo>
                    <a:pt x="48" y="176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32" y="176"/>
                  </a:lnTo>
                  <a:lnTo>
                    <a:pt x="66" y="186"/>
                  </a:lnTo>
                  <a:lnTo>
                    <a:pt x="82" y="190"/>
                  </a:lnTo>
                  <a:lnTo>
                    <a:pt x="100" y="194"/>
                  </a:lnTo>
                  <a:lnTo>
                    <a:pt x="116" y="194"/>
                  </a:lnTo>
                  <a:lnTo>
                    <a:pt x="132" y="194"/>
                  </a:lnTo>
                  <a:lnTo>
                    <a:pt x="132" y="194"/>
                  </a:lnTo>
                  <a:lnTo>
                    <a:pt x="132" y="196"/>
                  </a:lnTo>
                  <a:lnTo>
                    <a:pt x="130" y="198"/>
                  </a:lnTo>
                  <a:lnTo>
                    <a:pt x="124" y="200"/>
                  </a:lnTo>
                  <a:lnTo>
                    <a:pt x="118" y="202"/>
                  </a:lnTo>
                  <a:lnTo>
                    <a:pt x="110" y="204"/>
                  </a:lnTo>
                  <a:lnTo>
                    <a:pt x="110" y="204"/>
                  </a:lnTo>
                  <a:lnTo>
                    <a:pt x="96" y="204"/>
                  </a:lnTo>
                  <a:lnTo>
                    <a:pt x="84" y="202"/>
                  </a:lnTo>
                  <a:lnTo>
                    <a:pt x="60" y="198"/>
                  </a:lnTo>
                  <a:lnTo>
                    <a:pt x="38" y="190"/>
                  </a:lnTo>
                  <a:lnTo>
                    <a:pt x="16" y="182"/>
                  </a:lnTo>
                  <a:lnTo>
                    <a:pt x="16" y="182"/>
                  </a:lnTo>
                  <a:lnTo>
                    <a:pt x="30" y="190"/>
                  </a:lnTo>
                  <a:lnTo>
                    <a:pt x="44" y="196"/>
                  </a:lnTo>
                  <a:lnTo>
                    <a:pt x="58" y="202"/>
                  </a:lnTo>
                  <a:lnTo>
                    <a:pt x="74" y="206"/>
                  </a:lnTo>
                  <a:lnTo>
                    <a:pt x="92" y="210"/>
                  </a:lnTo>
                  <a:lnTo>
                    <a:pt x="108" y="210"/>
                  </a:lnTo>
                  <a:lnTo>
                    <a:pt x="126" y="210"/>
                  </a:lnTo>
                  <a:lnTo>
                    <a:pt x="142" y="206"/>
                  </a:lnTo>
                  <a:lnTo>
                    <a:pt x="142" y="206"/>
                  </a:lnTo>
                  <a:lnTo>
                    <a:pt x="146" y="210"/>
                  </a:lnTo>
                  <a:lnTo>
                    <a:pt x="146" y="214"/>
                  </a:lnTo>
                  <a:lnTo>
                    <a:pt x="142" y="220"/>
                  </a:lnTo>
                  <a:lnTo>
                    <a:pt x="142" y="220"/>
                  </a:lnTo>
                  <a:lnTo>
                    <a:pt x="128" y="218"/>
                  </a:lnTo>
                  <a:lnTo>
                    <a:pt x="116" y="220"/>
                  </a:lnTo>
                  <a:lnTo>
                    <a:pt x="102" y="220"/>
                  </a:lnTo>
                  <a:lnTo>
                    <a:pt x="86" y="220"/>
                  </a:lnTo>
                  <a:lnTo>
                    <a:pt x="86" y="220"/>
                  </a:lnTo>
                  <a:lnTo>
                    <a:pt x="110" y="224"/>
                  </a:lnTo>
                  <a:lnTo>
                    <a:pt x="132" y="226"/>
                  </a:lnTo>
                  <a:lnTo>
                    <a:pt x="154" y="226"/>
                  </a:lnTo>
                  <a:lnTo>
                    <a:pt x="176" y="226"/>
                  </a:lnTo>
                  <a:lnTo>
                    <a:pt x="198" y="222"/>
                  </a:lnTo>
                  <a:lnTo>
                    <a:pt x="220" y="216"/>
                  </a:lnTo>
                  <a:lnTo>
                    <a:pt x="240" y="210"/>
                  </a:lnTo>
                  <a:lnTo>
                    <a:pt x="262" y="200"/>
                  </a:lnTo>
                  <a:lnTo>
                    <a:pt x="262" y="200"/>
                  </a:lnTo>
                  <a:lnTo>
                    <a:pt x="254" y="204"/>
                  </a:lnTo>
                  <a:lnTo>
                    <a:pt x="246" y="204"/>
                  </a:lnTo>
                  <a:lnTo>
                    <a:pt x="226" y="204"/>
                  </a:lnTo>
                  <a:lnTo>
                    <a:pt x="204" y="202"/>
                  </a:lnTo>
                  <a:lnTo>
                    <a:pt x="182" y="202"/>
                  </a:lnTo>
                  <a:lnTo>
                    <a:pt x="182" y="202"/>
                  </a:lnTo>
                  <a:lnTo>
                    <a:pt x="196" y="198"/>
                  </a:lnTo>
                  <a:lnTo>
                    <a:pt x="212" y="198"/>
                  </a:lnTo>
                  <a:lnTo>
                    <a:pt x="228" y="196"/>
                  </a:lnTo>
                  <a:lnTo>
                    <a:pt x="236" y="194"/>
                  </a:lnTo>
                  <a:lnTo>
                    <a:pt x="242" y="190"/>
                  </a:lnTo>
                  <a:lnTo>
                    <a:pt x="242" y="190"/>
                  </a:lnTo>
                  <a:lnTo>
                    <a:pt x="264" y="186"/>
                  </a:lnTo>
                  <a:lnTo>
                    <a:pt x="284" y="180"/>
                  </a:lnTo>
                  <a:lnTo>
                    <a:pt x="304" y="172"/>
                  </a:lnTo>
                  <a:lnTo>
                    <a:pt x="322" y="162"/>
                  </a:lnTo>
                  <a:lnTo>
                    <a:pt x="322" y="162"/>
                  </a:lnTo>
                  <a:lnTo>
                    <a:pt x="290" y="172"/>
                  </a:lnTo>
                  <a:lnTo>
                    <a:pt x="274" y="176"/>
                  </a:lnTo>
                  <a:lnTo>
                    <a:pt x="258" y="176"/>
                  </a:lnTo>
                  <a:lnTo>
                    <a:pt x="258" y="170"/>
                  </a:lnTo>
                  <a:lnTo>
                    <a:pt x="258" y="170"/>
                  </a:lnTo>
                  <a:lnTo>
                    <a:pt x="296" y="158"/>
                  </a:lnTo>
                  <a:lnTo>
                    <a:pt x="316" y="150"/>
                  </a:lnTo>
                  <a:lnTo>
                    <a:pt x="324" y="146"/>
                  </a:lnTo>
                  <a:lnTo>
                    <a:pt x="332" y="140"/>
                  </a:lnTo>
                  <a:lnTo>
                    <a:pt x="332" y="140"/>
                  </a:lnTo>
                  <a:lnTo>
                    <a:pt x="334" y="142"/>
                  </a:lnTo>
                  <a:lnTo>
                    <a:pt x="336" y="142"/>
                  </a:lnTo>
                  <a:lnTo>
                    <a:pt x="342" y="138"/>
                  </a:lnTo>
                  <a:lnTo>
                    <a:pt x="348" y="136"/>
                  </a:lnTo>
                  <a:lnTo>
                    <a:pt x="354" y="134"/>
                  </a:lnTo>
                  <a:lnTo>
                    <a:pt x="354" y="134"/>
                  </a:lnTo>
                  <a:lnTo>
                    <a:pt x="344" y="134"/>
                  </a:lnTo>
                  <a:lnTo>
                    <a:pt x="332" y="136"/>
                  </a:lnTo>
                  <a:lnTo>
                    <a:pt x="312" y="142"/>
                  </a:lnTo>
                  <a:lnTo>
                    <a:pt x="302" y="146"/>
                  </a:lnTo>
                  <a:lnTo>
                    <a:pt x="292" y="146"/>
                  </a:lnTo>
                  <a:lnTo>
                    <a:pt x="280" y="146"/>
                  </a:lnTo>
                  <a:lnTo>
                    <a:pt x="270" y="144"/>
                  </a:lnTo>
                  <a:lnTo>
                    <a:pt x="270" y="144"/>
                  </a:lnTo>
                  <a:lnTo>
                    <a:pt x="274" y="140"/>
                  </a:lnTo>
                  <a:lnTo>
                    <a:pt x="278" y="138"/>
                  </a:lnTo>
                  <a:lnTo>
                    <a:pt x="292" y="138"/>
                  </a:lnTo>
                  <a:lnTo>
                    <a:pt x="292" y="138"/>
                  </a:lnTo>
                  <a:lnTo>
                    <a:pt x="322" y="128"/>
                  </a:lnTo>
                  <a:lnTo>
                    <a:pt x="352" y="120"/>
                  </a:lnTo>
                  <a:lnTo>
                    <a:pt x="366" y="114"/>
                  </a:lnTo>
                  <a:lnTo>
                    <a:pt x="380" y="108"/>
                  </a:lnTo>
                  <a:lnTo>
                    <a:pt x="394" y="100"/>
                  </a:lnTo>
                  <a:lnTo>
                    <a:pt x="406" y="92"/>
                  </a:lnTo>
                  <a:lnTo>
                    <a:pt x="408" y="94"/>
                  </a:lnTo>
                  <a:lnTo>
                    <a:pt x="408" y="94"/>
                  </a:lnTo>
                  <a:lnTo>
                    <a:pt x="430" y="84"/>
                  </a:lnTo>
                  <a:lnTo>
                    <a:pt x="448" y="72"/>
                  </a:lnTo>
                  <a:lnTo>
                    <a:pt x="466" y="58"/>
                  </a:lnTo>
                  <a:lnTo>
                    <a:pt x="480" y="42"/>
                  </a:lnTo>
                  <a:lnTo>
                    <a:pt x="480" y="42"/>
                  </a:lnTo>
                  <a:lnTo>
                    <a:pt x="438" y="72"/>
                  </a:lnTo>
                  <a:lnTo>
                    <a:pt x="418" y="84"/>
                  </a:lnTo>
                  <a:lnTo>
                    <a:pt x="396" y="96"/>
                  </a:lnTo>
                  <a:lnTo>
                    <a:pt x="372" y="106"/>
                  </a:lnTo>
                  <a:lnTo>
                    <a:pt x="348" y="114"/>
                  </a:lnTo>
                  <a:lnTo>
                    <a:pt x="324" y="120"/>
                  </a:lnTo>
                  <a:lnTo>
                    <a:pt x="300" y="122"/>
                  </a:lnTo>
                  <a:lnTo>
                    <a:pt x="300" y="122"/>
                  </a:lnTo>
                  <a:lnTo>
                    <a:pt x="300" y="118"/>
                  </a:lnTo>
                  <a:lnTo>
                    <a:pt x="302" y="116"/>
                  </a:lnTo>
                  <a:lnTo>
                    <a:pt x="306" y="114"/>
                  </a:lnTo>
                  <a:lnTo>
                    <a:pt x="306" y="114"/>
                  </a:lnTo>
                  <a:lnTo>
                    <a:pt x="320" y="112"/>
                  </a:lnTo>
                  <a:lnTo>
                    <a:pt x="336" y="108"/>
                  </a:lnTo>
                  <a:lnTo>
                    <a:pt x="364" y="98"/>
                  </a:lnTo>
                  <a:lnTo>
                    <a:pt x="364" y="98"/>
                  </a:lnTo>
                  <a:lnTo>
                    <a:pt x="400" y="78"/>
                  </a:lnTo>
                  <a:lnTo>
                    <a:pt x="420" y="68"/>
                  </a:lnTo>
                  <a:lnTo>
                    <a:pt x="438" y="56"/>
                  </a:lnTo>
                  <a:lnTo>
                    <a:pt x="438" y="56"/>
                  </a:lnTo>
                  <a:lnTo>
                    <a:pt x="396" y="76"/>
                  </a:lnTo>
                  <a:lnTo>
                    <a:pt x="374" y="86"/>
                  </a:lnTo>
                  <a:lnTo>
                    <a:pt x="350" y="96"/>
                  </a:lnTo>
                  <a:lnTo>
                    <a:pt x="350" y="96"/>
                  </a:lnTo>
                  <a:lnTo>
                    <a:pt x="338" y="100"/>
                  </a:lnTo>
                  <a:lnTo>
                    <a:pt x="324" y="104"/>
                  </a:lnTo>
                  <a:lnTo>
                    <a:pt x="318" y="104"/>
                  </a:lnTo>
                  <a:lnTo>
                    <a:pt x="312" y="104"/>
                  </a:lnTo>
                  <a:lnTo>
                    <a:pt x="306" y="102"/>
                  </a:lnTo>
                  <a:lnTo>
                    <a:pt x="302" y="98"/>
                  </a:lnTo>
                  <a:lnTo>
                    <a:pt x="302" y="98"/>
                  </a:lnTo>
                  <a:lnTo>
                    <a:pt x="342" y="84"/>
                  </a:lnTo>
                  <a:lnTo>
                    <a:pt x="382" y="68"/>
                  </a:lnTo>
                  <a:lnTo>
                    <a:pt x="402" y="60"/>
                  </a:lnTo>
                  <a:lnTo>
                    <a:pt x="422" y="50"/>
                  </a:lnTo>
                  <a:lnTo>
                    <a:pt x="440" y="38"/>
                  </a:lnTo>
                  <a:lnTo>
                    <a:pt x="458" y="22"/>
                  </a:lnTo>
                  <a:lnTo>
                    <a:pt x="458" y="22"/>
                  </a:lnTo>
                  <a:lnTo>
                    <a:pt x="438" y="36"/>
                  </a:lnTo>
                  <a:lnTo>
                    <a:pt x="416" y="46"/>
                  </a:lnTo>
                  <a:lnTo>
                    <a:pt x="396" y="56"/>
                  </a:lnTo>
                  <a:lnTo>
                    <a:pt x="374" y="64"/>
                  </a:lnTo>
                  <a:lnTo>
                    <a:pt x="332" y="76"/>
                  </a:lnTo>
                  <a:lnTo>
                    <a:pt x="290" y="84"/>
                  </a:lnTo>
                  <a:lnTo>
                    <a:pt x="290" y="84"/>
                  </a:lnTo>
                  <a:lnTo>
                    <a:pt x="318" y="72"/>
                  </a:lnTo>
                  <a:lnTo>
                    <a:pt x="348" y="62"/>
                  </a:lnTo>
                  <a:lnTo>
                    <a:pt x="378" y="52"/>
                  </a:lnTo>
                  <a:lnTo>
                    <a:pt x="392" y="46"/>
                  </a:lnTo>
                  <a:lnTo>
                    <a:pt x="406" y="38"/>
                  </a:lnTo>
                  <a:lnTo>
                    <a:pt x="464" y="0"/>
                  </a:lnTo>
                  <a:lnTo>
                    <a:pt x="464" y="0"/>
                  </a:lnTo>
                  <a:lnTo>
                    <a:pt x="460" y="0"/>
                  </a:lnTo>
                  <a:lnTo>
                    <a:pt x="456" y="2"/>
                  </a:lnTo>
                  <a:lnTo>
                    <a:pt x="450" y="8"/>
                  </a:lnTo>
                  <a:lnTo>
                    <a:pt x="444" y="12"/>
                  </a:lnTo>
                  <a:lnTo>
                    <a:pt x="442" y="12"/>
                  </a:lnTo>
                  <a:lnTo>
                    <a:pt x="438" y="12"/>
                  </a:lnTo>
                  <a:lnTo>
                    <a:pt x="438" y="12"/>
                  </a:lnTo>
                  <a:close/>
                </a:path>
              </a:pathLst>
            </a:custGeom>
            <a:solidFill>
              <a:srgbClr val="ea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9990360" y="4530600"/>
              <a:ext cx="492120" cy="87948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10" h="554">
                  <a:moveTo>
                    <a:pt x="192" y="184"/>
                  </a:moveTo>
                  <a:lnTo>
                    <a:pt x="192" y="184"/>
                  </a:lnTo>
                  <a:lnTo>
                    <a:pt x="188" y="180"/>
                  </a:lnTo>
                  <a:lnTo>
                    <a:pt x="186" y="176"/>
                  </a:lnTo>
                  <a:lnTo>
                    <a:pt x="188" y="166"/>
                  </a:lnTo>
                  <a:lnTo>
                    <a:pt x="190" y="154"/>
                  </a:lnTo>
                  <a:lnTo>
                    <a:pt x="190" y="140"/>
                  </a:lnTo>
                  <a:lnTo>
                    <a:pt x="190" y="140"/>
                  </a:lnTo>
                  <a:lnTo>
                    <a:pt x="192" y="128"/>
                  </a:lnTo>
                  <a:lnTo>
                    <a:pt x="192" y="116"/>
                  </a:lnTo>
                  <a:lnTo>
                    <a:pt x="190" y="90"/>
                  </a:lnTo>
                  <a:lnTo>
                    <a:pt x="188" y="66"/>
                  </a:lnTo>
                  <a:lnTo>
                    <a:pt x="186" y="56"/>
                  </a:lnTo>
                  <a:lnTo>
                    <a:pt x="188" y="44"/>
                  </a:lnTo>
                  <a:lnTo>
                    <a:pt x="188" y="44"/>
                  </a:lnTo>
                  <a:lnTo>
                    <a:pt x="180" y="78"/>
                  </a:lnTo>
                  <a:lnTo>
                    <a:pt x="176" y="114"/>
                  </a:lnTo>
                  <a:lnTo>
                    <a:pt x="170" y="184"/>
                  </a:lnTo>
                  <a:lnTo>
                    <a:pt x="168" y="220"/>
                  </a:lnTo>
                  <a:lnTo>
                    <a:pt x="162" y="254"/>
                  </a:lnTo>
                  <a:lnTo>
                    <a:pt x="156" y="270"/>
                  </a:lnTo>
                  <a:lnTo>
                    <a:pt x="150" y="286"/>
                  </a:lnTo>
                  <a:lnTo>
                    <a:pt x="142" y="302"/>
                  </a:lnTo>
                  <a:lnTo>
                    <a:pt x="134" y="316"/>
                  </a:lnTo>
                  <a:lnTo>
                    <a:pt x="134" y="316"/>
                  </a:lnTo>
                  <a:lnTo>
                    <a:pt x="116" y="360"/>
                  </a:lnTo>
                  <a:lnTo>
                    <a:pt x="108" y="382"/>
                  </a:lnTo>
                  <a:lnTo>
                    <a:pt x="98" y="402"/>
                  </a:lnTo>
                  <a:lnTo>
                    <a:pt x="100" y="404"/>
                  </a:lnTo>
                  <a:lnTo>
                    <a:pt x="100" y="404"/>
                  </a:lnTo>
                  <a:lnTo>
                    <a:pt x="96" y="404"/>
                  </a:lnTo>
                  <a:lnTo>
                    <a:pt x="94" y="406"/>
                  </a:lnTo>
                  <a:lnTo>
                    <a:pt x="90" y="412"/>
                  </a:lnTo>
                  <a:lnTo>
                    <a:pt x="88" y="418"/>
                  </a:lnTo>
                  <a:lnTo>
                    <a:pt x="84" y="424"/>
                  </a:lnTo>
                  <a:lnTo>
                    <a:pt x="84" y="424"/>
                  </a:lnTo>
                  <a:lnTo>
                    <a:pt x="82" y="432"/>
                  </a:lnTo>
                  <a:lnTo>
                    <a:pt x="78" y="438"/>
                  </a:lnTo>
                  <a:lnTo>
                    <a:pt x="66" y="454"/>
                  </a:lnTo>
                  <a:lnTo>
                    <a:pt x="66" y="454"/>
                  </a:lnTo>
                  <a:lnTo>
                    <a:pt x="34" y="504"/>
                  </a:lnTo>
                  <a:lnTo>
                    <a:pt x="18" y="528"/>
                  </a:lnTo>
                  <a:lnTo>
                    <a:pt x="0" y="550"/>
                  </a:lnTo>
                  <a:lnTo>
                    <a:pt x="0" y="550"/>
                  </a:lnTo>
                  <a:lnTo>
                    <a:pt x="34" y="508"/>
                  </a:lnTo>
                  <a:lnTo>
                    <a:pt x="66" y="468"/>
                  </a:lnTo>
                  <a:lnTo>
                    <a:pt x="96" y="424"/>
                  </a:lnTo>
                  <a:lnTo>
                    <a:pt x="110" y="402"/>
                  </a:lnTo>
                  <a:lnTo>
                    <a:pt x="124" y="378"/>
                  </a:lnTo>
                  <a:lnTo>
                    <a:pt x="124" y="378"/>
                  </a:lnTo>
                  <a:lnTo>
                    <a:pt x="116" y="404"/>
                  </a:lnTo>
                  <a:lnTo>
                    <a:pt x="106" y="426"/>
                  </a:lnTo>
                  <a:lnTo>
                    <a:pt x="92" y="448"/>
                  </a:lnTo>
                  <a:lnTo>
                    <a:pt x="78" y="470"/>
                  </a:lnTo>
                  <a:lnTo>
                    <a:pt x="44" y="510"/>
                  </a:lnTo>
                  <a:lnTo>
                    <a:pt x="28" y="532"/>
                  </a:lnTo>
                  <a:lnTo>
                    <a:pt x="12" y="554"/>
                  </a:lnTo>
                  <a:lnTo>
                    <a:pt x="12" y="554"/>
                  </a:lnTo>
                  <a:lnTo>
                    <a:pt x="32" y="534"/>
                  </a:lnTo>
                  <a:lnTo>
                    <a:pt x="50" y="512"/>
                  </a:lnTo>
                  <a:lnTo>
                    <a:pt x="68" y="492"/>
                  </a:lnTo>
                  <a:lnTo>
                    <a:pt x="84" y="470"/>
                  </a:lnTo>
                  <a:lnTo>
                    <a:pt x="114" y="426"/>
                  </a:lnTo>
                  <a:lnTo>
                    <a:pt x="142" y="380"/>
                  </a:lnTo>
                  <a:lnTo>
                    <a:pt x="142" y="380"/>
                  </a:lnTo>
                  <a:lnTo>
                    <a:pt x="138" y="394"/>
                  </a:lnTo>
                  <a:lnTo>
                    <a:pt x="132" y="410"/>
                  </a:lnTo>
                  <a:lnTo>
                    <a:pt x="124" y="424"/>
                  </a:lnTo>
                  <a:lnTo>
                    <a:pt x="120" y="440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00" y="468"/>
                  </a:lnTo>
                  <a:lnTo>
                    <a:pt x="108" y="464"/>
                  </a:lnTo>
                  <a:lnTo>
                    <a:pt x="112" y="458"/>
                  </a:lnTo>
                  <a:lnTo>
                    <a:pt x="112" y="458"/>
                  </a:lnTo>
                  <a:lnTo>
                    <a:pt x="112" y="452"/>
                  </a:lnTo>
                  <a:lnTo>
                    <a:pt x="114" y="450"/>
                  </a:lnTo>
                  <a:lnTo>
                    <a:pt x="118" y="448"/>
                  </a:lnTo>
                  <a:lnTo>
                    <a:pt x="120" y="446"/>
                  </a:lnTo>
                  <a:lnTo>
                    <a:pt x="120" y="446"/>
                  </a:lnTo>
                  <a:lnTo>
                    <a:pt x="134" y="422"/>
                  </a:lnTo>
                  <a:lnTo>
                    <a:pt x="146" y="398"/>
                  </a:lnTo>
                  <a:lnTo>
                    <a:pt x="158" y="372"/>
                  </a:lnTo>
                  <a:lnTo>
                    <a:pt x="172" y="348"/>
                  </a:lnTo>
                  <a:lnTo>
                    <a:pt x="174" y="352"/>
                  </a:lnTo>
                  <a:lnTo>
                    <a:pt x="174" y="352"/>
                  </a:lnTo>
                  <a:lnTo>
                    <a:pt x="174" y="352"/>
                  </a:lnTo>
                  <a:lnTo>
                    <a:pt x="174" y="350"/>
                  </a:lnTo>
                  <a:lnTo>
                    <a:pt x="176" y="344"/>
                  </a:lnTo>
                  <a:lnTo>
                    <a:pt x="184" y="326"/>
                  </a:lnTo>
                  <a:lnTo>
                    <a:pt x="188" y="326"/>
                  </a:lnTo>
                  <a:lnTo>
                    <a:pt x="188" y="326"/>
                  </a:lnTo>
                  <a:lnTo>
                    <a:pt x="186" y="346"/>
                  </a:lnTo>
                  <a:lnTo>
                    <a:pt x="182" y="366"/>
                  </a:lnTo>
                  <a:lnTo>
                    <a:pt x="176" y="384"/>
                  </a:lnTo>
                  <a:lnTo>
                    <a:pt x="168" y="404"/>
                  </a:lnTo>
                  <a:lnTo>
                    <a:pt x="152" y="442"/>
                  </a:lnTo>
                  <a:lnTo>
                    <a:pt x="132" y="478"/>
                  </a:lnTo>
                  <a:lnTo>
                    <a:pt x="132" y="478"/>
                  </a:lnTo>
                  <a:lnTo>
                    <a:pt x="160" y="436"/>
                  </a:lnTo>
                  <a:lnTo>
                    <a:pt x="186" y="394"/>
                  </a:lnTo>
                  <a:lnTo>
                    <a:pt x="198" y="372"/>
                  </a:lnTo>
                  <a:lnTo>
                    <a:pt x="206" y="348"/>
                  </a:lnTo>
                  <a:lnTo>
                    <a:pt x="214" y="324"/>
                  </a:lnTo>
                  <a:lnTo>
                    <a:pt x="216" y="298"/>
                  </a:lnTo>
                  <a:lnTo>
                    <a:pt x="222" y="294"/>
                  </a:lnTo>
                  <a:lnTo>
                    <a:pt x="222" y="294"/>
                  </a:lnTo>
                  <a:lnTo>
                    <a:pt x="218" y="326"/>
                  </a:lnTo>
                  <a:lnTo>
                    <a:pt x="212" y="358"/>
                  </a:lnTo>
                  <a:lnTo>
                    <a:pt x="202" y="388"/>
                  </a:lnTo>
                  <a:lnTo>
                    <a:pt x="190" y="418"/>
                  </a:lnTo>
                  <a:lnTo>
                    <a:pt x="190" y="418"/>
                  </a:lnTo>
                  <a:lnTo>
                    <a:pt x="186" y="426"/>
                  </a:lnTo>
                  <a:lnTo>
                    <a:pt x="180" y="436"/>
                  </a:lnTo>
                  <a:lnTo>
                    <a:pt x="168" y="454"/>
                  </a:lnTo>
                  <a:lnTo>
                    <a:pt x="168" y="454"/>
                  </a:lnTo>
                  <a:lnTo>
                    <a:pt x="182" y="436"/>
                  </a:lnTo>
                  <a:lnTo>
                    <a:pt x="192" y="418"/>
                  </a:lnTo>
                  <a:lnTo>
                    <a:pt x="202" y="398"/>
                  </a:lnTo>
                  <a:lnTo>
                    <a:pt x="210" y="374"/>
                  </a:lnTo>
                  <a:lnTo>
                    <a:pt x="226" y="330"/>
                  </a:lnTo>
                  <a:lnTo>
                    <a:pt x="242" y="286"/>
                  </a:lnTo>
                  <a:lnTo>
                    <a:pt x="242" y="286"/>
                  </a:lnTo>
                  <a:lnTo>
                    <a:pt x="242" y="298"/>
                  </a:lnTo>
                  <a:lnTo>
                    <a:pt x="240" y="308"/>
                  </a:lnTo>
                  <a:lnTo>
                    <a:pt x="234" y="332"/>
                  </a:lnTo>
                  <a:lnTo>
                    <a:pt x="228" y="356"/>
                  </a:lnTo>
                  <a:lnTo>
                    <a:pt x="226" y="368"/>
                  </a:lnTo>
                  <a:lnTo>
                    <a:pt x="224" y="382"/>
                  </a:lnTo>
                  <a:lnTo>
                    <a:pt x="224" y="382"/>
                  </a:lnTo>
                  <a:lnTo>
                    <a:pt x="238" y="338"/>
                  </a:lnTo>
                  <a:lnTo>
                    <a:pt x="250" y="296"/>
                  </a:lnTo>
                  <a:lnTo>
                    <a:pt x="262" y="252"/>
                  </a:lnTo>
                  <a:lnTo>
                    <a:pt x="270" y="232"/>
                  </a:lnTo>
                  <a:lnTo>
                    <a:pt x="278" y="210"/>
                  </a:lnTo>
                  <a:lnTo>
                    <a:pt x="276" y="244"/>
                  </a:lnTo>
                  <a:lnTo>
                    <a:pt x="276" y="244"/>
                  </a:lnTo>
                  <a:lnTo>
                    <a:pt x="286" y="226"/>
                  </a:lnTo>
                  <a:lnTo>
                    <a:pt x="292" y="208"/>
                  </a:lnTo>
                  <a:lnTo>
                    <a:pt x="298" y="190"/>
                  </a:lnTo>
                  <a:lnTo>
                    <a:pt x="302" y="170"/>
                  </a:lnTo>
                  <a:lnTo>
                    <a:pt x="306" y="128"/>
                  </a:lnTo>
                  <a:lnTo>
                    <a:pt x="310" y="86"/>
                  </a:lnTo>
                  <a:lnTo>
                    <a:pt x="310" y="86"/>
                  </a:lnTo>
                  <a:lnTo>
                    <a:pt x="306" y="112"/>
                  </a:lnTo>
                  <a:lnTo>
                    <a:pt x="302" y="136"/>
                  </a:lnTo>
                  <a:lnTo>
                    <a:pt x="296" y="160"/>
                  </a:lnTo>
                  <a:lnTo>
                    <a:pt x="288" y="184"/>
                  </a:lnTo>
                  <a:lnTo>
                    <a:pt x="288" y="184"/>
                  </a:lnTo>
                  <a:lnTo>
                    <a:pt x="284" y="180"/>
                  </a:lnTo>
                  <a:lnTo>
                    <a:pt x="284" y="176"/>
                  </a:lnTo>
                  <a:lnTo>
                    <a:pt x="284" y="168"/>
                  </a:lnTo>
                  <a:lnTo>
                    <a:pt x="288" y="160"/>
                  </a:lnTo>
                  <a:lnTo>
                    <a:pt x="290" y="152"/>
                  </a:lnTo>
                  <a:lnTo>
                    <a:pt x="290" y="152"/>
                  </a:lnTo>
                  <a:lnTo>
                    <a:pt x="294" y="118"/>
                  </a:lnTo>
                  <a:lnTo>
                    <a:pt x="296" y="100"/>
                  </a:lnTo>
                  <a:lnTo>
                    <a:pt x="298" y="82"/>
                  </a:lnTo>
                  <a:lnTo>
                    <a:pt x="298" y="82"/>
                  </a:lnTo>
                  <a:lnTo>
                    <a:pt x="292" y="106"/>
                  </a:lnTo>
                  <a:lnTo>
                    <a:pt x="284" y="128"/>
                  </a:lnTo>
                  <a:lnTo>
                    <a:pt x="278" y="150"/>
                  </a:lnTo>
                  <a:lnTo>
                    <a:pt x="276" y="174"/>
                  </a:lnTo>
                  <a:lnTo>
                    <a:pt x="276" y="174"/>
                  </a:lnTo>
                  <a:lnTo>
                    <a:pt x="272" y="188"/>
                  </a:lnTo>
                  <a:lnTo>
                    <a:pt x="266" y="202"/>
                  </a:lnTo>
                  <a:lnTo>
                    <a:pt x="258" y="214"/>
                  </a:lnTo>
                  <a:lnTo>
                    <a:pt x="254" y="220"/>
                  </a:lnTo>
                  <a:lnTo>
                    <a:pt x="248" y="224"/>
                  </a:lnTo>
                  <a:lnTo>
                    <a:pt x="248" y="224"/>
                  </a:lnTo>
                  <a:lnTo>
                    <a:pt x="256" y="200"/>
                  </a:lnTo>
                  <a:lnTo>
                    <a:pt x="260" y="188"/>
                  </a:lnTo>
                  <a:lnTo>
                    <a:pt x="260" y="174"/>
                  </a:lnTo>
                  <a:lnTo>
                    <a:pt x="260" y="174"/>
                  </a:lnTo>
                  <a:lnTo>
                    <a:pt x="268" y="142"/>
                  </a:lnTo>
                  <a:lnTo>
                    <a:pt x="272" y="108"/>
                  </a:lnTo>
                  <a:lnTo>
                    <a:pt x="274" y="74"/>
                  </a:lnTo>
                  <a:lnTo>
                    <a:pt x="274" y="40"/>
                  </a:lnTo>
                  <a:lnTo>
                    <a:pt x="274" y="40"/>
                  </a:lnTo>
                  <a:lnTo>
                    <a:pt x="270" y="106"/>
                  </a:lnTo>
                  <a:lnTo>
                    <a:pt x="266" y="138"/>
                  </a:lnTo>
                  <a:lnTo>
                    <a:pt x="262" y="152"/>
                  </a:lnTo>
                  <a:lnTo>
                    <a:pt x="258" y="168"/>
                  </a:lnTo>
                  <a:lnTo>
                    <a:pt x="258" y="168"/>
                  </a:lnTo>
                  <a:lnTo>
                    <a:pt x="256" y="164"/>
                  </a:lnTo>
                  <a:lnTo>
                    <a:pt x="254" y="158"/>
                  </a:lnTo>
                  <a:lnTo>
                    <a:pt x="254" y="150"/>
                  </a:lnTo>
                  <a:lnTo>
                    <a:pt x="254" y="142"/>
                  </a:lnTo>
                  <a:lnTo>
                    <a:pt x="254" y="138"/>
                  </a:lnTo>
                  <a:lnTo>
                    <a:pt x="252" y="134"/>
                  </a:lnTo>
                  <a:lnTo>
                    <a:pt x="252" y="134"/>
                  </a:lnTo>
                  <a:lnTo>
                    <a:pt x="256" y="122"/>
                  </a:lnTo>
                  <a:lnTo>
                    <a:pt x="258" y="110"/>
                  </a:lnTo>
                  <a:lnTo>
                    <a:pt x="260" y="82"/>
                  </a:lnTo>
                  <a:lnTo>
                    <a:pt x="258" y="52"/>
                  </a:lnTo>
                  <a:lnTo>
                    <a:pt x="254" y="28"/>
                  </a:lnTo>
                  <a:lnTo>
                    <a:pt x="254" y="28"/>
                  </a:lnTo>
                  <a:lnTo>
                    <a:pt x="256" y="62"/>
                  </a:lnTo>
                  <a:lnTo>
                    <a:pt x="254" y="98"/>
                  </a:lnTo>
                  <a:lnTo>
                    <a:pt x="248" y="134"/>
                  </a:lnTo>
                  <a:lnTo>
                    <a:pt x="244" y="150"/>
                  </a:lnTo>
                  <a:lnTo>
                    <a:pt x="238" y="166"/>
                  </a:lnTo>
                  <a:lnTo>
                    <a:pt x="238" y="166"/>
                  </a:lnTo>
                  <a:lnTo>
                    <a:pt x="230" y="198"/>
                  </a:lnTo>
                  <a:lnTo>
                    <a:pt x="224" y="212"/>
                  </a:lnTo>
                  <a:lnTo>
                    <a:pt x="218" y="228"/>
                  </a:lnTo>
                  <a:lnTo>
                    <a:pt x="214" y="222"/>
                  </a:lnTo>
                  <a:lnTo>
                    <a:pt x="214" y="222"/>
                  </a:lnTo>
                  <a:lnTo>
                    <a:pt x="222" y="198"/>
                  </a:lnTo>
                  <a:lnTo>
                    <a:pt x="230" y="172"/>
                  </a:lnTo>
                  <a:lnTo>
                    <a:pt x="236" y="146"/>
                  </a:lnTo>
                  <a:lnTo>
                    <a:pt x="238" y="118"/>
                  </a:lnTo>
                  <a:lnTo>
                    <a:pt x="240" y="92"/>
                  </a:lnTo>
                  <a:lnTo>
                    <a:pt x="240" y="64"/>
                  </a:lnTo>
                  <a:lnTo>
                    <a:pt x="236" y="38"/>
                  </a:lnTo>
                  <a:lnTo>
                    <a:pt x="232" y="12"/>
                  </a:lnTo>
                  <a:lnTo>
                    <a:pt x="232" y="12"/>
                  </a:lnTo>
                  <a:lnTo>
                    <a:pt x="234" y="26"/>
                  </a:lnTo>
                  <a:lnTo>
                    <a:pt x="236" y="44"/>
                  </a:lnTo>
                  <a:lnTo>
                    <a:pt x="236" y="64"/>
                  </a:lnTo>
                  <a:lnTo>
                    <a:pt x="232" y="84"/>
                  </a:lnTo>
                  <a:lnTo>
                    <a:pt x="232" y="84"/>
                  </a:lnTo>
                  <a:lnTo>
                    <a:pt x="234" y="102"/>
                  </a:lnTo>
                  <a:lnTo>
                    <a:pt x="232" y="120"/>
                  </a:lnTo>
                  <a:lnTo>
                    <a:pt x="228" y="136"/>
                  </a:lnTo>
                  <a:lnTo>
                    <a:pt x="224" y="154"/>
                  </a:lnTo>
                  <a:lnTo>
                    <a:pt x="212" y="188"/>
                  </a:lnTo>
                  <a:lnTo>
                    <a:pt x="206" y="204"/>
                  </a:lnTo>
                  <a:lnTo>
                    <a:pt x="200" y="222"/>
                  </a:lnTo>
                  <a:lnTo>
                    <a:pt x="198" y="222"/>
                  </a:lnTo>
                  <a:lnTo>
                    <a:pt x="198" y="222"/>
                  </a:lnTo>
                  <a:lnTo>
                    <a:pt x="202" y="198"/>
                  </a:lnTo>
                  <a:lnTo>
                    <a:pt x="206" y="176"/>
                  </a:lnTo>
                  <a:lnTo>
                    <a:pt x="214" y="130"/>
                  </a:lnTo>
                  <a:lnTo>
                    <a:pt x="218" y="106"/>
                  </a:lnTo>
                  <a:lnTo>
                    <a:pt x="218" y="84"/>
                  </a:lnTo>
                  <a:lnTo>
                    <a:pt x="216" y="62"/>
                  </a:lnTo>
                  <a:lnTo>
                    <a:pt x="210" y="40"/>
                  </a:lnTo>
                  <a:lnTo>
                    <a:pt x="210" y="40"/>
                  </a:lnTo>
                  <a:lnTo>
                    <a:pt x="208" y="18"/>
                  </a:lnTo>
                  <a:lnTo>
                    <a:pt x="206" y="8"/>
                  </a:lnTo>
                  <a:lnTo>
                    <a:pt x="202" y="0"/>
                  </a:lnTo>
                  <a:lnTo>
                    <a:pt x="202" y="0"/>
                  </a:lnTo>
                  <a:lnTo>
                    <a:pt x="204" y="48"/>
                  </a:lnTo>
                  <a:lnTo>
                    <a:pt x="204" y="94"/>
                  </a:lnTo>
                  <a:lnTo>
                    <a:pt x="204" y="118"/>
                  </a:lnTo>
                  <a:lnTo>
                    <a:pt x="202" y="140"/>
                  </a:lnTo>
                  <a:lnTo>
                    <a:pt x="198" y="162"/>
                  </a:lnTo>
                  <a:lnTo>
                    <a:pt x="192" y="184"/>
                  </a:lnTo>
                  <a:lnTo>
                    <a:pt x="192" y="184"/>
                  </a:lnTo>
                  <a:close/>
                </a:path>
              </a:pathLst>
            </a:custGeom>
            <a:solidFill>
              <a:srgbClr val="ea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8412120" y="5759280"/>
              <a:ext cx="873000" cy="47628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550" h="300">
                  <a:moveTo>
                    <a:pt x="364" y="26"/>
                  </a:moveTo>
                  <a:lnTo>
                    <a:pt x="364" y="26"/>
                  </a:lnTo>
                  <a:lnTo>
                    <a:pt x="338" y="30"/>
                  </a:lnTo>
                  <a:lnTo>
                    <a:pt x="312" y="36"/>
                  </a:lnTo>
                  <a:lnTo>
                    <a:pt x="284" y="44"/>
                  </a:lnTo>
                  <a:lnTo>
                    <a:pt x="258" y="48"/>
                  </a:lnTo>
                  <a:lnTo>
                    <a:pt x="258" y="48"/>
                  </a:lnTo>
                  <a:lnTo>
                    <a:pt x="236" y="58"/>
                  </a:lnTo>
                  <a:lnTo>
                    <a:pt x="212" y="66"/>
                  </a:lnTo>
                  <a:lnTo>
                    <a:pt x="166" y="82"/>
                  </a:lnTo>
                  <a:lnTo>
                    <a:pt x="142" y="88"/>
                  </a:lnTo>
                  <a:lnTo>
                    <a:pt x="118" y="96"/>
                  </a:lnTo>
                  <a:lnTo>
                    <a:pt x="94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4" y="142"/>
                  </a:lnTo>
                  <a:lnTo>
                    <a:pt x="16" y="154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42" y="142"/>
                  </a:lnTo>
                  <a:lnTo>
                    <a:pt x="84" y="116"/>
                  </a:lnTo>
                  <a:lnTo>
                    <a:pt x="106" y="104"/>
                  </a:lnTo>
                  <a:lnTo>
                    <a:pt x="128" y="92"/>
                  </a:lnTo>
                  <a:lnTo>
                    <a:pt x="150" y="84"/>
                  </a:lnTo>
                  <a:lnTo>
                    <a:pt x="170" y="78"/>
                  </a:lnTo>
                  <a:lnTo>
                    <a:pt x="170" y="78"/>
                  </a:lnTo>
                  <a:lnTo>
                    <a:pt x="174" y="76"/>
                  </a:lnTo>
                  <a:lnTo>
                    <a:pt x="176" y="76"/>
                  </a:lnTo>
                  <a:lnTo>
                    <a:pt x="182" y="82"/>
                  </a:lnTo>
                  <a:lnTo>
                    <a:pt x="180" y="86"/>
                  </a:lnTo>
                  <a:lnTo>
                    <a:pt x="180" y="86"/>
                  </a:lnTo>
                  <a:lnTo>
                    <a:pt x="160" y="92"/>
                  </a:lnTo>
                  <a:lnTo>
                    <a:pt x="140" y="100"/>
                  </a:lnTo>
                  <a:lnTo>
                    <a:pt x="120" y="108"/>
                  </a:lnTo>
                  <a:lnTo>
                    <a:pt x="102" y="118"/>
                  </a:lnTo>
                  <a:lnTo>
                    <a:pt x="84" y="130"/>
                  </a:lnTo>
                  <a:lnTo>
                    <a:pt x="66" y="142"/>
                  </a:lnTo>
                  <a:lnTo>
                    <a:pt x="32" y="170"/>
                  </a:lnTo>
                  <a:lnTo>
                    <a:pt x="32" y="170"/>
                  </a:lnTo>
                  <a:lnTo>
                    <a:pt x="44" y="162"/>
                  </a:lnTo>
                  <a:lnTo>
                    <a:pt x="56" y="154"/>
                  </a:lnTo>
                  <a:lnTo>
                    <a:pt x="84" y="140"/>
                  </a:lnTo>
                  <a:lnTo>
                    <a:pt x="114" y="126"/>
                  </a:lnTo>
                  <a:lnTo>
                    <a:pt x="144" y="112"/>
                  </a:lnTo>
                  <a:lnTo>
                    <a:pt x="144" y="112"/>
                  </a:lnTo>
                  <a:lnTo>
                    <a:pt x="148" y="114"/>
                  </a:lnTo>
                  <a:lnTo>
                    <a:pt x="150" y="116"/>
                  </a:lnTo>
                  <a:lnTo>
                    <a:pt x="150" y="118"/>
                  </a:lnTo>
                  <a:lnTo>
                    <a:pt x="150" y="118"/>
                  </a:lnTo>
                  <a:lnTo>
                    <a:pt x="130" y="126"/>
                  </a:lnTo>
                  <a:lnTo>
                    <a:pt x="110" y="136"/>
                  </a:lnTo>
                  <a:lnTo>
                    <a:pt x="92" y="148"/>
                  </a:lnTo>
                  <a:lnTo>
                    <a:pt x="74" y="162"/>
                  </a:lnTo>
                  <a:lnTo>
                    <a:pt x="40" y="192"/>
                  </a:lnTo>
                  <a:lnTo>
                    <a:pt x="6" y="220"/>
                  </a:lnTo>
                  <a:lnTo>
                    <a:pt x="6" y="220"/>
                  </a:lnTo>
                  <a:lnTo>
                    <a:pt x="40" y="194"/>
                  </a:lnTo>
                  <a:lnTo>
                    <a:pt x="76" y="170"/>
                  </a:lnTo>
                  <a:lnTo>
                    <a:pt x="112" y="150"/>
                  </a:lnTo>
                  <a:lnTo>
                    <a:pt x="152" y="132"/>
                  </a:lnTo>
                  <a:lnTo>
                    <a:pt x="156" y="136"/>
                  </a:lnTo>
                  <a:lnTo>
                    <a:pt x="156" y="136"/>
                  </a:lnTo>
                  <a:lnTo>
                    <a:pt x="136" y="146"/>
                  </a:lnTo>
                  <a:lnTo>
                    <a:pt x="118" y="156"/>
                  </a:lnTo>
                  <a:lnTo>
                    <a:pt x="80" y="180"/>
                  </a:lnTo>
                  <a:lnTo>
                    <a:pt x="44" y="208"/>
                  </a:lnTo>
                  <a:lnTo>
                    <a:pt x="10" y="238"/>
                  </a:lnTo>
                  <a:lnTo>
                    <a:pt x="10" y="238"/>
                  </a:lnTo>
                  <a:lnTo>
                    <a:pt x="38" y="216"/>
                  </a:lnTo>
                  <a:lnTo>
                    <a:pt x="68" y="194"/>
                  </a:lnTo>
                  <a:lnTo>
                    <a:pt x="98" y="176"/>
                  </a:lnTo>
                  <a:lnTo>
                    <a:pt x="130" y="160"/>
                  </a:lnTo>
                  <a:lnTo>
                    <a:pt x="132" y="162"/>
                  </a:lnTo>
                  <a:lnTo>
                    <a:pt x="132" y="162"/>
                  </a:lnTo>
                  <a:lnTo>
                    <a:pt x="118" y="174"/>
                  </a:lnTo>
                  <a:lnTo>
                    <a:pt x="112" y="180"/>
                  </a:lnTo>
                  <a:lnTo>
                    <a:pt x="108" y="180"/>
                  </a:lnTo>
                  <a:lnTo>
                    <a:pt x="104" y="180"/>
                  </a:lnTo>
                  <a:lnTo>
                    <a:pt x="104" y="180"/>
                  </a:lnTo>
                  <a:lnTo>
                    <a:pt x="86" y="192"/>
                  </a:lnTo>
                  <a:lnTo>
                    <a:pt x="70" y="206"/>
                  </a:lnTo>
                  <a:lnTo>
                    <a:pt x="38" y="238"/>
                  </a:lnTo>
                  <a:lnTo>
                    <a:pt x="38" y="238"/>
                  </a:lnTo>
                  <a:lnTo>
                    <a:pt x="62" y="220"/>
                  </a:lnTo>
                  <a:lnTo>
                    <a:pt x="84" y="204"/>
                  </a:lnTo>
                  <a:lnTo>
                    <a:pt x="110" y="192"/>
                  </a:lnTo>
                  <a:lnTo>
                    <a:pt x="134" y="180"/>
                  </a:lnTo>
                  <a:lnTo>
                    <a:pt x="138" y="186"/>
                  </a:lnTo>
                  <a:lnTo>
                    <a:pt x="138" y="186"/>
                  </a:lnTo>
                  <a:lnTo>
                    <a:pt x="108" y="202"/>
                  </a:lnTo>
                  <a:lnTo>
                    <a:pt x="82" y="222"/>
                  </a:lnTo>
                  <a:lnTo>
                    <a:pt x="54" y="242"/>
                  </a:lnTo>
                  <a:lnTo>
                    <a:pt x="30" y="266"/>
                  </a:lnTo>
                  <a:lnTo>
                    <a:pt x="30" y="266"/>
                  </a:lnTo>
                  <a:lnTo>
                    <a:pt x="30" y="274"/>
                  </a:lnTo>
                  <a:lnTo>
                    <a:pt x="28" y="276"/>
                  </a:lnTo>
                  <a:lnTo>
                    <a:pt x="24" y="278"/>
                  </a:lnTo>
                  <a:lnTo>
                    <a:pt x="24" y="278"/>
                  </a:lnTo>
                  <a:lnTo>
                    <a:pt x="62" y="248"/>
                  </a:lnTo>
                  <a:lnTo>
                    <a:pt x="84" y="234"/>
                  </a:lnTo>
                  <a:lnTo>
                    <a:pt x="104" y="220"/>
                  </a:lnTo>
                  <a:lnTo>
                    <a:pt x="106" y="224"/>
                  </a:lnTo>
                  <a:lnTo>
                    <a:pt x="106" y="224"/>
                  </a:lnTo>
                  <a:lnTo>
                    <a:pt x="66" y="260"/>
                  </a:lnTo>
                  <a:lnTo>
                    <a:pt x="28" y="300"/>
                  </a:lnTo>
                  <a:lnTo>
                    <a:pt x="28" y="300"/>
                  </a:lnTo>
                  <a:lnTo>
                    <a:pt x="28" y="298"/>
                  </a:lnTo>
                  <a:lnTo>
                    <a:pt x="30" y="298"/>
                  </a:lnTo>
                  <a:lnTo>
                    <a:pt x="34" y="294"/>
                  </a:lnTo>
                  <a:lnTo>
                    <a:pt x="34" y="294"/>
                  </a:lnTo>
                  <a:lnTo>
                    <a:pt x="50" y="286"/>
                  </a:lnTo>
                  <a:lnTo>
                    <a:pt x="66" y="276"/>
                  </a:lnTo>
                  <a:lnTo>
                    <a:pt x="82" y="264"/>
                  </a:lnTo>
                  <a:lnTo>
                    <a:pt x="100" y="254"/>
                  </a:lnTo>
                  <a:lnTo>
                    <a:pt x="100" y="254"/>
                  </a:lnTo>
                  <a:lnTo>
                    <a:pt x="100" y="252"/>
                  </a:lnTo>
                  <a:lnTo>
                    <a:pt x="100" y="250"/>
                  </a:lnTo>
                  <a:lnTo>
                    <a:pt x="104" y="250"/>
                  </a:lnTo>
                  <a:lnTo>
                    <a:pt x="110" y="250"/>
                  </a:lnTo>
                  <a:lnTo>
                    <a:pt x="112" y="250"/>
                  </a:lnTo>
                  <a:lnTo>
                    <a:pt x="112" y="248"/>
                  </a:lnTo>
                  <a:lnTo>
                    <a:pt x="112" y="248"/>
                  </a:lnTo>
                  <a:lnTo>
                    <a:pt x="124" y="240"/>
                  </a:lnTo>
                  <a:lnTo>
                    <a:pt x="134" y="232"/>
                  </a:lnTo>
                  <a:lnTo>
                    <a:pt x="144" y="226"/>
                  </a:lnTo>
                  <a:lnTo>
                    <a:pt x="150" y="224"/>
                  </a:lnTo>
                  <a:lnTo>
                    <a:pt x="156" y="224"/>
                  </a:lnTo>
                  <a:lnTo>
                    <a:pt x="156" y="224"/>
                  </a:lnTo>
                  <a:lnTo>
                    <a:pt x="180" y="210"/>
                  </a:lnTo>
                  <a:lnTo>
                    <a:pt x="206" y="200"/>
                  </a:lnTo>
                  <a:lnTo>
                    <a:pt x="256" y="180"/>
                  </a:lnTo>
                  <a:lnTo>
                    <a:pt x="256" y="180"/>
                  </a:lnTo>
                  <a:lnTo>
                    <a:pt x="270" y="172"/>
                  </a:lnTo>
                  <a:lnTo>
                    <a:pt x="286" y="166"/>
                  </a:lnTo>
                  <a:lnTo>
                    <a:pt x="300" y="160"/>
                  </a:lnTo>
                  <a:lnTo>
                    <a:pt x="306" y="156"/>
                  </a:lnTo>
                  <a:lnTo>
                    <a:pt x="312" y="150"/>
                  </a:lnTo>
                  <a:lnTo>
                    <a:pt x="312" y="150"/>
                  </a:lnTo>
                  <a:lnTo>
                    <a:pt x="318" y="150"/>
                  </a:lnTo>
                  <a:lnTo>
                    <a:pt x="324" y="146"/>
                  </a:lnTo>
                  <a:lnTo>
                    <a:pt x="330" y="142"/>
                  </a:lnTo>
                  <a:lnTo>
                    <a:pt x="338" y="140"/>
                  </a:lnTo>
                  <a:lnTo>
                    <a:pt x="338" y="140"/>
                  </a:lnTo>
                  <a:lnTo>
                    <a:pt x="318" y="142"/>
                  </a:lnTo>
                  <a:lnTo>
                    <a:pt x="298" y="148"/>
                  </a:lnTo>
                  <a:lnTo>
                    <a:pt x="280" y="156"/>
                  </a:lnTo>
                  <a:lnTo>
                    <a:pt x="262" y="162"/>
                  </a:lnTo>
                  <a:lnTo>
                    <a:pt x="262" y="162"/>
                  </a:lnTo>
                  <a:lnTo>
                    <a:pt x="238" y="172"/>
                  </a:lnTo>
                  <a:lnTo>
                    <a:pt x="226" y="176"/>
                  </a:lnTo>
                  <a:lnTo>
                    <a:pt x="216" y="178"/>
                  </a:lnTo>
                  <a:lnTo>
                    <a:pt x="216" y="178"/>
                  </a:lnTo>
                  <a:lnTo>
                    <a:pt x="240" y="162"/>
                  </a:lnTo>
                  <a:lnTo>
                    <a:pt x="266" y="150"/>
                  </a:lnTo>
                  <a:lnTo>
                    <a:pt x="294" y="140"/>
                  </a:lnTo>
                  <a:lnTo>
                    <a:pt x="322" y="132"/>
                  </a:lnTo>
                  <a:lnTo>
                    <a:pt x="348" y="124"/>
                  </a:lnTo>
                  <a:lnTo>
                    <a:pt x="376" y="114"/>
                  </a:lnTo>
                  <a:lnTo>
                    <a:pt x="402" y="102"/>
                  </a:lnTo>
                  <a:lnTo>
                    <a:pt x="426" y="88"/>
                  </a:lnTo>
                  <a:lnTo>
                    <a:pt x="426" y="88"/>
                  </a:lnTo>
                  <a:lnTo>
                    <a:pt x="406" y="94"/>
                  </a:lnTo>
                  <a:lnTo>
                    <a:pt x="386" y="100"/>
                  </a:lnTo>
                  <a:lnTo>
                    <a:pt x="386" y="100"/>
                  </a:lnTo>
                  <a:lnTo>
                    <a:pt x="356" y="112"/>
                  </a:lnTo>
                  <a:lnTo>
                    <a:pt x="326" y="120"/>
                  </a:lnTo>
                  <a:lnTo>
                    <a:pt x="326" y="120"/>
                  </a:lnTo>
                  <a:lnTo>
                    <a:pt x="336" y="112"/>
                  </a:lnTo>
                  <a:lnTo>
                    <a:pt x="348" y="104"/>
                  </a:lnTo>
                  <a:lnTo>
                    <a:pt x="362" y="98"/>
                  </a:lnTo>
                  <a:lnTo>
                    <a:pt x="374" y="92"/>
                  </a:lnTo>
                  <a:lnTo>
                    <a:pt x="402" y="84"/>
                  </a:lnTo>
                  <a:lnTo>
                    <a:pt x="414" y="78"/>
                  </a:lnTo>
                  <a:lnTo>
                    <a:pt x="428" y="72"/>
                  </a:lnTo>
                  <a:lnTo>
                    <a:pt x="428" y="72"/>
                  </a:lnTo>
                  <a:lnTo>
                    <a:pt x="406" y="76"/>
                  </a:lnTo>
                  <a:lnTo>
                    <a:pt x="382" y="82"/>
                  </a:lnTo>
                  <a:lnTo>
                    <a:pt x="356" y="88"/>
                  </a:lnTo>
                  <a:lnTo>
                    <a:pt x="344" y="88"/>
                  </a:lnTo>
                  <a:lnTo>
                    <a:pt x="332" y="90"/>
                  </a:lnTo>
                  <a:lnTo>
                    <a:pt x="332" y="90"/>
                  </a:lnTo>
                  <a:lnTo>
                    <a:pt x="362" y="80"/>
                  </a:lnTo>
                  <a:lnTo>
                    <a:pt x="392" y="68"/>
                  </a:lnTo>
                  <a:lnTo>
                    <a:pt x="420" y="58"/>
                  </a:lnTo>
                  <a:lnTo>
                    <a:pt x="450" y="48"/>
                  </a:lnTo>
                  <a:lnTo>
                    <a:pt x="450" y="48"/>
                  </a:lnTo>
                  <a:lnTo>
                    <a:pt x="424" y="52"/>
                  </a:lnTo>
                  <a:lnTo>
                    <a:pt x="396" y="58"/>
                  </a:lnTo>
                  <a:lnTo>
                    <a:pt x="338" y="74"/>
                  </a:lnTo>
                  <a:lnTo>
                    <a:pt x="336" y="72"/>
                  </a:lnTo>
                  <a:lnTo>
                    <a:pt x="336" y="72"/>
                  </a:lnTo>
                  <a:lnTo>
                    <a:pt x="354" y="62"/>
                  </a:lnTo>
                  <a:lnTo>
                    <a:pt x="374" y="54"/>
                  </a:lnTo>
                  <a:lnTo>
                    <a:pt x="394" y="48"/>
                  </a:lnTo>
                  <a:lnTo>
                    <a:pt x="414" y="44"/>
                  </a:lnTo>
                  <a:lnTo>
                    <a:pt x="456" y="34"/>
                  </a:lnTo>
                  <a:lnTo>
                    <a:pt x="476" y="28"/>
                  </a:lnTo>
                  <a:lnTo>
                    <a:pt x="494" y="20"/>
                  </a:lnTo>
                  <a:lnTo>
                    <a:pt x="494" y="20"/>
                  </a:lnTo>
                  <a:lnTo>
                    <a:pt x="502" y="20"/>
                  </a:lnTo>
                  <a:lnTo>
                    <a:pt x="510" y="20"/>
                  </a:lnTo>
                  <a:lnTo>
                    <a:pt x="522" y="16"/>
                  </a:lnTo>
                  <a:lnTo>
                    <a:pt x="536" y="10"/>
                  </a:lnTo>
                  <a:lnTo>
                    <a:pt x="550" y="6"/>
                  </a:lnTo>
                  <a:lnTo>
                    <a:pt x="550" y="6"/>
                  </a:lnTo>
                  <a:lnTo>
                    <a:pt x="506" y="16"/>
                  </a:lnTo>
                  <a:lnTo>
                    <a:pt x="458" y="28"/>
                  </a:lnTo>
                  <a:lnTo>
                    <a:pt x="362" y="46"/>
                  </a:lnTo>
                  <a:lnTo>
                    <a:pt x="362" y="46"/>
                  </a:lnTo>
                  <a:lnTo>
                    <a:pt x="344" y="52"/>
                  </a:lnTo>
                  <a:lnTo>
                    <a:pt x="334" y="54"/>
                  </a:lnTo>
                  <a:lnTo>
                    <a:pt x="324" y="56"/>
                  </a:lnTo>
                  <a:lnTo>
                    <a:pt x="324" y="56"/>
                  </a:lnTo>
                  <a:lnTo>
                    <a:pt x="324" y="58"/>
                  </a:lnTo>
                  <a:lnTo>
                    <a:pt x="322" y="60"/>
                  </a:lnTo>
                  <a:lnTo>
                    <a:pt x="320" y="60"/>
                  </a:lnTo>
                  <a:lnTo>
                    <a:pt x="318" y="60"/>
                  </a:lnTo>
                  <a:lnTo>
                    <a:pt x="318" y="60"/>
                  </a:lnTo>
                  <a:lnTo>
                    <a:pt x="314" y="60"/>
                  </a:lnTo>
                  <a:lnTo>
                    <a:pt x="310" y="60"/>
                  </a:lnTo>
                  <a:lnTo>
                    <a:pt x="308" y="58"/>
                  </a:lnTo>
                  <a:lnTo>
                    <a:pt x="308" y="58"/>
                  </a:lnTo>
                  <a:lnTo>
                    <a:pt x="334" y="46"/>
                  </a:lnTo>
                  <a:lnTo>
                    <a:pt x="358" y="36"/>
                  </a:lnTo>
                  <a:lnTo>
                    <a:pt x="384" y="30"/>
                  </a:lnTo>
                  <a:lnTo>
                    <a:pt x="412" y="24"/>
                  </a:lnTo>
                  <a:lnTo>
                    <a:pt x="464" y="12"/>
                  </a:lnTo>
                  <a:lnTo>
                    <a:pt x="490" y="6"/>
                  </a:lnTo>
                  <a:lnTo>
                    <a:pt x="516" y="0"/>
                  </a:lnTo>
                  <a:lnTo>
                    <a:pt x="516" y="0"/>
                  </a:lnTo>
                  <a:lnTo>
                    <a:pt x="478" y="4"/>
                  </a:lnTo>
                  <a:lnTo>
                    <a:pt x="440" y="12"/>
                  </a:lnTo>
                  <a:lnTo>
                    <a:pt x="402" y="20"/>
                  </a:lnTo>
                  <a:lnTo>
                    <a:pt x="364" y="26"/>
                  </a:lnTo>
                  <a:lnTo>
                    <a:pt x="364" y="26"/>
                  </a:lnTo>
                  <a:close/>
                </a:path>
              </a:pathLst>
            </a:custGeom>
            <a:solidFill>
              <a:srgbClr val="ea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>
              <a:off x="8012160" y="6105600"/>
              <a:ext cx="339480" cy="71748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214" h="452">
                  <a:moveTo>
                    <a:pt x="36" y="198"/>
                  </a:moveTo>
                  <a:lnTo>
                    <a:pt x="36" y="198"/>
                  </a:lnTo>
                  <a:lnTo>
                    <a:pt x="22" y="222"/>
                  </a:lnTo>
                  <a:lnTo>
                    <a:pt x="12" y="248"/>
                  </a:lnTo>
                  <a:lnTo>
                    <a:pt x="6" y="274"/>
                  </a:lnTo>
                  <a:lnTo>
                    <a:pt x="0" y="302"/>
                  </a:lnTo>
                  <a:lnTo>
                    <a:pt x="0" y="302"/>
                  </a:lnTo>
                  <a:lnTo>
                    <a:pt x="10" y="270"/>
                  </a:lnTo>
                  <a:lnTo>
                    <a:pt x="26" y="236"/>
                  </a:lnTo>
                  <a:lnTo>
                    <a:pt x="46" y="200"/>
                  </a:lnTo>
                  <a:lnTo>
                    <a:pt x="68" y="166"/>
                  </a:lnTo>
                  <a:lnTo>
                    <a:pt x="72" y="170"/>
                  </a:lnTo>
                  <a:lnTo>
                    <a:pt x="72" y="170"/>
                  </a:lnTo>
                  <a:lnTo>
                    <a:pt x="54" y="200"/>
                  </a:lnTo>
                  <a:lnTo>
                    <a:pt x="40" y="230"/>
                  </a:lnTo>
                  <a:lnTo>
                    <a:pt x="26" y="262"/>
                  </a:lnTo>
                  <a:lnTo>
                    <a:pt x="22" y="278"/>
                  </a:lnTo>
                  <a:lnTo>
                    <a:pt x="18" y="296"/>
                  </a:lnTo>
                  <a:lnTo>
                    <a:pt x="18" y="296"/>
                  </a:lnTo>
                  <a:lnTo>
                    <a:pt x="36" y="250"/>
                  </a:lnTo>
                  <a:lnTo>
                    <a:pt x="58" y="208"/>
                  </a:lnTo>
                  <a:lnTo>
                    <a:pt x="60" y="208"/>
                  </a:lnTo>
                  <a:lnTo>
                    <a:pt x="60" y="208"/>
                  </a:lnTo>
                  <a:lnTo>
                    <a:pt x="58" y="222"/>
                  </a:lnTo>
                  <a:lnTo>
                    <a:pt x="54" y="234"/>
                  </a:lnTo>
                  <a:lnTo>
                    <a:pt x="42" y="260"/>
                  </a:lnTo>
                  <a:lnTo>
                    <a:pt x="36" y="274"/>
                  </a:lnTo>
                  <a:lnTo>
                    <a:pt x="30" y="288"/>
                  </a:lnTo>
                  <a:lnTo>
                    <a:pt x="28" y="300"/>
                  </a:lnTo>
                  <a:lnTo>
                    <a:pt x="26" y="316"/>
                  </a:lnTo>
                  <a:lnTo>
                    <a:pt x="26" y="316"/>
                  </a:lnTo>
                  <a:lnTo>
                    <a:pt x="24" y="326"/>
                  </a:lnTo>
                  <a:lnTo>
                    <a:pt x="22" y="336"/>
                  </a:lnTo>
                  <a:lnTo>
                    <a:pt x="20" y="346"/>
                  </a:lnTo>
                  <a:lnTo>
                    <a:pt x="18" y="358"/>
                  </a:lnTo>
                  <a:lnTo>
                    <a:pt x="18" y="358"/>
                  </a:lnTo>
                  <a:lnTo>
                    <a:pt x="22" y="336"/>
                  </a:lnTo>
                  <a:lnTo>
                    <a:pt x="28" y="316"/>
                  </a:lnTo>
                  <a:lnTo>
                    <a:pt x="44" y="276"/>
                  </a:lnTo>
                  <a:lnTo>
                    <a:pt x="64" y="238"/>
                  </a:lnTo>
                  <a:lnTo>
                    <a:pt x="86" y="202"/>
                  </a:lnTo>
                  <a:lnTo>
                    <a:pt x="86" y="202"/>
                  </a:lnTo>
                  <a:lnTo>
                    <a:pt x="88" y="206"/>
                  </a:lnTo>
                  <a:lnTo>
                    <a:pt x="88" y="212"/>
                  </a:lnTo>
                  <a:lnTo>
                    <a:pt x="82" y="222"/>
                  </a:lnTo>
                  <a:lnTo>
                    <a:pt x="76" y="232"/>
                  </a:lnTo>
                  <a:lnTo>
                    <a:pt x="72" y="242"/>
                  </a:lnTo>
                  <a:lnTo>
                    <a:pt x="72" y="238"/>
                  </a:lnTo>
                  <a:lnTo>
                    <a:pt x="72" y="238"/>
                  </a:lnTo>
                  <a:lnTo>
                    <a:pt x="58" y="274"/>
                  </a:lnTo>
                  <a:lnTo>
                    <a:pt x="46" y="312"/>
                  </a:lnTo>
                  <a:lnTo>
                    <a:pt x="38" y="352"/>
                  </a:lnTo>
                  <a:lnTo>
                    <a:pt x="32" y="392"/>
                  </a:lnTo>
                  <a:lnTo>
                    <a:pt x="32" y="392"/>
                  </a:lnTo>
                  <a:lnTo>
                    <a:pt x="36" y="370"/>
                  </a:lnTo>
                  <a:lnTo>
                    <a:pt x="40" y="350"/>
                  </a:lnTo>
                  <a:lnTo>
                    <a:pt x="46" y="328"/>
                  </a:lnTo>
                  <a:lnTo>
                    <a:pt x="52" y="310"/>
                  </a:lnTo>
                  <a:lnTo>
                    <a:pt x="60" y="290"/>
                  </a:lnTo>
                  <a:lnTo>
                    <a:pt x="70" y="270"/>
                  </a:lnTo>
                  <a:lnTo>
                    <a:pt x="90" y="234"/>
                  </a:lnTo>
                  <a:lnTo>
                    <a:pt x="98" y="242"/>
                  </a:lnTo>
                  <a:lnTo>
                    <a:pt x="98" y="242"/>
                  </a:lnTo>
                  <a:lnTo>
                    <a:pt x="82" y="268"/>
                  </a:lnTo>
                  <a:lnTo>
                    <a:pt x="72" y="294"/>
                  </a:lnTo>
                  <a:lnTo>
                    <a:pt x="62" y="320"/>
                  </a:lnTo>
                  <a:lnTo>
                    <a:pt x="52" y="348"/>
                  </a:lnTo>
                  <a:lnTo>
                    <a:pt x="52" y="348"/>
                  </a:lnTo>
                  <a:lnTo>
                    <a:pt x="50" y="366"/>
                  </a:lnTo>
                  <a:lnTo>
                    <a:pt x="48" y="382"/>
                  </a:lnTo>
                  <a:lnTo>
                    <a:pt x="46" y="418"/>
                  </a:lnTo>
                  <a:lnTo>
                    <a:pt x="46" y="418"/>
                  </a:lnTo>
                  <a:lnTo>
                    <a:pt x="46" y="406"/>
                  </a:lnTo>
                  <a:lnTo>
                    <a:pt x="48" y="394"/>
                  </a:lnTo>
                  <a:lnTo>
                    <a:pt x="52" y="374"/>
                  </a:lnTo>
                  <a:lnTo>
                    <a:pt x="58" y="354"/>
                  </a:lnTo>
                  <a:lnTo>
                    <a:pt x="62" y="332"/>
                  </a:lnTo>
                  <a:lnTo>
                    <a:pt x="62" y="332"/>
                  </a:lnTo>
                  <a:lnTo>
                    <a:pt x="66" y="330"/>
                  </a:lnTo>
                  <a:lnTo>
                    <a:pt x="70" y="326"/>
                  </a:lnTo>
                  <a:lnTo>
                    <a:pt x="72" y="318"/>
                  </a:lnTo>
                  <a:lnTo>
                    <a:pt x="76" y="310"/>
                  </a:lnTo>
                  <a:lnTo>
                    <a:pt x="78" y="308"/>
                  </a:lnTo>
                  <a:lnTo>
                    <a:pt x="82" y="306"/>
                  </a:lnTo>
                  <a:lnTo>
                    <a:pt x="82" y="306"/>
                  </a:lnTo>
                  <a:lnTo>
                    <a:pt x="84" y="296"/>
                  </a:lnTo>
                  <a:lnTo>
                    <a:pt x="88" y="288"/>
                  </a:lnTo>
                  <a:lnTo>
                    <a:pt x="92" y="282"/>
                  </a:lnTo>
                  <a:lnTo>
                    <a:pt x="100" y="274"/>
                  </a:lnTo>
                  <a:lnTo>
                    <a:pt x="100" y="274"/>
                  </a:lnTo>
                  <a:lnTo>
                    <a:pt x="90" y="310"/>
                  </a:lnTo>
                  <a:lnTo>
                    <a:pt x="78" y="344"/>
                  </a:lnTo>
                  <a:lnTo>
                    <a:pt x="68" y="380"/>
                  </a:lnTo>
                  <a:lnTo>
                    <a:pt x="64" y="398"/>
                  </a:lnTo>
                  <a:lnTo>
                    <a:pt x="62" y="416"/>
                  </a:lnTo>
                  <a:lnTo>
                    <a:pt x="62" y="416"/>
                  </a:lnTo>
                  <a:lnTo>
                    <a:pt x="60" y="428"/>
                  </a:lnTo>
                  <a:lnTo>
                    <a:pt x="58" y="444"/>
                  </a:lnTo>
                  <a:lnTo>
                    <a:pt x="58" y="444"/>
                  </a:lnTo>
                  <a:lnTo>
                    <a:pt x="58" y="434"/>
                  </a:lnTo>
                  <a:lnTo>
                    <a:pt x="60" y="424"/>
                  </a:lnTo>
                  <a:lnTo>
                    <a:pt x="66" y="404"/>
                  </a:lnTo>
                  <a:lnTo>
                    <a:pt x="72" y="384"/>
                  </a:lnTo>
                  <a:lnTo>
                    <a:pt x="74" y="374"/>
                  </a:lnTo>
                  <a:lnTo>
                    <a:pt x="74" y="362"/>
                  </a:lnTo>
                  <a:lnTo>
                    <a:pt x="74" y="362"/>
                  </a:lnTo>
                  <a:lnTo>
                    <a:pt x="80" y="356"/>
                  </a:lnTo>
                  <a:lnTo>
                    <a:pt x="82" y="348"/>
                  </a:lnTo>
                  <a:lnTo>
                    <a:pt x="88" y="332"/>
                  </a:lnTo>
                  <a:lnTo>
                    <a:pt x="92" y="318"/>
                  </a:lnTo>
                  <a:lnTo>
                    <a:pt x="96" y="310"/>
                  </a:lnTo>
                  <a:lnTo>
                    <a:pt x="102" y="304"/>
                  </a:lnTo>
                  <a:lnTo>
                    <a:pt x="102" y="304"/>
                  </a:lnTo>
                  <a:lnTo>
                    <a:pt x="92" y="340"/>
                  </a:lnTo>
                  <a:lnTo>
                    <a:pt x="84" y="376"/>
                  </a:lnTo>
                  <a:lnTo>
                    <a:pt x="78" y="412"/>
                  </a:lnTo>
                  <a:lnTo>
                    <a:pt x="78" y="432"/>
                  </a:lnTo>
                  <a:lnTo>
                    <a:pt x="78" y="452"/>
                  </a:lnTo>
                  <a:lnTo>
                    <a:pt x="78" y="452"/>
                  </a:lnTo>
                  <a:lnTo>
                    <a:pt x="78" y="432"/>
                  </a:lnTo>
                  <a:lnTo>
                    <a:pt x="80" y="412"/>
                  </a:lnTo>
                  <a:lnTo>
                    <a:pt x="82" y="394"/>
                  </a:lnTo>
                  <a:lnTo>
                    <a:pt x="88" y="374"/>
                  </a:lnTo>
                  <a:lnTo>
                    <a:pt x="100" y="336"/>
                  </a:lnTo>
                  <a:lnTo>
                    <a:pt x="114" y="300"/>
                  </a:lnTo>
                  <a:lnTo>
                    <a:pt x="134" y="264"/>
                  </a:lnTo>
                  <a:lnTo>
                    <a:pt x="154" y="230"/>
                  </a:lnTo>
                  <a:lnTo>
                    <a:pt x="178" y="198"/>
                  </a:lnTo>
                  <a:lnTo>
                    <a:pt x="202" y="166"/>
                  </a:lnTo>
                  <a:lnTo>
                    <a:pt x="202" y="166"/>
                  </a:lnTo>
                  <a:lnTo>
                    <a:pt x="202" y="160"/>
                  </a:lnTo>
                  <a:lnTo>
                    <a:pt x="204" y="154"/>
                  </a:lnTo>
                  <a:lnTo>
                    <a:pt x="208" y="150"/>
                  </a:lnTo>
                  <a:lnTo>
                    <a:pt x="212" y="144"/>
                  </a:lnTo>
                  <a:lnTo>
                    <a:pt x="212" y="144"/>
                  </a:lnTo>
                  <a:lnTo>
                    <a:pt x="202" y="154"/>
                  </a:lnTo>
                  <a:lnTo>
                    <a:pt x="190" y="164"/>
                  </a:lnTo>
                  <a:lnTo>
                    <a:pt x="172" y="186"/>
                  </a:lnTo>
                  <a:lnTo>
                    <a:pt x="156" y="210"/>
                  </a:lnTo>
                  <a:lnTo>
                    <a:pt x="138" y="232"/>
                  </a:lnTo>
                  <a:lnTo>
                    <a:pt x="134" y="226"/>
                  </a:lnTo>
                  <a:lnTo>
                    <a:pt x="134" y="226"/>
                  </a:lnTo>
                  <a:lnTo>
                    <a:pt x="140" y="212"/>
                  </a:lnTo>
                  <a:lnTo>
                    <a:pt x="148" y="196"/>
                  </a:lnTo>
                  <a:lnTo>
                    <a:pt x="166" y="168"/>
                  </a:lnTo>
                  <a:lnTo>
                    <a:pt x="190" y="142"/>
                  </a:lnTo>
                  <a:lnTo>
                    <a:pt x="214" y="116"/>
                  </a:lnTo>
                  <a:lnTo>
                    <a:pt x="214" y="116"/>
                  </a:lnTo>
                  <a:lnTo>
                    <a:pt x="204" y="122"/>
                  </a:lnTo>
                  <a:lnTo>
                    <a:pt x="194" y="130"/>
                  </a:lnTo>
                  <a:lnTo>
                    <a:pt x="176" y="148"/>
                  </a:lnTo>
                  <a:lnTo>
                    <a:pt x="158" y="166"/>
                  </a:lnTo>
                  <a:lnTo>
                    <a:pt x="138" y="184"/>
                  </a:lnTo>
                  <a:lnTo>
                    <a:pt x="138" y="184"/>
                  </a:lnTo>
                  <a:lnTo>
                    <a:pt x="134" y="196"/>
                  </a:lnTo>
                  <a:lnTo>
                    <a:pt x="130" y="200"/>
                  </a:lnTo>
                  <a:lnTo>
                    <a:pt x="124" y="204"/>
                  </a:lnTo>
                  <a:lnTo>
                    <a:pt x="124" y="204"/>
                  </a:lnTo>
                  <a:lnTo>
                    <a:pt x="124" y="194"/>
                  </a:lnTo>
                  <a:lnTo>
                    <a:pt x="128" y="184"/>
                  </a:lnTo>
                  <a:lnTo>
                    <a:pt x="134" y="176"/>
                  </a:lnTo>
                  <a:lnTo>
                    <a:pt x="142" y="168"/>
                  </a:lnTo>
                  <a:lnTo>
                    <a:pt x="156" y="150"/>
                  </a:lnTo>
                  <a:lnTo>
                    <a:pt x="160" y="142"/>
                  </a:lnTo>
                  <a:lnTo>
                    <a:pt x="164" y="132"/>
                  </a:lnTo>
                  <a:lnTo>
                    <a:pt x="212" y="82"/>
                  </a:lnTo>
                  <a:lnTo>
                    <a:pt x="212" y="82"/>
                  </a:lnTo>
                  <a:lnTo>
                    <a:pt x="196" y="94"/>
                  </a:lnTo>
                  <a:lnTo>
                    <a:pt x="182" y="106"/>
                  </a:lnTo>
                  <a:lnTo>
                    <a:pt x="152" y="134"/>
                  </a:lnTo>
                  <a:lnTo>
                    <a:pt x="124" y="164"/>
                  </a:lnTo>
                  <a:lnTo>
                    <a:pt x="98" y="196"/>
                  </a:lnTo>
                  <a:lnTo>
                    <a:pt x="98" y="196"/>
                  </a:lnTo>
                  <a:lnTo>
                    <a:pt x="104" y="178"/>
                  </a:lnTo>
                  <a:lnTo>
                    <a:pt x="114" y="160"/>
                  </a:lnTo>
                  <a:lnTo>
                    <a:pt x="126" y="144"/>
                  </a:lnTo>
                  <a:lnTo>
                    <a:pt x="138" y="128"/>
                  </a:lnTo>
                  <a:lnTo>
                    <a:pt x="186" y="80"/>
                  </a:lnTo>
                  <a:lnTo>
                    <a:pt x="186" y="80"/>
                  </a:lnTo>
                  <a:lnTo>
                    <a:pt x="174" y="88"/>
                  </a:lnTo>
                  <a:lnTo>
                    <a:pt x="162" y="98"/>
                  </a:lnTo>
                  <a:lnTo>
                    <a:pt x="142" y="118"/>
                  </a:lnTo>
                  <a:lnTo>
                    <a:pt x="124" y="140"/>
                  </a:lnTo>
                  <a:lnTo>
                    <a:pt x="114" y="150"/>
                  </a:lnTo>
                  <a:lnTo>
                    <a:pt x="106" y="160"/>
                  </a:lnTo>
                  <a:lnTo>
                    <a:pt x="106" y="160"/>
                  </a:lnTo>
                  <a:lnTo>
                    <a:pt x="106" y="156"/>
                  </a:lnTo>
                  <a:lnTo>
                    <a:pt x="108" y="150"/>
                  </a:lnTo>
                  <a:lnTo>
                    <a:pt x="114" y="142"/>
                  </a:lnTo>
                  <a:lnTo>
                    <a:pt x="120" y="132"/>
                  </a:lnTo>
                  <a:lnTo>
                    <a:pt x="122" y="126"/>
                  </a:lnTo>
                  <a:lnTo>
                    <a:pt x="124" y="120"/>
                  </a:lnTo>
                  <a:lnTo>
                    <a:pt x="124" y="120"/>
                  </a:lnTo>
                  <a:lnTo>
                    <a:pt x="130" y="110"/>
                  </a:lnTo>
                  <a:lnTo>
                    <a:pt x="138" y="102"/>
                  </a:lnTo>
                  <a:lnTo>
                    <a:pt x="154" y="88"/>
                  </a:lnTo>
                  <a:lnTo>
                    <a:pt x="170" y="74"/>
                  </a:lnTo>
                  <a:lnTo>
                    <a:pt x="176" y="64"/>
                  </a:lnTo>
                  <a:lnTo>
                    <a:pt x="182" y="56"/>
                  </a:lnTo>
                  <a:lnTo>
                    <a:pt x="200" y="38"/>
                  </a:lnTo>
                  <a:lnTo>
                    <a:pt x="200" y="38"/>
                  </a:lnTo>
                  <a:lnTo>
                    <a:pt x="180" y="54"/>
                  </a:lnTo>
                  <a:lnTo>
                    <a:pt x="158" y="72"/>
                  </a:lnTo>
                  <a:lnTo>
                    <a:pt x="140" y="94"/>
                  </a:lnTo>
                  <a:lnTo>
                    <a:pt x="122" y="114"/>
                  </a:lnTo>
                  <a:lnTo>
                    <a:pt x="116" y="114"/>
                  </a:lnTo>
                  <a:lnTo>
                    <a:pt x="116" y="114"/>
                  </a:lnTo>
                  <a:lnTo>
                    <a:pt x="120" y="104"/>
                  </a:lnTo>
                  <a:lnTo>
                    <a:pt x="124" y="96"/>
                  </a:lnTo>
                  <a:lnTo>
                    <a:pt x="130" y="88"/>
                  </a:lnTo>
                  <a:lnTo>
                    <a:pt x="138" y="80"/>
                  </a:lnTo>
                  <a:lnTo>
                    <a:pt x="154" y="66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92" y="24"/>
                  </a:lnTo>
                  <a:lnTo>
                    <a:pt x="204" y="12"/>
                  </a:lnTo>
                  <a:lnTo>
                    <a:pt x="212" y="0"/>
                  </a:lnTo>
                  <a:lnTo>
                    <a:pt x="212" y="0"/>
                  </a:lnTo>
                  <a:lnTo>
                    <a:pt x="188" y="22"/>
                  </a:lnTo>
                  <a:lnTo>
                    <a:pt x="162" y="44"/>
                  </a:lnTo>
                  <a:lnTo>
                    <a:pt x="136" y="66"/>
                  </a:lnTo>
                  <a:lnTo>
                    <a:pt x="110" y="90"/>
                  </a:lnTo>
                  <a:lnTo>
                    <a:pt x="86" y="114"/>
                  </a:lnTo>
                  <a:lnTo>
                    <a:pt x="66" y="140"/>
                  </a:lnTo>
                  <a:lnTo>
                    <a:pt x="56" y="154"/>
                  </a:lnTo>
                  <a:lnTo>
                    <a:pt x="48" y="168"/>
                  </a:lnTo>
                  <a:lnTo>
                    <a:pt x="42" y="182"/>
                  </a:lnTo>
                  <a:lnTo>
                    <a:pt x="36" y="198"/>
                  </a:lnTo>
                  <a:lnTo>
                    <a:pt x="36" y="198"/>
                  </a:lnTo>
                  <a:close/>
                </a:path>
              </a:pathLst>
            </a:custGeom>
            <a:solidFill>
              <a:srgbClr val="ea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>
              <a:off x="7729560" y="7398000"/>
              <a:ext cx="704880" cy="71748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444" h="452">
                  <a:moveTo>
                    <a:pt x="360" y="54"/>
                  </a:moveTo>
                  <a:lnTo>
                    <a:pt x="360" y="54"/>
                  </a:lnTo>
                  <a:lnTo>
                    <a:pt x="352" y="60"/>
                  </a:lnTo>
                  <a:lnTo>
                    <a:pt x="348" y="68"/>
                  </a:lnTo>
                  <a:lnTo>
                    <a:pt x="336" y="86"/>
                  </a:lnTo>
                  <a:lnTo>
                    <a:pt x="326" y="104"/>
                  </a:lnTo>
                  <a:lnTo>
                    <a:pt x="320" y="112"/>
                  </a:lnTo>
                  <a:lnTo>
                    <a:pt x="314" y="120"/>
                  </a:lnTo>
                  <a:lnTo>
                    <a:pt x="314" y="120"/>
                  </a:lnTo>
                  <a:lnTo>
                    <a:pt x="264" y="150"/>
                  </a:lnTo>
                  <a:lnTo>
                    <a:pt x="238" y="164"/>
                  </a:lnTo>
                  <a:lnTo>
                    <a:pt x="212" y="176"/>
                  </a:lnTo>
                  <a:lnTo>
                    <a:pt x="186" y="188"/>
                  </a:lnTo>
                  <a:lnTo>
                    <a:pt x="160" y="196"/>
                  </a:lnTo>
                  <a:lnTo>
                    <a:pt x="132" y="204"/>
                  </a:lnTo>
                  <a:lnTo>
                    <a:pt x="104" y="208"/>
                  </a:lnTo>
                  <a:lnTo>
                    <a:pt x="104" y="208"/>
                  </a:lnTo>
                  <a:lnTo>
                    <a:pt x="84" y="218"/>
                  </a:lnTo>
                  <a:lnTo>
                    <a:pt x="74" y="220"/>
                  </a:lnTo>
                  <a:lnTo>
                    <a:pt x="66" y="218"/>
                  </a:lnTo>
                  <a:lnTo>
                    <a:pt x="66" y="218"/>
                  </a:lnTo>
                  <a:lnTo>
                    <a:pt x="30" y="246"/>
                  </a:lnTo>
                  <a:lnTo>
                    <a:pt x="24" y="254"/>
                  </a:lnTo>
                  <a:lnTo>
                    <a:pt x="16" y="262"/>
                  </a:lnTo>
                  <a:lnTo>
                    <a:pt x="10" y="272"/>
                  </a:lnTo>
                  <a:lnTo>
                    <a:pt x="6" y="282"/>
                  </a:lnTo>
                  <a:lnTo>
                    <a:pt x="6" y="282"/>
                  </a:lnTo>
                  <a:lnTo>
                    <a:pt x="14" y="270"/>
                  </a:lnTo>
                  <a:lnTo>
                    <a:pt x="24" y="262"/>
                  </a:lnTo>
                  <a:lnTo>
                    <a:pt x="36" y="254"/>
                  </a:lnTo>
                  <a:lnTo>
                    <a:pt x="48" y="246"/>
                  </a:lnTo>
                  <a:lnTo>
                    <a:pt x="74" y="234"/>
                  </a:lnTo>
                  <a:lnTo>
                    <a:pt x="86" y="228"/>
                  </a:lnTo>
                  <a:lnTo>
                    <a:pt x="98" y="220"/>
                  </a:lnTo>
                  <a:lnTo>
                    <a:pt x="102" y="226"/>
                  </a:lnTo>
                  <a:lnTo>
                    <a:pt x="102" y="226"/>
                  </a:lnTo>
                  <a:lnTo>
                    <a:pt x="74" y="244"/>
                  </a:lnTo>
                  <a:lnTo>
                    <a:pt x="60" y="254"/>
                  </a:lnTo>
                  <a:lnTo>
                    <a:pt x="46" y="266"/>
                  </a:lnTo>
                  <a:lnTo>
                    <a:pt x="34" y="278"/>
                  </a:lnTo>
                  <a:lnTo>
                    <a:pt x="22" y="292"/>
                  </a:lnTo>
                  <a:lnTo>
                    <a:pt x="12" y="306"/>
                  </a:lnTo>
                  <a:lnTo>
                    <a:pt x="6" y="320"/>
                  </a:lnTo>
                  <a:lnTo>
                    <a:pt x="6" y="320"/>
                  </a:lnTo>
                  <a:lnTo>
                    <a:pt x="14" y="314"/>
                  </a:lnTo>
                  <a:lnTo>
                    <a:pt x="22" y="306"/>
                  </a:lnTo>
                  <a:lnTo>
                    <a:pt x="36" y="290"/>
                  </a:lnTo>
                  <a:lnTo>
                    <a:pt x="50" y="274"/>
                  </a:lnTo>
                  <a:lnTo>
                    <a:pt x="58" y="268"/>
                  </a:lnTo>
                  <a:lnTo>
                    <a:pt x="68" y="262"/>
                  </a:lnTo>
                  <a:lnTo>
                    <a:pt x="68" y="262"/>
                  </a:lnTo>
                  <a:lnTo>
                    <a:pt x="70" y="264"/>
                  </a:lnTo>
                  <a:lnTo>
                    <a:pt x="70" y="268"/>
                  </a:lnTo>
                  <a:lnTo>
                    <a:pt x="66" y="272"/>
                  </a:lnTo>
                  <a:lnTo>
                    <a:pt x="64" y="276"/>
                  </a:lnTo>
                  <a:lnTo>
                    <a:pt x="64" y="276"/>
                  </a:lnTo>
                  <a:lnTo>
                    <a:pt x="44" y="298"/>
                  </a:lnTo>
                  <a:lnTo>
                    <a:pt x="26" y="320"/>
                  </a:lnTo>
                  <a:lnTo>
                    <a:pt x="18" y="330"/>
                  </a:lnTo>
                  <a:lnTo>
                    <a:pt x="12" y="342"/>
                  </a:lnTo>
                  <a:lnTo>
                    <a:pt x="6" y="356"/>
                  </a:lnTo>
                  <a:lnTo>
                    <a:pt x="6" y="370"/>
                  </a:lnTo>
                  <a:lnTo>
                    <a:pt x="6" y="370"/>
                  </a:lnTo>
                  <a:lnTo>
                    <a:pt x="2" y="376"/>
                  </a:lnTo>
                  <a:lnTo>
                    <a:pt x="0" y="384"/>
                  </a:lnTo>
                  <a:lnTo>
                    <a:pt x="0" y="384"/>
                  </a:lnTo>
                  <a:lnTo>
                    <a:pt x="10" y="362"/>
                  </a:lnTo>
                  <a:lnTo>
                    <a:pt x="20" y="338"/>
                  </a:lnTo>
                  <a:lnTo>
                    <a:pt x="32" y="318"/>
                  </a:lnTo>
                  <a:lnTo>
                    <a:pt x="40" y="308"/>
                  </a:lnTo>
                  <a:lnTo>
                    <a:pt x="48" y="300"/>
                  </a:lnTo>
                  <a:lnTo>
                    <a:pt x="48" y="300"/>
                  </a:lnTo>
                  <a:lnTo>
                    <a:pt x="44" y="314"/>
                  </a:lnTo>
                  <a:lnTo>
                    <a:pt x="36" y="326"/>
                  </a:lnTo>
                  <a:lnTo>
                    <a:pt x="22" y="354"/>
                  </a:lnTo>
                  <a:lnTo>
                    <a:pt x="16" y="370"/>
                  </a:lnTo>
                  <a:lnTo>
                    <a:pt x="12" y="384"/>
                  </a:lnTo>
                  <a:lnTo>
                    <a:pt x="10" y="400"/>
                  </a:lnTo>
                  <a:lnTo>
                    <a:pt x="10" y="416"/>
                  </a:lnTo>
                  <a:lnTo>
                    <a:pt x="10" y="416"/>
                  </a:lnTo>
                  <a:lnTo>
                    <a:pt x="22" y="384"/>
                  </a:lnTo>
                  <a:lnTo>
                    <a:pt x="36" y="354"/>
                  </a:lnTo>
                  <a:lnTo>
                    <a:pt x="54" y="324"/>
                  </a:lnTo>
                  <a:lnTo>
                    <a:pt x="62" y="312"/>
                  </a:lnTo>
                  <a:lnTo>
                    <a:pt x="74" y="298"/>
                  </a:lnTo>
                  <a:lnTo>
                    <a:pt x="74" y="298"/>
                  </a:lnTo>
                  <a:lnTo>
                    <a:pt x="74" y="304"/>
                  </a:lnTo>
                  <a:lnTo>
                    <a:pt x="72" y="308"/>
                  </a:lnTo>
                  <a:lnTo>
                    <a:pt x="66" y="318"/>
                  </a:lnTo>
                  <a:lnTo>
                    <a:pt x="58" y="328"/>
                  </a:lnTo>
                  <a:lnTo>
                    <a:pt x="54" y="338"/>
                  </a:lnTo>
                  <a:lnTo>
                    <a:pt x="54" y="338"/>
                  </a:lnTo>
                  <a:lnTo>
                    <a:pt x="54" y="346"/>
                  </a:lnTo>
                  <a:lnTo>
                    <a:pt x="52" y="352"/>
                  </a:lnTo>
                  <a:lnTo>
                    <a:pt x="46" y="366"/>
                  </a:lnTo>
                  <a:lnTo>
                    <a:pt x="38" y="378"/>
                  </a:lnTo>
                  <a:lnTo>
                    <a:pt x="34" y="384"/>
                  </a:lnTo>
                  <a:lnTo>
                    <a:pt x="32" y="390"/>
                  </a:lnTo>
                  <a:lnTo>
                    <a:pt x="26" y="452"/>
                  </a:lnTo>
                  <a:lnTo>
                    <a:pt x="26" y="452"/>
                  </a:lnTo>
                  <a:lnTo>
                    <a:pt x="28" y="436"/>
                  </a:lnTo>
                  <a:lnTo>
                    <a:pt x="32" y="420"/>
                  </a:lnTo>
                  <a:lnTo>
                    <a:pt x="44" y="388"/>
                  </a:lnTo>
                  <a:lnTo>
                    <a:pt x="58" y="360"/>
                  </a:lnTo>
                  <a:lnTo>
                    <a:pt x="72" y="330"/>
                  </a:lnTo>
                  <a:lnTo>
                    <a:pt x="96" y="302"/>
                  </a:lnTo>
                  <a:lnTo>
                    <a:pt x="100" y="308"/>
                  </a:lnTo>
                  <a:lnTo>
                    <a:pt x="100" y="308"/>
                  </a:lnTo>
                  <a:lnTo>
                    <a:pt x="82" y="338"/>
                  </a:lnTo>
                  <a:lnTo>
                    <a:pt x="64" y="370"/>
                  </a:lnTo>
                  <a:lnTo>
                    <a:pt x="56" y="386"/>
                  </a:lnTo>
                  <a:lnTo>
                    <a:pt x="50" y="404"/>
                  </a:lnTo>
                  <a:lnTo>
                    <a:pt x="48" y="420"/>
                  </a:lnTo>
                  <a:lnTo>
                    <a:pt x="48" y="438"/>
                  </a:lnTo>
                  <a:lnTo>
                    <a:pt x="48" y="438"/>
                  </a:lnTo>
                  <a:lnTo>
                    <a:pt x="54" y="420"/>
                  </a:lnTo>
                  <a:lnTo>
                    <a:pt x="56" y="402"/>
                  </a:lnTo>
                  <a:lnTo>
                    <a:pt x="62" y="386"/>
                  </a:lnTo>
                  <a:lnTo>
                    <a:pt x="66" y="380"/>
                  </a:lnTo>
                  <a:lnTo>
                    <a:pt x="72" y="374"/>
                  </a:lnTo>
                  <a:lnTo>
                    <a:pt x="74" y="376"/>
                  </a:lnTo>
                  <a:lnTo>
                    <a:pt x="74" y="376"/>
                  </a:lnTo>
                  <a:lnTo>
                    <a:pt x="82" y="358"/>
                  </a:lnTo>
                  <a:lnTo>
                    <a:pt x="92" y="342"/>
                  </a:lnTo>
                  <a:lnTo>
                    <a:pt x="106" y="328"/>
                  </a:lnTo>
                  <a:lnTo>
                    <a:pt x="120" y="314"/>
                  </a:lnTo>
                  <a:lnTo>
                    <a:pt x="124" y="318"/>
                  </a:lnTo>
                  <a:lnTo>
                    <a:pt x="124" y="318"/>
                  </a:lnTo>
                  <a:lnTo>
                    <a:pt x="106" y="340"/>
                  </a:lnTo>
                  <a:lnTo>
                    <a:pt x="88" y="364"/>
                  </a:lnTo>
                  <a:lnTo>
                    <a:pt x="82" y="376"/>
                  </a:lnTo>
                  <a:lnTo>
                    <a:pt x="76" y="388"/>
                  </a:lnTo>
                  <a:lnTo>
                    <a:pt x="74" y="402"/>
                  </a:lnTo>
                  <a:lnTo>
                    <a:pt x="72" y="418"/>
                  </a:lnTo>
                  <a:lnTo>
                    <a:pt x="72" y="418"/>
                  </a:lnTo>
                  <a:lnTo>
                    <a:pt x="78" y="398"/>
                  </a:lnTo>
                  <a:lnTo>
                    <a:pt x="90" y="380"/>
                  </a:lnTo>
                  <a:lnTo>
                    <a:pt x="102" y="364"/>
                  </a:lnTo>
                  <a:lnTo>
                    <a:pt x="116" y="350"/>
                  </a:lnTo>
                  <a:lnTo>
                    <a:pt x="118" y="352"/>
                  </a:lnTo>
                  <a:lnTo>
                    <a:pt x="118" y="352"/>
                  </a:lnTo>
                  <a:lnTo>
                    <a:pt x="126" y="344"/>
                  </a:lnTo>
                  <a:lnTo>
                    <a:pt x="136" y="334"/>
                  </a:lnTo>
                  <a:lnTo>
                    <a:pt x="140" y="340"/>
                  </a:lnTo>
                  <a:lnTo>
                    <a:pt x="140" y="340"/>
                  </a:lnTo>
                  <a:lnTo>
                    <a:pt x="122" y="362"/>
                  </a:lnTo>
                  <a:lnTo>
                    <a:pt x="106" y="386"/>
                  </a:lnTo>
                  <a:lnTo>
                    <a:pt x="94" y="410"/>
                  </a:lnTo>
                  <a:lnTo>
                    <a:pt x="90" y="424"/>
                  </a:lnTo>
                  <a:lnTo>
                    <a:pt x="86" y="438"/>
                  </a:lnTo>
                  <a:lnTo>
                    <a:pt x="86" y="438"/>
                  </a:lnTo>
                  <a:lnTo>
                    <a:pt x="94" y="416"/>
                  </a:lnTo>
                  <a:lnTo>
                    <a:pt x="106" y="394"/>
                  </a:lnTo>
                  <a:lnTo>
                    <a:pt x="118" y="374"/>
                  </a:lnTo>
                  <a:lnTo>
                    <a:pt x="136" y="354"/>
                  </a:lnTo>
                  <a:lnTo>
                    <a:pt x="152" y="336"/>
                  </a:lnTo>
                  <a:lnTo>
                    <a:pt x="172" y="318"/>
                  </a:lnTo>
                  <a:lnTo>
                    <a:pt x="192" y="302"/>
                  </a:lnTo>
                  <a:lnTo>
                    <a:pt x="212" y="288"/>
                  </a:lnTo>
                  <a:lnTo>
                    <a:pt x="220" y="290"/>
                  </a:lnTo>
                  <a:lnTo>
                    <a:pt x="220" y="290"/>
                  </a:lnTo>
                  <a:lnTo>
                    <a:pt x="270" y="262"/>
                  </a:lnTo>
                  <a:lnTo>
                    <a:pt x="320" y="234"/>
                  </a:lnTo>
                  <a:lnTo>
                    <a:pt x="344" y="216"/>
                  </a:lnTo>
                  <a:lnTo>
                    <a:pt x="366" y="200"/>
                  </a:lnTo>
                  <a:lnTo>
                    <a:pt x="390" y="182"/>
                  </a:lnTo>
                  <a:lnTo>
                    <a:pt x="410" y="162"/>
                  </a:lnTo>
                  <a:lnTo>
                    <a:pt x="410" y="162"/>
                  </a:lnTo>
                  <a:lnTo>
                    <a:pt x="422" y="144"/>
                  </a:lnTo>
                  <a:lnTo>
                    <a:pt x="432" y="122"/>
                  </a:lnTo>
                  <a:lnTo>
                    <a:pt x="440" y="100"/>
                  </a:lnTo>
                  <a:lnTo>
                    <a:pt x="444" y="78"/>
                  </a:lnTo>
                  <a:lnTo>
                    <a:pt x="444" y="78"/>
                  </a:lnTo>
                  <a:lnTo>
                    <a:pt x="436" y="102"/>
                  </a:lnTo>
                  <a:lnTo>
                    <a:pt x="428" y="126"/>
                  </a:lnTo>
                  <a:lnTo>
                    <a:pt x="422" y="138"/>
                  </a:lnTo>
                  <a:lnTo>
                    <a:pt x="414" y="148"/>
                  </a:lnTo>
                  <a:lnTo>
                    <a:pt x="406" y="156"/>
                  </a:lnTo>
                  <a:lnTo>
                    <a:pt x="396" y="162"/>
                  </a:lnTo>
                  <a:lnTo>
                    <a:pt x="394" y="158"/>
                  </a:lnTo>
                  <a:lnTo>
                    <a:pt x="394" y="158"/>
                  </a:lnTo>
                  <a:lnTo>
                    <a:pt x="406" y="138"/>
                  </a:lnTo>
                  <a:lnTo>
                    <a:pt x="418" y="118"/>
                  </a:lnTo>
                  <a:lnTo>
                    <a:pt x="422" y="108"/>
                  </a:lnTo>
                  <a:lnTo>
                    <a:pt x="426" y="96"/>
                  </a:lnTo>
                  <a:lnTo>
                    <a:pt x="426" y="84"/>
                  </a:lnTo>
                  <a:lnTo>
                    <a:pt x="426" y="72"/>
                  </a:lnTo>
                  <a:lnTo>
                    <a:pt x="426" y="72"/>
                  </a:lnTo>
                  <a:lnTo>
                    <a:pt x="424" y="84"/>
                  </a:lnTo>
                  <a:lnTo>
                    <a:pt x="422" y="98"/>
                  </a:lnTo>
                  <a:lnTo>
                    <a:pt x="416" y="110"/>
                  </a:lnTo>
                  <a:lnTo>
                    <a:pt x="410" y="124"/>
                  </a:lnTo>
                  <a:lnTo>
                    <a:pt x="392" y="148"/>
                  </a:lnTo>
                  <a:lnTo>
                    <a:pt x="374" y="170"/>
                  </a:lnTo>
                  <a:lnTo>
                    <a:pt x="374" y="170"/>
                  </a:lnTo>
                  <a:lnTo>
                    <a:pt x="370" y="170"/>
                  </a:lnTo>
                  <a:lnTo>
                    <a:pt x="368" y="168"/>
                  </a:lnTo>
                  <a:lnTo>
                    <a:pt x="368" y="168"/>
                  </a:lnTo>
                  <a:lnTo>
                    <a:pt x="376" y="158"/>
                  </a:lnTo>
                  <a:lnTo>
                    <a:pt x="384" y="148"/>
                  </a:lnTo>
                  <a:lnTo>
                    <a:pt x="394" y="126"/>
                  </a:lnTo>
                  <a:lnTo>
                    <a:pt x="402" y="102"/>
                  </a:lnTo>
                  <a:lnTo>
                    <a:pt x="408" y="78"/>
                  </a:lnTo>
                  <a:lnTo>
                    <a:pt x="408" y="78"/>
                  </a:lnTo>
                  <a:lnTo>
                    <a:pt x="396" y="106"/>
                  </a:lnTo>
                  <a:lnTo>
                    <a:pt x="382" y="130"/>
                  </a:lnTo>
                  <a:lnTo>
                    <a:pt x="374" y="142"/>
                  </a:lnTo>
                  <a:lnTo>
                    <a:pt x="364" y="154"/>
                  </a:lnTo>
                  <a:lnTo>
                    <a:pt x="354" y="162"/>
                  </a:lnTo>
                  <a:lnTo>
                    <a:pt x="340" y="172"/>
                  </a:lnTo>
                  <a:lnTo>
                    <a:pt x="336" y="166"/>
                  </a:lnTo>
                  <a:lnTo>
                    <a:pt x="336" y="166"/>
                  </a:lnTo>
                  <a:lnTo>
                    <a:pt x="348" y="160"/>
                  </a:lnTo>
                  <a:lnTo>
                    <a:pt x="356" y="150"/>
                  </a:lnTo>
                  <a:lnTo>
                    <a:pt x="362" y="140"/>
                  </a:lnTo>
                  <a:lnTo>
                    <a:pt x="368" y="130"/>
                  </a:lnTo>
                  <a:lnTo>
                    <a:pt x="376" y="106"/>
                  </a:lnTo>
                  <a:lnTo>
                    <a:pt x="382" y="94"/>
                  </a:lnTo>
                  <a:lnTo>
                    <a:pt x="390" y="84"/>
                  </a:lnTo>
                  <a:lnTo>
                    <a:pt x="390" y="84"/>
                  </a:lnTo>
                  <a:lnTo>
                    <a:pt x="390" y="88"/>
                  </a:lnTo>
                  <a:lnTo>
                    <a:pt x="388" y="88"/>
                  </a:lnTo>
                  <a:lnTo>
                    <a:pt x="380" y="88"/>
                  </a:lnTo>
                  <a:lnTo>
                    <a:pt x="380" y="88"/>
                  </a:lnTo>
                  <a:lnTo>
                    <a:pt x="372" y="104"/>
                  </a:lnTo>
                  <a:lnTo>
                    <a:pt x="362" y="118"/>
                  </a:lnTo>
                  <a:lnTo>
                    <a:pt x="350" y="132"/>
                  </a:lnTo>
                  <a:lnTo>
                    <a:pt x="338" y="144"/>
                  </a:lnTo>
                  <a:lnTo>
                    <a:pt x="332" y="138"/>
                  </a:lnTo>
                  <a:lnTo>
                    <a:pt x="332" y="138"/>
                  </a:lnTo>
                  <a:lnTo>
                    <a:pt x="344" y="126"/>
                  </a:lnTo>
                  <a:lnTo>
                    <a:pt x="354" y="112"/>
                  </a:lnTo>
                  <a:lnTo>
                    <a:pt x="362" y="96"/>
                  </a:lnTo>
                  <a:lnTo>
                    <a:pt x="370" y="82"/>
                  </a:lnTo>
                  <a:lnTo>
                    <a:pt x="374" y="66"/>
                  </a:lnTo>
                  <a:lnTo>
                    <a:pt x="378" y="50"/>
                  </a:lnTo>
                  <a:lnTo>
                    <a:pt x="380" y="36"/>
                  </a:lnTo>
                  <a:lnTo>
                    <a:pt x="378" y="22"/>
                  </a:lnTo>
                  <a:lnTo>
                    <a:pt x="378" y="22"/>
                  </a:lnTo>
                  <a:lnTo>
                    <a:pt x="376" y="36"/>
                  </a:lnTo>
                  <a:lnTo>
                    <a:pt x="374" y="50"/>
                  </a:lnTo>
                  <a:lnTo>
                    <a:pt x="368" y="64"/>
                  </a:lnTo>
                  <a:lnTo>
                    <a:pt x="362" y="78"/>
                  </a:lnTo>
                  <a:lnTo>
                    <a:pt x="356" y="90"/>
                  </a:lnTo>
                  <a:lnTo>
                    <a:pt x="348" y="102"/>
                  </a:lnTo>
                  <a:lnTo>
                    <a:pt x="338" y="114"/>
                  </a:lnTo>
                  <a:lnTo>
                    <a:pt x="328" y="124"/>
                  </a:lnTo>
                  <a:lnTo>
                    <a:pt x="326" y="120"/>
                  </a:lnTo>
                  <a:lnTo>
                    <a:pt x="326" y="120"/>
                  </a:lnTo>
                  <a:lnTo>
                    <a:pt x="330" y="112"/>
                  </a:lnTo>
                  <a:lnTo>
                    <a:pt x="334" y="104"/>
                  </a:lnTo>
                  <a:lnTo>
                    <a:pt x="344" y="90"/>
                  </a:lnTo>
                  <a:lnTo>
                    <a:pt x="354" y="74"/>
                  </a:lnTo>
                  <a:lnTo>
                    <a:pt x="356" y="66"/>
                  </a:lnTo>
                  <a:lnTo>
                    <a:pt x="358" y="58"/>
                  </a:lnTo>
                  <a:lnTo>
                    <a:pt x="358" y="58"/>
                  </a:lnTo>
                  <a:lnTo>
                    <a:pt x="362" y="52"/>
                  </a:lnTo>
                  <a:lnTo>
                    <a:pt x="364" y="44"/>
                  </a:lnTo>
                  <a:lnTo>
                    <a:pt x="366" y="30"/>
                  </a:lnTo>
                  <a:lnTo>
                    <a:pt x="366" y="16"/>
                  </a:lnTo>
                  <a:lnTo>
                    <a:pt x="364" y="0"/>
                  </a:lnTo>
                  <a:lnTo>
                    <a:pt x="364" y="0"/>
                  </a:lnTo>
                  <a:lnTo>
                    <a:pt x="366" y="8"/>
                  </a:lnTo>
                  <a:lnTo>
                    <a:pt x="364" y="16"/>
                  </a:lnTo>
                  <a:lnTo>
                    <a:pt x="360" y="28"/>
                  </a:lnTo>
                  <a:lnTo>
                    <a:pt x="358" y="40"/>
                  </a:lnTo>
                  <a:lnTo>
                    <a:pt x="358" y="46"/>
                  </a:lnTo>
                  <a:lnTo>
                    <a:pt x="360" y="54"/>
                  </a:lnTo>
                  <a:lnTo>
                    <a:pt x="360" y="54"/>
                  </a:lnTo>
                  <a:close/>
                </a:path>
              </a:pathLst>
            </a:custGeom>
            <a:solidFill>
              <a:srgbClr val="ea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グループ化 170"/>
          <p:cNvGrpSpPr/>
          <p:nvPr/>
        </p:nvGrpSpPr>
        <p:grpSpPr>
          <a:xfrm>
            <a:off x="6678720" y="3495600"/>
            <a:ext cx="1778040" cy="2673360"/>
            <a:chOff x="6678720" y="3495600"/>
            <a:chExt cx="1778040" cy="2673360"/>
          </a:xfrm>
        </p:grpSpPr>
        <p:sp>
          <p:nvSpPr>
            <p:cNvPr id="156" name="Freeform 5"/>
            <p:cNvSpPr/>
            <p:nvPr/>
          </p:nvSpPr>
          <p:spPr>
            <a:xfrm>
              <a:off x="6678720" y="3495600"/>
              <a:ext cx="1778040" cy="2673360"/>
            </a:xfrm>
            <a:custGeom>
              <a:avLst/>
              <a:gdLst>
                <a:gd name="textAreaLeft" fmla="*/ 0 w 1778040"/>
                <a:gd name="textAreaRight" fmla="*/ 1778400 w 1778040"/>
                <a:gd name="textAreaTop" fmla="*/ 0 h 2673360"/>
                <a:gd name="textAreaBottom" fmla="*/ 2673720 h 2673360"/>
              </a:gdLst>
              <a:ahLst/>
              <a:rect l="textAreaLeft" t="textAreaTop" r="textAreaRight" b="textAreaBottom"/>
              <a:pathLst>
                <a:path w="1120" h="1684">
                  <a:moveTo>
                    <a:pt x="1120" y="842"/>
                  </a:moveTo>
                  <a:lnTo>
                    <a:pt x="1120" y="842"/>
                  </a:lnTo>
                  <a:lnTo>
                    <a:pt x="1120" y="886"/>
                  </a:lnTo>
                  <a:lnTo>
                    <a:pt x="1118" y="928"/>
                  </a:lnTo>
                  <a:lnTo>
                    <a:pt x="1114" y="970"/>
                  </a:lnTo>
                  <a:lnTo>
                    <a:pt x="1110" y="1012"/>
                  </a:lnTo>
                  <a:lnTo>
                    <a:pt x="1102" y="1052"/>
                  </a:lnTo>
                  <a:lnTo>
                    <a:pt x="1096" y="1092"/>
                  </a:lnTo>
                  <a:lnTo>
                    <a:pt x="1086" y="1132"/>
                  </a:lnTo>
                  <a:lnTo>
                    <a:pt x="1076" y="1170"/>
                  </a:lnTo>
                  <a:lnTo>
                    <a:pt x="1066" y="1206"/>
                  </a:lnTo>
                  <a:lnTo>
                    <a:pt x="1052" y="1244"/>
                  </a:lnTo>
                  <a:lnTo>
                    <a:pt x="1040" y="1278"/>
                  </a:lnTo>
                  <a:lnTo>
                    <a:pt x="1024" y="1312"/>
                  </a:lnTo>
                  <a:lnTo>
                    <a:pt x="1010" y="1346"/>
                  </a:lnTo>
                  <a:lnTo>
                    <a:pt x="992" y="1378"/>
                  </a:lnTo>
                  <a:lnTo>
                    <a:pt x="974" y="1408"/>
                  </a:lnTo>
                  <a:lnTo>
                    <a:pt x="956" y="1438"/>
                  </a:lnTo>
                  <a:lnTo>
                    <a:pt x="936" y="1464"/>
                  </a:lnTo>
                  <a:lnTo>
                    <a:pt x="916" y="1492"/>
                  </a:lnTo>
                  <a:lnTo>
                    <a:pt x="896" y="1516"/>
                  </a:lnTo>
                  <a:lnTo>
                    <a:pt x="874" y="1540"/>
                  </a:lnTo>
                  <a:lnTo>
                    <a:pt x="850" y="1562"/>
                  </a:lnTo>
                  <a:lnTo>
                    <a:pt x="828" y="1582"/>
                  </a:lnTo>
                  <a:lnTo>
                    <a:pt x="804" y="1600"/>
                  </a:lnTo>
                  <a:lnTo>
                    <a:pt x="778" y="1618"/>
                  </a:lnTo>
                  <a:lnTo>
                    <a:pt x="752" y="1632"/>
                  </a:lnTo>
                  <a:lnTo>
                    <a:pt x="726" y="1646"/>
                  </a:lnTo>
                  <a:lnTo>
                    <a:pt x="700" y="1656"/>
                  </a:lnTo>
                  <a:lnTo>
                    <a:pt x="674" y="1666"/>
                  </a:lnTo>
                  <a:lnTo>
                    <a:pt x="646" y="1674"/>
                  </a:lnTo>
                  <a:lnTo>
                    <a:pt x="618" y="1680"/>
                  </a:lnTo>
                  <a:lnTo>
                    <a:pt x="588" y="1682"/>
                  </a:lnTo>
                  <a:lnTo>
                    <a:pt x="560" y="1684"/>
                  </a:lnTo>
                  <a:lnTo>
                    <a:pt x="560" y="1684"/>
                  </a:lnTo>
                  <a:lnTo>
                    <a:pt x="532" y="1682"/>
                  </a:lnTo>
                  <a:lnTo>
                    <a:pt x="502" y="1680"/>
                  </a:lnTo>
                  <a:lnTo>
                    <a:pt x="474" y="1674"/>
                  </a:lnTo>
                  <a:lnTo>
                    <a:pt x="448" y="1666"/>
                  </a:lnTo>
                  <a:lnTo>
                    <a:pt x="420" y="1656"/>
                  </a:lnTo>
                  <a:lnTo>
                    <a:pt x="394" y="1646"/>
                  </a:lnTo>
                  <a:lnTo>
                    <a:pt x="368" y="1632"/>
                  </a:lnTo>
                  <a:lnTo>
                    <a:pt x="342" y="1618"/>
                  </a:lnTo>
                  <a:lnTo>
                    <a:pt x="318" y="1600"/>
                  </a:lnTo>
                  <a:lnTo>
                    <a:pt x="292" y="1582"/>
                  </a:lnTo>
                  <a:lnTo>
                    <a:pt x="270" y="1562"/>
                  </a:lnTo>
                  <a:lnTo>
                    <a:pt x="246" y="1540"/>
                  </a:lnTo>
                  <a:lnTo>
                    <a:pt x="224" y="1516"/>
                  </a:lnTo>
                  <a:lnTo>
                    <a:pt x="204" y="1492"/>
                  </a:lnTo>
                  <a:lnTo>
                    <a:pt x="184" y="1464"/>
                  </a:lnTo>
                  <a:lnTo>
                    <a:pt x="164" y="1438"/>
                  </a:lnTo>
                  <a:lnTo>
                    <a:pt x="146" y="1408"/>
                  </a:lnTo>
                  <a:lnTo>
                    <a:pt x="128" y="1378"/>
                  </a:lnTo>
                  <a:lnTo>
                    <a:pt x="110" y="1346"/>
                  </a:lnTo>
                  <a:lnTo>
                    <a:pt x="96" y="1312"/>
                  </a:lnTo>
                  <a:lnTo>
                    <a:pt x="80" y="1278"/>
                  </a:lnTo>
                  <a:lnTo>
                    <a:pt x="68" y="1244"/>
                  </a:lnTo>
                  <a:lnTo>
                    <a:pt x="54" y="1206"/>
                  </a:lnTo>
                  <a:lnTo>
                    <a:pt x="44" y="1170"/>
                  </a:lnTo>
                  <a:lnTo>
                    <a:pt x="34" y="1132"/>
                  </a:lnTo>
                  <a:lnTo>
                    <a:pt x="24" y="1092"/>
                  </a:lnTo>
                  <a:lnTo>
                    <a:pt x="18" y="1052"/>
                  </a:lnTo>
                  <a:lnTo>
                    <a:pt x="12" y="1012"/>
                  </a:lnTo>
                  <a:lnTo>
                    <a:pt x="6" y="970"/>
                  </a:lnTo>
                  <a:lnTo>
                    <a:pt x="2" y="928"/>
                  </a:lnTo>
                  <a:lnTo>
                    <a:pt x="0" y="886"/>
                  </a:lnTo>
                  <a:lnTo>
                    <a:pt x="0" y="842"/>
                  </a:lnTo>
                  <a:lnTo>
                    <a:pt x="0" y="842"/>
                  </a:lnTo>
                  <a:lnTo>
                    <a:pt x="0" y="798"/>
                  </a:lnTo>
                  <a:lnTo>
                    <a:pt x="2" y="756"/>
                  </a:lnTo>
                  <a:lnTo>
                    <a:pt x="6" y="714"/>
                  </a:lnTo>
                  <a:lnTo>
                    <a:pt x="12" y="672"/>
                  </a:lnTo>
                  <a:lnTo>
                    <a:pt x="18" y="632"/>
                  </a:lnTo>
                  <a:lnTo>
                    <a:pt x="24" y="592"/>
                  </a:lnTo>
                  <a:lnTo>
                    <a:pt x="34" y="552"/>
                  </a:lnTo>
                  <a:lnTo>
                    <a:pt x="44" y="514"/>
                  </a:lnTo>
                  <a:lnTo>
                    <a:pt x="54" y="478"/>
                  </a:lnTo>
                  <a:lnTo>
                    <a:pt x="68" y="442"/>
                  </a:lnTo>
                  <a:lnTo>
                    <a:pt x="80" y="406"/>
                  </a:lnTo>
                  <a:lnTo>
                    <a:pt x="96" y="372"/>
                  </a:lnTo>
                  <a:lnTo>
                    <a:pt x="110" y="338"/>
                  </a:lnTo>
                  <a:lnTo>
                    <a:pt x="128" y="308"/>
                  </a:lnTo>
                  <a:lnTo>
                    <a:pt x="146" y="276"/>
                  </a:lnTo>
                  <a:lnTo>
                    <a:pt x="164" y="248"/>
                  </a:lnTo>
                  <a:lnTo>
                    <a:pt x="184" y="220"/>
                  </a:lnTo>
                  <a:lnTo>
                    <a:pt x="204" y="192"/>
                  </a:lnTo>
                  <a:lnTo>
                    <a:pt x="224" y="168"/>
                  </a:lnTo>
                  <a:lnTo>
                    <a:pt x="246" y="144"/>
                  </a:lnTo>
                  <a:lnTo>
                    <a:pt x="270" y="122"/>
                  </a:lnTo>
                  <a:lnTo>
                    <a:pt x="292" y="102"/>
                  </a:lnTo>
                  <a:lnTo>
                    <a:pt x="318" y="84"/>
                  </a:lnTo>
                  <a:lnTo>
                    <a:pt x="342" y="66"/>
                  </a:lnTo>
                  <a:lnTo>
                    <a:pt x="368" y="52"/>
                  </a:lnTo>
                  <a:lnTo>
                    <a:pt x="394" y="38"/>
                  </a:lnTo>
                  <a:lnTo>
                    <a:pt x="420" y="28"/>
                  </a:lnTo>
                  <a:lnTo>
                    <a:pt x="448" y="18"/>
                  </a:lnTo>
                  <a:lnTo>
                    <a:pt x="474" y="10"/>
                  </a:lnTo>
                  <a:lnTo>
                    <a:pt x="502" y="6"/>
                  </a:lnTo>
                  <a:lnTo>
                    <a:pt x="532" y="2"/>
                  </a:lnTo>
                  <a:lnTo>
                    <a:pt x="560" y="0"/>
                  </a:lnTo>
                  <a:lnTo>
                    <a:pt x="560" y="0"/>
                  </a:lnTo>
                  <a:lnTo>
                    <a:pt x="588" y="2"/>
                  </a:lnTo>
                  <a:lnTo>
                    <a:pt x="618" y="6"/>
                  </a:lnTo>
                  <a:lnTo>
                    <a:pt x="646" y="10"/>
                  </a:lnTo>
                  <a:lnTo>
                    <a:pt x="674" y="18"/>
                  </a:lnTo>
                  <a:lnTo>
                    <a:pt x="700" y="28"/>
                  </a:lnTo>
                  <a:lnTo>
                    <a:pt x="726" y="38"/>
                  </a:lnTo>
                  <a:lnTo>
                    <a:pt x="752" y="52"/>
                  </a:lnTo>
                  <a:lnTo>
                    <a:pt x="778" y="66"/>
                  </a:lnTo>
                  <a:lnTo>
                    <a:pt x="804" y="84"/>
                  </a:lnTo>
                  <a:lnTo>
                    <a:pt x="828" y="102"/>
                  </a:lnTo>
                  <a:lnTo>
                    <a:pt x="850" y="122"/>
                  </a:lnTo>
                  <a:lnTo>
                    <a:pt x="874" y="144"/>
                  </a:lnTo>
                  <a:lnTo>
                    <a:pt x="896" y="168"/>
                  </a:lnTo>
                  <a:lnTo>
                    <a:pt x="916" y="192"/>
                  </a:lnTo>
                  <a:lnTo>
                    <a:pt x="936" y="220"/>
                  </a:lnTo>
                  <a:lnTo>
                    <a:pt x="956" y="248"/>
                  </a:lnTo>
                  <a:lnTo>
                    <a:pt x="974" y="276"/>
                  </a:lnTo>
                  <a:lnTo>
                    <a:pt x="992" y="308"/>
                  </a:lnTo>
                  <a:lnTo>
                    <a:pt x="1010" y="338"/>
                  </a:lnTo>
                  <a:lnTo>
                    <a:pt x="1024" y="372"/>
                  </a:lnTo>
                  <a:lnTo>
                    <a:pt x="1040" y="406"/>
                  </a:lnTo>
                  <a:lnTo>
                    <a:pt x="1052" y="442"/>
                  </a:lnTo>
                  <a:lnTo>
                    <a:pt x="1066" y="478"/>
                  </a:lnTo>
                  <a:lnTo>
                    <a:pt x="1076" y="514"/>
                  </a:lnTo>
                  <a:lnTo>
                    <a:pt x="1086" y="552"/>
                  </a:lnTo>
                  <a:lnTo>
                    <a:pt x="1096" y="592"/>
                  </a:lnTo>
                  <a:lnTo>
                    <a:pt x="1102" y="632"/>
                  </a:lnTo>
                  <a:lnTo>
                    <a:pt x="1110" y="672"/>
                  </a:lnTo>
                  <a:lnTo>
                    <a:pt x="1114" y="714"/>
                  </a:lnTo>
                  <a:lnTo>
                    <a:pt x="1118" y="756"/>
                  </a:lnTo>
                  <a:lnTo>
                    <a:pt x="1120" y="798"/>
                  </a:lnTo>
                  <a:lnTo>
                    <a:pt x="1120" y="842"/>
                  </a:lnTo>
                  <a:lnTo>
                    <a:pt x="1120" y="842"/>
                  </a:lnTo>
                  <a:close/>
                </a:path>
              </a:pathLst>
            </a:custGeom>
            <a:solidFill>
              <a:srgbClr val="783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7135920" y="3495600"/>
              <a:ext cx="431640" cy="3553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272" h="224">
                  <a:moveTo>
                    <a:pt x="272" y="0"/>
                  </a:moveTo>
                  <a:lnTo>
                    <a:pt x="272" y="0"/>
                  </a:lnTo>
                  <a:lnTo>
                    <a:pt x="236" y="2"/>
                  </a:lnTo>
                  <a:lnTo>
                    <a:pt x="200" y="8"/>
                  </a:lnTo>
                  <a:lnTo>
                    <a:pt x="164" y="16"/>
                  </a:lnTo>
                  <a:lnTo>
                    <a:pt x="128" y="28"/>
                  </a:lnTo>
                  <a:lnTo>
                    <a:pt x="94" y="44"/>
                  </a:lnTo>
                  <a:lnTo>
                    <a:pt x="62" y="62"/>
                  </a:lnTo>
                  <a:lnTo>
                    <a:pt x="30" y="84"/>
                  </a:lnTo>
                  <a:lnTo>
                    <a:pt x="0" y="108"/>
                  </a:lnTo>
                  <a:lnTo>
                    <a:pt x="66" y="224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783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7"/>
            <p:cNvSpPr/>
            <p:nvPr/>
          </p:nvSpPr>
          <p:spPr>
            <a:xfrm>
              <a:off x="6881760" y="3666960"/>
              <a:ext cx="358560" cy="31428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26" h="198">
                  <a:moveTo>
                    <a:pt x="160" y="0"/>
                  </a:moveTo>
                  <a:lnTo>
                    <a:pt x="160" y="0"/>
                  </a:lnTo>
                  <a:lnTo>
                    <a:pt x="136" y="20"/>
                  </a:lnTo>
                  <a:lnTo>
                    <a:pt x="116" y="40"/>
                  </a:lnTo>
                  <a:lnTo>
                    <a:pt x="94" y="64"/>
                  </a:lnTo>
                  <a:lnTo>
                    <a:pt x="74" y="88"/>
                  </a:lnTo>
                  <a:lnTo>
                    <a:pt x="54" y="114"/>
                  </a:lnTo>
                  <a:lnTo>
                    <a:pt x="36" y="140"/>
                  </a:lnTo>
                  <a:lnTo>
                    <a:pt x="18" y="168"/>
                  </a:lnTo>
                  <a:lnTo>
                    <a:pt x="0" y="198"/>
                  </a:lnTo>
                  <a:lnTo>
                    <a:pt x="226" y="11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2d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6729480" y="3981240"/>
              <a:ext cx="206280" cy="4665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30" h="294">
                  <a:moveTo>
                    <a:pt x="96" y="0"/>
                  </a:moveTo>
                  <a:lnTo>
                    <a:pt x="96" y="0"/>
                  </a:lnTo>
                  <a:lnTo>
                    <a:pt x="66" y="58"/>
                  </a:lnTo>
                  <a:lnTo>
                    <a:pt x="40" y="120"/>
                  </a:lnTo>
                  <a:lnTo>
                    <a:pt x="18" y="186"/>
                  </a:lnTo>
                  <a:lnTo>
                    <a:pt x="0" y="256"/>
                  </a:lnTo>
                  <a:lnTo>
                    <a:pt x="130" y="29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83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678720" y="4387680"/>
              <a:ext cx="257040" cy="44424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162" h="280">
                  <a:moveTo>
                    <a:pt x="32" y="0"/>
                  </a:moveTo>
                  <a:lnTo>
                    <a:pt x="32" y="0"/>
                  </a:lnTo>
                  <a:lnTo>
                    <a:pt x="18" y="66"/>
                  </a:lnTo>
                  <a:lnTo>
                    <a:pt x="8" y="136"/>
                  </a:lnTo>
                  <a:lnTo>
                    <a:pt x="2" y="206"/>
                  </a:lnTo>
                  <a:lnTo>
                    <a:pt x="0" y="280"/>
                  </a:lnTo>
                  <a:lnTo>
                    <a:pt x="162" y="3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572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6935760" y="4187520"/>
              <a:ext cx="285480" cy="644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180" h="406">
                  <a:moveTo>
                    <a:pt x="0" y="164"/>
                  </a:moveTo>
                  <a:lnTo>
                    <a:pt x="0" y="164"/>
                  </a:lnTo>
                  <a:lnTo>
                    <a:pt x="100" y="406"/>
                  </a:lnTo>
                  <a:lnTo>
                    <a:pt x="180" y="0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2d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881760" y="3850920"/>
              <a:ext cx="358560" cy="59688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26" h="376">
                  <a:moveTo>
                    <a:pt x="226" y="0"/>
                  </a:move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34" y="376"/>
                  </a:lnTo>
                  <a:lnTo>
                    <a:pt x="214" y="212"/>
                  </a:lnTo>
                  <a:lnTo>
                    <a:pt x="214" y="212"/>
                  </a:lnTo>
                  <a:lnTo>
                    <a:pt x="214" y="21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ba8d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221600" y="3850920"/>
              <a:ext cx="345960" cy="33624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218" h="212">
                  <a:moveTo>
                    <a:pt x="12" y="0"/>
                  </a:moveTo>
                  <a:lnTo>
                    <a:pt x="0" y="212"/>
                  </a:lnTo>
                  <a:lnTo>
                    <a:pt x="218" y="3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7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7135920" y="5813640"/>
              <a:ext cx="431640" cy="3553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272" h="224">
                  <a:moveTo>
                    <a:pt x="272" y="224"/>
                  </a:moveTo>
                  <a:lnTo>
                    <a:pt x="272" y="224"/>
                  </a:lnTo>
                  <a:lnTo>
                    <a:pt x="236" y="222"/>
                  </a:lnTo>
                  <a:lnTo>
                    <a:pt x="200" y="216"/>
                  </a:lnTo>
                  <a:lnTo>
                    <a:pt x="164" y="208"/>
                  </a:lnTo>
                  <a:lnTo>
                    <a:pt x="128" y="196"/>
                  </a:lnTo>
                  <a:lnTo>
                    <a:pt x="94" y="180"/>
                  </a:lnTo>
                  <a:lnTo>
                    <a:pt x="62" y="162"/>
                  </a:lnTo>
                  <a:lnTo>
                    <a:pt x="30" y="140"/>
                  </a:lnTo>
                  <a:lnTo>
                    <a:pt x="0" y="118"/>
                  </a:lnTo>
                  <a:lnTo>
                    <a:pt x="66" y="0"/>
                  </a:lnTo>
                  <a:lnTo>
                    <a:pt x="272" y="224"/>
                  </a:lnTo>
                  <a:close/>
                </a:path>
              </a:pathLst>
            </a:custGeom>
            <a:solidFill>
              <a:srgbClr val="2d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6881760" y="5683320"/>
              <a:ext cx="358560" cy="317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26" h="200">
                  <a:moveTo>
                    <a:pt x="160" y="200"/>
                  </a:moveTo>
                  <a:lnTo>
                    <a:pt x="160" y="200"/>
                  </a:lnTo>
                  <a:lnTo>
                    <a:pt x="136" y="180"/>
                  </a:lnTo>
                  <a:lnTo>
                    <a:pt x="116" y="158"/>
                  </a:lnTo>
                  <a:lnTo>
                    <a:pt x="94" y="134"/>
                  </a:lnTo>
                  <a:lnTo>
                    <a:pt x="74" y="110"/>
                  </a:lnTo>
                  <a:lnTo>
                    <a:pt x="54" y="84"/>
                  </a:lnTo>
                  <a:lnTo>
                    <a:pt x="36" y="58"/>
                  </a:lnTo>
                  <a:lnTo>
                    <a:pt x="18" y="30"/>
                  </a:lnTo>
                  <a:lnTo>
                    <a:pt x="0" y="0"/>
                  </a:lnTo>
                  <a:lnTo>
                    <a:pt x="226" y="82"/>
                  </a:lnTo>
                  <a:lnTo>
                    <a:pt x="160" y="200"/>
                  </a:lnTo>
                  <a:close/>
                </a:path>
              </a:pathLst>
            </a:custGeom>
            <a:solidFill>
              <a:srgbClr val="814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6729480" y="5216400"/>
              <a:ext cx="206280" cy="4665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30" h="294">
                  <a:moveTo>
                    <a:pt x="96" y="294"/>
                  </a:moveTo>
                  <a:lnTo>
                    <a:pt x="96" y="294"/>
                  </a:lnTo>
                  <a:lnTo>
                    <a:pt x="66" y="236"/>
                  </a:lnTo>
                  <a:lnTo>
                    <a:pt x="40" y="174"/>
                  </a:lnTo>
                  <a:lnTo>
                    <a:pt x="18" y="108"/>
                  </a:lnTo>
                  <a:lnTo>
                    <a:pt x="0" y="38"/>
                  </a:lnTo>
                  <a:lnTo>
                    <a:pt x="130" y="0"/>
                  </a:lnTo>
                  <a:lnTo>
                    <a:pt x="96" y="294"/>
                  </a:lnTo>
                  <a:close/>
                </a:path>
              </a:pathLst>
            </a:custGeom>
            <a:solidFill>
              <a:srgbClr val="be6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6"/>
            <p:cNvSpPr/>
            <p:nvPr/>
          </p:nvSpPr>
          <p:spPr>
            <a:xfrm>
              <a:off x="6678720" y="4832280"/>
              <a:ext cx="257040" cy="44424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162" h="280">
                  <a:moveTo>
                    <a:pt x="32" y="280"/>
                  </a:moveTo>
                  <a:lnTo>
                    <a:pt x="32" y="280"/>
                  </a:lnTo>
                  <a:lnTo>
                    <a:pt x="18" y="214"/>
                  </a:lnTo>
                  <a:lnTo>
                    <a:pt x="8" y="144"/>
                  </a:lnTo>
                  <a:lnTo>
                    <a:pt x="2" y="72"/>
                  </a:lnTo>
                  <a:lnTo>
                    <a:pt x="0" y="0"/>
                  </a:lnTo>
                  <a:lnTo>
                    <a:pt x="162" y="242"/>
                  </a:lnTo>
                  <a:lnTo>
                    <a:pt x="32" y="280"/>
                  </a:lnTo>
                  <a:close/>
                </a:path>
              </a:pathLst>
            </a:custGeom>
            <a:solidFill>
              <a:srgbClr val="2d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7"/>
            <p:cNvSpPr/>
            <p:nvPr/>
          </p:nvSpPr>
          <p:spPr>
            <a:xfrm>
              <a:off x="6935760" y="4832280"/>
              <a:ext cx="285480" cy="644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180" h="406">
                  <a:moveTo>
                    <a:pt x="0" y="242"/>
                  </a:moveTo>
                  <a:lnTo>
                    <a:pt x="0" y="242"/>
                  </a:lnTo>
                  <a:lnTo>
                    <a:pt x="100" y="0"/>
                  </a:lnTo>
                  <a:lnTo>
                    <a:pt x="180" y="406"/>
                  </a:lnTo>
                  <a:lnTo>
                    <a:pt x="0" y="242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f0ea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8"/>
            <p:cNvSpPr/>
            <p:nvPr/>
          </p:nvSpPr>
          <p:spPr>
            <a:xfrm>
              <a:off x="6881760" y="5216400"/>
              <a:ext cx="358560" cy="59688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26" h="376">
                  <a:moveTo>
                    <a:pt x="226" y="376"/>
                  </a:moveTo>
                  <a:lnTo>
                    <a:pt x="0" y="294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34" y="0"/>
                  </a:lnTo>
                  <a:lnTo>
                    <a:pt x="214" y="164"/>
                  </a:lnTo>
                  <a:lnTo>
                    <a:pt x="214" y="164"/>
                  </a:lnTo>
                  <a:lnTo>
                    <a:pt x="214" y="164"/>
                  </a:lnTo>
                  <a:lnTo>
                    <a:pt x="226" y="376"/>
                  </a:lnTo>
                  <a:lnTo>
                    <a:pt x="226" y="376"/>
                  </a:lnTo>
                  <a:close/>
                </a:path>
              </a:pathLst>
            </a:custGeom>
            <a:solidFill>
              <a:srgbClr val="572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9"/>
            <p:cNvSpPr/>
            <p:nvPr/>
          </p:nvSpPr>
          <p:spPr>
            <a:xfrm>
              <a:off x="7221600" y="5477040"/>
              <a:ext cx="345960" cy="33624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218" h="212">
                  <a:moveTo>
                    <a:pt x="12" y="212"/>
                  </a:moveTo>
                  <a:lnTo>
                    <a:pt x="0" y="0"/>
                  </a:lnTo>
                  <a:lnTo>
                    <a:pt x="218" y="182"/>
                  </a:lnTo>
                  <a:lnTo>
                    <a:pt x="12" y="212"/>
                  </a:lnTo>
                  <a:lnTo>
                    <a:pt x="12" y="212"/>
                  </a:lnTo>
                  <a:lnTo>
                    <a:pt x="12" y="212"/>
                  </a:lnTo>
                  <a:close/>
                </a:path>
              </a:pathLst>
            </a:custGeom>
            <a:solidFill>
              <a:srgbClr val="711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20"/>
            <p:cNvSpPr/>
            <p:nvPr/>
          </p:nvSpPr>
          <p:spPr>
            <a:xfrm>
              <a:off x="7567560" y="3495600"/>
              <a:ext cx="431640" cy="3553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272" h="224">
                  <a:moveTo>
                    <a:pt x="0" y="0"/>
                  </a:moveTo>
                  <a:lnTo>
                    <a:pt x="0" y="0"/>
                  </a:lnTo>
                  <a:lnTo>
                    <a:pt x="36" y="2"/>
                  </a:lnTo>
                  <a:lnTo>
                    <a:pt x="72" y="8"/>
                  </a:lnTo>
                  <a:lnTo>
                    <a:pt x="108" y="16"/>
                  </a:lnTo>
                  <a:lnTo>
                    <a:pt x="144" y="28"/>
                  </a:lnTo>
                  <a:lnTo>
                    <a:pt x="178" y="44"/>
                  </a:lnTo>
                  <a:lnTo>
                    <a:pt x="210" y="62"/>
                  </a:lnTo>
                  <a:lnTo>
                    <a:pt x="242" y="84"/>
                  </a:lnTo>
                  <a:lnTo>
                    <a:pt x="272" y="108"/>
                  </a:lnTo>
                  <a:lnTo>
                    <a:pt x="206" y="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2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21"/>
            <p:cNvSpPr/>
            <p:nvPr/>
          </p:nvSpPr>
          <p:spPr>
            <a:xfrm>
              <a:off x="7894800" y="3666960"/>
              <a:ext cx="358560" cy="31428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26" h="198">
                  <a:moveTo>
                    <a:pt x="66" y="0"/>
                  </a:moveTo>
                  <a:lnTo>
                    <a:pt x="66" y="0"/>
                  </a:lnTo>
                  <a:lnTo>
                    <a:pt x="90" y="20"/>
                  </a:lnTo>
                  <a:lnTo>
                    <a:pt x="112" y="40"/>
                  </a:lnTo>
                  <a:lnTo>
                    <a:pt x="132" y="64"/>
                  </a:lnTo>
                  <a:lnTo>
                    <a:pt x="152" y="88"/>
                  </a:lnTo>
                  <a:lnTo>
                    <a:pt x="172" y="114"/>
                  </a:lnTo>
                  <a:lnTo>
                    <a:pt x="190" y="140"/>
                  </a:lnTo>
                  <a:lnTo>
                    <a:pt x="208" y="168"/>
                  </a:lnTo>
                  <a:lnTo>
                    <a:pt x="226" y="198"/>
                  </a:lnTo>
                  <a:lnTo>
                    <a:pt x="0" y="11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a8d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2"/>
            <p:cNvSpPr/>
            <p:nvPr/>
          </p:nvSpPr>
          <p:spPr>
            <a:xfrm>
              <a:off x="8199720" y="3981240"/>
              <a:ext cx="206280" cy="4665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30" h="294">
                  <a:moveTo>
                    <a:pt x="34" y="0"/>
                  </a:moveTo>
                  <a:lnTo>
                    <a:pt x="34" y="0"/>
                  </a:lnTo>
                  <a:lnTo>
                    <a:pt x="64" y="58"/>
                  </a:lnTo>
                  <a:lnTo>
                    <a:pt x="90" y="120"/>
                  </a:lnTo>
                  <a:lnTo>
                    <a:pt x="112" y="186"/>
                  </a:lnTo>
                  <a:lnTo>
                    <a:pt x="130" y="256"/>
                  </a:lnTo>
                  <a:lnTo>
                    <a:pt x="0" y="29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2d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3"/>
            <p:cNvSpPr/>
            <p:nvPr/>
          </p:nvSpPr>
          <p:spPr>
            <a:xfrm>
              <a:off x="8199720" y="4387680"/>
              <a:ext cx="257040" cy="44424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162" h="280">
                  <a:moveTo>
                    <a:pt x="130" y="0"/>
                  </a:moveTo>
                  <a:lnTo>
                    <a:pt x="130" y="0"/>
                  </a:lnTo>
                  <a:lnTo>
                    <a:pt x="144" y="66"/>
                  </a:lnTo>
                  <a:lnTo>
                    <a:pt x="154" y="136"/>
                  </a:lnTo>
                  <a:lnTo>
                    <a:pt x="160" y="208"/>
                  </a:lnTo>
                  <a:lnTo>
                    <a:pt x="162" y="280"/>
                  </a:lnTo>
                  <a:lnTo>
                    <a:pt x="0" y="38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783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24"/>
            <p:cNvSpPr/>
            <p:nvPr/>
          </p:nvSpPr>
          <p:spPr>
            <a:xfrm>
              <a:off x="7913880" y="4187520"/>
              <a:ext cx="285480" cy="644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180" h="406">
                  <a:moveTo>
                    <a:pt x="180" y="164"/>
                  </a:moveTo>
                  <a:lnTo>
                    <a:pt x="180" y="164"/>
                  </a:lnTo>
                  <a:lnTo>
                    <a:pt x="80" y="406"/>
                  </a:lnTo>
                  <a:lnTo>
                    <a:pt x="0" y="0"/>
                  </a:lnTo>
                  <a:lnTo>
                    <a:pt x="180" y="164"/>
                  </a:lnTo>
                  <a:lnTo>
                    <a:pt x="180" y="164"/>
                  </a:lnTo>
                  <a:close/>
                </a:path>
              </a:pathLst>
            </a:custGeom>
            <a:solidFill>
              <a:srgbClr val="a98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5"/>
            <p:cNvSpPr/>
            <p:nvPr/>
          </p:nvSpPr>
          <p:spPr>
            <a:xfrm>
              <a:off x="7894800" y="3850920"/>
              <a:ext cx="358560" cy="59688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26" h="376">
                  <a:moveTo>
                    <a:pt x="0" y="0"/>
                  </a:moveTo>
                  <a:lnTo>
                    <a:pt x="226" y="82"/>
                  </a:lnTo>
                  <a:lnTo>
                    <a:pt x="226" y="82"/>
                  </a:lnTo>
                  <a:lnTo>
                    <a:pt x="226" y="82"/>
                  </a:lnTo>
                  <a:lnTo>
                    <a:pt x="192" y="376"/>
                  </a:lnTo>
                  <a:lnTo>
                    <a:pt x="12" y="212"/>
                  </a:lnTo>
                  <a:lnTo>
                    <a:pt x="12" y="212"/>
                  </a:lnTo>
                  <a:lnTo>
                    <a:pt x="12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a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26"/>
            <p:cNvSpPr/>
            <p:nvPr/>
          </p:nvSpPr>
          <p:spPr>
            <a:xfrm>
              <a:off x="7240680" y="3495600"/>
              <a:ext cx="654120" cy="403200"/>
            </a:xfrm>
            <a:custGeom>
              <a:avLst/>
              <a:gdLst>
                <a:gd name="textAreaLeft" fmla="*/ 0 w 654120"/>
                <a:gd name="textAreaRight" fmla="*/ 654120 w 6541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412" h="254">
                  <a:moveTo>
                    <a:pt x="206" y="0"/>
                  </a:moveTo>
                  <a:lnTo>
                    <a:pt x="0" y="224"/>
                  </a:lnTo>
                  <a:lnTo>
                    <a:pt x="206" y="254"/>
                  </a:lnTo>
                  <a:lnTo>
                    <a:pt x="412" y="224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711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27"/>
            <p:cNvSpPr/>
            <p:nvPr/>
          </p:nvSpPr>
          <p:spPr>
            <a:xfrm>
              <a:off x="7567560" y="3850920"/>
              <a:ext cx="345960" cy="33624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218" h="212">
                  <a:moveTo>
                    <a:pt x="206" y="0"/>
                  </a:moveTo>
                  <a:lnTo>
                    <a:pt x="218" y="212"/>
                  </a:lnTo>
                  <a:lnTo>
                    <a:pt x="0" y="30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28"/>
            <p:cNvSpPr/>
            <p:nvPr/>
          </p:nvSpPr>
          <p:spPr>
            <a:xfrm>
              <a:off x="7567560" y="5813640"/>
              <a:ext cx="431640" cy="3553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272" h="224">
                  <a:moveTo>
                    <a:pt x="0" y="224"/>
                  </a:moveTo>
                  <a:lnTo>
                    <a:pt x="0" y="224"/>
                  </a:lnTo>
                  <a:lnTo>
                    <a:pt x="36" y="222"/>
                  </a:lnTo>
                  <a:lnTo>
                    <a:pt x="72" y="216"/>
                  </a:lnTo>
                  <a:lnTo>
                    <a:pt x="108" y="208"/>
                  </a:lnTo>
                  <a:lnTo>
                    <a:pt x="144" y="196"/>
                  </a:lnTo>
                  <a:lnTo>
                    <a:pt x="178" y="180"/>
                  </a:lnTo>
                  <a:lnTo>
                    <a:pt x="210" y="162"/>
                  </a:lnTo>
                  <a:lnTo>
                    <a:pt x="242" y="140"/>
                  </a:lnTo>
                  <a:lnTo>
                    <a:pt x="272" y="118"/>
                  </a:lnTo>
                  <a:lnTo>
                    <a:pt x="206" y="0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572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29"/>
            <p:cNvSpPr/>
            <p:nvPr/>
          </p:nvSpPr>
          <p:spPr>
            <a:xfrm>
              <a:off x="7894800" y="5683320"/>
              <a:ext cx="358560" cy="317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26" h="200">
                  <a:moveTo>
                    <a:pt x="66" y="200"/>
                  </a:moveTo>
                  <a:lnTo>
                    <a:pt x="66" y="200"/>
                  </a:lnTo>
                  <a:lnTo>
                    <a:pt x="90" y="180"/>
                  </a:lnTo>
                  <a:lnTo>
                    <a:pt x="112" y="158"/>
                  </a:lnTo>
                  <a:lnTo>
                    <a:pt x="132" y="134"/>
                  </a:lnTo>
                  <a:lnTo>
                    <a:pt x="152" y="110"/>
                  </a:lnTo>
                  <a:lnTo>
                    <a:pt x="172" y="84"/>
                  </a:lnTo>
                  <a:lnTo>
                    <a:pt x="190" y="58"/>
                  </a:lnTo>
                  <a:lnTo>
                    <a:pt x="208" y="30"/>
                  </a:lnTo>
                  <a:lnTo>
                    <a:pt x="226" y="0"/>
                  </a:lnTo>
                  <a:lnTo>
                    <a:pt x="0" y="82"/>
                  </a:lnTo>
                  <a:lnTo>
                    <a:pt x="66" y="200"/>
                  </a:lnTo>
                  <a:close/>
                </a:path>
              </a:pathLst>
            </a:custGeom>
            <a:solidFill>
              <a:srgbClr val="2d1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30"/>
            <p:cNvSpPr/>
            <p:nvPr/>
          </p:nvSpPr>
          <p:spPr>
            <a:xfrm>
              <a:off x="8199720" y="5216400"/>
              <a:ext cx="206280" cy="4665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30" h="294">
                  <a:moveTo>
                    <a:pt x="34" y="294"/>
                  </a:moveTo>
                  <a:lnTo>
                    <a:pt x="34" y="294"/>
                  </a:lnTo>
                  <a:lnTo>
                    <a:pt x="64" y="236"/>
                  </a:lnTo>
                  <a:lnTo>
                    <a:pt x="90" y="174"/>
                  </a:lnTo>
                  <a:lnTo>
                    <a:pt x="112" y="108"/>
                  </a:lnTo>
                  <a:lnTo>
                    <a:pt x="130" y="38"/>
                  </a:lnTo>
                  <a:lnTo>
                    <a:pt x="0" y="0"/>
                  </a:lnTo>
                  <a:lnTo>
                    <a:pt x="34" y="294"/>
                  </a:lnTo>
                  <a:close/>
                </a:path>
              </a:pathLst>
            </a:custGeom>
            <a:solidFill>
              <a:srgbClr val="572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31"/>
            <p:cNvSpPr/>
            <p:nvPr/>
          </p:nvSpPr>
          <p:spPr>
            <a:xfrm>
              <a:off x="8199720" y="4832280"/>
              <a:ext cx="257040" cy="44424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162" h="280">
                  <a:moveTo>
                    <a:pt x="130" y="280"/>
                  </a:moveTo>
                  <a:lnTo>
                    <a:pt x="130" y="280"/>
                  </a:lnTo>
                  <a:lnTo>
                    <a:pt x="144" y="214"/>
                  </a:lnTo>
                  <a:lnTo>
                    <a:pt x="154" y="144"/>
                  </a:lnTo>
                  <a:lnTo>
                    <a:pt x="160" y="72"/>
                  </a:lnTo>
                  <a:lnTo>
                    <a:pt x="162" y="0"/>
                  </a:lnTo>
                  <a:lnTo>
                    <a:pt x="0" y="242"/>
                  </a:lnTo>
                  <a:lnTo>
                    <a:pt x="130" y="280"/>
                  </a:lnTo>
                  <a:close/>
                </a:path>
              </a:pathLst>
            </a:custGeom>
            <a:solidFill>
              <a:srgbClr val="814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2"/>
            <p:cNvSpPr/>
            <p:nvPr/>
          </p:nvSpPr>
          <p:spPr>
            <a:xfrm>
              <a:off x="7913880" y="4832280"/>
              <a:ext cx="285480" cy="644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180" h="406">
                  <a:moveTo>
                    <a:pt x="180" y="242"/>
                  </a:moveTo>
                  <a:lnTo>
                    <a:pt x="180" y="242"/>
                  </a:lnTo>
                  <a:lnTo>
                    <a:pt x="80" y="0"/>
                  </a:lnTo>
                  <a:lnTo>
                    <a:pt x="0" y="406"/>
                  </a:lnTo>
                  <a:lnTo>
                    <a:pt x="180" y="242"/>
                  </a:lnTo>
                  <a:lnTo>
                    <a:pt x="180" y="242"/>
                  </a:lnTo>
                  <a:close/>
                </a:path>
              </a:pathLst>
            </a:custGeom>
            <a:solidFill>
              <a:srgbClr val="572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3"/>
            <p:cNvSpPr/>
            <p:nvPr/>
          </p:nvSpPr>
          <p:spPr>
            <a:xfrm>
              <a:off x="7894800" y="5216400"/>
              <a:ext cx="358560" cy="59688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26" h="376">
                  <a:moveTo>
                    <a:pt x="0" y="376"/>
                  </a:moveTo>
                  <a:lnTo>
                    <a:pt x="226" y="294"/>
                  </a:lnTo>
                  <a:lnTo>
                    <a:pt x="226" y="294"/>
                  </a:lnTo>
                  <a:lnTo>
                    <a:pt x="226" y="294"/>
                  </a:lnTo>
                  <a:lnTo>
                    <a:pt x="192" y="0"/>
                  </a:lnTo>
                  <a:lnTo>
                    <a:pt x="12" y="164"/>
                  </a:lnTo>
                  <a:lnTo>
                    <a:pt x="12" y="164"/>
                  </a:lnTo>
                  <a:lnTo>
                    <a:pt x="12" y="164"/>
                  </a:lnTo>
                  <a:lnTo>
                    <a:pt x="0" y="376"/>
                  </a:lnTo>
                  <a:lnTo>
                    <a:pt x="0" y="376"/>
                  </a:lnTo>
                  <a:close/>
                </a:path>
              </a:pathLst>
            </a:custGeom>
            <a:solidFill>
              <a:srgbClr val="b05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34"/>
            <p:cNvSpPr/>
            <p:nvPr/>
          </p:nvSpPr>
          <p:spPr>
            <a:xfrm>
              <a:off x="7240680" y="5765760"/>
              <a:ext cx="654120" cy="403200"/>
            </a:xfrm>
            <a:custGeom>
              <a:avLst/>
              <a:gdLst>
                <a:gd name="textAreaLeft" fmla="*/ 0 w 654120"/>
                <a:gd name="textAreaRight" fmla="*/ 654120 w 6541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412" h="254">
                  <a:moveTo>
                    <a:pt x="206" y="0"/>
                  </a:moveTo>
                  <a:lnTo>
                    <a:pt x="0" y="30"/>
                  </a:lnTo>
                  <a:lnTo>
                    <a:pt x="206" y="254"/>
                  </a:lnTo>
                  <a:lnTo>
                    <a:pt x="412" y="3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a98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35"/>
            <p:cNvSpPr/>
            <p:nvPr/>
          </p:nvSpPr>
          <p:spPr>
            <a:xfrm>
              <a:off x="7567560" y="5477040"/>
              <a:ext cx="345960" cy="33624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218" h="212">
                  <a:moveTo>
                    <a:pt x="206" y="212"/>
                  </a:moveTo>
                  <a:lnTo>
                    <a:pt x="218" y="0"/>
                  </a:lnTo>
                  <a:lnTo>
                    <a:pt x="0" y="182"/>
                  </a:lnTo>
                  <a:lnTo>
                    <a:pt x="206" y="212"/>
                  </a:lnTo>
                  <a:lnTo>
                    <a:pt x="206" y="212"/>
                  </a:lnTo>
                  <a:lnTo>
                    <a:pt x="206" y="212"/>
                  </a:lnTo>
                  <a:close/>
                </a:path>
              </a:pathLst>
            </a:custGeom>
            <a:solidFill>
              <a:srgbClr val="783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36"/>
            <p:cNvSpPr/>
            <p:nvPr/>
          </p:nvSpPr>
          <p:spPr>
            <a:xfrm>
              <a:off x="7094520" y="3898800"/>
              <a:ext cx="946080" cy="186696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866960"/>
                <a:gd name="textAreaBottom" fmla="*/ 1867320 h 1866960"/>
              </a:gdLst>
              <a:ahLst/>
              <a:rect l="textAreaLeft" t="textAreaTop" r="textAreaRight" b="textAreaBottom"/>
              <a:pathLst>
                <a:path w="596" h="1176">
                  <a:moveTo>
                    <a:pt x="516" y="182"/>
                  </a:moveTo>
                  <a:lnTo>
                    <a:pt x="298" y="0"/>
                  </a:lnTo>
                  <a:lnTo>
                    <a:pt x="80" y="182"/>
                  </a:lnTo>
                  <a:lnTo>
                    <a:pt x="0" y="588"/>
                  </a:lnTo>
                  <a:lnTo>
                    <a:pt x="80" y="994"/>
                  </a:lnTo>
                  <a:lnTo>
                    <a:pt x="298" y="1176"/>
                  </a:lnTo>
                  <a:lnTo>
                    <a:pt x="516" y="994"/>
                  </a:lnTo>
                  <a:lnTo>
                    <a:pt x="596" y="588"/>
                  </a:lnTo>
                  <a:lnTo>
                    <a:pt x="516" y="182"/>
                  </a:lnTo>
                  <a:close/>
                </a:path>
              </a:pathLst>
            </a:custGeom>
            <a:solidFill>
              <a:srgbClr val="812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37"/>
            <p:cNvSpPr/>
            <p:nvPr/>
          </p:nvSpPr>
          <p:spPr>
            <a:xfrm>
              <a:off x="6678720" y="4448160"/>
              <a:ext cx="415800" cy="76824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768240"/>
                <a:gd name="textAreaBottom" fmla="*/ 768600 h 768240"/>
              </a:gdLst>
              <a:ahLst/>
              <a:rect l="textAreaLeft" t="textAreaTop" r="textAreaRight" b="textAreaBottom"/>
              <a:pathLst>
                <a:path w="262" h="484">
                  <a:moveTo>
                    <a:pt x="0" y="242"/>
                  </a:moveTo>
                  <a:lnTo>
                    <a:pt x="162" y="0"/>
                  </a:lnTo>
                  <a:lnTo>
                    <a:pt x="262" y="242"/>
                  </a:lnTo>
                  <a:lnTo>
                    <a:pt x="162" y="484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814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38"/>
            <p:cNvSpPr/>
            <p:nvPr/>
          </p:nvSpPr>
          <p:spPr>
            <a:xfrm>
              <a:off x="8040960" y="4448160"/>
              <a:ext cx="415800" cy="76824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768240"/>
                <a:gd name="textAreaBottom" fmla="*/ 768600 h 768240"/>
              </a:gdLst>
              <a:ahLst/>
              <a:rect l="textAreaLeft" t="textAreaTop" r="textAreaRight" b="textAreaBottom"/>
              <a:pathLst>
                <a:path w="262" h="484">
                  <a:moveTo>
                    <a:pt x="262" y="242"/>
                  </a:moveTo>
                  <a:lnTo>
                    <a:pt x="100" y="0"/>
                  </a:lnTo>
                  <a:lnTo>
                    <a:pt x="0" y="242"/>
                  </a:lnTo>
                  <a:lnTo>
                    <a:pt x="100" y="484"/>
                  </a:lnTo>
                  <a:lnTo>
                    <a:pt x="262" y="242"/>
                  </a:lnTo>
                  <a:close/>
                </a:path>
              </a:pathLst>
            </a:custGeom>
            <a:solidFill>
              <a:srgbClr val="711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グループ化 224"/>
          <p:cNvGrpSpPr/>
          <p:nvPr/>
        </p:nvGrpSpPr>
        <p:grpSpPr>
          <a:xfrm>
            <a:off x="5249880" y="7658280"/>
            <a:ext cx="4654440" cy="466560"/>
            <a:chOff x="5249880" y="7658280"/>
            <a:chExt cx="4654440" cy="466560"/>
          </a:xfrm>
        </p:grpSpPr>
        <p:sp>
          <p:nvSpPr>
            <p:cNvPr id="191" name="Freeform 23"/>
            <p:cNvSpPr/>
            <p:nvPr/>
          </p:nvSpPr>
          <p:spPr>
            <a:xfrm>
              <a:off x="5249880" y="7667640"/>
              <a:ext cx="323640" cy="44136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204" h="278">
                  <a:moveTo>
                    <a:pt x="144" y="0"/>
                  </a:moveTo>
                  <a:lnTo>
                    <a:pt x="144" y="0"/>
                  </a:lnTo>
                  <a:lnTo>
                    <a:pt x="148" y="0"/>
                  </a:lnTo>
                  <a:lnTo>
                    <a:pt x="154" y="4"/>
                  </a:lnTo>
                  <a:lnTo>
                    <a:pt x="156" y="10"/>
                  </a:lnTo>
                  <a:lnTo>
                    <a:pt x="158" y="14"/>
                  </a:lnTo>
                  <a:lnTo>
                    <a:pt x="158" y="14"/>
                  </a:lnTo>
                  <a:lnTo>
                    <a:pt x="160" y="18"/>
                  </a:lnTo>
                  <a:lnTo>
                    <a:pt x="164" y="20"/>
                  </a:lnTo>
                  <a:lnTo>
                    <a:pt x="164" y="20"/>
                  </a:lnTo>
                  <a:lnTo>
                    <a:pt x="182" y="22"/>
                  </a:lnTo>
                  <a:lnTo>
                    <a:pt x="198" y="26"/>
                  </a:lnTo>
                  <a:lnTo>
                    <a:pt x="198" y="26"/>
                  </a:lnTo>
                  <a:lnTo>
                    <a:pt x="202" y="28"/>
                  </a:lnTo>
                  <a:lnTo>
                    <a:pt x="204" y="30"/>
                  </a:lnTo>
                  <a:lnTo>
                    <a:pt x="204" y="30"/>
                  </a:lnTo>
                  <a:lnTo>
                    <a:pt x="202" y="32"/>
                  </a:lnTo>
                  <a:lnTo>
                    <a:pt x="200" y="34"/>
                  </a:lnTo>
                  <a:lnTo>
                    <a:pt x="196" y="38"/>
                  </a:lnTo>
                  <a:lnTo>
                    <a:pt x="182" y="40"/>
                  </a:lnTo>
                  <a:lnTo>
                    <a:pt x="156" y="40"/>
                  </a:lnTo>
                  <a:lnTo>
                    <a:pt x="156" y="40"/>
                  </a:lnTo>
                  <a:lnTo>
                    <a:pt x="152" y="42"/>
                  </a:lnTo>
                  <a:lnTo>
                    <a:pt x="146" y="48"/>
                  </a:lnTo>
                  <a:lnTo>
                    <a:pt x="146" y="48"/>
                  </a:lnTo>
                  <a:lnTo>
                    <a:pt x="126" y="94"/>
                  </a:lnTo>
                  <a:lnTo>
                    <a:pt x="104" y="148"/>
                  </a:lnTo>
                  <a:lnTo>
                    <a:pt x="84" y="200"/>
                  </a:lnTo>
                  <a:lnTo>
                    <a:pt x="78" y="222"/>
                  </a:lnTo>
                  <a:lnTo>
                    <a:pt x="74" y="238"/>
                  </a:lnTo>
                  <a:lnTo>
                    <a:pt x="74" y="238"/>
                  </a:lnTo>
                  <a:lnTo>
                    <a:pt x="74" y="244"/>
                  </a:lnTo>
                  <a:lnTo>
                    <a:pt x="74" y="244"/>
                  </a:lnTo>
                  <a:lnTo>
                    <a:pt x="78" y="244"/>
                  </a:lnTo>
                  <a:lnTo>
                    <a:pt x="78" y="244"/>
                  </a:lnTo>
                  <a:lnTo>
                    <a:pt x="120" y="244"/>
                  </a:lnTo>
                  <a:lnTo>
                    <a:pt x="120" y="244"/>
                  </a:lnTo>
                  <a:lnTo>
                    <a:pt x="128" y="244"/>
                  </a:lnTo>
                  <a:lnTo>
                    <a:pt x="136" y="244"/>
                  </a:lnTo>
                  <a:lnTo>
                    <a:pt x="136" y="244"/>
                  </a:lnTo>
                  <a:lnTo>
                    <a:pt x="140" y="246"/>
                  </a:lnTo>
                  <a:lnTo>
                    <a:pt x="140" y="250"/>
                  </a:lnTo>
                  <a:lnTo>
                    <a:pt x="138" y="252"/>
                  </a:lnTo>
                  <a:lnTo>
                    <a:pt x="132" y="256"/>
                  </a:lnTo>
                  <a:lnTo>
                    <a:pt x="132" y="256"/>
                  </a:lnTo>
                  <a:lnTo>
                    <a:pt x="116" y="260"/>
                  </a:lnTo>
                  <a:lnTo>
                    <a:pt x="100" y="264"/>
                  </a:lnTo>
                  <a:lnTo>
                    <a:pt x="72" y="268"/>
                  </a:lnTo>
                  <a:lnTo>
                    <a:pt x="72" y="268"/>
                  </a:lnTo>
                  <a:lnTo>
                    <a:pt x="68" y="270"/>
                  </a:lnTo>
                  <a:lnTo>
                    <a:pt x="66" y="272"/>
                  </a:lnTo>
                  <a:lnTo>
                    <a:pt x="58" y="276"/>
                  </a:lnTo>
                  <a:lnTo>
                    <a:pt x="58" y="276"/>
                  </a:lnTo>
                  <a:lnTo>
                    <a:pt x="52" y="278"/>
                  </a:lnTo>
                  <a:lnTo>
                    <a:pt x="52" y="278"/>
                  </a:lnTo>
                  <a:lnTo>
                    <a:pt x="46" y="276"/>
                  </a:lnTo>
                  <a:lnTo>
                    <a:pt x="42" y="272"/>
                  </a:lnTo>
                  <a:lnTo>
                    <a:pt x="42" y="272"/>
                  </a:lnTo>
                  <a:lnTo>
                    <a:pt x="40" y="268"/>
                  </a:lnTo>
                  <a:lnTo>
                    <a:pt x="34" y="268"/>
                  </a:lnTo>
                  <a:lnTo>
                    <a:pt x="34" y="268"/>
                  </a:lnTo>
                  <a:lnTo>
                    <a:pt x="24" y="270"/>
                  </a:lnTo>
                  <a:lnTo>
                    <a:pt x="14" y="274"/>
                  </a:lnTo>
                  <a:lnTo>
                    <a:pt x="14" y="274"/>
                  </a:lnTo>
                  <a:lnTo>
                    <a:pt x="8" y="274"/>
                  </a:lnTo>
                  <a:lnTo>
                    <a:pt x="4" y="270"/>
                  </a:lnTo>
                  <a:lnTo>
                    <a:pt x="4" y="270"/>
                  </a:lnTo>
                  <a:lnTo>
                    <a:pt x="0" y="266"/>
                  </a:lnTo>
                  <a:lnTo>
                    <a:pt x="0" y="262"/>
                  </a:lnTo>
                  <a:lnTo>
                    <a:pt x="0" y="258"/>
                  </a:lnTo>
                  <a:lnTo>
                    <a:pt x="4" y="254"/>
                  </a:lnTo>
                  <a:lnTo>
                    <a:pt x="4" y="254"/>
                  </a:lnTo>
                  <a:lnTo>
                    <a:pt x="10" y="248"/>
                  </a:lnTo>
                  <a:lnTo>
                    <a:pt x="18" y="246"/>
                  </a:lnTo>
                  <a:lnTo>
                    <a:pt x="28" y="244"/>
                  </a:lnTo>
                  <a:lnTo>
                    <a:pt x="38" y="244"/>
                  </a:lnTo>
                  <a:lnTo>
                    <a:pt x="38" y="244"/>
                  </a:lnTo>
                  <a:lnTo>
                    <a:pt x="42" y="242"/>
                  </a:lnTo>
                  <a:lnTo>
                    <a:pt x="44" y="238"/>
                  </a:lnTo>
                  <a:lnTo>
                    <a:pt x="44" y="238"/>
                  </a:lnTo>
                  <a:lnTo>
                    <a:pt x="54" y="200"/>
                  </a:lnTo>
                  <a:lnTo>
                    <a:pt x="68" y="158"/>
                  </a:lnTo>
                  <a:lnTo>
                    <a:pt x="86" y="106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10" y="44"/>
                  </a:lnTo>
                  <a:lnTo>
                    <a:pt x="110" y="42"/>
                  </a:lnTo>
                  <a:lnTo>
                    <a:pt x="108" y="42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82" y="44"/>
                  </a:lnTo>
                  <a:lnTo>
                    <a:pt x="82" y="44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68" y="36"/>
                  </a:lnTo>
                  <a:lnTo>
                    <a:pt x="68" y="32"/>
                  </a:lnTo>
                  <a:lnTo>
                    <a:pt x="70" y="28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78" y="20"/>
                  </a:lnTo>
                  <a:lnTo>
                    <a:pt x="86" y="18"/>
                  </a:lnTo>
                  <a:lnTo>
                    <a:pt x="86" y="18"/>
                  </a:lnTo>
                  <a:lnTo>
                    <a:pt x="118" y="16"/>
                  </a:lnTo>
                  <a:lnTo>
                    <a:pt x="118" y="16"/>
                  </a:lnTo>
                  <a:lnTo>
                    <a:pt x="122" y="16"/>
                  </a:lnTo>
                  <a:lnTo>
                    <a:pt x="126" y="14"/>
                  </a:lnTo>
                  <a:lnTo>
                    <a:pt x="126" y="14"/>
                  </a:lnTo>
                  <a:lnTo>
                    <a:pt x="132" y="4"/>
                  </a:lnTo>
                  <a:lnTo>
                    <a:pt x="136" y="0"/>
                  </a:lnTo>
                  <a:lnTo>
                    <a:pt x="142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5529240" y="7670880"/>
              <a:ext cx="479160" cy="44784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302" h="282">
                  <a:moveTo>
                    <a:pt x="98" y="10"/>
                  </a:moveTo>
                  <a:lnTo>
                    <a:pt x="98" y="10"/>
                  </a:lnTo>
                  <a:lnTo>
                    <a:pt x="102" y="10"/>
                  </a:lnTo>
                  <a:lnTo>
                    <a:pt x="106" y="12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4" y="26"/>
                  </a:lnTo>
                  <a:lnTo>
                    <a:pt x="114" y="32"/>
                  </a:lnTo>
                  <a:lnTo>
                    <a:pt x="114" y="36"/>
                  </a:lnTo>
                  <a:lnTo>
                    <a:pt x="112" y="40"/>
                  </a:lnTo>
                  <a:lnTo>
                    <a:pt x="112" y="40"/>
                  </a:lnTo>
                  <a:lnTo>
                    <a:pt x="108" y="46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8" y="58"/>
                  </a:lnTo>
                  <a:lnTo>
                    <a:pt x="112" y="68"/>
                  </a:lnTo>
                  <a:lnTo>
                    <a:pt x="112" y="68"/>
                  </a:lnTo>
                  <a:lnTo>
                    <a:pt x="146" y="132"/>
                  </a:lnTo>
                  <a:lnTo>
                    <a:pt x="186" y="198"/>
                  </a:lnTo>
                  <a:lnTo>
                    <a:pt x="186" y="198"/>
                  </a:lnTo>
                  <a:lnTo>
                    <a:pt x="188" y="202"/>
                  </a:lnTo>
                  <a:lnTo>
                    <a:pt x="190" y="204"/>
                  </a:lnTo>
                  <a:lnTo>
                    <a:pt x="192" y="202"/>
                  </a:lnTo>
                  <a:lnTo>
                    <a:pt x="194" y="198"/>
                  </a:lnTo>
                  <a:lnTo>
                    <a:pt x="194" y="198"/>
                  </a:lnTo>
                  <a:lnTo>
                    <a:pt x="220" y="122"/>
                  </a:lnTo>
                  <a:lnTo>
                    <a:pt x="240" y="68"/>
                  </a:lnTo>
                  <a:lnTo>
                    <a:pt x="240" y="68"/>
                  </a:lnTo>
                  <a:lnTo>
                    <a:pt x="250" y="44"/>
                  </a:lnTo>
                  <a:lnTo>
                    <a:pt x="258" y="28"/>
                  </a:lnTo>
                  <a:lnTo>
                    <a:pt x="268" y="10"/>
                  </a:lnTo>
                  <a:lnTo>
                    <a:pt x="268" y="10"/>
                  </a:lnTo>
                  <a:lnTo>
                    <a:pt x="276" y="4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88" y="2"/>
                  </a:lnTo>
                  <a:lnTo>
                    <a:pt x="292" y="4"/>
                  </a:lnTo>
                  <a:lnTo>
                    <a:pt x="296" y="14"/>
                  </a:lnTo>
                  <a:lnTo>
                    <a:pt x="300" y="26"/>
                  </a:lnTo>
                  <a:lnTo>
                    <a:pt x="302" y="34"/>
                  </a:lnTo>
                  <a:lnTo>
                    <a:pt x="302" y="34"/>
                  </a:lnTo>
                  <a:lnTo>
                    <a:pt x="302" y="38"/>
                  </a:lnTo>
                  <a:lnTo>
                    <a:pt x="300" y="42"/>
                  </a:lnTo>
                  <a:lnTo>
                    <a:pt x="296" y="42"/>
                  </a:lnTo>
                  <a:lnTo>
                    <a:pt x="292" y="44"/>
                  </a:lnTo>
                  <a:lnTo>
                    <a:pt x="292" y="44"/>
                  </a:lnTo>
                  <a:lnTo>
                    <a:pt x="286" y="46"/>
                  </a:lnTo>
                  <a:lnTo>
                    <a:pt x="282" y="48"/>
                  </a:lnTo>
                  <a:lnTo>
                    <a:pt x="278" y="52"/>
                  </a:lnTo>
                  <a:lnTo>
                    <a:pt x="276" y="56"/>
                  </a:lnTo>
                  <a:lnTo>
                    <a:pt x="276" y="56"/>
                  </a:lnTo>
                  <a:lnTo>
                    <a:pt x="258" y="98"/>
                  </a:lnTo>
                  <a:lnTo>
                    <a:pt x="242" y="136"/>
                  </a:lnTo>
                  <a:lnTo>
                    <a:pt x="230" y="172"/>
                  </a:lnTo>
                  <a:lnTo>
                    <a:pt x="222" y="200"/>
                  </a:lnTo>
                  <a:lnTo>
                    <a:pt x="222" y="200"/>
                  </a:lnTo>
                  <a:lnTo>
                    <a:pt x="216" y="222"/>
                  </a:lnTo>
                  <a:lnTo>
                    <a:pt x="214" y="236"/>
                  </a:lnTo>
                  <a:lnTo>
                    <a:pt x="214" y="236"/>
                  </a:lnTo>
                  <a:lnTo>
                    <a:pt x="216" y="240"/>
                  </a:lnTo>
                  <a:lnTo>
                    <a:pt x="218" y="246"/>
                  </a:lnTo>
                  <a:lnTo>
                    <a:pt x="222" y="254"/>
                  </a:lnTo>
                  <a:lnTo>
                    <a:pt x="222" y="254"/>
                  </a:lnTo>
                  <a:lnTo>
                    <a:pt x="224" y="258"/>
                  </a:lnTo>
                  <a:lnTo>
                    <a:pt x="224" y="262"/>
                  </a:lnTo>
                  <a:lnTo>
                    <a:pt x="220" y="268"/>
                  </a:lnTo>
                  <a:lnTo>
                    <a:pt x="220" y="268"/>
                  </a:lnTo>
                  <a:lnTo>
                    <a:pt x="214" y="274"/>
                  </a:lnTo>
                  <a:lnTo>
                    <a:pt x="206" y="276"/>
                  </a:lnTo>
                  <a:lnTo>
                    <a:pt x="206" y="276"/>
                  </a:lnTo>
                  <a:lnTo>
                    <a:pt x="200" y="276"/>
                  </a:lnTo>
                  <a:lnTo>
                    <a:pt x="196" y="272"/>
                  </a:lnTo>
                  <a:lnTo>
                    <a:pt x="188" y="266"/>
                  </a:lnTo>
                  <a:lnTo>
                    <a:pt x="188" y="266"/>
                  </a:lnTo>
                  <a:lnTo>
                    <a:pt x="160" y="218"/>
                  </a:lnTo>
                  <a:lnTo>
                    <a:pt x="160" y="218"/>
                  </a:lnTo>
                  <a:lnTo>
                    <a:pt x="124" y="152"/>
                  </a:lnTo>
                  <a:lnTo>
                    <a:pt x="98" y="102"/>
                  </a:lnTo>
                  <a:lnTo>
                    <a:pt x="98" y="102"/>
                  </a:lnTo>
                  <a:lnTo>
                    <a:pt x="96" y="100"/>
                  </a:lnTo>
                  <a:lnTo>
                    <a:pt x="94" y="100"/>
                  </a:lnTo>
                  <a:lnTo>
                    <a:pt x="90" y="104"/>
                  </a:lnTo>
                  <a:lnTo>
                    <a:pt x="90" y="104"/>
                  </a:lnTo>
                  <a:lnTo>
                    <a:pt x="64" y="164"/>
                  </a:lnTo>
                  <a:lnTo>
                    <a:pt x="50" y="202"/>
                  </a:lnTo>
                  <a:lnTo>
                    <a:pt x="50" y="202"/>
                  </a:lnTo>
                  <a:lnTo>
                    <a:pt x="48" y="214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6" y="242"/>
                  </a:lnTo>
                  <a:lnTo>
                    <a:pt x="42" y="252"/>
                  </a:lnTo>
                  <a:lnTo>
                    <a:pt x="38" y="262"/>
                  </a:lnTo>
                  <a:lnTo>
                    <a:pt x="32" y="274"/>
                  </a:lnTo>
                  <a:lnTo>
                    <a:pt x="32" y="274"/>
                  </a:lnTo>
                  <a:lnTo>
                    <a:pt x="28" y="278"/>
                  </a:lnTo>
                  <a:lnTo>
                    <a:pt x="24" y="280"/>
                  </a:lnTo>
                  <a:lnTo>
                    <a:pt x="16" y="282"/>
                  </a:lnTo>
                  <a:lnTo>
                    <a:pt x="16" y="282"/>
                  </a:lnTo>
                  <a:lnTo>
                    <a:pt x="10" y="282"/>
                  </a:lnTo>
                  <a:lnTo>
                    <a:pt x="4" y="278"/>
                  </a:lnTo>
                  <a:lnTo>
                    <a:pt x="2" y="272"/>
                  </a:lnTo>
                  <a:lnTo>
                    <a:pt x="0" y="262"/>
                  </a:lnTo>
                  <a:lnTo>
                    <a:pt x="0" y="262"/>
                  </a:lnTo>
                  <a:lnTo>
                    <a:pt x="2" y="252"/>
                  </a:lnTo>
                  <a:lnTo>
                    <a:pt x="6" y="240"/>
                  </a:lnTo>
                  <a:lnTo>
                    <a:pt x="6" y="240"/>
                  </a:lnTo>
                  <a:lnTo>
                    <a:pt x="46" y="142"/>
                  </a:lnTo>
                  <a:lnTo>
                    <a:pt x="70" y="78"/>
                  </a:lnTo>
                  <a:lnTo>
                    <a:pt x="70" y="78"/>
                  </a:lnTo>
                  <a:lnTo>
                    <a:pt x="72" y="72"/>
                  </a:lnTo>
                  <a:lnTo>
                    <a:pt x="68" y="66"/>
                  </a:lnTo>
                  <a:lnTo>
                    <a:pt x="68" y="66"/>
                  </a:lnTo>
                  <a:lnTo>
                    <a:pt x="64" y="62"/>
                  </a:lnTo>
                  <a:lnTo>
                    <a:pt x="64" y="58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68" y="46"/>
                  </a:lnTo>
                  <a:lnTo>
                    <a:pt x="74" y="40"/>
                  </a:lnTo>
                  <a:lnTo>
                    <a:pt x="74" y="40"/>
                  </a:lnTo>
                  <a:lnTo>
                    <a:pt x="78" y="36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28"/>
                  </a:lnTo>
                  <a:lnTo>
                    <a:pt x="78" y="24"/>
                  </a:lnTo>
                  <a:lnTo>
                    <a:pt x="84" y="16"/>
                  </a:lnTo>
                  <a:lnTo>
                    <a:pt x="84" y="16"/>
                  </a:lnTo>
                  <a:lnTo>
                    <a:pt x="90" y="12"/>
                  </a:lnTo>
                  <a:lnTo>
                    <a:pt x="96" y="10"/>
                  </a:lnTo>
                  <a:lnTo>
                    <a:pt x="98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5989680" y="7664400"/>
              <a:ext cx="377640" cy="44460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238" h="280">
                  <a:moveTo>
                    <a:pt x="184" y="24"/>
                  </a:moveTo>
                  <a:lnTo>
                    <a:pt x="184" y="24"/>
                  </a:lnTo>
                  <a:lnTo>
                    <a:pt x="194" y="22"/>
                  </a:lnTo>
                  <a:lnTo>
                    <a:pt x="196" y="20"/>
                  </a:lnTo>
                  <a:lnTo>
                    <a:pt x="198" y="18"/>
                  </a:lnTo>
                  <a:lnTo>
                    <a:pt x="198" y="18"/>
                  </a:lnTo>
                  <a:lnTo>
                    <a:pt x="200" y="16"/>
                  </a:lnTo>
                  <a:lnTo>
                    <a:pt x="202" y="14"/>
                  </a:lnTo>
                  <a:lnTo>
                    <a:pt x="210" y="14"/>
                  </a:lnTo>
                  <a:lnTo>
                    <a:pt x="210" y="14"/>
                  </a:lnTo>
                  <a:lnTo>
                    <a:pt x="220" y="18"/>
                  </a:lnTo>
                  <a:lnTo>
                    <a:pt x="228" y="22"/>
                  </a:lnTo>
                  <a:lnTo>
                    <a:pt x="236" y="28"/>
                  </a:lnTo>
                  <a:lnTo>
                    <a:pt x="238" y="32"/>
                  </a:lnTo>
                  <a:lnTo>
                    <a:pt x="238" y="34"/>
                  </a:lnTo>
                  <a:lnTo>
                    <a:pt x="238" y="34"/>
                  </a:lnTo>
                  <a:lnTo>
                    <a:pt x="238" y="38"/>
                  </a:lnTo>
                  <a:lnTo>
                    <a:pt x="236" y="40"/>
                  </a:lnTo>
                  <a:lnTo>
                    <a:pt x="228" y="44"/>
                  </a:lnTo>
                  <a:lnTo>
                    <a:pt x="228" y="44"/>
                  </a:lnTo>
                  <a:lnTo>
                    <a:pt x="214" y="50"/>
                  </a:lnTo>
                  <a:lnTo>
                    <a:pt x="206" y="50"/>
                  </a:lnTo>
                  <a:lnTo>
                    <a:pt x="206" y="50"/>
                  </a:lnTo>
                  <a:lnTo>
                    <a:pt x="198" y="48"/>
                  </a:lnTo>
                  <a:lnTo>
                    <a:pt x="184" y="46"/>
                  </a:lnTo>
                  <a:lnTo>
                    <a:pt x="184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4" y="46"/>
                  </a:lnTo>
                  <a:lnTo>
                    <a:pt x="122" y="48"/>
                  </a:lnTo>
                  <a:lnTo>
                    <a:pt x="118" y="56"/>
                  </a:lnTo>
                  <a:lnTo>
                    <a:pt x="118" y="56"/>
                  </a:lnTo>
                  <a:lnTo>
                    <a:pt x="90" y="138"/>
                  </a:lnTo>
                  <a:lnTo>
                    <a:pt x="90" y="138"/>
                  </a:lnTo>
                  <a:lnTo>
                    <a:pt x="90" y="142"/>
                  </a:lnTo>
                  <a:lnTo>
                    <a:pt x="94" y="144"/>
                  </a:lnTo>
                  <a:lnTo>
                    <a:pt x="94" y="144"/>
                  </a:lnTo>
                  <a:lnTo>
                    <a:pt x="182" y="140"/>
                  </a:lnTo>
                  <a:lnTo>
                    <a:pt x="182" y="140"/>
                  </a:lnTo>
                  <a:lnTo>
                    <a:pt x="224" y="140"/>
                  </a:lnTo>
                  <a:lnTo>
                    <a:pt x="224" y="140"/>
                  </a:lnTo>
                  <a:lnTo>
                    <a:pt x="228" y="140"/>
                  </a:lnTo>
                  <a:lnTo>
                    <a:pt x="230" y="142"/>
                  </a:lnTo>
                  <a:lnTo>
                    <a:pt x="230" y="144"/>
                  </a:lnTo>
                  <a:lnTo>
                    <a:pt x="230" y="146"/>
                  </a:lnTo>
                  <a:lnTo>
                    <a:pt x="230" y="146"/>
                  </a:lnTo>
                  <a:lnTo>
                    <a:pt x="224" y="150"/>
                  </a:lnTo>
                  <a:lnTo>
                    <a:pt x="214" y="154"/>
                  </a:lnTo>
                  <a:lnTo>
                    <a:pt x="214" y="154"/>
                  </a:lnTo>
                  <a:lnTo>
                    <a:pt x="194" y="160"/>
                  </a:lnTo>
                  <a:lnTo>
                    <a:pt x="166" y="164"/>
                  </a:lnTo>
                  <a:lnTo>
                    <a:pt x="166" y="164"/>
                  </a:lnTo>
                  <a:lnTo>
                    <a:pt x="126" y="168"/>
                  </a:lnTo>
                  <a:lnTo>
                    <a:pt x="90" y="174"/>
                  </a:lnTo>
                  <a:lnTo>
                    <a:pt x="90" y="174"/>
                  </a:lnTo>
                  <a:lnTo>
                    <a:pt x="84" y="174"/>
                  </a:lnTo>
                  <a:lnTo>
                    <a:pt x="78" y="178"/>
                  </a:lnTo>
                  <a:lnTo>
                    <a:pt x="76" y="182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50" y="238"/>
                  </a:lnTo>
                  <a:lnTo>
                    <a:pt x="50" y="238"/>
                  </a:lnTo>
                  <a:lnTo>
                    <a:pt x="50" y="242"/>
                  </a:lnTo>
                  <a:lnTo>
                    <a:pt x="48" y="246"/>
                  </a:lnTo>
                  <a:lnTo>
                    <a:pt x="50" y="248"/>
                  </a:lnTo>
                  <a:lnTo>
                    <a:pt x="54" y="250"/>
                  </a:lnTo>
                  <a:lnTo>
                    <a:pt x="54" y="250"/>
                  </a:lnTo>
                  <a:lnTo>
                    <a:pt x="62" y="252"/>
                  </a:lnTo>
                  <a:lnTo>
                    <a:pt x="74" y="252"/>
                  </a:lnTo>
                  <a:lnTo>
                    <a:pt x="86" y="252"/>
                  </a:lnTo>
                  <a:lnTo>
                    <a:pt x="96" y="250"/>
                  </a:lnTo>
                  <a:lnTo>
                    <a:pt x="96" y="250"/>
                  </a:lnTo>
                  <a:lnTo>
                    <a:pt x="100" y="250"/>
                  </a:lnTo>
                  <a:lnTo>
                    <a:pt x="102" y="250"/>
                  </a:lnTo>
                  <a:lnTo>
                    <a:pt x="102" y="254"/>
                  </a:lnTo>
                  <a:lnTo>
                    <a:pt x="98" y="258"/>
                  </a:lnTo>
                  <a:lnTo>
                    <a:pt x="98" y="258"/>
                  </a:lnTo>
                  <a:lnTo>
                    <a:pt x="88" y="266"/>
                  </a:lnTo>
                  <a:lnTo>
                    <a:pt x="74" y="274"/>
                  </a:lnTo>
                  <a:lnTo>
                    <a:pt x="56" y="278"/>
                  </a:lnTo>
                  <a:lnTo>
                    <a:pt x="40" y="280"/>
                  </a:lnTo>
                  <a:lnTo>
                    <a:pt x="40" y="280"/>
                  </a:lnTo>
                  <a:lnTo>
                    <a:pt x="20" y="278"/>
                  </a:lnTo>
                  <a:lnTo>
                    <a:pt x="12" y="276"/>
                  </a:lnTo>
                  <a:lnTo>
                    <a:pt x="6" y="272"/>
                  </a:lnTo>
                  <a:lnTo>
                    <a:pt x="6" y="272"/>
                  </a:lnTo>
                  <a:lnTo>
                    <a:pt x="2" y="268"/>
                  </a:lnTo>
                  <a:lnTo>
                    <a:pt x="0" y="266"/>
                  </a:lnTo>
                  <a:lnTo>
                    <a:pt x="0" y="262"/>
                  </a:lnTo>
                  <a:lnTo>
                    <a:pt x="2" y="260"/>
                  </a:lnTo>
                  <a:lnTo>
                    <a:pt x="2" y="260"/>
                  </a:lnTo>
                  <a:lnTo>
                    <a:pt x="8" y="256"/>
                  </a:lnTo>
                  <a:lnTo>
                    <a:pt x="16" y="250"/>
                  </a:lnTo>
                  <a:lnTo>
                    <a:pt x="16" y="250"/>
                  </a:lnTo>
                  <a:lnTo>
                    <a:pt x="22" y="244"/>
                  </a:lnTo>
                  <a:lnTo>
                    <a:pt x="26" y="238"/>
                  </a:lnTo>
                  <a:lnTo>
                    <a:pt x="26" y="238"/>
                  </a:lnTo>
                  <a:lnTo>
                    <a:pt x="40" y="186"/>
                  </a:lnTo>
                  <a:lnTo>
                    <a:pt x="40" y="186"/>
                  </a:lnTo>
                  <a:lnTo>
                    <a:pt x="40" y="182"/>
                  </a:lnTo>
                  <a:lnTo>
                    <a:pt x="40" y="178"/>
                  </a:lnTo>
                  <a:lnTo>
                    <a:pt x="36" y="170"/>
                  </a:lnTo>
                  <a:lnTo>
                    <a:pt x="36" y="170"/>
                  </a:lnTo>
                  <a:lnTo>
                    <a:pt x="32" y="166"/>
                  </a:lnTo>
                  <a:lnTo>
                    <a:pt x="32" y="162"/>
                  </a:lnTo>
                  <a:lnTo>
                    <a:pt x="36" y="158"/>
                  </a:lnTo>
                  <a:lnTo>
                    <a:pt x="40" y="154"/>
                  </a:lnTo>
                  <a:lnTo>
                    <a:pt x="40" y="154"/>
                  </a:lnTo>
                  <a:lnTo>
                    <a:pt x="52" y="146"/>
                  </a:lnTo>
                  <a:lnTo>
                    <a:pt x="58" y="138"/>
                  </a:lnTo>
                  <a:lnTo>
                    <a:pt x="58" y="138"/>
                  </a:lnTo>
                  <a:lnTo>
                    <a:pt x="70" y="100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4" y="48"/>
                  </a:lnTo>
                  <a:lnTo>
                    <a:pt x="84" y="46"/>
                  </a:lnTo>
                  <a:lnTo>
                    <a:pt x="82" y="46"/>
                  </a:lnTo>
                  <a:lnTo>
                    <a:pt x="82" y="46"/>
                  </a:lnTo>
                  <a:lnTo>
                    <a:pt x="74" y="46"/>
                  </a:lnTo>
                  <a:lnTo>
                    <a:pt x="68" y="48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50" y="58"/>
                  </a:lnTo>
                  <a:lnTo>
                    <a:pt x="48" y="58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52" y="32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68" y="18"/>
                  </a:lnTo>
                  <a:lnTo>
                    <a:pt x="74" y="16"/>
                  </a:lnTo>
                  <a:lnTo>
                    <a:pt x="82" y="16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92" y="20"/>
                  </a:lnTo>
                  <a:lnTo>
                    <a:pt x="92" y="18"/>
                  </a:lnTo>
                  <a:lnTo>
                    <a:pt x="92" y="18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98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12" y="2"/>
                  </a:lnTo>
                  <a:lnTo>
                    <a:pt x="120" y="8"/>
                  </a:lnTo>
                  <a:lnTo>
                    <a:pt x="126" y="14"/>
                  </a:lnTo>
                  <a:lnTo>
                    <a:pt x="126" y="20"/>
                  </a:lnTo>
                  <a:lnTo>
                    <a:pt x="126" y="20"/>
                  </a:lnTo>
                  <a:lnTo>
                    <a:pt x="126" y="22"/>
                  </a:lnTo>
                  <a:lnTo>
                    <a:pt x="128" y="22"/>
                  </a:lnTo>
                  <a:lnTo>
                    <a:pt x="132" y="24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26"/>
            <p:cNvSpPr/>
            <p:nvPr/>
          </p:nvSpPr>
          <p:spPr>
            <a:xfrm>
              <a:off x="6367320" y="7674120"/>
              <a:ext cx="380880" cy="43488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40" h="274">
                  <a:moveTo>
                    <a:pt x="174" y="0"/>
                  </a:moveTo>
                  <a:lnTo>
                    <a:pt x="174" y="0"/>
                  </a:lnTo>
                  <a:lnTo>
                    <a:pt x="190" y="2"/>
                  </a:lnTo>
                  <a:lnTo>
                    <a:pt x="204" y="8"/>
                  </a:lnTo>
                  <a:lnTo>
                    <a:pt x="218" y="18"/>
                  </a:lnTo>
                  <a:lnTo>
                    <a:pt x="228" y="30"/>
                  </a:lnTo>
                  <a:lnTo>
                    <a:pt x="228" y="30"/>
                  </a:lnTo>
                  <a:lnTo>
                    <a:pt x="234" y="38"/>
                  </a:lnTo>
                  <a:lnTo>
                    <a:pt x="238" y="50"/>
                  </a:lnTo>
                  <a:lnTo>
                    <a:pt x="240" y="62"/>
                  </a:lnTo>
                  <a:lnTo>
                    <a:pt x="240" y="78"/>
                  </a:lnTo>
                  <a:lnTo>
                    <a:pt x="240" y="78"/>
                  </a:lnTo>
                  <a:lnTo>
                    <a:pt x="238" y="100"/>
                  </a:lnTo>
                  <a:lnTo>
                    <a:pt x="232" y="122"/>
                  </a:lnTo>
                  <a:lnTo>
                    <a:pt x="224" y="144"/>
                  </a:lnTo>
                  <a:lnTo>
                    <a:pt x="214" y="166"/>
                  </a:lnTo>
                  <a:lnTo>
                    <a:pt x="202" y="184"/>
                  </a:lnTo>
                  <a:lnTo>
                    <a:pt x="190" y="202"/>
                  </a:lnTo>
                  <a:lnTo>
                    <a:pt x="178" y="218"/>
                  </a:lnTo>
                  <a:lnTo>
                    <a:pt x="164" y="230"/>
                  </a:lnTo>
                  <a:lnTo>
                    <a:pt x="164" y="230"/>
                  </a:lnTo>
                  <a:lnTo>
                    <a:pt x="150" y="242"/>
                  </a:lnTo>
                  <a:lnTo>
                    <a:pt x="136" y="252"/>
                  </a:lnTo>
                  <a:lnTo>
                    <a:pt x="122" y="260"/>
                  </a:lnTo>
                  <a:lnTo>
                    <a:pt x="110" y="266"/>
                  </a:lnTo>
                  <a:lnTo>
                    <a:pt x="86" y="272"/>
                  </a:lnTo>
                  <a:lnTo>
                    <a:pt x="68" y="274"/>
                  </a:lnTo>
                  <a:lnTo>
                    <a:pt x="68" y="274"/>
                  </a:lnTo>
                  <a:lnTo>
                    <a:pt x="56" y="274"/>
                  </a:lnTo>
                  <a:lnTo>
                    <a:pt x="42" y="270"/>
                  </a:lnTo>
                  <a:lnTo>
                    <a:pt x="30" y="262"/>
                  </a:lnTo>
                  <a:lnTo>
                    <a:pt x="18" y="252"/>
                  </a:lnTo>
                  <a:lnTo>
                    <a:pt x="18" y="252"/>
                  </a:lnTo>
                  <a:lnTo>
                    <a:pt x="10" y="242"/>
                  </a:lnTo>
                  <a:lnTo>
                    <a:pt x="4" y="228"/>
                  </a:lnTo>
                  <a:lnTo>
                    <a:pt x="2" y="214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2" y="184"/>
                  </a:lnTo>
                  <a:lnTo>
                    <a:pt x="6" y="166"/>
                  </a:lnTo>
                  <a:lnTo>
                    <a:pt x="14" y="146"/>
                  </a:lnTo>
                  <a:lnTo>
                    <a:pt x="22" y="124"/>
                  </a:lnTo>
                  <a:lnTo>
                    <a:pt x="34" y="104"/>
                  </a:lnTo>
                  <a:lnTo>
                    <a:pt x="48" y="82"/>
                  </a:lnTo>
                  <a:lnTo>
                    <a:pt x="64" y="64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94" y="36"/>
                  </a:lnTo>
                  <a:lnTo>
                    <a:pt x="106" y="30"/>
                  </a:lnTo>
                  <a:lnTo>
                    <a:pt x="126" y="20"/>
                  </a:lnTo>
                  <a:lnTo>
                    <a:pt x="140" y="14"/>
                  </a:lnTo>
                  <a:lnTo>
                    <a:pt x="148" y="12"/>
                  </a:lnTo>
                  <a:lnTo>
                    <a:pt x="148" y="12"/>
                  </a:lnTo>
                  <a:lnTo>
                    <a:pt x="152" y="12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64" y="2"/>
                  </a:lnTo>
                  <a:lnTo>
                    <a:pt x="174" y="0"/>
                  </a:lnTo>
                  <a:lnTo>
                    <a:pt x="174" y="0"/>
                  </a:lnTo>
                  <a:close/>
                  <a:moveTo>
                    <a:pt x="146" y="38"/>
                  </a:moveTo>
                  <a:lnTo>
                    <a:pt x="146" y="38"/>
                  </a:lnTo>
                  <a:lnTo>
                    <a:pt x="140" y="38"/>
                  </a:lnTo>
                  <a:lnTo>
                    <a:pt x="134" y="40"/>
                  </a:lnTo>
                  <a:lnTo>
                    <a:pt x="118" y="50"/>
                  </a:lnTo>
                  <a:lnTo>
                    <a:pt x="100" y="68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66" y="112"/>
                  </a:lnTo>
                  <a:lnTo>
                    <a:pt x="56" y="132"/>
                  </a:lnTo>
                  <a:lnTo>
                    <a:pt x="48" y="148"/>
                  </a:lnTo>
                  <a:lnTo>
                    <a:pt x="44" y="162"/>
                  </a:lnTo>
                  <a:lnTo>
                    <a:pt x="38" y="188"/>
                  </a:lnTo>
                  <a:lnTo>
                    <a:pt x="36" y="204"/>
                  </a:lnTo>
                  <a:lnTo>
                    <a:pt x="36" y="204"/>
                  </a:lnTo>
                  <a:lnTo>
                    <a:pt x="38" y="222"/>
                  </a:lnTo>
                  <a:lnTo>
                    <a:pt x="40" y="230"/>
                  </a:lnTo>
                  <a:lnTo>
                    <a:pt x="44" y="236"/>
                  </a:lnTo>
                  <a:lnTo>
                    <a:pt x="48" y="242"/>
                  </a:lnTo>
                  <a:lnTo>
                    <a:pt x="54" y="246"/>
                  </a:lnTo>
                  <a:lnTo>
                    <a:pt x="62" y="248"/>
                  </a:lnTo>
                  <a:lnTo>
                    <a:pt x="70" y="250"/>
                  </a:lnTo>
                  <a:lnTo>
                    <a:pt x="70" y="250"/>
                  </a:lnTo>
                  <a:lnTo>
                    <a:pt x="82" y="248"/>
                  </a:lnTo>
                  <a:lnTo>
                    <a:pt x="98" y="242"/>
                  </a:lnTo>
                  <a:lnTo>
                    <a:pt x="118" y="232"/>
                  </a:lnTo>
                  <a:lnTo>
                    <a:pt x="136" y="218"/>
                  </a:lnTo>
                  <a:lnTo>
                    <a:pt x="136" y="218"/>
                  </a:lnTo>
                  <a:lnTo>
                    <a:pt x="150" y="204"/>
                  </a:lnTo>
                  <a:lnTo>
                    <a:pt x="164" y="186"/>
                  </a:lnTo>
                  <a:lnTo>
                    <a:pt x="176" y="168"/>
                  </a:lnTo>
                  <a:lnTo>
                    <a:pt x="188" y="148"/>
                  </a:lnTo>
                  <a:lnTo>
                    <a:pt x="198" y="126"/>
                  </a:lnTo>
                  <a:lnTo>
                    <a:pt x="206" y="104"/>
                  </a:lnTo>
                  <a:lnTo>
                    <a:pt x="210" y="82"/>
                  </a:lnTo>
                  <a:lnTo>
                    <a:pt x="212" y="62"/>
                  </a:lnTo>
                  <a:lnTo>
                    <a:pt x="212" y="62"/>
                  </a:lnTo>
                  <a:lnTo>
                    <a:pt x="212" y="52"/>
                  </a:lnTo>
                  <a:lnTo>
                    <a:pt x="208" y="44"/>
                  </a:lnTo>
                  <a:lnTo>
                    <a:pt x="204" y="38"/>
                  </a:lnTo>
                  <a:lnTo>
                    <a:pt x="198" y="32"/>
                  </a:lnTo>
                  <a:lnTo>
                    <a:pt x="198" y="32"/>
                  </a:lnTo>
                  <a:lnTo>
                    <a:pt x="192" y="28"/>
                  </a:lnTo>
                  <a:lnTo>
                    <a:pt x="190" y="28"/>
                  </a:lnTo>
                  <a:lnTo>
                    <a:pt x="188" y="28"/>
                  </a:lnTo>
                  <a:lnTo>
                    <a:pt x="188" y="30"/>
                  </a:lnTo>
                  <a:lnTo>
                    <a:pt x="188" y="30"/>
                  </a:lnTo>
                  <a:lnTo>
                    <a:pt x="188" y="36"/>
                  </a:lnTo>
                  <a:lnTo>
                    <a:pt x="186" y="40"/>
                  </a:lnTo>
                  <a:lnTo>
                    <a:pt x="184" y="44"/>
                  </a:lnTo>
                  <a:lnTo>
                    <a:pt x="184" y="44"/>
                  </a:lnTo>
                  <a:lnTo>
                    <a:pt x="176" y="50"/>
                  </a:lnTo>
                  <a:lnTo>
                    <a:pt x="172" y="52"/>
                  </a:lnTo>
                  <a:lnTo>
                    <a:pt x="168" y="52"/>
                  </a:lnTo>
                  <a:lnTo>
                    <a:pt x="168" y="52"/>
                  </a:lnTo>
                  <a:lnTo>
                    <a:pt x="164" y="52"/>
                  </a:lnTo>
                  <a:lnTo>
                    <a:pt x="162" y="50"/>
                  </a:lnTo>
                  <a:lnTo>
                    <a:pt x="158" y="46"/>
                  </a:lnTo>
                  <a:lnTo>
                    <a:pt x="158" y="46"/>
                  </a:lnTo>
                  <a:lnTo>
                    <a:pt x="156" y="42"/>
                  </a:lnTo>
                  <a:lnTo>
                    <a:pt x="154" y="40"/>
                  </a:lnTo>
                  <a:lnTo>
                    <a:pt x="146" y="38"/>
                  </a:lnTo>
                  <a:lnTo>
                    <a:pt x="146" y="3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7"/>
            <p:cNvSpPr/>
            <p:nvPr/>
          </p:nvSpPr>
          <p:spPr>
            <a:xfrm>
              <a:off x="6761160" y="7658280"/>
              <a:ext cx="425160" cy="46656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268" h="294">
                  <a:moveTo>
                    <a:pt x="218" y="78"/>
                  </a:moveTo>
                  <a:lnTo>
                    <a:pt x="218" y="78"/>
                  </a:lnTo>
                  <a:lnTo>
                    <a:pt x="216" y="90"/>
                  </a:lnTo>
                  <a:lnTo>
                    <a:pt x="210" y="104"/>
                  </a:lnTo>
                  <a:lnTo>
                    <a:pt x="200" y="114"/>
                  </a:lnTo>
                  <a:lnTo>
                    <a:pt x="188" y="124"/>
                  </a:lnTo>
                  <a:lnTo>
                    <a:pt x="176" y="134"/>
                  </a:lnTo>
                  <a:lnTo>
                    <a:pt x="162" y="142"/>
                  </a:lnTo>
                  <a:lnTo>
                    <a:pt x="138" y="154"/>
                  </a:lnTo>
                  <a:lnTo>
                    <a:pt x="138" y="154"/>
                  </a:lnTo>
                  <a:lnTo>
                    <a:pt x="134" y="156"/>
                  </a:lnTo>
                  <a:lnTo>
                    <a:pt x="132" y="158"/>
                  </a:lnTo>
                  <a:lnTo>
                    <a:pt x="132" y="162"/>
                  </a:lnTo>
                  <a:lnTo>
                    <a:pt x="132" y="166"/>
                  </a:lnTo>
                  <a:lnTo>
                    <a:pt x="132" y="166"/>
                  </a:lnTo>
                  <a:lnTo>
                    <a:pt x="168" y="216"/>
                  </a:lnTo>
                  <a:lnTo>
                    <a:pt x="186" y="240"/>
                  </a:lnTo>
                  <a:lnTo>
                    <a:pt x="198" y="256"/>
                  </a:lnTo>
                  <a:lnTo>
                    <a:pt x="198" y="256"/>
                  </a:lnTo>
                  <a:lnTo>
                    <a:pt x="210" y="264"/>
                  </a:lnTo>
                  <a:lnTo>
                    <a:pt x="218" y="270"/>
                  </a:lnTo>
                  <a:lnTo>
                    <a:pt x="228" y="272"/>
                  </a:lnTo>
                  <a:lnTo>
                    <a:pt x="234" y="272"/>
                  </a:lnTo>
                  <a:lnTo>
                    <a:pt x="234" y="272"/>
                  </a:lnTo>
                  <a:lnTo>
                    <a:pt x="240" y="272"/>
                  </a:lnTo>
                  <a:lnTo>
                    <a:pt x="248" y="268"/>
                  </a:lnTo>
                  <a:lnTo>
                    <a:pt x="262" y="260"/>
                  </a:lnTo>
                  <a:lnTo>
                    <a:pt x="262" y="260"/>
                  </a:lnTo>
                  <a:lnTo>
                    <a:pt x="266" y="258"/>
                  </a:lnTo>
                  <a:lnTo>
                    <a:pt x="268" y="260"/>
                  </a:lnTo>
                  <a:lnTo>
                    <a:pt x="268" y="262"/>
                  </a:lnTo>
                  <a:lnTo>
                    <a:pt x="266" y="268"/>
                  </a:lnTo>
                  <a:lnTo>
                    <a:pt x="266" y="268"/>
                  </a:lnTo>
                  <a:lnTo>
                    <a:pt x="258" y="278"/>
                  </a:lnTo>
                  <a:lnTo>
                    <a:pt x="246" y="286"/>
                  </a:lnTo>
                  <a:lnTo>
                    <a:pt x="234" y="292"/>
                  </a:lnTo>
                  <a:lnTo>
                    <a:pt x="218" y="294"/>
                  </a:lnTo>
                  <a:lnTo>
                    <a:pt x="218" y="294"/>
                  </a:lnTo>
                  <a:lnTo>
                    <a:pt x="212" y="294"/>
                  </a:lnTo>
                  <a:lnTo>
                    <a:pt x="204" y="292"/>
                  </a:lnTo>
                  <a:lnTo>
                    <a:pt x="196" y="288"/>
                  </a:lnTo>
                  <a:lnTo>
                    <a:pt x="188" y="284"/>
                  </a:lnTo>
                  <a:lnTo>
                    <a:pt x="170" y="268"/>
                  </a:lnTo>
                  <a:lnTo>
                    <a:pt x="152" y="246"/>
                  </a:lnTo>
                  <a:lnTo>
                    <a:pt x="152" y="246"/>
                  </a:lnTo>
                  <a:lnTo>
                    <a:pt x="138" y="228"/>
                  </a:lnTo>
                  <a:lnTo>
                    <a:pt x="122" y="206"/>
                  </a:lnTo>
                  <a:lnTo>
                    <a:pt x="100" y="176"/>
                  </a:lnTo>
                  <a:lnTo>
                    <a:pt x="100" y="176"/>
                  </a:lnTo>
                  <a:lnTo>
                    <a:pt x="94" y="172"/>
                  </a:lnTo>
                  <a:lnTo>
                    <a:pt x="88" y="170"/>
                  </a:lnTo>
                  <a:lnTo>
                    <a:pt x="88" y="170"/>
                  </a:lnTo>
                  <a:lnTo>
                    <a:pt x="84" y="172"/>
                  </a:lnTo>
                  <a:lnTo>
                    <a:pt x="80" y="178"/>
                  </a:lnTo>
                  <a:lnTo>
                    <a:pt x="80" y="178"/>
                  </a:lnTo>
                  <a:lnTo>
                    <a:pt x="68" y="214"/>
                  </a:lnTo>
                  <a:lnTo>
                    <a:pt x="56" y="248"/>
                  </a:lnTo>
                  <a:lnTo>
                    <a:pt x="56" y="248"/>
                  </a:lnTo>
                  <a:lnTo>
                    <a:pt x="56" y="254"/>
                  </a:lnTo>
                  <a:lnTo>
                    <a:pt x="62" y="256"/>
                  </a:lnTo>
                  <a:lnTo>
                    <a:pt x="62" y="256"/>
                  </a:lnTo>
                  <a:lnTo>
                    <a:pt x="78" y="260"/>
                  </a:lnTo>
                  <a:lnTo>
                    <a:pt x="90" y="264"/>
                  </a:lnTo>
                  <a:lnTo>
                    <a:pt x="90" y="264"/>
                  </a:lnTo>
                  <a:lnTo>
                    <a:pt x="90" y="266"/>
                  </a:lnTo>
                  <a:lnTo>
                    <a:pt x="92" y="268"/>
                  </a:lnTo>
                  <a:lnTo>
                    <a:pt x="86" y="274"/>
                  </a:lnTo>
                  <a:lnTo>
                    <a:pt x="86" y="274"/>
                  </a:lnTo>
                  <a:lnTo>
                    <a:pt x="80" y="276"/>
                  </a:lnTo>
                  <a:lnTo>
                    <a:pt x="70" y="278"/>
                  </a:lnTo>
                  <a:lnTo>
                    <a:pt x="52" y="280"/>
                  </a:lnTo>
                  <a:lnTo>
                    <a:pt x="52" y="280"/>
                  </a:lnTo>
                  <a:lnTo>
                    <a:pt x="42" y="284"/>
                  </a:lnTo>
                  <a:lnTo>
                    <a:pt x="42" y="284"/>
                  </a:lnTo>
                  <a:lnTo>
                    <a:pt x="36" y="286"/>
                  </a:lnTo>
                  <a:lnTo>
                    <a:pt x="30" y="288"/>
                  </a:lnTo>
                  <a:lnTo>
                    <a:pt x="30" y="288"/>
                  </a:lnTo>
                  <a:lnTo>
                    <a:pt x="22" y="286"/>
                  </a:lnTo>
                  <a:lnTo>
                    <a:pt x="14" y="282"/>
                  </a:lnTo>
                  <a:lnTo>
                    <a:pt x="6" y="278"/>
                  </a:lnTo>
                  <a:lnTo>
                    <a:pt x="2" y="272"/>
                  </a:lnTo>
                  <a:lnTo>
                    <a:pt x="2" y="272"/>
                  </a:lnTo>
                  <a:lnTo>
                    <a:pt x="0" y="266"/>
                  </a:lnTo>
                  <a:lnTo>
                    <a:pt x="0" y="262"/>
                  </a:lnTo>
                  <a:lnTo>
                    <a:pt x="2" y="260"/>
                  </a:lnTo>
                  <a:lnTo>
                    <a:pt x="2" y="260"/>
                  </a:lnTo>
                  <a:lnTo>
                    <a:pt x="10" y="256"/>
                  </a:lnTo>
                  <a:lnTo>
                    <a:pt x="20" y="254"/>
                  </a:lnTo>
                  <a:lnTo>
                    <a:pt x="20" y="254"/>
                  </a:lnTo>
                  <a:lnTo>
                    <a:pt x="24" y="252"/>
                  </a:lnTo>
                  <a:lnTo>
                    <a:pt x="28" y="246"/>
                  </a:lnTo>
                  <a:lnTo>
                    <a:pt x="28" y="246"/>
                  </a:lnTo>
                  <a:lnTo>
                    <a:pt x="50" y="176"/>
                  </a:lnTo>
                  <a:lnTo>
                    <a:pt x="50" y="176"/>
                  </a:lnTo>
                  <a:lnTo>
                    <a:pt x="52" y="172"/>
                  </a:lnTo>
                  <a:lnTo>
                    <a:pt x="50" y="168"/>
                  </a:lnTo>
                  <a:lnTo>
                    <a:pt x="50" y="168"/>
                  </a:lnTo>
                  <a:lnTo>
                    <a:pt x="50" y="162"/>
                  </a:lnTo>
                  <a:lnTo>
                    <a:pt x="50" y="154"/>
                  </a:lnTo>
                  <a:lnTo>
                    <a:pt x="50" y="154"/>
                  </a:lnTo>
                  <a:lnTo>
                    <a:pt x="54" y="150"/>
                  </a:lnTo>
                  <a:lnTo>
                    <a:pt x="58" y="146"/>
                  </a:lnTo>
                  <a:lnTo>
                    <a:pt x="58" y="146"/>
                  </a:lnTo>
                  <a:lnTo>
                    <a:pt x="62" y="144"/>
                  </a:lnTo>
                  <a:lnTo>
                    <a:pt x="64" y="138"/>
                  </a:lnTo>
                  <a:lnTo>
                    <a:pt x="64" y="138"/>
                  </a:lnTo>
                  <a:lnTo>
                    <a:pt x="98" y="50"/>
                  </a:lnTo>
                  <a:lnTo>
                    <a:pt x="98" y="50"/>
                  </a:lnTo>
                  <a:lnTo>
                    <a:pt x="98" y="46"/>
                  </a:lnTo>
                  <a:lnTo>
                    <a:pt x="94" y="44"/>
                  </a:lnTo>
                  <a:lnTo>
                    <a:pt x="94" y="44"/>
                  </a:lnTo>
                  <a:lnTo>
                    <a:pt x="84" y="46"/>
                  </a:lnTo>
                  <a:lnTo>
                    <a:pt x="76" y="48"/>
                  </a:lnTo>
                  <a:lnTo>
                    <a:pt x="72" y="52"/>
                  </a:lnTo>
                  <a:lnTo>
                    <a:pt x="68" y="56"/>
                  </a:lnTo>
                  <a:lnTo>
                    <a:pt x="68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50" y="66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40" y="60"/>
                  </a:lnTo>
                  <a:lnTo>
                    <a:pt x="38" y="54"/>
                  </a:lnTo>
                  <a:lnTo>
                    <a:pt x="38" y="54"/>
                  </a:lnTo>
                  <a:lnTo>
                    <a:pt x="36" y="50"/>
                  </a:lnTo>
                  <a:lnTo>
                    <a:pt x="38" y="46"/>
                  </a:lnTo>
                  <a:lnTo>
                    <a:pt x="40" y="42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54" y="32"/>
                  </a:lnTo>
                  <a:lnTo>
                    <a:pt x="68" y="28"/>
                  </a:lnTo>
                  <a:lnTo>
                    <a:pt x="82" y="24"/>
                  </a:lnTo>
                  <a:lnTo>
                    <a:pt x="100" y="20"/>
                  </a:lnTo>
                  <a:lnTo>
                    <a:pt x="100" y="20"/>
                  </a:lnTo>
                  <a:lnTo>
                    <a:pt x="106" y="18"/>
                  </a:lnTo>
                  <a:lnTo>
                    <a:pt x="110" y="14"/>
                  </a:lnTo>
                  <a:lnTo>
                    <a:pt x="110" y="14"/>
                  </a:lnTo>
                  <a:lnTo>
                    <a:pt x="116" y="4"/>
                  </a:lnTo>
                  <a:lnTo>
                    <a:pt x="120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32" y="0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42" y="10"/>
                  </a:lnTo>
                  <a:lnTo>
                    <a:pt x="144" y="16"/>
                  </a:lnTo>
                  <a:lnTo>
                    <a:pt x="144" y="16"/>
                  </a:lnTo>
                  <a:lnTo>
                    <a:pt x="144" y="18"/>
                  </a:lnTo>
                  <a:lnTo>
                    <a:pt x="148" y="20"/>
                  </a:lnTo>
                  <a:lnTo>
                    <a:pt x="148" y="20"/>
                  </a:lnTo>
                  <a:lnTo>
                    <a:pt x="168" y="22"/>
                  </a:lnTo>
                  <a:lnTo>
                    <a:pt x="188" y="30"/>
                  </a:lnTo>
                  <a:lnTo>
                    <a:pt x="196" y="34"/>
                  </a:lnTo>
                  <a:lnTo>
                    <a:pt x="202" y="40"/>
                  </a:lnTo>
                  <a:lnTo>
                    <a:pt x="208" y="46"/>
                  </a:lnTo>
                  <a:lnTo>
                    <a:pt x="214" y="54"/>
                  </a:lnTo>
                  <a:lnTo>
                    <a:pt x="214" y="54"/>
                  </a:lnTo>
                  <a:lnTo>
                    <a:pt x="218" y="66"/>
                  </a:lnTo>
                  <a:lnTo>
                    <a:pt x="218" y="76"/>
                  </a:lnTo>
                  <a:lnTo>
                    <a:pt x="218" y="78"/>
                  </a:lnTo>
                  <a:close/>
                  <a:moveTo>
                    <a:pt x="186" y="80"/>
                  </a:moveTo>
                  <a:lnTo>
                    <a:pt x="186" y="80"/>
                  </a:lnTo>
                  <a:lnTo>
                    <a:pt x="186" y="72"/>
                  </a:lnTo>
                  <a:lnTo>
                    <a:pt x="182" y="64"/>
                  </a:lnTo>
                  <a:lnTo>
                    <a:pt x="178" y="58"/>
                  </a:lnTo>
                  <a:lnTo>
                    <a:pt x="172" y="52"/>
                  </a:lnTo>
                  <a:lnTo>
                    <a:pt x="164" y="48"/>
                  </a:lnTo>
                  <a:lnTo>
                    <a:pt x="156" y="46"/>
                  </a:lnTo>
                  <a:lnTo>
                    <a:pt x="148" y="42"/>
                  </a:lnTo>
                  <a:lnTo>
                    <a:pt x="140" y="42"/>
                  </a:lnTo>
                  <a:lnTo>
                    <a:pt x="140" y="42"/>
                  </a:lnTo>
                  <a:lnTo>
                    <a:pt x="134" y="44"/>
                  </a:lnTo>
                  <a:lnTo>
                    <a:pt x="130" y="48"/>
                  </a:lnTo>
                  <a:lnTo>
                    <a:pt x="130" y="48"/>
                  </a:lnTo>
                  <a:lnTo>
                    <a:pt x="114" y="92"/>
                  </a:lnTo>
                  <a:lnTo>
                    <a:pt x="96" y="136"/>
                  </a:lnTo>
                  <a:lnTo>
                    <a:pt x="96" y="136"/>
                  </a:lnTo>
                  <a:lnTo>
                    <a:pt x="96" y="140"/>
                  </a:lnTo>
                  <a:lnTo>
                    <a:pt x="96" y="142"/>
                  </a:lnTo>
                  <a:lnTo>
                    <a:pt x="98" y="144"/>
                  </a:lnTo>
                  <a:lnTo>
                    <a:pt x="98" y="144"/>
                  </a:lnTo>
                  <a:lnTo>
                    <a:pt x="112" y="140"/>
                  </a:lnTo>
                  <a:lnTo>
                    <a:pt x="126" y="134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58" y="118"/>
                  </a:lnTo>
                  <a:lnTo>
                    <a:pt x="174" y="104"/>
                  </a:lnTo>
                  <a:lnTo>
                    <a:pt x="184" y="92"/>
                  </a:lnTo>
                  <a:lnTo>
                    <a:pt x="186" y="86"/>
                  </a:lnTo>
                  <a:lnTo>
                    <a:pt x="186" y="80"/>
                  </a:lnTo>
                  <a:lnTo>
                    <a:pt x="186" y="8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8"/>
            <p:cNvSpPr/>
            <p:nvPr/>
          </p:nvSpPr>
          <p:spPr>
            <a:xfrm>
              <a:off x="7189560" y="7677000"/>
              <a:ext cx="590400" cy="4413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372" h="278">
                  <a:moveTo>
                    <a:pt x="182" y="228"/>
                  </a:moveTo>
                  <a:lnTo>
                    <a:pt x="182" y="228"/>
                  </a:lnTo>
                  <a:lnTo>
                    <a:pt x="186" y="228"/>
                  </a:lnTo>
                  <a:lnTo>
                    <a:pt x="192" y="224"/>
                  </a:lnTo>
                  <a:lnTo>
                    <a:pt x="202" y="214"/>
                  </a:lnTo>
                  <a:lnTo>
                    <a:pt x="202" y="214"/>
                  </a:lnTo>
                  <a:lnTo>
                    <a:pt x="220" y="196"/>
                  </a:lnTo>
                  <a:lnTo>
                    <a:pt x="238" y="174"/>
                  </a:lnTo>
                  <a:lnTo>
                    <a:pt x="276" y="126"/>
                  </a:lnTo>
                  <a:lnTo>
                    <a:pt x="322" y="60"/>
                  </a:lnTo>
                  <a:lnTo>
                    <a:pt x="322" y="60"/>
                  </a:lnTo>
                  <a:lnTo>
                    <a:pt x="330" y="46"/>
                  </a:lnTo>
                  <a:lnTo>
                    <a:pt x="332" y="36"/>
                  </a:lnTo>
                  <a:lnTo>
                    <a:pt x="332" y="36"/>
                  </a:lnTo>
                  <a:lnTo>
                    <a:pt x="334" y="30"/>
                  </a:lnTo>
                  <a:lnTo>
                    <a:pt x="334" y="24"/>
                  </a:lnTo>
                  <a:lnTo>
                    <a:pt x="336" y="20"/>
                  </a:lnTo>
                  <a:lnTo>
                    <a:pt x="340" y="20"/>
                  </a:lnTo>
                  <a:lnTo>
                    <a:pt x="340" y="20"/>
                  </a:lnTo>
                  <a:lnTo>
                    <a:pt x="346" y="18"/>
                  </a:lnTo>
                  <a:lnTo>
                    <a:pt x="350" y="14"/>
                  </a:lnTo>
                  <a:lnTo>
                    <a:pt x="350" y="14"/>
                  </a:lnTo>
                  <a:lnTo>
                    <a:pt x="354" y="10"/>
                  </a:lnTo>
                  <a:lnTo>
                    <a:pt x="358" y="8"/>
                  </a:lnTo>
                  <a:lnTo>
                    <a:pt x="358" y="8"/>
                  </a:lnTo>
                  <a:lnTo>
                    <a:pt x="362" y="8"/>
                  </a:lnTo>
                  <a:lnTo>
                    <a:pt x="366" y="12"/>
                  </a:lnTo>
                  <a:lnTo>
                    <a:pt x="372" y="20"/>
                  </a:lnTo>
                  <a:lnTo>
                    <a:pt x="372" y="32"/>
                  </a:lnTo>
                  <a:lnTo>
                    <a:pt x="372" y="38"/>
                  </a:lnTo>
                  <a:lnTo>
                    <a:pt x="370" y="44"/>
                  </a:lnTo>
                  <a:lnTo>
                    <a:pt x="370" y="44"/>
                  </a:lnTo>
                  <a:lnTo>
                    <a:pt x="364" y="60"/>
                  </a:lnTo>
                  <a:lnTo>
                    <a:pt x="358" y="80"/>
                  </a:lnTo>
                  <a:lnTo>
                    <a:pt x="350" y="126"/>
                  </a:lnTo>
                  <a:lnTo>
                    <a:pt x="342" y="168"/>
                  </a:lnTo>
                  <a:lnTo>
                    <a:pt x="340" y="196"/>
                  </a:lnTo>
                  <a:lnTo>
                    <a:pt x="340" y="196"/>
                  </a:lnTo>
                  <a:lnTo>
                    <a:pt x="340" y="226"/>
                  </a:lnTo>
                  <a:lnTo>
                    <a:pt x="340" y="226"/>
                  </a:lnTo>
                  <a:lnTo>
                    <a:pt x="340" y="230"/>
                  </a:lnTo>
                  <a:lnTo>
                    <a:pt x="342" y="232"/>
                  </a:lnTo>
                  <a:lnTo>
                    <a:pt x="346" y="232"/>
                  </a:lnTo>
                  <a:lnTo>
                    <a:pt x="350" y="230"/>
                  </a:lnTo>
                  <a:lnTo>
                    <a:pt x="350" y="230"/>
                  </a:lnTo>
                  <a:lnTo>
                    <a:pt x="358" y="230"/>
                  </a:lnTo>
                  <a:lnTo>
                    <a:pt x="364" y="230"/>
                  </a:lnTo>
                  <a:lnTo>
                    <a:pt x="368" y="230"/>
                  </a:lnTo>
                  <a:lnTo>
                    <a:pt x="370" y="234"/>
                  </a:lnTo>
                  <a:lnTo>
                    <a:pt x="370" y="234"/>
                  </a:lnTo>
                  <a:lnTo>
                    <a:pt x="366" y="242"/>
                  </a:lnTo>
                  <a:lnTo>
                    <a:pt x="358" y="252"/>
                  </a:lnTo>
                  <a:lnTo>
                    <a:pt x="348" y="262"/>
                  </a:lnTo>
                  <a:lnTo>
                    <a:pt x="336" y="270"/>
                  </a:lnTo>
                  <a:lnTo>
                    <a:pt x="336" y="270"/>
                  </a:lnTo>
                  <a:lnTo>
                    <a:pt x="330" y="272"/>
                  </a:lnTo>
                  <a:lnTo>
                    <a:pt x="322" y="274"/>
                  </a:lnTo>
                  <a:lnTo>
                    <a:pt x="322" y="274"/>
                  </a:lnTo>
                  <a:lnTo>
                    <a:pt x="318" y="274"/>
                  </a:lnTo>
                  <a:lnTo>
                    <a:pt x="312" y="272"/>
                  </a:lnTo>
                  <a:lnTo>
                    <a:pt x="304" y="266"/>
                  </a:lnTo>
                  <a:lnTo>
                    <a:pt x="304" y="266"/>
                  </a:lnTo>
                  <a:lnTo>
                    <a:pt x="302" y="262"/>
                  </a:lnTo>
                  <a:lnTo>
                    <a:pt x="302" y="258"/>
                  </a:lnTo>
                  <a:lnTo>
                    <a:pt x="302" y="252"/>
                  </a:lnTo>
                  <a:lnTo>
                    <a:pt x="302" y="252"/>
                  </a:lnTo>
                  <a:lnTo>
                    <a:pt x="306" y="244"/>
                  </a:lnTo>
                  <a:lnTo>
                    <a:pt x="306" y="234"/>
                  </a:lnTo>
                  <a:lnTo>
                    <a:pt x="306" y="234"/>
                  </a:lnTo>
                  <a:lnTo>
                    <a:pt x="314" y="176"/>
                  </a:lnTo>
                  <a:lnTo>
                    <a:pt x="328" y="102"/>
                  </a:lnTo>
                  <a:lnTo>
                    <a:pt x="328" y="102"/>
                  </a:lnTo>
                  <a:lnTo>
                    <a:pt x="328" y="100"/>
                  </a:lnTo>
                  <a:lnTo>
                    <a:pt x="328" y="98"/>
                  </a:lnTo>
                  <a:lnTo>
                    <a:pt x="324" y="102"/>
                  </a:lnTo>
                  <a:lnTo>
                    <a:pt x="324" y="102"/>
                  </a:lnTo>
                  <a:lnTo>
                    <a:pt x="288" y="152"/>
                  </a:lnTo>
                  <a:lnTo>
                    <a:pt x="254" y="194"/>
                  </a:lnTo>
                  <a:lnTo>
                    <a:pt x="228" y="224"/>
                  </a:lnTo>
                  <a:lnTo>
                    <a:pt x="210" y="244"/>
                  </a:lnTo>
                  <a:lnTo>
                    <a:pt x="210" y="244"/>
                  </a:lnTo>
                  <a:lnTo>
                    <a:pt x="192" y="262"/>
                  </a:lnTo>
                  <a:lnTo>
                    <a:pt x="182" y="268"/>
                  </a:lnTo>
                  <a:lnTo>
                    <a:pt x="174" y="270"/>
                  </a:lnTo>
                  <a:lnTo>
                    <a:pt x="174" y="270"/>
                  </a:lnTo>
                  <a:lnTo>
                    <a:pt x="166" y="268"/>
                  </a:lnTo>
                  <a:lnTo>
                    <a:pt x="158" y="262"/>
                  </a:lnTo>
                  <a:lnTo>
                    <a:pt x="152" y="254"/>
                  </a:lnTo>
                  <a:lnTo>
                    <a:pt x="146" y="242"/>
                  </a:lnTo>
                  <a:lnTo>
                    <a:pt x="140" y="218"/>
                  </a:lnTo>
                  <a:lnTo>
                    <a:pt x="134" y="194"/>
                  </a:lnTo>
                  <a:lnTo>
                    <a:pt x="134" y="194"/>
                  </a:lnTo>
                  <a:lnTo>
                    <a:pt x="130" y="150"/>
                  </a:lnTo>
                  <a:lnTo>
                    <a:pt x="126" y="112"/>
                  </a:lnTo>
                  <a:lnTo>
                    <a:pt x="126" y="112"/>
                  </a:lnTo>
                  <a:lnTo>
                    <a:pt x="124" y="108"/>
                  </a:lnTo>
                  <a:lnTo>
                    <a:pt x="122" y="108"/>
                  </a:lnTo>
                  <a:lnTo>
                    <a:pt x="118" y="114"/>
                  </a:lnTo>
                  <a:lnTo>
                    <a:pt x="118" y="114"/>
                  </a:lnTo>
                  <a:lnTo>
                    <a:pt x="80" y="198"/>
                  </a:lnTo>
                  <a:lnTo>
                    <a:pt x="62" y="234"/>
                  </a:lnTo>
                  <a:lnTo>
                    <a:pt x="46" y="260"/>
                  </a:lnTo>
                  <a:lnTo>
                    <a:pt x="46" y="260"/>
                  </a:lnTo>
                  <a:lnTo>
                    <a:pt x="34" y="274"/>
                  </a:lnTo>
                  <a:lnTo>
                    <a:pt x="30" y="276"/>
                  </a:lnTo>
                  <a:lnTo>
                    <a:pt x="26" y="278"/>
                  </a:lnTo>
                  <a:lnTo>
                    <a:pt x="26" y="278"/>
                  </a:lnTo>
                  <a:lnTo>
                    <a:pt x="20" y="276"/>
                  </a:lnTo>
                  <a:lnTo>
                    <a:pt x="16" y="274"/>
                  </a:lnTo>
                  <a:lnTo>
                    <a:pt x="8" y="264"/>
                  </a:lnTo>
                  <a:lnTo>
                    <a:pt x="2" y="254"/>
                  </a:lnTo>
                  <a:lnTo>
                    <a:pt x="0" y="244"/>
                  </a:lnTo>
                  <a:lnTo>
                    <a:pt x="0" y="244"/>
                  </a:lnTo>
                  <a:lnTo>
                    <a:pt x="0" y="236"/>
                  </a:lnTo>
                  <a:lnTo>
                    <a:pt x="4" y="230"/>
                  </a:lnTo>
                  <a:lnTo>
                    <a:pt x="12" y="228"/>
                  </a:lnTo>
                  <a:lnTo>
                    <a:pt x="20" y="230"/>
                  </a:lnTo>
                  <a:lnTo>
                    <a:pt x="20" y="230"/>
                  </a:lnTo>
                  <a:lnTo>
                    <a:pt x="24" y="230"/>
                  </a:lnTo>
                  <a:lnTo>
                    <a:pt x="28" y="228"/>
                  </a:lnTo>
                  <a:lnTo>
                    <a:pt x="36" y="220"/>
                  </a:lnTo>
                  <a:lnTo>
                    <a:pt x="36" y="220"/>
                  </a:lnTo>
                  <a:lnTo>
                    <a:pt x="46" y="204"/>
                  </a:lnTo>
                  <a:lnTo>
                    <a:pt x="64" y="172"/>
                  </a:lnTo>
                  <a:lnTo>
                    <a:pt x="86" y="130"/>
                  </a:lnTo>
                  <a:lnTo>
                    <a:pt x="108" y="80"/>
                  </a:lnTo>
                  <a:lnTo>
                    <a:pt x="108" y="80"/>
                  </a:lnTo>
                  <a:lnTo>
                    <a:pt x="110" y="68"/>
                  </a:lnTo>
                  <a:lnTo>
                    <a:pt x="110" y="62"/>
                  </a:lnTo>
                  <a:lnTo>
                    <a:pt x="108" y="58"/>
                  </a:lnTo>
                  <a:lnTo>
                    <a:pt x="108" y="58"/>
                  </a:lnTo>
                  <a:lnTo>
                    <a:pt x="104" y="50"/>
                  </a:lnTo>
                  <a:lnTo>
                    <a:pt x="102" y="42"/>
                  </a:lnTo>
                  <a:lnTo>
                    <a:pt x="102" y="42"/>
                  </a:lnTo>
                  <a:lnTo>
                    <a:pt x="104" y="38"/>
                  </a:lnTo>
                  <a:lnTo>
                    <a:pt x="108" y="3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32" y="20"/>
                  </a:lnTo>
                  <a:lnTo>
                    <a:pt x="136" y="16"/>
                  </a:lnTo>
                  <a:lnTo>
                    <a:pt x="136" y="16"/>
                  </a:lnTo>
                  <a:lnTo>
                    <a:pt x="142" y="6"/>
                  </a:lnTo>
                  <a:lnTo>
                    <a:pt x="146" y="2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4" y="0"/>
                  </a:lnTo>
                  <a:lnTo>
                    <a:pt x="158" y="2"/>
                  </a:lnTo>
                  <a:lnTo>
                    <a:pt x="164" y="8"/>
                  </a:lnTo>
                  <a:lnTo>
                    <a:pt x="166" y="18"/>
                  </a:lnTo>
                  <a:lnTo>
                    <a:pt x="166" y="24"/>
                  </a:lnTo>
                  <a:lnTo>
                    <a:pt x="164" y="28"/>
                  </a:lnTo>
                  <a:lnTo>
                    <a:pt x="164" y="28"/>
                  </a:lnTo>
                  <a:lnTo>
                    <a:pt x="154" y="50"/>
                  </a:lnTo>
                  <a:lnTo>
                    <a:pt x="152" y="62"/>
                  </a:lnTo>
                  <a:lnTo>
                    <a:pt x="150" y="74"/>
                  </a:lnTo>
                  <a:lnTo>
                    <a:pt x="150" y="74"/>
                  </a:lnTo>
                  <a:lnTo>
                    <a:pt x="152" y="100"/>
                  </a:lnTo>
                  <a:lnTo>
                    <a:pt x="154" y="132"/>
                  </a:lnTo>
                  <a:lnTo>
                    <a:pt x="164" y="196"/>
                  </a:lnTo>
                  <a:lnTo>
                    <a:pt x="164" y="196"/>
                  </a:lnTo>
                  <a:lnTo>
                    <a:pt x="168" y="212"/>
                  </a:lnTo>
                  <a:lnTo>
                    <a:pt x="172" y="222"/>
                  </a:lnTo>
                  <a:lnTo>
                    <a:pt x="178" y="226"/>
                  </a:lnTo>
                  <a:lnTo>
                    <a:pt x="182" y="228"/>
                  </a:lnTo>
                  <a:lnTo>
                    <a:pt x="182" y="22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9"/>
            <p:cNvSpPr/>
            <p:nvPr/>
          </p:nvSpPr>
          <p:spPr>
            <a:xfrm>
              <a:off x="7815240" y="7670880"/>
              <a:ext cx="434880" cy="44784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74" h="282">
                  <a:moveTo>
                    <a:pt x="214" y="0"/>
                  </a:moveTo>
                  <a:lnTo>
                    <a:pt x="214" y="0"/>
                  </a:lnTo>
                  <a:lnTo>
                    <a:pt x="216" y="2"/>
                  </a:lnTo>
                  <a:lnTo>
                    <a:pt x="220" y="4"/>
                  </a:lnTo>
                  <a:lnTo>
                    <a:pt x="226" y="12"/>
                  </a:lnTo>
                  <a:lnTo>
                    <a:pt x="226" y="12"/>
                  </a:lnTo>
                  <a:lnTo>
                    <a:pt x="226" y="18"/>
                  </a:lnTo>
                  <a:lnTo>
                    <a:pt x="226" y="22"/>
                  </a:lnTo>
                  <a:lnTo>
                    <a:pt x="222" y="24"/>
                  </a:lnTo>
                  <a:lnTo>
                    <a:pt x="222" y="24"/>
                  </a:lnTo>
                  <a:lnTo>
                    <a:pt x="214" y="34"/>
                  </a:lnTo>
                  <a:lnTo>
                    <a:pt x="212" y="36"/>
                  </a:lnTo>
                  <a:lnTo>
                    <a:pt x="210" y="40"/>
                  </a:lnTo>
                  <a:lnTo>
                    <a:pt x="210" y="40"/>
                  </a:lnTo>
                  <a:lnTo>
                    <a:pt x="210" y="72"/>
                  </a:lnTo>
                  <a:lnTo>
                    <a:pt x="214" y="130"/>
                  </a:lnTo>
                  <a:lnTo>
                    <a:pt x="214" y="130"/>
                  </a:lnTo>
                  <a:lnTo>
                    <a:pt x="214" y="134"/>
                  </a:lnTo>
                  <a:lnTo>
                    <a:pt x="216" y="136"/>
                  </a:lnTo>
                  <a:lnTo>
                    <a:pt x="218" y="136"/>
                  </a:lnTo>
                  <a:lnTo>
                    <a:pt x="218" y="136"/>
                  </a:lnTo>
                  <a:lnTo>
                    <a:pt x="266" y="138"/>
                  </a:lnTo>
                  <a:lnTo>
                    <a:pt x="266" y="138"/>
                  </a:lnTo>
                  <a:lnTo>
                    <a:pt x="274" y="140"/>
                  </a:lnTo>
                  <a:lnTo>
                    <a:pt x="274" y="142"/>
                  </a:lnTo>
                  <a:lnTo>
                    <a:pt x="274" y="144"/>
                  </a:lnTo>
                  <a:lnTo>
                    <a:pt x="272" y="146"/>
                  </a:lnTo>
                  <a:lnTo>
                    <a:pt x="264" y="150"/>
                  </a:lnTo>
                  <a:lnTo>
                    <a:pt x="264" y="150"/>
                  </a:lnTo>
                  <a:lnTo>
                    <a:pt x="242" y="156"/>
                  </a:lnTo>
                  <a:lnTo>
                    <a:pt x="220" y="158"/>
                  </a:lnTo>
                  <a:lnTo>
                    <a:pt x="220" y="158"/>
                  </a:lnTo>
                  <a:lnTo>
                    <a:pt x="216" y="160"/>
                  </a:lnTo>
                  <a:lnTo>
                    <a:pt x="216" y="164"/>
                  </a:lnTo>
                  <a:lnTo>
                    <a:pt x="216" y="164"/>
                  </a:lnTo>
                  <a:lnTo>
                    <a:pt x="220" y="202"/>
                  </a:lnTo>
                  <a:lnTo>
                    <a:pt x="224" y="226"/>
                  </a:lnTo>
                  <a:lnTo>
                    <a:pt x="224" y="226"/>
                  </a:lnTo>
                  <a:lnTo>
                    <a:pt x="228" y="232"/>
                  </a:lnTo>
                  <a:lnTo>
                    <a:pt x="230" y="234"/>
                  </a:lnTo>
                  <a:lnTo>
                    <a:pt x="236" y="234"/>
                  </a:lnTo>
                  <a:lnTo>
                    <a:pt x="242" y="234"/>
                  </a:lnTo>
                  <a:lnTo>
                    <a:pt x="242" y="234"/>
                  </a:lnTo>
                  <a:lnTo>
                    <a:pt x="246" y="234"/>
                  </a:lnTo>
                  <a:lnTo>
                    <a:pt x="248" y="236"/>
                  </a:lnTo>
                  <a:lnTo>
                    <a:pt x="250" y="238"/>
                  </a:lnTo>
                  <a:lnTo>
                    <a:pt x="250" y="242"/>
                  </a:lnTo>
                  <a:lnTo>
                    <a:pt x="250" y="242"/>
                  </a:lnTo>
                  <a:lnTo>
                    <a:pt x="246" y="254"/>
                  </a:lnTo>
                  <a:lnTo>
                    <a:pt x="240" y="264"/>
                  </a:lnTo>
                  <a:lnTo>
                    <a:pt x="230" y="270"/>
                  </a:lnTo>
                  <a:lnTo>
                    <a:pt x="218" y="274"/>
                  </a:lnTo>
                  <a:lnTo>
                    <a:pt x="218" y="274"/>
                  </a:lnTo>
                  <a:lnTo>
                    <a:pt x="212" y="272"/>
                  </a:lnTo>
                  <a:lnTo>
                    <a:pt x="206" y="268"/>
                  </a:lnTo>
                  <a:lnTo>
                    <a:pt x="200" y="258"/>
                  </a:lnTo>
                  <a:lnTo>
                    <a:pt x="196" y="246"/>
                  </a:lnTo>
                  <a:lnTo>
                    <a:pt x="196" y="246"/>
                  </a:lnTo>
                  <a:lnTo>
                    <a:pt x="192" y="210"/>
                  </a:lnTo>
                  <a:lnTo>
                    <a:pt x="188" y="164"/>
                  </a:lnTo>
                  <a:lnTo>
                    <a:pt x="188" y="164"/>
                  </a:lnTo>
                  <a:lnTo>
                    <a:pt x="186" y="160"/>
                  </a:lnTo>
                  <a:lnTo>
                    <a:pt x="180" y="160"/>
                  </a:lnTo>
                  <a:lnTo>
                    <a:pt x="180" y="160"/>
                  </a:lnTo>
                  <a:lnTo>
                    <a:pt x="148" y="162"/>
                  </a:lnTo>
                  <a:lnTo>
                    <a:pt x="118" y="166"/>
                  </a:lnTo>
                  <a:lnTo>
                    <a:pt x="118" y="166"/>
                  </a:lnTo>
                  <a:lnTo>
                    <a:pt x="102" y="172"/>
                  </a:lnTo>
                  <a:lnTo>
                    <a:pt x="96" y="174"/>
                  </a:lnTo>
                  <a:lnTo>
                    <a:pt x="90" y="180"/>
                  </a:lnTo>
                  <a:lnTo>
                    <a:pt x="90" y="180"/>
                  </a:lnTo>
                  <a:lnTo>
                    <a:pt x="82" y="188"/>
                  </a:lnTo>
                  <a:lnTo>
                    <a:pt x="70" y="204"/>
                  </a:lnTo>
                  <a:lnTo>
                    <a:pt x="58" y="222"/>
                  </a:lnTo>
                  <a:lnTo>
                    <a:pt x="54" y="232"/>
                  </a:lnTo>
                  <a:lnTo>
                    <a:pt x="52" y="242"/>
                  </a:lnTo>
                  <a:lnTo>
                    <a:pt x="52" y="242"/>
                  </a:lnTo>
                  <a:lnTo>
                    <a:pt x="52" y="254"/>
                  </a:lnTo>
                  <a:lnTo>
                    <a:pt x="52" y="254"/>
                  </a:lnTo>
                  <a:lnTo>
                    <a:pt x="52" y="262"/>
                  </a:lnTo>
                  <a:lnTo>
                    <a:pt x="50" y="266"/>
                  </a:lnTo>
                  <a:lnTo>
                    <a:pt x="46" y="268"/>
                  </a:lnTo>
                  <a:lnTo>
                    <a:pt x="46" y="268"/>
                  </a:lnTo>
                  <a:lnTo>
                    <a:pt x="30" y="278"/>
                  </a:lnTo>
                  <a:lnTo>
                    <a:pt x="22" y="282"/>
                  </a:lnTo>
                  <a:lnTo>
                    <a:pt x="14" y="282"/>
                  </a:lnTo>
                  <a:lnTo>
                    <a:pt x="14" y="282"/>
                  </a:lnTo>
                  <a:lnTo>
                    <a:pt x="8" y="282"/>
                  </a:lnTo>
                  <a:lnTo>
                    <a:pt x="4" y="278"/>
                  </a:lnTo>
                  <a:lnTo>
                    <a:pt x="2" y="272"/>
                  </a:lnTo>
                  <a:lnTo>
                    <a:pt x="0" y="266"/>
                  </a:lnTo>
                  <a:lnTo>
                    <a:pt x="0" y="266"/>
                  </a:lnTo>
                  <a:lnTo>
                    <a:pt x="2" y="260"/>
                  </a:lnTo>
                  <a:lnTo>
                    <a:pt x="6" y="252"/>
                  </a:lnTo>
                  <a:lnTo>
                    <a:pt x="12" y="240"/>
                  </a:lnTo>
                  <a:lnTo>
                    <a:pt x="24" y="226"/>
                  </a:lnTo>
                  <a:lnTo>
                    <a:pt x="24" y="226"/>
                  </a:lnTo>
                  <a:lnTo>
                    <a:pt x="44" y="198"/>
                  </a:lnTo>
                  <a:lnTo>
                    <a:pt x="64" y="174"/>
                  </a:lnTo>
                  <a:lnTo>
                    <a:pt x="64" y="174"/>
                  </a:lnTo>
                  <a:lnTo>
                    <a:pt x="66" y="168"/>
                  </a:lnTo>
                  <a:lnTo>
                    <a:pt x="68" y="166"/>
                  </a:lnTo>
                  <a:lnTo>
                    <a:pt x="68" y="166"/>
                  </a:lnTo>
                  <a:lnTo>
                    <a:pt x="68" y="160"/>
                  </a:lnTo>
                  <a:lnTo>
                    <a:pt x="72" y="154"/>
                  </a:lnTo>
                  <a:lnTo>
                    <a:pt x="72" y="154"/>
                  </a:lnTo>
                  <a:lnTo>
                    <a:pt x="78" y="148"/>
                  </a:lnTo>
                  <a:lnTo>
                    <a:pt x="86" y="144"/>
                  </a:lnTo>
                  <a:lnTo>
                    <a:pt x="86" y="144"/>
                  </a:lnTo>
                  <a:lnTo>
                    <a:pt x="92" y="140"/>
                  </a:lnTo>
                  <a:lnTo>
                    <a:pt x="98" y="134"/>
                  </a:lnTo>
                  <a:lnTo>
                    <a:pt x="98" y="134"/>
                  </a:lnTo>
                  <a:lnTo>
                    <a:pt x="190" y="18"/>
                  </a:lnTo>
                  <a:lnTo>
                    <a:pt x="190" y="18"/>
                  </a:lnTo>
                  <a:lnTo>
                    <a:pt x="198" y="8"/>
                  </a:lnTo>
                  <a:lnTo>
                    <a:pt x="204" y="4"/>
                  </a:lnTo>
                  <a:lnTo>
                    <a:pt x="210" y="0"/>
                  </a:lnTo>
                  <a:lnTo>
                    <a:pt x="214" y="0"/>
                  </a:lnTo>
                  <a:lnTo>
                    <a:pt x="214" y="0"/>
                  </a:lnTo>
                  <a:close/>
                  <a:moveTo>
                    <a:pt x="178" y="136"/>
                  </a:moveTo>
                  <a:lnTo>
                    <a:pt x="178" y="136"/>
                  </a:lnTo>
                  <a:lnTo>
                    <a:pt x="184" y="136"/>
                  </a:lnTo>
                  <a:lnTo>
                    <a:pt x="184" y="132"/>
                  </a:lnTo>
                  <a:lnTo>
                    <a:pt x="184" y="132"/>
                  </a:lnTo>
                  <a:lnTo>
                    <a:pt x="182" y="80"/>
                  </a:lnTo>
                  <a:lnTo>
                    <a:pt x="182" y="80"/>
                  </a:lnTo>
                  <a:lnTo>
                    <a:pt x="180" y="74"/>
                  </a:lnTo>
                  <a:lnTo>
                    <a:pt x="180" y="74"/>
                  </a:lnTo>
                  <a:lnTo>
                    <a:pt x="178" y="74"/>
                  </a:lnTo>
                  <a:lnTo>
                    <a:pt x="174" y="78"/>
                  </a:lnTo>
                  <a:lnTo>
                    <a:pt x="174" y="78"/>
                  </a:lnTo>
                  <a:lnTo>
                    <a:pt x="152" y="104"/>
                  </a:lnTo>
                  <a:lnTo>
                    <a:pt x="132" y="132"/>
                  </a:lnTo>
                  <a:lnTo>
                    <a:pt x="132" y="132"/>
                  </a:lnTo>
                  <a:lnTo>
                    <a:pt x="130" y="136"/>
                  </a:lnTo>
                  <a:lnTo>
                    <a:pt x="130" y="138"/>
                  </a:lnTo>
                  <a:lnTo>
                    <a:pt x="132" y="138"/>
                  </a:lnTo>
                  <a:lnTo>
                    <a:pt x="136" y="138"/>
                  </a:lnTo>
                  <a:lnTo>
                    <a:pt x="136" y="138"/>
                  </a:lnTo>
                  <a:lnTo>
                    <a:pt x="178" y="136"/>
                  </a:lnTo>
                  <a:lnTo>
                    <a:pt x="178" y="13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30"/>
            <p:cNvSpPr/>
            <p:nvPr/>
          </p:nvSpPr>
          <p:spPr>
            <a:xfrm>
              <a:off x="8358120" y="7677000"/>
              <a:ext cx="444240" cy="44460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280" h="280">
                  <a:moveTo>
                    <a:pt x="150" y="0"/>
                  </a:moveTo>
                  <a:lnTo>
                    <a:pt x="150" y="0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4" y="12"/>
                  </a:lnTo>
                  <a:lnTo>
                    <a:pt x="164" y="12"/>
                  </a:lnTo>
                  <a:lnTo>
                    <a:pt x="168" y="16"/>
                  </a:lnTo>
                  <a:lnTo>
                    <a:pt x="176" y="18"/>
                  </a:lnTo>
                  <a:lnTo>
                    <a:pt x="176" y="18"/>
                  </a:lnTo>
                  <a:lnTo>
                    <a:pt x="208" y="20"/>
                  </a:lnTo>
                  <a:lnTo>
                    <a:pt x="232" y="20"/>
                  </a:lnTo>
                  <a:lnTo>
                    <a:pt x="232" y="20"/>
                  </a:lnTo>
                  <a:lnTo>
                    <a:pt x="240" y="20"/>
                  </a:lnTo>
                  <a:lnTo>
                    <a:pt x="244" y="16"/>
                  </a:lnTo>
                  <a:lnTo>
                    <a:pt x="252" y="8"/>
                  </a:lnTo>
                  <a:lnTo>
                    <a:pt x="252" y="8"/>
                  </a:lnTo>
                  <a:lnTo>
                    <a:pt x="256" y="6"/>
                  </a:lnTo>
                  <a:lnTo>
                    <a:pt x="260" y="4"/>
                  </a:lnTo>
                  <a:lnTo>
                    <a:pt x="260" y="4"/>
                  </a:lnTo>
                  <a:lnTo>
                    <a:pt x="266" y="6"/>
                  </a:lnTo>
                  <a:lnTo>
                    <a:pt x="274" y="12"/>
                  </a:lnTo>
                  <a:lnTo>
                    <a:pt x="278" y="20"/>
                  </a:lnTo>
                  <a:lnTo>
                    <a:pt x="280" y="30"/>
                  </a:lnTo>
                  <a:lnTo>
                    <a:pt x="280" y="30"/>
                  </a:lnTo>
                  <a:lnTo>
                    <a:pt x="278" y="38"/>
                  </a:lnTo>
                  <a:lnTo>
                    <a:pt x="274" y="44"/>
                  </a:lnTo>
                  <a:lnTo>
                    <a:pt x="266" y="48"/>
                  </a:lnTo>
                  <a:lnTo>
                    <a:pt x="258" y="50"/>
                  </a:lnTo>
                  <a:lnTo>
                    <a:pt x="258" y="50"/>
                  </a:lnTo>
                  <a:lnTo>
                    <a:pt x="250" y="48"/>
                  </a:lnTo>
                  <a:lnTo>
                    <a:pt x="240" y="44"/>
                  </a:lnTo>
                  <a:lnTo>
                    <a:pt x="240" y="44"/>
                  </a:lnTo>
                  <a:lnTo>
                    <a:pt x="232" y="40"/>
                  </a:lnTo>
                  <a:lnTo>
                    <a:pt x="222" y="40"/>
                  </a:lnTo>
                  <a:lnTo>
                    <a:pt x="222" y="4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64" y="42"/>
                  </a:lnTo>
                  <a:lnTo>
                    <a:pt x="160" y="48"/>
                  </a:lnTo>
                  <a:lnTo>
                    <a:pt x="160" y="48"/>
                  </a:lnTo>
                  <a:lnTo>
                    <a:pt x="124" y="148"/>
                  </a:lnTo>
                  <a:lnTo>
                    <a:pt x="92" y="234"/>
                  </a:lnTo>
                  <a:lnTo>
                    <a:pt x="92" y="234"/>
                  </a:lnTo>
                  <a:lnTo>
                    <a:pt x="90" y="238"/>
                  </a:lnTo>
                  <a:lnTo>
                    <a:pt x="94" y="238"/>
                  </a:lnTo>
                  <a:lnTo>
                    <a:pt x="94" y="238"/>
                  </a:lnTo>
                  <a:lnTo>
                    <a:pt x="116" y="242"/>
                  </a:lnTo>
                  <a:lnTo>
                    <a:pt x="138" y="244"/>
                  </a:lnTo>
                  <a:lnTo>
                    <a:pt x="138" y="244"/>
                  </a:lnTo>
                  <a:lnTo>
                    <a:pt x="142" y="246"/>
                  </a:lnTo>
                  <a:lnTo>
                    <a:pt x="144" y="250"/>
                  </a:lnTo>
                  <a:lnTo>
                    <a:pt x="144" y="252"/>
                  </a:lnTo>
                  <a:lnTo>
                    <a:pt x="140" y="254"/>
                  </a:lnTo>
                  <a:lnTo>
                    <a:pt x="140" y="254"/>
                  </a:lnTo>
                  <a:lnTo>
                    <a:pt x="128" y="258"/>
                  </a:lnTo>
                  <a:lnTo>
                    <a:pt x="112" y="262"/>
                  </a:lnTo>
                  <a:lnTo>
                    <a:pt x="80" y="264"/>
                  </a:lnTo>
                  <a:lnTo>
                    <a:pt x="80" y="264"/>
                  </a:lnTo>
                  <a:lnTo>
                    <a:pt x="74" y="266"/>
                  </a:lnTo>
                  <a:lnTo>
                    <a:pt x="70" y="268"/>
                  </a:lnTo>
                  <a:lnTo>
                    <a:pt x="70" y="268"/>
                  </a:lnTo>
                  <a:lnTo>
                    <a:pt x="58" y="276"/>
                  </a:lnTo>
                  <a:lnTo>
                    <a:pt x="50" y="280"/>
                  </a:lnTo>
                  <a:lnTo>
                    <a:pt x="42" y="280"/>
                  </a:lnTo>
                  <a:lnTo>
                    <a:pt x="42" y="280"/>
                  </a:lnTo>
                  <a:lnTo>
                    <a:pt x="36" y="280"/>
                  </a:lnTo>
                  <a:lnTo>
                    <a:pt x="32" y="276"/>
                  </a:lnTo>
                  <a:lnTo>
                    <a:pt x="28" y="270"/>
                  </a:lnTo>
                  <a:lnTo>
                    <a:pt x="26" y="264"/>
                  </a:lnTo>
                  <a:lnTo>
                    <a:pt x="26" y="264"/>
                  </a:lnTo>
                  <a:lnTo>
                    <a:pt x="26" y="260"/>
                  </a:lnTo>
                  <a:lnTo>
                    <a:pt x="28" y="256"/>
                  </a:lnTo>
                  <a:lnTo>
                    <a:pt x="36" y="248"/>
                  </a:lnTo>
                  <a:lnTo>
                    <a:pt x="44" y="244"/>
                  </a:lnTo>
                  <a:lnTo>
                    <a:pt x="54" y="242"/>
                  </a:lnTo>
                  <a:lnTo>
                    <a:pt x="54" y="242"/>
                  </a:lnTo>
                  <a:lnTo>
                    <a:pt x="58" y="238"/>
                  </a:lnTo>
                  <a:lnTo>
                    <a:pt x="62" y="232"/>
                  </a:lnTo>
                  <a:lnTo>
                    <a:pt x="62" y="232"/>
                  </a:lnTo>
                  <a:lnTo>
                    <a:pt x="76" y="198"/>
                  </a:lnTo>
                  <a:lnTo>
                    <a:pt x="90" y="152"/>
                  </a:lnTo>
                  <a:lnTo>
                    <a:pt x="124" y="48"/>
                  </a:lnTo>
                  <a:lnTo>
                    <a:pt x="124" y="48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2" y="42"/>
                  </a:lnTo>
                  <a:lnTo>
                    <a:pt x="90" y="40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34" y="40"/>
                  </a:lnTo>
                  <a:lnTo>
                    <a:pt x="22" y="46"/>
                  </a:lnTo>
                  <a:lnTo>
                    <a:pt x="16" y="52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10" y="66"/>
                  </a:lnTo>
                  <a:lnTo>
                    <a:pt x="8" y="68"/>
                  </a:lnTo>
                  <a:lnTo>
                    <a:pt x="6" y="66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22" y="16"/>
                  </a:lnTo>
                  <a:lnTo>
                    <a:pt x="38" y="12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94" y="14"/>
                  </a:lnTo>
                  <a:lnTo>
                    <a:pt x="128" y="16"/>
                  </a:lnTo>
                  <a:lnTo>
                    <a:pt x="128" y="16"/>
                  </a:lnTo>
                  <a:lnTo>
                    <a:pt x="134" y="16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44" y="4"/>
                  </a:lnTo>
                  <a:lnTo>
                    <a:pt x="146" y="2"/>
                  </a:lnTo>
                  <a:lnTo>
                    <a:pt x="150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31"/>
            <p:cNvSpPr/>
            <p:nvPr/>
          </p:nvSpPr>
          <p:spPr>
            <a:xfrm>
              <a:off x="8732880" y="7667640"/>
              <a:ext cx="323640" cy="44136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204" h="278">
                  <a:moveTo>
                    <a:pt x="144" y="0"/>
                  </a:moveTo>
                  <a:lnTo>
                    <a:pt x="144" y="0"/>
                  </a:lnTo>
                  <a:lnTo>
                    <a:pt x="150" y="0"/>
                  </a:lnTo>
                  <a:lnTo>
                    <a:pt x="154" y="4"/>
                  </a:lnTo>
                  <a:lnTo>
                    <a:pt x="158" y="10"/>
                  </a:lnTo>
                  <a:lnTo>
                    <a:pt x="160" y="14"/>
                  </a:lnTo>
                  <a:lnTo>
                    <a:pt x="160" y="14"/>
                  </a:lnTo>
                  <a:lnTo>
                    <a:pt x="162" y="18"/>
                  </a:lnTo>
                  <a:lnTo>
                    <a:pt x="164" y="20"/>
                  </a:lnTo>
                  <a:lnTo>
                    <a:pt x="164" y="20"/>
                  </a:lnTo>
                  <a:lnTo>
                    <a:pt x="184" y="22"/>
                  </a:lnTo>
                  <a:lnTo>
                    <a:pt x="200" y="26"/>
                  </a:lnTo>
                  <a:lnTo>
                    <a:pt x="200" y="26"/>
                  </a:lnTo>
                  <a:lnTo>
                    <a:pt x="202" y="28"/>
                  </a:lnTo>
                  <a:lnTo>
                    <a:pt x="204" y="30"/>
                  </a:lnTo>
                  <a:lnTo>
                    <a:pt x="204" y="30"/>
                  </a:lnTo>
                  <a:lnTo>
                    <a:pt x="204" y="32"/>
                  </a:lnTo>
                  <a:lnTo>
                    <a:pt x="202" y="34"/>
                  </a:lnTo>
                  <a:lnTo>
                    <a:pt x="196" y="38"/>
                  </a:lnTo>
                  <a:lnTo>
                    <a:pt x="184" y="40"/>
                  </a:lnTo>
                  <a:lnTo>
                    <a:pt x="156" y="40"/>
                  </a:lnTo>
                  <a:lnTo>
                    <a:pt x="156" y="40"/>
                  </a:lnTo>
                  <a:lnTo>
                    <a:pt x="152" y="42"/>
                  </a:lnTo>
                  <a:lnTo>
                    <a:pt x="148" y="48"/>
                  </a:lnTo>
                  <a:lnTo>
                    <a:pt x="148" y="48"/>
                  </a:lnTo>
                  <a:lnTo>
                    <a:pt x="128" y="94"/>
                  </a:lnTo>
                  <a:lnTo>
                    <a:pt x="104" y="148"/>
                  </a:lnTo>
                  <a:lnTo>
                    <a:pt x="86" y="200"/>
                  </a:lnTo>
                  <a:lnTo>
                    <a:pt x="78" y="222"/>
                  </a:lnTo>
                  <a:lnTo>
                    <a:pt x="74" y="238"/>
                  </a:lnTo>
                  <a:lnTo>
                    <a:pt x="74" y="238"/>
                  </a:lnTo>
                  <a:lnTo>
                    <a:pt x="74" y="244"/>
                  </a:lnTo>
                  <a:lnTo>
                    <a:pt x="76" y="244"/>
                  </a:lnTo>
                  <a:lnTo>
                    <a:pt x="78" y="244"/>
                  </a:lnTo>
                  <a:lnTo>
                    <a:pt x="78" y="244"/>
                  </a:lnTo>
                  <a:lnTo>
                    <a:pt x="120" y="244"/>
                  </a:lnTo>
                  <a:lnTo>
                    <a:pt x="120" y="244"/>
                  </a:lnTo>
                  <a:lnTo>
                    <a:pt x="130" y="244"/>
                  </a:lnTo>
                  <a:lnTo>
                    <a:pt x="136" y="244"/>
                  </a:lnTo>
                  <a:lnTo>
                    <a:pt x="136" y="244"/>
                  </a:lnTo>
                  <a:lnTo>
                    <a:pt x="140" y="246"/>
                  </a:lnTo>
                  <a:lnTo>
                    <a:pt x="140" y="250"/>
                  </a:lnTo>
                  <a:lnTo>
                    <a:pt x="138" y="252"/>
                  </a:lnTo>
                  <a:lnTo>
                    <a:pt x="132" y="256"/>
                  </a:lnTo>
                  <a:lnTo>
                    <a:pt x="132" y="256"/>
                  </a:lnTo>
                  <a:lnTo>
                    <a:pt x="118" y="260"/>
                  </a:lnTo>
                  <a:lnTo>
                    <a:pt x="100" y="264"/>
                  </a:lnTo>
                  <a:lnTo>
                    <a:pt x="72" y="268"/>
                  </a:lnTo>
                  <a:lnTo>
                    <a:pt x="72" y="268"/>
                  </a:lnTo>
                  <a:lnTo>
                    <a:pt x="68" y="270"/>
                  </a:lnTo>
                  <a:lnTo>
                    <a:pt x="66" y="272"/>
                  </a:lnTo>
                  <a:lnTo>
                    <a:pt x="58" y="276"/>
                  </a:lnTo>
                  <a:lnTo>
                    <a:pt x="58" y="276"/>
                  </a:lnTo>
                  <a:lnTo>
                    <a:pt x="52" y="278"/>
                  </a:lnTo>
                  <a:lnTo>
                    <a:pt x="52" y="278"/>
                  </a:lnTo>
                  <a:lnTo>
                    <a:pt x="48" y="276"/>
                  </a:lnTo>
                  <a:lnTo>
                    <a:pt x="44" y="272"/>
                  </a:lnTo>
                  <a:lnTo>
                    <a:pt x="44" y="272"/>
                  </a:lnTo>
                  <a:lnTo>
                    <a:pt x="40" y="268"/>
                  </a:lnTo>
                  <a:lnTo>
                    <a:pt x="36" y="268"/>
                  </a:lnTo>
                  <a:lnTo>
                    <a:pt x="36" y="268"/>
                  </a:lnTo>
                  <a:lnTo>
                    <a:pt x="24" y="270"/>
                  </a:lnTo>
                  <a:lnTo>
                    <a:pt x="14" y="274"/>
                  </a:lnTo>
                  <a:lnTo>
                    <a:pt x="14" y="274"/>
                  </a:lnTo>
                  <a:lnTo>
                    <a:pt x="10" y="274"/>
                  </a:lnTo>
                  <a:lnTo>
                    <a:pt x="4" y="270"/>
                  </a:lnTo>
                  <a:lnTo>
                    <a:pt x="4" y="270"/>
                  </a:lnTo>
                  <a:lnTo>
                    <a:pt x="2" y="266"/>
                  </a:lnTo>
                  <a:lnTo>
                    <a:pt x="0" y="262"/>
                  </a:lnTo>
                  <a:lnTo>
                    <a:pt x="2" y="258"/>
                  </a:lnTo>
                  <a:lnTo>
                    <a:pt x="4" y="254"/>
                  </a:lnTo>
                  <a:lnTo>
                    <a:pt x="4" y="254"/>
                  </a:lnTo>
                  <a:lnTo>
                    <a:pt x="12" y="248"/>
                  </a:lnTo>
                  <a:lnTo>
                    <a:pt x="20" y="246"/>
                  </a:lnTo>
                  <a:lnTo>
                    <a:pt x="30" y="244"/>
                  </a:lnTo>
                  <a:lnTo>
                    <a:pt x="40" y="244"/>
                  </a:lnTo>
                  <a:lnTo>
                    <a:pt x="40" y="244"/>
                  </a:lnTo>
                  <a:lnTo>
                    <a:pt x="42" y="242"/>
                  </a:lnTo>
                  <a:lnTo>
                    <a:pt x="44" y="238"/>
                  </a:lnTo>
                  <a:lnTo>
                    <a:pt x="44" y="238"/>
                  </a:lnTo>
                  <a:lnTo>
                    <a:pt x="54" y="200"/>
                  </a:lnTo>
                  <a:lnTo>
                    <a:pt x="68" y="158"/>
                  </a:lnTo>
                  <a:lnTo>
                    <a:pt x="88" y="106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0" y="42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82" y="44"/>
                  </a:lnTo>
                  <a:lnTo>
                    <a:pt x="82" y="44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68" y="36"/>
                  </a:lnTo>
                  <a:lnTo>
                    <a:pt x="68" y="32"/>
                  </a:lnTo>
                  <a:lnTo>
                    <a:pt x="70" y="28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80" y="20"/>
                  </a:lnTo>
                  <a:lnTo>
                    <a:pt x="86" y="18"/>
                  </a:lnTo>
                  <a:lnTo>
                    <a:pt x="86" y="18"/>
                  </a:lnTo>
                  <a:lnTo>
                    <a:pt x="118" y="16"/>
                  </a:lnTo>
                  <a:lnTo>
                    <a:pt x="118" y="16"/>
                  </a:lnTo>
                  <a:lnTo>
                    <a:pt x="124" y="16"/>
                  </a:lnTo>
                  <a:lnTo>
                    <a:pt x="126" y="14"/>
                  </a:lnTo>
                  <a:lnTo>
                    <a:pt x="126" y="14"/>
                  </a:lnTo>
                  <a:lnTo>
                    <a:pt x="132" y="4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32"/>
            <p:cNvSpPr/>
            <p:nvPr/>
          </p:nvSpPr>
          <p:spPr>
            <a:xfrm>
              <a:off x="9028080" y="7674120"/>
              <a:ext cx="380880" cy="43488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40" h="274">
                  <a:moveTo>
                    <a:pt x="174" y="0"/>
                  </a:moveTo>
                  <a:lnTo>
                    <a:pt x="174" y="0"/>
                  </a:lnTo>
                  <a:lnTo>
                    <a:pt x="190" y="2"/>
                  </a:lnTo>
                  <a:lnTo>
                    <a:pt x="204" y="8"/>
                  </a:lnTo>
                  <a:lnTo>
                    <a:pt x="218" y="18"/>
                  </a:lnTo>
                  <a:lnTo>
                    <a:pt x="228" y="30"/>
                  </a:lnTo>
                  <a:lnTo>
                    <a:pt x="228" y="30"/>
                  </a:lnTo>
                  <a:lnTo>
                    <a:pt x="232" y="38"/>
                  </a:lnTo>
                  <a:lnTo>
                    <a:pt x="236" y="50"/>
                  </a:lnTo>
                  <a:lnTo>
                    <a:pt x="238" y="62"/>
                  </a:lnTo>
                  <a:lnTo>
                    <a:pt x="240" y="78"/>
                  </a:lnTo>
                  <a:lnTo>
                    <a:pt x="240" y="78"/>
                  </a:lnTo>
                  <a:lnTo>
                    <a:pt x="238" y="100"/>
                  </a:lnTo>
                  <a:lnTo>
                    <a:pt x="232" y="122"/>
                  </a:lnTo>
                  <a:lnTo>
                    <a:pt x="224" y="144"/>
                  </a:lnTo>
                  <a:lnTo>
                    <a:pt x="214" y="166"/>
                  </a:lnTo>
                  <a:lnTo>
                    <a:pt x="202" y="184"/>
                  </a:lnTo>
                  <a:lnTo>
                    <a:pt x="190" y="202"/>
                  </a:lnTo>
                  <a:lnTo>
                    <a:pt x="176" y="218"/>
                  </a:lnTo>
                  <a:lnTo>
                    <a:pt x="164" y="230"/>
                  </a:lnTo>
                  <a:lnTo>
                    <a:pt x="164" y="230"/>
                  </a:lnTo>
                  <a:lnTo>
                    <a:pt x="150" y="242"/>
                  </a:lnTo>
                  <a:lnTo>
                    <a:pt x="136" y="252"/>
                  </a:lnTo>
                  <a:lnTo>
                    <a:pt x="122" y="260"/>
                  </a:lnTo>
                  <a:lnTo>
                    <a:pt x="110" y="266"/>
                  </a:lnTo>
                  <a:lnTo>
                    <a:pt x="86" y="272"/>
                  </a:lnTo>
                  <a:lnTo>
                    <a:pt x="68" y="274"/>
                  </a:lnTo>
                  <a:lnTo>
                    <a:pt x="68" y="274"/>
                  </a:lnTo>
                  <a:lnTo>
                    <a:pt x="56" y="274"/>
                  </a:lnTo>
                  <a:lnTo>
                    <a:pt x="42" y="270"/>
                  </a:lnTo>
                  <a:lnTo>
                    <a:pt x="30" y="262"/>
                  </a:lnTo>
                  <a:lnTo>
                    <a:pt x="18" y="252"/>
                  </a:lnTo>
                  <a:lnTo>
                    <a:pt x="18" y="252"/>
                  </a:lnTo>
                  <a:lnTo>
                    <a:pt x="10" y="242"/>
                  </a:lnTo>
                  <a:lnTo>
                    <a:pt x="4" y="228"/>
                  </a:lnTo>
                  <a:lnTo>
                    <a:pt x="2" y="214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2" y="184"/>
                  </a:lnTo>
                  <a:lnTo>
                    <a:pt x="6" y="166"/>
                  </a:lnTo>
                  <a:lnTo>
                    <a:pt x="12" y="146"/>
                  </a:lnTo>
                  <a:lnTo>
                    <a:pt x="22" y="124"/>
                  </a:lnTo>
                  <a:lnTo>
                    <a:pt x="34" y="104"/>
                  </a:lnTo>
                  <a:lnTo>
                    <a:pt x="48" y="82"/>
                  </a:lnTo>
                  <a:lnTo>
                    <a:pt x="64" y="64"/>
                  </a:lnTo>
                  <a:lnTo>
                    <a:pt x="82" y="46"/>
                  </a:lnTo>
                  <a:lnTo>
                    <a:pt x="82" y="46"/>
                  </a:lnTo>
                  <a:lnTo>
                    <a:pt x="94" y="36"/>
                  </a:lnTo>
                  <a:lnTo>
                    <a:pt x="104" y="30"/>
                  </a:lnTo>
                  <a:lnTo>
                    <a:pt x="124" y="20"/>
                  </a:lnTo>
                  <a:lnTo>
                    <a:pt x="140" y="14"/>
                  </a:lnTo>
                  <a:lnTo>
                    <a:pt x="148" y="12"/>
                  </a:lnTo>
                  <a:lnTo>
                    <a:pt x="148" y="12"/>
                  </a:lnTo>
                  <a:lnTo>
                    <a:pt x="152" y="12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64" y="2"/>
                  </a:lnTo>
                  <a:lnTo>
                    <a:pt x="172" y="0"/>
                  </a:lnTo>
                  <a:lnTo>
                    <a:pt x="174" y="0"/>
                  </a:lnTo>
                  <a:close/>
                  <a:moveTo>
                    <a:pt x="146" y="38"/>
                  </a:moveTo>
                  <a:lnTo>
                    <a:pt x="146" y="38"/>
                  </a:lnTo>
                  <a:lnTo>
                    <a:pt x="140" y="38"/>
                  </a:lnTo>
                  <a:lnTo>
                    <a:pt x="134" y="40"/>
                  </a:lnTo>
                  <a:lnTo>
                    <a:pt x="118" y="50"/>
                  </a:lnTo>
                  <a:lnTo>
                    <a:pt x="100" y="68"/>
                  </a:lnTo>
                  <a:lnTo>
                    <a:pt x="78" y="94"/>
                  </a:lnTo>
                  <a:lnTo>
                    <a:pt x="78" y="94"/>
                  </a:lnTo>
                  <a:lnTo>
                    <a:pt x="66" y="112"/>
                  </a:lnTo>
                  <a:lnTo>
                    <a:pt x="56" y="132"/>
                  </a:lnTo>
                  <a:lnTo>
                    <a:pt x="48" y="148"/>
                  </a:lnTo>
                  <a:lnTo>
                    <a:pt x="42" y="162"/>
                  </a:lnTo>
                  <a:lnTo>
                    <a:pt x="36" y="188"/>
                  </a:lnTo>
                  <a:lnTo>
                    <a:pt x="36" y="204"/>
                  </a:lnTo>
                  <a:lnTo>
                    <a:pt x="36" y="204"/>
                  </a:lnTo>
                  <a:lnTo>
                    <a:pt x="38" y="222"/>
                  </a:lnTo>
                  <a:lnTo>
                    <a:pt x="40" y="230"/>
                  </a:lnTo>
                  <a:lnTo>
                    <a:pt x="42" y="236"/>
                  </a:lnTo>
                  <a:lnTo>
                    <a:pt x="48" y="242"/>
                  </a:lnTo>
                  <a:lnTo>
                    <a:pt x="54" y="246"/>
                  </a:lnTo>
                  <a:lnTo>
                    <a:pt x="60" y="248"/>
                  </a:lnTo>
                  <a:lnTo>
                    <a:pt x="70" y="250"/>
                  </a:lnTo>
                  <a:lnTo>
                    <a:pt x="70" y="250"/>
                  </a:lnTo>
                  <a:lnTo>
                    <a:pt x="82" y="248"/>
                  </a:lnTo>
                  <a:lnTo>
                    <a:pt x="98" y="242"/>
                  </a:lnTo>
                  <a:lnTo>
                    <a:pt x="116" y="232"/>
                  </a:lnTo>
                  <a:lnTo>
                    <a:pt x="136" y="218"/>
                  </a:lnTo>
                  <a:lnTo>
                    <a:pt x="136" y="218"/>
                  </a:lnTo>
                  <a:lnTo>
                    <a:pt x="150" y="204"/>
                  </a:lnTo>
                  <a:lnTo>
                    <a:pt x="164" y="186"/>
                  </a:lnTo>
                  <a:lnTo>
                    <a:pt x="176" y="168"/>
                  </a:lnTo>
                  <a:lnTo>
                    <a:pt x="188" y="148"/>
                  </a:lnTo>
                  <a:lnTo>
                    <a:pt x="198" y="126"/>
                  </a:lnTo>
                  <a:lnTo>
                    <a:pt x="206" y="104"/>
                  </a:lnTo>
                  <a:lnTo>
                    <a:pt x="210" y="82"/>
                  </a:lnTo>
                  <a:lnTo>
                    <a:pt x="212" y="62"/>
                  </a:lnTo>
                  <a:lnTo>
                    <a:pt x="212" y="62"/>
                  </a:lnTo>
                  <a:lnTo>
                    <a:pt x="212" y="52"/>
                  </a:lnTo>
                  <a:lnTo>
                    <a:pt x="208" y="44"/>
                  </a:lnTo>
                  <a:lnTo>
                    <a:pt x="204" y="38"/>
                  </a:lnTo>
                  <a:lnTo>
                    <a:pt x="198" y="32"/>
                  </a:lnTo>
                  <a:lnTo>
                    <a:pt x="198" y="32"/>
                  </a:lnTo>
                  <a:lnTo>
                    <a:pt x="192" y="28"/>
                  </a:lnTo>
                  <a:lnTo>
                    <a:pt x="188" y="28"/>
                  </a:lnTo>
                  <a:lnTo>
                    <a:pt x="186" y="28"/>
                  </a:lnTo>
                  <a:lnTo>
                    <a:pt x="186" y="30"/>
                  </a:lnTo>
                  <a:lnTo>
                    <a:pt x="186" y="30"/>
                  </a:lnTo>
                  <a:lnTo>
                    <a:pt x="188" y="36"/>
                  </a:lnTo>
                  <a:lnTo>
                    <a:pt x="186" y="40"/>
                  </a:lnTo>
                  <a:lnTo>
                    <a:pt x="184" y="44"/>
                  </a:lnTo>
                  <a:lnTo>
                    <a:pt x="184" y="44"/>
                  </a:lnTo>
                  <a:lnTo>
                    <a:pt x="176" y="50"/>
                  </a:lnTo>
                  <a:lnTo>
                    <a:pt x="172" y="52"/>
                  </a:lnTo>
                  <a:lnTo>
                    <a:pt x="166" y="52"/>
                  </a:lnTo>
                  <a:lnTo>
                    <a:pt x="166" y="52"/>
                  </a:lnTo>
                  <a:lnTo>
                    <a:pt x="164" y="52"/>
                  </a:lnTo>
                  <a:lnTo>
                    <a:pt x="162" y="50"/>
                  </a:lnTo>
                  <a:lnTo>
                    <a:pt x="158" y="46"/>
                  </a:lnTo>
                  <a:lnTo>
                    <a:pt x="158" y="46"/>
                  </a:lnTo>
                  <a:lnTo>
                    <a:pt x="156" y="42"/>
                  </a:lnTo>
                  <a:lnTo>
                    <a:pt x="154" y="40"/>
                  </a:lnTo>
                  <a:lnTo>
                    <a:pt x="146" y="38"/>
                  </a:lnTo>
                  <a:lnTo>
                    <a:pt x="146" y="3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33"/>
            <p:cNvSpPr/>
            <p:nvPr/>
          </p:nvSpPr>
          <p:spPr>
            <a:xfrm>
              <a:off x="9425160" y="7670880"/>
              <a:ext cx="479160" cy="44784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302" h="282">
                  <a:moveTo>
                    <a:pt x="96" y="10"/>
                  </a:moveTo>
                  <a:lnTo>
                    <a:pt x="96" y="10"/>
                  </a:lnTo>
                  <a:lnTo>
                    <a:pt x="102" y="10"/>
                  </a:lnTo>
                  <a:lnTo>
                    <a:pt x="106" y="12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4" y="26"/>
                  </a:lnTo>
                  <a:lnTo>
                    <a:pt x="114" y="32"/>
                  </a:lnTo>
                  <a:lnTo>
                    <a:pt x="112" y="36"/>
                  </a:lnTo>
                  <a:lnTo>
                    <a:pt x="112" y="40"/>
                  </a:lnTo>
                  <a:lnTo>
                    <a:pt x="112" y="40"/>
                  </a:lnTo>
                  <a:lnTo>
                    <a:pt x="108" y="46"/>
                  </a:lnTo>
                  <a:lnTo>
                    <a:pt x="106" y="52"/>
                  </a:lnTo>
                  <a:lnTo>
                    <a:pt x="106" y="52"/>
                  </a:lnTo>
                  <a:lnTo>
                    <a:pt x="108" y="58"/>
                  </a:lnTo>
                  <a:lnTo>
                    <a:pt x="112" y="68"/>
                  </a:lnTo>
                  <a:lnTo>
                    <a:pt x="112" y="68"/>
                  </a:lnTo>
                  <a:lnTo>
                    <a:pt x="146" y="132"/>
                  </a:lnTo>
                  <a:lnTo>
                    <a:pt x="186" y="198"/>
                  </a:lnTo>
                  <a:lnTo>
                    <a:pt x="186" y="198"/>
                  </a:lnTo>
                  <a:lnTo>
                    <a:pt x="188" y="202"/>
                  </a:lnTo>
                  <a:lnTo>
                    <a:pt x="190" y="204"/>
                  </a:lnTo>
                  <a:lnTo>
                    <a:pt x="192" y="202"/>
                  </a:lnTo>
                  <a:lnTo>
                    <a:pt x="194" y="198"/>
                  </a:lnTo>
                  <a:lnTo>
                    <a:pt x="194" y="198"/>
                  </a:lnTo>
                  <a:lnTo>
                    <a:pt x="220" y="122"/>
                  </a:lnTo>
                  <a:lnTo>
                    <a:pt x="240" y="68"/>
                  </a:lnTo>
                  <a:lnTo>
                    <a:pt x="240" y="68"/>
                  </a:lnTo>
                  <a:lnTo>
                    <a:pt x="256" y="28"/>
                  </a:lnTo>
                  <a:lnTo>
                    <a:pt x="268" y="10"/>
                  </a:lnTo>
                  <a:lnTo>
                    <a:pt x="268" y="10"/>
                  </a:lnTo>
                  <a:lnTo>
                    <a:pt x="276" y="4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88" y="2"/>
                  </a:lnTo>
                  <a:lnTo>
                    <a:pt x="292" y="4"/>
                  </a:lnTo>
                  <a:lnTo>
                    <a:pt x="296" y="14"/>
                  </a:lnTo>
                  <a:lnTo>
                    <a:pt x="300" y="26"/>
                  </a:lnTo>
                  <a:lnTo>
                    <a:pt x="302" y="34"/>
                  </a:lnTo>
                  <a:lnTo>
                    <a:pt x="302" y="34"/>
                  </a:lnTo>
                  <a:lnTo>
                    <a:pt x="300" y="38"/>
                  </a:lnTo>
                  <a:lnTo>
                    <a:pt x="300" y="42"/>
                  </a:lnTo>
                  <a:lnTo>
                    <a:pt x="296" y="42"/>
                  </a:lnTo>
                  <a:lnTo>
                    <a:pt x="292" y="44"/>
                  </a:lnTo>
                  <a:lnTo>
                    <a:pt x="292" y="44"/>
                  </a:lnTo>
                  <a:lnTo>
                    <a:pt x="286" y="46"/>
                  </a:lnTo>
                  <a:lnTo>
                    <a:pt x="280" y="48"/>
                  </a:lnTo>
                  <a:lnTo>
                    <a:pt x="278" y="52"/>
                  </a:lnTo>
                  <a:lnTo>
                    <a:pt x="274" y="56"/>
                  </a:lnTo>
                  <a:lnTo>
                    <a:pt x="274" y="56"/>
                  </a:lnTo>
                  <a:lnTo>
                    <a:pt x="256" y="98"/>
                  </a:lnTo>
                  <a:lnTo>
                    <a:pt x="242" y="136"/>
                  </a:lnTo>
                  <a:lnTo>
                    <a:pt x="230" y="172"/>
                  </a:lnTo>
                  <a:lnTo>
                    <a:pt x="222" y="200"/>
                  </a:lnTo>
                  <a:lnTo>
                    <a:pt x="222" y="200"/>
                  </a:lnTo>
                  <a:lnTo>
                    <a:pt x="216" y="222"/>
                  </a:lnTo>
                  <a:lnTo>
                    <a:pt x="214" y="236"/>
                  </a:lnTo>
                  <a:lnTo>
                    <a:pt x="214" y="236"/>
                  </a:lnTo>
                  <a:lnTo>
                    <a:pt x="216" y="240"/>
                  </a:lnTo>
                  <a:lnTo>
                    <a:pt x="216" y="246"/>
                  </a:lnTo>
                  <a:lnTo>
                    <a:pt x="222" y="254"/>
                  </a:lnTo>
                  <a:lnTo>
                    <a:pt x="222" y="254"/>
                  </a:lnTo>
                  <a:lnTo>
                    <a:pt x="222" y="258"/>
                  </a:lnTo>
                  <a:lnTo>
                    <a:pt x="222" y="262"/>
                  </a:lnTo>
                  <a:lnTo>
                    <a:pt x="220" y="268"/>
                  </a:lnTo>
                  <a:lnTo>
                    <a:pt x="220" y="268"/>
                  </a:lnTo>
                  <a:lnTo>
                    <a:pt x="214" y="274"/>
                  </a:lnTo>
                  <a:lnTo>
                    <a:pt x="206" y="276"/>
                  </a:lnTo>
                  <a:lnTo>
                    <a:pt x="206" y="276"/>
                  </a:lnTo>
                  <a:lnTo>
                    <a:pt x="200" y="276"/>
                  </a:lnTo>
                  <a:lnTo>
                    <a:pt x="196" y="272"/>
                  </a:lnTo>
                  <a:lnTo>
                    <a:pt x="188" y="266"/>
                  </a:lnTo>
                  <a:lnTo>
                    <a:pt x="188" y="266"/>
                  </a:lnTo>
                  <a:lnTo>
                    <a:pt x="160" y="218"/>
                  </a:lnTo>
                  <a:lnTo>
                    <a:pt x="160" y="218"/>
                  </a:lnTo>
                  <a:lnTo>
                    <a:pt x="124" y="15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90" y="104"/>
                  </a:lnTo>
                  <a:lnTo>
                    <a:pt x="90" y="104"/>
                  </a:lnTo>
                  <a:lnTo>
                    <a:pt x="64" y="164"/>
                  </a:lnTo>
                  <a:lnTo>
                    <a:pt x="50" y="202"/>
                  </a:lnTo>
                  <a:lnTo>
                    <a:pt x="50" y="202"/>
                  </a:lnTo>
                  <a:lnTo>
                    <a:pt x="48" y="214"/>
                  </a:lnTo>
                  <a:lnTo>
                    <a:pt x="46" y="222"/>
                  </a:lnTo>
                  <a:lnTo>
                    <a:pt x="46" y="222"/>
                  </a:lnTo>
                  <a:lnTo>
                    <a:pt x="44" y="242"/>
                  </a:lnTo>
                  <a:lnTo>
                    <a:pt x="42" y="252"/>
                  </a:lnTo>
                  <a:lnTo>
                    <a:pt x="38" y="262"/>
                  </a:lnTo>
                  <a:lnTo>
                    <a:pt x="32" y="274"/>
                  </a:lnTo>
                  <a:lnTo>
                    <a:pt x="32" y="274"/>
                  </a:lnTo>
                  <a:lnTo>
                    <a:pt x="28" y="278"/>
                  </a:lnTo>
                  <a:lnTo>
                    <a:pt x="24" y="280"/>
                  </a:lnTo>
                  <a:lnTo>
                    <a:pt x="16" y="282"/>
                  </a:lnTo>
                  <a:lnTo>
                    <a:pt x="16" y="282"/>
                  </a:lnTo>
                  <a:lnTo>
                    <a:pt x="10" y="282"/>
                  </a:lnTo>
                  <a:lnTo>
                    <a:pt x="4" y="278"/>
                  </a:lnTo>
                  <a:lnTo>
                    <a:pt x="2" y="272"/>
                  </a:lnTo>
                  <a:lnTo>
                    <a:pt x="0" y="262"/>
                  </a:lnTo>
                  <a:lnTo>
                    <a:pt x="0" y="262"/>
                  </a:lnTo>
                  <a:lnTo>
                    <a:pt x="2" y="252"/>
                  </a:lnTo>
                  <a:lnTo>
                    <a:pt x="6" y="240"/>
                  </a:lnTo>
                  <a:lnTo>
                    <a:pt x="6" y="240"/>
                  </a:lnTo>
                  <a:lnTo>
                    <a:pt x="46" y="142"/>
                  </a:lnTo>
                  <a:lnTo>
                    <a:pt x="70" y="78"/>
                  </a:lnTo>
                  <a:lnTo>
                    <a:pt x="70" y="78"/>
                  </a:lnTo>
                  <a:lnTo>
                    <a:pt x="72" y="72"/>
                  </a:lnTo>
                  <a:lnTo>
                    <a:pt x="68" y="66"/>
                  </a:lnTo>
                  <a:lnTo>
                    <a:pt x="68" y="66"/>
                  </a:lnTo>
                  <a:lnTo>
                    <a:pt x="64" y="62"/>
                  </a:lnTo>
                  <a:lnTo>
                    <a:pt x="64" y="58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68" y="46"/>
                  </a:lnTo>
                  <a:lnTo>
                    <a:pt x="74" y="40"/>
                  </a:lnTo>
                  <a:lnTo>
                    <a:pt x="74" y="40"/>
                  </a:lnTo>
                  <a:lnTo>
                    <a:pt x="78" y="36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28"/>
                  </a:lnTo>
                  <a:lnTo>
                    <a:pt x="78" y="24"/>
                  </a:lnTo>
                  <a:lnTo>
                    <a:pt x="84" y="16"/>
                  </a:lnTo>
                  <a:lnTo>
                    <a:pt x="84" y="16"/>
                  </a:lnTo>
                  <a:lnTo>
                    <a:pt x="90" y="12"/>
                  </a:lnTo>
                  <a:lnTo>
                    <a:pt x="96" y="10"/>
                  </a:lnTo>
                  <a:lnTo>
                    <a:pt x="96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テキスト ボックス 238"/>
          <p:cNvSpPr/>
          <p:nvPr/>
        </p:nvSpPr>
        <p:spPr>
          <a:xfrm>
            <a:off x="5416560" y="9842400"/>
            <a:ext cx="23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ewelry sh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テキスト ボックス 239"/>
          <p:cNvSpPr/>
          <p:nvPr/>
        </p:nvSpPr>
        <p:spPr>
          <a:xfrm>
            <a:off x="7545240" y="97711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ＲＯＳ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グループ化 240"/>
          <p:cNvGrpSpPr/>
          <p:nvPr/>
        </p:nvGrpSpPr>
        <p:grpSpPr>
          <a:xfrm>
            <a:off x="5719680" y="6588000"/>
            <a:ext cx="3886200" cy="800280"/>
            <a:chOff x="5719680" y="6588000"/>
            <a:chExt cx="3886200" cy="800280"/>
          </a:xfrm>
        </p:grpSpPr>
        <p:sp>
          <p:nvSpPr>
            <p:cNvPr id="205" name="Freeform 43"/>
            <p:cNvSpPr/>
            <p:nvPr/>
          </p:nvSpPr>
          <p:spPr>
            <a:xfrm>
              <a:off x="5798880" y="6648120"/>
              <a:ext cx="476280" cy="7401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740160"/>
                <a:gd name="textAreaBottom" fmla="*/ 740520 h 740160"/>
              </a:gdLst>
              <a:ahLst/>
              <a:rect l="textAreaLeft" t="textAreaTop" r="textAreaRight" b="textAreaBottom"/>
              <a:pathLst>
                <a:path w="300" h="466">
                  <a:moveTo>
                    <a:pt x="276" y="0"/>
                  </a:moveTo>
                  <a:lnTo>
                    <a:pt x="276" y="0"/>
                  </a:lnTo>
                  <a:lnTo>
                    <a:pt x="282" y="0"/>
                  </a:lnTo>
                  <a:lnTo>
                    <a:pt x="290" y="4"/>
                  </a:lnTo>
                  <a:lnTo>
                    <a:pt x="296" y="10"/>
                  </a:lnTo>
                  <a:lnTo>
                    <a:pt x="298" y="14"/>
                  </a:lnTo>
                  <a:lnTo>
                    <a:pt x="298" y="14"/>
                  </a:lnTo>
                  <a:lnTo>
                    <a:pt x="300" y="20"/>
                  </a:lnTo>
                  <a:lnTo>
                    <a:pt x="298" y="26"/>
                  </a:lnTo>
                  <a:lnTo>
                    <a:pt x="296" y="32"/>
                  </a:lnTo>
                  <a:lnTo>
                    <a:pt x="292" y="38"/>
                  </a:lnTo>
                  <a:lnTo>
                    <a:pt x="292" y="38"/>
                  </a:lnTo>
                  <a:lnTo>
                    <a:pt x="286" y="48"/>
                  </a:lnTo>
                  <a:lnTo>
                    <a:pt x="280" y="60"/>
                  </a:lnTo>
                  <a:lnTo>
                    <a:pt x="280" y="60"/>
                  </a:lnTo>
                  <a:lnTo>
                    <a:pt x="274" y="74"/>
                  </a:lnTo>
                  <a:lnTo>
                    <a:pt x="266" y="104"/>
                  </a:lnTo>
                  <a:lnTo>
                    <a:pt x="230" y="232"/>
                  </a:lnTo>
                  <a:lnTo>
                    <a:pt x="230" y="232"/>
                  </a:lnTo>
                  <a:lnTo>
                    <a:pt x="212" y="292"/>
                  </a:lnTo>
                  <a:lnTo>
                    <a:pt x="194" y="344"/>
                  </a:lnTo>
                  <a:lnTo>
                    <a:pt x="184" y="366"/>
                  </a:lnTo>
                  <a:lnTo>
                    <a:pt x="176" y="384"/>
                  </a:lnTo>
                  <a:lnTo>
                    <a:pt x="164" y="400"/>
                  </a:lnTo>
                  <a:lnTo>
                    <a:pt x="154" y="414"/>
                  </a:lnTo>
                  <a:lnTo>
                    <a:pt x="154" y="414"/>
                  </a:lnTo>
                  <a:lnTo>
                    <a:pt x="144" y="424"/>
                  </a:lnTo>
                  <a:lnTo>
                    <a:pt x="134" y="432"/>
                  </a:lnTo>
                  <a:lnTo>
                    <a:pt x="116" y="444"/>
                  </a:lnTo>
                  <a:lnTo>
                    <a:pt x="102" y="450"/>
                  </a:lnTo>
                  <a:lnTo>
                    <a:pt x="92" y="454"/>
                  </a:lnTo>
                  <a:lnTo>
                    <a:pt x="92" y="454"/>
                  </a:lnTo>
                  <a:lnTo>
                    <a:pt x="72" y="462"/>
                  </a:lnTo>
                  <a:lnTo>
                    <a:pt x="72" y="462"/>
                  </a:lnTo>
                  <a:lnTo>
                    <a:pt x="62" y="466"/>
                  </a:lnTo>
                  <a:lnTo>
                    <a:pt x="52" y="466"/>
                  </a:lnTo>
                  <a:lnTo>
                    <a:pt x="52" y="466"/>
                  </a:lnTo>
                  <a:lnTo>
                    <a:pt x="44" y="466"/>
                  </a:lnTo>
                  <a:lnTo>
                    <a:pt x="36" y="462"/>
                  </a:lnTo>
                  <a:lnTo>
                    <a:pt x="16" y="454"/>
                  </a:lnTo>
                  <a:lnTo>
                    <a:pt x="16" y="454"/>
                  </a:lnTo>
                  <a:lnTo>
                    <a:pt x="10" y="448"/>
                  </a:lnTo>
                  <a:lnTo>
                    <a:pt x="4" y="442"/>
                  </a:lnTo>
                  <a:lnTo>
                    <a:pt x="0" y="436"/>
                  </a:lnTo>
                  <a:lnTo>
                    <a:pt x="0" y="428"/>
                  </a:lnTo>
                  <a:lnTo>
                    <a:pt x="0" y="428"/>
                  </a:lnTo>
                  <a:lnTo>
                    <a:pt x="0" y="424"/>
                  </a:lnTo>
                  <a:lnTo>
                    <a:pt x="2" y="422"/>
                  </a:lnTo>
                  <a:lnTo>
                    <a:pt x="8" y="416"/>
                  </a:lnTo>
                  <a:lnTo>
                    <a:pt x="16" y="414"/>
                  </a:lnTo>
                  <a:lnTo>
                    <a:pt x="24" y="412"/>
                  </a:lnTo>
                  <a:lnTo>
                    <a:pt x="24" y="412"/>
                  </a:lnTo>
                  <a:lnTo>
                    <a:pt x="32" y="414"/>
                  </a:lnTo>
                  <a:lnTo>
                    <a:pt x="42" y="416"/>
                  </a:lnTo>
                  <a:lnTo>
                    <a:pt x="58" y="424"/>
                  </a:lnTo>
                  <a:lnTo>
                    <a:pt x="58" y="424"/>
                  </a:lnTo>
                  <a:lnTo>
                    <a:pt x="66" y="428"/>
                  </a:lnTo>
                  <a:lnTo>
                    <a:pt x="76" y="430"/>
                  </a:lnTo>
                  <a:lnTo>
                    <a:pt x="76" y="430"/>
                  </a:lnTo>
                  <a:lnTo>
                    <a:pt x="84" y="428"/>
                  </a:lnTo>
                  <a:lnTo>
                    <a:pt x="92" y="424"/>
                  </a:lnTo>
                  <a:lnTo>
                    <a:pt x="102" y="418"/>
                  </a:lnTo>
                  <a:lnTo>
                    <a:pt x="112" y="410"/>
                  </a:lnTo>
                  <a:lnTo>
                    <a:pt x="112" y="410"/>
                  </a:lnTo>
                  <a:lnTo>
                    <a:pt x="122" y="400"/>
                  </a:lnTo>
                  <a:lnTo>
                    <a:pt x="132" y="386"/>
                  </a:lnTo>
                  <a:lnTo>
                    <a:pt x="142" y="366"/>
                  </a:lnTo>
                  <a:lnTo>
                    <a:pt x="154" y="338"/>
                  </a:lnTo>
                  <a:lnTo>
                    <a:pt x="154" y="338"/>
                  </a:lnTo>
                  <a:lnTo>
                    <a:pt x="172" y="290"/>
                  </a:lnTo>
                  <a:lnTo>
                    <a:pt x="188" y="232"/>
                  </a:lnTo>
                  <a:lnTo>
                    <a:pt x="236" y="62"/>
                  </a:lnTo>
                  <a:lnTo>
                    <a:pt x="236" y="62"/>
                  </a:lnTo>
                  <a:lnTo>
                    <a:pt x="236" y="56"/>
                  </a:lnTo>
                  <a:lnTo>
                    <a:pt x="232" y="54"/>
                  </a:lnTo>
                  <a:lnTo>
                    <a:pt x="232" y="54"/>
                  </a:lnTo>
                  <a:lnTo>
                    <a:pt x="222" y="52"/>
                  </a:lnTo>
                  <a:lnTo>
                    <a:pt x="214" y="48"/>
                  </a:lnTo>
                  <a:lnTo>
                    <a:pt x="206" y="44"/>
                  </a:lnTo>
                  <a:lnTo>
                    <a:pt x="204" y="40"/>
                  </a:lnTo>
                  <a:lnTo>
                    <a:pt x="204" y="38"/>
                  </a:lnTo>
                  <a:lnTo>
                    <a:pt x="204" y="38"/>
                  </a:lnTo>
                  <a:lnTo>
                    <a:pt x="204" y="34"/>
                  </a:lnTo>
                  <a:lnTo>
                    <a:pt x="206" y="30"/>
                  </a:lnTo>
                  <a:lnTo>
                    <a:pt x="212" y="26"/>
                  </a:lnTo>
                  <a:lnTo>
                    <a:pt x="212" y="26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40" y="20"/>
                  </a:lnTo>
                  <a:lnTo>
                    <a:pt x="246" y="18"/>
                  </a:lnTo>
                  <a:lnTo>
                    <a:pt x="252" y="14"/>
                  </a:lnTo>
                  <a:lnTo>
                    <a:pt x="258" y="8"/>
                  </a:lnTo>
                  <a:lnTo>
                    <a:pt x="258" y="8"/>
                  </a:lnTo>
                  <a:lnTo>
                    <a:pt x="266" y="2"/>
                  </a:lnTo>
                  <a:lnTo>
                    <a:pt x="274" y="0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871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44"/>
            <p:cNvSpPr/>
            <p:nvPr/>
          </p:nvSpPr>
          <p:spPr>
            <a:xfrm>
              <a:off x="6262560" y="6638760"/>
              <a:ext cx="479160" cy="56232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302" h="354">
                  <a:moveTo>
                    <a:pt x="236" y="22"/>
                  </a:moveTo>
                  <a:lnTo>
                    <a:pt x="236" y="22"/>
                  </a:lnTo>
                  <a:lnTo>
                    <a:pt x="254" y="24"/>
                  </a:lnTo>
                  <a:lnTo>
                    <a:pt x="270" y="26"/>
                  </a:lnTo>
                  <a:lnTo>
                    <a:pt x="284" y="32"/>
                  </a:lnTo>
                  <a:lnTo>
                    <a:pt x="294" y="38"/>
                  </a:lnTo>
                  <a:lnTo>
                    <a:pt x="294" y="38"/>
                  </a:lnTo>
                  <a:lnTo>
                    <a:pt x="300" y="42"/>
                  </a:lnTo>
                  <a:lnTo>
                    <a:pt x="302" y="48"/>
                  </a:lnTo>
                  <a:lnTo>
                    <a:pt x="302" y="50"/>
                  </a:lnTo>
                  <a:lnTo>
                    <a:pt x="300" y="52"/>
                  </a:lnTo>
                  <a:lnTo>
                    <a:pt x="300" y="52"/>
                  </a:lnTo>
                  <a:lnTo>
                    <a:pt x="298" y="54"/>
                  </a:lnTo>
                  <a:lnTo>
                    <a:pt x="294" y="54"/>
                  </a:lnTo>
                  <a:lnTo>
                    <a:pt x="282" y="54"/>
                  </a:lnTo>
                  <a:lnTo>
                    <a:pt x="282" y="54"/>
                  </a:lnTo>
                  <a:lnTo>
                    <a:pt x="260" y="52"/>
                  </a:lnTo>
                  <a:lnTo>
                    <a:pt x="230" y="52"/>
                  </a:lnTo>
                  <a:lnTo>
                    <a:pt x="230" y="52"/>
                  </a:lnTo>
                  <a:lnTo>
                    <a:pt x="198" y="54"/>
                  </a:lnTo>
                  <a:lnTo>
                    <a:pt x="166" y="56"/>
                  </a:lnTo>
                  <a:lnTo>
                    <a:pt x="166" y="56"/>
                  </a:lnTo>
                  <a:lnTo>
                    <a:pt x="158" y="58"/>
                  </a:lnTo>
                  <a:lnTo>
                    <a:pt x="152" y="62"/>
                  </a:lnTo>
                  <a:lnTo>
                    <a:pt x="150" y="66"/>
                  </a:lnTo>
                  <a:lnTo>
                    <a:pt x="146" y="76"/>
                  </a:lnTo>
                  <a:lnTo>
                    <a:pt x="146" y="76"/>
                  </a:lnTo>
                  <a:lnTo>
                    <a:pt x="122" y="154"/>
                  </a:lnTo>
                  <a:lnTo>
                    <a:pt x="122" y="154"/>
                  </a:lnTo>
                  <a:lnTo>
                    <a:pt x="122" y="158"/>
                  </a:lnTo>
                  <a:lnTo>
                    <a:pt x="122" y="162"/>
                  </a:lnTo>
                  <a:lnTo>
                    <a:pt x="124" y="162"/>
                  </a:lnTo>
                  <a:lnTo>
                    <a:pt x="128" y="164"/>
                  </a:lnTo>
                  <a:lnTo>
                    <a:pt x="128" y="164"/>
                  </a:lnTo>
                  <a:lnTo>
                    <a:pt x="154" y="166"/>
                  </a:lnTo>
                  <a:lnTo>
                    <a:pt x="190" y="166"/>
                  </a:lnTo>
                  <a:lnTo>
                    <a:pt x="190" y="166"/>
                  </a:lnTo>
                  <a:lnTo>
                    <a:pt x="224" y="164"/>
                  </a:lnTo>
                  <a:lnTo>
                    <a:pt x="254" y="160"/>
                  </a:lnTo>
                  <a:lnTo>
                    <a:pt x="254" y="160"/>
                  </a:lnTo>
                  <a:lnTo>
                    <a:pt x="258" y="160"/>
                  </a:lnTo>
                  <a:lnTo>
                    <a:pt x="260" y="164"/>
                  </a:lnTo>
                  <a:lnTo>
                    <a:pt x="256" y="168"/>
                  </a:lnTo>
                  <a:lnTo>
                    <a:pt x="250" y="176"/>
                  </a:lnTo>
                  <a:lnTo>
                    <a:pt x="250" y="176"/>
                  </a:lnTo>
                  <a:lnTo>
                    <a:pt x="242" y="182"/>
                  </a:lnTo>
                  <a:lnTo>
                    <a:pt x="232" y="188"/>
                  </a:lnTo>
                  <a:lnTo>
                    <a:pt x="220" y="190"/>
                  </a:lnTo>
                  <a:lnTo>
                    <a:pt x="208" y="194"/>
                  </a:lnTo>
                  <a:lnTo>
                    <a:pt x="208" y="194"/>
                  </a:lnTo>
                  <a:lnTo>
                    <a:pt x="172" y="198"/>
                  </a:lnTo>
                  <a:lnTo>
                    <a:pt x="118" y="200"/>
                  </a:lnTo>
                  <a:lnTo>
                    <a:pt x="118" y="200"/>
                  </a:lnTo>
                  <a:lnTo>
                    <a:pt x="114" y="200"/>
                  </a:lnTo>
                  <a:lnTo>
                    <a:pt x="110" y="202"/>
                  </a:lnTo>
                  <a:lnTo>
                    <a:pt x="106" y="208"/>
                  </a:lnTo>
                  <a:lnTo>
                    <a:pt x="106" y="208"/>
                  </a:lnTo>
                  <a:lnTo>
                    <a:pt x="70" y="306"/>
                  </a:lnTo>
                  <a:lnTo>
                    <a:pt x="70" y="306"/>
                  </a:lnTo>
                  <a:lnTo>
                    <a:pt x="70" y="310"/>
                  </a:lnTo>
                  <a:lnTo>
                    <a:pt x="70" y="312"/>
                  </a:lnTo>
                  <a:lnTo>
                    <a:pt x="72" y="314"/>
                  </a:lnTo>
                  <a:lnTo>
                    <a:pt x="78" y="316"/>
                  </a:lnTo>
                  <a:lnTo>
                    <a:pt x="78" y="316"/>
                  </a:lnTo>
                  <a:lnTo>
                    <a:pt x="106" y="318"/>
                  </a:lnTo>
                  <a:lnTo>
                    <a:pt x="152" y="320"/>
                  </a:lnTo>
                  <a:lnTo>
                    <a:pt x="152" y="320"/>
                  </a:lnTo>
                  <a:lnTo>
                    <a:pt x="190" y="318"/>
                  </a:lnTo>
                  <a:lnTo>
                    <a:pt x="218" y="316"/>
                  </a:lnTo>
                  <a:lnTo>
                    <a:pt x="244" y="310"/>
                  </a:lnTo>
                  <a:lnTo>
                    <a:pt x="270" y="300"/>
                  </a:lnTo>
                  <a:lnTo>
                    <a:pt x="270" y="300"/>
                  </a:lnTo>
                  <a:lnTo>
                    <a:pt x="276" y="300"/>
                  </a:lnTo>
                  <a:lnTo>
                    <a:pt x="278" y="302"/>
                  </a:lnTo>
                  <a:lnTo>
                    <a:pt x="278" y="306"/>
                  </a:lnTo>
                  <a:lnTo>
                    <a:pt x="272" y="310"/>
                  </a:lnTo>
                  <a:lnTo>
                    <a:pt x="272" y="310"/>
                  </a:lnTo>
                  <a:lnTo>
                    <a:pt x="254" y="322"/>
                  </a:lnTo>
                  <a:lnTo>
                    <a:pt x="238" y="332"/>
                  </a:lnTo>
                  <a:lnTo>
                    <a:pt x="220" y="338"/>
                  </a:lnTo>
                  <a:lnTo>
                    <a:pt x="202" y="344"/>
                  </a:lnTo>
                  <a:lnTo>
                    <a:pt x="182" y="348"/>
                  </a:lnTo>
                  <a:lnTo>
                    <a:pt x="160" y="352"/>
                  </a:lnTo>
                  <a:lnTo>
                    <a:pt x="136" y="354"/>
                  </a:lnTo>
                  <a:lnTo>
                    <a:pt x="108" y="354"/>
                  </a:lnTo>
                  <a:lnTo>
                    <a:pt x="108" y="354"/>
                  </a:lnTo>
                  <a:lnTo>
                    <a:pt x="44" y="352"/>
                  </a:lnTo>
                  <a:lnTo>
                    <a:pt x="44" y="352"/>
                  </a:lnTo>
                  <a:lnTo>
                    <a:pt x="28" y="350"/>
                  </a:lnTo>
                  <a:lnTo>
                    <a:pt x="14" y="348"/>
                  </a:lnTo>
                  <a:lnTo>
                    <a:pt x="4" y="344"/>
                  </a:lnTo>
                  <a:lnTo>
                    <a:pt x="2" y="340"/>
                  </a:lnTo>
                  <a:lnTo>
                    <a:pt x="0" y="338"/>
                  </a:lnTo>
                  <a:lnTo>
                    <a:pt x="0" y="338"/>
                  </a:lnTo>
                  <a:lnTo>
                    <a:pt x="2" y="330"/>
                  </a:lnTo>
                  <a:lnTo>
                    <a:pt x="10" y="324"/>
                  </a:lnTo>
                  <a:lnTo>
                    <a:pt x="18" y="318"/>
                  </a:lnTo>
                  <a:lnTo>
                    <a:pt x="24" y="314"/>
                  </a:lnTo>
                  <a:lnTo>
                    <a:pt x="24" y="314"/>
                  </a:lnTo>
                  <a:lnTo>
                    <a:pt x="26" y="312"/>
                  </a:lnTo>
                  <a:lnTo>
                    <a:pt x="30" y="306"/>
                  </a:lnTo>
                  <a:lnTo>
                    <a:pt x="30" y="306"/>
                  </a:lnTo>
                  <a:lnTo>
                    <a:pt x="46" y="266"/>
                  </a:lnTo>
                  <a:lnTo>
                    <a:pt x="64" y="208"/>
                  </a:lnTo>
                  <a:lnTo>
                    <a:pt x="64" y="208"/>
                  </a:lnTo>
                  <a:lnTo>
                    <a:pt x="66" y="200"/>
                  </a:lnTo>
                  <a:lnTo>
                    <a:pt x="64" y="196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4" y="188"/>
                  </a:lnTo>
                  <a:lnTo>
                    <a:pt x="52" y="180"/>
                  </a:lnTo>
                  <a:lnTo>
                    <a:pt x="52" y="180"/>
                  </a:lnTo>
                  <a:lnTo>
                    <a:pt x="52" y="178"/>
                  </a:lnTo>
                  <a:lnTo>
                    <a:pt x="52" y="176"/>
                  </a:lnTo>
                  <a:lnTo>
                    <a:pt x="56" y="172"/>
                  </a:lnTo>
                  <a:lnTo>
                    <a:pt x="60" y="170"/>
                  </a:lnTo>
                  <a:lnTo>
                    <a:pt x="60" y="170"/>
                  </a:lnTo>
                  <a:lnTo>
                    <a:pt x="70" y="166"/>
                  </a:lnTo>
                  <a:lnTo>
                    <a:pt x="76" y="162"/>
                  </a:lnTo>
                  <a:lnTo>
                    <a:pt x="80" y="158"/>
                  </a:lnTo>
                  <a:lnTo>
                    <a:pt x="82" y="152"/>
                  </a:lnTo>
                  <a:lnTo>
                    <a:pt x="82" y="152"/>
                  </a:lnTo>
                  <a:lnTo>
                    <a:pt x="104" y="82"/>
                  </a:lnTo>
                  <a:lnTo>
                    <a:pt x="104" y="82"/>
                  </a:lnTo>
                  <a:lnTo>
                    <a:pt x="104" y="76"/>
                  </a:lnTo>
                  <a:lnTo>
                    <a:pt x="104" y="70"/>
                  </a:lnTo>
                  <a:lnTo>
                    <a:pt x="102" y="68"/>
                  </a:lnTo>
                  <a:lnTo>
                    <a:pt x="98" y="64"/>
                  </a:lnTo>
                  <a:lnTo>
                    <a:pt x="98" y="64"/>
                  </a:lnTo>
                  <a:lnTo>
                    <a:pt x="90" y="58"/>
                  </a:lnTo>
                  <a:lnTo>
                    <a:pt x="86" y="52"/>
                  </a:lnTo>
                  <a:lnTo>
                    <a:pt x="86" y="48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96" y="40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12" y="32"/>
                  </a:lnTo>
                  <a:lnTo>
                    <a:pt x="116" y="28"/>
                  </a:lnTo>
                  <a:lnTo>
                    <a:pt x="124" y="10"/>
                  </a:lnTo>
                  <a:lnTo>
                    <a:pt x="124" y="10"/>
                  </a:lnTo>
                  <a:lnTo>
                    <a:pt x="126" y="4"/>
                  </a:lnTo>
                  <a:lnTo>
                    <a:pt x="130" y="2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40" y="2"/>
                  </a:lnTo>
                  <a:lnTo>
                    <a:pt x="144" y="6"/>
                  </a:lnTo>
                  <a:lnTo>
                    <a:pt x="152" y="16"/>
                  </a:lnTo>
                  <a:lnTo>
                    <a:pt x="152" y="16"/>
                  </a:lnTo>
                  <a:lnTo>
                    <a:pt x="156" y="20"/>
                  </a:lnTo>
                  <a:lnTo>
                    <a:pt x="158" y="22"/>
                  </a:lnTo>
                  <a:lnTo>
                    <a:pt x="168" y="22"/>
                  </a:lnTo>
                  <a:lnTo>
                    <a:pt x="236" y="22"/>
                  </a:lnTo>
                  <a:close/>
                </a:path>
              </a:pathLst>
            </a:custGeom>
            <a:solidFill>
              <a:srgbClr val="871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45"/>
            <p:cNvSpPr/>
            <p:nvPr/>
          </p:nvSpPr>
          <p:spPr>
            <a:xfrm>
              <a:off x="6846840" y="6648120"/>
              <a:ext cx="736560" cy="5590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559080"/>
                <a:gd name="textAreaBottom" fmla="*/ 559440 h 559080"/>
              </a:gdLst>
              <a:ahLst/>
              <a:rect l="textAreaLeft" t="textAreaTop" r="textAreaRight" b="textAreaBottom"/>
              <a:pathLst>
                <a:path w="464" h="352">
                  <a:moveTo>
                    <a:pt x="50" y="6"/>
                  </a:moveTo>
                  <a:lnTo>
                    <a:pt x="50" y="6"/>
                  </a:lnTo>
                  <a:lnTo>
                    <a:pt x="54" y="6"/>
                  </a:lnTo>
                  <a:lnTo>
                    <a:pt x="58" y="10"/>
                  </a:lnTo>
                  <a:lnTo>
                    <a:pt x="60" y="14"/>
                  </a:lnTo>
                  <a:lnTo>
                    <a:pt x="62" y="18"/>
                  </a:lnTo>
                  <a:lnTo>
                    <a:pt x="64" y="26"/>
                  </a:lnTo>
                  <a:lnTo>
                    <a:pt x="64" y="34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52" y="86"/>
                  </a:lnTo>
                  <a:lnTo>
                    <a:pt x="46" y="122"/>
                  </a:lnTo>
                  <a:lnTo>
                    <a:pt x="40" y="160"/>
                  </a:lnTo>
                  <a:lnTo>
                    <a:pt x="38" y="204"/>
                  </a:lnTo>
                  <a:lnTo>
                    <a:pt x="38" y="204"/>
                  </a:lnTo>
                  <a:lnTo>
                    <a:pt x="36" y="236"/>
                  </a:lnTo>
                  <a:lnTo>
                    <a:pt x="38" y="252"/>
                  </a:lnTo>
                  <a:lnTo>
                    <a:pt x="38" y="252"/>
                  </a:lnTo>
                  <a:lnTo>
                    <a:pt x="38" y="258"/>
                  </a:lnTo>
                  <a:lnTo>
                    <a:pt x="42" y="260"/>
                  </a:lnTo>
                  <a:lnTo>
                    <a:pt x="44" y="258"/>
                  </a:lnTo>
                  <a:lnTo>
                    <a:pt x="48" y="254"/>
                  </a:lnTo>
                  <a:lnTo>
                    <a:pt x="48" y="254"/>
                  </a:lnTo>
                  <a:lnTo>
                    <a:pt x="78" y="220"/>
                  </a:lnTo>
                  <a:lnTo>
                    <a:pt x="118" y="178"/>
                  </a:lnTo>
                  <a:lnTo>
                    <a:pt x="178" y="112"/>
                  </a:lnTo>
                  <a:lnTo>
                    <a:pt x="178" y="112"/>
                  </a:lnTo>
                  <a:lnTo>
                    <a:pt x="188" y="100"/>
                  </a:lnTo>
                  <a:lnTo>
                    <a:pt x="194" y="88"/>
                  </a:lnTo>
                  <a:lnTo>
                    <a:pt x="198" y="78"/>
                  </a:lnTo>
                  <a:lnTo>
                    <a:pt x="200" y="68"/>
                  </a:lnTo>
                  <a:lnTo>
                    <a:pt x="200" y="68"/>
                  </a:lnTo>
                  <a:lnTo>
                    <a:pt x="204" y="48"/>
                  </a:lnTo>
                  <a:lnTo>
                    <a:pt x="210" y="32"/>
                  </a:lnTo>
                  <a:lnTo>
                    <a:pt x="216" y="26"/>
                  </a:lnTo>
                  <a:lnTo>
                    <a:pt x="220" y="22"/>
                  </a:lnTo>
                  <a:lnTo>
                    <a:pt x="226" y="18"/>
                  </a:lnTo>
                  <a:lnTo>
                    <a:pt x="232" y="16"/>
                  </a:lnTo>
                  <a:lnTo>
                    <a:pt x="232" y="16"/>
                  </a:lnTo>
                  <a:lnTo>
                    <a:pt x="242" y="20"/>
                  </a:lnTo>
                  <a:lnTo>
                    <a:pt x="254" y="26"/>
                  </a:lnTo>
                  <a:lnTo>
                    <a:pt x="262" y="36"/>
                  </a:lnTo>
                  <a:lnTo>
                    <a:pt x="266" y="40"/>
                  </a:lnTo>
                  <a:lnTo>
                    <a:pt x="266" y="46"/>
                  </a:lnTo>
                  <a:lnTo>
                    <a:pt x="266" y="46"/>
                  </a:lnTo>
                  <a:lnTo>
                    <a:pt x="264" y="52"/>
                  </a:lnTo>
                  <a:lnTo>
                    <a:pt x="260" y="58"/>
                  </a:lnTo>
                  <a:lnTo>
                    <a:pt x="260" y="58"/>
                  </a:lnTo>
                  <a:lnTo>
                    <a:pt x="254" y="62"/>
                  </a:lnTo>
                  <a:lnTo>
                    <a:pt x="246" y="70"/>
                  </a:lnTo>
                  <a:lnTo>
                    <a:pt x="246" y="70"/>
                  </a:lnTo>
                  <a:lnTo>
                    <a:pt x="240" y="80"/>
                  </a:lnTo>
                  <a:lnTo>
                    <a:pt x="234" y="96"/>
                  </a:lnTo>
                  <a:lnTo>
                    <a:pt x="230" y="118"/>
                  </a:lnTo>
                  <a:lnTo>
                    <a:pt x="228" y="154"/>
                  </a:lnTo>
                  <a:lnTo>
                    <a:pt x="228" y="154"/>
                  </a:lnTo>
                  <a:lnTo>
                    <a:pt x="228" y="192"/>
                  </a:lnTo>
                  <a:lnTo>
                    <a:pt x="228" y="218"/>
                  </a:lnTo>
                  <a:lnTo>
                    <a:pt x="230" y="240"/>
                  </a:lnTo>
                  <a:lnTo>
                    <a:pt x="232" y="262"/>
                  </a:lnTo>
                  <a:lnTo>
                    <a:pt x="232" y="262"/>
                  </a:lnTo>
                  <a:lnTo>
                    <a:pt x="234" y="266"/>
                  </a:lnTo>
                  <a:lnTo>
                    <a:pt x="238" y="268"/>
                  </a:lnTo>
                  <a:lnTo>
                    <a:pt x="242" y="266"/>
                  </a:lnTo>
                  <a:lnTo>
                    <a:pt x="248" y="260"/>
                  </a:lnTo>
                  <a:lnTo>
                    <a:pt x="248" y="260"/>
                  </a:lnTo>
                  <a:lnTo>
                    <a:pt x="282" y="220"/>
                  </a:lnTo>
                  <a:lnTo>
                    <a:pt x="324" y="176"/>
                  </a:lnTo>
                  <a:lnTo>
                    <a:pt x="388" y="110"/>
                  </a:lnTo>
                  <a:lnTo>
                    <a:pt x="388" y="110"/>
                  </a:lnTo>
                  <a:lnTo>
                    <a:pt x="400" y="92"/>
                  </a:lnTo>
                  <a:lnTo>
                    <a:pt x="410" y="80"/>
                  </a:lnTo>
                  <a:lnTo>
                    <a:pt x="414" y="70"/>
                  </a:lnTo>
                  <a:lnTo>
                    <a:pt x="416" y="62"/>
                  </a:lnTo>
                  <a:lnTo>
                    <a:pt x="416" y="62"/>
                  </a:lnTo>
                  <a:lnTo>
                    <a:pt x="414" y="50"/>
                  </a:lnTo>
                  <a:lnTo>
                    <a:pt x="412" y="46"/>
                  </a:lnTo>
                  <a:lnTo>
                    <a:pt x="408" y="40"/>
                  </a:lnTo>
                  <a:lnTo>
                    <a:pt x="408" y="40"/>
                  </a:lnTo>
                  <a:lnTo>
                    <a:pt x="404" y="32"/>
                  </a:lnTo>
                  <a:lnTo>
                    <a:pt x="406" y="26"/>
                  </a:lnTo>
                  <a:lnTo>
                    <a:pt x="410" y="20"/>
                  </a:lnTo>
                  <a:lnTo>
                    <a:pt x="416" y="12"/>
                  </a:lnTo>
                  <a:lnTo>
                    <a:pt x="416" y="12"/>
                  </a:lnTo>
                  <a:lnTo>
                    <a:pt x="422" y="6"/>
                  </a:lnTo>
                  <a:lnTo>
                    <a:pt x="430" y="2"/>
                  </a:lnTo>
                  <a:lnTo>
                    <a:pt x="436" y="0"/>
                  </a:lnTo>
                  <a:lnTo>
                    <a:pt x="440" y="0"/>
                  </a:lnTo>
                  <a:lnTo>
                    <a:pt x="440" y="0"/>
                  </a:lnTo>
                  <a:lnTo>
                    <a:pt x="446" y="0"/>
                  </a:lnTo>
                  <a:lnTo>
                    <a:pt x="452" y="2"/>
                  </a:lnTo>
                  <a:lnTo>
                    <a:pt x="456" y="6"/>
                  </a:lnTo>
                  <a:lnTo>
                    <a:pt x="458" y="10"/>
                  </a:lnTo>
                  <a:lnTo>
                    <a:pt x="462" y="20"/>
                  </a:lnTo>
                  <a:lnTo>
                    <a:pt x="464" y="32"/>
                  </a:lnTo>
                  <a:lnTo>
                    <a:pt x="464" y="32"/>
                  </a:lnTo>
                  <a:lnTo>
                    <a:pt x="462" y="44"/>
                  </a:lnTo>
                  <a:lnTo>
                    <a:pt x="458" y="58"/>
                  </a:lnTo>
                  <a:lnTo>
                    <a:pt x="450" y="72"/>
                  </a:lnTo>
                  <a:lnTo>
                    <a:pt x="440" y="88"/>
                  </a:lnTo>
                  <a:lnTo>
                    <a:pt x="440" y="88"/>
                  </a:lnTo>
                  <a:lnTo>
                    <a:pt x="416" y="120"/>
                  </a:lnTo>
                  <a:lnTo>
                    <a:pt x="390" y="152"/>
                  </a:lnTo>
                  <a:lnTo>
                    <a:pt x="318" y="232"/>
                  </a:lnTo>
                  <a:lnTo>
                    <a:pt x="318" y="232"/>
                  </a:lnTo>
                  <a:lnTo>
                    <a:pt x="286" y="270"/>
                  </a:lnTo>
                  <a:lnTo>
                    <a:pt x="264" y="300"/>
                  </a:lnTo>
                  <a:lnTo>
                    <a:pt x="252" y="320"/>
                  </a:lnTo>
                  <a:lnTo>
                    <a:pt x="246" y="336"/>
                  </a:lnTo>
                  <a:lnTo>
                    <a:pt x="246" y="336"/>
                  </a:lnTo>
                  <a:lnTo>
                    <a:pt x="244" y="344"/>
                  </a:lnTo>
                  <a:lnTo>
                    <a:pt x="240" y="348"/>
                  </a:lnTo>
                  <a:lnTo>
                    <a:pt x="234" y="350"/>
                  </a:lnTo>
                  <a:lnTo>
                    <a:pt x="230" y="352"/>
                  </a:lnTo>
                  <a:lnTo>
                    <a:pt x="230" y="352"/>
                  </a:lnTo>
                  <a:lnTo>
                    <a:pt x="220" y="350"/>
                  </a:lnTo>
                  <a:lnTo>
                    <a:pt x="214" y="342"/>
                  </a:lnTo>
                  <a:lnTo>
                    <a:pt x="206" y="330"/>
                  </a:lnTo>
                  <a:lnTo>
                    <a:pt x="202" y="310"/>
                  </a:lnTo>
                  <a:lnTo>
                    <a:pt x="202" y="310"/>
                  </a:lnTo>
                  <a:lnTo>
                    <a:pt x="194" y="264"/>
                  </a:lnTo>
                  <a:lnTo>
                    <a:pt x="192" y="232"/>
                  </a:lnTo>
                  <a:lnTo>
                    <a:pt x="190" y="192"/>
                  </a:lnTo>
                  <a:lnTo>
                    <a:pt x="190" y="192"/>
                  </a:lnTo>
                  <a:lnTo>
                    <a:pt x="188" y="162"/>
                  </a:lnTo>
                  <a:lnTo>
                    <a:pt x="188" y="162"/>
                  </a:lnTo>
                  <a:lnTo>
                    <a:pt x="188" y="156"/>
                  </a:lnTo>
                  <a:lnTo>
                    <a:pt x="186" y="154"/>
                  </a:lnTo>
                  <a:lnTo>
                    <a:pt x="182" y="156"/>
                  </a:lnTo>
                  <a:lnTo>
                    <a:pt x="178" y="160"/>
                  </a:lnTo>
                  <a:lnTo>
                    <a:pt x="178" y="160"/>
                  </a:lnTo>
                  <a:lnTo>
                    <a:pt x="152" y="184"/>
                  </a:lnTo>
                  <a:lnTo>
                    <a:pt x="116" y="226"/>
                  </a:lnTo>
                  <a:lnTo>
                    <a:pt x="78" y="270"/>
                  </a:lnTo>
                  <a:lnTo>
                    <a:pt x="52" y="302"/>
                  </a:lnTo>
                  <a:lnTo>
                    <a:pt x="52" y="302"/>
                  </a:lnTo>
                  <a:lnTo>
                    <a:pt x="46" y="316"/>
                  </a:lnTo>
                  <a:lnTo>
                    <a:pt x="42" y="328"/>
                  </a:lnTo>
                  <a:lnTo>
                    <a:pt x="42" y="328"/>
                  </a:lnTo>
                  <a:lnTo>
                    <a:pt x="40" y="336"/>
                  </a:lnTo>
                  <a:lnTo>
                    <a:pt x="38" y="340"/>
                  </a:lnTo>
                  <a:lnTo>
                    <a:pt x="30" y="348"/>
                  </a:lnTo>
                  <a:lnTo>
                    <a:pt x="30" y="348"/>
                  </a:lnTo>
                  <a:lnTo>
                    <a:pt x="26" y="350"/>
                  </a:lnTo>
                  <a:lnTo>
                    <a:pt x="22" y="350"/>
                  </a:lnTo>
                  <a:lnTo>
                    <a:pt x="22" y="350"/>
                  </a:lnTo>
                  <a:lnTo>
                    <a:pt x="14" y="348"/>
                  </a:lnTo>
                  <a:lnTo>
                    <a:pt x="8" y="342"/>
                  </a:lnTo>
                  <a:lnTo>
                    <a:pt x="2" y="334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0" y="216"/>
                  </a:lnTo>
                  <a:lnTo>
                    <a:pt x="4" y="162"/>
                  </a:lnTo>
                  <a:lnTo>
                    <a:pt x="10" y="102"/>
                  </a:lnTo>
                  <a:lnTo>
                    <a:pt x="10" y="102"/>
                  </a:lnTo>
                  <a:lnTo>
                    <a:pt x="12" y="70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0"/>
                  </a:lnTo>
                  <a:lnTo>
                    <a:pt x="12" y="34"/>
                  </a:lnTo>
                  <a:lnTo>
                    <a:pt x="16" y="26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36" y="10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0" y="6"/>
                  </a:lnTo>
                  <a:close/>
                </a:path>
              </a:pathLst>
            </a:custGeom>
            <a:solidFill>
              <a:srgbClr val="871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46"/>
            <p:cNvSpPr/>
            <p:nvPr/>
          </p:nvSpPr>
          <p:spPr>
            <a:xfrm>
              <a:off x="7535880" y="6638760"/>
              <a:ext cx="479160" cy="56232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302" h="354">
                  <a:moveTo>
                    <a:pt x="238" y="22"/>
                  </a:moveTo>
                  <a:lnTo>
                    <a:pt x="238" y="22"/>
                  </a:lnTo>
                  <a:lnTo>
                    <a:pt x="256" y="24"/>
                  </a:lnTo>
                  <a:lnTo>
                    <a:pt x="272" y="26"/>
                  </a:lnTo>
                  <a:lnTo>
                    <a:pt x="286" y="32"/>
                  </a:lnTo>
                  <a:lnTo>
                    <a:pt x="296" y="38"/>
                  </a:lnTo>
                  <a:lnTo>
                    <a:pt x="296" y="38"/>
                  </a:lnTo>
                  <a:lnTo>
                    <a:pt x="300" y="42"/>
                  </a:lnTo>
                  <a:lnTo>
                    <a:pt x="302" y="48"/>
                  </a:lnTo>
                  <a:lnTo>
                    <a:pt x="302" y="50"/>
                  </a:lnTo>
                  <a:lnTo>
                    <a:pt x="300" y="52"/>
                  </a:lnTo>
                  <a:lnTo>
                    <a:pt x="300" y="52"/>
                  </a:lnTo>
                  <a:lnTo>
                    <a:pt x="298" y="54"/>
                  </a:lnTo>
                  <a:lnTo>
                    <a:pt x="294" y="54"/>
                  </a:lnTo>
                  <a:lnTo>
                    <a:pt x="284" y="54"/>
                  </a:lnTo>
                  <a:lnTo>
                    <a:pt x="284" y="54"/>
                  </a:lnTo>
                  <a:lnTo>
                    <a:pt x="262" y="52"/>
                  </a:lnTo>
                  <a:lnTo>
                    <a:pt x="230" y="52"/>
                  </a:lnTo>
                  <a:lnTo>
                    <a:pt x="230" y="52"/>
                  </a:lnTo>
                  <a:lnTo>
                    <a:pt x="198" y="54"/>
                  </a:lnTo>
                  <a:lnTo>
                    <a:pt x="168" y="56"/>
                  </a:lnTo>
                  <a:lnTo>
                    <a:pt x="168" y="56"/>
                  </a:lnTo>
                  <a:lnTo>
                    <a:pt x="158" y="58"/>
                  </a:lnTo>
                  <a:lnTo>
                    <a:pt x="154" y="62"/>
                  </a:lnTo>
                  <a:lnTo>
                    <a:pt x="150" y="66"/>
                  </a:lnTo>
                  <a:lnTo>
                    <a:pt x="146" y="76"/>
                  </a:lnTo>
                  <a:lnTo>
                    <a:pt x="146" y="76"/>
                  </a:lnTo>
                  <a:lnTo>
                    <a:pt x="124" y="154"/>
                  </a:lnTo>
                  <a:lnTo>
                    <a:pt x="124" y="154"/>
                  </a:lnTo>
                  <a:lnTo>
                    <a:pt x="122" y="158"/>
                  </a:lnTo>
                  <a:lnTo>
                    <a:pt x="122" y="162"/>
                  </a:lnTo>
                  <a:lnTo>
                    <a:pt x="124" y="162"/>
                  </a:lnTo>
                  <a:lnTo>
                    <a:pt x="128" y="164"/>
                  </a:lnTo>
                  <a:lnTo>
                    <a:pt x="128" y="164"/>
                  </a:lnTo>
                  <a:lnTo>
                    <a:pt x="154" y="166"/>
                  </a:lnTo>
                  <a:lnTo>
                    <a:pt x="192" y="166"/>
                  </a:lnTo>
                  <a:lnTo>
                    <a:pt x="192" y="166"/>
                  </a:lnTo>
                  <a:lnTo>
                    <a:pt x="224" y="164"/>
                  </a:lnTo>
                  <a:lnTo>
                    <a:pt x="254" y="160"/>
                  </a:lnTo>
                  <a:lnTo>
                    <a:pt x="254" y="160"/>
                  </a:lnTo>
                  <a:lnTo>
                    <a:pt x="260" y="160"/>
                  </a:lnTo>
                  <a:lnTo>
                    <a:pt x="260" y="164"/>
                  </a:lnTo>
                  <a:lnTo>
                    <a:pt x="258" y="168"/>
                  </a:lnTo>
                  <a:lnTo>
                    <a:pt x="252" y="176"/>
                  </a:lnTo>
                  <a:lnTo>
                    <a:pt x="252" y="176"/>
                  </a:lnTo>
                  <a:lnTo>
                    <a:pt x="242" y="182"/>
                  </a:lnTo>
                  <a:lnTo>
                    <a:pt x="232" y="188"/>
                  </a:lnTo>
                  <a:lnTo>
                    <a:pt x="222" y="190"/>
                  </a:lnTo>
                  <a:lnTo>
                    <a:pt x="210" y="194"/>
                  </a:lnTo>
                  <a:lnTo>
                    <a:pt x="210" y="194"/>
                  </a:lnTo>
                  <a:lnTo>
                    <a:pt x="172" y="198"/>
                  </a:lnTo>
                  <a:lnTo>
                    <a:pt x="118" y="200"/>
                  </a:lnTo>
                  <a:lnTo>
                    <a:pt x="118" y="200"/>
                  </a:lnTo>
                  <a:lnTo>
                    <a:pt x="114" y="200"/>
                  </a:lnTo>
                  <a:lnTo>
                    <a:pt x="110" y="202"/>
                  </a:lnTo>
                  <a:lnTo>
                    <a:pt x="108" y="208"/>
                  </a:lnTo>
                  <a:lnTo>
                    <a:pt x="108" y="208"/>
                  </a:lnTo>
                  <a:lnTo>
                    <a:pt x="72" y="306"/>
                  </a:lnTo>
                  <a:lnTo>
                    <a:pt x="72" y="306"/>
                  </a:lnTo>
                  <a:lnTo>
                    <a:pt x="70" y="310"/>
                  </a:lnTo>
                  <a:lnTo>
                    <a:pt x="72" y="312"/>
                  </a:lnTo>
                  <a:lnTo>
                    <a:pt x="74" y="314"/>
                  </a:lnTo>
                  <a:lnTo>
                    <a:pt x="78" y="316"/>
                  </a:lnTo>
                  <a:lnTo>
                    <a:pt x="78" y="316"/>
                  </a:lnTo>
                  <a:lnTo>
                    <a:pt x="106" y="318"/>
                  </a:lnTo>
                  <a:lnTo>
                    <a:pt x="152" y="320"/>
                  </a:lnTo>
                  <a:lnTo>
                    <a:pt x="152" y="320"/>
                  </a:lnTo>
                  <a:lnTo>
                    <a:pt x="190" y="318"/>
                  </a:lnTo>
                  <a:lnTo>
                    <a:pt x="220" y="316"/>
                  </a:lnTo>
                  <a:lnTo>
                    <a:pt x="244" y="310"/>
                  </a:lnTo>
                  <a:lnTo>
                    <a:pt x="270" y="300"/>
                  </a:lnTo>
                  <a:lnTo>
                    <a:pt x="270" y="300"/>
                  </a:lnTo>
                  <a:lnTo>
                    <a:pt x="276" y="300"/>
                  </a:lnTo>
                  <a:lnTo>
                    <a:pt x="280" y="302"/>
                  </a:lnTo>
                  <a:lnTo>
                    <a:pt x="278" y="306"/>
                  </a:lnTo>
                  <a:lnTo>
                    <a:pt x="274" y="310"/>
                  </a:lnTo>
                  <a:lnTo>
                    <a:pt x="274" y="310"/>
                  </a:lnTo>
                  <a:lnTo>
                    <a:pt x="256" y="322"/>
                  </a:lnTo>
                  <a:lnTo>
                    <a:pt x="238" y="332"/>
                  </a:lnTo>
                  <a:lnTo>
                    <a:pt x="220" y="338"/>
                  </a:lnTo>
                  <a:lnTo>
                    <a:pt x="202" y="344"/>
                  </a:lnTo>
                  <a:lnTo>
                    <a:pt x="182" y="348"/>
                  </a:lnTo>
                  <a:lnTo>
                    <a:pt x="160" y="352"/>
                  </a:lnTo>
                  <a:lnTo>
                    <a:pt x="136" y="354"/>
                  </a:lnTo>
                  <a:lnTo>
                    <a:pt x="108" y="354"/>
                  </a:lnTo>
                  <a:lnTo>
                    <a:pt x="108" y="354"/>
                  </a:lnTo>
                  <a:lnTo>
                    <a:pt x="46" y="352"/>
                  </a:lnTo>
                  <a:lnTo>
                    <a:pt x="46" y="352"/>
                  </a:lnTo>
                  <a:lnTo>
                    <a:pt x="28" y="350"/>
                  </a:lnTo>
                  <a:lnTo>
                    <a:pt x="14" y="348"/>
                  </a:lnTo>
                  <a:lnTo>
                    <a:pt x="4" y="344"/>
                  </a:lnTo>
                  <a:lnTo>
                    <a:pt x="2" y="340"/>
                  </a:lnTo>
                  <a:lnTo>
                    <a:pt x="0" y="338"/>
                  </a:lnTo>
                  <a:lnTo>
                    <a:pt x="0" y="338"/>
                  </a:lnTo>
                  <a:lnTo>
                    <a:pt x="4" y="330"/>
                  </a:lnTo>
                  <a:lnTo>
                    <a:pt x="10" y="324"/>
                  </a:lnTo>
                  <a:lnTo>
                    <a:pt x="18" y="318"/>
                  </a:lnTo>
                  <a:lnTo>
                    <a:pt x="24" y="314"/>
                  </a:lnTo>
                  <a:lnTo>
                    <a:pt x="24" y="314"/>
                  </a:lnTo>
                  <a:lnTo>
                    <a:pt x="28" y="312"/>
                  </a:lnTo>
                  <a:lnTo>
                    <a:pt x="32" y="306"/>
                  </a:lnTo>
                  <a:lnTo>
                    <a:pt x="32" y="306"/>
                  </a:lnTo>
                  <a:lnTo>
                    <a:pt x="46" y="266"/>
                  </a:lnTo>
                  <a:lnTo>
                    <a:pt x="66" y="208"/>
                  </a:lnTo>
                  <a:lnTo>
                    <a:pt x="66" y="208"/>
                  </a:lnTo>
                  <a:lnTo>
                    <a:pt x="66" y="200"/>
                  </a:lnTo>
                  <a:lnTo>
                    <a:pt x="64" y="196"/>
                  </a:lnTo>
                  <a:lnTo>
                    <a:pt x="62" y="194"/>
                  </a:lnTo>
                  <a:lnTo>
                    <a:pt x="62" y="194"/>
                  </a:lnTo>
                  <a:lnTo>
                    <a:pt x="54" y="188"/>
                  </a:lnTo>
                  <a:lnTo>
                    <a:pt x="52" y="180"/>
                  </a:lnTo>
                  <a:lnTo>
                    <a:pt x="52" y="180"/>
                  </a:lnTo>
                  <a:lnTo>
                    <a:pt x="52" y="178"/>
                  </a:lnTo>
                  <a:lnTo>
                    <a:pt x="54" y="176"/>
                  </a:lnTo>
                  <a:lnTo>
                    <a:pt x="56" y="172"/>
                  </a:lnTo>
                  <a:lnTo>
                    <a:pt x="60" y="170"/>
                  </a:lnTo>
                  <a:lnTo>
                    <a:pt x="60" y="170"/>
                  </a:lnTo>
                  <a:lnTo>
                    <a:pt x="70" y="166"/>
                  </a:lnTo>
                  <a:lnTo>
                    <a:pt x="76" y="162"/>
                  </a:lnTo>
                  <a:lnTo>
                    <a:pt x="80" y="158"/>
                  </a:lnTo>
                  <a:lnTo>
                    <a:pt x="82" y="152"/>
                  </a:lnTo>
                  <a:lnTo>
                    <a:pt x="82" y="152"/>
                  </a:lnTo>
                  <a:lnTo>
                    <a:pt x="104" y="82"/>
                  </a:lnTo>
                  <a:lnTo>
                    <a:pt x="104" y="82"/>
                  </a:lnTo>
                  <a:lnTo>
                    <a:pt x="106" y="76"/>
                  </a:lnTo>
                  <a:lnTo>
                    <a:pt x="104" y="70"/>
                  </a:lnTo>
                  <a:lnTo>
                    <a:pt x="102" y="68"/>
                  </a:lnTo>
                  <a:lnTo>
                    <a:pt x="100" y="64"/>
                  </a:lnTo>
                  <a:lnTo>
                    <a:pt x="100" y="64"/>
                  </a:lnTo>
                  <a:lnTo>
                    <a:pt x="92" y="58"/>
                  </a:lnTo>
                  <a:lnTo>
                    <a:pt x="86" y="52"/>
                  </a:lnTo>
                  <a:lnTo>
                    <a:pt x="86" y="48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96" y="40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14" y="32"/>
                  </a:lnTo>
                  <a:lnTo>
                    <a:pt x="118" y="28"/>
                  </a:lnTo>
                  <a:lnTo>
                    <a:pt x="124" y="10"/>
                  </a:lnTo>
                  <a:lnTo>
                    <a:pt x="124" y="10"/>
                  </a:lnTo>
                  <a:lnTo>
                    <a:pt x="128" y="4"/>
                  </a:lnTo>
                  <a:lnTo>
                    <a:pt x="130" y="2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40" y="2"/>
                  </a:lnTo>
                  <a:lnTo>
                    <a:pt x="146" y="6"/>
                  </a:lnTo>
                  <a:lnTo>
                    <a:pt x="154" y="16"/>
                  </a:lnTo>
                  <a:lnTo>
                    <a:pt x="154" y="16"/>
                  </a:lnTo>
                  <a:lnTo>
                    <a:pt x="156" y="20"/>
                  </a:lnTo>
                  <a:lnTo>
                    <a:pt x="158" y="22"/>
                  </a:lnTo>
                  <a:lnTo>
                    <a:pt x="168" y="22"/>
                  </a:lnTo>
                  <a:lnTo>
                    <a:pt x="238" y="22"/>
                  </a:lnTo>
                  <a:close/>
                </a:path>
              </a:pathLst>
            </a:custGeom>
            <a:solidFill>
              <a:srgbClr val="871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47"/>
            <p:cNvSpPr/>
            <p:nvPr/>
          </p:nvSpPr>
          <p:spPr>
            <a:xfrm>
              <a:off x="8021520" y="6648120"/>
              <a:ext cx="428400" cy="5623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270" h="354">
                  <a:moveTo>
                    <a:pt x="168" y="318"/>
                  </a:moveTo>
                  <a:lnTo>
                    <a:pt x="168" y="318"/>
                  </a:lnTo>
                  <a:lnTo>
                    <a:pt x="194" y="316"/>
                  </a:lnTo>
                  <a:lnTo>
                    <a:pt x="218" y="312"/>
                  </a:lnTo>
                  <a:lnTo>
                    <a:pt x="240" y="304"/>
                  </a:lnTo>
                  <a:lnTo>
                    <a:pt x="258" y="296"/>
                  </a:lnTo>
                  <a:lnTo>
                    <a:pt x="258" y="296"/>
                  </a:lnTo>
                  <a:lnTo>
                    <a:pt x="266" y="292"/>
                  </a:lnTo>
                  <a:lnTo>
                    <a:pt x="268" y="294"/>
                  </a:lnTo>
                  <a:lnTo>
                    <a:pt x="270" y="294"/>
                  </a:lnTo>
                  <a:lnTo>
                    <a:pt x="268" y="300"/>
                  </a:lnTo>
                  <a:lnTo>
                    <a:pt x="264" y="308"/>
                  </a:lnTo>
                  <a:lnTo>
                    <a:pt x="264" y="308"/>
                  </a:lnTo>
                  <a:lnTo>
                    <a:pt x="254" y="316"/>
                  </a:lnTo>
                  <a:lnTo>
                    <a:pt x="242" y="324"/>
                  </a:lnTo>
                  <a:lnTo>
                    <a:pt x="230" y="332"/>
                  </a:lnTo>
                  <a:lnTo>
                    <a:pt x="216" y="338"/>
                  </a:lnTo>
                  <a:lnTo>
                    <a:pt x="200" y="344"/>
                  </a:lnTo>
                  <a:lnTo>
                    <a:pt x="182" y="348"/>
                  </a:lnTo>
                  <a:lnTo>
                    <a:pt x="164" y="350"/>
                  </a:lnTo>
                  <a:lnTo>
                    <a:pt x="144" y="350"/>
                  </a:lnTo>
                  <a:lnTo>
                    <a:pt x="144" y="350"/>
                  </a:lnTo>
                  <a:lnTo>
                    <a:pt x="98" y="350"/>
                  </a:lnTo>
                  <a:lnTo>
                    <a:pt x="70" y="348"/>
                  </a:lnTo>
                  <a:lnTo>
                    <a:pt x="70" y="348"/>
                  </a:lnTo>
                  <a:lnTo>
                    <a:pt x="56" y="346"/>
                  </a:lnTo>
                  <a:lnTo>
                    <a:pt x="46" y="344"/>
                  </a:lnTo>
                  <a:lnTo>
                    <a:pt x="46" y="344"/>
                  </a:lnTo>
                  <a:lnTo>
                    <a:pt x="36" y="346"/>
                  </a:lnTo>
                  <a:lnTo>
                    <a:pt x="26" y="350"/>
                  </a:lnTo>
                  <a:lnTo>
                    <a:pt x="26" y="350"/>
                  </a:lnTo>
                  <a:lnTo>
                    <a:pt x="22" y="354"/>
                  </a:lnTo>
                  <a:lnTo>
                    <a:pt x="16" y="352"/>
                  </a:lnTo>
                  <a:lnTo>
                    <a:pt x="12" y="350"/>
                  </a:lnTo>
                  <a:lnTo>
                    <a:pt x="8" y="344"/>
                  </a:lnTo>
                  <a:lnTo>
                    <a:pt x="8" y="344"/>
                  </a:lnTo>
                  <a:lnTo>
                    <a:pt x="2" y="326"/>
                  </a:lnTo>
                  <a:lnTo>
                    <a:pt x="2" y="326"/>
                  </a:lnTo>
                  <a:lnTo>
                    <a:pt x="0" y="322"/>
                  </a:lnTo>
                  <a:lnTo>
                    <a:pt x="0" y="316"/>
                  </a:lnTo>
                  <a:lnTo>
                    <a:pt x="2" y="310"/>
                  </a:lnTo>
                  <a:lnTo>
                    <a:pt x="6" y="304"/>
                  </a:lnTo>
                  <a:lnTo>
                    <a:pt x="6" y="304"/>
                  </a:lnTo>
                  <a:lnTo>
                    <a:pt x="12" y="300"/>
                  </a:lnTo>
                  <a:lnTo>
                    <a:pt x="18" y="298"/>
                  </a:lnTo>
                  <a:lnTo>
                    <a:pt x="18" y="298"/>
                  </a:lnTo>
                  <a:lnTo>
                    <a:pt x="22" y="298"/>
                  </a:lnTo>
                  <a:lnTo>
                    <a:pt x="24" y="294"/>
                  </a:lnTo>
                  <a:lnTo>
                    <a:pt x="30" y="286"/>
                  </a:lnTo>
                  <a:lnTo>
                    <a:pt x="30" y="286"/>
                  </a:lnTo>
                  <a:lnTo>
                    <a:pt x="46" y="240"/>
                  </a:lnTo>
                  <a:lnTo>
                    <a:pt x="66" y="182"/>
                  </a:lnTo>
                  <a:lnTo>
                    <a:pt x="102" y="64"/>
                  </a:lnTo>
                  <a:lnTo>
                    <a:pt x="102" y="64"/>
                  </a:lnTo>
                  <a:lnTo>
                    <a:pt x="104" y="56"/>
                  </a:lnTo>
                  <a:lnTo>
                    <a:pt x="102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92" y="54"/>
                  </a:lnTo>
                  <a:lnTo>
                    <a:pt x="84" y="50"/>
                  </a:lnTo>
                  <a:lnTo>
                    <a:pt x="80" y="48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8" y="38"/>
                  </a:lnTo>
                  <a:lnTo>
                    <a:pt x="82" y="36"/>
                  </a:lnTo>
                  <a:lnTo>
                    <a:pt x="94" y="30"/>
                  </a:lnTo>
                  <a:lnTo>
                    <a:pt x="94" y="30"/>
                  </a:lnTo>
                  <a:lnTo>
                    <a:pt x="104" y="26"/>
                  </a:lnTo>
                  <a:lnTo>
                    <a:pt x="112" y="22"/>
                  </a:lnTo>
                  <a:lnTo>
                    <a:pt x="120" y="16"/>
                  </a:lnTo>
                  <a:lnTo>
                    <a:pt x="126" y="8"/>
                  </a:lnTo>
                  <a:lnTo>
                    <a:pt x="126" y="8"/>
                  </a:lnTo>
                  <a:lnTo>
                    <a:pt x="132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8" y="2"/>
                  </a:lnTo>
                  <a:lnTo>
                    <a:pt x="156" y="6"/>
                  </a:lnTo>
                  <a:lnTo>
                    <a:pt x="162" y="12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24"/>
                  </a:lnTo>
                  <a:lnTo>
                    <a:pt x="166" y="30"/>
                  </a:lnTo>
                  <a:lnTo>
                    <a:pt x="164" y="34"/>
                  </a:lnTo>
                  <a:lnTo>
                    <a:pt x="160" y="40"/>
                  </a:lnTo>
                  <a:lnTo>
                    <a:pt x="160" y="40"/>
                  </a:lnTo>
                  <a:lnTo>
                    <a:pt x="154" y="52"/>
                  </a:lnTo>
                  <a:lnTo>
                    <a:pt x="148" y="66"/>
                  </a:lnTo>
                  <a:lnTo>
                    <a:pt x="148" y="66"/>
                  </a:lnTo>
                  <a:lnTo>
                    <a:pt x="130" y="118"/>
                  </a:lnTo>
                  <a:lnTo>
                    <a:pt x="100" y="204"/>
                  </a:lnTo>
                  <a:lnTo>
                    <a:pt x="100" y="204"/>
                  </a:lnTo>
                  <a:lnTo>
                    <a:pt x="78" y="262"/>
                  </a:lnTo>
                  <a:lnTo>
                    <a:pt x="66" y="292"/>
                  </a:lnTo>
                  <a:lnTo>
                    <a:pt x="66" y="292"/>
                  </a:lnTo>
                  <a:lnTo>
                    <a:pt x="64" y="298"/>
                  </a:lnTo>
                  <a:lnTo>
                    <a:pt x="64" y="302"/>
                  </a:lnTo>
                  <a:lnTo>
                    <a:pt x="66" y="304"/>
                  </a:lnTo>
                  <a:lnTo>
                    <a:pt x="70" y="306"/>
                  </a:lnTo>
                  <a:lnTo>
                    <a:pt x="70" y="306"/>
                  </a:lnTo>
                  <a:lnTo>
                    <a:pt x="90" y="312"/>
                  </a:lnTo>
                  <a:lnTo>
                    <a:pt x="112" y="314"/>
                  </a:lnTo>
                  <a:lnTo>
                    <a:pt x="138" y="318"/>
                  </a:lnTo>
                  <a:lnTo>
                    <a:pt x="168" y="318"/>
                  </a:lnTo>
                  <a:lnTo>
                    <a:pt x="168" y="318"/>
                  </a:lnTo>
                  <a:close/>
                </a:path>
              </a:pathLst>
            </a:custGeom>
            <a:solidFill>
              <a:srgbClr val="871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48"/>
            <p:cNvSpPr/>
            <p:nvPr/>
          </p:nvSpPr>
          <p:spPr>
            <a:xfrm>
              <a:off x="8491680" y="6625800"/>
              <a:ext cx="542880" cy="5972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240"/>
                <a:gd name="textAreaBottom" fmla="*/ 597600 h 597240"/>
              </a:gdLst>
              <a:ahLst/>
              <a:rect l="textAreaLeft" t="textAreaTop" r="textAreaRight" b="textAreaBottom"/>
              <a:pathLst>
                <a:path w="342" h="376">
                  <a:moveTo>
                    <a:pt x="280" y="100"/>
                  </a:moveTo>
                  <a:lnTo>
                    <a:pt x="280" y="100"/>
                  </a:lnTo>
                  <a:lnTo>
                    <a:pt x="278" y="110"/>
                  </a:lnTo>
                  <a:lnTo>
                    <a:pt x="276" y="118"/>
                  </a:lnTo>
                  <a:lnTo>
                    <a:pt x="268" y="134"/>
                  </a:lnTo>
                  <a:lnTo>
                    <a:pt x="256" y="148"/>
                  </a:lnTo>
                  <a:lnTo>
                    <a:pt x="242" y="160"/>
                  </a:lnTo>
                  <a:lnTo>
                    <a:pt x="226" y="172"/>
                  </a:lnTo>
                  <a:lnTo>
                    <a:pt x="208" y="182"/>
                  </a:lnTo>
                  <a:lnTo>
                    <a:pt x="176" y="198"/>
                  </a:lnTo>
                  <a:lnTo>
                    <a:pt x="176" y="198"/>
                  </a:lnTo>
                  <a:lnTo>
                    <a:pt x="170" y="202"/>
                  </a:lnTo>
                  <a:lnTo>
                    <a:pt x="168" y="204"/>
                  </a:lnTo>
                  <a:lnTo>
                    <a:pt x="168" y="208"/>
                  </a:lnTo>
                  <a:lnTo>
                    <a:pt x="170" y="212"/>
                  </a:lnTo>
                  <a:lnTo>
                    <a:pt x="170" y="212"/>
                  </a:lnTo>
                  <a:lnTo>
                    <a:pt x="214" y="276"/>
                  </a:lnTo>
                  <a:lnTo>
                    <a:pt x="238" y="308"/>
                  </a:lnTo>
                  <a:lnTo>
                    <a:pt x="254" y="328"/>
                  </a:lnTo>
                  <a:lnTo>
                    <a:pt x="254" y="328"/>
                  </a:lnTo>
                  <a:lnTo>
                    <a:pt x="268" y="340"/>
                  </a:lnTo>
                  <a:lnTo>
                    <a:pt x="280" y="346"/>
                  </a:lnTo>
                  <a:lnTo>
                    <a:pt x="290" y="348"/>
                  </a:lnTo>
                  <a:lnTo>
                    <a:pt x="300" y="350"/>
                  </a:lnTo>
                  <a:lnTo>
                    <a:pt x="300" y="350"/>
                  </a:lnTo>
                  <a:lnTo>
                    <a:pt x="308" y="348"/>
                  </a:lnTo>
                  <a:lnTo>
                    <a:pt x="318" y="344"/>
                  </a:lnTo>
                  <a:lnTo>
                    <a:pt x="328" y="340"/>
                  </a:lnTo>
                  <a:lnTo>
                    <a:pt x="336" y="334"/>
                  </a:lnTo>
                  <a:lnTo>
                    <a:pt x="336" y="334"/>
                  </a:lnTo>
                  <a:lnTo>
                    <a:pt x="340" y="332"/>
                  </a:lnTo>
                  <a:lnTo>
                    <a:pt x="342" y="332"/>
                  </a:lnTo>
                  <a:lnTo>
                    <a:pt x="342" y="336"/>
                  </a:lnTo>
                  <a:lnTo>
                    <a:pt x="340" y="344"/>
                  </a:lnTo>
                  <a:lnTo>
                    <a:pt x="340" y="344"/>
                  </a:lnTo>
                  <a:lnTo>
                    <a:pt x="330" y="356"/>
                  </a:lnTo>
                  <a:lnTo>
                    <a:pt x="316" y="366"/>
                  </a:lnTo>
                  <a:lnTo>
                    <a:pt x="298" y="374"/>
                  </a:lnTo>
                  <a:lnTo>
                    <a:pt x="290" y="376"/>
                  </a:lnTo>
                  <a:lnTo>
                    <a:pt x="280" y="376"/>
                  </a:lnTo>
                  <a:lnTo>
                    <a:pt x="280" y="376"/>
                  </a:lnTo>
                  <a:lnTo>
                    <a:pt x="270" y="376"/>
                  </a:lnTo>
                  <a:lnTo>
                    <a:pt x="260" y="374"/>
                  </a:lnTo>
                  <a:lnTo>
                    <a:pt x="250" y="370"/>
                  </a:lnTo>
                  <a:lnTo>
                    <a:pt x="240" y="364"/>
                  </a:lnTo>
                  <a:lnTo>
                    <a:pt x="230" y="356"/>
                  </a:lnTo>
                  <a:lnTo>
                    <a:pt x="218" y="344"/>
                  </a:lnTo>
                  <a:lnTo>
                    <a:pt x="194" y="316"/>
                  </a:lnTo>
                  <a:lnTo>
                    <a:pt x="194" y="316"/>
                  </a:lnTo>
                  <a:lnTo>
                    <a:pt x="176" y="292"/>
                  </a:lnTo>
                  <a:lnTo>
                    <a:pt x="156" y="264"/>
                  </a:lnTo>
                  <a:lnTo>
                    <a:pt x="140" y="240"/>
                  </a:lnTo>
                  <a:lnTo>
                    <a:pt x="130" y="226"/>
                  </a:lnTo>
                  <a:lnTo>
                    <a:pt x="130" y="226"/>
                  </a:lnTo>
                  <a:lnTo>
                    <a:pt x="122" y="222"/>
                  </a:lnTo>
                  <a:lnTo>
                    <a:pt x="114" y="220"/>
                  </a:lnTo>
                  <a:lnTo>
                    <a:pt x="114" y="220"/>
                  </a:lnTo>
                  <a:lnTo>
                    <a:pt x="110" y="220"/>
                  </a:lnTo>
                  <a:lnTo>
                    <a:pt x="108" y="222"/>
                  </a:lnTo>
                  <a:lnTo>
                    <a:pt x="104" y="230"/>
                  </a:lnTo>
                  <a:lnTo>
                    <a:pt x="104" y="230"/>
                  </a:lnTo>
                  <a:lnTo>
                    <a:pt x="88" y="274"/>
                  </a:lnTo>
                  <a:lnTo>
                    <a:pt x="74" y="318"/>
                  </a:lnTo>
                  <a:lnTo>
                    <a:pt x="74" y="318"/>
                  </a:lnTo>
                  <a:lnTo>
                    <a:pt x="72" y="322"/>
                  </a:lnTo>
                  <a:lnTo>
                    <a:pt x="74" y="326"/>
                  </a:lnTo>
                  <a:lnTo>
                    <a:pt x="76" y="328"/>
                  </a:lnTo>
                  <a:lnTo>
                    <a:pt x="80" y="328"/>
                  </a:lnTo>
                  <a:lnTo>
                    <a:pt x="80" y="328"/>
                  </a:lnTo>
                  <a:lnTo>
                    <a:pt x="100" y="334"/>
                  </a:lnTo>
                  <a:lnTo>
                    <a:pt x="110" y="336"/>
                  </a:lnTo>
                  <a:lnTo>
                    <a:pt x="114" y="340"/>
                  </a:lnTo>
                  <a:lnTo>
                    <a:pt x="114" y="340"/>
                  </a:lnTo>
                  <a:lnTo>
                    <a:pt x="116" y="342"/>
                  </a:lnTo>
                  <a:lnTo>
                    <a:pt x="118" y="344"/>
                  </a:lnTo>
                  <a:lnTo>
                    <a:pt x="114" y="348"/>
                  </a:lnTo>
                  <a:lnTo>
                    <a:pt x="110" y="350"/>
                  </a:lnTo>
                  <a:lnTo>
                    <a:pt x="110" y="350"/>
                  </a:lnTo>
                  <a:lnTo>
                    <a:pt x="102" y="354"/>
                  </a:lnTo>
                  <a:lnTo>
                    <a:pt x="92" y="358"/>
                  </a:lnTo>
                  <a:lnTo>
                    <a:pt x="68" y="360"/>
                  </a:lnTo>
                  <a:lnTo>
                    <a:pt x="68" y="360"/>
                  </a:lnTo>
                  <a:lnTo>
                    <a:pt x="60" y="362"/>
                  </a:lnTo>
                  <a:lnTo>
                    <a:pt x="54" y="364"/>
                  </a:lnTo>
                  <a:lnTo>
                    <a:pt x="54" y="364"/>
                  </a:lnTo>
                  <a:lnTo>
                    <a:pt x="46" y="368"/>
                  </a:lnTo>
                  <a:lnTo>
                    <a:pt x="38" y="368"/>
                  </a:lnTo>
                  <a:lnTo>
                    <a:pt x="38" y="368"/>
                  </a:lnTo>
                  <a:lnTo>
                    <a:pt x="28" y="366"/>
                  </a:lnTo>
                  <a:lnTo>
                    <a:pt x="18" y="362"/>
                  </a:lnTo>
                  <a:lnTo>
                    <a:pt x="10" y="356"/>
                  </a:lnTo>
                  <a:lnTo>
                    <a:pt x="4" y="350"/>
                  </a:lnTo>
                  <a:lnTo>
                    <a:pt x="4" y="350"/>
                  </a:lnTo>
                  <a:lnTo>
                    <a:pt x="2" y="344"/>
                  </a:lnTo>
                  <a:lnTo>
                    <a:pt x="0" y="340"/>
                  </a:lnTo>
                  <a:lnTo>
                    <a:pt x="2" y="338"/>
                  </a:lnTo>
                  <a:lnTo>
                    <a:pt x="4" y="334"/>
                  </a:lnTo>
                  <a:lnTo>
                    <a:pt x="4" y="334"/>
                  </a:lnTo>
                  <a:lnTo>
                    <a:pt x="14" y="330"/>
                  </a:lnTo>
                  <a:lnTo>
                    <a:pt x="26" y="326"/>
                  </a:lnTo>
                  <a:lnTo>
                    <a:pt x="26" y="326"/>
                  </a:lnTo>
                  <a:lnTo>
                    <a:pt x="30" y="324"/>
                  </a:lnTo>
                  <a:lnTo>
                    <a:pt x="32" y="322"/>
                  </a:lnTo>
                  <a:lnTo>
                    <a:pt x="36" y="314"/>
                  </a:lnTo>
                  <a:lnTo>
                    <a:pt x="36" y="314"/>
                  </a:lnTo>
                  <a:lnTo>
                    <a:pt x="66" y="228"/>
                  </a:lnTo>
                  <a:lnTo>
                    <a:pt x="66" y="228"/>
                  </a:lnTo>
                  <a:lnTo>
                    <a:pt x="66" y="220"/>
                  </a:lnTo>
                  <a:lnTo>
                    <a:pt x="66" y="216"/>
                  </a:lnTo>
                  <a:lnTo>
                    <a:pt x="66" y="216"/>
                  </a:lnTo>
                  <a:lnTo>
                    <a:pt x="64" y="208"/>
                  </a:lnTo>
                  <a:lnTo>
                    <a:pt x="66" y="200"/>
                  </a:lnTo>
                  <a:lnTo>
                    <a:pt x="66" y="200"/>
                  </a:lnTo>
                  <a:lnTo>
                    <a:pt x="70" y="192"/>
                  </a:lnTo>
                  <a:lnTo>
                    <a:pt x="74" y="190"/>
                  </a:lnTo>
                  <a:lnTo>
                    <a:pt x="74" y="190"/>
                  </a:lnTo>
                  <a:lnTo>
                    <a:pt x="80" y="186"/>
                  </a:lnTo>
                  <a:lnTo>
                    <a:pt x="84" y="178"/>
                  </a:lnTo>
                  <a:lnTo>
                    <a:pt x="84" y="178"/>
                  </a:lnTo>
                  <a:lnTo>
                    <a:pt x="98" y="140"/>
                  </a:lnTo>
                  <a:lnTo>
                    <a:pt x="124" y="66"/>
                  </a:lnTo>
                  <a:lnTo>
                    <a:pt x="124" y="66"/>
                  </a:lnTo>
                  <a:lnTo>
                    <a:pt x="126" y="60"/>
                  </a:lnTo>
                  <a:lnTo>
                    <a:pt x="124" y="58"/>
                  </a:lnTo>
                  <a:lnTo>
                    <a:pt x="122" y="58"/>
                  </a:lnTo>
                  <a:lnTo>
                    <a:pt x="122" y="58"/>
                  </a:lnTo>
                  <a:lnTo>
                    <a:pt x="108" y="60"/>
                  </a:lnTo>
                  <a:lnTo>
                    <a:pt x="98" y="64"/>
                  </a:lnTo>
                  <a:lnTo>
                    <a:pt x="92" y="68"/>
                  </a:lnTo>
                  <a:lnTo>
                    <a:pt x="86" y="74"/>
                  </a:lnTo>
                  <a:lnTo>
                    <a:pt x="86" y="74"/>
                  </a:lnTo>
                  <a:lnTo>
                    <a:pt x="80" y="82"/>
                  </a:lnTo>
                  <a:lnTo>
                    <a:pt x="72" y="86"/>
                  </a:lnTo>
                  <a:lnTo>
                    <a:pt x="72" y="86"/>
                  </a:lnTo>
                  <a:lnTo>
                    <a:pt x="64" y="88"/>
                  </a:lnTo>
                  <a:lnTo>
                    <a:pt x="62" y="86"/>
                  </a:lnTo>
                  <a:lnTo>
                    <a:pt x="58" y="84"/>
                  </a:lnTo>
                  <a:lnTo>
                    <a:pt x="58" y="84"/>
                  </a:lnTo>
                  <a:lnTo>
                    <a:pt x="52" y="78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48" y="66"/>
                  </a:lnTo>
                  <a:lnTo>
                    <a:pt x="50" y="60"/>
                  </a:lnTo>
                  <a:lnTo>
                    <a:pt x="54" y="54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70" y="42"/>
                  </a:lnTo>
                  <a:lnTo>
                    <a:pt x="86" y="36"/>
                  </a:lnTo>
                  <a:lnTo>
                    <a:pt x="106" y="32"/>
                  </a:lnTo>
                  <a:lnTo>
                    <a:pt x="130" y="28"/>
                  </a:lnTo>
                  <a:lnTo>
                    <a:pt x="130" y="28"/>
                  </a:lnTo>
                  <a:lnTo>
                    <a:pt x="134" y="28"/>
                  </a:lnTo>
                  <a:lnTo>
                    <a:pt x="138" y="26"/>
                  </a:lnTo>
                  <a:lnTo>
                    <a:pt x="142" y="20"/>
                  </a:lnTo>
                  <a:lnTo>
                    <a:pt x="142" y="20"/>
                  </a:lnTo>
                  <a:lnTo>
                    <a:pt x="146" y="12"/>
                  </a:lnTo>
                  <a:lnTo>
                    <a:pt x="150" y="6"/>
                  </a:lnTo>
                  <a:lnTo>
                    <a:pt x="154" y="2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70" y="2"/>
                  </a:lnTo>
                  <a:lnTo>
                    <a:pt x="178" y="8"/>
                  </a:lnTo>
                  <a:lnTo>
                    <a:pt x="178" y="8"/>
                  </a:lnTo>
                  <a:lnTo>
                    <a:pt x="182" y="14"/>
                  </a:lnTo>
                  <a:lnTo>
                    <a:pt x="184" y="24"/>
                  </a:lnTo>
                  <a:lnTo>
                    <a:pt x="184" y="24"/>
                  </a:lnTo>
                  <a:lnTo>
                    <a:pt x="184" y="26"/>
                  </a:lnTo>
                  <a:lnTo>
                    <a:pt x="190" y="26"/>
                  </a:lnTo>
                  <a:lnTo>
                    <a:pt x="190" y="26"/>
                  </a:lnTo>
                  <a:lnTo>
                    <a:pt x="204" y="28"/>
                  </a:lnTo>
                  <a:lnTo>
                    <a:pt x="216" y="30"/>
                  </a:lnTo>
                  <a:lnTo>
                    <a:pt x="228" y="34"/>
                  </a:lnTo>
                  <a:lnTo>
                    <a:pt x="240" y="40"/>
                  </a:lnTo>
                  <a:lnTo>
                    <a:pt x="250" y="46"/>
                  </a:lnTo>
                  <a:lnTo>
                    <a:pt x="260" y="52"/>
                  </a:lnTo>
                  <a:lnTo>
                    <a:pt x="268" y="62"/>
                  </a:lnTo>
                  <a:lnTo>
                    <a:pt x="274" y="70"/>
                  </a:lnTo>
                  <a:lnTo>
                    <a:pt x="274" y="70"/>
                  </a:lnTo>
                  <a:lnTo>
                    <a:pt x="278" y="86"/>
                  </a:lnTo>
                  <a:lnTo>
                    <a:pt x="280" y="100"/>
                  </a:lnTo>
                  <a:lnTo>
                    <a:pt x="280" y="100"/>
                  </a:lnTo>
                  <a:close/>
                  <a:moveTo>
                    <a:pt x="240" y="104"/>
                  </a:moveTo>
                  <a:lnTo>
                    <a:pt x="240" y="104"/>
                  </a:lnTo>
                  <a:lnTo>
                    <a:pt x="238" y="94"/>
                  </a:lnTo>
                  <a:lnTo>
                    <a:pt x="234" y="84"/>
                  </a:lnTo>
                  <a:lnTo>
                    <a:pt x="228" y="76"/>
                  </a:lnTo>
                  <a:lnTo>
                    <a:pt x="220" y="68"/>
                  </a:lnTo>
                  <a:lnTo>
                    <a:pt x="212" y="64"/>
                  </a:lnTo>
                  <a:lnTo>
                    <a:pt x="200" y="60"/>
                  </a:lnTo>
                  <a:lnTo>
                    <a:pt x="190" y="56"/>
                  </a:lnTo>
                  <a:lnTo>
                    <a:pt x="180" y="56"/>
                  </a:lnTo>
                  <a:lnTo>
                    <a:pt x="180" y="56"/>
                  </a:lnTo>
                  <a:lnTo>
                    <a:pt x="176" y="56"/>
                  </a:lnTo>
                  <a:lnTo>
                    <a:pt x="172" y="58"/>
                  </a:lnTo>
                  <a:lnTo>
                    <a:pt x="168" y="64"/>
                  </a:lnTo>
                  <a:lnTo>
                    <a:pt x="168" y="64"/>
                  </a:lnTo>
                  <a:lnTo>
                    <a:pt x="146" y="118"/>
                  </a:lnTo>
                  <a:lnTo>
                    <a:pt x="124" y="176"/>
                  </a:lnTo>
                  <a:lnTo>
                    <a:pt x="124" y="176"/>
                  </a:lnTo>
                  <a:lnTo>
                    <a:pt x="122" y="182"/>
                  </a:lnTo>
                  <a:lnTo>
                    <a:pt x="124" y="184"/>
                  </a:lnTo>
                  <a:lnTo>
                    <a:pt x="126" y="184"/>
                  </a:lnTo>
                  <a:lnTo>
                    <a:pt x="126" y="184"/>
                  </a:lnTo>
                  <a:lnTo>
                    <a:pt x="132" y="184"/>
                  </a:lnTo>
                  <a:lnTo>
                    <a:pt x="144" y="180"/>
                  </a:lnTo>
                  <a:lnTo>
                    <a:pt x="160" y="174"/>
                  </a:lnTo>
                  <a:lnTo>
                    <a:pt x="180" y="166"/>
                  </a:lnTo>
                  <a:lnTo>
                    <a:pt x="180" y="166"/>
                  </a:lnTo>
                  <a:lnTo>
                    <a:pt x="202" y="152"/>
                  </a:lnTo>
                  <a:lnTo>
                    <a:pt x="222" y="136"/>
                  </a:lnTo>
                  <a:lnTo>
                    <a:pt x="230" y="128"/>
                  </a:lnTo>
                  <a:lnTo>
                    <a:pt x="234" y="120"/>
                  </a:lnTo>
                  <a:lnTo>
                    <a:pt x="238" y="112"/>
                  </a:lnTo>
                  <a:lnTo>
                    <a:pt x="240" y="104"/>
                  </a:lnTo>
                  <a:lnTo>
                    <a:pt x="240" y="104"/>
                  </a:lnTo>
                  <a:close/>
                </a:path>
              </a:pathLst>
            </a:custGeom>
            <a:solidFill>
              <a:srgbClr val="871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49"/>
            <p:cNvSpPr/>
            <p:nvPr/>
          </p:nvSpPr>
          <p:spPr>
            <a:xfrm>
              <a:off x="9164520" y="6642000"/>
              <a:ext cx="441360" cy="5716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78" h="360">
                  <a:moveTo>
                    <a:pt x="278" y="36"/>
                  </a:moveTo>
                  <a:lnTo>
                    <a:pt x="278" y="36"/>
                  </a:lnTo>
                  <a:lnTo>
                    <a:pt x="276" y="44"/>
                  </a:lnTo>
                  <a:lnTo>
                    <a:pt x="270" y="52"/>
                  </a:lnTo>
                  <a:lnTo>
                    <a:pt x="262" y="62"/>
                  </a:lnTo>
                  <a:lnTo>
                    <a:pt x="250" y="72"/>
                  </a:lnTo>
                  <a:lnTo>
                    <a:pt x="250" y="72"/>
                  </a:lnTo>
                  <a:lnTo>
                    <a:pt x="210" y="102"/>
                  </a:lnTo>
                  <a:lnTo>
                    <a:pt x="182" y="126"/>
                  </a:lnTo>
                  <a:lnTo>
                    <a:pt x="150" y="152"/>
                  </a:lnTo>
                  <a:lnTo>
                    <a:pt x="150" y="152"/>
                  </a:lnTo>
                  <a:lnTo>
                    <a:pt x="126" y="174"/>
                  </a:lnTo>
                  <a:lnTo>
                    <a:pt x="110" y="192"/>
                  </a:lnTo>
                  <a:lnTo>
                    <a:pt x="98" y="210"/>
                  </a:lnTo>
                  <a:lnTo>
                    <a:pt x="90" y="226"/>
                  </a:lnTo>
                  <a:lnTo>
                    <a:pt x="90" y="226"/>
                  </a:lnTo>
                  <a:lnTo>
                    <a:pt x="82" y="258"/>
                  </a:lnTo>
                  <a:lnTo>
                    <a:pt x="74" y="298"/>
                  </a:lnTo>
                  <a:lnTo>
                    <a:pt x="74" y="298"/>
                  </a:lnTo>
                  <a:lnTo>
                    <a:pt x="74" y="304"/>
                  </a:lnTo>
                  <a:lnTo>
                    <a:pt x="74" y="308"/>
                  </a:lnTo>
                  <a:lnTo>
                    <a:pt x="76" y="310"/>
                  </a:lnTo>
                  <a:lnTo>
                    <a:pt x="80" y="312"/>
                  </a:lnTo>
                  <a:lnTo>
                    <a:pt x="80" y="312"/>
                  </a:lnTo>
                  <a:lnTo>
                    <a:pt x="100" y="316"/>
                  </a:lnTo>
                  <a:lnTo>
                    <a:pt x="116" y="320"/>
                  </a:lnTo>
                  <a:lnTo>
                    <a:pt x="128" y="326"/>
                  </a:lnTo>
                  <a:lnTo>
                    <a:pt x="130" y="328"/>
                  </a:lnTo>
                  <a:lnTo>
                    <a:pt x="132" y="332"/>
                  </a:lnTo>
                  <a:lnTo>
                    <a:pt x="132" y="332"/>
                  </a:lnTo>
                  <a:lnTo>
                    <a:pt x="130" y="334"/>
                  </a:lnTo>
                  <a:lnTo>
                    <a:pt x="128" y="336"/>
                  </a:lnTo>
                  <a:lnTo>
                    <a:pt x="120" y="338"/>
                  </a:lnTo>
                  <a:lnTo>
                    <a:pt x="110" y="340"/>
                  </a:lnTo>
                  <a:lnTo>
                    <a:pt x="94" y="342"/>
                  </a:lnTo>
                  <a:lnTo>
                    <a:pt x="94" y="342"/>
                  </a:lnTo>
                  <a:lnTo>
                    <a:pt x="72" y="344"/>
                  </a:lnTo>
                  <a:lnTo>
                    <a:pt x="56" y="346"/>
                  </a:lnTo>
                  <a:lnTo>
                    <a:pt x="48" y="350"/>
                  </a:lnTo>
                  <a:lnTo>
                    <a:pt x="42" y="354"/>
                  </a:lnTo>
                  <a:lnTo>
                    <a:pt x="42" y="354"/>
                  </a:lnTo>
                  <a:lnTo>
                    <a:pt x="36" y="360"/>
                  </a:lnTo>
                  <a:lnTo>
                    <a:pt x="28" y="360"/>
                  </a:lnTo>
                  <a:lnTo>
                    <a:pt x="28" y="360"/>
                  </a:lnTo>
                  <a:lnTo>
                    <a:pt x="20" y="360"/>
                  </a:lnTo>
                  <a:lnTo>
                    <a:pt x="12" y="358"/>
                  </a:lnTo>
                  <a:lnTo>
                    <a:pt x="6" y="354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0" y="342"/>
                  </a:lnTo>
                  <a:lnTo>
                    <a:pt x="0" y="334"/>
                  </a:lnTo>
                  <a:lnTo>
                    <a:pt x="6" y="326"/>
                  </a:lnTo>
                  <a:lnTo>
                    <a:pt x="18" y="320"/>
                  </a:lnTo>
                  <a:lnTo>
                    <a:pt x="18" y="320"/>
                  </a:lnTo>
                  <a:lnTo>
                    <a:pt x="24" y="316"/>
                  </a:lnTo>
                  <a:lnTo>
                    <a:pt x="28" y="312"/>
                  </a:lnTo>
                  <a:lnTo>
                    <a:pt x="30" y="308"/>
                  </a:lnTo>
                  <a:lnTo>
                    <a:pt x="32" y="302"/>
                  </a:lnTo>
                  <a:lnTo>
                    <a:pt x="32" y="302"/>
                  </a:lnTo>
                  <a:lnTo>
                    <a:pt x="48" y="238"/>
                  </a:lnTo>
                  <a:lnTo>
                    <a:pt x="48" y="238"/>
                  </a:lnTo>
                  <a:lnTo>
                    <a:pt x="50" y="224"/>
                  </a:lnTo>
                  <a:lnTo>
                    <a:pt x="52" y="210"/>
                  </a:lnTo>
                  <a:lnTo>
                    <a:pt x="52" y="196"/>
                  </a:lnTo>
                  <a:lnTo>
                    <a:pt x="48" y="182"/>
                  </a:lnTo>
                  <a:lnTo>
                    <a:pt x="48" y="182"/>
                  </a:lnTo>
                  <a:lnTo>
                    <a:pt x="42" y="160"/>
                  </a:lnTo>
                  <a:lnTo>
                    <a:pt x="32" y="128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4" y="44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6" y="22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30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2"/>
                  </a:lnTo>
                  <a:lnTo>
                    <a:pt x="50" y="4"/>
                  </a:lnTo>
                  <a:lnTo>
                    <a:pt x="50" y="1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30"/>
                  </a:lnTo>
                  <a:lnTo>
                    <a:pt x="52" y="46"/>
                  </a:lnTo>
                  <a:lnTo>
                    <a:pt x="58" y="86"/>
                  </a:lnTo>
                  <a:lnTo>
                    <a:pt x="68" y="126"/>
                  </a:lnTo>
                  <a:lnTo>
                    <a:pt x="80" y="158"/>
                  </a:lnTo>
                  <a:lnTo>
                    <a:pt x="80" y="158"/>
                  </a:lnTo>
                  <a:lnTo>
                    <a:pt x="82" y="160"/>
                  </a:lnTo>
                  <a:lnTo>
                    <a:pt x="84" y="162"/>
                  </a:lnTo>
                  <a:lnTo>
                    <a:pt x="90" y="158"/>
                  </a:lnTo>
                  <a:lnTo>
                    <a:pt x="90" y="158"/>
                  </a:lnTo>
                  <a:lnTo>
                    <a:pt x="116" y="138"/>
                  </a:lnTo>
                  <a:lnTo>
                    <a:pt x="150" y="112"/>
                  </a:lnTo>
                  <a:lnTo>
                    <a:pt x="184" y="86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20" y="54"/>
                  </a:lnTo>
                  <a:lnTo>
                    <a:pt x="228" y="40"/>
                  </a:lnTo>
                  <a:lnTo>
                    <a:pt x="230" y="28"/>
                  </a:lnTo>
                  <a:lnTo>
                    <a:pt x="232" y="18"/>
                  </a:lnTo>
                  <a:lnTo>
                    <a:pt x="232" y="18"/>
                  </a:lnTo>
                  <a:lnTo>
                    <a:pt x="234" y="12"/>
                  </a:lnTo>
                  <a:lnTo>
                    <a:pt x="236" y="6"/>
                  </a:lnTo>
                  <a:lnTo>
                    <a:pt x="240" y="4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52" y="2"/>
                  </a:lnTo>
                  <a:lnTo>
                    <a:pt x="258" y="4"/>
                  </a:lnTo>
                  <a:lnTo>
                    <a:pt x="268" y="12"/>
                  </a:lnTo>
                  <a:lnTo>
                    <a:pt x="274" y="22"/>
                  </a:lnTo>
                  <a:lnTo>
                    <a:pt x="276" y="28"/>
                  </a:lnTo>
                  <a:lnTo>
                    <a:pt x="278" y="34"/>
                  </a:lnTo>
                  <a:lnTo>
                    <a:pt x="278" y="36"/>
                  </a:lnTo>
                  <a:close/>
                </a:path>
              </a:pathLst>
            </a:custGeom>
            <a:solidFill>
              <a:srgbClr val="871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50"/>
            <p:cNvSpPr/>
            <p:nvPr/>
          </p:nvSpPr>
          <p:spPr>
            <a:xfrm>
              <a:off x="5719680" y="6606720"/>
              <a:ext cx="476280" cy="7434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743400"/>
                <a:gd name="textAreaBottom" fmla="*/ 743760 h 743400"/>
              </a:gdLst>
              <a:ahLst/>
              <a:rect l="textAreaLeft" t="textAreaTop" r="textAreaRight" b="textAreaBottom"/>
              <a:pathLst>
                <a:path w="300" h="468">
                  <a:moveTo>
                    <a:pt x="276" y="0"/>
                  </a:moveTo>
                  <a:lnTo>
                    <a:pt x="276" y="0"/>
                  </a:lnTo>
                  <a:lnTo>
                    <a:pt x="282" y="2"/>
                  </a:lnTo>
                  <a:lnTo>
                    <a:pt x="290" y="6"/>
                  </a:lnTo>
                  <a:lnTo>
                    <a:pt x="294" y="10"/>
                  </a:lnTo>
                  <a:lnTo>
                    <a:pt x="298" y="16"/>
                  </a:lnTo>
                  <a:lnTo>
                    <a:pt x="298" y="16"/>
                  </a:lnTo>
                  <a:lnTo>
                    <a:pt x="300" y="22"/>
                  </a:lnTo>
                  <a:lnTo>
                    <a:pt x="298" y="28"/>
                  </a:lnTo>
                  <a:lnTo>
                    <a:pt x="296" y="34"/>
                  </a:lnTo>
                  <a:lnTo>
                    <a:pt x="292" y="40"/>
                  </a:lnTo>
                  <a:lnTo>
                    <a:pt x="292" y="40"/>
                  </a:lnTo>
                  <a:lnTo>
                    <a:pt x="284" y="48"/>
                  </a:lnTo>
                  <a:lnTo>
                    <a:pt x="280" y="60"/>
                  </a:lnTo>
                  <a:lnTo>
                    <a:pt x="280" y="60"/>
                  </a:lnTo>
                  <a:lnTo>
                    <a:pt x="274" y="76"/>
                  </a:lnTo>
                  <a:lnTo>
                    <a:pt x="266" y="106"/>
                  </a:lnTo>
                  <a:lnTo>
                    <a:pt x="230" y="232"/>
                  </a:lnTo>
                  <a:lnTo>
                    <a:pt x="230" y="232"/>
                  </a:lnTo>
                  <a:lnTo>
                    <a:pt x="212" y="294"/>
                  </a:lnTo>
                  <a:lnTo>
                    <a:pt x="194" y="346"/>
                  </a:lnTo>
                  <a:lnTo>
                    <a:pt x="184" y="366"/>
                  </a:lnTo>
                  <a:lnTo>
                    <a:pt x="174" y="386"/>
                  </a:lnTo>
                  <a:lnTo>
                    <a:pt x="164" y="402"/>
                  </a:lnTo>
                  <a:lnTo>
                    <a:pt x="154" y="414"/>
                  </a:lnTo>
                  <a:lnTo>
                    <a:pt x="154" y="414"/>
                  </a:lnTo>
                  <a:lnTo>
                    <a:pt x="144" y="424"/>
                  </a:lnTo>
                  <a:lnTo>
                    <a:pt x="134" y="432"/>
                  </a:lnTo>
                  <a:lnTo>
                    <a:pt x="116" y="444"/>
                  </a:lnTo>
                  <a:lnTo>
                    <a:pt x="102" y="450"/>
                  </a:lnTo>
                  <a:lnTo>
                    <a:pt x="92" y="454"/>
                  </a:lnTo>
                  <a:lnTo>
                    <a:pt x="92" y="454"/>
                  </a:lnTo>
                  <a:lnTo>
                    <a:pt x="70" y="464"/>
                  </a:lnTo>
                  <a:lnTo>
                    <a:pt x="70" y="464"/>
                  </a:lnTo>
                  <a:lnTo>
                    <a:pt x="62" y="466"/>
                  </a:lnTo>
                  <a:lnTo>
                    <a:pt x="52" y="468"/>
                  </a:lnTo>
                  <a:lnTo>
                    <a:pt x="52" y="468"/>
                  </a:lnTo>
                  <a:lnTo>
                    <a:pt x="44" y="466"/>
                  </a:lnTo>
                  <a:lnTo>
                    <a:pt x="36" y="464"/>
                  </a:lnTo>
                  <a:lnTo>
                    <a:pt x="16" y="454"/>
                  </a:lnTo>
                  <a:lnTo>
                    <a:pt x="16" y="454"/>
                  </a:lnTo>
                  <a:lnTo>
                    <a:pt x="10" y="450"/>
                  </a:lnTo>
                  <a:lnTo>
                    <a:pt x="4" y="444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0" y="430"/>
                  </a:lnTo>
                  <a:lnTo>
                    <a:pt x="0" y="426"/>
                  </a:lnTo>
                  <a:lnTo>
                    <a:pt x="2" y="422"/>
                  </a:lnTo>
                  <a:lnTo>
                    <a:pt x="8" y="418"/>
                  </a:lnTo>
                  <a:lnTo>
                    <a:pt x="16" y="414"/>
                  </a:lnTo>
                  <a:lnTo>
                    <a:pt x="24" y="414"/>
                  </a:lnTo>
                  <a:lnTo>
                    <a:pt x="24" y="414"/>
                  </a:lnTo>
                  <a:lnTo>
                    <a:pt x="32" y="414"/>
                  </a:lnTo>
                  <a:lnTo>
                    <a:pt x="42" y="418"/>
                  </a:lnTo>
                  <a:lnTo>
                    <a:pt x="58" y="424"/>
                  </a:lnTo>
                  <a:lnTo>
                    <a:pt x="58" y="424"/>
                  </a:lnTo>
                  <a:lnTo>
                    <a:pt x="66" y="428"/>
                  </a:lnTo>
                  <a:lnTo>
                    <a:pt x="76" y="430"/>
                  </a:lnTo>
                  <a:lnTo>
                    <a:pt x="76" y="430"/>
                  </a:lnTo>
                  <a:lnTo>
                    <a:pt x="84" y="428"/>
                  </a:lnTo>
                  <a:lnTo>
                    <a:pt x="92" y="426"/>
                  </a:lnTo>
                  <a:lnTo>
                    <a:pt x="102" y="420"/>
                  </a:lnTo>
                  <a:lnTo>
                    <a:pt x="112" y="412"/>
                  </a:lnTo>
                  <a:lnTo>
                    <a:pt x="112" y="412"/>
                  </a:lnTo>
                  <a:lnTo>
                    <a:pt x="122" y="400"/>
                  </a:lnTo>
                  <a:lnTo>
                    <a:pt x="132" y="386"/>
                  </a:lnTo>
                  <a:lnTo>
                    <a:pt x="142" y="366"/>
                  </a:lnTo>
                  <a:lnTo>
                    <a:pt x="154" y="340"/>
                  </a:lnTo>
                  <a:lnTo>
                    <a:pt x="154" y="340"/>
                  </a:lnTo>
                  <a:lnTo>
                    <a:pt x="170" y="290"/>
                  </a:lnTo>
                  <a:lnTo>
                    <a:pt x="188" y="234"/>
                  </a:lnTo>
                  <a:lnTo>
                    <a:pt x="236" y="62"/>
                  </a:lnTo>
                  <a:lnTo>
                    <a:pt x="236" y="62"/>
                  </a:lnTo>
                  <a:lnTo>
                    <a:pt x="236" y="56"/>
                  </a:lnTo>
                  <a:lnTo>
                    <a:pt x="232" y="56"/>
                  </a:lnTo>
                  <a:lnTo>
                    <a:pt x="232" y="56"/>
                  </a:lnTo>
                  <a:lnTo>
                    <a:pt x="222" y="54"/>
                  </a:lnTo>
                  <a:lnTo>
                    <a:pt x="214" y="50"/>
                  </a:lnTo>
                  <a:lnTo>
                    <a:pt x="206" y="44"/>
                  </a:lnTo>
                  <a:lnTo>
                    <a:pt x="204" y="42"/>
                  </a:lnTo>
                  <a:lnTo>
                    <a:pt x="204" y="38"/>
                  </a:lnTo>
                  <a:lnTo>
                    <a:pt x="204" y="38"/>
                  </a:lnTo>
                  <a:lnTo>
                    <a:pt x="204" y="34"/>
                  </a:lnTo>
                  <a:lnTo>
                    <a:pt x="206" y="30"/>
                  </a:lnTo>
                  <a:lnTo>
                    <a:pt x="212" y="26"/>
                  </a:lnTo>
                  <a:lnTo>
                    <a:pt x="212" y="26"/>
                  </a:lnTo>
                  <a:lnTo>
                    <a:pt x="232" y="22"/>
                  </a:lnTo>
                  <a:lnTo>
                    <a:pt x="232" y="22"/>
                  </a:lnTo>
                  <a:lnTo>
                    <a:pt x="240" y="20"/>
                  </a:lnTo>
                  <a:lnTo>
                    <a:pt x="246" y="18"/>
                  </a:lnTo>
                  <a:lnTo>
                    <a:pt x="252" y="14"/>
                  </a:lnTo>
                  <a:lnTo>
                    <a:pt x="258" y="8"/>
                  </a:lnTo>
                  <a:lnTo>
                    <a:pt x="258" y="8"/>
                  </a:lnTo>
                  <a:lnTo>
                    <a:pt x="266" y="2"/>
                  </a:lnTo>
                  <a:lnTo>
                    <a:pt x="274" y="0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51"/>
            <p:cNvSpPr/>
            <p:nvPr/>
          </p:nvSpPr>
          <p:spPr>
            <a:xfrm>
              <a:off x="6183000" y="6600600"/>
              <a:ext cx="479160" cy="55908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559080"/>
                <a:gd name="textAreaBottom" fmla="*/ 559440 h 559080"/>
              </a:gdLst>
              <a:ahLst/>
              <a:rect l="textAreaLeft" t="textAreaTop" r="textAreaRight" b="textAreaBottom"/>
              <a:pathLst>
                <a:path w="302" h="352">
                  <a:moveTo>
                    <a:pt x="236" y="22"/>
                  </a:moveTo>
                  <a:lnTo>
                    <a:pt x="236" y="22"/>
                  </a:lnTo>
                  <a:lnTo>
                    <a:pt x="254" y="22"/>
                  </a:lnTo>
                  <a:lnTo>
                    <a:pt x="270" y="26"/>
                  </a:lnTo>
                  <a:lnTo>
                    <a:pt x="284" y="30"/>
                  </a:lnTo>
                  <a:lnTo>
                    <a:pt x="294" y="36"/>
                  </a:lnTo>
                  <a:lnTo>
                    <a:pt x="294" y="36"/>
                  </a:lnTo>
                  <a:lnTo>
                    <a:pt x="300" y="42"/>
                  </a:lnTo>
                  <a:lnTo>
                    <a:pt x="302" y="46"/>
                  </a:lnTo>
                  <a:lnTo>
                    <a:pt x="302" y="50"/>
                  </a:lnTo>
                  <a:lnTo>
                    <a:pt x="300" y="52"/>
                  </a:lnTo>
                  <a:lnTo>
                    <a:pt x="300" y="52"/>
                  </a:lnTo>
                  <a:lnTo>
                    <a:pt x="298" y="54"/>
                  </a:lnTo>
                  <a:lnTo>
                    <a:pt x="294" y="54"/>
                  </a:lnTo>
                  <a:lnTo>
                    <a:pt x="282" y="52"/>
                  </a:lnTo>
                  <a:lnTo>
                    <a:pt x="282" y="52"/>
                  </a:lnTo>
                  <a:lnTo>
                    <a:pt x="260" y="52"/>
                  </a:lnTo>
                  <a:lnTo>
                    <a:pt x="230" y="50"/>
                  </a:lnTo>
                  <a:lnTo>
                    <a:pt x="230" y="50"/>
                  </a:lnTo>
                  <a:lnTo>
                    <a:pt x="198" y="52"/>
                  </a:lnTo>
                  <a:lnTo>
                    <a:pt x="166" y="56"/>
                  </a:lnTo>
                  <a:lnTo>
                    <a:pt x="166" y="56"/>
                  </a:lnTo>
                  <a:lnTo>
                    <a:pt x="158" y="56"/>
                  </a:lnTo>
                  <a:lnTo>
                    <a:pt x="152" y="60"/>
                  </a:lnTo>
                  <a:lnTo>
                    <a:pt x="150" y="66"/>
                  </a:lnTo>
                  <a:lnTo>
                    <a:pt x="146" y="74"/>
                  </a:lnTo>
                  <a:lnTo>
                    <a:pt x="146" y="74"/>
                  </a:lnTo>
                  <a:lnTo>
                    <a:pt x="122" y="154"/>
                  </a:lnTo>
                  <a:lnTo>
                    <a:pt x="122" y="154"/>
                  </a:lnTo>
                  <a:lnTo>
                    <a:pt x="122" y="158"/>
                  </a:lnTo>
                  <a:lnTo>
                    <a:pt x="122" y="160"/>
                  </a:lnTo>
                  <a:lnTo>
                    <a:pt x="124" y="162"/>
                  </a:lnTo>
                  <a:lnTo>
                    <a:pt x="126" y="162"/>
                  </a:lnTo>
                  <a:lnTo>
                    <a:pt x="126" y="162"/>
                  </a:lnTo>
                  <a:lnTo>
                    <a:pt x="152" y="166"/>
                  </a:lnTo>
                  <a:lnTo>
                    <a:pt x="190" y="166"/>
                  </a:lnTo>
                  <a:lnTo>
                    <a:pt x="190" y="166"/>
                  </a:lnTo>
                  <a:lnTo>
                    <a:pt x="222" y="164"/>
                  </a:lnTo>
                  <a:lnTo>
                    <a:pt x="254" y="158"/>
                  </a:lnTo>
                  <a:lnTo>
                    <a:pt x="254" y="158"/>
                  </a:lnTo>
                  <a:lnTo>
                    <a:pt x="258" y="160"/>
                  </a:lnTo>
                  <a:lnTo>
                    <a:pt x="260" y="162"/>
                  </a:lnTo>
                  <a:lnTo>
                    <a:pt x="256" y="168"/>
                  </a:lnTo>
                  <a:lnTo>
                    <a:pt x="250" y="174"/>
                  </a:lnTo>
                  <a:lnTo>
                    <a:pt x="250" y="174"/>
                  </a:lnTo>
                  <a:lnTo>
                    <a:pt x="242" y="180"/>
                  </a:lnTo>
                  <a:lnTo>
                    <a:pt x="232" y="186"/>
                  </a:lnTo>
                  <a:lnTo>
                    <a:pt x="220" y="190"/>
                  </a:lnTo>
                  <a:lnTo>
                    <a:pt x="208" y="192"/>
                  </a:lnTo>
                  <a:lnTo>
                    <a:pt x="208" y="192"/>
                  </a:lnTo>
                  <a:lnTo>
                    <a:pt x="172" y="196"/>
                  </a:lnTo>
                  <a:lnTo>
                    <a:pt x="118" y="198"/>
                  </a:lnTo>
                  <a:lnTo>
                    <a:pt x="118" y="198"/>
                  </a:lnTo>
                  <a:lnTo>
                    <a:pt x="112" y="200"/>
                  </a:lnTo>
                  <a:lnTo>
                    <a:pt x="110" y="200"/>
                  </a:lnTo>
                  <a:lnTo>
                    <a:pt x="106" y="208"/>
                  </a:lnTo>
                  <a:lnTo>
                    <a:pt x="106" y="208"/>
                  </a:lnTo>
                  <a:lnTo>
                    <a:pt x="70" y="304"/>
                  </a:lnTo>
                  <a:lnTo>
                    <a:pt x="70" y="304"/>
                  </a:lnTo>
                  <a:lnTo>
                    <a:pt x="70" y="308"/>
                  </a:lnTo>
                  <a:lnTo>
                    <a:pt x="70" y="312"/>
                  </a:lnTo>
                  <a:lnTo>
                    <a:pt x="72" y="314"/>
                  </a:lnTo>
                  <a:lnTo>
                    <a:pt x="78" y="316"/>
                  </a:lnTo>
                  <a:lnTo>
                    <a:pt x="78" y="316"/>
                  </a:lnTo>
                  <a:lnTo>
                    <a:pt x="106" y="318"/>
                  </a:lnTo>
                  <a:lnTo>
                    <a:pt x="152" y="318"/>
                  </a:lnTo>
                  <a:lnTo>
                    <a:pt x="152" y="318"/>
                  </a:lnTo>
                  <a:lnTo>
                    <a:pt x="190" y="318"/>
                  </a:lnTo>
                  <a:lnTo>
                    <a:pt x="218" y="314"/>
                  </a:lnTo>
                  <a:lnTo>
                    <a:pt x="244" y="308"/>
                  </a:lnTo>
                  <a:lnTo>
                    <a:pt x="270" y="300"/>
                  </a:lnTo>
                  <a:lnTo>
                    <a:pt x="270" y="300"/>
                  </a:lnTo>
                  <a:lnTo>
                    <a:pt x="276" y="298"/>
                  </a:lnTo>
                  <a:lnTo>
                    <a:pt x="278" y="300"/>
                  </a:lnTo>
                  <a:lnTo>
                    <a:pt x="278" y="304"/>
                  </a:lnTo>
                  <a:lnTo>
                    <a:pt x="272" y="310"/>
                  </a:lnTo>
                  <a:lnTo>
                    <a:pt x="272" y="310"/>
                  </a:lnTo>
                  <a:lnTo>
                    <a:pt x="254" y="320"/>
                  </a:lnTo>
                  <a:lnTo>
                    <a:pt x="238" y="330"/>
                  </a:lnTo>
                  <a:lnTo>
                    <a:pt x="220" y="338"/>
                  </a:lnTo>
                  <a:lnTo>
                    <a:pt x="202" y="344"/>
                  </a:lnTo>
                  <a:lnTo>
                    <a:pt x="182" y="348"/>
                  </a:lnTo>
                  <a:lnTo>
                    <a:pt x="160" y="350"/>
                  </a:lnTo>
                  <a:lnTo>
                    <a:pt x="136" y="352"/>
                  </a:lnTo>
                  <a:lnTo>
                    <a:pt x="108" y="352"/>
                  </a:lnTo>
                  <a:lnTo>
                    <a:pt x="108" y="352"/>
                  </a:lnTo>
                  <a:lnTo>
                    <a:pt x="44" y="350"/>
                  </a:lnTo>
                  <a:lnTo>
                    <a:pt x="44" y="350"/>
                  </a:lnTo>
                  <a:lnTo>
                    <a:pt x="28" y="350"/>
                  </a:lnTo>
                  <a:lnTo>
                    <a:pt x="14" y="346"/>
                  </a:lnTo>
                  <a:lnTo>
                    <a:pt x="4" y="342"/>
                  </a:lnTo>
                  <a:lnTo>
                    <a:pt x="0" y="340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2" y="330"/>
                  </a:lnTo>
                  <a:lnTo>
                    <a:pt x="10" y="322"/>
                  </a:lnTo>
                  <a:lnTo>
                    <a:pt x="18" y="316"/>
                  </a:lnTo>
                  <a:lnTo>
                    <a:pt x="24" y="312"/>
                  </a:lnTo>
                  <a:lnTo>
                    <a:pt x="24" y="312"/>
                  </a:lnTo>
                  <a:lnTo>
                    <a:pt x="26" y="310"/>
                  </a:lnTo>
                  <a:lnTo>
                    <a:pt x="30" y="304"/>
                  </a:lnTo>
                  <a:lnTo>
                    <a:pt x="30" y="304"/>
                  </a:lnTo>
                  <a:lnTo>
                    <a:pt x="46" y="264"/>
                  </a:lnTo>
                  <a:lnTo>
                    <a:pt x="64" y="208"/>
                  </a:lnTo>
                  <a:lnTo>
                    <a:pt x="64" y="208"/>
                  </a:lnTo>
                  <a:lnTo>
                    <a:pt x="66" y="198"/>
                  </a:lnTo>
                  <a:lnTo>
                    <a:pt x="64" y="196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4" y="186"/>
                  </a:lnTo>
                  <a:lnTo>
                    <a:pt x="52" y="180"/>
                  </a:lnTo>
                  <a:lnTo>
                    <a:pt x="52" y="180"/>
                  </a:lnTo>
                  <a:lnTo>
                    <a:pt x="52" y="176"/>
                  </a:lnTo>
                  <a:lnTo>
                    <a:pt x="52" y="174"/>
                  </a:lnTo>
                  <a:lnTo>
                    <a:pt x="54" y="172"/>
                  </a:lnTo>
                  <a:lnTo>
                    <a:pt x="60" y="170"/>
                  </a:lnTo>
                  <a:lnTo>
                    <a:pt x="60" y="170"/>
                  </a:lnTo>
                  <a:lnTo>
                    <a:pt x="70" y="166"/>
                  </a:lnTo>
                  <a:lnTo>
                    <a:pt x="76" y="162"/>
                  </a:lnTo>
                  <a:lnTo>
                    <a:pt x="80" y="158"/>
                  </a:lnTo>
                  <a:lnTo>
                    <a:pt x="82" y="152"/>
                  </a:lnTo>
                  <a:lnTo>
                    <a:pt x="82" y="152"/>
                  </a:lnTo>
                  <a:lnTo>
                    <a:pt x="102" y="80"/>
                  </a:lnTo>
                  <a:lnTo>
                    <a:pt x="102" y="80"/>
                  </a:lnTo>
                  <a:lnTo>
                    <a:pt x="104" y="74"/>
                  </a:lnTo>
                  <a:lnTo>
                    <a:pt x="104" y="70"/>
                  </a:lnTo>
                  <a:lnTo>
                    <a:pt x="102" y="66"/>
                  </a:lnTo>
                  <a:lnTo>
                    <a:pt x="98" y="64"/>
                  </a:lnTo>
                  <a:lnTo>
                    <a:pt x="98" y="64"/>
                  </a:lnTo>
                  <a:lnTo>
                    <a:pt x="90" y="56"/>
                  </a:lnTo>
                  <a:lnTo>
                    <a:pt x="86" y="52"/>
                  </a:lnTo>
                  <a:lnTo>
                    <a:pt x="86" y="48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96" y="38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12" y="32"/>
                  </a:lnTo>
                  <a:lnTo>
                    <a:pt x="116" y="26"/>
                  </a:lnTo>
                  <a:lnTo>
                    <a:pt x="124" y="10"/>
                  </a:lnTo>
                  <a:lnTo>
                    <a:pt x="124" y="10"/>
                  </a:lnTo>
                  <a:lnTo>
                    <a:pt x="126" y="4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40" y="0"/>
                  </a:lnTo>
                  <a:lnTo>
                    <a:pt x="144" y="4"/>
                  </a:lnTo>
                  <a:lnTo>
                    <a:pt x="152" y="16"/>
                  </a:lnTo>
                  <a:lnTo>
                    <a:pt x="152" y="16"/>
                  </a:lnTo>
                  <a:lnTo>
                    <a:pt x="156" y="18"/>
                  </a:lnTo>
                  <a:lnTo>
                    <a:pt x="158" y="20"/>
                  </a:lnTo>
                  <a:lnTo>
                    <a:pt x="168" y="22"/>
                  </a:lnTo>
                  <a:lnTo>
                    <a:pt x="236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52"/>
            <p:cNvSpPr/>
            <p:nvPr/>
          </p:nvSpPr>
          <p:spPr>
            <a:xfrm>
              <a:off x="6767280" y="6606720"/>
              <a:ext cx="736560" cy="5590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559080"/>
                <a:gd name="textAreaBottom" fmla="*/ 559440 h 559080"/>
              </a:gdLst>
              <a:ahLst/>
              <a:rect l="textAreaLeft" t="textAreaTop" r="textAreaRight" b="textAreaBottom"/>
              <a:pathLst>
                <a:path w="464" h="352">
                  <a:moveTo>
                    <a:pt x="50" y="6"/>
                  </a:moveTo>
                  <a:lnTo>
                    <a:pt x="50" y="6"/>
                  </a:lnTo>
                  <a:lnTo>
                    <a:pt x="54" y="8"/>
                  </a:lnTo>
                  <a:lnTo>
                    <a:pt x="58" y="10"/>
                  </a:lnTo>
                  <a:lnTo>
                    <a:pt x="60" y="14"/>
                  </a:lnTo>
                  <a:lnTo>
                    <a:pt x="62" y="20"/>
                  </a:lnTo>
                  <a:lnTo>
                    <a:pt x="64" y="26"/>
                  </a:lnTo>
                  <a:lnTo>
                    <a:pt x="64" y="36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52" y="86"/>
                  </a:lnTo>
                  <a:lnTo>
                    <a:pt x="46" y="122"/>
                  </a:lnTo>
                  <a:lnTo>
                    <a:pt x="40" y="162"/>
                  </a:lnTo>
                  <a:lnTo>
                    <a:pt x="38" y="204"/>
                  </a:lnTo>
                  <a:lnTo>
                    <a:pt x="38" y="204"/>
                  </a:lnTo>
                  <a:lnTo>
                    <a:pt x="36" y="236"/>
                  </a:lnTo>
                  <a:lnTo>
                    <a:pt x="38" y="254"/>
                  </a:lnTo>
                  <a:lnTo>
                    <a:pt x="38" y="254"/>
                  </a:lnTo>
                  <a:lnTo>
                    <a:pt x="38" y="258"/>
                  </a:lnTo>
                  <a:lnTo>
                    <a:pt x="40" y="260"/>
                  </a:lnTo>
                  <a:lnTo>
                    <a:pt x="44" y="260"/>
                  </a:lnTo>
                  <a:lnTo>
                    <a:pt x="48" y="256"/>
                  </a:lnTo>
                  <a:lnTo>
                    <a:pt x="48" y="256"/>
                  </a:lnTo>
                  <a:lnTo>
                    <a:pt x="78" y="222"/>
                  </a:lnTo>
                  <a:lnTo>
                    <a:pt x="118" y="178"/>
                  </a:lnTo>
                  <a:lnTo>
                    <a:pt x="178" y="114"/>
                  </a:lnTo>
                  <a:lnTo>
                    <a:pt x="178" y="114"/>
                  </a:lnTo>
                  <a:lnTo>
                    <a:pt x="188" y="100"/>
                  </a:lnTo>
                  <a:lnTo>
                    <a:pt x="194" y="88"/>
                  </a:lnTo>
                  <a:lnTo>
                    <a:pt x="198" y="78"/>
                  </a:lnTo>
                  <a:lnTo>
                    <a:pt x="198" y="68"/>
                  </a:lnTo>
                  <a:lnTo>
                    <a:pt x="198" y="68"/>
                  </a:lnTo>
                  <a:lnTo>
                    <a:pt x="204" y="50"/>
                  </a:lnTo>
                  <a:lnTo>
                    <a:pt x="210" y="34"/>
                  </a:lnTo>
                  <a:lnTo>
                    <a:pt x="214" y="26"/>
                  </a:lnTo>
                  <a:lnTo>
                    <a:pt x="220" y="22"/>
                  </a:lnTo>
                  <a:lnTo>
                    <a:pt x="226" y="18"/>
                  </a:lnTo>
                  <a:lnTo>
                    <a:pt x="232" y="18"/>
                  </a:lnTo>
                  <a:lnTo>
                    <a:pt x="232" y="18"/>
                  </a:lnTo>
                  <a:lnTo>
                    <a:pt x="242" y="20"/>
                  </a:lnTo>
                  <a:lnTo>
                    <a:pt x="254" y="26"/>
                  </a:lnTo>
                  <a:lnTo>
                    <a:pt x="262" y="36"/>
                  </a:lnTo>
                  <a:lnTo>
                    <a:pt x="266" y="42"/>
                  </a:lnTo>
                  <a:lnTo>
                    <a:pt x="266" y="46"/>
                  </a:lnTo>
                  <a:lnTo>
                    <a:pt x="266" y="46"/>
                  </a:lnTo>
                  <a:lnTo>
                    <a:pt x="264" y="54"/>
                  </a:lnTo>
                  <a:lnTo>
                    <a:pt x="260" y="58"/>
                  </a:lnTo>
                  <a:lnTo>
                    <a:pt x="260" y="58"/>
                  </a:lnTo>
                  <a:lnTo>
                    <a:pt x="254" y="64"/>
                  </a:lnTo>
                  <a:lnTo>
                    <a:pt x="246" y="70"/>
                  </a:lnTo>
                  <a:lnTo>
                    <a:pt x="246" y="70"/>
                  </a:lnTo>
                  <a:lnTo>
                    <a:pt x="240" y="82"/>
                  </a:lnTo>
                  <a:lnTo>
                    <a:pt x="234" y="96"/>
                  </a:lnTo>
                  <a:lnTo>
                    <a:pt x="230" y="120"/>
                  </a:lnTo>
                  <a:lnTo>
                    <a:pt x="228" y="154"/>
                  </a:lnTo>
                  <a:lnTo>
                    <a:pt x="228" y="154"/>
                  </a:lnTo>
                  <a:lnTo>
                    <a:pt x="226" y="192"/>
                  </a:lnTo>
                  <a:lnTo>
                    <a:pt x="228" y="220"/>
                  </a:lnTo>
                  <a:lnTo>
                    <a:pt x="230" y="242"/>
                  </a:lnTo>
                  <a:lnTo>
                    <a:pt x="232" y="262"/>
                  </a:lnTo>
                  <a:lnTo>
                    <a:pt x="232" y="262"/>
                  </a:lnTo>
                  <a:lnTo>
                    <a:pt x="234" y="268"/>
                  </a:lnTo>
                  <a:lnTo>
                    <a:pt x="236" y="268"/>
                  </a:lnTo>
                  <a:lnTo>
                    <a:pt x="242" y="266"/>
                  </a:lnTo>
                  <a:lnTo>
                    <a:pt x="248" y="260"/>
                  </a:lnTo>
                  <a:lnTo>
                    <a:pt x="248" y="260"/>
                  </a:lnTo>
                  <a:lnTo>
                    <a:pt x="282" y="220"/>
                  </a:lnTo>
                  <a:lnTo>
                    <a:pt x="324" y="176"/>
                  </a:lnTo>
                  <a:lnTo>
                    <a:pt x="388" y="110"/>
                  </a:lnTo>
                  <a:lnTo>
                    <a:pt x="388" y="110"/>
                  </a:lnTo>
                  <a:lnTo>
                    <a:pt x="400" y="94"/>
                  </a:lnTo>
                  <a:lnTo>
                    <a:pt x="410" y="80"/>
                  </a:lnTo>
                  <a:lnTo>
                    <a:pt x="414" y="70"/>
                  </a:lnTo>
                  <a:lnTo>
                    <a:pt x="414" y="62"/>
                  </a:lnTo>
                  <a:lnTo>
                    <a:pt x="414" y="62"/>
                  </a:lnTo>
                  <a:lnTo>
                    <a:pt x="414" y="52"/>
                  </a:lnTo>
                  <a:lnTo>
                    <a:pt x="412" y="46"/>
                  </a:lnTo>
                  <a:lnTo>
                    <a:pt x="408" y="40"/>
                  </a:lnTo>
                  <a:lnTo>
                    <a:pt x="408" y="40"/>
                  </a:lnTo>
                  <a:lnTo>
                    <a:pt x="404" y="34"/>
                  </a:lnTo>
                  <a:lnTo>
                    <a:pt x="406" y="28"/>
                  </a:lnTo>
                  <a:lnTo>
                    <a:pt x="410" y="20"/>
                  </a:lnTo>
                  <a:lnTo>
                    <a:pt x="416" y="14"/>
                  </a:lnTo>
                  <a:lnTo>
                    <a:pt x="416" y="14"/>
                  </a:lnTo>
                  <a:lnTo>
                    <a:pt x="422" y="8"/>
                  </a:lnTo>
                  <a:lnTo>
                    <a:pt x="428" y="4"/>
                  </a:lnTo>
                  <a:lnTo>
                    <a:pt x="436" y="0"/>
                  </a:lnTo>
                  <a:lnTo>
                    <a:pt x="440" y="0"/>
                  </a:lnTo>
                  <a:lnTo>
                    <a:pt x="440" y="0"/>
                  </a:lnTo>
                  <a:lnTo>
                    <a:pt x="446" y="0"/>
                  </a:lnTo>
                  <a:lnTo>
                    <a:pt x="450" y="4"/>
                  </a:lnTo>
                  <a:lnTo>
                    <a:pt x="454" y="6"/>
                  </a:lnTo>
                  <a:lnTo>
                    <a:pt x="458" y="12"/>
                  </a:lnTo>
                  <a:lnTo>
                    <a:pt x="462" y="22"/>
                  </a:lnTo>
                  <a:lnTo>
                    <a:pt x="464" y="32"/>
                  </a:lnTo>
                  <a:lnTo>
                    <a:pt x="464" y="32"/>
                  </a:lnTo>
                  <a:lnTo>
                    <a:pt x="462" y="46"/>
                  </a:lnTo>
                  <a:lnTo>
                    <a:pt x="458" y="58"/>
                  </a:lnTo>
                  <a:lnTo>
                    <a:pt x="450" y="74"/>
                  </a:lnTo>
                  <a:lnTo>
                    <a:pt x="440" y="88"/>
                  </a:lnTo>
                  <a:lnTo>
                    <a:pt x="440" y="88"/>
                  </a:lnTo>
                  <a:lnTo>
                    <a:pt x="416" y="120"/>
                  </a:lnTo>
                  <a:lnTo>
                    <a:pt x="390" y="152"/>
                  </a:lnTo>
                  <a:lnTo>
                    <a:pt x="318" y="232"/>
                  </a:lnTo>
                  <a:lnTo>
                    <a:pt x="318" y="232"/>
                  </a:lnTo>
                  <a:lnTo>
                    <a:pt x="286" y="272"/>
                  </a:lnTo>
                  <a:lnTo>
                    <a:pt x="264" y="300"/>
                  </a:lnTo>
                  <a:lnTo>
                    <a:pt x="252" y="322"/>
                  </a:lnTo>
                  <a:lnTo>
                    <a:pt x="246" y="338"/>
                  </a:lnTo>
                  <a:lnTo>
                    <a:pt x="246" y="338"/>
                  </a:lnTo>
                  <a:lnTo>
                    <a:pt x="244" y="344"/>
                  </a:lnTo>
                  <a:lnTo>
                    <a:pt x="240" y="348"/>
                  </a:lnTo>
                  <a:lnTo>
                    <a:pt x="234" y="352"/>
                  </a:lnTo>
                  <a:lnTo>
                    <a:pt x="228" y="352"/>
                  </a:lnTo>
                  <a:lnTo>
                    <a:pt x="228" y="352"/>
                  </a:lnTo>
                  <a:lnTo>
                    <a:pt x="220" y="350"/>
                  </a:lnTo>
                  <a:lnTo>
                    <a:pt x="214" y="344"/>
                  </a:lnTo>
                  <a:lnTo>
                    <a:pt x="206" y="330"/>
                  </a:lnTo>
                  <a:lnTo>
                    <a:pt x="202" y="310"/>
                  </a:lnTo>
                  <a:lnTo>
                    <a:pt x="202" y="310"/>
                  </a:lnTo>
                  <a:lnTo>
                    <a:pt x="194" y="264"/>
                  </a:lnTo>
                  <a:lnTo>
                    <a:pt x="192" y="232"/>
                  </a:lnTo>
                  <a:lnTo>
                    <a:pt x="190" y="192"/>
                  </a:lnTo>
                  <a:lnTo>
                    <a:pt x="190" y="192"/>
                  </a:lnTo>
                  <a:lnTo>
                    <a:pt x="188" y="164"/>
                  </a:lnTo>
                  <a:lnTo>
                    <a:pt x="188" y="164"/>
                  </a:lnTo>
                  <a:lnTo>
                    <a:pt x="188" y="158"/>
                  </a:lnTo>
                  <a:lnTo>
                    <a:pt x="186" y="156"/>
                  </a:lnTo>
                  <a:lnTo>
                    <a:pt x="182" y="156"/>
                  </a:lnTo>
                  <a:lnTo>
                    <a:pt x="178" y="160"/>
                  </a:lnTo>
                  <a:lnTo>
                    <a:pt x="178" y="160"/>
                  </a:lnTo>
                  <a:lnTo>
                    <a:pt x="152" y="186"/>
                  </a:lnTo>
                  <a:lnTo>
                    <a:pt x="114" y="228"/>
                  </a:lnTo>
                  <a:lnTo>
                    <a:pt x="78" y="272"/>
                  </a:lnTo>
                  <a:lnTo>
                    <a:pt x="52" y="304"/>
                  </a:lnTo>
                  <a:lnTo>
                    <a:pt x="52" y="304"/>
                  </a:lnTo>
                  <a:lnTo>
                    <a:pt x="46" y="316"/>
                  </a:lnTo>
                  <a:lnTo>
                    <a:pt x="42" y="330"/>
                  </a:lnTo>
                  <a:lnTo>
                    <a:pt x="42" y="330"/>
                  </a:lnTo>
                  <a:lnTo>
                    <a:pt x="40" y="336"/>
                  </a:lnTo>
                  <a:lnTo>
                    <a:pt x="38" y="342"/>
                  </a:lnTo>
                  <a:lnTo>
                    <a:pt x="28" y="348"/>
                  </a:lnTo>
                  <a:lnTo>
                    <a:pt x="28" y="348"/>
                  </a:lnTo>
                  <a:lnTo>
                    <a:pt x="26" y="350"/>
                  </a:lnTo>
                  <a:lnTo>
                    <a:pt x="20" y="352"/>
                  </a:lnTo>
                  <a:lnTo>
                    <a:pt x="20" y="352"/>
                  </a:lnTo>
                  <a:lnTo>
                    <a:pt x="14" y="350"/>
                  </a:lnTo>
                  <a:lnTo>
                    <a:pt x="8" y="344"/>
                  </a:lnTo>
                  <a:lnTo>
                    <a:pt x="2" y="334"/>
                  </a:lnTo>
                  <a:lnTo>
                    <a:pt x="0" y="324"/>
                  </a:lnTo>
                  <a:lnTo>
                    <a:pt x="0" y="324"/>
                  </a:lnTo>
                  <a:lnTo>
                    <a:pt x="0" y="218"/>
                  </a:lnTo>
                  <a:lnTo>
                    <a:pt x="4" y="162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12" y="70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0"/>
                  </a:lnTo>
                  <a:lnTo>
                    <a:pt x="12" y="34"/>
                  </a:lnTo>
                  <a:lnTo>
                    <a:pt x="16" y="28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36" y="12"/>
                  </a:lnTo>
                  <a:lnTo>
                    <a:pt x="42" y="8"/>
                  </a:lnTo>
                  <a:lnTo>
                    <a:pt x="48" y="6"/>
                  </a:lnTo>
                  <a:lnTo>
                    <a:pt x="5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53"/>
            <p:cNvSpPr/>
            <p:nvPr/>
          </p:nvSpPr>
          <p:spPr>
            <a:xfrm>
              <a:off x="7456320" y="6600600"/>
              <a:ext cx="479160" cy="55908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559080"/>
                <a:gd name="textAreaBottom" fmla="*/ 559440 h 559080"/>
              </a:gdLst>
              <a:ahLst/>
              <a:rect l="textAreaLeft" t="textAreaTop" r="textAreaRight" b="textAreaBottom"/>
              <a:pathLst>
                <a:path w="302" h="352">
                  <a:moveTo>
                    <a:pt x="238" y="22"/>
                  </a:moveTo>
                  <a:lnTo>
                    <a:pt x="238" y="22"/>
                  </a:lnTo>
                  <a:lnTo>
                    <a:pt x="256" y="22"/>
                  </a:lnTo>
                  <a:lnTo>
                    <a:pt x="272" y="26"/>
                  </a:lnTo>
                  <a:lnTo>
                    <a:pt x="284" y="30"/>
                  </a:lnTo>
                  <a:lnTo>
                    <a:pt x="296" y="36"/>
                  </a:lnTo>
                  <a:lnTo>
                    <a:pt x="296" y="36"/>
                  </a:lnTo>
                  <a:lnTo>
                    <a:pt x="300" y="42"/>
                  </a:lnTo>
                  <a:lnTo>
                    <a:pt x="302" y="46"/>
                  </a:lnTo>
                  <a:lnTo>
                    <a:pt x="302" y="50"/>
                  </a:lnTo>
                  <a:lnTo>
                    <a:pt x="300" y="52"/>
                  </a:lnTo>
                  <a:lnTo>
                    <a:pt x="300" y="52"/>
                  </a:lnTo>
                  <a:lnTo>
                    <a:pt x="298" y="54"/>
                  </a:lnTo>
                  <a:lnTo>
                    <a:pt x="294" y="54"/>
                  </a:lnTo>
                  <a:lnTo>
                    <a:pt x="284" y="52"/>
                  </a:lnTo>
                  <a:lnTo>
                    <a:pt x="284" y="52"/>
                  </a:lnTo>
                  <a:lnTo>
                    <a:pt x="262" y="52"/>
                  </a:lnTo>
                  <a:lnTo>
                    <a:pt x="230" y="50"/>
                  </a:lnTo>
                  <a:lnTo>
                    <a:pt x="230" y="50"/>
                  </a:lnTo>
                  <a:lnTo>
                    <a:pt x="198" y="52"/>
                  </a:lnTo>
                  <a:lnTo>
                    <a:pt x="168" y="56"/>
                  </a:lnTo>
                  <a:lnTo>
                    <a:pt x="168" y="56"/>
                  </a:lnTo>
                  <a:lnTo>
                    <a:pt x="158" y="56"/>
                  </a:lnTo>
                  <a:lnTo>
                    <a:pt x="154" y="60"/>
                  </a:lnTo>
                  <a:lnTo>
                    <a:pt x="150" y="66"/>
                  </a:lnTo>
                  <a:lnTo>
                    <a:pt x="146" y="74"/>
                  </a:lnTo>
                  <a:lnTo>
                    <a:pt x="146" y="74"/>
                  </a:lnTo>
                  <a:lnTo>
                    <a:pt x="124" y="154"/>
                  </a:lnTo>
                  <a:lnTo>
                    <a:pt x="124" y="154"/>
                  </a:lnTo>
                  <a:lnTo>
                    <a:pt x="122" y="158"/>
                  </a:lnTo>
                  <a:lnTo>
                    <a:pt x="122" y="160"/>
                  </a:lnTo>
                  <a:lnTo>
                    <a:pt x="124" y="162"/>
                  </a:lnTo>
                  <a:lnTo>
                    <a:pt x="128" y="162"/>
                  </a:lnTo>
                  <a:lnTo>
                    <a:pt x="128" y="162"/>
                  </a:lnTo>
                  <a:lnTo>
                    <a:pt x="154" y="166"/>
                  </a:lnTo>
                  <a:lnTo>
                    <a:pt x="192" y="166"/>
                  </a:lnTo>
                  <a:lnTo>
                    <a:pt x="192" y="166"/>
                  </a:lnTo>
                  <a:lnTo>
                    <a:pt x="224" y="164"/>
                  </a:lnTo>
                  <a:lnTo>
                    <a:pt x="254" y="158"/>
                  </a:lnTo>
                  <a:lnTo>
                    <a:pt x="254" y="158"/>
                  </a:lnTo>
                  <a:lnTo>
                    <a:pt x="260" y="160"/>
                  </a:lnTo>
                  <a:lnTo>
                    <a:pt x="260" y="162"/>
                  </a:lnTo>
                  <a:lnTo>
                    <a:pt x="256" y="168"/>
                  </a:lnTo>
                  <a:lnTo>
                    <a:pt x="250" y="174"/>
                  </a:lnTo>
                  <a:lnTo>
                    <a:pt x="250" y="174"/>
                  </a:lnTo>
                  <a:lnTo>
                    <a:pt x="242" y="180"/>
                  </a:lnTo>
                  <a:lnTo>
                    <a:pt x="232" y="186"/>
                  </a:lnTo>
                  <a:lnTo>
                    <a:pt x="220" y="190"/>
                  </a:lnTo>
                  <a:lnTo>
                    <a:pt x="210" y="192"/>
                  </a:lnTo>
                  <a:lnTo>
                    <a:pt x="210" y="192"/>
                  </a:lnTo>
                  <a:lnTo>
                    <a:pt x="172" y="196"/>
                  </a:lnTo>
                  <a:lnTo>
                    <a:pt x="118" y="198"/>
                  </a:lnTo>
                  <a:lnTo>
                    <a:pt x="118" y="198"/>
                  </a:lnTo>
                  <a:lnTo>
                    <a:pt x="114" y="200"/>
                  </a:lnTo>
                  <a:lnTo>
                    <a:pt x="110" y="200"/>
                  </a:lnTo>
                  <a:lnTo>
                    <a:pt x="108" y="208"/>
                  </a:lnTo>
                  <a:lnTo>
                    <a:pt x="108" y="208"/>
                  </a:lnTo>
                  <a:lnTo>
                    <a:pt x="72" y="304"/>
                  </a:lnTo>
                  <a:lnTo>
                    <a:pt x="72" y="304"/>
                  </a:lnTo>
                  <a:lnTo>
                    <a:pt x="70" y="308"/>
                  </a:lnTo>
                  <a:lnTo>
                    <a:pt x="70" y="312"/>
                  </a:lnTo>
                  <a:lnTo>
                    <a:pt x="74" y="314"/>
                  </a:lnTo>
                  <a:lnTo>
                    <a:pt x="78" y="316"/>
                  </a:lnTo>
                  <a:lnTo>
                    <a:pt x="78" y="316"/>
                  </a:lnTo>
                  <a:lnTo>
                    <a:pt x="106" y="318"/>
                  </a:lnTo>
                  <a:lnTo>
                    <a:pt x="152" y="318"/>
                  </a:lnTo>
                  <a:lnTo>
                    <a:pt x="152" y="318"/>
                  </a:lnTo>
                  <a:lnTo>
                    <a:pt x="190" y="318"/>
                  </a:lnTo>
                  <a:lnTo>
                    <a:pt x="220" y="314"/>
                  </a:lnTo>
                  <a:lnTo>
                    <a:pt x="244" y="308"/>
                  </a:lnTo>
                  <a:lnTo>
                    <a:pt x="270" y="300"/>
                  </a:lnTo>
                  <a:lnTo>
                    <a:pt x="270" y="300"/>
                  </a:lnTo>
                  <a:lnTo>
                    <a:pt x="276" y="298"/>
                  </a:lnTo>
                  <a:lnTo>
                    <a:pt x="280" y="300"/>
                  </a:lnTo>
                  <a:lnTo>
                    <a:pt x="278" y="304"/>
                  </a:lnTo>
                  <a:lnTo>
                    <a:pt x="272" y="310"/>
                  </a:lnTo>
                  <a:lnTo>
                    <a:pt x="272" y="310"/>
                  </a:lnTo>
                  <a:lnTo>
                    <a:pt x="256" y="320"/>
                  </a:lnTo>
                  <a:lnTo>
                    <a:pt x="238" y="330"/>
                  </a:lnTo>
                  <a:lnTo>
                    <a:pt x="220" y="338"/>
                  </a:lnTo>
                  <a:lnTo>
                    <a:pt x="202" y="344"/>
                  </a:lnTo>
                  <a:lnTo>
                    <a:pt x="182" y="348"/>
                  </a:lnTo>
                  <a:lnTo>
                    <a:pt x="160" y="350"/>
                  </a:lnTo>
                  <a:lnTo>
                    <a:pt x="136" y="352"/>
                  </a:lnTo>
                  <a:lnTo>
                    <a:pt x="108" y="352"/>
                  </a:lnTo>
                  <a:lnTo>
                    <a:pt x="108" y="352"/>
                  </a:lnTo>
                  <a:lnTo>
                    <a:pt x="46" y="350"/>
                  </a:lnTo>
                  <a:lnTo>
                    <a:pt x="46" y="350"/>
                  </a:lnTo>
                  <a:lnTo>
                    <a:pt x="28" y="350"/>
                  </a:lnTo>
                  <a:lnTo>
                    <a:pt x="14" y="346"/>
                  </a:lnTo>
                  <a:lnTo>
                    <a:pt x="4" y="342"/>
                  </a:lnTo>
                  <a:lnTo>
                    <a:pt x="2" y="340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4" y="330"/>
                  </a:lnTo>
                  <a:lnTo>
                    <a:pt x="10" y="322"/>
                  </a:lnTo>
                  <a:lnTo>
                    <a:pt x="18" y="316"/>
                  </a:lnTo>
                  <a:lnTo>
                    <a:pt x="24" y="312"/>
                  </a:lnTo>
                  <a:lnTo>
                    <a:pt x="24" y="312"/>
                  </a:lnTo>
                  <a:lnTo>
                    <a:pt x="28" y="310"/>
                  </a:lnTo>
                  <a:lnTo>
                    <a:pt x="32" y="304"/>
                  </a:lnTo>
                  <a:lnTo>
                    <a:pt x="32" y="304"/>
                  </a:lnTo>
                  <a:lnTo>
                    <a:pt x="46" y="264"/>
                  </a:lnTo>
                  <a:lnTo>
                    <a:pt x="64" y="208"/>
                  </a:lnTo>
                  <a:lnTo>
                    <a:pt x="64" y="208"/>
                  </a:lnTo>
                  <a:lnTo>
                    <a:pt x="66" y="198"/>
                  </a:lnTo>
                  <a:lnTo>
                    <a:pt x="64" y="196"/>
                  </a:lnTo>
                  <a:lnTo>
                    <a:pt x="62" y="194"/>
                  </a:lnTo>
                  <a:lnTo>
                    <a:pt x="62" y="194"/>
                  </a:lnTo>
                  <a:lnTo>
                    <a:pt x="54" y="186"/>
                  </a:lnTo>
                  <a:lnTo>
                    <a:pt x="52" y="180"/>
                  </a:lnTo>
                  <a:lnTo>
                    <a:pt x="52" y="180"/>
                  </a:lnTo>
                  <a:lnTo>
                    <a:pt x="52" y="176"/>
                  </a:lnTo>
                  <a:lnTo>
                    <a:pt x="52" y="174"/>
                  </a:lnTo>
                  <a:lnTo>
                    <a:pt x="56" y="172"/>
                  </a:lnTo>
                  <a:lnTo>
                    <a:pt x="60" y="170"/>
                  </a:lnTo>
                  <a:lnTo>
                    <a:pt x="60" y="170"/>
                  </a:lnTo>
                  <a:lnTo>
                    <a:pt x="70" y="166"/>
                  </a:lnTo>
                  <a:lnTo>
                    <a:pt x="76" y="162"/>
                  </a:lnTo>
                  <a:lnTo>
                    <a:pt x="80" y="158"/>
                  </a:lnTo>
                  <a:lnTo>
                    <a:pt x="82" y="152"/>
                  </a:lnTo>
                  <a:lnTo>
                    <a:pt x="82" y="152"/>
                  </a:lnTo>
                  <a:lnTo>
                    <a:pt x="104" y="80"/>
                  </a:lnTo>
                  <a:lnTo>
                    <a:pt x="104" y="80"/>
                  </a:lnTo>
                  <a:lnTo>
                    <a:pt x="104" y="74"/>
                  </a:lnTo>
                  <a:lnTo>
                    <a:pt x="104" y="70"/>
                  </a:lnTo>
                  <a:lnTo>
                    <a:pt x="102" y="66"/>
                  </a:lnTo>
                  <a:lnTo>
                    <a:pt x="100" y="64"/>
                  </a:lnTo>
                  <a:lnTo>
                    <a:pt x="100" y="64"/>
                  </a:lnTo>
                  <a:lnTo>
                    <a:pt x="90" y="56"/>
                  </a:lnTo>
                  <a:lnTo>
                    <a:pt x="86" y="52"/>
                  </a:lnTo>
                  <a:lnTo>
                    <a:pt x="86" y="48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96" y="38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14" y="32"/>
                  </a:lnTo>
                  <a:lnTo>
                    <a:pt x="118" y="26"/>
                  </a:lnTo>
                  <a:lnTo>
                    <a:pt x="124" y="10"/>
                  </a:lnTo>
                  <a:lnTo>
                    <a:pt x="124" y="10"/>
                  </a:lnTo>
                  <a:lnTo>
                    <a:pt x="128" y="4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40" y="0"/>
                  </a:lnTo>
                  <a:lnTo>
                    <a:pt x="146" y="4"/>
                  </a:lnTo>
                  <a:lnTo>
                    <a:pt x="154" y="16"/>
                  </a:lnTo>
                  <a:lnTo>
                    <a:pt x="154" y="16"/>
                  </a:lnTo>
                  <a:lnTo>
                    <a:pt x="156" y="18"/>
                  </a:lnTo>
                  <a:lnTo>
                    <a:pt x="158" y="20"/>
                  </a:lnTo>
                  <a:lnTo>
                    <a:pt x="168" y="22"/>
                  </a:lnTo>
                  <a:lnTo>
                    <a:pt x="238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54"/>
            <p:cNvSpPr/>
            <p:nvPr/>
          </p:nvSpPr>
          <p:spPr>
            <a:xfrm>
              <a:off x="7942320" y="6606720"/>
              <a:ext cx="428400" cy="5623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270" h="354">
                  <a:moveTo>
                    <a:pt x="168" y="320"/>
                  </a:moveTo>
                  <a:lnTo>
                    <a:pt x="168" y="320"/>
                  </a:lnTo>
                  <a:lnTo>
                    <a:pt x="194" y="318"/>
                  </a:lnTo>
                  <a:lnTo>
                    <a:pt x="218" y="312"/>
                  </a:lnTo>
                  <a:lnTo>
                    <a:pt x="240" y="306"/>
                  </a:lnTo>
                  <a:lnTo>
                    <a:pt x="258" y="296"/>
                  </a:lnTo>
                  <a:lnTo>
                    <a:pt x="258" y="296"/>
                  </a:lnTo>
                  <a:lnTo>
                    <a:pt x="266" y="294"/>
                  </a:lnTo>
                  <a:lnTo>
                    <a:pt x="268" y="294"/>
                  </a:lnTo>
                  <a:lnTo>
                    <a:pt x="270" y="296"/>
                  </a:lnTo>
                  <a:lnTo>
                    <a:pt x="268" y="302"/>
                  </a:lnTo>
                  <a:lnTo>
                    <a:pt x="264" y="308"/>
                  </a:lnTo>
                  <a:lnTo>
                    <a:pt x="264" y="308"/>
                  </a:lnTo>
                  <a:lnTo>
                    <a:pt x="254" y="318"/>
                  </a:lnTo>
                  <a:lnTo>
                    <a:pt x="242" y="326"/>
                  </a:lnTo>
                  <a:lnTo>
                    <a:pt x="230" y="332"/>
                  </a:lnTo>
                  <a:lnTo>
                    <a:pt x="214" y="340"/>
                  </a:lnTo>
                  <a:lnTo>
                    <a:pt x="200" y="344"/>
                  </a:lnTo>
                  <a:lnTo>
                    <a:pt x="182" y="348"/>
                  </a:lnTo>
                  <a:lnTo>
                    <a:pt x="164" y="352"/>
                  </a:lnTo>
                  <a:lnTo>
                    <a:pt x="144" y="352"/>
                  </a:lnTo>
                  <a:lnTo>
                    <a:pt x="144" y="352"/>
                  </a:lnTo>
                  <a:lnTo>
                    <a:pt x="98" y="350"/>
                  </a:lnTo>
                  <a:lnTo>
                    <a:pt x="70" y="348"/>
                  </a:lnTo>
                  <a:lnTo>
                    <a:pt x="70" y="348"/>
                  </a:lnTo>
                  <a:lnTo>
                    <a:pt x="56" y="346"/>
                  </a:lnTo>
                  <a:lnTo>
                    <a:pt x="46" y="346"/>
                  </a:lnTo>
                  <a:lnTo>
                    <a:pt x="46" y="346"/>
                  </a:lnTo>
                  <a:lnTo>
                    <a:pt x="36" y="348"/>
                  </a:lnTo>
                  <a:lnTo>
                    <a:pt x="26" y="352"/>
                  </a:lnTo>
                  <a:lnTo>
                    <a:pt x="26" y="352"/>
                  </a:lnTo>
                  <a:lnTo>
                    <a:pt x="20" y="354"/>
                  </a:lnTo>
                  <a:lnTo>
                    <a:pt x="16" y="354"/>
                  </a:lnTo>
                  <a:lnTo>
                    <a:pt x="10" y="350"/>
                  </a:lnTo>
                  <a:lnTo>
                    <a:pt x="8" y="346"/>
                  </a:lnTo>
                  <a:lnTo>
                    <a:pt x="8" y="346"/>
                  </a:lnTo>
                  <a:lnTo>
                    <a:pt x="2" y="328"/>
                  </a:lnTo>
                  <a:lnTo>
                    <a:pt x="2" y="328"/>
                  </a:lnTo>
                  <a:lnTo>
                    <a:pt x="0" y="322"/>
                  </a:lnTo>
                  <a:lnTo>
                    <a:pt x="0" y="318"/>
                  </a:lnTo>
                  <a:lnTo>
                    <a:pt x="2" y="312"/>
                  </a:lnTo>
                  <a:lnTo>
                    <a:pt x="6" y="306"/>
                  </a:lnTo>
                  <a:lnTo>
                    <a:pt x="6" y="306"/>
                  </a:lnTo>
                  <a:lnTo>
                    <a:pt x="12" y="300"/>
                  </a:lnTo>
                  <a:lnTo>
                    <a:pt x="18" y="298"/>
                  </a:lnTo>
                  <a:lnTo>
                    <a:pt x="18" y="298"/>
                  </a:lnTo>
                  <a:lnTo>
                    <a:pt x="22" y="298"/>
                  </a:lnTo>
                  <a:lnTo>
                    <a:pt x="24" y="296"/>
                  </a:lnTo>
                  <a:lnTo>
                    <a:pt x="28" y="286"/>
                  </a:lnTo>
                  <a:lnTo>
                    <a:pt x="28" y="286"/>
                  </a:lnTo>
                  <a:lnTo>
                    <a:pt x="46" y="242"/>
                  </a:lnTo>
                  <a:lnTo>
                    <a:pt x="66" y="182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4" y="58"/>
                  </a:lnTo>
                  <a:lnTo>
                    <a:pt x="102" y="56"/>
                  </a:lnTo>
                  <a:lnTo>
                    <a:pt x="100" y="56"/>
                  </a:lnTo>
                  <a:lnTo>
                    <a:pt x="100" y="56"/>
                  </a:lnTo>
                  <a:lnTo>
                    <a:pt x="92" y="54"/>
                  </a:lnTo>
                  <a:lnTo>
                    <a:pt x="84" y="52"/>
                  </a:lnTo>
                  <a:lnTo>
                    <a:pt x="80" y="48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0"/>
                  </a:lnTo>
                  <a:lnTo>
                    <a:pt x="82" y="36"/>
                  </a:lnTo>
                  <a:lnTo>
                    <a:pt x="94" y="30"/>
                  </a:lnTo>
                  <a:lnTo>
                    <a:pt x="94" y="30"/>
                  </a:lnTo>
                  <a:lnTo>
                    <a:pt x="104" y="26"/>
                  </a:lnTo>
                  <a:lnTo>
                    <a:pt x="112" y="22"/>
                  </a:lnTo>
                  <a:lnTo>
                    <a:pt x="120" y="16"/>
                  </a:lnTo>
                  <a:lnTo>
                    <a:pt x="126" y="8"/>
                  </a:lnTo>
                  <a:lnTo>
                    <a:pt x="126" y="8"/>
                  </a:lnTo>
                  <a:lnTo>
                    <a:pt x="132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8" y="2"/>
                  </a:lnTo>
                  <a:lnTo>
                    <a:pt x="154" y="8"/>
                  </a:lnTo>
                  <a:lnTo>
                    <a:pt x="162" y="14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26"/>
                  </a:lnTo>
                  <a:lnTo>
                    <a:pt x="166" y="30"/>
                  </a:lnTo>
                  <a:lnTo>
                    <a:pt x="164" y="36"/>
                  </a:lnTo>
                  <a:lnTo>
                    <a:pt x="160" y="42"/>
                  </a:lnTo>
                  <a:lnTo>
                    <a:pt x="160" y="42"/>
                  </a:lnTo>
                  <a:lnTo>
                    <a:pt x="154" y="54"/>
                  </a:lnTo>
                  <a:lnTo>
                    <a:pt x="148" y="68"/>
                  </a:lnTo>
                  <a:lnTo>
                    <a:pt x="148" y="68"/>
                  </a:lnTo>
                  <a:lnTo>
                    <a:pt x="130" y="118"/>
                  </a:lnTo>
                  <a:lnTo>
                    <a:pt x="98" y="206"/>
                  </a:lnTo>
                  <a:lnTo>
                    <a:pt x="98" y="206"/>
                  </a:lnTo>
                  <a:lnTo>
                    <a:pt x="78" y="262"/>
                  </a:lnTo>
                  <a:lnTo>
                    <a:pt x="66" y="294"/>
                  </a:lnTo>
                  <a:lnTo>
                    <a:pt x="66" y="294"/>
                  </a:lnTo>
                  <a:lnTo>
                    <a:pt x="64" y="298"/>
                  </a:lnTo>
                  <a:lnTo>
                    <a:pt x="64" y="302"/>
                  </a:lnTo>
                  <a:lnTo>
                    <a:pt x="66" y="306"/>
                  </a:lnTo>
                  <a:lnTo>
                    <a:pt x="70" y="308"/>
                  </a:lnTo>
                  <a:lnTo>
                    <a:pt x="70" y="308"/>
                  </a:lnTo>
                  <a:lnTo>
                    <a:pt x="90" y="312"/>
                  </a:lnTo>
                  <a:lnTo>
                    <a:pt x="112" y="316"/>
                  </a:lnTo>
                  <a:lnTo>
                    <a:pt x="138" y="318"/>
                  </a:lnTo>
                  <a:lnTo>
                    <a:pt x="168" y="320"/>
                  </a:lnTo>
                  <a:lnTo>
                    <a:pt x="168" y="3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55"/>
            <p:cNvSpPr/>
            <p:nvPr/>
          </p:nvSpPr>
          <p:spPr>
            <a:xfrm>
              <a:off x="8412120" y="6588000"/>
              <a:ext cx="542880" cy="5972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240"/>
                <a:gd name="textAreaBottom" fmla="*/ 597600 h 597240"/>
              </a:gdLst>
              <a:ahLst/>
              <a:rect l="textAreaLeft" t="textAreaTop" r="textAreaRight" b="textAreaBottom"/>
              <a:pathLst>
                <a:path w="342" h="376">
                  <a:moveTo>
                    <a:pt x="280" y="100"/>
                  </a:moveTo>
                  <a:lnTo>
                    <a:pt x="280" y="100"/>
                  </a:lnTo>
                  <a:lnTo>
                    <a:pt x="278" y="108"/>
                  </a:lnTo>
                  <a:lnTo>
                    <a:pt x="276" y="116"/>
                  </a:lnTo>
                  <a:lnTo>
                    <a:pt x="268" y="132"/>
                  </a:lnTo>
                  <a:lnTo>
                    <a:pt x="256" y="146"/>
                  </a:lnTo>
                  <a:lnTo>
                    <a:pt x="242" y="160"/>
                  </a:lnTo>
                  <a:lnTo>
                    <a:pt x="226" y="172"/>
                  </a:lnTo>
                  <a:lnTo>
                    <a:pt x="208" y="182"/>
                  </a:lnTo>
                  <a:lnTo>
                    <a:pt x="176" y="198"/>
                  </a:lnTo>
                  <a:lnTo>
                    <a:pt x="176" y="198"/>
                  </a:lnTo>
                  <a:lnTo>
                    <a:pt x="170" y="200"/>
                  </a:lnTo>
                  <a:lnTo>
                    <a:pt x="168" y="204"/>
                  </a:lnTo>
                  <a:lnTo>
                    <a:pt x="168" y="206"/>
                  </a:lnTo>
                  <a:lnTo>
                    <a:pt x="170" y="212"/>
                  </a:lnTo>
                  <a:lnTo>
                    <a:pt x="170" y="212"/>
                  </a:lnTo>
                  <a:lnTo>
                    <a:pt x="214" y="276"/>
                  </a:lnTo>
                  <a:lnTo>
                    <a:pt x="238" y="308"/>
                  </a:lnTo>
                  <a:lnTo>
                    <a:pt x="254" y="326"/>
                  </a:lnTo>
                  <a:lnTo>
                    <a:pt x="254" y="326"/>
                  </a:lnTo>
                  <a:lnTo>
                    <a:pt x="268" y="338"/>
                  </a:lnTo>
                  <a:lnTo>
                    <a:pt x="280" y="344"/>
                  </a:lnTo>
                  <a:lnTo>
                    <a:pt x="290" y="348"/>
                  </a:lnTo>
                  <a:lnTo>
                    <a:pt x="300" y="348"/>
                  </a:lnTo>
                  <a:lnTo>
                    <a:pt x="300" y="348"/>
                  </a:lnTo>
                  <a:lnTo>
                    <a:pt x="308" y="348"/>
                  </a:lnTo>
                  <a:lnTo>
                    <a:pt x="318" y="344"/>
                  </a:lnTo>
                  <a:lnTo>
                    <a:pt x="328" y="338"/>
                  </a:lnTo>
                  <a:lnTo>
                    <a:pt x="336" y="334"/>
                  </a:lnTo>
                  <a:lnTo>
                    <a:pt x="336" y="334"/>
                  </a:lnTo>
                  <a:lnTo>
                    <a:pt x="340" y="330"/>
                  </a:lnTo>
                  <a:lnTo>
                    <a:pt x="342" y="332"/>
                  </a:lnTo>
                  <a:lnTo>
                    <a:pt x="342" y="336"/>
                  </a:lnTo>
                  <a:lnTo>
                    <a:pt x="340" y="342"/>
                  </a:lnTo>
                  <a:lnTo>
                    <a:pt x="340" y="342"/>
                  </a:lnTo>
                  <a:lnTo>
                    <a:pt x="330" y="354"/>
                  </a:lnTo>
                  <a:lnTo>
                    <a:pt x="316" y="366"/>
                  </a:lnTo>
                  <a:lnTo>
                    <a:pt x="298" y="372"/>
                  </a:lnTo>
                  <a:lnTo>
                    <a:pt x="290" y="374"/>
                  </a:lnTo>
                  <a:lnTo>
                    <a:pt x="280" y="376"/>
                  </a:lnTo>
                  <a:lnTo>
                    <a:pt x="280" y="376"/>
                  </a:lnTo>
                  <a:lnTo>
                    <a:pt x="270" y="374"/>
                  </a:lnTo>
                  <a:lnTo>
                    <a:pt x="260" y="372"/>
                  </a:lnTo>
                  <a:lnTo>
                    <a:pt x="250" y="368"/>
                  </a:lnTo>
                  <a:lnTo>
                    <a:pt x="240" y="362"/>
                  </a:lnTo>
                  <a:lnTo>
                    <a:pt x="230" y="354"/>
                  </a:lnTo>
                  <a:lnTo>
                    <a:pt x="218" y="344"/>
                  </a:lnTo>
                  <a:lnTo>
                    <a:pt x="194" y="314"/>
                  </a:lnTo>
                  <a:lnTo>
                    <a:pt x="194" y="314"/>
                  </a:lnTo>
                  <a:lnTo>
                    <a:pt x="176" y="292"/>
                  </a:lnTo>
                  <a:lnTo>
                    <a:pt x="156" y="264"/>
                  </a:lnTo>
                  <a:lnTo>
                    <a:pt x="138" y="238"/>
                  </a:lnTo>
                  <a:lnTo>
                    <a:pt x="130" y="226"/>
                  </a:lnTo>
                  <a:lnTo>
                    <a:pt x="130" y="226"/>
                  </a:lnTo>
                  <a:lnTo>
                    <a:pt x="122" y="220"/>
                  </a:lnTo>
                  <a:lnTo>
                    <a:pt x="114" y="218"/>
                  </a:lnTo>
                  <a:lnTo>
                    <a:pt x="114" y="218"/>
                  </a:lnTo>
                  <a:lnTo>
                    <a:pt x="110" y="220"/>
                  </a:lnTo>
                  <a:lnTo>
                    <a:pt x="108" y="222"/>
                  </a:lnTo>
                  <a:lnTo>
                    <a:pt x="104" y="228"/>
                  </a:lnTo>
                  <a:lnTo>
                    <a:pt x="104" y="228"/>
                  </a:lnTo>
                  <a:lnTo>
                    <a:pt x="88" y="274"/>
                  </a:lnTo>
                  <a:lnTo>
                    <a:pt x="72" y="318"/>
                  </a:lnTo>
                  <a:lnTo>
                    <a:pt x="72" y="318"/>
                  </a:lnTo>
                  <a:lnTo>
                    <a:pt x="72" y="322"/>
                  </a:lnTo>
                  <a:lnTo>
                    <a:pt x="72" y="324"/>
                  </a:lnTo>
                  <a:lnTo>
                    <a:pt x="76" y="326"/>
                  </a:lnTo>
                  <a:lnTo>
                    <a:pt x="80" y="328"/>
                  </a:lnTo>
                  <a:lnTo>
                    <a:pt x="80" y="328"/>
                  </a:lnTo>
                  <a:lnTo>
                    <a:pt x="100" y="332"/>
                  </a:lnTo>
                  <a:lnTo>
                    <a:pt x="108" y="336"/>
                  </a:lnTo>
                  <a:lnTo>
                    <a:pt x="114" y="338"/>
                  </a:lnTo>
                  <a:lnTo>
                    <a:pt x="114" y="338"/>
                  </a:lnTo>
                  <a:lnTo>
                    <a:pt x="116" y="340"/>
                  </a:lnTo>
                  <a:lnTo>
                    <a:pt x="116" y="344"/>
                  </a:lnTo>
                  <a:lnTo>
                    <a:pt x="114" y="346"/>
                  </a:lnTo>
                  <a:lnTo>
                    <a:pt x="110" y="350"/>
                  </a:lnTo>
                  <a:lnTo>
                    <a:pt x="110" y="350"/>
                  </a:lnTo>
                  <a:lnTo>
                    <a:pt x="102" y="354"/>
                  </a:lnTo>
                  <a:lnTo>
                    <a:pt x="92" y="356"/>
                  </a:lnTo>
                  <a:lnTo>
                    <a:pt x="68" y="358"/>
                  </a:lnTo>
                  <a:lnTo>
                    <a:pt x="68" y="358"/>
                  </a:lnTo>
                  <a:lnTo>
                    <a:pt x="60" y="360"/>
                  </a:lnTo>
                  <a:lnTo>
                    <a:pt x="54" y="362"/>
                  </a:lnTo>
                  <a:lnTo>
                    <a:pt x="54" y="362"/>
                  </a:lnTo>
                  <a:lnTo>
                    <a:pt x="46" y="366"/>
                  </a:lnTo>
                  <a:lnTo>
                    <a:pt x="38" y="368"/>
                  </a:lnTo>
                  <a:lnTo>
                    <a:pt x="38" y="368"/>
                  </a:lnTo>
                  <a:lnTo>
                    <a:pt x="28" y="366"/>
                  </a:lnTo>
                  <a:lnTo>
                    <a:pt x="18" y="362"/>
                  </a:lnTo>
                  <a:lnTo>
                    <a:pt x="8" y="356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0" y="344"/>
                  </a:lnTo>
                  <a:lnTo>
                    <a:pt x="0" y="340"/>
                  </a:lnTo>
                  <a:lnTo>
                    <a:pt x="2" y="336"/>
                  </a:lnTo>
                  <a:lnTo>
                    <a:pt x="4" y="334"/>
                  </a:lnTo>
                  <a:lnTo>
                    <a:pt x="4" y="334"/>
                  </a:lnTo>
                  <a:lnTo>
                    <a:pt x="14" y="328"/>
                  </a:lnTo>
                  <a:lnTo>
                    <a:pt x="26" y="324"/>
                  </a:lnTo>
                  <a:lnTo>
                    <a:pt x="26" y="324"/>
                  </a:lnTo>
                  <a:lnTo>
                    <a:pt x="30" y="324"/>
                  </a:lnTo>
                  <a:lnTo>
                    <a:pt x="32" y="322"/>
                  </a:lnTo>
                  <a:lnTo>
                    <a:pt x="36" y="314"/>
                  </a:lnTo>
                  <a:lnTo>
                    <a:pt x="36" y="314"/>
                  </a:lnTo>
                  <a:lnTo>
                    <a:pt x="66" y="226"/>
                  </a:lnTo>
                  <a:lnTo>
                    <a:pt x="66" y="226"/>
                  </a:lnTo>
                  <a:lnTo>
                    <a:pt x="66" y="220"/>
                  </a:lnTo>
                  <a:lnTo>
                    <a:pt x="66" y="214"/>
                  </a:lnTo>
                  <a:lnTo>
                    <a:pt x="66" y="214"/>
                  </a:lnTo>
                  <a:lnTo>
                    <a:pt x="64" y="206"/>
                  </a:lnTo>
                  <a:lnTo>
                    <a:pt x="64" y="198"/>
                  </a:lnTo>
                  <a:lnTo>
                    <a:pt x="64" y="198"/>
                  </a:lnTo>
                  <a:lnTo>
                    <a:pt x="70" y="192"/>
                  </a:lnTo>
                  <a:lnTo>
                    <a:pt x="74" y="188"/>
                  </a:lnTo>
                  <a:lnTo>
                    <a:pt x="74" y="188"/>
                  </a:lnTo>
                  <a:lnTo>
                    <a:pt x="78" y="184"/>
                  </a:lnTo>
                  <a:lnTo>
                    <a:pt x="84" y="176"/>
                  </a:lnTo>
                  <a:lnTo>
                    <a:pt x="84" y="176"/>
                  </a:lnTo>
                  <a:lnTo>
                    <a:pt x="98" y="138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6" y="58"/>
                  </a:lnTo>
                  <a:lnTo>
                    <a:pt x="124" y="56"/>
                  </a:lnTo>
                  <a:lnTo>
                    <a:pt x="122" y="56"/>
                  </a:lnTo>
                  <a:lnTo>
                    <a:pt x="122" y="56"/>
                  </a:lnTo>
                  <a:lnTo>
                    <a:pt x="108" y="60"/>
                  </a:lnTo>
                  <a:lnTo>
                    <a:pt x="98" y="64"/>
                  </a:lnTo>
                  <a:lnTo>
                    <a:pt x="92" y="68"/>
                  </a:lnTo>
                  <a:lnTo>
                    <a:pt x="86" y="74"/>
                  </a:lnTo>
                  <a:lnTo>
                    <a:pt x="86" y="74"/>
                  </a:lnTo>
                  <a:lnTo>
                    <a:pt x="80" y="80"/>
                  </a:lnTo>
                  <a:lnTo>
                    <a:pt x="72" y="86"/>
                  </a:lnTo>
                  <a:lnTo>
                    <a:pt x="72" y="86"/>
                  </a:lnTo>
                  <a:lnTo>
                    <a:pt x="64" y="86"/>
                  </a:lnTo>
                  <a:lnTo>
                    <a:pt x="60" y="84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2" y="76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48" y="64"/>
                  </a:lnTo>
                  <a:lnTo>
                    <a:pt x="50" y="58"/>
                  </a:lnTo>
                  <a:lnTo>
                    <a:pt x="52" y="54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70" y="42"/>
                  </a:lnTo>
                  <a:lnTo>
                    <a:pt x="86" y="36"/>
                  </a:lnTo>
                  <a:lnTo>
                    <a:pt x="106" y="32"/>
                  </a:lnTo>
                  <a:lnTo>
                    <a:pt x="130" y="28"/>
                  </a:lnTo>
                  <a:lnTo>
                    <a:pt x="130" y="28"/>
                  </a:lnTo>
                  <a:lnTo>
                    <a:pt x="134" y="26"/>
                  </a:lnTo>
                  <a:lnTo>
                    <a:pt x="136" y="24"/>
                  </a:lnTo>
                  <a:lnTo>
                    <a:pt x="142" y="18"/>
                  </a:lnTo>
                  <a:lnTo>
                    <a:pt x="142" y="18"/>
                  </a:lnTo>
                  <a:lnTo>
                    <a:pt x="144" y="10"/>
                  </a:lnTo>
                  <a:lnTo>
                    <a:pt x="148" y="4"/>
                  </a:lnTo>
                  <a:lnTo>
                    <a:pt x="154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68" y="2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82" y="14"/>
                  </a:lnTo>
                  <a:lnTo>
                    <a:pt x="184" y="22"/>
                  </a:lnTo>
                  <a:lnTo>
                    <a:pt x="184" y="22"/>
                  </a:lnTo>
                  <a:lnTo>
                    <a:pt x="184" y="24"/>
                  </a:lnTo>
                  <a:lnTo>
                    <a:pt x="188" y="26"/>
                  </a:lnTo>
                  <a:lnTo>
                    <a:pt x="188" y="26"/>
                  </a:lnTo>
                  <a:lnTo>
                    <a:pt x="202" y="26"/>
                  </a:lnTo>
                  <a:lnTo>
                    <a:pt x="216" y="30"/>
                  </a:lnTo>
                  <a:lnTo>
                    <a:pt x="228" y="34"/>
                  </a:lnTo>
                  <a:lnTo>
                    <a:pt x="240" y="38"/>
                  </a:lnTo>
                  <a:lnTo>
                    <a:pt x="250" y="44"/>
                  </a:lnTo>
                  <a:lnTo>
                    <a:pt x="260" y="52"/>
                  </a:lnTo>
                  <a:lnTo>
                    <a:pt x="266" y="60"/>
                  </a:lnTo>
                  <a:lnTo>
                    <a:pt x="272" y="70"/>
                  </a:lnTo>
                  <a:lnTo>
                    <a:pt x="272" y="70"/>
                  </a:lnTo>
                  <a:lnTo>
                    <a:pt x="278" y="84"/>
                  </a:lnTo>
                  <a:lnTo>
                    <a:pt x="280" y="98"/>
                  </a:lnTo>
                  <a:lnTo>
                    <a:pt x="280" y="100"/>
                  </a:lnTo>
                  <a:close/>
                  <a:moveTo>
                    <a:pt x="240" y="102"/>
                  </a:moveTo>
                  <a:lnTo>
                    <a:pt x="240" y="102"/>
                  </a:lnTo>
                  <a:lnTo>
                    <a:pt x="238" y="92"/>
                  </a:lnTo>
                  <a:lnTo>
                    <a:pt x="234" y="82"/>
                  </a:lnTo>
                  <a:lnTo>
                    <a:pt x="228" y="74"/>
                  </a:lnTo>
                  <a:lnTo>
                    <a:pt x="220" y="68"/>
                  </a:lnTo>
                  <a:lnTo>
                    <a:pt x="210" y="62"/>
                  </a:lnTo>
                  <a:lnTo>
                    <a:pt x="200" y="58"/>
                  </a:lnTo>
                  <a:lnTo>
                    <a:pt x="190" y="56"/>
                  </a:lnTo>
                  <a:lnTo>
                    <a:pt x="180" y="54"/>
                  </a:lnTo>
                  <a:lnTo>
                    <a:pt x="180" y="54"/>
                  </a:lnTo>
                  <a:lnTo>
                    <a:pt x="176" y="54"/>
                  </a:lnTo>
                  <a:lnTo>
                    <a:pt x="172" y="56"/>
                  </a:lnTo>
                  <a:lnTo>
                    <a:pt x="168" y="64"/>
                  </a:lnTo>
                  <a:lnTo>
                    <a:pt x="168" y="64"/>
                  </a:lnTo>
                  <a:lnTo>
                    <a:pt x="146" y="118"/>
                  </a:lnTo>
                  <a:lnTo>
                    <a:pt x="124" y="174"/>
                  </a:lnTo>
                  <a:lnTo>
                    <a:pt x="124" y="174"/>
                  </a:lnTo>
                  <a:lnTo>
                    <a:pt x="122" y="180"/>
                  </a:lnTo>
                  <a:lnTo>
                    <a:pt x="124" y="182"/>
                  </a:lnTo>
                  <a:lnTo>
                    <a:pt x="126" y="184"/>
                  </a:lnTo>
                  <a:lnTo>
                    <a:pt x="126" y="184"/>
                  </a:lnTo>
                  <a:lnTo>
                    <a:pt x="132" y="182"/>
                  </a:lnTo>
                  <a:lnTo>
                    <a:pt x="144" y="178"/>
                  </a:lnTo>
                  <a:lnTo>
                    <a:pt x="160" y="172"/>
                  </a:lnTo>
                  <a:lnTo>
                    <a:pt x="180" y="164"/>
                  </a:lnTo>
                  <a:lnTo>
                    <a:pt x="180" y="164"/>
                  </a:lnTo>
                  <a:lnTo>
                    <a:pt x="202" y="150"/>
                  </a:lnTo>
                  <a:lnTo>
                    <a:pt x="222" y="134"/>
                  </a:lnTo>
                  <a:lnTo>
                    <a:pt x="228" y="126"/>
                  </a:lnTo>
                  <a:lnTo>
                    <a:pt x="234" y="118"/>
                  </a:lnTo>
                  <a:lnTo>
                    <a:pt x="238" y="110"/>
                  </a:lnTo>
                  <a:lnTo>
                    <a:pt x="240" y="104"/>
                  </a:lnTo>
                  <a:lnTo>
                    <a:pt x="24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56"/>
            <p:cNvSpPr/>
            <p:nvPr/>
          </p:nvSpPr>
          <p:spPr>
            <a:xfrm>
              <a:off x="9085320" y="6603840"/>
              <a:ext cx="441360" cy="5716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78" h="360">
                  <a:moveTo>
                    <a:pt x="278" y="34"/>
                  </a:moveTo>
                  <a:lnTo>
                    <a:pt x="278" y="34"/>
                  </a:lnTo>
                  <a:lnTo>
                    <a:pt x="276" y="42"/>
                  </a:lnTo>
                  <a:lnTo>
                    <a:pt x="270" y="52"/>
                  </a:lnTo>
                  <a:lnTo>
                    <a:pt x="262" y="60"/>
                  </a:lnTo>
                  <a:lnTo>
                    <a:pt x="250" y="70"/>
                  </a:lnTo>
                  <a:lnTo>
                    <a:pt x="250" y="70"/>
                  </a:lnTo>
                  <a:lnTo>
                    <a:pt x="210" y="100"/>
                  </a:lnTo>
                  <a:lnTo>
                    <a:pt x="180" y="124"/>
                  </a:lnTo>
                  <a:lnTo>
                    <a:pt x="150" y="152"/>
                  </a:lnTo>
                  <a:lnTo>
                    <a:pt x="150" y="152"/>
                  </a:lnTo>
                  <a:lnTo>
                    <a:pt x="126" y="172"/>
                  </a:lnTo>
                  <a:lnTo>
                    <a:pt x="110" y="190"/>
                  </a:lnTo>
                  <a:lnTo>
                    <a:pt x="98" y="208"/>
                  </a:lnTo>
                  <a:lnTo>
                    <a:pt x="90" y="226"/>
                  </a:lnTo>
                  <a:lnTo>
                    <a:pt x="90" y="226"/>
                  </a:lnTo>
                  <a:lnTo>
                    <a:pt x="82" y="256"/>
                  </a:lnTo>
                  <a:lnTo>
                    <a:pt x="74" y="298"/>
                  </a:lnTo>
                  <a:lnTo>
                    <a:pt x="74" y="298"/>
                  </a:lnTo>
                  <a:lnTo>
                    <a:pt x="74" y="304"/>
                  </a:lnTo>
                  <a:lnTo>
                    <a:pt x="74" y="308"/>
                  </a:lnTo>
                  <a:lnTo>
                    <a:pt x="76" y="310"/>
                  </a:lnTo>
                  <a:lnTo>
                    <a:pt x="80" y="310"/>
                  </a:lnTo>
                  <a:lnTo>
                    <a:pt x="80" y="310"/>
                  </a:lnTo>
                  <a:lnTo>
                    <a:pt x="100" y="314"/>
                  </a:lnTo>
                  <a:lnTo>
                    <a:pt x="116" y="320"/>
                  </a:lnTo>
                  <a:lnTo>
                    <a:pt x="126" y="324"/>
                  </a:lnTo>
                  <a:lnTo>
                    <a:pt x="130" y="328"/>
                  </a:lnTo>
                  <a:lnTo>
                    <a:pt x="132" y="330"/>
                  </a:lnTo>
                  <a:lnTo>
                    <a:pt x="132" y="330"/>
                  </a:lnTo>
                  <a:lnTo>
                    <a:pt x="130" y="332"/>
                  </a:lnTo>
                  <a:lnTo>
                    <a:pt x="128" y="334"/>
                  </a:lnTo>
                  <a:lnTo>
                    <a:pt x="120" y="338"/>
                  </a:lnTo>
                  <a:lnTo>
                    <a:pt x="110" y="340"/>
                  </a:lnTo>
                  <a:lnTo>
                    <a:pt x="94" y="340"/>
                  </a:lnTo>
                  <a:lnTo>
                    <a:pt x="94" y="340"/>
                  </a:lnTo>
                  <a:lnTo>
                    <a:pt x="72" y="342"/>
                  </a:lnTo>
                  <a:lnTo>
                    <a:pt x="56" y="346"/>
                  </a:lnTo>
                  <a:lnTo>
                    <a:pt x="48" y="350"/>
                  </a:lnTo>
                  <a:lnTo>
                    <a:pt x="42" y="354"/>
                  </a:lnTo>
                  <a:lnTo>
                    <a:pt x="42" y="354"/>
                  </a:lnTo>
                  <a:lnTo>
                    <a:pt x="34" y="358"/>
                  </a:lnTo>
                  <a:lnTo>
                    <a:pt x="28" y="360"/>
                  </a:lnTo>
                  <a:lnTo>
                    <a:pt x="28" y="360"/>
                  </a:lnTo>
                  <a:lnTo>
                    <a:pt x="20" y="358"/>
                  </a:lnTo>
                  <a:lnTo>
                    <a:pt x="12" y="356"/>
                  </a:lnTo>
                  <a:lnTo>
                    <a:pt x="6" y="352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0" y="342"/>
                  </a:lnTo>
                  <a:lnTo>
                    <a:pt x="0" y="334"/>
                  </a:lnTo>
                  <a:lnTo>
                    <a:pt x="6" y="326"/>
                  </a:lnTo>
                  <a:lnTo>
                    <a:pt x="18" y="318"/>
                  </a:lnTo>
                  <a:lnTo>
                    <a:pt x="18" y="318"/>
                  </a:lnTo>
                  <a:lnTo>
                    <a:pt x="24" y="314"/>
                  </a:lnTo>
                  <a:lnTo>
                    <a:pt x="28" y="312"/>
                  </a:lnTo>
                  <a:lnTo>
                    <a:pt x="30" y="306"/>
                  </a:lnTo>
                  <a:lnTo>
                    <a:pt x="32" y="300"/>
                  </a:lnTo>
                  <a:lnTo>
                    <a:pt x="32" y="300"/>
                  </a:lnTo>
                  <a:lnTo>
                    <a:pt x="48" y="238"/>
                  </a:lnTo>
                  <a:lnTo>
                    <a:pt x="48" y="238"/>
                  </a:lnTo>
                  <a:lnTo>
                    <a:pt x="50" y="222"/>
                  </a:lnTo>
                  <a:lnTo>
                    <a:pt x="52" y="208"/>
                  </a:lnTo>
                  <a:lnTo>
                    <a:pt x="52" y="196"/>
                  </a:lnTo>
                  <a:lnTo>
                    <a:pt x="48" y="180"/>
                  </a:lnTo>
                  <a:lnTo>
                    <a:pt x="48" y="180"/>
                  </a:lnTo>
                  <a:lnTo>
                    <a:pt x="42" y="158"/>
                  </a:lnTo>
                  <a:lnTo>
                    <a:pt x="32" y="126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4" y="44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2"/>
                  </a:lnTo>
                  <a:lnTo>
                    <a:pt x="10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30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0" y="4"/>
                  </a:lnTo>
                  <a:lnTo>
                    <a:pt x="50" y="10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50" y="30"/>
                  </a:lnTo>
                  <a:lnTo>
                    <a:pt x="50" y="46"/>
                  </a:lnTo>
                  <a:lnTo>
                    <a:pt x="58" y="86"/>
                  </a:lnTo>
                  <a:lnTo>
                    <a:pt x="68" y="126"/>
                  </a:lnTo>
                  <a:lnTo>
                    <a:pt x="80" y="156"/>
                  </a:lnTo>
                  <a:lnTo>
                    <a:pt x="80" y="156"/>
                  </a:lnTo>
                  <a:lnTo>
                    <a:pt x="82" y="160"/>
                  </a:lnTo>
                  <a:lnTo>
                    <a:pt x="84" y="160"/>
                  </a:lnTo>
                  <a:lnTo>
                    <a:pt x="90" y="156"/>
                  </a:lnTo>
                  <a:lnTo>
                    <a:pt x="90" y="156"/>
                  </a:lnTo>
                  <a:lnTo>
                    <a:pt x="114" y="136"/>
                  </a:lnTo>
                  <a:lnTo>
                    <a:pt x="150" y="110"/>
                  </a:lnTo>
                  <a:lnTo>
                    <a:pt x="184" y="86"/>
                  </a:lnTo>
                  <a:lnTo>
                    <a:pt x="208" y="66"/>
                  </a:lnTo>
                  <a:lnTo>
                    <a:pt x="208" y="66"/>
                  </a:lnTo>
                  <a:lnTo>
                    <a:pt x="220" y="52"/>
                  </a:lnTo>
                  <a:lnTo>
                    <a:pt x="228" y="40"/>
                  </a:lnTo>
                  <a:lnTo>
                    <a:pt x="230" y="28"/>
                  </a:lnTo>
                  <a:lnTo>
                    <a:pt x="232" y="18"/>
                  </a:lnTo>
                  <a:lnTo>
                    <a:pt x="232" y="18"/>
                  </a:lnTo>
                  <a:lnTo>
                    <a:pt x="234" y="10"/>
                  </a:lnTo>
                  <a:lnTo>
                    <a:pt x="236" y="6"/>
                  </a:lnTo>
                  <a:lnTo>
                    <a:pt x="240" y="2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52" y="2"/>
                  </a:lnTo>
                  <a:lnTo>
                    <a:pt x="258" y="4"/>
                  </a:lnTo>
                  <a:lnTo>
                    <a:pt x="268" y="12"/>
                  </a:lnTo>
                  <a:lnTo>
                    <a:pt x="274" y="22"/>
                  </a:lnTo>
                  <a:lnTo>
                    <a:pt x="276" y="28"/>
                  </a:lnTo>
                  <a:lnTo>
                    <a:pt x="278" y="34"/>
                  </a:lnTo>
                  <a:lnTo>
                    <a:pt x="278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6:28:50Z</dcterms:created>
  <dc:creator>seisaku</dc:creator>
  <dc:description/>
  <dc:language>en-US</dc:language>
  <cp:lastModifiedBy>seisaku</cp:lastModifiedBy>
  <dcterms:modified xsi:type="dcterms:W3CDTF">2012-05-18T06:43:31Z</dcterms:modified>
  <cp:revision>3</cp:revision>
  <dc:subject/>
  <dc:title>スライド 1</dc:title>
</cp:coreProperties>
</file>