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4290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3B1-0B32-4439-9DE6-E8C4542B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866160"/>
            <a:ext cx="29146320" cy="216612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2914632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6815520"/>
            <a:ext cx="2914632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295-5309-4632-9ABF-A399C1C4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866160"/>
            <a:ext cx="29146320" cy="216612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681552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681552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646-F49A-4E97-9634-BE7BA586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866160"/>
            <a:ext cx="29146320" cy="216612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326880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326880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681552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681552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681552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3FA-EA5E-4B19-8521-DD6EFAD4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866160"/>
            <a:ext cx="29146320" cy="216612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3268800"/>
            <a:ext cx="291463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76"/>
              </a:spcBef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5EA-F54A-438D-9E95-E38ED503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866160"/>
            <a:ext cx="29146320" cy="216612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29146320" cy="6789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D78-6714-4A47-B988-C654299D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866160"/>
            <a:ext cx="29146320" cy="216612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14223240" cy="6789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3268800"/>
            <a:ext cx="14223240" cy="6789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8ED-F10B-4737-B496-B500C31C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866160"/>
            <a:ext cx="29146320" cy="216612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DDBB-0B57-499C-BDBE-5975B3DD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1006200"/>
            <a:ext cx="291463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76"/>
              </a:spcBef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785-9F78-49B8-A8FE-736EFA2D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866160"/>
            <a:ext cx="29146320" cy="216612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3268800"/>
            <a:ext cx="14223240" cy="6789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681552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123-51C0-4731-8F80-AE07FC17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866160"/>
            <a:ext cx="29146320" cy="216612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14223240" cy="6789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681552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9F9-1E51-4690-9A3E-E57257B5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866160"/>
            <a:ext cx="29146320" cy="216612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6815520"/>
            <a:ext cx="29146320" cy="323856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E34-23FC-43D7-9FFC-5837AD13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1006200"/>
            <a:ext cx="29146320" cy="188604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3268800"/>
            <a:ext cx="29146320" cy="6789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 fontScale="57000"/>
          </a:bodyPr>
          <a:p>
            <a:pPr marL="557280" indent="-557280">
              <a:spcBef>
                <a:spcPts val="2276"/>
              </a:spcBef>
              <a:buClr>
                <a:srgbClr val="000000"/>
              </a:buClr>
              <a:buFont typeface="Times New Roman"/>
              <a:buChar char="•"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7080" indent="-464040">
              <a:spcBef>
                <a:spcPts val="2276"/>
              </a:spcBef>
              <a:buClr>
                <a:srgbClr val="000000"/>
              </a:buClr>
              <a:buFont typeface="Times New Roman"/>
              <a:buChar char="–"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  <a:p>
            <a:pPr lvl="2" marL="1856520" indent="-370800">
              <a:spcBef>
                <a:spcPts val="2276"/>
              </a:spcBef>
              <a:buClr>
                <a:srgbClr val="000000"/>
              </a:buClr>
              <a:buFont typeface="Times New Roman"/>
              <a:buChar char="•"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  <a:p>
            <a:pPr lvl="3" marL="2599560" indent="-371520">
              <a:spcBef>
                <a:spcPts val="2276"/>
              </a:spcBef>
              <a:buClr>
                <a:srgbClr val="000000"/>
              </a:buClr>
              <a:buFont typeface="Times New Roman"/>
              <a:buChar char="–"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  <a:p>
            <a:pPr lvl="4" marL="3342600" indent="-371880">
              <a:spcBef>
                <a:spcPts val="2276"/>
              </a:spcBef>
              <a:buClr>
                <a:srgbClr val="000000"/>
              </a:buClr>
              <a:buFont typeface="Times New Roman"/>
              <a:buChar char="»"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  <a:p>
            <a:pPr lvl="5" marL="3342600" indent="-371880">
              <a:spcBef>
                <a:spcPts val="2276"/>
              </a:spcBef>
              <a:buClr>
                <a:srgbClr val="000000"/>
              </a:buClr>
              <a:buFont typeface="Times New Roman"/>
              <a:buChar char="»"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  <a:p>
            <a:pPr lvl="6" marL="3342600" indent="-371880">
              <a:spcBef>
                <a:spcPts val="2276"/>
              </a:spcBef>
              <a:buClr>
                <a:srgbClr val="000000"/>
              </a:buClr>
              <a:buFont typeface="Times New Roman"/>
              <a:buChar char="»"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10308960"/>
            <a:ext cx="7143840" cy="75564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Autofit/>
          </a:bodyPr>
          <a:lstStyle>
            <a:lvl1pPr indent="0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  <a:defRPr b="0" lang="ja-JP" sz="4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10308960"/>
            <a:ext cx="10858320" cy="75564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Autofit/>
          </a:bodyPr>
          <a:lstStyle>
            <a:lvl1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  <a:defRPr b="0" lang="ja-JP" sz="4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10308960"/>
            <a:ext cx="7143480" cy="75564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Autofit/>
          </a:bodyPr>
          <a:lstStyle>
            <a:lvl1pPr indent="0" algn="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  <a:defRPr b="0" lang="ja-JP" sz="4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fld id="{4D6C6BC3-5E8E-4438-B52F-E3436413D878}" type="slidenum"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4290000" cy="5657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668920"/>
            <a:ext cx="34290000" cy="5657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名称未設定-1" descr=""/>
          <p:cNvPicPr/>
          <p:nvPr/>
        </p:nvPicPr>
        <p:blipFill>
          <a:blip r:embed="rId1"/>
          <a:stretch/>
        </p:blipFill>
        <p:spPr>
          <a:xfrm>
            <a:off x="11187000" y="1560600"/>
            <a:ext cx="18164160" cy="8191440"/>
          </a:xfrm>
          <a:prstGeom prst="rect">
            <a:avLst/>
          </a:prstGeom>
          <a:ln w="0">
            <a:noFill/>
          </a:ln>
        </p:spPr>
      </p:pic>
      <p:pic>
        <p:nvPicPr>
          <p:cNvPr id="44" name="ilm20_aa13015-s" descr=""/>
          <p:cNvPicPr/>
          <p:nvPr/>
        </p:nvPicPr>
        <p:blipFill>
          <a:blip r:embed="rId2"/>
          <a:stretch/>
        </p:blipFill>
        <p:spPr>
          <a:xfrm>
            <a:off x="1143000" y="963720"/>
            <a:ext cx="6622920" cy="9386640"/>
          </a:xfrm>
          <a:prstGeom prst="rect">
            <a:avLst/>
          </a:prstGeom>
          <a:ln w="0">
            <a:noFill/>
          </a:ln>
          <a:effectLst>
            <a:outerShdw dist="164935" dir="20244540" blurRad="0" rotWithShape="0">
              <a:srgbClr val="ffffff"/>
            </a:outerShdw>
          </a:effectLst>
        </p:spPr>
      </p:pic>
      <p:sp>
        <p:nvSpPr>
          <p:cNvPr id="45" name=""/>
          <p:cNvSpPr txBox="1"/>
          <p:nvPr/>
        </p:nvSpPr>
        <p:spPr>
          <a:xfrm>
            <a:off x="8319960" y="7294680"/>
            <a:ext cx="24446160" cy="21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507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 Pゴシック体S"/>
              </a:rPr>
              <a:t>駐停車時 エンジンは停止</a:t>
            </a:r>
            <a:endParaRPr b="0" lang="en-US" sz="2400" spc="1" strike="noStrike">
              <a:ln w="507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 Pゴシック体S"/>
              <a:ea typeface="AR Pゴシック体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077320" y="1219320"/>
            <a:ext cx="143874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76320">
                  <a:solidFill>
                    <a:srgbClr val="ffff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 Pゴシック体S"/>
              </a:rPr>
              <a:t>アイドリング</a:t>
            </a:r>
            <a:endParaRPr b="0" i="1" lang="en-US" sz="2400" spc="1" strike="noStrike">
              <a:ln w="76320">
                <a:solidFill>
                  <a:srgbClr val="ffff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 Pゴシック体S"/>
              <a:ea typeface="AR Pゴシック体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164920" y="1143000"/>
            <a:ext cx="99820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7632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 Pゴシック体S"/>
              </a:rPr>
              <a:t>STOP!!</a:t>
            </a:r>
            <a:endParaRPr b="0" i="1" lang="en-US" sz="2400" spc="1" strike="noStrike">
              <a:ln w="7632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 Pゴシック体S"/>
              <a:ea typeface="AR Pゴシック体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08:14:16Z</dcterms:created>
  <dc:creator>ttec</dc:creator>
  <dc:description/>
  <dc:language>en-US</dc:language>
  <cp:lastModifiedBy>ttec</cp:lastModifiedBy>
  <dcterms:modified xsi:type="dcterms:W3CDTF">2011-11-22T01:50:56Z</dcterms:modified>
  <cp:revision>5</cp:revision>
  <dc:subject/>
  <dc:title>PowerPoint プレゼンテーション</dc:title>
</cp:coreProperties>
</file>