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DD9-0D62-48E6-B56A-CC6E3931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60D-9D41-4CD3-88A5-F70BB745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077-9B7C-459A-9269-D380A7DD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78D-DA0F-4556-861E-C356D09F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6F6-2339-4A83-9A37-72A00D22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150-EC0C-4474-B54E-43C8A0F9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0A8-94BC-4C1D-893A-60286BDB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387-0CF3-48E4-926A-117B0F20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25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3E8-FBF3-45B0-A294-EF56847D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2B4-BE0E-44BE-B500-4FACD399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44D-DF85-4C81-A6F3-930AB6A6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CF8-6F8E-41EC-A578-164D4687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252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1680" indent="-5716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2" marL="1908360" indent="-38052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3" marL="2671200" indent="-3808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9910440"/>
            <a:ext cx="75596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9910440"/>
            <a:ext cx="1026180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9910440"/>
            <a:ext cx="75596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63219F7B-75CC-4F1F-88E3-1B3B485FBD87}" type="slidenum">
              <a:rPr b="0" lang="ja-JP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22723560" y="34920"/>
            <a:ext cx="8089920" cy="5235480"/>
          </a:xfrm>
          <a:prstGeom prst="pie">
            <a:avLst/>
          </a:prstGeom>
          <a:solidFill>
            <a:srgbClr val="ffffff"/>
          </a:solidFill>
          <a:ln w="0">
            <a:solidFill>
              <a:srgbClr val="2218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-85680" y="797040"/>
            <a:ext cx="32432760" cy="99345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8"/>
          <p:cNvSpPr/>
          <p:nvPr/>
        </p:nvSpPr>
        <p:spPr>
          <a:xfrm>
            <a:off x="22723560" y="34920"/>
            <a:ext cx="8089920" cy="523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23082120" y="393840"/>
            <a:ext cx="7372440" cy="451800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495360" y="1374840"/>
            <a:ext cx="31270680" cy="877248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2"/>
          <p:cNvSpPr/>
          <p:nvPr/>
        </p:nvSpPr>
        <p:spPr>
          <a:xfrm>
            <a:off x="-25560" y="3019320"/>
            <a:ext cx="22133160" cy="124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eform 13"/>
          <p:cNvSpPr/>
          <p:nvPr/>
        </p:nvSpPr>
        <p:spPr>
          <a:xfrm>
            <a:off x="1339920" y="2235240"/>
            <a:ext cx="1660320" cy="158760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14"/>
          <p:cNvSpPr/>
          <p:nvPr/>
        </p:nvSpPr>
        <p:spPr>
          <a:xfrm>
            <a:off x="3108240" y="2225520"/>
            <a:ext cx="1679760" cy="160668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15"/>
          <p:cNvSpPr/>
          <p:nvPr/>
        </p:nvSpPr>
        <p:spPr>
          <a:xfrm>
            <a:off x="4924440" y="2720880"/>
            <a:ext cx="1136520" cy="100656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6200640" y="2225520"/>
            <a:ext cx="1648080" cy="160992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7981920" y="2654280"/>
            <a:ext cx="1117800" cy="109224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8"/>
          <p:cNvSpPr/>
          <p:nvPr/>
        </p:nvSpPr>
        <p:spPr>
          <a:xfrm>
            <a:off x="9309240" y="2416320"/>
            <a:ext cx="1346040" cy="124128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19"/>
          <p:cNvSpPr/>
          <p:nvPr/>
        </p:nvSpPr>
        <p:spPr>
          <a:xfrm>
            <a:off x="10956960" y="2895480"/>
            <a:ext cx="1552680" cy="27648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20"/>
          <p:cNvSpPr/>
          <p:nvPr/>
        </p:nvSpPr>
        <p:spPr>
          <a:xfrm>
            <a:off x="12696840" y="2216160"/>
            <a:ext cx="1625760" cy="156204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21"/>
          <p:cNvSpPr/>
          <p:nvPr/>
        </p:nvSpPr>
        <p:spPr>
          <a:xfrm>
            <a:off x="14401800" y="2540160"/>
            <a:ext cx="1254240" cy="124452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22"/>
          <p:cNvSpPr/>
          <p:nvPr/>
        </p:nvSpPr>
        <p:spPr>
          <a:xfrm>
            <a:off x="15846480" y="2282760"/>
            <a:ext cx="1574640" cy="150516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23"/>
          <p:cNvSpPr/>
          <p:nvPr/>
        </p:nvSpPr>
        <p:spPr>
          <a:xfrm>
            <a:off x="17627760" y="2895480"/>
            <a:ext cx="1552320" cy="27648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24"/>
          <p:cNvSpPr/>
          <p:nvPr/>
        </p:nvSpPr>
        <p:spPr>
          <a:xfrm>
            <a:off x="19545480" y="2282760"/>
            <a:ext cx="1107720" cy="149868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reeform 25"/>
          <p:cNvSpPr/>
          <p:nvPr/>
        </p:nvSpPr>
        <p:spPr>
          <a:xfrm>
            <a:off x="20875680" y="2317680"/>
            <a:ext cx="336600" cy="143208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26"/>
          <p:cNvSpPr/>
          <p:nvPr/>
        </p:nvSpPr>
        <p:spPr>
          <a:xfrm>
            <a:off x="1339920" y="2235240"/>
            <a:ext cx="1660320" cy="158760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27"/>
          <p:cNvSpPr/>
          <p:nvPr/>
        </p:nvSpPr>
        <p:spPr>
          <a:xfrm>
            <a:off x="3108240" y="2225520"/>
            <a:ext cx="1679760" cy="160668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28"/>
          <p:cNvSpPr/>
          <p:nvPr/>
        </p:nvSpPr>
        <p:spPr>
          <a:xfrm>
            <a:off x="4924440" y="2720880"/>
            <a:ext cx="1136520" cy="100656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29"/>
          <p:cNvSpPr/>
          <p:nvPr/>
        </p:nvSpPr>
        <p:spPr>
          <a:xfrm>
            <a:off x="6200640" y="2225520"/>
            <a:ext cx="1648080" cy="160992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 30"/>
          <p:cNvSpPr/>
          <p:nvPr/>
        </p:nvSpPr>
        <p:spPr>
          <a:xfrm>
            <a:off x="7981920" y="2654280"/>
            <a:ext cx="1117800" cy="109224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reeform 31"/>
          <p:cNvSpPr/>
          <p:nvPr/>
        </p:nvSpPr>
        <p:spPr>
          <a:xfrm>
            <a:off x="9309240" y="2416320"/>
            <a:ext cx="1346040" cy="124128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reeform 32"/>
          <p:cNvSpPr/>
          <p:nvPr/>
        </p:nvSpPr>
        <p:spPr>
          <a:xfrm>
            <a:off x="10956960" y="2895480"/>
            <a:ext cx="1552680" cy="27648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reeform 33"/>
          <p:cNvSpPr/>
          <p:nvPr/>
        </p:nvSpPr>
        <p:spPr>
          <a:xfrm>
            <a:off x="12696840" y="2216160"/>
            <a:ext cx="1625760" cy="156204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34"/>
          <p:cNvSpPr/>
          <p:nvPr/>
        </p:nvSpPr>
        <p:spPr>
          <a:xfrm>
            <a:off x="14401800" y="2540160"/>
            <a:ext cx="1254240" cy="124452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reeform 35"/>
          <p:cNvSpPr/>
          <p:nvPr/>
        </p:nvSpPr>
        <p:spPr>
          <a:xfrm>
            <a:off x="15846480" y="2282760"/>
            <a:ext cx="1574640" cy="150516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reeform 36"/>
          <p:cNvSpPr/>
          <p:nvPr/>
        </p:nvSpPr>
        <p:spPr>
          <a:xfrm>
            <a:off x="17627760" y="2895480"/>
            <a:ext cx="1552320" cy="27648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reeform 37"/>
          <p:cNvSpPr/>
          <p:nvPr/>
        </p:nvSpPr>
        <p:spPr>
          <a:xfrm>
            <a:off x="19545480" y="2282760"/>
            <a:ext cx="1107720" cy="149868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38"/>
          <p:cNvSpPr/>
          <p:nvPr/>
        </p:nvSpPr>
        <p:spPr>
          <a:xfrm>
            <a:off x="20875680" y="2317680"/>
            <a:ext cx="336600" cy="143208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40"/>
          <p:cNvSpPr/>
          <p:nvPr/>
        </p:nvSpPr>
        <p:spPr>
          <a:xfrm>
            <a:off x="1305000" y="4495680"/>
            <a:ext cx="2889000" cy="495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41"/>
          <p:cNvSpPr/>
          <p:nvPr/>
        </p:nvSpPr>
        <p:spPr>
          <a:xfrm>
            <a:off x="4457880" y="4594320"/>
            <a:ext cx="2727000" cy="476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42"/>
          <p:cNvSpPr/>
          <p:nvPr/>
        </p:nvSpPr>
        <p:spPr>
          <a:xfrm>
            <a:off x="7413480" y="4594320"/>
            <a:ext cx="2826000" cy="476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3"/>
          <p:cNvSpPr/>
          <p:nvPr/>
        </p:nvSpPr>
        <p:spPr>
          <a:xfrm>
            <a:off x="10594800" y="4594320"/>
            <a:ext cx="1266840" cy="476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44"/>
          <p:cNvSpPr/>
          <p:nvPr/>
        </p:nvSpPr>
        <p:spPr>
          <a:xfrm>
            <a:off x="12233160" y="4594320"/>
            <a:ext cx="2826000" cy="476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45"/>
          <p:cNvSpPr/>
          <p:nvPr/>
        </p:nvSpPr>
        <p:spPr>
          <a:xfrm>
            <a:off x="15395400" y="4495680"/>
            <a:ext cx="2940120" cy="495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46"/>
          <p:cNvSpPr/>
          <p:nvPr/>
        </p:nvSpPr>
        <p:spPr>
          <a:xfrm>
            <a:off x="20869200" y="4594320"/>
            <a:ext cx="1768680" cy="476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47"/>
          <p:cNvSpPr/>
          <p:nvPr/>
        </p:nvSpPr>
        <p:spPr>
          <a:xfrm>
            <a:off x="22771080" y="4594320"/>
            <a:ext cx="2641680" cy="476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48"/>
          <p:cNvSpPr/>
          <p:nvPr/>
        </p:nvSpPr>
        <p:spPr>
          <a:xfrm>
            <a:off x="27231840" y="4594320"/>
            <a:ext cx="2330640" cy="476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9"/>
          <p:cNvSpPr/>
          <p:nvPr/>
        </p:nvSpPr>
        <p:spPr>
          <a:xfrm>
            <a:off x="23082120" y="660240"/>
            <a:ext cx="7372440" cy="425160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50"/>
          <p:cNvSpPr/>
          <p:nvPr/>
        </p:nvSpPr>
        <p:spPr>
          <a:xfrm>
            <a:off x="25781040" y="4194000"/>
            <a:ext cx="1390680" cy="214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51"/>
          <p:cNvSpPr/>
          <p:nvPr/>
        </p:nvSpPr>
        <p:spPr>
          <a:xfrm>
            <a:off x="25187400" y="5178600"/>
            <a:ext cx="1692000" cy="417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52"/>
          <p:cNvSpPr/>
          <p:nvPr/>
        </p:nvSpPr>
        <p:spPr>
          <a:xfrm>
            <a:off x="27041400" y="393840"/>
            <a:ext cx="685800" cy="147312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53"/>
          <p:cNvSpPr/>
          <p:nvPr/>
        </p:nvSpPr>
        <p:spPr>
          <a:xfrm>
            <a:off x="25431840" y="1066680"/>
            <a:ext cx="536400" cy="65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54"/>
          <p:cNvSpPr/>
          <p:nvPr/>
        </p:nvSpPr>
        <p:spPr>
          <a:xfrm>
            <a:off x="25892280" y="1184400"/>
            <a:ext cx="695160" cy="71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55"/>
          <p:cNvSpPr/>
          <p:nvPr/>
        </p:nvSpPr>
        <p:spPr>
          <a:xfrm>
            <a:off x="26603280" y="1333440"/>
            <a:ext cx="425520" cy="62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56"/>
          <p:cNvSpPr/>
          <p:nvPr/>
        </p:nvSpPr>
        <p:spPr>
          <a:xfrm>
            <a:off x="27051120" y="1432080"/>
            <a:ext cx="457200" cy="66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57"/>
          <p:cNvSpPr/>
          <p:nvPr/>
        </p:nvSpPr>
        <p:spPr>
          <a:xfrm>
            <a:off x="27501840" y="1530360"/>
            <a:ext cx="441360" cy="65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58"/>
          <p:cNvSpPr/>
          <p:nvPr/>
        </p:nvSpPr>
        <p:spPr>
          <a:xfrm>
            <a:off x="27898560" y="1619280"/>
            <a:ext cx="308160" cy="64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9"/>
          <p:cNvSpPr/>
          <p:nvPr/>
        </p:nvSpPr>
        <p:spPr>
          <a:xfrm>
            <a:off x="28225800" y="1689120"/>
            <a:ext cx="304920" cy="6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0"/>
          <p:cNvSpPr/>
          <p:nvPr/>
        </p:nvSpPr>
        <p:spPr>
          <a:xfrm>
            <a:off x="28501920" y="1787400"/>
            <a:ext cx="555840" cy="66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1"/>
          <p:cNvSpPr/>
          <p:nvPr/>
        </p:nvSpPr>
        <p:spPr>
          <a:xfrm>
            <a:off x="25085520" y="2505240"/>
            <a:ext cx="501840" cy="62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62"/>
          <p:cNvSpPr/>
          <p:nvPr/>
        </p:nvSpPr>
        <p:spPr>
          <a:xfrm>
            <a:off x="25717680" y="2644920"/>
            <a:ext cx="612720" cy="62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63"/>
          <p:cNvSpPr/>
          <p:nvPr/>
        </p:nvSpPr>
        <p:spPr>
          <a:xfrm>
            <a:off x="26466840" y="2778120"/>
            <a:ext cx="45720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64"/>
          <p:cNvSpPr/>
          <p:nvPr/>
        </p:nvSpPr>
        <p:spPr>
          <a:xfrm>
            <a:off x="27063720" y="2895480"/>
            <a:ext cx="650880" cy="72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5"/>
          <p:cNvSpPr/>
          <p:nvPr/>
        </p:nvSpPr>
        <p:spPr>
          <a:xfrm>
            <a:off x="27819360" y="3076560"/>
            <a:ext cx="441360" cy="65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66"/>
          <p:cNvSpPr/>
          <p:nvPr/>
        </p:nvSpPr>
        <p:spPr>
          <a:xfrm>
            <a:off x="28362240" y="3197160"/>
            <a:ext cx="45720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67"/>
          <p:cNvSpPr/>
          <p:nvPr/>
        </p:nvSpPr>
        <p:spPr>
          <a:xfrm>
            <a:off x="25234920" y="1806480"/>
            <a:ext cx="3800520" cy="130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68"/>
          <p:cNvSpPr/>
          <p:nvPr/>
        </p:nvSpPr>
        <p:spPr>
          <a:xfrm>
            <a:off x="25447680" y="1952640"/>
            <a:ext cx="371520" cy="31752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69"/>
          <p:cNvSpPr/>
          <p:nvPr/>
        </p:nvSpPr>
        <p:spPr>
          <a:xfrm>
            <a:off x="25809480" y="2035080"/>
            <a:ext cx="365400" cy="30816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70"/>
          <p:cNvSpPr/>
          <p:nvPr/>
        </p:nvSpPr>
        <p:spPr>
          <a:xfrm>
            <a:off x="26193600" y="2130480"/>
            <a:ext cx="368280" cy="30492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1"/>
          <p:cNvSpPr/>
          <p:nvPr/>
        </p:nvSpPr>
        <p:spPr>
          <a:xfrm>
            <a:off x="26536680" y="2187720"/>
            <a:ext cx="336600" cy="32688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72"/>
          <p:cNvSpPr/>
          <p:nvPr/>
        </p:nvSpPr>
        <p:spPr>
          <a:xfrm>
            <a:off x="26892360" y="2273400"/>
            <a:ext cx="326880" cy="32364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73"/>
          <p:cNvSpPr/>
          <p:nvPr/>
        </p:nvSpPr>
        <p:spPr>
          <a:xfrm>
            <a:off x="27362160" y="2390760"/>
            <a:ext cx="342720" cy="32400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74"/>
          <p:cNvSpPr/>
          <p:nvPr/>
        </p:nvSpPr>
        <p:spPr>
          <a:xfrm>
            <a:off x="27736920" y="2568600"/>
            <a:ext cx="342720" cy="13320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75"/>
          <p:cNvSpPr/>
          <p:nvPr/>
        </p:nvSpPr>
        <p:spPr>
          <a:xfrm>
            <a:off x="28117800" y="2556000"/>
            <a:ext cx="352440" cy="30168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76"/>
          <p:cNvSpPr/>
          <p:nvPr/>
        </p:nvSpPr>
        <p:spPr>
          <a:xfrm>
            <a:off x="28495800" y="2736720"/>
            <a:ext cx="342720" cy="13356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8" descr="C:\Documents and Settings\moosawa\My Documents\テックTTBS\クリップアート化200905\イラレファイル\活用ヒント２アウトライン\傘ポスター\名称未設定-7.png"/>
          <p:cNvPicPr/>
          <p:nvPr/>
        </p:nvPicPr>
        <p:blipFill>
          <a:blip r:embed="rId3"/>
          <a:stretch/>
        </p:blipFill>
        <p:spPr>
          <a:xfrm>
            <a:off x="22137840" y="2239920"/>
            <a:ext cx="10382040" cy="875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3:49:02Z</dcterms:created>
  <dc:creator>moosawa</dc:creator>
  <dc:description/>
  <dc:language>en-US</dc:language>
  <cp:lastModifiedBy>moosawa</cp:lastModifiedBy>
  <dcterms:modified xsi:type="dcterms:W3CDTF">2009-05-28T23:57:30Z</dcterms:modified>
  <cp:revision>3</cp:revision>
  <dc:subject/>
  <dc:title>スライド 1</dc:title>
</cp:coreProperties>
</file>