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76600" cy="1979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0BD-8AE8-4F6C-BEE3-AF60455C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7C4-13FC-4C21-A25F-D6C2D35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A1C-8CDE-4FE4-B716-EB8E712A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74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0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74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8E0-61B3-46C5-B83A-804BC835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C53-87EC-4EFF-B05D-9785A27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088-A110-4DA0-9664-46CA0C5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F8A-364C-4443-8C71-75751B2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1D8-C0C4-4059-96E0-6E54A50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080" y="79200"/>
            <a:ext cx="29494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F0E-9905-4F74-A5AA-EC2F47F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135-3AB5-4680-8353-2EB96B1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DF6-D125-493F-BF39-2689D78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6A9-6CC0-44F5-86A7-D0BDD31A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 fontScale="92000"/>
          </a:bodyPr>
          <a:p>
            <a:pPr marL="102240" indent="-1022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223560" indent="-860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344520" indent="-68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483480" indent="-6876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620640" indent="-684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620640" indent="-684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620640" indent="-684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440" y="1834920"/>
            <a:ext cx="765360" cy="1047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lstStyle>
            <a:lvl1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ja-JP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ja-JP" sz="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19240" y="1834920"/>
            <a:ext cx="1038240" cy="1047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7560" y="1834920"/>
            <a:ext cx="765000" cy="1047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lstStyle>
            <a:lvl1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ja-JP" sz="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fld id="{AA2919EB-F537-47DE-93E0-E259A49B982B}" type="slidenum">
              <a:rPr b="0" lang="ja-JP" sz="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87480" y="227160"/>
            <a:ext cx="200628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85680" y="49320"/>
            <a:ext cx="3122640" cy="180720"/>
          </a:xfrm>
          <a:prstGeom prst="rect">
            <a:avLst/>
          </a:prstGeom>
          <a:solidFill>
            <a:srgbClr val="8908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5680" y="1751040"/>
            <a:ext cx="3122640" cy="181080"/>
          </a:xfrm>
          <a:prstGeom prst="rect">
            <a:avLst/>
          </a:prstGeom>
          <a:solidFill>
            <a:srgbClr val="8908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34"/>
          <p:cNvSpPr/>
          <p:nvPr/>
        </p:nvSpPr>
        <p:spPr>
          <a:xfrm>
            <a:off x="2054160" y="32400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大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5"/>
          <p:cNvSpPr/>
          <p:nvPr/>
        </p:nvSpPr>
        <p:spPr>
          <a:xfrm>
            <a:off x="2006640" y="557280"/>
            <a:ext cx="125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ぶあん、白あん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36"/>
          <p:cNvSpPr/>
          <p:nvPr/>
        </p:nvSpPr>
        <p:spPr>
          <a:xfrm>
            <a:off x="2082960" y="141444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37"/>
          <p:cNvSpPr/>
          <p:nvPr/>
        </p:nvSpPr>
        <p:spPr>
          <a:xfrm>
            <a:off x="2368440" y="13525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26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42"/>
          <p:cNvSpPr/>
          <p:nvPr/>
        </p:nvSpPr>
        <p:spPr>
          <a:xfrm>
            <a:off x="76320" y="16938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8:17:36Z</dcterms:created>
  <dc:creator>seisaku</dc:creator>
  <dc:description/>
  <dc:language>en-US</dc:language>
  <cp:lastModifiedBy>kkato</cp:lastModifiedBy>
  <dcterms:modified xsi:type="dcterms:W3CDTF">2012-07-01T16:08:06Z</dcterms:modified>
  <cp:revision>7</cp:revision>
  <dc:subject/>
  <dc:title>スライド 1</dc:title>
</cp:coreProperties>
</file>