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565-16A8-4DD2-B4C2-13E8341E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F3F-B2FD-4AB1-9CE1-FEF9224E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4C3-8CF9-4C48-8852-2835CA3C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C21-1263-442C-9F56-969C6935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5B6-51A1-4BC9-AE81-36A389F0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F75-410B-4502-8A45-A2133F68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782-882A-4473-B9EE-42F372D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149-40FB-4139-B797-D842224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21C-DC43-4E0A-B9F4-EC0D3632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FBC-F8CD-4D78-B1B2-08CC1126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53A-C56B-458D-B012-FAAF805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604-403B-44CC-AFB6-8848D5E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9000"/>
          </a:bodyPr>
          <a:p>
            <a:pPr marL="911520" indent="-9115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976400" indent="-7599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3041280" indent="-60804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4257720" indent="-608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5473800" indent="-608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0044600"/>
            <a:ext cx="338760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0044600"/>
            <a:ext cx="2495520" cy="230040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90380D72-538E-4A6C-9650-C865D0FB8A38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375" descr="肉の日.jpg"/>
          <p:cNvPicPr/>
          <p:nvPr/>
        </p:nvPicPr>
        <p:blipFill>
          <a:blip r:embed="rId1"/>
          <a:stretch/>
        </p:blipFill>
        <p:spPr>
          <a:xfrm>
            <a:off x="0" y="0"/>
            <a:ext cx="10693440" cy="4320540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3376"/>
          <p:cNvGrpSpPr/>
          <p:nvPr/>
        </p:nvGrpSpPr>
        <p:grpSpPr>
          <a:xfrm>
            <a:off x="650880" y="7728120"/>
            <a:ext cx="9207360" cy="5292720"/>
            <a:chOff x="650880" y="7728120"/>
            <a:chExt cx="9207360" cy="5292720"/>
          </a:xfrm>
        </p:grpSpPr>
        <p:sp>
          <p:nvSpPr>
            <p:cNvPr id="43" name="Freeform 5"/>
            <p:cNvSpPr/>
            <p:nvPr/>
          </p:nvSpPr>
          <p:spPr>
            <a:xfrm>
              <a:off x="650880" y="7728120"/>
              <a:ext cx="9207360" cy="5200920"/>
            </a:xfrm>
            <a:custGeom>
              <a:avLst/>
              <a:gdLst>
                <a:gd name="textAreaLeft" fmla="*/ 0 w 9207360"/>
                <a:gd name="textAreaRight" fmla="*/ 9207720 w 9207360"/>
                <a:gd name="textAreaTop" fmla="*/ 0 h 5200920"/>
                <a:gd name="textAreaBottom" fmla="*/ 5201280 h 5200920"/>
              </a:gdLst>
              <a:ahLst/>
              <a:rect l="textAreaLeft" t="textAreaTop" r="textAreaRight" b="textAreaBottom"/>
              <a:pathLst>
                <a:path w="5800" h="3276">
                  <a:moveTo>
                    <a:pt x="5796" y="1676"/>
                  </a:moveTo>
                  <a:lnTo>
                    <a:pt x="5572" y="282"/>
                  </a:lnTo>
                  <a:lnTo>
                    <a:pt x="5572" y="282"/>
                  </a:lnTo>
                  <a:lnTo>
                    <a:pt x="5566" y="250"/>
                  </a:lnTo>
                  <a:lnTo>
                    <a:pt x="5556" y="218"/>
                  </a:lnTo>
                  <a:lnTo>
                    <a:pt x="5544" y="188"/>
                  </a:lnTo>
                  <a:lnTo>
                    <a:pt x="5530" y="160"/>
                  </a:lnTo>
                  <a:lnTo>
                    <a:pt x="5514" y="132"/>
                  </a:lnTo>
                  <a:lnTo>
                    <a:pt x="5494" y="108"/>
                  </a:lnTo>
                  <a:lnTo>
                    <a:pt x="5474" y="86"/>
                  </a:lnTo>
                  <a:lnTo>
                    <a:pt x="5452" y="66"/>
                  </a:lnTo>
                  <a:lnTo>
                    <a:pt x="5428" y="48"/>
                  </a:lnTo>
                  <a:lnTo>
                    <a:pt x="5402" y="32"/>
                  </a:lnTo>
                  <a:lnTo>
                    <a:pt x="5376" y="20"/>
                  </a:lnTo>
                  <a:lnTo>
                    <a:pt x="5350" y="10"/>
                  </a:lnTo>
                  <a:lnTo>
                    <a:pt x="5320" y="4"/>
                  </a:lnTo>
                  <a:lnTo>
                    <a:pt x="5292" y="0"/>
                  </a:lnTo>
                  <a:lnTo>
                    <a:pt x="5262" y="0"/>
                  </a:lnTo>
                  <a:lnTo>
                    <a:pt x="5234" y="2"/>
                  </a:lnTo>
                  <a:lnTo>
                    <a:pt x="240" y="804"/>
                  </a:lnTo>
                  <a:lnTo>
                    <a:pt x="240" y="804"/>
                  </a:lnTo>
                  <a:lnTo>
                    <a:pt x="212" y="810"/>
                  </a:lnTo>
                  <a:lnTo>
                    <a:pt x="184" y="820"/>
                  </a:lnTo>
                  <a:lnTo>
                    <a:pt x="158" y="832"/>
                  </a:lnTo>
                  <a:lnTo>
                    <a:pt x="132" y="846"/>
                  </a:lnTo>
                  <a:lnTo>
                    <a:pt x="110" y="864"/>
                  </a:lnTo>
                  <a:lnTo>
                    <a:pt x="88" y="884"/>
                  </a:lnTo>
                  <a:lnTo>
                    <a:pt x="70" y="908"/>
                  </a:lnTo>
                  <a:lnTo>
                    <a:pt x="52" y="932"/>
                  </a:lnTo>
                  <a:lnTo>
                    <a:pt x="38" y="958"/>
                  </a:lnTo>
                  <a:lnTo>
                    <a:pt x="26" y="986"/>
                  </a:lnTo>
                  <a:lnTo>
                    <a:pt x="16" y="1014"/>
                  </a:lnTo>
                  <a:lnTo>
                    <a:pt x="8" y="1044"/>
                  </a:lnTo>
                  <a:lnTo>
                    <a:pt x="2" y="1076"/>
                  </a:lnTo>
                  <a:lnTo>
                    <a:pt x="0" y="1108"/>
                  </a:lnTo>
                  <a:lnTo>
                    <a:pt x="2" y="1142"/>
                  </a:lnTo>
                  <a:lnTo>
                    <a:pt x="6" y="1176"/>
                  </a:lnTo>
                  <a:lnTo>
                    <a:pt x="228" y="2568"/>
                  </a:lnTo>
                  <a:lnTo>
                    <a:pt x="228" y="2568"/>
                  </a:lnTo>
                  <a:lnTo>
                    <a:pt x="236" y="2602"/>
                  </a:lnTo>
                  <a:lnTo>
                    <a:pt x="244" y="2632"/>
                  </a:lnTo>
                  <a:lnTo>
                    <a:pt x="258" y="2662"/>
                  </a:lnTo>
                  <a:lnTo>
                    <a:pt x="272" y="2692"/>
                  </a:lnTo>
                  <a:lnTo>
                    <a:pt x="288" y="2718"/>
                  </a:lnTo>
                  <a:lnTo>
                    <a:pt x="306" y="2742"/>
                  </a:lnTo>
                  <a:lnTo>
                    <a:pt x="328" y="2764"/>
                  </a:lnTo>
                  <a:lnTo>
                    <a:pt x="350" y="2784"/>
                  </a:lnTo>
                  <a:lnTo>
                    <a:pt x="374" y="2802"/>
                  </a:lnTo>
                  <a:lnTo>
                    <a:pt x="398" y="2818"/>
                  </a:lnTo>
                  <a:lnTo>
                    <a:pt x="424" y="2830"/>
                  </a:lnTo>
                  <a:lnTo>
                    <a:pt x="452" y="2840"/>
                  </a:lnTo>
                  <a:lnTo>
                    <a:pt x="480" y="2846"/>
                  </a:lnTo>
                  <a:lnTo>
                    <a:pt x="510" y="2850"/>
                  </a:lnTo>
                  <a:lnTo>
                    <a:pt x="538" y="2850"/>
                  </a:lnTo>
                  <a:lnTo>
                    <a:pt x="568" y="2848"/>
                  </a:lnTo>
                  <a:lnTo>
                    <a:pt x="3962" y="2304"/>
                  </a:lnTo>
                  <a:lnTo>
                    <a:pt x="3962" y="2304"/>
                  </a:lnTo>
                  <a:lnTo>
                    <a:pt x="3984" y="2348"/>
                  </a:lnTo>
                  <a:lnTo>
                    <a:pt x="4006" y="2398"/>
                  </a:lnTo>
                  <a:lnTo>
                    <a:pt x="4026" y="2452"/>
                  </a:lnTo>
                  <a:lnTo>
                    <a:pt x="4046" y="2508"/>
                  </a:lnTo>
                  <a:lnTo>
                    <a:pt x="4066" y="2566"/>
                  </a:lnTo>
                  <a:lnTo>
                    <a:pt x="4080" y="2628"/>
                  </a:lnTo>
                  <a:lnTo>
                    <a:pt x="4094" y="2692"/>
                  </a:lnTo>
                  <a:lnTo>
                    <a:pt x="4104" y="2756"/>
                  </a:lnTo>
                  <a:lnTo>
                    <a:pt x="4108" y="2822"/>
                  </a:lnTo>
                  <a:lnTo>
                    <a:pt x="4110" y="2854"/>
                  </a:lnTo>
                  <a:lnTo>
                    <a:pt x="4108" y="2888"/>
                  </a:lnTo>
                  <a:lnTo>
                    <a:pt x="4106" y="2922"/>
                  </a:lnTo>
                  <a:lnTo>
                    <a:pt x="4104" y="2954"/>
                  </a:lnTo>
                  <a:lnTo>
                    <a:pt x="4098" y="2988"/>
                  </a:lnTo>
                  <a:lnTo>
                    <a:pt x="4092" y="3020"/>
                  </a:lnTo>
                  <a:lnTo>
                    <a:pt x="4084" y="3054"/>
                  </a:lnTo>
                  <a:lnTo>
                    <a:pt x="4074" y="3086"/>
                  </a:lnTo>
                  <a:lnTo>
                    <a:pt x="4062" y="3118"/>
                  </a:lnTo>
                  <a:lnTo>
                    <a:pt x="4050" y="3150"/>
                  </a:lnTo>
                  <a:lnTo>
                    <a:pt x="4034" y="3182"/>
                  </a:lnTo>
                  <a:lnTo>
                    <a:pt x="4016" y="3214"/>
                  </a:lnTo>
                  <a:lnTo>
                    <a:pt x="3996" y="3244"/>
                  </a:lnTo>
                  <a:lnTo>
                    <a:pt x="3974" y="3276"/>
                  </a:lnTo>
                  <a:lnTo>
                    <a:pt x="3974" y="3276"/>
                  </a:lnTo>
                  <a:lnTo>
                    <a:pt x="4000" y="3256"/>
                  </a:lnTo>
                  <a:lnTo>
                    <a:pt x="4030" y="3232"/>
                  </a:lnTo>
                  <a:lnTo>
                    <a:pt x="4070" y="3200"/>
                  </a:lnTo>
                  <a:lnTo>
                    <a:pt x="4118" y="3158"/>
                  </a:lnTo>
                  <a:lnTo>
                    <a:pt x="4174" y="3108"/>
                  </a:lnTo>
                  <a:lnTo>
                    <a:pt x="4234" y="3050"/>
                  </a:lnTo>
                  <a:lnTo>
                    <a:pt x="4298" y="2982"/>
                  </a:lnTo>
                  <a:lnTo>
                    <a:pt x="4364" y="2908"/>
                  </a:lnTo>
                  <a:lnTo>
                    <a:pt x="4432" y="2824"/>
                  </a:lnTo>
                  <a:lnTo>
                    <a:pt x="4466" y="2780"/>
                  </a:lnTo>
                  <a:lnTo>
                    <a:pt x="4500" y="2734"/>
                  </a:lnTo>
                  <a:lnTo>
                    <a:pt x="4534" y="2686"/>
                  </a:lnTo>
                  <a:lnTo>
                    <a:pt x="4566" y="2636"/>
                  </a:lnTo>
                  <a:lnTo>
                    <a:pt x="4600" y="2584"/>
                  </a:lnTo>
                  <a:lnTo>
                    <a:pt x="4630" y="2530"/>
                  </a:lnTo>
                  <a:lnTo>
                    <a:pt x="4660" y="2474"/>
                  </a:lnTo>
                  <a:lnTo>
                    <a:pt x="4688" y="2418"/>
                  </a:lnTo>
                  <a:lnTo>
                    <a:pt x="4716" y="2358"/>
                  </a:lnTo>
                  <a:lnTo>
                    <a:pt x="4742" y="2298"/>
                  </a:lnTo>
                  <a:lnTo>
                    <a:pt x="4766" y="2236"/>
                  </a:lnTo>
                  <a:lnTo>
                    <a:pt x="4788" y="2172"/>
                  </a:lnTo>
                  <a:lnTo>
                    <a:pt x="5560" y="2048"/>
                  </a:lnTo>
                  <a:lnTo>
                    <a:pt x="5560" y="2048"/>
                  </a:lnTo>
                  <a:lnTo>
                    <a:pt x="5590" y="2040"/>
                  </a:lnTo>
                  <a:lnTo>
                    <a:pt x="5618" y="2032"/>
                  </a:lnTo>
                  <a:lnTo>
                    <a:pt x="5644" y="2020"/>
                  </a:lnTo>
                  <a:lnTo>
                    <a:pt x="5668" y="2004"/>
                  </a:lnTo>
                  <a:lnTo>
                    <a:pt x="5692" y="1986"/>
                  </a:lnTo>
                  <a:lnTo>
                    <a:pt x="5712" y="1966"/>
                  </a:lnTo>
                  <a:lnTo>
                    <a:pt x="5732" y="1944"/>
                  </a:lnTo>
                  <a:lnTo>
                    <a:pt x="5748" y="1920"/>
                  </a:lnTo>
                  <a:lnTo>
                    <a:pt x="5764" y="1894"/>
                  </a:lnTo>
                  <a:lnTo>
                    <a:pt x="5776" y="1866"/>
                  </a:lnTo>
                  <a:lnTo>
                    <a:pt x="5786" y="1836"/>
                  </a:lnTo>
                  <a:lnTo>
                    <a:pt x="5794" y="1806"/>
                  </a:lnTo>
                  <a:lnTo>
                    <a:pt x="5798" y="1774"/>
                  </a:lnTo>
                  <a:lnTo>
                    <a:pt x="5800" y="1742"/>
                  </a:lnTo>
                  <a:lnTo>
                    <a:pt x="5800" y="1708"/>
                  </a:lnTo>
                  <a:lnTo>
                    <a:pt x="5796" y="1676"/>
                  </a:lnTo>
                  <a:lnTo>
                    <a:pt x="5796" y="1676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663480" y="7975440"/>
              <a:ext cx="8890200" cy="5045400"/>
            </a:xfrm>
            <a:custGeom>
              <a:avLst/>
              <a:gdLst>
                <a:gd name="textAreaLeft" fmla="*/ 0 w 8890200"/>
                <a:gd name="textAreaRight" fmla="*/ 8890560 w 8890200"/>
                <a:gd name="textAreaTop" fmla="*/ 0 h 5045400"/>
                <a:gd name="textAreaBottom" fmla="*/ 5045760 h 5045400"/>
              </a:gdLst>
              <a:ahLst/>
              <a:rect l="textAreaLeft" t="textAreaTop" r="textAreaRight" b="textAreaBottom"/>
              <a:pathLst>
                <a:path w="5600" h="3178">
                  <a:moveTo>
                    <a:pt x="3840" y="3178"/>
                  </a:moveTo>
                  <a:lnTo>
                    <a:pt x="3812" y="3148"/>
                  </a:lnTo>
                  <a:lnTo>
                    <a:pt x="3812" y="3148"/>
                  </a:lnTo>
                  <a:lnTo>
                    <a:pt x="3832" y="3120"/>
                  </a:lnTo>
                  <a:lnTo>
                    <a:pt x="3850" y="3092"/>
                  </a:lnTo>
                  <a:lnTo>
                    <a:pt x="3866" y="3064"/>
                  </a:lnTo>
                  <a:lnTo>
                    <a:pt x="3882" y="3034"/>
                  </a:lnTo>
                  <a:lnTo>
                    <a:pt x="3894" y="3004"/>
                  </a:lnTo>
                  <a:lnTo>
                    <a:pt x="3904" y="2974"/>
                  </a:lnTo>
                  <a:lnTo>
                    <a:pt x="3914" y="2944"/>
                  </a:lnTo>
                  <a:lnTo>
                    <a:pt x="3922" y="2914"/>
                  </a:lnTo>
                  <a:lnTo>
                    <a:pt x="3928" y="2884"/>
                  </a:lnTo>
                  <a:lnTo>
                    <a:pt x="3932" y="2854"/>
                  </a:lnTo>
                  <a:lnTo>
                    <a:pt x="3934" y="2822"/>
                  </a:lnTo>
                  <a:lnTo>
                    <a:pt x="3936" y="2792"/>
                  </a:lnTo>
                  <a:lnTo>
                    <a:pt x="3936" y="2732"/>
                  </a:lnTo>
                  <a:lnTo>
                    <a:pt x="3932" y="2670"/>
                  </a:lnTo>
                  <a:lnTo>
                    <a:pt x="3924" y="2610"/>
                  </a:lnTo>
                  <a:lnTo>
                    <a:pt x="3912" y="2552"/>
                  </a:lnTo>
                  <a:lnTo>
                    <a:pt x="3898" y="2496"/>
                  </a:lnTo>
                  <a:lnTo>
                    <a:pt x="3882" y="2442"/>
                  </a:lnTo>
                  <a:lnTo>
                    <a:pt x="3864" y="2390"/>
                  </a:lnTo>
                  <a:lnTo>
                    <a:pt x="3846" y="2340"/>
                  </a:lnTo>
                  <a:lnTo>
                    <a:pt x="3826" y="2294"/>
                  </a:lnTo>
                  <a:lnTo>
                    <a:pt x="3806" y="2252"/>
                  </a:lnTo>
                  <a:lnTo>
                    <a:pt x="568" y="2772"/>
                  </a:lnTo>
                  <a:lnTo>
                    <a:pt x="568" y="2772"/>
                  </a:lnTo>
                  <a:lnTo>
                    <a:pt x="548" y="2774"/>
                  </a:lnTo>
                  <a:lnTo>
                    <a:pt x="526" y="2774"/>
                  </a:lnTo>
                  <a:lnTo>
                    <a:pt x="526" y="2774"/>
                  </a:lnTo>
                  <a:lnTo>
                    <a:pt x="498" y="2774"/>
                  </a:lnTo>
                  <a:lnTo>
                    <a:pt x="470" y="2768"/>
                  </a:lnTo>
                  <a:lnTo>
                    <a:pt x="444" y="2762"/>
                  </a:lnTo>
                  <a:lnTo>
                    <a:pt x="418" y="2752"/>
                  </a:lnTo>
                  <a:lnTo>
                    <a:pt x="394" y="2740"/>
                  </a:lnTo>
                  <a:lnTo>
                    <a:pt x="370" y="2726"/>
                  </a:lnTo>
                  <a:lnTo>
                    <a:pt x="348" y="2710"/>
                  </a:lnTo>
                  <a:lnTo>
                    <a:pt x="326" y="2692"/>
                  </a:lnTo>
                  <a:lnTo>
                    <a:pt x="306" y="2672"/>
                  </a:lnTo>
                  <a:lnTo>
                    <a:pt x="288" y="2650"/>
                  </a:lnTo>
                  <a:lnTo>
                    <a:pt x="272" y="2626"/>
                  </a:lnTo>
                  <a:lnTo>
                    <a:pt x="258" y="2600"/>
                  </a:lnTo>
                  <a:lnTo>
                    <a:pt x="244" y="2574"/>
                  </a:lnTo>
                  <a:lnTo>
                    <a:pt x="234" y="2546"/>
                  </a:lnTo>
                  <a:lnTo>
                    <a:pt x="226" y="2516"/>
                  </a:lnTo>
                  <a:lnTo>
                    <a:pt x="220" y="2486"/>
                  </a:lnTo>
                  <a:lnTo>
                    <a:pt x="6" y="1152"/>
                  </a:lnTo>
                  <a:lnTo>
                    <a:pt x="6" y="1152"/>
                  </a:lnTo>
                  <a:lnTo>
                    <a:pt x="2" y="1118"/>
                  </a:lnTo>
                  <a:lnTo>
                    <a:pt x="0" y="1084"/>
                  </a:lnTo>
                  <a:lnTo>
                    <a:pt x="2" y="1050"/>
                  </a:lnTo>
                  <a:lnTo>
                    <a:pt x="8" y="1018"/>
                  </a:lnTo>
                  <a:lnTo>
                    <a:pt x="16" y="988"/>
                  </a:lnTo>
                  <a:lnTo>
                    <a:pt x="26" y="958"/>
                  </a:lnTo>
                  <a:lnTo>
                    <a:pt x="40" y="930"/>
                  </a:lnTo>
                  <a:lnTo>
                    <a:pt x="54" y="902"/>
                  </a:lnTo>
                  <a:lnTo>
                    <a:pt x="72" y="878"/>
                  </a:lnTo>
                  <a:lnTo>
                    <a:pt x="92" y="854"/>
                  </a:lnTo>
                  <a:lnTo>
                    <a:pt x="114" y="834"/>
                  </a:lnTo>
                  <a:lnTo>
                    <a:pt x="136" y="816"/>
                  </a:lnTo>
                  <a:lnTo>
                    <a:pt x="162" y="800"/>
                  </a:lnTo>
                  <a:lnTo>
                    <a:pt x="190" y="788"/>
                  </a:lnTo>
                  <a:lnTo>
                    <a:pt x="218" y="778"/>
                  </a:lnTo>
                  <a:lnTo>
                    <a:pt x="248" y="772"/>
                  </a:lnTo>
                  <a:lnTo>
                    <a:pt x="5032" y="4"/>
                  </a:lnTo>
                  <a:lnTo>
                    <a:pt x="5032" y="4"/>
                  </a:lnTo>
                  <a:lnTo>
                    <a:pt x="5054" y="2"/>
                  </a:lnTo>
                  <a:lnTo>
                    <a:pt x="5074" y="0"/>
                  </a:lnTo>
                  <a:lnTo>
                    <a:pt x="5074" y="0"/>
                  </a:lnTo>
                  <a:lnTo>
                    <a:pt x="5102" y="2"/>
                  </a:lnTo>
                  <a:lnTo>
                    <a:pt x="5130" y="6"/>
                  </a:lnTo>
                  <a:lnTo>
                    <a:pt x="5156" y="14"/>
                  </a:lnTo>
                  <a:lnTo>
                    <a:pt x="5182" y="22"/>
                  </a:lnTo>
                  <a:lnTo>
                    <a:pt x="5206" y="34"/>
                  </a:lnTo>
                  <a:lnTo>
                    <a:pt x="5230" y="48"/>
                  </a:lnTo>
                  <a:lnTo>
                    <a:pt x="5252" y="66"/>
                  </a:lnTo>
                  <a:lnTo>
                    <a:pt x="5274" y="84"/>
                  </a:lnTo>
                  <a:lnTo>
                    <a:pt x="5294" y="104"/>
                  </a:lnTo>
                  <a:lnTo>
                    <a:pt x="5312" y="126"/>
                  </a:lnTo>
                  <a:lnTo>
                    <a:pt x="5328" y="150"/>
                  </a:lnTo>
                  <a:lnTo>
                    <a:pt x="5342" y="176"/>
                  </a:lnTo>
                  <a:lnTo>
                    <a:pt x="5356" y="202"/>
                  </a:lnTo>
                  <a:lnTo>
                    <a:pt x="5366" y="230"/>
                  </a:lnTo>
                  <a:lnTo>
                    <a:pt x="5374" y="260"/>
                  </a:lnTo>
                  <a:lnTo>
                    <a:pt x="5382" y="290"/>
                  </a:lnTo>
                  <a:lnTo>
                    <a:pt x="5594" y="1624"/>
                  </a:lnTo>
                  <a:lnTo>
                    <a:pt x="5594" y="1624"/>
                  </a:lnTo>
                  <a:lnTo>
                    <a:pt x="5598" y="1658"/>
                  </a:lnTo>
                  <a:lnTo>
                    <a:pt x="5600" y="1690"/>
                  </a:lnTo>
                  <a:lnTo>
                    <a:pt x="5598" y="1722"/>
                  </a:lnTo>
                  <a:lnTo>
                    <a:pt x="5594" y="1754"/>
                  </a:lnTo>
                  <a:lnTo>
                    <a:pt x="5586" y="1786"/>
                  </a:lnTo>
                  <a:lnTo>
                    <a:pt x="5576" y="1816"/>
                  </a:lnTo>
                  <a:lnTo>
                    <a:pt x="5562" y="1844"/>
                  </a:lnTo>
                  <a:lnTo>
                    <a:pt x="5546" y="1872"/>
                  </a:lnTo>
                  <a:lnTo>
                    <a:pt x="5546" y="1872"/>
                  </a:lnTo>
                  <a:lnTo>
                    <a:pt x="5528" y="1898"/>
                  </a:lnTo>
                  <a:lnTo>
                    <a:pt x="5508" y="1922"/>
                  </a:lnTo>
                  <a:lnTo>
                    <a:pt x="5486" y="1942"/>
                  </a:lnTo>
                  <a:lnTo>
                    <a:pt x="5462" y="1960"/>
                  </a:lnTo>
                  <a:lnTo>
                    <a:pt x="5436" y="1976"/>
                  </a:lnTo>
                  <a:lnTo>
                    <a:pt x="5410" y="1988"/>
                  </a:lnTo>
                  <a:lnTo>
                    <a:pt x="5382" y="1998"/>
                  </a:lnTo>
                  <a:lnTo>
                    <a:pt x="5352" y="2004"/>
                  </a:lnTo>
                  <a:lnTo>
                    <a:pt x="4624" y="2120"/>
                  </a:lnTo>
                  <a:lnTo>
                    <a:pt x="4624" y="2120"/>
                  </a:lnTo>
                  <a:lnTo>
                    <a:pt x="4602" y="2184"/>
                  </a:lnTo>
                  <a:lnTo>
                    <a:pt x="4578" y="2246"/>
                  </a:lnTo>
                  <a:lnTo>
                    <a:pt x="4552" y="2304"/>
                  </a:lnTo>
                  <a:lnTo>
                    <a:pt x="4524" y="2362"/>
                  </a:lnTo>
                  <a:lnTo>
                    <a:pt x="4496" y="2418"/>
                  </a:lnTo>
                  <a:lnTo>
                    <a:pt x="4466" y="2472"/>
                  </a:lnTo>
                  <a:lnTo>
                    <a:pt x="4436" y="2524"/>
                  </a:lnTo>
                  <a:lnTo>
                    <a:pt x="4404" y="2574"/>
                  </a:lnTo>
                  <a:lnTo>
                    <a:pt x="4372" y="2620"/>
                  </a:lnTo>
                  <a:lnTo>
                    <a:pt x="4340" y="2666"/>
                  </a:lnTo>
                  <a:lnTo>
                    <a:pt x="4308" y="2710"/>
                  </a:lnTo>
                  <a:lnTo>
                    <a:pt x="4276" y="2752"/>
                  </a:lnTo>
                  <a:lnTo>
                    <a:pt x="4214" y="2828"/>
                  </a:lnTo>
                  <a:lnTo>
                    <a:pt x="4154" y="2894"/>
                  </a:lnTo>
                  <a:lnTo>
                    <a:pt x="4154" y="2894"/>
                  </a:lnTo>
                  <a:lnTo>
                    <a:pt x="4092" y="2958"/>
                  </a:lnTo>
                  <a:lnTo>
                    <a:pt x="4036" y="3014"/>
                  </a:lnTo>
                  <a:lnTo>
                    <a:pt x="3982" y="3062"/>
                  </a:lnTo>
                  <a:lnTo>
                    <a:pt x="3936" y="3102"/>
                  </a:lnTo>
                  <a:lnTo>
                    <a:pt x="3898" y="3134"/>
                  </a:lnTo>
                  <a:lnTo>
                    <a:pt x="3868" y="3156"/>
                  </a:lnTo>
                  <a:lnTo>
                    <a:pt x="3840" y="3178"/>
                  </a:lnTo>
                  <a:lnTo>
                    <a:pt x="3840" y="3178"/>
                  </a:lnTo>
                  <a:close/>
                  <a:moveTo>
                    <a:pt x="3830" y="2206"/>
                  </a:moveTo>
                  <a:lnTo>
                    <a:pt x="3836" y="2220"/>
                  </a:lnTo>
                  <a:lnTo>
                    <a:pt x="3836" y="2220"/>
                  </a:lnTo>
                  <a:lnTo>
                    <a:pt x="3854" y="2258"/>
                  </a:lnTo>
                  <a:lnTo>
                    <a:pt x="3874" y="2300"/>
                  </a:lnTo>
                  <a:lnTo>
                    <a:pt x="3892" y="2346"/>
                  </a:lnTo>
                  <a:lnTo>
                    <a:pt x="3910" y="2394"/>
                  </a:lnTo>
                  <a:lnTo>
                    <a:pt x="3926" y="2444"/>
                  </a:lnTo>
                  <a:lnTo>
                    <a:pt x="3942" y="2496"/>
                  </a:lnTo>
                  <a:lnTo>
                    <a:pt x="3954" y="2552"/>
                  </a:lnTo>
                  <a:lnTo>
                    <a:pt x="3966" y="2606"/>
                  </a:lnTo>
                  <a:lnTo>
                    <a:pt x="3974" y="2664"/>
                  </a:lnTo>
                  <a:lnTo>
                    <a:pt x="3978" y="2722"/>
                  </a:lnTo>
                  <a:lnTo>
                    <a:pt x="3978" y="2780"/>
                  </a:lnTo>
                  <a:lnTo>
                    <a:pt x="3974" y="2840"/>
                  </a:lnTo>
                  <a:lnTo>
                    <a:pt x="3972" y="2868"/>
                  </a:lnTo>
                  <a:lnTo>
                    <a:pt x="3966" y="2898"/>
                  </a:lnTo>
                  <a:lnTo>
                    <a:pt x="3960" y="2928"/>
                  </a:lnTo>
                  <a:lnTo>
                    <a:pt x="3954" y="2956"/>
                  </a:lnTo>
                  <a:lnTo>
                    <a:pt x="3944" y="2986"/>
                  </a:lnTo>
                  <a:lnTo>
                    <a:pt x="3934" y="3014"/>
                  </a:lnTo>
                  <a:lnTo>
                    <a:pt x="3922" y="3042"/>
                  </a:lnTo>
                  <a:lnTo>
                    <a:pt x="3910" y="3070"/>
                  </a:lnTo>
                  <a:lnTo>
                    <a:pt x="3910" y="3070"/>
                  </a:lnTo>
                  <a:lnTo>
                    <a:pt x="3980" y="3008"/>
                  </a:lnTo>
                  <a:lnTo>
                    <a:pt x="4022" y="2970"/>
                  </a:lnTo>
                  <a:lnTo>
                    <a:pt x="4064" y="2926"/>
                  </a:lnTo>
                  <a:lnTo>
                    <a:pt x="4110" y="2880"/>
                  </a:lnTo>
                  <a:lnTo>
                    <a:pt x="4158" y="2828"/>
                  </a:lnTo>
                  <a:lnTo>
                    <a:pt x="4206" y="2772"/>
                  </a:lnTo>
                  <a:lnTo>
                    <a:pt x="4254" y="2712"/>
                  </a:lnTo>
                  <a:lnTo>
                    <a:pt x="4302" y="2650"/>
                  </a:lnTo>
                  <a:lnTo>
                    <a:pt x="4350" y="2582"/>
                  </a:lnTo>
                  <a:lnTo>
                    <a:pt x="4396" y="2510"/>
                  </a:lnTo>
                  <a:lnTo>
                    <a:pt x="4440" y="2434"/>
                  </a:lnTo>
                  <a:lnTo>
                    <a:pt x="4482" y="2356"/>
                  </a:lnTo>
                  <a:lnTo>
                    <a:pt x="4522" y="2272"/>
                  </a:lnTo>
                  <a:lnTo>
                    <a:pt x="4540" y="2230"/>
                  </a:lnTo>
                  <a:lnTo>
                    <a:pt x="4558" y="2186"/>
                  </a:lnTo>
                  <a:lnTo>
                    <a:pt x="4574" y="2142"/>
                  </a:lnTo>
                  <a:lnTo>
                    <a:pt x="4588" y="2096"/>
                  </a:lnTo>
                  <a:lnTo>
                    <a:pt x="4592" y="2084"/>
                  </a:lnTo>
                  <a:lnTo>
                    <a:pt x="5346" y="1964"/>
                  </a:lnTo>
                  <a:lnTo>
                    <a:pt x="5346" y="1964"/>
                  </a:lnTo>
                  <a:lnTo>
                    <a:pt x="5372" y="1958"/>
                  </a:lnTo>
                  <a:lnTo>
                    <a:pt x="5396" y="1950"/>
                  </a:lnTo>
                  <a:lnTo>
                    <a:pt x="5418" y="1940"/>
                  </a:lnTo>
                  <a:lnTo>
                    <a:pt x="5440" y="1926"/>
                  </a:lnTo>
                  <a:lnTo>
                    <a:pt x="5460" y="1910"/>
                  </a:lnTo>
                  <a:lnTo>
                    <a:pt x="5480" y="1892"/>
                  </a:lnTo>
                  <a:lnTo>
                    <a:pt x="5496" y="1872"/>
                  </a:lnTo>
                  <a:lnTo>
                    <a:pt x="5512" y="1850"/>
                  </a:lnTo>
                  <a:lnTo>
                    <a:pt x="5512" y="1850"/>
                  </a:lnTo>
                  <a:lnTo>
                    <a:pt x="5526" y="1826"/>
                  </a:lnTo>
                  <a:lnTo>
                    <a:pt x="5538" y="1800"/>
                  </a:lnTo>
                  <a:lnTo>
                    <a:pt x="5546" y="1774"/>
                  </a:lnTo>
                  <a:lnTo>
                    <a:pt x="5552" y="1746"/>
                  </a:lnTo>
                  <a:lnTo>
                    <a:pt x="5556" y="1718"/>
                  </a:lnTo>
                  <a:lnTo>
                    <a:pt x="5558" y="1690"/>
                  </a:lnTo>
                  <a:lnTo>
                    <a:pt x="5558" y="1660"/>
                  </a:lnTo>
                  <a:lnTo>
                    <a:pt x="5554" y="1630"/>
                  </a:lnTo>
                  <a:lnTo>
                    <a:pt x="5340" y="296"/>
                  </a:lnTo>
                  <a:lnTo>
                    <a:pt x="5340" y="296"/>
                  </a:lnTo>
                  <a:lnTo>
                    <a:pt x="5334" y="270"/>
                  </a:lnTo>
                  <a:lnTo>
                    <a:pt x="5328" y="244"/>
                  </a:lnTo>
                  <a:lnTo>
                    <a:pt x="5318" y="218"/>
                  </a:lnTo>
                  <a:lnTo>
                    <a:pt x="5308" y="196"/>
                  </a:lnTo>
                  <a:lnTo>
                    <a:pt x="5294" y="172"/>
                  </a:lnTo>
                  <a:lnTo>
                    <a:pt x="5280" y="152"/>
                  </a:lnTo>
                  <a:lnTo>
                    <a:pt x="5264" y="132"/>
                  </a:lnTo>
                  <a:lnTo>
                    <a:pt x="5246" y="114"/>
                  </a:lnTo>
                  <a:lnTo>
                    <a:pt x="5228" y="98"/>
                  </a:lnTo>
                  <a:lnTo>
                    <a:pt x="5208" y="84"/>
                  </a:lnTo>
                  <a:lnTo>
                    <a:pt x="5188" y="72"/>
                  </a:lnTo>
                  <a:lnTo>
                    <a:pt x="5168" y="62"/>
                  </a:lnTo>
                  <a:lnTo>
                    <a:pt x="5144" y="54"/>
                  </a:lnTo>
                  <a:lnTo>
                    <a:pt x="5122" y="48"/>
                  </a:lnTo>
                  <a:lnTo>
                    <a:pt x="5098" y="44"/>
                  </a:lnTo>
                  <a:lnTo>
                    <a:pt x="5074" y="42"/>
                  </a:lnTo>
                  <a:lnTo>
                    <a:pt x="5074" y="42"/>
                  </a:lnTo>
                  <a:lnTo>
                    <a:pt x="5056" y="42"/>
                  </a:lnTo>
                  <a:lnTo>
                    <a:pt x="5038" y="44"/>
                  </a:lnTo>
                  <a:lnTo>
                    <a:pt x="254" y="812"/>
                  </a:lnTo>
                  <a:lnTo>
                    <a:pt x="254" y="812"/>
                  </a:lnTo>
                  <a:lnTo>
                    <a:pt x="228" y="818"/>
                  </a:lnTo>
                  <a:lnTo>
                    <a:pt x="204" y="826"/>
                  </a:lnTo>
                  <a:lnTo>
                    <a:pt x="180" y="838"/>
                  </a:lnTo>
                  <a:lnTo>
                    <a:pt x="158" y="850"/>
                  </a:lnTo>
                  <a:lnTo>
                    <a:pt x="138" y="866"/>
                  </a:lnTo>
                  <a:lnTo>
                    <a:pt x="120" y="884"/>
                  </a:lnTo>
                  <a:lnTo>
                    <a:pt x="102" y="904"/>
                  </a:lnTo>
                  <a:lnTo>
                    <a:pt x="88" y="926"/>
                  </a:lnTo>
                  <a:lnTo>
                    <a:pt x="74" y="950"/>
                  </a:lnTo>
                  <a:lnTo>
                    <a:pt x="64" y="974"/>
                  </a:lnTo>
                  <a:lnTo>
                    <a:pt x="54" y="1000"/>
                  </a:lnTo>
                  <a:lnTo>
                    <a:pt x="48" y="1028"/>
                  </a:lnTo>
                  <a:lnTo>
                    <a:pt x="44" y="1056"/>
                  </a:lnTo>
                  <a:lnTo>
                    <a:pt x="42" y="1086"/>
                  </a:lnTo>
                  <a:lnTo>
                    <a:pt x="42" y="1114"/>
                  </a:lnTo>
                  <a:lnTo>
                    <a:pt x="46" y="1144"/>
                  </a:lnTo>
                  <a:lnTo>
                    <a:pt x="260" y="2480"/>
                  </a:lnTo>
                  <a:lnTo>
                    <a:pt x="260" y="2480"/>
                  </a:lnTo>
                  <a:lnTo>
                    <a:pt x="266" y="2506"/>
                  </a:lnTo>
                  <a:lnTo>
                    <a:pt x="272" y="2532"/>
                  </a:lnTo>
                  <a:lnTo>
                    <a:pt x="282" y="2556"/>
                  </a:lnTo>
                  <a:lnTo>
                    <a:pt x="294" y="2580"/>
                  </a:lnTo>
                  <a:lnTo>
                    <a:pt x="306" y="2602"/>
                  </a:lnTo>
                  <a:lnTo>
                    <a:pt x="320" y="2624"/>
                  </a:lnTo>
                  <a:lnTo>
                    <a:pt x="336" y="2642"/>
                  </a:lnTo>
                  <a:lnTo>
                    <a:pt x="354" y="2660"/>
                  </a:lnTo>
                  <a:lnTo>
                    <a:pt x="372" y="2676"/>
                  </a:lnTo>
                  <a:lnTo>
                    <a:pt x="392" y="2692"/>
                  </a:lnTo>
                  <a:lnTo>
                    <a:pt x="412" y="2704"/>
                  </a:lnTo>
                  <a:lnTo>
                    <a:pt x="434" y="2714"/>
                  </a:lnTo>
                  <a:lnTo>
                    <a:pt x="456" y="2722"/>
                  </a:lnTo>
                  <a:lnTo>
                    <a:pt x="478" y="2728"/>
                  </a:lnTo>
                  <a:lnTo>
                    <a:pt x="502" y="2732"/>
                  </a:lnTo>
                  <a:lnTo>
                    <a:pt x="526" y="2734"/>
                  </a:lnTo>
                  <a:lnTo>
                    <a:pt x="526" y="2734"/>
                  </a:lnTo>
                  <a:lnTo>
                    <a:pt x="544" y="2732"/>
                  </a:lnTo>
                  <a:lnTo>
                    <a:pt x="562" y="2730"/>
                  </a:lnTo>
                  <a:lnTo>
                    <a:pt x="3830" y="2206"/>
                  </a:lnTo>
                  <a:lnTo>
                    <a:pt x="3830" y="220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グループ化 3379"/>
          <p:cNvGrpSpPr/>
          <p:nvPr/>
        </p:nvGrpSpPr>
        <p:grpSpPr>
          <a:xfrm>
            <a:off x="1380960" y="13195440"/>
            <a:ext cx="7731360" cy="17021160"/>
            <a:chOff x="1380960" y="13195440"/>
            <a:chExt cx="7731360" cy="17021160"/>
          </a:xfrm>
        </p:grpSpPr>
        <p:sp>
          <p:nvSpPr>
            <p:cNvPr id="46" name="Freeform 7"/>
            <p:cNvSpPr/>
            <p:nvPr/>
          </p:nvSpPr>
          <p:spPr>
            <a:xfrm>
              <a:off x="1692000" y="13411080"/>
              <a:ext cx="7420320" cy="6162480"/>
            </a:xfrm>
            <a:custGeom>
              <a:avLst/>
              <a:gdLst>
                <a:gd name="textAreaLeft" fmla="*/ 0 w 7420320"/>
                <a:gd name="textAreaRight" fmla="*/ 7420680 w 7420320"/>
                <a:gd name="textAreaTop" fmla="*/ 0 h 6162480"/>
                <a:gd name="textAreaBottom" fmla="*/ 6162840 h 6162480"/>
              </a:gdLst>
              <a:ahLst/>
              <a:rect l="textAreaLeft" t="textAreaTop" r="textAreaRight" b="textAreaBottom"/>
              <a:pathLst>
                <a:path w="4674" h="3882">
                  <a:moveTo>
                    <a:pt x="4618" y="556"/>
                  </a:moveTo>
                  <a:lnTo>
                    <a:pt x="2794" y="556"/>
                  </a:lnTo>
                  <a:lnTo>
                    <a:pt x="2794" y="246"/>
                  </a:lnTo>
                  <a:lnTo>
                    <a:pt x="2794" y="246"/>
                  </a:lnTo>
                  <a:lnTo>
                    <a:pt x="2814" y="232"/>
                  </a:lnTo>
                  <a:lnTo>
                    <a:pt x="2834" y="218"/>
                  </a:lnTo>
                  <a:lnTo>
                    <a:pt x="2852" y="202"/>
                  </a:lnTo>
                  <a:lnTo>
                    <a:pt x="2868" y="186"/>
                  </a:lnTo>
                  <a:lnTo>
                    <a:pt x="2880" y="168"/>
                  </a:lnTo>
                  <a:lnTo>
                    <a:pt x="2890" y="150"/>
                  </a:lnTo>
                  <a:lnTo>
                    <a:pt x="2898" y="132"/>
                  </a:lnTo>
                  <a:lnTo>
                    <a:pt x="2900" y="112"/>
                  </a:lnTo>
                  <a:lnTo>
                    <a:pt x="2900" y="112"/>
                  </a:lnTo>
                  <a:lnTo>
                    <a:pt x="2898" y="94"/>
                  </a:lnTo>
                  <a:lnTo>
                    <a:pt x="2892" y="76"/>
                  </a:lnTo>
                  <a:lnTo>
                    <a:pt x="2882" y="60"/>
                  </a:lnTo>
                  <a:lnTo>
                    <a:pt x="2866" y="46"/>
                  </a:lnTo>
                  <a:lnTo>
                    <a:pt x="2848" y="34"/>
                  </a:lnTo>
                  <a:lnTo>
                    <a:pt x="2824" y="26"/>
                  </a:lnTo>
                  <a:lnTo>
                    <a:pt x="2796" y="20"/>
                  </a:lnTo>
                  <a:lnTo>
                    <a:pt x="2764" y="16"/>
                  </a:lnTo>
                  <a:lnTo>
                    <a:pt x="1938" y="0"/>
                  </a:lnTo>
                  <a:lnTo>
                    <a:pt x="1938" y="0"/>
                  </a:lnTo>
                  <a:lnTo>
                    <a:pt x="1926" y="2"/>
                  </a:lnTo>
                  <a:lnTo>
                    <a:pt x="1916" y="4"/>
                  </a:lnTo>
                  <a:lnTo>
                    <a:pt x="1906" y="10"/>
                  </a:lnTo>
                  <a:lnTo>
                    <a:pt x="1896" y="16"/>
                  </a:lnTo>
                  <a:lnTo>
                    <a:pt x="1896" y="16"/>
                  </a:lnTo>
                  <a:lnTo>
                    <a:pt x="1890" y="26"/>
                  </a:lnTo>
                  <a:lnTo>
                    <a:pt x="1884" y="36"/>
                  </a:lnTo>
                  <a:lnTo>
                    <a:pt x="1880" y="46"/>
                  </a:lnTo>
                  <a:lnTo>
                    <a:pt x="1880" y="58"/>
                  </a:lnTo>
                  <a:lnTo>
                    <a:pt x="1880" y="556"/>
                  </a:lnTo>
                  <a:lnTo>
                    <a:pt x="56" y="556"/>
                  </a:lnTo>
                  <a:lnTo>
                    <a:pt x="56" y="556"/>
                  </a:lnTo>
                  <a:lnTo>
                    <a:pt x="46" y="558"/>
                  </a:lnTo>
                  <a:lnTo>
                    <a:pt x="34" y="562"/>
                  </a:lnTo>
                  <a:lnTo>
                    <a:pt x="26" y="566"/>
                  </a:lnTo>
                  <a:lnTo>
                    <a:pt x="16" y="574"/>
                  </a:lnTo>
                  <a:lnTo>
                    <a:pt x="10" y="582"/>
                  </a:lnTo>
                  <a:lnTo>
                    <a:pt x="4" y="592"/>
                  </a:lnTo>
                  <a:lnTo>
                    <a:pt x="2" y="602"/>
                  </a:lnTo>
                  <a:lnTo>
                    <a:pt x="0" y="614"/>
                  </a:lnTo>
                  <a:lnTo>
                    <a:pt x="0" y="3824"/>
                  </a:lnTo>
                  <a:lnTo>
                    <a:pt x="0" y="3824"/>
                  </a:lnTo>
                  <a:lnTo>
                    <a:pt x="2" y="3836"/>
                  </a:lnTo>
                  <a:lnTo>
                    <a:pt x="4" y="3846"/>
                  </a:lnTo>
                  <a:lnTo>
                    <a:pt x="10" y="3856"/>
                  </a:lnTo>
                  <a:lnTo>
                    <a:pt x="16" y="3864"/>
                  </a:lnTo>
                  <a:lnTo>
                    <a:pt x="26" y="3872"/>
                  </a:lnTo>
                  <a:lnTo>
                    <a:pt x="34" y="3876"/>
                  </a:lnTo>
                  <a:lnTo>
                    <a:pt x="46" y="3880"/>
                  </a:lnTo>
                  <a:lnTo>
                    <a:pt x="56" y="3882"/>
                  </a:lnTo>
                  <a:lnTo>
                    <a:pt x="820" y="3882"/>
                  </a:lnTo>
                  <a:lnTo>
                    <a:pt x="820" y="3882"/>
                  </a:lnTo>
                  <a:lnTo>
                    <a:pt x="832" y="3880"/>
                  </a:lnTo>
                  <a:lnTo>
                    <a:pt x="842" y="3876"/>
                  </a:lnTo>
                  <a:lnTo>
                    <a:pt x="852" y="3872"/>
                  </a:lnTo>
                  <a:lnTo>
                    <a:pt x="860" y="3864"/>
                  </a:lnTo>
                  <a:lnTo>
                    <a:pt x="868" y="3856"/>
                  </a:lnTo>
                  <a:lnTo>
                    <a:pt x="872" y="3846"/>
                  </a:lnTo>
                  <a:lnTo>
                    <a:pt x="876" y="3836"/>
                  </a:lnTo>
                  <a:lnTo>
                    <a:pt x="878" y="3824"/>
                  </a:lnTo>
                  <a:lnTo>
                    <a:pt x="878" y="3366"/>
                  </a:lnTo>
                  <a:lnTo>
                    <a:pt x="878" y="3366"/>
                  </a:lnTo>
                  <a:lnTo>
                    <a:pt x="920" y="3400"/>
                  </a:lnTo>
                  <a:lnTo>
                    <a:pt x="958" y="3432"/>
                  </a:lnTo>
                  <a:lnTo>
                    <a:pt x="992" y="3462"/>
                  </a:lnTo>
                  <a:lnTo>
                    <a:pt x="1022" y="3492"/>
                  </a:lnTo>
                  <a:lnTo>
                    <a:pt x="1048" y="3520"/>
                  </a:lnTo>
                  <a:lnTo>
                    <a:pt x="1072" y="3546"/>
                  </a:lnTo>
                  <a:lnTo>
                    <a:pt x="1112" y="3596"/>
                  </a:lnTo>
                  <a:lnTo>
                    <a:pt x="1112" y="3596"/>
                  </a:lnTo>
                  <a:lnTo>
                    <a:pt x="1118" y="3602"/>
                  </a:lnTo>
                  <a:lnTo>
                    <a:pt x="1126" y="3608"/>
                  </a:lnTo>
                  <a:lnTo>
                    <a:pt x="1132" y="3612"/>
                  </a:lnTo>
                  <a:lnTo>
                    <a:pt x="1140" y="3614"/>
                  </a:lnTo>
                  <a:lnTo>
                    <a:pt x="1148" y="3616"/>
                  </a:lnTo>
                  <a:lnTo>
                    <a:pt x="1156" y="3618"/>
                  </a:lnTo>
                  <a:lnTo>
                    <a:pt x="1166" y="3616"/>
                  </a:lnTo>
                  <a:lnTo>
                    <a:pt x="1174" y="3616"/>
                  </a:lnTo>
                  <a:lnTo>
                    <a:pt x="1174" y="3616"/>
                  </a:lnTo>
                  <a:lnTo>
                    <a:pt x="1256" y="3590"/>
                  </a:lnTo>
                  <a:lnTo>
                    <a:pt x="1336" y="3560"/>
                  </a:lnTo>
                  <a:lnTo>
                    <a:pt x="1418" y="3530"/>
                  </a:lnTo>
                  <a:lnTo>
                    <a:pt x="1498" y="3496"/>
                  </a:lnTo>
                  <a:lnTo>
                    <a:pt x="1578" y="3458"/>
                  </a:lnTo>
                  <a:lnTo>
                    <a:pt x="1658" y="3420"/>
                  </a:lnTo>
                  <a:lnTo>
                    <a:pt x="1734" y="3378"/>
                  </a:lnTo>
                  <a:lnTo>
                    <a:pt x="1810" y="3334"/>
                  </a:lnTo>
                  <a:lnTo>
                    <a:pt x="1884" y="3290"/>
                  </a:lnTo>
                  <a:lnTo>
                    <a:pt x="1956" y="3242"/>
                  </a:lnTo>
                  <a:lnTo>
                    <a:pt x="2026" y="3194"/>
                  </a:lnTo>
                  <a:lnTo>
                    <a:pt x="2092" y="3144"/>
                  </a:lnTo>
                  <a:lnTo>
                    <a:pt x="2156" y="3092"/>
                  </a:lnTo>
                  <a:lnTo>
                    <a:pt x="2216" y="3040"/>
                  </a:lnTo>
                  <a:lnTo>
                    <a:pt x="2272" y="2986"/>
                  </a:lnTo>
                  <a:lnTo>
                    <a:pt x="2324" y="2932"/>
                  </a:lnTo>
                  <a:lnTo>
                    <a:pt x="2324" y="2932"/>
                  </a:lnTo>
                  <a:lnTo>
                    <a:pt x="2394" y="2992"/>
                  </a:lnTo>
                  <a:lnTo>
                    <a:pt x="2470" y="3048"/>
                  </a:lnTo>
                  <a:lnTo>
                    <a:pt x="2548" y="3104"/>
                  </a:lnTo>
                  <a:lnTo>
                    <a:pt x="2628" y="3156"/>
                  </a:lnTo>
                  <a:lnTo>
                    <a:pt x="2710" y="3208"/>
                  </a:lnTo>
                  <a:lnTo>
                    <a:pt x="2790" y="3256"/>
                  </a:lnTo>
                  <a:lnTo>
                    <a:pt x="2870" y="3300"/>
                  </a:lnTo>
                  <a:lnTo>
                    <a:pt x="2946" y="3342"/>
                  </a:lnTo>
                  <a:lnTo>
                    <a:pt x="3020" y="3378"/>
                  </a:lnTo>
                  <a:lnTo>
                    <a:pt x="3086" y="3412"/>
                  </a:lnTo>
                  <a:lnTo>
                    <a:pt x="3200" y="3466"/>
                  </a:lnTo>
                  <a:lnTo>
                    <a:pt x="3276" y="3502"/>
                  </a:lnTo>
                  <a:lnTo>
                    <a:pt x="3304" y="3514"/>
                  </a:lnTo>
                  <a:lnTo>
                    <a:pt x="3304" y="3514"/>
                  </a:lnTo>
                  <a:lnTo>
                    <a:pt x="3314" y="3516"/>
                  </a:lnTo>
                  <a:lnTo>
                    <a:pt x="3324" y="3518"/>
                  </a:lnTo>
                  <a:lnTo>
                    <a:pt x="3332" y="3518"/>
                  </a:lnTo>
                  <a:lnTo>
                    <a:pt x="3342" y="3516"/>
                  </a:lnTo>
                  <a:lnTo>
                    <a:pt x="3350" y="3514"/>
                  </a:lnTo>
                  <a:lnTo>
                    <a:pt x="3358" y="3510"/>
                  </a:lnTo>
                  <a:lnTo>
                    <a:pt x="3366" y="3504"/>
                  </a:lnTo>
                  <a:lnTo>
                    <a:pt x="3372" y="3496"/>
                  </a:lnTo>
                  <a:lnTo>
                    <a:pt x="3372" y="3496"/>
                  </a:lnTo>
                  <a:lnTo>
                    <a:pt x="3420" y="3434"/>
                  </a:lnTo>
                  <a:lnTo>
                    <a:pt x="3420" y="3434"/>
                  </a:lnTo>
                  <a:lnTo>
                    <a:pt x="3458" y="3484"/>
                  </a:lnTo>
                  <a:lnTo>
                    <a:pt x="3488" y="3532"/>
                  </a:lnTo>
                  <a:lnTo>
                    <a:pt x="3512" y="3578"/>
                  </a:lnTo>
                  <a:lnTo>
                    <a:pt x="3532" y="3622"/>
                  </a:lnTo>
                  <a:lnTo>
                    <a:pt x="3548" y="3666"/>
                  </a:lnTo>
                  <a:lnTo>
                    <a:pt x="3560" y="3710"/>
                  </a:lnTo>
                  <a:lnTo>
                    <a:pt x="3568" y="3756"/>
                  </a:lnTo>
                  <a:lnTo>
                    <a:pt x="3576" y="3802"/>
                  </a:lnTo>
                  <a:lnTo>
                    <a:pt x="3576" y="3802"/>
                  </a:lnTo>
                  <a:lnTo>
                    <a:pt x="3578" y="3814"/>
                  </a:lnTo>
                  <a:lnTo>
                    <a:pt x="3582" y="3822"/>
                  </a:lnTo>
                  <a:lnTo>
                    <a:pt x="3588" y="3830"/>
                  </a:lnTo>
                  <a:lnTo>
                    <a:pt x="3594" y="3838"/>
                  </a:lnTo>
                  <a:lnTo>
                    <a:pt x="3602" y="3844"/>
                  </a:lnTo>
                  <a:lnTo>
                    <a:pt x="3612" y="3848"/>
                  </a:lnTo>
                  <a:lnTo>
                    <a:pt x="3622" y="3852"/>
                  </a:lnTo>
                  <a:lnTo>
                    <a:pt x="3632" y="3852"/>
                  </a:lnTo>
                  <a:lnTo>
                    <a:pt x="3632" y="3852"/>
                  </a:lnTo>
                  <a:lnTo>
                    <a:pt x="3774" y="3854"/>
                  </a:lnTo>
                  <a:lnTo>
                    <a:pt x="3774" y="3854"/>
                  </a:lnTo>
                  <a:lnTo>
                    <a:pt x="3868" y="3852"/>
                  </a:lnTo>
                  <a:lnTo>
                    <a:pt x="3958" y="3850"/>
                  </a:lnTo>
                  <a:lnTo>
                    <a:pt x="4044" y="3846"/>
                  </a:lnTo>
                  <a:lnTo>
                    <a:pt x="4124" y="3840"/>
                  </a:lnTo>
                  <a:lnTo>
                    <a:pt x="4198" y="3830"/>
                  </a:lnTo>
                  <a:lnTo>
                    <a:pt x="4268" y="3818"/>
                  </a:lnTo>
                  <a:lnTo>
                    <a:pt x="4300" y="3810"/>
                  </a:lnTo>
                  <a:lnTo>
                    <a:pt x="4332" y="3802"/>
                  </a:lnTo>
                  <a:lnTo>
                    <a:pt x="4364" y="3792"/>
                  </a:lnTo>
                  <a:lnTo>
                    <a:pt x="4392" y="3782"/>
                  </a:lnTo>
                  <a:lnTo>
                    <a:pt x="4392" y="3782"/>
                  </a:lnTo>
                  <a:lnTo>
                    <a:pt x="4426" y="3768"/>
                  </a:lnTo>
                  <a:lnTo>
                    <a:pt x="4458" y="3752"/>
                  </a:lnTo>
                  <a:lnTo>
                    <a:pt x="4488" y="3736"/>
                  </a:lnTo>
                  <a:lnTo>
                    <a:pt x="4516" y="3716"/>
                  </a:lnTo>
                  <a:lnTo>
                    <a:pt x="4540" y="3696"/>
                  </a:lnTo>
                  <a:lnTo>
                    <a:pt x="4564" y="3674"/>
                  </a:lnTo>
                  <a:lnTo>
                    <a:pt x="4584" y="3650"/>
                  </a:lnTo>
                  <a:lnTo>
                    <a:pt x="4604" y="3624"/>
                  </a:lnTo>
                  <a:lnTo>
                    <a:pt x="4620" y="3598"/>
                  </a:lnTo>
                  <a:lnTo>
                    <a:pt x="4634" y="3570"/>
                  </a:lnTo>
                  <a:lnTo>
                    <a:pt x="4646" y="3540"/>
                  </a:lnTo>
                  <a:lnTo>
                    <a:pt x="4656" y="3508"/>
                  </a:lnTo>
                  <a:lnTo>
                    <a:pt x="4664" y="3474"/>
                  </a:lnTo>
                  <a:lnTo>
                    <a:pt x="4670" y="3440"/>
                  </a:lnTo>
                  <a:lnTo>
                    <a:pt x="4672" y="3404"/>
                  </a:lnTo>
                  <a:lnTo>
                    <a:pt x="4674" y="3366"/>
                  </a:lnTo>
                  <a:lnTo>
                    <a:pt x="4674" y="614"/>
                  </a:lnTo>
                  <a:lnTo>
                    <a:pt x="4674" y="614"/>
                  </a:lnTo>
                  <a:lnTo>
                    <a:pt x="4672" y="602"/>
                  </a:lnTo>
                  <a:lnTo>
                    <a:pt x="4670" y="592"/>
                  </a:lnTo>
                  <a:lnTo>
                    <a:pt x="4664" y="582"/>
                  </a:lnTo>
                  <a:lnTo>
                    <a:pt x="4658" y="574"/>
                  </a:lnTo>
                  <a:lnTo>
                    <a:pt x="4648" y="566"/>
                  </a:lnTo>
                  <a:lnTo>
                    <a:pt x="4640" y="562"/>
                  </a:lnTo>
                  <a:lnTo>
                    <a:pt x="4628" y="558"/>
                  </a:lnTo>
                  <a:lnTo>
                    <a:pt x="4618" y="556"/>
                  </a:lnTo>
                  <a:lnTo>
                    <a:pt x="4618" y="556"/>
                  </a:lnTo>
                  <a:close/>
                  <a:moveTo>
                    <a:pt x="3794" y="3122"/>
                  </a:moveTo>
                  <a:lnTo>
                    <a:pt x="3794" y="3122"/>
                  </a:lnTo>
                  <a:lnTo>
                    <a:pt x="3794" y="3136"/>
                  </a:lnTo>
                  <a:lnTo>
                    <a:pt x="3792" y="3146"/>
                  </a:lnTo>
                  <a:lnTo>
                    <a:pt x="3792" y="3146"/>
                  </a:lnTo>
                  <a:lnTo>
                    <a:pt x="3778" y="3148"/>
                  </a:lnTo>
                  <a:lnTo>
                    <a:pt x="3750" y="3150"/>
                  </a:lnTo>
                  <a:lnTo>
                    <a:pt x="3750" y="3150"/>
                  </a:lnTo>
                  <a:lnTo>
                    <a:pt x="3794" y="3122"/>
                  </a:lnTo>
                  <a:lnTo>
                    <a:pt x="3794" y="3122"/>
                  </a:lnTo>
                  <a:close/>
                  <a:moveTo>
                    <a:pt x="878" y="2096"/>
                  </a:moveTo>
                  <a:lnTo>
                    <a:pt x="878" y="2096"/>
                  </a:lnTo>
                  <a:lnTo>
                    <a:pt x="914" y="2134"/>
                  </a:lnTo>
                  <a:lnTo>
                    <a:pt x="944" y="2168"/>
                  </a:lnTo>
                  <a:lnTo>
                    <a:pt x="972" y="2202"/>
                  </a:lnTo>
                  <a:lnTo>
                    <a:pt x="994" y="2232"/>
                  </a:lnTo>
                  <a:lnTo>
                    <a:pt x="1012" y="2262"/>
                  </a:lnTo>
                  <a:lnTo>
                    <a:pt x="1028" y="2288"/>
                  </a:lnTo>
                  <a:lnTo>
                    <a:pt x="1050" y="2332"/>
                  </a:lnTo>
                  <a:lnTo>
                    <a:pt x="1054" y="2338"/>
                  </a:lnTo>
                  <a:lnTo>
                    <a:pt x="1054" y="2338"/>
                  </a:lnTo>
                  <a:lnTo>
                    <a:pt x="1060" y="2346"/>
                  </a:lnTo>
                  <a:lnTo>
                    <a:pt x="1066" y="2352"/>
                  </a:lnTo>
                  <a:lnTo>
                    <a:pt x="1072" y="2358"/>
                  </a:lnTo>
                  <a:lnTo>
                    <a:pt x="1080" y="2364"/>
                  </a:lnTo>
                  <a:lnTo>
                    <a:pt x="1088" y="2366"/>
                  </a:lnTo>
                  <a:lnTo>
                    <a:pt x="1098" y="2368"/>
                  </a:lnTo>
                  <a:lnTo>
                    <a:pt x="1106" y="2368"/>
                  </a:lnTo>
                  <a:lnTo>
                    <a:pt x="1116" y="2368"/>
                  </a:lnTo>
                  <a:lnTo>
                    <a:pt x="1116" y="2368"/>
                  </a:lnTo>
                  <a:lnTo>
                    <a:pt x="1218" y="2346"/>
                  </a:lnTo>
                  <a:lnTo>
                    <a:pt x="1318" y="2322"/>
                  </a:lnTo>
                  <a:lnTo>
                    <a:pt x="1414" y="2296"/>
                  </a:lnTo>
                  <a:lnTo>
                    <a:pt x="1510" y="2268"/>
                  </a:lnTo>
                  <a:lnTo>
                    <a:pt x="1604" y="2236"/>
                  </a:lnTo>
                  <a:lnTo>
                    <a:pt x="1698" y="2200"/>
                  </a:lnTo>
                  <a:lnTo>
                    <a:pt x="1792" y="2158"/>
                  </a:lnTo>
                  <a:lnTo>
                    <a:pt x="1838" y="2136"/>
                  </a:lnTo>
                  <a:lnTo>
                    <a:pt x="1884" y="2112"/>
                  </a:lnTo>
                  <a:lnTo>
                    <a:pt x="1884" y="2112"/>
                  </a:lnTo>
                  <a:lnTo>
                    <a:pt x="1874" y="2150"/>
                  </a:lnTo>
                  <a:lnTo>
                    <a:pt x="1860" y="2188"/>
                  </a:lnTo>
                  <a:lnTo>
                    <a:pt x="1846" y="2224"/>
                  </a:lnTo>
                  <a:lnTo>
                    <a:pt x="1830" y="2260"/>
                  </a:lnTo>
                  <a:lnTo>
                    <a:pt x="1814" y="2296"/>
                  </a:lnTo>
                  <a:lnTo>
                    <a:pt x="1796" y="2330"/>
                  </a:lnTo>
                  <a:lnTo>
                    <a:pt x="1776" y="2364"/>
                  </a:lnTo>
                  <a:lnTo>
                    <a:pt x="1756" y="2398"/>
                  </a:lnTo>
                  <a:lnTo>
                    <a:pt x="1734" y="2430"/>
                  </a:lnTo>
                  <a:lnTo>
                    <a:pt x="1710" y="2462"/>
                  </a:lnTo>
                  <a:lnTo>
                    <a:pt x="1686" y="2492"/>
                  </a:lnTo>
                  <a:lnTo>
                    <a:pt x="1660" y="2524"/>
                  </a:lnTo>
                  <a:lnTo>
                    <a:pt x="1634" y="2552"/>
                  </a:lnTo>
                  <a:lnTo>
                    <a:pt x="1606" y="2582"/>
                  </a:lnTo>
                  <a:lnTo>
                    <a:pt x="1576" y="2610"/>
                  </a:lnTo>
                  <a:lnTo>
                    <a:pt x="1544" y="2638"/>
                  </a:lnTo>
                  <a:lnTo>
                    <a:pt x="1512" y="2664"/>
                  </a:lnTo>
                  <a:lnTo>
                    <a:pt x="1478" y="2690"/>
                  </a:lnTo>
                  <a:lnTo>
                    <a:pt x="1444" y="2714"/>
                  </a:lnTo>
                  <a:lnTo>
                    <a:pt x="1408" y="2740"/>
                  </a:lnTo>
                  <a:lnTo>
                    <a:pt x="1370" y="2764"/>
                  </a:lnTo>
                  <a:lnTo>
                    <a:pt x="1332" y="2786"/>
                  </a:lnTo>
                  <a:lnTo>
                    <a:pt x="1292" y="2808"/>
                  </a:lnTo>
                  <a:lnTo>
                    <a:pt x="1252" y="2830"/>
                  </a:lnTo>
                  <a:lnTo>
                    <a:pt x="1210" y="2850"/>
                  </a:lnTo>
                  <a:lnTo>
                    <a:pt x="1166" y="2870"/>
                  </a:lnTo>
                  <a:lnTo>
                    <a:pt x="1074" y="2908"/>
                  </a:lnTo>
                  <a:lnTo>
                    <a:pt x="978" y="2942"/>
                  </a:lnTo>
                  <a:lnTo>
                    <a:pt x="878" y="2974"/>
                  </a:lnTo>
                  <a:lnTo>
                    <a:pt x="878" y="2096"/>
                  </a:lnTo>
                  <a:close/>
                  <a:moveTo>
                    <a:pt x="878" y="1756"/>
                  </a:moveTo>
                  <a:lnTo>
                    <a:pt x="878" y="1240"/>
                  </a:lnTo>
                  <a:lnTo>
                    <a:pt x="1744" y="1240"/>
                  </a:lnTo>
                  <a:lnTo>
                    <a:pt x="1744" y="1240"/>
                  </a:lnTo>
                  <a:lnTo>
                    <a:pt x="1726" y="1268"/>
                  </a:lnTo>
                  <a:lnTo>
                    <a:pt x="1708" y="1294"/>
                  </a:lnTo>
                  <a:lnTo>
                    <a:pt x="1690" y="1320"/>
                  </a:lnTo>
                  <a:lnTo>
                    <a:pt x="1672" y="1344"/>
                  </a:lnTo>
                  <a:lnTo>
                    <a:pt x="1630" y="1392"/>
                  </a:lnTo>
                  <a:lnTo>
                    <a:pt x="1588" y="1434"/>
                  </a:lnTo>
                  <a:lnTo>
                    <a:pt x="1542" y="1474"/>
                  </a:lnTo>
                  <a:lnTo>
                    <a:pt x="1492" y="1510"/>
                  </a:lnTo>
                  <a:lnTo>
                    <a:pt x="1442" y="1544"/>
                  </a:lnTo>
                  <a:lnTo>
                    <a:pt x="1388" y="1574"/>
                  </a:lnTo>
                  <a:lnTo>
                    <a:pt x="1332" y="1604"/>
                  </a:lnTo>
                  <a:lnTo>
                    <a:pt x="1272" y="1630"/>
                  </a:lnTo>
                  <a:lnTo>
                    <a:pt x="1212" y="1654"/>
                  </a:lnTo>
                  <a:lnTo>
                    <a:pt x="1148" y="1676"/>
                  </a:lnTo>
                  <a:lnTo>
                    <a:pt x="1084" y="1698"/>
                  </a:lnTo>
                  <a:lnTo>
                    <a:pt x="1016" y="1718"/>
                  </a:lnTo>
                  <a:lnTo>
                    <a:pt x="878" y="1756"/>
                  </a:lnTo>
                  <a:lnTo>
                    <a:pt x="878" y="1756"/>
                  </a:lnTo>
                  <a:close/>
                  <a:moveTo>
                    <a:pt x="3014" y="1240"/>
                  </a:moveTo>
                  <a:lnTo>
                    <a:pt x="3796" y="1240"/>
                  </a:lnTo>
                  <a:lnTo>
                    <a:pt x="3796" y="1734"/>
                  </a:lnTo>
                  <a:lnTo>
                    <a:pt x="3796" y="1734"/>
                  </a:lnTo>
                  <a:lnTo>
                    <a:pt x="3718" y="1704"/>
                  </a:lnTo>
                  <a:lnTo>
                    <a:pt x="3646" y="1672"/>
                  </a:lnTo>
                  <a:lnTo>
                    <a:pt x="3578" y="1642"/>
                  </a:lnTo>
                  <a:lnTo>
                    <a:pt x="3514" y="1610"/>
                  </a:lnTo>
                  <a:lnTo>
                    <a:pt x="3454" y="1580"/>
                  </a:lnTo>
                  <a:lnTo>
                    <a:pt x="3400" y="1548"/>
                  </a:lnTo>
                  <a:lnTo>
                    <a:pt x="3348" y="1518"/>
                  </a:lnTo>
                  <a:lnTo>
                    <a:pt x="3300" y="1488"/>
                  </a:lnTo>
                  <a:lnTo>
                    <a:pt x="3256" y="1456"/>
                  </a:lnTo>
                  <a:lnTo>
                    <a:pt x="3214" y="1426"/>
                  </a:lnTo>
                  <a:lnTo>
                    <a:pt x="3176" y="1396"/>
                  </a:lnTo>
                  <a:lnTo>
                    <a:pt x="3140" y="1364"/>
                  </a:lnTo>
                  <a:lnTo>
                    <a:pt x="3106" y="1334"/>
                  </a:lnTo>
                  <a:lnTo>
                    <a:pt x="3074" y="1302"/>
                  </a:lnTo>
                  <a:lnTo>
                    <a:pt x="3014" y="1240"/>
                  </a:lnTo>
                  <a:lnTo>
                    <a:pt x="3014" y="1240"/>
                  </a:lnTo>
                  <a:close/>
                  <a:moveTo>
                    <a:pt x="2746" y="2184"/>
                  </a:moveTo>
                  <a:lnTo>
                    <a:pt x="2746" y="2184"/>
                  </a:lnTo>
                  <a:lnTo>
                    <a:pt x="2802" y="2174"/>
                  </a:lnTo>
                  <a:lnTo>
                    <a:pt x="2826" y="2168"/>
                  </a:lnTo>
                  <a:lnTo>
                    <a:pt x="2850" y="2160"/>
                  </a:lnTo>
                  <a:lnTo>
                    <a:pt x="2872" y="2152"/>
                  </a:lnTo>
                  <a:lnTo>
                    <a:pt x="2890" y="2142"/>
                  </a:lnTo>
                  <a:lnTo>
                    <a:pt x="2908" y="2130"/>
                  </a:lnTo>
                  <a:lnTo>
                    <a:pt x="2920" y="2114"/>
                  </a:lnTo>
                  <a:lnTo>
                    <a:pt x="2920" y="2114"/>
                  </a:lnTo>
                  <a:lnTo>
                    <a:pt x="2976" y="2148"/>
                  </a:lnTo>
                  <a:lnTo>
                    <a:pt x="3032" y="2178"/>
                  </a:lnTo>
                  <a:lnTo>
                    <a:pt x="3138" y="2234"/>
                  </a:lnTo>
                  <a:lnTo>
                    <a:pt x="3238" y="2280"/>
                  </a:lnTo>
                  <a:lnTo>
                    <a:pt x="3326" y="2320"/>
                  </a:lnTo>
                  <a:lnTo>
                    <a:pt x="3402" y="2352"/>
                  </a:lnTo>
                  <a:lnTo>
                    <a:pt x="3464" y="2376"/>
                  </a:lnTo>
                  <a:lnTo>
                    <a:pt x="3536" y="2402"/>
                  </a:lnTo>
                  <a:lnTo>
                    <a:pt x="3536" y="2402"/>
                  </a:lnTo>
                  <a:lnTo>
                    <a:pt x="3544" y="2406"/>
                  </a:lnTo>
                  <a:lnTo>
                    <a:pt x="3554" y="2406"/>
                  </a:lnTo>
                  <a:lnTo>
                    <a:pt x="3564" y="2404"/>
                  </a:lnTo>
                  <a:lnTo>
                    <a:pt x="3574" y="2402"/>
                  </a:lnTo>
                  <a:lnTo>
                    <a:pt x="3582" y="2398"/>
                  </a:lnTo>
                  <a:lnTo>
                    <a:pt x="3590" y="2392"/>
                  </a:lnTo>
                  <a:lnTo>
                    <a:pt x="3596" y="2386"/>
                  </a:lnTo>
                  <a:lnTo>
                    <a:pt x="3602" y="2378"/>
                  </a:lnTo>
                  <a:lnTo>
                    <a:pt x="3606" y="2372"/>
                  </a:lnTo>
                  <a:lnTo>
                    <a:pt x="3606" y="2372"/>
                  </a:lnTo>
                  <a:lnTo>
                    <a:pt x="3632" y="2330"/>
                  </a:lnTo>
                  <a:lnTo>
                    <a:pt x="3668" y="2276"/>
                  </a:lnTo>
                  <a:lnTo>
                    <a:pt x="3692" y="2246"/>
                  </a:lnTo>
                  <a:lnTo>
                    <a:pt x="3722" y="2210"/>
                  </a:lnTo>
                  <a:lnTo>
                    <a:pt x="3756" y="2170"/>
                  </a:lnTo>
                  <a:lnTo>
                    <a:pt x="3796" y="2126"/>
                  </a:lnTo>
                  <a:lnTo>
                    <a:pt x="3796" y="2944"/>
                  </a:lnTo>
                  <a:lnTo>
                    <a:pt x="3796" y="2944"/>
                  </a:lnTo>
                  <a:lnTo>
                    <a:pt x="3728" y="2922"/>
                  </a:lnTo>
                  <a:lnTo>
                    <a:pt x="3658" y="2896"/>
                  </a:lnTo>
                  <a:lnTo>
                    <a:pt x="3586" y="2868"/>
                  </a:lnTo>
                  <a:lnTo>
                    <a:pt x="3514" y="2836"/>
                  </a:lnTo>
                  <a:lnTo>
                    <a:pt x="3440" y="2802"/>
                  </a:lnTo>
                  <a:lnTo>
                    <a:pt x="3368" y="2766"/>
                  </a:lnTo>
                  <a:lnTo>
                    <a:pt x="3294" y="2728"/>
                  </a:lnTo>
                  <a:lnTo>
                    <a:pt x="3220" y="2688"/>
                  </a:lnTo>
                  <a:lnTo>
                    <a:pt x="3148" y="2646"/>
                  </a:lnTo>
                  <a:lnTo>
                    <a:pt x="3078" y="2602"/>
                  </a:lnTo>
                  <a:lnTo>
                    <a:pt x="3008" y="2558"/>
                  </a:lnTo>
                  <a:lnTo>
                    <a:pt x="2940" y="2512"/>
                  </a:lnTo>
                  <a:lnTo>
                    <a:pt x="2876" y="2466"/>
                  </a:lnTo>
                  <a:lnTo>
                    <a:pt x="2814" y="2420"/>
                  </a:lnTo>
                  <a:lnTo>
                    <a:pt x="2754" y="2372"/>
                  </a:lnTo>
                  <a:lnTo>
                    <a:pt x="2700" y="2324"/>
                  </a:lnTo>
                  <a:lnTo>
                    <a:pt x="2700" y="2324"/>
                  </a:lnTo>
                  <a:lnTo>
                    <a:pt x="2726" y="2252"/>
                  </a:lnTo>
                  <a:lnTo>
                    <a:pt x="2738" y="2218"/>
                  </a:lnTo>
                  <a:lnTo>
                    <a:pt x="2746" y="2184"/>
                  </a:lnTo>
                  <a:lnTo>
                    <a:pt x="2746" y="2184"/>
                  </a:lnTo>
                  <a:close/>
                  <a:moveTo>
                    <a:pt x="2394" y="1724"/>
                  </a:moveTo>
                  <a:lnTo>
                    <a:pt x="2394" y="1724"/>
                  </a:lnTo>
                  <a:lnTo>
                    <a:pt x="2458" y="1782"/>
                  </a:lnTo>
                  <a:lnTo>
                    <a:pt x="2522" y="1836"/>
                  </a:lnTo>
                  <a:lnTo>
                    <a:pt x="2586" y="1890"/>
                  </a:lnTo>
                  <a:lnTo>
                    <a:pt x="2652" y="1938"/>
                  </a:lnTo>
                  <a:lnTo>
                    <a:pt x="2206" y="1900"/>
                  </a:lnTo>
                  <a:lnTo>
                    <a:pt x="2206" y="1900"/>
                  </a:lnTo>
                  <a:lnTo>
                    <a:pt x="2266" y="1848"/>
                  </a:lnTo>
                  <a:lnTo>
                    <a:pt x="2318" y="1802"/>
                  </a:lnTo>
                  <a:lnTo>
                    <a:pt x="2362" y="1760"/>
                  </a:lnTo>
                  <a:lnTo>
                    <a:pt x="2394" y="1724"/>
                  </a:lnTo>
                  <a:lnTo>
                    <a:pt x="2394" y="1724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3063600" y="20294640"/>
              <a:ext cx="4695840" cy="3485880"/>
            </a:xfrm>
            <a:custGeom>
              <a:avLst/>
              <a:gdLst>
                <a:gd name="textAreaLeft" fmla="*/ 0 w 4695840"/>
                <a:gd name="textAreaRight" fmla="*/ 4696200 w 4695840"/>
                <a:gd name="textAreaTop" fmla="*/ 0 h 3485880"/>
                <a:gd name="textAreaBottom" fmla="*/ 3486240 h 3485880"/>
              </a:gdLst>
              <a:ahLst/>
              <a:rect l="textAreaLeft" t="textAreaTop" r="textAreaRight" b="textAreaBottom"/>
              <a:pathLst>
                <a:path w="2958" h="2196">
                  <a:moveTo>
                    <a:pt x="1506" y="1734"/>
                  </a:moveTo>
                  <a:lnTo>
                    <a:pt x="1506" y="1734"/>
                  </a:lnTo>
                  <a:lnTo>
                    <a:pt x="1498" y="1736"/>
                  </a:lnTo>
                  <a:lnTo>
                    <a:pt x="1490" y="1738"/>
                  </a:lnTo>
                  <a:lnTo>
                    <a:pt x="1476" y="1746"/>
                  </a:lnTo>
                  <a:lnTo>
                    <a:pt x="1466" y="1758"/>
                  </a:lnTo>
                  <a:lnTo>
                    <a:pt x="1462" y="1766"/>
                  </a:lnTo>
                  <a:lnTo>
                    <a:pt x="1460" y="1774"/>
                  </a:lnTo>
                  <a:lnTo>
                    <a:pt x="1460" y="1774"/>
                  </a:lnTo>
                  <a:lnTo>
                    <a:pt x="1458" y="1782"/>
                  </a:lnTo>
                  <a:lnTo>
                    <a:pt x="1458" y="1790"/>
                  </a:lnTo>
                  <a:lnTo>
                    <a:pt x="1460" y="1806"/>
                  </a:lnTo>
                  <a:lnTo>
                    <a:pt x="1466" y="1820"/>
                  </a:lnTo>
                  <a:lnTo>
                    <a:pt x="1472" y="1828"/>
                  </a:lnTo>
                  <a:lnTo>
                    <a:pt x="1478" y="1834"/>
                  </a:lnTo>
                  <a:lnTo>
                    <a:pt x="1478" y="1834"/>
                  </a:lnTo>
                  <a:lnTo>
                    <a:pt x="1530" y="1878"/>
                  </a:lnTo>
                  <a:lnTo>
                    <a:pt x="1576" y="1920"/>
                  </a:lnTo>
                  <a:lnTo>
                    <a:pt x="1618" y="1960"/>
                  </a:lnTo>
                  <a:lnTo>
                    <a:pt x="1656" y="1998"/>
                  </a:lnTo>
                  <a:lnTo>
                    <a:pt x="1690" y="2036"/>
                  </a:lnTo>
                  <a:lnTo>
                    <a:pt x="1724" y="2078"/>
                  </a:lnTo>
                  <a:lnTo>
                    <a:pt x="1760" y="2122"/>
                  </a:lnTo>
                  <a:lnTo>
                    <a:pt x="1796" y="2172"/>
                  </a:lnTo>
                  <a:lnTo>
                    <a:pt x="1796" y="2172"/>
                  </a:lnTo>
                  <a:lnTo>
                    <a:pt x="1806" y="2182"/>
                  </a:lnTo>
                  <a:lnTo>
                    <a:pt x="1818" y="2190"/>
                  </a:lnTo>
                  <a:lnTo>
                    <a:pt x="1830" y="2194"/>
                  </a:lnTo>
                  <a:lnTo>
                    <a:pt x="1842" y="2196"/>
                  </a:lnTo>
                  <a:lnTo>
                    <a:pt x="1842" y="2196"/>
                  </a:lnTo>
                  <a:lnTo>
                    <a:pt x="1852" y="2194"/>
                  </a:lnTo>
                  <a:lnTo>
                    <a:pt x="1862" y="2192"/>
                  </a:lnTo>
                  <a:lnTo>
                    <a:pt x="1862" y="2192"/>
                  </a:lnTo>
                  <a:lnTo>
                    <a:pt x="1970" y="2154"/>
                  </a:lnTo>
                  <a:lnTo>
                    <a:pt x="2072" y="2116"/>
                  </a:lnTo>
                  <a:lnTo>
                    <a:pt x="2166" y="2076"/>
                  </a:lnTo>
                  <a:lnTo>
                    <a:pt x="2212" y="2054"/>
                  </a:lnTo>
                  <a:lnTo>
                    <a:pt x="2256" y="2034"/>
                  </a:lnTo>
                  <a:lnTo>
                    <a:pt x="2298" y="2012"/>
                  </a:lnTo>
                  <a:lnTo>
                    <a:pt x="2340" y="1988"/>
                  </a:lnTo>
                  <a:lnTo>
                    <a:pt x="2380" y="1964"/>
                  </a:lnTo>
                  <a:lnTo>
                    <a:pt x="2418" y="1938"/>
                  </a:lnTo>
                  <a:lnTo>
                    <a:pt x="2456" y="1912"/>
                  </a:lnTo>
                  <a:lnTo>
                    <a:pt x="2494" y="1884"/>
                  </a:lnTo>
                  <a:lnTo>
                    <a:pt x="2530" y="1854"/>
                  </a:lnTo>
                  <a:lnTo>
                    <a:pt x="2566" y="1822"/>
                  </a:lnTo>
                  <a:lnTo>
                    <a:pt x="2566" y="1822"/>
                  </a:lnTo>
                  <a:lnTo>
                    <a:pt x="2614" y="1776"/>
                  </a:lnTo>
                  <a:lnTo>
                    <a:pt x="2658" y="1730"/>
                  </a:lnTo>
                  <a:lnTo>
                    <a:pt x="2700" y="1682"/>
                  </a:lnTo>
                  <a:lnTo>
                    <a:pt x="2738" y="1636"/>
                  </a:lnTo>
                  <a:lnTo>
                    <a:pt x="2772" y="1588"/>
                  </a:lnTo>
                  <a:lnTo>
                    <a:pt x="2804" y="1538"/>
                  </a:lnTo>
                  <a:lnTo>
                    <a:pt x="2834" y="1488"/>
                  </a:lnTo>
                  <a:lnTo>
                    <a:pt x="2860" y="1438"/>
                  </a:lnTo>
                  <a:lnTo>
                    <a:pt x="2882" y="1388"/>
                  </a:lnTo>
                  <a:lnTo>
                    <a:pt x="2902" y="1336"/>
                  </a:lnTo>
                  <a:lnTo>
                    <a:pt x="2920" y="1284"/>
                  </a:lnTo>
                  <a:lnTo>
                    <a:pt x="2934" y="1232"/>
                  </a:lnTo>
                  <a:lnTo>
                    <a:pt x="2944" y="1178"/>
                  </a:lnTo>
                  <a:lnTo>
                    <a:pt x="2952" y="1124"/>
                  </a:lnTo>
                  <a:lnTo>
                    <a:pt x="2956" y="1070"/>
                  </a:lnTo>
                  <a:lnTo>
                    <a:pt x="2958" y="1016"/>
                  </a:lnTo>
                  <a:lnTo>
                    <a:pt x="2958" y="1016"/>
                  </a:lnTo>
                  <a:lnTo>
                    <a:pt x="2956" y="960"/>
                  </a:lnTo>
                  <a:lnTo>
                    <a:pt x="2952" y="906"/>
                  </a:lnTo>
                  <a:lnTo>
                    <a:pt x="2942" y="852"/>
                  </a:lnTo>
                  <a:lnTo>
                    <a:pt x="2930" y="800"/>
                  </a:lnTo>
                  <a:lnTo>
                    <a:pt x="2916" y="748"/>
                  </a:lnTo>
                  <a:lnTo>
                    <a:pt x="2898" y="698"/>
                  </a:lnTo>
                  <a:lnTo>
                    <a:pt x="2876" y="648"/>
                  </a:lnTo>
                  <a:lnTo>
                    <a:pt x="2852" y="600"/>
                  </a:lnTo>
                  <a:lnTo>
                    <a:pt x="2824" y="554"/>
                  </a:lnTo>
                  <a:lnTo>
                    <a:pt x="2792" y="508"/>
                  </a:lnTo>
                  <a:lnTo>
                    <a:pt x="2760" y="464"/>
                  </a:lnTo>
                  <a:lnTo>
                    <a:pt x="2722" y="422"/>
                  </a:lnTo>
                  <a:lnTo>
                    <a:pt x="2682" y="380"/>
                  </a:lnTo>
                  <a:lnTo>
                    <a:pt x="2640" y="340"/>
                  </a:lnTo>
                  <a:lnTo>
                    <a:pt x="2594" y="304"/>
                  </a:lnTo>
                  <a:lnTo>
                    <a:pt x="2546" y="268"/>
                  </a:lnTo>
                  <a:lnTo>
                    <a:pt x="2546" y="268"/>
                  </a:lnTo>
                  <a:lnTo>
                    <a:pt x="2498" y="236"/>
                  </a:lnTo>
                  <a:lnTo>
                    <a:pt x="2448" y="206"/>
                  </a:lnTo>
                  <a:lnTo>
                    <a:pt x="2398" y="178"/>
                  </a:lnTo>
                  <a:lnTo>
                    <a:pt x="2344" y="152"/>
                  </a:lnTo>
                  <a:lnTo>
                    <a:pt x="2290" y="128"/>
                  </a:lnTo>
                  <a:lnTo>
                    <a:pt x="2234" y="106"/>
                  </a:lnTo>
                  <a:lnTo>
                    <a:pt x="2176" y="86"/>
                  </a:lnTo>
                  <a:lnTo>
                    <a:pt x="2118" y="68"/>
                  </a:lnTo>
                  <a:lnTo>
                    <a:pt x="2056" y="52"/>
                  </a:lnTo>
                  <a:lnTo>
                    <a:pt x="1996" y="38"/>
                  </a:lnTo>
                  <a:lnTo>
                    <a:pt x="1932" y="26"/>
                  </a:lnTo>
                  <a:lnTo>
                    <a:pt x="1868" y="16"/>
                  </a:lnTo>
                  <a:lnTo>
                    <a:pt x="1804" y="10"/>
                  </a:lnTo>
                  <a:lnTo>
                    <a:pt x="1738" y="4"/>
                  </a:lnTo>
                  <a:lnTo>
                    <a:pt x="1672" y="0"/>
                  </a:lnTo>
                  <a:lnTo>
                    <a:pt x="1606" y="0"/>
                  </a:lnTo>
                  <a:lnTo>
                    <a:pt x="1606" y="0"/>
                  </a:lnTo>
                  <a:lnTo>
                    <a:pt x="1524" y="0"/>
                  </a:lnTo>
                  <a:lnTo>
                    <a:pt x="1442" y="6"/>
                  </a:lnTo>
                  <a:lnTo>
                    <a:pt x="1362" y="14"/>
                  </a:lnTo>
                  <a:lnTo>
                    <a:pt x="1282" y="24"/>
                  </a:lnTo>
                  <a:lnTo>
                    <a:pt x="1204" y="38"/>
                  </a:lnTo>
                  <a:lnTo>
                    <a:pt x="1126" y="56"/>
                  </a:lnTo>
                  <a:lnTo>
                    <a:pt x="1052" y="76"/>
                  </a:lnTo>
                  <a:lnTo>
                    <a:pt x="976" y="100"/>
                  </a:lnTo>
                  <a:lnTo>
                    <a:pt x="904" y="126"/>
                  </a:lnTo>
                  <a:lnTo>
                    <a:pt x="832" y="156"/>
                  </a:lnTo>
                  <a:lnTo>
                    <a:pt x="764" y="188"/>
                  </a:lnTo>
                  <a:lnTo>
                    <a:pt x="696" y="222"/>
                  </a:lnTo>
                  <a:lnTo>
                    <a:pt x="630" y="260"/>
                  </a:lnTo>
                  <a:lnTo>
                    <a:pt x="568" y="300"/>
                  </a:lnTo>
                  <a:lnTo>
                    <a:pt x="506" y="344"/>
                  </a:lnTo>
                  <a:lnTo>
                    <a:pt x="448" y="388"/>
                  </a:lnTo>
                  <a:lnTo>
                    <a:pt x="448" y="388"/>
                  </a:lnTo>
                  <a:lnTo>
                    <a:pt x="396" y="432"/>
                  </a:lnTo>
                  <a:lnTo>
                    <a:pt x="348" y="478"/>
                  </a:lnTo>
                  <a:lnTo>
                    <a:pt x="302" y="526"/>
                  </a:lnTo>
                  <a:lnTo>
                    <a:pt x="260" y="574"/>
                  </a:lnTo>
                  <a:lnTo>
                    <a:pt x="220" y="624"/>
                  </a:lnTo>
                  <a:lnTo>
                    <a:pt x="182" y="674"/>
                  </a:lnTo>
                  <a:lnTo>
                    <a:pt x="150" y="726"/>
                  </a:lnTo>
                  <a:lnTo>
                    <a:pt x="120" y="778"/>
                  </a:lnTo>
                  <a:lnTo>
                    <a:pt x="92" y="830"/>
                  </a:lnTo>
                  <a:lnTo>
                    <a:pt x="68" y="884"/>
                  </a:lnTo>
                  <a:lnTo>
                    <a:pt x="48" y="938"/>
                  </a:lnTo>
                  <a:lnTo>
                    <a:pt x="32" y="992"/>
                  </a:lnTo>
                  <a:lnTo>
                    <a:pt x="18" y="1046"/>
                  </a:lnTo>
                  <a:lnTo>
                    <a:pt x="8" y="1100"/>
                  </a:lnTo>
                  <a:lnTo>
                    <a:pt x="2" y="1154"/>
                  </a:lnTo>
                  <a:lnTo>
                    <a:pt x="0" y="1208"/>
                  </a:lnTo>
                  <a:lnTo>
                    <a:pt x="0" y="1208"/>
                  </a:lnTo>
                  <a:lnTo>
                    <a:pt x="2" y="1250"/>
                  </a:lnTo>
                  <a:lnTo>
                    <a:pt x="6" y="1290"/>
                  </a:lnTo>
                  <a:lnTo>
                    <a:pt x="10" y="1330"/>
                  </a:lnTo>
                  <a:lnTo>
                    <a:pt x="18" y="1372"/>
                  </a:lnTo>
                  <a:lnTo>
                    <a:pt x="28" y="1412"/>
                  </a:lnTo>
                  <a:lnTo>
                    <a:pt x="42" y="1450"/>
                  </a:lnTo>
                  <a:lnTo>
                    <a:pt x="56" y="1490"/>
                  </a:lnTo>
                  <a:lnTo>
                    <a:pt x="72" y="1528"/>
                  </a:lnTo>
                  <a:lnTo>
                    <a:pt x="90" y="1566"/>
                  </a:lnTo>
                  <a:lnTo>
                    <a:pt x="112" y="1604"/>
                  </a:lnTo>
                  <a:lnTo>
                    <a:pt x="134" y="1642"/>
                  </a:lnTo>
                  <a:lnTo>
                    <a:pt x="160" y="1678"/>
                  </a:lnTo>
                  <a:lnTo>
                    <a:pt x="186" y="1712"/>
                  </a:lnTo>
                  <a:lnTo>
                    <a:pt x="214" y="1748"/>
                  </a:lnTo>
                  <a:lnTo>
                    <a:pt x="246" y="1780"/>
                  </a:lnTo>
                  <a:lnTo>
                    <a:pt x="278" y="1814"/>
                  </a:lnTo>
                  <a:lnTo>
                    <a:pt x="278" y="1814"/>
                  </a:lnTo>
                  <a:lnTo>
                    <a:pt x="306" y="1840"/>
                  </a:lnTo>
                  <a:lnTo>
                    <a:pt x="336" y="1864"/>
                  </a:lnTo>
                  <a:lnTo>
                    <a:pt x="366" y="1888"/>
                  </a:lnTo>
                  <a:lnTo>
                    <a:pt x="396" y="1910"/>
                  </a:lnTo>
                  <a:lnTo>
                    <a:pt x="428" y="1932"/>
                  </a:lnTo>
                  <a:lnTo>
                    <a:pt x="460" y="1950"/>
                  </a:lnTo>
                  <a:lnTo>
                    <a:pt x="490" y="1968"/>
                  </a:lnTo>
                  <a:lnTo>
                    <a:pt x="522" y="1986"/>
                  </a:lnTo>
                  <a:lnTo>
                    <a:pt x="554" y="2000"/>
                  </a:lnTo>
                  <a:lnTo>
                    <a:pt x="586" y="2012"/>
                  </a:lnTo>
                  <a:lnTo>
                    <a:pt x="616" y="2024"/>
                  </a:lnTo>
                  <a:lnTo>
                    <a:pt x="646" y="2032"/>
                  </a:lnTo>
                  <a:lnTo>
                    <a:pt x="676" y="2040"/>
                  </a:lnTo>
                  <a:lnTo>
                    <a:pt x="706" y="2046"/>
                  </a:lnTo>
                  <a:lnTo>
                    <a:pt x="734" y="2048"/>
                  </a:lnTo>
                  <a:lnTo>
                    <a:pt x="762" y="2050"/>
                  </a:lnTo>
                  <a:lnTo>
                    <a:pt x="762" y="2050"/>
                  </a:lnTo>
                  <a:lnTo>
                    <a:pt x="796" y="2048"/>
                  </a:lnTo>
                  <a:lnTo>
                    <a:pt x="832" y="2042"/>
                  </a:lnTo>
                  <a:lnTo>
                    <a:pt x="868" y="2032"/>
                  </a:lnTo>
                  <a:lnTo>
                    <a:pt x="904" y="2018"/>
                  </a:lnTo>
                  <a:lnTo>
                    <a:pt x="940" y="2002"/>
                  </a:lnTo>
                  <a:lnTo>
                    <a:pt x="976" y="1982"/>
                  </a:lnTo>
                  <a:lnTo>
                    <a:pt x="1014" y="1958"/>
                  </a:lnTo>
                  <a:lnTo>
                    <a:pt x="1050" y="1930"/>
                  </a:lnTo>
                  <a:lnTo>
                    <a:pt x="1088" y="1900"/>
                  </a:lnTo>
                  <a:lnTo>
                    <a:pt x="1124" y="1866"/>
                  </a:lnTo>
                  <a:lnTo>
                    <a:pt x="1160" y="1830"/>
                  </a:lnTo>
                  <a:lnTo>
                    <a:pt x="1196" y="1790"/>
                  </a:lnTo>
                  <a:lnTo>
                    <a:pt x="1232" y="1746"/>
                  </a:lnTo>
                  <a:lnTo>
                    <a:pt x="1268" y="1700"/>
                  </a:lnTo>
                  <a:lnTo>
                    <a:pt x="1302" y="1652"/>
                  </a:lnTo>
                  <a:lnTo>
                    <a:pt x="1336" y="1600"/>
                  </a:lnTo>
                  <a:lnTo>
                    <a:pt x="1370" y="1548"/>
                  </a:lnTo>
                  <a:lnTo>
                    <a:pt x="1402" y="1490"/>
                  </a:lnTo>
                  <a:lnTo>
                    <a:pt x="1434" y="1432"/>
                  </a:lnTo>
                  <a:lnTo>
                    <a:pt x="1464" y="1370"/>
                  </a:lnTo>
                  <a:lnTo>
                    <a:pt x="1494" y="1306"/>
                  </a:lnTo>
                  <a:lnTo>
                    <a:pt x="1522" y="1240"/>
                  </a:lnTo>
                  <a:lnTo>
                    <a:pt x="1550" y="1172"/>
                  </a:lnTo>
                  <a:lnTo>
                    <a:pt x="1576" y="1102"/>
                  </a:lnTo>
                  <a:lnTo>
                    <a:pt x="1600" y="1030"/>
                  </a:lnTo>
                  <a:lnTo>
                    <a:pt x="1622" y="956"/>
                  </a:lnTo>
                  <a:lnTo>
                    <a:pt x="1644" y="880"/>
                  </a:lnTo>
                  <a:lnTo>
                    <a:pt x="1664" y="802"/>
                  </a:lnTo>
                  <a:lnTo>
                    <a:pt x="1680" y="722"/>
                  </a:lnTo>
                  <a:lnTo>
                    <a:pt x="1696" y="640"/>
                  </a:lnTo>
                  <a:lnTo>
                    <a:pt x="1710" y="558"/>
                  </a:lnTo>
                  <a:lnTo>
                    <a:pt x="1722" y="474"/>
                  </a:lnTo>
                  <a:lnTo>
                    <a:pt x="1722" y="474"/>
                  </a:lnTo>
                  <a:lnTo>
                    <a:pt x="1762" y="478"/>
                  </a:lnTo>
                  <a:lnTo>
                    <a:pt x="1802" y="484"/>
                  </a:lnTo>
                  <a:lnTo>
                    <a:pt x="1840" y="492"/>
                  </a:lnTo>
                  <a:lnTo>
                    <a:pt x="1876" y="500"/>
                  </a:lnTo>
                  <a:lnTo>
                    <a:pt x="1912" y="510"/>
                  </a:lnTo>
                  <a:lnTo>
                    <a:pt x="1946" y="520"/>
                  </a:lnTo>
                  <a:lnTo>
                    <a:pt x="1980" y="532"/>
                  </a:lnTo>
                  <a:lnTo>
                    <a:pt x="2012" y="546"/>
                  </a:lnTo>
                  <a:lnTo>
                    <a:pt x="2042" y="560"/>
                  </a:lnTo>
                  <a:lnTo>
                    <a:pt x="2070" y="574"/>
                  </a:lnTo>
                  <a:lnTo>
                    <a:pt x="2098" y="592"/>
                  </a:lnTo>
                  <a:lnTo>
                    <a:pt x="2124" y="610"/>
                  </a:lnTo>
                  <a:lnTo>
                    <a:pt x="2150" y="628"/>
                  </a:lnTo>
                  <a:lnTo>
                    <a:pt x="2174" y="648"/>
                  </a:lnTo>
                  <a:lnTo>
                    <a:pt x="2196" y="670"/>
                  </a:lnTo>
                  <a:lnTo>
                    <a:pt x="2218" y="692"/>
                  </a:lnTo>
                  <a:lnTo>
                    <a:pt x="2218" y="692"/>
                  </a:lnTo>
                  <a:lnTo>
                    <a:pt x="2238" y="716"/>
                  </a:lnTo>
                  <a:lnTo>
                    <a:pt x="2256" y="740"/>
                  </a:lnTo>
                  <a:lnTo>
                    <a:pt x="2272" y="766"/>
                  </a:lnTo>
                  <a:lnTo>
                    <a:pt x="2286" y="790"/>
                  </a:lnTo>
                  <a:lnTo>
                    <a:pt x="2298" y="814"/>
                  </a:lnTo>
                  <a:lnTo>
                    <a:pt x="2308" y="838"/>
                  </a:lnTo>
                  <a:lnTo>
                    <a:pt x="2318" y="860"/>
                  </a:lnTo>
                  <a:lnTo>
                    <a:pt x="2324" y="884"/>
                  </a:lnTo>
                  <a:lnTo>
                    <a:pt x="2334" y="924"/>
                  </a:lnTo>
                  <a:lnTo>
                    <a:pt x="2342" y="962"/>
                  </a:lnTo>
                  <a:lnTo>
                    <a:pt x="2344" y="994"/>
                  </a:lnTo>
                  <a:lnTo>
                    <a:pt x="2344" y="1018"/>
                  </a:lnTo>
                  <a:lnTo>
                    <a:pt x="2344" y="1018"/>
                  </a:lnTo>
                  <a:lnTo>
                    <a:pt x="2344" y="1048"/>
                  </a:lnTo>
                  <a:lnTo>
                    <a:pt x="2340" y="1086"/>
                  </a:lnTo>
                  <a:lnTo>
                    <a:pt x="2332" y="1132"/>
                  </a:lnTo>
                  <a:lnTo>
                    <a:pt x="2326" y="1156"/>
                  </a:lnTo>
                  <a:lnTo>
                    <a:pt x="2318" y="1182"/>
                  </a:lnTo>
                  <a:lnTo>
                    <a:pt x="2308" y="1210"/>
                  </a:lnTo>
                  <a:lnTo>
                    <a:pt x="2296" y="1240"/>
                  </a:lnTo>
                  <a:lnTo>
                    <a:pt x="2282" y="1268"/>
                  </a:lnTo>
                  <a:lnTo>
                    <a:pt x="2266" y="1300"/>
                  </a:lnTo>
                  <a:lnTo>
                    <a:pt x="2246" y="1330"/>
                  </a:lnTo>
                  <a:lnTo>
                    <a:pt x="2226" y="1362"/>
                  </a:lnTo>
                  <a:lnTo>
                    <a:pt x="2200" y="1392"/>
                  </a:lnTo>
                  <a:lnTo>
                    <a:pt x="2174" y="1424"/>
                  </a:lnTo>
                  <a:lnTo>
                    <a:pt x="2174" y="1424"/>
                  </a:lnTo>
                  <a:lnTo>
                    <a:pt x="2144" y="1454"/>
                  </a:lnTo>
                  <a:lnTo>
                    <a:pt x="2114" y="1482"/>
                  </a:lnTo>
                  <a:lnTo>
                    <a:pt x="2082" y="1510"/>
                  </a:lnTo>
                  <a:lnTo>
                    <a:pt x="2048" y="1534"/>
                  </a:lnTo>
                  <a:lnTo>
                    <a:pt x="2012" y="1558"/>
                  </a:lnTo>
                  <a:lnTo>
                    <a:pt x="1974" y="1582"/>
                  </a:lnTo>
                  <a:lnTo>
                    <a:pt x="1934" y="1604"/>
                  </a:lnTo>
                  <a:lnTo>
                    <a:pt x="1892" y="1624"/>
                  </a:lnTo>
                  <a:lnTo>
                    <a:pt x="1850" y="1642"/>
                  </a:lnTo>
                  <a:lnTo>
                    <a:pt x="1806" y="1660"/>
                  </a:lnTo>
                  <a:lnTo>
                    <a:pt x="1760" y="1676"/>
                  </a:lnTo>
                  <a:lnTo>
                    <a:pt x="1712" y="1690"/>
                  </a:lnTo>
                  <a:lnTo>
                    <a:pt x="1662" y="1702"/>
                  </a:lnTo>
                  <a:lnTo>
                    <a:pt x="1612" y="1714"/>
                  </a:lnTo>
                  <a:lnTo>
                    <a:pt x="1560" y="1724"/>
                  </a:lnTo>
                  <a:lnTo>
                    <a:pt x="1506" y="1734"/>
                  </a:lnTo>
                  <a:lnTo>
                    <a:pt x="1506" y="1734"/>
                  </a:lnTo>
                  <a:close/>
                  <a:moveTo>
                    <a:pt x="1082" y="568"/>
                  </a:moveTo>
                  <a:lnTo>
                    <a:pt x="1082" y="568"/>
                  </a:lnTo>
                  <a:lnTo>
                    <a:pt x="1078" y="614"/>
                  </a:lnTo>
                  <a:lnTo>
                    <a:pt x="1072" y="660"/>
                  </a:lnTo>
                  <a:lnTo>
                    <a:pt x="1066" y="706"/>
                  </a:lnTo>
                  <a:lnTo>
                    <a:pt x="1058" y="752"/>
                  </a:lnTo>
                  <a:lnTo>
                    <a:pt x="1048" y="798"/>
                  </a:lnTo>
                  <a:lnTo>
                    <a:pt x="1038" y="844"/>
                  </a:lnTo>
                  <a:lnTo>
                    <a:pt x="1026" y="890"/>
                  </a:lnTo>
                  <a:lnTo>
                    <a:pt x="1012" y="936"/>
                  </a:lnTo>
                  <a:lnTo>
                    <a:pt x="996" y="982"/>
                  </a:lnTo>
                  <a:lnTo>
                    <a:pt x="980" y="1028"/>
                  </a:lnTo>
                  <a:lnTo>
                    <a:pt x="962" y="1074"/>
                  </a:lnTo>
                  <a:lnTo>
                    <a:pt x="942" y="1122"/>
                  </a:lnTo>
                  <a:lnTo>
                    <a:pt x="920" y="1168"/>
                  </a:lnTo>
                  <a:lnTo>
                    <a:pt x="898" y="1214"/>
                  </a:lnTo>
                  <a:lnTo>
                    <a:pt x="874" y="1262"/>
                  </a:lnTo>
                  <a:lnTo>
                    <a:pt x="848" y="1310"/>
                  </a:lnTo>
                  <a:lnTo>
                    <a:pt x="848" y="1310"/>
                  </a:lnTo>
                  <a:lnTo>
                    <a:pt x="848" y="1310"/>
                  </a:lnTo>
                  <a:lnTo>
                    <a:pt x="848" y="1310"/>
                  </a:lnTo>
                  <a:lnTo>
                    <a:pt x="826" y="1350"/>
                  </a:lnTo>
                  <a:lnTo>
                    <a:pt x="812" y="1374"/>
                  </a:lnTo>
                  <a:lnTo>
                    <a:pt x="796" y="1398"/>
                  </a:lnTo>
                  <a:lnTo>
                    <a:pt x="778" y="1420"/>
                  </a:lnTo>
                  <a:lnTo>
                    <a:pt x="762" y="1438"/>
                  </a:lnTo>
                  <a:lnTo>
                    <a:pt x="752" y="1446"/>
                  </a:lnTo>
                  <a:lnTo>
                    <a:pt x="744" y="1452"/>
                  </a:lnTo>
                  <a:lnTo>
                    <a:pt x="736" y="1454"/>
                  </a:lnTo>
                  <a:lnTo>
                    <a:pt x="728" y="1456"/>
                  </a:lnTo>
                  <a:lnTo>
                    <a:pt x="728" y="1456"/>
                  </a:lnTo>
                  <a:lnTo>
                    <a:pt x="722" y="1454"/>
                  </a:lnTo>
                  <a:lnTo>
                    <a:pt x="712" y="1450"/>
                  </a:lnTo>
                  <a:lnTo>
                    <a:pt x="692" y="1434"/>
                  </a:lnTo>
                  <a:lnTo>
                    <a:pt x="668" y="1410"/>
                  </a:lnTo>
                  <a:lnTo>
                    <a:pt x="656" y="1394"/>
                  </a:lnTo>
                  <a:lnTo>
                    <a:pt x="644" y="1378"/>
                  </a:lnTo>
                  <a:lnTo>
                    <a:pt x="632" y="1358"/>
                  </a:lnTo>
                  <a:lnTo>
                    <a:pt x="620" y="1338"/>
                  </a:lnTo>
                  <a:lnTo>
                    <a:pt x="610" y="1316"/>
                  </a:lnTo>
                  <a:lnTo>
                    <a:pt x="600" y="1292"/>
                  </a:lnTo>
                  <a:lnTo>
                    <a:pt x="592" y="1266"/>
                  </a:lnTo>
                  <a:lnTo>
                    <a:pt x="588" y="1238"/>
                  </a:lnTo>
                  <a:lnTo>
                    <a:pt x="584" y="1210"/>
                  </a:lnTo>
                  <a:lnTo>
                    <a:pt x="582" y="1178"/>
                  </a:lnTo>
                  <a:lnTo>
                    <a:pt x="582" y="1178"/>
                  </a:lnTo>
                  <a:lnTo>
                    <a:pt x="584" y="1144"/>
                  </a:lnTo>
                  <a:lnTo>
                    <a:pt x="590" y="1106"/>
                  </a:lnTo>
                  <a:lnTo>
                    <a:pt x="602" y="1068"/>
                  </a:lnTo>
                  <a:lnTo>
                    <a:pt x="616" y="1026"/>
                  </a:lnTo>
                  <a:lnTo>
                    <a:pt x="636" y="984"/>
                  </a:lnTo>
                  <a:lnTo>
                    <a:pt x="660" y="940"/>
                  </a:lnTo>
                  <a:lnTo>
                    <a:pt x="686" y="896"/>
                  </a:lnTo>
                  <a:lnTo>
                    <a:pt x="716" y="854"/>
                  </a:lnTo>
                  <a:lnTo>
                    <a:pt x="750" y="810"/>
                  </a:lnTo>
                  <a:lnTo>
                    <a:pt x="788" y="770"/>
                  </a:lnTo>
                  <a:lnTo>
                    <a:pt x="830" y="730"/>
                  </a:lnTo>
                  <a:lnTo>
                    <a:pt x="874" y="690"/>
                  </a:lnTo>
                  <a:lnTo>
                    <a:pt x="922" y="656"/>
                  </a:lnTo>
                  <a:lnTo>
                    <a:pt x="972" y="622"/>
                  </a:lnTo>
                  <a:lnTo>
                    <a:pt x="1026" y="594"/>
                  </a:lnTo>
                  <a:lnTo>
                    <a:pt x="1052" y="580"/>
                  </a:lnTo>
                  <a:lnTo>
                    <a:pt x="1082" y="568"/>
                  </a:lnTo>
                  <a:lnTo>
                    <a:pt x="1082" y="568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317320" y="24698520"/>
              <a:ext cx="6175800" cy="5518080"/>
            </a:xfrm>
            <a:custGeom>
              <a:avLst/>
              <a:gdLst>
                <a:gd name="textAreaLeft" fmla="*/ 0 w 6175800"/>
                <a:gd name="textAreaRight" fmla="*/ 6176160 w 6175800"/>
                <a:gd name="textAreaTop" fmla="*/ 0 h 5518080"/>
                <a:gd name="textAreaBottom" fmla="*/ 5518440 h 5518080"/>
              </a:gdLst>
              <a:ahLst/>
              <a:rect l="textAreaLeft" t="textAreaTop" r="textAreaRight" b="textAreaBottom"/>
              <a:pathLst>
                <a:path w="3890" h="3476">
                  <a:moveTo>
                    <a:pt x="3834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6" y="4"/>
                  </a:lnTo>
                  <a:lnTo>
                    <a:pt x="26" y="10"/>
                  </a:lnTo>
                  <a:lnTo>
                    <a:pt x="18" y="16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2" y="46"/>
                  </a:lnTo>
                  <a:lnTo>
                    <a:pt x="0" y="56"/>
                  </a:lnTo>
                  <a:lnTo>
                    <a:pt x="0" y="3420"/>
                  </a:lnTo>
                  <a:lnTo>
                    <a:pt x="0" y="3420"/>
                  </a:lnTo>
                  <a:lnTo>
                    <a:pt x="2" y="3432"/>
                  </a:lnTo>
                  <a:lnTo>
                    <a:pt x="6" y="3442"/>
                  </a:lnTo>
                  <a:lnTo>
                    <a:pt x="10" y="3452"/>
                  </a:lnTo>
                  <a:lnTo>
                    <a:pt x="18" y="3460"/>
                  </a:lnTo>
                  <a:lnTo>
                    <a:pt x="26" y="3466"/>
                  </a:lnTo>
                  <a:lnTo>
                    <a:pt x="36" y="3472"/>
                  </a:lnTo>
                  <a:lnTo>
                    <a:pt x="46" y="3476"/>
                  </a:lnTo>
                  <a:lnTo>
                    <a:pt x="58" y="3476"/>
                  </a:lnTo>
                  <a:lnTo>
                    <a:pt x="884" y="3476"/>
                  </a:lnTo>
                  <a:lnTo>
                    <a:pt x="884" y="3476"/>
                  </a:lnTo>
                  <a:lnTo>
                    <a:pt x="896" y="3476"/>
                  </a:lnTo>
                  <a:lnTo>
                    <a:pt x="906" y="3472"/>
                  </a:lnTo>
                  <a:lnTo>
                    <a:pt x="916" y="3466"/>
                  </a:lnTo>
                  <a:lnTo>
                    <a:pt x="924" y="3460"/>
                  </a:lnTo>
                  <a:lnTo>
                    <a:pt x="932" y="3452"/>
                  </a:lnTo>
                  <a:lnTo>
                    <a:pt x="936" y="3442"/>
                  </a:lnTo>
                  <a:lnTo>
                    <a:pt x="940" y="3432"/>
                  </a:lnTo>
                  <a:lnTo>
                    <a:pt x="942" y="3420"/>
                  </a:lnTo>
                  <a:lnTo>
                    <a:pt x="942" y="3250"/>
                  </a:lnTo>
                  <a:lnTo>
                    <a:pt x="2950" y="3250"/>
                  </a:lnTo>
                  <a:lnTo>
                    <a:pt x="2950" y="3420"/>
                  </a:lnTo>
                  <a:lnTo>
                    <a:pt x="2950" y="3420"/>
                  </a:lnTo>
                  <a:lnTo>
                    <a:pt x="2950" y="3432"/>
                  </a:lnTo>
                  <a:lnTo>
                    <a:pt x="2954" y="3442"/>
                  </a:lnTo>
                  <a:lnTo>
                    <a:pt x="2960" y="3452"/>
                  </a:lnTo>
                  <a:lnTo>
                    <a:pt x="2966" y="3460"/>
                  </a:lnTo>
                  <a:lnTo>
                    <a:pt x="2974" y="3466"/>
                  </a:lnTo>
                  <a:lnTo>
                    <a:pt x="2984" y="3472"/>
                  </a:lnTo>
                  <a:lnTo>
                    <a:pt x="2996" y="3476"/>
                  </a:lnTo>
                  <a:lnTo>
                    <a:pt x="3006" y="3476"/>
                  </a:lnTo>
                  <a:lnTo>
                    <a:pt x="3834" y="3476"/>
                  </a:lnTo>
                  <a:lnTo>
                    <a:pt x="3834" y="3476"/>
                  </a:lnTo>
                  <a:lnTo>
                    <a:pt x="3844" y="3476"/>
                  </a:lnTo>
                  <a:lnTo>
                    <a:pt x="3856" y="3472"/>
                  </a:lnTo>
                  <a:lnTo>
                    <a:pt x="3866" y="3466"/>
                  </a:lnTo>
                  <a:lnTo>
                    <a:pt x="3874" y="3460"/>
                  </a:lnTo>
                  <a:lnTo>
                    <a:pt x="3880" y="3452"/>
                  </a:lnTo>
                  <a:lnTo>
                    <a:pt x="3886" y="3442"/>
                  </a:lnTo>
                  <a:lnTo>
                    <a:pt x="3890" y="3432"/>
                  </a:lnTo>
                  <a:lnTo>
                    <a:pt x="3890" y="3420"/>
                  </a:lnTo>
                  <a:lnTo>
                    <a:pt x="3890" y="56"/>
                  </a:lnTo>
                  <a:lnTo>
                    <a:pt x="3890" y="56"/>
                  </a:lnTo>
                  <a:lnTo>
                    <a:pt x="3890" y="46"/>
                  </a:lnTo>
                  <a:lnTo>
                    <a:pt x="3886" y="34"/>
                  </a:lnTo>
                  <a:lnTo>
                    <a:pt x="3880" y="24"/>
                  </a:lnTo>
                  <a:lnTo>
                    <a:pt x="3874" y="16"/>
                  </a:lnTo>
                  <a:lnTo>
                    <a:pt x="3866" y="10"/>
                  </a:lnTo>
                  <a:lnTo>
                    <a:pt x="3856" y="4"/>
                  </a:lnTo>
                  <a:lnTo>
                    <a:pt x="3844" y="0"/>
                  </a:lnTo>
                  <a:lnTo>
                    <a:pt x="3834" y="0"/>
                  </a:lnTo>
                  <a:lnTo>
                    <a:pt x="3834" y="0"/>
                  </a:lnTo>
                  <a:close/>
                  <a:moveTo>
                    <a:pt x="2950" y="1932"/>
                  </a:moveTo>
                  <a:lnTo>
                    <a:pt x="2950" y="2546"/>
                  </a:lnTo>
                  <a:lnTo>
                    <a:pt x="942" y="2546"/>
                  </a:lnTo>
                  <a:lnTo>
                    <a:pt x="942" y="1932"/>
                  </a:lnTo>
                  <a:lnTo>
                    <a:pt x="2950" y="1932"/>
                  </a:lnTo>
                  <a:close/>
                  <a:moveTo>
                    <a:pt x="942" y="1260"/>
                  </a:moveTo>
                  <a:lnTo>
                    <a:pt x="942" y="686"/>
                  </a:lnTo>
                  <a:lnTo>
                    <a:pt x="2950" y="686"/>
                  </a:lnTo>
                  <a:lnTo>
                    <a:pt x="2950" y="1260"/>
                  </a:lnTo>
                  <a:lnTo>
                    <a:pt x="942" y="126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1476000" y="13195440"/>
              <a:ext cx="7420320" cy="6162480"/>
            </a:xfrm>
            <a:custGeom>
              <a:avLst/>
              <a:gdLst>
                <a:gd name="textAreaLeft" fmla="*/ 0 w 7420320"/>
                <a:gd name="textAreaRight" fmla="*/ 7420680 w 7420320"/>
                <a:gd name="textAreaTop" fmla="*/ 0 h 6162480"/>
                <a:gd name="textAreaBottom" fmla="*/ 6162840 h 6162480"/>
              </a:gdLst>
              <a:ahLst/>
              <a:rect l="textAreaLeft" t="textAreaTop" r="textAreaRight" b="textAreaBottom"/>
              <a:pathLst>
                <a:path w="4674" h="3882">
                  <a:moveTo>
                    <a:pt x="4616" y="556"/>
                  </a:moveTo>
                  <a:lnTo>
                    <a:pt x="2794" y="556"/>
                  </a:lnTo>
                  <a:lnTo>
                    <a:pt x="2794" y="246"/>
                  </a:lnTo>
                  <a:lnTo>
                    <a:pt x="2794" y="246"/>
                  </a:lnTo>
                  <a:lnTo>
                    <a:pt x="2814" y="232"/>
                  </a:lnTo>
                  <a:lnTo>
                    <a:pt x="2834" y="218"/>
                  </a:lnTo>
                  <a:lnTo>
                    <a:pt x="2852" y="202"/>
                  </a:lnTo>
                  <a:lnTo>
                    <a:pt x="2868" y="186"/>
                  </a:lnTo>
                  <a:lnTo>
                    <a:pt x="2880" y="168"/>
                  </a:lnTo>
                  <a:lnTo>
                    <a:pt x="2890" y="150"/>
                  </a:lnTo>
                  <a:lnTo>
                    <a:pt x="2898" y="132"/>
                  </a:lnTo>
                  <a:lnTo>
                    <a:pt x="2900" y="110"/>
                  </a:lnTo>
                  <a:lnTo>
                    <a:pt x="2900" y="110"/>
                  </a:lnTo>
                  <a:lnTo>
                    <a:pt x="2898" y="94"/>
                  </a:lnTo>
                  <a:lnTo>
                    <a:pt x="2892" y="76"/>
                  </a:lnTo>
                  <a:lnTo>
                    <a:pt x="2882" y="60"/>
                  </a:lnTo>
                  <a:lnTo>
                    <a:pt x="2866" y="46"/>
                  </a:lnTo>
                  <a:lnTo>
                    <a:pt x="2848" y="34"/>
                  </a:lnTo>
                  <a:lnTo>
                    <a:pt x="2824" y="26"/>
                  </a:lnTo>
                  <a:lnTo>
                    <a:pt x="2796" y="20"/>
                  </a:lnTo>
                  <a:lnTo>
                    <a:pt x="2764" y="16"/>
                  </a:lnTo>
                  <a:lnTo>
                    <a:pt x="1938" y="0"/>
                  </a:lnTo>
                  <a:lnTo>
                    <a:pt x="1938" y="0"/>
                  </a:lnTo>
                  <a:lnTo>
                    <a:pt x="1926" y="2"/>
                  </a:lnTo>
                  <a:lnTo>
                    <a:pt x="1916" y="4"/>
                  </a:lnTo>
                  <a:lnTo>
                    <a:pt x="1906" y="10"/>
                  </a:lnTo>
                  <a:lnTo>
                    <a:pt x="1896" y="16"/>
                  </a:lnTo>
                  <a:lnTo>
                    <a:pt x="1896" y="16"/>
                  </a:lnTo>
                  <a:lnTo>
                    <a:pt x="1890" y="26"/>
                  </a:lnTo>
                  <a:lnTo>
                    <a:pt x="1884" y="36"/>
                  </a:lnTo>
                  <a:lnTo>
                    <a:pt x="1880" y="46"/>
                  </a:lnTo>
                  <a:lnTo>
                    <a:pt x="1880" y="58"/>
                  </a:lnTo>
                  <a:lnTo>
                    <a:pt x="1880" y="556"/>
                  </a:lnTo>
                  <a:lnTo>
                    <a:pt x="56" y="556"/>
                  </a:lnTo>
                  <a:lnTo>
                    <a:pt x="56" y="556"/>
                  </a:lnTo>
                  <a:lnTo>
                    <a:pt x="46" y="558"/>
                  </a:lnTo>
                  <a:lnTo>
                    <a:pt x="34" y="562"/>
                  </a:lnTo>
                  <a:lnTo>
                    <a:pt x="24" y="566"/>
                  </a:lnTo>
                  <a:lnTo>
                    <a:pt x="16" y="574"/>
                  </a:lnTo>
                  <a:lnTo>
                    <a:pt x="10" y="582"/>
                  </a:lnTo>
                  <a:lnTo>
                    <a:pt x="4" y="592"/>
                  </a:lnTo>
                  <a:lnTo>
                    <a:pt x="2" y="602"/>
                  </a:lnTo>
                  <a:lnTo>
                    <a:pt x="0" y="614"/>
                  </a:lnTo>
                  <a:lnTo>
                    <a:pt x="0" y="3824"/>
                  </a:lnTo>
                  <a:lnTo>
                    <a:pt x="0" y="3824"/>
                  </a:lnTo>
                  <a:lnTo>
                    <a:pt x="2" y="3836"/>
                  </a:lnTo>
                  <a:lnTo>
                    <a:pt x="4" y="3846"/>
                  </a:lnTo>
                  <a:lnTo>
                    <a:pt x="10" y="3856"/>
                  </a:lnTo>
                  <a:lnTo>
                    <a:pt x="16" y="3864"/>
                  </a:lnTo>
                  <a:lnTo>
                    <a:pt x="24" y="3872"/>
                  </a:lnTo>
                  <a:lnTo>
                    <a:pt x="34" y="3876"/>
                  </a:lnTo>
                  <a:lnTo>
                    <a:pt x="46" y="3880"/>
                  </a:lnTo>
                  <a:lnTo>
                    <a:pt x="56" y="3882"/>
                  </a:lnTo>
                  <a:lnTo>
                    <a:pt x="820" y="3882"/>
                  </a:lnTo>
                  <a:lnTo>
                    <a:pt x="820" y="3882"/>
                  </a:lnTo>
                  <a:lnTo>
                    <a:pt x="832" y="3880"/>
                  </a:lnTo>
                  <a:lnTo>
                    <a:pt x="842" y="3876"/>
                  </a:lnTo>
                  <a:lnTo>
                    <a:pt x="852" y="3872"/>
                  </a:lnTo>
                  <a:lnTo>
                    <a:pt x="860" y="3864"/>
                  </a:lnTo>
                  <a:lnTo>
                    <a:pt x="868" y="3856"/>
                  </a:lnTo>
                  <a:lnTo>
                    <a:pt x="872" y="3846"/>
                  </a:lnTo>
                  <a:lnTo>
                    <a:pt x="876" y="3836"/>
                  </a:lnTo>
                  <a:lnTo>
                    <a:pt x="878" y="3824"/>
                  </a:lnTo>
                  <a:lnTo>
                    <a:pt x="878" y="3366"/>
                  </a:lnTo>
                  <a:lnTo>
                    <a:pt x="878" y="3366"/>
                  </a:lnTo>
                  <a:lnTo>
                    <a:pt x="920" y="3400"/>
                  </a:lnTo>
                  <a:lnTo>
                    <a:pt x="958" y="3432"/>
                  </a:lnTo>
                  <a:lnTo>
                    <a:pt x="992" y="3462"/>
                  </a:lnTo>
                  <a:lnTo>
                    <a:pt x="1022" y="3492"/>
                  </a:lnTo>
                  <a:lnTo>
                    <a:pt x="1048" y="3520"/>
                  </a:lnTo>
                  <a:lnTo>
                    <a:pt x="1072" y="3546"/>
                  </a:lnTo>
                  <a:lnTo>
                    <a:pt x="1112" y="3596"/>
                  </a:lnTo>
                  <a:lnTo>
                    <a:pt x="1112" y="3596"/>
                  </a:lnTo>
                  <a:lnTo>
                    <a:pt x="1118" y="3602"/>
                  </a:lnTo>
                  <a:lnTo>
                    <a:pt x="1126" y="3608"/>
                  </a:lnTo>
                  <a:lnTo>
                    <a:pt x="1132" y="3612"/>
                  </a:lnTo>
                  <a:lnTo>
                    <a:pt x="1140" y="3614"/>
                  </a:lnTo>
                  <a:lnTo>
                    <a:pt x="1148" y="3616"/>
                  </a:lnTo>
                  <a:lnTo>
                    <a:pt x="1156" y="3618"/>
                  </a:lnTo>
                  <a:lnTo>
                    <a:pt x="1166" y="3616"/>
                  </a:lnTo>
                  <a:lnTo>
                    <a:pt x="1174" y="3616"/>
                  </a:lnTo>
                  <a:lnTo>
                    <a:pt x="1174" y="3616"/>
                  </a:lnTo>
                  <a:lnTo>
                    <a:pt x="1256" y="3590"/>
                  </a:lnTo>
                  <a:lnTo>
                    <a:pt x="1336" y="3560"/>
                  </a:lnTo>
                  <a:lnTo>
                    <a:pt x="1418" y="3530"/>
                  </a:lnTo>
                  <a:lnTo>
                    <a:pt x="1498" y="3496"/>
                  </a:lnTo>
                  <a:lnTo>
                    <a:pt x="1578" y="3458"/>
                  </a:lnTo>
                  <a:lnTo>
                    <a:pt x="1658" y="3420"/>
                  </a:lnTo>
                  <a:lnTo>
                    <a:pt x="1734" y="3378"/>
                  </a:lnTo>
                  <a:lnTo>
                    <a:pt x="1810" y="3334"/>
                  </a:lnTo>
                  <a:lnTo>
                    <a:pt x="1884" y="3288"/>
                  </a:lnTo>
                  <a:lnTo>
                    <a:pt x="1956" y="3242"/>
                  </a:lnTo>
                  <a:lnTo>
                    <a:pt x="2026" y="3194"/>
                  </a:lnTo>
                  <a:lnTo>
                    <a:pt x="2092" y="3144"/>
                  </a:lnTo>
                  <a:lnTo>
                    <a:pt x="2154" y="3092"/>
                  </a:lnTo>
                  <a:lnTo>
                    <a:pt x="2216" y="3040"/>
                  </a:lnTo>
                  <a:lnTo>
                    <a:pt x="2272" y="2986"/>
                  </a:lnTo>
                  <a:lnTo>
                    <a:pt x="2324" y="2932"/>
                  </a:lnTo>
                  <a:lnTo>
                    <a:pt x="2324" y="2932"/>
                  </a:lnTo>
                  <a:lnTo>
                    <a:pt x="2394" y="2992"/>
                  </a:lnTo>
                  <a:lnTo>
                    <a:pt x="2470" y="3048"/>
                  </a:lnTo>
                  <a:lnTo>
                    <a:pt x="2548" y="3104"/>
                  </a:lnTo>
                  <a:lnTo>
                    <a:pt x="2628" y="3156"/>
                  </a:lnTo>
                  <a:lnTo>
                    <a:pt x="2710" y="3208"/>
                  </a:lnTo>
                  <a:lnTo>
                    <a:pt x="2790" y="3256"/>
                  </a:lnTo>
                  <a:lnTo>
                    <a:pt x="2870" y="3300"/>
                  </a:lnTo>
                  <a:lnTo>
                    <a:pt x="2946" y="3342"/>
                  </a:lnTo>
                  <a:lnTo>
                    <a:pt x="3020" y="3378"/>
                  </a:lnTo>
                  <a:lnTo>
                    <a:pt x="3086" y="3412"/>
                  </a:lnTo>
                  <a:lnTo>
                    <a:pt x="3200" y="3466"/>
                  </a:lnTo>
                  <a:lnTo>
                    <a:pt x="3276" y="3502"/>
                  </a:lnTo>
                  <a:lnTo>
                    <a:pt x="3304" y="3514"/>
                  </a:lnTo>
                  <a:lnTo>
                    <a:pt x="3304" y="3514"/>
                  </a:lnTo>
                  <a:lnTo>
                    <a:pt x="3314" y="3516"/>
                  </a:lnTo>
                  <a:lnTo>
                    <a:pt x="3324" y="3518"/>
                  </a:lnTo>
                  <a:lnTo>
                    <a:pt x="3332" y="3518"/>
                  </a:lnTo>
                  <a:lnTo>
                    <a:pt x="3342" y="3516"/>
                  </a:lnTo>
                  <a:lnTo>
                    <a:pt x="3350" y="3514"/>
                  </a:lnTo>
                  <a:lnTo>
                    <a:pt x="3358" y="3510"/>
                  </a:lnTo>
                  <a:lnTo>
                    <a:pt x="3366" y="3504"/>
                  </a:lnTo>
                  <a:lnTo>
                    <a:pt x="3372" y="3496"/>
                  </a:lnTo>
                  <a:lnTo>
                    <a:pt x="3372" y="3496"/>
                  </a:lnTo>
                  <a:lnTo>
                    <a:pt x="3420" y="3434"/>
                  </a:lnTo>
                  <a:lnTo>
                    <a:pt x="3420" y="3434"/>
                  </a:lnTo>
                  <a:lnTo>
                    <a:pt x="3456" y="3484"/>
                  </a:lnTo>
                  <a:lnTo>
                    <a:pt x="3488" y="3532"/>
                  </a:lnTo>
                  <a:lnTo>
                    <a:pt x="3512" y="3578"/>
                  </a:lnTo>
                  <a:lnTo>
                    <a:pt x="3532" y="3622"/>
                  </a:lnTo>
                  <a:lnTo>
                    <a:pt x="3548" y="3666"/>
                  </a:lnTo>
                  <a:lnTo>
                    <a:pt x="3560" y="3710"/>
                  </a:lnTo>
                  <a:lnTo>
                    <a:pt x="3568" y="3756"/>
                  </a:lnTo>
                  <a:lnTo>
                    <a:pt x="3576" y="3802"/>
                  </a:lnTo>
                  <a:lnTo>
                    <a:pt x="3576" y="3802"/>
                  </a:lnTo>
                  <a:lnTo>
                    <a:pt x="3578" y="3814"/>
                  </a:lnTo>
                  <a:lnTo>
                    <a:pt x="3582" y="3822"/>
                  </a:lnTo>
                  <a:lnTo>
                    <a:pt x="3588" y="3830"/>
                  </a:lnTo>
                  <a:lnTo>
                    <a:pt x="3594" y="3838"/>
                  </a:lnTo>
                  <a:lnTo>
                    <a:pt x="3602" y="3844"/>
                  </a:lnTo>
                  <a:lnTo>
                    <a:pt x="3612" y="3848"/>
                  </a:lnTo>
                  <a:lnTo>
                    <a:pt x="3622" y="3852"/>
                  </a:lnTo>
                  <a:lnTo>
                    <a:pt x="3632" y="3852"/>
                  </a:lnTo>
                  <a:lnTo>
                    <a:pt x="3632" y="3852"/>
                  </a:lnTo>
                  <a:lnTo>
                    <a:pt x="3774" y="3852"/>
                  </a:lnTo>
                  <a:lnTo>
                    <a:pt x="3774" y="3852"/>
                  </a:lnTo>
                  <a:lnTo>
                    <a:pt x="3868" y="3852"/>
                  </a:lnTo>
                  <a:lnTo>
                    <a:pt x="3958" y="3850"/>
                  </a:lnTo>
                  <a:lnTo>
                    <a:pt x="4044" y="3846"/>
                  </a:lnTo>
                  <a:lnTo>
                    <a:pt x="4124" y="3840"/>
                  </a:lnTo>
                  <a:lnTo>
                    <a:pt x="4198" y="3830"/>
                  </a:lnTo>
                  <a:lnTo>
                    <a:pt x="4268" y="3818"/>
                  </a:lnTo>
                  <a:lnTo>
                    <a:pt x="4300" y="3810"/>
                  </a:lnTo>
                  <a:lnTo>
                    <a:pt x="4332" y="3802"/>
                  </a:lnTo>
                  <a:lnTo>
                    <a:pt x="4364" y="3792"/>
                  </a:lnTo>
                  <a:lnTo>
                    <a:pt x="4392" y="3782"/>
                  </a:lnTo>
                  <a:lnTo>
                    <a:pt x="4392" y="3782"/>
                  </a:lnTo>
                  <a:lnTo>
                    <a:pt x="4426" y="3768"/>
                  </a:lnTo>
                  <a:lnTo>
                    <a:pt x="4458" y="3752"/>
                  </a:lnTo>
                  <a:lnTo>
                    <a:pt x="4488" y="3736"/>
                  </a:lnTo>
                  <a:lnTo>
                    <a:pt x="4516" y="3716"/>
                  </a:lnTo>
                  <a:lnTo>
                    <a:pt x="4540" y="3696"/>
                  </a:lnTo>
                  <a:lnTo>
                    <a:pt x="4564" y="3674"/>
                  </a:lnTo>
                  <a:lnTo>
                    <a:pt x="4584" y="3650"/>
                  </a:lnTo>
                  <a:lnTo>
                    <a:pt x="4604" y="3624"/>
                  </a:lnTo>
                  <a:lnTo>
                    <a:pt x="4620" y="3598"/>
                  </a:lnTo>
                  <a:lnTo>
                    <a:pt x="4634" y="3570"/>
                  </a:lnTo>
                  <a:lnTo>
                    <a:pt x="4646" y="3540"/>
                  </a:lnTo>
                  <a:lnTo>
                    <a:pt x="4656" y="3508"/>
                  </a:lnTo>
                  <a:lnTo>
                    <a:pt x="4664" y="3474"/>
                  </a:lnTo>
                  <a:lnTo>
                    <a:pt x="4670" y="3440"/>
                  </a:lnTo>
                  <a:lnTo>
                    <a:pt x="4672" y="3404"/>
                  </a:lnTo>
                  <a:lnTo>
                    <a:pt x="4674" y="3366"/>
                  </a:lnTo>
                  <a:lnTo>
                    <a:pt x="4674" y="614"/>
                  </a:lnTo>
                  <a:lnTo>
                    <a:pt x="4674" y="614"/>
                  </a:lnTo>
                  <a:lnTo>
                    <a:pt x="4672" y="602"/>
                  </a:lnTo>
                  <a:lnTo>
                    <a:pt x="4670" y="592"/>
                  </a:lnTo>
                  <a:lnTo>
                    <a:pt x="4664" y="582"/>
                  </a:lnTo>
                  <a:lnTo>
                    <a:pt x="4658" y="574"/>
                  </a:lnTo>
                  <a:lnTo>
                    <a:pt x="4648" y="566"/>
                  </a:lnTo>
                  <a:lnTo>
                    <a:pt x="4640" y="562"/>
                  </a:lnTo>
                  <a:lnTo>
                    <a:pt x="4628" y="558"/>
                  </a:lnTo>
                  <a:lnTo>
                    <a:pt x="4616" y="556"/>
                  </a:lnTo>
                  <a:lnTo>
                    <a:pt x="4616" y="556"/>
                  </a:lnTo>
                  <a:close/>
                  <a:moveTo>
                    <a:pt x="3794" y="3122"/>
                  </a:moveTo>
                  <a:lnTo>
                    <a:pt x="3794" y="3122"/>
                  </a:lnTo>
                  <a:lnTo>
                    <a:pt x="3794" y="3136"/>
                  </a:lnTo>
                  <a:lnTo>
                    <a:pt x="3792" y="3146"/>
                  </a:lnTo>
                  <a:lnTo>
                    <a:pt x="3792" y="3146"/>
                  </a:lnTo>
                  <a:lnTo>
                    <a:pt x="3778" y="3148"/>
                  </a:lnTo>
                  <a:lnTo>
                    <a:pt x="3750" y="3150"/>
                  </a:lnTo>
                  <a:lnTo>
                    <a:pt x="3750" y="3150"/>
                  </a:lnTo>
                  <a:lnTo>
                    <a:pt x="3794" y="3122"/>
                  </a:lnTo>
                  <a:lnTo>
                    <a:pt x="3794" y="3122"/>
                  </a:lnTo>
                  <a:close/>
                  <a:moveTo>
                    <a:pt x="878" y="2096"/>
                  </a:moveTo>
                  <a:lnTo>
                    <a:pt x="878" y="2096"/>
                  </a:lnTo>
                  <a:lnTo>
                    <a:pt x="914" y="2134"/>
                  </a:lnTo>
                  <a:lnTo>
                    <a:pt x="944" y="2168"/>
                  </a:lnTo>
                  <a:lnTo>
                    <a:pt x="972" y="2202"/>
                  </a:lnTo>
                  <a:lnTo>
                    <a:pt x="994" y="2232"/>
                  </a:lnTo>
                  <a:lnTo>
                    <a:pt x="1012" y="2260"/>
                  </a:lnTo>
                  <a:lnTo>
                    <a:pt x="1028" y="2288"/>
                  </a:lnTo>
                  <a:lnTo>
                    <a:pt x="1050" y="2332"/>
                  </a:lnTo>
                  <a:lnTo>
                    <a:pt x="1054" y="2338"/>
                  </a:lnTo>
                  <a:lnTo>
                    <a:pt x="1054" y="2338"/>
                  </a:lnTo>
                  <a:lnTo>
                    <a:pt x="1058" y="2346"/>
                  </a:lnTo>
                  <a:lnTo>
                    <a:pt x="1066" y="2352"/>
                  </a:lnTo>
                  <a:lnTo>
                    <a:pt x="1072" y="2358"/>
                  </a:lnTo>
                  <a:lnTo>
                    <a:pt x="1080" y="2362"/>
                  </a:lnTo>
                  <a:lnTo>
                    <a:pt x="1088" y="2366"/>
                  </a:lnTo>
                  <a:lnTo>
                    <a:pt x="1098" y="2368"/>
                  </a:lnTo>
                  <a:lnTo>
                    <a:pt x="1106" y="2368"/>
                  </a:lnTo>
                  <a:lnTo>
                    <a:pt x="1116" y="2368"/>
                  </a:lnTo>
                  <a:lnTo>
                    <a:pt x="1116" y="2368"/>
                  </a:lnTo>
                  <a:lnTo>
                    <a:pt x="1218" y="2346"/>
                  </a:lnTo>
                  <a:lnTo>
                    <a:pt x="1318" y="2322"/>
                  </a:lnTo>
                  <a:lnTo>
                    <a:pt x="1414" y="2296"/>
                  </a:lnTo>
                  <a:lnTo>
                    <a:pt x="1510" y="2268"/>
                  </a:lnTo>
                  <a:lnTo>
                    <a:pt x="1604" y="2236"/>
                  </a:lnTo>
                  <a:lnTo>
                    <a:pt x="1698" y="2200"/>
                  </a:lnTo>
                  <a:lnTo>
                    <a:pt x="1790" y="2158"/>
                  </a:lnTo>
                  <a:lnTo>
                    <a:pt x="1838" y="2136"/>
                  </a:lnTo>
                  <a:lnTo>
                    <a:pt x="1884" y="2112"/>
                  </a:lnTo>
                  <a:lnTo>
                    <a:pt x="1884" y="2112"/>
                  </a:lnTo>
                  <a:lnTo>
                    <a:pt x="1874" y="2150"/>
                  </a:lnTo>
                  <a:lnTo>
                    <a:pt x="1860" y="2188"/>
                  </a:lnTo>
                  <a:lnTo>
                    <a:pt x="1846" y="2224"/>
                  </a:lnTo>
                  <a:lnTo>
                    <a:pt x="1830" y="2260"/>
                  </a:lnTo>
                  <a:lnTo>
                    <a:pt x="1814" y="2296"/>
                  </a:lnTo>
                  <a:lnTo>
                    <a:pt x="1796" y="2330"/>
                  </a:lnTo>
                  <a:lnTo>
                    <a:pt x="1776" y="2364"/>
                  </a:lnTo>
                  <a:lnTo>
                    <a:pt x="1756" y="2398"/>
                  </a:lnTo>
                  <a:lnTo>
                    <a:pt x="1734" y="2430"/>
                  </a:lnTo>
                  <a:lnTo>
                    <a:pt x="1710" y="2462"/>
                  </a:lnTo>
                  <a:lnTo>
                    <a:pt x="1686" y="2492"/>
                  </a:lnTo>
                  <a:lnTo>
                    <a:pt x="1660" y="2524"/>
                  </a:lnTo>
                  <a:lnTo>
                    <a:pt x="1634" y="2552"/>
                  </a:lnTo>
                  <a:lnTo>
                    <a:pt x="1604" y="2582"/>
                  </a:lnTo>
                  <a:lnTo>
                    <a:pt x="1576" y="2610"/>
                  </a:lnTo>
                  <a:lnTo>
                    <a:pt x="1544" y="2638"/>
                  </a:lnTo>
                  <a:lnTo>
                    <a:pt x="1512" y="2664"/>
                  </a:lnTo>
                  <a:lnTo>
                    <a:pt x="1478" y="2690"/>
                  </a:lnTo>
                  <a:lnTo>
                    <a:pt x="1444" y="2714"/>
                  </a:lnTo>
                  <a:lnTo>
                    <a:pt x="1408" y="2740"/>
                  </a:lnTo>
                  <a:lnTo>
                    <a:pt x="1370" y="2764"/>
                  </a:lnTo>
                  <a:lnTo>
                    <a:pt x="1332" y="2786"/>
                  </a:lnTo>
                  <a:lnTo>
                    <a:pt x="1292" y="2808"/>
                  </a:lnTo>
                  <a:lnTo>
                    <a:pt x="1252" y="2830"/>
                  </a:lnTo>
                  <a:lnTo>
                    <a:pt x="1210" y="2850"/>
                  </a:lnTo>
                  <a:lnTo>
                    <a:pt x="1166" y="2870"/>
                  </a:lnTo>
                  <a:lnTo>
                    <a:pt x="1074" y="2908"/>
                  </a:lnTo>
                  <a:lnTo>
                    <a:pt x="978" y="2942"/>
                  </a:lnTo>
                  <a:lnTo>
                    <a:pt x="878" y="2974"/>
                  </a:lnTo>
                  <a:lnTo>
                    <a:pt x="878" y="2096"/>
                  </a:lnTo>
                  <a:close/>
                  <a:moveTo>
                    <a:pt x="878" y="1756"/>
                  </a:moveTo>
                  <a:lnTo>
                    <a:pt x="878" y="1240"/>
                  </a:lnTo>
                  <a:lnTo>
                    <a:pt x="1744" y="1240"/>
                  </a:lnTo>
                  <a:lnTo>
                    <a:pt x="1744" y="1240"/>
                  </a:lnTo>
                  <a:lnTo>
                    <a:pt x="1726" y="1268"/>
                  </a:lnTo>
                  <a:lnTo>
                    <a:pt x="1708" y="1294"/>
                  </a:lnTo>
                  <a:lnTo>
                    <a:pt x="1690" y="1320"/>
                  </a:lnTo>
                  <a:lnTo>
                    <a:pt x="1672" y="1344"/>
                  </a:lnTo>
                  <a:lnTo>
                    <a:pt x="1630" y="1392"/>
                  </a:lnTo>
                  <a:lnTo>
                    <a:pt x="1588" y="1434"/>
                  </a:lnTo>
                  <a:lnTo>
                    <a:pt x="1542" y="1474"/>
                  </a:lnTo>
                  <a:lnTo>
                    <a:pt x="1492" y="1510"/>
                  </a:lnTo>
                  <a:lnTo>
                    <a:pt x="1442" y="1544"/>
                  </a:lnTo>
                  <a:lnTo>
                    <a:pt x="1388" y="1574"/>
                  </a:lnTo>
                  <a:lnTo>
                    <a:pt x="1332" y="1604"/>
                  </a:lnTo>
                  <a:lnTo>
                    <a:pt x="1272" y="1630"/>
                  </a:lnTo>
                  <a:lnTo>
                    <a:pt x="1212" y="1654"/>
                  </a:lnTo>
                  <a:lnTo>
                    <a:pt x="1148" y="1676"/>
                  </a:lnTo>
                  <a:lnTo>
                    <a:pt x="1084" y="1698"/>
                  </a:lnTo>
                  <a:lnTo>
                    <a:pt x="1016" y="1718"/>
                  </a:lnTo>
                  <a:lnTo>
                    <a:pt x="878" y="1756"/>
                  </a:lnTo>
                  <a:lnTo>
                    <a:pt x="878" y="1756"/>
                  </a:lnTo>
                  <a:close/>
                  <a:moveTo>
                    <a:pt x="3014" y="1240"/>
                  </a:moveTo>
                  <a:lnTo>
                    <a:pt x="3796" y="1240"/>
                  </a:lnTo>
                  <a:lnTo>
                    <a:pt x="3796" y="1734"/>
                  </a:lnTo>
                  <a:lnTo>
                    <a:pt x="3796" y="1734"/>
                  </a:lnTo>
                  <a:lnTo>
                    <a:pt x="3718" y="1704"/>
                  </a:lnTo>
                  <a:lnTo>
                    <a:pt x="3646" y="1672"/>
                  </a:lnTo>
                  <a:lnTo>
                    <a:pt x="3576" y="1642"/>
                  </a:lnTo>
                  <a:lnTo>
                    <a:pt x="3514" y="1610"/>
                  </a:lnTo>
                  <a:lnTo>
                    <a:pt x="3454" y="1580"/>
                  </a:lnTo>
                  <a:lnTo>
                    <a:pt x="3400" y="1548"/>
                  </a:lnTo>
                  <a:lnTo>
                    <a:pt x="3348" y="1518"/>
                  </a:lnTo>
                  <a:lnTo>
                    <a:pt x="3300" y="1488"/>
                  </a:lnTo>
                  <a:lnTo>
                    <a:pt x="3256" y="1456"/>
                  </a:lnTo>
                  <a:lnTo>
                    <a:pt x="3214" y="1426"/>
                  </a:lnTo>
                  <a:lnTo>
                    <a:pt x="3176" y="1396"/>
                  </a:lnTo>
                  <a:lnTo>
                    <a:pt x="3140" y="1364"/>
                  </a:lnTo>
                  <a:lnTo>
                    <a:pt x="3106" y="1334"/>
                  </a:lnTo>
                  <a:lnTo>
                    <a:pt x="3074" y="1302"/>
                  </a:lnTo>
                  <a:lnTo>
                    <a:pt x="3014" y="1240"/>
                  </a:lnTo>
                  <a:lnTo>
                    <a:pt x="3014" y="1240"/>
                  </a:lnTo>
                  <a:close/>
                  <a:moveTo>
                    <a:pt x="2746" y="2184"/>
                  </a:moveTo>
                  <a:lnTo>
                    <a:pt x="2746" y="2184"/>
                  </a:lnTo>
                  <a:lnTo>
                    <a:pt x="2802" y="2174"/>
                  </a:lnTo>
                  <a:lnTo>
                    <a:pt x="2826" y="2168"/>
                  </a:lnTo>
                  <a:lnTo>
                    <a:pt x="2850" y="2160"/>
                  </a:lnTo>
                  <a:lnTo>
                    <a:pt x="2872" y="2152"/>
                  </a:lnTo>
                  <a:lnTo>
                    <a:pt x="2890" y="2142"/>
                  </a:lnTo>
                  <a:lnTo>
                    <a:pt x="2906" y="2128"/>
                  </a:lnTo>
                  <a:lnTo>
                    <a:pt x="2920" y="2114"/>
                  </a:lnTo>
                  <a:lnTo>
                    <a:pt x="2920" y="2114"/>
                  </a:lnTo>
                  <a:lnTo>
                    <a:pt x="2976" y="2148"/>
                  </a:lnTo>
                  <a:lnTo>
                    <a:pt x="3032" y="2178"/>
                  </a:lnTo>
                  <a:lnTo>
                    <a:pt x="3138" y="2234"/>
                  </a:lnTo>
                  <a:lnTo>
                    <a:pt x="3238" y="2280"/>
                  </a:lnTo>
                  <a:lnTo>
                    <a:pt x="3326" y="2320"/>
                  </a:lnTo>
                  <a:lnTo>
                    <a:pt x="3402" y="2352"/>
                  </a:lnTo>
                  <a:lnTo>
                    <a:pt x="3464" y="2376"/>
                  </a:lnTo>
                  <a:lnTo>
                    <a:pt x="3536" y="2402"/>
                  </a:lnTo>
                  <a:lnTo>
                    <a:pt x="3536" y="2402"/>
                  </a:lnTo>
                  <a:lnTo>
                    <a:pt x="3544" y="2406"/>
                  </a:lnTo>
                  <a:lnTo>
                    <a:pt x="3554" y="2406"/>
                  </a:lnTo>
                  <a:lnTo>
                    <a:pt x="3564" y="2404"/>
                  </a:lnTo>
                  <a:lnTo>
                    <a:pt x="3572" y="2402"/>
                  </a:lnTo>
                  <a:lnTo>
                    <a:pt x="3582" y="2398"/>
                  </a:lnTo>
                  <a:lnTo>
                    <a:pt x="3590" y="2392"/>
                  </a:lnTo>
                  <a:lnTo>
                    <a:pt x="3596" y="2386"/>
                  </a:lnTo>
                  <a:lnTo>
                    <a:pt x="3602" y="2378"/>
                  </a:lnTo>
                  <a:lnTo>
                    <a:pt x="3606" y="2372"/>
                  </a:lnTo>
                  <a:lnTo>
                    <a:pt x="3606" y="2372"/>
                  </a:lnTo>
                  <a:lnTo>
                    <a:pt x="3632" y="2330"/>
                  </a:lnTo>
                  <a:lnTo>
                    <a:pt x="3668" y="2276"/>
                  </a:lnTo>
                  <a:lnTo>
                    <a:pt x="3692" y="2246"/>
                  </a:lnTo>
                  <a:lnTo>
                    <a:pt x="3722" y="2210"/>
                  </a:lnTo>
                  <a:lnTo>
                    <a:pt x="3756" y="2170"/>
                  </a:lnTo>
                  <a:lnTo>
                    <a:pt x="3796" y="2126"/>
                  </a:lnTo>
                  <a:lnTo>
                    <a:pt x="3796" y="2944"/>
                  </a:lnTo>
                  <a:lnTo>
                    <a:pt x="3796" y="2944"/>
                  </a:lnTo>
                  <a:lnTo>
                    <a:pt x="3728" y="2922"/>
                  </a:lnTo>
                  <a:lnTo>
                    <a:pt x="3658" y="2896"/>
                  </a:lnTo>
                  <a:lnTo>
                    <a:pt x="3586" y="2868"/>
                  </a:lnTo>
                  <a:lnTo>
                    <a:pt x="3514" y="2836"/>
                  </a:lnTo>
                  <a:lnTo>
                    <a:pt x="3440" y="2802"/>
                  </a:lnTo>
                  <a:lnTo>
                    <a:pt x="3366" y="2766"/>
                  </a:lnTo>
                  <a:lnTo>
                    <a:pt x="3294" y="2728"/>
                  </a:lnTo>
                  <a:lnTo>
                    <a:pt x="3220" y="2688"/>
                  </a:lnTo>
                  <a:lnTo>
                    <a:pt x="3148" y="2646"/>
                  </a:lnTo>
                  <a:lnTo>
                    <a:pt x="3078" y="2602"/>
                  </a:lnTo>
                  <a:lnTo>
                    <a:pt x="3008" y="2558"/>
                  </a:lnTo>
                  <a:lnTo>
                    <a:pt x="2940" y="2512"/>
                  </a:lnTo>
                  <a:lnTo>
                    <a:pt x="2876" y="2466"/>
                  </a:lnTo>
                  <a:lnTo>
                    <a:pt x="2814" y="2420"/>
                  </a:lnTo>
                  <a:lnTo>
                    <a:pt x="2754" y="2372"/>
                  </a:lnTo>
                  <a:lnTo>
                    <a:pt x="2700" y="2324"/>
                  </a:lnTo>
                  <a:lnTo>
                    <a:pt x="2700" y="2324"/>
                  </a:lnTo>
                  <a:lnTo>
                    <a:pt x="2726" y="2252"/>
                  </a:lnTo>
                  <a:lnTo>
                    <a:pt x="2736" y="2218"/>
                  </a:lnTo>
                  <a:lnTo>
                    <a:pt x="2746" y="2184"/>
                  </a:lnTo>
                  <a:lnTo>
                    <a:pt x="2746" y="2184"/>
                  </a:lnTo>
                  <a:close/>
                  <a:moveTo>
                    <a:pt x="2394" y="1724"/>
                  </a:moveTo>
                  <a:lnTo>
                    <a:pt x="2394" y="1724"/>
                  </a:lnTo>
                  <a:lnTo>
                    <a:pt x="2458" y="1782"/>
                  </a:lnTo>
                  <a:lnTo>
                    <a:pt x="2522" y="1836"/>
                  </a:lnTo>
                  <a:lnTo>
                    <a:pt x="2586" y="1890"/>
                  </a:lnTo>
                  <a:lnTo>
                    <a:pt x="2652" y="1938"/>
                  </a:lnTo>
                  <a:lnTo>
                    <a:pt x="2206" y="1900"/>
                  </a:lnTo>
                  <a:lnTo>
                    <a:pt x="2206" y="1900"/>
                  </a:lnTo>
                  <a:lnTo>
                    <a:pt x="2266" y="1848"/>
                  </a:lnTo>
                  <a:lnTo>
                    <a:pt x="2318" y="1802"/>
                  </a:lnTo>
                  <a:lnTo>
                    <a:pt x="2362" y="1760"/>
                  </a:lnTo>
                  <a:lnTo>
                    <a:pt x="2394" y="1724"/>
                  </a:lnTo>
                  <a:lnTo>
                    <a:pt x="2394" y="1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2847600" y="20078640"/>
              <a:ext cx="4695840" cy="3485880"/>
            </a:xfrm>
            <a:custGeom>
              <a:avLst/>
              <a:gdLst>
                <a:gd name="textAreaLeft" fmla="*/ 0 w 4695840"/>
                <a:gd name="textAreaRight" fmla="*/ 4696200 w 4695840"/>
                <a:gd name="textAreaTop" fmla="*/ 0 h 3485880"/>
                <a:gd name="textAreaBottom" fmla="*/ 3486240 h 3485880"/>
              </a:gdLst>
              <a:ahLst/>
              <a:rect l="textAreaLeft" t="textAreaTop" r="textAreaRight" b="textAreaBottom"/>
              <a:pathLst>
                <a:path w="2958" h="2196">
                  <a:moveTo>
                    <a:pt x="1506" y="1734"/>
                  </a:moveTo>
                  <a:lnTo>
                    <a:pt x="1506" y="1734"/>
                  </a:lnTo>
                  <a:lnTo>
                    <a:pt x="1498" y="1734"/>
                  </a:lnTo>
                  <a:lnTo>
                    <a:pt x="1490" y="1738"/>
                  </a:lnTo>
                  <a:lnTo>
                    <a:pt x="1476" y="1746"/>
                  </a:lnTo>
                  <a:lnTo>
                    <a:pt x="1466" y="1758"/>
                  </a:lnTo>
                  <a:lnTo>
                    <a:pt x="1462" y="1766"/>
                  </a:lnTo>
                  <a:lnTo>
                    <a:pt x="1460" y="1774"/>
                  </a:lnTo>
                  <a:lnTo>
                    <a:pt x="1460" y="1774"/>
                  </a:lnTo>
                  <a:lnTo>
                    <a:pt x="1458" y="1782"/>
                  </a:lnTo>
                  <a:lnTo>
                    <a:pt x="1458" y="1790"/>
                  </a:lnTo>
                  <a:lnTo>
                    <a:pt x="1460" y="1806"/>
                  </a:lnTo>
                  <a:lnTo>
                    <a:pt x="1466" y="1820"/>
                  </a:lnTo>
                  <a:lnTo>
                    <a:pt x="1472" y="1828"/>
                  </a:lnTo>
                  <a:lnTo>
                    <a:pt x="1478" y="1832"/>
                  </a:lnTo>
                  <a:lnTo>
                    <a:pt x="1478" y="1832"/>
                  </a:lnTo>
                  <a:lnTo>
                    <a:pt x="1530" y="1878"/>
                  </a:lnTo>
                  <a:lnTo>
                    <a:pt x="1576" y="1920"/>
                  </a:lnTo>
                  <a:lnTo>
                    <a:pt x="1618" y="1960"/>
                  </a:lnTo>
                  <a:lnTo>
                    <a:pt x="1654" y="1998"/>
                  </a:lnTo>
                  <a:lnTo>
                    <a:pt x="1690" y="2036"/>
                  </a:lnTo>
                  <a:lnTo>
                    <a:pt x="1724" y="2078"/>
                  </a:lnTo>
                  <a:lnTo>
                    <a:pt x="1760" y="2122"/>
                  </a:lnTo>
                  <a:lnTo>
                    <a:pt x="1796" y="2172"/>
                  </a:lnTo>
                  <a:lnTo>
                    <a:pt x="1796" y="2172"/>
                  </a:lnTo>
                  <a:lnTo>
                    <a:pt x="1806" y="2182"/>
                  </a:lnTo>
                  <a:lnTo>
                    <a:pt x="1816" y="2190"/>
                  </a:lnTo>
                  <a:lnTo>
                    <a:pt x="1830" y="2194"/>
                  </a:lnTo>
                  <a:lnTo>
                    <a:pt x="1842" y="2196"/>
                  </a:lnTo>
                  <a:lnTo>
                    <a:pt x="1842" y="2196"/>
                  </a:lnTo>
                  <a:lnTo>
                    <a:pt x="1852" y="2194"/>
                  </a:lnTo>
                  <a:lnTo>
                    <a:pt x="1860" y="2192"/>
                  </a:lnTo>
                  <a:lnTo>
                    <a:pt x="1860" y="2192"/>
                  </a:lnTo>
                  <a:lnTo>
                    <a:pt x="1970" y="2154"/>
                  </a:lnTo>
                  <a:lnTo>
                    <a:pt x="2072" y="2116"/>
                  </a:lnTo>
                  <a:lnTo>
                    <a:pt x="2166" y="2076"/>
                  </a:lnTo>
                  <a:lnTo>
                    <a:pt x="2212" y="2054"/>
                  </a:lnTo>
                  <a:lnTo>
                    <a:pt x="2256" y="2034"/>
                  </a:lnTo>
                  <a:lnTo>
                    <a:pt x="2298" y="2012"/>
                  </a:lnTo>
                  <a:lnTo>
                    <a:pt x="2340" y="1988"/>
                  </a:lnTo>
                  <a:lnTo>
                    <a:pt x="2380" y="1964"/>
                  </a:lnTo>
                  <a:lnTo>
                    <a:pt x="2418" y="1938"/>
                  </a:lnTo>
                  <a:lnTo>
                    <a:pt x="2456" y="1912"/>
                  </a:lnTo>
                  <a:lnTo>
                    <a:pt x="2494" y="1884"/>
                  </a:lnTo>
                  <a:lnTo>
                    <a:pt x="2530" y="1854"/>
                  </a:lnTo>
                  <a:lnTo>
                    <a:pt x="2566" y="1822"/>
                  </a:lnTo>
                  <a:lnTo>
                    <a:pt x="2566" y="1822"/>
                  </a:lnTo>
                  <a:lnTo>
                    <a:pt x="2614" y="1776"/>
                  </a:lnTo>
                  <a:lnTo>
                    <a:pt x="2658" y="1730"/>
                  </a:lnTo>
                  <a:lnTo>
                    <a:pt x="2700" y="1682"/>
                  </a:lnTo>
                  <a:lnTo>
                    <a:pt x="2738" y="1636"/>
                  </a:lnTo>
                  <a:lnTo>
                    <a:pt x="2772" y="1588"/>
                  </a:lnTo>
                  <a:lnTo>
                    <a:pt x="2804" y="1538"/>
                  </a:lnTo>
                  <a:lnTo>
                    <a:pt x="2834" y="1488"/>
                  </a:lnTo>
                  <a:lnTo>
                    <a:pt x="2860" y="1438"/>
                  </a:lnTo>
                  <a:lnTo>
                    <a:pt x="2882" y="1388"/>
                  </a:lnTo>
                  <a:lnTo>
                    <a:pt x="2902" y="1336"/>
                  </a:lnTo>
                  <a:lnTo>
                    <a:pt x="2920" y="1284"/>
                  </a:lnTo>
                  <a:lnTo>
                    <a:pt x="2934" y="1232"/>
                  </a:lnTo>
                  <a:lnTo>
                    <a:pt x="2944" y="1178"/>
                  </a:lnTo>
                  <a:lnTo>
                    <a:pt x="2952" y="1124"/>
                  </a:lnTo>
                  <a:lnTo>
                    <a:pt x="2956" y="1070"/>
                  </a:lnTo>
                  <a:lnTo>
                    <a:pt x="2958" y="1016"/>
                  </a:lnTo>
                  <a:lnTo>
                    <a:pt x="2958" y="1016"/>
                  </a:lnTo>
                  <a:lnTo>
                    <a:pt x="2956" y="960"/>
                  </a:lnTo>
                  <a:lnTo>
                    <a:pt x="2952" y="906"/>
                  </a:lnTo>
                  <a:lnTo>
                    <a:pt x="2942" y="852"/>
                  </a:lnTo>
                  <a:lnTo>
                    <a:pt x="2930" y="800"/>
                  </a:lnTo>
                  <a:lnTo>
                    <a:pt x="2916" y="748"/>
                  </a:lnTo>
                  <a:lnTo>
                    <a:pt x="2898" y="698"/>
                  </a:lnTo>
                  <a:lnTo>
                    <a:pt x="2876" y="648"/>
                  </a:lnTo>
                  <a:lnTo>
                    <a:pt x="2852" y="600"/>
                  </a:lnTo>
                  <a:lnTo>
                    <a:pt x="2824" y="554"/>
                  </a:lnTo>
                  <a:lnTo>
                    <a:pt x="2792" y="508"/>
                  </a:lnTo>
                  <a:lnTo>
                    <a:pt x="2758" y="464"/>
                  </a:lnTo>
                  <a:lnTo>
                    <a:pt x="2722" y="422"/>
                  </a:lnTo>
                  <a:lnTo>
                    <a:pt x="2682" y="380"/>
                  </a:lnTo>
                  <a:lnTo>
                    <a:pt x="2640" y="340"/>
                  </a:lnTo>
                  <a:lnTo>
                    <a:pt x="2594" y="304"/>
                  </a:lnTo>
                  <a:lnTo>
                    <a:pt x="2546" y="268"/>
                  </a:lnTo>
                  <a:lnTo>
                    <a:pt x="2546" y="268"/>
                  </a:lnTo>
                  <a:lnTo>
                    <a:pt x="2498" y="236"/>
                  </a:lnTo>
                  <a:lnTo>
                    <a:pt x="2448" y="206"/>
                  </a:lnTo>
                  <a:lnTo>
                    <a:pt x="2398" y="178"/>
                  </a:lnTo>
                  <a:lnTo>
                    <a:pt x="2344" y="152"/>
                  </a:lnTo>
                  <a:lnTo>
                    <a:pt x="2290" y="128"/>
                  </a:lnTo>
                  <a:lnTo>
                    <a:pt x="2234" y="106"/>
                  </a:lnTo>
                  <a:lnTo>
                    <a:pt x="2176" y="86"/>
                  </a:lnTo>
                  <a:lnTo>
                    <a:pt x="2118" y="68"/>
                  </a:lnTo>
                  <a:lnTo>
                    <a:pt x="2056" y="52"/>
                  </a:lnTo>
                  <a:lnTo>
                    <a:pt x="1996" y="38"/>
                  </a:lnTo>
                  <a:lnTo>
                    <a:pt x="1932" y="26"/>
                  </a:lnTo>
                  <a:lnTo>
                    <a:pt x="1868" y="16"/>
                  </a:lnTo>
                  <a:lnTo>
                    <a:pt x="1804" y="10"/>
                  </a:lnTo>
                  <a:lnTo>
                    <a:pt x="1738" y="4"/>
                  </a:lnTo>
                  <a:lnTo>
                    <a:pt x="1672" y="0"/>
                  </a:lnTo>
                  <a:lnTo>
                    <a:pt x="1606" y="0"/>
                  </a:lnTo>
                  <a:lnTo>
                    <a:pt x="1606" y="0"/>
                  </a:lnTo>
                  <a:lnTo>
                    <a:pt x="1524" y="0"/>
                  </a:lnTo>
                  <a:lnTo>
                    <a:pt x="1442" y="6"/>
                  </a:lnTo>
                  <a:lnTo>
                    <a:pt x="1362" y="14"/>
                  </a:lnTo>
                  <a:lnTo>
                    <a:pt x="1282" y="24"/>
                  </a:lnTo>
                  <a:lnTo>
                    <a:pt x="1204" y="38"/>
                  </a:lnTo>
                  <a:lnTo>
                    <a:pt x="1126" y="56"/>
                  </a:lnTo>
                  <a:lnTo>
                    <a:pt x="1050" y="76"/>
                  </a:lnTo>
                  <a:lnTo>
                    <a:pt x="976" y="100"/>
                  </a:lnTo>
                  <a:lnTo>
                    <a:pt x="904" y="126"/>
                  </a:lnTo>
                  <a:lnTo>
                    <a:pt x="832" y="156"/>
                  </a:lnTo>
                  <a:lnTo>
                    <a:pt x="764" y="188"/>
                  </a:lnTo>
                  <a:lnTo>
                    <a:pt x="696" y="222"/>
                  </a:lnTo>
                  <a:lnTo>
                    <a:pt x="630" y="260"/>
                  </a:lnTo>
                  <a:lnTo>
                    <a:pt x="568" y="300"/>
                  </a:lnTo>
                  <a:lnTo>
                    <a:pt x="506" y="344"/>
                  </a:lnTo>
                  <a:lnTo>
                    <a:pt x="448" y="388"/>
                  </a:lnTo>
                  <a:lnTo>
                    <a:pt x="448" y="388"/>
                  </a:lnTo>
                  <a:lnTo>
                    <a:pt x="396" y="432"/>
                  </a:lnTo>
                  <a:lnTo>
                    <a:pt x="348" y="478"/>
                  </a:lnTo>
                  <a:lnTo>
                    <a:pt x="302" y="526"/>
                  </a:lnTo>
                  <a:lnTo>
                    <a:pt x="260" y="574"/>
                  </a:lnTo>
                  <a:lnTo>
                    <a:pt x="220" y="622"/>
                  </a:lnTo>
                  <a:lnTo>
                    <a:pt x="182" y="674"/>
                  </a:lnTo>
                  <a:lnTo>
                    <a:pt x="150" y="726"/>
                  </a:lnTo>
                  <a:lnTo>
                    <a:pt x="118" y="778"/>
                  </a:lnTo>
                  <a:lnTo>
                    <a:pt x="92" y="830"/>
                  </a:lnTo>
                  <a:lnTo>
                    <a:pt x="68" y="884"/>
                  </a:lnTo>
                  <a:lnTo>
                    <a:pt x="48" y="938"/>
                  </a:lnTo>
                  <a:lnTo>
                    <a:pt x="30" y="992"/>
                  </a:lnTo>
                  <a:lnTo>
                    <a:pt x="18" y="1046"/>
                  </a:lnTo>
                  <a:lnTo>
                    <a:pt x="8" y="1100"/>
                  </a:lnTo>
                  <a:lnTo>
                    <a:pt x="2" y="1154"/>
                  </a:lnTo>
                  <a:lnTo>
                    <a:pt x="0" y="1208"/>
                  </a:lnTo>
                  <a:lnTo>
                    <a:pt x="0" y="1208"/>
                  </a:lnTo>
                  <a:lnTo>
                    <a:pt x="2" y="1250"/>
                  </a:lnTo>
                  <a:lnTo>
                    <a:pt x="6" y="1290"/>
                  </a:lnTo>
                  <a:lnTo>
                    <a:pt x="10" y="1330"/>
                  </a:lnTo>
                  <a:lnTo>
                    <a:pt x="18" y="1372"/>
                  </a:lnTo>
                  <a:lnTo>
                    <a:pt x="28" y="1412"/>
                  </a:lnTo>
                  <a:lnTo>
                    <a:pt x="42" y="1450"/>
                  </a:lnTo>
                  <a:lnTo>
                    <a:pt x="56" y="1490"/>
                  </a:lnTo>
                  <a:lnTo>
                    <a:pt x="72" y="1528"/>
                  </a:lnTo>
                  <a:lnTo>
                    <a:pt x="90" y="1566"/>
                  </a:lnTo>
                  <a:lnTo>
                    <a:pt x="112" y="1604"/>
                  </a:lnTo>
                  <a:lnTo>
                    <a:pt x="134" y="1642"/>
                  </a:lnTo>
                  <a:lnTo>
                    <a:pt x="160" y="1678"/>
                  </a:lnTo>
                  <a:lnTo>
                    <a:pt x="186" y="1712"/>
                  </a:lnTo>
                  <a:lnTo>
                    <a:pt x="214" y="1746"/>
                  </a:lnTo>
                  <a:lnTo>
                    <a:pt x="246" y="1780"/>
                  </a:lnTo>
                  <a:lnTo>
                    <a:pt x="278" y="1814"/>
                  </a:lnTo>
                  <a:lnTo>
                    <a:pt x="278" y="1814"/>
                  </a:lnTo>
                  <a:lnTo>
                    <a:pt x="306" y="1840"/>
                  </a:lnTo>
                  <a:lnTo>
                    <a:pt x="336" y="1864"/>
                  </a:lnTo>
                  <a:lnTo>
                    <a:pt x="366" y="1888"/>
                  </a:lnTo>
                  <a:lnTo>
                    <a:pt x="396" y="1910"/>
                  </a:lnTo>
                  <a:lnTo>
                    <a:pt x="428" y="1932"/>
                  </a:lnTo>
                  <a:lnTo>
                    <a:pt x="460" y="1950"/>
                  </a:lnTo>
                  <a:lnTo>
                    <a:pt x="490" y="1968"/>
                  </a:lnTo>
                  <a:lnTo>
                    <a:pt x="522" y="1984"/>
                  </a:lnTo>
                  <a:lnTo>
                    <a:pt x="554" y="2000"/>
                  </a:lnTo>
                  <a:lnTo>
                    <a:pt x="586" y="2012"/>
                  </a:lnTo>
                  <a:lnTo>
                    <a:pt x="616" y="2024"/>
                  </a:lnTo>
                  <a:lnTo>
                    <a:pt x="646" y="2032"/>
                  </a:lnTo>
                  <a:lnTo>
                    <a:pt x="676" y="2040"/>
                  </a:lnTo>
                  <a:lnTo>
                    <a:pt x="706" y="2044"/>
                  </a:lnTo>
                  <a:lnTo>
                    <a:pt x="734" y="2048"/>
                  </a:lnTo>
                  <a:lnTo>
                    <a:pt x="762" y="2050"/>
                  </a:lnTo>
                  <a:lnTo>
                    <a:pt x="762" y="2050"/>
                  </a:lnTo>
                  <a:lnTo>
                    <a:pt x="796" y="2048"/>
                  </a:lnTo>
                  <a:lnTo>
                    <a:pt x="832" y="2042"/>
                  </a:lnTo>
                  <a:lnTo>
                    <a:pt x="868" y="2032"/>
                  </a:lnTo>
                  <a:lnTo>
                    <a:pt x="904" y="2018"/>
                  </a:lnTo>
                  <a:lnTo>
                    <a:pt x="940" y="2002"/>
                  </a:lnTo>
                  <a:lnTo>
                    <a:pt x="976" y="1982"/>
                  </a:lnTo>
                  <a:lnTo>
                    <a:pt x="1014" y="1958"/>
                  </a:lnTo>
                  <a:lnTo>
                    <a:pt x="1050" y="1930"/>
                  </a:lnTo>
                  <a:lnTo>
                    <a:pt x="1088" y="1900"/>
                  </a:lnTo>
                  <a:lnTo>
                    <a:pt x="1124" y="1866"/>
                  </a:lnTo>
                  <a:lnTo>
                    <a:pt x="1160" y="1830"/>
                  </a:lnTo>
                  <a:lnTo>
                    <a:pt x="1196" y="1790"/>
                  </a:lnTo>
                  <a:lnTo>
                    <a:pt x="1232" y="1746"/>
                  </a:lnTo>
                  <a:lnTo>
                    <a:pt x="1268" y="1700"/>
                  </a:lnTo>
                  <a:lnTo>
                    <a:pt x="1302" y="1652"/>
                  </a:lnTo>
                  <a:lnTo>
                    <a:pt x="1336" y="1600"/>
                  </a:lnTo>
                  <a:lnTo>
                    <a:pt x="1370" y="1546"/>
                  </a:lnTo>
                  <a:lnTo>
                    <a:pt x="1402" y="1490"/>
                  </a:lnTo>
                  <a:lnTo>
                    <a:pt x="1434" y="1432"/>
                  </a:lnTo>
                  <a:lnTo>
                    <a:pt x="1464" y="1370"/>
                  </a:lnTo>
                  <a:lnTo>
                    <a:pt x="1494" y="1306"/>
                  </a:lnTo>
                  <a:lnTo>
                    <a:pt x="1522" y="1240"/>
                  </a:lnTo>
                  <a:lnTo>
                    <a:pt x="1550" y="1172"/>
                  </a:lnTo>
                  <a:lnTo>
                    <a:pt x="1576" y="1102"/>
                  </a:lnTo>
                  <a:lnTo>
                    <a:pt x="1600" y="1030"/>
                  </a:lnTo>
                  <a:lnTo>
                    <a:pt x="1622" y="956"/>
                  </a:lnTo>
                  <a:lnTo>
                    <a:pt x="1644" y="878"/>
                  </a:lnTo>
                  <a:lnTo>
                    <a:pt x="1664" y="802"/>
                  </a:lnTo>
                  <a:lnTo>
                    <a:pt x="1680" y="722"/>
                  </a:lnTo>
                  <a:lnTo>
                    <a:pt x="1696" y="640"/>
                  </a:lnTo>
                  <a:lnTo>
                    <a:pt x="1710" y="558"/>
                  </a:lnTo>
                  <a:lnTo>
                    <a:pt x="1722" y="474"/>
                  </a:lnTo>
                  <a:lnTo>
                    <a:pt x="1722" y="474"/>
                  </a:lnTo>
                  <a:lnTo>
                    <a:pt x="1762" y="478"/>
                  </a:lnTo>
                  <a:lnTo>
                    <a:pt x="1802" y="484"/>
                  </a:lnTo>
                  <a:lnTo>
                    <a:pt x="1840" y="492"/>
                  </a:lnTo>
                  <a:lnTo>
                    <a:pt x="1876" y="500"/>
                  </a:lnTo>
                  <a:lnTo>
                    <a:pt x="1912" y="510"/>
                  </a:lnTo>
                  <a:lnTo>
                    <a:pt x="1946" y="520"/>
                  </a:lnTo>
                  <a:lnTo>
                    <a:pt x="1980" y="532"/>
                  </a:lnTo>
                  <a:lnTo>
                    <a:pt x="2012" y="544"/>
                  </a:lnTo>
                  <a:lnTo>
                    <a:pt x="2042" y="560"/>
                  </a:lnTo>
                  <a:lnTo>
                    <a:pt x="2070" y="574"/>
                  </a:lnTo>
                  <a:lnTo>
                    <a:pt x="2098" y="592"/>
                  </a:lnTo>
                  <a:lnTo>
                    <a:pt x="2124" y="610"/>
                  </a:lnTo>
                  <a:lnTo>
                    <a:pt x="2150" y="628"/>
                  </a:lnTo>
                  <a:lnTo>
                    <a:pt x="2174" y="648"/>
                  </a:lnTo>
                  <a:lnTo>
                    <a:pt x="2196" y="670"/>
                  </a:lnTo>
                  <a:lnTo>
                    <a:pt x="2218" y="692"/>
                  </a:lnTo>
                  <a:lnTo>
                    <a:pt x="2218" y="692"/>
                  </a:lnTo>
                  <a:lnTo>
                    <a:pt x="2238" y="716"/>
                  </a:lnTo>
                  <a:lnTo>
                    <a:pt x="2256" y="740"/>
                  </a:lnTo>
                  <a:lnTo>
                    <a:pt x="2272" y="766"/>
                  </a:lnTo>
                  <a:lnTo>
                    <a:pt x="2286" y="790"/>
                  </a:lnTo>
                  <a:lnTo>
                    <a:pt x="2298" y="814"/>
                  </a:lnTo>
                  <a:lnTo>
                    <a:pt x="2308" y="838"/>
                  </a:lnTo>
                  <a:lnTo>
                    <a:pt x="2316" y="860"/>
                  </a:lnTo>
                  <a:lnTo>
                    <a:pt x="2324" y="882"/>
                  </a:lnTo>
                  <a:lnTo>
                    <a:pt x="2334" y="924"/>
                  </a:lnTo>
                  <a:lnTo>
                    <a:pt x="2342" y="962"/>
                  </a:lnTo>
                  <a:lnTo>
                    <a:pt x="2344" y="994"/>
                  </a:lnTo>
                  <a:lnTo>
                    <a:pt x="2344" y="1018"/>
                  </a:lnTo>
                  <a:lnTo>
                    <a:pt x="2344" y="1018"/>
                  </a:lnTo>
                  <a:lnTo>
                    <a:pt x="2344" y="1048"/>
                  </a:lnTo>
                  <a:lnTo>
                    <a:pt x="2340" y="1086"/>
                  </a:lnTo>
                  <a:lnTo>
                    <a:pt x="2332" y="1132"/>
                  </a:lnTo>
                  <a:lnTo>
                    <a:pt x="2326" y="1156"/>
                  </a:lnTo>
                  <a:lnTo>
                    <a:pt x="2318" y="1182"/>
                  </a:lnTo>
                  <a:lnTo>
                    <a:pt x="2308" y="1210"/>
                  </a:lnTo>
                  <a:lnTo>
                    <a:pt x="2296" y="1240"/>
                  </a:lnTo>
                  <a:lnTo>
                    <a:pt x="2282" y="1268"/>
                  </a:lnTo>
                  <a:lnTo>
                    <a:pt x="2266" y="1300"/>
                  </a:lnTo>
                  <a:lnTo>
                    <a:pt x="2246" y="1330"/>
                  </a:lnTo>
                  <a:lnTo>
                    <a:pt x="2224" y="1362"/>
                  </a:lnTo>
                  <a:lnTo>
                    <a:pt x="2200" y="1392"/>
                  </a:lnTo>
                  <a:lnTo>
                    <a:pt x="2174" y="1424"/>
                  </a:lnTo>
                  <a:lnTo>
                    <a:pt x="2174" y="1424"/>
                  </a:lnTo>
                  <a:lnTo>
                    <a:pt x="2144" y="1454"/>
                  </a:lnTo>
                  <a:lnTo>
                    <a:pt x="2114" y="1482"/>
                  </a:lnTo>
                  <a:lnTo>
                    <a:pt x="2082" y="1508"/>
                  </a:lnTo>
                  <a:lnTo>
                    <a:pt x="2048" y="1534"/>
                  </a:lnTo>
                  <a:lnTo>
                    <a:pt x="2012" y="1558"/>
                  </a:lnTo>
                  <a:lnTo>
                    <a:pt x="1974" y="1582"/>
                  </a:lnTo>
                  <a:lnTo>
                    <a:pt x="1934" y="1604"/>
                  </a:lnTo>
                  <a:lnTo>
                    <a:pt x="1892" y="1624"/>
                  </a:lnTo>
                  <a:lnTo>
                    <a:pt x="1850" y="1642"/>
                  </a:lnTo>
                  <a:lnTo>
                    <a:pt x="1806" y="1660"/>
                  </a:lnTo>
                  <a:lnTo>
                    <a:pt x="1760" y="1676"/>
                  </a:lnTo>
                  <a:lnTo>
                    <a:pt x="1712" y="1690"/>
                  </a:lnTo>
                  <a:lnTo>
                    <a:pt x="1662" y="1702"/>
                  </a:lnTo>
                  <a:lnTo>
                    <a:pt x="1612" y="1714"/>
                  </a:lnTo>
                  <a:lnTo>
                    <a:pt x="1560" y="1724"/>
                  </a:lnTo>
                  <a:lnTo>
                    <a:pt x="1506" y="1734"/>
                  </a:lnTo>
                  <a:lnTo>
                    <a:pt x="1506" y="1734"/>
                  </a:lnTo>
                  <a:close/>
                  <a:moveTo>
                    <a:pt x="1082" y="568"/>
                  </a:moveTo>
                  <a:lnTo>
                    <a:pt x="1082" y="568"/>
                  </a:lnTo>
                  <a:lnTo>
                    <a:pt x="1078" y="614"/>
                  </a:lnTo>
                  <a:lnTo>
                    <a:pt x="1072" y="660"/>
                  </a:lnTo>
                  <a:lnTo>
                    <a:pt x="1066" y="706"/>
                  </a:lnTo>
                  <a:lnTo>
                    <a:pt x="1058" y="752"/>
                  </a:lnTo>
                  <a:lnTo>
                    <a:pt x="1048" y="798"/>
                  </a:lnTo>
                  <a:lnTo>
                    <a:pt x="1038" y="844"/>
                  </a:lnTo>
                  <a:lnTo>
                    <a:pt x="1026" y="890"/>
                  </a:lnTo>
                  <a:lnTo>
                    <a:pt x="1012" y="936"/>
                  </a:lnTo>
                  <a:lnTo>
                    <a:pt x="996" y="982"/>
                  </a:lnTo>
                  <a:lnTo>
                    <a:pt x="980" y="1028"/>
                  </a:lnTo>
                  <a:lnTo>
                    <a:pt x="962" y="1074"/>
                  </a:lnTo>
                  <a:lnTo>
                    <a:pt x="942" y="1120"/>
                  </a:lnTo>
                  <a:lnTo>
                    <a:pt x="920" y="1168"/>
                  </a:lnTo>
                  <a:lnTo>
                    <a:pt x="898" y="1214"/>
                  </a:lnTo>
                  <a:lnTo>
                    <a:pt x="874" y="1262"/>
                  </a:lnTo>
                  <a:lnTo>
                    <a:pt x="848" y="1310"/>
                  </a:lnTo>
                  <a:lnTo>
                    <a:pt x="848" y="1310"/>
                  </a:lnTo>
                  <a:lnTo>
                    <a:pt x="848" y="1310"/>
                  </a:lnTo>
                  <a:lnTo>
                    <a:pt x="848" y="1310"/>
                  </a:lnTo>
                  <a:lnTo>
                    <a:pt x="826" y="1350"/>
                  </a:lnTo>
                  <a:lnTo>
                    <a:pt x="812" y="1374"/>
                  </a:lnTo>
                  <a:lnTo>
                    <a:pt x="796" y="1398"/>
                  </a:lnTo>
                  <a:lnTo>
                    <a:pt x="778" y="1420"/>
                  </a:lnTo>
                  <a:lnTo>
                    <a:pt x="760" y="1438"/>
                  </a:lnTo>
                  <a:lnTo>
                    <a:pt x="752" y="1446"/>
                  </a:lnTo>
                  <a:lnTo>
                    <a:pt x="744" y="1452"/>
                  </a:lnTo>
                  <a:lnTo>
                    <a:pt x="736" y="1454"/>
                  </a:lnTo>
                  <a:lnTo>
                    <a:pt x="728" y="1456"/>
                  </a:lnTo>
                  <a:lnTo>
                    <a:pt x="728" y="1456"/>
                  </a:lnTo>
                  <a:lnTo>
                    <a:pt x="722" y="1454"/>
                  </a:lnTo>
                  <a:lnTo>
                    <a:pt x="712" y="1450"/>
                  </a:lnTo>
                  <a:lnTo>
                    <a:pt x="692" y="1434"/>
                  </a:lnTo>
                  <a:lnTo>
                    <a:pt x="668" y="1410"/>
                  </a:lnTo>
                  <a:lnTo>
                    <a:pt x="656" y="1394"/>
                  </a:lnTo>
                  <a:lnTo>
                    <a:pt x="644" y="1378"/>
                  </a:lnTo>
                  <a:lnTo>
                    <a:pt x="632" y="1358"/>
                  </a:lnTo>
                  <a:lnTo>
                    <a:pt x="620" y="1338"/>
                  </a:lnTo>
                  <a:lnTo>
                    <a:pt x="610" y="1316"/>
                  </a:lnTo>
                  <a:lnTo>
                    <a:pt x="600" y="1292"/>
                  </a:lnTo>
                  <a:lnTo>
                    <a:pt x="592" y="1266"/>
                  </a:lnTo>
                  <a:lnTo>
                    <a:pt x="586" y="1238"/>
                  </a:lnTo>
                  <a:lnTo>
                    <a:pt x="584" y="1208"/>
                  </a:lnTo>
                  <a:lnTo>
                    <a:pt x="582" y="1178"/>
                  </a:lnTo>
                  <a:lnTo>
                    <a:pt x="582" y="1178"/>
                  </a:lnTo>
                  <a:lnTo>
                    <a:pt x="584" y="1144"/>
                  </a:lnTo>
                  <a:lnTo>
                    <a:pt x="590" y="1106"/>
                  </a:lnTo>
                  <a:lnTo>
                    <a:pt x="602" y="1068"/>
                  </a:lnTo>
                  <a:lnTo>
                    <a:pt x="616" y="1026"/>
                  </a:lnTo>
                  <a:lnTo>
                    <a:pt x="636" y="984"/>
                  </a:lnTo>
                  <a:lnTo>
                    <a:pt x="658" y="940"/>
                  </a:lnTo>
                  <a:lnTo>
                    <a:pt x="686" y="896"/>
                  </a:lnTo>
                  <a:lnTo>
                    <a:pt x="716" y="854"/>
                  </a:lnTo>
                  <a:lnTo>
                    <a:pt x="750" y="810"/>
                  </a:lnTo>
                  <a:lnTo>
                    <a:pt x="788" y="770"/>
                  </a:lnTo>
                  <a:lnTo>
                    <a:pt x="830" y="730"/>
                  </a:lnTo>
                  <a:lnTo>
                    <a:pt x="874" y="690"/>
                  </a:lnTo>
                  <a:lnTo>
                    <a:pt x="922" y="656"/>
                  </a:lnTo>
                  <a:lnTo>
                    <a:pt x="972" y="622"/>
                  </a:lnTo>
                  <a:lnTo>
                    <a:pt x="1024" y="594"/>
                  </a:lnTo>
                  <a:lnTo>
                    <a:pt x="1052" y="580"/>
                  </a:lnTo>
                  <a:lnTo>
                    <a:pt x="1082" y="568"/>
                  </a:lnTo>
                  <a:lnTo>
                    <a:pt x="1082" y="5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2101680" y="24482520"/>
              <a:ext cx="6175800" cy="5518080"/>
            </a:xfrm>
            <a:custGeom>
              <a:avLst/>
              <a:gdLst>
                <a:gd name="textAreaLeft" fmla="*/ 0 w 6175800"/>
                <a:gd name="textAreaRight" fmla="*/ 6176160 w 6175800"/>
                <a:gd name="textAreaTop" fmla="*/ 0 h 5518080"/>
                <a:gd name="textAreaBottom" fmla="*/ 5518440 h 5518080"/>
              </a:gdLst>
              <a:ahLst/>
              <a:rect l="textAreaLeft" t="textAreaTop" r="textAreaRight" b="textAreaBottom"/>
              <a:pathLst>
                <a:path w="3890" h="3476">
                  <a:moveTo>
                    <a:pt x="3834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6" y="4"/>
                  </a:lnTo>
                  <a:lnTo>
                    <a:pt x="26" y="10"/>
                  </a:lnTo>
                  <a:lnTo>
                    <a:pt x="18" y="16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2" y="46"/>
                  </a:lnTo>
                  <a:lnTo>
                    <a:pt x="0" y="56"/>
                  </a:lnTo>
                  <a:lnTo>
                    <a:pt x="0" y="3420"/>
                  </a:lnTo>
                  <a:lnTo>
                    <a:pt x="0" y="3420"/>
                  </a:lnTo>
                  <a:lnTo>
                    <a:pt x="2" y="3430"/>
                  </a:lnTo>
                  <a:lnTo>
                    <a:pt x="6" y="3442"/>
                  </a:lnTo>
                  <a:lnTo>
                    <a:pt x="10" y="3452"/>
                  </a:lnTo>
                  <a:lnTo>
                    <a:pt x="18" y="3460"/>
                  </a:lnTo>
                  <a:lnTo>
                    <a:pt x="26" y="3466"/>
                  </a:lnTo>
                  <a:lnTo>
                    <a:pt x="36" y="3472"/>
                  </a:lnTo>
                  <a:lnTo>
                    <a:pt x="46" y="3476"/>
                  </a:lnTo>
                  <a:lnTo>
                    <a:pt x="58" y="3476"/>
                  </a:lnTo>
                  <a:lnTo>
                    <a:pt x="884" y="3476"/>
                  </a:lnTo>
                  <a:lnTo>
                    <a:pt x="884" y="3476"/>
                  </a:lnTo>
                  <a:lnTo>
                    <a:pt x="896" y="3476"/>
                  </a:lnTo>
                  <a:lnTo>
                    <a:pt x="906" y="3472"/>
                  </a:lnTo>
                  <a:lnTo>
                    <a:pt x="916" y="3466"/>
                  </a:lnTo>
                  <a:lnTo>
                    <a:pt x="924" y="3460"/>
                  </a:lnTo>
                  <a:lnTo>
                    <a:pt x="932" y="3452"/>
                  </a:lnTo>
                  <a:lnTo>
                    <a:pt x="936" y="3442"/>
                  </a:lnTo>
                  <a:lnTo>
                    <a:pt x="940" y="3430"/>
                  </a:lnTo>
                  <a:lnTo>
                    <a:pt x="942" y="3420"/>
                  </a:lnTo>
                  <a:lnTo>
                    <a:pt x="942" y="3250"/>
                  </a:lnTo>
                  <a:lnTo>
                    <a:pt x="2950" y="3250"/>
                  </a:lnTo>
                  <a:lnTo>
                    <a:pt x="2950" y="3420"/>
                  </a:lnTo>
                  <a:lnTo>
                    <a:pt x="2950" y="3420"/>
                  </a:lnTo>
                  <a:lnTo>
                    <a:pt x="2950" y="3430"/>
                  </a:lnTo>
                  <a:lnTo>
                    <a:pt x="2954" y="3442"/>
                  </a:lnTo>
                  <a:lnTo>
                    <a:pt x="2960" y="3452"/>
                  </a:lnTo>
                  <a:lnTo>
                    <a:pt x="2966" y="3460"/>
                  </a:lnTo>
                  <a:lnTo>
                    <a:pt x="2974" y="3466"/>
                  </a:lnTo>
                  <a:lnTo>
                    <a:pt x="2984" y="3472"/>
                  </a:lnTo>
                  <a:lnTo>
                    <a:pt x="2996" y="3476"/>
                  </a:lnTo>
                  <a:lnTo>
                    <a:pt x="3006" y="3476"/>
                  </a:lnTo>
                  <a:lnTo>
                    <a:pt x="3834" y="3476"/>
                  </a:lnTo>
                  <a:lnTo>
                    <a:pt x="3834" y="3476"/>
                  </a:lnTo>
                  <a:lnTo>
                    <a:pt x="3844" y="3476"/>
                  </a:lnTo>
                  <a:lnTo>
                    <a:pt x="3856" y="3472"/>
                  </a:lnTo>
                  <a:lnTo>
                    <a:pt x="3866" y="3466"/>
                  </a:lnTo>
                  <a:lnTo>
                    <a:pt x="3874" y="3460"/>
                  </a:lnTo>
                  <a:lnTo>
                    <a:pt x="3880" y="3452"/>
                  </a:lnTo>
                  <a:lnTo>
                    <a:pt x="3886" y="3442"/>
                  </a:lnTo>
                  <a:lnTo>
                    <a:pt x="3890" y="3430"/>
                  </a:lnTo>
                  <a:lnTo>
                    <a:pt x="3890" y="3420"/>
                  </a:lnTo>
                  <a:lnTo>
                    <a:pt x="3890" y="56"/>
                  </a:lnTo>
                  <a:lnTo>
                    <a:pt x="3890" y="56"/>
                  </a:lnTo>
                  <a:lnTo>
                    <a:pt x="3890" y="46"/>
                  </a:lnTo>
                  <a:lnTo>
                    <a:pt x="3886" y="34"/>
                  </a:lnTo>
                  <a:lnTo>
                    <a:pt x="3880" y="24"/>
                  </a:lnTo>
                  <a:lnTo>
                    <a:pt x="3874" y="16"/>
                  </a:lnTo>
                  <a:lnTo>
                    <a:pt x="3866" y="10"/>
                  </a:lnTo>
                  <a:lnTo>
                    <a:pt x="3856" y="4"/>
                  </a:lnTo>
                  <a:lnTo>
                    <a:pt x="3844" y="0"/>
                  </a:lnTo>
                  <a:lnTo>
                    <a:pt x="3834" y="0"/>
                  </a:lnTo>
                  <a:lnTo>
                    <a:pt x="3834" y="0"/>
                  </a:lnTo>
                  <a:close/>
                  <a:moveTo>
                    <a:pt x="2950" y="1930"/>
                  </a:moveTo>
                  <a:lnTo>
                    <a:pt x="2950" y="2546"/>
                  </a:lnTo>
                  <a:lnTo>
                    <a:pt x="942" y="2546"/>
                  </a:lnTo>
                  <a:lnTo>
                    <a:pt x="942" y="1930"/>
                  </a:lnTo>
                  <a:lnTo>
                    <a:pt x="2950" y="1930"/>
                  </a:lnTo>
                  <a:close/>
                  <a:moveTo>
                    <a:pt x="942" y="1260"/>
                  </a:moveTo>
                  <a:lnTo>
                    <a:pt x="942" y="686"/>
                  </a:lnTo>
                  <a:lnTo>
                    <a:pt x="2950" y="686"/>
                  </a:lnTo>
                  <a:lnTo>
                    <a:pt x="2950" y="1260"/>
                  </a:lnTo>
                  <a:lnTo>
                    <a:pt x="942" y="1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1380960" y="13258800"/>
              <a:ext cx="7239240" cy="5978520"/>
            </a:xfrm>
            <a:custGeom>
              <a:avLst/>
              <a:gdLst>
                <a:gd name="textAreaLeft" fmla="*/ 0 w 7239240"/>
                <a:gd name="textAreaRight" fmla="*/ 7239600 w 7239240"/>
                <a:gd name="textAreaTop" fmla="*/ 0 h 5978520"/>
                <a:gd name="textAreaBottom" fmla="*/ 5978880 h 5978520"/>
              </a:gdLst>
              <a:ahLst/>
              <a:rect l="textAreaLeft" t="textAreaTop" r="textAreaRight" b="textAreaBottom"/>
              <a:pathLst>
                <a:path w="4560" h="3766">
                  <a:moveTo>
                    <a:pt x="4560" y="3308"/>
                  </a:moveTo>
                  <a:lnTo>
                    <a:pt x="4560" y="3308"/>
                  </a:lnTo>
                  <a:lnTo>
                    <a:pt x="4558" y="3348"/>
                  </a:lnTo>
                  <a:lnTo>
                    <a:pt x="4554" y="3384"/>
                  </a:lnTo>
                  <a:lnTo>
                    <a:pt x="4548" y="3420"/>
                  </a:lnTo>
                  <a:lnTo>
                    <a:pt x="4540" y="3452"/>
                  </a:lnTo>
                  <a:lnTo>
                    <a:pt x="4528" y="3482"/>
                  </a:lnTo>
                  <a:lnTo>
                    <a:pt x="4516" y="3510"/>
                  </a:lnTo>
                  <a:lnTo>
                    <a:pt x="4500" y="3534"/>
                  </a:lnTo>
                  <a:lnTo>
                    <a:pt x="4482" y="3558"/>
                  </a:lnTo>
                  <a:lnTo>
                    <a:pt x="4462" y="3580"/>
                  </a:lnTo>
                  <a:lnTo>
                    <a:pt x="4440" y="3600"/>
                  </a:lnTo>
                  <a:lnTo>
                    <a:pt x="4416" y="3618"/>
                  </a:lnTo>
                  <a:lnTo>
                    <a:pt x="4390" y="3636"/>
                  </a:lnTo>
                  <a:lnTo>
                    <a:pt x="4362" y="3650"/>
                  </a:lnTo>
                  <a:lnTo>
                    <a:pt x="4332" y="3664"/>
                  </a:lnTo>
                  <a:lnTo>
                    <a:pt x="4302" y="3676"/>
                  </a:lnTo>
                  <a:lnTo>
                    <a:pt x="4268" y="3686"/>
                  </a:lnTo>
                  <a:lnTo>
                    <a:pt x="4234" y="3696"/>
                  </a:lnTo>
                  <a:lnTo>
                    <a:pt x="4198" y="3704"/>
                  </a:lnTo>
                  <a:lnTo>
                    <a:pt x="4162" y="3712"/>
                  </a:lnTo>
                  <a:lnTo>
                    <a:pt x="4122" y="3718"/>
                  </a:lnTo>
                  <a:lnTo>
                    <a:pt x="4042" y="3726"/>
                  </a:lnTo>
                  <a:lnTo>
                    <a:pt x="3956" y="3732"/>
                  </a:lnTo>
                  <a:lnTo>
                    <a:pt x="3866" y="3736"/>
                  </a:lnTo>
                  <a:lnTo>
                    <a:pt x="3772" y="3738"/>
                  </a:lnTo>
                  <a:lnTo>
                    <a:pt x="3576" y="3738"/>
                  </a:lnTo>
                  <a:lnTo>
                    <a:pt x="3576" y="3738"/>
                  </a:lnTo>
                  <a:lnTo>
                    <a:pt x="3566" y="3680"/>
                  </a:lnTo>
                  <a:lnTo>
                    <a:pt x="3554" y="3626"/>
                  </a:lnTo>
                  <a:lnTo>
                    <a:pt x="3538" y="3572"/>
                  </a:lnTo>
                  <a:lnTo>
                    <a:pt x="3528" y="3546"/>
                  </a:lnTo>
                  <a:lnTo>
                    <a:pt x="3518" y="3518"/>
                  </a:lnTo>
                  <a:lnTo>
                    <a:pt x="3504" y="3492"/>
                  </a:lnTo>
                  <a:lnTo>
                    <a:pt x="3490" y="3464"/>
                  </a:lnTo>
                  <a:lnTo>
                    <a:pt x="3474" y="3438"/>
                  </a:lnTo>
                  <a:lnTo>
                    <a:pt x="3456" y="3408"/>
                  </a:lnTo>
                  <a:lnTo>
                    <a:pt x="3436" y="3380"/>
                  </a:lnTo>
                  <a:lnTo>
                    <a:pt x="3416" y="3350"/>
                  </a:lnTo>
                  <a:lnTo>
                    <a:pt x="3364" y="3288"/>
                  </a:lnTo>
                  <a:lnTo>
                    <a:pt x="3364" y="3288"/>
                  </a:lnTo>
                  <a:lnTo>
                    <a:pt x="3312" y="3350"/>
                  </a:lnTo>
                  <a:lnTo>
                    <a:pt x="3270" y="3404"/>
                  </a:lnTo>
                  <a:lnTo>
                    <a:pt x="3270" y="3404"/>
                  </a:lnTo>
                  <a:lnTo>
                    <a:pt x="3220" y="3382"/>
                  </a:lnTo>
                  <a:lnTo>
                    <a:pt x="3130" y="3340"/>
                  </a:lnTo>
                  <a:lnTo>
                    <a:pt x="3008" y="3280"/>
                  </a:lnTo>
                  <a:lnTo>
                    <a:pt x="2938" y="3244"/>
                  </a:lnTo>
                  <a:lnTo>
                    <a:pt x="2864" y="3204"/>
                  </a:lnTo>
                  <a:lnTo>
                    <a:pt x="2786" y="3162"/>
                  </a:lnTo>
                  <a:lnTo>
                    <a:pt x="2708" y="3116"/>
                  </a:lnTo>
                  <a:lnTo>
                    <a:pt x="2628" y="3068"/>
                  </a:lnTo>
                  <a:lnTo>
                    <a:pt x="2550" y="3016"/>
                  </a:lnTo>
                  <a:lnTo>
                    <a:pt x="2472" y="2964"/>
                  </a:lnTo>
                  <a:lnTo>
                    <a:pt x="2398" y="2908"/>
                  </a:lnTo>
                  <a:lnTo>
                    <a:pt x="2328" y="2852"/>
                  </a:lnTo>
                  <a:lnTo>
                    <a:pt x="2296" y="2822"/>
                  </a:lnTo>
                  <a:lnTo>
                    <a:pt x="2264" y="2794"/>
                  </a:lnTo>
                  <a:lnTo>
                    <a:pt x="2264" y="2794"/>
                  </a:lnTo>
                  <a:lnTo>
                    <a:pt x="2214" y="2848"/>
                  </a:lnTo>
                  <a:lnTo>
                    <a:pt x="2158" y="2904"/>
                  </a:lnTo>
                  <a:lnTo>
                    <a:pt x="2100" y="2958"/>
                  </a:lnTo>
                  <a:lnTo>
                    <a:pt x="2036" y="3010"/>
                  </a:lnTo>
                  <a:lnTo>
                    <a:pt x="1970" y="3062"/>
                  </a:lnTo>
                  <a:lnTo>
                    <a:pt x="1900" y="3114"/>
                  </a:lnTo>
                  <a:lnTo>
                    <a:pt x="1828" y="3162"/>
                  </a:lnTo>
                  <a:lnTo>
                    <a:pt x="1754" y="3210"/>
                  </a:lnTo>
                  <a:lnTo>
                    <a:pt x="1676" y="3254"/>
                  </a:lnTo>
                  <a:lnTo>
                    <a:pt x="1598" y="3298"/>
                  </a:lnTo>
                  <a:lnTo>
                    <a:pt x="1516" y="3340"/>
                  </a:lnTo>
                  <a:lnTo>
                    <a:pt x="1434" y="3378"/>
                  </a:lnTo>
                  <a:lnTo>
                    <a:pt x="1352" y="3414"/>
                  </a:lnTo>
                  <a:lnTo>
                    <a:pt x="1268" y="3446"/>
                  </a:lnTo>
                  <a:lnTo>
                    <a:pt x="1184" y="3476"/>
                  </a:lnTo>
                  <a:lnTo>
                    <a:pt x="1100" y="3502"/>
                  </a:lnTo>
                  <a:lnTo>
                    <a:pt x="1100" y="3502"/>
                  </a:lnTo>
                  <a:lnTo>
                    <a:pt x="1074" y="3470"/>
                  </a:lnTo>
                  <a:lnTo>
                    <a:pt x="1044" y="3436"/>
                  </a:lnTo>
                  <a:lnTo>
                    <a:pt x="1012" y="3400"/>
                  </a:lnTo>
                  <a:lnTo>
                    <a:pt x="976" y="3364"/>
                  </a:lnTo>
                  <a:lnTo>
                    <a:pt x="932" y="3326"/>
                  </a:lnTo>
                  <a:lnTo>
                    <a:pt x="884" y="3284"/>
                  </a:lnTo>
                  <a:lnTo>
                    <a:pt x="828" y="3242"/>
                  </a:lnTo>
                  <a:lnTo>
                    <a:pt x="764" y="3198"/>
                  </a:lnTo>
                  <a:lnTo>
                    <a:pt x="764" y="3766"/>
                  </a:lnTo>
                  <a:lnTo>
                    <a:pt x="0" y="3766"/>
                  </a:lnTo>
                  <a:lnTo>
                    <a:pt x="0" y="556"/>
                  </a:lnTo>
                  <a:lnTo>
                    <a:pt x="1880" y="556"/>
                  </a:lnTo>
                  <a:lnTo>
                    <a:pt x="1880" y="0"/>
                  </a:lnTo>
                  <a:lnTo>
                    <a:pt x="2706" y="16"/>
                  </a:lnTo>
                  <a:lnTo>
                    <a:pt x="2706" y="16"/>
                  </a:lnTo>
                  <a:lnTo>
                    <a:pt x="2724" y="16"/>
                  </a:lnTo>
                  <a:lnTo>
                    <a:pt x="2738" y="18"/>
                  </a:lnTo>
                  <a:lnTo>
                    <a:pt x="2752" y="22"/>
                  </a:lnTo>
                  <a:lnTo>
                    <a:pt x="2764" y="26"/>
                  </a:lnTo>
                  <a:lnTo>
                    <a:pt x="2772" y="32"/>
                  </a:lnTo>
                  <a:lnTo>
                    <a:pt x="2780" y="38"/>
                  </a:lnTo>
                  <a:lnTo>
                    <a:pt x="2784" y="46"/>
                  </a:lnTo>
                  <a:lnTo>
                    <a:pt x="2786" y="52"/>
                  </a:lnTo>
                  <a:lnTo>
                    <a:pt x="2786" y="52"/>
                  </a:lnTo>
                  <a:lnTo>
                    <a:pt x="2784" y="60"/>
                  </a:lnTo>
                  <a:lnTo>
                    <a:pt x="2782" y="66"/>
                  </a:lnTo>
                  <a:lnTo>
                    <a:pt x="2774" y="80"/>
                  </a:lnTo>
                  <a:lnTo>
                    <a:pt x="2764" y="96"/>
                  </a:lnTo>
                  <a:lnTo>
                    <a:pt x="2748" y="108"/>
                  </a:lnTo>
                  <a:lnTo>
                    <a:pt x="2732" y="122"/>
                  </a:lnTo>
                  <a:lnTo>
                    <a:pt x="2714" y="134"/>
                  </a:lnTo>
                  <a:lnTo>
                    <a:pt x="2680" y="156"/>
                  </a:lnTo>
                  <a:lnTo>
                    <a:pt x="2680" y="556"/>
                  </a:lnTo>
                  <a:lnTo>
                    <a:pt x="4560" y="556"/>
                  </a:lnTo>
                  <a:lnTo>
                    <a:pt x="4560" y="3308"/>
                  </a:lnTo>
                  <a:close/>
                  <a:moveTo>
                    <a:pt x="764" y="1772"/>
                  </a:moveTo>
                  <a:lnTo>
                    <a:pt x="764" y="1772"/>
                  </a:lnTo>
                  <a:lnTo>
                    <a:pt x="926" y="1728"/>
                  </a:lnTo>
                  <a:lnTo>
                    <a:pt x="1006" y="1706"/>
                  </a:lnTo>
                  <a:lnTo>
                    <a:pt x="1082" y="1682"/>
                  </a:lnTo>
                  <a:lnTo>
                    <a:pt x="1156" y="1656"/>
                  </a:lnTo>
                  <a:lnTo>
                    <a:pt x="1230" y="1628"/>
                  </a:lnTo>
                  <a:lnTo>
                    <a:pt x="1300" y="1596"/>
                  </a:lnTo>
                  <a:lnTo>
                    <a:pt x="1366" y="1562"/>
                  </a:lnTo>
                  <a:lnTo>
                    <a:pt x="1398" y="1544"/>
                  </a:lnTo>
                  <a:lnTo>
                    <a:pt x="1430" y="1524"/>
                  </a:lnTo>
                  <a:lnTo>
                    <a:pt x="1462" y="1504"/>
                  </a:lnTo>
                  <a:lnTo>
                    <a:pt x="1492" y="1482"/>
                  </a:lnTo>
                  <a:lnTo>
                    <a:pt x="1520" y="1460"/>
                  </a:lnTo>
                  <a:lnTo>
                    <a:pt x="1548" y="1436"/>
                  </a:lnTo>
                  <a:lnTo>
                    <a:pt x="1576" y="1412"/>
                  </a:lnTo>
                  <a:lnTo>
                    <a:pt x="1604" y="1386"/>
                  </a:lnTo>
                  <a:lnTo>
                    <a:pt x="1628" y="1358"/>
                  </a:lnTo>
                  <a:lnTo>
                    <a:pt x="1654" y="1328"/>
                  </a:lnTo>
                  <a:lnTo>
                    <a:pt x="1678" y="1298"/>
                  </a:lnTo>
                  <a:lnTo>
                    <a:pt x="1700" y="1266"/>
                  </a:lnTo>
                  <a:lnTo>
                    <a:pt x="1722" y="1234"/>
                  </a:lnTo>
                  <a:lnTo>
                    <a:pt x="1742" y="1198"/>
                  </a:lnTo>
                  <a:lnTo>
                    <a:pt x="1762" y="1162"/>
                  </a:lnTo>
                  <a:lnTo>
                    <a:pt x="1780" y="1124"/>
                  </a:lnTo>
                  <a:lnTo>
                    <a:pt x="764" y="1124"/>
                  </a:lnTo>
                  <a:lnTo>
                    <a:pt x="764" y="1772"/>
                  </a:lnTo>
                  <a:close/>
                  <a:moveTo>
                    <a:pt x="764" y="2992"/>
                  </a:moveTo>
                  <a:lnTo>
                    <a:pt x="764" y="2992"/>
                  </a:lnTo>
                  <a:lnTo>
                    <a:pt x="824" y="2974"/>
                  </a:lnTo>
                  <a:lnTo>
                    <a:pt x="884" y="2956"/>
                  </a:lnTo>
                  <a:lnTo>
                    <a:pt x="942" y="2938"/>
                  </a:lnTo>
                  <a:lnTo>
                    <a:pt x="998" y="2918"/>
                  </a:lnTo>
                  <a:lnTo>
                    <a:pt x="1052" y="2896"/>
                  </a:lnTo>
                  <a:lnTo>
                    <a:pt x="1106" y="2876"/>
                  </a:lnTo>
                  <a:lnTo>
                    <a:pt x="1158" y="2852"/>
                  </a:lnTo>
                  <a:lnTo>
                    <a:pt x="1208" y="2828"/>
                  </a:lnTo>
                  <a:lnTo>
                    <a:pt x="1256" y="2802"/>
                  </a:lnTo>
                  <a:lnTo>
                    <a:pt x="1304" y="2776"/>
                  </a:lnTo>
                  <a:lnTo>
                    <a:pt x="1348" y="2750"/>
                  </a:lnTo>
                  <a:lnTo>
                    <a:pt x="1392" y="2722"/>
                  </a:lnTo>
                  <a:lnTo>
                    <a:pt x="1434" y="2692"/>
                  </a:lnTo>
                  <a:lnTo>
                    <a:pt x="1474" y="2662"/>
                  </a:lnTo>
                  <a:lnTo>
                    <a:pt x="1514" y="2630"/>
                  </a:lnTo>
                  <a:lnTo>
                    <a:pt x="1550" y="2598"/>
                  </a:lnTo>
                  <a:lnTo>
                    <a:pt x="1586" y="2566"/>
                  </a:lnTo>
                  <a:lnTo>
                    <a:pt x="1620" y="2530"/>
                  </a:lnTo>
                  <a:lnTo>
                    <a:pt x="1652" y="2496"/>
                  </a:lnTo>
                  <a:lnTo>
                    <a:pt x="1682" y="2458"/>
                  </a:lnTo>
                  <a:lnTo>
                    <a:pt x="1710" y="2422"/>
                  </a:lnTo>
                  <a:lnTo>
                    <a:pt x="1738" y="2382"/>
                  </a:lnTo>
                  <a:lnTo>
                    <a:pt x="1764" y="2344"/>
                  </a:lnTo>
                  <a:lnTo>
                    <a:pt x="1786" y="2302"/>
                  </a:lnTo>
                  <a:lnTo>
                    <a:pt x="1808" y="2260"/>
                  </a:lnTo>
                  <a:lnTo>
                    <a:pt x="1828" y="2218"/>
                  </a:lnTo>
                  <a:lnTo>
                    <a:pt x="1846" y="2174"/>
                  </a:lnTo>
                  <a:lnTo>
                    <a:pt x="1864" y="2130"/>
                  </a:lnTo>
                  <a:lnTo>
                    <a:pt x="1878" y="2084"/>
                  </a:lnTo>
                  <a:lnTo>
                    <a:pt x="1890" y="2036"/>
                  </a:lnTo>
                  <a:lnTo>
                    <a:pt x="1902" y="1990"/>
                  </a:lnTo>
                  <a:lnTo>
                    <a:pt x="1912" y="1940"/>
                  </a:lnTo>
                  <a:lnTo>
                    <a:pt x="1912" y="1940"/>
                  </a:lnTo>
                  <a:lnTo>
                    <a:pt x="1856" y="1972"/>
                  </a:lnTo>
                  <a:lnTo>
                    <a:pt x="1800" y="2004"/>
                  </a:lnTo>
                  <a:lnTo>
                    <a:pt x="1744" y="2032"/>
                  </a:lnTo>
                  <a:lnTo>
                    <a:pt x="1690" y="2058"/>
                  </a:lnTo>
                  <a:lnTo>
                    <a:pt x="1636" y="2082"/>
                  </a:lnTo>
                  <a:lnTo>
                    <a:pt x="1582" y="2104"/>
                  </a:lnTo>
                  <a:lnTo>
                    <a:pt x="1528" y="2124"/>
                  </a:lnTo>
                  <a:lnTo>
                    <a:pt x="1474" y="2144"/>
                  </a:lnTo>
                  <a:lnTo>
                    <a:pt x="1420" y="2160"/>
                  </a:lnTo>
                  <a:lnTo>
                    <a:pt x="1366" y="2176"/>
                  </a:lnTo>
                  <a:lnTo>
                    <a:pt x="1260" y="2206"/>
                  </a:lnTo>
                  <a:lnTo>
                    <a:pt x="1154" y="2230"/>
                  </a:lnTo>
                  <a:lnTo>
                    <a:pt x="1048" y="2254"/>
                  </a:lnTo>
                  <a:lnTo>
                    <a:pt x="1048" y="2254"/>
                  </a:lnTo>
                  <a:lnTo>
                    <a:pt x="1034" y="2228"/>
                  </a:lnTo>
                  <a:lnTo>
                    <a:pt x="1016" y="2194"/>
                  </a:lnTo>
                  <a:lnTo>
                    <a:pt x="994" y="2158"/>
                  </a:lnTo>
                  <a:lnTo>
                    <a:pt x="964" y="2116"/>
                  </a:lnTo>
                  <a:lnTo>
                    <a:pt x="928" y="2070"/>
                  </a:lnTo>
                  <a:lnTo>
                    <a:pt x="906" y="2046"/>
                  </a:lnTo>
                  <a:lnTo>
                    <a:pt x="884" y="2020"/>
                  </a:lnTo>
                  <a:lnTo>
                    <a:pt x="858" y="1994"/>
                  </a:lnTo>
                  <a:lnTo>
                    <a:pt x="828" y="1968"/>
                  </a:lnTo>
                  <a:lnTo>
                    <a:pt x="798" y="1942"/>
                  </a:lnTo>
                  <a:lnTo>
                    <a:pt x="764" y="1916"/>
                  </a:lnTo>
                  <a:lnTo>
                    <a:pt x="764" y="2992"/>
                  </a:lnTo>
                  <a:close/>
                  <a:moveTo>
                    <a:pt x="3796" y="1932"/>
                  </a:moveTo>
                  <a:lnTo>
                    <a:pt x="3796" y="1932"/>
                  </a:lnTo>
                  <a:lnTo>
                    <a:pt x="3726" y="2000"/>
                  </a:lnTo>
                  <a:lnTo>
                    <a:pt x="3668" y="2060"/>
                  </a:lnTo>
                  <a:lnTo>
                    <a:pt x="3620" y="2114"/>
                  </a:lnTo>
                  <a:lnTo>
                    <a:pt x="3584" y="2160"/>
                  </a:lnTo>
                  <a:lnTo>
                    <a:pt x="3554" y="2200"/>
                  </a:lnTo>
                  <a:lnTo>
                    <a:pt x="3530" y="2236"/>
                  </a:lnTo>
                  <a:lnTo>
                    <a:pt x="3496" y="2290"/>
                  </a:lnTo>
                  <a:lnTo>
                    <a:pt x="3496" y="2290"/>
                  </a:lnTo>
                  <a:lnTo>
                    <a:pt x="3406" y="2258"/>
                  </a:lnTo>
                  <a:lnTo>
                    <a:pt x="3352" y="2236"/>
                  </a:lnTo>
                  <a:lnTo>
                    <a:pt x="3290" y="2210"/>
                  </a:lnTo>
                  <a:lnTo>
                    <a:pt x="3222" y="2180"/>
                  </a:lnTo>
                  <a:lnTo>
                    <a:pt x="3150" y="2144"/>
                  </a:lnTo>
                  <a:lnTo>
                    <a:pt x="3072" y="2106"/>
                  </a:lnTo>
                  <a:lnTo>
                    <a:pt x="2994" y="2064"/>
                  </a:lnTo>
                  <a:lnTo>
                    <a:pt x="2912" y="2018"/>
                  </a:lnTo>
                  <a:lnTo>
                    <a:pt x="2828" y="1968"/>
                  </a:lnTo>
                  <a:lnTo>
                    <a:pt x="2742" y="1914"/>
                  </a:lnTo>
                  <a:lnTo>
                    <a:pt x="2658" y="1856"/>
                  </a:lnTo>
                  <a:lnTo>
                    <a:pt x="2574" y="1792"/>
                  </a:lnTo>
                  <a:lnTo>
                    <a:pt x="2490" y="1726"/>
                  </a:lnTo>
                  <a:lnTo>
                    <a:pt x="2450" y="1692"/>
                  </a:lnTo>
                  <a:lnTo>
                    <a:pt x="2410" y="1656"/>
                  </a:lnTo>
                  <a:lnTo>
                    <a:pt x="2370" y="1620"/>
                  </a:lnTo>
                  <a:lnTo>
                    <a:pt x="2332" y="1582"/>
                  </a:lnTo>
                  <a:lnTo>
                    <a:pt x="2332" y="1582"/>
                  </a:lnTo>
                  <a:lnTo>
                    <a:pt x="2322" y="1596"/>
                  </a:lnTo>
                  <a:lnTo>
                    <a:pt x="2302" y="1618"/>
                  </a:lnTo>
                  <a:lnTo>
                    <a:pt x="2274" y="1650"/>
                  </a:lnTo>
                  <a:lnTo>
                    <a:pt x="2238" y="1688"/>
                  </a:lnTo>
                  <a:lnTo>
                    <a:pt x="2190" y="1732"/>
                  </a:lnTo>
                  <a:lnTo>
                    <a:pt x="2134" y="1780"/>
                  </a:lnTo>
                  <a:lnTo>
                    <a:pt x="2070" y="1832"/>
                  </a:lnTo>
                  <a:lnTo>
                    <a:pt x="1996" y="1886"/>
                  </a:lnTo>
                  <a:lnTo>
                    <a:pt x="2722" y="1948"/>
                  </a:lnTo>
                  <a:lnTo>
                    <a:pt x="2722" y="1948"/>
                  </a:lnTo>
                  <a:lnTo>
                    <a:pt x="2744" y="1950"/>
                  </a:lnTo>
                  <a:lnTo>
                    <a:pt x="2762" y="1954"/>
                  </a:lnTo>
                  <a:lnTo>
                    <a:pt x="2780" y="1958"/>
                  </a:lnTo>
                  <a:lnTo>
                    <a:pt x="2794" y="1964"/>
                  </a:lnTo>
                  <a:lnTo>
                    <a:pt x="2806" y="1972"/>
                  </a:lnTo>
                  <a:lnTo>
                    <a:pt x="2814" y="1980"/>
                  </a:lnTo>
                  <a:lnTo>
                    <a:pt x="2820" y="1990"/>
                  </a:lnTo>
                  <a:lnTo>
                    <a:pt x="2822" y="2002"/>
                  </a:lnTo>
                  <a:lnTo>
                    <a:pt x="2822" y="2002"/>
                  </a:lnTo>
                  <a:lnTo>
                    <a:pt x="2822" y="2010"/>
                  </a:lnTo>
                  <a:lnTo>
                    <a:pt x="2818" y="2018"/>
                  </a:lnTo>
                  <a:lnTo>
                    <a:pt x="2814" y="2024"/>
                  </a:lnTo>
                  <a:lnTo>
                    <a:pt x="2810" y="2030"/>
                  </a:lnTo>
                  <a:lnTo>
                    <a:pt x="2802" y="2036"/>
                  </a:lnTo>
                  <a:lnTo>
                    <a:pt x="2794" y="2042"/>
                  </a:lnTo>
                  <a:lnTo>
                    <a:pt x="2772" y="2050"/>
                  </a:lnTo>
                  <a:lnTo>
                    <a:pt x="2746" y="2058"/>
                  </a:lnTo>
                  <a:lnTo>
                    <a:pt x="2716" y="2064"/>
                  </a:lnTo>
                  <a:lnTo>
                    <a:pt x="2644" y="2076"/>
                  </a:lnTo>
                  <a:lnTo>
                    <a:pt x="2644" y="2076"/>
                  </a:lnTo>
                  <a:lnTo>
                    <a:pt x="2632" y="2124"/>
                  </a:lnTo>
                  <a:lnTo>
                    <a:pt x="2616" y="2170"/>
                  </a:lnTo>
                  <a:lnTo>
                    <a:pt x="2598" y="2220"/>
                  </a:lnTo>
                  <a:lnTo>
                    <a:pt x="2574" y="2282"/>
                  </a:lnTo>
                  <a:lnTo>
                    <a:pt x="2574" y="2282"/>
                  </a:lnTo>
                  <a:lnTo>
                    <a:pt x="2634" y="2334"/>
                  </a:lnTo>
                  <a:lnTo>
                    <a:pt x="2696" y="2386"/>
                  </a:lnTo>
                  <a:lnTo>
                    <a:pt x="2764" y="2438"/>
                  </a:lnTo>
                  <a:lnTo>
                    <a:pt x="2836" y="2490"/>
                  </a:lnTo>
                  <a:lnTo>
                    <a:pt x="2910" y="2540"/>
                  </a:lnTo>
                  <a:lnTo>
                    <a:pt x="2988" y="2590"/>
                  </a:lnTo>
                  <a:lnTo>
                    <a:pt x="3068" y="2638"/>
                  </a:lnTo>
                  <a:lnTo>
                    <a:pt x="3148" y="2686"/>
                  </a:lnTo>
                  <a:lnTo>
                    <a:pt x="3230" y="2730"/>
                  </a:lnTo>
                  <a:lnTo>
                    <a:pt x="3314" y="2772"/>
                  </a:lnTo>
                  <a:lnTo>
                    <a:pt x="3396" y="2812"/>
                  </a:lnTo>
                  <a:lnTo>
                    <a:pt x="3478" y="2850"/>
                  </a:lnTo>
                  <a:lnTo>
                    <a:pt x="3560" y="2884"/>
                  </a:lnTo>
                  <a:lnTo>
                    <a:pt x="3642" y="2914"/>
                  </a:lnTo>
                  <a:lnTo>
                    <a:pt x="3720" y="2940"/>
                  </a:lnTo>
                  <a:lnTo>
                    <a:pt x="3796" y="2962"/>
                  </a:lnTo>
                  <a:lnTo>
                    <a:pt x="3796" y="1932"/>
                  </a:lnTo>
                  <a:close/>
                  <a:moveTo>
                    <a:pt x="2832" y="1124"/>
                  </a:moveTo>
                  <a:lnTo>
                    <a:pt x="2832" y="1124"/>
                  </a:lnTo>
                  <a:lnTo>
                    <a:pt x="2900" y="1202"/>
                  </a:lnTo>
                  <a:lnTo>
                    <a:pt x="2936" y="1242"/>
                  </a:lnTo>
                  <a:lnTo>
                    <a:pt x="2972" y="1282"/>
                  </a:lnTo>
                  <a:lnTo>
                    <a:pt x="3014" y="1320"/>
                  </a:lnTo>
                  <a:lnTo>
                    <a:pt x="3058" y="1360"/>
                  </a:lnTo>
                  <a:lnTo>
                    <a:pt x="3104" y="1400"/>
                  </a:lnTo>
                  <a:lnTo>
                    <a:pt x="3156" y="1438"/>
                  </a:lnTo>
                  <a:lnTo>
                    <a:pt x="3214" y="1478"/>
                  </a:lnTo>
                  <a:lnTo>
                    <a:pt x="3276" y="1518"/>
                  </a:lnTo>
                  <a:lnTo>
                    <a:pt x="3344" y="1558"/>
                  </a:lnTo>
                  <a:lnTo>
                    <a:pt x="3420" y="1598"/>
                  </a:lnTo>
                  <a:lnTo>
                    <a:pt x="3502" y="1638"/>
                  </a:lnTo>
                  <a:lnTo>
                    <a:pt x="3592" y="1678"/>
                  </a:lnTo>
                  <a:lnTo>
                    <a:pt x="3690" y="1718"/>
                  </a:lnTo>
                  <a:lnTo>
                    <a:pt x="3796" y="1758"/>
                  </a:lnTo>
                  <a:lnTo>
                    <a:pt x="3796" y="1124"/>
                  </a:lnTo>
                  <a:lnTo>
                    <a:pt x="2832" y="1124"/>
                  </a:lnTo>
                  <a:close/>
                  <a:moveTo>
                    <a:pt x="3692" y="3148"/>
                  </a:moveTo>
                  <a:lnTo>
                    <a:pt x="3692" y="3148"/>
                  </a:lnTo>
                  <a:lnTo>
                    <a:pt x="3726" y="3146"/>
                  </a:lnTo>
                  <a:lnTo>
                    <a:pt x="3740" y="3144"/>
                  </a:lnTo>
                  <a:lnTo>
                    <a:pt x="3752" y="3142"/>
                  </a:lnTo>
                  <a:lnTo>
                    <a:pt x="3762" y="3138"/>
                  </a:lnTo>
                  <a:lnTo>
                    <a:pt x="3770" y="3132"/>
                  </a:lnTo>
                  <a:lnTo>
                    <a:pt x="3778" y="3126"/>
                  </a:lnTo>
                  <a:lnTo>
                    <a:pt x="3784" y="3118"/>
                  </a:lnTo>
                  <a:lnTo>
                    <a:pt x="3788" y="3106"/>
                  </a:lnTo>
                  <a:lnTo>
                    <a:pt x="3790" y="3094"/>
                  </a:lnTo>
                  <a:lnTo>
                    <a:pt x="3794" y="3062"/>
                  </a:lnTo>
                  <a:lnTo>
                    <a:pt x="3796" y="3020"/>
                  </a:lnTo>
                  <a:lnTo>
                    <a:pt x="3796" y="2966"/>
                  </a:lnTo>
                  <a:lnTo>
                    <a:pt x="3796" y="2966"/>
                  </a:lnTo>
                  <a:lnTo>
                    <a:pt x="3730" y="3002"/>
                  </a:lnTo>
                  <a:lnTo>
                    <a:pt x="3670" y="3038"/>
                  </a:lnTo>
                  <a:lnTo>
                    <a:pt x="3606" y="3082"/>
                  </a:lnTo>
                  <a:lnTo>
                    <a:pt x="3528" y="3140"/>
                  </a:lnTo>
                  <a:lnTo>
                    <a:pt x="3528" y="3140"/>
                  </a:lnTo>
                  <a:lnTo>
                    <a:pt x="3614" y="3146"/>
                  </a:lnTo>
                  <a:lnTo>
                    <a:pt x="3692" y="3148"/>
                  </a:lnTo>
                  <a:lnTo>
                    <a:pt x="3692" y="314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752560" y="20139120"/>
              <a:ext cx="4515120" cy="3305160"/>
            </a:xfrm>
            <a:custGeom>
              <a:avLst/>
              <a:gdLst>
                <a:gd name="textAreaLeft" fmla="*/ 0 w 4515120"/>
                <a:gd name="textAreaRight" fmla="*/ 4515480 w 4515120"/>
                <a:gd name="textAreaTop" fmla="*/ 0 h 3305160"/>
                <a:gd name="textAreaBottom" fmla="*/ 3305520 h 3305160"/>
              </a:gdLst>
              <a:ahLst/>
              <a:rect l="textAreaLeft" t="textAreaTop" r="textAreaRight" b="textAreaBottom"/>
              <a:pathLst>
                <a:path w="2844" h="2082">
                  <a:moveTo>
                    <a:pt x="1456" y="1734"/>
                  </a:moveTo>
                  <a:lnTo>
                    <a:pt x="1456" y="1734"/>
                  </a:lnTo>
                  <a:lnTo>
                    <a:pt x="1520" y="1724"/>
                  </a:lnTo>
                  <a:lnTo>
                    <a:pt x="1580" y="1712"/>
                  </a:lnTo>
                  <a:lnTo>
                    <a:pt x="1638" y="1698"/>
                  </a:lnTo>
                  <a:lnTo>
                    <a:pt x="1692" y="1682"/>
                  </a:lnTo>
                  <a:lnTo>
                    <a:pt x="1744" y="1666"/>
                  </a:lnTo>
                  <a:lnTo>
                    <a:pt x="1794" y="1648"/>
                  </a:lnTo>
                  <a:lnTo>
                    <a:pt x="1840" y="1628"/>
                  </a:lnTo>
                  <a:lnTo>
                    <a:pt x="1884" y="1608"/>
                  </a:lnTo>
                  <a:lnTo>
                    <a:pt x="1926" y="1586"/>
                  </a:lnTo>
                  <a:lnTo>
                    <a:pt x="1966" y="1562"/>
                  </a:lnTo>
                  <a:lnTo>
                    <a:pt x="2004" y="1538"/>
                  </a:lnTo>
                  <a:lnTo>
                    <a:pt x="2040" y="1514"/>
                  </a:lnTo>
                  <a:lnTo>
                    <a:pt x="2072" y="1488"/>
                  </a:lnTo>
                  <a:lnTo>
                    <a:pt x="2102" y="1462"/>
                  </a:lnTo>
                  <a:lnTo>
                    <a:pt x="2132" y="1434"/>
                  </a:lnTo>
                  <a:lnTo>
                    <a:pt x="2158" y="1406"/>
                  </a:lnTo>
                  <a:lnTo>
                    <a:pt x="2182" y="1378"/>
                  </a:lnTo>
                  <a:lnTo>
                    <a:pt x="2206" y="1350"/>
                  </a:lnTo>
                  <a:lnTo>
                    <a:pt x="2226" y="1322"/>
                  </a:lnTo>
                  <a:lnTo>
                    <a:pt x="2244" y="1292"/>
                  </a:lnTo>
                  <a:lnTo>
                    <a:pt x="2262" y="1264"/>
                  </a:lnTo>
                  <a:lnTo>
                    <a:pt x="2276" y="1234"/>
                  </a:lnTo>
                  <a:lnTo>
                    <a:pt x="2290" y="1206"/>
                  </a:lnTo>
                  <a:lnTo>
                    <a:pt x="2302" y="1176"/>
                  </a:lnTo>
                  <a:lnTo>
                    <a:pt x="2312" y="1148"/>
                  </a:lnTo>
                  <a:lnTo>
                    <a:pt x="2322" y="1120"/>
                  </a:lnTo>
                  <a:lnTo>
                    <a:pt x="2328" y="1092"/>
                  </a:lnTo>
                  <a:lnTo>
                    <a:pt x="2334" y="1064"/>
                  </a:lnTo>
                  <a:lnTo>
                    <a:pt x="2340" y="1038"/>
                  </a:lnTo>
                  <a:lnTo>
                    <a:pt x="2342" y="1012"/>
                  </a:lnTo>
                  <a:lnTo>
                    <a:pt x="2344" y="986"/>
                  </a:lnTo>
                  <a:lnTo>
                    <a:pt x="2344" y="962"/>
                  </a:lnTo>
                  <a:lnTo>
                    <a:pt x="2344" y="962"/>
                  </a:lnTo>
                  <a:lnTo>
                    <a:pt x="2344" y="922"/>
                  </a:lnTo>
                  <a:lnTo>
                    <a:pt x="2338" y="880"/>
                  </a:lnTo>
                  <a:lnTo>
                    <a:pt x="2328" y="834"/>
                  </a:lnTo>
                  <a:lnTo>
                    <a:pt x="2314" y="788"/>
                  </a:lnTo>
                  <a:lnTo>
                    <a:pt x="2306" y="764"/>
                  </a:lnTo>
                  <a:lnTo>
                    <a:pt x="2296" y="740"/>
                  </a:lnTo>
                  <a:lnTo>
                    <a:pt x="2284" y="716"/>
                  </a:lnTo>
                  <a:lnTo>
                    <a:pt x="2270" y="692"/>
                  </a:lnTo>
                  <a:lnTo>
                    <a:pt x="2256" y="668"/>
                  </a:lnTo>
                  <a:lnTo>
                    <a:pt x="2240" y="644"/>
                  </a:lnTo>
                  <a:lnTo>
                    <a:pt x="2222" y="620"/>
                  </a:lnTo>
                  <a:lnTo>
                    <a:pt x="2202" y="598"/>
                  </a:lnTo>
                  <a:lnTo>
                    <a:pt x="2182" y="574"/>
                  </a:lnTo>
                  <a:lnTo>
                    <a:pt x="2158" y="552"/>
                  </a:lnTo>
                  <a:lnTo>
                    <a:pt x="2134" y="532"/>
                  </a:lnTo>
                  <a:lnTo>
                    <a:pt x="2106" y="512"/>
                  </a:lnTo>
                  <a:lnTo>
                    <a:pt x="2078" y="492"/>
                  </a:lnTo>
                  <a:lnTo>
                    <a:pt x="2048" y="472"/>
                  </a:lnTo>
                  <a:lnTo>
                    <a:pt x="2014" y="454"/>
                  </a:lnTo>
                  <a:lnTo>
                    <a:pt x="1980" y="438"/>
                  </a:lnTo>
                  <a:lnTo>
                    <a:pt x="1942" y="422"/>
                  </a:lnTo>
                  <a:lnTo>
                    <a:pt x="1902" y="408"/>
                  </a:lnTo>
                  <a:lnTo>
                    <a:pt x="1862" y="396"/>
                  </a:lnTo>
                  <a:lnTo>
                    <a:pt x="1816" y="384"/>
                  </a:lnTo>
                  <a:lnTo>
                    <a:pt x="1770" y="374"/>
                  </a:lnTo>
                  <a:lnTo>
                    <a:pt x="1722" y="366"/>
                  </a:lnTo>
                  <a:lnTo>
                    <a:pt x="1670" y="360"/>
                  </a:lnTo>
                  <a:lnTo>
                    <a:pt x="1614" y="356"/>
                  </a:lnTo>
                  <a:lnTo>
                    <a:pt x="1614" y="356"/>
                  </a:lnTo>
                  <a:lnTo>
                    <a:pt x="1604" y="440"/>
                  </a:lnTo>
                  <a:lnTo>
                    <a:pt x="1592" y="522"/>
                  </a:lnTo>
                  <a:lnTo>
                    <a:pt x="1578" y="604"/>
                  </a:lnTo>
                  <a:lnTo>
                    <a:pt x="1562" y="684"/>
                  </a:lnTo>
                  <a:lnTo>
                    <a:pt x="1544" y="762"/>
                  </a:lnTo>
                  <a:lnTo>
                    <a:pt x="1524" y="838"/>
                  </a:lnTo>
                  <a:lnTo>
                    <a:pt x="1502" y="912"/>
                  </a:lnTo>
                  <a:lnTo>
                    <a:pt x="1478" y="984"/>
                  </a:lnTo>
                  <a:lnTo>
                    <a:pt x="1454" y="1054"/>
                  </a:lnTo>
                  <a:lnTo>
                    <a:pt x="1428" y="1124"/>
                  </a:lnTo>
                  <a:lnTo>
                    <a:pt x="1400" y="1190"/>
                  </a:lnTo>
                  <a:lnTo>
                    <a:pt x="1372" y="1254"/>
                  </a:lnTo>
                  <a:lnTo>
                    <a:pt x="1342" y="1316"/>
                  </a:lnTo>
                  <a:lnTo>
                    <a:pt x="1312" y="1374"/>
                  </a:lnTo>
                  <a:lnTo>
                    <a:pt x="1280" y="1432"/>
                  </a:lnTo>
                  <a:lnTo>
                    <a:pt x="1248" y="1486"/>
                  </a:lnTo>
                  <a:lnTo>
                    <a:pt x="1216" y="1536"/>
                  </a:lnTo>
                  <a:lnTo>
                    <a:pt x="1182" y="1586"/>
                  </a:lnTo>
                  <a:lnTo>
                    <a:pt x="1148" y="1632"/>
                  </a:lnTo>
                  <a:lnTo>
                    <a:pt x="1114" y="1674"/>
                  </a:lnTo>
                  <a:lnTo>
                    <a:pt x="1080" y="1714"/>
                  </a:lnTo>
                  <a:lnTo>
                    <a:pt x="1044" y="1752"/>
                  </a:lnTo>
                  <a:lnTo>
                    <a:pt x="1010" y="1786"/>
                  </a:lnTo>
                  <a:lnTo>
                    <a:pt x="974" y="1816"/>
                  </a:lnTo>
                  <a:lnTo>
                    <a:pt x="940" y="1844"/>
                  </a:lnTo>
                  <a:lnTo>
                    <a:pt x="904" y="1868"/>
                  </a:lnTo>
                  <a:lnTo>
                    <a:pt x="870" y="1888"/>
                  </a:lnTo>
                  <a:lnTo>
                    <a:pt x="836" y="1906"/>
                  </a:lnTo>
                  <a:lnTo>
                    <a:pt x="802" y="1918"/>
                  </a:lnTo>
                  <a:lnTo>
                    <a:pt x="770" y="1928"/>
                  </a:lnTo>
                  <a:lnTo>
                    <a:pt x="736" y="1934"/>
                  </a:lnTo>
                  <a:lnTo>
                    <a:pt x="706" y="1936"/>
                  </a:lnTo>
                  <a:lnTo>
                    <a:pt x="706" y="1936"/>
                  </a:lnTo>
                  <a:lnTo>
                    <a:pt x="682" y="1936"/>
                  </a:lnTo>
                  <a:lnTo>
                    <a:pt x="656" y="1932"/>
                  </a:lnTo>
                  <a:lnTo>
                    <a:pt x="630" y="1928"/>
                  </a:lnTo>
                  <a:lnTo>
                    <a:pt x="604" y="1922"/>
                  </a:lnTo>
                  <a:lnTo>
                    <a:pt x="576" y="1912"/>
                  </a:lnTo>
                  <a:lnTo>
                    <a:pt x="548" y="1902"/>
                  </a:lnTo>
                  <a:lnTo>
                    <a:pt x="520" y="1892"/>
                  </a:lnTo>
                  <a:lnTo>
                    <a:pt x="490" y="1878"/>
                  </a:lnTo>
                  <a:lnTo>
                    <a:pt x="462" y="1862"/>
                  </a:lnTo>
                  <a:lnTo>
                    <a:pt x="432" y="1846"/>
                  </a:lnTo>
                  <a:lnTo>
                    <a:pt x="404" y="1828"/>
                  </a:lnTo>
                  <a:lnTo>
                    <a:pt x="374" y="1808"/>
                  </a:lnTo>
                  <a:lnTo>
                    <a:pt x="344" y="1788"/>
                  </a:lnTo>
                  <a:lnTo>
                    <a:pt x="316" y="1764"/>
                  </a:lnTo>
                  <a:lnTo>
                    <a:pt x="288" y="1740"/>
                  </a:lnTo>
                  <a:lnTo>
                    <a:pt x="260" y="1716"/>
                  </a:lnTo>
                  <a:lnTo>
                    <a:pt x="234" y="1688"/>
                  </a:lnTo>
                  <a:lnTo>
                    <a:pt x="208" y="1660"/>
                  </a:lnTo>
                  <a:lnTo>
                    <a:pt x="182" y="1632"/>
                  </a:lnTo>
                  <a:lnTo>
                    <a:pt x="158" y="1602"/>
                  </a:lnTo>
                  <a:lnTo>
                    <a:pt x="136" y="1570"/>
                  </a:lnTo>
                  <a:lnTo>
                    <a:pt x="114" y="1536"/>
                  </a:lnTo>
                  <a:lnTo>
                    <a:pt x="94" y="1502"/>
                  </a:lnTo>
                  <a:lnTo>
                    <a:pt x="76" y="1468"/>
                  </a:lnTo>
                  <a:lnTo>
                    <a:pt x="60" y="1432"/>
                  </a:lnTo>
                  <a:lnTo>
                    <a:pt x="44" y="1394"/>
                  </a:lnTo>
                  <a:lnTo>
                    <a:pt x="32" y="1356"/>
                  </a:lnTo>
                  <a:lnTo>
                    <a:pt x="20" y="1318"/>
                  </a:lnTo>
                  <a:lnTo>
                    <a:pt x="12" y="1278"/>
                  </a:lnTo>
                  <a:lnTo>
                    <a:pt x="6" y="1236"/>
                  </a:lnTo>
                  <a:lnTo>
                    <a:pt x="2" y="1194"/>
                  </a:lnTo>
                  <a:lnTo>
                    <a:pt x="0" y="1152"/>
                  </a:lnTo>
                  <a:lnTo>
                    <a:pt x="0" y="1152"/>
                  </a:lnTo>
                  <a:lnTo>
                    <a:pt x="2" y="1102"/>
                  </a:lnTo>
                  <a:lnTo>
                    <a:pt x="8" y="1052"/>
                  </a:lnTo>
                  <a:lnTo>
                    <a:pt x="16" y="1000"/>
                  </a:lnTo>
                  <a:lnTo>
                    <a:pt x="28" y="950"/>
                  </a:lnTo>
                  <a:lnTo>
                    <a:pt x="44" y="900"/>
                  </a:lnTo>
                  <a:lnTo>
                    <a:pt x="64" y="848"/>
                  </a:lnTo>
                  <a:lnTo>
                    <a:pt x="86" y="798"/>
                  </a:lnTo>
                  <a:lnTo>
                    <a:pt x="112" y="748"/>
                  </a:lnTo>
                  <a:lnTo>
                    <a:pt x="140" y="698"/>
                  </a:lnTo>
                  <a:lnTo>
                    <a:pt x="172" y="650"/>
                  </a:lnTo>
                  <a:lnTo>
                    <a:pt x="208" y="602"/>
                  </a:lnTo>
                  <a:lnTo>
                    <a:pt x="246" y="554"/>
                  </a:lnTo>
                  <a:lnTo>
                    <a:pt x="286" y="508"/>
                  </a:lnTo>
                  <a:lnTo>
                    <a:pt x="330" y="462"/>
                  </a:lnTo>
                  <a:lnTo>
                    <a:pt x="376" y="418"/>
                  </a:lnTo>
                  <a:lnTo>
                    <a:pt x="426" y="376"/>
                  </a:lnTo>
                  <a:lnTo>
                    <a:pt x="478" y="336"/>
                  </a:lnTo>
                  <a:lnTo>
                    <a:pt x="534" y="296"/>
                  </a:lnTo>
                  <a:lnTo>
                    <a:pt x="590" y="260"/>
                  </a:lnTo>
                  <a:lnTo>
                    <a:pt x="650" y="224"/>
                  </a:lnTo>
                  <a:lnTo>
                    <a:pt x="714" y="190"/>
                  </a:lnTo>
                  <a:lnTo>
                    <a:pt x="778" y="160"/>
                  </a:lnTo>
                  <a:lnTo>
                    <a:pt x="846" y="132"/>
                  </a:lnTo>
                  <a:lnTo>
                    <a:pt x="914" y="106"/>
                  </a:lnTo>
                  <a:lnTo>
                    <a:pt x="986" y="82"/>
                  </a:lnTo>
                  <a:lnTo>
                    <a:pt x="1060" y="60"/>
                  </a:lnTo>
                  <a:lnTo>
                    <a:pt x="1138" y="42"/>
                  </a:lnTo>
                  <a:lnTo>
                    <a:pt x="1216" y="28"/>
                  </a:lnTo>
                  <a:lnTo>
                    <a:pt x="1296" y="16"/>
                  </a:lnTo>
                  <a:lnTo>
                    <a:pt x="1378" y="6"/>
                  </a:lnTo>
                  <a:lnTo>
                    <a:pt x="1462" y="2"/>
                  </a:lnTo>
                  <a:lnTo>
                    <a:pt x="1548" y="0"/>
                  </a:lnTo>
                  <a:lnTo>
                    <a:pt x="1548" y="0"/>
                  </a:lnTo>
                  <a:lnTo>
                    <a:pt x="1614" y="0"/>
                  </a:lnTo>
                  <a:lnTo>
                    <a:pt x="1678" y="4"/>
                  </a:lnTo>
                  <a:lnTo>
                    <a:pt x="1740" y="10"/>
                  </a:lnTo>
                  <a:lnTo>
                    <a:pt x="1802" y="16"/>
                  </a:lnTo>
                  <a:lnTo>
                    <a:pt x="1864" y="26"/>
                  </a:lnTo>
                  <a:lnTo>
                    <a:pt x="1926" y="38"/>
                  </a:lnTo>
                  <a:lnTo>
                    <a:pt x="1984" y="52"/>
                  </a:lnTo>
                  <a:lnTo>
                    <a:pt x="2042" y="66"/>
                  </a:lnTo>
                  <a:lnTo>
                    <a:pt x="2100" y="84"/>
                  </a:lnTo>
                  <a:lnTo>
                    <a:pt x="2156" y="104"/>
                  </a:lnTo>
                  <a:lnTo>
                    <a:pt x="2210" y="124"/>
                  </a:lnTo>
                  <a:lnTo>
                    <a:pt x="2262" y="148"/>
                  </a:lnTo>
                  <a:lnTo>
                    <a:pt x="2314" y="172"/>
                  </a:lnTo>
                  <a:lnTo>
                    <a:pt x="2362" y="200"/>
                  </a:lnTo>
                  <a:lnTo>
                    <a:pt x="2410" y="228"/>
                  </a:lnTo>
                  <a:lnTo>
                    <a:pt x="2456" y="258"/>
                  </a:lnTo>
                  <a:lnTo>
                    <a:pt x="2500" y="290"/>
                  </a:lnTo>
                  <a:lnTo>
                    <a:pt x="2540" y="324"/>
                  </a:lnTo>
                  <a:lnTo>
                    <a:pt x="2580" y="358"/>
                  </a:lnTo>
                  <a:lnTo>
                    <a:pt x="2616" y="396"/>
                  </a:lnTo>
                  <a:lnTo>
                    <a:pt x="2650" y="434"/>
                  </a:lnTo>
                  <a:lnTo>
                    <a:pt x="2682" y="474"/>
                  </a:lnTo>
                  <a:lnTo>
                    <a:pt x="2712" y="516"/>
                  </a:lnTo>
                  <a:lnTo>
                    <a:pt x="2738" y="560"/>
                  </a:lnTo>
                  <a:lnTo>
                    <a:pt x="2762" y="604"/>
                  </a:lnTo>
                  <a:lnTo>
                    <a:pt x="2784" y="652"/>
                  </a:lnTo>
                  <a:lnTo>
                    <a:pt x="2802" y="700"/>
                  </a:lnTo>
                  <a:lnTo>
                    <a:pt x="2816" y="748"/>
                  </a:lnTo>
                  <a:lnTo>
                    <a:pt x="2828" y="798"/>
                  </a:lnTo>
                  <a:lnTo>
                    <a:pt x="2838" y="852"/>
                  </a:lnTo>
                  <a:lnTo>
                    <a:pt x="2842" y="904"/>
                  </a:lnTo>
                  <a:lnTo>
                    <a:pt x="2844" y="960"/>
                  </a:lnTo>
                  <a:lnTo>
                    <a:pt x="2844" y="960"/>
                  </a:lnTo>
                  <a:lnTo>
                    <a:pt x="2842" y="1012"/>
                  </a:lnTo>
                  <a:lnTo>
                    <a:pt x="2840" y="1044"/>
                  </a:lnTo>
                  <a:lnTo>
                    <a:pt x="2836" y="1080"/>
                  </a:lnTo>
                  <a:lnTo>
                    <a:pt x="2830" y="1120"/>
                  </a:lnTo>
                  <a:lnTo>
                    <a:pt x="2820" y="1162"/>
                  </a:lnTo>
                  <a:lnTo>
                    <a:pt x="2808" y="1210"/>
                  </a:lnTo>
                  <a:lnTo>
                    <a:pt x="2792" y="1258"/>
                  </a:lnTo>
                  <a:lnTo>
                    <a:pt x="2772" y="1310"/>
                  </a:lnTo>
                  <a:lnTo>
                    <a:pt x="2748" y="1364"/>
                  </a:lnTo>
                  <a:lnTo>
                    <a:pt x="2718" y="1422"/>
                  </a:lnTo>
                  <a:lnTo>
                    <a:pt x="2682" y="1480"/>
                  </a:lnTo>
                  <a:lnTo>
                    <a:pt x="2640" y="1538"/>
                  </a:lnTo>
                  <a:lnTo>
                    <a:pt x="2616" y="1568"/>
                  </a:lnTo>
                  <a:lnTo>
                    <a:pt x="2590" y="1600"/>
                  </a:lnTo>
                  <a:lnTo>
                    <a:pt x="2564" y="1630"/>
                  </a:lnTo>
                  <a:lnTo>
                    <a:pt x="2534" y="1660"/>
                  </a:lnTo>
                  <a:lnTo>
                    <a:pt x="2504" y="1692"/>
                  </a:lnTo>
                  <a:lnTo>
                    <a:pt x="2472" y="1724"/>
                  </a:lnTo>
                  <a:lnTo>
                    <a:pt x="2472" y="1724"/>
                  </a:lnTo>
                  <a:lnTo>
                    <a:pt x="2434" y="1756"/>
                  </a:lnTo>
                  <a:lnTo>
                    <a:pt x="2398" y="1786"/>
                  </a:lnTo>
                  <a:lnTo>
                    <a:pt x="2360" y="1814"/>
                  </a:lnTo>
                  <a:lnTo>
                    <a:pt x="2320" y="1840"/>
                  </a:lnTo>
                  <a:lnTo>
                    <a:pt x="2280" y="1866"/>
                  </a:lnTo>
                  <a:lnTo>
                    <a:pt x="2240" y="1890"/>
                  </a:lnTo>
                  <a:lnTo>
                    <a:pt x="2198" y="1912"/>
                  </a:lnTo>
                  <a:lnTo>
                    <a:pt x="2156" y="1934"/>
                  </a:lnTo>
                  <a:lnTo>
                    <a:pt x="2070" y="1974"/>
                  </a:lnTo>
                  <a:lnTo>
                    <a:pt x="1978" y="2012"/>
                  </a:lnTo>
                  <a:lnTo>
                    <a:pt x="1884" y="2048"/>
                  </a:lnTo>
                  <a:lnTo>
                    <a:pt x="1786" y="2082"/>
                  </a:lnTo>
                  <a:lnTo>
                    <a:pt x="1786" y="2082"/>
                  </a:lnTo>
                  <a:lnTo>
                    <a:pt x="1748" y="2032"/>
                  </a:lnTo>
                  <a:lnTo>
                    <a:pt x="1712" y="1986"/>
                  </a:lnTo>
                  <a:lnTo>
                    <a:pt x="1676" y="1944"/>
                  </a:lnTo>
                  <a:lnTo>
                    <a:pt x="1640" y="1902"/>
                  </a:lnTo>
                  <a:lnTo>
                    <a:pt x="1602" y="1864"/>
                  </a:lnTo>
                  <a:lnTo>
                    <a:pt x="1558" y="1822"/>
                  </a:lnTo>
                  <a:lnTo>
                    <a:pt x="1512" y="1780"/>
                  </a:lnTo>
                  <a:lnTo>
                    <a:pt x="1456" y="1734"/>
                  </a:lnTo>
                  <a:lnTo>
                    <a:pt x="1456" y="1734"/>
                  </a:lnTo>
                  <a:close/>
                  <a:moveTo>
                    <a:pt x="468" y="1122"/>
                  </a:moveTo>
                  <a:lnTo>
                    <a:pt x="468" y="1122"/>
                  </a:lnTo>
                  <a:lnTo>
                    <a:pt x="470" y="1158"/>
                  </a:lnTo>
                  <a:lnTo>
                    <a:pt x="474" y="1192"/>
                  </a:lnTo>
                  <a:lnTo>
                    <a:pt x="482" y="1224"/>
                  </a:lnTo>
                  <a:lnTo>
                    <a:pt x="490" y="1254"/>
                  </a:lnTo>
                  <a:lnTo>
                    <a:pt x="502" y="1284"/>
                  </a:lnTo>
                  <a:lnTo>
                    <a:pt x="514" y="1312"/>
                  </a:lnTo>
                  <a:lnTo>
                    <a:pt x="528" y="1338"/>
                  </a:lnTo>
                  <a:lnTo>
                    <a:pt x="544" y="1360"/>
                  </a:lnTo>
                  <a:lnTo>
                    <a:pt x="560" y="1382"/>
                  </a:lnTo>
                  <a:lnTo>
                    <a:pt x="578" y="1400"/>
                  </a:lnTo>
                  <a:lnTo>
                    <a:pt x="594" y="1418"/>
                  </a:lnTo>
                  <a:lnTo>
                    <a:pt x="610" y="1430"/>
                  </a:lnTo>
                  <a:lnTo>
                    <a:pt x="626" y="1442"/>
                  </a:lnTo>
                  <a:lnTo>
                    <a:pt x="642" y="1450"/>
                  </a:lnTo>
                  <a:lnTo>
                    <a:pt x="658" y="1454"/>
                  </a:lnTo>
                  <a:lnTo>
                    <a:pt x="670" y="1456"/>
                  </a:lnTo>
                  <a:lnTo>
                    <a:pt x="670" y="1456"/>
                  </a:lnTo>
                  <a:lnTo>
                    <a:pt x="684" y="1454"/>
                  </a:lnTo>
                  <a:lnTo>
                    <a:pt x="698" y="1452"/>
                  </a:lnTo>
                  <a:lnTo>
                    <a:pt x="712" y="1446"/>
                  </a:lnTo>
                  <a:lnTo>
                    <a:pt x="724" y="1438"/>
                  </a:lnTo>
                  <a:lnTo>
                    <a:pt x="736" y="1428"/>
                  </a:lnTo>
                  <a:lnTo>
                    <a:pt x="748" y="1418"/>
                  </a:lnTo>
                  <a:lnTo>
                    <a:pt x="770" y="1392"/>
                  </a:lnTo>
                  <a:lnTo>
                    <a:pt x="792" y="1364"/>
                  </a:lnTo>
                  <a:lnTo>
                    <a:pt x="810" y="1336"/>
                  </a:lnTo>
                  <a:lnTo>
                    <a:pt x="840" y="1280"/>
                  </a:lnTo>
                  <a:lnTo>
                    <a:pt x="840" y="1280"/>
                  </a:lnTo>
                  <a:lnTo>
                    <a:pt x="866" y="1234"/>
                  </a:lnTo>
                  <a:lnTo>
                    <a:pt x="890" y="1188"/>
                  </a:lnTo>
                  <a:lnTo>
                    <a:pt x="914" y="1138"/>
                  </a:lnTo>
                  <a:lnTo>
                    <a:pt x="936" y="1090"/>
                  </a:lnTo>
                  <a:lnTo>
                    <a:pt x="956" y="1040"/>
                  </a:lnTo>
                  <a:lnTo>
                    <a:pt x="976" y="988"/>
                  </a:lnTo>
                  <a:lnTo>
                    <a:pt x="996" y="936"/>
                  </a:lnTo>
                  <a:lnTo>
                    <a:pt x="1012" y="884"/>
                  </a:lnTo>
                  <a:lnTo>
                    <a:pt x="1028" y="830"/>
                  </a:lnTo>
                  <a:lnTo>
                    <a:pt x="1042" y="776"/>
                  </a:lnTo>
                  <a:lnTo>
                    <a:pt x="1054" y="720"/>
                  </a:lnTo>
                  <a:lnTo>
                    <a:pt x="1064" y="664"/>
                  </a:lnTo>
                  <a:lnTo>
                    <a:pt x="1072" y="606"/>
                  </a:lnTo>
                  <a:lnTo>
                    <a:pt x="1078" y="548"/>
                  </a:lnTo>
                  <a:lnTo>
                    <a:pt x="1082" y="490"/>
                  </a:lnTo>
                  <a:lnTo>
                    <a:pt x="1084" y="430"/>
                  </a:lnTo>
                  <a:lnTo>
                    <a:pt x="1084" y="430"/>
                  </a:lnTo>
                  <a:lnTo>
                    <a:pt x="1050" y="440"/>
                  </a:lnTo>
                  <a:lnTo>
                    <a:pt x="1016" y="452"/>
                  </a:lnTo>
                  <a:lnTo>
                    <a:pt x="984" y="466"/>
                  </a:lnTo>
                  <a:lnTo>
                    <a:pt x="952" y="482"/>
                  </a:lnTo>
                  <a:lnTo>
                    <a:pt x="922" y="498"/>
                  </a:lnTo>
                  <a:lnTo>
                    <a:pt x="892" y="514"/>
                  </a:lnTo>
                  <a:lnTo>
                    <a:pt x="862" y="532"/>
                  </a:lnTo>
                  <a:lnTo>
                    <a:pt x="834" y="552"/>
                  </a:lnTo>
                  <a:lnTo>
                    <a:pt x="806" y="572"/>
                  </a:lnTo>
                  <a:lnTo>
                    <a:pt x="778" y="592"/>
                  </a:lnTo>
                  <a:lnTo>
                    <a:pt x="728" y="638"/>
                  </a:lnTo>
                  <a:lnTo>
                    <a:pt x="682" y="684"/>
                  </a:lnTo>
                  <a:lnTo>
                    <a:pt x="638" y="732"/>
                  </a:lnTo>
                  <a:lnTo>
                    <a:pt x="600" y="782"/>
                  </a:lnTo>
                  <a:lnTo>
                    <a:pt x="566" y="834"/>
                  </a:lnTo>
                  <a:lnTo>
                    <a:pt x="538" y="884"/>
                  </a:lnTo>
                  <a:lnTo>
                    <a:pt x="512" y="936"/>
                  </a:lnTo>
                  <a:lnTo>
                    <a:pt x="494" y="984"/>
                  </a:lnTo>
                  <a:lnTo>
                    <a:pt x="480" y="1034"/>
                  </a:lnTo>
                  <a:lnTo>
                    <a:pt x="474" y="1056"/>
                  </a:lnTo>
                  <a:lnTo>
                    <a:pt x="470" y="1080"/>
                  </a:lnTo>
                  <a:lnTo>
                    <a:pt x="468" y="1102"/>
                  </a:lnTo>
                  <a:lnTo>
                    <a:pt x="468" y="1122"/>
                  </a:lnTo>
                  <a:lnTo>
                    <a:pt x="468" y="112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2006280" y="24543000"/>
              <a:ext cx="5994720" cy="5340240"/>
            </a:xfrm>
            <a:custGeom>
              <a:avLst/>
              <a:gdLst>
                <a:gd name="textAreaLeft" fmla="*/ 0 w 5994720"/>
                <a:gd name="textAreaRight" fmla="*/ 5995080 w 5994720"/>
                <a:gd name="textAreaTop" fmla="*/ 0 h 5340240"/>
                <a:gd name="textAreaBottom" fmla="*/ 5340600 h 5340240"/>
              </a:gdLst>
              <a:ahLst/>
              <a:rect l="textAreaLeft" t="textAreaTop" r="textAreaRight" b="textAreaBottom"/>
              <a:pathLst>
                <a:path w="3776" h="3364">
                  <a:moveTo>
                    <a:pt x="828" y="3136"/>
                  </a:moveTo>
                  <a:lnTo>
                    <a:pt x="828" y="3364"/>
                  </a:lnTo>
                  <a:lnTo>
                    <a:pt x="0" y="3364"/>
                  </a:lnTo>
                  <a:lnTo>
                    <a:pt x="0" y="0"/>
                  </a:lnTo>
                  <a:lnTo>
                    <a:pt x="3776" y="0"/>
                  </a:lnTo>
                  <a:lnTo>
                    <a:pt x="3776" y="3364"/>
                  </a:lnTo>
                  <a:lnTo>
                    <a:pt x="2950" y="3364"/>
                  </a:lnTo>
                  <a:lnTo>
                    <a:pt x="2950" y="3136"/>
                  </a:lnTo>
                  <a:lnTo>
                    <a:pt x="828" y="3136"/>
                  </a:lnTo>
                  <a:close/>
                  <a:moveTo>
                    <a:pt x="2950" y="1262"/>
                  </a:moveTo>
                  <a:lnTo>
                    <a:pt x="2950" y="574"/>
                  </a:lnTo>
                  <a:lnTo>
                    <a:pt x="828" y="574"/>
                  </a:lnTo>
                  <a:lnTo>
                    <a:pt x="828" y="1262"/>
                  </a:lnTo>
                  <a:lnTo>
                    <a:pt x="2950" y="1262"/>
                  </a:lnTo>
                  <a:close/>
                  <a:moveTo>
                    <a:pt x="2950" y="2548"/>
                  </a:moveTo>
                  <a:lnTo>
                    <a:pt x="2950" y="1818"/>
                  </a:lnTo>
                  <a:lnTo>
                    <a:pt x="828" y="1818"/>
                  </a:lnTo>
                  <a:lnTo>
                    <a:pt x="828" y="2548"/>
                  </a:lnTo>
                  <a:lnTo>
                    <a:pt x="2950" y="254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グループ化 3389"/>
          <p:cNvGrpSpPr/>
          <p:nvPr/>
        </p:nvGrpSpPr>
        <p:grpSpPr>
          <a:xfrm>
            <a:off x="1171440" y="8858160"/>
            <a:ext cx="7966080" cy="2813040"/>
            <a:chOff x="1171440" y="8858160"/>
            <a:chExt cx="7966080" cy="2813040"/>
          </a:xfrm>
        </p:grpSpPr>
        <p:sp>
          <p:nvSpPr>
            <p:cNvPr id="56" name="Freeform 16"/>
            <p:cNvSpPr/>
            <p:nvPr/>
          </p:nvSpPr>
          <p:spPr>
            <a:xfrm>
              <a:off x="1171440" y="10693440"/>
              <a:ext cx="1076040" cy="97776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78" h="616">
                  <a:moveTo>
                    <a:pt x="604" y="0"/>
                  </a:moveTo>
                  <a:lnTo>
                    <a:pt x="618" y="86"/>
                  </a:lnTo>
                  <a:lnTo>
                    <a:pt x="152" y="158"/>
                  </a:lnTo>
                  <a:lnTo>
                    <a:pt x="152" y="158"/>
                  </a:lnTo>
                  <a:lnTo>
                    <a:pt x="134" y="196"/>
                  </a:lnTo>
                  <a:lnTo>
                    <a:pt x="586" y="126"/>
                  </a:lnTo>
                  <a:lnTo>
                    <a:pt x="606" y="258"/>
                  </a:lnTo>
                  <a:lnTo>
                    <a:pt x="664" y="248"/>
                  </a:lnTo>
                  <a:lnTo>
                    <a:pt x="678" y="334"/>
                  </a:lnTo>
                  <a:lnTo>
                    <a:pt x="616" y="344"/>
                  </a:lnTo>
                  <a:lnTo>
                    <a:pt x="616" y="344"/>
                  </a:lnTo>
                  <a:lnTo>
                    <a:pt x="616" y="396"/>
                  </a:lnTo>
                  <a:lnTo>
                    <a:pt x="664" y="388"/>
                  </a:lnTo>
                  <a:lnTo>
                    <a:pt x="676" y="472"/>
                  </a:lnTo>
                  <a:lnTo>
                    <a:pt x="612" y="482"/>
                  </a:lnTo>
                  <a:lnTo>
                    <a:pt x="612" y="482"/>
                  </a:lnTo>
                  <a:lnTo>
                    <a:pt x="606" y="520"/>
                  </a:lnTo>
                  <a:lnTo>
                    <a:pt x="598" y="548"/>
                  </a:lnTo>
                  <a:lnTo>
                    <a:pt x="594" y="560"/>
                  </a:lnTo>
                  <a:lnTo>
                    <a:pt x="588" y="570"/>
                  </a:lnTo>
                  <a:lnTo>
                    <a:pt x="582" y="578"/>
                  </a:lnTo>
                  <a:lnTo>
                    <a:pt x="574" y="586"/>
                  </a:lnTo>
                  <a:lnTo>
                    <a:pt x="566" y="592"/>
                  </a:lnTo>
                  <a:lnTo>
                    <a:pt x="556" y="596"/>
                  </a:lnTo>
                  <a:lnTo>
                    <a:pt x="532" y="604"/>
                  </a:lnTo>
                  <a:lnTo>
                    <a:pt x="504" y="610"/>
                  </a:lnTo>
                  <a:lnTo>
                    <a:pt x="470" y="616"/>
                  </a:lnTo>
                  <a:lnTo>
                    <a:pt x="470" y="616"/>
                  </a:lnTo>
                  <a:lnTo>
                    <a:pt x="462" y="598"/>
                  </a:lnTo>
                  <a:lnTo>
                    <a:pt x="450" y="576"/>
                  </a:lnTo>
                  <a:lnTo>
                    <a:pt x="432" y="554"/>
                  </a:lnTo>
                  <a:lnTo>
                    <a:pt x="412" y="534"/>
                  </a:lnTo>
                  <a:lnTo>
                    <a:pt x="412" y="534"/>
                  </a:lnTo>
                  <a:lnTo>
                    <a:pt x="480" y="528"/>
                  </a:lnTo>
                  <a:lnTo>
                    <a:pt x="480" y="528"/>
                  </a:lnTo>
                  <a:lnTo>
                    <a:pt x="492" y="524"/>
                  </a:lnTo>
                  <a:lnTo>
                    <a:pt x="502" y="518"/>
                  </a:lnTo>
                  <a:lnTo>
                    <a:pt x="508" y="510"/>
                  </a:lnTo>
                  <a:lnTo>
                    <a:pt x="512" y="498"/>
                  </a:lnTo>
                  <a:lnTo>
                    <a:pt x="234" y="540"/>
                  </a:lnTo>
                  <a:lnTo>
                    <a:pt x="234" y="540"/>
                  </a:lnTo>
                  <a:lnTo>
                    <a:pt x="230" y="572"/>
                  </a:lnTo>
                  <a:lnTo>
                    <a:pt x="228" y="594"/>
                  </a:lnTo>
                  <a:lnTo>
                    <a:pt x="228" y="594"/>
                  </a:lnTo>
                  <a:lnTo>
                    <a:pt x="188" y="596"/>
                  </a:lnTo>
                  <a:lnTo>
                    <a:pt x="128" y="602"/>
                  </a:lnTo>
                  <a:lnTo>
                    <a:pt x="128" y="602"/>
                  </a:lnTo>
                  <a:lnTo>
                    <a:pt x="136" y="546"/>
                  </a:lnTo>
                  <a:lnTo>
                    <a:pt x="140" y="494"/>
                  </a:lnTo>
                  <a:lnTo>
                    <a:pt x="142" y="452"/>
                  </a:lnTo>
                  <a:lnTo>
                    <a:pt x="142" y="416"/>
                  </a:lnTo>
                  <a:lnTo>
                    <a:pt x="48" y="430"/>
                  </a:lnTo>
                  <a:lnTo>
                    <a:pt x="36" y="344"/>
                  </a:lnTo>
                  <a:lnTo>
                    <a:pt x="140" y="328"/>
                  </a:lnTo>
                  <a:lnTo>
                    <a:pt x="140" y="328"/>
                  </a:lnTo>
                  <a:lnTo>
                    <a:pt x="136" y="272"/>
                  </a:lnTo>
                  <a:lnTo>
                    <a:pt x="134" y="238"/>
                  </a:lnTo>
                  <a:lnTo>
                    <a:pt x="130" y="206"/>
                  </a:lnTo>
                  <a:lnTo>
                    <a:pt x="130" y="206"/>
                  </a:lnTo>
                  <a:lnTo>
                    <a:pt x="106" y="246"/>
                  </a:lnTo>
                  <a:lnTo>
                    <a:pt x="90" y="268"/>
                  </a:lnTo>
                  <a:lnTo>
                    <a:pt x="90" y="268"/>
                  </a:lnTo>
                  <a:lnTo>
                    <a:pt x="56" y="248"/>
                  </a:lnTo>
                  <a:lnTo>
                    <a:pt x="32" y="236"/>
                  </a:lnTo>
                  <a:lnTo>
                    <a:pt x="14" y="22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16" y="204"/>
                  </a:lnTo>
                  <a:lnTo>
                    <a:pt x="32" y="178"/>
                  </a:lnTo>
                  <a:lnTo>
                    <a:pt x="48" y="150"/>
                  </a:lnTo>
                  <a:lnTo>
                    <a:pt x="62" y="122"/>
                  </a:lnTo>
                  <a:lnTo>
                    <a:pt x="74" y="92"/>
                  </a:lnTo>
                  <a:lnTo>
                    <a:pt x="84" y="62"/>
                  </a:lnTo>
                  <a:lnTo>
                    <a:pt x="92" y="34"/>
                  </a:lnTo>
                  <a:lnTo>
                    <a:pt x="98" y="10"/>
                  </a:lnTo>
                  <a:lnTo>
                    <a:pt x="198" y="24"/>
                  </a:lnTo>
                  <a:lnTo>
                    <a:pt x="198" y="24"/>
                  </a:lnTo>
                  <a:lnTo>
                    <a:pt x="204" y="26"/>
                  </a:lnTo>
                  <a:lnTo>
                    <a:pt x="206" y="28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08" y="34"/>
                  </a:lnTo>
                  <a:lnTo>
                    <a:pt x="204" y="38"/>
                  </a:lnTo>
                  <a:lnTo>
                    <a:pt x="190" y="48"/>
                  </a:lnTo>
                  <a:lnTo>
                    <a:pt x="190" y="48"/>
                  </a:lnTo>
                  <a:lnTo>
                    <a:pt x="186" y="64"/>
                  </a:lnTo>
                  <a:lnTo>
                    <a:pt x="604" y="0"/>
                  </a:lnTo>
                  <a:close/>
                  <a:moveTo>
                    <a:pt x="324" y="300"/>
                  </a:moveTo>
                  <a:lnTo>
                    <a:pt x="324" y="300"/>
                  </a:lnTo>
                  <a:lnTo>
                    <a:pt x="320" y="252"/>
                  </a:lnTo>
                  <a:lnTo>
                    <a:pt x="232" y="266"/>
                  </a:lnTo>
                  <a:lnTo>
                    <a:pt x="232" y="266"/>
                  </a:lnTo>
                  <a:lnTo>
                    <a:pt x="234" y="286"/>
                  </a:lnTo>
                  <a:lnTo>
                    <a:pt x="236" y="314"/>
                  </a:lnTo>
                  <a:lnTo>
                    <a:pt x="324" y="300"/>
                  </a:lnTo>
                  <a:close/>
                  <a:moveTo>
                    <a:pt x="238" y="402"/>
                  </a:moveTo>
                  <a:lnTo>
                    <a:pt x="238" y="402"/>
                  </a:lnTo>
                  <a:lnTo>
                    <a:pt x="236" y="454"/>
                  </a:lnTo>
                  <a:lnTo>
                    <a:pt x="328" y="440"/>
                  </a:lnTo>
                  <a:lnTo>
                    <a:pt x="328" y="440"/>
                  </a:lnTo>
                  <a:lnTo>
                    <a:pt x="328" y="388"/>
                  </a:lnTo>
                  <a:lnTo>
                    <a:pt x="238" y="402"/>
                  </a:lnTo>
                  <a:close/>
                  <a:moveTo>
                    <a:pt x="508" y="272"/>
                  </a:moveTo>
                  <a:lnTo>
                    <a:pt x="500" y="224"/>
                  </a:lnTo>
                  <a:lnTo>
                    <a:pt x="416" y="238"/>
                  </a:lnTo>
                  <a:lnTo>
                    <a:pt x="416" y="238"/>
                  </a:lnTo>
                  <a:lnTo>
                    <a:pt x="420" y="262"/>
                  </a:lnTo>
                  <a:lnTo>
                    <a:pt x="420" y="286"/>
                  </a:lnTo>
                  <a:lnTo>
                    <a:pt x="508" y="272"/>
                  </a:lnTo>
                  <a:close/>
                  <a:moveTo>
                    <a:pt x="426" y="372"/>
                  </a:moveTo>
                  <a:lnTo>
                    <a:pt x="426" y="372"/>
                  </a:lnTo>
                  <a:lnTo>
                    <a:pt x="428" y="404"/>
                  </a:lnTo>
                  <a:lnTo>
                    <a:pt x="428" y="424"/>
                  </a:lnTo>
                  <a:lnTo>
                    <a:pt x="518" y="412"/>
                  </a:lnTo>
                  <a:lnTo>
                    <a:pt x="518" y="412"/>
                  </a:lnTo>
                  <a:lnTo>
                    <a:pt x="516" y="358"/>
                  </a:lnTo>
                  <a:lnTo>
                    <a:pt x="426" y="37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2361960" y="10483920"/>
              <a:ext cx="873000" cy="10890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50" h="686">
                  <a:moveTo>
                    <a:pt x="196" y="440"/>
                  </a:moveTo>
                  <a:lnTo>
                    <a:pt x="196" y="440"/>
                  </a:lnTo>
                  <a:lnTo>
                    <a:pt x="196" y="466"/>
                  </a:lnTo>
                  <a:lnTo>
                    <a:pt x="192" y="490"/>
                  </a:lnTo>
                  <a:lnTo>
                    <a:pt x="188" y="512"/>
                  </a:lnTo>
                  <a:lnTo>
                    <a:pt x="184" y="534"/>
                  </a:lnTo>
                  <a:lnTo>
                    <a:pt x="172" y="570"/>
                  </a:lnTo>
                  <a:lnTo>
                    <a:pt x="158" y="604"/>
                  </a:lnTo>
                  <a:lnTo>
                    <a:pt x="142" y="630"/>
                  </a:lnTo>
                  <a:lnTo>
                    <a:pt x="126" y="654"/>
                  </a:lnTo>
                  <a:lnTo>
                    <a:pt x="110" y="672"/>
                  </a:lnTo>
                  <a:lnTo>
                    <a:pt x="96" y="686"/>
                  </a:lnTo>
                  <a:lnTo>
                    <a:pt x="96" y="686"/>
                  </a:lnTo>
                  <a:lnTo>
                    <a:pt x="78" y="670"/>
                  </a:lnTo>
                  <a:lnTo>
                    <a:pt x="52" y="654"/>
                  </a:lnTo>
                  <a:lnTo>
                    <a:pt x="26" y="638"/>
                  </a:lnTo>
                  <a:lnTo>
                    <a:pt x="0" y="628"/>
                  </a:lnTo>
                  <a:lnTo>
                    <a:pt x="0" y="628"/>
                  </a:lnTo>
                  <a:lnTo>
                    <a:pt x="20" y="608"/>
                  </a:lnTo>
                  <a:lnTo>
                    <a:pt x="36" y="588"/>
                  </a:lnTo>
                  <a:lnTo>
                    <a:pt x="50" y="568"/>
                  </a:lnTo>
                  <a:lnTo>
                    <a:pt x="62" y="546"/>
                  </a:lnTo>
                  <a:lnTo>
                    <a:pt x="70" y="526"/>
                  </a:lnTo>
                  <a:lnTo>
                    <a:pt x="78" y="506"/>
                  </a:lnTo>
                  <a:lnTo>
                    <a:pt x="82" y="484"/>
                  </a:lnTo>
                  <a:lnTo>
                    <a:pt x="86" y="464"/>
                  </a:lnTo>
                  <a:lnTo>
                    <a:pt x="88" y="444"/>
                  </a:lnTo>
                  <a:lnTo>
                    <a:pt x="90" y="424"/>
                  </a:lnTo>
                  <a:lnTo>
                    <a:pt x="88" y="388"/>
                  </a:lnTo>
                  <a:lnTo>
                    <a:pt x="84" y="354"/>
                  </a:lnTo>
                  <a:lnTo>
                    <a:pt x="80" y="326"/>
                  </a:lnTo>
                  <a:lnTo>
                    <a:pt x="40" y="66"/>
                  </a:lnTo>
                  <a:lnTo>
                    <a:pt x="470" y="0"/>
                  </a:lnTo>
                  <a:lnTo>
                    <a:pt x="548" y="508"/>
                  </a:lnTo>
                  <a:lnTo>
                    <a:pt x="548" y="508"/>
                  </a:lnTo>
                  <a:lnTo>
                    <a:pt x="550" y="534"/>
                  </a:lnTo>
                  <a:lnTo>
                    <a:pt x="550" y="556"/>
                  </a:lnTo>
                  <a:lnTo>
                    <a:pt x="548" y="566"/>
                  </a:lnTo>
                  <a:lnTo>
                    <a:pt x="546" y="576"/>
                  </a:lnTo>
                  <a:lnTo>
                    <a:pt x="540" y="584"/>
                  </a:lnTo>
                  <a:lnTo>
                    <a:pt x="534" y="592"/>
                  </a:lnTo>
                  <a:lnTo>
                    <a:pt x="526" y="598"/>
                  </a:lnTo>
                  <a:lnTo>
                    <a:pt x="516" y="604"/>
                  </a:lnTo>
                  <a:lnTo>
                    <a:pt x="504" y="610"/>
                  </a:lnTo>
                  <a:lnTo>
                    <a:pt x="490" y="616"/>
                  </a:lnTo>
                  <a:lnTo>
                    <a:pt x="454" y="624"/>
                  </a:lnTo>
                  <a:lnTo>
                    <a:pt x="408" y="630"/>
                  </a:lnTo>
                  <a:lnTo>
                    <a:pt x="408" y="630"/>
                  </a:lnTo>
                  <a:lnTo>
                    <a:pt x="400" y="604"/>
                  </a:lnTo>
                  <a:lnTo>
                    <a:pt x="388" y="572"/>
                  </a:lnTo>
                  <a:lnTo>
                    <a:pt x="372" y="544"/>
                  </a:lnTo>
                  <a:lnTo>
                    <a:pt x="358" y="522"/>
                  </a:lnTo>
                  <a:lnTo>
                    <a:pt x="358" y="522"/>
                  </a:lnTo>
                  <a:lnTo>
                    <a:pt x="384" y="524"/>
                  </a:lnTo>
                  <a:lnTo>
                    <a:pt x="400" y="524"/>
                  </a:lnTo>
                  <a:lnTo>
                    <a:pt x="414" y="522"/>
                  </a:lnTo>
                  <a:lnTo>
                    <a:pt x="414" y="522"/>
                  </a:lnTo>
                  <a:lnTo>
                    <a:pt x="422" y="520"/>
                  </a:lnTo>
                  <a:lnTo>
                    <a:pt x="428" y="518"/>
                  </a:lnTo>
                  <a:lnTo>
                    <a:pt x="432" y="514"/>
                  </a:lnTo>
                  <a:lnTo>
                    <a:pt x="434" y="508"/>
                  </a:lnTo>
                  <a:lnTo>
                    <a:pt x="436" y="496"/>
                  </a:lnTo>
                  <a:lnTo>
                    <a:pt x="434" y="480"/>
                  </a:lnTo>
                  <a:lnTo>
                    <a:pt x="422" y="404"/>
                  </a:lnTo>
                  <a:lnTo>
                    <a:pt x="196" y="440"/>
                  </a:lnTo>
                  <a:close/>
                  <a:moveTo>
                    <a:pt x="384" y="162"/>
                  </a:moveTo>
                  <a:lnTo>
                    <a:pt x="378" y="114"/>
                  </a:lnTo>
                  <a:lnTo>
                    <a:pt x="160" y="146"/>
                  </a:lnTo>
                  <a:lnTo>
                    <a:pt x="168" y="196"/>
                  </a:lnTo>
                  <a:lnTo>
                    <a:pt x="384" y="162"/>
                  </a:lnTo>
                  <a:close/>
                  <a:moveTo>
                    <a:pt x="406" y="306"/>
                  </a:moveTo>
                  <a:lnTo>
                    <a:pt x="400" y="256"/>
                  </a:lnTo>
                  <a:lnTo>
                    <a:pt x="182" y="290"/>
                  </a:lnTo>
                  <a:lnTo>
                    <a:pt x="190" y="340"/>
                  </a:lnTo>
                  <a:lnTo>
                    <a:pt x="406" y="30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3806640" y="10071000"/>
              <a:ext cx="1152360" cy="138096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w="726" h="870">
                  <a:moveTo>
                    <a:pt x="726" y="768"/>
                  </a:moveTo>
                  <a:lnTo>
                    <a:pt x="64" y="870"/>
                  </a:lnTo>
                  <a:lnTo>
                    <a:pt x="64" y="870"/>
                  </a:lnTo>
                  <a:lnTo>
                    <a:pt x="62" y="844"/>
                  </a:lnTo>
                  <a:lnTo>
                    <a:pt x="62" y="820"/>
                  </a:lnTo>
                  <a:lnTo>
                    <a:pt x="64" y="796"/>
                  </a:lnTo>
                  <a:lnTo>
                    <a:pt x="66" y="772"/>
                  </a:lnTo>
                  <a:lnTo>
                    <a:pt x="72" y="748"/>
                  </a:lnTo>
                  <a:lnTo>
                    <a:pt x="78" y="724"/>
                  </a:lnTo>
                  <a:lnTo>
                    <a:pt x="88" y="700"/>
                  </a:lnTo>
                  <a:lnTo>
                    <a:pt x="98" y="674"/>
                  </a:lnTo>
                  <a:lnTo>
                    <a:pt x="112" y="650"/>
                  </a:lnTo>
                  <a:lnTo>
                    <a:pt x="128" y="624"/>
                  </a:lnTo>
                  <a:lnTo>
                    <a:pt x="148" y="598"/>
                  </a:lnTo>
                  <a:lnTo>
                    <a:pt x="170" y="570"/>
                  </a:lnTo>
                  <a:lnTo>
                    <a:pt x="196" y="542"/>
                  </a:lnTo>
                  <a:lnTo>
                    <a:pt x="224" y="512"/>
                  </a:lnTo>
                  <a:lnTo>
                    <a:pt x="256" y="480"/>
                  </a:lnTo>
                  <a:lnTo>
                    <a:pt x="290" y="446"/>
                  </a:lnTo>
                  <a:lnTo>
                    <a:pt x="290" y="446"/>
                  </a:lnTo>
                  <a:lnTo>
                    <a:pt x="368" y="374"/>
                  </a:lnTo>
                  <a:lnTo>
                    <a:pt x="396" y="346"/>
                  </a:lnTo>
                  <a:lnTo>
                    <a:pt x="416" y="324"/>
                  </a:lnTo>
                  <a:lnTo>
                    <a:pt x="428" y="304"/>
                  </a:lnTo>
                  <a:lnTo>
                    <a:pt x="436" y="284"/>
                  </a:lnTo>
                  <a:lnTo>
                    <a:pt x="440" y="266"/>
                  </a:lnTo>
                  <a:lnTo>
                    <a:pt x="438" y="248"/>
                  </a:lnTo>
                  <a:lnTo>
                    <a:pt x="438" y="248"/>
                  </a:lnTo>
                  <a:lnTo>
                    <a:pt x="436" y="234"/>
                  </a:lnTo>
                  <a:lnTo>
                    <a:pt x="432" y="222"/>
                  </a:lnTo>
                  <a:lnTo>
                    <a:pt x="426" y="212"/>
                  </a:lnTo>
                  <a:lnTo>
                    <a:pt x="420" y="202"/>
                  </a:lnTo>
                  <a:lnTo>
                    <a:pt x="412" y="196"/>
                  </a:lnTo>
                  <a:lnTo>
                    <a:pt x="404" y="188"/>
                  </a:lnTo>
                  <a:lnTo>
                    <a:pt x="396" y="184"/>
                  </a:lnTo>
                  <a:lnTo>
                    <a:pt x="386" y="180"/>
                  </a:lnTo>
                  <a:lnTo>
                    <a:pt x="368" y="174"/>
                  </a:lnTo>
                  <a:lnTo>
                    <a:pt x="348" y="172"/>
                  </a:lnTo>
                  <a:lnTo>
                    <a:pt x="328" y="172"/>
                  </a:lnTo>
                  <a:lnTo>
                    <a:pt x="310" y="174"/>
                  </a:lnTo>
                  <a:lnTo>
                    <a:pt x="310" y="174"/>
                  </a:lnTo>
                  <a:lnTo>
                    <a:pt x="290" y="178"/>
                  </a:lnTo>
                  <a:lnTo>
                    <a:pt x="274" y="182"/>
                  </a:lnTo>
                  <a:lnTo>
                    <a:pt x="258" y="190"/>
                  </a:lnTo>
                  <a:lnTo>
                    <a:pt x="246" y="196"/>
                  </a:lnTo>
                  <a:lnTo>
                    <a:pt x="236" y="206"/>
                  </a:lnTo>
                  <a:lnTo>
                    <a:pt x="228" y="214"/>
                  </a:lnTo>
                  <a:lnTo>
                    <a:pt x="220" y="226"/>
                  </a:lnTo>
                  <a:lnTo>
                    <a:pt x="216" y="236"/>
                  </a:lnTo>
                  <a:lnTo>
                    <a:pt x="212" y="248"/>
                  </a:lnTo>
                  <a:lnTo>
                    <a:pt x="210" y="260"/>
                  </a:lnTo>
                  <a:lnTo>
                    <a:pt x="208" y="288"/>
                  </a:lnTo>
                  <a:lnTo>
                    <a:pt x="210" y="316"/>
                  </a:lnTo>
                  <a:lnTo>
                    <a:pt x="212" y="344"/>
                  </a:lnTo>
                  <a:lnTo>
                    <a:pt x="6" y="376"/>
                  </a:lnTo>
                  <a:lnTo>
                    <a:pt x="6" y="376"/>
                  </a:lnTo>
                  <a:lnTo>
                    <a:pt x="2" y="330"/>
                  </a:lnTo>
                  <a:lnTo>
                    <a:pt x="0" y="304"/>
                  </a:lnTo>
                  <a:lnTo>
                    <a:pt x="2" y="278"/>
                  </a:lnTo>
                  <a:lnTo>
                    <a:pt x="4" y="250"/>
                  </a:lnTo>
                  <a:lnTo>
                    <a:pt x="8" y="222"/>
                  </a:lnTo>
                  <a:lnTo>
                    <a:pt x="16" y="194"/>
                  </a:lnTo>
                  <a:lnTo>
                    <a:pt x="28" y="168"/>
                  </a:lnTo>
                  <a:lnTo>
                    <a:pt x="44" y="140"/>
                  </a:lnTo>
                  <a:lnTo>
                    <a:pt x="62" y="114"/>
                  </a:lnTo>
                  <a:lnTo>
                    <a:pt x="74" y="102"/>
                  </a:lnTo>
                  <a:lnTo>
                    <a:pt x="86" y="90"/>
                  </a:lnTo>
                  <a:lnTo>
                    <a:pt x="102" y="80"/>
                  </a:lnTo>
                  <a:lnTo>
                    <a:pt x="116" y="68"/>
                  </a:lnTo>
                  <a:lnTo>
                    <a:pt x="134" y="58"/>
                  </a:lnTo>
                  <a:lnTo>
                    <a:pt x="152" y="48"/>
                  </a:lnTo>
                  <a:lnTo>
                    <a:pt x="172" y="40"/>
                  </a:lnTo>
                  <a:lnTo>
                    <a:pt x="194" y="32"/>
                  </a:lnTo>
                  <a:lnTo>
                    <a:pt x="218" y="24"/>
                  </a:lnTo>
                  <a:lnTo>
                    <a:pt x="242" y="16"/>
                  </a:lnTo>
                  <a:lnTo>
                    <a:pt x="270" y="10"/>
                  </a:lnTo>
                  <a:lnTo>
                    <a:pt x="298" y="6"/>
                  </a:lnTo>
                  <a:lnTo>
                    <a:pt x="298" y="6"/>
                  </a:lnTo>
                  <a:lnTo>
                    <a:pt x="326" y="2"/>
                  </a:lnTo>
                  <a:lnTo>
                    <a:pt x="354" y="0"/>
                  </a:lnTo>
                  <a:lnTo>
                    <a:pt x="382" y="0"/>
                  </a:lnTo>
                  <a:lnTo>
                    <a:pt x="410" y="2"/>
                  </a:lnTo>
                  <a:lnTo>
                    <a:pt x="436" y="6"/>
                  </a:lnTo>
                  <a:lnTo>
                    <a:pt x="464" y="10"/>
                  </a:lnTo>
                  <a:lnTo>
                    <a:pt x="490" y="18"/>
                  </a:lnTo>
                  <a:lnTo>
                    <a:pt x="514" y="28"/>
                  </a:lnTo>
                  <a:lnTo>
                    <a:pt x="538" y="42"/>
                  </a:lnTo>
                  <a:lnTo>
                    <a:pt x="560" y="56"/>
                  </a:lnTo>
                  <a:lnTo>
                    <a:pt x="580" y="74"/>
                  </a:lnTo>
                  <a:lnTo>
                    <a:pt x="598" y="96"/>
                  </a:lnTo>
                  <a:lnTo>
                    <a:pt x="612" y="120"/>
                  </a:lnTo>
                  <a:lnTo>
                    <a:pt x="626" y="148"/>
                  </a:lnTo>
                  <a:lnTo>
                    <a:pt x="636" y="178"/>
                  </a:lnTo>
                  <a:lnTo>
                    <a:pt x="642" y="212"/>
                  </a:lnTo>
                  <a:lnTo>
                    <a:pt x="642" y="212"/>
                  </a:lnTo>
                  <a:lnTo>
                    <a:pt x="646" y="232"/>
                  </a:lnTo>
                  <a:lnTo>
                    <a:pt x="646" y="252"/>
                  </a:lnTo>
                  <a:lnTo>
                    <a:pt x="646" y="272"/>
                  </a:lnTo>
                  <a:lnTo>
                    <a:pt x="644" y="290"/>
                  </a:lnTo>
                  <a:lnTo>
                    <a:pt x="640" y="306"/>
                  </a:lnTo>
                  <a:lnTo>
                    <a:pt x="636" y="322"/>
                  </a:lnTo>
                  <a:lnTo>
                    <a:pt x="630" y="338"/>
                  </a:lnTo>
                  <a:lnTo>
                    <a:pt x="622" y="352"/>
                  </a:lnTo>
                  <a:lnTo>
                    <a:pt x="612" y="366"/>
                  </a:lnTo>
                  <a:lnTo>
                    <a:pt x="602" y="380"/>
                  </a:lnTo>
                  <a:lnTo>
                    <a:pt x="578" y="408"/>
                  </a:lnTo>
                  <a:lnTo>
                    <a:pt x="552" y="436"/>
                  </a:lnTo>
                  <a:lnTo>
                    <a:pt x="520" y="464"/>
                  </a:lnTo>
                  <a:lnTo>
                    <a:pt x="520" y="464"/>
                  </a:lnTo>
                  <a:lnTo>
                    <a:pt x="438" y="540"/>
                  </a:lnTo>
                  <a:lnTo>
                    <a:pt x="410" y="568"/>
                  </a:lnTo>
                  <a:lnTo>
                    <a:pt x="388" y="592"/>
                  </a:lnTo>
                  <a:lnTo>
                    <a:pt x="372" y="612"/>
                  </a:lnTo>
                  <a:lnTo>
                    <a:pt x="358" y="630"/>
                  </a:lnTo>
                  <a:lnTo>
                    <a:pt x="336" y="668"/>
                  </a:lnTo>
                  <a:lnTo>
                    <a:pt x="702" y="612"/>
                  </a:lnTo>
                  <a:lnTo>
                    <a:pt x="726" y="7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4952880" y="9902520"/>
              <a:ext cx="1104840" cy="133344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696" h="840">
                  <a:moveTo>
                    <a:pt x="274" y="626"/>
                  </a:moveTo>
                  <a:lnTo>
                    <a:pt x="274" y="626"/>
                  </a:lnTo>
                  <a:lnTo>
                    <a:pt x="284" y="642"/>
                  </a:lnTo>
                  <a:lnTo>
                    <a:pt x="296" y="654"/>
                  </a:lnTo>
                  <a:lnTo>
                    <a:pt x="312" y="662"/>
                  </a:lnTo>
                  <a:lnTo>
                    <a:pt x="328" y="666"/>
                  </a:lnTo>
                  <a:lnTo>
                    <a:pt x="344" y="670"/>
                  </a:lnTo>
                  <a:lnTo>
                    <a:pt x="358" y="672"/>
                  </a:lnTo>
                  <a:lnTo>
                    <a:pt x="372" y="672"/>
                  </a:lnTo>
                  <a:lnTo>
                    <a:pt x="384" y="670"/>
                  </a:lnTo>
                  <a:lnTo>
                    <a:pt x="384" y="670"/>
                  </a:lnTo>
                  <a:lnTo>
                    <a:pt x="406" y="664"/>
                  </a:lnTo>
                  <a:lnTo>
                    <a:pt x="426" y="658"/>
                  </a:lnTo>
                  <a:lnTo>
                    <a:pt x="442" y="648"/>
                  </a:lnTo>
                  <a:lnTo>
                    <a:pt x="456" y="638"/>
                  </a:lnTo>
                  <a:lnTo>
                    <a:pt x="468" y="626"/>
                  </a:lnTo>
                  <a:lnTo>
                    <a:pt x="478" y="612"/>
                  </a:lnTo>
                  <a:lnTo>
                    <a:pt x="484" y="598"/>
                  </a:lnTo>
                  <a:lnTo>
                    <a:pt x="490" y="582"/>
                  </a:lnTo>
                  <a:lnTo>
                    <a:pt x="494" y="566"/>
                  </a:lnTo>
                  <a:lnTo>
                    <a:pt x="496" y="550"/>
                  </a:lnTo>
                  <a:lnTo>
                    <a:pt x="498" y="516"/>
                  </a:lnTo>
                  <a:lnTo>
                    <a:pt x="498" y="484"/>
                  </a:lnTo>
                  <a:lnTo>
                    <a:pt x="496" y="456"/>
                  </a:lnTo>
                  <a:lnTo>
                    <a:pt x="496" y="456"/>
                  </a:lnTo>
                  <a:lnTo>
                    <a:pt x="474" y="478"/>
                  </a:lnTo>
                  <a:lnTo>
                    <a:pt x="458" y="492"/>
                  </a:lnTo>
                  <a:lnTo>
                    <a:pt x="438" y="506"/>
                  </a:lnTo>
                  <a:lnTo>
                    <a:pt x="416" y="520"/>
                  </a:lnTo>
                  <a:lnTo>
                    <a:pt x="388" y="534"/>
                  </a:lnTo>
                  <a:lnTo>
                    <a:pt x="358" y="544"/>
                  </a:lnTo>
                  <a:lnTo>
                    <a:pt x="322" y="552"/>
                  </a:lnTo>
                  <a:lnTo>
                    <a:pt x="322" y="552"/>
                  </a:lnTo>
                  <a:lnTo>
                    <a:pt x="304" y="554"/>
                  </a:lnTo>
                  <a:lnTo>
                    <a:pt x="284" y="556"/>
                  </a:lnTo>
                  <a:lnTo>
                    <a:pt x="262" y="556"/>
                  </a:lnTo>
                  <a:lnTo>
                    <a:pt x="240" y="554"/>
                  </a:lnTo>
                  <a:lnTo>
                    <a:pt x="216" y="550"/>
                  </a:lnTo>
                  <a:lnTo>
                    <a:pt x="190" y="546"/>
                  </a:lnTo>
                  <a:lnTo>
                    <a:pt x="166" y="538"/>
                  </a:lnTo>
                  <a:lnTo>
                    <a:pt x="142" y="528"/>
                  </a:lnTo>
                  <a:lnTo>
                    <a:pt x="118" y="516"/>
                  </a:lnTo>
                  <a:lnTo>
                    <a:pt x="96" y="500"/>
                  </a:lnTo>
                  <a:lnTo>
                    <a:pt x="74" y="482"/>
                  </a:lnTo>
                  <a:lnTo>
                    <a:pt x="54" y="460"/>
                  </a:lnTo>
                  <a:lnTo>
                    <a:pt x="38" y="436"/>
                  </a:lnTo>
                  <a:lnTo>
                    <a:pt x="24" y="406"/>
                  </a:lnTo>
                  <a:lnTo>
                    <a:pt x="12" y="372"/>
                  </a:lnTo>
                  <a:lnTo>
                    <a:pt x="4" y="334"/>
                  </a:lnTo>
                  <a:lnTo>
                    <a:pt x="4" y="334"/>
                  </a:lnTo>
                  <a:lnTo>
                    <a:pt x="0" y="308"/>
                  </a:lnTo>
                  <a:lnTo>
                    <a:pt x="0" y="282"/>
                  </a:lnTo>
                  <a:lnTo>
                    <a:pt x="2" y="256"/>
                  </a:lnTo>
                  <a:lnTo>
                    <a:pt x="6" y="230"/>
                  </a:lnTo>
                  <a:lnTo>
                    <a:pt x="14" y="204"/>
                  </a:lnTo>
                  <a:lnTo>
                    <a:pt x="22" y="178"/>
                  </a:lnTo>
                  <a:lnTo>
                    <a:pt x="34" y="154"/>
                  </a:lnTo>
                  <a:lnTo>
                    <a:pt x="48" y="130"/>
                  </a:lnTo>
                  <a:lnTo>
                    <a:pt x="66" y="108"/>
                  </a:lnTo>
                  <a:lnTo>
                    <a:pt x="86" y="88"/>
                  </a:lnTo>
                  <a:lnTo>
                    <a:pt x="110" y="68"/>
                  </a:lnTo>
                  <a:lnTo>
                    <a:pt x="136" y="52"/>
                  </a:lnTo>
                  <a:lnTo>
                    <a:pt x="166" y="36"/>
                  </a:lnTo>
                  <a:lnTo>
                    <a:pt x="198" y="24"/>
                  </a:lnTo>
                  <a:lnTo>
                    <a:pt x="234" y="12"/>
                  </a:lnTo>
                  <a:lnTo>
                    <a:pt x="272" y="6"/>
                  </a:lnTo>
                  <a:lnTo>
                    <a:pt x="272" y="6"/>
                  </a:lnTo>
                  <a:lnTo>
                    <a:pt x="316" y="0"/>
                  </a:lnTo>
                  <a:lnTo>
                    <a:pt x="356" y="0"/>
                  </a:lnTo>
                  <a:lnTo>
                    <a:pt x="396" y="4"/>
                  </a:lnTo>
                  <a:lnTo>
                    <a:pt x="432" y="12"/>
                  </a:lnTo>
                  <a:lnTo>
                    <a:pt x="466" y="24"/>
                  </a:lnTo>
                  <a:lnTo>
                    <a:pt x="498" y="40"/>
                  </a:lnTo>
                  <a:lnTo>
                    <a:pt x="528" y="60"/>
                  </a:lnTo>
                  <a:lnTo>
                    <a:pt x="556" y="82"/>
                  </a:lnTo>
                  <a:lnTo>
                    <a:pt x="580" y="108"/>
                  </a:lnTo>
                  <a:lnTo>
                    <a:pt x="602" y="138"/>
                  </a:lnTo>
                  <a:lnTo>
                    <a:pt x="624" y="170"/>
                  </a:lnTo>
                  <a:lnTo>
                    <a:pt x="642" y="204"/>
                  </a:lnTo>
                  <a:lnTo>
                    <a:pt x="656" y="242"/>
                  </a:lnTo>
                  <a:lnTo>
                    <a:pt x="670" y="284"/>
                  </a:lnTo>
                  <a:lnTo>
                    <a:pt x="680" y="326"/>
                  </a:lnTo>
                  <a:lnTo>
                    <a:pt x="690" y="372"/>
                  </a:lnTo>
                  <a:lnTo>
                    <a:pt x="690" y="372"/>
                  </a:lnTo>
                  <a:lnTo>
                    <a:pt x="694" y="414"/>
                  </a:lnTo>
                  <a:lnTo>
                    <a:pt x="696" y="456"/>
                  </a:lnTo>
                  <a:lnTo>
                    <a:pt x="696" y="496"/>
                  </a:lnTo>
                  <a:lnTo>
                    <a:pt x="692" y="534"/>
                  </a:lnTo>
                  <a:lnTo>
                    <a:pt x="686" y="572"/>
                  </a:lnTo>
                  <a:lnTo>
                    <a:pt x="676" y="608"/>
                  </a:lnTo>
                  <a:lnTo>
                    <a:pt x="664" y="642"/>
                  </a:lnTo>
                  <a:lnTo>
                    <a:pt x="648" y="674"/>
                  </a:lnTo>
                  <a:lnTo>
                    <a:pt x="630" y="704"/>
                  </a:lnTo>
                  <a:lnTo>
                    <a:pt x="608" y="732"/>
                  </a:lnTo>
                  <a:lnTo>
                    <a:pt x="582" y="758"/>
                  </a:lnTo>
                  <a:lnTo>
                    <a:pt x="554" y="780"/>
                  </a:lnTo>
                  <a:lnTo>
                    <a:pt x="522" y="798"/>
                  </a:lnTo>
                  <a:lnTo>
                    <a:pt x="486" y="814"/>
                  </a:lnTo>
                  <a:lnTo>
                    <a:pt x="448" y="826"/>
                  </a:lnTo>
                  <a:lnTo>
                    <a:pt x="406" y="836"/>
                  </a:lnTo>
                  <a:lnTo>
                    <a:pt x="406" y="836"/>
                  </a:lnTo>
                  <a:lnTo>
                    <a:pt x="366" y="840"/>
                  </a:lnTo>
                  <a:lnTo>
                    <a:pt x="328" y="840"/>
                  </a:lnTo>
                  <a:lnTo>
                    <a:pt x="290" y="836"/>
                  </a:lnTo>
                  <a:lnTo>
                    <a:pt x="252" y="830"/>
                  </a:lnTo>
                  <a:lnTo>
                    <a:pt x="216" y="820"/>
                  </a:lnTo>
                  <a:lnTo>
                    <a:pt x="184" y="806"/>
                  </a:lnTo>
                  <a:lnTo>
                    <a:pt x="170" y="798"/>
                  </a:lnTo>
                  <a:lnTo>
                    <a:pt x="154" y="788"/>
                  </a:lnTo>
                  <a:lnTo>
                    <a:pt x="142" y="778"/>
                  </a:lnTo>
                  <a:lnTo>
                    <a:pt x="130" y="768"/>
                  </a:lnTo>
                  <a:lnTo>
                    <a:pt x="130" y="768"/>
                  </a:lnTo>
                  <a:lnTo>
                    <a:pt x="116" y="752"/>
                  </a:lnTo>
                  <a:lnTo>
                    <a:pt x="106" y="738"/>
                  </a:lnTo>
                  <a:lnTo>
                    <a:pt x="96" y="724"/>
                  </a:lnTo>
                  <a:lnTo>
                    <a:pt x="88" y="710"/>
                  </a:lnTo>
                  <a:lnTo>
                    <a:pt x="74" y="682"/>
                  </a:lnTo>
                  <a:lnTo>
                    <a:pt x="66" y="658"/>
                  </a:lnTo>
                  <a:lnTo>
                    <a:pt x="274" y="626"/>
                  </a:lnTo>
                  <a:close/>
                  <a:moveTo>
                    <a:pt x="208" y="300"/>
                  </a:moveTo>
                  <a:lnTo>
                    <a:pt x="208" y="300"/>
                  </a:lnTo>
                  <a:lnTo>
                    <a:pt x="210" y="314"/>
                  </a:lnTo>
                  <a:lnTo>
                    <a:pt x="214" y="326"/>
                  </a:lnTo>
                  <a:lnTo>
                    <a:pt x="220" y="338"/>
                  </a:lnTo>
                  <a:lnTo>
                    <a:pt x="226" y="348"/>
                  </a:lnTo>
                  <a:lnTo>
                    <a:pt x="234" y="356"/>
                  </a:lnTo>
                  <a:lnTo>
                    <a:pt x="242" y="366"/>
                  </a:lnTo>
                  <a:lnTo>
                    <a:pt x="250" y="372"/>
                  </a:lnTo>
                  <a:lnTo>
                    <a:pt x="260" y="378"/>
                  </a:lnTo>
                  <a:lnTo>
                    <a:pt x="282" y="388"/>
                  </a:lnTo>
                  <a:lnTo>
                    <a:pt x="304" y="394"/>
                  </a:lnTo>
                  <a:lnTo>
                    <a:pt x="326" y="396"/>
                  </a:lnTo>
                  <a:lnTo>
                    <a:pt x="350" y="394"/>
                  </a:lnTo>
                  <a:lnTo>
                    <a:pt x="350" y="394"/>
                  </a:lnTo>
                  <a:lnTo>
                    <a:pt x="364" y="392"/>
                  </a:lnTo>
                  <a:lnTo>
                    <a:pt x="376" y="388"/>
                  </a:lnTo>
                  <a:lnTo>
                    <a:pt x="388" y="384"/>
                  </a:lnTo>
                  <a:lnTo>
                    <a:pt x="398" y="378"/>
                  </a:lnTo>
                  <a:lnTo>
                    <a:pt x="408" y="372"/>
                  </a:lnTo>
                  <a:lnTo>
                    <a:pt x="416" y="364"/>
                  </a:lnTo>
                  <a:lnTo>
                    <a:pt x="432" y="348"/>
                  </a:lnTo>
                  <a:lnTo>
                    <a:pt x="442" y="328"/>
                  </a:lnTo>
                  <a:lnTo>
                    <a:pt x="448" y="308"/>
                  </a:lnTo>
                  <a:lnTo>
                    <a:pt x="452" y="286"/>
                  </a:lnTo>
                  <a:lnTo>
                    <a:pt x="450" y="264"/>
                  </a:lnTo>
                  <a:lnTo>
                    <a:pt x="450" y="264"/>
                  </a:lnTo>
                  <a:lnTo>
                    <a:pt x="448" y="252"/>
                  </a:lnTo>
                  <a:lnTo>
                    <a:pt x="444" y="240"/>
                  </a:lnTo>
                  <a:lnTo>
                    <a:pt x="440" y="228"/>
                  </a:lnTo>
                  <a:lnTo>
                    <a:pt x="434" y="218"/>
                  </a:lnTo>
                  <a:lnTo>
                    <a:pt x="428" y="208"/>
                  </a:lnTo>
                  <a:lnTo>
                    <a:pt x="420" y="200"/>
                  </a:lnTo>
                  <a:lnTo>
                    <a:pt x="402" y="186"/>
                  </a:lnTo>
                  <a:lnTo>
                    <a:pt x="384" y="176"/>
                  </a:lnTo>
                  <a:lnTo>
                    <a:pt x="362" y="170"/>
                  </a:lnTo>
                  <a:lnTo>
                    <a:pt x="338" y="166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288" y="174"/>
                  </a:lnTo>
                  <a:lnTo>
                    <a:pt x="266" y="184"/>
                  </a:lnTo>
                  <a:lnTo>
                    <a:pt x="246" y="196"/>
                  </a:lnTo>
                  <a:lnTo>
                    <a:pt x="230" y="212"/>
                  </a:lnTo>
                  <a:lnTo>
                    <a:pt x="218" y="230"/>
                  </a:lnTo>
                  <a:lnTo>
                    <a:pt x="214" y="240"/>
                  </a:lnTo>
                  <a:lnTo>
                    <a:pt x="210" y="252"/>
                  </a:lnTo>
                  <a:lnTo>
                    <a:pt x="208" y="262"/>
                  </a:lnTo>
                  <a:lnTo>
                    <a:pt x="206" y="274"/>
                  </a:lnTo>
                  <a:lnTo>
                    <a:pt x="206" y="288"/>
                  </a:lnTo>
                  <a:lnTo>
                    <a:pt x="208" y="300"/>
                  </a:lnTo>
                  <a:lnTo>
                    <a:pt x="208" y="30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6603840" y="9610560"/>
              <a:ext cx="1358640" cy="146700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467000"/>
                <a:gd name="textAreaBottom" fmla="*/ 1467360 h 1467000"/>
              </a:gdLst>
              <a:ahLst/>
              <a:rect l="textAreaLeft" t="textAreaTop" r="textAreaRight" b="textAreaBottom"/>
              <a:pathLst>
                <a:path w="856" h="924">
                  <a:moveTo>
                    <a:pt x="292" y="846"/>
                  </a:moveTo>
                  <a:lnTo>
                    <a:pt x="300" y="898"/>
                  </a:lnTo>
                  <a:lnTo>
                    <a:pt x="124" y="924"/>
                  </a:lnTo>
                  <a:lnTo>
                    <a:pt x="0" y="112"/>
                  </a:lnTo>
                  <a:lnTo>
                    <a:pt x="732" y="0"/>
                  </a:lnTo>
                  <a:lnTo>
                    <a:pt x="856" y="810"/>
                  </a:lnTo>
                  <a:lnTo>
                    <a:pt x="678" y="838"/>
                  </a:lnTo>
                  <a:lnTo>
                    <a:pt x="670" y="788"/>
                  </a:lnTo>
                  <a:lnTo>
                    <a:pt x="292" y="846"/>
                  </a:lnTo>
                  <a:close/>
                  <a:moveTo>
                    <a:pt x="600" y="330"/>
                  </a:moveTo>
                  <a:lnTo>
                    <a:pt x="578" y="180"/>
                  </a:lnTo>
                  <a:lnTo>
                    <a:pt x="198" y="238"/>
                  </a:lnTo>
                  <a:lnTo>
                    <a:pt x="222" y="388"/>
                  </a:lnTo>
                  <a:lnTo>
                    <a:pt x="600" y="330"/>
                  </a:lnTo>
                  <a:close/>
                  <a:moveTo>
                    <a:pt x="648" y="636"/>
                  </a:moveTo>
                  <a:lnTo>
                    <a:pt x="622" y="478"/>
                  </a:lnTo>
                  <a:lnTo>
                    <a:pt x="244" y="536"/>
                  </a:lnTo>
                  <a:lnTo>
                    <a:pt x="268" y="694"/>
                  </a:lnTo>
                  <a:lnTo>
                    <a:pt x="648" y="63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8128080" y="9636120"/>
              <a:ext cx="1009440" cy="1019160"/>
            </a:xfrm>
            <a:custGeom>
              <a:avLst/>
              <a:gdLst/>
              <a:ahLst/>
              <a:rect l="l" t="t" r="r" b="b"/>
              <a:pathLst>
                <a:path w="636" h="642">
                  <a:moveTo>
                    <a:pt x="122" y="68"/>
                  </a:moveTo>
                  <a:lnTo>
                    <a:pt x="122" y="68"/>
                  </a:lnTo>
                  <a:lnTo>
                    <a:pt x="130" y="70"/>
                  </a:lnTo>
                  <a:lnTo>
                    <a:pt x="132" y="72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8"/>
                  </a:lnTo>
                  <a:lnTo>
                    <a:pt x="130" y="82"/>
                  </a:lnTo>
                  <a:lnTo>
                    <a:pt x="126" y="86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08" y="142"/>
                  </a:lnTo>
                  <a:lnTo>
                    <a:pt x="106" y="190"/>
                  </a:lnTo>
                  <a:lnTo>
                    <a:pt x="106" y="234"/>
                  </a:lnTo>
                  <a:lnTo>
                    <a:pt x="106" y="272"/>
                  </a:lnTo>
                  <a:lnTo>
                    <a:pt x="110" y="330"/>
                  </a:lnTo>
                  <a:lnTo>
                    <a:pt x="114" y="360"/>
                  </a:lnTo>
                  <a:lnTo>
                    <a:pt x="114" y="360"/>
                  </a:lnTo>
                  <a:lnTo>
                    <a:pt x="122" y="400"/>
                  </a:lnTo>
                  <a:lnTo>
                    <a:pt x="130" y="428"/>
                  </a:lnTo>
                  <a:lnTo>
                    <a:pt x="130" y="428"/>
                  </a:lnTo>
                  <a:lnTo>
                    <a:pt x="154" y="374"/>
                  </a:lnTo>
                  <a:lnTo>
                    <a:pt x="154" y="374"/>
                  </a:lnTo>
                  <a:lnTo>
                    <a:pt x="168" y="390"/>
                  </a:lnTo>
                  <a:lnTo>
                    <a:pt x="182" y="406"/>
                  </a:lnTo>
                  <a:lnTo>
                    <a:pt x="198" y="420"/>
                  </a:lnTo>
                  <a:lnTo>
                    <a:pt x="214" y="434"/>
                  </a:lnTo>
                  <a:lnTo>
                    <a:pt x="214" y="434"/>
                  </a:lnTo>
                  <a:lnTo>
                    <a:pt x="202" y="460"/>
                  </a:lnTo>
                  <a:lnTo>
                    <a:pt x="196" y="478"/>
                  </a:lnTo>
                  <a:lnTo>
                    <a:pt x="190" y="500"/>
                  </a:lnTo>
                  <a:lnTo>
                    <a:pt x="184" y="526"/>
                  </a:lnTo>
                  <a:lnTo>
                    <a:pt x="180" y="552"/>
                  </a:lnTo>
                  <a:lnTo>
                    <a:pt x="180" y="580"/>
                  </a:lnTo>
                  <a:lnTo>
                    <a:pt x="182" y="612"/>
                  </a:lnTo>
                  <a:lnTo>
                    <a:pt x="94" y="642"/>
                  </a:lnTo>
                  <a:lnTo>
                    <a:pt x="94" y="642"/>
                  </a:lnTo>
                  <a:lnTo>
                    <a:pt x="78" y="608"/>
                  </a:lnTo>
                  <a:lnTo>
                    <a:pt x="68" y="582"/>
                  </a:lnTo>
                  <a:lnTo>
                    <a:pt x="56" y="550"/>
                  </a:lnTo>
                  <a:lnTo>
                    <a:pt x="46" y="514"/>
                  </a:lnTo>
                  <a:lnTo>
                    <a:pt x="34" y="472"/>
                  </a:lnTo>
                  <a:lnTo>
                    <a:pt x="24" y="424"/>
                  </a:lnTo>
                  <a:lnTo>
                    <a:pt x="14" y="372"/>
                  </a:lnTo>
                  <a:lnTo>
                    <a:pt x="14" y="372"/>
                  </a:lnTo>
                  <a:lnTo>
                    <a:pt x="6" y="310"/>
                  </a:lnTo>
                  <a:lnTo>
                    <a:pt x="4" y="272"/>
                  </a:lnTo>
                  <a:lnTo>
                    <a:pt x="0" y="232"/>
                  </a:lnTo>
                  <a:lnTo>
                    <a:pt x="0" y="190"/>
                  </a:lnTo>
                  <a:lnTo>
                    <a:pt x="0" y="144"/>
                  </a:lnTo>
                  <a:lnTo>
                    <a:pt x="2" y="98"/>
                  </a:lnTo>
                  <a:lnTo>
                    <a:pt x="6" y="50"/>
                  </a:lnTo>
                  <a:lnTo>
                    <a:pt x="122" y="68"/>
                  </a:lnTo>
                  <a:close/>
                  <a:moveTo>
                    <a:pt x="446" y="2"/>
                  </a:moveTo>
                  <a:lnTo>
                    <a:pt x="446" y="2"/>
                  </a:lnTo>
                  <a:lnTo>
                    <a:pt x="452" y="4"/>
                  </a:lnTo>
                  <a:lnTo>
                    <a:pt x="454" y="6"/>
                  </a:lnTo>
                  <a:lnTo>
                    <a:pt x="456" y="8"/>
                  </a:lnTo>
                  <a:lnTo>
                    <a:pt x="456" y="8"/>
                  </a:lnTo>
                  <a:lnTo>
                    <a:pt x="454" y="14"/>
                  </a:lnTo>
                  <a:lnTo>
                    <a:pt x="452" y="18"/>
                  </a:lnTo>
                  <a:lnTo>
                    <a:pt x="442" y="22"/>
                  </a:lnTo>
                  <a:lnTo>
                    <a:pt x="442" y="22"/>
                  </a:lnTo>
                  <a:lnTo>
                    <a:pt x="442" y="52"/>
                  </a:lnTo>
                  <a:lnTo>
                    <a:pt x="448" y="106"/>
                  </a:lnTo>
                  <a:lnTo>
                    <a:pt x="448" y="106"/>
                  </a:lnTo>
                  <a:lnTo>
                    <a:pt x="482" y="94"/>
                  </a:lnTo>
                  <a:lnTo>
                    <a:pt x="506" y="84"/>
                  </a:lnTo>
                  <a:lnTo>
                    <a:pt x="544" y="64"/>
                  </a:lnTo>
                  <a:lnTo>
                    <a:pt x="560" y="168"/>
                  </a:lnTo>
                  <a:lnTo>
                    <a:pt x="560" y="168"/>
                  </a:lnTo>
                  <a:lnTo>
                    <a:pt x="526" y="182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8" y="256"/>
                  </a:lnTo>
                  <a:lnTo>
                    <a:pt x="478" y="302"/>
                  </a:lnTo>
                  <a:lnTo>
                    <a:pt x="488" y="338"/>
                  </a:lnTo>
                  <a:lnTo>
                    <a:pt x="496" y="362"/>
                  </a:lnTo>
                  <a:lnTo>
                    <a:pt x="496" y="362"/>
                  </a:lnTo>
                  <a:lnTo>
                    <a:pt x="536" y="372"/>
                  </a:lnTo>
                  <a:lnTo>
                    <a:pt x="576" y="384"/>
                  </a:lnTo>
                  <a:lnTo>
                    <a:pt x="610" y="398"/>
                  </a:lnTo>
                  <a:lnTo>
                    <a:pt x="624" y="406"/>
                  </a:lnTo>
                  <a:lnTo>
                    <a:pt x="636" y="414"/>
                  </a:lnTo>
                  <a:lnTo>
                    <a:pt x="636" y="414"/>
                  </a:lnTo>
                  <a:lnTo>
                    <a:pt x="622" y="460"/>
                  </a:lnTo>
                  <a:lnTo>
                    <a:pt x="604" y="516"/>
                  </a:lnTo>
                  <a:lnTo>
                    <a:pt x="604" y="516"/>
                  </a:lnTo>
                  <a:lnTo>
                    <a:pt x="586" y="504"/>
                  </a:lnTo>
                  <a:lnTo>
                    <a:pt x="566" y="492"/>
                  </a:lnTo>
                  <a:lnTo>
                    <a:pt x="546" y="484"/>
                  </a:lnTo>
                  <a:lnTo>
                    <a:pt x="522" y="476"/>
                  </a:lnTo>
                  <a:lnTo>
                    <a:pt x="522" y="476"/>
                  </a:lnTo>
                  <a:lnTo>
                    <a:pt x="524" y="492"/>
                  </a:lnTo>
                  <a:lnTo>
                    <a:pt x="522" y="506"/>
                  </a:lnTo>
                  <a:lnTo>
                    <a:pt x="520" y="520"/>
                  </a:lnTo>
                  <a:lnTo>
                    <a:pt x="516" y="530"/>
                  </a:lnTo>
                  <a:lnTo>
                    <a:pt x="508" y="542"/>
                  </a:lnTo>
                  <a:lnTo>
                    <a:pt x="502" y="550"/>
                  </a:lnTo>
                  <a:lnTo>
                    <a:pt x="494" y="558"/>
                  </a:lnTo>
                  <a:lnTo>
                    <a:pt x="484" y="566"/>
                  </a:lnTo>
                  <a:lnTo>
                    <a:pt x="464" y="578"/>
                  </a:lnTo>
                  <a:lnTo>
                    <a:pt x="442" y="586"/>
                  </a:lnTo>
                  <a:lnTo>
                    <a:pt x="422" y="592"/>
                  </a:lnTo>
                  <a:lnTo>
                    <a:pt x="404" y="594"/>
                  </a:lnTo>
                  <a:lnTo>
                    <a:pt x="404" y="594"/>
                  </a:lnTo>
                  <a:lnTo>
                    <a:pt x="386" y="596"/>
                  </a:lnTo>
                  <a:lnTo>
                    <a:pt x="368" y="598"/>
                  </a:lnTo>
                  <a:lnTo>
                    <a:pt x="350" y="598"/>
                  </a:lnTo>
                  <a:lnTo>
                    <a:pt x="336" y="596"/>
                  </a:lnTo>
                  <a:lnTo>
                    <a:pt x="320" y="592"/>
                  </a:lnTo>
                  <a:lnTo>
                    <a:pt x="306" y="588"/>
                  </a:lnTo>
                  <a:lnTo>
                    <a:pt x="294" y="582"/>
                  </a:lnTo>
                  <a:lnTo>
                    <a:pt x="282" y="576"/>
                  </a:lnTo>
                  <a:lnTo>
                    <a:pt x="272" y="570"/>
                  </a:lnTo>
                  <a:lnTo>
                    <a:pt x="264" y="560"/>
                  </a:lnTo>
                  <a:lnTo>
                    <a:pt x="256" y="552"/>
                  </a:lnTo>
                  <a:lnTo>
                    <a:pt x="248" y="542"/>
                  </a:lnTo>
                  <a:lnTo>
                    <a:pt x="242" y="532"/>
                  </a:lnTo>
                  <a:lnTo>
                    <a:pt x="238" y="522"/>
                  </a:lnTo>
                  <a:lnTo>
                    <a:pt x="234" y="510"/>
                  </a:lnTo>
                  <a:lnTo>
                    <a:pt x="232" y="498"/>
                  </a:lnTo>
                  <a:lnTo>
                    <a:pt x="232" y="498"/>
                  </a:lnTo>
                  <a:lnTo>
                    <a:pt x="230" y="484"/>
                  </a:lnTo>
                  <a:lnTo>
                    <a:pt x="230" y="470"/>
                  </a:lnTo>
                  <a:lnTo>
                    <a:pt x="234" y="456"/>
                  </a:lnTo>
                  <a:lnTo>
                    <a:pt x="238" y="444"/>
                  </a:lnTo>
                  <a:lnTo>
                    <a:pt x="244" y="432"/>
                  </a:lnTo>
                  <a:lnTo>
                    <a:pt x="250" y="422"/>
                  </a:lnTo>
                  <a:lnTo>
                    <a:pt x="260" y="412"/>
                  </a:lnTo>
                  <a:lnTo>
                    <a:pt x="270" y="404"/>
                  </a:lnTo>
                  <a:lnTo>
                    <a:pt x="282" y="396"/>
                  </a:lnTo>
                  <a:lnTo>
                    <a:pt x="294" y="388"/>
                  </a:lnTo>
                  <a:lnTo>
                    <a:pt x="322" y="376"/>
                  </a:lnTo>
                  <a:lnTo>
                    <a:pt x="352" y="368"/>
                  </a:lnTo>
                  <a:lnTo>
                    <a:pt x="384" y="362"/>
                  </a:lnTo>
                  <a:lnTo>
                    <a:pt x="384" y="362"/>
                  </a:lnTo>
                  <a:lnTo>
                    <a:pt x="368" y="284"/>
                  </a:lnTo>
                  <a:lnTo>
                    <a:pt x="358" y="236"/>
                  </a:lnTo>
                  <a:lnTo>
                    <a:pt x="358" y="236"/>
                  </a:lnTo>
                  <a:lnTo>
                    <a:pt x="308" y="246"/>
                  </a:lnTo>
                  <a:lnTo>
                    <a:pt x="280" y="252"/>
                  </a:lnTo>
                  <a:lnTo>
                    <a:pt x="280" y="252"/>
                  </a:lnTo>
                  <a:lnTo>
                    <a:pt x="250" y="256"/>
                  </a:lnTo>
                  <a:lnTo>
                    <a:pt x="228" y="258"/>
                  </a:lnTo>
                  <a:lnTo>
                    <a:pt x="212" y="150"/>
                  </a:lnTo>
                  <a:lnTo>
                    <a:pt x="212" y="150"/>
                  </a:lnTo>
                  <a:lnTo>
                    <a:pt x="260" y="146"/>
                  </a:lnTo>
                  <a:lnTo>
                    <a:pt x="296" y="142"/>
                  </a:lnTo>
                  <a:lnTo>
                    <a:pt x="342" y="134"/>
                  </a:lnTo>
                  <a:lnTo>
                    <a:pt x="342" y="134"/>
                  </a:lnTo>
                  <a:lnTo>
                    <a:pt x="322" y="0"/>
                  </a:lnTo>
                  <a:lnTo>
                    <a:pt x="446" y="2"/>
                  </a:lnTo>
                  <a:close/>
                  <a:moveTo>
                    <a:pt x="368" y="450"/>
                  </a:moveTo>
                  <a:lnTo>
                    <a:pt x="368" y="450"/>
                  </a:lnTo>
                  <a:lnTo>
                    <a:pt x="354" y="454"/>
                  </a:lnTo>
                  <a:lnTo>
                    <a:pt x="340" y="460"/>
                  </a:lnTo>
                  <a:lnTo>
                    <a:pt x="334" y="464"/>
                  </a:lnTo>
                  <a:lnTo>
                    <a:pt x="328" y="470"/>
                  </a:lnTo>
                  <a:lnTo>
                    <a:pt x="324" y="476"/>
                  </a:lnTo>
                  <a:lnTo>
                    <a:pt x="324" y="484"/>
                  </a:lnTo>
                  <a:lnTo>
                    <a:pt x="324" y="484"/>
                  </a:lnTo>
                  <a:lnTo>
                    <a:pt x="326" y="490"/>
                  </a:lnTo>
                  <a:lnTo>
                    <a:pt x="330" y="494"/>
                  </a:lnTo>
                  <a:lnTo>
                    <a:pt x="336" y="498"/>
                  </a:lnTo>
                  <a:lnTo>
                    <a:pt x="342" y="500"/>
                  </a:lnTo>
                  <a:lnTo>
                    <a:pt x="356" y="502"/>
                  </a:lnTo>
                  <a:lnTo>
                    <a:pt x="374" y="502"/>
                  </a:lnTo>
                  <a:lnTo>
                    <a:pt x="374" y="502"/>
                  </a:lnTo>
                  <a:lnTo>
                    <a:pt x="382" y="500"/>
                  </a:lnTo>
                  <a:lnTo>
                    <a:pt x="390" y="498"/>
                  </a:lnTo>
                  <a:lnTo>
                    <a:pt x="398" y="494"/>
                  </a:lnTo>
                  <a:lnTo>
                    <a:pt x="406" y="488"/>
                  </a:lnTo>
                  <a:lnTo>
                    <a:pt x="412" y="482"/>
                  </a:lnTo>
                  <a:lnTo>
                    <a:pt x="414" y="472"/>
                  </a:lnTo>
                  <a:lnTo>
                    <a:pt x="414" y="462"/>
                  </a:lnTo>
                  <a:lnTo>
                    <a:pt x="414" y="462"/>
                  </a:lnTo>
                  <a:lnTo>
                    <a:pt x="414" y="456"/>
                  </a:lnTo>
                  <a:lnTo>
                    <a:pt x="412" y="452"/>
                  </a:lnTo>
                  <a:lnTo>
                    <a:pt x="412" y="452"/>
                  </a:lnTo>
                  <a:lnTo>
                    <a:pt x="394" y="450"/>
                  </a:lnTo>
                  <a:lnTo>
                    <a:pt x="384" y="448"/>
                  </a:lnTo>
                  <a:lnTo>
                    <a:pt x="368" y="450"/>
                  </a:lnTo>
                  <a:lnTo>
                    <a:pt x="368" y="45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4019400" y="9038880"/>
              <a:ext cx="631800" cy="6253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398" h="394">
                  <a:moveTo>
                    <a:pt x="80" y="26"/>
                  </a:moveTo>
                  <a:lnTo>
                    <a:pt x="80" y="26"/>
                  </a:lnTo>
                  <a:lnTo>
                    <a:pt x="90" y="28"/>
                  </a:lnTo>
                  <a:lnTo>
                    <a:pt x="92" y="30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76" y="72"/>
                  </a:lnTo>
                  <a:lnTo>
                    <a:pt x="70" y="112"/>
                  </a:lnTo>
                  <a:lnTo>
                    <a:pt x="70" y="136"/>
                  </a:lnTo>
                  <a:lnTo>
                    <a:pt x="70" y="164"/>
                  </a:lnTo>
                  <a:lnTo>
                    <a:pt x="72" y="194"/>
                  </a:lnTo>
                  <a:lnTo>
                    <a:pt x="76" y="226"/>
                  </a:lnTo>
                  <a:lnTo>
                    <a:pt x="76" y="226"/>
                  </a:lnTo>
                  <a:lnTo>
                    <a:pt x="78" y="246"/>
                  </a:lnTo>
                  <a:lnTo>
                    <a:pt x="84" y="262"/>
                  </a:lnTo>
                  <a:lnTo>
                    <a:pt x="84" y="262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110" y="238"/>
                  </a:lnTo>
                  <a:lnTo>
                    <a:pt x="120" y="248"/>
                  </a:lnTo>
                  <a:lnTo>
                    <a:pt x="136" y="258"/>
                  </a:lnTo>
                  <a:lnTo>
                    <a:pt x="136" y="258"/>
                  </a:lnTo>
                  <a:lnTo>
                    <a:pt x="130" y="280"/>
                  </a:lnTo>
                  <a:lnTo>
                    <a:pt x="124" y="308"/>
                  </a:lnTo>
                  <a:lnTo>
                    <a:pt x="120" y="340"/>
                  </a:lnTo>
                  <a:lnTo>
                    <a:pt x="120" y="354"/>
                  </a:lnTo>
                  <a:lnTo>
                    <a:pt x="120" y="368"/>
                  </a:lnTo>
                  <a:lnTo>
                    <a:pt x="60" y="394"/>
                  </a:lnTo>
                  <a:lnTo>
                    <a:pt x="60" y="394"/>
                  </a:lnTo>
                  <a:lnTo>
                    <a:pt x="44" y="362"/>
                  </a:lnTo>
                  <a:lnTo>
                    <a:pt x="30" y="324"/>
                  </a:lnTo>
                  <a:lnTo>
                    <a:pt x="22" y="302"/>
                  </a:lnTo>
                  <a:lnTo>
                    <a:pt x="16" y="278"/>
                  </a:lnTo>
                  <a:lnTo>
                    <a:pt x="10" y="250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0" y="162"/>
                  </a:lnTo>
                  <a:lnTo>
                    <a:pt x="0" y="110"/>
                  </a:lnTo>
                  <a:lnTo>
                    <a:pt x="2" y="60"/>
                  </a:lnTo>
                  <a:lnTo>
                    <a:pt x="8" y="8"/>
                  </a:lnTo>
                  <a:lnTo>
                    <a:pt x="80" y="26"/>
                  </a:lnTo>
                  <a:close/>
                  <a:moveTo>
                    <a:pt x="146" y="36"/>
                  </a:moveTo>
                  <a:lnTo>
                    <a:pt x="146" y="36"/>
                  </a:lnTo>
                  <a:lnTo>
                    <a:pt x="170" y="36"/>
                  </a:lnTo>
                  <a:lnTo>
                    <a:pt x="204" y="32"/>
                  </a:lnTo>
                  <a:lnTo>
                    <a:pt x="204" y="32"/>
                  </a:lnTo>
                  <a:lnTo>
                    <a:pt x="252" y="24"/>
                  </a:lnTo>
                  <a:lnTo>
                    <a:pt x="290" y="16"/>
                  </a:lnTo>
                  <a:lnTo>
                    <a:pt x="316" y="6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8" y="30"/>
                  </a:lnTo>
                  <a:lnTo>
                    <a:pt x="348" y="68"/>
                  </a:lnTo>
                  <a:lnTo>
                    <a:pt x="348" y="68"/>
                  </a:lnTo>
                  <a:lnTo>
                    <a:pt x="330" y="74"/>
                  </a:lnTo>
                  <a:lnTo>
                    <a:pt x="300" y="82"/>
                  </a:lnTo>
                  <a:lnTo>
                    <a:pt x="262" y="90"/>
                  </a:lnTo>
                  <a:lnTo>
                    <a:pt x="212" y="98"/>
                  </a:lnTo>
                  <a:lnTo>
                    <a:pt x="212" y="98"/>
                  </a:lnTo>
                  <a:lnTo>
                    <a:pt x="178" y="102"/>
                  </a:lnTo>
                  <a:lnTo>
                    <a:pt x="154" y="104"/>
                  </a:lnTo>
                  <a:lnTo>
                    <a:pt x="146" y="36"/>
                  </a:lnTo>
                  <a:close/>
                  <a:moveTo>
                    <a:pt x="224" y="220"/>
                  </a:moveTo>
                  <a:lnTo>
                    <a:pt x="224" y="220"/>
                  </a:lnTo>
                  <a:lnTo>
                    <a:pt x="222" y="236"/>
                  </a:lnTo>
                  <a:lnTo>
                    <a:pt x="222" y="252"/>
                  </a:lnTo>
                  <a:lnTo>
                    <a:pt x="222" y="252"/>
                  </a:lnTo>
                  <a:lnTo>
                    <a:pt x="222" y="260"/>
                  </a:lnTo>
                  <a:lnTo>
                    <a:pt x="226" y="264"/>
                  </a:lnTo>
                  <a:lnTo>
                    <a:pt x="230" y="268"/>
                  </a:lnTo>
                  <a:lnTo>
                    <a:pt x="236" y="270"/>
                  </a:lnTo>
                  <a:lnTo>
                    <a:pt x="244" y="270"/>
                  </a:lnTo>
                  <a:lnTo>
                    <a:pt x="254" y="270"/>
                  </a:lnTo>
                  <a:lnTo>
                    <a:pt x="286" y="268"/>
                  </a:lnTo>
                  <a:lnTo>
                    <a:pt x="286" y="268"/>
                  </a:lnTo>
                  <a:lnTo>
                    <a:pt x="310" y="264"/>
                  </a:lnTo>
                  <a:lnTo>
                    <a:pt x="336" y="258"/>
                  </a:lnTo>
                  <a:lnTo>
                    <a:pt x="364" y="252"/>
                  </a:lnTo>
                  <a:lnTo>
                    <a:pt x="394" y="242"/>
                  </a:lnTo>
                  <a:lnTo>
                    <a:pt x="394" y="242"/>
                  </a:lnTo>
                  <a:lnTo>
                    <a:pt x="394" y="266"/>
                  </a:lnTo>
                  <a:lnTo>
                    <a:pt x="394" y="288"/>
                  </a:lnTo>
                  <a:lnTo>
                    <a:pt x="398" y="314"/>
                  </a:lnTo>
                  <a:lnTo>
                    <a:pt x="398" y="314"/>
                  </a:lnTo>
                  <a:lnTo>
                    <a:pt x="372" y="322"/>
                  </a:lnTo>
                  <a:lnTo>
                    <a:pt x="342" y="326"/>
                  </a:lnTo>
                  <a:lnTo>
                    <a:pt x="286" y="336"/>
                  </a:lnTo>
                  <a:lnTo>
                    <a:pt x="286" y="336"/>
                  </a:lnTo>
                  <a:lnTo>
                    <a:pt x="260" y="338"/>
                  </a:lnTo>
                  <a:lnTo>
                    <a:pt x="238" y="338"/>
                  </a:lnTo>
                  <a:lnTo>
                    <a:pt x="218" y="336"/>
                  </a:lnTo>
                  <a:lnTo>
                    <a:pt x="200" y="334"/>
                  </a:lnTo>
                  <a:lnTo>
                    <a:pt x="184" y="326"/>
                  </a:lnTo>
                  <a:lnTo>
                    <a:pt x="178" y="322"/>
                  </a:lnTo>
                  <a:lnTo>
                    <a:pt x="172" y="316"/>
                  </a:lnTo>
                  <a:lnTo>
                    <a:pt x="168" y="310"/>
                  </a:lnTo>
                  <a:lnTo>
                    <a:pt x="164" y="302"/>
                  </a:lnTo>
                  <a:lnTo>
                    <a:pt x="160" y="294"/>
                  </a:lnTo>
                  <a:lnTo>
                    <a:pt x="160" y="284"/>
                  </a:lnTo>
                  <a:lnTo>
                    <a:pt x="160" y="284"/>
                  </a:lnTo>
                  <a:lnTo>
                    <a:pt x="158" y="276"/>
                  </a:lnTo>
                  <a:lnTo>
                    <a:pt x="158" y="262"/>
                  </a:lnTo>
                  <a:lnTo>
                    <a:pt x="160" y="242"/>
                  </a:lnTo>
                  <a:lnTo>
                    <a:pt x="166" y="216"/>
                  </a:lnTo>
                  <a:lnTo>
                    <a:pt x="224" y="2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5006880" y="8858160"/>
              <a:ext cx="495000" cy="67932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312" h="428">
                  <a:moveTo>
                    <a:pt x="260" y="42"/>
                  </a:moveTo>
                  <a:lnTo>
                    <a:pt x="260" y="42"/>
                  </a:lnTo>
                  <a:lnTo>
                    <a:pt x="264" y="44"/>
                  </a:lnTo>
                  <a:lnTo>
                    <a:pt x="266" y="48"/>
                  </a:lnTo>
                  <a:lnTo>
                    <a:pt x="266" y="48"/>
                  </a:lnTo>
                  <a:lnTo>
                    <a:pt x="264" y="50"/>
                  </a:lnTo>
                  <a:lnTo>
                    <a:pt x="264" y="52"/>
                  </a:lnTo>
                  <a:lnTo>
                    <a:pt x="260" y="52"/>
                  </a:lnTo>
                  <a:lnTo>
                    <a:pt x="260" y="52"/>
                  </a:lnTo>
                  <a:lnTo>
                    <a:pt x="252" y="52"/>
                  </a:lnTo>
                  <a:lnTo>
                    <a:pt x="252" y="52"/>
                  </a:lnTo>
                  <a:lnTo>
                    <a:pt x="212" y="96"/>
                  </a:lnTo>
                  <a:lnTo>
                    <a:pt x="166" y="142"/>
                  </a:lnTo>
                  <a:lnTo>
                    <a:pt x="166" y="142"/>
                  </a:lnTo>
                  <a:lnTo>
                    <a:pt x="110" y="204"/>
                  </a:lnTo>
                  <a:lnTo>
                    <a:pt x="110" y="204"/>
                  </a:lnTo>
                  <a:lnTo>
                    <a:pt x="100" y="218"/>
                  </a:lnTo>
                  <a:lnTo>
                    <a:pt x="98" y="222"/>
                  </a:lnTo>
                  <a:lnTo>
                    <a:pt x="98" y="224"/>
                  </a:lnTo>
                  <a:lnTo>
                    <a:pt x="98" y="224"/>
                  </a:lnTo>
                  <a:lnTo>
                    <a:pt x="98" y="226"/>
                  </a:lnTo>
                  <a:lnTo>
                    <a:pt x="102" y="230"/>
                  </a:lnTo>
                  <a:lnTo>
                    <a:pt x="118" y="238"/>
                  </a:lnTo>
                  <a:lnTo>
                    <a:pt x="118" y="238"/>
                  </a:lnTo>
                  <a:lnTo>
                    <a:pt x="148" y="252"/>
                  </a:lnTo>
                  <a:lnTo>
                    <a:pt x="208" y="286"/>
                  </a:lnTo>
                  <a:lnTo>
                    <a:pt x="208" y="286"/>
                  </a:lnTo>
                  <a:lnTo>
                    <a:pt x="244" y="308"/>
                  </a:lnTo>
                  <a:lnTo>
                    <a:pt x="272" y="326"/>
                  </a:lnTo>
                  <a:lnTo>
                    <a:pt x="294" y="344"/>
                  </a:lnTo>
                  <a:lnTo>
                    <a:pt x="312" y="360"/>
                  </a:lnTo>
                  <a:lnTo>
                    <a:pt x="312" y="360"/>
                  </a:lnTo>
                  <a:lnTo>
                    <a:pt x="300" y="374"/>
                  </a:lnTo>
                  <a:lnTo>
                    <a:pt x="290" y="390"/>
                  </a:lnTo>
                  <a:lnTo>
                    <a:pt x="280" y="406"/>
                  </a:lnTo>
                  <a:lnTo>
                    <a:pt x="268" y="428"/>
                  </a:lnTo>
                  <a:lnTo>
                    <a:pt x="268" y="428"/>
                  </a:lnTo>
                  <a:lnTo>
                    <a:pt x="256" y="416"/>
                  </a:lnTo>
                  <a:lnTo>
                    <a:pt x="240" y="400"/>
                  </a:lnTo>
                  <a:lnTo>
                    <a:pt x="216" y="382"/>
                  </a:lnTo>
                  <a:lnTo>
                    <a:pt x="188" y="362"/>
                  </a:lnTo>
                  <a:lnTo>
                    <a:pt x="154" y="340"/>
                  </a:lnTo>
                  <a:lnTo>
                    <a:pt x="116" y="316"/>
                  </a:lnTo>
                  <a:lnTo>
                    <a:pt x="70" y="290"/>
                  </a:lnTo>
                  <a:lnTo>
                    <a:pt x="20" y="264"/>
                  </a:lnTo>
                  <a:lnTo>
                    <a:pt x="20" y="264"/>
                  </a:lnTo>
                  <a:lnTo>
                    <a:pt x="14" y="262"/>
                  </a:lnTo>
                  <a:lnTo>
                    <a:pt x="10" y="258"/>
                  </a:lnTo>
                  <a:lnTo>
                    <a:pt x="4" y="25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6" y="222"/>
                  </a:lnTo>
                  <a:lnTo>
                    <a:pt x="18" y="206"/>
                  </a:lnTo>
                  <a:lnTo>
                    <a:pt x="40" y="182"/>
                  </a:lnTo>
                  <a:lnTo>
                    <a:pt x="40" y="182"/>
                  </a:lnTo>
                  <a:lnTo>
                    <a:pt x="82" y="140"/>
                  </a:lnTo>
                  <a:lnTo>
                    <a:pt x="120" y="94"/>
                  </a:lnTo>
                  <a:lnTo>
                    <a:pt x="156" y="48"/>
                  </a:lnTo>
                  <a:lnTo>
                    <a:pt x="190" y="0"/>
                  </a:lnTo>
                  <a:lnTo>
                    <a:pt x="260" y="4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4:37:56Z</dcterms:created>
  <dc:creator>seisaku</dc:creator>
  <dc:description/>
  <dc:language>en-US</dc:language>
  <cp:lastModifiedBy>ttec</cp:lastModifiedBy>
  <dcterms:modified xsi:type="dcterms:W3CDTF">2012-05-31T03:42:36Z</dcterms:modified>
  <cp:revision>2</cp:revision>
  <dc:subject/>
  <dc:title>スライド 1</dc:title>
</cp:coreProperties>
</file>